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C2D5-28C1-45D7-A9DD-3703C1B1B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74F-22EE-4041-B194-37DCCCB2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631F-36EA-46FC-BBF4-B7B23717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70C7-3A43-4268-8B5F-6E7929C1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0DC9-4D56-48E6-8284-231791556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18F3-2649-4C77-87A6-48B4E0F3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060D-36BE-422E-A6A1-FEFCD8CF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34802-3DA9-40D0-93AE-30D7207B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9288-19E1-403A-AEF5-258D7B11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804E-FC35-4336-8CC4-9D365E1E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4C46-A6C4-41ED-847D-2E55BAEC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099D-51E9-4966-995F-8E491F17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CB3C-A3EB-471B-A42A-1A27298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3BC-6A67-407C-9C99-90E045CE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3100-FE65-48B3-86B8-6D66C1B2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0A59-2CB5-4E2A-B77C-9A9E8C9B9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C29AF-80F1-4A65-802A-6B4F079C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86D0-9B15-4178-BCA3-8575F2DA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2F4-6A30-42EA-AAD2-F858C96C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A0D-9D66-4597-B380-C0D53051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2CE1-0462-4EC2-A83B-F6698450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DA17-D960-4791-9233-C2C91CBB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B47F-E892-40E8-B89B-AED1FEB2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037A-9CB8-4469-AADB-D10A181B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7A9B-66C8-4C31-A235-F4026E188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EE7E-817B-4EE4-AA16-4132AFE93A4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mobile.tech.tom.com/1048/1076/2004/7/27-59394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4" name="Picture 4" descr="32653_100225163209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3984480" y="685800"/>
            <a:ext cx="51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6" name="Text Box 6" descr=""/>
          <p:cNvPicPr/>
          <p:nvPr/>
        </p:nvPicPr>
        <p:blipFill>
          <a:blip r:embed="rId2"/>
          <a:stretch/>
        </p:blipFill>
        <p:spPr>
          <a:xfrm>
            <a:off x="914400" y="-1440"/>
            <a:ext cx="1752480" cy="5478480"/>
          </a:xfrm>
          <a:prstGeom prst="rect">
            <a:avLst/>
          </a:prstGeom>
          <a:ln w="0">
            <a:noFill/>
          </a:ln>
        </p:spPr>
      </p:pic>
      <p:pic>
        <p:nvPicPr>
          <p:cNvPr id="87" name="矩形 9" descr=""/>
          <p:cNvPicPr/>
          <p:nvPr/>
        </p:nvPicPr>
        <p:blipFill>
          <a:blip r:embed="rId3"/>
          <a:stretch/>
        </p:blipFill>
        <p:spPr>
          <a:xfrm>
            <a:off x="2144880" y="6095880"/>
            <a:ext cx="265104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468360" y="907920"/>
            <a:ext cx="8300880" cy="4572000"/>
            <a:chOff x="468360" y="907920"/>
            <a:chExt cx="8300880" cy="4572000"/>
          </a:xfrm>
        </p:grpSpPr>
        <p:sp>
          <p:nvSpPr>
            <p:cNvPr id="122" name="Rectangle 3"/>
            <p:cNvSpPr/>
            <p:nvPr/>
          </p:nvSpPr>
          <p:spPr>
            <a:xfrm>
              <a:off x="468360" y="907920"/>
              <a:ext cx="830088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四害之一，接电话来了，好哇。前些日子消灭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四害你没敢出来吧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嗯，我是谁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我是谁你不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知道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知道你猜猜。猜不着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猜不着使劲猜。呃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猜不着我告诉你。我姓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，我叫    唆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对，是我，我找小王讲话，我的未婚妻，她是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女的呀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3" name="Picture 4" descr="01"/>
            <p:cNvPicPr/>
            <p:nvPr/>
          </p:nvPicPr>
          <p:blipFill>
            <a:blip r:embed="rId2"/>
            <a:stretch/>
          </p:blipFill>
          <p:spPr>
            <a:xfrm>
              <a:off x="4749840" y="3701880"/>
              <a:ext cx="399960" cy="4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01"/>
            <p:cNvPicPr/>
            <p:nvPr/>
          </p:nvPicPr>
          <p:blipFill>
            <a:blip r:embed="rId3"/>
            <a:stretch/>
          </p:blipFill>
          <p:spPr>
            <a:xfrm>
              <a:off x="6156360" y="3701880"/>
              <a:ext cx="399960" cy="43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Rectangle 6"/>
          <p:cNvSpPr/>
          <p:nvPr/>
        </p:nvSpPr>
        <p:spPr>
          <a:xfrm>
            <a:off x="2297160" y="5573880"/>
            <a:ext cx="479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说话和主题无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啰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Picture 7" descr="22-3"/>
          <p:cNvPicPr/>
          <p:nvPr/>
        </p:nvPicPr>
        <p:blipFill>
          <a:blip r:embed="rId4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492120" y="836640"/>
            <a:ext cx="8327880" cy="5211720"/>
            <a:chOff x="492120" y="836640"/>
            <a:chExt cx="8327880" cy="5211720"/>
          </a:xfrm>
        </p:grpSpPr>
        <p:sp>
          <p:nvSpPr>
            <p:cNvPr id="128" name="Rectangle 3"/>
            <p:cNvSpPr/>
            <p:nvPr/>
          </p:nvSpPr>
          <p:spPr>
            <a:xfrm>
              <a:off x="492120" y="836640"/>
              <a:ext cx="8327880" cy="521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喂，小王，我是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方正楷体"/>
                </a:rPr>
                <a:t>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唆呀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!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我正找你呢。今天晚上有什么事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学习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学习呀。开会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······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开会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讨论吗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······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不讨论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甲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: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太好了，我请你听戏好不好</a:t>
              </a:r>
              <a:r>
                <a:rPr b="1" lang="en-US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?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票都买好了。长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安大戏院，楼下十排三号五号，咱俩挨着。票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价八毛一张的，我买了两张，一块六。是一块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六，我给了他五块，他找了我三块四。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9" name="Picture 4" descr="01"/>
            <p:cNvPicPr/>
            <p:nvPr/>
          </p:nvPicPr>
          <p:blipFill>
            <a:blip r:embed="rId2"/>
            <a:stretch/>
          </p:blipFill>
          <p:spPr>
            <a:xfrm>
              <a:off x="3727440" y="1063800"/>
              <a:ext cx="399960" cy="430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Picture 5" descr="22-3"/>
          <p:cNvPicPr/>
          <p:nvPr/>
        </p:nvPicPr>
        <p:blipFill>
          <a:blip r:embed="rId3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539640" y="1066680"/>
            <a:ext cx="802656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什么戏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猜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嗯，京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嗯，评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越剧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哎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!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说事语言不精练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啰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2441520"/>
            <a:ext cx="83008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这样打电话，听电话的小王会是什么感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如果你此时站在甲的旁边，正等着打电话，你心里会怎么想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会怎么做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3" descr="按钮"/>
          <p:cNvPicPr/>
          <p:nvPr/>
        </p:nvPicPr>
        <p:blipFill>
          <a:blip r:embed="rId2"/>
          <a:srcRect l="36232" t="10674" r="34225" b="53418"/>
          <a:stretch/>
        </p:blipFill>
        <p:spPr>
          <a:xfrm>
            <a:off x="1251000" y="2751120"/>
            <a:ext cx="303120" cy="276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按钮"/>
          <p:cNvPicPr/>
          <p:nvPr/>
        </p:nvPicPr>
        <p:blipFill>
          <a:blip r:embed="rId3"/>
          <a:srcRect l="36232" t="10674" r="34225" b="53418"/>
          <a:stretch/>
        </p:blipFill>
        <p:spPr>
          <a:xfrm>
            <a:off x="1251000" y="3441600"/>
            <a:ext cx="303120" cy="2764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22-3"/>
          <p:cNvPicPr/>
          <p:nvPr/>
        </p:nvPicPr>
        <p:blipFill>
          <a:blip r:embed="rId4"/>
          <a:stretch/>
        </p:blipFill>
        <p:spPr>
          <a:xfrm>
            <a:off x="611280" y="907920"/>
            <a:ext cx="1944720" cy="889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6"/>
          <p:cNvSpPr/>
          <p:nvPr/>
        </p:nvSpPr>
        <p:spPr>
          <a:xfrm>
            <a:off x="1150920" y="1935000"/>
            <a:ext cx="21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想一想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Picture 7" descr="22-3"/>
          <p:cNvPicPr/>
          <p:nvPr/>
        </p:nvPicPr>
        <p:blipFill>
          <a:blip r:embed="rId5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思一思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我们在生活中打电话时要注意什么问题</a:t>
            </a:r>
            <a:r>
              <a:rPr b="1" lang="zh-CN" sz="6600" spc="-1" strike="noStrike">
                <a:solidFill>
                  <a:srgbClr val="007a77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304920" y="380880"/>
            <a:ext cx="8458200" cy="61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打电话应该注意：   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拨清楚电话号码，注意用礼貌用语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要把话说清楚明白、简明扼要。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要注意自我介绍 ，讲究礼貌          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听到嘟！嘟！的忙音时，要呆会再打。 </a:t>
            </a:r>
            <a:br>
              <a:rPr sz="2800"/>
            </a:b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活中常用的电话号码：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报警报案电话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0”            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交通事故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2 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病人急救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20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发生火灾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9”</a:t>
            </a:r>
            <a:br>
              <a:rPr sz="2800"/>
            </a:b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不知道号码要打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14”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向电话局查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74520"/>
            <a:ext cx="854064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914400"/>
            <a:ext cx="854064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Arial"/>
              </a:rPr>
              <a:t>13  </a:t>
            </a: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打电话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啰嗦</a:t>
            </a:r>
            <a:r>
              <a:rPr b="1" lang="en-US" sz="4400" spc="-1" strike="noStrike">
                <a:solidFill>
                  <a:srgbClr val="007a77"/>
                </a:solidFill>
                <a:latin typeface="宋体"/>
              </a:rPr>
              <a:t>----------</a:t>
            </a: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误事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↓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宋体"/>
              </a:rPr>
              <a:t>说话要简洁明了、意思表达清楚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950280" y="567540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a77"/>
                </a:solidFill>
                <a:latin typeface="Arial"/>
              </a:rPr>
              <a:t>www.yisaihao.com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6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9" dur="2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2" dur="2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5" dur="20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0" y="457200"/>
            <a:ext cx="85406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模拟练习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华星期天去外婆家，路上遇到有两个年轻人正在向一个学生模样的人要钱，刚好不远处有一个电话亭，小华该怎样打电话向公安局报警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你本来约好同学星期六去书店，可是周六的早上妈妈突然病了，你要陪妈妈去医院，你该如何打电话向同学说明原因呢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dur="indefinite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0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现场模拟打电话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8600" y="1142640"/>
            <a:ext cx="8540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如果你今天身体不舒服，想要给老师打电话请个假，你会怎么打这个电话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0" name="Picture 4" descr="040730100911motorola_a835"/>
          <p:cNvPicPr/>
          <p:nvPr/>
        </p:nvPicPr>
        <p:blipFill>
          <a:blip r:embed="rId1"/>
          <a:stretch/>
        </p:blipFill>
        <p:spPr>
          <a:xfrm>
            <a:off x="1143000" y="3352680"/>
            <a:ext cx="1211400" cy="243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040728114919nokia_761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934320" y="3276720"/>
            <a:ext cx="111744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985400" y="3429000"/>
            <a:ext cx="139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学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4880880" y="3429000"/>
            <a:ext cx="1399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教师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3809880" y="3124080"/>
            <a:ext cx="94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→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192560" y="365760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a77"/>
                </a:solidFill>
                <a:latin typeface="Arial"/>
              </a:rPr>
              <a:t>←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Ban-01_16"/>
          <p:cNvPicPr/>
          <p:nvPr/>
        </p:nvPicPr>
        <p:blipFill>
          <a:blip r:embed="rId1"/>
          <a:srcRect l="44172" t="10000" r="46371" b="80004"/>
          <a:stretch/>
        </p:blipFill>
        <p:spPr>
          <a:xfrm>
            <a:off x="380880" y="4038480"/>
            <a:ext cx="1473480" cy="2210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Ban-09_122"/>
          <p:cNvPicPr/>
          <p:nvPr/>
        </p:nvPicPr>
        <p:blipFill>
          <a:blip r:embed="rId2"/>
          <a:srcRect l="74207" t="78532" r="16336" b="11130"/>
          <a:stretch/>
        </p:blipFill>
        <p:spPr>
          <a:xfrm>
            <a:off x="7238880" y="4038480"/>
            <a:ext cx="1219320" cy="1905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8" name="AutoShape 4"/>
          <p:cNvSpPr/>
          <p:nvPr/>
        </p:nvSpPr>
        <p:spPr>
          <a:xfrm>
            <a:off x="0" y="304920"/>
            <a:ext cx="3124080" cy="533160"/>
          </a:xfrm>
          <a:prstGeom prst="wedgeRoundRectCallout">
            <a:avLst>
              <a:gd name="adj1" fmla="val -31708"/>
              <a:gd name="adj2" fmla="val 572916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Comic Sans MS"/>
              </a:rPr>
              <a:t>你好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是刘老师吗</a:t>
            </a:r>
            <a:r>
              <a:rPr b="1" lang="zh-CN" sz="1800" spc="-1" strike="noStrike">
                <a:solidFill>
                  <a:srgbClr val="dc5900"/>
                </a:solidFill>
                <a:latin typeface="Arial"/>
              </a:rPr>
              <a:t>？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6629400" y="457200"/>
            <a:ext cx="2209680" cy="838080"/>
          </a:xfrm>
          <a:prstGeom prst="wedgeRoundRectCallout">
            <a:avLst>
              <a:gd name="adj1" fmla="val 10342"/>
              <a:gd name="adj2" fmla="val 373675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Comic Sans MS"/>
              </a:rPr>
              <a:t>我</a:t>
            </a: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是刘老师，你是谁呀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1295280" y="1371600"/>
            <a:ext cx="4343400" cy="838080"/>
          </a:xfrm>
          <a:prstGeom prst="wedgeRoundRectCallout">
            <a:avLst>
              <a:gd name="adj1" fmla="val -49125"/>
              <a:gd name="adj2" fmla="val 291856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刘老师，我是王龙，今天身体不舒服，向你请半天假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419720" y="2514600"/>
            <a:ext cx="2743200" cy="838080"/>
          </a:xfrm>
          <a:prstGeom prst="wedgeRoundRectCallout">
            <a:avLst>
              <a:gd name="adj1" fmla="val 70833"/>
              <a:gd name="adj2" fmla="val 164583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Arial"/>
              </a:rPr>
              <a:t>刘老师知道了，你好好在家休息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2362320" y="3352680"/>
            <a:ext cx="685800" cy="2057400"/>
          </a:xfrm>
          <a:prstGeom prst="wedgeRoundRectCallout">
            <a:avLst>
              <a:gd name="adj1" fmla="val -155555"/>
              <a:gd name="adj2" fmla="val 18902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刘老师再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4267080" y="3505320"/>
            <a:ext cx="533520" cy="2514600"/>
          </a:xfrm>
          <a:prstGeom prst="wedgeRoundRectCallout">
            <a:avLst>
              <a:gd name="adj1" fmla="val 585712"/>
              <a:gd name="adj2" fmla="val 6374"/>
              <a:gd name="adj3" fmla="val 1666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Comic Sans MS"/>
              </a:rPr>
              <a:t>王龙同学再见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0"/>
          <p:cNvSpPr/>
          <p:nvPr/>
        </p:nvSpPr>
        <p:spPr>
          <a:xfrm>
            <a:off x="3549600" y="28954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596880" y="1125360"/>
            <a:ext cx="65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同学们平时最喜欢的电视节目有哪些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6" name="Picture 3" descr="返回"/>
          <p:cNvPicPr/>
          <p:nvPr/>
        </p:nvPicPr>
        <p:blipFill>
          <a:blip r:embed="rId2"/>
          <a:stretch/>
        </p:blipFill>
        <p:spPr>
          <a:xfrm>
            <a:off x="6862680" y="5856120"/>
            <a:ext cx="1670040" cy="525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13-03"/>
          <p:cNvPicPr/>
          <p:nvPr/>
        </p:nvPicPr>
        <p:blipFill>
          <a:blip r:embed="rId3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13-01"/>
          <p:cNvPicPr/>
          <p:nvPr/>
        </p:nvPicPr>
        <p:blipFill>
          <a:blip r:embed="rId4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13-02"/>
          <p:cNvPicPr/>
          <p:nvPr/>
        </p:nvPicPr>
        <p:blipFill>
          <a:blip r:embed="rId5"/>
          <a:stretch/>
        </p:blipFill>
        <p:spPr>
          <a:xfrm>
            <a:off x="1547640" y="1773360"/>
            <a:ext cx="5200920" cy="3900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22-3"/>
          <p:cNvPicPr/>
          <p:nvPr/>
        </p:nvPicPr>
        <p:blipFill>
          <a:blip r:embed="rId6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dur="indefinite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dur="indefinite" nodeType="afterEffect" fill="hold" presetClass="exit" presetID="7" presetSubtype="2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2" dur="indefinite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517680" y="1182600"/>
            <a:ext cx="840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相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相声是所有说唱艺术之中最为人们熟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的品种，起源于北京，流行于全国各地。相声是语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言的艺术，也是幽默的艺术，运用说学逗唱的技巧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组织包袱逗观众哈哈一笑，并有针砭世俗、寓教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乐的功能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99"/>
                </a:solidFill>
                <a:latin typeface="Arial"/>
              </a:rPr>
              <a:t>相声的特点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单口相声（一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对口相声（二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群口相声（多人）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语言风趣幽默、寓意深刻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a77"/>
                </a:solidFill>
                <a:latin typeface="Arial"/>
              </a:rPr>
              <a:t>既能说又能唱，形式多样</a:t>
            </a:r>
            <a:r>
              <a:rPr b="1" lang="en-US" sz="44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6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0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4" dur="3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9000"/>
                            </p:stCondLst>
                            <p:childTnLst>
                              <p:par>
                                <p:cTn id="126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8" dur="3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3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49360" y="1182600"/>
            <a:ext cx="8381880" cy="28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阅读提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读相声，想想相声主要说了一件什么事，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事里的甲说话有什么特点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这篇相声对你有什么启发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6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Arial"/>
              </a:rPr>
              <a:t>想一想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a77"/>
                </a:solidFill>
                <a:latin typeface="Arial"/>
              </a:rPr>
              <a:t>这则相声中打电话的那个人说话有什么特点？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0"/>
                            </p:stCondLst>
                            <p:childTnLst>
                              <p:par>
                                <p:cTn id="15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549360" y="1182600"/>
            <a:ext cx="841536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，怎么不说话，哎呀，拿倒了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!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你的电话是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4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局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678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吗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我这是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局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345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喂，你贵姓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哦，老胡呀。呃，不是老胡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张呀。哎呀，我没听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······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呃，不是老张，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老刘呀。呃，不是老刘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?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甲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是耗子呀。这人外号叫耗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0" name="Picture 3" descr="22-3"/>
          <p:cNvPicPr/>
          <p:nvPr/>
        </p:nvPicPr>
        <p:blipFill>
          <a:blip r:embed="rId2"/>
          <a:stretch/>
        </p:blipFill>
        <p:spPr>
          <a:xfrm>
            <a:off x="6372360" y="115920"/>
            <a:ext cx="2519280" cy="1150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0T02:18:00Z</dcterms:created>
  <dc:creator>第一PPT模板网-WWW.1PPT.COM</dc:creator>
  <dc:description>第一PPT模板网-WWW.1PPT.COM
</dc:description>
  <cp:keywords>第一PPT模板网-WWW.1PPT.COM</cp:keywords>
  <dc:language>en-US</dc:language>
  <cp:lastModifiedBy>wuhan</cp:lastModifiedBy>
  <dcterms:modified xsi:type="dcterms:W3CDTF">2018-05-10T02:18:40Z</dcterms:modified>
  <cp:revision>2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929</vt:lpwstr>
  </property>
  <property fmtid="{D5CDD505-2E9C-101B-9397-08002B2CF9AE}" pid="3" name="Version">
    <vt:r8>1</vt:r8>
  </property>
</Properties>
</file>