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image8.png" ContentType="image/png"/>
  <Override PartName="/ppt/media/image4.png" ContentType="image/png"/>
  <Override PartName="/ppt/media/CARBRAKE.WAV" ContentType="audio/x-wav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4037;&#25216;&#26415;.ppt" TargetMode="External"/><Relationship Id="rId4" Type="http://schemas.openxmlformats.org/officeDocument/2006/relationships/hyperlink" Target="file:///&#30005;&#24037;&#25216;&#26415;.ppt" TargetMode="External"/><Relationship Id="rId5" Type="http://schemas.openxmlformats.org/officeDocument/2006/relationships/hyperlink" Target="file:///&#30005;&#24037;&#25216;&#26415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4"/>
          </p:cNvPr>
          <p:cNvSpPr/>
          <p:nvPr/>
        </p:nvSpPr>
        <p:spPr>
          <a:xfrm>
            <a:off x="6324480" y="6477120"/>
            <a:ext cx="533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5"/>
          </p:cNvPr>
          <p:cNvSpPr/>
          <p:nvPr/>
        </p:nvSpPr>
        <p:spPr>
          <a:xfrm>
            <a:off x="6318360" y="651024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244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" Target="slide24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slide" Target="slide28.xml"/><Relationship Id="rId4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audio" Target="../media/TYPE.WAV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三相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76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639800" y="25146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星形联结的三相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600200" y="3178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三角形联结的三相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400800" y="4495680"/>
          <a:ext cx="2286000" cy="151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4495680"/>
                    <a:ext cx="22860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"/>
          <p:cNvGrpSpPr/>
          <p:nvPr/>
        </p:nvGrpSpPr>
        <p:grpSpPr>
          <a:xfrm>
            <a:off x="1295280" y="5181480"/>
            <a:ext cx="4876920" cy="161640"/>
            <a:chOff x="1295280" y="5181480"/>
            <a:chExt cx="4876920" cy="161640"/>
          </a:xfrm>
        </p:grpSpPr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12952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14382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9"/>
            <a:stretch/>
          </p:blipFill>
          <p:spPr>
            <a:xfrm>
              <a:off x="16002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0"/>
            <a:stretch/>
          </p:blipFill>
          <p:spPr>
            <a:xfrm>
              <a:off x="18954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1"/>
            <a:stretch/>
          </p:blipFill>
          <p:spPr>
            <a:xfrm>
              <a:off x="20574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2"/>
            <a:stretch/>
          </p:blipFill>
          <p:spPr>
            <a:xfrm>
              <a:off x="22096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3"/>
            <a:stretch/>
          </p:blipFill>
          <p:spPr>
            <a:xfrm>
              <a:off x="23526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4"/>
            <a:stretch/>
          </p:blipFill>
          <p:spPr>
            <a:xfrm>
              <a:off x="25146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5"/>
            <a:stretch/>
          </p:blipFill>
          <p:spPr>
            <a:xfrm>
              <a:off x="28098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6"/>
            <a:stretch/>
          </p:blipFill>
          <p:spPr>
            <a:xfrm>
              <a:off x="29718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7"/>
            <a:stretch/>
          </p:blipFill>
          <p:spPr>
            <a:xfrm>
              <a:off x="31240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8"/>
            <a:stretch/>
          </p:blipFill>
          <p:spPr>
            <a:xfrm>
              <a:off x="32670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9"/>
            <a:stretch/>
          </p:blipFill>
          <p:spPr>
            <a:xfrm>
              <a:off x="17524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0"/>
            <a:stretch/>
          </p:blipFill>
          <p:spPr>
            <a:xfrm>
              <a:off x="26668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1"/>
            <a:stretch/>
          </p:blipFill>
          <p:spPr>
            <a:xfrm>
              <a:off x="34290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2"/>
            <a:stretch/>
          </p:blipFill>
          <p:spPr>
            <a:xfrm>
              <a:off x="35812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3"/>
            <a:stretch/>
          </p:blipFill>
          <p:spPr>
            <a:xfrm>
              <a:off x="37242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4"/>
            <a:stretch/>
          </p:blipFill>
          <p:spPr>
            <a:xfrm>
              <a:off x="38862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5"/>
            <a:stretch/>
          </p:blipFill>
          <p:spPr>
            <a:xfrm>
              <a:off x="40384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6"/>
            <a:stretch/>
          </p:blipFill>
          <p:spPr>
            <a:xfrm>
              <a:off x="41814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7"/>
            <a:stretch/>
          </p:blipFill>
          <p:spPr>
            <a:xfrm>
              <a:off x="43434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8"/>
            <a:stretch/>
          </p:blipFill>
          <p:spPr>
            <a:xfrm>
              <a:off x="46386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9"/>
            <a:stretch/>
          </p:blipFill>
          <p:spPr>
            <a:xfrm>
              <a:off x="48006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0"/>
            <a:stretch/>
          </p:blipFill>
          <p:spPr>
            <a:xfrm>
              <a:off x="49528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1"/>
            <a:stretch/>
          </p:blipFill>
          <p:spPr>
            <a:xfrm>
              <a:off x="50958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2"/>
            <a:stretch/>
          </p:blipFill>
          <p:spPr>
            <a:xfrm>
              <a:off x="52578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3"/>
            <a:stretch/>
          </p:blipFill>
          <p:spPr>
            <a:xfrm>
              <a:off x="55530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4"/>
            <a:stretch/>
          </p:blipFill>
          <p:spPr>
            <a:xfrm>
              <a:off x="5715000" y="5181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5"/>
            <a:stretch/>
          </p:blipFill>
          <p:spPr>
            <a:xfrm>
              <a:off x="58672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6"/>
            <a:stretch/>
          </p:blipFill>
          <p:spPr>
            <a:xfrm>
              <a:off x="601020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7"/>
            <a:stretch/>
          </p:blipFill>
          <p:spPr>
            <a:xfrm>
              <a:off x="44956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8"/>
            <a:stretch/>
          </p:blipFill>
          <p:spPr>
            <a:xfrm>
              <a:off x="5410080" y="518148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>
            <a:hlinkClick r:id="rId39" action="ppaction://hlinksldjump"/>
          </p:cNvPr>
          <p:cNvSpPr/>
          <p:nvPr/>
        </p:nvSpPr>
        <p:spPr>
          <a:xfrm>
            <a:off x="1600200" y="383076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三相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4.2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负载星形联结的三相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240" y="375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相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4235400"/>
            <a:ext cx="693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对称三相负载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不满足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=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B</a:t>
            </a:r>
            <a:r>
              <a:rPr b="1" i="1" lang="zh-CN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i="1" lang="zh-CN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由单相负载组成的三相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057400" y="3213000"/>
            <a:ext cx="5943600" cy="1327320"/>
            <a:chOff x="2057400" y="3213000"/>
            <a:chExt cx="5943600" cy="1327320"/>
          </a:xfrm>
        </p:grpSpPr>
        <p:sp>
          <p:nvSpPr>
            <p:cNvPr id="776" name=""/>
            <p:cNvSpPr/>
            <p:nvPr/>
          </p:nvSpPr>
          <p:spPr>
            <a:xfrm>
              <a:off x="2057400" y="3473280"/>
              <a:ext cx="152280" cy="10670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09680" y="3213000"/>
              <a:ext cx="579132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对称三相负载：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Z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=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Z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=</a:t>
              </a:r>
              <a:r>
                <a:rPr b="1" i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Z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 baseline="-25000">
                  <a:solidFill>
                    <a:srgbClr val="ffff99"/>
                  </a:solidFill>
                  <a:latin typeface="Times New Roman"/>
                </a:rPr>
                <a:t>                          </a:t>
              </a:r>
              <a:r>
                <a:rPr b="1" i="1" lang="zh-CN" sz="2800" spc="-1" strike="noStrike" baseline="-25000">
                  <a:solidFill>
                    <a:srgbClr val="ffff99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相电动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相负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8960" y="132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213560" y="1504800"/>
            <a:ext cx="6896880" cy="1861200"/>
            <a:chOff x="1213560" y="1504800"/>
            <a:chExt cx="6896880" cy="1861200"/>
          </a:xfrm>
        </p:grpSpPr>
        <p:sp>
          <p:nvSpPr>
            <p:cNvPr id="781" name=""/>
            <p:cNvSpPr/>
            <p:nvPr/>
          </p:nvSpPr>
          <p:spPr>
            <a:xfrm>
              <a:off x="2090520" y="2418840"/>
              <a:ext cx="5943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单相负载：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只需一相电源供电</a:t>
              </a:r>
              <a:r>
                <a:rPr b="1" lang="zh-CN" sz="2800" spc="-1" strike="noStrike">
                  <a:solidFill>
                    <a:srgbClr val="ffff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照明负载、家用电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1213560" y="1733400"/>
              <a:ext cx="953280" cy="1066680"/>
              <a:chOff x="1213560" y="1733400"/>
              <a:chExt cx="953280" cy="1066680"/>
            </a:xfrm>
          </p:grpSpPr>
          <p:sp>
            <p:nvSpPr>
              <p:cNvPr id="783" name=""/>
              <p:cNvSpPr/>
              <p:nvPr/>
            </p:nvSpPr>
            <p:spPr>
              <a:xfrm>
                <a:off x="2014200" y="1733400"/>
                <a:ext cx="152640" cy="106668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13560" y="1938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负载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2166840" y="1504800"/>
              <a:ext cx="59436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相负载：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需三相电源同时供电</a:t>
              </a:r>
              <a:r>
                <a:rPr b="1" lang="zh-CN" sz="2800" spc="-1" strike="noStrike">
                  <a:solidFill>
                    <a:srgbClr val="ffff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                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三相电动机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57200" y="4975200"/>
            <a:ext cx="83818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负载的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负载也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两种接法，至于采用哪种方法 ，要根据负载的额定电压和电源电压确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负载连接原则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电源提供的电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的额定电压；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单相负载尽量均衡地分配到三相电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33520" y="1522800"/>
            <a:ext cx="8229600" cy="4897080"/>
            <a:chOff x="533520" y="1522800"/>
            <a:chExt cx="8229600" cy="4897080"/>
          </a:xfrm>
        </p:grpSpPr>
        <p:sp>
          <p:nvSpPr>
            <p:cNvPr id="789" name=""/>
            <p:cNvSpPr/>
            <p:nvPr/>
          </p:nvSpPr>
          <p:spPr>
            <a:xfrm>
              <a:off x="5918040" y="4981680"/>
              <a:ext cx="2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86520" y="2798640"/>
              <a:ext cx="0" cy="261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3520" y="17845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5320" y="224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79280" y="1546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电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5680" y="262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86000" y="1971720"/>
              <a:ext cx="48276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996920" y="2057400"/>
              <a:ext cx="661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990360" y="2057400"/>
              <a:ext cx="7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86000" y="2354400"/>
              <a:ext cx="482760" cy="16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96920" y="2440080"/>
              <a:ext cx="661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990360" y="2440080"/>
              <a:ext cx="7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86000" y="2735280"/>
              <a:ext cx="48276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96920" y="2819520"/>
              <a:ext cx="661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1600200" y="2044440"/>
              <a:ext cx="395280" cy="252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1600200" y="2443320"/>
              <a:ext cx="395280" cy="255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1600200" y="2827440"/>
              <a:ext cx="403200" cy="252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990360" y="2819520"/>
              <a:ext cx="7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28800" y="2165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90720" y="3156120"/>
              <a:ext cx="761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70440" y="1522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保险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01320" y="340056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三相四线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380/220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37240" y="2057400"/>
              <a:ext cx="0" cy="32320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12160" y="2813040"/>
              <a:ext cx="0" cy="2476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6553080" y="4375080"/>
              <a:ext cx="1447560" cy="1220760"/>
              <a:chOff x="6553080" y="4375080"/>
              <a:chExt cx="1447560" cy="1220760"/>
            </a:xfrm>
          </p:grpSpPr>
          <p:sp>
            <p:nvSpPr>
              <p:cNvPr id="814" name=""/>
              <p:cNvSpPr/>
              <p:nvPr/>
            </p:nvSpPr>
            <p:spPr>
              <a:xfrm flipH="1">
                <a:off x="6553080" y="5298480"/>
                <a:ext cx="24264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794000" y="5298480"/>
                <a:ext cx="20664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676200" y="4375080"/>
                <a:ext cx="1191960" cy="1220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6769800" y="4557240"/>
                <a:ext cx="1009800" cy="792360"/>
                <a:chOff x="6769800" y="4557240"/>
                <a:chExt cx="1009800" cy="79236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7266600" y="4557240"/>
                  <a:ext cx="95760" cy="466200"/>
                  <a:chOff x="7266600" y="4557240"/>
                  <a:chExt cx="95760" cy="46620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7266600" y="4557240"/>
                    <a:ext cx="95760" cy="338760"/>
                    <a:chOff x="7266600" y="4557240"/>
                    <a:chExt cx="95760" cy="33876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7266600" y="4557240"/>
                      <a:ext cx="9576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38880" bIns="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7266600" y="4641840"/>
                      <a:ext cx="9576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38880" bIns="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7266600" y="4726440"/>
                      <a:ext cx="9576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39240" bIns="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7266600" y="4811400"/>
                      <a:ext cx="9576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38880" bIns="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4" name=""/>
                  <p:cNvSpPr/>
                  <p:nvPr/>
                </p:nvSpPr>
                <p:spPr>
                  <a:xfrm>
                    <a:off x="7266600" y="4896360"/>
                    <a:ext cx="0" cy="127080"/>
                  </a:xfrm>
                  <a:prstGeom prst="line">
                    <a:avLst/>
                  </a:prstGeom>
                  <a:ln w="381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769800" y="4975920"/>
                  <a:ext cx="461880" cy="339480"/>
                  <a:chOff x="6769800" y="4975920"/>
                  <a:chExt cx="461880" cy="339480"/>
                </a:xfrm>
              </p:grpSpPr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6769800" y="5003280"/>
                    <a:ext cx="350640" cy="312120"/>
                    <a:chOff x="6769800" y="5003280"/>
                    <a:chExt cx="350640" cy="312120"/>
                  </a:xfrm>
                </p:grpSpPr>
                <p:sp>
                  <p:nvSpPr>
                    <p:cNvPr id="827" name=""/>
                    <p:cNvSpPr/>
                    <p:nvPr/>
                  </p:nvSpPr>
                  <p:spPr>
                    <a:xfrm rot="13814400">
                      <a:off x="6791400" y="520344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rot="13814400">
                      <a:off x="6865560" y="514188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3814400">
                      <a:off x="6939720" y="507996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rot="13814400">
                      <a:off x="7013880" y="501804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1" name=""/>
                  <p:cNvSpPr/>
                  <p:nvPr/>
                </p:nvSpPr>
                <p:spPr>
                  <a:xfrm flipV="1">
                    <a:off x="7120440" y="4975920"/>
                    <a:ext cx="111240" cy="92520"/>
                  </a:xfrm>
                  <a:prstGeom prst="line">
                    <a:avLst/>
                  </a:prstGeom>
                  <a:ln w="381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317360" y="5014800"/>
                  <a:ext cx="462240" cy="334800"/>
                  <a:chOff x="7317360" y="5014800"/>
                  <a:chExt cx="462240" cy="334800"/>
                </a:xfrm>
              </p:grpSpPr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7401600" y="5085720"/>
                    <a:ext cx="378000" cy="263880"/>
                    <a:chOff x="7401600" y="5085720"/>
                    <a:chExt cx="378000" cy="26388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rot="7167000">
                      <a:off x="7674480" y="524052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rot="7167000">
                      <a:off x="7590600" y="519300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rot="7167000">
                      <a:off x="7506360" y="514548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7167000">
                      <a:off x="7422120" y="5097960"/>
                      <a:ext cx="8460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0"/>
                          </a:moveTo>
                          <a:cubicBezTo>
                            <a:pt x="48" y="16"/>
                            <a:pt x="96" y="32"/>
                            <a:pt x="96" y="48"/>
                          </a:cubicBezTo>
                          <a:cubicBezTo>
                            <a:pt x="96" y="64"/>
                            <a:pt x="16" y="88"/>
                            <a:pt x="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8" name=""/>
                  <p:cNvSpPr/>
                  <p:nvPr/>
                </p:nvSpPr>
                <p:spPr>
                  <a:xfrm flipH="1" flipV="1">
                    <a:off x="7317360" y="5014800"/>
                    <a:ext cx="126000" cy="70920"/>
                  </a:xfrm>
                  <a:prstGeom prst="line">
                    <a:avLst/>
                  </a:prstGeom>
                  <a:ln w="381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9" name=""/>
                <p:cNvSpPr/>
                <p:nvPr/>
              </p:nvSpPr>
              <p:spPr>
                <a:xfrm>
                  <a:off x="7272000" y="4987440"/>
                  <a:ext cx="0" cy="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0" name=""/>
            <p:cNvSpPr/>
            <p:nvPr/>
          </p:nvSpPr>
          <p:spPr>
            <a:xfrm flipV="1">
              <a:off x="7272360" y="2470320"/>
              <a:ext cx="0" cy="2133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6303960" y="3541680"/>
              <a:ext cx="48240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6200000">
              <a:off x="7767720" y="3530520"/>
              <a:ext cx="482400" cy="168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6200000">
              <a:off x="7026120" y="3541680"/>
              <a:ext cx="48240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29000" y="3156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64040" y="2057400"/>
              <a:ext cx="0" cy="338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3195720" y="3541680"/>
              <a:ext cx="482400" cy="168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3824280" y="3541680"/>
              <a:ext cx="48240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21403200">
              <a:off x="3594240" y="4376880"/>
              <a:ext cx="304560" cy="30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650760" y="4421880"/>
              <a:ext cx="191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39240" y="4433760"/>
              <a:ext cx="214560" cy="18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29000" y="45291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895560" y="4529160"/>
              <a:ext cx="15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21403200">
              <a:off x="3594240" y="4834080"/>
              <a:ext cx="304560" cy="30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650760" y="4879080"/>
              <a:ext cx="191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39240" y="4890960"/>
              <a:ext cx="214560" cy="18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29000" y="49863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95560" y="498636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1403200">
              <a:off x="3594240" y="5254560"/>
              <a:ext cx="304560" cy="30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650760" y="5299560"/>
              <a:ext cx="191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39240" y="5311440"/>
              <a:ext cx="214560" cy="18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29000" y="54072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95560" y="5407200"/>
              <a:ext cx="19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760" y="3156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95800" y="2438280"/>
              <a:ext cx="0" cy="300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6200000">
              <a:off x="4227480" y="3541680"/>
              <a:ext cx="48240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6200000">
              <a:off x="4856040" y="3541680"/>
              <a:ext cx="48240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1403200">
              <a:off x="4626000" y="4376880"/>
              <a:ext cx="304920" cy="30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682520" y="4421880"/>
              <a:ext cx="191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71000" y="4433760"/>
              <a:ext cx="214560" cy="18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60760" y="4529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27680" y="4529160"/>
              <a:ext cx="15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1403200">
              <a:off x="4626000" y="4834080"/>
              <a:ext cx="304920" cy="30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682520" y="4879080"/>
              <a:ext cx="191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71000" y="4890960"/>
              <a:ext cx="214560" cy="18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60760" y="49863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27680" y="4986360"/>
              <a:ext cx="1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1403200">
              <a:off x="4626000" y="5254560"/>
              <a:ext cx="304920" cy="30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682520" y="5299560"/>
              <a:ext cx="191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71000" y="5311440"/>
              <a:ext cx="214560" cy="18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60760" y="540720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927680" y="5407200"/>
              <a:ext cx="1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451480" y="3137040"/>
              <a:ext cx="0" cy="22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6200000">
              <a:off x="5217840" y="3536280"/>
              <a:ext cx="482760" cy="168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6200000">
              <a:off x="5846760" y="3536640"/>
              <a:ext cx="48276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1403200">
              <a:off x="5616720" y="4371840"/>
              <a:ext cx="304560" cy="303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673240" y="4416840"/>
              <a:ext cx="191520" cy="213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61720" y="4428720"/>
              <a:ext cx="214560" cy="189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51480" y="4524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8040" y="4524480"/>
              <a:ext cx="15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1403200">
              <a:off x="5616720" y="4829040"/>
              <a:ext cx="304560" cy="303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673240" y="4874040"/>
              <a:ext cx="191520" cy="213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61720" y="4885920"/>
              <a:ext cx="214560" cy="189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451480" y="49816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1403200">
              <a:off x="5616720" y="5249880"/>
              <a:ext cx="304560" cy="30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673240" y="5294880"/>
              <a:ext cx="191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1720" y="5306760"/>
              <a:ext cx="214560" cy="18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451480" y="54021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918040" y="540216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5680" y="3003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14400" y="201312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14400" y="23940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14400" y="311616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14400" y="27748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05320" y="5594400"/>
              <a:ext cx="268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额定相电压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伏的单相负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80040" y="5594400"/>
              <a:ext cx="268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额定线电压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8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伏的三相负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6019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负载星形联结的三相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3146400" y="2057400"/>
            <a:ext cx="892080" cy="457200"/>
            <a:chOff x="3146400" y="2057400"/>
            <a:chExt cx="892080" cy="457200"/>
          </a:xfrm>
        </p:grpSpPr>
        <p:sp>
          <p:nvSpPr>
            <p:cNvPr id="908" name=""/>
            <p:cNvSpPr/>
            <p:nvPr/>
          </p:nvSpPr>
          <p:spPr>
            <a:xfrm flipH="1">
              <a:off x="3146400" y="2514600"/>
              <a:ext cx="892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173600" y="565308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电流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过端线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17240" y="5149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电流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过每相负载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29400" y="2362320"/>
            <a:ext cx="2057400" cy="2439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负载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时，线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流等于相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4565520" y="1752480"/>
            <a:ext cx="463680" cy="701640"/>
            <a:chOff x="4565520" y="1752480"/>
            <a:chExt cx="463680" cy="701640"/>
          </a:xfrm>
        </p:grpSpPr>
        <p:sp>
          <p:nvSpPr>
            <p:cNvPr id="913" name=""/>
            <p:cNvSpPr/>
            <p:nvPr/>
          </p:nvSpPr>
          <p:spPr>
            <a:xfrm>
              <a:off x="5029200" y="1768320"/>
              <a:ext cx="0" cy="68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986440" y="685800"/>
            <a:ext cx="2529360" cy="1006200"/>
            <a:chOff x="5986440" y="685800"/>
            <a:chExt cx="2529360" cy="1006200"/>
          </a:xfrm>
        </p:grpSpPr>
        <p:sp>
          <p:nvSpPr>
            <p:cNvPr id="915" name=""/>
            <p:cNvSpPr/>
            <p:nvPr/>
          </p:nvSpPr>
          <p:spPr>
            <a:xfrm>
              <a:off x="6609960" y="685800"/>
              <a:ext cx="1905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相三线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三相四线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86440" y="79056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627840" y="8524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66760" y="1447920"/>
            <a:ext cx="5981760" cy="3050280"/>
            <a:chOff x="266760" y="1447920"/>
            <a:chExt cx="5981760" cy="3050280"/>
          </a:xfrm>
        </p:grpSpPr>
        <p:sp>
          <p:nvSpPr>
            <p:cNvPr id="919" name=""/>
            <p:cNvSpPr/>
            <p:nvPr/>
          </p:nvSpPr>
          <p:spPr>
            <a:xfrm>
              <a:off x="24397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1972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22920" y="2564640"/>
              <a:ext cx="525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2876400">
              <a:off x="4714200" y="2860560"/>
              <a:ext cx="18576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401720" y="3165120"/>
              <a:ext cx="269280" cy="25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4936680" y="2628720"/>
              <a:ext cx="31680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8435000">
              <a:off x="5613840" y="2861640"/>
              <a:ext cx="185760" cy="358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48560" y="3154680"/>
              <a:ext cx="286920" cy="21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5230080" y="2643480"/>
              <a:ext cx="329760" cy="27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67440" y="1927080"/>
              <a:ext cx="179280" cy="370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57800" y="2297160"/>
              <a:ext cx="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257800" y="1555560"/>
              <a:ext cx="0" cy="37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45200" y="3357720"/>
              <a:ext cx="0" cy="25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00600" y="2945520"/>
              <a:ext cx="55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22240" y="18360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181480" y="2316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2700000">
              <a:off x="404280" y="3192480"/>
              <a:ext cx="277920" cy="179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266760" y="3237120"/>
              <a:ext cx="13356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04760" y="1925640"/>
              <a:ext cx="270000" cy="1857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04760" y="2111400"/>
              <a:ext cx="270000" cy="1857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04760" y="2297160"/>
              <a:ext cx="270000" cy="1857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04760" y="2471760"/>
              <a:ext cx="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1004760" y="1555920"/>
              <a:ext cx="0" cy="40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2700000">
              <a:off x="656640" y="2930400"/>
              <a:ext cx="279360" cy="1810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2700000">
              <a:off x="531360" y="3060720"/>
              <a:ext cx="277920" cy="179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47720" y="2592360"/>
              <a:ext cx="276120" cy="2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8852000">
              <a:off x="1249200" y="2744640"/>
              <a:ext cx="279360" cy="1810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8852000">
              <a:off x="1379160" y="2874600"/>
              <a:ext cx="277920" cy="179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18852000">
              <a:off x="1508760" y="3004560"/>
              <a:ext cx="277920" cy="1810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11720" y="3254400"/>
              <a:ext cx="216720" cy="13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973080" y="2614320"/>
              <a:ext cx="258120" cy="25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14400" y="338760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03240" y="3597120"/>
              <a:ext cx="43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304560" y="4343400"/>
              <a:ext cx="410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04920" y="33526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9480" y="229284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929960" y="32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72680" y="1447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734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51200" y="251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08400" y="251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90720" y="265284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90720" y="154620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200400" y="990720"/>
            <a:ext cx="838080" cy="3200400"/>
            <a:chOff x="3200400" y="990720"/>
            <a:chExt cx="838080" cy="3200400"/>
          </a:xfrm>
        </p:grpSpPr>
        <p:sp>
          <p:nvSpPr>
            <p:cNvPr id="963" name=""/>
            <p:cNvSpPr/>
            <p:nvPr/>
          </p:nvSpPr>
          <p:spPr>
            <a:xfrm>
              <a:off x="3200400" y="3446640"/>
              <a:ext cx="76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00400" y="4191120"/>
              <a:ext cx="76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276360" y="144792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914400" y="4495680"/>
            <a:ext cx="2362320" cy="590760"/>
          </a:xfrm>
          <a:prstGeom prst="wedgeRoundRectCallout">
            <a:avLst>
              <a:gd name="adj1" fmla="val -45699"/>
              <a:gd name="adj2" fmla="val -362097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源中性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4495680"/>
            <a:ext cx="2514600" cy="574920"/>
          </a:xfrm>
          <a:prstGeom prst="wedgeRoundRectCallout">
            <a:avLst>
              <a:gd name="adj1" fmla="val 15972"/>
              <a:gd name="adj2" fmla="val -363537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负载中性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三相电路的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92760" y="4060800"/>
            <a:ext cx="3362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端的线电压＝电源线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的相电压＝电源相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66160" y="496728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线电流＝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6477120" y="685800"/>
            <a:ext cx="2209680" cy="1752480"/>
            <a:chOff x="6477120" y="685800"/>
            <a:chExt cx="2209680" cy="1752480"/>
          </a:xfrm>
        </p:grpSpPr>
        <p:sp>
          <p:nvSpPr>
            <p:cNvPr id="972" name=""/>
            <p:cNvSpPr/>
            <p:nvPr/>
          </p:nvSpPr>
          <p:spPr>
            <a:xfrm>
              <a:off x="6477120" y="685800"/>
              <a:ext cx="2209680" cy="5796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zh-CN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联结时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645480" y="5438880"/>
            <a:ext cx="4413960" cy="581040"/>
            <a:chOff x="645480" y="5438880"/>
            <a:chExt cx="4413960" cy="581040"/>
          </a:xfrm>
        </p:grpSpPr>
        <p:sp>
          <p:nvSpPr>
            <p:cNvPr id="974" name=""/>
            <p:cNvSpPr/>
            <p:nvPr/>
          </p:nvSpPr>
          <p:spPr>
            <a:xfrm>
              <a:off x="645480" y="543888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4)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中线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668600" y="5943600"/>
            <a:ext cx="6043680" cy="56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负载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联结带中性线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将各相分别看作单相电路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66760" y="700200"/>
            <a:ext cx="5981760" cy="3507480"/>
            <a:chOff x="266760" y="700200"/>
            <a:chExt cx="5981760" cy="3507480"/>
          </a:xfrm>
        </p:grpSpPr>
        <p:sp>
          <p:nvSpPr>
            <p:cNvPr id="977" name=""/>
            <p:cNvSpPr/>
            <p:nvPr/>
          </p:nvSpPr>
          <p:spPr>
            <a:xfrm>
              <a:off x="3048120" y="3079800"/>
              <a:ext cx="76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048120" y="3824280"/>
              <a:ext cx="76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2971800" y="1754280"/>
              <a:ext cx="892080" cy="482400"/>
              <a:chOff x="2971800" y="1754280"/>
              <a:chExt cx="892080" cy="482400"/>
            </a:xfrm>
          </p:grpSpPr>
          <p:sp>
            <p:nvSpPr>
              <p:cNvPr id="980" name=""/>
              <p:cNvSpPr/>
              <p:nvPr/>
            </p:nvSpPr>
            <p:spPr>
              <a:xfrm flipH="1">
                <a:off x="2971800" y="2224080"/>
                <a:ext cx="892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4413240" y="1598760"/>
              <a:ext cx="463680" cy="701640"/>
              <a:chOff x="4413240" y="1598760"/>
              <a:chExt cx="463680" cy="701640"/>
            </a:xfrm>
          </p:grpSpPr>
          <p:sp>
            <p:nvSpPr>
              <p:cNvPr id="982" name=""/>
              <p:cNvSpPr/>
              <p:nvPr/>
            </p:nvSpPr>
            <p:spPr>
              <a:xfrm>
                <a:off x="4876920" y="1614600"/>
                <a:ext cx="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2971800" y="114300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66760" y="1157400"/>
              <a:ext cx="5981760" cy="3050280"/>
              <a:chOff x="266760" y="1157400"/>
              <a:chExt cx="5981760" cy="3050280"/>
            </a:xfrm>
          </p:grpSpPr>
          <p:sp>
            <p:nvSpPr>
              <p:cNvPr id="985" name=""/>
              <p:cNvSpPr/>
              <p:nvPr/>
            </p:nvSpPr>
            <p:spPr>
              <a:xfrm>
                <a:off x="2439720" y="3747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419720" y="31384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22920" y="2274120"/>
                <a:ext cx="525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2876400">
                <a:off x="4714200" y="2570040"/>
                <a:ext cx="18576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4401720" y="2874600"/>
                <a:ext cx="269280" cy="25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4936680" y="2338200"/>
                <a:ext cx="316800" cy="27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8435000">
                <a:off x="5613840" y="2571120"/>
                <a:ext cx="185760" cy="358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848560" y="2864160"/>
                <a:ext cx="286920" cy="21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5230080" y="2352960"/>
                <a:ext cx="329760" cy="27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167440" y="1636560"/>
                <a:ext cx="179280" cy="370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257800" y="2006640"/>
                <a:ext cx="0" cy="37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5257800" y="1265040"/>
                <a:ext cx="0" cy="37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145200" y="3067200"/>
                <a:ext cx="0" cy="2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800600" y="265500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322240" y="154548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181480" y="2026080"/>
                <a:ext cx="58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r>
                  <a:rPr b="1" i="1" lang="en-US" sz="2400" spc="-1" strike="noStrike" baseline="30000">
                    <a:solidFill>
                      <a:srgbClr val="3333cc"/>
                    </a:solidFill>
                    <a:latin typeface="Times New Roman"/>
                  </a:rPr>
                  <a:t>'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2700000">
                <a:off x="404280" y="2901960"/>
                <a:ext cx="277920" cy="1792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266760" y="2946600"/>
                <a:ext cx="13356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004760" y="1635120"/>
                <a:ext cx="270000" cy="18576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004760" y="1820880"/>
                <a:ext cx="270000" cy="18576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004760" y="2006640"/>
                <a:ext cx="270000" cy="18576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004760" y="2181240"/>
                <a:ext cx="0" cy="19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004760" y="1265400"/>
                <a:ext cx="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700000">
                <a:off x="656640" y="2639880"/>
                <a:ext cx="279360" cy="1810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700000">
                <a:off x="531360" y="2770200"/>
                <a:ext cx="277920" cy="1792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747720" y="2301840"/>
                <a:ext cx="276120" cy="2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8852000">
                <a:off x="1249200" y="2454120"/>
                <a:ext cx="279360" cy="1810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8852000">
                <a:off x="1379160" y="2584080"/>
                <a:ext cx="277920" cy="1792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8852000">
                <a:off x="1508760" y="2714040"/>
                <a:ext cx="277920" cy="1810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11720" y="2963880"/>
                <a:ext cx="2167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flipV="1">
                <a:off x="973080" y="2323800"/>
                <a:ext cx="258120" cy="25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14400" y="3097080"/>
                <a:ext cx="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03240" y="3306600"/>
                <a:ext cx="436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304560" y="4052880"/>
                <a:ext cx="410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04920" y="306216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09480" y="2002320"/>
                <a:ext cx="30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929960" y="290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372680" y="1157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373400" y="1919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951200" y="222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08400" y="222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90720" y="2362320"/>
                <a:ext cx="42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90720" y="1255680"/>
                <a:ext cx="42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198440" y="5454720"/>
            <a:ext cx="296064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负载对称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性线无电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省掉中性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对称负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三相电路的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56920" y="4479840"/>
            <a:ext cx="3594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以负载对称时，三相电流也对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95880" y="463680"/>
            <a:ext cx="289584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对称时，只需计算一相电流，其它两相电流可根据对称性直接写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264240" y="609480"/>
            <a:ext cx="5831640" cy="3376080"/>
            <a:chOff x="264240" y="609480"/>
            <a:chExt cx="5831640" cy="3376080"/>
          </a:xfrm>
        </p:grpSpPr>
        <p:sp>
          <p:nvSpPr>
            <p:cNvPr id="1033" name=""/>
            <p:cNvSpPr/>
            <p:nvPr/>
          </p:nvSpPr>
          <p:spPr>
            <a:xfrm>
              <a:off x="3048120" y="2989080"/>
              <a:ext cx="72396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48120" y="3733560"/>
              <a:ext cx="72396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2971440" y="1676160"/>
              <a:ext cx="847800" cy="435240"/>
              <a:chOff x="2971440" y="1676160"/>
              <a:chExt cx="847800" cy="435240"/>
            </a:xfrm>
          </p:grpSpPr>
          <p:sp>
            <p:nvSpPr>
              <p:cNvPr id="1036" name=""/>
              <p:cNvSpPr/>
              <p:nvPr/>
            </p:nvSpPr>
            <p:spPr>
              <a:xfrm flipH="1">
                <a:off x="2971440" y="2111400"/>
                <a:ext cx="847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2971800" y="1052280"/>
              <a:ext cx="72396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328480" y="3525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06960" y="2948040"/>
              <a:ext cx="0" cy="86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45000" y="2113560"/>
              <a:ext cx="650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2876400">
              <a:off x="4487760" y="2408040"/>
              <a:ext cx="176040" cy="341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4190760" y="2696760"/>
              <a:ext cx="255240" cy="24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97640" y="2187360"/>
              <a:ext cx="301320" cy="26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18435000">
              <a:off x="5342040" y="2407680"/>
              <a:ext cx="176040" cy="34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64160" y="2687400"/>
              <a:ext cx="271440" cy="20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4975920" y="2202480"/>
              <a:ext cx="31356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16520" y="1522440"/>
              <a:ext cx="171360" cy="350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03640" y="187308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003640" y="116964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45320" y="2879640"/>
              <a:ext cx="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68760" y="2476080"/>
              <a:ext cx="52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52240" y="14230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930920" y="1879920"/>
              <a:ext cx="55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2700000">
              <a:off x="395640" y="2722680"/>
              <a:ext cx="263520" cy="1699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264240" y="2766240"/>
              <a:ext cx="1267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65160" y="1520640"/>
              <a:ext cx="257040" cy="176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65160" y="1697040"/>
              <a:ext cx="257040" cy="1760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65160" y="1873080"/>
              <a:ext cx="257040" cy="176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65160" y="2038320"/>
              <a:ext cx="0" cy="18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965160" y="1169640"/>
              <a:ext cx="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2700000">
              <a:off x="635400" y="2473560"/>
              <a:ext cx="265320" cy="1713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2700000">
              <a:off x="516240" y="2597400"/>
              <a:ext cx="263520" cy="1699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21440" y="2153160"/>
              <a:ext cx="262440" cy="25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8852000">
              <a:off x="1197720" y="2297880"/>
              <a:ext cx="264960" cy="1713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8852000">
              <a:off x="1321560" y="2421720"/>
              <a:ext cx="263520" cy="1699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8852000">
              <a:off x="1444320" y="2544480"/>
              <a:ext cx="263520" cy="1713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0"/>
                  </a:moveTo>
                  <a:cubicBezTo>
                    <a:pt x="37" y="12"/>
                    <a:pt x="21" y="33"/>
                    <a:pt x="0" y="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41160" y="2781360"/>
              <a:ext cx="205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 flipV="1">
              <a:off x="935640" y="2174760"/>
              <a:ext cx="24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33400" y="2908080"/>
              <a:ext cx="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24040" y="3106440"/>
              <a:ext cx="414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01320" y="3816360"/>
              <a:ext cx="389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01680" y="2874960"/>
              <a:ext cx="0" cy="94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90400" y="1857600"/>
              <a:ext cx="2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844280" y="2730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15440" y="1066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16160" y="179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63720" y="207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98960" y="207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52560" y="2211120"/>
              <a:ext cx="40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952560" y="1160280"/>
              <a:ext cx="40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095880" y="2682720"/>
            <a:ext cx="2592360" cy="2498760"/>
            <a:chOff x="6095880" y="2682720"/>
            <a:chExt cx="2592360" cy="2498760"/>
          </a:xfrm>
        </p:grpSpPr>
        <p:grpSp>
          <p:nvGrpSpPr>
            <p:cNvPr id="1082" name=""/>
            <p:cNvGrpSpPr/>
            <p:nvPr/>
          </p:nvGrpSpPr>
          <p:grpSpPr>
            <a:xfrm>
              <a:off x="7238520" y="4267080"/>
              <a:ext cx="990720" cy="304920"/>
              <a:chOff x="7238520" y="4267080"/>
              <a:chExt cx="990720" cy="304920"/>
            </a:xfrm>
          </p:grpSpPr>
          <p:sp>
            <p:nvSpPr>
              <p:cNvPr id="1083" name=""/>
              <p:cNvSpPr/>
              <p:nvPr/>
            </p:nvSpPr>
            <p:spPr>
              <a:xfrm flipH="1">
                <a:off x="7238520" y="4267080"/>
                <a:ext cx="152280" cy="3049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238880" y="4572000"/>
                <a:ext cx="9903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7238880" y="4800600"/>
              <a:ext cx="1067040" cy="304920"/>
              <a:chOff x="7238880" y="4800600"/>
              <a:chExt cx="1067040" cy="304920"/>
            </a:xfrm>
          </p:grpSpPr>
          <p:sp>
            <p:nvSpPr>
              <p:cNvPr id="1086" name=""/>
              <p:cNvSpPr/>
              <p:nvPr/>
            </p:nvSpPr>
            <p:spPr>
              <a:xfrm flipH="1">
                <a:off x="7238880" y="4800600"/>
                <a:ext cx="152640" cy="3049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238880" y="5105520"/>
                <a:ext cx="10670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238880" y="3276720"/>
              <a:ext cx="685800" cy="304560"/>
              <a:chOff x="7238880" y="3276720"/>
              <a:chExt cx="685800" cy="304560"/>
            </a:xfrm>
          </p:grpSpPr>
          <p:sp>
            <p:nvSpPr>
              <p:cNvPr id="1089" name=""/>
              <p:cNvSpPr/>
              <p:nvPr/>
            </p:nvSpPr>
            <p:spPr>
              <a:xfrm flipH="1">
                <a:off x="7238880" y="3276720"/>
                <a:ext cx="152640" cy="30456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238880" y="3581280"/>
                <a:ext cx="6858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33440" y="261720"/>
            <a:ext cx="14716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992880" y="2803680"/>
            <a:ext cx="7312680" cy="3447360"/>
            <a:chOff x="992880" y="2803680"/>
            <a:chExt cx="7312680" cy="3447360"/>
          </a:xfrm>
        </p:grpSpPr>
        <p:sp>
          <p:nvSpPr>
            <p:cNvPr id="1093" name=""/>
            <p:cNvSpPr/>
            <p:nvPr/>
          </p:nvSpPr>
          <p:spPr>
            <a:xfrm>
              <a:off x="2011320" y="4278960"/>
              <a:ext cx="2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62320" y="3870360"/>
              <a:ext cx="109440" cy="19836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62320" y="4068720"/>
              <a:ext cx="10944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71680" y="426096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371680" y="33512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62320" y="3681360"/>
              <a:ext cx="109440" cy="19836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2403720" y="4651560"/>
              <a:ext cx="969120" cy="797040"/>
              <a:chOff x="2403720" y="4651560"/>
              <a:chExt cx="969120" cy="797040"/>
            </a:xfrm>
          </p:grpSpPr>
          <p:sp>
            <p:nvSpPr>
              <p:cNvPr id="1100" name=""/>
              <p:cNvSpPr/>
              <p:nvPr/>
            </p:nvSpPr>
            <p:spPr>
              <a:xfrm rot="18522000">
                <a:off x="2864520" y="4918680"/>
                <a:ext cx="11196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8522000">
                <a:off x="3012120" y="5042160"/>
                <a:ext cx="113400" cy="1890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090960" y="5222880"/>
                <a:ext cx="281880" cy="22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403720" y="4651560"/>
                <a:ext cx="281880" cy="22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8522000">
                <a:off x="2723040" y="4800600"/>
                <a:ext cx="11376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377360" y="4606560"/>
              <a:ext cx="970920" cy="815040"/>
              <a:chOff x="1377360" y="4606560"/>
              <a:chExt cx="970920" cy="815040"/>
            </a:xfrm>
          </p:grpSpPr>
          <p:sp>
            <p:nvSpPr>
              <p:cNvPr id="1106" name=""/>
              <p:cNvSpPr/>
              <p:nvPr/>
            </p:nvSpPr>
            <p:spPr>
              <a:xfrm flipH="1" rot="3001800">
                <a:off x="1782000" y="4886280"/>
                <a:ext cx="11268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 rot="3001800">
                <a:off x="1636920" y="5013360"/>
                <a:ext cx="11376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1377360" y="5189400"/>
                <a:ext cx="276840" cy="23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2071440" y="4606560"/>
                <a:ext cx="276840" cy="23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 rot="3001800">
                <a:off x="1920240" y="4765680"/>
                <a:ext cx="114120" cy="1890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2360520" y="4619520"/>
              <a:ext cx="476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55840" y="3351240"/>
              <a:ext cx="476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67440" y="5348160"/>
              <a:ext cx="0" cy="81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360440" y="5421240"/>
              <a:ext cx="0" cy="7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360440" y="6161040"/>
              <a:ext cx="472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49280" y="5791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30160" y="510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91360" y="327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30880" y="447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41000" y="5334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91720" y="415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759200" y="2803680"/>
              <a:ext cx="890280" cy="3368160"/>
              <a:chOff x="4759200" y="2803680"/>
              <a:chExt cx="890280" cy="3368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5202000" y="5988960"/>
                <a:ext cx="447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202000" y="5385240"/>
                <a:ext cx="447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97320" y="3186720"/>
                <a:ext cx="447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 flipH="1" flipV="1">
              <a:off x="4821120" y="4451400"/>
              <a:ext cx="665280" cy="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54480" y="5557680"/>
              <a:ext cx="472896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354480" y="5421240"/>
              <a:ext cx="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20920" y="4608360"/>
              <a:ext cx="730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919840" y="3351240"/>
              <a:ext cx="2385720" cy="2246040"/>
              <a:chOff x="5919840" y="3351240"/>
              <a:chExt cx="2385720" cy="224604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74000" y="4048560"/>
                <a:ext cx="4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120440" y="4179960"/>
                <a:ext cx="0" cy="42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7120080" y="3351240"/>
                <a:ext cx="2520" cy="52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6053400" y="4593240"/>
                <a:ext cx="1067400" cy="792000"/>
                <a:chOff x="6053400" y="4593240"/>
                <a:chExt cx="1067400" cy="792000"/>
              </a:xfrm>
            </p:grpSpPr>
            <p:sp>
              <p:nvSpPr>
                <p:cNvPr id="1135" name=""/>
                <p:cNvSpPr/>
                <p:nvPr/>
              </p:nvSpPr>
              <p:spPr>
                <a:xfrm flipH="1">
                  <a:off x="6690600" y="4593240"/>
                  <a:ext cx="430200" cy="31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6053400" y="5086080"/>
                  <a:ext cx="440280" cy="29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7" name=""/>
              <p:cNvSpPr/>
              <p:nvPr/>
            </p:nvSpPr>
            <p:spPr>
              <a:xfrm>
                <a:off x="8084160" y="5347800"/>
                <a:ext cx="0" cy="24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65520" y="374220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54680" y="4517280"/>
                <a:ext cx="650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919840" y="4648320"/>
                <a:ext cx="61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6968160" y="3861000"/>
                <a:ext cx="305640" cy="310680"/>
                <a:chOff x="6968160" y="3861000"/>
                <a:chExt cx="305640" cy="31068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6968160" y="3861000"/>
                  <a:ext cx="305640" cy="310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018920" y="3912480"/>
                  <a:ext cx="203760" cy="20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7018920" y="3912480"/>
                  <a:ext cx="203760" cy="20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" name=""/>
              <p:cNvSpPr/>
              <p:nvPr/>
            </p:nvSpPr>
            <p:spPr>
              <a:xfrm flipH="1" flipV="1">
                <a:off x="7127640" y="4599720"/>
                <a:ext cx="358920" cy="28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95360" y="5051160"/>
                <a:ext cx="374040" cy="29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7" name=""/>
              <p:cNvGrpSpPr/>
              <p:nvPr/>
            </p:nvGrpSpPr>
            <p:grpSpPr>
              <a:xfrm>
                <a:off x="7418880" y="4807080"/>
                <a:ext cx="306000" cy="310320"/>
                <a:chOff x="7418880" y="4807080"/>
                <a:chExt cx="306000" cy="31032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7418880" y="4807080"/>
                  <a:ext cx="306000" cy="310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469640" y="485856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>
                  <a:off x="7469280" y="485856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6458400" y="4830120"/>
                <a:ext cx="306000" cy="310320"/>
                <a:chOff x="6458400" y="4830120"/>
                <a:chExt cx="306000" cy="31032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6458400" y="4830120"/>
                  <a:ext cx="306000" cy="310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509160" y="488160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6508800" y="488160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5" name=""/>
              <p:cNvSpPr/>
              <p:nvPr/>
            </p:nvSpPr>
            <p:spPr>
              <a:xfrm>
                <a:off x="7083720" y="4574520"/>
                <a:ext cx="73440" cy="73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6" name=""/>
            <p:cNvSpPr/>
            <p:nvPr/>
          </p:nvSpPr>
          <p:spPr>
            <a:xfrm>
              <a:off x="2248560" y="2908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92880" y="5126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81520" y="5273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571680" y="574200"/>
            <a:ext cx="8305560" cy="2372400"/>
            <a:chOff x="571680" y="574200"/>
            <a:chExt cx="8305560" cy="2372400"/>
          </a:xfrm>
        </p:grpSpPr>
        <p:sp>
          <p:nvSpPr>
            <p:cNvPr id="1160" name=""/>
            <p:cNvSpPr/>
            <p:nvPr/>
          </p:nvSpPr>
          <p:spPr>
            <a:xfrm>
              <a:off x="1943280" y="1339920"/>
              <a:ext cx="693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= 5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求线电流及中性线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38360" y="1859040"/>
              <a:ext cx="723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5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,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10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,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20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线电流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571680" y="574200"/>
              <a:ext cx="8229600" cy="788040"/>
              <a:chOff x="571680" y="574200"/>
              <a:chExt cx="8229600" cy="788040"/>
            </a:xfrm>
          </p:grpSpPr>
          <p:sp>
            <p:nvSpPr>
              <p:cNvPr id="1163" name=""/>
              <p:cNvSpPr/>
              <p:nvPr/>
            </p:nvSpPr>
            <p:spPr>
              <a:xfrm>
                <a:off x="571680" y="574200"/>
                <a:ext cx="82296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一星形联结的三相电路，电源电压对称。设电源线电压                                                        。 负载为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871920" y="13701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灯组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0400" y="1828800"/>
              <a:ext cx="10494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流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16560" y="2316240"/>
              <a:ext cx="204336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性线电流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"/>
          <p:cNvGrpSpPr/>
          <p:nvPr/>
        </p:nvGrpSpPr>
        <p:grpSpPr>
          <a:xfrm>
            <a:off x="1219320" y="5859360"/>
            <a:ext cx="5542920" cy="693720"/>
            <a:chOff x="1219320" y="5859360"/>
            <a:chExt cx="5542920" cy="693720"/>
          </a:xfrm>
        </p:grpSpPr>
        <p:sp>
          <p:nvSpPr>
            <p:cNvPr id="1168" name=""/>
            <p:cNvSpPr/>
            <p:nvPr/>
          </p:nvSpPr>
          <p:spPr>
            <a:xfrm>
              <a:off x="1219320" y="588096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中性线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63840" y="3538440"/>
            <a:ext cx="4241520" cy="590760"/>
            <a:chOff x="663840" y="3538440"/>
            <a:chExt cx="4241520" cy="590760"/>
          </a:xfrm>
        </p:grpSpPr>
        <p:sp>
          <p:nvSpPr>
            <p:cNvPr id="1170" name=""/>
            <p:cNvSpPr/>
            <p:nvPr/>
          </p:nvSpPr>
          <p:spPr>
            <a:xfrm>
              <a:off x="663840" y="3545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82680" y="3550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851400" y="142920"/>
            <a:ext cx="7312680" cy="3447360"/>
            <a:chOff x="851400" y="142920"/>
            <a:chExt cx="7312680" cy="3447360"/>
          </a:xfrm>
        </p:grpSpPr>
        <p:sp>
          <p:nvSpPr>
            <p:cNvPr id="1173" name=""/>
            <p:cNvSpPr/>
            <p:nvPr/>
          </p:nvSpPr>
          <p:spPr>
            <a:xfrm>
              <a:off x="1870200" y="161820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20840" y="1209600"/>
              <a:ext cx="109440" cy="19836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20840" y="1407960"/>
              <a:ext cx="10944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30560" y="1600200"/>
              <a:ext cx="0" cy="37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230560" y="6904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20840" y="1020600"/>
              <a:ext cx="109440" cy="19872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2262600" y="1990800"/>
              <a:ext cx="969120" cy="797040"/>
              <a:chOff x="2262600" y="1990800"/>
              <a:chExt cx="969120" cy="797040"/>
            </a:xfrm>
          </p:grpSpPr>
          <p:sp>
            <p:nvSpPr>
              <p:cNvPr id="1180" name=""/>
              <p:cNvSpPr/>
              <p:nvPr/>
            </p:nvSpPr>
            <p:spPr>
              <a:xfrm rot="18522000">
                <a:off x="2723400" y="2257920"/>
                <a:ext cx="11196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522000">
                <a:off x="2871000" y="2381400"/>
                <a:ext cx="113400" cy="1890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49840" y="2562120"/>
                <a:ext cx="281880" cy="22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262600" y="1990800"/>
                <a:ext cx="281880" cy="22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8522000">
                <a:off x="2581920" y="2139840"/>
                <a:ext cx="11376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1235880" y="1946160"/>
              <a:ext cx="971280" cy="814680"/>
              <a:chOff x="1235880" y="1946160"/>
              <a:chExt cx="971280" cy="814680"/>
            </a:xfrm>
          </p:grpSpPr>
          <p:sp>
            <p:nvSpPr>
              <p:cNvPr id="1186" name=""/>
              <p:cNvSpPr/>
              <p:nvPr/>
            </p:nvSpPr>
            <p:spPr>
              <a:xfrm flipH="1" rot="3001800">
                <a:off x="1641600" y="2225880"/>
                <a:ext cx="11232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 rot="3001800">
                <a:off x="1495440" y="2352600"/>
                <a:ext cx="113760" cy="1908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1235880" y="2528640"/>
                <a:ext cx="276840" cy="23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1929960" y="1946160"/>
                <a:ext cx="277200" cy="23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 rot="3001800">
                <a:off x="1778760" y="2105280"/>
                <a:ext cx="114120" cy="1890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2219400" y="1959120"/>
              <a:ext cx="476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14720" y="690480"/>
              <a:ext cx="476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925960" y="2687760"/>
              <a:ext cx="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219320" y="2760840"/>
              <a:ext cx="0" cy="73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19320" y="3500280"/>
              <a:ext cx="472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908160" y="3130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89040" y="244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49880" y="61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89400" y="18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99880" y="26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50600" y="1490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4618080" y="142920"/>
              <a:ext cx="890280" cy="3368160"/>
              <a:chOff x="4618080" y="142920"/>
              <a:chExt cx="890280" cy="3368160"/>
            </a:xfrm>
          </p:grpSpPr>
          <p:sp>
            <p:nvSpPr>
              <p:cNvPr id="1203" name=""/>
              <p:cNvSpPr/>
              <p:nvPr/>
            </p:nvSpPr>
            <p:spPr>
              <a:xfrm>
                <a:off x="5060880" y="3328200"/>
                <a:ext cx="447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060880" y="2724480"/>
                <a:ext cx="447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056200" y="525960"/>
                <a:ext cx="447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6" name=""/>
            <p:cNvSpPr/>
            <p:nvPr/>
          </p:nvSpPr>
          <p:spPr>
            <a:xfrm flipH="1" flipV="1">
              <a:off x="4680000" y="1790280"/>
              <a:ext cx="665280" cy="9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13000" y="2897280"/>
              <a:ext cx="472932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213000" y="2760840"/>
              <a:ext cx="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9800" y="1947960"/>
              <a:ext cx="727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5778360" y="690480"/>
              <a:ext cx="2385720" cy="2246040"/>
              <a:chOff x="5778360" y="690480"/>
              <a:chExt cx="2385720" cy="2246040"/>
            </a:xfrm>
          </p:grpSpPr>
          <p:sp>
            <p:nvSpPr>
              <p:cNvPr id="1211" name=""/>
              <p:cNvSpPr/>
              <p:nvPr/>
            </p:nvSpPr>
            <p:spPr>
              <a:xfrm>
                <a:off x="6932520" y="1387800"/>
                <a:ext cx="4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978960" y="1519200"/>
                <a:ext cx="0" cy="42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 flipV="1">
                <a:off x="6978600" y="690480"/>
                <a:ext cx="2520" cy="52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4" name=""/>
              <p:cNvGrpSpPr/>
              <p:nvPr/>
            </p:nvGrpSpPr>
            <p:grpSpPr>
              <a:xfrm>
                <a:off x="5911920" y="1932480"/>
                <a:ext cx="1067400" cy="792000"/>
                <a:chOff x="5911920" y="1932480"/>
                <a:chExt cx="1067400" cy="792000"/>
              </a:xfrm>
            </p:grpSpPr>
            <p:sp>
              <p:nvSpPr>
                <p:cNvPr id="1215" name=""/>
                <p:cNvSpPr/>
                <p:nvPr/>
              </p:nvSpPr>
              <p:spPr>
                <a:xfrm flipH="1">
                  <a:off x="6549120" y="1932480"/>
                  <a:ext cx="430200" cy="31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5911920" y="2425320"/>
                  <a:ext cx="440280" cy="29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7" name=""/>
              <p:cNvSpPr/>
              <p:nvPr/>
            </p:nvSpPr>
            <p:spPr>
              <a:xfrm>
                <a:off x="7942680" y="2687040"/>
                <a:ext cx="0" cy="24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124040" y="10814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13200" y="1856520"/>
                <a:ext cx="650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778360" y="1987560"/>
                <a:ext cx="61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1" name=""/>
              <p:cNvGrpSpPr/>
              <p:nvPr/>
            </p:nvGrpSpPr>
            <p:grpSpPr>
              <a:xfrm>
                <a:off x="6826680" y="1200240"/>
                <a:ext cx="305640" cy="310680"/>
                <a:chOff x="6826680" y="1200240"/>
                <a:chExt cx="305640" cy="3106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6826680" y="1200240"/>
                  <a:ext cx="305640" cy="310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6877440" y="1251720"/>
                  <a:ext cx="203760" cy="20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6877440" y="1251720"/>
                  <a:ext cx="203760" cy="20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H="1" flipV="1">
                <a:off x="6986160" y="1938960"/>
                <a:ext cx="358920" cy="28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53880" y="2390400"/>
                <a:ext cx="374040" cy="29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7277400" y="2146320"/>
                <a:ext cx="306000" cy="310320"/>
                <a:chOff x="7277400" y="2146320"/>
                <a:chExt cx="306000" cy="31032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7277400" y="2146320"/>
                  <a:ext cx="306000" cy="310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7328160" y="219780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7327800" y="219780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6316920" y="2169360"/>
                <a:ext cx="306000" cy="310320"/>
                <a:chOff x="6316920" y="2169360"/>
                <a:chExt cx="306000" cy="31032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6316920" y="2169360"/>
                  <a:ext cx="306000" cy="310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367680" y="222084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6367320" y="2220840"/>
                  <a:ext cx="204120" cy="20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5" name=""/>
              <p:cNvSpPr/>
              <p:nvPr/>
            </p:nvSpPr>
            <p:spPr>
              <a:xfrm>
                <a:off x="6942240" y="1913760"/>
                <a:ext cx="73440" cy="73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2107080" y="24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51400" y="2465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40400" y="2612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3774960" y="3691080"/>
            <a:ext cx="685800" cy="304560"/>
            <a:chOff x="3774960" y="3691080"/>
            <a:chExt cx="685800" cy="304560"/>
          </a:xfrm>
        </p:grpSpPr>
        <p:sp>
          <p:nvSpPr>
            <p:cNvPr id="1240" name=""/>
            <p:cNvSpPr/>
            <p:nvPr/>
          </p:nvSpPr>
          <p:spPr>
            <a:xfrm flipH="1">
              <a:off x="3774960" y="3691080"/>
              <a:ext cx="1526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74960" y="399564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450040" y="3560760"/>
            <a:ext cx="2414520" cy="588960"/>
            <a:chOff x="5450040" y="3560760"/>
            <a:chExt cx="2414520" cy="588960"/>
          </a:xfrm>
        </p:grpSpPr>
        <p:grpSp>
          <p:nvGrpSpPr>
            <p:cNvPr id="1243" name=""/>
            <p:cNvGrpSpPr/>
            <p:nvPr/>
          </p:nvGrpSpPr>
          <p:grpSpPr>
            <a:xfrm>
              <a:off x="6894360" y="3691080"/>
              <a:ext cx="420840" cy="304560"/>
              <a:chOff x="6894360" y="3691080"/>
              <a:chExt cx="420840" cy="304560"/>
            </a:xfrm>
          </p:grpSpPr>
          <p:sp>
            <p:nvSpPr>
              <p:cNvPr id="1244" name=""/>
              <p:cNvSpPr/>
              <p:nvPr/>
            </p:nvSpPr>
            <p:spPr>
              <a:xfrm flipH="1">
                <a:off x="6894360" y="369108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894360" y="3995640"/>
                <a:ext cx="42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6" name=""/>
          <p:cNvGrpSpPr/>
          <p:nvPr/>
        </p:nvGrpSpPr>
        <p:grpSpPr>
          <a:xfrm>
            <a:off x="1298880" y="3997440"/>
            <a:ext cx="6989400" cy="1144440"/>
            <a:chOff x="1298880" y="3997440"/>
            <a:chExt cx="6989400" cy="1144440"/>
          </a:xfrm>
        </p:grpSpPr>
        <p:grpSp>
          <p:nvGrpSpPr>
            <p:cNvPr id="1247" name=""/>
            <p:cNvGrpSpPr/>
            <p:nvPr/>
          </p:nvGrpSpPr>
          <p:grpSpPr>
            <a:xfrm>
              <a:off x="1298880" y="3997440"/>
              <a:ext cx="6989400" cy="1144440"/>
              <a:chOff x="1298880" y="3997440"/>
              <a:chExt cx="6989400" cy="1144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1298880" y="4290840"/>
                <a:ext cx="149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(1)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线电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5217840" y="4156200"/>
              <a:ext cx="422640" cy="304560"/>
              <a:chOff x="5217840" y="4156200"/>
              <a:chExt cx="422640" cy="304560"/>
            </a:xfrm>
          </p:grpSpPr>
          <p:sp>
            <p:nvSpPr>
              <p:cNvPr id="1250" name=""/>
              <p:cNvSpPr/>
              <p:nvPr/>
            </p:nvSpPr>
            <p:spPr>
              <a:xfrm flipH="1">
                <a:off x="5217840" y="415620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218200" y="4460760"/>
                <a:ext cx="42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6781320" y="4378320"/>
              <a:ext cx="422640" cy="304560"/>
              <a:chOff x="6781320" y="4378320"/>
              <a:chExt cx="422640" cy="304560"/>
            </a:xfrm>
          </p:grpSpPr>
          <p:sp>
            <p:nvSpPr>
              <p:cNvPr id="1253" name=""/>
              <p:cNvSpPr/>
              <p:nvPr/>
            </p:nvSpPr>
            <p:spPr>
              <a:xfrm flipH="1">
                <a:off x="6781320" y="43783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781680" y="4682880"/>
                <a:ext cx="42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798480" y="4799880"/>
            <a:ext cx="7842240" cy="1054800"/>
            <a:chOff x="798480" y="4799880"/>
            <a:chExt cx="7842240" cy="1054800"/>
          </a:xfrm>
        </p:grpSpPr>
        <p:grpSp>
          <p:nvGrpSpPr>
            <p:cNvPr id="1256" name=""/>
            <p:cNvGrpSpPr/>
            <p:nvPr/>
          </p:nvGrpSpPr>
          <p:grpSpPr>
            <a:xfrm>
              <a:off x="798480" y="4799880"/>
              <a:ext cx="7842240" cy="1054800"/>
              <a:chOff x="798480" y="4799880"/>
              <a:chExt cx="7842240" cy="1054800"/>
            </a:xfrm>
          </p:grpSpPr>
          <p:sp>
            <p:nvSpPr>
              <p:cNvPr id="1257" name=""/>
              <p:cNvSpPr/>
              <p:nvPr/>
            </p:nvSpPr>
            <p:spPr>
              <a:xfrm>
                <a:off x="798480" y="4799880"/>
                <a:ext cx="218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 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三相对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3885840" y="5369040"/>
              <a:ext cx="1219680" cy="304560"/>
              <a:chOff x="3885840" y="5369040"/>
              <a:chExt cx="1219680" cy="304560"/>
            </a:xfrm>
          </p:grpSpPr>
          <p:sp>
            <p:nvSpPr>
              <p:cNvPr id="1259" name=""/>
              <p:cNvSpPr/>
              <p:nvPr/>
            </p:nvSpPr>
            <p:spPr>
              <a:xfrm flipH="1">
                <a:off x="3885840" y="536904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86200" y="56736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7086240" y="5369040"/>
              <a:ext cx="1219680" cy="304560"/>
              <a:chOff x="7086240" y="5369040"/>
              <a:chExt cx="1219680" cy="304560"/>
            </a:xfrm>
          </p:grpSpPr>
          <p:sp>
            <p:nvSpPr>
              <p:cNvPr id="1262" name=""/>
              <p:cNvSpPr/>
              <p:nvPr/>
            </p:nvSpPr>
            <p:spPr>
              <a:xfrm flipH="1">
                <a:off x="7086240" y="536904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086600" y="56736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033920" y="539280"/>
            <a:ext cx="7342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相负载不对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别计算各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40800" y="4587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性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1324080" y="3699000"/>
            <a:ext cx="6235560" cy="1160280"/>
            <a:chOff x="1324080" y="3699000"/>
            <a:chExt cx="6235560" cy="1160280"/>
          </a:xfrm>
        </p:grpSpPr>
        <p:sp>
          <p:nvSpPr>
            <p:cNvPr id="1267" name=""/>
            <p:cNvSpPr/>
            <p:nvPr/>
          </p:nvSpPr>
          <p:spPr>
            <a:xfrm flipH="1">
              <a:off x="3733560" y="384984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33920" y="41544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6019560" y="411480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019920" y="441972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1312920" y="2631960"/>
            <a:ext cx="6259320" cy="1160640"/>
            <a:chOff x="1312920" y="2631960"/>
            <a:chExt cx="6259320" cy="1160640"/>
          </a:xfrm>
        </p:grpSpPr>
        <p:grpSp>
          <p:nvGrpSpPr>
            <p:cNvPr id="1272" name=""/>
            <p:cNvGrpSpPr/>
            <p:nvPr/>
          </p:nvGrpSpPr>
          <p:grpSpPr>
            <a:xfrm>
              <a:off x="6019920" y="3011400"/>
              <a:ext cx="1218960" cy="304560"/>
              <a:chOff x="6019920" y="3011400"/>
              <a:chExt cx="1218960" cy="304560"/>
            </a:xfrm>
          </p:grpSpPr>
          <p:sp>
            <p:nvSpPr>
              <p:cNvPr id="1273" name=""/>
              <p:cNvSpPr/>
              <p:nvPr/>
            </p:nvSpPr>
            <p:spPr>
              <a:xfrm flipH="1">
                <a:off x="6019920" y="3011400"/>
                <a:ext cx="15192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019920" y="331596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3733920" y="2778120"/>
              <a:ext cx="1218960" cy="304560"/>
              <a:chOff x="3733920" y="2778120"/>
              <a:chExt cx="1218960" cy="304560"/>
            </a:xfrm>
          </p:grpSpPr>
          <p:sp>
            <p:nvSpPr>
              <p:cNvPr id="1276" name=""/>
              <p:cNvSpPr/>
              <p:nvPr/>
            </p:nvSpPr>
            <p:spPr>
              <a:xfrm flipH="1">
                <a:off x="3733920" y="2778120"/>
                <a:ext cx="15192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733920" y="308268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"/>
          <p:cNvGrpSpPr/>
          <p:nvPr/>
        </p:nvGrpSpPr>
        <p:grpSpPr>
          <a:xfrm>
            <a:off x="1893960" y="5715000"/>
            <a:ext cx="2232000" cy="534960"/>
            <a:chOff x="1893960" y="5715000"/>
            <a:chExt cx="2232000" cy="534960"/>
          </a:xfrm>
        </p:grpSpPr>
        <p:grpSp>
          <p:nvGrpSpPr>
            <p:cNvPr id="1279" name=""/>
            <p:cNvGrpSpPr/>
            <p:nvPr/>
          </p:nvGrpSpPr>
          <p:grpSpPr>
            <a:xfrm>
              <a:off x="2666880" y="5791320"/>
              <a:ext cx="1067040" cy="304560"/>
              <a:chOff x="2666880" y="5791320"/>
              <a:chExt cx="1067040" cy="304560"/>
            </a:xfrm>
          </p:grpSpPr>
          <p:sp>
            <p:nvSpPr>
              <p:cNvPr id="1280" name=""/>
              <p:cNvSpPr/>
              <p:nvPr/>
            </p:nvSpPr>
            <p:spPr>
              <a:xfrm flipH="1">
                <a:off x="2666880" y="579132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666880" y="609588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2" name=""/>
          <p:cNvGrpSpPr/>
          <p:nvPr/>
        </p:nvGrpSpPr>
        <p:grpSpPr>
          <a:xfrm>
            <a:off x="914400" y="5046840"/>
            <a:ext cx="7997760" cy="668160"/>
            <a:chOff x="914400" y="5046840"/>
            <a:chExt cx="7997760" cy="668160"/>
          </a:xfrm>
        </p:grpSpPr>
        <p:grpSp>
          <p:nvGrpSpPr>
            <p:cNvPr id="1283" name=""/>
            <p:cNvGrpSpPr/>
            <p:nvPr/>
          </p:nvGrpSpPr>
          <p:grpSpPr>
            <a:xfrm>
              <a:off x="5410080" y="5221440"/>
              <a:ext cx="1143000" cy="304560"/>
              <a:chOff x="5410080" y="5221440"/>
              <a:chExt cx="1143000" cy="304560"/>
            </a:xfrm>
          </p:grpSpPr>
          <p:sp>
            <p:nvSpPr>
              <p:cNvPr id="1284" name=""/>
              <p:cNvSpPr/>
              <p:nvPr/>
            </p:nvSpPr>
            <p:spPr>
              <a:xfrm flipH="1">
                <a:off x="5410080" y="522144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410080" y="5526000"/>
                <a:ext cx="114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7502400" y="5218200"/>
              <a:ext cx="1143000" cy="304560"/>
              <a:chOff x="7502400" y="5218200"/>
              <a:chExt cx="1143000" cy="304560"/>
            </a:xfrm>
          </p:grpSpPr>
          <p:sp>
            <p:nvSpPr>
              <p:cNvPr id="1287" name=""/>
              <p:cNvSpPr/>
              <p:nvPr/>
            </p:nvSpPr>
            <p:spPr>
              <a:xfrm flipH="1">
                <a:off x="7502400" y="521820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502400" y="5522760"/>
                <a:ext cx="114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3997080" y="5218200"/>
              <a:ext cx="498600" cy="304560"/>
              <a:chOff x="3997080" y="5218200"/>
              <a:chExt cx="498600" cy="304560"/>
            </a:xfrm>
          </p:grpSpPr>
          <p:sp>
            <p:nvSpPr>
              <p:cNvPr id="1290" name=""/>
              <p:cNvSpPr/>
              <p:nvPr/>
            </p:nvSpPr>
            <p:spPr>
              <a:xfrm flipH="1">
                <a:off x="3997080" y="521820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997440" y="5522760"/>
                <a:ext cx="49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2" name=""/>
          <p:cNvGrpSpPr/>
          <p:nvPr/>
        </p:nvGrpSpPr>
        <p:grpSpPr>
          <a:xfrm>
            <a:off x="1231920" y="1541520"/>
            <a:ext cx="5024520" cy="1197000"/>
            <a:chOff x="1231920" y="1541520"/>
            <a:chExt cx="5024520" cy="1197000"/>
          </a:xfrm>
        </p:grpSpPr>
        <p:grpSp>
          <p:nvGrpSpPr>
            <p:cNvPr id="1293" name=""/>
            <p:cNvGrpSpPr/>
            <p:nvPr/>
          </p:nvGrpSpPr>
          <p:grpSpPr>
            <a:xfrm>
              <a:off x="3690720" y="1712880"/>
              <a:ext cx="498600" cy="304560"/>
              <a:chOff x="3690720" y="1712880"/>
              <a:chExt cx="498600" cy="304560"/>
            </a:xfrm>
          </p:grpSpPr>
          <p:sp>
            <p:nvSpPr>
              <p:cNvPr id="1294" name=""/>
              <p:cNvSpPr/>
              <p:nvPr/>
            </p:nvSpPr>
            <p:spPr>
              <a:xfrm flipH="1">
                <a:off x="3690720" y="171288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691080" y="2017440"/>
                <a:ext cx="49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5368680" y="1981080"/>
              <a:ext cx="498600" cy="304560"/>
              <a:chOff x="5368680" y="1981080"/>
              <a:chExt cx="498600" cy="304560"/>
            </a:xfrm>
          </p:grpSpPr>
          <p:sp>
            <p:nvSpPr>
              <p:cNvPr id="1297" name=""/>
              <p:cNvSpPr/>
              <p:nvPr/>
            </p:nvSpPr>
            <p:spPr>
              <a:xfrm flipH="1">
                <a:off x="5368680" y="198108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369040" y="2285640"/>
                <a:ext cx="49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照明系统故障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33520" y="32760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63480" indent="-663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)  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短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928080" y="365688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线未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6541560" y="3505320"/>
            <a:ext cx="849600" cy="1218600"/>
            <a:chOff x="6541560" y="3505320"/>
            <a:chExt cx="849600" cy="1218600"/>
          </a:xfrm>
        </p:grpSpPr>
        <p:sp>
          <p:nvSpPr>
            <p:cNvPr id="1303" name=""/>
            <p:cNvSpPr/>
            <p:nvPr/>
          </p:nvSpPr>
          <p:spPr>
            <a:xfrm flipH="1">
              <a:off x="6868440" y="3505320"/>
              <a:ext cx="522720" cy="502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6803280" y="3967560"/>
              <a:ext cx="424800" cy="7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541560" y="3972960"/>
              <a:ext cx="669960" cy="750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4269960" y="3352680"/>
            <a:ext cx="4429800" cy="3201840"/>
            <a:chOff x="4269960" y="3352680"/>
            <a:chExt cx="4429800" cy="3201840"/>
          </a:xfrm>
        </p:grpSpPr>
        <p:sp>
          <p:nvSpPr>
            <p:cNvPr id="1307" name=""/>
            <p:cNvSpPr/>
            <p:nvPr/>
          </p:nvSpPr>
          <p:spPr>
            <a:xfrm>
              <a:off x="4269960" y="5117400"/>
              <a:ext cx="6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592760" y="364500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811760" y="55306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535880" y="4342320"/>
              <a:ext cx="49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11840" y="43498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7562520" y="4699800"/>
              <a:ext cx="403920" cy="2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238240" y="5102640"/>
              <a:ext cx="420840" cy="22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7190280" y="4682160"/>
              <a:ext cx="462240" cy="26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6454080" y="5124600"/>
              <a:ext cx="470880" cy="25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678880" y="5340240"/>
              <a:ext cx="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68640" y="6330960"/>
              <a:ext cx="159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738560" y="389808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92880" y="4660200"/>
              <a:ext cx="6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7459560" y="4044960"/>
              <a:ext cx="304920" cy="297000"/>
              <a:chOff x="7459560" y="4044960"/>
              <a:chExt cx="304920" cy="297000"/>
            </a:xfrm>
          </p:grpSpPr>
          <p:sp>
            <p:nvSpPr>
              <p:cNvPr id="1321" name=""/>
              <p:cNvSpPr/>
              <p:nvPr/>
            </p:nvSpPr>
            <p:spPr>
              <a:xfrm>
                <a:off x="7459560" y="4044960"/>
                <a:ext cx="304920" cy="297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510320" y="4094280"/>
                <a:ext cx="20340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7509960" y="4094280"/>
                <a:ext cx="20340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7916760" y="4883040"/>
              <a:ext cx="304920" cy="297000"/>
              <a:chOff x="7916760" y="4883040"/>
              <a:chExt cx="304920" cy="297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7916760" y="4883040"/>
                <a:ext cx="304920" cy="297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967520" y="4932360"/>
                <a:ext cx="20340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7967160" y="4932360"/>
                <a:ext cx="20340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6885000" y="4883040"/>
              <a:ext cx="304560" cy="297000"/>
              <a:chOff x="6885000" y="4883040"/>
              <a:chExt cx="304560" cy="297000"/>
            </a:xfrm>
          </p:grpSpPr>
          <p:sp>
            <p:nvSpPr>
              <p:cNvPr id="1329" name=""/>
              <p:cNvSpPr/>
              <p:nvPr/>
            </p:nvSpPr>
            <p:spPr>
              <a:xfrm>
                <a:off x="6885000" y="4883040"/>
                <a:ext cx="304560" cy="297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35400" y="4932360"/>
                <a:ext cx="20304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6935400" y="4932360"/>
                <a:ext cx="20304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4868640" y="4702320"/>
              <a:ext cx="276228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468840" y="5334120"/>
              <a:ext cx="0" cy="99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199000" y="458388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92680" y="467352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802040" y="35892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792680" y="629280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97760" y="3352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400640" y="5238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02440" y="44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76560" y="3625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97760" y="609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4868640" y="556884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550800" y="4114800"/>
            <a:ext cx="34876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短路电流很大，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熔断丝熔断，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未受影响，其相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常工作。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04920" y="754560"/>
            <a:ext cx="82296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上例中，试分析下列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短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未断时，求各相负载电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断开时，求各相负载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断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未断时，求各相负载电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断开时，求各相负载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 rot="16200000">
            <a:off x="5638680" y="220932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80880" y="4292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此情况下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的电灯组由于承受电压上所加的电压都超过额定电压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0V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这是不允许的。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71560" y="5335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) A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相短路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线断开时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6248520" y="819000"/>
            <a:ext cx="848880" cy="1219320"/>
            <a:chOff x="6248520" y="819000"/>
            <a:chExt cx="848880" cy="1219320"/>
          </a:xfrm>
        </p:grpSpPr>
        <p:sp>
          <p:nvSpPr>
            <p:cNvPr id="1350" name=""/>
            <p:cNvSpPr/>
            <p:nvPr/>
          </p:nvSpPr>
          <p:spPr>
            <a:xfrm flipH="1">
              <a:off x="6574680" y="819000"/>
              <a:ext cx="522720" cy="502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6509880" y="1281240"/>
              <a:ext cx="424440" cy="7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6248520" y="1287000"/>
              <a:ext cx="669600" cy="751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696960" y="990720"/>
            <a:ext cx="3581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负载中性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负载各相电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7620120" y="1066680"/>
            <a:ext cx="228600" cy="762120"/>
            <a:chOff x="7620120" y="1066680"/>
            <a:chExt cx="228600" cy="762120"/>
          </a:xfrm>
        </p:grpSpPr>
        <p:sp>
          <p:nvSpPr>
            <p:cNvPr id="1355" name=""/>
            <p:cNvSpPr/>
            <p:nvPr/>
          </p:nvSpPr>
          <p:spPr>
            <a:xfrm>
              <a:off x="7620120" y="10666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20120" y="18288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848720" y="10666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298760" y="685800"/>
            <a:ext cx="4388040" cy="3354120"/>
            <a:chOff x="4298760" y="685800"/>
            <a:chExt cx="4388040" cy="3354120"/>
          </a:xfrm>
        </p:grpSpPr>
        <p:sp>
          <p:nvSpPr>
            <p:cNvPr id="1359" name=""/>
            <p:cNvSpPr/>
            <p:nvPr/>
          </p:nvSpPr>
          <p:spPr>
            <a:xfrm>
              <a:off x="4897440" y="3833640"/>
              <a:ext cx="159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915080" y="952560"/>
              <a:ext cx="270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4298760" y="685800"/>
              <a:ext cx="622800" cy="3354120"/>
              <a:chOff x="4298760" y="685800"/>
              <a:chExt cx="622800" cy="3354120"/>
            </a:xfrm>
          </p:grpSpPr>
          <p:sp>
            <p:nvSpPr>
              <p:cNvPr id="1362" name=""/>
              <p:cNvSpPr/>
              <p:nvPr/>
            </p:nvSpPr>
            <p:spPr>
              <a:xfrm>
                <a:off x="4298760" y="2431080"/>
                <a:ext cx="62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840200" y="29970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821120" y="198756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830840" y="93960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834080" y="3770280"/>
                <a:ext cx="7596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474080" y="685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454640" y="2776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31240" y="1761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97840" y="3580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 flipH="1">
              <a:off x="4876560" y="30481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477120" y="2854440"/>
              <a:ext cx="0" cy="9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6324480" y="914400"/>
              <a:ext cx="2362320" cy="2133720"/>
              <a:chOff x="6324480" y="914400"/>
              <a:chExt cx="2362320" cy="2133720"/>
            </a:xfrm>
          </p:grpSpPr>
          <p:sp>
            <p:nvSpPr>
              <p:cNvPr id="1374" name=""/>
              <p:cNvSpPr/>
              <p:nvPr/>
            </p:nvSpPr>
            <p:spPr>
              <a:xfrm>
                <a:off x="7585200" y="1629360"/>
                <a:ext cx="79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5" name=""/>
              <p:cNvGrpSpPr/>
              <p:nvPr/>
            </p:nvGrpSpPr>
            <p:grpSpPr>
              <a:xfrm>
                <a:off x="7620120" y="958680"/>
                <a:ext cx="1440" cy="1098720"/>
                <a:chOff x="7620120" y="958680"/>
                <a:chExt cx="1440" cy="10987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7621560" y="958680"/>
                  <a:ext cx="0" cy="400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620120" y="167652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8686800" y="2809800"/>
                <a:ext cx="0" cy="23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77600" y="1040400"/>
                <a:ext cx="39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4480" y="1954800"/>
                <a:ext cx="612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1" name=""/>
              <p:cNvGrpSpPr/>
              <p:nvPr/>
            </p:nvGrpSpPr>
            <p:grpSpPr>
              <a:xfrm>
                <a:off x="7434360" y="1359000"/>
                <a:ext cx="337680" cy="323280"/>
                <a:chOff x="7434360" y="1359000"/>
                <a:chExt cx="337680" cy="32328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7434360" y="1359000"/>
                  <a:ext cx="337680" cy="323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490520" y="1412640"/>
                  <a:ext cx="225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>
                  <a:off x="7490520" y="1412640"/>
                  <a:ext cx="225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6483600" y="2022480"/>
                <a:ext cx="1095480" cy="846720"/>
                <a:chOff x="6483600" y="2022480"/>
                <a:chExt cx="1095480" cy="846720"/>
              </a:xfrm>
            </p:grpSpPr>
            <p:grpSp>
              <p:nvGrpSpPr>
                <p:cNvPr id="1386" name=""/>
                <p:cNvGrpSpPr/>
                <p:nvPr/>
              </p:nvGrpSpPr>
              <p:grpSpPr>
                <a:xfrm>
                  <a:off x="6483600" y="2022480"/>
                  <a:ext cx="1095480" cy="846720"/>
                  <a:chOff x="6483600" y="2022480"/>
                  <a:chExt cx="1095480" cy="846720"/>
                </a:xfrm>
              </p:grpSpPr>
              <p:sp>
                <p:nvSpPr>
                  <p:cNvPr id="1387" name=""/>
                  <p:cNvSpPr/>
                  <p:nvPr/>
                </p:nvSpPr>
                <p:spPr>
                  <a:xfrm flipH="1">
                    <a:off x="7156800" y="2022480"/>
                    <a:ext cx="422280" cy="326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flipH="1">
                    <a:off x="6483600" y="2558160"/>
                    <a:ext cx="433440" cy="311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9" name=""/>
                <p:cNvGrpSpPr/>
                <p:nvPr/>
              </p:nvGrpSpPr>
              <p:grpSpPr>
                <a:xfrm>
                  <a:off x="6858000" y="2285640"/>
                  <a:ext cx="337680" cy="323280"/>
                  <a:chOff x="6858000" y="2285640"/>
                  <a:chExt cx="337680" cy="32328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6858000" y="2285640"/>
                    <a:ext cx="337680" cy="323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6914160" y="2339280"/>
                    <a:ext cx="225360" cy="216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flipH="1">
                    <a:off x="6914160" y="2339280"/>
                    <a:ext cx="225360" cy="216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93" name=""/>
              <p:cNvSpPr/>
              <p:nvPr/>
            </p:nvSpPr>
            <p:spPr>
              <a:xfrm>
                <a:off x="8293320" y="1878840"/>
                <a:ext cx="383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4" name=""/>
              <p:cNvGrpSpPr/>
              <p:nvPr/>
            </p:nvGrpSpPr>
            <p:grpSpPr>
              <a:xfrm>
                <a:off x="7629840" y="2016720"/>
                <a:ext cx="1051200" cy="844200"/>
                <a:chOff x="7629840" y="2016720"/>
                <a:chExt cx="1051200" cy="844200"/>
              </a:xfrm>
            </p:grpSpPr>
            <p:grpSp>
              <p:nvGrpSpPr>
                <p:cNvPr id="1395" name=""/>
                <p:cNvGrpSpPr/>
                <p:nvPr/>
              </p:nvGrpSpPr>
              <p:grpSpPr>
                <a:xfrm>
                  <a:off x="7629840" y="2016720"/>
                  <a:ext cx="1051200" cy="844200"/>
                  <a:chOff x="7629840" y="2016720"/>
                  <a:chExt cx="1051200" cy="84420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7629840" y="2016720"/>
                    <a:ext cx="406440" cy="315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8263440" y="2561400"/>
                    <a:ext cx="417600" cy="299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8" name=""/>
                <p:cNvGrpSpPr/>
                <p:nvPr/>
              </p:nvGrpSpPr>
              <p:grpSpPr>
                <a:xfrm>
                  <a:off x="7997400" y="2273400"/>
                  <a:ext cx="325080" cy="333720"/>
                  <a:chOff x="7997400" y="2273400"/>
                  <a:chExt cx="325080" cy="333720"/>
                </a:xfrm>
              </p:grpSpPr>
              <p:sp>
                <p:nvSpPr>
                  <p:cNvPr id="1399" name=""/>
                  <p:cNvSpPr/>
                  <p:nvPr/>
                </p:nvSpPr>
                <p:spPr>
                  <a:xfrm flipH="1">
                    <a:off x="7997040" y="2273400"/>
                    <a:ext cx="325080" cy="3337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flipH="1">
                    <a:off x="8051760" y="2328840"/>
                    <a:ext cx="216720" cy="22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8051760" y="2328840"/>
                    <a:ext cx="216720" cy="22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02" name=""/>
              <p:cNvSpPr/>
              <p:nvPr/>
            </p:nvSpPr>
            <p:spPr>
              <a:xfrm>
                <a:off x="6730560" y="2514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154720" y="2514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025040" y="914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66620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24140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025760" y="1600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001000" y="1066680"/>
                <a:ext cx="0" cy="60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flipV="1">
                <a:off x="8152920" y="2057400"/>
                <a:ext cx="38124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629400" y="2133720"/>
                <a:ext cx="38088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>
              <a:off x="4911840" y="2022480"/>
              <a:ext cx="270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7620120" y="1066680"/>
            <a:ext cx="228600" cy="762120"/>
            <a:chOff x="7620120" y="1066680"/>
            <a:chExt cx="228600" cy="762120"/>
          </a:xfrm>
        </p:grpSpPr>
        <p:sp>
          <p:nvSpPr>
            <p:cNvPr id="1413" name=""/>
            <p:cNvSpPr/>
            <p:nvPr/>
          </p:nvSpPr>
          <p:spPr>
            <a:xfrm>
              <a:off x="7620120" y="10666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620120" y="18288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848720" y="10666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620120" y="1066680"/>
            <a:ext cx="228600" cy="762120"/>
            <a:chOff x="7620120" y="1066680"/>
            <a:chExt cx="228600" cy="762120"/>
          </a:xfrm>
        </p:grpSpPr>
        <p:sp>
          <p:nvSpPr>
            <p:cNvPr id="1417" name=""/>
            <p:cNvSpPr/>
            <p:nvPr/>
          </p:nvSpPr>
          <p:spPr>
            <a:xfrm>
              <a:off x="7620120" y="10666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20120" y="18288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48720" y="10666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三相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0160" y="1523880"/>
            <a:ext cx="84582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本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搞清对称三相负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仿宋_GB2312"/>
              </a:rPr>
              <a:t>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时相线电压、相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流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三相四线制供电系统中单相及三相负载的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确联接方法，理解中线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对称三相电路电压、电流及功率的计算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95160" y="1295280"/>
            <a:ext cx="8067600" cy="162000"/>
            <a:chOff x="695160" y="1295280"/>
            <a:chExt cx="8067600" cy="1620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6951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8380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9997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12952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14569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16095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8"/>
            <a:stretch/>
          </p:blipFill>
          <p:spPr>
            <a:xfrm>
              <a:off x="17524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9"/>
            <a:stretch/>
          </p:blipFill>
          <p:spPr>
            <a:xfrm>
              <a:off x="19141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0"/>
            <a:stretch/>
          </p:blipFill>
          <p:spPr>
            <a:xfrm>
              <a:off x="22096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1"/>
            <a:stretch/>
          </p:blipFill>
          <p:spPr>
            <a:xfrm>
              <a:off x="23713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2"/>
            <a:stretch/>
          </p:blipFill>
          <p:spPr>
            <a:xfrm>
              <a:off x="25239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26668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tretch/>
          </p:blipFill>
          <p:spPr>
            <a:xfrm>
              <a:off x="11523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20667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28285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29811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31240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>
              <a:off x="32857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>
              <a:off x="34383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>
              <a:off x="35812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2"/>
            <a:stretch/>
          </p:blipFill>
          <p:spPr>
            <a:xfrm>
              <a:off x="37429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3"/>
            <a:stretch/>
          </p:blipFill>
          <p:spPr>
            <a:xfrm>
              <a:off x="40384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4"/>
            <a:stretch/>
          </p:blipFill>
          <p:spPr>
            <a:xfrm>
              <a:off x="42001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5"/>
            <a:stretch/>
          </p:blipFill>
          <p:spPr>
            <a:xfrm>
              <a:off x="43527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6"/>
            <a:stretch/>
          </p:blipFill>
          <p:spPr>
            <a:xfrm>
              <a:off x="44956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7"/>
            <a:stretch/>
          </p:blipFill>
          <p:spPr>
            <a:xfrm>
              <a:off x="46573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8"/>
            <a:stretch/>
          </p:blipFill>
          <p:spPr>
            <a:xfrm>
              <a:off x="49528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9"/>
            <a:stretch/>
          </p:blipFill>
          <p:spPr>
            <a:xfrm>
              <a:off x="51145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0"/>
            <a:stretch/>
          </p:blipFill>
          <p:spPr>
            <a:xfrm>
              <a:off x="52671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1"/>
            <a:stretch/>
          </p:blipFill>
          <p:spPr>
            <a:xfrm>
              <a:off x="541008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2"/>
            <a:stretch/>
          </p:blipFill>
          <p:spPr>
            <a:xfrm>
              <a:off x="38955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3"/>
            <a:stretch/>
          </p:blipFill>
          <p:spPr>
            <a:xfrm>
              <a:off x="4809960" y="12952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4"/>
            <a:stretch/>
          </p:blipFill>
          <p:spPr>
            <a:xfrm>
              <a:off x="557172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5724360" y="1295280"/>
              <a:ext cx="1838160" cy="162000"/>
              <a:chOff x="5724360" y="1295280"/>
              <a:chExt cx="1838160" cy="162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72436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86728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029280" y="1295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8156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32448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486480" y="1295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78168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943680" y="1295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709596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23888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400880" y="1295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638760" y="12952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6" name="" descr=""/>
            <p:cNvPicPr/>
            <p:nvPr/>
          </p:nvPicPr>
          <p:blipFill>
            <a:blip r:embed="rId47"/>
            <a:stretch/>
          </p:blipFill>
          <p:spPr>
            <a:xfrm>
              <a:off x="754344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8"/>
            <a:stretch/>
          </p:blipFill>
          <p:spPr>
            <a:xfrm>
              <a:off x="768636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49"/>
            <a:stretch/>
          </p:blipFill>
          <p:spPr>
            <a:xfrm>
              <a:off x="784836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50"/>
            <a:stretch/>
          </p:blipFill>
          <p:spPr>
            <a:xfrm>
              <a:off x="800064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51"/>
            <a:stretch/>
          </p:blipFill>
          <p:spPr>
            <a:xfrm>
              <a:off x="814356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2"/>
            <a:stretch/>
          </p:blipFill>
          <p:spPr>
            <a:xfrm>
              <a:off x="830556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53"/>
            <a:stretch/>
          </p:blipFill>
          <p:spPr>
            <a:xfrm>
              <a:off x="860076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4"/>
            <a:stretch/>
          </p:blipFill>
          <p:spPr>
            <a:xfrm>
              <a:off x="8457840" y="129528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457200" y="5468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断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33520" y="24854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线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22960" y="1488960"/>
            <a:ext cx="3388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灯仍承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常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813960" y="100404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线未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141560" y="2930400"/>
            <a:ext cx="26222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为单相电路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6192720" y="3275640"/>
            <a:ext cx="2076840" cy="2864160"/>
            <a:chOff x="6192720" y="3275640"/>
            <a:chExt cx="2076840" cy="2864160"/>
          </a:xfrm>
        </p:grpSpPr>
        <p:sp>
          <p:nvSpPr>
            <p:cNvPr id="1426" name=""/>
            <p:cNvSpPr/>
            <p:nvPr/>
          </p:nvSpPr>
          <p:spPr>
            <a:xfrm>
              <a:off x="6300720" y="4325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6662880" y="385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566040" y="3827520"/>
              <a:ext cx="85680" cy="8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6654960" y="5688000"/>
              <a:ext cx="93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576840" y="5657760"/>
              <a:ext cx="87480" cy="8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42000" y="3506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37400" y="3575160"/>
              <a:ext cx="509400" cy="8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807240" y="3710160"/>
              <a:ext cx="595440" cy="2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881760" y="3275640"/>
              <a:ext cx="3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192720" y="363168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240960" y="540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7399440" y="3862440"/>
              <a:ext cx="355320" cy="1850760"/>
              <a:chOff x="7399440" y="3862440"/>
              <a:chExt cx="355320" cy="1850760"/>
            </a:xfrm>
          </p:grpSpPr>
          <p:sp>
            <p:nvSpPr>
              <p:cNvPr id="1438" name=""/>
              <p:cNvSpPr/>
              <p:nvPr/>
            </p:nvSpPr>
            <p:spPr>
              <a:xfrm flipV="1">
                <a:off x="7399440" y="4232520"/>
                <a:ext cx="355320" cy="344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577640" y="460224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577640" y="3862440"/>
                <a:ext cx="0" cy="4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444080" y="4275360"/>
                <a:ext cx="266040" cy="25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7444080" y="4275000"/>
                <a:ext cx="266040" cy="25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7577640" y="5289840"/>
                <a:ext cx="0" cy="42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7399440" y="4971960"/>
                <a:ext cx="355320" cy="345240"/>
                <a:chOff x="7399440" y="4971960"/>
                <a:chExt cx="355320" cy="34524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7399440" y="4971960"/>
                  <a:ext cx="355320" cy="3452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V="1">
                  <a:off x="7444080" y="5014440"/>
                  <a:ext cx="266040" cy="258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431480" y="4983840"/>
                  <a:ext cx="266040" cy="258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8" name=""/>
            <p:cNvSpPr/>
            <p:nvPr/>
          </p:nvSpPr>
          <p:spPr>
            <a:xfrm>
              <a:off x="7633800" y="4124880"/>
              <a:ext cx="63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´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649640" y="4866480"/>
              <a:ext cx="619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´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683840" y="38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28120" y="437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699680" y="51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05440" y="4676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859440" y="56800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4322520" y="380880"/>
            <a:ext cx="4429800" cy="3201840"/>
            <a:chOff x="4322520" y="380880"/>
            <a:chExt cx="4429800" cy="3201840"/>
          </a:xfrm>
        </p:grpSpPr>
        <p:grpSp>
          <p:nvGrpSpPr>
            <p:cNvPr id="1456" name=""/>
            <p:cNvGrpSpPr/>
            <p:nvPr/>
          </p:nvGrpSpPr>
          <p:grpSpPr>
            <a:xfrm>
              <a:off x="4322520" y="380880"/>
              <a:ext cx="4429800" cy="3201840"/>
              <a:chOff x="4322520" y="380880"/>
              <a:chExt cx="4429800" cy="3201840"/>
            </a:xfrm>
          </p:grpSpPr>
          <p:sp>
            <p:nvSpPr>
              <p:cNvPr id="1457" name=""/>
              <p:cNvSpPr/>
              <p:nvPr/>
            </p:nvSpPr>
            <p:spPr>
              <a:xfrm>
                <a:off x="5515200" y="152388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322520" y="2145240"/>
                <a:ext cx="62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645680" y="672840"/>
                <a:ext cx="0" cy="39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05520" y="255888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588440" y="137016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664400" y="1377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>
                <a:off x="7615080" y="1727640"/>
                <a:ext cx="403920" cy="21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290800" y="2130480"/>
                <a:ext cx="420840" cy="22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7243200" y="1732320"/>
                <a:ext cx="423360" cy="24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6506640" y="2152080"/>
                <a:ext cx="470520" cy="25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731440" y="2368440"/>
                <a:ext cx="0" cy="23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791120" y="92592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445440" y="1688040"/>
                <a:ext cx="612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0" name=""/>
              <p:cNvGrpSpPr/>
              <p:nvPr/>
            </p:nvGrpSpPr>
            <p:grpSpPr>
              <a:xfrm>
                <a:off x="7512120" y="1072800"/>
                <a:ext cx="337680" cy="323640"/>
                <a:chOff x="7512120" y="1072800"/>
                <a:chExt cx="337680" cy="32364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7512120" y="1072800"/>
                  <a:ext cx="337680" cy="323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568280" y="1126440"/>
                  <a:ext cx="22536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H="1">
                  <a:off x="7568280" y="1126440"/>
                  <a:ext cx="22536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7969320" y="1911240"/>
                <a:ext cx="337680" cy="323280"/>
                <a:chOff x="7969320" y="1911240"/>
                <a:chExt cx="337680" cy="32328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7969320" y="1911240"/>
                  <a:ext cx="337680" cy="323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25480" y="1964880"/>
                  <a:ext cx="225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flipH="1">
                  <a:off x="8025480" y="1964880"/>
                  <a:ext cx="225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937560" y="1911240"/>
                <a:ext cx="337680" cy="323280"/>
                <a:chOff x="6937560" y="1911240"/>
                <a:chExt cx="337680" cy="32328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937560" y="1911240"/>
                  <a:ext cx="337680" cy="323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993720" y="1964880"/>
                  <a:ext cx="225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flipH="1">
                  <a:off x="6993720" y="1964880"/>
                  <a:ext cx="225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2" name=""/>
              <p:cNvSpPr/>
              <p:nvPr/>
            </p:nvSpPr>
            <p:spPr>
              <a:xfrm>
                <a:off x="6521400" y="2398320"/>
                <a:ext cx="0" cy="99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251560" y="1611720"/>
                <a:ext cx="500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086440" y="170172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29200" y="6174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086440" y="332064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98000" y="380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700880" y="2266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703040" y="147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698000" y="3123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164200" y="335880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181840" y="1730160"/>
                <a:ext cx="244944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105520" y="653760"/>
                <a:ext cx="255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181840" y="2597040"/>
                <a:ext cx="35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5" name=""/>
            <p:cNvSpPr/>
            <p:nvPr/>
          </p:nvSpPr>
          <p:spPr>
            <a:xfrm>
              <a:off x="723996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15289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不对称负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又未接中性线时，负载相电压不再对称，且负载电阻越大，负载承受的电压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中线的作用：保证星形联结三相不对称负载的相电压对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照明负载三相不对称，必须采用三相四线制供电方式，且中性线（指干线）内不允许接熔断器或刀闸开关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1143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143000" y="456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中性线断开时负载的相电压及相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399920" y="932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节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1650960" y="914400"/>
            <a:ext cx="546120" cy="960480"/>
            <a:chOff x="1650960" y="914400"/>
            <a:chExt cx="546120" cy="960480"/>
          </a:xfrm>
        </p:grpSpPr>
        <p:grpSp>
          <p:nvGrpSpPr>
            <p:cNvPr id="1502" name=""/>
            <p:cNvGrpSpPr/>
            <p:nvPr/>
          </p:nvGrpSpPr>
          <p:grpSpPr>
            <a:xfrm>
              <a:off x="1650960" y="914400"/>
              <a:ext cx="203400" cy="960480"/>
              <a:chOff x="1650960" y="914400"/>
              <a:chExt cx="203400" cy="9604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670040" y="129528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50960" y="91440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2013120" y="1371600"/>
              <a:ext cx="1839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670320" y="4460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5041800" y="3505320"/>
            <a:ext cx="4025520" cy="2878200"/>
            <a:chOff x="5041800" y="3505320"/>
            <a:chExt cx="4025520" cy="2878200"/>
          </a:xfrm>
        </p:grpSpPr>
        <p:sp>
          <p:nvSpPr>
            <p:cNvPr id="1508" name=""/>
            <p:cNvSpPr/>
            <p:nvPr/>
          </p:nvSpPr>
          <p:spPr>
            <a:xfrm>
              <a:off x="5041800" y="4535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21480" y="4518360"/>
              <a:ext cx="64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6295680" y="3885480"/>
              <a:ext cx="11448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16200000">
              <a:off x="6497280" y="3885480"/>
              <a:ext cx="11448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47400" y="4055400"/>
              <a:ext cx="40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45360" y="4035240"/>
              <a:ext cx="62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6200000">
              <a:off x="6103440" y="3885480"/>
              <a:ext cx="11448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 rot="16200000">
              <a:off x="7692120" y="3898080"/>
              <a:ext cx="161640" cy="32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7044840" y="4059000"/>
              <a:ext cx="5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933320" y="4059000"/>
              <a:ext cx="58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rot="16200000">
              <a:off x="6275160" y="4572360"/>
              <a:ext cx="11448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rot="16200000">
              <a:off x="6477120" y="4572360"/>
              <a:ext cx="11448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36960" y="474228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25200" y="4722120"/>
              <a:ext cx="62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16200000">
              <a:off x="6083280" y="4572360"/>
              <a:ext cx="11448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 rot="16200000">
              <a:off x="7672320" y="4586040"/>
              <a:ext cx="161280" cy="32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024320" y="4745520"/>
              <a:ext cx="5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12800" y="4745520"/>
              <a:ext cx="56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6200000">
              <a:off x="6275160" y="5218200"/>
              <a:ext cx="11412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6477120" y="5218200"/>
              <a:ext cx="11412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27240" y="5388480"/>
              <a:ext cx="40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425200" y="5368320"/>
              <a:ext cx="62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6200000">
              <a:off x="6083280" y="5218200"/>
              <a:ext cx="114120" cy="20160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 rot="16200000">
              <a:off x="7672320" y="5232240"/>
              <a:ext cx="161280" cy="32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024320" y="5391720"/>
              <a:ext cx="5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912800" y="5391720"/>
              <a:ext cx="6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430600" y="4020120"/>
              <a:ext cx="0" cy="213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520480" y="4040280"/>
              <a:ext cx="0" cy="213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20160" y="6140880"/>
              <a:ext cx="98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532280" y="6161040"/>
              <a:ext cx="98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470080" y="4686840"/>
              <a:ext cx="838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90280" y="4666680"/>
              <a:ext cx="838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086600" y="5333040"/>
              <a:ext cx="838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066440" y="4696920"/>
              <a:ext cx="838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66440" y="4010040"/>
              <a:ext cx="838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824160" y="4656240"/>
              <a:ext cx="565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33880" y="3949560"/>
              <a:ext cx="565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824160" y="5302440"/>
              <a:ext cx="565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896240" y="4288320"/>
              <a:ext cx="56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896240" y="4940640"/>
              <a:ext cx="56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48520" y="5212440"/>
              <a:ext cx="2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876080" y="3559680"/>
              <a:ext cx="7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49320" y="53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252560" y="4021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236360" y="466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522120" y="536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171560" y="5923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522120" y="4671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22120" y="398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876640" y="394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76640" y="463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76640" y="532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403320" y="58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904520" y="3972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867440" y="4622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867440" y="5274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70520" y="932400"/>
            <a:ext cx="3566520" cy="610560"/>
            <a:chOff x="470520" y="932400"/>
            <a:chExt cx="3566520" cy="610560"/>
          </a:xfrm>
        </p:grpSpPr>
        <p:sp>
          <p:nvSpPr>
            <p:cNvPr id="1565" name=""/>
            <p:cNvSpPr/>
            <p:nvPr/>
          </p:nvSpPr>
          <p:spPr>
            <a:xfrm>
              <a:off x="470520" y="9324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解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13400" y="947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7" name=""/>
            <p:cNvGrpSpPr/>
            <p:nvPr/>
          </p:nvGrpSpPr>
          <p:grpSpPr>
            <a:xfrm>
              <a:off x="2971440" y="1100160"/>
              <a:ext cx="498600" cy="304560"/>
              <a:chOff x="2971440" y="1100160"/>
              <a:chExt cx="498600" cy="30456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2971440" y="110016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971800" y="1404720"/>
                <a:ext cx="49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0" name=""/>
          <p:cNvGrpSpPr/>
          <p:nvPr/>
        </p:nvGrpSpPr>
        <p:grpSpPr>
          <a:xfrm>
            <a:off x="571680" y="1467000"/>
            <a:ext cx="8091360" cy="2085840"/>
            <a:chOff x="571680" y="1467000"/>
            <a:chExt cx="8091360" cy="2085840"/>
          </a:xfrm>
        </p:grpSpPr>
        <p:grpSp>
          <p:nvGrpSpPr>
            <p:cNvPr id="1571" name=""/>
            <p:cNvGrpSpPr/>
            <p:nvPr/>
          </p:nvGrpSpPr>
          <p:grpSpPr>
            <a:xfrm>
              <a:off x="4343040" y="1712880"/>
              <a:ext cx="498600" cy="304560"/>
              <a:chOff x="4343040" y="1712880"/>
              <a:chExt cx="498600" cy="304560"/>
            </a:xfrm>
          </p:grpSpPr>
          <p:sp>
            <p:nvSpPr>
              <p:cNvPr id="1572" name=""/>
              <p:cNvSpPr/>
              <p:nvPr/>
            </p:nvSpPr>
            <p:spPr>
              <a:xfrm flipH="1">
                <a:off x="4343040" y="171288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343400" y="2017440"/>
                <a:ext cx="49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5790960" y="1712880"/>
              <a:ext cx="1067040" cy="304920"/>
              <a:chOff x="5790960" y="1712880"/>
              <a:chExt cx="1067040" cy="304920"/>
            </a:xfrm>
          </p:grpSpPr>
          <p:sp>
            <p:nvSpPr>
              <p:cNvPr id="1575" name=""/>
              <p:cNvSpPr/>
              <p:nvPr/>
            </p:nvSpPr>
            <p:spPr>
              <a:xfrm flipH="1">
                <a:off x="5790960" y="1712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791320" y="2017800"/>
                <a:ext cx="10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7772040" y="1676520"/>
              <a:ext cx="762480" cy="304560"/>
              <a:chOff x="7772040" y="1676520"/>
              <a:chExt cx="762480" cy="304560"/>
            </a:xfrm>
          </p:grpSpPr>
          <p:sp>
            <p:nvSpPr>
              <p:cNvPr id="1578" name=""/>
              <p:cNvSpPr/>
              <p:nvPr/>
            </p:nvSpPr>
            <p:spPr>
              <a:xfrm flipH="1">
                <a:off x="7772040" y="16765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772400" y="198108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0" name=""/>
          <p:cNvGrpSpPr/>
          <p:nvPr/>
        </p:nvGrpSpPr>
        <p:grpSpPr>
          <a:xfrm>
            <a:off x="819000" y="3571920"/>
            <a:ext cx="2986200" cy="1050840"/>
            <a:chOff x="819000" y="3571920"/>
            <a:chExt cx="2986200" cy="1050840"/>
          </a:xfrm>
        </p:grpSpPr>
        <p:grpSp>
          <p:nvGrpSpPr>
            <p:cNvPr id="1581" name=""/>
            <p:cNvGrpSpPr/>
            <p:nvPr/>
          </p:nvGrpSpPr>
          <p:grpSpPr>
            <a:xfrm>
              <a:off x="1904760" y="4191120"/>
              <a:ext cx="1067040" cy="304560"/>
              <a:chOff x="1904760" y="4191120"/>
              <a:chExt cx="1067040" cy="304560"/>
            </a:xfrm>
          </p:grpSpPr>
          <p:sp>
            <p:nvSpPr>
              <p:cNvPr id="1582" name=""/>
              <p:cNvSpPr/>
              <p:nvPr/>
            </p:nvSpPr>
            <p:spPr>
              <a:xfrm flipH="1">
                <a:off x="1904760" y="41911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905120" y="4495680"/>
                <a:ext cx="10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4" name=""/>
          <p:cNvGrpSpPr/>
          <p:nvPr/>
        </p:nvGrpSpPr>
        <p:grpSpPr>
          <a:xfrm>
            <a:off x="671400" y="5965920"/>
            <a:ext cx="4295880" cy="587160"/>
            <a:chOff x="671400" y="5965920"/>
            <a:chExt cx="4295880" cy="587160"/>
          </a:xfrm>
        </p:grpSpPr>
        <p:grpSp>
          <p:nvGrpSpPr>
            <p:cNvPr id="1585" name=""/>
            <p:cNvGrpSpPr/>
            <p:nvPr/>
          </p:nvGrpSpPr>
          <p:grpSpPr>
            <a:xfrm>
              <a:off x="3733560" y="6095880"/>
              <a:ext cx="914760" cy="304920"/>
              <a:chOff x="3733560" y="6095880"/>
              <a:chExt cx="914760" cy="304920"/>
            </a:xfrm>
          </p:grpSpPr>
          <p:sp>
            <p:nvSpPr>
              <p:cNvPr id="1586" name=""/>
              <p:cNvSpPr/>
              <p:nvPr/>
            </p:nvSpPr>
            <p:spPr>
              <a:xfrm flipH="1">
                <a:off x="3733560" y="6095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3920" y="640080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8" name=""/>
          <p:cNvGrpSpPr/>
          <p:nvPr/>
        </p:nvGrpSpPr>
        <p:grpSpPr>
          <a:xfrm>
            <a:off x="692280" y="5432400"/>
            <a:ext cx="4176720" cy="620640"/>
            <a:chOff x="692280" y="5432400"/>
            <a:chExt cx="4176720" cy="620640"/>
          </a:xfrm>
        </p:grpSpPr>
        <p:grpSp>
          <p:nvGrpSpPr>
            <p:cNvPr id="1589" name=""/>
            <p:cNvGrpSpPr/>
            <p:nvPr/>
          </p:nvGrpSpPr>
          <p:grpSpPr>
            <a:xfrm>
              <a:off x="3885840" y="5562720"/>
              <a:ext cx="533880" cy="304560"/>
              <a:chOff x="3885840" y="5562720"/>
              <a:chExt cx="533880" cy="304560"/>
            </a:xfrm>
          </p:grpSpPr>
          <p:sp>
            <p:nvSpPr>
              <p:cNvPr id="1590" name=""/>
              <p:cNvSpPr/>
              <p:nvPr/>
            </p:nvSpPr>
            <p:spPr>
              <a:xfrm flipH="1">
                <a:off x="3885840" y="55627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886200" y="58672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2" name=""/>
          <p:cNvGrpSpPr/>
          <p:nvPr/>
        </p:nvGrpSpPr>
        <p:grpSpPr>
          <a:xfrm>
            <a:off x="689040" y="4898880"/>
            <a:ext cx="4105080" cy="621000"/>
            <a:chOff x="689040" y="4898880"/>
            <a:chExt cx="4105080" cy="621000"/>
          </a:xfrm>
        </p:grpSpPr>
        <p:grpSp>
          <p:nvGrpSpPr>
            <p:cNvPr id="1593" name=""/>
            <p:cNvGrpSpPr/>
            <p:nvPr/>
          </p:nvGrpSpPr>
          <p:grpSpPr>
            <a:xfrm>
              <a:off x="3831840" y="5029200"/>
              <a:ext cx="533880" cy="304560"/>
              <a:chOff x="3831840" y="5029200"/>
              <a:chExt cx="533880" cy="304560"/>
            </a:xfrm>
          </p:grpSpPr>
          <p:sp>
            <p:nvSpPr>
              <p:cNvPr id="1594" name=""/>
              <p:cNvSpPr/>
              <p:nvPr/>
            </p:nvSpPr>
            <p:spPr>
              <a:xfrm flipH="1">
                <a:off x="3831840" y="502920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832200" y="533376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304920" y="3917160"/>
            <a:ext cx="8610480" cy="1970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对称三相负载做星形联结且无中性线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三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负载的相电压不对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照明负载三相不对称，必须采用三相四线制供电方式，且中性线上不允许接刀闸和熔断器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6781680" y="228600"/>
            <a:ext cx="1752480" cy="1447560"/>
            <a:chOff x="6781680" y="228600"/>
            <a:chExt cx="1752480" cy="1447560"/>
          </a:xfrm>
        </p:grpSpPr>
        <p:sp>
          <p:nvSpPr>
            <p:cNvPr id="1598" name=""/>
            <p:cNvSpPr/>
            <p:nvPr/>
          </p:nvSpPr>
          <p:spPr>
            <a:xfrm>
              <a:off x="7737480" y="871920"/>
              <a:ext cx="796680" cy="804240"/>
            </a:xfrm>
            <a:custGeom>
              <a:avLst/>
              <a:gdLst>
                <a:gd name="textAreaLeft" fmla="*/ 328320 w 796680"/>
                <a:gd name="textAreaRight" fmla="*/ 468360 w 796680"/>
                <a:gd name="textAreaTop" fmla="*/ 331200 h 804240"/>
                <a:gd name="textAreaBottom" fmla="*/ 473040 h 80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781680" y="228600"/>
              <a:ext cx="955800" cy="1125720"/>
            </a:xfrm>
            <a:custGeom>
              <a:avLst/>
              <a:gdLst>
                <a:gd name="textAreaLeft" fmla="*/ 393840 w 955800"/>
                <a:gd name="textAreaRight" fmla="*/ 561960 w 955800"/>
                <a:gd name="textAreaTop" fmla="*/ 463680 h 1125720"/>
                <a:gd name="textAreaBottom" fmla="*/ 662040 h 11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776160" y="380880"/>
            <a:ext cx="5343480" cy="1157040"/>
            <a:chOff x="776160" y="380880"/>
            <a:chExt cx="5343480" cy="1157040"/>
          </a:xfrm>
        </p:grpSpPr>
        <p:grpSp>
          <p:nvGrpSpPr>
            <p:cNvPr id="1601" name=""/>
            <p:cNvGrpSpPr/>
            <p:nvPr/>
          </p:nvGrpSpPr>
          <p:grpSpPr>
            <a:xfrm>
              <a:off x="3124080" y="533160"/>
              <a:ext cx="685800" cy="304920"/>
              <a:chOff x="3124080" y="533160"/>
              <a:chExt cx="685800" cy="304920"/>
            </a:xfrm>
          </p:grpSpPr>
          <p:sp>
            <p:nvSpPr>
              <p:cNvPr id="1602" name=""/>
              <p:cNvSpPr/>
              <p:nvPr/>
            </p:nvSpPr>
            <p:spPr>
              <a:xfrm flipH="1">
                <a:off x="3124080" y="53316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124080" y="83808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5257440" y="761760"/>
              <a:ext cx="533880" cy="304560"/>
              <a:chOff x="5257440" y="761760"/>
              <a:chExt cx="533880" cy="304560"/>
            </a:xfrm>
          </p:grpSpPr>
          <p:sp>
            <p:nvSpPr>
              <p:cNvPr id="1605" name=""/>
              <p:cNvSpPr/>
              <p:nvPr/>
            </p:nvSpPr>
            <p:spPr>
              <a:xfrm flipH="1">
                <a:off x="5257440" y="76176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257800" y="106632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7" name=""/>
          <p:cNvGrpSpPr/>
          <p:nvPr/>
        </p:nvGrpSpPr>
        <p:grpSpPr>
          <a:xfrm>
            <a:off x="723960" y="1447920"/>
            <a:ext cx="7124760" cy="1191960"/>
            <a:chOff x="723960" y="1447920"/>
            <a:chExt cx="7124760" cy="1191960"/>
          </a:xfrm>
        </p:grpSpPr>
        <p:grpSp>
          <p:nvGrpSpPr>
            <p:cNvPr id="1608" name=""/>
            <p:cNvGrpSpPr/>
            <p:nvPr/>
          </p:nvGrpSpPr>
          <p:grpSpPr>
            <a:xfrm>
              <a:off x="3428640" y="1636560"/>
              <a:ext cx="1143360" cy="304920"/>
              <a:chOff x="3428640" y="1636560"/>
              <a:chExt cx="1143360" cy="304920"/>
            </a:xfrm>
          </p:grpSpPr>
          <p:sp>
            <p:nvSpPr>
              <p:cNvPr id="1609" name=""/>
              <p:cNvSpPr/>
              <p:nvPr/>
            </p:nvSpPr>
            <p:spPr>
              <a:xfrm flipH="1">
                <a:off x="3428640" y="163656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429000" y="1941480"/>
                <a:ext cx="114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6324120" y="1866960"/>
              <a:ext cx="1143360" cy="304920"/>
              <a:chOff x="6324120" y="1866960"/>
              <a:chExt cx="1143360" cy="304920"/>
            </a:xfrm>
          </p:grpSpPr>
          <p:sp>
            <p:nvSpPr>
              <p:cNvPr id="1612" name=""/>
              <p:cNvSpPr/>
              <p:nvPr/>
            </p:nvSpPr>
            <p:spPr>
              <a:xfrm flipH="1">
                <a:off x="6324120" y="186696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24480" y="2171880"/>
                <a:ext cx="114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4" name=""/>
          <p:cNvGrpSpPr/>
          <p:nvPr/>
        </p:nvGrpSpPr>
        <p:grpSpPr>
          <a:xfrm>
            <a:off x="762120" y="2529000"/>
            <a:ext cx="6153120" cy="1211040"/>
            <a:chOff x="762120" y="2529000"/>
            <a:chExt cx="6153120" cy="1211040"/>
          </a:xfrm>
        </p:grpSpPr>
        <p:grpSp>
          <p:nvGrpSpPr>
            <p:cNvPr id="1615" name=""/>
            <p:cNvGrpSpPr/>
            <p:nvPr/>
          </p:nvGrpSpPr>
          <p:grpSpPr>
            <a:xfrm>
              <a:off x="3200040" y="2705040"/>
              <a:ext cx="914760" cy="304920"/>
              <a:chOff x="3200040" y="2705040"/>
              <a:chExt cx="914760" cy="304920"/>
            </a:xfrm>
          </p:grpSpPr>
          <p:sp>
            <p:nvSpPr>
              <p:cNvPr id="1616" name=""/>
              <p:cNvSpPr/>
              <p:nvPr/>
            </p:nvSpPr>
            <p:spPr>
              <a:xfrm flipH="1">
                <a:off x="3200040" y="270504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200400" y="30099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601960" y="2971800"/>
              <a:ext cx="914760" cy="304920"/>
              <a:chOff x="5601960" y="2971800"/>
              <a:chExt cx="914760" cy="304920"/>
            </a:xfrm>
          </p:grpSpPr>
          <p:sp>
            <p:nvSpPr>
              <p:cNvPr id="1619" name=""/>
              <p:cNvSpPr/>
              <p:nvPr/>
            </p:nvSpPr>
            <p:spPr>
              <a:xfrm flipH="1">
                <a:off x="5601960" y="297180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602320" y="32767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786600" y="13460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联结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4.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负载三角形联结的三相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3" name=""/>
          <p:cNvGrpSpPr/>
          <p:nvPr/>
        </p:nvGrpSpPr>
        <p:grpSpPr>
          <a:xfrm>
            <a:off x="1321920" y="5684760"/>
            <a:ext cx="5140800" cy="563760"/>
            <a:chOff x="1321920" y="5684760"/>
            <a:chExt cx="5140800" cy="563760"/>
          </a:xfrm>
        </p:grpSpPr>
        <p:sp>
          <p:nvSpPr>
            <p:cNvPr id="1624" name=""/>
            <p:cNvSpPr/>
            <p:nvPr/>
          </p:nvSpPr>
          <p:spPr>
            <a:xfrm>
              <a:off x="1321920" y="5684760"/>
              <a:ext cx="278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线电流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流过端线的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85800" y="5151600"/>
            <a:ext cx="7924680" cy="625320"/>
            <a:chOff x="685800" y="5151600"/>
            <a:chExt cx="7924680" cy="625320"/>
          </a:xfrm>
        </p:grpSpPr>
        <p:sp>
          <p:nvSpPr>
            <p:cNvPr id="1626" name=""/>
            <p:cNvSpPr/>
            <p:nvPr/>
          </p:nvSpPr>
          <p:spPr>
            <a:xfrm>
              <a:off x="685800" y="518148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相电流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流过每相负载的电流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、    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466560" y="1133640"/>
            <a:ext cx="8067600" cy="161640"/>
            <a:chOff x="466560" y="1133640"/>
            <a:chExt cx="8067600" cy="161640"/>
          </a:xfrm>
        </p:grpSpPr>
        <p:pic>
          <p:nvPicPr>
            <p:cNvPr id="1628" name="" descr=""/>
            <p:cNvPicPr/>
            <p:nvPr/>
          </p:nvPicPr>
          <p:blipFill>
            <a:blip r:embed="rId2"/>
            <a:stretch/>
          </p:blipFill>
          <p:spPr>
            <a:xfrm>
              <a:off x="4665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3"/>
            <a:stretch/>
          </p:blipFill>
          <p:spPr>
            <a:xfrm>
              <a:off x="6094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4"/>
            <a:stretch/>
          </p:blipFill>
          <p:spPr>
            <a:xfrm>
              <a:off x="7711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" descr=""/>
            <p:cNvPicPr/>
            <p:nvPr/>
          </p:nvPicPr>
          <p:blipFill>
            <a:blip r:embed="rId5"/>
            <a:stretch/>
          </p:blipFill>
          <p:spPr>
            <a:xfrm>
              <a:off x="10666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" descr=""/>
            <p:cNvPicPr/>
            <p:nvPr/>
          </p:nvPicPr>
          <p:blipFill>
            <a:blip r:embed="rId6"/>
            <a:stretch/>
          </p:blipFill>
          <p:spPr>
            <a:xfrm>
              <a:off x="12283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7"/>
            <a:stretch/>
          </p:blipFill>
          <p:spPr>
            <a:xfrm>
              <a:off x="13809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8"/>
            <a:stretch/>
          </p:blipFill>
          <p:spPr>
            <a:xfrm>
              <a:off x="15238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9"/>
            <a:stretch/>
          </p:blipFill>
          <p:spPr>
            <a:xfrm>
              <a:off x="16855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10"/>
            <a:stretch/>
          </p:blipFill>
          <p:spPr>
            <a:xfrm>
              <a:off x="19810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11"/>
            <a:stretch/>
          </p:blipFill>
          <p:spPr>
            <a:xfrm>
              <a:off x="21427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12"/>
            <a:stretch/>
          </p:blipFill>
          <p:spPr>
            <a:xfrm>
              <a:off x="22953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13"/>
            <a:stretch/>
          </p:blipFill>
          <p:spPr>
            <a:xfrm>
              <a:off x="24382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14"/>
            <a:stretch/>
          </p:blipFill>
          <p:spPr>
            <a:xfrm>
              <a:off x="9237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15"/>
            <a:stretch/>
          </p:blipFill>
          <p:spPr>
            <a:xfrm>
              <a:off x="18381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16"/>
            <a:stretch/>
          </p:blipFill>
          <p:spPr>
            <a:xfrm>
              <a:off x="25999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17"/>
            <a:stretch/>
          </p:blipFill>
          <p:spPr>
            <a:xfrm>
              <a:off x="27525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" descr=""/>
            <p:cNvPicPr/>
            <p:nvPr/>
          </p:nvPicPr>
          <p:blipFill>
            <a:blip r:embed="rId18"/>
            <a:stretch/>
          </p:blipFill>
          <p:spPr>
            <a:xfrm>
              <a:off x="28954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19"/>
            <a:stretch/>
          </p:blipFill>
          <p:spPr>
            <a:xfrm>
              <a:off x="30571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20"/>
            <a:stretch/>
          </p:blipFill>
          <p:spPr>
            <a:xfrm>
              <a:off x="32097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21"/>
            <a:stretch/>
          </p:blipFill>
          <p:spPr>
            <a:xfrm>
              <a:off x="33526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22"/>
            <a:stretch/>
          </p:blipFill>
          <p:spPr>
            <a:xfrm>
              <a:off x="35143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23"/>
            <a:stretch/>
          </p:blipFill>
          <p:spPr>
            <a:xfrm>
              <a:off x="38098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24"/>
            <a:stretch/>
          </p:blipFill>
          <p:spPr>
            <a:xfrm>
              <a:off x="39715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25"/>
            <a:stretch/>
          </p:blipFill>
          <p:spPr>
            <a:xfrm>
              <a:off x="41241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26"/>
            <a:stretch/>
          </p:blipFill>
          <p:spPr>
            <a:xfrm>
              <a:off x="42670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27"/>
            <a:stretch/>
          </p:blipFill>
          <p:spPr>
            <a:xfrm>
              <a:off x="44287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28"/>
            <a:stretch/>
          </p:blipFill>
          <p:spPr>
            <a:xfrm>
              <a:off x="47242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29"/>
            <a:stretch/>
          </p:blipFill>
          <p:spPr>
            <a:xfrm>
              <a:off x="48859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30"/>
            <a:stretch/>
          </p:blipFill>
          <p:spPr>
            <a:xfrm>
              <a:off x="50385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31"/>
            <a:stretch/>
          </p:blipFill>
          <p:spPr>
            <a:xfrm>
              <a:off x="51814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" descr=""/>
            <p:cNvPicPr/>
            <p:nvPr/>
          </p:nvPicPr>
          <p:blipFill>
            <a:blip r:embed="rId32"/>
            <a:stretch/>
          </p:blipFill>
          <p:spPr>
            <a:xfrm>
              <a:off x="36669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33"/>
            <a:stretch/>
          </p:blipFill>
          <p:spPr>
            <a:xfrm>
              <a:off x="45813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34"/>
            <a:stretch/>
          </p:blipFill>
          <p:spPr>
            <a:xfrm>
              <a:off x="53431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1" name=""/>
            <p:cNvGrpSpPr/>
            <p:nvPr/>
          </p:nvGrpSpPr>
          <p:grpSpPr>
            <a:xfrm>
              <a:off x="5495760" y="1133640"/>
              <a:ext cx="1838160" cy="161640"/>
              <a:chOff x="5495760" y="1133640"/>
              <a:chExt cx="1838160" cy="161640"/>
            </a:xfrm>
          </p:grpSpPr>
          <p:pic>
            <p:nvPicPr>
              <p:cNvPr id="166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957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386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8006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5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9529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6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0958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2578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8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530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9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7150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0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8673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0102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1722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3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4101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74" name="" descr=""/>
            <p:cNvPicPr/>
            <p:nvPr/>
          </p:nvPicPr>
          <p:blipFill>
            <a:blip r:embed="rId47"/>
            <a:stretch/>
          </p:blipFill>
          <p:spPr>
            <a:xfrm>
              <a:off x="731484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" descr=""/>
            <p:cNvPicPr/>
            <p:nvPr/>
          </p:nvPicPr>
          <p:blipFill>
            <a:blip r:embed="rId48"/>
            <a:stretch/>
          </p:blipFill>
          <p:spPr>
            <a:xfrm>
              <a:off x="7457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6" name="" descr=""/>
            <p:cNvPicPr/>
            <p:nvPr/>
          </p:nvPicPr>
          <p:blipFill>
            <a:blip r:embed="rId49"/>
            <a:stretch/>
          </p:blipFill>
          <p:spPr>
            <a:xfrm>
              <a:off x="7619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7" name="" descr=""/>
            <p:cNvPicPr/>
            <p:nvPr/>
          </p:nvPicPr>
          <p:blipFill>
            <a:blip r:embed="rId50"/>
            <a:stretch/>
          </p:blipFill>
          <p:spPr>
            <a:xfrm>
              <a:off x="777204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" descr=""/>
            <p:cNvPicPr/>
            <p:nvPr/>
          </p:nvPicPr>
          <p:blipFill>
            <a:blip r:embed="rId51"/>
            <a:stretch/>
          </p:blipFill>
          <p:spPr>
            <a:xfrm>
              <a:off x="7914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52"/>
            <a:stretch/>
          </p:blipFill>
          <p:spPr>
            <a:xfrm>
              <a:off x="8076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" descr=""/>
            <p:cNvPicPr/>
            <p:nvPr/>
          </p:nvPicPr>
          <p:blipFill>
            <a:blip r:embed="rId53"/>
            <a:stretch/>
          </p:blipFill>
          <p:spPr>
            <a:xfrm>
              <a:off x="83721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1" name="" descr=""/>
            <p:cNvPicPr/>
            <p:nvPr/>
          </p:nvPicPr>
          <p:blipFill>
            <a:blip r:embed="rId54"/>
            <a:stretch/>
          </p:blipFill>
          <p:spPr>
            <a:xfrm>
              <a:off x="822924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2" name=""/>
          <p:cNvGrpSpPr/>
          <p:nvPr/>
        </p:nvGrpSpPr>
        <p:grpSpPr>
          <a:xfrm>
            <a:off x="3364560" y="1374840"/>
            <a:ext cx="5088960" cy="3747960"/>
            <a:chOff x="3364560" y="1374840"/>
            <a:chExt cx="5088960" cy="3747960"/>
          </a:xfrm>
        </p:grpSpPr>
        <p:sp>
          <p:nvSpPr>
            <p:cNvPr id="1683" name=""/>
            <p:cNvSpPr/>
            <p:nvPr/>
          </p:nvSpPr>
          <p:spPr>
            <a:xfrm rot="5400000">
              <a:off x="7121160" y="3217680"/>
              <a:ext cx="187200" cy="384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6230880" y="3408480"/>
              <a:ext cx="7905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407360" y="3411360"/>
              <a:ext cx="77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8767800">
              <a:off x="7584840" y="2461680"/>
              <a:ext cx="193680" cy="374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flipV="1">
              <a:off x="7177680" y="1879560"/>
              <a:ext cx="401760" cy="62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773840" y="2769120"/>
              <a:ext cx="379080" cy="61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rot="12759600">
              <a:off x="6627240" y="2461320"/>
              <a:ext cx="191880" cy="375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6821280" y="1880640"/>
              <a:ext cx="357840" cy="60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6212520" y="2805120"/>
              <a:ext cx="400320" cy="62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5840" y="2659680"/>
              <a:ext cx="766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05720" y="280440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875640" y="222804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6373800" y="2120400"/>
              <a:ext cx="455760" cy="668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647120" y="2189160"/>
              <a:ext cx="515880" cy="750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6722640" y="3595680"/>
              <a:ext cx="816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3838320" y="19303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199360" y="3397320"/>
              <a:ext cx="0" cy="51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219720" y="3421080"/>
              <a:ext cx="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95960" y="3735360"/>
              <a:ext cx="227160" cy="28260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0" y="0"/>
                  </a:moveTo>
                  <a:cubicBezTo>
                    <a:pt x="28" y="7"/>
                    <a:pt x="39" y="15"/>
                    <a:pt x="60" y="36"/>
                  </a:cubicBezTo>
                  <a:cubicBezTo>
                    <a:pt x="69" y="70"/>
                    <a:pt x="84" y="108"/>
                    <a:pt x="54" y="138"/>
                  </a:cubicBezTo>
                  <a:cubicBezTo>
                    <a:pt x="40" y="152"/>
                    <a:pt x="0" y="162"/>
                    <a:pt x="0" y="16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843000" y="3876840"/>
              <a:ext cx="436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176880" y="4013280"/>
              <a:ext cx="0" cy="9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898880" y="1828800"/>
              <a:ext cx="76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98880" y="3749760"/>
              <a:ext cx="76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46760" y="4784760"/>
              <a:ext cx="768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772080" y="1862280"/>
              <a:ext cx="93600" cy="9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3746520" y="4879800"/>
              <a:ext cx="2456280" cy="91800"/>
              <a:chOff x="3746520" y="4879800"/>
              <a:chExt cx="2456280" cy="91800"/>
            </a:xfrm>
          </p:grpSpPr>
          <p:sp>
            <p:nvSpPr>
              <p:cNvPr id="1709" name=""/>
              <p:cNvSpPr/>
              <p:nvPr/>
            </p:nvSpPr>
            <p:spPr>
              <a:xfrm flipH="1">
                <a:off x="3817800" y="4937400"/>
                <a:ext cx="2385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746520" y="4879800"/>
                <a:ext cx="95040" cy="91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1" name=""/>
            <p:cNvSpPr/>
            <p:nvPr/>
          </p:nvSpPr>
          <p:spPr>
            <a:xfrm>
              <a:off x="3772080" y="3819600"/>
              <a:ext cx="93600" cy="92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388320" y="1630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64560" y="466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380760" y="360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559680" y="1933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243680" y="4395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3492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615480" y="323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655440" y="449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215600" y="188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4836960" y="5500800"/>
            <a:ext cx="35053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电流不等于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57200" y="3824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961920" y="709560"/>
            <a:ext cx="33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相电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源线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371600" y="1243080"/>
            <a:ext cx="2133720" cy="579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zh-CN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80880" y="1776240"/>
            <a:ext cx="4114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一般电源线电压对称，因此不论负载是否对称，负载相电压始终对称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31560" y="152280"/>
            <a:ext cx="30970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分析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4515480" y="685800"/>
            <a:ext cx="4385520" cy="3681360"/>
            <a:chOff x="4515480" y="685800"/>
            <a:chExt cx="4385520" cy="3681360"/>
          </a:xfrm>
        </p:grpSpPr>
        <p:sp>
          <p:nvSpPr>
            <p:cNvPr id="1728" name=""/>
            <p:cNvSpPr/>
            <p:nvPr/>
          </p:nvSpPr>
          <p:spPr>
            <a:xfrm rot="5400000">
              <a:off x="7777440" y="2540880"/>
              <a:ext cx="179280" cy="355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6955920" y="2716200"/>
              <a:ext cx="7318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045280" y="271944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rot="8767800">
              <a:off x="8210160" y="1812600"/>
              <a:ext cx="179280" cy="357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 flipV="1">
              <a:off x="7827120" y="1256040"/>
              <a:ext cx="384120" cy="59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380440" y="2106360"/>
              <a:ext cx="361440" cy="58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 rot="12759600">
              <a:off x="7322760" y="1812600"/>
              <a:ext cx="177840" cy="357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7496640" y="1258560"/>
              <a:ext cx="343080" cy="57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6932160" y="2140560"/>
              <a:ext cx="38268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875720" y="1977120"/>
              <a:ext cx="81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77120" y="2129400"/>
              <a:ext cx="100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467480" y="159624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7089840" y="1545840"/>
              <a:ext cx="380880" cy="577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305920" y="1660680"/>
              <a:ext cx="380880" cy="571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7412040" y="2895480"/>
              <a:ext cx="66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4971960" y="1305000"/>
              <a:ext cx="287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780400" y="2706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945480" y="272880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23160" y="3030480"/>
              <a:ext cx="210960" cy="26820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0" y="0"/>
                  </a:moveTo>
                  <a:cubicBezTo>
                    <a:pt x="28" y="7"/>
                    <a:pt x="39" y="15"/>
                    <a:pt x="60" y="36"/>
                  </a:cubicBezTo>
                  <a:cubicBezTo>
                    <a:pt x="69" y="70"/>
                    <a:pt x="84" y="108"/>
                    <a:pt x="54" y="138"/>
                  </a:cubicBezTo>
                  <a:cubicBezTo>
                    <a:pt x="40" y="152"/>
                    <a:pt x="0" y="162"/>
                    <a:pt x="0" y="16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4971960" y="3164040"/>
              <a:ext cx="381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905520" y="3294000"/>
              <a:ext cx="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039000" y="116532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39000" y="298620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039000" y="403236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84840" y="1239840"/>
              <a:ext cx="87120" cy="87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4971960" y="4178160"/>
              <a:ext cx="196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83040" y="4122720"/>
              <a:ext cx="88920" cy="87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98880" y="3110040"/>
              <a:ext cx="87480" cy="8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15480" y="1008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16920" y="390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23040" y="2897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10320" y="1257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443920" y="3608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880160" y="3049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62520" y="2495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97440" y="3706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418000" y="121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4753080" y="4267080"/>
            <a:ext cx="3979800" cy="625680"/>
            <a:chOff x="4753080" y="4267080"/>
            <a:chExt cx="3979800" cy="625680"/>
          </a:xfrm>
        </p:grpSpPr>
        <p:sp>
          <p:nvSpPr>
            <p:cNvPr id="1766" name=""/>
            <p:cNvSpPr/>
            <p:nvPr/>
          </p:nvSpPr>
          <p:spPr>
            <a:xfrm>
              <a:off x="4753080" y="4344120"/>
              <a:ext cx="196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相电流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4753080" y="4818240"/>
            <a:ext cx="3400200" cy="600480"/>
            <a:chOff x="4753080" y="4818240"/>
            <a:chExt cx="3400200" cy="600480"/>
          </a:xfrm>
        </p:grpSpPr>
        <p:sp>
          <p:nvSpPr>
            <p:cNvPr id="1768" name=""/>
            <p:cNvSpPr/>
            <p:nvPr/>
          </p:nvSpPr>
          <p:spPr>
            <a:xfrm>
              <a:off x="4753080" y="4898160"/>
              <a:ext cx="22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线电流：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609480" y="317484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C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6207120" y="35805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5384880" y="409680"/>
            <a:ext cx="3015720" cy="2686680"/>
            <a:chOff x="5384880" y="409680"/>
            <a:chExt cx="3015720" cy="2686680"/>
          </a:xfrm>
        </p:grpSpPr>
        <p:sp>
          <p:nvSpPr>
            <p:cNvPr id="1772" name=""/>
            <p:cNvSpPr/>
            <p:nvPr/>
          </p:nvSpPr>
          <p:spPr>
            <a:xfrm>
              <a:off x="6837480" y="2028960"/>
              <a:ext cx="10476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960160" y="2032920"/>
              <a:ext cx="877320" cy="67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 flipV="1">
              <a:off x="6669000" y="937440"/>
              <a:ext cx="164880" cy="10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511960" y="27280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902720" y="2347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72720" y="59472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5564160" y="534960"/>
            <a:ext cx="3210120" cy="3075120"/>
            <a:chOff x="5564160" y="534960"/>
            <a:chExt cx="3210120" cy="3075120"/>
          </a:xfrm>
        </p:grpSpPr>
        <p:sp>
          <p:nvSpPr>
            <p:cNvPr id="1779" name=""/>
            <p:cNvSpPr/>
            <p:nvPr/>
          </p:nvSpPr>
          <p:spPr>
            <a:xfrm>
              <a:off x="6867360" y="2041560"/>
              <a:ext cx="15098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6132240" y="2055600"/>
              <a:ext cx="716400" cy="13291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 flipV="1">
              <a:off x="6097680" y="709920"/>
              <a:ext cx="761760" cy="13197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6321600" y="3048120"/>
              <a:ext cx="613080" cy="561960"/>
              <a:chOff x="6321600" y="3048120"/>
              <a:chExt cx="613080" cy="561960"/>
            </a:xfrm>
          </p:grpSpPr>
          <p:sp>
            <p:nvSpPr>
              <p:cNvPr id="1783" name=""/>
              <p:cNvSpPr/>
              <p:nvPr/>
            </p:nvSpPr>
            <p:spPr>
              <a:xfrm>
                <a:off x="6472080" y="327276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</a:rPr>
                  <a:t>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8229600" y="2011320"/>
              <a:ext cx="544680" cy="579600"/>
              <a:chOff x="8229600" y="2011320"/>
              <a:chExt cx="544680" cy="579600"/>
            </a:xfrm>
          </p:grpSpPr>
          <p:sp>
            <p:nvSpPr>
              <p:cNvPr id="1785" name=""/>
              <p:cNvSpPr/>
              <p:nvPr/>
            </p:nvSpPr>
            <p:spPr>
              <a:xfrm>
                <a:off x="8311680" y="225360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</a:rPr>
                  <a:t>A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5564160" y="534960"/>
              <a:ext cx="608400" cy="610200"/>
              <a:chOff x="5564160" y="534960"/>
              <a:chExt cx="608400" cy="610200"/>
            </a:xfrm>
          </p:grpSpPr>
          <p:sp>
            <p:nvSpPr>
              <p:cNvPr id="1787" name=""/>
              <p:cNvSpPr/>
              <p:nvPr/>
            </p:nvSpPr>
            <p:spPr>
              <a:xfrm>
                <a:off x="5699160" y="80784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</a:rPr>
                  <a:t>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8" name=""/>
          <p:cNvGrpSpPr/>
          <p:nvPr/>
        </p:nvGrpSpPr>
        <p:grpSpPr>
          <a:xfrm>
            <a:off x="6989040" y="2012400"/>
            <a:ext cx="872640" cy="853920"/>
            <a:chOff x="6989040" y="2012400"/>
            <a:chExt cx="872640" cy="853920"/>
          </a:xfrm>
        </p:grpSpPr>
        <p:sp>
          <p:nvSpPr>
            <p:cNvPr id="1789" name=""/>
            <p:cNvSpPr/>
            <p:nvPr/>
          </p:nvSpPr>
          <p:spPr>
            <a:xfrm flipH="1">
              <a:off x="7426440" y="2362320"/>
              <a:ext cx="380880" cy="380880"/>
            </a:xfrm>
            <a:prstGeom prst="line">
              <a:avLst/>
            </a:prstGeom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2550600">
              <a:off x="7044120" y="220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228600" y="2419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对称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电流对称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6827040" y="2000880"/>
            <a:ext cx="1266120" cy="1932840"/>
            <a:chOff x="6827040" y="2000880"/>
            <a:chExt cx="1266120" cy="1932840"/>
          </a:xfrm>
        </p:grpSpPr>
        <p:sp>
          <p:nvSpPr>
            <p:cNvPr id="1793" name=""/>
            <p:cNvSpPr/>
            <p:nvPr/>
          </p:nvSpPr>
          <p:spPr>
            <a:xfrm>
              <a:off x="6827040" y="2000880"/>
              <a:ext cx="1245960" cy="154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7807320" y="2362320"/>
            <a:ext cx="1074600" cy="1446120"/>
            <a:chOff x="7807320" y="2362320"/>
            <a:chExt cx="1074600" cy="1446120"/>
          </a:xfrm>
        </p:grpSpPr>
        <p:sp>
          <p:nvSpPr>
            <p:cNvPr id="1795" name=""/>
            <p:cNvSpPr/>
            <p:nvPr/>
          </p:nvSpPr>
          <p:spPr>
            <a:xfrm>
              <a:off x="7807320" y="2362320"/>
              <a:ext cx="295200" cy="11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 flipH="1" flipV="1">
            <a:off x="4906080" y="2310480"/>
            <a:ext cx="1220040" cy="33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6705720" y="181440"/>
            <a:ext cx="880560" cy="78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4410000" y="1981080"/>
            <a:ext cx="2482560" cy="596520"/>
            <a:chOff x="4410000" y="1981080"/>
            <a:chExt cx="2482560" cy="596520"/>
          </a:xfrm>
        </p:grpSpPr>
        <p:sp>
          <p:nvSpPr>
            <p:cNvPr id="1799" name=""/>
            <p:cNvSpPr/>
            <p:nvPr/>
          </p:nvSpPr>
          <p:spPr>
            <a:xfrm flipH="1">
              <a:off x="4845600" y="2022840"/>
              <a:ext cx="2046960" cy="265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410000" y="1981080"/>
              <a:ext cx="464760" cy="596520"/>
              <a:chOff x="4410000" y="1981080"/>
              <a:chExt cx="464760" cy="596520"/>
            </a:xfrm>
          </p:grpSpPr>
          <p:sp>
            <p:nvSpPr>
              <p:cNvPr id="1801" name=""/>
              <p:cNvSpPr/>
              <p:nvPr/>
            </p:nvSpPr>
            <p:spPr>
              <a:xfrm>
                <a:off x="4524840" y="21787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2" name=""/>
          <p:cNvGrpSpPr/>
          <p:nvPr/>
        </p:nvGrpSpPr>
        <p:grpSpPr>
          <a:xfrm>
            <a:off x="6859440" y="76320"/>
            <a:ext cx="1158840" cy="1955160"/>
            <a:chOff x="6859440" y="76320"/>
            <a:chExt cx="1158840" cy="1955160"/>
          </a:xfrm>
        </p:grpSpPr>
        <p:sp>
          <p:nvSpPr>
            <p:cNvPr id="1803" name=""/>
            <p:cNvSpPr/>
            <p:nvPr/>
          </p:nvSpPr>
          <p:spPr>
            <a:xfrm flipV="1">
              <a:off x="6859440" y="164880"/>
              <a:ext cx="723960" cy="186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4" name=""/>
            <p:cNvGrpSpPr/>
            <p:nvPr/>
          </p:nvGrpSpPr>
          <p:grpSpPr>
            <a:xfrm>
              <a:off x="7543800" y="76320"/>
              <a:ext cx="474480" cy="595800"/>
              <a:chOff x="7543800" y="76320"/>
              <a:chExt cx="474480" cy="595800"/>
            </a:xfrm>
          </p:grpSpPr>
          <p:sp>
            <p:nvSpPr>
              <p:cNvPr id="1805" name=""/>
              <p:cNvSpPr/>
              <p:nvPr/>
            </p:nvSpPr>
            <p:spPr>
              <a:xfrm>
                <a:off x="7653240" y="27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6" name=""/>
          <p:cNvSpPr/>
          <p:nvPr/>
        </p:nvSpPr>
        <p:spPr>
          <a:xfrm>
            <a:off x="547920" y="30492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62280" y="4643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相量图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2170800" y="4248000"/>
            <a:ext cx="4382280" cy="606600"/>
            <a:chOff x="2170800" y="4248000"/>
            <a:chExt cx="4382280" cy="606600"/>
          </a:xfrm>
        </p:grpSpPr>
        <p:sp>
          <p:nvSpPr>
            <p:cNvPr id="1809" name=""/>
            <p:cNvSpPr/>
            <p:nvPr/>
          </p:nvSpPr>
          <p:spPr>
            <a:xfrm>
              <a:off x="2170800" y="4248000"/>
              <a:ext cx="32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为此线电流也对称，即                            。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384200" y="55436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电流比相应的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滞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相负载的联接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128960" y="34290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的额定电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的线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4595400" y="3800160"/>
            <a:ext cx="2446920" cy="911520"/>
            <a:chOff x="4595400" y="3800160"/>
            <a:chExt cx="2446920" cy="911520"/>
          </a:xfrm>
        </p:grpSpPr>
        <p:sp>
          <p:nvSpPr>
            <p:cNvPr id="1814" name=""/>
            <p:cNvSpPr/>
            <p:nvPr/>
          </p:nvSpPr>
          <p:spPr>
            <a:xfrm rot="1401000">
              <a:off x="4648320" y="3962520"/>
              <a:ext cx="914400" cy="45720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97360" y="4191120"/>
              <a:ext cx="134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应作</a:t>
              </a: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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联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1083960" y="4419720"/>
            <a:ext cx="3826080" cy="1066680"/>
            <a:chOff x="1083960" y="4419720"/>
            <a:chExt cx="3826080" cy="1066680"/>
          </a:xfrm>
        </p:grpSpPr>
        <p:sp>
          <p:nvSpPr>
            <p:cNvPr id="1817" name=""/>
            <p:cNvSpPr/>
            <p:nvPr/>
          </p:nvSpPr>
          <p:spPr>
            <a:xfrm>
              <a:off x="1083960" y="4667400"/>
              <a:ext cx="382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负载的额定电压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源线电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4595040" y="5109840"/>
            <a:ext cx="2679120" cy="781920"/>
            <a:chOff x="4595040" y="5109840"/>
            <a:chExt cx="2679120" cy="781920"/>
          </a:xfrm>
        </p:grpSpPr>
        <p:sp>
          <p:nvSpPr>
            <p:cNvPr id="1819" name=""/>
            <p:cNvSpPr/>
            <p:nvPr/>
          </p:nvSpPr>
          <p:spPr>
            <a:xfrm rot="1401000">
              <a:off x="4647960" y="5272200"/>
              <a:ext cx="914400" cy="45684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114120 h 456840"/>
                <a:gd name="textAreaBottom" fmla="*/ 3427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631840" y="5348160"/>
              <a:ext cx="164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应作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Y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联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3733920" y="5857920"/>
            <a:ext cx="4876200" cy="161640"/>
            <a:chOff x="3733920" y="5857920"/>
            <a:chExt cx="4876200" cy="161640"/>
          </a:xfrm>
        </p:grpSpPr>
        <p:pic>
          <p:nvPicPr>
            <p:cNvPr id="1822" name="" descr=""/>
            <p:cNvPicPr/>
            <p:nvPr/>
          </p:nvPicPr>
          <p:blipFill>
            <a:blip r:embed="rId2"/>
            <a:stretch/>
          </p:blipFill>
          <p:spPr>
            <a:xfrm>
              <a:off x="373392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3"/>
            <a:stretch/>
          </p:blipFill>
          <p:spPr>
            <a:xfrm>
              <a:off x="38764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4"/>
            <a:stretch/>
          </p:blipFill>
          <p:spPr>
            <a:xfrm>
              <a:off x="40384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5"/>
            <a:stretch/>
          </p:blipFill>
          <p:spPr>
            <a:xfrm>
              <a:off x="43336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6"/>
            <a:stretch/>
          </p:blipFill>
          <p:spPr>
            <a:xfrm>
              <a:off x="44956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7"/>
            <a:stretch/>
          </p:blipFill>
          <p:spPr>
            <a:xfrm>
              <a:off x="46479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8"/>
            <a:stretch/>
          </p:blipFill>
          <p:spPr>
            <a:xfrm>
              <a:off x="47908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9"/>
            <a:stretch/>
          </p:blipFill>
          <p:spPr>
            <a:xfrm>
              <a:off x="49528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10"/>
            <a:stretch/>
          </p:blipFill>
          <p:spPr>
            <a:xfrm>
              <a:off x="52480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" descr=""/>
            <p:cNvPicPr/>
            <p:nvPr/>
          </p:nvPicPr>
          <p:blipFill>
            <a:blip r:embed="rId11"/>
            <a:stretch/>
          </p:blipFill>
          <p:spPr>
            <a:xfrm>
              <a:off x="54100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2" name="" descr=""/>
            <p:cNvPicPr/>
            <p:nvPr/>
          </p:nvPicPr>
          <p:blipFill>
            <a:blip r:embed="rId12"/>
            <a:stretch/>
          </p:blipFill>
          <p:spPr>
            <a:xfrm>
              <a:off x="55623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3" name="" descr=""/>
            <p:cNvPicPr/>
            <p:nvPr/>
          </p:nvPicPr>
          <p:blipFill>
            <a:blip r:embed="rId13"/>
            <a:stretch/>
          </p:blipFill>
          <p:spPr>
            <a:xfrm>
              <a:off x="57052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4" name="" descr=""/>
            <p:cNvPicPr/>
            <p:nvPr/>
          </p:nvPicPr>
          <p:blipFill>
            <a:blip r:embed="rId14"/>
            <a:stretch/>
          </p:blipFill>
          <p:spPr>
            <a:xfrm>
              <a:off x="41907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5" name="" descr=""/>
            <p:cNvPicPr/>
            <p:nvPr/>
          </p:nvPicPr>
          <p:blipFill>
            <a:blip r:embed="rId15"/>
            <a:stretch/>
          </p:blipFill>
          <p:spPr>
            <a:xfrm>
              <a:off x="51051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6" name="" descr=""/>
            <p:cNvPicPr/>
            <p:nvPr/>
          </p:nvPicPr>
          <p:blipFill>
            <a:blip r:embed="rId16"/>
            <a:stretch/>
          </p:blipFill>
          <p:spPr>
            <a:xfrm>
              <a:off x="58672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7" name="" descr=""/>
            <p:cNvPicPr/>
            <p:nvPr/>
          </p:nvPicPr>
          <p:blipFill>
            <a:blip r:embed="rId17"/>
            <a:stretch/>
          </p:blipFill>
          <p:spPr>
            <a:xfrm>
              <a:off x="60195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8" name="" descr=""/>
            <p:cNvPicPr/>
            <p:nvPr/>
          </p:nvPicPr>
          <p:blipFill>
            <a:blip r:embed="rId18"/>
            <a:stretch/>
          </p:blipFill>
          <p:spPr>
            <a:xfrm>
              <a:off x="61624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9" name="" descr=""/>
            <p:cNvPicPr/>
            <p:nvPr/>
          </p:nvPicPr>
          <p:blipFill>
            <a:blip r:embed="rId19"/>
            <a:stretch/>
          </p:blipFill>
          <p:spPr>
            <a:xfrm>
              <a:off x="63244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20"/>
            <a:stretch/>
          </p:blipFill>
          <p:spPr>
            <a:xfrm>
              <a:off x="64767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21"/>
            <a:stretch/>
          </p:blipFill>
          <p:spPr>
            <a:xfrm>
              <a:off x="66196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22"/>
            <a:stretch/>
          </p:blipFill>
          <p:spPr>
            <a:xfrm>
              <a:off x="67816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3"/>
            <a:stretch/>
          </p:blipFill>
          <p:spPr>
            <a:xfrm>
              <a:off x="70768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24"/>
            <a:stretch/>
          </p:blipFill>
          <p:spPr>
            <a:xfrm>
              <a:off x="72388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25"/>
            <a:stretch/>
          </p:blipFill>
          <p:spPr>
            <a:xfrm>
              <a:off x="73911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26"/>
            <a:stretch/>
          </p:blipFill>
          <p:spPr>
            <a:xfrm>
              <a:off x="75340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27"/>
            <a:stretch/>
          </p:blipFill>
          <p:spPr>
            <a:xfrm>
              <a:off x="76960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" descr=""/>
            <p:cNvPicPr/>
            <p:nvPr/>
          </p:nvPicPr>
          <p:blipFill>
            <a:blip r:embed="rId28"/>
            <a:stretch/>
          </p:blipFill>
          <p:spPr>
            <a:xfrm>
              <a:off x="79912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29"/>
            <a:stretch/>
          </p:blipFill>
          <p:spPr>
            <a:xfrm>
              <a:off x="8153280" y="58579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30"/>
            <a:stretch/>
          </p:blipFill>
          <p:spPr>
            <a:xfrm>
              <a:off x="83055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" descr=""/>
            <p:cNvPicPr/>
            <p:nvPr/>
          </p:nvPicPr>
          <p:blipFill>
            <a:blip r:embed="rId31"/>
            <a:stretch/>
          </p:blipFill>
          <p:spPr>
            <a:xfrm>
              <a:off x="844848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" descr=""/>
            <p:cNvPicPr/>
            <p:nvPr/>
          </p:nvPicPr>
          <p:blipFill>
            <a:blip r:embed="rId32"/>
            <a:stretch/>
          </p:blipFill>
          <p:spPr>
            <a:xfrm>
              <a:off x="69339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33"/>
            <a:stretch/>
          </p:blipFill>
          <p:spPr>
            <a:xfrm>
              <a:off x="7848360" y="58579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4" name=""/>
          <p:cNvGrpSpPr/>
          <p:nvPr/>
        </p:nvGrpSpPr>
        <p:grpSpPr>
          <a:xfrm>
            <a:off x="304920" y="2209680"/>
            <a:ext cx="4876200" cy="161640"/>
            <a:chOff x="304920" y="2209680"/>
            <a:chExt cx="4876200" cy="161640"/>
          </a:xfrm>
        </p:grpSpPr>
        <p:pic>
          <p:nvPicPr>
            <p:cNvPr id="1855" name="" descr=""/>
            <p:cNvPicPr/>
            <p:nvPr/>
          </p:nvPicPr>
          <p:blipFill>
            <a:blip r:embed="rId34"/>
            <a:stretch/>
          </p:blipFill>
          <p:spPr>
            <a:xfrm>
              <a:off x="30492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35"/>
            <a:stretch/>
          </p:blipFill>
          <p:spPr>
            <a:xfrm>
              <a:off x="4474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36"/>
            <a:stretch/>
          </p:blipFill>
          <p:spPr>
            <a:xfrm>
              <a:off x="6094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37"/>
            <a:stretch/>
          </p:blipFill>
          <p:spPr>
            <a:xfrm>
              <a:off x="9046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38"/>
            <a:stretch/>
          </p:blipFill>
          <p:spPr>
            <a:xfrm>
              <a:off x="10666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39"/>
            <a:stretch/>
          </p:blipFill>
          <p:spPr>
            <a:xfrm>
              <a:off x="12189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1" name="" descr=""/>
            <p:cNvPicPr/>
            <p:nvPr/>
          </p:nvPicPr>
          <p:blipFill>
            <a:blip r:embed="rId40"/>
            <a:stretch/>
          </p:blipFill>
          <p:spPr>
            <a:xfrm>
              <a:off x="13618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2" name="" descr=""/>
            <p:cNvPicPr/>
            <p:nvPr/>
          </p:nvPicPr>
          <p:blipFill>
            <a:blip r:embed="rId41"/>
            <a:stretch/>
          </p:blipFill>
          <p:spPr>
            <a:xfrm>
              <a:off x="15238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3" name="" descr=""/>
            <p:cNvPicPr/>
            <p:nvPr/>
          </p:nvPicPr>
          <p:blipFill>
            <a:blip r:embed="rId42"/>
            <a:stretch/>
          </p:blipFill>
          <p:spPr>
            <a:xfrm>
              <a:off x="18190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43"/>
            <a:stretch/>
          </p:blipFill>
          <p:spPr>
            <a:xfrm>
              <a:off x="19810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5" name="" descr=""/>
            <p:cNvPicPr/>
            <p:nvPr/>
          </p:nvPicPr>
          <p:blipFill>
            <a:blip r:embed="rId44"/>
            <a:stretch/>
          </p:blipFill>
          <p:spPr>
            <a:xfrm>
              <a:off x="21333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" descr=""/>
            <p:cNvPicPr/>
            <p:nvPr/>
          </p:nvPicPr>
          <p:blipFill>
            <a:blip r:embed="rId45"/>
            <a:stretch/>
          </p:blipFill>
          <p:spPr>
            <a:xfrm>
              <a:off x="22762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" descr=""/>
            <p:cNvPicPr/>
            <p:nvPr/>
          </p:nvPicPr>
          <p:blipFill>
            <a:blip r:embed="rId46"/>
            <a:stretch/>
          </p:blipFill>
          <p:spPr>
            <a:xfrm>
              <a:off x="7617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" descr=""/>
            <p:cNvPicPr/>
            <p:nvPr/>
          </p:nvPicPr>
          <p:blipFill>
            <a:blip r:embed="rId47"/>
            <a:stretch/>
          </p:blipFill>
          <p:spPr>
            <a:xfrm>
              <a:off x="16761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48"/>
            <a:stretch/>
          </p:blipFill>
          <p:spPr>
            <a:xfrm>
              <a:off x="24382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49"/>
            <a:stretch/>
          </p:blipFill>
          <p:spPr>
            <a:xfrm>
              <a:off x="25905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50"/>
            <a:stretch/>
          </p:blipFill>
          <p:spPr>
            <a:xfrm>
              <a:off x="27334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51"/>
            <a:stretch/>
          </p:blipFill>
          <p:spPr>
            <a:xfrm>
              <a:off x="28954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52"/>
            <a:stretch/>
          </p:blipFill>
          <p:spPr>
            <a:xfrm>
              <a:off x="30477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53"/>
            <a:stretch/>
          </p:blipFill>
          <p:spPr>
            <a:xfrm>
              <a:off x="31906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" descr=""/>
            <p:cNvPicPr/>
            <p:nvPr/>
          </p:nvPicPr>
          <p:blipFill>
            <a:blip r:embed="rId54"/>
            <a:stretch/>
          </p:blipFill>
          <p:spPr>
            <a:xfrm>
              <a:off x="33526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" descr=""/>
            <p:cNvPicPr/>
            <p:nvPr/>
          </p:nvPicPr>
          <p:blipFill>
            <a:blip r:embed="rId55"/>
            <a:stretch/>
          </p:blipFill>
          <p:spPr>
            <a:xfrm>
              <a:off x="36478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7" name="" descr=""/>
            <p:cNvPicPr/>
            <p:nvPr/>
          </p:nvPicPr>
          <p:blipFill>
            <a:blip r:embed="rId56"/>
            <a:stretch/>
          </p:blipFill>
          <p:spPr>
            <a:xfrm>
              <a:off x="38098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8" name="" descr=""/>
            <p:cNvPicPr/>
            <p:nvPr/>
          </p:nvPicPr>
          <p:blipFill>
            <a:blip r:embed="rId57"/>
            <a:stretch/>
          </p:blipFill>
          <p:spPr>
            <a:xfrm>
              <a:off x="39621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" descr=""/>
            <p:cNvPicPr/>
            <p:nvPr/>
          </p:nvPicPr>
          <p:blipFill>
            <a:blip r:embed="rId58"/>
            <a:stretch/>
          </p:blipFill>
          <p:spPr>
            <a:xfrm>
              <a:off x="41050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" descr=""/>
            <p:cNvPicPr/>
            <p:nvPr/>
          </p:nvPicPr>
          <p:blipFill>
            <a:blip r:embed="rId59"/>
            <a:stretch/>
          </p:blipFill>
          <p:spPr>
            <a:xfrm>
              <a:off x="42670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" descr=""/>
            <p:cNvPicPr/>
            <p:nvPr/>
          </p:nvPicPr>
          <p:blipFill>
            <a:blip r:embed="rId60"/>
            <a:stretch/>
          </p:blipFill>
          <p:spPr>
            <a:xfrm>
              <a:off x="45622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" descr=""/>
            <p:cNvPicPr/>
            <p:nvPr/>
          </p:nvPicPr>
          <p:blipFill>
            <a:blip r:embed="rId61"/>
            <a:stretch/>
          </p:blipFill>
          <p:spPr>
            <a:xfrm>
              <a:off x="4724280" y="2209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" descr=""/>
            <p:cNvPicPr/>
            <p:nvPr/>
          </p:nvPicPr>
          <p:blipFill>
            <a:blip r:embed="rId62"/>
            <a:stretch/>
          </p:blipFill>
          <p:spPr>
            <a:xfrm>
              <a:off x="48765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" descr=""/>
            <p:cNvPicPr/>
            <p:nvPr/>
          </p:nvPicPr>
          <p:blipFill>
            <a:blip r:embed="rId63"/>
            <a:stretch/>
          </p:blipFill>
          <p:spPr>
            <a:xfrm>
              <a:off x="501948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" descr=""/>
            <p:cNvPicPr/>
            <p:nvPr/>
          </p:nvPicPr>
          <p:blipFill>
            <a:blip r:embed="rId64"/>
            <a:stretch/>
          </p:blipFill>
          <p:spPr>
            <a:xfrm>
              <a:off x="35049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" descr=""/>
            <p:cNvPicPr/>
            <p:nvPr/>
          </p:nvPicPr>
          <p:blipFill>
            <a:blip r:embed="rId65"/>
            <a:stretch/>
          </p:blipFill>
          <p:spPr>
            <a:xfrm>
              <a:off x="4419360" y="220968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7" name=""/>
          <p:cNvSpPr/>
          <p:nvPr/>
        </p:nvSpPr>
        <p:spPr>
          <a:xfrm>
            <a:off x="304920" y="2403360"/>
            <a:ext cx="8534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使加于每相负载上的电压等于其额定电压，而与电源的联接方式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040840" y="644400"/>
            <a:ext cx="5331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电动机绕组可以联结成星形，也可以联结成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形，而照明负载一般都联结成星形（具有中性线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225080" y="228240"/>
            <a:ext cx="586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4.4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功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57200" y="797040"/>
            <a:ext cx="8305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无论负载为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幼圆"/>
              </a:rPr>
              <a:t>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，每相有功功率都应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os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51280" y="339552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称负载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联结时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54920" y="4890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025640" y="2633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称负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联结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400800" y="1752480"/>
            <a:ext cx="2438280" cy="990720"/>
          </a:xfrm>
          <a:prstGeom prst="wedgeRoundRectCallout">
            <a:avLst>
              <a:gd name="adj1" fmla="val -28449"/>
              <a:gd name="adj2" fmla="val 23445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电压与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流的相位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13400" y="1905120"/>
            <a:ext cx="401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负载对称时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09480" y="4267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211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正误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33520" y="3672000"/>
            <a:ext cx="2743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称负载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联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819520" y="4554360"/>
            <a:ext cx="258480" cy="325440"/>
            <a:chOff x="2819520" y="4554360"/>
            <a:chExt cx="258480" cy="325440"/>
          </a:xfrm>
        </p:grpSpPr>
        <p:sp>
          <p:nvSpPr>
            <p:cNvPr id="1900" name=""/>
            <p:cNvSpPr/>
            <p:nvPr/>
          </p:nvSpPr>
          <p:spPr>
            <a:xfrm flipH="1">
              <a:off x="2819520" y="4554360"/>
              <a:ext cx="258480" cy="3254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19520" y="4554360"/>
              <a:ext cx="258480" cy="3254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1142640" y="4583160"/>
            <a:ext cx="259200" cy="325440"/>
            <a:chOff x="1142640" y="4583160"/>
            <a:chExt cx="259200" cy="325440"/>
          </a:xfrm>
        </p:grpSpPr>
        <p:sp>
          <p:nvSpPr>
            <p:cNvPr id="1903" name=""/>
            <p:cNvSpPr/>
            <p:nvPr/>
          </p:nvSpPr>
          <p:spPr>
            <a:xfrm flipH="1">
              <a:off x="1142640" y="4583160"/>
              <a:ext cx="258840" cy="3254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143000" y="4583160"/>
              <a:ext cx="258840" cy="3254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5409720" y="4532400"/>
            <a:ext cx="259200" cy="325440"/>
            <a:chOff x="5409720" y="4532400"/>
            <a:chExt cx="259200" cy="325440"/>
          </a:xfrm>
        </p:grpSpPr>
        <p:sp>
          <p:nvSpPr>
            <p:cNvPr id="1906" name=""/>
            <p:cNvSpPr/>
            <p:nvPr/>
          </p:nvSpPr>
          <p:spPr>
            <a:xfrm flipH="1">
              <a:off x="5409720" y="4532400"/>
              <a:ext cx="258840" cy="325440"/>
            </a:xfrm>
            <a:prstGeom prst="line">
              <a:avLst/>
            </a:prstGeom>
            <a:ln w="540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410080" y="4532400"/>
              <a:ext cx="258840" cy="325440"/>
            </a:xfrm>
            <a:prstGeom prst="line">
              <a:avLst/>
            </a:prstGeom>
            <a:ln w="540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117440" y="5538960"/>
            <a:ext cx="270000" cy="338040"/>
            <a:chOff x="1117440" y="5538960"/>
            <a:chExt cx="270000" cy="338040"/>
          </a:xfrm>
        </p:grpSpPr>
        <p:sp>
          <p:nvSpPr>
            <p:cNvPr id="1909" name=""/>
            <p:cNvSpPr/>
            <p:nvPr/>
          </p:nvSpPr>
          <p:spPr>
            <a:xfrm flipH="1">
              <a:off x="1117440" y="5538960"/>
              <a:ext cx="270000" cy="3380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117440" y="5538960"/>
              <a:ext cx="270000" cy="3380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3184200" y="5562720"/>
            <a:ext cx="259200" cy="325440"/>
            <a:chOff x="3184200" y="5562720"/>
            <a:chExt cx="259200" cy="325440"/>
          </a:xfrm>
        </p:grpSpPr>
        <p:sp>
          <p:nvSpPr>
            <p:cNvPr id="1912" name=""/>
            <p:cNvSpPr/>
            <p:nvPr/>
          </p:nvSpPr>
          <p:spPr>
            <a:xfrm flipH="1">
              <a:off x="3184200" y="5562720"/>
              <a:ext cx="258840" cy="3254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184560" y="5562720"/>
              <a:ext cx="258840" cy="32544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>
            <a:off x="7620120" y="4343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800600" y="533412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858000" y="5340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2781360" y="76320"/>
            <a:ext cx="5981760" cy="3507480"/>
            <a:chOff x="2781360" y="76320"/>
            <a:chExt cx="5981760" cy="3507480"/>
          </a:xfrm>
        </p:grpSpPr>
        <p:sp>
          <p:nvSpPr>
            <p:cNvPr id="1918" name=""/>
            <p:cNvSpPr/>
            <p:nvPr/>
          </p:nvSpPr>
          <p:spPr>
            <a:xfrm>
              <a:off x="5562720" y="2455920"/>
              <a:ext cx="76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562720" y="3200400"/>
              <a:ext cx="76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0" name=""/>
            <p:cNvGrpSpPr/>
            <p:nvPr/>
          </p:nvGrpSpPr>
          <p:grpSpPr>
            <a:xfrm>
              <a:off x="5486400" y="1143000"/>
              <a:ext cx="892080" cy="457200"/>
              <a:chOff x="5486400" y="1143000"/>
              <a:chExt cx="892080" cy="457200"/>
            </a:xfrm>
          </p:grpSpPr>
          <p:sp>
            <p:nvSpPr>
              <p:cNvPr id="1921" name=""/>
              <p:cNvSpPr/>
              <p:nvPr/>
            </p:nvSpPr>
            <p:spPr>
              <a:xfrm flipH="1">
                <a:off x="5486400" y="1600200"/>
                <a:ext cx="892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6927840" y="974880"/>
              <a:ext cx="463680" cy="701640"/>
              <a:chOff x="6927840" y="974880"/>
              <a:chExt cx="463680" cy="701640"/>
            </a:xfrm>
          </p:grpSpPr>
          <p:sp>
            <p:nvSpPr>
              <p:cNvPr id="1923" name=""/>
              <p:cNvSpPr/>
              <p:nvPr/>
            </p:nvSpPr>
            <p:spPr>
              <a:xfrm>
                <a:off x="7391520" y="990720"/>
                <a:ext cx="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4" name=""/>
            <p:cNvSpPr/>
            <p:nvPr/>
          </p:nvSpPr>
          <p:spPr>
            <a:xfrm>
              <a:off x="5486400" y="51912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2781360" y="533520"/>
              <a:ext cx="5981760" cy="3050280"/>
              <a:chOff x="2781360" y="533520"/>
              <a:chExt cx="5981760" cy="3050280"/>
            </a:xfrm>
          </p:grpSpPr>
          <p:sp>
            <p:nvSpPr>
              <p:cNvPr id="1926" name=""/>
              <p:cNvSpPr/>
              <p:nvPr/>
            </p:nvSpPr>
            <p:spPr>
              <a:xfrm>
                <a:off x="4954320" y="312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934320" y="251460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237520" y="1650240"/>
                <a:ext cx="525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2876400">
                <a:off x="7228800" y="1946160"/>
                <a:ext cx="18576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6916320" y="2250720"/>
                <a:ext cx="269280" cy="25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V="1">
                <a:off x="7451280" y="1714320"/>
                <a:ext cx="316800" cy="27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8435000">
                <a:off x="8128440" y="1947240"/>
                <a:ext cx="185760" cy="358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363160" y="2240280"/>
                <a:ext cx="286920" cy="21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 flipV="1">
                <a:off x="7744680" y="1729080"/>
                <a:ext cx="329760" cy="27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682040" y="1012680"/>
                <a:ext cx="179280" cy="370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772400" y="1382760"/>
                <a:ext cx="0" cy="37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7772400" y="641160"/>
                <a:ext cx="0" cy="37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659800" y="2443320"/>
                <a:ext cx="0" cy="2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315200" y="203112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836840" y="92160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696080" y="1402200"/>
                <a:ext cx="58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r>
                  <a:rPr b="1" i="1" lang="en-US" sz="2400" spc="-1" strike="noStrike" baseline="30000">
                    <a:solidFill>
                      <a:srgbClr val="3333cc"/>
                    </a:solidFill>
                    <a:latin typeface="Times New Roman"/>
                  </a:rPr>
                  <a:t>'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2700000">
                <a:off x="2918880" y="2278080"/>
                <a:ext cx="277920" cy="1792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2781360" y="2322720"/>
                <a:ext cx="13356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519360" y="1011240"/>
                <a:ext cx="270000" cy="18576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519360" y="1197000"/>
                <a:ext cx="270000" cy="18576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519360" y="1382760"/>
                <a:ext cx="270000" cy="18576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519360" y="1557360"/>
                <a:ext cx="0" cy="19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3519360" y="641520"/>
                <a:ext cx="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2700000">
                <a:off x="3171240" y="2016000"/>
                <a:ext cx="279360" cy="1810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2700000">
                <a:off x="3045960" y="2146320"/>
                <a:ext cx="277920" cy="1792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V="1">
                <a:off x="3262320" y="1677960"/>
                <a:ext cx="276120" cy="2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8852000">
                <a:off x="3763800" y="1830240"/>
                <a:ext cx="279360" cy="1810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8852000">
                <a:off x="3893760" y="1960200"/>
                <a:ext cx="277920" cy="1792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8852000">
                <a:off x="4023360" y="2090160"/>
                <a:ext cx="277920" cy="18108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37" y="12"/>
                      <a:pt x="21" y="33"/>
                      <a:pt x="0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26320" y="2340000"/>
                <a:ext cx="2167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 flipV="1">
                <a:off x="3487680" y="1699920"/>
                <a:ext cx="258120" cy="25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329000" y="2473200"/>
                <a:ext cx="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317840" y="2682720"/>
                <a:ext cx="436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2819160" y="3429000"/>
                <a:ext cx="410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819520" y="243828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124080" y="1378440"/>
                <a:ext cx="30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444560" y="2286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887280" y="5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888000" y="12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465800" y="1600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23000" y="1600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505320" y="1738440"/>
                <a:ext cx="42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505320" y="631800"/>
                <a:ext cx="42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14840" y="4745160"/>
            <a:ext cx="213480" cy="13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960" y="5563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相交流发电机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4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电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相电压的产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：动磁生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10720" y="562320"/>
            <a:ext cx="3452400" cy="2487240"/>
            <a:chOff x="5310720" y="562320"/>
            <a:chExt cx="3452400" cy="2487240"/>
          </a:xfrm>
        </p:grpSpPr>
        <p:sp>
          <p:nvSpPr>
            <p:cNvPr id="150" name=""/>
            <p:cNvSpPr/>
            <p:nvPr/>
          </p:nvSpPr>
          <p:spPr>
            <a:xfrm>
              <a:off x="5393160" y="2557800"/>
              <a:ext cx="89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尾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59400" y="1108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7315200" y="1081080"/>
              <a:ext cx="108000" cy="1457280"/>
              <a:chOff x="7315200" y="1081080"/>
              <a:chExt cx="108000" cy="1457280"/>
            </a:xfrm>
          </p:grpSpPr>
          <p:sp>
            <p:nvSpPr>
              <p:cNvPr id="153" name=""/>
              <p:cNvSpPr/>
              <p:nvPr/>
            </p:nvSpPr>
            <p:spPr>
              <a:xfrm>
                <a:off x="7323120" y="2176200"/>
                <a:ext cx="0" cy="362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23120" y="108108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7315200" y="1431720"/>
                <a:ext cx="108000" cy="752760"/>
                <a:chOff x="7315200" y="1431720"/>
                <a:chExt cx="108000" cy="752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315200" y="1612800"/>
                  <a:ext cx="1080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315200" y="1803240"/>
                  <a:ext cx="1080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315200" y="1993680"/>
                  <a:ext cx="108000" cy="19080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315200" y="1431720"/>
                  <a:ext cx="1080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6629400" y="2007000"/>
              <a:ext cx="642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15200" y="1976760"/>
              <a:ext cx="566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200844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94680" y="2540160"/>
              <a:ext cx="9360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57960" y="987480"/>
              <a:ext cx="9360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594480" y="1098720"/>
              <a:ext cx="108000" cy="1456920"/>
              <a:chOff x="6594480" y="1098720"/>
              <a:chExt cx="108000" cy="1456920"/>
            </a:xfrm>
          </p:grpSpPr>
          <p:sp>
            <p:nvSpPr>
              <p:cNvPr id="166" name=""/>
              <p:cNvSpPr/>
              <p:nvPr/>
            </p:nvSpPr>
            <p:spPr>
              <a:xfrm>
                <a:off x="6594480" y="1630440"/>
                <a:ext cx="108000" cy="19008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94480" y="1820880"/>
                <a:ext cx="108000" cy="19008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94480" y="2011320"/>
                <a:ext cx="108000" cy="19008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02400" y="21938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602400" y="109872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94480" y="1449360"/>
                <a:ext cx="108000" cy="19008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6554880" y="2540160"/>
              <a:ext cx="9360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4880" y="996840"/>
              <a:ext cx="9360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10880" y="258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960" y="562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960" y="562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10280" y="2589840"/>
              <a:ext cx="4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061480" y="1090440"/>
              <a:ext cx="107640" cy="1457640"/>
              <a:chOff x="8061480" y="1090440"/>
              <a:chExt cx="107640" cy="1457640"/>
            </a:xfrm>
          </p:grpSpPr>
          <p:sp>
            <p:nvSpPr>
              <p:cNvPr id="179" name=""/>
              <p:cNvSpPr/>
              <p:nvPr/>
            </p:nvSpPr>
            <p:spPr>
              <a:xfrm>
                <a:off x="8061480" y="1622520"/>
                <a:ext cx="107640" cy="1904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61480" y="1812960"/>
                <a:ext cx="107640" cy="1904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61480" y="2003400"/>
                <a:ext cx="107640" cy="1904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69040" y="2185920"/>
                <a:ext cx="0" cy="362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69040" y="1090440"/>
                <a:ext cx="0" cy="362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61480" y="1441440"/>
                <a:ext cx="107640" cy="1904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8012160" y="2549520"/>
              <a:ext cx="9360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21520" y="996840"/>
              <a:ext cx="9396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58800" y="562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71040" y="2589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10720" y="576720"/>
              <a:ext cx="89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首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06800" y="1108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0" y="1108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752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3040" y="1890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884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332400" y="3500280"/>
            <a:ext cx="1891800" cy="2566800"/>
            <a:chOff x="6332400" y="3500280"/>
            <a:chExt cx="1891800" cy="2566800"/>
          </a:xfrm>
        </p:grpSpPr>
        <p:grpSp>
          <p:nvGrpSpPr>
            <p:cNvPr id="196" name=""/>
            <p:cNvGrpSpPr/>
            <p:nvPr/>
          </p:nvGrpSpPr>
          <p:grpSpPr>
            <a:xfrm>
              <a:off x="6332400" y="3500280"/>
              <a:ext cx="1891800" cy="2288520"/>
              <a:chOff x="6332400" y="3500280"/>
              <a:chExt cx="1891800" cy="2288520"/>
            </a:xfrm>
          </p:grpSpPr>
          <p:sp>
            <p:nvSpPr>
              <p:cNvPr id="197" name=""/>
              <p:cNvSpPr/>
              <p:nvPr/>
            </p:nvSpPr>
            <p:spPr>
              <a:xfrm>
                <a:off x="7754760" y="3867120"/>
                <a:ext cx="0" cy="94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64040" y="3867120"/>
                <a:ext cx="7560" cy="146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6764040" y="3576240"/>
                <a:ext cx="45684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7220880" y="3576240"/>
                <a:ext cx="53316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41800" y="4816440"/>
                <a:ext cx="45540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7297200" y="4816440"/>
                <a:ext cx="45684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41800" y="3903480"/>
                <a:ext cx="0" cy="91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6841800" y="3576240"/>
                <a:ext cx="531720" cy="32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31080" y="3833640"/>
                <a:ext cx="7560" cy="149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73880" y="3576600"/>
                <a:ext cx="45684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715080" y="5329080"/>
                <a:ext cx="74160" cy="79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7780320" y="5329080"/>
                <a:ext cx="74160" cy="79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880" y="45673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840800" y="3666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92160" y="3500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40080" y="4352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32400" y="405288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40080" y="40338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29680" y="5329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2200" y="5329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702920" y="5688720"/>
              <a:ext cx="271440" cy="270720"/>
              <a:chOff x="7702920" y="5688720"/>
              <a:chExt cx="271440" cy="270720"/>
            </a:xfrm>
          </p:grpSpPr>
          <p:sp>
            <p:nvSpPr>
              <p:cNvPr id="218" name=""/>
              <p:cNvSpPr/>
              <p:nvPr/>
            </p:nvSpPr>
            <p:spPr>
              <a:xfrm rot="3070800">
                <a:off x="7743240" y="5726160"/>
                <a:ext cx="190440" cy="19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29640" y="5729040"/>
                <a:ext cx="0" cy="176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40720" y="5808240"/>
                <a:ext cx="18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616080" y="5546520"/>
              <a:ext cx="305640" cy="520560"/>
              <a:chOff x="6616080" y="5546520"/>
              <a:chExt cx="305640" cy="520560"/>
            </a:xfrm>
          </p:grpSpPr>
          <p:sp>
            <p:nvSpPr>
              <p:cNvPr id="222" name=""/>
              <p:cNvSpPr/>
              <p:nvPr/>
            </p:nvSpPr>
            <p:spPr>
              <a:xfrm rot="3070800">
                <a:off x="6670080" y="5720040"/>
                <a:ext cx="190440" cy="20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16080" y="5546520"/>
                <a:ext cx="30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452920" y="3067560"/>
            <a:ext cx="35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相绕组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59918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枢绕组及其电动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200040" y="2117160"/>
            <a:ext cx="1600560" cy="702360"/>
            <a:chOff x="3200040" y="2117160"/>
            <a:chExt cx="1600560" cy="702360"/>
          </a:xfrm>
        </p:grpSpPr>
        <p:sp>
          <p:nvSpPr>
            <p:cNvPr id="227" name=""/>
            <p:cNvSpPr/>
            <p:nvPr/>
          </p:nvSpPr>
          <p:spPr>
            <a:xfrm>
              <a:off x="3733920" y="21171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定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200040" y="2514600"/>
              <a:ext cx="609480" cy="30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520440"/>
            <a:ext cx="2438280" cy="974880"/>
            <a:chOff x="2895480" y="3520440"/>
            <a:chExt cx="2438280" cy="974880"/>
          </a:xfrm>
        </p:grpSpPr>
        <p:sp>
          <p:nvSpPr>
            <p:cNvPr id="230" name=""/>
            <p:cNvSpPr/>
            <p:nvPr/>
          </p:nvSpPr>
          <p:spPr>
            <a:xfrm>
              <a:off x="4190760" y="352044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转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95480" y="3871800"/>
              <a:ext cx="1371600" cy="623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21160" y="1828080"/>
            <a:ext cx="3606120" cy="3797280"/>
            <a:chOff x="821160" y="1828080"/>
            <a:chExt cx="3606120" cy="3797280"/>
          </a:xfrm>
        </p:grpSpPr>
        <p:grpSp>
          <p:nvGrpSpPr>
            <p:cNvPr id="233" name=""/>
            <p:cNvGrpSpPr/>
            <p:nvPr/>
          </p:nvGrpSpPr>
          <p:grpSpPr>
            <a:xfrm>
              <a:off x="821160" y="1828080"/>
              <a:ext cx="3606120" cy="3797280"/>
              <a:chOff x="821160" y="1828080"/>
              <a:chExt cx="3606120" cy="3797280"/>
            </a:xfrm>
          </p:grpSpPr>
          <p:sp>
            <p:nvSpPr>
              <p:cNvPr id="234" name=""/>
              <p:cNvSpPr/>
              <p:nvPr/>
            </p:nvSpPr>
            <p:spPr>
              <a:xfrm>
                <a:off x="4010400" y="28044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67440" y="1828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821160" y="2281320"/>
                <a:ext cx="3444120" cy="3344040"/>
                <a:chOff x="821160" y="2281320"/>
                <a:chExt cx="3444120" cy="33440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431080" y="510480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1160" y="280440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362320" y="41623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362320" y="27147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157400" y="2281320"/>
                  <a:ext cx="2957400" cy="2911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1459080" y="4267440"/>
                  <a:ext cx="395640" cy="392400"/>
                  <a:chOff x="1459080" y="4267440"/>
                  <a:chExt cx="395640" cy="3924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V="1">
                    <a:off x="1648800" y="4475880"/>
                    <a:ext cx="205920" cy="183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465920" y="4446720"/>
                    <a:ext cx="189000" cy="20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1459080" y="4267440"/>
                    <a:ext cx="205560" cy="183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533600" y="2679840"/>
                  <a:ext cx="2162160" cy="21430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636560" y="2813040"/>
                  <a:ext cx="1927440" cy="1876320"/>
                </a:xfrm>
                <a:prstGeom prst="ellipse">
                  <a:avLst/>
                </a:prstGeom>
                <a:noFill/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805040" y="3222720"/>
                  <a:ext cx="449280" cy="1076400"/>
                  <a:chOff x="1805040" y="3222720"/>
                  <a:chExt cx="449280" cy="1076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1805040" y="3222720"/>
                    <a:ext cx="449280" cy="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244960" y="3222720"/>
                    <a:ext cx="0" cy="107640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805040" y="4280040"/>
                    <a:ext cx="449280" cy="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 flipH="1">
                  <a:off x="2927520" y="3222720"/>
                  <a:ext cx="458640" cy="14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2936880" y="3222720"/>
                  <a:ext cx="1440" cy="10764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2927520" y="4280040"/>
                  <a:ext cx="468000" cy="14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95520" y="4051440"/>
                  <a:ext cx="103320" cy="199800"/>
                </a:xfrm>
                <a:prstGeom prst="rect">
                  <a:avLst/>
                </a:prstGeom>
                <a:solidFill>
                  <a:srgbClr val="e1ed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70400" y="3441600"/>
                  <a:ext cx="150840" cy="571680"/>
                </a:xfrm>
                <a:prstGeom prst="rect">
                  <a:avLst/>
                </a:prstGeom>
                <a:solidFill>
                  <a:srgbClr val="e1ed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55640" y="3365640"/>
                  <a:ext cx="10332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452760" y="3346560"/>
                  <a:ext cx="10152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460680" y="3936960"/>
                  <a:ext cx="103320" cy="200160"/>
                </a:xfrm>
                <a:prstGeom prst="rect">
                  <a:avLst/>
                </a:prstGeom>
                <a:solidFill>
                  <a:srgbClr val="e1ed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019880" y="44949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79720" y="3596760"/>
                  <a:ext cx="3351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3300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71800" y="3323160"/>
                  <a:ext cx="22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38280" y="2670120"/>
                  <a:ext cx="304920" cy="25560"/>
                </a:xfrm>
                <a:custGeom>
                  <a:avLst/>
                  <a:gdLst/>
                  <a:ahLst/>
                  <a:rect l="l" t="t" r="r" b="b"/>
                  <a:pathLst>
                    <a:path w="192" h="16">
                      <a:moveTo>
                        <a:pt x="0" y="16"/>
                      </a:moveTo>
                      <a:cubicBezTo>
                        <a:pt x="64" y="0"/>
                        <a:pt x="126" y="10"/>
                        <a:pt x="192" y="10"/>
                      </a:cubicBezTo>
                    </a:path>
                  </a:pathLst>
                </a:custGeom>
                <a:noFill/>
                <a:ln w="38160">
                  <a:solidFill>
                    <a:srgbClr val="b6d8f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2438280" y="2444760"/>
                  <a:ext cx="304920" cy="264960"/>
                  <a:chOff x="2438280" y="2444760"/>
                  <a:chExt cx="304920" cy="2649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438280" y="2444760"/>
                    <a:ext cx="0" cy="261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438280" y="244800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743200" y="2448000"/>
                    <a:ext cx="0" cy="261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 rot="3070800">
                  <a:off x="2495160" y="2490840"/>
                  <a:ext cx="190440" cy="1904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3123360" y="3375000"/>
                  <a:ext cx="7308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rot="2091600">
                  <a:off x="2179080" y="3658680"/>
                  <a:ext cx="106200" cy="19080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12084600">
                  <a:off x="2899800" y="3544560"/>
                  <a:ext cx="1062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2224800">
                  <a:off x="2167920" y="3365640"/>
                  <a:ext cx="115920" cy="1886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3640" y="4118040"/>
                  <a:ext cx="2239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rot="2091600">
                  <a:off x="2178720" y="3906000"/>
                  <a:ext cx="1062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rot="12084600">
                  <a:off x="2899800" y="3792240"/>
                  <a:ext cx="1062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2273400" y="3414600"/>
                  <a:ext cx="860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2233080" y="3685680"/>
                  <a:ext cx="684360" cy="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>
                  <a:off x="2233080" y="3933360"/>
                  <a:ext cx="684360" cy="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3123360" y="4057560"/>
                  <a:ext cx="73080" cy="76320"/>
                </a:xfrm>
                <a:prstGeom prst="ellipse">
                  <a:avLst/>
                </a:prstGeom>
                <a:solidFill>
                  <a:srgbClr val="e1edfb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84640" y="3071880"/>
                  <a:ext cx="210960" cy="366480"/>
                </a:xfrm>
                <a:custGeom>
                  <a:avLst/>
                  <a:gdLst/>
                  <a:ahLst/>
                  <a:rect l="l" t="t" r="r" b="b"/>
                  <a:pathLst>
                    <a:path w="133" h="231">
                      <a:moveTo>
                        <a:pt x="7" y="9"/>
                      </a:moveTo>
                      <a:cubicBezTo>
                        <a:pt x="22" y="54"/>
                        <a:pt x="0" y="0"/>
                        <a:pt x="31" y="39"/>
                      </a:cubicBezTo>
                      <a:cubicBezTo>
                        <a:pt x="64" y="80"/>
                        <a:pt x="3" y="35"/>
                        <a:pt x="55" y="69"/>
                      </a:cubicBezTo>
                      <a:cubicBezTo>
                        <a:pt x="70" y="114"/>
                        <a:pt x="48" y="60"/>
                        <a:pt x="79" y="99"/>
                      </a:cubicBezTo>
                      <a:cubicBezTo>
                        <a:pt x="90" y="112"/>
                        <a:pt x="95" y="137"/>
                        <a:pt x="103" y="153"/>
                      </a:cubicBezTo>
                      <a:cubicBezTo>
                        <a:pt x="115" y="177"/>
                        <a:pt x="133" y="203"/>
                        <a:pt x="133" y="231"/>
                      </a:cubicBezTo>
                    </a:path>
                  </a:pathLst>
                </a:custGeom>
                <a:noFill/>
                <a:ln w="5724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76720" y="309564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5800" y="3219480"/>
                  <a:ext cx="74520" cy="104760"/>
                </a:xfrm>
                <a:custGeom>
                  <a:avLst/>
                  <a:gdLst/>
                  <a:ahLst/>
                  <a:rect l="l" t="t" r="r" b="b"/>
                  <a:pathLst>
                    <a:path w="36" h="1">
                      <a:moveTo>
                        <a:pt x="0" y="0"/>
                      </a:moveTo>
                      <a:cubicBezTo>
                        <a:pt x="12" y="0"/>
                        <a:pt x="24" y="0"/>
                        <a:pt x="36" y="0"/>
                      </a:cubicBezTo>
                    </a:path>
                  </a:pathLst>
                </a:custGeom>
                <a:noFill/>
                <a:ln w="5724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90640" y="4267080"/>
                  <a:ext cx="142920" cy="9720"/>
                </a:xfrm>
                <a:custGeom>
                  <a:avLst/>
                  <a:gdLst/>
                  <a:ahLst/>
                  <a:rect l="l" t="t" r="r" b="b"/>
                  <a:pathLst>
                    <a:path w="90" h="6">
                      <a:moveTo>
                        <a:pt x="0" y="0"/>
                      </a:moveTo>
                      <a:cubicBezTo>
                        <a:pt x="86" y="6"/>
                        <a:pt x="56" y="6"/>
                        <a:pt x="90" y="6"/>
                      </a:cubicBezTo>
                    </a:path>
                  </a:pathLst>
                </a:custGeom>
                <a:noFill/>
                <a:ln w="3816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2514600" y="4811760"/>
                  <a:ext cx="323640" cy="264960"/>
                  <a:chOff x="2514600" y="4811760"/>
                  <a:chExt cx="323640" cy="2649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V="1">
                    <a:off x="2514600" y="4815000"/>
                    <a:ext cx="0" cy="261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514600" y="5073480"/>
                    <a:ext cx="323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V="1">
                    <a:off x="2838240" y="4811760"/>
                    <a:ext cx="0" cy="261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2523960" y="4811760"/>
                  <a:ext cx="276480" cy="19080"/>
                </a:xfrm>
                <a:custGeom>
                  <a:avLst/>
                  <a:gdLst/>
                  <a:ahLst/>
                  <a:rect l="l" t="t" r="r" b="b"/>
                  <a:pathLst>
                    <a:path w="174" h="12">
                      <a:moveTo>
                        <a:pt x="0" y="12"/>
                      </a:moveTo>
                      <a:cubicBezTo>
                        <a:pt x="58" y="8"/>
                        <a:pt x="116" y="0"/>
                        <a:pt x="174" y="0"/>
                      </a:cubicBezTo>
                    </a:path>
                  </a:pathLst>
                </a:custGeom>
                <a:noFill/>
                <a:ln w="3816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3570480" y="3116160"/>
                  <a:ext cx="334440" cy="378720"/>
                  <a:chOff x="3570480" y="3116160"/>
                  <a:chExt cx="334440" cy="3787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H="1">
                    <a:off x="3664800" y="3383640"/>
                    <a:ext cx="240120" cy="111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3570480" y="3143520"/>
                    <a:ext cx="21564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786120" y="3116160"/>
                    <a:ext cx="11628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74">
                        <a:moveTo>
                          <a:pt x="0" y="0"/>
                        </a:moveTo>
                        <a:cubicBezTo>
                          <a:pt x="11" y="32"/>
                          <a:pt x="34" y="59"/>
                          <a:pt x="48" y="90"/>
                        </a:cubicBezTo>
                        <a:cubicBezTo>
                          <a:pt x="60" y="117"/>
                          <a:pt x="65" y="147"/>
                          <a:pt x="78" y="174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3562200" y="3257640"/>
                  <a:ext cx="95400" cy="24768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0" y="0"/>
                      </a:moveTo>
                      <a:cubicBezTo>
                        <a:pt x="2" y="6"/>
                        <a:pt x="3" y="12"/>
                        <a:pt x="6" y="18"/>
                      </a:cubicBezTo>
                      <a:cubicBezTo>
                        <a:pt x="9" y="24"/>
                        <a:pt x="15" y="29"/>
                        <a:pt x="18" y="36"/>
                      </a:cubicBezTo>
                      <a:cubicBezTo>
                        <a:pt x="26" y="53"/>
                        <a:pt x="25" y="74"/>
                        <a:pt x="36" y="90"/>
                      </a:cubicBezTo>
                      <a:cubicBezTo>
                        <a:pt x="48" y="108"/>
                        <a:pt x="60" y="127"/>
                        <a:pt x="60" y="150"/>
                      </a:cubicBezTo>
                    </a:path>
                  </a:pathLst>
                </a:custGeom>
                <a:noFill/>
                <a:ln w="7632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1332720" y="3109320"/>
                  <a:ext cx="380160" cy="369360"/>
                  <a:chOff x="1332720" y="3109320"/>
                  <a:chExt cx="380160" cy="369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1332720" y="3377880"/>
                    <a:ext cx="253440" cy="100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1337400" y="3109320"/>
                    <a:ext cx="110880" cy="285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456560" y="3121560"/>
                    <a:ext cx="256320" cy="11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" name=""/>
                <p:cNvSpPr/>
                <p:nvPr/>
              </p:nvSpPr>
              <p:spPr>
                <a:xfrm>
                  <a:off x="1676520" y="4276800"/>
                  <a:ext cx="156960" cy="258840"/>
                </a:xfrm>
                <a:custGeom>
                  <a:avLst/>
                  <a:gdLst/>
                  <a:ahLst/>
                  <a:rect l="l" t="t" r="r" b="b"/>
                  <a:pathLst>
                    <a:path w="99" h="163">
                      <a:moveTo>
                        <a:pt x="0" y="0"/>
                      </a:moveTo>
                      <a:cubicBezTo>
                        <a:pt x="8" y="3"/>
                        <a:pt x="19" y="1"/>
                        <a:pt x="24" y="8"/>
                      </a:cubicBezTo>
                      <a:cubicBezTo>
                        <a:pt x="34" y="22"/>
                        <a:pt x="35" y="40"/>
                        <a:pt x="40" y="56"/>
                      </a:cubicBezTo>
                      <a:cubicBezTo>
                        <a:pt x="76" y="163"/>
                        <a:pt x="57" y="68"/>
                        <a:pt x="96" y="120"/>
                      </a:cubicBezTo>
                      <a:cubicBezTo>
                        <a:pt x="99" y="124"/>
                        <a:pt x="96" y="131"/>
                        <a:pt x="96" y="136"/>
                      </a:cubicBezTo>
                    </a:path>
                  </a:pathLst>
                </a:custGeom>
                <a:noFill/>
                <a:ln w="5724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8640" y="3451320"/>
                  <a:ext cx="60480" cy="457200"/>
                </a:xfrm>
                <a:custGeom>
                  <a:avLst/>
                  <a:gdLst/>
                  <a:ahLst/>
                  <a:rect l="l" t="t" r="r" b="b"/>
                  <a:pathLst>
                    <a:path w="38" h="288">
                      <a:moveTo>
                        <a:pt x="38" y="0"/>
                      </a:moveTo>
                      <a:cubicBezTo>
                        <a:pt x="35" y="11"/>
                        <a:pt x="33" y="21"/>
                        <a:pt x="30" y="32"/>
                      </a:cubicBezTo>
                      <a:cubicBezTo>
                        <a:pt x="25" y="48"/>
                        <a:pt x="14" y="80"/>
                        <a:pt x="14" y="80"/>
                      </a:cubicBezTo>
                      <a:cubicBezTo>
                        <a:pt x="0" y="192"/>
                        <a:pt x="6" y="123"/>
                        <a:pt x="6" y="288"/>
                      </a:cubicBezTo>
                    </a:path>
                  </a:pathLst>
                </a:custGeom>
                <a:noFill/>
                <a:ln w="57240">
                  <a:solidFill>
                    <a:srgbClr val="b6d8f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638360" y="3878280"/>
                  <a:ext cx="139680" cy="398520"/>
                </a:xfrm>
                <a:custGeom>
                  <a:avLst/>
                  <a:gdLst/>
                  <a:ahLst/>
                  <a:rect l="l" t="t" r="r" b="b"/>
                  <a:pathLst>
                    <a:path w="88" h="251">
                      <a:moveTo>
                        <a:pt x="16" y="3"/>
                      </a:moveTo>
                      <a:cubicBezTo>
                        <a:pt x="25" y="65"/>
                        <a:pt x="44" y="120"/>
                        <a:pt x="64" y="179"/>
                      </a:cubicBezTo>
                      <a:cubicBezTo>
                        <a:pt x="69" y="195"/>
                        <a:pt x="75" y="211"/>
                        <a:pt x="80" y="227"/>
                      </a:cubicBezTo>
                      <a:cubicBezTo>
                        <a:pt x="83" y="235"/>
                        <a:pt x="88" y="251"/>
                        <a:pt x="88" y="251"/>
                      </a:cubicBezTo>
                      <a:cubicBezTo>
                        <a:pt x="85" y="243"/>
                        <a:pt x="84" y="235"/>
                        <a:pt x="80" y="227"/>
                      </a:cubicBezTo>
                      <a:cubicBezTo>
                        <a:pt x="76" y="218"/>
                        <a:pt x="68" y="212"/>
                        <a:pt x="64" y="203"/>
                      </a:cubicBezTo>
                      <a:cubicBezTo>
                        <a:pt x="39" y="145"/>
                        <a:pt x="35" y="80"/>
                        <a:pt x="0" y="27"/>
                      </a:cubicBezTo>
                      <a:cubicBezTo>
                        <a:pt x="9" y="0"/>
                        <a:pt x="0" y="3"/>
                        <a:pt x="16" y="3"/>
                      </a:cubicBezTo>
                      <a:close/>
                    </a:path>
                  </a:pathLst>
                </a:custGeom>
                <a:noFill/>
                <a:ln w="38160">
                  <a:solidFill>
                    <a:srgbClr val="b6d8f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65440" y="4187880"/>
                  <a:ext cx="55440" cy="10152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0" y="0"/>
                      </a:moveTo>
                      <a:cubicBezTo>
                        <a:pt x="35" y="52"/>
                        <a:pt x="32" y="29"/>
                        <a:pt x="32" y="64"/>
                      </a:cubicBezTo>
                    </a:path>
                  </a:pathLst>
                </a:custGeom>
                <a:noFill/>
                <a:ln w="38160">
                  <a:solidFill>
                    <a:srgbClr val="b6d8f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81120" y="3228840"/>
                  <a:ext cx="95400" cy="209520"/>
                </a:xfrm>
                <a:custGeom>
                  <a:avLst/>
                  <a:gdLst/>
                  <a:ahLst/>
                  <a:rect l="l" t="t" r="r" b="b"/>
                  <a:pathLst>
                    <a:path w="60" h="132">
                      <a:moveTo>
                        <a:pt x="60" y="0"/>
                      </a:moveTo>
                      <a:cubicBezTo>
                        <a:pt x="44" y="49"/>
                        <a:pt x="0" y="80"/>
                        <a:pt x="0" y="132"/>
                      </a:cubicBezTo>
                    </a:path>
                  </a:pathLst>
                </a:custGeom>
                <a:noFill/>
                <a:ln w="57240">
                  <a:solidFill>
                    <a:srgbClr val="b6d8f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76520" y="3247920"/>
                  <a:ext cx="75960" cy="304920"/>
                </a:xfrm>
                <a:prstGeom prst="rect">
                  <a:avLst/>
                </a:prstGeom>
                <a:solidFill>
                  <a:srgbClr val="b6d8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752480" y="3171960"/>
                  <a:ext cx="76320" cy="304560"/>
                </a:xfrm>
                <a:prstGeom prst="rect">
                  <a:avLst/>
                </a:prstGeom>
                <a:solidFill>
                  <a:srgbClr val="b6d8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817640" y="3095640"/>
                  <a:ext cx="76320" cy="304920"/>
                </a:xfrm>
                <a:prstGeom prst="rect">
                  <a:avLst/>
                </a:prstGeom>
                <a:solidFill>
                  <a:srgbClr val="b6d8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905120" y="309564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09720" y="4295880"/>
                  <a:ext cx="114480" cy="13320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0" y="0"/>
                      </a:moveTo>
                      <a:cubicBezTo>
                        <a:pt x="37" y="25"/>
                        <a:pt x="52" y="45"/>
                        <a:pt x="72" y="84"/>
                      </a:cubicBezTo>
                    </a:path>
                  </a:pathLst>
                </a:custGeom>
                <a:noFill/>
                <a:ln w="57240">
                  <a:solidFill>
                    <a:srgbClr val="b6d8f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940040" y="428004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848400" y="441900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39360" y="2311560"/>
                  <a:ext cx="30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3070800">
                  <a:off x="1409400" y="3209760"/>
                  <a:ext cx="190800" cy="1904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3070800">
                  <a:off x="3657240" y="3209760"/>
                  <a:ext cx="190800" cy="1904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00000" y="3033720"/>
                  <a:ext cx="30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372680" y="3038400"/>
                  <a:ext cx="30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•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3070800">
                  <a:off x="1558440" y="4362840"/>
                  <a:ext cx="190440" cy="195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3070800">
                  <a:off x="2563920" y="4849560"/>
                  <a:ext cx="201600" cy="201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1219320" y="2438280"/>
                  <a:ext cx="1142280" cy="2666160"/>
                  <a:chOff x="1219320" y="2438280"/>
                  <a:chExt cx="1142280" cy="266616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1219320" y="2438280"/>
                    <a:ext cx="1142280" cy="2666160"/>
                    <a:chOff x="1219320" y="2438280"/>
                    <a:chExt cx="1142280" cy="26661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2361600" y="2894760"/>
                      <a:ext cx="0" cy="1898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1726560" y="2438280"/>
                      <a:ext cx="63504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208">
                          <a:moveTo>
                            <a:pt x="0" y="112"/>
                          </a:moveTo>
                          <a:cubicBezTo>
                            <a:pt x="76" y="56"/>
                            <a:pt x="152" y="0"/>
                            <a:pt x="192" y="16"/>
                          </a:cubicBezTo>
                          <a:cubicBezTo>
                            <a:pt x="232" y="32"/>
                            <a:pt x="236" y="120"/>
                            <a:pt x="240" y="20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1726560" y="4696200"/>
                      <a:ext cx="635040" cy="40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00">
                          <a:moveTo>
                            <a:pt x="0" y="48"/>
                          </a:moveTo>
                          <a:cubicBezTo>
                            <a:pt x="96" y="124"/>
                            <a:pt x="192" y="200"/>
                            <a:pt x="240" y="192"/>
                          </a:cubicBezTo>
                          <a:cubicBezTo>
                            <a:pt x="288" y="184"/>
                            <a:pt x="288" y="92"/>
                            <a:pt x="288" y="0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1219320" y="2634840"/>
                      <a:ext cx="635400" cy="22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1104">
                          <a:moveTo>
                            <a:pt x="296" y="0"/>
                          </a:moveTo>
                          <a:cubicBezTo>
                            <a:pt x="224" y="72"/>
                            <a:pt x="152" y="144"/>
                            <a:pt x="104" y="240"/>
                          </a:cubicBezTo>
                          <a:cubicBezTo>
                            <a:pt x="56" y="336"/>
                            <a:pt x="0" y="464"/>
                            <a:pt x="8" y="576"/>
                          </a:cubicBezTo>
                          <a:cubicBezTo>
                            <a:pt x="16" y="688"/>
                            <a:pt x="96" y="824"/>
                            <a:pt x="152" y="912"/>
                          </a:cubicBezTo>
                          <a:cubicBezTo>
                            <a:pt x="208" y="1000"/>
                            <a:pt x="276" y="1052"/>
                            <a:pt x="344" y="1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3" name=""/>
                  <p:cNvSpPr/>
                  <p:nvPr/>
                </p:nvSpPr>
                <p:spPr>
                  <a:xfrm>
                    <a:off x="2354400" y="3322800"/>
                    <a:ext cx="0" cy="7614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2806920" y="2438280"/>
                  <a:ext cx="1294920" cy="2666160"/>
                  <a:chOff x="2806920" y="2438280"/>
                  <a:chExt cx="1294920" cy="2666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806920" y="2438280"/>
                    <a:ext cx="1294920" cy="2666160"/>
                    <a:chOff x="2806920" y="2438280"/>
                    <a:chExt cx="1294920" cy="2666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806920" y="2894760"/>
                      <a:ext cx="0" cy="1898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>
                      <a:off x="2806920" y="2438280"/>
                      <a:ext cx="72000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208">
                          <a:moveTo>
                            <a:pt x="0" y="112"/>
                          </a:moveTo>
                          <a:cubicBezTo>
                            <a:pt x="76" y="56"/>
                            <a:pt x="152" y="0"/>
                            <a:pt x="192" y="16"/>
                          </a:cubicBezTo>
                          <a:cubicBezTo>
                            <a:pt x="232" y="32"/>
                            <a:pt x="236" y="120"/>
                            <a:pt x="240" y="20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>
                      <a:off x="2806920" y="4696200"/>
                      <a:ext cx="720000" cy="40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00">
                          <a:moveTo>
                            <a:pt x="0" y="48"/>
                          </a:moveTo>
                          <a:cubicBezTo>
                            <a:pt x="96" y="124"/>
                            <a:pt x="192" y="200"/>
                            <a:pt x="240" y="192"/>
                          </a:cubicBezTo>
                          <a:cubicBezTo>
                            <a:pt x="288" y="184"/>
                            <a:pt x="288" y="92"/>
                            <a:pt x="288" y="0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>
                      <a:off x="3381120" y="2634840"/>
                      <a:ext cx="720360" cy="22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1104">
                          <a:moveTo>
                            <a:pt x="296" y="0"/>
                          </a:moveTo>
                          <a:cubicBezTo>
                            <a:pt x="224" y="72"/>
                            <a:pt x="152" y="144"/>
                            <a:pt x="104" y="240"/>
                          </a:cubicBezTo>
                          <a:cubicBezTo>
                            <a:pt x="56" y="336"/>
                            <a:pt x="0" y="464"/>
                            <a:pt x="8" y="576"/>
                          </a:cubicBezTo>
                          <a:cubicBezTo>
                            <a:pt x="16" y="688"/>
                            <a:pt x="96" y="824"/>
                            <a:pt x="152" y="912"/>
                          </a:cubicBezTo>
                          <a:cubicBezTo>
                            <a:pt x="208" y="1000"/>
                            <a:pt x="276" y="1052"/>
                            <a:pt x="344" y="1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2815200" y="3322800"/>
                    <a:ext cx="0" cy="7614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3432960" y="4205520"/>
                  <a:ext cx="384840" cy="384480"/>
                  <a:chOff x="3432960" y="4205520"/>
                  <a:chExt cx="384840" cy="3844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>
                    <a:off x="3432960" y="4442400"/>
                    <a:ext cx="233640" cy="147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3655800" y="4351680"/>
                    <a:ext cx="152280" cy="23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>
                    <a:off x="3584520" y="4205520"/>
                    <a:ext cx="233280" cy="147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3276720" y="4276800"/>
                  <a:ext cx="75960" cy="936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0" y="0"/>
                      </a:moveTo>
                      <a:cubicBezTo>
                        <a:pt x="16" y="2"/>
                        <a:pt x="48" y="6"/>
                        <a:pt x="48" y="6"/>
                      </a:cubicBezTo>
                    </a:path>
                  </a:pathLst>
                </a:custGeom>
                <a:noFill/>
                <a:ln w="3816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267000" y="4238640"/>
                  <a:ext cx="142920" cy="162000"/>
                </a:xfrm>
                <a:custGeom>
                  <a:avLst/>
                  <a:gdLst/>
                  <a:ahLst/>
                  <a:rect l="l" t="t" r="r" b="b"/>
                  <a:pathLst>
                    <a:path w="90" h="102">
                      <a:moveTo>
                        <a:pt x="90" y="0"/>
                      </a:moveTo>
                      <a:cubicBezTo>
                        <a:pt x="61" y="10"/>
                        <a:pt x="48" y="51"/>
                        <a:pt x="30" y="78"/>
                      </a:cubicBezTo>
                      <a:cubicBezTo>
                        <a:pt x="23" y="89"/>
                        <a:pt x="9" y="93"/>
                        <a:pt x="0" y="102"/>
                      </a:cubicBezTo>
                    </a:path>
                  </a:pathLst>
                </a:custGeom>
                <a:noFill/>
                <a:ln w="5724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276720" y="4238640"/>
                  <a:ext cx="142920" cy="196920"/>
                </a:xfrm>
                <a:custGeom>
                  <a:avLst/>
                  <a:gdLst/>
                  <a:ahLst/>
                  <a:rect l="l" t="t" r="r" b="b"/>
                  <a:pathLst>
                    <a:path w="90" h="124">
                      <a:moveTo>
                        <a:pt x="90" y="0"/>
                      </a:moveTo>
                      <a:cubicBezTo>
                        <a:pt x="76" y="41"/>
                        <a:pt x="48" y="78"/>
                        <a:pt x="12" y="102"/>
                      </a:cubicBezTo>
                      <a:cubicBezTo>
                        <a:pt x="5" y="123"/>
                        <a:pt x="10" y="124"/>
                        <a:pt x="0" y="114"/>
                      </a:cubicBezTo>
                    </a:path>
                  </a:pathLst>
                </a:custGeom>
                <a:noFill/>
                <a:ln w="5724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254400" y="4272120"/>
                  <a:ext cx="0" cy="15228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429000" y="4238640"/>
                  <a:ext cx="152280" cy="209520"/>
                </a:xfrm>
                <a:custGeom>
                  <a:avLst/>
                  <a:gdLst/>
                  <a:ahLst/>
                  <a:rect l="l" t="t" r="r" b="b"/>
                  <a:pathLst>
                    <a:path w="96" h="132">
                      <a:moveTo>
                        <a:pt x="96" y="0"/>
                      </a:moveTo>
                      <a:cubicBezTo>
                        <a:pt x="80" y="48"/>
                        <a:pt x="66" y="68"/>
                        <a:pt x="24" y="96"/>
                      </a:cubicBezTo>
                      <a:cubicBezTo>
                        <a:pt x="16" y="108"/>
                        <a:pt x="0" y="132"/>
                        <a:pt x="0" y="132"/>
                      </a:cubicBezTo>
                    </a:path>
                  </a:pathLst>
                </a:custGeom>
                <a:noFill/>
                <a:ln w="57240">
                  <a:solidFill>
                    <a:srgbClr val="d4ec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3070800">
                  <a:off x="3533760" y="4296960"/>
                  <a:ext cx="201600" cy="201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"/>
                <p:cNvGrpSpPr/>
                <p:nvPr/>
              </p:nvGrpSpPr>
              <p:grpSpPr>
                <a:xfrm>
                  <a:off x="1565280" y="4378320"/>
                  <a:ext cx="187200" cy="176040"/>
                  <a:chOff x="1565280" y="4378320"/>
                  <a:chExt cx="187200" cy="1760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1654200" y="4378320"/>
                    <a:ext cx="0" cy="17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565280" y="445788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590920" y="4876920"/>
                  <a:ext cx="187200" cy="176040"/>
                  <a:chOff x="2590920" y="4876920"/>
                  <a:chExt cx="187200" cy="1760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679840" y="4876920"/>
                    <a:ext cx="0" cy="17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590920" y="495648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" name=""/>
                <p:cNvSpPr/>
                <p:nvPr/>
              </p:nvSpPr>
              <p:spPr>
                <a:xfrm>
                  <a:off x="3641760" y="4317840"/>
                  <a:ext cx="0" cy="176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540240" y="4397400"/>
                  <a:ext cx="18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917720" y="4340160"/>
                  <a:ext cx="55440" cy="10152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0" y="0"/>
                      </a:moveTo>
                      <a:cubicBezTo>
                        <a:pt x="35" y="52"/>
                        <a:pt x="32" y="29"/>
                        <a:pt x="32" y="64"/>
                      </a:cubicBezTo>
                    </a:path>
                  </a:pathLst>
                </a:custGeom>
                <a:noFill/>
                <a:ln w="38160">
                  <a:solidFill>
                    <a:srgbClr val="b6d8f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0" name=""/>
            <p:cNvSpPr/>
            <p:nvPr/>
          </p:nvSpPr>
          <p:spPr>
            <a:xfrm rot="1198800">
              <a:off x="2892240" y="2908080"/>
              <a:ext cx="609480" cy="30456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cubicBezTo>
                    <a:pt x="72" y="12"/>
                    <a:pt x="144" y="24"/>
                    <a:pt x="192" y="48"/>
                  </a:cubicBezTo>
                  <a:cubicBezTo>
                    <a:pt x="240" y="72"/>
                    <a:pt x="264" y="112"/>
                    <a:pt x="288" y="144"/>
                  </a:cubicBezTo>
                  <a:cubicBezTo>
                    <a:pt x="312" y="176"/>
                    <a:pt x="328" y="216"/>
                    <a:pt x="336" y="2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/>
          <p:nvPr/>
        </p:nvSpPr>
        <p:spPr>
          <a:xfrm>
            <a:off x="3200400" y="304920"/>
            <a:ext cx="2743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称负载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联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1225440" y="2048040"/>
            <a:ext cx="304560" cy="380880"/>
            <a:chOff x="1225440" y="2048040"/>
            <a:chExt cx="304560" cy="380880"/>
          </a:xfrm>
        </p:grpSpPr>
        <p:sp>
          <p:nvSpPr>
            <p:cNvPr id="1971" name=""/>
            <p:cNvSpPr/>
            <p:nvPr/>
          </p:nvSpPr>
          <p:spPr>
            <a:xfrm flipH="1">
              <a:off x="1225440" y="2048040"/>
              <a:ext cx="304560" cy="380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225440" y="2048040"/>
              <a:ext cx="304560" cy="380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3352680" y="2057400"/>
            <a:ext cx="304560" cy="380880"/>
            <a:chOff x="3352680" y="2057400"/>
            <a:chExt cx="304560" cy="380880"/>
          </a:xfrm>
        </p:grpSpPr>
        <p:sp>
          <p:nvSpPr>
            <p:cNvPr id="1974" name=""/>
            <p:cNvSpPr/>
            <p:nvPr/>
          </p:nvSpPr>
          <p:spPr>
            <a:xfrm flipH="1">
              <a:off x="3352680" y="2057400"/>
              <a:ext cx="304560" cy="380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352680" y="2057400"/>
              <a:ext cx="304560" cy="380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>
            <a:off x="6172200" y="1828800"/>
            <a:ext cx="58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4044600" y="3489480"/>
            <a:ext cx="298800" cy="374400"/>
            <a:chOff x="4044600" y="3489480"/>
            <a:chExt cx="298800" cy="374400"/>
          </a:xfrm>
        </p:grpSpPr>
        <p:sp>
          <p:nvSpPr>
            <p:cNvPr id="1978" name=""/>
            <p:cNvSpPr/>
            <p:nvPr/>
          </p:nvSpPr>
          <p:spPr>
            <a:xfrm flipH="1">
              <a:off x="4044600" y="3489480"/>
              <a:ext cx="298440" cy="3744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044960" y="3489480"/>
              <a:ext cx="298440" cy="3744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0" name=""/>
          <p:cNvSpPr/>
          <p:nvPr/>
        </p:nvSpPr>
        <p:spPr>
          <a:xfrm>
            <a:off x="3835440" y="432432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807000" y="5305320"/>
            <a:ext cx="5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2970360"/>
            <a:ext cx="9144000" cy="1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52280" y="2286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正误判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5867280" y="1143000"/>
            <a:ext cx="2583000" cy="1730520"/>
            <a:chOff x="5867280" y="1143000"/>
            <a:chExt cx="2583000" cy="1730520"/>
          </a:xfrm>
        </p:grpSpPr>
        <p:grpSp>
          <p:nvGrpSpPr>
            <p:cNvPr id="1985" name=""/>
            <p:cNvGrpSpPr/>
            <p:nvPr/>
          </p:nvGrpSpPr>
          <p:grpSpPr>
            <a:xfrm>
              <a:off x="7391160" y="1295280"/>
              <a:ext cx="914760" cy="304920"/>
              <a:chOff x="7391160" y="1295280"/>
              <a:chExt cx="914760" cy="304920"/>
            </a:xfrm>
          </p:grpSpPr>
          <p:sp>
            <p:nvSpPr>
              <p:cNvPr id="1986" name=""/>
              <p:cNvSpPr/>
              <p:nvPr/>
            </p:nvSpPr>
            <p:spPr>
              <a:xfrm flipH="1">
                <a:off x="7391160" y="12952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91520" y="160020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8" name=""/>
          <p:cNvGrpSpPr/>
          <p:nvPr/>
        </p:nvGrpSpPr>
        <p:grpSpPr>
          <a:xfrm>
            <a:off x="2895480" y="1143000"/>
            <a:ext cx="2305080" cy="1730520"/>
            <a:chOff x="2895480" y="1143000"/>
            <a:chExt cx="2305080" cy="1730520"/>
          </a:xfrm>
        </p:grpSpPr>
        <p:grpSp>
          <p:nvGrpSpPr>
            <p:cNvPr id="1989" name=""/>
            <p:cNvGrpSpPr/>
            <p:nvPr/>
          </p:nvGrpSpPr>
          <p:grpSpPr>
            <a:xfrm>
              <a:off x="4419360" y="1295280"/>
              <a:ext cx="686160" cy="304920"/>
              <a:chOff x="4419360" y="1295280"/>
              <a:chExt cx="686160" cy="304920"/>
            </a:xfrm>
          </p:grpSpPr>
          <p:sp>
            <p:nvSpPr>
              <p:cNvPr id="1990" name=""/>
              <p:cNvSpPr/>
              <p:nvPr/>
            </p:nvSpPr>
            <p:spPr>
              <a:xfrm flipH="1">
                <a:off x="4419360" y="12952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419720" y="160020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2" name=""/>
          <p:cNvGrpSpPr/>
          <p:nvPr/>
        </p:nvGrpSpPr>
        <p:grpSpPr>
          <a:xfrm>
            <a:off x="525600" y="3241800"/>
            <a:ext cx="2985840" cy="2498760"/>
            <a:chOff x="525600" y="3241800"/>
            <a:chExt cx="2985840" cy="2498760"/>
          </a:xfrm>
        </p:grpSpPr>
        <p:grpSp>
          <p:nvGrpSpPr>
            <p:cNvPr id="1993" name=""/>
            <p:cNvGrpSpPr/>
            <p:nvPr/>
          </p:nvGrpSpPr>
          <p:grpSpPr>
            <a:xfrm>
              <a:off x="2361960" y="4648320"/>
              <a:ext cx="686160" cy="304560"/>
              <a:chOff x="2361960" y="4648320"/>
              <a:chExt cx="686160" cy="304560"/>
            </a:xfrm>
          </p:grpSpPr>
          <p:sp>
            <p:nvSpPr>
              <p:cNvPr id="1994" name=""/>
              <p:cNvSpPr/>
              <p:nvPr/>
            </p:nvSpPr>
            <p:spPr>
              <a:xfrm flipH="1">
                <a:off x="2361960" y="46483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362320" y="495288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1752120" y="5292720"/>
              <a:ext cx="686160" cy="304560"/>
              <a:chOff x="1752120" y="5292720"/>
              <a:chExt cx="686160" cy="304560"/>
            </a:xfrm>
          </p:grpSpPr>
          <p:sp>
            <p:nvSpPr>
              <p:cNvPr id="1997" name=""/>
              <p:cNvSpPr/>
              <p:nvPr/>
            </p:nvSpPr>
            <p:spPr>
              <a:xfrm flipH="1">
                <a:off x="1752120" y="52927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52480" y="559728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"/>
          <p:cNvSpPr/>
          <p:nvPr/>
        </p:nvSpPr>
        <p:spPr>
          <a:xfrm>
            <a:off x="0" y="666000"/>
            <a:ext cx="891540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三相电动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相的等效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9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1.8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下列两种情况下电动机的相电流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电流以及从电源输入的功率，并比较所得的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联成星形接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8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三相电源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组联成三角形接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2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三相电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99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11840" y="35226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2" name=""/>
          <p:cNvGrpSpPr/>
          <p:nvPr/>
        </p:nvGrpSpPr>
        <p:grpSpPr>
          <a:xfrm>
            <a:off x="1068120" y="3292560"/>
            <a:ext cx="5637600" cy="1050840"/>
            <a:chOff x="1068120" y="3292560"/>
            <a:chExt cx="5637600" cy="1050840"/>
          </a:xfrm>
        </p:grpSpPr>
        <p:sp>
          <p:nvSpPr>
            <p:cNvPr id="2003" name=""/>
            <p:cNvSpPr/>
            <p:nvPr/>
          </p:nvSpPr>
          <p:spPr>
            <a:xfrm>
              <a:off x="1068120" y="348948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/>
          <p:nvPr/>
        </p:nvSpPr>
        <p:spPr>
          <a:xfrm>
            <a:off x="763560" y="650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40440" y="2646360"/>
            <a:ext cx="31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比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,  (2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结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70320" y="3089160"/>
            <a:ext cx="60588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电动机有两种额定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/38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电源电压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80 V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动机的绕组应联结成星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电源电压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20 V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动机的绕组应联结成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1812600" y="4484520"/>
            <a:ext cx="4874400" cy="1535040"/>
            <a:chOff x="1812600" y="4484520"/>
            <a:chExt cx="4874400" cy="1535040"/>
          </a:xfrm>
        </p:grpSpPr>
        <p:sp>
          <p:nvSpPr>
            <p:cNvPr id="2008" name=""/>
            <p:cNvSpPr/>
            <p:nvPr/>
          </p:nvSpPr>
          <p:spPr>
            <a:xfrm>
              <a:off x="1812600" y="4484520"/>
              <a:ext cx="487440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在三角形和星形两种联结法中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相电压、相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以及功率都未改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仅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三角形联结情况下的线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比星形联结情况下的线电流增大　  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99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-1905120" y="3049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364760" y="4952880"/>
            <a:ext cx="255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各电阻负载的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762120" y="55008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于三相负载对称，所以只需计算一相，其它两相可依据对称性写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3" name=""/>
          <p:cNvGrpSpPr/>
          <p:nvPr/>
        </p:nvGrpSpPr>
        <p:grpSpPr>
          <a:xfrm>
            <a:off x="3996720" y="2514600"/>
            <a:ext cx="4842360" cy="2879640"/>
            <a:chOff x="3996720" y="2514600"/>
            <a:chExt cx="4842360" cy="2879640"/>
          </a:xfrm>
        </p:grpSpPr>
        <p:sp>
          <p:nvSpPr>
            <p:cNvPr id="2014" name=""/>
            <p:cNvSpPr/>
            <p:nvPr/>
          </p:nvSpPr>
          <p:spPr>
            <a:xfrm>
              <a:off x="4467240" y="277488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467240" y="313992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467240" y="3502080"/>
              <a:ext cx="434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7" name=""/>
            <p:cNvGrpSpPr/>
            <p:nvPr/>
          </p:nvGrpSpPr>
          <p:grpSpPr>
            <a:xfrm>
              <a:off x="3996720" y="2514600"/>
              <a:ext cx="454320" cy="1257840"/>
              <a:chOff x="3996720" y="2514600"/>
              <a:chExt cx="454320" cy="1257840"/>
            </a:xfrm>
          </p:grpSpPr>
          <p:sp>
            <p:nvSpPr>
              <p:cNvPr id="2018" name=""/>
              <p:cNvSpPr/>
              <p:nvPr/>
            </p:nvSpPr>
            <p:spPr>
              <a:xfrm>
                <a:off x="4012200" y="2514600"/>
                <a:ext cx="4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013280" y="2950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996720" y="3312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375440" y="2732400"/>
                <a:ext cx="72720" cy="72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375440" y="3096360"/>
                <a:ext cx="72720" cy="72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375440" y="3459600"/>
                <a:ext cx="72720" cy="72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4" name=""/>
            <p:cNvSpPr/>
            <p:nvPr/>
          </p:nvSpPr>
          <p:spPr>
            <a:xfrm>
              <a:off x="7237440" y="275256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298000" y="352908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781760" y="3123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rot="16200000">
              <a:off x="8060400" y="4540680"/>
              <a:ext cx="46656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7544520" y="4540680"/>
              <a:ext cx="46656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rot="16200000">
              <a:off x="7014240" y="4532760"/>
              <a:ext cx="466920" cy="17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253280" y="529920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253280" y="487188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769160" y="485604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286840" y="4856040"/>
              <a:ext cx="0" cy="47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51560" y="3516480"/>
              <a:ext cx="0" cy="180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22880" y="2759040"/>
              <a:ext cx="0" cy="257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V="1">
              <a:off x="5832360" y="312408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4464200">
              <a:off x="5932800" y="4684680"/>
              <a:ext cx="46692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7830200">
              <a:off x="5300280" y="4613040"/>
              <a:ext cx="46512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611680" y="5219640"/>
              <a:ext cx="465120" cy="174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216400" y="529920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5219280" y="4897440"/>
              <a:ext cx="20340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832360" y="417024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087960" y="529920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5648400" y="4133880"/>
              <a:ext cx="20304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272280" y="497052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15880" y="257040"/>
            <a:ext cx="8399520" cy="3442320"/>
            <a:chOff x="515880" y="257040"/>
            <a:chExt cx="8399520" cy="3442320"/>
          </a:xfrm>
        </p:grpSpPr>
        <p:sp>
          <p:nvSpPr>
            <p:cNvPr id="2047" name=""/>
            <p:cNvSpPr/>
            <p:nvPr/>
          </p:nvSpPr>
          <p:spPr>
            <a:xfrm>
              <a:off x="515880" y="257040"/>
              <a:ext cx="839952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线电压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80 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三相电源上，接有两组对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相电源：一组是三角形联结的电感性负载，每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阻抗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;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另一组是星形联结的电阻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负载，每相电阻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图所示。试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各组负载的相电流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2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路线电流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3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相有功功率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8" name=""/>
            <p:cNvGrpSpPr/>
            <p:nvPr/>
          </p:nvGrpSpPr>
          <p:grpSpPr>
            <a:xfrm>
              <a:off x="1371600" y="1231920"/>
              <a:ext cx="2590920" cy="520560"/>
              <a:chOff x="1371600" y="1231920"/>
              <a:chExt cx="2590920" cy="520560"/>
            </a:xfrm>
          </p:grpSpPr>
          <p:grpSp>
            <p:nvGrpSpPr>
              <p:cNvPr id="2049" name=""/>
              <p:cNvGrpSpPr/>
              <p:nvPr/>
            </p:nvGrpSpPr>
            <p:grpSpPr>
              <a:xfrm>
                <a:off x="2819160" y="1330200"/>
                <a:ext cx="686160" cy="304560"/>
                <a:chOff x="2819160" y="1330200"/>
                <a:chExt cx="686160" cy="304560"/>
              </a:xfrm>
            </p:grpSpPr>
            <p:sp>
              <p:nvSpPr>
                <p:cNvPr id="2050" name=""/>
                <p:cNvSpPr/>
                <p:nvPr/>
              </p:nvSpPr>
              <p:spPr>
                <a:xfrm flipH="1">
                  <a:off x="2819160" y="1330200"/>
                  <a:ext cx="152280" cy="304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819520" y="16347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52" name=""/>
          <p:cNvGrpSpPr/>
          <p:nvPr/>
        </p:nvGrpSpPr>
        <p:grpSpPr>
          <a:xfrm>
            <a:off x="831960" y="3885480"/>
            <a:ext cx="3348000" cy="610200"/>
            <a:chOff x="831960" y="3885480"/>
            <a:chExt cx="3348000" cy="610200"/>
          </a:xfrm>
        </p:grpSpPr>
        <p:grpSp>
          <p:nvGrpSpPr>
            <p:cNvPr id="2053" name=""/>
            <p:cNvGrpSpPr/>
            <p:nvPr/>
          </p:nvGrpSpPr>
          <p:grpSpPr>
            <a:xfrm>
              <a:off x="831960" y="3885480"/>
              <a:ext cx="3348000" cy="610200"/>
              <a:chOff x="831960" y="3885480"/>
              <a:chExt cx="3348000" cy="610200"/>
            </a:xfrm>
          </p:grpSpPr>
          <p:sp>
            <p:nvSpPr>
              <p:cNvPr id="2054" name=""/>
              <p:cNvSpPr/>
              <p:nvPr/>
            </p:nvSpPr>
            <p:spPr>
              <a:xfrm>
                <a:off x="1368720" y="38948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831960" y="38854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解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3309840" y="4073400"/>
              <a:ext cx="500040" cy="304920"/>
              <a:chOff x="3309840" y="4073400"/>
              <a:chExt cx="500040" cy="304920"/>
            </a:xfrm>
          </p:grpSpPr>
          <p:sp>
            <p:nvSpPr>
              <p:cNvPr id="2057" name=""/>
              <p:cNvSpPr/>
              <p:nvPr/>
            </p:nvSpPr>
            <p:spPr>
              <a:xfrm flipH="1">
                <a:off x="3309840" y="407340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309840" y="4378320"/>
                <a:ext cx="50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9" name=""/>
          <p:cNvGrpSpPr/>
          <p:nvPr/>
        </p:nvGrpSpPr>
        <p:grpSpPr>
          <a:xfrm>
            <a:off x="1436760" y="4495680"/>
            <a:ext cx="3292560" cy="565200"/>
            <a:chOff x="1436760" y="4495680"/>
            <a:chExt cx="3292560" cy="565200"/>
          </a:xfrm>
        </p:grpSpPr>
        <p:grpSp>
          <p:nvGrpSpPr>
            <p:cNvPr id="2060" name=""/>
            <p:cNvGrpSpPr/>
            <p:nvPr/>
          </p:nvGrpSpPr>
          <p:grpSpPr>
            <a:xfrm>
              <a:off x="3352680" y="4613400"/>
              <a:ext cx="990720" cy="304560"/>
              <a:chOff x="3352680" y="4613400"/>
              <a:chExt cx="990720" cy="304560"/>
            </a:xfrm>
          </p:grpSpPr>
          <p:sp>
            <p:nvSpPr>
              <p:cNvPr id="2061" name=""/>
              <p:cNvSpPr/>
              <p:nvPr/>
            </p:nvSpPr>
            <p:spPr>
              <a:xfrm flipH="1">
                <a:off x="3352680" y="461340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352680" y="491796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609480" y="1968480"/>
            <a:ext cx="5410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星形联接时，其线电流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09480" y="568440"/>
            <a:ext cx="5867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三角形联解时，其相电流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47560" y="3416400"/>
            <a:ext cx="2751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62040" y="565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相电压与电流的相量图如图所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295280" y="1023840"/>
            <a:ext cx="6640560" cy="1109880"/>
            <a:chOff x="1295280" y="1023840"/>
            <a:chExt cx="6640560" cy="1109880"/>
          </a:xfrm>
        </p:grpSpPr>
        <p:grpSp>
          <p:nvGrpSpPr>
            <p:cNvPr id="2068" name=""/>
            <p:cNvGrpSpPr/>
            <p:nvPr/>
          </p:nvGrpSpPr>
          <p:grpSpPr>
            <a:xfrm>
              <a:off x="6095880" y="1406520"/>
              <a:ext cx="838440" cy="304920"/>
              <a:chOff x="6095880" y="1406520"/>
              <a:chExt cx="838440" cy="304920"/>
            </a:xfrm>
          </p:grpSpPr>
          <p:sp>
            <p:nvSpPr>
              <p:cNvPr id="2069" name=""/>
              <p:cNvSpPr/>
              <p:nvPr/>
            </p:nvSpPr>
            <p:spPr>
              <a:xfrm flipH="1">
                <a:off x="6095880" y="140652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095880" y="1711440"/>
                <a:ext cx="83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1" name=""/>
            <p:cNvGrpSpPr/>
            <p:nvPr/>
          </p:nvGrpSpPr>
          <p:grpSpPr>
            <a:xfrm>
              <a:off x="4038480" y="1143000"/>
              <a:ext cx="533520" cy="304920"/>
              <a:chOff x="4038480" y="1143000"/>
              <a:chExt cx="533520" cy="304920"/>
            </a:xfrm>
          </p:grpSpPr>
          <p:sp>
            <p:nvSpPr>
              <p:cNvPr id="2072" name=""/>
              <p:cNvSpPr/>
              <p:nvPr/>
            </p:nvSpPr>
            <p:spPr>
              <a:xfrm flipH="1">
                <a:off x="4038480" y="114300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038480" y="144792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"/>
            <p:cNvGrpSpPr/>
            <p:nvPr/>
          </p:nvGrpSpPr>
          <p:grpSpPr>
            <a:xfrm>
              <a:off x="4000320" y="1676520"/>
              <a:ext cx="571680" cy="304560"/>
              <a:chOff x="4000320" y="1676520"/>
              <a:chExt cx="571680" cy="304560"/>
            </a:xfrm>
          </p:grpSpPr>
          <p:sp>
            <p:nvSpPr>
              <p:cNvPr id="2075" name=""/>
              <p:cNvSpPr/>
              <p:nvPr/>
            </p:nvSpPr>
            <p:spPr>
              <a:xfrm flipH="1">
                <a:off x="4000320" y="16765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000680" y="1981080"/>
                <a:ext cx="57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7" name=""/>
          <p:cNvGrpSpPr/>
          <p:nvPr/>
        </p:nvGrpSpPr>
        <p:grpSpPr>
          <a:xfrm>
            <a:off x="1432080" y="2438280"/>
            <a:ext cx="4179600" cy="1155960"/>
            <a:chOff x="1432080" y="2438280"/>
            <a:chExt cx="4179600" cy="1155960"/>
          </a:xfrm>
        </p:grpSpPr>
        <p:grpSp>
          <p:nvGrpSpPr>
            <p:cNvPr id="2078" name=""/>
            <p:cNvGrpSpPr/>
            <p:nvPr/>
          </p:nvGrpSpPr>
          <p:grpSpPr>
            <a:xfrm>
              <a:off x="3733560" y="2819520"/>
              <a:ext cx="838440" cy="304560"/>
              <a:chOff x="3733560" y="2819520"/>
              <a:chExt cx="838440" cy="304560"/>
            </a:xfrm>
          </p:grpSpPr>
          <p:sp>
            <p:nvSpPr>
              <p:cNvPr id="2079" name=""/>
              <p:cNvSpPr/>
              <p:nvPr/>
            </p:nvSpPr>
            <p:spPr>
              <a:xfrm flipH="1">
                <a:off x="3733560" y="28195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733920" y="3124080"/>
                <a:ext cx="83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1" name=""/>
          <p:cNvGrpSpPr/>
          <p:nvPr/>
        </p:nvGrpSpPr>
        <p:grpSpPr>
          <a:xfrm>
            <a:off x="1486080" y="3873600"/>
            <a:ext cx="7154640" cy="609480"/>
            <a:chOff x="1486080" y="3873600"/>
            <a:chExt cx="7154640" cy="609480"/>
          </a:xfrm>
        </p:grpSpPr>
        <p:grpSp>
          <p:nvGrpSpPr>
            <p:cNvPr id="2082" name=""/>
            <p:cNvGrpSpPr/>
            <p:nvPr/>
          </p:nvGrpSpPr>
          <p:grpSpPr>
            <a:xfrm>
              <a:off x="3733560" y="4038480"/>
              <a:ext cx="1752840" cy="304920"/>
              <a:chOff x="3733560" y="4038480"/>
              <a:chExt cx="1752840" cy="304920"/>
            </a:xfrm>
          </p:grpSpPr>
          <p:sp>
            <p:nvSpPr>
              <p:cNvPr id="2083" name=""/>
              <p:cNvSpPr/>
              <p:nvPr/>
            </p:nvSpPr>
            <p:spPr>
              <a:xfrm flipH="1">
                <a:off x="3733560" y="40384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33920" y="43434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6705720" y="4038480"/>
              <a:ext cx="990360" cy="304920"/>
              <a:chOff x="6705720" y="4038480"/>
              <a:chExt cx="990360" cy="304920"/>
            </a:xfrm>
          </p:grpSpPr>
          <p:sp>
            <p:nvSpPr>
              <p:cNvPr id="2086" name=""/>
              <p:cNvSpPr/>
              <p:nvPr/>
            </p:nvSpPr>
            <p:spPr>
              <a:xfrm flipH="1">
                <a:off x="6705720" y="4038480"/>
                <a:ext cx="15192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705720" y="43434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1523880" y="4543560"/>
            <a:ext cx="6096240" cy="1189080"/>
            <a:chOff x="1523880" y="4543560"/>
            <a:chExt cx="6096240" cy="1189080"/>
          </a:xfrm>
        </p:grpSpPr>
        <p:grpSp>
          <p:nvGrpSpPr>
            <p:cNvPr id="2089" name=""/>
            <p:cNvGrpSpPr/>
            <p:nvPr/>
          </p:nvGrpSpPr>
          <p:grpSpPr>
            <a:xfrm>
              <a:off x="4952520" y="4724280"/>
              <a:ext cx="991080" cy="304920"/>
              <a:chOff x="4952520" y="4724280"/>
              <a:chExt cx="991080" cy="304920"/>
            </a:xfrm>
          </p:grpSpPr>
          <p:sp>
            <p:nvSpPr>
              <p:cNvPr id="2090" name=""/>
              <p:cNvSpPr/>
              <p:nvPr/>
            </p:nvSpPr>
            <p:spPr>
              <a:xfrm flipH="1">
                <a:off x="4952520" y="47242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952880" y="502920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629040" y="4724280"/>
              <a:ext cx="991080" cy="304920"/>
              <a:chOff x="6629040" y="4724280"/>
              <a:chExt cx="991080" cy="304920"/>
            </a:xfrm>
          </p:grpSpPr>
          <p:sp>
            <p:nvSpPr>
              <p:cNvPr id="2093" name=""/>
              <p:cNvSpPr/>
              <p:nvPr/>
            </p:nvSpPr>
            <p:spPr>
              <a:xfrm flipH="1">
                <a:off x="6629040" y="47242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629400" y="502920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2742840" y="5297400"/>
              <a:ext cx="1219680" cy="304920"/>
              <a:chOff x="2742840" y="5297400"/>
              <a:chExt cx="1219680" cy="304920"/>
            </a:xfrm>
          </p:grpSpPr>
          <p:sp>
            <p:nvSpPr>
              <p:cNvPr id="2096" name=""/>
              <p:cNvSpPr/>
              <p:nvPr/>
            </p:nvSpPr>
            <p:spPr>
              <a:xfrm flipH="1">
                <a:off x="2742840" y="529740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43200" y="560232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/>
          <p:nvPr/>
        </p:nvSpPr>
        <p:spPr>
          <a:xfrm>
            <a:off x="2917800" y="1204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917800" y="1204920"/>
            <a:ext cx="2057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603600" y="1836000"/>
            <a:ext cx="1219320" cy="1121400"/>
            <a:chOff x="3603600" y="1836000"/>
            <a:chExt cx="1219320" cy="1121400"/>
          </a:xfrm>
        </p:grpSpPr>
        <p:sp>
          <p:nvSpPr>
            <p:cNvPr id="2101" name=""/>
            <p:cNvSpPr/>
            <p:nvPr/>
          </p:nvSpPr>
          <p:spPr>
            <a:xfrm>
              <a:off x="3603600" y="2347920"/>
              <a:ext cx="1219320" cy="60948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90320" y="1836000"/>
              <a:ext cx="709200" cy="110664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3" name=""/>
          <p:cNvSpPr/>
          <p:nvPr/>
        </p:nvSpPr>
        <p:spPr>
          <a:xfrm>
            <a:off x="2917800" y="1204920"/>
            <a:ext cx="1905120" cy="1752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2917800" y="1204920"/>
            <a:ext cx="1716120" cy="717480"/>
            <a:chOff x="2917800" y="1204920"/>
            <a:chExt cx="1716120" cy="717480"/>
          </a:xfrm>
        </p:grpSpPr>
        <p:sp>
          <p:nvSpPr>
            <p:cNvPr id="2105" name=""/>
            <p:cNvSpPr/>
            <p:nvPr/>
          </p:nvSpPr>
          <p:spPr>
            <a:xfrm>
              <a:off x="2917800" y="1204920"/>
              <a:ext cx="1219320" cy="609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6" name=""/>
          <p:cNvGrpSpPr/>
          <p:nvPr/>
        </p:nvGrpSpPr>
        <p:grpSpPr>
          <a:xfrm>
            <a:off x="2909880" y="1229400"/>
            <a:ext cx="698040" cy="1455120"/>
            <a:chOff x="2909880" y="1229400"/>
            <a:chExt cx="698040" cy="1455120"/>
          </a:xfrm>
        </p:grpSpPr>
        <p:sp>
          <p:nvSpPr>
            <p:cNvPr id="2107" name=""/>
            <p:cNvSpPr/>
            <p:nvPr/>
          </p:nvSpPr>
          <p:spPr>
            <a:xfrm>
              <a:off x="2909880" y="1229400"/>
              <a:ext cx="698040" cy="1170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>
            <a:off x="3133440" y="457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一相电压与电流的相量图如图所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911160" y="3048120"/>
            <a:ext cx="3605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电路的有功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3276720" y="1108080"/>
            <a:ext cx="838080" cy="459720"/>
            <a:chOff x="3276720" y="1108080"/>
            <a:chExt cx="838080" cy="459720"/>
          </a:xfrm>
        </p:grpSpPr>
        <p:sp>
          <p:nvSpPr>
            <p:cNvPr id="2111" name=""/>
            <p:cNvSpPr/>
            <p:nvPr/>
          </p:nvSpPr>
          <p:spPr>
            <a:xfrm>
              <a:off x="3276720" y="1219320"/>
              <a:ext cx="75960" cy="15228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0"/>
                  </a:moveTo>
                  <a:cubicBezTo>
                    <a:pt x="48" y="0"/>
                    <a:pt x="24" y="48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352680" y="1108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2209680" y="1219320"/>
            <a:ext cx="1257480" cy="1218960"/>
            <a:chOff x="2209680" y="1219320"/>
            <a:chExt cx="1257480" cy="1218960"/>
          </a:xfrm>
        </p:grpSpPr>
        <p:sp>
          <p:nvSpPr>
            <p:cNvPr id="2114" name=""/>
            <p:cNvSpPr/>
            <p:nvPr/>
          </p:nvSpPr>
          <p:spPr>
            <a:xfrm>
              <a:off x="3200400" y="121932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44" y="0"/>
                  </a:moveTo>
                  <a:cubicBezTo>
                    <a:pt x="156" y="72"/>
                    <a:pt x="168" y="144"/>
                    <a:pt x="144" y="192"/>
                  </a:cubicBezTo>
                  <a:cubicBezTo>
                    <a:pt x="120" y="240"/>
                    <a:pt x="60" y="264"/>
                    <a:pt x="0" y="288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209680" y="1981080"/>
              <a:ext cx="762120" cy="457200"/>
            </a:xfrm>
            <a:prstGeom prst="wedgeRoundRectCallout">
              <a:avLst>
                <a:gd name="adj1" fmla="val 95000"/>
                <a:gd name="adj2" fmla="val -122916"/>
                <a:gd name="adj3" fmla="val 16667"/>
              </a:avLst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67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3708360" y="1100160"/>
            <a:ext cx="1320840" cy="804960"/>
            <a:chOff x="3708360" y="1100160"/>
            <a:chExt cx="1320840" cy="804960"/>
          </a:xfrm>
        </p:grpSpPr>
        <p:sp>
          <p:nvSpPr>
            <p:cNvPr id="2117" name=""/>
            <p:cNvSpPr/>
            <p:nvPr/>
          </p:nvSpPr>
          <p:spPr>
            <a:xfrm>
              <a:off x="3708360" y="1219320"/>
              <a:ext cx="330120" cy="685800"/>
            </a:xfrm>
            <a:custGeom>
              <a:avLst/>
              <a:gdLst/>
              <a:ahLst/>
              <a:rect l="l" t="t" r="r" b="b"/>
              <a:pathLst>
                <a:path w="208" h="432">
                  <a:moveTo>
                    <a:pt x="144" y="0"/>
                  </a:moveTo>
                  <a:cubicBezTo>
                    <a:pt x="164" y="28"/>
                    <a:pt x="184" y="56"/>
                    <a:pt x="192" y="96"/>
                  </a:cubicBezTo>
                  <a:cubicBezTo>
                    <a:pt x="200" y="136"/>
                    <a:pt x="208" y="192"/>
                    <a:pt x="192" y="240"/>
                  </a:cubicBezTo>
                  <a:cubicBezTo>
                    <a:pt x="176" y="288"/>
                    <a:pt x="128" y="352"/>
                    <a:pt x="96" y="384"/>
                  </a:cubicBezTo>
                  <a:cubicBezTo>
                    <a:pt x="64" y="416"/>
                    <a:pt x="32" y="424"/>
                    <a:pt x="0" y="432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038480" y="1100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6.7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152280" y="313200"/>
            <a:ext cx="8763120" cy="31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对称负载作三角形联结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闭合时，各电流表读数均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三相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4.5 k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相负载的电阻和感抗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开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电流表读数和有功功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S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闭合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电流表读数和有功功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275760" y="533160"/>
            <a:ext cx="15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2897640" y="3512160"/>
            <a:ext cx="4102560" cy="2593080"/>
            <a:chOff x="2897640" y="3512160"/>
            <a:chExt cx="4102560" cy="2593080"/>
          </a:xfrm>
        </p:grpSpPr>
        <p:sp>
          <p:nvSpPr>
            <p:cNvPr id="2122" name=""/>
            <p:cNvSpPr/>
            <p:nvPr/>
          </p:nvSpPr>
          <p:spPr>
            <a:xfrm>
              <a:off x="5896800" y="4737960"/>
              <a:ext cx="6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16210800">
              <a:off x="6307200" y="5065560"/>
              <a:ext cx="519120" cy="156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6565320" y="3746520"/>
              <a:ext cx="14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6562080" y="5422680"/>
              <a:ext cx="144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9471800">
              <a:off x="5584680" y="4187880"/>
              <a:ext cx="527040" cy="1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6076080" y="3763800"/>
              <a:ext cx="490680" cy="33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5255640" y="4409640"/>
              <a:ext cx="37404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 flipV="1">
              <a:off x="5248440" y="4744800"/>
              <a:ext cx="461520" cy="39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 flipV="1">
              <a:off x="6104160" y="5466240"/>
              <a:ext cx="455040" cy="34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6566040" y="456732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819600" y="4579920"/>
              <a:ext cx="412560" cy="420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821760" y="457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3392640" y="478296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230360" y="3747960"/>
              <a:ext cx="23432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9600" y="3513240"/>
              <a:ext cx="41112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21760" y="351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>
              <a:off x="3384720" y="374796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4238280" y="5829480"/>
              <a:ext cx="234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19600" y="5646600"/>
              <a:ext cx="41112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21760" y="564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3384720" y="582948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580640" y="4248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561720" y="40885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200920" y="378360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235840" y="508716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505560" y="4459320"/>
              <a:ext cx="10152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18160" y="4091040"/>
              <a:ext cx="10188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464160" y="4071960"/>
              <a:ext cx="88920" cy="39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549680" y="4726080"/>
              <a:ext cx="10152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943520" y="4700520"/>
              <a:ext cx="10152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5032440" y="4757760"/>
              <a:ext cx="24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4599000" y="4786200"/>
              <a:ext cx="430200" cy="5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4232160" y="478296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rot="13285200">
              <a:off x="5638320" y="5223600"/>
              <a:ext cx="519120" cy="15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6" name=""/>
            <p:cNvGrpSpPr/>
            <p:nvPr/>
          </p:nvGrpSpPr>
          <p:grpSpPr>
            <a:xfrm>
              <a:off x="2897640" y="3512160"/>
              <a:ext cx="509040" cy="2534400"/>
              <a:chOff x="2897640" y="3512160"/>
              <a:chExt cx="509040" cy="2534400"/>
            </a:xfrm>
          </p:grpSpPr>
          <p:sp>
            <p:nvSpPr>
              <p:cNvPr id="2157" name=""/>
              <p:cNvSpPr/>
              <p:nvPr/>
            </p:nvSpPr>
            <p:spPr>
              <a:xfrm>
                <a:off x="2904120" y="5586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897640" y="3512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927520" y="45406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313080" y="3701880"/>
                <a:ext cx="9360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276360" y="4732200"/>
                <a:ext cx="9396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276360" y="5799240"/>
                <a:ext cx="9396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"/>
          <p:cNvSpPr/>
          <p:nvPr/>
        </p:nvSpPr>
        <p:spPr>
          <a:xfrm>
            <a:off x="609480" y="4876920"/>
            <a:ext cx="76201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：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lang="zh-CN" sz="32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UI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cos</a:t>
            </a:r>
            <a:r>
              <a:rPr b="1" lang="zh-CN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　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tg</a:t>
            </a:r>
            <a:r>
              <a:rPr b="1" lang="zh-CN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=X</a:t>
            </a:r>
            <a:r>
              <a:rPr b="1" i="1" lang="zh-CN" sz="32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/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362320" y="5486400"/>
            <a:ext cx="30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572000" y="60958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626840" y="609480"/>
            <a:ext cx="24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已知条件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4878720" y="837000"/>
            <a:ext cx="4102200" cy="2593080"/>
            <a:chOff x="4878720" y="837000"/>
            <a:chExt cx="4102200" cy="2593080"/>
          </a:xfrm>
        </p:grpSpPr>
        <p:sp>
          <p:nvSpPr>
            <p:cNvPr id="2169" name=""/>
            <p:cNvSpPr/>
            <p:nvPr/>
          </p:nvSpPr>
          <p:spPr>
            <a:xfrm>
              <a:off x="7877520" y="2062800"/>
              <a:ext cx="6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16210800">
              <a:off x="8287920" y="2390760"/>
              <a:ext cx="519120" cy="156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8546400" y="1071360"/>
              <a:ext cx="14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8543160" y="2747520"/>
              <a:ext cx="144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19471800">
              <a:off x="7565400" y="1512360"/>
              <a:ext cx="526680" cy="1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8057160" y="1088640"/>
              <a:ext cx="490320" cy="33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7236720" y="1735200"/>
              <a:ext cx="373680" cy="35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flipV="1">
              <a:off x="7229160" y="2069640"/>
              <a:ext cx="461160" cy="39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8085240" y="2791440"/>
              <a:ext cx="455040" cy="34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8547120" y="189216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800680" y="1904760"/>
              <a:ext cx="412200" cy="420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802480" y="1903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5373360" y="2107800"/>
              <a:ext cx="42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6211800" y="1072800"/>
              <a:ext cx="234288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800680" y="838080"/>
              <a:ext cx="41076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802480" y="83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5365440" y="1072800"/>
              <a:ext cx="42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6219720" y="3154320"/>
              <a:ext cx="23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00680" y="2971440"/>
              <a:ext cx="41076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02480" y="2970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>
              <a:off x="5365440" y="3154320"/>
              <a:ext cx="42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561360" y="15735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542440" y="141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181640" y="110844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216560" y="241200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486640" y="1784160"/>
              <a:ext cx="10116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499240" y="1415880"/>
              <a:ext cx="10152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445240" y="1396800"/>
              <a:ext cx="88560" cy="39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30760" y="2050920"/>
              <a:ext cx="10116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924600" y="2025360"/>
              <a:ext cx="10116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7013160" y="2082600"/>
              <a:ext cx="24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6580080" y="2111040"/>
              <a:ext cx="429840" cy="5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6212880" y="2107800"/>
              <a:ext cx="31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rot="13285200">
              <a:off x="7619400" y="2548440"/>
              <a:ext cx="518760" cy="15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878720" y="837000"/>
              <a:ext cx="508680" cy="2534400"/>
              <a:chOff x="4878720" y="837000"/>
              <a:chExt cx="508680" cy="2534400"/>
            </a:xfrm>
          </p:grpSpPr>
          <p:sp>
            <p:nvSpPr>
              <p:cNvPr id="2204" name=""/>
              <p:cNvSpPr/>
              <p:nvPr/>
            </p:nvSpPr>
            <p:spPr>
              <a:xfrm>
                <a:off x="4884840" y="2911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878720" y="83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908600" y="1865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294160" y="1026720"/>
                <a:ext cx="9324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257440" y="2057040"/>
                <a:ext cx="9360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257440" y="3124080"/>
                <a:ext cx="9360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423720" y="554040"/>
            <a:ext cx="452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) S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闭合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断开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57200" y="3276360"/>
            <a:ext cx="57913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0A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7.32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33520" y="1133640"/>
            <a:ext cx="38862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流过电流表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电流变为相电流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流过电流表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电流仍为线电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36400" y="3711600"/>
            <a:ext cx="7007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开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闭合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每相有功功率 </a:t>
            </a:r>
            <a:r>
              <a:rPr b="1" i="1" lang="zh-CN" sz="3200" spc="-1" strike="noStrike">
                <a:solidFill>
                  <a:srgbClr val="006600"/>
                </a:solidFill>
                <a:latin typeface="Times New Roman"/>
              </a:rPr>
              <a:t>P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=1.5 k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0880" y="4800600"/>
            <a:ext cx="84582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时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相电压和相电流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，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150440" y="5562720"/>
            <a:ext cx="3498840" cy="64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BC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4574160" y="532440"/>
            <a:ext cx="4425480" cy="2654280"/>
            <a:chOff x="4574160" y="532440"/>
            <a:chExt cx="4425480" cy="2654280"/>
          </a:xfrm>
        </p:grpSpPr>
        <p:sp>
          <p:nvSpPr>
            <p:cNvPr id="2217" name=""/>
            <p:cNvSpPr/>
            <p:nvPr/>
          </p:nvSpPr>
          <p:spPr>
            <a:xfrm>
              <a:off x="6258600" y="13453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159600" y="19810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rot="16210800">
              <a:off x="7950240" y="2095200"/>
              <a:ext cx="576000" cy="15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8235360" y="797040"/>
              <a:ext cx="14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8232120" y="2473200"/>
              <a:ext cx="1440" cy="40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rot="19471800">
              <a:off x="7250040" y="1220400"/>
              <a:ext cx="585720" cy="1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7787520" y="815400"/>
              <a:ext cx="449280" cy="30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6918480" y="1468440"/>
              <a:ext cx="388800" cy="33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rot="13306800">
              <a:off x="7262280" y="2249280"/>
              <a:ext cx="586080" cy="1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 flipV="1">
              <a:off x="6919560" y="1796040"/>
              <a:ext cx="398520" cy="33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 flipV="1">
              <a:off x="7774200" y="2516760"/>
              <a:ext cx="455040" cy="34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8236080" y="16178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 flipV="1">
              <a:off x="8000640" y="1195200"/>
              <a:ext cx="236520" cy="4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6652800" y="180324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6242040" y="1824120"/>
              <a:ext cx="42696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5918040" y="1833480"/>
              <a:ext cx="33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489640" y="1630440"/>
              <a:ext cx="412560" cy="420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474160" y="1599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5062680" y="183348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5900400" y="798480"/>
              <a:ext cx="23432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89640" y="563400"/>
              <a:ext cx="411120" cy="422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474160" y="532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5054760" y="79848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5908320" y="2879640"/>
              <a:ext cx="234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489640" y="2697120"/>
              <a:ext cx="411120" cy="422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474160" y="2666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>
              <a:off x="5054760" y="287964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238240" y="1116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880680" y="83412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250120" y="1994760"/>
              <a:ext cx="74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536240" y="186300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248520" y="1676520"/>
              <a:ext cx="2286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74160" y="532440"/>
              <a:ext cx="509040" cy="2534400"/>
              <a:chOff x="4574160" y="532440"/>
              <a:chExt cx="509040" cy="2534400"/>
            </a:xfrm>
          </p:grpSpPr>
          <p:sp>
            <p:nvSpPr>
              <p:cNvPr id="2250" name=""/>
              <p:cNvSpPr/>
              <p:nvPr/>
            </p:nvSpPr>
            <p:spPr>
              <a:xfrm>
                <a:off x="4580640" y="2607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574160" y="532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604040" y="1560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989600" y="722160"/>
                <a:ext cx="9360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952880" y="1752480"/>
                <a:ext cx="9396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952880" y="2819520"/>
                <a:ext cx="9396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/>
          <p:nvPr/>
        </p:nvSpPr>
        <p:spPr>
          <a:xfrm>
            <a:off x="990720" y="1409400"/>
            <a:ext cx="1447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57200" y="731880"/>
            <a:ext cx="403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) S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断开、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闭合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772240" y="3153600"/>
            <a:ext cx="26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为单相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5929920" y="3686760"/>
            <a:ext cx="3172320" cy="2401200"/>
            <a:chOff x="5929920" y="3686760"/>
            <a:chExt cx="3172320" cy="2401200"/>
          </a:xfrm>
        </p:grpSpPr>
        <p:sp>
          <p:nvSpPr>
            <p:cNvPr id="2260" name=""/>
            <p:cNvSpPr/>
            <p:nvPr/>
          </p:nvSpPr>
          <p:spPr>
            <a:xfrm>
              <a:off x="6416280" y="3932280"/>
              <a:ext cx="196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272080" y="4664160"/>
              <a:ext cx="217440" cy="506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256160" y="5099040"/>
              <a:ext cx="217080" cy="506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256160" y="4230720"/>
              <a:ext cx="217080" cy="506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365600" y="394956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365600" y="47368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356240" y="5613480"/>
              <a:ext cx="0" cy="34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416280" y="5913360"/>
              <a:ext cx="196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432640" y="3855960"/>
              <a:ext cx="99720" cy="215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56320" y="3932280"/>
              <a:ext cx="0" cy="75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356320" y="5151240"/>
              <a:ext cx="0" cy="74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340320" y="5913360"/>
              <a:ext cx="80640" cy="82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38680" y="4192560"/>
              <a:ext cx="67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461000" y="510912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471160" y="4698000"/>
              <a:ext cx="6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29920" y="3686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38920" y="5628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340320" y="3932280"/>
              <a:ext cx="80640" cy="82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492760" y="4008240"/>
              <a:ext cx="0" cy="609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492760" y="40082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67160" y="408456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19680" y="41320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2" name=""/>
          <p:cNvSpPr/>
          <p:nvPr/>
        </p:nvSpPr>
        <p:spPr>
          <a:xfrm>
            <a:off x="685800" y="1792440"/>
            <a:ext cx="39625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仍为相电流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为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481680" y="2911320"/>
            <a:ext cx="468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0 A+ 5 A= 1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33520" y="3414600"/>
            <a:ext cx="4952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T Extra"/>
                <a:ea typeface="MT Extra"/>
              </a:rPr>
              <a:t>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为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所以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AB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BC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的功率变为原来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/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80880" y="4557600"/>
            <a:ext cx="62485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1/4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/4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+P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375 W+ 0.375 W+ 1.5 W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= 2.2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6" name=""/>
          <p:cNvGrpSpPr/>
          <p:nvPr/>
        </p:nvGrpSpPr>
        <p:grpSpPr>
          <a:xfrm>
            <a:off x="4574160" y="608400"/>
            <a:ext cx="4142880" cy="2516400"/>
            <a:chOff x="4574160" y="608400"/>
            <a:chExt cx="4142880" cy="2516400"/>
          </a:xfrm>
        </p:grpSpPr>
        <p:grpSp>
          <p:nvGrpSpPr>
            <p:cNvPr id="2287" name=""/>
            <p:cNvGrpSpPr/>
            <p:nvPr/>
          </p:nvGrpSpPr>
          <p:grpSpPr>
            <a:xfrm>
              <a:off x="4765680" y="619920"/>
              <a:ext cx="3951360" cy="2504880"/>
              <a:chOff x="4765680" y="619920"/>
              <a:chExt cx="3951360" cy="2504880"/>
            </a:xfrm>
          </p:grpSpPr>
          <p:sp>
            <p:nvSpPr>
              <p:cNvPr id="2288" name=""/>
              <p:cNvSpPr/>
              <p:nvPr/>
            </p:nvSpPr>
            <p:spPr>
              <a:xfrm>
                <a:off x="6067440" y="1967040"/>
                <a:ext cx="1857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10800">
                <a:off x="7740360" y="2090160"/>
                <a:ext cx="536760" cy="146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8006760" y="884160"/>
                <a:ext cx="1440" cy="35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V="1">
                <a:off x="8003520" y="2441520"/>
                <a:ext cx="1440" cy="37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9471800">
                <a:off x="7089480" y="1277640"/>
                <a:ext cx="544320" cy="144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7588800" y="899280"/>
                <a:ext cx="41940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V="1">
                <a:off x="6780960" y="1506960"/>
                <a:ext cx="36216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3306800">
                <a:off x="7100280" y="2233080"/>
                <a:ext cx="546120" cy="144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H="1" flipV="1">
                <a:off x="6782040" y="1812600"/>
                <a:ext cx="37044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H="1" flipV="1">
                <a:off x="7576560" y="2482560"/>
                <a:ext cx="422640" cy="32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V="1">
                <a:off x="8007480" y="164592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flipV="1">
                <a:off x="7772040" y="1253880"/>
                <a:ext cx="219240" cy="39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6533640" y="1819440"/>
                <a:ext cx="26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6150960" y="1828800"/>
                <a:ext cx="39852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5851440" y="1847880"/>
                <a:ext cx="30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452920" y="1658880"/>
                <a:ext cx="382680" cy="39060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423400" y="1612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>
                <a:off x="5054760" y="1847880"/>
                <a:ext cx="39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5834160" y="884160"/>
                <a:ext cx="217944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452920" y="666720"/>
                <a:ext cx="381240" cy="39204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423400" y="619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>
                <a:off x="5048280" y="88416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5842080" y="2819520"/>
                <a:ext cx="217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452920" y="2651040"/>
                <a:ext cx="381240" cy="39204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423400" y="2604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5048280" y="281952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765680" y="2550960"/>
                <a:ext cx="182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809960" y="620640"/>
                <a:ext cx="1828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778280" y="1577880"/>
                <a:ext cx="1857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106320" y="1265040"/>
                <a:ext cx="453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93800" y="1112760"/>
                <a:ext cx="453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724080" y="900720"/>
                <a:ext cx="612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020080" y="2035080"/>
                <a:ext cx="696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547040" y="18842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7845480" y="1229040"/>
                <a:ext cx="117360" cy="300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3" name=""/>
            <p:cNvSpPr/>
            <p:nvPr/>
          </p:nvSpPr>
          <p:spPr>
            <a:xfrm>
              <a:off x="6694920" y="2057400"/>
              <a:ext cx="61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335000" y="185580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Z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74160" y="6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604040" y="1637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989600" y="798480"/>
              <a:ext cx="9360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52880" y="1828800"/>
              <a:ext cx="9396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9" name=""/>
            <p:cNvGrpSpPr/>
            <p:nvPr/>
          </p:nvGrpSpPr>
          <p:grpSpPr>
            <a:xfrm>
              <a:off x="4580640" y="2553120"/>
              <a:ext cx="466200" cy="459720"/>
              <a:chOff x="4580640" y="2553120"/>
              <a:chExt cx="466200" cy="4597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580640" y="2553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952880" y="2765160"/>
                <a:ext cx="9396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2" name=""/>
          <p:cNvSpPr/>
          <p:nvPr/>
        </p:nvSpPr>
        <p:spPr>
          <a:xfrm>
            <a:off x="8381880" y="2133720"/>
            <a:ext cx="381240" cy="1214280"/>
          </a:xfrm>
          <a:custGeom>
            <a:avLst/>
            <a:gdLst>
              <a:gd name="textAreaLeft" fmla="*/ 51120 w 381240"/>
              <a:gd name="textAreaRight" fmla="*/ 330120 w 38124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231920" y="2071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电动势瞬时表示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2600" y="405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量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70400" y="297000"/>
            <a:ext cx="4476240" cy="1498320"/>
            <a:chOff x="3470400" y="297000"/>
            <a:chExt cx="4476240" cy="1498320"/>
          </a:xfrm>
        </p:grpSpPr>
        <p:grpSp>
          <p:nvGrpSpPr>
            <p:cNvPr id="354" name=""/>
            <p:cNvGrpSpPr/>
            <p:nvPr/>
          </p:nvGrpSpPr>
          <p:grpSpPr>
            <a:xfrm>
              <a:off x="3470400" y="297000"/>
              <a:ext cx="4476240" cy="1498320"/>
              <a:chOff x="3470400" y="297000"/>
              <a:chExt cx="4476240" cy="1498320"/>
            </a:xfrm>
          </p:grpSpPr>
          <p:sp>
            <p:nvSpPr>
              <p:cNvPr id="355" name=""/>
              <p:cNvSpPr/>
              <p:nvPr/>
            </p:nvSpPr>
            <p:spPr>
              <a:xfrm>
                <a:off x="3470400" y="592200"/>
                <a:ext cx="152280" cy="9144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43400" y="297000"/>
                <a:ext cx="231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铁心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作为导磁路经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11760" y="1038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三相绕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81880" y="7336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匝数相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12200" y="1274760"/>
                <a:ext cx="2134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空间排列互差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120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316480" y="9558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955680" y="169056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励磁的电磁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894600" y="741240"/>
            <a:ext cx="2525040" cy="1461960"/>
            <a:chOff x="894600" y="741240"/>
            <a:chExt cx="2525040" cy="1461960"/>
          </a:xfrm>
        </p:grpSpPr>
        <p:grpSp>
          <p:nvGrpSpPr>
            <p:cNvPr id="363" name=""/>
            <p:cNvGrpSpPr/>
            <p:nvPr/>
          </p:nvGrpSpPr>
          <p:grpSpPr>
            <a:xfrm>
              <a:off x="2514600" y="741240"/>
              <a:ext cx="905040" cy="1461960"/>
              <a:chOff x="2514600" y="741240"/>
              <a:chExt cx="905040" cy="1461960"/>
            </a:xfrm>
          </p:grpSpPr>
          <p:sp>
            <p:nvSpPr>
              <p:cNvPr id="364" name=""/>
              <p:cNvSpPr/>
              <p:nvPr/>
            </p:nvSpPr>
            <p:spPr>
              <a:xfrm>
                <a:off x="2514600" y="982440"/>
                <a:ext cx="228240" cy="990720"/>
              </a:xfrm>
              <a:custGeom>
                <a:avLst/>
                <a:gdLst>
                  <a:gd name="textAreaLeft" fmla="*/ 145800 w 228240"/>
                  <a:gd name="textAreaRight" fmla="*/ 228600 w 228240"/>
                  <a:gd name="textAreaTop" fmla="*/ 25560 h 990720"/>
                  <a:gd name="textAreaBottom" fmla="*/ 96516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2320" y="741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定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12320" y="16826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转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894600" y="11491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发电机结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990720" y="2517840"/>
            <a:ext cx="3886200" cy="1673280"/>
            <a:chOff x="990720" y="2517840"/>
            <a:chExt cx="3886200" cy="1673280"/>
          </a:xfrm>
        </p:grpSpPr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990720" y="2517840"/>
                  <a:ext cx="25905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990720" y="3048120"/>
                  <a:ext cx="38383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035000" y="3579840"/>
                  <a:ext cx="38419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2" name=""/>
          <p:cNvGrpSpPr/>
          <p:nvPr/>
        </p:nvGrpSpPr>
        <p:grpSpPr>
          <a:xfrm>
            <a:off x="838080" y="4538520"/>
            <a:ext cx="4951440" cy="2167200"/>
            <a:chOff x="838080" y="4538520"/>
            <a:chExt cx="4951440" cy="2167200"/>
          </a:xfrm>
        </p:grpSpPr>
        <p:grpSp>
          <p:nvGrpSpPr>
            <p:cNvPr id="373" name=""/>
            <p:cNvGrpSpPr/>
            <p:nvPr/>
          </p:nvGrpSpPr>
          <p:grpSpPr>
            <a:xfrm>
              <a:off x="838080" y="4538520"/>
              <a:ext cx="4951440" cy="2167200"/>
              <a:chOff x="838080" y="4538520"/>
              <a:chExt cx="4951440" cy="2167200"/>
            </a:xfrm>
          </p:grpSpPr>
          <mc:AlternateContent>
            <mc:Choice xmlns:a14="http://schemas.microsoft.com/office/drawing/2010/main" Requires="a14">
              <p:sp>
                <p:nvSpPr>
                  <p:cNvPr id="374" name=""/>
                  <p:cNvSpPr txBox="1"/>
                  <p:nvPr/>
                </p:nvSpPr>
                <p:spPr>
                  <a:xfrm>
                    <a:off x="838080" y="4800600"/>
                    <a:ext cx="4951440" cy="103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75" name=""/>
                  <p:cNvSpPr txBox="1"/>
                  <p:nvPr/>
                </p:nvSpPr>
                <p:spPr>
                  <a:xfrm>
                    <a:off x="838080" y="5672160"/>
                    <a:ext cx="4950000" cy="103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76" name=""/>
            <p:cNvGrpSpPr/>
            <p:nvPr/>
          </p:nvGrpSpPr>
          <p:grpSpPr>
            <a:xfrm>
              <a:off x="2057040" y="4648320"/>
              <a:ext cx="457560" cy="304560"/>
              <a:chOff x="2057040" y="4648320"/>
              <a:chExt cx="457560" cy="30456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2057040" y="46483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57400" y="49528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057400" y="5181480"/>
              <a:ext cx="1219320" cy="304920"/>
              <a:chOff x="2057400" y="5181480"/>
              <a:chExt cx="1219320" cy="30492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2057400" y="51814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57400" y="54864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981080" y="6095880"/>
              <a:ext cx="1219320" cy="304920"/>
              <a:chOff x="1981080" y="6095880"/>
              <a:chExt cx="1219320" cy="30492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1981080" y="6095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1080" y="64008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380880" y="1014840"/>
            <a:ext cx="876312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大楼为日光灯和白炽灯混合照明，需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瓦 日光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cos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瓦白炽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cos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1)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们的额定电压都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8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电网供电。试分配其负载并指出应如何接入电网。这种情况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路电流为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04560" y="642600"/>
            <a:ext cx="15238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80880" y="30614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该照明系统与电网连接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85800" y="3352680"/>
            <a:ext cx="7924680" cy="2752560"/>
            <a:chOff x="685800" y="3352680"/>
            <a:chExt cx="7924680" cy="2752560"/>
          </a:xfrm>
        </p:grpSpPr>
        <p:sp>
          <p:nvSpPr>
            <p:cNvPr id="2337" name=""/>
            <p:cNvSpPr/>
            <p:nvPr/>
          </p:nvSpPr>
          <p:spPr>
            <a:xfrm>
              <a:off x="685800" y="564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770520" y="5342040"/>
              <a:ext cx="0" cy="615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066680" y="3843360"/>
              <a:ext cx="748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123920" y="388296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066680" y="4162320"/>
              <a:ext cx="748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123920" y="420048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066680" y="4479840"/>
              <a:ext cx="748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123920" y="451944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85800" y="362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85800" y="3950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5800" y="426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066680" y="5908680"/>
              <a:ext cx="748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123920" y="595008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343640" y="5332320"/>
              <a:ext cx="0" cy="636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5183280" y="5018040"/>
              <a:ext cx="304560" cy="3175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908680" y="5326200"/>
              <a:ext cx="0" cy="636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863880" y="4519440"/>
              <a:ext cx="0" cy="503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618240" y="5024520"/>
              <a:ext cx="304920" cy="3175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770520" y="3876840"/>
              <a:ext cx="0" cy="1168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656400" y="506412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6656400" y="506412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267680" y="5014800"/>
              <a:ext cx="152280" cy="317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7343640" y="3873600"/>
              <a:ext cx="0" cy="1141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35560" y="5335560"/>
              <a:ext cx="0" cy="615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335560" y="4219560"/>
              <a:ext cx="0" cy="8190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221440" y="505764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5221440" y="505764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832360" y="5008680"/>
              <a:ext cx="152640" cy="317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5908680" y="4215960"/>
              <a:ext cx="0" cy="792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3711600" y="5003640"/>
              <a:ext cx="304920" cy="3175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886200" y="5299200"/>
              <a:ext cx="0" cy="649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749760" y="5045040"/>
              <a:ext cx="228600" cy="23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3749760" y="5044680"/>
              <a:ext cx="228600" cy="23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361040" y="4995720"/>
              <a:ext cx="152280" cy="31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437000" y="5311800"/>
              <a:ext cx="0" cy="636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4437000" y="4498920"/>
              <a:ext cx="1800" cy="496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697440" y="55029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515360" y="53672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867280" y="400356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553080" y="482112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620120" y="471816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296720" y="4484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297080" y="5457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341840" y="55134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"/>
          <p:cNvSpPr/>
          <p:nvPr/>
        </p:nvSpPr>
        <p:spPr>
          <a:xfrm>
            <a:off x="974880" y="496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该照明系统与电网连接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609480" y="685800"/>
            <a:ext cx="7924680" cy="2752560"/>
            <a:chOff x="609480" y="685800"/>
            <a:chExt cx="7924680" cy="2752560"/>
          </a:xfrm>
        </p:grpSpPr>
        <p:sp>
          <p:nvSpPr>
            <p:cNvPr id="2384" name=""/>
            <p:cNvSpPr/>
            <p:nvPr/>
          </p:nvSpPr>
          <p:spPr>
            <a:xfrm>
              <a:off x="609480" y="2978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694200" y="2675160"/>
              <a:ext cx="0" cy="615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990360" y="1176480"/>
              <a:ext cx="748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047600" y="121608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990360" y="1495440"/>
              <a:ext cx="748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047600" y="153360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990360" y="1812960"/>
              <a:ext cx="748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047600" y="185256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09480" y="962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09480" y="128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09480" y="160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990360" y="3241800"/>
              <a:ext cx="748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047600" y="3283200"/>
              <a:ext cx="74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267320" y="2665440"/>
              <a:ext cx="0" cy="636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5106960" y="2351160"/>
              <a:ext cx="304560" cy="3175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832360" y="2659320"/>
              <a:ext cx="0" cy="636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787560" y="1852560"/>
              <a:ext cx="0" cy="503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6541920" y="2357640"/>
              <a:ext cx="304920" cy="3175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694200" y="1209960"/>
              <a:ext cx="0" cy="1168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580080" y="239724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6580080" y="239724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191360" y="2347920"/>
              <a:ext cx="152280" cy="317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7267320" y="1206720"/>
              <a:ext cx="0" cy="1141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59240" y="2668680"/>
              <a:ext cx="0" cy="615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259240" y="1552680"/>
              <a:ext cx="0" cy="8190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145120" y="239076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V="1">
              <a:off x="5145120" y="2390760"/>
              <a:ext cx="228600" cy="239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756040" y="2341800"/>
              <a:ext cx="152640" cy="317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5832360" y="1549080"/>
              <a:ext cx="0" cy="792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3635280" y="2336760"/>
              <a:ext cx="304920" cy="3175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809880" y="2632320"/>
              <a:ext cx="0" cy="649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673440" y="2378160"/>
              <a:ext cx="228600" cy="23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3673440" y="2377800"/>
              <a:ext cx="228600" cy="23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284720" y="2328840"/>
              <a:ext cx="152280" cy="31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360680" y="2644920"/>
              <a:ext cx="0" cy="636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4360680" y="1832040"/>
              <a:ext cx="1800" cy="496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621120" y="28360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439040" y="2700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790960" y="133668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476760" y="215424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543800" y="205128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220400" y="181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220760" y="27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265520" y="28465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4857840" y="4025880"/>
            <a:ext cx="3838320" cy="1095480"/>
            <a:chOff x="4857840" y="4025880"/>
            <a:chExt cx="3838320" cy="1095480"/>
          </a:xfrm>
        </p:grpSpPr>
        <p:grpSp>
          <p:nvGrpSpPr>
            <p:cNvPr id="2429" name=""/>
            <p:cNvGrpSpPr/>
            <p:nvPr/>
          </p:nvGrpSpPr>
          <p:grpSpPr>
            <a:xfrm>
              <a:off x="7543440" y="4378320"/>
              <a:ext cx="838440" cy="304560"/>
              <a:chOff x="7543440" y="4378320"/>
              <a:chExt cx="838440" cy="304560"/>
            </a:xfrm>
          </p:grpSpPr>
          <p:sp>
            <p:nvSpPr>
              <p:cNvPr id="2430" name=""/>
              <p:cNvSpPr/>
              <p:nvPr/>
            </p:nvSpPr>
            <p:spPr>
              <a:xfrm flipH="1">
                <a:off x="7543440" y="43783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543800" y="4682880"/>
                <a:ext cx="83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2" name=""/>
          <p:cNvGrpSpPr/>
          <p:nvPr/>
        </p:nvGrpSpPr>
        <p:grpSpPr>
          <a:xfrm>
            <a:off x="5398920" y="5068800"/>
            <a:ext cx="2465640" cy="513000"/>
            <a:chOff x="5398920" y="5068800"/>
            <a:chExt cx="2465640" cy="513000"/>
          </a:xfrm>
        </p:grpSpPr>
        <p:grpSp>
          <p:nvGrpSpPr>
            <p:cNvPr id="2433" name=""/>
            <p:cNvGrpSpPr/>
            <p:nvPr/>
          </p:nvGrpSpPr>
          <p:grpSpPr>
            <a:xfrm>
              <a:off x="6629040" y="5145120"/>
              <a:ext cx="838440" cy="304560"/>
              <a:chOff x="6629040" y="5145120"/>
              <a:chExt cx="838440" cy="304560"/>
            </a:xfrm>
          </p:grpSpPr>
          <p:sp>
            <p:nvSpPr>
              <p:cNvPr id="2434" name=""/>
              <p:cNvSpPr/>
              <p:nvPr/>
            </p:nvSpPr>
            <p:spPr>
              <a:xfrm flipH="1">
                <a:off x="6629040" y="51451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629400" y="5449680"/>
                <a:ext cx="83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6" name=""/>
          <p:cNvGrpSpPr/>
          <p:nvPr/>
        </p:nvGrpSpPr>
        <p:grpSpPr>
          <a:xfrm>
            <a:off x="776160" y="5638680"/>
            <a:ext cx="5226120" cy="594000"/>
            <a:chOff x="776160" y="5638680"/>
            <a:chExt cx="5226120" cy="594000"/>
          </a:xfrm>
        </p:grpSpPr>
        <p:grpSp>
          <p:nvGrpSpPr>
            <p:cNvPr id="2437" name=""/>
            <p:cNvGrpSpPr/>
            <p:nvPr/>
          </p:nvGrpSpPr>
          <p:grpSpPr>
            <a:xfrm>
              <a:off x="4419360" y="5791320"/>
              <a:ext cx="1219320" cy="304560"/>
              <a:chOff x="4419360" y="5791320"/>
              <a:chExt cx="1219320" cy="304560"/>
            </a:xfrm>
          </p:grpSpPr>
          <p:sp>
            <p:nvSpPr>
              <p:cNvPr id="2438" name=""/>
              <p:cNvSpPr/>
              <p:nvPr/>
            </p:nvSpPr>
            <p:spPr>
              <a:xfrm flipH="1">
                <a:off x="4419360" y="57913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419720" y="609588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0" name=""/>
          <p:cNvGrpSpPr/>
          <p:nvPr/>
        </p:nvGrpSpPr>
        <p:grpSpPr>
          <a:xfrm>
            <a:off x="1025640" y="4079880"/>
            <a:ext cx="3409920" cy="1025640"/>
            <a:chOff x="1025640" y="4079880"/>
            <a:chExt cx="3409920" cy="1025640"/>
          </a:xfrm>
        </p:grpSpPr>
        <p:grpSp>
          <p:nvGrpSpPr>
            <p:cNvPr id="2441" name=""/>
            <p:cNvGrpSpPr/>
            <p:nvPr/>
          </p:nvGrpSpPr>
          <p:grpSpPr>
            <a:xfrm>
              <a:off x="3581280" y="4419720"/>
              <a:ext cx="457200" cy="304560"/>
              <a:chOff x="3581280" y="4419720"/>
              <a:chExt cx="457200" cy="304560"/>
            </a:xfrm>
          </p:grpSpPr>
          <p:sp>
            <p:nvSpPr>
              <p:cNvPr id="2442" name=""/>
              <p:cNvSpPr/>
              <p:nvPr/>
            </p:nvSpPr>
            <p:spPr>
              <a:xfrm flipH="1">
                <a:off x="3581280" y="441972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3581280" y="47242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4" name=""/>
          <p:cNvGrpSpPr/>
          <p:nvPr/>
        </p:nvGrpSpPr>
        <p:grpSpPr>
          <a:xfrm>
            <a:off x="1569960" y="5103720"/>
            <a:ext cx="2233800" cy="522360"/>
            <a:chOff x="1569960" y="5103720"/>
            <a:chExt cx="2233800" cy="522360"/>
          </a:xfrm>
        </p:grpSpPr>
        <p:grpSp>
          <p:nvGrpSpPr>
            <p:cNvPr id="2445" name=""/>
            <p:cNvGrpSpPr/>
            <p:nvPr/>
          </p:nvGrpSpPr>
          <p:grpSpPr>
            <a:xfrm>
              <a:off x="2971800" y="5181480"/>
              <a:ext cx="457200" cy="304560"/>
              <a:chOff x="2971800" y="5181480"/>
              <a:chExt cx="457200" cy="304560"/>
            </a:xfrm>
          </p:grpSpPr>
          <p:sp>
            <p:nvSpPr>
              <p:cNvPr id="2446" name=""/>
              <p:cNvSpPr/>
              <p:nvPr/>
            </p:nvSpPr>
            <p:spPr>
              <a:xfrm flipH="1">
                <a:off x="2971800" y="518148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971800" y="548604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8" name=""/>
          <p:cNvGrpSpPr/>
          <p:nvPr/>
        </p:nvGrpSpPr>
        <p:grpSpPr>
          <a:xfrm>
            <a:off x="700560" y="3239280"/>
            <a:ext cx="5045400" cy="1242720"/>
            <a:chOff x="700560" y="3239280"/>
            <a:chExt cx="5045400" cy="1242720"/>
          </a:xfrm>
        </p:grpSpPr>
        <p:sp>
          <p:nvSpPr>
            <p:cNvPr id="2449" name=""/>
            <p:cNvSpPr/>
            <p:nvPr/>
          </p:nvSpPr>
          <p:spPr>
            <a:xfrm>
              <a:off x="5309280" y="3568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700560" y="3239280"/>
              <a:ext cx="4710600" cy="1242720"/>
              <a:chOff x="700560" y="3239280"/>
              <a:chExt cx="4710600" cy="1242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700560" y="3563280"/>
                <a:ext cx="210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 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(2)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计算线电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2" name=""/>
              <p:cNvGrpSpPr/>
              <p:nvPr/>
            </p:nvGrpSpPr>
            <p:grpSpPr>
              <a:xfrm>
                <a:off x="3520080" y="3239280"/>
                <a:ext cx="493920" cy="861840"/>
                <a:chOff x="3520080" y="3239280"/>
                <a:chExt cx="493920" cy="86184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3577320" y="35805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3520080" y="3239280"/>
                  <a:ext cx="487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3048120" y="3534840"/>
                <a:ext cx="2363040" cy="947160"/>
                <a:chOff x="3048120" y="3534840"/>
                <a:chExt cx="2363040" cy="947160"/>
              </a:xfrm>
            </p:grpSpPr>
            <p:sp>
              <p:nvSpPr>
                <p:cNvPr id="2456" name=""/>
                <p:cNvSpPr/>
                <p:nvPr/>
              </p:nvSpPr>
              <p:spPr>
                <a:xfrm>
                  <a:off x="3048120" y="3534840"/>
                  <a:ext cx="5331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设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3883320" y="3535920"/>
                  <a:ext cx="1527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=220  0</a:t>
                  </a:r>
                  <a:r>
                    <a:rPr b="1" lang="zh-CN" sz="3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8" name=""/>
                <p:cNvGrpSpPr/>
                <p:nvPr/>
              </p:nvGrpSpPr>
              <p:grpSpPr>
                <a:xfrm>
                  <a:off x="4840200" y="3695760"/>
                  <a:ext cx="457200" cy="304560"/>
                  <a:chOff x="4840200" y="3695760"/>
                  <a:chExt cx="457200" cy="304560"/>
                </a:xfrm>
              </p:grpSpPr>
              <p:sp>
                <p:nvSpPr>
                  <p:cNvPr id="2459" name=""/>
                  <p:cNvSpPr/>
                  <p:nvPr/>
                </p:nvSpPr>
                <p:spPr>
                  <a:xfrm flipH="1">
                    <a:off x="4840200" y="3695760"/>
                    <a:ext cx="152640" cy="30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4840200" y="4000320"/>
                    <a:ext cx="457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57200" y="609480"/>
            <a:ext cx="8381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大楼电灯发生故障，第二层楼和第三层楼所有电灯都突然暗下来，而第一层楼电灯亮度不变，试问这是什么原因？这楼的电灯是如何联接的？同时发现，第三层楼的电灯比第二层楼的电灯还暗些，这又是什么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107000" y="304812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本系统供电线路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4" name=""/>
          <p:cNvGrpSpPr/>
          <p:nvPr/>
        </p:nvGrpSpPr>
        <p:grpSpPr>
          <a:xfrm>
            <a:off x="3902040" y="4834080"/>
            <a:ext cx="584640" cy="1539360"/>
            <a:chOff x="3902040" y="4834080"/>
            <a:chExt cx="584640" cy="1539360"/>
          </a:xfrm>
        </p:grpSpPr>
        <p:grpSp>
          <p:nvGrpSpPr>
            <p:cNvPr id="2465" name=""/>
            <p:cNvGrpSpPr/>
            <p:nvPr/>
          </p:nvGrpSpPr>
          <p:grpSpPr>
            <a:xfrm>
              <a:off x="3902040" y="5301720"/>
              <a:ext cx="584640" cy="1071720"/>
              <a:chOff x="3902040" y="5301720"/>
              <a:chExt cx="584640" cy="1071720"/>
            </a:xfrm>
          </p:grpSpPr>
          <p:sp>
            <p:nvSpPr>
              <p:cNvPr id="2466" name=""/>
              <p:cNvSpPr/>
              <p:nvPr/>
            </p:nvSpPr>
            <p:spPr>
              <a:xfrm>
                <a:off x="3978720" y="5852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902040" y="530172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8" name=""/>
            <p:cNvSpPr/>
            <p:nvPr/>
          </p:nvSpPr>
          <p:spPr>
            <a:xfrm rot="10800000">
              <a:off x="4111560" y="4834080"/>
              <a:ext cx="193680" cy="658800"/>
            </a:xfrm>
            <a:prstGeom prst="upArrow">
              <a:avLst>
                <a:gd name="adj1" fmla="val 50000"/>
                <a:gd name="adj2" fmla="val 85037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819000" y="3580200"/>
            <a:ext cx="7715520" cy="2724840"/>
            <a:chOff x="819000" y="3580200"/>
            <a:chExt cx="7715520" cy="2724840"/>
          </a:xfrm>
        </p:grpSpPr>
        <p:sp>
          <p:nvSpPr>
            <p:cNvPr id="2470" name=""/>
            <p:cNvSpPr/>
            <p:nvPr/>
          </p:nvSpPr>
          <p:spPr>
            <a:xfrm>
              <a:off x="2952720" y="5845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29440" y="57578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831920" y="5845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二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660680" y="504684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19000" y="3580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5867280" y="483480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019920" y="5140440"/>
              <a:ext cx="0" cy="5904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019920" y="3735360"/>
              <a:ext cx="0" cy="1119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905440" y="48736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5905440" y="487332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257480" y="3716280"/>
              <a:ext cx="7128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311120" y="3763800"/>
              <a:ext cx="72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238400" y="4040280"/>
              <a:ext cx="7128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292400" y="4078440"/>
              <a:ext cx="716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257480" y="4344840"/>
              <a:ext cx="71280" cy="74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311120" y="4383000"/>
              <a:ext cx="710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19000" y="3866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19000" y="4209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219320" y="5716440"/>
              <a:ext cx="71280" cy="74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273320" y="5754600"/>
              <a:ext cx="714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553080" y="5106960"/>
              <a:ext cx="0" cy="609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4421160" y="486180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573440" y="5167440"/>
              <a:ext cx="0" cy="5904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573440" y="4095720"/>
              <a:ext cx="0" cy="785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459320" y="49006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>
              <a:off x="4459320" y="490032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146560" y="5157720"/>
              <a:ext cx="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5146560" y="4076280"/>
              <a:ext cx="0" cy="77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6400800" y="482040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438960" y="48592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6423120" y="485100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75240" y="5143680"/>
              <a:ext cx="0" cy="609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3657600" y="4382640"/>
              <a:ext cx="1440" cy="474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22240" y="5563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162920" y="5140440"/>
              <a:ext cx="0" cy="5904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143840" y="3754440"/>
              <a:ext cx="0" cy="1119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7010280" y="483480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048440" y="48736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7048440" y="487332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553080" y="3773520"/>
              <a:ext cx="0" cy="1047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4971960" y="484416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010120" y="488304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5010120" y="48826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3514680" y="487296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552840" y="491184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3552840" y="49114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354320" y="532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353600" y="4406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357360" y="5826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"/>
          <p:cNvSpPr/>
          <p:nvPr/>
        </p:nvSpPr>
        <p:spPr>
          <a:xfrm>
            <a:off x="434880" y="3762360"/>
            <a:ext cx="8534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断开时，二、三层楼的灯串联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80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，所以亮度变暗，但一层楼的灯仍承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亮度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11200" y="5184720"/>
            <a:ext cx="8632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三楼灯多于二楼灯即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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三楼灯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楼灯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940320" y="380880"/>
            <a:ext cx="29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本系统供电线路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2" name=""/>
          <p:cNvGrpSpPr/>
          <p:nvPr/>
        </p:nvGrpSpPr>
        <p:grpSpPr>
          <a:xfrm>
            <a:off x="704880" y="840240"/>
            <a:ext cx="7715160" cy="2833200"/>
            <a:chOff x="704880" y="840240"/>
            <a:chExt cx="7715160" cy="2833200"/>
          </a:xfrm>
        </p:grpSpPr>
        <p:sp>
          <p:nvSpPr>
            <p:cNvPr id="2523" name=""/>
            <p:cNvSpPr/>
            <p:nvPr/>
          </p:nvSpPr>
          <p:spPr>
            <a:xfrm>
              <a:off x="704880" y="84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776240" y="27417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864600" y="3126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848040" y="28328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rot="10800000">
              <a:off x="3962520" y="2308320"/>
              <a:ext cx="193680" cy="590400"/>
            </a:xfrm>
            <a:prstGeom prst="upArrow">
              <a:avLst>
                <a:gd name="adj1" fmla="val 50000"/>
                <a:gd name="adj2" fmla="val 76208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5753160" y="2195640"/>
              <a:ext cx="304920" cy="30456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905440" y="2500200"/>
              <a:ext cx="0" cy="623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905440" y="1095480"/>
              <a:ext cx="0" cy="1119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791320" y="223344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5791320" y="22330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143000" y="1076400"/>
              <a:ext cx="7128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197000" y="1123920"/>
              <a:ext cx="722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123920" y="1400040"/>
              <a:ext cx="71640" cy="74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177920" y="1438200"/>
              <a:ext cx="716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143000" y="1704960"/>
              <a:ext cx="7128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197000" y="1743120"/>
              <a:ext cx="710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04880" y="122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04880" y="1568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104840" y="3076560"/>
              <a:ext cx="7164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158840" y="3114720"/>
              <a:ext cx="714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38960" y="2467080"/>
              <a:ext cx="0" cy="6570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4307040" y="2222640"/>
              <a:ext cx="304560" cy="30456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459320" y="2527200"/>
              <a:ext cx="0" cy="590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459320" y="1455840"/>
              <a:ext cx="0" cy="785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344840" y="226044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4344840" y="22600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032440" y="2517840"/>
              <a:ext cx="0" cy="609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5032440" y="1436760"/>
              <a:ext cx="0" cy="7761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6286680" y="2180520"/>
              <a:ext cx="30456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324480" y="221940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6308640" y="221112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560760" y="2503440"/>
              <a:ext cx="0" cy="609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3543480" y="1743120"/>
              <a:ext cx="1440" cy="474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08120" y="292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048440" y="2500200"/>
              <a:ext cx="0" cy="623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029360" y="1114560"/>
              <a:ext cx="0" cy="1118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6896160" y="2195640"/>
              <a:ext cx="304920" cy="30456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934320" y="223344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6934320" y="223308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438960" y="1133640"/>
              <a:ext cx="0" cy="1047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4857840" y="2204280"/>
              <a:ext cx="30456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896000" y="224316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4896000" y="224280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3400560" y="2232720"/>
              <a:ext cx="304560" cy="304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438360" y="227160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3438360" y="2271240"/>
              <a:ext cx="22860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114960" y="31273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738320" y="3152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二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175200" y="3152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239840" y="2630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240200" y="1716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952880" y="274248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6688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波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81080" y="3047760"/>
            <a:ext cx="4903560" cy="3184560"/>
            <a:chOff x="181080" y="3047760"/>
            <a:chExt cx="4903560" cy="3184560"/>
          </a:xfrm>
        </p:grpSpPr>
        <p:sp>
          <p:nvSpPr>
            <p:cNvPr id="388" name=""/>
            <p:cNvSpPr/>
            <p:nvPr/>
          </p:nvSpPr>
          <p:spPr>
            <a:xfrm>
              <a:off x="633600" y="30477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1080" y="3413160"/>
              <a:ext cx="4903560" cy="2819160"/>
              <a:chOff x="181080" y="3413160"/>
              <a:chExt cx="4903560" cy="281916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81080" y="3413160"/>
                <a:ext cx="1218960" cy="2819160"/>
                <a:chOff x="181080" y="3413160"/>
                <a:chExt cx="1218960" cy="2819160"/>
              </a:xfrm>
            </p:grpSpPr>
            <p:sp>
              <p:nvSpPr>
                <p:cNvPr id="391" name=""/>
                <p:cNvSpPr/>
                <p:nvPr/>
              </p:nvSpPr>
              <p:spPr>
                <a:xfrm flipV="1">
                  <a:off x="181080" y="3884760"/>
                  <a:ext cx="1218960" cy="1052640"/>
                </a:xfrm>
                <a:custGeom>
                  <a:avLst/>
                  <a:gdLst/>
                  <a:ahLst/>
                  <a:rect l="l" t="t" r="r" b="b"/>
                  <a:pathLst>
                    <a:path w="864" h="480">
                      <a:moveTo>
                        <a:pt x="0" y="0"/>
                      </a:moveTo>
                      <a:cubicBezTo>
                        <a:pt x="144" y="240"/>
                        <a:pt x="288" y="480"/>
                        <a:pt x="432" y="480"/>
                      </a:cubicBezTo>
                      <a:cubicBezTo>
                        <a:pt x="576" y="480"/>
                        <a:pt x="720" y="240"/>
                        <a:pt x="864" y="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1019160" y="3413160"/>
                  <a:ext cx="0" cy="28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 flipV="1">
                <a:off x="1019160" y="3884760"/>
                <a:ext cx="114300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781280" y="3884760"/>
                <a:ext cx="114300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93640" y="4937400"/>
                <a:ext cx="118764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019160" y="4937400"/>
                <a:ext cx="380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8280" y="47692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52680" y="3413520"/>
                <a:ext cx="76176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ff9933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zh-CN" sz="3200" spc="-1" strike="noStrike" baseline="-25000">
                    <a:solidFill>
                      <a:srgbClr val="ff9933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403000" y="3413520"/>
                <a:ext cx="54036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339933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zh-CN" sz="3200" spc="-1" strike="noStrike" baseline="-25000">
                    <a:solidFill>
                      <a:srgbClr val="339933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204360" y="3413520"/>
                <a:ext cx="5526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zh-CN" sz="32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43040" y="387000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305160" y="3884760"/>
                <a:ext cx="114300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62160" y="493740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24280" y="493740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00040" y="4937400"/>
                <a:ext cx="114300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228840" y="48452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63600" y="4845240"/>
                <a:ext cx="3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24800" y="4556520"/>
                <a:ext cx="66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20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04200" y="4556520"/>
                <a:ext cx="66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40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66320" y="4556520"/>
                <a:ext cx="66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60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1" name=""/>
                  <p:cNvSpPr txBox="1"/>
                  <p:nvPr/>
                </p:nvSpPr>
                <p:spPr>
                  <a:xfrm>
                    <a:off x="4572000" y="4937400"/>
                    <a:ext cx="5126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2" name=""/>
              <p:cNvSpPr/>
              <p:nvPr/>
            </p:nvSpPr>
            <p:spPr>
              <a:xfrm>
                <a:off x="4067280" y="3870720"/>
                <a:ext cx="533160" cy="1066680"/>
              </a:xfrm>
              <a:custGeom>
                <a:avLst/>
                <a:gdLst/>
                <a:ahLst/>
                <a:rect l="l" t="t" r="r" b="b"/>
                <a:pathLst>
                  <a:path w="336" h="672">
                    <a:moveTo>
                      <a:pt x="0" y="672"/>
                    </a:moveTo>
                    <a:cubicBezTo>
                      <a:pt x="36" y="584"/>
                      <a:pt x="72" y="496"/>
                      <a:pt x="96" y="432"/>
                    </a:cubicBezTo>
                    <a:cubicBezTo>
                      <a:pt x="120" y="368"/>
                      <a:pt x="128" y="328"/>
                      <a:pt x="144" y="288"/>
                    </a:cubicBezTo>
                    <a:cubicBezTo>
                      <a:pt x="160" y="248"/>
                      <a:pt x="176" y="224"/>
                      <a:pt x="192" y="192"/>
                    </a:cubicBezTo>
                    <a:cubicBezTo>
                      <a:pt x="208" y="160"/>
                      <a:pt x="224" y="120"/>
                      <a:pt x="240" y="96"/>
                    </a:cubicBezTo>
                    <a:cubicBezTo>
                      <a:pt x="256" y="72"/>
                      <a:pt x="272" y="64"/>
                      <a:pt x="288" y="48"/>
                    </a:cubicBezTo>
                    <a:cubicBezTo>
                      <a:pt x="304" y="32"/>
                      <a:pt x="320" y="8"/>
                      <a:pt x="336" y="0"/>
                    </a:cubicBezTo>
                  </a:path>
                </a:pathLst>
              </a:custGeom>
              <a:noFill/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86040" y="4937400"/>
                <a:ext cx="838440" cy="1092240"/>
              </a:xfrm>
              <a:custGeom>
                <a:avLst/>
                <a:gdLst/>
                <a:ahLst/>
                <a:rect l="l" t="t" r="r" b="b"/>
                <a:pathLst>
                  <a:path w="528" h="688">
                    <a:moveTo>
                      <a:pt x="0" y="0"/>
                    </a:moveTo>
                    <a:cubicBezTo>
                      <a:pt x="64" y="208"/>
                      <a:pt x="128" y="416"/>
                      <a:pt x="192" y="528"/>
                    </a:cubicBezTo>
                    <a:cubicBezTo>
                      <a:pt x="256" y="640"/>
                      <a:pt x="328" y="688"/>
                      <a:pt x="384" y="672"/>
                    </a:cubicBezTo>
                    <a:cubicBezTo>
                      <a:pt x="440" y="656"/>
                      <a:pt x="504" y="480"/>
                      <a:pt x="528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4" name=""/>
          <p:cNvGraphicFramePr/>
          <p:nvPr/>
        </p:nvGraphicFramePr>
        <p:xfrm>
          <a:off x="123840" y="3809880"/>
          <a:ext cx="86688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3809880"/>
                    <a:ext cx="866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5242320" y="4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量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4120" y="3213720"/>
            <a:ext cx="2984760" cy="3017160"/>
            <a:chOff x="5334120" y="3213720"/>
            <a:chExt cx="2984760" cy="3017160"/>
          </a:xfrm>
        </p:grpSpPr>
        <p:sp>
          <p:nvSpPr>
            <p:cNvPr id="418" name=""/>
            <p:cNvSpPr/>
            <p:nvPr/>
          </p:nvSpPr>
          <p:spPr>
            <a:xfrm>
              <a:off x="5601240" y="565128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6000120" y="3787200"/>
              <a:ext cx="607680" cy="97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90040" y="4762080"/>
              <a:ext cx="592560" cy="106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72160" y="4746600"/>
              <a:ext cx="117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54040" y="4397400"/>
              <a:ext cx="56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35760" y="41882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76840" y="544716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48520" y="4457880"/>
              <a:ext cx="609480" cy="609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05720" y="40766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98080" y="4915080"/>
              <a:ext cx="8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10600" y="4457880"/>
              <a:ext cx="8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5334120" y="3213720"/>
              <a:ext cx="838080" cy="779040"/>
              <a:chOff x="5334120" y="3213720"/>
              <a:chExt cx="838080" cy="779040"/>
            </a:xfrm>
          </p:grpSpPr>
          <p:sp>
            <p:nvSpPr>
              <p:cNvPr id="430" name=""/>
              <p:cNvSpPr/>
              <p:nvPr/>
            </p:nvSpPr>
            <p:spPr>
              <a:xfrm>
                <a:off x="5334120" y="341316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32120" y="321372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762120" y="457200"/>
            <a:ext cx="3886200" cy="2206800"/>
            <a:chOff x="762120" y="457200"/>
            <a:chExt cx="3886200" cy="2206800"/>
          </a:xfrm>
        </p:grpSpPr>
        <p:sp>
          <p:nvSpPr>
            <p:cNvPr id="433" name=""/>
            <p:cNvSpPr/>
            <p:nvPr/>
          </p:nvSpPr>
          <p:spPr>
            <a:xfrm>
              <a:off x="1254240" y="457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相电动势瞬时表示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762120" y="990720"/>
              <a:ext cx="3886200" cy="1673280"/>
              <a:chOff x="762120" y="990720"/>
              <a:chExt cx="3886200" cy="1673280"/>
            </a:xfrm>
          </p:grpSpPr>
          <mc:AlternateContent>
            <mc:Choice xmlns:a14="http://schemas.microsoft.com/office/drawing/2010/main" Requires="a14">
              <p:sp>
                <p:nvSpPr>
                  <p:cNvPr id="435" name=""/>
                  <p:cNvSpPr txBox="1"/>
                  <p:nvPr/>
                </p:nvSpPr>
                <p:spPr>
                  <a:xfrm>
                    <a:off x="762120" y="990720"/>
                    <a:ext cx="259056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6" name=""/>
                  <p:cNvSpPr txBox="1"/>
                  <p:nvPr/>
                </p:nvSpPr>
                <p:spPr>
                  <a:xfrm>
                    <a:off x="762120" y="1521000"/>
                    <a:ext cx="383832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 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7" name=""/>
                  <p:cNvSpPr txBox="1"/>
                  <p:nvPr/>
                </p:nvSpPr>
                <p:spPr>
                  <a:xfrm>
                    <a:off x="806400" y="2052720"/>
                    <a:ext cx="3841920" cy="61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 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38" name=""/>
          <p:cNvGrpSpPr/>
          <p:nvPr/>
        </p:nvGrpSpPr>
        <p:grpSpPr>
          <a:xfrm>
            <a:off x="5076720" y="1052640"/>
            <a:ext cx="2554560" cy="1690560"/>
            <a:chOff x="5076720" y="1052640"/>
            <a:chExt cx="2554560" cy="1690560"/>
          </a:xfrm>
        </p:grpSpPr>
        <p:grpSp>
          <p:nvGrpSpPr>
            <p:cNvPr id="439" name=""/>
            <p:cNvGrpSpPr/>
            <p:nvPr/>
          </p:nvGrpSpPr>
          <p:grpSpPr>
            <a:xfrm>
              <a:off x="5076720" y="1052640"/>
              <a:ext cx="2554560" cy="1690560"/>
              <a:chOff x="5076720" y="1052640"/>
              <a:chExt cx="2554560" cy="1690560"/>
            </a:xfrm>
          </p:grpSpPr>
          <mc:AlternateContent>
            <mc:Choice xmlns:a14="http://schemas.microsoft.com/office/drawing/2010/main" Requires="a14">
              <p:sp>
                <p:nvSpPr>
                  <p:cNvPr id="440" name=""/>
                  <p:cNvSpPr txBox="1"/>
                  <p:nvPr/>
                </p:nvSpPr>
                <p:spPr>
                  <a:xfrm>
                    <a:off x="5076720" y="1052640"/>
                    <a:ext cx="2524320" cy="57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E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1" name=""/>
                  <p:cNvSpPr txBox="1"/>
                  <p:nvPr/>
                </p:nvSpPr>
                <p:spPr>
                  <a:xfrm>
                    <a:off x="5092560" y="1600200"/>
                    <a:ext cx="2538720" cy="592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5095800" y="2097000"/>
                    <a:ext cx="252432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 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43" name=""/>
            <p:cNvGrpSpPr/>
            <p:nvPr/>
          </p:nvGrpSpPr>
          <p:grpSpPr>
            <a:xfrm>
              <a:off x="6324480" y="2286000"/>
              <a:ext cx="1219320" cy="304920"/>
              <a:chOff x="6324480" y="2286000"/>
              <a:chExt cx="1219320" cy="304920"/>
            </a:xfrm>
          </p:grpSpPr>
          <p:sp>
            <p:nvSpPr>
              <p:cNvPr id="444" name=""/>
              <p:cNvSpPr/>
              <p:nvPr/>
            </p:nvSpPr>
            <p:spPr>
              <a:xfrm flipH="1">
                <a:off x="6324480" y="228600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480" y="259092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324480" y="1752480"/>
              <a:ext cx="1219320" cy="304920"/>
              <a:chOff x="6324480" y="1752480"/>
              <a:chExt cx="1219320" cy="304920"/>
            </a:xfrm>
          </p:grpSpPr>
          <p:sp>
            <p:nvSpPr>
              <p:cNvPr id="447" name=""/>
              <p:cNvSpPr/>
              <p:nvPr/>
            </p:nvSpPr>
            <p:spPr>
              <a:xfrm flipH="1">
                <a:off x="6324480" y="17524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24480" y="20574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324480" y="1219320"/>
              <a:ext cx="533520" cy="304560"/>
              <a:chOff x="6324480" y="1219320"/>
              <a:chExt cx="533520" cy="30456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6324480" y="121932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24480" y="15238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92120" y="2742480"/>
            <a:ext cx="56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三相电动势的瞬时值之和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77480" y="45712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三相交流电到达正最大值的顺序称为相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857160" y="3259080"/>
                <a:ext cx="3867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：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838080" y="3962520"/>
                <a:ext cx="3473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或</m:t>
                        </m:r>
                        <m:r>
                          <m:t xml:space="preserve"> </m:t>
                        </m:r>
                        <m:acc>
                          <m:accPr>
                            <m:chr m:val="˙"/>
                          </m:accPr>
                          <m:e/>
                        </m:acc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1220400" y="1143360"/>
            <a:ext cx="4988520" cy="1629720"/>
            <a:chOff x="1220400" y="1143360"/>
            <a:chExt cx="4988520" cy="1629720"/>
          </a:xfrm>
        </p:grpSpPr>
        <p:sp>
          <p:nvSpPr>
            <p:cNvPr id="457" name=""/>
            <p:cNvSpPr/>
            <p:nvPr/>
          </p:nvSpPr>
          <p:spPr>
            <a:xfrm>
              <a:off x="1220400" y="1143360"/>
              <a:ext cx="17964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最大值相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频率相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相位互差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20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07960" y="17226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称为对称三相电动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65480" y="1424160"/>
              <a:ext cx="304920" cy="121284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320 h 1212840"/>
                <a:gd name="textAreaBottom" fmla="*/ 1181520 h 12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37560" y="6858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个正弦交流电动势满足以下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57200" y="5857920"/>
            <a:ext cx="8067600" cy="162000"/>
            <a:chOff x="457200" y="5857920"/>
            <a:chExt cx="8067600" cy="162000"/>
          </a:xfrm>
        </p:grpSpPr>
        <p:pic>
          <p:nvPicPr>
            <p:cNvPr id="462" name="" descr=""/>
            <p:cNvPicPr/>
            <p:nvPr/>
          </p:nvPicPr>
          <p:blipFill>
            <a:blip r:embed="rId2"/>
            <a:stretch/>
          </p:blipFill>
          <p:spPr>
            <a:xfrm>
              <a:off x="4572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6001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7617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10573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6"/>
            <a:stretch/>
          </p:blipFill>
          <p:spPr>
            <a:xfrm>
              <a:off x="12189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7"/>
            <a:stretch/>
          </p:blipFill>
          <p:spPr>
            <a:xfrm>
              <a:off x="13716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8"/>
            <a:stretch/>
          </p:blipFill>
          <p:spPr>
            <a:xfrm>
              <a:off x="15145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9"/>
            <a:stretch/>
          </p:blipFill>
          <p:spPr>
            <a:xfrm>
              <a:off x="16761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10"/>
            <a:stretch/>
          </p:blipFill>
          <p:spPr>
            <a:xfrm>
              <a:off x="19717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1"/>
            <a:stretch/>
          </p:blipFill>
          <p:spPr>
            <a:xfrm>
              <a:off x="21333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2"/>
            <a:stretch/>
          </p:blipFill>
          <p:spPr>
            <a:xfrm>
              <a:off x="22860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3"/>
            <a:stretch/>
          </p:blipFill>
          <p:spPr>
            <a:xfrm>
              <a:off x="24289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14"/>
            <a:stretch/>
          </p:blipFill>
          <p:spPr>
            <a:xfrm>
              <a:off x="9144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15"/>
            <a:stretch/>
          </p:blipFill>
          <p:spPr>
            <a:xfrm>
              <a:off x="18288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16"/>
            <a:stretch/>
          </p:blipFill>
          <p:spPr>
            <a:xfrm>
              <a:off x="25905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17"/>
            <a:stretch/>
          </p:blipFill>
          <p:spPr>
            <a:xfrm>
              <a:off x="27432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8"/>
            <a:stretch/>
          </p:blipFill>
          <p:spPr>
            <a:xfrm>
              <a:off x="28861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9"/>
            <a:stretch/>
          </p:blipFill>
          <p:spPr>
            <a:xfrm>
              <a:off x="30477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20"/>
            <a:stretch/>
          </p:blipFill>
          <p:spPr>
            <a:xfrm>
              <a:off x="32004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21"/>
            <a:stretch/>
          </p:blipFill>
          <p:spPr>
            <a:xfrm>
              <a:off x="33433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22"/>
            <a:stretch/>
          </p:blipFill>
          <p:spPr>
            <a:xfrm>
              <a:off x="35049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23"/>
            <a:stretch/>
          </p:blipFill>
          <p:spPr>
            <a:xfrm>
              <a:off x="38005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24"/>
            <a:stretch/>
          </p:blipFill>
          <p:spPr>
            <a:xfrm>
              <a:off x="39621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25"/>
            <a:stretch/>
          </p:blipFill>
          <p:spPr>
            <a:xfrm>
              <a:off x="41148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26"/>
            <a:stretch/>
          </p:blipFill>
          <p:spPr>
            <a:xfrm>
              <a:off x="42577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27"/>
            <a:stretch/>
          </p:blipFill>
          <p:spPr>
            <a:xfrm>
              <a:off x="44193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28"/>
            <a:stretch/>
          </p:blipFill>
          <p:spPr>
            <a:xfrm>
              <a:off x="47149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29"/>
            <a:stretch/>
          </p:blipFill>
          <p:spPr>
            <a:xfrm>
              <a:off x="48765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30"/>
            <a:stretch/>
          </p:blipFill>
          <p:spPr>
            <a:xfrm>
              <a:off x="50292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1"/>
            <a:stretch/>
          </p:blipFill>
          <p:spPr>
            <a:xfrm>
              <a:off x="517212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32"/>
            <a:stretch/>
          </p:blipFill>
          <p:spPr>
            <a:xfrm>
              <a:off x="36576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33"/>
            <a:stretch/>
          </p:blipFill>
          <p:spPr>
            <a:xfrm>
              <a:off x="4572000" y="58579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4"/>
            <a:stretch/>
          </p:blipFill>
          <p:spPr>
            <a:xfrm>
              <a:off x="533376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5" name=""/>
            <p:cNvGrpSpPr/>
            <p:nvPr/>
          </p:nvGrpSpPr>
          <p:grpSpPr>
            <a:xfrm>
              <a:off x="5486400" y="5857920"/>
              <a:ext cx="1838160" cy="162000"/>
              <a:chOff x="5486400" y="5857920"/>
              <a:chExt cx="1838160" cy="162000"/>
            </a:xfrm>
          </p:grpSpPr>
          <p:pic>
            <p:nvPicPr>
              <p:cNvPr id="496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8640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2932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791320" y="58579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94360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08652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248520" y="58579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4372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705720" y="58579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85800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00092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162920" y="58579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400800" y="58579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8" name="" descr=""/>
            <p:cNvPicPr/>
            <p:nvPr/>
          </p:nvPicPr>
          <p:blipFill>
            <a:blip r:embed="rId47"/>
            <a:stretch/>
          </p:blipFill>
          <p:spPr>
            <a:xfrm>
              <a:off x="730548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48"/>
            <a:stretch/>
          </p:blipFill>
          <p:spPr>
            <a:xfrm>
              <a:off x="744840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49"/>
            <a:stretch/>
          </p:blipFill>
          <p:spPr>
            <a:xfrm>
              <a:off x="761040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50"/>
            <a:stretch/>
          </p:blipFill>
          <p:spPr>
            <a:xfrm>
              <a:off x="776268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51"/>
            <a:stretch/>
          </p:blipFill>
          <p:spPr>
            <a:xfrm>
              <a:off x="790560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52"/>
            <a:stretch/>
          </p:blipFill>
          <p:spPr>
            <a:xfrm>
              <a:off x="806760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3"/>
            <a:stretch/>
          </p:blipFill>
          <p:spPr>
            <a:xfrm>
              <a:off x="836280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54"/>
            <a:stretch/>
          </p:blipFill>
          <p:spPr>
            <a:xfrm>
              <a:off x="8219880" y="585792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"/>
          <p:cNvGrpSpPr/>
          <p:nvPr/>
        </p:nvGrpSpPr>
        <p:grpSpPr>
          <a:xfrm>
            <a:off x="7086600" y="380880"/>
            <a:ext cx="1523520" cy="1371600"/>
            <a:chOff x="7086600" y="380880"/>
            <a:chExt cx="1523520" cy="1371600"/>
          </a:xfrm>
        </p:grpSpPr>
        <p:sp>
          <p:nvSpPr>
            <p:cNvPr id="517" name=""/>
            <p:cNvSpPr/>
            <p:nvPr/>
          </p:nvSpPr>
          <p:spPr>
            <a:xfrm>
              <a:off x="7917480" y="990360"/>
              <a:ext cx="692640" cy="762120"/>
            </a:xfrm>
            <a:custGeom>
              <a:avLst/>
              <a:gdLst>
                <a:gd name="textAreaLeft" fmla="*/ 285480 w 692640"/>
                <a:gd name="textAreaRight" fmla="*/ 407160 w 69264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86600" y="380880"/>
              <a:ext cx="830880" cy="1066680"/>
            </a:xfrm>
            <a:custGeom>
              <a:avLst/>
              <a:gdLst>
                <a:gd name="textAreaLeft" fmla="*/ 342360 w 830880"/>
                <a:gd name="textAreaRight" fmla="*/ 488520 w 83088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09480" y="5118840"/>
            <a:ext cx="7086600" cy="520560"/>
            <a:chOff x="609480" y="5118840"/>
            <a:chExt cx="7086600" cy="520560"/>
          </a:xfrm>
        </p:grpSpPr>
        <p:sp>
          <p:nvSpPr>
            <p:cNvPr id="520" name=""/>
            <p:cNvSpPr/>
            <p:nvPr/>
          </p:nvSpPr>
          <p:spPr>
            <a:xfrm>
              <a:off x="609480" y="5118840"/>
              <a:ext cx="70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供电系统三相交流电的相序为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15000" y="540360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83440" y="5403600"/>
              <a:ext cx="304560" cy="2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相电源的星形联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9280" y="928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接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43600" y="2590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中性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线、地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3846600"/>
            <a:ext cx="1105200" cy="573120"/>
          </a:xfrm>
          <a:prstGeom prst="wedgeRoundRectCallout">
            <a:avLst>
              <a:gd name="adj1" fmla="val 143"/>
              <a:gd name="adj2" fmla="val -22562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性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25320" y="1295280"/>
            <a:ext cx="12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端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线、火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32749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在低压系统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点通常接地，所以也称地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9880" y="4890960"/>
            <a:ext cx="84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端线与中性线间（发电机每相绕组）的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9600" y="5867280"/>
            <a:ext cx="59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端线与端线间的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349960" y="5353200"/>
                <a:ext cx="2190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257800" y="5867280"/>
                <a:ext cx="2666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7543800" y="533412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124080" y="1371600"/>
            <a:ext cx="1082880" cy="3430440"/>
            <a:chOff x="3124080" y="1371600"/>
            <a:chExt cx="1082880" cy="3430440"/>
          </a:xfrm>
        </p:grpSpPr>
        <p:sp>
          <p:nvSpPr>
            <p:cNvPr id="535" name=""/>
            <p:cNvSpPr/>
            <p:nvPr/>
          </p:nvSpPr>
          <p:spPr>
            <a:xfrm>
              <a:off x="3170160" y="266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124080" y="1371600"/>
              <a:ext cx="1082880" cy="3430440"/>
              <a:chOff x="3124080" y="1371600"/>
              <a:chExt cx="1082880" cy="3430440"/>
            </a:xfrm>
          </p:grpSpPr>
          <mc:AlternateContent>
            <mc:Choice xmlns:a14="http://schemas.microsoft.com/office/drawing/2010/main" Requires="a14">
              <p:sp>
                <p:nvSpPr>
                  <p:cNvPr id="537" name=""/>
                  <p:cNvSpPr txBox="1"/>
                  <p:nvPr/>
                </p:nvSpPr>
                <p:spPr>
                  <a:xfrm>
                    <a:off x="3673440" y="3895560"/>
                    <a:ext cx="533520" cy="52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8" name=""/>
              <p:cNvSpPr/>
              <p:nvPr/>
            </p:nvSpPr>
            <p:spPr>
              <a:xfrm>
                <a:off x="3659400" y="4281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74880" y="2743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25880" y="3443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1" name=""/>
                  <p:cNvSpPr txBox="1"/>
                  <p:nvPr/>
                </p:nvSpPr>
                <p:spPr>
                  <a:xfrm>
                    <a:off x="3124080" y="3079800"/>
                    <a:ext cx="571680" cy="52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42" name=""/>
              <p:cNvSpPr/>
              <p:nvPr/>
            </p:nvSpPr>
            <p:spPr>
              <a:xfrm>
                <a:off x="3164040" y="1371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63680" y="2376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4" name=""/>
                  <p:cNvSpPr txBox="1"/>
                  <p:nvPr/>
                </p:nvSpPr>
                <p:spPr>
                  <a:xfrm>
                    <a:off x="3124080" y="1905120"/>
                    <a:ext cx="522360" cy="55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45" name=""/>
          <p:cNvSpPr/>
          <p:nvPr/>
        </p:nvSpPr>
        <p:spPr>
          <a:xfrm>
            <a:off x="7830360" y="586728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400800" y="76320"/>
            <a:ext cx="1447560" cy="1142640"/>
            <a:chOff x="6400800" y="76320"/>
            <a:chExt cx="1447560" cy="1142640"/>
          </a:xfrm>
        </p:grpSpPr>
        <p:sp>
          <p:nvSpPr>
            <p:cNvPr id="547" name=""/>
            <p:cNvSpPr/>
            <p:nvPr/>
          </p:nvSpPr>
          <p:spPr>
            <a:xfrm>
              <a:off x="7190280" y="583920"/>
              <a:ext cx="658080" cy="635040"/>
            </a:xfrm>
            <a:custGeom>
              <a:avLst/>
              <a:gdLst>
                <a:gd name="textAreaLeft" fmla="*/ 271080 w 658080"/>
                <a:gd name="textAreaRight" fmla="*/ 387000 w 658080"/>
                <a:gd name="textAreaTop" fmla="*/ 261720 h 635040"/>
                <a:gd name="textAreaBottom" fmla="*/ 373320 h 6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00800" y="76320"/>
              <a:ext cx="789480" cy="888840"/>
            </a:xfrm>
            <a:custGeom>
              <a:avLst/>
              <a:gdLst>
                <a:gd name="textAreaLeft" fmla="*/ 325440 w 789480"/>
                <a:gd name="textAreaRight" fmla="*/ 464040 w 789480"/>
                <a:gd name="textAreaTop" fmla="*/ 366120 h 888840"/>
                <a:gd name="textAreaBottom" fmla="*/ 52272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95000" y="1329120"/>
            <a:ext cx="5610600" cy="3669840"/>
            <a:chOff x="495000" y="1329120"/>
            <a:chExt cx="5610600" cy="3669840"/>
          </a:xfrm>
        </p:grpSpPr>
        <p:sp>
          <p:nvSpPr>
            <p:cNvPr id="550" name=""/>
            <p:cNvSpPr/>
            <p:nvPr/>
          </p:nvSpPr>
          <p:spPr>
            <a:xfrm>
              <a:off x="1692360" y="2830680"/>
              <a:ext cx="69840" cy="648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92240" y="3489480"/>
              <a:ext cx="1296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32480" y="1530360"/>
              <a:ext cx="75960" cy="68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54520" y="4734000"/>
              <a:ext cx="69840" cy="66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3760" y="3906720"/>
              <a:ext cx="69840" cy="65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3520" y="248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80960" y="287964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52360" y="251460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30760" y="268956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62800" y="3704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58480" y="4539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58480" y="132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85880" y="15318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495000" y="2859480"/>
              <a:ext cx="1193400" cy="694800"/>
              <a:chOff x="495000" y="2859480"/>
              <a:chExt cx="1193400" cy="694800"/>
            </a:xfrm>
          </p:grpSpPr>
          <p:sp>
            <p:nvSpPr>
              <p:cNvPr id="564" name=""/>
              <p:cNvSpPr/>
              <p:nvPr/>
            </p:nvSpPr>
            <p:spPr>
              <a:xfrm flipH="1" rot="3587400">
                <a:off x="1106640" y="3032280"/>
                <a:ext cx="9540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rot="3587400">
                <a:off x="950760" y="3123360"/>
                <a:ext cx="9540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rot="3587400">
                <a:off x="794520" y="3214080"/>
                <a:ext cx="9540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95000" y="3381480"/>
                <a:ext cx="296640" cy="17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392120" y="2859480"/>
                <a:ext cx="29628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rot="3587400">
                <a:off x="1254960" y="2945880"/>
                <a:ext cx="9540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1686600" y="1531800"/>
              <a:ext cx="145800" cy="1330200"/>
              <a:chOff x="1686600" y="1531800"/>
              <a:chExt cx="145800" cy="1330200"/>
            </a:xfrm>
          </p:grpSpPr>
          <p:sp>
            <p:nvSpPr>
              <p:cNvPr id="571" name=""/>
              <p:cNvSpPr/>
              <p:nvPr/>
            </p:nvSpPr>
            <p:spPr>
              <a:xfrm>
                <a:off x="1686600" y="2017440"/>
                <a:ext cx="145800" cy="1735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86600" y="2191320"/>
                <a:ext cx="145800" cy="1735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686600" y="2364840"/>
                <a:ext cx="145800" cy="1735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97040" y="2531520"/>
                <a:ext cx="0" cy="33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697040" y="1531800"/>
                <a:ext cx="0" cy="33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686600" y="1852200"/>
                <a:ext cx="145800" cy="1735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700640" y="2825640"/>
              <a:ext cx="1194840" cy="695520"/>
              <a:chOff x="1700640" y="2825640"/>
              <a:chExt cx="1194840" cy="695520"/>
            </a:xfrm>
          </p:grpSpPr>
          <p:sp>
            <p:nvSpPr>
              <p:cNvPr id="578" name=""/>
              <p:cNvSpPr/>
              <p:nvPr/>
            </p:nvSpPr>
            <p:spPr>
              <a:xfrm rot="18012600">
                <a:off x="2187360" y="2999520"/>
                <a:ext cx="9504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8012600">
                <a:off x="2343240" y="3090600"/>
                <a:ext cx="9504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012600">
                <a:off x="2499480" y="3181320"/>
                <a:ext cx="9504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98480" y="3348360"/>
                <a:ext cx="297000" cy="17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00640" y="2825640"/>
                <a:ext cx="297000" cy="17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012600">
                <a:off x="2038680" y="2913120"/>
                <a:ext cx="95040" cy="1803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1685880" y="28526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05200" y="39085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0040" y="3587760"/>
              <a:ext cx="0" cy="11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7960" y="474336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237320" y="1362240"/>
              <a:ext cx="513000" cy="1444320"/>
              <a:chOff x="1237320" y="1362240"/>
              <a:chExt cx="513000" cy="144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237320" y="1851120"/>
                <a:ext cx="485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66920" y="1362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04640" y="2286000"/>
                <a:ext cx="3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96960" y="2895480"/>
              <a:ext cx="988560" cy="927000"/>
              <a:chOff x="696960" y="2895480"/>
              <a:chExt cx="988560" cy="927000"/>
            </a:xfrm>
          </p:grpSpPr>
          <p:sp>
            <p:nvSpPr>
              <p:cNvPr id="593" name=""/>
              <p:cNvSpPr/>
              <p:nvPr/>
            </p:nvSpPr>
            <p:spPr>
              <a:xfrm>
                <a:off x="964080" y="3070080"/>
                <a:ext cx="485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6960" y="3301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88800" y="2895480"/>
                <a:ext cx="3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838160" y="2819520"/>
              <a:ext cx="1094760" cy="1002960"/>
              <a:chOff x="1838160" y="2819520"/>
              <a:chExt cx="1094760" cy="1002960"/>
            </a:xfrm>
          </p:grpSpPr>
          <p:sp>
            <p:nvSpPr>
              <p:cNvPr id="597" name=""/>
              <p:cNvSpPr/>
              <p:nvPr/>
            </p:nvSpPr>
            <p:spPr>
              <a:xfrm>
                <a:off x="2080080" y="2993760"/>
                <a:ext cx="47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49520" y="3301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38160" y="2819520"/>
                <a:ext cx="3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572080" y="2819520"/>
              <a:ext cx="76320" cy="68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038480" y="1371600"/>
            <a:ext cx="1617840" cy="3430440"/>
            <a:chOff x="4038480" y="1371600"/>
            <a:chExt cx="1617840" cy="3430440"/>
          </a:xfrm>
        </p:grpSpPr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4038480" y="2286000"/>
                  <a:ext cx="7257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3" name=""/>
            <p:cNvSpPr/>
            <p:nvPr/>
          </p:nvSpPr>
          <p:spPr>
            <a:xfrm>
              <a:off x="4192560" y="342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2920" y="1371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92560" y="4281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92920" y="3795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4130640" y="4116240"/>
                  <a:ext cx="69552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"/>
            <p:cNvSpPr/>
            <p:nvPr/>
          </p:nvSpPr>
          <p:spPr>
            <a:xfrm>
              <a:off x="4954320" y="137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4680" y="4281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4861080" y="3124080"/>
                  <a:ext cx="79524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线电压与相电压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838080" y="4741920"/>
            <a:ext cx="2438640" cy="1654200"/>
            <a:chOff x="838080" y="4741920"/>
            <a:chExt cx="2438640" cy="1654200"/>
          </a:xfrm>
        </p:grpSpPr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853920" y="4741920"/>
                  <a:ext cx="240696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870120" y="5267160"/>
                  <a:ext cx="237456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838080" y="5791320"/>
                  <a:ext cx="24386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6" name=""/>
          <p:cNvSpPr/>
          <p:nvPr/>
        </p:nvSpPr>
        <p:spPr>
          <a:xfrm>
            <a:off x="927000" y="4284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根据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54200" y="4662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相量图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94360" y="76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74212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925240" y="1434960"/>
            <a:ext cx="1118520" cy="1702440"/>
            <a:chOff x="5925240" y="1434960"/>
            <a:chExt cx="1118520" cy="1702440"/>
          </a:xfrm>
        </p:grpSpPr>
        <p:sp>
          <p:nvSpPr>
            <p:cNvPr id="621" name=""/>
            <p:cNvSpPr/>
            <p:nvPr/>
          </p:nvSpPr>
          <p:spPr>
            <a:xfrm flipV="1">
              <a:off x="5925240" y="1894320"/>
              <a:ext cx="771840" cy="1243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6248520" y="1434960"/>
                  <a:ext cx="795240" cy="55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3" name=""/>
          <p:cNvSpPr/>
          <p:nvPr/>
        </p:nvSpPr>
        <p:spPr>
          <a:xfrm flipV="1">
            <a:off x="7387200" y="1889640"/>
            <a:ext cx="771840" cy="124344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911920" y="1600200"/>
            <a:ext cx="3004920" cy="1544760"/>
            <a:chOff x="5911920" y="1600200"/>
            <a:chExt cx="3004920" cy="1544760"/>
          </a:xfrm>
        </p:grpSpPr>
        <p:sp>
          <p:nvSpPr>
            <p:cNvPr id="625" name=""/>
            <p:cNvSpPr/>
            <p:nvPr/>
          </p:nvSpPr>
          <p:spPr>
            <a:xfrm flipV="1">
              <a:off x="5911920" y="1890720"/>
              <a:ext cx="2241360" cy="125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648320" y="1438200"/>
            <a:ext cx="3276360" cy="3133800"/>
            <a:chOff x="4648320" y="1438200"/>
            <a:chExt cx="3276360" cy="3133800"/>
          </a:xfrm>
        </p:grpSpPr>
        <p:sp>
          <p:nvSpPr>
            <p:cNvPr id="627" name=""/>
            <p:cNvSpPr/>
            <p:nvPr/>
          </p:nvSpPr>
          <p:spPr>
            <a:xfrm flipH="1">
              <a:off x="5215320" y="3107520"/>
              <a:ext cx="69624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5135400" y="1911600"/>
              <a:ext cx="775800" cy="12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08680" y="3147840"/>
              <a:ext cx="14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44240" y="867240"/>
            <a:ext cx="4032360" cy="3445920"/>
            <a:chOff x="444240" y="867240"/>
            <a:chExt cx="4032360" cy="3445920"/>
          </a:xfrm>
        </p:grpSpPr>
        <p:sp>
          <p:nvSpPr>
            <p:cNvPr id="631" name=""/>
            <p:cNvSpPr/>
            <p:nvPr/>
          </p:nvSpPr>
          <p:spPr>
            <a:xfrm>
              <a:off x="3899520" y="867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46040" y="2362320"/>
              <a:ext cx="59040" cy="601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09880" y="109368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09880" y="40654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11480" y="1932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66680" y="2313000"/>
              <a:ext cx="49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30240" y="20224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33920" y="2137320"/>
              <a:ext cx="7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03840" y="324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99520" y="3853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39920" y="1174680"/>
              <a:ext cx="246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444240" y="2354400"/>
              <a:ext cx="901800" cy="772200"/>
              <a:chOff x="444240" y="2354400"/>
              <a:chExt cx="901800" cy="772200"/>
            </a:xfrm>
          </p:grpSpPr>
          <p:sp>
            <p:nvSpPr>
              <p:cNvPr id="643" name=""/>
              <p:cNvSpPr/>
              <p:nvPr/>
            </p:nvSpPr>
            <p:spPr>
              <a:xfrm flipH="1" rot="2965800">
                <a:off x="841680" y="2560320"/>
                <a:ext cx="148680" cy="1551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rot="2965800">
                <a:off x="723960" y="2661480"/>
                <a:ext cx="148680" cy="1551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rot="2965800">
                <a:off x="606240" y="2762280"/>
                <a:ext cx="148680" cy="1551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444240" y="2935080"/>
                <a:ext cx="223920" cy="19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122120" y="2354400"/>
                <a:ext cx="223920" cy="19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rot="2965800">
                <a:off x="954000" y="2464560"/>
                <a:ext cx="148680" cy="1551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1340640" y="1174680"/>
              <a:ext cx="124920" cy="1215720"/>
              <a:chOff x="1340640" y="1174680"/>
              <a:chExt cx="124920" cy="1215720"/>
            </a:xfrm>
          </p:grpSpPr>
          <p:sp>
            <p:nvSpPr>
              <p:cNvPr id="650" name=""/>
              <p:cNvSpPr/>
              <p:nvPr/>
            </p:nvSpPr>
            <p:spPr>
              <a:xfrm>
                <a:off x="1340640" y="161856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0640" y="177732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0640" y="193608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9280" y="2088360"/>
                <a:ext cx="0" cy="30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9280" y="1174680"/>
                <a:ext cx="0" cy="30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0640" y="146736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1358280" y="2399040"/>
              <a:ext cx="936360" cy="713880"/>
              <a:chOff x="1358280" y="2399040"/>
              <a:chExt cx="936360" cy="713880"/>
            </a:xfrm>
          </p:grpSpPr>
          <p:sp>
            <p:nvSpPr>
              <p:cNvPr id="657" name=""/>
              <p:cNvSpPr/>
              <p:nvPr/>
            </p:nvSpPr>
            <p:spPr>
              <a:xfrm rot="18438600">
                <a:off x="1739880" y="2599200"/>
                <a:ext cx="87480" cy="1537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438600">
                <a:off x="1862280" y="2692440"/>
                <a:ext cx="87480" cy="1537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8438600">
                <a:off x="1984680" y="2786040"/>
                <a:ext cx="87480" cy="1537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62440" y="2935800"/>
                <a:ext cx="232200" cy="17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58280" y="2399040"/>
                <a:ext cx="232560" cy="17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438600">
                <a:off x="1623240" y="2510640"/>
                <a:ext cx="87480" cy="15372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339920" y="2382840"/>
              <a:ext cx="246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92600" y="3438360"/>
              <a:ext cx="93600" cy="93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0" y="3483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7200" y="3137040"/>
              <a:ext cx="0" cy="10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57200" y="411156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78760" y="1371600"/>
              <a:ext cx="48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e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26000" y="1066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73080" y="186516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6480" y="2590920"/>
              <a:ext cx="48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e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600" y="2882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90720" y="246528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324080" y="2389320"/>
              <a:ext cx="960480" cy="947160"/>
              <a:chOff x="1324080" y="2389320"/>
              <a:chExt cx="960480" cy="947160"/>
            </a:xfrm>
          </p:grpSpPr>
          <p:sp>
            <p:nvSpPr>
              <p:cNvPr id="675" name=""/>
              <p:cNvSpPr/>
              <p:nvPr/>
            </p:nvSpPr>
            <p:spPr>
              <a:xfrm>
                <a:off x="1495440" y="2557440"/>
                <a:ext cx="47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929960" y="2876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24080" y="2389320"/>
                <a:ext cx="33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3768840" y="2352600"/>
              <a:ext cx="1159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86000" y="3124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92720" y="3672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0820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81320" y="2986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276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49640" y="1081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49280" y="190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2801880" y="1066680"/>
              <a:ext cx="1220760" cy="3187800"/>
              <a:chOff x="2801880" y="1066680"/>
              <a:chExt cx="1220760" cy="31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3354120" y="297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54480" y="1081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13080" y="3733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13440" y="3276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820960" y="1066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897280" y="3657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4044960" y="5262480"/>
            <a:ext cx="2747880" cy="604800"/>
            <a:chOff x="4044960" y="5262480"/>
            <a:chExt cx="2747880" cy="604800"/>
          </a:xfrm>
        </p:grpSpPr>
        <p:grpSp>
          <p:nvGrpSpPr>
            <p:cNvPr id="694" name=""/>
            <p:cNvGrpSpPr/>
            <p:nvPr/>
          </p:nvGrpSpPr>
          <p:grpSpPr>
            <a:xfrm>
              <a:off x="6019560" y="5443560"/>
              <a:ext cx="762120" cy="304920"/>
              <a:chOff x="6019560" y="5443560"/>
              <a:chExt cx="762120" cy="304920"/>
            </a:xfrm>
          </p:grpSpPr>
          <p:sp>
            <p:nvSpPr>
              <p:cNvPr id="695" name=""/>
              <p:cNvSpPr/>
              <p:nvPr/>
            </p:nvSpPr>
            <p:spPr>
              <a:xfrm flipH="1">
                <a:off x="6019560" y="544356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9920" y="574848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" name=""/>
          <p:cNvGrpSpPr/>
          <p:nvPr/>
        </p:nvGrpSpPr>
        <p:grpSpPr>
          <a:xfrm>
            <a:off x="6786720" y="5257800"/>
            <a:ext cx="1976400" cy="593640"/>
            <a:chOff x="6786720" y="5257800"/>
            <a:chExt cx="1976400" cy="593640"/>
          </a:xfrm>
        </p:grpSpPr>
        <mc:AlternateContent>
          <mc:Choice xmlns:a14="http://schemas.microsoft.com/office/drawing/2010/main" Requires="a14">
            <p:sp>
              <p:nvSpPr>
                <p:cNvPr id="698" name=""/>
                <p:cNvSpPr txBox="1"/>
                <p:nvPr/>
              </p:nvSpPr>
              <p:spPr>
                <a:xfrm>
                  <a:off x="6786720" y="5257800"/>
                  <a:ext cx="19764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699" name=""/>
            <p:cNvGrpSpPr/>
            <p:nvPr/>
          </p:nvGrpSpPr>
          <p:grpSpPr>
            <a:xfrm>
              <a:off x="8000640" y="5410080"/>
              <a:ext cx="762120" cy="304920"/>
              <a:chOff x="8000640" y="5410080"/>
              <a:chExt cx="762120" cy="304920"/>
            </a:xfrm>
          </p:grpSpPr>
          <p:sp>
            <p:nvSpPr>
              <p:cNvPr id="700" name=""/>
              <p:cNvSpPr/>
              <p:nvPr/>
            </p:nvSpPr>
            <p:spPr>
              <a:xfrm flipH="1">
                <a:off x="8000640" y="54100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01000" y="571500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4740120" y="5899320"/>
            <a:ext cx="1584360" cy="572760"/>
            <a:chOff x="4740120" y="5899320"/>
            <a:chExt cx="1584360" cy="572760"/>
          </a:xfrm>
        </p:grpSpPr>
        <p:grpSp>
          <p:nvGrpSpPr>
            <p:cNvPr id="703" name=""/>
            <p:cNvGrpSpPr/>
            <p:nvPr/>
          </p:nvGrpSpPr>
          <p:grpSpPr>
            <a:xfrm>
              <a:off x="5562360" y="6019920"/>
              <a:ext cx="762120" cy="304560"/>
              <a:chOff x="5562360" y="6019920"/>
              <a:chExt cx="762120" cy="30456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5562360" y="601992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62720" y="632448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533520" y="18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同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312408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相电源的三角形联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533520" y="1971720"/>
            <a:ext cx="8254800" cy="1152360"/>
            <a:chOff x="533520" y="1971720"/>
            <a:chExt cx="8254800" cy="1152360"/>
          </a:xfrm>
        </p:grpSpPr>
      </p:grpSp>
      <p:grpSp>
        <p:nvGrpSpPr>
          <p:cNvPr id="709" name=""/>
          <p:cNvGrpSpPr/>
          <p:nvPr/>
        </p:nvGrpSpPr>
        <p:grpSpPr>
          <a:xfrm>
            <a:off x="533160" y="3596040"/>
            <a:ext cx="3723840" cy="2850480"/>
            <a:chOff x="533160" y="3596040"/>
            <a:chExt cx="3723840" cy="2850480"/>
          </a:xfrm>
        </p:grpSpPr>
        <p:grpSp>
          <p:nvGrpSpPr>
            <p:cNvPr id="710" name=""/>
            <p:cNvGrpSpPr/>
            <p:nvPr/>
          </p:nvGrpSpPr>
          <p:grpSpPr>
            <a:xfrm>
              <a:off x="573120" y="3596040"/>
              <a:ext cx="3683880" cy="2850480"/>
              <a:chOff x="573120" y="3596040"/>
              <a:chExt cx="3683880" cy="2850480"/>
            </a:xfrm>
          </p:grpSpPr>
          <p:sp>
            <p:nvSpPr>
              <p:cNvPr id="711" name=""/>
              <p:cNvSpPr/>
              <p:nvPr/>
            </p:nvSpPr>
            <p:spPr>
              <a:xfrm>
                <a:off x="2248200" y="472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247480" y="5105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247480" y="3886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54600" y="388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85560" y="5638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617040" y="5121360"/>
                <a:ext cx="1457640" cy="108000"/>
                <a:chOff x="617040" y="5121360"/>
                <a:chExt cx="1457640" cy="108000"/>
              </a:xfrm>
            </p:grpSpPr>
            <p:sp>
              <p:nvSpPr>
                <p:cNvPr id="717" name=""/>
                <p:cNvSpPr/>
                <p:nvPr/>
              </p:nvSpPr>
              <p:spPr>
                <a:xfrm flipH="1" flipV="1" rot="16200000">
                  <a:off x="1392840" y="5079960"/>
                  <a:ext cx="1080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flipV="1" rot="16200000">
                  <a:off x="1202400" y="5079960"/>
                  <a:ext cx="1080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flipV="1" rot="16200000">
                  <a:off x="1011960" y="5079960"/>
                  <a:ext cx="1080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>
                  <a:off x="617040" y="5129280"/>
                  <a:ext cx="3621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1712520" y="5129280"/>
                  <a:ext cx="3621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flipV="1" rot="16200000">
                  <a:off x="1573920" y="5079960"/>
                  <a:ext cx="108000" cy="19044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330920" y="3927960"/>
                <a:ext cx="794520" cy="1220760"/>
                <a:chOff x="1330920" y="3927960"/>
                <a:chExt cx="794520" cy="1220760"/>
              </a:xfrm>
            </p:grpSpPr>
            <p:sp>
              <p:nvSpPr>
                <p:cNvPr id="724" name=""/>
                <p:cNvSpPr/>
                <p:nvPr/>
              </p:nvSpPr>
              <p:spPr>
                <a:xfrm rot="19616400">
                  <a:off x="1657080" y="433260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9616400">
                  <a:off x="1760760" y="449244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rot="19616400">
                  <a:off x="1864800" y="465192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928160" y="4845600"/>
                  <a:ext cx="197280" cy="303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330920" y="3927960"/>
                  <a:ext cx="197280" cy="303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9616400">
                  <a:off x="1558080" y="418104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7080" y="3899160"/>
                <a:ext cx="753120" cy="1247400"/>
                <a:chOff x="577080" y="3899160"/>
                <a:chExt cx="753120" cy="1247400"/>
              </a:xfrm>
            </p:grpSpPr>
            <p:sp>
              <p:nvSpPr>
                <p:cNvPr id="731" name=""/>
                <p:cNvSpPr/>
                <p:nvPr/>
              </p:nvSpPr>
              <p:spPr>
                <a:xfrm flipH="1" flipV="1" rot="1867800">
                  <a:off x="807840" y="449064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 flipV="1" rot="1867800">
                  <a:off x="906120" y="432756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 flipV="1" rot="1867800">
                  <a:off x="1004760" y="416448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1143360" y="3899160"/>
                  <a:ext cx="186840" cy="309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577080" y="4836600"/>
                  <a:ext cx="187200" cy="309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 flipV="1" rot="1867800">
                  <a:off x="714240" y="4645440"/>
                  <a:ext cx="108000" cy="190080"/>
                </a:xfrm>
                <a:custGeom>
                  <a:avLst/>
                  <a:gdLst/>
                  <a:ahLst/>
                  <a:rect l="l" t="t" r="r" b="b"/>
                  <a:pathLst>
                    <a:path w="140" h="198">
                      <a:moveTo>
                        <a:pt x="0" y="0"/>
                      </a:moveTo>
                      <a:cubicBezTo>
                        <a:pt x="50" y="18"/>
                        <a:pt x="100" y="36"/>
                        <a:pt x="120" y="60"/>
                      </a:cubicBezTo>
                      <a:cubicBezTo>
                        <a:pt x="140" y="84"/>
                        <a:pt x="140" y="121"/>
                        <a:pt x="120" y="144"/>
                      </a:cubicBezTo>
                      <a:cubicBezTo>
                        <a:pt x="100" y="167"/>
                        <a:pt x="20" y="189"/>
                        <a:pt x="0" y="198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7" name=""/>
              <p:cNvSpPr/>
              <p:nvPr/>
            </p:nvSpPr>
            <p:spPr>
              <a:xfrm>
                <a:off x="588960" y="5149800"/>
                <a:ext cx="42840" cy="793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3120" y="5149800"/>
                <a:ext cx="1440" cy="1069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73120" y="6187680"/>
                <a:ext cx="316080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319040" y="3917880"/>
                <a:ext cx="2395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87840" y="3884760"/>
                <a:ext cx="74520" cy="745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1957320" y="5094360"/>
                <a:ext cx="1804680" cy="74520"/>
                <a:chOff x="1957320" y="5094360"/>
                <a:chExt cx="1804680" cy="745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957320" y="5127480"/>
                  <a:ext cx="17697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707280" y="5094360"/>
                  <a:ext cx="54720" cy="74520"/>
                </a:xfrm>
                <a:prstGeom prst="ellipse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3735360" y="6141960"/>
                <a:ext cx="74520" cy="745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827520" y="4878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56680" y="359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56680" y="5986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292480" y="5791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 flipH="1">
              <a:off x="53280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121860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198108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92280" y="725400"/>
            <a:ext cx="7115040" cy="1239840"/>
            <a:chOff x="692280" y="725400"/>
            <a:chExt cx="7115040" cy="1239840"/>
          </a:xfrm>
        </p:grpSpPr>
        <p:grpSp>
          <p:nvGrpSpPr>
            <p:cNvPr id="754" name=""/>
            <p:cNvGrpSpPr/>
            <p:nvPr/>
          </p:nvGrpSpPr>
          <p:grpSpPr>
            <a:xfrm>
              <a:off x="2819160" y="914400"/>
              <a:ext cx="762120" cy="304920"/>
              <a:chOff x="2819160" y="914400"/>
              <a:chExt cx="762120" cy="3049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2819160" y="91440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819520" y="121932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819160" y="1482840"/>
              <a:ext cx="762120" cy="304560"/>
              <a:chOff x="2819160" y="1482840"/>
              <a:chExt cx="762120" cy="304560"/>
            </a:xfrm>
          </p:grpSpPr>
          <p:sp>
            <p:nvSpPr>
              <p:cNvPr id="758" name=""/>
              <p:cNvSpPr/>
              <p:nvPr/>
            </p:nvSpPr>
            <p:spPr>
              <a:xfrm flipH="1">
                <a:off x="2819160" y="148284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819520" y="178740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876560" y="914400"/>
              <a:ext cx="990720" cy="304920"/>
              <a:chOff x="4876560" y="914400"/>
              <a:chExt cx="990720" cy="3049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876560" y="91440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876920" y="121932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876560" y="1486080"/>
              <a:ext cx="990720" cy="304560"/>
              <a:chOff x="4876560" y="1486080"/>
              <a:chExt cx="990720" cy="304560"/>
            </a:xfrm>
          </p:grpSpPr>
          <p:sp>
            <p:nvSpPr>
              <p:cNvPr id="764" name=""/>
              <p:cNvSpPr/>
              <p:nvPr/>
            </p:nvSpPr>
            <p:spPr>
              <a:xfrm flipH="1">
                <a:off x="4876560" y="148608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76920" y="179064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629040" y="1486080"/>
              <a:ext cx="990720" cy="304560"/>
              <a:chOff x="6629040" y="1486080"/>
              <a:chExt cx="990720" cy="304560"/>
            </a:xfrm>
          </p:grpSpPr>
          <p:sp>
            <p:nvSpPr>
              <p:cNvPr id="767" name=""/>
              <p:cNvSpPr/>
              <p:nvPr/>
            </p:nvSpPr>
            <p:spPr>
              <a:xfrm flipH="1">
                <a:off x="6629040" y="148608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629400" y="179064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705360" y="914400"/>
              <a:ext cx="990720" cy="304920"/>
              <a:chOff x="6705360" y="914400"/>
              <a:chExt cx="990720" cy="304920"/>
            </a:xfrm>
          </p:grpSpPr>
          <p:sp>
            <p:nvSpPr>
              <p:cNvPr id="770" name=""/>
              <p:cNvSpPr/>
              <p:nvPr/>
            </p:nvSpPr>
            <p:spPr>
              <a:xfrm flipH="1">
                <a:off x="6705360" y="91440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705720" y="121932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03:28:59Z</dcterms:created>
  <dc:creator>kd</dc:creator>
  <dc:description/>
  <dc:language>en-US</dc:language>
  <cp:lastModifiedBy>王香婷</cp:lastModifiedBy>
  <dcterms:modified xsi:type="dcterms:W3CDTF">2003-07-31T20:42:50Z</dcterms:modified>
  <cp:revision>53</cp:revision>
  <dc:subject/>
  <dc:title>PowerPoint 演示文稿</dc:title>
</cp:coreProperties>
</file>