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image13.png" ContentType="image/png"/>
  <Override PartName="/ppt/media/image9.gif" ContentType="image/gif"/>
  <Override PartName="/ppt/media/image12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4037;&#25216;&#2641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/>
          </p:cNvPr>
          <p:cNvSpPr/>
          <p:nvPr/>
        </p:nvSpPr>
        <p:spPr>
          <a:xfrm>
            <a:off x="6324480" y="6477120"/>
            <a:ext cx="50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7.xml"/><Relationship Id="rId4" Type="http://schemas.openxmlformats.org/officeDocument/2006/relationships/slide" Target="slide32.xml"/><Relationship Id="rId5" Type="http://schemas.openxmlformats.org/officeDocument/2006/relationships/slide" Target="slide52.xml"/><Relationship Id="rId6" Type="http://schemas.openxmlformats.org/officeDocument/2006/relationships/slide" Target="slide47.xml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6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路的暂态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20257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990720" y="175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定则与电压和电流初始值的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990720" y="24382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2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的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990720" y="312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阶线性电路暂态分析的三要素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5" action="ppaction://hlinksldjump"/>
          </p:cNvPr>
          <p:cNvSpPr/>
          <p:nvPr/>
        </p:nvSpPr>
        <p:spPr>
          <a:xfrm>
            <a:off x="990720" y="45720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5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的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990720" y="3840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分电路和积分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518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暂态过程初始值的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002200"/>
            <a:ext cx="12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19112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598320"/>
            <a:ext cx="4495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106640" y="3753000"/>
            <a:ext cx="8037360" cy="1123920"/>
            <a:chOff x="1106640" y="3753000"/>
            <a:chExt cx="8037360" cy="1123920"/>
          </a:xfrm>
        </p:grpSpPr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106640" y="3753000"/>
                  <a:ext cx="18032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2782800" y="3753000"/>
              <a:ext cx="63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换路瞬间，电容元件可视为短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1106640" y="4309920"/>
                  <a:ext cx="1676160" cy="56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"/>
            <p:cNvSpPr/>
            <p:nvPr/>
          </p:nvSpPr>
          <p:spPr>
            <a:xfrm>
              <a:off x="2630520" y="4316400"/>
              <a:ext cx="651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换路瞬间，电感元件可视为开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1400" y="4221000"/>
            <a:ext cx="9067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112760" y="4770360"/>
            <a:ext cx="5224320" cy="944640"/>
            <a:chOff x="1112760" y="4770360"/>
            <a:chExt cx="5224320" cy="94464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1112760" y="4770360"/>
                  <a:ext cx="264312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4160520" y="4941720"/>
                  <a:ext cx="217656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6" name=""/>
          <p:cNvSpPr/>
          <p:nvPr/>
        </p:nvSpPr>
        <p:spPr>
          <a:xfrm>
            <a:off x="990720" y="6329520"/>
            <a:ext cx="374328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629400" y="5562720"/>
                <a:ext cx="1752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8" name=""/>
          <p:cNvGrpSpPr/>
          <p:nvPr/>
        </p:nvGrpSpPr>
        <p:grpSpPr>
          <a:xfrm>
            <a:off x="1066680" y="5618160"/>
            <a:ext cx="4957560" cy="630360"/>
            <a:chOff x="1066680" y="5618160"/>
            <a:chExt cx="4957560" cy="63036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1066680" y="5708520"/>
                  <a:ext cx="27129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4236840" y="5618160"/>
                  <a:ext cx="17874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1" name=""/>
          <p:cNvSpPr/>
          <p:nvPr/>
        </p:nvSpPr>
        <p:spPr>
          <a:xfrm>
            <a:off x="6019920" y="4724280"/>
            <a:ext cx="2819160" cy="457200"/>
          </a:xfrm>
          <a:prstGeom prst="wedgeRoundRectCallout">
            <a:avLst>
              <a:gd name="adj1" fmla="val -63004"/>
              <a:gd name="adj2" fmla="val 17777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zh-CN" sz="24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产生突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8280" y="3278160"/>
            <a:ext cx="82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，求其余各电流、电压的初始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840240" y="727920"/>
            <a:ext cx="3539520" cy="2624760"/>
            <a:chOff x="840240" y="727920"/>
            <a:chExt cx="3539520" cy="2624760"/>
          </a:xfrm>
        </p:grpSpPr>
        <p:sp>
          <p:nvSpPr>
            <p:cNvPr id="434" name=""/>
            <p:cNvSpPr/>
            <p:nvPr/>
          </p:nvSpPr>
          <p:spPr>
            <a:xfrm>
              <a:off x="2286000" y="2895480"/>
              <a:ext cx="66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840240" y="727920"/>
              <a:ext cx="3539520" cy="2551320"/>
              <a:chOff x="840240" y="727920"/>
              <a:chExt cx="3539520" cy="2551320"/>
            </a:xfrm>
          </p:grpSpPr>
          <p:sp>
            <p:nvSpPr>
              <p:cNvPr id="436" name=""/>
              <p:cNvSpPr/>
              <p:nvPr/>
            </p:nvSpPr>
            <p:spPr>
              <a:xfrm>
                <a:off x="1754640" y="734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6200000">
                <a:off x="3332880" y="1172160"/>
                <a:ext cx="171720" cy="331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583080" y="133668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917800" y="133668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03600" y="1170000"/>
                <a:ext cx="0" cy="34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77960" y="1170000"/>
                <a:ext cx="0" cy="34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680920" y="1341360"/>
                <a:ext cx="29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2255760" y="1341360"/>
                <a:ext cx="30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74800" y="1295280"/>
                <a:ext cx="82440" cy="85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1825560" y="1103040"/>
                <a:ext cx="385920" cy="19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46" name=""/>
              <p:cNvCxnSpPr/>
              <p:nvPr/>
            </p:nvCxnSpPr>
            <p:spPr>
              <a:xfrm>
                <a:off x="1801800" y="1112760"/>
                <a:ext cx="332640" cy="334080"/>
              </a:xfrm>
              <a:prstGeom prst="curvedConnector5">
                <a:avLst>
                  <a:gd name="adj1" fmla="val 87432"/>
                  <a:gd name="adj2" fmla="val 49946"/>
                  <a:gd name="adj3" fmla="val 87432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7" name=""/>
              <p:cNvSpPr/>
              <p:nvPr/>
            </p:nvSpPr>
            <p:spPr>
              <a:xfrm>
                <a:off x="1359000" y="133812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55760" y="2838600"/>
                <a:ext cx="255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449440" y="78624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40240" y="1869120"/>
                <a:ext cx="47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48560" y="7279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52960" y="1811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721880" y="135288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=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68640" y="1746360"/>
                <a:ext cx="117720" cy="2142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895560" y="1949400"/>
                <a:ext cx="8280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895200" y="1746360"/>
                <a:ext cx="10332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68640" y="1960560"/>
                <a:ext cx="117720" cy="2142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895560" y="2163600"/>
                <a:ext cx="8280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68640" y="2174760"/>
                <a:ext cx="117720" cy="2145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3895560" y="2378160"/>
                <a:ext cx="8280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95560" y="2367000"/>
                <a:ext cx="0" cy="4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95560" y="1349280"/>
                <a:ext cx="0" cy="42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203480" y="1916280"/>
                <a:ext cx="331560" cy="342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68360" y="1317600"/>
                <a:ext cx="0" cy="154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036800" y="1545480"/>
                <a:ext cx="331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24200" y="1917720"/>
                <a:ext cx="166680" cy="341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908440" y="2259000"/>
                <a:ext cx="0" cy="60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908440" y="1317240"/>
                <a:ext cx="0" cy="60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46400" y="191196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45600" y="2819520"/>
                <a:ext cx="105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(a)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V="1">
              <a:off x="2849400" y="27432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2849400" y="12492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523400" y="379080"/>
            <a:ext cx="4772880" cy="2900160"/>
            <a:chOff x="4523400" y="379080"/>
            <a:chExt cx="4772880" cy="2900160"/>
          </a:xfrm>
        </p:grpSpPr>
        <p:sp>
          <p:nvSpPr>
            <p:cNvPr id="474" name=""/>
            <p:cNvSpPr/>
            <p:nvPr/>
          </p:nvSpPr>
          <p:spPr>
            <a:xfrm>
              <a:off x="8120160" y="939600"/>
              <a:ext cx="11761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0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+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523400" y="379080"/>
              <a:ext cx="4363560" cy="2900160"/>
              <a:chOff x="4523400" y="379080"/>
              <a:chExt cx="4363560" cy="2900160"/>
            </a:xfrm>
          </p:grpSpPr>
          <p:sp>
            <p:nvSpPr>
              <p:cNvPr id="476" name=""/>
              <p:cNvSpPr/>
              <p:nvPr/>
            </p:nvSpPr>
            <p:spPr>
              <a:xfrm>
                <a:off x="5154480" y="1069920"/>
                <a:ext cx="49068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15000" y="1081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51600" y="2798640"/>
                <a:ext cx="277632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50000" y="1763640"/>
                <a:ext cx="434880" cy="389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168880" y="1081080"/>
                <a:ext cx="0" cy="171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437160" y="1069920"/>
                <a:ext cx="190440" cy="1752120"/>
                <a:chOff x="6437160" y="1069920"/>
                <a:chExt cx="190440" cy="1752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437160" y="1751040"/>
                  <a:ext cx="190440" cy="389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532200" y="2140560"/>
                  <a:ext cx="0" cy="68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6532200" y="1069920"/>
                  <a:ext cx="0" cy="681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224760" y="984600"/>
                <a:ext cx="1713960" cy="194760"/>
                <a:chOff x="6224760" y="984600"/>
                <a:chExt cx="1713960" cy="194760"/>
              </a:xfrm>
            </p:grpSpPr>
            <p:sp>
              <p:nvSpPr>
                <p:cNvPr id="486" name=""/>
                <p:cNvSpPr/>
                <p:nvPr/>
              </p:nvSpPr>
              <p:spPr>
                <a:xfrm rot="16200000">
                  <a:off x="6983640" y="891360"/>
                  <a:ext cx="194760" cy="3808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272000" y="1082160"/>
                  <a:ext cx="666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6224760" y="1082160"/>
                  <a:ext cx="66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5122800" y="952560"/>
                <a:ext cx="449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7915320" y="1069560"/>
                <a:ext cx="0" cy="38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7869240" y="2335320"/>
                <a:ext cx="91800" cy="485280"/>
                <a:chOff x="7869240" y="2335320"/>
                <a:chExt cx="91800" cy="485280"/>
              </a:xfrm>
            </p:grpSpPr>
            <p:sp>
              <p:nvSpPr>
                <p:cNvPr id="492" name=""/>
                <p:cNvSpPr/>
                <p:nvPr/>
              </p:nvSpPr>
              <p:spPr>
                <a:xfrm flipV="1">
                  <a:off x="7869240" y="2335320"/>
                  <a:ext cx="91800" cy="957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16040" y="2431080"/>
                  <a:ext cx="0" cy="389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8107200" y="1122480"/>
                <a:ext cx="0" cy="42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78480" y="1198440"/>
                <a:ext cx="0" cy="536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37240" y="1050840"/>
                <a:ext cx="81000" cy="74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83640" y="1455840"/>
                <a:ext cx="79200" cy="74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23400" y="1734120"/>
                <a:ext cx="47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670280" y="379080"/>
                <a:ext cx="10749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zh-CN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(0</a:t>
                </a:r>
                <a:r>
                  <a:rPr b="1" lang="zh-CN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68480" y="406440"/>
                <a:ext cx="1101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i="1" lang="zh-CN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zh-CN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(0</a:t>
                </a:r>
                <a:r>
                  <a:rPr b="1" lang="zh-CN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49800" y="1660320"/>
                <a:ext cx="1037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0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62960" y="1836000"/>
                <a:ext cx="22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38480" y="423720"/>
                <a:ext cx="92448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0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652800" y="1638000"/>
                <a:ext cx="92448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0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73800" y="1122120"/>
                <a:ext cx="11905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0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90040" y="1073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85440" y="19645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651800" y="1350360"/>
                <a:ext cx="27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630840" y="1416600"/>
                <a:ext cx="27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70720" y="692640"/>
                <a:ext cx="27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396200" y="578520"/>
                <a:ext cx="2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51720" y="1838880"/>
                <a:ext cx="22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34000" y="1413720"/>
                <a:ext cx="4348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535000" y="2819520"/>
                <a:ext cx="21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(b) </a:t>
                </a: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t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= 0+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等效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477120" y="27432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477120" y="10206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272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电路处于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图示电路中各个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2640" y="3695760"/>
            <a:ext cx="6026760" cy="588960"/>
            <a:chOff x="602640" y="3695760"/>
            <a:chExt cx="6026760" cy="588960"/>
          </a:xfrm>
        </p:grpSpPr>
        <p:sp>
          <p:nvSpPr>
            <p:cNvPr id="520" name=""/>
            <p:cNvSpPr/>
            <p:nvPr/>
          </p:nvSpPr>
          <p:spPr>
            <a:xfrm>
              <a:off x="602640" y="3695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66680" y="3705120"/>
              <a:ext cx="556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1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由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-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电路求 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0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–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、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i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L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0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–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03228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13560" y="489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22240" y="42372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55920" y="4130640"/>
            <a:ext cx="6276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电路已处于稳态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容元件视为开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感元件视为短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22720" y="4662360"/>
            <a:ext cx="257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可求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990720" y="5095800"/>
                <a:ext cx="77072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8496000" y="2057400"/>
            <a:ext cx="5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19640" y="1563840"/>
            <a:ext cx="226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48240" y="1523880"/>
            <a:ext cx="5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8410680" y="1577520"/>
            <a:ext cx="0" cy="32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86440" y="2192400"/>
            <a:ext cx="473040" cy="519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18280" y="154152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1730520"/>
            <a:ext cx="38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28480" y="23922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1461960"/>
            <a:ext cx="44316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32280" y="1066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421400" y="2376000"/>
            <a:ext cx="0" cy="29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439040" y="3048120"/>
            <a:ext cx="1440" cy="3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318280" y="3394080"/>
            <a:ext cx="306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27640" y="1558800"/>
            <a:ext cx="33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410680" y="1577880"/>
            <a:ext cx="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73960" y="1676520"/>
            <a:ext cx="476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99080" y="2347920"/>
            <a:ext cx="476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18288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486400" y="2133720"/>
            <a:ext cx="556920" cy="762840"/>
            <a:chOff x="5486400" y="2133720"/>
            <a:chExt cx="556920" cy="762840"/>
          </a:xfrm>
        </p:grpSpPr>
        <p:sp>
          <p:nvSpPr>
            <p:cNvPr id="547" name=""/>
            <p:cNvSpPr/>
            <p:nvPr/>
          </p:nvSpPr>
          <p:spPr>
            <a:xfrm>
              <a:off x="5572080" y="2133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6400" y="24382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V="1">
            <a:off x="7377120" y="1534320"/>
            <a:ext cx="77760" cy="81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8348760" y="3347280"/>
            <a:ext cx="75960" cy="81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372520" y="1534320"/>
            <a:ext cx="76320" cy="81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 rot="5400000">
            <a:off x="8174160" y="2040480"/>
            <a:ext cx="476280" cy="158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85160" y="2328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47000" y="2362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427880" y="153000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410160" y="3047760"/>
            <a:ext cx="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416640" y="230364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416640" y="1555920"/>
            <a:ext cx="0" cy="80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 rot="5400000">
            <a:off x="6199920" y="2744280"/>
            <a:ext cx="44316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92600" y="2743200"/>
            <a:ext cx="5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927400" y="1676520"/>
            <a:ext cx="387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495920" y="2043000"/>
            <a:ext cx="5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232760" y="190512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769080" y="1752480"/>
            <a:ext cx="62244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zh-CN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470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0" y="2514600"/>
            <a:ext cx="64440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zh-CN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8397720" y="2362320"/>
            <a:ext cx="0" cy="32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9614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951680" y="2590920"/>
            <a:ext cx="54144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zh-CN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rot="5400000">
            <a:off x="7203240" y="2080800"/>
            <a:ext cx="4428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231040" y="18288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890480" y="1676520"/>
            <a:ext cx="39240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zh-CN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508960" y="1676520"/>
            <a:ext cx="476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364440" y="1523160"/>
            <a:ext cx="77760" cy="81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383600" y="3351960"/>
            <a:ext cx="77760" cy="81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372360" y="3340800"/>
            <a:ext cx="77760" cy="81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367760" y="2666160"/>
            <a:ext cx="90360" cy="93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373880" y="2971800"/>
            <a:ext cx="90720" cy="93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59640" y="2666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393320" y="2625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68720" y="3429000"/>
            <a:ext cx="168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效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8394840" y="2514600"/>
            <a:ext cx="1440" cy="880920"/>
            <a:chOff x="8394840" y="2514600"/>
            <a:chExt cx="1440" cy="880920"/>
          </a:xfrm>
        </p:grpSpPr>
        <p:sp>
          <p:nvSpPr>
            <p:cNvPr id="583" name=""/>
            <p:cNvSpPr/>
            <p:nvPr/>
          </p:nvSpPr>
          <p:spPr>
            <a:xfrm flipV="1">
              <a:off x="8394840" y="3122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96280" y="251460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56480" y="1066680"/>
            <a:ext cx="4573080" cy="2362320"/>
            <a:chOff x="456480" y="1066680"/>
            <a:chExt cx="4573080" cy="2362320"/>
          </a:xfrm>
        </p:grpSpPr>
        <p:sp>
          <p:nvSpPr>
            <p:cNvPr id="586" name=""/>
            <p:cNvSpPr/>
            <p:nvPr/>
          </p:nvSpPr>
          <p:spPr>
            <a:xfrm>
              <a:off x="1600200" y="156384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66680" y="161460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272840" y="2660760"/>
              <a:ext cx="222480" cy="461160"/>
              <a:chOff x="4272840" y="2660760"/>
              <a:chExt cx="222480" cy="461160"/>
            </a:xfrm>
          </p:grpSpPr>
          <p:sp>
            <p:nvSpPr>
              <p:cNvPr id="589" name=""/>
              <p:cNvSpPr/>
              <p:nvPr/>
            </p:nvSpPr>
            <p:spPr>
              <a:xfrm>
                <a:off x="4272840" y="2660760"/>
                <a:ext cx="222480" cy="15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272840" y="2814120"/>
                <a:ext cx="222480" cy="15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272840" y="2968200"/>
                <a:ext cx="222480" cy="15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 flipV="1">
              <a:off x="4413240" y="1539360"/>
              <a:ext cx="0" cy="34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83000" y="3122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6640" y="2192400"/>
              <a:ext cx="473040" cy="51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8480" y="1541520"/>
              <a:ext cx="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7200" y="1730520"/>
              <a:ext cx="387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6480" y="239220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43000" y="1461960"/>
              <a:ext cx="44280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12840" y="106668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5720" y="2376000"/>
              <a:ext cx="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193920" y="2943000"/>
              <a:ext cx="180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98480" y="3394080"/>
              <a:ext cx="3621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8200" y="1558800"/>
              <a:ext cx="33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68320" y="1905120"/>
              <a:ext cx="2286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13240" y="1577880"/>
              <a:ext cx="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82840" y="167652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79360" y="234792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05040" y="2671920"/>
              <a:ext cx="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1019160" y="2057400"/>
              <a:ext cx="556920" cy="763200"/>
              <a:chOff x="1019160" y="2057400"/>
              <a:chExt cx="556920" cy="763200"/>
            </a:xfrm>
          </p:grpSpPr>
          <p:sp>
            <p:nvSpPr>
              <p:cNvPr id="610" name=""/>
              <p:cNvSpPr/>
              <p:nvPr/>
            </p:nvSpPr>
            <p:spPr>
              <a:xfrm>
                <a:off x="1104840" y="205740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019160" y="2362320"/>
                <a:ext cx="556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 flipV="1" rot="5400000">
              <a:off x="4176720" y="2040480"/>
              <a:ext cx="476280" cy="15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3960" y="175248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8080" y="232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52840" y="2344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3200400" y="15573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3038400" y="2793960"/>
              <a:ext cx="326880" cy="149040"/>
              <a:chOff x="3038400" y="2793960"/>
              <a:chExt cx="326880" cy="149040"/>
            </a:xfrm>
          </p:grpSpPr>
          <p:sp>
            <p:nvSpPr>
              <p:cNvPr id="618" name=""/>
              <p:cNvSpPr/>
              <p:nvPr/>
            </p:nvSpPr>
            <p:spPr>
              <a:xfrm>
                <a:off x="3038400" y="2943000"/>
                <a:ext cx="315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049560" y="2793960"/>
                <a:ext cx="315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 flipV="1">
              <a:off x="1990800" y="3047760"/>
              <a:ext cx="0" cy="34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1996920" y="23036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996920" y="1555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1954080" y="2208960"/>
              <a:ext cx="90720" cy="93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rot="5400000">
              <a:off x="1780920" y="2744280"/>
              <a:ext cx="44316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92360" y="1981080"/>
              <a:ext cx="3808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073240" y="274320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95000" y="2610000"/>
              <a:ext cx="3877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05160" y="204300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06720" y="1905120"/>
              <a:ext cx="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9760" y="1752480"/>
              <a:ext cx="4212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5284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14600" y="2514600"/>
              <a:ext cx="6858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i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400640" y="2362320"/>
              <a:ext cx="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6432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54600" y="2590920"/>
              <a:ext cx="5410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i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rot="5400000">
              <a:off x="2978280" y="2081160"/>
              <a:ext cx="4428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33960" y="1828800"/>
              <a:ext cx="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3040" y="1676520"/>
              <a:ext cx="392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35200" y="167652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57520" y="204300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1935000" y="14778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124080" y="14778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3124080" y="33066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1905120" y="33066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1067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476360" y="4286160"/>
                <a:ext cx="49244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1143000" y="272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电路处于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图示电路中各个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620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1066680" y="3733920"/>
                <a:ext cx="242892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0" name=""/>
          <p:cNvGrpSpPr/>
          <p:nvPr/>
        </p:nvGrpSpPr>
        <p:grpSpPr>
          <a:xfrm>
            <a:off x="4952880" y="1143000"/>
            <a:ext cx="4115160" cy="2872440"/>
            <a:chOff x="4952880" y="1143000"/>
            <a:chExt cx="4115160" cy="2872440"/>
          </a:xfrm>
        </p:grpSpPr>
        <p:grpSp>
          <p:nvGrpSpPr>
            <p:cNvPr id="651" name=""/>
            <p:cNvGrpSpPr/>
            <p:nvPr/>
          </p:nvGrpSpPr>
          <p:grpSpPr>
            <a:xfrm>
              <a:off x="4952880" y="1143000"/>
              <a:ext cx="4115160" cy="2366640"/>
              <a:chOff x="4952880" y="1143000"/>
              <a:chExt cx="4115160" cy="2366640"/>
            </a:xfrm>
          </p:grpSpPr>
          <p:sp>
            <p:nvSpPr>
              <p:cNvPr id="652" name=""/>
              <p:cNvSpPr/>
              <p:nvPr/>
            </p:nvSpPr>
            <p:spPr>
              <a:xfrm>
                <a:off x="8496000" y="213372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19640" y="1639800"/>
                <a:ext cx="23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48240" y="160020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8270280" y="2736720"/>
                <a:ext cx="222480" cy="461520"/>
                <a:chOff x="8270280" y="2736720"/>
                <a:chExt cx="222480" cy="461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8270280" y="2736720"/>
                  <a:ext cx="222480" cy="153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270280" y="2890440"/>
                  <a:ext cx="22248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270280" y="3044520"/>
                  <a:ext cx="22248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 flipV="1">
                <a:off x="8410680" y="165420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8380440" y="319896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86440" y="2268360"/>
                <a:ext cx="473040" cy="519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18280" y="161784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952880" y="180648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028480" y="24685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662440" y="1538280"/>
                <a:ext cx="443160" cy="163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32280" y="114300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421400" y="245232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7439040" y="3124080"/>
                <a:ext cx="1440" cy="33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5318280" y="3470400"/>
                <a:ext cx="3095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27640" y="163512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410680" y="1654200"/>
                <a:ext cx="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473960" y="175248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99080" y="242424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24480" y="1905120"/>
                <a:ext cx="0" cy="504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5486400" y="2209680"/>
                <a:ext cx="556920" cy="762840"/>
                <a:chOff x="5486400" y="2209680"/>
                <a:chExt cx="556920" cy="7628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572080" y="2209680"/>
                  <a:ext cx="4046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86400" y="2514240"/>
                  <a:ext cx="5569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 flipV="1">
                <a:off x="7377120" y="1610640"/>
                <a:ext cx="77760" cy="81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6381720" y="1980360"/>
                <a:ext cx="9036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 rot="5400000">
                <a:off x="8174160" y="2116800"/>
                <a:ext cx="476280" cy="158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985160" y="240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47000" y="2438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427880" y="1606320"/>
                <a:ext cx="0" cy="41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6410160" y="3124080"/>
                <a:ext cx="0" cy="34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6416640" y="23792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416640" y="16315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6373800" y="2286000"/>
                <a:ext cx="9036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rot="5400000">
                <a:off x="6199920" y="2820600"/>
                <a:ext cx="442800" cy="163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492600" y="281952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27400" y="1752480"/>
                <a:ext cx="38772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211932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32760" y="1981080"/>
                <a:ext cx="0" cy="505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891480" y="1828800"/>
                <a:ext cx="3754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47000" y="281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61320" y="2666880"/>
                <a:ext cx="5410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8397720" y="24379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96140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51680" y="2666880"/>
                <a:ext cx="54144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rot="5400000">
                <a:off x="7203240" y="2157120"/>
                <a:ext cx="442800" cy="163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31040" y="1905120"/>
                <a:ext cx="0" cy="504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890480" y="1752480"/>
                <a:ext cx="39240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508960" y="175248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6364440" y="1599480"/>
                <a:ext cx="77760" cy="81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7383600" y="3428280"/>
                <a:ext cx="77760" cy="81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372360" y="3417120"/>
                <a:ext cx="77760" cy="81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00800" y="2057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367760" y="2743200"/>
                <a:ext cx="9036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7373880" y="3048120"/>
                <a:ext cx="907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59640" y="2743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3320" y="2701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945040" y="3505320"/>
              <a:ext cx="168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 0 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1423800" y="480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换路定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63800" y="5799240"/>
                <a:ext cx="3646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971800" y="5234040"/>
                <a:ext cx="3276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5" name=""/>
          <p:cNvGrpSpPr/>
          <p:nvPr/>
        </p:nvGrpSpPr>
        <p:grpSpPr>
          <a:xfrm>
            <a:off x="380520" y="1143000"/>
            <a:ext cx="4572720" cy="2366640"/>
            <a:chOff x="380520" y="1143000"/>
            <a:chExt cx="4572720" cy="2366640"/>
          </a:xfrm>
        </p:grpSpPr>
        <p:sp>
          <p:nvSpPr>
            <p:cNvPr id="716" name=""/>
            <p:cNvSpPr/>
            <p:nvPr/>
          </p:nvSpPr>
          <p:spPr>
            <a:xfrm>
              <a:off x="1523880" y="16398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90360" y="169056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196880" y="2736720"/>
              <a:ext cx="222480" cy="461520"/>
              <a:chOff x="4196880" y="2736720"/>
              <a:chExt cx="222480" cy="461520"/>
            </a:xfrm>
          </p:grpSpPr>
          <p:sp>
            <p:nvSpPr>
              <p:cNvPr id="719" name=""/>
              <p:cNvSpPr/>
              <p:nvPr/>
            </p:nvSpPr>
            <p:spPr>
              <a:xfrm>
                <a:off x="4196880" y="2736720"/>
                <a:ext cx="222480" cy="15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196880" y="2890440"/>
                <a:ext cx="222480" cy="15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96880" y="3044520"/>
                <a:ext cx="222480" cy="15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flipV="1">
              <a:off x="4336920" y="1654200"/>
              <a:ext cx="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307040" y="319896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0680" y="2268360"/>
              <a:ext cx="473040" cy="51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2160" y="1617840"/>
              <a:ext cx="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0880" y="1806480"/>
              <a:ext cx="387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520" y="24685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66680" y="1538280"/>
              <a:ext cx="44316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36520" y="114300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3119400" y="2452320"/>
              <a:ext cx="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117960" y="3018960"/>
              <a:ext cx="144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22160" y="3470400"/>
              <a:ext cx="3621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1880" y="1635120"/>
              <a:ext cx="33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92360" y="19810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36920" y="1654200"/>
              <a:ext cx="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06520" y="175248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03400" y="242424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28720" y="2747880"/>
              <a:ext cx="0" cy="505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942840" y="2133720"/>
              <a:ext cx="556920" cy="762840"/>
              <a:chOff x="942840" y="2133720"/>
              <a:chExt cx="556920" cy="762840"/>
            </a:xfrm>
          </p:grpSpPr>
          <p:sp>
            <p:nvSpPr>
              <p:cNvPr id="740" name=""/>
              <p:cNvSpPr/>
              <p:nvPr/>
            </p:nvSpPr>
            <p:spPr>
              <a:xfrm>
                <a:off x="1028520" y="21337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942840" y="2438280"/>
                <a:ext cx="556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 flipV="1">
              <a:off x="3075120" y="1610640"/>
              <a:ext cx="7776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886040" y="1980360"/>
              <a:ext cx="90360" cy="93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5400000">
              <a:off x="4100400" y="2116800"/>
              <a:ext cx="476280" cy="15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97640" y="182880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1760" y="2405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76880" y="2421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3125880" y="1606320"/>
              <a:ext cx="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2962440" y="2870280"/>
              <a:ext cx="326880" cy="149040"/>
              <a:chOff x="2962440" y="2870280"/>
              <a:chExt cx="326880" cy="149040"/>
            </a:xfrm>
          </p:grpSpPr>
          <p:sp>
            <p:nvSpPr>
              <p:cNvPr id="750" name=""/>
              <p:cNvSpPr/>
              <p:nvPr/>
            </p:nvSpPr>
            <p:spPr>
              <a:xfrm>
                <a:off x="2962440" y="3019320"/>
                <a:ext cx="315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73600" y="2870280"/>
                <a:ext cx="315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 flipV="1">
              <a:off x="1914480" y="3124080"/>
              <a:ext cx="0" cy="34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1920960" y="23792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1920960" y="1631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1878120" y="2286000"/>
              <a:ext cx="9036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rot="5400000">
              <a:off x="1704960" y="2820960"/>
              <a:ext cx="4428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1616040" y="2057400"/>
              <a:ext cx="3808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96920" y="281952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19040" y="2685960"/>
              <a:ext cx="3877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28840" y="211932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30400" y="1981080"/>
              <a:ext cx="0" cy="505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89480" y="1828800"/>
              <a:ext cx="375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7652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14600" y="2666880"/>
              <a:ext cx="541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324320" y="2437920"/>
              <a:ext cx="0" cy="32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88000" y="2895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8280" y="2666880"/>
              <a:ext cx="5414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i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rot="5400000">
              <a:off x="2901960" y="2157480"/>
              <a:ext cx="4428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157640" y="1905120"/>
              <a:ext cx="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16720" y="1752480"/>
              <a:ext cx="392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59240" y="175248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81200" y="211932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868400" y="1599480"/>
              <a:ext cx="7776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3081240" y="3428280"/>
              <a:ext cx="7776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1876320" y="3417120"/>
              <a:ext cx="7776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02200" y="274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89480" y="2743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1218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43000" y="2286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电路处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图示电路中各个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720" y="3832200"/>
            <a:ext cx="608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0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求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0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0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53120" y="3733920"/>
            <a:ext cx="1390680" cy="609480"/>
          </a:xfrm>
          <a:prstGeom prst="wedgeEllipseCallout">
            <a:avLst>
              <a:gd name="adj1" fmla="val 21916"/>
              <a:gd name="adj2" fmla="val -20260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zh-CN" sz="2400" spc="-1" strike="noStrike" baseline="-25000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0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291680" y="4343400"/>
            <a:ext cx="6834600" cy="1122480"/>
            <a:chOff x="1291680" y="4343400"/>
            <a:chExt cx="6834600" cy="1122480"/>
          </a:xfrm>
        </p:grpSpPr>
        <p:sp>
          <p:nvSpPr>
            <p:cNvPr id="783" name=""/>
            <p:cNvSpPr/>
            <p:nvPr/>
          </p:nvSpPr>
          <p:spPr>
            <a:xfrm>
              <a:off x="1291680" y="43434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图可列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"/>
                <p:cNvSpPr txBox="1"/>
                <p:nvPr/>
              </p:nvSpPr>
              <p:spPr>
                <a:xfrm>
                  <a:off x="3016080" y="4343400"/>
                  <a:ext cx="511020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R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3124080" y="4856040"/>
                  <a:ext cx="36576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6" name=""/>
          <p:cNvGrpSpPr/>
          <p:nvPr/>
        </p:nvGrpSpPr>
        <p:grpSpPr>
          <a:xfrm>
            <a:off x="1279800" y="5334120"/>
            <a:ext cx="5730480" cy="1211040"/>
            <a:chOff x="1279800" y="5334120"/>
            <a:chExt cx="5730480" cy="1211040"/>
          </a:xfrm>
        </p:grpSpPr>
        <p:sp>
          <p:nvSpPr>
            <p:cNvPr id="787" name=""/>
            <p:cNvSpPr/>
            <p:nvPr/>
          </p:nvSpPr>
          <p:spPr>
            <a:xfrm>
              <a:off x="1279800" y="533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带入数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8" name=""/>
                <p:cNvSpPr txBox="1"/>
                <p:nvPr/>
              </p:nvSpPr>
              <p:spPr>
                <a:xfrm>
                  <a:off x="3157560" y="5410080"/>
                  <a:ext cx="385272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3124080" y="5935680"/>
                  <a:ext cx="2833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0" name=""/>
          <p:cNvSpPr/>
          <p:nvPr/>
        </p:nvSpPr>
        <p:spPr>
          <a:xfrm>
            <a:off x="7658280" y="3809880"/>
            <a:ext cx="1257120" cy="609840"/>
          </a:xfrm>
          <a:prstGeom prst="wedgeEllipseCallout">
            <a:avLst>
              <a:gd name="adj1" fmla="val -9722"/>
              <a:gd name="adj2" fmla="val -189583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zh-CN" sz="2400" spc="-1" strike="noStrike" baseline="-25000">
                <a:solidFill>
                  <a:srgbClr val="ff33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0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27880" y="1062000"/>
            <a:ext cx="4573080" cy="2367000"/>
            <a:chOff x="227880" y="1062000"/>
            <a:chExt cx="4573080" cy="2367000"/>
          </a:xfrm>
        </p:grpSpPr>
        <p:grpSp>
          <p:nvGrpSpPr>
            <p:cNvPr id="792" name=""/>
            <p:cNvGrpSpPr/>
            <p:nvPr/>
          </p:nvGrpSpPr>
          <p:grpSpPr>
            <a:xfrm>
              <a:off x="227880" y="1062000"/>
              <a:ext cx="4573080" cy="2346480"/>
              <a:chOff x="227880" y="1062000"/>
              <a:chExt cx="4573080" cy="2346480"/>
            </a:xfrm>
          </p:grpSpPr>
          <p:sp>
            <p:nvSpPr>
              <p:cNvPr id="793" name=""/>
              <p:cNvSpPr/>
              <p:nvPr/>
            </p:nvSpPr>
            <p:spPr>
              <a:xfrm>
                <a:off x="3049920" y="2666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371600" y="1558800"/>
                <a:ext cx="281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38080" y="160956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4044240" y="2655720"/>
                <a:ext cx="222480" cy="461520"/>
                <a:chOff x="4044240" y="2655720"/>
                <a:chExt cx="222480" cy="4615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4044240" y="2655720"/>
                  <a:ext cx="222480" cy="153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044240" y="2809440"/>
                  <a:ext cx="22248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044240" y="2963520"/>
                  <a:ext cx="22248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 flipV="1">
                <a:off x="4184640" y="157320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4154400" y="311796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38040" y="2187720"/>
                <a:ext cx="473040" cy="519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69880" y="153684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72548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7880" y="23875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14400" y="1457280"/>
                <a:ext cx="442800" cy="163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984240" y="106200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967120" y="2438280"/>
                <a:ext cx="0" cy="34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2965320" y="2937960"/>
                <a:ext cx="1800" cy="43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69880" y="3389400"/>
                <a:ext cx="36212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9600" y="155412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539720" y="190008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184640" y="1573200"/>
                <a:ext cx="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054240" y="167148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850760" y="234324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76440" y="2666880"/>
                <a:ext cx="0" cy="505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790560" y="2052720"/>
                <a:ext cx="556920" cy="762840"/>
                <a:chOff x="790560" y="2052720"/>
                <a:chExt cx="556920" cy="76284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876240" y="2052720"/>
                  <a:ext cx="4046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90560" y="2357280"/>
                  <a:ext cx="5569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" name=""/>
              <p:cNvSpPr/>
              <p:nvPr/>
            </p:nvSpPr>
            <p:spPr>
              <a:xfrm flipV="1">
                <a:off x="1733400" y="1899360"/>
                <a:ext cx="9072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 rot="5400000">
                <a:off x="3948120" y="2035800"/>
                <a:ext cx="476280" cy="158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845360" y="174780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759480" y="2324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24240" y="2340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2973240" y="1560240"/>
                <a:ext cx="0" cy="41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2809800" y="2789280"/>
                <a:ext cx="326880" cy="149040"/>
                <a:chOff x="2809800" y="2789280"/>
                <a:chExt cx="326880" cy="14904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2809800" y="2938320"/>
                  <a:ext cx="315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820960" y="2789280"/>
                  <a:ext cx="315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9" name=""/>
              <p:cNvSpPr/>
              <p:nvPr/>
            </p:nvSpPr>
            <p:spPr>
              <a:xfrm flipV="1">
                <a:off x="1762200" y="3043080"/>
                <a:ext cx="0" cy="34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1768320" y="22982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1768320" y="15505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1725480" y="2205000"/>
                <a:ext cx="907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 rot="5400000">
                <a:off x="1552680" y="2739960"/>
                <a:ext cx="442800" cy="163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463760" y="1976400"/>
                <a:ext cx="3808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44640" y="273852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166400" y="2604960"/>
                <a:ext cx="38772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076560" y="203832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778120" y="1900080"/>
                <a:ext cx="0" cy="505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86000" y="1828800"/>
                <a:ext cx="5335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424240" y="273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62320" y="2585880"/>
                <a:ext cx="68580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4172040" y="23569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2814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26000" y="2585880"/>
                <a:ext cx="54108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rot="5400000">
                <a:off x="2749680" y="2111400"/>
                <a:ext cx="442800" cy="163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005360" y="1824120"/>
                <a:ext cx="0" cy="504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664440" y="1671480"/>
                <a:ext cx="39240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206600" y="167148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228920" y="203832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8880" y="2666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 flipV="1">
              <a:off x="1676520" y="33066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1706400" y="14778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895480" y="14778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895480" y="33066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724280" y="990720"/>
            <a:ext cx="4191480" cy="2898000"/>
            <a:chOff x="4724280" y="990720"/>
            <a:chExt cx="4191480" cy="2898000"/>
          </a:xfrm>
        </p:grpSpPr>
        <p:grpSp>
          <p:nvGrpSpPr>
            <p:cNvPr id="856" name=""/>
            <p:cNvGrpSpPr/>
            <p:nvPr/>
          </p:nvGrpSpPr>
          <p:grpSpPr>
            <a:xfrm>
              <a:off x="4724280" y="990720"/>
              <a:ext cx="4191480" cy="2898000"/>
              <a:chOff x="4724280" y="990720"/>
              <a:chExt cx="4191480" cy="2898000"/>
            </a:xfrm>
          </p:grpSpPr>
          <p:sp>
            <p:nvSpPr>
              <p:cNvPr id="857" name=""/>
              <p:cNvSpPr/>
              <p:nvPr/>
            </p:nvSpPr>
            <p:spPr>
              <a:xfrm>
                <a:off x="5758920" y="3429000"/>
                <a:ext cx="19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t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= 0+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时等效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8001000" y="2666880"/>
                <a:ext cx="511200" cy="477720"/>
                <a:chOff x="8001000" y="2666880"/>
                <a:chExt cx="511200" cy="47772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8001000" y="2666880"/>
                  <a:ext cx="492120" cy="477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020080" y="2895480"/>
                  <a:ext cx="49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"/>
              <p:cNvSpPr/>
              <p:nvPr/>
            </p:nvSpPr>
            <p:spPr>
              <a:xfrm>
                <a:off x="6934320" y="2590920"/>
                <a:ext cx="503280" cy="474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479280" y="26658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4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445880" y="25898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343720" y="205740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91040" y="1563840"/>
                <a:ext cx="2414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19640" y="152388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8258040" y="157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8228160" y="312264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857840" y="2192400"/>
                <a:ext cx="473040" cy="519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089680" y="154152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724280" y="173052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799880" y="239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433840" y="1461960"/>
                <a:ext cx="443160" cy="163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503680" y="106668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7210440" y="2361960"/>
                <a:ext cx="4680" cy="101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5089680" y="3394080"/>
                <a:ext cx="31399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099040" y="155880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58040" y="1577880"/>
                <a:ext cx="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245360" y="167652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645160" y="266688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5257800" y="2133720"/>
                <a:ext cx="556920" cy="762840"/>
                <a:chOff x="5257800" y="2133720"/>
                <a:chExt cx="556920" cy="7628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5343480" y="2133720"/>
                  <a:ext cx="4046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257800" y="2438280"/>
                  <a:ext cx="5569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4" name=""/>
              <p:cNvSpPr/>
              <p:nvPr/>
            </p:nvSpPr>
            <p:spPr>
              <a:xfrm flipV="1" rot="5400000">
                <a:off x="8021520" y="2040480"/>
                <a:ext cx="476280" cy="158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834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199280" y="15303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6181560" y="3047760"/>
                <a:ext cx="0" cy="34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6188040" y="2303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rot="5400000">
                <a:off x="5971320" y="2744280"/>
                <a:ext cx="443160" cy="163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267320" y="204300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004160" y="1752480"/>
                <a:ext cx="0" cy="505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63880" y="1676520"/>
                <a:ext cx="42120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78348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8245440" y="236232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5400000">
                <a:off x="6981840" y="2081160"/>
                <a:ext cx="442800" cy="163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078760" y="1828800"/>
                <a:ext cx="0" cy="504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37840" y="1676520"/>
                <a:ext cx="39240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356320" y="167652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942320" y="2666880"/>
                <a:ext cx="0" cy="505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905360" y="1471680"/>
                <a:ext cx="5047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952880" y="990720"/>
                <a:ext cx="457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172200" y="15573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 flipV="1">
              <a:off x="7162920" y="33066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5880" y="33066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7116840" y="14778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6095880" y="14778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430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电路处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图示电路中各个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4724280" y="1143000"/>
            <a:ext cx="4191480" cy="2898000"/>
            <a:chOff x="4724280" y="1143000"/>
            <a:chExt cx="4191480" cy="2898000"/>
          </a:xfrm>
        </p:grpSpPr>
        <p:sp>
          <p:nvSpPr>
            <p:cNvPr id="910" name=""/>
            <p:cNvSpPr/>
            <p:nvPr/>
          </p:nvSpPr>
          <p:spPr>
            <a:xfrm>
              <a:off x="5762880" y="3581280"/>
              <a:ext cx="19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 0+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等效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8001000" y="2819520"/>
              <a:ext cx="511200" cy="477720"/>
              <a:chOff x="8001000" y="2819520"/>
              <a:chExt cx="511200" cy="477720"/>
            </a:xfrm>
          </p:grpSpPr>
          <p:sp>
            <p:nvSpPr>
              <p:cNvPr id="912" name=""/>
              <p:cNvSpPr/>
              <p:nvPr/>
            </p:nvSpPr>
            <p:spPr>
              <a:xfrm>
                <a:off x="8001000" y="2819520"/>
                <a:ext cx="492120" cy="47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20080" y="3048120"/>
                <a:ext cx="49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6934320" y="2743200"/>
              <a:ext cx="503280" cy="474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79280" y="2818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45880" y="27421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43720" y="220968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91040" y="1716120"/>
              <a:ext cx="241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19640" y="167652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8258040" y="1730520"/>
              <a:ext cx="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228160" y="3274560"/>
              <a:ext cx="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57840" y="2344680"/>
              <a:ext cx="473040" cy="51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89680" y="1693800"/>
              <a:ext cx="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724280" y="1882800"/>
              <a:ext cx="387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99880" y="2544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33840" y="1614600"/>
              <a:ext cx="44316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503680" y="12193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210440" y="2514240"/>
              <a:ext cx="4680" cy="101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5089680" y="3546000"/>
              <a:ext cx="313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099040" y="1711440"/>
              <a:ext cx="33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258040" y="1730520"/>
              <a:ext cx="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45360" y="182880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45160" y="281952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257800" y="2286000"/>
              <a:ext cx="556920" cy="762840"/>
              <a:chOff x="5257800" y="2286000"/>
              <a:chExt cx="556920" cy="762840"/>
            </a:xfrm>
          </p:grpSpPr>
          <p:sp>
            <p:nvSpPr>
              <p:cNvPr id="935" name=""/>
              <p:cNvSpPr/>
              <p:nvPr/>
            </p:nvSpPr>
            <p:spPr>
              <a:xfrm>
                <a:off x="5343480" y="228600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257800" y="2590560"/>
                <a:ext cx="556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V="1">
              <a:off x="7148520" y="1687680"/>
              <a:ext cx="77760" cy="80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 rot="5400000">
              <a:off x="8021520" y="2192760"/>
              <a:ext cx="476280" cy="15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783480" y="2438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7199280" y="1682280"/>
              <a:ext cx="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6181560" y="3200040"/>
              <a:ext cx="0" cy="34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6188040" y="245556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6172200" y="1676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5400000">
              <a:off x="5971320" y="2896920"/>
              <a:ext cx="44280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67320" y="2195640"/>
              <a:ext cx="57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04160" y="1905120"/>
              <a:ext cx="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662880" y="1752480"/>
              <a:ext cx="375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83480" y="2895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8245440" y="2514600"/>
              <a:ext cx="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rot="5400000">
              <a:off x="6981480" y="2233080"/>
              <a:ext cx="44316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760" y="1981080"/>
              <a:ext cx="0" cy="505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37840" y="1828800"/>
              <a:ext cx="392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356320" y="182880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6135840" y="1675800"/>
              <a:ext cx="7776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155000" y="3504600"/>
              <a:ext cx="7776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6143760" y="3493440"/>
              <a:ext cx="7776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942320" y="2819520"/>
              <a:ext cx="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05360" y="1623960"/>
              <a:ext cx="504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52880" y="114300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04920" y="3581280"/>
            <a:ext cx="4268520" cy="1051200"/>
            <a:chOff x="304920" y="3581280"/>
            <a:chExt cx="4268520" cy="1051200"/>
          </a:xfrm>
        </p:grpSpPr>
        <p:sp>
          <p:nvSpPr>
            <p:cNvPr id="961" name=""/>
            <p:cNvSpPr/>
            <p:nvPr/>
          </p:nvSpPr>
          <p:spPr>
            <a:xfrm>
              <a:off x="304920" y="3832200"/>
              <a:ext cx="211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解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之得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2432160" y="3581280"/>
                  <a:ext cx="2141280" cy="105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3" name=""/>
          <p:cNvSpPr/>
          <p:nvPr/>
        </p:nvSpPr>
        <p:spPr>
          <a:xfrm>
            <a:off x="127980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可求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2181240" y="4863960"/>
            <a:ext cx="6310440" cy="1384560"/>
            <a:chOff x="2181240" y="4863960"/>
            <a:chExt cx="6310440" cy="1384560"/>
          </a:xfrm>
        </p:grpSpPr>
        <mc:AlternateContent>
          <mc:Choice xmlns:a14="http://schemas.microsoft.com/office/drawing/2010/main" Requires="a14">
            <p:sp>
              <p:nvSpPr>
                <p:cNvPr id="965" name=""/>
                <p:cNvSpPr txBox="1"/>
                <p:nvPr/>
              </p:nvSpPr>
              <p:spPr>
                <a:xfrm>
                  <a:off x="2181240" y="4863960"/>
                  <a:ext cx="63104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3414600" y="5276880"/>
                  <a:ext cx="3915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7" name=""/>
          <p:cNvGrpSpPr/>
          <p:nvPr/>
        </p:nvGrpSpPr>
        <p:grpSpPr>
          <a:xfrm>
            <a:off x="277200" y="1257480"/>
            <a:ext cx="4371480" cy="2247840"/>
            <a:chOff x="277200" y="1257480"/>
            <a:chExt cx="4371480" cy="2247840"/>
          </a:xfrm>
        </p:grpSpPr>
        <p:grpSp>
          <p:nvGrpSpPr>
            <p:cNvPr id="968" name=""/>
            <p:cNvGrpSpPr/>
            <p:nvPr/>
          </p:nvGrpSpPr>
          <p:grpSpPr>
            <a:xfrm>
              <a:off x="277200" y="1257480"/>
              <a:ext cx="4371480" cy="2228760"/>
              <a:chOff x="277200" y="1257480"/>
              <a:chExt cx="4371480" cy="2228760"/>
            </a:xfrm>
          </p:grpSpPr>
          <p:sp>
            <p:nvSpPr>
              <p:cNvPr id="969" name=""/>
              <p:cNvSpPr/>
              <p:nvPr/>
            </p:nvSpPr>
            <p:spPr>
              <a:xfrm>
                <a:off x="1363680" y="1728720"/>
                <a:ext cx="2676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57160" y="177804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1" name=""/>
              <p:cNvGrpSpPr/>
              <p:nvPr/>
            </p:nvGrpSpPr>
            <p:grpSpPr>
              <a:xfrm>
                <a:off x="3899880" y="2770200"/>
                <a:ext cx="213120" cy="438840"/>
                <a:chOff x="3899880" y="2770200"/>
                <a:chExt cx="213120" cy="43884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899880" y="2770200"/>
                  <a:ext cx="2131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899880" y="2916360"/>
                  <a:ext cx="21312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899880" y="3062880"/>
                  <a:ext cx="21312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5" name=""/>
              <p:cNvSpPr/>
              <p:nvPr/>
            </p:nvSpPr>
            <p:spPr>
              <a:xfrm flipV="1">
                <a:off x="4033800" y="1743120"/>
                <a:ext cx="0" cy="30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4005360" y="3209400"/>
                <a:ext cx="0" cy="25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82680" y="2325600"/>
                <a:ext cx="449280" cy="493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1560" y="1708200"/>
                <a:ext cx="0" cy="17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7920" y="188748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77200" y="251604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928800" y="1631880"/>
                <a:ext cx="420480" cy="155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995400" y="125748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2878200" y="2501640"/>
                <a:ext cx="0" cy="39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2876400" y="3039840"/>
                <a:ext cx="1800" cy="41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601560" y="3467160"/>
                <a:ext cx="34099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11280" y="1724040"/>
                <a:ext cx="317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522440" y="2052720"/>
                <a:ext cx="21744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033800" y="1743120"/>
                <a:ext cx="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62080" y="183672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819080" y="247320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557360" y="2781360"/>
                <a:ext cx="0" cy="479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2" name=""/>
              <p:cNvGrpSpPr/>
              <p:nvPr/>
            </p:nvGrpSpPr>
            <p:grpSpPr>
              <a:xfrm>
                <a:off x="811080" y="2198520"/>
                <a:ext cx="556920" cy="747720"/>
                <a:chOff x="811080" y="2198520"/>
                <a:chExt cx="556920" cy="7477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892440" y="2198520"/>
                  <a:ext cx="4046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11080" y="2487960"/>
                  <a:ext cx="5569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 flipV="1" rot="5400000">
                <a:off x="3809880" y="2181600"/>
                <a:ext cx="452520" cy="150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796040" y="190800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630960" y="2455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362320" y="2471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2884320" y="17330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0" name=""/>
              <p:cNvGrpSpPr/>
              <p:nvPr/>
            </p:nvGrpSpPr>
            <p:grpSpPr>
              <a:xfrm>
                <a:off x="2728800" y="2897280"/>
                <a:ext cx="311040" cy="142920"/>
                <a:chOff x="2728800" y="2897280"/>
                <a:chExt cx="311040" cy="14292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2728800" y="3040200"/>
                  <a:ext cx="30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2739240" y="2897280"/>
                  <a:ext cx="30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 flipV="1">
                <a:off x="1733400" y="3138120"/>
                <a:ext cx="0" cy="32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1739880" y="243216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1739880" y="17222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1700280" y="2342520"/>
                <a:ext cx="85680" cy="88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 rot="5400000">
                <a:off x="1534320" y="2850840"/>
                <a:ext cx="420840" cy="153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1450800" y="2125800"/>
                <a:ext cx="362160" cy="28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812600" y="284940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168200" y="2722680"/>
                <a:ext cx="38772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982600" y="218448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698920" y="2052720"/>
                <a:ext cx="0" cy="479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93920" y="1908000"/>
                <a:ext cx="40140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362320" y="284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303640" y="2705040"/>
                <a:ext cx="6681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4022640" y="2487600"/>
                <a:ext cx="0" cy="31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08640" y="2921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98920" y="2705040"/>
                <a:ext cx="51444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 rot="5400000">
                <a:off x="2671920" y="2220840"/>
                <a:ext cx="420480" cy="154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863880" y="1981080"/>
                <a:ext cx="0" cy="479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540600" y="1836720"/>
                <a:ext cx="39240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055760" y="183672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076640" y="218448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 flipV="1">
              <a:off x="1676520" y="338292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1676520" y="167580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2819520" y="167580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2819520" y="338292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818280" y="547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计算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28080" y="318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641600" y="3763800"/>
            <a:ext cx="58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619280" y="4425840"/>
            <a:ext cx="584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4191120" y="3227400"/>
                <a:ext cx="7477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5334120" y="3200400"/>
                <a:ext cx="728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2921040" y="3141720"/>
                <a:ext cx="1041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6316560" y="3200400"/>
                <a:ext cx="998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849320" y="4478400"/>
                <a:ext cx="7542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1832040" y="3868560"/>
                <a:ext cx="771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3143160" y="3886200"/>
                <a:ext cx="365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338720" y="3870360"/>
                <a:ext cx="347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4317840" y="4527720"/>
                <a:ext cx="3398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5662440" y="3886200"/>
                <a:ext cx="249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5591160" y="4308480"/>
                <a:ext cx="3747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6689880" y="3809880"/>
                <a:ext cx="42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4" name=""/>
          <p:cNvSpPr/>
          <p:nvPr/>
        </p:nvSpPr>
        <p:spPr>
          <a:xfrm>
            <a:off x="2774880" y="31240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962520" y="3139920"/>
            <a:ext cx="0" cy="20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45200" y="3141720"/>
            <a:ext cx="0" cy="19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49960" y="3141720"/>
            <a:ext cx="0" cy="19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600200" y="3141720"/>
            <a:ext cx="586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00200" y="51847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143160" y="4527720"/>
                <a:ext cx="371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6540480" y="4308480"/>
                <a:ext cx="608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52" name=""/>
          <p:cNvGrpSpPr/>
          <p:nvPr/>
        </p:nvGrpSpPr>
        <p:grpSpPr>
          <a:xfrm>
            <a:off x="974880" y="5410080"/>
            <a:ext cx="7060320" cy="685800"/>
            <a:chOff x="974880" y="5410080"/>
            <a:chExt cx="7060320" cy="685800"/>
          </a:xfrm>
        </p:grpSpPr>
        <p:sp>
          <p:nvSpPr>
            <p:cNvPr id="1053" name=""/>
            <p:cNvSpPr/>
            <p:nvPr/>
          </p:nvSpPr>
          <p:spPr>
            <a:xfrm>
              <a:off x="974880" y="5447880"/>
              <a:ext cx="1247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换路瞬间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2421000" y="5420880"/>
                  <a:ext cx="1211040" cy="6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4001760" y="5443200"/>
              <a:ext cx="14608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不能跃变，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80600" y="5410080"/>
              <a:ext cx="354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可以跃变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5802480" y="5410080"/>
                  <a:ext cx="12459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8" name=""/>
          <p:cNvGrpSpPr/>
          <p:nvPr/>
        </p:nvGrpSpPr>
        <p:grpSpPr>
          <a:xfrm>
            <a:off x="2818800" y="457200"/>
            <a:ext cx="4371480" cy="2255400"/>
            <a:chOff x="2818800" y="457200"/>
            <a:chExt cx="4371480" cy="2255400"/>
          </a:xfrm>
        </p:grpSpPr>
        <p:grpSp>
          <p:nvGrpSpPr>
            <p:cNvPr id="1059" name=""/>
            <p:cNvGrpSpPr/>
            <p:nvPr/>
          </p:nvGrpSpPr>
          <p:grpSpPr>
            <a:xfrm>
              <a:off x="2818800" y="457200"/>
              <a:ext cx="4371480" cy="2228760"/>
              <a:chOff x="2818800" y="457200"/>
              <a:chExt cx="4371480" cy="2228760"/>
            </a:xfrm>
          </p:grpSpPr>
          <p:sp>
            <p:nvSpPr>
              <p:cNvPr id="1060" name=""/>
              <p:cNvSpPr/>
              <p:nvPr/>
            </p:nvSpPr>
            <p:spPr>
              <a:xfrm>
                <a:off x="3905280" y="928440"/>
                <a:ext cx="2676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398760" y="97776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2" name=""/>
              <p:cNvGrpSpPr/>
              <p:nvPr/>
            </p:nvGrpSpPr>
            <p:grpSpPr>
              <a:xfrm>
                <a:off x="6441480" y="1969920"/>
                <a:ext cx="213120" cy="438840"/>
                <a:chOff x="6441480" y="1969920"/>
                <a:chExt cx="213120" cy="43884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441480" y="1969920"/>
                  <a:ext cx="2131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441480" y="2116080"/>
                  <a:ext cx="21312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441480" y="2262600"/>
                  <a:ext cx="21312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88" y="1"/>
                      </a:moveTo>
                      <a:arcTo wR="10800" hR="10800" stAng="-5435809" swAng="108358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88" y="1"/>
                      </a:moveTo>
                      <a:arcTo wR="10800" hR="10800" stAng="-5435809" swAng="10835809"/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 flipV="1">
                <a:off x="6575400" y="942840"/>
                <a:ext cx="0" cy="30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546960" y="2409120"/>
                <a:ext cx="0" cy="25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24280" y="1525320"/>
                <a:ext cx="449280" cy="493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143160" y="907920"/>
                <a:ext cx="0" cy="17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19520" y="108720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18800" y="171576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470400" y="831600"/>
                <a:ext cx="420480" cy="155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537000" y="45720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5419800" y="1701360"/>
                <a:ext cx="0" cy="39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5418000" y="2239560"/>
                <a:ext cx="1800" cy="41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3143160" y="2666880"/>
                <a:ext cx="34099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152880" y="923760"/>
                <a:ext cx="317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064040" y="1252440"/>
                <a:ext cx="21744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575400" y="942840"/>
                <a:ext cx="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3680" y="103644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360680" y="167292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098960" y="1981080"/>
                <a:ext cx="0" cy="479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352680" y="1398240"/>
                <a:ext cx="556920" cy="747720"/>
                <a:chOff x="3352680" y="1398240"/>
                <a:chExt cx="556920" cy="74772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434040" y="1398240"/>
                  <a:ext cx="4046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52680" y="1687680"/>
                  <a:ext cx="5569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 flipV="1" rot="5400000">
                <a:off x="6351480" y="1381320"/>
                <a:ext cx="452520" cy="150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337640" y="110772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172560" y="1655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903920" y="1671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5425920" y="93276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5270400" y="2097000"/>
                <a:ext cx="311040" cy="142920"/>
                <a:chOff x="5270400" y="2097000"/>
                <a:chExt cx="311040" cy="1429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5270400" y="2239920"/>
                  <a:ext cx="30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280840" y="2097000"/>
                  <a:ext cx="30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 flipV="1">
                <a:off x="4275000" y="2337840"/>
                <a:ext cx="0" cy="32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4281480" y="163188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281480" y="92196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4241880" y="1542240"/>
                <a:ext cx="85680" cy="88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 rot="5400000">
                <a:off x="4075920" y="2050560"/>
                <a:ext cx="420840" cy="153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3992400" y="1325520"/>
                <a:ext cx="362160" cy="28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354200" y="204912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709800" y="1922400"/>
                <a:ext cx="38772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524200" y="138420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40520" y="1252440"/>
                <a:ext cx="0" cy="479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835520" y="1107720"/>
                <a:ext cx="40140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903920" y="2049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845240" y="1904760"/>
                <a:ext cx="6681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6564240" y="1687320"/>
                <a:ext cx="0" cy="31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150240" y="2120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140520" y="1904760"/>
                <a:ext cx="51444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 rot="5400000">
                <a:off x="5213520" y="1420560"/>
                <a:ext cx="420480" cy="154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405480" y="1180800"/>
                <a:ext cx="0" cy="479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082200" y="1036440"/>
                <a:ext cx="39240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597360" y="1036440"/>
                <a:ext cx="476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618240" y="1384200"/>
                <a:ext cx="572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 flipV="1">
              <a:off x="4221000" y="86832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364000" y="86832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4191120" y="259020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334120" y="259020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3997800" y="654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57200" y="1295280"/>
            <a:ext cx="8458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瞬间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跃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其它电量均可以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880" y="3209760"/>
            <a:ext cx="876312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0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瞬间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电路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容元件可用一理想电压源替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电压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zh-CN" sz="32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0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电路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感元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用一理想电流源替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电流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533520" y="5772240"/>
            <a:ext cx="7952760" cy="171360"/>
            <a:chOff x="533520" y="5772240"/>
            <a:chExt cx="7952760" cy="171360"/>
          </a:xfrm>
        </p:grpSpPr>
        <p:pic>
          <p:nvPicPr>
            <p:cNvPr id="1123" name="" descr=""/>
            <p:cNvPicPr/>
            <p:nvPr/>
          </p:nvPicPr>
          <p:blipFill>
            <a:blip r:embed="rId2"/>
            <a:stretch/>
          </p:blipFill>
          <p:spPr>
            <a:xfrm>
              <a:off x="2047680" y="577224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"/>
            <a:stretch/>
          </p:blipFill>
          <p:spPr>
            <a:xfrm>
              <a:off x="2209680" y="577224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4"/>
            <a:stretch/>
          </p:blipFill>
          <p:spPr>
            <a:xfrm>
              <a:off x="2361960" y="577224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5"/>
            <a:stretch/>
          </p:blipFill>
          <p:spPr>
            <a:xfrm>
              <a:off x="2504880" y="577224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7" name=""/>
            <p:cNvGrpSpPr/>
            <p:nvPr/>
          </p:nvGrpSpPr>
          <p:grpSpPr>
            <a:xfrm>
              <a:off x="533520" y="5772240"/>
              <a:ext cx="1390320" cy="171360"/>
              <a:chOff x="533520" y="5772240"/>
              <a:chExt cx="1390320" cy="171360"/>
            </a:xfrm>
          </p:grpSpPr>
          <p:pic>
            <p:nvPicPr>
              <p:cNvPr id="11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520" y="57722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6080" y="57722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38080" y="57722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133280" y="57722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95280" y="57722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447920" y="57722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90480" y="57722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52480" y="57722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990720" y="57722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7" name="" descr=""/>
            <p:cNvPicPr/>
            <p:nvPr/>
          </p:nvPicPr>
          <p:blipFill>
            <a:blip r:embed="rId15"/>
            <a:stretch/>
          </p:blipFill>
          <p:spPr>
            <a:xfrm>
              <a:off x="1904760" y="577224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16"/>
            <a:stretch/>
          </p:blipFill>
          <p:spPr>
            <a:xfrm>
              <a:off x="26668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7"/>
            <a:stretch/>
          </p:blipFill>
          <p:spPr>
            <a:xfrm>
              <a:off x="28191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8"/>
            <a:stretch/>
          </p:blipFill>
          <p:spPr>
            <a:xfrm>
              <a:off x="29620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19"/>
            <a:stretch/>
          </p:blipFill>
          <p:spPr>
            <a:xfrm>
              <a:off x="31240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20"/>
            <a:stretch/>
          </p:blipFill>
          <p:spPr>
            <a:xfrm>
              <a:off x="32763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21"/>
            <a:stretch/>
          </p:blipFill>
          <p:spPr>
            <a:xfrm>
              <a:off x="34192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22"/>
            <a:stretch/>
          </p:blipFill>
          <p:spPr>
            <a:xfrm>
              <a:off x="35812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" descr=""/>
            <p:cNvPicPr/>
            <p:nvPr/>
          </p:nvPicPr>
          <p:blipFill>
            <a:blip r:embed="rId23"/>
            <a:stretch/>
          </p:blipFill>
          <p:spPr>
            <a:xfrm>
              <a:off x="38764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" descr=""/>
            <p:cNvPicPr/>
            <p:nvPr/>
          </p:nvPicPr>
          <p:blipFill>
            <a:blip r:embed="rId24"/>
            <a:stretch/>
          </p:blipFill>
          <p:spPr>
            <a:xfrm>
              <a:off x="40384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25"/>
            <a:stretch/>
          </p:blipFill>
          <p:spPr>
            <a:xfrm>
              <a:off x="41907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26"/>
            <a:stretch/>
          </p:blipFill>
          <p:spPr>
            <a:xfrm>
              <a:off x="43336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27"/>
            <a:stretch/>
          </p:blipFill>
          <p:spPr>
            <a:xfrm>
              <a:off x="44956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28"/>
            <a:stretch/>
          </p:blipFill>
          <p:spPr>
            <a:xfrm>
              <a:off x="47908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29"/>
            <a:stretch/>
          </p:blipFill>
          <p:spPr>
            <a:xfrm>
              <a:off x="49528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30"/>
            <a:stretch/>
          </p:blipFill>
          <p:spPr>
            <a:xfrm>
              <a:off x="51051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" descr=""/>
            <p:cNvPicPr/>
            <p:nvPr/>
          </p:nvPicPr>
          <p:blipFill>
            <a:blip r:embed="rId31"/>
            <a:stretch/>
          </p:blipFill>
          <p:spPr>
            <a:xfrm>
              <a:off x="52480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" descr=""/>
            <p:cNvPicPr/>
            <p:nvPr/>
          </p:nvPicPr>
          <p:blipFill>
            <a:blip r:embed="rId32"/>
            <a:stretch/>
          </p:blipFill>
          <p:spPr>
            <a:xfrm>
              <a:off x="37335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" descr=""/>
            <p:cNvPicPr/>
            <p:nvPr/>
          </p:nvPicPr>
          <p:blipFill>
            <a:blip r:embed="rId33"/>
            <a:stretch/>
          </p:blipFill>
          <p:spPr>
            <a:xfrm>
              <a:off x="46479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34"/>
            <a:stretch/>
          </p:blipFill>
          <p:spPr>
            <a:xfrm>
              <a:off x="54100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35"/>
            <a:stretch/>
          </p:blipFill>
          <p:spPr>
            <a:xfrm>
              <a:off x="55623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36"/>
            <a:stretch/>
          </p:blipFill>
          <p:spPr>
            <a:xfrm>
              <a:off x="57052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37"/>
            <a:stretch/>
          </p:blipFill>
          <p:spPr>
            <a:xfrm>
              <a:off x="58672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38"/>
            <a:stretch/>
          </p:blipFill>
          <p:spPr>
            <a:xfrm>
              <a:off x="60195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1" name="" descr=""/>
            <p:cNvPicPr/>
            <p:nvPr/>
          </p:nvPicPr>
          <p:blipFill>
            <a:blip r:embed="rId39"/>
            <a:stretch/>
          </p:blipFill>
          <p:spPr>
            <a:xfrm>
              <a:off x="61624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" descr=""/>
            <p:cNvPicPr/>
            <p:nvPr/>
          </p:nvPicPr>
          <p:blipFill>
            <a:blip r:embed="rId40"/>
            <a:stretch/>
          </p:blipFill>
          <p:spPr>
            <a:xfrm>
              <a:off x="63244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41"/>
            <a:stretch/>
          </p:blipFill>
          <p:spPr>
            <a:xfrm>
              <a:off x="66196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42"/>
            <a:stretch/>
          </p:blipFill>
          <p:spPr>
            <a:xfrm>
              <a:off x="67816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43"/>
            <a:stretch/>
          </p:blipFill>
          <p:spPr>
            <a:xfrm>
              <a:off x="69339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4"/>
            <a:stretch/>
          </p:blipFill>
          <p:spPr>
            <a:xfrm>
              <a:off x="707688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45"/>
            <a:stretch/>
          </p:blipFill>
          <p:spPr>
            <a:xfrm>
              <a:off x="7238880" y="5772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46"/>
            <a:stretch/>
          </p:blipFill>
          <p:spPr>
            <a:xfrm>
              <a:off x="647676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47"/>
            <a:stretch/>
          </p:blipFill>
          <p:spPr>
            <a:xfrm>
              <a:off x="7391160" y="577224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48"/>
            <a:stretch/>
          </p:blipFill>
          <p:spPr>
            <a:xfrm>
              <a:off x="754344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49"/>
            <a:stretch/>
          </p:blipFill>
          <p:spPr>
            <a:xfrm>
              <a:off x="770544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50"/>
            <a:stretch/>
          </p:blipFill>
          <p:spPr>
            <a:xfrm>
              <a:off x="785772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51"/>
            <a:stretch/>
          </p:blipFill>
          <p:spPr>
            <a:xfrm>
              <a:off x="800064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52"/>
            <a:stretch/>
          </p:blipFill>
          <p:spPr>
            <a:xfrm>
              <a:off x="8162640" y="577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53"/>
            <a:stretch/>
          </p:blipFill>
          <p:spPr>
            <a:xfrm>
              <a:off x="8314920" y="57722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6" name=""/>
          <p:cNvSpPr/>
          <p:nvPr/>
        </p:nvSpPr>
        <p:spPr>
          <a:xfrm>
            <a:off x="457200" y="2235240"/>
            <a:ext cx="8686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储能元件没有储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瞬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效电路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视电容元件短路，电感元件开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6.2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i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RC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电路的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679480" y="1143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阶电路暂态过程的求解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13360" y="3911760"/>
            <a:ext cx="6634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经典法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激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电压或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通过求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的微分方程得出电路的响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和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85040" y="495468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要素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2361960" y="5029200"/>
            <a:ext cx="3802680" cy="1496880"/>
            <a:chOff x="2361960" y="5029200"/>
            <a:chExt cx="3802680" cy="1496880"/>
          </a:xfrm>
        </p:grpSpPr>
        <p:grpSp>
          <p:nvGrpSpPr>
            <p:cNvPr id="1182" name=""/>
            <p:cNvGrpSpPr/>
            <p:nvPr/>
          </p:nvGrpSpPr>
          <p:grpSpPr>
            <a:xfrm>
              <a:off x="2361960" y="5029200"/>
              <a:ext cx="2010600" cy="1496880"/>
              <a:chOff x="2361960" y="5029200"/>
              <a:chExt cx="2010600" cy="149688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2970000" y="5029200"/>
                <a:ext cx="1402560" cy="1496880"/>
                <a:chOff x="2970000" y="5029200"/>
                <a:chExt cx="1402560" cy="149688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3299760" y="502920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初始值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263040" y="555444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稳态值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338280" y="600552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时间常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970000" y="5243400"/>
                  <a:ext cx="152280" cy="120024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30960 h 1200240"/>
                    <a:gd name="textAreaBottom" fmla="*/ 1169280 h 1200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8" name=""/>
              <p:cNvSpPr/>
              <p:nvPr/>
            </p:nvSpPr>
            <p:spPr>
              <a:xfrm flipH="1">
                <a:off x="2361600" y="5548320"/>
                <a:ext cx="91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9" name=""/>
            <p:cNvSpPr/>
            <p:nvPr/>
          </p:nvSpPr>
          <p:spPr>
            <a:xfrm>
              <a:off x="4917240" y="55580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三要素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595440" y="990720"/>
            <a:ext cx="7952760" cy="171360"/>
            <a:chOff x="595440" y="990720"/>
            <a:chExt cx="7952760" cy="171360"/>
          </a:xfrm>
        </p:grpSpPr>
        <p:pic>
          <p:nvPicPr>
            <p:cNvPr id="1191" name="" descr=""/>
            <p:cNvPicPr/>
            <p:nvPr/>
          </p:nvPicPr>
          <p:blipFill>
            <a:blip r:embed="rId2"/>
            <a:stretch/>
          </p:blipFill>
          <p:spPr>
            <a:xfrm>
              <a:off x="2109600" y="9907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3"/>
            <a:stretch/>
          </p:blipFill>
          <p:spPr>
            <a:xfrm>
              <a:off x="2271600" y="9907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4"/>
            <a:stretch/>
          </p:blipFill>
          <p:spPr>
            <a:xfrm>
              <a:off x="2423880" y="9907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5"/>
            <a:stretch/>
          </p:blipFill>
          <p:spPr>
            <a:xfrm>
              <a:off x="2566800" y="9907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5" name=""/>
            <p:cNvGrpSpPr/>
            <p:nvPr/>
          </p:nvGrpSpPr>
          <p:grpSpPr>
            <a:xfrm>
              <a:off x="595440" y="990720"/>
              <a:ext cx="1390320" cy="171360"/>
              <a:chOff x="595440" y="990720"/>
              <a:chExt cx="1390320" cy="171360"/>
            </a:xfrm>
          </p:grpSpPr>
          <p:pic>
            <p:nvPicPr>
              <p:cNvPr id="11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95440" y="9907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000" y="9907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00000" y="9907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195200" y="9907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57200" y="9907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09840" y="9907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52400" y="9907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814400" y="9907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052640" y="9907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05" name="" descr=""/>
            <p:cNvPicPr/>
            <p:nvPr/>
          </p:nvPicPr>
          <p:blipFill>
            <a:blip r:embed="rId15"/>
            <a:stretch/>
          </p:blipFill>
          <p:spPr>
            <a:xfrm>
              <a:off x="1966680" y="9907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16"/>
            <a:stretch/>
          </p:blipFill>
          <p:spPr>
            <a:xfrm>
              <a:off x="27288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17"/>
            <a:stretch/>
          </p:blipFill>
          <p:spPr>
            <a:xfrm>
              <a:off x="2881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18"/>
            <a:stretch/>
          </p:blipFill>
          <p:spPr>
            <a:xfrm>
              <a:off x="30240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19"/>
            <a:stretch/>
          </p:blipFill>
          <p:spPr>
            <a:xfrm>
              <a:off x="31860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20"/>
            <a:stretch/>
          </p:blipFill>
          <p:spPr>
            <a:xfrm>
              <a:off x="3338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21"/>
            <a:stretch/>
          </p:blipFill>
          <p:spPr>
            <a:xfrm>
              <a:off x="34812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" descr=""/>
            <p:cNvPicPr/>
            <p:nvPr/>
          </p:nvPicPr>
          <p:blipFill>
            <a:blip r:embed="rId22"/>
            <a:stretch/>
          </p:blipFill>
          <p:spPr>
            <a:xfrm>
              <a:off x="36432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" descr=""/>
            <p:cNvPicPr/>
            <p:nvPr/>
          </p:nvPicPr>
          <p:blipFill>
            <a:blip r:embed="rId23"/>
            <a:stretch/>
          </p:blipFill>
          <p:spPr>
            <a:xfrm>
              <a:off x="39384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24"/>
            <a:stretch/>
          </p:blipFill>
          <p:spPr>
            <a:xfrm>
              <a:off x="41004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25"/>
            <a:stretch/>
          </p:blipFill>
          <p:spPr>
            <a:xfrm>
              <a:off x="4252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26"/>
            <a:stretch/>
          </p:blipFill>
          <p:spPr>
            <a:xfrm>
              <a:off x="43956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27"/>
            <a:stretch/>
          </p:blipFill>
          <p:spPr>
            <a:xfrm>
              <a:off x="45576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28"/>
            <a:stretch/>
          </p:blipFill>
          <p:spPr>
            <a:xfrm>
              <a:off x="48528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29"/>
            <a:stretch/>
          </p:blipFill>
          <p:spPr>
            <a:xfrm>
              <a:off x="50148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30"/>
            <a:stretch/>
          </p:blipFill>
          <p:spPr>
            <a:xfrm>
              <a:off x="5167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31"/>
            <a:stretch/>
          </p:blipFill>
          <p:spPr>
            <a:xfrm>
              <a:off x="53100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32"/>
            <a:stretch/>
          </p:blipFill>
          <p:spPr>
            <a:xfrm>
              <a:off x="3795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33"/>
            <a:stretch/>
          </p:blipFill>
          <p:spPr>
            <a:xfrm>
              <a:off x="47098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34"/>
            <a:stretch/>
          </p:blipFill>
          <p:spPr>
            <a:xfrm>
              <a:off x="54720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35"/>
            <a:stretch/>
          </p:blipFill>
          <p:spPr>
            <a:xfrm>
              <a:off x="5624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36"/>
            <a:stretch/>
          </p:blipFill>
          <p:spPr>
            <a:xfrm>
              <a:off x="57672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37"/>
            <a:stretch/>
          </p:blipFill>
          <p:spPr>
            <a:xfrm>
              <a:off x="59292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38"/>
            <a:stretch/>
          </p:blipFill>
          <p:spPr>
            <a:xfrm>
              <a:off x="6081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39"/>
            <a:stretch/>
          </p:blipFill>
          <p:spPr>
            <a:xfrm>
              <a:off x="62244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40"/>
            <a:stretch/>
          </p:blipFill>
          <p:spPr>
            <a:xfrm>
              <a:off x="63864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41"/>
            <a:stretch/>
          </p:blipFill>
          <p:spPr>
            <a:xfrm>
              <a:off x="66816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42"/>
            <a:stretch/>
          </p:blipFill>
          <p:spPr>
            <a:xfrm>
              <a:off x="68436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43"/>
            <a:stretch/>
          </p:blipFill>
          <p:spPr>
            <a:xfrm>
              <a:off x="69958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44"/>
            <a:stretch/>
          </p:blipFill>
          <p:spPr>
            <a:xfrm>
              <a:off x="713880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45"/>
            <a:stretch/>
          </p:blipFill>
          <p:spPr>
            <a:xfrm>
              <a:off x="73008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46"/>
            <a:stretch/>
          </p:blipFill>
          <p:spPr>
            <a:xfrm>
              <a:off x="6538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47"/>
            <a:stretch/>
          </p:blipFill>
          <p:spPr>
            <a:xfrm>
              <a:off x="7453080" y="9907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48"/>
            <a:stretch/>
          </p:blipFill>
          <p:spPr>
            <a:xfrm>
              <a:off x="7605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49"/>
            <a:stretch/>
          </p:blipFill>
          <p:spPr>
            <a:xfrm>
              <a:off x="7767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50"/>
            <a:stretch/>
          </p:blipFill>
          <p:spPr>
            <a:xfrm>
              <a:off x="7919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51"/>
            <a:stretch/>
          </p:blipFill>
          <p:spPr>
            <a:xfrm>
              <a:off x="80625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52"/>
            <a:stretch/>
          </p:blipFill>
          <p:spPr>
            <a:xfrm>
              <a:off x="82245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53"/>
            <a:stretch/>
          </p:blipFill>
          <p:spPr>
            <a:xfrm>
              <a:off x="8376840" y="9907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4" name=""/>
          <p:cNvSpPr/>
          <p:nvPr/>
        </p:nvSpPr>
        <p:spPr>
          <a:xfrm>
            <a:off x="457200" y="2079720"/>
            <a:ext cx="8305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仅含一个储能元件或可等效为一个储能元件的线性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由一阶微分方程描述，称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阶线性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72080" y="1628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46280" y="351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解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762120" y="58046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入上式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971800" y="5654520"/>
                <a:ext cx="2743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3733920" y="4952880"/>
                <a:ext cx="1676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ι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1295280" y="5135400"/>
                <a:ext cx="1371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ι</m:t>
                        </m:r>
                      </m:e>
                    </m:acc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1" name=""/>
          <p:cNvGrpSpPr/>
          <p:nvPr/>
        </p:nvGrpSpPr>
        <p:grpSpPr>
          <a:xfrm>
            <a:off x="685800" y="3199680"/>
            <a:ext cx="5192280" cy="597600"/>
            <a:chOff x="685800" y="3199680"/>
            <a:chExt cx="5192280" cy="597600"/>
          </a:xfrm>
        </p:grpSpPr>
        <p:sp>
          <p:nvSpPr>
            <p:cNvPr id="1252" name=""/>
            <p:cNvSpPr/>
            <p:nvPr/>
          </p:nvSpPr>
          <p:spPr>
            <a:xfrm>
              <a:off x="685800" y="3199680"/>
              <a:ext cx="41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换路前电路已处稳态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3" name=""/>
                <p:cNvSpPr txBox="1"/>
                <p:nvPr/>
              </p:nvSpPr>
              <p:spPr>
                <a:xfrm>
                  <a:off x="4114440" y="3200400"/>
                  <a:ext cx="1763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4" name=""/>
          <p:cNvGrpSpPr/>
          <p:nvPr/>
        </p:nvGrpSpPr>
        <p:grpSpPr>
          <a:xfrm>
            <a:off x="685800" y="3504960"/>
            <a:ext cx="7620120" cy="695880"/>
            <a:chOff x="685800" y="3504960"/>
            <a:chExt cx="7620120" cy="695880"/>
          </a:xfrm>
        </p:grpSpPr>
        <p:sp>
          <p:nvSpPr>
            <p:cNvPr id="1255" name=""/>
            <p:cNvSpPr/>
            <p:nvPr/>
          </p:nvSpPr>
          <p:spPr>
            <a:xfrm>
              <a:off x="685800" y="3509640"/>
              <a:ext cx="27432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开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352680" y="3504960"/>
              <a:ext cx="49532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容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经电阻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放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2438280" y="3684600"/>
                  <a:ext cx="99072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8" name=""/>
          <p:cNvGrpSpPr/>
          <p:nvPr/>
        </p:nvGrpSpPr>
        <p:grpSpPr>
          <a:xfrm>
            <a:off x="5867280" y="4572000"/>
            <a:ext cx="2819160" cy="1117800"/>
            <a:chOff x="5867280" y="4572000"/>
            <a:chExt cx="2819160" cy="1117800"/>
          </a:xfrm>
        </p:grpSpPr>
        <p:sp>
          <p:nvSpPr>
            <p:cNvPr id="1259" name=""/>
            <p:cNvSpPr/>
            <p:nvPr/>
          </p:nvSpPr>
          <p:spPr>
            <a:xfrm>
              <a:off x="5867280" y="4662360"/>
              <a:ext cx="2819160" cy="990720"/>
            </a:xfrm>
            <a:prstGeom prst="wedgeRoundRectCallout">
              <a:avLst>
                <a:gd name="adj1" fmla="val -77666"/>
                <a:gd name="adj2" fmla="val 97916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345360" y="4572000"/>
              <a:ext cx="17319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一阶线性常系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齐次微分方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457200" y="4601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94000" y="4511520"/>
                <a:ext cx="2116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609480" y="4084560"/>
            <a:ext cx="59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容电压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变化规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0880" y="860400"/>
            <a:ext cx="54104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输入响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电源激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入信号为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仅由电容元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始储能所产生的电路的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74880" y="2743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示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80880" y="2286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实质：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的放电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 .2 .1  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路的零输入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107680" y="532800"/>
            <a:ext cx="4036320" cy="2827800"/>
            <a:chOff x="5107680" y="532800"/>
            <a:chExt cx="4036320" cy="2827800"/>
          </a:xfrm>
        </p:grpSpPr>
        <p:grpSp>
          <p:nvGrpSpPr>
            <p:cNvPr id="1269" name=""/>
            <p:cNvGrpSpPr/>
            <p:nvPr/>
          </p:nvGrpSpPr>
          <p:grpSpPr>
            <a:xfrm>
              <a:off x="5107680" y="532800"/>
              <a:ext cx="4036320" cy="2827800"/>
              <a:chOff x="5107680" y="532800"/>
              <a:chExt cx="4036320" cy="2827800"/>
            </a:xfrm>
          </p:grpSpPr>
          <mc:AlternateContent>
            <mc:Choice xmlns:a14="http://schemas.microsoft.com/office/drawing/2010/main" Requires="a14">
              <p:sp>
                <p:nvSpPr>
                  <p:cNvPr id="1270" name=""/>
                  <p:cNvSpPr txBox="1"/>
                  <p:nvPr/>
                </p:nvSpPr>
                <p:spPr>
                  <a:xfrm>
                    <a:off x="6324840" y="2805120"/>
                    <a:ext cx="1981080" cy="55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71" name=""/>
              <p:cNvSpPr/>
              <p:nvPr/>
            </p:nvSpPr>
            <p:spPr>
              <a:xfrm>
                <a:off x="5546880" y="1776240"/>
                <a:ext cx="39384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743800" y="1109520"/>
                <a:ext cx="0" cy="171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346720" y="1346760"/>
                <a:ext cx="3952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6848280" y="1001880"/>
                <a:ext cx="1768320" cy="190080"/>
                <a:chOff x="6848280" y="1001880"/>
                <a:chExt cx="1768320" cy="190080"/>
              </a:xfrm>
            </p:grpSpPr>
            <p:sp>
              <p:nvSpPr>
                <p:cNvPr id="1275" name=""/>
                <p:cNvSpPr/>
                <p:nvPr/>
              </p:nvSpPr>
              <p:spPr>
                <a:xfrm rot="16200000">
                  <a:off x="7637040" y="900360"/>
                  <a:ext cx="190080" cy="3927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7929000" y="1097280"/>
                  <a:ext cx="68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flipH="1">
                  <a:off x="6848280" y="1097280"/>
                  <a:ext cx="68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8" name=""/>
              <p:cNvSpPr/>
              <p:nvPr/>
            </p:nvSpPr>
            <p:spPr>
              <a:xfrm>
                <a:off x="8407440" y="1859040"/>
                <a:ext cx="393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407440" y="2003400"/>
                <a:ext cx="393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605800" y="1085760"/>
                <a:ext cx="0" cy="79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605800" y="2027160"/>
                <a:ext cx="0" cy="79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 flipV="1">
                <a:off x="6773400" y="1048680"/>
                <a:ext cx="98280" cy="96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6357600" y="1146240"/>
                <a:ext cx="45396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 flipV="1">
                <a:off x="6731280" y="1102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85" name=""/>
              <p:cNvCxnSpPr/>
              <p:nvPr/>
            </p:nvCxnSpPr>
            <p:spPr>
              <a:xfrm flipV="1" rot="10800000">
                <a:off x="6655680" y="937080"/>
                <a:ext cx="21600" cy="538560"/>
              </a:xfrm>
              <a:prstGeom prst="curvedConnector4">
                <a:avLst>
                  <a:gd name="adj1" fmla="val 669491"/>
                  <a:gd name="adj2" fmla="val 69163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86" name=""/>
              <p:cNvSpPr/>
              <p:nvPr/>
            </p:nvSpPr>
            <p:spPr>
              <a:xfrm>
                <a:off x="5730840" y="1109520"/>
                <a:ext cx="565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730840" y="2813040"/>
                <a:ext cx="289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615360" y="1512720"/>
                <a:ext cx="120600" cy="106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675480" y="1620720"/>
                <a:ext cx="0" cy="12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520400" y="5328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91" name=""/>
              <p:cNvCxnSpPr/>
              <p:nvPr/>
            </p:nvCxnSpPr>
            <p:spPr>
              <a:xfrm>
                <a:off x="6933960" y="1738080"/>
                <a:ext cx="687960" cy="608760"/>
              </a:xfrm>
              <a:prstGeom prst="curvedConnector5">
                <a:avLst>
                  <a:gd name="adj1" fmla="val 139267"/>
                  <a:gd name="adj2" fmla="val 50000"/>
                  <a:gd name="adj3" fmla="val 139267"/>
                </a:avLst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292" name=""/>
              <p:cNvSpPr/>
              <p:nvPr/>
            </p:nvSpPr>
            <p:spPr>
              <a:xfrm>
                <a:off x="5107680" y="1712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021360" y="608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342120" y="1339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211240" y="1508040"/>
                <a:ext cx="471960" cy="8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96" name=""/>
                  <p:cNvSpPr txBox="1"/>
                  <p:nvPr/>
                </p:nvSpPr>
                <p:spPr>
                  <a:xfrm>
                    <a:off x="7161480" y="1822320"/>
                    <a:ext cx="450720" cy="57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97" name=""/>
                  <p:cNvSpPr txBox="1"/>
                  <p:nvPr/>
                </p:nvSpPr>
                <p:spPr>
                  <a:xfrm>
                    <a:off x="7925040" y="1585800"/>
                    <a:ext cx="525240" cy="54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98" name=""/>
                  <p:cNvSpPr txBox="1"/>
                  <p:nvPr/>
                </p:nvSpPr>
                <p:spPr>
                  <a:xfrm>
                    <a:off x="6373800" y="592200"/>
                    <a:ext cx="820800" cy="40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99" name=""/>
                  <p:cNvSpPr txBox="1"/>
                  <p:nvPr/>
                </p:nvSpPr>
                <p:spPr>
                  <a:xfrm>
                    <a:off x="7543800" y="1052640"/>
                    <a:ext cx="609840" cy="58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0" name=""/>
              <p:cNvSpPr/>
              <p:nvPr/>
            </p:nvSpPr>
            <p:spPr>
              <a:xfrm>
                <a:off x="7150320" y="1025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939080" y="966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02" name=""/>
                  <p:cNvSpPr txBox="1"/>
                  <p:nvPr/>
                </p:nvSpPr>
                <p:spPr>
                  <a:xfrm>
                    <a:off x="8756640" y="1757520"/>
                    <a:ext cx="387360" cy="43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03" name=""/>
            <p:cNvSpPr/>
            <p:nvPr/>
          </p:nvSpPr>
          <p:spPr>
            <a:xfrm flipV="1">
              <a:off x="6583320" y="27432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5076720" y="990720"/>
                <a:ext cx="16290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274320" y="380520"/>
            <a:ext cx="2544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方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2362320" y="320760"/>
                <a:ext cx="2743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7" name=""/>
          <p:cNvGrpSpPr/>
          <p:nvPr/>
        </p:nvGrpSpPr>
        <p:grpSpPr>
          <a:xfrm>
            <a:off x="838080" y="1157400"/>
            <a:ext cx="4114800" cy="520560"/>
            <a:chOff x="838080" y="1157400"/>
            <a:chExt cx="4114800" cy="520560"/>
          </a:xfrm>
        </p:grpSpPr>
        <mc:AlternateContent>
          <mc:Choice xmlns:a14="http://schemas.microsoft.com/office/drawing/2010/main" Requires="a14">
            <p:sp>
              <p:nvSpPr>
                <p:cNvPr id="1308" name=""/>
                <p:cNvSpPr txBox="1"/>
                <p:nvPr/>
              </p:nvSpPr>
              <p:spPr>
                <a:xfrm>
                  <a:off x="2376360" y="1244520"/>
                  <a:ext cx="25765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P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9" name=""/>
            <p:cNvSpPr/>
            <p:nvPr/>
          </p:nvSpPr>
          <p:spPr>
            <a:xfrm>
              <a:off x="838080" y="1157400"/>
              <a:ext cx="183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特征方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5029200" y="1600200"/>
                <a:ext cx="2133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1" name=""/>
          <p:cNvSpPr/>
          <p:nvPr/>
        </p:nvSpPr>
        <p:spPr>
          <a:xfrm>
            <a:off x="380880" y="24382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初始值确定积分常数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8880" y="3011400"/>
                <a:ext cx="71312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根据换路定则</m:t>
                    </m:r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时，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可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895480" y="3481560"/>
                <a:ext cx="990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773280" y="4495680"/>
                <a:ext cx="28238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5" name=""/>
          <p:cNvSpPr/>
          <p:nvPr/>
        </p:nvSpPr>
        <p:spPr>
          <a:xfrm>
            <a:off x="770040" y="1905120"/>
            <a:ext cx="44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齐次微分方程的通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52280" y="5369040"/>
            <a:ext cx="73915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容电压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从初始值按指数规律衰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衰减的快慢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3430440" y="4502160"/>
                <a:ext cx="3427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8" name=""/>
          <p:cNvSpPr/>
          <p:nvPr/>
        </p:nvSpPr>
        <p:spPr>
          <a:xfrm>
            <a:off x="500040" y="3900600"/>
            <a:ext cx="513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容电压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2"/>
          <a:stretch/>
        </p:blipFill>
        <p:spPr>
          <a:xfrm>
            <a:off x="7786800" y="5092560"/>
            <a:ext cx="976320" cy="11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5257800" y="484200"/>
                <a:ext cx="2971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通解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教学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241880"/>
            <a:ext cx="8686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稳定状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指定条件下电路中电压、电流已达到稳定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283360"/>
            <a:ext cx="89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暂态过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从一种稳态变化到另一种稳态的过渡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650960"/>
            <a:ext cx="83818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解电路的暂态和稳态、零输入响应、零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态响应、全响应的概念，以及时间常数的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握换路定则及初始值的求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握一阶线性电路分析的三要素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1520" y="415800"/>
            <a:ext cx="393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6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电路的暂态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47840" y="4114800"/>
            <a:ext cx="8390520" cy="182160"/>
            <a:chOff x="447840" y="4114800"/>
            <a:chExt cx="8390520" cy="18216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13525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14954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16574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19526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21146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7"/>
            <a:stretch/>
          </p:blipFill>
          <p:spPr>
            <a:xfrm>
              <a:off x="22669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4098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9"/>
            <a:stretch/>
          </p:blipFill>
          <p:spPr>
            <a:xfrm>
              <a:off x="25718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0"/>
            <a:stretch/>
          </p:blipFill>
          <p:spPr>
            <a:xfrm>
              <a:off x="28670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1"/>
            <a:stretch/>
          </p:blipFill>
          <p:spPr>
            <a:xfrm>
              <a:off x="30290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2"/>
            <a:stretch/>
          </p:blipFill>
          <p:spPr>
            <a:xfrm>
              <a:off x="31813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3"/>
            <a:stretch/>
          </p:blipFill>
          <p:spPr>
            <a:xfrm>
              <a:off x="33242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4"/>
            <a:stretch/>
          </p:blipFill>
          <p:spPr>
            <a:xfrm>
              <a:off x="18097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5"/>
            <a:stretch/>
          </p:blipFill>
          <p:spPr>
            <a:xfrm>
              <a:off x="27241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6"/>
            <a:stretch/>
          </p:blipFill>
          <p:spPr>
            <a:xfrm>
              <a:off x="34862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7"/>
            <a:stretch/>
          </p:blipFill>
          <p:spPr>
            <a:xfrm>
              <a:off x="36385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8"/>
            <a:stretch/>
          </p:blipFill>
          <p:spPr>
            <a:xfrm>
              <a:off x="37814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9"/>
            <a:stretch/>
          </p:blipFill>
          <p:spPr>
            <a:xfrm>
              <a:off x="39434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0"/>
            <a:stretch/>
          </p:blipFill>
          <p:spPr>
            <a:xfrm>
              <a:off x="40957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1"/>
            <a:stretch/>
          </p:blipFill>
          <p:spPr>
            <a:xfrm>
              <a:off x="42386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2"/>
            <a:stretch/>
          </p:blipFill>
          <p:spPr>
            <a:xfrm>
              <a:off x="44006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3"/>
            <a:stretch/>
          </p:blipFill>
          <p:spPr>
            <a:xfrm>
              <a:off x="46958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4"/>
            <a:stretch/>
          </p:blipFill>
          <p:spPr>
            <a:xfrm>
              <a:off x="48578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5"/>
            <a:stretch/>
          </p:blipFill>
          <p:spPr>
            <a:xfrm>
              <a:off x="50101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6"/>
            <a:stretch/>
          </p:blipFill>
          <p:spPr>
            <a:xfrm>
              <a:off x="51530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7"/>
            <a:stretch/>
          </p:blipFill>
          <p:spPr>
            <a:xfrm>
              <a:off x="53150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8"/>
            <a:stretch/>
          </p:blipFill>
          <p:spPr>
            <a:xfrm>
              <a:off x="56102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9"/>
            <a:stretch/>
          </p:blipFill>
          <p:spPr>
            <a:xfrm>
              <a:off x="57722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0"/>
            <a:stretch/>
          </p:blipFill>
          <p:spPr>
            <a:xfrm>
              <a:off x="59245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1"/>
            <a:stretch/>
          </p:blipFill>
          <p:spPr>
            <a:xfrm>
              <a:off x="60674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2"/>
            <a:stretch/>
          </p:blipFill>
          <p:spPr>
            <a:xfrm>
              <a:off x="45529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3"/>
            <a:stretch/>
          </p:blipFill>
          <p:spPr>
            <a:xfrm>
              <a:off x="54673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4"/>
            <a:stretch/>
          </p:blipFill>
          <p:spPr>
            <a:xfrm>
              <a:off x="62294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5"/>
            <a:stretch/>
          </p:blipFill>
          <p:spPr>
            <a:xfrm>
              <a:off x="63817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6"/>
            <a:stretch/>
          </p:blipFill>
          <p:spPr>
            <a:xfrm>
              <a:off x="65246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7"/>
            <a:stretch/>
          </p:blipFill>
          <p:spPr>
            <a:xfrm>
              <a:off x="66866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8"/>
            <a:stretch/>
          </p:blipFill>
          <p:spPr>
            <a:xfrm>
              <a:off x="68389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9"/>
            <a:stretch/>
          </p:blipFill>
          <p:spPr>
            <a:xfrm>
              <a:off x="69818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0"/>
            <a:stretch/>
          </p:blipFill>
          <p:spPr>
            <a:xfrm>
              <a:off x="71438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1"/>
            <a:stretch/>
          </p:blipFill>
          <p:spPr>
            <a:xfrm>
              <a:off x="74390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2"/>
            <a:stretch/>
          </p:blipFill>
          <p:spPr>
            <a:xfrm>
              <a:off x="76010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3"/>
            <a:stretch/>
          </p:blipFill>
          <p:spPr>
            <a:xfrm>
              <a:off x="77533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4"/>
            <a:stretch/>
          </p:blipFill>
          <p:spPr>
            <a:xfrm>
              <a:off x="789624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5"/>
            <a:stretch/>
          </p:blipFill>
          <p:spPr>
            <a:xfrm>
              <a:off x="8058240" y="412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6"/>
            <a:stretch/>
          </p:blipFill>
          <p:spPr>
            <a:xfrm>
              <a:off x="7296120" y="412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447840" y="4114800"/>
              <a:ext cx="923760" cy="161640"/>
              <a:chOff x="447840" y="4114800"/>
              <a:chExt cx="923760" cy="161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90760" y="41148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52760" y="41148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905040" y="41148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1047960" y="41148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1209960" y="41148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447840" y="41148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8219880" y="4135320"/>
              <a:ext cx="618480" cy="161640"/>
              <a:chOff x="8219880" y="4135320"/>
              <a:chExt cx="618480" cy="161640"/>
            </a:xfrm>
          </p:grpSpPr>
          <p:pic>
            <p:nvPicPr>
              <p:cNvPr id="110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8219880" y="4135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8372160" y="41353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8515080" y="413532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8676720" y="4135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8915400" y="-5690520"/>
            <a:ext cx="76320" cy="76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18280" y="373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阻电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797040" y="3992400"/>
                <a:ext cx="3657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852480" y="2689200"/>
                <a:ext cx="3855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74628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放电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1565280" y="1447920"/>
                <a:ext cx="24336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537840" y="124920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容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5788080" y="1751760"/>
            <a:ext cx="2473200" cy="157500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576"/>
                </a:moveTo>
                <a:cubicBezTo>
                  <a:pt x="60" y="432"/>
                  <a:pt x="120" y="288"/>
                  <a:pt x="288" y="192"/>
                </a:cubicBezTo>
                <a:cubicBezTo>
                  <a:pt x="456" y="96"/>
                  <a:pt x="732" y="48"/>
                  <a:pt x="100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91320" y="3276720"/>
            <a:ext cx="2286000" cy="114300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576"/>
                </a:moveTo>
                <a:cubicBezTo>
                  <a:pt x="60" y="432"/>
                  <a:pt x="120" y="288"/>
                  <a:pt x="288" y="192"/>
                </a:cubicBezTo>
                <a:cubicBezTo>
                  <a:pt x="456" y="96"/>
                  <a:pt x="732" y="48"/>
                  <a:pt x="1008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829480" y="3301920"/>
            <a:ext cx="2473200" cy="157500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576"/>
                </a:moveTo>
                <a:cubicBezTo>
                  <a:pt x="60" y="432"/>
                  <a:pt x="120" y="288"/>
                  <a:pt x="288" y="192"/>
                </a:cubicBezTo>
                <a:cubicBezTo>
                  <a:pt x="456" y="96"/>
                  <a:pt x="732" y="48"/>
                  <a:pt x="1008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6324480" y="1752480"/>
            <a:ext cx="942840" cy="914400"/>
            <a:chOff x="6324480" y="1752480"/>
            <a:chExt cx="942840" cy="914400"/>
          </a:xfrm>
        </p:grpSpPr>
        <mc:AlternateContent>
          <mc:Choice xmlns:a14="http://schemas.microsoft.com/office/drawing/2010/main" Requires="a14">
            <p:sp>
              <p:nvSpPr>
                <p:cNvPr id="1332" name=""/>
                <p:cNvSpPr txBox="1"/>
                <p:nvPr/>
              </p:nvSpPr>
              <p:spPr>
                <a:xfrm>
                  <a:off x="6629400" y="1752480"/>
                  <a:ext cx="63792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3" name=""/>
            <p:cNvSpPr/>
            <p:nvPr/>
          </p:nvSpPr>
          <p:spPr>
            <a:xfrm flipH="1">
              <a:off x="6324480" y="2286000"/>
              <a:ext cx="38088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5943600" y="4107960"/>
            <a:ext cx="1038240" cy="768960"/>
            <a:chOff x="5943600" y="4107960"/>
            <a:chExt cx="1038240" cy="768960"/>
          </a:xfrm>
        </p:grpSpPr>
        <mc:AlternateContent>
          <mc:Choice xmlns:a14="http://schemas.microsoft.com/office/drawing/2010/main" Requires="a14">
            <p:sp>
              <p:nvSpPr>
                <p:cNvPr id="1335" name=""/>
                <p:cNvSpPr txBox="1"/>
                <p:nvPr/>
              </p:nvSpPr>
              <p:spPr>
                <a:xfrm>
                  <a:off x="6477120" y="4108320"/>
                  <a:ext cx="50472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6" name=""/>
            <p:cNvSpPr/>
            <p:nvPr/>
          </p:nvSpPr>
          <p:spPr>
            <a:xfrm flipH="1" flipV="1">
              <a:off x="5943600" y="4107960"/>
              <a:ext cx="53352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6702480" y="3591000"/>
            <a:ext cx="1374840" cy="676080"/>
            <a:chOff x="6702480" y="3591000"/>
            <a:chExt cx="1374840" cy="676080"/>
          </a:xfrm>
        </p:grpSpPr>
        <mc:AlternateContent>
          <mc:Choice xmlns:a14="http://schemas.microsoft.com/office/drawing/2010/main" Requires="a14">
            <p:sp>
              <p:nvSpPr>
                <p:cNvPr id="1338" name=""/>
                <p:cNvSpPr txBox="1"/>
                <p:nvPr/>
              </p:nvSpPr>
              <p:spPr>
                <a:xfrm>
                  <a:off x="7289640" y="3591000"/>
                  <a:ext cx="787680" cy="67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9" name=""/>
            <p:cNvSpPr/>
            <p:nvPr/>
          </p:nvSpPr>
          <p:spPr>
            <a:xfrm flipH="1" flipV="1">
              <a:off x="6702480" y="3733560"/>
              <a:ext cx="53352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1355760" y="42876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流及电阻电压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609480" y="5105160"/>
            <a:ext cx="5257800" cy="609840"/>
            <a:chOff x="609480" y="5105160"/>
            <a:chExt cx="5257800" cy="609840"/>
          </a:xfrm>
        </p:grpSpPr>
        <p:sp>
          <p:nvSpPr>
            <p:cNvPr id="1342" name=""/>
            <p:cNvSpPr/>
            <p:nvPr/>
          </p:nvSpPr>
          <p:spPr>
            <a:xfrm>
              <a:off x="609480" y="515484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3. 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、    、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变化曲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3" name=""/>
                <p:cNvSpPr txBox="1"/>
                <p:nvPr/>
              </p:nvSpPr>
              <p:spPr>
                <a:xfrm rot="10800000">
                  <a:off x="2549160" y="5105160"/>
                  <a:ext cx="65088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4" name=""/>
                <p:cNvSpPr txBox="1"/>
                <p:nvPr/>
              </p:nvSpPr>
              <p:spPr>
                <a:xfrm>
                  <a:off x="1904760" y="5108760"/>
                  <a:ext cx="3920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5" name=""/>
                <p:cNvSpPr txBox="1"/>
                <p:nvPr/>
              </p:nvSpPr>
              <p:spPr>
                <a:xfrm>
                  <a:off x="1142640" y="5116680"/>
                  <a:ext cx="4874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6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989280" cy="990360"/>
          </a:xfrm>
          <a:prstGeom prst="rect">
            <a:avLst/>
          </a:prstGeom>
          <a:ln w="0">
            <a:noFill/>
          </a:ln>
        </p:spPr>
      </p:pic>
      <p:grpSp>
        <p:nvGrpSpPr>
          <p:cNvPr id="1347" name=""/>
          <p:cNvGrpSpPr/>
          <p:nvPr/>
        </p:nvGrpSpPr>
        <p:grpSpPr>
          <a:xfrm>
            <a:off x="523800" y="5943600"/>
            <a:ext cx="6105600" cy="171360"/>
            <a:chOff x="523800" y="5943600"/>
            <a:chExt cx="6105600" cy="171360"/>
          </a:xfrm>
        </p:grpSpPr>
        <p:pic>
          <p:nvPicPr>
            <p:cNvPr id="1348" name="" descr=""/>
            <p:cNvPicPr/>
            <p:nvPr/>
          </p:nvPicPr>
          <p:blipFill>
            <a:blip r:embed="rId3"/>
            <a:stretch/>
          </p:blipFill>
          <p:spPr>
            <a:xfrm>
              <a:off x="2038320" y="5943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" descr=""/>
            <p:cNvPicPr/>
            <p:nvPr/>
          </p:nvPicPr>
          <p:blipFill>
            <a:blip r:embed="rId4"/>
            <a:stretch/>
          </p:blipFill>
          <p:spPr>
            <a:xfrm>
              <a:off x="2200320" y="5943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5"/>
            <a:stretch/>
          </p:blipFill>
          <p:spPr>
            <a:xfrm>
              <a:off x="2352600" y="5943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6"/>
            <a:stretch/>
          </p:blipFill>
          <p:spPr>
            <a:xfrm>
              <a:off x="2495520" y="5943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2" name=""/>
            <p:cNvGrpSpPr/>
            <p:nvPr/>
          </p:nvGrpSpPr>
          <p:grpSpPr>
            <a:xfrm>
              <a:off x="523800" y="5943600"/>
              <a:ext cx="1390320" cy="171360"/>
              <a:chOff x="523800" y="5943600"/>
              <a:chExt cx="1390320" cy="171360"/>
            </a:xfrm>
          </p:grpSpPr>
          <p:pic>
            <p:nvPicPr>
              <p:cNvPr id="135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800" y="5943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360" y="5943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8360" y="5943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3560" y="5943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85560" y="5943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38200" y="5943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80760" y="5943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42760" y="5943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81000" y="5943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62" name="" descr=""/>
            <p:cNvPicPr/>
            <p:nvPr/>
          </p:nvPicPr>
          <p:blipFill>
            <a:blip r:embed="rId16"/>
            <a:stretch/>
          </p:blipFill>
          <p:spPr>
            <a:xfrm>
              <a:off x="1895400" y="5943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7"/>
            <a:stretch/>
          </p:blipFill>
          <p:spPr>
            <a:xfrm>
              <a:off x="26575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8"/>
            <a:stretch/>
          </p:blipFill>
          <p:spPr>
            <a:xfrm>
              <a:off x="28098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19"/>
            <a:stretch/>
          </p:blipFill>
          <p:spPr>
            <a:xfrm>
              <a:off x="295272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" descr=""/>
            <p:cNvPicPr/>
            <p:nvPr/>
          </p:nvPicPr>
          <p:blipFill>
            <a:blip r:embed="rId20"/>
            <a:stretch/>
          </p:blipFill>
          <p:spPr>
            <a:xfrm>
              <a:off x="31147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21"/>
            <a:stretch/>
          </p:blipFill>
          <p:spPr>
            <a:xfrm>
              <a:off x="32670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22"/>
            <a:stretch/>
          </p:blipFill>
          <p:spPr>
            <a:xfrm>
              <a:off x="340992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23"/>
            <a:stretch/>
          </p:blipFill>
          <p:spPr>
            <a:xfrm>
              <a:off x="35719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24"/>
            <a:stretch/>
          </p:blipFill>
          <p:spPr>
            <a:xfrm>
              <a:off x="386712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25"/>
            <a:stretch/>
          </p:blipFill>
          <p:spPr>
            <a:xfrm>
              <a:off x="40291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26"/>
            <a:stretch/>
          </p:blipFill>
          <p:spPr>
            <a:xfrm>
              <a:off x="41814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27"/>
            <a:stretch/>
          </p:blipFill>
          <p:spPr>
            <a:xfrm>
              <a:off x="432432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8"/>
            <a:stretch/>
          </p:blipFill>
          <p:spPr>
            <a:xfrm>
              <a:off x="44863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9"/>
            <a:stretch/>
          </p:blipFill>
          <p:spPr>
            <a:xfrm>
              <a:off x="478152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30"/>
            <a:stretch/>
          </p:blipFill>
          <p:spPr>
            <a:xfrm>
              <a:off x="49435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31"/>
            <a:stretch/>
          </p:blipFill>
          <p:spPr>
            <a:xfrm>
              <a:off x="50958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32"/>
            <a:stretch/>
          </p:blipFill>
          <p:spPr>
            <a:xfrm>
              <a:off x="523872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33"/>
            <a:stretch/>
          </p:blipFill>
          <p:spPr>
            <a:xfrm>
              <a:off x="37242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34"/>
            <a:stretch/>
          </p:blipFill>
          <p:spPr>
            <a:xfrm>
              <a:off x="46386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35"/>
            <a:stretch/>
          </p:blipFill>
          <p:spPr>
            <a:xfrm>
              <a:off x="54007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36"/>
            <a:stretch/>
          </p:blipFill>
          <p:spPr>
            <a:xfrm>
              <a:off x="55530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37"/>
            <a:stretch/>
          </p:blipFill>
          <p:spPr>
            <a:xfrm>
              <a:off x="569592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38"/>
            <a:stretch/>
          </p:blipFill>
          <p:spPr>
            <a:xfrm>
              <a:off x="58579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9"/>
            <a:stretch/>
          </p:blipFill>
          <p:spPr>
            <a:xfrm>
              <a:off x="60102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40"/>
            <a:stretch/>
          </p:blipFill>
          <p:spPr>
            <a:xfrm>
              <a:off x="615312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41"/>
            <a:stretch/>
          </p:blipFill>
          <p:spPr>
            <a:xfrm>
              <a:off x="6315120" y="5943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42"/>
            <a:stretch/>
          </p:blipFill>
          <p:spPr>
            <a:xfrm>
              <a:off x="6467400" y="594360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9" name=""/>
          <p:cNvGrpSpPr/>
          <p:nvPr/>
        </p:nvGrpSpPr>
        <p:grpSpPr>
          <a:xfrm>
            <a:off x="380880" y="895320"/>
            <a:ext cx="6105600" cy="171360"/>
            <a:chOff x="380880" y="895320"/>
            <a:chExt cx="6105600" cy="171360"/>
          </a:xfrm>
        </p:grpSpPr>
        <p:pic>
          <p:nvPicPr>
            <p:cNvPr id="1390" name="" descr=""/>
            <p:cNvPicPr/>
            <p:nvPr/>
          </p:nvPicPr>
          <p:blipFill>
            <a:blip r:embed="rId43"/>
            <a:stretch/>
          </p:blipFill>
          <p:spPr>
            <a:xfrm>
              <a:off x="1895400" y="8953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44"/>
            <a:stretch/>
          </p:blipFill>
          <p:spPr>
            <a:xfrm>
              <a:off x="2057400" y="8953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45"/>
            <a:stretch/>
          </p:blipFill>
          <p:spPr>
            <a:xfrm>
              <a:off x="2209680" y="8953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46"/>
            <a:stretch/>
          </p:blipFill>
          <p:spPr>
            <a:xfrm>
              <a:off x="2352600" y="8953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4" name=""/>
            <p:cNvGrpSpPr/>
            <p:nvPr/>
          </p:nvGrpSpPr>
          <p:grpSpPr>
            <a:xfrm>
              <a:off x="380880" y="895320"/>
              <a:ext cx="1390320" cy="171360"/>
              <a:chOff x="380880" y="895320"/>
              <a:chExt cx="1390320" cy="17136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8088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523440" y="8953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7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68544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8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980640" y="8953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114264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0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129528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1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1437840" y="8953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2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159984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3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83808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4" name="" descr=""/>
            <p:cNvPicPr/>
            <p:nvPr/>
          </p:nvPicPr>
          <p:blipFill>
            <a:blip r:embed="rId56"/>
            <a:stretch/>
          </p:blipFill>
          <p:spPr>
            <a:xfrm>
              <a:off x="1752480" y="8953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" descr=""/>
            <p:cNvPicPr/>
            <p:nvPr/>
          </p:nvPicPr>
          <p:blipFill>
            <a:blip r:embed="rId57"/>
            <a:stretch/>
          </p:blipFill>
          <p:spPr>
            <a:xfrm>
              <a:off x="25146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" descr=""/>
            <p:cNvPicPr/>
            <p:nvPr/>
          </p:nvPicPr>
          <p:blipFill>
            <a:blip r:embed="rId58"/>
            <a:stretch/>
          </p:blipFill>
          <p:spPr>
            <a:xfrm>
              <a:off x="26668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9"/>
            <a:stretch/>
          </p:blipFill>
          <p:spPr>
            <a:xfrm>
              <a:off x="28098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60"/>
            <a:stretch/>
          </p:blipFill>
          <p:spPr>
            <a:xfrm>
              <a:off x="29718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61"/>
            <a:stretch/>
          </p:blipFill>
          <p:spPr>
            <a:xfrm>
              <a:off x="31240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62"/>
            <a:stretch/>
          </p:blipFill>
          <p:spPr>
            <a:xfrm>
              <a:off x="32670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63"/>
            <a:stretch/>
          </p:blipFill>
          <p:spPr>
            <a:xfrm>
              <a:off x="34290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64"/>
            <a:stretch/>
          </p:blipFill>
          <p:spPr>
            <a:xfrm>
              <a:off x="37242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65"/>
            <a:stretch/>
          </p:blipFill>
          <p:spPr>
            <a:xfrm>
              <a:off x="38862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66"/>
            <a:stretch/>
          </p:blipFill>
          <p:spPr>
            <a:xfrm>
              <a:off x="40384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67"/>
            <a:stretch/>
          </p:blipFill>
          <p:spPr>
            <a:xfrm>
              <a:off x="41814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68"/>
            <a:stretch/>
          </p:blipFill>
          <p:spPr>
            <a:xfrm>
              <a:off x="43434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9"/>
            <a:stretch/>
          </p:blipFill>
          <p:spPr>
            <a:xfrm>
              <a:off x="46386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70"/>
            <a:stretch/>
          </p:blipFill>
          <p:spPr>
            <a:xfrm>
              <a:off x="48006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71"/>
            <a:stretch/>
          </p:blipFill>
          <p:spPr>
            <a:xfrm>
              <a:off x="49528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72"/>
            <a:stretch/>
          </p:blipFill>
          <p:spPr>
            <a:xfrm>
              <a:off x="50958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" descr=""/>
            <p:cNvPicPr/>
            <p:nvPr/>
          </p:nvPicPr>
          <p:blipFill>
            <a:blip r:embed="rId73"/>
            <a:stretch/>
          </p:blipFill>
          <p:spPr>
            <a:xfrm>
              <a:off x="35812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" descr=""/>
            <p:cNvPicPr/>
            <p:nvPr/>
          </p:nvPicPr>
          <p:blipFill>
            <a:blip r:embed="rId74"/>
            <a:stretch/>
          </p:blipFill>
          <p:spPr>
            <a:xfrm>
              <a:off x="44956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" descr=""/>
            <p:cNvPicPr/>
            <p:nvPr/>
          </p:nvPicPr>
          <p:blipFill>
            <a:blip r:embed="rId75"/>
            <a:stretch/>
          </p:blipFill>
          <p:spPr>
            <a:xfrm>
              <a:off x="52578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" descr=""/>
            <p:cNvPicPr/>
            <p:nvPr/>
          </p:nvPicPr>
          <p:blipFill>
            <a:blip r:embed="rId76"/>
            <a:stretch/>
          </p:blipFill>
          <p:spPr>
            <a:xfrm>
              <a:off x="54100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" descr=""/>
            <p:cNvPicPr/>
            <p:nvPr/>
          </p:nvPicPr>
          <p:blipFill>
            <a:blip r:embed="rId77"/>
            <a:stretch/>
          </p:blipFill>
          <p:spPr>
            <a:xfrm>
              <a:off x="55530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78"/>
            <a:stretch/>
          </p:blipFill>
          <p:spPr>
            <a:xfrm>
              <a:off x="57150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79"/>
            <a:stretch/>
          </p:blipFill>
          <p:spPr>
            <a:xfrm>
              <a:off x="58672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80"/>
            <a:stretch/>
          </p:blipFill>
          <p:spPr>
            <a:xfrm>
              <a:off x="60102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" descr=""/>
            <p:cNvPicPr/>
            <p:nvPr/>
          </p:nvPicPr>
          <p:blipFill>
            <a:blip r:embed="rId81"/>
            <a:stretch/>
          </p:blipFill>
          <p:spPr>
            <a:xfrm>
              <a:off x="617220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" descr=""/>
            <p:cNvPicPr/>
            <p:nvPr/>
          </p:nvPicPr>
          <p:blipFill>
            <a:blip r:embed="rId82"/>
            <a:stretch/>
          </p:blipFill>
          <p:spPr>
            <a:xfrm>
              <a:off x="632448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1" name=""/>
          <p:cNvGrpSpPr/>
          <p:nvPr/>
        </p:nvGrpSpPr>
        <p:grpSpPr>
          <a:xfrm>
            <a:off x="5388480" y="1371240"/>
            <a:ext cx="3450600" cy="3683160"/>
            <a:chOff x="5388480" y="1371240"/>
            <a:chExt cx="3450600" cy="3683160"/>
          </a:xfrm>
        </p:grpSpPr>
        <p:grpSp>
          <p:nvGrpSpPr>
            <p:cNvPr id="1432" name=""/>
            <p:cNvGrpSpPr/>
            <p:nvPr/>
          </p:nvGrpSpPr>
          <p:grpSpPr>
            <a:xfrm>
              <a:off x="5788080" y="1371240"/>
              <a:ext cx="3051000" cy="3683160"/>
              <a:chOff x="5788080" y="1371240"/>
              <a:chExt cx="3051000" cy="3683160"/>
            </a:xfrm>
          </p:grpSpPr>
          <p:sp>
            <p:nvSpPr>
              <p:cNvPr id="1433" name=""/>
              <p:cNvSpPr/>
              <p:nvPr/>
            </p:nvSpPr>
            <p:spPr>
              <a:xfrm>
                <a:off x="8494920" y="3301920"/>
                <a:ext cx="3441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5818320" y="3301560"/>
                <a:ext cx="2981160" cy="4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V="1">
                <a:off x="5788080" y="1371240"/>
                <a:ext cx="0" cy="368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>
              <a:off x="53884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时间常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33520" y="2998800"/>
            <a:ext cx="3200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物理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946080" y="1066680"/>
            <a:ext cx="2506680" cy="520560"/>
            <a:chOff x="946080" y="1066680"/>
            <a:chExt cx="2506680" cy="520560"/>
          </a:xfrm>
        </p:grpSpPr>
        <mc:AlternateContent>
          <mc:Choice xmlns:a14="http://schemas.microsoft.com/office/drawing/2010/main" Requires="a14">
            <p:sp>
              <p:nvSpPr>
                <p:cNvPr id="1440" name=""/>
                <p:cNvSpPr txBox="1"/>
                <p:nvPr/>
              </p:nvSpPr>
              <p:spPr>
                <a:xfrm>
                  <a:off x="1676520" y="1104840"/>
                  <a:ext cx="17762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41" name=""/>
            <p:cNvSpPr/>
            <p:nvPr/>
          </p:nvSpPr>
          <p:spPr>
            <a:xfrm>
              <a:off x="946080" y="1066680"/>
              <a:ext cx="5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80120" y="105084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77800" y="187164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量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90600" y="1646280"/>
                <a:ext cx="20098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5" name=""/>
          <p:cNvGrpSpPr/>
          <p:nvPr/>
        </p:nvGrpSpPr>
        <p:grpSpPr>
          <a:xfrm>
            <a:off x="1025280" y="3956040"/>
            <a:ext cx="5716800" cy="768240"/>
            <a:chOff x="1025280" y="3956040"/>
            <a:chExt cx="5716800" cy="768240"/>
          </a:xfrm>
        </p:grpSpPr>
        <mc:AlternateContent>
          <mc:Choice xmlns:a14="http://schemas.microsoft.com/office/drawing/2010/main" Requires="a14">
            <p:sp>
              <p:nvSpPr>
                <p:cNvPr id="1446" name=""/>
                <p:cNvSpPr txBox="1"/>
                <p:nvPr/>
              </p:nvSpPr>
              <p:spPr>
                <a:xfrm>
                  <a:off x="2706840" y="3956040"/>
                  <a:ext cx="403524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U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0</m:t>
                      </m:r>
                      <m:r>
                        <m:t xml:space="preserve">0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47" name=""/>
            <p:cNvGrpSpPr/>
            <p:nvPr/>
          </p:nvGrpSpPr>
          <p:grpSpPr>
            <a:xfrm>
              <a:off x="1025280" y="4084560"/>
              <a:ext cx="1537200" cy="520560"/>
              <a:chOff x="1025280" y="4084560"/>
              <a:chExt cx="1537200" cy="520560"/>
            </a:xfrm>
          </p:grpSpPr>
          <mc:AlternateContent>
            <mc:Choice xmlns:a14="http://schemas.microsoft.com/office/drawing/2010/main" Requires="a14">
              <p:sp>
                <p:nvSpPr>
                  <p:cNvPr id="1448" name=""/>
                  <p:cNvSpPr txBox="1"/>
                  <p:nvPr/>
                </p:nvSpPr>
                <p:spPr>
                  <a:xfrm>
                    <a:off x="1325520" y="4084560"/>
                    <a:ext cx="884160" cy="50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49" name=""/>
              <p:cNvSpPr/>
              <p:nvPr/>
            </p:nvSpPr>
            <p:spPr>
              <a:xfrm>
                <a:off x="1025280" y="4084560"/>
                <a:ext cx="153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当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时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2023920" y="3176640"/>
                <a:ext cx="2657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1" name=""/>
          <p:cNvSpPr/>
          <p:nvPr/>
        </p:nvSpPr>
        <p:spPr>
          <a:xfrm>
            <a:off x="914400" y="2657520"/>
            <a:ext cx="7162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间常数 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决定电路暂态过程变化的快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360" y="4948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533520" y="4640400"/>
            <a:ext cx="8346960" cy="1076040"/>
            <a:chOff x="533520" y="4640400"/>
            <a:chExt cx="8346960" cy="1076040"/>
          </a:xfrm>
        </p:grpSpPr>
        <mc:AlternateContent>
          <mc:Choice xmlns:a14="http://schemas.microsoft.com/office/drawing/2010/main" Requires="a14">
            <p:sp>
              <p:nvSpPr>
                <p:cNvPr id="1454" name=""/>
                <p:cNvSpPr txBox="1"/>
                <p:nvPr/>
              </p:nvSpPr>
              <p:spPr>
                <a:xfrm>
                  <a:off x="7432560" y="4640400"/>
                  <a:ext cx="144792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0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5" name=""/>
            <p:cNvGrpSpPr/>
            <p:nvPr/>
          </p:nvGrpSpPr>
          <p:grpSpPr>
            <a:xfrm>
              <a:off x="533520" y="4676760"/>
              <a:ext cx="6606720" cy="674640"/>
              <a:chOff x="533520" y="4676760"/>
              <a:chExt cx="6606720" cy="674640"/>
            </a:xfrm>
          </p:grpSpPr>
          <mc:AlternateContent>
            <mc:Choice xmlns:a14="http://schemas.microsoft.com/office/drawing/2010/main" Requires="a14">
              <p:sp>
                <p:nvSpPr>
                  <p:cNvPr id="1456" name=""/>
                  <p:cNvSpPr txBox="1"/>
                  <p:nvPr/>
                </p:nvSpPr>
                <p:spPr>
                  <a:xfrm>
                    <a:off x="533520" y="4817880"/>
                    <a:ext cx="48420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∴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57" name=""/>
                  <p:cNvSpPr txBox="1"/>
                  <p:nvPr/>
                </p:nvSpPr>
                <p:spPr>
                  <a:xfrm>
                    <a:off x="2389320" y="4787640"/>
                    <a:ext cx="31104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58" name=""/>
              <p:cNvSpPr/>
              <p:nvPr/>
            </p:nvSpPr>
            <p:spPr>
              <a:xfrm>
                <a:off x="1152720" y="46767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时间常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07000" y="46767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等于电压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0" name=""/>
                  <p:cNvSpPr txBox="1"/>
                  <p:nvPr/>
                </p:nvSpPr>
                <p:spPr>
                  <a:xfrm>
                    <a:off x="4141800" y="4698720"/>
                    <a:ext cx="48564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61" name=""/>
              <p:cNvSpPr/>
              <p:nvPr/>
            </p:nvSpPr>
            <p:spPr>
              <a:xfrm>
                <a:off x="4847040" y="4713120"/>
                <a:ext cx="2293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衰减到初始值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的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2" name=""/>
            <p:cNvSpPr/>
            <p:nvPr/>
          </p:nvSpPr>
          <p:spPr>
            <a:xfrm>
              <a:off x="1299960" y="51958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需的时间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228600" y="6000840"/>
            <a:ext cx="6105600" cy="171360"/>
            <a:chOff x="228600" y="6000840"/>
            <a:chExt cx="6105600" cy="171360"/>
          </a:xfrm>
        </p:grpSpPr>
        <p:pic>
          <p:nvPicPr>
            <p:cNvPr id="1464" name="" descr=""/>
            <p:cNvPicPr/>
            <p:nvPr/>
          </p:nvPicPr>
          <p:blipFill>
            <a:blip r:embed="rId2"/>
            <a:stretch/>
          </p:blipFill>
          <p:spPr>
            <a:xfrm>
              <a:off x="174312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3"/>
            <a:stretch/>
          </p:blipFill>
          <p:spPr>
            <a:xfrm>
              <a:off x="190512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4"/>
            <a:stretch/>
          </p:blipFill>
          <p:spPr>
            <a:xfrm>
              <a:off x="205740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220032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8" name=""/>
            <p:cNvGrpSpPr/>
            <p:nvPr/>
          </p:nvGrpSpPr>
          <p:grpSpPr>
            <a:xfrm>
              <a:off x="228600" y="6000840"/>
              <a:ext cx="1390320" cy="171360"/>
              <a:chOff x="228600" y="6000840"/>
              <a:chExt cx="1390320" cy="171360"/>
            </a:xfrm>
          </p:grpSpPr>
          <p:pic>
            <p:nvPicPr>
              <p:cNvPr id="146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71160" y="60008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316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8360" y="60008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99036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300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85560" y="60008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4756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8" name="" descr=""/>
            <p:cNvPicPr/>
            <p:nvPr/>
          </p:nvPicPr>
          <p:blipFill>
            <a:blip r:embed="rId15"/>
            <a:stretch/>
          </p:blipFill>
          <p:spPr>
            <a:xfrm>
              <a:off x="160020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16"/>
            <a:stretch/>
          </p:blipFill>
          <p:spPr>
            <a:xfrm>
              <a:off x="23623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17"/>
            <a:stretch/>
          </p:blipFill>
          <p:spPr>
            <a:xfrm>
              <a:off x="25146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18"/>
            <a:stretch/>
          </p:blipFill>
          <p:spPr>
            <a:xfrm>
              <a:off x="26575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19"/>
            <a:stretch/>
          </p:blipFill>
          <p:spPr>
            <a:xfrm>
              <a:off x="28195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20"/>
            <a:stretch/>
          </p:blipFill>
          <p:spPr>
            <a:xfrm>
              <a:off x="29718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21"/>
            <a:stretch/>
          </p:blipFill>
          <p:spPr>
            <a:xfrm>
              <a:off x="31147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22"/>
            <a:stretch/>
          </p:blipFill>
          <p:spPr>
            <a:xfrm>
              <a:off x="32767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23"/>
            <a:stretch/>
          </p:blipFill>
          <p:spPr>
            <a:xfrm>
              <a:off x="35719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24"/>
            <a:stretch/>
          </p:blipFill>
          <p:spPr>
            <a:xfrm>
              <a:off x="37339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25"/>
            <a:stretch/>
          </p:blipFill>
          <p:spPr>
            <a:xfrm>
              <a:off x="38862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26"/>
            <a:stretch/>
          </p:blipFill>
          <p:spPr>
            <a:xfrm>
              <a:off x="40291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" descr=""/>
            <p:cNvPicPr/>
            <p:nvPr/>
          </p:nvPicPr>
          <p:blipFill>
            <a:blip r:embed="rId27"/>
            <a:stretch/>
          </p:blipFill>
          <p:spPr>
            <a:xfrm>
              <a:off x="41911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28"/>
            <a:stretch/>
          </p:blipFill>
          <p:spPr>
            <a:xfrm>
              <a:off x="44863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29"/>
            <a:stretch/>
          </p:blipFill>
          <p:spPr>
            <a:xfrm>
              <a:off x="46483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30"/>
            <a:stretch/>
          </p:blipFill>
          <p:spPr>
            <a:xfrm>
              <a:off x="48006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1"/>
            <a:stretch/>
          </p:blipFill>
          <p:spPr>
            <a:xfrm>
              <a:off x="49435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32"/>
            <a:stretch/>
          </p:blipFill>
          <p:spPr>
            <a:xfrm>
              <a:off x="34290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" descr=""/>
            <p:cNvPicPr/>
            <p:nvPr/>
          </p:nvPicPr>
          <p:blipFill>
            <a:blip r:embed="rId33"/>
            <a:stretch/>
          </p:blipFill>
          <p:spPr>
            <a:xfrm>
              <a:off x="43434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" descr=""/>
            <p:cNvPicPr/>
            <p:nvPr/>
          </p:nvPicPr>
          <p:blipFill>
            <a:blip r:embed="rId34"/>
            <a:stretch/>
          </p:blipFill>
          <p:spPr>
            <a:xfrm>
              <a:off x="51055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" descr=""/>
            <p:cNvPicPr/>
            <p:nvPr/>
          </p:nvPicPr>
          <p:blipFill>
            <a:blip r:embed="rId35"/>
            <a:stretch/>
          </p:blipFill>
          <p:spPr>
            <a:xfrm>
              <a:off x="52578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" descr=""/>
            <p:cNvPicPr/>
            <p:nvPr/>
          </p:nvPicPr>
          <p:blipFill>
            <a:blip r:embed="rId36"/>
            <a:stretch/>
          </p:blipFill>
          <p:spPr>
            <a:xfrm>
              <a:off x="54007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" descr=""/>
            <p:cNvPicPr/>
            <p:nvPr/>
          </p:nvPicPr>
          <p:blipFill>
            <a:blip r:embed="rId37"/>
            <a:stretch/>
          </p:blipFill>
          <p:spPr>
            <a:xfrm>
              <a:off x="55627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" descr=""/>
            <p:cNvPicPr/>
            <p:nvPr/>
          </p:nvPicPr>
          <p:blipFill>
            <a:blip r:embed="rId38"/>
            <a:stretch/>
          </p:blipFill>
          <p:spPr>
            <a:xfrm>
              <a:off x="57150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" descr=""/>
            <p:cNvPicPr/>
            <p:nvPr/>
          </p:nvPicPr>
          <p:blipFill>
            <a:blip r:embed="rId39"/>
            <a:stretch/>
          </p:blipFill>
          <p:spPr>
            <a:xfrm>
              <a:off x="58579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3" name="" descr=""/>
            <p:cNvPicPr/>
            <p:nvPr/>
          </p:nvPicPr>
          <p:blipFill>
            <a:blip r:embed="rId40"/>
            <a:stretch/>
          </p:blipFill>
          <p:spPr>
            <a:xfrm>
              <a:off x="60199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" descr=""/>
            <p:cNvPicPr/>
            <p:nvPr/>
          </p:nvPicPr>
          <p:blipFill>
            <a:blip r:embed="rId41"/>
            <a:stretch/>
          </p:blipFill>
          <p:spPr>
            <a:xfrm>
              <a:off x="61722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5" name=""/>
          <p:cNvGrpSpPr/>
          <p:nvPr/>
        </p:nvGrpSpPr>
        <p:grpSpPr>
          <a:xfrm>
            <a:off x="893520" y="3581280"/>
            <a:ext cx="4363920" cy="520560"/>
            <a:chOff x="893520" y="3581280"/>
            <a:chExt cx="4363920" cy="520560"/>
          </a:xfrm>
        </p:grpSpPr>
        <p:sp>
          <p:nvSpPr>
            <p:cNvPr id="1506" name=""/>
            <p:cNvSpPr/>
            <p:nvPr/>
          </p:nvSpPr>
          <p:spPr>
            <a:xfrm>
              <a:off x="893520" y="358128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368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2039760" y="3884040"/>
              <a:ext cx="3217680" cy="180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3276720" y="3886200"/>
            <a:ext cx="452160" cy="1092240"/>
            <a:chOff x="3276720" y="3886200"/>
            <a:chExt cx="452160" cy="1092240"/>
          </a:xfrm>
        </p:grpSpPr>
        <mc:AlternateContent>
          <mc:Choice xmlns:a14="http://schemas.microsoft.com/office/drawing/2010/main" Requires="a14">
            <p:sp>
              <p:nvSpPr>
                <p:cNvPr id="1509" name=""/>
                <p:cNvSpPr txBox="1"/>
                <p:nvPr/>
              </p:nvSpPr>
              <p:spPr>
                <a:xfrm>
                  <a:off x="3276720" y="4357800"/>
                  <a:ext cx="452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10" name=""/>
            <p:cNvSpPr/>
            <p:nvPr/>
          </p:nvSpPr>
          <p:spPr>
            <a:xfrm>
              <a:off x="3444840" y="3886200"/>
              <a:ext cx="0" cy="5954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3886200" y="3881520"/>
            <a:ext cx="473040" cy="1147680"/>
            <a:chOff x="3886200" y="3881520"/>
            <a:chExt cx="473040" cy="1147680"/>
          </a:xfrm>
        </p:grpSpPr>
        <p:sp>
          <p:nvSpPr>
            <p:cNvPr id="1512" name=""/>
            <p:cNvSpPr/>
            <p:nvPr/>
          </p:nvSpPr>
          <p:spPr>
            <a:xfrm>
              <a:off x="4038480" y="3881520"/>
              <a:ext cx="0" cy="70488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3" name=""/>
                <p:cNvSpPr txBox="1"/>
                <p:nvPr/>
              </p:nvSpPr>
              <p:spPr>
                <a:xfrm>
                  <a:off x="3886200" y="4361040"/>
                  <a:ext cx="47304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14" name=""/>
          <p:cNvSpPr/>
          <p:nvPr/>
        </p:nvSpPr>
        <p:spPr>
          <a:xfrm flipV="1">
            <a:off x="2057400" y="2209320"/>
            <a:ext cx="3124080" cy="1828800"/>
          </a:xfrm>
          <a:custGeom>
            <a:avLst/>
            <a:gdLst/>
            <a:ahLst/>
            <a:rect l="l" t="t" r="r" b="b"/>
            <a:pathLst>
              <a:path w="2640" h="1536">
                <a:moveTo>
                  <a:pt x="0" y="1536"/>
                </a:moveTo>
                <a:cubicBezTo>
                  <a:pt x="308" y="1088"/>
                  <a:pt x="616" y="640"/>
                  <a:pt x="1056" y="384"/>
                </a:cubicBezTo>
                <a:cubicBezTo>
                  <a:pt x="1496" y="128"/>
                  <a:pt x="2068" y="64"/>
                  <a:pt x="2640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2057400" y="2260080"/>
            <a:ext cx="2971800" cy="2006640"/>
          </a:xfrm>
          <a:custGeom>
            <a:avLst/>
            <a:gdLst/>
            <a:ahLst/>
            <a:rect l="l" t="t" r="r" b="b"/>
            <a:pathLst>
              <a:path w="2640" h="1536">
                <a:moveTo>
                  <a:pt x="0" y="1536"/>
                </a:moveTo>
                <a:cubicBezTo>
                  <a:pt x="308" y="1088"/>
                  <a:pt x="616" y="640"/>
                  <a:pt x="1056" y="384"/>
                </a:cubicBezTo>
                <a:cubicBezTo>
                  <a:pt x="1496" y="128"/>
                  <a:pt x="2068" y="64"/>
                  <a:pt x="264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773280" y="4952880"/>
            <a:ext cx="7761240" cy="641160"/>
            <a:chOff x="773280" y="4952880"/>
            <a:chExt cx="7761240" cy="641160"/>
          </a:xfrm>
        </p:grpSpPr>
        <p:sp>
          <p:nvSpPr>
            <p:cNvPr id="1517" name=""/>
            <p:cNvSpPr/>
            <p:nvPr/>
          </p:nvSpPr>
          <p:spPr>
            <a:xfrm>
              <a:off x="773280" y="5073480"/>
              <a:ext cx="776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越大，曲线变化越慢，    达到稳态所需要的时间越长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8" name=""/>
                <p:cNvSpPr txBox="1"/>
                <p:nvPr/>
              </p:nvSpPr>
              <p:spPr>
                <a:xfrm>
                  <a:off x="5040360" y="4952880"/>
                  <a:ext cx="52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9" name=""/>
                <p:cNvSpPr txBox="1"/>
                <p:nvPr/>
              </p:nvSpPr>
              <p:spPr>
                <a:xfrm>
                  <a:off x="1233360" y="5105160"/>
                  <a:ext cx="443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20" name=""/>
          <p:cNvGrpSpPr/>
          <p:nvPr/>
        </p:nvGrpSpPr>
        <p:grpSpPr>
          <a:xfrm>
            <a:off x="1104480" y="318960"/>
            <a:ext cx="2472840" cy="520560"/>
            <a:chOff x="1104480" y="318960"/>
            <a:chExt cx="2472840" cy="520560"/>
          </a:xfrm>
        </p:grpSpPr>
        <p:sp>
          <p:nvSpPr>
            <p:cNvPr id="1521" name=""/>
            <p:cNvSpPr/>
            <p:nvPr/>
          </p:nvSpPr>
          <p:spPr>
            <a:xfrm>
              <a:off x="1104480" y="318960"/>
              <a:ext cx="24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时间常数    的物理意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2" name=""/>
                <p:cNvSpPr txBox="1"/>
                <p:nvPr/>
              </p:nvSpPr>
              <p:spPr>
                <a:xfrm>
                  <a:off x="1943280" y="347400"/>
                  <a:ext cx="45108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23" name=""/>
          <p:cNvGrpSpPr/>
          <p:nvPr/>
        </p:nvGrpSpPr>
        <p:grpSpPr>
          <a:xfrm>
            <a:off x="2666880" y="3886200"/>
            <a:ext cx="536760" cy="1143000"/>
            <a:chOff x="2666880" y="3886200"/>
            <a:chExt cx="536760" cy="1143000"/>
          </a:xfrm>
        </p:grpSpPr>
        <mc:AlternateContent>
          <mc:Choice xmlns:a14="http://schemas.microsoft.com/office/drawing/2010/main" Requires="a14">
            <p:sp>
              <p:nvSpPr>
                <p:cNvPr id="1524" name=""/>
                <p:cNvSpPr txBox="1"/>
                <p:nvPr/>
              </p:nvSpPr>
              <p:spPr>
                <a:xfrm>
                  <a:off x="2666880" y="4357800"/>
                  <a:ext cx="5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25" name=""/>
            <p:cNvSpPr/>
            <p:nvPr/>
          </p:nvSpPr>
          <p:spPr>
            <a:xfrm>
              <a:off x="2887560" y="3886200"/>
              <a:ext cx="0" cy="59544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2057400" y="2273760"/>
            <a:ext cx="2895480" cy="2220840"/>
          </a:xfrm>
          <a:custGeom>
            <a:avLst/>
            <a:gdLst/>
            <a:ahLst/>
            <a:rect l="l" t="t" r="r" b="b"/>
            <a:pathLst>
              <a:path w="2016" h="1536">
                <a:moveTo>
                  <a:pt x="0" y="1536"/>
                </a:moveTo>
                <a:cubicBezTo>
                  <a:pt x="192" y="1064"/>
                  <a:pt x="384" y="592"/>
                  <a:pt x="720" y="336"/>
                </a:cubicBezTo>
                <a:cubicBezTo>
                  <a:pt x="1056" y="80"/>
                  <a:pt x="1800" y="56"/>
                  <a:pt x="2016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526040" y="19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6037200" y="1066680"/>
                <a:ext cx="1430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1371600" y="685800"/>
                <a:ext cx="36226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τ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30" name=""/>
          <p:cNvGrpSpPr/>
          <p:nvPr/>
        </p:nvGrpSpPr>
        <p:grpSpPr>
          <a:xfrm>
            <a:off x="533520" y="6095880"/>
            <a:ext cx="7772400" cy="171360"/>
            <a:chOff x="533520" y="6095880"/>
            <a:chExt cx="7772400" cy="171360"/>
          </a:xfrm>
        </p:grpSpPr>
        <p:pic>
          <p:nvPicPr>
            <p:cNvPr id="1531" name="" descr=""/>
            <p:cNvPicPr/>
            <p:nvPr/>
          </p:nvPicPr>
          <p:blipFill>
            <a:blip r:embed="rId2"/>
            <a:stretch/>
          </p:blipFill>
          <p:spPr>
            <a:xfrm>
              <a:off x="14385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3"/>
            <a:stretch/>
          </p:blipFill>
          <p:spPr>
            <a:xfrm>
              <a:off x="15811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4"/>
            <a:stretch/>
          </p:blipFill>
          <p:spPr>
            <a:xfrm>
              <a:off x="17431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5"/>
            <a:stretch/>
          </p:blipFill>
          <p:spPr>
            <a:xfrm>
              <a:off x="20383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6"/>
            <a:stretch/>
          </p:blipFill>
          <p:spPr>
            <a:xfrm>
              <a:off x="22003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7"/>
            <a:stretch/>
          </p:blipFill>
          <p:spPr>
            <a:xfrm>
              <a:off x="23529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8"/>
            <a:stretch/>
          </p:blipFill>
          <p:spPr>
            <a:xfrm>
              <a:off x="24955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9"/>
            <a:stretch/>
          </p:blipFill>
          <p:spPr>
            <a:xfrm>
              <a:off x="26575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10"/>
            <a:stretch/>
          </p:blipFill>
          <p:spPr>
            <a:xfrm>
              <a:off x="29527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11"/>
            <a:stretch/>
          </p:blipFill>
          <p:spPr>
            <a:xfrm>
              <a:off x="31147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12"/>
            <a:stretch/>
          </p:blipFill>
          <p:spPr>
            <a:xfrm>
              <a:off x="32673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13"/>
            <a:stretch/>
          </p:blipFill>
          <p:spPr>
            <a:xfrm>
              <a:off x="34099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14"/>
            <a:stretch/>
          </p:blipFill>
          <p:spPr>
            <a:xfrm>
              <a:off x="18957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15"/>
            <a:stretch/>
          </p:blipFill>
          <p:spPr>
            <a:xfrm>
              <a:off x="28101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16"/>
            <a:stretch/>
          </p:blipFill>
          <p:spPr>
            <a:xfrm>
              <a:off x="35719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17"/>
            <a:stretch/>
          </p:blipFill>
          <p:spPr>
            <a:xfrm>
              <a:off x="37245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" descr=""/>
            <p:cNvPicPr/>
            <p:nvPr/>
          </p:nvPicPr>
          <p:blipFill>
            <a:blip r:embed="rId18"/>
            <a:stretch/>
          </p:blipFill>
          <p:spPr>
            <a:xfrm>
              <a:off x="38671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" descr=""/>
            <p:cNvPicPr/>
            <p:nvPr/>
          </p:nvPicPr>
          <p:blipFill>
            <a:blip r:embed="rId19"/>
            <a:stretch/>
          </p:blipFill>
          <p:spPr>
            <a:xfrm>
              <a:off x="40291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20"/>
            <a:stretch/>
          </p:blipFill>
          <p:spPr>
            <a:xfrm>
              <a:off x="41817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21"/>
            <a:stretch/>
          </p:blipFill>
          <p:spPr>
            <a:xfrm>
              <a:off x="43243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22"/>
            <a:stretch/>
          </p:blipFill>
          <p:spPr>
            <a:xfrm>
              <a:off x="44863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23"/>
            <a:stretch/>
          </p:blipFill>
          <p:spPr>
            <a:xfrm>
              <a:off x="47815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24"/>
            <a:stretch/>
          </p:blipFill>
          <p:spPr>
            <a:xfrm>
              <a:off x="49435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25"/>
            <a:stretch/>
          </p:blipFill>
          <p:spPr>
            <a:xfrm>
              <a:off x="50961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26"/>
            <a:stretch/>
          </p:blipFill>
          <p:spPr>
            <a:xfrm>
              <a:off x="52387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27"/>
            <a:stretch/>
          </p:blipFill>
          <p:spPr>
            <a:xfrm>
              <a:off x="54007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28"/>
            <a:stretch/>
          </p:blipFill>
          <p:spPr>
            <a:xfrm>
              <a:off x="56959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29"/>
            <a:stretch/>
          </p:blipFill>
          <p:spPr>
            <a:xfrm>
              <a:off x="58579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30"/>
            <a:stretch/>
          </p:blipFill>
          <p:spPr>
            <a:xfrm>
              <a:off x="60105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" descr=""/>
            <p:cNvPicPr/>
            <p:nvPr/>
          </p:nvPicPr>
          <p:blipFill>
            <a:blip r:embed="rId31"/>
            <a:stretch/>
          </p:blipFill>
          <p:spPr>
            <a:xfrm>
              <a:off x="61531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1" name="" descr=""/>
            <p:cNvPicPr/>
            <p:nvPr/>
          </p:nvPicPr>
          <p:blipFill>
            <a:blip r:embed="rId32"/>
            <a:stretch/>
          </p:blipFill>
          <p:spPr>
            <a:xfrm>
              <a:off x="46389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33"/>
            <a:stretch/>
          </p:blipFill>
          <p:spPr>
            <a:xfrm>
              <a:off x="55533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34"/>
            <a:stretch/>
          </p:blipFill>
          <p:spPr>
            <a:xfrm>
              <a:off x="63151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35"/>
            <a:stretch/>
          </p:blipFill>
          <p:spPr>
            <a:xfrm>
              <a:off x="64677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36"/>
            <a:stretch/>
          </p:blipFill>
          <p:spPr>
            <a:xfrm>
              <a:off x="66103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37"/>
            <a:stretch/>
          </p:blipFill>
          <p:spPr>
            <a:xfrm>
              <a:off x="67723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38"/>
            <a:stretch/>
          </p:blipFill>
          <p:spPr>
            <a:xfrm>
              <a:off x="69249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39"/>
            <a:stretch/>
          </p:blipFill>
          <p:spPr>
            <a:xfrm>
              <a:off x="70675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40"/>
            <a:stretch/>
          </p:blipFill>
          <p:spPr>
            <a:xfrm>
              <a:off x="72295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41"/>
            <a:stretch/>
          </p:blipFill>
          <p:spPr>
            <a:xfrm>
              <a:off x="75247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42"/>
            <a:stretch/>
          </p:blipFill>
          <p:spPr>
            <a:xfrm>
              <a:off x="76867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43"/>
            <a:stretch/>
          </p:blipFill>
          <p:spPr>
            <a:xfrm>
              <a:off x="78393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" descr=""/>
            <p:cNvPicPr/>
            <p:nvPr/>
          </p:nvPicPr>
          <p:blipFill>
            <a:blip r:embed="rId44"/>
            <a:stretch/>
          </p:blipFill>
          <p:spPr>
            <a:xfrm>
              <a:off x="79819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" descr=""/>
            <p:cNvPicPr/>
            <p:nvPr/>
          </p:nvPicPr>
          <p:blipFill>
            <a:blip r:embed="rId45"/>
            <a:stretch/>
          </p:blipFill>
          <p:spPr>
            <a:xfrm>
              <a:off x="8143920" y="6105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46"/>
            <a:stretch/>
          </p:blipFill>
          <p:spPr>
            <a:xfrm>
              <a:off x="7382160" y="6105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6" name=""/>
            <p:cNvGrpSpPr/>
            <p:nvPr/>
          </p:nvGrpSpPr>
          <p:grpSpPr>
            <a:xfrm>
              <a:off x="533520" y="6095880"/>
              <a:ext cx="923760" cy="162000"/>
              <a:chOff x="533520" y="6095880"/>
              <a:chExt cx="923760" cy="162000"/>
            </a:xfrm>
          </p:grpSpPr>
          <p:pic>
            <p:nvPicPr>
              <p:cNvPr id="1577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676440" y="60958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8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838440" y="60958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9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990720" y="60958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0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1133640" y="60958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1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1295640" y="60958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2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533520" y="60958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5867280" y="3657600"/>
                <a:ext cx="1371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4" name=""/>
          <p:cNvSpPr/>
          <p:nvPr/>
        </p:nvSpPr>
        <p:spPr>
          <a:xfrm>
            <a:off x="2057400" y="2286000"/>
            <a:ext cx="838080" cy="228600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057400" y="2286000"/>
            <a:ext cx="1447920" cy="2286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057400" y="2286000"/>
            <a:ext cx="1981080" cy="228600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6400800" y="10663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7467480" y="10663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1677960" y="1447920"/>
            <a:ext cx="4133880" cy="3582720"/>
            <a:chOff x="1677960" y="1447920"/>
            <a:chExt cx="4133880" cy="3582720"/>
          </a:xfrm>
        </p:grpSpPr>
        <p:sp>
          <p:nvSpPr>
            <p:cNvPr id="1590" name=""/>
            <p:cNvSpPr/>
            <p:nvPr/>
          </p:nvSpPr>
          <p:spPr>
            <a:xfrm>
              <a:off x="5488560" y="45100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2057400" y="4519440"/>
              <a:ext cx="3754440" cy="1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2060640" y="1675800"/>
              <a:ext cx="0" cy="28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677960" y="4205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33720" y="1447920"/>
              <a:ext cx="609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8610480" y="-5766840"/>
            <a:ext cx="7776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624320" y="5348160"/>
            <a:ext cx="560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5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，过渡过程基本结束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达到稳态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33520" y="7160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暂态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533520" y="1219320"/>
            <a:ext cx="6705360" cy="615960"/>
            <a:chOff x="533520" y="1219320"/>
            <a:chExt cx="6705360" cy="615960"/>
          </a:xfrm>
        </p:grpSpPr>
        <p:sp>
          <p:nvSpPr>
            <p:cNvPr id="1599" name=""/>
            <p:cNvSpPr/>
            <p:nvPr/>
          </p:nvSpPr>
          <p:spPr>
            <a:xfrm>
              <a:off x="533520" y="1219320"/>
              <a:ext cx="670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理论上认为            、             电路达稳态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0" name=""/>
                <p:cNvSpPr txBox="1"/>
                <p:nvPr/>
              </p:nvSpPr>
              <p:spPr>
                <a:xfrm>
                  <a:off x="3733920" y="1219320"/>
                  <a:ext cx="129528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1" name=""/>
                <p:cNvSpPr txBox="1"/>
                <p:nvPr/>
              </p:nvSpPr>
              <p:spPr>
                <a:xfrm>
                  <a:off x="2438280" y="1295640"/>
                  <a:ext cx="111456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2" name=""/>
          <p:cNvGrpSpPr/>
          <p:nvPr/>
        </p:nvGrpSpPr>
        <p:grpSpPr>
          <a:xfrm>
            <a:off x="533520" y="1744560"/>
            <a:ext cx="8534160" cy="617400"/>
            <a:chOff x="533520" y="1744560"/>
            <a:chExt cx="8534160" cy="617400"/>
          </a:xfrm>
        </p:grpSpPr>
        <mc:AlternateContent>
          <mc:Choice xmlns:a14="http://schemas.microsoft.com/office/drawing/2010/main" Requires="a14">
            <p:sp>
              <p:nvSpPr>
                <p:cNvPr id="1603" name=""/>
                <p:cNvSpPr txBox="1"/>
                <p:nvPr/>
              </p:nvSpPr>
              <p:spPr>
                <a:xfrm>
                  <a:off x="4267080" y="1744560"/>
                  <a:ext cx="129492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04" name=""/>
            <p:cNvGrpSpPr/>
            <p:nvPr/>
          </p:nvGrpSpPr>
          <p:grpSpPr>
            <a:xfrm>
              <a:off x="533520" y="1820520"/>
              <a:ext cx="8534160" cy="495360"/>
              <a:chOff x="533520" y="1820520"/>
              <a:chExt cx="8534160" cy="495360"/>
            </a:xfrm>
          </p:grpSpPr>
          <p:sp>
            <p:nvSpPr>
              <p:cNvPr id="1605" name=""/>
              <p:cNvSpPr/>
              <p:nvPr/>
            </p:nvSpPr>
            <p:spPr>
              <a:xfrm>
                <a:off x="533520" y="1896840"/>
                <a:ext cx="8534160" cy="3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工程上认为        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~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、            电容放电基本结束。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06" name=""/>
                  <p:cNvSpPr txBox="1"/>
                  <p:nvPr/>
                </p:nvSpPr>
                <p:spPr>
                  <a:xfrm>
                    <a:off x="2398680" y="1820520"/>
                    <a:ext cx="171576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607" name=""/>
          <p:cNvSpPr/>
          <p:nvPr/>
        </p:nvSpPr>
        <p:spPr>
          <a:xfrm>
            <a:off x="2286000" y="23544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399600" y="3319560"/>
            <a:ext cx="8438040" cy="1863360"/>
            <a:chOff x="399600" y="3319560"/>
            <a:chExt cx="8438040" cy="1863360"/>
          </a:xfrm>
        </p:grpSpPr>
        <p:sp>
          <p:nvSpPr>
            <p:cNvPr id="1609" name=""/>
            <p:cNvSpPr/>
            <p:nvPr/>
          </p:nvSpPr>
          <p:spPr>
            <a:xfrm>
              <a:off x="770040" y="3367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0" name=""/>
                <p:cNvSpPr txBox="1"/>
                <p:nvPr/>
              </p:nvSpPr>
              <p:spPr>
                <a:xfrm>
                  <a:off x="2030400" y="3429000"/>
                  <a:ext cx="3920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1" name=""/>
                <p:cNvSpPr txBox="1"/>
                <p:nvPr/>
              </p:nvSpPr>
              <p:spPr>
                <a:xfrm>
                  <a:off x="719280" y="4495680"/>
                  <a:ext cx="5634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2" name=""/>
            <p:cNvSpPr/>
            <p:nvPr/>
          </p:nvSpPr>
          <p:spPr>
            <a:xfrm>
              <a:off x="1660320" y="46623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368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47960" y="46623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13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035240" y="464652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0.050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22880" y="464652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018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410160" y="464652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0.007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599240" y="46623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00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01760" y="3938760"/>
              <a:ext cx="838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9" name=""/>
                <p:cNvSpPr txBox="1"/>
                <p:nvPr/>
              </p:nvSpPr>
              <p:spPr>
                <a:xfrm>
                  <a:off x="3218040" y="3416400"/>
                  <a:ext cx="5187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0" name=""/>
                <p:cNvSpPr txBox="1"/>
                <p:nvPr/>
              </p:nvSpPr>
              <p:spPr>
                <a:xfrm>
                  <a:off x="4387680" y="3429000"/>
                  <a:ext cx="53676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1" name=""/>
                <p:cNvSpPr txBox="1"/>
                <p:nvPr/>
              </p:nvSpPr>
              <p:spPr>
                <a:xfrm>
                  <a:off x="5592600" y="3429000"/>
                  <a:ext cx="5191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2" name=""/>
                <p:cNvSpPr txBox="1"/>
                <p:nvPr/>
              </p:nvSpPr>
              <p:spPr>
                <a:xfrm>
                  <a:off x="7894800" y="3429000"/>
                  <a:ext cx="5173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3" name=""/>
                <p:cNvSpPr txBox="1"/>
                <p:nvPr/>
              </p:nvSpPr>
              <p:spPr>
                <a:xfrm>
                  <a:off x="6781680" y="3405240"/>
                  <a:ext cx="53496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4" name=""/>
            <p:cNvSpPr/>
            <p:nvPr/>
          </p:nvSpPr>
          <p:spPr>
            <a:xfrm>
              <a:off x="401760" y="4572000"/>
              <a:ext cx="838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01760" y="3319560"/>
              <a:ext cx="838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2846520" y="3319560"/>
              <a:ext cx="1440" cy="18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399600" y="3319560"/>
              <a:ext cx="1800" cy="18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8780040" y="3319560"/>
              <a:ext cx="1800" cy="18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5221440" y="3319560"/>
              <a:ext cx="1440" cy="18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408720" y="3319560"/>
              <a:ext cx="1440" cy="18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596360" y="3319560"/>
              <a:ext cx="1440" cy="18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01760" y="5181480"/>
              <a:ext cx="838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3" name=""/>
                <p:cNvSpPr txBox="1"/>
                <p:nvPr/>
              </p:nvSpPr>
              <p:spPr>
                <a:xfrm>
                  <a:off x="1919160" y="3902040"/>
                  <a:ext cx="7048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4" name=""/>
                <p:cNvSpPr txBox="1"/>
                <p:nvPr/>
              </p:nvSpPr>
              <p:spPr>
                <a:xfrm>
                  <a:off x="3106800" y="3886200"/>
                  <a:ext cx="7048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5" name=""/>
                <p:cNvSpPr txBox="1"/>
                <p:nvPr/>
              </p:nvSpPr>
              <p:spPr>
                <a:xfrm>
                  <a:off x="4255920" y="3886200"/>
                  <a:ext cx="7048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6" name=""/>
                <p:cNvSpPr txBox="1"/>
                <p:nvPr/>
              </p:nvSpPr>
              <p:spPr>
                <a:xfrm>
                  <a:off x="5518080" y="3886200"/>
                  <a:ext cx="7048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7" name=""/>
                <p:cNvSpPr txBox="1"/>
                <p:nvPr/>
              </p:nvSpPr>
              <p:spPr>
                <a:xfrm>
                  <a:off x="6669000" y="3886200"/>
                  <a:ext cx="7048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8" name=""/>
                <p:cNvSpPr txBox="1"/>
                <p:nvPr/>
              </p:nvSpPr>
              <p:spPr>
                <a:xfrm>
                  <a:off x="7856640" y="3886200"/>
                  <a:ext cx="7048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9" name=""/>
                <p:cNvSpPr txBox="1"/>
                <p:nvPr/>
              </p:nvSpPr>
              <p:spPr>
                <a:xfrm>
                  <a:off x="762120" y="3809880"/>
                  <a:ext cx="68580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40" name=""/>
            <p:cNvSpPr/>
            <p:nvPr/>
          </p:nvSpPr>
          <p:spPr>
            <a:xfrm flipH="1">
              <a:off x="1658520" y="3319560"/>
              <a:ext cx="1800" cy="18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4033440" y="3319560"/>
              <a:ext cx="1800" cy="18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679320" y="2273400"/>
            <a:ext cx="2544840" cy="850680"/>
            <a:chOff x="679320" y="2273400"/>
            <a:chExt cx="2544840" cy="850680"/>
          </a:xfrm>
        </p:grpSpPr>
        <mc:AlternateContent>
          <mc:Choice xmlns:a14="http://schemas.microsoft.com/office/drawing/2010/main" Requires="a14">
            <p:sp>
              <p:nvSpPr>
                <p:cNvPr id="1643" name=""/>
                <p:cNvSpPr txBox="1"/>
                <p:nvPr/>
              </p:nvSpPr>
              <p:spPr>
                <a:xfrm>
                  <a:off x="679320" y="2273400"/>
                  <a:ext cx="8985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44" name=""/>
            <p:cNvSpPr/>
            <p:nvPr/>
          </p:nvSpPr>
          <p:spPr>
            <a:xfrm>
              <a:off x="1763280" y="25970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随时间而衰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1192320" y="5666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.2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路的零状态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55480" y="1131840"/>
            <a:ext cx="477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状态响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能元件的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始能量为零， 仅由电源激励所产生的电路的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169280" y="260496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实质：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的充电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126800" y="3000240"/>
            <a:ext cx="37407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析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合上开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实为输入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阶跃电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如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恒定电压不同，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885600" y="5172120"/>
            <a:ext cx="4496040" cy="1152360"/>
            <a:chOff x="885600" y="5172120"/>
            <a:chExt cx="4496040" cy="1152360"/>
          </a:xfrm>
        </p:grpSpPr>
        <p:sp>
          <p:nvSpPr>
            <p:cNvPr id="1650" name=""/>
            <p:cNvSpPr/>
            <p:nvPr/>
          </p:nvSpPr>
          <p:spPr>
            <a:xfrm>
              <a:off x="885600" y="5448240"/>
              <a:ext cx="161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压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表达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1" name=""/>
                <p:cNvSpPr txBox="1"/>
                <p:nvPr/>
              </p:nvSpPr>
              <p:spPr>
                <a:xfrm>
                  <a:off x="2943360" y="5172120"/>
                  <a:ext cx="243828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52" name=""/>
          <p:cNvGrpSpPr/>
          <p:nvPr/>
        </p:nvGrpSpPr>
        <p:grpSpPr>
          <a:xfrm>
            <a:off x="5410080" y="561960"/>
            <a:ext cx="3695760" cy="2622600"/>
            <a:chOff x="5410080" y="561960"/>
            <a:chExt cx="3695760" cy="2622600"/>
          </a:xfrm>
        </p:grpSpPr>
        <p:sp>
          <p:nvSpPr>
            <p:cNvPr id="1653" name=""/>
            <p:cNvSpPr/>
            <p:nvPr/>
          </p:nvSpPr>
          <p:spPr>
            <a:xfrm>
              <a:off x="6195240" y="2604960"/>
              <a:ext cx="174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0 -)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410080" y="1697040"/>
              <a:ext cx="411120" cy="433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087960" y="561960"/>
              <a:ext cx="42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616360" y="1146240"/>
              <a:ext cx="0" cy="15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7" name=""/>
            <p:cNvGrpSpPr/>
            <p:nvPr/>
          </p:nvGrpSpPr>
          <p:grpSpPr>
            <a:xfrm>
              <a:off x="7837200" y="1145880"/>
              <a:ext cx="536400" cy="1534680"/>
              <a:chOff x="7837200" y="1145880"/>
              <a:chExt cx="536400" cy="1534680"/>
            </a:xfrm>
          </p:grpSpPr>
          <p:sp>
            <p:nvSpPr>
              <p:cNvPr id="1658" name=""/>
              <p:cNvSpPr/>
              <p:nvPr/>
            </p:nvSpPr>
            <p:spPr>
              <a:xfrm>
                <a:off x="7837200" y="1817640"/>
                <a:ext cx="53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837200" y="2009520"/>
                <a:ext cx="53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8105400" y="1145880"/>
                <a:ext cx="0" cy="67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8105400" y="2009160"/>
                <a:ext cx="0" cy="67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>
              <a:off x="7090920" y="620640"/>
              <a:ext cx="42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819760" y="1633680"/>
              <a:ext cx="441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92600" y="1308240"/>
              <a:ext cx="387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664960" y="184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475320" y="1158840"/>
              <a:ext cx="52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624280" y="2663640"/>
              <a:ext cx="249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607000" y="1165320"/>
              <a:ext cx="43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6070320" y="1154160"/>
              <a:ext cx="428760" cy="20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6057360" y="101916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459560" y="1668600"/>
              <a:ext cx="64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016400" y="1054080"/>
              <a:ext cx="552600" cy="225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45160" y="1054080"/>
              <a:ext cx="43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083440" y="1343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083080" y="1778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569000" y="1160280"/>
              <a:ext cx="52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640200" y="5619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8" name=""/>
                <p:cNvSpPr txBox="1"/>
                <p:nvPr/>
              </p:nvSpPr>
              <p:spPr>
                <a:xfrm>
                  <a:off x="6210000" y="1247760"/>
                  <a:ext cx="7938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9" name=""/>
            <p:cNvSpPr/>
            <p:nvPr/>
          </p:nvSpPr>
          <p:spPr>
            <a:xfrm>
              <a:off x="8373960" y="1589040"/>
              <a:ext cx="7318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5867280" y="3755880"/>
            <a:ext cx="2749320" cy="2037240"/>
            <a:chOff x="5867280" y="3755880"/>
            <a:chExt cx="2749320" cy="2037240"/>
          </a:xfrm>
        </p:grpSpPr>
        <p:grpSp>
          <p:nvGrpSpPr>
            <p:cNvPr id="1681" name=""/>
            <p:cNvGrpSpPr/>
            <p:nvPr/>
          </p:nvGrpSpPr>
          <p:grpSpPr>
            <a:xfrm>
              <a:off x="5867280" y="3755880"/>
              <a:ext cx="2749320" cy="2037240"/>
              <a:chOff x="5867280" y="3755880"/>
              <a:chExt cx="2749320" cy="2037240"/>
            </a:xfrm>
          </p:grpSpPr>
          <p:sp>
            <p:nvSpPr>
              <p:cNvPr id="1682" name=""/>
              <p:cNvSpPr/>
              <p:nvPr/>
            </p:nvSpPr>
            <p:spPr>
              <a:xfrm>
                <a:off x="6017040" y="4287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3" name=""/>
              <p:cNvGrpSpPr/>
              <p:nvPr/>
            </p:nvGrpSpPr>
            <p:grpSpPr>
              <a:xfrm>
                <a:off x="5867280" y="3755880"/>
                <a:ext cx="2749320" cy="1888560"/>
                <a:chOff x="5867280" y="3755880"/>
                <a:chExt cx="2749320" cy="188856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5867280" y="5253120"/>
                  <a:ext cx="259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V="1">
                  <a:off x="6460560" y="3969360"/>
                  <a:ext cx="0" cy="1283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8336880" y="51238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6535800" y="37558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8" name=""/>
              <p:cNvSpPr/>
              <p:nvPr/>
            </p:nvSpPr>
            <p:spPr>
              <a:xfrm>
                <a:off x="5867280" y="5253480"/>
                <a:ext cx="5932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460560" y="4539960"/>
                <a:ext cx="0" cy="71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460560" y="4539960"/>
                <a:ext cx="14083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879240" y="52725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阶跃电压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6174360" y="5181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1219320" y="2087640"/>
                <a:ext cx="312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4" name=""/>
          <p:cNvSpPr/>
          <p:nvPr/>
        </p:nvSpPr>
        <p:spPr>
          <a:xfrm>
            <a:off x="5791320" y="3733920"/>
            <a:ext cx="2890800" cy="914400"/>
          </a:xfrm>
          <a:prstGeom prst="wedgeRoundRectCallout">
            <a:avLst>
              <a:gd name="adj1" fmla="val -114472"/>
              <a:gd name="adj2" fmla="val -63194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阶线性常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齐次微分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95280" y="1600200"/>
                <a:ext cx="2057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6" name=""/>
          <p:cNvSpPr/>
          <p:nvPr/>
        </p:nvSpPr>
        <p:spPr>
          <a:xfrm>
            <a:off x="1879560" y="28954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程的通解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程的特解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应齐次方程的通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762120" y="3290760"/>
                <a:ext cx="3124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98" name=""/>
          <p:cNvSpPr/>
          <p:nvPr/>
        </p:nvSpPr>
        <p:spPr>
          <a:xfrm>
            <a:off x="770400" y="776160"/>
            <a:ext cx="202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3480" y="12654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列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>
            <a:hlinkClick r:id="rId3" action="ppaction://hlinksldjump"/>
          </p:cNvPr>
          <p:cNvSpPr/>
          <p:nvPr/>
        </p:nvSpPr>
        <p:spPr>
          <a:xfrm>
            <a:off x="8381880" y="10969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gradFill rotWithShape="0">
            <a:gsLst>
              <a:gs pos="0">
                <a:srgbClr val="d6fbb5"/>
              </a:gs>
              <a:gs pos="100000">
                <a:srgbClr val="a3bf8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040040" y="271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.2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路的零状态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5334120" y="380880"/>
            <a:ext cx="3695400" cy="2622600"/>
            <a:chOff x="5334120" y="380880"/>
            <a:chExt cx="3695400" cy="2622600"/>
          </a:xfrm>
        </p:grpSpPr>
        <p:sp>
          <p:nvSpPr>
            <p:cNvPr id="1703" name=""/>
            <p:cNvSpPr/>
            <p:nvPr/>
          </p:nvSpPr>
          <p:spPr>
            <a:xfrm>
              <a:off x="5924160" y="2423880"/>
              <a:ext cx="174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C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0 -)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5334120" y="380880"/>
              <a:ext cx="3695400" cy="2118960"/>
              <a:chOff x="5334120" y="380880"/>
              <a:chExt cx="3695400" cy="2118960"/>
            </a:xfrm>
          </p:grpSpPr>
          <p:sp>
            <p:nvSpPr>
              <p:cNvPr id="1705" name=""/>
              <p:cNvSpPr/>
              <p:nvPr/>
            </p:nvSpPr>
            <p:spPr>
              <a:xfrm>
                <a:off x="5334120" y="1516680"/>
                <a:ext cx="411480" cy="43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821920" y="45288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39680" y="965160"/>
                <a:ext cx="0" cy="153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8" name=""/>
              <p:cNvGrpSpPr/>
              <p:nvPr/>
            </p:nvGrpSpPr>
            <p:grpSpPr>
              <a:xfrm>
                <a:off x="7761240" y="964800"/>
                <a:ext cx="536400" cy="1534320"/>
                <a:chOff x="7761240" y="964800"/>
                <a:chExt cx="536400" cy="153432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7761240" y="1636560"/>
                  <a:ext cx="536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761240" y="1828080"/>
                  <a:ext cx="536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V="1">
                  <a:off x="8029440" y="964800"/>
                  <a:ext cx="0" cy="671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V="1">
                  <a:off x="8029440" y="1827720"/>
                  <a:ext cx="0" cy="671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3" name=""/>
              <p:cNvSpPr/>
              <p:nvPr/>
            </p:nvSpPr>
            <p:spPr>
              <a:xfrm>
                <a:off x="7015320" y="439560"/>
                <a:ext cx="421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744160" y="1451520"/>
                <a:ext cx="441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516640" y="112644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589000" y="16686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00080" y="977040"/>
                <a:ext cx="52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549040" y="2481840"/>
                <a:ext cx="249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530680" y="984600"/>
                <a:ext cx="42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5960880" y="781560"/>
                <a:ext cx="428040" cy="20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137640" y="660960"/>
                <a:ext cx="21492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383240" y="1487880"/>
                <a:ext cx="64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941160" y="873360"/>
                <a:ext cx="551520" cy="224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468480" y="873360"/>
                <a:ext cx="438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007120" y="1162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007120" y="1596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492680" y="978480"/>
                <a:ext cx="52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563880" y="3808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29" name=""/>
                  <p:cNvSpPr txBox="1"/>
                  <p:nvPr/>
                </p:nvSpPr>
                <p:spPr>
                  <a:xfrm>
                    <a:off x="5809680" y="1017720"/>
                    <a:ext cx="585360" cy="30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30" name=""/>
              <p:cNvSpPr/>
              <p:nvPr/>
            </p:nvSpPr>
            <p:spPr>
              <a:xfrm>
                <a:off x="8298000" y="1407960"/>
                <a:ext cx="73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i="1" lang="zh-CN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1" name=""/>
          <p:cNvSpPr/>
          <p:nvPr/>
        </p:nvSpPr>
        <p:spPr>
          <a:xfrm>
            <a:off x="555840" y="38098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838080" y="4240080"/>
            <a:ext cx="3695760" cy="606240"/>
            <a:chOff x="838080" y="4240080"/>
            <a:chExt cx="3695760" cy="606240"/>
          </a:xfrm>
        </p:grpSpPr>
        <p:sp>
          <p:nvSpPr>
            <p:cNvPr id="1733" name=""/>
            <p:cNvSpPr/>
            <p:nvPr/>
          </p:nvSpPr>
          <p:spPr>
            <a:xfrm>
              <a:off x="838080" y="4240080"/>
              <a:ext cx="369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求特解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     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2057400" y="4314600"/>
                  <a:ext cx="51444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u'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666880" y="4056120"/>
                <a:ext cx="3429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838080" y="5410080"/>
                <a:ext cx="4876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得：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即：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'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47800" y="4754520"/>
                <a:ext cx="66960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：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'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代入方程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8" name=""/>
          <p:cNvGrpSpPr/>
          <p:nvPr/>
        </p:nvGrpSpPr>
        <p:grpSpPr>
          <a:xfrm>
            <a:off x="1084680" y="5562720"/>
            <a:ext cx="6535440" cy="885600"/>
            <a:chOff x="1084680" y="5562720"/>
            <a:chExt cx="6535440" cy="885600"/>
          </a:xfrm>
        </p:grpSpPr>
        <p:sp>
          <p:nvSpPr>
            <p:cNvPr id="1739" name=""/>
            <p:cNvSpPr/>
            <p:nvPr/>
          </p:nvSpPr>
          <p:spPr>
            <a:xfrm>
              <a:off x="1084680" y="5883120"/>
              <a:ext cx="145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方程的通解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0" name=""/>
                <p:cNvSpPr txBox="1"/>
                <p:nvPr/>
              </p:nvSpPr>
              <p:spPr>
                <a:xfrm>
                  <a:off x="2971800" y="5562720"/>
                  <a:ext cx="46483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RC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828800" y="1243080"/>
                <a:ext cx="3200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'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2" name=""/>
          <p:cNvSpPr/>
          <p:nvPr/>
        </p:nvSpPr>
        <p:spPr>
          <a:xfrm>
            <a:off x="5676840" y="4991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933480" y="5200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9832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1580040" y="1828800"/>
            <a:ext cx="4389120" cy="609480"/>
            <a:chOff x="1580040" y="1828800"/>
            <a:chExt cx="4389120" cy="609480"/>
          </a:xfrm>
        </p:grpSpPr>
        <p:sp>
          <p:nvSpPr>
            <p:cNvPr id="1746" name=""/>
            <p:cNvSpPr/>
            <p:nvPr/>
          </p:nvSpPr>
          <p:spPr>
            <a:xfrm>
              <a:off x="1580040" y="1866960"/>
              <a:ext cx="301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求对应齐次微分方程的通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7" name=""/>
                <p:cNvSpPr txBox="1"/>
                <p:nvPr/>
              </p:nvSpPr>
              <p:spPr>
                <a:xfrm>
                  <a:off x="5448240" y="1828800"/>
                  <a:ext cx="520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1085760" y="3949560"/>
                <a:ext cx="4686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49" name=""/>
          <p:cNvGrpSpPr/>
          <p:nvPr/>
        </p:nvGrpSpPr>
        <p:grpSpPr>
          <a:xfrm>
            <a:off x="1206720" y="2225520"/>
            <a:ext cx="4761720" cy="1003320"/>
            <a:chOff x="1206720" y="2225520"/>
            <a:chExt cx="4761720" cy="1003320"/>
          </a:xfrm>
        </p:grpSpPr>
        <mc:AlternateContent>
          <mc:Choice xmlns:a14="http://schemas.microsoft.com/office/drawing/2010/main" Requires="a14">
            <p:sp>
              <p:nvSpPr>
                <p:cNvPr id="1750" name=""/>
                <p:cNvSpPr txBox="1"/>
                <p:nvPr/>
              </p:nvSpPr>
              <p:spPr>
                <a:xfrm>
                  <a:off x="2239920" y="2225520"/>
                  <a:ext cx="300204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sSub>
                            <m:e>
                              <m:r>
                                <m:t xml:space="preserve">du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51" name=""/>
            <p:cNvSpPr/>
            <p:nvPr/>
          </p:nvSpPr>
          <p:spPr>
            <a:xfrm>
              <a:off x="1206720" y="2484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通解即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090040" y="2484360"/>
              <a:ext cx="87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3657600" y="3619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377360" y="3801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微分方程的通解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6032520" y="4363920"/>
                <a:ext cx="2197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（令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56" name=""/>
          <p:cNvGrpSpPr/>
          <p:nvPr/>
        </p:nvGrpSpPr>
        <p:grpSpPr>
          <a:xfrm>
            <a:off x="914400" y="547560"/>
            <a:ext cx="3862440" cy="1004400"/>
            <a:chOff x="914400" y="547560"/>
            <a:chExt cx="3862440" cy="1004400"/>
          </a:xfrm>
        </p:grpSpPr>
        <mc:AlternateContent>
          <mc:Choice xmlns:a14="http://schemas.microsoft.com/office/drawing/2010/main" Requires="a14">
            <p:sp>
              <p:nvSpPr>
                <p:cNvPr id="1757" name=""/>
                <p:cNvSpPr txBox="1"/>
                <p:nvPr/>
              </p:nvSpPr>
              <p:spPr>
                <a:xfrm>
                  <a:off x="2773080" y="547560"/>
                  <a:ext cx="62820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u'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58" name=""/>
            <p:cNvSpPr/>
            <p:nvPr/>
          </p:nvSpPr>
          <p:spPr>
            <a:xfrm>
              <a:off x="914400" y="604800"/>
              <a:ext cx="203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求特解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----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529440" y="585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方法二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801720" y="2749680"/>
                <a:ext cx="50277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其解：</m:t>
                        </m:r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61" name=""/>
          <p:cNvSpPr/>
          <p:nvPr/>
        </p:nvSpPr>
        <p:spPr>
          <a:xfrm>
            <a:off x="1258920" y="487512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确定积分常数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1407960" y="5364000"/>
            <a:ext cx="5297760" cy="624240"/>
            <a:chOff x="1407960" y="5364000"/>
            <a:chExt cx="5297760" cy="624240"/>
          </a:xfrm>
        </p:grpSpPr>
        <mc:AlternateContent>
          <mc:Choice xmlns:a14="http://schemas.microsoft.com/office/drawing/2010/main" Requires="a14">
            <p:sp>
              <p:nvSpPr>
                <p:cNvPr id="1763" name=""/>
                <p:cNvSpPr txBox="1"/>
                <p:nvPr/>
              </p:nvSpPr>
              <p:spPr>
                <a:xfrm>
                  <a:off x="4952880" y="5364000"/>
                  <a:ext cx="175284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4" name=""/>
            <p:cNvSpPr/>
            <p:nvPr/>
          </p:nvSpPr>
          <p:spPr>
            <a:xfrm>
              <a:off x="1407960" y="5408640"/>
              <a:ext cx="305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根据换路定则在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=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2035080" y="5913360"/>
                <a:ext cx="1698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1162080" y="428760"/>
            <a:ext cx="334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容电压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1092240" y="5410080"/>
                <a:ext cx="6375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8" name=""/>
              <p:cNvSpPr txBox="1"/>
              <p:nvPr/>
            </p:nvSpPr>
            <p:spPr>
              <a:xfrm>
                <a:off x="3292560" y="990720"/>
                <a:ext cx="3244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9" name=""/>
          <p:cNvSpPr/>
          <p:nvPr/>
        </p:nvSpPr>
        <p:spPr>
          <a:xfrm>
            <a:off x="4952880" y="4724280"/>
            <a:ext cx="1447920" cy="533520"/>
          </a:xfrm>
          <a:prstGeom prst="wedgeRoundRectCallout">
            <a:avLst>
              <a:gd name="adj1" fmla="val -104277"/>
              <a:gd name="adj2" fmla="val -146430"/>
              <a:gd name="adj3" fmla="val 16667"/>
            </a:avLst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暂态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066680" y="1828800"/>
            <a:ext cx="1447920" cy="533520"/>
          </a:xfrm>
          <a:prstGeom prst="wedgeRoundRectCallout">
            <a:avLst>
              <a:gd name="adj1" fmla="val 125875"/>
              <a:gd name="adj2" fmla="val 162203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稳态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0880" y="3124080"/>
            <a:ext cx="1676520" cy="1295640"/>
          </a:xfrm>
          <a:prstGeom prst="wedgeRoundRectCallout">
            <a:avLst>
              <a:gd name="adj1" fmla="val 140342"/>
              <a:gd name="adj2" fmla="val -62254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电路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稳定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的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2745360" y="3952800"/>
            <a:ext cx="3160080" cy="1153800"/>
            <a:chOff x="2745360" y="3952800"/>
            <a:chExt cx="3160080" cy="1153800"/>
          </a:xfrm>
        </p:grpSpPr>
        <p:sp>
          <p:nvSpPr>
            <p:cNvPr id="1773" name=""/>
            <p:cNvSpPr/>
            <p:nvPr/>
          </p:nvSpPr>
          <p:spPr>
            <a:xfrm>
              <a:off x="3336840" y="4006800"/>
              <a:ext cx="2210040" cy="954000"/>
            </a:xfrm>
            <a:custGeom>
              <a:avLst/>
              <a:gdLst/>
              <a:ahLst/>
              <a:rect l="l" t="t" r="r" b="b"/>
              <a:pathLst>
                <a:path w="1248" h="624">
                  <a:moveTo>
                    <a:pt x="0" y="624"/>
                  </a:moveTo>
                  <a:cubicBezTo>
                    <a:pt x="88" y="436"/>
                    <a:pt x="176" y="248"/>
                    <a:pt x="384" y="144"/>
                  </a:cubicBezTo>
                  <a:cubicBezTo>
                    <a:pt x="592" y="40"/>
                    <a:pt x="920" y="20"/>
                    <a:pt x="1248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745360" y="4464000"/>
              <a:ext cx="58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5" name=""/>
                <p:cNvSpPr txBox="1"/>
                <p:nvPr/>
              </p:nvSpPr>
              <p:spPr>
                <a:xfrm>
                  <a:off x="5410080" y="3952800"/>
                  <a:ext cx="49536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6" name=""/>
          <p:cNvGrpSpPr/>
          <p:nvPr/>
        </p:nvGrpSpPr>
        <p:grpSpPr>
          <a:xfrm>
            <a:off x="2745720" y="2666880"/>
            <a:ext cx="3426480" cy="619200"/>
            <a:chOff x="2745720" y="2666880"/>
            <a:chExt cx="3426480" cy="619200"/>
          </a:xfrm>
        </p:grpSpPr>
        <mc:AlternateContent>
          <mc:Choice xmlns:a14="http://schemas.microsoft.com/office/drawing/2010/main" Requires="a14">
            <p:sp>
              <p:nvSpPr>
                <p:cNvPr id="1777" name=""/>
                <p:cNvSpPr txBox="1"/>
                <p:nvPr/>
              </p:nvSpPr>
              <p:spPr>
                <a:xfrm>
                  <a:off x="5676840" y="2666880"/>
                  <a:ext cx="49536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778" name=""/>
            <p:cNvSpPr/>
            <p:nvPr/>
          </p:nvSpPr>
          <p:spPr>
            <a:xfrm>
              <a:off x="3352680" y="2981160"/>
              <a:ext cx="2286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45720" y="2678040"/>
              <a:ext cx="63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352680" y="2895480"/>
            <a:ext cx="2210040" cy="1030320"/>
            <a:chOff x="3352680" y="2895480"/>
            <a:chExt cx="2210040" cy="1030320"/>
          </a:xfrm>
        </p:grpSpPr>
        <mc:AlternateContent>
          <mc:Choice xmlns:a14="http://schemas.microsoft.com/office/drawing/2010/main" Requires="a14">
            <p:sp>
              <p:nvSpPr>
                <p:cNvPr id="1781" name=""/>
                <p:cNvSpPr txBox="1"/>
                <p:nvPr/>
              </p:nvSpPr>
              <p:spPr>
                <a:xfrm>
                  <a:off x="4648320" y="2895480"/>
                  <a:ext cx="46836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82" name=""/>
            <p:cNvSpPr/>
            <p:nvPr/>
          </p:nvSpPr>
          <p:spPr>
            <a:xfrm>
              <a:off x="3352680" y="2971440"/>
              <a:ext cx="2210040" cy="954360"/>
            </a:xfrm>
            <a:custGeom>
              <a:avLst/>
              <a:gdLst/>
              <a:ahLst/>
              <a:rect l="l" t="t" r="r" b="b"/>
              <a:pathLst>
                <a:path w="1248" h="624">
                  <a:moveTo>
                    <a:pt x="0" y="624"/>
                  </a:moveTo>
                  <a:cubicBezTo>
                    <a:pt x="88" y="436"/>
                    <a:pt x="176" y="248"/>
                    <a:pt x="384" y="144"/>
                  </a:cubicBezTo>
                  <a:cubicBezTo>
                    <a:pt x="592" y="40"/>
                    <a:pt x="920" y="20"/>
                    <a:pt x="124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3" name=""/>
          <p:cNvSpPr/>
          <p:nvPr/>
        </p:nvSpPr>
        <p:spPr>
          <a:xfrm>
            <a:off x="6629400" y="2438280"/>
            <a:ext cx="1295280" cy="1220760"/>
          </a:xfrm>
          <a:prstGeom prst="wedgeRoundRectCallout">
            <a:avLst>
              <a:gd name="adj1" fmla="val -136152"/>
              <a:gd name="adj2" fmla="val 77569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仅存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于暂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过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4" name=""/>
          <p:cNvGrpSpPr/>
          <p:nvPr/>
        </p:nvGrpSpPr>
        <p:grpSpPr>
          <a:xfrm>
            <a:off x="3352680" y="2971800"/>
            <a:ext cx="609840" cy="1905120"/>
            <a:chOff x="3352680" y="2971800"/>
            <a:chExt cx="609840" cy="1905120"/>
          </a:xfrm>
        </p:grpSpPr>
        <p:sp>
          <p:nvSpPr>
            <p:cNvPr id="1785" name=""/>
            <p:cNvSpPr/>
            <p:nvPr/>
          </p:nvSpPr>
          <p:spPr>
            <a:xfrm flipV="1">
              <a:off x="3352680" y="2971800"/>
              <a:ext cx="60984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3352680" y="3962520"/>
              <a:ext cx="60984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7" name=""/>
          <p:cNvSpPr/>
          <p:nvPr/>
        </p:nvSpPr>
        <p:spPr>
          <a:xfrm>
            <a:off x="3962520" y="29718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886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2059560" y="2997360"/>
            <a:ext cx="1902960" cy="520560"/>
            <a:chOff x="2059560" y="2997360"/>
            <a:chExt cx="1902960" cy="520560"/>
          </a:xfrm>
        </p:grpSpPr>
        <p:sp>
          <p:nvSpPr>
            <p:cNvPr id="1790" name=""/>
            <p:cNvSpPr/>
            <p:nvPr/>
          </p:nvSpPr>
          <p:spPr>
            <a:xfrm>
              <a:off x="3352680" y="3238560"/>
              <a:ext cx="6098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59560" y="2997360"/>
              <a:ext cx="135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63.2%</a:t>
              </a:r>
              <a:r>
                <a:rPr b="0" i="1" lang="zh-CN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1907640" y="3962520"/>
            <a:ext cx="2054880" cy="520560"/>
            <a:chOff x="1907640" y="3962520"/>
            <a:chExt cx="2054880" cy="520560"/>
          </a:xfrm>
        </p:grpSpPr>
        <p:sp>
          <p:nvSpPr>
            <p:cNvPr id="1793" name=""/>
            <p:cNvSpPr/>
            <p:nvPr/>
          </p:nvSpPr>
          <p:spPr>
            <a:xfrm>
              <a:off x="1907640" y="3962520"/>
              <a:ext cx="14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-36.8%</a:t>
              </a:r>
              <a:r>
                <a:rPr b="0" i="1" lang="zh-CN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52680" y="4267080"/>
              <a:ext cx="6098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2916000" y="1906560"/>
            <a:ext cx="3381840" cy="3350880"/>
            <a:chOff x="2916000" y="1906560"/>
            <a:chExt cx="3381840" cy="3350880"/>
          </a:xfrm>
        </p:grpSpPr>
        <p:grpSp>
          <p:nvGrpSpPr>
            <p:cNvPr id="1796" name=""/>
            <p:cNvGrpSpPr/>
            <p:nvPr/>
          </p:nvGrpSpPr>
          <p:grpSpPr>
            <a:xfrm>
              <a:off x="3276720" y="1906560"/>
              <a:ext cx="3021120" cy="3350880"/>
              <a:chOff x="3276720" y="1906560"/>
              <a:chExt cx="3021120" cy="3350880"/>
            </a:xfrm>
          </p:grpSpPr>
          <p:sp>
            <p:nvSpPr>
              <p:cNvPr id="1797" name=""/>
              <p:cNvSpPr/>
              <p:nvPr/>
            </p:nvSpPr>
            <p:spPr>
              <a:xfrm flipV="1">
                <a:off x="3276720" y="3962160"/>
                <a:ext cx="290340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18120" y="38098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99" name=""/>
                  <p:cNvSpPr txBox="1"/>
                  <p:nvPr/>
                </p:nvSpPr>
                <p:spPr>
                  <a:xfrm>
                    <a:off x="3483000" y="1906560"/>
                    <a:ext cx="493920" cy="69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00" name=""/>
              <p:cNvSpPr/>
              <p:nvPr/>
            </p:nvSpPr>
            <p:spPr>
              <a:xfrm flipV="1">
                <a:off x="3378240" y="213300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1" name=""/>
            <p:cNvSpPr/>
            <p:nvPr/>
          </p:nvSpPr>
          <p:spPr>
            <a:xfrm>
              <a:off x="2916000" y="359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2" name=""/>
          <p:cNvGrpSpPr/>
          <p:nvPr/>
        </p:nvGrpSpPr>
        <p:grpSpPr>
          <a:xfrm>
            <a:off x="533520" y="2057400"/>
            <a:ext cx="4724280" cy="534960"/>
            <a:chOff x="533520" y="2057400"/>
            <a:chExt cx="4724280" cy="534960"/>
          </a:xfrm>
        </p:grpSpPr>
        <p:sp>
          <p:nvSpPr>
            <p:cNvPr id="1803" name=""/>
            <p:cNvSpPr/>
            <p:nvPr/>
          </p:nvSpPr>
          <p:spPr>
            <a:xfrm>
              <a:off x="533520" y="205884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3.  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、     变化曲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"/>
                <p:cNvSpPr txBox="1"/>
                <p:nvPr/>
              </p:nvSpPr>
              <p:spPr>
                <a:xfrm>
                  <a:off x="1122480" y="2057400"/>
                  <a:ext cx="46368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5" name=""/>
                <p:cNvSpPr txBox="1"/>
                <p:nvPr/>
              </p:nvSpPr>
              <p:spPr>
                <a:xfrm>
                  <a:off x="2073240" y="2057400"/>
                  <a:ext cx="3733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6" name=""/>
          <p:cNvSpPr/>
          <p:nvPr/>
        </p:nvSpPr>
        <p:spPr>
          <a:xfrm flipV="1">
            <a:off x="5729400" y="3109320"/>
            <a:ext cx="2500200" cy="928440"/>
          </a:xfrm>
          <a:custGeom>
            <a:avLst/>
            <a:gdLst/>
            <a:ahLst/>
            <a:rect l="l" t="t" r="r" b="b"/>
            <a:pathLst>
              <a:path w="1248" h="624">
                <a:moveTo>
                  <a:pt x="0" y="624"/>
                </a:moveTo>
                <a:cubicBezTo>
                  <a:pt x="88" y="436"/>
                  <a:pt x="176" y="248"/>
                  <a:pt x="384" y="144"/>
                </a:cubicBezTo>
                <a:cubicBezTo>
                  <a:pt x="592" y="40"/>
                  <a:pt x="920" y="20"/>
                  <a:pt x="1248" y="0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7851600" y="3505320"/>
                <a:ext cx="3844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08" name=""/>
          <p:cNvGrpSpPr/>
          <p:nvPr/>
        </p:nvGrpSpPr>
        <p:grpSpPr>
          <a:xfrm>
            <a:off x="5715000" y="2286000"/>
            <a:ext cx="2487600" cy="1752480"/>
            <a:chOff x="5715000" y="2286000"/>
            <a:chExt cx="2487600" cy="1752480"/>
          </a:xfrm>
        </p:grpSpPr>
        <p:sp>
          <p:nvSpPr>
            <p:cNvPr id="1809" name=""/>
            <p:cNvSpPr/>
            <p:nvPr/>
          </p:nvSpPr>
          <p:spPr>
            <a:xfrm>
              <a:off x="5715000" y="2830680"/>
              <a:ext cx="2487600" cy="1207800"/>
            </a:xfrm>
            <a:custGeom>
              <a:avLst/>
              <a:gdLst/>
              <a:ahLst/>
              <a:rect l="l" t="t" r="r" b="b"/>
              <a:pathLst>
                <a:path w="1248" h="624">
                  <a:moveTo>
                    <a:pt x="0" y="624"/>
                  </a:moveTo>
                  <a:cubicBezTo>
                    <a:pt x="88" y="436"/>
                    <a:pt x="176" y="248"/>
                    <a:pt x="384" y="144"/>
                  </a:cubicBezTo>
                  <a:cubicBezTo>
                    <a:pt x="592" y="40"/>
                    <a:pt x="920" y="20"/>
                    <a:pt x="1248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0" name=""/>
                <p:cNvSpPr txBox="1"/>
                <p:nvPr/>
              </p:nvSpPr>
              <p:spPr>
                <a:xfrm>
                  <a:off x="7628040" y="2286000"/>
                  <a:ext cx="460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1" name=""/>
          <p:cNvGrpSpPr/>
          <p:nvPr/>
        </p:nvGrpSpPr>
        <p:grpSpPr>
          <a:xfrm>
            <a:off x="5172120" y="1752480"/>
            <a:ext cx="3818160" cy="2666520"/>
            <a:chOff x="5172120" y="1752480"/>
            <a:chExt cx="3818160" cy="2666520"/>
          </a:xfrm>
        </p:grpSpPr>
        <p:sp>
          <p:nvSpPr>
            <p:cNvPr id="1812" name=""/>
            <p:cNvSpPr/>
            <p:nvPr/>
          </p:nvSpPr>
          <p:spPr>
            <a:xfrm flipV="1">
              <a:off x="5605560" y="4038480"/>
              <a:ext cx="310356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710560" y="36748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4" name=""/>
                <p:cNvSpPr txBox="1"/>
                <p:nvPr/>
              </p:nvSpPr>
              <p:spPr>
                <a:xfrm>
                  <a:off x="5826240" y="1752480"/>
                  <a:ext cx="58428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5" name=""/>
                <p:cNvSpPr txBox="1"/>
                <p:nvPr/>
              </p:nvSpPr>
              <p:spPr>
                <a:xfrm>
                  <a:off x="5172120" y="1752480"/>
                  <a:ext cx="4572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16" name=""/>
            <p:cNvSpPr/>
            <p:nvPr/>
          </p:nvSpPr>
          <p:spPr>
            <a:xfrm flipV="1">
              <a:off x="5702400" y="2228400"/>
              <a:ext cx="0" cy="21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914400" y="39765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990720" y="4452840"/>
                <a:ext cx="49528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%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9" name=""/>
          <p:cNvSpPr/>
          <p:nvPr/>
        </p:nvSpPr>
        <p:spPr>
          <a:xfrm>
            <a:off x="533520" y="5064120"/>
            <a:ext cx="8153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表示电容电压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初始值上升到 稳态值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63.2%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所需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942840" y="2489040"/>
                <a:ext cx="355284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1" name=""/>
          <p:cNvSpPr/>
          <p:nvPr/>
        </p:nvSpPr>
        <p:spPr>
          <a:xfrm>
            <a:off x="533520" y="45720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流 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905040" y="762120"/>
                <a:ext cx="415764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3" name=""/>
          <p:cNvSpPr/>
          <p:nvPr/>
        </p:nvSpPr>
        <p:spPr>
          <a:xfrm>
            <a:off x="533520" y="3400560"/>
            <a:ext cx="4952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间常数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的物理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867280" y="7621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在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电流最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>
            <a:hlinkClick r:id="rId2" action="ppaction://hlinksldjump"/>
          </p:cNvPr>
          <p:cNvSpPr/>
          <p:nvPr/>
        </p:nvSpPr>
        <p:spPr>
          <a:xfrm>
            <a:off x="7772400" y="13716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b9f5ad"/>
              </a:gs>
              <a:gs pos="100000">
                <a:srgbClr val="9cce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5715000" y="2819520"/>
            <a:ext cx="609480" cy="1218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7" name=""/>
          <p:cNvGrpSpPr/>
          <p:nvPr/>
        </p:nvGrpSpPr>
        <p:grpSpPr>
          <a:xfrm>
            <a:off x="6157440" y="2819520"/>
            <a:ext cx="315000" cy="1602720"/>
            <a:chOff x="6157440" y="2819520"/>
            <a:chExt cx="315000" cy="1602720"/>
          </a:xfrm>
        </p:grpSpPr>
        <p:sp>
          <p:nvSpPr>
            <p:cNvPr id="1828" name=""/>
            <p:cNvSpPr/>
            <p:nvPr/>
          </p:nvSpPr>
          <p:spPr>
            <a:xfrm>
              <a:off x="6324480" y="28195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157440" y="396252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5336280" y="2514600"/>
            <a:ext cx="3121920" cy="459720"/>
            <a:chOff x="5336280" y="2514600"/>
            <a:chExt cx="3121920" cy="459720"/>
          </a:xfrm>
        </p:grpSpPr>
        <p:sp>
          <p:nvSpPr>
            <p:cNvPr id="1831" name=""/>
            <p:cNvSpPr/>
            <p:nvPr/>
          </p:nvSpPr>
          <p:spPr>
            <a:xfrm flipV="1">
              <a:off x="5694480" y="2819520"/>
              <a:ext cx="2763720" cy="1440"/>
            </a:xfrm>
            <a:prstGeom prst="line">
              <a:avLst/>
            </a:prstGeom>
            <a:ln w="284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33628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334120" y="2819520"/>
                <a:ext cx="380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 .2 .3 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路的全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38080" y="28954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80880" y="1447920"/>
            <a:ext cx="4876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全响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激励、储能元件的初始能量均不为零时，电路中的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473840" y="3446640"/>
            <a:ext cx="45212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叠加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全响应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输入响应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状态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1366920" y="4970520"/>
                <a:ext cx="6297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9" name=""/>
          <p:cNvSpPr/>
          <p:nvPr/>
        </p:nvSpPr>
        <p:spPr>
          <a:xfrm rot="8724000">
            <a:off x="3274560" y="4493520"/>
            <a:ext cx="695520" cy="399960"/>
          </a:xfrm>
          <a:custGeom>
            <a:avLst/>
            <a:gdLst>
              <a:gd name="textAreaLeft" fmla="*/ 86760 w 695520"/>
              <a:gd name="textAreaRight" fmla="*/ 608760 w 695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rot="8724000">
            <a:off x="5943240" y="4484520"/>
            <a:ext cx="755640" cy="409680"/>
          </a:xfrm>
          <a:custGeom>
            <a:avLst/>
            <a:gdLst>
              <a:gd name="textAreaLeft" fmla="*/ 94320 w 755640"/>
              <a:gd name="textAreaRight" fmla="*/ 661320 w 75564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228600" y="1092240"/>
            <a:ext cx="5648400" cy="162000"/>
            <a:chOff x="228600" y="1092240"/>
            <a:chExt cx="5648400" cy="162000"/>
          </a:xfrm>
        </p:grpSpPr>
        <p:pic>
          <p:nvPicPr>
            <p:cNvPr id="1842" name="" descr=""/>
            <p:cNvPicPr/>
            <p:nvPr/>
          </p:nvPicPr>
          <p:blipFill>
            <a:blip r:embed="rId2"/>
            <a:stretch/>
          </p:blipFill>
          <p:spPr>
            <a:xfrm>
              <a:off x="228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3"/>
            <a:stretch/>
          </p:blipFill>
          <p:spPr>
            <a:xfrm>
              <a:off x="523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4"/>
            <a:stretch/>
          </p:blipFill>
          <p:spPr>
            <a:xfrm>
              <a:off x="685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5"/>
            <a:stretch/>
          </p:blipFill>
          <p:spPr>
            <a:xfrm>
              <a:off x="8380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6"/>
            <a:stretch/>
          </p:blipFill>
          <p:spPr>
            <a:xfrm>
              <a:off x="981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7"/>
            <a:stretch/>
          </p:blipFill>
          <p:spPr>
            <a:xfrm>
              <a:off x="1143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" descr=""/>
            <p:cNvPicPr/>
            <p:nvPr/>
          </p:nvPicPr>
          <p:blipFill>
            <a:blip r:embed="rId8"/>
            <a:stretch/>
          </p:blipFill>
          <p:spPr>
            <a:xfrm>
              <a:off x="14382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9"/>
            <a:stretch/>
          </p:blipFill>
          <p:spPr>
            <a:xfrm>
              <a:off x="16002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" descr=""/>
            <p:cNvPicPr/>
            <p:nvPr/>
          </p:nvPicPr>
          <p:blipFill>
            <a:blip r:embed="rId10"/>
            <a:stretch/>
          </p:blipFill>
          <p:spPr>
            <a:xfrm>
              <a:off x="17524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" descr=""/>
            <p:cNvPicPr/>
            <p:nvPr/>
          </p:nvPicPr>
          <p:blipFill>
            <a:blip r:embed="rId11"/>
            <a:stretch/>
          </p:blipFill>
          <p:spPr>
            <a:xfrm>
              <a:off x="18954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2" name="" descr=""/>
            <p:cNvPicPr/>
            <p:nvPr/>
          </p:nvPicPr>
          <p:blipFill>
            <a:blip r:embed="rId12"/>
            <a:stretch/>
          </p:blipFill>
          <p:spPr>
            <a:xfrm>
              <a:off x="3808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13"/>
            <a:stretch/>
          </p:blipFill>
          <p:spPr>
            <a:xfrm>
              <a:off x="12952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" descr=""/>
            <p:cNvPicPr/>
            <p:nvPr/>
          </p:nvPicPr>
          <p:blipFill>
            <a:blip r:embed="rId14"/>
            <a:stretch/>
          </p:blipFill>
          <p:spPr>
            <a:xfrm>
              <a:off x="20574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" descr=""/>
            <p:cNvPicPr/>
            <p:nvPr/>
          </p:nvPicPr>
          <p:blipFill>
            <a:blip r:embed="rId15"/>
            <a:stretch/>
          </p:blipFill>
          <p:spPr>
            <a:xfrm>
              <a:off x="22096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" descr=""/>
            <p:cNvPicPr/>
            <p:nvPr/>
          </p:nvPicPr>
          <p:blipFill>
            <a:blip r:embed="rId16"/>
            <a:stretch/>
          </p:blipFill>
          <p:spPr>
            <a:xfrm>
              <a:off x="2352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" descr=""/>
            <p:cNvPicPr/>
            <p:nvPr/>
          </p:nvPicPr>
          <p:blipFill>
            <a:blip r:embed="rId17"/>
            <a:stretch/>
          </p:blipFill>
          <p:spPr>
            <a:xfrm>
              <a:off x="2514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18"/>
            <a:stretch/>
          </p:blipFill>
          <p:spPr>
            <a:xfrm>
              <a:off x="26668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19"/>
            <a:stretch/>
          </p:blipFill>
          <p:spPr>
            <a:xfrm>
              <a:off x="2809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20"/>
            <a:stretch/>
          </p:blipFill>
          <p:spPr>
            <a:xfrm>
              <a:off x="2971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1" name="" descr=""/>
            <p:cNvPicPr/>
            <p:nvPr/>
          </p:nvPicPr>
          <p:blipFill>
            <a:blip r:embed="rId21"/>
            <a:stretch/>
          </p:blipFill>
          <p:spPr>
            <a:xfrm>
              <a:off x="3267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2" name="" descr=""/>
            <p:cNvPicPr/>
            <p:nvPr/>
          </p:nvPicPr>
          <p:blipFill>
            <a:blip r:embed="rId22"/>
            <a:stretch/>
          </p:blipFill>
          <p:spPr>
            <a:xfrm>
              <a:off x="3429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3" name="" descr=""/>
            <p:cNvPicPr/>
            <p:nvPr/>
          </p:nvPicPr>
          <p:blipFill>
            <a:blip r:embed="rId23"/>
            <a:stretch/>
          </p:blipFill>
          <p:spPr>
            <a:xfrm>
              <a:off x="35812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24"/>
            <a:stretch/>
          </p:blipFill>
          <p:spPr>
            <a:xfrm>
              <a:off x="37242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5" name="" descr=""/>
            <p:cNvPicPr/>
            <p:nvPr/>
          </p:nvPicPr>
          <p:blipFill>
            <a:blip r:embed="rId25"/>
            <a:stretch/>
          </p:blipFill>
          <p:spPr>
            <a:xfrm>
              <a:off x="38862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" descr=""/>
            <p:cNvPicPr/>
            <p:nvPr/>
          </p:nvPicPr>
          <p:blipFill>
            <a:blip r:embed="rId26"/>
            <a:stretch/>
          </p:blipFill>
          <p:spPr>
            <a:xfrm>
              <a:off x="41814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" descr=""/>
            <p:cNvPicPr/>
            <p:nvPr/>
          </p:nvPicPr>
          <p:blipFill>
            <a:blip r:embed="rId27"/>
            <a:stretch/>
          </p:blipFill>
          <p:spPr>
            <a:xfrm>
              <a:off x="43434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" descr=""/>
            <p:cNvPicPr/>
            <p:nvPr/>
          </p:nvPicPr>
          <p:blipFill>
            <a:blip r:embed="rId28"/>
            <a:stretch/>
          </p:blipFill>
          <p:spPr>
            <a:xfrm>
              <a:off x="44956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" descr=""/>
            <p:cNvPicPr/>
            <p:nvPr/>
          </p:nvPicPr>
          <p:blipFill>
            <a:blip r:embed="rId29"/>
            <a:stretch/>
          </p:blipFill>
          <p:spPr>
            <a:xfrm>
              <a:off x="4638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" descr=""/>
            <p:cNvPicPr/>
            <p:nvPr/>
          </p:nvPicPr>
          <p:blipFill>
            <a:blip r:embed="rId30"/>
            <a:stretch/>
          </p:blipFill>
          <p:spPr>
            <a:xfrm>
              <a:off x="31240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" descr=""/>
            <p:cNvPicPr/>
            <p:nvPr/>
          </p:nvPicPr>
          <p:blipFill>
            <a:blip r:embed="rId31"/>
            <a:stretch/>
          </p:blipFill>
          <p:spPr>
            <a:xfrm>
              <a:off x="40384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32"/>
            <a:stretch/>
          </p:blipFill>
          <p:spPr>
            <a:xfrm>
              <a:off x="4800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33"/>
            <a:stretch/>
          </p:blipFill>
          <p:spPr>
            <a:xfrm>
              <a:off x="49528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34"/>
            <a:stretch/>
          </p:blipFill>
          <p:spPr>
            <a:xfrm>
              <a:off x="5095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" descr=""/>
            <p:cNvPicPr/>
            <p:nvPr/>
          </p:nvPicPr>
          <p:blipFill>
            <a:blip r:embed="rId35"/>
            <a:stretch/>
          </p:blipFill>
          <p:spPr>
            <a:xfrm>
              <a:off x="5257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6" name="" descr=""/>
            <p:cNvPicPr/>
            <p:nvPr/>
          </p:nvPicPr>
          <p:blipFill>
            <a:blip r:embed="rId36"/>
            <a:stretch/>
          </p:blipFill>
          <p:spPr>
            <a:xfrm>
              <a:off x="54100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7" name="" descr=""/>
            <p:cNvPicPr/>
            <p:nvPr/>
          </p:nvPicPr>
          <p:blipFill>
            <a:blip r:embed="rId37"/>
            <a:stretch/>
          </p:blipFill>
          <p:spPr>
            <a:xfrm>
              <a:off x="5553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8" name="" descr=""/>
            <p:cNvPicPr/>
            <p:nvPr/>
          </p:nvPicPr>
          <p:blipFill>
            <a:blip r:embed="rId38"/>
            <a:stretch/>
          </p:blipFill>
          <p:spPr>
            <a:xfrm>
              <a:off x="5715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9" name=""/>
          <p:cNvGrpSpPr/>
          <p:nvPr/>
        </p:nvGrpSpPr>
        <p:grpSpPr>
          <a:xfrm>
            <a:off x="5486400" y="1204920"/>
            <a:ext cx="3580920" cy="2579400"/>
            <a:chOff x="5486400" y="1204920"/>
            <a:chExt cx="3580920" cy="2579400"/>
          </a:xfrm>
        </p:grpSpPr>
        <p:sp>
          <p:nvSpPr>
            <p:cNvPr id="1880" name=""/>
            <p:cNvSpPr/>
            <p:nvPr/>
          </p:nvSpPr>
          <p:spPr>
            <a:xfrm>
              <a:off x="5931720" y="3153960"/>
              <a:ext cx="19501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C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0 -) </a:t>
              </a: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0" i="1" lang="zh-CN" sz="32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0" i="1" lang="zh-CN" sz="24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5486400" y="1204920"/>
              <a:ext cx="3580920" cy="2069640"/>
              <a:chOff x="5486400" y="1204920"/>
              <a:chExt cx="3580920" cy="2069640"/>
            </a:xfrm>
          </p:grpSpPr>
          <p:sp>
            <p:nvSpPr>
              <p:cNvPr id="1882" name=""/>
              <p:cNvSpPr/>
              <p:nvPr/>
            </p:nvSpPr>
            <p:spPr>
              <a:xfrm>
                <a:off x="5486400" y="2314080"/>
                <a:ext cx="398880" cy="421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960520" y="1273680"/>
                <a:ext cx="411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685480" y="1775520"/>
                <a:ext cx="0" cy="149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5" name=""/>
              <p:cNvGrpSpPr/>
              <p:nvPr/>
            </p:nvGrpSpPr>
            <p:grpSpPr>
              <a:xfrm>
                <a:off x="7838280" y="1775160"/>
                <a:ext cx="519840" cy="1498320"/>
                <a:chOff x="7838280" y="1775160"/>
                <a:chExt cx="519840" cy="1498320"/>
              </a:xfrm>
            </p:grpSpPr>
            <p:sp>
              <p:nvSpPr>
                <p:cNvPr id="1886" name=""/>
                <p:cNvSpPr/>
                <p:nvPr/>
              </p:nvSpPr>
              <p:spPr>
                <a:xfrm>
                  <a:off x="7838280" y="2431080"/>
                  <a:ext cx="519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7838280" y="2618280"/>
                  <a:ext cx="519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V="1">
                  <a:off x="8098200" y="1775160"/>
                  <a:ext cx="0" cy="65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V="1">
                  <a:off x="8098200" y="2617920"/>
                  <a:ext cx="0" cy="65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0" name=""/>
              <p:cNvSpPr/>
              <p:nvPr/>
            </p:nvSpPr>
            <p:spPr>
              <a:xfrm>
                <a:off x="7116840" y="1262160"/>
                <a:ext cx="421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883120" y="2250720"/>
                <a:ext cx="441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663880" y="193320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733000" y="246276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519240" y="1787400"/>
                <a:ext cx="50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694480" y="3256920"/>
                <a:ext cx="241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676840" y="1794600"/>
                <a:ext cx="41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6093720" y="1595880"/>
                <a:ext cx="41508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264720" y="1478520"/>
                <a:ext cx="208080" cy="398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472160" y="2286000"/>
                <a:ext cx="62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043400" y="1685880"/>
                <a:ext cx="534600" cy="218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585480" y="1685880"/>
                <a:ext cx="42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077320" y="1969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076240" y="2391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578360" y="1788480"/>
                <a:ext cx="50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678720" y="12049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06" name=""/>
                  <p:cNvSpPr txBox="1"/>
                  <p:nvPr/>
                </p:nvSpPr>
                <p:spPr>
                  <a:xfrm>
                    <a:off x="5947200" y="1827000"/>
                    <a:ext cx="56700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07" name=""/>
              <p:cNvSpPr/>
              <p:nvPr/>
            </p:nvSpPr>
            <p:spPr>
              <a:xfrm>
                <a:off x="8358480" y="2207880"/>
                <a:ext cx="708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i="1" lang="zh-CN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电路暂态分析的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40160"/>
            <a:ext cx="8686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利用电路暂态过程产生特定波形的电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锯齿波、三角波、尖脉冲等，应用于电子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986120"/>
            <a:ext cx="4876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研究暂态过程的实际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581280"/>
            <a:ext cx="8686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控制、预防可能产生的危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暂态过程开始的瞬间可能产生过电压、过电流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气设备或元件损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6320" y="1027080"/>
            <a:ext cx="778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暂态过程中电压、电流随时间变化的规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130720"/>
            <a:ext cx="8458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电路、交流电路都存在暂态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讲课的重点是直流电路的暂态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9840" y="1522440"/>
            <a:ext cx="710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影响暂态过程快慢的电路的时间常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1905120" y="2233440"/>
                <a:ext cx="544356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9" name=""/>
              <p:cNvSpPr txBox="1"/>
              <p:nvPr/>
            </p:nvSpPr>
            <p:spPr>
              <a:xfrm>
                <a:off x="1843200" y="3138480"/>
                <a:ext cx="5532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0" name=""/>
          <p:cNvSpPr/>
          <p:nvPr/>
        </p:nvSpPr>
        <p:spPr>
          <a:xfrm>
            <a:off x="2514600" y="4815000"/>
            <a:ext cx="1600200" cy="533160"/>
          </a:xfrm>
          <a:prstGeom prst="wedgeRoundRectCallout">
            <a:avLst>
              <a:gd name="adj1" fmla="val -30060"/>
              <a:gd name="adj2" fmla="val -195236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稳态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905120" y="1219320"/>
            <a:ext cx="2057400" cy="609480"/>
          </a:xfrm>
          <a:prstGeom prst="wedgeRoundRectCallout">
            <a:avLst>
              <a:gd name="adj1" fmla="val 6328"/>
              <a:gd name="adj2" fmla="val 18255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输入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867280" y="1219320"/>
            <a:ext cx="1905120" cy="609480"/>
          </a:xfrm>
          <a:prstGeom prst="wedgeRoundRectCallout">
            <a:avLst>
              <a:gd name="adj1" fmla="val -42916"/>
              <a:gd name="adj2" fmla="val 159115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状态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408400" y="3138480"/>
            <a:ext cx="1447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191120" y="3138480"/>
            <a:ext cx="2057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590920" y="40528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200400" y="4052880"/>
            <a:ext cx="2438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715000" y="4815000"/>
            <a:ext cx="1600200" cy="533160"/>
          </a:xfrm>
          <a:prstGeom prst="wedgeRoundRectCallout">
            <a:avLst>
              <a:gd name="adj1" fmla="val -85912"/>
              <a:gd name="adj2" fmla="val -196726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暂态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454400" y="5500800"/>
            <a:ext cx="47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  全响应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稳态分量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暂态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48360" y="266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全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284480" y="611280"/>
            <a:ext cx="53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 全响应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输入响应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状态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85800" y="4800600"/>
            <a:ext cx="1219320" cy="533520"/>
          </a:xfrm>
          <a:prstGeom prst="wedgeRoundRectCallout">
            <a:avLst>
              <a:gd name="adj1" fmla="val 124217"/>
              <a:gd name="adj2" fmla="val -184819"/>
              <a:gd name="adj3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稳态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191120" y="4800600"/>
            <a:ext cx="1371600" cy="609480"/>
          </a:xfrm>
          <a:prstGeom prst="wedgeRoundRectCallout">
            <a:avLst>
              <a:gd name="adj1" fmla="val -81365"/>
              <a:gd name="adj2" fmla="val -188541"/>
              <a:gd name="adj3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始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3" name=""/>
          <p:cNvGrpSpPr/>
          <p:nvPr/>
        </p:nvGrpSpPr>
        <p:grpSpPr>
          <a:xfrm>
            <a:off x="2238840" y="2286000"/>
            <a:ext cx="3552120" cy="520560"/>
            <a:chOff x="2238840" y="2286000"/>
            <a:chExt cx="3552120" cy="520560"/>
          </a:xfrm>
        </p:grpSpPr>
        <p:sp>
          <p:nvSpPr>
            <p:cNvPr id="1924" name=""/>
            <p:cNvSpPr/>
            <p:nvPr/>
          </p:nvSpPr>
          <p:spPr>
            <a:xfrm>
              <a:off x="2238840" y="2286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635920" y="2527560"/>
              <a:ext cx="31550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6" name=""/>
          <p:cNvGrpSpPr/>
          <p:nvPr/>
        </p:nvGrpSpPr>
        <p:grpSpPr>
          <a:xfrm>
            <a:off x="1439640" y="2936880"/>
            <a:ext cx="4503960" cy="520560"/>
            <a:chOff x="1439640" y="2936880"/>
            <a:chExt cx="4503960" cy="520560"/>
          </a:xfrm>
        </p:grpSpPr>
        <p:sp>
          <p:nvSpPr>
            <p:cNvPr id="1927" name=""/>
            <p:cNvSpPr/>
            <p:nvPr/>
          </p:nvSpPr>
          <p:spPr>
            <a:xfrm>
              <a:off x="1439640" y="293688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.632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665800" y="3264120"/>
              <a:ext cx="327780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3286080" y="3235320"/>
            <a:ext cx="523800" cy="2055960"/>
            <a:chOff x="3286080" y="3235320"/>
            <a:chExt cx="523800" cy="2055960"/>
          </a:xfrm>
        </p:grpSpPr>
        <p:sp>
          <p:nvSpPr>
            <p:cNvPr id="1930" name=""/>
            <p:cNvSpPr/>
            <p:nvPr/>
          </p:nvSpPr>
          <p:spPr>
            <a:xfrm>
              <a:off x="3510000" y="3235320"/>
              <a:ext cx="4680" cy="1522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1" name=""/>
                <p:cNvSpPr txBox="1"/>
                <p:nvPr/>
              </p:nvSpPr>
              <p:spPr>
                <a:xfrm>
                  <a:off x="3286080" y="4605480"/>
                  <a:ext cx="523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32" name=""/>
          <p:cNvGrpSpPr/>
          <p:nvPr/>
        </p:nvGrpSpPr>
        <p:grpSpPr>
          <a:xfrm>
            <a:off x="3838680" y="3276720"/>
            <a:ext cx="428400" cy="1981080"/>
            <a:chOff x="3838680" y="3276720"/>
            <a:chExt cx="428400" cy="1981080"/>
          </a:xfrm>
        </p:grpSpPr>
        <mc:AlternateContent>
          <mc:Choice xmlns:a14="http://schemas.microsoft.com/office/drawing/2010/main" Requires="a14">
            <p:sp>
              <p:nvSpPr>
                <p:cNvPr id="1933" name=""/>
                <p:cNvSpPr txBox="1"/>
                <p:nvPr/>
              </p:nvSpPr>
              <p:spPr>
                <a:xfrm>
                  <a:off x="3838680" y="4597560"/>
                  <a:ext cx="42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34" name=""/>
            <p:cNvSpPr/>
            <p:nvPr/>
          </p:nvSpPr>
          <p:spPr>
            <a:xfrm>
              <a:off x="4038480" y="3276720"/>
              <a:ext cx="0" cy="152388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5" name=""/>
          <p:cNvGrpSpPr/>
          <p:nvPr/>
        </p:nvGrpSpPr>
        <p:grpSpPr>
          <a:xfrm>
            <a:off x="4811760" y="3276720"/>
            <a:ext cx="522360" cy="2057040"/>
            <a:chOff x="4811760" y="3276720"/>
            <a:chExt cx="522360" cy="2057040"/>
          </a:xfrm>
        </p:grpSpPr>
        <p:sp>
          <p:nvSpPr>
            <p:cNvPr id="1936" name=""/>
            <p:cNvSpPr/>
            <p:nvPr/>
          </p:nvSpPr>
          <p:spPr>
            <a:xfrm>
              <a:off x="5029200" y="3276720"/>
              <a:ext cx="0" cy="166176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7" name=""/>
                <p:cNvSpPr txBox="1"/>
                <p:nvPr/>
              </p:nvSpPr>
              <p:spPr>
                <a:xfrm>
                  <a:off x="4811760" y="4577400"/>
                  <a:ext cx="522360" cy="75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6645240" y="4106880"/>
                <a:ext cx="14986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9" name=""/>
          <p:cNvSpPr/>
          <p:nvPr/>
        </p:nvSpPr>
        <p:spPr>
          <a:xfrm>
            <a:off x="2712960" y="2840040"/>
            <a:ext cx="3084480" cy="1890720"/>
          </a:xfrm>
          <a:custGeom>
            <a:avLst/>
            <a:gdLst/>
            <a:ahLst/>
            <a:rect l="l" t="t" r="r" b="b"/>
            <a:pathLst>
              <a:path w="2640" h="1536">
                <a:moveTo>
                  <a:pt x="0" y="1536"/>
                </a:moveTo>
                <a:cubicBezTo>
                  <a:pt x="308" y="1088"/>
                  <a:pt x="616" y="640"/>
                  <a:pt x="1056" y="384"/>
                </a:cubicBezTo>
                <a:cubicBezTo>
                  <a:pt x="1496" y="128"/>
                  <a:pt x="2068" y="64"/>
                  <a:pt x="2640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712960" y="3182760"/>
            <a:ext cx="3300480" cy="1575000"/>
          </a:xfrm>
          <a:custGeom>
            <a:avLst/>
            <a:gdLst/>
            <a:ahLst/>
            <a:rect l="l" t="t" r="r" b="b"/>
            <a:pathLst>
              <a:path w="2640" h="1536">
                <a:moveTo>
                  <a:pt x="0" y="1536"/>
                </a:moveTo>
                <a:cubicBezTo>
                  <a:pt x="308" y="1088"/>
                  <a:pt x="616" y="640"/>
                  <a:pt x="1056" y="384"/>
                </a:cubicBezTo>
                <a:cubicBezTo>
                  <a:pt x="1496" y="128"/>
                  <a:pt x="2068" y="64"/>
                  <a:pt x="2640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712960" y="2575080"/>
            <a:ext cx="3024360" cy="2154240"/>
          </a:xfrm>
          <a:custGeom>
            <a:avLst/>
            <a:gdLst/>
            <a:ahLst/>
            <a:rect l="l" t="t" r="r" b="b"/>
            <a:pathLst>
              <a:path w="2304" h="1584">
                <a:moveTo>
                  <a:pt x="0" y="1584"/>
                </a:moveTo>
                <a:cubicBezTo>
                  <a:pt x="216" y="1092"/>
                  <a:pt x="432" y="600"/>
                  <a:pt x="816" y="336"/>
                </a:cubicBezTo>
                <a:cubicBezTo>
                  <a:pt x="1200" y="72"/>
                  <a:pt x="1752" y="36"/>
                  <a:pt x="2304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380880" y="4776840"/>
            <a:ext cx="8305920" cy="1014120"/>
            <a:chOff x="380880" y="4776840"/>
            <a:chExt cx="8305920" cy="1014120"/>
          </a:xfrm>
        </p:grpSpPr>
        <p:grpSp>
          <p:nvGrpSpPr>
            <p:cNvPr id="1943" name=""/>
            <p:cNvGrpSpPr/>
            <p:nvPr/>
          </p:nvGrpSpPr>
          <p:grpSpPr>
            <a:xfrm>
              <a:off x="380880" y="4776840"/>
              <a:ext cx="8305920" cy="971280"/>
              <a:chOff x="380880" y="4776840"/>
              <a:chExt cx="8305920" cy="971280"/>
            </a:xfrm>
          </p:grpSpPr>
          <p:sp>
            <p:nvSpPr>
              <p:cNvPr id="1944" name=""/>
              <p:cNvSpPr/>
              <p:nvPr/>
            </p:nvSpPr>
            <p:spPr>
              <a:xfrm>
                <a:off x="380880" y="5227560"/>
                <a:ext cx="830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zh-CN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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越大，曲线变化越慢，    达到稳态时间越长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97040" y="477684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结论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4343400" y="5132160"/>
                  <a:ext cx="55548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7" name=""/>
          <p:cNvSpPr/>
          <p:nvPr/>
        </p:nvSpPr>
        <p:spPr>
          <a:xfrm>
            <a:off x="1703160" y="5718240"/>
            <a:ext cx="55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5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暂态基本结束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达到稳态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228600" y="641520"/>
            <a:ext cx="8785080" cy="1265040"/>
            <a:chOff x="228600" y="641520"/>
            <a:chExt cx="8785080" cy="1265040"/>
          </a:xfrm>
        </p:grpSpPr>
        <p:sp>
          <p:nvSpPr>
            <p:cNvPr id="1949" name=""/>
            <p:cNvSpPr/>
            <p:nvPr/>
          </p:nvSpPr>
          <p:spPr>
            <a:xfrm>
              <a:off x="7775280" y="138600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998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00040" y="641520"/>
              <a:ext cx="3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33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315800" y="712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2" name=""/>
                <p:cNvSpPr txBox="1"/>
                <p:nvPr/>
              </p:nvSpPr>
              <p:spPr>
                <a:xfrm>
                  <a:off x="444240" y="1251000"/>
                  <a:ext cx="514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53" name=""/>
            <p:cNvSpPr/>
            <p:nvPr/>
          </p:nvSpPr>
          <p:spPr>
            <a:xfrm>
              <a:off x="1315800" y="1370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34920" y="13701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63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065040" y="13701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86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241520" y="13701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0.950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83080" y="13701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98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3200" y="13701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0.993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28600" y="1285920"/>
              <a:ext cx="868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83024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1" name=""/>
                <p:cNvSpPr txBox="1"/>
                <p:nvPr/>
              </p:nvSpPr>
              <p:spPr>
                <a:xfrm>
                  <a:off x="3354120" y="762120"/>
                  <a:ext cx="5320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2" name=""/>
            <p:cNvSpPr/>
            <p:nvPr/>
          </p:nvSpPr>
          <p:spPr>
            <a:xfrm>
              <a:off x="228600" y="1886040"/>
              <a:ext cx="868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30040" y="666720"/>
              <a:ext cx="868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04956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26852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4444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3004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91684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41152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62760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773840" y="666720"/>
              <a:ext cx="32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2" name=""/>
                <p:cNvSpPr txBox="1"/>
                <p:nvPr/>
              </p:nvSpPr>
              <p:spPr>
                <a:xfrm>
                  <a:off x="2286000" y="852480"/>
                  <a:ext cx="37152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3" name=""/>
                <p:cNvSpPr txBox="1"/>
                <p:nvPr/>
              </p:nvSpPr>
              <p:spPr>
                <a:xfrm>
                  <a:off x="8076960" y="760680"/>
                  <a:ext cx="5335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4" name=""/>
                <p:cNvSpPr txBox="1"/>
                <p:nvPr/>
              </p:nvSpPr>
              <p:spPr>
                <a:xfrm>
                  <a:off x="5715000" y="760680"/>
                  <a:ext cx="5331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5" name=""/>
                <p:cNvSpPr txBox="1"/>
                <p:nvPr/>
              </p:nvSpPr>
              <p:spPr>
                <a:xfrm>
                  <a:off x="6954840" y="765360"/>
                  <a:ext cx="531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6" name=""/>
                <p:cNvSpPr txBox="1"/>
                <p:nvPr/>
              </p:nvSpPr>
              <p:spPr>
                <a:xfrm>
                  <a:off x="4592520" y="765360"/>
                  <a:ext cx="531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7" name=""/>
          <p:cNvGrpSpPr/>
          <p:nvPr/>
        </p:nvGrpSpPr>
        <p:grpSpPr>
          <a:xfrm>
            <a:off x="2288160" y="1828800"/>
            <a:ext cx="4572720" cy="3329640"/>
            <a:chOff x="2288160" y="1828800"/>
            <a:chExt cx="4572720" cy="3329640"/>
          </a:xfrm>
        </p:grpSpPr>
        <p:grpSp>
          <p:nvGrpSpPr>
            <p:cNvPr id="1978" name=""/>
            <p:cNvGrpSpPr/>
            <p:nvPr/>
          </p:nvGrpSpPr>
          <p:grpSpPr>
            <a:xfrm>
              <a:off x="2693880" y="1828800"/>
              <a:ext cx="4167000" cy="3329640"/>
              <a:chOff x="2693880" y="1828800"/>
              <a:chExt cx="4167000" cy="3329640"/>
            </a:xfrm>
          </p:grpSpPr>
          <p:sp>
            <p:nvSpPr>
              <p:cNvPr id="1979" name=""/>
              <p:cNvSpPr/>
              <p:nvPr/>
            </p:nvSpPr>
            <p:spPr>
              <a:xfrm>
                <a:off x="6581160" y="46378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693880" y="4800960"/>
                <a:ext cx="38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2710800" y="2154600"/>
                <a:ext cx="0" cy="267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82" name=""/>
                  <p:cNvSpPr txBox="1"/>
                  <p:nvPr/>
                </p:nvSpPr>
                <p:spPr>
                  <a:xfrm>
                    <a:off x="2804400" y="1828800"/>
                    <a:ext cx="497160" cy="70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83" name=""/>
            <p:cNvSpPr/>
            <p:nvPr/>
          </p:nvSpPr>
          <p:spPr>
            <a:xfrm>
              <a:off x="2288160" y="449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4" name=""/>
          <p:cNvGrpSpPr/>
          <p:nvPr/>
        </p:nvGrpSpPr>
        <p:grpSpPr>
          <a:xfrm>
            <a:off x="1414440" y="4494240"/>
            <a:ext cx="3701880" cy="638280"/>
            <a:chOff x="1414440" y="4494240"/>
            <a:chExt cx="3701880" cy="638280"/>
          </a:xfrm>
        </p:grpSpPr>
        <mc:AlternateContent>
          <mc:Choice xmlns:a14="http://schemas.microsoft.com/office/drawing/2010/main" Requires="a14">
            <p:sp>
              <p:nvSpPr>
                <p:cNvPr id="1985" name=""/>
                <p:cNvSpPr txBox="1"/>
                <p:nvPr/>
              </p:nvSpPr>
              <p:spPr>
                <a:xfrm>
                  <a:off x="1414440" y="4537080"/>
                  <a:ext cx="25113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6" name=""/>
            <p:cNvSpPr/>
            <p:nvPr/>
          </p:nvSpPr>
          <p:spPr>
            <a:xfrm>
              <a:off x="4295520" y="4494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稳态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7" name=""/>
          <p:cNvSpPr/>
          <p:nvPr/>
        </p:nvSpPr>
        <p:spPr>
          <a:xfrm>
            <a:off x="1447920" y="4875120"/>
            <a:ext cx="604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1447920" y="5103720"/>
            <a:ext cx="4849560" cy="611280"/>
            <a:chOff x="1447920" y="5103720"/>
            <a:chExt cx="4849560" cy="611280"/>
          </a:xfrm>
        </p:grpSpPr>
        <p:sp>
          <p:nvSpPr>
            <p:cNvPr id="1989" name=""/>
            <p:cNvSpPr/>
            <p:nvPr/>
          </p:nvSpPr>
          <p:spPr>
            <a:xfrm>
              <a:off x="5476680" y="510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"/>
                <p:cNvSpPr txBox="1"/>
                <p:nvPr/>
              </p:nvSpPr>
              <p:spPr>
                <a:xfrm>
                  <a:off x="1447920" y="5103720"/>
                  <a:ext cx="342900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"/>
          <p:cNvSpPr/>
          <p:nvPr/>
        </p:nvSpPr>
        <p:spPr>
          <a:xfrm>
            <a:off x="3021120" y="4492800"/>
            <a:ext cx="484200" cy="1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2" name=""/>
              <p:cNvSpPr txBox="1"/>
              <p:nvPr/>
            </p:nvSpPr>
            <p:spPr>
              <a:xfrm>
                <a:off x="1436760" y="3643200"/>
                <a:ext cx="3440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712800" y="304560"/>
            <a:ext cx="843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6.3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一阶线性电路暂态分析的三要素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523880" y="990720"/>
            <a:ext cx="1981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3520" y="1066680"/>
            <a:ext cx="5029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仅含一个储能元件或可等效为一个储能元件的线性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由一阶微分方程描述，称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阶线性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421640" y="2984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据经典法推导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11720" y="34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全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447920" y="5283360"/>
                <a:ext cx="62481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3809880" y="6246720"/>
            <a:ext cx="1295640" cy="1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036480" y="3228840"/>
            <a:ext cx="198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0 -) = </a:t>
            </a:r>
            <a:r>
              <a:rPr b="0" i="1" lang="zh-CN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0" i="1" lang="zh-CN" sz="3200" spc="-1" strike="noStrike" baseline="-25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562720" y="2368440"/>
            <a:ext cx="411120" cy="433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278400" y="1203480"/>
            <a:ext cx="4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769000" y="1817640"/>
            <a:ext cx="0" cy="153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7989840" y="1817280"/>
            <a:ext cx="536400" cy="1534680"/>
            <a:chOff x="7989840" y="1817280"/>
            <a:chExt cx="536400" cy="1534680"/>
          </a:xfrm>
        </p:grpSpPr>
        <p:sp>
          <p:nvSpPr>
            <p:cNvPr id="2005" name=""/>
            <p:cNvSpPr/>
            <p:nvPr/>
          </p:nvSpPr>
          <p:spPr>
            <a:xfrm>
              <a:off x="7989840" y="2489040"/>
              <a:ext cx="53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989840" y="2680920"/>
              <a:ext cx="53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8258040" y="1817280"/>
              <a:ext cx="0" cy="67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8258040" y="2680560"/>
              <a:ext cx="0" cy="67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9" name=""/>
          <p:cNvSpPr/>
          <p:nvPr/>
        </p:nvSpPr>
        <p:spPr>
          <a:xfrm>
            <a:off x="7243560" y="1217520"/>
            <a:ext cx="4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972040" y="2305080"/>
            <a:ext cx="44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745240" y="1979640"/>
            <a:ext cx="38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817600" y="252108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627960" y="1830240"/>
            <a:ext cx="52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776920" y="3335400"/>
            <a:ext cx="249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759280" y="18367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6200640" y="1816200"/>
            <a:ext cx="428760" cy="20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 flipV="1">
            <a:off x="6130440" y="1675800"/>
            <a:ext cx="299520" cy="35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612200" y="234000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169040" y="1725480"/>
            <a:ext cx="552600" cy="22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697800" y="1725480"/>
            <a:ext cx="438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8236080" y="2014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8235720" y="2449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721640" y="1832040"/>
            <a:ext cx="52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792840" y="1233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6248520" y="2362320"/>
                <a:ext cx="583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6" name=""/>
          <p:cNvSpPr/>
          <p:nvPr/>
        </p:nvSpPr>
        <p:spPr>
          <a:xfrm>
            <a:off x="8526600" y="2260440"/>
            <a:ext cx="731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zh-CN" sz="32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209680" y="6246720"/>
            <a:ext cx="1295640" cy="1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209680" y="4495680"/>
            <a:ext cx="484200" cy="1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9" name=""/>
          <p:cNvGrpSpPr/>
          <p:nvPr/>
        </p:nvGrpSpPr>
        <p:grpSpPr>
          <a:xfrm>
            <a:off x="1371600" y="2590920"/>
            <a:ext cx="5747040" cy="538200"/>
            <a:chOff x="1371600" y="2590920"/>
            <a:chExt cx="5747040" cy="538200"/>
          </a:xfrm>
        </p:grpSpPr>
        <mc:AlternateContent>
          <mc:Choice xmlns:a14="http://schemas.microsoft.com/office/drawing/2010/main" Requires="a14">
            <p:sp>
              <p:nvSpPr>
                <p:cNvPr id="2030" name=""/>
                <p:cNvSpPr txBox="1"/>
                <p:nvPr/>
              </p:nvSpPr>
              <p:spPr>
                <a:xfrm>
                  <a:off x="1371600" y="2590920"/>
                  <a:ext cx="8380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31" name=""/>
            <p:cNvSpPr/>
            <p:nvPr/>
          </p:nvSpPr>
          <p:spPr>
            <a:xfrm>
              <a:off x="3310920" y="2590920"/>
              <a:ext cx="38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：代表一阶电路中任一电压、电流函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304920" y="213372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1219320" y="3124080"/>
            <a:ext cx="5248080" cy="1511280"/>
            <a:chOff x="1219320" y="3124080"/>
            <a:chExt cx="5248080" cy="1511280"/>
          </a:xfrm>
        </p:grpSpPr>
        <p:sp>
          <p:nvSpPr>
            <p:cNvPr id="2034" name=""/>
            <p:cNvSpPr/>
            <p:nvPr/>
          </p:nvSpPr>
          <p:spPr>
            <a:xfrm>
              <a:off x="3104280" y="31240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430720" y="317016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宋体"/>
                </a:rPr>
                <a:t>-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1219320" y="3164040"/>
              <a:ext cx="5248080" cy="1471320"/>
              <a:chOff x="1219320" y="3164040"/>
              <a:chExt cx="5248080" cy="1471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5114880" y="3584520"/>
                <a:ext cx="13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宋体"/>
                  </a:rPr>
                  <a:t>（三要素）</a:t>
                </a:r>
                <a:r>
                  <a:rPr b="1" lang="zh-CN" sz="3200" spc="-1" strike="noStrike">
                    <a:solidFill>
                      <a:srgbClr val="006600"/>
                    </a:solidFill>
                    <a:latin typeface="宋体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295280" y="3309840"/>
                <a:ext cx="228600" cy="118584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0600 h 1185840"/>
                  <a:gd name="textAreaBottom" fmla="*/ 1155240 h 11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9" name=""/>
              <p:cNvGrpSpPr/>
              <p:nvPr/>
            </p:nvGrpSpPr>
            <p:grpSpPr>
              <a:xfrm>
                <a:off x="1461960" y="3581280"/>
                <a:ext cx="2397960" cy="544320"/>
                <a:chOff x="1461960" y="3581280"/>
                <a:chExt cx="2397960" cy="5443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40" name=""/>
                    <p:cNvSpPr txBox="1"/>
                    <p:nvPr/>
                  </p:nvSpPr>
                  <p:spPr>
                    <a:xfrm>
                      <a:off x="1461960" y="3617640"/>
                      <a:ext cx="900360" cy="490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041" name=""/>
                <p:cNvSpPr/>
                <p:nvPr/>
              </p:nvSpPr>
              <p:spPr>
                <a:xfrm>
                  <a:off x="3039120" y="358128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宋体"/>
                    </a:rPr>
                    <a:t>稳态值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133720" y="3605040"/>
                  <a:ext cx="1009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3300"/>
                      </a:solidFill>
                      <a:latin typeface="宋体"/>
                    </a:rPr>
                    <a:t>-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043" name=""/>
                  <p:cNvSpPr txBox="1"/>
                  <p:nvPr/>
                </p:nvSpPr>
                <p:spPr>
                  <a:xfrm>
                    <a:off x="1498680" y="3164040"/>
                    <a:ext cx="100152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044" name=""/>
              <p:cNvGrpSpPr/>
              <p:nvPr/>
            </p:nvGrpSpPr>
            <p:grpSpPr>
              <a:xfrm>
                <a:off x="1219320" y="4038480"/>
                <a:ext cx="2694960" cy="596880"/>
                <a:chOff x="1219320" y="4038480"/>
                <a:chExt cx="2694960" cy="59688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2880000" y="403848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宋体"/>
                    </a:rPr>
                    <a:t>时间常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219320" y="4052880"/>
                  <a:ext cx="1233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125800" y="4114800"/>
                  <a:ext cx="40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宋体"/>
                    </a:rPr>
                    <a:t>-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1693800" y="1614600"/>
                <a:ext cx="6002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τ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49" name=""/>
          <p:cNvSpPr/>
          <p:nvPr/>
        </p:nvSpPr>
        <p:spPr>
          <a:xfrm>
            <a:off x="3521520" y="581040"/>
            <a:ext cx="2100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直流电源激励的情况下，一阶线性电路微分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解的通用表达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304920" y="4572000"/>
            <a:ext cx="8839080" cy="1501200"/>
            <a:chOff x="304920" y="4572000"/>
            <a:chExt cx="8839080" cy="1501200"/>
          </a:xfrm>
        </p:grpSpPr>
        <p:sp>
          <p:nvSpPr>
            <p:cNvPr id="2051" name=""/>
            <p:cNvSpPr/>
            <p:nvPr/>
          </p:nvSpPr>
          <p:spPr>
            <a:xfrm>
              <a:off x="304920" y="4572000"/>
              <a:ext cx="883908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利用求三要素的方法求解暂态过程，称为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要素法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。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一阶电路都可以应用三要素法求解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求得             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的基础上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可直接写出电路的响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压或电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2" name=""/>
                <p:cNvSpPr txBox="1"/>
                <p:nvPr/>
              </p:nvSpPr>
              <p:spPr>
                <a:xfrm>
                  <a:off x="7238880" y="5079960"/>
                  <a:ext cx="1001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3" name=""/>
                <p:cNvSpPr txBox="1"/>
                <p:nvPr/>
              </p:nvSpPr>
              <p:spPr>
                <a:xfrm>
                  <a:off x="304920" y="5562720"/>
                  <a:ext cx="9000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3026160" y="2588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路响应的变化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1868400" y="5297400"/>
            <a:ext cx="377640" cy="798480"/>
            <a:chOff x="1868400" y="5297400"/>
            <a:chExt cx="377640" cy="798480"/>
          </a:xfrm>
        </p:grpSpPr>
        <p:sp>
          <p:nvSpPr>
            <p:cNvPr id="2056" name=""/>
            <p:cNvSpPr/>
            <p:nvPr/>
          </p:nvSpPr>
          <p:spPr>
            <a:xfrm flipV="1">
              <a:off x="2016000" y="5297400"/>
              <a:ext cx="0" cy="4032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7" name=""/>
                <p:cNvSpPr txBox="1"/>
                <p:nvPr/>
              </p:nvSpPr>
              <p:spPr>
                <a:xfrm>
                  <a:off x="1868400" y="5683320"/>
                  <a:ext cx="3776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58" name=""/>
          <p:cNvGrpSpPr/>
          <p:nvPr/>
        </p:nvGrpSpPr>
        <p:grpSpPr>
          <a:xfrm>
            <a:off x="457200" y="4124160"/>
            <a:ext cx="3051000" cy="1514160"/>
            <a:chOff x="457200" y="4124160"/>
            <a:chExt cx="3051000" cy="1514160"/>
          </a:xfrm>
        </p:grpSpPr>
        <mc:AlternateContent>
          <mc:Choice xmlns:a14="http://schemas.microsoft.com/office/drawing/2010/main" Requires="a14">
            <p:sp>
              <p:nvSpPr>
                <p:cNvPr id="2059" name=""/>
                <p:cNvSpPr txBox="1"/>
                <p:nvPr/>
              </p:nvSpPr>
              <p:spPr>
                <a:xfrm>
                  <a:off x="457200" y="4124160"/>
                  <a:ext cx="6886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60" name=""/>
            <p:cNvSpPr/>
            <p:nvPr/>
          </p:nvSpPr>
          <p:spPr>
            <a:xfrm flipV="1">
              <a:off x="1242720" y="4401360"/>
              <a:ext cx="2265480" cy="1236600"/>
            </a:xfrm>
            <a:custGeom>
              <a:avLst/>
              <a:gdLst/>
              <a:ahLst/>
              <a:rect l="l" t="t" r="r" b="b"/>
              <a:pathLst>
                <a:path w="1968" h="912">
                  <a:moveTo>
                    <a:pt x="0" y="912"/>
                  </a:moveTo>
                  <a:cubicBezTo>
                    <a:pt x="172" y="652"/>
                    <a:pt x="344" y="392"/>
                    <a:pt x="672" y="240"/>
                  </a:cubicBezTo>
                  <a:cubicBezTo>
                    <a:pt x="1000" y="88"/>
                    <a:pt x="1484" y="44"/>
                    <a:pt x="1968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1243080" y="4414680"/>
            <a:ext cx="738000" cy="13003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2" name=""/>
          <p:cNvGrpSpPr/>
          <p:nvPr/>
        </p:nvGrpSpPr>
        <p:grpSpPr>
          <a:xfrm>
            <a:off x="1828800" y="1479600"/>
            <a:ext cx="328680" cy="1641600"/>
            <a:chOff x="1828800" y="1479600"/>
            <a:chExt cx="328680" cy="1641600"/>
          </a:xfrm>
        </p:grpSpPr>
        <p:sp>
          <p:nvSpPr>
            <p:cNvPr id="2063" name=""/>
            <p:cNvSpPr/>
            <p:nvPr/>
          </p:nvSpPr>
          <p:spPr>
            <a:xfrm>
              <a:off x="1971720" y="1479600"/>
              <a:ext cx="0" cy="13017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4" name=""/>
                <p:cNvSpPr txBox="1"/>
                <p:nvPr/>
              </p:nvSpPr>
              <p:spPr>
                <a:xfrm>
                  <a:off x="1828800" y="2786040"/>
                  <a:ext cx="32868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5" name=""/>
          <p:cNvSpPr/>
          <p:nvPr/>
        </p:nvSpPr>
        <p:spPr>
          <a:xfrm flipV="1">
            <a:off x="1289160" y="1422360"/>
            <a:ext cx="663480" cy="12240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295280" y="1487520"/>
            <a:ext cx="2265480" cy="123804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cubicBezTo>
                  <a:pt x="172" y="652"/>
                  <a:pt x="344" y="392"/>
                  <a:pt x="672" y="240"/>
                </a:cubicBezTo>
                <a:cubicBezTo>
                  <a:pt x="1000" y="88"/>
                  <a:pt x="1484" y="44"/>
                  <a:pt x="196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827640" y="855720"/>
            <a:ext cx="3291480" cy="2453760"/>
            <a:chOff x="827640" y="855720"/>
            <a:chExt cx="3291480" cy="2453760"/>
          </a:xfrm>
        </p:grpSpPr>
        <p:sp>
          <p:nvSpPr>
            <p:cNvPr id="2068" name=""/>
            <p:cNvSpPr/>
            <p:nvPr/>
          </p:nvSpPr>
          <p:spPr>
            <a:xfrm>
              <a:off x="1244520" y="2763720"/>
              <a:ext cx="2770200" cy="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1244520" y="1082160"/>
              <a:ext cx="0" cy="172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812040" y="266688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1" name=""/>
                <p:cNvSpPr txBox="1"/>
                <p:nvPr/>
              </p:nvSpPr>
              <p:spPr>
                <a:xfrm>
                  <a:off x="1353960" y="855720"/>
                  <a:ext cx="611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2" name=""/>
            <p:cNvSpPr/>
            <p:nvPr/>
          </p:nvSpPr>
          <p:spPr>
            <a:xfrm>
              <a:off x="827640" y="2600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3" name=""/>
          <p:cNvSpPr/>
          <p:nvPr/>
        </p:nvSpPr>
        <p:spPr>
          <a:xfrm>
            <a:off x="5638680" y="1622520"/>
            <a:ext cx="2266920" cy="99828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cubicBezTo>
                  <a:pt x="172" y="652"/>
                  <a:pt x="344" y="392"/>
                  <a:pt x="672" y="240"/>
                </a:cubicBezTo>
                <a:cubicBezTo>
                  <a:pt x="1000" y="88"/>
                  <a:pt x="1484" y="44"/>
                  <a:pt x="196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5705640" y="1330200"/>
            <a:ext cx="855360" cy="12240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522360" y="1212840"/>
            <a:ext cx="3117600" cy="411120"/>
            <a:chOff x="522360" y="1212840"/>
            <a:chExt cx="3117600" cy="411120"/>
          </a:xfrm>
        </p:grpSpPr>
        <mc:AlternateContent>
          <mc:Choice xmlns:a14="http://schemas.microsoft.com/office/drawing/2010/main" Requires="a14">
            <p:sp>
              <p:nvSpPr>
                <p:cNvPr id="2076" name=""/>
                <p:cNvSpPr txBox="1"/>
                <p:nvPr/>
              </p:nvSpPr>
              <p:spPr>
                <a:xfrm>
                  <a:off x="522360" y="1212840"/>
                  <a:ext cx="6937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7" name=""/>
            <p:cNvSpPr/>
            <p:nvPr/>
          </p:nvSpPr>
          <p:spPr>
            <a:xfrm>
              <a:off x="1325520" y="1428840"/>
              <a:ext cx="23144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4819680" y="2220840"/>
            <a:ext cx="3173400" cy="522360"/>
            <a:chOff x="4819680" y="2220840"/>
            <a:chExt cx="3173400" cy="522360"/>
          </a:xfrm>
        </p:grpSpPr>
        <mc:AlternateContent>
          <mc:Choice xmlns:a14="http://schemas.microsoft.com/office/drawing/2010/main" Requires="a14">
            <p:sp>
              <p:nvSpPr>
                <p:cNvPr id="2079" name=""/>
                <p:cNvSpPr txBox="1"/>
                <p:nvPr/>
              </p:nvSpPr>
              <p:spPr>
                <a:xfrm>
                  <a:off x="4819680" y="2220840"/>
                  <a:ext cx="83808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0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0" name=""/>
            <p:cNvSpPr/>
            <p:nvPr/>
          </p:nvSpPr>
          <p:spPr>
            <a:xfrm>
              <a:off x="5676840" y="2568600"/>
              <a:ext cx="23162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1386000" y="3019320"/>
                <a:ext cx="19526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5853240" y="3019320"/>
                <a:ext cx="19778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1523880" y="5943600"/>
                <a:ext cx="1835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4" name=""/>
          <p:cNvGrpSpPr/>
          <p:nvPr/>
        </p:nvGrpSpPr>
        <p:grpSpPr>
          <a:xfrm>
            <a:off x="5240880" y="900000"/>
            <a:ext cx="3291480" cy="2453760"/>
            <a:chOff x="5240880" y="900000"/>
            <a:chExt cx="3291480" cy="2453760"/>
          </a:xfrm>
        </p:grpSpPr>
        <p:sp>
          <p:nvSpPr>
            <p:cNvPr id="2085" name=""/>
            <p:cNvSpPr/>
            <p:nvPr/>
          </p:nvSpPr>
          <p:spPr>
            <a:xfrm>
              <a:off x="5657760" y="2808000"/>
              <a:ext cx="2770200" cy="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5657760" y="1126440"/>
              <a:ext cx="0" cy="172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225280" y="271116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8" name=""/>
                <p:cNvSpPr txBox="1"/>
                <p:nvPr/>
              </p:nvSpPr>
              <p:spPr>
                <a:xfrm>
                  <a:off x="5767200" y="900000"/>
                  <a:ext cx="611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9" name=""/>
            <p:cNvSpPr/>
            <p:nvPr/>
          </p:nvSpPr>
          <p:spPr>
            <a:xfrm>
              <a:off x="5240880" y="2644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821160" y="3809880"/>
            <a:ext cx="3291480" cy="2453760"/>
            <a:chOff x="821160" y="3809880"/>
            <a:chExt cx="3291480" cy="2453760"/>
          </a:xfrm>
        </p:grpSpPr>
        <p:sp>
          <p:nvSpPr>
            <p:cNvPr id="2091" name=""/>
            <p:cNvSpPr/>
            <p:nvPr/>
          </p:nvSpPr>
          <p:spPr>
            <a:xfrm>
              <a:off x="1238040" y="5717880"/>
              <a:ext cx="2770200" cy="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1238040" y="4036320"/>
              <a:ext cx="0" cy="172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805560" y="562104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4" name=""/>
                <p:cNvSpPr txBox="1"/>
                <p:nvPr/>
              </p:nvSpPr>
              <p:spPr>
                <a:xfrm>
                  <a:off x="1347480" y="3809880"/>
                  <a:ext cx="611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95" name=""/>
            <p:cNvSpPr/>
            <p:nvPr/>
          </p:nvSpPr>
          <p:spPr>
            <a:xfrm>
              <a:off x="821160" y="5554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4883040" y="1417680"/>
            <a:ext cx="3117600" cy="411120"/>
            <a:chOff x="4883040" y="1417680"/>
            <a:chExt cx="3117600" cy="411120"/>
          </a:xfrm>
        </p:grpSpPr>
        <mc:AlternateContent>
          <mc:Choice xmlns:a14="http://schemas.microsoft.com/office/drawing/2010/main" Requires="a14">
            <p:sp>
              <p:nvSpPr>
                <p:cNvPr id="2097" name=""/>
                <p:cNvSpPr txBox="1"/>
                <p:nvPr/>
              </p:nvSpPr>
              <p:spPr>
                <a:xfrm>
                  <a:off x="4883040" y="1417680"/>
                  <a:ext cx="69516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98" name=""/>
            <p:cNvSpPr/>
            <p:nvPr/>
          </p:nvSpPr>
          <p:spPr>
            <a:xfrm>
              <a:off x="5686200" y="1633680"/>
              <a:ext cx="23144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6248520" y="1600200"/>
            <a:ext cx="328320" cy="1641600"/>
            <a:chOff x="6248520" y="1600200"/>
            <a:chExt cx="328320" cy="1641600"/>
          </a:xfrm>
        </p:grpSpPr>
        <p:sp>
          <p:nvSpPr>
            <p:cNvPr id="2100" name=""/>
            <p:cNvSpPr/>
            <p:nvPr/>
          </p:nvSpPr>
          <p:spPr>
            <a:xfrm>
              <a:off x="6391080" y="1600200"/>
              <a:ext cx="0" cy="13017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1" name=""/>
                <p:cNvSpPr txBox="1"/>
                <p:nvPr/>
              </p:nvSpPr>
              <p:spPr>
                <a:xfrm>
                  <a:off x="6248520" y="2906640"/>
                  <a:ext cx="32832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2" name=""/>
          <p:cNvSpPr/>
          <p:nvPr/>
        </p:nvSpPr>
        <p:spPr>
          <a:xfrm flipV="1">
            <a:off x="5670720" y="4403160"/>
            <a:ext cx="2268360" cy="99828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cubicBezTo>
                  <a:pt x="172" y="652"/>
                  <a:pt x="344" y="392"/>
                  <a:pt x="672" y="240"/>
                </a:cubicBezTo>
                <a:cubicBezTo>
                  <a:pt x="1000" y="88"/>
                  <a:pt x="1484" y="44"/>
                  <a:pt x="196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616720" y="4348080"/>
            <a:ext cx="860400" cy="1138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4" name=""/>
              <p:cNvSpPr txBox="1"/>
              <p:nvPr/>
            </p:nvSpPr>
            <p:spPr>
              <a:xfrm>
                <a:off x="5902200" y="5943600"/>
                <a:ext cx="189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5" name=""/>
          <p:cNvGrpSpPr/>
          <p:nvPr/>
        </p:nvGrpSpPr>
        <p:grpSpPr>
          <a:xfrm>
            <a:off x="5213880" y="3809880"/>
            <a:ext cx="3291480" cy="2453760"/>
            <a:chOff x="5213880" y="3809880"/>
            <a:chExt cx="3291480" cy="2453760"/>
          </a:xfrm>
        </p:grpSpPr>
        <p:sp>
          <p:nvSpPr>
            <p:cNvPr id="2106" name=""/>
            <p:cNvSpPr/>
            <p:nvPr/>
          </p:nvSpPr>
          <p:spPr>
            <a:xfrm>
              <a:off x="5630760" y="5717880"/>
              <a:ext cx="2770200" cy="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5630760" y="4036320"/>
              <a:ext cx="0" cy="172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198280" y="562104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9" name=""/>
                <p:cNvSpPr txBox="1"/>
                <p:nvPr/>
              </p:nvSpPr>
              <p:spPr>
                <a:xfrm>
                  <a:off x="5740200" y="3809880"/>
                  <a:ext cx="611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0" name=""/>
            <p:cNvSpPr/>
            <p:nvPr/>
          </p:nvSpPr>
          <p:spPr>
            <a:xfrm>
              <a:off x="5213880" y="5554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4724280" y="4038480"/>
            <a:ext cx="3173400" cy="522360"/>
            <a:chOff x="4724280" y="4038480"/>
            <a:chExt cx="3173400" cy="522360"/>
          </a:xfrm>
        </p:grpSpPr>
        <mc:AlternateContent>
          <mc:Choice xmlns:a14="http://schemas.microsoft.com/office/drawing/2010/main" Requires="a14">
            <p:sp>
              <p:nvSpPr>
                <p:cNvPr id="2112" name=""/>
                <p:cNvSpPr txBox="1"/>
                <p:nvPr/>
              </p:nvSpPr>
              <p:spPr>
                <a:xfrm>
                  <a:off x="4724280" y="4038480"/>
                  <a:ext cx="83808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0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3" name=""/>
            <p:cNvSpPr/>
            <p:nvPr/>
          </p:nvSpPr>
          <p:spPr>
            <a:xfrm>
              <a:off x="5581440" y="4386240"/>
              <a:ext cx="23162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4915080" y="5227560"/>
            <a:ext cx="3117600" cy="411120"/>
            <a:chOff x="4915080" y="5227560"/>
            <a:chExt cx="3117600" cy="411120"/>
          </a:xfrm>
        </p:grpSpPr>
        <mc:AlternateContent>
          <mc:Choice xmlns:a14="http://schemas.microsoft.com/office/drawing/2010/main" Requires="a14">
            <p:sp>
              <p:nvSpPr>
                <p:cNvPr id="2115" name=""/>
                <p:cNvSpPr txBox="1"/>
                <p:nvPr/>
              </p:nvSpPr>
              <p:spPr>
                <a:xfrm>
                  <a:off x="4915080" y="5227560"/>
                  <a:ext cx="69516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6" name=""/>
            <p:cNvSpPr/>
            <p:nvPr/>
          </p:nvSpPr>
          <p:spPr>
            <a:xfrm>
              <a:off x="5718240" y="5443560"/>
              <a:ext cx="23144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6300720" y="5181480"/>
            <a:ext cx="377640" cy="914040"/>
            <a:chOff x="6300720" y="5181480"/>
            <a:chExt cx="377640" cy="914040"/>
          </a:xfrm>
        </p:grpSpPr>
        <p:sp>
          <p:nvSpPr>
            <p:cNvPr id="2118" name=""/>
            <p:cNvSpPr/>
            <p:nvPr/>
          </p:nvSpPr>
          <p:spPr>
            <a:xfrm flipV="1">
              <a:off x="6448320" y="5181480"/>
              <a:ext cx="0" cy="46152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9" name=""/>
                <p:cNvSpPr txBox="1"/>
                <p:nvPr/>
              </p:nvSpPr>
              <p:spPr>
                <a:xfrm>
                  <a:off x="6300720" y="5623200"/>
                  <a:ext cx="377640" cy="47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0" name=""/>
          <p:cNvGrpSpPr/>
          <p:nvPr/>
        </p:nvGrpSpPr>
        <p:grpSpPr>
          <a:xfrm>
            <a:off x="3591000" y="3719520"/>
            <a:ext cx="447480" cy="2528640"/>
            <a:chOff x="3591000" y="3719520"/>
            <a:chExt cx="447480" cy="2528640"/>
          </a:xfrm>
        </p:grpSpPr>
        <p:sp>
          <p:nvSpPr>
            <p:cNvPr id="2121" name=""/>
            <p:cNvSpPr/>
            <p:nvPr/>
          </p:nvSpPr>
          <p:spPr>
            <a:xfrm>
              <a:off x="3809880" y="3719520"/>
              <a:ext cx="0" cy="201204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2" name=""/>
                <p:cNvSpPr txBox="1"/>
                <p:nvPr/>
              </p:nvSpPr>
              <p:spPr>
                <a:xfrm>
                  <a:off x="3591000" y="5776560"/>
                  <a:ext cx="44748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23" name=""/>
          <p:cNvSpPr/>
          <p:nvPr/>
        </p:nvSpPr>
        <p:spPr>
          <a:xfrm>
            <a:off x="2745000" y="533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要素法求解暂态过程的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933640" y="3733920"/>
            <a:ext cx="3124440" cy="15667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cubicBezTo>
                  <a:pt x="172" y="652"/>
                  <a:pt x="344" y="392"/>
                  <a:pt x="672" y="240"/>
                </a:cubicBezTo>
                <a:cubicBezTo>
                  <a:pt x="1000" y="88"/>
                  <a:pt x="1484" y="44"/>
                  <a:pt x="196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2971800" y="3352320"/>
            <a:ext cx="1066680" cy="184788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6" name=""/>
          <p:cNvGrpSpPr/>
          <p:nvPr/>
        </p:nvGrpSpPr>
        <p:grpSpPr>
          <a:xfrm>
            <a:off x="1226520" y="3367080"/>
            <a:ext cx="4856760" cy="671400"/>
            <a:chOff x="1226520" y="3367080"/>
            <a:chExt cx="4856760" cy="671400"/>
          </a:xfrm>
        </p:grpSpPr>
        <p:grpSp>
          <p:nvGrpSpPr>
            <p:cNvPr id="2127" name=""/>
            <p:cNvGrpSpPr/>
            <p:nvPr/>
          </p:nvGrpSpPr>
          <p:grpSpPr>
            <a:xfrm>
              <a:off x="1226520" y="3367080"/>
              <a:ext cx="1618200" cy="671400"/>
              <a:chOff x="1226520" y="3367080"/>
              <a:chExt cx="1618200" cy="671400"/>
            </a:xfrm>
          </p:grpSpPr>
          <p:sp>
            <p:nvSpPr>
              <p:cNvPr id="2128" name=""/>
              <p:cNvSpPr/>
              <p:nvPr/>
            </p:nvSpPr>
            <p:spPr>
              <a:xfrm>
                <a:off x="1226520" y="33670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终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29" name=""/>
                  <p:cNvSpPr txBox="1"/>
                  <p:nvPr/>
                </p:nvSpPr>
                <p:spPr>
                  <a:xfrm>
                    <a:off x="1981080" y="3449520"/>
                    <a:ext cx="863640" cy="58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30" name=""/>
            <p:cNvSpPr/>
            <p:nvPr/>
          </p:nvSpPr>
          <p:spPr>
            <a:xfrm>
              <a:off x="2933640" y="3687480"/>
              <a:ext cx="314964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290240" y="4894200"/>
            <a:ext cx="4793040" cy="646200"/>
            <a:chOff x="1290240" y="4894200"/>
            <a:chExt cx="4793040" cy="646200"/>
          </a:xfrm>
        </p:grpSpPr>
        <p:sp>
          <p:nvSpPr>
            <p:cNvPr id="2132" name=""/>
            <p:cNvSpPr/>
            <p:nvPr/>
          </p:nvSpPr>
          <p:spPr>
            <a:xfrm>
              <a:off x="1290240" y="4952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起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3" name=""/>
                <p:cNvSpPr txBox="1"/>
                <p:nvPr/>
              </p:nvSpPr>
              <p:spPr>
                <a:xfrm>
                  <a:off x="2019240" y="4894200"/>
                  <a:ext cx="80028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0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4" name=""/>
            <p:cNvSpPr/>
            <p:nvPr/>
          </p:nvSpPr>
          <p:spPr>
            <a:xfrm>
              <a:off x="2933640" y="5278320"/>
              <a:ext cx="314964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5" name=""/>
          <p:cNvSpPr/>
          <p:nvPr/>
        </p:nvSpPr>
        <p:spPr>
          <a:xfrm>
            <a:off x="3148920" y="12193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初始值、稳态值、时间常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216680" y="2293920"/>
            <a:ext cx="1107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出暂态电路电压、电流随时间变化的曲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324160" y="179064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求得的三要素结果代入暂态过程通用表达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4495680" y="4800600"/>
            <a:ext cx="3962520" cy="609480"/>
            <a:chOff x="4495680" y="4800600"/>
            <a:chExt cx="3962520" cy="609480"/>
          </a:xfrm>
        </p:grpSpPr>
        <p:sp>
          <p:nvSpPr>
            <p:cNvPr id="2139" name=""/>
            <p:cNvSpPr/>
            <p:nvPr/>
          </p:nvSpPr>
          <p:spPr>
            <a:xfrm>
              <a:off x="4495680" y="4800600"/>
              <a:ext cx="3962520" cy="609480"/>
            </a:xfrm>
            <a:prstGeom prst="wedgeRoundRectCallout">
              <a:avLst>
                <a:gd name="adj1" fmla="val -67425"/>
                <a:gd name="adj2" fmla="val -135675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0" name=""/>
                <p:cNvSpPr txBox="1"/>
                <p:nvPr/>
              </p:nvSpPr>
              <p:spPr>
                <a:xfrm>
                  <a:off x="4562640" y="4859280"/>
                  <a:ext cx="389556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32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1" name=""/>
          <p:cNvGrpSpPr/>
          <p:nvPr/>
        </p:nvGrpSpPr>
        <p:grpSpPr>
          <a:xfrm>
            <a:off x="2516760" y="2895480"/>
            <a:ext cx="5009040" cy="3182760"/>
            <a:chOff x="2516760" y="2895480"/>
            <a:chExt cx="5009040" cy="3182760"/>
          </a:xfrm>
        </p:grpSpPr>
        <p:grpSp>
          <p:nvGrpSpPr>
            <p:cNvPr id="2142" name=""/>
            <p:cNvGrpSpPr/>
            <p:nvPr/>
          </p:nvGrpSpPr>
          <p:grpSpPr>
            <a:xfrm>
              <a:off x="2933640" y="2895480"/>
              <a:ext cx="4592160" cy="3182760"/>
              <a:chOff x="2933640" y="2895480"/>
              <a:chExt cx="4592160" cy="3182760"/>
            </a:xfrm>
          </p:grpSpPr>
          <p:grpSp>
            <p:nvGrpSpPr>
              <p:cNvPr id="2143" name=""/>
              <p:cNvGrpSpPr/>
              <p:nvPr/>
            </p:nvGrpSpPr>
            <p:grpSpPr>
              <a:xfrm>
                <a:off x="2933640" y="3200040"/>
                <a:ext cx="4592160" cy="2878200"/>
                <a:chOff x="2933640" y="3200040"/>
                <a:chExt cx="4592160" cy="2878200"/>
              </a:xfrm>
            </p:grpSpPr>
            <p:sp>
              <p:nvSpPr>
                <p:cNvPr id="2144" name=""/>
                <p:cNvSpPr/>
                <p:nvPr/>
              </p:nvSpPr>
              <p:spPr>
                <a:xfrm>
                  <a:off x="2933640" y="5771880"/>
                  <a:ext cx="4267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V="1">
                  <a:off x="2933640" y="3200040"/>
                  <a:ext cx="0" cy="2571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7218720" y="5435640"/>
                  <a:ext cx="307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7" name=""/>
              <p:cNvSpPr/>
              <p:nvPr/>
            </p:nvSpPr>
            <p:spPr>
              <a:xfrm>
                <a:off x="3048120" y="289548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8" name=""/>
            <p:cNvSpPr/>
            <p:nvPr/>
          </p:nvSpPr>
          <p:spPr>
            <a:xfrm>
              <a:off x="251676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"/>
          <p:cNvSpPr/>
          <p:nvPr/>
        </p:nvSpPr>
        <p:spPr>
          <a:xfrm>
            <a:off x="533520" y="1749600"/>
            <a:ext cx="8381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09480" y="1710720"/>
            <a:ext cx="807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求换路后电路中的电压和电流 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容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为开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感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为短路，即求解直流电阻性电路中的电压和电流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1612800" y="4802040"/>
                <a:ext cx="25020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2" name=""/>
          <p:cNvGrpSpPr/>
          <p:nvPr/>
        </p:nvGrpSpPr>
        <p:grpSpPr>
          <a:xfrm>
            <a:off x="5610240" y="4876920"/>
            <a:ext cx="2782800" cy="1485720"/>
            <a:chOff x="5610240" y="4876920"/>
            <a:chExt cx="2782800" cy="1485720"/>
          </a:xfrm>
        </p:grpSpPr>
        <mc:AlternateContent>
          <mc:Choice xmlns:a14="http://schemas.microsoft.com/office/drawing/2010/main" Requires="a14">
            <p:sp>
              <p:nvSpPr>
                <p:cNvPr id="2153" name=""/>
                <p:cNvSpPr txBox="1"/>
                <p:nvPr/>
              </p:nvSpPr>
              <p:spPr>
                <a:xfrm>
                  <a:off x="5610240" y="4876920"/>
                  <a:ext cx="278280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4" name=""/>
                <p:cNvSpPr txBox="1"/>
                <p:nvPr/>
              </p:nvSpPr>
              <p:spPr>
                <a:xfrm>
                  <a:off x="6648480" y="5823000"/>
                  <a:ext cx="13748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5" name=""/>
          <p:cNvGrpSpPr/>
          <p:nvPr/>
        </p:nvGrpSpPr>
        <p:grpSpPr>
          <a:xfrm>
            <a:off x="980280" y="795240"/>
            <a:ext cx="3068640" cy="547920"/>
            <a:chOff x="980280" y="795240"/>
            <a:chExt cx="3068640" cy="547920"/>
          </a:xfrm>
        </p:grpSpPr>
        <p:sp>
          <p:nvSpPr>
            <p:cNvPr id="2156" name=""/>
            <p:cNvSpPr/>
            <p:nvPr/>
          </p:nvSpPr>
          <p:spPr>
            <a:xfrm>
              <a:off x="980280" y="795240"/>
              <a:ext cx="306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1)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稳态值          的计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7" name=""/>
                <p:cNvSpPr txBox="1"/>
                <p:nvPr/>
              </p:nvSpPr>
              <p:spPr>
                <a:xfrm>
                  <a:off x="2335320" y="851040"/>
                  <a:ext cx="90468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58" name=""/>
          <p:cNvSpPr/>
          <p:nvPr/>
        </p:nvSpPr>
        <p:spPr>
          <a:xfrm>
            <a:off x="2824200" y="33480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响应中“三要素”的确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610920" y="2666880"/>
            <a:ext cx="4558680" cy="2133720"/>
            <a:chOff x="610920" y="2666880"/>
            <a:chExt cx="4558680" cy="2133720"/>
          </a:xfrm>
        </p:grpSpPr>
        <p:grpSp>
          <p:nvGrpSpPr>
            <p:cNvPr id="2160" name=""/>
            <p:cNvGrpSpPr/>
            <p:nvPr/>
          </p:nvGrpSpPr>
          <p:grpSpPr>
            <a:xfrm>
              <a:off x="610920" y="2666880"/>
              <a:ext cx="4558680" cy="2129040"/>
              <a:chOff x="610920" y="2666880"/>
              <a:chExt cx="4558680" cy="2129040"/>
            </a:xfrm>
          </p:grpSpPr>
          <p:sp>
            <p:nvSpPr>
              <p:cNvPr id="2161" name=""/>
              <p:cNvSpPr/>
              <p:nvPr/>
            </p:nvSpPr>
            <p:spPr>
              <a:xfrm>
                <a:off x="4586400" y="3589200"/>
                <a:ext cx="583200" cy="68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380960" y="3859200"/>
                <a:ext cx="371520" cy="33156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568160" y="3197160"/>
                <a:ext cx="0" cy="1568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212480" y="336060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255320" y="399564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124080" y="3205080"/>
                <a:ext cx="121896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4159080" y="3894120"/>
                <a:ext cx="388800" cy="149040"/>
                <a:chOff x="4159080" y="3894120"/>
                <a:chExt cx="388800" cy="149040"/>
              </a:xfrm>
            </p:grpSpPr>
            <p:sp>
              <p:nvSpPr>
                <p:cNvPr id="2168" name=""/>
                <p:cNvSpPr/>
                <p:nvPr/>
              </p:nvSpPr>
              <p:spPr>
                <a:xfrm>
                  <a:off x="4159080" y="3894120"/>
                  <a:ext cx="38880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159080" y="4043160"/>
                  <a:ext cx="38880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0" name=""/>
              <p:cNvSpPr/>
              <p:nvPr/>
            </p:nvSpPr>
            <p:spPr>
              <a:xfrm>
                <a:off x="1560240" y="4765680"/>
                <a:ext cx="27828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412800" y="4199040"/>
                <a:ext cx="0" cy="5522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584000" y="3205080"/>
                <a:ext cx="403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2020680" y="3189240"/>
                <a:ext cx="257040" cy="209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 flipV="1">
                <a:off x="1898280" y="3095640"/>
                <a:ext cx="317520" cy="303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382400" y="2712960"/>
                <a:ext cx="66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772080" y="35132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349520" y="4046400"/>
                <a:ext cx="0" cy="749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10920" y="3741840"/>
                <a:ext cx="79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10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668320" y="2668680"/>
                <a:ext cx="83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Times New Roman"/>
                  </a:rPr>
                  <a:t>5k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494880" y="3970440"/>
                <a:ext cx="86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1</a:t>
                </a:r>
                <a:r>
                  <a:rPr b="1" lang="zh-CN" sz="28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211480" y="2751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67520" y="2666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例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416040" y="3208320"/>
                <a:ext cx="0" cy="6015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5400000">
                <a:off x="2841120" y="3014640"/>
                <a:ext cx="165240" cy="3999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338720" y="3208320"/>
                <a:ext cx="12240" cy="6840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309840" y="3774960"/>
                <a:ext cx="176040" cy="3999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285640" y="3208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479320" y="3659040"/>
                <a:ext cx="83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Times New Roman"/>
                  </a:rPr>
                  <a:t>5k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300200" y="3411360"/>
                <a:ext cx="38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343040" y="389412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1" name=""/>
            <p:cNvSpPr/>
            <p:nvPr/>
          </p:nvSpPr>
          <p:spPr>
            <a:xfrm flipV="1">
              <a:off x="3352680" y="312408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3352680" y="46782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030280" y="2552760"/>
            <a:ext cx="3817800" cy="2293920"/>
            <a:chOff x="5030280" y="2552760"/>
            <a:chExt cx="3817800" cy="2293920"/>
          </a:xfrm>
        </p:grpSpPr>
        <p:grpSp>
          <p:nvGrpSpPr>
            <p:cNvPr id="2194" name=""/>
            <p:cNvGrpSpPr/>
            <p:nvPr/>
          </p:nvGrpSpPr>
          <p:grpSpPr>
            <a:xfrm>
              <a:off x="5030280" y="2552760"/>
              <a:ext cx="3817800" cy="2266920"/>
              <a:chOff x="5030280" y="2552760"/>
              <a:chExt cx="3817800" cy="2266920"/>
            </a:xfrm>
          </p:grpSpPr>
          <mc:AlternateContent>
            <mc:Choice xmlns:a14="http://schemas.microsoft.com/office/drawing/2010/main" Requires="a14">
              <p:sp>
                <p:nvSpPr>
                  <p:cNvPr id="2195" name=""/>
                  <p:cNvSpPr txBox="1"/>
                  <p:nvPr/>
                </p:nvSpPr>
                <p:spPr>
                  <a:xfrm>
                    <a:off x="7861320" y="2552760"/>
                    <a:ext cx="49536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96" name=""/>
              <p:cNvSpPr/>
              <p:nvPr/>
            </p:nvSpPr>
            <p:spPr>
              <a:xfrm>
                <a:off x="5654520" y="3822840"/>
                <a:ext cx="419400" cy="4330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864400" y="3274920"/>
                <a:ext cx="0" cy="5302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391520" y="3284640"/>
                <a:ext cx="13716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856120" y="4800600"/>
                <a:ext cx="29070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699320" y="4229280"/>
                <a:ext cx="0" cy="5713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620120" y="3813120"/>
                <a:ext cx="168120" cy="43020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881680" y="3284640"/>
                <a:ext cx="45396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 flipV="1">
                <a:off x="6364440" y="3123720"/>
                <a:ext cx="341280" cy="41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26160" y="2795760"/>
                <a:ext cx="74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57920" y="4248000"/>
                <a:ext cx="0" cy="5619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691240" y="4064040"/>
                <a:ext cx="3348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5562720" y="3657240"/>
                <a:ext cx="0" cy="663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858720" y="2705040"/>
                <a:ext cx="63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948360" y="3827520"/>
                <a:ext cx="63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8053200" y="3467160"/>
                <a:ext cx="63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7848720" y="3160800"/>
                <a:ext cx="583920" cy="1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030280" y="4243320"/>
                <a:ext cx="91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6m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402600" y="2666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5400000">
                <a:off x="7108920" y="3078000"/>
                <a:ext cx="164880" cy="40032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6324480" y="3276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696080" y="3278160"/>
                <a:ext cx="0" cy="5572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7" name=""/>
              <p:cNvGrpSpPr/>
              <p:nvPr/>
            </p:nvGrpSpPr>
            <p:grpSpPr>
              <a:xfrm>
                <a:off x="8634960" y="3286080"/>
                <a:ext cx="213120" cy="1533600"/>
                <a:chOff x="8634960" y="3286080"/>
                <a:chExt cx="213120" cy="153360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8640720" y="3530520"/>
                  <a:ext cx="168120" cy="393840"/>
                </a:xfrm>
                <a:prstGeom prst="rect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9" name=""/>
                <p:cNvGrpSpPr/>
                <p:nvPr/>
              </p:nvGrpSpPr>
              <p:grpSpPr>
                <a:xfrm>
                  <a:off x="8634960" y="4145040"/>
                  <a:ext cx="213120" cy="437040"/>
                  <a:chOff x="8634960" y="4145040"/>
                  <a:chExt cx="213120" cy="437040"/>
                </a:xfrm>
              </p:grpSpPr>
              <p:sp>
                <p:nvSpPr>
                  <p:cNvPr id="2220" name=""/>
                  <p:cNvSpPr/>
                  <p:nvPr/>
                </p:nvSpPr>
                <p:spPr>
                  <a:xfrm>
                    <a:off x="8634960" y="4145040"/>
                    <a:ext cx="21312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88" y="1"/>
                        </a:moveTo>
                        <a:arcTo wR="10800" hR="10800" stAng="-5435809" swAng="108358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88" y="1"/>
                        </a:moveTo>
                        <a:arcTo wR="10800" hR="10800" stAng="-5435809" swAng="10835809"/>
                      </a:path>
                    </a:pathLst>
                  </a:custGeom>
                  <a:noFill/>
                  <a:ln cap="rnd"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8634960" y="4290480"/>
                    <a:ext cx="2131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88" y="1"/>
                        </a:moveTo>
                        <a:arcTo wR="10800" hR="10800" stAng="-5435809" swAng="108358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88" y="1"/>
                        </a:moveTo>
                        <a:arcTo wR="10800" hR="10800" stAng="-5435809" swAng="10835809"/>
                      </a:path>
                    </a:pathLst>
                  </a:custGeom>
                  <a:noFill/>
                  <a:ln cap="rnd"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8634960" y="4436640"/>
                    <a:ext cx="2131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88" y="1"/>
                        </a:moveTo>
                        <a:arcTo wR="10800" hR="10800" stAng="-5435809" swAng="108358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88" y="1"/>
                        </a:moveTo>
                        <a:arcTo wR="10800" hR="10800" stAng="-5435809" swAng="10835809"/>
                      </a:path>
                    </a:pathLst>
                  </a:custGeom>
                  <a:noFill/>
                  <a:ln cap="rnd"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3" name=""/>
                <p:cNvSpPr/>
                <p:nvPr/>
              </p:nvSpPr>
              <p:spPr>
                <a:xfrm>
                  <a:off x="8743680" y="392436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8743680" y="4562640"/>
                  <a:ext cx="0" cy="25704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8740440" y="3286080"/>
                  <a:ext cx="0" cy="25740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6" name=""/>
              <p:cNvSpPr/>
              <p:nvPr/>
            </p:nvSpPr>
            <p:spPr>
              <a:xfrm>
                <a:off x="8078760" y="40766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29400" y="3273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 flipV="1">
              <a:off x="7620120" y="32004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7650000" y="472428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0" name=""/>
          <p:cNvGrpSpPr/>
          <p:nvPr/>
        </p:nvGrpSpPr>
        <p:grpSpPr>
          <a:xfrm>
            <a:off x="700920" y="914400"/>
            <a:ext cx="5090400" cy="592200"/>
            <a:chOff x="700920" y="914400"/>
            <a:chExt cx="5090400" cy="592200"/>
          </a:xfrm>
        </p:grpSpPr>
        <p:sp>
          <p:nvSpPr>
            <p:cNvPr id="2231" name=""/>
            <p:cNvSpPr/>
            <p:nvPr/>
          </p:nvSpPr>
          <p:spPr>
            <a:xfrm>
              <a:off x="700920" y="927000"/>
              <a:ext cx="231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路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2" name=""/>
                <p:cNvSpPr txBox="1"/>
                <p:nvPr/>
              </p:nvSpPr>
              <p:spPr>
                <a:xfrm>
                  <a:off x="3317760" y="914400"/>
                  <a:ext cx="247356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、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33" name=""/>
          <p:cNvGrpSpPr/>
          <p:nvPr/>
        </p:nvGrpSpPr>
        <p:grpSpPr>
          <a:xfrm>
            <a:off x="1154520" y="1371600"/>
            <a:ext cx="5931360" cy="1143000"/>
            <a:chOff x="1154520" y="1371600"/>
            <a:chExt cx="5931360" cy="1143000"/>
          </a:xfrm>
        </p:grpSpPr>
        <p:sp>
          <p:nvSpPr>
            <p:cNvPr id="2234" name=""/>
            <p:cNvSpPr/>
            <p:nvPr/>
          </p:nvSpPr>
          <p:spPr>
            <a:xfrm>
              <a:off x="1154520" y="1689840"/>
              <a:ext cx="23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根据换路定则求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5" name=""/>
            <p:cNvGrpSpPr/>
            <p:nvPr/>
          </p:nvGrpSpPr>
          <p:grpSpPr>
            <a:xfrm>
              <a:off x="4048560" y="1371600"/>
              <a:ext cx="3037320" cy="1143000"/>
              <a:chOff x="4048560" y="1371600"/>
              <a:chExt cx="3037320" cy="1143000"/>
            </a:xfrm>
          </p:grpSpPr>
          <mc:AlternateContent>
            <mc:Choice xmlns:a14="http://schemas.microsoft.com/office/drawing/2010/main" Requires="a14">
              <p:sp>
                <p:nvSpPr>
                  <p:cNvPr id="2236" name=""/>
                  <p:cNvSpPr txBox="1"/>
                  <p:nvPr/>
                </p:nvSpPr>
                <p:spPr>
                  <a:xfrm>
                    <a:off x="4208400" y="1371600"/>
                    <a:ext cx="2877480" cy="114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37" name=""/>
              <p:cNvSpPr/>
              <p:nvPr/>
            </p:nvSpPr>
            <p:spPr>
              <a:xfrm>
                <a:off x="4048560" y="1665000"/>
                <a:ext cx="180000" cy="659160"/>
              </a:xfrm>
              <a:custGeom>
                <a:avLst/>
                <a:gdLst>
                  <a:gd name="textAreaLeft" fmla="*/ 115200 w 180000"/>
                  <a:gd name="textAreaRight" fmla="*/ 180360 w 180000"/>
                  <a:gd name="textAreaTop" fmla="*/ 16920 h 659160"/>
                  <a:gd name="textAreaBottom" fmla="*/ 642240 h 65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8" name=""/>
          <p:cNvGrpSpPr/>
          <p:nvPr/>
        </p:nvGrpSpPr>
        <p:grpSpPr>
          <a:xfrm>
            <a:off x="620640" y="2438280"/>
            <a:ext cx="8523000" cy="579600"/>
            <a:chOff x="620640" y="2438280"/>
            <a:chExt cx="8523000" cy="579600"/>
          </a:xfrm>
        </p:grpSpPr>
        <p:sp>
          <p:nvSpPr>
            <p:cNvPr id="2239" name=""/>
            <p:cNvSpPr/>
            <p:nvPr/>
          </p:nvSpPr>
          <p:spPr>
            <a:xfrm>
              <a:off x="620640" y="2438280"/>
              <a:ext cx="646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的电路，求所需其它各量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0" name=""/>
                <p:cNvSpPr txBox="1"/>
                <p:nvPr/>
              </p:nvSpPr>
              <p:spPr>
                <a:xfrm>
                  <a:off x="8180280" y="2448000"/>
                  <a:ext cx="96336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1" name=""/>
                <p:cNvSpPr txBox="1"/>
                <p:nvPr/>
              </p:nvSpPr>
              <p:spPr>
                <a:xfrm>
                  <a:off x="6808680" y="2438280"/>
                  <a:ext cx="10872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42" name=""/>
            <p:cNvSpPr/>
            <p:nvPr/>
          </p:nvSpPr>
          <p:spPr>
            <a:xfrm>
              <a:off x="7796520" y="2438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609480" y="3747960"/>
            <a:ext cx="59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在换路瞬间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=(0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等效电路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4" name=""/>
          <p:cNvGrpSpPr/>
          <p:nvPr/>
        </p:nvGrpSpPr>
        <p:grpSpPr>
          <a:xfrm>
            <a:off x="564480" y="4224240"/>
            <a:ext cx="7541640" cy="1109520"/>
            <a:chOff x="564480" y="4224240"/>
            <a:chExt cx="7541640" cy="1109520"/>
          </a:xfrm>
        </p:grpSpPr>
        <p:grpSp>
          <p:nvGrpSpPr>
            <p:cNvPr id="2245" name=""/>
            <p:cNvGrpSpPr/>
            <p:nvPr/>
          </p:nvGrpSpPr>
          <p:grpSpPr>
            <a:xfrm>
              <a:off x="1279800" y="4681440"/>
              <a:ext cx="6826320" cy="652320"/>
              <a:chOff x="1279800" y="4681440"/>
              <a:chExt cx="6826320" cy="652320"/>
            </a:xfrm>
          </p:grpSpPr>
          <p:sp>
            <p:nvSpPr>
              <p:cNvPr id="2246" name=""/>
              <p:cNvSpPr/>
              <p:nvPr/>
            </p:nvSpPr>
            <p:spPr>
              <a:xfrm>
                <a:off x="6005160" y="4682880"/>
                <a:ext cx="210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电容元件视为短路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7" name=""/>
                  <p:cNvSpPr txBox="1"/>
                  <p:nvPr/>
                </p:nvSpPr>
                <p:spPr>
                  <a:xfrm>
                    <a:off x="2454120" y="4719600"/>
                    <a:ext cx="5176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48" name=""/>
              <p:cNvSpPr/>
              <p:nvPr/>
            </p:nvSpPr>
            <p:spPr>
              <a:xfrm>
                <a:off x="1279800" y="46814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其值等于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9" name=""/>
                  <p:cNvSpPr txBox="1"/>
                  <p:nvPr/>
                </p:nvSpPr>
                <p:spPr>
                  <a:xfrm>
                    <a:off x="3048120" y="4716360"/>
                    <a:ext cx="2361960" cy="61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若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，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50" name=""/>
            <p:cNvSpPr/>
            <p:nvPr/>
          </p:nvSpPr>
          <p:spPr>
            <a:xfrm>
              <a:off x="564480" y="4225680"/>
              <a:ext cx="9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1" name=""/>
                <p:cNvSpPr txBox="1"/>
                <p:nvPr/>
              </p:nvSpPr>
              <p:spPr>
                <a:xfrm>
                  <a:off x="1447920" y="4224240"/>
                  <a:ext cx="26953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2" name=""/>
            <p:cNvSpPr/>
            <p:nvPr/>
          </p:nvSpPr>
          <p:spPr>
            <a:xfrm>
              <a:off x="4839120" y="422892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容元件用恒压源代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1036800" y="5257800"/>
            <a:ext cx="7497720" cy="1143000"/>
            <a:chOff x="1036800" y="5257800"/>
            <a:chExt cx="7497720" cy="1143000"/>
          </a:xfrm>
        </p:grpSpPr>
        <mc:AlternateContent>
          <mc:Choice xmlns:a14="http://schemas.microsoft.com/office/drawing/2010/main" Requires="a14">
            <p:sp>
              <p:nvSpPr>
                <p:cNvPr id="2254" name=""/>
                <p:cNvSpPr txBox="1"/>
                <p:nvPr/>
              </p:nvSpPr>
              <p:spPr>
                <a:xfrm>
                  <a:off x="1571760" y="5257800"/>
                  <a:ext cx="205560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255" name=""/>
            <p:cNvGrpSpPr/>
            <p:nvPr/>
          </p:nvGrpSpPr>
          <p:grpSpPr>
            <a:xfrm>
              <a:off x="1036800" y="5257800"/>
              <a:ext cx="7497720" cy="1143000"/>
              <a:chOff x="1036800" y="5257800"/>
              <a:chExt cx="7497720" cy="1143000"/>
            </a:xfrm>
          </p:grpSpPr>
          <p:grpSp>
            <p:nvGrpSpPr>
              <p:cNvPr id="2256" name=""/>
              <p:cNvGrpSpPr/>
              <p:nvPr/>
            </p:nvGrpSpPr>
            <p:grpSpPr>
              <a:xfrm>
                <a:off x="1036800" y="5751360"/>
                <a:ext cx="7497720" cy="649440"/>
                <a:chOff x="1036800" y="5751360"/>
                <a:chExt cx="7497720" cy="6494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257" name=""/>
                    <p:cNvSpPr txBox="1"/>
                    <p:nvPr/>
                  </p:nvSpPr>
                  <p:spPr>
                    <a:xfrm>
                      <a:off x="2971800" y="5797440"/>
                      <a:ext cx="2051280" cy="603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若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0</m:t>
                              </m:r>
                            </m:e>
                            <m:sub>
                              <m:sSup>
                                <m:e/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258" name=""/>
                <p:cNvSpPr/>
                <p:nvPr/>
              </p:nvSpPr>
              <p:spPr>
                <a:xfrm>
                  <a:off x="1036800" y="5751360"/>
                  <a:ext cx="74977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其值等于</a:t>
                  </a: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,                       ,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电感元件视为开路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9" name=""/>
              <p:cNvSpPr/>
              <p:nvPr/>
            </p:nvSpPr>
            <p:spPr>
              <a:xfrm>
                <a:off x="1267920" y="5257800"/>
                <a:ext cx="590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(2)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若             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电感元件用恒流源代替 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0" name=""/>
          <p:cNvSpPr/>
          <p:nvPr/>
        </p:nvSpPr>
        <p:spPr>
          <a:xfrm>
            <a:off x="476280" y="3048120"/>
            <a:ext cx="1504800" cy="685800"/>
          </a:xfrm>
          <a:prstGeom prst="cloudCallout">
            <a:avLst>
              <a:gd name="adj1" fmla="val 53689"/>
              <a:gd name="adj2" fmla="val 50462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899640" y="422280"/>
            <a:ext cx="3166200" cy="568440"/>
            <a:chOff x="899640" y="422280"/>
            <a:chExt cx="3166200" cy="568440"/>
          </a:xfrm>
        </p:grpSpPr>
        <mc:AlternateContent>
          <mc:Choice xmlns:a14="http://schemas.microsoft.com/office/drawing/2010/main" Requires="a14">
            <p:sp>
              <p:nvSpPr>
                <p:cNvPr id="2262" name=""/>
                <p:cNvSpPr txBox="1"/>
                <p:nvPr/>
              </p:nvSpPr>
              <p:spPr>
                <a:xfrm>
                  <a:off x="2062440" y="431640"/>
                  <a:ext cx="10015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3" name=""/>
            <p:cNvSpPr/>
            <p:nvPr/>
          </p:nvSpPr>
          <p:spPr>
            <a:xfrm>
              <a:off x="899640" y="422280"/>
              <a:ext cx="316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(2)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初始值           的计算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/>
          <p:nvPr/>
        </p:nvSpPr>
        <p:spPr>
          <a:xfrm>
            <a:off x="685800" y="4255920"/>
            <a:ext cx="678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简单的一阶电路 ，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200400" y="2320920"/>
                <a:ext cx="1523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6" name=""/>
          <p:cNvSpPr/>
          <p:nvPr/>
        </p:nvSpPr>
        <p:spPr>
          <a:xfrm>
            <a:off x="457200" y="4835520"/>
            <a:ext cx="86868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较复杂的一阶电路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换路后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去电源和储能元件后，在储能元件两端所求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源二端网络的等效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070280" y="1447920"/>
            <a:ext cx="25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间常数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267200" y="19810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对于一阶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296360" y="283356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对于一阶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3200400" y="3070080"/>
                <a:ext cx="13111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1" name=""/>
          <p:cNvSpPr/>
          <p:nvPr/>
        </p:nvSpPr>
        <p:spPr>
          <a:xfrm>
            <a:off x="762120" y="3352680"/>
            <a:ext cx="1504800" cy="609840"/>
          </a:xfrm>
          <a:prstGeom prst="cloudCallout">
            <a:avLst>
              <a:gd name="adj1" fmla="val 39768"/>
              <a:gd name="adj2" fmla="val 116148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1002960" y="457200"/>
            <a:ext cx="5862960" cy="1078560"/>
            <a:chOff x="1002960" y="457200"/>
            <a:chExt cx="5862960" cy="1078560"/>
          </a:xfrm>
        </p:grpSpPr>
        <p:sp>
          <p:nvSpPr>
            <p:cNvPr id="2273" name=""/>
            <p:cNvSpPr/>
            <p:nvPr/>
          </p:nvSpPr>
          <p:spPr>
            <a:xfrm>
              <a:off x="1002960" y="457200"/>
              <a:ext cx="555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不画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(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等效电路，则在所列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208520" y="956160"/>
              <a:ext cx="565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的方程中应有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 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 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>
            <a:off x="4267080" y="1724040"/>
            <a:ext cx="609840" cy="333360"/>
          </a:xfrm>
          <a:custGeom>
            <a:avLst/>
            <a:gdLst>
              <a:gd name="textAreaLeft" fmla="*/ 75960 w 609840"/>
              <a:gd name="textAreaRight" fmla="*/ 533880 w 6098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6" name=""/>
          <p:cNvGrpSpPr/>
          <p:nvPr/>
        </p:nvGrpSpPr>
        <p:grpSpPr>
          <a:xfrm>
            <a:off x="7848720" y="1981080"/>
            <a:ext cx="979920" cy="579600"/>
            <a:chOff x="7848720" y="1981080"/>
            <a:chExt cx="979920" cy="579600"/>
          </a:xfrm>
        </p:grpSpPr>
        <p:sp>
          <p:nvSpPr>
            <p:cNvPr id="2277" name=""/>
            <p:cNvSpPr/>
            <p:nvPr/>
          </p:nvSpPr>
          <p:spPr>
            <a:xfrm flipH="1">
              <a:off x="7848720" y="2133360"/>
              <a:ext cx="457200" cy="304920"/>
            </a:xfrm>
            <a:custGeom>
              <a:avLst/>
              <a:gdLst>
                <a:gd name="textAreaLeft" fmla="*/ 56880 w 457200"/>
                <a:gd name="textAreaRight" fmla="*/ 400320 w 4572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308080" y="1981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105520" y="2971800"/>
                <a:ext cx="2895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80" name=""/>
          <p:cNvSpPr/>
          <p:nvPr/>
        </p:nvSpPr>
        <p:spPr>
          <a:xfrm rot="5400000">
            <a:off x="1885680" y="2995560"/>
            <a:ext cx="609480" cy="333360"/>
          </a:xfrm>
          <a:custGeom>
            <a:avLst/>
            <a:gdLst>
              <a:gd name="textAreaLeft" fmla="*/ 75960 w 609480"/>
              <a:gd name="textAreaRight" fmla="*/ 533520 w 60948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819000" y="3505320"/>
            <a:ext cx="2687400" cy="2132640"/>
            <a:chOff x="819000" y="3505320"/>
            <a:chExt cx="2687400" cy="2132640"/>
          </a:xfrm>
        </p:grpSpPr>
        <p:grpSp>
          <p:nvGrpSpPr>
            <p:cNvPr id="2282" name=""/>
            <p:cNvGrpSpPr/>
            <p:nvPr/>
          </p:nvGrpSpPr>
          <p:grpSpPr>
            <a:xfrm>
              <a:off x="819000" y="4041720"/>
              <a:ext cx="2687400" cy="1596240"/>
              <a:chOff x="819000" y="4041720"/>
              <a:chExt cx="2687400" cy="1596240"/>
            </a:xfrm>
          </p:grpSpPr>
          <p:sp>
            <p:nvSpPr>
              <p:cNvPr id="2283" name=""/>
              <p:cNvSpPr/>
              <p:nvPr/>
            </p:nvSpPr>
            <p:spPr>
              <a:xfrm>
                <a:off x="1256040" y="4633560"/>
                <a:ext cx="5446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19000" y="4671360"/>
                <a:ext cx="411120" cy="426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023840" y="4131720"/>
                <a:ext cx="0" cy="150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000800" y="4284360"/>
                <a:ext cx="358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000800" y="4909680"/>
                <a:ext cx="32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033200" y="41414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947600" y="4041720"/>
                <a:ext cx="482760" cy="175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078000" y="4790520"/>
                <a:ext cx="42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078000" y="4979520"/>
                <a:ext cx="42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V="1">
                <a:off x="3292200" y="4131360"/>
                <a:ext cx="0" cy="65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V="1">
                <a:off x="3292200" y="4979160"/>
                <a:ext cx="0" cy="65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033200" y="5625720"/>
                <a:ext cx="228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635200" y="45586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404800" y="41414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033200" y="41414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8" name=""/>
            <p:cNvSpPr/>
            <p:nvPr/>
          </p:nvSpPr>
          <p:spPr>
            <a:xfrm>
              <a:off x="1958040" y="3505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9" name=""/>
          <p:cNvSpPr/>
          <p:nvPr/>
        </p:nvSpPr>
        <p:spPr>
          <a:xfrm>
            <a:off x="4191120" y="4035600"/>
            <a:ext cx="43434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计算类似于应用戴维宁定理解题时计算电路等效电阻的方法。即从储能元件两端看进去的等效电阻，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5638680" y="3505320"/>
                <a:ext cx="15242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1" name=""/>
          <p:cNvGrpSpPr/>
          <p:nvPr/>
        </p:nvGrpSpPr>
        <p:grpSpPr>
          <a:xfrm>
            <a:off x="781200" y="457200"/>
            <a:ext cx="3257280" cy="2255400"/>
            <a:chOff x="781200" y="457200"/>
            <a:chExt cx="3257280" cy="2255400"/>
          </a:xfrm>
        </p:grpSpPr>
        <p:sp>
          <p:nvSpPr>
            <p:cNvPr id="2302" name=""/>
            <p:cNvSpPr/>
            <p:nvPr/>
          </p:nvSpPr>
          <p:spPr>
            <a:xfrm>
              <a:off x="2038320" y="45720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154160" y="1601640"/>
              <a:ext cx="441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81200" y="1657440"/>
              <a:ext cx="428400" cy="446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96840" y="1090440"/>
              <a:ext cx="0" cy="15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72360" y="12524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72360" y="1903320"/>
              <a:ext cx="32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514600" y="1100160"/>
              <a:ext cx="13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591000" y="2170080"/>
              <a:ext cx="44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586320" y="2365200"/>
              <a:ext cx="44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3816360" y="1090080"/>
              <a:ext cx="0" cy="3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 flipV="1">
              <a:off x="3809880" y="2324160"/>
              <a:ext cx="648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06560" y="2647800"/>
              <a:ext cx="28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874960" y="1100160"/>
              <a:ext cx="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4480" y="1100160"/>
              <a:ext cx="4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 flipV="1">
              <a:off x="1401840" y="946080"/>
              <a:ext cx="42696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61840" y="571680"/>
              <a:ext cx="6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238560" y="1994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209680" y="14097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733920" y="1409760"/>
              <a:ext cx="190440" cy="43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3827520" y="1866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781360" y="1638360"/>
              <a:ext cx="190440" cy="43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884320" y="2095560"/>
              <a:ext cx="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200400" y="11811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5400000">
              <a:off x="2199240" y="866160"/>
              <a:ext cx="190440" cy="43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828800" y="1104840"/>
              <a:ext cx="23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>
              <a:off x="1447920" y="106668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526040" y="64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2819520" y="106668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2819520" y="259020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5105520" y="457200"/>
            <a:ext cx="2762280" cy="2286000"/>
            <a:chOff x="5105520" y="457200"/>
            <a:chExt cx="2762280" cy="2286000"/>
          </a:xfrm>
        </p:grpSpPr>
        <p:grpSp>
          <p:nvGrpSpPr>
            <p:cNvPr id="2332" name=""/>
            <p:cNvGrpSpPr/>
            <p:nvPr/>
          </p:nvGrpSpPr>
          <p:grpSpPr>
            <a:xfrm>
              <a:off x="5105520" y="457200"/>
              <a:ext cx="2762280" cy="2262240"/>
              <a:chOff x="5105520" y="457200"/>
              <a:chExt cx="2762280" cy="2262240"/>
            </a:xfrm>
          </p:grpSpPr>
          <p:sp>
            <p:nvSpPr>
              <p:cNvPr id="2333" name=""/>
              <p:cNvSpPr/>
              <p:nvPr/>
            </p:nvSpPr>
            <p:spPr>
              <a:xfrm>
                <a:off x="5564880" y="4572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4" name=""/>
              <p:cNvGrpSpPr/>
              <p:nvPr/>
            </p:nvGrpSpPr>
            <p:grpSpPr>
              <a:xfrm>
                <a:off x="5105520" y="1028880"/>
                <a:ext cx="2762280" cy="1690560"/>
                <a:chOff x="5105520" y="1028880"/>
                <a:chExt cx="2762280" cy="1690560"/>
              </a:xfrm>
            </p:grpSpPr>
            <p:sp>
              <p:nvSpPr>
                <p:cNvPr id="2335" name=""/>
                <p:cNvSpPr/>
                <p:nvPr/>
              </p:nvSpPr>
              <p:spPr>
                <a:xfrm>
                  <a:off x="5105520" y="1143000"/>
                  <a:ext cx="0" cy="157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6019920" y="1138320"/>
                  <a:ext cx="1758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flipV="1">
                  <a:off x="7759800" y="1128240"/>
                  <a:ext cx="0" cy="24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H="1" flipV="1">
                  <a:off x="7756200" y="2514240"/>
                  <a:ext cx="3240" cy="19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105520" y="2685960"/>
                  <a:ext cx="2651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6608880" y="1138320"/>
                  <a:ext cx="0" cy="53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105520" y="11383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943600" y="1538280"/>
                  <a:ext cx="762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7677000" y="1371600"/>
                  <a:ext cx="190800" cy="439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V="1">
                  <a:off x="7770960" y="18284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6515280" y="1676520"/>
                  <a:ext cx="190440" cy="439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6618240" y="2133720"/>
                  <a:ext cx="0" cy="53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>
                  <a:off x="7085880" y="1309680"/>
                  <a:ext cx="762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rot="5400000">
                  <a:off x="5686920" y="904320"/>
                  <a:ext cx="190440" cy="439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7696080" y="2043000"/>
                  <a:ext cx="90720" cy="90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7716960" y="2438280"/>
                  <a:ext cx="90360" cy="90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51" name=""/>
            <p:cNvSpPr/>
            <p:nvPr/>
          </p:nvSpPr>
          <p:spPr>
            <a:xfrm flipV="1">
              <a:off x="6553080" y="106668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V="1">
              <a:off x="6553080" y="26208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6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换路定则与电压和电流初始值的确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路中产生暂态过程的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5105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电压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例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119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：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1354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638320"/>
            <a:ext cx="8229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以电阻电路不存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暂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过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耗能元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10200" y="3962520"/>
            <a:ext cx="6019200" cy="1171440"/>
            <a:chOff x="610200" y="3962520"/>
            <a:chExt cx="6019200" cy="1171440"/>
          </a:xfrm>
        </p:grpSpPr>
        <p:sp>
          <p:nvSpPr>
            <p:cNvPr id="128" name=""/>
            <p:cNvSpPr/>
            <p:nvPr/>
          </p:nvSpPr>
          <p:spPr>
            <a:xfrm>
              <a:off x="610200" y="3962520"/>
              <a:ext cx="16466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前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252520" y="4486320"/>
                  <a:ext cx="43768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533520" y="1676520"/>
            <a:ext cx="17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6280" y="2133720"/>
            <a:ext cx="2467800" cy="1730160"/>
            <a:chOff x="5336280" y="2133720"/>
            <a:chExt cx="2467800" cy="1730160"/>
          </a:xfrm>
        </p:grpSpPr>
        <p:sp>
          <p:nvSpPr>
            <p:cNvPr id="132" name=""/>
            <p:cNvSpPr/>
            <p:nvPr/>
          </p:nvSpPr>
          <p:spPr>
            <a:xfrm>
              <a:off x="5719680" y="335268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715000" y="236196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8240" y="2819520"/>
              <a:ext cx="1752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10680" y="3276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16520" y="213372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6280" y="3098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33447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221480" y="1675440"/>
            <a:ext cx="3874320" cy="2548080"/>
            <a:chOff x="1221480" y="1675440"/>
            <a:chExt cx="3874320" cy="2548080"/>
          </a:xfrm>
        </p:grpSpPr>
        <p:grpSp>
          <p:nvGrpSpPr>
            <p:cNvPr id="140" name=""/>
            <p:cNvGrpSpPr/>
            <p:nvPr/>
          </p:nvGrpSpPr>
          <p:grpSpPr>
            <a:xfrm>
              <a:off x="1221480" y="1675440"/>
              <a:ext cx="3874320" cy="2548080"/>
              <a:chOff x="1221480" y="1675440"/>
              <a:chExt cx="3874320" cy="2548080"/>
            </a:xfrm>
          </p:grpSpPr>
          <p:sp>
            <p:nvSpPr>
              <p:cNvPr id="141" name=""/>
              <p:cNvSpPr/>
              <p:nvPr/>
            </p:nvSpPr>
            <p:spPr>
              <a:xfrm>
                <a:off x="2877840" y="370296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(a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170080" y="2271600"/>
                <a:ext cx="95400" cy="109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2228760" y="2026800"/>
                <a:ext cx="43668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71960" y="1675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78320" y="2332080"/>
                <a:ext cx="1017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657160" y="2332080"/>
                <a:ext cx="37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87680" y="2790720"/>
                <a:ext cx="377640" cy="436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76320" y="2332080"/>
                <a:ext cx="0" cy="141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11280" y="2459880"/>
                <a:ext cx="3794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21480" y="27424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52560" y="2340000"/>
                <a:ext cx="317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19600" y="3233880"/>
                <a:ext cx="0" cy="50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3819600" y="2313000"/>
                <a:ext cx="0" cy="44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22600" y="2798640"/>
                <a:ext cx="177840" cy="43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13320" y="3232080"/>
                <a:ext cx="0" cy="50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4513320" y="2317680"/>
                <a:ext cx="0" cy="47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74880" y="3733920"/>
                <a:ext cx="2631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39120" y="27169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8680" y="27169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72000" y="2586240"/>
                <a:ext cx="523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0920" y="213372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2" name=""/>
              <p:cNvCxnSpPr/>
              <p:nvPr/>
            </p:nvCxnSpPr>
            <p:spPr>
              <a:xfrm>
                <a:off x="2158560" y="2053800"/>
                <a:ext cx="376920" cy="423000"/>
              </a:xfrm>
              <a:prstGeom prst="curvedConnector5">
                <a:avLst>
                  <a:gd name="adj1" fmla="val 87476"/>
                  <a:gd name="adj2" fmla="val 50000"/>
                  <a:gd name="adj3" fmla="val 87476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 rot="10800000">
                    <a:off x="2743200" y="1717560"/>
                    <a:ext cx="236520" cy="416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"/>
              <p:cNvSpPr/>
              <p:nvPr/>
            </p:nvSpPr>
            <p:spPr>
              <a:xfrm>
                <a:off x="4643640" y="23623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11320" y="300204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33920" y="2778120"/>
                <a:ext cx="177840" cy="43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 rot="16200000">
                <a:off x="3177360" y="2115360"/>
                <a:ext cx="177840" cy="436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V="1">
              <a:off x="3733920" y="36576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733920" y="223992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302760" y="762120"/>
            <a:ext cx="129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380880" y="3900600"/>
            <a:ext cx="4114800" cy="520560"/>
            <a:chOff x="380880" y="3900600"/>
            <a:chExt cx="4114800" cy="520560"/>
          </a:xfrm>
        </p:grpSpPr>
        <p:sp>
          <p:nvSpPr>
            <p:cNvPr id="2355" name=""/>
            <p:cNvSpPr/>
            <p:nvPr/>
          </p:nvSpPr>
          <p:spPr>
            <a:xfrm>
              <a:off x="380880" y="3900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218960" y="390060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用三要素法求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7" name=""/>
              <p:cNvSpPr txBox="1"/>
              <p:nvPr/>
            </p:nvSpPr>
            <p:spPr>
              <a:xfrm>
                <a:off x="1328760" y="3846600"/>
                <a:ext cx="65959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58" name=""/>
          <p:cNvGrpSpPr/>
          <p:nvPr/>
        </p:nvGrpSpPr>
        <p:grpSpPr>
          <a:xfrm>
            <a:off x="1066680" y="806400"/>
            <a:ext cx="8077320" cy="1022400"/>
            <a:chOff x="1066680" y="806400"/>
            <a:chExt cx="8077320" cy="1022400"/>
          </a:xfrm>
        </p:grpSpPr>
        <mc:AlternateContent>
          <mc:Choice xmlns:a14="http://schemas.microsoft.com/office/drawing/2010/main" Requires="a14">
            <p:sp>
              <p:nvSpPr>
                <p:cNvPr id="2359" name=""/>
                <p:cNvSpPr txBox="1"/>
                <p:nvPr/>
              </p:nvSpPr>
              <p:spPr>
                <a:xfrm>
                  <a:off x="4349880" y="1143000"/>
                  <a:ext cx="5270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0" name=""/>
                <p:cNvSpPr txBox="1"/>
                <p:nvPr/>
              </p:nvSpPr>
              <p:spPr>
                <a:xfrm>
                  <a:off x="6456240" y="1219320"/>
                  <a:ext cx="435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1" name=""/>
                <p:cNvSpPr txBox="1"/>
                <p:nvPr/>
              </p:nvSpPr>
              <p:spPr>
                <a:xfrm>
                  <a:off x="5918040" y="1219320"/>
                  <a:ext cx="343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62" name=""/>
            <p:cNvSpPr/>
            <p:nvPr/>
          </p:nvSpPr>
          <p:spPr>
            <a:xfrm>
              <a:off x="1066680" y="806400"/>
              <a:ext cx="80773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路如图，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合上开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前电路已处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稳态。试求电容电压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和电流    、  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1152360" y="4929120"/>
            <a:ext cx="3633840" cy="606240"/>
            <a:chOff x="1152360" y="4929120"/>
            <a:chExt cx="3633840" cy="606240"/>
          </a:xfrm>
        </p:grpSpPr>
        <p:sp>
          <p:nvSpPr>
            <p:cNvPr id="2364" name=""/>
            <p:cNvSpPr/>
            <p:nvPr/>
          </p:nvSpPr>
          <p:spPr>
            <a:xfrm>
              <a:off x="1152360" y="4929120"/>
              <a:ext cx="33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1)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5" name=""/>
                <p:cNvSpPr txBox="1"/>
                <p:nvPr/>
              </p:nvSpPr>
              <p:spPr>
                <a:xfrm>
                  <a:off x="3557520" y="4935240"/>
                  <a:ext cx="1228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6" name=""/>
          <p:cNvGrpSpPr/>
          <p:nvPr/>
        </p:nvGrpSpPr>
        <p:grpSpPr>
          <a:xfrm>
            <a:off x="1171440" y="5310360"/>
            <a:ext cx="7820280" cy="654120"/>
            <a:chOff x="1171440" y="5310360"/>
            <a:chExt cx="7820280" cy="654120"/>
          </a:xfrm>
        </p:grpSpPr>
        <p:sp>
          <p:nvSpPr>
            <p:cNvPr id="2367" name=""/>
            <p:cNvSpPr/>
            <p:nvPr/>
          </p:nvSpPr>
          <p:spPr>
            <a:xfrm>
              <a:off x="1171440" y="5384880"/>
              <a:ext cx="411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路可求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8" name=""/>
                <p:cNvSpPr txBox="1"/>
                <p:nvPr/>
              </p:nvSpPr>
              <p:spPr>
                <a:xfrm>
                  <a:off x="4022640" y="5310360"/>
                  <a:ext cx="496908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9" name=""/>
          <p:cNvGrpSpPr/>
          <p:nvPr/>
        </p:nvGrpSpPr>
        <p:grpSpPr>
          <a:xfrm>
            <a:off x="1143000" y="5815080"/>
            <a:ext cx="5839920" cy="585720"/>
            <a:chOff x="1143000" y="5815080"/>
            <a:chExt cx="5839920" cy="585720"/>
          </a:xfrm>
        </p:grpSpPr>
        <p:sp>
          <p:nvSpPr>
            <p:cNvPr id="2370" name=""/>
            <p:cNvSpPr/>
            <p:nvPr/>
          </p:nvSpPr>
          <p:spPr>
            <a:xfrm>
              <a:off x="1143000" y="5815080"/>
              <a:ext cx="22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换路定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1" name=""/>
                <p:cNvSpPr txBox="1"/>
                <p:nvPr/>
              </p:nvSpPr>
              <p:spPr>
                <a:xfrm>
                  <a:off x="3151080" y="5815080"/>
                  <a:ext cx="383184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72" name=""/>
          <p:cNvSpPr/>
          <p:nvPr/>
        </p:nvSpPr>
        <p:spPr>
          <a:xfrm>
            <a:off x="3796560" y="225360"/>
            <a:ext cx="127800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应用举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5334120" y="1905120"/>
            <a:ext cx="3200400" cy="2243160"/>
            <a:chOff x="5334120" y="1905120"/>
            <a:chExt cx="3200400" cy="2243160"/>
          </a:xfrm>
        </p:grpSpPr>
        <p:sp>
          <p:nvSpPr>
            <p:cNvPr id="2374" name=""/>
            <p:cNvSpPr/>
            <p:nvPr/>
          </p:nvSpPr>
          <p:spPr>
            <a:xfrm>
              <a:off x="6553080" y="3568680"/>
              <a:ext cx="198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5" name=""/>
                <p:cNvSpPr txBox="1"/>
                <p:nvPr/>
              </p:nvSpPr>
              <p:spPr>
                <a:xfrm>
                  <a:off x="7442280" y="2590920"/>
                  <a:ext cx="9666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6" name=""/>
            <p:cNvSpPr/>
            <p:nvPr/>
          </p:nvSpPr>
          <p:spPr>
            <a:xfrm flipV="1">
              <a:off x="6165720" y="2631240"/>
              <a:ext cx="360360" cy="35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165720" y="28116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346800" y="299088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346800" y="200340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286760" y="2585880"/>
              <a:ext cx="18072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377120" y="29894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7377120" y="1991880"/>
              <a:ext cx="0" cy="61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447040" y="1992240"/>
              <a:ext cx="0" cy="71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447040" y="3019320"/>
              <a:ext cx="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6097680" y="2295000"/>
              <a:ext cx="0" cy="77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34120" y="2607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323040" y="1981080"/>
              <a:ext cx="213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323040" y="3619440"/>
              <a:ext cx="213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12240" y="2260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16560" y="26640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553080" y="2683440"/>
              <a:ext cx="9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625080" y="2379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381880" y="271476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381880" y="294336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315200" y="35496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V="1">
              <a:off x="7315200" y="19051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380880" y="1661400"/>
            <a:ext cx="4800600" cy="2148480"/>
            <a:chOff x="380880" y="1661400"/>
            <a:chExt cx="4800600" cy="2148480"/>
          </a:xfrm>
        </p:grpSpPr>
        <p:sp>
          <p:nvSpPr>
            <p:cNvPr id="2398" name=""/>
            <p:cNvSpPr/>
            <p:nvPr/>
          </p:nvSpPr>
          <p:spPr>
            <a:xfrm flipH="1">
              <a:off x="3276000" y="167544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1212840" y="2766240"/>
              <a:ext cx="360360" cy="35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212840" y="29462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393920" y="312588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393920" y="213840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4920" y="2720880"/>
              <a:ext cx="18108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95640" y="31240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2195640" y="2126880"/>
              <a:ext cx="0" cy="61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855880" y="28224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855880" y="29574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036960" y="2127240"/>
              <a:ext cx="0" cy="71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36960" y="2979720"/>
              <a:ext cx="0" cy="7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297320" y="320040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V="1">
              <a:off x="4297320" y="2093400"/>
              <a:ext cx="0" cy="62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144440" y="2430000"/>
              <a:ext cx="0" cy="77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80880" y="2742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528920" y="2970720"/>
              <a:ext cx="9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160800" y="2848320"/>
              <a:ext cx="8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170160" y="2216160"/>
              <a:ext cx="0" cy="4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370160" y="2116080"/>
              <a:ext cx="202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H="1">
              <a:off x="3834720" y="2071800"/>
              <a:ext cx="9036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3452760" y="2158920"/>
              <a:ext cx="41760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936960" y="211608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370160" y="3754440"/>
              <a:ext cx="29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343400" y="2665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21160" y="2195640"/>
              <a:ext cx="0" cy="47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38600" y="166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5" name=""/>
                <p:cNvSpPr txBox="1"/>
                <p:nvPr/>
              </p:nvSpPr>
              <p:spPr>
                <a:xfrm>
                  <a:off x="3191040" y="2135160"/>
                  <a:ext cx="42696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6" name=""/>
                <p:cNvSpPr txBox="1"/>
                <p:nvPr/>
              </p:nvSpPr>
              <p:spPr>
                <a:xfrm>
                  <a:off x="4419720" y="2057400"/>
                  <a:ext cx="36036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7" name=""/>
                <p:cNvSpPr txBox="1"/>
                <p:nvPr/>
              </p:nvSpPr>
              <p:spPr>
                <a:xfrm>
                  <a:off x="2368440" y="2514600"/>
                  <a:ext cx="5270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28" name=""/>
            <p:cNvSpPr/>
            <p:nvPr/>
          </p:nvSpPr>
          <p:spPr>
            <a:xfrm>
              <a:off x="2702160" y="2395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706480" y="27986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2200" y="259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191120" y="2743200"/>
              <a:ext cx="18072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526040" y="2590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2133720" y="37018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2133720" y="20574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2971800" y="20574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V="1">
              <a:off x="2971800" y="37018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 flipV="1">
              <a:off x="3352320" y="1981080"/>
              <a:ext cx="42732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8" name=""/>
          <p:cNvGrpSpPr/>
          <p:nvPr/>
        </p:nvGrpSpPr>
        <p:grpSpPr>
          <a:xfrm>
            <a:off x="609480" y="609480"/>
            <a:ext cx="3657600" cy="609840"/>
            <a:chOff x="609480" y="609480"/>
            <a:chExt cx="3657600" cy="609840"/>
          </a:xfrm>
        </p:grpSpPr>
        <p:sp>
          <p:nvSpPr>
            <p:cNvPr id="2439" name=""/>
            <p:cNvSpPr/>
            <p:nvPr/>
          </p:nvSpPr>
          <p:spPr>
            <a:xfrm>
              <a:off x="609480" y="61452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2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稳态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0" name=""/>
                <p:cNvSpPr txBox="1"/>
                <p:nvPr/>
              </p:nvSpPr>
              <p:spPr>
                <a:xfrm>
                  <a:off x="3065400" y="609480"/>
                  <a:ext cx="1201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1" name=""/>
          <p:cNvGrpSpPr/>
          <p:nvPr/>
        </p:nvGrpSpPr>
        <p:grpSpPr>
          <a:xfrm>
            <a:off x="609480" y="1066680"/>
            <a:ext cx="4800600" cy="576360"/>
            <a:chOff x="609480" y="1066680"/>
            <a:chExt cx="4800600" cy="576360"/>
          </a:xfrm>
        </p:grpSpPr>
        <p:sp>
          <p:nvSpPr>
            <p:cNvPr id="2442" name=""/>
            <p:cNvSpPr/>
            <p:nvPr/>
          </p:nvSpPr>
          <p:spPr>
            <a:xfrm>
              <a:off x="609480" y="1066680"/>
              <a:ext cx="447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换路后电路求稳态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3" name=""/>
                <p:cNvSpPr txBox="1"/>
                <p:nvPr/>
              </p:nvSpPr>
              <p:spPr>
                <a:xfrm>
                  <a:off x="4267080" y="1066680"/>
                  <a:ext cx="11430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762120" y="1523880"/>
                <a:ext cx="45385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5" name=""/>
          <p:cNvSpPr/>
          <p:nvPr/>
        </p:nvSpPr>
        <p:spPr>
          <a:xfrm>
            <a:off x="685800" y="2895480"/>
            <a:ext cx="3657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换路后电路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间常数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1600200" y="3962520"/>
                <a:ext cx="396252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7" name=""/>
          <p:cNvGrpSpPr/>
          <p:nvPr/>
        </p:nvGrpSpPr>
        <p:grpSpPr>
          <a:xfrm>
            <a:off x="4648320" y="3016080"/>
            <a:ext cx="4419360" cy="2243160"/>
            <a:chOff x="4648320" y="3016080"/>
            <a:chExt cx="4419360" cy="2243160"/>
          </a:xfrm>
        </p:grpSpPr>
        <mc:AlternateContent>
          <mc:Choice xmlns:a14="http://schemas.microsoft.com/office/drawing/2010/main" Requires="a14">
            <p:sp>
              <p:nvSpPr>
                <p:cNvPr id="2448" name=""/>
                <p:cNvSpPr txBox="1"/>
                <p:nvPr/>
              </p:nvSpPr>
              <p:spPr>
                <a:xfrm>
                  <a:off x="6726240" y="3716280"/>
                  <a:ext cx="8431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49" name=""/>
            <p:cNvGrpSpPr/>
            <p:nvPr/>
          </p:nvGrpSpPr>
          <p:grpSpPr>
            <a:xfrm>
              <a:off x="6629400" y="4723200"/>
              <a:ext cx="1981080" cy="536040"/>
              <a:chOff x="6629400" y="4723200"/>
              <a:chExt cx="1981080" cy="536040"/>
            </a:xfrm>
          </p:grpSpPr>
          <p:sp>
            <p:nvSpPr>
              <p:cNvPr id="2450" name=""/>
              <p:cNvSpPr/>
              <p:nvPr/>
            </p:nvSpPr>
            <p:spPr>
              <a:xfrm>
                <a:off x="6629400" y="4723200"/>
                <a:ext cx="10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幼圆"/>
                  </a:rPr>
                  <a:t>∞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629400" y="47995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2" name=""/>
            <p:cNvSpPr/>
            <p:nvPr/>
          </p:nvSpPr>
          <p:spPr>
            <a:xfrm flipV="1">
              <a:off x="5479920" y="3728160"/>
              <a:ext cx="360360" cy="35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479920" y="39085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661000" y="408780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661000" y="310032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6" name=""/>
            <p:cNvGrpSpPr/>
            <p:nvPr/>
          </p:nvGrpSpPr>
          <p:grpSpPr>
            <a:xfrm>
              <a:off x="6524640" y="3088800"/>
              <a:ext cx="181080" cy="1616400"/>
              <a:chOff x="6524640" y="3088800"/>
              <a:chExt cx="181080" cy="1616400"/>
            </a:xfrm>
          </p:grpSpPr>
          <p:sp>
            <p:nvSpPr>
              <p:cNvPr id="2457" name=""/>
              <p:cNvSpPr/>
              <p:nvPr/>
            </p:nvSpPr>
            <p:spPr>
              <a:xfrm>
                <a:off x="6524640" y="3682800"/>
                <a:ext cx="181080" cy="39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615360" y="4086000"/>
                <a:ext cx="0" cy="61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6615360" y="3088800"/>
                <a:ext cx="0" cy="61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0" name=""/>
            <p:cNvSpPr/>
            <p:nvPr/>
          </p:nvSpPr>
          <p:spPr>
            <a:xfrm>
              <a:off x="7728120" y="3089160"/>
              <a:ext cx="0" cy="64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728120" y="4114800"/>
              <a:ext cx="0" cy="60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5411880" y="3392640"/>
              <a:ext cx="0" cy="769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648320" y="3704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9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637240" y="3078000"/>
              <a:ext cx="297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37240" y="4716360"/>
              <a:ext cx="297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317000" y="3365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397280" y="38401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791320" y="3780360"/>
              <a:ext cx="9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862960" y="34765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534520" y="3635280"/>
              <a:ext cx="18072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624880" y="40384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8624880" y="3047760"/>
              <a:ext cx="0" cy="61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528040" y="3591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696080" y="40384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696080" y="373392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850880" y="358128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7667640" y="46476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6553080" y="3016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6553080" y="46483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7664400" y="3016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5334120" y="533520"/>
            <a:ext cx="3200400" cy="2207880"/>
            <a:chOff x="5334120" y="533520"/>
            <a:chExt cx="3200400" cy="2207880"/>
          </a:xfrm>
        </p:grpSpPr>
        <p:sp>
          <p:nvSpPr>
            <p:cNvPr id="2482" name=""/>
            <p:cNvSpPr/>
            <p:nvPr/>
          </p:nvSpPr>
          <p:spPr>
            <a:xfrm>
              <a:off x="6553080" y="2231280"/>
              <a:ext cx="198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3" name=""/>
                <p:cNvSpPr txBox="1"/>
                <p:nvPr/>
              </p:nvSpPr>
              <p:spPr>
                <a:xfrm>
                  <a:off x="7442280" y="1236600"/>
                  <a:ext cx="9666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4" name=""/>
            <p:cNvSpPr/>
            <p:nvPr/>
          </p:nvSpPr>
          <p:spPr>
            <a:xfrm flipV="1">
              <a:off x="6165720" y="1259640"/>
              <a:ext cx="360360" cy="35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165720" y="1440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346800" y="161928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346800" y="63180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286760" y="1214280"/>
              <a:ext cx="18072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377120" y="16178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7377120" y="620280"/>
              <a:ext cx="0" cy="61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447040" y="620640"/>
              <a:ext cx="0" cy="71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447040" y="1647720"/>
              <a:ext cx="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6097680" y="923400"/>
              <a:ext cx="0" cy="77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334120" y="1235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9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323040" y="609480"/>
              <a:ext cx="213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323040" y="2247840"/>
              <a:ext cx="213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112240" y="88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116560" y="12924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3080" y="1311840"/>
              <a:ext cx="9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625080" y="1008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381880" y="134316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381880" y="157176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7315200" y="2178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7315200" y="5335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5" name=""/>
          <p:cNvGrpSpPr/>
          <p:nvPr/>
        </p:nvGrpSpPr>
        <p:grpSpPr>
          <a:xfrm>
            <a:off x="533520" y="990720"/>
            <a:ext cx="4124160" cy="1643040"/>
            <a:chOff x="533520" y="990720"/>
            <a:chExt cx="4124160" cy="1643040"/>
          </a:xfrm>
        </p:grpSpPr>
        <p:sp>
          <p:nvSpPr>
            <p:cNvPr id="2506" name=""/>
            <p:cNvSpPr/>
            <p:nvPr/>
          </p:nvSpPr>
          <p:spPr>
            <a:xfrm>
              <a:off x="1809720" y="1312920"/>
              <a:ext cx="149400" cy="110484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28800 h 1104840"/>
                <a:gd name="textAreaBottom" fmla="*/ 10760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7" name=""/>
                <p:cNvSpPr txBox="1"/>
                <p:nvPr/>
              </p:nvSpPr>
              <p:spPr>
                <a:xfrm>
                  <a:off x="1971720" y="990720"/>
                  <a:ext cx="255924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8" name=""/>
                <p:cNvSpPr txBox="1"/>
                <p:nvPr/>
              </p:nvSpPr>
              <p:spPr>
                <a:xfrm>
                  <a:off x="2009880" y="1528920"/>
                  <a:ext cx="244620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9" name=""/>
                <p:cNvSpPr txBox="1"/>
                <p:nvPr/>
              </p:nvSpPr>
              <p:spPr>
                <a:xfrm>
                  <a:off x="2114640" y="2019600"/>
                  <a:ext cx="25430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10" name=""/>
            <p:cNvSpPr/>
            <p:nvPr/>
          </p:nvSpPr>
          <p:spPr>
            <a:xfrm>
              <a:off x="533520" y="1554480"/>
              <a:ext cx="14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要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663480" y="2411280"/>
                <a:ext cx="47466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1279440" y="4511520"/>
                <a:ext cx="6730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1685880" y="5443560"/>
                <a:ext cx="3192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0t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4" name=""/>
          <p:cNvSpPr/>
          <p:nvPr/>
        </p:nvSpPr>
        <p:spPr>
          <a:xfrm>
            <a:off x="1240560" y="4038480"/>
            <a:ext cx="21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变化曲线如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5" name="" descr=""/>
          <p:cNvPicPr/>
          <p:nvPr/>
        </p:nvPicPr>
        <p:blipFill>
          <a:blip r:embed="rId2"/>
          <a:stretch/>
        </p:blipFill>
        <p:spPr>
          <a:xfrm>
            <a:off x="7696080" y="5299200"/>
            <a:ext cx="838440" cy="1025280"/>
          </a:xfrm>
          <a:prstGeom prst="rect">
            <a:avLst/>
          </a:prstGeom>
          <a:ln w="0">
            <a:noFill/>
          </a:ln>
        </p:spPr>
      </p:pic>
      <p:grpSp>
        <p:nvGrpSpPr>
          <p:cNvPr id="2516" name=""/>
          <p:cNvGrpSpPr/>
          <p:nvPr/>
        </p:nvGrpSpPr>
        <p:grpSpPr>
          <a:xfrm>
            <a:off x="228600" y="152280"/>
            <a:ext cx="1752120" cy="1142640"/>
            <a:chOff x="228600" y="152280"/>
            <a:chExt cx="1752120" cy="1142640"/>
          </a:xfrm>
        </p:grpSpPr>
        <p:sp>
          <p:nvSpPr>
            <p:cNvPr id="2517" name=""/>
            <p:cNvSpPr/>
            <p:nvPr/>
          </p:nvSpPr>
          <p:spPr>
            <a:xfrm>
              <a:off x="228600" y="152280"/>
              <a:ext cx="876240" cy="1000080"/>
            </a:xfrm>
            <a:custGeom>
              <a:avLst/>
              <a:gdLst>
                <a:gd name="textAreaLeft" fmla="*/ 361080 w 876240"/>
                <a:gd name="textAreaRight" fmla="*/ 515160 w 876240"/>
                <a:gd name="textAreaTop" fmla="*/ 412200 h 1000080"/>
                <a:gd name="textAreaBottom" fmla="*/ 587880 h 10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250640" y="580680"/>
              <a:ext cx="730080" cy="714240"/>
            </a:xfrm>
            <a:custGeom>
              <a:avLst/>
              <a:gdLst>
                <a:gd name="textAreaLeft" fmla="*/ 300960 w 730080"/>
                <a:gd name="textAreaRight" fmla="*/ 429120 w 730080"/>
                <a:gd name="textAreaTop" fmla="*/ 294120 h 714240"/>
                <a:gd name="textAreaBottom" fmla="*/ 42012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9" name=""/>
          <p:cNvGrpSpPr/>
          <p:nvPr/>
        </p:nvGrpSpPr>
        <p:grpSpPr>
          <a:xfrm>
            <a:off x="5031000" y="304920"/>
            <a:ext cx="3963600" cy="3032280"/>
            <a:chOff x="5031000" y="304920"/>
            <a:chExt cx="3963600" cy="3032280"/>
          </a:xfrm>
        </p:grpSpPr>
        <p:grpSp>
          <p:nvGrpSpPr>
            <p:cNvPr id="2520" name=""/>
            <p:cNvGrpSpPr/>
            <p:nvPr/>
          </p:nvGrpSpPr>
          <p:grpSpPr>
            <a:xfrm>
              <a:off x="5031000" y="1935000"/>
              <a:ext cx="3614400" cy="520560"/>
              <a:chOff x="5031000" y="1935000"/>
              <a:chExt cx="3614400" cy="520560"/>
            </a:xfrm>
          </p:grpSpPr>
          <p:sp>
            <p:nvSpPr>
              <p:cNvPr id="2521" name=""/>
              <p:cNvSpPr/>
              <p:nvPr/>
            </p:nvSpPr>
            <p:spPr>
              <a:xfrm>
                <a:off x="5857920" y="2236680"/>
                <a:ext cx="2787480" cy="3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031000" y="1935000"/>
                <a:ext cx="79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8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3" name=""/>
            <p:cNvGrpSpPr/>
            <p:nvPr/>
          </p:nvGrpSpPr>
          <p:grpSpPr>
            <a:xfrm>
              <a:off x="5065920" y="792000"/>
              <a:ext cx="3433680" cy="1371600"/>
              <a:chOff x="5065920" y="792000"/>
              <a:chExt cx="3433680" cy="1371600"/>
            </a:xfrm>
          </p:grpSpPr>
          <p:sp>
            <p:nvSpPr>
              <p:cNvPr id="2524" name=""/>
              <p:cNvSpPr/>
              <p:nvPr/>
            </p:nvSpPr>
            <p:spPr>
              <a:xfrm flipV="1">
                <a:off x="5826240" y="1069560"/>
                <a:ext cx="2673360" cy="1093680"/>
              </a:xfrm>
              <a:custGeom>
                <a:avLst/>
                <a:gdLst/>
                <a:ahLst/>
                <a:rect l="l" t="t" r="r" b="b"/>
                <a:pathLst>
                  <a:path w="1968" h="912">
                    <a:moveTo>
                      <a:pt x="0" y="912"/>
                    </a:moveTo>
                    <a:cubicBezTo>
                      <a:pt x="172" y="652"/>
                      <a:pt x="344" y="392"/>
                      <a:pt x="672" y="240"/>
                    </a:cubicBezTo>
                    <a:cubicBezTo>
                      <a:pt x="1000" y="88"/>
                      <a:pt x="1484" y="44"/>
                      <a:pt x="1968" y="0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065920" y="792000"/>
                <a:ext cx="79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54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6" name=""/>
            <p:cNvSpPr/>
            <p:nvPr/>
          </p:nvSpPr>
          <p:spPr>
            <a:xfrm>
              <a:off x="6589440" y="2757600"/>
              <a:ext cx="145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变化曲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5826240" y="50976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701200" y="26431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9" name=""/>
                <p:cNvSpPr txBox="1"/>
                <p:nvPr/>
              </p:nvSpPr>
              <p:spPr>
                <a:xfrm>
                  <a:off x="5908680" y="304920"/>
                  <a:ext cx="5619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30" name=""/>
            <p:cNvSpPr/>
            <p:nvPr/>
          </p:nvSpPr>
          <p:spPr>
            <a:xfrm>
              <a:off x="5366160" y="2482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791320" y="274320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63400" y="2666880"/>
                <a:ext cx="4872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533" name=""/>
          <p:cNvGrpSpPr/>
          <p:nvPr/>
        </p:nvGrpSpPr>
        <p:grpSpPr>
          <a:xfrm>
            <a:off x="304920" y="304920"/>
            <a:ext cx="3124080" cy="559800"/>
            <a:chOff x="304920" y="304920"/>
            <a:chExt cx="3124080" cy="559800"/>
          </a:xfrm>
        </p:grpSpPr>
        <p:sp>
          <p:nvSpPr>
            <p:cNvPr id="2534" name=""/>
            <p:cNvSpPr/>
            <p:nvPr/>
          </p:nvSpPr>
          <p:spPr>
            <a:xfrm>
              <a:off x="304920" y="304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用三要素法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5" name=""/>
                <p:cNvSpPr txBox="1"/>
                <p:nvPr/>
              </p:nvSpPr>
              <p:spPr>
                <a:xfrm>
                  <a:off x="2590560" y="315720"/>
                  <a:ext cx="36504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609480" y="4419720"/>
                <a:ext cx="190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727360" y="5486400"/>
                <a:ext cx="2987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685800" y="5353200"/>
                <a:ext cx="20318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614520" y="4859280"/>
                <a:ext cx="37875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609480" y="3505320"/>
                <a:ext cx="3832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1" name=""/>
          <p:cNvGrpSpPr/>
          <p:nvPr/>
        </p:nvGrpSpPr>
        <p:grpSpPr>
          <a:xfrm>
            <a:off x="5410080" y="3429000"/>
            <a:ext cx="3526560" cy="2826000"/>
            <a:chOff x="5410080" y="3429000"/>
            <a:chExt cx="3526560" cy="2826000"/>
          </a:xfrm>
        </p:grpSpPr>
        <p:sp>
          <p:nvSpPr>
            <p:cNvPr id="2542" name=""/>
            <p:cNvSpPr/>
            <p:nvPr/>
          </p:nvSpPr>
          <p:spPr>
            <a:xfrm>
              <a:off x="6278400" y="4124160"/>
              <a:ext cx="180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231760" y="464724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4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6121440" y="5124600"/>
              <a:ext cx="345960" cy="35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294600" y="4800600"/>
              <a:ext cx="0" cy="9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207120" y="4470480"/>
              <a:ext cx="171360" cy="358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410080" y="5110560"/>
              <a:ext cx="90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437080" y="437724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278400" y="574344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0" name=""/>
                <p:cNvSpPr txBox="1"/>
                <p:nvPr/>
              </p:nvSpPr>
              <p:spPr>
                <a:xfrm>
                  <a:off x="6904080" y="4629240"/>
                  <a:ext cx="83016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51" name=""/>
            <p:cNvSpPr/>
            <p:nvPr/>
          </p:nvSpPr>
          <p:spPr>
            <a:xfrm>
              <a:off x="6900840" y="5694120"/>
              <a:ext cx="1176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t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0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8056440" y="4118040"/>
              <a:ext cx="0" cy="164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7883640" y="4714920"/>
              <a:ext cx="345960" cy="35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8026560" y="4492080"/>
              <a:ext cx="6602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5" name=""/>
            <p:cNvCxnSpPr/>
            <p:nvPr/>
          </p:nvCxnSpPr>
          <p:spPr>
            <a:xfrm flipH="1" rot="16200000">
              <a:off x="6558840" y="4802760"/>
              <a:ext cx="838800" cy="335520"/>
            </a:xfrm>
            <a:prstGeom prst="curvedConnector5">
              <a:avLst>
                <a:gd name="adj1" fmla="val -30227"/>
                <a:gd name="adj2" fmla="val 145542"/>
                <a:gd name="adj3" fmla="val -30227"/>
              </a:avLst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556" name=""/>
            <p:cNvSpPr/>
            <p:nvPr/>
          </p:nvSpPr>
          <p:spPr>
            <a:xfrm>
              <a:off x="6264360" y="4955760"/>
              <a:ext cx="6602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rot="5400000">
              <a:off x="6957360" y="3504960"/>
              <a:ext cx="533520" cy="38124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102880" y="4815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272280" y="4114800"/>
              <a:ext cx="0" cy="36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0" name=""/>
          <p:cNvGrpSpPr/>
          <p:nvPr/>
        </p:nvGrpSpPr>
        <p:grpSpPr>
          <a:xfrm>
            <a:off x="152280" y="685080"/>
            <a:ext cx="4800600" cy="2148480"/>
            <a:chOff x="152280" y="685080"/>
            <a:chExt cx="4800600" cy="2148480"/>
          </a:xfrm>
        </p:grpSpPr>
        <p:sp>
          <p:nvSpPr>
            <p:cNvPr id="2561" name=""/>
            <p:cNvSpPr/>
            <p:nvPr/>
          </p:nvSpPr>
          <p:spPr>
            <a:xfrm flipH="1">
              <a:off x="3047400" y="69912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984240" y="1789920"/>
              <a:ext cx="360360" cy="35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984240" y="19699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165320" y="214956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165320" y="116208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876320" y="1744560"/>
              <a:ext cx="18108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967040" y="214776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1967040" y="1150560"/>
              <a:ext cx="0" cy="61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627280" y="184644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627280" y="198108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808360" y="1150920"/>
              <a:ext cx="0" cy="71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808360" y="2003400"/>
              <a:ext cx="0" cy="7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068720" y="22240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4068720" y="1117080"/>
              <a:ext cx="0" cy="62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915840" y="1453680"/>
              <a:ext cx="0" cy="77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52280" y="1765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300320" y="1994400"/>
              <a:ext cx="9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932200" y="1872000"/>
              <a:ext cx="8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941560" y="1239840"/>
              <a:ext cx="0" cy="4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141560" y="1139760"/>
              <a:ext cx="202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3606120" y="1095480"/>
              <a:ext cx="9036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3224160" y="1182600"/>
              <a:ext cx="41760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708360" y="113976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141560" y="2778120"/>
              <a:ext cx="29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114800" y="1689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192560" y="1219320"/>
              <a:ext cx="0" cy="47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610000" y="68508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8" name=""/>
                <p:cNvSpPr txBox="1"/>
                <p:nvPr/>
              </p:nvSpPr>
              <p:spPr>
                <a:xfrm>
                  <a:off x="2962440" y="1158840"/>
                  <a:ext cx="42696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9" name=""/>
                <p:cNvSpPr txBox="1"/>
                <p:nvPr/>
              </p:nvSpPr>
              <p:spPr>
                <a:xfrm>
                  <a:off x="4191120" y="1081080"/>
                  <a:ext cx="36036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0" name=""/>
                <p:cNvSpPr txBox="1"/>
                <p:nvPr/>
              </p:nvSpPr>
              <p:spPr>
                <a:xfrm>
                  <a:off x="2139840" y="1538280"/>
                  <a:ext cx="5270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91" name=""/>
            <p:cNvSpPr/>
            <p:nvPr/>
          </p:nvSpPr>
          <p:spPr>
            <a:xfrm>
              <a:off x="2473560" y="1419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477880" y="18223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973600" y="16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962520" y="1766880"/>
              <a:ext cx="18072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297440" y="1614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1905120" y="2725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1905120" y="1081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2743200" y="1081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2743200" y="2725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 flipV="1">
              <a:off x="3123720" y="1004760"/>
              <a:ext cx="42732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1" name=""/>
          <p:cNvSpPr/>
          <p:nvPr/>
        </p:nvSpPr>
        <p:spPr>
          <a:xfrm>
            <a:off x="4648320" y="1285920"/>
            <a:ext cx="12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915400" y="-5823000"/>
            <a:ext cx="7632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4829400" y="990720"/>
            <a:ext cx="4090680" cy="2262600"/>
            <a:chOff x="4829400" y="990720"/>
            <a:chExt cx="4090680" cy="2262600"/>
          </a:xfrm>
        </p:grpSpPr>
        <p:sp>
          <p:nvSpPr>
            <p:cNvPr id="2604" name=""/>
            <p:cNvSpPr/>
            <p:nvPr/>
          </p:nvSpPr>
          <p:spPr>
            <a:xfrm>
              <a:off x="6324480" y="266688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797440" y="2057400"/>
              <a:ext cx="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6" name=""/>
            <p:cNvGrpSpPr/>
            <p:nvPr/>
          </p:nvGrpSpPr>
          <p:grpSpPr>
            <a:xfrm>
              <a:off x="6504120" y="1044720"/>
              <a:ext cx="185400" cy="1637640"/>
              <a:chOff x="6504120" y="1044720"/>
              <a:chExt cx="185400" cy="1637640"/>
            </a:xfrm>
          </p:grpSpPr>
          <p:sp>
            <p:nvSpPr>
              <p:cNvPr id="2607" name=""/>
              <p:cNvSpPr/>
              <p:nvPr/>
            </p:nvSpPr>
            <p:spPr>
              <a:xfrm>
                <a:off x="6504120" y="1681200"/>
                <a:ext cx="185400" cy="363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596640" y="2045520"/>
                <a:ext cx="0" cy="63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596640" y="1044720"/>
                <a:ext cx="0" cy="63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0" name=""/>
            <p:cNvGrpSpPr/>
            <p:nvPr/>
          </p:nvGrpSpPr>
          <p:grpSpPr>
            <a:xfrm>
              <a:off x="8639280" y="1033560"/>
              <a:ext cx="185400" cy="1674360"/>
              <a:chOff x="8639280" y="1033560"/>
              <a:chExt cx="185400" cy="1674360"/>
            </a:xfrm>
          </p:grpSpPr>
          <p:sp>
            <p:nvSpPr>
              <p:cNvPr id="2611" name=""/>
              <p:cNvSpPr/>
              <p:nvPr/>
            </p:nvSpPr>
            <p:spPr>
              <a:xfrm>
                <a:off x="8639280" y="1658520"/>
                <a:ext cx="185400" cy="357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731800" y="2016000"/>
                <a:ext cx="0" cy="69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V="1">
                <a:off x="8731800" y="1033560"/>
                <a:ext cx="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"/>
            <p:cNvGrpSpPr/>
            <p:nvPr/>
          </p:nvGrpSpPr>
          <p:grpSpPr>
            <a:xfrm>
              <a:off x="6964200" y="1044720"/>
              <a:ext cx="371160" cy="1671120"/>
              <a:chOff x="6964200" y="1044720"/>
              <a:chExt cx="371160" cy="1671120"/>
            </a:xfrm>
          </p:grpSpPr>
          <p:sp>
            <p:nvSpPr>
              <p:cNvPr id="2615" name=""/>
              <p:cNvSpPr/>
              <p:nvPr/>
            </p:nvSpPr>
            <p:spPr>
              <a:xfrm>
                <a:off x="7165440" y="1044720"/>
                <a:ext cx="0" cy="167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6964200" y="1835640"/>
                <a:ext cx="371160" cy="362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7924680" y="1904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5608800" y="1692720"/>
              <a:ext cx="372600" cy="364680"/>
              <a:chOff x="5608800" y="1692720"/>
              <a:chExt cx="372600" cy="364680"/>
            </a:xfrm>
          </p:grpSpPr>
          <p:sp>
            <p:nvSpPr>
              <p:cNvPr id="2619" name=""/>
              <p:cNvSpPr/>
              <p:nvPr/>
            </p:nvSpPr>
            <p:spPr>
              <a:xfrm flipV="1">
                <a:off x="5608800" y="1692360"/>
                <a:ext cx="372600" cy="364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5608800" y="187524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1" name=""/>
            <p:cNvSpPr/>
            <p:nvPr/>
          </p:nvSpPr>
          <p:spPr>
            <a:xfrm>
              <a:off x="5797440" y="1054080"/>
              <a:ext cx="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5562720" y="1425600"/>
              <a:ext cx="0" cy="78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807160" y="1999080"/>
              <a:ext cx="9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288200" y="1136520"/>
              <a:ext cx="0" cy="463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780160" y="1049400"/>
              <a:ext cx="29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780160" y="2695680"/>
              <a:ext cx="295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7" name=""/>
                <p:cNvSpPr txBox="1"/>
                <p:nvPr/>
              </p:nvSpPr>
              <p:spPr>
                <a:xfrm>
                  <a:off x="7332840" y="1103400"/>
                  <a:ext cx="89676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8" name=""/>
            <p:cNvSpPr/>
            <p:nvPr/>
          </p:nvSpPr>
          <p:spPr>
            <a:xfrm>
              <a:off x="7128000" y="1686240"/>
              <a:ext cx="71892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317360" y="1751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4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829400" y="16765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9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V="1">
              <a:off x="6521400" y="990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7086600" y="990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6521400" y="26352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7086600" y="26352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543360" y="2743200"/>
              <a:ext cx="14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83808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914400" y="685800"/>
            <a:ext cx="838188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开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闭合前电路已处于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闭合，试求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≧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时电容电压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幼圆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和电流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i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幼圆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i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和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i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9" name=""/>
          <p:cNvGrpSpPr/>
          <p:nvPr/>
        </p:nvGrpSpPr>
        <p:grpSpPr>
          <a:xfrm>
            <a:off x="304920" y="2286000"/>
            <a:ext cx="2770920" cy="520560"/>
            <a:chOff x="304920" y="2286000"/>
            <a:chExt cx="2770920" cy="520560"/>
          </a:xfrm>
        </p:grpSpPr>
        <p:sp>
          <p:nvSpPr>
            <p:cNvPr id="2640" name=""/>
            <p:cNvSpPr/>
            <p:nvPr/>
          </p:nvSpPr>
          <p:spPr>
            <a:xfrm>
              <a:off x="304920" y="2286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401480" y="2286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用三要素法求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879480" y="3886200"/>
                <a:ext cx="4149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3" name=""/>
          <p:cNvGrpSpPr/>
          <p:nvPr/>
        </p:nvGrpSpPr>
        <p:grpSpPr>
          <a:xfrm>
            <a:off x="1127160" y="2835360"/>
            <a:ext cx="2530080" cy="593640"/>
            <a:chOff x="1127160" y="2835360"/>
            <a:chExt cx="2530080" cy="593640"/>
          </a:xfrm>
        </p:grpSpPr>
        <p:sp>
          <p:nvSpPr>
            <p:cNvPr id="2644" name=""/>
            <p:cNvSpPr/>
            <p:nvPr/>
          </p:nvSpPr>
          <p:spPr>
            <a:xfrm>
              <a:off x="1127160" y="2835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求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5" name=""/>
                <p:cNvSpPr txBox="1"/>
                <p:nvPr/>
              </p:nvSpPr>
              <p:spPr>
                <a:xfrm>
                  <a:off x="2422440" y="2835360"/>
                  <a:ext cx="123480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961920" y="4876920"/>
                <a:ext cx="31528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7" name=""/>
          <p:cNvGrpSpPr/>
          <p:nvPr/>
        </p:nvGrpSpPr>
        <p:grpSpPr>
          <a:xfrm>
            <a:off x="4514760" y="1576800"/>
            <a:ext cx="4629240" cy="2112480"/>
            <a:chOff x="4514760" y="1576800"/>
            <a:chExt cx="4629240" cy="2112480"/>
          </a:xfrm>
        </p:grpSpPr>
        <p:grpSp>
          <p:nvGrpSpPr>
            <p:cNvPr id="2648" name=""/>
            <p:cNvGrpSpPr/>
            <p:nvPr/>
          </p:nvGrpSpPr>
          <p:grpSpPr>
            <a:xfrm>
              <a:off x="4514760" y="1576800"/>
              <a:ext cx="4629240" cy="2107800"/>
              <a:chOff x="4514760" y="1576800"/>
              <a:chExt cx="4629240" cy="2107800"/>
            </a:xfrm>
          </p:grpSpPr>
          <p:sp>
            <p:nvSpPr>
              <p:cNvPr id="2649" name=""/>
              <p:cNvSpPr/>
              <p:nvPr/>
            </p:nvSpPr>
            <p:spPr>
              <a:xfrm>
                <a:off x="5191200" y="2657520"/>
                <a:ext cx="392040" cy="382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388120" y="2066760"/>
                <a:ext cx="0" cy="159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076720" y="2224440"/>
                <a:ext cx="3920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rot="5400000">
                <a:off x="6398640" y="2939760"/>
                <a:ext cx="91800" cy="98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248520" y="2548080"/>
                <a:ext cx="218880" cy="42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630840" y="2475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640120" y="3047400"/>
                <a:ext cx="66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438960" y="3027240"/>
                <a:ext cx="3240" cy="65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442200" y="20923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095880" y="2071080"/>
                <a:ext cx="70956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696080" y="2160720"/>
                <a:ext cx="0" cy="431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60" name=""/>
                  <p:cNvSpPr txBox="1"/>
                  <p:nvPr/>
                </p:nvSpPr>
                <p:spPr>
                  <a:xfrm>
                    <a:off x="7734240" y="2084400"/>
                    <a:ext cx="41904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61" name=""/>
                  <p:cNvSpPr txBox="1"/>
                  <p:nvPr/>
                </p:nvSpPr>
                <p:spPr>
                  <a:xfrm>
                    <a:off x="7620120" y="3048120"/>
                    <a:ext cx="73980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μ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62" name=""/>
              <p:cNvSpPr/>
              <p:nvPr/>
            </p:nvSpPr>
            <p:spPr>
              <a:xfrm>
                <a:off x="5362560" y="3660840"/>
                <a:ext cx="298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4514760" y="2537640"/>
                <a:ext cx="89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6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605560" y="15768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716880" y="1576800"/>
                <a:ext cx="71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818400" y="2279520"/>
                <a:ext cx="5871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8470800" y="2149560"/>
                <a:ext cx="0" cy="468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68" name=""/>
                  <p:cNvSpPr txBox="1"/>
                  <p:nvPr/>
                </p:nvSpPr>
                <p:spPr>
                  <a:xfrm>
                    <a:off x="6970680" y="2614680"/>
                    <a:ext cx="49680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69" name=""/>
              <p:cNvSpPr/>
              <p:nvPr/>
            </p:nvSpPr>
            <p:spPr>
              <a:xfrm>
                <a:off x="7399440" y="2909880"/>
                <a:ext cx="39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399440" y="3049560"/>
                <a:ext cx="39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585200" y="2055960"/>
                <a:ext cx="0" cy="86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596360" y="3071880"/>
                <a:ext cx="0" cy="56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V="1">
                <a:off x="8331120" y="2071440"/>
                <a:ext cx="0" cy="67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8427960" y="2689560"/>
                <a:ext cx="71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75" name=""/>
                  <p:cNvSpPr txBox="1"/>
                  <p:nvPr/>
                </p:nvSpPr>
                <p:spPr>
                  <a:xfrm>
                    <a:off x="8545680" y="2077920"/>
                    <a:ext cx="430200" cy="53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76" name=""/>
              <p:cNvSpPr/>
              <p:nvPr/>
            </p:nvSpPr>
            <p:spPr>
              <a:xfrm rot="5400000">
                <a:off x="5851800" y="1891440"/>
                <a:ext cx="18576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rot="16200000">
                <a:off x="6913440" y="1893600"/>
                <a:ext cx="18720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8229600" y="2739960"/>
                <a:ext cx="196920" cy="371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79" name=""/>
                  <p:cNvSpPr txBox="1"/>
                  <p:nvPr/>
                </p:nvSpPr>
                <p:spPr>
                  <a:xfrm>
                    <a:off x="6924600" y="2228760"/>
                    <a:ext cx="35100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80" name=""/>
              <p:cNvSpPr/>
              <p:nvPr/>
            </p:nvSpPr>
            <p:spPr>
              <a:xfrm>
                <a:off x="7272720" y="2505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29600" y="2922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398920" y="2077920"/>
                <a:ext cx="34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01080" y="2065320"/>
                <a:ext cx="115560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8332920" y="3096720"/>
                <a:ext cx="0" cy="55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5" name=""/>
              <p:cNvGrpSpPr/>
              <p:nvPr/>
            </p:nvGrpSpPr>
            <p:grpSpPr>
              <a:xfrm>
                <a:off x="6104880" y="2569680"/>
                <a:ext cx="562680" cy="375120"/>
                <a:chOff x="6104880" y="2569680"/>
                <a:chExt cx="562680" cy="375120"/>
              </a:xfrm>
            </p:grpSpPr>
            <p:sp>
              <p:nvSpPr>
                <p:cNvPr id="2686" name=""/>
                <p:cNvSpPr/>
                <p:nvPr/>
              </p:nvSpPr>
              <p:spPr>
                <a:xfrm rot="19367400">
                  <a:off x="6095520" y="2694960"/>
                  <a:ext cx="457200" cy="123840"/>
                </a:xfrm>
                <a:custGeom>
                  <a:avLst/>
                  <a:gdLst/>
                  <a:ahLst/>
                  <a:rect l="l" t="t" r="r" b="b"/>
                  <a:pathLst>
                    <a:path w="396" h="108">
                      <a:moveTo>
                        <a:pt x="0" y="60"/>
                      </a:moveTo>
                      <a:cubicBezTo>
                        <a:pt x="42" y="18"/>
                        <a:pt x="63" y="14"/>
                        <a:pt x="120" y="0"/>
                      </a:cubicBezTo>
                      <a:cubicBezTo>
                        <a:pt x="160" y="4"/>
                        <a:pt x="200" y="5"/>
                        <a:pt x="240" y="12"/>
                      </a:cubicBezTo>
                      <a:cubicBezTo>
                        <a:pt x="265" y="17"/>
                        <a:pt x="288" y="28"/>
                        <a:pt x="312" y="36"/>
                      </a:cubicBezTo>
                      <a:cubicBezTo>
                        <a:pt x="324" y="40"/>
                        <a:pt x="348" y="48"/>
                        <a:pt x="348" y="48"/>
                      </a:cubicBezTo>
                      <a:cubicBezTo>
                        <a:pt x="378" y="93"/>
                        <a:pt x="362" y="74"/>
                        <a:pt x="396" y="108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515280" y="2666880"/>
                  <a:ext cx="152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8" name=""/>
            <p:cNvSpPr/>
            <p:nvPr/>
          </p:nvSpPr>
          <p:spPr>
            <a:xfrm flipV="1">
              <a:off x="7512120" y="2025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6369120" y="2025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V="1">
              <a:off x="6369120" y="35812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V="1">
              <a:off x="7543800" y="35812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4800600" y="3710520"/>
            <a:ext cx="3962520" cy="2618640"/>
            <a:chOff x="4800600" y="3710520"/>
            <a:chExt cx="3962520" cy="2618640"/>
          </a:xfrm>
        </p:grpSpPr>
        <p:grpSp>
          <p:nvGrpSpPr>
            <p:cNvPr id="2693" name=""/>
            <p:cNvGrpSpPr/>
            <p:nvPr/>
          </p:nvGrpSpPr>
          <p:grpSpPr>
            <a:xfrm>
              <a:off x="4800600" y="3710520"/>
              <a:ext cx="3962520" cy="2618640"/>
              <a:chOff x="4800600" y="3710520"/>
              <a:chExt cx="3962520" cy="2618640"/>
            </a:xfrm>
          </p:grpSpPr>
          <mc:AlternateContent>
            <mc:Choice xmlns:a14="http://schemas.microsoft.com/office/drawing/2010/main" Requires="a14">
              <p:sp>
                <p:nvSpPr>
                  <p:cNvPr id="2694" name=""/>
                  <p:cNvSpPr txBox="1"/>
                  <p:nvPr/>
                </p:nvSpPr>
                <p:spPr>
                  <a:xfrm>
                    <a:off x="7864560" y="4702320"/>
                    <a:ext cx="898560" cy="449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95" name=""/>
              <p:cNvSpPr/>
              <p:nvPr/>
            </p:nvSpPr>
            <p:spPr>
              <a:xfrm>
                <a:off x="6405120" y="5819040"/>
                <a:ext cx="1456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t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=0</a:t>
                </a:r>
                <a:r>
                  <a:rPr b="1" lang="zh-CN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-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等效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994360" y="371196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799320" y="3710520"/>
                <a:ext cx="97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470560" y="4799160"/>
                <a:ext cx="339840" cy="372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640480" y="4206960"/>
                <a:ext cx="0" cy="159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257800" y="4369320"/>
                <a:ext cx="3398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162920" y="4212360"/>
                <a:ext cx="121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638680" y="5784840"/>
                <a:ext cx="272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4800600" y="4743720"/>
                <a:ext cx="77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6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041880" y="4397400"/>
                <a:ext cx="511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926400" y="5132880"/>
                <a:ext cx="62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8379000" y="5214960"/>
                <a:ext cx="0" cy="59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464600" y="5159520"/>
                <a:ext cx="0" cy="64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373880" y="4808520"/>
                <a:ext cx="169920" cy="372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8379000" y="4210200"/>
                <a:ext cx="0" cy="55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10" name=""/>
                  <p:cNvSpPr txBox="1"/>
                  <p:nvPr/>
                </p:nvSpPr>
                <p:spPr>
                  <a:xfrm>
                    <a:off x="5935680" y="4406760"/>
                    <a:ext cx="846000" cy="447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11" name=""/>
              <p:cNvSpPr/>
              <p:nvPr/>
            </p:nvSpPr>
            <p:spPr>
              <a:xfrm>
                <a:off x="8002800" y="44118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059320" y="49309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rot="5400000">
                <a:off x="6122160" y="4025160"/>
                <a:ext cx="185760" cy="3902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rot="5400000">
                <a:off x="6883560" y="4024800"/>
                <a:ext cx="18576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626080" y="4208400"/>
                <a:ext cx="39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400800" y="4205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467480" y="4184640"/>
                <a:ext cx="1800" cy="59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8" name=""/>
            <p:cNvSpPr/>
            <p:nvPr/>
          </p:nvSpPr>
          <p:spPr>
            <a:xfrm flipV="1">
              <a:off x="7391520" y="5715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7435800" y="4159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4724280" y="5607000"/>
                <a:ext cx="3505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2057400" y="5264280"/>
                <a:ext cx="31240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609480" y="4386240"/>
                <a:ext cx="70866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033560" y="3681360"/>
                <a:ext cx="6281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24" name=""/>
          <p:cNvGrpSpPr/>
          <p:nvPr/>
        </p:nvGrpSpPr>
        <p:grpSpPr>
          <a:xfrm>
            <a:off x="822960" y="2819520"/>
            <a:ext cx="1848600" cy="548640"/>
            <a:chOff x="822960" y="2819520"/>
            <a:chExt cx="1848600" cy="548640"/>
          </a:xfrm>
        </p:grpSpPr>
        <p:sp>
          <p:nvSpPr>
            <p:cNvPr id="2725" name=""/>
            <p:cNvSpPr/>
            <p:nvPr/>
          </p:nvSpPr>
          <p:spPr>
            <a:xfrm>
              <a:off x="822960" y="28195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求时间常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6" name=""/>
                <p:cNvSpPr txBox="1"/>
                <p:nvPr/>
              </p:nvSpPr>
              <p:spPr>
                <a:xfrm>
                  <a:off x="2237040" y="2892960"/>
                  <a:ext cx="434520" cy="47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7" name=""/>
          <p:cNvSpPr/>
          <p:nvPr/>
        </p:nvSpPr>
        <p:spPr>
          <a:xfrm>
            <a:off x="1038960" y="3276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右图电路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8" name=""/>
          <p:cNvGrpSpPr/>
          <p:nvPr/>
        </p:nvGrpSpPr>
        <p:grpSpPr>
          <a:xfrm>
            <a:off x="722160" y="2362320"/>
            <a:ext cx="4459320" cy="560160"/>
            <a:chOff x="722160" y="2362320"/>
            <a:chExt cx="4459320" cy="560160"/>
          </a:xfrm>
        </p:grpSpPr>
        <p:grpSp>
          <p:nvGrpSpPr>
            <p:cNvPr id="2729" name=""/>
            <p:cNvGrpSpPr/>
            <p:nvPr/>
          </p:nvGrpSpPr>
          <p:grpSpPr>
            <a:xfrm>
              <a:off x="722160" y="2362320"/>
              <a:ext cx="2325600" cy="558720"/>
              <a:chOff x="722160" y="2362320"/>
              <a:chExt cx="2325600" cy="558720"/>
            </a:xfrm>
          </p:grpSpPr>
          <p:sp>
            <p:nvSpPr>
              <p:cNvPr id="2730" name=""/>
              <p:cNvSpPr/>
              <p:nvPr/>
            </p:nvSpPr>
            <p:spPr>
              <a:xfrm>
                <a:off x="722160" y="2362320"/>
                <a:ext cx="2149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求稳态值          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31" name=""/>
                  <p:cNvSpPr txBox="1"/>
                  <p:nvPr/>
                </p:nvSpPr>
                <p:spPr>
                  <a:xfrm>
                    <a:off x="1981080" y="2381400"/>
                    <a:ext cx="1066680" cy="53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sepChr m:val="∞"/>
                            <m:endChr m:val=")"/>
                          </m:dPr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2" name=""/>
                <p:cNvSpPr txBox="1"/>
                <p:nvPr/>
              </p:nvSpPr>
              <p:spPr>
                <a:xfrm>
                  <a:off x="3429000" y="2362320"/>
                  <a:ext cx="175248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d>
                        <m:dPr>
                          <m:begChr m:val="("/>
                          <m:sepChr m:val="∞"/>
                          <m:endChr m:val=")"/>
                        </m:dPr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3" name=""/>
          <p:cNvGrpSpPr/>
          <p:nvPr/>
        </p:nvGrpSpPr>
        <p:grpSpPr>
          <a:xfrm>
            <a:off x="324000" y="173520"/>
            <a:ext cx="4628880" cy="2112480"/>
            <a:chOff x="324000" y="173520"/>
            <a:chExt cx="4628880" cy="2112480"/>
          </a:xfrm>
        </p:grpSpPr>
        <p:sp>
          <p:nvSpPr>
            <p:cNvPr id="2734" name=""/>
            <p:cNvSpPr/>
            <p:nvPr/>
          </p:nvSpPr>
          <p:spPr>
            <a:xfrm>
              <a:off x="1000080" y="1254240"/>
              <a:ext cx="392040" cy="382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97000" y="663480"/>
              <a:ext cx="0" cy="159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85960" y="821160"/>
              <a:ext cx="3920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H="1" rot="5400000">
              <a:off x="2208240" y="1536480"/>
              <a:ext cx="92160" cy="98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056680" y="1144440"/>
              <a:ext cx="2192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2439720" y="1072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449360" y="1643760"/>
              <a:ext cx="6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247840" y="1623960"/>
              <a:ext cx="3240" cy="65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251080" y="689040"/>
              <a:ext cx="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905120" y="668160"/>
              <a:ext cx="70956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505320" y="757080"/>
              <a:ext cx="0" cy="43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5" name=""/>
                <p:cNvSpPr txBox="1"/>
                <p:nvPr/>
              </p:nvSpPr>
              <p:spPr>
                <a:xfrm>
                  <a:off x="3543480" y="681120"/>
                  <a:ext cx="41904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6" name=""/>
                <p:cNvSpPr txBox="1"/>
                <p:nvPr/>
              </p:nvSpPr>
              <p:spPr>
                <a:xfrm>
                  <a:off x="3429000" y="1644480"/>
                  <a:ext cx="7398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μ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7" name=""/>
            <p:cNvSpPr/>
            <p:nvPr/>
          </p:nvSpPr>
          <p:spPr>
            <a:xfrm>
              <a:off x="1171440" y="2257560"/>
              <a:ext cx="298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24000" y="1134360"/>
              <a:ext cx="8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6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414440" y="1735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525760" y="173520"/>
              <a:ext cx="7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627280" y="876240"/>
              <a:ext cx="587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280040" y="746280"/>
              <a:ext cx="0" cy="46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3" name=""/>
                <p:cNvSpPr txBox="1"/>
                <p:nvPr/>
              </p:nvSpPr>
              <p:spPr>
                <a:xfrm>
                  <a:off x="2779560" y="1211400"/>
                  <a:ext cx="4971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54" name=""/>
            <p:cNvSpPr/>
            <p:nvPr/>
          </p:nvSpPr>
          <p:spPr>
            <a:xfrm>
              <a:off x="3208320" y="1506600"/>
              <a:ext cx="393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208320" y="1646280"/>
              <a:ext cx="393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3394080" y="652320"/>
              <a:ext cx="0" cy="86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405240" y="1668600"/>
              <a:ext cx="0" cy="56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V="1">
              <a:off x="4140360" y="6678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237200" y="128628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0" name=""/>
                <p:cNvSpPr txBox="1"/>
                <p:nvPr/>
              </p:nvSpPr>
              <p:spPr>
                <a:xfrm>
                  <a:off x="4354560" y="674640"/>
                  <a:ext cx="43020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61" name=""/>
            <p:cNvSpPr/>
            <p:nvPr/>
          </p:nvSpPr>
          <p:spPr>
            <a:xfrm rot="5400000">
              <a:off x="1660680" y="487800"/>
              <a:ext cx="18576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rot="16200000">
              <a:off x="2722320" y="490320"/>
              <a:ext cx="18720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038480" y="1336680"/>
              <a:ext cx="196920" cy="371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4" name=""/>
                <p:cNvSpPr txBox="1"/>
                <p:nvPr/>
              </p:nvSpPr>
              <p:spPr>
                <a:xfrm>
                  <a:off x="2733840" y="825480"/>
                  <a:ext cx="3506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65" name=""/>
            <p:cNvSpPr/>
            <p:nvPr/>
          </p:nvSpPr>
          <p:spPr>
            <a:xfrm>
              <a:off x="3081600" y="1101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138840" y="15192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208160" y="67464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009960" y="661320"/>
              <a:ext cx="115560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4141800" y="169344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0" name=""/>
            <p:cNvGrpSpPr/>
            <p:nvPr/>
          </p:nvGrpSpPr>
          <p:grpSpPr>
            <a:xfrm>
              <a:off x="1914120" y="1166400"/>
              <a:ext cx="561960" cy="374760"/>
              <a:chOff x="1914120" y="1166400"/>
              <a:chExt cx="561960" cy="374760"/>
            </a:xfrm>
          </p:grpSpPr>
          <p:sp>
            <p:nvSpPr>
              <p:cNvPr id="2771" name=""/>
              <p:cNvSpPr/>
              <p:nvPr/>
            </p:nvSpPr>
            <p:spPr>
              <a:xfrm rot="19367400">
                <a:off x="1904760" y="1291680"/>
                <a:ext cx="456840" cy="123840"/>
              </a:xfrm>
              <a:custGeom>
                <a:avLst/>
                <a:gdLst/>
                <a:ahLst/>
                <a:rect l="l" t="t" r="r" b="b"/>
                <a:pathLst>
                  <a:path w="396" h="108">
                    <a:moveTo>
                      <a:pt x="0" y="60"/>
                    </a:moveTo>
                    <a:cubicBezTo>
                      <a:pt x="42" y="18"/>
                      <a:pt x="63" y="14"/>
                      <a:pt x="120" y="0"/>
                    </a:cubicBezTo>
                    <a:cubicBezTo>
                      <a:pt x="160" y="4"/>
                      <a:pt x="200" y="5"/>
                      <a:pt x="240" y="12"/>
                    </a:cubicBezTo>
                    <a:cubicBezTo>
                      <a:pt x="265" y="17"/>
                      <a:pt x="288" y="28"/>
                      <a:pt x="312" y="36"/>
                    </a:cubicBezTo>
                    <a:cubicBezTo>
                      <a:pt x="324" y="40"/>
                      <a:pt x="348" y="48"/>
                      <a:pt x="348" y="48"/>
                    </a:cubicBezTo>
                    <a:cubicBezTo>
                      <a:pt x="378" y="93"/>
                      <a:pt x="362" y="74"/>
                      <a:pt x="396" y="1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324160" y="1263600"/>
                <a:ext cx="151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3" name=""/>
            <p:cNvSpPr/>
            <p:nvPr/>
          </p:nvSpPr>
          <p:spPr>
            <a:xfrm flipV="1">
              <a:off x="3321000" y="62172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V="1">
              <a:off x="2178000" y="62172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2178000" y="2178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V="1">
              <a:off x="3352680" y="2178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5235480" y="152280"/>
            <a:ext cx="3330720" cy="2210040"/>
            <a:chOff x="5235480" y="152280"/>
            <a:chExt cx="3330720" cy="2210040"/>
          </a:xfrm>
        </p:grpSpPr>
        <p:grpSp>
          <p:nvGrpSpPr>
            <p:cNvPr id="2778" name=""/>
            <p:cNvGrpSpPr/>
            <p:nvPr/>
          </p:nvGrpSpPr>
          <p:grpSpPr>
            <a:xfrm>
              <a:off x="5235480" y="152280"/>
              <a:ext cx="3330720" cy="2159280"/>
              <a:chOff x="5235480" y="152280"/>
              <a:chExt cx="3330720" cy="2159280"/>
            </a:xfrm>
          </p:grpSpPr>
          <p:sp>
            <p:nvSpPr>
              <p:cNvPr id="2779" name=""/>
              <p:cNvSpPr/>
              <p:nvPr/>
            </p:nvSpPr>
            <p:spPr>
              <a:xfrm>
                <a:off x="5243400" y="728640"/>
                <a:ext cx="0" cy="158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172200" y="728640"/>
                <a:ext cx="1735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797520" y="851040"/>
                <a:ext cx="0" cy="428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82" name=""/>
                  <p:cNvSpPr txBox="1"/>
                  <p:nvPr/>
                </p:nvSpPr>
                <p:spPr>
                  <a:xfrm>
                    <a:off x="6805440" y="660240"/>
                    <a:ext cx="351000" cy="5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83" name=""/>
                  <p:cNvSpPr txBox="1"/>
                  <p:nvPr/>
                </p:nvSpPr>
                <p:spPr>
                  <a:xfrm>
                    <a:off x="6872400" y="1401840"/>
                    <a:ext cx="747720" cy="44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μ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84" name=""/>
              <p:cNvSpPr/>
              <p:nvPr/>
            </p:nvSpPr>
            <p:spPr>
              <a:xfrm>
                <a:off x="5243400" y="2311560"/>
                <a:ext cx="267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678640" y="227520"/>
                <a:ext cx="64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V="1">
                <a:off x="5235480" y="642960"/>
                <a:ext cx="479520" cy="6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007480" y="820800"/>
                <a:ext cx="0" cy="46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88" name=""/>
                  <p:cNvSpPr txBox="1"/>
                  <p:nvPr/>
                </p:nvSpPr>
                <p:spPr>
                  <a:xfrm>
                    <a:off x="6012000" y="1316160"/>
                    <a:ext cx="49032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89" name=""/>
              <p:cNvSpPr/>
              <p:nvPr/>
            </p:nvSpPr>
            <p:spPr>
              <a:xfrm>
                <a:off x="6486480" y="1576440"/>
                <a:ext cx="352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486480" y="1712880"/>
                <a:ext cx="352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672240" y="728640"/>
                <a:ext cx="0" cy="82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672240" y="1692360"/>
                <a:ext cx="0" cy="61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V="1">
                <a:off x="7881840" y="1752120"/>
                <a:ext cx="0" cy="55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924680" y="1370520"/>
                <a:ext cx="64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95" name=""/>
                  <p:cNvSpPr txBox="1"/>
                  <p:nvPr/>
                </p:nvSpPr>
                <p:spPr>
                  <a:xfrm>
                    <a:off x="8074080" y="695160"/>
                    <a:ext cx="385560" cy="53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96" name=""/>
              <p:cNvSpPr/>
              <p:nvPr/>
            </p:nvSpPr>
            <p:spPr>
              <a:xfrm>
                <a:off x="7791480" y="1371600"/>
                <a:ext cx="1760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97" name=""/>
                  <p:cNvSpPr txBox="1"/>
                  <p:nvPr/>
                </p:nvSpPr>
                <p:spPr>
                  <a:xfrm rot="10800000">
                    <a:off x="5305320" y="152280"/>
                    <a:ext cx="4096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98" name=""/>
              <p:cNvSpPr/>
              <p:nvPr/>
            </p:nvSpPr>
            <p:spPr>
              <a:xfrm>
                <a:off x="6364440" y="1154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402600" y="15415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rot="16200000">
                <a:off x="5883120" y="549000"/>
                <a:ext cx="18720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257800" y="7444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V="1">
                <a:off x="7885080" y="76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3" name=""/>
            <p:cNvSpPr/>
            <p:nvPr/>
          </p:nvSpPr>
          <p:spPr>
            <a:xfrm flipV="1">
              <a:off x="6597720" y="22543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V="1">
              <a:off x="6597720" y="6541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609480" y="905040"/>
                <a:ext cx="23781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6" name=""/>
              <p:cNvSpPr txBox="1"/>
              <p:nvPr/>
            </p:nvSpPr>
            <p:spPr>
              <a:xfrm>
                <a:off x="380880" y="3024360"/>
                <a:ext cx="46818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7" name=""/>
              <p:cNvSpPr txBox="1"/>
              <p:nvPr/>
            </p:nvSpPr>
            <p:spPr>
              <a:xfrm>
                <a:off x="609480" y="4038480"/>
                <a:ext cx="2210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8" name=""/>
              <p:cNvSpPr txBox="1"/>
              <p:nvPr/>
            </p:nvSpPr>
            <p:spPr>
              <a:xfrm>
                <a:off x="1371600" y="4660920"/>
                <a:ext cx="5486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9" name=""/>
              <p:cNvSpPr txBox="1"/>
              <p:nvPr/>
            </p:nvSpPr>
            <p:spPr>
              <a:xfrm>
                <a:off x="1376280" y="5457960"/>
                <a:ext cx="4110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10" name=""/>
          <p:cNvGrpSpPr/>
          <p:nvPr/>
        </p:nvGrpSpPr>
        <p:grpSpPr>
          <a:xfrm>
            <a:off x="1371600" y="2438280"/>
            <a:ext cx="2421000" cy="609480"/>
            <a:chOff x="1371600" y="2438280"/>
            <a:chExt cx="2421000" cy="609480"/>
          </a:xfrm>
        </p:grpSpPr>
        <p:sp>
          <p:nvSpPr>
            <p:cNvPr id="2811" name=""/>
            <p:cNvSpPr/>
            <p:nvPr/>
          </p:nvSpPr>
          <p:spPr>
            <a:xfrm>
              <a:off x="1371600" y="251460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    关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2" name=""/>
                <p:cNvSpPr txBox="1"/>
                <p:nvPr/>
              </p:nvSpPr>
              <p:spPr>
                <a:xfrm>
                  <a:off x="1600200" y="2438280"/>
                  <a:ext cx="1219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813" name=""/>
          <p:cNvGraphicFramePr/>
          <p:nvPr/>
        </p:nvGraphicFramePr>
        <p:xfrm>
          <a:off x="7086600" y="5135400"/>
          <a:ext cx="1676520" cy="111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5135400"/>
                    <a:ext cx="1676520" cy="11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15" name=""/>
              <p:cNvSpPr txBox="1"/>
              <p:nvPr/>
            </p:nvSpPr>
            <p:spPr>
              <a:xfrm>
                <a:off x="1447920" y="1670040"/>
                <a:ext cx="33606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16" name=""/>
          <p:cNvGrpSpPr/>
          <p:nvPr/>
        </p:nvGrpSpPr>
        <p:grpSpPr>
          <a:xfrm>
            <a:off x="4572000" y="1294200"/>
            <a:ext cx="4629240" cy="2134800"/>
            <a:chOff x="4572000" y="1294200"/>
            <a:chExt cx="4629240" cy="2134800"/>
          </a:xfrm>
        </p:grpSpPr>
        <p:grpSp>
          <p:nvGrpSpPr>
            <p:cNvPr id="2817" name=""/>
            <p:cNvGrpSpPr/>
            <p:nvPr/>
          </p:nvGrpSpPr>
          <p:grpSpPr>
            <a:xfrm>
              <a:off x="4572000" y="1294200"/>
              <a:ext cx="4629240" cy="2107800"/>
              <a:chOff x="4572000" y="1294200"/>
              <a:chExt cx="4629240" cy="2107800"/>
            </a:xfrm>
          </p:grpSpPr>
          <p:sp>
            <p:nvSpPr>
              <p:cNvPr id="2818" name=""/>
              <p:cNvSpPr/>
              <p:nvPr/>
            </p:nvSpPr>
            <p:spPr>
              <a:xfrm>
                <a:off x="5248440" y="2374920"/>
                <a:ext cx="392040" cy="382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445360" y="1784160"/>
                <a:ext cx="0" cy="159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133960" y="1941840"/>
                <a:ext cx="3920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H="1" rot="5400000">
                <a:off x="6455880" y="2657160"/>
                <a:ext cx="91800" cy="98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305760" y="2265480"/>
                <a:ext cx="218880" cy="42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H="1">
                <a:off x="6688080" y="2193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697360" y="2764800"/>
                <a:ext cx="66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6496200" y="2744640"/>
                <a:ext cx="3240" cy="65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6499440" y="18097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6153120" y="1788480"/>
                <a:ext cx="70956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753320" y="1878120"/>
                <a:ext cx="0" cy="431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29" name=""/>
                  <p:cNvSpPr txBox="1"/>
                  <p:nvPr/>
                </p:nvSpPr>
                <p:spPr>
                  <a:xfrm>
                    <a:off x="7791480" y="1801800"/>
                    <a:ext cx="41904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30" name=""/>
                  <p:cNvSpPr txBox="1"/>
                  <p:nvPr/>
                </p:nvSpPr>
                <p:spPr>
                  <a:xfrm>
                    <a:off x="7677360" y="2765520"/>
                    <a:ext cx="73980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μ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31" name=""/>
              <p:cNvSpPr/>
              <p:nvPr/>
            </p:nvSpPr>
            <p:spPr>
              <a:xfrm>
                <a:off x="5419800" y="3378240"/>
                <a:ext cx="298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572000" y="2255040"/>
                <a:ext cx="89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6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662800" y="12942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774120" y="1294200"/>
                <a:ext cx="71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875640" y="1996920"/>
                <a:ext cx="5871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528040" y="1866960"/>
                <a:ext cx="0" cy="468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37" name=""/>
                  <p:cNvSpPr txBox="1"/>
                  <p:nvPr/>
                </p:nvSpPr>
                <p:spPr>
                  <a:xfrm>
                    <a:off x="7027920" y="2332080"/>
                    <a:ext cx="49680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38" name=""/>
              <p:cNvSpPr/>
              <p:nvPr/>
            </p:nvSpPr>
            <p:spPr>
              <a:xfrm>
                <a:off x="7456680" y="2627280"/>
                <a:ext cx="39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456680" y="2766960"/>
                <a:ext cx="39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642440" y="1773360"/>
                <a:ext cx="0" cy="86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653600" y="2789280"/>
                <a:ext cx="0" cy="56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8388360" y="1788840"/>
                <a:ext cx="0" cy="67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485200" y="2406960"/>
                <a:ext cx="71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44" name=""/>
                  <p:cNvSpPr txBox="1"/>
                  <p:nvPr/>
                </p:nvSpPr>
                <p:spPr>
                  <a:xfrm>
                    <a:off x="8602920" y="1795320"/>
                    <a:ext cx="430200" cy="53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45" name=""/>
              <p:cNvSpPr/>
              <p:nvPr/>
            </p:nvSpPr>
            <p:spPr>
              <a:xfrm rot="5400000">
                <a:off x="5909040" y="1608840"/>
                <a:ext cx="18576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rot="16200000">
                <a:off x="6970680" y="1611000"/>
                <a:ext cx="18720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286840" y="2457360"/>
                <a:ext cx="196920" cy="371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48" name=""/>
                  <p:cNvSpPr txBox="1"/>
                  <p:nvPr/>
                </p:nvSpPr>
                <p:spPr>
                  <a:xfrm>
                    <a:off x="6981840" y="1946160"/>
                    <a:ext cx="35100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ι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49" name=""/>
              <p:cNvSpPr/>
              <p:nvPr/>
            </p:nvSpPr>
            <p:spPr>
              <a:xfrm>
                <a:off x="7329960" y="2222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386840" y="26398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456160" y="1795320"/>
                <a:ext cx="34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258320" y="1782720"/>
                <a:ext cx="115560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8390160" y="2814120"/>
                <a:ext cx="0" cy="55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4" name=""/>
              <p:cNvGrpSpPr/>
              <p:nvPr/>
            </p:nvGrpSpPr>
            <p:grpSpPr>
              <a:xfrm>
                <a:off x="6162120" y="2287080"/>
                <a:ext cx="562680" cy="375120"/>
                <a:chOff x="6162120" y="2287080"/>
                <a:chExt cx="562680" cy="375120"/>
              </a:xfrm>
            </p:grpSpPr>
            <p:sp>
              <p:nvSpPr>
                <p:cNvPr id="2855" name=""/>
                <p:cNvSpPr/>
                <p:nvPr/>
              </p:nvSpPr>
              <p:spPr>
                <a:xfrm rot="19367400">
                  <a:off x="6152760" y="2412360"/>
                  <a:ext cx="457200" cy="123840"/>
                </a:xfrm>
                <a:custGeom>
                  <a:avLst/>
                  <a:gdLst/>
                  <a:ahLst/>
                  <a:rect l="l" t="t" r="r" b="b"/>
                  <a:pathLst>
                    <a:path w="396" h="108">
                      <a:moveTo>
                        <a:pt x="0" y="60"/>
                      </a:moveTo>
                      <a:cubicBezTo>
                        <a:pt x="42" y="18"/>
                        <a:pt x="63" y="14"/>
                        <a:pt x="120" y="0"/>
                      </a:cubicBezTo>
                      <a:cubicBezTo>
                        <a:pt x="160" y="4"/>
                        <a:pt x="200" y="5"/>
                        <a:pt x="240" y="12"/>
                      </a:cubicBezTo>
                      <a:cubicBezTo>
                        <a:pt x="265" y="17"/>
                        <a:pt x="288" y="28"/>
                        <a:pt x="312" y="36"/>
                      </a:cubicBezTo>
                      <a:cubicBezTo>
                        <a:pt x="324" y="40"/>
                        <a:pt x="348" y="48"/>
                        <a:pt x="348" y="48"/>
                      </a:cubicBezTo>
                      <a:cubicBezTo>
                        <a:pt x="378" y="93"/>
                        <a:pt x="362" y="74"/>
                        <a:pt x="396" y="108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6572520" y="2384280"/>
                  <a:ext cx="152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7" name=""/>
            <p:cNvSpPr/>
            <p:nvPr/>
          </p:nvSpPr>
          <p:spPr>
            <a:xfrm flipV="1">
              <a:off x="6445080" y="17208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V="1">
              <a:off x="6445080" y="3321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V="1">
              <a:off x="7588080" y="3321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7588080" y="17208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6.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微分电路和积分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.4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微分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80880" y="1054080"/>
            <a:ext cx="87631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分电路与积分电路是矩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冲激励下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选取不同的时间常数，可构成输出电压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输入电压波形之间的特定（微分或积分）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601560" y="321480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85800" y="4495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62120" y="5106960"/>
                <a:ext cx="2984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762120" y="57294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输出电压从电阻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8" name=""/>
          <p:cNvGrpSpPr/>
          <p:nvPr/>
        </p:nvGrpSpPr>
        <p:grpSpPr>
          <a:xfrm>
            <a:off x="2286000" y="3276720"/>
            <a:ext cx="3505320" cy="1828800"/>
            <a:chOff x="2286000" y="3276720"/>
            <a:chExt cx="3505320" cy="1828800"/>
          </a:xfrm>
        </p:grpSpPr>
        <p:sp>
          <p:nvSpPr>
            <p:cNvPr id="2869" name=""/>
            <p:cNvSpPr/>
            <p:nvPr/>
          </p:nvSpPr>
          <p:spPr>
            <a:xfrm>
              <a:off x="2286000" y="4521240"/>
              <a:ext cx="3505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0" name=""/>
                <p:cNvSpPr txBox="1"/>
                <p:nvPr/>
              </p:nvSpPr>
              <p:spPr>
                <a:xfrm>
                  <a:off x="2819520" y="3276720"/>
                  <a:ext cx="558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871" name=""/>
            <p:cNvGrpSpPr/>
            <p:nvPr/>
          </p:nvGrpSpPr>
          <p:grpSpPr>
            <a:xfrm>
              <a:off x="2356560" y="3581280"/>
              <a:ext cx="3228120" cy="1361160"/>
              <a:chOff x="2356560" y="3581280"/>
              <a:chExt cx="3228120" cy="1361160"/>
            </a:xfrm>
          </p:grpSpPr>
          <p:sp>
            <p:nvSpPr>
              <p:cNvPr id="2872" name=""/>
              <p:cNvSpPr/>
              <p:nvPr/>
            </p:nvSpPr>
            <p:spPr>
              <a:xfrm flipV="1">
                <a:off x="2749680" y="3581280"/>
                <a:ext cx="0" cy="92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V="1">
                <a:off x="3454560" y="4014720"/>
                <a:ext cx="0" cy="473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 flipV="1">
                <a:off x="2731680" y="4014720"/>
                <a:ext cx="722520" cy="158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978360" y="4487760"/>
                <a:ext cx="30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2749680" y="4492800"/>
                <a:ext cx="2698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4979880" y="4014720"/>
                <a:ext cx="0" cy="473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>
                <a:off x="4222440" y="4030560"/>
                <a:ext cx="757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4210200" y="4014720"/>
                <a:ext cx="0" cy="473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230800" y="4419720"/>
                <a:ext cx="3538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356560" y="3747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2766960" y="4614840"/>
                <a:ext cx="68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2754360" y="4484520"/>
                <a:ext cx="0" cy="3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454560" y="4484520"/>
                <a:ext cx="0" cy="3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2411280" y="4172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2907000" y="3900600"/>
                <a:ext cx="394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7" name=""/>
          <p:cNvGrpSpPr/>
          <p:nvPr/>
        </p:nvGrpSpPr>
        <p:grpSpPr>
          <a:xfrm>
            <a:off x="609480" y="895320"/>
            <a:ext cx="7772400" cy="171360"/>
            <a:chOff x="609480" y="895320"/>
            <a:chExt cx="7772400" cy="171360"/>
          </a:xfrm>
        </p:grpSpPr>
        <p:pic>
          <p:nvPicPr>
            <p:cNvPr id="2888" name="" descr=""/>
            <p:cNvPicPr/>
            <p:nvPr/>
          </p:nvPicPr>
          <p:blipFill>
            <a:blip r:embed="rId2"/>
            <a:stretch/>
          </p:blipFill>
          <p:spPr>
            <a:xfrm>
              <a:off x="15145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9" name="" descr=""/>
            <p:cNvPicPr/>
            <p:nvPr/>
          </p:nvPicPr>
          <p:blipFill>
            <a:blip r:embed="rId3"/>
            <a:stretch/>
          </p:blipFill>
          <p:spPr>
            <a:xfrm>
              <a:off x="16570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0" name="" descr=""/>
            <p:cNvPicPr/>
            <p:nvPr/>
          </p:nvPicPr>
          <p:blipFill>
            <a:blip r:embed="rId4"/>
            <a:stretch/>
          </p:blipFill>
          <p:spPr>
            <a:xfrm>
              <a:off x="18190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1" name="" descr=""/>
            <p:cNvPicPr/>
            <p:nvPr/>
          </p:nvPicPr>
          <p:blipFill>
            <a:blip r:embed="rId5"/>
            <a:stretch/>
          </p:blipFill>
          <p:spPr>
            <a:xfrm>
              <a:off x="21142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2" name="" descr=""/>
            <p:cNvPicPr/>
            <p:nvPr/>
          </p:nvPicPr>
          <p:blipFill>
            <a:blip r:embed="rId6"/>
            <a:stretch/>
          </p:blipFill>
          <p:spPr>
            <a:xfrm>
              <a:off x="22762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3" name="" descr=""/>
            <p:cNvPicPr/>
            <p:nvPr/>
          </p:nvPicPr>
          <p:blipFill>
            <a:blip r:embed="rId7"/>
            <a:stretch/>
          </p:blipFill>
          <p:spPr>
            <a:xfrm>
              <a:off x="24289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4" name="" descr=""/>
            <p:cNvPicPr/>
            <p:nvPr/>
          </p:nvPicPr>
          <p:blipFill>
            <a:blip r:embed="rId8"/>
            <a:stretch/>
          </p:blipFill>
          <p:spPr>
            <a:xfrm>
              <a:off x="25714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5" name="" descr=""/>
            <p:cNvPicPr/>
            <p:nvPr/>
          </p:nvPicPr>
          <p:blipFill>
            <a:blip r:embed="rId9"/>
            <a:stretch/>
          </p:blipFill>
          <p:spPr>
            <a:xfrm>
              <a:off x="27334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6" name="" descr=""/>
            <p:cNvPicPr/>
            <p:nvPr/>
          </p:nvPicPr>
          <p:blipFill>
            <a:blip r:embed="rId10"/>
            <a:stretch/>
          </p:blipFill>
          <p:spPr>
            <a:xfrm>
              <a:off x="30286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7" name="" descr=""/>
            <p:cNvPicPr/>
            <p:nvPr/>
          </p:nvPicPr>
          <p:blipFill>
            <a:blip r:embed="rId11"/>
            <a:stretch/>
          </p:blipFill>
          <p:spPr>
            <a:xfrm>
              <a:off x="31906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8" name="" descr=""/>
            <p:cNvPicPr/>
            <p:nvPr/>
          </p:nvPicPr>
          <p:blipFill>
            <a:blip r:embed="rId12"/>
            <a:stretch/>
          </p:blipFill>
          <p:spPr>
            <a:xfrm>
              <a:off x="33433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9" name="" descr=""/>
            <p:cNvPicPr/>
            <p:nvPr/>
          </p:nvPicPr>
          <p:blipFill>
            <a:blip r:embed="rId13"/>
            <a:stretch/>
          </p:blipFill>
          <p:spPr>
            <a:xfrm>
              <a:off x="34858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0" name="" descr=""/>
            <p:cNvPicPr/>
            <p:nvPr/>
          </p:nvPicPr>
          <p:blipFill>
            <a:blip r:embed="rId14"/>
            <a:stretch/>
          </p:blipFill>
          <p:spPr>
            <a:xfrm>
              <a:off x="19717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1" name="" descr=""/>
            <p:cNvPicPr/>
            <p:nvPr/>
          </p:nvPicPr>
          <p:blipFill>
            <a:blip r:embed="rId15"/>
            <a:stretch/>
          </p:blipFill>
          <p:spPr>
            <a:xfrm>
              <a:off x="28861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2" name="" descr=""/>
            <p:cNvPicPr/>
            <p:nvPr/>
          </p:nvPicPr>
          <p:blipFill>
            <a:blip r:embed="rId16"/>
            <a:stretch/>
          </p:blipFill>
          <p:spPr>
            <a:xfrm>
              <a:off x="36478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3" name="" descr=""/>
            <p:cNvPicPr/>
            <p:nvPr/>
          </p:nvPicPr>
          <p:blipFill>
            <a:blip r:embed="rId17"/>
            <a:stretch/>
          </p:blipFill>
          <p:spPr>
            <a:xfrm>
              <a:off x="38005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4" name="" descr=""/>
            <p:cNvPicPr/>
            <p:nvPr/>
          </p:nvPicPr>
          <p:blipFill>
            <a:blip r:embed="rId18"/>
            <a:stretch/>
          </p:blipFill>
          <p:spPr>
            <a:xfrm>
              <a:off x="39430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5" name="" descr=""/>
            <p:cNvPicPr/>
            <p:nvPr/>
          </p:nvPicPr>
          <p:blipFill>
            <a:blip r:embed="rId19"/>
            <a:stretch/>
          </p:blipFill>
          <p:spPr>
            <a:xfrm>
              <a:off x="41050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6" name="" descr=""/>
            <p:cNvPicPr/>
            <p:nvPr/>
          </p:nvPicPr>
          <p:blipFill>
            <a:blip r:embed="rId20"/>
            <a:stretch/>
          </p:blipFill>
          <p:spPr>
            <a:xfrm>
              <a:off x="42577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7" name="" descr=""/>
            <p:cNvPicPr/>
            <p:nvPr/>
          </p:nvPicPr>
          <p:blipFill>
            <a:blip r:embed="rId21"/>
            <a:stretch/>
          </p:blipFill>
          <p:spPr>
            <a:xfrm>
              <a:off x="44002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8" name="" descr=""/>
            <p:cNvPicPr/>
            <p:nvPr/>
          </p:nvPicPr>
          <p:blipFill>
            <a:blip r:embed="rId22"/>
            <a:stretch/>
          </p:blipFill>
          <p:spPr>
            <a:xfrm>
              <a:off x="45622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9" name="" descr=""/>
            <p:cNvPicPr/>
            <p:nvPr/>
          </p:nvPicPr>
          <p:blipFill>
            <a:blip r:embed="rId23"/>
            <a:stretch/>
          </p:blipFill>
          <p:spPr>
            <a:xfrm>
              <a:off x="48574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0" name="" descr=""/>
            <p:cNvPicPr/>
            <p:nvPr/>
          </p:nvPicPr>
          <p:blipFill>
            <a:blip r:embed="rId24"/>
            <a:stretch/>
          </p:blipFill>
          <p:spPr>
            <a:xfrm>
              <a:off x="50194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1" name="" descr=""/>
            <p:cNvPicPr/>
            <p:nvPr/>
          </p:nvPicPr>
          <p:blipFill>
            <a:blip r:embed="rId25"/>
            <a:stretch/>
          </p:blipFill>
          <p:spPr>
            <a:xfrm>
              <a:off x="51721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2" name="" descr=""/>
            <p:cNvPicPr/>
            <p:nvPr/>
          </p:nvPicPr>
          <p:blipFill>
            <a:blip r:embed="rId26"/>
            <a:stretch/>
          </p:blipFill>
          <p:spPr>
            <a:xfrm>
              <a:off x="53146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3" name="" descr=""/>
            <p:cNvPicPr/>
            <p:nvPr/>
          </p:nvPicPr>
          <p:blipFill>
            <a:blip r:embed="rId27"/>
            <a:stretch/>
          </p:blipFill>
          <p:spPr>
            <a:xfrm>
              <a:off x="54766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4" name="" descr=""/>
            <p:cNvPicPr/>
            <p:nvPr/>
          </p:nvPicPr>
          <p:blipFill>
            <a:blip r:embed="rId28"/>
            <a:stretch/>
          </p:blipFill>
          <p:spPr>
            <a:xfrm>
              <a:off x="57718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5" name="" descr=""/>
            <p:cNvPicPr/>
            <p:nvPr/>
          </p:nvPicPr>
          <p:blipFill>
            <a:blip r:embed="rId29"/>
            <a:stretch/>
          </p:blipFill>
          <p:spPr>
            <a:xfrm>
              <a:off x="59338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6" name="" descr=""/>
            <p:cNvPicPr/>
            <p:nvPr/>
          </p:nvPicPr>
          <p:blipFill>
            <a:blip r:embed="rId30"/>
            <a:stretch/>
          </p:blipFill>
          <p:spPr>
            <a:xfrm>
              <a:off x="60865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7" name="" descr=""/>
            <p:cNvPicPr/>
            <p:nvPr/>
          </p:nvPicPr>
          <p:blipFill>
            <a:blip r:embed="rId31"/>
            <a:stretch/>
          </p:blipFill>
          <p:spPr>
            <a:xfrm>
              <a:off x="62290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8" name="" descr=""/>
            <p:cNvPicPr/>
            <p:nvPr/>
          </p:nvPicPr>
          <p:blipFill>
            <a:blip r:embed="rId32"/>
            <a:stretch/>
          </p:blipFill>
          <p:spPr>
            <a:xfrm>
              <a:off x="47149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9" name="" descr=""/>
            <p:cNvPicPr/>
            <p:nvPr/>
          </p:nvPicPr>
          <p:blipFill>
            <a:blip r:embed="rId33"/>
            <a:stretch/>
          </p:blipFill>
          <p:spPr>
            <a:xfrm>
              <a:off x="56293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0" name="" descr=""/>
            <p:cNvPicPr/>
            <p:nvPr/>
          </p:nvPicPr>
          <p:blipFill>
            <a:blip r:embed="rId34"/>
            <a:stretch/>
          </p:blipFill>
          <p:spPr>
            <a:xfrm>
              <a:off x="63910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1" name="" descr=""/>
            <p:cNvPicPr/>
            <p:nvPr/>
          </p:nvPicPr>
          <p:blipFill>
            <a:blip r:embed="rId35"/>
            <a:stretch/>
          </p:blipFill>
          <p:spPr>
            <a:xfrm>
              <a:off x="65437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2" name="" descr=""/>
            <p:cNvPicPr/>
            <p:nvPr/>
          </p:nvPicPr>
          <p:blipFill>
            <a:blip r:embed="rId36"/>
            <a:stretch/>
          </p:blipFill>
          <p:spPr>
            <a:xfrm>
              <a:off x="66862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3" name="" descr=""/>
            <p:cNvPicPr/>
            <p:nvPr/>
          </p:nvPicPr>
          <p:blipFill>
            <a:blip r:embed="rId37"/>
            <a:stretch/>
          </p:blipFill>
          <p:spPr>
            <a:xfrm>
              <a:off x="68482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4" name="" descr=""/>
            <p:cNvPicPr/>
            <p:nvPr/>
          </p:nvPicPr>
          <p:blipFill>
            <a:blip r:embed="rId38"/>
            <a:stretch/>
          </p:blipFill>
          <p:spPr>
            <a:xfrm>
              <a:off x="70009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5" name="" descr=""/>
            <p:cNvPicPr/>
            <p:nvPr/>
          </p:nvPicPr>
          <p:blipFill>
            <a:blip r:embed="rId39"/>
            <a:stretch/>
          </p:blipFill>
          <p:spPr>
            <a:xfrm>
              <a:off x="71434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6" name="" descr=""/>
            <p:cNvPicPr/>
            <p:nvPr/>
          </p:nvPicPr>
          <p:blipFill>
            <a:blip r:embed="rId40"/>
            <a:stretch/>
          </p:blipFill>
          <p:spPr>
            <a:xfrm>
              <a:off x="73054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7" name="" descr=""/>
            <p:cNvPicPr/>
            <p:nvPr/>
          </p:nvPicPr>
          <p:blipFill>
            <a:blip r:embed="rId41"/>
            <a:stretch/>
          </p:blipFill>
          <p:spPr>
            <a:xfrm>
              <a:off x="76006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8" name="" descr=""/>
            <p:cNvPicPr/>
            <p:nvPr/>
          </p:nvPicPr>
          <p:blipFill>
            <a:blip r:embed="rId42"/>
            <a:stretch/>
          </p:blipFill>
          <p:spPr>
            <a:xfrm>
              <a:off x="77626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9" name="" descr=""/>
            <p:cNvPicPr/>
            <p:nvPr/>
          </p:nvPicPr>
          <p:blipFill>
            <a:blip r:embed="rId43"/>
            <a:stretch/>
          </p:blipFill>
          <p:spPr>
            <a:xfrm>
              <a:off x="79153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0" name="" descr=""/>
            <p:cNvPicPr/>
            <p:nvPr/>
          </p:nvPicPr>
          <p:blipFill>
            <a:blip r:embed="rId44"/>
            <a:stretch/>
          </p:blipFill>
          <p:spPr>
            <a:xfrm>
              <a:off x="80578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1" name="" descr=""/>
            <p:cNvPicPr/>
            <p:nvPr/>
          </p:nvPicPr>
          <p:blipFill>
            <a:blip r:embed="rId45"/>
            <a:stretch/>
          </p:blipFill>
          <p:spPr>
            <a:xfrm>
              <a:off x="8219880" y="9050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2" name="" descr=""/>
            <p:cNvPicPr/>
            <p:nvPr/>
          </p:nvPicPr>
          <p:blipFill>
            <a:blip r:embed="rId46"/>
            <a:stretch/>
          </p:blipFill>
          <p:spPr>
            <a:xfrm>
              <a:off x="7458120" y="905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3" name=""/>
            <p:cNvGrpSpPr/>
            <p:nvPr/>
          </p:nvGrpSpPr>
          <p:grpSpPr>
            <a:xfrm>
              <a:off x="609480" y="895320"/>
              <a:ext cx="923760" cy="162000"/>
              <a:chOff x="609480" y="895320"/>
              <a:chExt cx="923760" cy="162000"/>
            </a:xfrm>
          </p:grpSpPr>
          <p:pic>
            <p:nvPicPr>
              <p:cNvPr id="2934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5240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5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914400" y="895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6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106668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7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120960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8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1371600" y="895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9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60948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940" name=""/>
          <p:cNvGrpSpPr/>
          <p:nvPr/>
        </p:nvGrpSpPr>
        <p:grpSpPr>
          <a:xfrm>
            <a:off x="5562720" y="2895480"/>
            <a:ext cx="3162240" cy="2614680"/>
            <a:chOff x="5562720" y="2895480"/>
            <a:chExt cx="3162240" cy="2614680"/>
          </a:xfrm>
        </p:grpSpPr>
        <p:grpSp>
          <p:nvGrpSpPr>
            <p:cNvPr id="2941" name=""/>
            <p:cNvGrpSpPr/>
            <p:nvPr/>
          </p:nvGrpSpPr>
          <p:grpSpPr>
            <a:xfrm>
              <a:off x="5562720" y="2895480"/>
              <a:ext cx="3162240" cy="2614680"/>
              <a:chOff x="5562720" y="2895480"/>
              <a:chExt cx="3162240" cy="2614680"/>
            </a:xfrm>
          </p:grpSpPr>
          <mc:AlternateContent>
            <mc:Choice xmlns:a14="http://schemas.microsoft.com/office/drawing/2010/main" Requires="a14">
              <p:sp>
                <p:nvSpPr>
                  <p:cNvPr id="2942" name=""/>
                  <p:cNvSpPr txBox="1"/>
                  <p:nvPr/>
                </p:nvSpPr>
                <p:spPr>
                  <a:xfrm>
                    <a:off x="6321600" y="4952880"/>
                    <a:ext cx="1984320" cy="55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43" name=""/>
              <p:cNvSpPr/>
              <p:nvPr/>
            </p:nvSpPr>
            <p:spPr>
              <a:xfrm>
                <a:off x="6769080" y="3048120"/>
                <a:ext cx="384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618240" y="3300480"/>
                <a:ext cx="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769080" y="3502080"/>
                <a:ext cx="17272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5829480" y="3501720"/>
                <a:ext cx="7887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7593120" y="3502080"/>
                <a:ext cx="0" cy="53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524720" y="4011480"/>
                <a:ext cx="179280" cy="468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 flipV="1">
                <a:off x="5799240" y="4933440"/>
                <a:ext cx="2697120" cy="1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781680" y="3962520"/>
                <a:ext cx="57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51" name=""/>
                  <p:cNvSpPr txBox="1"/>
                  <p:nvPr/>
                </p:nvSpPr>
                <p:spPr>
                  <a:xfrm>
                    <a:off x="5562720" y="3925800"/>
                    <a:ext cx="419040" cy="56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2" name=""/>
              <p:cNvSpPr/>
              <p:nvPr/>
            </p:nvSpPr>
            <p:spPr>
              <a:xfrm>
                <a:off x="6769080" y="3300480"/>
                <a:ext cx="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53" name=""/>
                  <p:cNvSpPr txBox="1"/>
                  <p:nvPr/>
                </p:nvSpPr>
                <p:spPr>
                  <a:xfrm>
                    <a:off x="8247240" y="3913200"/>
                    <a:ext cx="47772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4" name=""/>
              <p:cNvSpPr/>
              <p:nvPr/>
            </p:nvSpPr>
            <p:spPr>
              <a:xfrm>
                <a:off x="5713560" y="4892760"/>
                <a:ext cx="79200" cy="79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753160" y="3463920"/>
                <a:ext cx="79200" cy="79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493120" y="4906800"/>
                <a:ext cx="79560" cy="79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459640" y="3444840"/>
                <a:ext cx="79560" cy="79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596200" y="338148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621040" y="4357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310600" y="338148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8335800" y="4357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829480" y="3352680"/>
                <a:ext cx="6094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63" name=""/>
                  <p:cNvSpPr txBox="1"/>
                  <p:nvPr/>
                </p:nvSpPr>
                <p:spPr>
                  <a:xfrm>
                    <a:off x="5972040" y="2895480"/>
                    <a:ext cx="238320" cy="46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64" name=""/>
                  <p:cNvSpPr txBox="1"/>
                  <p:nvPr/>
                </p:nvSpPr>
                <p:spPr>
                  <a:xfrm>
                    <a:off x="6485040" y="3583080"/>
                    <a:ext cx="47916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65" name=""/>
              <p:cNvSpPr/>
              <p:nvPr/>
            </p:nvSpPr>
            <p:spPr>
              <a:xfrm>
                <a:off x="6135840" y="358128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916680" y="342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7620120" y="4492800"/>
                <a:ext cx="0" cy="46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8" name=""/>
            <p:cNvSpPr/>
            <p:nvPr/>
          </p:nvSpPr>
          <p:spPr>
            <a:xfrm flipV="1">
              <a:off x="7543800" y="48769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7543800" y="3429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133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90040" y="7621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1752480" y="1066680"/>
                <a:ext cx="2122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74" name=""/>
          <p:cNvSpPr/>
          <p:nvPr/>
        </p:nvSpPr>
        <p:spPr>
          <a:xfrm>
            <a:off x="746280" y="1797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493560" y="1600200"/>
            <a:ext cx="4650120" cy="1219320"/>
            <a:chOff x="493560" y="1600200"/>
            <a:chExt cx="4650120" cy="1219320"/>
          </a:xfrm>
        </p:grpSpPr>
        <mc:AlternateContent>
          <mc:Choice xmlns:a14="http://schemas.microsoft.com/office/drawing/2010/main" Requires="a14">
            <p:sp>
              <p:nvSpPr>
                <p:cNvPr id="2976" name=""/>
                <p:cNvSpPr txBox="1"/>
                <p:nvPr/>
              </p:nvSpPr>
              <p:spPr>
                <a:xfrm>
                  <a:off x="493560" y="1600200"/>
                  <a:ext cx="465012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当R</m:t>
                      </m:r>
                      <m:r>
                        <m:rPr>
                          <m:lit/>
                          <m:nor/>
                        </m:rPr>
                        <m:t xml:space="preserve">很小时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很小，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7" name=""/>
                <p:cNvSpPr txBox="1"/>
                <p:nvPr/>
              </p:nvSpPr>
              <p:spPr>
                <a:xfrm>
                  <a:off x="2879640" y="2138400"/>
                  <a:ext cx="132876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566640" y="2611440"/>
                <a:ext cx="3591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1295280" y="3268800"/>
                <a:ext cx="16765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0" name=""/>
          <p:cNvGrpSpPr/>
          <p:nvPr/>
        </p:nvGrpSpPr>
        <p:grpSpPr>
          <a:xfrm>
            <a:off x="905760" y="4133880"/>
            <a:ext cx="3111120" cy="1581480"/>
            <a:chOff x="905760" y="4133880"/>
            <a:chExt cx="3111120" cy="1581480"/>
          </a:xfrm>
        </p:grpSpPr>
        <p:sp>
          <p:nvSpPr>
            <p:cNvPr id="2981" name=""/>
            <p:cNvSpPr/>
            <p:nvPr/>
          </p:nvSpPr>
          <p:spPr>
            <a:xfrm>
              <a:off x="905760" y="4133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公式可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431360" y="4683240"/>
              <a:ext cx="2585520" cy="1032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输出电压近似与输入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压对时间的微分成正比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3" name=""/>
          <p:cNvSpPr/>
          <p:nvPr/>
        </p:nvSpPr>
        <p:spPr>
          <a:xfrm>
            <a:off x="6858000" y="4114800"/>
            <a:ext cx="0" cy="16002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6858000" y="5689440"/>
            <a:ext cx="849960" cy="1176840"/>
            <a:chOff x="6858000" y="5689440"/>
            <a:chExt cx="849960" cy="1176840"/>
          </a:xfrm>
        </p:grpSpPr>
        <p:sp>
          <p:nvSpPr>
            <p:cNvPr id="2985" name=""/>
            <p:cNvSpPr/>
            <p:nvPr/>
          </p:nvSpPr>
          <p:spPr>
            <a:xfrm>
              <a:off x="6858000" y="5722920"/>
              <a:ext cx="0" cy="496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rot="10800000">
              <a:off x="6858000" y="5689440"/>
              <a:ext cx="849960" cy="117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7" name=""/>
          <p:cNvSpPr/>
          <p:nvPr/>
        </p:nvSpPr>
        <p:spPr>
          <a:xfrm>
            <a:off x="622440" y="572940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8" name=""/>
          <p:cNvGrpSpPr/>
          <p:nvPr/>
        </p:nvGrpSpPr>
        <p:grpSpPr>
          <a:xfrm>
            <a:off x="5835600" y="4604040"/>
            <a:ext cx="672480" cy="1161360"/>
            <a:chOff x="5835600" y="4604040"/>
            <a:chExt cx="672480" cy="1161360"/>
          </a:xfrm>
        </p:grpSpPr>
        <p:sp>
          <p:nvSpPr>
            <p:cNvPr id="2989" name=""/>
            <p:cNvSpPr/>
            <p:nvPr/>
          </p:nvSpPr>
          <p:spPr>
            <a:xfrm>
              <a:off x="5835600" y="4604040"/>
              <a:ext cx="672480" cy="110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835600" y="5232240"/>
              <a:ext cx="0" cy="53316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1" name=""/>
          <p:cNvGrpSpPr/>
          <p:nvPr/>
        </p:nvGrpSpPr>
        <p:grpSpPr>
          <a:xfrm>
            <a:off x="5334120" y="2743200"/>
            <a:ext cx="2987640" cy="1995480"/>
            <a:chOff x="5334120" y="2743200"/>
            <a:chExt cx="2987640" cy="1995480"/>
          </a:xfrm>
        </p:grpSpPr>
        <p:grpSp>
          <p:nvGrpSpPr>
            <p:cNvPr id="2992" name=""/>
            <p:cNvGrpSpPr/>
            <p:nvPr/>
          </p:nvGrpSpPr>
          <p:grpSpPr>
            <a:xfrm>
              <a:off x="5334120" y="2743200"/>
              <a:ext cx="2987640" cy="1995480"/>
              <a:chOff x="5334120" y="2743200"/>
              <a:chExt cx="2987640" cy="1995480"/>
            </a:xfrm>
          </p:grpSpPr>
          <mc:AlternateContent>
            <mc:Choice xmlns:a14="http://schemas.microsoft.com/office/drawing/2010/main" Requires="a14">
              <p:sp>
                <p:nvSpPr>
                  <p:cNvPr id="2993" name=""/>
                  <p:cNvSpPr txBox="1"/>
                  <p:nvPr/>
                </p:nvSpPr>
                <p:spPr>
                  <a:xfrm>
                    <a:off x="5828040" y="2743200"/>
                    <a:ext cx="542880" cy="61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994" name=""/>
              <p:cNvGrpSpPr/>
              <p:nvPr/>
            </p:nvGrpSpPr>
            <p:grpSpPr>
              <a:xfrm>
                <a:off x="5334120" y="3095280"/>
                <a:ext cx="2987640" cy="1643400"/>
                <a:chOff x="5334120" y="3095280"/>
                <a:chExt cx="2987640" cy="164340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7826760" y="4162320"/>
                  <a:ext cx="4950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6845400" y="4164120"/>
                  <a:ext cx="10494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 flipV="1">
                  <a:off x="6861240" y="3641400"/>
                  <a:ext cx="0" cy="61596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 flipV="1">
                  <a:off x="5799240" y="3095280"/>
                  <a:ext cx="0" cy="142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5770800" y="3646440"/>
                  <a:ext cx="1114560" cy="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5334120" y="3381480"/>
                  <a:ext cx="42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5818320" y="4216320"/>
                  <a:ext cx="218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5813640" y="4446720"/>
                  <a:ext cx="101448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6134400" y="3606840"/>
                  <a:ext cx="6476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04" name=""/>
            <p:cNvSpPr/>
            <p:nvPr/>
          </p:nvSpPr>
          <p:spPr>
            <a:xfrm>
              <a:off x="5388480" y="396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5412240" y="4495680"/>
            <a:ext cx="3045960" cy="1722600"/>
            <a:chOff x="5412240" y="4495680"/>
            <a:chExt cx="3045960" cy="1722600"/>
          </a:xfrm>
        </p:grpSpPr>
        <p:grpSp>
          <p:nvGrpSpPr>
            <p:cNvPr id="3006" name=""/>
            <p:cNvGrpSpPr/>
            <p:nvPr/>
          </p:nvGrpSpPr>
          <p:grpSpPr>
            <a:xfrm>
              <a:off x="5845320" y="4495680"/>
              <a:ext cx="2612880" cy="1722600"/>
              <a:chOff x="5845320" y="4495680"/>
              <a:chExt cx="2612880" cy="1722600"/>
            </a:xfrm>
          </p:grpSpPr>
          <p:sp>
            <p:nvSpPr>
              <p:cNvPr id="3007" name=""/>
              <p:cNvSpPr/>
              <p:nvPr/>
            </p:nvSpPr>
            <p:spPr>
              <a:xfrm flipV="1">
                <a:off x="5845320" y="4724280"/>
                <a:ext cx="1440" cy="14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846760" y="5716440"/>
                <a:ext cx="23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962840" y="5613480"/>
                <a:ext cx="4953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10" name=""/>
                  <p:cNvSpPr txBox="1"/>
                  <p:nvPr/>
                </p:nvSpPr>
                <p:spPr>
                  <a:xfrm>
                    <a:off x="5934240" y="4495680"/>
                    <a:ext cx="466560" cy="59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011" name=""/>
            <p:cNvSpPr/>
            <p:nvPr/>
          </p:nvSpPr>
          <p:spPr>
            <a:xfrm>
              <a:off x="5412240" y="5486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5562720" y="380880"/>
            <a:ext cx="2971800" cy="2492640"/>
            <a:chOff x="5562720" y="380880"/>
            <a:chExt cx="2971800" cy="2492640"/>
          </a:xfrm>
        </p:grpSpPr>
        <p:grpSp>
          <p:nvGrpSpPr>
            <p:cNvPr id="3013" name=""/>
            <p:cNvGrpSpPr/>
            <p:nvPr/>
          </p:nvGrpSpPr>
          <p:grpSpPr>
            <a:xfrm>
              <a:off x="5562720" y="380880"/>
              <a:ext cx="2971800" cy="2492640"/>
              <a:chOff x="5562720" y="380880"/>
              <a:chExt cx="2971800" cy="2492640"/>
            </a:xfrm>
          </p:grpSpPr>
          <mc:AlternateContent>
            <mc:Choice xmlns:a14="http://schemas.microsoft.com/office/drawing/2010/main" Requires="a14">
              <p:sp>
                <p:nvSpPr>
                  <p:cNvPr id="3014" name=""/>
                  <p:cNvSpPr txBox="1"/>
                  <p:nvPr/>
                </p:nvSpPr>
                <p:spPr>
                  <a:xfrm>
                    <a:off x="6245280" y="2376360"/>
                    <a:ext cx="1893960" cy="49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15" name=""/>
              <p:cNvSpPr/>
              <p:nvPr/>
            </p:nvSpPr>
            <p:spPr>
              <a:xfrm>
                <a:off x="6626160" y="457200"/>
                <a:ext cx="384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554880" y="763560"/>
                <a:ext cx="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696000" y="954000"/>
                <a:ext cx="1623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5813280" y="953640"/>
                <a:ext cx="7416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7470720" y="1828440"/>
                <a:ext cx="0" cy="47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383600" y="1420920"/>
                <a:ext cx="168120" cy="442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H="1" flipV="1">
                <a:off x="5784840" y="2306160"/>
                <a:ext cx="2535120" cy="1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005600" y="1374840"/>
                <a:ext cx="538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3" name=""/>
                  <p:cNvSpPr txBox="1"/>
                  <p:nvPr/>
                </p:nvSpPr>
                <p:spPr>
                  <a:xfrm>
                    <a:off x="5562720" y="1353960"/>
                    <a:ext cx="393480" cy="53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4" name=""/>
              <p:cNvSpPr/>
              <p:nvPr/>
            </p:nvSpPr>
            <p:spPr>
              <a:xfrm>
                <a:off x="6696000" y="763560"/>
                <a:ext cx="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5" name=""/>
                  <p:cNvSpPr txBox="1"/>
                  <p:nvPr/>
                </p:nvSpPr>
                <p:spPr>
                  <a:xfrm>
                    <a:off x="8085240" y="1341360"/>
                    <a:ext cx="449280" cy="550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6" name=""/>
              <p:cNvSpPr/>
              <p:nvPr/>
            </p:nvSpPr>
            <p:spPr>
              <a:xfrm>
                <a:off x="5703840" y="2266920"/>
                <a:ext cx="74520" cy="74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742000" y="917640"/>
                <a:ext cx="74520" cy="74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317080" y="2281320"/>
                <a:ext cx="74520" cy="74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8285040" y="900000"/>
                <a:ext cx="74880" cy="74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594400" y="884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618160" y="1762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8145720" y="884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8169120" y="1762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813280" y="812880"/>
                <a:ext cx="573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35" name=""/>
                  <p:cNvSpPr txBox="1"/>
                  <p:nvPr/>
                </p:nvSpPr>
                <p:spPr>
                  <a:xfrm>
                    <a:off x="5946840" y="380880"/>
                    <a:ext cx="223920" cy="44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36" name=""/>
                  <p:cNvSpPr txBox="1"/>
                  <p:nvPr/>
                </p:nvSpPr>
                <p:spPr>
                  <a:xfrm>
                    <a:off x="6450120" y="990720"/>
                    <a:ext cx="44928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37" name=""/>
              <p:cNvSpPr/>
              <p:nvPr/>
            </p:nvSpPr>
            <p:spPr>
              <a:xfrm>
                <a:off x="6100920" y="990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835680" y="838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7467480" y="948960"/>
                <a:ext cx="0" cy="47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0" name=""/>
            <p:cNvSpPr/>
            <p:nvPr/>
          </p:nvSpPr>
          <p:spPr>
            <a:xfrm flipV="1">
              <a:off x="7391520" y="22543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7391520" y="882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"/>
          <p:cNvSpPr/>
          <p:nvPr/>
        </p:nvSpPr>
        <p:spPr>
          <a:xfrm>
            <a:off x="685800" y="380880"/>
            <a:ext cx="365760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的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2666880" y="3141720"/>
            <a:ext cx="22860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τ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743200" y="5562720"/>
            <a:ext cx="18288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τ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2743200" y="4419720"/>
            <a:ext cx="19810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τ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457200" y="3767040"/>
            <a:ext cx="243828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应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于波形变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作为触发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7" name=""/>
          <p:cNvGrpSpPr/>
          <p:nvPr/>
        </p:nvGrpSpPr>
        <p:grpSpPr>
          <a:xfrm>
            <a:off x="5016600" y="1709640"/>
            <a:ext cx="520200" cy="963720"/>
            <a:chOff x="5016600" y="1709640"/>
            <a:chExt cx="520200" cy="963720"/>
          </a:xfrm>
        </p:grpSpPr>
        <p:sp>
          <p:nvSpPr>
            <p:cNvPr id="3048" name=""/>
            <p:cNvSpPr/>
            <p:nvPr/>
          </p:nvSpPr>
          <p:spPr>
            <a:xfrm>
              <a:off x="5016600" y="1726200"/>
              <a:ext cx="451800" cy="9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658"/>
                </a:path>
              </a:pathLst>
            </a:custGeom>
            <a:noFill/>
            <a:ln cap="rnd"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5239800" y="1709640"/>
              <a:ext cx="297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5546880" y="1236240"/>
            <a:ext cx="520200" cy="963720"/>
            <a:chOff x="5546880" y="1236240"/>
            <a:chExt cx="520200" cy="963720"/>
          </a:xfrm>
        </p:grpSpPr>
        <p:sp>
          <p:nvSpPr>
            <p:cNvPr id="3051" name=""/>
            <p:cNvSpPr/>
            <p:nvPr/>
          </p:nvSpPr>
          <p:spPr>
            <a:xfrm flipV="1">
              <a:off x="5546880" y="1235880"/>
              <a:ext cx="451800" cy="9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658"/>
                </a:path>
              </a:pathLst>
            </a:custGeom>
            <a:noFill/>
            <a:ln cap="rnd"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770080" y="2199960"/>
              <a:ext cx="297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6091200" y="1695600"/>
            <a:ext cx="520200" cy="963000"/>
            <a:chOff x="6091200" y="1695600"/>
            <a:chExt cx="520200" cy="963000"/>
          </a:xfrm>
        </p:grpSpPr>
        <p:sp>
          <p:nvSpPr>
            <p:cNvPr id="3054" name=""/>
            <p:cNvSpPr/>
            <p:nvPr/>
          </p:nvSpPr>
          <p:spPr>
            <a:xfrm>
              <a:off x="6091200" y="1712160"/>
              <a:ext cx="451800" cy="94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658"/>
                </a:path>
              </a:pathLst>
            </a:custGeom>
            <a:noFill/>
            <a:ln cap="rnd"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14400" y="1695600"/>
              <a:ext cx="297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6621480" y="1222920"/>
            <a:ext cx="520200" cy="963000"/>
            <a:chOff x="6621480" y="1222920"/>
            <a:chExt cx="520200" cy="963000"/>
          </a:xfrm>
        </p:grpSpPr>
        <p:sp>
          <p:nvSpPr>
            <p:cNvPr id="3057" name=""/>
            <p:cNvSpPr/>
            <p:nvPr/>
          </p:nvSpPr>
          <p:spPr>
            <a:xfrm flipV="1">
              <a:off x="6621480" y="1222560"/>
              <a:ext cx="451800" cy="94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658"/>
                </a:path>
              </a:pathLst>
            </a:custGeom>
            <a:noFill/>
            <a:ln cap="rnd"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844680" y="2185920"/>
              <a:ext cx="297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7167600" y="1222920"/>
            <a:ext cx="1048680" cy="1435680"/>
            <a:chOff x="7167600" y="1222920"/>
            <a:chExt cx="1048680" cy="1435680"/>
          </a:xfrm>
        </p:grpSpPr>
        <p:grpSp>
          <p:nvGrpSpPr>
            <p:cNvPr id="3060" name=""/>
            <p:cNvGrpSpPr/>
            <p:nvPr/>
          </p:nvGrpSpPr>
          <p:grpSpPr>
            <a:xfrm>
              <a:off x="7167600" y="1695600"/>
              <a:ext cx="519840" cy="963000"/>
              <a:chOff x="7167600" y="1695600"/>
              <a:chExt cx="519840" cy="963000"/>
            </a:xfrm>
          </p:grpSpPr>
          <p:sp>
            <p:nvSpPr>
              <p:cNvPr id="3061" name=""/>
              <p:cNvSpPr/>
              <p:nvPr/>
            </p:nvSpPr>
            <p:spPr>
              <a:xfrm>
                <a:off x="7167600" y="1712160"/>
                <a:ext cx="451080" cy="94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06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0658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390440" y="1695600"/>
                <a:ext cx="29700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3" name=""/>
            <p:cNvGrpSpPr/>
            <p:nvPr/>
          </p:nvGrpSpPr>
          <p:grpSpPr>
            <a:xfrm>
              <a:off x="7696440" y="1222920"/>
              <a:ext cx="519840" cy="963000"/>
              <a:chOff x="7696440" y="1222920"/>
              <a:chExt cx="519840" cy="963000"/>
            </a:xfrm>
          </p:grpSpPr>
          <p:sp>
            <p:nvSpPr>
              <p:cNvPr id="3064" name=""/>
              <p:cNvSpPr/>
              <p:nvPr/>
            </p:nvSpPr>
            <p:spPr>
              <a:xfrm flipV="1">
                <a:off x="7696440" y="1222560"/>
                <a:ext cx="451080" cy="94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06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0658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919280" y="2185920"/>
                <a:ext cx="29700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6" name=""/>
          <p:cNvGrpSpPr/>
          <p:nvPr/>
        </p:nvGrpSpPr>
        <p:grpSpPr>
          <a:xfrm>
            <a:off x="5041800" y="1454040"/>
            <a:ext cx="3398040" cy="520560"/>
            <a:chOff x="5041800" y="1454040"/>
            <a:chExt cx="3398040" cy="520560"/>
          </a:xfrm>
        </p:grpSpPr>
        <p:sp>
          <p:nvSpPr>
            <p:cNvPr id="3067" name=""/>
            <p:cNvSpPr/>
            <p:nvPr/>
          </p:nvSpPr>
          <p:spPr>
            <a:xfrm>
              <a:off x="5041800" y="1682640"/>
              <a:ext cx="3108600" cy="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003160" y="1454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5543640" y="3276720"/>
            <a:ext cx="0" cy="4842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5557680" y="3303720"/>
            <a:ext cx="552600" cy="86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736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7361"/>
              </a:path>
            </a:pathLst>
          </a:custGeom>
          <a:noFill/>
          <a:ln cap="rnd"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1" name=""/>
          <p:cNvGrpSpPr/>
          <p:nvPr/>
        </p:nvGrpSpPr>
        <p:grpSpPr>
          <a:xfrm>
            <a:off x="6108840" y="2390400"/>
            <a:ext cx="2080440" cy="1776240"/>
            <a:chOff x="6108840" y="2390400"/>
            <a:chExt cx="2080440" cy="1776240"/>
          </a:xfrm>
        </p:grpSpPr>
        <p:sp>
          <p:nvSpPr>
            <p:cNvPr id="3072" name=""/>
            <p:cNvSpPr/>
            <p:nvPr/>
          </p:nvSpPr>
          <p:spPr>
            <a:xfrm flipV="1">
              <a:off x="7130880" y="2739600"/>
              <a:ext cx="0" cy="5857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3" name=""/>
            <p:cNvGrpSpPr/>
            <p:nvPr/>
          </p:nvGrpSpPr>
          <p:grpSpPr>
            <a:xfrm>
              <a:off x="6108840" y="2390400"/>
              <a:ext cx="2080440" cy="1776240"/>
              <a:chOff x="6108840" y="2390400"/>
              <a:chExt cx="2080440" cy="1776240"/>
            </a:xfrm>
          </p:grpSpPr>
          <p:sp>
            <p:nvSpPr>
              <p:cNvPr id="3074" name=""/>
              <p:cNvSpPr/>
              <p:nvPr/>
            </p:nvSpPr>
            <p:spPr>
              <a:xfrm>
                <a:off x="7659720" y="3276360"/>
                <a:ext cx="0" cy="48420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5" name=""/>
              <p:cNvGrpSpPr/>
              <p:nvPr/>
            </p:nvGrpSpPr>
            <p:grpSpPr>
              <a:xfrm>
                <a:off x="6597720" y="3276360"/>
                <a:ext cx="549000" cy="866520"/>
                <a:chOff x="6597720" y="3276360"/>
                <a:chExt cx="549000" cy="866520"/>
              </a:xfrm>
            </p:grpSpPr>
            <p:sp>
              <p:nvSpPr>
                <p:cNvPr id="3076" name=""/>
                <p:cNvSpPr/>
                <p:nvPr/>
              </p:nvSpPr>
              <p:spPr>
                <a:xfrm>
                  <a:off x="6599160" y="3298680"/>
                  <a:ext cx="0" cy="484200"/>
                </a:xfrm>
                <a:prstGeom prst="line">
                  <a:avLst/>
                </a:prstGeom>
                <a:ln w="507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6597720" y="3276360"/>
                  <a:ext cx="549000" cy="86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73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7361"/>
                    </a:path>
                  </a:pathLst>
                </a:custGeom>
                <a:noFill/>
                <a:ln cap="rnd" w="507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8" name=""/>
              <p:cNvSpPr/>
              <p:nvPr/>
            </p:nvSpPr>
            <p:spPr>
              <a:xfrm>
                <a:off x="7659720" y="3300120"/>
                <a:ext cx="529560" cy="86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73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7361"/>
                  </a:path>
                </a:pathLst>
              </a:custGeom>
              <a:noFill/>
              <a:ln cap="rnd"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9" name=""/>
              <p:cNvGrpSpPr/>
              <p:nvPr/>
            </p:nvGrpSpPr>
            <p:grpSpPr>
              <a:xfrm>
                <a:off x="6108840" y="2390400"/>
                <a:ext cx="572760" cy="934920"/>
                <a:chOff x="6108840" y="2390400"/>
                <a:chExt cx="572760" cy="934920"/>
              </a:xfrm>
            </p:grpSpPr>
            <p:sp>
              <p:nvSpPr>
                <p:cNvPr id="3080" name=""/>
                <p:cNvSpPr/>
                <p:nvPr/>
              </p:nvSpPr>
              <p:spPr>
                <a:xfrm flipV="1">
                  <a:off x="6108840" y="2739600"/>
                  <a:ext cx="0" cy="585720"/>
                </a:xfrm>
                <a:prstGeom prst="line">
                  <a:avLst/>
                </a:prstGeom>
                <a:ln w="507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V="1">
                  <a:off x="6132600" y="2390040"/>
                  <a:ext cx="549000" cy="86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73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7361"/>
                    </a:path>
                  </a:pathLst>
                </a:custGeom>
                <a:noFill/>
                <a:ln cap="rnd" w="507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2" name=""/>
              <p:cNvSpPr/>
              <p:nvPr/>
            </p:nvSpPr>
            <p:spPr>
              <a:xfrm flipV="1">
                <a:off x="7137360" y="2402280"/>
                <a:ext cx="551880" cy="8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73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7361"/>
                  </a:path>
                </a:pathLst>
              </a:custGeom>
              <a:noFill/>
              <a:ln cap="rnd"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3" name=""/>
          <p:cNvGrpSpPr/>
          <p:nvPr/>
        </p:nvGrpSpPr>
        <p:grpSpPr>
          <a:xfrm>
            <a:off x="4495680" y="2216160"/>
            <a:ext cx="4013280" cy="1542600"/>
            <a:chOff x="4495680" y="2216160"/>
            <a:chExt cx="4013280" cy="1542600"/>
          </a:xfrm>
        </p:grpSpPr>
        <p:sp>
          <p:nvSpPr>
            <p:cNvPr id="3084" name=""/>
            <p:cNvSpPr/>
            <p:nvPr/>
          </p:nvSpPr>
          <p:spPr>
            <a:xfrm>
              <a:off x="6022800" y="3227400"/>
              <a:ext cx="397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115040" y="3243240"/>
              <a:ext cx="59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6" name=""/>
            <p:cNvGrpSpPr/>
            <p:nvPr/>
          </p:nvGrpSpPr>
          <p:grpSpPr>
            <a:xfrm>
              <a:off x="4495680" y="2216160"/>
              <a:ext cx="4013280" cy="1472760"/>
              <a:chOff x="4495680" y="2216160"/>
              <a:chExt cx="4013280" cy="1472760"/>
            </a:xfrm>
          </p:grpSpPr>
          <mc:AlternateContent>
            <mc:Choice xmlns:a14="http://schemas.microsoft.com/office/drawing/2010/main" Requires="a14">
              <p:sp>
                <p:nvSpPr>
                  <p:cNvPr id="3087" name=""/>
                  <p:cNvSpPr txBox="1"/>
                  <p:nvPr/>
                </p:nvSpPr>
                <p:spPr>
                  <a:xfrm>
                    <a:off x="4495680" y="2216160"/>
                    <a:ext cx="479520" cy="57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88" name=""/>
              <p:cNvSpPr/>
              <p:nvPr/>
            </p:nvSpPr>
            <p:spPr>
              <a:xfrm flipV="1">
                <a:off x="5000760" y="252072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995720" y="3286080"/>
                <a:ext cx="3397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8180280" y="3173400"/>
                <a:ext cx="3286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1" name=""/>
          <p:cNvGrpSpPr/>
          <p:nvPr/>
        </p:nvGrpSpPr>
        <p:grpSpPr>
          <a:xfrm>
            <a:off x="5013360" y="2412360"/>
            <a:ext cx="567720" cy="866520"/>
            <a:chOff x="5013360" y="2412360"/>
            <a:chExt cx="567720" cy="866520"/>
          </a:xfrm>
        </p:grpSpPr>
        <p:sp>
          <p:nvSpPr>
            <p:cNvPr id="3092" name=""/>
            <p:cNvSpPr/>
            <p:nvPr/>
          </p:nvSpPr>
          <p:spPr>
            <a:xfrm flipV="1">
              <a:off x="5029200" y="2412000"/>
              <a:ext cx="55188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361"/>
                </a:path>
              </a:pathLst>
            </a:custGeom>
            <a:noFill/>
            <a:ln cap="rnd"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5013360" y="2766600"/>
              <a:ext cx="0" cy="506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4" name=""/>
          <p:cNvGrpSpPr/>
          <p:nvPr/>
        </p:nvGrpSpPr>
        <p:grpSpPr>
          <a:xfrm>
            <a:off x="5029200" y="2521080"/>
            <a:ext cx="3334320" cy="520560"/>
            <a:chOff x="5029200" y="2521080"/>
            <a:chExt cx="3334320" cy="520560"/>
          </a:xfrm>
        </p:grpSpPr>
        <p:sp>
          <p:nvSpPr>
            <p:cNvPr id="3095" name=""/>
            <p:cNvSpPr/>
            <p:nvPr/>
          </p:nvSpPr>
          <p:spPr>
            <a:xfrm>
              <a:off x="5029200" y="2749680"/>
              <a:ext cx="3108240" cy="0"/>
            </a:xfrm>
            <a:prstGeom prst="line">
              <a:avLst/>
            </a:prstGeom>
            <a:ln w="1908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926840" y="2521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7" name=""/>
          <p:cNvGrpSpPr/>
          <p:nvPr/>
        </p:nvGrpSpPr>
        <p:grpSpPr>
          <a:xfrm>
            <a:off x="4953960" y="3553560"/>
            <a:ext cx="3898800" cy="2015640"/>
            <a:chOff x="4953960" y="3553560"/>
            <a:chExt cx="3898800" cy="2015640"/>
          </a:xfrm>
        </p:grpSpPr>
        <p:sp>
          <p:nvSpPr>
            <p:cNvPr id="3098" name=""/>
            <p:cNvSpPr/>
            <p:nvPr/>
          </p:nvSpPr>
          <p:spPr>
            <a:xfrm>
              <a:off x="7697880" y="4592520"/>
              <a:ext cx="0" cy="5130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V="1">
              <a:off x="5006880" y="4003560"/>
              <a:ext cx="0" cy="534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0" name=""/>
            <p:cNvGrpSpPr/>
            <p:nvPr/>
          </p:nvGrpSpPr>
          <p:grpSpPr>
            <a:xfrm>
              <a:off x="4953960" y="3553560"/>
              <a:ext cx="3898800" cy="2015640"/>
              <a:chOff x="4953960" y="3553560"/>
              <a:chExt cx="3898800" cy="2015640"/>
            </a:xfrm>
          </p:grpSpPr>
          <p:sp>
            <p:nvSpPr>
              <p:cNvPr id="3101" name=""/>
              <p:cNvSpPr/>
              <p:nvPr/>
            </p:nvSpPr>
            <p:spPr>
              <a:xfrm flipV="1" rot="21244200">
                <a:off x="5542200" y="4584960"/>
                <a:ext cx="109728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545080" y="4592520"/>
                <a:ext cx="0" cy="513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6083280" y="3973320"/>
                <a:ext cx="0" cy="6188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7159680" y="3973320"/>
                <a:ext cx="0" cy="6188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rot="355800">
                <a:off x="7152840" y="3613680"/>
                <a:ext cx="1212840" cy="92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rot="355800">
                <a:off x="6077160" y="3619080"/>
                <a:ext cx="1167120" cy="9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rot="355800">
                <a:off x="4998600" y="3634200"/>
                <a:ext cx="120348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 rot="21244200">
                <a:off x="6650280" y="4569120"/>
                <a:ext cx="1097280" cy="92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V="1" rot="21244200">
                <a:off x="7709040" y="4584960"/>
                <a:ext cx="109836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621480" y="4592520"/>
                <a:ext cx="0" cy="513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11" name=""/>
          <p:cNvGrpSpPr/>
          <p:nvPr/>
        </p:nvGrpSpPr>
        <p:grpSpPr>
          <a:xfrm>
            <a:off x="5005440" y="3733920"/>
            <a:ext cx="3358080" cy="520560"/>
            <a:chOff x="5005440" y="3733920"/>
            <a:chExt cx="3358080" cy="520560"/>
          </a:xfrm>
        </p:grpSpPr>
        <p:sp>
          <p:nvSpPr>
            <p:cNvPr id="3112" name=""/>
            <p:cNvSpPr/>
            <p:nvPr/>
          </p:nvSpPr>
          <p:spPr>
            <a:xfrm>
              <a:off x="5005440" y="4008600"/>
              <a:ext cx="3160800" cy="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926840" y="373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4" name=""/>
          <p:cNvGrpSpPr/>
          <p:nvPr/>
        </p:nvGrpSpPr>
        <p:grpSpPr>
          <a:xfrm>
            <a:off x="4495680" y="3390840"/>
            <a:ext cx="4015080" cy="1639080"/>
            <a:chOff x="4495680" y="3390840"/>
            <a:chExt cx="4015080" cy="1639080"/>
          </a:xfrm>
        </p:grpSpPr>
        <p:sp>
          <p:nvSpPr>
            <p:cNvPr id="3115" name=""/>
            <p:cNvSpPr/>
            <p:nvPr/>
          </p:nvSpPr>
          <p:spPr>
            <a:xfrm>
              <a:off x="6032520" y="4489560"/>
              <a:ext cx="403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142040" y="4495680"/>
              <a:ext cx="603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7" name=""/>
            <p:cNvGrpSpPr/>
            <p:nvPr/>
          </p:nvGrpSpPr>
          <p:grpSpPr>
            <a:xfrm>
              <a:off x="4495680" y="3390840"/>
              <a:ext cx="4015080" cy="1639080"/>
              <a:chOff x="4495680" y="3390840"/>
              <a:chExt cx="4015080" cy="1639080"/>
            </a:xfrm>
          </p:grpSpPr>
          <p:grpSp>
            <p:nvGrpSpPr>
              <p:cNvPr id="3118" name=""/>
              <p:cNvGrpSpPr/>
              <p:nvPr/>
            </p:nvGrpSpPr>
            <p:grpSpPr>
              <a:xfrm>
                <a:off x="4987800" y="3657240"/>
                <a:ext cx="3522960" cy="1372680"/>
                <a:chOff x="4987800" y="3657240"/>
                <a:chExt cx="3522960" cy="1372680"/>
              </a:xfrm>
            </p:grpSpPr>
            <p:sp>
              <p:nvSpPr>
                <p:cNvPr id="3119" name=""/>
                <p:cNvSpPr/>
                <p:nvPr/>
              </p:nvSpPr>
              <p:spPr>
                <a:xfrm>
                  <a:off x="5029200" y="4565520"/>
                  <a:ext cx="3452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 flipV="1">
                  <a:off x="4987800" y="3657240"/>
                  <a:ext cx="0" cy="12193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8231040" y="450936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122" name=""/>
                  <p:cNvSpPr txBox="1"/>
                  <p:nvPr/>
                </p:nvSpPr>
                <p:spPr>
                  <a:xfrm>
                    <a:off x="4495680" y="3390840"/>
                    <a:ext cx="479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123" name=""/>
          <p:cNvGrpSpPr/>
          <p:nvPr/>
        </p:nvGrpSpPr>
        <p:grpSpPr>
          <a:xfrm>
            <a:off x="4419720" y="4724280"/>
            <a:ext cx="4189320" cy="1626840"/>
            <a:chOff x="4419720" y="4724280"/>
            <a:chExt cx="4189320" cy="1626840"/>
          </a:xfrm>
        </p:grpSpPr>
        <p:sp>
          <p:nvSpPr>
            <p:cNvPr id="3124" name=""/>
            <p:cNvSpPr/>
            <p:nvPr/>
          </p:nvSpPr>
          <p:spPr>
            <a:xfrm>
              <a:off x="7180200" y="5835600"/>
              <a:ext cx="6206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 flipV="1">
              <a:off x="4967280" y="4925520"/>
              <a:ext cx="0" cy="1155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029200" y="5846760"/>
              <a:ext cx="3505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021360" y="5767560"/>
              <a:ext cx="414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000760" y="5303880"/>
              <a:ext cx="3249360" cy="0"/>
            </a:xfrm>
            <a:prstGeom prst="line">
              <a:avLst/>
            </a:prstGeom>
            <a:ln cap="rnd" w="3816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688080" y="5486400"/>
              <a:ext cx="0" cy="657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6093000" y="5312880"/>
              <a:ext cx="0" cy="685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 rot="245400">
              <a:off x="6073920" y="5325480"/>
              <a:ext cx="636120" cy="141120"/>
            </a:xfrm>
            <a:custGeom>
              <a:avLst/>
              <a:gdLst/>
              <a:ahLst/>
              <a:rect l="l" t="t" r="r" b="b"/>
              <a:pathLst>
                <a:path w="408" h="172">
                  <a:moveTo>
                    <a:pt x="0" y="172"/>
                  </a:moveTo>
                  <a:cubicBezTo>
                    <a:pt x="74" y="114"/>
                    <a:pt x="148" y="56"/>
                    <a:pt x="216" y="28"/>
                  </a:cubicBezTo>
                  <a:cubicBezTo>
                    <a:pt x="284" y="0"/>
                    <a:pt x="380" y="6"/>
                    <a:pt x="408" y="4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2" name=""/>
            <p:cNvGrpSpPr/>
            <p:nvPr/>
          </p:nvGrpSpPr>
          <p:grpSpPr>
            <a:xfrm>
              <a:off x="6698160" y="5943960"/>
              <a:ext cx="594360" cy="168480"/>
              <a:chOff x="6698160" y="5943960"/>
              <a:chExt cx="594360" cy="168480"/>
            </a:xfrm>
          </p:grpSpPr>
          <p:sp>
            <p:nvSpPr>
              <p:cNvPr id="3133" name=""/>
              <p:cNvSpPr/>
              <p:nvPr/>
            </p:nvSpPr>
            <p:spPr>
              <a:xfrm flipV="1" rot="519000">
                <a:off x="6705360" y="5985000"/>
                <a:ext cx="183240" cy="11376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0" y="0"/>
                    </a:moveTo>
                    <a:cubicBezTo>
                      <a:pt x="15" y="17"/>
                      <a:pt x="30" y="34"/>
                      <a:pt x="48" y="48"/>
                    </a:cubicBezTo>
                    <a:cubicBezTo>
                      <a:pt x="66" y="62"/>
                      <a:pt x="98" y="76"/>
                      <a:pt x="108" y="83"/>
                    </a:cubicBezTo>
                  </a:path>
                </a:pathLst>
              </a:custGeom>
              <a:noFill/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6879960" y="5943960"/>
                <a:ext cx="412560" cy="59040"/>
              </a:xfrm>
              <a:custGeom>
                <a:avLst/>
                <a:gdLst/>
                <a:ahLst/>
                <a:rect l="l" t="t" r="r" b="b"/>
                <a:pathLst>
                  <a:path w="270" h="48">
                    <a:moveTo>
                      <a:pt x="0" y="0"/>
                    </a:moveTo>
                    <a:cubicBezTo>
                      <a:pt x="67" y="20"/>
                      <a:pt x="135" y="40"/>
                      <a:pt x="180" y="48"/>
                    </a:cubicBezTo>
                    <a:lnTo>
                      <a:pt x="270" y="48"/>
                    </a:lnTo>
                  </a:path>
                </a:pathLst>
              </a:custGeom>
              <a:noFill/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5" name=""/>
            <p:cNvSpPr/>
            <p:nvPr/>
          </p:nvSpPr>
          <p:spPr>
            <a:xfrm flipV="1">
              <a:off x="4991040" y="5292720"/>
              <a:ext cx="0" cy="6192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6" name=""/>
            <p:cNvGrpSpPr/>
            <p:nvPr/>
          </p:nvGrpSpPr>
          <p:grpSpPr>
            <a:xfrm>
              <a:off x="5519880" y="5959800"/>
              <a:ext cx="564480" cy="174240"/>
              <a:chOff x="5519880" y="5959800"/>
              <a:chExt cx="564480" cy="174240"/>
            </a:xfrm>
          </p:grpSpPr>
          <p:sp>
            <p:nvSpPr>
              <p:cNvPr id="3137" name=""/>
              <p:cNvSpPr/>
              <p:nvPr/>
            </p:nvSpPr>
            <p:spPr>
              <a:xfrm flipV="1" rot="519000">
                <a:off x="5527800" y="6003000"/>
                <a:ext cx="174240" cy="11844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0" y="0"/>
                    </a:moveTo>
                    <a:cubicBezTo>
                      <a:pt x="15" y="17"/>
                      <a:pt x="30" y="34"/>
                      <a:pt x="48" y="48"/>
                    </a:cubicBezTo>
                    <a:cubicBezTo>
                      <a:pt x="66" y="62"/>
                      <a:pt x="98" y="76"/>
                      <a:pt x="108" y="83"/>
                    </a:cubicBezTo>
                  </a:path>
                </a:pathLst>
              </a:custGeom>
              <a:noFill/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V="1">
                <a:off x="5693040" y="5959440"/>
                <a:ext cx="391320" cy="61560"/>
              </a:xfrm>
              <a:custGeom>
                <a:avLst/>
                <a:gdLst/>
                <a:ahLst/>
                <a:rect l="l" t="t" r="r" b="b"/>
                <a:pathLst>
                  <a:path w="270" h="48">
                    <a:moveTo>
                      <a:pt x="0" y="0"/>
                    </a:moveTo>
                    <a:cubicBezTo>
                      <a:pt x="67" y="20"/>
                      <a:pt x="135" y="40"/>
                      <a:pt x="180" y="48"/>
                    </a:cubicBezTo>
                    <a:lnTo>
                      <a:pt x="270" y="48"/>
                    </a:lnTo>
                  </a:path>
                </a:pathLst>
              </a:custGeom>
              <a:noFill/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9" name=""/>
            <p:cNvSpPr/>
            <p:nvPr/>
          </p:nvSpPr>
          <p:spPr>
            <a:xfrm flipV="1" rot="245400">
              <a:off x="4950360" y="5331240"/>
              <a:ext cx="636120" cy="76320"/>
            </a:xfrm>
            <a:custGeom>
              <a:avLst/>
              <a:gdLst/>
              <a:ahLst/>
              <a:rect l="l" t="t" r="r" b="b"/>
              <a:pathLst>
                <a:path w="408" h="172">
                  <a:moveTo>
                    <a:pt x="0" y="172"/>
                  </a:moveTo>
                  <a:cubicBezTo>
                    <a:pt x="74" y="114"/>
                    <a:pt x="148" y="56"/>
                    <a:pt x="216" y="28"/>
                  </a:cubicBezTo>
                  <a:cubicBezTo>
                    <a:pt x="284" y="0"/>
                    <a:pt x="380" y="6"/>
                    <a:pt x="408" y="4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533920" y="5438880"/>
              <a:ext cx="0" cy="6570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7280280" y="5333760"/>
              <a:ext cx="0" cy="60948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2" name=""/>
            <p:cNvGrpSpPr/>
            <p:nvPr/>
          </p:nvGrpSpPr>
          <p:grpSpPr>
            <a:xfrm>
              <a:off x="7841160" y="5999400"/>
              <a:ext cx="540720" cy="166680"/>
              <a:chOff x="7841160" y="5999400"/>
              <a:chExt cx="540720" cy="166680"/>
            </a:xfrm>
          </p:grpSpPr>
          <p:sp>
            <p:nvSpPr>
              <p:cNvPr id="3143" name=""/>
              <p:cNvSpPr/>
              <p:nvPr/>
            </p:nvSpPr>
            <p:spPr>
              <a:xfrm flipV="1" rot="519000">
                <a:off x="7848360" y="6040800"/>
                <a:ext cx="166320" cy="11340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0" y="0"/>
                    </a:moveTo>
                    <a:cubicBezTo>
                      <a:pt x="15" y="17"/>
                      <a:pt x="30" y="34"/>
                      <a:pt x="48" y="48"/>
                    </a:cubicBezTo>
                    <a:cubicBezTo>
                      <a:pt x="66" y="62"/>
                      <a:pt x="98" y="76"/>
                      <a:pt x="108" y="83"/>
                    </a:cubicBezTo>
                  </a:path>
                </a:pathLst>
              </a:custGeom>
              <a:noFill/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8007120" y="5999400"/>
                <a:ext cx="374760" cy="59040"/>
              </a:xfrm>
              <a:custGeom>
                <a:avLst/>
                <a:gdLst/>
                <a:ahLst/>
                <a:rect l="l" t="t" r="r" b="b"/>
                <a:pathLst>
                  <a:path w="270" h="48">
                    <a:moveTo>
                      <a:pt x="0" y="0"/>
                    </a:moveTo>
                    <a:cubicBezTo>
                      <a:pt x="67" y="20"/>
                      <a:pt x="135" y="40"/>
                      <a:pt x="180" y="48"/>
                    </a:cubicBezTo>
                    <a:lnTo>
                      <a:pt x="270" y="48"/>
                    </a:lnTo>
                  </a:path>
                </a:pathLst>
              </a:custGeom>
              <a:noFill/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5" name=""/>
            <p:cNvSpPr/>
            <p:nvPr/>
          </p:nvSpPr>
          <p:spPr>
            <a:xfrm flipV="1" rot="245400">
              <a:off x="7238880" y="5333400"/>
              <a:ext cx="636480" cy="141120"/>
            </a:xfrm>
            <a:custGeom>
              <a:avLst/>
              <a:gdLst/>
              <a:ahLst/>
              <a:rect l="l" t="t" r="r" b="b"/>
              <a:pathLst>
                <a:path w="408" h="172">
                  <a:moveTo>
                    <a:pt x="0" y="172"/>
                  </a:moveTo>
                  <a:cubicBezTo>
                    <a:pt x="74" y="114"/>
                    <a:pt x="148" y="56"/>
                    <a:pt x="216" y="28"/>
                  </a:cubicBezTo>
                  <a:cubicBezTo>
                    <a:pt x="284" y="0"/>
                    <a:pt x="380" y="6"/>
                    <a:pt x="408" y="4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819920" y="5486400"/>
              <a:ext cx="0" cy="657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329320" y="580464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003160" y="5028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9" name=""/>
                <p:cNvSpPr txBox="1"/>
                <p:nvPr/>
              </p:nvSpPr>
              <p:spPr>
                <a:xfrm>
                  <a:off x="4419720" y="4724280"/>
                  <a:ext cx="47916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0" name=""/>
          <p:cNvGrpSpPr/>
          <p:nvPr/>
        </p:nvGrpSpPr>
        <p:grpSpPr>
          <a:xfrm>
            <a:off x="4572000" y="76320"/>
            <a:ext cx="3962520" cy="1594800"/>
            <a:chOff x="4572000" y="76320"/>
            <a:chExt cx="3962520" cy="1594800"/>
          </a:xfrm>
        </p:grpSpPr>
        <p:grpSp>
          <p:nvGrpSpPr>
            <p:cNvPr id="3151" name=""/>
            <p:cNvGrpSpPr/>
            <p:nvPr/>
          </p:nvGrpSpPr>
          <p:grpSpPr>
            <a:xfrm>
              <a:off x="4572000" y="76320"/>
              <a:ext cx="3962520" cy="1594800"/>
              <a:chOff x="4572000" y="76320"/>
              <a:chExt cx="3962520" cy="1594800"/>
            </a:xfrm>
          </p:grpSpPr>
          <p:sp>
            <p:nvSpPr>
              <p:cNvPr id="3152" name=""/>
              <p:cNvSpPr/>
              <p:nvPr/>
            </p:nvSpPr>
            <p:spPr>
              <a:xfrm>
                <a:off x="7129440" y="1154160"/>
                <a:ext cx="7239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937120" y="1155600"/>
                <a:ext cx="5940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038560" y="644400"/>
                <a:ext cx="4860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080040" y="644400"/>
                <a:ext cx="5112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156440" y="644400"/>
                <a:ext cx="4842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5529240" y="639720"/>
                <a:ext cx="0" cy="56988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075360" y="639720"/>
                <a:ext cx="0" cy="57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88000" y="639720"/>
                <a:ext cx="0" cy="5889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647120" y="639720"/>
                <a:ext cx="0" cy="57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134120" y="639720"/>
                <a:ext cx="0" cy="56988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572000" y="423720"/>
                <a:ext cx="4572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V="1">
                <a:off x="5025960" y="223560"/>
                <a:ext cx="0" cy="990360"/>
              </a:xfrm>
              <a:prstGeom prst="line">
                <a:avLst/>
              </a:prstGeom>
              <a:ln w="5724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021280" y="1204920"/>
                <a:ext cx="3397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8205840" y="1092240"/>
                <a:ext cx="3286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249880" y="1147680"/>
                <a:ext cx="7254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7" name=""/>
                  <p:cNvSpPr txBox="1"/>
                  <p:nvPr/>
                </p:nvSpPr>
                <p:spPr>
                  <a:xfrm>
                    <a:off x="5105520" y="76320"/>
                    <a:ext cx="4204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68" name=""/>
              <p:cNvSpPr/>
              <p:nvPr/>
            </p:nvSpPr>
            <p:spPr>
              <a:xfrm>
                <a:off x="5029200" y="604800"/>
                <a:ext cx="312408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9" name=""/>
            <p:cNvSpPr/>
            <p:nvPr/>
          </p:nvSpPr>
          <p:spPr>
            <a:xfrm>
              <a:off x="5068800" y="547560"/>
              <a:ext cx="569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5715000" y="2185920"/>
            <a:ext cx="380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6781680" y="2185920"/>
            <a:ext cx="3812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2" name=""/>
          <p:cNvGrpSpPr/>
          <p:nvPr/>
        </p:nvGrpSpPr>
        <p:grpSpPr>
          <a:xfrm>
            <a:off x="4419720" y="1225440"/>
            <a:ext cx="4190760" cy="1423440"/>
            <a:chOff x="4419720" y="1225440"/>
            <a:chExt cx="4190760" cy="1423440"/>
          </a:xfrm>
        </p:grpSpPr>
        <p:grpSp>
          <p:nvGrpSpPr>
            <p:cNvPr id="3173" name=""/>
            <p:cNvGrpSpPr/>
            <p:nvPr/>
          </p:nvGrpSpPr>
          <p:grpSpPr>
            <a:xfrm>
              <a:off x="4419720" y="1225440"/>
              <a:ext cx="4190760" cy="1353600"/>
              <a:chOff x="4419720" y="1225440"/>
              <a:chExt cx="4190760" cy="1353600"/>
            </a:xfrm>
          </p:grpSpPr>
          <p:sp>
            <p:nvSpPr>
              <p:cNvPr id="3174" name=""/>
              <p:cNvSpPr/>
              <p:nvPr/>
            </p:nvSpPr>
            <p:spPr>
              <a:xfrm>
                <a:off x="8282160" y="2063520"/>
                <a:ext cx="3283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4992840" y="1377720"/>
                <a:ext cx="0" cy="914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014800" y="2198520"/>
                <a:ext cx="3397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77" name=""/>
                  <p:cNvSpPr txBox="1"/>
                  <p:nvPr/>
                </p:nvSpPr>
                <p:spPr>
                  <a:xfrm>
                    <a:off x="4419720" y="1225440"/>
                    <a:ext cx="56340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178" name=""/>
            <p:cNvSpPr/>
            <p:nvPr/>
          </p:nvSpPr>
          <p:spPr>
            <a:xfrm>
              <a:off x="5934240" y="2133360"/>
              <a:ext cx="39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026120" y="2133360"/>
              <a:ext cx="59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907920" y="990720"/>
            <a:ext cx="2899800" cy="1904760"/>
            <a:chOff x="907920" y="990720"/>
            <a:chExt cx="2899800" cy="1904760"/>
          </a:xfrm>
        </p:grpSpPr>
        <p:grpSp>
          <p:nvGrpSpPr>
            <p:cNvPr id="3181" name=""/>
            <p:cNvGrpSpPr/>
            <p:nvPr/>
          </p:nvGrpSpPr>
          <p:grpSpPr>
            <a:xfrm>
              <a:off x="907920" y="990720"/>
              <a:ext cx="2899800" cy="1904760"/>
              <a:chOff x="907920" y="990720"/>
              <a:chExt cx="2899800" cy="1904760"/>
            </a:xfrm>
          </p:grpSpPr>
          <p:sp>
            <p:nvSpPr>
              <p:cNvPr id="3182" name=""/>
              <p:cNvSpPr/>
              <p:nvPr/>
            </p:nvSpPr>
            <p:spPr>
              <a:xfrm>
                <a:off x="2013120" y="1128600"/>
                <a:ext cx="384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874880" y="135900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2013120" y="1542960"/>
                <a:ext cx="1581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1152360" y="1542600"/>
                <a:ext cx="7225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2766960" y="2400480"/>
                <a:ext cx="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671920" y="1976400"/>
                <a:ext cx="163440" cy="426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H="1" flipV="1">
                <a:off x="1123920" y="2847600"/>
                <a:ext cx="2470320" cy="1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181240" y="2038320"/>
                <a:ext cx="523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90" name=""/>
                  <p:cNvSpPr txBox="1"/>
                  <p:nvPr/>
                </p:nvSpPr>
                <p:spPr>
                  <a:xfrm>
                    <a:off x="907920" y="1928880"/>
                    <a:ext cx="384480" cy="51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91" name=""/>
              <p:cNvSpPr/>
              <p:nvPr/>
            </p:nvSpPr>
            <p:spPr>
              <a:xfrm>
                <a:off x="2013120" y="135900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92" name=""/>
                  <p:cNvSpPr txBox="1"/>
                  <p:nvPr/>
                </p:nvSpPr>
                <p:spPr>
                  <a:xfrm>
                    <a:off x="3367080" y="1917720"/>
                    <a:ext cx="43668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93" name=""/>
              <p:cNvSpPr/>
              <p:nvPr/>
            </p:nvSpPr>
            <p:spPr>
              <a:xfrm>
                <a:off x="1046160" y="2809800"/>
                <a:ext cx="73080" cy="73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082520" y="1508040"/>
                <a:ext cx="73080" cy="73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592440" y="2822400"/>
                <a:ext cx="71640" cy="73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560760" y="1490760"/>
                <a:ext cx="73080" cy="73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938520" y="1476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961920" y="2322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424320" y="1476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3448080" y="2322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152360" y="1406520"/>
                <a:ext cx="559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02" name=""/>
                  <p:cNvSpPr txBox="1"/>
                  <p:nvPr/>
                </p:nvSpPr>
                <p:spPr>
                  <a:xfrm>
                    <a:off x="1282680" y="990720"/>
                    <a:ext cx="219240" cy="42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03" name=""/>
                  <p:cNvSpPr txBox="1"/>
                  <p:nvPr/>
                </p:nvSpPr>
                <p:spPr>
                  <a:xfrm>
                    <a:off x="1752480" y="1617840"/>
                    <a:ext cx="439920" cy="55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04" name=""/>
              <p:cNvSpPr/>
              <p:nvPr/>
            </p:nvSpPr>
            <p:spPr>
              <a:xfrm>
                <a:off x="1443240" y="1447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058840" y="1295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V="1">
                <a:off x="2743200" y="1523880"/>
                <a:ext cx="0" cy="4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7" name=""/>
            <p:cNvSpPr/>
            <p:nvPr/>
          </p:nvSpPr>
          <p:spPr>
            <a:xfrm flipV="1">
              <a:off x="2711520" y="27874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V="1">
              <a:off x="2666880" y="14922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6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换路定则与初始值的确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1120" y="3484440"/>
            <a:ext cx="38098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31680" y="4800600"/>
            <a:ext cx="5761080" cy="689040"/>
            <a:chOff x="931680" y="4800600"/>
            <a:chExt cx="5761080" cy="689040"/>
          </a:xfrm>
        </p:grpSpPr>
        <p:sp>
          <p:nvSpPr>
            <p:cNvPr id="173" name=""/>
            <p:cNvSpPr/>
            <p:nvPr/>
          </p:nvSpPr>
          <p:spPr>
            <a:xfrm>
              <a:off x="931680" y="488160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后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8280" y="4800600"/>
              <a:ext cx="42544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由零逐渐增加到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2400480" y="4803840"/>
                  <a:ext cx="6411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" name=""/>
          <p:cNvSpPr/>
          <p:nvPr/>
        </p:nvSpPr>
        <p:spPr>
          <a:xfrm>
            <a:off x="1652040" y="5472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以电容电路存在暂态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240" y="2209680"/>
            <a:ext cx="554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16440" y="1273680"/>
            <a:ext cx="3507840" cy="2472120"/>
            <a:chOff x="1216440" y="1273680"/>
            <a:chExt cx="3507840" cy="2472120"/>
          </a:xfrm>
        </p:grpSpPr>
        <p:sp>
          <p:nvSpPr>
            <p:cNvPr id="180" name=""/>
            <p:cNvSpPr/>
            <p:nvPr/>
          </p:nvSpPr>
          <p:spPr>
            <a:xfrm>
              <a:off x="1342800" y="1816560"/>
              <a:ext cx="443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90440" y="1731600"/>
              <a:ext cx="1501200" cy="247320"/>
              <a:chOff x="2890440" y="1731600"/>
              <a:chExt cx="1501200" cy="24732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3520080" y="1605240"/>
                <a:ext cx="247320" cy="500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91240" y="1853280"/>
                <a:ext cx="5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890440" y="1853280"/>
                <a:ext cx="50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143240" y="2508120"/>
              <a:ext cx="44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3240" y="2676600"/>
              <a:ext cx="44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359240" y="1865160"/>
              <a:ext cx="2880" cy="6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63920" y="27036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3600" y="1784520"/>
              <a:ext cx="109440" cy="11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501640" y="1533240"/>
              <a:ext cx="511200" cy="2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57160" y="1839960"/>
              <a:ext cx="67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5040" y="2340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4400" y="217332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08360" y="322524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85880" y="157968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/>
            <p:nvPr/>
          </p:nvCxnSpPr>
          <p:spPr>
            <a:xfrm>
              <a:off x="2457360" y="2189160"/>
              <a:ext cx="870480" cy="613440"/>
            </a:xfrm>
            <a:prstGeom prst="curvedConnector5">
              <a:avLst>
                <a:gd name="adj1" fmla="val 126189"/>
                <a:gd name="adj2" fmla="val 49970"/>
                <a:gd name="adj3" fmla="val 126189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1216440" y="226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0880" y="2300400"/>
              <a:ext cx="441360" cy="446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71560" y="1854360"/>
              <a:ext cx="0" cy="13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757160" y="3209760"/>
              <a:ext cx="262116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340160" y="2050920"/>
              <a:ext cx="384120" cy="1024200"/>
              <a:chOff x="4340160" y="2050920"/>
              <a:chExt cx="384120" cy="1024200"/>
            </a:xfrm>
          </p:grpSpPr>
          <p:sp>
            <p:nvSpPr>
              <p:cNvPr id="202" name=""/>
              <p:cNvSpPr/>
              <p:nvPr/>
            </p:nvSpPr>
            <p:spPr>
              <a:xfrm>
                <a:off x="4340160" y="2050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07840" y="249372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206800" y="1273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2560" y="127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2000" y="4152960"/>
            <a:ext cx="3984840" cy="723960"/>
            <a:chOff x="1062000" y="4152960"/>
            <a:chExt cx="3984840" cy="72396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2379600" y="4238640"/>
                  <a:ext cx="131436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8" name=""/>
            <p:cNvGrpSpPr/>
            <p:nvPr/>
          </p:nvGrpSpPr>
          <p:grpSpPr>
            <a:xfrm>
              <a:off x="1062000" y="4152960"/>
              <a:ext cx="3984840" cy="706320"/>
              <a:chOff x="1062000" y="4152960"/>
              <a:chExt cx="3984840" cy="706320"/>
            </a:xfrm>
          </p:grpSpPr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3787920" y="4246560"/>
                    <a:ext cx="1258920" cy="61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0" name=""/>
              <p:cNvSpPr/>
              <p:nvPr/>
            </p:nvSpPr>
            <p:spPr>
              <a:xfrm>
                <a:off x="1062000" y="4152960"/>
                <a:ext cx="1909800" cy="64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合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前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5791320" y="2168640"/>
            <a:ext cx="2590200" cy="459720"/>
            <a:chOff x="5791320" y="2168640"/>
            <a:chExt cx="2590200" cy="459720"/>
          </a:xfrm>
        </p:grpSpPr>
        <p:sp>
          <p:nvSpPr>
            <p:cNvPr id="212" name=""/>
            <p:cNvSpPr/>
            <p:nvPr/>
          </p:nvSpPr>
          <p:spPr>
            <a:xfrm>
              <a:off x="6171840" y="239724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1320" y="21686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472080" y="1219320"/>
            <a:ext cx="1443240" cy="753840"/>
          </a:xfrm>
          <a:prstGeom prst="wedgeEllipseCallout">
            <a:avLst>
              <a:gd name="adj1" fmla="val -21689"/>
              <a:gd name="adj2" fmla="val 128541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暂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15320" y="2502000"/>
            <a:ext cx="0" cy="83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92720" y="2417760"/>
            <a:ext cx="1944720" cy="865080"/>
          </a:xfrm>
          <a:custGeom>
            <a:avLst/>
            <a:gdLst/>
            <a:ahLst/>
            <a:rect l="l" t="t" r="r" b="b"/>
            <a:pathLst>
              <a:path w="1296" h="448">
                <a:moveTo>
                  <a:pt x="0" y="448"/>
                </a:moveTo>
                <a:cubicBezTo>
                  <a:pt x="144" y="316"/>
                  <a:pt x="288" y="184"/>
                  <a:pt x="432" y="112"/>
                </a:cubicBezTo>
                <a:cubicBezTo>
                  <a:pt x="576" y="40"/>
                  <a:pt x="720" y="32"/>
                  <a:pt x="864" y="16"/>
                </a:cubicBezTo>
                <a:cubicBezTo>
                  <a:pt x="1008" y="0"/>
                  <a:pt x="1224" y="16"/>
                  <a:pt x="1296" y="1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328720" y="3282840"/>
            <a:ext cx="86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48400" y="3789360"/>
            <a:ext cx="1447920" cy="838080"/>
          </a:xfrm>
          <a:prstGeom prst="wedgeEllipseCallout">
            <a:avLst>
              <a:gd name="adj1" fmla="val -117763"/>
              <a:gd name="adj2" fmla="val -1094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稳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648400" y="1523880"/>
            <a:ext cx="2886120" cy="2227320"/>
            <a:chOff x="5648400" y="1523880"/>
            <a:chExt cx="2886120" cy="2227320"/>
          </a:xfrm>
        </p:grpSpPr>
        <p:sp>
          <p:nvSpPr>
            <p:cNvPr id="220" name=""/>
            <p:cNvSpPr/>
            <p:nvPr/>
          </p:nvSpPr>
          <p:spPr>
            <a:xfrm>
              <a:off x="5811840" y="2971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648400" y="1523880"/>
              <a:ext cx="2886120" cy="2227320"/>
              <a:chOff x="5648400" y="1523880"/>
              <a:chExt cx="2886120" cy="2227320"/>
            </a:xfrm>
          </p:grpSpPr>
          <p:sp>
            <p:nvSpPr>
              <p:cNvPr id="222" name=""/>
              <p:cNvSpPr/>
              <p:nvPr/>
            </p:nvSpPr>
            <p:spPr>
              <a:xfrm>
                <a:off x="8077320" y="32306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72200" y="3311640"/>
                <a:ext cx="213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1767960"/>
                <a:ext cx="0" cy="154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5" name=""/>
                  <p:cNvSpPr txBox="1"/>
                  <p:nvPr/>
                </p:nvSpPr>
                <p:spPr>
                  <a:xfrm>
                    <a:off x="5648400" y="1523880"/>
                    <a:ext cx="473040" cy="56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.4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积分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457200" y="18288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31720" y="2438280"/>
                <a:ext cx="3160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2" name=""/>
          <p:cNvSpPr/>
          <p:nvPr/>
        </p:nvSpPr>
        <p:spPr>
          <a:xfrm>
            <a:off x="533520" y="2986200"/>
            <a:ext cx="51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电容器两端输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3" name=""/>
          <p:cNvGrpSpPr/>
          <p:nvPr/>
        </p:nvGrpSpPr>
        <p:grpSpPr>
          <a:xfrm>
            <a:off x="674280" y="4032360"/>
            <a:ext cx="5192640" cy="691920"/>
            <a:chOff x="674280" y="4032360"/>
            <a:chExt cx="5192640" cy="691920"/>
          </a:xfrm>
        </p:grpSpPr>
        <p:sp>
          <p:nvSpPr>
            <p:cNvPr id="3214" name=""/>
            <p:cNvSpPr/>
            <p:nvPr/>
          </p:nvSpPr>
          <p:spPr>
            <a:xfrm>
              <a:off x="674280" y="4114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由图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5" name=""/>
                <p:cNvSpPr txBox="1"/>
                <p:nvPr/>
              </p:nvSpPr>
              <p:spPr>
                <a:xfrm>
                  <a:off x="1623600" y="4032360"/>
                  <a:ext cx="42433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i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1828800" y="4613400"/>
                <a:ext cx="1600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7" name=""/>
          <p:cNvSpPr/>
          <p:nvPr/>
        </p:nvSpPr>
        <p:spPr>
          <a:xfrm>
            <a:off x="567000" y="92880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5867280" y="3989520"/>
                <a:ext cx="19116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9" name=""/>
          <p:cNvSpPr/>
          <p:nvPr/>
        </p:nvSpPr>
        <p:spPr>
          <a:xfrm>
            <a:off x="6129360" y="4616280"/>
            <a:ext cx="21585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输出电压与输入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压近似成积分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36840" y="359568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2562840" y="762120"/>
            <a:ext cx="3228120" cy="1665720"/>
            <a:chOff x="2562840" y="762120"/>
            <a:chExt cx="3228120" cy="1665720"/>
          </a:xfrm>
        </p:grpSpPr>
        <mc:AlternateContent>
          <mc:Choice xmlns:a14="http://schemas.microsoft.com/office/drawing/2010/main" Requires="a14">
            <p:sp>
              <p:nvSpPr>
                <p:cNvPr id="3222" name=""/>
                <p:cNvSpPr txBox="1"/>
                <p:nvPr/>
              </p:nvSpPr>
              <p:spPr>
                <a:xfrm>
                  <a:off x="3025800" y="762120"/>
                  <a:ext cx="558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223" name=""/>
            <p:cNvGrpSpPr/>
            <p:nvPr/>
          </p:nvGrpSpPr>
          <p:grpSpPr>
            <a:xfrm>
              <a:off x="2562840" y="1066680"/>
              <a:ext cx="3228120" cy="1361160"/>
              <a:chOff x="2562840" y="1066680"/>
              <a:chExt cx="3228120" cy="1361160"/>
            </a:xfrm>
          </p:grpSpPr>
          <p:sp>
            <p:nvSpPr>
              <p:cNvPr id="3224" name=""/>
              <p:cNvSpPr/>
              <p:nvPr/>
            </p:nvSpPr>
            <p:spPr>
              <a:xfrm flipV="1">
                <a:off x="2955960" y="1066680"/>
                <a:ext cx="0" cy="92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flipV="1">
                <a:off x="3660840" y="1500120"/>
                <a:ext cx="0" cy="473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H="1" flipV="1">
                <a:off x="2937960" y="1500120"/>
                <a:ext cx="722520" cy="158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4184640" y="1973160"/>
                <a:ext cx="30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V="1">
                <a:off x="2955960" y="1978200"/>
                <a:ext cx="2698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V="1">
                <a:off x="5186160" y="1500120"/>
                <a:ext cx="0" cy="473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H="1">
                <a:off x="4428720" y="1515960"/>
                <a:ext cx="757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V="1">
                <a:off x="4416480" y="1500120"/>
                <a:ext cx="0" cy="473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437080" y="1905120"/>
                <a:ext cx="3538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2562840" y="1233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973240" y="2100240"/>
                <a:ext cx="68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960640" y="1969920"/>
                <a:ext cx="0" cy="3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3660840" y="1969920"/>
                <a:ext cx="0" cy="3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17560" y="1657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3113280" y="1386000"/>
                <a:ext cx="394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39" name=""/>
              <p:cNvSpPr txBox="1"/>
              <p:nvPr/>
            </p:nvSpPr>
            <p:spPr>
              <a:xfrm>
                <a:off x="1219320" y="5486400"/>
                <a:ext cx="56372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i</m:t>
                        </m:r>
                      </m:e>
                    </m:nary>
                    <m:r>
                      <m:t xml:space="preserve">dt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0" name=""/>
          <p:cNvGrpSpPr/>
          <p:nvPr/>
        </p:nvGrpSpPr>
        <p:grpSpPr>
          <a:xfrm>
            <a:off x="5791320" y="457200"/>
            <a:ext cx="2971800" cy="2446200"/>
            <a:chOff x="5791320" y="457200"/>
            <a:chExt cx="2971800" cy="2446200"/>
          </a:xfrm>
        </p:grpSpPr>
        <p:grpSp>
          <p:nvGrpSpPr>
            <p:cNvPr id="3241" name=""/>
            <p:cNvGrpSpPr/>
            <p:nvPr/>
          </p:nvGrpSpPr>
          <p:grpSpPr>
            <a:xfrm>
              <a:off x="5791320" y="457200"/>
              <a:ext cx="2971800" cy="2446200"/>
              <a:chOff x="5791320" y="457200"/>
              <a:chExt cx="2971800" cy="2446200"/>
            </a:xfrm>
          </p:grpSpPr>
          <mc:AlternateContent>
            <mc:Choice xmlns:a14="http://schemas.microsoft.com/office/drawing/2010/main" Requires="a14">
              <p:sp>
                <p:nvSpPr>
                  <p:cNvPr id="3242" name=""/>
                  <p:cNvSpPr txBox="1"/>
                  <p:nvPr/>
                </p:nvSpPr>
                <p:spPr>
                  <a:xfrm>
                    <a:off x="6400800" y="2362320"/>
                    <a:ext cx="2060640" cy="54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43" name=""/>
              <p:cNvSpPr/>
              <p:nvPr/>
            </p:nvSpPr>
            <p:spPr>
              <a:xfrm>
                <a:off x="7162920" y="1523880"/>
                <a:ext cx="384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086600" y="1030320"/>
                <a:ext cx="1461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V="1">
                <a:off x="6041880" y="1029960"/>
                <a:ext cx="5875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V="1">
                <a:off x="7699320" y="1752120"/>
                <a:ext cx="0" cy="63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H="1" flipV="1" rot="5400000">
                <a:off x="6780960" y="801000"/>
                <a:ext cx="168480" cy="442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H="1" flipV="1">
                <a:off x="6013440" y="2382480"/>
                <a:ext cx="2535120" cy="1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6629400" y="533520"/>
                <a:ext cx="538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0" name=""/>
                  <p:cNvSpPr txBox="1"/>
                  <p:nvPr/>
                </p:nvSpPr>
                <p:spPr>
                  <a:xfrm>
                    <a:off x="5791320" y="1430280"/>
                    <a:ext cx="393480" cy="53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251" name=""/>
              <p:cNvGrpSpPr/>
              <p:nvPr/>
            </p:nvGrpSpPr>
            <p:grpSpPr>
              <a:xfrm>
                <a:off x="7499520" y="1630440"/>
                <a:ext cx="382320" cy="141120"/>
                <a:chOff x="7499520" y="1630440"/>
                <a:chExt cx="382320" cy="141120"/>
              </a:xfrm>
            </p:grpSpPr>
            <p:sp>
              <p:nvSpPr>
                <p:cNvPr id="3252" name=""/>
                <p:cNvSpPr/>
                <p:nvPr/>
              </p:nvSpPr>
              <p:spPr>
                <a:xfrm flipH="1">
                  <a:off x="7499520" y="1630440"/>
                  <a:ext cx="38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H="1">
                  <a:off x="7499520" y="1771560"/>
                  <a:ext cx="38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254" name=""/>
                  <p:cNvSpPr txBox="1"/>
                  <p:nvPr/>
                </p:nvSpPr>
                <p:spPr>
                  <a:xfrm>
                    <a:off x="8313840" y="1417680"/>
                    <a:ext cx="449280" cy="550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55" name=""/>
              <p:cNvSpPr/>
              <p:nvPr/>
            </p:nvSpPr>
            <p:spPr>
              <a:xfrm>
                <a:off x="5932440" y="2343240"/>
                <a:ext cx="74520" cy="74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970600" y="993600"/>
                <a:ext cx="74520" cy="74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8545680" y="2357280"/>
                <a:ext cx="74520" cy="74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513640" y="976320"/>
                <a:ext cx="74880" cy="74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823000" y="960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846760" y="1838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374320" y="960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397720" y="1838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6041880" y="888840"/>
                <a:ext cx="573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64" name=""/>
                  <p:cNvSpPr txBox="1"/>
                  <p:nvPr/>
                </p:nvSpPr>
                <p:spPr>
                  <a:xfrm>
                    <a:off x="6175440" y="457200"/>
                    <a:ext cx="2239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65" name=""/>
                  <p:cNvSpPr txBox="1"/>
                  <p:nvPr/>
                </p:nvSpPr>
                <p:spPr>
                  <a:xfrm>
                    <a:off x="6676920" y="1082520"/>
                    <a:ext cx="451080" cy="54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6" name=""/>
              <p:cNvSpPr/>
              <p:nvPr/>
            </p:nvSpPr>
            <p:spPr>
              <a:xfrm>
                <a:off x="6329520" y="1149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64280" y="960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V="1">
                <a:off x="7696080" y="1025640"/>
                <a:ext cx="0" cy="57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9" name=""/>
            <p:cNvSpPr/>
            <p:nvPr/>
          </p:nvSpPr>
          <p:spPr>
            <a:xfrm flipV="1">
              <a:off x="7620120" y="23302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 flipV="1">
              <a:off x="7620120" y="990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2" name=""/>
          <p:cNvGrpSpPr/>
          <p:nvPr/>
        </p:nvGrpSpPr>
        <p:grpSpPr>
          <a:xfrm>
            <a:off x="3622680" y="1881360"/>
            <a:ext cx="2398680" cy="1441440"/>
            <a:chOff x="3622680" y="1881360"/>
            <a:chExt cx="2398680" cy="1441440"/>
          </a:xfrm>
        </p:grpSpPr>
        <p:sp>
          <p:nvSpPr>
            <p:cNvPr id="3273" name=""/>
            <p:cNvSpPr/>
            <p:nvPr/>
          </p:nvSpPr>
          <p:spPr>
            <a:xfrm>
              <a:off x="3622680" y="1881360"/>
              <a:ext cx="0" cy="144144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424400" y="1881360"/>
              <a:ext cx="0" cy="144144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220720" y="1881360"/>
              <a:ext cx="0" cy="144144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6021360" y="1881360"/>
              <a:ext cx="0" cy="144144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7" name=""/>
          <p:cNvSpPr/>
          <p:nvPr/>
        </p:nvSpPr>
        <p:spPr>
          <a:xfrm>
            <a:off x="4416480" y="1785960"/>
            <a:ext cx="43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2392200" y="1098720"/>
            <a:ext cx="37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9" name=""/>
          <p:cNvGrpSpPr/>
          <p:nvPr/>
        </p:nvGrpSpPr>
        <p:grpSpPr>
          <a:xfrm>
            <a:off x="2830680" y="1361880"/>
            <a:ext cx="793440" cy="571320"/>
            <a:chOff x="2830680" y="1361880"/>
            <a:chExt cx="793440" cy="571320"/>
          </a:xfrm>
        </p:grpSpPr>
        <p:sp>
          <p:nvSpPr>
            <p:cNvPr id="3280" name=""/>
            <p:cNvSpPr/>
            <p:nvPr/>
          </p:nvSpPr>
          <p:spPr>
            <a:xfrm flipV="1">
              <a:off x="3607560" y="1361880"/>
              <a:ext cx="0" cy="5713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2830680" y="1384920"/>
              <a:ext cx="7934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2814480" y="806040"/>
            <a:ext cx="4667400" cy="1524600"/>
            <a:chOff x="2814480" y="806040"/>
            <a:chExt cx="4667400" cy="1524600"/>
          </a:xfrm>
        </p:grpSpPr>
        <p:sp>
          <p:nvSpPr>
            <p:cNvPr id="3283" name=""/>
            <p:cNvSpPr/>
            <p:nvPr/>
          </p:nvSpPr>
          <p:spPr>
            <a:xfrm flipV="1">
              <a:off x="2825640" y="806040"/>
              <a:ext cx="0" cy="108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129440" y="1754280"/>
              <a:ext cx="352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2814480" y="1900080"/>
              <a:ext cx="4422960" cy="12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6" name=""/>
          <p:cNvSpPr/>
          <p:nvPr/>
        </p:nvSpPr>
        <p:spPr>
          <a:xfrm flipV="1">
            <a:off x="5219640" y="1368360"/>
            <a:ext cx="0" cy="571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4427280" y="1390680"/>
            <a:ext cx="7938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4421160" y="1390320"/>
            <a:ext cx="0" cy="5713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9" name=""/>
          <p:cNvGrpSpPr/>
          <p:nvPr/>
        </p:nvGrpSpPr>
        <p:grpSpPr>
          <a:xfrm>
            <a:off x="6021360" y="1377720"/>
            <a:ext cx="799560" cy="594720"/>
            <a:chOff x="6021360" y="1377720"/>
            <a:chExt cx="799560" cy="594720"/>
          </a:xfrm>
        </p:grpSpPr>
        <p:sp>
          <p:nvSpPr>
            <p:cNvPr id="3290" name=""/>
            <p:cNvSpPr/>
            <p:nvPr/>
          </p:nvSpPr>
          <p:spPr>
            <a:xfrm flipV="1">
              <a:off x="6804720" y="1377720"/>
              <a:ext cx="0" cy="5720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H="1">
              <a:off x="6025680" y="1400760"/>
              <a:ext cx="7952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V="1">
              <a:off x="6021360" y="1400400"/>
              <a:ext cx="0" cy="5720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3" name=""/>
          <p:cNvSpPr/>
          <p:nvPr/>
        </p:nvSpPr>
        <p:spPr>
          <a:xfrm>
            <a:off x="3619440" y="1785960"/>
            <a:ext cx="43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 flipV="1" rot="21467400">
            <a:off x="2830320" y="2852280"/>
            <a:ext cx="1586880" cy="91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21599"/>
                </a:moveTo>
                <a:arcTo wR="10800" hR="10800" stAng="5363248" swAng="5177099"/>
                <a:lnTo>
                  <a:pt x="10800" y="10800"/>
                </a:lnTo>
                <a:close/>
              </a:path>
              <a:path fill="none" w="21600" h="21600">
                <a:moveTo>
                  <a:pt x="10915" y="21599"/>
                </a:moveTo>
                <a:arcTo wR="10800" hR="10800" stAng="5363248" swAng="5177099"/>
              </a:path>
            </a:pathLst>
          </a:custGeom>
          <a:noFill/>
          <a:ln cap="rnd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 rot="132600">
            <a:off x="3630240" y="2504160"/>
            <a:ext cx="158040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21599"/>
                </a:moveTo>
                <a:arcTo wR="10800" hR="10800" stAng="5363248" swAng="5177099"/>
                <a:lnTo>
                  <a:pt x="10800" y="10800"/>
                </a:lnTo>
                <a:close/>
              </a:path>
              <a:path fill="none" w="21600" h="21600">
                <a:moveTo>
                  <a:pt x="10915" y="21599"/>
                </a:moveTo>
                <a:arcTo wR="10800" hR="10800" stAng="5363248" swAng="5177099"/>
              </a:path>
            </a:pathLst>
          </a:custGeom>
          <a:noFill/>
          <a:ln cap="rnd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flipV="1" rot="21467400">
            <a:off x="4429080" y="2855520"/>
            <a:ext cx="158760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21599"/>
                </a:moveTo>
                <a:arcTo wR="10800" hR="10800" stAng="5363248" swAng="5177099"/>
                <a:lnTo>
                  <a:pt x="10800" y="10800"/>
                </a:lnTo>
                <a:close/>
              </a:path>
              <a:path fill="none" w="21600" h="21600">
                <a:moveTo>
                  <a:pt x="10915" y="21599"/>
                </a:moveTo>
                <a:arcTo wR="10800" hR="10800" stAng="5363248" swAng="5177099"/>
              </a:path>
            </a:pathLst>
          </a:custGeom>
          <a:noFill/>
          <a:ln cap="rnd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rot="132600">
            <a:off x="5228640" y="2505240"/>
            <a:ext cx="15782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21599"/>
                </a:moveTo>
                <a:arcTo wR="10800" hR="10800" stAng="5363248" swAng="5177099"/>
                <a:lnTo>
                  <a:pt x="10800" y="10800"/>
                </a:lnTo>
                <a:close/>
              </a:path>
              <a:path fill="none" w="21600" h="21600">
                <a:moveTo>
                  <a:pt x="10915" y="21599"/>
                </a:moveTo>
                <a:arcTo wR="10800" hR="10800" stAng="5363248" swAng="5177099"/>
              </a:path>
            </a:pathLst>
          </a:custGeom>
          <a:noFill/>
          <a:ln cap="rnd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V="1" rot="21467400">
            <a:off x="6027840" y="2852280"/>
            <a:ext cx="158760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21599"/>
                </a:moveTo>
                <a:arcTo wR="10800" hR="10800" stAng="5363248" swAng="5177099"/>
                <a:lnTo>
                  <a:pt x="10800" y="10800"/>
                </a:lnTo>
                <a:close/>
              </a:path>
              <a:path fill="none" w="21600" h="21600">
                <a:moveTo>
                  <a:pt x="10915" y="21599"/>
                </a:moveTo>
                <a:arcTo wR="10800" hR="10800" stAng="5363248" swAng="5177099"/>
              </a:path>
            </a:pathLst>
          </a:custGeom>
          <a:noFill/>
          <a:ln cap="rnd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9" name=""/>
          <p:cNvGrpSpPr/>
          <p:nvPr/>
        </p:nvGrpSpPr>
        <p:grpSpPr>
          <a:xfrm>
            <a:off x="2814480" y="1981080"/>
            <a:ext cx="4729320" cy="1854000"/>
            <a:chOff x="2814480" y="1981080"/>
            <a:chExt cx="4729320" cy="1854000"/>
          </a:xfrm>
        </p:grpSpPr>
        <mc:AlternateContent>
          <mc:Choice xmlns:a14="http://schemas.microsoft.com/office/drawing/2010/main" Requires="a14">
            <p:sp>
              <p:nvSpPr>
                <p:cNvPr id="3300" name=""/>
                <p:cNvSpPr txBox="1"/>
                <p:nvPr/>
              </p:nvSpPr>
              <p:spPr>
                <a:xfrm>
                  <a:off x="2895480" y="1981080"/>
                  <a:ext cx="3812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01" name=""/>
            <p:cNvSpPr/>
            <p:nvPr/>
          </p:nvSpPr>
          <p:spPr>
            <a:xfrm>
              <a:off x="7191360" y="3252960"/>
              <a:ext cx="352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H="1" flipV="1">
              <a:off x="2824200" y="2261880"/>
              <a:ext cx="144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2814480" y="3328560"/>
              <a:ext cx="4545000" cy="1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417920" y="3209760"/>
              <a:ext cx="43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619440" y="3209760"/>
              <a:ext cx="432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6" name=""/>
          <p:cNvSpPr/>
          <p:nvPr/>
        </p:nvSpPr>
        <p:spPr>
          <a:xfrm>
            <a:off x="2824200" y="1371600"/>
            <a:ext cx="42908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7" name=""/>
          <p:cNvGrpSpPr/>
          <p:nvPr/>
        </p:nvGrpSpPr>
        <p:grpSpPr>
          <a:xfrm>
            <a:off x="2459160" y="2514600"/>
            <a:ext cx="4716360" cy="520560"/>
            <a:chOff x="2459160" y="2514600"/>
            <a:chExt cx="4716360" cy="520560"/>
          </a:xfrm>
        </p:grpSpPr>
        <p:sp>
          <p:nvSpPr>
            <p:cNvPr id="3308" name=""/>
            <p:cNvSpPr/>
            <p:nvPr/>
          </p:nvSpPr>
          <p:spPr>
            <a:xfrm>
              <a:off x="2885040" y="2819520"/>
              <a:ext cx="4290480" cy="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459160" y="2514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0" name=""/>
          <p:cNvGrpSpPr/>
          <p:nvPr/>
        </p:nvGrpSpPr>
        <p:grpSpPr>
          <a:xfrm>
            <a:off x="3621240" y="3352680"/>
            <a:ext cx="2398680" cy="1441440"/>
            <a:chOff x="3621240" y="3352680"/>
            <a:chExt cx="2398680" cy="1441440"/>
          </a:xfrm>
        </p:grpSpPr>
        <p:sp>
          <p:nvSpPr>
            <p:cNvPr id="3311" name=""/>
            <p:cNvSpPr/>
            <p:nvPr/>
          </p:nvSpPr>
          <p:spPr>
            <a:xfrm>
              <a:off x="3621240" y="3352680"/>
              <a:ext cx="0" cy="144144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422960" y="3352680"/>
              <a:ext cx="0" cy="144144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219280" y="3352680"/>
              <a:ext cx="0" cy="144144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019920" y="3352680"/>
              <a:ext cx="0" cy="144144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2814480" y="3409920"/>
            <a:ext cx="4729320" cy="1854000"/>
            <a:chOff x="2814480" y="3409920"/>
            <a:chExt cx="4729320" cy="1854000"/>
          </a:xfrm>
        </p:grpSpPr>
        <mc:AlternateContent>
          <mc:Choice xmlns:a14="http://schemas.microsoft.com/office/drawing/2010/main" Requires="a14">
            <p:sp>
              <p:nvSpPr>
                <p:cNvPr id="3316" name=""/>
                <p:cNvSpPr txBox="1"/>
                <p:nvPr/>
              </p:nvSpPr>
              <p:spPr>
                <a:xfrm>
                  <a:off x="2886120" y="3409920"/>
                  <a:ext cx="39528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17" name=""/>
            <p:cNvSpPr/>
            <p:nvPr/>
          </p:nvSpPr>
          <p:spPr>
            <a:xfrm>
              <a:off x="7191360" y="4681440"/>
              <a:ext cx="352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 flipH="1" flipV="1">
              <a:off x="2824200" y="3690720"/>
              <a:ext cx="144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V="1">
              <a:off x="2814480" y="4757400"/>
              <a:ext cx="4545000" cy="1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417920" y="4638600"/>
              <a:ext cx="43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3619440" y="4638600"/>
              <a:ext cx="432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2459160" y="3886200"/>
            <a:ext cx="4716360" cy="520560"/>
            <a:chOff x="2459160" y="3886200"/>
            <a:chExt cx="4716360" cy="520560"/>
          </a:xfrm>
        </p:grpSpPr>
        <p:sp>
          <p:nvSpPr>
            <p:cNvPr id="3323" name=""/>
            <p:cNvSpPr/>
            <p:nvPr/>
          </p:nvSpPr>
          <p:spPr>
            <a:xfrm>
              <a:off x="2885040" y="4191120"/>
              <a:ext cx="429048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459160" y="3886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5" name=""/>
          <p:cNvGrpSpPr/>
          <p:nvPr/>
        </p:nvGrpSpPr>
        <p:grpSpPr>
          <a:xfrm>
            <a:off x="2824200" y="4419720"/>
            <a:ext cx="3984120" cy="304560"/>
            <a:chOff x="2824200" y="4419720"/>
            <a:chExt cx="3984120" cy="304560"/>
          </a:xfrm>
        </p:grpSpPr>
        <p:sp>
          <p:nvSpPr>
            <p:cNvPr id="3326" name=""/>
            <p:cNvSpPr/>
            <p:nvPr/>
          </p:nvSpPr>
          <p:spPr>
            <a:xfrm flipV="1">
              <a:off x="2824200" y="4419720"/>
              <a:ext cx="796680" cy="3045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7" name=""/>
            <p:cNvGrpSpPr/>
            <p:nvPr/>
          </p:nvGrpSpPr>
          <p:grpSpPr>
            <a:xfrm>
              <a:off x="2824200" y="4419720"/>
              <a:ext cx="3984120" cy="304560"/>
              <a:chOff x="2824200" y="4419720"/>
              <a:chExt cx="3984120" cy="304560"/>
            </a:xfrm>
          </p:grpSpPr>
          <p:sp>
            <p:nvSpPr>
              <p:cNvPr id="3328" name=""/>
              <p:cNvSpPr/>
              <p:nvPr/>
            </p:nvSpPr>
            <p:spPr>
              <a:xfrm flipV="1">
                <a:off x="2824200" y="4419720"/>
                <a:ext cx="796680" cy="3045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9" name=""/>
              <p:cNvGrpSpPr/>
              <p:nvPr/>
            </p:nvGrpSpPr>
            <p:grpSpPr>
              <a:xfrm>
                <a:off x="3559680" y="4419720"/>
                <a:ext cx="1654560" cy="228240"/>
                <a:chOff x="3559680" y="4419720"/>
                <a:chExt cx="1654560" cy="228240"/>
              </a:xfrm>
            </p:grpSpPr>
            <p:sp>
              <p:nvSpPr>
                <p:cNvPr id="3330" name=""/>
                <p:cNvSpPr/>
                <p:nvPr/>
              </p:nvSpPr>
              <p:spPr>
                <a:xfrm>
                  <a:off x="3559680" y="4419720"/>
                  <a:ext cx="857880" cy="228240"/>
                </a:xfrm>
                <a:prstGeom prst="line">
                  <a:avLst/>
                </a:prstGeom>
                <a:ln w="572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 flipV="1">
                  <a:off x="4417560" y="4419720"/>
                  <a:ext cx="796680" cy="228240"/>
                </a:xfrm>
                <a:prstGeom prst="line">
                  <a:avLst/>
                </a:prstGeom>
                <a:ln w="572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2" name=""/>
              <p:cNvSpPr/>
              <p:nvPr/>
            </p:nvSpPr>
            <p:spPr>
              <a:xfrm>
                <a:off x="5214960" y="4419720"/>
                <a:ext cx="796680" cy="22824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V="1">
                <a:off x="6011640" y="4419720"/>
                <a:ext cx="796680" cy="22824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4" name=""/>
          <p:cNvGrpSpPr/>
          <p:nvPr/>
        </p:nvGrpSpPr>
        <p:grpSpPr>
          <a:xfrm>
            <a:off x="865080" y="5105520"/>
            <a:ext cx="6831000" cy="1096200"/>
            <a:chOff x="865080" y="5105520"/>
            <a:chExt cx="6831000" cy="1096200"/>
          </a:xfrm>
        </p:grpSpPr>
        <p:sp>
          <p:nvSpPr>
            <p:cNvPr id="3335" name=""/>
            <p:cNvSpPr/>
            <p:nvPr/>
          </p:nvSpPr>
          <p:spPr>
            <a:xfrm>
              <a:off x="1371600" y="5638680"/>
              <a:ext cx="63244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用作示波器的扫描锯齿波电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65080" y="5105520"/>
              <a:ext cx="8114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应用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7" name=""/>
          <p:cNvSpPr/>
          <p:nvPr/>
        </p:nvSpPr>
        <p:spPr>
          <a:xfrm>
            <a:off x="2895480" y="53352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009440" y="190080"/>
            <a:ext cx="6305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6.5 </a:t>
            </a:r>
            <a:r>
              <a:rPr b="1" i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RL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路的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 type="subTitle"/>
          </p:nvPr>
        </p:nvSpPr>
        <p:spPr>
          <a:xfrm>
            <a:off x="457200" y="743040"/>
            <a:ext cx="5867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.5.1 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L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路的零输入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57200" y="1157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短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609480" y="2590920"/>
            <a:ext cx="3803760" cy="569880"/>
            <a:chOff x="609480" y="2590920"/>
            <a:chExt cx="3803760" cy="569880"/>
          </a:xfrm>
        </p:grpSpPr>
        <p:sp>
          <p:nvSpPr>
            <p:cNvPr id="3342" name=""/>
            <p:cNvSpPr/>
            <p:nvPr/>
          </p:nvSpPr>
          <p:spPr>
            <a:xfrm>
              <a:off x="609480" y="2619720"/>
              <a:ext cx="380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1)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的变化规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3" name=""/>
                <p:cNvSpPr txBox="1"/>
                <p:nvPr/>
              </p:nvSpPr>
              <p:spPr>
                <a:xfrm>
                  <a:off x="1118880" y="2590920"/>
                  <a:ext cx="40968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922320" y="3048120"/>
                <a:ext cx="5783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τ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45" name=""/>
          <p:cNvSpPr/>
          <p:nvPr/>
        </p:nvSpPr>
        <p:spPr>
          <a:xfrm>
            <a:off x="6566040" y="321480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要素公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6" name=""/>
          <p:cNvGrpSpPr/>
          <p:nvPr/>
        </p:nvGrpSpPr>
        <p:grpSpPr>
          <a:xfrm>
            <a:off x="609480" y="3886200"/>
            <a:ext cx="3429000" cy="520560"/>
            <a:chOff x="609480" y="3886200"/>
            <a:chExt cx="3429000" cy="520560"/>
          </a:xfrm>
        </p:grpSpPr>
        <p:sp>
          <p:nvSpPr>
            <p:cNvPr id="3347" name=""/>
            <p:cNvSpPr/>
            <p:nvPr/>
          </p:nvSpPr>
          <p:spPr>
            <a:xfrm>
              <a:off x="609480" y="388620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8" name=""/>
                <p:cNvSpPr txBox="1"/>
                <p:nvPr/>
              </p:nvSpPr>
              <p:spPr>
                <a:xfrm>
                  <a:off x="3124080" y="3886200"/>
                  <a:ext cx="9144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4114800" y="3639960"/>
                <a:ext cx="28195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4191120" y="4419720"/>
                <a:ext cx="1447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51" name=""/>
          <p:cNvGrpSpPr/>
          <p:nvPr/>
        </p:nvGrpSpPr>
        <p:grpSpPr>
          <a:xfrm>
            <a:off x="609480" y="4419720"/>
            <a:ext cx="3733560" cy="544320"/>
            <a:chOff x="609480" y="4419720"/>
            <a:chExt cx="3733560" cy="544320"/>
          </a:xfrm>
        </p:grpSpPr>
        <p:sp>
          <p:nvSpPr>
            <p:cNvPr id="3352" name=""/>
            <p:cNvSpPr/>
            <p:nvPr/>
          </p:nvSpPr>
          <p:spPr>
            <a:xfrm>
              <a:off x="609480" y="444348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2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稳态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3" name=""/>
                <p:cNvSpPr txBox="1"/>
                <p:nvPr/>
              </p:nvSpPr>
              <p:spPr>
                <a:xfrm>
                  <a:off x="2895480" y="4419720"/>
                  <a:ext cx="83808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54" name=""/>
          <p:cNvGrpSpPr/>
          <p:nvPr/>
        </p:nvGrpSpPr>
        <p:grpSpPr>
          <a:xfrm>
            <a:off x="609480" y="5029200"/>
            <a:ext cx="4800600" cy="520560"/>
            <a:chOff x="609480" y="5029200"/>
            <a:chExt cx="4800600" cy="520560"/>
          </a:xfrm>
        </p:grpSpPr>
        <p:sp>
          <p:nvSpPr>
            <p:cNvPr id="3355" name=""/>
            <p:cNvSpPr/>
            <p:nvPr/>
          </p:nvSpPr>
          <p:spPr>
            <a:xfrm>
              <a:off x="609480" y="502920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电路的时间常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6" name=""/>
                <p:cNvSpPr txBox="1"/>
                <p:nvPr/>
              </p:nvSpPr>
              <p:spPr>
                <a:xfrm>
                  <a:off x="4443480" y="5149800"/>
                  <a:ext cx="35712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7" name=""/>
              <p:cNvSpPr txBox="1"/>
              <p:nvPr/>
            </p:nvSpPr>
            <p:spPr>
              <a:xfrm>
                <a:off x="5029200" y="4753080"/>
                <a:ext cx="9907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8" name=""/>
              <p:cNvSpPr txBox="1"/>
              <p:nvPr/>
            </p:nvSpPr>
            <p:spPr>
              <a:xfrm>
                <a:off x="1155600" y="5518080"/>
                <a:ext cx="43592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59" name=""/>
          <p:cNvGrpSpPr/>
          <p:nvPr/>
        </p:nvGrpSpPr>
        <p:grpSpPr>
          <a:xfrm>
            <a:off x="4955040" y="762120"/>
            <a:ext cx="3862080" cy="2241360"/>
            <a:chOff x="4955040" y="762120"/>
            <a:chExt cx="3862080" cy="2241360"/>
          </a:xfrm>
        </p:grpSpPr>
        <p:grpSp>
          <p:nvGrpSpPr>
            <p:cNvPr id="3360" name=""/>
            <p:cNvGrpSpPr/>
            <p:nvPr/>
          </p:nvGrpSpPr>
          <p:grpSpPr>
            <a:xfrm>
              <a:off x="4955040" y="762120"/>
              <a:ext cx="3862080" cy="2225520"/>
              <a:chOff x="4955040" y="762120"/>
              <a:chExt cx="3862080" cy="2225520"/>
            </a:xfrm>
          </p:grpSpPr>
          <p:sp>
            <p:nvSpPr>
              <p:cNvPr id="3361" name=""/>
              <p:cNvSpPr/>
              <p:nvPr/>
            </p:nvSpPr>
            <p:spPr>
              <a:xfrm rot="16200000">
                <a:off x="7287480" y="1218240"/>
                <a:ext cx="154080" cy="4096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62" name=""/>
                  <p:cNvSpPr txBox="1"/>
                  <p:nvPr/>
                </p:nvSpPr>
                <p:spPr>
                  <a:xfrm>
                    <a:off x="7142040" y="762120"/>
                    <a:ext cx="5446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3" name=""/>
                  <p:cNvSpPr txBox="1"/>
                  <p:nvPr/>
                </p:nvSpPr>
                <p:spPr>
                  <a:xfrm>
                    <a:off x="8332920" y="1878120"/>
                    <a:ext cx="484200" cy="53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64" name=""/>
              <p:cNvSpPr/>
              <p:nvPr/>
            </p:nvSpPr>
            <p:spPr>
              <a:xfrm>
                <a:off x="4955040" y="2007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00640" y="2043000"/>
                <a:ext cx="372960" cy="3430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489640" y="1442880"/>
                <a:ext cx="0" cy="15447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445000" y="1685880"/>
                <a:ext cx="37332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 flipH="1" flipV="1">
                <a:off x="6544800" y="1432080"/>
                <a:ext cx="62892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 flipH="1" flipV="1">
                <a:off x="6460560" y="1390680"/>
                <a:ext cx="91800" cy="8424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067080" y="1474920"/>
                <a:ext cx="428760" cy="1936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 flipH="1" flipV="1">
                <a:off x="6413760" y="1442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72" name=""/>
              <p:cNvCxnSpPr/>
              <p:nvPr/>
            </p:nvCxnSpPr>
            <p:spPr>
              <a:xfrm flipV="1" rot="10800000">
                <a:off x="6341040" y="1414800"/>
                <a:ext cx="31320" cy="496440"/>
              </a:xfrm>
              <a:prstGeom prst="curvedConnector4">
                <a:avLst>
                  <a:gd name="adj1" fmla="val 443023"/>
                  <a:gd name="adj2" fmla="val 69593"/>
                </a:avLst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</p:cxnSp>
          <p:sp>
            <p:nvSpPr>
              <p:cNvPr id="3373" name=""/>
              <p:cNvSpPr/>
              <p:nvPr/>
            </p:nvSpPr>
            <p:spPr>
              <a:xfrm>
                <a:off x="5475240" y="1442880"/>
                <a:ext cx="5335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V="1">
                <a:off x="5475240" y="2965320"/>
                <a:ext cx="2719440" cy="129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175880" y="14630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817040" y="20134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746680" y="1026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964120" y="1675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032520" y="899280"/>
                <a:ext cx="66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8175600" y="2446200"/>
                <a:ext cx="0" cy="5320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8175600" y="1422360"/>
                <a:ext cx="0" cy="49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8323200" y="1468440"/>
                <a:ext cx="0" cy="312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3" name=""/>
              <p:cNvGrpSpPr/>
              <p:nvPr/>
            </p:nvGrpSpPr>
            <p:grpSpPr>
              <a:xfrm>
                <a:off x="8158320" y="1901880"/>
                <a:ext cx="99360" cy="539280"/>
                <a:chOff x="8158320" y="1901880"/>
                <a:chExt cx="99360" cy="539280"/>
              </a:xfrm>
            </p:grpSpPr>
            <p:sp>
              <p:nvSpPr>
                <p:cNvPr id="3384" name=""/>
                <p:cNvSpPr/>
                <p:nvPr/>
              </p:nvSpPr>
              <p:spPr>
                <a:xfrm flipH="1">
                  <a:off x="8158320" y="2073600"/>
                  <a:ext cx="94320" cy="18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 flipH="1">
                  <a:off x="8163360" y="1901880"/>
                  <a:ext cx="94320" cy="18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 flipH="1">
                  <a:off x="8158320" y="2259000"/>
                  <a:ext cx="94320" cy="18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7" name=""/>
              <p:cNvSpPr/>
              <p:nvPr/>
            </p:nvSpPr>
            <p:spPr>
              <a:xfrm>
                <a:off x="6364440" y="1913040"/>
                <a:ext cx="0" cy="10713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88" name=""/>
                  <p:cNvSpPr txBox="1"/>
                  <p:nvPr/>
                </p:nvSpPr>
                <p:spPr>
                  <a:xfrm>
                    <a:off x="8372520" y="1324080"/>
                    <a:ext cx="388800" cy="53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389" name=""/>
              <p:cNvGrpSpPr/>
              <p:nvPr/>
            </p:nvGrpSpPr>
            <p:grpSpPr>
              <a:xfrm>
                <a:off x="6808680" y="941400"/>
                <a:ext cx="1038960" cy="585000"/>
                <a:chOff x="6808680" y="941400"/>
                <a:chExt cx="1038960" cy="58500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6808680" y="1005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7531200" y="941400"/>
                  <a:ext cx="31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-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2" name=""/>
              <p:cNvSpPr/>
              <p:nvPr/>
            </p:nvSpPr>
            <p:spPr>
              <a:xfrm>
                <a:off x="8193240" y="1644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8246520" y="214776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 flipV="1">
                <a:off x="7567560" y="1426680"/>
                <a:ext cx="628560" cy="32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 flipV="1">
              <a:off x="6292800" y="28954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6" name=""/>
              <p:cNvSpPr txBox="1"/>
              <p:nvPr/>
            </p:nvSpPr>
            <p:spPr>
              <a:xfrm>
                <a:off x="1230480" y="1260360"/>
                <a:ext cx="31287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i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7" name=""/>
              <p:cNvSpPr txBox="1"/>
              <p:nvPr/>
            </p:nvSpPr>
            <p:spPr>
              <a:xfrm>
                <a:off x="1279440" y="2057400"/>
                <a:ext cx="2911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8" name=""/>
          <p:cNvSpPr/>
          <p:nvPr/>
        </p:nvSpPr>
        <p:spPr>
          <a:xfrm>
            <a:off x="762120" y="3138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变化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9" name=""/>
          <p:cNvGrpSpPr/>
          <p:nvPr/>
        </p:nvGrpSpPr>
        <p:grpSpPr>
          <a:xfrm>
            <a:off x="1274760" y="3635280"/>
            <a:ext cx="3144960" cy="2209680"/>
            <a:chOff x="1274760" y="3635280"/>
            <a:chExt cx="3144960" cy="2209680"/>
          </a:xfrm>
        </p:grpSpPr>
        <p:grpSp>
          <p:nvGrpSpPr>
            <p:cNvPr id="3400" name=""/>
            <p:cNvGrpSpPr/>
            <p:nvPr/>
          </p:nvGrpSpPr>
          <p:grpSpPr>
            <a:xfrm>
              <a:off x="1274760" y="3635280"/>
              <a:ext cx="3144960" cy="2110680"/>
              <a:chOff x="1274760" y="3635280"/>
              <a:chExt cx="3144960" cy="2110680"/>
            </a:xfrm>
          </p:grpSpPr>
          <p:sp>
            <p:nvSpPr>
              <p:cNvPr id="3401" name=""/>
              <p:cNvSpPr/>
              <p:nvPr/>
            </p:nvSpPr>
            <p:spPr>
              <a:xfrm>
                <a:off x="1488960" y="5357880"/>
                <a:ext cx="293076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V="1">
                <a:off x="1631880" y="3857040"/>
                <a:ext cx="0" cy="17859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03" name=""/>
                  <p:cNvSpPr txBox="1"/>
                  <p:nvPr/>
                </p:nvSpPr>
                <p:spPr>
                  <a:xfrm>
                    <a:off x="1687320" y="3635280"/>
                    <a:ext cx="430560" cy="59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04" name=""/>
              <p:cNvSpPr/>
              <p:nvPr/>
            </p:nvSpPr>
            <p:spPr>
              <a:xfrm>
                <a:off x="1274760" y="528624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05" name=""/>
                <p:cNvSpPr txBox="1"/>
                <p:nvPr/>
              </p:nvSpPr>
              <p:spPr>
                <a:xfrm>
                  <a:off x="4143240" y="5368680"/>
                  <a:ext cx="247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06" name=""/>
              <p:cNvSpPr txBox="1"/>
              <p:nvPr/>
            </p:nvSpPr>
            <p:spPr>
              <a:xfrm>
                <a:off x="6541920" y="3838680"/>
                <a:ext cx="5558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7" name=""/>
          <p:cNvGrpSpPr/>
          <p:nvPr/>
        </p:nvGrpSpPr>
        <p:grpSpPr>
          <a:xfrm>
            <a:off x="5181480" y="2955960"/>
            <a:ext cx="2998800" cy="3174840"/>
            <a:chOff x="5181480" y="2955960"/>
            <a:chExt cx="2998800" cy="3174840"/>
          </a:xfrm>
        </p:grpSpPr>
        <p:sp>
          <p:nvSpPr>
            <p:cNvPr id="3408" name=""/>
            <p:cNvSpPr/>
            <p:nvPr/>
          </p:nvSpPr>
          <p:spPr>
            <a:xfrm>
              <a:off x="5181480" y="4572000"/>
              <a:ext cx="4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9" name=""/>
            <p:cNvGrpSpPr/>
            <p:nvPr/>
          </p:nvGrpSpPr>
          <p:grpSpPr>
            <a:xfrm>
              <a:off x="5410080" y="2955960"/>
              <a:ext cx="2770200" cy="3174840"/>
              <a:chOff x="5410080" y="2955960"/>
              <a:chExt cx="2770200" cy="3174840"/>
            </a:xfrm>
          </p:grpSpPr>
          <p:sp>
            <p:nvSpPr>
              <p:cNvPr id="3410" name=""/>
              <p:cNvSpPr/>
              <p:nvPr/>
            </p:nvSpPr>
            <p:spPr>
              <a:xfrm>
                <a:off x="5410080" y="4606920"/>
                <a:ext cx="2770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5527800" y="3083040"/>
                <a:ext cx="0" cy="30477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12" name=""/>
                  <p:cNvSpPr txBox="1"/>
                  <p:nvPr/>
                </p:nvSpPr>
                <p:spPr>
                  <a:xfrm>
                    <a:off x="5638680" y="2955960"/>
                    <a:ext cx="343080" cy="42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13" name=""/>
                  <p:cNvSpPr txBox="1"/>
                  <p:nvPr/>
                </p:nvSpPr>
                <p:spPr>
                  <a:xfrm>
                    <a:off x="7848720" y="4643280"/>
                    <a:ext cx="239760" cy="46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414" name=""/>
              <p:cNvSpPr txBox="1"/>
              <p:nvPr/>
            </p:nvSpPr>
            <p:spPr>
              <a:xfrm>
                <a:off x="6553080" y="4572000"/>
                <a:ext cx="514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5" name=""/>
              <p:cNvSpPr txBox="1"/>
              <p:nvPr/>
            </p:nvSpPr>
            <p:spPr>
              <a:xfrm>
                <a:off x="1295280" y="295200"/>
                <a:ext cx="20574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416" name=""/>
          <p:cNvGrpSpPr/>
          <p:nvPr/>
        </p:nvGrpSpPr>
        <p:grpSpPr>
          <a:xfrm>
            <a:off x="1219320" y="3886200"/>
            <a:ext cx="2611440" cy="1371240"/>
            <a:chOff x="1219320" y="3886200"/>
            <a:chExt cx="2611440" cy="1371240"/>
          </a:xfrm>
        </p:grpSpPr>
        <mc:AlternateContent>
          <mc:Choice xmlns:a14="http://schemas.microsoft.com/office/drawing/2010/main" Requires="a14">
            <p:sp>
              <p:nvSpPr>
                <p:cNvPr id="3417" name=""/>
                <p:cNvSpPr txBox="1"/>
                <p:nvPr/>
              </p:nvSpPr>
              <p:spPr>
                <a:xfrm>
                  <a:off x="1219320" y="3886200"/>
                  <a:ext cx="366480" cy="82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18" name=""/>
            <p:cNvSpPr/>
            <p:nvPr/>
          </p:nvSpPr>
          <p:spPr>
            <a:xfrm>
              <a:off x="1614600" y="4271400"/>
              <a:ext cx="2216160" cy="986040"/>
            </a:xfrm>
            <a:custGeom>
              <a:avLst/>
              <a:gdLst/>
              <a:ahLst/>
              <a:rect l="l" t="t" r="r" b="b"/>
              <a:pathLst>
                <a:path w="1536" h="720">
                  <a:moveTo>
                    <a:pt x="0" y="0"/>
                  </a:moveTo>
                  <a:cubicBezTo>
                    <a:pt x="160" y="228"/>
                    <a:pt x="320" y="456"/>
                    <a:pt x="576" y="576"/>
                  </a:cubicBezTo>
                  <a:cubicBezTo>
                    <a:pt x="832" y="696"/>
                    <a:pt x="1184" y="708"/>
                    <a:pt x="1536" y="72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5058000" y="4648320"/>
            <a:ext cx="2693880" cy="1297800"/>
            <a:chOff x="5058000" y="4648320"/>
            <a:chExt cx="2693880" cy="1297800"/>
          </a:xfrm>
        </p:grpSpPr>
        <p:sp>
          <p:nvSpPr>
            <p:cNvPr id="3420" name=""/>
            <p:cNvSpPr/>
            <p:nvPr/>
          </p:nvSpPr>
          <p:spPr>
            <a:xfrm flipV="1">
              <a:off x="5535720" y="4648320"/>
              <a:ext cx="2216160" cy="1038240"/>
            </a:xfrm>
            <a:custGeom>
              <a:avLst/>
              <a:gdLst/>
              <a:ahLst/>
              <a:rect l="l" t="t" r="r" b="b"/>
              <a:pathLst>
                <a:path w="1536" h="720">
                  <a:moveTo>
                    <a:pt x="0" y="0"/>
                  </a:moveTo>
                  <a:cubicBezTo>
                    <a:pt x="160" y="228"/>
                    <a:pt x="320" y="456"/>
                    <a:pt x="576" y="576"/>
                  </a:cubicBezTo>
                  <a:cubicBezTo>
                    <a:pt x="832" y="696"/>
                    <a:pt x="1184" y="708"/>
                    <a:pt x="1536" y="720"/>
                  </a:cubicBezTo>
                </a:path>
              </a:pathLst>
            </a:custGeom>
            <a:noFill/>
            <a:ln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058000" y="5486400"/>
              <a:ext cx="50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-</a:t>
              </a: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2" name=""/>
          <p:cNvGrpSpPr/>
          <p:nvPr/>
        </p:nvGrpSpPr>
        <p:grpSpPr>
          <a:xfrm>
            <a:off x="5083920" y="3276720"/>
            <a:ext cx="2661480" cy="1303200"/>
            <a:chOff x="5083920" y="3276720"/>
            <a:chExt cx="2661480" cy="1303200"/>
          </a:xfrm>
        </p:grpSpPr>
        <p:sp>
          <p:nvSpPr>
            <p:cNvPr id="3423" name=""/>
            <p:cNvSpPr/>
            <p:nvPr/>
          </p:nvSpPr>
          <p:spPr>
            <a:xfrm>
              <a:off x="5529240" y="3540240"/>
              <a:ext cx="2216160" cy="1039680"/>
            </a:xfrm>
            <a:custGeom>
              <a:avLst/>
              <a:gdLst/>
              <a:ahLst/>
              <a:rect l="l" t="t" r="r" b="b"/>
              <a:pathLst>
                <a:path w="1536" h="720">
                  <a:moveTo>
                    <a:pt x="0" y="0"/>
                  </a:moveTo>
                  <a:cubicBezTo>
                    <a:pt x="160" y="228"/>
                    <a:pt x="320" y="456"/>
                    <a:pt x="576" y="576"/>
                  </a:cubicBezTo>
                  <a:cubicBezTo>
                    <a:pt x="832" y="696"/>
                    <a:pt x="1184" y="708"/>
                    <a:pt x="1536" y="720"/>
                  </a:cubicBez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083920" y="3276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5" name=""/>
          <p:cNvSpPr/>
          <p:nvPr/>
        </p:nvSpPr>
        <p:spPr>
          <a:xfrm>
            <a:off x="1600200" y="4343400"/>
            <a:ext cx="914400" cy="99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514600" y="5105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7" name=""/>
          <p:cNvGrpSpPr/>
          <p:nvPr/>
        </p:nvGrpSpPr>
        <p:grpSpPr>
          <a:xfrm>
            <a:off x="304920" y="4721400"/>
            <a:ext cx="2209320" cy="688680"/>
            <a:chOff x="304920" y="4721400"/>
            <a:chExt cx="2209320" cy="688680"/>
          </a:xfrm>
        </p:grpSpPr>
        <p:sp>
          <p:nvSpPr>
            <p:cNvPr id="3428" name=""/>
            <p:cNvSpPr/>
            <p:nvPr/>
          </p:nvSpPr>
          <p:spPr>
            <a:xfrm>
              <a:off x="1749600" y="5102280"/>
              <a:ext cx="764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9" name=""/>
                <p:cNvSpPr txBox="1"/>
                <p:nvPr/>
              </p:nvSpPr>
              <p:spPr>
                <a:xfrm>
                  <a:off x="304920" y="4721400"/>
                  <a:ext cx="133452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0" name=""/>
          <p:cNvGrpSpPr/>
          <p:nvPr/>
        </p:nvGrpSpPr>
        <p:grpSpPr>
          <a:xfrm>
            <a:off x="4794840" y="304920"/>
            <a:ext cx="4043880" cy="2286000"/>
            <a:chOff x="4794840" y="304920"/>
            <a:chExt cx="4043880" cy="2286000"/>
          </a:xfrm>
        </p:grpSpPr>
        <p:grpSp>
          <p:nvGrpSpPr>
            <p:cNvPr id="3431" name=""/>
            <p:cNvGrpSpPr/>
            <p:nvPr/>
          </p:nvGrpSpPr>
          <p:grpSpPr>
            <a:xfrm>
              <a:off x="4794840" y="304920"/>
              <a:ext cx="4043880" cy="2256840"/>
              <a:chOff x="4794840" y="304920"/>
              <a:chExt cx="4043880" cy="2256840"/>
            </a:xfrm>
          </p:grpSpPr>
          <p:sp>
            <p:nvSpPr>
              <p:cNvPr id="3432" name=""/>
              <p:cNvSpPr/>
              <p:nvPr/>
            </p:nvSpPr>
            <p:spPr>
              <a:xfrm rot="16200000">
                <a:off x="7227720" y="721800"/>
                <a:ext cx="157680" cy="40932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33" name=""/>
                  <p:cNvSpPr txBox="1"/>
                  <p:nvPr/>
                </p:nvSpPr>
                <p:spPr>
                  <a:xfrm>
                    <a:off x="7079400" y="304920"/>
                    <a:ext cx="49572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34" name=""/>
                  <p:cNvSpPr txBox="1"/>
                  <p:nvPr/>
                </p:nvSpPr>
                <p:spPr>
                  <a:xfrm>
                    <a:off x="8330760" y="1396800"/>
                    <a:ext cx="507960" cy="56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35" name=""/>
              <p:cNvSpPr/>
              <p:nvPr/>
            </p:nvSpPr>
            <p:spPr>
              <a:xfrm>
                <a:off x="4794840" y="1543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147280" y="1569960"/>
                <a:ext cx="391320" cy="3610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344920" y="940320"/>
                <a:ext cx="0" cy="1621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299200" y="1220760"/>
                <a:ext cx="39132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 flipV="1">
                <a:off x="6453360" y="928440"/>
                <a:ext cx="65952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 flipV="1">
                <a:off x="6365160" y="884520"/>
                <a:ext cx="97200" cy="892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H="1" flipV="1">
                <a:off x="5877720" y="884520"/>
                <a:ext cx="98280" cy="892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H="1">
                <a:off x="5950800" y="973800"/>
                <a:ext cx="450360" cy="2030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H="1" flipV="1">
                <a:off x="6324480" y="951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44" name=""/>
              <p:cNvCxnSpPr/>
              <p:nvPr/>
            </p:nvCxnSpPr>
            <p:spPr>
              <a:xfrm flipV="1" rot="10800000">
                <a:off x="6239880" y="771840"/>
                <a:ext cx="33120" cy="521280"/>
              </a:xfrm>
              <a:prstGeom prst="curvedConnector4">
                <a:avLst>
                  <a:gd name="adj1" fmla="val 440659"/>
                  <a:gd name="adj2" fmla="val 69592"/>
                </a:avLst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</p:cxnSp>
          <p:sp>
            <p:nvSpPr>
              <p:cNvPr id="3445" name=""/>
              <p:cNvSpPr/>
              <p:nvPr/>
            </p:nvSpPr>
            <p:spPr>
              <a:xfrm>
                <a:off x="5330880" y="940320"/>
                <a:ext cx="5594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5330880" y="2538720"/>
                <a:ext cx="2854080" cy="11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207840" y="1322640"/>
                <a:ext cx="118080" cy="1000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125840" y="9745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796880" y="15490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623920" y="514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937480" y="114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931720" y="380880"/>
                <a:ext cx="66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8165520" y="1992960"/>
                <a:ext cx="0" cy="5580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8165520" y="917640"/>
                <a:ext cx="0" cy="524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8319960" y="966240"/>
                <a:ext cx="0" cy="329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6" name=""/>
              <p:cNvGrpSpPr/>
              <p:nvPr/>
            </p:nvGrpSpPr>
            <p:grpSpPr>
              <a:xfrm>
                <a:off x="8147160" y="1421280"/>
                <a:ext cx="104040" cy="566640"/>
                <a:chOff x="8147160" y="1421280"/>
                <a:chExt cx="104040" cy="566640"/>
              </a:xfrm>
            </p:grpSpPr>
            <p:sp>
              <p:nvSpPr>
                <p:cNvPr id="3457" name=""/>
                <p:cNvSpPr/>
                <p:nvPr/>
              </p:nvSpPr>
              <p:spPr>
                <a:xfrm flipH="1">
                  <a:off x="8147160" y="1601640"/>
                  <a:ext cx="98640" cy="19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 flipH="1">
                  <a:off x="8152560" y="1421280"/>
                  <a:ext cx="98640" cy="19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 flipH="1">
                  <a:off x="8147160" y="1796400"/>
                  <a:ext cx="98640" cy="19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0" name=""/>
              <p:cNvSpPr/>
              <p:nvPr/>
            </p:nvSpPr>
            <p:spPr>
              <a:xfrm>
                <a:off x="6263640" y="1433520"/>
                <a:ext cx="0" cy="11253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1" name=""/>
                  <p:cNvSpPr txBox="1"/>
                  <p:nvPr/>
                </p:nvSpPr>
                <p:spPr>
                  <a:xfrm>
                    <a:off x="8371440" y="814680"/>
                    <a:ext cx="407880" cy="56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462" name=""/>
              <p:cNvGrpSpPr/>
              <p:nvPr/>
            </p:nvGrpSpPr>
            <p:grpSpPr>
              <a:xfrm>
                <a:off x="6730920" y="459360"/>
                <a:ext cx="1077840" cy="587160"/>
                <a:chOff x="6730920" y="459360"/>
                <a:chExt cx="1077840" cy="58716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6730920" y="525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7492320" y="459360"/>
                  <a:ext cx="31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-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5" name=""/>
              <p:cNvSpPr/>
              <p:nvPr/>
            </p:nvSpPr>
            <p:spPr>
              <a:xfrm>
                <a:off x="8183520" y="1151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240040" y="168084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flipH="1" flipV="1">
                <a:off x="7526880" y="923400"/>
                <a:ext cx="659520" cy="2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8" name=""/>
            <p:cNvSpPr/>
            <p:nvPr/>
          </p:nvSpPr>
          <p:spPr>
            <a:xfrm flipV="1">
              <a:off x="6216480" y="24829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R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直接从直流电源断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0" name=""/>
              <p:cNvSpPr txBox="1"/>
              <p:nvPr/>
            </p:nvSpPr>
            <p:spPr>
              <a:xfrm>
                <a:off x="3124080" y="2986200"/>
                <a:ext cx="381024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i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1" name=""/>
          <p:cNvSpPr/>
          <p:nvPr/>
        </p:nvSpPr>
        <p:spPr>
          <a:xfrm>
            <a:off x="457200" y="1219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能产生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533520" y="1752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刀闸处产生电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3" name=""/>
              <p:cNvSpPr txBox="1"/>
              <p:nvPr/>
            </p:nvSpPr>
            <p:spPr>
              <a:xfrm>
                <a:off x="838080" y="223524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4" name=""/>
              <p:cNvSpPr txBox="1"/>
              <p:nvPr/>
            </p:nvSpPr>
            <p:spPr>
              <a:xfrm>
                <a:off x="1295280" y="3227400"/>
                <a:ext cx="160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5" name=""/>
          <p:cNvSpPr/>
          <p:nvPr/>
        </p:nvSpPr>
        <p:spPr>
          <a:xfrm>
            <a:off x="609480" y="38242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压表瞬间过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6" name=""/>
              <p:cNvSpPr txBox="1"/>
              <p:nvPr/>
            </p:nvSpPr>
            <p:spPr>
              <a:xfrm>
                <a:off x="685800" y="4343400"/>
                <a:ext cx="3378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7" name=""/>
              <p:cNvSpPr txBox="1"/>
              <p:nvPr/>
            </p:nvSpPr>
            <p:spPr>
              <a:xfrm>
                <a:off x="609480" y="5203800"/>
                <a:ext cx="4591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表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表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表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78" name=""/>
          <p:cNvGrpSpPr/>
          <p:nvPr/>
        </p:nvGrpSpPr>
        <p:grpSpPr>
          <a:xfrm>
            <a:off x="4955040" y="644400"/>
            <a:ext cx="3960360" cy="2206800"/>
            <a:chOff x="4955040" y="644400"/>
            <a:chExt cx="3960360" cy="2206800"/>
          </a:xfrm>
        </p:grpSpPr>
        <p:grpSp>
          <p:nvGrpSpPr>
            <p:cNvPr id="3479" name=""/>
            <p:cNvGrpSpPr/>
            <p:nvPr/>
          </p:nvGrpSpPr>
          <p:grpSpPr>
            <a:xfrm>
              <a:off x="4955040" y="644400"/>
              <a:ext cx="3960360" cy="2175120"/>
              <a:chOff x="4955040" y="644400"/>
              <a:chExt cx="3960360" cy="2175120"/>
            </a:xfrm>
          </p:grpSpPr>
          <mc:AlternateContent>
            <mc:Choice xmlns:a14="http://schemas.microsoft.com/office/drawing/2010/main" Requires="a14">
              <p:sp>
                <p:nvSpPr>
                  <p:cNvPr id="3480" name=""/>
                  <p:cNvSpPr txBox="1"/>
                  <p:nvPr/>
                </p:nvSpPr>
                <p:spPr>
                  <a:xfrm>
                    <a:off x="7221600" y="644400"/>
                    <a:ext cx="477720" cy="49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81" name=""/>
                  <p:cNvSpPr txBox="1"/>
                  <p:nvPr/>
                </p:nvSpPr>
                <p:spPr>
                  <a:xfrm>
                    <a:off x="8391600" y="1647720"/>
                    <a:ext cx="501480" cy="5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82" name=""/>
              <p:cNvSpPr/>
              <p:nvPr/>
            </p:nvSpPr>
            <p:spPr>
              <a:xfrm>
                <a:off x="4955040" y="1830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364000" y="1863720"/>
                <a:ext cx="376560" cy="34596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553000" y="1255680"/>
                <a:ext cx="0" cy="15638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508720" y="1508040"/>
                <a:ext cx="37620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H="1" flipV="1">
                <a:off x="6619680" y="1244160"/>
                <a:ext cx="649080" cy="32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flipH="1" flipV="1">
                <a:off x="6535800" y="1200960"/>
                <a:ext cx="92160" cy="874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H="1" flipV="1">
                <a:off x="6066000" y="1200960"/>
                <a:ext cx="95040" cy="874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H="1">
                <a:off x="6136920" y="1219320"/>
                <a:ext cx="431640" cy="1951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 flipV="1">
                <a:off x="6505920" y="1258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538960" y="1255680"/>
                <a:ext cx="537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flipV="1">
                <a:off x="5538960" y="2796840"/>
                <a:ext cx="2746080" cy="111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275600" y="1238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904160" y="18370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826240" y="82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062400" y="1447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139440" y="740160"/>
                <a:ext cx="59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8265960" y="2270160"/>
                <a:ext cx="0" cy="5382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8265960" y="1235160"/>
                <a:ext cx="0" cy="5047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8415360" y="1281240"/>
                <a:ext cx="0" cy="317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1" name=""/>
              <p:cNvGrpSpPr/>
              <p:nvPr/>
            </p:nvGrpSpPr>
            <p:grpSpPr>
              <a:xfrm>
                <a:off x="8248320" y="1719360"/>
                <a:ext cx="99720" cy="547200"/>
                <a:chOff x="8248320" y="1719360"/>
                <a:chExt cx="99720" cy="547200"/>
              </a:xfrm>
            </p:grpSpPr>
            <p:sp>
              <p:nvSpPr>
                <p:cNvPr id="3502" name=""/>
                <p:cNvSpPr/>
                <p:nvPr/>
              </p:nvSpPr>
              <p:spPr>
                <a:xfrm flipH="1">
                  <a:off x="8247960" y="1893600"/>
                  <a:ext cx="94680" cy="18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 flipH="1">
                  <a:off x="8253000" y="1719360"/>
                  <a:ext cx="94680" cy="18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 flipH="1">
                  <a:off x="8247960" y="2081520"/>
                  <a:ext cx="94680" cy="18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5" name=""/>
              <p:cNvSpPr/>
              <p:nvPr/>
            </p:nvSpPr>
            <p:spPr>
              <a:xfrm>
                <a:off x="6435720" y="1676520"/>
                <a:ext cx="0" cy="11397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rot="16200000">
                <a:off x="7373880" y="1066320"/>
                <a:ext cx="142920" cy="3747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07" name=""/>
                  <p:cNvSpPr txBox="1"/>
                  <p:nvPr/>
                </p:nvSpPr>
                <p:spPr>
                  <a:xfrm>
                    <a:off x="8462880" y="1055520"/>
                    <a:ext cx="452520" cy="62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508" name=""/>
              <p:cNvGrpSpPr/>
              <p:nvPr/>
            </p:nvGrpSpPr>
            <p:grpSpPr>
              <a:xfrm>
                <a:off x="6888240" y="793800"/>
                <a:ext cx="1046520" cy="584640"/>
                <a:chOff x="6888240" y="793800"/>
                <a:chExt cx="1046520" cy="584640"/>
              </a:xfrm>
            </p:grpSpPr>
            <p:sp>
              <p:nvSpPr>
                <p:cNvPr id="3509" name=""/>
                <p:cNvSpPr/>
                <p:nvPr/>
              </p:nvSpPr>
              <p:spPr>
                <a:xfrm>
                  <a:off x="6888240" y="857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>
                  <a:off x="7618320" y="793800"/>
                  <a:ext cx="31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-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1" name=""/>
              <p:cNvSpPr/>
              <p:nvPr/>
            </p:nvSpPr>
            <p:spPr>
              <a:xfrm>
                <a:off x="8283960" y="1460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8337240" y="196992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H="1" flipV="1">
                <a:off x="7613640" y="1233000"/>
                <a:ext cx="649440" cy="32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6172200" y="1219320"/>
                <a:ext cx="3808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5" name=""/>
            <p:cNvSpPr/>
            <p:nvPr/>
          </p:nvSpPr>
          <p:spPr>
            <a:xfrm flipV="1">
              <a:off x="6369120" y="27432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5031360" y="3773520"/>
            <a:ext cx="3960000" cy="2278080"/>
            <a:chOff x="5031360" y="3773520"/>
            <a:chExt cx="3960000" cy="2278080"/>
          </a:xfrm>
        </p:grpSpPr>
        <p:grpSp>
          <p:nvGrpSpPr>
            <p:cNvPr id="3517" name=""/>
            <p:cNvGrpSpPr/>
            <p:nvPr/>
          </p:nvGrpSpPr>
          <p:grpSpPr>
            <a:xfrm>
              <a:off x="5031360" y="3773520"/>
              <a:ext cx="3960000" cy="2246040"/>
              <a:chOff x="5031360" y="3773520"/>
              <a:chExt cx="3960000" cy="2246040"/>
            </a:xfrm>
          </p:grpSpPr>
          <mc:AlternateContent>
            <mc:Choice xmlns:a14="http://schemas.microsoft.com/office/drawing/2010/main" Requires="a14">
              <p:sp>
                <p:nvSpPr>
                  <p:cNvPr id="3518" name=""/>
                  <p:cNvSpPr txBox="1"/>
                  <p:nvPr/>
                </p:nvSpPr>
                <p:spPr>
                  <a:xfrm>
                    <a:off x="7297560" y="3773520"/>
                    <a:ext cx="477720" cy="49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519" name=""/>
              <p:cNvGrpSpPr/>
              <p:nvPr/>
            </p:nvGrpSpPr>
            <p:grpSpPr>
              <a:xfrm>
                <a:off x="5031360" y="3940560"/>
                <a:ext cx="3960000" cy="2079000"/>
                <a:chOff x="5031360" y="3940560"/>
                <a:chExt cx="3960000" cy="2079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520" name=""/>
                    <p:cNvSpPr txBox="1"/>
                    <p:nvPr/>
                  </p:nvSpPr>
                  <p:spPr>
                    <a:xfrm>
                      <a:off x="8467560" y="4848120"/>
                      <a:ext cx="501840" cy="558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21" name=""/>
                <p:cNvSpPr/>
                <p:nvPr/>
              </p:nvSpPr>
              <p:spPr>
                <a:xfrm>
                  <a:off x="5031360" y="50310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5440320" y="5064120"/>
                  <a:ext cx="376200" cy="345960"/>
                </a:xfrm>
                <a:prstGeom prst="ellipse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5629320" y="4456080"/>
                  <a:ext cx="0" cy="15634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5584680" y="4708440"/>
                  <a:ext cx="376200" cy="99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 flipH="1" flipV="1">
                  <a:off x="6695640" y="4444560"/>
                  <a:ext cx="649080" cy="324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 flipH="1" flipV="1">
                  <a:off x="6611760" y="4402080"/>
                  <a:ext cx="92160" cy="87120"/>
                </a:xfrm>
                <a:prstGeom prst="ellipse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 flipH="1" flipV="1">
                  <a:off x="6141960" y="4402080"/>
                  <a:ext cx="95040" cy="87120"/>
                </a:xfrm>
                <a:prstGeom prst="ellipse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 flipH="1">
                  <a:off x="6400440" y="4489200"/>
                  <a:ext cx="244440" cy="38736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 flipH="1" flipV="1">
                  <a:off x="6561360" y="44589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5614920" y="4456080"/>
                  <a:ext cx="53820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 flipV="1">
                  <a:off x="5614920" y="5997600"/>
                  <a:ext cx="2746440" cy="1080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6457680" y="4825800"/>
                  <a:ext cx="115920" cy="96840"/>
                </a:xfrm>
                <a:prstGeom prst="ellipse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7351920" y="44391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18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7980120" y="503748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5902200" y="4024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18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6138720" y="46472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18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6215760" y="3940560"/>
                  <a:ext cx="59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8342280" y="5470560"/>
                  <a:ext cx="0" cy="53784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8342280" y="443520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8491320" y="4481280"/>
                  <a:ext cx="0" cy="3175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1" name=""/>
                <p:cNvGrpSpPr/>
                <p:nvPr/>
              </p:nvGrpSpPr>
              <p:grpSpPr>
                <a:xfrm>
                  <a:off x="8324280" y="4919400"/>
                  <a:ext cx="99720" cy="547560"/>
                  <a:chOff x="8324280" y="4919400"/>
                  <a:chExt cx="99720" cy="547560"/>
                </a:xfrm>
              </p:grpSpPr>
              <p:sp>
                <p:nvSpPr>
                  <p:cNvPr id="3542" name=""/>
                  <p:cNvSpPr/>
                  <p:nvPr/>
                </p:nvSpPr>
                <p:spPr>
                  <a:xfrm flipH="1">
                    <a:off x="8323920" y="5093640"/>
                    <a:ext cx="946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5080"/>
                          <a:pt x="0" y="10800"/>
                        </a:cubicBezTo>
                        <a:cubicBezTo>
                          <a:pt x="0" y="16520"/>
                          <a:pt x="10800" y="21600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 flipH="1">
                    <a:off x="8328960" y="4919400"/>
                    <a:ext cx="9468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5080"/>
                          <a:pt x="0" y="10800"/>
                        </a:cubicBezTo>
                        <a:cubicBezTo>
                          <a:pt x="0" y="16520"/>
                          <a:pt x="10800" y="21600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 flipH="1">
                    <a:off x="8323920" y="5281920"/>
                    <a:ext cx="9468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5080"/>
                          <a:pt x="0" y="10800"/>
                        </a:cubicBezTo>
                        <a:cubicBezTo>
                          <a:pt x="0" y="16520"/>
                          <a:pt x="10800" y="21600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5" name=""/>
                <p:cNvSpPr/>
                <p:nvPr/>
              </p:nvSpPr>
              <p:spPr>
                <a:xfrm>
                  <a:off x="6516720" y="563868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 rot="16200000">
                  <a:off x="7449840" y="4266720"/>
                  <a:ext cx="142920" cy="374400"/>
                </a:xfrm>
                <a:prstGeom prst="rect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47" name=""/>
                    <p:cNvSpPr txBox="1"/>
                    <p:nvPr/>
                  </p:nvSpPr>
                  <p:spPr>
                    <a:xfrm>
                      <a:off x="8539200" y="4255920"/>
                      <a:ext cx="452160" cy="623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3548" name=""/>
                <p:cNvGrpSpPr/>
                <p:nvPr/>
              </p:nvGrpSpPr>
              <p:grpSpPr>
                <a:xfrm>
                  <a:off x="6964560" y="3994200"/>
                  <a:ext cx="1046520" cy="584640"/>
                  <a:chOff x="6964560" y="3994200"/>
                  <a:chExt cx="1046520" cy="584640"/>
                </a:xfrm>
              </p:grpSpPr>
              <p:sp>
                <p:nvSpPr>
                  <p:cNvPr id="3549" name=""/>
                  <p:cNvSpPr/>
                  <p:nvPr/>
                </p:nvSpPr>
                <p:spPr>
                  <a:xfrm>
                    <a:off x="6964560" y="405828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+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7694640" y="3994200"/>
                    <a:ext cx="316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51" name=""/>
                <p:cNvSpPr/>
                <p:nvPr/>
              </p:nvSpPr>
              <p:spPr>
                <a:xfrm>
                  <a:off x="8359920" y="46609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8413200" y="5170320"/>
                  <a:ext cx="31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-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 flipH="1" flipV="1">
                  <a:off x="7689600" y="4433400"/>
                  <a:ext cx="649440" cy="324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6511680" y="4952880"/>
                  <a:ext cx="0" cy="3412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5" name=""/>
                <p:cNvGrpSpPr/>
                <p:nvPr/>
              </p:nvGrpSpPr>
              <p:grpSpPr>
                <a:xfrm>
                  <a:off x="6324480" y="5257800"/>
                  <a:ext cx="402480" cy="459720"/>
                  <a:chOff x="6324480" y="5257800"/>
                  <a:chExt cx="402480" cy="459720"/>
                </a:xfrm>
              </p:grpSpPr>
              <p:sp>
                <p:nvSpPr>
                  <p:cNvPr id="3556" name=""/>
                  <p:cNvSpPr/>
                  <p:nvPr/>
                </p:nvSpPr>
                <p:spPr>
                  <a:xfrm>
                    <a:off x="6324480" y="5257800"/>
                    <a:ext cx="380880" cy="4204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6326640" y="525780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V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558" name=""/>
            <p:cNvSpPr/>
            <p:nvPr/>
          </p:nvSpPr>
          <p:spPr>
            <a:xfrm flipV="1">
              <a:off x="6445080" y="59436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610480" y="-5843160"/>
            <a:ext cx="15264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609480" y="700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决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609480" y="361152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)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接续流二极管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2" name=""/>
          <p:cNvGrpSpPr/>
          <p:nvPr/>
        </p:nvGrpSpPr>
        <p:grpSpPr>
          <a:xfrm>
            <a:off x="685800" y="1219320"/>
            <a:ext cx="3505320" cy="520560"/>
            <a:chOff x="685800" y="1219320"/>
            <a:chExt cx="3505320" cy="520560"/>
          </a:xfrm>
        </p:grpSpPr>
        <p:sp>
          <p:nvSpPr>
            <p:cNvPr id="3563" name=""/>
            <p:cNvSpPr/>
            <p:nvPr/>
          </p:nvSpPr>
          <p:spPr>
            <a:xfrm>
              <a:off x="685800" y="121932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)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接放电电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4" name=""/>
                <p:cNvSpPr txBox="1"/>
                <p:nvPr/>
              </p:nvSpPr>
              <p:spPr>
                <a:xfrm>
                  <a:off x="3124440" y="1305000"/>
                  <a:ext cx="45720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65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20574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566" name=""/>
          <p:cNvGrpSpPr/>
          <p:nvPr/>
        </p:nvGrpSpPr>
        <p:grpSpPr>
          <a:xfrm>
            <a:off x="3963960" y="3429000"/>
            <a:ext cx="4275000" cy="2438280"/>
            <a:chOff x="3963960" y="3429000"/>
            <a:chExt cx="4275000" cy="2438280"/>
          </a:xfrm>
        </p:grpSpPr>
        <p:grpSp>
          <p:nvGrpSpPr>
            <p:cNvPr id="3567" name=""/>
            <p:cNvGrpSpPr/>
            <p:nvPr/>
          </p:nvGrpSpPr>
          <p:grpSpPr>
            <a:xfrm>
              <a:off x="3963960" y="3429000"/>
              <a:ext cx="4275000" cy="2437920"/>
              <a:chOff x="3963960" y="3429000"/>
              <a:chExt cx="4275000" cy="2437920"/>
            </a:xfrm>
          </p:grpSpPr>
          <p:grpSp>
            <p:nvGrpSpPr>
              <p:cNvPr id="3568" name=""/>
              <p:cNvGrpSpPr/>
              <p:nvPr/>
            </p:nvGrpSpPr>
            <p:grpSpPr>
              <a:xfrm>
                <a:off x="5562720" y="4114800"/>
                <a:ext cx="758520" cy="1752120"/>
                <a:chOff x="5562720" y="4114800"/>
                <a:chExt cx="758520" cy="175212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6131160" y="5247720"/>
                  <a:ext cx="0" cy="61920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6131160" y="4114800"/>
                  <a:ext cx="0" cy="6742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5929920" y="4799880"/>
                  <a:ext cx="383760" cy="310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6131160" y="4405320"/>
                  <a:ext cx="0" cy="121356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5913000" y="4824360"/>
                  <a:ext cx="408240" cy="1800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5562720" y="4964760"/>
                  <a:ext cx="64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575" name=""/>
                  <p:cNvSpPr txBox="1"/>
                  <p:nvPr/>
                </p:nvSpPr>
                <p:spPr>
                  <a:xfrm>
                    <a:off x="6585120" y="3429000"/>
                    <a:ext cx="523800" cy="550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76" name=""/>
                  <p:cNvSpPr txBox="1"/>
                  <p:nvPr/>
                </p:nvSpPr>
                <p:spPr>
                  <a:xfrm>
                    <a:off x="7688160" y="4576680"/>
                    <a:ext cx="549360" cy="62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7" name=""/>
              <p:cNvSpPr/>
              <p:nvPr/>
            </p:nvSpPr>
            <p:spPr>
              <a:xfrm>
                <a:off x="3963960" y="46774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429080" y="4789440"/>
                <a:ext cx="411120" cy="38736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635360" y="4111560"/>
                <a:ext cx="0" cy="17431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587840" y="4449960"/>
                <a:ext cx="41112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H="1" flipV="1">
                <a:off x="5803920" y="4098600"/>
                <a:ext cx="790560" cy="46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H="1" flipV="1">
                <a:off x="5711760" y="4050720"/>
                <a:ext cx="101520" cy="9684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flipH="1">
                <a:off x="5275440" y="4148280"/>
                <a:ext cx="474480" cy="217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H="1" flipV="1">
                <a:off x="5565960" y="4109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85" name=""/>
              <p:cNvCxnSpPr/>
              <p:nvPr/>
            </p:nvCxnSpPr>
            <p:spPr>
              <a:xfrm flipV="1" rot="10800000">
                <a:off x="5582160" y="3934080"/>
                <a:ext cx="30240" cy="554760"/>
              </a:xfrm>
              <a:prstGeom prst="curvedConnector4">
                <a:avLst>
                  <a:gd name="adj1" fmla="val 504819"/>
                  <a:gd name="adj2" fmla="val 69415"/>
                </a:avLst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</p:cxnSp>
          <p:sp>
            <p:nvSpPr>
              <p:cNvPr id="3586" name=""/>
              <p:cNvSpPr/>
              <p:nvPr/>
            </p:nvSpPr>
            <p:spPr>
              <a:xfrm>
                <a:off x="4621320" y="4111560"/>
                <a:ext cx="58896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 flipV="1">
                <a:off x="4621320" y="5830560"/>
                <a:ext cx="3008160" cy="111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6583680" y="4167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212600" y="475056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938480" y="3675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059080" y="4353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271120" y="3531600"/>
                <a:ext cx="66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607160" y="5243400"/>
                <a:ext cx="0" cy="5986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607160" y="4087800"/>
                <a:ext cx="0" cy="5634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770960" y="4138560"/>
                <a:ext cx="0" cy="35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6" name=""/>
              <p:cNvGrpSpPr/>
              <p:nvPr/>
            </p:nvGrpSpPr>
            <p:grpSpPr>
              <a:xfrm>
                <a:off x="7589520" y="4627440"/>
                <a:ext cx="109080" cy="610920"/>
                <a:chOff x="7589520" y="4627440"/>
                <a:chExt cx="109080" cy="610920"/>
              </a:xfrm>
            </p:grpSpPr>
            <p:sp>
              <p:nvSpPr>
                <p:cNvPr id="3597" name=""/>
                <p:cNvSpPr/>
                <p:nvPr/>
              </p:nvSpPr>
              <p:spPr>
                <a:xfrm flipH="1">
                  <a:off x="7589160" y="4821840"/>
                  <a:ext cx="103320" cy="20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 flipH="1">
                  <a:off x="7594920" y="4627440"/>
                  <a:ext cx="103320" cy="20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 flipH="1">
                  <a:off x="7589160" y="5032080"/>
                  <a:ext cx="103320" cy="20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0" name=""/>
              <p:cNvSpPr/>
              <p:nvPr/>
            </p:nvSpPr>
            <p:spPr>
              <a:xfrm rot="16200000">
                <a:off x="6748920" y="3903840"/>
                <a:ext cx="157320" cy="4096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01" name=""/>
                  <p:cNvSpPr txBox="1"/>
                  <p:nvPr/>
                </p:nvSpPr>
                <p:spPr>
                  <a:xfrm>
                    <a:off x="7824960" y="3960720"/>
                    <a:ext cx="414000" cy="58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02" name=""/>
              <p:cNvGrpSpPr/>
              <p:nvPr/>
            </p:nvGrpSpPr>
            <p:grpSpPr>
              <a:xfrm>
                <a:off x="6218280" y="3595680"/>
                <a:ext cx="1117440" cy="593280"/>
                <a:chOff x="6218280" y="3595680"/>
                <a:chExt cx="1117440" cy="593280"/>
              </a:xfrm>
            </p:grpSpPr>
            <p:sp>
              <p:nvSpPr>
                <p:cNvPr id="3603" name=""/>
                <p:cNvSpPr/>
                <p:nvPr/>
              </p:nvSpPr>
              <p:spPr>
                <a:xfrm>
                  <a:off x="6218280" y="36684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7019280" y="3595680"/>
                  <a:ext cx="31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-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5" name=""/>
              <p:cNvSpPr/>
              <p:nvPr/>
            </p:nvSpPr>
            <p:spPr>
              <a:xfrm>
                <a:off x="7628040" y="4338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686360" y="490680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 flipH="1" flipV="1">
                <a:off x="7032600" y="4106520"/>
                <a:ext cx="571680" cy="32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8" name=""/>
            <p:cNvSpPr/>
            <p:nvPr/>
          </p:nvSpPr>
          <p:spPr>
            <a:xfrm flipV="1">
              <a:off x="6064200" y="57592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9" name=""/>
          <p:cNvGrpSpPr/>
          <p:nvPr/>
        </p:nvGrpSpPr>
        <p:grpSpPr>
          <a:xfrm>
            <a:off x="3954240" y="838080"/>
            <a:ext cx="4275360" cy="2470320"/>
            <a:chOff x="3954240" y="838080"/>
            <a:chExt cx="4275360" cy="2470320"/>
          </a:xfrm>
        </p:grpSpPr>
        <p:grpSp>
          <p:nvGrpSpPr>
            <p:cNvPr id="3610" name=""/>
            <p:cNvGrpSpPr/>
            <p:nvPr/>
          </p:nvGrpSpPr>
          <p:grpSpPr>
            <a:xfrm>
              <a:off x="3954240" y="838080"/>
              <a:ext cx="4275360" cy="2425680"/>
              <a:chOff x="3954240" y="838080"/>
              <a:chExt cx="4275360" cy="2425680"/>
            </a:xfrm>
          </p:grpSpPr>
          <p:sp>
            <p:nvSpPr>
              <p:cNvPr id="3611" name=""/>
              <p:cNvSpPr/>
              <p:nvPr/>
            </p:nvSpPr>
            <p:spPr>
              <a:xfrm>
                <a:off x="6013440" y="2535120"/>
                <a:ext cx="0" cy="7286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6013440" y="1514520"/>
                <a:ext cx="0" cy="6573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V="1" rot="10800000">
                <a:off x="5928840" y="2157480"/>
                <a:ext cx="158760" cy="4096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14" name=""/>
                  <p:cNvSpPr txBox="1"/>
                  <p:nvPr/>
                </p:nvSpPr>
                <p:spPr>
                  <a:xfrm>
                    <a:off x="6126120" y="2171880"/>
                    <a:ext cx="459000" cy="37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15" name=""/>
                  <p:cNvSpPr txBox="1"/>
                  <p:nvPr/>
                </p:nvSpPr>
                <p:spPr>
                  <a:xfrm>
                    <a:off x="6575400" y="838080"/>
                    <a:ext cx="523800" cy="55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16" name=""/>
                  <p:cNvSpPr txBox="1"/>
                  <p:nvPr/>
                </p:nvSpPr>
                <p:spPr>
                  <a:xfrm>
                    <a:off x="7678800" y="1986120"/>
                    <a:ext cx="549360" cy="62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17" name=""/>
              <p:cNvSpPr/>
              <p:nvPr/>
            </p:nvSpPr>
            <p:spPr>
              <a:xfrm>
                <a:off x="3954240" y="2086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4419720" y="2198520"/>
                <a:ext cx="411120" cy="38736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626000" y="1521000"/>
                <a:ext cx="0" cy="17427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4578480" y="1859040"/>
                <a:ext cx="41112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H="1" flipV="1">
                <a:off x="5793840" y="1507680"/>
                <a:ext cx="790920" cy="46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 flipV="1">
                <a:off x="5702400" y="1459800"/>
                <a:ext cx="101520" cy="9684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H="1">
                <a:off x="5265360" y="1535040"/>
                <a:ext cx="474840" cy="217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 flipV="1">
                <a:off x="5556600" y="15184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625" name=""/>
              <p:cNvCxnSpPr/>
              <p:nvPr/>
            </p:nvCxnSpPr>
            <p:spPr>
              <a:xfrm flipV="1" rot="10800000">
                <a:off x="5572080" y="1343160"/>
                <a:ext cx="29520" cy="555120"/>
              </a:xfrm>
              <a:prstGeom prst="curvedConnector4">
                <a:avLst>
                  <a:gd name="adj1" fmla="val 516049"/>
                  <a:gd name="adj2" fmla="val 69370"/>
                </a:avLst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</p:cxnSp>
          <p:sp>
            <p:nvSpPr>
              <p:cNvPr id="3626" name=""/>
              <p:cNvSpPr/>
              <p:nvPr/>
            </p:nvSpPr>
            <p:spPr>
              <a:xfrm>
                <a:off x="4611600" y="1521000"/>
                <a:ext cx="58896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V="1">
                <a:off x="4611600" y="3239640"/>
                <a:ext cx="3008520" cy="111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6573960" y="1576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7203240" y="2160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4929120" y="1085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049720" y="17629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261400" y="940680"/>
                <a:ext cx="66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7597800" y="2652840"/>
                <a:ext cx="0" cy="5983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7597800" y="1496880"/>
                <a:ext cx="0" cy="5637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761240" y="1547640"/>
                <a:ext cx="0" cy="35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36" name=""/>
              <p:cNvGrpSpPr/>
              <p:nvPr/>
            </p:nvGrpSpPr>
            <p:grpSpPr>
              <a:xfrm>
                <a:off x="7580160" y="2036880"/>
                <a:ext cx="109440" cy="610560"/>
                <a:chOff x="7580160" y="2036880"/>
                <a:chExt cx="109440" cy="610560"/>
              </a:xfrm>
            </p:grpSpPr>
            <p:sp>
              <p:nvSpPr>
                <p:cNvPr id="3637" name=""/>
                <p:cNvSpPr/>
                <p:nvPr/>
              </p:nvSpPr>
              <p:spPr>
                <a:xfrm flipH="1">
                  <a:off x="7580160" y="2231280"/>
                  <a:ext cx="103680" cy="20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 flipH="1">
                  <a:off x="7585920" y="2036880"/>
                  <a:ext cx="103680" cy="20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"/>
                <p:cNvSpPr/>
                <p:nvPr/>
              </p:nvSpPr>
              <p:spPr>
                <a:xfrm flipH="1">
                  <a:off x="7580160" y="2441160"/>
                  <a:ext cx="103680" cy="20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0" name=""/>
              <p:cNvSpPr/>
              <p:nvPr/>
            </p:nvSpPr>
            <p:spPr>
              <a:xfrm rot="16200000">
                <a:off x="6739920" y="1313640"/>
                <a:ext cx="156960" cy="4096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41" name=""/>
                  <p:cNvSpPr txBox="1"/>
                  <p:nvPr/>
                </p:nvSpPr>
                <p:spPr>
                  <a:xfrm>
                    <a:off x="7815240" y="1370160"/>
                    <a:ext cx="41436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42" name=""/>
              <p:cNvGrpSpPr/>
              <p:nvPr/>
            </p:nvGrpSpPr>
            <p:grpSpPr>
              <a:xfrm>
                <a:off x="6208920" y="1004760"/>
                <a:ext cx="1117440" cy="593280"/>
                <a:chOff x="6208920" y="1004760"/>
                <a:chExt cx="1117440" cy="593280"/>
              </a:xfrm>
            </p:grpSpPr>
            <p:sp>
              <p:nvSpPr>
                <p:cNvPr id="3643" name=""/>
                <p:cNvSpPr/>
                <p:nvPr/>
              </p:nvSpPr>
              <p:spPr>
                <a:xfrm>
                  <a:off x="6208920" y="10774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7009920" y="1004760"/>
                  <a:ext cx="31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-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5" name=""/>
              <p:cNvSpPr/>
              <p:nvPr/>
            </p:nvSpPr>
            <p:spPr>
              <a:xfrm>
                <a:off x="7618680" y="17478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7676640" y="231624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 flipH="1" flipV="1">
                <a:off x="7022880" y="1515600"/>
                <a:ext cx="571320" cy="32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8" name=""/>
            <p:cNvSpPr/>
            <p:nvPr/>
          </p:nvSpPr>
          <p:spPr>
            <a:xfrm flipV="1">
              <a:off x="5943600" y="32004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"/>
          <p:cNvSpPr/>
          <p:nvPr/>
        </p:nvSpPr>
        <p:spPr>
          <a:xfrm>
            <a:off x="457200" y="457200"/>
            <a:ext cx="8381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示电路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发电机的励磁绕组，其电感较大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调节励磁电流用的。当将电源开关断开时，为了不至由于励磁线圈所储的磁能消失过快而烧坏开关触头，往往用一个泄放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线圈联接。开关接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将电源断开。经过一段时间后，再将开关扳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位置，此时电路完全断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533520" y="457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457200" y="4038480"/>
            <a:ext cx="586728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100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开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瞬间线圈两端的电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900000" y="3254400"/>
                <a:ext cx="77104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已知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H,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Ω</m:t>
                    </m:r>
                    <m:r>
                      <m:t xml:space="preserve">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3" name=""/>
          <p:cNvSpPr/>
          <p:nvPr/>
        </p:nvSpPr>
        <p:spPr>
          <a:xfrm>
            <a:off x="457200" y="3733920"/>
            <a:ext cx="5334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稳态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457200" y="5073480"/>
            <a:ext cx="5867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超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V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泄放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选多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5" name=""/>
          <p:cNvGrpSpPr/>
          <p:nvPr/>
        </p:nvGrpSpPr>
        <p:grpSpPr>
          <a:xfrm>
            <a:off x="5411520" y="2815560"/>
            <a:ext cx="3599280" cy="3508920"/>
            <a:chOff x="5411520" y="2815560"/>
            <a:chExt cx="3599280" cy="3508920"/>
          </a:xfrm>
        </p:grpSpPr>
        <p:sp>
          <p:nvSpPr>
            <p:cNvPr id="3656" name=""/>
            <p:cNvSpPr/>
            <p:nvPr/>
          </p:nvSpPr>
          <p:spPr>
            <a:xfrm>
              <a:off x="6230880" y="3886200"/>
              <a:ext cx="39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940360" y="5029200"/>
              <a:ext cx="5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8518680" y="5410080"/>
              <a:ext cx="4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764320" y="4334040"/>
              <a:ext cx="7887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7086600" y="4308480"/>
              <a:ext cx="3808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8362800" y="4987440"/>
              <a:ext cx="0" cy="3366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556240" y="5029200"/>
              <a:ext cx="466560" cy="48744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777000" y="5715000"/>
              <a:ext cx="0" cy="5619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784840" y="6276960"/>
              <a:ext cx="259704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8369280" y="5919840"/>
              <a:ext cx="0" cy="3571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8275680" y="4495680"/>
              <a:ext cx="174600" cy="49392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7467480" y="4343400"/>
              <a:ext cx="6098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18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8" name=""/>
            <p:cNvGrpSpPr/>
            <p:nvPr/>
          </p:nvGrpSpPr>
          <p:grpSpPr>
            <a:xfrm>
              <a:off x="8236800" y="5318280"/>
              <a:ext cx="235440" cy="624600"/>
              <a:chOff x="8236800" y="5318280"/>
              <a:chExt cx="235440" cy="624600"/>
            </a:xfrm>
          </p:grpSpPr>
          <p:sp>
            <p:nvSpPr>
              <p:cNvPr id="3669" name=""/>
              <p:cNvSpPr/>
              <p:nvPr/>
            </p:nvSpPr>
            <p:spPr>
              <a:xfrm>
                <a:off x="8236800" y="5318280"/>
                <a:ext cx="235440" cy="20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236800" y="5526720"/>
                <a:ext cx="235440" cy="20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8236800" y="5735160"/>
                <a:ext cx="235440" cy="20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10835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10835809"/>
                  </a:path>
                </a:pathLst>
              </a:custGeom>
              <a:noFill/>
              <a:ln cap="rnd"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 flipV="1">
              <a:off x="8353440" y="4297320"/>
              <a:ext cx="0" cy="209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727680" y="6205680"/>
              <a:ext cx="104760" cy="118800"/>
            </a:xfrm>
            <a:prstGeom prst="ellipse">
              <a:avLst/>
            </a:prstGeom>
            <a:solidFill>
              <a:srgbClr val="000018"/>
            </a:solidFill>
            <a:ln w="93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53080" y="4343040"/>
              <a:ext cx="457200" cy="228600"/>
            </a:xfrm>
            <a:prstGeom prst="line">
              <a:avLst/>
            </a:prstGeom>
            <a:ln w="572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6685200" y="2815200"/>
              <a:ext cx="2325240" cy="230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80" y="3748"/>
                  </a:moveTo>
                  <a:arcTo wR="10800" hR="10800" stAng="-2445817" swAng="19521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80" y="3748"/>
                  </a:moveTo>
                  <a:arcTo wR="10800" hR="10800" stAng="-2445817" swAng="1952104"/>
                </a:path>
              </a:pathLst>
            </a:custGeom>
            <a:noFill/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411880" y="45259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411520" y="5195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5791320" y="43434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6683400" y="5257800"/>
              <a:ext cx="174600" cy="4935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783480" y="4695840"/>
              <a:ext cx="0" cy="5619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010280" y="4267080"/>
              <a:ext cx="7632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V="1" rot="5400000">
              <a:off x="7619040" y="4038120"/>
              <a:ext cx="174600" cy="49392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939080" y="4295880"/>
              <a:ext cx="4428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8077320" y="39625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H="1">
              <a:off x="7695720" y="39625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696080" y="3962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8458200" y="449568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6934320" y="5105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  <a:ea typeface="Times New Roman"/>
                </a:rPr>
                <a:t>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625032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V="1">
              <a:off x="6019920" y="4264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640260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162920" y="4648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162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6858000" y="419112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935400" y="37339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"/>
          <p:cNvSpPr/>
          <p:nvPr/>
        </p:nvSpPr>
        <p:spPr>
          <a:xfrm>
            <a:off x="380880" y="20574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1860480" y="2548080"/>
                <a:ext cx="450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1171440" y="4145040"/>
                <a:ext cx="66470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60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04920" y="533520"/>
            <a:ext cx="88390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所选用的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开关接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多长时间，线圈才能将所储的磁能放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时间变化的表示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1860120" y="20574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，线圈中的电流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1422360" y="358128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开关接通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瞬间线圈两端的电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853560" y="4649760"/>
            <a:ext cx="467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如果不使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RL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0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超过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0V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3" name=""/>
              <p:cNvSpPr txBox="1"/>
              <p:nvPr/>
            </p:nvSpPr>
            <p:spPr>
              <a:xfrm>
                <a:off x="2666880" y="5257800"/>
                <a:ext cx="28195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4" name=""/>
          <p:cNvSpPr/>
          <p:nvPr/>
        </p:nvSpPr>
        <p:spPr>
          <a:xfrm>
            <a:off x="659880" y="556272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5" name=""/>
              <p:cNvSpPr txBox="1"/>
              <p:nvPr/>
            </p:nvSpPr>
            <p:spPr>
              <a:xfrm>
                <a:off x="3200400" y="5900760"/>
                <a:ext cx="1600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"/>
          <p:cNvSpPr/>
          <p:nvPr/>
        </p:nvSpPr>
        <p:spPr>
          <a:xfrm>
            <a:off x="1274040" y="38088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求当磁能已放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95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7" name=""/>
              <p:cNvSpPr txBox="1"/>
              <p:nvPr/>
            </p:nvSpPr>
            <p:spPr>
              <a:xfrm>
                <a:off x="1523880" y="762120"/>
                <a:ext cx="3353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8" name=""/>
              <p:cNvSpPr txBox="1"/>
              <p:nvPr/>
            </p:nvSpPr>
            <p:spPr>
              <a:xfrm>
                <a:off x="1508040" y="1546200"/>
                <a:ext cx="3673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9" name=""/>
              <p:cNvSpPr txBox="1"/>
              <p:nvPr/>
            </p:nvSpPr>
            <p:spPr>
              <a:xfrm>
                <a:off x="2612880" y="2438280"/>
                <a:ext cx="1806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6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0" name=""/>
          <p:cNvSpPr/>
          <p:nvPr/>
        </p:nvSpPr>
        <p:spPr>
          <a:xfrm>
            <a:off x="1140120" y="2757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所经过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1643040" y="3284640"/>
                <a:ext cx="42181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1600200" y="4191120"/>
                <a:ext cx="23302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6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395960" y="4281480"/>
                <a:ext cx="1699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2089080" y="4832280"/>
                <a:ext cx="28018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685800" y="5424480"/>
                <a:ext cx="3463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若按</m:t>
                        </m:r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计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1539720" y="5751360"/>
                <a:ext cx="4911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407880" y="438120"/>
            <a:ext cx="584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 .5 .2  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L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路的零状态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1447920" y="3352680"/>
                <a:ext cx="46069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19" name=""/>
          <p:cNvGrpSpPr/>
          <p:nvPr/>
        </p:nvGrpSpPr>
        <p:grpSpPr>
          <a:xfrm>
            <a:off x="609480" y="2438280"/>
            <a:ext cx="3352680" cy="584280"/>
            <a:chOff x="609480" y="2438280"/>
            <a:chExt cx="3352680" cy="584280"/>
          </a:xfrm>
        </p:grpSpPr>
        <p:sp>
          <p:nvSpPr>
            <p:cNvPr id="3720" name=""/>
            <p:cNvSpPr/>
            <p:nvPr/>
          </p:nvSpPr>
          <p:spPr>
            <a:xfrm>
              <a:off x="609480" y="244800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.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变化规律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1" name=""/>
                <p:cNvSpPr txBox="1"/>
                <p:nvPr/>
              </p:nvSpPr>
              <p:spPr>
                <a:xfrm>
                  <a:off x="1218960" y="2438280"/>
                  <a:ext cx="3700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22" name=""/>
          <p:cNvSpPr/>
          <p:nvPr/>
        </p:nvSpPr>
        <p:spPr>
          <a:xfrm>
            <a:off x="477720" y="300204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要素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1434960" y="5146560"/>
                <a:ext cx="54993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24" name=""/>
          <p:cNvGrpSpPr/>
          <p:nvPr/>
        </p:nvGrpSpPr>
        <p:grpSpPr>
          <a:xfrm>
            <a:off x="673200" y="4168800"/>
            <a:ext cx="1539720" cy="941400"/>
            <a:chOff x="673200" y="4168800"/>
            <a:chExt cx="1539720" cy="941400"/>
          </a:xfrm>
        </p:grpSpPr>
        <mc:AlternateContent>
          <mc:Choice xmlns:a14="http://schemas.microsoft.com/office/drawing/2010/main" Requires="a14">
            <p:sp>
              <p:nvSpPr>
                <p:cNvPr id="3725" name=""/>
                <p:cNvSpPr txBox="1"/>
                <p:nvPr/>
              </p:nvSpPr>
              <p:spPr>
                <a:xfrm>
                  <a:off x="673200" y="4168800"/>
                  <a:ext cx="15397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26" name=""/>
            <p:cNvSpPr/>
            <p:nvPr/>
          </p:nvSpPr>
          <p:spPr>
            <a:xfrm>
              <a:off x="746640" y="5040720"/>
              <a:ext cx="142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7" name=""/>
          <p:cNvGrpSpPr/>
          <p:nvPr/>
        </p:nvGrpSpPr>
        <p:grpSpPr>
          <a:xfrm>
            <a:off x="2944800" y="4419720"/>
            <a:ext cx="2562120" cy="585720"/>
            <a:chOff x="2944800" y="4419720"/>
            <a:chExt cx="2562120" cy="585720"/>
          </a:xfrm>
        </p:grpSpPr>
        <mc:AlternateContent>
          <mc:Choice xmlns:a14="http://schemas.microsoft.com/office/drawing/2010/main" Requires="a14">
            <p:sp>
              <p:nvSpPr>
                <p:cNvPr id="3728" name=""/>
                <p:cNvSpPr txBox="1"/>
                <p:nvPr/>
              </p:nvSpPr>
              <p:spPr>
                <a:xfrm>
                  <a:off x="2944800" y="4419720"/>
                  <a:ext cx="2562120" cy="51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29" name=""/>
            <p:cNvSpPr/>
            <p:nvPr/>
          </p:nvSpPr>
          <p:spPr>
            <a:xfrm>
              <a:off x="2986200" y="5005440"/>
              <a:ext cx="2413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0" name=""/>
          <p:cNvGrpSpPr/>
          <p:nvPr/>
        </p:nvGrpSpPr>
        <p:grpSpPr>
          <a:xfrm>
            <a:off x="6553080" y="4038480"/>
            <a:ext cx="1193760" cy="968400"/>
            <a:chOff x="6553080" y="4038480"/>
            <a:chExt cx="1193760" cy="968400"/>
          </a:xfrm>
        </p:grpSpPr>
        <mc:AlternateContent>
          <mc:Choice xmlns:a14="http://schemas.microsoft.com/office/drawing/2010/main" Requires="a14">
            <p:sp>
              <p:nvSpPr>
                <p:cNvPr id="3731" name=""/>
                <p:cNvSpPr txBox="1"/>
                <p:nvPr/>
              </p:nvSpPr>
              <p:spPr>
                <a:xfrm>
                  <a:off x="6624720" y="4038480"/>
                  <a:ext cx="99540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32" name=""/>
            <p:cNvSpPr/>
            <p:nvPr/>
          </p:nvSpPr>
          <p:spPr>
            <a:xfrm>
              <a:off x="6553080" y="4991040"/>
              <a:ext cx="11937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3" name=""/>
          <p:cNvGrpSpPr/>
          <p:nvPr/>
        </p:nvGrpSpPr>
        <p:grpSpPr>
          <a:xfrm>
            <a:off x="4497120" y="812160"/>
            <a:ext cx="4189680" cy="2693160"/>
            <a:chOff x="4497120" y="812160"/>
            <a:chExt cx="4189680" cy="2693160"/>
          </a:xfrm>
        </p:grpSpPr>
        <mc:AlternateContent>
          <mc:Choice xmlns:a14="http://schemas.microsoft.com/office/drawing/2010/main" Requires="a14">
            <p:sp>
              <p:nvSpPr>
                <p:cNvPr id="3734" name=""/>
                <p:cNvSpPr txBox="1"/>
                <p:nvPr/>
              </p:nvSpPr>
              <p:spPr>
                <a:xfrm>
                  <a:off x="5284800" y="3013200"/>
                  <a:ext cx="27162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5" name=""/>
                <p:cNvSpPr txBox="1"/>
                <p:nvPr/>
              </p:nvSpPr>
              <p:spPr>
                <a:xfrm>
                  <a:off x="8139240" y="1758960"/>
                  <a:ext cx="54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36" name=""/>
            <p:cNvSpPr/>
            <p:nvPr/>
          </p:nvSpPr>
          <p:spPr>
            <a:xfrm>
              <a:off x="4497120" y="1942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950000" y="1994040"/>
              <a:ext cx="393480" cy="36972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148360" y="1346040"/>
              <a:ext cx="0" cy="1667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102280" y="1648080"/>
              <a:ext cx="39348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H="1" flipV="1">
              <a:off x="6265440" y="1331640"/>
              <a:ext cx="668520" cy="32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H="1">
              <a:off x="6158880" y="1289160"/>
              <a:ext cx="98280" cy="9360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5708520" y="1357200"/>
              <a:ext cx="487440" cy="2430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H="1">
              <a:off x="6102720" y="821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133960" y="1346040"/>
              <a:ext cx="563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5133960" y="2989080"/>
              <a:ext cx="2878200" cy="126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912360" y="812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07880" y="1948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792760" y="251388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993080" y="2427120"/>
              <a:ext cx="0" cy="574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993080" y="1322280"/>
              <a:ext cx="0" cy="5382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8148600" y="1371600"/>
              <a:ext cx="0" cy="338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2" name=""/>
            <p:cNvGrpSpPr/>
            <p:nvPr/>
          </p:nvGrpSpPr>
          <p:grpSpPr>
            <a:xfrm>
              <a:off x="7975080" y="1839960"/>
              <a:ext cx="102960" cy="582120"/>
              <a:chOff x="7975080" y="1839960"/>
              <a:chExt cx="102960" cy="582120"/>
            </a:xfrm>
          </p:grpSpPr>
          <p:sp>
            <p:nvSpPr>
              <p:cNvPr id="3753" name=""/>
              <p:cNvSpPr/>
              <p:nvPr/>
            </p:nvSpPr>
            <p:spPr>
              <a:xfrm flipH="1">
                <a:off x="7974720" y="2025360"/>
                <a:ext cx="97560" cy="19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flipH="1">
                <a:off x="7980120" y="1839960"/>
                <a:ext cx="9756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974720" y="2225520"/>
                <a:ext cx="9756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6" name=""/>
            <p:cNvSpPr/>
            <p:nvPr/>
          </p:nvSpPr>
          <p:spPr>
            <a:xfrm rot="16200000">
              <a:off x="7057800" y="1145520"/>
              <a:ext cx="150840" cy="39240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7" name=""/>
                <p:cNvSpPr txBox="1"/>
                <p:nvPr/>
              </p:nvSpPr>
              <p:spPr>
                <a:xfrm>
                  <a:off x="8199360" y="1130400"/>
                  <a:ext cx="47484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8" name=""/>
                <p:cNvSpPr txBox="1"/>
                <p:nvPr/>
              </p:nvSpPr>
              <p:spPr>
                <a:xfrm>
                  <a:off x="6905520" y="1287360"/>
                  <a:ext cx="56196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759" name=""/>
            <p:cNvGrpSpPr/>
            <p:nvPr/>
          </p:nvGrpSpPr>
          <p:grpSpPr>
            <a:xfrm>
              <a:off x="7996320" y="1563840"/>
              <a:ext cx="383400" cy="1153080"/>
              <a:chOff x="7996320" y="1563840"/>
              <a:chExt cx="383400" cy="1153080"/>
            </a:xfrm>
          </p:grpSpPr>
          <p:sp>
            <p:nvSpPr>
              <p:cNvPr id="3760" name=""/>
              <p:cNvSpPr/>
              <p:nvPr/>
            </p:nvSpPr>
            <p:spPr>
              <a:xfrm>
                <a:off x="7996320" y="15638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8052840" y="213552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6472440" y="1284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393320" y="12240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H="1" flipV="1">
              <a:off x="7332840" y="1345680"/>
              <a:ext cx="668160" cy="32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791320" y="12193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320" y="380880"/>
            <a:ext cx="592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产生暂态过程的必要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85800" y="5330880"/>
            <a:ext cx="3657600" cy="1027080"/>
            <a:chOff x="685800" y="5330880"/>
            <a:chExt cx="3657600" cy="1027080"/>
          </a:xfrm>
        </p:grpSpPr>
        <p:sp>
          <p:nvSpPr>
            <p:cNvPr id="228" name=""/>
            <p:cNvSpPr/>
            <p:nvPr/>
          </p:nvSpPr>
          <p:spPr>
            <a:xfrm>
              <a:off x="685800" y="557856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∵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储能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473560" y="5330880"/>
                  <a:ext cx="186984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0" name=""/>
          <p:cNvSpPr/>
          <p:nvPr/>
        </p:nvSpPr>
        <p:spPr>
          <a:xfrm>
            <a:off x="358920" y="19810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换路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路状态的改变。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443320"/>
            <a:ext cx="8534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接通、切断、 短路、电压改变或参数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618080" y="4707000"/>
            <a:ext cx="2849400" cy="627120"/>
            <a:chOff x="4618080" y="4707000"/>
            <a:chExt cx="2849400" cy="627120"/>
          </a:xfrm>
        </p:grpSpPr>
        <p:sp>
          <p:nvSpPr>
            <p:cNvPr id="233" name=""/>
            <p:cNvSpPr/>
            <p:nvPr/>
          </p:nvSpPr>
          <p:spPr>
            <a:xfrm>
              <a:off x="4621320" y="4708440"/>
              <a:ext cx="2846160" cy="625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15880" y="4827600"/>
              <a:ext cx="823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100694"/>
                  </a:solidFill>
                  <a:latin typeface="宋体"/>
                </a:rPr>
                <a:t>不能突变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71920" y="49816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100694"/>
                  </a:solidFill>
                  <a:latin typeface="Times New Roman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3360" y="47545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100694"/>
                  </a:solidFill>
                  <a:latin typeface="Times New Roman"/>
                </a:rPr>
                <a:t>u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8080" y="4707000"/>
              <a:ext cx="361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572000" y="5559480"/>
                <a:ext cx="3048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不能突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844560" y="4340160"/>
            <a:ext cx="39625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09480" y="4581360"/>
            <a:ext cx="3505320" cy="905040"/>
            <a:chOff x="609480" y="4581360"/>
            <a:chExt cx="3505320" cy="905040"/>
          </a:xfrm>
        </p:grpSpPr>
        <p:sp>
          <p:nvSpPr>
            <p:cNvPr id="241" name=""/>
            <p:cNvSpPr/>
            <p:nvPr/>
          </p:nvSpPr>
          <p:spPr>
            <a:xfrm>
              <a:off x="609480" y="47242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∵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储能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2408400" y="4581360"/>
                  <a:ext cx="170640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C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"/>
          <p:cNvSpPr/>
          <p:nvPr/>
        </p:nvSpPr>
        <p:spPr>
          <a:xfrm>
            <a:off x="304920" y="2968560"/>
            <a:ext cx="75438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产生暂态过程的原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于物体所具有的能量不能跃变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0880" y="3976560"/>
            <a:ext cx="73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换路瞬间储能元件的能量也不能跃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943600" y="1523880"/>
            <a:ext cx="2895480" cy="2210040"/>
            <a:chOff x="5943600" y="1523880"/>
            <a:chExt cx="2895480" cy="2210040"/>
          </a:xfrm>
        </p:grpSpPr>
        <p:sp>
          <p:nvSpPr>
            <p:cNvPr id="246" name=""/>
            <p:cNvSpPr/>
            <p:nvPr/>
          </p:nvSpPr>
          <p:spPr>
            <a:xfrm>
              <a:off x="5943600" y="1523880"/>
              <a:ext cx="2895480" cy="2210040"/>
            </a:xfrm>
            <a:prstGeom prst="cloudCallout">
              <a:avLst>
                <a:gd name="adj1" fmla="val -57180"/>
                <a:gd name="adj2" fmla="val 9317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61640" y="177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807240" y="1835280"/>
                  <a:ext cx="5079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7501680" y="1771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发生突变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6477120" y="2116080"/>
                  <a:ext cx="2276280" cy="93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7521120" y="2932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不可能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19960" y="2917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一般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59960" y="2306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62120" y="914400"/>
            <a:ext cx="5867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中含有储能元件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内因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发生换路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外因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1170000" y="1407960"/>
                <a:ext cx="4545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1122480" y="2187720"/>
                <a:ext cx="4135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68" name=""/>
          <p:cNvGrpSpPr/>
          <p:nvPr/>
        </p:nvGrpSpPr>
        <p:grpSpPr>
          <a:xfrm>
            <a:off x="838080" y="3078000"/>
            <a:ext cx="4267440" cy="581400"/>
            <a:chOff x="838080" y="3078000"/>
            <a:chExt cx="4267440" cy="581400"/>
          </a:xfrm>
        </p:grpSpPr>
        <p:sp>
          <p:nvSpPr>
            <p:cNvPr id="3769" name=""/>
            <p:cNvSpPr/>
            <p:nvPr/>
          </p:nvSpPr>
          <p:spPr>
            <a:xfrm>
              <a:off x="838080" y="3078000"/>
              <a:ext cx="426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2.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、  、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变化曲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0" name=""/>
                <p:cNvSpPr txBox="1"/>
                <p:nvPr/>
              </p:nvSpPr>
              <p:spPr>
                <a:xfrm>
                  <a:off x="2590920" y="3119400"/>
                  <a:ext cx="52200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1" name=""/>
                <p:cNvSpPr txBox="1"/>
                <p:nvPr/>
              </p:nvSpPr>
              <p:spPr>
                <a:xfrm>
                  <a:off x="1447920" y="3121200"/>
                  <a:ext cx="39024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2" name=""/>
                <p:cNvSpPr txBox="1"/>
                <p:nvPr/>
              </p:nvSpPr>
              <p:spPr>
                <a:xfrm>
                  <a:off x="1981080" y="3119400"/>
                  <a:ext cx="4892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73" name=""/>
          <p:cNvGrpSpPr/>
          <p:nvPr/>
        </p:nvGrpSpPr>
        <p:grpSpPr>
          <a:xfrm>
            <a:off x="5467320" y="3859200"/>
            <a:ext cx="2214720" cy="1883520"/>
            <a:chOff x="5467320" y="3859200"/>
            <a:chExt cx="2214720" cy="1883520"/>
          </a:xfrm>
        </p:grpSpPr>
        <p:sp>
          <p:nvSpPr>
            <p:cNvPr id="3774" name=""/>
            <p:cNvSpPr/>
            <p:nvPr/>
          </p:nvSpPr>
          <p:spPr>
            <a:xfrm flipV="1">
              <a:off x="5467320" y="4595760"/>
              <a:ext cx="2214720" cy="1146600"/>
            </a:xfrm>
            <a:custGeom>
              <a:avLst/>
              <a:gdLst/>
              <a:ahLst/>
              <a:rect l="l" t="t" r="r" b="b"/>
              <a:pathLst>
                <a:path w="1536" h="720">
                  <a:moveTo>
                    <a:pt x="0" y="0"/>
                  </a:moveTo>
                  <a:cubicBezTo>
                    <a:pt x="160" y="228"/>
                    <a:pt x="320" y="456"/>
                    <a:pt x="576" y="576"/>
                  </a:cubicBezTo>
                  <a:cubicBezTo>
                    <a:pt x="832" y="696"/>
                    <a:pt x="1184" y="708"/>
                    <a:pt x="1536" y="72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5" name=""/>
                <p:cNvSpPr txBox="1"/>
                <p:nvPr/>
              </p:nvSpPr>
              <p:spPr>
                <a:xfrm>
                  <a:off x="7076880" y="3859200"/>
                  <a:ext cx="50760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76" name=""/>
          <p:cNvGrpSpPr/>
          <p:nvPr/>
        </p:nvGrpSpPr>
        <p:grpSpPr>
          <a:xfrm>
            <a:off x="5029200" y="3886200"/>
            <a:ext cx="3429000" cy="2319480"/>
            <a:chOff x="5029200" y="3886200"/>
            <a:chExt cx="3429000" cy="2319480"/>
          </a:xfrm>
        </p:grpSpPr>
        <p:sp>
          <p:nvSpPr>
            <p:cNvPr id="3777" name=""/>
            <p:cNvSpPr/>
            <p:nvPr/>
          </p:nvSpPr>
          <p:spPr>
            <a:xfrm>
              <a:off x="5029200" y="5486400"/>
              <a:ext cx="4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450040" y="5753160"/>
              <a:ext cx="30081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5438880" y="3949560"/>
              <a:ext cx="0" cy="18417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0" name=""/>
                <p:cNvSpPr txBox="1"/>
                <p:nvPr/>
              </p:nvSpPr>
              <p:spPr>
                <a:xfrm>
                  <a:off x="5505480" y="3886200"/>
                  <a:ext cx="3301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1" name=""/>
                <p:cNvSpPr txBox="1"/>
                <p:nvPr/>
              </p:nvSpPr>
              <p:spPr>
                <a:xfrm>
                  <a:off x="8077320" y="5715000"/>
                  <a:ext cx="23004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82" name=""/>
          <p:cNvGrpSpPr/>
          <p:nvPr/>
        </p:nvGrpSpPr>
        <p:grpSpPr>
          <a:xfrm>
            <a:off x="5410080" y="4591080"/>
            <a:ext cx="2438280" cy="1143000"/>
            <a:chOff x="5410080" y="4591080"/>
            <a:chExt cx="2438280" cy="1143000"/>
          </a:xfrm>
        </p:grpSpPr>
        <p:sp>
          <p:nvSpPr>
            <p:cNvPr id="3783" name=""/>
            <p:cNvSpPr/>
            <p:nvPr/>
          </p:nvSpPr>
          <p:spPr>
            <a:xfrm>
              <a:off x="5410080" y="4591080"/>
              <a:ext cx="2438280" cy="1143000"/>
            </a:xfrm>
            <a:custGeom>
              <a:avLst/>
              <a:gdLst/>
              <a:ahLst/>
              <a:rect l="l" t="t" r="r" b="b"/>
              <a:pathLst>
                <a:path w="1536" h="720">
                  <a:moveTo>
                    <a:pt x="0" y="0"/>
                  </a:moveTo>
                  <a:cubicBezTo>
                    <a:pt x="160" y="228"/>
                    <a:pt x="320" y="456"/>
                    <a:pt x="576" y="576"/>
                  </a:cubicBezTo>
                  <a:cubicBezTo>
                    <a:pt x="832" y="696"/>
                    <a:pt x="1184" y="708"/>
                    <a:pt x="1536" y="720"/>
                  </a:cubicBezTo>
                </a:path>
              </a:pathLst>
            </a:custGeom>
            <a:noFill/>
            <a:ln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4" name=""/>
                <p:cNvSpPr txBox="1"/>
                <p:nvPr/>
              </p:nvSpPr>
              <p:spPr>
                <a:xfrm>
                  <a:off x="6858000" y="5078520"/>
                  <a:ext cx="48420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85" name=""/>
          <p:cNvGrpSpPr/>
          <p:nvPr/>
        </p:nvGrpSpPr>
        <p:grpSpPr>
          <a:xfrm>
            <a:off x="5032440" y="4392720"/>
            <a:ext cx="2968560" cy="457200"/>
            <a:chOff x="5032440" y="4392720"/>
            <a:chExt cx="2968560" cy="457200"/>
          </a:xfrm>
        </p:grpSpPr>
        <mc:AlternateContent>
          <mc:Choice xmlns:a14="http://schemas.microsoft.com/office/drawing/2010/main" Requires="a14">
            <p:sp>
              <p:nvSpPr>
                <p:cNvPr id="3786" name=""/>
                <p:cNvSpPr txBox="1"/>
                <p:nvPr/>
              </p:nvSpPr>
              <p:spPr>
                <a:xfrm>
                  <a:off x="5032440" y="4392720"/>
                  <a:ext cx="377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87" name=""/>
            <p:cNvSpPr/>
            <p:nvPr/>
          </p:nvSpPr>
          <p:spPr>
            <a:xfrm>
              <a:off x="5486400" y="4591080"/>
              <a:ext cx="25146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1143000" y="3624120"/>
            <a:ext cx="3124080" cy="2548080"/>
            <a:chOff x="1143000" y="3624120"/>
            <a:chExt cx="3124080" cy="2548080"/>
          </a:xfrm>
        </p:grpSpPr>
        <mc:AlternateContent>
          <mc:Choice xmlns:a14="http://schemas.microsoft.com/office/drawing/2010/main" Requires="a14">
            <p:sp>
              <p:nvSpPr>
                <p:cNvPr id="3789" name=""/>
                <p:cNvSpPr txBox="1"/>
                <p:nvPr/>
              </p:nvSpPr>
              <p:spPr>
                <a:xfrm>
                  <a:off x="1619280" y="3624120"/>
                  <a:ext cx="3682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790" name=""/>
            <p:cNvGrpSpPr/>
            <p:nvPr/>
          </p:nvGrpSpPr>
          <p:grpSpPr>
            <a:xfrm>
              <a:off x="1143000" y="3928680"/>
              <a:ext cx="3124080" cy="2243520"/>
              <a:chOff x="1143000" y="3928680"/>
              <a:chExt cx="3124080" cy="2243520"/>
            </a:xfrm>
          </p:grpSpPr>
          <p:sp>
            <p:nvSpPr>
              <p:cNvPr id="3791" name=""/>
              <p:cNvSpPr/>
              <p:nvPr/>
            </p:nvSpPr>
            <p:spPr>
              <a:xfrm>
                <a:off x="1535040" y="5757840"/>
                <a:ext cx="27320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 flipV="1">
                <a:off x="1552680" y="3928680"/>
                <a:ext cx="0" cy="18428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1143000" y="5529240"/>
                <a:ext cx="46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94" name=""/>
                  <p:cNvSpPr txBox="1"/>
                  <p:nvPr/>
                </p:nvSpPr>
                <p:spPr>
                  <a:xfrm>
                    <a:off x="3884760" y="5681520"/>
                    <a:ext cx="230040" cy="4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795" name=""/>
          <p:cNvSpPr/>
          <p:nvPr/>
        </p:nvSpPr>
        <p:spPr>
          <a:xfrm>
            <a:off x="1558800" y="4653000"/>
            <a:ext cx="2514600" cy="1106280"/>
          </a:xfrm>
          <a:custGeom>
            <a:avLst/>
            <a:gdLst/>
            <a:ahLst/>
            <a:rect l="l" t="t" r="r" b="b"/>
            <a:pathLst>
              <a:path w="1488" h="816">
                <a:moveTo>
                  <a:pt x="0" y="816"/>
                </a:moveTo>
                <a:cubicBezTo>
                  <a:pt x="140" y="572"/>
                  <a:pt x="280" y="328"/>
                  <a:pt x="528" y="192"/>
                </a:cubicBezTo>
                <a:cubicBezTo>
                  <a:pt x="776" y="56"/>
                  <a:pt x="1132" y="28"/>
                  <a:pt x="148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6" name=""/>
          <p:cNvGrpSpPr/>
          <p:nvPr/>
        </p:nvGrpSpPr>
        <p:grpSpPr>
          <a:xfrm>
            <a:off x="1143000" y="4081320"/>
            <a:ext cx="2895120" cy="922320"/>
            <a:chOff x="1143000" y="4081320"/>
            <a:chExt cx="2895120" cy="922320"/>
          </a:xfrm>
        </p:grpSpPr>
        <mc:AlternateContent>
          <mc:Choice xmlns:a14="http://schemas.microsoft.com/office/drawing/2010/main" Requires="a14">
            <p:sp>
              <p:nvSpPr>
                <p:cNvPr id="3797" name=""/>
                <p:cNvSpPr txBox="1"/>
                <p:nvPr/>
              </p:nvSpPr>
              <p:spPr>
                <a:xfrm>
                  <a:off x="1143000" y="4081320"/>
                  <a:ext cx="41076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98" name=""/>
            <p:cNvSpPr/>
            <p:nvPr/>
          </p:nvSpPr>
          <p:spPr>
            <a:xfrm>
              <a:off x="1626840" y="4611600"/>
              <a:ext cx="241128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1069920" y="554040"/>
                <a:ext cx="32734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00" name="" descr=""/>
          <p:cNvPicPr/>
          <p:nvPr/>
        </p:nvPicPr>
        <p:blipFill>
          <a:blip r:embed="rId2"/>
          <a:stretch/>
        </p:blipFill>
        <p:spPr>
          <a:xfrm>
            <a:off x="6858000" y="755640"/>
            <a:ext cx="1523880" cy="13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6 .5 .3 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L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路的全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4952880" y="533520"/>
                <a:ext cx="2743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3" name=""/>
          <p:cNvGrpSpPr/>
          <p:nvPr/>
        </p:nvGrpSpPr>
        <p:grpSpPr>
          <a:xfrm>
            <a:off x="685800" y="3886200"/>
            <a:ext cx="5105160" cy="598320"/>
            <a:chOff x="685800" y="3886200"/>
            <a:chExt cx="5105160" cy="598320"/>
          </a:xfrm>
        </p:grpSpPr>
        <mc:AlternateContent>
          <mc:Choice xmlns:a14="http://schemas.microsoft.com/office/drawing/2010/main" Requires="a14">
            <p:sp>
              <p:nvSpPr>
                <p:cNvPr id="3804" name=""/>
                <p:cNvSpPr txBox="1"/>
                <p:nvPr/>
              </p:nvSpPr>
              <p:spPr>
                <a:xfrm>
                  <a:off x="1295280" y="3903840"/>
                  <a:ext cx="368280" cy="58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805" name=""/>
            <p:cNvGrpSpPr/>
            <p:nvPr/>
          </p:nvGrpSpPr>
          <p:grpSpPr>
            <a:xfrm>
              <a:off x="685800" y="3886200"/>
              <a:ext cx="5105160" cy="550800"/>
              <a:chOff x="685800" y="3886200"/>
              <a:chExt cx="5105160" cy="550800"/>
            </a:xfrm>
          </p:grpSpPr>
          <p:sp>
            <p:nvSpPr>
              <p:cNvPr id="3806" name=""/>
              <p:cNvSpPr/>
              <p:nvPr/>
            </p:nvSpPr>
            <p:spPr>
              <a:xfrm>
                <a:off x="685800" y="3916440"/>
                <a:ext cx="350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1.     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变化规律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 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895480" y="3886200"/>
                <a:ext cx="28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（三要素法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1433520" y="4267080"/>
                <a:ext cx="52372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1407960" y="5243400"/>
                <a:ext cx="56642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0" name=""/>
          <p:cNvGrpSpPr/>
          <p:nvPr/>
        </p:nvGrpSpPr>
        <p:grpSpPr>
          <a:xfrm>
            <a:off x="6098040" y="1444680"/>
            <a:ext cx="2236320" cy="2875320"/>
            <a:chOff x="6098040" y="1444680"/>
            <a:chExt cx="2236320" cy="2875320"/>
          </a:xfrm>
        </p:grpSpPr>
        <p:sp>
          <p:nvSpPr>
            <p:cNvPr id="3811" name=""/>
            <p:cNvSpPr/>
            <p:nvPr/>
          </p:nvSpPr>
          <p:spPr>
            <a:xfrm>
              <a:off x="6451560" y="2685960"/>
              <a:ext cx="360360" cy="36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632280" y="2039760"/>
              <a:ext cx="0" cy="165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273720" y="2249640"/>
              <a:ext cx="3585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rot="5400000">
              <a:off x="7088760" y="1832400"/>
              <a:ext cx="183960" cy="420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H="1">
              <a:off x="6622920" y="2046240"/>
              <a:ext cx="3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391160" y="2046240"/>
              <a:ext cx="79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V="1">
              <a:off x="8092800" y="2674800"/>
              <a:ext cx="181080" cy="406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8184960" y="2030040"/>
              <a:ext cx="0" cy="64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8184960" y="3076560"/>
              <a:ext cx="0" cy="61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454880" y="2360520"/>
              <a:ext cx="77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18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81680" y="2012760"/>
              <a:ext cx="80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18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885000" y="153972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391160" y="28144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V="1">
              <a:off x="6616440" y="3666960"/>
              <a:ext cx="157176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098040" y="2644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476840" y="1925640"/>
              <a:ext cx="524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760080" y="264780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8" name=""/>
                <p:cNvSpPr txBox="1"/>
                <p:nvPr/>
              </p:nvSpPr>
              <p:spPr>
                <a:xfrm>
                  <a:off x="7383240" y="1444680"/>
                  <a:ext cx="95112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9" name=""/>
            <p:cNvSpPr/>
            <p:nvPr/>
          </p:nvSpPr>
          <p:spPr>
            <a:xfrm>
              <a:off x="6613560" y="3809880"/>
              <a:ext cx="163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等效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627480" y="1244520"/>
            <a:ext cx="4615920" cy="2565360"/>
            <a:chOff x="627480" y="1244520"/>
            <a:chExt cx="4615920" cy="2565360"/>
          </a:xfrm>
        </p:grpSpPr>
        <p:grpSp>
          <p:nvGrpSpPr>
            <p:cNvPr id="3831" name=""/>
            <p:cNvGrpSpPr/>
            <p:nvPr/>
          </p:nvGrpSpPr>
          <p:grpSpPr>
            <a:xfrm>
              <a:off x="627480" y="1244520"/>
              <a:ext cx="4615920" cy="2565360"/>
              <a:chOff x="627480" y="1244520"/>
              <a:chExt cx="4615920" cy="2565360"/>
            </a:xfrm>
          </p:grpSpPr>
          <mc:AlternateContent>
            <mc:Choice xmlns:a14="http://schemas.microsoft.com/office/drawing/2010/main" Requires="a14">
              <p:sp>
                <p:nvSpPr>
                  <p:cNvPr id="3832" name=""/>
                  <p:cNvSpPr txBox="1"/>
                  <p:nvPr/>
                </p:nvSpPr>
                <p:spPr>
                  <a:xfrm>
                    <a:off x="1523880" y="1244520"/>
                    <a:ext cx="382680" cy="53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33" name=""/>
              <p:cNvSpPr/>
              <p:nvPr/>
            </p:nvSpPr>
            <p:spPr>
              <a:xfrm>
                <a:off x="2973240" y="1461240"/>
                <a:ext cx="66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397160" y="2758320"/>
                <a:ext cx="79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12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1011240" y="2828880"/>
                <a:ext cx="430200" cy="40500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1227240" y="1949400"/>
                <a:ext cx="0" cy="18226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1158840" y="2495520"/>
                <a:ext cx="43020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 flipH="1" flipV="1">
                <a:off x="2754360" y="1935000"/>
                <a:ext cx="674640" cy="129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1212840" y="1949400"/>
                <a:ext cx="3110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 flipV="1">
                <a:off x="1212840" y="3746160"/>
                <a:ext cx="3144960" cy="12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1749600" y="192240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54680" y="13946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468680" y="1959120"/>
                <a:ext cx="0" cy="388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4" name=""/>
              <p:cNvGrpSpPr/>
              <p:nvPr/>
            </p:nvGrpSpPr>
            <p:grpSpPr>
              <a:xfrm>
                <a:off x="2149560" y="1855440"/>
                <a:ext cx="637920" cy="114120"/>
                <a:chOff x="2149560" y="1855440"/>
                <a:chExt cx="637920" cy="114120"/>
              </a:xfrm>
            </p:grpSpPr>
            <p:sp>
              <p:nvSpPr>
                <p:cNvPr id="3845" name=""/>
                <p:cNvSpPr/>
                <p:nvPr/>
              </p:nvSpPr>
              <p:spPr>
                <a:xfrm flipH="1" rot="16200000">
                  <a:off x="2406600" y="1807560"/>
                  <a:ext cx="108000" cy="216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 flipH="1" rot="16200000">
                  <a:off x="2202840" y="1801440"/>
                  <a:ext cx="108000" cy="21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 flipH="1" rot="16200000">
                  <a:off x="2625120" y="1807560"/>
                  <a:ext cx="108000" cy="21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8" name=""/>
              <p:cNvSpPr/>
              <p:nvPr/>
            </p:nvSpPr>
            <p:spPr>
              <a:xfrm rot="16200000">
                <a:off x="1638000" y="1750680"/>
                <a:ext cx="165240" cy="42840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flipH="1">
                <a:off x="3761640" y="1887480"/>
                <a:ext cx="106200" cy="10152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flipH="1">
                <a:off x="3276360" y="1944720"/>
                <a:ext cx="533160" cy="2649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3714480" y="13993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3379320" y="1929240"/>
                <a:ext cx="403920" cy="354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386000" y="1739880"/>
                <a:ext cx="655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54" name=""/>
                  <p:cNvSpPr txBox="1"/>
                  <p:nvPr/>
                </p:nvSpPr>
                <p:spPr>
                  <a:xfrm>
                    <a:off x="4524480" y="1787400"/>
                    <a:ext cx="657000" cy="500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55" name=""/>
              <p:cNvSpPr/>
              <p:nvPr/>
            </p:nvSpPr>
            <p:spPr>
              <a:xfrm>
                <a:off x="2116080" y="189000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1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27480" y="2785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363760" y="2937600"/>
                <a:ext cx="63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6</a:t>
                </a:r>
                <a:r>
                  <a:rPr b="1" lang="zh-CN" sz="28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409840" y="245088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flipH="1" flipV="1">
                <a:off x="3859200" y="1934640"/>
                <a:ext cx="512640" cy="97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3706560" y="2891880"/>
                <a:ext cx="63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3</a:t>
                </a:r>
                <a:r>
                  <a:rPr b="1" lang="zh-CN" sz="28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172880" y="1958400"/>
                <a:ext cx="63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Times New Roman"/>
                  </a:rPr>
                  <a:t>4</a:t>
                </a:r>
                <a:r>
                  <a:rPr b="1" lang="zh-CN" sz="28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3733920" y="245088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3" name=""/>
                  <p:cNvSpPr txBox="1"/>
                  <p:nvPr/>
                </p:nvSpPr>
                <p:spPr>
                  <a:xfrm>
                    <a:off x="4495680" y="2560680"/>
                    <a:ext cx="747720" cy="515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64" name=""/>
              <p:cNvSpPr/>
              <p:nvPr/>
            </p:nvSpPr>
            <p:spPr>
              <a:xfrm>
                <a:off x="4497480" y="2238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559040" y="277164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6" name=""/>
              <p:cNvGrpSpPr/>
              <p:nvPr/>
            </p:nvGrpSpPr>
            <p:grpSpPr>
              <a:xfrm>
                <a:off x="4266720" y="1933560"/>
                <a:ext cx="165240" cy="1828800"/>
                <a:chOff x="4266720" y="1933560"/>
                <a:chExt cx="165240" cy="1828800"/>
              </a:xfrm>
            </p:grpSpPr>
            <p:sp>
              <p:nvSpPr>
                <p:cNvPr id="3867" name=""/>
                <p:cNvSpPr/>
                <p:nvPr/>
              </p:nvSpPr>
              <p:spPr>
                <a:xfrm>
                  <a:off x="4335480" y="3035160"/>
                  <a:ext cx="0" cy="72720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 rot="10800000">
                  <a:off x="4266720" y="2612520"/>
                  <a:ext cx="165240" cy="428760"/>
                </a:xfrm>
                <a:prstGeom prst="rect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4343400" y="1933560"/>
                  <a:ext cx="0" cy="704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0" name=""/>
              <p:cNvGrpSpPr/>
              <p:nvPr/>
            </p:nvGrpSpPr>
            <p:grpSpPr>
              <a:xfrm>
                <a:off x="2895120" y="1933560"/>
                <a:ext cx="165240" cy="1828800"/>
                <a:chOff x="2895120" y="1933560"/>
                <a:chExt cx="165240" cy="1828800"/>
              </a:xfrm>
            </p:grpSpPr>
            <p:sp>
              <p:nvSpPr>
                <p:cNvPr id="3871" name=""/>
                <p:cNvSpPr/>
                <p:nvPr/>
              </p:nvSpPr>
              <p:spPr>
                <a:xfrm>
                  <a:off x="2963880" y="3035160"/>
                  <a:ext cx="0" cy="72720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 rot="10800000">
                  <a:off x="2895120" y="2612520"/>
                  <a:ext cx="165240" cy="428760"/>
                </a:xfrm>
                <a:prstGeom prst="rect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2971800" y="1933560"/>
                  <a:ext cx="0" cy="704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4" name=""/>
              <p:cNvSpPr/>
              <p:nvPr/>
            </p:nvSpPr>
            <p:spPr>
              <a:xfrm>
                <a:off x="1905120" y="1933560"/>
                <a:ext cx="295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V="1">
                <a:off x="2895480" y="370188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 flipV="1">
              <a:off x="2895480" y="1873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77" name=""/>
              <p:cNvSpPr txBox="1"/>
              <p:nvPr/>
            </p:nvSpPr>
            <p:spPr>
              <a:xfrm>
                <a:off x="1681200" y="2093760"/>
                <a:ext cx="106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8" name=""/>
              <p:cNvSpPr txBox="1"/>
              <p:nvPr/>
            </p:nvSpPr>
            <p:spPr>
              <a:xfrm>
                <a:off x="762120" y="609480"/>
                <a:ext cx="33606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9" name=""/>
          <p:cNvSpPr/>
          <p:nvPr/>
        </p:nvSpPr>
        <p:spPr>
          <a:xfrm>
            <a:off x="4800600" y="3757680"/>
            <a:ext cx="3276720" cy="153828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0" name=""/>
              <p:cNvSpPr txBox="1"/>
              <p:nvPr/>
            </p:nvSpPr>
            <p:spPr>
              <a:xfrm>
                <a:off x="1677960" y="4816440"/>
                <a:ext cx="10796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1" name=""/>
              <p:cNvSpPr txBox="1"/>
              <p:nvPr/>
            </p:nvSpPr>
            <p:spPr>
              <a:xfrm>
                <a:off x="1600200" y="3429000"/>
                <a:ext cx="25909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2" name=""/>
              <p:cNvSpPr txBox="1"/>
              <p:nvPr/>
            </p:nvSpPr>
            <p:spPr>
              <a:xfrm>
                <a:off x="1452600" y="2590920"/>
                <a:ext cx="1138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3" name=""/>
              <p:cNvSpPr txBox="1"/>
              <p:nvPr/>
            </p:nvSpPr>
            <p:spPr>
              <a:xfrm>
                <a:off x="942840" y="5715000"/>
                <a:ext cx="5381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4" name=""/>
              <p:cNvSpPr txBox="1"/>
              <p:nvPr/>
            </p:nvSpPr>
            <p:spPr>
              <a:xfrm>
                <a:off x="6284880" y="5791320"/>
                <a:ext cx="1182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5" name=""/>
          <p:cNvSpPr/>
          <p:nvPr/>
        </p:nvSpPr>
        <p:spPr>
          <a:xfrm>
            <a:off x="6875640" y="1014480"/>
            <a:ext cx="534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6" name=""/>
              <p:cNvSpPr txBox="1"/>
              <p:nvPr/>
            </p:nvSpPr>
            <p:spPr>
              <a:xfrm>
                <a:off x="5138640" y="38088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7" name=""/>
              <p:cNvSpPr txBox="1"/>
              <p:nvPr/>
            </p:nvSpPr>
            <p:spPr>
              <a:xfrm>
                <a:off x="7966080" y="1495440"/>
                <a:ext cx="797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8" name=""/>
          <p:cNvSpPr/>
          <p:nvPr/>
        </p:nvSpPr>
        <p:spPr>
          <a:xfrm>
            <a:off x="5261760" y="1672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4927680" y="1743120"/>
            <a:ext cx="377640" cy="339840"/>
          </a:xfrm>
          <a:prstGeom prst="ellipse">
            <a:avLst/>
          </a:prstGeom>
          <a:noFill/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5116680" y="1001880"/>
            <a:ext cx="0" cy="1535040"/>
          </a:xfrm>
          <a:prstGeom prst="line">
            <a:avLst/>
          </a:prstGeom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5057640" y="1384560"/>
            <a:ext cx="3762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V="1">
            <a:off x="5103720" y="2514240"/>
            <a:ext cx="2760840" cy="11160"/>
          </a:xfrm>
          <a:prstGeom prst="line">
            <a:avLst/>
          </a:prstGeom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5560920" y="966600"/>
            <a:ext cx="68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18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6048360" y="567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H="1">
            <a:off x="7342200" y="949320"/>
            <a:ext cx="93600" cy="85680"/>
          </a:xfrm>
          <a:prstGeom prst="ellipse">
            <a:avLst/>
          </a:prstGeom>
          <a:noFill/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 flipH="1">
            <a:off x="6869880" y="949320"/>
            <a:ext cx="95400" cy="85680"/>
          </a:xfrm>
          <a:prstGeom prst="ellipse">
            <a:avLst/>
          </a:prstGeom>
          <a:noFill/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 flipH="1">
            <a:off x="6939360" y="52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5256360" y="825480"/>
            <a:ext cx="576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4550400" y="166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069240" y="178488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1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18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5943600" y="13334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18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 flipH="1" flipV="1">
            <a:off x="7426440" y="988560"/>
            <a:ext cx="450720" cy="9720"/>
          </a:xfrm>
          <a:prstGeom prst="line">
            <a:avLst/>
          </a:prstGeom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7202880" y="16754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18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18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5145480" y="105768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18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18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7115040" y="1189080"/>
            <a:ext cx="8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18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5805360" y="1014480"/>
            <a:ext cx="801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5615640" y="25830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等效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7813800" y="1201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867440" y="1725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638760" y="1938240"/>
            <a:ext cx="1800" cy="631800"/>
          </a:xfrm>
          <a:prstGeom prst="line">
            <a:avLst/>
          </a:prstGeom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 rot="10800000">
            <a:off x="6563880" y="1552680"/>
            <a:ext cx="158760" cy="395280"/>
          </a:xfrm>
          <a:prstGeom prst="rect">
            <a:avLst/>
          </a:prstGeom>
          <a:noFill/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6629400" y="977760"/>
            <a:ext cx="0" cy="563760"/>
          </a:xfrm>
          <a:prstGeom prst="line">
            <a:avLst/>
          </a:prstGeom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6458040" y="1006560"/>
            <a:ext cx="449280" cy="7920"/>
          </a:xfrm>
          <a:prstGeom prst="line">
            <a:avLst/>
          </a:prstGeom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4" name=""/>
          <p:cNvGrpSpPr/>
          <p:nvPr/>
        </p:nvGrpSpPr>
        <p:grpSpPr>
          <a:xfrm>
            <a:off x="7765560" y="982800"/>
            <a:ext cx="158760" cy="1520640"/>
            <a:chOff x="7765560" y="982800"/>
            <a:chExt cx="158760" cy="1520640"/>
          </a:xfrm>
        </p:grpSpPr>
        <p:sp>
          <p:nvSpPr>
            <p:cNvPr id="3915" name=""/>
            <p:cNvSpPr/>
            <p:nvPr/>
          </p:nvSpPr>
          <p:spPr>
            <a:xfrm>
              <a:off x="7840440" y="1940040"/>
              <a:ext cx="0" cy="5634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 rot="10800000">
              <a:off x="7765560" y="1519200"/>
              <a:ext cx="158760" cy="39528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831080" y="982800"/>
              <a:ext cx="0" cy="5634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8" name=""/>
          <p:cNvSpPr/>
          <p:nvPr/>
        </p:nvSpPr>
        <p:spPr>
          <a:xfrm>
            <a:off x="5103720" y="1014480"/>
            <a:ext cx="306360" cy="0"/>
          </a:xfrm>
          <a:prstGeom prst="line">
            <a:avLst/>
          </a:prstGeom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rot="16200000">
            <a:off x="5528160" y="822600"/>
            <a:ext cx="158760" cy="395280"/>
          </a:xfrm>
          <a:prstGeom prst="rect">
            <a:avLst/>
          </a:prstGeom>
          <a:noFill/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5789520" y="1023840"/>
            <a:ext cx="306360" cy="0"/>
          </a:xfrm>
          <a:prstGeom prst="line">
            <a:avLst/>
          </a:prstGeom>
          <a:ln w="38160">
            <a:solidFill>
              <a:srgbClr val="00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 flipV="1">
            <a:off x="6588000" y="248292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V="1">
            <a:off x="6553080" y="9586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3" name=""/>
          <p:cNvGrpSpPr/>
          <p:nvPr/>
        </p:nvGrpSpPr>
        <p:grpSpPr>
          <a:xfrm>
            <a:off x="5028840" y="2962800"/>
            <a:ext cx="3048480" cy="2098080"/>
            <a:chOff x="5028840" y="2962800"/>
            <a:chExt cx="3048480" cy="2098080"/>
          </a:xfrm>
        </p:grpSpPr>
        <p:grpSp>
          <p:nvGrpSpPr>
            <p:cNvPr id="3924" name=""/>
            <p:cNvGrpSpPr/>
            <p:nvPr/>
          </p:nvGrpSpPr>
          <p:grpSpPr>
            <a:xfrm>
              <a:off x="5028840" y="2962800"/>
              <a:ext cx="3048480" cy="2093400"/>
              <a:chOff x="5028840" y="2962800"/>
              <a:chExt cx="3048480" cy="2093400"/>
            </a:xfrm>
          </p:grpSpPr>
          <p:sp>
            <p:nvSpPr>
              <p:cNvPr id="3925" name=""/>
              <p:cNvSpPr/>
              <p:nvPr/>
            </p:nvSpPr>
            <p:spPr>
              <a:xfrm>
                <a:off x="5095800" y="5006880"/>
                <a:ext cx="279396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5105520" y="3771720"/>
                <a:ext cx="71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5640480" y="2962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6094800" y="426600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019920" y="37861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313760" y="425808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5221440" y="425808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064280" y="3771720"/>
                <a:ext cx="1013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 flipH="1">
                <a:off x="6335640" y="3443040"/>
                <a:ext cx="154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 flipV="1">
                <a:off x="5095800" y="3449520"/>
                <a:ext cx="668520" cy="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5" name=""/>
              <p:cNvGrpSpPr/>
              <p:nvPr/>
            </p:nvGrpSpPr>
            <p:grpSpPr>
              <a:xfrm>
                <a:off x="5778360" y="3361320"/>
                <a:ext cx="560160" cy="109080"/>
                <a:chOff x="5778360" y="3361320"/>
                <a:chExt cx="560160" cy="109080"/>
              </a:xfrm>
            </p:grpSpPr>
            <p:sp>
              <p:nvSpPr>
                <p:cNvPr id="3936" name=""/>
                <p:cNvSpPr/>
                <p:nvPr/>
              </p:nvSpPr>
              <p:spPr>
                <a:xfrm flipH="1" rot="16200000">
                  <a:off x="5999400" y="3323880"/>
                  <a:ext cx="103320" cy="18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flipH="1" rot="16200000">
                  <a:off x="5821200" y="3318120"/>
                  <a:ext cx="103320" cy="18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flipH="1" rot="16200000">
                  <a:off x="6192000" y="3323880"/>
                  <a:ext cx="103320" cy="18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080"/>
                        <a:pt x="0" y="10800"/>
                      </a:cubicBezTo>
                      <a:cubicBezTo>
                        <a:pt x="0" y="16520"/>
                        <a:pt x="10800" y="216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9" name=""/>
              <p:cNvSpPr/>
              <p:nvPr/>
            </p:nvSpPr>
            <p:spPr>
              <a:xfrm>
                <a:off x="6021000" y="296280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 flipH="1">
                <a:off x="6703560" y="4411440"/>
                <a:ext cx="1800" cy="606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 rot="10800000">
                <a:off x="6629040" y="4033800"/>
                <a:ext cx="158760" cy="3952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694560" y="3421080"/>
                <a:ext cx="0" cy="6397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3" name=""/>
              <p:cNvGrpSpPr/>
              <p:nvPr/>
            </p:nvGrpSpPr>
            <p:grpSpPr>
              <a:xfrm>
                <a:off x="7805520" y="3456000"/>
                <a:ext cx="158760" cy="1596960"/>
                <a:chOff x="7805520" y="3456000"/>
                <a:chExt cx="158760" cy="1596960"/>
              </a:xfrm>
            </p:grpSpPr>
            <p:sp>
              <p:nvSpPr>
                <p:cNvPr id="3944" name=""/>
                <p:cNvSpPr/>
                <p:nvPr/>
              </p:nvSpPr>
              <p:spPr>
                <a:xfrm>
                  <a:off x="7880400" y="4489200"/>
                  <a:ext cx="0" cy="56376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rot="10800000">
                  <a:off x="7805520" y="4068720"/>
                  <a:ext cx="158760" cy="395280"/>
                </a:xfrm>
                <a:prstGeom prst="rect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7871040" y="3456000"/>
                  <a:ext cx="0" cy="6397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7" name=""/>
              <p:cNvGrpSpPr/>
              <p:nvPr/>
            </p:nvGrpSpPr>
            <p:grpSpPr>
              <a:xfrm>
                <a:off x="5028840" y="3459240"/>
                <a:ext cx="158760" cy="1596960"/>
                <a:chOff x="5028840" y="3459240"/>
                <a:chExt cx="158760" cy="1596960"/>
              </a:xfrm>
            </p:grpSpPr>
            <p:sp>
              <p:nvSpPr>
                <p:cNvPr id="3948" name=""/>
                <p:cNvSpPr/>
                <p:nvPr/>
              </p:nvSpPr>
              <p:spPr>
                <a:xfrm>
                  <a:off x="5103720" y="4492440"/>
                  <a:ext cx="0" cy="56376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rot="10800000">
                  <a:off x="5028840" y="4071960"/>
                  <a:ext cx="158760" cy="395280"/>
                </a:xfrm>
                <a:prstGeom prst="rect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>
                  <a:off x="5094360" y="3459240"/>
                  <a:ext cx="0" cy="6397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1" name=""/>
            <p:cNvSpPr/>
            <p:nvPr/>
          </p:nvSpPr>
          <p:spPr>
            <a:xfrm flipV="1">
              <a:off x="6629400" y="33973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V="1">
              <a:off x="6629400" y="49528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3" name=""/>
          <p:cNvGrpSpPr/>
          <p:nvPr/>
        </p:nvGrpSpPr>
        <p:grpSpPr>
          <a:xfrm>
            <a:off x="1432080" y="1701720"/>
            <a:ext cx="6416280" cy="964800"/>
            <a:chOff x="1432080" y="1701720"/>
            <a:chExt cx="6416280" cy="964800"/>
          </a:xfrm>
        </p:grpSpPr>
        <mc:AlternateContent>
          <mc:Choice xmlns:a14="http://schemas.microsoft.com/office/drawing/2010/main" Requires="a14">
            <p:sp>
              <p:nvSpPr>
                <p:cNvPr id="3954" name=""/>
                <p:cNvSpPr txBox="1"/>
                <p:nvPr/>
              </p:nvSpPr>
              <p:spPr>
                <a:xfrm>
                  <a:off x="1432080" y="1701720"/>
                  <a:ext cx="3142440" cy="96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5" name=""/>
                <p:cNvSpPr txBox="1"/>
                <p:nvPr/>
              </p:nvSpPr>
              <p:spPr>
                <a:xfrm>
                  <a:off x="4628520" y="1772280"/>
                  <a:ext cx="32198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56" name=""/>
          <p:cNvGrpSpPr/>
          <p:nvPr/>
        </p:nvGrpSpPr>
        <p:grpSpPr>
          <a:xfrm>
            <a:off x="685800" y="2681280"/>
            <a:ext cx="3429000" cy="520560"/>
            <a:chOff x="685800" y="2681280"/>
            <a:chExt cx="3429000" cy="520560"/>
          </a:xfrm>
        </p:grpSpPr>
        <p:sp>
          <p:nvSpPr>
            <p:cNvPr id="3957" name=""/>
            <p:cNvSpPr/>
            <p:nvPr/>
          </p:nvSpPr>
          <p:spPr>
            <a:xfrm>
              <a:off x="685800" y="268128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用三要素法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8" name=""/>
                <p:cNvSpPr txBox="1"/>
                <p:nvPr/>
              </p:nvSpPr>
              <p:spPr>
                <a:xfrm>
                  <a:off x="2971800" y="2786040"/>
                  <a:ext cx="331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59" name=""/>
              <p:cNvSpPr txBox="1"/>
              <p:nvPr/>
            </p:nvSpPr>
            <p:spPr>
              <a:xfrm>
                <a:off x="1276200" y="2990880"/>
                <a:ext cx="4478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0" name=""/>
              <p:cNvSpPr txBox="1"/>
              <p:nvPr/>
            </p:nvSpPr>
            <p:spPr>
              <a:xfrm>
                <a:off x="758880" y="3794040"/>
                <a:ext cx="3203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1" name=""/>
              <p:cNvSpPr txBox="1"/>
              <p:nvPr/>
            </p:nvSpPr>
            <p:spPr>
              <a:xfrm>
                <a:off x="1600200" y="4821120"/>
                <a:ext cx="2809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62" name=""/>
          <p:cNvGrpSpPr/>
          <p:nvPr/>
        </p:nvGrpSpPr>
        <p:grpSpPr>
          <a:xfrm>
            <a:off x="685800" y="484200"/>
            <a:ext cx="3124080" cy="603360"/>
            <a:chOff x="685800" y="484200"/>
            <a:chExt cx="3124080" cy="603360"/>
          </a:xfrm>
        </p:grpSpPr>
        <p:sp>
          <p:nvSpPr>
            <p:cNvPr id="3963" name=""/>
            <p:cNvSpPr/>
            <p:nvPr/>
          </p:nvSpPr>
          <p:spPr>
            <a:xfrm>
              <a:off x="685800" y="5144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2.   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变化规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4" name=""/>
                <p:cNvSpPr txBox="1"/>
                <p:nvPr/>
              </p:nvSpPr>
              <p:spPr>
                <a:xfrm>
                  <a:off x="1276200" y="484200"/>
                  <a:ext cx="7812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65" name=""/>
              <p:cNvSpPr txBox="1"/>
              <p:nvPr/>
            </p:nvSpPr>
            <p:spPr>
              <a:xfrm>
                <a:off x="1400040" y="858960"/>
                <a:ext cx="38577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66" name=""/>
          <p:cNvGrpSpPr/>
          <p:nvPr/>
        </p:nvGrpSpPr>
        <p:grpSpPr>
          <a:xfrm>
            <a:off x="5029200" y="3580200"/>
            <a:ext cx="3963960" cy="2873520"/>
            <a:chOff x="5029200" y="3580200"/>
            <a:chExt cx="3963960" cy="2873520"/>
          </a:xfrm>
        </p:grpSpPr>
        <p:grpSp>
          <p:nvGrpSpPr>
            <p:cNvPr id="3967" name=""/>
            <p:cNvGrpSpPr/>
            <p:nvPr/>
          </p:nvGrpSpPr>
          <p:grpSpPr>
            <a:xfrm>
              <a:off x="5029200" y="3580200"/>
              <a:ext cx="3963960" cy="2873520"/>
              <a:chOff x="5029200" y="3580200"/>
              <a:chExt cx="3963960" cy="2873520"/>
            </a:xfrm>
          </p:grpSpPr>
          <mc:AlternateContent>
            <mc:Choice xmlns:a14="http://schemas.microsoft.com/office/drawing/2010/main" Requires="a14">
              <p:sp>
                <p:nvSpPr>
                  <p:cNvPr id="3968" name=""/>
                  <p:cNvSpPr txBox="1"/>
                  <p:nvPr/>
                </p:nvSpPr>
                <p:spPr>
                  <a:xfrm>
                    <a:off x="8153280" y="4876560"/>
                    <a:ext cx="839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69" name=""/>
              <p:cNvSpPr/>
              <p:nvPr/>
            </p:nvSpPr>
            <p:spPr>
              <a:xfrm>
                <a:off x="5211720" y="4287600"/>
                <a:ext cx="27468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5029200" y="4930560"/>
                <a:ext cx="390240" cy="368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225760" y="4287600"/>
                <a:ext cx="0" cy="16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5163840" y="4583160"/>
                <a:ext cx="39060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5211720" y="5919480"/>
                <a:ext cx="2859120" cy="1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5311800" y="3641400"/>
                <a:ext cx="784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099480" y="3580200"/>
                <a:ext cx="78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1.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8069040" y="5333760"/>
                <a:ext cx="0" cy="59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6821280" y="5333760"/>
                <a:ext cx="0" cy="59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rot="16200000">
                <a:off x="5599800" y="4107600"/>
                <a:ext cx="149040" cy="38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6183000" y="4011480"/>
                <a:ext cx="597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5383800" y="4910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211800" y="502812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6099120" y="4541760"/>
                <a:ext cx="83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rot="10800000">
                <a:off x="7995960" y="4876200"/>
                <a:ext cx="162000" cy="428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483680" y="502812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389560" y="428364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391160" y="454176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224400" y="4100400"/>
                <a:ext cx="390600" cy="368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6422760" y="409104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715000" y="5943600"/>
                <a:ext cx="2057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等效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8147880" y="4487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8216280" y="505620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5867280" y="4314240"/>
                <a:ext cx="38088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6629400" y="4303440"/>
                <a:ext cx="144756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8076960" y="4303440"/>
                <a:ext cx="0" cy="573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rot="10800000">
                <a:off x="6744960" y="4916520"/>
                <a:ext cx="161640" cy="428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6816600" y="4308480"/>
                <a:ext cx="0" cy="59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7" name=""/>
            <p:cNvSpPr/>
            <p:nvPr/>
          </p:nvSpPr>
          <p:spPr>
            <a:xfrm flipV="1">
              <a:off x="6750000" y="42354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6750000" y="58672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99" name=""/>
              <p:cNvSpPr txBox="1"/>
              <p:nvPr/>
            </p:nvSpPr>
            <p:spPr>
              <a:xfrm>
                <a:off x="1166760" y="4373640"/>
                <a:ext cx="17686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0" name=""/>
              <p:cNvSpPr txBox="1"/>
              <p:nvPr/>
            </p:nvSpPr>
            <p:spPr>
              <a:xfrm>
                <a:off x="1371600" y="3578400"/>
                <a:ext cx="22525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1" name=""/>
              <p:cNvSpPr txBox="1"/>
              <p:nvPr/>
            </p:nvSpPr>
            <p:spPr>
              <a:xfrm>
                <a:off x="685800" y="2666880"/>
                <a:ext cx="36432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2" name=""/>
              <p:cNvSpPr txBox="1"/>
              <p:nvPr/>
            </p:nvSpPr>
            <p:spPr>
              <a:xfrm>
                <a:off x="3780000" y="5853240"/>
                <a:ext cx="10206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3" name=""/>
              <p:cNvSpPr txBox="1"/>
              <p:nvPr/>
            </p:nvSpPr>
            <p:spPr>
              <a:xfrm>
                <a:off x="1141560" y="5079960"/>
                <a:ext cx="30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4" name=""/>
              <p:cNvSpPr txBox="1"/>
              <p:nvPr/>
            </p:nvSpPr>
            <p:spPr>
              <a:xfrm>
                <a:off x="1386000" y="5688000"/>
                <a:ext cx="2727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5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6" name=""/>
          <p:cNvGrpSpPr/>
          <p:nvPr/>
        </p:nvGrpSpPr>
        <p:grpSpPr>
          <a:xfrm>
            <a:off x="5187960" y="1371600"/>
            <a:ext cx="2971800" cy="2152080"/>
            <a:chOff x="5187960" y="1371600"/>
            <a:chExt cx="2971800" cy="2152080"/>
          </a:xfrm>
        </p:grpSpPr>
        <p:grpSp>
          <p:nvGrpSpPr>
            <p:cNvPr id="4007" name=""/>
            <p:cNvGrpSpPr/>
            <p:nvPr/>
          </p:nvGrpSpPr>
          <p:grpSpPr>
            <a:xfrm>
              <a:off x="5526000" y="1698480"/>
              <a:ext cx="2322360" cy="459720"/>
              <a:chOff x="5526000" y="1698480"/>
              <a:chExt cx="2322360" cy="459720"/>
            </a:xfrm>
          </p:grpSpPr>
          <p:sp>
            <p:nvSpPr>
              <p:cNvPr id="4008" name=""/>
              <p:cNvSpPr/>
              <p:nvPr/>
            </p:nvSpPr>
            <p:spPr>
              <a:xfrm>
                <a:off x="5810760" y="1960920"/>
                <a:ext cx="20376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5526000" y="169848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0" name=""/>
            <p:cNvGrpSpPr/>
            <p:nvPr/>
          </p:nvGrpSpPr>
          <p:grpSpPr>
            <a:xfrm>
              <a:off x="5187960" y="1981080"/>
              <a:ext cx="2485800" cy="694440"/>
              <a:chOff x="5187960" y="1981080"/>
              <a:chExt cx="2485800" cy="694440"/>
            </a:xfrm>
          </p:grpSpPr>
          <p:sp>
            <p:nvSpPr>
              <p:cNvPr id="4011" name=""/>
              <p:cNvSpPr/>
              <p:nvPr/>
            </p:nvSpPr>
            <p:spPr>
              <a:xfrm>
                <a:off x="5794200" y="1981080"/>
                <a:ext cx="1879560" cy="546120"/>
              </a:xfrm>
              <a:custGeom>
                <a:avLst/>
                <a:gdLst/>
                <a:ahLst/>
                <a:rect l="l" t="t" r="r" b="b"/>
                <a:pathLst>
                  <a:path w="1248" h="288">
                    <a:moveTo>
                      <a:pt x="0" y="288"/>
                    </a:moveTo>
                    <a:cubicBezTo>
                      <a:pt x="64" y="216"/>
                      <a:pt x="128" y="144"/>
                      <a:pt x="336" y="96"/>
                    </a:cubicBezTo>
                    <a:cubicBezTo>
                      <a:pt x="544" y="48"/>
                      <a:pt x="896" y="24"/>
                      <a:pt x="1248" y="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187960" y="2215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.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3" name=""/>
            <p:cNvGrpSpPr/>
            <p:nvPr/>
          </p:nvGrpSpPr>
          <p:grpSpPr>
            <a:xfrm>
              <a:off x="5602320" y="1371600"/>
              <a:ext cx="2557440" cy="2133720"/>
              <a:chOff x="5602320" y="1371600"/>
              <a:chExt cx="2557440" cy="2133720"/>
            </a:xfrm>
          </p:grpSpPr>
          <mc:AlternateContent>
            <mc:Choice xmlns:a14="http://schemas.microsoft.com/office/drawing/2010/main" Requires="a14">
              <p:sp>
                <p:nvSpPr>
                  <p:cNvPr id="4014" name=""/>
                  <p:cNvSpPr txBox="1"/>
                  <p:nvPr/>
                </p:nvSpPr>
                <p:spPr>
                  <a:xfrm>
                    <a:off x="7967520" y="3124080"/>
                    <a:ext cx="192240" cy="38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5" name=""/>
              <p:cNvSpPr/>
              <p:nvPr/>
            </p:nvSpPr>
            <p:spPr>
              <a:xfrm>
                <a:off x="5602320" y="3141720"/>
                <a:ext cx="2527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 flipV="1">
                <a:off x="5818320" y="1503000"/>
                <a:ext cx="0" cy="18716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17" name=""/>
                  <p:cNvSpPr txBox="1"/>
                  <p:nvPr/>
                </p:nvSpPr>
                <p:spPr>
                  <a:xfrm>
                    <a:off x="5864400" y="1371600"/>
                    <a:ext cx="68868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018" name=""/>
            <p:cNvSpPr/>
            <p:nvPr/>
          </p:nvSpPr>
          <p:spPr>
            <a:xfrm>
              <a:off x="5410080" y="30639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9" name=""/>
          <p:cNvGrpSpPr/>
          <p:nvPr/>
        </p:nvGrpSpPr>
        <p:grpSpPr>
          <a:xfrm>
            <a:off x="5613480" y="380880"/>
            <a:ext cx="1580400" cy="533520"/>
            <a:chOff x="5613480" y="380880"/>
            <a:chExt cx="1580400" cy="533520"/>
          </a:xfrm>
        </p:grpSpPr>
        <mc:AlternateContent>
          <mc:Choice xmlns:a14="http://schemas.microsoft.com/office/drawing/2010/main" Requires="a14">
            <p:sp>
              <p:nvSpPr>
                <p:cNvPr id="4020" name=""/>
                <p:cNvSpPr txBox="1"/>
                <p:nvPr/>
              </p:nvSpPr>
              <p:spPr>
                <a:xfrm>
                  <a:off x="5613480" y="417600"/>
                  <a:ext cx="3506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21" name=""/>
            <p:cNvSpPr/>
            <p:nvPr/>
          </p:nvSpPr>
          <p:spPr>
            <a:xfrm>
              <a:off x="6159600" y="380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变化曲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2" name=""/>
              <p:cNvSpPr txBox="1"/>
              <p:nvPr/>
            </p:nvSpPr>
            <p:spPr>
              <a:xfrm>
                <a:off x="5408640" y="838080"/>
                <a:ext cx="270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23" name=""/>
          <p:cNvGrpSpPr/>
          <p:nvPr/>
        </p:nvGrpSpPr>
        <p:grpSpPr>
          <a:xfrm>
            <a:off x="5715000" y="3440160"/>
            <a:ext cx="1558440" cy="522360"/>
            <a:chOff x="5715000" y="3440160"/>
            <a:chExt cx="1558440" cy="522360"/>
          </a:xfrm>
        </p:grpSpPr>
        <mc:AlternateContent>
          <mc:Choice xmlns:a14="http://schemas.microsoft.com/office/drawing/2010/main" Requires="a14">
            <p:sp>
              <p:nvSpPr>
                <p:cNvPr id="4024" name=""/>
                <p:cNvSpPr txBox="1"/>
                <p:nvPr/>
              </p:nvSpPr>
              <p:spPr>
                <a:xfrm>
                  <a:off x="5715000" y="3592440"/>
                  <a:ext cx="33984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25" name=""/>
            <p:cNvSpPr/>
            <p:nvPr/>
          </p:nvSpPr>
          <p:spPr>
            <a:xfrm>
              <a:off x="6239160" y="34401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变化曲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6" name=""/>
              <p:cNvSpPr txBox="1"/>
              <p:nvPr/>
            </p:nvSpPr>
            <p:spPr>
              <a:xfrm>
                <a:off x="5730840" y="3865680"/>
                <a:ext cx="3166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27" name=""/>
          <p:cNvGrpSpPr/>
          <p:nvPr/>
        </p:nvGrpSpPr>
        <p:grpSpPr>
          <a:xfrm>
            <a:off x="5448240" y="4560840"/>
            <a:ext cx="2438640" cy="459720"/>
            <a:chOff x="5448240" y="4560840"/>
            <a:chExt cx="2438640" cy="459720"/>
          </a:xfrm>
        </p:grpSpPr>
        <p:sp>
          <p:nvSpPr>
            <p:cNvPr id="4028" name=""/>
            <p:cNvSpPr/>
            <p:nvPr/>
          </p:nvSpPr>
          <p:spPr>
            <a:xfrm>
              <a:off x="5829480" y="4834080"/>
              <a:ext cx="205740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448240" y="4560840"/>
              <a:ext cx="3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0" name=""/>
          <p:cNvGrpSpPr/>
          <p:nvPr/>
        </p:nvGrpSpPr>
        <p:grpSpPr>
          <a:xfrm>
            <a:off x="5334120" y="4865760"/>
            <a:ext cx="2514600" cy="840600"/>
            <a:chOff x="5334120" y="4865760"/>
            <a:chExt cx="2514600" cy="840600"/>
          </a:xfrm>
        </p:grpSpPr>
        <p:sp>
          <p:nvSpPr>
            <p:cNvPr id="4031" name=""/>
            <p:cNvSpPr/>
            <p:nvPr/>
          </p:nvSpPr>
          <p:spPr>
            <a:xfrm>
              <a:off x="5884920" y="4865760"/>
              <a:ext cx="1963800" cy="663480"/>
            </a:xfrm>
            <a:custGeom>
              <a:avLst/>
              <a:gdLst/>
              <a:ahLst/>
              <a:rect l="l" t="t" r="r" b="b"/>
              <a:pathLst>
                <a:path w="1248" h="288">
                  <a:moveTo>
                    <a:pt x="0" y="288"/>
                  </a:moveTo>
                  <a:cubicBezTo>
                    <a:pt x="64" y="216"/>
                    <a:pt x="128" y="144"/>
                    <a:pt x="336" y="96"/>
                  </a:cubicBezTo>
                  <a:cubicBezTo>
                    <a:pt x="544" y="48"/>
                    <a:pt x="896" y="24"/>
                    <a:pt x="1248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334120" y="5246640"/>
              <a:ext cx="8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.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3" name=""/>
          <p:cNvGrpSpPr/>
          <p:nvPr/>
        </p:nvGrpSpPr>
        <p:grpSpPr>
          <a:xfrm>
            <a:off x="5410080" y="4419720"/>
            <a:ext cx="2676600" cy="2165760"/>
            <a:chOff x="5410080" y="4419720"/>
            <a:chExt cx="2676600" cy="2165760"/>
          </a:xfrm>
        </p:grpSpPr>
        <mc:AlternateContent>
          <mc:Choice xmlns:a14="http://schemas.microsoft.com/office/drawing/2010/main" Requires="a14">
            <p:sp>
              <p:nvSpPr>
                <p:cNvPr id="4034" name=""/>
                <p:cNvSpPr txBox="1"/>
                <p:nvPr/>
              </p:nvSpPr>
              <p:spPr>
                <a:xfrm>
                  <a:off x="7924680" y="6084720"/>
                  <a:ext cx="16200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035" name=""/>
            <p:cNvGrpSpPr/>
            <p:nvPr/>
          </p:nvGrpSpPr>
          <p:grpSpPr>
            <a:xfrm>
              <a:off x="5410080" y="4419720"/>
              <a:ext cx="2643120" cy="2165760"/>
              <a:chOff x="5410080" y="4419720"/>
              <a:chExt cx="2643120" cy="2165760"/>
            </a:xfrm>
          </p:grpSpPr>
          <p:sp>
            <p:nvSpPr>
              <p:cNvPr id="4036" name=""/>
              <p:cNvSpPr/>
              <p:nvPr/>
            </p:nvSpPr>
            <p:spPr>
              <a:xfrm>
                <a:off x="5660280" y="6117120"/>
                <a:ext cx="23929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flipV="1">
                <a:off x="5864760" y="4484160"/>
                <a:ext cx="0" cy="18619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38" name=""/>
                  <p:cNvSpPr txBox="1"/>
                  <p:nvPr/>
                </p:nvSpPr>
                <p:spPr>
                  <a:xfrm>
                    <a:off x="5913360" y="4419720"/>
                    <a:ext cx="56628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/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9" name=""/>
              <p:cNvSpPr/>
              <p:nvPr/>
            </p:nvSpPr>
            <p:spPr>
              <a:xfrm>
                <a:off x="5410080" y="6064920"/>
                <a:ext cx="72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0" name=""/>
          <p:cNvGrpSpPr/>
          <p:nvPr/>
        </p:nvGrpSpPr>
        <p:grpSpPr>
          <a:xfrm>
            <a:off x="914400" y="60120"/>
            <a:ext cx="3922200" cy="2761920"/>
            <a:chOff x="914400" y="60120"/>
            <a:chExt cx="3922200" cy="2761920"/>
          </a:xfrm>
        </p:grpSpPr>
        <p:grpSp>
          <p:nvGrpSpPr>
            <p:cNvPr id="4041" name=""/>
            <p:cNvGrpSpPr/>
            <p:nvPr/>
          </p:nvGrpSpPr>
          <p:grpSpPr>
            <a:xfrm>
              <a:off x="914400" y="60120"/>
              <a:ext cx="3922200" cy="2761920"/>
              <a:chOff x="914400" y="60120"/>
              <a:chExt cx="3922200" cy="2761920"/>
            </a:xfrm>
          </p:grpSpPr>
          <mc:AlternateContent>
            <mc:Choice xmlns:a14="http://schemas.microsoft.com/office/drawing/2010/main" Requires="a14">
              <p:sp>
                <p:nvSpPr>
                  <p:cNvPr id="4042" name=""/>
                  <p:cNvSpPr txBox="1"/>
                  <p:nvPr/>
                </p:nvSpPr>
                <p:spPr>
                  <a:xfrm>
                    <a:off x="4078080" y="1308240"/>
                    <a:ext cx="758520" cy="43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3" name=""/>
              <p:cNvSpPr/>
              <p:nvPr/>
            </p:nvSpPr>
            <p:spPr>
              <a:xfrm>
                <a:off x="1096560" y="706320"/>
                <a:ext cx="2743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914400" y="1349280"/>
                <a:ext cx="390240" cy="368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1110960" y="706320"/>
                <a:ext cx="0" cy="16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1049040" y="1001880"/>
                <a:ext cx="39024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 flipV="1">
                <a:off x="1096560" y="2338200"/>
                <a:ext cx="2858760" cy="1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1196640" y="60120"/>
                <a:ext cx="784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1913400" y="12600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i </a:t>
                </a:r>
                <a:r>
                  <a:rPr b="1" i="1" lang="en-US" sz="2400" spc="-1" strike="noStrike" baseline="-25000">
                    <a:solidFill>
                      <a:srgbClr val="000018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3954240" y="1752480"/>
                <a:ext cx="0" cy="59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2706480" y="1752480"/>
                <a:ext cx="0" cy="59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 rot="16200000">
                <a:off x="1484640" y="526320"/>
                <a:ext cx="149040" cy="388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1904760" y="609480"/>
                <a:ext cx="5965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1268640" y="1329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2097000" y="144684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1983960" y="960480"/>
                <a:ext cx="83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 rot="10800000">
                <a:off x="3880800" y="1294920"/>
                <a:ext cx="161640" cy="428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3368520" y="144684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1274400" y="70236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18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3276360" y="96048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1447560" y="2362320"/>
                <a:ext cx="25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时等效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033080" y="906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101480" y="147492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 flipV="1">
                <a:off x="1752480" y="721800"/>
                <a:ext cx="220932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3962160" y="722160"/>
                <a:ext cx="0" cy="573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 rot="10800000">
                <a:off x="2629800" y="1335240"/>
                <a:ext cx="161640" cy="428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2701800" y="727200"/>
                <a:ext cx="0" cy="59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 flipV="1">
              <a:off x="2635200" y="6541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2635200" y="2286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0" name=""/>
              <p:cNvSpPr txBox="1"/>
              <p:nvPr/>
            </p:nvSpPr>
            <p:spPr>
              <a:xfrm>
                <a:off x="1066680" y="4935600"/>
                <a:ext cx="3449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1" name=""/>
              <p:cNvSpPr txBox="1"/>
              <p:nvPr/>
            </p:nvSpPr>
            <p:spPr>
              <a:xfrm>
                <a:off x="1069920" y="5872320"/>
                <a:ext cx="3044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2" name=""/>
          <p:cNvSpPr/>
          <p:nvPr/>
        </p:nvSpPr>
        <p:spPr>
          <a:xfrm>
            <a:off x="1472400" y="3679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三要素法求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355680" y="36939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1143000" y="531720"/>
            <a:ext cx="7620120" cy="992160"/>
            <a:chOff x="1143000" y="531720"/>
            <a:chExt cx="7620120" cy="992160"/>
          </a:xfrm>
        </p:grpSpPr>
        <p:sp>
          <p:nvSpPr>
            <p:cNvPr id="4075" name=""/>
            <p:cNvSpPr/>
            <p:nvPr/>
          </p:nvSpPr>
          <p:spPr>
            <a:xfrm>
              <a:off x="1143000" y="53172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闭合，换路前电路处于稳态。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感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6" name=""/>
                <p:cNvSpPr txBox="1"/>
                <p:nvPr/>
              </p:nvSpPr>
              <p:spPr>
                <a:xfrm>
                  <a:off x="3352680" y="938160"/>
                  <a:ext cx="223200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和电压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。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77" name=""/>
          <p:cNvSpPr/>
          <p:nvPr/>
        </p:nvSpPr>
        <p:spPr>
          <a:xfrm>
            <a:off x="488880" y="5796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8" name=""/>
          <p:cNvGrpSpPr/>
          <p:nvPr/>
        </p:nvGrpSpPr>
        <p:grpSpPr>
          <a:xfrm>
            <a:off x="5410080" y="3824280"/>
            <a:ext cx="3286080" cy="2560680"/>
            <a:chOff x="5410080" y="3824280"/>
            <a:chExt cx="3286080" cy="2560680"/>
          </a:xfrm>
        </p:grpSpPr>
        <p:sp>
          <p:nvSpPr>
            <p:cNvPr id="4079" name=""/>
            <p:cNvSpPr/>
            <p:nvPr/>
          </p:nvSpPr>
          <p:spPr>
            <a:xfrm>
              <a:off x="5441760" y="5030640"/>
              <a:ext cx="3888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800320" y="5805360"/>
              <a:ext cx="2438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1" name=""/>
                <p:cNvSpPr txBox="1"/>
                <p:nvPr/>
              </p:nvSpPr>
              <p:spPr>
                <a:xfrm>
                  <a:off x="8338680" y="4761000"/>
                  <a:ext cx="357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82" name=""/>
            <p:cNvSpPr/>
            <p:nvPr/>
          </p:nvSpPr>
          <p:spPr>
            <a:xfrm>
              <a:off x="6105240" y="38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7324560" y="38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5410080" y="4836960"/>
              <a:ext cx="412560" cy="37800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702040" y="4981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594040" y="5786280"/>
              <a:ext cx="26668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802120" y="474588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8267400" y="4319640"/>
              <a:ext cx="0" cy="1469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8260920" y="4829040"/>
              <a:ext cx="0" cy="465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 flipV="1">
              <a:off x="6983280" y="5751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594040" y="4329000"/>
              <a:ext cx="0" cy="5079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621040" y="5213520"/>
              <a:ext cx="0" cy="5918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V="1">
              <a:off x="5876640" y="4594320"/>
              <a:ext cx="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411680" y="4240080"/>
              <a:ext cx="419040" cy="1587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029000" y="4321080"/>
              <a:ext cx="0" cy="577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6954480" y="4898880"/>
              <a:ext cx="168480" cy="4161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983280" y="4284720"/>
              <a:ext cx="7920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240" y="4240080"/>
              <a:ext cx="419040" cy="1587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6116400" y="4365720"/>
              <a:ext cx="574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6345000" y="49752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030800" y="5280120"/>
              <a:ext cx="0" cy="496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V="1">
              <a:off x="6573600" y="4324320"/>
              <a:ext cx="838080" cy="1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821360" y="4330800"/>
              <a:ext cx="4428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 flipV="1">
              <a:off x="5571720" y="4325400"/>
              <a:ext cx="582840" cy="1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5" name=""/>
          <p:cNvSpPr/>
          <p:nvPr/>
        </p:nvSpPr>
        <p:spPr>
          <a:xfrm>
            <a:off x="1420920" y="458640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电路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1020240" y="4114800"/>
            <a:ext cx="298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求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0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 ,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0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7" name=""/>
          <p:cNvGrpSpPr/>
          <p:nvPr/>
        </p:nvGrpSpPr>
        <p:grpSpPr>
          <a:xfrm>
            <a:off x="2206800" y="1371600"/>
            <a:ext cx="4574880" cy="2286000"/>
            <a:chOff x="2206800" y="1371600"/>
            <a:chExt cx="4574880" cy="2286000"/>
          </a:xfrm>
        </p:grpSpPr>
        <p:sp>
          <p:nvSpPr>
            <p:cNvPr id="4108" name=""/>
            <p:cNvSpPr/>
            <p:nvPr/>
          </p:nvSpPr>
          <p:spPr>
            <a:xfrm>
              <a:off x="2473200" y="2406600"/>
              <a:ext cx="516240" cy="500040"/>
            </a:xfrm>
            <a:prstGeom prst="ellipse">
              <a:avLst/>
            </a:prstGeom>
            <a:noFill/>
            <a:ln w="572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727360" y="1873080"/>
              <a:ext cx="0" cy="533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 flipV="1">
              <a:off x="2714760" y="1862280"/>
              <a:ext cx="1336680" cy="1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12960" y="3619440"/>
              <a:ext cx="33814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81280" y="1873080"/>
              <a:ext cx="0" cy="6400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81280" y="2484360"/>
              <a:ext cx="279360" cy="4809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H="1">
              <a:off x="3581280" y="2571840"/>
              <a:ext cx="268560" cy="307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545640" y="2895480"/>
              <a:ext cx="5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V="1">
              <a:off x="3583080" y="2903040"/>
              <a:ext cx="0" cy="7016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981400" y="2565360"/>
              <a:ext cx="244440" cy="1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967000" y="2727360"/>
              <a:ext cx="244440" cy="1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967000" y="2878200"/>
              <a:ext cx="244440" cy="1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V="1">
              <a:off x="6087960" y="3024360"/>
              <a:ext cx="0" cy="6076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V="1">
              <a:off x="2727360" y="2921040"/>
              <a:ext cx="0" cy="6984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470320" y="2660760"/>
              <a:ext cx="5173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V="1">
              <a:off x="3141720" y="242244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8800" y="28944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5" name=""/>
                <p:cNvSpPr txBox="1"/>
                <p:nvPr/>
              </p:nvSpPr>
              <p:spPr>
                <a:xfrm>
                  <a:off x="6283440" y="2448000"/>
                  <a:ext cx="4982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26" name=""/>
            <p:cNvSpPr/>
            <p:nvPr/>
          </p:nvSpPr>
          <p:spPr>
            <a:xfrm flipV="1">
              <a:off x="6105600" y="1860480"/>
              <a:ext cx="0" cy="704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543480" y="3570120"/>
              <a:ext cx="7920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543480" y="1824120"/>
              <a:ext cx="7920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316480" y="1911240"/>
              <a:ext cx="7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206800" y="2759040"/>
              <a:ext cx="66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002120" y="137160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5273640" y="13716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49900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4" name=""/>
            <p:cNvGrpSpPr/>
            <p:nvPr/>
          </p:nvGrpSpPr>
          <p:grpSpPr>
            <a:xfrm>
              <a:off x="6094800" y="2133720"/>
              <a:ext cx="383400" cy="1130040"/>
              <a:chOff x="6094800" y="2133720"/>
              <a:chExt cx="383400" cy="1130040"/>
            </a:xfrm>
          </p:grpSpPr>
          <p:sp>
            <p:nvSpPr>
              <p:cNvPr id="4135" name=""/>
              <p:cNvSpPr/>
              <p:nvPr/>
            </p:nvSpPr>
            <p:spPr>
              <a:xfrm>
                <a:off x="6112800" y="2743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094800" y="2133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7" name=""/>
            <p:cNvGrpSpPr/>
            <p:nvPr/>
          </p:nvGrpSpPr>
          <p:grpSpPr>
            <a:xfrm>
              <a:off x="3808800" y="1779480"/>
              <a:ext cx="2210760" cy="1878120"/>
              <a:chOff x="3808800" y="1779480"/>
              <a:chExt cx="2210760" cy="1878120"/>
            </a:xfrm>
          </p:grpSpPr>
          <p:sp>
            <p:nvSpPr>
              <p:cNvPr id="4138" name=""/>
              <p:cNvSpPr/>
              <p:nvPr/>
            </p:nvSpPr>
            <p:spPr>
              <a:xfrm>
                <a:off x="5346720" y="1779480"/>
                <a:ext cx="419040" cy="1587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4964040" y="1860480"/>
                <a:ext cx="0" cy="730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4889520" y="2554200"/>
                <a:ext cx="168120" cy="4161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653080" y="23612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3808800" y="2494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4903920" y="3583080"/>
                <a:ext cx="81000" cy="7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4917960" y="1824120"/>
                <a:ext cx="7956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4067280" y="1779480"/>
                <a:ext cx="419040" cy="1587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4340160" y="2438280"/>
                <a:ext cx="57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4051440" y="1905120"/>
                <a:ext cx="574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4280040" y="281952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4965840" y="2971800"/>
                <a:ext cx="0" cy="685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V="1">
                <a:off x="4508640" y="1863720"/>
                <a:ext cx="838080" cy="1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1" name=""/>
            <p:cNvSpPr/>
            <p:nvPr/>
          </p:nvSpPr>
          <p:spPr>
            <a:xfrm>
              <a:off x="5765760" y="1866960"/>
              <a:ext cx="3430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2" name=""/>
                <p:cNvSpPr txBox="1"/>
                <p:nvPr/>
              </p:nvSpPr>
              <p:spPr>
                <a:xfrm>
                  <a:off x="6221520" y="1676520"/>
                  <a:ext cx="39996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53" name=""/>
            <p:cNvSpPr/>
            <p:nvPr/>
          </p:nvSpPr>
          <p:spPr>
            <a:xfrm>
              <a:off x="6172200" y="175248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4" name=""/>
          <p:cNvGrpSpPr/>
          <p:nvPr/>
        </p:nvGrpSpPr>
        <p:grpSpPr>
          <a:xfrm>
            <a:off x="457200" y="228600"/>
            <a:ext cx="4574880" cy="2286000"/>
            <a:chOff x="457200" y="228600"/>
            <a:chExt cx="4574880" cy="2286000"/>
          </a:xfrm>
        </p:grpSpPr>
        <p:sp>
          <p:nvSpPr>
            <p:cNvPr id="4155" name=""/>
            <p:cNvSpPr/>
            <p:nvPr/>
          </p:nvSpPr>
          <p:spPr>
            <a:xfrm>
              <a:off x="723600" y="1263600"/>
              <a:ext cx="516240" cy="500040"/>
            </a:xfrm>
            <a:prstGeom prst="ellipse">
              <a:avLst/>
            </a:prstGeom>
            <a:noFill/>
            <a:ln w="572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977760" y="730080"/>
              <a:ext cx="0" cy="533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965160" y="719280"/>
              <a:ext cx="1336680" cy="1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963360" y="2476440"/>
              <a:ext cx="33814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831680" y="730080"/>
              <a:ext cx="0" cy="6400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831680" y="1341360"/>
              <a:ext cx="279720" cy="4809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 flipH="1">
              <a:off x="1831680" y="1428840"/>
              <a:ext cx="268560" cy="307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796040" y="1752480"/>
              <a:ext cx="5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V="1">
              <a:off x="1833480" y="1760040"/>
              <a:ext cx="0" cy="7016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231800" y="1422360"/>
              <a:ext cx="244440" cy="1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217400" y="1584360"/>
              <a:ext cx="244440" cy="1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217400" y="1735200"/>
              <a:ext cx="244440" cy="1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4338360" y="1881360"/>
              <a:ext cx="0" cy="6076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 flipV="1">
              <a:off x="977760" y="1778040"/>
              <a:ext cx="0" cy="6984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0720" y="1517760"/>
              <a:ext cx="5173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V="1">
              <a:off x="1392120" y="127944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159200" y="17514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2" name=""/>
                <p:cNvSpPr txBox="1"/>
                <p:nvPr/>
              </p:nvSpPr>
              <p:spPr>
                <a:xfrm>
                  <a:off x="4533840" y="1305000"/>
                  <a:ext cx="4982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73" name=""/>
            <p:cNvSpPr/>
            <p:nvPr/>
          </p:nvSpPr>
          <p:spPr>
            <a:xfrm flipV="1">
              <a:off x="4356000" y="717480"/>
              <a:ext cx="0" cy="704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793880" y="2427120"/>
              <a:ext cx="7920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793880" y="681120"/>
              <a:ext cx="7920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566880" y="768240"/>
              <a:ext cx="7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57200" y="1616040"/>
              <a:ext cx="66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252520" y="22860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524040" y="2286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749400" y="1600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1" name=""/>
            <p:cNvGrpSpPr/>
            <p:nvPr/>
          </p:nvGrpSpPr>
          <p:grpSpPr>
            <a:xfrm>
              <a:off x="4345200" y="990720"/>
              <a:ext cx="383400" cy="1130040"/>
              <a:chOff x="4345200" y="990720"/>
              <a:chExt cx="383400" cy="1130040"/>
            </a:xfrm>
          </p:grpSpPr>
          <p:sp>
            <p:nvSpPr>
              <p:cNvPr id="4182" name=""/>
              <p:cNvSpPr/>
              <p:nvPr/>
            </p:nvSpPr>
            <p:spPr>
              <a:xfrm>
                <a:off x="4363920" y="1600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345200" y="990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4" name=""/>
            <p:cNvGrpSpPr/>
            <p:nvPr/>
          </p:nvGrpSpPr>
          <p:grpSpPr>
            <a:xfrm>
              <a:off x="2059200" y="636480"/>
              <a:ext cx="2210760" cy="1878120"/>
              <a:chOff x="2059200" y="636480"/>
              <a:chExt cx="2210760" cy="1878120"/>
            </a:xfrm>
          </p:grpSpPr>
          <p:sp>
            <p:nvSpPr>
              <p:cNvPr id="4185" name=""/>
              <p:cNvSpPr/>
              <p:nvPr/>
            </p:nvSpPr>
            <p:spPr>
              <a:xfrm>
                <a:off x="3597120" y="636480"/>
                <a:ext cx="419040" cy="1587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214440" y="717480"/>
                <a:ext cx="0" cy="730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139920" y="1411200"/>
                <a:ext cx="168120" cy="4161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903480" y="12182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2059200" y="135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3154320" y="2440080"/>
                <a:ext cx="81000" cy="7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3168360" y="681120"/>
                <a:ext cx="7956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2317680" y="636480"/>
                <a:ext cx="419040" cy="1587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2590560" y="1295280"/>
                <a:ext cx="57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2301840" y="762120"/>
                <a:ext cx="574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2530440" y="167652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216240" y="1828800"/>
                <a:ext cx="0" cy="685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V="1">
                <a:off x="2759040" y="720720"/>
                <a:ext cx="838080" cy="1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8" name=""/>
            <p:cNvSpPr/>
            <p:nvPr/>
          </p:nvSpPr>
          <p:spPr>
            <a:xfrm>
              <a:off x="4016160" y="723960"/>
              <a:ext cx="3430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9" name=""/>
          <p:cNvSpPr/>
          <p:nvPr/>
        </p:nvSpPr>
        <p:spPr>
          <a:xfrm>
            <a:off x="1340280" y="3062160"/>
            <a:ext cx="283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电路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0" name=""/>
              <p:cNvSpPr txBox="1"/>
              <p:nvPr/>
            </p:nvSpPr>
            <p:spPr>
              <a:xfrm>
                <a:off x="984240" y="3484440"/>
                <a:ext cx="39686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1" name=""/>
              <p:cNvSpPr txBox="1"/>
              <p:nvPr/>
            </p:nvSpPr>
            <p:spPr>
              <a:xfrm>
                <a:off x="1066680" y="2514600"/>
                <a:ext cx="3044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2" name=""/>
          <p:cNvGrpSpPr/>
          <p:nvPr/>
        </p:nvGrpSpPr>
        <p:grpSpPr>
          <a:xfrm>
            <a:off x="1009440" y="4759200"/>
            <a:ext cx="4324680" cy="574920"/>
            <a:chOff x="1009440" y="4759200"/>
            <a:chExt cx="4324680" cy="574920"/>
          </a:xfrm>
        </p:grpSpPr>
        <p:sp>
          <p:nvSpPr>
            <p:cNvPr id="4203" name=""/>
            <p:cNvSpPr/>
            <p:nvPr/>
          </p:nvSpPr>
          <p:spPr>
            <a:xfrm>
              <a:off x="1009440" y="4782240"/>
              <a:ext cx="18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2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求稳态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4" name=""/>
                <p:cNvSpPr txBox="1"/>
                <p:nvPr/>
              </p:nvSpPr>
              <p:spPr>
                <a:xfrm>
                  <a:off x="2990880" y="4759200"/>
                  <a:ext cx="234324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和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5" name=""/>
          <p:cNvGrpSpPr/>
          <p:nvPr/>
        </p:nvGrpSpPr>
        <p:grpSpPr>
          <a:xfrm>
            <a:off x="5486400" y="380880"/>
            <a:ext cx="3382560" cy="2568600"/>
            <a:chOff x="5486400" y="380880"/>
            <a:chExt cx="3382560" cy="2568600"/>
          </a:xfrm>
        </p:grpSpPr>
        <p:sp>
          <p:nvSpPr>
            <p:cNvPr id="4206" name=""/>
            <p:cNvSpPr/>
            <p:nvPr/>
          </p:nvSpPr>
          <p:spPr>
            <a:xfrm>
              <a:off x="5638680" y="2369880"/>
              <a:ext cx="2438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019920" y="380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238880" y="380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9" name=""/>
            <p:cNvGrpSpPr/>
            <p:nvPr/>
          </p:nvGrpSpPr>
          <p:grpSpPr>
            <a:xfrm>
              <a:off x="7961400" y="1393560"/>
              <a:ext cx="420480" cy="378000"/>
              <a:chOff x="7961400" y="1393560"/>
              <a:chExt cx="420480" cy="378000"/>
            </a:xfrm>
          </p:grpSpPr>
          <p:sp>
            <p:nvSpPr>
              <p:cNvPr id="4210" name=""/>
              <p:cNvSpPr/>
              <p:nvPr/>
            </p:nvSpPr>
            <p:spPr>
              <a:xfrm>
                <a:off x="7993080" y="1587240"/>
                <a:ext cx="3888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61400" y="1393560"/>
                <a:ext cx="412560" cy="37800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2" name=""/>
            <p:cNvSpPr/>
            <p:nvPr/>
          </p:nvSpPr>
          <p:spPr>
            <a:xfrm>
              <a:off x="5616720" y="1537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508720" y="2342880"/>
              <a:ext cx="26668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347600" y="14004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8182080" y="876240"/>
              <a:ext cx="0" cy="4950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V="1">
              <a:off x="6897600" y="23079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5500800" y="914040"/>
              <a:ext cx="0" cy="1447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7924680" y="1295280"/>
              <a:ext cx="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7326360" y="796680"/>
              <a:ext cx="419040" cy="1587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943680" y="877680"/>
              <a:ext cx="0" cy="577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69160" y="1417320"/>
              <a:ext cx="168120" cy="4161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897600" y="840960"/>
              <a:ext cx="7956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046920" y="796680"/>
              <a:ext cx="419040" cy="1587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6031080" y="921960"/>
              <a:ext cx="574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299280" y="1218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945480" y="1836360"/>
              <a:ext cx="0" cy="497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V="1">
              <a:off x="6488280" y="880920"/>
              <a:ext cx="838080" cy="1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7736040" y="887040"/>
              <a:ext cx="4428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 flipV="1">
              <a:off x="5486400" y="882000"/>
              <a:ext cx="582480" cy="1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8188200" y="175248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1" name=""/>
            <p:cNvGrpSpPr/>
            <p:nvPr/>
          </p:nvGrpSpPr>
          <p:grpSpPr>
            <a:xfrm>
              <a:off x="8381880" y="990360"/>
              <a:ext cx="487080" cy="916920"/>
              <a:chOff x="8381880" y="990360"/>
              <a:chExt cx="487080" cy="916920"/>
            </a:xfrm>
          </p:grpSpPr>
          <mc:AlternateContent>
            <mc:Choice xmlns:a14="http://schemas.microsoft.com/office/drawing/2010/main" Requires="a14">
              <p:sp>
                <p:nvSpPr>
                  <p:cNvPr id="4232" name=""/>
                  <p:cNvSpPr txBox="1"/>
                  <p:nvPr/>
                </p:nvSpPr>
                <p:spPr>
                  <a:xfrm>
                    <a:off x="8381880" y="1218960"/>
                    <a:ext cx="4870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33" name=""/>
              <p:cNvSpPr/>
              <p:nvPr/>
            </p:nvSpPr>
            <p:spPr>
              <a:xfrm>
                <a:off x="8382240" y="990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8383680" y="144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7323480" y="91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333120" y="1599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7" name=""/>
          <p:cNvGrpSpPr/>
          <p:nvPr/>
        </p:nvGrpSpPr>
        <p:grpSpPr>
          <a:xfrm>
            <a:off x="5562720" y="3048120"/>
            <a:ext cx="2695320" cy="2501640"/>
            <a:chOff x="5562720" y="3048120"/>
            <a:chExt cx="2695320" cy="2501640"/>
          </a:xfrm>
        </p:grpSpPr>
        <p:sp>
          <p:nvSpPr>
            <p:cNvPr id="4238" name=""/>
            <p:cNvSpPr/>
            <p:nvPr/>
          </p:nvSpPr>
          <p:spPr>
            <a:xfrm>
              <a:off x="5715000" y="50292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095880" y="3048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73152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5692680" y="4205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584680" y="5010120"/>
              <a:ext cx="266724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8258040" y="3543480"/>
              <a:ext cx="0" cy="14792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V="1">
              <a:off x="6973920" y="497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576760" y="3543480"/>
              <a:ext cx="1800" cy="14792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402680" y="3463920"/>
              <a:ext cx="419040" cy="1587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020000" y="3544920"/>
              <a:ext cx="0" cy="577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945480" y="4084560"/>
              <a:ext cx="168120" cy="4161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973920" y="3508200"/>
              <a:ext cx="7920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122880" y="3463920"/>
              <a:ext cx="419040" cy="1587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107040" y="3589200"/>
              <a:ext cx="57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375240" y="38862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021440" y="4503600"/>
              <a:ext cx="0" cy="497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6564240" y="3548160"/>
              <a:ext cx="838440" cy="1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812000" y="3554280"/>
              <a:ext cx="4431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5562720" y="3549240"/>
              <a:ext cx="582480" cy="1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7" name=""/>
            <p:cNvGrpSpPr/>
            <p:nvPr/>
          </p:nvGrpSpPr>
          <p:grpSpPr>
            <a:xfrm>
              <a:off x="7772400" y="3956040"/>
              <a:ext cx="457200" cy="609480"/>
              <a:chOff x="7772400" y="3956040"/>
              <a:chExt cx="457200" cy="609480"/>
            </a:xfrm>
          </p:grpSpPr>
          <mc:AlternateContent>
            <mc:Choice xmlns:a14="http://schemas.microsoft.com/office/drawing/2010/main" Requires="a14">
              <p:sp>
                <p:nvSpPr>
                  <p:cNvPr id="4258" name=""/>
                  <p:cNvSpPr txBox="1"/>
                  <p:nvPr/>
                </p:nvSpPr>
                <p:spPr>
                  <a:xfrm>
                    <a:off x="7772400" y="3956040"/>
                    <a:ext cx="39060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59" name=""/>
              <p:cNvSpPr/>
              <p:nvPr/>
            </p:nvSpPr>
            <p:spPr>
              <a:xfrm>
                <a:off x="8229600" y="395604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0" name=""/>
            <p:cNvSpPr/>
            <p:nvPr/>
          </p:nvSpPr>
          <p:spPr>
            <a:xfrm>
              <a:off x="6072480" y="35812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7399800" y="35812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485400" y="4267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3" name=""/>
          <p:cNvGrpSpPr/>
          <p:nvPr/>
        </p:nvGrpSpPr>
        <p:grpSpPr>
          <a:xfrm>
            <a:off x="1399680" y="5365800"/>
            <a:ext cx="4467600" cy="1111320"/>
            <a:chOff x="1399680" y="5365800"/>
            <a:chExt cx="4467600" cy="1111320"/>
          </a:xfrm>
        </p:grpSpPr>
        <mc:AlternateContent>
          <mc:Choice xmlns:a14="http://schemas.microsoft.com/office/drawing/2010/main" Requires="a14">
            <p:sp>
              <p:nvSpPr>
                <p:cNvPr id="4264" name=""/>
                <p:cNvSpPr txBox="1"/>
                <p:nvPr/>
              </p:nvSpPr>
              <p:spPr>
                <a:xfrm>
                  <a:off x="1427040" y="5905440"/>
                  <a:ext cx="21988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65" name=""/>
            <p:cNvSpPr/>
            <p:nvPr/>
          </p:nvSpPr>
          <p:spPr>
            <a:xfrm>
              <a:off x="1399680" y="5365800"/>
              <a:ext cx="28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等效电路可求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6" name=""/>
                <p:cNvSpPr txBox="1"/>
                <p:nvPr/>
              </p:nvSpPr>
              <p:spPr>
                <a:xfrm>
                  <a:off x="3581280" y="5867280"/>
                  <a:ext cx="228600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"/>
          <p:cNvSpPr/>
          <p:nvPr/>
        </p:nvSpPr>
        <p:spPr>
          <a:xfrm>
            <a:off x="5334120" y="609480"/>
            <a:ext cx="2514600" cy="2210040"/>
          </a:xfrm>
          <a:prstGeom prst="rect">
            <a:avLst/>
          </a:prstGeom>
          <a:noFill/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8" name=""/>
          <p:cNvGrpSpPr/>
          <p:nvPr/>
        </p:nvGrpSpPr>
        <p:grpSpPr>
          <a:xfrm>
            <a:off x="947520" y="2696400"/>
            <a:ext cx="2405160" cy="558000"/>
            <a:chOff x="947520" y="2696400"/>
            <a:chExt cx="2405160" cy="558000"/>
          </a:xfrm>
        </p:grpSpPr>
        <p:sp>
          <p:nvSpPr>
            <p:cNvPr id="4269" name=""/>
            <p:cNvSpPr/>
            <p:nvPr/>
          </p:nvSpPr>
          <p:spPr>
            <a:xfrm>
              <a:off x="947520" y="2696400"/>
              <a:ext cx="18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3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求时间常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0" name=""/>
                <p:cNvSpPr txBox="1"/>
                <p:nvPr/>
              </p:nvSpPr>
              <p:spPr>
                <a:xfrm>
                  <a:off x="2895480" y="2743200"/>
                  <a:ext cx="4572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71" name=""/>
              <p:cNvSpPr txBox="1"/>
              <p:nvPr/>
            </p:nvSpPr>
            <p:spPr>
              <a:xfrm>
                <a:off x="1171440" y="3538440"/>
                <a:ext cx="2684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2" name=""/>
              <p:cNvSpPr txBox="1"/>
              <p:nvPr/>
            </p:nvSpPr>
            <p:spPr>
              <a:xfrm>
                <a:off x="1066680" y="3200400"/>
                <a:ext cx="2514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273" name=""/>
          <p:cNvGrpSpPr/>
          <p:nvPr/>
        </p:nvGrpSpPr>
        <p:grpSpPr>
          <a:xfrm>
            <a:off x="457200" y="304920"/>
            <a:ext cx="4574880" cy="2286000"/>
            <a:chOff x="457200" y="304920"/>
            <a:chExt cx="4574880" cy="2286000"/>
          </a:xfrm>
        </p:grpSpPr>
        <p:sp>
          <p:nvSpPr>
            <p:cNvPr id="4274" name=""/>
            <p:cNvSpPr/>
            <p:nvPr/>
          </p:nvSpPr>
          <p:spPr>
            <a:xfrm>
              <a:off x="723600" y="1339920"/>
              <a:ext cx="516240" cy="500040"/>
            </a:xfrm>
            <a:prstGeom prst="ellipse">
              <a:avLst/>
            </a:prstGeom>
            <a:noFill/>
            <a:ln w="572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977760" y="806400"/>
              <a:ext cx="0" cy="533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 flipV="1">
              <a:off x="965160" y="795600"/>
              <a:ext cx="1336680" cy="1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963360" y="2552760"/>
              <a:ext cx="33814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31680" y="806400"/>
              <a:ext cx="0" cy="6400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831680" y="1417680"/>
              <a:ext cx="279720" cy="4809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H="1">
              <a:off x="1831680" y="1505160"/>
              <a:ext cx="268560" cy="307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96040" y="1828800"/>
              <a:ext cx="5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1833480" y="1836360"/>
              <a:ext cx="0" cy="7016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4231800" y="1498680"/>
              <a:ext cx="244440" cy="1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4217400" y="1660680"/>
              <a:ext cx="244440" cy="1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4217400" y="1811520"/>
              <a:ext cx="244440" cy="1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4338360" y="1957680"/>
              <a:ext cx="0" cy="6076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V="1">
              <a:off x="977760" y="1854360"/>
              <a:ext cx="0" cy="6984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20720" y="1594080"/>
              <a:ext cx="5173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1392120" y="135576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159200" y="1827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1" name=""/>
                <p:cNvSpPr txBox="1"/>
                <p:nvPr/>
              </p:nvSpPr>
              <p:spPr>
                <a:xfrm>
                  <a:off x="4533840" y="1381320"/>
                  <a:ext cx="4982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92" name=""/>
            <p:cNvSpPr/>
            <p:nvPr/>
          </p:nvSpPr>
          <p:spPr>
            <a:xfrm flipV="1">
              <a:off x="4356000" y="793800"/>
              <a:ext cx="0" cy="704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793880" y="2503440"/>
              <a:ext cx="7920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793880" y="757440"/>
              <a:ext cx="7920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566880" y="844560"/>
              <a:ext cx="7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457200" y="1692360"/>
              <a:ext cx="66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252520" y="3049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524040" y="30492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749400" y="167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0" name=""/>
            <p:cNvGrpSpPr/>
            <p:nvPr/>
          </p:nvGrpSpPr>
          <p:grpSpPr>
            <a:xfrm>
              <a:off x="4345200" y="1067040"/>
              <a:ext cx="383400" cy="1130040"/>
              <a:chOff x="4345200" y="1067040"/>
              <a:chExt cx="383400" cy="1130040"/>
            </a:xfrm>
          </p:grpSpPr>
          <p:sp>
            <p:nvSpPr>
              <p:cNvPr id="4301" name=""/>
              <p:cNvSpPr/>
              <p:nvPr/>
            </p:nvSpPr>
            <p:spPr>
              <a:xfrm>
                <a:off x="4363920" y="1676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345200" y="1067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3" name=""/>
            <p:cNvGrpSpPr/>
            <p:nvPr/>
          </p:nvGrpSpPr>
          <p:grpSpPr>
            <a:xfrm>
              <a:off x="2059200" y="712800"/>
              <a:ext cx="2210760" cy="1878120"/>
              <a:chOff x="2059200" y="712800"/>
              <a:chExt cx="2210760" cy="1878120"/>
            </a:xfrm>
          </p:grpSpPr>
          <p:sp>
            <p:nvSpPr>
              <p:cNvPr id="4304" name=""/>
              <p:cNvSpPr/>
              <p:nvPr/>
            </p:nvSpPr>
            <p:spPr>
              <a:xfrm>
                <a:off x="3597120" y="712800"/>
                <a:ext cx="419040" cy="1587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214440" y="793800"/>
                <a:ext cx="0" cy="730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139920" y="1487520"/>
                <a:ext cx="168120" cy="4161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903480" y="12945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2059200" y="1427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154320" y="2516400"/>
                <a:ext cx="81000" cy="7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168360" y="757440"/>
                <a:ext cx="7956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2317680" y="712800"/>
                <a:ext cx="419040" cy="1587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2590560" y="1371600"/>
                <a:ext cx="57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18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2301840" y="838440"/>
                <a:ext cx="574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18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2530440" y="175284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18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18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3216240" y="1905120"/>
                <a:ext cx="0" cy="685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flipV="1">
                <a:off x="2759040" y="797040"/>
                <a:ext cx="838080" cy="1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7" name=""/>
            <p:cNvSpPr/>
            <p:nvPr/>
          </p:nvSpPr>
          <p:spPr>
            <a:xfrm>
              <a:off x="4016160" y="800280"/>
              <a:ext cx="3430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5486400" y="609480"/>
            <a:ext cx="2801520" cy="2003040"/>
            <a:chOff x="5486400" y="609480"/>
            <a:chExt cx="2801520" cy="2003040"/>
          </a:xfrm>
        </p:grpSpPr>
        <p:sp>
          <p:nvSpPr>
            <p:cNvPr id="4319" name=""/>
            <p:cNvSpPr/>
            <p:nvPr/>
          </p:nvSpPr>
          <p:spPr>
            <a:xfrm>
              <a:off x="6019920" y="609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238880" y="6094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5616720" y="176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5508720" y="2571840"/>
              <a:ext cx="26668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V="1">
              <a:off x="6897600" y="2536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5500800" y="1143000"/>
              <a:ext cx="0" cy="1447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7326360" y="1025640"/>
              <a:ext cx="419040" cy="1587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943680" y="1106640"/>
              <a:ext cx="0" cy="577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6869160" y="1646280"/>
              <a:ext cx="168120" cy="41580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897600" y="1069920"/>
              <a:ext cx="7956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046920" y="1025640"/>
              <a:ext cx="419040" cy="15876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6031080" y="1150920"/>
              <a:ext cx="574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6299280" y="14479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18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945480" y="2065320"/>
              <a:ext cx="0" cy="496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V="1">
              <a:off x="6488280" y="1109160"/>
              <a:ext cx="838080" cy="1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7736040" y="1116000"/>
              <a:ext cx="4428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V="1">
              <a:off x="5486400" y="1111320"/>
              <a:ext cx="582480" cy="1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8021160" y="1523880"/>
              <a:ext cx="266760" cy="15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8021160" y="1701720"/>
              <a:ext cx="26676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8021160" y="1844640"/>
              <a:ext cx="266760" cy="1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10835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10835809"/>
                </a:path>
              </a:pathLst>
            </a:custGeom>
            <a:noFill/>
            <a:ln cap="rnd"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8182080" y="1104840"/>
              <a:ext cx="0" cy="4953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8188200" y="1981080"/>
              <a:ext cx="0" cy="6098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323480" y="11430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333120" y="18288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7785000" y="1523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4" name=""/>
              <p:cNvSpPr txBox="1"/>
              <p:nvPr/>
            </p:nvSpPr>
            <p:spPr>
              <a:xfrm>
                <a:off x="1004760" y="5410080"/>
                <a:ext cx="31705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5" name=""/>
              <p:cNvSpPr txBox="1"/>
              <p:nvPr/>
            </p:nvSpPr>
            <p:spPr>
              <a:xfrm>
                <a:off x="1084320" y="4435560"/>
                <a:ext cx="31654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46" name=""/>
          <p:cNvSpPr/>
          <p:nvPr/>
        </p:nvSpPr>
        <p:spPr>
          <a:xfrm>
            <a:off x="5295960" y="4610160"/>
            <a:ext cx="2727360" cy="1179360"/>
          </a:xfrm>
          <a:custGeom>
            <a:avLst/>
            <a:gdLst/>
            <a:ahLst/>
            <a:rect l="l" t="t" r="r" b="b"/>
            <a:pathLst>
              <a:path w="1200" h="576">
                <a:moveTo>
                  <a:pt x="0" y="576"/>
                </a:moveTo>
                <a:cubicBezTo>
                  <a:pt x="44" y="432"/>
                  <a:pt x="88" y="288"/>
                  <a:pt x="288" y="192"/>
                </a:cubicBezTo>
                <a:cubicBezTo>
                  <a:pt x="488" y="96"/>
                  <a:pt x="844" y="48"/>
                  <a:pt x="120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7" name=""/>
          <p:cNvGrpSpPr/>
          <p:nvPr/>
        </p:nvGrpSpPr>
        <p:grpSpPr>
          <a:xfrm>
            <a:off x="4551120" y="5413320"/>
            <a:ext cx="1738800" cy="581400"/>
            <a:chOff x="4551120" y="5413320"/>
            <a:chExt cx="1738800" cy="581400"/>
          </a:xfrm>
        </p:grpSpPr>
        <p:sp>
          <p:nvSpPr>
            <p:cNvPr id="4348" name=""/>
            <p:cNvSpPr/>
            <p:nvPr/>
          </p:nvSpPr>
          <p:spPr>
            <a:xfrm>
              <a:off x="5560560" y="548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起始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4551120" y="5413320"/>
              <a:ext cx="75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4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0" name=""/>
          <p:cNvSpPr/>
          <p:nvPr/>
        </p:nvSpPr>
        <p:spPr>
          <a:xfrm>
            <a:off x="7427520" y="4691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稳态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1" name=""/>
          <p:cNvGrpSpPr/>
          <p:nvPr/>
        </p:nvGrpSpPr>
        <p:grpSpPr>
          <a:xfrm>
            <a:off x="4650120" y="3476520"/>
            <a:ext cx="3350520" cy="1058760"/>
            <a:chOff x="4650120" y="3476520"/>
            <a:chExt cx="3350520" cy="1058760"/>
          </a:xfrm>
        </p:grpSpPr>
        <p:sp>
          <p:nvSpPr>
            <p:cNvPr id="4352" name=""/>
            <p:cNvSpPr/>
            <p:nvPr/>
          </p:nvSpPr>
          <p:spPr>
            <a:xfrm flipV="1">
              <a:off x="5271840" y="3650400"/>
              <a:ext cx="2728800" cy="884880"/>
            </a:xfrm>
            <a:custGeom>
              <a:avLst/>
              <a:gdLst/>
              <a:ahLst/>
              <a:rect l="l" t="t" r="r" b="b"/>
              <a:pathLst>
                <a:path w="1200" h="576">
                  <a:moveTo>
                    <a:pt x="0" y="576"/>
                  </a:moveTo>
                  <a:cubicBezTo>
                    <a:pt x="44" y="432"/>
                    <a:pt x="88" y="288"/>
                    <a:pt x="288" y="192"/>
                  </a:cubicBezTo>
                  <a:cubicBezTo>
                    <a:pt x="488" y="96"/>
                    <a:pt x="844" y="48"/>
                    <a:pt x="1200" y="0"/>
                  </a:cubicBez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650120" y="347652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4801680" y="2743200"/>
            <a:ext cx="3951720" cy="3580920"/>
            <a:chOff x="4801680" y="2743200"/>
            <a:chExt cx="3951720" cy="3580920"/>
          </a:xfrm>
        </p:grpSpPr>
        <p:grpSp>
          <p:nvGrpSpPr>
            <p:cNvPr id="4355" name=""/>
            <p:cNvGrpSpPr/>
            <p:nvPr/>
          </p:nvGrpSpPr>
          <p:grpSpPr>
            <a:xfrm>
              <a:off x="4801680" y="2743200"/>
              <a:ext cx="3929400" cy="3580920"/>
              <a:chOff x="4801680" y="2743200"/>
              <a:chExt cx="3929400" cy="3580920"/>
            </a:xfrm>
          </p:grpSpPr>
          <p:sp>
            <p:nvSpPr>
              <p:cNvPr id="4356" name=""/>
              <p:cNvSpPr/>
              <p:nvPr/>
            </p:nvSpPr>
            <p:spPr>
              <a:xfrm>
                <a:off x="5278320" y="4581360"/>
                <a:ext cx="345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5289480" y="2971440"/>
                <a:ext cx="0" cy="335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8298000" y="4016160"/>
                <a:ext cx="39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59" name=""/>
                  <p:cNvSpPr txBox="1"/>
                  <p:nvPr/>
                </p:nvSpPr>
                <p:spPr>
                  <a:xfrm>
                    <a:off x="5330880" y="2743200"/>
                    <a:ext cx="49032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60" name=""/>
              <p:cNvSpPr/>
              <p:nvPr/>
            </p:nvSpPr>
            <p:spPr>
              <a:xfrm>
                <a:off x="4801680" y="4267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61" name=""/>
                  <p:cNvSpPr txBox="1"/>
                  <p:nvPr/>
                </p:nvSpPr>
                <p:spPr>
                  <a:xfrm>
                    <a:off x="5811840" y="2819160"/>
                    <a:ext cx="5904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362" name=""/>
            <p:cNvSpPr/>
            <p:nvPr/>
          </p:nvSpPr>
          <p:spPr>
            <a:xfrm>
              <a:off x="8460000" y="4572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3" name=""/>
          <p:cNvSpPr/>
          <p:nvPr/>
        </p:nvSpPr>
        <p:spPr>
          <a:xfrm>
            <a:off x="6213600" y="5805360"/>
            <a:ext cx="19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, 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251000" y="3886200"/>
            <a:ext cx="5149800" cy="609480"/>
            <a:chOff x="1251000" y="3886200"/>
            <a:chExt cx="5149800" cy="609480"/>
          </a:xfrm>
        </p:grpSpPr>
        <p:sp>
          <p:nvSpPr>
            <p:cNvPr id="256" name=""/>
            <p:cNvSpPr/>
            <p:nvPr/>
          </p:nvSpPr>
          <p:spPr>
            <a:xfrm>
              <a:off x="1251000" y="3886200"/>
              <a:ext cx="22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电容电路</a:t>
              </a: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098880" y="3932280"/>
                  <a:ext cx="330192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8" name=""/>
          <p:cNvSpPr/>
          <p:nvPr/>
        </p:nvSpPr>
        <p:spPr>
          <a:xfrm>
            <a:off x="685800" y="4648320"/>
            <a:ext cx="7848720" cy="118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：换路定则仅用于换路瞬间来确定暂态过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初始值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523880"/>
            <a:ext cx="8001000" cy="2286000"/>
            <a:chOff x="533520" y="1523880"/>
            <a:chExt cx="8001000" cy="2286000"/>
          </a:xfrm>
        </p:grpSpPr>
        <p:sp>
          <p:nvSpPr>
            <p:cNvPr id="260" name=""/>
            <p:cNvSpPr/>
            <p:nvPr/>
          </p:nvSpPr>
          <p:spPr>
            <a:xfrm>
              <a:off x="533520" y="1523880"/>
              <a:ext cx="800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0120" y="1676520"/>
              <a:ext cx="766764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设：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=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 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表示换路瞬间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定为计时起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表示换路前的终了瞬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表示换路后的初始瞬间（初始值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09120" y="685800"/>
            <a:ext cx="2971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换路定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51000" y="3336840"/>
            <a:ext cx="4997520" cy="549000"/>
            <a:chOff x="1251000" y="3336840"/>
            <a:chExt cx="4997520" cy="549000"/>
          </a:xfrm>
        </p:grpSpPr>
        <p:sp>
          <p:nvSpPr>
            <p:cNvPr id="264" name=""/>
            <p:cNvSpPr/>
            <p:nvPr/>
          </p:nvSpPr>
          <p:spPr>
            <a:xfrm>
              <a:off x="1251000" y="333684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电感电路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203640" y="3336840"/>
                  <a:ext cx="304488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6" name=""/>
          <p:cNvGrpSpPr/>
          <p:nvPr/>
        </p:nvGrpSpPr>
        <p:grpSpPr>
          <a:xfrm>
            <a:off x="523800" y="1352520"/>
            <a:ext cx="3362400" cy="171360"/>
            <a:chOff x="523800" y="1352520"/>
            <a:chExt cx="3362400" cy="17136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2038320" y="13525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2200320" y="13525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2352600" y="1352520"/>
              <a:ext cx="171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2495520" y="13525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1" name=""/>
            <p:cNvGrpSpPr/>
            <p:nvPr/>
          </p:nvGrpSpPr>
          <p:grpSpPr>
            <a:xfrm>
              <a:off x="523800" y="1352520"/>
              <a:ext cx="1390320" cy="171360"/>
              <a:chOff x="523800" y="1352520"/>
              <a:chExt cx="1390320" cy="171360"/>
            </a:xfrm>
          </p:grpSpPr>
          <p:pic>
            <p:nvPicPr>
              <p:cNvPr id="27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800" y="13525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360" y="13525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8360" y="13525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3560" y="13525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85560" y="13525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38200" y="13525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80760" y="13525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42760" y="13525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81000" y="13525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1" name="" descr=""/>
            <p:cNvPicPr/>
            <p:nvPr/>
          </p:nvPicPr>
          <p:blipFill>
            <a:blip r:embed="rId16"/>
            <a:stretch/>
          </p:blipFill>
          <p:spPr>
            <a:xfrm>
              <a:off x="1895400" y="1352520"/>
              <a:ext cx="171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7"/>
            <a:stretch/>
          </p:blipFill>
          <p:spPr>
            <a:xfrm>
              <a:off x="2657520" y="1352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8"/>
            <a:stretch/>
          </p:blipFill>
          <p:spPr>
            <a:xfrm>
              <a:off x="2809800" y="1352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9"/>
            <a:stretch/>
          </p:blipFill>
          <p:spPr>
            <a:xfrm>
              <a:off x="2952720" y="1352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0"/>
            <a:stretch/>
          </p:blipFill>
          <p:spPr>
            <a:xfrm>
              <a:off x="3114720" y="1352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21"/>
            <a:stretch/>
          </p:blipFill>
          <p:spPr>
            <a:xfrm>
              <a:off x="3267000" y="1352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2"/>
            <a:stretch/>
          </p:blipFill>
          <p:spPr>
            <a:xfrm>
              <a:off x="3409920" y="1352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3"/>
            <a:stretch/>
          </p:blipFill>
          <p:spPr>
            <a:xfrm>
              <a:off x="3571920" y="1352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4"/>
            <a:stretch/>
          </p:blipFill>
          <p:spPr>
            <a:xfrm>
              <a:off x="3724200" y="135252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6553080" y="152280"/>
            <a:ext cx="1752480" cy="1142640"/>
            <a:chOff x="6553080" y="152280"/>
            <a:chExt cx="1752480" cy="1142640"/>
          </a:xfrm>
        </p:grpSpPr>
        <p:sp>
          <p:nvSpPr>
            <p:cNvPr id="291" name=""/>
            <p:cNvSpPr/>
            <p:nvPr/>
          </p:nvSpPr>
          <p:spPr>
            <a:xfrm>
              <a:off x="6553080" y="152280"/>
              <a:ext cx="876240" cy="1000080"/>
            </a:xfrm>
            <a:custGeom>
              <a:avLst/>
              <a:gdLst>
                <a:gd name="textAreaLeft" fmla="*/ 361080 w 876240"/>
                <a:gd name="textAreaRight" fmla="*/ 515160 w 876240"/>
                <a:gd name="textAreaTop" fmla="*/ 412200 h 1000080"/>
                <a:gd name="textAreaBottom" fmla="*/ 587880 h 10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75120" y="580680"/>
              <a:ext cx="730440" cy="714240"/>
            </a:xfrm>
            <a:custGeom>
              <a:avLst/>
              <a:gdLst>
                <a:gd name="textAreaLeft" fmla="*/ 300960 w 730440"/>
                <a:gd name="textAreaRight" fmla="*/ 429480 w 730440"/>
                <a:gd name="textAreaTop" fmla="*/ 294120 h 714240"/>
                <a:gd name="textAreaBottom" fmla="*/ 42012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54080" y="380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初始值的确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98560" y="1685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解要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19200" y="3798720"/>
            <a:ext cx="944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其它电量初始值的求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143000"/>
            <a:ext cx="7848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始值：电路中各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 baseline="26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数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0600" y="2203560"/>
            <a:ext cx="398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 0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 0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求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45800" y="2743200"/>
            <a:ext cx="602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由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路求出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61720" y="3290760"/>
            <a:ext cx="520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换路定律求出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84640" y="4451400"/>
            <a:ext cx="458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路求其它电量的初始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76760" y="4987800"/>
            <a:ext cx="54946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电压方程中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电流方程中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76120" y="914400"/>
            <a:ext cx="7953480" cy="171360"/>
            <a:chOff x="276120" y="914400"/>
            <a:chExt cx="7953480" cy="171360"/>
          </a:xfrm>
        </p:grpSpPr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1790640" y="9144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1952640" y="9144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104920" y="9144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2247840" y="9144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76120" y="914400"/>
              <a:ext cx="1390320" cy="171360"/>
              <a:chOff x="276120" y="914400"/>
              <a:chExt cx="1390320" cy="171360"/>
            </a:xfrm>
          </p:grpSpPr>
          <p:pic>
            <p:nvPicPr>
              <p:cNvPr id="3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6120" y="9144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8680" y="9144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0680" y="9144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75880" y="9144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37880" y="9144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90520" y="9144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33080" y="9144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95080" y="9144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3320" y="9144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1647720" y="9144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16"/>
            <a:stretch/>
          </p:blipFill>
          <p:spPr>
            <a:xfrm>
              <a:off x="24098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25621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27050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28670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0"/>
            <a:stretch/>
          </p:blipFill>
          <p:spPr>
            <a:xfrm>
              <a:off x="30193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1"/>
            <a:stretch/>
          </p:blipFill>
          <p:spPr>
            <a:xfrm>
              <a:off x="31622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2"/>
            <a:stretch/>
          </p:blipFill>
          <p:spPr>
            <a:xfrm>
              <a:off x="33242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23"/>
            <a:stretch/>
          </p:blipFill>
          <p:spPr>
            <a:xfrm>
              <a:off x="36194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24"/>
            <a:stretch/>
          </p:blipFill>
          <p:spPr>
            <a:xfrm>
              <a:off x="37814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5"/>
            <a:stretch/>
          </p:blipFill>
          <p:spPr>
            <a:xfrm>
              <a:off x="39337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26"/>
            <a:stretch/>
          </p:blipFill>
          <p:spPr>
            <a:xfrm>
              <a:off x="40766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7"/>
            <a:stretch/>
          </p:blipFill>
          <p:spPr>
            <a:xfrm>
              <a:off x="42386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28"/>
            <a:stretch/>
          </p:blipFill>
          <p:spPr>
            <a:xfrm>
              <a:off x="45338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29"/>
            <a:stretch/>
          </p:blipFill>
          <p:spPr>
            <a:xfrm>
              <a:off x="46958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30"/>
            <a:stretch/>
          </p:blipFill>
          <p:spPr>
            <a:xfrm>
              <a:off x="48481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1"/>
            <a:stretch/>
          </p:blipFill>
          <p:spPr>
            <a:xfrm>
              <a:off x="49910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2"/>
            <a:stretch/>
          </p:blipFill>
          <p:spPr>
            <a:xfrm>
              <a:off x="34765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33"/>
            <a:stretch/>
          </p:blipFill>
          <p:spPr>
            <a:xfrm>
              <a:off x="43909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34"/>
            <a:stretch/>
          </p:blipFill>
          <p:spPr>
            <a:xfrm>
              <a:off x="51530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35"/>
            <a:stretch/>
          </p:blipFill>
          <p:spPr>
            <a:xfrm>
              <a:off x="53053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36"/>
            <a:stretch/>
          </p:blipFill>
          <p:spPr>
            <a:xfrm>
              <a:off x="54482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7"/>
            <a:stretch/>
          </p:blipFill>
          <p:spPr>
            <a:xfrm>
              <a:off x="56102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38"/>
            <a:stretch/>
          </p:blipFill>
          <p:spPr>
            <a:xfrm>
              <a:off x="57625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39"/>
            <a:stretch/>
          </p:blipFill>
          <p:spPr>
            <a:xfrm>
              <a:off x="59054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40"/>
            <a:stretch/>
          </p:blipFill>
          <p:spPr>
            <a:xfrm>
              <a:off x="60674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41"/>
            <a:stretch/>
          </p:blipFill>
          <p:spPr>
            <a:xfrm>
              <a:off x="63626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2"/>
            <a:stretch/>
          </p:blipFill>
          <p:spPr>
            <a:xfrm>
              <a:off x="65246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43"/>
            <a:stretch/>
          </p:blipFill>
          <p:spPr>
            <a:xfrm>
              <a:off x="66769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44"/>
            <a:stretch/>
          </p:blipFill>
          <p:spPr>
            <a:xfrm>
              <a:off x="681984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45"/>
            <a:stretch/>
          </p:blipFill>
          <p:spPr>
            <a:xfrm>
              <a:off x="6981840" y="91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46"/>
            <a:stretch/>
          </p:blipFill>
          <p:spPr>
            <a:xfrm>
              <a:off x="621972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47"/>
            <a:stretch/>
          </p:blipFill>
          <p:spPr>
            <a:xfrm>
              <a:off x="7134120" y="9144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48"/>
            <a:stretch/>
          </p:blipFill>
          <p:spPr>
            <a:xfrm>
              <a:off x="728640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9"/>
            <a:stretch/>
          </p:blipFill>
          <p:spPr>
            <a:xfrm>
              <a:off x="744840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0"/>
            <a:stretch/>
          </p:blipFill>
          <p:spPr>
            <a:xfrm>
              <a:off x="760068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51"/>
            <a:stretch/>
          </p:blipFill>
          <p:spPr>
            <a:xfrm>
              <a:off x="774360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52"/>
            <a:stretch/>
          </p:blipFill>
          <p:spPr>
            <a:xfrm>
              <a:off x="7905600" y="91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3"/>
            <a:stretch/>
          </p:blipFill>
          <p:spPr>
            <a:xfrm>
              <a:off x="8057880" y="91440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0160" y="457200"/>
            <a:ext cx="403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694"/>
                </a:solidFill>
                <a:latin typeface="Times New Roman"/>
              </a:rPr>
              <a:t>暂态过程初始值的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5126040"/>
            <a:ext cx="12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69880" y="3611520"/>
            <a:ext cx="6330960" cy="674640"/>
            <a:chOff x="569880" y="3611520"/>
            <a:chExt cx="6330960" cy="674640"/>
          </a:xfrm>
        </p:grpSpPr>
        <p:sp>
          <p:nvSpPr>
            <p:cNvPr id="360" name=""/>
            <p:cNvSpPr/>
            <p:nvPr/>
          </p:nvSpPr>
          <p:spPr>
            <a:xfrm>
              <a:off x="569880" y="3611520"/>
              <a:ext cx="9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55680" y="3673440"/>
              <a:ext cx="32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1)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由换路前电路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4425840" y="3659040"/>
                  <a:ext cx="247500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1251000" y="4346640"/>
            <a:ext cx="6064200" cy="606240"/>
            <a:chOff x="1251000" y="4346640"/>
            <a:chExt cx="6064200" cy="606240"/>
          </a:xfrm>
        </p:grpSpPr>
        <p:sp>
          <p:nvSpPr>
            <p:cNvPr id="364" name=""/>
            <p:cNvSpPr/>
            <p:nvPr/>
          </p:nvSpPr>
          <p:spPr>
            <a:xfrm>
              <a:off x="1251000" y="4346640"/>
              <a:ext cx="23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已知条件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733920" y="4381560"/>
                  <a:ext cx="35812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6" name=""/>
          <p:cNvGrpSpPr/>
          <p:nvPr/>
        </p:nvGrpSpPr>
        <p:grpSpPr>
          <a:xfrm>
            <a:off x="1219320" y="5029200"/>
            <a:ext cx="5943600" cy="1197000"/>
            <a:chOff x="1219320" y="5029200"/>
            <a:chExt cx="5943600" cy="1197000"/>
          </a:xfrm>
        </p:grpSpPr>
        <p:sp>
          <p:nvSpPr>
            <p:cNvPr id="367" name=""/>
            <p:cNvSpPr/>
            <p:nvPr/>
          </p:nvSpPr>
          <p:spPr>
            <a:xfrm>
              <a:off x="1219320" y="504972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根据换路定则得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4267080" y="5029200"/>
                  <a:ext cx="28958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4344840" y="5638680"/>
                  <a:ext cx="27417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"/>
          <p:cNvSpPr/>
          <p:nvPr/>
        </p:nvSpPr>
        <p:spPr>
          <a:xfrm>
            <a:off x="4572000" y="1212840"/>
            <a:ext cx="4343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换路前电路处稳态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未储能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：电路中各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16920" y="842760"/>
            <a:ext cx="3631320" cy="2768040"/>
            <a:chOff x="916920" y="842760"/>
            <a:chExt cx="3631320" cy="2768040"/>
          </a:xfrm>
        </p:grpSpPr>
        <p:grpSp>
          <p:nvGrpSpPr>
            <p:cNvPr id="372" name=""/>
            <p:cNvGrpSpPr/>
            <p:nvPr/>
          </p:nvGrpSpPr>
          <p:grpSpPr>
            <a:xfrm>
              <a:off x="916920" y="842760"/>
              <a:ext cx="3631320" cy="2768040"/>
              <a:chOff x="916920" y="842760"/>
              <a:chExt cx="3631320" cy="2768040"/>
            </a:xfrm>
          </p:grpSpPr>
          <p:sp>
            <p:nvSpPr>
              <p:cNvPr id="373" name=""/>
              <p:cNvSpPr/>
              <p:nvPr/>
            </p:nvSpPr>
            <p:spPr>
              <a:xfrm>
                <a:off x="1906920" y="842760"/>
                <a:ext cx="3787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460600" y="3004920"/>
                <a:ext cx="6634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a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200000">
                <a:off x="3432960" y="1438920"/>
                <a:ext cx="171360" cy="331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683160" y="160344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017880" y="160344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03680" y="1436760"/>
                <a:ext cx="0" cy="34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78040" y="1436760"/>
                <a:ext cx="0" cy="34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781000" y="1608120"/>
                <a:ext cx="29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403360" y="1608120"/>
                <a:ext cx="30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74880" y="1562040"/>
                <a:ext cx="82440" cy="85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1925640" y="1369800"/>
                <a:ext cx="385920" cy="19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4" name=""/>
              <p:cNvCxnSpPr/>
              <p:nvPr/>
            </p:nvCxnSpPr>
            <p:spPr>
              <a:xfrm>
                <a:off x="1833480" y="1379520"/>
                <a:ext cx="332640" cy="334080"/>
              </a:xfrm>
              <a:prstGeom prst="curvedConnector5">
                <a:avLst>
                  <a:gd name="adj1" fmla="val 87432"/>
                  <a:gd name="adj2" fmla="val 49946"/>
                  <a:gd name="adj3" fmla="val 87432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5" name=""/>
              <p:cNvSpPr/>
              <p:nvPr/>
            </p:nvSpPr>
            <p:spPr>
              <a:xfrm>
                <a:off x="1459080" y="160488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9080" y="3105000"/>
                <a:ext cx="255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514600" y="914040"/>
                <a:ext cx="3333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214880" y="2106720"/>
                <a:ext cx="33336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16920" y="2063520"/>
                <a:ext cx="525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24880" y="912240"/>
                <a:ext cx="52056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29640" y="1996200"/>
                <a:ext cx="52056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95320" y="1547280"/>
                <a:ext cx="6606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995640" y="2216160"/>
                <a:ext cx="8280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995280" y="2013120"/>
                <a:ext cx="10332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995640" y="2430360"/>
                <a:ext cx="8280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4068720" y="2013120"/>
                <a:ext cx="74520" cy="642600"/>
                <a:chOff x="4068720" y="2013120"/>
                <a:chExt cx="74520" cy="6426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068720" y="2013120"/>
                  <a:ext cx="74520" cy="21420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068720" y="2227320"/>
                  <a:ext cx="74520" cy="21420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068720" y="2441520"/>
                  <a:ext cx="74520" cy="21420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H="1">
                <a:off x="3995640" y="2644920"/>
                <a:ext cx="82800" cy="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95640" y="2633760"/>
                <a:ext cx="0" cy="47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995640" y="1616040"/>
                <a:ext cx="0" cy="42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03200" y="2182680"/>
                <a:ext cx="331920" cy="343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68440" y="1584360"/>
                <a:ext cx="0" cy="154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36520" y="1650240"/>
                <a:ext cx="331920" cy="13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24280" y="2184480"/>
                <a:ext cx="166680" cy="341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08160" y="2525760"/>
                <a:ext cx="0" cy="60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008160" y="1584000"/>
                <a:ext cx="0" cy="60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639240" y="19954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flipV="1">
              <a:off x="2925720" y="300132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25720" y="152388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00:19:44Z</dcterms:created>
  <dc:creator>王香婷</dc:creator>
  <dc:description/>
  <dc:language>en-US</dc:language>
  <cp:lastModifiedBy>王香婷</cp:lastModifiedBy>
  <dcterms:modified xsi:type="dcterms:W3CDTF">2003-07-31T20:43:28Z</dcterms:modified>
  <cp:revision>10</cp:revision>
  <dc:subject/>
  <dc:title>PowerPoint 演示文稿</dc:title>
</cp:coreProperties>
</file>