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D:/xtw/&#25945;&#23398;&#35838;&#20214;&#65288;&#20132;&#20986;&#29256;&#31038;&#31295;&#65289;/&#30005;&#23376;&#25945;&#26448;&#19982;&#21160;&#30011;(&#20132;&#20986;&#29256;&#31038;&#23450;&#31295;)/&#30005;&#24037;&#25216;&#26415;/&#25945;&#23398;&#35838;&#20214;/&#30005;&#24037;&#25216;&#26415;.ppt" TargetMode="External"/><Relationship Id="rId4" Type="http://schemas.openxmlformats.org/officeDocument/2006/relationships/hyperlink" Target="file:///D:/xtw/&#25945;&#23398;&#35838;&#20214;&#65288;&#20132;&#20986;&#29256;&#31038;&#31295;&#65289;/&#30005;&#23376;&#25945;&#26448;&#19982;&#21160;&#30011;(&#20132;&#20986;&#29256;&#31038;&#23450;&#31295;)/&#30005;&#24037;&#25216;&#26415;/&#25945;&#23398;&#35838;&#20214;/&#30005;&#24037;&#25216;&#26415;.ppt" TargetMode="External"/><Relationship Id="rId5" Type="http://schemas.openxmlformats.org/officeDocument/2006/relationships/hyperlink" Target="file:///&#30005;&#24037;&#25216;&#26415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/>
          </p:cNvPr>
          <p:cNvSpPr/>
          <p:nvPr/>
        </p:nvSpPr>
        <p:spPr>
          <a:xfrm>
            <a:off x="6324480" y="6477120"/>
            <a:ext cx="50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4"/>
          </p:cNvPr>
          <p:cNvSpPr/>
          <p:nvPr/>
        </p:nvSpPr>
        <p:spPr>
          <a:xfrm>
            <a:off x="6324480" y="6477120"/>
            <a:ext cx="5335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5"/>
          </p:cNvPr>
          <p:cNvSpPr/>
          <p:nvPr/>
        </p:nvSpPr>
        <p:spPr>
          <a:xfrm>
            <a:off x="6324480" y="6477120"/>
            <a:ext cx="533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2448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9.xml"/><Relationship Id="rId5" Type="http://schemas.openxmlformats.org/officeDocument/2006/relationships/slide" Target="slide14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zl1.exe" TargetMode="External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zl2.exe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9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直流电动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500120" y="180324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9.1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直流电机的构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482840" y="2413080"/>
            <a:ext cx="65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9.2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 </a:t>
            </a:r>
            <a:r>
              <a:rPr b="0" lang="zh-CN" sz="28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直流电机的基本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503360" y="3733920"/>
            <a:ext cx="72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9.4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_x0001_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并励电动机的起动与反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511280" y="3048120"/>
            <a:ext cx="60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9.3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 </a:t>
            </a:r>
            <a:r>
              <a:rPr b="0" lang="zh-CN" sz="28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直流电动机的机械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2026800" y="4419720"/>
            <a:ext cx="37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9.5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_x0001_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并励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他励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电动机的调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2611440" y="3214080"/>
            <a:ext cx="1425240" cy="521280"/>
            <a:chOff x="2611440" y="3214080"/>
            <a:chExt cx="1425240" cy="521280"/>
          </a:xfrm>
        </p:grpSpPr>
        <p:sp>
          <p:nvSpPr>
            <p:cNvPr id="502" name=""/>
            <p:cNvSpPr/>
            <p:nvPr/>
          </p:nvSpPr>
          <p:spPr>
            <a:xfrm>
              <a:off x="3157560" y="321408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11440" y="321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56160" y="32148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38680" y="928080"/>
            <a:ext cx="549000" cy="520560"/>
            <a:chOff x="5638680" y="928080"/>
            <a:chExt cx="549000" cy="520560"/>
          </a:xfrm>
        </p:grpSpPr>
        <p:sp>
          <p:nvSpPr>
            <p:cNvPr id="506" name=""/>
            <p:cNvSpPr/>
            <p:nvPr/>
          </p:nvSpPr>
          <p:spPr>
            <a:xfrm flipV="1">
              <a:off x="5638680" y="928440"/>
              <a:ext cx="457200" cy="212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15080" y="92808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_x0001_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19920" y="1828080"/>
            <a:ext cx="549000" cy="520560"/>
            <a:chOff x="6019920" y="1828080"/>
            <a:chExt cx="549000" cy="520560"/>
          </a:xfrm>
        </p:grpSpPr>
        <p:sp>
          <p:nvSpPr>
            <p:cNvPr id="509" name=""/>
            <p:cNvSpPr/>
            <p:nvPr/>
          </p:nvSpPr>
          <p:spPr>
            <a:xfrm flipV="1">
              <a:off x="6019920" y="1828440"/>
              <a:ext cx="457200" cy="212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96320" y="182808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_x0001_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362320" y="166680"/>
            <a:ext cx="5729040" cy="3387600"/>
            <a:chOff x="2362320" y="166680"/>
            <a:chExt cx="5729040" cy="3387600"/>
          </a:xfrm>
        </p:grpSpPr>
        <p:sp>
          <p:nvSpPr>
            <p:cNvPr id="512" name=""/>
            <p:cNvSpPr/>
            <p:nvPr/>
          </p:nvSpPr>
          <p:spPr>
            <a:xfrm>
              <a:off x="2362320" y="6890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 rot="13267200">
              <a:off x="7035120" y="888480"/>
              <a:ext cx="635040" cy="127080"/>
            </a:xfrm>
            <a:custGeom>
              <a:avLst/>
              <a:gdLst/>
              <a:ahLst/>
              <a:rect l="l" t="t" r="r" b="b"/>
              <a:pathLst>
                <a:path w="720" h="192">
                  <a:moveTo>
                    <a:pt x="0" y="192"/>
                  </a:moveTo>
                  <a:cubicBezTo>
                    <a:pt x="108" y="96"/>
                    <a:pt x="216" y="0"/>
                    <a:pt x="336" y="0"/>
                  </a:cubicBezTo>
                  <a:cubicBezTo>
                    <a:pt x="456" y="0"/>
                    <a:pt x="656" y="160"/>
                    <a:pt x="720" y="19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7116120" y="132552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 rot="13267200">
              <a:off x="6780960" y="1091880"/>
              <a:ext cx="635040" cy="127080"/>
            </a:xfrm>
            <a:custGeom>
              <a:avLst/>
              <a:gdLst/>
              <a:ahLst/>
              <a:rect l="l" t="t" r="r" b="b"/>
              <a:pathLst>
                <a:path w="720" h="192">
                  <a:moveTo>
                    <a:pt x="0" y="192"/>
                  </a:moveTo>
                  <a:cubicBezTo>
                    <a:pt x="108" y="96"/>
                    <a:pt x="216" y="0"/>
                    <a:pt x="336" y="0"/>
                  </a:cubicBezTo>
                  <a:cubicBezTo>
                    <a:pt x="456" y="0"/>
                    <a:pt x="656" y="160"/>
                    <a:pt x="720" y="19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7459200" y="10206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_x0001_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61120" y="16668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06960" y="868320"/>
              <a:ext cx="0" cy="67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84640" y="2666880"/>
              <a:ext cx="0" cy="67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64000" y="27853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84520" y="4604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83680" y="31896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_x0001_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14960" y="888840"/>
              <a:ext cx="0" cy="67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214960" y="633240"/>
              <a:ext cx="19461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84880" y="180180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4184640" y="2354400"/>
              <a:ext cx="70956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 rot="3948600">
              <a:off x="6753240" y="529200"/>
              <a:ext cx="826200" cy="165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77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7722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17200" y="85176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48480" y="123336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_x0001_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359320" y="1537560"/>
              <a:ext cx="736560" cy="520560"/>
              <a:chOff x="5359320" y="1537560"/>
              <a:chExt cx="736560" cy="520560"/>
            </a:xfrm>
          </p:grpSpPr>
          <p:sp>
            <p:nvSpPr>
              <p:cNvPr id="531" name=""/>
              <p:cNvSpPr/>
              <p:nvPr/>
            </p:nvSpPr>
            <p:spPr>
              <a:xfrm flipH="1">
                <a:off x="5638680" y="18288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59320" y="1537560"/>
                <a:ext cx="36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_x0001_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095880" y="837360"/>
              <a:ext cx="584280" cy="520560"/>
              <a:chOff x="6095880" y="837360"/>
              <a:chExt cx="584280" cy="520560"/>
            </a:xfrm>
          </p:grpSpPr>
          <p:sp>
            <p:nvSpPr>
              <p:cNvPr id="534" name=""/>
              <p:cNvSpPr/>
              <p:nvPr/>
            </p:nvSpPr>
            <p:spPr>
              <a:xfrm>
                <a:off x="6310440" y="837360"/>
                <a:ext cx="36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_x0001_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5880" y="9144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909960" y="1398600"/>
              <a:ext cx="1557360" cy="1423800"/>
            </a:xfrm>
            <a:prstGeom prst="ellipse">
              <a:avLst/>
            </a:prstGeom>
            <a:solidFill>
              <a:srgbClr val="efe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37280" y="2693880"/>
              <a:ext cx="0" cy="6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2743200" y="632880"/>
              <a:ext cx="3868560" cy="2697840"/>
              <a:chOff x="2743200" y="632880"/>
              <a:chExt cx="3868560" cy="2697840"/>
            </a:xfrm>
          </p:grpSpPr>
          <p:sp>
            <p:nvSpPr>
              <p:cNvPr id="539" name=""/>
              <p:cNvSpPr/>
              <p:nvPr/>
            </p:nvSpPr>
            <p:spPr>
              <a:xfrm>
                <a:off x="3863880" y="1568520"/>
                <a:ext cx="1622520" cy="1098360"/>
              </a:xfrm>
              <a:prstGeom prst="rect">
                <a:avLst/>
              </a:prstGeom>
              <a:solidFill>
                <a:srgbClr val="d9e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2743200" y="632880"/>
                <a:ext cx="3868560" cy="2697840"/>
                <a:chOff x="2743200" y="632880"/>
                <a:chExt cx="3868560" cy="26978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4350960" y="1263600"/>
                  <a:ext cx="426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_x0001_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380480" y="2330280"/>
                  <a:ext cx="389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_x0001_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2743200" y="632880"/>
                  <a:ext cx="3868560" cy="2697840"/>
                  <a:chOff x="2743200" y="632880"/>
                  <a:chExt cx="3868560" cy="26978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V="1">
                    <a:off x="4710240" y="632880"/>
                    <a:ext cx="1901520" cy="87156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589800" y="633240"/>
                    <a:ext cx="0" cy="44640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589800" y="1015920"/>
                    <a:ext cx="0" cy="67968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V="1">
                    <a:off x="4687920" y="1674360"/>
                    <a:ext cx="1901880" cy="87156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4734000" y="1484280"/>
                    <a:ext cx="0" cy="31752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710240" y="2120760"/>
                    <a:ext cx="0" cy="42552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>
                    <a:off x="4376880" y="1781280"/>
                    <a:ext cx="357120" cy="15552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>
                    <a:off x="4299120" y="2120760"/>
                    <a:ext cx="388800" cy="16992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2743200" y="1628640"/>
                    <a:ext cx="1766880" cy="1702080"/>
                    <a:chOff x="2743200" y="1628640"/>
                    <a:chExt cx="1766880" cy="170208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2743200" y="3214800"/>
                      <a:ext cx="119160" cy="11592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4" name=""/>
                    <p:cNvGrpSpPr/>
                    <p:nvPr/>
                  </p:nvGrpSpPr>
                  <p:grpSpPr>
                    <a:xfrm>
                      <a:off x="2819520" y="1628640"/>
                      <a:ext cx="1690560" cy="1702080"/>
                      <a:chOff x="2819520" y="1628640"/>
                      <a:chExt cx="1690560" cy="1702080"/>
                    </a:xfrm>
                  </p:grpSpPr>
                  <p:sp>
                    <p:nvSpPr>
                      <p:cNvPr id="555" name=""/>
                      <p:cNvSpPr/>
                      <p:nvPr/>
                    </p:nvSpPr>
                    <p:spPr>
                      <a:xfrm>
                        <a:off x="2820960" y="1639800"/>
                        <a:ext cx="0" cy="1614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6" name=""/>
                      <p:cNvSpPr/>
                      <p:nvPr/>
                    </p:nvSpPr>
                    <p:spPr>
                      <a:xfrm flipV="1">
                        <a:off x="3809880" y="2588760"/>
                        <a:ext cx="524160" cy="190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7" name=""/>
                      <p:cNvSpPr/>
                      <p:nvPr/>
                    </p:nvSpPr>
                    <p:spPr>
                      <a:xfrm>
                        <a:off x="4311720" y="2417760"/>
                        <a:ext cx="0" cy="2127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58" name=""/>
                      <p:cNvGrpSpPr/>
                      <p:nvPr/>
                    </p:nvGrpSpPr>
                    <p:grpSpPr>
                      <a:xfrm>
                        <a:off x="3733920" y="2604960"/>
                        <a:ext cx="118800" cy="725760"/>
                        <a:chOff x="3733920" y="2604960"/>
                        <a:chExt cx="118800" cy="725760"/>
                      </a:xfrm>
                    </p:grpSpPr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3733920" y="3214800"/>
                          <a:ext cx="118800" cy="115920"/>
                        </a:xfrm>
                        <a:prstGeom prst="ellipse">
                          <a:avLst/>
                        </a:pr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280" bIns="35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>
                          <a:off x="3809880" y="2604960"/>
                          <a:ext cx="0" cy="6098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1" name=""/>
                      <p:cNvGrpSpPr/>
                      <p:nvPr/>
                    </p:nvGrpSpPr>
                    <p:grpSpPr>
                      <a:xfrm>
                        <a:off x="2819520" y="1628640"/>
                        <a:ext cx="1690560" cy="812880"/>
                        <a:chOff x="2819520" y="1628640"/>
                        <a:chExt cx="1690560" cy="812880"/>
                      </a:xfrm>
                    </p:grpSpPr>
                    <p:grpSp>
                      <p:nvGrpSpPr>
                        <p:cNvPr id="562" name=""/>
                        <p:cNvGrpSpPr/>
                        <p:nvPr/>
                      </p:nvGrpSpPr>
                      <p:grpSpPr>
                        <a:xfrm>
                          <a:off x="2819520" y="1628640"/>
                          <a:ext cx="1559880" cy="276120"/>
                          <a:chOff x="2819520" y="1628640"/>
                          <a:chExt cx="1559880" cy="276120"/>
                        </a:xfrm>
                      </p:grpSpPr>
                      <p:sp>
                        <p:nvSpPr>
                          <p:cNvPr id="563" name=""/>
                          <p:cNvSpPr/>
                          <p:nvPr/>
                        </p:nvSpPr>
                        <p:spPr>
                          <a:xfrm>
                            <a:off x="4265640" y="1755360"/>
                            <a:ext cx="113760" cy="149400"/>
                          </a:xfrm>
                          <a:prstGeom prst="rect">
                            <a:avLst/>
                          </a:prstGeom>
                          <a:solidFill>
                            <a:srgbClr val="008000"/>
                          </a:solidFill>
                          <a:ln w="38160">
                            <a:solidFill>
                              <a:srgbClr val="008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4" name=""/>
                          <p:cNvSpPr/>
                          <p:nvPr/>
                        </p:nvSpPr>
                        <p:spPr>
                          <a:xfrm>
                            <a:off x="2819520" y="1628640"/>
                            <a:ext cx="149184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5" name=""/>
                          <p:cNvSpPr/>
                          <p:nvPr/>
                        </p:nvSpPr>
                        <p:spPr>
                          <a:xfrm flipH="1">
                            <a:off x="4309560" y="1628640"/>
                            <a:ext cx="1080" cy="161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4246560" y="2293920"/>
                          <a:ext cx="114480" cy="147600"/>
                        </a:xfrm>
                        <a:prstGeom prst="rect">
                          <a:avLst/>
                        </a:prstGeom>
                        <a:solidFill>
                          <a:srgbClr val="008000"/>
                        </a:solidFill>
                        <a:ln w="38160">
                          <a:solidFill>
                            <a:srgbClr val="008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67" name=""/>
                        <p:cNvGrpSpPr/>
                        <p:nvPr/>
                      </p:nvGrpSpPr>
                      <p:grpSpPr>
                        <a:xfrm>
                          <a:off x="4038480" y="1905120"/>
                          <a:ext cx="471600" cy="394920"/>
                          <a:chOff x="4038480" y="1905120"/>
                          <a:chExt cx="471600" cy="394920"/>
                        </a:xfrm>
                      </p:grpSpPr>
                      <p:sp>
                        <p:nvSpPr>
                          <p:cNvPr id="568" name=""/>
                          <p:cNvSpPr/>
                          <p:nvPr/>
                        </p:nvSpPr>
                        <p:spPr>
                          <a:xfrm>
                            <a:off x="4038480" y="1905120"/>
                            <a:ext cx="471600" cy="244440"/>
                          </a:xfrm>
                          <a:prstGeom prst="blockArc">
                            <a:avLst>
                              <a:gd name="adj1" fmla="val 10800000"/>
                              <a:gd name="adj2" fmla="val 0"/>
                              <a:gd name="adj3" fmla="val 25000"/>
                            </a:avLst>
                          </a:prstGeom>
                          <a:solidFill>
                            <a:srgbClr val="000000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9" name=""/>
                          <p:cNvSpPr/>
                          <p:nvPr/>
                        </p:nvSpPr>
                        <p:spPr>
                          <a:xfrm flipV="1">
                            <a:off x="4038480" y="1994760"/>
                            <a:ext cx="457200" cy="304920"/>
                          </a:xfrm>
                          <a:prstGeom prst="blockArc">
                            <a:avLst>
                              <a:gd name="adj1" fmla="val 10800000"/>
                              <a:gd name="adj2" fmla="val 0"/>
                              <a:gd name="adj3" fmla="val 25000"/>
                            </a:avLst>
                          </a:prstGeom>
                          <a:solidFill>
                            <a:srgbClr val="000000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570" name=""/>
            <p:cNvSpPr/>
            <p:nvPr/>
          </p:nvSpPr>
          <p:spPr>
            <a:xfrm flipV="1">
              <a:off x="5237280" y="1780920"/>
              <a:ext cx="1947600" cy="9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4191120" y="1674720"/>
              <a:ext cx="2184120" cy="982440"/>
              <a:chOff x="4191120" y="1674720"/>
              <a:chExt cx="2184120" cy="982440"/>
            </a:xfrm>
          </p:grpSpPr>
          <p:sp>
            <p:nvSpPr>
              <p:cNvPr id="572" name=""/>
              <p:cNvSpPr/>
              <p:nvPr/>
            </p:nvSpPr>
            <p:spPr>
              <a:xfrm flipV="1">
                <a:off x="4724280" y="1674720"/>
                <a:ext cx="1650960" cy="74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4191120" y="2428560"/>
                <a:ext cx="5331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257800" y="2169720"/>
              <a:ext cx="457200" cy="559800"/>
              <a:chOff x="5257800" y="2169720"/>
              <a:chExt cx="457200" cy="55980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5257800" y="2169720"/>
                <a:ext cx="457200" cy="212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19360" y="2208960"/>
                <a:ext cx="31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_x0001_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105520" y="1232640"/>
              <a:ext cx="471600" cy="520560"/>
              <a:chOff x="5105520" y="1232640"/>
              <a:chExt cx="471600" cy="520560"/>
            </a:xfrm>
          </p:grpSpPr>
          <p:sp>
            <p:nvSpPr>
              <p:cNvPr id="578" name=""/>
              <p:cNvSpPr/>
              <p:nvPr/>
            </p:nvSpPr>
            <p:spPr>
              <a:xfrm flipV="1">
                <a:off x="5105520" y="1233000"/>
                <a:ext cx="457200" cy="212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60680" y="1232640"/>
                <a:ext cx="31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_x0001_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105520" y="2895480"/>
              <a:ext cx="1168200" cy="658800"/>
            </a:xfrm>
            <a:prstGeom prst="wedgeRoundRectCallout">
              <a:avLst>
                <a:gd name="adj1" fmla="val -112226"/>
                <a:gd name="adj2" fmla="val -151203"/>
                <a:gd name="adj3" fmla="val 16667"/>
              </a:avLst>
            </a:prstGeom>
            <a:solidFill>
              <a:srgbClr val="ffcc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换向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67080" y="549360"/>
              <a:ext cx="1098360" cy="530280"/>
            </a:xfrm>
            <a:prstGeom prst="wedgeRoundRectCallout">
              <a:avLst>
                <a:gd name="adj1" fmla="val 116666"/>
                <a:gd name="adj2" fmla="val 179666"/>
                <a:gd name="adj3" fmla="val 16667"/>
              </a:avLst>
            </a:prstGeom>
            <a:solidFill>
              <a:srgbClr val="ffff99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_x0001_"/>
                </a:rPr>
                <a:t>电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57200" y="4007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线圈在磁场中旋转，将在线圈中产生感应电动势。由右手定则，感应电动势的方向与电流的方向相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505320" y="5151240"/>
            <a:ext cx="3868200" cy="1380600"/>
            <a:chOff x="3505320" y="5151240"/>
            <a:chExt cx="3868200" cy="1380600"/>
          </a:xfrm>
        </p:grpSpPr>
        <p:sp>
          <p:nvSpPr>
            <p:cNvPr id="584" name=""/>
            <p:cNvSpPr/>
            <p:nvPr/>
          </p:nvSpPr>
          <p:spPr>
            <a:xfrm>
              <a:off x="3505320" y="5383080"/>
              <a:ext cx="228600" cy="10033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920 h 1003320"/>
                <a:gd name="textAreaBottom" fmla="*/ 977400 h 10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51400" y="5151240"/>
              <a:ext cx="292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_x0001_"/>
                </a:rPr>
                <a:t>K</a:t>
              </a:r>
              <a:r>
                <a:rPr b="1" i="1" lang="zh-CN" sz="2800" spc="-1" strike="noStrike" baseline="-25000">
                  <a:solidFill>
                    <a:srgbClr val="000099"/>
                  </a:solidFill>
                  <a:latin typeface="_x0001_"/>
                </a:rPr>
                <a:t>E</a:t>
              </a: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:</a:t>
              </a: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与电机结构有关的常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86200" y="5421600"/>
              <a:ext cx="324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_x0001_"/>
                </a:rPr>
                <a:t>n</a:t>
              </a: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:</a:t>
              </a: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电动机转速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90880" y="6011280"/>
              <a:ext cx="127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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_x0001_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磁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189800" y="4890240"/>
            <a:ext cx="28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电枢感应电动势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52920" y="5562720"/>
            <a:ext cx="157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i="1" lang="en-US" sz="2800" spc="-1" strike="noStrike">
                <a:solidFill>
                  <a:srgbClr val="000099"/>
                </a:solidFill>
                <a:latin typeface="_x0001_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2611440" y="3214080"/>
            <a:ext cx="1425240" cy="521280"/>
            <a:chOff x="2611440" y="3214080"/>
            <a:chExt cx="1425240" cy="521280"/>
          </a:xfrm>
        </p:grpSpPr>
        <p:sp>
          <p:nvSpPr>
            <p:cNvPr id="591" name=""/>
            <p:cNvSpPr/>
            <p:nvPr/>
          </p:nvSpPr>
          <p:spPr>
            <a:xfrm>
              <a:off x="3157560" y="321408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11440" y="321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56160" y="32148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62320" y="166680"/>
            <a:ext cx="5729040" cy="3387600"/>
            <a:chOff x="2362320" y="166680"/>
            <a:chExt cx="5729040" cy="3387600"/>
          </a:xfrm>
        </p:grpSpPr>
        <p:grpSp>
          <p:nvGrpSpPr>
            <p:cNvPr id="595" name=""/>
            <p:cNvGrpSpPr/>
            <p:nvPr/>
          </p:nvGrpSpPr>
          <p:grpSpPr>
            <a:xfrm>
              <a:off x="5638680" y="928080"/>
              <a:ext cx="549000" cy="520560"/>
              <a:chOff x="5638680" y="928080"/>
              <a:chExt cx="549000" cy="52056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5638680" y="928440"/>
                <a:ext cx="457200" cy="21276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15080" y="928080"/>
                <a:ext cx="37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_x0001_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6019920" y="1828080"/>
              <a:ext cx="549000" cy="520560"/>
              <a:chOff x="6019920" y="1828080"/>
              <a:chExt cx="549000" cy="52056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6019920" y="1828440"/>
                <a:ext cx="457200" cy="21276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96320" y="1828080"/>
                <a:ext cx="37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_x0001_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362320" y="166680"/>
              <a:ext cx="5729040" cy="3387600"/>
              <a:chOff x="2362320" y="166680"/>
              <a:chExt cx="5729040" cy="3387600"/>
            </a:xfrm>
          </p:grpSpPr>
          <p:sp>
            <p:nvSpPr>
              <p:cNvPr id="602" name=""/>
              <p:cNvSpPr/>
              <p:nvPr/>
            </p:nvSpPr>
            <p:spPr>
              <a:xfrm>
                <a:off x="2362320" y="68904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 rot="13267200">
                <a:off x="7035120" y="888480"/>
                <a:ext cx="635040" cy="127080"/>
              </a:xfrm>
              <a:custGeom>
                <a:avLst/>
                <a:gdLst/>
                <a:ahLst/>
                <a:rect l="l" t="t" r="r" b="b"/>
                <a:pathLst>
                  <a:path w="720" h="192">
                    <a:moveTo>
                      <a:pt x="0" y="192"/>
                    </a:moveTo>
                    <a:cubicBezTo>
                      <a:pt x="108" y="96"/>
                      <a:pt x="216" y="0"/>
                      <a:pt x="336" y="0"/>
                    </a:cubicBezTo>
                    <a:cubicBezTo>
                      <a:pt x="456" y="0"/>
                      <a:pt x="656" y="160"/>
                      <a:pt x="720" y="19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7116120" y="1325520"/>
                <a:ext cx="39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_x0001_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 rot="13267200">
                <a:off x="6780960" y="1091880"/>
                <a:ext cx="635040" cy="127080"/>
              </a:xfrm>
              <a:custGeom>
                <a:avLst/>
                <a:gdLst/>
                <a:ahLst/>
                <a:rect l="l" t="t" r="r" b="b"/>
                <a:pathLst>
                  <a:path w="720" h="192">
                    <a:moveTo>
                      <a:pt x="0" y="192"/>
                    </a:moveTo>
                    <a:cubicBezTo>
                      <a:pt x="108" y="96"/>
                      <a:pt x="216" y="0"/>
                      <a:pt x="336" y="0"/>
                    </a:cubicBezTo>
                    <a:cubicBezTo>
                      <a:pt x="456" y="0"/>
                      <a:pt x="656" y="160"/>
                      <a:pt x="720" y="19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7459200" y="1020600"/>
                <a:ext cx="42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_x0001_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61120" y="166680"/>
                <a:ext cx="0" cy="48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206960" y="868320"/>
                <a:ext cx="0" cy="67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184640" y="2666880"/>
                <a:ext cx="0" cy="67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64000" y="278532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_x0001_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84520" y="46044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583680" y="31896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_x0001_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14960" y="888840"/>
                <a:ext cx="0" cy="67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214960" y="633240"/>
                <a:ext cx="19461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184880" y="1801800"/>
                <a:ext cx="0" cy="48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184640" y="2354400"/>
                <a:ext cx="709560" cy="31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 rot="3948600">
                <a:off x="6753240" y="529200"/>
                <a:ext cx="826200" cy="165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477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47722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417200" y="85176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_x0001_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648480" y="123336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_x0001_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5359320" y="1537560"/>
                <a:ext cx="736560" cy="520560"/>
                <a:chOff x="5359320" y="1537560"/>
                <a:chExt cx="736560" cy="520560"/>
              </a:xfrm>
            </p:grpSpPr>
            <p:sp>
              <p:nvSpPr>
                <p:cNvPr id="621" name=""/>
                <p:cNvSpPr/>
                <p:nvPr/>
              </p:nvSpPr>
              <p:spPr>
                <a:xfrm flipH="1">
                  <a:off x="5638680" y="18288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59320" y="1537560"/>
                  <a:ext cx="36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_x0001_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095880" y="837360"/>
                <a:ext cx="584280" cy="520560"/>
                <a:chOff x="6095880" y="837360"/>
                <a:chExt cx="584280" cy="5205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310440" y="837360"/>
                  <a:ext cx="36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_x0001_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095880" y="9144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3909960" y="1398600"/>
                <a:ext cx="1557360" cy="1423800"/>
              </a:xfrm>
              <a:prstGeom prst="ellipse">
                <a:avLst/>
              </a:prstGeom>
              <a:solidFill>
                <a:srgbClr val="efe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237280" y="2693880"/>
                <a:ext cx="0" cy="68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2743200" y="632880"/>
                <a:ext cx="3868560" cy="2697840"/>
                <a:chOff x="2743200" y="632880"/>
                <a:chExt cx="3868560" cy="26978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3863880" y="1568520"/>
                  <a:ext cx="1622520" cy="1098360"/>
                </a:xfrm>
                <a:prstGeom prst="rect">
                  <a:avLst/>
                </a:prstGeom>
                <a:solidFill>
                  <a:srgbClr val="d9ea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0" name=""/>
                <p:cNvGrpSpPr/>
                <p:nvPr/>
              </p:nvGrpSpPr>
              <p:grpSpPr>
                <a:xfrm>
                  <a:off x="2743200" y="632880"/>
                  <a:ext cx="3868560" cy="2697840"/>
                  <a:chOff x="2743200" y="632880"/>
                  <a:chExt cx="3868560" cy="269784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4350960" y="1263600"/>
                    <a:ext cx="4262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_x0001_"/>
                      </a:rPr>
                      <a:t>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380480" y="2330280"/>
                    <a:ext cx="389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_x0001_"/>
                      </a:rPr>
                      <a:t>c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2743200" y="632880"/>
                    <a:ext cx="3868560" cy="2697840"/>
                    <a:chOff x="2743200" y="632880"/>
                    <a:chExt cx="3868560" cy="269784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flipV="1">
                      <a:off x="4710240" y="632880"/>
                      <a:ext cx="1901520" cy="871560"/>
                    </a:xfrm>
                    <a:prstGeom prst="line">
                      <a:avLst/>
                    </a:prstGeom>
                    <a:ln w="38160">
                      <a:solidFill>
                        <a:srgbClr val="0066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6589800" y="633240"/>
                      <a:ext cx="0" cy="446400"/>
                    </a:xfrm>
                    <a:prstGeom prst="line">
                      <a:avLst/>
                    </a:prstGeom>
                    <a:ln w="38160">
                      <a:solidFill>
                        <a:srgbClr val="0066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6589800" y="1015920"/>
                      <a:ext cx="0" cy="679680"/>
                    </a:xfrm>
                    <a:prstGeom prst="line">
                      <a:avLst/>
                    </a:prstGeom>
                    <a:ln w="381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V="1">
                      <a:off x="4687920" y="1674360"/>
                      <a:ext cx="1901880" cy="871560"/>
                    </a:xfrm>
                    <a:prstGeom prst="line">
                      <a:avLst/>
                    </a:prstGeom>
                    <a:ln w="381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4734000" y="1484280"/>
                      <a:ext cx="0" cy="317520"/>
                    </a:xfrm>
                    <a:prstGeom prst="line">
                      <a:avLst/>
                    </a:prstGeom>
                    <a:ln w="381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4710240" y="2120760"/>
                      <a:ext cx="0" cy="425520"/>
                    </a:xfrm>
                    <a:prstGeom prst="line">
                      <a:avLst/>
                    </a:prstGeom>
                    <a:ln w="381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>
                      <a:off x="4376880" y="1781280"/>
                      <a:ext cx="357120" cy="155520"/>
                    </a:xfrm>
                    <a:prstGeom prst="line">
                      <a:avLst/>
                    </a:prstGeom>
                    <a:ln w="381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flipH="1">
                      <a:off x="4299120" y="2120760"/>
                      <a:ext cx="388800" cy="169920"/>
                    </a:xfrm>
                    <a:prstGeom prst="line">
                      <a:avLst/>
                    </a:prstGeom>
                    <a:ln w="381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2743200" y="1628640"/>
                      <a:ext cx="1766880" cy="1702080"/>
                      <a:chOff x="2743200" y="1628640"/>
                      <a:chExt cx="1766880" cy="1702080"/>
                    </a:xfrm>
                  </p:grpSpPr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2743200" y="3214800"/>
                        <a:ext cx="119160" cy="1159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44" name=""/>
                      <p:cNvGrpSpPr/>
                      <p:nvPr/>
                    </p:nvGrpSpPr>
                    <p:grpSpPr>
                      <a:xfrm>
                        <a:off x="2819520" y="1628640"/>
                        <a:ext cx="1690560" cy="1702080"/>
                        <a:chOff x="2819520" y="1628640"/>
                        <a:chExt cx="1690560" cy="1702080"/>
                      </a:xfrm>
                    </p:grpSpPr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>
                          <a:off x="2820960" y="1639800"/>
                          <a:ext cx="0" cy="1614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 flipV="1">
                          <a:off x="3809880" y="2588760"/>
                          <a:ext cx="524160" cy="19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720" bIns="-27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>
                          <a:off x="4311720" y="2417760"/>
                          <a:ext cx="0" cy="2127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48" name=""/>
                        <p:cNvGrpSpPr/>
                        <p:nvPr/>
                      </p:nvGrpSpPr>
                      <p:grpSpPr>
                        <a:xfrm>
                          <a:off x="3733920" y="2604960"/>
                          <a:ext cx="118800" cy="725760"/>
                          <a:chOff x="3733920" y="2604960"/>
                          <a:chExt cx="118800" cy="725760"/>
                        </a:xfrm>
                      </p:grpSpPr>
                      <p:sp>
                        <p:nvSpPr>
                          <p:cNvPr id="649" name=""/>
                          <p:cNvSpPr/>
                          <p:nvPr/>
                        </p:nvSpPr>
                        <p:spPr>
                          <a:xfrm>
                            <a:off x="3733920" y="3214800"/>
                            <a:ext cx="118800" cy="115920"/>
                          </a:xfrm>
                          <a:prstGeom prst="ellipse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5280" bIns="35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0" name=""/>
                          <p:cNvSpPr/>
                          <p:nvPr/>
                        </p:nvSpPr>
                        <p:spPr>
                          <a:xfrm>
                            <a:off x="3809880" y="2604960"/>
                            <a:ext cx="0" cy="6098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1" name=""/>
                        <p:cNvGrpSpPr/>
                        <p:nvPr/>
                      </p:nvGrpSpPr>
                      <p:grpSpPr>
                        <a:xfrm>
                          <a:off x="2819520" y="1628640"/>
                          <a:ext cx="1690560" cy="812880"/>
                          <a:chOff x="2819520" y="1628640"/>
                          <a:chExt cx="1690560" cy="812880"/>
                        </a:xfrm>
                      </p:grpSpPr>
                      <p:grpSp>
                        <p:nvGrpSpPr>
                          <p:cNvPr id="652" name=""/>
                          <p:cNvGrpSpPr/>
                          <p:nvPr/>
                        </p:nvGrpSpPr>
                        <p:grpSpPr>
                          <a:xfrm>
                            <a:off x="2819520" y="1628640"/>
                            <a:ext cx="1559880" cy="276120"/>
                            <a:chOff x="2819520" y="1628640"/>
                            <a:chExt cx="1559880" cy="276120"/>
                          </a:xfrm>
                        </p:grpSpPr>
                        <p:sp>
                          <p:nvSpPr>
                            <p:cNvPr id="653" name=""/>
                            <p:cNvSpPr/>
                            <p:nvPr/>
                          </p:nvSpPr>
                          <p:spPr>
                            <a:xfrm>
                              <a:off x="4265640" y="1755360"/>
                              <a:ext cx="113760" cy="149400"/>
                            </a:xfrm>
                            <a:prstGeom prst="rect">
                              <a:avLst/>
                            </a:prstGeom>
                            <a:solidFill>
                              <a:srgbClr val="008000"/>
                            </a:solidFill>
                            <a:ln w="38160">
                              <a:solidFill>
                                <a:srgbClr val="008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4" name=""/>
                            <p:cNvSpPr/>
                            <p:nvPr/>
                          </p:nvSpPr>
                          <p:spPr>
                            <a:xfrm>
                              <a:off x="2819520" y="1628640"/>
                              <a:ext cx="149184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5" name=""/>
                            <p:cNvSpPr/>
                            <p:nvPr/>
                          </p:nvSpPr>
                          <p:spPr>
                            <a:xfrm flipH="1">
                              <a:off x="4309560" y="1628640"/>
                              <a:ext cx="1080" cy="16164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6" name=""/>
                          <p:cNvSpPr/>
                          <p:nvPr/>
                        </p:nvSpPr>
                        <p:spPr>
                          <a:xfrm>
                            <a:off x="4246560" y="2293920"/>
                            <a:ext cx="114480" cy="147600"/>
                          </a:xfrm>
                          <a:prstGeom prst="rect">
                            <a:avLst/>
                          </a:prstGeom>
                          <a:solidFill>
                            <a:srgbClr val="008000"/>
                          </a:solidFill>
                          <a:ln w="38160">
                            <a:solidFill>
                              <a:srgbClr val="008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57" name=""/>
                          <p:cNvGrpSpPr/>
                          <p:nvPr/>
                        </p:nvGrpSpPr>
                        <p:grpSpPr>
                          <a:xfrm>
                            <a:off x="4038480" y="1905120"/>
                            <a:ext cx="471600" cy="394920"/>
                            <a:chOff x="4038480" y="1905120"/>
                            <a:chExt cx="471600" cy="394920"/>
                          </a:xfrm>
                        </p:grpSpPr>
                        <p:sp>
                          <p:nvSpPr>
                            <p:cNvPr id="658" name=""/>
                            <p:cNvSpPr/>
                            <p:nvPr/>
                          </p:nvSpPr>
                          <p:spPr>
                            <a:xfrm>
                              <a:off x="4038480" y="1905120"/>
                              <a:ext cx="471600" cy="244440"/>
                            </a:xfrm>
                            <a:prstGeom prst="blockArc">
                              <a:avLst>
                                <a:gd name="adj1" fmla="val 10800000"/>
                                <a:gd name="adj2" fmla="val 0"/>
                                <a:gd name="adj3" fmla="val 25000"/>
                              </a:avLst>
                            </a:prstGeom>
                            <a:solidFill>
                              <a:srgbClr val="000000"/>
                            </a:solidFill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9" name=""/>
                            <p:cNvSpPr/>
                            <p:nvPr/>
                          </p:nvSpPr>
                          <p:spPr>
                            <a:xfrm flipV="1">
                              <a:off x="4038480" y="1994760"/>
                              <a:ext cx="457200" cy="304920"/>
                            </a:xfrm>
                            <a:prstGeom prst="blockArc">
                              <a:avLst>
                                <a:gd name="adj1" fmla="val 10800000"/>
                                <a:gd name="adj2" fmla="val 0"/>
                                <a:gd name="adj3" fmla="val 25000"/>
                              </a:avLst>
                            </a:prstGeom>
                            <a:solidFill>
                              <a:srgbClr val="000000"/>
                            </a:solidFill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  <p:sp>
            <p:nvSpPr>
              <p:cNvPr id="660" name=""/>
              <p:cNvSpPr/>
              <p:nvPr/>
            </p:nvSpPr>
            <p:spPr>
              <a:xfrm flipV="1">
                <a:off x="5237280" y="1780920"/>
                <a:ext cx="1947600" cy="91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4191120" y="1674720"/>
                <a:ext cx="2184120" cy="982440"/>
                <a:chOff x="4191120" y="1674720"/>
                <a:chExt cx="2184120" cy="982440"/>
              </a:xfrm>
            </p:grpSpPr>
            <p:sp>
              <p:nvSpPr>
                <p:cNvPr id="662" name=""/>
                <p:cNvSpPr/>
                <p:nvPr/>
              </p:nvSpPr>
              <p:spPr>
                <a:xfrm flipV="1">
                  <a:off x="4724280" y="1674720"/>
                  <a:ext cx="1650960" cy="744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4191120" y="2428560"/>
                  <a:ext cx="53316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257800" y="2169720"/>
                <a:ext cx="457200" cy="559800"/>
                <a:chOff x="5257800" y="2169720"/>
                <a:chExt cx="457200" cy="559800"/>
              </a:xfrm>
            </p:grpSpPr>
            <p:sp>
              <p:nvSpPr>
                <p:cNvPr id="665" name=""/>
                <p:cNvSpPr/>
                <p:nvPr/>
              </p:nvSpPr>
              <p:spPr>
                <a:xfrm flipV="1">
                  <a:off x="5257800" y="2169720"/>
                  <a:ext cx="457200" cy="212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319360" y="2208960"/>
                  <a:ext cx="316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_x0001_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5105520" y="1232640"/>
                <a:ext cx="471600" cy="520560"/>
                <a:chOff x="5105520" y="1232640"/>
                <a:chExt cx="471600" cy="520560"/>
              </a:xfrm>
            </p:grpSpPr>
            <p:sp>
              <p:nvSpPr>
                <p:cNvPr id="668" name=""/>
                <p:cNvSpPr/>
                <p:nvPr/>
              </p:nvSpPr>
              <p:spPr>
                <a:xfrm flipV="1">
                  <a:off x="5105520" y="1233000"/>
                  <a:ext cx="457200" cy="212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260680" y="1232640"/>
                  <a:ext cx="316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_x0001_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5105520" y="2895480"/>
                <a:ext cx="1168200" cy="658800"/>
              </a:xfrm>
              <a:prstGeom prst="wedgeRoundRectCallout">
                <a:avLst>
                  <a:gd name="adj1" fmla="val -112226"/>
                  <a:gd name="adj2" fmla="val -151203"/>
                  <a:gd name="adj3" fmla="val 16667"/>
                </a:avLst>
              </a:prstGeom>
              <a:solidFill>
                <a:srgbClr val="ffccff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_x0001_"/>
                  </a:rPr>
                  <a:t>换向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467080" y="549360"/>
                <a:ext cx="1098360" cy="530280"/>
              </a:xfrm>
              <a:prstGeom prst="wedgeRoundRectCallout">
                <a:avLst>
                  <a:gd name="adj1" fmla="val 116666"/>
                  <a:gd name="adj2" fmla="val 179666"/>
                  <a:gd name="adj3" fmla="val 16667"/>
                </a:avLst>
              </a:prstGeom>
              <a:solidFill>
                <a:srgbClr val="ffff99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_x0001_"/>
                  </a:rPr>
                  <a:t>电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>
            <a:off x="609480" y="3657600"/>
            <a:ext cx="8001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由图可知，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电枢感应电动势</a:t>
            </a:r>
            <a:r>
              <a:rPr b="1" i="1" lang="zh-CN" sz="2800" spc="-1" strike="noStrike">
                <a:solidFill>
                  <a:srgbClr val="cc0000"/>
                </a:solidFill>
                <a:latin typeface="_x0001_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与电枢电流或外加电压方向总是相反，所以称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反电势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。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209600" y="5105520"/>
                <a:ext cx="47196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Φn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4" name=""/>
          <p:cNvSpPr/>
          <p:nvPr/>
        </p:nvSpPr>
        <p:spPr>
          <a:xfrm>
            <a:off x="864720" y="5577120"/>
            <a:ext cx="306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式中：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U  —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外加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a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绕组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95200" y="460044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电枢回路电压平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003720" y="4389480"/>
            <a:ext cx="2735280" cy="2073960"/>
            <a:chOff x="6003720" y="4389480"/>
            <a:chExt cx="2735280" cy="2073960"/>
          </a:xfrm>
        </p:grpSpPr>
        <p:sp>
          <p:nvSpPr>
            <p:cNvPr id="677" name=""/>
            <p:cNvSpPr/>
            <p:nvPr/>
          </p:nvSpPr>
          <p:spPr>
            <a:xfrm>
              <a:off x="6040440" y="5942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6003720" y="4389480"/>
              <a:ext cx="2735280" cy="1896480"/>
              <a:chOff x="6003720" y="4389480"/>
              <a:chExt cx="2735280" cy="1896480"/>
            </a:xfrm>
          </p:grpSpPr>
          <p:sp>
            <p:nvSpPr>
              <p:cNvPr id="679" name=""/>
              <p:cNvSpPr/>
              <p:nvPr/>
            </p:nvSpPr>
            <p:spPr>
              <a:xfrm>
                <a:off x="7089840" y="4389480"/>
                <a:ext cx="522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_x0001_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_x0001_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32560" y="5043240"/>
                <a:ext cx="58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532560" y="6246720"/>
                <a:ext cx="165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170920" y="5022720"/>
                <a:ext cx="0" cy="122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6200000">
                <a:off x="7273440" y="4813200"/>
                <a:ext cx="156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399360" y="4983120"/>
                <a:ext cx="114120" cy="99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399360" y="6188040"/>
                <a:ext cx="114120" cy="97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553440" y="4952880"/>
                <a:ext cx="552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554160" y="4403520"/>
                <a:ext cx="441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_x0001_"/>
                  </a:rPr>
                  <a:t>I</a:t>
                </a:r>
                <a:r>
                  <a:rPr b="1" lang="zh-CN" sz="2800" spc="-1" strike="noStrike" baseline="-25000">
                    <a:solidFill>
                      <a:srgbClr val="ff3300"/>
                    </a:solidFill>
                    <a:latin typeface="_x0001_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366400" y="5329800"/>
                <a:ext cx="37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_x0001_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155440" y="4966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_x0001_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155080" y="5561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_x0001_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17040" y="4796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_x0001_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003720" y="5346000"/>
                <a:ext cx="42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_x0001_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604280" y="5029200"/>
                <a:ext cx="58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7904160" y="5295960"/>
                <a:ext cx="476640" cy="496080"/>
                <a:chOff x="7904160" y="5295960"/>
                <a:chExt cx="476640" cy="49608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7904160" y="5338440"/>
                  <a:ext cx="476280" cy="453600"/>
                </a:xfrm>
                <a:prstGeom prst="ellipse">
                  <a:avLst/>
                </a:prstGeom>
                <a:solidFill>
                  <a:srgbClr val="efe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912080" y="5295960"/>
                  <a:ext cx="46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_x0001_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8039160" y="5671800"/>
                  <a:ext cx="244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1143000" y="2558160"/>
            <a:ext cx="4317840" cy="1618200"/>
            <a:chOff x="1143000" y="2558160"/>
            <a:chExt cx="4317840" cy="1618200"/>
          </a:xfrm>
        </p:grpSpPr>
        <p:sp>
          <p:nvSpPr>
            <p:cNvPr id="699" name=""/>
            <p:cNvSpPr/>
            <p:nvPr/>
          </p:nvSpPr>
          <p:spPr>
            <a:xfrm>
              <a:off x="1143000" y="2808360"/>
              <a:ext cx="228600" cy="1182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0600 h 1182600"/>
                <a:gd name="textAreaBottom" fmla="*/ 1152000 h 118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75040" y="2558160"/>
              <a:ext cx="338580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_x0001_"/>
                </a:rPr>
                <a:t>K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_x0001_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: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与电机结构有关的常数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26640" y="3076200"/>
              <a:ext cx="2929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_x0001_"/>
                </a:rPr>
                <a:t> 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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_x0001_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线圈所处位置的磁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76760" y="3548520"/>
              <a:ext cx="244692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_x0001_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_x0001_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：电枢绕组中的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759600" y="36432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电磁转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990720" y="4022640"/>
            <a:ext cx="632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单位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: 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韦伯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，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a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安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)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，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T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牛顿•米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" y="838080"/>
            <a:ext cx="8458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电动机电枢绕组中的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枢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磁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互作用，产生电磁力和电磁转矩，直流电机的电磁转矩公式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59040" y="450936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4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转矩平衡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59360" y="4899240"/>
            <a:ext cx="48747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_x0001_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电动机的电磁转矩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为驱动转矩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它使电枢转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在电机运行时，电磁转矩必须和机械负载转矩及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载损耗转矩相平衡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141360" y="2057400"/>
            <a:ext cx="154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533520" y="2031480"/>
            <a:ext cx="8381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当电动机轴上的机械负载发生变化时，通过电动机转速、电动势、电枢电流的变化，电磁转矩将自动调整，以适应负载的变化，保持新的平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66600" y="990720"/>
            <a:ext cx="1460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_x0001_"/>
              </a:rPr>
              <a:t>转矩平衡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828800" y="350640"/>
            <a:ext cx="5638680" cy="1036800"/>
            <a:chOff x="1828800" y="350640"/>
            <a:chExt cx="5638680" cy="103680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1828800" y="533520"/>
                  <a:ext cx="1676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13" name=""/>
            <p:cNvSpPr/>
            <p:nvPr/>
          </p:nvSpPr>
          <p:spPr>
            <a:xfrm>
              <a:off x="3657600" y="533520"/>
              <a:ext cx="179280" cy="736560"/>
            </a:xfrm>
            <a:custGeom>
              <a:avLst/>
              <a:gdLst>
                <a:gd name="textAreaLeft" fmla="*/ 114480 w 179280"/>
                <a:gd name="textAreaRight" fmla="*/ 179640 w 179280"/>
                <a:gd name="textAreaTop" fmla="*/ 19080 h 736560"/>
                <a:gd name="textAreaBottom" fmla="*/ 71748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43680" y="350640"/>
              <a:ext cx="2139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_x0001_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机械负载转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25720" y="807840"/>
              <a:ext cx="364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_x0001_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: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空载转矩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694800" y="3023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19320" y="2945160"/>
            <a:ext cx="746748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设外加电枢电压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一定，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2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平衡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，此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若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突然增加，则调整过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3520" y="5761080"/>
            <a:ext cx="538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达到新的平衡点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(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、 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入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35360" y="4118040"/>
            <a:ext cx="6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_x0001_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_x0001_"/>
              </a:rPr>
              <a:t>2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4343400"/>
            <a:ext cx="1447920" cy="247680"/>
          </a:xfrm>
          <a:prstGeom prst="rightArrow">
            <a:avLst>
              <a:gd name="adj1" fmla="val 50000"/>
              <a:gd name="adj2" fmla="val 146148"/>
            </a:avLst>
          </a:prstGeom>
          <a:gradFill rotWithShape="0">
            <a:gsLst>
              <a:gs pos="0">
                <a:srgbClr val="0000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56200" y="4147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_x0001_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53640" y="5184720"/>
            <a:ext cx="63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a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19600" y="51703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_x0001_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_x0001_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765120" y="413316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_x0001_"/>
              </a:rPr>
              <a:t>E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800600" y="3865680"/>
            <a:ext cx="1774800" cy="630000"/>
            <a:chOff x="4800600" y="3865680"/>
            <a:chExt cx="1774800" cy="630000"/>
          </a:xfrm>
        </p:grpSpPr>
        <p:sp>
          <p:nvSpPr>
            <p:cNvPr id="726" name=""/>
            <p:cNvSpPr/>
            <p:nvPr/>
          </p:nvSpPr>
          <p:spPr>
            <a:xfrm>
              <a:off x="5000760" y="4248000"/>
              <a:ext cx="1455480" cy="247680"/>
            </a:xfrm>
            <a:prstGeom prst="rightArrow">
              <a:avLst>
                <a:gd name="adj1" fmla="val 50000"/>
                <a:gd name="adj2" fmla="val 14691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4800600" y="3865680"/>
                  <a:ext cx="17748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Φn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429160" y="4662360"/>
                <a:ext cx="14367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 flipH="1">
            <a:off x="2596320" y="5413320"/>
            <a:ext cx="1752840" cy="244440"/>
          </a:xfrm>
          <a:prstGeom prst="rightArrow">
            <a:avLst>
              <a:gd name="adj1" fmla="val 50000"/>
              <a:gd name="adj2" fmla="val 179271"/>
            </a:avLst>
          </a:prstGeom>
          <a:gradFill rotWithShape="0">
            <a:gsLst>
              <a:gs pos="0">
                <a:srgbClr val="0000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643120" y="4951440"/>
                <a:ext cx="18525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Φ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5231880" y="4952880"/>
            <a:ext cx="1854720" cy="704880"/>
            <a:chOff x="5231880" y="4952880"/>
            <a:chExt cx="1854720" cy="704880"/>
          </a:xfrm>
        </p:grpSpPr>
        <p:sp>
          <p:nvSpPr>
            <p:cNvPr id="732" name=""/>
            <p:cNvSpPr/>
            <p:nvPr/>
          </p:nvSpPr>
          <p:spPr>
            <a:xfrm>
              <a:off x="6934320" y="4952880"/>
              <a:ext cx="152280" cy="609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231520" y="5410080"/>
              <a:ext cx="1854360" cy="247680"/>
            </a:xfrm>
            <a:prstGeom prst="rightArrow">
              <a:avLst>
                <a:gd name="adj1" fmla="val 50000"/>
                <a:gd name="adj2" fmla="val 187173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9.3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直流电动机的机械特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90720" y="5962680"/>
            <a:ext cx="8153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990720" y="2476440"/>
                <a:ext cx="2282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1348560" y="1295280"/>
            <a:ext cx="3278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_x0001_"/>
              </a:rPr>
              <a:t>特点</a:t>
            </a:r>
            <a:r>
              <a:rPr b="1" lang="zh-CN" sz="3200" spc="-1" strike="noStrike">
                <a:solidFill>
                  <a:srgbClr val="cc0000"/>
                </a:solidFill>
                <a:latin typeface="_x0001_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_x0001_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_x0001_"/>
              </a:rPr>
              <a:t>励磁绕组与电枢并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4680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1_"/>
              </a:rPr>
              <a:t>由图可求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429000" y="2209680"/>
                <a:ext cx="198108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293920" y="2987640"/>
                <a:ext cx="13762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616040" y="4038480"/>
                <a:ext cx="25639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2" name=""/>
          <p:cNvSpPr/>
          <p:nvPr/>
        </p:nvSpPr>
        <p:spPr>
          <a:xfrm>
            <a:off x="1038600" y="4578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上分析可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02360" y="5035680"/>
            <a:ext cx="588636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电源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励磁回路的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定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电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磁通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不变，即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常数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334120" y="1269360"/>
            <a:ext cx="3570120" cy="3226320"/>
            <a:chOff x="5334120" y="1269360"/>
            <a:chExt cx="3570120" cy="3226320"/>
          </a:xfrm>
        </p:grpSpPr>
        <p:sp>
          <p:nvSpPr>
            <p:cNvPr id="745" name=""/>
            <p:cNvSpPr/>
            <p:nvPr/>
          </p:nvSpPr>
          <p:spPr>
            <a:xfrm>
              <a:off x="7364520" y="2808360"/>
              <a:ext cx="0" cy="6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67480" y="2162160"/>
              <a:ext cx="80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_x0001_"/>
                </a:rPr>
                <a:t>I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_x0001_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118360" y="231696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88040" y="2298600"/>
              <a:ext cx="533520" cy="509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13960" y="2323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_x0001_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34200" y="2706840"/>
              <a:ext cx="23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350120" y="179856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364520" y="279576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66160" y="3424320"/>
              <a:ext cx="42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8467560" y="1720800"/>
              <a:ext cx="141120" cy="1795320"/>
              <a:chOff x="8467560" y="1720800"/>
              <a:chExt cx="141120" cy="1795320"/>
            </a:xfrm>
          </p:grpSpPr>
          <p:sp>
            <p:nvSpPr>
              <p:cNvPr id="755" name=""/>
              <p:cNvSpPr/>
              <p:nvPr/>
            </p:nvSpPr>
            <p:spPr>
              <a:xfrm>
                <a:off x="8488800" y="1720800"/>
                <a:ext cx="119880" cy="141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467560" y="3375000"/>
                <a:ext cx="119880" cy="141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599240" y="3341520"/>
              <a:ext cx="471600" cy="179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50120" y="342432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8297640" y="3053880"/>
              <a:ext cx="0" cy="3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32520" y="3054240"/>
              <a:ext cx="4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32520" y="3054240"/>
              <a:ext cx="0" cy="31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50120" y="1798560"/>
              <a:ext cx="11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362440" y="175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74320" y="289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2173320"/>
              <a:ext cx="0" cy="77472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062760" y="2575080"/>
              <a:ext cx="224640" cy="21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6062760" y="2359080"/>
              <a:ext cx="22464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6064200" y="2803680"/>
              <a:ext cx="224640" cy="21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062760" y="3025800"/>
              <a:ext cx="22464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43400" y="3209760"/>
              <a:ext cx="0" cy="77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43400" y="17938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45200" y="1793880"/>
              <a:ext cx="123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42160" y="3989520"/>
              <a:ext cx="14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375240" y="3906720"/>
              <a:ext cx="471600" cy="179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126120" y="398952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075440" y="3619080"/>
              <a:ext cx="0" cy="3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08880" y="361944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08880" y="361944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2384280"/>
              <a:ext cx="809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_x0001_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14800" y="2409840"/>
              <a:ext cx="0" cy="77292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6161040" y="3429000"/>
                  <a:ext cx="460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7292880" y="2890800"/>
                  <a:ext cx="5396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>
              <a:off x="8289720" y="340200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600" y="194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9080" y="252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20040" y="1269360"/>
              <a:ext cx="8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56400" y="1681200"/>
              <a:ext cx="62712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724800" y="2378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14960" y="3951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251920" y="336708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75440" y="39765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9.3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直流电动机的机械特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3095640" y="5972040"/>
                <a:ext cx="1809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"/>
          <p:cNvSpPr/>
          <p:nvPr/>
        </p:nvSpPr>
        <p:spPr>
          <a:xfrm>
            <a:off x="990720" y="5734080"/>
            <a:ext cx="8153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470400" y="4772160"/>
                <a:ext cx="31971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6" name=""/>
          <p:cNvGrpSpPr/>
          <p:nvPr/>
        </p:nvGrpSpPr>
        <p:grpSpPr>
          <a:xfrm>
            <a:off x="891360" y="4857840"/>
            <a:ext cx="2204280" cy="1076400"/>
            <a:chOff x="891360" y="4857840"/>
            <a:chExt cx="2204280" cy="1076400"/>
          </a:xfrm>
        </p:grpSpPr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1406520" y="4857840"/>
                  <a:ext cx="168912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Φ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8" name=""/>
            <p:cNvSpPr/>
            <p:nvPr/>
          </p:nvSpPr>
          <p:spPr>
            <a:xfrm>
              <a:off x="891360" y="50266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_x0001_"/>
                </a:rPr>
                <a:t>令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3352680" y="40863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gradFill rotWithShape="0">
            <a:gsLst>
              <a:gs pos="0">
                <a:srgbClr val="0000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4327560" y="3629160"/>
                <a:ext cx="4540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>
            <a:off x="1561320" y="914400"/>
            <a:ext cx="262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a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a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_x0001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368000" y="1450800"/>
            <a:ext cx="3059640" cy="15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即：并励电动机的磁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常数，转矩与电枢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成正比。</a:t>
            </a:r>
            <a:r>
              <a:rPr b="1" lang="zh-CN" sz="3200" spc="-1" strike="noStrike">
                <a:solidFill>
                  <a:srgbClr val="000000"/>
                </a:solidFill>
                <a:latin typeface="_x0001_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2971800" y="3587760"/>
            <a:ext cx="270000" cy="1147680"/>
          </a:xfrm>
          <a:custGeom>
            <a:avLst/>
            <a:gdLst>
              <a:gd name="textAreaLeft" fmla="*/ 172440 w 270000"/>
              <a:gd name="textAreaRight" fmla="*/ 270360 w 270000"/>
              <a:gd name="textAreaTop" fmla="*/ 29880 h 1147680"/>
              <a:gd name="textAreaBottom" fmla="*/ 1117800 h 11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762120" y="3367080"/>
                <a:ext cx="22590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5" name=""/>
          <p:cNvSpPr/>
          <p:nvPr/>
        </p:nvSpPr>
        <p:spPr>
          <a:xfrm>
            <a:off x="1051200" y="2943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以下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60240" y="362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181480" y="684720"/>
            <a:ext cx="3428640" cy="3129840"/>
            <a:chOff x="5181480" y="684720"/>
            <a:chExt cx="3428640" cy="3129840"/>
          </a:xfrm>
        </p:grpSpPr>
        <p:sp>
          <p:nvSpPr>
            <p:cNvPr id="808" name=""/>
            <p:cNvSpPr/>
            <p:nvPr/>
          </p:nvSpPr>
          <p:spPr>
            <a:xfrm>
              <a:off x="7131600" y="2172600"/>
              <a:ext cx="0" cy="58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30240" y="1540800"/>
              <a:ext cx="77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_x0001_"/>
                </a:rPr>
                <a:t>I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_x0001_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855560" y="1691280"/>
              <a:ext cx="75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65920" y="1683000"/>
              <a:ext cx="512280" cy="489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82120" y="1698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_x0001_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06320" y="2075040"/>
              <a:ext cx="2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7560" y="1202760"/>
              <a:ext cx="0" cy="52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31600" y="2160360"/>
              <a:ext cx="0" cy="59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05520" y="2764080"/>
              <a:ext cx="40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8190720" y="1127880"/>
              <a:ext cx="135360" cy="1724400"/>
              <a:chOff x="8190720" y="1127880"/>
              <a:chExt cx="135360" cy="1724400"/>
            </a:xfrm>
          </p:grpSpPr>
          <p:sp>
            <p:nvSpPr>
              <p:cNvPr id="818" name=""/>
              <p:cNvSpPr/>
              <p:nvPr/>
            </p:nvSpPr>
            <p:spPr>
              <a:xfrm>
                <a:off x="8210880" y="1127880"/>
                <a:ext cx="115200" cy="135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190720" y="2716920"/>
                <a:ext cx="115200" cy="135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7356960" y="2684520"/>
              <a:ext cx="452880" cy="17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17560" y="2764080"/>
              <a:ext cx="2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8027640" y="2408760"/>
              <a:ext cx="0" cy="37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80880" y="2408760"/>
              <a:ext cx="44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580880" y="2408760"/>
              <a:ext cx="0" cy="29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17560" y="1202760"/>
              <a:ext cx="110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90640" y="116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100720" y="225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49840" y="1562400"/>
              <a:ext cx="0" cy="74412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5881320" y="1948320"/>
              <a:ext cx="215280" cy="20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881320" y="1740960"/>
              <a:ext cx="21528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5882400" y="2167920"/>
              <a:ext cx="215280" cy="20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5881320" y="2381400"/>
              <a:ext cx="21528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958720" y="2558160"/>
              <a:ext cx="0" cy="74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958720" y="1198080"/>
              <a:ext cx="0" cy="59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960160" y="1198080"/>
              <a:ext cx="11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629760" y="3306960"/>
              <a:ext cx="142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81200" y="3227760"/>
              <a:ext cx="452880" cy="17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942160" y="3306960"/>
              <a:ext cx="2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6853680" y="2951640"/>
              <a:ext cx="0" cy="37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05840" y="2951640"/>
              <a:ext cx="44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05840" y="2951640"/>
              <a:ext cx="0" cy="29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81480" y="1753560"/>
              <a:ext cx="777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_x0001_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739120" y="1789920"/>
              <a:ext cx="0" cy="74232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4" name=""/>
                <p:cNvSpPr txBox="1"/>
                <p:nvPr/>
              </p:nvSpPr>
              <p:spPr>
                <a:xfrm>
                  <a:off x="5975640" y="2768760"/>
                  <a:ext cx="44208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7062480" y="2251800"/>
                  <a:ext cx="518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6" name=""/>
            <p:cNvSpPr/>
            <p:nvPr/>
          </p:nvSpPr>
          <p:spPr>
            <a:xfrm>
              <a:off x="8020080" y="2742840"/>
              <a:ext cx="0" cy="5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28640" y="13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78320" y="190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82080" y="684720"/>
              <a:ext cx="7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315560" y="1089720"/>
              <a:ext cx="60228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17080" y="175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95720" y="3270600"/>
              <a:ext cx="698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983720" y="2709360"/>
              <a:ext cx="698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49360" y="3294720"/>
              <a:ext cx="1839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1295280" y="2289240"/>
                <a:ext cx="50292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T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转速降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6" name=""/>
          <p:cNvGrpSpPr/>
          <p:nvPr/>
        </p:nvGrpSpPr>
        <p:grpSpPr>
          <a:xfrm>
            <a:off x="741600" y="1359000"/>
            <a:ext cx="5430600" cy="1155600"/>
            <a:chOff x="741600" y="1359000"/>
            <a:chExt cx="5430600" cy="1155600"/>
          </a:xfrm>
        </p:grpSpPr>
        <mc:AlternateContent>
          <mc:Choice xmlns:a14="http://schemas.microsoft.com/office/drawing/2010/main" Requires="a14">
            <p:sp>
              <p:nvSpPr>
                <p:cNvPr id="857" name=""/>
                <p:cNvSpPr txBox="1"/>
                <p:nvPr/>
              </p:nvSpPr>
              <p:spPr>
                <a:xfrm>
                  <a:off x="1644480" y="1359000"/>
                  <a:ext cx="452772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Φ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理想空载转速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8" name=""/>
            <p:cNvSpPr/>
            <p:nvPr/>
          </p:nvSpPr>
          <p:spPr>
            <a:xfrm>
              <a:off x="741600" y="15868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_x0001_"/>
                </a:rPr>
                <a:t>式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514520" y="304920"/>
                <a:ext cx="578304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04920" y="3382200"/>
            <a:ext cx="39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_x0001_"/>
              </a:rPr>
              <a:t>n</a:t>
            </a:r>
            <a:r>
              <a:rPr b="1" lang="zh-CN" sz="3200" spc="-1" strike="noStrike">
                <a:solidFill>
                  <a:srgbClr val="cc0000"/>
                </a:solidFill>
                <a:latin typeface="_x0001_"/>
              </a:rPr>
              <a:t>= </a:t>
            </a:r>
            <a:r>
              <a:rPr b="1" i="1" lang="zh-CN" sz="3200" spc="-1" strike="noStrike">
                <a:solidFill>
                  <a:srgbClr val="cc0000"/>
                </a:solidFill>
                <a:latin typeface="_x0001_"/>
              </a:rPr>
              <a:t>f</a:t>
            </a:r>
            <a:r>
              <a:rPr b="1" lang="zh-CN" sz="3200" spc="-1" strike="noStrike">
                <a:solidFill>
                  <a:srgbClr val="cc0000"/>
                </a:solidFill>
                <a:latin typeface="_x0001_"/>
              </a:rPr>
              <a:t> (</a:t>
            </a:r>
            <a:r>
              <a:rPr b="1" i="1" lang="zh-CN" sz="3200" spc="-1" strike="noStrike">
                <a:solidFill>
                  <a:srgbClr val="cc0000"/>
                </a:solidFill>
                <a:latin typeface="_x0001_"/>
              </a:rPr>
              <a:t>T</a:t>
            </a:r>
            <a:r>
              <a:rPr b="1" lang="zh-CN" sz="3200" spc="-1" strike="noStrike">
                <a:solidFill>
                  <a:srgbClr val="cc0000"/>
                </a:solidFill>
                <a:latin typeface="_x0001_"/>
              </a:rPr>
              <a:t>)</a:t>
            </a:r>
            <a:r>
              <a:rPr b="1" i="1" lang="zh-CN" sz="3200" spc="-1" strike="noStrike">
                <a:solidFill>
                  <a:srgbClr val="cc0000"/>
                </a:solidFill>
                <a:latin typeface="_x0001_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特性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108760" y="3093840"/>
            <a:ext cx="2744640" cy="579600"/>
            <a:chOff x="5108760" y="3093840"/>
            <a:chExt cx="2744640" cy="579600"/>
          </a:xfrm>
        </p:grpSpPr>
        <p:sp>
          <p:nvSpPr>
            <p:cNvPr id="862" name=""/>
            <p:cNvSpPr/>
            <p:nvPr/>
          </p:nvSpPr>
          <p:spPr>
            <a:xfrm>
              <a:off x="5108760" y="3093840"/>
              <a:ext cx="51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694480" y="3597120"/>
              <a:ext cx="21589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678640" y="3581280"/>
            <a:ext cx="2057400" cy="238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121360" y="3449520"/>
            <a:ext cx="2639880" cy="630360"/>
            <a:chOff x="5121360" y="3449520"/>
            <a:chExt cx="2639880" cy="630360"/>
          </a:xfrm>
        </p:grpSpPr>
        <p:sp>
          <p:nvSpPr>
            <p:cNvPr id="866" name=""/>
            <p:cNvSpPr/>
            <p:nvPr/>
          </p:nvSpPr>
          <p:spPr>
            <a:xfrm>
              <a:off x="5719680" y="3825720"/>
              <a:ext cx="2041560" cy="12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21360" y="3449520"/>
              <a:ext cx="5940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99"/>
                  </a:solidFill>
                  <a:latin typeface="_x0001_"/>
                </a:rPr>
                <a:t>n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_x0001_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125120" y="3554280"/>
            <a:ext cx="537480" cy="2282760"/>
            <a:chOff x="7125120" y="3554280"/>
            <a:chExt cx="537480" cy="2282760"/>
          </a:xfrm>
        </p:grpSpPr>
        <p:sp>
          <p:nvSpPr>
            <p:cNvPr id="869" name=""/>
            <p:cNvSpPr/>
            <p:nvPr/>
          </p:nvSpPr>
          <p:spPr>
            <a:xfrm>
              <a:off x="7318440" y="3554280"/>
              <a:ext cx="1440" cy="17953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25120" y="5257440"/>
              <a:ext cx="53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_x0001_"/>
                </a:rPr>
                <a:t>T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_x0001_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8850240" y="5024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4231440"/>
            <a:ext cx="4556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并励电动机在负载变化时， 转速 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n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的变化不大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—硬机械特性（自然特性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134440" y="572940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改变电枢电压和电枢回路串电阻可得人工特性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rId2"/>
          </p:cNvPr>
          <p:cNvSpPr/>
          <p:nvPr/>
        </p:nvSpPr>
        <p:spPr>
          <a:xfrm>
            <a:off x="3957480" y="3508200"/>
            <a:ext cx="69084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aedaa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_x0001_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264640" y="2894760"/>
            <a:ext cx="3274200" cy="2898000"/>
            <a:chOff x="5264640" y="2894760"/>
            <a:chExt cx="3274200" cy="2898000"/>
          </a:xfrm>
        </p:grpSpPr>
        <p:sp>
          <p:nvSpPr>
            <p:cNvPr id="876" name=""/>
            <p:cNvSpPr/>
            <p:nvPr/>
          </p:nvSpPr>
          <p:spPr>
            <a:xfrm>
              <a:off x="5715000" y="5308560"/>
              <a:ext cx="27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691240" y="3076560"/>
              <a:ext cx="0" cy="22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43080" y="28947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_x0001_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4640" y="5029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169120" y="527220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7543800" y="3124080"/>
            <a:ext cx="690840" cy="1143000"/>
            <a:chOff x="7543800" y="3124080"/>
            <a:chExt cx="690840" cy="1143000"/>
          </a:xfrm>
        </p:grpSpPr>
        <p:sp>
          <p:nvSpPr>
            <p:cNvPr id="882" name=""/>
            <p:cNvSpPr/>
            <p:nvPr/>
          </p:nvSpPr>
          <p:spPr>
            <a:xfrm>
              <a:off x="7622640" y="342792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54380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7543800" y="38098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0" y="248040"/>
            <a:ext cx="9144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并励电动机，其额定数据如下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2KW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10V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000r/min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84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7.5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04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额定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 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额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枢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额定励磁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损耗功率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C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 及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额定转矩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 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电动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33520" y="2484360"/>
            <a:ext cx="693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输出功率，额定输入功率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52480" y="2895480"/>
                <a:ext cx="46483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81080" y="4191120"/>
                <a:ext cx="42674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38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1644840" y="38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额定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95280" y="5153040"/>
            <a:ext cx="327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额定励磁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728880" y="4986360"/>
                <a:ext cx="38149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1752120" y="5610240"/>
            <a:ext cx="1460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额定电枢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1881360" y="6095880"/>
                <a:ext cx="55101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8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4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802440" y="407880"/>
            <a:ext cx="7122240" cy="1073160"/>
            <a:chOff x="802440" y="407880"/>
            <a:chExt cx="7122240" cy="1073160"/>
          </a:xfrm>
        </p:grpSpPr>
        <p:sp>
          <p:nvSpPr>
            <p:cNvPr id="895" name=""/>
            <p:cNvSpPr/>
            <p:nvPr/>
          </p:nvSpPr>
          <p:spPr>
            <a:xfrm>
              <a:off x="802440" y="407880"/>
              <a:ext cx="2236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电枢电路铜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6" name=""/>
                <p:cNvSpPr txBox="1"/>
                <p:nvPr/>
              </p:nvSpPr>
              <p:spPr>
                <a:xfrm>
                  <a:off x="1314360" y="865080"/>
                  <a:ext cx="661032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sSub>
                            <m:e>
                              <m:r>
                                <m:t xml:space="preserve">2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3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190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7" name=""/>
          <p:cNvGrpSpPr/>
          <p:nvPr/>
        </p:nvGrpSpPr>
        <p:grpSpPr>
          <a:xfrm>
            <a:off x="920520" y="1398600"/>
            <a:ext cx="6366240" cy="1073160"/>
            <a:chOff x="920520" y="1398600"/>
            <a:chExt cx="6366240" cy="1073160"/>
          </a:xfrm>
        </p:grpSpPr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1371600" y="1855800"/>
                  <a:ext cx="59151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C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sSub>
                            <m:e>
                              <m:r>
                                <m:t xml:space="preserve">2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40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9" name=""/>
            <p:cNvSpPr/>
            <p:nvPr/>
          </p:nvSpPr>
          <p:spPr>
            <a:xfrm>
              <a:off x="920520" y="1398600"/>
              <a:ext cx="14608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励磁电路铜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974880" y="2313000"/>
            <a:ext cx="7788240" cy="1066680"/>
            <a:chOff x="974880" y="2313000"/>
            <a:chExt cx="7788240" cy="1066680"/>
          </a:xfrm>
        </p:grpSpPr>
        <p:sp>
          <p:nvSpPr>
            <p:cNvPr id="901" name=""/>
            <p:cNvSpPr/>
            <p:nvPr/>
          </p:nvSpPr>
          <p:spPr>
            <a:xfrm>
              <a:off x="974880" y="2313000"/>
              <a:ext cx="1247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总损失功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1420920" y="2828880"/>
                  <a:ext cx="7342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ΔP</m:t>
                          </m:r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19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200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190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3" name=""/>
          <p:cNvGrpSpPr/>
          <p:nvPr/>
        </p:nvGrpSpPr>
        <p:grpSpPr>
          <a:xfrm>
            <a:off x="1047240" y="3198960"/>
            <a:ext cx="7523640" cy="1128600"/>
            <a:chOff x="1047240" y="3198960"/>
            <a:chExt cx="7523640" cy="1128600"/>
          </a:xfrm>
        </p:grpSpPr>
        <p:sp>
          <p:nvSpPr>
            <p:cNvPr id="904" name=""/>
            <p:cNvSpPr/>
            <p:nvPr/>
          </p:nvSpPr>
          <p:spPr>
            <a:xfrm>
              <a:off x="1047240" y="3198960"/>
              <a:ext cx="14608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空载损耗功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5" name=""/>
                <p:cNvSpPr txBox="1"/>
                <p:nvPr/>
              </p:nvSpPr>
              <p:spPr>
                <a:xfrm>
                  <a:off x="1447920" y="3760920"/>
                  <a:ext cx="712296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Δ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Δ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sSub>
                        <m:e>
                          <m:r>
                            <m:t xml:space="preserve">Δ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u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19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19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6" name=""/>
          <p:cNvGrpSpPr/>
          <p:nvPr/>
        </p:nvGrpSpPr>
        <p:grpSpPr>
          <a:xfrm>
            <a:off x="809640" y="4232160"/>
            <a:ext cx="6886440" cy="1357560"/>
            <a:chOff x="809640" y="4232160"/>
            <a:chExt cx="6886440" cy="1357560"/>
          </a:xfrm>
        </p:grpSpPr>
        <mc:AlternateContent>
          <mc:Choice xmlns:a14="http://schemas.microsoft.com/office/drawing/2010/main" Requires="a14">
            <p:sp>
              <p:nvSpPr>
                <p:cNvPr id="907" name=""/>
                <p:cNvSpPr txBox="1"/>
                <p:nvPr/>
              </p:nvSpPr>
              <p:spPr>
                <a:xfrm>
                  <a:off x="1498680" y="4584600"/>
                  <a:ext cx="6197400" cy="100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550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550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10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8" name=""/>
            <p:cNvSpPr/>
            <p:nvPr/>
          </p:nvSpPr>
          <p:spPr>
            <a:xfrm>
              <a:off x="809640" y="423216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额定转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809640" y="5451480"/>
            <a:ext cx="7419960" cy="1025640"/>
            <a:chOff x="809640" y="5451480"/>
            <a:chExt cx="7419960" cy="1025640"/>
          </a:xfrm>
        </p:grpSpPr>
        <p:sp>
          <p:nvSpPr>
            <p:cNvPr id="910" name=""/>
            <p:cNvSpPr/>
            <p:nvPr/>
          </p:nvSpPr>
          <p:spPr>
            <a:xfrm>
              <a:off x="809640" y="54514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反电动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1" name=""/>
                <p:cNvSpPr txBox="1"/>
                <p:nvPr/>
              </p:nvSpPr>
              <p:spPr>
                <a:xfrm>
                  <a:off x="1346040" y="5894280"/>
                  <a:ext cx="6883560" cy="5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0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23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9.4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并励电动机的起动与反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423880" y="1143000"/>
            <a:ext cx="481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直流电动机不允许在额定电压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下直接起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44720" y="3621960"/>
            <a:ext cx="8099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_x0001_"/>
              </a:rPr>
              <a:t>I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_x0001_"/>
              </a:rPr>
              <a:t>as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太大会使换向器产生严重的火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烧坏换向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2165400" y="2819520"/>
                <a:ext cx="36720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17" name=""/>
          <p:cNvGrpSpPr/>
          <p:nvPr/>
        </p:nvGrpSpPr>
        <p:grpSpPr>
          <a:xfrm>
            <a:off x="990720" y="2420280"/>
            <a:ext cx="5022720" cy="551160"/>
            <a:chOff x="990720" y="2420280"/>
            <a:chExt cx="5022720" cy="551160"/>
          </a:xfrm>
        </p:grpSpPr>
        <p:sp>
          <p:nvSpPr>
            <p:cNvPr id="918" name=""/>
            <p:cNvSpPr/>
            <p:nvPr/>
          </p:nvSpPr>
          <p:spPr>
            <a:xfrm>
              <a:off x="990720" y="24202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起动时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_x0001_"/>
                </a:rPr>
                <a:t>n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=0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3505320" y="2466720"/>
                  <a:ext cx="25081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Φn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0" name=""/>
          <p:cNvSpPr/>
          <p:nvPr/>
        </p:nvSpPr>
        <p:spPr>
          <a:xfrm>
            <a:off x="952560" y="156060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起动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52480" y="19810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电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22320" y="419112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转矩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4952880"/>
            <a:ext cx="800100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动时，起动转矩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0~20)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造成机械冲击，使传动机构遭受损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3505320" y="4495680"/>
                <a:ext cx="1328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5" name=""/>
          <p:cNvSpPr/>
          <p:nvPr/>
        </p:nvSpPr>
        <p:spPr>
          <a:xfrm>
            <a:off x="1828800" y="595800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一般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ast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限制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.5~2.5)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9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直流电动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了解直流电动机的基本构造和工作原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掌握他励（并励）和串励直流电动机的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压与电流的关系式，接线图、机械特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搞清他励（并励）和串励直流电动机的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、反转和调速的基本原理和基本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3320" y="1401840"/>
            <a:ext cx="28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本章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起动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457200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注意事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0" y="809280"/>
            <a:ext cx="3391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枢串电阻起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1895400" y="1317600"/>
                <a:ext cx="42768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0" name=""/>
          <p:cNvSpPr/>
          <p:nvPr/>
        </p:nvSpPr>
        <p:spPr>
          <a:xfrm>
            <a:off x="667080" y="374796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降压起动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50800" y="5444640"/>
            <a:ext cx="8136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流电动机在起动和工作时，励磁电路一定要接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能让它断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且起动时要满励磁。否则，磁路中只有很少的剩磁，可能产生事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947960" y="2292480"/>
                <a:ext cx="204768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3" name=""/>
          <p:cNvSpPr/>
          <p:nvPr/>
        </p:nvSpPr>
        <p:spPr>
          <a:xfrm>
            <a:off x="2061000" y="3276720"/>
            <a:ext cx="503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满磁下将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置最大处，逐渐减小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升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87120" y="3733920"/>
            <a:ext cx="225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大起动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905120" y="4168800"/>
                <a:ext cx="46479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80880" y="879120"/>
            <a:ext cx="84582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电动机是静止的，由于转矩太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T=K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_x0001_"/>
              </a:rPr>
              <a:t>T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 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)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机将不能起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时反电动势为零，电枢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很大，电枢绕组有被烧坏的危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2344320"/>
            <a:ext cx="89344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电动机在有载运行时断开励磁回路，反电动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立即减小而使电枢电流增大，同时由于所产生的　　转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满足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负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需要，电动机必将减速而停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更加促使电枢电流的增大，以至烧毁电枢绕组和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向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85800" y="4670640"/>
            <a:ext cx="55846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电机在空载运行，可能造成飞车，使电机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受严重的机械损伤，而且因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过大而将绕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烧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97440" y="5505840"/>
            <a:ext cx="58597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_x0001_"/>
              </a:rPr>
              <a:t>（</a:t>
            </a:r>
            <a:r>
              <a:rPr b="1" i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>
                <a:solidFill>
                  <a:srgbClr val="ff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_x0001_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zh-CN" sz="2800" spc="-1" strike="noStrike">
                <a:solidFill>
                  <a:srgbClr val="ff0000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_x0001_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zh-CN" sz="2800" spc="-1" strike="noStrike">
                <a:solidFill>
                  <a:srgbClr val="ff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zh-CN" sz="2800" spc="-1" strike="noStrike">
                <a:solidFill>
                  <a:srgbClr val="ff0000"/>
                </a:solidFill>
                <a:latin typeface="_x0001_"/>
              </a:rPr>
              <a:t>T 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zh-CN" sz="2800" spc="-1" strike="noStrike">
                <a:solidFill>
                  <a:srgbClr val="ff0000"/>
                </a:solidFill>
                <a:latin typeface="_x0001_"/>
              </a:rPr>
              <a:t>&gt;&gt;</a:t>
            </a:r>
            <a:r>
              <a:rPr b="1" i="1" lang="zh-CN" sz="2800" spc="-1" strike="noStrike" baseline="-25000">
                <a:solidFill>
                  <a:srgbClr val="ff0000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_x0001_"/>
              </a:rPr>
              <a:t>T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_x0001_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_x0001_"/>
              </a:rPr>
              <a:t> </a:t>
            </a:r>
            <a:r>
              <a:rPr b="1" i="1" lang="zh-CN" sz="2800" spc="-1" strike="noStrike" baseline="-25000">
                <a:solidFill>
                  <a:srgbClr val="ff0000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_x0001_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zh-CN" sz="2800" spc="-1" strike="noStrike">
                <a:solidFill>
                  <a:srgbClr val="ff0000"/>
                </a:solidFill>
                <a:latin typeface="_x0001_"/>
              </a:rPr>
              <a:t>飞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1905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反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4828320"/>
            <a:ext cx="8381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串励的单相手电钻，利用励磁电流和电枢电流两者的方向同时改变时而转向不变的原理，采用特别的串励电动机，使手电钻用单相交流电源或直流电源供电均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30160" y="881640"/>
            <a:ext cx="671364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电磁转矩：　　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T=K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_x0001_"/>
              </a:rPr>
              <a:t>T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 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a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89160" y="1828800"/>
            <a:ext cx="3080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改变励磁电流的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改变电枢电流的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3165480"/>
            <a:ext cx="7885080" cy="60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注意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改变转动方向时，励磁电流和电枢电流两者的方向不能同时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2120" y="1371600"/>
            <a:ext cx="5790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变直流电机转向的方法有两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22536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9.5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并励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他励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动机的调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45920" y="833760"/>
            <a:ext cx="55263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并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动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异步电动机相比，虽然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构复杂，价格高，维护也不方便，但在调速性能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其独特的优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2665080"/>
            <a:ext cx="80452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速均匀平滑，可以无级调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：异步机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变极对数调速的方法叫有级调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速范围大，调速比可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速比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最大转速和最小转速之比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此机械变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的齿轮箱可大大简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42320" y="2206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主要优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1394640" y="5065560"/>
            <a:ext cx="4015440" cy="1106640"/>
            <a:chOff x="1394640" y="5065560"/>
            <a:chExt cx="4015440" cy="1106640"/>
          </a:xfrm>
        </p:grpSpPr>
        <p:sp>
          <p:nvSpPr>
            <p:cNvPr id="951" name=""/>
            <p:cNvSpPr/>
            <p:nvPr/>
          </p:nvSpPr>
          <p:spPr>
            <a:xfrm>
              <a:off x="1394640" y="5257800"/>
              <a:ext cx="14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由转速公式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3352680" y="5065560"/>
                  <a:ext cx="2057400" cy="11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U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Φ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3" name=""/>
          <p:cNvSpPr/>
          <p:nvPr/>
        </p:nvSpPr>
        <p:spPr>
          <a:xfrm>
            <a:off x="3478680" y="6019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可见直流电机调速方法有三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609480" y="2590560"/>
            <a:ext cx="8077320" cy="60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可见：在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U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一定的情况下，改变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可改变转速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n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26720" y="227880"/>
            <a:ext cx="26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9.5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改变磁通调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666880" y="1477800"/>
                <a:ext cx="358164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7" name=""/>
          <p:cNvSpPr/>
          <p:nvPr/>
        </p:nvSpPr>
        <p:spPr>
          <a:xfrm>
            <a:off x="609480" y="762120"/>
            <a:ext cx="807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持电枢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变，改变励磁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改变磁通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00368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62280" y="3747960"/>
            <a:ext cx="308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_x0001_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_x0001_"/>
              </a:rPr>
              <a:t>f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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_x0001_"/>
              </a:rPr>
              <a:t>f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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_x0001_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33520" y="3124080"/>
            <a:ext cx="8534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一般只采用减少励磁电流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弱磁通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的方法调速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800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Symbol"/>
                <a:ea typeface="Symbol"/>
              </a:rPr>
              <a:t>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改变磁通调速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321560" y="5424480"/>
            <a:ext cx="26827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减小磁通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只能上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75560" y="434340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变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的机械特性如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800600" y="3580560"/>
            <a:ext cx="4038120" cy="2836080"/>
            <a:chOff x="4800600" y="3580560"/>
            <a:chExt cx="4038120" cy="2836080"/>
          </a:xfrm>
        </p:grpSpPr>
        <p:grpSp>
          <p:nvGrpSpPr>
            <p:cNvPr id="965" name=""/>
            <p:cNvGrpSpPr/>
            <p:nvPr/>
          </p:nvGrpSpPr>
          <p:grpSpPr>
            <a:xfrm>
              <a:off x="4800600" y="3580560"/>
              <a:ext cx="4038120" cy="2836080"/>
              <a:chOff x="4800600" y="3580560"/>
              <a:chExt cx="4038120" cy="2836080"/>
            </a:xfrm>
          </p:grpSpPr>
          <p:sp>
            <p:nvSpPr>
              <p:cNvPr id="966" name=""/>
              <p:cNvSpPr/>
              <p:nvPr/>
            </p:nvSpPr>
            <p:spPr>
              <a:xfrm flipV="1">
                <a:off x="5457960" y="3749040"/>
                <a:ext cx="0" cy="21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0080" y="5959440"/>
                <a:ext cx="301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457960" y="4663800"/>
                <a:ext cx="220968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454720" y="4414680"/>
                <a:ext cx="2165400" cy="47772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432400" y="4165560"/>
                <a:ext cx="2187720" cy="574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62720" y="4663800"/>
                <a:ext cx="0" cy="13716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72" name=""/>
                  <p:cNvSpPr txBox="1"/>
                  <p:nvPr/>
                </p:nvSpPr>
                <p:spPr>
                  <a:xfrm>
                    <a:off x="4851360" y="4424400"/>
                    <a:ext cx="5302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73" name=""/>
                  <p:cNvSpPr txBox="1"/>
                  <p:nvPr/>
                </p:nvSpPr>
                <p:spPr>
                  <a:xfrm>
                    <a:off x="4800600" y="3706560"/>
                    <a:ext cx="709560" cy="56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74" name=""/>
                  <p:cNvSpPr txBox="1"/>
                  <p:nvPr/>
                </p:nvSpPr>
                <p:spPr>
                  <a:xfrm>
                    <a:off x="4861080" y="4038480"/>
                    <a:ext cx="54900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'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75" name=""/>
              <p:cNvSpPr/>
              <p:nvPr/>
            </p:nvSpPr>
            <p:spPr>
              <a:xfrm>
                <a:off x="7154640" y="5837040"/>
                <a:ext cx="476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_x0001_"/>
                  </a:rPr>
                  <a:t>T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_x0001_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7818480" y="4184280"/>
                <a:ext cx="0" cy="1073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940520" y="5790240"/>
                <a:ext cx="36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_x0001_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513040" y="3580560"/>
                <a:ext cx="42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_x0001_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231760" y="3820320"/>
                <a:ext cx="606960" cy="172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_x0001_"/>
                  </a:rPr>
                  <a:t>（</a:t>
                </a:r>
                <a:r>
                  <a:rPr b="1" i="1" lang="zh-CN" sz="2800" spc="-1" strike="noStrike">
                    <a:solidFill>
                      <a:srgbClr val="000099"/>
                    </a:solidFill>
                    <a:latin typeface="_x0001_"/>
                  </a:rPr>
                  <a:t> 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_x0001_"/>
                  </a:rPr>
                  <a:t> 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_x0001_"/>
                  </a:rPr>
                  <a:t>减小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_x0001_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932600" y="4062240"/>
                <a:ext cx="43200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99"/>
                    </a:solidFill>
                    <a:latin typeface="_x0001_"/>
                  </a:rPr>
                  <a:t>R</a:t>
                </a:r>
                <a:r>
                  <a:rPr b="1" i="1" lang="zh-CN" sz="2400" spc="-1" strike="noStrike" baseline="-25000">
                    <a:solidFill>
                      <a:srgbClr val="000099"/>
                    </a:solidFill>
                    <a:latin typeface="_x0001_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_x0001_"/>
                  </a:rPr>
                  <a:t>增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_x0001_"/>
                  </a:rPr>
                  <a:t>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6200000">
                <a:off x="8184240" y="4094640"/>
                <a:ext cx="6069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031360" y="5680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>
            <a:hlinkClick r:id="rId4"/>
          </p:cNvPr>
          <p:cNvSpPr/>
          <p:nvPr/>
        </p:nvSpPr>
        <p:spPr>
          <a:xfrm>
            <a:off x="6629400" y="3733920"/>
            <a:ext cx="69048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aedaa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_x0001_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457200" y="129456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速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728360" y="4784760"/>
            <a:ext cx="305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达到新的平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19800" y="1905120"/>
            <a:ext cx="39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电压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U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保持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一定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减小磁通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。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286000" y="426960"/>
                <a:ext cx="3505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943600" y="2147760"/>
                <a:ext cx="14479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9" name=""/>
          <p:cNvGrpSpPr/>
          <p:nvPr/>
        </p:nvGrpSpPr>
        <p:grpSpPr>
          <a:xfrm>
            <a:off x="1260000" y="2514600"/>
            <a:ext cx="7009920" cy="2288520"/>
            <a:chOff x="1260000" y="2514600"/>
            <a:chExt cx="7009920" cy="2288520"/>
          </a:xfrm>
        </p:grpSpPr>
        <p:sp>
          <p:nvSpPr>
            <p:cNvPr id="990" name=""/>
            <p:cNvSpPr/>
            <p:nvPr/>
          </p:nvSpPr>
          <p:spPr>
            <a:xfrm>
              <a:off x="1260000" y="2736720"/>
              <a:ext cx="68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f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951640" y="2823480"/>
              <a:ext cx="68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</a:t>
              </a: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331240" y="281880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97080" y="271296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35520" y="397584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295280" y="3855960"/>
              <a:ext cx="73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03600" y="396180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1980360" y="407340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199680" y="4114800"/>
              <a:ext cx="685800" cy="266760"/>
            </a:xfrm>
            <a:prstGeom prst="rightArrow">
              <a:avLst>
                <a:gd name="adj1" fmla="val 50000"/>
                <a:gd name="adj2" fmla="val 6427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16080" y="4343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_x0001_"/>
                </a:rPr>
                <a:t>瞬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551120" y="3657600"/>
              <a:ext cx="111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T</a:t>
              </a:r>
              <a:r>
                <a:rPr b="1" i="1" lang="en-US" sz="2800" spc="-1" strike="noStrike" baseline="-25000">
                  <a:solidFill>
                    <a:srgbClr val="ff3300"/>
                  </a:solidFill>
                  <a:latin typeface="_x0001_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_x0001_"/>
                </a:rPr>
                <a:t>&gt;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T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_x0001_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08160" y="2971800"/>
              <a:ext cx="787320" cy="233280"/>
            </a:xfrm>
            <a:prstGeom prst="rightArrow">
              <a:avLst>
                <a:gd name="adj1" fmla="val 50000"/>
                <a:gd name="adj2" fmla="val 8437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2971800"/>
              <a:ext cx="1520640" cy="255600"/>
            </a:xfrm>
            <a:prstGeom prst="rightArrow">
              <a:avLst>
                <a:gd name="adj1" fmla="val 50000"/>
                <a:gd name="adj2" fmla="val 148732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616720" y="3932280"/>
              <a:ext cx="56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3581280" y="2514600"/>
                  <a:ext cx="17748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Φ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 flipH="1">
              <a:off x="4495680" y="4141800"/>
              <a:ext cx="990720" cy="262080"/>
            </a:xfrm>
            <a:prstGeom prst="rightArrow">
              <a:avLst>
                <a:gd name="adj1" fmla="val 50000"/>
                <a:gd name="adj2" fmla="val 9450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6337440" y="3581280"/>
                  <a:ext cx="152244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Φ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007" name=""/>
            <p:cNvGrpSpPr/>
            <p:nvPr/>
          </p:nvGrpSpPr>
          <p:grpSpPr>
            <a:xfrm>
              <a:off x="6248520" y="3638520"/>
              <a:ext cx="1828800" cy="704880"/>
              <a:chOff x="6248520" y="3638520"/>
              <a:chExt cx="1828800" cy="704880"/>
            </a:xfrm>
          </p:grpSpPr>
          <p:sp>
            <p:nvSpPr>
              <p:cNvPr id="1008" name=""/>
              <p:cNvSpPr/>
              <p:nvPr/>
            </p:nvSpPr>
            <p:spPr>
              <a:xfrm>
                <a:off x="7926840" y="3638520"/>
                <a:ext cx="150120" cy="609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6248520" y="4095720"/>
                <a:ext cx="1828800" cy="247680"/>
              </a:xfrm>
              <a:prstGeom prst="rightArrow">
                <a:avLst>
                  <a:gd name="adj1" fmla="val 50000"/>
                  <a:gd name="adj2" fmla="val 184593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6019920" y="2971800"/>
              <a:ext cx="1520640" cy="255600"/>
            </a:xfrm>
            <a:prstGeom prst="rightArrow">
              <a:avLst>
                <a:gd name="adj1" fmla="val 50000"/>
                <a:gd name="adj2" fmla="val 148732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290520" y="900000"/>
            <a:ext cx="88534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速平滑，可得到无级调速；但只能向上调，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机械本身强度所限，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能太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速设备简单，经济，电流小，便于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械特性较硬，稳定性较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专门生产的调磁电动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调速幅度可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30~2120 r/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10~1 240 r/mi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85600" y="499320"/>
            <a:ext cx="25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减小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i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调速的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57200" y="4631760"/>
            <a:ext cx="838188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调速后</a:t>
            </a:r>
            <a:r>
              <a:rPr b="1" i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a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不变，电动机在高速运转时其负载转矩必须减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种调速方法只适用于恒功率调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用于切削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173600" y="39618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使用调磁调速时应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52280" y="3886200"/>
            <a:ext cx="891540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33520" y="3952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9.5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改变电压调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85800" y="2494800"/>
            <a:ext cx="4038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转速公式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电压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化，但斜率不变，所以调速特性是一组平行曲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825080" y="2496960"/>
            <a:ext cx="2763000" cy="579600"/>
            <a:chOff x="4825080" y="2496960"/>
            <a:chExt cx="2763000" cy="579600"/>
          </a:xfrm>
        </p:grpSpPr>
        <p:sp>
          <p:nvSpPr>
            <p:cNvPr id="1019" name=""/>
            <p:cNvSpPr/>
            <p:nvPr/>
          </p:nvSpPr>
          <p:spPr>
            <a:xfrm>
              <a:off x="5470560" y="2687760"/>
              <a:ext cx="2117520" cy="15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25080" y="2496960"/>
              <a:ext cx="67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_x0001_"/>
                </a:rPr>
                <a:t>n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_x0001_"/>
                </a:rPr>
                <a:t>0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_x0001_"/>
                </a:rPr>
                <a:t>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4818960" y="2120760"/>
            <a:ext cx="2769120" cy="579600"/>
            <a:chOff x="4818960" y="2120760"/>
            <a:chExt cx="2769120" cy="579600"/>
          </a:xfrm>
        </p:grpSpPr>
        <p:sp>
          <p:nvSpPr>
            <p:cNvPr id="1022" name=""/>
            <p:cNvSpPr/>
            <p:nvPr/>
          </p:nvSpPr>
          <p:spPr>
            <a:xfrm>
              <a:off x="5470560" y="2489040"/>
              <a:ext cx="2117520" cy="15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18960" y="2120760"/>
              <a:ext cx="60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_x0001_"/>
                </a:rPr>
                <a:t>n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_x0001_"/>
                </a:rPr>
                <a:t>0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_x0001_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7745400" y="2143080"/>
            <a:ext cx="622440" cy="900000"/>
            <a:chOff x="7745400" y="2143080"/>
            <a:chExt cx="622440" cy="900000"/>
          </a:xfrm>
        </p:grpSpPr>
        <p:sp>
          <p:nvSpPr>
            <p:cNvPr id="1025" name=""/>
            <p:cNvSpPr/>
            <p:nvPr/>
          </p:nvSpPr>
          <p:spPr>
            <a:xfrm>
              <a:off x="7745400" y="2154240"/>
              <a:ext cx="0" cy="8888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797960" y="2143080"/>
              <a:ext cx="5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_x0001_"/>
                </a:rPr>
                <a:t>电压降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7010280" y="23670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7253280" y="2394000"/>
            <a:ext cx="552240" cy="1866240"/>
            <a:chOff x="7253280" y="2394000"/>
            <a:chExt cx="552240" cy="1866240"/>
          </a:xfrm>
        </p:grpSpPr>
        <p:sp>
          <p:nvSpPr>
            <p:cNvPr id="1029" name=""/>
            <p:cNvSpPr/>
            <p:nvPr/>
          </p:nvSpPr>
          <p:spPr>
            <a:xfrm>
              <a:off x="7253280" y="2394000"/>
              <a:ext cx="0" cy="174132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288200" y="3611520"/>
              <a:ext cx="51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99"/>
                  </a:solidFill>
                  <a:latin typeface="_x0001_"/>
                </a:rPr>
                <a:t>T</a:t>
              </a:r>
              <a:r>
                <a:rPr b="1" lang="zh-CN" sz="3200" spc="-1" strike="noStrike" baseline="-25000">
                  <a:solidFill>
                    <a:srgbClr val="000099"/>
                  </a:solidFill>
                  <a:latin typeface="_x0001_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6369120" y="411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特性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4811760" y="1786680"/>
            <a:ext cx="2776320" cy="666000"/>
            <a:chOff x="4811760" y="1786680"/>
            <a:chExt cx="2776320" cy="666000"/>
          </a:xfrm>
        </p:grpSpPr>
        <p:sp>
          <p:nvSpPr>
            <p:cNvPr id="1033" name=""/>
            <p:cNvSpPr/>
            <p:nvPr/>
          </p:nvSpPr>
          <p:spPr>
            <a:xfrm>
              <a:off x="5470560" y="2295360"/>
              <a:ext cx="2117520" cy="157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11760" y="1786680"/>
              <a:ext cx="51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5025240" y="1675440"/>
            <a:ext cx="3436920" cy="3025080"/>
            <a:chOff x="5025240" y="1675440"/>
            <a:chExt cx="3436920" cy="3025080"/>
          </a:xfrm>
        </p:grpSpPr>
        <p:sp>
          <p:nvSpPr>
            <p:cNvPr id="1036" name=""/>
            <p:cNvSpPr/>
            <p:nvPr/>
          </p:nvSpPr>
          <p:spPr>
            <a:xfrm>
              <a:off x="5410080" y="415620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1480" y="1998720"/>
              <a:ext cx="0" cy="21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98640" y="16754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_x0001_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92440" y="417996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025240" y="3875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_x0001_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1479600" y="928800"/>
                <a:ext cx="5378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4267080" y="395280"/>
                <a:ext cx="2362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Φ和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一定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3" name=""/>
          <p:cNvSpPr/>
          <p:nvPr/>
        </p:nvSpPr>
        <p:spPr>
          <a:xfrm>
            <a:off x="1402920" y="403776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改变电压调速的特点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4572000"/>
            <a:ext cx="83059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工作时电压不允许超过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N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而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n 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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 U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调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能向下调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67840" y="5486400"/>
            <a:ext cx="494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械特性较硬，并且电压降低后硬度不变，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性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1887120" y="555480"/>
            <a:ext cx="47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匀调节电枢电压，可得到平滑无级调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995760" y="10890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速幅度较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57200" y="153756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速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06840" y="2063880"/>
            <a:ext cx="38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保持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f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为额定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减小电枢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电压。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1104480" y="2743200"/>
            <a:ext cx="7193520" cy="1508400"/>
            <a:chOff x="1104480" y="2743200"/>
            <a:chExt cx="7193520" cy="1508400"/>
          </a:xfrm>
        </p:grpSpPr>
        <p:sp>
          <p:nvSpPr>
            <p:cNvPr id="1051" name=""/>
            <p:cNvSpPr/>
            <p:nvPr/>
          </p:nvSpPr>
          <p:spPr>
            <a:xfrm>
              <a:off x="1104480" y="276624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26000" y="2793960"/>
              <a:ext cx="618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411440" y="2789280"/>
              <a:ext cx="73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T</a:t>
              </a:r>
              <a:r>
                <a:rPr b="1" i="1" lang="en-US" sz="2800" spc="-1" strike="noStrike" baseline="-25000">
                  <a:solidFill>
                    <a:srgbClr val="ff3300"/>
                  </a:solidFill>
                  <a:latin typeface="_x0001_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637640" y="3672000"/>
              <a:ext cx="1550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_x0001_"/>
                </a:rPr>
                <a:t>T</a:t>
              </a:r>
              <a:r>
                <a:rPr b="1" i="1" lang="zh-CN" sz="2800" spc="-1" strike="noStrike" baseline="-25000">
                  <a:solidFill>
                    <a:srgbClr val="000099"/>
                  </a:solidFill>
                  <a:latin typeface="_x0001_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= 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_x0001_"/>
                </a:rPr>
                <a:t>T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_x0001_"/>
                </a:rPr>
                <a:t>C</a:t>
              </a: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稳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947600" y="2971800"/>
              <a:ext cx="787680" cy="233640"/>
            </a:xfrm>
            <a:prstGeom prst="rightArrow">
              <a:avLst>
                <a:gd name="adj1" fmla="val 50000"/>
                <a:gd name="adj2" fmla="val 84284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6773400" y="3429000"/>
              <a:ext cx="1155960" cy="708120"/>
              <a:chOff x="6773400" y="3429000"/>
              <a:chExt cx="1155960" cy="708120"/>
            </a:xfrm>
          </p:grpSpPr>
          <p:sp>
            <p:nvSpPr>
              <p:cNvPr id="1057" name=""/>
              <p:cNvSpPr/>
              <p:nvPr/>
            </p:nvSpPr>
            <p:spPr>
              <a:xfrm>
                <a:off x="7810560" y="3429000"/>
                <a:ext cx="118800" cy="609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6773040" y="3895920"/>
                <a:ext cx="1143000" cy="241200"/>
              </a:xfrm>
              <a:prstGeom prst="rightArrow">
                <a:avLst>
                  <a:gd name="adj1" fmla="val 50000"/>
                  <a:gd name="adj2" fmla="val 1184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573360" y="2971800"/>
              <a:ext cx="787320" cy="233640"/>
            </a:xfrm>
            <a:prstGeom prst="rightArrow">
              <a:avLst>
                <a:gd name="adj1" fmla="val 50000"/>
                <a:gd name="adj2" fmla="val 8424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87960" y="2789280"/>
              <a:ext cx="73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1" i="1" lang="en-US" sz="2800" spc="-1" strike="noStrike" baseline="-25000">
                  <a:solidFill>
                    <a:srgbClr val="ff3300"/>
                  </a:solidFill>
                  <a:latin typeface="_x0001_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49880" y="2971800"/>
              <a:ext cx="787320" cy="233640"/>
            </a:xfrm>
            <a:prstGeom prst="rightArrow">
              <a:avLst>
                <a:gd name="adj1" fmla="val 50000"/>
                <a:gd name="adj2" fmla="val 8424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649280" y="274320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850080" y="2971800"/>
              <a:ext cx="787320" cy="233640"/>
            </a:xfrm>
            <a:prstGeom prst="rightArrow">
              <a:avLst>
                <a:gd name="adj1" fmla="val 50000"/>
                <a:gd name="adj2" fmla="val 8424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105240" y="3627360"/>
              <a:ext cx="6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11440" y="3627360"/>
              <a:ext cx="73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T</a:t>
              </a:r>
              <a:r>
                <a:rPr b="1" i="1" lang="en-US" sz="2800" spc="-1" strike="noStrike" baseline="-25000">
                  <a:solidFill>
                    <a:srgbClr val="ff3300"/>
                  </a:solidFill>
                  <a:latin typeface="_x0001_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097240" y="3886200"/>
              <a:ext cx="787680" cy="233640"/>
            </a:xfrm>
            <a:prstGeom prst="rightArrow">
              <a:avLst>
                <a:gd name="adj1" fmla="val 50000"/>
                <a:gd name="adj2" fmla="val 84284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3547800" y="3881520"/>
              <a:ext cx="787680" cy="233280"/>
            </a:xfrm>
            <a:prstGeom prst="rightArrow">
              <a:avLst>
                <a:gd name="adj1" fmla="val 50000"/>
                <a:gd name="adj2" fmla="val 84414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609480" y="4387680"/>
            <a:ext cx="77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变电压调速需要用电压可以调节的专用设备，投资费用较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近年来已普遍采用晶闸管整流电源对电动机进行调压和调磁，以改变它的转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533520" y="446400"/>
            <a:ext cx="844056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:</a:t>
            </a:r>
            <a:r>
              <a:rPr b="1" lang="zh-CN" sz="3600" spc="-1" strike="noStrike">
                <a:solidFill>
                  <a:srgbClr val="ff5050"/>
                </a:solidFill>
                <a:latin typeface="_x0001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有一他励电动机， 已知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=220V ,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=53.8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       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=1500r/min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R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_x0001_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0.7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。今将电枢电压降低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半，而负载转矩不变，问转矩降低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09480" y="1874160"/>
            <a:ext cx="80010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由</a:t>
            </a:r>
            <a:r>
              <a:rPr b="1" i="1" lang="zh-CN" sz="3200" spc="-1" strike="noStrike">
                <a:solidFill>
                  <a:srgbClr val="000099"/>
                </a:solidFill>
                <a:latin typeface="_x0001_"/>
              </a:rPr>
              <a:t>T</a:t>
            </a:r>
            <a:r>
              <a:rPr b="1" lang="zh-CN" sz="3200" spc="-1" strike="noStrike">
                <a:solidFill>
                  <a:srgbClr val="000099"/>
                </a:solidFill>
                <a:latin typeface="_x0001_"/>
              </a:rPr>
              <a:t>=</a:t>
            </a:r>
            <a:r>
              <a:rPr b="1" i="1" lang="zh-CN" sz="3200" spc="-1" strike="noStrike">
                <a:solidFill>
                  <a:srgbClr val="000099"/>
                </a:solidFill>
                <a:latin typeface="_x0001_"/>
              </a:rPr>
              <a:t>K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_x0001_"/>
              </a:rPr>
              <a:t>T</a:t>
            </a:r>
            <a:r>
              <a:rPr b="1" i="1" lang="zh-CN" sz="32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1" lang="zh-CN" sz="3200" spc="-1" strike="noStrike">
                <a:solidFill>
                  <a:srgbClr val="000099"/>
                </a:solidFill>
                <a:latin typeface="_x0001_"/>
              </a:rPr>
              <a:t> </a:t>
            </a:r>
            <a:r>
              <a:rPr b="1" i="1" lang="zh-CN" sz="32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_x0001_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可知，在保持负载转矩和励磁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流不变的条件下，电流也保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339640" y="3000240"/>
            <a:ext cx="46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降低后的转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原来的转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比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808280" y="3581280"/>
                <a:ext cx="5356080" cy="27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Φ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286000" y="5905440"/>
                <a:ext cx="990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9.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直流电机的构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直流电动机虽然比三相交流异步电动机结构复杂，维修也不便，但由于它的调速性能较好和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动转矩较大，因此，对调速要求较高的生产机械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者需要较大起动转矩的生产机械往往采用直流电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机驱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895480"/>
            <a:ext cx="327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直流电机的优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352680"/>
            <a:ext cx="77724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调速性能好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, 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调速范围广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易于平滑调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起动、制动转矩大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易于快速起动、停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易于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695840"/>
            <a:ext cx="1542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应用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105520"/>
            <a:ext cx="85345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轧钢机、电气机车、中大型龙门刨床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矿山竖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升机以及起重设备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等调速范围大的大型设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用蓄电池做电源的地方，如汽车、拖拉机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1347480" y="334080"/>
            <a:ext cx="33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9.5.3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枢回路串电阻调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33520" y="1720800"/>
            <a:ext cx="487656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枢中串入电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变，即电机的特性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斜率变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在相同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矩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。特性曲线如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781680" y="1578600"/>
            <a:ext cx="608040" cy="625680"/>
          </a:xfrm>
          <a:prstGeom prst="wedgeRoundRectCallout">
            <a:avLst>
              <a:gd name="adj1" fmla="val -103250"/>
              <a:gd name="adj2" fmla="val 7696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_x0001_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_x0001_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5207040" y="1629360"/>
            <a:ext cx="3408120" cy="2928960"/>
            <a:chOff x="5207040" y="1629360"/>
            <a:chExt cx="3408120" cy="2928960"/>
          </a:xfrm>
        </p:grpSpPr>
        <p:sp>
          <p:nvSpPr>
            <p:cNvPr id="1078" name=""/>
            <p:cNvSpPr/>
            <p:nvPr/>
          </p:nvSpPr>
          <p:spPr>
            <a:xfrm>
              <a:off x="5859000" y="16293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_x0001_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15000" y="4008600"/>
              <a:ext cx="279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732640" y="1817280"/>
              <a:ext cx="0" cy="222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13560" y="2293920"/>
              <a:ext cx="2287440" cy="243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07040" y="1950840"/>
              <a:ext cx="51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245440" y="403776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371600" y="723960"/>
                <a:ext cx="5486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>
            <a:off x="2100600" y="3657600"/>
            <a:ext cx="46612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电枢回路串电阻调速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在电枢中串入专用电阻，电阻增大则转速下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因此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只能下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440800" y="502920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备简单，操作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512880" y="5486400"/>
            <a:ext cx="8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械特性软，稳定性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676520" y="59436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量损耗大，只用于小型直流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32640" y="2332080"/>
            <a:ext cx="2268360" cy="6732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15000" y="2286000"/>
            <a:ext cx="2209680" cy="127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621560" y="1583640"/>
            <a:ext cx="1209600" cy="625680"/>
          </a:xfrm>
          <a:prstGeom prst="wedgeRoundRectCallout">
            <a:avLst>
              <a:gd name="adj1" fmla="val -92009"/>
              <a:gd name="adj2" fmla="val 120902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_x0001_"/>
              </a:rPr>
              <a:t>R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_x0001_"/>
              </a:rPr>
              <a:t>a</a:t>
            </a:r>
            <a:r>
              <a:rPr b="1" i="1" lang="en-US" sz="2800" spc="-1" strike="noStrike" baseline="-25000">
                <a:solidFill>
                  <a:srgbClr val="008080"/>
                </a:solidFill>
                <a:latin typeface="_x0001_"/>
              </a:rPr>
              <a:t> </a:t>
            </a:r>
            <a:r>
              <a:rPr b="1" i="1" lang="en-US" sz="2800" spc="-1" strike="noStrike">
                <a:solidFill>
                  <a:srgbClr val="008080"/>
                </a:solidFill>
                <a:latin typeface="_x0001_"/>
              </a:rPr>
              <a:t>+</a:t>
            </a:r>
            <a:r>
              <a:rPr b="1" i="1" lang="en-US" sz="2800" spc="-1" strike="noStrike" baseline="-25000">
                <a:solidFill>
                  <a:srgbClr val="008080"/>
                </a:solidFill>
                <a:latin typeface="_x0001_"/>
              </a:rPr>
              <a:t> </a:t>
            </a:r>
            <a:r>
              <a:rPr b="1" i="1" lang="en-US" sz="2800" spc="-1" strike="noStrike">
                <a:solidFill>
                  <a:srgbClr val="008080"/>
                </a:solidFill>
                <a:latin typeface="_x0001_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001000" y="2514240"/>
            <a:ext cx="569880" cy="1143000"/>
            <a:chOff x="8001000" y="2514240"/>
            <a:chExt cx="569880" cy="1143000"/>
          </a:xfrm>
        </p:grpSpPr>
        <p:sp>
          <p:nvSpPr>
            <p:cNvPr id="1093" name=""/>
            <p:cNvSpPr/>
            <p:nvPr/>
          </p:nvSpPr>
          <p:spPr>
            <a:xfrm flipV="1">
              <a:off x="8534520" y="2514240"/>
              <a:ext cx="0" cy="11430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001000" y="2649600"/>
              <a:ext cx="5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_x0001_"/>
                </a:rPr>
                <a:t>电阻增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571680" y="655560"/>
            <a:ext cx="735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额定功率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机轴上输出的机械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373400" y="1076040"/>
            <a:ext cx="6131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额定电压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N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额定工作情况下的电枢上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直流电压。（例：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110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440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38360" y="2113560"/>
            <a:ext cx="832932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额定电流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N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额定电压下轴上输出额定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率时的电流（并励包括励磁和电枢电流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者关系：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N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=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N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N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（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：效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85800" y="3594240"/>
            <a:ext cx="762012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额定转速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n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_x0001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,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, </a:t>
            </a:r>
            <a:r>
              <a:rPr b="1" i="1" lang="zh-CN" sz="2800" spc="-1" strike="noStrike">
                <a:solidFill>
                  <a:srgbClr val="000000"/>
                </a:solidFill>
                <a:latin typeface="_x0001_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_x0001_"/>
              </a:rPr>
              <a:t>N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的转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流电机的转速一般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r/min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殊的直流电机转速可以做到很低（如每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钟几转）或很高（每分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以上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194920" y="5577120"/>
            <a:ext cx="5025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注意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速时对于没有调速要求的电机，最大转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能超过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1.2</a:t>
            </a:r>
            <a:r>
              <a:rPr b="1" i="1" lang="zh-CN" sz="2800" spc="-1" strike="noStrike">
                <a:solidFill>
                  <a:srgbClr val="000099"/>
                </a:solidFill>
                <a:latin typeface="_x0001_"/>
              </a:rPr>
              <a:t>n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_x0001_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_x0001_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直流电动机的额定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457200" y="2743200"/>
            <a:ext cx="8153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恒功率负载（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定时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反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要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软特性电机拖动。如：电气机车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403640" y="39456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直流电动机特性类型的选择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" y="805680"/>
            <a:ext cx="8486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恒转矩的生产机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定，和转速无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硬特性的电动机，如：金属加工、起重机械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57200" y="1954440"/>
            <a:ext cx="81532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风机械负载，机械负载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转速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平方成正比。这类机械也要选硬特性的电动机拖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344680" y="4191120"/>
            <a:ext cx="44478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流电机有四个出线端，电枢绕组、励磁绕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两个，可通过标出的字符和绕组电阻的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区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00360" y="3732840"/>
            <a:ext cx="27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9.5.4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动机的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连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48080" y="556200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(1) 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绕组的阻值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947240" y="6019920"/>
            <a:ext cx="41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电枢绕组的阻值在零点几欧姆到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欧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14400" y="838080"/>
            <a:ext cx="72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207520" y="1218600"/>
            <a:ext cx="50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他励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并励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电机的励磁绕组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的阻值有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几百欧姆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420640" y="15994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串励电机的励磁绕组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的阻值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与电枢绕组的相当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097640" y="205668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）绕组的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52640" y="30420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(1) 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绕组的阻值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265480" y="762120"/>
            <a:ext cx="41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电枢绕组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的阻值在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零点几欧姆到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1~2</a:t>
            </a:r>
            <a:r>
              <a:rPr b="1" lang="zh-CN" sz="2800" spc="-1" strike="noStrike">
                <a:solidFill>
                  <a:srgbClr val="000099"/>
                </a:solidFill>
                <a:latin typeface="_x0001_"/>
              </a:rPr>
              <a:t>欧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914400" y="2619360"/>
            <a:ext cx="7315200" cy="4071960"/>
            <a:chOff x="914400" y="2619360"/>
            <a:chExt cx="7315200" cy="4071960"/>
          </a:xfrm>
        </p:grpSpPr>
        <p:sp>
          <p:nvSpPr>
            <p:cNvPr id="1116" name=""/>
            <p:cNvSpPr/>
            <p:nvPr/>
          </p:nvSpPr>
          <p:spPr>
            <a:xfrm>
              <a:off x="1000080" y="2619360"/>
              <a:ext cx="715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54360" y="2619360"/>
              <a:ext cx="0" cy="407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914400" y="6615000"/>
              <a:ext cx="731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00080" y="3192480"/>
              <a:ext cx="715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690640" y="2638440"/>
              <a:ext cx="0" cy="39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179000" y="3189600"/>
              <a:ext cx="948600" cy="34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B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087000" y="3189600"/>
              <a:ext cx="948600" cy="34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B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_x0001_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452920" y="3159360"/>
              <a:ext cx="1611720" cy="33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电枢绕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他励绕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并励绕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串励绕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换向极绕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补偿绕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起动绕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79160" y="26528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始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60360" y="265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绕组名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07960" y="26568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39880" y="665280"/>
            <a:ext cx="5638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941640"/>
            <a:ext cx="2895480" cy="223056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381560" y="1622520"/>
            <a:ext cx="3085560" cy="3279600"/>
            <a:chOff x="4381560" y="1622520"/>
            <a:chExt cx="3085560" cy="3279600"/>
          </a:xfrm>
        </p:grpSpPr>
        <p:sp>
          <p:nvSpPr>
            <p:cNvPr id="65" name=""/>
            <p:cNvSpPr/>
            <p:nvPr/>
          </p:nvSpPr>
          <p:spPr>
            <a:xfrm>
              <a:off x="4381560" y="1622520"/>
              <a:ext cx="3009600" cy="2971800"/>
            </a:xfrm>
            <a:prstGeom prst="ellips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419360" y="4289400"/>
              <a:ext cx="3047760" cy="612720"/>
              <a:chOff x="4419360" y="4289400"/>
              <a:chExt cx="3047760" cy="612720"/>
            </a:xfrm>
          </p:grpSpPr>
          <p:sp>
            <p:nvSpPr>
              <p:cNvPr id="67" name=""/>
              <p:cNvSpPr/>
              <p:nvPr/>
            </p:nvSpPr>
            <p:spPr>
              <a:xfrm>
                <a:off x="4419360" y="4594320"/>
                <a:ext cx="3047760" cy="307800"/>
              </a:xfrm>
              <a:prstGeom prst="rect">
                <a:avLst/>
              </a:prstGeom>
              <a:solidFill>
                <a:srgbClr val="cc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800240" y="4289400"/>
                <a:ext cx="2413080" cy="514080"/>
                <a:chOff x="4800240" y="4289400"/>
                <a:chExt cx="2413080" cy="5140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204880" y="4289400"/>
                  <a:ext cx="1446840" cy="12384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283720" y="4374720"/>
                  <a:ext cx="1373760" cy="3150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800240" y="4625640"/>
                  <a:ext cx="2413080" cy="17784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4952520" y="4407120"/>
                <a:ext cx="325440" cy="182520"/>
              </a:xfrm>
              <a:custGeom>
                <a:avLst/>
                <a:gdLst/>
                <a:ahLst/>
                <a:rect l="l" t="t" r="r" b="b"/>
                <a:pathLst>
                  <a:path w="205" h="115">
                    <a:moveTo>
                      <a:pt x="151" y="0"/>
                    </a:moveTo>
                    <a:cubicBezTo>
                      <a:pt x="194" y="29"/>
                      <a:pt x="205" y="62"/>
                      <a:pt x="151" y="89"/>
                    </a:cubicBezTo>
                    <a:cubicBezTo>
                      <a:pt x="106" y="112"/>
                      <a:pt x="49" y="115"/>
                      <a:pt x="0" y="115"/>
                    </a:cubicBezTo>
                  </a:path>
                </a:pathLst>
              </a:custGeom>
              <a:solidFill>
                <a:srgbClr val="ccff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705200" y="1984320"/>
              <a:ext cx="2361960" cy="228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201280" y="2362320"/>
              <a:ext cx="1335240" cy="1329120"/>
              <a:chOff x="5201280" y="2362320"/>
              <a:chExt cx="1335240" cy="1329120"/>
            </a:xfrm>
          </p:grpSpPr>
          <p:sp>
            <p:nvSpPr>
              <p:cNvPr id="75" name=""/>
              <p:cNvSpPr/>
              <p:nvPr/>
            </p:nvSpPr>
            <p:spPr>
              <a:xfrm>
                <a:off x="6076080" y="2362320"/>
                <a:ext cx="12636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587560" y="2381400"/>
                <a:ext cx="11412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 rot="13854600">
                <a:off x="5408640" y="2541240"/>
                <a:ext cx="920520" cy="9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475" y="131"/>
                    </a:moveTo>
                    <a:arcTo wR="10800" hR="10800" stAng="-4864579" swAng="48553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475" y="131"/>
                    </a:moveTo>
                    <a:arcTo wR="10800" hR="10800" stAng="-4864579" swAng="485530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5293080" y="2569680"/>
              <a:ext cx="1335240" cy="1329120"/>
              <a:chOff x="5293080" y="2569680"/>
              <a:chExt cx="1335240" cy="13291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5627160" y="3584520"/>
                <a:ext cx="12636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6127920" y="3593880"/>
                <a:ext cx="11412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13854600">
                <a:off x="5500080" y="2747160"/>
                <a:ext cx="920520" cy="9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475" y="131"/>
                    </a:moveTo>
                    <a:arcTo wR="10800" hR="10800" stAng="-4864579" swAng="48553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475" y="131"/>
                    </a:moveTo>
                    <a:arcTo wR="10800" hR="10800" stAng="-4864579" swAng="485530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6686280" y="2860560"/>
              <a:ext cx="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5400000">
              <a:off x="6705360" y="2917800"/>
              <a:ext cx="34272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48240" y="2689200"/>
              <a:ext cx="875880" cy="85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76840" y="2898720"/>
              <a:ext cx="418680" cy="4381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363640" y="2417400"/>
              <a:ext cx="1328400" cy="1335240"/>
              <a:chOff x="5363640" y="2417400"/>
              <a:chExt cx="1328400" cy="133524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6378120" y="3292920"/>
                <a:ext cx="313920" cy="12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flipV="1">
                <a:off x="6387840" y="2803680"/>
                <a:ext cx="285480" cy="11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9254000">
                <a:off x="5567040" y="2597760"/>
                <a:ext cx="919800" cy="9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475" y="131"/>
                    </a:moveTo>
                    <a:arcTo wR="10800" hR="10800" stAng="-4864579" swAng="48553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475" y="131"/>
                    </a:moveTo>
                    <a:arcTo wR="10800" hR="10800" stAng="-4864579" swAng="485530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079960" y="2426760"/>
              <a:ext cx="1328400" cy="1335240"/>
              <a:chOff x="5079960" y="2426760"/>
              <a:chExt cx="1328400" cy="1335240"/>
            </a:xfrm>
          </p:grpSpPr>
          <p:sp>
            <p:nvSpPr>
              <p:cNvPr id="91" name=""/>
              <p:cNvSpPr/>
              <p:nvPr/>
            </p:nvSpPr>
            <p:spPr>
              <a:xfrm>
                <a:off x="5079960" y="3302280"/>
                <a:ext cx="313920" cy="12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098680" y="2813040"/>
                <a:ext cx="285480" cy="11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 rot="2346000">
                <a:off x="5284080" y="2607120"/>
                <a:ext cx="919800" cy="9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475" y="131"/>
                    </a:moveTo>
                    <a:arcTo wR="10800" hR="10800" stAng="-4864579" swAng="48553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475" y="131"/>
                    </a:moveTo>
                    <a:arcTo wR="10800" hR="10800" stAng="-4864579" swAng="485530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flipH="1">
              <a:off x="5714280" y="2003400"/>
              <a:ext cx="3423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67560" y="2841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562360" y="1774800"/>
              <a:ext cx="761040" cy="876600"/>
              <a:chOff x="5562360" y="1774800"/>
              <a:chExt cx="761040" cy="8766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5987520" y="1774800"/>
                <a:ext cx="335880" cy="876600"/>
                <a:chOff x="5987520" y="1774800"/>
                <a:chExt cx="335880" cy="876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076080" y="2017800"/>
                  <a:ext cx="114120" cy="118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076080" y="2166840"/>
                  <a:ext cx="114120" cy="1206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076080" y="2317680"/>
                  <a:ext cx="114120" cy="119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987520" y="2070000"/>
                  <a:ext cx="326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87520" y="1927080"/>
                  <a:ext cx="326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996880" y="1774800"/>
                  <a:ext cx="326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562360" y="2027160"/>
                <a:ext cx="123120" cy="428400"/>
                <a:chOff x="5562360" y="2027160"/>
                <a:chExt cx="123120" cy="42840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5562360" y="2036880"/>
                  <a:ext cx="114120" cy="418680"/>
                  <a:chOff x="5562360" y="2036880"/>
                  <a:chExt cx="114120" cy="41868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5562360" y="2036880"/>
                    <a:ext cx="114120" cy="119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562360" y="2186280"/>
                    <a:ext cx="114120" cy="119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562360" y="2336040"/>
                    <a:ext cx="114120" cy="119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5571720" y="2027160"/>
                  <a:ext cx="104400" cy="123840"/>
                  <a:chOff x="5571720" y="2027160"/>
                  <a:chExt cx="104400" cy="1238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5571720" y="2103480"/>
                    <a:ext cx="10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618880" y="2027160"/>
                    <a:ext cx="0" cy="123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5581080" y="2179440"/>
                  <a:ext cx="104400" cy="123840"/>
                  <a:chOff x="5581080" y="2179440"/>
                  <a:chExt cx="104400" cy="12384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5581080" y="2255760"/>
                    <a:ext cx="10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5628240" y="2179440"/>
                    <a:ext cx="0" cy="123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5568480" y="2322360"/>
                  <a:ext cx="104400" cy="123840"/>
                  <a:chOff x="5568480" y="2322360"/>
                  <a:chExt cx="104400" cy="1238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5568480" y="2398680"/>
                    <a:ext cx="10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615640" y="2322360"/>
                    <a:ext cx="0" cy="123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" name=""/>
            <p:cNvGrpSpPr/>
            <p:nvPr/>
          </p:nvGrpSpPr>
          <p:grpSpPr>
            <a:xfrm>
              <a:off x="6384960" y="2669760"/>
              <a:ext cx="876240" cy="336600"/>
              <a:chOff x="6384960" y="2669760"/>
              <a:chExt cx="876240" cy="3366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6629400" y="2800800"/>
                <a:ext cx="114480" cy="1184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6779520" y="2800080"/>
                <a:ext cx="114480" cy="120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6929280" y="2800800"/>
                <a:ext cx="114480" cy="118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6806880" y="2552040"/>
                <a:ext cx="32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6663960" y="2552040"/>
                <a:ext cx="32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6512040" y="2542320"/>
                <a:ext cx="32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653160" y="3292560"/>
              <a:ext cx="427320" cy="123840"/>
              <a:chOff x="6653160" y="3292560"/>
              <a:chExt cx="427320" cy="123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6662520" y="3301920"/>
                <a:ext cx="417960" cy="114480"/>
                <a:chOff x="6662520" y="3301920"/>
                <a:chExt cx="417960" cy="114480"/>
              </a:xfrm>
            </p:grpSpPr>
            <p:sp>
              <p:nvSpPr>
                <p:cNvPr id="127" name=""/>
                <p:cNvSpPr/>
                <p:nvPr/>
              </p:nvSpPr>
              <p:spPr>
                <a:xfrm rot="16200000">
                  <a:off x="6664680" y="3299400"/>
                  <a:ext cx="114480" cy="119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6200000">
                  <a:off x="6814080" y="3299400"/>
                  <a:ext cx="114480" cy="119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6200000">
                  <a:off x="6963480" y="3299400"/>
                  <a:ext cx="114480" cy="119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653160" y="3301920"/>
                <a:ext cx="123480" cy="104760"/>
                <a:chOff x="6653160" y="3301920"/>
                <a:chExt cx="123480" cy="10476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6729120" y="3301920"/>
                  <a:ext cx="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653160" y="3359160"/>
                  <a:ext cx="123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805080" y="3292560"/>
                <a:ext cx="123480" cy="104760"/>
                <a:chOff x="6805080" y="3292560"/>
                <a:chExt cx="123480" cy="104760"/>
              </a:xfrm>
            </p:grpSpPr>
            <p:sp>
              <p:nvSpPr>
                <p:cNvPr id="134" name=""/>
                <p:cNvSpPr/>
                <p:nvPr/>
              </p:nvSpPr>
              <p:spPr>
                <a:xfrm flipV="1">
                  <a:off x="6881040" y="3292560"/>
                  <a:ext cx="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805080" y="3349800"/>
                  <a:ext cx="123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947640" y="3305160"/>
                <a:ext cx="123480" cy="104760"/>
                <a:chOff x="6947640" y="3305160"/>
                <a:chExt cx="123480" cy="104760"/>
              </a:xfrm>
            </p:grpSpPr>
            <p:sp>
              <p:nvSpPr>
                <p:cNvPr id="137" name=""/>
                <p:cNvSpPr/>
                <p:nvPr/>
              </p:nvSpPr>
              <p:spPr>
                <a:xfrm flipV="1">
                  <a:off x="7023600" y="3305160"/>
                  <a:ext cx="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947640" y="3362400"/>
                  <a:ext cx="123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4532400" y="2798280"/>
              <a:ext cx="890280" cy="777960"/>
              <a:chOff x="4532400" y="2798280"/>
              <a:chExt cx="890280" cy="7779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532400" y="3213000"/>
                <a:ext cx="890280" cy="363240"/>
                <a:chOff x="4532400" y="3213000"/>
                <a:chExt cx="890280" cy="363240"/>
              </a:xfrm>
            </p:grpSpPr>
            <p:sp>
              <p:nvSpPr>
                <p:cNvPr id="141" name=""/>
                <p:cNvSpPr/>
                <p:nvPr/>
              </p:nvSpPr>
              <p:spPr>
                <a:xfrm rot="5246400">
                  <a:off x="5054400" y="3308040"/>
                  <a:ext cx="115920" cy="118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5246400">
                  <a:off x="4904640" y="3313800"/>
                  <a:ext cx="115920" cy="120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5246400">
                  <a:off x="4754520" y="3321360"/>
                  <a:ext cx="115920" cy="118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5246400">
                  <a:off x="4664160" y="3106800"/>
                  <a:ext cx="331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5246400">
                  <a:off x="4806720" y="3100680"/>
                  <a:ext cx="331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5246400">
                  <a:off x="4959000" y="3103560"/>
                  <a:ext cx="331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698360" y="2798280"/>
                <a:ext cx="429840" cy="134640"/>
                <a:chOff x="4698360" y="2798280"/>
                <a:chExt cx="429840" cy="13464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4698360" y="2798280"/>
                  <a:ext cx="423000" cy="134640"/>
                  <a:chOff x="4698360" y="2798280"/>
                  <a:chExt cx="423000" cy="1346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5246400">
                    <a:off x="5001120" y="2799000"/>
                    <a:ext cx="115920" cy="119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5246400">
                    <a:off x="4852080" y="2805480"/>
                    <a:ext cx="115920" cy="119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5246400">
                    <a:off x="4702680" y="2812320"/>
                    <a:ext cx="115920" cy="119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5005080" y="2810880"/>
                  <a:ext cx="123120" cy="105840"/>
                  <a:chOff x="5005080" y="2810880"/>
                  <a:chExt cx="123120" cy="1058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5050440" y="2810880"/>
                    <a:ext cx="4680" cy="105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>
                    <a:off x="5005080" y="2855160"/>
                    <a:ext cx="123120" cy="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4853520" y="2827080"/>
                  <a:ext cx="123480" cy="105480"/>
                  <a:chOff x="4853520" y="2827080"/>
                  <a:chExt cx="123480" cy="1054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4898880" y="2827080"/>
                    <a:ext cx="4680" cy="105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4853520" y="2871360"/>
                    <a:ext cx="123480" cy="5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4710240" y="2820600"/>
                  <a:ext cx="123480" cy="105840"/>
                  <a:chOff x="4710240" y="2820600"/>
                  <a:chExt cx="123480" cy="10584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4755600" y="2820600"/>
                    <a:ext cx="4680" cy="105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4710240" y="2865240"/>
                    <a:ext cx="123480" cy="5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1" name=""/>
            <p:cNvGrpSpPr/>
            <p:nvPr/>
          </p:nvGrpSpPr>
          <p:grpSpPr>
            <a:xfrm>
              <a:off x="5479920" y="3642120"/>
              <a:ext cx="352080" cy="888120"/>
              <a:chOff x="5479920" y="3642120"/>
              <a:chExt cx="352080" cy="888120"/>
            </a:xfrm>
          </p:grpSpPr>
          <p:sp>
            <p:nvSpPr>
              <p:cNvPr id="162" name=""/>
              <p:cNvSpPr/>
              <p:nvPr/>
            </p:nvSpPr>
            <p:spPr>
              <a:xfrm rot="10678200">
                <a:off x="5623920" y="4161600"/>
                <a:ext cx="114120" cy="118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0678200">
                <a:off x="5618520" y="4010760"/>
                <a:ext cx="114120" cy="120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0678200">
                <a:off x="5613120" y="3861360"/>
                <a:ext cx="114120" cy="119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0678200">
                <a:off x="5490000" y="3647520"/>
                <a:ext cx="326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0678200">
                <a:off x="5495040" y="3790440"/>
                <a:ext cx="326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0678200">
                <a:off x="5491440" y="3943080"/>
                <a:ext cx="326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123960" y="3830040"/>
              <a:ext cx="130680" cy="430200"/>
              <a:chOff x="6123960" y="3830040"/>
              <a:chExt cx="130680" cy="4302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6125760" y="3830040"/>
                <a:ext cx="128880" cy="422640"/>
                <a:chOff x="6125760" y="3830040"/>
                <a:chExt cx="128880" cy="422640"/>
              </a:xfrm>
            </p:grpSpPr>
            <p:sp>
              <p:nvSpPr>
                <p:cNvPr id="170" name=""/>
                <p:cNvSpPr/>
                <p:nvPr/>
              </p:nvSpPr>
              <p:spPr>
                <a:xfrm rot="10678200">
                  <a:off x="6138360" y="4131000"/>
                  <a:ext cx="114120" cy="1195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0678200">
                  <a:off x="6132960" y="3981600"/>
                  <a:ext cx="114120" cy="1195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0678200">
                  <a:off x="6127920" y="3831840"/>
                  <a:ext cx="114120" cy="1195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138720" y="4136400"/>
                <a:ext cx="104040" cy="123840"/>
                <a:chOff x="6138720" y="4136400"/>
                <a:chExt cx="104040" cy="12384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6138720" y="4182480"/>
                  <a:ext cx="104040" cy="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flipV="1">
                  <a:off x="6194160" y="4136400"/>
                  <a:ext cx="4320" cy="12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123960" y="3984840"/>
                <a:ext cx="104400" cy="123480"/>
                <a:chOff x="6123960" y="3984840"/>
                <a:chExt cx="104400" cy="12348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6123960" y="4030560"/>
                  <a:ext cx="104400" cy="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6179400" y="3984840"/>
                  <a:ext cx="4320" cy="123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131520" y="3841560"/>
                <a:ext cx="104040" cy="123480"/>
                <a:chOff x="6131520" y="3841560"/>
                <a:chExt cx="104040" cy="123480"/>
              </a:xfrm>
            </p:grpSpPr>
            <p:sp>
              <p:nvSpPr>
                <p:cNvPr id="180" name=""/>
                <p:cNvSpPr/>
                <p:nvPr/>
              </p:nvSpPr>
              <p:spPr>
                <a:xfrm flipH="1">
                  <a:off x="6131520" y="3887280"/>
                  <a:ext cx="104040" cy="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6186960" y="3841560"/>
                  <a:ext cx="4320" cy="123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 flipV="1" rot="10800000">
              <a:off x="5752800" y="3889440"/>
              <a:ext cx="342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26080" y="2841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81480" y="4594320"/>
              <a:ext cx="3805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81480" y="4594320"/>
              <a:ext cx="380520" cy="759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6720" y="4594320"/>
              <a:ext cx="228240" cy="42840"/>
            </a:xfrm>
            <a:custGeom>
              <a:avLst/>
              <a:gdLst/>
              <a:ahLst/>
              <a:rect l="l" t="t" r="r" b="b"/>
              <a:pathLst>
                <a:path w="144" h="27">
                  <a:moveTo>
                    <a:pt x="0" y="27"/>
                  </a:moveTo>
                  <a:cubicBezTo>
                    <a:pt x="10" y="26"/>
                    <a:pt x="52" y="21"/>
                    <a:pt x="66" y="15"/>
                  </a:cubicBezTo>
                  <a:cubicBezTo>
                    <a:pt x="73" y="12"/>
                    <a:pt x="77" y="4"/>
                    <a:pt x="84" y="3"/>
                  </a:cubicBezTo>
                  <a:cubicBezTo>
                    <a:pt x="104" y="0"/>
                    <a:pt x="124" y="3"/>
                    <a:pt x="144" y="3"/>
                  </a:cubicBezTo>
                </a:path>
              </a:pathLst>
            </a:custGeom>
            <a:solidFill>
              <a:srgbClr val="ccff99"/>
            </a:solidFill>
            <a:ln w="38160">
              <a:solidFill>
                <a:srgbClr val="cc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552720" y="4375080"/>
              <a:ext cx="325080" cy="232560"/>
              <a:chOff x="6552720" y="4375080"/>
              <a:chExt cx="325080" cy="23256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6552720" y="4398840"/>
                <a:ext cx="325080" cy="208800"/>
                <a:chOff x="6552720" y="4398840"/>
                <a:chExt cx="325080" cy="20880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6552360" y="4425480"/>
                  <a:ext cx="325080" cy="182160"/>
                </a:xfrm>
                <a:custGeom>
                  <a:avLst/>
                  <a:gdLst/>
                  <a:ahLst/>
                  <a:rect l="l" t="t" r="r" b="b"/>
                  <a:pathLst>
                    <a:path w="205" h="115">
                      <a:moveTo>
                        <a:pt x="151" y="0"/>
                      </a:moveTo>
                      <a:cubicBezTo>
                        <a:pt x="194" y="29"/>
                        <a:pt x="205" y="62"/>
                        <a:pt x="151" y="89"/>
                      </a:cubicBezTo>
                      <a:cubicBezTo>
                        <a:pt x="106" y="112"/>
                        <a:pt x="49" y="115"/>
                        <a:pt x="0" y="11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6581160" y="4398840"/>
                  <a:ext cx="85320" cy="55440"/>
                </a:xfrm>
                <a:custGeom>
                  <a:avLst/>
                  <a:gdLst/>
                  <a:ahLst/>
                  <a:rect l="l" t="t" r="r" b="b"/>
                  <a:pathLst>
                    <a:path w="54" h="35">
                      <a:moveTo>
                        <a:pt x="0" y="0"/>
                      </a:moveTo>
                      <a:cubicBezTo>
                        <a:pt x="18" y="12"/>
                        <a:pt x="54" y="35"/>
                        <a:pt x="54" y="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6638400" y="4375080"/>
                <a:ext cx="28440" cy="18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0"/>
                    </a:moveTo>
                    <a:cubicBezTo>
                      <a:pt x="12" y="4"/>
                      <a:pt x="0" y="12"/>
                      <a:pt x="0" y="12"/>
                    </a:cubicBezTo>
                    <a:cubicBezTo>
                      <a:pt x="0" y="12"/>
                      <a:pt x="12" y="4"/>
                      <a:pt x="18" y="0"/>
                    </a:cubicBezTo>
                    <a:close/>
                  </a:path>
                </a:pathLst>
              </a:custGeom>
              <a:solidFill>
                <a:srgbClr val="00cc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5333760" y="4746600"/>
              <a:ext cx="380880" cy="763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63520" y="3867120"/>
              <a:ext cx="513720" cy="422280"/>
              <a:chOff x="5663520" y="3867120"/>
              <a:chExt cx="513720" cy="422280"/>
            </a:xfrm>
          </p:grpSpPr>
          <p:sp>
            <p:nvSpPr>
              <p:cNvPr id="194" name=""/>
              <p:cNvSpPr/>
              <p:nvPr/>
            </p:nvSpPr>
            <p:spPr>
              <a:xfrm>
                <a:off x="5663520" y="3876840"/>
                <a:ext cx="51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56040" y="39085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28640" y="386712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5600520" y="2416320"/>
              <a:ext cx="51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2680" y="200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075360" y="200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05160" y="2917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24280" y="295272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24280" y="329868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4647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9.1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直流电动机的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848200" y="1593360"/>
            <a:ext cx="1749240" cy="762120"/>
            <a:chOff x="5848200" y="1593360"/>
            <a:chExt cx="1749240" cy="762120"/>
          </a:xfrm>
        </p:grpSpPr>
        <p:sp>
          <p:nvSpPr>
            <p:cNvPr id="205" name=""/>
            <p:cNvSpPr/>
            <p:nvPr/>
          </p:nvSpPr>
          <p:spPr>
            <a:xfrm flipV="1">
              <a:off x="5848200" y="1593360"/>
              <a:ext cx="9903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35680" y="15937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692760" y="2174400"/>
            <a:ext cx="2037960" cy="700200"/>
            <a:chOff x="6692760" y="2174400"/>
            <a:chExt cx="2037960" cy="700200"/>
          </a:xfrm>
        </p:grpSpPr>
        <p:sp>
          <p:nvSpPr>
            <p:cNvPr id="208" name=""/>
            <p:cNvSpPr/>
            <p:nvPr/>
          </p:nvSpPr>
          <p:spPr>
            <a:xfrm flipV="1">
              <a:off x="6692760" y="2174400"/>
              <a:ext cx="883080" cy="7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2960" y="2174760"/>
              <a:ext cx="115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692760" y="3284640"/>
            <a:ext cx="1749240" cy="761760"/>
            <a:chOff x="6692760" y="3284640"/>
            <a:chExt cx="1749240" cy="761760"/>
          </a:xfrm>
        </p:grpSpPr>
        <p:sp>
          <p:nvSpPr>
            <p:cNvPr id="211" name=""/>
            <p:cNvSpPr/>
            <p:nvPr/>
          </p:nvSpPr>
          <p:spPr>
            <a:xfrm flipV="1">
              <a:off x="6692760" y="3284640"/>
              <a:ext cx="99036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0240" y="32846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416400" y="3408120"/>
            <a:ext cx="2133360" cy="1067040"/>
            <a:chOff x="3416400" y="3408120"/>
            <a:chExt cx="2133360" cy="1067040"/>
          </a:xfrm>
        </p:grpSpPr>
        <p:sp>
          <p:nvSpPr>
            <p:cNvPr id="214" name=""/>
            <p:cNvSpPr/>
            <p:nvPr/>
          </p:nvSpPr>
          <p:spPr>
            <a:xfrm flipH="1">
              <a:off x="3416400" y="447516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178160" y="3408120"/>
              <a:ext cx="13716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498120" y="182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极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492360" y="2341440"/>
            <a:ext cx="1752840" cy="609480"/>
            <a:chOff x="3492360" y="2341440"/>
            <a:chExt cx="1752840" cy="609480"/>
          </a:xfrm>
        </p:grpSpPr>
        <p:sp>
          <p:nvSpPr>
            <p:cNvPr id="218" name=""/>
            <p:cNvSpPr/>
            <p:nvPr/>
          </p:nvSpPr>
          <p:spPr>
            <a:xfrm flipH="1">
              <a:off x="3492360" y="2341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02200" y="234144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927120" y="104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极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91680" y="1655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励磁绕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65560" y="2751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机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74440" y="3956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7760" y="5160240"/>
            <a:ext cx="47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_x0001_"/>
              </a:rPr>
              <a:t>直流电动机的磁极和磁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4600" y="180828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直流电机由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磁极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、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电枢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和机座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部分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03120" y="3921120"/>
            <a:ext cx="2012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转子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电枢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由铁心、绕组（线圈）、换向器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8240" y="5677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磁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14400" y="1581480"/>
            <a:ext cx="7649640" cy="1501200"/>
            <a:chOff x="914400" y="1581480"/>
            <a:chExt cx="7649640" cy="1501200"/>
          </a:xfrm>
        </p:grpSpPr>
        <p:sp>
          <p:nvSpPr>
            <p:cNvPr id="229" name=""/>
            <p:cNvSpPr/>
            <p:nvPr/>
          </p:nvSpPr>
          <p:spPr>
            <a:xfrm>
              <a:off x="914400" y="1711440"/>
              <a:ext cx="209160" cy="761760"/>
            </a:xfrm>
            <a:custGeom>
              <a:avLst/>
              <a:gdLst>
                <a:gd name="textAreaLeft" fmla="*/ 133560 w 209160"/>
                <a:gd name="textAreaRight" fmla="*/ 209520 w 2091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6680" y="1581480"/>
              <a:ext cx="749736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_x0001_"/>
                </a:rPr>
                <a:t>永磁式</a:t>
              </a:r>
              <a:r>
                <a:rPr b="1" lang="zh-CN" sz="2800" spc="-1" strike="noStrike">
                  <a:solidFill>
                    <a:srgbClr val="cc0000"/>
                  </a:solidFill>
                  <a:latin typeface="_x0001_"/>
                </a:rPr>
                <a:t>:</a:t>
              </a: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由永久磁铁做成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_x0001_"/>
                </a:rPr>
                <a:t>励磁式</a:t>
              </a:r>
              <a:r>
                <a:rPr b="1" lang="zh-CN" sz="2800" spc="-1" strike="noStrike">
                  <a:solidFill>
                    <a:srgbClr val="cc0000"/>
                  </a:solidFill>
                  <a:latin typeface="_x0001_"/>
                </a:rPr>
                <a:t>:</a:t>
              </a:r>
              <a:r>
                <a:rPr b="1" lang="zh-CN" sz="2800" spc="-1" strike="noStrike">
                  <a:solidFill>
                    <a:srgbClr val="000099"/>
                  </a:solidFill>
                  <a:latin typeface="_x0001_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磁极上绕线圈，线圈中通过直流电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形成电磁铁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990720" y="2955960"/>
            <a:ext cx="7581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_x0001_"/>
              </a:rPr>
              <a:t>励磁</a:t>
            </a:r>
            <a:r>
              <a:rPr b="1" lang="zh-CN" sz="2800" spc="-1" strike="noStrike">
                <a:solidFill>
                  <a:srgbClr val="006600"/>
                </a:solidFill>
                <a:latin typeface="_x0001_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_x0001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磁极上的线圈通以直流电产生磁通，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为励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52480" y="4987800"/>
            <a:ext cx="2917440" cy="1109520"/>
            <a:chOff x="1752480" y="4987800"/>
            <a:chExt cx="2917440" cy="1109520"/>
          </a:xfrm>
        </p:grpSpPr>
        <p:sp>
          <p:nvSpPr>
            <p:cNvPr id="233" name=""/>
            <p:cNvSpPr/>
            <p:nvPr/>
          </p:nvSpPr>
          <p:spPr>
            <a:xfrm>
              <a:off x="1752480" y="5172120"/>
              <a:ext cx="152640" cy="7621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5320" y="49878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枢铁心：由硅钢片叠装而成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54840" y="557676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枢绕组：单个绕组元件组成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955600" y="1049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来在电机中产生磁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24920" y="1720440"/>
            <a:ext cx="17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他励电动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励磁绕组和电枢绕组分别由两个直流电源供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56960" y="333360"/>
            <a:ext cx="31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_x0001_"/>
              </a:rPr>
              <a:t>9.1.2  </a:t>
            </a:r>
            <a:r>
              <a:rPr b="1" lang="zh-CN" sz="3200" spc="-1" strike="noStrike">
                <a:solidFill>
                  <a:srgbClr val="000099"/>
                </a:solidFill>
                <a:latin typeface="_x0001_"/>
              </a:rPr>
              <a:t>直流电机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9360" y="105084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直流电机按照励磁方式可分为他励电动机、并励电动机、串励电动机和复励电动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48760" y="5369040"/>
            <a:ext cx="5331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并励电动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励磁绕组和电枢绕组并联，由一个直流电源供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295280" y="2895480"/>
            <a:ext cx="3810240" cy="2577960"/>
            <a:chOff x="1295280" y="2895480"/>
            <a:chExt cx="3810240" cy="2577960"/>
          </a:xfrm>
        </p:grpSpPr>
        <p:sp>
          <p:nvSpPr>
            <p:cNvPr id="242" name=""/>
            <p:cNvSpPr/>
            <p:nvPr/>
          </p:nvSpPr>
          <p:spPr>
            <a:xfrm>
              <a:off x="4286160" y="3540960"/>
              <a:ext cx="8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295280" y="2895480"/>
              <a:ext cx="3599280" cy="2577960"/>
              <a:chOff x="1295280" y="2895480"/>
              <a:chExt cx="3599280" cy="25779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1295280" y="2895480"/>
                <a:ext cx="3599280" cy="2363760"/>
                <a:chOff x="1295280" y="2895480"/>
                <a:chExt cx="3599280" cy="23637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729160" y="3354480"/>
                  <a:ext cx="235440" cy="918000"/>
                  <a:chOff x="2729160" y="3354480"/>
                  <a:chExt cx="235440" cy="9180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729880" y="3579840"/>
                    <a:ext cx="2347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06465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0646517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729880" y="3354480"/>
                    <a:ext cx="2347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06465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0646517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729160" y="3817080"/>
                    <a:ext cx="2347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06465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0646517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729880" y="4047480"/>
                    <a:ext cx="2347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06465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0646517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0" name=""/>
                <p:cNvSpPr/>
                <p:nvPr/>
              </p:nvSpPr>
              <p:spPr>
                <a:xfrm>
                  <a:off x="2881440" y="4241880"/>
                  <a:ext cx="0" cy="43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881440" y="2954160"/>
                  <a:ext cx="0" cy="45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00280" y="2960640"/>
                  <a:ext cx="119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00280" y="4043520"/>
                  <a:ext cx="0" cy="63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295280" y="3477960"/>
                  <a:ext cx="819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U</a:t>
                  </a:r>
                  <a:r>
                    <a:rPr b="1" lang="zh-CN" sz="2800" spc="-1" strike="noStrike" baseline="-25000">
                      <a:solidFill>
                        <a:srgbClr val="ff3300"/>
                      </a:solidFill>
                      <a:latin typeface="_x0001_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606840" y="3382200"/>
                  <a:ext cx="844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ff3300"/>
                      </a:solidFill>
                      <a:latin typeface="_x0001_"/>
                    </a:rPr>
                    <a:t>I</a:t>
                  </a:r>
                  <a:r>
                    <a:rPr b="1" lang="zh-CN" sz="2800" spc="-1" strike="noStrike" baseline="-25000">
                      <a:solidFill>
                        <a:srgbClr val="ff3300"/>
                      </a:solidFill>
                      <a:latin typeface="_x0001_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1538280" y="2895480"/>
                  <a:ext cx="1329840" cy="1877760"/>
                  <a:chOff x="1538280" y="2895480"/>
                  <a:chExt cx="1329840" cy="187776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2429640" y="4672080"/>
                    <a:ext cx="4384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1538280" y="2895480"/>
                    <a:ext cx="146520" cy="1872360"/>
                    <a:chOff x="1538280" y="2895480"/>
                    <a:chExt cx="146520" cy="1872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1560240" y="2895480"/>
                      <a:ext cx="124560" cy="14724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1538280" y="4620600"/>
                      <a:ext cx="124560" cy="14724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1" name=""/>
                  <p:cNvSpPr/>
                  <p:nvPr/>
                </p:nvSpPr>
                <p:spPr>
                  <a:xfrm>
                    <a:off x="1943640" y="4585680"/>
                    <a:ext cx="491040" cy="187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683720" y="4672080"/>
                    <a:ext cx="259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2672640" y="4286520"/>
                    <a:ext cx="0" cy="405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186640" y="4286880"/>
                    <a:ext cx="486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186640" y="4286880"/>
                    <a:ext cx="0" cy="323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211560" y="3511440"/>
                  <a:ext cx="555480" cy="532080"/>
                  <a:chOff x="3211560" y="3511440"/>
                  <a:chExt cx="555480" cy="5320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211560" y="3511440"/>
                    <a:ext cx="555480" cy="532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246480" y="3547440"/>
                    <a:ext cx="468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_x0001_"/>
                      </a:rPr>
                      <a:t>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363840" y="3936960"/>
                  <a:ext cx="24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484440" y="2990880"/>
                  <a:ext cx="0" cy="56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500280" y="4030560"/>
                  <a:ext cx="0" cy="649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3484440" y="2909880"/>
                  <a:ext cx="1312200" cy="1875960"/>
                  <a:chOff x="3484440" y="2909880"/>
                  <a:chExt cx="1312200" cy="187596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4230000" y="4685040"/>
                    <a:ext cx="438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650120" y="2909880"/>
                    <a:ext cx="146520" cy="1870920"/>
                    <a:chOff x="4650120" y="2909880"/>
                    <a:chExt cx="146520" cy="187092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672080" y="2909880"/>
                      <a:ext cx="124560" cy="1468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4650120" y="4633920"/>
                      <a:ext cx="124560" cy="1468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7" name=""/>
                  <p:cNvSpPr/>
                  <p:nvPr/>
                </p:nvSpPr>
                <p:spPr>
                  <a:xfrm>
                    <a:off x="3744000" y="4599000"/>
                    <a:ext cx="491040" cy="18684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484440" y="4685040"/>
                    <a:ext cx="259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V="1">
                    <a:off x="4473000" y="4299480"/>
                    <a:ext cx="0" cy="405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987000" y="4299840"/>
                    <a:ext cx="485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987000" y="4299840"/>
                    <a:ext cx="0" cy="324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>
                  <a:off x="3484440" y="2990880"/>
                  <a:ext cx="1197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458360" y="29908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441440" y="4087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539960" y="2946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523040" y="4043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846600" y="3381480"/>
                  <a:ext cx="0" cy="80784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06720" y="3382200"/>
                  <a:ext cx="844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_x0001_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_x0001_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2960" y="3395520"/>
                  <a:ext cx="0" cy="80676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90" name=""/>
                    <p:cNvSpPr txBox="1"/>
                    <p:nvPr/>
                  </p:nvSpPr>
                  <p:spPr>
                    <a:xfrm>
                      <a:off x="1936800" y="4782960"/>
                      <a:ext cx="501480" cy="468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91" name=""/>
                    <p:cNvSpPr txBox="1"/>
                    <p:nvPr/>
                  </p:nvSpPr>
                  <p:spPr>
                    <a:xfrm>
                      <a:off x="3819600" y="4762440"/>
                      <a:ext cx="523800" cy="496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92" name=""/>
              <p:cNvSpPr/>
              <p:nvPr/>
            </p:nvSpPr>
            <p:spPr>
              <a:xfrm>
                <a:off x="2812320" y="4952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_x0001_"/>
                  </a:rPr>
                  <a:t>他励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4888080" y="2474280"/>
            <a:ext cx="3570120" cy="3227760"/>
            <a:chOff x="4888080" y="2474280"/>
            <a:chExt cx="3570120" cy="3227760"/>
          </a:xfrm>
        </p:grpSpPr>
        <p:sp>
          <p:nvSpPr>
            <p:cNvPr id="294" name=""/>
            <p:cNvSpPr/>
            <p:nvPr/>
          </p:nvSpPr>
          <p:spPr>
            <a:xfrm>
              <a:off x="6918480" y="4013280"/>
              <a:ext cx="0" cy="6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21440" y="3367080"/>
              <a:ext cx="80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_x0001_"/>
                </a:rPr>
                <a:t>I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_x0001_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72320" y="352188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2000" y="3503520"/>
              <a:ext cx="533520" cy="509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67920" y="35287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_x0001_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3911760"/>
              <a:ext cx="23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4080" y="300348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8480" y="400068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0120" y="4629240"/>
              <a:ext cx="42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8021520" y="2925720"/>
              <a:ext cx="141120" cy="1795320"/>
              <a:chOff x="8021520" y="2925720"/>
              <a:chExt cx="141120" cy="1795320"/>
            </a:xfrm>
          </p:grpSpPr>
          <p:sp>
            <p:nvSpPr>
              <p:cNvPr id="304" name=""/>
              <p:cNvSpPr/>
              <p:nvPr/>
            </p:nvSpPr>
            <p:spPr>
              <a:xfrm>
                <a:off x="8042760" y="2925720"/>
                <a:ext cx="119880" cy="141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21520" y="4579920"/>
                <a:ext cx="119880" cy="141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153200" y="4546440"/>
              <a:ext cx="471600" cy="179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04080" y="462924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851600" y="4258800"/>
              <a:ext cx="0" cy="3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86480" y="4259160"/>
              <a:ext cx="4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86480" y="4259160"/>
              <a:ext cx="0" cy="31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04080" y="3003480"/>
              <a:ext cx="11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6400" y="29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28280" y="409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50040" y="3378240"/>
              <a:ext cx="0" cy="77472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616720" y="3780000"/>
              <a:ext cx="224640" cy="21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616720" y="3564000"/>
              <a:ext cx="22464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618160" y="4008600"/>
              <a:ext cx="224640" cy="21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616720" y="4230720"/>
              <a:ext cx="22464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4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4651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97360" y="4414680"/>
              <a:ext cx="0" cy="77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97360" y="299880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99160" y="2998800"/>
              <a:ext cx="123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96120" y="5194440"/>
              <a:ext cx="14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29200" y="5111640"/>
              <a:ext cx="471600" cy="179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80080" y="519444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629400" y="4824000"/>
              <a:ext cx="0" cy="3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62840" y="482436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62840" y="482436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88080" y="3589200"/>
              <a:ext cx="809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_x0001_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8760" y="3614760"/>
              <a:ext cx="0" cy="77292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715000" y="4633920"/>
                  <a:ext cx="460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846840" y="4095720"/>
                  <a:ext cx="5396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"/>
            <p:cNvSpPr/>
            <p:nvPr/>
          </p:nvSpPr>
          <p:spPr>
            <a:xfrm>
              <a:off x="7843680" y="460692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11560" y="314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63040" y="373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4000" y="2474280"/>
              <a:ext cx="8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110360" y="2886120"/>
              <a:ext cx="62712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78760" y="3583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68920" y="5156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5880" y="457200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4840" y="5181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_x0001_"/>
                </a:rPr>
                <a:t>并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09480" y="4946760"/>
            <a:ext cx="817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4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复励电动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励磁线圈与转子电枢的联接有串有并，接在同一电源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72280" y="5335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_x0001_"/>
              </a:rPr>
              <a:t>串励电动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励磁线圈与转子电枢串联接到同一电源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523880" y="1520640"/>
            <a:ext cx="2666880" cy="3128760"/>
            <a:chOff x="1523880" y="1520640"/>
            <a:chExt cx="2666880" cy="3128760"/>
          </a:xfrm>
        </p:grpSpPr>
        <p:sp>
          <p:nvSpPr>
            <p:cNvPr id="344" name=""/>
            <p:cNvSpPr/>
            <p:nvPr/>
          </p:nvSpPr>
          <p:spPr>
            <a:xfrm>
              <a:off x="3352680" y="4114440"/>
              <a:ext cx="43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4960" y="4114440"/>
              <a:ext cx="26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54720" y="41288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_x0001_"/>
                </a:rPr>
                <a:t>串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523880" y="1520640"/>
              <a:ext cx="2666880" cy="2665080"/>
              <a:chOff x="1523880" y="1520640"/>
              <a:chExt cx="2666880" cy="2665080"/>
            </a:xfrm>
          </p:grpSpPr>
          <p:sp>
            <p:nvSpPr>
              <p:cNvPr id="348" name=""/>
              <p:cNvSpPr/>
              <p:nvPr/>
            </p:nvSpPr>
            <p:spPr>
              <a:xfrm>
                <a:off x="3407760" y="2704320"/>
                <a:ext cx="226800" cy="21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64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64651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07760" y="2485440"/>
                <a:ext cx="226800" cy="21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64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64651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05600" y="2933640"/>
                <a:ext cx="227520" cy="21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64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64651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07760" y="3158280"/>
                <a:ext cx="226800" cy="21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64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64651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10840" y="2189880"/>
                <a:ext cx="0" cy="192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519360" y="2189880"/>
                <a:ext cx="59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75600" y="3229200"/>
                <a:ext cx="0" cy="36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23880" y="2846880"/>
                <a:ext cx="79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371760" y="1520640"/>
                <a:ext cx="81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_x0001_"/>
                  </a:rPr>
                  <a:t>I</a:t>
                </a:r>
                <a:r>
                  <a:rPr b="1" lang="zh-CN" sz="2800" spc="-1" strike="noStrike" baseline="-25000">
                    <a:solidFill>
                      <a:srgbClr val="ff3300"/>
                    </a:solidFill>
                    <a:latin typeface="_x0001_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41040" y="2115720"/>
                <a:ext cx="121320" cy="142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19440" y="4042800"/>
                <a:ext cx="121320" cy="142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0120" y="2189880"/>
                <a:ext cx="0" cy="52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5600" y="3216960"/>
                <a:ext cx="0" cy="45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67040" y="2189880"/>
                <a:ext cx="81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746360" y="218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47440" y="352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93600" y="1537200"/>
                <a:ext cx="81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_x0001_"/>
                  </a:rPr>
                  <a:t>I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_x0001_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41200" y="2075760"/>
                <a:ext cx="591120" cy="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2484720" y="2707200"/>
                <a:ext cx="538560" cy="515880"/>
                <a:chOff x="2484720" y="2707200"/>
                <a:chExt cx="538560" cy="51588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484720" y="2707200"/>
                  <a:ext cx="538560" cy="515880"/>
                  <a:chOff x="2484720" y="2707200"/>
                  <a:chExt cx="538560" cy="5158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2484720" y="2707200"/>
                    <a:ext cx="538560" cy="5158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512080" y="2736360"/>
                    <a:ext cx="468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_x0001_"/>
                      </a:rPr>
                      <a:t>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" name=""/>
                <p:cNvSpPr/>
                <p:nvPr/>
              </p:nvSpPr>
              <p:spPr>
                <a:xfrm>
                  <a:off x="2632320" y="3119760"/>
                  <a:ext cx="235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2780640" y="3668400"/>
                <a:ext cx="73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519360" y="3372480"/>
                <a:ext cx="0" cy="29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519360" y="2189880"/>
                <a:ext cx="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67040" y="4111920"/>
                <a:ext cx="2143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18640" y="2080440"/>
                <a:ext cx="591480" cy="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5105520" y="1600200"/>
            <a:ext cx="3489840" cy="3276720"/>
            <a:chOff x="5105520" y="1600200"/>
            <a:chExt cx="3489840" cy="3276720"/>
          </a:xfrm>
        </p:grpSpPr>
        <p:sp>
          <p:nvSpPr>
            <p:cNvPr id="377" name=""/>
            <p:cNvSpPr/>
            <p:nvPr/>
          </p:nvSpPr>
          <p:spPr>
            <a:xfrm>
              <a:off x="6568560" y="4037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_x0001_"/>
                </a:rPr>
                <a:t>复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05520" y="1828800"/>
              <a:ext cx="304776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5113080" y="1600200"/>
              <a:ext cx="3482280" cy="2405160"/>
              <a:chOff x="5113080" y="1600200"/>
              <a:chExt cx="3482280" cy="24051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6789600" y="2713320"/>
                <a:ext cx="296280" cy="825840"/>
                <a:chOff x="6789600" y="2713320"/>
                <a:chExt cx="296280" cy="8258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790680" y="2916000"/>
                  <a:ext cx="295200" cy="20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64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64651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790680" y="2713320"/>
                  <a:ext cx="295200" cy="20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64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64651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789600" y="3129480"/>
                  <a:ext cx="295200" cy="20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64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64651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790680" y="3336840"/>
                  <a:ext cx="295200" cy="20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64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64651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961320" y="3537000"/>
                <a:ext cx="0" cy="35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61320" y="228600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91000" y="3924360"/>
                <a:ext cx="2686320" cy="1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588000" y="2304720"/>
                <a:ext cx="14893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5770440" y="2133000"/>
                <a:ext cx="826200" cy="358560"/>
                <a:chOff x="5770440" y="2133000"/>
                <a:chExt cx="826200" cy="358560"/>
              </a:xfrm>
            </p:grpSpPr>
            <p:sp>
              <p:nvSpPr>
                <p:cNvPr id="390" name=""/>
                <p:cNvSpPr/>
                <p:nvPr/>
              </p:nvSpPr>
              <p:spPr>
                <a:xfrm rot="16200000">
                  <a:off x="5895720" y="2210400"/>
                  <a:ext cx="357120" cy="20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64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64651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6200000">
                  <a:off x="5693040" y="2210400"/>
                  <a:ext cx="357120" cy="20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64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64651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6200000">
                  <a:off x="6109200" y="2211840"/>
                  <a:ext cx="357120" cy="20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64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64651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16200000">
                  <a:off x="6316920" y="2210400"/>
                  <a:ext cx="357120" cy="20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64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64651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 flipH="1">
                <a:off x="5391000" y="2313000"/>
                <a:ext cx="370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34120" y="3880080"/>
                <a:ext cx="99720" cy="120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04080" y="2241720"/>
                <a:ext cx="90360" cy="122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13440" y="3880080"/>
                <a:ext cx="90720" cy="125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113080" y="2818800"/>
                <a:ext cx="42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_x0001_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82920" y="2286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27920" y="3241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34120" y="2241720"/>
                <a:ext cx="99720" cy="120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94200" y="1600200"/>
                <a:ext cx="31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_x0001_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7759800" y="2286000"/>
                <a:ext cx="835560" cy="1663920"/>
                <a:chOff x="7759800" y="2286000"/>
                <a:chExt cx="835560" cy="16639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8058240" y="3353040"/>
                  <a:ext cx="0" cy="596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7759800" y="2832120"/>
                  <a:ext cx="546120" cy="536760"/>
                  <a:chOff x="7759800" y="2832120"/>
                  <a:chExt cx="546120" cy="53676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7759800" y="2832120"/>
                    <a:ext cx="546120" cy="536760"/>
                    <a:chOff x="7759800" y="2832120"/>
                    <a:chExt cx="546120" cy="53676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7759800" y="2832120"/>
                      <a:ext cx="546120" cy="5367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7789320" y="2865960"/>
                      <a:ext cx="468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_x0001_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7883640" y="327672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0" name=""/>
                <p:cNvSpPr/>
                <p:nvPr/>
              </p:nvSpPr>
              <p:spPr>
                <a:xfrm>
                  <a:off x="8035920" y="2286000"/>
                  <a:ext cx="0" cy="596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154000" y="2286000"/>
                  <a:ext cx="441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ff3300"/>
                      </a:solidFill>
                      <a:latin typeface="_x0001_"/>
                    </a:rPr>
                    <a:t>I</a:t>
                  </a:r>
                  <a:r>
                    <a:rPr b="1" lang="zh-CN" sz="2800" spc="-1" strike="noStrike" baseline="-25000">
                      <a:solidFill>
                        <a:srgbClr val="ff3300"/>
                      </a:solidFill>
                      <a:latin typeface="_x0001_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153280" y="23623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5638680" y="2057400"/>
                <a:ext cx="6098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9.2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直流电机的基本工作原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14400" y="914400"/>
            <a:ext cx="7162920" cy="5334120"/>
            <a:chOff x="914400" y="914400"/>
            <a:chExt cx="7162920" cy="533412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914400" y="914400"/>
              <a:ext cx="716292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476360" y="1352520"/>
              <a:ext cx="5968800" cy="447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9.2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直流电机的基本工作原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143760" y="1613880"/>
            <a:ext cx="471600" cy="520560"/>
            <a:chOff x="6143760" y="1613880"/>
            <a:chExt cx="471600" cy="520560"/>
          </a:xfrm>
        </p:grpSpPr>
        <p:sp>
          <p:nvSpPr>
            <p:cNvPr id="420" name=""/>
            <p:cNvSpPr/>
            <p:nvPr/>
          </p:nvSpPr>
          <p:spPr>
            <a:xfrm flipV="1">
              <a:off x="6143760" y="1614240"/>
              <a:ext cx="457200" cy="2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98920" y="1613880"/>
              <a:ext cx="31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_x0001_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351240" y="3733200"/>
            <a:ext cx="1371240" cy="583200"/>
            <a:chOff x="3351240" y="3733200"/>
            <a:chExt cx="1371240" cy="583200"/>
          </a:xfrm>
        </p:grpSpPr>
        <p:sp>
          <p:nvSpPr>
            <p:cNvPr id="423" name=""/>
            <p:cNvSpPr/>
            <p:nvPr/>
          </p:nvSpPr>
          <p:spPr>
            <a:xfrm>
              <a:off x="3807000" y="37332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51240" y="3733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1960" y="379584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3384720" y="979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476520" y="685800"/>
            <a:ext cx="5313600" cy="3228840"/>
            <a:chOff x="3476520" y="685800"/>
            <a:chExt cx="5313600" cy="3228840"/>
          </a:xfrm>
        </p:grpSpPr>
        <p:sp>
          <p:nvSpPr>
            <p:cNvPr id="428" name=""/>
            <p:cNvSpPr/>
            <p:nvPr/>
          </p:nvSpPr>
          <p:spPr>
            <a:xfrm>
              <a:off x="7860960" y="68580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06440" y="1387440"/>
              <a:ext cx="0" cy="67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09800" y="1917720"/>
              <a:ext cx="1557000" cy="1423800"/>
            </a:xfrm>
            <a:prstGeom prst="ellipse">
              <a:avLst/>
            </a:prstGeom>
            <a:solidFill>
              <a:srgbClr val="efe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84480" y="3235320"/>
              <a:ext cx="0" cy="67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36760" y="3213000"/>
              <a:ext cx="0" cy="6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63720" y="2087640"/>
              <a:ext cx="1655280" cy="1104840"/>
            </a:xfrm>
            <a:prstGeom prst="rect">
              <a:avLst/>
            </a:pr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409720" y="1152000"/>
              <a:ext cx="1901520" cy="87156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63840" y="33044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87840" y="83988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14800" y="1407960"/>
              <a:ext cx="0" cy="67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914800" y="1152360"/>
              <a:ext cx="194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936760" y="2300040"/>
              <a:ext cx="1947600" cy="9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84720" y="232092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884480" y="2873520"/>
              <a:ext cx="70920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455800" y="2193840"/>
              <a:ext cx="1695240" cy="765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3948600">
              <a:off x="7452360" y="1049040"/>
              <a:ext cx="826200" cy="165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77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7722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89280" y="1152360"/>
              <a:ext cx="0" cy="44640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89280" y="1535040"/>
              <a:ext cx="0" cy="67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387760" y="2193480"/>
              <a:ext cx="1901160" cy="8715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33840" y="2003400"/>
              <a:ext cx="0" cy="317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09720" y="2639880"/>
              <a:ext cx="0" cy="425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023800" y="2249640"/>
              <a:ext cx="433080" cy="1886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998600" y="2639880"/>
              <a:ext cx="388800" cy="169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71800" y="2422440"/>
              <a:ext cx="470880" cy="24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771800" y="2513880"/>
              <a:ext cx="456840" cy="304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62240" y="2289240"/>
              <a:ext cx="113760" cy="14904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79520" y="2813040"/>
              <a:ext cx="114120" cy="14760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52480" y="2109960"/>
              <a:ext cx="149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44680" y="2173320"/>
              <a:ext cx="0" cy="189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16680" y="137088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44680" y="2109960"/>
              <a:ext cx="0" cy="17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65920" y="183024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92200" y="289728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64160" y="1800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_x0001_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22240" y="2095560"/>
              <a:ext cx="0" cy="17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76520" y="3733920"/>
              <a:ext cx="11880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466880" y="2936880"/>
              <a:ext cx="608760" cy="912960"/>
              <a:chOff x="4466880" y="2936880"/>
              <a:chExt cx="608760" cy="912960"/>
            </a:xfrm>
          </p:grpSpPr>
          <p:sp>
            <p:nvSpPr>
              <p:cNvPr id="465" name=""/>
              <p:cNvSpPr/>
              <p:nvPr/>
            </p:nvSpPr>
            <p:spPr>
              <a:xfrm>
                <a:off x="5044320" y="2936880"/>
                <a:ext cx="0" cy="21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4466880" y="3124080"/>
                <a:ext cx="118800" cy="725760"/>
                <a:chOff x="4466880" y="3124080"/>
                <a:chExt cx="118800" cy="72576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466880" y="3733920"/>
                  <a:ext cx="118800" cy="115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542840" y="3124080"/>
                  <a:ext cx="0" cy="60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4542840" y="3124080"/>
                <a:ext cx="53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457200" y="4114800"/>
            <a:ext cx="8229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电从两电刷之间通入电枢绕组，电枢电流方向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如图所示。由于换向片和电源固定联接，无论线圈怎样转动，总是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极有效边的电流方向向里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,  N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极有效边的电流方向向外。电动机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枢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绕组通电后中受力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左手定则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顺时针方向旋转</a:t>
            </a: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351240" y="3733200"/>
            <a:ext cx="1371240" cy="583200"/>
            <a:chOff x="3351240" y="3733200"/>
            <a:chExt cx="1371240" cy="583200"/>
          </a:xfrm>
        </p:grpSpPr>
        <p:sp>
          <p:nvSpPr>
            <p:cNvPr id="472" name=""/>
            <p:cNvSpPr/>
            <p:nvPr/>
          </p:nvSpPr>
          <p:spPr>
            <a:xfrm>
              <a:off x="3807000" y="37332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51240" y="3733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41960" y="379584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351240" y="3733200"/>
            <a:ext cx="1371240" cy="583200"/>
            <a:chOff x="3351240" y="3733200"/>
            <a:chExt cx="1371240" cy="583200"/>
          </a:xfrm>
        </p:grpSpPr>
        <p:sp>
          <p:nvSpPr>
            <p:cNvPr id="476" name=""/>
            <p:cNvSpPr/>
            <p:nvPr/>
          </p:nvSpPr>
          <p:spPr>
            <a:xfrm>
              <a:off x="3807000" y="37332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51240" y="3733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41960" y="379584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166920" y="1068480"/>
            <a:ext cx="1098720" cy="530280"/>
          </a:xfrm>
          <a:prstGeom prst="wedgeRoundRectCallout">
            <a:avLst>
              <a:gd name="adj1" fmla="val 116620"/>
              <a:gd name="adj2" fmla="val 194013"/>
              <a:gd name="adj3" fmla="val 16667"/>
            </a:avLst>
          </a:prstGeom>
          <a:solidFill>
            <a:srgbClr val="ffff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_x0001_"/>
              </a:rPr>
              <a:t>电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991120" y="3276720"/>
            <a:ext cx="1168560" cy="658800"/>
          </a:xfrm>
          <a:prstGeom prst="wedgeRoundRectCallout">
            <a:avLst>
              <a:gd name="adj1" fmla="val -117254"/>
              <a:gd name="adj2" fmla="val -127592"/>
              <a:gd name="adj3" fmla="val 16667"/>
            </a:avLst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1_"/>
              </a:rPr>
              <a:t>换向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348000" y="3733200"/>
            <a:ext cx="1371240" cy="583200"/>
            <a:chOff x="3348000" y="3733200"/>
            <a:chExt cx="1371240" cy="583200"/>
          </a:xfrm>
        </p:grpSpPr>
        <p:sp>
          <p:nvSpPr>
            <p:cNvPr id="482" name=""/>
            <p:cNvSpPr/>
            <p:nvPr/>
          </p:nvSpPr>
          <p:spPr>
            <a:xfrm>
              <a:off x="3803760" y="37332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_x0001_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48000" y="3733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_x0001_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38720" y="379584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067440" y="2590560"/>
            <a:ext cx="457200" cy="615240"/>
            <a:chOff x="6067440" y="2590560"/>
            <a:chExt cx="457200" cy="615240"/>
          </a:xfrm>
        </p:grpSpPr>
        <p:sp>
          <p:nvSpPr>
            <p:cNvPr id="486" name=""/>
            <p:cNvSpPr/>
            <p:nvPr/>
          </p:nvSpPr>
          <p:spPr>
            <a:xfrm flipV="1">
              <a:off x="6067440" y="2590560"/>
              <a:ext cx="457200" cy="2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46280" y="2685240"/>
              <a:ext cx="31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_x0001_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016320" y="2071080"/>
            <a:ext cx="736560" cy="520560"/>
            <a:chOff x="6016320" y="2071080"/>
            <a:chExt cx="736560" cy="520560"/>
          </a:xfrm>
        </p:grpSpPr>
        <p:sp>
          <p:nvSpPr>
            <p:cNvPr id="489" name=""/>
            <p:cNvSpPr/>
            <p:nvPr/>
          </p:nvSpPr>
          <p:spPr>
            <a:xfrm flipH="1">
              <a:off x="6295680" y="2362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6320" y="207108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829560" y="1294560"/>
            <a:ext cx="583560" cy="520560"/>
            <a:chOff x="6829560" y="1294560"/>
            <a:chExt cx="583560" cy="520560"/>
          </a:xfrm>
        </p:grpSpPr>
        <p:sp>
          <p:nvSpPr>
            <p:cNvPr id="492" name=""/>
            <p:cNvSpPr/>
            <p:nvPr/>
          </p:nvSpPr>
          <p:spPr>
            <a:xfrm>
              <a:off x="7043400" y="129456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29560" y="13716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552080" y="1370520"/>
            <a:ext cx="683640" cy="916920"/>
            <a:chOff x="7552080" y="1370520"/>
            <a:chExt cx="683640" cy="916920"/>
          </a:xfrm>
        </p:grpSpPr>
        <p:sp>
          <p:nvSpPr>
            <p:cNvPr id="495" name=""/>
            <p:cNvSpPr/>
            <p:nvPr/>
          </p:nvSpPr>
          <p:spPr>
            <a:xfrm flipH="1">
              <a:off x="7865640" y="176688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_x0001_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 rot="13267200">
              <a:off x="7515360" y="1563120"/>
              <a:ext cx="635040" cy="126720"/>
            </a:xfrm>
            <a:custGeom>
              <a:avLst/>
              <a:gdLst/>
              <a:ahLst/>
              <a:rect l="l" t="t" r="r" b="b"/>
              <a:pathLst>
                <a:path w="720" h="192">
                  <a:moveTo>
                    <a:pt x="0" y="192"/>
                  </a:moveTo>
                  <a:cubicBezTo>
                    <a:pt x="108" y="96"/>
                    <a:pt x="216" y="0"/>
                    <a:pt x="336" y="0"/>
                  </a:cubicBezTo>
                  <a:cubicBezTo>
                    <a:pt x="456" y="0"/>
                    <a:pt x="656" y="160"/>
                    <a:pt x="720" y="19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503840" y="1026000"/>
            <a:ext cx="736920" cy="906480"/>
            <a:chOff x="7503840" y="1026000"/>
            <a:chExt cx="736920" cy="906480"/>
          </a:xfrm>
        </p:grpSpPr>
        <p:sp>
          <p:nvSpPr>
            <p:cNvPr id="498" name=""/>
            <p:cNvSpPr/>
            <p:nvPr/>
          </p:nvSpPr>
          <p:spPr>
            <a:xfrm flipH="1" flipV="1" rot="13267200">
              <a:off x="7466760" y="1218960"/>
              <a:ext cx="635040" cy="127080"/>
            </a:xfrm>
            <a:custGeom>
              <a:avLst/>
              <a:gdLst/>
              <a:ahLst/>
              <a:rect l="l" t="t" r="r" b="b"/>
              <a:pathLst>
                <a:path w="720" h="192">
                  <a:moveTo>
                    <a:pt x="0" y="192"/>
                  </a:moveTo>
                  <a:cubicBezTo>
                    <a:pt x="108" y="96"/>
                    <a:pt x="216" y="0"/>
                    <a:pt x="336" y="0"/>
                  </a:cubicBezTo>
                  <a:cubicBezTo>
                    <a:pt x="456" y="0"/>
                    <a:pt x="656" y="160"/>
                    <a:pt x="720" y="19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814520" y="135108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_x0001_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056960" y="1066680"/>
            <a:ext cx="1460880" cy="2653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换向器作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将外部直流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转换成内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直流电，以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持转矩方向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00:33:36Z</dcterms:created>
  <dc:creator>kd</dc:creator>
  <dc:description/>
  <dc:language>en-US</dc:language>
  <cp:lastModifiedBy>xtw</cp:lastModifiedBy>
  <dcterms:modified xsi:type="dcterms:W3CDTF">2003-08-06T03:21:33Z</dcterms:modified>
  <cp:revision>61</cp:revision>
  <dc:subject/>
  <dc:title>PowerPoint 演示文稿</dc:title>
</cp:coreProperties>
</file>