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gif" ContentType="image/gif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TYPE.WAV" ContentType="audio/x-wav"/>
  <Override PartName="/ppt/media/image27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D:/xtw/&#25945;&#23398;&#35838;&#20214;&#65288;&#20132;&#20986;&#29256;&#31038;&#31295;&#65289;/&#30005;&#23376;&#25945;&#26448;&#19982;&#21160;&#30011;(&#20132;&#20986;&#29256;&#31038;&#23450;&#31295;)/&#30005;&#24037;&#25216;&#26415;/&#25945;&#23398;&#35838;&#20214;/&#30005;&#24037;&#25216;&#26415;.ppt" TargetMode="External"/><Relationship Id="rId4" Type="http://schemas.openxmlformats.org/officeDocument/2006/relationships/hyperlink" Target="file:///D:/xtw/&#25945;&#23398;&#35838;&#20214;&#65288;&#20132;&#20986;&#29256;&#31038;&#31295;&#65289;/&#30005;&#23376;&#25945;&#26448;&#19982;&#21160;&#30011;(&#20132;&#20986;&#29256;&#31038;&#23450;&#31295;)/&#30005;&#24037;&#25216;&#26415;/&#25945;&#23398;&#35838;&#20214;/&#30005;&#24037;&#25216;&#26415;.ppt" TargetMode="External"/><Relationship Id="rId5" Type="http://schemas.openxmlformats.org/officeDocument/2006/relationships/hyperlink" Target="file:///D:/xtw/&#25945;&#23398;&#35838;&#20214;&#65288;&#20132;&#20986;&#29256;&#31038;&#31295;&#65289;/&#30005;&#23376;&#25945;&#26448;&#19982;&#21160;&#30011;(&#20132;&#20986;&#29256;&#31038;&#23450;&#31295;)/&#30005;&#24037;&#25216;&#26415;/&#25945;&#23398;&#35838;&#20214;/&#30005;&#24037;&#25216;&#26415;.ppt" TargetMode="External"/><Relationship Id="rId6" Type="http://schemas.openxmlformats.org/officeDocument/2006/relationships/hyperlink" Target="file:///&#30005;&#24037;&#25216;&#26415;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nextslide"/>
          </p:cNvPr>
          <p:cNvSpPr/>
          <p:nvPr/>
        </p:nvSpPr>
        <p:spPr>
          <a:xfrm>
            <a:off x="844884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fafe"/>
              </a:gs>
              <a:gs pos="100000">
                <a:srgbClr val="cfdf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Times New Roman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3244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fafe"/>
              </a:gs>
              <a:gs pos="100000">
                <a:srgbClr val="cfdf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Times New Roman"/>
              </a:rPr>
              <a:t>总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68547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fafe"/>
              </a:gs>
              <a:gs pos="100000">
                <a:srgbClr val="cfdf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Times New Roman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738360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fafe"/>
              </a:gs>
              <a:gs pos="100000">
                <a:srgbClr val="cfdf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918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fafe"/>
              </a:gs>
              <a:gs pos="100000">
                <a:srgbClr val="cfdf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Times New Roman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3"/>
          </p:cNvPr>
          <p:cNvSpPr/>
          <p:nvPr/>
        </p:nvSpPr>
        <p:spPr>
          <a:xfrm>
            <a:off x="6324480" y="6477120"/>
            <a:ext cx="500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4"/>
          </p:cNvPr>
          <p:cNvSpPr/>
          <p:nvPr/>
        </p:nvSpPr>
        <p:spPr>
          <a:xfrm>
            <a:off x="6324480" y="6477120"/>
            <a:ext cx="5335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5"/>
          </p:cNvPr>
          <p:cNvSpPr/>
          <p:nvPr/>
        </p:nvSpPr>
        <p:spPr>
          <a:xfrm>
            <a:off x="6324480" y="6477120"/>
            <a:ext cx="533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6"/>
          </p:cNvPr>
          <p:cNvSpPr/>
          <p:nvPr/>
        </p:nvSpPr>
        <p:spPr>
          <a:xfrm>
            <a:off x="6357960" y="65134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6248520"/>
            <a:ext cx="23623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5.xml"/><Relationship Id="rId3" Type="http://schemas.openxmlformats.org/officeDocument/2006/relationships/slide" Target="slide4.xml"/><Relationship Id="rId4" Type="http://schemas.openxmlformats.org/officeDocument/2006/relationships/slide" Target="slide25.xml"/><Relationship Id="rId5" Type="http://schemas.openxmlformats.org/officeDocument/2006/relationships/slide" Target="slide40.xml"/><Relationship Id="rId6" Type="http://schemas.openxmlformats.org/officeDocument/2006/relationships/slide" Target="slide47.xm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hyperlink" Target="jd3.exe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jd4.exe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JD5.EXE" TargetMode="External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hyperlink" Target="jd5.exe" TargetMode="External"/><Relationship Id="rId5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hyperlink" Target="jd66.exe" TargetMode="External"/><Relationship Id="rId9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0.png"/><Relationship Id="rId4" Type="http://schemas.openxmlformats.org/officeDocument/2006/relationships/image" Target="../media/image16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31.png"/><Relationship Id="rId6" Type="http://schemas.openxmlformats.org/officeDocument/2006/relationships/image" Target="../media/image15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hyperlink" Target="JD7.EXE" TargetMode="Externa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jd7.exe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27.png"/><Relationship Id="rId6" Type="http://schemas.openxmlformats.org/officeDocument/2006/relationships/image" Target="../media/image34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27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27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27.png"/><Relationship Id="rId5" Type="http://schemas.openxmlformats.org/officeDocument/2006/relationships/hyperlink" Target="jd8.exe" TargetMode="External"/><Relationship Id="rId6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jd1.exe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hyperlink" Target="jd2.exe" TargetMode="External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848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1</a:t>
            </a:r>
            <a:r>
              <a:rPr b="0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继电接触控制系统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1177920" y="3733920"/>
            <a:ext cx="426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1.4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行程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1192320" y="1918440"/>
            <a:ext cx="53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1.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常用控制电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1174680" y="249336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1.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鼠笼式电动机直接起动的控制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1174680" y="3123360"/>
            <a:ext cx="74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1.3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鼠笼式电动机正反转的控制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1181160" y="4343400"/>
            <a:ext cx="472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1.5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时间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200240" y="1504800"/>
            <a:ext cx="6724080" cy="171360"/>
            <a:chOff x="1200240" y="1504800"/>
            <a:chExt cx="6724080" cy="171360"/>
          </a:xfrm>
        </p:grpSpPr>
        <p:pic>
          <p:nvPicPr>
            <p:cNvPr id="56" name="" descr=""/>
            <p:cNvPicPr/>
            <p:nvPr/>
          </p:nvPicPr>
          <p:blipFill>
            <a:blip r:embed="rId7"/>
            <a:stretch/>
          </p:blipFill>
          <p:spPr>
            <a:xfrm>
              <a:off x="120024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8"/>
            <a:stretch/>
          </p:blipFill>
          <p:spPr>
            <a:xfrm>
              <a:off x="136188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9"/>
            <a:stretch/>
          </p:blipFill>
          <p:spPr>
            <a:xfrm>
              <a:off x="1514520" y="151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0"/>
            <a:stretch/>
          </p:blipFill>
          <p:spPr>
            <a:xfrm>
              <a:off x="165708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1"/>
            <a:stretch/>
          </p:blipFill>
          <p:spPr>
            <a:xfrm>
              <a:off x="181908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2"/>
            <a:stretch/>
          </p:blipFill>
          <p:spPr>
            <a:xfrm>
              <a:off x="211428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3"/>
            <a:stretch/>
          </p:blipFill>
          <p:spPr>
            <a:xfrm>
              <a:off x="227628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4"/>
            <a:stretch/>
          </p:blipFill>
          <p:spPr>
            <a:xfrm>
              <a:off x="2428920" y="151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5"/>
            <a:stretch/>
          </p:blipFill>
          <p:spPr>
            <a:xfrm>
              <a:off x="257148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6"/>
            <a:stretch/>
          </p:blipFill>
          <p:spPr>
            <a:xfrm>
              <a:off x="1971720" y="151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7"/>
            <a:stretch/>
          </p:blipFill>
          <p:spPr>
            <a:xfrm>
              <a:off x="273348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8"/>
            <a:stretch/>
          </p:blipFill>
          <p:spPr>
            <a:xfrm>
              <a:off x="2886120" y="151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19"/>
            <a:stretch/>
          </p:blipFill>
          <p:spPr>
            <a:xfrm>
              <a:off x="302868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0"/>
            <a:stretch/>
          </p:blipFill>
          <p:spPr>
            <a:xfrm>
              <a:off x="319068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1"/>
            <a:stretch/>
          </p:blipFill>
          <p:spPr>
            <a:xfrm>
              <a:off x="3343320" y="151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2"/>
            <a:stretch/>
          </p:blipFill>
          <p:spPr>
            <a:xfrm>
              <a:off x="348588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3"/>
            <a:stretch/>
          </p:blipFill>
          <p:spPr>
            <a:xfrm>
              <a:off x="364788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4"/>
            <a:stretch/>
          </p:blipFill>
          <p:spPr>
            <a:xfrm>
              <a:off x="394308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5"/>
            <a:stretch/>
          </p:blipFill>
          <p:spPr>
            <a:xfrm>
              <a:off x="410508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6"/>
            <a:stretch/>
          </p:blipFill>
          <p:spPr>
            <a:xfrm>
              <a:off x="4257720" y="151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7"/>
            <a:stretch/>
          </p:blipFill>
          <p:spPr>
            <a:xfrm>
              <a:off x="440028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8"/>
            <a:stretch/>
          </p:blipFill>
          <p:spPr>
            <a:xfrm>
              <a:off x="456228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9"/>
            <a:stretch/>
          </p:blipFill>
          <p:spPr>
            <a:xfrm>
              <a:off x="485748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30"/>
            <a:stretch/>
          </p:blipFill>
          <p:spPr>
            <a:xfrm>
              <a:off x="501948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1"/>
            <a:stretch/>
          </p:blipFill>
          <p:spPr>
            <a:xfrm>
              <a:off x="5172120" y="151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2"/>
            <a:stretch/>
          </p:blipFill>
          <p:spPr>
            <a:xfrm>
              <a:off x="531468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3"/>
            <a:stretch/>
          </p:blipFill>
          <p:spPr>
            <a:xfrm>
              <a:off x="3800520" y="151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4"/>
            <a:stretch/>
          </p:blipFill>
          <p:spPr>
            <a:xfrm>
              <a:off x="4714920" y="151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35"/>
            <a:stretch/>
          </p:blipFill>
          <p:spPr>
            <a:xfrm>
              <a:off x="547668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6"/>
            <a:stretch/>
          </p:blipFill>
          <p:spPr>
            <a:xfrm>
              <a:off x="5629320" y="151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37"/>
            <a:stretch/>
          </p:blipFill>
          <p:spPr>
            <a:xfrm>
              <a:off x="577188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38"/>
            <a:stretch/>
          </p:blipFill>
          <p:spPr>
            <a:xfrm>
              <a:off x="593388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9"/>
            <a:stretch/>
          </p:blipFill>
          <p:spPr>
            <a:xfrm>
              <a:off x="6086520" y="151416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0"/>
            <a:stretch/>
          </p:blipFill>
          <p:spPr>
            <a:xfrm>
              <a:off x="6229080" y="1514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6391080" y="1514160"/>
              <a:ext cx="1075680" cy="162000"/>
              <a:chOff x="6391080" y="1514160"/>
              <a:chExt cx="1075680" cy="162000"/>
            </a:xfrm>
          </p:grpSpPr>
          <p:pic>
            <p:nvPicPr>
              <p:cNvPr id="91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391080" y="151416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6685920" y="151416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6847920" y="151416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7000200" y="151416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7143120" y="151416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7305120" y="151416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6543000" y="151416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8" name="" descr=""/>
            <p:cNvPicPr/>
            <p:nvPr/>
          </p:nvPicPr>
          <p:blipFill>
            <a:blip r:embed="rId48"/>
            <a:stretch/>
          </p:blipFill>
          <p:spPr>
            <a:xfrm>
              <a:off x="7467480" y="1504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9"/>
            <a:stretch/>
          </p:blipFill>
          <p:spPr>
            <a:xfrm>
              <a:off x="7762680" y="15048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0"/>
            <a:stretch/>
          </p:blipFill>
          <p:spPr>
            <a:xfrm>
              <a:off x="7619760" y="150480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914400" y="304200"/>
            <a:ext cx="901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符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985320" y="304920"/>
            <a:ext cx="2727360" cy="1218960"/>
            <a:chOff x="985320" y="304920"/>
            <a:chExt cx="2727360" cy="1218960"/>
          </a:xfrm>
        </p:grpSpPr>
        <p:grpSp>
          <p:nvGrpSpPr>
            <p:cNvPr id="630" name=""/>
            <p:cNvGrpSpPr/>
            <p:nvPr/>
          </p:nvGrpSpPr>
          <p:grpSpPr>
            <a:xfrm>
              <a:off x="2236680" y="784080"/>
              <a:ext cx="1476000" cy="739800"/>
              <a:chOff x="2236680" y="784080"/>
              <a:chExt cx="1476000" cy="739800"/>
            </a:xfrm>
          </p:grpSpPr>
          <p:sp>
            <p:nvSpPr>
              <p:cNvPr id="631" name=""/>
              <p:cNvSpPr/>
              <p:nvPr/>
            </p:nvSpPr>
            <p:spPr>
              <a:xfrm>
                <a:off x="2728440" y="784080"/>
                <a:ext cx="553320" cy="739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236680" y="1187640"/>
                <a:ext cx="49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282120" y="1187640"/>
                <a:ext cx="430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985320" y="847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线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47800" y="3049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K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5791320" y="14734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于主电路 流过的大电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需加灭弧  装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943600" y="28656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于控制电路流过的小电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需加灭弧装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131120" y="2513880"/>
            <a:ext cx="4386960" cy="1482480"/>
            <a:chOff x="1131120" y="2513880"/>
            <a:chExt cx="4386960" cy="1482480"/>
          </a:xfrm>
        </p:grpSpPr>
        <p:grpSp>
          <p:nvGrpSpPr>
            <p:cNvPr id="639" name=""/>
            <p:cNvGrpSpPr/>
            <p:nvPr/>
          </p:nvGrpSpPr>
          <p:grpSpPr>
            <a:xfrm>
              <a:off x="4056120" y="3038040"/>
              <a:ext cx="1353600" cy="181440"/>
              <a:chOff x="4056120" y="3038040"/>
              <a:chExt cx="1353600" cy="181440"/>
            </a:xfrm>
          </p:grpSpPr>
          <p:sp>
            <p:nvSpPr>
              <p:cNvPr id="640" name=""/>
              <p:cNvSpPr/>
              <p:nvPr/>
            </p:nvSpPr>
            <p:spPr>
              <a:xfrm flipH="1">
                <a:off x="5033520" y="3038040"/>
                <a:ext cx="376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4582440" y="3038400"/>
                <a:ext cx="45108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4056120" y="3038040"/>
                <a:ext cx="525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>
              <a:off x="4352760" y="25138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K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55240" y="2814480"/>
              <a:ext cx="246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动合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常开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辅助触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1131120" y="3337920"/>
              <a:ext cx="4386960" cy="658440"/>
              <a:chOff x="1131120" y="3337920"/>
              <a:chExt cx="4386960" cy="65844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4038480" y="3571200"/>
                <a:ext cx="1218960" cy="271080"/>
                <a:chOff x="4038480" y="3571200"/>
                <a:chExt cx="1218960" cy="271080"/>
              </a:xfrm>
            </p:grpSpPr>
            <p:sp>
              <p:nvSpPr>
                <p:cNvPr id="647" name=""/>
                <p:cNvSpPr/>
                <p:nvPr/>
              </p:nvSpPr>
              <p:spPr>
                <a:xfrm flipH="1">
                  <a:off x="4851000" y="3842280"/>
                  <a:ext cx="40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V="1">
                  <a:off x="4512600" y="3571200"/>
                  <a:ext cx="0" cy="27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 flipV="1">
                  <a:off x="4444560" y="3571200"/>
                  <a:ext cx="406440" cy="27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>
                  <a:off x="4038480" y="3842280"/>
                  <a:ext cx="474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1131120" y="3475800"/>
                <a:ext cx="246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动断</a:t>
                </a: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(</a:t>
                </a: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常闭</a:t>
                </a: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)</a:t>
                </a: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辅助触点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726080" y="3337920"/>
                <a:ext cx="79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K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3" name=""/>
          <p:cNvSpPr/>
          <p:nvPr/>
        </p:nvSpPr>
        <p:spPr>
          <a:xfrm>
            <a:off x="762120" y="39618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属于同一器件的线圈和触点用相同的文字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201200" y="487620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触器技术指标：额定工作电压、电流、触点数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090440" y="1219320"/>
            <a:ext cx="4327200" cy="1260000"/>
            <a:chOff x="1090440" y="1219320"/>
            <a:chExt cx="4327200" cy="1260000"/>
          </a:xfrm>
        </p:grpSpPr>
        <p:sp>
          <p:nvSpPr>
            <p:cNvPr id="656" name=""/>
            <p:cNvSpPr/>
            <p:nvPr/>
          </p:nvSpPr>
          <p:spPr>
            <a:xfrm>
              <a:off x="4754520" y="1868400"/>
              <a:ext cx="0" cy="609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090440" y="1689840"/>
              <a:ext cx="225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动合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常开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主触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360680" y="12193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K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4984560" y="204948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4465800" y="2049480"/>
              <a:ext cx="519120" cy="15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860280" y="2085840"/>
              <a:ext cx="6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 rot="6240600">
              <a:off x="4338360" y="2037600"/>
              <a:ext cx="96480" cy="155880"/>
            </a:xfrm>
            <a:custGeom>
              <a:avLst/>
              <a:gdLst/>
              <a:ahLst/>
              <a:rect l="l" t="t" r="r" b="b"/>
              <a:pathLst>
                <a:path w="464" h="624">
                  <a:moveTo>
                    <a:pt x="272" y="0"/>
                  </a:moveTo>
                  <a:cubicBezTo>
                    <a:pt x="136" y="164"/>
                    <a:pt x="0" y="328"/>
                    <a:pt x="32" y="432"/>
                  </a:cubicBezTo>
                  <a:cubicBezTo>
                    <a:pt x="64" y="536"/>
                    <a:pt x="392" y="592"/>
                    <a:pt x="464" y="624"/>
                  </a:cubicBezTo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4986000" y="232092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4467240" y="2320920"/>
              <a:ext cx="519120" cy="15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3860280" y="2320920"/>
              <a:ext cx="606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 rot="6240600">
              <a:off x="4339080" y="2271960"/>
              <a:ext cx="97920" cy="157320"/>
            </a:xfrm>
            <a:custGeom>
              <a:avLst/>
              <a:gdLst/>
              <a:ahLst/>
              <a:rect l="l" t="t" r="r" b="b"/>
              <a:pathLst>
                <a:path w="464" h="624">
                  <a:moveTo>
                    <a:pt x="272" y="0"/>
                  </a:moveTo>
                  <a:cubicBezTo>
                    <a:pt x="136" y="164"/>
                    <a:pt x="0" y="328"/>
                    <a:pt x="32" y="432"/>
                  </a:cubicBezTo>
                  <a:cubicBezTo>
                    <a:pt x="64" y="536"/>
                    <a:pt x="392" y="592"/>
                    <a:pt x="464" y="624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4984560" y="177948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4465800" y="1779480"/>
              <a:ext cx="519120" cy="15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3860280" y="1815840"/>
              <a:ext cx="6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 rot="6240600">
              <a:off x="4338360" y="1761120"/>
              <a:ext cx="96480" cy="155880"/>
            </a:xfrm>
            <a:custGeom>
              <a:avLst/>
              <a:gdLst/>
              <a:ahLst/>
              <a:rect l="l" t="t" r="r" b="b"/>
              <a:pathLst>
                <a:path w="464" h="624">
                  <a:moveTo>
                    <a:pt x="272" y="0"/>
                  </a:moveTo>
                  <a:cubicBezTo>
                    <a:pt x="136" y="164"/>
                    <a:pt x="0" y="328"/>
                    <a:pt x="32" y="432"/>
                  </a:cubicBezTo>
                  <a:cubicBezTo>
                    <a:pt x="64" y="536"/>
                    <a:pt x="392" y="592"/>
                    <a:pt x="464" y="624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1381320" y="4433040"/>
            <a:ext cx="652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的交流接触器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J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J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J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T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系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304920" y="5410080"/>
            <a:ext cx="8762760" cy="1117800"/>
            <a:chOff x="304920" y="5410080"/>
            <a:chExt cx="8762760" cy="1117800"/>
          </a:xfrm>
        </p:grpSpPr>
        <p:sp>
          <p:nvSpPr>
            <p:cNvPr id="673" name=""/>
            <p:cNvSpPr/>
            <p:nvPr/>
          </p:nvSpPr>
          <p:spPr>
            <a:xfrm>
              <a:off x="304920" y="5495760"/>
              <a:ext cx="87627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925200" y="5410080"/>
              <a:ext cx="7378920" cy="1117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如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CJ10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系列主触点额定电流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、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10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、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20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、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40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、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75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120A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等数种；额定工作电压通常是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220V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或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380V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692280" y="553320"/>
            <a:ext cx="223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1.1.4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继电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17440"/>
            <a:ext cx="838188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继电器和接触器的结构和工作原理大致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主要区别在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触器的主触点可以通过大电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电器的体积和触点容量小，触点数目多，且只能通过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小电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所以，继电器一般用于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控制电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609480" y="5853240"/>
            <a:ext cx="4876920" cy="161640"/>
            <a:chOff x="609480" y="5853240"/>
            <a:chExt cx="4876920" cy="161640"/>
          </a:xfrm>
        </p:grpSpPr>
        <p:pic>
          <p:nvPicPr>
            <p:cNvPr id="678" name="" descr=""/>
            <p:cNvPicPr/>
            <p:nvPr/>
          </p:nvPicPr>
          <p:blipFill>
            <a:blip r:embed="rId2"/>
            <a:stretch/>
          </p:blipFill>
          <p:spPr>
            <a:xfrm>
              <a:off x="609480" y="5853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" descr=""/>
            <p:cNvPicPr/>
            <p:nvPr/>
          </p:nvPicPr>
          <p:blipFill>
            <a:blip r:embed="rId3"/>
            <a:stretch/>
          </p:blipFill>
          <p:spPr>
            <a:xfrm>
              <a:off x="752400" y="5853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" descr=""/>
            <p:cNvPicPr/>
            <p:nvPr/>
          </p:nvPicPr>
          <p:blipFill>
            <a:blip r:embed="rId4"/>
            <a:stretch/>
          </p:blipFill>
          <p:spPr>
            <a:xfrm>
              <a:off x="914400" y="5853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" descr=""/>
            <p:cNvPicPr/>
            <p:nvPr/>
          </p:nvPicPr>
          <p:blipFill>
            <a:blip r:embed="rId5"/>
            <a:stretch/>
          </p:blipFill>
          <p:spPr>
            <a:xfrm>
              <a:off x="1209600" y="5853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" descr=""/>
            <p:cNvPicPr/>
            <p:nvPr/>
          </p:nvPicPr>
          <p:blipFill>
            <a:blip r:embed="rId6"/>
            <a:stretch/>
          </p:blipFill>
          <p:spPr>
            <a:xfrm>
              <a:off x="1371600" y="5853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" descr=""/>
            <p:cNvPicPr/>
            <p:nvPr/>
          </p:nvPicPr>
          <p:blipFill>
            <a:blip r:embed="rId7"/>
            <a:stretch/>
          </p:blipFill>
          <p:spPr>
            <a:xfrm>
              <a:off x="1523880" y="5853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" descr=""/>
            <p:cNvPicPr/>
            <p:nvPr/>
          </p:nvPicPr>
          <p:blipFill>
            <a:blip r:embed="rId8"/>
            <a:stretch/>
          </p:blipFill>
          <p:spPr>
            <a:xfrm>
              <a:off x="1666800" y="5853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" descr=""/>
            <p:cNvPicPr/>
            <p:nvPr/>
          </p:nvPicPr>
          <p:blipFill>
            <a:blip r:embed="rId9"/>
            <a:stretch/>
          </p:blipFill>
          <p:spPr>
            <a:xfrm>
              <a:off x="1828800" y="5853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" descr=""/>
            <p:cNvPicPr/>
            <p:nvPr/>
          </p:nvPicPr>
          <p:blipFill>
            <a:blip r:embed="rId10"/>
            <a:stretch/>
          </p:blipFill>
          <p:spPr>
            <a:xfrm>
              <a:off x="2124000" y="5853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" descr=""/>
            <p:cNvPicPr/>
            <p:nvPr/>
          </p:nvPicPr>
          <p:blipFill>
            <a:blip r:embed="rId11"/>
            <a:stretch/>
          </p:blipFill>
          <p:spPr>
            <a:xfrm>
              <a:off x="2286000" y="5853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12"/>
            <a:stretch/>
          </p:blipFill>
          <p:spPr>
            <a:xfrm>
              <a:off x="2438280" y="5853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" descr=""/>
            <p:cNvPicPr/>
            <p:nvPr/>
          </p:nvPicPr>
          <p:blipFill>
            <a:blip r:embed="rId13"/>
            <a:stretch/>
          </p:blipFill>
          <p:spPr>
            <a:xfrm>
              <a:off x="2581200" y="5853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" descr=""/>
            <p:cNvPicPr/>
            <p:nvPr/>
          </p:nvPicPr>
          <p:blipFill>
            <a:blip r:embed="rId14"/>
            <a:stretch/>
          </p:blipFill>
          <p:spPr>
            <a:xfrm>
              <a:off x="1066680" y="5853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" descr=""/>
            <p:cNvPicPr/>
            <p:nvPr/>
          </p:nvPicPr>
          <p:blipFill>
            <a:blip r:embed="rId15"/>
            <a:stretch/>
          </p:blipFill>
          <p:spPr>
            <a:xfrm>
              <a:off x="1981080" y="5853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" descr=""/>
            <p:cNvPicPr/>
            <p:nvPr/>
          </p:nvPicPr>
          <p:blipFill>
            <a:blip r:embed="rId16"/>
            <a:stretch/>
          </p:blipFill>
          <p:spPr>
            <a:xfrm>
              <a:off x="2743200" y="5853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" descr=""/>
            <p:cNvPicPr/>
            <p:nvPr/>
          </p:nvPicPr>
          <p:blipFill>
            <a:blip r:embed="rId17"/>
            <a:stretch/>
          </p:blipFill>
          <p:spPr>
            <a:xfrm>
              <a:off x="2895480" y="5853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" descr=""/>
            <p:cNvPicPr/>
            <p:nvPr/>
          </p:nvPicPr>
          <p:blipFill>
            <a:blip r:embed="rId18"/>
            <a:stretch/>
          </p:blipFill>
          <p:spPr>
            <a:xfrm>
              <a:off x="3038400" y="5853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" descr=""/>
            <p:cNvPicPr/>
            <p:nvPr/>
          </p:nvPicPr>
          <p:blipFill>
            <a:blip r:embed="rId19"/>
            <a:stretch/>
          </p:blipFill>
          <p:spPr>
            <a:xfrm>
              <a:off x="3200400" y="5853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" descr=""/>
            <p:cNvPicPr/>
            <p:nvPr/>
          </p:nvPicPr>
          <p:blipFill>
            <a:blip r:embed="rId20"/>
            <a:stretch/>
          </p:blipFill>
          <p:spPr>
            <a:xfrm>
              <a:off x="3352680" y="5853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" descr=""/>
            <p:cNvPicPr/>
            <p:nvPr/>
          </p:nvPicPr>
          <p:blipFill>
            <a:blip r:embed="rId21"/>
            <a:stretch/>
          </p:blipFill>
          <p:spPr>
            <a:xfrm>
              <a:off x="3495600" y="5853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" descr=""/>
            <p:cNvPicPr/>
            <p:nvPr/>
          </p:nvPicPr>
          <p:blipFill>
            <a:blip r:embed="rId22"/>
            <a:stretch/>
          </p:blipFill>
          <p:spPr>
            <a:xfrm>
              <a:off x="3657600" y="5853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" descr=""/>
            <p:cNvPicPr/>
            <p:nvPr/>
          </p:nvPicPr>
          <p:blipFill>
            <a:blip r:embed="rId23"/>
            <a:stretch/>
          </p:blipFill>
          <p:spPr>
            <a:xfrm>
              <a:off x="3952800" y="5853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" descr=""/>
            <p:cNvPicPr/>
            <p:nvPr/>
          </p:nvPicPr>
          <p:blipFill>
            <a:blip r:embed="rId24"/>
            <a:stretch/>
          </p:blipFill>
          <p:spPr>
            <a:xfrm>
              <a:off x="4114800" y="5853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25"/>
            <a:stretch/>
          </p:blipFill>
          <p:spPr>
            <a:xfrm>
              <a:off x="4267080" y="5853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26"/>
            <a:stretch/>
          </p:blipFill>
          <p:spPr>
            <a:xfrm>
              <a:off x="4410000" y="5853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27"/>
            <a:stretch/>
          </p:blipFill>
          <p:spPr>
            <a:xfrm>
              <a:off x="4572000" y="5853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" descr=""/>
            <p:cNvPicPr/>
            <p:nvPr/>
          </p:nvPicPr>
          <p:blipFill>
            <a:blip r:embed="rId28"/>
            <a:stretch/>
          </p:blipFill>
          <p:spPr>
            <a:xfrm>
              <a:off x="4867200" y="5853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" descr=""/>
            <p:cNvPicPr/>
            <p:nvPr/>
          </p:nvPicPr>
          <p:blipFill>
            <a:blip r:embed="rId29"/>
            <a:stretch/>
          </p:blipFill>
          <p:spPr>
            <a:xfrm>
              <a:off x="5029200" y="5853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" descr=""/>
            <p:cNvPicPr/>
            <p:nvPr/>
          </p:nvPicPr>
          <p:blipFill>
            <a:blip r:embed="rId30"/>
            <a:stretch/>
          </p:blipFill>
          <p:spPr>
            <a:xfrm>
              <a:off x="5181480" y="5853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" descr=""/>
            <p:cNvPicPr/>
            <p:nvPr/>
          </p:nvPicPr>
          <p:blipFill>
            <a:blip r:embed="rId31"/>
            <a:stretch/>
          </p:blipFill>
          <p:spPr>
            <a:xfrm>
              <a:off x="5324400" y="5853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" descr=""/>
            <p:cNvPicPr/>
            <p:nvPr/>
          </p:nvPicPr>
          <p:blipFill>
            <a:blip r:embed="rId32"/>
            <a:stretch/>
          </p:blipFill>
          <p:spPr>
            <a:xfrm>
              <a:off x="3809880" y="5853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" descr=""/>
            <p:cNvPicPr/>
            <p:nvPr/>
          </p:nvPicPr>
          <p:blipFill>
            <a:blip r:embed="rId33"/>
            <a:stretch/>
          </p:blipFill>
          <p:spPr>
            <a:xfrm>
              <a:off x="4724280" y="585324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0" name=""/>
          <p:cNvSpPr/>
          <p:nvPr/>
        </p:nvSpPr>
        <p:spPr>
          <a:xfrm>
            <a:off x="1061640" y="3885840"/>
            <a:ext cx="2327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流及电压继电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219320" y="4308480"/>
            <a:ext cx="6858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流继电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用于过载或过载保护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压继电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作为欠压、失压保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533520" y="288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中间继电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822320" y="1714320"/>
            <a:ext cx="527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中间继电器触头容量小，触点数目多，用于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制线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12760" y="793800"/>
            <a:ext cx="527688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常用于传递信号和同时控制多个电路，也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接用它来控制小容量电动机或其他电气执行元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4648320" y="2300400"/>
            <a:ext cx="3682800" cy="3733560"/>
            <a:chOff x="4648320" y="2300400"/>
            <a:chExt cx="3682800" cy="3733560"/>
          </a:xfrm>
        </p:grpSpPr>
        <p:pic>
          <p:nvPicPr>
            <p:cNvPr id="716" name="" descr=""/>
            <p:cNvPicPr/>
            <p:nvPr/>
          </p:nvPicPr>
          <p:blipFill>
            <a:blip r:embed="rId2"/>
            <a:stretch/>
          </p:blipFill>
          <p:spPr>
            <a:xfrm>
              <a:off x="4648320" y="2300400"/>
              <a:ext cx="3682800" cy="37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中间继电器" descr=""/>
            <p:cNvPicPr/>
            <p:nvPr/>
          </p:nvPicPr>
          <p:blipFill>
            <a:blip r:embed="rId3"/>
            <a:stretch/>
          </p:blipFill>
          <p:spPr>
            <a:xfrm>
              <a:off x="4879800" y="2498760"/>
              <a:ext cx="3249360" cy="333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8" name=""/>
          <p:cNvGrpSpPr/>
          <p:nvPr/>
        </p:nvGrpSpPr>
        <p:grpSpPr>
          <a:xfrm>
            <a:off x="1126440" y="2452680"/>
            <a:ext cx="2912040" cy="3416040"/>
            <a:chOff x="1126440" y="2452680"/>
            <a:chExt cx="2912040" cy="3416040"/>
          </a:xfrm>
        </p:grpSpPr>
        <p:sp>
          <p:nvSpPr>
            <p:cNvPr id="719" name=""/>
            <p:cNvSpPr/>
            <p:nvPr/>
          </p:nvSpPr>
          <p:spPr>
            <a:xfrm>
              <a:off x="1866960" y="29397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024000" y="359568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676160" y="534816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b)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符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1364400" y="2452680"/>
              <a:ext cx="2597760" cy="1218600"/>
              <a:chOff x="1364400" y="2452680"/>
              <a:chExt cx="2597760" cy="1218600"/>
            </a:xfrm>
          </p:grpSpPr>
          <p:grpSp>
            <p:nvGrpSpPr>
              <p:cNvPr id="723" name=""/>
              <p:cNvGrpSpPr/>
              <p:nvPr/>
            </p:nvGrpSpPr>
            <p:grpSpPr>
              <a:xfrm>
                <a:off x="2361960" y="2909520"/>
                <a:ext cx="1600200" cy="761760"/>
                <a:chOff x="2361960" y="2909520"/>
                <a:chExt cx="1600200" cy="7617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2895480" y="2909520"/>
                  <a:ext cx="533160" cy="7617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361960" y="329004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3428640" y="329004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7" name=""/>
              <p:cNvSpPr/>
              <p:nvPr/>
            </p:nvSpPr>
            <p:spPr>
              <a:xfrm>
                <a:off x="2821680" y="2452680"/>
                <a:ext cx="712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K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364400" y="292392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线圈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1126440" y="3776400"/>
              <a:ext cx="2912040" cy="785880"/>
              <a:chOff x="1126440" y="3776400"/>
              <a:chExt cx="2912040" cy="785880"/>
            </a:xfrm>
          </p:grpSpPr>
          <p:sp>
            <p:nvSpPr>
              <p:cNvPr id="730" name=""/>
              <p:cNvSpPr/>
              <p:nvPr/>
            </p:nvSpPr>
            <p:spPr>
              <a:xfrm>
                <a:off x="1126440" y="39279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常开触头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1" name=""/>
              <p:cNvGrpSpPr/>
              <p:nvPr/>
            </p:nvGrpSpPr>
            <p:grpSpPr>
              <a:xfrm>
                <a:off x="2438280" y="3776400"/>
                <a:ext cx="1600200" cy="785880"/>
                <a:chOff x="2438280" y="3776400"/>
                <a:chExt cx="1600200" cy="785880"/>
              </a:xfrm>
            </p:grpSpPr>
            <p:grpSp>
              <p:nvGrpSpPr>
                <p:cNvPr id="732" name=""/>
                <p:cNvGrpSpPr/>
                <p:nvPr/>
              </p:nvGrpSpPr>
              <p:grpSpPr>
                <a:xfrm>
                  <a:off x="2438280" y="4295520"/>
                  <a:ext cx="1600200" cy="266760"/>
                  <a:chOff x="2438280" y="4295520"/>
                  <a:chExt cx="1600200" cy="266760"/>
                </a:xfrm>
              </p:grpSpPr>
              <p:sp>
                <p:nvSpPr>
                  <p:cNvPr id="733" name=""/>
                  <p:cNvSpPr/>
                  <p:nvPr/>
                </p:nvSpPr>
                <p:spPr>
                  <a:xfrm>
                    <a:off x="2438280" y="4295520"/>
                    <a:ext cx="5335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2971800" y="4295520"/>
                    <a:ext cx="587160" cy="266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3504960" y="4295520"/>
                    <a:ext cx="5335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6" name=""/>
                <p:cNvSpPr/>
                <p:nvPr/>
              </p:nvSpPr>
              <p:spPr>
                <a:xfrm>
                  <a:off x="2849040" y="3776400"/>
                  <a:ext cx="712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K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7" name=""/>
            <p:cNvGrpSpPr/>
            <p:nvPr/>
          </p:nvGrpSpPr>
          <p:grpSpPr>
            <a:xfrm>
              <a:off x="1127520" y="4600440"/>
              <a:ext cx="2847600" cy="672120"/>
              <a:chOff x="1127520" y="4600440"/>
              <a:chExt cx="2847600" cy="672120"/>
            </a:xfrm>
          </p:grpSpPr>
          <p:sp>
            <p:nvSpPr>
              <p:cNvPr id="738" name=""/>
              <p:cNvSpPr/>
              <p:nvPr/>
            </p:nvSpPr>
            <p:spPr>
              <a:xfrm>
                <a:off x="1127520" y="475200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常闭触头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9" name=""/>
              <p:cNvGrpSpPr/>
              <p:nvPr/>
            </p:nvGrpSpPr>
            <p:grpSpPr>
              <a:xfrm>
                <a:off x="2451240" y="4600440"/>
                <a:ext cx="1523880" cy="600120"/>
                <a:chOff x="2451240" y="4600440"/>
                <a:chExt cx="1523880" cy="600120"/>
              </a:xfrm>
            </p:grpSpPr>
            <p:grpSp>
              <p:nvGrpSpPr>
                <p:cNvPr id="740" name=""/>
                <p:cNvGrpSpPr/>
                <p:nvPr/>
              </p:nvGrpSpPr>
              <p:grpSpPr>
                <a:xfrm>
                  <a:off x="2451240" y="4890960"/>
                  <a:ext cx="1523880" cy="309600"/>
                  <a:chOff x="2451240" y="4890960"/>
                  <a:chExt cx="1523880" cy="309600"/>
                </a:xfrm>
              </p:grpSpPr>
              <p:sp>
                <p:nvSpPr>
                  <p:cNvPr id="741" name=""/>
                  <p:cNvSpPr/>
                  <p:nvPr/>
                </p:nvSpPr>
                <p:spPr>
                  <a:xfrm>
                    <a:off x="2451240" y="5200560"/>
                    <a:ext cx="533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 flipV="1">
                    <a:off x="2984400" y="4962240"/>
                    <a:ext cx="541440" cy="238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3441600" y="5200560"/>
                    <a:ext cx="5335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3441600" y="489096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45" name=""/>
                <p:cNvSpPr/>
                <p:nvPr/>
              </p:nvSpPr>
              <p:spPr>
                <a:xfrm>
                  <a:off x="2593440" y="4600440"/>
                  <a:ext cx="712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K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46" name=""/>
          <p:cNvSpPr/>
          <p:nvPr/>
        </p:nvSpPr>
        <p:spPr>
          <a:xfrm>
            <a:off x="5666040" y="603396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a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016000" y="59720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中间继电器外形与符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818640" y="151560"/>
            <a:ext cx="200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3.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时间继电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57200" y="10645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从得到输入信号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线圈通电或断电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起，经过一段时间延时后才动作的继电器。适用于定时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169920" y="3144960"/>
            <a:ext cx="5011920" cy="2812680"/>
            <a:chOff x="169920" y="3144960"/>
            <a:chExt cx="5011920" cy="2812680"/>
          </a:xfrm>
        </p:grpSpPr>
        <p:sp>
          <p:nvSpPr>
            <p:cNvPr id="751" name=""/>
            <p:cNvSpPr/>
            <p:nvPr/>
          </p:nvSpPr>
          <p:spPr>
            <a:xfrm>
              <a:off x="1608120" y="4433760"/>
              <a:ext cx="685800" cy="12952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446200" y="4433760"/>
              <a:ext cx="152280" cy="99036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303200" y="4433760"/>
              <a:ext cx="152280" cy="99036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20757600">
              <a:off x="769680" y="3823560"/>
              <a:ext cx="1752840" cy="228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46000" y="4357440"/>
              <a:ext cx="228600" cy="16002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074600" y="5729040"/>
              <a:ext cx="1523880" cy="228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 flipV="1">
              <a:off x="617040" y="3519360"/>
              <a:ext cx="228600" cy="8380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169920" y="3664440"/>
              <a:ext cx="480240" cy="442440"/>
              <a:chOff x="169920" y="3664440"/>
              <a:chExt cx="480240" cy="442440"/>
            </a:xfrm>
          </p:grpSpPr>
          <p:sp>
            <p:nvSpPr>
              <p:cNvPr id="759" name=""/>
              <p:cNvSpPr/>
              <p:nvPr/>
            </p:nvSpPr>
            <p:spPr>
              <a:xfrm>
                <a:off x="239400" y="3895920"/>
                <a:ext cx="222840" cy="15948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" name=""/>
              <p:cNvGrpSpPr/>
              <p:nvPr/>
            </p:nvGrpSpPr>
            <p:grpSpPr>
              <a:xfrm>
                <a:off x="169920" y="3960000"/>
                <a:ext cx="303120" cy="146880"/>
                <a:chOff x="169920" y="3960000"/>
                <a:chExt cx="303120" cy="146880"/>
              </a:xfrm>
            </p:grpSpPr>
            <p:sp>
              <p:nvSpPr>
                <p:cNvPr id="761" name=""/>
                <p:cNvSpPr/>
                <p:nvPr/>
              </p:nvSpPr>
              <p:spPr>
                <a:xfrm flipV="1">
                  <a:off x="246960" y="3960360"/>
                  <a:ext cx="74160" cy="70560"/>
                </a:xfrm>
                <a:prstGeom prst="line">
                  <a:avLst/>
                </a:prstGeom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V="1">
                  <a:off x="169920" y="3960000"/>
                  <a:ext cx="74520" cy="70920"/>
                </a:xfrm>
                <a:prstGeom prst="line">
                  <a:avLst/>
                </a:prstGeom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V="1">
                  <a:off x="322200" y="4035960"/>
                  <a:ext cx="74520" cy="70920"/>
                </a:xfrm>
                <a:prstGeom prst="line">
                  <a:avLst/>
                </a:prstGeom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V="1">
                  <a:off x="398520" y="4035960"/>
                  <a:ext cx="74520" cy="70920"/>
                </a:xfrm>
                <a:prstGeom prst="line">
                  <a:avLst/>
                </a:prstGeom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340560" y="3664440"/>
                <a:ext cx="309600" cy="325440"/>
                <a:chOff x="340560" y="3664440"/>
                <a:chExt cx="309600" cy="325440"/>
              </a:xfrm>
            </p:grpSpPr>
            <p:sp>
              <p:nvSpPr>
                <p:cNvPr id="766" name=""/>
                <p:cNvSpPr/>
                <p:nvPr/>
              </p:nvSpPr>
              <p:spPr>
                <a:xfrm flipH="1">
                  <a:off x="598680" y="3664440"/>
                  <a:ext cx="51480" cy="7056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 flipV="1">
                  <a:off x="443520" y="3675960"/>
                  <a:ext cx="165240" cy="612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70520" y="3690360"/>
                  <a:ext cx="119160" cy="14112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H="1" flipV="1">
                  <a:off x="397440" y="3756240"/>
                  <a:ext cx="189000" cy="6228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24080" y="3771000"/>
                  <a:ext cx="100800" cy="13248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H="1" flipV="1">
                  <a:off x="340560" y="3834000"/>
                  <a:ext cx="189000" cy="6228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348480" y="3840480"/>
                  <a:ext cx="100800" cy="1494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3" name=""/>
            <p:cNvSpPr/>
            <p:nvPr/>
          </p:nvSpPr>
          <p:spPr>
            <a:xfrm>
              <a:off x="1144440" y="4554360"/>
              <a:ext cx="1530360" cy="336600"/>
            </a:xfrm>
            <a:custGeom>
              <a:avLst/>
              <a:gdLst/>
              <a:ahLst/>
              <a:rect l="l" t="t" r="r" b="b"/>
              <a:pathLst>
                <a:path w="981" h="347">
                  <a:moveTo>
                    <a:pt x="90" y="0"/>
                  </a:moveTo>
                  <a:cubicBezTo>
                    <a:pt x="81" y="6"/>
                    <a:pt x="70" y="10"/>
                    <a:pt x="63" y="18"/>
                  </a:cubicBezTo>
                  <a:cubicBezTo>
                    <a:pt x="28" y="62"/>
                    <a:pt x="86" y="34"/>
                    <a:pt x="27" y="54"/>
                  </a:cubicBezTo>
                  <a:cubicBezTo>
                    <a:pt x="21" y="63"/>
                    <a:pt x="11" y="71"/>
                    <a:pt x="9" y="82"/>
                  </a:cubicBezTo>
                  <a:cubicBezTo>
                    <a:pt x="0" y="149"/>
                    <a:pt x="85" y="156"/>
                    <a:pt x="127" y="163"/>
                  </a:cubicBezTo>
                  <a:cubicBezTo>
                    <a:pt x="199" y="187"/>
                    <a:pt x="134" y="168"/>
                    <a:pt x="290" y="182"/>
                  </a:cubicBezTo>
                  <a:cubicBezTo>
                    <a:pt x="602" y="210"/>
                    <a:pt x="321" y="194"/>
                    <a:pt x="681" y="209"/>
                  </a:cubicBezTo>
                  <a:cubicBezTo>
                    <a:pt x="769" y="217"/>
                    <a:pt x="871" y="208"/>
                    <a:pt x="954" y="236"/>
                  </a:cubicBezTo>
                  <a:cubicBezTo>
                    <a:pt x="969" y="281"/>
                    <a:pt x="981" y="282"/>
                    <a:pt x="963" y="318"/>
                  </a:cubicBezTo>
                  <a:cubicBezTo>
                    <a:pt x="948" y="347"/>
                    <a:pt x="954" y="345"/>
                    <a:pt x="936" y="345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150920" y="4814640"/>
              <a:ext cx="1530360" cy="336600"/>
            </a:xfrm>
            <a:custGeom>
              <a:avLst/>
              <a:gdLst/>
              <a:ahLst/>
              <a:rect l="l" t="t" r="r" b="b"/>
              <a:pathLst>
                <a:path w="981" h="347">
                  <a:moveTo>
                    <a:pt x="90" y="0"/>
                  </a:moveTo>
                  <a:cubicBezTo>
                    <a:pt x="81" y="6"/>
                    <a:pt x="70" y="10"/>
                    <a:pt x="63" y="18"/>
                  </a:cubicBezTo>
                  <a:cubicBezTo>
                    <a:pt x="28" y="62"/>
                    <a:pt x="86" y="34"/>
                    <a:pt x="27" y="54"/>
                  </a:cubicBezTo>
                  <a:cubicBezTo>
                    <a:pt x="21" y="63"/>
                    <a:pt x="11" y="71"/>
                    <a:pt x="9" y="82"/>
                  </a:cubicBezTo>
                  <a:cubicBezTo>
                    <a:pt x="0" y="149"/>
                    <a:pt x="85" y="156"/>
                    <a:pt x="127" y="163"/>
                  </a:cubicBezTo>
                  <a:cubicBezTo>
                    <a:pt x="199" y="187"/>
                    <a:pt x="134" y="168"/>
                    <a:pt x="290" y="182"/>
                  </a:cubicBezTo>
                  <a:cubicBezTo>
                    <a:pt x="602" y="210"/>
                    <a:pt x="321" y="194"/>
                    <a:pt x="681" y="209"/>
                  </a:cubicBezTo>
                  <a:cubicBezTo>
                    <a:pt x="769" y="217"/>
                    <a:pt x="871" y="208"/>
                    <a:pt x="954" y="236"/>
                  </a:cubicBezTo>
                  <a:cubicBezTo>
                    <a:pt x="969" y="281"/>
                    <a:pt x="981" y="282"/>
                    <a:pt x="963" y="318"/>
                  </a:cubicBezTo>
                  <a:cubicBezTo>
                    <a:pt x="948" y="347"/>
                    <a:pt x="954" y="345"/>
                    <a:pt x="936" y="345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226880" y="5119560"/>
              <a:ext cx="2590920" cy="152280"/>
            </a:xfrm>
            <a:custGeom>
              <a:avLst/>
              <a:gdLst/>
              <a:ahLst/>
              <a:rect l="l" t="t" r="r" b="b"/>
              <a:pathLst>
                <a:path w="891" h="127">
                  <a:moveTo>
                    <a:pt x="63" y="0"/>
                  </a:moveTo>
                  <a:cubicBezTo>
                    <a:pt x="28" y="12"/>
                    <a:pt x="12" y="18"/>
                    <a:pt x="0" y="54"/>
                  </a:cubicBezTo>
                  <a:cubicBezTo>
                    <a:pt x="24" y="127"/>
                    <a:pt x="172" y="106"/>
                    <a:pt x="218" y="109"/>
                  </a:cubicBezTo>
                  <a:cubicBezTo>
                    <a:pt x="443" y="125"/>
                    <a:pt x="666" y="127"/>
                    <a:pt x="891" y="127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598480" y="4586040"/>
              <a:ext cx="12193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819600" y="42804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970080" y="5271840"/>
              <a:ext cx="152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20910000">
              <a:off x="2224080" y="3349080"/>
              <a:ext cx="2060280" cy="100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46400" y="3290760"/>
              <a:ext cx="76320" cy="838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2902320" y="3651840"/>
              <a:ext cx="2279520" cy="732960"/>
              <a:chOff x="2902320" y="3651840"/>
              <a:chExt cx="2279520" cy="732960"/>
            </a:xfrm>
          </p:grpSpPr>
          <p:grpSp>
            <p:nvGrpSpPr>
              <p:cNvPr id="782" name=""/>
              <p:cNvGrpSpPr/>
              <p:nvPr/>
            </p:nvGrpSpPr>
            <p:grpSpPr>
              <a:xfrm>
                <a:off x="3487320" y="4080600"/>
                <a:ext cx="1033200" cy="123840"/>
                <a:chOff x="3487320" y="4080600"/>
                <a:chExt cx="1033200" cy="12384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3487320" y="4115160"/>
                  <a:ext cx="1031400" cy="396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rot="17226600">
                  <a:off x="3531600" y="4065840"/>
                  <a:ext cx="82440" cy="15264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cc0000"/>
                </a:solidFill>
                <a:ln w="381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16393800">
                  <a:off x="4401000" y="4069800"/>
                  <a:ext cx="82440" cy="15228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cc0000"/>
                </a:solidFill>
                <a:ln w="381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2902320" y="4259520"/>
                <a:ext cx="743040" cy="122040"/>
                <a:chOff x="2902320" y="4259520"/>
                <a:chExt cx="743040" cy="122040"/>
              </a:xfrm>
            </p:grpSpPr>
            <p:sp>
              <p:nvSpPr>
                <p:cNvPr id="787" name=""/>
                <p:cNvSpPr/>
                <p:nvPr/>
              </p:nvSpPr>
              <p:spPr>
                <a:xfrm flipH="1" rot="15198600">
                  <a:off x="3510360" y="4245840"/>
                  <a:ext cx="82440" cy="14940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cc0000"/>
                </a:solidFill>
                <a:ln w="381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2902320" y="4340160"/>
                  <a:ext cx="743040" cy="28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4350960" y="4262040"/>
                <a:ext cx="816120" cy="122760"/>
                <a:chOff x="4350960" y="4262040"/>
                <a:chExt cx="816120" cy="122760"/>
              </a:xfrm>
            </p:grpSpPr>
            <p:sp>
              <p:nvSpPr>
                <p:cNvPr id="790" name=""/>
                <p:cNvSpPr/>
                <p:nvPr/>
              </p:nvSpPr>
              <p:spPr>
                <a:xfrm flipH="1" flipV="1">
                  <a:off x="4361040" y="4352400"/>
                  <a:ext cx="806040" cy="28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 rot="15198600">
                  <a:off x="4394160" y="4247280"/>
                  <a:ext cx="82440" cy="15228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cc0000"/>
                </a:solidFill>
                <a:ln w="381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3501000" y="3751200"/>
                <a:ext cx="1033200" cy="122760"/>
                <a:chOff x="3501000" y="3751200"/>
                <a:chExt cx="1033200" cy="12276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3501000" y="3839040"/>
                  <a:ext cx="1031400" cy="396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 rot="15198600">
                  <a:off x="3544920" y="3736440"/>
                  <a:ext cx="82440" cy="15228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cc0000"/>
                </a:solidFill>
                <a:ln w="381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H="1" rot="16031400">
                  <a:off x="4414320" y="3738960"/>
                  <a:ext cx="82440" cy="15228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cc0000"/>
                </a:solidFill>
                <a:ln w="381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2930040" y="3661560"/>
                <a:ext cx="758160" cy="123480"/>
                <a:chOff x="2930040" y="3661560"/>
                <a:chExt cx="758160" cy="123480"/>
              </a:xfrm>
            </p:grpSpPr>
            <p:sp>
              <p:nvSpPr>
                <p:cNvPr id="797" name=""/>
                <p:cNvSpPr/>
                <p:nvPr/>
              </p:nvSpPr>
              <p:spPr>
                <a:xfrm rot="17226600">
                  <a:off x="3551040" y="3647160"/>
                  <a:ext cx="82440" cy="15192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cc0000"/>
                </a:solidFill>
                <a:ln w="381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2930040" y="3699000"/>
                  <a:ext cx="758160" cy="252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365720" y="3651840"/>
                <a:ext cx="816120" cy="124200"/>
                <a:chOff x="4365720" y="3651840"/>
                <a:chExt cx="816120" cy="124200"/>
              </a:xfrm>
            </p:grpSpPr>
            <p:sp>
              <p:nvSpPr>
                <p:cNvPr id="800" name=""/>
                <p:cNvSpPr/>
                <p:nvPr/>
              </p:nvSpPr>
              <p:spPr>
                <a:xfrm flipH="1" flipV="1">
                  <a:off x="4375800" y="3684960"/>
                  <a:ext cx="806040" cy="3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rot="17226600">
                  <a:off x="4409280" y="3637440"/>
                  <a:ext cx="82800" cy="15300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cc0000"/>
                </a:solidFill>
                <a:ln w="381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02" name=""/>
          <p:cNvSpPr/>
          <p:nvPr/>
        </p:nvSpPr>
        <p:spPr>
          <a:xfrm>
            <a:off x="1650240" y="60192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直流电磁式结构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971800" y="5410080"/>
            <a:ext cx="1523880" cy="609840"/>
          </a:xfrm>
          <a:prstGeom prst="wedgeEllipseCallout">
            <a:avLst>
              <a:gd name="adj1" fmla="val -82814"/>
              <a:gd name="adj2" fmla="val -9687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阻尼铜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62120" y="2895480"/>
            <a:ext cx="1066680" cy="457200"/>
          </a:xfrm>
          <a:prstGeom prst="wedgeRoundRectCallout">
            <a:avLst>
              <a:gd name="adj1" fmla="val 53273"/>
              <a:gd name="adj2" fmla="val 147916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衔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257800" y="3191040"/>
            <a:ext cx="3733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工作原理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衔铁未吸合时，磁路气隙大，线圈电感小，通电后激磁电流很快建立，将衔铁吸合，继电器触点立即改变状态。而当线圈断电时，铁心中的磁通将衰减，磁通的变化将在铜套中产生感应电动势，并产生感应电流，阻止磁通衰减，当磁通下降到一定程度时，衔铁才能释放，触头改变状态。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因此继电器吸合时是瞬时动作，而释放时是延时的，故称为断电延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57200" y="23623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直流电磁式 时间继电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"/>
          <p:cNvGrpSpPr/>
          <p:nvPr/>
        </p:nvGrpSpPr>
        <p:grpSpPr>
          <a:xfrm>
            <a:off x="4191120" y="766800"/>
            <a:ext cx="4647960" cy="3348000"/>
            <a:chOff x="4191120" y="766800"/>
            <a:chExt cx="4647960" cy="3348000"/>
          </a:xfrm>
        </p:grpSpPr>
        <p:pic>
          <p:nvPicPr>
            <p:cNvPr id="808" name="" descr=""/>
            <p:cNvPicPr/>
            <p:nvPr/>
          </p:nvPicPr>
          <p:blipFill>
            <a:blip r:embed="rId2"/>
            <a:stretch/>
          </p:blipFill>
          <p:spPr>
            <a:xfrm>
              <a:off x="4191120" y="766800"/>
              <a:ext cx="4647960" cy="33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时间继电器" descr=""/>
            <p:cNvPicPr/>
            <p:nvPr/>
          </p:nvPicPr>
          <p:blipFill>
            <a:blip r:embed="rId3"/>
            <a:stretch/>
          </p:blipFill>
          <p:spPr>
            <a:xfrm>
              <a:off x="4488480" y="971280"/>
              <a:ext cx="4091040" cy="293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0" name=""/>
          <p:cNvSpPr/>
          <p:nvPr/>
        </p:nvSpPr>
        <p:spPr>
          <a:xfrm>
            <a:off x="843480" y="77544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a)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通电延时继电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09720" y="4419000"/>
            <a:ext cx="21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b)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断电延时继电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594000" y="1204200"/>
            <a:ext cx="3075840" cy="3216240"/>
            <a:chOff x="594000" y="1204200"/>
            <a:chExt cx="3075840" cy="3216240"/>
          </a:xfrm>
        </p:grpSpPr>
        <p:grpSp>
          <p:nvGrpSpPr>
            <p:cNvPr id="813" name=""/>
            <p:cNvGrpSpPr/>
            <p:nvPr/>
          </p:nvGrpSpPr>
          <p:grpSpPr>
            <a:xfrm>
              <a:off x="769320" y="1204200"/>
              <a:ext cx="2583360" cy="1205640"/>
              <a:chOff x="769320" y="1204200"/>
              <a:chExt cx="2583360" cy="1205640"/>
            </a:xfrm>
          </p:grpSpPr>
          <p:sp>
            <p:nvSpPr>
              <p:cNvPr id="814" name=""/>
              <p:cNvSpPr/>
              <p:nvPr/>
            </p:nvSpPr>
            <p:spPr>
              <a:xfrm>
                <a:off x="1676520" y="1994040"/>
                <a:ext cx="52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722680" y="1994040"/>
                <a:ext cx="63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6" name=""/>
              <p:cNvGrpSpPr/>
              <p:nvPr/>
            </p:nvGrpSpPr>
            <p:grpSpPr>
              <a:xfrm>
                <a:off x="769320" y="1204200"/>
                <a:ext cx="2059200" cy="1205640"/>
                <a:chOff x="769320" y="1204200"/>
                <a:chExt cx="2059200" cy="1205640"/>
              </a:xfrm>
            </p:grpSpPr>
            <p:grpSp>
              <p:nvGrpSpPr>
                <p:cNvPr id="817" name=""/>
                <p:cNvGrpSpPr/>
                <p:nvPr/>
              </p:nvGrpSpPr>
              <p:grpSpPr>
                <a:xfrm>
                  <a:off x="2135880" y="1204200"/>
                  <a:ext cx="692640" cy="1205640"/>
                  <a:chOff x="2135880" y="1204200"/>
                  <a:chExt cx="692640" cy="1205640"/>
                </a:xfrm>
              </p:grpSpPr>
              <p:sp>
                <p:nvSpPr>
                  <p:cNvPr id="818" name=""/>
                  <p:cNvSpPr/>
                  <p:nvPr/>
                </p:nvSpPr>
                <p:spPr>
                  <a:xfrm>
                    <a:off x="2203560" y="1647720"/>
                    <a:ext cx="519120" cy="7621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2135880" y="1204200"/>
                    <a:ext cx="6926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T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0" name=""/>
                <p:cNvSpPr/>
                <p:nvPr/>
              </p:nvSpPr>
              <p:spPr>
                <a:xfrm>
                  <a:off x="769320" y="1647000"/>
                  <a:ext cx="607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线圈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21" name=""/>
            <p:cNvSpPr/>
            <p:nvPr/>
          </p:nvSpPr>
          <p:spPr>
            <a:xfrm>
              <a:off x="738000" y="29570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通电延时闭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658080" y="2409840"/>
              <a:ext cx="2999160" cy="900000"/>
              <a:chOff x="658080" y="2409840"/>
              <a:chExt cx="2999160" cy="900000"/>
            </a:xfrm>
          </p:grpSpPr>
          <p:sp>
            <p:nvSpPr>
              <p:cNvPr id="823" name=""/>
              <p:cNvSpPr/>
              <p:nvPr/>
            </p:nvSpPr>
            <p:spPr>
              <a:xfrm>
                <a:off x="658080" y="248508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常开触点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4" name=""/>
              <p:cNvGrpSpPr/>
              <p:nvPr/>
            </p:nvGrpSpPr>
            <p:grpSpPr>
              <a:xfrm>
                <a:off x="1981080" y="2409840"/>
                <a:ext cx="1676160" cy="900000"/>
                <a:chOff x="1981080" y="2409840"/>
                <a:chExt cx="1676160" cy="900000"/>
              </a:xfrm>
            </p:grpSpPr>
            <p:grpSp>
              <p:nvGrpSpPr>
                <p:cNvPr id="825" name=""/>
                <p:cNvGrpSpPr/>
                <p:nvPr/>
              </p:nvGrpSpPr>
              <p:grpSpPr>
                <a:xfrm>
                  <a:off x="1981080" y="2852640"/>
                  <a:ext cx="1676160" cy="457200"/>
                  <a:chOff x="1981080" y="2852640"/>
                  <a:chExt cx="1676160" cy="45720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 flipH="1">
                    <a:off x="3124080" y="2852640"/>
                    <a:ext cx="533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H="1">
                    <a:off x="2514240" y="2853000"/>
                    <a:ext cx="60984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H="1">
                    <a:off x="1981080" y="2852640"/>
                    <a:ext cx="533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V="1">
                    <a:off x="2895480" y="2928960"/>
                    <a:ext cx="0" cy="380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V="1">
                    <a:off x="2819160" y="2928960"/>
                    <a:ext cx="0" cy="380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 flipV="1">
                    <a:off x="2731680" y="3179520"/>
                    <a:ext cx="23976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69" h="257">
                        <a:moveTo>
                          <a:pt x="0" y="223"/>
                        </a:moveTo>
                        <a:cubicBezTo>
                          <a:pt x="27" y="182"/>
                          <a:pt x="34" y="139"/>
                          <a:pt x="69" y="103"/>
                        </a:cubicBezTo>
                        <a:cubicBezTo>
                          <a:pt x="92" y="79"/>
                          <a:pt x="92" y="89"/>
                          <a:pt x="120" y="77"/>
                        </a:cubicBezTo>
                        <a:cubicBezTo>
                          <a:pt x="203" y="43"/>
                          <a:pt x="111" y="77"/>
                          <a:pt x="180" y="43"/>
                        </a:cubicBezTo>
                        <a:cubicBezTo>
                          <a:pt x="221" y="23"/>
                          <a:pt x="280" y="14"/>
                          <a:pt x="326" y="0"/>
                        </a:cubicBezTo>
                        <a:cubicBezTo>
                          <a:pt x="424" y="12"/>
                          <a:pt x="408" y="21"/>
                          <a:pt x="489" y="60"/>
                        </a:cubicBezTo>
                        <a:cubicBezTo>
                          <a:pt x="541" y="112"/>
                          <a:pt x="514" y="94"/>
                          <a:pt x="566" y="120"/>
                        </a:cubicBezTo>
                        <a:cubicBezTo>
                          <a:pt x="585" y="148"/>
                          <a:pt x="598" y="162"/>
                          <a:pt x="626" y="180"/>
                        </a:cubicBezTo>
                        <a:cubicBezTo>
                          <a:pt x="641" y="209"/>
                          <a:pt x="669" y="231"/>
                          <a:pt x="669" y="25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2" name=""/>
                <p:cNvSpPr/>
                <p:nvPr/>
              </p:nvSpPr>
              <p:spPr>
                <a:xfrm>
                  <a:off x="2429280" y="2409840"/>
                  <a:ext cx="692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K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3" name=""/>
            <p:cNvGrpSpPr/>
            <p:nvPr/>
          </p:nvGrpSpPr>
          <p:grpSpPr>
            <a:xfrm>
              <a:off x="594000" y="3338640"/>
              <a:ext cx="3075840" cy="1081800"/>
              <a:chOff x="594000" y="3338640"/>
              <a:chExt cx="3075840" cy="1081800"/>
            </a:xfrm>
          </p:grpSpPr>
          <p:sp>
            <p:nvSpPr>
              <p:cNvPr id="834" name=""/>
              <p:cNvSpPr/>
              <p:nvPr/>
            </p:nvSpPr>
            <p:spPr>
              <a:xfrm>
                <a:off x="813960" y="3899880"/>
                <a:ext cx="146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通电延时断开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594000" y="3338640"/>
                <a:ext cx="3075840" cy="686520"/>
                <a:chOff x="594000" y="3338640"/>
                <a:chExt cx="3075840" cy="6865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94000" y="3504600"/>
                  <a:ext cx="1034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常闭触点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7" name=""/>
                <p:cNvGrpSpPr/>
                <p:nvPr/>
              </p:nvGrpSpPr>
              <p:grpSpPr>
                <a:xfrm>
                  <a:off x="1917360" y="3338640"/>
                  <a:ext cx="1752480" cy="685440"/>
                  <a:chOff x="1917360" y="3338640"/>
                  <a:chExt cx="1752480" cy="685440"/>
                </a:xfrm>
              </p:grpSpPr>
              <p:grpSp>
                <p:nvGrpSpPr>
                  <p:cNvPr id="838" name=""/>
                  <p:cNvGrpSpPr/>
                  <p:nvPr/>
                </p:nvGrpSpPr>
                <p:grpSpPr>
                  <a:xfrm>
                    <a:off x="1917360" y="3679560"/>
                    <a:ext cx="1752480" cy="344520"/>
                    <a:chOff x="1917360" y="3679560"/>
                    <a:chExt cx="1752480" cy="344520"/>
                  </a:xfrm>
                </p:grpSpPr>
                <p:sp>
                  <p:nvSpPr>
                    <p:cNvPr id="839" name=""/>
                    <p:cNvSpPr/>
                    <p:nvPr/>
                  </p:nvSpPr>
                  <p:spPr>
                    <a:xfrm flipH="1" flipV="1">
                      <a:off x="2744280" y="3939840"/>
                      <a:ext cx="23976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9" h="257">
                          <a:moveTo>
                            <a:pt x="0" y="223"/>
                          </a:moveTo>
                          <a:cubicBezTo>
                            <a:pt x="27" y="182"/>
                            <a:pt x="34" y="139"/>
                            <a:pt x="69" y="103"/>
                          </a:cubicBezTo>
                          <a:cubicBezTo>
                            <a:pt x="92" y="79"/>
                            <a:pt x="92" y="89"/>
                            <a:pt x="120" y="77"/>
                          </a:cubicBezTo>
                          <a:cubicBezTo>
                            <a:pt x="203" y="43"/>
                            <a:pt x="111" y="77"/>
                            <a:pt x="180" y="43"/>
                          </a:cubicBezTo>
                          <a:cubicBezTo>
                            <a:pt x="221" y="23"/>
                            <a:pt x="280" y="14"/>
                            <a:pt x="326" y="0"/>
                          </a:cubicBezTo>
                          <a:cubicBezTo>
                            <a:pt x="424" y="12"/>
                            <a:pt x="408" y="21"/>
                            <a:pt x="489" y="60"/>
                          </a:cubicBezTo>
                          <a:cubicBezTo>
                            <a:pt x="541" y="112"/>
                            <a:pt x="514" y="94"/>
                            <a:pt x="566" y="120"/>
                          </a:cubicBezTo>
                          <a:cubicBezTo>
                            <a:pt x="585" y="148"/>
                            <a:pt x="598" y="162"/>
                            <a:pt x="626" y="180"/>
                          </a:cubicBezTo>
                          <a:cubicBezTo>
                            <a:pt x="641" y="209"/>
                            <a:pt x="669" y="231"/>
                            <a:pt x="669" y="25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38160" bIns="38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 flipH="1">
                      <a:off x="3136320" y="3876480"/>
                      <a:ext cx="53352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 flipH="1" flipV="1">
                      <a:off x="2603160" y="3679560"/>
                      <a:ext cx="533160" cy="196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2" name=""/>
                    <p:cNvSpPr/>
                    <p:nvPr/>
                  </p:nvSpPr>
                  <p:spPr>
                    <a:xfrm flipH="1">
                      <a:off x="1917360" y="3876480"/>
                      <a:ext cx="7617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 flipV="1">
                      <a:off x="2907720" y="3778200"/>
                      <a:ext cx="0" cy="245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 flipV="1">
                      <a:off x="2831760" y="3778200"/>
                      <a:ext cx="0" cy="245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 flipV="1">
                      <a:off x="2679120" y="3679560"/>
                      <a:ext cx="0" cy="196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46" name=""/>
                  <p:cNvSpPr/>
                  <p:nvPr/>
                </p:nvSpPr>
                <p:spPr>
                  <a:xfrm>
                    <a:off x="2757240" y="3338640"/>
                    <a:ext cx="6926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T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847" name=""/>
          <p:cNvGrpSpPr/>
          <p:nvPr/>
        </p:nvGrpSpPr>
        <p:grpSpPr>
          <a:xfrm>
            <a:off x="845280" y="4799880"/>
            <a:ext cx="7419240" cy="1815840"/>
            <a:chOff x="845280" y="4799880"/>
            <a:chExt cx="7419240" cy="1815840"/>
          </a:xfrm>
        </p:grpSpPr>
        <p:grpSp>
          <p:nvGrpSpPr>
            <p:cNvPr id="848" name=""/>
            <p:cNvGrpSpPr/>
            <p:nvPr/>
          </p:nvGrpSpPr>
          <p:grpSpPr>
            <a:xfrm>
              <a:off x="845280" y="4799880"/>
              <a:ext cx="2583360" cy="1205640"/>
              <a:chOff x="845280" y="4799880"/>
              <a:chExt cx="2583360" cy="1205640"/>
            </a:xfrm>
          </p:grpSpPr>
          <p:sp>
            <p:nvSpPr>
              <p:cNvPr id="849" name=""/>
              <p:cNvSpPr/>
              <p:nvPr/>
            </p:nvSpPr>
            <p:spPr>
              <a:xfrm>
                <a:off x="1752480" y="5589720"/>
                <a:ext cx="52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798640" y="5589720"/>
                <a:ext cx="63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1" name=""/>
              <p:cNvGrpSpPr/>
              <p:nvPr/>
            </p:nvGrpSpPr>
            <p:grpSpPr>
              <a:xfrm>
                <a:off x="845280" y="4799880"/>
                <a:ext cx="2059200" cy="1205640"/>
                <a:chOff x="845280" y="4799880"/>
                <a:chExt cx="2059200" cy="1205640"/>
              </a:xfrm>
            </p:grpSpPr>
            <p:grpSp>
              <p:nvGrpSpPr>
                <p:cNvPr id="852" name=""/>
                <p:cNvGrpSpPr/>
                <p:nvPr/>
              </p:nvGrpSpPr>
              <p:grpSpPr>
                <a:xfrm>
                  <a:off x="2211840" y="4799880"/>
                  <a:ext cx="692640" cy="1205640"/>
                  <a:chOff x="2211840" y="4799880"/>
                  <a:chExt cx="692640" cy="1205640"/>
                </a:xfrm>
              </p:grpSpPr>
              <p:sp>
                <p:nvSpPr>
                  <p:cNvPr id="853" name=""/>
                  <p:cNvSpPr/>
                  <p:nvPr/>
                </p:nvSpPr>
                <p:spPr>
                  <a:xfrm>
                    <a:off x="2279520" y="5243400"/>
                    <a:ext cx="519120" cy="7621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2211840" y="4799880"/>
                    <a:ext cx="6926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T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5" name=""/>
                <p:cNvSpPr/>
                <p:nvPr/>
              </p:nvSpPr>
              <p:spPr>
                <a:xfrm>
                  <a:off x="845280" y="5242680"/>
                  <a:ext cx="607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线圈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6" name=""/>
            <p:cNvGrpSpPr/>
            <p:nvPr/>
          </p:nvGrpSpPr>
          <p:grpSpPr>
            <a:xfrm>
              <a:off x="1851120" y="4952880"/>
              <a:ext cx="6413400" cy="1662840"/>
              <a:chOff x="1851120" y="4952880"/>
              <a:chExt cx="6413400" cy="1662840"/>
            </a:xfrm>
          </p:grpSpPr>
          <p:sp>
            <p:nvSpPr>
              <p:cNvPr id="857" name=""/>
              <p:cNvSpPr/>
              <p:nvPr/>
            </p:nvSpPr>
            <p:spPr>
              <a:xfrm>
                <a:off x="1851120" y="6095160"/>
                <a:ext cx="1128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(b)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符号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8" name=""/>
              <p:cNvGrpSpPr/>
              <p:nvPr/>
            </p:nvGrpSpPr>
            <p:grpSpPr>
              <a:xfrm>
                <a:off x="3973320" y="4952880"/>
                <a:ext cx="1700280" cy="1662840"/>
                <a:chOff x="3973320" y="4952880"/>
                <a:chExt cx="1700280" cy="1662840"/>
              </a:xfrm>
            </p:grpSpPr>
            <p:grpSp>
              <p:nvGrpSpPr>
                <p:cNvPr id="859" name=""/>
                <p:cNvGrpSpPr/>
                <p:nvPr/>
              </p:nvGrpSpPr>
              <p:grpSpPr>
                <a:xfrm>
                  <a:off x="3997440" y="5257800"/>
                  <a:ext cx="1676160" cy="481320"/>
                  <a:chOff x="3997440" y="5257800"/>
                  <a:chExt cx="1676160" cy="481320"/>
                </a:xfrm>
              </p:grpSpPr>
              <p:sp>
                <p:nvSpPr>
                  <p:cNvPr id="860" name=""/>
                  <p:cNvSpPr/>
                  <p:nvPr/>
                </p:nvSpPr>
                <p:spPr>
                  <a:xfrm flipH="1">
                    <a:off x="5140440" y="5510160"/>
                    <a:ext cx="533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flipH="1">
                    <a:off x="4530600" y="5510520"/>
                    <a:ext cx="60984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>
                    <a:off x="3997440" y="5510160"/>
                    <a:ext cx="533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flipV="1">
                    <a:off x="4835520" y="5281560"/>
                    <a:ext cx="0" cy="38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 flipV="1">
                    <a:off x="4759200" y="5281560"/>
                    <a:ext cx="0" cy="38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 flipV="1">
                    <a:off x="4682880" y="5257800"/>
                    <a:ext cx="2286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9" h="462">
                        <a:moveTo>
                          <a:pt x="0" y="0"/>
                        </a:moveTo>
                        <a:cubicBezTo>
                          <a:pt x="41" y="60"/>
                          <a:pt x="53" y="136"/>
                          <a:pt x="95" y="197"/>
                        </a:cubicBezTo>
                        <a:cubicBezTo>
                          <a:pt x="112" y="251"/>
                          <a:pt x="139" y="272"/>
                          <a:pt x="180" y="308"/>
                        </a:cubicBezTo>
                        <a:cubicBezTo>
                          <a:pt x="219" y="343"/>
                          <a:pt x="246" y="370"/>
                          <a:pt x="292" y="394"/>
                        </a:cubicBezTo>
                        <a:cubicBezTo>
                          <a:pt x="308" y="402"/>
                          <a:pt x="318" y="421"/>
                          <a:pt x="335" y="428"/>
                        </a:cubicBezTo>
                        <a:cubicBezTo>
                          <a:pt x="378" y="447"/>
                          <a:pt x="435" y="451"/>
                          <a:pt x="480" y="462"/>
                        </a:cubicBezTo>
                        <a:cubicBezTo>
                          <a:pt x="482" y="462"/>
                          <a:pt x="577" y="458"/>
                          <a:pt x="600" y="445"/>
                        </a:cubicBezTo>
                        <a:cubicBezTo>
                          <a:pt x="649" y="418"/>
                          <a:pt x="701" y="375"/>
                          <a:pt x="746" y="342"/>
                        </a:cubicBezTo>
                        <a:cubicBezTo>
                          <a:pt x="787" y="313"/>
                          <a:pt x="827" y="265"/>
                          <a:pt x="875" y="248"/>
                        </a:cubicBezTo>
                        <a:cubicBezTo>
                          <a:pt x="903" y="220"/>
                          <a:pt x="925" y="198"/>
                          <a:pt x="952" y="171"/>
                        </a:cubicBezTo>
                        <a:cubicBezTo>
                          <a:pt x="972" y="151"/>
                          <a:pt x="983" y="123"/>
                          <a:pt x="1003" y="102"/>
                        </a:cubicBezTo>
                        <a:cubicBezTo>
                          <a:pt x="1008" y="87"/>
                          <a:pt x="1011" y="51"/>
                          <a:pt x="1029" y="51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6" name=""/>
                <p:cNvSpPr/>
                <p:nvPr/>
              </p:nvSpPr>
              <p:spPr>
                <a:xfrm>
                  <a:off x="3973320" y="6095160"/>
                  <a:ext cx="146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6600"/>
                      </a:solidFill>
                      <a:latin typeface="Times New Roman"/>
                    </a:rPr>
                    <a:t>断电延时断开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4285800" y="5714280"/>
                  <a:ext cx="1034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常开触点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3999600" y="4952880"/>
                  <a:ext cx="692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K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9" name=""/>
              <p:cNvGrpSpPr/>
              <p:nvPr/>
            </p:nvGrpSpPr>
            <p:grpSpPr>
              <a:xfrm>
                <a:off x="6512400" y="5028840"/>
                <a:ext cx="1752120" cy="1586520"/>
                <a:chOff x="6512400" y="5028840"/>
                <a:chExt cx="1752120" cy="1586520"/>
              </a:xfrm>
            </p:grpSpPr>
            <p:grpSp>
              <p:nvGrpSpPr>
                <p:cNvPr id="870" name=""/>
                <p:cNvGrpSpPr/>
                <p:nvPr/>
              </p:nvGrpSpPr>
              <p:grpSpPr>
                <a:xfrm>
                  <a:off x="6512400" y="5181120"/>
                  <a:ext cx="1752120" cy="480960"/>
                  <a:chOff x="6512400" y="5181120"/>
                  <a:chExt cx="1752120" cy="480960"/>
                </a:xfrm>
              </p:grpSpPr>
              <p:sp>
                <p:nvSpPr>
                  <p:cNvPr id="871" name=""/>
                  <p:cNvSpPr/>
                  <p:nvPr/>
                </p:nvSpPr>
                <p:spPr>
                  <a:xfrm flipH="1" flipV="1">
                    <a:off x="7426800" y="5181120"/>
                    <a:ext cx="2282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9" h="462">
                        <a:moveTo>
                          <a:pt x="0" y="0"/>
                        </a:moveTo>
                        <a:cubicBezTo>
                          <a:pt x="41" y="60"/>
                          <a:pt x="53" y="136"/>
                          <a:pt x="95" y="197"/>
                        </a:cubicBezTo>
                        <a:cubicBezTo>
                          <a:pt x="112" y="251"/>
                          <a:pt x="139" y="272"/>
                          <a:pt x="180" y="308"/>
                        </a:cubicBezTo>
                        <a:cubicBezTo>
                          <a:pt x="219" y="343"/>
                          <a:pt x="246" y="370"/>
                          <a:pt x="292" y="394"/>
                        </a:cubicBezTo>
                        <a:cubicBezTo>
                          <a:pt x="308" y="402"/>
                          <a:pt x="318" y="421"/>
                          <a:pt x="335" y="428"/>
                        </a:cubicBezTo>
                        <a:cubicBezTo>
                          <a:pt x="378" y="447"/>
                          <a:pt x="435" y="451"/>
                          <a:pt x="480" y="462"/>
                        </a:cubicBezTo>
                        <a:cubicBezTo>
                          <a:pt x="482" y="462"/>
                          <a:pt x="577" y="458"/>
                          <a:pt x="600" y="445"/>
                        </a:cubicBezTo>
                        <a:cubicBezTo>
                          <a:pt x="649" y="418"/>
                          <a:pt x="701" y="375"/>
                          <a:pt x="746" y="342"/>
                        </a:cubicBezTo>
                        <a:cubicBezTo>
                          <a:pt x="787" y="313"/>
                          <a:pt x="827" y="265"/>
                          <a:pt x="875" y="248"/>
                        </a:cubicBezTo>
                        <a:cubicBezTo>
                          <a:pt x="903" y="220"/>
                          <a:pt x="925" y="198"/>
                          <a:pt x="952" y="171"/>
                        </a:cubicBezTo>
                        <a:cubicBezTo>
                          <a:pt x="972" y="151"/>
                          <a:pt x="983" y="123"/>
                          <a:pt x="1003" y="102"/>
                        </a:cubicBezTo>
                        <a:cubicBezTo>
                          <a:pt x="1008" y="87"/>
                          <a:pt x="1011" y="51"/>
                          <a:pt x="1029" y="51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 flipH="1">
                    <a:off x="7731360" y="5662080"/>
                    <a:ext cx="533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flipH="1" flipV="1">
                    <a:off x="7198200" y="5357520"/>
                    <a:ext cx="533160" cy="30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flipH="1">
                    <a:off x="6512400" y="5662080"/>
                    <a:ext cx="7617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flipV="1">
                    <a:off x="7579080" y="5204880"/>
                    <a:ext cx="0" cy="38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flipV="1">
                    <a:off x="7502760" y="5204880"/>
                    <a:ext cx="0" cy="304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flipV="1">
                    <a:off x="7274160" y="535752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8" name=""/>
                <p:cNvSpPr/>
                <p:nvPr/>
              </p:nvSpPr>
              <p:spPr>
                <a:xfrm>
                  <a:off x="6640200" y="6094800"/>
                  <a:ext cx="146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6600"/>
                      </a:solidFill>
                      <a:latin typeface="Times New Roman"/>
                    </a:rPr>
                    <a:t>断电延时闭合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801120" y="5652000"/>
                  <a:ext cx="1034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常闭触点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590160" y="5028840"/>
                  <a:ext cx="692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K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81" name=""/>
          <p:cNvSpPr/>
          <p:nvPr/>
        </p:nvSpPr>
        <p:spPr>
          <a:xfrm>
            <a:off x="5356080" y="4433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延时继电器的外形与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013440" y="4052160"/>
            <a:ext cx="11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09640" y="334080"/>
            <a:ext cx="290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(2)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空气式延时继电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1828800" y="4754160"/>
            <a:ext cx="1562040" cy="573120"/>
            <a:chOff x="1828800" y="4754160"/>
            <a:chExt cx="1562040" cy="573120"/>
          </a:xfrm>
        </p:grpSpPr>
        <p:sp>
          <p:nvSpPr>
            <p:cNvPr id="885" name=""/>
            <p:cNvSpPr/>
            <p:nvPr/>
          </p:nvSpPr>
          <p:spPr>
            <a:xfrm flipV="1">
              <a:off x="3241800" y="4791960"/>
              <a:ext cx="149040" cy="3049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1832040" y="4795200"/>
              <a:ext cx="149040" cy="3049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2475000" y="4753800"/>
              <a:ext cx="280800" cy="3812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1828800" y="5088960"/>
              <a:ext cx="1562040" cy="2379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1787400" y="4029120"/>
            <a:ext cx="1600200" cy="573120"/>
            <a:chOff x="1787400" y="4029120"/>
            <a:chExt cx="1600200" cy="573120"/>
          </a:xfrm>
        </p:grpSpPr>
        <p:sp>
          <p:nvSpPr>
            <p:cNvPr id="890" name=""/>
            <p:cNvSpPr/>
            <p:nvPr/>
          </p:nvSpPr>
          <p:spPr>
            <a:xfrm>
              <a:off x="3235320" y="4259520"/>
              <a:ext cx="152280" cy="3045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90640" y="4256280"/>
              <a:ext cx="152640" cy="3045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454120" y="4221360"/>
              <a:ext cx="27324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787400" y="4029120"/>
              <a:ext cx="1600200" cy="2383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2327400" y="2698560"/>
            <a:ext cx="3288960" cy="1148400"/>
            <a:chOff x="2327400" y="2698560"/>
            <a:chExt cx="3288960" cy="1148400"/>
          </a:xfrm>
        </p:grpSpPr>
        <p:grpSp>
          <p:nvGrpSpPr>
            <p:cNvPr id="895" name=""/>
            <p:cNvGrpSpPr/>
            <p:nvPr/>
          </p:nvGrpSpPr>
          <p:grpSpPr>
            <a:xfrm>
              <a:off x="2327400" y="2698560"/>
              <a:ext cx="3288960" cy="1148400"/>
              <a:chOff x="2327400" y="2698560"/>
              <a:chExt cx="3288960" cy="1148400"/>
            </a:xfrm>
          </p:grpSpPr>
          <p:sp>
            <p:nvSpPr>
              <p:cNvPr id="896" name=""/>
              <p:cNvSpPr/>
              <p:nvPr/>
            </p:nvSpPr>
            <p:spPr>
              <a:xfrm flipV="1" rot="20504400">
                <a:off x="2252520" y="3235320"/>
                <a:ext cx="3438720" cy="74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611520" y="3368520"/>
                <a:ext cx="244440" cy="2667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3686040" y="3387600"/>
              <a:ext cx="95400" cy="95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2513520" y="603324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通电延时的空气式时间继电器结构示意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5457960" y="487440"/>
            <a:ext cx="2841480" cy="2425680"/>
            <a:chOff x="5457960" y="487440"/>
            <a:chExt cx="2841480" cy="2425680"/>
          </a:xfrm>
        </p:grpSpPr>
        <p:grpSp>
          <p:nvGrpSpPr>
            <p:cNvPr id="901" name=""/>
            <p:cNvGrpSpPr/>
            <p:nvPr/>
          </p:nvGrpSpPr>
          <p:grpSpPr>
            <a:xfrm>
              <a:off x="5533920" y="487440"/>
              <a:ext cx="2721240" cy="825480"/>
              <a:chOff x="5533920" y="487440"/>
              <a:chExt cx="2721240" cy="825480"/>
            </a:xfrm>
          </p:grpSpPr>
          <p:grpSp>
            <p:nvGrpSpPr>
              <p:cNvPr id="902" name=""/>
              <p:cNvGrpSpPr/>
              <p:nvPr/>
            </p:nvGrpSpPr>
            <p:grpSpPr>
              <a:xfrm>
                <a:off x="5533920" y="871560"/>
                <a:ext cx="1371240" cy="361080"/>
                <a:chOff x="5533920" y="871560"/>
                <a:chExt cx="1371240" cy="36108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6411600" y="871560"/>
                  <a:ext cx="49356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5533920" y="871560"/>
                  <a:ext cx="49356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H="1">
                  <a:off x="5862600" y="871560"/>
                  <a:ext cx="548280" cy="15480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6" name=""/>
                <p:cNvGrpSpPr/>
                <p:nvPr/>
              </p:nvGrpSpPr>
              <p:grpSpPr>
                <a:xfrm>
                  <a:off x="6027480" y="923040"/>
                  <a:ext cx="329040" cy="309600"/>
                  <a:chOff x="6027480" y="923040"/>
                  <a:chExt cx="329040" cy="30960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6136920" y="923040"/>
                    <a:ext cx="0" cy="30960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6246720" y="923040"/>
                    <a:ext cx="0" cy="30960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6027480" y="1077840"/>
                    <a:ext cx="32904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44">
                        <a:moveTo>
                          <a:pt x="0" y="0"/>
                        </a:moveTo>
                        <a:cubicBezTo>
                          <a:pt x="48" y="72"/>
                          <a:pt x="96" y="144"/>
                          <a:pt x="144" y="144"/>
                        </a:cubicBezTo>
                        <a:cubicBezTo>
                          <a:pt x="192" y="144"/>
                          <a:pt x="240" y="72"/>
                          <a:pt x="288" y="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10" name=""/>
              <p:cNvSpPr/>
              <p:nvPr/>
            </p:nvSpPr>
            <p:spPr>
              <a:xfrm>
                <a:off x="7111440" y="487440"/>
                <a:ext cx="1143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常开触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延时闭合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5457960" y="2087640"/>
              <a:ext cx="2841480" cy="825480"/>
              <a:chOff x="5457960" y="2087640"/>
              <a:chExt cx="2841480" cy="82548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5457960" y="2190600"/>
                <a:ext cx="1504440" cy="457200"/>
                <a:chOff x="5457960" y="2190600"/>
                <a:chExt cx="1504440" cy="45720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6421320" y="2444760"/>
                  <a:ext cx="54108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5457960" y="2444760"/>
                  <a:ext cx="54108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H="1" flipV="1">
                  <a:off x="5878080" y="2241000"/>
                  <a:ext cx="542520" cy="20340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V="1">
                  <a:off x="5938920" y="2190600"/>
                  <a:ext cx="0" cy="25416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6119640" y="234288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6240240" y="234288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5999040" y="2495520"/>
                  <a:ext cx="361800" cy="152280"/>
                </a:xfrm>
                <a:custGeom>
                  <a:avLst/>
                  <a:gdLst/>
                  <a:ahLst/>
                  <a:rect l="l" t="t" r="r" b="b"/>
                  <a:pathLst>
                    <a:path w="288" h="144">
                      <a:moveTo>
                        <a:pt x="0" y="0"/>
                      </a:moveTo>
                      <a:cubicBezTo>
                        <a:pt x="48" y="72"/>
                        <a:pt x="96" y="144"/>
                        <a:pt x="144" y="144"/>
                      </a:cubicBezTo>
                      <a:cubicBezTo>
                        <a:pt x="192" y="144"/>
                        <a:pt x="240" y="72"/>
                        <a:pt x="288" y="0"/>
                      </a:cubicBezTo>
                    </a:path>
                  </a:pathLst>
                </a:custGeom>
                <a:noFill/>
                <a:ln w="381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0" name=""/>
              <p:cNvSpPr/>
              <p:nvPr/>
            </p:nvSpPr>
            <p:spPr>
              <a:xfrm>
                <a:off x="7155720" y="2087640"/>
                <a:ext cx="1143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常闭触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延时打开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1" name=""/>
          <p:cNvGrpSpPr/>
          <p:nvPr/>
        </p:nvGrpSpPr>
        <p:grpSpPr>
          <a:xfrm>
            <a:off x="1687680" y="4029120"/>
            <a:ext cx="1733040" cy="1449000"/>
            <a:chOff x="1687680" y="4029120"/>
            <a:chExt cx="1733040" cy="1449000"/>
          </a:xfrm>
        </p:grpSpPr>
        <p:grpSp>
          <p:nvGrpSpPr>
            <p:cNvPr id="922" name=""/>
            <p:cNvGrpSpPr/>
            <p:nvPr/>
          </p:nvGrpSpPr>
          <p:grpSpPr>
            <a:xfrm>
              <a:off x="1687680" y="4029120"/>
              <a:ext cx="1733040" cy="1449000"/>
              <a:chOff x="1687680" y="4029120"/>
              <a:chExt cx="1733040" cy="1449000"/>
            </a:xfrm>
          </p:grpSpPr>
          <p:sp>
            <p:nvSpPr>
              <p:cNvPr id="923" name=""/>
              <p:cNvSpPr/>
              <p:nvPr/>
            </p:nvSpPr>
            <p:spPr>
              <a:xfrm>
                <a:off x="1800000" y="4029120"/>
                <a:ext cx="0" cy="552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800000" y="456264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952640" y="4238640"/>
                <a:ext cx="0" cy="34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466720" y="4238640"/>
                <a:ext cx="0" cy="34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971720" y="4257720"/>
                <a:ext cx="494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752560" y="4276800"/>
                <a:ext cx="495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381120" y="4029120"/>
                <a:ext cx="0" cy="552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>
                <a:off x="3228840" y="4562640"/>
                <a:ext cx="15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228840" y="4257720"/>
                <a:ext cx="0" cy="32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2" name=""/>
              <p:cNvGrpSpPr/>
              <p:nvPr/>
            </p:nvGrpSpPr>
            <p:grpSpPr>
              <a:xfrm>
                <a:off x="1687680" y="4753080"/>
                <a:ext cx="1733040" cy="725040"/>
                <a:chOff x="1687680" y="4753080"/>
                <a:chExt cx="1733040" cy="725040"/>
              </a:xfrm>
            </p:grpSpPr>
            <p:sp>
              <p:nvSpPr>
                <p:cNvPr id="933" name=""/>
                <p:cNvSpPr/>
                <p:nvPr/>
              </p:nvSpPr>
              <p:spPr>
                <a:xfrm flipV="1">
                  <a:off x="1801800" y="4772160"/>
                  <a:ext cx="0" cy="55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1801800" y="4791240"/>
                  <a:ext cx="151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V="1">
                  <a:off x="1954080" y="4772160"/>
                  <a:ext cx="0" cy="34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V="1">
                  <a:off x="2468520" y="4772160"/>
                  <a:ext cx="0" cy="34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V="1">
                  <a:off x="2735280" y="4753080"/>
                  <a:ext cx="0" cy="334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1973160" y="5095800"/>
                  <a:ext cx="495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2468520" y="4778280"/>
                  <a:ext cx="285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2754000" y="5077080"/>
                  <a:ext cx="495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V="1">
                  <a:off x="3382920" y="4791240"/>
                  <a:ext cx="0" cy="55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>
                  <a:off x="3229920" y="4810320"/>
                  <a:ext cx="152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V="1">
                  <a:off x="3230280" y="479124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1782720" y="5324400"/>
                  <a:ext cx="1599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5" name=""/>
                <p:cNvGrpSpPr/>
                <p:nvPr/>
              </p:nvGrpSpPr>
              <p:grpSpPr>
                <a:xfrm>
                  <a:off x="1687680" y="5305680"/>
                  <a:ext cx="1733040" cy="172440"/>
                  <a:chOff x="1687680" y="5305680"/>
                  <a:chExt cx="1733040" cy="172440"/>
                </a:xfrm>
              </p:grpSpPr>
              <p:sp>
                <p:nvSpPr>
                  <p:cNvPr id="946" name=""/>
                  <p:cNvSpPr/>
                  <p:nvPr/>
                </p:nvSpPr>
                <p:spPr>
                  <a:xfrm>
                    <a:off x="1801800" y="5322600"/>
                    <a:ext cx="1618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 flipH="1">
                    <a:off x="1687680" y="5322600"/>
                    <a:ext cx="151920" cy="138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 flipH="1">
                    <a:off x="1858320" y="5305680"/>
                    <a:ext cx="152280" cy="137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flipH="1">
                    <a:off x="2011320" y="5305680"/>
                    <a:ext cx="151920" cy="137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 flipH="1">
                    <a:off x="2144520" y="5339880"/>
                    <a:ext cx="151920" cy="138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 flipH="1">
                    <a:off x="2315520" y="5322600"/>
                    <a:ext cx="152280" cy="138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 flipH="1">
                    <a:off x="2468520" y="5322600"/>
                    <a:ext cx="151920" cy="138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 flipH="1">
                    <a:off x="2620800" y="5322600"/>
                    <a:ext cx="151920" cy="138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 flipH="1">
                    <a:off x="2791800" y="5305680"/>
                    <a:ext cx="152280" cy="137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 flipH="1">
                    <a:off x="2944800" y="5305680"/>
                    <a:ext cx="151920" cy="137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 flipH="1">
                    <a:off x="3078000" y="5322600"/>
                    <a:ext cx="151920" cy="138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 flipH="1">
                    <a:off x="3249000" y="5305680"/>
                    <a:ext cx="152280" cy="137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58" name=""/>
            <p:cNvGrpSpPr/>
            <p:nvPr/>
          </p:nvGrpSpPr>
          <p:grpSpPr>
            <a:xfrm>
              <a:off x="2467080" y="4256280"/>
              <a:ext cx="285480" cy="342720"/>
              <a:chOff x="2467080" y="4256280"/>
              <a:chExt cx="285480" cy="342720"/>
            </a:xfrm>
          </p:grpSpPr>
          <p:sp>
            <p:nvSpPr>
              <p:cNvPr id="959" name=""/>
              <p:cNvSpPr/>
              <p:nvPr/>
            </p:nvSpPr>
            <p:spPr>
              <a:xfrm>
                <a:off x="2733840" y="4256280"/>
                <a:ext cx="0" cy="34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467080" y="4579920"/>
                <a:ext cx="28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2138400" y="4400640"/>
              <a:ext cx="228600" cy="611280"/>
            </a:xfrm>
            <a:prstGeom prst="line">
              <a:avLst/>
            </a:prstGeom>
            <a:ln w="38160">
              <a:solidFill>
                <a:srgbClr val="f0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2119320" y="4400640"/>
              <a:ext cx="247680" cy="592200"/>
            </a:xfrm>
            <a:prstGeom prst="line">
              <a:avLst/>
            </a:prstGeom>
            <a:ln w="38160">
              <a:solidFill>
                <a:srgbClr val="f0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19320" y="4400640"/>
              <a:ext cx="24768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857680" y="4389480"/>
              <a:ext cx="228600" cy="611280"/>
            </a:xfrm>
            <a:prstGeom prst="line">
              <a:avLst/>
            </a:prstGeom>
            <a:ln w="38160">
              <a:solidFill>
                <a:srgbClr val="f0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2838600" y="4389480"/>
              <a:ext cx="247680" cy="592200"/>
            </a:xfrm>
            <a:prstGeom prst="line">
              <a:avLst/>
            </a:prstGeom>
            <a:ln w="38160">
              <a:solidFill>
                <a:srgbClr val="f0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838600" y="4389480"/>
              <a:ext cx="24768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1305000" y="3970440"/>
            <a:ext cx="3447720" cy="553680"/>
            <a:chOff x="1305000" y="3970440"/>
            <a:chExt cx="3447720" cy="553680"/>
          </a:xfrm>
        </p:grpSpPr>
        <p:sp>
          <p:nvSpPr>
            <p:cNvPr id="968" name=""/>
            <p:cNvSpPr/>
            <p:nvPr/>
          </p:nvSpPr>
          <p:spPr>
            <a:xfrm>
              <a:off x="1323720" y="3970440"/>
              <a:ext cx="3429000" cy="74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3628800" y="4027320"/>
              <a:ext cx="286560" cy="496800"/>
              <a:chOff x="3628800" y="4027320"/>
              <a:chExt cx="286560" cy="496800"/>
            </a:xfrm>
          </p:grpSpPr>
          <p:sp>
            <p:nvSpPr>
              <p:cNvPr id="970" name=""/>
              <p:cNvSpPr/>
              <p:nvPr/>
            </p:nvSpPr>
            <p:spPr>
              <a:xfrm>
                <a:off x="3827160" y="4027320"/>
                <a:ext cx="0" cy="8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3666240" y="4110120"/>
                <a:ext cx="169560" cy="4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696840" y="4154400"/>
                <a:ext cx="178920" cy="4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3676320" y="4189320"/>
                <a:ext cx="190080" cy="6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706200" y="4246560"/>
                <a:ext cx="160200" cy="4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>
                <a:off x="3676320" y="4286160"/>
                <a:ext cx="190080" cy="6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687480" y="4346640"/>
                <a:ext cx="167760" cy="6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628800" y="4427640"/>
                <a:ext cx="28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8" name=""/>
              <p:cNvGrpSpPr/>
              <p:nvPr/>
            </p:nvGrpSpPr>
            <p:grpSpPr>
              <a:xfrm>
                <a:off x="3647520" y="4429080"/>
                <a:ext cx="267840" cy="95040"/>
                <a:chOff x="3647520" y="4429080"/>
                <a:chExt cx="267840" cy="9504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3877560" y="4429080"/>
                  <a:ext cx="3780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3801240" y="4429080"/>
                  <a:ext cx="3780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3725280" y="4429080"/>
                  <a:ext cx="3744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3647520" y="4429080"/>
                  <a:ext cx="3780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3" name=""/>
            <p:cNvGrpSpPr/>
            <p:nvPr/>
          </p:nvGrpSpPr>
          <p:grpSpPr>
            <a:xfrm>
              <a:off x="1305000" y="4022640"/>
              <a:ext cx="292680" cy="461880"/>
              <a:chOff x="1305000" y="4022640"/>
              <a:chExt cx="292680" cy="461880"/>
            </a:xfrm>
          </p:grpSpPr>
          <p:sp>
            <p:nvSpPr>
              <p:cNvPr id="984" name=""/>
              <p:cNvSpPr/>
              <p:nvPr/>
            </p:nvSpPr>
            <p:spPr>
              <a:xfrm>
                <a:off x="1305000" y="4408560"/>
                <a:ext cx="28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1323360" y="4091040"/>
                <a:ext cx="169560" cy="4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353960" y="4135320"/>
                <a:ext cx="178920" cy="4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1333080" y="4170240"/>
                <a:ext cx="190080" cy="6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363320" y="4227480"/>
                <a:ext cx="159840" cy="4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1333080" y="4267080"/>
                <a:ext cx="190080" cy="6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344240" y="4327560"/>
                <a:ext cx="168120" cy="6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1" name=""/>
              <p:cNvGrpSpPr/>
              <p:nvPr/>
            </p:nvGrpSpPr>
            <p:grpSpPr>
              <a:xfrm>
                <a:off x="1329840" y="4389480"/>
                <a:ext cx="267840" cy="95040"/>
                <a:chOff x="1329840" y="4389480"/>
                <a:chExt cx="267840" cy="9504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1559880" y="4389480"/>
                  <a:ext cx="3780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1483560" y="4389480"/>
                  <a:ext cx="3780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1407600" y="4389480"/>
                  <a:ext cx="3744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1329840" y="4389480"/>
                  <a:ext cx="3780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6" name=""/>
              <p:cNvSpPr/>
              <p:nvPr/>
            </p:nvSpPr>
            <p:spPr>
              <a:xfrm>
                <a:off x="1495080" y="4022640"/>
                <a:ext cx="0" cy="8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7" name=""/>
          <p:cNvGrpSpPr/>
          <p:nvPr/>
        </p:nvGrpSpPr>
        <p:grpSpPr>
          <a:xfrm>
            <a:off x="4695840" y="1465200"/>
            <a:ext cx="2550960" cy="873360"/>
            <a:chOff x="4695840" y="1465200"/>
            <a:chExt cx="2550960" cy="873360"/>
          </a:xfrm>
        </p:grpSpPr>
        <p:sp>
          <p:nvSpPr>
            <p:cNvPr id="998" name=""/>
            <p:cNvSpPr/>
            <p:nvPr/>
          </p:nvSpPr>
          <p:spPr>
            <a:xfrm>
              <a:off x="5248440" y="1465200"/>
              <a:ext cx="121896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749840" y="182412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14840" y="1824120"/>
              <a:ext cx="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695840" y="1766880"/>
              <a:ext cx="745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477040" y="2262240"/>
              <a:ext cx="745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5972040" y="1614240"/>
              <a:ext cx="1274760" cy="342720"/>
              <a:chOff x="5972040" y="1614240"/>
              <a:chExt cx="1274760" cy="342720"/>
            </a:xfrm>
          </p:grpSpPr>
          <p:sp>
            <p:nvSpPr>
              <p:cNvPr id="1004" name=""/>
              <p:cNvSpPr/>
              <p:nvPr/>
            </p:nvSpPr>
            <p:spPr>
              <a:xfrm>
                <a:off x="5972040" y="1652760"/>
                <a:ext cx="121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972040" y="1919160"/>
                <a:ext cx="1200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7172280" y="1880640"/>
                <a:ext cx="745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7172280" y="1613880"/>
                <a:ext cx="745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984640" y="1646280"/>
                <a:ext cx="146160" cy="77760"/>
              </a:xfrm>
              <a:custGeom>
                <a:avLst/>
                <a:gdLst/>
                <a:ahLst/>
                <a:rect l="l" t="t" r="r" b="b"/>
                <a:pathLst>
                  <a:path w="92" h="49">
                    <a:moveTo>
                      <a:pt x="0" y="0"/>
                    </a:moveTo>
                    <a:cubicBezTo>
                      <a:pt x="1" y="6"/>
                      <a:pt x="9" y="39"/>
                      <a:pt x="12" y="40"/>
                    </a:cubicBezTo>
                    <a:cubicBezTo>
                      <a:pt x="20" y="43"/>
                      <a:pt x="36" y="48"/>
                      <a:pt x="36" y="48"/>
                    </a:cubicBezTo>
                    <a:cubicBezTo>
                      <a:pt x="48" y="47"/>
                      <a:pt x="73" y="49"/>
                      <a:pt x="84" y="36"/>
                    </a:cubicBezTo>
                    <a:cubicBezTo>
                      <a:pt x="90" y="28"/>
                      <a:pt x="92" y="8"/>
                      <a:pt x="92" y="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5978520" y="1851120"/>
                <a:ext cx="145800" cy="77760"/>
              </a:xfrm>
              <a:custGeom>
                <a:avLst/>
                <a:gdLst/>
                <a:ahLst/>
                <a:rect l="l" t="t" r="r" b="b"/>
                <a:pathLst>
                  <a:path w="92" h="49">
                    <a:moveTo>
                      <a:pt x="0" y="0"/>
                    </a:moveTo>
                    <a:cubicBezTo>
                      <a:pt x="1" y="6"/>
                      <a:pt x="9" y="39"/>
                      <a:pt x="12" y="40"/>
                    </a:cubicBezTo>
                    <a:cubicBezTo>
                      <a:pt x="20" y="43"/>
                      <a:pt x="36" y="48"/>
                      <a:pt x="36" y="48"/>
                    </a:cubicBezTo>
                    <a:cubicBezTo>
                      <a:pt x="48" y="47"/>
                      <a:pt x="73" y="49"/>
                      <a:pt x="84" y="36"/>
                    </a:cubicBezTo>
                    <a:cubicBezTo>
                      <a:pt x="90" y="28"/>
                      <a:pt x="92" y="8"/>
                      <a:pt x="92" y="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0" name=""/>
          <p:cNvSpPr/>
          <p:nvPr/>
        </p:nvSpPr>
        <p:spPr>
          <a:xfrm>
            <a:off x="3191040" y="1862280"/>
            <a:ext cx="419040" cy="1066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704960" y="2706840"/>
            <a:ext cx="1906560" cy="3841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219400" y="1862280"/>
            <a:ext cx="857160" cy="304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704960" y="1862280"/>
            <a:ext cx="361800" cy="8460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2181240" y="1881360"/>
            <a:ext cx="247680" cy="24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2847600" y="1919160"/>
            <a:ext cx="22860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2695680" y="1843200"/>
            <a:ext cx="30456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2523600" y="1881360"/>
            <a:ext cx="266760" cy="26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2333160" y="1881360"/>
            <a:ext cx="266760" cy="26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3152880" y="1865160"/>
            <a:ext cx="24768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228840" y="2204640"/>
            <a:ext cx="400320" cy="39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228840" y="1824120"/>
            <a:ext cx="400320" cy="36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247920" y="1995120"/>
            <a:ext cx="400320" cy="39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3324240" y="241452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1724040" y="1843200"/>
            <a:ext cx="209520" cy="20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1685880" y="1861920"/>
            <a:ext cx="399960" cy="39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1724040" y="2033280"/>
            <a:ext cx="361800" cy="36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685880" y="2223720"/>
            <a:ext cx="399960" cy="39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1800360" y="2433600"/>
            <a:ext cx="266400" cy="26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876320" y="2695680"/>
            <a:ext cx="16992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171960" y="1843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3195720" y="1843200"/>
            <a:ext cx="0" cy="304200"/>
            <a:chOff x="3195720" y="1843200"/>
            <a:chExt cx="0" cy="304200"/>
          </a:xfrm>
        </p:grpSpPr>
        <p:sp>
          <p:nvSpPr>
            <p:cNvPr id="1032" name=""/>
            <p:cNvSpPr/>
            <p:nvPr/>
          </p:nvSpPr>
          <p:spPr>
            <a:xfrm>
              <a:off x="3195720" y="184320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195720" y="207144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2048040" y="1690560"/>
            <a:ext cx="19044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028960" y="1690560"/>
            <a:ext cx="2286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2028600" y="1506600"/>
            <a:ext cx="169560" cy="4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058840" y="1550880"/>
            <a:ext cx="179640" cy="4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2037960" y="1585800"/>
            <a:ext cx="190440" cy="61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68560" y="1643040"/>
            <a:ext cx="160200" cy="4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2037960" y="1682640"/>
            <a:ext cx="190440" cy="60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065320" y="172872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028960" y="180324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1990800" y="1500120"/>
            <a:ext cx="28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219400" y="1386000"/>
            <a:ext cx="38160" cy="9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143080" y="1386000"/>
            <a:ext cx="38160" cy="9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066760" y="1386000"/>
            <a:ext cx="38160" cy="9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989000" y="1386000"/>
            <a:ext cx="38160" cy="9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152880" y="1930320"/>
            <a:ext cx="91800" cy="20880"/>
          </a:xfrm>
          <a:custGeom>
            <a:avLst/>
            <a:gdLst/>
            <a:ahLst/>
            <a:rect l="l" t="t" r="r" b="b"/>
            <a:pathLst>
              <a:path w="58" h="13">
                <a:moveTo>
                  <a:pt x="0" y="13"/>
                </a:moveTo>
                <a:cubicBezTo>
                  <a:pt x="58" y="5"/>
                  <a:pt x="7" y="0"/>
                  <a:pt x="0" y="13"/>
                </a:cubicBezTo>
                <a:close/>
              </a:path>
            </a:pathLst>
          </a:custGeom>
          <a:solidFill>
            <a:srgbClr val="ff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066760" y="2166840"/>
            <a:ext cx="1181160" cy="70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84360" y="3706920"/>
            <a:ext cx="304920" cy="247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541600" y="3554280"/>
            <a:ext cx="209520" cy="247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503440" y="2487600"/>
            <a:ext cx="26676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333520" y="3478320"/>
            <a:ext cx="533520" cy="74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409840" y="3319560"/>
            <a:ext cx="398520" cy="13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292480" y="2379600"/>
            <a:ext cx="690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154240" y="2490840"/>
            <a:ext cx="960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2943360" y="2376360"/>
            <a:ext cx="285480" cy="209520"/>
            <a:chOff x="2943360" y="2376360"/>
            <a:chExt cx="285480" cy="209520"/>
          </a:xfrm>
        </p:grpSpPr>
        <p:grpSp>
          <p:nvGrpSpPr>
            <p:cNvPr id="1058" name=""/>
            <p:cNvGrpSpPr/>
            <p:nvPr/>
          </p:nvGrpSpPr>
          <p:grpSpPr>
            <a:xfrm>
              <a:off x="2943360" y="2376360"/>
              <a:ext cx="218880" cy="142920"/>
              <a:chOff x="2943360" y="2376360"/>
              <a:chExt cx="218880" cy="142920"/>
            </a:xfrm>
          </p:grpSpPr>
          <p:sp>
            <p:nvSpPr>
              <p:cNvPr id="1059" name=""/>
              <p:cNvSpPr/>
              <p:nvPr/>
            </p:nvSpPr>
            <p:spPr>
              <a:xfrm>
                <a:off x="2943360" y="2376360"/>
                <a:ext cx="162000" cy="85680"/>
              </a:xfrm>
              <a:custGeom>
                <a:avLst/>
                <a:gdLst/>
                <a:ahLst/>
                <a:rect l="l" t="t" r="r" b="b"/>
                <a:pathLst>
                  <a:path w="102" h="54">
                    <a:moveTo>
                      <a:pt x="0" y="0"/>
                    </a:moveTo>
                    <a:cubicBezTo>
                      <a:pt x="40" y="13"/>
                      <a:pt x="71" y="23"/>
                      <a:pt x="102" y="5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095640" y="247140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0"/>
                    </a:moveTo>
                    <a:cubicBezTo>
                      <a:pt x="22" y="7"/>
                      <a:pt x="23" y="20"/>
                      <a:pt x="42" y="3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3114720" y="2471400"/>
              <a:ext cx="85680" cy="9540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0" y="0"/>
                  </a:moveTo>
                  <a:cubicBezTo>
                    <a:pt x="13" y="13"/>
                    <a:pt x="46" y="45"/>
                    <a:pt x="54" y="6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00400" y="256680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0"/>
                  </a:moveTo>
                  <a:cubicBezTo>
                    <a:pt x="6" y="4"/>
                    <a:pt x="18" y="12"/>
                    <a:pt x="18" y="12"/>
                  </a:cubicBezTo>
                  <a:cubicBezTo>
                    <a:pt x="18" y="12"/>
                    <a:pt x="6" y="4"/>
                    <a:pt x="0" y="0"/>
                  </a:cubicBezTo>
                  <a:close/>
                </a:path>
              </a:pathLst>
            </a:custGeom>
            <a:solidFill>
              <a:srgbClr val="ffffcc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2047680" y="2376360"/>
            <a:ext cx="285480" cy="209520"/>
            <a:chOff x="2047680" y="2376360"/>
            <a:chExt cx="285480" cy="209520"/>
          </a:xfrm>
        </p:grpSpPr>
        <p:grpSp>
          <p:nvGrpSpPr>
            <p:cNvPr id="1064" name=""/>
            <p:cNvGrpSpPr/>
            <p:nvPr/>
          </p:nvGrpSpPr>
          <p:grpSpPr>
            <a:xfrm>
              <a:off x="2114280" y="2376360"/>
              <a:ext cx="218880" cy="142920"/>
              <a:chOff x="2114280" y="2376360"/>
              <a:chExt cx="218880" cy="142920"/>
            </a:xfrm>
          </p:grpSpPr>
          <p:sp>
            <p:nvSpPr>
              <p:cNvPr id="1065" name=""/>
              <p:cNvSpPr/>
              <p:nvPr/>
            </p:nvSpPr>
            <p:spPr>
              <a:xfrm flipH="1">
                <a:off x="2171160" y="2376360"/>
                <a:ext cx="162000" cy="85680"/>
              </a:xfrm>
              <a:custGeom>
                <a:avLst/>
                <a:gdLst/>
                <a:ahLst/>
                <a:rect l="l" t="t" r="r" b="b"/>
                <a:pathLst>
                  <a:path w="102" h="54">
                    <a:moveTo>
                      <a:pt x="0" y="0"/>
                    </a:moveTo>
                    <a:cubicBezTo>
                      <a:pt x="40" y="13"/>
                      <a:pt x="71" y="23"/>
                      <a:pt x="102" y="5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2113920" y="247140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0"/>
                    </a:moveTo>
                    <a:cubicBezTo>
                      <a:pt x="22" y="7"/>
                      <a:pt x="23" y="20"/>
                      <a:pt x="42" y="3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7" name=""/>
            <p:cNvSpPr/>
            <p:nvPr/>
          </p:nvSpPr>
          <p:spPr>
            <a:xfrm flipH="1">
              <a:off x="2076120" y="2471400"/>
              <a:ext cx="85680" cy="9540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0" y="0"/>
                  </a:moveTo>
                  <a:cubicBezTo>
                    <a:pt x="13" y="13"/>
                    <a:pt x="46" y="45"/>
                    <a:pt x="54" y="6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2047320" y="256680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0"/>
                  </a:moveTo>
                  <a:cubicBezTo>
                    <a:pt x="6" y="4"/>
                    <a:pt x="18" y="12"/>
                    <a:pt x="18" y="12"/>
                  </a:cubicBezTo>
                  <a:cubicBezTo>
                    <a:pt x="18" y="12"/>
                    <a:pt x="6" y="4"/>
                    <a:pt x="0" y="0"/>
                  </a:cubicBezTo>
                  <a:close/>
                </a:path>
              </a:pathLst>
            </a:custGeom>
            <a:solidFill>
              <a:srgbClr val="ffffcc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2351520" y="3043440"/>
            <a:ext cx="459720" cy="371160"/>
            <a:chOff x="2351520" y="3043440"/>
            <a:chExt cx="459720" cy="371160"/>
          </a:xfrm>
        </p:grpSpPr>
        <p:sp>
          <p:nvSpPr>
            <p:cNvPr id="1070" name=""/>
            <p:cNvSpPr/>
            <p:nvPr/>
          </p:nvSpPr>
          <p:spPr>
            <a:xfrm>
              <a:off x="2427120" y="3078000"/>
              <a:ext cx="36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2351520" y="3043440"/>
              <a:ext cx="151200" cy="14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2" name=""/>
            <p:cNvGrpSpPr/>
            <p:nvPr/>
          </p:nvGrpSpPr>
          <p:grpSpPr>
            <a:xfrm>
              <a:off x="2427120" y="3192120"/>
              <a:ext cx="384120" cy="222480"/>
              <a:chOff x="2427120" y="3192120"/>
              <a:chExt cx="384120" cy="222480"/>
            </a:xfrm>
          </p:grpSpPr>
          <p:sp>
            <p:nvSpPr>
              <p:cNvPr id="1073" name=""/>
              <p:cNvSpPr/>
              <p:nvPr/>
            </p:nvSpPr>
            <p:spPr>
              <a:xfrm>
                <a:off x="2427120" y="3192120"/>
                <a:ext cx="36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769840" y="3205080"/>
                <a:ext cx="41400" cy="88560"/>
              </a:xfrm>
              <a:custGeom>
                <a:avLst/>
                <a:gdLst/>
                <a:ahLst/>
                <a:rect l="l" t="t" r="r" b="b"/>
                <a:pathLst>
                  <a:path w="26" h="56">
                    <a:moveTo>
                      <a:pt x="0" y="0"/>
                    </a:moveTo>
                    <a:cubicBezTo>
                      <a:pt x="3" y="4"/>
                      <a:pt x="5" y="9"/>
                      <a:pt x="8" y="12"/>
                    </a:cubicBezTo>
                    <a:cubicBezTo>
                      <a:pt x="11" y="15"/>
                      <a:pt x="19" y="15"/>
                      <a:pt x="20" y="20"/>
                    </a:cubicBezTo>
                    <a:cubicBezTo>
                      <a:pt x="26" y="45"/>
                      <a:pt x="12" y="44"/>
                      <a:pt x="0" y="5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69840" y="3325680"/>
                <a:ext cx="41400" cy="88920"/>
              </a:xfrm>
              <a:custGeom>
                <a:avLst/>
                <a:gdLst/>
                <a:ahLst/>
                <a:rect l="l" t="t" r="r" b="b"/>
                <a:pathLst>
                  <a:path w="26" h="56">
                    <a:moveTo>
                      <a:pt x="0" y="0"/>
                    </a:moveTo>
                    <a:cubicBezTo>
                      <a:pt x="3" y="4"/>
                      <a:pt x="5" y="9"/>
                      <a:pt x="8" y="12"/>
                    </a:cubicBezTo>
                    <a:cubicBezTo>
                      <a:pt x="11" y="15"/>
                      <a:pt x="19" y="15"/>
                      <a:pt x="20" y="20"/>
                    </a:cubicBezTo>
                    <a:cubicBezTo>
                      <a:pt x="26" y="45"/>
                      <a:pt x="12" y="44"/>
                      <a:pt x="0" y="5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447640" y="3281040"/>
                <a:ext cx="38160" cy="4788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24" y="0"/>
                    </a:moveTo>
                    <a:cubicBezTo>
                      <a:pt x="18" y="4"/>
                      <a:pt x="11" y="6"/>
                      <a:pt x="6" y="12"/>
                    </a:cubicBezTo>
                    <a:cubicBezTo>
                      <a:pt x="2" y="17"/>
                      <a:pt x="0" y="30"/>
                      <a:pt x="0" y="3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7" name=""/>
          <p:cNvSpPr/>
          <p:nvPr/>
        </p:nvSpPr>
        <p:spPr>
          <a:xfrm>
            <a:off x="7544880" y="1461960"/>
            <a:ext cx="11376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微动开关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2160" y="3078000"/>
            <a:ext cx="11376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微动开关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086360" y="4545000"/>
            <a:ext cx="1199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4011480" y="4525920"/>
            <a:ext cx="74880" cy="76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5153040" y="4411440"/>
            <a:ext cx="1274760" cy="342720"/>
            <a:chOff x="5153040" y="4411440"/>
            <a:chExt cx="1274760" cy="342720"/>
          </a:xfrm>
        </p:grpSpPr>
        <p:sp>
          <p:nvSpPr>
            <p:cNvPr id="1082" name=""/>
            <p:cNvSpPr/>
            <p:nvPr/>
          </p:nvSpPr>
          <p:spPr>
            <a:xfrm>
              <a:off x="5153040" y="444996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153040" y="471636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6353280" y="4677840"/>
              <a:ext cx="7452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6353280" y="4411080"/>
              <a:ext cx="7452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165640" y="4443480"/>
              <a:ext cx="146160" cy="77760"/>
            </a:xfrm>
            <a:custGeom>
              <a:avLst/>
              <a:gdLst/>
              <a:ahLst/>
              <a:rect l="l" t="t" r="r" b="b"/>
              <a:pathLst>
                <a:path w="92" h="49">
                  <a:moveTo>
                    <a:pt x="0" y="0"/>
                  </a:moveTo>
                  <a:cubicBezTo>
                    <a:pt x="1" y="6"/>
                    <a:pt x="9" y="39"/>
                    <a:pt x="12" y="40"/>
                  </a:cubicBezTo>
                  <a:cubicBezTo>
                    <a:pt x="20" y="43"/>
                    <a:pt x="36" y="48"/>
                    <a:pt x="36" y="48"/>
                  </a:cubicBezTo>
                  <a:cubicBezTo>
                    <a:pt x="48" y="47"/>
                    <a:pt x="73" y="49"/>
                    <a:pt x="84" y="36"/>
                  </a:cubicBezTo>
                  <a:cubicBezTo>
                    <a:pt x="90" y="28"/>
                    <a:pt x="92" y="8"/>
                    <a:pt x="92" y="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5159520" y="4648320"/>
              <a:ext cx="145800" cy="77760"/>
            </a:xfrm>
            <a:custGeom>
              <a:avLst/>
              <a:gdLst/>
              <a:ahLst/>
              <a:rect l="l" t="t" r="r" b="b"/>
              <a:pathLst>
                <a:path w="92" h="49">
                  <a:moveTo>
                    <a:pt x="0" y="0"/>
                  </a:moveTo>
                  <a:cubicBezTo>
                    <a:pt x="1" y="6"/>
                    <a:pt x="9" y="39"/>
                    <a:pt x="12" y="40"/>
                  </a:cubicBezTo>
                  <a:cubicBezTo>
                    <a:pt x="20" y="43"/>
                    <a:pt x="36" y="48"/>
                    <a:pt x="36" y="48"/>
                  </a:cubicBezTo>
                  <a:cubicBezTo>
                    <a:pt x="48" y="47"/>
                    <a:pt x="73" y="49"/>
                    <a:pt x="84" y="36"/>
                  </a:cubicBezTo>
                  <a:cubicBezTo>
                    <a:pt x="90" y="28"/>
                    <a:pt x="92" y="8"/>
                    <a:pt x="92" y="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8" name=""/>
          <p:cNvSpPr/>
          <p:nvPr/>
        </p:nvSpPr>
        <p:spPr>
          <a:xfrm>
            <a:off x="4390920" y="4278240"/>
            <a:ext cx="121932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4581360" y="4052880"/>
            <a:ext cx="218880" cy="491760"/>
            <a:chOff x="4581360" y="4052880"/>
            <a:chExt cx="218880" cy="491760"/>
          </a:xfrm>
        </p:grpSpPr>
        <p:sp>
          <p:nvSpPr>
            <p:cNvPr id="1090" name=""/>
            <p:cNvSpPr/>
            <p:nvPr/>
          </p:nvSpPr>
          <p:spPr>
            <a:xfrm flipV="1">
              <a:off x="4695840" y="4106520"/>
              <a:ext cx="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1" name=""/>
            <p:cNvGrpSpPr/>
            <p:nvPr/>
          </p:nvGrpSpPr>
          <p:grpSpPr>
            <a:xfrm>
              <a:off x="4581360" y="4052880"/>
              <a:ext cx="218880" cy="79200"/>
              <a:chOff x="4581360" y="4052880"/>
              <a:chExt cx="218880" cy="79200"/>
            </a:xfrm>
          </p:grpSpPr>
          <p:sp>
            <p:nvSpPr>
              <p:cNvPr id="1092" name=""/>
              <p:cNvSpPr/>
              <p:nvPr/>
            </p:nvSpPr>
            <p:spPr>
              <a:xfrm flipV="1">
                <a:off x="4603320" y="4052880"/>
                <a:ext cx="173160" cy="79200"/>
              </a:xfrm>
              <a:custGeom>
                <a:avLst/>
                <a:gdLst/>
                <a:ahLst/>
                <a:rect l="l" t="t" r="r" b="b"/>
                <a:pathLst>
                  <a:path w="92" h="49">
                    <a:moveTo>
                      <a:pt x="0" y="0"/>
                    </a:moveTo>
                    <a:cubicBezTo>
                      <a:pt x="1" y="6"/>
                      <a:pt x="9" y="39"/>
                      <a:pt x="12" y="40"/>
                    </a:cubicBezTo>
                    <a:cubicBezTo>
                      <a:pt x="20" y="43"/>
                      <a:pt x="36" y="48"/>
                      <a:pt x="36" y="48"/>
                    </a:cubicBezTo>
                    <a:cubicBezTo>
                      <a:pt x="48" y="47"/>
                      <a:pt x="73" y="49"/>
                      <a:pt x="84" y="36"/>
                    </a:cubicBezTo>
                    <a:cubicBezTo>
                      <a:pt x="90" y="28"/>
                      <a:pt x="92" y="8"/>
                      <a:pt x="92" y="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581360" y="4132080"/>
                <a:ext cx="21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4" name=""/>
          <p:cNvGrpSpPr/>
          <p:nvPr/>
        </p:nvGrpSpPr>
        <p:grpSpPr>
          <a:xfrm>
            <a:off x="5261040" y="3367080"/>
            <a:ext cx="1314000" cy="2364840"/>
            <a:chOff x="5261040" y="3367080"/>
            <a:chExt cx="1314000" cy="2364840"/>
          </a:xfrm>
        </p:grpSpPr>
        <p:grpSp>
          <p:nvGrpSpPr>
            <p:cNvPr id="1095" name=""/>
            <p:cNvGrpSpPr/>
            <p:nvPr/>
          </p:nvGrpSpPr>
          <p:grpSpPr>
            <a:xfrm>
              <a:off x="5261040" y="5138640"/>
              <a:ext cx="1314000" cy="133560"/>
              <a:chOff x="5261040" y="5138640"/>
              <a:chExt cx="1314000" cy="133560"/>
            </a:xfrm>
          </p:grpSpPr>
          <p:sp>
            <p:nvSpPr>
              <p:cNvPr id="1096" name=""/>
              <p:cNvSpPr/>
              <p:nvPr/>
            </p:nvSpPr>
            <p:spPr>
              <a:xfrm>
                <a:off x="6102000" y="5138640"/>
                <a:ext cx="47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261040" y="5138640"/>
                <a:ext cx="47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H="1">
                <a:off x="5681520" y="5138640"/>
                <a:ext cx="420480" cy="13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5436720" y="5272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常开触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436720" y="33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常闭触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5264280" y="3846600"/>
              <a:ext cx="1276200" cy="209520"/>
              <a:chOff x="5264280" y="3846600"/>
              <a:chExt cx="1276200" cy="209520"/>
            </a:xfrm>
          </p:grpSpPr>
          <p:sp>
            <p:nvSpPr>
              <p:cNvPr id="1102" name=""/>
              <p:cNvSpPr/>
              <p:nvPr/>
            </p:nvSpPr>
            <p:spPr>
              <a:xfrm>
                <a:off x="6081120" y="405612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264280" y="405612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 flipV="1">
                <a:off x="5621400" y="3888000"/>
                <a:ext cx="459360" cy="16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V="1">
                <a:off x="5672520" y="3846600"/>
                <a:ext cx="0" cy="20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6" name=""/>
          <p:cNvGrpSpPr/>
          <p:nvPr/>
        </p:nvGrpSpPr>
        <p:grpSpPr>
          <a:xfrm>
            <a:off x="7104240" y="3611520"/>
            <a:ext cx="1466640" cy="2504520"/>
            <a:chOff x="7104240" y="3611520"/>
            <a:chExt cx="1466640" cy="2504520"/>
          </a:xfrm>
        </p:grpSpPr>
        <p:sp>
          <p:nvSpPr>
            <p:cNvPr id="1107" name=""/>
            <p:cNvSpPr/>
            <p:nvPr/>
          </p:nvSpPr>
          <p:spPr>
            <a:xfrm>
              <a:off x="7104240" y="4121280"/>
              <a:ext cx="1466640" cy="1994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线圈通电 </a:t>
              </a:r>
              <a:r>
                <a:rPr b="1" lang="zh-CN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衔铁向下吸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连杆动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触头动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299720" y="36115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工作原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 flipV="1">
            <a:off x="3608280" y="18432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3119400" y="1881360"/>
            <a:ext cx="731880" cy="247320"/>
            <a:chOff x="3119400" y="1881360"/>
            <a:chExt cx="731880" cy="247320"/>
          </a:xfrm>
        </p:grpSpPr>
        <p:sp>
          <p:nvSpPr>
            <p:cNvPr id="1111" name=""/>
            <p:cNvSpPr/>
            <p:nvPr/>
          </p:nvSpPr>
          <p:spPr>
            <a:xfrm>
              <a:off x="3679920" y="1881360"/>
              <a:ext cx="171360" cy="247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2" name=""/>
            <p:cNvGrpSpPr/>
            <p:nvPr/>
          </p:nvGrpSpPr>
          <p:grpSpPr>
            <a:xfrm>
              <a:off x="3119400" y="1937880"/>
              <a:ext cx="596880" cy="152280"/>
              <a:chOff x="3119400" y="1937880"/>
              <a:chExt cx="596880" cy="152280"/>
            </a:xfrm>
          </p:grpSpPr>
          <p:sp>
            <p:nvSpPr>
              <p:cNvPr id="1113" name=""/>
              <p:cNvSpPr/>
              <p:nvPr/>
            </p:nvSpPr>
            <p:spPr>
              <a:xfrm>
                <a:off x="3173400" y="1937880"/>
                <a:ext cx="542880" cy="152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3164400" y="1947240"/>
                <a:ext cx="2160" cy="124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119400" y="1937880"/>
                <a:ext cx="46080" cy="133200"/>
              </a:xfrm>
              <a:custGeom>
                <a:avLst/>
                <a:gdLst/>
                <a:ahLst/>
                <a:rect l="l" t="t" r="r" b="b"/>
                <a:pathLst>
                  <a:path w="29" h="84">
                    <a:moveTo>
                      <a:pt x="25" y="0"/>
                    </a:moveTo>
                    <a:cubicBezTo>
                      <a:pt x="0" y="16"/>
                      <a:pt x="8" y="32"/>
                      <a:pt x="13" y="64"/>
                    </a:cubicBezTo>
                    <a:cubicBezTo>
                      <a:pt x="14" y="72"/>
                      <a:pt x="29" y="84"/>
                      <a:pt x="29" y="8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6" name=""/>
          <p:cNvGrpSpPr/>
          <p:nvPr/>
        </p:nvGrpSpPr>
        <p:grpSpPr>
          <a:xfrm>
            <a:off x="1685880" y="2674800"/>
            <a:ext cx="1925640" cy="433080"/>
            <a:chOff x="1685880" y="2674800"/>
            <a:chExt cx="1925640" cy="433080"/>
          </a:xfrm>
        </p:grpSpPr>
        <p:sp>
          <p:nvSpPr>
            <p:cNvPr id="1117" name=""/>
            <p:cNvSpPr/>
            <p:nvPr/>
          </p:nvSpPr>
          <p:spPr>
            <a:xfrm>
              <a:off x="3459240" y="2706480"/>
              <a:ext cx="13320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249720" y="2674800"/>
              <a:ext cx="361800" cy="30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85880" y="2850840"/>
              <a:ext cx="304920" cy="25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704960" y="2706480"/>
              <a:ext cx="476280" cy="39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048040" y="2835000"/>
              <a:ext cx="304560" cy="25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021120" y="2866680"/>
              <a:ext cx="28404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811600" y="2866680"/>
              <a:ext cx="304560" cy="24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333520" y="2882520"/>
              <a:ext cx="1810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230640" y="2866680"/>
              <a:ext cx="247680" cy="20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770200" y="2993760"/>
              <a:ext cx="12528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3733920" y="716040"/>
            <a:ext cx="1371600" cy="1218600"/>
            <a:chOff x="3733920" y="716040"/>
            <a:chExt cx="1371600" cy="1218600"/>
          </a:xfrm>
        </p:grpSpPr>
        <p:grpSp>
          <p:nvGrpSpPr>
            <p:cNvPr id="1128" name=""/>
            <p:cNvGrpSpPr/>
            <p:nvPr/>
          </p:nvGrpSpPr>
          <p:grpSpPr>
            <a:xfrm>
              <a:off x="3733920" y="1172880"/>
              <a:ext cx="1371600" cy="761760"/>
              <a:chOff x="3733920" y="1172880"/>
              <a:chExt cx="1371600" cy="761760"/>
            </a:xfrm>
          </p:grpSpPr>
          <p:sp>
            <p:nvSpPr>
              <p:cNvPr id="1129" name=""/>
              <p:cNvSpPr/>
              <p:nvPr/>
            </p:nvSpPr>
            <p:spPr>
              <a:xfrm flipV="1">
                <a:off x="3733920" y="1172880"/>
                <a:ext cx="228600" cy="76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962520" y="117288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1" name=""/>
            <p:cNvSpPr/>
            <p:nvPr/>
          </p:nvSpPr>
          <p:spPr>
            <a:xfrm>
              <a:off x="4103280" y="7160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调节螺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716040"/>
            <a:ext cx="990000" cy="1142640"/>
            <a:chOff x="2133720" y="716040"/>
            <a:chExt cx="990000" cy="1142640"/>
          </a:xfrm>
        </p:grpSpPr>
        <p:grpSp>
          <p:nvGrpSpPr>
            <p:cNvPr id="1133" name=""/>
            <p:cNvGrpSpPr/>
            <p:nvPr/>
          </p:nvGrpSpPr>
          <p:grpSpPr>
            <a:xfrm>
              <a:off x="2133720" y="1172880"/>
              <a:ext cx="990000" cy="685800"/>
              <a:chOff x="2133720" y="1172880"/>
              <a:chExt cx="990000" cy="685800"/>
            </a:xfrm>
          </p:grpSpPr>
          <p:sp>
            <p:nvSpPr>
              <p:cNvPr id="1134" name=""/>
              <p:cNvSpPr/>
              <p:nvPr/>
            </p:nvSpPr>
            <p:spPr>
              <a:xfrm flipH="1" flipV="1">
                <a:off x="2895120" y="1172880"/>
                <a:ext cx="22860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133720" y="117324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6" name=""/>
            <p:cNvSpPr/>
            <p:nvPr/>
          </p:nvSpPr>
          <p:spPr>
            <a:xfrm>
              <a:off x="2136240" y="7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进气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581280" y="3230640"/>
            <a:ext cx="1371600" cy="761400"/>
            <a:chOff x="3581280" y="3230640"/>
            <a:chExt cx="1371600" cy="761400"/>
          </a:xfrm>
        </p:grpSpPr>
        <p:grpSp>
          <p:nvGrpSpPr>
            <p:cNvPr id="1138" name=""/>
            <p:cNvGrpSpPr/>
            <p:nvPr/>
          </p:nvGrpSpPr>
          <p:grpSpPr>
            <a:xfrm>
              <a:off x="3581280" y="3687480"/>
              <a:ext cx="1371600" cy="304560"/>
              <a:chOff x="3581280" y="3687480"/>
              <a:chExt cx="1371600" cy="304560"/>
            </a:xfrm>
          </p:grpSpPr>
          <p:sp>
            <p:nvSpPr>
              <p:cNvPr id="1139" name=""/>
              <p:cNvSpPr/>
              <p:nvPr/>
            </p:nvSpPr>
            <p:spPr>
              <a:xfrm flipV="1">
                <a:off x="3581280" y="3687480"/>
                <a:ext cx="68580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267080" y="368748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4300200" y="3230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托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3048120" y="4525920"/>
            <a:ext cx="1600200" cy="1069200"/>
            <a:chOff x="3048120" y="4525920"/>
            <a:chExt cx="1600200" cy="1069200"/>
          </a:xfrm>
        </p:grpSpPr>
        <p:grpSp>
          <p:nvGrpSpPr>
            <p:cNvPr id="1143" name=""/>
            <p:cNvGrpSpPr/>
            <p:nvPr/>
          </p:nvGrpSpPr>
          <p:grpSpPr>
            <a:xfrm>
              <a:off x="3048120" y="4525920"/>
              <a:ext cx="1600200" cy="1066680"/>
              <a:chOff x="3048120" y="4525920"/>
              <a:chExt cx="1600200" cy="1066680"/>
            </a:xfrm>
          </p:grpSpPr>
          <p:sp>
            <p:nvSpPr>
              <p:cNvPr id="1144" name=""/>
              <p:cNvSpPr/>
              <p:nvPr/>
            </p:nvSpPr>
            <p:spPr>
              <a:xfrm>
                <a:off x="3048120" y="4525920"/>
                <a:ext cx="91440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962520" y="55926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6" name=""/>
            <p:cNvSpPr/>
            <p:nvPr/>
          </p:nvSpPr>
          <p:spPr>
            <a:xfrm>
              <a:off x="4011480" y="51354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线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2590920" y="4525920"/>
            <a:ext cx="1676160" cy="1526400"/>
            <a:chOff x="2590920" y="4525920"/>
            <a:chExt cx="1676160" cy="1526400"/>
          </a:xfrm>
        </p:grpSpPr>
        <p:grpSp>
          <p:nvGrpSpPr>
            <p:cNvPr id="1148" name=""/>
            <p:cNvGrpSpPr/>
            <p:nvPr/>
          </p:nvGrpSpPr>
          <p:grpSpPr>
            <a:xfrm>
              <a:off x="2590920" y="4525920"/>
              <a:ext cx="1676160" cy="1523880"/>
              <a:chOff x="2590920" y="4525920"/>
              <a:chExt cx="1676160" cy="1523880"/>
            </a:xfrm>
          </p:grpSpPr>
          <p:sp>
            <p:nvSpPr>
              <p:cNvPr id="1149" name=""/>
              <p:cNvSpPr/>
              <p:nvPr/>
            </p:nvSpPr>
            <p:spPr>
              <a:xfrm>
                <a:off x="2590920" y="4525920"/>
                <a:ext cx="76176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52680" y="604980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1" name=""/>
            <p:cNvSpPr/>
            <p:nvPr/>
          </p:nvSpPr>
          <p:spPr>
            <a:xfrm>
              <a:off x="3463560" y="55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动铁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1371240" y="4449600"/>
            <a:ext cx="1752840" cy="1602720"/>
            <a:chOff x="1371240" y="4449600"/>
            <a:chExt cx="1752840" cy="1602720"/>
          </a:xfrm>
        </p:grpSpPr>
        <p:sp>
          <p:nvSpPr>
            <p:cNvPr id="1153" name=""/>
            <p:cNvSpPr/>
            <p:nvPr/>
          </p:nvSpPr>
          <p:spPr>
            <a:xfrm>
              <a:off x="1925280" y="5592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恢复弹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4" name=""/>
            <p:cNvGrpSpPr/>
            <p:nvPr/>
          </p:nvGrpSpPr>
          <p:grpSpPr>
            <a:xfrm>
              <a:off x="1371240" y="4449600"/>
              <a:ext cx="1752840" cy="1599840"/>
              <a:chOff x="1371240" y="4449600"/>
              <a:chExt cx="1752840" cy="1599840"/>
            </a:xfrm>
          </p:grpSpPr>
          <p:sp>
            <p:nvSpPr>
              <p:cNvPr id="1155" name=""/>
              <p:cNvSpPr/>
              <p:nvPr/>
            </p:nvSpPr>
            <p:spPr>
              <a:xfrm>
                <a:off x="1676520" y="6049440"/>
                <a:ext cx="1447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 flipV="1">
                <a:off x="1371240" y="4449600"/>
                <a:ext cx="304920" cy="159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7" name=""/>
          <p:cNvGrpSpPr/>
          <p:nvPr/>
        </p:nvGrpSpPr>
        <p:grpSpPr>
          <a:xfrm>
            <a:off x="380880" y="3459240"/>
            <a:ext cx="1981080" cy="992880"/>
            <a:chOff x="380880" y="3459240"/>
            <a:chExt cx="1981080" cy="992880"/>
          </a:xfrm>
        </p:grpSpPr>
        <p:grpSp>
          <p:nvGrpSpPr>
            <p:cNvPr id="1158" name=""/>
            <p:cNvGrpSpPr/>
            <p:nvPr/>
          </p:nvGrpSpPr>
          <p:grpSpPr>
            <a:xfrm>
              <a:off x="380880" y="3459240"/>
              <a:ext cx="1981080" cy="990360"/>
              <a:chOff x="380880" y="3459240"/>
              <a:chExt cx="1981080" cy="990360"/>
            </a:xfrm>
          </p:grpSpPr>
          <p:sp>
            <p:nvSpPr>
              <p:cNvPr id="1159" name=""/>
              <p:cNvSpPr/>
              <p:nvPr/>
            </p:nvSpPr>
            <p:spPr>
              <a:xfrm>
                <a:off x="380880" y="44496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1066320" y="3459240"/>
                <a:ext cx="129564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1" name=""/>
            <p:cNvSpPr/>
            <p:nvPr/>
          </p:nvSpPr>
          <p:spPr>
            <a:xfrm>
              <a:off x="475920" y="39924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挡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152280" y="3230280"/>
            <a:ext cx="2362320" cy="536040"/>
            <a:chOff x="152280" y="3230280"/>
            <a:chExt cx="2362320" cy="536040"/>
          </a:xfrm>
        </p:grpSpPr>
        <p:sp>
          <p:nvSpPr>
            <p:cNvPr id="1163" name=""/>
            <p:cNvSpPr/>
            <p:nvPr/>
          </p:nvSpPr>
          <p:spPr>
            <a:xfrm>
              <a:off x="152280" y="376380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4" name=""/>
            <p:cNvGrpSpPr/>
            <p:nvPr/>
          </p:nvGrpSpPr>
          <p:grpSpPr>
            <a:xfrm>
              <a:off x="369360" y="3230280"/>
              <a:ext cx="2145240" cy="536040"/>
              <a:chOff x="369360" y="3230280"/>
              <a:chExt cx="2145240" cy="536040"/>
            </a:xfrm>
          </p:grpSpPr>
          <p:sp>
            <p:nvSpPr>
              <p:cNvPr id="1165" name=""/>
              <p:cNvSpPr/>
              <p:nvPr/>
            </p:nvSpPr>
            <p:spPr>
              <a:xfrm flipV="1">
                <a:off x="1371600" y="3230280"/>
                <a:ext cx="114300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69360" y="330660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释放弹簧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7" name=""/>
          <p:cNvGrpSpPr/>
          <p:nvPr/>
        </p:nvGrpSpPr>
        <p:grpSpPr>
          <a:xfrm>
            <a:off x="380880" y="2620800"/>
            <a:ext cx="2133360" cy="648360"/>
            <a:chOff x="380880" y="2620800"/>
            <a:chExt cx="2133360" cy="648360"/>
          </a:xfrm>
        </p:grpSpPr>
        <p:grpSp>
          <p:nvGrpSpPr>
            <p:cNvPr id="1168" name=""/>
            <p:cNvGrpSpPr/>
            <p:nvPr/>
          </p:nvGrpSpPr>
          <p:grpSpPr>
            <a:xfrm>
              <a:off x="380880" y="2620800"/>
              <a:ext cx="2133360" cy="609480"/>
              <a:chOff x="380880" y="2620800"/>
              <a:chExt cx="2133360" cy="609480"/>
            </a:xfrm>
          </p:grpSpPr>
          <p:sp>
            <p:nvSpPr>
              <p:cNvPr id="1169" name=""/>
              <p:cNvSpPr/>
              <p:nvPr/>
            </p:nvSpPr>
            <p:spPr>
              <a:xfrm flipH="1">
                <a:off x="1371240" y="2620800"/>
                <a:ext cx="114300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80880" y="3230280"/>
                <a:ext cx="106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1" name=""/>
            <p:cNvSpPr/>
            <p:nvPr/>
          </p:nvSpPr>
          <p:spPr>
            <a:xfrm>
              <a:off x="567720" y="2809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活塞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495360" y="1706400"/>
            <a:ext cx="2095560" cy="723960"/>
            <a:chOff x="495360" y="1706400"/>
            <a:chExt cx="2095560" cy="723960"/>
          </a:xfrm>
        </p:grpSpPr>
        <p:grpSp>
          <p:nvGrpSpPr>
            <p:cNvPr id="1173" name=""/>
            <p:cNvGrpSpPr/>
            <p:nvPr/>
          </p:nvGrpSpPr>
          <p:grpSpPr>
            <a:xfrm>
              <a:off x="495360" y="2122200"/>
              <a:ext cx="2095560" cy="308160"/>
              <a:chOff x="495360" y="2122200"/>
              <a:chExt cx="2095560" cy="3081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371600" y="2125440"/>
                <a:ext cx="121932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95360" y="212220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6" name=""/>
            <p:cNvSpPr/>
            <p:nvPr/>
          </p:nvSpPr>
          <p:spPr>
            <a:xfrm>
              <a:off x="646560" y="1706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橡皮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492120" y="1020600"/>
            <a:ext cx="1641240" cy="990000"/>
            <a:chOff x="492120" y="1020600"/>
            <a:chExt cx="1641240" cy="990000"/>
          </a:xfrm>
        </p:grpSpPr>
        <p:grpSp>
          <p:nvGrpSpPr>
            <p:cNvPr id="1178" name=""/>
            <p:cNvGrpSpPr/>
            <p:nvPr/>
          </p:nvGrpSpPr>
          <p:grpSpPr>
            <a:xfrm>
              <a:off x="492120" y="1477440"/>
              <a:ext cx="1641240" cy="533160"/>
              <a:chOff x="492120" y="1477440"/>
              <a:chExt cx="1641240" cy="533160"/>
            </a:xfrm>
          </p:grpSpPr>
          <p:sp>
            <p:nvSpPr>
              <p:cNvPr id="1179" name=""/>
              <p:cNvSpPr/>
              <p:nvPr/>
            </p:nvSpPr>
            <p:spPr>
              <a:xfrm flipH="1" flipV="1">
                <a:off x="1294920" y="1477440"/>
                <a:ext cx="83844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92120" y="147780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1" name=""/>
            <p:cNvSpPr/>
            <p:nvPr/>
          </p:nvSpPr>
          <p:spPr>
            <a:xfrm>
              <a:off x="567720" y="1020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排气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991800" y="228600"/>
            <a:ext cx="247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空气式时间继电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3" name=""/>
          <p:cNvGrpSpPr/>
          <p:nvPr/>
        </p:nvGrpSpPr>
        <p:grpSpPr>
          <a:xfrm>
            <a:off x="1632240" y="2035080"/>
            <a:ext cx="3288600" cy="1148400"/>
            <a:chOff x="1632240" y="2035080"/>
            <a:chExt cx="3288600" cy="1148400"/>
          </a:xfrm>
        </p:grpSpPr>
        <p:sp>
          <p:nvSpPr>
            <p:cNvPr id="1184" name=""/>
            <p:cNvSpPr/>
            <p:nvPr/>
          </p:nvSpPr>
          <p:spPr>
            <a:xfrm flipV="1" rot="20504400">
              <a:off x="1557360" y="2571840"/>
              <a:ext cx="3438360" cy="74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742760" y="3084840"/>
              <a:ext cx="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047680" y="2972160"/>
              <a:ext cx="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1133640" y="4339800"/>
            <a:ext cx="1562040" cy="573120"/>
            <a:chOff x="1133640" y="4339800"/>
            <a:chExt cx="1562040" cy="573120"/>
          </a:xfrm>
        </p:grpSpPr>
        <p:sp>
          <p:nvSpPr>
            <p:cNvPr id="1188" name=""/>
            <p:cNvSpPr/>
            <p:nvPr/>
          </p:nvSpPr>
          <p:spPr>
            <a:xfrm flipV="1">
              <a:off x="2546640" y="4377600"/>
              <a:ext cx="149040" cy="3049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1136880" y="4380840"/>
              <a:ext cx="149040" cy="3049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779840" y="4339440"/>
              <a:ext cx="280800" cy="3812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133640" y="4674600"/>
              <a:ext cx="1562040" cy="2379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1092240" y="3614760"/>
            <a:ext cx="1600200" cy="573120"/>
            <a:chOff x="1092240" y="3614760"/>
            <a:chExt cx="1600200" cy="573120"/>
          </a:xfrm>
        </p:grpSpPr>
        <p:sp>
          <p:nvSpPr>
            <p:cNvPr id="1193" name=""/>
            <p:cNvSpPr/>
            <p:nvPr/>
          </p:nvSpPr>
          <p:spPr>
            <a:xfrm>
              <a:off x="2540160" y="3845160"/>
              <a:ext cx="152280" cy="3045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095480" y="3841920"/>
              <a:ext cx="152640" cy="3045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758960" y="3807000"/>
              <a:ext cx="25272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092240" y="3614760"/>
              <a:ext cx="1600200" cy="2383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1676880" y="53064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断电延时的空气式时间继电器结构示意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8" name=""/>
          <p:cNvGrpSpPr/>
          <p:nvPr/>
        </p:nvGrpSpPr>
        <p:grpSpPr>
          <a:xfrm>
            <a:off x="4943520" y="2133720"/>
            <a:ext cx="1371600" cy="457200"/>
            <a:chOff x="4943520" y="2133720"/>
            <a:chExt cx="1371600" cy="457200"/>
          </a:xfrm>
        </p:grpSpPr>
        <p:sp>
          <p:nvSpPr>
            <p:cNvPr id="1199" name=""/>
            <p:cNvSpPr/>
            <p:nvPr/>
          </p:nvSpPr>
          <p:spPr>
            <a:xfrm>
              <a:off x="5821200" y="2343240"/>
              <a:ext cx="493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43520" y="2343240"/>
              <a:ext cx="4935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5333760" y="2343240"/>
              <a:ext cx="487440" cy="2476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5562360" y="2170440"/>
              <a:ext cx="0" cy="3096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5656320" y="2133720"/>
              <a:ext cx="0" cy="3096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5437080" y="2133720"/>
              <a:ext cx="328680" cy="15552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0"/>
                  </a:moveTo>
                  <a:cubicBezTo>
                    <a:pt x="48" y="72"/>
                    <a:pt x="96" y="144"/>
                    <a:pt x="144" y="144"/>
                  </a:cubicBezTo>
                  <a:cubicBezTo>
                    <a:pt x="192" y="144"/>
                    <a:pt x="240" y="72"/>
                    <a:pt x="288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6311880" y="228600"/>
            <a:ext cx="161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常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延时闭合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840280" y="736560"/>
            <a:ext cx="5414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876920" y="736560"/>
            <a:ext cx="541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5297400" y="533520"/>
            <a:ext cx="542880" cy="2030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391000" y="493560"/>
            <a:ext cx="0" cy="2541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5538960" y="312840"/>
            <a:ext cx="0" cy="3045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5659560" y="312840"/>
            <a:ext cx="0" cy="349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5418000" y="303840"/>
            <a:ext cx="362160" cy="15228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0" y="0"/>
                </a:moveTo>
                <a:cubicBezTo>
                  <a:pt x="48" y="72"/>
                  <a:pt x="96" y="144"/>
                  <a:pt x="144" y="144"/>
                </a:cubicBezTo>
                <a:cubicBezTo>
                  <a:pt x="192" y="144"/>
                  <a:pt x="240" y="72"/>
                  <a:pt x="288" y="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5680" y="1828800"/>
            <a:ext cx="11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常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延时断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1106640" y="4338720"/>
            <a:ext cx="1581120" cy="590400"/>
            <a:chOff x="1106640" y="4338720"/>
            <a:chExt cx="1581120" cy="590400"/>
          </a:xfrm>
        </p:grpSpPr>
        <p:sp>
          <p:nvSpPr>
            <p:cNvPr id="1215" name=""/>
            <p:cNvSpPr/>
            <p:nvPr/>
          </p:nvSpPr>
          <p:spPr>
            <a:xfrm>
              <a:off x="1773360" y="4363920"/>
              <a:ext cx="285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1106640" y="4338720"/>
              <a:ext cx="1581120" cy="590400"/>
              <a:chOff x="1106640" y="4338720"/>
              <a:chExt cx="1581120" cy="590400"/>
            </a:xfrm>
          </p:grpSpPr>
          <p:sp>
            <p:nvSpPr>
              <p:cNvPr id="1217" name=""/>
              <p:cNvSpPr/>
              <p:nvPr/>
            </p:nvSpPr>
            <p:spPr>
              <a:xfrm flipV="1">
                <a:off x="1106640" y="4357800"/>
                <a:ext cx="0" cy="552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106640" y="437688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V="1">
                <a:off x="1258920" y="4357800"/>
                <a:ext cx="0" cy="34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V="1">
                <a:off x="1773360" y="4357800"/>
                <a:ext cx="0" cy="34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V="1">
                <a:off x="2040120" y="4338720"/>
                <a:ext cx="0" cy="334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278000" y="4681440"/>
                <a:ext cx="495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059200" y="4662720"/>
                <a:ext cx="495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V="1">
                <a:off x="2687760" y="4376880"/>
                <a:ext cx="0" cy="552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H="1">
                <a:off x="2535120" y="439596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V="1">
                <a:off x="2535480" y="43768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7" name=""/>
          <p:cNvSpPr/>
          <p:nvPr/>
        </p:nvSpPr>
        <p:spPr>
          <a:xfrm>
            <a:off x="1087560" y="491004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442880" y="3986280"/>
            <a:ext cx="228600" cy="611280"/>
          </a:xfrm>
          <a:prstGeom prst="line">
            <a:avLst/>
          </a:prstGeom>
          <a:ln w="3816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1423800" y="3986280"/>
            <a:ext cx="247320" cy="592200"/>
          </a:xfrm>
          <a:prstGeom prst="line">
            <a:avLst/>
          </a:prstGeom>
          <a:ln w="3816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424160" y="3986280"/>
            <a:ext cx="2473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162160" y="3975120"/>
            <a:ext cx="228600" cy="611280"/>
          </a:xfrm>
          <a:prstGeom prst="line">
            <a:avLst/>
          </a:prstGeom>
          <a:ln w="3816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2143080" y="3975120"/>
            <a:ext cx="247680" cy="592200"/>
          </a:xfrm>
          <a:prstGeom prst="line">
            <a:avLst/>
          </a:prstGeom>
          <a:ln w="3816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143080" y="3975120"/>
            <a:ext cx="24768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609480" y="4435560"/>
            <a:ext cx="3448080" cy="553680"/>
            <a:chOff x="609480" y="4435560"/>
            <a:chExt cx="3448080" cy="553680"/>
          </a:xfrm>
        </p:grpSpPr>
        <p:sp>
          <p:nvSpPr>
            <p:cNvPr id="1235" name=""/>
            <p:cNvSpPr/>
            <p:nvPr/>
          </p:nvSpPr>
          <p:spPr>
            <a:xfrm flipV="1">
              <a:off x="628560" y="4914360"/>
              <a:ext cx="3429000" cy="74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6" name=""/>
            <p:cNvGrpSpPr/>
            <p:nvPr/>
          </p:nvGrpSpPr>
          <p:grpSpPr>
            <a:xfrm>
              <a:off x="2934360" y="4435560"/>
              <a:ext cx="286560" cy="496800"/>
              <a:chOff x="2934360" y="4435560"/>
              <a:chExt cx="286560" cy="496800"/>
            </a:xfrm>
          </p:grpSpPr>
          <p:sp>
            <p:nvSpPr>
              <p:cNvPr id="1237" name=""/>
              <p:cNvSpPr/>
              <p:nvPr/>
            </p:nvSpPr>
            <p:spPr>
              <a:xfrm flipV="1">
                <a:off x="3022560" y="4844880"/>
                <a:ext cx="0" cy="8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3013920" y="4800600"/>
                <a:ext cx="169560" cy="4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 flipV="1">
                <a:off x="2973960" y="4760640"/>
                <a:ext cx="178920" cy="4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V="1">
                <a:off x="2983320" y="4708440"/>
                <a:ext cx="190080" cy="6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H="1" flipV="1">
                <a:off x="2983320" y="4665600"/>
                <a:ext cx="160200" cy="4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V="1">
                <a:off x="2983320" y="4613040"/>
                <a:ext cx="190080" cy="6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 flipV="1">
                <a:off x="2994480" y="4551120"/>
                <a:ext cx="167760" cy="6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>
                <a:off x="2935440" y="4532040"/>
                <a:ext cx="28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5" name=""/>
              <p:cNvGrpSpPr/>
              <p:nvPr/>
            </p:nvGrpSpPr>
            <p:grpSpPr>
              <a:xfrm>
                <a:off x="2934360" y="4435560"/>
                <a:ext cx="267840" cy="95040"/>
                <a:chOff x="2934360" y="4435560"/>
                <a:chExt cx="267840" cy="95040"/>
              </a:xfrm>
            </p:grpSpPr>
            <p:sp>
              <p:nvSpPr>
                <p:cNvPr id="1246" name=""/>
                <p:cNvSpPr/>
                <p:nvPr/>
              </p:nvSpPr>
              <p:spPr>
                <a:xfrm flipH="1" flipV="1">
                  <a:off x="2934360" y="4435560"/>
                  <a:ext cx="3780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 flipH="1" flipV="1">
                  <a:off x="3010680" y="4435560"/>
                  <a:ext cx="3780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flipH="1" flipV="1">
                  <a:off x="3087000" y="4435560"/>
                  <a:ext cx="3744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H="1" flipV="1">
                  <a:off x="3164400" y="4435560"/>
                  <a:ext cx="3780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0" name=""/>
            <p:cNvGrpSpPr/>
            <p:nvPr/>
          </p:nvGrpSpPr>
          <p:grpSpPr>
            <a:xfrm>
              <a:off x="609480" y="4475160"/>
              <a:ext cx="293760" cy="461520"/>
              <a:chOff x="609480" y="4475160"/>
              <a:chExt cx="293760" cy="461520"/>
            </a:xfrm>
          </p:grpSpPr>
          <p:sp>
            <p:nvSpPr>
              <p:cNvPr id="1251" name=""/>
              <p:cNvSpPr/>
              <p:nvPr/>
            </p:nvSpPr>
            <p:spPr>
              <a:xfrm flipH="1">
                <a:off x="617400" y="4551120"/>
                <a:ext cx="2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V="1">
                <a:off x="714240" y="4819680"/>
                <a:ext cx="169920" cy="4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 flipV="1">
                <a:off x="674640" y="4780080"/>
                <a:ext cx="179640" cy="4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V="1">
                <a:off x="684720" y="4727520"/>
                <a:ext cx="190440" cy="61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 flipV="1">
                <a:off x="684360" y="4684680"/>
                <a:ext cx="160200" cy="4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V="1">
                <a:off x="684720" y="4632480"/>
                <a:ext cx="190440" cy="5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 flipV="1">
                <a:off x="695520" y="4570560"/>
                <a:ext cx="168120" cy="61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8" name=""/>
              <p:cNvGrpSpPr/>
              <p:nvPr/>
            </p:nvGrpSpPr>
            <p:grpSpPr>
              <a:xfrm>
                <a:off x="609480" y="4475160"/>
                <a:ext cx="268560" cy="95040"/>
                <a:chOff x="609480" y="4475160"/>
                <a:chExt cx="268560" cy="95040"/>
              </a:xfrm>
            </p:grpSpPr>
            <p:sp>
              <p:nvSpPr>
                <p:cNvPr id="1259" name=""/>
                <p:cNvSpPr/>
                <p:nvPr/>
              </p:nvSpPr>
              <p:spPr>
                <a:xfrm flipH="1" flipV="1">
                  <a:off x="609480" y="4475160"/>
                  <a:ext cx="3816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 flipH="1" flipV="1">
                  <a:off x="685800" y="4475160"/>
                  <a:ext cx="3816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 flipH="1" flipV="1">
                  <a:off x="762120" y="4475160"/>
                  <a:ext cx="3780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 flipH="1" flipV="1">
                  <a:off x="839880" y="4475160"/>
                  <a:ext cx="3816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3" name=""/>
              <p:cNvSpPr/>
              <p:nvPr/>
            </p:nvSpPr>
            <p:spPr>
              <a:xfrm flipV="1">
                <a:off x="712800" y="4849560"/>
                <a:ext cx="0" cy="87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4" name=""/>
          <p:cNvSpPr/>
          <p:nvPr/>
        </p:nvSpPr>
        <p:spPr>
          <a:xfrm>
            <a:off x="3695760" y="3807000"/>
            <a:ext cx="12193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4051440" y="1206360"/>
            <a:ext cx="2415240" cy="850680"/>
            <a:chOff x="4051440" y="1206360"/>
            <a:chExt cx="2415240" cy="850680"/>
          </a:xfrm>
        </p:grpSpPr>
        <p:sp>
          <p:nvSpPr>
            <p:cNvPr id="1266" name=""/>
            <p:cNvSpPr/>
            <p:nvPr/>
          </p:nvSpPr>
          <p:spPr>
            <a:xfrm>
              <a:off x="4552920" y="1206360"/>
              <a:ext cx="12186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7" name=""/>
            <p:cNvGrpSpPr/>
            <p:nvPr/>
          </p:nvGrpSpPr>
          <p:grpSpPr>
            <a:xfrm>
              <a:off x="4051440" y="1355760"/>
              <a:ext cx="2415240" cy="701280"/>
              <a:chOff x="4051440" y="1355760"/>
              <a:chExt cx="2415240" cy="701280"/>
            </a:xfrm>
          </p:grpSpPr>
          <p:sp>
            <p:nvSpPr>
              <p:cNvPr id="1268" name=""/>
              <p:cNvSpPr/>
              <p:nvPr/>
            </p:nvSpPr>
            <p:spPr>
              <a:xfrm>
                <a:off x="4125960" y="1564920"/>
                <a:ext cx="119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4051440" y="1507680"/>
                <a:ext cx="745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0" name=""/>
              <p:cNvGrpSpPr/>
              <p:nvPr/>
            </p:nvGrpSpPr>
            <p:grpSpPr>
              <a:xfrm>
                <a:off x="5192640" y="1355760"/>
                <a:ext cx="1274040" cy="342720"/>
                <a:chOff x="5192640" y="1355760"/>
                <a:chExt cx="1274040" cy="342720"/>
              </a:xfrm>
            </p:grpSpPr>
            <p:sp>
              <p:nvSpPr>
                <p:cNvPr id="1271" name=""/>
                <p:cNvSpPr/>
                <p:nvPr/>
              </p:nvSpPr>
              <p:spPr>
                <a:xfrm>
                  <a:off x="5192640" y="1659960"/>
                  <a:ext cx="1218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192640" y="1393560"/>
                  <a:ext cx="1199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6392520" y="1355760"/>
                  <a:ext cx="7416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6392520" y="1622520"/>
                  <a:ext cx="7416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 flipV="1">
                  <a:off x="5204880" y="1588680"/>
                  <a:ext cx="145800" cy="77760"/>
                </a:xfrm>
                <a:custGeom>
                  <a:avLst/>
                  <a:gdLst/>
                  <a:ahLst/>
                  <a:rect l="l" t="t" r="r" b="b"/>
                  <a:pathLst>
                    <a:path w="92" h="49">
                      <a:moveTo>
                        <a:pt x="0" y="0"/>
                      </a:moveTo>
                      <a:cubicBezTo>
                        <a:pt x="1" y="6"/>
                        <a:pt x="9" y="39"/>
                        <a:pt x="12" y="40"/>
                      </a:cubicBezTo>
                      <a:cubicBezTo>
                        <a:pt x="20" y="43"/>
                        <a:pt x="36" y="48"/>
                        <a:pt x="36" y="48"/>
                      </a:cubicBezTo>
                      <a:cubicBezTo>
                        <a:pt x="48" y="47"/>
                        <a:pt x="73" y="49"/>
                        <a:pt x="84" y="36"/>
                      </a:cubicBezTo>
                      <a:cubicBezTo>
                        <a:pt x="90" y="28"/>
                        <a:pt x="92" y="8"/>
                        <a:pt x="92" y="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198760" y="1383840"/>
                  <a:ext cx="145440" cy="77760"/>
                </a:xfrm>
                <a:custGeom>
                  <a:avLst/>
                  <a:gdLst/>
                  <a:ahLst/>
                  <a:rect l="l" t="t" r="r" b="b"/>
                  <a:pathLst>
                    <a:path w="92" h="49">
                      <a:moveTo>
                        <a:pt x="0" y="0"/>
                      </a:moveTo>
                      <a:cubicBezTo>
                        <a:pt x="1" y="6"/>
                        <a:pt x="9" y="39"/>
                        <a:pt x="12" y="40"/>
                      </a:cubicBezTo>
                      <a:cubicBezTo>
                        <a:pt x="20" y="43"/>
                        <a:pt x="36" y="48"/>
                        <a:pt x="36" y="48"/>
                      </a:cubicBezTo>
                      <a:cubicBezTo>
                        <a:pt x="48" y="47"/>
                        <a:pt x="73" y="49"/>
                        <a:pt x="84" y="36"/>
                      </a:cubicBezTo>
                      <a:cubicBezTo>
                        <a:pt x="90" y="28"/>
                        <a:pt x="92" y="8"/>
                        <a:pt x="92" y="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620960" y="1565280"/>
                <a:ext cx="218880" cy="491760"/>
                <a:chOff x="4620960" y="1565280"/>
                <a:chExt cx="218880" cy="4917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735080" y="1565280"/>
                  <a:ext cx="0" cy="438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9" name=""/>
                <p:cNvGrpSpPr/>
                <p:nvPr/>
              </p:nvGrpSpPr>
              <p:grpSpPr>
                <a:xfrm>
                  <a:off x="4620960" y="1977840"/>
                  <a:ext cx="218880" cy="79200"/>
                  <a:chOff x="4620960" y="1977840"/>
                  <a:chExt cx="218880" cy="79200"/>
                </a:xfrm>
              </p:grpSpPr>
              <p:sp>
                <p:nvSpPr>
                  <p:cNvPr id="1280" name=""/>
                  <p:cNvSpPr/>
                  <p:nvPr/>
                </p:nvSpPr>
                <p:spPr>
                  <a:xfrm>
                    <a:off x="4642920" y="1977840"/>
                    <a:ext cx="1731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49">
                        <a:moveTo>
                          <a:pt x="0" y="0"/>
                        </a:moveTo>
                        <a:cubicBezTo>
                          <a:pt x="1" y="6"/>
                          <a:pt x="9" y="39"/>
                          <a:pt x="12" y="40"/>
                        </a:cubicBezTo>
                        <a:cubicBezTo>
                          <a:pt x="20" y="43"/>
                          <a:pt x="36" y="48"/>
                          <a:pt x="36" y="48"/>
                        </a:cubicBezTo>
                        <a:cubicBezTo>
                          <a:pt x="48" y="47"/>
                          <a:pt x="73" y="49"/>
                          <a:pt x="84" y="36"/>
                        </a:cubicBezTo>
                        <a:cubicBezTo>
                          <a:pt x="90" y="28"/>
                          <a:pt x="92" y="8"/>
                          <a:pt x="92" y="8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4620960" y="1977840"/>
                    <a:ext cx="218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82" name=""/>
          <p:cNvGrpSpPr/>
          <p:nvPr/>
        </p:nvGrpSpPr>
        <p:grpSpPr>
          <a:xfrm>
            <a:off x="4251240" y="3044880"/>
            <a:ext cx="1314000" cy="592920"/>
            <a:chOff x="4251240" y="3044880"/>
            <a:chExt cx="1314000" cy="592920"/>
          </a:xfrm>
        </p:grpSpPr>
        <p:grpSp>
          <p:nvGrpSpPr>
            <p:cNvPr id="1283" name=""/>
            <p:cNvGrpSpPr/>
            <p:nvPr/>
          </p:nvGrpSpPr>
          <p:grpSpPr>
            <a:xfrm>
              <a:off x="4251240" y="3044880"/>
              <a:ext cx="1314000" cy="133200"/>
              <a:chOff x="4251240" y="3044880"/>
              <a:chExt cx="1314000" cy="133200"/>
            </a:xfrm>
          </p:grpSpPr>
          <p:sp>
            <p:nvSpPr>
              <p:cNvPr id="1284" name=""/>
              <p:cNvSpPr/>
              <p:nvPr/>
            </p:nvSpPr>
            <p:spPr>
              <a:xfrm>
                <a:off x="5092200" y="3044880"/>
                <a:ext cx="47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4251240" y="3044880"/>
                <a:ext cx="47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>
                <a:off x="4671720" y="3044880"/>
                <a:ext cx="420480" cy="13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7" name=""/>
            <p:cNvSpPr/>
            <p:nvPr/>
          </p:nvSpPr>
          <p:spPr>
            <a:xfrm>
              <a:off x="4426920" y="3178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常开触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4254480" y="4492800"/>
            <a:ext cx="1276200" cy="688320"/>
            <a:chOff x="4254480" y="4492800"/>
            <a:chExt cx="1276200" cy="688320"/>
          </a:xfrm>
        </p:grpSpPr>
        <p:sp>
          <p:nvSpPr>
            <p:cNvPr id="1289" name=""/>
            <p:cNvSpPr/>
            <p:nvPr/>
          </p:nvSpPr>
          <p:spPr>
            <a:xfrm>
              <a:off x="4426920" y="4492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常闭触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0" name=""/>
            <p:cNvGrpSpPr/>
            <p:nvPr/>
          </p:nvGrpSpPr>
          <p:grpSpPr>
            <a:xfrm>
              <a:off x="4254480" y="4971600"/>
              <a:ext cx="1276200" cy="209520"/>
              <a:chOff x="4254480" y="4971600"/>
              <a:chExt cx="1276200" cy="209520"/>
            </a:xfrm>
          </p:grpSpPr>
          <p:sp>
            <p:nvSpPr>
              <p:cNvPr id="1291" name=""/>
              <p:cNvSpPr/>
              <p:nvPr/>
            </p:nvSpPr>
            <p:spPr>
              <a:xfrm>
                <a:off x="5071320" y="518112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254480" y="518112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 flipV="1">
                <a:off x="4611600" y="5013720"/>
                <a:ext cx="459360" cy="1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V="1">
                <a:off x="4662720" y="4971600"/>
                <a:ext cx="0" cy="209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5" name=""/>
          <p:cNvSpPr/>
          <p:nvPr/>
        </p:nvSpPr>
        <p:spPr>
          <a:xfrm>
            <a:off x="2495520" y="1009800"/>
            <a:ext cx="419040" cy="1066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009800" y="1854360"/>
            <a:ext cx="1906560" cy="3841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523880" y="1009800"/>
            <a:ext cx="857520" cy="304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09800" y="1009800"/>
            <a:ext cx="361800" cy="8460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1485720" y="1028880"/>
            <a:ext cx="247320" cy="24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H="1">
            <a:off x="2152440" y="1066680"/>
            <a:ext cx="22860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1999800" y="9907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H="1">
            <a:off x="1828440" y="1028880"/>
            <a:ext cx="266760" cy="26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1638000" y="1028880"/>
            <a:ext cx="266760" cy="26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2457360" y="1012680"/>
            <a:ext cx="24768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2533680" y="1352160"/>
            <a:ext cx="399960" cy="39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2533680" y="971640"/>
            <a:ext cx="399960" cy="36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2552760" y="1142640"/>
            <a:ext cx="399960" cy="39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>
            <a:off x="2628720" y="1562040"/>
            <a:ext cx="28548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1028880" y="990720"/>
            <a:ext cx="209520" cy="20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990720" y="1009440"/>
            <a:ext cx="399960" cy="39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1028880" y="1180800"/>
            <a:ext cx="361800" cy="36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990720" y="1371240"/>
            <a:ext cx="399960" cy="39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1104480" y="1581120"/>
            <a:ext cx="266760" cy="26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181160" y="1843200"/>
            <a:ext cx="16992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476440" y="990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2500200" y="990720"/>
            <a:ext cx="0" cy="304200"/>
            <a:chOff x="2500200" y="990720"/>
            <a:chExt cx="0" cy="304200"/>
          </a:xfrm>
        </p:grpSpPr>
        <p:sp>
          <p:nvSpPr>
            <p:cNvPr id="1317" name=""/>
            <p:cNvSpPr/>
            <p:nvPr/>
          </p:nvSpPr>
          <p:spPr>
            <a:xfrm>
              <a:off x="2500200" y="990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500200" y="1218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1352520" y="838080"/>
            <a:ext cx="19044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333440" y="838080"/>
            <a:ext cx="2286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>
            <a:off x="1333440" y="654120"/>
            <a:ext cx="169920" cy="4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363680" y="698400"/>
            <a:ext cx="179280" cy="4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>
            <a:off x="1342800" y="733320"/>
            <a:ext cx="190440" cy="61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373040" y="790560"/>
            <a:ext cx="160560" cy="4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1342800" y="830160"/>
            <a:ext cx="190440" cy="60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370160" y="87624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333440" y="950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1295280" y="647640"/>
            <a:ext cx="28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523880" y="533520"/>
            <a:ext cx="38160" cy="9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447920" y="533520"/>
            <a:ext cx="38160" cy="9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371600" y="533520"/>
            <a:ext cx="38160" cy="9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293840" y="533520"/>
            <a:ext cx="38160" cy="9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457360" y="1077840"/>
            <a:ext cx="92160" cy="20880"/>
          </a:xfrm>
          <a:custGeom>
            <a:avLst/>
            <a:gdLst/>
            <a:ahLst/>
            <a:rect l="l" t="t" r="r" b="b"/>
            <a:pathLst>
              <a:path w="58" h="13">
                <a:moveTo>
                  <a:pt x="0" y="13"/>
                </a:moveTo>
                <a:cubicBezTo>
                  <a:pt x="58" y="5"/>
                  <a:pt x="7" y="0"/>
                  <a:pt x="0" y="13"/>
                </a:cubicBezTo>
                <a:close/>
              </a:path>
            </a:pathLst>
          </a:custGeom>
          <a:solidFill>
            <a:srgbClr val="ff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371600" y="1314360"/>
            <a:ext cx="1181160" cy="70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85960" y="1752480"/>
            <a:ext cx="26208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549440" y="1630440"/>
            <a:ext cx="77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459080" y="1746360"/>
            <a:ext cx="104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2247840" y="1616040"/>
            <a:ext cx="285480" cy="191880"/>
            <a:chOff x="2247840" y="1616040"/>
            <a:chExt cx="285480" cy="191880"/>
          </a:xfrm>
        </p:grpSpPr>
        <p:grpSp>
          <p:nvGrpSpPr>
            <p:cNvPr id="1339" name=""/>
            <p:cNvGrpSpPr/>
            <p:nvPr/>
          </p:nvGrpSpPr>
          <p:grpSpPr>
            <a:xfrm>
              <a:off x="2247840" y="1616040"/>
              <a:ext cx="218880" cy="130680"/>
              <a:chOff x="2247840" y="1616040"/>
              <a:chExt cx="218880" cy="130680"/>
            </a:xfrm>
          </p:grpSpPr>
          <p:sp>
            <p:nvSpPr>
              <p:cNvPr id="1340" name=""/>
              <p:cNvSpPr/>
              <p:nvPr/>
            </p:nvSpPr>
            <p:spPr>
              <a:xfrm>
                <a:off x="2247840" y="1616040"/>
                <a:ext cx="162000" cy="78480"/>
              </a:xfrm>
              <a:custGeom>
                <a:avLst/>
                <a:gdLst/>
                <a:ahLst/>
                <a:rect l="l" t="t" r="r" b="b"/>
                <a:pathLst>
                  <a:path w="102" h="54">
                    <a:moveTo>
                      <a:pt x="0" y="0"/>
                    </a:moveTo>
                    <a:cubicBezTo>
                      <a:pt x="40" y="13"/>
                      <a:pt x="71" y="23"/>
                      <a:pt x="102" y="5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400120" y="1703160"/>
                <a:ext cx="66600" cy="435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0"/>
                    </a:moveTo>
                    <a:cubicBezTo>
                      <a:pt x="22" y="7"/>
                      <a:pt x="23" y="20"/>
                      <a:pt x="42" y="3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>
              <a:off x="2419200" y="170316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0" y="0"/>
                  </a:moveTo>
                  <a:cubicBezTo>
                    <a:pt x="13" y="13"/>
                    <a:pt x="46" y="45"/>
                    <a:pt x="54" y="6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504880" y="179064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0"/>
                  </a:moveTo>
                  <a:cubicBezTo>
                    <a:pt x="6" y="4"/>
                    <a:pt x="18" y="12"/>
                    <a:pt x="18" y="12"/>
                  </a:cubicBezTo>
                  <a:cubicBezTo>
                    <a:pt x="18" y="12"/>
                    <a:pt x="6" y="4"/>
                    <a:pt x="0" y="0"/>
                  </a:cubicBezTo>
                  <a:close/>
                </a:path>
              </a:pathLst>
            </a:custGeom>
            <a:solidFill>
              <a:srgbClr val="ffffcc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1352880" y="1616040"/>
            <a:ext cx="285480" cy="191880"/>
            <a:chOff x="1352880" y="1616040"/>
            <a:chExt cx="285480" cy="191880"/>
          </a:xfrm>
        </p:grpSpPr>
        <p:grpSp>
          <p:nvGrpSpPr>
            <p:cNvPr id="1345" name=""/>
            <p:cNvGrpSpPr/>
            <p:nvPr/>
          </p:nvGrpSpPr>
          <p:grpSpPr>
            <a:xfrm>
              <a:off x="1419480" y="1616040"/>
              <a:ext cx="218880" cy="130680"/>
              <a:chOff x="1419480" y="1616040"/>
              <a:chExt cx="218880" cy="130680"/>
            </a:xfrm>
          </p:grpSpPr>
          <p:sp>
            <p:nvSpPr>
              <p:cNvPr id="1346" name=""/>
              <p:cNvSpPr/>
              <p:nvPr/>
            </p:nvSpPr>
            <p:spPr>
              <a:xfrm flipH="1">
                <a:off x="1476360" y="1616040"/>
                <a:ext cx="162000" cy="78480"/>
              </a:xfrm>
              <a:custGeom>
                <a:avLst/>
                <a:gdLst/>
                <a:ahLst/>
                <a:rect l="l" t="t" r="r" b="b"/>
                <a:pathLst>
                  <a:path w="102" h="54">
                    <a:moveTo>
                      <a:pt x="0" y="0"/>
                    </a:moveTo>
                    <a:cubicBezTo>
                      <a:pt x="40" y="13"/>
                      <a:pt x="71" y="23"/>
                      <a:pt x="102" y="5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>
                <a:off x="1419120" y="1703160"/>
                <a:ext cx="66600" cy="435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0"/>
                    </a:moveTo>
                    <a:cubicBezTo>
                      <a:pt x="22" y="7"/>
                      <a:pt x="23" y="20"/>
                      <a:pt x="42" y="3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8" name=""/>
            <p:cNvSpPr/>
            <p:nvPr/>
          </p:nvSpPr>
          <p:spPr>
            <a:xfrm flipH="1">
              <a:off x="1381320" y="170316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0" y="0"/>
                  </a:moveTo>
                  <a:cubicBezTo>
                    <a:pt x="13" y="13"/>
                    <a:pt x="46" y="45"/>
                    <a:pt x="54" y="6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1352520" y="179064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0"/>
                  </a:moveTo>
                  <a:cubicBezTo>
                    <a:pt x="6" y="4"/>
                    <a:pt x="18" y="12"/>
                    <a:pt x="18" y="12"/>
                  </a:cubicBezTo>
                  <a:cubicBezTo>
                    <a:pt x="18" y="12"/>
                    <a:pt x="6" y="4"/>
                    <a:pt x="0" y="0"/>
                  </a:cubicBezTo>
                  <a:close/>
                </a:path>
              </a:pathLst>
            </a:custGeom>
            <a:solidFill>
              <a:srgbClr val="ffffcc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0" name=""/>
          <p:cNvSpPr/>
          <p:nvPr/>
        </p:nvSpPr>
        <p:spPr>
          <a:xfrm flipV="1">
            <a:off x="2913120" y="990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990720" y="1822320"/>
            <a:ext cx="1925640" cy="433080"/>
            <a:chOff x="990720" y="1822320"/>
            <a:chExt cx="1925640" cy="433080"/>
          </a:xfrm>
        </p:grpSpPr>
        <p:sp>
          <p:nvSpPr>
            <p:cNvPr id="1352" name=""/>
            <p:cNvSpPr/>
            <p:nvPr/>
          </p:nvSpPr>
          <p:spPr>
            <a:xfrm>
              <a:off x="2764080" y="1854000"/>
              <a:ext cx="13320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554560" y="1822320"/>
              <a:ext cx="361800" cy="30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990720" y="1998360"/>
              <a:ext cx="304920" cy="25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009800" y="1854000"/>
              <a:ext cx="476280" cy="39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352880" y="1982520"/>
              <a:ext cx="304560" cy="25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325960" y="2014200"/>
              <a:ext cx="28404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116440" y="2014200"/>
              <a:ext cx="304560" cy="24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638360" y="2030040"/>
              <a:ext cx="1810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535480" y="2014200"/>
              <a:ext cx="247680" cy="20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075040" y="2141280"/>
              <a:ext cx="12528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1728720" y="2778120"/>
            <a:ext cx="331560" cy="593640"/>
            <a:chOff x="1728720" y="2778120"/>
            <a:chExt cx="331560" cy="593640"/>
          </a:xfrm>
        </p:grpSpPr>
        <p:grpSp>
          <p:nvGrpSpPr>
            <p:cNvPr id="1363" name=""/>
            <p:cNvGrpSpPr/>
            <p:nvPr/>
          </p:nvGrpSpPr>
          <p:grpSpPr>
            <a:xfrm>
              <a:off x="1728720" y="3124080"/>
              <a:ext cx="331560" cy="247680"/>
              <a:chOff x="1728720" y="3124080"/>
              <a:chExt cx="331560" cy="247680"/>
            </a:xfrm>
          </p:grpSpPr>
          <p:sp>
            <p:nvSpPr>
              <p:cNvPr id="1364" name=""/>
              <p:cNvSpPr/>
              <p:nvPr/>
            </p:nvSpPr>
            <p:spPr>
              <a:xfrm>
                <a:off x="1750680" y="3124080"/>
                <a:ext cx="306360" cy="2476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971360" y="3200400"/>
                <a:ext cx="7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971360" y="3124080"/>
                <a:ext cx="76320" cy="763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971360" y="3200400"/>
                <a:ext cx="7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742760" y="3200400"/>
                <a:ext cx="15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1728720" y="3149640"/>
                <a:ext cx="77760" cy="727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49" y="0"/>
                    </a:moveTo>
                    <a:cubicBezTo>
                      <a:pt x="41" y="5"/>
                      <a:pt x="25" y="6"/>
                      <a:pt x="25" y="16"/>
                    </a:cubicBezTo>
                    <a:cubicBezTo>
                      <a:pt x="25" y="24"/>
                      <a:pt x="49" y="32"/>
                      <a:pt x="49" y="24"/>
                    </a:cubicBezTo>
                    <a:cubicBezTo>
                      <a:pt x="49" y="14"/>
                      <a:pt x="33" y="13"/>
                      <a:pt x="25" y="8"/>
                    </a:cubicBezTo>
                    <a:cubicBezTo>
                      <a:pt x="0" y="46"/>
                      <a:pt x="1" y="38"/>
                      <a:pt x="49" y="0"/>
                    </a:cubicBez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022120" y="3149640"/>
                <a:ext cx="38160" cy="2520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0" y="0"/>
                    </a:moveTo>
                    <a:cubicBezTo>
                      <a:pt x="8" y="5"/>
                      <a:pt x="24" y="16"/>
                      <a:pt x="24" y="16"/>
                    </a:cubicBezTo>
                    <a:cubicBezTo>
                      <a:pt x="24" y="16"/>
                      <a:pt x="8" y="5"/>
                      <a:pt x="0" y="0"/>
                    </a:cubicBez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1" name=""/>
            <p:cNvSpPr/>
            <p:nvPr/>
          </p:nvSpPr>
          <p:spPr>
            <a:xfrm>
              <a:off x="1815840" y="2778120"/>
              <a:ext cx="179280" cy="428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2844720" y="2325600"/>
            <a:ext cx="387360" cy="379440"/>
            <a:chOff x="2844720" y="2325600"/>
            <a:chExt cx="387360" cy="379440"/>
          </a:xfrm>
        </p:grpSpPr>
        <p:sp>
          <p:nvSpPr>
            <p:cNvPr id="1373" name=""/>
            <p:cNvSpPr/>
            <p:nvPr/>
          </p:nvSpPr>
          <p:spPr>
            <a:xfrm>
              <a:off x="2990520" y="2571480"/>
              <a:ext cx="95400" cy="95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 flipV="1">
              <a:off x="2915280" y="2437560"/>
              <a:ext cx="244440" cy="2667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000240" y="269244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8"/>
                  </a:moveTo>
                  <a:cubicBezTo>
                    <a:pt x="8" y="6"/>
                    <a:pt x="32" y="0"/>
                    <a:pt x="24" y="2"/>
                  </a:cubicBezTo>
                  <a:cubicBezTo>
                    <a:pt x="16" y="4"/>
                    <a:pt x="8" y="6"/>
                    <a:pt x="0" y="8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016080" y="2685960"/>
              <a:ext cx="60480" cy="936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14" y="6"/>
                  </a:moveTo>
                  <a:cubicBezTo>
                    <a:pt x="20" y="4"/>
                    <a:pt x="38" y="0"/>
                    <a:pt x="32" y="0"/>
                  </a:cubicBezTo>
                  <a:cubicBezTo>
                    <a:pt x="24" y="0"/>
                    <a:pt x="0" y="6"/>
                    <a:pt x="8" y="6"/>
                  </a:cubicBezTo>
                  <a:cubicBezTo>
                    <a:pt x="10" y="6"/>
                    <a:pt x="12" y="6"/>
                    <a:pt x="14" y="6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114360" y="2438280"/>
              <a:ext cx="7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79440" y="243828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844720" y="24382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2885760" y="2325600"/>
              <a:ext cx="3816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2962080" y="2325600"/>
              <a:ext cx="3816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3038400" y="2325600"/>
              <a:ext cx="3816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3116160" y="2325600"/>
              <a:ext cx="3816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3190680" y="2332080"/>
              <a:ext cx="3816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1092240" y="3614760"/>
            <a:ext cx="1600200" cy="569880"/>
            <a:chOff x="1092240" y="3614760"/>
            <a:chExt cx="1600200" cy="569880"/>
          </a:xfrm>
        </p:grpSpPr>
        <p:sp>
          <p:nvSpPr>
            <p:cNvPr id="1386" name=""/>
            <p:cNvSpPr/>
            <p:nvPr/>
          </p:nvSpPr>
          <p:spPr>
            <a:xfrm>
              <a:off x="1105200" y="3614760"/>
              <a:ext cx="0" cy="55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105200" y="41482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257480" y="3824280"/>
              <a:ext cx="0" cy="34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771920" y="3824280"/>
              <a:ext cx="0" cy="34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276560" y="3843360"/>
              <a:ext cx="49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057400" y="3862440"/>
              <a:ext cx="49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686320" y="3614760"/>
              <a:ext cx="0" cy="55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2533680" y="414828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533680" y="3843360"/>
              <a:ext cx="0" cy="3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5" name=""/>
            <p:cNvGrpSpPr/>
            <p:nvPr/>
          </p:nvGrpSpPr>
          <p:grpSpPr>
            <a:xfrm>
              <a:off x="1771920" y="3841920"/>
              <a:ext cx="285480" cy="342720"/>
              <a:chOff x="1771920" y="3841920"/>
              <a:chExt cx="285480" cy="342720"/>
            </a:xfrm>
          </p:grpSpPr>
          <p:sp>
            <p:nvSpPr>
              <p:cNvPr id="1396" name=""/>
              <p:cNvSpPr/>
              <p:nvPr/>
            </p:nvSpPr>
            <p:spPr>
              <a:xfrm>
                <a:off x="2038680" y="3841920"/>
                <a:ext cx="0" cy="34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1771920" y="4165560"/>
                <a:ext cx="28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8" name=""/>
            <p:cNvSpPr/>
            <p:nvPr/>
          </p:nvSpPr>
          <p:spPr>
            <a:xfrm>
              <a:off x="1092240" y="361476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1819080" y="4416480"/>
            <a:ext cx="136800" cy="136440"/>
            <a:chOff x="1819080" y="4416480"/>
            <a:chExt cx="136800" cy="136440"/>
          </a:xfrm>
        </p:grpSpPr>
        <p:sp>
          <p:nvSpPr>
            <p:cNvPr id="1400" name=""/>
            <p:cNvSpPr/>
            <p:nvPr/>
          </p:nvSpPr>
          <p:spPr>
            <a:xfrm>
              <a:off x="1819440" y="4416480"/>
              <a:ext cx="136440" cy="136440"/>
            </a:xfrm>
            <a:prstGeom prst="line">
              <a:avLst/>
            </a:prstGeom>
            <a:ln w="38160">
              <a:solidFill>
                <a:srgbClr val="f0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1819080" y="4416480"/>
              <a:ext cx="136440" cy="136440"/>
            </a:xfrm>
            <a:prstGeom prst="line">
              <a:avLst/>
            </a:prstGeom>
            <a:ln w="38160">
              <a:solidFill>
                <a:srgbClr val="f0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1638360" y="2762280"/>
            <a:ext cx="533520" cy="12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1819440" y="3352680"/>
            <a:ext cx="159840" cy="1269720"/>
            <a:chOff x="1819440" y="3352680"/>
            <a:chExt cx="159840" cy="1269720"/>
          </a:xfrm>
        </p:grpSpPr>
        <p:grpSp>
          <p:nvGrpSpPr>
            <p:cNvPr id="1404" name=""/>
            <p:cNvGrpSpPr/>
            <p:nvPr/>
          </p:nvGrpSpPr>
          <p:grpSpPr>
            <a:xfrm>
              <a:off x="1819440" y="3352680"/>
              <a:ext cx="159480" cy="1269360"/>
              <a:chOff x="1819440" y="3352680"/>
              <a:chExt cx="159480" cy="1269360"/>
            </a:xfrm>
          </p:grpSpPr>
          <p:sp>
            <p:nvSpPr>
              <p:cNvPr id="1405" name=""/>
              <p:cNvSpPr/>
              <p:nvPr/>
            </p:nvSpPr>
            <p:spPr>
              <a:xfrm>
                <a:off x="1819440" y="3352680"/>
                <a:ext cx="0" cy="126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978920" y="3352680"/>
                <a:ext cx="0" cy="126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7" name=""/>
            <p:cNvSpPr/>
            <p:nvPr/>
          </p:nvSpPr>
          <p:spPr>
            <a:xfrm>
              <a:off x="1819440" y="4622400"/>
              <a:ext cx="15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1722600" y="2209680"/>
            <a:ext cx="393120" cy="527040"/>
            <a:chOff x="1722600" y="2209680"/>
            <a:chExt cx="393120" cy="527040"/>
          </a:xfrm>
        </p:grpSpPr>
        <p:sp>
          <p:nvSpPr>
            <p:cNvPr id="1409" name=""/>
            <p:cNvSpPr/>
            <p:nvPr/>
          </p:nvSpPr>
          <p:spPr>
            <a:xfrm>
              <a:off x="1731600" y="2361960"/>
              <a:ext cx="36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074680" y="2489040"/>
              <a:ext cx="41040" cy="88920"/>
            </a:xfrm>
            <a:custGeom>
              <a:avLst/>
              <a:gdLst/>
              <a:ahLst/>
              <a:rect l="l" t="t" r="r" b="b"/>
              <a:pathLst>
                <a:path w="26" h="56">
                  <a:moveTo>
                    <a:pt x="0" y="0"/>
                  </a:moveTo>
                  <a:cubicBezTo>
                    <a:pt x="3" y="4"/>
                    <a:pt x="5" y="9"/>
                    <a:pt x="8" y="12"/>
                  </a:cubicBezTo>
                  <a:cubicBezTo>
                    <a:pt x="11" y="15"/>
                    <a:pt x="19" y="15"/>
                    <a:pt x="20" y="20"/>
                  </a:cubicBezTo>
                  <a:cubicBezTo>
                    <a:pt x="26" y="45"/>
                    <a:pt x="12" y="44"/>
                    <a:pt x="0" y="5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761840" y="2616120"/>
              <a:ext cx="285480" cy="12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1739160" y="2536560"/>
              <a:ext cx="40680" cy="88920"/>
            </a:xfrm>
            <a:custGeom>
              <a:avLst/>
              <a:gdLst/>
              <a:ahLst/>
              <a:rect l="l" t="t" r="r" b="b"/>
              <a:pathLst>
                <a:path w="26" h="56">
                  <a:moveTo>
                    <a:pt x="0" y="0"/>
                  </a:moveTo>
                  <a:cubicBezTo>
                    <a:pt x="3" y="4"/>
                    <a:pt x="5" y="9"/>
                    <a:pt x="8" y="12"/>
                  </a:cubicBezTo>
                  <a:cubicBezTo>
                    <a:pt x="11" y="15"/>
                    <a:pt x="19" y="15"/>
                    <a:pt x="20" y="20"/>
                  </a:cubicBezTo>
                  <a:cubicBezTo>
                    <a:pt x="26" y="45"/>
                    <a:pt x="12" y="44"/>
                    <a:pt x="0" y="5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3" name=""/>
            <p:cNvGrpSpPr/>
            <p:nvPr/>
          </p:nvGrpSpPr>
          <p:grpSpPr>
            <a:xfrm>
              <a:off x="1731600" y="2428920"/>
              <a:ext cx="372600" cy="269640"/>
              <a:chOff x="1731600" y="2428920"/>
              <a:chExt cx="372600" cy="269640"/>
            </a:xfrm>
          </p:grpSpPr>
          <p:sp>
            <p:nvSpPr>
              <p:cNvPr id="1414" name=""/>
              <p:cNvSpPr/>
              <p:nvPr/>
            </p:nvSpPr>
            <p:spPr>
              <a:xfrm>
                <a:off x="1731600" y="2476440"/>
                <a:ext cx="36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2063160" y="2609640"/>
                <a:ext cx="41040" cy="88920"/>
              </a:xfrm>
              <a:custGeom>
                <a:avLst/>
                <a:gdLst/>
                <a:ahLst/>
                <a:rect l="l" t="t" r="r" b="b"/>
                <a:pathLst>
                  <a:path w="26" h="56">
                    <a:moveTo>
                      <a:pt x="0" y="0"/>
                    </a:moveTo>
                    <a:cubicBezTo>
                      <a:pt x="3" y="4"/>
                      <a:pt x="5" y="9"/>
                      <a:pt x="8" y="12"/>
                    </a:cubicBezTo>
                    <a:cubicBezTo>
                      <a:pt x="11" y="15"/>
                      <a:pt x="19" y="15"/>
                      <a:pt x="20" y="20"/>
                    </a:cubicBezTo>
                    <a:cubicBezTo>
                      <a:pt x="26" y="45"/>
                      <a:pt x="12" y="44"/>
                      <a:pt x="0" y="5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737720" y="2428920"/>
                <a:ext cx="33120" cy="5688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0"/>
                    </a:moveTo>
                    <a:cubicBezTo>
                      <a:pt x="15" y="2"/>
                      <a:pt x="5" y="0"/>
                      <a:pt x="3" y="6"/>
                    </a:cubicBezTo>
                    <a:cubicBezTo>
                      <a:pt x="0" y="16"/>
                      <a:pt x="9" y="36"/>
                      <a:pt x="9" y="3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1742760" y="2209680"/>
              <a:ext cx="372600" cy="269640"/>
              <a:chOff x="1742760" y="2209680"/>
              <a:chExt cx="372600" cy="269640"/>
            </a:xfrm>
          </p:grpSpPr>
          <p:sp>
            <p:nvSpPr>
              <p:cNvPr id="1418" name=""/>
              <p:cNvSpPr/>
              <p:nvPr/>
            </p:nvSpPr>
            <p:spPr>
              <a:xfrm>
                <a:off x="1742760" y="2257200"/>
                <a:ext cx="36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074320" y="2390400"/>
                <a:ext cx="41040" cy="88920"/>
              </a:xfrm>
              <a:custGeom>
                <a:avLst/>
                <a:gdLst/>
                <a:ahLst/>
                <a:rect l="l" t="t" r="r" b="b"/>
                <a:pathLst>
                  <a:path w="26" h="56">
                    <a:moveTo>
                      <a:pt x="0" y="0"/>
                    </a:moveTo>
                    <a:cubicBezTo>
                      <a:pt x="3" y="4"/>
                      <a:pt x="5" y="9"/>
                      <a:pt x="8" y="12"/>
                    </a:cubicBezTo>
                    <a:cubicBezTo>
                      <a:pt x="11" y="15"/>
                      <a:pt x="19" y="15"/>
                      <a:pt x="20" y="20"/>
                    </a:cubicBezTo>
                    <a:cubicBezTo>
                      <a:pt x="26" y="45"/>
                      <a:pt x="12" y="44"/>
                      <a:pt x="0" y="5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748880" y="2209680"/>
                <a:ext cx="33120" cy="5688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0"/>
                    </a:moveTo>
                    <a:cubicBezTo>
                      <a:pt x="15" y="2"/>
                      <a:pt x="5" y="0"/>
                      <a:pt x="3" y="6"/>
                    </a:cubicBezTo>
                    <a:cubicBezTo>
                      <a:pt x="0" y="16"/>
                      <a:pt x="9" y="36"/>
                      <a:pt x="9" y="3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1" name=""/>
            <p:cNvSpPr/>
            <p:nvPr/>
          </p:nvSpPr>
          <p:spPr>
            <a:xfrm flipH="1">
              <a:off x="1722600" y="2286000"/>
              <a:ext cx="41040" cy="88920"/>
            </a:xfrm>
            <a:custGeom>
              <a:avLst/>
              <a:gdLst/>
              <a:ahLst/>
              <a:rect l="l" t="t" r="r" b="b"/>
              <a:pathLst>
                <a:path w="26" h="56">
                  <a:moveTo>
                    <a:pt x="0" y="0"/>
                  </a:moveTo>
                  <a:cubicBezTo>
                    <a:pt x="3" y="4"/>
                    <a:pt x="5" y="9"/>
                    <a:pt x="8" y="12"/>
                  </a:cubicBezTo>
                  <a:cubicBezTo>
                    <a:pt x="11" y="15"/>
                    <a:pt x="19" y="15"/>
                    <a:pt x="20" y="20"/>
                  </a:cubicBezTo>
                  <a:cubicBezTo>
                    <a:pt x="26" y="45"/>
                    <a:pt x="12" y="44"/>
                    <a:pt x="0" y="5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2" name=""/>
          <p:cNvGrpSpPr/>
          <p:nvPr/>
        </p:nvGrpSpPr>
        <p:grpSpPr>
          <a:xfrm>
            <a:off x="3267000" y="3962520"/>
            <a:ext cx="2416320" cy="701280"/>
            <a:chOff x="3267000" y="3962520"/>
            <a:chExt cx="2416320" cy="701280"/>
          </a:xfrm>
        </p:grpSpPr>
        <p:sp>
          <p:nvSpPr>
            <p:cNvPr id="1423" name=""/>
            <p:cNvSpPr/>
            <p:nvPr/>
          </p:nvSpPr>
          <p:spPr>
            <a:xfrm>
              <a:off x="3341880" y="4171680"/>
              <a:ext cx="119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267000" y="4114440"/>
              <a:ext cx="7488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5" name=""/>
            <p:cNvGrpSpPr/>
            <p:nvPr/>
          </p:nvGrpSpPr>
          <p:grpSpPr>
            <a:xfrm>
              <a:off x="4408560" y="3962520"/>
              <a:ext cx="1274760" cy="342720"/>
              <a:chOff x="4408560" y="3962520"/>
              <a:chExt cx="1274760" cy="342720"/>
            </a:xfrm>
          </p:grpSpPr>
          <p:sp>
            <p:nvSpPr>
              <p:cNvPr id="1426" name=""/>
              <p:cNvSpPr/>
              <p:nvPr/>
            </p:nvSpPr>
            <p:spPr>
              <a:xfrm>
                <a:off x="4408560" y="4266720"/>
                <a:ext cx="121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408560" y="4000320"/>
                <a:ext cx="1200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608800" y="3962520"/>
                <a:ext cx="745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608800" y="4229280"/>
                <a:ext cx="745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V="1">
                <a:off x="4421160" y="4195440"/>
                <a:ext cx="146160" cy="77760"/>
              </a:xfrm>
              <a:custGeom>
                <a:avLst/>
                <a:gdLst/>
                <a:ahLst/>
                <a:rect l="l" t="t" r="r" b="b"/>
                <a:pathLst>
                  <a:path w="92" h="49">
                    <a:moveTo>
                      <a:pt x="0" y="0"/>
                    </a:moveTo>
                    <a:cubicBezTo>
                      <a:pt x="1" y="6"/>
                      <a:pt x="9" y="39"/>
                      <a:pt x="12" y="40"/>
                    </a:cubicBezTo>
                    <a:cubicBezTo>
                      <a:pt x="20" y="43"/>
                      <a:pt x="36" y="48"/>
                      <a:pt x="36" y="48"/>
                    </a:cubicBezTo>
                    <a:cubicBezTo>
                      <a:pt x="48" y="47"/>
                      <a:pt x="73" y="49"/>
                      <a:pt x="84" y="36"/>
                    </a:cubicBezTo>
                    <a:cubicBezTo>
                      <a:pt x="90" y="28"/>
                      <a:pt x="92" y="8"/>
                      <a:pt x="92" y="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415040" y="3990600"/>
                <a:ext cx="145800" cy="77760"/>
              </a:xfrm>
              <a:custGeom>
                <a:avLst/>
                <a:gdLst/>
                <a:ahLst/>
                <a:rect l="l" t="t" r="r" b="b"/>
                <a:pathLst>
                  <a:path w="92" h="49">
                    <a:moveTo>
                      <a:pt x="0" y="0"/>
                    </a:moveTo>
                    <a:cubicBezTo>
                      <a:pt x="1" y="6"/>
                      <a:pt x="9" y="39"/>
                      <a:pt x="12" y="40"/>
                    </a:cubicBezTo>
                    <a:cubicBezTo>
                      <a:pt x="20" y="43"/>
                      <a:pt x="36" y="48"/>
                      <a:pt x="36" y="48"/>
                    </a:cubicBezTo>
                    <a:cubicBezTo>
                      <a:pt x="48" y="47"/>
                      <a:pt x="73" y="49"/>
                      <a:pt x="84" y="36"/>
                    </a:cubicBezTo>
                    <a:cubicBezTo>
                      <a:pt x="90" y="28"/>
                      <a:pt x="92" y="8"/>
                      <a:pt x="92" y="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2" name=""/>
            <p:cNvGrpSpPr/>
            <p:nvPr/>
          </p:nvGrpSpPr>
          <p:grpSpPr>
            <a:xfrm>
              <a:off x="3836880" y="4172040"/>
              <a:ext cx="218880" cy="491760"/>
              <a:chOff x="3836880" y="4172040"/>
              <a:chExt cx="218880" cy="491760"/>
            </a:xfrm>
          </p:grpSpPr>
          <p:sp>
            <p:nvSpPr>
              <p:cNvPr id="1433" name=""/>
              <p:cNvSpPr/>
              <p:nvPr/>
            </p:nvSpPr>
            <p:spPr>
              <a:xfrm>
                <a:off x="3951360" y="4172040"/>
                <a:ext cx="0" cy="43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4" name=""/>
              <p:cNvGrpSpPr/>
              <p:nvPr/>
            </p:nvGrpSpPr>
            <p:grpSpPr>
              <a:xfrm>
                <a:off x="3836880" y="4584600"/>
                <a:ext cx="218880" cy="79200"/>
                <a:chOff x="3836880" y="4584600"/>
                <a:chExt cx="218880" cy="7920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3858840" y="4584600"/>
                  <a:ext cx="173160" cy="79200"/>
                </a:xfrm>
                <a:custGeom>
                  <a:avLst/>
                  <a:gdLst/>
                  <a:ahLst/>
                  <a:rect l="l" t="t" r="r" b="b"/>
                  <a:pathLst>
                    <a:path w="92" h="49">
                      <a:moveTo>
                        <a:pt x="0" y="0"/>
                      </a:moveTo>
                      <a:cubicBezTo>
                        <a:pt x="1" y="6"/>
                        <a:pt x="9" y="39"/>
                        <a:pt x="12" y="40"/>
                      </a:cubicBezTo>
                      <a:cubicBezTo>
                        <a:pt x="20" y="43"/>
                        <a:pt x="36" y="48"/>
                        <a:pt x="36" y="48"/>
                      </a:cubicBezTo>
                      <a:cubicBezTo>
                        <a:pt x="48" y="47"/>
                        <a:pt x="73" y="49"/>
                        <a:pt x="84" y="36"/>
                      </a:cubicBezTo>
                      <a:cubicBezTo>
                        <a:pt x="90" y="28"/>
                        <a:pt x="92" y="8"/>
                        <a:pt x="92" y="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3836880" y="4584600"/>
                  <a:ext cx="218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37" name=""/>
          <p:cNvGrpSpPr/>
          <p:nvPr/>
        </p:nvGrpSpPr>
        <p:grpSpPr>
          <a:xfrm>
            <a:off x="2427120" y="1028880"/>
            <a:ext cx="728640" cy="247320"/>
            <a:chOff x="2427120" y="1028880"/>
            <a:chExt cx="728640" cy="247320"/>
          </a:xfrm>
        </p:grpSpPr>
        <p:sp>
          <p:nvSpPr>
            <p:cNvPr id="1438" name=""/>
            <p:cNvSpPr/>
            <p:nvPr/>
          </p:nvSpPr>
          <p:spPr>
            <a:xfrm>
              <a:off x="2984400" y="1028880"/>
              <a:ext cx="171360" cy="247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477880" y="1085760"/>
              <a:ext cx="542880" cy="151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0" name=""/>
            <p:cNvGrpSpPr/>
            <p:nvPr/>
          </p:nvGrpSpPr>
          <p:grpSpPr>
            <a:xfrm>
              <a:off x="2427120" y="1092240"/>
              <a:ext cx="88920" cy="139320"/>
              <a:chOff x="2427120" y="1092240"/>
              <a:chExt cx="88920" cy="139320"/>
            </a:xfrm>
          </p:grpSpPr>
          <p:sp>
            <p:nvSpPr>
              <p:cNvPr id="1441" name=""/>
              <p:cNvSpPr/>
              <p:nvPr/>
            </p:nvSpPr>
            <p:spPr>
              <a:xfrm flipH="1">
                <a:off x="2483280" y="1102680"/>
                <a:ext cx="2160" cy="125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427120" y="1092240"/>
                <a:ext cx="88920" cy="139320"/>
              </a:xfrm>
              <a:custGeom>
                <a:avLst/>
                <a:gdLst/>
                <a:ahLst/>
                <a:rect l="l" t="t" r="r" b="b"/>
                <a:pathLst>
                  <a:path w="56" h="88">
                    <a:moveTo>
                      <a:pt x="56" y="0"/>
                    </a:moveTo>
                    <a:cubicBezTo>
                      <a:pt x="0" y="19"/>
                      <a:pt x="13" y="0"/>
                      <a:pt x="0" y="40"/>
                    </a:cubicBezTo>
                    <a:cubicBezTo>
                      <a:pt x="3" y="51"/>
                      <a:pt x="2" y="63"/>
                      <a:pt x="8" y="72"/>
                    </a:cubicBezTo>
                    <a:cubicBezTo>
                      <a:pt x="13" y="80"/>
                      <a:pt x="32" y="88"/>
                      <a:pt x="32" y="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3" name=""/>
          <p:cNvSpPr/>
          <p:nvPr/>
        </p:nvSpPr>
        <p:spPr>
          <a:xfrm>
            <a:off x="6214680" y="2652840"/>
            <a:ext cx="2642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空气式时间继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器的延时范围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有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0.4  ~ 60 s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0.4 ~180s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两种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结构简单，但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确度较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296800" y="5791320"/>
            <a:ext cx="47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间继电器的型号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S7-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JSK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多种类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975240" y="791280"/>
            <a:ext cx="258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1. 1.5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热继电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488680" y="130896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用于电动机的过载保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315960" y="54864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继电器外形与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8" name=""/>
          <p:cNvGrpSpPr/>
          <p:nvPr/>
        </p:nvGrpSpPr>
        <p:grpSpPr>
          <a:xfrm>
            <a:off x="838080" y="1995480"/>
            <a:ext cx="2589120" cy="3583800"/>
            <a:chOff x="838080" y="1995480"/>
            <a:chExt cx="2589120" cy="3583800"/>
          </a:xfrm>
        </p:grpSpPr>
        <p:pic>
          <p:nvPicPr>
            <p:cNvPr id="1449" name="热继电器1" descr=""/>
            <p:cNvPicPr/>
            <p:nvPr/>
          </p:nvPicPr>
          <p:blipFill>
            <a:blip r:embed="rId2"/>
            <a:stretch/>
          </p:blipFill>
          <p:spPr>
            <a:xfrm>
              <a:off x="838080" y="1995480"/>
              <a:ext cx="25891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0" name=""/>
            <p:cNvSpPr/>
            <p:nvPr/>
          </p:nvSpPr>
          <p:spPr>
            <a:xfrm>
              <a:off x="1610280" y="5119560"/>
              <a:ext cx="10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外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3809880" y="1995480"/>
            <a:ext cx="4892400" cy="3507840"/>
            <a:chOff x="3809880" y="1995480"/>
            <a:chExt cx="4892400" cy="3507840"/>
          </a:xfrm>
        </p:grpSpPr>
        <p:pic>
          <p:nvPicPr>
            <p:cNvPr id="1452" name="热继电器2" descr=""/>
            <p:cNvPicPr/>
            <p:nvPr/>
          </p:nvPicPr>
          <p:blipFill>
            <a:blip r:embed="rId3"/>
            <a:stretch/>
          </p:blipFill>
          <p:spPr>
            <a:xfrm>
              <a:off x="3809880" y="1995480"/>
              <a:ext cx="263988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3" name="热继电器3" descr=""/>
            <p:cNvPicPr/>
            <p:nvPr/>
          </p:nvPicPr>
          <p:blipFill>
            <a:blip r:embed="rId4"/>
            <a:stretch/>
          </p:blipFill>
          <p:spPr>
            <a:xfrm>
              <a:off x="6553080" y="2300400"/>
              <a:ext cx="2149200" cy="25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4" name=""/>
            <p:cNvSpPr/>
            <p:nvPr/>
          </p:nvSpPr>
          <p:spPr>
            <a:xfrm>
              <a:off x="5725440" y="5043600"/>
              <a:ext cx="106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5" name=""/>
          <p:cNvGrpSpPr/>
          <p:nvPr/>
        </p:nvGrpSpPr>
        <p:grpSpPr>
          <a:xfrm>
            <a:off x="2706840" y="1261080"/>
            <a:ext cx="4495680" cy="2857680"/>
            <a:chOff x="2706840" y="1261080"/>
            <a:chExt cx="4495680" cy="2857680"/>
          </a:xfrm>
        </p:grpSpPr>
        <p:sp>
          <p:nvSpPr>
            <p:cNvPr id="1456" name=""/>
            <p:cNvSpPr/>
            <p:nvPr/>
          </p:nvSpPr>
          <p:spPr>
            <a:xfrm>
              <a:off x="6516720" y="2557080"/>
              <a:ext cx="76320" cy="7596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516720" y="2176200"/>
              <a:ext cx="763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6669360" y="2557080"/>
              <a:ext cx="0" cy="68544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202200" y="2388960"/>
              <a:ext cx="3314520" cy="918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0" name=""/>
            <p:cNvGrpSpPr/>
            <p:nvPr/>
          </p:nvGrpSpPr>
          <p:grpSpPr>
            <a:xfrm>
              <a:off x="2706840" y="2118960"/>
              <a:ext cx="781200" cy="1104480"/>
              <a:chOff x="2706840" y="2118960"/>
              <a:chExt cx="781200" cy="1104480"/>
            </a:xfrm>
          </p:grpSpPr>
          <p:sp>
            <p:nvSpPr>
              <p:cNvPr id="1461" name=""/>
              <p:cNvSpPr/>
              <p:nvPr/>
            </p:nvSpPr>
            <p:spPr>
              <a:xfrm>
                <a:off x="2706840" y="2118960"/>
                <a:ext cx="781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468960" y="2118960"/>
                <a:ext cx="0" cy="110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183120" y="2137680"/>
                <a:ext cx="266760" cy="26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011760" y="2118960"/>
                <a:ext cx="45720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878560" y="2137680"/>
                <a:ext cx="190440" cy="19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240360" y="2842560"/>
                <a:ext cx="20952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221280" y="2671200"/>
                <a:ext cx="20952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278520" y="255672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5069160" y="3242880"/>
              <a:ext cx="2113920" cy="875880"/>
              <a:chOff x="5069160" y="3242880"/>
              <a:chExt cx="2113920" cy="875880"/>
            </a:xfrm>
          </p:grpSpPr>
          <p:sp>
            <p:nvSpPr>
              <p:cNvPr id="1470" name=""/>
              <p:cNvSpPr/>
              <p:nvPr/>
            </p:nvSpPr>
            <p:spPr>
              <a:xfrm>
                <a:off x="5621400" y="3242880"/>
                <a:ext cx="0" cy="66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1" name=""/>
              <p:cNvGrpSpPr/>
              <p:nvPr/>
            </p:nvGrpSpPr>
            <p:grpSpPr>
              <a:xfrm>
                <a:off x="5069160" y="3242880"/>
                <a:ext cx="2113920" cy="875880"/>
                <a:chOff x="5069160" y="3242880"/>
                <a:chExt cx="2113920" cy="875880"/>
              </a:xfrm>
            </p:grpSpPr>
            <p:sp>
              <p:nvSpPr>
                <p:cNvPr id="1472" name=""/>
                <p:cNvSpPr/>
                <p:nvPr/>
              </p:nvSpPr>
              <p:spPr>
                <a:xfrm>
                  <a:off x="5069160" y="3242880"/>
                  <a:ext cx="552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5621400" y="3890520"/>
                  <a:ext cx="1561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5487840" y="3280680"/>
                  <a:ext cx="152280" cy="13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5278320" y="3242880"/>
                  <a:ext cx="323640" cy="32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5145120" y="3318840"/>
                  <a:ext cx="399600" cy="39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5678280" y="3890520"/>
                  <a:ext cx="190440" cy="19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6249960" y="3909240"/>
                  <a:ext cx="19008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6402240" y="3890520"/>
                  <a:ext cx="190080" cy="19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6592680" y="3909240"/>
                  <a:ext cx="1904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6764400" y="3909240"/>
                  <a:ext cx="19008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6935760" y="3928320"/>
                  <a:ext cx="19008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5869080" y="3890520"/>
                  <a:ext cx="190080" cy="19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6059520" y="3890520"/>
                  <a:ext cx="190080" cy="19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5411880" y="3833280"/>
                  <a:ext cx="209160" cy="20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6" name=""/>
            <p:cNvSpPr/>
            <p:nvPr/>
          </p:nvSpPr>
          <p:spPr>
            <a:xfrm flipV="1">
              <a:off x="5621400" y="3090240"/>
              <a:ext cx="228600" cy="171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7" name=""/>
            <p:cNvGrpSpPr/>
            <p:nvPr/>
          </p:nvGrpSpPr>
          <p:grpSpPr>
            <a:xfrm>
              <a:off x="5762520" y="2709720"/>
              <a:ext cx="571320" cy="434520"/>
              <a:chOff x="5762520" y="2709720"/>
              <a:chExt cx="571320" cy="434520"/>
            </a:xfrm>
          </p:grpSpPr>
          <p:sp>
            <p:nvSpPr>
              <p:cNvPr id="1488" name=""/>
              <p:cNvSpPr/>
              <p:nvPr/>
            </p:nvSpPr>
            <p:spPr>
              <a:xfrm rot="19718400">
                <a:off x="5796000" y="2964600"/>
                <a:ext cx="114120" cy="16128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rot="19718400">
                <a:off x="5991480" y="2845800"/>
                <a:ext cx="114120" cy="16128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rot="19718400">
                <a:off x="5893560" y="2905200"/>
                <a:ext cx="114120" cy="16128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rot="19718400">
                <a:off x="6185880" y="2727360"/>
                <a:ext cx="114120" cy="16128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rot="19718400">
                <a:off x="6088680" y="2786760"/>
                <a:ext cx="113760" cy="16128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3" name=""/>
            <p:cNvSpPr/>
            <p:nvPr/>
          </p:nvSpPr>
          <p:spPr>
            <a:xfrm>
              <a:off x="3983040" y="1528560"/>
              <a:ext cx="0" cy="8377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145120" y="1566720"/>
              <a:ext cx="0" cy="79956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5221440" y="1642680"/>
              <a:ext cx="0" cy="514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202200" y="2468160"/>
              <a:ext cx="3314520" cy="88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7" name=""/>
            <p:cNvGrpSpPr/>
            <p:nvPr/>
          </p:nvGrpSpPr>
          <p:grpSpPr>
            <a:xfrm>
              <a:off x="6516360" y="3233520"/>
              <a:ext cx="152640" cy="294480"/>
              <a:chOff x="6516360" y="3233520"/>
              <a:chExt cx="152640" cy="294480"/>
            </a:xfrm>
          </p:grpSpPr>
          <p:sp>
            <p:nvSpPr>
              <p:cNvPr id="1498" name=""/>
              <p:cNvSpPr/>
              <p:nvPr/>
            </p:nvSpPr>
            <p:spPr>
              <a:xfrm flipH="1">
                <a:off x="6516360" y="3233520"/>
                <a:ext cx="57240" cy="5256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535800" y="3286080"/>
                <a:ext cx="0" cy="24192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>
                <a:off x="6612120" y="3233520"/>
                <a:ext cx="56880" cy="5256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630840" y="3286080"/>
                <a:ext cx="0" cy="24192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2" name=""/>
            <p:cNvSpPr/>
            <p:nvPr/>
          </p:nvSpPr>
          <p:spPr>
            <a:xfrm flipH="1">
              <a:off x="6364080" y="3624120"/>
              <a:ext cx="152280" cy="2851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593040" y="3605040"/>
              <a:ext cx="152280" cy="30420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V="1">
              <a:off x="6250320" y="2594880"/>
              <a:ext cx="285480" cy="20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969000" y="2347560"/>
              <a:ext cx="260280" cy="293400"/>
            </a:xfrm>
            <a:custGeom>
              <a:avLst/>
              <a:gdLst/>
              <a:ahLst/>
              <a:rect l="l" t="t" r="r" b="b"/>
              <a:pathLst>
                <a:path w="164" h="185">
                  <a:moveTo>
                    <a:pt x="10" y="0"/>
                  </a:moveTo>
                  <a:cubicBezTo>
                    <a:pt x="28" y="57"/>
                    <a:pt x="0" y="100"/>
                    <a:pt x="55" y="137"/>
                  </a:cubicBezTo>
                  <a:cubicBezTo>
                    <a:pt x="71" y="185"/>
                    <a:pt x="83" y="175"/>
                    <a:pt x="128" y="164"/>
                  </a:cubicBezTo>
                  <a:cubicBezTo>
                    <a:pt x="159" y="144"/>
                    <a:pt x="147" y="154"/>
                    <a:pt x="164" y="137"/>
                  </a:cubicBezTo>
                </a:path>
              </a:pathLst>
            </a:custGeom>
            <a:noFill/>
            <a:ln w="5724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287960" y="2327040"/>
              <a:ext cx="461880" cy="323640"/>
            </a:xfrm>
            <a:custGeom>
              <a:avLst/>
              <a:gdLst/>
              <a:ahLst/>
              <a:rect l="l" t="t" r="r" b="b"/>
              <a:pathLst>
                <a:path w="291" h="204">
                  <a:moveTo>
                    <a:pt x="0" y="41"/>
                  </a:moveTo>
                  <a:cubicBezTo>
                    <a:pt x="23" y="6"/>
                    <a:pt x="32" y="0"/>
                    <a:pt x="72" y="13"/>
                  </a:cubicBezTo>
                  <a:cubicBezTo>
                    <a:pt x="87" y="28"/>
                    <a:pt x="106" y="41"/>
                    <a:pt x="118" y="59"/>
                  </a:cubicBezTo>
                  <a:cubicBezTo>
                    <a:pt x="135" y="85"/>
                    <a:pt x="142" y="110"/>
                    <a:pt x="163" y="132"/>
                  </a:cubicBezTo>
                  <a:cubicBezTo>
                    <a:pt x="173" y="163"/>
                    <a:pt x="191" y="177"/>
                    <a:pt x="209" y="204"/>
                  </a:cubicBezTo>
                  <a:cubicBezTo>
                    <a:pt x="275" y="193"/>
                    <a:pt x="253" y="197"/>
                    <a:pt x="291" y="159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687920" y="2328480"/>
              <a:ext cx="462240" cy="306000"/>
            </a:xfrm>
            <a:custGeom>
              <a:avLst/>
              <a:gdLst/>
              <a:ahLst/>
              <a:rect l="l" t="t" r="r" b="b"/>
              <a:pathLst>
                <a:path w="291" h="204">
                  <a:moveTo>
                    <a:pt x="0" y="41"/>
                  </a:moveTo>
                  <a:cubicBezTo>
                    <a:pt x="23" y="6"/>
                    <a:pt x="32" y="0"/>
                    <a:pt x="72" y="13"/>
                  </a:cubicBezTo>
                  <a:cubicBezTo>
                    <a:pt x="87" y="28"/>
                    <a:pt x="106" y="41"/>
                    <a:pt x="118" y="59"/>
                  </a:cubicBezTo>
                  <a:cubicBezTo>
                    <a:pt x="135" y="85"/>
                    <a:pt x="142" y="110"/>
                    <a:pt x="163" y="132"/>
                  </a:cubicBezTo>
                  <a:cubicBezTo>
                    <a:pt x="173" y="163"/>
                    <a:pt x="191" y="177"/>
                    <a:pt x="209" y="204"/>
                  </a:cubicBezTo>
                  <a:cubicBezTo>
                    <a:pt x="275" y="193"/>
                    <a:pt x="253" y="197"/>
                    <a:pt x="291" y="159"/>
                  </a:cubicBezTo>
                </a:path>
              </a:pathLst>
            </a:custGeom>
            <a:noFill/>
            <a:ln w="5724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384800" y="126108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849840" y="164268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440760" y="3471480"/>
              <a:ext cx="228600" cy="228240"/>
            </a:xfrm>
            <a:prstGeom prst="ellipse">
              <a:avLst/>
            </a:prstGeom>
            <a:solidFill>
              <a:srgbClr val="006666"/>
            </a:solidFill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593040" y="2481120"/>
              <a:ext cx="76320" cy="7560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593040" y="2633400"/>
              <a:ext cx="0" cy="60912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6593040" y="2176200"/>
              <a:ext cx="0" cy="3045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516720" y="2176200"/>
              <a:ext cx="0" cy="42192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69360" y="2593800"/>
              <a:ext cx="228600" cy="191520"/>
            </a:xfrm>
            <a:custGeom>
              <a:avLst/>
              <a:gdLst/>
              <a:ahLst/>
              <a:rect l="l" t="t" r="r" b="b"/>
              <a:pathLst>
                <a:path w="72" h="191">
                  <a:moveTo>
                    <a:pt x="0" y="0"/>
                  </a:moveTo>
                  <a:cubicBezTo>
                    <a:pt x="72" y="48"/>
                    <a:pt x="57" y="134"/>
                    <a:pt x="0" y="191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69360" y="2938320"/>
              <a:ext cx="228600" cy="191520"/>
            </a:xfrm>
            <a:custGeom>
              <a:avLst/>
              <a:gdLst/>
              <a:ahLst/>
              <a:rect l="l" t="t" r="r" b="b"/>
              <a:pathLst>
                <a:path w="72" h="191">
                  <a:moveTo>
                    <a:pt x="0" y="0"/>
                  </a:moveTo>
                  <a:cubicBezTo>
                    <a:pt x="72" y="48"/>
                    <a:pt x="57" y="134"/>
                    <a:pt x="0" y="191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821640" y="2557080"/>
              <a:ext cx="182520" cy="198360"/>
            </a:xfrm>
            <a:custGeom>
              <a:avLst/>
              <a:gdLst/>
              <a:ahLst/>
              <a:rect l="l" t="t" r="r" b="b"/>
              <a:pathLst>
                <a:path w="182" h="200">
                  <a:moveTo>
                    <a:pt x="173" y="0"/>
                  </a:moveTo>
                  <a:cubicBezTo>
                    <a:pt x="117" y="20"/>
                    <a:pt x="59" y="3"/>
                    <a:pt x="9" y="37"/>
                  </a:cubicBezTo>
                  <a:cubicBezTo>
                    <a:pt x="6" y="52"/>
                    <a:pt x="0" y="67"/>
                    <a:pt x="0" y="82"/>
                  </a:cubicBezTo>
                  <a:cubicBezTo>
                    <a:pt x="0" y="172"/>
                    <a:pt x="115" y="200"/>
                    <a:pt x="182" y="20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821640" y="2938320"/>
              <a:ext cx="182520" cy="198000"/>
            </a:xfrm>
            <a:custGeom>
              <a:avLst/>
              <a:gdLst/>
              <a:ahLst/>
              <a:rect l="l" t="t" r="r" b="b"/>
              <a:pathLst>
                <a:path w="182" h="200">
                  <a:moveTo>
                    <a:pt x="173" y="0"/>
                  </a:moveTo>
                  <a:cubicBezTo>
                    <a:pt x="117" y="20"/>
                    <a:pt x="59" y="3"/>
                    <a:pt x="9" y="37"/>
                  </a:cubicBezTo>
                  <a:cubicBezTo>
                    <a:pt x="6" y="52"/>
                    <a:pt x="0" y="67"/>
                    <a:pt x="0" y="82"/>
                  </a:cubicBezTo>
                  <a:cubicBezTo>
                    <a:pt x="0" y="172"/>
                    <a:pt x="115" y="200"/>
                    <a:pt x="182" y="20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6973920" y="2328480"/>
              <a:ext cx="2286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6973920" y="2481120"/>
              <a:ext cx="2286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6973920" y="2709720"/>
              <a:ext cx="2286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6973920" y="2862000"/>
              <a:ext cx="2286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6973920" y="3014280"/>
              <a:ext cx="2286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973920" y="2404800"/>
              <a:ext cx="19080" cy="93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5" name=""/>
          <p:cNvSpPr/>
          <p:nvPr/>
        </p:nvSpPr>
        <p:spPr>
          <a:xfrm>
            <a:off x="380880" y="5084280"/>
            <a:ext cx="8320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发热元件接入电机主电路，若长时间过载，双金属片被加热。因双金属片的下层膨胀系数大，使其向上弯曲，杠杆被弹簧拉回，常闭触点断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697200" y="3090960"/>
            <a:ext cx="1295640" cy="609480"/>
          </a:xfrm>
          <a:prstGeom prst="wedgeEllipseCallout">
            <a:avLst>
              <a:gd name="adj1" fmla="val 8944"/>
              <a:gd name="adj2" fmla="val -120314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发热元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278840" y="3395520"/>
            <a:ext cx="1143000" cy="533520"/>
          </a:xfrm>
          <a:prstGeom prst="wedgeEllipseCallout">
            <a:avLst>
              <a:gd name="adj1" fmla="val -109305"/>
              <a:gd name="adj2" fmla="val -62796"/>
            </a:avLst>
          </a:prstGeom>
          <a:solidFill>
            <a:srgbClr val="99ff3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杠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824400" y="303840"/>
            <a:ext cx="247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1.1.5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热继电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81200" y="4128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658840" y="4052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结构原理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526000" y="1109520"/>
            <a:ext cx="1219320" cy="533520"/>
          </a:xfrm>
          <a:prstGeom prst="wedgeRoundRectCallout">
            <a:avLst>
              <a:gd name="adj1" fmla="val -55208"/>
              <a:gd name="adj2" fmla="val 183037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双金属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821640" y="1338120"/>
            <a:ext cx="1371600" cy="609840"/>
          </a:xfrm>
          <a:prstGeom prst="wedgeEllipseCallout">
            <a:avLst>
              <a:gd name="adj1" fmla="val -52430"/>
              <a:gd name="adj2" fmla="val 152083"/>
            </a:avLst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常闭触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326680" y="83736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用于电动机的过载保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>
            <a:hlinkClick r:id="rId4"/>
          </p:cNvPr>
          <p:cNvSpPr/>
          <p:nvPr/>
        </p:nvSpPr>
        <p:spPr>
          <a:xfrm>
            <a:off x="2438280" y="4191120"/>
            <a:ext cx="690840" cy="37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5" name=""/>
          <p:cNvGrpSpPr/>
          <p:nvPr/>
        </p:nvGrpSpPr>
        <p:grpSpPr>
          <a:xfrm>
            <a:off x="5715000" y="1782720"/>
            <a:ext cx="3352680" cy="3932280"/>
            <a:chOff x="5715000" y="1782720"/>
            <a:chExt cx="3352680" cy="3932280"/>
          </a:xfrm>
        </p:grpSpPr>
        <p:pic>
          <p:nvPicPr>
            <p:cNvPr id="1536" name="" descr=""/>
            <p:cNvPicPr/>
            <p:nvPr/>
          </p:nvPicPr>
          <p:blipFill>
            <a:blip r:embed="rId2"/>
            <a:stretch/>
          </p:blipFill>
          <p:spPr>
            <a:xfrm>
              <a:off x="5790960" y="1858680"/>
              <a:ext cx="3227040" cy="385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7" name=""/>
            <p:cNvSpPr/>
            <p:nvPr/>
          </p:nvSpPr>
          <p:spPr>
            <a:xfrm>
              <a:off x="5715000" y="1782720"/>
              <a:ext cx="3352680" cy="304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8" name=""/>
          <p:cNvSpPr/>
          <p:nvPr/>
        </p:nvSpPr>
        <p:spPr>
          <a:xfrm>
            <a:off x="805680" y="273600"/>
            <a:ext cx="223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1.1.6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熔断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9" name=""/>
          <p:cNvGrpSpPr/>
          <p:nvPr/>
        </p:nvGrpSpPr>
        <p:grpSpPr>
          <a:xfrm>
            <a:off x="833040" y="2071080"/>
            <a:ext cx="3358080" cy="672840"/>
            <a:chOff x="833040" y="2071080"/>
            <a:chExt cx="3358080" cy="672840"/>
          </a:xfrm>
        </p:grpSpPr>
        <p:sp>
          <p:nvSpPr>
            <p:cNvPr id="1540" name=""/>
            <p:cNvSpPr/>
            <p:nvPr/>
          </p:nvSpPr>
          <p:spPr>
            <a:xfrm>
              <a:off x="833040" y="2071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符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1" name=""/>
            <p:cNvGrpSpPr/>
            <p:nvPr/>
          </p:nvGrpSpPr>
          <p:grpSpPr>
            <a:xfrm>
              <a:off x="2010960" y="2223360"/>
              <a:ext cx="2180160" cy="520560"/>
              <a:chOff x="2010960" y="2223360"/>
              <a:chExt cx="218016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2010960" y="2223360"/>
                <a:ext cx="653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3" name=""/>
              <p:cNvGrpSpPr/>
              <p:nvPr/>
            </p:nvGrpSpPr>
            <p:grpSpPr>
              <a:xfrm>
                <a:off x="2819520" y="2362320"/>
                <a:ext cx="1371600" cy="274680"/>
                <a:chOff x="2819520" y="2362320"/>
                <a:chExt cx="1371600" cy="274680"/>
              </a:xfrm>
            </p:grpSpPr>
            <p:sp>
              <p:nvSpPr>
                <p:cNvPr id="1544" name=""/>
                <p:cNvSpPr/>
                <p:nvPr/>
              </p:nvSpPr>
              <p:spPr>
                <a:xfrm>
                  <a:off x="3162240" y="2362320"/>
                  <a:ext cx="685440" cy="2746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2819520" y="249948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46" name=""/>
          <p:cNvSpPr/>
          <p:nvPr/>
        </p:nvSpPr>
        <p:spPr>
          <a:xfrm>
            <a:off x="457200" y="2712960"/>
            <a:ext cx="434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熔断器额定电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09480" y="3199680"/>
            <a:ext cx="46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灯、电炉等电阻性负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2133720" y="3565440"/>
            <a:ext cx="147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F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&gt;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072080" y="5271480"/>
            <a:ext cx="22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频繁起动的电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856440" y="40521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台电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597480" y="76212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用于低压线路中的短路保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978200" y="1219320"/>
            <a:ext cx="506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的熔断器有插入式熔断器、螺旋式熔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器、管式熔断器和有填料式熔断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585720" y="4284720"/>
                <a:ext cx="551016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熔丝额定电流</m:t>
                    </m:r>
                    <m:r>
                      <m:t xml:space="preserve"> </m:t>
                    </m:r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电动机的起动电流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1143000" y="5638680"/>
                <a:ext cx="555156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熔丝额定电流</m:t>
                    </m:r>
                    <m:r>
                      <m:t xml:space="preserve"> </m:t>
                    </m:r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电动机的起动电流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1544040"/>
            <a:ext cx="8077320" cy="38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本章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了解常用低压电器的结构、功能和用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掌握自锁、联锁的作用和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掌握过载、短路和失压保护的作用和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掌握基本控制环节的组成、作用和工作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程。能读懂简单的控制电路原理图、能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计简单的控制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78880" y="562680"/>
            <a:ext cx="424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1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章  继电接触控制系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"/>
          <p:cNvSpPr/>
          <p:nvPr/>
        </p:nvSpPr>
        <p:spPr>
          <a:xfrm>
            <a:off x="3497400" y="71532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用于自动往复控制或限位保护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977400" y="227880"/>
            <a:ext cx="41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1. 1.7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行程开关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限位开关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715000" y="4343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(b)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示意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520" y="1218960"/>
            <a:ext cx="46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与按钮类似，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动作要由机械撞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9" name=""/>
          <p:cNvGrpSpPr/>
          <p:nvPr/>
        </p:nvGrpSpPr>
        <p:grpSpPr>
          <a:xfrm>
            <a:off x="4952520" y="1599480"/>
            <a:ext cx="1676520" cy="2667600"/>
            <a:chOff x="4952520" y="1599480"/>
            <a:chExt cx="1676520" cy="2667600"/>
          </a:xfrm>
        </p:grpSpPr>
        <p:sp>
          <p:nvSpPr>
            <p:cNvPr id="1560" name=""/>
            <p:cNvSpPr/>
            <p:nvPr/>
          </p:nvSpPr>
          <p:spPr>
            <a:xfrm flipH="1">
              <a:off x="4952160" y="2664000"/>
              <a:ext cx="1676520" cy="1603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5486040" y="29718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5028480" y="3505320"/>
              <a:ext cx="1436760" cy="889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3" name=""/>
            <p:cNvGrpSpPr/>
            <p:nvPr/>
          </p:nvGrpSpPr>
          <p:grpSpPr>
            <a:xfrm>
              <a:off x="5591160" y="2133720"/>
              <a:ext cx="458280" cy="772560"/>
              <a:chOff x="5591160" y="2133720"/>
              <a:chExt cx="458280" cy="772560"/>
            </a:xfrm>
          </p:grpSpPr>
          <p:sp>
            <p:nvSpPr>
              <p:cNvPr id="1564" name=""/>
              <p:cNvSpPr/>
              <p:nvPr/>
            </p:nvSpPr>
            <p:spPr>
              <a:xfrm>
                <a:off x="5591160" y="2133720"/>
                <a:ext cx="458280" cy="22068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591160" y="2266200"/>
                <a:ext cx="458280" cy="8784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710320" y="2376360"/>
                <a:ext cx="219240" cy="52992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5670720" y="2421000"/>
              <a:ext cx="299520" cy="462960"/>
              <a:chOff x="5670720" y="2421000"/>
              <a:chExt cx="299520" cy="462960"/>
            </a:xfrm>
          </p:grpSpPr>
          <p:sp>
            <p:nvSpPr>
              <p:cNvPr id="1568" name=""/>
              <p:cNvSpPr/>
              <p:nvPr/>
            </p:nvSpPr>
            <p:spPr>
              <a:xfrm>
                <a:off x="5690160" y="2421000"/>
                <a:ext cx="280080" cy="8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5670720" y="2685600"/>
                <a:ext cx="279720" cy="8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5690160" y="2796120"/>
                <a:ext cx="280080" cy="8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5690160" y="2509200"/>
                <a:ext cx="280080" cy="8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5670720" y="2597040"/>
                <a:ext cx="279720" cy="8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5113440" y="3193920"/>
              <a:ext cx="1355400" cy="264960"/>
              <a:chOff x="5113440" y="3193920"/>
              <a:chExt cx="1355400" cy="264960"/>
            </a:xfrm>
          </p:grpSpPr>
          <p:sp>
            <p:nvSpPr>
              <p:cNvPr id="1574" name=""/>
              <p:cNvSpPr/>
              <p:nvPr/>
            </p:nvSpPr>
            <p:spPr>
              <a:xfrm flipV="1">
                <a:off x="5113440" y="3193920"/>
                <a:ext cx="1355400" cy="87840"/>
              </a:xfrm>
              <a:prstGeom prst="rect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113440" y="3281760"/>
                <a:ext cx="358560" cy="177120"/>
              </a:xfrm>
              <a:custGeom>
                <a:avLst/>
                <a:gdLst/>
                <a:ahLst/>
                <a:rect l="l" t="t" r="r" b="b"/>
                <a:pathLst>
                  <a:path w="327" h="182">
                    <a:moveTo>
                      <a:pt x="0" y="0"/>
                    </a:moveTo>
                    <a:cubicBezTo>
                      <a:pt x="25" y="76"/>
                      <a:pt x="65" y="155"/>
                      <a:pt x="145" y="182"/>
                    </a:cubicBezTo>
                    <a:cubicBezTo>
                      <a:pt x="195" y="170"/>
                      <a:pt x="244" y="145"/>
                      <a:pt x="282" y="109"/>
                    </a:cubicBezTo>
                    <a:cubicBezTo>
                      <a:pt x="295" y="69"/>
                      <a:pt x="298" y="38"/>
                      <a:pt x="327" y="9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070320" y="3281760"/>
                <a:ext cx="358560" cy="177120"/>
              </a:xfrm>
              <a:custGeom>
                <a:avLst/>
                <a:gdLst/>
                <a:ahLst/>
                <a:rect l="l" t="t" r="r" b="b"/>
                <a:pathLst>
                  <a:path w="327" h="182">
                    <a:moveTo>
                      <a:pt x="0" y="0"/>
                    </a:moveTo>
                    <a:cubicBezTo>
                      <a:pt x="25" y="76"/>
                      <a:pt x="65" y="155"/>
                      <a:pt x="145" y="182"/>
                    </a:cubicBezTo>
                    <a:cubicBezTo>
                      <a:pt x="195" y="170"/>
                      <a:pt x="244" y="145"/>
                      <a:pt x="282" y="109"/>
                    </a:cubicBezTo>
                    <a:cubicBezTo>
                      <a:pt x="295" y="69"/>
                      <a:pt x="298" y="38"/>
                      <a:pt x="327" y="9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7" name=""/>
            <p:cNvGrpSpPr/>
            <p:nvPr/>
          </p:nvGrpSpPr>
          <p:grpSpPr>
            <a:xfrm>
              <a:off x="5104080" y="3882960"/>
              <a:ext cx="1356840" cy="267840"/>
              <a:chOff x="5104080" y="3882960"/>
              <a:chExt cx="1356840" cy="267840"/>
            </a:xfrm>
          </p:grpSpPr>
          <p:sp>
            <p:nvSpPr>
              <p:cNvPr id="1578" name=""/>
              <p:cNvSpPr/>
              <p:nvPr/>
            </p:nvSpPr>
            <p:spPr>
              <a:xfrm rot="10739400">
                <a:off x="5105160" y="3885840"/>
                <a:ext cx="358560" cy="176400"/>
              </a:xfrm>
              <a:custGeom>
                <a:avLst/>
                <a:gdLst/>
                <a:ahLst/>
                <a:rect l="l" t="t" r="r" b="b"/>
                <a:pathLst>
                  <a:path w="327" h="182">
                    <a:moveTo>
                      <a:pt x="0" y="0"/>
                    </a:moveTo>
                    <a:cubicBezTo>
                      <a:pt x="25" y="76"/>
                      <a:pt x="65" y="155"/>
                      <a:pt x="145" y="182"/>
                    </a:cubicBezTo>
                    <a:cubicBezTo>
                      <a:pt x="195" y="170"/>
                      <a:pt x="244" y="145"/>
                      <a:pt x="282" y="109"/>
                    </a:cubicBezTo>
                    <a:cubicBezTo>
                      <a:pt x="295" y="69"/>
                      <a:pt x="298" y="38"/>
                      <a:pt x="327" y="9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rot="10739400">
                <a:off x="6062040" y="3885840"/>
                <a:ext cx="358560" cy="176400"/>
              </a:xfrm>
              <a:custGeom>
                <a:avLst/>
                <a:gdLst/>
                <a:ahLst/>
                <a:rect l="l" t="t" r="r" b="b"/>
                <a:pathLst>
                  <a:path w="327" h="182">
                    <a:moveTo>
                      <a:pt x="0" y="0"/>
                    </a:moveTo>
                    <a:cubicBezTo>
                      <a:pt x="25" y="76"/>
                      <a:pt x="65" y="155"/>
                      <a:pt x="145" y="182"/>
                    </a:cubicBezTo>
                    <a:cubicBezTo>
                      <a:pt x="195" y="170"/>
                      <a:pt x="244" y="145"/>
                      <a:pt x="282" y="109"/>
                    </a:cubicBezTo>
                    <a:cubicBezTo>
                      <a:pt x="295" y="69"/>
                      <a:pt x="298" y="38"/>
                      <a:pt x="327" y="9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5105520" y="4062600"/>
                <a:ext cx="1355400" cy="88200"/>
              </a:xfrm>
              <a:prstGeom prst="rect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1" name=""/>
            <p:cNvSpPr/>
            <p:nvPr/>
          </p:nvSpPr>
          <p:spPr>
            <a:xfrm>
              <a:off x="5029200" y="3429000"/>
              <a:ext cx="457200" cy="76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3581280"/>
              <a:ext cx="457200" cy="76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019920" y="3429000"/>
              <a:ext cx="457200" cy="76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019920" y="3581280"/>
              <a:ext cx="457200" cy="76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791320" y="29718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401440" y="15994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未撞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934320" y="1613880"/>
            <a:ext cx="1676160" cy="2653200"/>
            <a:chOff x="6934320" y="1613880"/>
            <a:chExt cx="1676160" cy="2653200"/>
          </a:xfrm>
        </p:grpSpPr>
        <p:sp>
          <p:nvSpPr>
            <p:cNvPr id="1588" name=""/>
            <p:cNvSpPr/>
            <p:nvPr/>
          </p:nvSpPr>
          <p:spPr>
            <a:xfrm flipH="1">
              <a:off x="6934320" y="2664000"/>
              <a:ext cx="1676160" cy="1603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7094520" y="3193200"/>
              <a:ext cx="1355760" cy="889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094520" y="3282840"/>
              <a:ext cx="358920" cy="176400"/>
            </a:xfrm>
            <a:custGeom>
              <a:avLst/>
              <a:gdLst/>
              <a:ahLst/>
              <a:rect l="l" t="t" r="r" b="b"/>
              <a:pathLst>
                <a:path w="327" h="182">
                  <a:moveTo>
                    <a:pt x="0" y="0"/>
                  </a:moveTo>
                  <a:cubicBezTo>
                    <a:pt x="25" y="76"/>
                    <a:pt x="65" y="155"/>
                    <a:pt x="145" y="182"/>
                  </a:cubicBezTo>
                  <a:cubicBezTo>
                    <a:pt x="195" y="170"/>
                    <a:pt x="244" y="145"/>
                    <a:pt x="282" y="109"/>
                  </a:cubicBezTo>
                  <a:cubicBezTo>
                    <a:pt x="295" y="69"/>
                    <a:pt x="298" y="38"/>
                    <a:pt x="327" y="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051760" y="3282840"/>
              <a:ext cx="358920" cy="176400"/>
            </a:xfrm>
            <a:custGeom>
              <a:avLst/>
              <a:gdLst/>
              <a:ahLst/>
              <a:rect l="l" t="t" r="r" b="b"/>
              <a:pathLst>
                <a:path w="327" h="182">
                  <a:moveTo>
                    <a:pt x="0" y="0"/>
                  </a:moveTo>
                  <a:cubicBezTo>
                    <a:pt x="25" y="76"/>
                    <a:pt x="65" y="155"/>
                    <a:pt x="145" y="182"/>
                  </a:cubicBezTo>
                  <a:cubicBezTo>
                    <a:pt x="195" y="170"/>
                    <a:pt x="244" y="145"/>
                    <a:pt x="282" y="109"/>
                  </a:cubicBezTo>
                  <a:cubicBezTo>
                    <a:pt x="295" y="69"/>
                    <a:pt x="298" y="38"/>
                    <a:pt x="327" y="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rot="10739400">
              <a:off x="7085880" y="3885480"/>
              <a:ext cx="358920" cy="176040"/>
            </a:xfrm>
            <a:custGeom>
              <a:avLst/>
              <a:gdLst/>
              <a:ahLst/>
              <a:rect l="l" t="t" r="r" b="b"/>
              <a:pathLst>
                <a:path w="327" h="182">
                  <a:moveTo>
                    <a:pt x="0" y="0"/>
                  </a:moveTo>
                  <a:cubicBezTo>
                    <a:pt x="25" y="76"/>
                    <a:pt x="65" y="155"/>
                    <a:pt x="145" y="182"/>
                  </a:cubicBezTo>
                  <a:cubicBezTo>
                    <a:pt x="195" y="170"/>
                    <a:pt x="244" y="145"/>
                    <a:pt x="282" y="109"/>
                  </a:cubicBezTo>
                  <a:cubicBezTo>
                    <a:pt x="295" y="69"/>
                    <a:pt x="298" y="38"/>
                    <a:pt x="327" y="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rot="10739400">
              <a:off x="8043120" y="3885480"/>
              <a:ext cx="358920" cy="176040"/>
            </a:xfrm>
            <a:custGeom>
              <a:avLst/>
              <a:gdLst/>
              <a:ahLst/>
              <a:rect l="l" t="t" r="r" b="b"/>
              <a:pathLst>
                <a:path w="327" h="182">
                  <a:moveTo>
                    <a:pt x="0" y="0"/>
                  </a:moveTo>
                  <a:cubicBezTo>
                    <a:pt x="25" y="76"/>
                    <a:pt x="65" y="155"/>
                    <a:pt x="145" y="182"/>
                  </a:cubicBezTo>
                  <a:cubicBezTo>
                    <a:pt x="195" y="170"/>
                    <a:pt x="244" y="145"/>
                    <a:pt x="282" y="109"/>
                  </a:cubicBezTo>
                  <a:cubicBezTo>
                    <a:pt x="295" y="69"/>
                    <a:pt x="298" y="38"/>
                    <a:pt x="327" y="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086600" y="4062240"/>
              <a:ext cx="1355760" cy="889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5" name=""/>
            <p:cNvGrpSpPr/>
            <p:nvPr/>
          </p:nvGrpSpPr>
          <p:grpSpPr>
            <a:xfrm>
              <a:off x="7572240" y="2362320"/>
              <a:ext cx="458640" cy="772560"/>
              <a:chOff x="7572240" y="2362320"/>
              <a:chExt cx="458640" cy="772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7572240" y="2362320"/>
                <a:ext cx="458640" cy="22068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572240" y="2494800"/>
                <a:ext cx="458640" cy="8784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691760" y="2604960"/>
                <a:ext cx="219240" cy="52992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9" name=""/>
            <p:cNvGrpSpPr/>
            <p:nvPr/>
          </p:nvGrpSpPr>
          <p:grpSpPr>
            <a:xfrm>
              <a:off x="7651800" y="2649600"/>
              <a:ext cx="299520" cy="462960"/>
              <a:chOff x="7651800" y="2649600"/>
              <a:chExt cx="299520" cy="462960"/>
            </a:xfrm>
          </p:grpSpPr>
          <p:sp>
            <p:nvSpPr>
              <p:cNvPr id="1600" name=""/>
              <p:cNvSpPr/>
              <p:nvPr/>
            </p:nvSpPr>
            <p:spPr>
              <a:xfrm>
                <a:off x="7671240" y="2649600"/>
                <a:ext cx="280080" cy="8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651800" y="2914200"/>
                <a:ext cx="279720" cy="8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671240" y="3024720"/>
                <a:ext cx="280080" cy="8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671240" y="2737800"/>
                <a:ext cx="280080" cy="8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651800" y="2825640"/>
                <a:ext cx="279720" cy="8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5" name=""/>
            <p:cNvSpPr/>
            <p:nvPr/>
          </p:nvSpPr>
          <p:spPr>
            <a:xfrm flipH="1">
              <a:off x="7009560" y="3733920"/>
              <a:ext cx="1436760" cy="889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010280" y="3657600"/>
              <a:ext cx="457200" cy="76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010280" y="3809880"/>
              <a:ext cx="457200" cy="76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001000" y="3657600"/>
              <a:ext cx="457200" cy="76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001000" y="3809880"/>
              <a:ext cx="457200" cy="76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77240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7467480" y="3200400"/>
              <a:ext cx="609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484400" y="16138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撞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380880" y="2297160"/>
            <a:ext cx="4343400" cy="3189240"/>
            <a:chOff x="380880" y="2297160"/>
            <a:chExt cx="4343400" cy="3189240"/>
          </a:xfrm>
        </p:grpSpPr>
        <p:pic>
          <p:nvPicPr>
            <p:cNvPr id="1614" name="" descr=""/>
            <p:cNvPicPr/>
            <p:nvPr/>
          </p:nvPicPr>
          <p:blipFill>
            <a:blip r:embed="rId2"/>
            <a:stretch/>
          </p:blipFill>
          <p:spPr>
            <a:xfrm>
              <a:off x="380880" y="2297160"/>
              <a:ext cx="4343400" cy="31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5" name="行程开关2" descr=""/>
            <p:cNvPicPr/>
            <p:nvPr/>
          </p:nvPicPr>
          <p:blipFill>
            <a:blip r:embed="rId3"/>
            <a:stretch/>
          </p:blipFill>
          <p:spPr>
            <a:xfrm>
              <a:off x="584280" y="2500560"/>
              <a:ext cx="3950280" cy="280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6" name=""/>
          <p:cNvSpPr/>
          <p:nvPr/>
        </p:nvSpPr>
        <p:spPr>
          <a:xfrm>
            <a:off x="1371600" y="5486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(a)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外形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4419720" y="4876200"/>
            <a:ext cx="4289400" cy="1526040"/>
            <a:chOff x="4419720" y="4876200"/>
            <a:chExt cx="4289400" cy="1526040"/>
          </a:xfrm>
        </p:grpSpPr>
        <p:grpSp>
          <p:nvGrpSpPr>
            <p:cNvPr id="1618" name=""/>
            <p:cNvGrpSpPr/>
            <p:nvPr/>
          </p:nvGrpSpPr>
          <p:grpSpPr>
            <a:xfrm>
              <a:off x="4419720" y="4876200"/>
              <a:ext cx="4289400" cy="1191960"/>
              <a:chOff x="4419720" y="4876200"/>
              <a:chExt cx="4289400" cy="1191960"/>
            </a:xfrm>
          </p:grpSpPr>
          <p:sp>
            <p:nvSpPr>
              <p:cNvPr id="1619" name=""/>
              <p:cNvSpPr/>
              <p:nvPr/>
            </p:nvSpPr>
            <p:spPr>
              <a:xfrm>
                <a:off x="4419720" y="5091120"/>
                <a:ext cx="1839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586840" y="4876200"/>
                <a:ext cx="61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1" name=""/>
              <p:cNvGrpSpPr/>
              <p:nvPr/>
            </p:nvGrpSpPr>
            <p:grpSpPr>
              <a:xfrm>
                <a:off x="5051880" y="5395680"/>
                <a:ext cx="1775880" cy="231120"/>
                <a:chOff x="5051880" y="5395680"/>
                <a:chExt cx="1775880" cy="231120"/>
              </a:xfrm>
            </p:grpSpPr>
            <p:sp>
              <p:nvSpPr>
                <p:cNvPr id="1622" name=""/>
                <p:cNvSpPr/>
                <p:nvPr/>
              </p:nvSpPr>
              <p:spPr>
                <a:xfrm flipH="1">
                  <a:off x="6287400" y="5395680"/>
                  <a:ext cx="540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H="1">
                  <a:off x="5669640" y="5395680"/>
                  <a:ext cx="617760" cy="231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flipH="1">
                  <a:off x="5051880" y="5395680"/>
                  <a:ext cx="617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H="1">
                  <a:off x="5978520" y="5395680"/>
                  <a:ext cx="308880" cy="231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flipH="1" flipV="1">
                  <a:off x="5901480" y="5549760"/>
                  <a:ext cx="7704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7" name=""/>
              <p:cNvGrpSpPr/>
              <p:nvPr/>
            </p:nvGrpSpPr>
            <p:grpSpPr>
              <a:xfrm>
                <a:off x="7013880" y="4999320"/>
                <a:ext cx="1695240" cy="384840"/>
                <a:chOff x="7013880" y="4999320"/>
                <a:chExt cx="1695240" cy="384840"/>
              </a:xfrm>
            </p:grpSpPr>
            <p:sp>
              <p:nvSpPr>
                <p:cNvPr id="1628" name=""/>
                <p:cNvSpPr/>
                <p:nvPr/>
              </p:nvSpPr>
              <p:spPr>
                <a:xfrm flipH="1">
                  <a:off x="7861680" y="5384160"/>
                  <a:ext cx="84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flipH="1" flipV="1">
                  <a:off x="7476120" y="5076360"/>
                  <a:ext cx="693720" cy="307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flipH="1">
                  <a:off x="7013880" y="5384160"/>
                  <a:ext cx="539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flipV="1">
                  <a:off x="7553160" y="4999320"/>
                  <a:ext cx="0" cy="384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flipV="1">
                  <a:off x="7861680" y="5230440"/>
                  <a:ext cx="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3" name=""/>
              <p:cNvSpPr/>
              <p:nvPr/>
            </p:nvSpPr>
            <p:spPr>
              <a:xfrm>
                <a:off x="5260680" y="554760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常开触点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160760" y="53949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常闭触点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939440" y="4876200"/>
                <a:ext cx="61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6" name=""/>
            <p:cNvSpPr/>
            <p:nvPr/>
          </p:nvSpPr>
          <p:spPr>
            <a:xfrm>
              <a:off x="6277320" y="58816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(c) 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符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7" name=""/>
          <p:cNvSpPr/>
          <p:nvPr/>
        </p:nvSpPr>
        <p:spPr>
          <a:xfrm>
            <a:off x="1447920" y="6019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行程开关的外形符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"/>
          <p:cNvSpPr/>
          <p:nvPr/>
        </p:nvSpPr>
        <p:spPr>
          <a:xfrm>
            <a:off x="1755720" y="3311640"/>
            <a:ext cx="3029040" cy="9504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398040" y="99072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可实现短路、过载、失压保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163520" y="457200"/>
            <a:ext cx="474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1.1.8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自动空气断路器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自动开关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2622600" y="4775040"/>
            <a:ext cx="280440" cy="1171440"/>
            <a:chOff x="2622600" y="4775040"/>
            <a:chExt cx="280440" cy="1171440"/>
          </a:xfrm>
        </p:grpSpPr>
        <p:sp>
          <p:nvSpPr>
            <p:cNvPr id="1642" name=""/>
            <p:cNvSpPr/>
            <p:nvPr/>
          </p:nvSpPr>
          <p:spPr>
            <a:xfrm>
              <a:off x="2773800" y="4925880"/>
              <a:ext cx="0" cy="102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622600" y="4775040"/>
              <a:ext cx="280440" cy="264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2158560" y="1762200"/>
            <a:ext cx="187560" cy="4139640"/>
            <a:chOff x="2158560" y="1762200"/>
            <a:chExt cx="187560" cy="4139640"/>
          </a:xfrm>
        </p:grpSpPr>
        <p:sp>
          <p:nvSpPr>
            <p:cNvPr id="1645" name=""/>
            <p:cNvSpPr/>
            <p:nvPr/>
          </p:nvSpPr>
          <p:spPr>
            <a:xfrm>
              <a:off x="2346120" y="3558960"/>
              <a:ext cx="0" cy="23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343240" y="1762200"/>
              <a:ext cx="0" cy="141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>
              <a:off x="2158200" y="3101760"/>
              <a:ext cx="87480" cy="5331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8" name=""/>
          <p:cNvSpPr/>
          <p:nvPr/>
        </p:nvSpPr>
        <p:spPr>
          <a:xfrm>
            <a:off x="1889280" y="3559320"/>
            <a:ext cx="0" cy="234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H="1">
            <a:off x="4736880" y="3152520"/>
            <a:ext cx="49680" cy="1479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H="1">
            <a:off x="4676760" y="3034800"/>
            <a:ext cx="26280" cy="18828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1698480" y="1781280"/>
            <a:ext cx="146160" cy="1834560"/>
            <a:chOff x="1698480" y="1781280"/>
            <a:chExt cx="146160" cy="1834560"/>
          </a:xfrm>
        </p:grpSpPr>
        <p:sp>
          <p:nvSpPr>
            <p:cNvPr id="1652" name=""/>
            <p:cNvSpPr/>
            <p:nvPr/>
          </p:nvSpPr>
          <p:spPr>
            <a:xfrm>
              <a:off x="1844640" y="1781280"/>
              <a:ext cx="0" cy="137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1698480" y="3082680"/>
              <a:ext cx="87120" cy="5331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2599920" y="1781280"/>
            <a:ext cx="146520" cy="1834560"/>
            <a:chOff x="2599920" y="1781280"/>
            <a:chExt cx="146520" cy="1834560"/>
          </a:xfrm>
        </p:grpSpPr>
        <p:sp>
          <p:nvSpPr>
            <p:cNvPr id="1655" name=""/>
            <p:cNvSpPr/>
            <p:nvPr/>
          </p:nvSpPr>
          <p:spPr>
            <a:xfrm>
              <a:off x="2746440" y="1781280"/>
              <a:ext cx="0" cy="137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2599560" y="3082680"/>
              <a:ext cx="87480" cy="5331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7" name=""/>
          <p:cNvSpPr/>
          <p:nvPr/>
        </p:nvSpPr>
        <p:spPr>
          <a:xfrm flipH="1">
            <a:off x="3018600" y="3083040"/>
            <a:ext cx="8748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765520" y="355932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2575080" y="4054320"/>
            <a:ext cx="323640" cy="32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4708440" y="3072960"/>
            <a:ext cx="58680" cy="219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4803840" y="308304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4651200" y="3044880"/>
            <a:ext cx="152640" cy="24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651200" y="29113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356080" y="3387600"/>
            <a:ext cx="0" cy="20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56080" y="409248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261040" y="3044880"/>
            <a:ext cx="95040" cy="22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241960" y="3216240"/>
            <a:ext cx="1238040" cy="169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8" name=""/>
          <p:cNvGrpSpPr/>
          <p:nvPr/>
        </p:nvGrpSpPr>
        <p:grpSpPr>
          <a:xfrm>
            <a:off x="5238000" y="3546360"/>
            <a:ext cx="176400" cy="574920"/>
            <a:chOff x="5238000" y="3546360"/>
            <a:chExt cx="176400" cy="574920"/>
          </a:xfrm>
        </p:grpSpPr>
        <p:sp>
          <p:nvSpPr>
            <p:cNvPr id="1669" name=""/>
            <p:cNvSpPr/>
            <p:nvPr/>
          </p:nvSpPr>
          <p:spPr>
            <a:xfrm rot="16109400">
              <a:off x="5274720" y="3981240"/>
              <a:ext cx="114120" cy="161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rot="16109400">
              <a:off x="5268600" y="3752640"/>
              <a:ext cx="114120" cy="161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rot="16109400">
              <a:off x="5271840" y="3867120"/>
              <a:ext cx="114120" cy="161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rot="16109400">
              <a:off x="5262840" y="3524760"/>
              <a:ext cx="114120" cy="161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rot="16109400">
              <a:off x="5266080" y="3638520"/>
              <a:ext cx="113760" cy="161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5032440" y="4282920"/>
            <a:ext cx="609120" cy="133560"/>
            <a:chOff x="5032440" y="4282920"/>
            <a:chExt cx="609120" cy="133560"/>
          </a:xfrm>
        </p:grpSpPr>
        <p:sp>
          <p:nvSpPr>
            <p:cNvPr id="1675" name=""/>
            <p:cNvSpPr/>
            <p:nvPr/>
          </p:nvSpPr>
          <p:spPr>
            <a:xfrm>
              <a:off x="5051160" y="4282920"/>
              <a:ext cx="59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5032440" y="4282920"/>
              <a:ext cx="133200" cy="13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>
              <a:off x="5165280" y="4282920"/>
              <a:ext cx="132840" cy="13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H="1">
              <a:off x="5393880" y="4282920"/>
              <a:ext cx="132840" cy="13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>
              <a:off x="5279760" y="4282920"/>
              <a:ext cx="133200" cy="13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0" name=""/>
          <p:cNvSpPr/>
          <p:nvPr/>
        </p:nvSpPr>
        <p:spPr>
          <a:xfrm>
            <a:off x="2765520" y="4035600"/>
            <a:ext cx="0" cy="70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2765520" y="4721400"/>
            <a:ext cx="333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118200" y="37497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537240" y="4054320"/>
            <a:ext cx="0" cy="876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2765160" y="4911840"/>
            <a:ext cx="3771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299360" y="3216240"/>
            <a:ext cx="95040" cy="22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280280" y="3387600"/>
            <a:ext cx="1238400" cy="169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7" name=""/>
          <p:cNvGrpSpPr/>
          <p:nvPr/>
        </p:nvGrpSpPr>
        <p:grpSpPr>
          <a:xfrm>
            <a:off x="8322480" y="3736800"/>
            <a:ext cx="177840" cy="574920"/>
            <a:chOff x="8322480" y="3736800"/>
            <a:chExt cx="177840" cy="574920"/>
          </a:xfrm>
        </p:grpSpPr>
        <p:sp>
          <p:nvSpPr>
            <p:cNvPr id="1688" name=""/>
            <p:cNvSpPr/>
            <p:nvPr/>
          </p:nvSpPr>
          <p:spPr>
            <a:xfrm rot="16109400">
              <a:off x="8359920" y="4170960"/>
              <a:ext cx="114120" cy="163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rot="16109400">
              <a:off x="8353800" y="3942360"/>
              <a:ext cx="114120" cy="163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rot="16109400">
              <a:off x="8357040" y="4056840"/>
              <a:ext cx="114120" cy="163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rot="16109400">
              <a:off x="8348040" y="3714480"/>
              <a:ext cx="114120" cy="163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rot="16109400">
              <a:off x="8351280" y="3828240"/>
              <a:ext cx="113760" cy="163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3" name=""/>
          <p:cNvSpPr/>
          <p:nvPr/>
        </p:nvSpPr>
        <p:spPr>
          <a:xfrm>
            <a:off x="8442360" y="3559320"/>
            <a:ext cx="0" cy="190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56600" y="3578400"/>
            <a:ext cx="112680" cy="495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192800" y="3732120"/>
            <a:ext cx="0" cy="137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 flipH="1">
            <a:off x="4022640" y="51022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4022640" y="2263320"/>
            <a:ext cx="0" cy="283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>
            <a:off x="2327040" y="2282760"/>
            <a:ext cx="169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623000" y="4016520"/>
            <a:ext cx="0" cy="135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184560" y="3540240"/>
            <a:ext cx="0" cy="196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070080" y="5369040"/>
            <a:ext cx="228600" cy="247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flipH="1">
            <a:off x="3165120" y="5369040"/>
            <a:ext cx="4476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3" name=""/>
          <p:cNvGrpSpPr/>
          <p:nvPr/>
        </p:nvGrpSpPr>
        <p:grpSpPr>
          <a:xfrm>
            <a:off x="4651200" y="2654280"/>
            <a:ext cx="3971880" cy="609120"/>
            <a:chOff x="4651200" y="2654280"/>
            <a:chExt cx="3971880" cy="609120"/>
          </a:xfrm>
        </p:grpSpPr>
        <p:sp>
          <p:nvSpPr>
            <p:cNvPr id="1704" name=""/>
            <p:cNvSpPr/>
            <p:nvPr/>
          </p:nvSpPr>
          <p:spPr>
            <a:xfrm>
              <a:off x="4651200" y="2932200"/>
              <a:ext cx="3562560" cy="102960"/>
            </a:xfrm>
            <a:prstGeom prst="rect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5" name=""/>
            <p:cNvGrpSpPr/>
            <p:nvPr/>
          </p:nvGrpSpPr>
          <p:grpSpPr>
            <a:xfrm>
              <a:off x="8114040" y="2654280"/>
              <a:ext cx="509040" cy="609120"/>
              <a:chOff x="8114040" y="2654280"/>
              <a:chExt cx="509040" cy="609120"/>
            </a:xfrm>
          </p:grpSpPr>
          <p:sp>
            <p:nvSpPr>
              <p:cNvPr id="1706" name=""/>
              <p:cNvSpPr/>
              <p:nvPr/>
            </p:nvSpPr>
            <p:spPr>
              <a:xfrm rot="16270800">
                <a:off x="8148600" y="2787840"/>
                <a:ext cx="295200" cy="358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8156520" y="2911320"/>
                <a:ext cx="74520" cy="1335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8" name=""/>
              <p:cNvGrpSpPr/>
              <p:nvPr/>
            </p:nvGrpSpPr>
            <p:grpSpPr>
              <a:xfrm>
                <a:off x="8489880" y="2654280"/>
                <a:ext cx="133200" cy="609120"/>
                <a:chOff x="8489880" y="2654280"/>
                <a:chExt cx="133200" cy="609120"/>
              </a:xfrm>
            </p:grpSpPr>
            <p:sp>
              <p:nvSpPr>
                <p:cNvPr id="1709" name=""/>
                <p:cNvSpPr/>
                <p:nvPr/>
              </p:nvSpPr>
              <p:spPr>
                <a:xfrm flipV="1">
                  <a:off x="8489880" y="2654280"/>
                  <a:ext cx="0" cy="590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8489880" y="3130200"/>
                  <a:ext cx="133200" cy="13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8489880" y="2997720"/>
                  <a:ext cx="133200" cy="13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8489880" y="2769120"/>
                  <a:ext cx="133200" cy="13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8489880" y="2882880"/>
                  <a:ext cx="133200" cy="13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14" name=""/>
          <p:cNvGrpSpPr/>
          <p:nvPr/>
        </p:nvGrpSpPr>
        <p:grpSpPr>
          <a:xfrm>
            <a:off x="1113840" y="3248640"/>
            <a:ext cx="575280" cy="178200"/>
            <a:chOff x="1113840" y="3248640"/>
            <a:chExt cx="575280" cy="178200"/>
          </a:xfrm>
        </p:grpSpPr>
        <p:sp>
          <p:nvSpPr>
            <p:cNvPr id="1715" name=""/>
            <p:cNvSpPr/>
            <p:nvPr/>
          </p:nvSpPr>
          <p:spPr>
            <a:xfrm rot="21509400">
              <a:off x="1115640" y="3261600"/>
              <a:ext cx="114120" cy="163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rot="21509400">
              <a:off x="1344240" y="3255480"/>
              <a:ext cx="114120" cy="163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21509400">
              <a:off x="1229760" y="3258720"/>
              <a:ext cx="114120" cy="163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rot="21509400">
              <a:off x="1572480" y="3249720"/>
              <a:ext cx="114120" cy="163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rot="21509400">
              <a:off x="1458720" y="3252600"/>
              <a:ext cx="113760" cy="163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0" name=""/>
          <p:cNvSpPr/>
          <p:nvPr/>
        </p:nvSpPr>
        <p:spPr>
          <a:xfrm>
            <a:off x="3089160" y="2416320"/>
            <a:ext cx="22860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2727360" y="266400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2308320" y="2244600"/>
            <a:ext cx="74520" cy="1144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2708280" y="2606760"/>
            <a:ext cx="74520" cy="1141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546200" y="5711760"/>
            <a:ext cx="1771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3946680" y="1787400"/>
            <a:ext cx="1143000" cy="457200"/>
          </a:xfrm>
          <a:prstGeom prst="wedgeRoundRectCallout">
            <a:avLst>
              <a:gd name="adj1" fmla="val 18194"/>
              <a:gd name="adj2" fmla="val 232638"/>
              <a:gd name="adj3" fmla="val 16667"/>
            </a:avLst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锁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65040" y="3921120"/>
            <a:ext cx="1447920" cy="838080"/>
          </a:xfrm>
          <a:prstGeom prst="wedgeRoundRectCallout">
            <a:avLst>
              <a:gd name="adj1" fmla="val 78398"/>
              <a:gd name="adj2" fmla="val -100189"/>
              <a:gd name="adj3" fmla="val 16667"/>
            </a:avLst>
          </a:prstGeom>
          <a:solidFill>
            <a:srgbClr val="ffffff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主触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手动闭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7" name=""/>
          <p:cNvGrpSpPr/>
          <p:nvPr/>
        </p:nvGrpSpPr>
        <p:grpSpPr>
          <a:xfrm>
            <a:off x="5241600" y="1713960"/>
            <a:ext cx="1352520" cy="987480"/>
            <a:chOff x="5241600" y="1713960"/>
            <a:chExt cx="1352520" cy="987480"/>
          </a:xfrm>
        </p:grpSpPr>
        <p:sp>
          <p:nvSpPr>
            <p:cNvPr id="1728" name=""/>
            <p:cNvSpPr/>
            <p:nvPr/>
          </p:nvSpPr>
          <p:spPr>
            <a:xfrm>
              <a:off x="5241600" y="1749240"/>
              <a:ext cx="1352520" cy="952200"/>
            </a:xfrm>
            <a:prstGeom prst="wedgeRoundRectCallout">
              <a:avLst>
                <a:gd name="adj1" fmla="val -115"/>
                <a:gd name="adj2" fmla="val 106000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383440" y="1713960"/>
              <a:ext cx="999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过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脱扣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7356240" y="1676160"/>
            <a:ext cx="1352520" cy="947160"/>
            <a:chOff x="7356240" y="1676160"/>
            <a:chExt cx="1352520" cy="947160"/>
          </a:xfrm>
        </p:grpSpPr>
        <p:sp>
          <p:nvSpPr>
            <p:cNvPr id="1731" name=""/>
            <p:cNvSpPr/>
            <p:nvPr/>
          </p:nvSpPr>
          <p:spPr>
            <a:xfrm>
              <a:off x="7356240" y="1726200"/>
              <a:ext cx="1352520" cy="879840"/>
            </a:xfrm>
            <a:prstGeom prst="wedgeRoundRectCallout">
              <a:avLst>
                <a:gd name="adj1" fmla="val -12791"/>
                <a:gd name="adj2" fmla="val 124000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59920" y="1676160"/>
              <a:ext cx="999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欠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脱扣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3" name=""/>
          <p:cNvSpPr/>
          <p:nvPr/>
        </p:nvSpPr>
        <p:spPr>
          <a:xfrm>
            <a:off x="4403880" y="4457880"/>
            <a:ext cx="1447560" cy="457200"/>
          </a:xfrm>
          <a:prstGeom prst="wedgeRoundRectCallout">
            <a:avLst>
              <a:gd name="adj1" fmla="val 75546"/>
              <a:gd name="adj2" fmla="val -272916"/>
              <a:gd name="adj3" fmla="val 16667"/>
            </a:avLst>
          </a:prstGeom>
          <a:solidFill>
            <a:srgbClr val="ffffff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衔铁释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28480" y="5407200"/>
            <a:ext cx="790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>
            <a:hlinkClick r:id="rId2"/>
          </p:cNvPr>
          <p:cNvSpPr/>
          <p:nvPr/>
        </p:nvSpPr>
        <p:spPr>
          <a:xfrm>
            <a:off x="898560" y="5295960"/>
            <a:ext cx="690480" cy="37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5718240" y="3235320"/>
            <a:ext cx="247680" cy="324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7" name=""/>
          <p:cNvGrpSpPr/>
          <p:nvPr/>
        </p:nvGrpSpPr>
        <p:grpSpPr>
          <a:xfrm>
            <a:off x="5622480" y="3578400"/>
            <a:ext cx="436680" cy="118440"/>
            <a:chOff x="5622480" y="3578400"/>
            <a:chExt cx="436680" cy="118440"/>
          </a:xfrm>
        </p:grpSpPr>
        <p:sp>
          <p:nvSpPr>
            <p:cNvPr id="1738" name=""/>
            <p:cNvSpPr/>
            <p:nvPr/>
          </p:nvSpPr>
          <p:spPr>
            <a:xfrm>
              <a:off x="5636160" y="3578400"/>
              <a:ext cx="42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>
              <a:off x="5622480" y="3593160"/>
              <a:ext cx="95400" cy="10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5717880" y="3578400"/>
              <a:ext cx="95400" cy="10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5786280" y="3593160"/>
              <a:ext cx="95400" cy="10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5881680" y="3578400"/>
              <a:ext cx="95400" cy="10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3" name=""/>
          <p:cNvSpPr/>
          <p:nvPr/>
        </p:nvSpPr>
        <p:spPr>
          <a:xfrm>
            <a:off x="5803920" y="3311640"/>
            <a:ext cx="79200" cy="792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4" name=""/>
          <p:cNvGrpSpPr/>
          <p:nvPr/>
        </p:nvGrpSpPr>
        <p:grpSpPr>
          <a:xfrm>
            <a:off x="7661160" y="3711600"/>
            <a:ext cx="418680" cy="113760"/>
            <a:chOff x="7661160" y="3711600"/>
            <a:chExt cx="418680" cy="113760"/>
          </a:xfrm>
        </p:grpSpPr>
        <p:sp>
          <p:nvSpPr>
            <p:cNvPr id="1745" name=""/>
            <p:cNvSpPr/>
            <p:nvPr/>
          </p:nvSpPr>
          <p:spPr>
            <a:xfrm>
              <a:off x="7674120" y="3711600"/>
              <a:ext cx="4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>
              <a:off x="7661160" y="3725640"/>
              <a:ext cx="91440" cy="9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>
              <a:off x="7752240" y="3711600"/>
              <a:ext cx="91800" cy="9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>
              <a:off x="7818120" y="3725640"/>
              <a:ext cx="91440" cy="9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>
              <a:off x="7909560" y="3711600"/>
              <a:ext cx="91800" cy="9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7737480" y="3387600"/>
            <a:ext cx="247680" cy="324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832880" y="3463920"/>
            <a:ext cx="79200" cy="7956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2" name=""/>
          <p:cNvGrpSpPr/>
          <p:nvPr/>
        </p:nvGrpSpPr>
        <p:grpSpPr>
          <a:xfrm>
            <a:off x="8118000" y="4302000"/>
            <a:ext cx="644760" cy="250920"/>
            <a:chOff x="8118000" y="4302000"/>
            <a:chExt cx="644760" cy="250920"/>
          </a:xfrm>
        </p:grpSpPr>
        <p:sp>
          <p:nvSpPr>
            <p:cNvPr id="1753" name=""/>
            <p:cNvSpPr/>
            <p:nvPr/>
          </p:nvSpPr>
          <p:spPr>
            <a:xfrm>
              <a:off x="8172360" y="4416480"/>
              <a:ext cx="59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>
              <a:off x="8118000" y="4416480"/>
              <a:ext cx="13356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>
              <a:off x="8251920" y="4416480"/>
              <a:ext cx="13320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8480520" y="4416480"/>
              <a:ext cx="13320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8366040" y="4416480"/>
              <a:ext cx="13320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423280" y="4302000"/>
              <a:ext cx="0" cy="13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8594640" y="4419720"/>
              <a:ext cx="13320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0" name=""/>
          <p:cNvGrpSpPr/>
          <p:nvPr/>
        </p:nvGrpSpPr>
        <p:grpSpPr>
          <a:xfrm>
            <a:off x="974880" y="3014640"/>
            <a:ext cx="141120" cy="590400"/>
            <a:chOff x="974880" y="3014640"/>
            <a:chExt cx="141120" cy="590400"/>
          </a:xfrm>
        </p:grpSpPr>
        <p:sp>
          <p:nvSpPr>
            <p:cNvPr id="1761" name=""/>
            <p:cNvSpPr/>
            <p:nvPr/>
          </p:nvSpPr>
          <p:spPr>
            <a:xfrm flipV="1">
              <a:off x="1116000" y="3014640"/>
              <a:ext cx="0" cy="59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974880" y="3463920"/>
              <a:ext cx="13320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982440" y="3357720"/>
              <a:ext cx="13320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982440" y="3129120"/>
              <a:ext cx="13320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982440" y="3243240"/>
              <a:ext cx="13320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974880" y="3044880"/>
              <a:ext cx="13320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7" name=""/>
          <p:cNvSpPr/>
          <p:nvPr/>
        </p:nvSpPr>
        <p:spPr>
          <a:xfrm>
            <a:off x="6289560" y="3635280"/>
            <a:ext cx="11268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6106680" y="3724200"/>
            <a:ext cx="444960" cy="338040"/>
            <a:chOff x="6106680" y="3724200"/>
            <a:chExt cx="444960" cy="338040"/>
          </a:xfrm>
        </p:grpSpPr>
        <p:sp>
          <p:nvSpPr>
            <p:cNvPr id="1769" name=""/>
            <p:cNvSpPr/>
            <p:nvPr/>
          </p:nvSpPr>
          <p:spPr>
            <a:xfrm flipH="1">
              <a:off x="6106680" y="3730680"/>
              <a:ext cx="144360" cy="38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270480" y="3987720"/>
              <a:ext cx="281160" cy="74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1" name=""/>
            <p:cNvGrpSpPr/>
            <p:nvPr/>
          </p:nvGrpSpPr>
          <p:grpSpPr>
            <a:xfrm>
              <a:off x="6221160" y="3724200"/>
              <a:ext cx="228600" cy="281160"/>
              <a:chOff x="6221160" y="3724200"/>
              <a:chExt cx="228600" cy="281160"/>
            </a:xfrm>
          </p:grpSpPr>
          <p:sp>
            <p:nvSpPr>
              <p:cNvPr id="1772" name=""/>
              <p:cNvSpPr/>
              <p:nvPr/>
            </p:nvSpPr>
            <p:spPr>
              <a:xfrm>
                <a:off x="6246720" y="3724200"/>
                <a:ext cx="203040" cy="76320"/>
              </a:xfrm>
              <a:custGeom>
                <a:avLst/>
                <a:gdLst/>
                <a:ahLst/>
                <a:rect l="l" t="t" r="r" b="b"/>
                <a:pathLst>
                  <a:path w="108" h="33">
                    <a:moveTo>
                      <a:pt x="0" y="5"/>
                    </a:moveTo>
                    <a:cubicBezTo>
                      <a:pt x="37" y="0"/>
                      <a:pt x="73" y="1"/>
                      <a:pt x="108" y="13"/>
                    </a:cubicBezTo>
                    <a:cubicBezTo>
                      <a:pt x="104" y="30"/>
                      <a:pt x="104" y="24"/>
                      <a:pt x="104" y="3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6232320" y="3807000"/>
                <a:ext cx="203400" cy="75960"/>
              </a:xfrm>
              <a:custGeom>
                <a:avLst/>
                <a:gdLst/>
                <a:ahLst/>
                <a:rect l="l" t="t" r="r" b="b"/>
                <a:pathLst>
                  <a:path w="108" h="33">
                    <a:moveTo>
                      <a:pt x="0" y="5"/>
                    </a:moveTo>
                    <a:cubicBezTo>
                      <a:pt x="37" y="0"/>
                      <a:pt x="73" y="1"/>
                      <a:pt x="108" y="13"/>
                    </a:cubicBezTo>
                    <a:cubicBezTo>
                      <a:pt x="104" y="30"/>
                      <a:pt x="104" y="24"/>
                      <a:pt x="104" y="3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6232320" y="3890880"/>
                <a:ext cx="203400" cy="76320"/>
              </a:xfrm>
              <a:custGeom>
                <a:avLst/>
                <a:gdLst/>
                <a:ahLst/>
                <a:rect l="l" t="t" r="r" b="b"/>
                <a:pathLst>
                  <a:path w="108" h="33">
                    <a:moveTo>
                      <a:pt x="0" y="5"/>
                    </a:moveTo>
                    <a:cubicBezTo>
                      <a:pt x="37" y="0"/>
                      <a:pt x="73" y="1"/>
                      <a:pt x="108" y="13"/>
                    </a:cubicBezTo>
                    <a:cubicBezTo>
                      <a:pt x="104" y="30"/>
                      <a:pt x="104" y="24"/>
                      <a:pt x="104" y="3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6221160" y="3768840"/>
                <a:ext cx="5112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2" y="0"/>
                    </a:moveTo>
                    <a:cubicBezTo>
                      <a:pt x="16" y="5"/>
                      <a:pt x="0" y="32"/>
                      <a:pt x="28" y="3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6232320" y="38448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2" y="0"/>
                    </a:moveTo>
                    <a:cubicBezTo>
                      <a:pt x="16" y="5"/>
                      <a:pt x="0" y="32"/>
                      <a:pt x="28" y="3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232320" y="39546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2" y="0"/>
                    </a:moveTo>
                    <a:cubicBezTo>
                      <a:pt x="16" y="5"/>
                      <a:pt x="0" y="32"/>
                      <a:pt x="28" y="3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8" name=""/>
          <p:cNvGrpSpPr/>
          <p:nvPr/>
        </p:nvGrpSpPr>
        <p:grpSpPr>
          <a:xfrm>
            <a:off x="7182000" y="3692520"/>
            <a:ext cx="443880" cy="338040"/>
            <a:chOff x="7182000" y="3692520"/>
            <a:chExt cx="443880" cy="338040"/>
          </a:xfrm>
        </p:grpSpPr>
        <p:sp>
          <p:nvSpPr>
            <p:cNvPr id="1779" name=""/>
            <p:cNvSpPr/>
            <p:nvPr/>
          </p:nvSpPr>
          <p:spPr>
            <a:xfrm flipH="1">
              <a:off x="7182000" y="3699000"/>
              <a:ext cx="144000" cy="38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345080" y="3956040"/>
              <a:ext cx="280800" cy="74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1" name=""/>
            <p:cNvGrpSpPr/>
            <p:nvPr/>
          </p:nvGrpSpPr>
          <p:grpSpPr>
            <a:xfrm>
              <a:off x="7295760" y="3692520"/>
              <a:ext cx="227880" cy="281160"/>
              <a:chOff x="7295760" y="3692520"/>
              <a:chExt cx="227880" cy="281160"/>
            </a:xfrm>
          </p:grpSpPr>
          <p:sp>
            <p:nvSpPr>
              <p:cNvPr id="1782" name=""/>
              <p:cNvSpPr/>
              <p:nvPr/>
            </p:nvSpPr>
            <p:spPr>
              <a:xfrm>
                <a:off x="7320960" y="3692520"/>
                <a:ext cx="202680" cy="76320"/>
              </a:xfrm>
              <a:custGeom>
                <a:avLst/>
                <a:gdLst/>
                <a:ahLst/>
                <a:rect l="l" t="t" r="r" b="b"/>
                <a:pathLst>
                  <a:path w="108" h="33">
                    <a:moveTo>
                      <a:pt x="0" y="5"/>
                    </a:moveTo>
                    <a:cubicBezTo>
                      <a:pt x="37" y="0"/>
                      <a:pt x="73" y="1"/>
                      <a:pt x="108" y="13"/>
                    </a:cubicBezTo>
                    <a:cubicBezTo>
                      <a:pt x="104" y="30"/>
                      <a:pt x="104" y="24"/>
                      <a:pt x="104" y="3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7306560" y="3775320"/>
                <a:ext cx="203040" cy="75960"/>
              </a:xfrm>
              <a:custGeom>
                <a:avLst/>
                <a:gdLst/>
                <a:ahLst/>
                <a:rect l="l" t="t" r="r" b="b"/>
                <a:pathLst>
                  <a:path w="108" h="33">
                    <a:moveTo>
                      <a:pt x="0" y="5"/>
                    </a:moveTo>
                    <a:cubicBezTo>
                      <a:pt x="37" y="0"/>
                      <a:pt x="73" y="1"/>
                      <a:pt x="108" y="13"/>
                    </a:cubicBezTo>
                    <a:cubicBezTo>
                      <a:pt x="104" y="30"/>
                      <a:pt x="104" y="24"/>
                      <a:pt x="104" y="3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306560" y="3859200"/>
                <a:ext cx="203040" cy="76320"/>
              </a:xfrm>
              <a:custGeom>
                <a:avLst/>
                <a:gdLst/>
                <a:ahLst/>
                <a:rect l="l" t="t" r="r" b="b"/>
                <a:pathLst>
                  <a:path w="108" h="33">
                    <a:moveTo>
                      <a:pt x="0" y="5"/>
                    </a:moveTo>
                    <a:cubicBezTo>
                      <a:pt x="37" y="0"/>
                      <a:pt x="73" y="1"/>
                      <a:pt x="108" y="13"/>
                    </a:cubicBezTo>
                    <a:cubicBezTo>
                      <a:pt x="104" y="30"/>
                      <a:pt x="104" y="24"/>
                      <a:pt x="104" y="3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7295760" y="373716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2" y="0"/>
                    </a:moveTo>
                    <a:cubicBezTo>
                      <a:pt x="16" y="5"/>
                      <a:pt x="0" y="32"/>
                      <a:pt x="28" y="3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306560" y="3813120"/>
                <a:ext cx="5040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2" y="0"/>
                    </a:moveTo>
                    <a:cubicBezTo>
                      <a:pt x="16" y="5"/>
                      <a:pt x="0" y="32"/>
                      <a:pt x="28" y="3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306560" y="3922920"/>
                <a:ext cx="5040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2" y="0"/>
                    </a:moveTo>
                    <a:cubicBezTo>
                      <a:pt x="16" y="5"/>
                      <a:pt x="0" y="32"/>
                      <a:pt x="28" y="3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8" name=""/>
          <p:cNvSpPr/>
          <p:nvPr/>
        </p:nvSpPr>
        <p:spPr>
          <a:xfrm>
            <a:off x="3921120" y="56386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自动空气断路器原理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498760" y="4073400"/>
            <a:ext cx="1447920" cy="533520"/>
          </a:xfrm>
          <a:prstGeom prst="wedgeRoundRectCallout">
            <a:avLst>
              <a:gd name="adj1" fmla="val 54712"/>
              <a:gd name="adj2" fmla="val -182439"/>
              <a:gd name="adj3" fmla="val 16667"/>
            </a:avLst>
          </a:prstGeom>
          <a:solidFill>
            <a:srgbClr val="ffffff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连杆装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219480" y="265896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170160" y="309888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65040" y="2244600"/>
            <a:ext cx="1447920" cy="533520"/>
          </a:xfrm>
          <a:prstGeom prst="wedgeRoundRectCallout">
            <a:avLst>
              <a:gd name="adj1" fmla="val 33662"/>
              <a:gd name="adj2" fmla="val 135416"/>
              <a:gd name="adj3" fmla="val 16667"/>
            </a:avLst>
          </a:prstGeom>
          <a:solidFill>
            <a:srgbClr val="ffffff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释放弹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"/>
          <p:cNvSpPr/>
          <p:nvPr/>
        </p:nvSpPr>
        <p:spPr>
          <a:xfrm>
            <a:off x="609480" y="746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继电接触控制线路由一些基本控制环节组成，下面介绍继电接触控制线路的绘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09480" y="1888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电工技术中所绘制的控制线路图为原理图，它不考虑电器的结构和实际位置，突出的是电气原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030400" y="281880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器自动控制原理图的绘制原则及读图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20840" y="3428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国家规定的电工图形符号和文字符号画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42960" y="3886200"/>
            <a:ext cx="72388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制线路由主电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被控制负载所在电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控制电路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制主电路状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533520" y="4788000"/>
            <a:ext cx="86104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属同一电器元件的不同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接触器的线圈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触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其功能和所接电路的不同分别画在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路中，但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必须标注相同的文字符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"/>
          <p:cNvSpPr/>
          <p:nvPr/>
        </p:nvSpPr>
        <p:spPr>
          <a:xfrm>
            <a:off x="380880" y="588240"/>
            <a:ext cx="83059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有电器的图形符号均按无电压、无外力作用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正常状态画出，即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按通电前的状态绘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80880" y="1517040"/>
            <a:ext cx="85345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电路无关的部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铁心、支架、弹簧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制电路中不画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667520" y="2541600"/>
            <a:ext cx="4021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分析和设计控制电路时应注意以下几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881720" y="3106800"/>
            <a:ext cx="511848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控制电路简单，电器元件少，而且工作又要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确可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2693160" y="4032360"/>
            <a:ext cx="35654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尽可能避免多个电器元件依次动作才能接通另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电器的控制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386000" y="5022720"/>
            <a:ext cx="616536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必须保证每个线圈的额定电压，不能将两个线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串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5" name=""/>
          <p:cNvGrpSpPr/>
          <p:nvPr/>
        </p:nvGrpSpPr>
        <p:grpSpPr>
          <a:xfrm>
            <a:off x="1630080" y="892080"/>
            <a:ext cx="6523200" cy="5661000"/>
            <a:chOff x="1630080" y="892080"/>
            <a:chExt cx="6523200" cy="5661000"/>
          </a:xfrm>
        </p:grpSpPr>
        <p:sp>
          <p:nvSpPr>
            <p:cNvPr id="1806" name=""/>
            <p:cNvSpPr/>
            <p:nvPr/>
          </p:nvSpPr>
          <p:spPr>
            <a:xfrm flipH="1">
              <a:off x="1630080" y="5494320"/>
              <a:ext cx="1917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V="1">
              <a:off x="1630440" y="2970000"/>
              <a:ext cx="1440" cy="252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630440" y="2970360"/>
              <a:ext cx="2276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906720" y="1971720"/>
              <a:ext cx="1800" cy="149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906720" y="3295800"/>
              <a:ext cx="50760" cy="172800"/>
            </a:xfrm>
            <a:custGeom>
              <a:avLst/>
              <a:gdLst/>
              <a:ahLst/>
              <a:rect l="l" t="t" r="r" b="b"/>
              <a:pathLst>
                <a:path w="31" h="106">
                  <a:moveTo>
                    <a:pt x="0" y="106"/>
                  </a:moveTo>
                  <a:lnTo>
                    <a:pt x="31" y="75"/>
                  </a:lnTo>
                  <a:lnTo>
                    <a:pt x="31" y="30"/>
                  </a:lnTo>
                  <a:lnTo>
                    <a:pt x="0" y="0"/>
                  </a:lnTo>
                </a:path>
              </a:pathLst>
            </a:custGeom>
            <a:solidFill>
              <a:srgbClr val="339933"/>
            </a:solidFill>
            <a:ln w="0">
              <a:solidFill>
                <a:srgbClr val="33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3830400" y="2430360"/>
              <a:ext cx="759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830760" y="2430360"/>
              <a:ext cx="1440" cy="31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979800" y="2430360"/>
              <a:ext cx="1800" cy="31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4" name=""/>
            <p:cNvGrpSpPr/>
            <p:nvPr/>
          </p:nvGrpSpPr>
          <p:grpSpPr>
            <a:xfrm>
              <a:off x="3830760" y="2741760"/>
              <a:ext cx="148680" cy="1440"/>
              <a:chOff x="3830760" y="2741760"/>
              <a:chExt cx="148680" cy="1440"/>
            </a:xfrm>
          </p:grpSpPr>
          <p:sp>
            <p:nvSpPr>
              <p:cNvPr id="1815" name=""/>
              <p:cNvSpPr/>
              <p:nvPr/>
            </p:nvSpPr>
            <p:spPr>
              <a:xfrm>
                <a:off x="3830760" y="2741760"/>
                <a:ext cx="75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H="1">
                <a:off x="3906720" y="2741760"/>
                <a:ext cx="72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7" name=""/>
            <p:cNvSpPr/>
            <p:nvPr/>
          </p:nvSpPr>
          <p:spPr>
            <a:xfrm>
              <a:off x="3906720" y="2430360"/>
              <a:ext cx="73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868560" y="1898640"/>
              <a:ext cx="74880" cy="730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3"/>
                  </a:moveTo>
                  <a:lnTo>
                    <a:pt x="38" y="7"/>
                  </a:lnTo>
                  <a:lnTo>
                    <a:pt x="23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7" y="38"/>
                  </a:lnTo>
                  <a:lnTo>
                    <a:pt x="23" y="45"/>
                  </a:lnTo>
                  <a:lnTo>
                    <a:pt x="38" y="38"/>
                  </a:lnTo>
                  <a:lnTo>
                    <a:pt x="45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405320" y="1971720"/>
              <a:ext cx="1440" cy="149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405320" y="3295800"/>
              <a:ext cx="52560" cy="172800"/>
            </a:xfrm>
            <a:custGeom>
              <a:avLst/>
              <a:gdLst/>
              <a:ahLst/>
              <a:rect l="l" t="t" r="r" b="b"/>
              <a:pathLst>
                <a:path w="33" h="106">
                  <a:moveTo>
                    <a:pt x="0" y="106"/>
                  </a:moveTo>
                  <a:lnTo>
                    <a:pt x="33" y="75"/>
                  </a:lnTo>
                  <a:lnTo>
                    <a:pt x="33" y="30"/>
                  </a:lnTo>
                  <a:lnTo>
                    <a:pt x="0" y="0"/>
                  </a:lnTo>
                </a:path>
              </a:pathLst>
            </a:custGeom>
            <a:solidFill>
              <a:srgbClr val="339933"/>
            </a:solidFill>
            <a:ln w="0">
              <a:solidFill>
                <a:srgbClr val="33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370400" y="1898640"/>
              <a:ext cx="69840" cy="73080"/>
            </a:xfrm>
            <a:custGeom>
              <a:avLst/>
              <a:gdLst/>
              <a:ahLst/>
              <a:rect l="l" t="t" r="r" b="b"/>
              <a:pathLst>
                <a:path w="43" h="45">
                  <a:moveTo>
                    <a:pt x="43" y="23"/>
                  </a:moveTo>
                  <a:lnTo>
                    <a:pt x="38" y="7"/>
                  </a:lnTo>
                  <a:lnTo>
                    <a:pt x="21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7" y="38"/>
                  </a:lnTo>
                  <a:lnTo>
                    <a:pt x="21" y="45"/>
                  </a:lnTo>
                  <a:lnTo>
                    <a:pt x="38" y="38"/>
                  </a:lnTo>
                  <a:lnTo>
                    <a:pt x="43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890960" y="1971720"/>
              <a:ext cx="1800" cy="149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90960" y="3295800"/>
              <a:ext cx="54000" cy="172800"/>
            </a:xfrm>
            <a:custGeom>
              <a:avLst/>
              <a:gdLst/>
              <a:ahLst/>
              <a:rect l="l" t="t" r="r" b="b"/>
              <a:pathLst>
                <a:path w="33" h="106">
                  <a:moveTo>
                    <a:pt x="0" y="106"/>
                  </a:moveTo>
                  <a:lnTo>
                    <a:pt x="33" y="75"/>
                  </a:lnTo>
                  <a:lnTo>
                    <a:pt x="33" y="30"/>
                  </a:lnTo>
                  <a:lnTo>
                    <a:pt x="0" y="0"/>
                  </a:lnTo>
                </a:path>
              </a:pathLst>
            </a:custGeom>
            <a:solidFill>
              <a:srgbClr val="339933"/>
            </a:solidFill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856040" y="1898640"/>
              <a:ext cx="68400" cy="730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42" y="23"/>
                  </a:moveTo>
                  <a:lnTo>
                    <a:pt x="35" y="7"/>
                  </a:lnTo>
                  <a:lnTo>
                    <a:pt x="21" y="0"/>
                  </a:lnTo>
                  <a:lnTo>
                    <a:pt x="5" y="7"/>
                  </a:lnTo>
                  <a:lnTo>
                    <a:pt x="0" y="23"/>
                  </a:lnTo>
                  <a:lnTo>
                    <a:pt x="5" y="38"/>
                  </a:lnTo>
                  <a:lnTo>
                    <a:pt x="21" y="45"/>
                  </a:lnTo>
                  <a:lnTo>
                    <a:pt x="35" y="38"/>
                  </a:lnTo>
                  <a:lnTo>
                    <a:pt x="42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V="1">
              <a:off x="4156200" y="3284640"/>
              <a:ext cx="1440" cy="113184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102200" y="3284640"/>
              <a:ext cx="54000" cy="169920"/>
            </a:xfrm>
            <a:custGeom>
              <a:avLst/>
              <a:gdLst/>
              <a:ahLst/>
              <a:rect l="l" t="t" r="r" b="b"/>
              <a:pathLst>
                <a:path w="33" h="105">
                  <a:moveTo>
                    <a:pt x="33" y="0"/>
                  </a:moveTo>
                  <a:lnTo>
                    <a:pt x="0" y="30"/>
                  </a:lnTo>
                  <a:lnTo>
                    <a:pt x="0" y="75"/>
                  </a:lnTo>
                  <a:lnTo>
                    <a:pt x="33" y="105"/>
                  </a:lnTo>
                </a:path>
              </a:pathLst>
            </a:custGeom>
            <a:solidFill>
              <a:srgbClr val="339933"/>
            </a:solidFill>
            <a:ln w="0">
              <a:solidFill>
                <a:srgbClr val="33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102200" y="4243320"/>
              <a:ext cx="54000" cy="173160"/>
            </a:xfrm>
            <a:custGeom>
              <a:avLst/>
              <a:gdLst/>
              <a:ahLst/>
              <a:rect l="l" t="t" r="r" b="b"/>
              <a:pathLst>
                <a:path w="33" h="106">
                  <a:moveTo>
                    <a:pt x="33" y="0"/>
                  </a:moveTo>
                  <a:lnTo>
                    <a:pt x="0" y="31"/>
                  </a:lnTo>
                  <a:lnTo>
                    <a:pt x="0" y="75"/>
                  </a:lnTo>
                  <a:lnTo>
                    <a:pt x="33" y="106"/>
                  </a:lnTo>
                </a:path>
              </a:pathLst>
            </a:custGeom>
            <a:solidFill>
              <a:srgbClr val="339933"/>
            </a:solidFill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4653000" y="3284640"/>
              <a:ext cx="1440" cy="113184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599000" y="4243320"/>
              <a:ext cx="54000" cy="173160"/>
            </a:xfrm>
            <a:custGeom>
              <a:avLst/>
              <a:gdLst/>
              <a:ahLst/>
              <a:rect l="l" t="t" r="r" b="b"/>
              <a:pathLst>
                <a:path w="33" h="106">
                  <a:moveTo>
                    <a:pt x="33" y="0"/>
                  </a:moveTo>
                  <a:lnTo>
                    <a:pt x="0" y="31"/>
                  </a:lnTo>
                  <a:lnTo>
                    <a:pt x="0" y="75"/>
                  </a:lnTo>
                  <a:lnTo>
                    <a:pt x="33" y="106"/>
                  </a:lnTo>
                </a:path>
              </a:pathLst>
            </a:custGeom>
            <a:solidFill>
              <a:srgbClr val="339933"/>
            </a:solidFill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599000" y="3284640"/>
              <a:ext cx="54000" cy="169920"/>
            </a:xfrm>
            <a:custGeom>
              <a:avLst/>
              <a:gdLst/>
              <a:ahLst/>
              <a:rect l="l" t="t" r="r" b="b"/>
              <a:pathLst>
                <a:path w="33" h="105">
                  <a:moveTo>
                    <a:pt x="33" y="0"/>
                  </a:moveTo>
                  <a:lnTo>
                    <a:pt x="0" y="30"/>
                  </a:lnTo>
                  <a:lnTo>
                    <a:pt x="0" y="75"/>
                  </a:lnTo>
                  <a:lnTo>
                    <a:pt x="33" y="105"/>
                  </a:lnTo>
                </a:path>
              </a:pathLst>
            </a:custGeom>
            <a:solidFill>
              <a:srgbClr val="339933"/>
            </a:solidFill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V="1">
              <a:off x="5156280" y="3284640"/>
              <a:ext cx="1440" cy="113184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102280" y="4243320"/>
              <a:ext cx="54000" cy="173160"/>
            </a:xfrm>
            <a:custGeom>
              <a:avLst/>
              <a:gdLst/>
              <a:ahLst/>
              <a:rect l="l" t="t" r="r" b="b"/>
              <a:pathLst>
                <a:path w="33" h="106">
                  <a:moveTo>
                    <a:pt x="33" y="0"/>
                  </a:moveTo>
                  <a:lnTo>
                    <a:pt x="0" y="31"/>
                  </a:lnTo>
                  <a:lnTo>
                    <a:pt x="0" y="75"/>
                  </a:lnTo>
                  <a:lnTo>
                    <a:pt x="33" y="106"/>
                  </a:lnTo>
                </a:path>
              </a:pathLst>
            </a:custGeom>
            <a:solidFill>
              <a:srgbClr val="339933"/>
            </a:solidFill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102280" y="3284640"/>
              <a:ext cx="54000" cy="169920"/>
            </a:xfrm>
            <a:custGeom>
              <a:avLst/>
              <a:gdLst/>
              <a:ahLst/>
              <a:rect l="l" t="t" r="r" b="b"/>
              <a:pathLst>
                <a:path w="33" h="105">
                  <a:moveTo>
                    <a:pt x="33" y="0"/>
                  </a:moveTo>
                  <a:lnTo>
                    <a:pt x="0" y="30"/>
                  </a:lnTo>
                  <a:lnTo>
                    <a:pt x="0" y="75"/>
                  </a:lnTo>
                  <a:lnTo>
                    <a:pt x="33" y="105"/>
                  </a:lnTo>
                </a:path>
              </a:pathLst>
            </a:custGeom>
            <a:solidFill>
              <a:srgbClr val="339933"/>
            </a:solidFill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V="1">
              <a:off x="5659560" y="3284640"/>
              <a:ext cx="1440" cy="113184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607000" y="4243320"/>
              <a:ext cx="52560" cy="173160"/>
            </a:xfrm>
            <a:custGeom>
              <a:avLst/>
              <a:gdLst/>
              <a:ahLst/>
              <a:rect l="l" t="t" r="r" b="b"/>
              <a:pathLst>
                <a:path w="33" h="106">
                  <a:moveTo>
                    <a:pt x="33" y="0"/>
                  </a:moveTo>
                  <a:lnTo>
                    <a:pt x="0" y="31"/>
                  </a:lnTo>
                  <a:lnTo>
                    <a:pt x="0" y="75"/>
                  </a:lnTo>
                  <a:lnTo>
                    <a:pt x="33" y="106"/>
                  </a:lnTo>
                </a:path>
              </a:pathLst>
            </a:custGeom>
            <a:solidFill>
              <a:srgbClr val="339933"/>
            </a:solidFill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607000" y="3284640"/>
              <a:ext cx="52560" cy="169920"/>
            </a:xfrm>
            <a:custGeom>
              <a:avLst/>
              <a:gdLst/>
              <a:ahLst/>
              <a:rect l="l" t="t" r="r" b="b"/>
              <a:pathLst>
                <a:path w="33" h="105">
                  <a:moveTo>
                    <a:pt x="33" y="0"/>
                  </a:moveTo>
                  <a:lnTo>
                    <a:pt x="0" y="30"/>
                  </a:lnTo>
                  <a:lnTo>
                    <a:pt x="0" y="75"/>
                  </a:lnTo>
                  <a:lnTo>
                    <a:pt x="33" y="105"/>
                  </a:lnTo>
                </a:path>
              </a:pathLst>
            </a:custGeom>
            <a:solidFill>
              <a:srgbClr val="339933"/>
            </a:solidFill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V="1">
              <a:off x="3906720" y="5318280"/>
              <a:ext cx="1800" cy="44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906720" y="4263840"/>
              <a:ext cx="50760" cy="171720"/>
            </a:xfrm>
            <a:custGeom>
              <a:avLst/>
              <a:gdLst/>
              <a:ahLst/>
              <a:rect l="l" t="t" r="r" b="b"/>
              <a:pathLst>
                <a:path w="31" h="106">
                  <a:moveTo>
                    <a:pt x="0" y="106"/>
                  </a:moveTo>
                  <a:lnTo>
                    <a:pt x="31" y="75"/>
                  </a:lnTo>
                  <a:lnTo>
                    <a:pt x="31" y="30"/>
                  </a:lnTo>
                  <a:lnTo>
                    <a:pt x="0" y="0"/>
                  </a:lnTo>
                </a:path>
              </a:pathLst>
            </a:custGeom>
            <a:solidFill>
              <a:srgbClr val="339933"/>
            </a:solidFill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389480" y="4263840"/>
              <a:ext cx="54000" cy="171720"/>
            </a:xfrm>
            <a:custGeom>
              <a:avLst/>
              <a:gdLst/>
              <a:ahLst/>
              <a:rect l="l" t="t" r="r" b="b"/>
              <a:pathLst>
                <a:path w="33" h="106">
                  <a:moveTo>
                    <a:pt x="0" y="106"/>
                  </a:moveTo>
                  <a:lnTo>
                    <a:pt x="33" y="75"/>
                  </a:lnTo>
                  <a:lnTo>
                    <a:pt x="33" y="30"/>
                  </a:lnTo>
                  <a:lnTo>
                    <a:pt x="0" y="0"/>
                  </a:lnTo>
                </a:path>
              </a:pathLst>
            </a:custGeom>
            <a:solidFill>
              <a:srgbClr val="339933"/>
            </a:solidFill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V="1">
              <a:off x="4389480" y="4263480"/>
              <a:ext cx="1440" cy="149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888080" y="4263840"/>
              <a:ext cx="53640" cy="171720"/>
            </a:xfrm>
            <a:custGeom>
              <a:avLst/>
              <a:gdLst/>
              <a:ahLst/>
              <a:rect l="l" t="t" r="r" b="b"/>
              <a:pathLst>
                <a:path w="33" h="106">
                  <a:moveTo>
                    <a:pt x="0" y="106"/>
                  </a:moveTo>
                  <a:lnTo>
                    <a:pt x="33" y="75"/>
                  </a:lnTo>
                  <a:lnTo>
                    <a:pt x="33" y="30"/>
                  </a:lnTo>
                  <a:lnTo>
                    <a:pt x="0" y="0"/>
                  </a:lnTo>
                </a:path>
              </a:pathLst>
            </a:custGeom>
            <a:solidFill>
              <a:srgbClr val="339933"/>
            </a:solidFill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V="1">
              <a:off x="4888080" y="5318280"/>
              <a:ext cx="1440" cy="44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403960" y="4263840"/>
              <a:ext cx="52200" cy="171720"/>
            </a:xfrm>
            <a:custGeom>
              <a:avLst/>
              <a:gdLst/>
              <a:ahLst/>
              <a:rect l="l" t="t" r="r" b="b"/>
              <a:pathLst>
                <a:path w="33" h="106">
                  <a:moveTo>
                    <a:pt x="0" y="106"/>
                  </a:moveTo>
                  <a:lnTo>
                    <a:pt x="33" y="75"/>
                  </a:lnTo>
                  <a:lnTo>
                    <a:pt x="33" y="30"/>
                  </a:lnTo>
                  <a:lnTo>
                    <a:pt x="0" y="0"/>
                  </a:lnTo>
                </a:path>
              </a:pathLst>
            </a:custGeom>
            <a:solidFill>
              <a:srgbClr val="339933"/>
            </a:solidFill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5403960" y="4263480"/>
              <a:ext cx="144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3808080" y="5129280"/>
              <a:ext cx="98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808440" y="5129280"/>
              <a:ext cx="1440" cy="18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808440" y="5318280"/>
              <a:ext cx="98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3906720" y="4263840"/>
              <a:ext cx="1800" cy="86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788000" y="5129280"/>
              <a:ext cx="1440" cy="18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788000" y="5318280"/>
              <a:ext cx="100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4788000" y="5129280"/>
              <a:ext cx="100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V="1">
              <a:off x="4888080" y="4263840"/>
              <a:ext cx="1440" cy="86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403960" y="4645080"/>
              <a:ext cx="2484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V="1">
              <a:off x="7888320" y="2253960"/>
              <a:ext cx="1440" cy="239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8151840" y="2254320"/>
              <a:ext cx="1440" cy="2582640"/>
            </a:xfrm>
            <a:prstGeom prst="line">
              <a:avLst/>
            </a:prstGeom>
            <a:ln w="28440">
              <a:solidFill>
                <a:srgbClr val="b65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2698560" y="4836960"/>
              <a:ext cx="5452920" cy="1800"/>
            </a:xfrm>
            <a:prstGeom prst="line">
              <a:avLst/>
            </a:prstGeom>
            <a:ln w="28440">
              <a:solidFill>
                <a:srgbClr val="b65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V="1">
              <a:off x="2698920" y="3739680"/>
              <a:ext cx="1440" cy="1096920"/>
            </a:xfrm>
            <a:prstGeom prst="line">
              <a:avLst/>
            </a:prstGeom>
            <a:ln w="28440">
              <a:solidFill>
                <a:srgbClr val="b65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398680" y="3995640"/>
              <a:ext cx="1800" cy="1014480"/>
            </a:xfrm>
            <a:prstGeom prst="line">
              <a:avLst/>
            </a:prstGeom>
            <a:ln w="28440">
              <a:solidFill>
                <a:srgbClr val="b65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398680" y="5010120"/>
              <a:ext cx="1317600" cy="1440"/>
            </a:xfrm>
            <a:prstGeom prst="line">
              <a:avLst/>
            </a:prstGeom>
            <a:ln w="28440">
              <a:solidFill>
                <a:srgbClr val="b65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0" name=""/>
            <p:cNvGrpSpPr/>
            <p:nvPr/>
          </p:nvGrpSpPr>
          <p:grpSpPr>
            <a:xfrm>
              <a:off x="3548160" y="5010120"/>
              <a:ext cx="169200" cy="483840"/>
              <a:chOff x="3548160" y="5010120"/>
              <a:chExt cx="169200" cy="483840"/>
            </a:xfrm>
          </p:grpSpPr>
          <p:sp>
            <p:nvSpPr>
              <p:cNvPr id="1861" name=""/>
              <p:cNvSpPr/>
              <p:nvPr/>
            </p:nvSpPr>
            <p:spPr>
              <a:xfrm>
                <a:off x="3548160" y="5128560"/>
                <a:ext cx="1800" cy="36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2" name=""/>
              <p:cNvGrpSpPr/>
              <p:nvPr/>
            </p:nvGrpSpPr>
            <p:grpSpPr>
              <a:xfrm>
                <a:off x="3548160" y="5010120"/>
                <a:ext cx="169200" cy="285480"/>
                <a:chOff x="3548160" y="5010120"/>
                <a:chExt cx="169200" cy="285480"/>
              </a:xfrm>
            </p:grpSpPr>
            <p:sp>
              <p:nvSpPr>
                <p:cNvPr id="1863" name=""/>
                <p:cNvSpPr/>
                <p:nvPr/>
              </p:nvSpPr>
              <p:spPr>
                <a:xfrm>
                  <a:off x="3715920" y="5010120"/>
                  <a:ext cx="1440" cy="28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3548160" y="5128560"/>
                  <a:ext cx="83880" cy="167040"/>
                </a:xfrm>
                <a:custGeom>
                  <a:avLst/>
                  <a:gdLst/>
                  <a:ahLst/>
                  <a:rect l="l" t="t" r="r" b="b"/>
                  <a:pathLst>
                    <a:path w="52" h="103">
                      <a:moveTo>
                        <a:pt x="0" y="103"/>
                      </a:moveTo>
                      <a:lnTo>
                        <a:pt x="36" y="89"/>
                      </a:lnTo>
                      <a:lnTo>
                        <a:pt x="52" y="51"/>
                      </a:lnTo>
                      <a:lnTo>
                        <a:pt x="36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3632040" y="5128560"/>
                  <a:ext cx="83520" cy="167040"/>
                </a:xfrm>
                <a:custGeom>
                  <a:avLst/>
                  <a:gdLst/>
                  <a:ahLst/>
                  <a:rect l="l" t="t" r="r" b="b"/>
                  <a:pathLst>
                    <a:path w="52" h="103">
                      <a:moveTo>
                        <a:pt x="52" y="0"/>
                      </a:moveTo>
                      <a:lnTo>
                        <a:pt x="14" y="14"/>
                      </a:lnTo>
                      <a:lnTo>
                        <a:pt x="0" y="51"/>
                      </a:lnTo>
                      <a:lnTo>
                        <a:pt x="14" y="89"/>
                      </a:lnTo>
                      <a:lnTo>
                        <a:pt x="52" y="10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6" name=""/>
            <p:cNvSpPr/>
            <p:nvPr/>
          </p:nvSpPr>
          <p:spPr>
            <a:xfrm>
              <a:off x="5403960" y="5483160"/>
              <a:ext cx="1440" cy="69840"/>
            </a:xfrm>
            <a:prstGeom prst="line">
              <a:avLst/>
            </a:prstGeom>
            <a:ln w="1908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995640" y="5748480"/>
              <a:ext cx="804960" cy="804600"/>
            </a:xfrm>
            <a:custGeom>
              <a:avLst/>
              <a:gdLst/>
              <a:ahLst/>
              <a:rect l="l" t="t" r="r" b="b"/>
              <a:pathLst>
                <a:path w="581" h="581">
                  <a:moveTo>
                    <a:pt x="581" y="289"/>
                  </a:moveTo>
                  <a:lnTo>
                    <a:pt x="557" y="179"/>
                  </a:lnTo>
                  <a:lnTo>
                    <a:pt x="496" y="84"/>
                  </a:lnTo>
                  <a:lnTo>
                    <a:pt x="402" y="21"/>
                  </a:lnTo>
                  <a:lnTo>
                    <a:pt x="289" y="0"/>
                  </a:lnTo>
                  <a:lnTo>
                    <a:pt x="178" y="21"/>
                  </a:lnTo>
                  <a:lnTo>
                    <a:pt x="84" y="84"/>
                  </a:lnTo>
                  <a:lnTo>
                    <a:pt x="23" y="179"/>
                  </a:lnTo>
                  <a:lnTo>
                    <a:pt x="0" y="289"/>
                  </a:lnTo>
                  <a:lnTo>
                    <a:pt x="23" y="402"/>
                  </a:lnTo>
                  <a:lnTo>
                    <a:pt x="84" y="496"/>
                  </a:lnTo>
                  <a:lnTo>
                    <a:pt x="178" y="557"/>
                  </a:lnTo>
                  <a:lnTo>
                    <a:pt x="289" y="581"/>
                  </a:lnTo>
                  <a:lnTo>
                    <a:pt x="402" y="557"/>
                  </a:lnTo>
                  <a:lnTo>
                    <a:pt x="496" y="496"/>
                  </a:lnTo>
                  <a:lnTo>
                    <a:pt x="557" y="402"/>
                  </a:lnTo>
                  <a:lnTo>
                    <a:pt x="581" y="28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870360" y="5762520"/>
              <a:ext cx="208080" cy="1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4723920" y="5762520"/>
              <a:ext cx="163800" cy="15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411880" y="3095640"/>
              <a:ext cx="1440" cy="37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411880" y="3295800"/>
              <a:ext cx="54000" cy="172800"/>
            </a:xfrm>
            <a:custGeom>
              <a:avLst/>
              <a:gdLst/>
              <a:ahLst/>
              <a:rect l="l" t="t" r="r" b="b"/>
              <a:pathLst>
                <a:path w="33" h="106">
                  <a:moveTo>
                    <a:pt x="0" y="106"/>
                  </a:moveTo>
                  <a:lnTo>
                    <a:pt x="33" y="75"/>
                  </a:lnTo>
                  <a:lnTo>
                    <a:pt x="33" y="30"/>
                  </a:lnTo>
                  <a:lnTo>
                    <a:pt x="0" y="0"/>
                  </a:lnTo>
                </a:path>
              </a:pathLst>
            </a:custGeom>
            <a:solidFill>
              <a:srgbClr val="339933"/>
            </a:solidFill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411880" y="3095640"/>
              <a:ext cx="16333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7045200" y="2249640"/>
              <a:ext cx="1800" cy="84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890960" y="2965320"/>
              <a:ext cx="998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5889600" y="2249640"/>
              <a:ext cx="1440" cy="71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889600" y="2249640"/>
              <a:ext cx="55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799400" y="2039760"/>
              <a:ext cx="1440" cy="921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8" name=""/>
            <p:cNvGrpSpPr/>
            <p:nvPr/>
          </p:nvGrpSpPr>
          <p:grpSpPr>
            <a:xfrm>
              <a:off x="6383160" y="2047680"/>
              <a:ext cx="490320" cy="506160"/>
              <a:chOff x="6383160" y="2047680"/>
              <a:chExt cx="490320" cy="506160"/>
            </a:xfrm>
          </p:grpSpPr>
          <p:sp>
            <p:nvSpPr>
              <p:cNvPr id="1879" name=""/>
              <p:cNvSpPr/>
              <p:nvPr/>
            </p:nvSpPr>
            <p:spPr>
              <a:xfrm flipV="1">
                <a:off x="6443280" y="2047680"/>
                <a:ext cx="1440" cy="20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6436440" y="2552400"/>
                <a:ext cx="4370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V="1">
                <a:off x="6598080" y="2475360"/>
                <a:ext cx="114120" cy="7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 flipV="1">
                <a:off x="6597720" y="2418840"/>
                <a:ext cx="114120" cy="5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V="1">
                <a:off x="6598080" y="2350080"/>
                <a:ext cx="105840" cy="6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H="1" flipV="1">
                <a:off x="6578280" y="2277000"/>
                <a:ext cx="125640" cy="73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V="1">
                <a:off x="6578640" y="2183760"/>
                <a:ext cx="102600" cy="9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383160" y="2076840"/>
                <a:ext cx="451440" cy="16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7" name=""/>
            <p:cNvGrpSpPr/>
            <p:nvPr/>
          </p:nvGrpSpPr>
          <p:grpSpPr>
            <a:xfrm>
              <a:off x="7243560" y="2254320"/>
              <a:ext cx="435960" cy="369360"/>
              <a:chOff x="7243560" y="2254320"/>
              <a:chExt cx="435960" cy="369360"/>
            </a:xfrm>
          </p:grpSpPr>
          <p:sp>
            <p:nvSpPr>
              <p:cNvPr id="1888" name=""/>
              <p:cNvSpPr/>
              <p:nvPr/>
            </p:nvSpPr>
            <p:spPr>
              <a:xfrm flipH="1">
                <a:off x="7282080" y="2254320"/>
                <a:ext cx="345240" cy="121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H="1" flipV="1">
                <a:off x="7435440" y="2322000"/>
                <a:ext cx="102600" cy="6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V="1">
                <a:off x="7413120" y="2390400"/>
                <a:ext cx="125280" cy="7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 flipV="1">
                <a:off x="7413120" y="2463480"/>
                <a:ext cx="107280" cy="4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V="1">
                <a:off x="7404840" y="2509200"/>
                <a:ext cx="115560" cy="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H="1" flipV="1">
                <a:off x="7404480" y="2568600"/>
                <a:ext cx="115560" cy="5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>
                <a:off x="7243560" y="2621880"/>
                <a:ext cx="43596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5" name=""/>
            <p:cNvGrpSpPr/>
            <p:nvPr/>
          </p:nvGrpSpPr>
          <p:grpSpPr>
            <a:xfrm>
              <a:off x="3643200" y="2322000"/>
              <a:ext cx="1509480" cy="546120"/>
              <a:chOff x="3643200" y="2322000"/>
              <a:chExt cx="1509480" cy="546120"/>
            </a:xfrm>
          </p:grpSpPr>
          <p:grpSp>
            <p:nvGrpSpPr>
              <p:cNvPr id="1896" name=""/>
              <p:cNvGrpSpPr/>
              <p:nvPr/>
            </p:nvGrpSpPr>
            <p:grpSpPr>
              <a:xfrm>
                <a:off x="3643200" y="2322000"/>
                <a:ext cx="68040" cy="543960"/>
                <a:chOff x="3643200" y="2322000"/>
                <a:chExt cx="68040" cy="543960"/>
              </a:xfrm>
            </p:grpSpPr>
            <p:sp>
              <p:nvSpPr>
                <p:cNvPr id="1897" name=""/>
                <p:cNvSpPr/>
                <p:nvPr/>
              </p:nvSpPr>
              <p:spPr>
                <a:xfrm flipV="1">
                  <a:off x="3643200" y="2774880"/>
                  <a:ext cx="1800" cy="910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 flipV="1">
                  <a:off x="3643200" y="2662200"/>
                  <a:ext cx="1800" cy="896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 flipV="1">
                  <a:off x="3643200" y="2552040"/>
                  <a:ext cx="1800" cy="878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 flipV="1">
                  <a:off x="3643200" y="2437560"/>
                  <a:ext cx="1800" cy="910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 flipV="1">
                  <a:off x="3643200" y="2322000"/>
                  <a:ext cx="1800" cy="9252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3643200" y="2322360"/>
                  <a:ext cx="6804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3" name=""/>
              <p:cNvGrpSpPr/>
              <p:nvPr/>
            </p:nvGrpSpPr>
            <p:grpSpPr>
              <a:xfrm>
                <a:off x="3731040" y="2322360"/>
                <a:ext cx="1419120" cy="1440"/>
                <a:chOff x="3731040" y="2322360"/>
                <a:chExt cx="1419120" cy="1440"/>
              </a:xfrm>
            </p:grpSpPr>
            <p:sp>
              <p:nvSpPr>
                <p:cNvPr id="1904" name=""/>
                <p:cNvSpPr/>
                <p:nvPr/>
              </p:nvSpPr>
              <p:spPr>
                <a:xfrm>
                  <a:off x="3731040" y="2322360"/>
                  <a:ext cx="9252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3846240" y="232236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3956760" y="2322360"/>
                  <a:ext cx="9252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4072320" y="232236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4182480" y="2322360"/>
                  <a:ext cx="8784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4293360" y="2322360"/>
                  <a:ext cx="928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4408560" y="2322360"/>
                  <a:ext cx="8784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4519440" y="2322360"/>
                  <a:ext cx="910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4629960" y="2322360"/>
                  <a:ext cx="928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4745520" y="232236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4856040" y="2322360"/>
                  <a:ext cx="910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4971600" y="232236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5082120" y="2322360"/>
                  <a:ext cx="6804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7" name=""/>
              <p:cNvGrpSpPr/>
              <p:nvPr/>
            </p:nvGrpSpPr>
            <p:grpSpPr>
              <a:xfrm>
                <a:off x="5150880" y="2322360"/>
                <a:ext cx="1800" cy="543960"/>
                <a:chOff x="5150880" y="2322360"/>
                <a:chExt cx="1800" cy="543960"/>
              </a:xfrm>
            </p:grpSpPr>
            <p:sp>
              <p:nvSpPr>
                <p:cNvPr id="1918" name=""/>
                <p:cNvSpPr/>
                <p:nvPr/>
              </p:nvSpPr>
              <p:spPr>
                <a:xfrm>
                  <a:off x="5150880" y="2322360"/>
                  <a:ext cx="1800" cy="9252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5150880" y="2437920"/>
                  <a:ext cx="1800" cy="910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5150880" y="2552040"/>
                  <a:ext cx="1800" cy="878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5150880" y="2662560"/>
                  <a:ext cx="1800" cy="896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5150880" y="2775240"/>
                  <a:ext cx="1800" cy="910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3" name=""/>
              <p:cNvGrpSpPr/>
              <p:nvPr/>
            </p:nvGrpSpPr>
            <p:grpSpPr>
              <a:xfrm>
                <a:off x="3643200" y="2866680"/>
                <a:ext cx="1506960" cy="1440"/>
                <a:chOff x="3643200" y="2866680"/>
                <a:chExt cx="1506960" cy="1440"/>
              </a:xfrm>
            </p:grpSpPr>
            <p:sp>
              <p:nvSpPr>
                <p:cNvPr id="1924" name=""/>
                <p:cNvSpPr/>
                <p:nvPr/>
              </p:nvSpPr>
              <p:spPr>
                <a:xfrm flipH="1">
                  <a:off x="5082120" y="2866680"/>
                  <a:ext cx="6804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 flipH="1">
                  <a:off x="4971600" y="286668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 flipH="1">
                  <a:off x="4856040" y="2866680"/>
                  <a:ext cx="910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 flipH="1">
                  <a:off x="4745520" y="286668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 flipH="1">
                  <a:off x="4630320" y="2866680"/>
                  <a:ext cx="928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 flipH="1">
                  <a:off x="4519440" y="2866680"/>
                  <a:ext cx="910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 flipH="1">
                  <a:off x="4408920" y="2866680"/>
                  <a:ext cx="8784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 flipH="1">
                  <a:off x="4293720" y="2866680"/>
                  <a:ext cx="928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 flipH="1">
                  <a:off x="4182840" y="2866680"/>
                  <a:ext cx="8784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 flipH="1">
                  <a:off x="4072320" y="286668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 flipH="1">
                  <a:off x="3956760" y="2866680"/>
                  <a:ext cx="9252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 flipH="1">
                  <a:off x="3846240" y="286668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 flipH="1">
                  <a:off x="3730680" y="2866680"/>
                  <a:ext cx="9252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 flipH="1">
                  <a:off x="3643200" y="2866680"/>
                  <a:ext cx="6840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38" name=""/>
            <p:cNvGrpSpPr/>
            <p:nvPr/>
          </p:nvGrpSpPr>
          <p:grpSpPr>
            <a:xfrm>
              <a:off x="3643200" y="1233360"/>
              <a:ext cx="1509480" cy="988920"/>
              <a:chOff x="3643200" y="1233360"/>
              <a:chExt cx="1509480" cy="988920"/>
            </a:xfrm>
          </p:grpSpPr>
          <p:grpSp>
            <p:nvGrpSpPr>
              <p:cNvPr id="1939" name=""/>
              <p:cNvGrpSpPr/>
              <p:nvPr/>
            </p:nvGrpSpPr>
            <p:grpSpPr>
              <a:xfrm>
                <a:off x="3643200" y="1343520"/>
                <a:ext cx="1800" cy="876600"/>
                <a:chOff x="3643200" y="1343520"/>
                <a:chExt cx="1800" cy="876600"/>
              </a:xfrm>
            </p:grpSpPr>
            <p:sp>
              <p:nvSpPr>
                <p:cNvPr id="1940" name=""/>
                <p:cNvSpPr/>
                <p:nvPr/>
              </p:nvSpPr>
              <p:spPr>
                <a:xfrm flipV="1">
                  <a:off x="3643200" y="2130480"/>
                  <a:ext cx="1800" cy="896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 flipV="1">
                  <a:off x="3643200" y="2017080"/>
                  <a:ext cx="1800" cy="910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 flipV="1">
                  <a:off x="3643200" y="1906200"/>
                  <a:ext cx="1800" cy="910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 flipV="1">
                  <a:off x="3643200" y="1794600"/>
                  <a:ext cx="1800" cy="89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flipV="1">
                  <a:off x="3643200" y="1680120"/>
                  <a:ext cx="1800" cy="910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 flipV="1">
                  <a:off x="3643200" y="1569600"/>
                  <a:ext cx="1800" cy="874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 flipV="1">
                  <a:off x="3643200" y="1454040"/>
                  <a:ext cx="1800" cy="910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 flipV="1">
                  <a:off x="3643200" y="1343520"/>
                  <a:ext cx="1800" cy="874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8" name=""/>
              <p:cNvGrpSpPr/>
              <p:nvPr/>
            </p:nvGrpSpPr>
            <p:grpSpPr>
              <a:xfrm>
                <a:off x="3643200" y="1233360"/>
                <a:ext cx="1509120" cy="87120"/>
                <a:chOff x="3643200" y="1233360"/>
                <a:chExt cx="1509120" cy="87120"/>
              </a:xfrm>
            </p:grpSpPr>
            <p:sp>
              <p:nvSpPr>
                <p:cNvPr id="1949" name=""/>
                <p:cNvSpPr/>
                <p:nvPr/>
              </p:nvSpPr>
              <p:spPr>
                <a:xfrm flipV="1">
                  <a:off x="3643200" y="1233360"/>
                  <a:ext cx="1800" cy="8712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3643200" y="1233360"/>
                  <a:ext cx="6840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3731040" y="1233360"/>
                  <a:ext cx="9252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3846600" y="1233360"/>
                  <a:ext cx="8748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3957120" y="1233360"/>
                  <a:ext cx="9252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4072680" y="1233360"/>
                  <a:ext cx="8748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4182840" y="1233360"/>
                  <a:ext cx="8784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4293720" y="1233360"/>
                  <a:ext cx="9288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4408920" y="1233360"/>
                  <a:ext cx="8784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4519800" y="1233360"/>
                  <a:ext cx="9108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4630320" y="1233360"/>
                  <a:ext cx="9288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4745880" y="1233360"/>
                  <a:ext cx="8748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4856400" y="1233360"/>
                  <a:ext cx="9108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4971960" y="1233360"/>
                  <a:ext cx="8748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5082480" y="1233360"/>
                  <a:ext cx="6804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5150520" y="1233360"/>
                  <a:ext cx="1800" cy="8712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5" name=""/>
              <p:cNvGrpSpPr/>
              <p:nvPr/>
            </p:nvGrpSpPr>
            <p:grpSpPr>
              <a:xfrm>
                <a:off x="5150880" y="1343880"/>
                <a:ext cx="1800" cy="876600"/>
                <a:chOff x="5150880" y="1343880"/>
                <a:chExt cx="1800" cy="876600"/>
              </a:xfrm>
            </p:grpSpPr>
            <p:sp>
              <p:nvSpPr>
                <p:cNvPr id="1966" name=""/>
                <p:cNvSpPr/>
                <p:nvPr/>
              </p:nvSpPr>
              <p:spPr>
                <a:xfrm>
                  <a:off x="5150880" y="1343880"/>
                  <a:ext cx="1800" cy="874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5150880" y="1454400"/>
                  <a:ext cx="1800" cy="910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5150880" y="1569960"/>
                  <a:ext cx="1800" cy="874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5150880" y="1680480"/>
                  <a:ext cx="1800" cy="910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5150880" y="1794600"/>
                  <a:ext cx="1800" cy="89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5150880" y="1906560"/>
                  <a:ext cx="1800" cy="910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5150880" y="2017440"/>
                  <a:ext cx="1800" cy="910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5150880" y="2130840"/>
                  <a:ext cx="1800" cy="896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4" name=""/>
              <p:cNvGrpSpPr/>
              <p:nvPr/>
            </p:nvGrpSpPr>
            <p:grpSpPr>
              <a:xfrm>
                <a:off x="3643200" y="2220840"/>
                <a:ext cx="1506960" cy="1440"/>
                <a:chOff x="3643200" y="2220840"/>
                <a:chExt cx="1506960" cy="1440"/>
              </a:xfrm>
            </p:grpSpPr>
            <p:sp>
              <p:nvSpPr>
                <p:cNvPr id="1975" name=""/>
                <p:cNvSpPr/>
                <p:nvPr/>
              </p:nvSpPr>
              <p:spPr>
                <a:xfrm flipH="1">
                  <a:off x="5082120" y="2220840"/>
                  <a:ext cx="6804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 flipH="1">
                  <a:off x="4971600" y="222084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 flipH="1">
                  <a:off x="4856040" y="2220840"/>
                  <a:ext cx="910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 flipH="1">
                  <a:off x="4745520" y="222084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 flipH="1">
                  <a:off x="4630320" y="2220840"/>
                  <a:ext cx="928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 flipH="1">
                  <a:off x="4519440" y="2220840"/>
                  <a:ext cx="910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 flipH="1">
                  <a:off x="4408920" y="2220840"/>
                  <a:ext cx="8784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 flipH="1">
                  <a:off x="4293720" y="2220840"/>
                  <a:ext cx="928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 flipH="1">
                  <a:off x="4182840" y="2220840"/>
                  <a:ext cx="8784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 flipH="1">
                  <a:off x="4072320" y="222084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 flipH="1">
                  <a:off x="3956760" y="2220840"/>
                  <a:ext cx="9252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 flipH="1">
                  <a:off x="3846240" y="222084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 flipH="1">
                  <a:off x="3730680" y="2220840"/>
                  <a:ext cx="9252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 flipH="1">
                  <a:off x="3643200" y="2220840"/>
                  <a:ext cx="6840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9" name=""/>
            <p:cNvSpPr/>
            <p:nvPr/>
          </p:nvSpPr>
          <p:spPr>
            <a:xfrm flipV="1">
              <a:off x="3906720" y="965160"/>
              <a:ext cx="180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868560" y="1428840"/>
              <a:ext cx="74880" cy="6804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45" y="21"/>
                  </a:moveTo>
                  <a:lnTo>
                    <a:pt x="38" y="7"/>
                  </a:lnTo>
                  <a:lnTo>
                    <a:pt x="23" y="0"/>
                  </a:lnTo>
                  <a:lnTo>
                    <a:pt x="7" y="7"/>
                  </a:lnTo>
                  <a:lnTo>
                    <a:pt x="0" y="21"/>
                  </a:lnTo>
                  <a:lnTo>
                    <a:pt x="7" y="37"/>
                  </a:lnTo>
                  <a:lnTo>
                    <a:pt x="23" y="42"/>
                  </a:lnTo>
                  <a:lnTo>
                    <a:pt x="38" y="37"/>
                  </a:lnTo>
                  <a:lnTo>
                    <a:pt x="45" y="2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868560" y="892080"/>
              <a:ext cx="74880" cy="730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4"/>
                  </a:moveTo>
                  <a:lnTo>
                    <a:pt x="38" y="7"/>
                  </a:lnTo>
                  <a:lnTo>
                    <a:pt x="23" y="0"/>
                  </a:lnTo>
                  <a:lnTo>
                    <a:pt x="7" y="7"/>
                  </a:lnTo>
                  <a:lnTo>
                    <a:pt x="0" y="24"/>
                  </a:lnTo>
                  <a:lnTo>
                    <a:pt x="7" y="38"/>
                  </a:lnTo>
                  <a:lnTo>
                    <a:pt x="23" y="45"/>
                  </a:lnTo>
                  <a:lnTo>
                    <a:pt x="38" y="38"/>
                  </a:lnTo>
                  <a:lnTo>
                    <a:pt x="45" y="2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4405320" y="965160"/>
              <a:ext cx="144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370400" y="1428840"/>
              <a:ext cx="69840" cy="6804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3" y="21"/>
                  </a:moveTo>
                  <a:lnTo>
                    <a:pt x="38" y="7"/>
                  </a:lnTo>
                  <a:lnTo>
                    <a:pt x="21" y="0"/>
                  </a:lnTo>
                  <a:lnTo>
                    <a:pt x="7" y="7"/>
                  </a:lnTo>
                  <a:lnTo>
                    <a:pt x="0" y="21"/>
                  </a:lnTo>
                  <a:lnTo>
                    <a:pt x="7" y="37"/>
                  </a:lnTo>
                  <a:lnTo>
                    <a:pt x="21" y="42"/>
                  </a:lnTo>
                  <a:lnTo>
                    <a:pt x="38" y="37"/>
                  </a:lnTo>
                  <a:lnTo>
                    <a:pt x="43" y="2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370400" y="892080"/>
              <a:ext cx="69840" cy="73080"/>
            </a:xfrm>
            <a:custGeom>
              <a:avLst/>
              <a:gdLst/>
              <a:ahLst/>
              <a:rect l="l" t="t" r="r" b="b"/>
              <a:pathLst>
                <a:path w="43" h="45">
                  <a:moveTo>
                    <a:pt x="43" y="24"/>
                  </a:moveTo>
                  <a:lnTo>
                    <a:pt x="38" y="7"/>
                  </a:lnTo>
                  <a:lnTo>
                    <a:pt x="21" y="0"/>
                  </a:lnTo>
                  <a:lnTo>
                    <a:pt x="7" y="7"/>
                  </a:lnTo>
                  <a:lnTo>
                    <a:pt x="0" y="24"/>
                  </a:lnTo>
                  <a:lnTo>
                    <a:pt x="7" y="38"/>
                  </a:lnTo>
                  <a:lnTo>
                    <a:pt x="21" y="45"/>
                  </a:lnTo>
                  <a:lnTo>
                    <a:pt x="38" y="38"/>
                  </a:lnTo>
                  <a:lnTo>
                    <a:pt x="43" y="2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V="1">
              <a:off x="4890960" y="965160"/>
              <a:ext cx="180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856040" y="1428840"/>
              <a:ext cx="68400" cy="6804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1"/>
                  </a:moveTo>
                  <a:lnTo>
                    <a:pt x="35" y="7"/>
                  </a:lnTo>
                  <a:lnTo>
                    <a:pt x="21" y="0"/>
                  </a:lnTo>
                  <a:lnTo>
                    <a:pt x="5" y="7"/>
                  </a:lnTo>
                  <a:lnTo>
                    <a:pt x="0" y="21"/>
                  </a:lnTo>
                  <a:lnTo>
                    <a:pt x="5" y="37"/>
                  </a:lnTo>
                  <a:lnTo>
                    <a:pt x="21" y="42"/>
                  </a:lnTo>
                  <a:lnTo>
                    <a:pt x="35" y="37"/>
                  </a:lnTo>
                  <a:lnTo>
                    <a:pt x="42" y="2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856040" y="892080"/>
              <a:ext cx="68400" cy="730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42" y="24"/>
                  </a:moveTo>
                  <a:lnTo>
                    <a:pt x="35" y="7"/>
                  </a:lnTo>
                  <a:lnTo>
                    <a:pt x="21" y="0"/>
                  </a:lnTo>
                  <a:lnTo>
                    <a:pt x="5" y="7"/>
                  </a:lnTo>
                  <a:lnTo>
                    <a:pt x="0" y="24"/>
                  </a:lnTo>
                  <a:lnTo>
                    <a:pt x="5" y="38"/>
                  </a:lnTo>
                  <a:lnTo>
                    <a:pt x="21" y="45"/>
                  </a:lnTo>
                  <a:lnTo>
                    <a:pt x="35" y="38"/>
                  </a:lnTo>
                  <a:lnTo>
                    <a:pt x="42" y="2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8" name=""/>
            <p:cNvGrpSpPr/>
            <p:nvPr/>
          </p:nvGrpSpPr>
          <p:grpSpPr>
            <a:xfrm>
              <a:off x="3906720" y="1717560"/>
              <a:ext cx="983880" cy="1800"/>
              <a:chOff x="3906720" y="1717560"/>
              <a:chExt cx="983880" cy="1800"/>
            </a:xfrm>
          </p:grpSpPr>
          <p:sp>
            <p:nvSpPr>
              <p:cNvPr id="1999" name=""/>
              <p:cNvSpPr/>
              <p:nvPr/>
            </p:nvSpPr>
            <p:spPr>
              <a:xfrm>
                <a:off x="3906720" y="1717560"/>
                <a:ext cx="842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4014000" y="1717560"/>
                <a:ext cx="92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4129200" y="1717560"/>
                <a:ext cx="874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4240080" y="1717560"/>
                <a:ext cx="92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4350600" y="1717560"/>
                <a:ext cx="92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4466160" y="1717560"/>
                <a:ext cx="874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4576680" y="1717560"/>
                <a:ext cx="92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4692240" y="1717560"/>
                <a:ext cx="874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4803120" y="1717560"/>
                <a:ext cx="874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8" name=""/>
            <p:cNvSpPr/>
            <p:nvPr/>
          </p:nvSpPr>
          <p:spPr>
            <a:xfrm>
              <a:off x="2235600" y="2093760"/>
              <a:ext cx="1027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宋体"/>
                </a:rPr>
                <a:t>熔断器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F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722600" y="2484360"/>
              <a:ext cx="1514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宋体"/>
                </a:rPr>
                <a:t>交流接触器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206800" y="1542960"/>
              <a:ext cx="104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组合开关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694200" y="1312920"/>
              <a:ext cx="811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按扭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S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2" name=""/>
            <p:cNvGrpSpPr/>
            <p:nvPr/>
          </p:nvGrpSpPr>
          <p:grpSpPr>
            <a:xfrm>
              <a:off x="6467760" y="1744560"/>
              <a:ext cx="516960" cy="420840"/>
              <a:chOff x="6467760" y="1744560"/>
              <a:chExt cx="516960" cy="420840"/>
            </a:xfrm>
          </p:grpSpPr>
          <p:sp>
            <p:nvSpPr>
              <p:cNvPr id="2013" name=""/>
              <p:cNvSpPr/>
              <p:nvPr/>
            </p:nvSpPr>
            <p:spPr>
              <a:xfrm>
                <a:off x="6467760" y="174456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S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6869520" y="189072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5" name=""/>
            <p:cNvGrpSpPr/>
            <p:nvPr/>
          </p:nvGrpSpPr>
          <p:grpSpPr>
            <a:xfrm>
              <a:off x="7224840" y="1781280"/>
              <a:ext cx="513720" cy="383760"/>
              <a:chOff x="7224840" y="1781280"/>
              <a:chExt cx="513720" cy="383760"/>
            </a:xfrm>
          </p:grpSpPr>
          <p:sp>
            <p:nvSpPr>
              <p:cNvPr id="2016" name=""/>
              <p:cNvSpPr/>
              <p:nvPr/>
            </p:nvSpPr>
            <p:spPr>
              <a:xfrm>
                <a:off x="7224840" y="178128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S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606800" y="189036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39933"/>
                    </a:solidFill>
                    <a:latin typeface="宋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8" name=""/>
            <p:cNvSpPr/>
            <p:nvPr/>
          </p:nvSpPr>
          <p:spPr>
            <a:xfrm>
              <a:off x="6989040" y="19382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850880" y="19382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773320" y="5037120"/>
              <a:ext cx="1210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9933"/>
                  </a:solidFill>
                  <a:latin typeface="宋体"/>
                </a:rPr>
                <a:t>热继电器</a:t>
              </a:r>
              <a:r>
                <a:rPr b="1" lang="zh-CN" sz="2400" spc="-1" strike="noStrike">
                  <a:solidFill>
                    <a:srgbClr val="339933"/>
                  </a:solidFill>
                  <a:latin typeface="Times New Roman"/>
                </a:rPr>
                <a:t>F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257000" y="5840280"/>
              <a:ext cx="28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194720" y="6168960"/>
              <a:ext cx="378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151000" y="48261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954240" y="29034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714560" y="28972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H="1" flipV="1">
              <a:off x="3789000" y="1477440"/>
              <a:ext cx="23004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4282560" y="1477440"/>
              <a:ext cx="22860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 flipV="1">
              <a:off x="4771800" y="1477440"/>
              <a:ext cx="23004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2300400" y="3995280"/>
              <a:ext cx="1440" cy="2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2300400" y="3493800"/>
              <a:ext cx="1440" cy="2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155680" y="3284640"/>
              <a:ext cx="180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394080" y="3284640"/>
              <a:ext cx="1440" cy="11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3" name=""/>
            <p:cNvGrpSpPr/>
            <p:nvPr/>
          </p:nvGrpSpPr>
          <p:grpSpPr>
            <a:xfrm>
              <a:off x="2155320" y="3284640"/>
              <a:ext cx="1238400" cy="1155240"/>
              <a:chOff x="2155320" y="3284640"/>
              <a:chExt cx="1238400" cy="1155240"/>
            </a:xfrm>
          </p:grpSpPr>
          <p:sp>
            <p:nvSpPr>
              <p:cNvPr id="2034" name=""/>
              <p:cNvSpPr/>
              <p:nvPr/>
            </p:nvSpPr>
            <p:spPr>
              <a:xfrm flipV="1">
                <a:off x="2782800" y="4246200"/>
                <a:ext cx="1440" cy="191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H="1">
                <a:off x="2299680" y="4246560"/>
                <a:ext cx="48276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300040" y="3994920"/>
                <a:ext cx="4744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flipV="1">
                <a:off x="2774520" y="3739680"/>
                <a:ext cx="1440" cy="25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flipH="1">
                <a:off x="2300040" y="3739680"/>
                <a:ext cx="4744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300040" y="3494160"/>
                <a:ext cx="4744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2774520" y="3284640"/>
                <a:ext cx="1440" cy="20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H="1">
                <a:off x="2155320" y="3284640"/>
                <a:ext cx="6188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155680" y="4438440"/>
                <a:ext cx="6271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flipH="1">
                <a:off x="2901240" y="4438440"/>
                <a:ext cx="4921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912400" y="3284640"/>
                <a:ext cx="4813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flipH="1">
                <a:off x="2912400" y="3494160"/>
                <a:ext cx="3024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flipV="1">
                <a:off x="2912400" y="3284640"/>
                <a:ext cx="1800" cy="20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912400" y="3739680"/>
                <a:ext cx="3024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V="1">
                <a:off x="3215160" y="3493800"/>
                <a:ext cx="1440" cy="24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H="1">
                <a:off x="2912400" y="3994920"/>
                <a:ext cx="3024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flipV="1">
                <a:off x="2912400" y="3739680"/>
                <a:ext cx="1800" cy="25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 flipV="1">
                <a:off x="2901600" y="4246200"/>
                <a:ext cx="1440" cy="191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01600" y="4246560"/>
                <a:ext cx="31356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3215160" y="3994560"/>
                <a:ext cx="1440" cy="25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4" name=""/>
            <p:cNvSpPr/>
            <p:nvPr/>
          </p:nvSpPr>
          <p:spPr>
            <a:xfrm>
              <a:off x="3394080" y="4251240"/>
              <a:ext cx="57240" cy="1800"/>
            </a:xfrm>
            <a:prstGeom prst="line">
              <a:avLst/>
            </a:prstGeom>
            <a:ln w="28440">
              <a:solidFill>
                <a:srgbClr val="b65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451320" y="4251240"/>
              <a:ext cx="25200" cy="46080"/>
            </a:xfrm>
            <a:prstGeom prst="line">
              <a:avLst/>
            </a:prstGeom>
            <a:ln w="28440">
              <a:solidFill>
                <a:srgbClr val="b65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V="1">
              <a:off x="3476520" y="4164120"/>
              <a:ext cx="55800" cy="133200"/>
            </a:xfrm>
            <a:prstGeom prst="line">
              <a:avLst/>
            </a:prstGeom>
            <a:ln w="28440">
              <a:solidFill>
                <a:srgbClr val="b65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532320" y="4164120"/>
              <a:ext cx="15840" cy="96840"/>
            </a:xfrm>
            <a:prstGeom prst="line">
              <a:avLst/>
            </a:prstGeom>
            <a:ln w="28440">
              <a:solidFill>
                <a:srgbClr val="b65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548160" y="4260960"/>
              <a:ext cx="27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575160" y="4102200"/>
              <a:ext cx="1440" cy="30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H="1" flipV="1">
              <a:off x="3574800" y="4405320"/>
              <a:ext cx="1116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H="1" flipV="1">
              <a:off x="3575160" y="4362120"/>
              <a:ext cx="5400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 flipV="1">
              <a:off x="3575160" y="4319640"/>
              <a:ext cx="9504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 flipV="1">
              <a:off x="3575160" y="4277880"/>
              <a:ext cx="11880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 flipV="1">
              <a:off x="3575160" y="4235040"/>
              <a:ext cx="11880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H="1" flipV="1">
              <a:off x="3575160" y="4195800"/>
              <a:ext cx="11880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H="1" flipV="1">
              <a:off x="3575160" y="4152600"/>
              <a:ext cx="11880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 flipV="1">
              <a:off x="3575160" y="4110120"/>
              <a:ext cx="118800" cy="11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H="1" flipV="1">
              <a:off x="3609720" y="4101840"/>
              <a:ext cx="838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H="1" flipV="1">
              <a:off x="3650760" y="4101840"/>
              <a:ext cx="42840" cy="4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 flipV="1">
              <a:off x="3574800" y="3616200"/>
              <a:ext cx="1116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H="1" flipV="1">
              <a:off x="3575160" y="3573000"/>
              <a:ext cx="5400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H="1" flipV="1">
              <a:off x="3575160" y="3533400"/>
              <a:ext cx="95040" cy="9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H="1" flipV="1">
              <a:off x="3575160" y="3490560"/>
              <a:ext cx="11880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H="1" flipV="1">
              <a:off x="3575160" y="3447720"/>
              <a:ext cx="11880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flipH="1" flipV="1">
              <a:off x="3575160" y="3406320"/>
              <a:ext cx="118800" cy="11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 flipV="1">
              <a:off x="3575160" y="3363480"/>
              <a:ext cx="11880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H="1" flipV="1">
              <a:off x="3575160" y="3320640"/>
              <a:ext cx="11880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 flipV="1">
              <a:off x="3609720" y="3313080"/>
              <a:ext cx="838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 flipV="1">
              <a:off x="3650760" y="3312720"/>
              <a:ext cx="42840" cy="4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575160" y="3313080"/>
              <a:ext cx="1440" cy="30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394080" y="3463920"/>
              <a:ext cx="57240" cy="1440"/>
            </a:xfrm>
            <a:prstGeom prst="line">
              <a:avLst/>
            </a:prstGeom>
            <a:ln w="28440">
              <a:solidFill>
                <a:srgbClr val="b65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548160" y="3471840"/>
              <a:ext cx="27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532320" y="3375000"/>
              <a:ext cx="15840" cy="96840"/>
            </a:xfrm>
            <a:prstGeom prst="line">
              <a:avLst/>
            </a:prstGeom>
            <a:ln w="28440">
              <a:solidFill>
                <a:srgbClr val="b65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V="1">
              <a:off x="3476520" y="3375000"/>
              <a:ext cx="55800" cy="133200"/>
            </a:xfrm>
            <a:prstGeom prst="line">
              <a:avLst/>
            </a:prstGeom>
            <a:ln w="28440">
              <a:solidFill>
                <a:srgbClr val="b65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451320" y="3463920"/>
              <a:ext cx="25200" cy="44280"/>
            </a:xfrm>
            <a:prstGeom prst="line">
              <a:avLst/>
            </a:prstGeom>
            <a:ln w="28440">
              <a:solidFill>
                <a:srgbClr val="b65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V="1">
              <a:off x="2008080" y="3273120"/>
              <a:ext cx="5076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V="1">
              <a:off x="2008080" y="3273120"/>
              <a:ext cx="13500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V="1">
              <a:off x="2008080" y="3349440"/>
              <a:ext cx="147600" cy="14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V="1">
              <a:off x="2008080" y="3431880"/>
              <a:ext cx="147600" cy="14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2008080" y="3515760"/>
              <a:ext cx="147600" cy="14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2008080" y="3601800"/>
              <a:ext cx="1476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2008080" y="3686040"/>
              <a:ext cx="147600" cy="14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2008080" y="3768480"/>
              <a:ext cx="147600" cy="14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2008080" y="3852720"/>
              <a:ext cx="14760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2008080" y="3938400"/>
              <a:ext cx="147600" cy="14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2008080" y="4022280"/>
              <a:ext cx="1476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2008080" y="4105080"/>
              <a:ext cx="147600" cy="14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V="1">
              <a:off x="2008080" y="4189320"/>
              <a:ext cx="14760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V="1">
              <a:off x="2008080" y="4280040"/>
              <a:ext cx="14292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V="1">
              <a:off x="2073240" y="4358880"/>
              <a:ext cx="82440" cy="7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3868560" y="2932200"/>
              <a:ext cx="74520" cy="75600"/>
              <a:chOff x="3868560" y="2932200"/>
              <a:chExt cx="74520" cy="75600"/>
            </a:xfrm>
          </p:grpSpPr>
          <p:sp>
            <p:nvSpPr>
              <p:cNvPr id="2102" name=""/>
              <p:cNvSpPr/>
              <p:nvPr/>
            </p:nvSpPr>
            <p:spPr>
              <a:xfrm>
                <a:off x="3906720" y="2943360"/>
                <a:ext cx="36360" cy="2736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2" y="17"/>
                    </a:moveTo>
                    <a:lnTo>
                      <a:pt x="15" y="0"/>
                    </a:lnTo>
                    <a:lnTo>
                      <a:pt x="0" y="17"/>
                    </a:lnTo>
                    <a:lnTo>
                      <a:pt x="2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906720" y="2943360"/>
                <a:ext cx="36360" cy="2736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2" y="17"/>
                    </a:moveTo>
                    <a:lnTo>
                      <a:pt x="15" y="0"/>
                    </a:lnTo>
                    <a:lnTo>
                      <a:pt x="0" y="17"/>
                    </a:lnTo>
                    <a:lnTo>
                      <a:pt x="22" y="17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906720" y="2932200"/>
                <a:ext cx="24480" cy="3888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7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3906720" y="2932200"/>
                <a:ext cx="24480" cy="3888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7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15" y="7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3880080" y="2932200"/>
                <a:ext cx="26640" cy="3888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0" y="7"/>
                    </a:lnTo>
                    <a:lnTo>
                      <a:pt x="16" y="2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3880080" y="2932200"/>
                <a:ext cx="26640" cy="3888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0" y="7"/>
                    </a:lnTo>
                    <a:lnTo>
                      <a:pt x="16" y="2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3868560" y="2943360"/>
                <a:ext cx="38160" cy="2736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7" y="0"/>
                    </a:moveTo>
                    <a:lnTo>
                      <a:pt x="0" y="17"/>
                    </a:lnTo>
                    <a:lnTo>
                      <a:pt x="23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3868560" y="2943360"/>
                <a:ext cx="38160" cy="2736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7" y="0"/>
                    </a:moveTo>
                    <a:lnTo>
                      <a:pt x="0" y="17"/>
                    </a:lnTo>
                    <a:lnTo>
                      <a:pt x="23" y="17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3868560" y="2971080"/>
                <a:ext cx="38160" cy="255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0" y="0"/>
                    </a:moveTo>
                    <a:lnTo>
                      <a:pt x="7" y="16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868560" y="2971080"/>
                <a:ext cx="38160" cy="255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0" y="0"/>
                    </a:moveTo>
                    <a:lnTo>
                      <a:pt x="7" y="16"/>
                    </a:lnTo>
                    <a:lnTo>
                      <a:pt x="2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880080" y="2971080"/>
                <a:ext cx="26640" cy="367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0" y="16"/>
                    </a:moveTo>
                    <a:lnTo>
                      <a:pt x="16" y="23"/>
                    </a:lnTo>
                    <a:lnTo>
                      <a:pt x="16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3880080" y="2971080"/>
                <a:ext cx="26640" cy="367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0" y="16"/>
                    </a:moveTo>
                    <a:lnTo>
                      <a:pt x="16" y="23"/>
                    </a:lnTo>
                    <a:lnTo>
                      <a:pt x="16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3906720" y="2971080"/>
                <a:ext cx="24480" cy="3672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0" y="23"/>
                    </a:moveTo>
                    <a:lnTo>
                      <a:pt x="15" y="16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906720" y="2971080"/>
                <a:ext cx="24480" cy="3672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0" y="23"/>
                    </a:moveTo>
                    <a:lnTo>
                      <a:pt x="15" y="16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906720" y="2971080"/>
                <a:ext cx="36360" cy="2556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5" y="16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906720" y="2971080"/>
                <a:ext cx="36360" cy="2556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5" y="16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15" y="16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8" name=""/>
            <p:cNvGrpSpPr/>
            <p:nvPr/>
          </p:nvGrpSpPr>
          <p:grpSpPr>
            <a:xfrm>
              <a:off x="4853160" y="2932200"/>
              <a:ext cx="75600" cy="75600"/>
              <a:chOff x="4853160" y="2932200"/>
              <a:chExt cx="75600" cy="75600"/>
            </a:xfrm>
          </p:grpSpPr>
          <p:sp>
            <p:nvSpPr>
              <p:cNvPr id="2119" name=""/>
              <p:cNvSpPr/>
              <p:nvPr/>
            </p:nvSpPr>
            <p:spPr>
              <a:xfrm>
                <a:off x="4890240" y="2943360"/>
                <a:ext cx="38520" cy="27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17"/>
                    </a:moveTo>
                    <a:lnTo>
                      <a:pt x="17" y="0"/>
                    </a:lnTo>
                    <a:lnTo>
                      <a:pt x="0" y="17"/>
                    </a:lnTo>
                    <a:lnTo>
                      <a:pt x="2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4890240" y="2943360"/>
                <a:ext cx="38520" cy="27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17"/>
                    </a:moveTo>
                    <a:lnTo>
                      <a:pt x="17" y="0"/>
                    </a:lnTo>
                    <a:lnTo>
                      <a:pt x="0" y="17"/>
                    </a:lnTo>
                    <a:lnTo>
                      <a:pt x="24" y="17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4890240" y="2932200"/>
                <a:ext cx="27360" cy="388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7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4890240" y="2932200"/>
                <a:ext cx="27360" cy="388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7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17" y="7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4864320" y="2932200"/>
                <a:ext cx="25920" cy="3888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0" y="7"/>
                    </a:lnTo>
                    <a:lnTo>
                      <a:pt x="16" y="2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4864320" y="2932200"/>
                <a:ext cx="25920" cy="3888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0" y="7"/>
                    </a:lnTo>
                    <a:lnTo>
                      <a:pt x="16" y="2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4853160" y="2943360"/>
                <a:ext cx="37080" cy="2736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7" y="0"/>
                    </a:moveTo>
                    <a:lnTo>
                      <a:pt x="0" y="17"/>
                    </a:lnTo>
                    <a:lnTo>
                      <a:pt x="23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4853160" y="2943360"/>
                <a:ext cx="37080" cy="2736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7" y="0"/>
                    </a:moveTo>
                    <a:lnTo>
                      <a:pt x="0" y="17"/>
                    </a:lnTo>
                    <a:lnTo>
                      <a:pt x="23" y="17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4853160" y="2971080"/>
                <a:ext cx="37080" cy="255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0" y="0"/>
                    </a:moveTo>
                    <a:lnTo>
                      <a:pt x="7" y="16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4853160" y="2971080"/>
                <a:ext cx="37080" cy="255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0" y="0"/>
                    </a:moveTo>
                    <a:lnTo>
                      <a:pt x="7" y="16"/>
                    </a:lnTo>
                    <a:lnTo>
                      <a:pt x="2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4864320" y="2971080"/>
                <a:ext cx="25920" cy="367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0" y="16"/>
                    </a:moveTo>
                    <a:lnTo>
                      <a:pt x="16" y="23"/>
                    </a:lnTo>
                    <a:lnTo>
                      <a:pt x="16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4864320" y="2971080"/>
                <a:ext cx="25920" cy="367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0" y="16"/>
                    </a:moveTo>
                    <a:lnTo>
                      <a:pt x="16" y="23"/>
                    </a:lnTo>
                    <a:lnTo>
                      <a:pt x="16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4890240" y="2971080"/>
                <a:ext cx="27360" cy="3672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0" y="23"/>
                    </a:moveTo>
                    <a:lnTo>
                      <a:pt x="17" y="16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4890240" y="2971080"/>
                <a:ext cx="27360" cy="3672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0" y="23"/>
                    </a:moveTo>
                    <a:lnTo>
                      <a:pt x="17" y="16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4890240" y="2971080"/>
                <a:ext cx="38520" cy="2556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17" y="16"/>
                    </a:moveTo>
                    <a:lnTo>
                      <a:pt x="24" y="0"/>
                    </a:lnTo>
                    <a:lnTo>
                      <a:pt x="0" y="0"/>
                    </a:lnTo>
                    <a:lnTo>
                      <a:pt x="1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4890240" y="2971080"/>
                <a:ext cx="38520" cy="2556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17" y="16"/>
                    </a:moveTo>
                    <a:lnTo>
                      <a:pt x="24" y="0"/>
                    </a:lnTo>
                    <a:lnTo>
                      <a:pt x="0" y="0"/>
                    </a:lnTo>
                    <a:lnTo>
                      <a:pt x="17" y="16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5" name=""/>
            <p:cNvSpPr/>
            <p:nvPr/>
          </p:nvSpPr>
          <p:spPr>
            <a:xfrm>
              <a:off x="6850080" y="2249640"/>
              <a:ext cx="40968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045200" y="2224080"/>
              <a:ext cx="38160" cy="255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16"/>
                  </a:moveTo>
                  <a:lnTo>
                    <a:pt x="16" y="0"/>
                  </a:lnTo>
                  <a:lnTo>
                    <a:pt x="0" y="16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045200" y="2224080"/>
              <a:ext cx="38160" cy="255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3" y="16"/>
                  </a:moveTo>
                  <a:lnTo>
                    <a:pt x="16" y="0"/>
                  </a:lnTo>
                  <a:lnTo>
                    <a:pt x="0" y="16"/>
                  </a:lnTo>
                  <a:lnTo>
                    <a:pt x="23" y="1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045200" y="2212920"/>
              <a:ext cx="2700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6" y="7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045200" y="2212920"/>
              <a:ext cx="2700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6" y="7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16" y="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018200" y="221292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0" y="7"/>
                  </a:lnTo>
                  <a:lnTo>
                    <a:pt x="17" y="2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018200" y="221292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0"/>
                  </a:moveTo>
                  <a:lnTo>
                    <a:pt x="0" y="7"/>
                  </a:lnTo>
                  <a:lnTo>
                    <a:pt x="17" y="23"/>
                  </a:lnTo>
                  <a:lnTo>
                    <a:pt x="1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007400" y="2224080"/>
              <a:ext cx="3780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7" y="0"/>
                  </a:moveTo>
                  <a:lnTo>
                    <a:pt x="0" y="16"/>
                  </a:lnTo>
                  <a:lnTo>
                    <a:pt x="24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007400" y="2224080"/>
              <a:ext cx="3780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7" y="0"/>
                  </a:moveTo>
                  <a:lnTo>
                    <a:pt x="0" y="16"/>
                  </a:lnTo>
                  <a:lnTo>
                    <a:pt x="24" y="16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07400" y="2249640"/>
              <a:ext cx="37800" cy="284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lnTo>
                    <a:pt x="7" y="17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007400" y="2249640"/>
              <a:ext cx="37800" cy="284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lnTo>
                    <a:pt x="7" y="17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018200" y="22496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17"/>
                  </a:moveTo>
                  <a:lnTo>
                    <a:pt x="17" y="24"/>
                  </a:lnTo>
                  <a:lnTo>
                    <a:pt x="1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018200" y="22496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17"/>
                  </a:moveTo>
                  <a:lnTo>
                    <a:pt x="17" y="24"/>
                  </a:lnTo>
                  <a:lnTo>
                    <a:pt x="17" y="0"/>
                  </a:lnTo>
                  <a:lnTo>
                    <a:pt x="0" y="1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045200" y="2249640"/>
              <a:ext cx="27000" cy="3960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24"/>
                  </a:moveTo>
                  <a:lnTo>
                    <a:pt x="16" y="17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45200" y="2249640"/>
              <a:ext cx="27000" cy="3960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24"/>
                  </a:moveTo>
                  <a:lnTo>
                    <a:pt x="16" y="17"/>
                  </a:lnTo>
                  <a:lnTo>
                    <a:pt x="0" y="0"/>
                  </a:lnTo>
                  <a:lnTo>
                    <a:pt x="0" y="2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045200" y="2249640"/>
              <a:ext cx="38160" cy="284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16" y="17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045200" y="2249640"/>
              <a:ext cx="38160" cy="284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16" y="17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16" y="1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2" name=""/>
            <p:cNvGrpSpPr/>
            <p:nvPr/>
          </p:nvGrpSpPr>
          <p:grpSpPr>
            <a:xfrm>
              <a:off x="7628040" y="2220840"/>
              <a:ext cx="523440" cy="71280"/>
              <a:chOff x="7628040" y="2220840"/>
              <a:chExt cx="523440" cy="71280"/>
            </a:xfrm>
          </p:grpSpPr>
          <p:sp>
            <p:nvSpPr>
              <p:cNvPr id="2153" name=""/>
              <p:cNvSpPr/>
              <p:nvPr/>
            </p:nvSpPr>
            <p:spPr>
              <a:xfrm>
                <a:off x="7628040" y="2255040"/>
                <a:ext cx="5234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891560" y="2227320"/>
                <a:ext cx="33840" cy="2736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1" y="17"/>
                    </a:moveTo>
                    <a:lnTo>
                      <a:pt x="14" y="0"/>
                    </a:lnTo>
                    <a:lnTo>
                      <a:pt x="0" y="17"/>
                    </a:lnTo>
                    <a:lnTo>
                      <a:pt x="21" y="17"/>
                    </a:lnTo>
                    <a:close/>
                  </a:path>
                </a:pathLst>
              </a:custGeom>
              <a:solidFill>
                <a:srgbClr val="ff00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891560" y="2227320"/>
                <a:ext cx="33840" cy="2736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1" y="17"/>
                    </a:moveTo>
                    <a:lnTo>
                      <a:pt x="14" y="0"/>
                    </a:lnTo>
                    <a:lnTo>
                      <a:pt x="0" y="17"/>
                    </a:lnTo>
                    <a:lnTo>
                      <a:pt x="21" y="17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891560" y="2220840"/>
                <a:ext cx="22320" cy="3420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4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ff00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7891560" y="2220840"/>
                <a:ext cx="22320" cy="3420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4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14" y="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7863840" y="2220840"/>
                <a:ext cx="27360" cy="342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4"/>
                    </a:lnTo>
                    <a:lnTo>
                      <a:pt x="17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7863840" y="2220840"/>
                <a:ext cx="27360" cy="342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0" y="4"/>
                    </a:lnTo>
                    <a:lnTo>
                      <a:pt x="17" y="21"/>
                    </a:lnTo>
                    <a:lnTo>
                      <a:pt x="17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852680" y="2227320"/>
                <a:ext cx="38880" cy="27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7" y="0"/>
                    </a:moveTo>
                    <a:lnTo>
                      <a:pt x="0" y="17"/>
                    </a:lnTo>
                    <a:lnTo>
                      <a:pt x="24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852680" y="2227320"/>
                <a:ext cx="38880" cy="27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7" y="0"/>
                    </a:moveTo>
                    <a:lnTo>
                      <a:pt x="0" y="17"/>
                    </a:lnTo>
                    <a:lnTo>
                      <a:pt x="24" y="17"/>
                    </a:lnTo>
                    <a:lnTo>
                      <a:pt x="7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852680" y="2255040"/>
                <a:ext cx="38880" cy="2556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0" y="0"/>
                    </a:moveTo>
                    <a:lnTo>
                      <a:pt x="7" y="16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852680" y="2255040"/>
                <a:ext cx="38880" cy="2556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0" y="0"/>
                    </a:moveTo>
                    <a:lnTo>
                      <a:pt x="7" y="16"/>
                    </a:lnTo>
                    <a:lnTo>
                      <a:pt x="24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7863840" y="2255040"/>
                <a:ext cx="27360" cy="370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0" y="16"/>
                    </a:moveTo>
                    <a:lnTo>
                      <a:pt x="17" y="23"/>
                    </a:lnTo>
                    <a:lnTo>
                      <a:pt x="17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00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7863840" y="2255040"/>
                <a:ext cx="27360" cy="370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0" y="16"/>
                    </a:moveTo>
                    <a:lnTo>
                      <a:pt x="17" y="23"/>
                    </a:lnTo>
                    <a:lnTo>
                      <a:pt x="17" y="0"/>
                    </a:lnTo>
                    <a:lnTo>
                      <a:pt x="0" y="1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891560" y="2255040"/>
                <a:ext cx="22320" cy="370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16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00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7891560" y="2255040"/>
                <a:ext cx="22320" cy="370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14" y="16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7891560" y="225504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4" y="16"/>
                    </a:moveTo>
                    <a:lnTo>
                      <a:pt x="21" y="0"/>
                    </a:lnTo>
                    <a:lnTo>
                      <a:pt x="0" y="0"/>
                    </a:lnTo>
                    <a:lnTo>
                      <a:pt x="14" y="16"/>
                    </a:lnTo>
                    <a:close/>
                  </a:path>
                </a:pathLst>
              </a:custGeom>
              <a:solidFill>
                <a:srgbClr val="ff00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7891560" y="225504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4" y="16"/>
                    </a:moveTo>
                    <a:lnTo>
                      <a:pt x="21" y="0"/>
                    </a:lnTo>
                    <a:lnTo>
                      <a:pt x="0" y="0"/>
                    </a:lnTo>
                    <a:lnTo>
                      <a:pt x="14" y="1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0" name=""/>
            <p:cNvSpPr/>
            <p:nvPr/>
          </p:nvSpPr>
          <p:spPr>
            <a:xfrm>
              <a:off x="3394080" y="3722760"/>
              <a:ext cx="2265480" cy="144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>
              <a:off x="3393720" y="3986280"/>
              <a:ext cx="2265480" cy="144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503440" y="3740040"/>
              <a:ext cx="1800" cy="255600"/>
            </a:xfrm>
            <a:prstGeom prst="line">
              <a:avLst/>
            </a:prstGeom>
            <a:ln w="28440">
              <a:solidFill>
                <a:srgbClr val="b65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593800" y="3740040"/>
              <a:ext cx="1800" cy="255600"/>
            </a:xfrm>
            <a:prstGeom prst="line">
              <a:avLst/>
            </a:prstGeom>
            <a:ln w="28440">
              <a:solidFill>
                <a:srgbClr val="b65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449440" y="3711600"/>
              <a:ext cx="54000" cy="284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3" y="17"/>
                  </a:moveTo>
                  <a:lnTo>
                    <a:pt x="28" y="5"/>
                  </a:lnTo>
                  <a:lnTo>
                    <a:pt x="16" y="0"/>
                  </a:lnTo>
                  <a:lnTo>
                    <a:pt x="5" y="5"/>
                  </a:lnTo>
                  <a:lnTo>
                    <a:pt x="0" y="17"/>
                  </a:lnTo>
                </a:path>
              </a:pathLst>
            </a:custGeom>
            <a:noFill/>
            <a:ln w="28440">
              <a:solidFill>
                <a:srgbClr val="b65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546280" y="371160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26" y="5"/>
                  </a:lnTo>
                  <a:lnTo>
                    <a:pt x="16" y="0"/>
                  </a:lnTo>
                  <a:lnTo>
                    <a:pt x="5" y="5"/>
                  </a:lnTo>
                  <a:lnTo>
                    <a:pt x="0" y="17"/>
                  </a:lnTo>
                </a:path>
              </a:pathLst>
            </a:custGeom>
            <a:noFill/>
            <a:ln w="28440">
              <a:solidFill>
                <a:srgbClr val="b65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647800" y="3711600"/>
              <a:ext cx="51120" cy="284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1" y="17"/>
                  </a:moveTo>
                  <a:lnTo>
                    <a:pt x="29" y="5"/>
                  </a:lnTo>
                  <a:lnTo>
                    <a:pt x="17" y="0"/>
                  </a:lnTo>
                  <a:lnTo>
                    <a:pt x="5" y="5"/>
                  </a:lnTo>
                  <a:lnTo>
                    <a:pt x="0" y="17"/>
                  </a:lnTo>
                </a:path>
              </a:pathLst>
            </a:custGeom>
            <a:noFill/>
            <a:ln w="28440">
              <a:solidFill>
                <a:srgbClr val="b65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503440" y="3995640"/>
              <a:ext cx="50760" cy="2232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0"/>
                  </a:moveTo>
                  <a:lnTo>
                    <a:pt x="5" y="10"/>
                  </a:lnTo>
                  <a:lnTo>
                    <a:pt x="14" y="14"/>
                  </a:lnTo>
                  <a:lnTo>
                    <a:pt x="26" y="10"/>
                  </a:lnTo>
                  <a:lnTo>
                    <a:pt x="31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593800" y="3995640"/>
              <a:ext cx="54000" cy="2232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0"/>
                  </a:moveTo>
                  <a:lnTo>
                    <a:pt x="5" y="10"/>
                  </a:lnTo>
                  <a:lnTo>
                    <a:pt x="17" y="14"/>
                  </a:lnTo>
                  <a:lnTo>
                    <a:pt x="29" y="10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9" name=""/>
            <p:cNvGrpSpPr/>
            <p:nvPr/>
          </p:nvGrpSpPr>
          <p:grpSpPr>
            <a:xfrm>
              <a:off x="4329000" y="2430360"/>
              <a:ext cx="163440" cy="311040"/>
              <a:chOff x="4329000" y="2430360"/>
              <a:chExt cx="163440" cy="311040"/>
            </a:xfrm>
          </p:grpSpPr>
          <p:sp>
            <p:nvSpPr>
              <p:cNvPr id="2180" name=""/>
              <p:cNvSpPr/>
              <p:nvPr/>
            </p:nvSpPr>
            <p:spPr>
              <a:xfrm>
                <a:off x="4478040" y="2430360"/>
                <a:ext cx="1440" cy="311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332240" y="2430360"/>
                <a:ext cx="1800" cy="311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335480" y="2733480"/>
                <a:ext cx="156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329000" y="2436480"/>
                <a:ext cx="15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4" name=""/>
            <p:cNvGrpSpPr/>
            <p:nvPr/>
          </p:nvGrpSpPr>
          <p:grpSpPr>
            <a:xfrm>
              <a:off x="4805280" y="2433600"/>
              <a:ext cx="161640" cy="310680"/>
              <a:chOff x="4805280" y="2433600"/>
              <a:chExt cx="161640" cy="310680"/>
            </a:xfrm>
          </p:grpSpPr>
          <p:sp>
            <p:nvSpPr>
              <p:cNvPr id="2185" name=""/>
              <p:cNvSpPr/>
              <p:nvPr/>
            </p:nvSpPr>
            <p:spPr>
              <a:xfrm>
                <a:off x="4952880" y="2433600"/>
                <a:ext cx="1440" cy="31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808520" y="2433600"/>
                <a:ext cx="1800" cy="31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811760" y="2736360"/>
                <a:ext cx="155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805280" y="2439720"/>
                <a:ext cx="15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9" name=""/>
            <p:cNvGrpSpPr/>
            <p:nvPr/>
          </p:nvGrpSpPr>
          <p:grpSpPr>
            <a:xfrm>
              <a:off x="3393720" y="4940280"/>
              <a:ext cx="2010960" cy="613800"/>
              <a:chOff x="3393720" y="4940280"/>
              <a:chExt cx="2010960" cy="613800"/>
            </a:xfrm>
          </p:grpSpPr>
          <p:grpSp>
            <p:nvGrpSpPr>
              <p:cNvPr id="2190" name=""/>
              <p:cNvGrpSpPr/>
              <p:nvPr/>
            </p:nvGrpSpPr>
            <p:grpSpPr>
              <a:xfrm>
                <a:off x="3393720" y="4940280"/>
                <a:ext cx="2010960" cy="613800"/>
                <a:chOff x="3393720" y="4940280"/>
                <a:chExt cx="2010960" cy="613800"/>
              </a:xfrm>
            </p:grpSpPr>
            <p:grpSp>
              <p:nvGrpSpPr>
                <p:cNvPr id="2191" name=""/>
                <p:cNvGrpSpPr/>
                <p:nvPr/>
              </p:nvGrpSpPr>
              <p:grpSpPr>
                <a:xfrm>
                  <a:off x="3394080" y="4940280"/>
                  <a:ext cx="2008800" cy="1440"/>
                  <a:chOff x="3394080" y="4940280"/>
                  <a:chExt cx="2008800" cy="1440"/>
                </a:xfrm>
              </p:grpSpPr>
              <p:sp>
                <p:nvSpPr>
                  <p:cNvPr id="2192" name=""/>
                  <p:cNvSpPr/>
                  <p:nvPr/>
                </p:nvSpPr>
                <p:spPr>
                  <a:xfrm>
                    <a:off x="3394080" y="4940280"/>
                    <a:ext cx="92520" cy="144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3" name=""/>
                  <p:cNvSpPr/>
                  <p:nvPr/>
                </p:nvSpPr>
                <p:spPr>
                  <a:xfrm>
                    <a:off x="3509280" y="4940280"/>
                    <a:ext cx="91080" cy="144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4" name=""/>
                  <p:cNvSpPr/>
                  <p:nvPr/>
                </p:nvSpPr>
                <p:spPr>
                  <a:xfrm>
                    <a:off x="3620160" y="4940280"/>
                    <a:ext cx="91080" cy="144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5" name=""/>
                  <p:cNvSpPr/>
                  <p:nvPr/>
                </p:nvSpPr>
                <p:spPr>
                  <a:xfrm>
                    <a:off x="3735360" y="4940280"/>
                    <a:ext cx="87480" cy="144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6" name=""/>
                  <p:cNvSpPr/>
                  <p:nvPr/>
                </p:nvSpPr>
                <p:spPr>
                  <a:xfrm>
                    <a:off x="3846240" y="4940280"/>
                    <a:ext cx="91080" cy="144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7" name=""/>
                  <p:cNvSpPr/>
                  <p:nvPr/>
                </p:nvSpPr>
                <p:spPr>
                  <a:xfrm>
                    <a:off x="3960000" y="4940280"/>
                    <a:ext cx="89640" cy="144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8" name=""/>
                  <p:cNvSpPr/>
                  <p:nvPr/>
                </p:nvSpPr>
                <p:spPr>
                  <a:xfrm>
                    <a:off x="4072320" y="4940280"/>
                    <a:ext cx="87480" cy="144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>
                    <a:off x="4182480" y="4940280"/>
                    <a:ext cx="91080" cy="144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>
                    <a:off x="4296600" y="4940280"/>
                    <a:ext cx="89640" cy="144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1" name=""/>
                  <p:cNvSpPr/>
                  <p:nvPr/>
                </p:nvSpPr>
                <p:spPr>
                  <a:xfrm>
                    <a:off x="4408920" y="4940280"/>
                    <a:ext cx="91080" cy="144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>
                    <a:off x="4522680" y="4940280"/>
                    <a:ext cx="87480" cy="144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>
                    <a:off x="4635000" y="4940280"/>
                    <a:ext cx="87840" cy="144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>
                    <a:off x="4745520" y="4940280"/>
                    <a:ext cx="91080" cy="144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4859640" y="4940280"/>
                    <a:ext cx="87480" cy="144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4971960" y="4940280"/>
                    <a:ext cx="91080" cy="144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7" name=""/>
                  <p:cNvSpPr/>
                  <p:nvPr/>
                </p:nvSpPr>
                <p:spPr>
                  <a:xfrm>
                    <a:off x="5082480" y="4940280"/>
                    <a:ext cx="91080" cy="144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8" name=""/>
                  <p:cNvSpPr/>
                  <p:nvPr/>
                </p:nvSpPr>
                <p:spPr>
                  <a:xfrm>
                    <a:off x="5196600" y="4940280"/>
                    <a:ext cx="88920" cy="144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9" name=""/>
                  <p:cNvSpPr/>
                  <p:nvPr/>
                </p:nvSpPr>
                <p:spPr>
                  <a:xfrm>
                    <a:off x="5308560" y="4940280"/>
                    <a:ext cx="94320" cy="144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0" name=""/>
                <p:cNvGrpSpPr/>
                <p:nvPr/>
              </p:nvGrpSpPr>
              <p:grpSpPr>
                <a:xfrm>
                  <a:off x="5403240" y="4940280"/>
                  <a:ext cx="1440" cy="519120"/>
                  <a:chOff x="5403240" y="4940280"/>
                  <a:chExt cx="1440" cy="519120"/>
                </a:xfrm>
              </p:grpSpPr>
              <p:sp>
                <p:nvSpPr>
                  <p:cNvPr id="2211" name=""/>
                  <p:cNvSpPr/>
                  <p:nvPr/>
                </p:nvSpPr>
                <p:spPr>
                  <a:xfrm>
                    <a:off x="5403240" y="4940280"/>
                    <a:ext cx="1440" cy="7272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2" name=""/>
                  <p:cNvSpPr/>
                  <p:nvPr/>
                </p:nvSpPr>
                <p:spPr>
                  <a:xfrm>
                    <a:off x="5403240" y="5035680"/>
                    <a:ext cx="1440" cy="8748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3" name=""/>
                  <p:cNvSpPr/>
                  <p:nvPr/>
                </p:nvSpPr>
                <p:spPr>
                  <a:xfrm>
                    <a:off x="5403240" y="5146200"/>
                    <a:ext cx="1440" cy="8748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4" name=""/>
                  <p:cNvSpPr/>
                  <p:nvPr/>
                </p:nvSpPr>
                <p:spPr>
                  <a:xfrm>
                    <a:off x="5403240" y="5258160"/>
                    <a:ext cx="1440" cy="9072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>
                    <a:off x="5403240" y="5371920"/>
                    <a:ext cx="1440" cy="8748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6" name=""/>
                <p:cNvGrpSpPr/>
                <p:nvPr/>
              </p:nvGrpSpPr>
              <p:grpSpPr>
                <a:xfrm>
                  <a:off x="3393720" y="5552280"/>
                  <a:ext cx="2009160" cy="1800"/>
                  <a:chOff x="3393720" y="5552280"/>
                  <a:chExt cx="2009160" cy="1800"/>
                </a:xfrm>
              </p:grpSpPr>
              <p:sp>
                <p:nvSpPr>
                  <p:cNvPr id="2217" name=""/>
                  <p:cNvSpPr/>
                  <p:nvPr/>
                </p:nvSpPr>
                <p:spPr>
                  <a:xfrm flipH="1">
                    <a:off x="5308560" y="5552280"/>
                    <a:ext cx="94320" cy="180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 flipH="1">
                    <a:off x="5196240" y="5552280"/>
                    <a:ext cx="88920" cy="180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 flipH="1">
                    <a:off x="5082120" y="5552280"/>
                    <a:ext cx="91080" cy="180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 flipH="1">
                    <a:off x="4971600" y="5552280"/>
                    <a:ext cx="91080" cy="180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 flipH="1">
                    <a:off x="4859280" y="5552280"/>
                    <a:ext cx="87480" cy="180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 flipH="1">
                    <a:off x="4745160" y="5552280"/>
                    <a:ext cx="91080" cy="180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3" name=""/>
                  <p:cNvSpPr/>
                  <p:nvPr/>
                </p:nvSpPr>
                <p:spPr>
                  <a:xfrm flipH="1">
                    <a:off x="4635000" y="5552280"/>
                    <a:ext cx="87840" cy="180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 flipH="1">
                    <a:off x="4522320" y="5552280"/>
                    <a:ext cx="87480" cy="180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5" name=""/>
                  <p:cNvSpPr/>
                  <p:nvPr/>
                </p:nvSpPr>
                <p:spPr>
                  <a:xfrm flipH="1">
                    <a:off x="4408560" y="5552280"/>
                    <a:ext cx="91080" cy="180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6" name=""/>
                  <p:cNvSpPr/>
                  <p:nvPr/>
                </p:nvSpPr>
                <p:spPr>
                  <a:xfrm flipH="1">
                    <a:off x="4296240" y="5552280"/>
                    <a:ext cx="89640" cy="180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 flipH="1">
                    <a:off x="4182120" y="5552280"/>
                    <a:ext cx="91080" cy="180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8" name=""/>
                  <p:cNvSpPr/>
                  <p:nvPr/>
                </p:nvSpPr>
                <p:spPr>
                  <a:xfrm flipH="1">
                    <a:off x="4071960" y="5552280"/>
                    <a:ext cx="87480" cy="180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 flipH="1">
                    <a:off x="3959640" y="5552280"/>
                    <a:ext cx="89640" cy="180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0" name=""/>
                  <p:cNvSpPr/>
                  <p:nvPr/>
                </p:nvSpPr>
                <p:spPr>
                  <a:xfrm flipH="1">
                    <a:off x="3845880" y="5552280"/>
                    <a:ext cx="91080" cy="180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1" name=""/>
                  <p:cNvSpPr/>
                  <p:nvPr/>
                </p:nvSpPr>
                <p:spPr>
                  <a:xfrm flipH="1">
                    <a:off x="3735000" y="5552280"/>
                    <a:ext cx="87480" cy="180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 flipH="1">
                    <a:off x="3619800" y="5552280"/>
                    <a:ext cx="91080" cy="180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 flipH="1">
                    <a:off x="3508920" y="5552280"/>
                    <a:ext cx="91080" cy="180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 flipH="1">
                    <a:off x="3393720" y="5552280"/>
                    <a:ext cx="92520" cy="180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5" name=""/>
                <p:cNvGrpSpPr/>
                <p:nvPr/>
              </p:nvGrpSpPr>
              <p:grpSpPr>
                <a:xfrm>
                  <a:off x="3398760" y="4966200"/>
                  <a:ext cx="1440" cy="519120"/>
                  <a:chOff x="3398760" y="4966200"/>
                  <a:chExt cx="1440" cy="519120"/>
                </a:xfrm>
              </p:grpSpPr>
              <p:sp>
                <p:nvSpPr>
                  <p:cNvPr id="2236" name=""/>
                  <p:cNvSpPr/>
                  <p:nvPr/>
                </p:nvSpPr>
                <p:spPr>
                  <a:xfrm>
                    <a:off x="3398760" y="4966200"/>
                    <a:ext cx="1440" cy="7272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3398760" y="5061600"/>
                    <a:ext cx="1440" cy="8748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3398760" y="5172120"/>
                    <a:ext cx="1440" cy="8748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3398760" y="5284080"/>
                    <a:ext cx="1440" cy="9072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3398760" y="5397840"/>
                    <a:ext cx="1440" cy="87480"/>
                  </a:xfrm>
                  <a:prstGeom prst="line">
                    <a:avLst/>
                  </a:prstGeom>
                  <a:ln w="1908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41" name=""/>
              <p:cNvSpPr/>
              <p:nvPr/>
            </p:nvSpPr>
            <p:spPr>
              <a:xfrm>
                <a:off x="3398760" y="5458680"/>
                <a:ext cx="1440" cy="6948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2" name=""/>
            <p:cNvGrpSpPr/>
            <p:nvPr/>
          </p:nvGrpSpPr>
          <p:grpSpPr>
            <a:xfrm>
              <a:off x="6265800" y="1730160"/>
              <a:ext cx="1536120" cy="1144800"/>
              <a:chOff x="6265800" y="1730160"/>
              <a:chExt cx="1536120" cy="1144800"/>
            </a:xfrm>
          </p:grpSpPr>
          <p:grpSp>
            <p:nvGrpSpPr>
              <p:cNvPr id="2243" name=""/>
              <p:cNvGrpSpPr/>
              <p:nvPr/>
            </p:nvGrpSpPr>
            <p:grpSpPr>
              <a:xfrm>
                <a:off x="6265800" y="1815120"/>
                <a:ext cx="1440" cy="990720"/>
                <a:chOff x="6265800" y="1815120"/>
                <a:chExt cx="1440" cy="990720"/>
              </a:xfrm>
            </p:grpSpPr>
            <p:sp>
              <p:nvSpPr>
                <p:cNvPr id="2244" name=""/>
                <p:cNvSpPr/>
                <p:nvPr/>
              </p:nvSpPr>
              <p:spPr>
                <a:xfrm flipV="1">
                  <a:off x="6265800" y="2713680"/>
                  <a:ext cx="1440" cy="9216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 flipV="1">
                  <a:off x="6265800" y="2602800"/>
                  <a:ext cx="1440" cy="9072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 flipV="1">
                  <a:off x="6265800" y="2492280"/>
                  <a:ext cx="1440" cy="878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 flipV="1">
                  <a:off x="6265800" y="2377080"/>
                  <a:ext cx="1440" cy="9072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 flipV="1">
                  <a:off x="6265800" y="2266560"/>
                  <a:ext cx="1440" cy="878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 flipV="1">
                  <a:off x="6265800" y="2150640"/>
                  <a:ext cx="1440" cy="9252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flipV="1">
                  <a:off x="6265800" y="2040480"/>
                  <a:ext cx="1440" cy="9072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 flipV="1">
                  <a:off x="6265800" y="1929960"/>
                  <a:ext cx="1440" cy="874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 flipV="1">
                  <a:off x="6265800" y="1815120"/>
                  <a:ext cx="1440" cy="9216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3" name=""/>
              <p:cNvGrpSpPr/>
              <p:nvPr/>
            </p:nvGrpSpPr>
            <p:grpSpPr>
              <a:xfrm>
                <a:off x="6265800" y="1730160"/>
                <a:ext cx="1534680" cy="61920"/>
                <a:chOff x="6265800" y="1730160"/>
                <a:chExt cx="1534680" cy="61920"/>
              </a:xfrm>
            </p:grpSpPr>
            <p:sp>
              <p:nvSpPr>
                <p:cNvPr id="2254" name=""/>
                <p:cNvSpPr/>
                <p:nvPr/>
              </p:nvSpPr>
              <p:spPr>
                <a:xfrm flipV="1">
                  <a:off x="6265800" y="1730160"/>
                  <a:ext cx="1440" cy="6156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6265800" y="1730520"/>
                  <a:ext cx="7956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6368040" y="1730520"/>
                  <a:ext cx="9252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6480360" y="1730520"/>
                  <a:ext cx="9072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6594120" y="1730520"/>
                  <a:ext cx="8748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6704640" y="1730520"/>
                  <a:ext cx="9252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6820200" y="1730520"/>
                  <a:ext cx="8748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6930720" y="1730520"/>
                  <a:ext cx="8748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7043040" y="1730520"/>
                  <a:ext cx="9072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7156440" y="1730520"/>
                  <a:ext cx="8784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7266960" y="1730520"/>
                  <a:ext cx="9288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7379640" y="1730520"/>
                  <a:ext cx="9072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7493040" y="1730520"/>
                  <a:ext cx="8748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7603920" y="1730520"/>
                  <a:ext cx="9252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7719120" y="1730520"/>
                  <a:ext cx="7956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7798680" y="1730520"/>
                  <a:ext cx="1800" cy="6156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0" name=""/>
              <p:cNvSpPr/>
              <p:nvPr/>
            </p:nvSpPr>
            <p:spPr>
              <a:xfrm>
                <a:off x="7799040" y="1815120"/>
                <a:ext cx="1800" cy="9216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799040" y="1930320"/>
                <a:ext cx="1800" cy="8748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799040" y="2151360"/>
                <a:ext cx="1800" cy="9288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7799040" y="2266560"/>
                <a:ext cx="1800" cy="8784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799040" y="2377080"/>
                <a:ext cx="1800" cy="9072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799040" y="2492640"/>
                <a:ext cx="1800" cy="8784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799040" y="2603160"/>
                <a:ext cx="1800" cy="9072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799040" y="2713680"/>
                <a:ext cx="1800" cy="9216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8" name=""/>
              <p:cNvGrpSpPr/>
              <p:nvPr/>
            </p:nvGrpSpPr>
            <p:grpSpPr>
              <a:xfrm>
                <a:off x="6267240" y="2813040"/>
                <a:ext cx="1534680" cy="61920"/>
                <a:chOff x="6267240" y="2813040"/>
                <a:chExt cx="1534680" cy="61920"/>
              </a:xfrm>
            </p:grpSpPr>
            <p:sp>
              <p:nvSpPr>
                <p:cNvPr id="2279" name=""/>
                <p:cNvSpPr/>
                <p:nvPr/>
              </p:nvSpPr>
              <p:spPr>
                <a:xfrm>
                  <a:off x="6267240" y="2813400"/>
                  <a:ext cx="1440" cy="6156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 flipV="1">
                  <a:off x="6267240" y="2872800"/>
                  <a:ext cx="7956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 flipV="1">
                  <a:off x="6369480" y="2872800"/>
                  <a:ext cx="9252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 flipV="1">
                  <a:off x="6481800" y="2872800"/>
                  <a:ext cx="9072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 flipV="1">
                  <a:off x="6595560" y="2872800"/>
                  <a:ext cx="8748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 flipV="1">
                  <a:off x="6706080" y="2872800"/>
                  <a:ext cx="9252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 flipV="1">
                  <a:off x="6821640" y="2872800"/>
                  <a:ext cx="8748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 flipV="1">
                  <a:off x="6932160" y="2872800"/>
                  <a:ext cx="8748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 flipV="1">
                  <a:off x="7044480" y="2872800"/>
                  <a:ext cx="9072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 flipV="1">
                  <a:off x="7157880" y="2872800"/>
                  <a:ext cx="8784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 flipV="1">
                  <a:off x="7268400" y="2872800"/>
                  <a:ext cx="9288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 flipV="1">
                  <a:off x="7381080" y="2872800"/>
                  <a:ext cx="9072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 flipV="1">
                  <a:off x="7494480" y="2872800"/>
                  <a:ext cx="8748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 flipV="1">
                  <a:off x="7605360" y="2872800"/>
                  <a:ext cx="9252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 flipV="1">
                  <a:off x="7720560" y="2872800"/>
                  <a:ext cx="79560" cy="180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 flipV="1">
                  <a:off x="7800120" y="2813040"/>
                  <a:ext cx="1800" cy="6156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95" name=""/>
            <p:cNvGrpSpPr/>
            <p:nvPr/>
          </p:nvGrpSpPr>
          <p:grpSpPr>
            <a:xfrm>
              <a:off x="1909800" y="3186000"/>
              <a:ext cx="3988800" cy="1350720"/>
              <a:chOff x="1909800" y="3186000"/>
              <a:chExt cx="3988800" cy="1350720"/>
            </a:xfrm>
          </p:grpSpPr>
          <p:grpSp>
            <p:nvGrpSpPr>
              <p:cNvPr id="2296" name=""/>
              <p:cNvGrpSpPr/>
              <p:nvPr/>
            </p:nvGrpSpPr>
            <p:grpSpPr>
              <a:xfrm>
                <a:off x="1909800" y="4535280"/>
                <a:ext cx="3967200" cy="1440"/>
                <a:chOff x="1909800" y="4535280"/>
                <a:chExt cx="3967200" cy="1440"/>
              </a:xfrm>
            </p:grpSpPr>
            <p:sp>
              <p:nvSpPr>
                <p:cNvPr id="2297" name=""/>
                <p:cNvSpPr/>
                <p:nvPr/>
              </p:nvSpPr>
              <p:spPr>
                <a:xfrm>
                  <a:off x="1909800" y="4535280"/>
                  <a:ext cx="6156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1994040" y="453528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2104560" y="4535280"/>
                  <a:ext cx="9252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2220120" y="453528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2330640" y="4535280"/>
                  <a:ext cx="9252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2441520" y="4535280"/>
                  <a:ext cx="9252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2556720" y="453528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2667600" y="4535280"/>
                  <a:ext cx="9252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2782800" y="453528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2893680" y="453528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3003840" y="4535280"/>
                  <a:ext cx="928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3119760" y="453528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3229920" y="4535280"/>
                  <a:ext cx="910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3340440" y="4535280"/>
                  <a:ext cx="928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3456000" y="453528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3566520" y="4535280"/>
                  <a:ext cx="928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3682080" y="453528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3792600" y="453528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3903480" y="4535280"/>
                  <a:ext cx="9252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4018680" y="453528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4129560" y="4535280"/>
                  <a:ext cx="910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4240080" y="4535280"/>
                  <a:ext cx="9252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4355640" y="453528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4466160" y="4535280"/>
                  <a:ext cx="910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4581720" y="453528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4692240" y="453528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4802760" y="4535280"/>
                  <a:ext cx="9252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4918320" y="453528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5028840" y="4535280"/>
                  <a:ext cx="9072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5139360" y="4535280"/>
                  <a:ext cx="928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5254560" y="4535280"/>
                  <a:ext cx="8784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5365440" y="4535280"/>
                  <a:ext cx="910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5480640" y="4535280"/>
                  <a:ext cx="8784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5591520" y="453528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5702040" y="4535280"/>
                  <a:ext cx="910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5817240" y="4535280"/>
                  <a:ext cx="5976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3" name=""/>
              <p:cNvGrpSpPr/>
              <p:nvPr/>
            </p:nvGrpSpPr>
            <p:grpSpPr>
              <a:xfrm>
                <a:off x="1993680" y="3187800"/>
                <a:ext cx="3882960" cy="1440"/>
                <a:chOff x="1993680" y="3187800"/>
                <a:chExt cx="3882960" cy="1440"/>
              </a:xfrm>
            </p:grpSpPr>
            <p:sp>
              <p:nvSpPr>
                <p:cNvPr id="2334" name=""/>
                <p:cNvSpPr/>
                <p:nvPr/>
              </p:nvSpPr>
              <p:spPr>
                <a:xfrm flipH="1">
                  <a:off x="5816880" y="3187800"/>
                  <a:ext cx="5976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 flipH="1">
                  <a:off x="5701320" y="3187800"/>
                  <a:ext cx="910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 flipH="1">
                  <a:off x="5590800" y="318780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 flipH="1">
                  <a:off x="5480280" y="3187800"/>
                  <a:ext cx="8784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 flipH="1">
                  <a:off x="5364720" y="3187800"/>
                  <a:ext cx="910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 flipH="1">
                  <a:off x="5254200" y="3187800"/>
                  <a:ext cx="8784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 flipH="1">
                  <a:off x="5139000" y="3187800"/>
                  <a:ext cx="928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 flipH="1">
                  <a:off x="5028480" y="3187800"/>
                  <a:ext cx="9072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 flipH="1">
                  <a:off x="4917600" y="318780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 flipH="1">
                  <a:off x="4802040" y="3187800"/>
                  <a:ext cx="9252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 flipH="1">
                  <a:off x="4691520" y="318780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 flipH="1">
                  <a:off x="4581000" y="318780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 flipH="1">
                  <a:off x="4465440" y="3187800"/>
                  <a:ext cx="910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 flipH="1">
                  <a:off x="4354920" y="318780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 flipH="1">
                  <a:off x="4239360" y="3187800"/>
                  <a:ext cx="9252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 flipH="1">
                  <a:off x="4128840" y="3187800"/>
                  <a:ext cx="910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 flipH="1">
                  <a:off x="4017960" y="318780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 flipH="1">
                  <a:off x="3902760" y="3187800"/>
                  <a:ext cx="9252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 flipH="1">
                  <a:off x="3792240" y="318780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 flipH="1">
                  <a:off x="3681360" y="318780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 flipH="1">
                  <a:off x="3566520" y="3187800"/>
                  <a:ext cx="928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 flipH="1">
                  <a:off x="3455280" y="318780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 flipH="1">
                  <a:off x="3340440" y="3187800"/>
                  <a:ext cx="928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 flipH="1">
                  <a:off x="3229200" y="3187800"/>
                  <a:ext cx="910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 flipH="1">
                  <a:off x="3119040" y="318780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 flipH="1">
                  <a:off x="3003480" y="3187800"/>
                  <a:ext cx="928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 flipH="1">
                  <a:off x="2892960" y="318780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 flipH="1">
                  <a:off x="2782440" y="318780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 flipH="1">
                  <a:off x="2666880" y="3187800"/>
                  <a:ext cx="9252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 flipH="1">
                  <a:off x="2556360" y="318780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 flipH="1">
                  <a:off x="2440800" y="3187800"/>
                  <a:ext cx="9252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 flipH="1">
                  <a:off x="2330280" y="3187800"/>
                  <a:ext cx="9252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 flipH="1">
                  <a:off x="2219400" y="318780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 flipH="1">
                  <a:off x="2104200" y="3187800"/>
                  <a:ext cx="9252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 flipH="1">
                  <a:off x="1993680" y="3187800"/>
                  <a:ext cx="8748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9" name=""/>
              <p:cNvGrpSpPr/>
              <p:nvPr/>
            </p:nvGrpSpPr>
            <p:grpSpPr>
              <a:xfrm>
                <a:off x="1909800" y="3187800"/>
                <a:ext cx="61200" cy="1347120"/>
                <a:chOff x="1909800" y="3187800"/>
                <a:chExt cx="61200" cy="1347120"/>
              </a:xfrm>
            </p:grpSpPr>
            <p:sp>
              <p:nvSpPr>
                <p:cNvPr id="2370" name=""/>
                <p:cNvSpPr/>
                <p:nvPr/>
              </p:nvSpPr>
              <p:spPr>
                <a:xfrm flipH="1">
                  <a:off x="1909800" y="3187800"/>
                  <a:ext cx="61200" cy="144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1909800" y="3187800"/>
                  <a:ext cx="1440" cy="9900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1909800" y="3309480"/>
                  <a:ext cx="1440" cy="9288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1909800" y="3425400"/>
                  <a:ext cx="1440" cy="8748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1909800" y="3535560"/>
                  <a:ext cx="1440" cy="9108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1909800" y="3646440"/>
                  <a:ext cx="1440" cy="9288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1909800" y="3762000"/>
                  <a:ext cx="1440" cy="8820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1909800" y="3872520"/>
                  <a:ext cx="1440" cy="9108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1909800" y="3986640"/>
                  <a:ext cx="1440" cy="8928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1909800" y="4098960"/>
                  <a:ext cx="1440" cy="9108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1909800" y="4209480"/>
                  <a:ext cx="1440" cy="9108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1909800" y="4325040"/>
                  <a:ext cx="1440" cy="8748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1909800" y="4435920"/>
                  <a:ext cx="1440" cy="9900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3" name=""/>
              <p:cNvGrpSpPr/>
              <p:nvPr/>
            </p:nvGrpSpPr>
            <p:grpSpPr>
              <a:xfrm>
                <a:off x="5896800" y="3186000"/>
                <a:ext cx="1800" cy="1347480"/>
                <a:chOff x="5896800" y="3186000"/>
                <a:chExt cx="1800" cy="1347480"/>
              </a:xfrm>
            </p:grpSpPr>
            <p:sp>
              <p:nvSpPr>
                <p:cNvPr id="2384" name=""/>
                <p:cNvSpPr/>
                <p:nvPr/>
              </p:nvSpPr>
              <p:spPr>
                <a:xfrm flipH="1">
                  <a:off x="5896800" y="3186000"/>
                  <a:ext cx="1800" cy="9900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 flipH="1">
                  <a:off x="5896800" y="3308040"/>
                  <a:ext cx="1800" cy="9252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 flipH="1">
                  <a:off x="5896800" y="3423600"/>
                  <a:ext cx="1800" cy="8748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 flipH="1">
                  <a:off x="5896800" y="3534120"/>
                  <a:ext cx="1800" cy="9108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 flipH="1">
                  <a:off x="5896800" y="3645000"/>
                  <a:ext cx="1800" cy="9252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 flipH="1">
                  <a:off x="5896800" y="3760560"/>
                  <a:ext cx="1800" cy="8748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flipH="1">
                  <a:off x="5896800" y="3871080"/>
                  <a:ext cx="1800" cy="9108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 flipH="1">
                  <a:off x="5896800" y="3985200"/>
                  <a:ext cx="1800" cy="8928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 flipH="1">
                  <a:off x="5896800" y="4097520"/>
                  <a:ext cx="1800" cy="9108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 flipH="1">
                  <a:off x="5896800" y="4208040"/>
                  <a:ext cx="1800" cy="9108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 flipH="1">
                  <a:off x="5896800" y="4323600"/>
                  <a:ext cx="1800" cy="8748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 flipH="1">
                  <a:off x="5896800" y="4434480"/>
                  <a:ext cx="1800" cy="99000"/>
                </a:xfrm>
                <a:prstGeom prst="line">
                  <a:avLst/>
                </a:prstGeom>
                <a:ln w="1908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96" name=""/>
          <p:cNvSpPr/>
          <p:nvPr/>
        </p:nvSpPr>
        <p:spPr>
          <a:xfrm>
            <a:off x="304920" y="69840"/>
            <a:ext cx="860904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1.2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鼠笼式电动机直接起动的控制线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883800" y="76212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直接起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5249880" y="5891040"/>
            <a:ext cx="136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(a)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结构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1066680" y="2219400"/>
            <a:ext cx="6098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主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5077080" y="2206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控制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3962520" y="914400"/>
            <a:ext cx="0" cy="594360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306360" y="228600"/>
            <a:ext cx="860904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1.2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鼠笼式电动机直接起动的控制线路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604800" y="913680"/>
            <a:ext cx="11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753920" y="1125360"/>
            <a:ext cx="6323040" cy="5275440"/>
            <a:chOff x="1753920" y="1125360"/>
            <a:chExt cx="6323040" cy="5275440"/>
          </a:xfrm>
        </p:grpSpPr>
        <p:grpSp>
          <p:nvGrpSpPr>
            <p:cNvPr id="2406" name=""/>
            <p:cNvGrpSpPr/>
            <p:nvPr/>
          </p:nvGrpSpPr>
          <p:grpSpPr>
            <a:xfrm>
              <a:off x="3187440" y="2454120"/>
              <a:ext cx="4889520" cy="3154320"/>
              <a:chOff x="3187440" y="2454120"/>
              <a:chExt cx="4889520" cy="3154320"/>
            </a:xfrm>
          </p:grpSpPr>
          <p:sp>
            <p:nvSpPr>
              <p:cNvPr id="2407" name=""/>
              <p:cNvSpPr/>
              <p:nvPr/>
            </p:nvSpPr>
            <p:spPr>
              <a:xfrm>
                <a:off x="4863960" y="4370400"/>
                <a:ext cx="62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4235040" y="4370400"/>
                <a:ext cx="349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V="1">
                <a:off x="5446440" y="4370400"/>
                <a:ext cx="547560" cy="22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4522680" y="4135320"/>
                <a:ext cx="3333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4589280" y="4125960"/>
                <a:ext cx="0" cy="28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981400" y="437040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3" name=""/>
              <p:cNvGrpSpPr/>
              <p:nvPr/>
            </p:nvGrpSpPr>
            <p:grpSpPr>
              <a:xfrm>
                <a:off x="5143320" y="4370400"/>
                <a:ext cx="1257120" cy="869040"/>
                <a:chOff x="5143320" y="4370400"/>
                <a:chExt cx="1257120" cy="869040"/>
              </a:xfrm>
            </p:grpSpPr>
            <p:sp>
              <p:nvSpPr>
                <p:cNvPr id="2414" name=""/>
                <p:cNvSpPr/>
                <p:nvPr/>
              </p:nvSpPr>
              <p:spPr>
                <a:xfrm>
                  <a:off x="5143320" y="4370400"/>
                  <a:ext cx="0" cy="70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5143320" y="5071680"/>
                  <a:ext cx="349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 flipV="1">
                  <a:off x="5446440" y="5071320"/>
                  <a:ext cx="480960" cy="168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5911560" y="5071680"/>
                  <a:ext cx="488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 flipV="1">
                  <a:off x="6400440" y="4370400"/>
                  <a:ext cx="0" cy="70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9" name=""/>
              <p:cNvSpPr/>
              <p:nvPr/>
            </p:nvSpPr>
            <p:spPr>
              <a:xfrm>
                <a:off x="6819840" y="4054320"/>
                <a:ext cx="43632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238880" y="437040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448400" y="2878200"/>
                <a:ext cx="62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2" name=""/>
              <p:cNvGrpSpPr/>
              <p:nvPr/>
            </p:nvGrpSpPr>
            <p:grpSpPr>
              <a:xfrm>
                <a:off x="5638680" y="4478040"/>
                <a:ext cx="279360" cy="304560"/>
                <a:chOff x="5638680" y="4478040"/>
                <a:chExt cx="279360" cy="304560"/>
              </a:xfrm>
            </p:grpSpPr>
            <p:grpSp>
              <p:nvGrpSpPr>
                <p:cNvPr id="2423" name=""/>
                <p:cNvGrpSpPr/>
                <p:nvPr/>
              </p:nvGrpSpPr>
              <p:grpSpPr>
                <a:xfrm>
                  <a:off x="5638680" y="4478040"/>
                  <a:ext cx="279360" cy="284040"/>
                  <a:chOff x="5638680" y="4478040"/>
                  <a:chExt cx="279360" cy="284040"/>
                </a:xfrm>
              </p:grpSpPr>
              <p:sp>
                <p:nvSpPr>
                  <p:cNvPr id="2424" name=""/>
                  <p:cNvSpPr/>
                  <p:nvPr/>
                </p:nvSpPr>
                <p:spPr>
                  <a:xfrm flipV="1">
                    <a:off x="5767200" y="4478040"/>
                    <a:ext cx="0" cy="279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5" name=""/>
                  <p:cNvSpPr/>
                  <p:nvPr/>
                </p:nvSpPr>
                <p:spPr>
                  <a:xfrm flipH="1">
                    <a:off x="5638680" y="4762080"/>
                    <a:ext cx="279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6" name=""/>
                <p:cNvGrpSpPr/>
                <p:nvPr/>
              </p:nvGrpSpPr>
              <p:grpSpPr>
                <a:xfrm>
                  <a:off x="5638680" y="4712760"/>
                  <a:ext cx="279360" cy="69840"/>
                  <a:chOff x="5638680" y="4712760"/>
                  <a:chExt cx="279360" cy="69840"/>
                </a:xfrm>
              </p:grpSpPr>
              <p:sp>
                <p:nvSpPr>
                  <p:cNvPr id="2427" name=""/>
                  <p:cNvSpPr/>
                  <p:nvPr/>
                </p:nvSpPr>
                <p:spPr>
                  <a:xfrm>
                    <a:off x="5918040" y="4713120"/>
                    <a:ext cx="0" cy="6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8" name=""/>
                  <p:cNvSpPr/>
                  <p:nvPr/>
                </p:nvSpPr>
                <p:spPr>
                  <a:xfrm flipV="1">
                    <a:off x="5638680" y="4712760"/>
                    <a:ext cx="0" cy="6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9" name=""/>
              <p:cNvGrpSpPr/>
              <p:nvPr/>
            </p:nvGrpSpPr>
            <p:grpSpPr>
              <a:xfrm>
                <a:off x="4584600" y="4316400"/>
                <a:ext cx="279360" cy="284040"/>
                <a:chOff x="4584600" y="4316400"/>
                <a:chExt cx="279360" cy="284040"/>
              </a:xfrm>
            </p:grpSpPr>
            <p:sp>
              <p:nvSpPr>
                <p:cNvPr id="2430" name=""/>
                <p:cNvSpPr/>
                <p:nvPr/>
              </p:nvSpPr>
              <p:spPr>
                <a:xfrm flipV="1">
                  <a:off x="4724280" y="4316400"/>
                  <a:ext cx="0" cy="279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4584600" y="4530600"/>
                  <a:ext cx="0" cy="69840"/>
                </a:xfrm>
                <a:prstGeom prst="line">
                  <a:avLst/>
                </a:prstGeom>
                <a:ln w="2844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4584600" y="4600440"/>
                  <a:ext cx="279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 flipV="1">
                  <a:off x="4863960" y="4530600"/>
                  <a:ext cx="0" cy="6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4" name=""/>
              <p:cNvSpPr/>
              <p:nvPr/>
            </p:nvSpPr>
            <p:spPr>
              <a:xfrm rot="6240600">
                <a:off x="5930640" y="5048640"/>
                <a:ext cx="87480" cy="127080"/>
              </a:xfrm>
              <a:custGeom>
                <a:avLst/>
                <a:gdLst/>
                <a:ahLst/>
                <a:rect l="l" t="t" r="r" b="b"/>
                <a:pathLst>
                  <a:path w="464" h="624">
                    <a:moveTo>
                      <a:pt x="272" y="0"/>
                    </a:moveTo>
                    <a:cubicBezTo>
                      <a:pt x="136" y="164"/>
                      <a:pt x="0" y="328"/>
                      <a:pt x="32" y="432"/>
                    </a:cubicBezTo>
                    <a:cubicBezTo>
                      <a:pt x="64" y="536"/>
                      <a:pt x="392" y="592"/>
                      <a:pt x="464" y="624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4506120" y="3716280"/>
                <a:ext cx="718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SB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  <a:ea typeface="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411520" y="5087880"/>
                <a:ext cx="79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420520" y="3792600"/>
                <a:ext cx="718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SB</a:t>
                </a:r>
                <a:r>
                  <a:rPr b="1" lang="en-US" sz="2800" spc="-1" strike="noStrike" baseline="-25000">
                    <a:solidFill>
                      <a:srgbClr val="0066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6936840" y="2816280"/>
                <a:ext cx="653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F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6630840" y="3610080"/>
                <a:ext cx="79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3606480" y="3106800"/>
                <a:ext cx="62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235040" y="3106800"/>
                <a:ext cx="0" cy="126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056360" y="2674800"/>
                <a:ext cx="393480" cy="20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8076960" y="2851200"/>
                <a:ext cx="0" cy="1519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308720" y="2585880"/>
                <a:ext cx="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099200" y="2454120"/>
                <a:ext cx="13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238880" y="2454120"/>
                <a:ext cx="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238880" y="2585880"/>
                <a:ext cx="13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7378560" y="2454120"/>
                <a:ext cx="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378560" y="2454120"/>
                <a:ext cx="13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107120" y="2585880"/>
                <a:ext cx="0" cy="26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3187440" y="2851200"/>
                <a:ext cx="391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2" name=""/>
            <p:cNvGrpSpPr/>
            <p:nvPr/>
          </p:nvGrpSpPr>
          <p:grpSpPr>
            <a:xfrm>
              <a:off x="1753920" y="1125360"/>
              <a:ext cx="1990440" cy="5275440"/>
              <a:chOff x="1753920" y="1125360"/>
              <a:chExt cx="1990440" cy="5275440"/>
            </a:xfrm>
          </p:grpSpPr>
          <p:sp>
            <p:nvSpPr>
              <p:cNvPr id="2453" name=""/>
              <p:cNvSpPr/>
              <p:nvPr/>
            </p:nvSpPr>
            <p:spPr>
              <a:xfrm>
                <a:off x="1815840" y="3639960"/>
                <a:ext cx="698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F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1753920" y="3089160"/>
                <a:ext cx="79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968120" y="2111400"/>
                <a:ext cx="100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F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2133360" y="1552680"/>
                <a:ext cx="351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2590560" y="1762200"/>
                <a:ext cx="83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2590560" y="5468760"/>
                <a:ext cx="990720" cy="932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2546280" y="4491000"/>
                <a:ext cx="13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2476440" y="3360600"/>
                <a:ext cx="20952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2685960" y="3709800"/>
                <a:ext cx="0" cy="54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2546280" y="4281480"/>
                <a:ext cx="13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2546280" y="4281480"/>
                <a:ext cx="0" cy="20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2685960" y="4478400"/>
                <a:ext cx="0" cy="62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2476440" y="4141800"/>
                <a:ext cx="34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2825640" y="4141800"/>
                <a:ext cx="0" cy="48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2476440" y="4630680"/>
                <a:ext cx="34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2476440" y="4141800"/>
                <a:ext cx="0" cy="48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2755800" y="1265040"/>
                <a:ext cx="0" cy="41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3174840" y="1265040"/>
                <a:ext cx="0" cy="41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1" name=""/>
              <p:cNvGrpSpPr/>
              <p:nvPr/>
            </p:nvGrpSpPr>
            <p:grpSpPr>
              <a:xfrm>
                <a:off x="2742840" y="1125360"/>
                <a:ext cx="880920" cy="125640"/>
                <a:chOff x="2742840" y="1125360"/>
                <a:chExt cx="880920" cy="125640"/>
              </a:xfrm>
            </p:grpSpPr>
            <p:sp>
              <p:nvSpPr>
                <p:cNvPr id="2472" name=""/>
                <p:cNvSpPr/>
                <p:nvPr/>
              </p:nvSpPr>
              <p:spPr>
                <a:xfrm>
                  <a:off x="2742840" y="1125360"/>
                  <a:ext cx="125640" cy="1256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3120480" y="1125360"/>
                  <a:ext cx="125640" cy="1256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3498120" y="1125360"/>
                  <a:ext cx="125640" cy="1256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5" name=""/>
              <p:cNvSpPr/>
              <p:nvPr/>
            </p:nvSpPr>
            <p:spPr>
              <a:xfrm>
                <a:off x="3593880" y="1265040"/>
                <a:ext cx="0" cy="41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3454200" y="4491000"/>
                <a:ext cx="13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3384360" y="3360600"/>
                <a:ext cx="20952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3593880" y="3709800"/>
                <a:ext cx="0" cy="571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3454200" y="4281480"/>
                <a:ext cx="12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3454200" y="4281480"/>
                <a:ext cx="0" cy="20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3593880" y="4478400"/>
                <a:ext cx="0" cy="62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3384360" y="4141800"/>
                <a:ext cx="34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3733560" y="4141800"/>
                <a:ext cx="0" cy="48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3384360" y="4630680"/>
                <a:ext cx="34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V="1">
                <a:off x="3384360" y="4141800"/>
                <a:ext cx="0" cy="48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2895480" y="3360600"/>
                <a:ext cx="20952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3105000" y="3709800"/>
                <a:ext cx="0" cy="174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2685960" y="5087880"/>
                <a:ext cx="20952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H="1">
                <a:off x="3352680" y="5087880"/>
                <a:ext cx="241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2820240" y="5864040"/>
                <a:ext cx="5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3~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2827080" y="546876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3384360" y="1614600"/>
                <a:ext cx="20952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3593880" y="1963800"/>
                <a:ext cx="0" cy="1396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rot="10883400">
                <a:off x="3523680" y="3151080"/>
                <a:ext cx="81000" cy="209520"/>
              </a:xfrm>
              <a:custGeom>
                <a:avLst/>
                <a:gdLst/>
                <a:ahLst/>
                <a:rect l="l" t="t" r="r" b="b"/>
                <a:pathLst>
                  <a:path w="584" h="816">
                    <a:moveTo>
                      <a:pt x="0" y="0"/>
                    </a:moveTo>
                    <a:cubicBezTo>
                      <a:pt x="284" y="100"/>
                      <a:pt x="568" y="200"/>
                      <a:pt x="576" y="336"/>
                    </a:cubicBezTo>
                    <a:cubicBezTo>
                      <a:pt x="584" y="472"/>
                      <a:pt x="316" y="644"/>
                      <a:pt x="48" y="81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3524040" y="2103480"/>
                <a:ext cx="13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3663720" y="2103480"/>
                <a:ext cx="0" cy="48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3524040" y="2592360"/>
                <a:ext cx="13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3524040" y="2103480"/>
                <a:ext cx="0" cy="48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2965320" y="1614600"/>
                <a:ext cx="20952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3174840" y="1963800"/>
                <a:ext cx="0" cy="1396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rot="10883400">
                <a:off x="3104640" y="3151080"/>
                <a:ext cx="81000" cy="209520"/>
              </a:xfrm>
              <a:custGeom>
                <a:avLst/>
                <a:gdLst/>
                <a:ahLst/>
                <a:rect l="l" t="t" r="r" b="b"/>
                <a:pathLst>
                  <a:path w="584" h="816">
                    <a:moveTo>
                      <a:pt x="0" y="0"/>
                    </a:moveTo>
                    <a:cubicBezTo>
                      <a:pt x="284" y="100"/>
                      <a:pt x="568" y="200"/>
                      <a:pt x="576" y="336"/>
                    </a:cubicBezTo>
                    <a:cubicBezTo>
                      <a:pt x="584" y="472"/>
                      <a:pt x="316" y="644"/>
                      <a:pt x="48" y="81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3105000" y="2103480"/>
                <a:ext cx="13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3244680" y="2103480"/>
                <a:ext cx="0" cy="48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3124080" y="2592360"/>
                <a:ext cx="120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3105000" y="2103480"/>
                <a:ext cx="0" cy="48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2546280" y="1614600"/>
                <a:ext cx="20952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2755800" y="1963800"/>
                <a:ext cx="0" cy="1396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rot="10883400">
                <a:off x="2685960" y="3151080"/>
                <a:ext cx="80640" cy="209520"/>
              </a:xfrm>
              <a:custGeom>
                <a:avLst/>
                <a:gdLst/>
                <a:ahLst/>
                <a:rect l="l" t="t" r="r" b="b"/>
                <a:pathLst>
                  <a:path w="584" h="816">
                    <a:moveTo>
                      <a:pt x="0" y="0"/>
                    </a:moveTo>
                    <a:cubicBezTo>
                      <a:pt x="284" y="100"/>
                      <a:pt x="568" y="200"/>
                      <a:pt x="576" y="336"/>
                    </a:cubicBezTo>
                    <a:cubicBezTo>
                      <a:pt x="584" y="472"/>
                      <a:pt x="316" y="644"/>
                      <a:pt x="48" y="81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2685960" y="2103480"/>
                <a:ext cx="13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2825640" y="2103480"/>
                <a:ext cx="0" cy="48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2685960" y="2592360"/>
                <a:ext cx="13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2685960" y="2103480"/>
                <a:ext cx="0" cy="48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3009600" y="2181240"/>
                <a:ext cx="2793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2504880" y="3513240"/>
                <a:ext cx="92376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3031920" y="2421000"/>
                <a:ext cx="29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3449160" y="2649600"/>
                <a:ext cx="29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7" name=""/>
          <p:cNvGrpSpPr/>
          <p:nvPr/>
        </p:nvGrpSpPr>
        <p:grpSpPr>
          <a:xfrm>
            <a:off x="914400" y="1582560"/>
            <a:ext cx="1828800" cy="838440"/>
            <a:chOff x="914400" y="1582560"/>
            <a:chExt cx="1828800" cy="838440"/>
          </a:xfrm>
        </p:grpSpPr>
        <p:grpSp>
          <p:nvGrpSpPr>
            <p:cNvPr id="2518" name=""/>
            <p:cNvGrpSpPr/>
            <p:nvPr/>
          </p:nvGrpSpPr>
          <p:grpSpPr>
            <a:xfrm>
              <a:off x="914400" y="2116080"/>
              <a:ext cx="1828800" cy="304920"/>
              <a:chOff x="914400" y="2116080"/>
              <a:chExt cx="1828800" cy="304920"/>
            </a:xfrm>
          </p:grpSpPr>
          <p:sp>
            <p:nvSpPr>
              <p:cNvPr id="2519" name=""/>
              <p:cNvSpPr/>
              <p:nvPr/>
            </p:nvSpPr>
            <p:spPr>
              <a:xfrm>
                <a:off x="914400" y="2116080"/>
                <a:ext cx="1271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2171160" y="2116080"/>
                <a:ext cx="57204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1" name=""/>
            <p:cNvSpPr/>
            <p:nvPr/>
          </p:nvSpPr>
          <p:spPr>
            <a:xfrm>
              <a:off x="1130400" y="15825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保险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2" name=""/>
          <p:cNvGrpSpPr/>
          <p:nvPr/>
        </p:nvGrpSpPr>
        <p:grpSpPr>
          <a:xfrm>
            <a:off x="457200" y="4554360"/>
            <a:ext cx="2133360" cy="1219320"/>
            <a:chOff x="457200" y="4554360"/>
            <a:chExt cx="2133360" cy="1219320"/>
          </a:xfrm>
        </p:grpSpPr>
        <p:sp>
          <p:nvSpPr>
            <p:cNvPr id="2523" name=""/>
            <p:cNvSpPr/>
            <p:nvPr/>
          </p:nvSpPr>
          <p:spPr>
            <a:xfrm flipH="1">
              <a:off x="1981080" y="4554360"/>
              <a:ext cx="60948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33520" y="577368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457200" y="4954680"/>
              <a:ext cx="16765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热继电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发热元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3505320" y="1582560"/>
            <a:ext cx="1142640" cy="533520"/>
            <a:chOff x="3505320" y="1582560"/>
            <a:chExt cx="1142640" cy="533520"/>
          </a:xfrm>
        </p:grpSpPr>
        <p:grpSp>
          <p:nvGrpSpPr>
            <p:cNvPr id="2527" name=""/>
            <p:cNvGrpSpPr/>
            <p:nvPr/>
          </p:nvGrpSpPr>
          <p:grpSpPr>
            <a:xfrm>
              <a:off x="3505320" y="1811160"/>
              <a:ext cx="1142640" cy="304920"/>
              <a:chOff x="3505320" y="1811160"/>
              <a:chExt cx="1142640" cy="304920"/>
            </a:xfrm>
          </p:grpSpPr>
          <p:sp>
            <p:nvSpPr>
              <p:cNvPr id="2528" name=""/>
              <p:cNvSpPr/>
              <p:nvPr/>
            </p:nvSpPr>
            <p:spPr>
              <a:xfrm>
                <a:off x="3505320" y="1811160"/>
                <a:ext cx="40788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913200" y="2116080"/>
                <a:ext cx="73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0" name=""/>
            <p:cNvSpPr/>
            <p:nvPr/>
          </p:nvSpPr>
          <p:spPr>
            <a:xfrm>
              <a:off x="3909600" y="1582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开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1" name=""/>
          <p:cNvGrpSpPr/>
          <p:nvPr/>
        </p:nvGrpSpPr>
        <p:grpSpPr>
          <a:xfrm>
            <a:off x="228600" y="3564000"/>
            <a:ext cx="2285280" cy="776520"/>
            <a:chOff x="228600" y="3564000"/>
            <a:chExt cx="2285280" cy="776520"/>
          </a:xfrm>
        </p:grpSpPr>
        <p:grpSp>
          <p:nvGrpSpPr>
            <p:cNvPr id="2532" name=""/>
            <p:cNvGrpSpPr/>
            <p:nvPr/>
          </p:nvGrpSpPr>
          <p:grpSpPr>
            <a:xfrm>
              <a:off x="384120" y="3576600"/>
              <a:ext cx="2129760" cy="749160"/>
              <a:chOff x="384120" y="3576600"/>
              <a:chExt cx="2129760" cy="749160"/>
            </a:xfrm>
          </p:grpSpPr>
          <p:sp>
            <p:nvSpPr>
              <p:cNvPr id="2533" name=""/>
              <p:cNvSpPr/>
              <p:nvPr/>
            </p:nvSpPr>
            <p:spPr>
              <a:xfrm flipH="1">
                <a:off x="1725120" y="3576600"/>
                <a:ext cx="788760" cy="74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84120" y="4325760"/>
                <a:ext cx="134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5" name=""/>
            <p:cNvSpPr/>
            <p:nvPr/>
          </p:nvSpPr>
          <p:spPr>
            <a:xfrm>
              <a:off x="228600" y="3564000"/>
              <a:ext cx="1737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接触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主触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6" name=""/>
          <p:cNvGrpSpPr/>
          <p:nvPr/>
        </p:nvGrpSpPr>
        <p:grpSpPr>
          <a:xfrm>
            <a:off x="4660920" y="3106800"/>
            <a:ext cx="1231560" cy="837720"/>
            <a:chOff x="4660920" y="3106800"/>
            <a:chExt cx="1231560" cy="837720"/>
          </a:xfrm>
        </p:grpSpPr>
        <p:sp>
          <p:nvSpPr>
            <p:cNvPr id="2537" name=""/>
            <p:cNvSpPr/>
            <p:nvPr/>
          </p:nvSpPr>
          <p:spPr>
            <a:xfrm>
              <a:off x="4708080" y="31068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起动按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8" name=""/>
            <p:cNvGrpSpPr/>
            <p:nvPr/>
          </p:nvGrpSpPr>
          <p:grpSpPr>
            <a:xfrm>
              <a:off x="4660920" y="3584520"/>
              <a:ext cx="1231560" cy="360000"/>
              <a:chOff x="4660920" y="3584520"/>
              <a:chExt cx="1231560" cy="360000"/>
            </a:xfrm>
          </p:grpSpPr>
          <p:sp>
            <p:nvSpPr>
              <p:cNvPr id="2539" name=""/>
              <p:cNvSpPr/>
              <p:nvPr/>
            </p:nvSpPr>
            <p:spPr>
              <a:xfrm>
                <a:off x="4660920" y="3584520"/>
                <a:ext cx="104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706360" y="3584520"/>
                <a:ext cx="18612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1" name=""/>
          <p:cNvGrpSpPr/>
          <p:nvPr/>
        </p:nvGrpSpPr>
        <p:grpSpPr>
          <a:xfrm>
            <a:off x="4095360" y="4554360"/>
            <a:ext cx="1346040" cy="1525680"/>
            <a:chOff x="4095360" y="4554360"/>
            <a:chExt cx="1346040" cy="1525680"/>
          </a:xfrm>
        </p:grpSpPr>
        <p:sp>
          <p:nvSpPr>
            <p:cNvPr id="2542" name=""/>
            <p:cNvSpPr/>
            <p:nvPr/>
          </p:nvSpPr>
          <p:spPr>
            <a:xfrm>
              <a:off x="4407120" y="5559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停止按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3" name=""/>
            <p:cNvGrpSpPr/>
            <p:nvPr/>
          </p:nvGrpSpPr>
          <p:grpSpPr>
            <a:xfrm>
              <a:off x="4095360" y="4554360"/>
              <a:ext cx="1315080" cy="1524240"/>
              <a:chOff x="4095360" y="4554360"/>
              <a:chExt cx="1315080" cy="1524240"/>
            </a:xfrm>
          </p:grpSpPr>
          <p:sp>
            <p:nvSpPr>
              <p:cNvPr id="2544" name=""/>
              <p:cNvSpPr/>
              <p:nvPr/>
            </p:nvSpPr>
            <p:spPr>
              <a:xfrm>
                <a:off x="4114800" y="607860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 flipH="1">
                <a:off x="4095360" y="4554360"/>
                <a:ext cx="628920" cy="152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6" name=""/>
          <p:cNvGrpSpPr/>
          <p:nvPr/>
        </p:nvGrpSpPr>
        <p:grpSpPr>
          <a:xfrm>
            <a:off x="7010280" y="4541760"/>
            <a:ext cx="1600200" cy="776520"/>
            <a:chOff x="7010280" y="4541760"/>
            <a:chExt cx="1600200" cy="776520"/>
          </a:xfrm>
        </p:grpSpPr>
        <p:grpSp>
          <p:nvGrpSpPr>
            <p:cNvPr id="2547" name=""/>
            <p:cNvGrpSpPr/>
            <p:nvPr/>
          </p:nvGrpSpPr>
          <p:grpSpPr>
            <a:xfrm>
              <a:off x="7010280" y="4741920"/>
              <a:ext cx="1523880" cy="533160"/>
              <a:chOff x="7010280" y="4741920"/>
              <a:chExt cx="1523880" cy="533160"/>
            </a:xfrm>
          </p:grpSpPr>
          <p:sp>
            <p:nvSpPr>
              <p:cNvPr id="2548" name=""/>
              <p:cNvSpPr/>
              <p:nvPr/>
            </p:nvSpPr>
            <p:spPr>
              <a:xfrm>
                <a:off x="7010280" y="4741920"/>
                <a:ext cx="22860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7238880" y="52401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0" name=""/>
            <p:cNvSpPr/>
            <p:nvPr/>
          </p:nvSpPr>
          <p:spPr>
            <a:xfrm>
              <a:off x="7238880" y="4541760"/>
              <a:ext cx="13716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接触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线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1" name=""/>
          <p:cNvGrpSpPr/>
          <p:nvPr/>
        </p:nvGrpSpPr>
        <p:grpSpPr>
          <a:xfrm>
            <a:off x="5943600" y="5087880"/>
            <a:ext cx="2362320" cy="1233720"/>
            <a:chOff x="5943600" y="5087880"/>
            <a:chExt cx="2362320" cy="1233720"/>
          </a:xfrm>
        </p:grpSpPr>
        <p:grpSp>
          <p:nvGrpSpPr>
            <p:cNvPr id="2552" name=""/>
            <p:cNvGrpSpPr/>
            <p:nvPr/>
          </p:nvGrpSpPr>
          <p:grpSpPr>
            <a:xfrm>
              <a:off x="5943600" y="5087880"/>
              <a:ext cx="2057400" cy="1219320"/>
              <a:chOff x="5943600" y="5087880"/>
              <a:chExt cx="2057400" cy="1219320"/>
            </a:xfrm>
          </p:grpSpPr>
          <p:sp>
            <p:nvSpPr>
              <p:cNvPr id="2553" name=""/>
              <p:cNvSpPr/>
              <p:nvPr/>
            </p:nvSpPr>
            <p:spPr>
              <a:xfrm>
                <a:off x="5943600" y="5087880"/>
                <a:ext cx="762120" cy="12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705720" y="630720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5" name=""/>
            <p:cNvSpPr/>
            <p:nvPr/>
          </p:nvSpPr>
          <p:spPr>
            <a:xfrm>
              <a:off x="6553440" y="5545080"/>
              <a:ext cx="17524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接触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助触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6" name=""/>
          <p:cNvGrpSpPr/>
          <p:nvPr/>
        </p:nvGrpSpPr>
        <p:grpSpPr>
          <a:xfrm>
            <a:off x="7162920" y="1278000"/>
            <a:ext cx="1828800" cy="1142640"/>
            <a:chOff x="7162920" y="1278000"/>
            <a:chExt cx="1828800" cy="1142640"/>
          </a:xfrm>
        </p:grpSpPr>
        <p:grpSp>
          <p:nvGrpSpPr>
            <p:cNvPr id="2557" name=""/>
            <p:cNvGrpSpPr/>
            <p:nvPr/>
          </p:nvGrpSpPr>
          <p:grpSpPr>
            <a:xfrm>
              <a:off x="7162920" y="2039400"/>
              <a:ext cx="1600200" cy="381240"/>
              <a:chOff x="7162920" y="2039400"/>
              <a:chExt cx="1600200" cy="381240"/>
            </a:xfrm>
          </p:grpSpPr>
          <p:sp>
            <p:nvSpPr>
              <p:cNvPr id="2558" name=""/>
              <p:cNvSpPr/>
              <p:nvPr/>
            </p:nvSpPr>
            <p:spPr>
              <a:xfrm flipV="1">
                <a:off x="7162920" y="2039400"/>
                <a:ext cx="22860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391520" y="2039760"/>
                <a:ext cx="13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0" name=""/>
            <p:cNvSpPr/>
            <p:nvPr/>
          </p:nvSpPr>
          <p:spPr>
            <a:xfrm>
              <a:off x="7239240" y="1278000"/>
              <a:ext cx="17524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热继电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断触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1" name="">
            <a:hlinkClick r:id="rId2"/>
          </p:cNvPr>
          <p:cNvSpPr/>
          <p:nvPr/>
        </p:nvSpPr>
        <p:spPr>
          <a:xfrm>
            <a:off x="990720" y="5867280"/>
            <a:ext cx="69048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00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178520" y="6186600"/>
            <a:ext cx="13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(b)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原理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"/>
          <p:cNvSpPr/>
          <p:nvPr/>
        </p:nvSpPr>
        <p:spPr>
          <a:xfrm>
            <a:off x="4848480" y="1957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控制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3886200" y="838080"/>
            <a:ext cx="0" cy="6096240"/>
          </a:xfrm>
          <a:prstGeom prst="line">
            <a:avLst/>
          </a:prstGeom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5142960" y="791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一、直接起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2133720" y="3042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电动机的保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7" name=""/>
          <p:cNvGrpSpPr/>
          <p:nvPr/>
        </p:nvGrpSpPr>
        <p:grpSpPr>
          <a:xfrm>
            <a:off x="1677960" y="914400"/>
            <a:ext cx="6323040" cy="5275440"/>
            <a:chOff x="1677960" y="914400"/>
            <a:chExt cx="6323040" cy="5275440"/>
          </a:xfrm>
        </p:grpSpPr>
        <p:grpSp>
          <p:nvGrpSpPr>
            <p:cNvPr id="2568" name=""/>
            <p:cNvGrpSpPr/>
            <p:nvPr/>
          </p:nvGrpSpPr>
          <p:grpSpPr>
            <a:xfrm>
              <a:off x="3111480" y="2243160"/>
              <a:ext cx="4889520" cy="3154320"/>
              <a:chOff x="3111480" y="2243160"/>
              <a:chExt cx="4889520" cy="3154320"/>
            </a:xfrm>
          </p:grpSpPr>
          <p:sp>
            <p:nvSpPr>
              <p:cNvPr id="2569" name=""/>
              <p:cNvSpPr/>
              <p:nvPr/>
            </p:nvSpPr>
            <p:spPr>
              <a:xfrm>
                <a:off x="4788000" y="4159440"/>
                <a:ext cx="62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4159080" y="4159440"/>
                <a:ext cx="349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5370480" y="4159440"/>
                <a:ext cx="547560" cy="22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4446720" y="3924360"/>
                <a:ext cx="3333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4513320" y="3915000"/>
                <a:ext cx="0" cy="28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5905440" y="415944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5" name=""/>
              <p:cNvGrpSpPr/>
              <p:nvPr/>
            </p:nvGrpSpPr>
            <p:grpSpPr>
              <a:xfrm>
                <a:off x="5067360" y="4159440"/>
                <a:ext cx="1257120" cy="869040"/>
                <a:chOff x="5067360" y="4159440"/>
                <a:chExt cx="1257120" cy="869040"/>
              </a:xfrm>
            </p:grpSpPr>
            <p:sp>
              <p:nvSpPr>
                <p:cNvPr id="2576" name=""/>
                <p:cNvSpPr/>
                <p:nvPr/>
              </p:nvSpPr>
              <p:spPr>
                <a:xfrm>
                  <a:off x="5067360" y="4159440"/>
                  <a:ext cx="0" cy="70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5067360" y="4860720"/>
                  <a:ext cx="349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flipV="1">
                  <a:off x="5370480" y="4860360"/>
                  <a:ext cx="480960" cy="168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5835600" y="4860720"/>
                  <a:ext cx="488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flipV="1">
                  <a:off x="6324480" y="4159440"/>
                  <a:ext cx="0" cy="70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1" name=""/>
              <p:cNvSpPr/>
              <p:nvPr/>
            </p:nvSpPr>
            <p:spPr>
              <a:xfrm>
                <a:off x="6743880" y="3843360"/>
                <a:ext cx="43632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7162920" y="415944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7372440" y="2667240"/>
                <a:ext cx="62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4" name=""/>
              <p:cNvGrpSpPr/>
              <p:nvPr/>
            </p:nvGrpSpPr>
            <p:grpSpPr>
              <a:xfrm>
                <a:off x="5562720" y="4267080"/>
                <a:ext cx="279360" cy="304560"/>
                <a:chOff x="5562720" y="4267080"/>
                <a:chExt cx="279360" cy="304560"/>
              </a:xfrm>
            </p:grpSpPr>
            <p:grpSp>
              <p:nvGrpSpPr>
                <p:cNvPr id="2585" name=""/>
                <p:cNvGrpSpPr/>
                <p:nvPr/>
              </p:nvGrpSpPr>
              <p:grpSpPr>
                <a:xfrm>
                  <a:off x="5562720" y="4267080"/>
                  <a:ext cx="279360" cy="284040"/>
                  <a:chOff x="5562720" y="4267080"/>
                  <a:chExt cx="279360" cy="284040"/>
                </a:xfrm>
              </p:grpSpPr>
              <p:sp>
                <p:nvSpPr>
                  <p:cNvPr id="2586" name=""/>
                  <p:cNvSpPr/>
                  <p:nvPr/>
                </p:nvSpPr>
                <p:spPr>
                  <a:xfrm flipV="1">
                    <a:off x="5691240" y="4267080"/>
                    <a:ext cx="0" cy="279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 flipH="1">
                    <a:off x="5562720" y="4551120"/>
                    <a:ext cx="279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8" name=""/>
                <p:cNvGrpSpPr/>
                <p:nvPr/>
              </p:nvGrpSpPr>
              <p:grpSpPr>
                <a:xfrm>
                  <a:off x="5562720" y="4501800"/>
                  <a:ext cx="279360" cy="69840"/>
                  <a:chOff x="5562720" y="4501800"/>
                  <a:chExt cx="279360" cy="69840"/>
                </a:xfrm>
              </p:grpSpPr>
              <p:sp>
                <p:nvSpPr>
                  <p:cNvPr id="2589" name=""/>
                  <p:cNvSpPr/>
                  <p:nvPr/>
                </p:nvSpPr>
                <p:spPr>
                  <a:xfrm>
                    <a:off x="5842080" y="4502160"/>
                    <a:ext cx="0" cy="6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 flipV="1">
                    <a:off x="5562720" y="4501800"/>
                    <a:ext cx="0" cy="6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1" name=""/>
              <p:cNvGrpSpPr/>
              <p:nvPr/>
            </p:nvGrpSpPr>
            <p:grpSpPr>
              <a:xfrm>
                <a:off x="4508640" y="4105440"/>
                <a:ext cx="279360" cy="284040"/>
                <a:chOff x="4508640" y="4105440"/>
                <a:chExt cx="279360" cy="284040"/>
              </a:xfrm>
            </p:grpSpPr>
            <p:sp>
              <p:nvSpPr>
                <p:cNvPr id="2592" name=""/>
                <p:cNvSpPr/>
                <p:nvPr/>
              </p:nvSpPr>
              <p:spPr>
                <a:xfrm flipV="1">
                  <a:off x="4648320" y="4105440"/>
                  <a:ext cx="0" cy="279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4508640" y="4319640"/>
                  <a:ext cx="0" cy="69840"/>
                </a:xfrm>
                <a:prstGeom prst="line">
                  <a:avLst/>
                </a:prstGeom>
                <a:ln w="2844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4508640" y="4389480"/>
                  <a:ext cx="279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flipV="1">
                  <a:off x="4788000" y="4319640"/>
                  <a:ext cx="0" cy="6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6" name=""/>
              <p:cNvSpPr/>
              <p:nvPr/>
            </p:nvSpPr>
            <p:spPr>
              <a:xfrm rot="6240600">
                <a:off x="5854680" y="4837680"/>
                <a:ext cx="87480" cy="127080"/>
              </a:xfrm>
              <a:custGeom>
                <a:avLst/>
                <a:gdLst/>
                <a:ahLst/>
                <a:rect l="l" t="t" r="r" b="b"/>
                <a:pathLst>
                  <a:path w="464" h="624">
                    <a:moveTo>
                      <a:pt x="272" y="0"/>
                    </a:moveTo>
                    <a:cubicBezTo>
                      <a:pt x="136" y="164"/>
                      <a:pt x="0" y="328"/>
                      <a:pt x="32" y="432"/>
                    </a:cubicBezTo>
                    <a:cubicBezTo>
                      <a:pt x="64" y="536"/>
                      <a:pt x="392" y="592"/>
                      <a:pt x="464" y="624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4430160" y="3505320"/>
                <a:ext cx="718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SB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  <a:ea typeface="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5335560" y="4876920"/>
                <a:ext cx="79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K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5344560" y="3581640"/>
                <a:ext cx="718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SB</a:t>
                </a:r>
                <a:r>
                  <a:rPr b="1" lang="en-US" sz="2800" spc="-1" strike="noStrike" baseline="-25000">
                    <a:solidFill>
                      <a:srgbClr val="0066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860880" y="2605320"/>
                <a:ext cx="653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F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6554880" y="3399120"/>
                <a:ext cx="79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K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3530520" y="2895840"/>
                <a:ext cx="62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4159080" y="2895840"/>
                <a:ext cx="0" cy="126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6980400" y="2463840"/>
                <a:ext cx="393480" cy="20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8001000" y="2640240"/>
                <a:ext cx="0" cy="1519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7232760" y="2374920"/>
                <a:ext cx="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7023240" y="2243160"/>
                <a:ext cx="13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7162920" y="2243160"/>
                <a:ext cx="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7162920" y="2374920"/>
                <a:ext cx="13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 flipV="1">
                <a:off x="7302600" y="2243160"/>
                <a:ext cx="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302600" y="2243160"/>
                <a:ext cx="13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031160" y="2374920"/>
                <a:ext cx="0" cy="26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3111480" y="2640240"/>
                <a:ext cx="391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4" name=""/>
            <p:cNvGrpSpPr/>
            <p:nvPr/>
          </p:nvGrpSpPr>
          <p:grpSpPr>
            <a:xfrm>
              <a:off x="1677960" y="914400"/>
              <a:ext cx="1990440" cy="5275440"/>
              <a:chOff x="1677960" y="914400"/>
              <a:chExt cx="1990440" cy="5275440"/>
            </a:xfrm>
          </p:grpSpPr>
          <p:sp>
            <p:nvSpPr>
              <p:cNvPr id="2615" name=""/>
              <p:cNvSpPr/>
              <p:nvPr/>
            </p:nvSpPr>
            <p:spPr>
              <a:xfrm>
                <a:off x="1739880" y="3429000"/>
                <a:ext cx="698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F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677960" y="2878200"/>
                <a:ext cx="79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K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1892160" y="1900440"/>
                <a:ext cx="100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F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2057400" y="1341720"/>
                <a:ext cx="351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2514600" y="1551240"/>
                <a:ext cx="83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2514600" y="5257800"/>
                <a:ext cx="990720" cy="932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2470320" y="4280040"/>
                <a:ext cx="13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2400480" y="3149640"/>
                <a:ext cx="20952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2610000" y="3498840"/>
                <a:ext cx="0" cy="54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2470320" y="4070520"/>
                <a:ext cx="13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470320" y="4070520"/>
                <a:ext cx="0" cy="20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2610000" y="4267440"/>
                <a:ext cx="0" cy="62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400480" y="3930840"/>
                <a:ext cx="34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2749680" y="3930840"/>
                <a:ext cx="0" cy="48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2400480" y="4419720"/>
                <a:ext cx="34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2400480" y="3930840"/>
                <a:ext cx="0" cy="48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679840" y="1054080"/>
                <a:ext cx="0" cy="41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3098880" y="1054080"/>
                <a:ext cx="0" cy="41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3" name=""/>
              <p:cNvGrpSpPr/>
              <p:nvPr/>
            </p:nvGrpSpPr>
            <p:grpSpPr>
              <a:xfrm>
                <a:off x="2666880" y="914400"/>
                <a:ext cx="880920" cy="125640"/>
                <a:chOff x="2666880" y="914400"/>
                <a:chExt cx="880920" cy="125640"/>
              </a:xfrm>
            </p:grpSpPr>
            <p:sp>
              <p:nvSpPr>
                <p:cNvPr id="2634" name=""/>
                <p:cNvSpPr/>
                <p:nvPr/>
              </p:nvSpPr>
              <p:spPr>
                <a:xfrm>
                  <a:off x="2666880" y="914400"/>
                  <a:ext cx="125640" cy="1256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>
                  <a:off x="3044520" y="914400"/>
                  <a:ext cx="125640" cy="1256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>
                  <a:off x="3422160" y="914400"/>
                  <a:ext cx="125640" cy="1256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7" name=""/>
              <p:cNvSpPr/>
              <p:nvPr/>
            </p:nvSpPr>
            <p:spPr>
              <a:xfrm>
                <a:off x="3517920" y="1054080"/>
                <a:ext cx="0" cy="41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3378240" y="4280040"/>
                <a:ext cx="13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308400" y="3149640"/>
                <a:ext cx="20952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517920" y="3498840"/>
                <a:ext cx="0" cy="571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378240" y="4070520"/>
                <a:ext cx="12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378240" y="4070520"/>
                <a:ext cx="0" cy="20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3517920" y="4267440"/>
                <a:ext cx="0" cy="62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3308400" y="3930840"/>
                <a:ext cx="34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657600" y="3930840"/>
                <a:ext cx="0" cy="48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308400" y="4419720"/>
                <a:ext cx="34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V="1">
                <a:off x="3308400" y="3930840"/>
                <a:ext cx="0" cy="48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2819520" y="3149640"/>
                <a:ext cx="20952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029040" y="3498840"/>
                <a:ext cx="0" cy="174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2610000" y="4876920"/>
                <a:ext cx="20952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 flipH="1">
                <a:off x="3276720" y="4876920"/>
                <a:ext cx="241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2744280" y="5653080"/>
                <a:ext cx="5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3~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2751120" y="525780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3308400" y="1403640"/>
                <a:ext cx="20952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3517920" y="1752840"/>
                <a:ext cx="0" cy="1396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rot="10883400">
                <a:off x="3447720" y="2940120"/>
                <a:ext cx="81000" cy="209520"/>
              </a:xfrm>
              <a:custGeom>
                <a:avLst/>
                <a:gdLst/>
                <a:ahLst/>
                <a:rect l="l" t="t" r="r" b="b"/>
                <a:pathLst>
                  <a:path w="584" h="816">
                    <a:moveTo>
                      <a:pt x="0" y="0"/>
                    </a:moveTo>
                    <a:cubicBezTo>
                      <a:pt x="284" y="100"/>
                      <a:pt x="568" y="200"/>
                      <a:pt x="576" y="336"/>
                    </a:cubicBezTo>
                    <a:cubicBezTo>
                      <a:pt x="584" y="472"/>
                      <a:pt x="316" y="644"/>
                      <a:pt x="48" y="81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3448080" y="1892520"/>
                <a:ext cx="13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3587760" y="1892520"/>
                <a:ext cx="0" cy="48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3448080" y="2381400"/>
                <a:ext cx="13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3448080" y="1892520"/>
                <a:ext cx="0" cy="48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2889360" y="1403640"/>
                <a:ext cx="20952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3098880" y="1752840"/>
                <a:ext cx="0" cy="1396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rot="10883400">
                <a:off x="3028680" y="2940120"/>
                <a:ext cx="81000" cy="209520"/>
              </a:xfrm>
              <a:custGeom>
                <a:avLst/>
                <a:gdLst/>
                <a:ahLst/>
                <a:rect l="l" t="t" r="r" b="b"/>
                <a:pathLst>
                  <a:path w="584" h="816">
                    <a:moveTo>
                      <a:pt x="0" y="0"/>
                    </a:moveTo>
                    <a:cubicBezTo>
                      <a:pt x="284" y="100"/>
                      <a:pt x="568" y="200"/>
                      <a:pt x="576" y="336"/>
                    </a:cubicBezTo>
                    <a:cubicBezTo>
                      <a:pt x="584" y="472"/>
                      <a:pt x="316" y="644"/>
                      <a:pt x="48" y="81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3029040" y="1892520"/>
                <a:ext cx="13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3168720" y="1892520"/>
                <a:ext cx="0" cy="48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3048120" y="2381400"/>
                <a:ext cx="120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3029040" y="1892520"/>
                <a:ext cx="0" cy="48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2470320" y="1403640"/>
                <a:ext cx="20952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2679840" y="1752840"/>
                <a:ext cx="0" cy="1396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rot="10883400">
                <a:off x="2610000" y="2940120"/>
                <a:ext cx="80640" cy="209520"/>
              </a:xfrm>
              <a:custGeom>
                <a:avLst/>
                <a:gdLst/>
                <a:ahLst/>
                <a:rect l="l" t="t" r="r" b="b"/>
                <a:pathLst>
                  <a:path w="584" h="816">
                    <a:moveTo>
                      <a:pt x="0" y="0"/>
                    </a:moveTo>
                    <a:cubicBezTo>
                      <a:pt x="284" y="100"/>
                      <a:pt x="568" y="200"/>
                      <a:pt x="576" y="336"/>
                    </a:cubicBezTo>
                    <a:cubicBezTo>
                      <a:pt x="584" y="472"/>
                      <a:pt x="316" y="644"/>
                      <a:pt x="48" y="81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2610000" y="1892520"/>
                <a:ext cx="13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2749680" y="1892520"/>
                <a:ext cx="0" cy="48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2610000" y="2381400"/>
                <a:ext cx="13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2610000" y="1892520"/>
                <a:ext cx="0" cy="48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2933640" y="1970280"/>
                <a:ext cx="2793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2428920" y="3302280"/>
                <a:ext cx="92376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2955960" y="2210040"/>
                <a:ext cx="29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3373200" y="2438640"/>
                <a:ext cx="29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9" name=""/>
          <p:cNvGrpSpPr/>
          <p:nvPr/>
        </p:nvGrpSpPr>
        <p:grpSpPr>
          <a:xfrm>
            <a:off x="361800" y="4343400"/>
            <a:ext cx="2076120" cy="609480"/>
            <a:chOff x="361800" y="4343400"/>
            <a:chExt cx="2076120" cy="609480"/>
          </a:xfrm>
        </p:grpSpPr>
        <p:sp>
          <p:nvSpPr>
            <p:cNvPr id="2680" name=""/>
            <p:cNvSpPr/>
            <p:nvPr/>
          </p:nvSpPr>
          <p:spPr>
            <a:xfrm>
              <a:off x="361800" y="4952880"/>
              <a:ext cx="152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H="1">
              <a:off x="1828440" y="4343400"/>
              <a:ext cx="60948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93280" y="4419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热继电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3" name=""/>
          <p:cNvSpPr/>
          <p:nvPr/>
        </p:nvSpPr>
        <p:spPr>
          <a:xfrm>
            <a:off x="673200" y="4876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过载保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4" name=""/>
          <p:cNvGrpSpPr/>
          <p:nvPr/>
        </p:nvGrpSpPr>
        <p:grpSpPr>
          <a:xfrm>
            <a:off x="398520" y="838080"/>
            <a:ext cx="2192400" cy="1331640"/>
            <a:chOff x="398520" y="838080"/>
            <a:chExt cx="2192400" cy="1331640"/>
          </a:xfrm>
        </p:grpSpPr>
        <p:grpSp>
          <p:nvGrpSpPr>
            <p:cNvPr id="2685" name=""/>
            <p:cNvGrpSpPr/>
            <p:nvPr/>
          </p:nvGrpSpPr>
          <p:grpSpPr>
            <a:xfrm>
              <a:off x="398520" y="1331640"/>
              <a:ext cx="2192400" cy="838080"/>
              <a:chOff x="398520" y="1331640"/>
              <a:chExt cx="2192400" cy="838080"/>
            </a:xfrm>
          </p:grpSpPr>
          <p:sp>
            <p:nvSpPr>
              <p:cNvPr id="2686" name=""/>
              <p:cNvSpPr/>
              <p:nvPr/>
            </p:nvSpPr>
            <p:spPr>
              <a:xfrm>
                <a:off x="398520" y="133164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1905120" y="1331640"/>
                <a:ext cx="685800" cy="83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8" name=""/>
            <p:cNvSpPr/>
            <p:nvPr/>
          </p:nvSpPr>
          <p:spPr>
            <a:xfrm>
              <a:off x="829440" y="8380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保险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9" name=""/>
          <p:cNvSpPr/>
          <p:nvPr/>
        </p:nvSpPr>
        <p:spPr>
          <a:xfrm>
            <a:off x="673200" y="129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短路保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0" name=""/>
          <p:cNvGrpSpPr/>
          <p:nvPr/>
        </p:nvGrpSpPr>
        <p:grpSpPr>
          <a:xfrm>
            <a:off x="4724280" y="4572000"/>
            <a:ext cx="2362320" cy="1447920"/>
            <a:chOff x="4724280" y="4572000"/>
            <a:chExt cx="2362320" cy="1447920"/>
          </a:xfrm>
        </p:grpSpPr>
        <p:grpSp>
          <p:nvGrpSpPr>
            <p:cNvPr id="2691" name=""/>
            <p:cNvGrpSpPr/>
            <p:nvPr/>
          </p:nvGrpSpPr>
          <p:grpSpPr>
            <a:xfrm>
              <a:off x="4724280" y="4572000"/>
              <a:ext cx="2362320" cy="1447920"/>
              <a:chOff x="4724280" y="4572000"/>
              <a:chExt cx="2362320" cy="1447920"/>
            </a:xfrm>
          </p:grpSpPr>
          <p:sp>
            <p:nvSpPr>
              <p:cNvPr id="2692" name=""/>
              <p:cNvSpPr/>
              <p:nvPr/>
            </p:nvSpPr>
            <p:spPr>
              <a:xfrm flipH="1">
                <a:off x="6553080" y="4572000"/>
                <a:ext cx="533520" cy="144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4724280" y="6019920"/>
                <a:ext cx="182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4" name=""/>
            <p:cNvSpPr/>
            <p:nvPr/>
          </p:nvSpPr>
          <p:spPr>
            <a:xfrm>
              <a:off x="5248800" y="5486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接触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5" name=""/>
          <p:cNvSpPr/>
          <p:nvPr/>
        </p:nvSpPr>
        <p:spPr>
          <a:xfrm>
            <a:off x="5519160" y="60199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零压、欠压保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6" name=""/>
          <p:cNvGrpSpPr/>
          <p:nvPr/>
        </p:nvGrpSpPr>
        <p:grpSpPr>
          <a:xfrm>
            <a:off x="7162920" y="990720"/>
            <a:ext cx="1676160" cy="1218600"/>
            <a:chOff x="7162920" y="990720"/>
            <a:chExt cx="1676160" cy="1218600"/>
          </a:xfrm>
        </p:grpSpPr>
        <p:grpSp>
          <p:nvGrpSpPr>
            <p:cNvPr id="2697" name=""/>
            <p:cNvGrpSpPr/>
            <p:nvPr/>
          </p:nvGrpSpPr>
          <p:grpSpPr>
            <a:xfrm>
              <a:off x="7162920" y="1523880"/>
              <a:ext cx="1676160" cy="685440"/>
              <a:chOff x="7162920" y="1523880"/>
              <a:chExt cx="1676160" cy="685440"/>
            </a:xfrm>
          </p:grpSpPr>
          <p:sp>
            <p:nvSpPr>
              <p:cNvPr id="2698" name=""/>
              <p:cNvSpPr/>
              <p:nvPr/>
            </p:nvSpPr>
            <p:spPr>
              <a:xfrm>
                <a:off x="7467480" y="15238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162920" y="1523880"/>
                <a:ext cx="304560" cy="68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0" name=""/>
            <p:cNvGrpSpPr/>
            <p:nvPr/>
          </p:nvGrpSpPr>
          <p:grpSpPr>
            <a:xfrm>
              <a:off x="7592400" y="990720"/>
              <a:ext cx="1034280" cy="977400"/>
              <a:chOff x="7592400" y="990720"/>
              <a:chExt cx="1034280" cy="977400"/>
            </a:xfrm>
          </p:grpSpPr>
          <p:sp>
            <p:nvSpPr>
              <p:cNvPr id="2701" name=""/>
              <p:cNvSpPr/>
              <p:nvPr/>
            </p:nvSpPr>
            <p:spPr>
              <a:xfrm>
                <a:off x="7592400" y="990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热继电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592400" y="14475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动断触点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03" name=""/>
          <p:cNvSpPr/>
          <p:nvPr/>
        </p:nvSpPr>
        <p:spPr>
          <a:xfrm>
            <a:off x="762120" y="2746440"/>
            <a:ext cx="533160" cy="11912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主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7851240" y="2743200"/>
            <a:ext cx="911880" cy="132732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控制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2666520" y="456840"/>
            <a:ext cx="3886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电动机的保护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951920" y="863640"/>
            <a:ext cx="506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短路保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因短路电流会引起电器设备绝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损坏产生强大的电动力，使电动机和电器设备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机械性损坏，故要求迅速、可靠切断电源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常采用熔断器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FU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和过流继电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1960920" y="2590920"/>
            <a:ext cx="5063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欠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指电动机工作时，引起电流增加甚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电动机停转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失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零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指电源电压消失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电动机停转，在电源电压恢复时，电动机可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动重新起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亦称自起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易造成人身或设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障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常用的失压和欠压保护有：对接触器实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自锁；用低电压继电器组成失压、欠压保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1994760" y="5210280"/>
            <a:ext cx="506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过载保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为防止三相电动机在运行中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额定值而设置的保护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常采用热继电器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F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保护，也可采用自动开关和电流继电器保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"/>
          <p:cNvSpPr/>
          <p:nvPr/>
        </p:nvSpPr>
        <p:spPr>
          <a:xfrm>
            <a:off x="1231920" y="35956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0" name=""/>
          <p:cNvGrpSpPr/>
          <p:nvPr/>
        </p:nvGrpSpPr>
        <p:grpSpPr>
          <a:xfrm>
            <a:off x="2493720" y="2344680"/>
            <a:ext cx="5507280" cy="3317760"/>
            <a:chOff x="2493720" y="2344680"/>
            <a:chExt cx="5507280" cy="3317760"/>
          </a:xfrm>
        </p:grpSpPr>
        <p:sp>
          <p:nvSpPr>
            <p:cNvPr id="2711" name=""/>
            <p:cNvSpPr/>
            <p:nvPr/>
          </p:nvSpPr>
          <p:spPr>
            <a:xfrm>
              <a:off x="7169040" y="2940120"/>
              <a:ext cx="0" cy="144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588000" y="2940120"/>
              <a:ext cx="58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098760" y="2819520"/>
              <a:ext cx="6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F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799240" y="35956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226200" y="2752560"/>
              <a:ext cx="363600" cy="18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459480" y="2670120"/>
              <a:ext cx="0" cy="184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7" name=""/>
            <p:cNvGrpSpPr/>
            <p:nvPr/>
          </p:nvGrpSpPr>
          <p:grpSpPr>
            <a:xfrm>
              <a:off x="6264360" y="2544480"/>
              <a:ext cx="387360" cy="122400"/>
              <a:chOff x="6264360" y="2544480"/>
              <a:chExt cx="387360" cy="122400"/>
            </a:xfrm>
          </p:grpSpPr>
          <p:sp>
            <p:nvSpPr>
              <p:cNvPr id="2718" name=""/>
              <p:cNvSpPr/>
              <p:nvPr/>
            </p:nvSpPr>
            <p:spPr>
              <a:xfrm>
                <a:off x="6264360" y="2544840"/>
                <a:ext cx="12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6392880" y="2544840"/>
                <a:ext cx="0" cy="12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6392880" y="2666880"/>
                <a:ext cx="12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 flipV="1">
                <a:off x="6521400" y="2544480"/>
                <a:ext cx="0" cy="12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6521400" y="254484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3" name=""/>
            <p:cNvSpPr/>
            <p:nvPr/>
          </p:nvSpPr>
          <p:spPr>
            <a:xfrm>
              <a:off x="6272280" y="2670120"/>
              <a:ext cx="0" cy="24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4" name=""/>
            <p:cNvGrpSpPr/>
            <p:nvPr/>
          </p:nvGrpSpPr>
          <p:grpSpPr>
            <a:xfrm>
              <a:off x="2493720" y="2344680"/>
              <a:ext cx="3772080" cy="2040120"/>
              <a:chOff x="2493720" y="2344680"/>
              <a:chExt cx="3772080" cy="2040120"/>
            </a:xfrm>
          </p:grpSpPr>
          <p:sp>
            <p:nvSpPr>
              <p:cNvPr id="2725" name=""/>
              <p:cNvSpPr/>
              <p:nvPr/>
            </p:nvSpPr>
            <p:spPr>
              <a:xfrm>
                <a:off x="3618000" y="3233880"/>
                <a:ext cx="0" cy="11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6" name=""/>
              <p:cNvGrpSpPr/>
              <p:nvPr/>
            </p:nvGrpSpPr>
            <p:grpSpPr>
              <a:xfrm>
                <a:off x="2493720" y="2344680"/>
                <a:ext cx="1124280" cy="1104120"/>
                <a:chOff x="2493720" y="2344680"/>
                <a:chExt cx="1124280" cy="1104120"/>
              </a:xfrm>
            </p:grpSpPr>
            <p:sp>
              <p:nvSpPr>
                <p:cNvPr id="2727" name=""/>
                <p:cNvSpPr/>
                <p:nvPr/>
              </p:nvSpPr>
              <p:spPr>
                <a:xfrm>
                  <a:off x="2493720" y="2344680"/>
                  <a:ext cx="3207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8" name=""/>
                <p:cNvGrpSpPr/>
                <p:nvPr/>
              </p:nvGrpSpPr>
              <p:grpSpPr>
                <a:xfrm>
                  <a:off x="2922480" y="2684520"/>
                  <a:ext cx="695520" cy="764280"/>
                  <a:chOff x="2922480" y="2684520"/>
                  <a:chExt cx="695520" cy="764280"/>
                </a:xfrm>
              </p:grpSpPr>
              <p:sp>
                <p:nvSpPr>
                  <p:cNvPr id="2729" name=""/>
                  <p:cNvSpPr/>
                  <p:nvPr/>
                </p:nvSpPr>
                <p:spPr>
                  <a:xfrm>
                    <a:off x="2922480" y="2684520"/>
                    <a:ext cx="32076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0" name=""/>
                  <p:cNvSpPr/>
                  <p:nvPr/>
                </p:nvSpPr>
                <p:spPr>
                  <a:xfrm>
                    <a:off x="3048120" y="3241800"/>
                    <a:ext cx="5698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31" name=""/>
              <p:cNvSpPr/>
              <p:nvPr/>
            </p:nvSpPr>
            <p:spPr>
              <a:xfrm>
                <a:off x="2649600" y="2916360"/>
                <a:ext cx="361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2" name=""/>
            <p:cNvGrpSpPr/>
            <p:nvPr/>
          </p:nvGrpSpPr>
          <p:grpSpPr>
            <a:xfrm>
              <a:off x="3618000" y="3763800"/>
              <a:ext cx="3550680" cy="1898640"/>
              <a:chOff x="3618000" y="3763800"/>
              <a:chExt cx="3550680" cy="1898640"/>
            </a:xfrm>
          </p:grpSpPr>
          <p:sp>
            <p:nvSpPr>
              <p:cNvPr id="2733" name=""/>
              <p:cNvSpPr/>
              <p:nvPr/>
            </p:nvSpPr>
            <p:spPr>
              <a:xfrm>
                <a:off x="4649400" y="5141880"/>
                <a:ext cx="79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K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4198680" y="4368600"/>
                <a:ext cx="58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3618000" y="4368600"/>
                <a:ext cx="321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flipV="1">
                <a:off x="4736880" y="4368600"/>
                <a:ext cx="506160" cy="20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882600" y="4151160"/>
                <a:ext cx="30780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3944520" y="4141800"/>
                <a:ext cx="0" cy="26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5232240" y="4368600"/>
                <a:ext cx="77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4457520" y="4330800"/>
                <a:ext cx="0" cy="79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1" name=""/>
              <p:cNvGrpSpPr/>
              <p:nvPr/>
            </p:nvGrpSpPr>
            <p:grpSpPr>
              <a:xfrm>
                <a:off x="4457520" y="5122800"/>
                <a:ext cx="1186560" cy="155520"/>
                <a:chOff x="4457520" y="5122800"/>
                <a:chExt cx="1186560" cy="155520"/>
              </a:xfrm>
            </p:grpSpPr>
            <p:sp>
              <p:nvSpPr>
                <p:cNvPr id="2742" name=""/>
                <p:cNvSpPr/>
                <p:nvPr/>
              </p:nvSpPr>
              <p:spPr>
                <a:xfrm>
                  <a:off x="4457520" y="5122800"/>
                  <a:ext cx="321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 flipV="1">
                  <a:off x="4738320" y="5122800"/>
                  <a:ext cx="443880" cy="155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5166360" y="5122800"/>
                  <a:ext cx="47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5" name=""/>
              <p:cNvSpPr/>
              <p:nvPr/>
            </p:nvSpPr>
            <p:spPr>
              <a:xfrm flipV="1">
                <a:off x="5619600" y="4330440"/>
                <a:ext cx="0" cy="79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6006960" y="4076640"/>
                <a:ext cx="402840" cy="6332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6394320" y="4368600"/>
                <a:ext cx="77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8" name=""/>
              <p:cNvGrpSpPr/>
              <p:nvPr/>
            </p:nvGrpSpPr>
            <p:grpSpPr>
              <a:xfrm>
                <a:off x="4926960" y="4404960"/>
                <a:ext cx="279360" cy="304560"/>
                <a:chOff x="4926960" y="4404960"/>
                <a:chExt cx="279360" cy="304560"/>
              </a:xfrm>
            </p:grpSpPr>
            <p:grpSp>
              <p:nvGrpSpPr>
                <p:cNvPr id="2749" name=""/>
                <p:cNvGrpSpPr/>
                <p:nvPr/>
              </p:nvGrpSpPr>
              <p:grpSpPr>
                <a:xfrm>
                  <a:off x="4926960" y="4404960"/>
                  <a:ext cx="279000" cy="284040"/>
                  <a:chOff x="4926960" y="4404960"/>
                  <a:chExt cx="279000" cy="284040"/>
                </a:xfrm>
              </p:grpSpPr>
              <p:sp>
                <p:nvSpPr>
                  <p:cNvPr id="2750" name=""/>
                  <p:cNvSpPr/>
                  <p:nvPr/>
                </p:nvSpPr>
                <p:spPr>
                  <a:xfrm flipV="1">
                    <a:off x="5055480" y="4404960"/>
                    <a:ext cx="0" cy="279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1" name=""/>
                  <p:cNvSpPr/>
                  <p:nvPr/>
                </p:nvSpPr>
                <p:spPr>
                  <a:xfrm flipH="1">
                    <a:off x="4926960" y="4689000"/>
                    <a:ext cx="2790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2" name=""/>
                <p:cNvGrpSpPr/>
                <p:nvPr/>
              </p:nvGrpSpPr>
              <p:grpSpPr>
                <a:xfrm>
                  <a:off x="4927320" y="4639680"/>
                  <a:ext cx="279000" cy="69840"/>
                  <a:chOff x="4927320" y="4639680"/>
                  <a:chExt cx="279000" cy="69840"/>
                </a:xfrm>
              </p:grpSpPr>
              <p:sp>
                <p:nvSpPr>
                  <p:cNvPr id="2753" name=""/>
                  <p:cNvSpPr/>
                  <p:nvPr/>
                </p:nvSpPr>
                <p:spPr>
                  <a:xfrm>
                    <a:off x="5206320" y="4640040"/>
                    <a:ext cx="0" cy="6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4" name=""/>
                  <p:cNvSpPr/>
                  <p:nvPr/>
                </p:nvSpPr>
                <p:spPr>
                  <a:xfrm flipV="1">
                    <a:off x="4927320" y="4639680"/>
                    <a:ext cx="0" cy="6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5" name=""/>
              <p:cNvGrpSpPr/>
              <p:nvPr/>
            </p:nvGrpSpPr>
            <p:grpSpPr>
              <a:xfrm>
                <a:off x="3939840" y="4317840"/>
                <a:ext cx="258480" cy="263520"/>
                <a:chOff x="3939840" y="4317840"/>
                <a:chExt cx="258480" cy="263520"/>
              </a:xfrm>
            </p:grpSpPr>
            <p:sp>
              <p:nvSpPr>
                <p:cNvPr id="2756" name=""/>
                <p:cNvSpPr/>
                <p:nvPr/>
              </p:nvSpPr>
              <p:spPr>
                <a:xfrm flipV="1">
                  <a:off x="4069080" y="4317840"/>
                  <a:ext cx="0" cy="259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3939840" y="4516560"/>
                  <a:ext cx="0" cy="64800"/>
                </a:xfrm>
                <a:prstGeom prst="line">
                  <a:avLst/>
                </a:prstGeom>
                <a:ln w="2844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3939840" y="4581360"/>
                  <a:ext cx="258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flipV="1">
                  <a:off x="4198320" y="4516560"/>
                  <a:ext cx="0" cy="64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0" name=""/>
              <p:cNvSpPr/>
              <p:nvPr/>
            </p:nvSpPr>
            <p:spPr>
              <a:xfrm rot="6240600">
                <a:off x="5184360" y="4996800"/>
                <a:ext cx="81000" cy="117000"/>
              </a:xfrm>
              <a:custGeom>
                <a:avLst/>
                <a:gdLst/>
                <a:ahLst/>
                <a:rect l="l" t="t" r="r" b="b"/>
                <a:pathLst>
                  <a:path w="464" h="624">
                    <a:moveTo>
                      <a:pt x="272" y="0"/>
                    </a:moveTo>
                    <a:cubicBezTo>
                      <a:pt x="136" y="164"/>
                      <a:pt x="0" y="328"/>
                      <a:pt x="32" y="432"/>
                    </a:cubicBezTo>
                    <a:cubicBezTo>
                      <a:pt x="64" y="536"/>
                      <a:pt x="392" y="592"/>
                      <a:pt x="464" y="624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3867480" y="3763800"/>
                <a:ext cx="718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SB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  <a:ea typeface="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4713480" y="3833640"/>
                <a:ext cx="718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SB</a:t>
                </a:r>
                <a:r>
                  <a:rPr b="1" lang="en-US" sz="2800" spc="-1" strike="noStrike" baseline="-25000">
                    <a:solidFill>
                      <a:srgbClr val="0066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4314240" y="3824280"/>
                <a:ext cx="32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5458680" y="3824280"/>
                <a:ext cx="32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5" name=""/>
            <p:cNvSpPr/>
            <p:nvPr/>
          </p:nvSpPr>
          <p:spPr>
            <a:xfrm>
              <a:off x="7089120" y="3030480"/>
              <a:ext cx="911880" cy="132732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控制电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6" name=""/>
          <p:cNvSpPr/>
          <p:nvPr/>
        </p:nvSpPr>
        <p:spPr>
          <a:xfrm>
            <a:off x="3663000" y="70020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上开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720720" y="838080"/>
            <a:ext cx="110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起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811800" y="3340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控制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3470400" y="191916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辅助触点闭合自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3454560" y="1157400"/>
            <a:ext cx="565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下起动按钮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K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圈通电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1" name=""/>
          <p:cNvGrpSpPr/>
          <p:nvPr/>
        </p:nvGrpSpPr>
        <p:grpSpPr>
          <a:xfrm>
            <a:off x="3470400" y="1538280"/>
            <a:ext cx="5638680" cy="520560"/>
            <a:chOff x="3470400" y="1538280"/>
            <a:chExt cx="5638680" cy="520560"/>
          </a:xfrm>
        </p:grpSpPr>
        <p:sp>
          <p:nvSpPr>
            <p:cNvPr id="2772" name=""/>
            <p:cNvSpPr/>
            <p:nvPr/>
          </p:nvSpPr>
          <p:spPr>
            <a:xfrm>
              <a:off x="3470400" y="1538280"/>
              <a:ext cx="563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主触点闭合，     电动机运转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213600" y="1843200"/>
              <a:ext cx="446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4" name=""/>
          <p:cNvSpPr/>
          <p:nvPr/>
        </p:nvSpPr>
        <p:spPr>
          <a:xfrm>
            <a:off x="6400800" y="4876920"/>
            <a:ext cx="1219320" cy="457200"/>
          </a:xfrm>
          <a:prstGeom prst="wedgeEllipseCallout">
            <a:avLst>
              <a:gd name="adj1" fmla="val -50259"/>
              <a:gd name="adj2" fmla="val -129513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通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 flipH="1" flipV="1">
            <a:off x="4763880" y="4962600"/>
            <a:ext cx="371160" cy="371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914400" y="5105520"/>
            <a:ext cx="1219320" cy="609480"/>
          </a:xfrm>
          <a:prstGeom prst="wedgeEllipseCallout">
            <a:avLst>
              <a:gd name="adj1" fmla="val 88930"/>
              <a:gd name="adj2" fmla="val 98439"/>
            </a:avLst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转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 flipH="1" flipV="1">
            <a:off x="4724280" y="4191120"/>
            <a:ext cx="371520" cy="3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8" name=""/>
          <p:cNvGrpSpPr/>
          <p:nvPr/>
        </p:nvGrpSpPr>
        <p:grpSpPr>
          <a:xfrm>
            <a:off x="2209680" y="1295280"/>
            <a:ext cx="797040" cy="4361040"/>
            <a:chOff x="2209680" y="1295280"/>
            <a:chExt cx="797040" cy="4361040"/>
          </a:xfrm>
        </p:grpSpPr>
        <p:sp>
          <p:nvSpPr>
            <p:cNvPr id="2779" name=""/>
            <p:cNvSpPr/>
            <p:nvPr/>
          </p:nvSpPr>
          <p:spPr>
            <a:xfrm>
              <a:off x="2209680" y="1295280"/>
              <a:ext cx="0" cy="3990960"/>
            </a:xfrm>
            <a:prstGeom prst="line">
              <a:avLst/>
            </a:prstGeom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242800" y="5257800"/>
              <a:ext cx="192960" cy="369720"/>
            </a:xfrm>
            <a:prstGeom prst="line">
              <a:avLst/>
            </a:prstGeom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556360" y="1295280"/>
              <a:ext cx="0" cy="4361040"/>
            </a:xfrm>
            <a:prstGeom prst="line">
              <a:avLst/>
            </a:prstGeom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3006720" y="1295280"/>
              <a:ext cx="0" cy="3917880"/>
            </a:xfrm>
            <a:prstGeom prst="line">
              <a:avLst/>
            </a:prstGeom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H="1">
              <a:off x="2813400" y="5213160"/>
              <a:ext cx="192960" cy="443160"/>
            </a:xfrm>
            <a:prstGeom prst="line">
              <a:avLst/>
            </a:prstGeom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4" name=""/>
          <p:cNvSpPr/>
          <p:nvPr/>
        </p:nvSpPr>
        <p:spPr>
          <a:xfrm>
            <a:off x="3124080" y="1389240"/>
            <a:ext cx="0" cy="177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3137040" y="3162240"/>
            <a:ext cx="5382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3675240" y="3162240"/>
            <a:ext cx="0" cy="1257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3675240" y="4419720"/>
            <a:ext cx="3563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 flipV="1">
            <a:off x="7238880" y="2866680"/>
            <a:ext cx="0" cy="15526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2666880" y="2867040"/>
            <a:ext cx="4572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 flipV="1">
            <a:off x="2666880" y="1388880"/>
            <a:ext cx="0" cy="14778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1" name=""/>
          <p:cNvGrpSpPr/>
          <p:nvPr/>
        </p:nvGrpSpPr>
        <p:grpSpPr>
          <a:xfrm>
            <a:off x="3124080" y="1371600"/>
            <a:ext cx="563760" cy="3048120"/>
            <a:chOff x="3124080" y="1371600"/>
            <a:chExt cx="563760" cy="3048120"/>
          </a:xfrm>
        </p:grpSpPr>
        <p:grpSp>
          <p:nvGrpSpPr>
            <p:cNvPr id="2792" name=""/>
            <p:cNvGrpSpPr/>
            <p:nvPr/>
          </p:nvGrpSpPr>
          <p:grpSpPr>
            <a:xfrm>
              <a:off x="3124080" y="1371600"/>
              <a:ext cx="487440" cy="1784520"/>
              <a:chOff x="3124080" y="1371600"/>
              <a:chExt cx="487440" cy="1784520"/>
            </a:xfrm>
          </p:grpSpPr>
          <p:sp>
            <p:nvSpPr>
              <p:cNvPr id="2793" name=""/>
              <p:cNvSpPr/>
              <p:nvPr/>
            </p:nvSpPr>
            <p:spPr>
              <a:xfrm>
                <a:off x="3124080" y="1371600"/>
                <a:ext cx="0" cy="1784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3124080" y="3156120"/>
                <a:ext cx="487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5" name=""/>
            <p:cNvSpPr/>
            <p:nvPr/>
          </p:nvSpPr>
          <p:spPr>
            <a:xfrm>
              <a:off x="3687840" y="3156120"/>
              <a:ext cx="0" cy="1263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6" name=""/>
          <p:cNvSpPr/>
          <p:nvPr/>
        </p:nvSpPr>
        <p:spPr>
          <a:xfrm>
            <a:off x="3687840" y="4419720"/>
            <a:ext cx="7318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4495680" y="4468680"/>
            <a:ext cx="0" cy="594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4543560" y="5062680"/>
            <a:ext cx="10191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 flipV="1">
            <a:off x="5562720" y="4435200"/>
            <a:ext cx="0" cy="593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5622840" y="4425840"/>
            <a:ext cx="16192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1" name=""/>
          <p:cNvGrpSpPr/>
          <p:nvPr/>
        </p:nvGrpSpPr>
        <p:grpSpPr>
          <a:xfrm>
            <a:off x="1247760" y="3573000"/>
            <a:ext cx="2004840" cy="563040"/>
            <a:chOff x="1247760" y="3573000"/>
            <a:chExt cx="2004840" cy="563040"/>
          </a:xfrm>
        </p:grpSpPr>
        <p:grpSp>
          <p:nvGrpSpPr>
            <p:cNvPr id="2802" name=""/>
            <p:cNvGrpSpPr/>
            <p:nvPr/>
          </p:nvGrpSpPr>
          <p:grpSpPr>
            <a:xfrm>
              <a:off x="1965240" y="3573000"/>
              <a:ext cx="1287360" cy="339480"/>
              <a:chOff x="1965240" y="3573000"/>
              <a:chExt cx="1287360" cy="339480"/>
            </a:xfrm>
          </p:grpSpPr>
          <p:sp>
            <p:nvSpPr>
              <p:cNvPr id="2803" name=""/>
              <p:cNvSpPr/>
              <p:nvPr/>
            </p:nvSpPr>
            <p:spPr>
              <a:xfrm flipV="1">
                <a:off x="1965240" y="3573000"/>
                <a:ext cx="378360" cy="33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V="1">
                <a:off x="2419560" y="3573000"/>
                <a:ext cx="378360" cy="33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V="1">
                <a:off x="2874240" y="3573000"/>
                <a:ext cx="378360" cy="33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6" name=""/>
            <p:cNvSpPr/>
            <p:nvPr/>
          </p:nvSpPr>
          <p:spPr>
            <a:xfrm>
              <a:off x="1247760" y="36154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K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7" name=""/>
          <p:cNvGrpSpPr/>
          <p:nvPr/>
        </p:nvGrpSpPr>
        <p:grpSpPr>
          <a:xfrm>
            <a:off x="639720" y="1219320"/>
            <a:ext cx="2514240" cy="5275080"/>
            <a:chOff x="639720" y="1219320"/>
            <a:chExt cx="2514240" cy="5275080"/>
          </a:xfrm>
        </p:grpSpPr>
        <p:sp>
          <p:nvSpPr>
            <p:cNvPr id="2808" name=""/>
            <p:cNvSpPr/>
            <p:nvPr/>
          </p:nvSpPr>
          <p:spPr>
            <a:xfrm>
              <a:off x="639720" y="3051000"/>
              <a:ext cx="542880" cy="119124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主电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1289160" y="3867120"/>
              <a:ext cx="709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F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1266840" y="357336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076480" y="5562720"/>
              <a:ext cx="1006560" cy="931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030400" y="47181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173320" y="388620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030400" y="450864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2030400" y="4508640"/>
              <a:ext cx="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2173320" y="4705200"/>
              <a:ext cx="0" cy="55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2954520" y="4718160"/>
              <a:ext cx="141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3095640" y="3886200"/>
              <a:ext cx="0" cy="65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2954520" y="4508640"/>
              <a:ext cx="12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2954520" y="4508640"/>
              <a:ext cx="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3095640" y="4724280"/>
              <a:ext cx="0" cy="49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2598840" y="3886200"/>
              <a:ext cx="0" cy="16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173320" y="5181480"/>
              <a:ext cx="212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2850840" y="5181480"/>
              <a:ext cx="244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309400" y="5958000"/>
              <a:ext cx="5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3~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2316240" y="5562720"/>
              <a:ext cx="51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1325520" y="2205000"/>
              <a:ext cx="108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F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1420920" y="1646280"/>
              <a:ext cx="49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1997280" y="1855800"/>
              <a:ext cx="904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176560" y="1359000"/>
              <a:ext cx="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627280" y="1359000"/>
              <a:ext cx="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2" name=""/>
            <p:cNvGrpSpPr/>
            <p:nvPr/>
          </p:nvGrpSpPr>
          <p:grpSpPr>
            <a:xfrm>
              <a:off x="2160720" y="1219320"/>
              <a:ext cx="950400" cy="125280"/>
              <a:chOff x="2160720" y="1219320"/>
              <a:chExt cx="950400" cy="125280"/>
            </a:xfrm>
          </p:grpSpPr>
          <p:sp>
            <p:nvSpPr>
              <p:cNvPr id="2833" name=""/>
              <p:cNvSpPr/>
              <p:nvPr/>
            </p:nvSpPr>
            <p:spPr>
              <a:xfrm>
                <a:off x="2160720" y="1219320"/>
                <a:ext cx="135720" cy="125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2567880" y="1219320"/>
                <a:ext cx="135720" cy="125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2975400" y="1219320"/>
                <a:ext cx="135720" cy="125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6" name=""/>
            <p:cNvSpPr/>
            <p:nvPr/>
          </p:nvSpPr>
          <p:spPr>
            <a:xfrm>
              <a:off x="3078360" y="1359000"/>
              <a:ext cx="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852640" y="1708200"/>
              <a:ext cx="225720" cy="34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078360" y="205740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2401920" y="1708200"/>
              <a:ext cx="225360" cy="34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2627280" y="205740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1947960" y="1708200"/>
              <a:ext cx="228600" cy="34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176560" y="205740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3" name=""/>
            <p:cNvGrpSpPr/>
            <p:nvPr/>
          </p:nvGrpSpPr>
          <p:grpSpPr>
            <a:xfrm>
              <a:off x="2097360" y="3294720"/>
              <a:ext cx="995760" cy="211680"/>
              <a:chOff x="2097360" y="3294720"/>
              <a:chExt cx="995760" cy="211680"/>
            </a:xfrm>
          </p:grpSpPr>
          <p:sp>
            <p:nvSpPr>
              <p:cNvPr id="2844" name=""/>
              <p:cNvSpPr/>
              <p:nvPr/>
            </p:nvSpPr>
            <p:spPr>
              <a:xfrm rot="10883400">
                <a:off x="3003480" y="3295800"/>
                <a:ext cx="87120" cy="209520"/>
              </a:xfrm>
              <a:custGeom>
                <a:avLst/>
                <a:gdLst/>
                <a:ahLst/>
                <a:rect l="l" t="t" r="r" b="b"/>
                <a:pathLst>
                  <a:path w="584" h="816">
                    <a:moveTo>
                      <a:pt x="0" y="0"/>
                    </a:moveTo>
                    <a:cubicBezTo>
                      <a:pt x="284" y="100"/>
                      <a:pt x="568" y="200"/>
                      <a:pt x="576" y="336"/>
                    </a:cubicBezTo>
                    <a:cubicBezTo>
                      <a:pt x="584" y="472"/>
                      <a:pt x="316" y="644"/>
                      <a:pt x="48" y="81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 rot="10883400">
                <a:off x="2551680" y="3295800"/>
                <a:ext cx="87120" cy="209520"/>
              </a:xfrm>
              <a:custGeom>
                <a:avLst/>
                <a:gdLst/>
                <a:ahLst/>
                <a:rect l="l" t="t" r="r" b="b"/>
                <a:pathLst>
                  <a:path w="584" h="816">
                    <a:moveTo>
                      <a:pt x="0" y="0"/>
                    </a:moveTo>
                    <a:cubicBezTo>
                      <a:pt x="284" y="100"/>
                      <a:pt x="568" y="200"/>
                      <a:pt x="576" y="336"/>
                    </a:cubicBezTo>
                    <a:cubicBezTo>
                      <a:pt x="584" y="472"/>
                      <a:pt x="316" y="644"/>
                      <a:pt x="48" y="81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 rot="10883400">
                <a:off x="2099880" y="3295800"/>
                <a:ext cx="86760" cy="209520"/>
              </a:xfrm>
              <a:custGeom>
                <a:avLst/>
                <a:gdLst/>
                <a:ahLst/>
                <a:rect l="l" t="t" r="r" b="b"/>
                <a:pathLst>
                  <a:path w="584" h="816">
                    <a:moveTo>
                      <a:pt x="0" y="0"/>
                    </a:moveTo>
                    <a:cubicBezTo>
                      <a:pt x="284" y="100"/>
                      <a:pt x="568" y="200"/>
                      <a:pt x="576" y="336"/>
                    </a:cubicBezTo>
                    <a:cubicBezTo>
                      <a:pt x="584" y="472"/>
                      <a:pt x="316" y="644"/>
                      <a:pt x="48" y="81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7" name=""/>
            <p:cNvGrpSpPr/>
            <p:nvPr/>
          </p:nvGrpSpPr>
          <p:grpSpPr>
            <a:xfrm>
              <a:off x="2100240" y="2268360"/>
              <a:ext cx="1053720" cy="393840"/>
              <a:chOff x="2100240" y="2268360"/>
              <a:chExt cx="1053720" cy="393840"/>
            </a:xfrm>
          </p:grpSpPr>
          <p:sp>
            <p:nvSpPr>
              <p:cNvPr id="2848" name=""/>
              <p:cNvSpPr/>
              <p:nvPr/>
            </p:nvSpPr>
            <p:spPr>
              <a:xfrm>
                <a:off x="3003480" y="2268360"/>
                <a:ext cx="150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3153960" y="2268360"/>
                <a:ext cx="0" cy="39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3003480" y="2662200"/>
                <a:ext cx="150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3003480" y="2268360"/>
                <a:ext cx="0" cy="39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2551680" y="2268360"/>
                <a:ext cx="150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2702520" y="2268360"/>
                <a:ext cx="0" cy="39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2572200" y="266220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2551680" y="2268360"/>
                <a:ext cx="0" cy="39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2100240" y="2268360"/>
                <a:ext cx="150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2250720" y="2268360"/>
                <a:ext cx="0" cy="39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2100240" y="2662200"/>
                <a:ext cx="150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2100240" y="2268360"/>
                <a:ext cx="0" cy="39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0" name=""/>
            <p:cNvGrpSpPr/>
            <p:nvPr/>
          </p:nvGrpSpPr>
          <p:grpSpPr>
            <a:xfrm>
              <a:off x="1974960" y="3540240"/>
              <a:ext cx="1134720" cy="349200"/>
              <a:chOff x="1974960" y="3540240"/>
              <a:chExt cx="1134720" cy="349200"/>
            </a:xfrm>
          </p:grpSpPr>
          <p:sp>
            <p:nvSpPr>
              <p:cNvPr id="2861" name=""/>
              <p:cNvSpPr/>
              <p:nvPr/>
            </p:nvSpPr>
            <p:spPr>
              <a:xfrm>
                <a:off x="1974960" y="3540240"/>
                <a:ext cx="21276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2896920" y="3540240"/>
                <a:ext cx="21276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2400480" y="3540240"/>
                <a:ext cx="21276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2003760" y="3692520"/>
                <a:ext cx="93816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5" name=""/>
          <p:cNvGrpSpPr/>
          <p:nvPr/>
        </p:nvGrpSpPr>
        <p:grpSpPr>
          <a:xfrm>
            <a:off x="1430640" y="1639080"/>
            <a:ext cx="1707120" cy="520560"/>
            <a:chOff x="1430640" y="1639080"/>
            <a:chExt cx="1707120" cy="520560"/>
          </a:xfrm>
        </p:grpSpPr>
        <p:grpSp>
          <p:nvGrpSpPr>
            <p:cNvPr id="2866" name=""/>
            <p:cNvGrpSpPr/>
            <p:nvPr/>
          </p:nvGrpSpPr>
          <p:grpSpPr>
            <a:xfrm>
              <a:off x="1881720" y="1720800"/>
              <a:ext cx="1256040" cy="295560"/>
              <a:chOff x="1881720" y="1720800"/>
              <a:chExt cx="1256040" cy="295560"/>
            </a:xfrm>
          </p:grpSpPr>
          <p:sp>
            <p:nvSpPr>
              <p:cNvPr id="2867" name=""/>
              <p:cNvSpPr/>
              <p:nvPr/>
            </p:nvSpPr>
            <p:spPr>
              <a:xfrm flipV="1">
                <a:off x="1881720" y="1720800"/>
                <a:ext cx="369360" cy="295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V="1">
                <a:off x="2324880" y="1720800"/>
                <a:ext cx="369360" cy="295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V="1">
                <a:off x="2768400" y="1720800"/>
                <a:ext cx="369360" cy="295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0" name=""/>
            <p:cNvSpPr/>
            <p:nvPr/>
          </p:nvSpPr>
          <p:spPr>
            <a:xfrm>
              <a:off x="1430640" y="16390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1" name="">
            <a:hlinkClick r:id="rId4"/>
          </p:cNvPr>
          <p:cNvSpPr/>
          <p:nvPr/>
        </p:nvSpPr>
        <p:spPr>
          <a:xfrm>
            <a:off x="3581280" y="5638680"/>
            <a:ext cx="69084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"/>
          <p:cNvSpPr/>
          <p:nvPr/>
        </p:nvSpPr>
        <p:spPr>
          <a:xfrm>
            <a:off x="3780360" y="30492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上开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888120" y="3340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控制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3675240" y="4419720"/>
            <a:ext cx="3563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5" name=""/>
          <p:cNvGrpSpPr/>
          <p:nvPr/>
        </p:nvGrpSpPr>
        <p:grpSpPr>
          <a:xfrm>
            <a:off x="639720" y="685800"/>
            <a:ext cx="8545680" cy="5808600"/>
            <a:chOff x="639720" y="685800"/>
            <a:chExt cx="8545680" cy="5808600"/>
          </a:xfrm>
        </p:grpSpPr>
        <p:sp>
          <p:nvSpPr>
            <p:cNvPr id="2876" name=""/>
            <p:cNvSpPr/>
            <p:nvPr/>
          </p:nvSpPr>
          <p:spPr>
            <a:xfrm>
              <a:off x="5622840" y="4425840"/>
              <a:ext cx="16192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7" name=""/>
            <p:cNvGrpSpPr/>
            <p:nvPr/>
          </p:nvGrpSpPr>
          <p:grpSpPr>
            <a:xfrm>
              <a:off x="2493720" y="2344680"/>
              <a:ext cx="5507280" cy="3317760"/>
              <a:chOff x="2493720" y="2344680"/>
              <a:chExt cx="5507280" cy="3317760"/>
            </a:xfrm>
          </p:grpSpPr>
          <p:sp>
            <p:nvSpPr>
              <p:cNvPr id="2878" name=""/>
              <p:cNvSpPr/>
              <p:nvPr/>
            </p:nvSpPr>
            <p:spPr>
              <a:xfrm>
                <a:off x="7169040" y="2940120"/>
                <a:ext cx="0" cy="144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6588000" y="2940120"/>
                <a:ext cx="58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6098760" y="2819520"/>
                <a:ext cx="653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F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5799240" y="3595680"/>
                <a:ext cx="79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K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6226200" y="2752560"/>
                <a:ext cx="363600" cy="18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6459480" y="2670120"/>
                <a:ext cx="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4" name=""/>
              <p:cNvGrpSpPr/>
              <p:nvPr/>
            </p:nvGrpSpPr>
            <p:grpSpPr>
              <a:xfrm>
                <a:off x="6264360" y="2544480"/>
                <a:ext cx="387360" cy="122400"/>
                <a:chOff x="6264360" y="2544480"/>
                <a:chExt cx="387360" cy="122400"/>
              </a:xfrm>
            </p:grpSpPr>
            <p:sp>
              <p:nvSpPr>
                <p:cNvPr id="2885" name=""/>
                <p:cNvSpPr/>
                <p:nvPr/>
              </p:nvSpPr>
              <p:spPr>
                <a:xfrm>
                  <a:off x="6264360" y="2544840"/>
                  <a:ext cx="128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6392880" y="2544840"/>
                  <a:ext cx="0" cy="12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6392880" y="2666880"/>
                  <a:ext cx="128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 flipV="1">
                  <a:off x="6521400" y="2544480"/>
                  <a:ext cx="0" cy="12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6521400" y="2544840"/>
                  <a:ext cx="130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0" name=""/>
              <p:cNvSpPr/>
              <p:nvPr/>
            </p:nvSpPr>
            <p:spPr>
              <a:xfrm>
                <a:off x="6272280" y="2670120"/>
                <a:ext cx="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1" name=""/>
              <p:cNvGrpSpPr/>
              <p:nvPr/>
            </p:nvGrpSpPr>
            <p:grpSpPr>
              <a:xfrm>
                <a:off x="2493720" y="2344680"/>
                <a:ext cx="3772080" cy="2040120"/>
                <a:chOff x="2493720" y="2344680"/>
                <a:chExt cx="3772080" cy="2040120"/>
              </a:xfrm>
            </p:grpSpPr>
            <p:sp>
              <p:nvSpPr>
                <p:cNvPr id="2892" name=""/>
                <p:cNvSpPr/>
                <p:nvPr/>
              </p:nvSpPr>
              <p:spPr>
                <a:xfrm>
                  <a:off x="3618000" y="3233880"/>
                  <a:ext cx="0" cy="1150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93" name=""/>
                <p:cNvGrpSpPr/>
                <p:nvPr/>
              </p:nvGrpSpPr>
              <p:grpSpPr>
                <a:xfrm>
                  <a:off x="2493720" y="2344680"/>
                  <a:ext cx="1124280" cy="1104120"/>
                  <a:chOff x="2493720" y="2344680"/>
                  <a:chExt cx="1124280" cy="1104120"/>
                </a:xfrm>
              </p:grpSpPr>
              <p:sp>
                <p:nvSpPr>
                  <p:cNvPr id="2894" name=""/>
                  <p:cNvSpPr/>
                  <p:nvPr/>
                </p:nvSpPr>
                <p:spPr>
                  <a:xfrm>
                    <a:off x="2493720" y="2344680"/>
                    <a:ext cx="32076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95" name=""/>
                  <p:cNvGrpSpPr/>
                  <p:nvPr/>
                </p:nvGrpSpPr>
                <p:grpSpPr>
                  <a:xfrm>
                    <a:off x="2922480" y="2684520"/>
                    <a:ext cx="695520" cy="764280"/>
                    <a:chOff x="2922480" y="2684520"/>
                    <a:chExt cx="695520" cy="764280"/>
                  </a:xfrm>
                </p:grpSpPr>
                <p:sp>
                  <p:nvSpPr>
                    <p:cNvPr id="2896" name=""/>
                    <p:cNvSpPr/>
                    <p:nvPr/>
                  </p:nvSpPr>
                  <p:spPr>
                    <a:xfrm>
                      <a:off x="2922480" y="2684520"/>
                      <a:ext cx="320760" cy="76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7" name=""/>
                    <p:cNvSpPr/>
                    <p:nvPr/>
                  </p:nvSpPr>
                  <p:spPr>
                    <a:xfrm>
                      <a:off x="3048120" y="3241800"/>
                      <a:ext cx="56988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898" name=""/>
                <p:cNvSpPr/>
                <p:nvPr/>
              </p:nvSpPr>
              <p:spPr>
                <a:xfrm>
                  <a:off x="2649600" y="2916360"/>
                  <a:ext cx="3616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9" name=""/>
              <p:cNvGrpSpPr/>
              <p:nvPr/>
            </p:nvGrpSpPr>
            <p:grpSpPr>
              <a:xfrm>
                <a:off x="3618000" y="3763800"/>
                <a:ext cx="3550680" cy="1898640"/>
                <a:chOff x="3618000" y="3763800"/>
                <a:chExt cx="3550680" cy="1898640"/>
              </a:xfrm>
            </p:grpSpPr>
            <p:sp>
              <p:nvSpPr>
                <p:cNvPr id="2900" name=""/>
                <p:cNvSpPr/>
                <p:nvPr/>
              </p:nvSpPr>
              <p:spPr>
                <a:xfrm>
                  <a:off x="4649400" y="5141880"/>
                  <a:ext cx="792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Times New Roman"/>
                    </a:rPr>
                    <a:t>KM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4198680" y="4368600"/>
                  <a:ext cx="580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3618000" y="4368600"/>
                  <a:ext cx="321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 flipV="1">
                  <a:off x="4736880" y="4368600"/>
                  <a:ext cx="506160" cy="208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3882600" y="4151160"/>
                  <a:ext cx="307800" cy="21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3944520" y="4141800"/>
                  <a:ext cx="0" cy="260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5232240" y="4368600"/>
                  <a:ext cx="774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4457520" y="4330800"/>
                  <a:ext cx="0" cy="795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8" name=""/>
                <p:cNvGrpSpPr/>
                <p:nvPr/>
              </p:nvGrpSpPr>
              <p:grpSpPr>
                <a:xfrm>
                  <a:off x="4457520" y="5122800"/>
                  <a:ext cx="1186560" cy="155520"/>
                  <a:chOff x="4457520" y="5122800"/>
                  <a:chExt cx="1186560" cy="155520"/>
                </a:xfrm>
              </p:grpSpPr>
              <p:sp>
                <p:nvSpPr>
                  <p:cNvPr id="2909" name=""/>
                  <p:cNvSpPr/>
                  <p:nvPr/>
                </p:nvSpPr>
                <p:spPr>
                  <a:xfrm>
                    <a:off x="4457520" y="5122800"/>
                    <a:ext cx="321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0" name=""/>
                  <p:cNvSpPr/>
                  <p:nvPr/>
                </p:nvSpPr>
                <p:spPr>
                  <a:xfrm flipV="1">
                    <a:off x="4738320" y="5122800"/>
                    <a:ext cx="443880" cy="155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1" name=""/>
                  <p:cNvSpPr/>
                  <p:nvPr/>
                </p:nvSpPr>
                <p:spPr>
                  <a:xfrm>
                    <a:off x="5166360" y="5122800"/>
                    <a:ext cx="4777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2" name=""/>
                <p:cNvSpPr/>
                <p:nvPr/>
              </p:nvSpPr>
              <p:spPr>
                <a:xfrm flipV="1">
                  <a:off x="5619600" y="4330440"/>
                  <a:ext cx="0" cy="795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6006960" y="4076640"/>
                  <a:ext cx="402840" cy="6332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6394320" y="4368600"/>
                  <a:ext cx="774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5" name=""/>
                <p:cNvGrpSpPr/>
                <p:nvPr/>
              </p:nvGrpSpPr>
              <p:grpSpPr>
                <a:xfrm>
                  <a:off x="4926960" y="4404960"/>
                  <a:ext cx="279360" cy="304560"/>
                  <a:chOff x="4926960" y="4404960"/>
                  <a:chExt cx="279360" cy="304560"/>
                </a:xfrm>
              </p:grpSpPr>
              <p:grpSp>
                <p:nvGrpSpPr>
                  <p:cNvPr id="2916" name=""/>
                  <p:cNvGrpSpPr/>
                  <p:nvPr/>
                </p:nvGrpSpPr>
                <p:grpSpPr>
                  <a:xfrm>
                    <a:off x="4926960" y="4404960"/>
                    <a:ext cx="279000" cy="284040"/>
                    <a:chOff x="4926960" y="4404960"/>
                    <a:chExt cx="279000" cy="284040"/>
                  </a:xfrm>
                </p:grpSpPr>
                <p:sp>
                  <p:nvSpPr>
                    <p:cNvPr id="2917" name=""/>
                    <p:cNvSpPr/>
                    <p:nvPr/>
                  </p:nvSpPr>
                  <p:spPr>
                    <a:xfrm flipV="1">
                      <a:off x="5055480" y="4404960"/>
                      <a:ext cx="0" cy="2790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8" name=""/>
                    <p:cNvSpPr/>
                    <p:nvPr/>
                  </p:nvSpPr>
                  <p:spPr>
                    <a:xfrm flipH="1">
                      <a:off x="4926960" y="4689000"/>
                      <a:ext cx="2790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19" name=""/>
                  <p:cNvGrpSpPr/>
                  <p:nvPr/>
                </p:nvGrpSpPr>
                <p:grpSpPr>
                  <a:xfrm>
                    <a:off x="4927320" y="4639680"/>
                    <a:ext cx="279000" cy="69840"/>
                    <a:chOff x="4927320" y="4639680"/>
                    <a:chExt cx="279000" cy="69840"/>
                  </a:xfrm>
                </p:grpSpPr>
                <p:sp>
                  <p:nvSpPr>
                    <p:cNvPr id="2920" name=""/>
                    <p:cNvSpPr/>
                    <p:nvPr/>
                  </p:nvSpPr>
                  <p:spPr>
                    <a:xfrm>
                      <a:off x="5206320" y="4640040"/>
                      <a:ext cx="0" cy="6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1" name=""/>
                    <p:cNvSpPr/>
                    <p:nvPr/>
                  </p:nvSpPr>
                  <p:spPr>
                    <a:xfrm flipV="1">
                      <a:off x="4927320" y="4639680"/>
                      <a:ext cx="0" cy="6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922" name=""/>
                <p:cNvGrpSpPr/>
                <p:nvPr/>
              </p:nvGrpSpPr>
              <p:grpSpPr>
                <a:xfrm>
                  <a:off x="3939840" y="4317840"/>
                  <a:ext cx="258480" cy="263520"/>
                  <a:chOff x="3939840" y="4317840"/>
                  <a:chExt cx="258480" cy="263520"/>
                </a:xfrm>
              </p:grpSpPr>
              <p:sp>
                <p:nvSpPr>
                  <p:cNvPr id="2923" name=""/>
                  <p:cNvSpPr/>
                  <p:nvPr/>
                </p:nvSpPr>
                <p:spPr>
                  <a:xfrm flipV="1">
                    <a:off x="4069080" y="4317840"/>
                    <a:ext cx="0" cy="259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4" name=""/>
                  <p:cNvSpPr/>
                  <p:nvPr/>
                </p:nvSpPr>
                <p:spPr>
                  <a:xfrm>
                    <a:off x="3939840" y="4516560"/>
                    <a:ext cx="0" cy="64800"/>
                  </a:xfrm>
                  <a:prstGeom prst="line">
                    <a:avLst/>
                  </a:prstGeom>
                  <a:ln w="28440">
                    <a:solidFill>
                      <a:srgbClr val="00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5" name=""/>
                  <p:cNvSpPr/>
                  <p:nvPr/>
                </p:nvSpPr>
                <p:spPr>
                  <a:xfrm>
                    <a:off x="3939840" y="4581360"/>
                    <a:ext cx="258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6" name=""/>
                  <p:cNvSpPr/>
                  <p:nvPr/>
                </p:nvSpPr>
                <p:spPr>
                  <a:xfrm flipV="1">
                    <a:off x="4198320" y="4516560"/>
                    <a:ext cx="0" cy="64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27" name=""/>
                <p:cNvSpPr/>
                <p:nvPr/>
              </p:nvSpPr>
              <p:spPr>
                <a:xfrm rot="6240600">
                  <a:off x="5184360" y="4996800"/>
                  <a:ext cx="81000" cy="117000"/>
                </a:xfrm>
                <a:custGeom>
                  <a:avLst/>
                  <a:gdLst/>
                  <a:ahLst/>
                  <a:rect l="l" t="t" r="r" b="b"/>
                  <a:pathLst>
                    <a:path w="464" h="624">
                      <a:moveTo>
                        <a:pt x="272" y="0"/>
                      </a:moveTo>
                      <a:cubicBezTo>
                        <a:pt x="136" y="164"/>
                        <a:pt x="0" y="328"/>
                        <a:pt x="32" y="432"/>
                      </a:cubicBezTo>
                      <a:cubicBezTo>
                        <a:pt x="64" y="536"/>
                        <a:pt x="392" y="592"/>
                        <a:pt x="464" y="624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3867480" y="3763800"/>
                  <a:ext cx="7189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SB</a:t>
                  </a:r>
                  <a:r>
                    <a:rPr b="1" lang="en-US" sz="2800" spc="-1" strike="noStrike" baseline="-25000">
                      <a:solidFill>
                        <a:srgbClr val="ff0000"/>
                      </a:solidFill>
                      <a:latin typeface="Times New Roman"/>
                      <a:ea typeface="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4713480" y="3833640"/>
                  <a:ext cx="7189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6600"/>
                      </a:solidFill>
                      <a:latin typeface="Times New Roman"/>
                    </a:rPr>
                    <a:t>SB</a:t>
                  </a:r>
                  <a:r>
                    <a:rPr b="1" lang="en-US" sz="2800" spc="-1" strike="noStrike" baseline="-25000">
                      <a:solidFill>
                        <a:srgbClr val="0066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4314240" y="3824280"/>
                  <a:ext cx="3207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5458680" y="3824280"/>
                  <a:ext cx="3207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2" name=""/>
              <p:cNvSpPr/>
              <p:nvPr/>
            </p:nvSpPr>
            <p:spPr>
              <a:xfrm>
                <a:off x="7089120" y="3030480"/>
                <a:ext cx="911880" cy="1327320"/>
              </a:xfrm>
              <a:prstGeom prst="rect">
                <a:avLst/>
              </a:prstGeom>
              <a:noFill/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00"/>
                    </a:solidFill>
                    <a:latin typeface="Times New Roman"/>
                  </a:rPr>
                  <a:t>控制电路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3" name=""/>
            <p:cNvSpPr/>
            <p:nvPr/>
          </p:nvSpPr>
          <p:spPr>
            <a:xfrm>
              <a:off x="3546360" y="1523880"/>
              <a:ext cx="502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助触点闭合自锁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530520" y="685800"/>
              <a:ext cx="5654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按下起动按钮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SB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  <a:ea typeface=""/>
                </a:rPr>
                <a:t>2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  K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线圈通电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5" name=""/>
            <p:cNvGrpSpPr/>
            <p:nvPr/>
          </p:nvGrpSpPr>
          <p:grpSpPr>
            <a:xfrm>
              <a:off x="3546360" y="1066680"/>
              <a:ext cx="5638680" cy="520560"/>
              <a:chOff x="3546360" y="1066680"/>
              <a:chExt cx="5638680" cy="520560"/>
            </a:xfrm>
          </p:grpSpPr>
          <p:sp>
            <p:nvSpPr>
              <p:cNvPr id="2936" name=""/>
              <p:cNvSpPr/>
              <p:nvPr/>
            </p:nvSpPr>
            <p:spPr>
              <a:xfrm>
                <a:off x="3546360" y="1066680"/>
                <a:ext cx="563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主触点闭合，     电动机运转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6289560" y="1371600"/>
                <a:ext cx="4460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8" name=""/>
            <p:cNvGrpSpPr/>
            <p:nvPr/>
          </p:nvGrpSpPr>
          <p:grpSpPr>
            <a:xfrm>
              <a:off x="6400800" y="4800600"/>
              <a:ext cx="1219320" cy="533520"/>
              <a:chOff x="6400800" y="4800600"/>
              <a:chExt cx="1219320" cy="533520"/>
            </a:xfrm>
          </p:grpSpPr>
          <p:sp>
            <p:nvSpPr>
              <p:cNvPr id="2939" name=""/>
              <p:cNvSpPr/>
              <p:nvPr/>
            </p:nvSpPr>
            <p:spPr>
              <a:xfrm>
                <a:off x="6400800" y="4876920"/>
                <a:ext cx="1219320" cy="457200"/>
              </a:xfrm>
              <a:prstGeom prst="wedgeEllipseCallout">
                <a:avLst>
                  <a:gd name="adj1" fmla="val -50259"/>
                  <a:gd name="adj2" fmla="val -129513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6553440" y="48006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通电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1" name=""/>
            <p:cNvSpPr/>
            <p:nvPr/>
          </p:nvSpPr>
          <p:spPr>
            <a:xfrm flipH="1" flipV="1">
              <a:off x="4763880" y="4962600"/>
              <a:ext cx="371160" cy="371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137040" y="3162240"/>
              <a:ext cx="5382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675240" y="3162240"/>
              <a:ext cx="0" cy="12574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4" name=""/>
            <p:cNvGrpSpPr/>
            <p:nvPr/>
          </p:nvGrpSpPr>
          <p:grpSpPr>
            <a:xfrm>
              <a:off x="3124080" y="1371600"/>
              <a:ext cx="563760" cy="3048120"/>
              <a:chOff x="3124080" y="1371600"/>
              <a:chExt cx="563760" cy="3048120"/>
            </a:xfrm>
          </p:grpSpPr>
          <p:grpSp>
            <p:nvGrpSpPr>
              <p:cNvPr id="2945" name=""/>
              <p:cNvGrpSpPr/>
              <p:nvPr/>
            </p:nvGrpSpPr>
            <p:grpSpPr>
              <a:xfrm>
                <a:off x="3124080" y="1371600"/>
                <a:ext cx="487440" cy="1784520"/>
                <a:chOff x="3124080" y="1371600"/>
                <a:chExt cx="487440" cy="1784520"/>
              </a:xfrm>
            </p:grpSpPr>
            <p:sp>
              <p:nvSpPr>
                <p:cNvPr id="2946" name=""/>
                <p:cNvSpPr/>
                <p:nvPr/>
              </p:nvSpPr>
              <p:spPr>
                <a:xfrm>
                  <a:off x="3124080" y="1371600"/>
                  <a:ext cx="0" cy="1784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3124080" y="3156120"/>
                  <a:ext cx="4874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8" name=""/>
              <p:cNvSpPr/>
              <p:nvPr/>
            </p:nvSpPr>
            <p:spPr>
              <a:xfrm>
                <a:off x="3687840" y="3156120"/>
                <a:ext cx="0" cy="1263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9" name=""/>
            <p:cNvSpPr/>
            <p:nvPr/>
          </p:nvSpPr>
          <p:spPr>
            <a:xfrm>
              <a:off x="3687840" y="4419720"/>
              <a:ext cx="7318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495680" y="4468680"/>
              <a:ext cx="0" cy="5940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543560" y="5062680"/>
              <a:ext cx="10191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 flipV="1">
              <a:off x="5562720" y="4435200"/>
              <a:ext cx="0" cy="5936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 flipV="1">
              <a:off x="7238880" y="2866680"/>
              <a:ext cx="0" cy="15526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2666880" y="2867040"/>
              <a:ext cx="45720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720720" y="838080"/>
              <a:ext cx="110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起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124080" y="1389240"/>
              <a:ext cx="0" cy="17730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V="1">
              <a:off x="2666880" y="1388880"/>
              <a:ext cx="0" cy="14778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8" name=""/>
            <p:cNvGrpSpPr/>
            <p:nvPr/>
          </p:nvGrpSpPr>
          <p:grpSpPr>
            <a:xfrm>
              <a:off x="1247760" y="3573000"/>
              <a:ext cx="2004840" cy="563040"/>
              <a:chOff x="1247760" y="3573000"/>
              <a:chExt cx="2004840" cy="563040"/>
            </a:xfrm>
          </p:grpSpPr>
          <p:grpSp>
            <p:nvGrpSpPr>
              <p:cNvPr id="2959" name=""/>
              <p:cNvGrpSpPr/>
              <p:nvPr/>
            </p:nvGrpSpPr>
            <p:grpSpPr>
              <a:xfrm>
                <a:off x="1965240" y="3573000"/>
                <a:ext cx="1287360" cy="339480"/>
                <a:chOff x="1965240" y="3573000"/>
                <a:chExt cx="1287360" cy="339480"/>
              </a:xfrm>
            </p:grpSpPr>
            <p:sp>
              <p:nvSpPr>
                <p:cNvPr id="2960" name=""/>
                <p:cNvSpPr/>
                <p:nvPr/>
              </p:nvSpPr>
              <p:spPr>
                <a:xfrm flipV="1">
                  <a:off x="1965240" y="3573000"/>
                  <a:ext cx="378360" cy="3394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 flipV="1">
                  <a:off x="2419560" y="3573000"/>
                  <a:ext cx="378360" cy="3394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 flipV="1">
                  <a:off x="2874240" y="3573000"/>
                  <a:ext cx="378360" cy="3394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3" name=""/>
              <p:cNvSpPr/>
              <p:nvPr/>
            </p:nvSpPr>
            <p:spPr>
              <a:xfrm>
                <a:off x="1247760" y="3615480"/>
                <a:ext cx="79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K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4" name=""/>
            <p:cNvGrpSpPr/>
            <p:nvPr/>
          </p:nvGrpSpPr>
          <p:grpSpPr>
            <a:xfrm>
              <a:off x="639720" y="1219320"/>
              <a:ext cx="2514240" cy="5275080"/>
              <a:chOff x="639720" y="1219320"/>
              <a:chExt cx="2514240" cy="5275080"/>
            </a:xfrm>
          </p:grpSpPr>
          <p:sp>
            <p:nvSpPr>
              <p:cNvPr id="2965" name=""/>
              <p:cNvSpPr/>
              <p:nvPr/>
            </p:nvSpPr>
            <p:spPr>
              <a:xfrm>
                <a:off x="914400" y="5105520"/>
                <a:ext cx="1219320" cy="609480"/>
              </a:xfrm>
              <a:prstGeom prst="wedgeEllipseCallout">
                <a:avLst>
                  <a:gd name="adj1" fmla="val 88930"/>
                  <a:gd name="adj2" fmla="val 98439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转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2209680" y="1295280"/>
                <a:ext cx="0" cy="3990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2243160" y="5257800"/>
                <a:ext cx="193680" cy="369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2556000" y="1295280"/>
                <a:ext cx="0" cy="436104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3006720" y="1295280"/>
                <a:ext cx="0" cy="391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H="1">
                <a:off x="2813040" y="5213520"/>
                <a:ext cx="193680" cy="442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639720" y="3051000"/>
                <a:ext cx="542880" cy="1191240"/>
              </a:xfrm>
              <a:prstGeom prst="rect">
                <a:avLst/>
              </a:prstGeom>
              <a:noFill/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00"/>
                    </a:solidFill>
                    <a:latin typeface="Times New Roman"/>
                  </a:rPr>
                  <a:t>主电路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1289160" y="3867120"/>
                <a:ext cx="7095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F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1266840" y="3573360"/>
                <a:ext cx="183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2076480" y="5562720"/>
                <a:ext cx="1006560" cy="931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2030400" y="4718160"/>
                <a:ext cx="1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2173320" y="388620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2030400" y="4508640"/>
                <a:ext cx="1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2030400" y="4508640"/>
                <a:ext cx="0" cy="20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2173320" y="4705200"/>
                <a:ext cx="0" cy="552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2954160" y="4718160"/>
                <a:ext cx="14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3095640" y="3886200"/>
                <a:ext cx="0" cy="65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2954160" y="4508640"/>
                <a:ext cx="12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2954160" y="4508640"/>
                <a:ext cx="0" cy="20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3095640" y="4724280"/>
                <a:ext cx="0" cy="497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2598840" y="3886200"/>
                <a:ext cx="0" cy="166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2173320" y="5181480"/>
                <a:ext cx="2127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H="1">
                <a:off x="2850840" y="5181480"/>
                <a:ext cx="24444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2309400" y="5958000"/>
                <a:ext cx="5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3~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2315880" y="556272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1325520" y="2205000"/>
                <a:ext cx="1082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F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420920" y="1646280"/>
                <a:ext cx="493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1996920" y="1855800"/>
                <a:ext cx="905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176560" y="1359000"/>
                <a:ext cx="0" cy="41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2627280" y="1359000"/>
                <a:ext cx="0" cy="41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5" name=""/>
              <p:cNvGrpSpPr/>
              <p:nvPr/>
            </p:nvGrpSpPr>
            <p:grpSpPr>
              <a:xfrm>
                <a:off x="2160720" y="1219320"/>
                <a:ext cx="950400" cy="125280"/>
                <a:chOff x="2160720" y="1219320"/>
                <a:chExt cx="950400" cy="125280"/>
              </a:xfrm>
            </p:grpSpPr>
            <p:sp>
              <p:nvSpPr>
                <p:cNvPr id="2996" name=""/>
                <p:cNvSpPr/>
                <p:nvPr/>
              </p:nvSpPr>
              <p:spPr>
                <a:xfrm>
                  <a:off x="2160720" y="1219320"/>
                  <a:ext cx="135720" cy="125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2567880" y="1219320"/>
                  <a:ext cx="135720" cy="125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2975400" y="1219320"/>
                  <a:ext cx="135720" cy="125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9" name=""/>
              <p:cNvSpPr/>
              <p:nvPr/>
            </p:nvSpPr>
            <p:spPr>
              <a:xfrm>
                <a:off x="3078000" y="1359000"/>
                <a:ext cx="0" cy="41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2852640" y="1708200"/>
                <a:ext cx="22536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3078000" y="2057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2401920" y="1708200"/>
                <a:ext cx="22536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627280" y="2057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1947960" y="1708200"/>
                <a:ext cx="22860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176560" y="2057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6" name=""/>
              <p:cNvGrpSpPr/>
              <p:nvPr/>
            </p:nvGrpSpPr>
            <p:grpSpPr>
              <a:xfrm>
                <a:off x="2097360" y="3294720"/>
                <a:ext cx="995760" cy="211680"/>
                <a:chOff x="2097360" y="3294720"/>
                <a:chExt cx="995760" cy="211680"/>
              </a:xfrm>
            </p:grpSpPr>
            <p:sp>
              <p:nvSpPr>
                <p:cNvPr id="3007" name=""/>
                <p:cNvSpPr/>
                <p:nvPr/>
              </p:nvSpPr>
              <p:spPr>
                <a:xfrm rot="10883400">
                  <a:off x="3003480" y="3295800"/>
                  <a:ext cx="87120" cy="209520"/>
                </a:xfrm>
                <a:custGeom>
                  <a:avLst/>
                  <a:gdLst/>
                  <a:ahLst/>
                  <a:rect l="l" t="t" r="r" b="b"/>
                  <a:pathLst>
                    <a:path w="584" h="816">
                      <a:moveTo>
                        <a:pt x="0" y="0"/>
                      </a:moveTo>
                      <a:cubicBezTo>
                        <a:pt x="284" y="100"/>
                        <a:pt x="568" y="200"/>
                        <a:pt x="576" y="336"/>
                      </a:cubicBezTo>
                      <a:cubicBezTo>
                        <a:pt x="584" y="472"/>
                        <a:pt x="316" y="644"/>
                        <a:pt x="48" y="816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 rot="10883400">
                  <a:off x="2551680" y="3295800"/>
                  <a:ext cx="87120" cy="209520"/>
                </a:xfrm>
                <a:custGeom>
                  <a:avLst/>
                  <a:gdLst/>
                  <a:ahLst/>
                  <a:rect l="l" t="t" r="r" b="b"/>
                  <a:pathLst>
                    <a:path w="584" h="816">
                      <a:moveTo>
                        <a:pt x="0" y="0"/>
                      </a:moveTo>
                      <a:cubicBezTo>
                        <a:pt x="284" y="100"/>
                        <a:pt x="568" y="200"/>
                        <a:pt x="576" y="336"/>
                      </a:cubicBezTo>
                      <a:cubicBezTo>
                        <a:pt x="584" y="472"/>
                        <a:pt x="316" y="644"/>
                        <a:pt x="48" y="816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 rot="10883400">
                  <a:off x="2099880" y="3295800"/>
                  <a:ext cx="86760" cy="209520"/>
                </a:xfrm>
                <a:custGeom>
                  <a:avLst/>
                  <a:gdLst/>
                  <a:ahLst/>
                  <a:rect l="l" t="t" r="r" b="b"/>
                  <a:pathLst>
                    <a:path w="584" h="816">
                      <a:moveTo>
                        <a:pt x="0" y="0"/>
                      </a:moveTo>
                      <a:cubicBezTo>
                        <a:pt x="284" y="100"/>
                        <a:pt x="568" y="200"/>
                        <a:pt x="576" y="336"/>
                      </a:cubicBezTo>
                      <a:cubicBezTo>
                        <a:pt x="584" y="472"/>
                        <a:pt x="316" y="644"/>
                        <a:pt x="48" y="816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0" name=""/>
              <p:cNvGrpSpPr/>
              <p:nvPr/>
            </p:nvGrpSpPr>
            <p:grpSpPr>
              <a:xfrm>
                <a:off x="2100240" y="2268360"/>
                <a:ext cx="1053720" cy="393840"/>
                <a:chOff x="2100240" y="2268360"/>
                <a:chExt cx="1053720" cy="393840"/>
              </a:xfrm>
            </p:grpSpPr>
            <p:sp>
              <p:nvSpPr>
                <p:cNvPr id="3011" name=""/>
                <p:cNvSpPr/>
                <p:nvPr/>
              </p:nvSpPr>
              <p:spPr>
                <a:xfrm>
                  <a:off x="3003480" y="2268360"/>
                  <a:ext cx="150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3153960" y="2268360"/>
                  <a:ext cx="0" cy="39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3003480" y="2662200"/>
                  <a:ext cx="150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3003480" y="2268360"/>
                  <a:ext cx="0" cy="39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2551680" y="2268360"/>
                  <a:ext cx="150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2702520" y="2268360"/>
                  <a:ext cx="0" cy="39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2572200" y="2662200"/>
                  <a:ext cx="129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2551680" y="2268360"/>
                  <a:ext cx="0" cy="39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2100240" y="2268360"/>
                  <a:ext cx="150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2250720" y="2268360"/>
                  <a:ext cx="0" cy="39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2100240" y="2662200"/>
                  <a:ext cx="150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2100240" y="2268360"/>
                  <a:ext cx="0" cy="39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3" name=""/>
              <p:cNvGrpSpPr/>
              <p:nvPr/>
            </p:nvGrpSpPr>
            <p:grpSpPr>
              <a:xfrm>
                <a:off x="1974960" y="3540240"/>
                <a:ext cx="1134720" cy="349200"/>
                <a:chOff x="1974960" y="3540240"/>
                <a:chExt cx="1134720" cy="349200"/>
              </a:xfrm>
            </p:grpSpPr>
            <p:sp>
              <p:nvSpPr>
                <p:cNvPr id="3024" name=""/>
                <p:cNvSpPr/>
                <p:nvPr/>
              </p:nvSpPr>
              <p:spPr>
                <a:xfrm>
                  <a:off x="1974960" y="3540240"/>
                  <a:ext cx="212760" cy="349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2896920" y="3540240"/>
                  <a:ext cx="212760" cy="349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2400480" y="3540240"/>
                  <a:ext cx="212760" cy="349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2003760" y="3692520"/>
                  <a:ext cx="938160" cy="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8" name=""/>
              <p:cNvGrpSpPr/>
              <p:nvPr/>
            </p:nvGrpSpPr>
            <p:grpSpPr>
              <a:xfrm>
                <a:off x="1881360" y="1720440"/>
                <a:ext cx="1256760" cy="297000"/>
                <a:chOff x="1881360" y="1720440"/>
                <a:chExt cx="1256760" cy="297000"/>
              </a:xfrm>
            </p:grpSpPr>
            <p:sp>
              <p:nvSpPr>
                <p:cNvPr id="3029" name=""/>
                <p:cNvSpPr/>
                <p:nvPr/>
              </p:nvSpPr>
              <p:spPr>
                <a:xfrm flipV="1">
                  <a:off x="1881360" y="1720440"/>
                  <a:ext cx="369360" cy="297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 flipV="1">
                  <a:off x="2324880" y="1720440"/>
                  <a:ext cx="369360" cy="297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 flipV="1">
                  <a:off x="2768760" y="1720440"/>
                  <a:ext cx="369360" cy="297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32" name=""/>
              <p:cNvSpPr/>
              <p:nvPr/>
            </p:nvSpPr>
            <p:spPr>
              <a:xfrm>
                <a:off x="1430640" y="1639080"/>
                <a:ext cx="45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3" name=""/>
          <p:cNvSpPr/>
          <p:nvPr/>
        </p:nvSpPr>
        <p:spPr>
          <a:xfrm>
            <a:off x="3904560" y="1919160"/>
            <a:ext cx="208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松开起动按钮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4114800" y="5578560"/>
            <a:ext cx="4267080" cy="947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利用自身辅助触点，维持线圈通电的作用称自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3124080" y="5410080"/>
            <a:ext cx="1219320" cy="457200"/>
          </a:xfrm>
          <a:prstGeom prst="wedgeEllipseCallout">
            <a:avLst>
              <a:gd name="adj1" fmla="val 87240"/>
              <a:gd name="adj2" fmla="val -11284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自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1674720"/>
            <a:ext cx="83055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应用电动机拖动生产机械，称为电力拖动。利用继电器、接触器实现对电动机和生产设备的控制和保护，称为继电接触控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337920"/>
            <a:ext cx="83055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章主要介绍几种常用的低压电器，基本的控制环节和保护环节的典型线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5320" y="791280"/>
            <a:ext cx="4246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1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 继电接触控制系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060800"/>
            <a:ext cx="80769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实现继电接触控制的电气设备，统称为控制电器，如刀闸、按钮、继电器、接触器等。下面介绍常用控制电器的用途及电工表示符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"/>
          <p:cNvSpPr/>
          <p:nvPr/>
        </p:nvSpPr>
        <p:spPr>
          <a:xfrm>
            <a:off x="888120" y="3340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控制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7" name=""/>
          <p:cNvGrpSpPr/>
          <p:nvPr/>
        </p:nvGrpSpPr>
        <p:grpSpPr>
          <a:xfrm>
            <a:off x="2493720" y="2344680"/>
            <a:ext cx="5507280" cy="3317760"/>
            <a:chOff x="2493720" y="2344680"/>
            <a:chExt cx="5507280" cy="3317760"/>
          </a:xfrm>
        </p:grpSpPr>
        <p:sp>
          <p:nvSpPr>
            <p:cNvPr id="3038" name=""/>
            <p:cNvSpPr/>
            <p:nvPr/>
          </p:nvSpPr>
          <p:spPr>
            <a:xfrm>
              <a:off x="7169040" y="2940120"/>
              <a:ext cx="0" cy="144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588000" y="2940120"/>
              <a:ext cx="58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6098760" y="2819520"/>
              <a:ext cx="6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F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5799240" y="35956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226200" y="2752560"/>
              <a:ext cx="363600" cy="18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459480" y="2670120"/>
              <a:ext cx="0" cy="184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4" name=""/>
            <p:cNvGrpSpPr/>
            <p:nvPr/>
          </p:nvGrpSpPr>
          <p:grpSpPr>
            <a:xfrm>
              <a:off x="6264360" y="2544480"/>
              <a:ext cx="387360" cy="122400"/>
              <a:chOff x="6264360" y="2544480"/>
              <a:chExt cx="387360" cy="122400"/>
            </a:xfrm>
          </p:grpSpPr>
          <p:sp>
            <p:nvSpPr>
              <p:cNvPr id="3045" name=""/>
              <p:cNvSpPr/>
              <p:nvPr/>
            </p:nvSpPr>
            <p:spPr>
              <a:xfrm>
                <a:off x="6264360" y="2544840"/>
                <a:ext cx="12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6392880" y="2544840"/>
                <a:ext cx="0" cy="12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6392880" y="2666880"/>
                <a:ext cx="12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6521400" y="2544480"/>
                <a:ext cx="0" cy="12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6521400" y="254484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0" name=""/>
            <p:cNvSpPr/>
            <p:nvPr/>
          </p:nvSpPr>
          <p:spPr>
            <a:xfrm>
              <a:off x="6272280" y="2670120"/>
              <a:ext cx="0" cy="24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1" name=""/>
            <p:cNvGrpSpPr/>
            <p:nvPr/>
          </p:nvGrpSpPr>
          <p:grpSpPr>
            <a:xfrm>
              <a:off x="2493720" y="2344680"/>
              <a:ext cx="3772080" cy="2040120"/>
              <a:chOff x="2493720" y="2344680"/>
              <a:chExt cx="3772080" cy="2040120"/>
            </a:xfrm>
          </p:grpSpPr>
          <p:sp>
            <p:nvSpPr>
              <p:cNvPr id="3052" name=""/>
              <p:cNvSpPr/>
              <p:nvPr/>
            </p:nvSpPr>
            <p:spPr>
              <a:xfrm>
                <a:off x="3618000" y="3233880"/>
                <a:ext cx="0" cy="11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3" name=""/>
              <p:cNvGrpSpPr/>
              <p:nvPr/>
            </p:nvGrpSpPr>
            <p:grpSpPr>
              <a:xfrm>
                <a:off x="2493720" y="2344680"/>
                <a:ext cx="1124280" cy="1104120"/>
                <a:chOff x="2493720" y="2344680"/>
                <a:chExt cx="1124280" cy="1104120"/>
              </a:xfrm>
            </p:grpSpPr>
            <p:sp>
              <p:nvSpPr>
                <p:cNvPr id="3054" name=""/>
                <p:cNvSpPr/>
                <p:nvPr/>
              </p:nvSpPr>
              <p:spPr>
                <a:xfrm>
                  <a:off x="2493720" y="2344680"/>
                  <a:ext cx="3207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5" name=""/>
                <p:cNvGrpSpPr/>
                <p:nvPr/>
              </p:nvGrpSpPr>
              <p:grpSpPr>
                <a:xfrm>
                  <a:off x="2922480" y="2684520"/>
                  <a:ext cx="695520" cy="764280"/>
                  <a:chOff x="2922480" y="2684520"/>
                  <a:chExt cx="695520" cy="764280"/>
                </a:xfrm>
              </p:grpSpPr>
              <p:sp>
                <p:nvSpPr>
                  <p:cNvPr id="3056" name=""/>
                  <p:cNvSpPr/>
                  <p:nvPr/>
                </p:nvSpPr>
                <p:spPr>
                  <a:xfrm>
                    <a:off x="2922480" y="2684520"/>
                    <a:ext cx="32076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7" name=""/>
                  <p:cNvSpPr/>
                  <p:nvPr/>
                </p:nvSpPr>
                <p:spPr>
                  <a:xfrm>
                    <a:off x="3048120" y="3241800"/>
                    <a:ext cx="5698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58" name=""/>
              <p:cNvSpPr/>
              <p:nvPr/>
            </p:nvSpPr>
            <p:spPr>
              <a:xfrm>
                <a:off x="2649600" y="2916360"/>
                <a:ext cx="361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9" name=""/>
            <p:cNvGrpSpPr/>
            <p:nvPr/>
          </p:nvGrpSpPr>
          <p:grpSpPr>
            <a:xfrm>
              <a:off x="3618000" y="3763800"/>
              <a:ext cx="3550680" cy="1898640"/>
              <a:chOff x="3618000" y="3763800"/>
              <a:chExt cx="3550680" cy="1898640"/>
            </a:xfrm>
          </p:grpSpPr>
          <p:sp>
            <p:nvSpPr>
              <p:cNvPr id="3060" name=""/>
              <p:cNvSpPr/>
              <p:nvPr/>
            </p:nvSpPr>
            <p:spPr>
              <a:xfrm>
                <a:off x="4649400" y="5141880"/>
                <a:ext cx="79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K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4198680" y="4368600"/>
                <a:ext cx="58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3618000" y="4368600"/>
                <a:ext cx="321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 flipV="1">
                <a:off x="4736880" y="4368600"/>
                <a:ext cx="506160" cy="20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882600" y="4151160"/>
                <a:ext cx="30780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3944520" y="4141800"/>
                <a:ext cx="0" cy="26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232240" y="4368600"/>
                <a:ext cx="77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4457520" y="4330800"/>
                <a:ext cx="0" cy="79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68" name=""/>
              <p:cNvGrpSpPr/>
              <p:nvPr/>
            </p:nvGrpSpPr>
            <p:grpSpPr>
              <a:xfrm>
                <a:off x="4457520" y="5122800"/>
                <a:ext cx="1186560" cy="155520"/>
                <a:chOff x="4457520" y="5122800"/>
                <a:chExt cx="1186560" cy="155520"/>
              </a:xfrm>
            </p:grpSpPr>
            <p:sp>
              <p:nvSpPr>
                <p:cNvPr id="3069" name=""/>
                <p:cNvSpPr/>
                <p:nvPr/>
              </p:nvSpPr>
              <p:spPr>
                <a:xfrm>
                  <a:off x="4457520" y="5122800"/>
                  <a:ext cx="321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 flipV="1">
                  <a:off x="4738320" y="5122800"/>
                  <a:ext cx="443880" cy="155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5166360" y="5122800"/>
                  <a:ext cx="47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2" name=""/>
              <p:cNvSpPr/>
              <p:nvPr/>
            </p:nvSpPr>
            <p:spPr>
              <a:xfrm flipV="1">
                <a:off x="5619600" y="4330440"/>
                <a:ext cx="0" cy="79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6006960" y="4076640"/>
                <a:ext cx="402840" cy="6332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6394320" y="4368600"/>
                <a:ext cx="77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75" name=""/>
              <p:cNvGrpSpPr/>
              <p:nvPr/>
            </p:nvGrpSpPr>
            <p:grpSpPr>
              <a:xfrm>
                <a:off x="4926960" y="4404960"/>
                <a:ext cx="279360" cy="304560"/>
                <a:chOff x="4926960" y="4404960"/>
                <a:chExt cx="279360" cy="304560"/>
              </a:xfrm>
            </p:grpSpPr>
            <p:grpSp>
              <p:nvGrpSpPr>
                <p:cNvPr id="3076" name=""/>
                <p:cNvGrpSpPr/>
                <p:nvPr/>
              </p:nvGrpSpPr>
              <p:grpSpPr>
                <a:xfrm>
                  <a:off x="4926960" y="4404960"/>
                  <a:ext cx="279000" cy="284040"/>
                  <a:chOff x="4926960" y="4404960"/>
                  <a:chExt cx="279000" cy="284040"/>
                </a:xfrm>
              </p:grpSpPr>
              <p:sp>
                <p:nvSpPr>
                  <p:cNvPr id="3077" name=""/>
                  <p:cNvSpPr/>
                  <p:nvPr/>
                </p:nvSpPr>
                <p:spPr>
                  <a:xfrm flipV="1">
                    <a:off x="5055480" y="4404960"/>
                    <a:ext cx="0" cy="279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8" name=""/>
                  <p:cNvSpPr/>
                  <p:nvPr/>
                </p:nvSpPr>
                <p:spPr>
                  <a:xfrm flipH="1">
                    <a:off x="4926960" y="4689000"/>
                    <a:ext cx="2790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9" name=""/>
                <p:cNvGrpSpPr/>
                <p:nvPr/>
              </p:nvGrpSpPr>
              <p:grpSpPr>
                <a:xfrm>
                  <a:off x="4927320" y="4639680"/>
                  <a:ext cx="279000" cy="69840"/>
                  <a:chOff x="4927320" y="4639680"/>
                  <a:chExt cx="279000" cy="69840"/>
                </a:xfrm>
              </p:grpSpPr>
              <p:sp>
                <p:nvSpPr>
                  <p:cNvPr id="3080" name=""/>
                  <p:cNvSpPr/>
                  <p:nvPr/>
                </p:nvSpPr>
                <p:spPr>
                  <a:xfrm>
                    <a:off x="5206320" y="4640040"/>
                    <a:ext cx="0" cy="6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1" name=""/>
                  <p:cNvSpPr/>
                  <p:nvPr/>
                </p:nvSpPr>
                <p:spPr>
                  <a:xfrm flipV="1">
                    <a:off x="4927320" y="4639680"/>
                    <a:ext cx="0" cy="6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82" name=""/>
              <p:cNvGrpSpPr/>
              <p:nvPr/>
            </p:nvGrpSpPr>
            <p:grpSpPr>
              <a:xfrm>
                <a:off x="3939840" y="4317840"/>
                <a:ext cx="258480" cy="263520"/>
                <a:chOff x="3939840" y="4317840"/>
                <a:chExt cx="258480" cy="263520"/>
              </a:xfrm>
            </p:grpSpPr>
            <p:sp>
              <p:nvSpPr>
                <p:cNvPr id="3083" name=""/>
                <p:cNvSpPr/>
                <p:nvPr/>
              </p:nvSpPr>
              <p:spPr>
                <a:xfrm flipV="1">
                  <a:off x="4069080" y="4317840"/>
                  <a:ext cx="0" cy="259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3939840" y="4516560"/>
                  <a:ext cx="0" cy="64800"/>
                </a:xfrm>
                <a:prstGeom prst="line">
                  <a:avLst/>
                </a:prstGeom>
                <a:ln w="2844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3939840" y="4581360"/>
                  <a:ext cx="258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 flipV="1">
                  <a:off x="4198320" y="4516560"/>
                  <a:ext cx="0" cy="64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7" name=""/>
              <p:cNvSpPr/>
              <p:nvPr/>
            </p:nvSpPr>
            <p:spPr>
              <a:xfrm rot="6240600">
                <a:off x="5184360" y="4996800"/>
                <a:ext cx="81000" cy="117000"/>
              </a:xfrm>
              <a:custGeom>
                <a:avLst/>
                <a:gdLst/>
                <a:ahLst/>
                <a:rect l="l" t="t" r="r" b="b"/>
                <a:pathLst>
                  <a:path w="464" h="624">
                    <a:moveTo>
                      <a:pt x="272" y="0"/>
                    </a:moveTo>
                    <a:cubicBezTo>
                      <a:pt x="136" y="164"/>
                      <a:pt x="0" y="328"/>
                      <a:pt x="32" y="432"/>
                    </a:cubicBezTo>
                    <a:cubicBezTo>
                      <a:pt x="64" y="536"/>
                      <a:pt x="392" y="592"/>
                      <a:pt x="464" y="624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3867480" y="3763800"/>
                <a:ext cx="718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SB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  <a:ea typeface="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4713480" y="3833640"/>
                <a:ext cx="718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SB</a:t>
                </a:r>
                <a:r>
                  <a:rPr b="1" lang="en-US" sz="2800" spc="-1" strike="noStrike" baseline="-25000">
                    <a:solidFill>
                      <a:srgbClr val="0066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4314240" y="3824280"/>
                <a:ext cx="32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458680" y="3824280"/>
                <a:ext cx="32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2" name=""/>
            <p:cNvSpPr/>
            <p:nvPr/>
          </p:nvSpPr>
          <p:spPr>
            <a:xfrm>
              <a:off x="7089120" y="3030480"/>
              <a:ext cx="911880" cy="132732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控制电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3" name=""/>
          <p:cNvGrpSpPr/>
          <p:nvPr/>
        </p:nvGrpSpPr>
        <p:grpSpPr>
          <a:xfrm>
            <a:off x="6248520" y="4800600"/>
            <a:ext cx="1218960" cy="533520"/>
            <a:chOff x="6248520" y="4800600"/>
            <a:chExt cx="1218960" cy="533520"/>
          </a:xfrm>
        </p:grpSpPr>
        <p:sp>
          <p:nvSpPr>
            <p:cNvPr id="3094" name=""/>
            <p:cNvSpPr/>
            <p:nvPr/>
          </p:nvSpPr>
          <p:spPr>
            <a:xfrm>
              <a:off x="6248520" y="4876920"/>
              <a:ext cx="1218960" cy="457200"/>
            </a:xfrm>
            <a:prstGeom prst="wedgeEllipseCallout">
              <a:avLst>
                <a:gd name="adj1" fmla="val -50259"/>
                <a:gd name="adj2" fmla="val -129513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400800" y="4800600"/>
              <a:ext cx="10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通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6" name=""/>
          <p:cNvSpPr/>
          <p:nvPr/>
        </p:nvSpPr>
        <p:spPr>
          <a:xfrm>
            <a:off x="676440" y="3127320"/>
            <a:ext cx="542880" cy="11912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主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1289160" y="3867120"/>
            <a:ext cx="70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F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1266840" y="3573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2173320" y="5181480"/>
            <a:ext cx="2127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1325520" y="220500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F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1420920" y="1646280"/>
            <a:ext cx="4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2" name=""/>
          <p:cNvGrpSpPr/>
          <p:nvPr/>
        </p:nvGrpSpPr>
        <p:grpSpPr>
          <a:xfrm>
            <a:off x="1947960" y="1219320"/>
            <a:ext cx="1206000" cy="5275080"/>
            <a:chOff x="1947960" y="1219320"/>
            <a:chExt cx="1206000" cy="5275080"/>
          </a:xfrm>
        </p:grpSpPr>
        <p:sp>
          <p:nvSpPr>
            <p:cNvPr id="3103" name=""/>
            <p:cNvSpPr/>
            <p:nvPr/>
          </p:nvSpPr>
          <p:spPr>
            <a:xfrm>
              <a:off x="1996920" y="1855800"/>
              <a:ext cx="905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2852640" y="1708200"/>
              <a:ext cx="225360" cy="34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3078000" y="205740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6" name=""/>
            <p:cNvGrpSpPr/>
            <p:nvPr/>
          </p:nvGrpSpPr>
          <p:grpSpPr>
            <a:xfrm>
              <a:off x="1947960" y="1219320"/>
              <a:ext cx="1206000" cy="5275080"/>
              <a:chOff x="1947960" y="1219320"/>
              <a:chExt cx="1206000" cy="5275080"/>
            </a:xfrm>
          </p:grpSpPr>
          <p:sp>
            <p:nvSpPr>
              <p:cNvPr id="3107" name=""/>
              <p:cNvSpPr/>
              <p:nvPr/>
            </p:nvSpPr>
            <p:spPr>
              <a:xfrm>
                <a:off x="2076480" y="5562720"/>
                <a:ext cx="1006560" cy="931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2030400" y="4718160"/>
                <a:ext cx="1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2173320" y="388620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2030400" y="4508640"/>
                <a:ext cx="1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2030400" y="4508640"/>
                <a:ext cx="0" cy="20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2173320" y="4705200"/>
                <a:ext cx="0" cy="552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2954160" y="4718160"/>
                <a:ext cx="14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3095640" y="3886200"/>
                <a:ext cx="0" cy="65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2954160" y="4508640"/>
                <a:ext cx="12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2954160" y="4508640"/>
                <a:ext cx="0" cy="20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3095640" y="4724280"/>
                <a:ext cx="0" cy="497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2598840" y="3886200"/>
                <a:ext cx="0" cy="166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H="1">
                <a:off x="2850840" y="5181480"/>
                <a:ext cx="24444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309400" y="5958000"/>
                <a:ext cx="5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3~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2315880" y="556272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2176560" y="1359000"/>
                <a:ext cx="0" cy="41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2627280" y="1359000"/>
                <a:ext cx="0" cy="41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4" name=""/>
              <p:cNvGrpSpPr/>
              <p:nvPr/>
            </p:nvGrpSpPr>
            <p:grpSpPr>
              <a:xfrm>
                <a:off x="2160720" y="1219320"/>
                <a:ext cx="950400" cy="125280"/>
                <a:chOff x="2160720" y="1219320"/>
                <a:chExt cx="950400" cy="125280"/>
              </a:xfrm>
            </p:grpSpPr>
            <p:sp>
              <p:nvSpPr>
                <p:cNvPr id="3125" name=""/>
                <p:cNvSpPr/>
                <p:nvPr/>
              </p:nvSpPr>
              <p:spPr>
                <a:xfrm>
                  <a:off x="2160720" y="1219320"/>
                  <a:ext cx="135720" cy="125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2567880" y="1219320"/>
                  <a:ext cx="135720" cy="125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2975400" y="1219320"/>
                  <a:ext cx="135720" cy="125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28" name=""/>
              <p:cNvSpPr/>
              <p:nvPr/>
            </p:nvSpPr>
            <p:spPr>
              <a:xfrm>
                <a:off x="3078000" y="1359000"/>
                <a:ext cx="0" cy="41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2401920" y="1708200"/>
                <a:ext cx="22536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2627280" y="2057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1947960" y="1708200"/>
                <a:ext cx="22860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2176560" y="2057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3" name=""/>
              <p:cNvGrpSpPr/>
              <p:nvPr/>
            </p:nvGrpSpPr>
            <p:grpSpPr>
              <a:xfrm>
                <a:off x="2097360" y="3294720"/>
                <a:ext cx="995760" cy="211680"/>
                <a:chOff x="2097360" y="3294720"/>
                <a:chExt cx="995760" cy="211680"/>
              </a:xfrm>
            </p:grpSpPr>
            <p:sp>
              <p:nvSpPr>
                <p:cNvPr id="3134" name=""/>
                <p:cNvSpPr/>
                <p:nvPr/>
              </p:nvSpPr>
              <p:spPr>
                <a:xfrm rot="10883400">
                  <a:off x="3003480" y="3295800"/>
                  <a:ext cx="87120" cy="209520"/>
                </a:xfrm>
                <a:custGeom>
                  <a:avLst/>
                  <a:gdLst/>
                  <a:ahLst/>
                  <a:rect l="l" t="t" r="r" b="b"/>
                  <a:pathLst>
                    <a:path w="584" h="816">
                      <a:moveTo>
                        <a:pt x="0" y="0"/>
                      </a:moveTo>
                      <a:cubicBezTo>
                        <a:pt x="284" y="100"/>
                        <a:pt x="568" y="200"/>
                        <a:pt x="576" y="336"/>
                      </a:cubicBezTo>
                      <a:cubicBezTo>
                        <a:pt x="584" y="472"/>
                        <a:pt x="316" y="644"/>
                        <a:pt x="48" y="816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 rot="10883400">
                  <a:off x="2551680" y="3295800"/>
                  <a:ext cx="87120" cy="209520"/>
                </a:xfrm>
                <a:custGeom>
                  <a:avLst/>
                  <a:gdLst/>
                  <a:ahLst/>
                  <a:rect l="l" t="t" r="r" b="b"/>
                  <a:pathLst>
                    <a:path w="584" h="816">
                      <a:moveTo>
                        <a:pt x="0" y="0"/>
                      </a:moveTo>
                      <a:cubicBezTo>
                        <a:pt x="284" y="100"/>
                        <a:pt x="568" y="200"/>
                        <a:pt x="576" y="336"/>
                      </a:cubicBezTo>
                      <a:cubicBezTo>
                        <a:pt x="584" y="472"/>
                        <a:pt x="316" y="644"/>
                        <a:pt x="48" y="816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 rot="10883400">
                  <a:off x="2099880" y="3295800"/>
                  <a:ext cx="86760" cy="209520"/>
                </a:xfrm>
                <a:custGeom>
                  <a:avLst/>
                  <a:gdLst/>
                  <a:ahLst/>
                  <a:rect l="l" t="t" r="r" b="b"/>
                  <a:pathLst>
                    <a:path w="584" h="816">
                      <a:moveTo>
                        <a:pt x="0" y="0"/>
                      </a:moveTo>
                      <a:cubicBezTo>
                        <a:pt x="284" y="100"/>
                        <a:pt x="568" y="200"/>
                        <a:pt x="576" y="336"/>
                      </a:cubicBezTo>
                      <a:cubicBezTo>
                        <a:pt x="584" y="472"/>
                        <a:pt x="316" y="644"/>
                        <a:pt x="48" y="816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7" name=""/>
              <p:cNvGrpSpPr/>
              <p:nvPr/>
            </p:nvGrpSpPr>
            <p:grpSpPr>
              <a:xfrm>
                <a:off x="2100240" y="2268360"/>
                <a:ext cx="1053720" cy="393840"/>
                <a:chOff x="2100240" y="2268360"/>
                <a:chExt cx="1053720" cy="393840"/>
              </a:xfrm>
            </p:grpSpPr>
            <p:sp>
              <p:nvSpPr>
                <p:cNvPr id="3138" name=""/>
                <p:cNvSpPr/>
                <p:nvPr/>
              </p:nvSpPr>
              <p:spPr>
                <a:xfrm>
                  <a:off x="3003480" y="2268360"/>
                  <a:ext cx="150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3153960" y="2268360"/>
                  <a:ext cx="0" cy="39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3003480" y="2662200"/>
                  <a:ext cx="150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3003480" y="2268360"/>
                  <a:ext cx="0" cy="39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2551680" y="2268360"/>
                  <a:ext cx="150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2702520" y="2268360"/>
                  <a:ext cx="0" cy="39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2572200" y="2662200"/>
                  <a:ext cx="129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2551680" y="2268360"/>
                  <a:ext cx="0" cy="39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2100240" y="2268360"/>
                  <a:ext cx="150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2250720" y="2268360"/>
                  <a:ext cx="0" cy="39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2100240" y="2662200"/>
                  <a:ext cx="150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2100240" y="2268360"/>
                  <a:ext cx="0" cy="39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0" name=""/>
              <p:cNvGrpSpPr/>
              <p:nvPr/>
            </p:nvGrpSpPr>
            <p:grpSpPr>
              <a:xfrm>
                <a:off x="1974960" y="3540240"/>
                <a:ext cx="1134720" cy="349200"/>
                <a:chOff x="1974960" y="3540240"/>
                <a:chExt cx="1134720" cy="349200"/>
              </a:xfrm>
            </p:grpSpPr>
            <p:sp>
              <p:nvSpPr>
                <p:cNvPr id="3151" name=""/>
                <p:cNvSpPr/>
                <p:nvPr/>
              </p:nvSpPr>
              <p:spPr>
                <a:xfrm>
                  <a:off x="1974960" y="3540240"/>
                  <a:ext cx="212760" cy="349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>
                  <a:off x="2896920" y="3540240"/>
                  <a:ext cx="212760" cy="349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2400480" y="3540240"/>
                  <a:ext cx="212760" cy="349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2003760" y="3692520"/>
                  <a:ext cx="938160" cy="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55" name=""/>
          <p:cNvGrpSpPr/>
          <p:nvPr/>
        </p:nvGrpSpPr>
        <p:grpSpPr>
          <a:xfrm>
            <a:off x="1881360" y="1720440"/>
            <a:ext cx="1256760" cy="297000"/>
            <a:chOff x="1881360" y="1720440"/>
            <a:chExt cx="1256760" cy="297000"/>
          </a:xfrm>
        </p:grpSpPr>
        <p:sp>
          <p:nvSpPr>
            <p:cNvPr id="3156" name=""/>
            <p:cNvSpPr/>
            <p:nvPr/>
          </p:nvSpPr>
          <p:spPr>
            <a:xfrm flipV="1">
              <a:off x="1881360" y="1720440"/>
              <a:ext cx="369360" cy="297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V="1">
              <a:off x="2324880" y="1720440"/>
              <a:ext cx="369360" cy="297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V="1">
              <a:off x="2768760" y="1720440"/>
              <a:ext cx="369360" cy="297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9" name=""/>
          <p:cNvSpPr/>
          <p:nvPr/>
        </p:nvSpPr>
        <p:spPr>
          <a:xfrm>
            <a:off x="1430640" y="1639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685800" y="5181480"/>
            <a:ext cx="1219320" cy="609840"/>
          </a:xfrm>
          <a:prstGeom prst="wedgeEllipseCallout">
            <a:avLst>
              <a:gd name="adj1" fmla="val 82680"/>
              <a:gd name="adj2" fmla="val 79689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转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1" name=""/>
          <p:cNvGrpSpPr/>
          <p:nvPr/>
        </p:nvGrpSpPr>
        <p:grpSpPr>
          <a:xfrm>
            <a:off x="1247760" y="1295280"/>
            <a:ext cx="5994360" cy="4572000"/>
            <a:chOff x="1247760" y="1295280"/>
            <a:chExt cx="5994360" cy="4572000"/>
          </a:xfrm>
        </p:grpSpPr>
        <p:sp>
          <p:nvSpPr>
            <p:cNvPr id="3162" name=""/>
            <p:cNvSpPr/>
            <p:nvPr/>
          </p:nvSpPr>
          <p:spPr>
            <a:xfrm>
              <a:off x="2243160" y="5257800"/>
              <a:ext cx="193680" cy="3697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>
              <a:off x="2813040" y="5213520"/>
              <a:ext cx="193680" cy="4428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4" name=""/>
            <p:cNvGrpSpPr/>
            <p:nvPr/>
          </p:nvGrpSpPr>
          <p:grpSpPr>
            <a:xfrm>
              <a:off x="1247760" y="1295280"/>
              <a:ext cx="5994360" cy="4572000"/>
              <a:chOff x="1247760" y="1295280"/>
              <a:chExt cx="5994360" cy="4572000"/>
            </a:xfrm>
          </p:grpSpPr>
          <p:sp>
            <p:nvSpPr>
              <p:cNvPr id="3165" name=""/>
              <p:cNvSpPr/>
              <p:nvPr/>
            </p:nvSpPr>
            <p:spPr>
              <a:xfrm flipV="1">
                <a:off x="2666880" y="1388880"/>
                <a:ext cx="0" cy="1477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66" name=""/>
              <p:cNvGrpSpPr/>
              <p:nvPr/>
            </p:nvGrpSpPr>
            <p:grpSpPr>
              <a:xfrm>
                <a:off x="1247760" y="1295280"/>
                <a:ext cx="5994360" cy="4572000"/>
                <a:chOff x="1247760" y="1295280"/>
                <a:chExt cx="5994360" cy="4572000"/>
              </a:xfrm>
            </p:grpSpPr>
            <p:grpSp>
              <p:nvGrpSpPr>
                <p:cNvPr id="3167" name=""/>
                <p:cNvGrpSpPr/>
                <p:nvPr/>
              </p:nvGrpSpPr>
              <p:grpSpPr>
                <a:xfrm>
                  <a:off x="1247760" y="1295280"/>
                  <a:ext cx="5994360" cy="4361040"/>
                  <a:chOff x="1247760" y="1295280"/>
                  <a:chExt cx="5994360" cy="4361040"/>
                </a:xfrm>
              </p:grpSpPr>
              <p:grpSp>
                <p:nvGrpSpPr>
                  <p:cNvPr id="3168" name=""/>
                  <p:cNvGrpSpPr/>
                  <p:nvPr/>
                </p:nvGrpSpPr>
                <p:grpSpPr>
                  <a:xfrm>
                    <a:off x="1247760" y="3573000"/>
                    <a:ext cx="2004840" cy="563040"/>
                    <a:chOff x="1247760" y="3573000"/>
                    <a:chExt cx="2004840" cy="563040"/>
                  </a:xfrm>
                </p:grpSpPr>
                <p:grpSp>
                  <p:nvGrpSpPr>
                    <p:cNvPr id="3169" name=""/>
                    <p:cNvGrpSpPr/>
                    <p:nvPr/>
                  </p:nvGrpSpPr>
                  <p:grpSpPr>
                    <a:xfrm>
                      <a:off x="1965240" y="3573000"/>
                      <a:ext cx="1287360" cy="339480"/>
                      <a:chOff x="1965240" y="3573000"/>
                      <a:chExt cx="1287360" cy="339480"/>
                    </a:xfrm>
                  </p:grpSpPr>
                  <p:sp>
                    <p:nvSpPr>
                      <p:cNvPr id="3170" name=""/>
                      <p:cNvSpPr/>
                      <p:nvPr/>
                    </p:nvSpPr>
                    <p:spPr>
                      <a:xfrm flipV="1">
                        <a:off x="1965240" y="3573000"/>
                        <a:ext cx="378360" cy="339480"/>
                      </a:xfrm>
                      <a:prstGeom prst="line">
                        <a:avLst/>
                      </a:prstGeom>
                      <a:ln w="38160">
                        <a:solidFill>
                          <a:srgbClr val="ff33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1" name=""/>
                      <p:cNvSpPr/>
                      <p:nvPr/>
                    </p:nvSpPr>
                    <p:spPr>
                      <a:xfrm flipV="1">
                        <a:off x="2419560" y="3573000"/>
                        <a:ext cx="378360" cy="339480"/>
                      </a:xfrm>
                      <a:prstGeom prst="line">
                        <a:avLst/>
                      </a:prstGeom>
                      <a:ln w="38160">
                        <a:solidFill>
                          <a:srgbClr val="ff33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2" name=""/>
                      <p:cNvSpPr/>
                      <p:nvPr/>
                    </p:nvSpPr>
                    <p:spPr>
                      <a:xfrm flipV="1">
                        <a:off x="2874240" y="3573000"/>
                        <a:ext cx="378360" cy="339480"/>
                      </a:xfrm>
                      <a:prstGeom prst="line">
                        <a:avLst/>
                      </a:prstGeom>
                      <a:ln w="38160">
                        <a:solidFill>
                          <a:srgbClr val="ff33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173" name=""/>
                    <p:cNvSpPr/>
                    <p:nvPr/>
                  </p:nvSpPr>
                  <p:spPr>
                    <a:xfrm>
                      <a:off x="1247760" y="3615480"/>
                      <a:ext cx="7920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K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74" name=""/>
                  <p:cNvGrpSpPr/>
                  <p:nvPr/>
                </p:nvGrpSpPr>
                <p:grpSpPr>
                  <a:xfrm>
                    <a:off x="2209680" y="1295280"/>
                    <a:ext cx="5032440" cy="4361040"/>
                    <a:chOff x="2209680" y="1295280"/>
                    <a:chExt cx="5032440" cy="4361040"/>
                  </a:xfrm>
                </p:grpSpPr>
                <p:sp>
                  <p:nvSpPr>
                    <p:cNvPr id="3175" name=""/>
                    <p:cNvSpPr/>
                    <p:nvPr/>
                  </p:nvSpPr>
                  <p:spPr>
                    <a:xfrm flipV="1">
                      <a:off x="5562720" y="4435200"/>
                      <a:ext cx="0" cy="59364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6" name=""/>
                    <p:cNvSpPr/>
                    <p:nvPr/>
                  </p:nvSpPr>
                  <p:spPr>
                    <a:xfrm>
                      <a:off x="2209680" y="1295280"/>
                      <a:ext cx="0" cy="39909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77" name=""/>
                    <p:cNvGrpSpPr/>
                    <p:nvPr/>
                  </p:nvGrpSpPr>
                  <p:grpSpPr>
                    <a:xfrm>
                      <a:off x="2556000" y="1295280"/>
                      <a:ext cx="4686120" cy="4361040"/>
                      <a:chOff x="2556000" y="1295280"/>
                      <a:chExt cx="4686120" cy="4361040"/>
                    </a:xfrm>
                  </p:grpSpPr>
                  <p:sp>
                    <p:nvSpPr>
                      <p:cNvPr id="3178" name=""/>
                      <p:cNvSpPr/>
                      <p:nvPr/>
                    </p:nvSpPr>
                    <p:spPr>
                      <a:xfrm>
                        <a:off x="3675240" y="4419720"/>
                        <a:ext cx="35636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9" name=""/>
                      <p:cNvSpPr/>
                      <p:nvPr/>
                    </p:nvSpPr>
                    <p:spPr>
                      <a:xfrm>
                        <a:off x="5622840" y="4425840"/>
                        <a:ext cx="161928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0" name=""/>
                      <p:cNvSpPr/>
                      <p:nvPr/>
                    </p:nvSpPr>
                    <p:spPr>
                      <a:xfrm flipH="1" flipV="1">
                        <a:off x="4763880" y="4962600"/>
                        <a:ext cx="371160" cy="371520"/>
                      </a:xfrm>
                      <a:prstGeom prst="line">
                        <a:avLst/>
                      </a:prstGeom>
                      <a:ln w="38160">
                        <a:solidFill>
                          <a:srgbClr val="ff33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1" name=""/>
                      <p:cNvSpPr/>
                      <p:nvPr/>
                    </p:nvSpPr>
                    <p:spPr>
                      <a:xfrm>
                        <a:off x="3137040" y="3162240"/>
                        <a:ext cx="538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2" name=""/>
                      <p:cNvSpPr/>
                      <p:nvPr/>
                    </p:nvSpPr>
                    <p:spPr>
                      <a:xfrm>
                        <a:off x="3675240" y="3162240"/>
                        <a:ext cx="0" cy="125748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183" name=""/>
                      <p:cNvGrpSpPr/>
                      <p:nvPr/>
                    </p:nvGrpSpPr>
                    <p:grpSpPr>
                      <a:xfrm>
                        <a:off x="3124080" y="1371600"/>
                        <a:ext cx="563760" cy="3048120"/>
                        <a:chOff x="3124080" y="1371600"/>
                        <a:chExt cx="563760" cy="3048120"/>
                      </a:xfrm>
                    </p:grpSpPr>
                    <p:grpSp>
                      <p:nvGrpSpPr>
                        <p:cNvPr id="3184" name=""/>
                        <p:cNvGrpSpPr/>
                        <p:nvPr/>
                      </p:nvGrpSpPr>
                      <p:grpSpPr>
                        <a:xfrm>
                          <a:off x="3124080" y="1371600"/>
                          <a:ext cx="487440" cy="1784520"/>
                          <a:chOff x="3124080" y="1371600"/>
                          <a:chExt cx="487440" cy="1784520"/>
                        </a:xfrm>
                      </p:grpSpPr>
                      <p:sp>
                        <p:nvSpPr>
                          <p:cNvPr id="3185" name=""/>
                          <p:cNvSpPr/>
                          <p:nvPr/>
                        </p:nvSpPr>
                        <p:spPr>
                          <a:xfrm>
                            <a:off x="3124080" y="1371600"/>
                            <a:ext cx="0" cy="178452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ff0000"/>
                            </a:solidFill>
                            <a:prstDash val="dash"/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86" name=""/>
                          <p:cNvSpPr/>
                          <p:nvPr/>
                        </p:nvSpPr>
                        <p:spPr>
                          <a:xfrm>
                            <a:off x="3124080" y="3156120"/>
                            <a:ext cx="487440" cy="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ff0000"/>
                            </a:solidFill>
                            <a:prstDash val="dash"/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187" name=""/>
                        <p:cNvSpPr/>
                        <p:nvPr/>
                      </p:nvSpPr>
                      <p:spPr>
                        <a:xfrm>
                          <a:off x="3687840" y="3156120"/>
                          <a:ext cx="0" cy="12636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f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188" name=""/>
                      <p:cNvSpPr/>
                      <p:nvPr/>
                    </p:nvSpPr>
                    <p:spPr>
                      <a:xfrm>
                        <a:off x="3687840" y="4419720"/>
                        <a:ext cx="73188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9" name=""/>
                      <p:cNvSpPr/>
                      <p:nvPr/>
                    </p:nvSpPr>
                    <p:spPr>
                      <a:xfrm>
                        <a:off x="4495680" y="4468680"/>
                        <a:ext cx="0" cy="5940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0" name=""/>
                      <p:cNvSpPr/>
                      <p:nvPr/>
                    </p:nvSpPr>
                    <p:spPr>
                      <a:xfrm>
                        <a:off x="4543560" y="5062680"/>
                        <a:ext cx="10191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1" name=""/>
                      <p:cNvSpPr/>
                      <p:nvPr/>
                    </p:nvSpPr>
                    <p:spPr>
                      <a:xfrm flipV="1">
                        <a:off x="7238880" y="2866680"/>
                        <a:ext cx="0" cy="155268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2" name=""/>
                      <p:cNvSpPr/>
                      <p:nvPr/>
                    </p:nvSpPr>
                    <p:spPr>
                      <a:xfrm>
                        <a:off x="2666880" y="2867040"/>
                        <a:ext cx="45720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3" name=""/>
                      <p:cNvSpPr/>
                      <p:nvPr/>
                    </p:nvSpPr>
                    <p:spPr>
                      <a:xfrm>
                        <a:off x="3124080" y="1389240"/>
                        <a:ext cx="0" cy="17730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4" name=""/>
                      <p:cNvSpPr/>
                      <p:nvPr/>
                    </p:nvSpPr>
                    <p:spPr>
                      <a:xfrm>
                        <a:off x="2556000" y="1295280"/>
                        <a:ext cx="0" cy="436104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5" name=""/>
                      <p:cNvSpPr/>
                      <p:nvPr/>
                    </p:nvSpPr>
                    <p:spPr>
                      <a:xfrm>
                        <a:off x="3006720" y="1295280"/>
                        <a:ext cx="0" cy="391824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196" name=""/>
                <p:cNvSpPr/>
                <p:nvPr/>
              </p:nvSpPr>
              <p:spPr>
                <a:xfrm>
                  <a:off x="3124080" y="5410080"/>
                  <a:ext cx="1219320" cy="457200"/>
                </a:xfrm>
                <a:prstGeom prst="wedgeEllipseCallout">
                  <a:avLst>
                    <a:gd name="adj1" fmla="val 87240"/>
                    <a:gd name="adj2" fmla="val -112847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ff"/>
                      </a:solidFill>
                      <a:latin typeface="Times New Roman"/>
                    </a:rPr>
                    <a:t>自锁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97" name=""/>
          <p:cNvSpPr/>
          <p:nvPr/>
        </p:nvSpPr>
        <p:spPr>
          <a:xfrm>
            <a:off x="831240" y="966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停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8" name=""/>
          <p:cNvGrpSpPr/>
          <p:nvPr/>
        </p:nvGrpSpPr>
        <p:grpSpPr>
          <a:xfrm>
            <a:off x="3965040" y="1004760"/>
            <a:ext cx="4056840" cy="1434960"/>
            <a:chOff x="3965040" y="1004760"/>
            <a:chExt cx="4056840" cy="1434960"/>
          </a:xfrm>
        </p:grpSpPr>
        <p:sp>
          <p:nvSpPr>
            <p:cNvPr id="3199" name=""/>
            <p:cNvSpPr/>
            <p:nvPr/>
          </p:nvSpPr>
          <p:spPr>
            <a:xfrm>
              <a:off x="3965040" y="1004760"/>
              <a:ext cx="405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按下停止按钮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SB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  <a:ea typeface=""/>
                </a:rPr>
                <a:t>1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  <a:ea typeface="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线圈断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219920" y="1461960"/>
              <a:ext cx="366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主触点断开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动机停转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408920" y="1919160"/>
              <a:ext cx="343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助触点断开，取消自锁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2" name=""/>
          <p:cNvSpPr/>
          <p:nvPr/>
        </p:nvSpPr>
        <p:spPr>
          <a:xfrm flipH="1">
            <a:off x="3886200" y="4191120"/>
            <a:ext cx="380880" cy="3808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"/>
          <p:cNvSpPr/>
          <p:nvPr/>
        </p:nvSpPr>
        <p:spPr>
          <a:xfrm>
            <a:off x="964440" y="3340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控制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685800" y="5181480"/>
            <a:ext cx="1219320" cy="609840"/>
          </a:xfrm>
          <a:prstGeom prst="wedgeEllipseCallout">
            <a:avLst>
              <a:gd name="adj1" fmla="val 82680"/>
              <a:gd name="adj2" fmla="val 7968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转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831240" y="966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停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6" name=""/>
          <p:cNvGrpSpPr/>
          <p:nvPr/>
        </p:nvGrpSpPr>
        <p:grpSpPr>
          <a:xfrm>
            <a:off x="3965040" y="1004760"/>
            <a:ext cx="4056840" cy="1434960"/>
            <a:chOff x="3965040" y="1004760"/>
            <a:chExt cx="4056840" cy="1434960"/>
          </a:xfrm>
        </p:grpSpPr>
        <p:sp>
          <p:nvSpPr>
            <p:cNvPr id="3207" name=""/>
            <p:cNvSpPr/>
            <p:nvPr/>
          </p:nvSpPr>
          <p:spPr>
            <a:xfrm>
              <a:off x="3965040" y="1004760"/>
              <a:ext cx="405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按下停止按钮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SB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  <a:ea typeface=""/>
                </a:rPr>
                <a:t>1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  <a:ea typeface="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线圈断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4208760" y="1461960"/>
              <a:ext cx="366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主触点断开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动机停转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4408920" y="1919160"/>
              <a:ext cx="343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助触点断开，取消自锁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0" name=""/>
          <p:cNvSpPr/>
          <p:nvPr/>
        </p:nvSpPr>
        <p:spPr>
          <a:xfrm>
            <a:off x="685800" y="5181480"/>
            <a:ext cx="1219320" cy="609840"/>
          </a:xfrm>
          <a:prstGeom prst="wedgeEllipseCallout">
            <a:avLst>
              <a:gd name="adj1" fmla="val 82680"/>
              <a:gd name="adj2" fmla="val 79689"/>
            </a:avLst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停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1" name=""/>
          <p:cNvGrpSpPr/>
          <p:nvPr/>
        </p:nvGrpSpPr>
        <p:grpSpPr>
          <a:xfrm>
            <a:off x="676440" y="1143000"/>
            <a:ext cx="7277040" cy="5275080"/>
            <a:chOff x="676440" y="1143000"/>
            <a:chExt cx="7277040" cy="5275080"/>
          </a:xfrm>
        </p:grpSpPr>
        <p:sp>
          <p:nvSpPr>
            <p:cNvPr id="3212" name=""/>
            <p:cNvSpPr/>
            <p:nvPr/>
          </p:nvSpPr>
          <p:spPr>
            <a:xfrm>
              <a:off x="7169040" y="2863800"/>
              <a:ext cx="0" cy="144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6588000" y="2863800"/>
              <a:ext cx="58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098760" y="2743200"/>
              <a:ext cx="6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F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5799240" y="351936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6226200" y="2676240"/>
              <a:ext cx="363600" cy="18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459480" y="2593800"/>
              <a:ext cx="0" cy="184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8" name=""/>
            <p:cNvGrpSpPr/>
            <p:nvPr/>
          </p:nvGrpSpPr>
          <p:grpSpPr>
            <a:xfrm>
              <a:off x="6264360" y="2468160"/>
              <a:ext cx="387360" cy="122400"/>
              <a:chOff x="6264360" y="2468160"/>
              <a:chExt cx="387360" cy="122400"/>
            </a:xfrm>
          </p:grpSpPr>
          <p:sp>
            <p:nvSpPr>
              <p:cNvPr id="3219" name=""/>
              <p:cNvSpPr/>
              <p:nvPr/>
            </p:nvSpPr>
            <p:spPr>
              <a:xfrm>
                <a:off x="6264360" y="2468520"/>
                <a:ext cx="12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6392880" y="2468520"/>
                <a:ext cx="0" cy="12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6392880" y="2590560"/>
                <a:ext cx="12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 flipV="1">
                <a:off x="6521400" y="2468160"/>
                <a:ext cx="0" cy="12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6521400" y="246852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4" name=""/>
            <p:cNvSpPr/>
            <p:nvPr/>
          </p:nvSpPr>
          <p:spPr>
            <a:xfrm>
              <a:off x="6272280" y="2593800"/>
              <a:ext cx="0" cy="24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5" name=""/>
            <p:cNvGrpSpPr/>
            <p:nvPr/>
          </p:nvGrpSpPr>
          <p:grpSpPr>
            <a:xfrm>
              <a:off x="2493720" y="2268360"/>
              <a:ext cx="3772080" cy="2040120"/>
              <a:chOff x="2493720" y="2268360"/>
              <a:chExt cx="3772080" cy="2040120"/>
            </a:xfrm>
          </p:grpSpPr>
          <p:sp>
            <p:nvSpPr>
              <p:cNvPr id="3226" name=""/>
              <p:cNvSpPr/>
              <p:nvPr/>
            </p:nvSpPr>
            <p:spPr>
              <a:xfrm>
                <a:off x="3618000" y="3157560"/>
                <a:ext cx="0" cy="11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27" name=""/>
              <p:cNvGrpSpPr/>
              <p:nvPr/>
            </p:nvGrpSpPr>
            <p:grpSpPr>
              <a:xfrm>
                <a:off x="2493720" y="2268360"/>
                <a:ext cx="1124280" cy="1104120"/>
                <a:chOff x="2493720" y="2268360"/>
                <a:chExt cx="1124280" cy="1104120"/>
              </a:xfrm>
            </p:grpSpPr>
            <p:sp>
              <p:nvSpPr>
                <p:cNvPr id="3228" name=""/>
                <p:cNvSpPr/>
                <p:nvPr/>
              </p:nvSpPr>
              <p:spPr>
                <a:xfrm>
                  <a:off x="2493720" y="2268360"/>
                  <a:ext cx="3207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9" name=""/>
                <p:cNvGrpSpPr/>
                <p:nvPr/>
              </p:nvGrpSpPr>
              <p:grpSpPr>
                <a:xfrm>
                  <a:off x="2922480" y="2608200"/>
                  <a:ext cx="695520" cy="764280"/>
                  <a:chOff x="2922480" y="2608200"/>
                  <a:chExt cx="695520" cy="764280"/>
                </a:xfrm>
              </p:grpSpPr>
              <p:sp>
                <p:nvSpPr>
                  <p:cNvPr id="3230" name=""/>
                  <p:cNvSpPr/>
                  <p:nvPr/>
                </p:nvSpPr>
                <p:spPr>
                  <a:xfrm>
                    <a:off x="2922480" y="2608200"/>
                    <a:ext cx="32076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1" name=""/>
                  <p:cNvSpPr/>
                  <p:nvPr/>
                </p:nvSpPr>
                <p:spPr>
                  <a:xfrm>
                    <a:off x="3048120" y="3165480"/>
                    <a:ext cx="5698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2" name=""/>
              <p:cNvSpPr/>
              <p:nvPr/>
            </p:nvSpPr>
            <p:spPr>
              <a:xfrm>
                <a:off x="2649600" y="2840040"/>
                <a:ext cx="361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3" name=""/>
            <p:cNvGrpSpPr/>
            <p:nvPr/>
          </p:nvGrpSpPr>
          <p:grpSpPr>
            <a:xfrm>
              <a:off x="3618000" y="3687480"/>
              <a:ext cx="3550680" cy="1898640"/>
              <a:chOff x="3618000" y="3687480"/>
              <a:chExt cx="3550680" cy="1898640"/>
            </a:xfrm>
          </p:grpSpPr>
          <p:sp>
            <p:nvSpPr>
              <p:cNvPr id="3234" name=""/>
              <p:cNvSpPr/>
              <p:nvPr/>
            </p:nvSpPr>
            <p:spPr>
              <a:xfrm>
                <a:off x="4649400" y="5065560"/>
                <a:ext cx="79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K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4198680" y="4292280"/>
                <a:ext cx="58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3618000" y="4292280"/>
                <a:ext cx="321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 flipV="1">
                <a:off x="4736880" y="4292280"/>
                <a:ext cx="506160" cy="20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3882600" y="4074840"/>
                <a:ext cx="30780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3944520" y="4065480"/>
                <a:ext cx="0" cy="26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5232240" y="4292280"/>
                <a:ext cx="77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4457520" y="4254480"/>
                <a:ext cx="0" cy="79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2" name=""/>
              <p:cNvGrpSpPr/>
              <p:nvPr/>
            </p:nvGrpSpPr>
            <p:grpSpPr>
              <a:xfrm>
                <a:off x="4457520" y="5046480"/>
                <a:ext cx="1186560" cy="155520"/>
                <a:chOff x="4457520" y="5046480"/>
                <a:chExt cx="1186560" cy="155520"/>
              </a:xfrm>
            </p:grpSpPr>
            <p:sp>
              <p:nvSpPr>
                <p:cNvPr id="3243" name=""/>
                <p:cNvSpPr/>
                <p:nvPr/>
              </p:nvSpPr>
              <p:spPr>
                <a:xfrm>
                  <a:off x="4457520" y="5046480"/>
                  <a:ext cx="321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 flipV="1">
                  <a:off x="4738320" y="5046480"/>
                  <a:ext cx="443880" cy="155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>
                  <a:off x="5166360" y="5046480"/>
                  <a:ext cx="47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6" name=""/>
              <p:cNvSpPr/>
              <p:nvPr/>
            </p:nvSpPr>
            <p:spPr>
              <a:xfrm flipV="1">
                <a:off x="5619600" y="4254120"/>
                <a:ext cx="0" cy="79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6006960" y="4000320"/>
                <a:ext cx="402840" cy="6332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6394320" y="4292280"/>
                <a:ext cx="77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9" name=""/>
              <p:cNvGrpSpPr/>
              <p:nvPr/>
            </p:nvGrpSpPr>
            <p:grpSpPr>
              <a:xfrm>
                <a:off x="4926960" y="4328640"/>
                <a:ext cx="279360" cy="304560"/>
                <a:chOff x="4926960" y="4328640"/>
                <a:chExt cx="279360" cy="304560"/>
              </a:xfrm>
            </p:grpSpPr>
            <p:grpSp>
              <p:nvGrpSpPr>
                <p:cNvPr id="3250" name=""/>
                <p:cNvGrpSpPr/>
                <p:nvPr/>
              </p:nvGrpSpPr>
              <p:grpSpPr>
                <a:xfrm>
                  <a:off x="4926960" y="4328640"/>
                  <a:ext cx="279000" cy="284040"/>
                  <a:chOff x="4926960" y="4328640"/>
                  <a:chExt cx="279000" cy="284040"/>
                </a:xfrm>
              </p:grpSpPr>
              <p:sp>
                <p:nvSpPr>
                  <p:cNvPr id="3251" name=""/>
                  <p:cNvSpPr/>
                  <p:nvPr/>
                </p:nvSpPr>
                <p:spPr>
                  <a:xfrm flipV="1">
                    <a:off x="5055480" y="4328640"/>
                    <a:ext cx="0" cy="279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2" name=""/>
                  <p:cNvSpPr/>
                  <p:nvPr/>
                </p:nvSpPr>
                <p:spPr>
                  <a:xfrm flipH="1">
                    <a:off x="4926960" y="4612680"/>
                    <a:ext cx="2790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53" name=""/>
                <p:cNvGrpSpPr/>
                <p:nvPr/>
              </p:nvGrpSpPr>
              <p:grpSpPr>
                <a:xfrm>
                  <a:off x="4927320" y="4563360"/>
                  <a:ext cx="279000" cy="69840"/>
                  <a:chOff x="4927320" y="4563360"/>
                  <a:chExt cx="279000" cy="69840"/>
                </a:xfrm>
              </p:grpSpPr>
              <p:sp>
                <p:nvSpPr>
                  <p:cNvPr id="3254" name=""/>
                  <p:cNvSpPr/>
                  <p:nvPr/>
                </p:nvSpPr>
                <p:spPr>
                  <a:xfrm>
                    <a:off x="5206320" y="4563720"/>
                    <a:ext cx="0" cy="6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5" name=""/>
                  <p:cNvSpPr/>
                  <p:nvPr/>
                </p:nvSpPr>
                <p:spPr>
                  <a:xfrm flipV="1">
                    <a:off x="4927320" y="4563360"/>
                    <a:ext cx="0" cy="6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56" name=""/>
              <p:cNvGrpSpPr/>
              <p:nvPr/>
            </p:nvGrpSpPr>
            <p:grpSpPr>
              <a:xfrm>
                <a:off x="3939840" y="4241520"/>
                <a:ext cx="258480" cy="263520"/>
                <a:chOff x="3939840" y="4241520"/>
                <a:chExt cx="258480" cy="263520"/>
              </a:xfrm>
            </p:grpSpPr>
            <p:sp>
              <p:nvSpPr>
                <p:cNvPr id="3257" name=""/>
                <p:cNvSpPr/>
                <p:nvPr/>
              </p:nvSpPr>
              <p:spPr>
                <a:xfrm flipV="1">
                  <a:off x="4069080" y="4241520"/>
                  <a:ext cx="0" cy="259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>
                  <a:off x="3939840" y="4440240"/>
                  <a:ext cx="0" cy="64800"/>
                </a:xfrm>
                <a:prstGeom prst="line">
                  <a:avLst/>
                </a:prstGeom>
                <a:ln w="2844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>
                  <a:off x="3939840" y="4505040"/>
                  <a:ext cx="258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 flipV="1">
                  <a:off x="4198320" y="4440240"/>
                  <a:ext cx="0" cy="64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1" name=""/>
              <p:cNvSpPr/>
              <p:nvPr/>
            </p:nvSpPr>
            <p:spPr>
              <a:xfrm rot="6240600">
                <a:off x="5184360" y="4920480"/>
                <a:ext cx="81000" cy="117000"/>
              </a:xfrm>
              <a:custGeom>
                <a:avLst/>
                <a:gdLst/>
                <a:ahLst/>
                <a:rect l="l" t="t" r="r" b="b"/>
                <a:pathLst>
                  <a:path w="464" h="624">
                    <a:moveTo>
                      <a:pt x="272" y="0"/>
                    </a:moveTo>
                    <a:cubicBezTo>
                      <a:pt x="136" y="164"/>
                      <a:pt x="0" y="328"/>
                      <a:pt x="32" y="432"/>
                    </a:cubicBezTo>
                    <a:cubicBezTo>
                      <a:pt x="64" y="536"/>
                      <a:pt x="392" y="592"/>
                      <a:pt x="464" y="624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3867480" y="3687480"/>
                <a:ext cx="718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SB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  <a:ea typeface="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4713480" y="3757320"/>
                <a:ext cx="718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SB</a:t>
                </a:r>
                <a:r>
                  <a:rPr b="1" lang="en-US" sz="2800" spc="-1" strike="noStrike" baseline="-25000">
                    <a:solidFill>
                      <a:srgbClr val="0066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4314240" y="3747960"/>
                <a:ext cx="32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5458680" y="3747960"/>
                <a:ext cx="32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6" name=""/>
            <p:cNvSpPr/>
            <p:nvPr/>
          </p:nvSpPr>
          <p:spPr>
            <a:xfrm>
              <a:off x="7041600" y="2895480"/>
              <a:ext cx="911880" cy="144792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控制电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7" name=""/>
            <p:cNvGrpSpPr/>
            <p:nvPr/>
          </p:nvGrpSpPr>
          <p:grpSpPr>
            <a:xfrm>
              <a:off x="6324480" y="4647960"/>
              <a:ext cx="1219320" cy="533520"/>
              <a:chOff x="6324480" y="4647960"/>
              <a:chExt cx="1219320" cy="533520"/>
            </a:xfrm>
          </p:grpSpPr>
          <p:sp>
            <p:nvSpPr>
              <p:cNvPr id="3268" name=""/>
              <p:cNvSpPr/>
              <p:nvPr/>
            </p:nvSpPr>
            <p:spPr>
              <a:xfrm>
                <a:off x="6324480" y="4724280"/>
                <a:ext cx="1219320" cy="457200"/>
              </a:xfrm>
              <a:prstGeom prst="wedgeEllipseCallout">
                <a:avLst>
                  <a:gd name="adj1" fmla="val -50259"/>
                  <a:gd name="adj2" fmla="val -129513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6477120" y="464796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通电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0" name=""/>
            <p:cNvSpPr/>
            <p:nvPr/>
          </p:nvSpPr>
          <p:spPr>
            <a:xfrm>
              <a:off x="676440" y="3051000"/>
              <a:ext cx="542880" cy="119124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主电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289160" y="3790800"/>
              <a:ext cx="709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F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1266840" y="349704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2173320" y="5105160"/>
              <a:ext cx="212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325520" y="2128680"/>
              <a:ext cx="108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F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1420920" y="1569960"/>
              <a:ext cx="49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6" name=""/>
            <p:cNvGrpSpPr/>
            <p:nvPr/>
          </p:nvGrpSpPr>
          <p:grpSpPr>
            <a:xfrm>
              <a:off x="1947960" y="1143000"/>
              <a:ext cx="1206000" cy="5275080"/>
              <a:chOff x="1947960" y="1143000"/>
              <a:chExt cx="1206000" cy="5275080"/>
            </a:xfrm>
          </p:grpSpPr>
          <p:sp>
            <p:nvSpPr>
              <p:cNvPr id="3277" name=""/>
              <p:cNvSpPr/>
              <p:nvPr/>
            </p:nvSpPr>
            <p:spPr>
              <a:xfrm>
                <a:off x="1996920" y="1779480"/>
                <a:ext cx="905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2852640" y="1631880"/>
                <a:ext cx="22536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3078000" y="198108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0" name=""/>
              <p:cNvGrpSpPr/>
              <p:nvPr/>
            </p:nvGrpSpPr>
            <p:grpSpPr>
              <a:xfrm>
                <a:off x="1947960" y="1143000"/>
                <a:ext cx="1206000" cy="5275080"/>
                <a:chOff x="1947960" y="1143000"/>
                <a:chExt cx="1206000" cy="5275080"/>
              </a:xfrm>
            </p:grpSpPr>
            <p:sp>
              <p:nvSpPr>
                <p:cNvPr id="3281" name=""/>
                <p:cNvSpPr/>
                <p:nvPr/>
              </p:nvSpPr>
              <p:spPr>
                <a:xfrm>
                  <a:off x="2076480" y="5486400"/>
                  <a:ext cx="1006560" cy="931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2030400" y="4641840"/>
                  <a:ext cx="142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>
                  <a:off x="2173320" y="3809880"/>
                  <a:ext cx="0" cy="64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>
                  <a:off x="2030400" y="4432320"/>
                  <a:ext cx="142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2030400" y="4432320"/>
                  <a:ext cx="0" cy="209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>
                  <a:off x="2173320" y="4628880"/>
                  <a:ext cx="0" cy="552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>
                  <a:off x="2954160" y="4641840"/>
                  <a:ext cx="141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3095640" y="3809880"/>
                  <a:ext cx="0" cy="65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>
                  <a:off x="2954160" y="4432320"/>
                  <a:ext cx="128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>
                  <a:off x="2954160" y="4432320"/>
                  <a:ext cx="0" cy="209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3095640" y="4647960"/>
                  <a:ext cx="0" cy="497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2" name=""/>
                <p:cNvSpPr/>
                <p:nvPr/>
              </p:nvSpPr>
              <p:spPr>
                <a:xfrm>
                  <a:off x="2598840" y="3809880"/>
                  <a:ext cx="0" cy="1663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 flipH="1">
                  <a:off x="2850840" y="5105160"/>
                  <a:ext cx="24444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2309400" y="5881680"/>
                  <a:ext cx="543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3~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>
                  <a:off x="2315880" y="5486400"/>
                  <a:ext cx="515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6" name=""/>
                <p:cNvSpPr/>
                <p:nvPr/>
              </p:nvSpPr>
              <p:spPr>
                <a:xfrm>
                  <a:off x="2176560" y="1282680"/>
                  <a:ext cx="0" cy="419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2627280" y="1282680"/>
                  <a:ext cx="0" cy="419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98" name=""/>
                <p:cNvGrpSpPr/>
                <p:nvPr/>
              </p:nvGrpSpPr>
              <p:grpSpPr>
                <a:xfrm>
                  <a:off x="2160720" y="1143000"/>
                  <a:ext cx="950400" cy="125280"/>
                  <a:chOff x="2160720" y="1143000"/>
                  <a:chExt cx="950400" cy="125280"/>
                </a:xfrm>
              </p:grpSpPr>
              <p:sp>
                <p:nvSpPr>
                  <p:cNvPr id="3299" name=""/>
                  <p:cNvSpPr/>
                  <p:nvPr/>
                </p:nvSpPr>
                <p:spPr>
                  <a:xfrm>
                    <a:off x="2160720" y="1143000"/>
                    <a:ext cx="135720" cy="125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0" name=""/>
                  <p:cNvSpPr/>
                  <p:nvPr/>
                </p:nvSpPr>
                <p:spPr>
                  <a:xfrm>
                    <a:off x="2567880" y="1143000"/>
                    <a:ext cx="135720" cy="125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1" name=""/>
                  <p:cNvSpPr/>
                  <p:nvPr/>
                </p:nvSpPr>
                <p:spPr>
                  <a:xfrm>
                    <a:off x="2975400" y="1143000"/>
                    <a:ext cx="135720" cy="125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02" name=""/>
                <p:cNvSpPr/>
                <p:nvPr/>
              </p:nvSpPr>
              <p:spPr>
                <a:xfrm>
                  <a:off x="3078000" y="1282680"/>
                  <a:ext cx="0" cy="419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2401920" y="1631880"/>
                  <a:ext cx="225360" cy="349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4" name=""/>
                <p:cNvSpPr/>
                <p:nvPr/>
              </p:nvSpPr>
              <p:spPr>
                <a:xfrm>
                  <a:off x="2627280" y="1981080"/>
                  <a:ext cx="0" cy="144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5" name=""/>
                <p:cNvSpPr/>
                <p:nvPr/>
              </p:nvSpPr>
              <p:spPr>
                <a:xfrm>
                  <a:off x="1947960" y="1631880"/>
                  <a:ext cx="228600" cy="349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>
                  <a:off x="2176560" y="1981080"/>
                  <a:ext cx="0" cy="144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07" name=""/>
                <p:cNvGrpSpPr/>
                <p:nvPr/>
              </p:nvGrpSpPr>
              <p:grpSpPr>
                <a:xfrm>
                  <a:off x="2097360" y="3218400"/>
                  <a:ext cx="995760" cy="211680"/>
                  <a:chOff x="2097360" y="3218400"/>
                  <a:chExt cx="995760" cy="211680"/>
                </a:xfrm>
              </p:grpSpPr>
              <p:sp>
                <p:nvSpPr>
                  <p:cNvPr id="3308" name=""/>
                  <p:cNvSpPr/>
                  <p:nvPr/>
                </p:nvSpPr>
                <p:spPr>
                  <a:xfrm rot="10883400">
                    <a:off x="3003480" y="3219480"/>
                    <a:ext cx="8712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816">
                        <a:moveTo>
                          <a:pt x="0" y="0"/>
                        </a:moveTo>
                        <a:cubicBezTo>
                          <a:pt x="284" y="100"/>
                          <a:pt x="568" y="200"/>
                          <a:pt x="576" y="336"/>
                        </a:cubicBezTo>
                        <a:cubicBezTo>
                          <a:pt x="584" y="472"/>
                          <a:pt x="316" y="644"/>
                          <a:pt x="48" y="816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9" name=""/>
                  <p:cNvSpPr/>
                  <p:nvPr/>
                </p:nvSpPr>
                <p:spPr>
                  <a:xfrm rot="10883400">
                    <a:off x="2551680" y="3219480"/>
                    <a:ext cx="8712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816">
                        <a:moveTo>
                          <a:pt x="0" y="0"/>
                        </a:moveTo>
                        <a:cubicBezTo>
                          <a:pt x="284" y="100"/>
                          <a:pt x="568" y="200"/>
                          <a:pt x="576" y="336"/>
                        </a:cubicBezTo>
                        <a:cubicBezTo>
                          <a:pt x="584" y="472"/>
                          <a:pt x="316" y="644"/>
                          <a:pt x="48" y="816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0" name=""/>
                  <p:cNvSpPr/>
                  <p:nvPr/>
                </p:nvSpPr>
                <p:spPr>
                  <a:xfrm rot="10883400">
                    <a:off x="2099880" y="3219480"/>
                    <a:ext cx="867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816">
                        <a:moveTo>
                          <a:pt x="0" y="0"/>
                        </a:moveTo>
                        <a:cubicBezTo>
                          <a:pt x="284" y="100"/>
                          <a:pt x="568" y="200"/>
                          <a:pt x="576" y="336"/>
                        </a:cubicBezTo>
                        <a:cubicBezTo>
                          <a:pt x="584" y="472"/>
                          <a:pt x="316" y="644"/>
                          <a:pt x="48" y="816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11" name=""/>
                <p:cNvGrpSpPr/>
                <p:nvPr/>
              </p:nvGrpSpPr>
              <p:grpSpPr>
                <a:xfrm>
                  <a:off x="2100240" y="2192040"/>
                  <a:ext cx="1053720" cy="393840"/>
                  <a:chOff x="2100240" y="2192040"/>
                  <a:chExt cx="1053720" cy="393840"/>
                </a:xfrm>
              </p:grpSpPr>
              <p:sp>
                <p:nvSpPr>
                  <p:cNvPr id="3312" name=""/>
                  <p:cNvSpPr/>
                  <p:nvPr/>
                </p:nvSpPr>
                <p:spPr>
                  <a:xfrm>
                    <a:off x="3003480" y="2192040"/>
                    <a:ext cx="150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3" name=""/>
                  <p:cNvSpPr/>
                  <p:nvPr/>
                </p:nvSpPr>
                <p:spPr>
                  <a:xfrm>
                    <a:off x="3153960" y="2192040"/>
                    <a:ext cx="0" cy="393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4" name=""/>
                  <p:cNvSpPr/>
                  <p:nvPr/>
                </p:nvSpPr>
                <p:spPr>
                  <a:xfrm>
                    <a:off x="3003480" y="2585880"/>
                    <a:ext cx="150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5" name=""/>
                  <p:cNvSpPr/>
                  <p:nvPr/>
                </p:nvSpPr>
                <p:spPr>
                  <a:xfrm>
                    <a:off x="3003480" y="2192040"/>
                    <a:ext cx="0" cy="393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6" name=""/>
                  <p:cNvSpPr/>
                  <p:nvPr/>
                </p:nvSpPr>
                <p:spPr>
                  <a:xfrm>
                    <a:off x="2551680" y="2192040"/>
                    <a:ext cx="150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7" name=""/>
                  <p:cNvSpPr/>
                  <p:nvPr/>
                </p:nvSpPr>
                <p:spPr>
                  <a:xfrm>
                    <a:off x="2702520" y="2192040"/>
                    <a:ext cx="0" cy="393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8" name=""/>
                  <p:cNvSpPr/>
                  <p:nvPr/>
                </p:nvSpPr>
                <p:spPr>
                  <a:xfrm>
                    <a:off x="2572200" y="2585880"/>
                    <a:ext cx="1299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9" name=""/>
                  <p:cNvSpPr/>
                  <p:nvPr/>
                </p:nvSpPr>
                <p:spPr>
                  <a:xfrm>
                    <a:off x="2551680" y="2192040"/>
                    <a:ext cx="0" cy="393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0" name=""/>
                  <p:cNvSpPr/>
                  <p:nvPr/>
                </p:nvSpPr>
                <p:spPr>
                  <a:xfrm>
                    <a:off x="2100240" y="2192040"/>
                    <a:ext cx="150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1" name=""/>
                  <p:cNvSpPr/>
                  <p:nvPr/>
                </p:nvSpPr>
                <p:spPr>
                  <a:xfrm>
                    <a:off x="2250720" y="2192040"/>
                    <a:ext cx="0" cy="393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2" name=""/>
                  <p:cNvSpPr/>
                  <p:nvPr/>
                </p:nvSpPr>
                <p:spPr>
                  <a:xfrm>
                    <a:off x="2100240" y="2585880"/>
                    <a:ext cx="150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3" name=""/>
                  <p:cNvSpPr/>
                  <p:nvPr/>
                </p:nvSpPr>
                <p:spPr>
                  <a:xfrm>
                    <a:off x="2100240" y="2192040"/>
                    <a:ext cx="0" cy="393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4" name=""/>
                <p:cNvGrpSpPr/>
                <p:nvPr/>
              </p:nvGrpSpPr>
              <p:grpSpPr>
                <a:xfrm>
                  <a:off x="1974960" y="3463920"/>
                  <a:ext cx="1134720" cy="349200"/>
                  <a:chOff x="1974960" y="3463920"/>
                  <a:chExt cx="1134720" cy="349200"/>
                </a:xfrm>
              </p:grpSpPr>
              <p:sp>
                <p:nvSpPr>
                  <p:cNvPr id="3325" name=""/>
                  <p:cNvSpPr/>
                  <p:nvPr/>
                </p:nvSpPr>
                <p:spPr>
                  <a:xfrm>
                    <a:off x="1974960" y="3463920"/>
                    <a:ext cx="212760" cy="349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6" name=""/>
                  <p:cNvSpPr/>
                  <p:nvPr/>
                </p:nvSpPr>
                <p:spPr>
                  <a:xfrm>
                    <a:off x="2896920" y="3463920"/>
                    <a:ext cx="212760" cy="349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7" name=""/>
                  <p:cNvSpPr/>
                  <p:nvPr/>
                </p:nvSpPr>
                <p:spPr>
                  <a:xfrm>
                    <a:off x="2400480" y="3463920"/>
                    <a:ext cx="212760" cy="349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8" name=""/>
                  <p:cNvSpPr/>
                  <p:nvPr/>
                </p:nvSpPr>
                <p:spPr>
                  <a:xfrm>
                    <a:off x="2003760" y="3616200"/>
                    <a:ext cx="938160" cy="0"/>
                  </a:xfrm>
                  <a:prstGeom prst="line">
                    <a:avLst/>
                  </a:prstGeom>
                  <a:ln cap="rnd" w="2844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329" name=""/>
            <p:cNvGrpSpPr/>
            <p:nvPr/>
          </p:nvGrpSpPr>
          <p:grpSpPr>
            <a:xfrm>
              <a:off x="1881360" y="1644120"/>
              <a:ext cx="1256760" cy="297000"/>
              <a:chOff x="1881360" y="1644120"/>
              <a:chExt cx="1256760" cy="297000"/>
            </a:xfrm>
          </p:grpSpPr>
          <p:sp>
            <p:nvSpPr>
              <p:cNvPr id="3330" name=""/>
              <p:cNvSpPr/>
              <p:nvPr/>
            </p:nvSpPr>
            <p:spPr>
              <a:xfrm flipV="1">
                <a:off x="1881360" y="1644120"/>
                <a:ext cx="369360" cy="297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 flipV="1">
                <a:off x="2324880" y="1644120"/>
                <a:ext cx="369360" cy="297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 flipV="1">
                <a:off x="2768760" y="1644120"/>
                <a:ext cx="369360" cy="297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3" name=""/>
            <p:cNvSpPr/>
            <p:nvPr/>
          </p:nvSpPr>
          <p:spPr>
            <a:xfrm>
              <a:off x="1430640" y="15627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6324480" y="4724280"/>
              <a:ext cx="1219320" cy="457200"/>
            </a:xfrm>
            <a:prstGeom prst="wedgeEllipseCallout">
              <a:avLst>
                <a:gd name="adj1" fmla="val -51824"/>
                <a:gd name="adj2" fmla="val -129513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断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 flipH="1">
              <a:off x="3886200" y="4114800"/>
              <a:ext cx="38088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1297080" y="33526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7" name=""/>
          <p:cNvSpPr/>
          <p:nvPr/>
        </p:nvSpPr>
        <p:spPr>
          <a:xfrm>
            <a:off x="5638680" y="5340240"/>
            <a:ext cx="3124440" cy="947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去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KM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辅助触点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实现点动控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既能长期工作又能点动的控制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533520" y="111132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按下起动按钮，电动机运转，松开起动按钮 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动机停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533520" y="3976560"/>
            <a:ext cx="35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点动按钮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作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1965240" y="48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609480" y="4419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接触器线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电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线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能自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3" name=""/>
          <p:cNvGrpSpPr/>
          <p:nvPr/>
        </p:nvGrpSpPr>
        <p:grpSpPr>
          <a:xfrm>
            <a:off x="3657600" y="1676520"/>
            <a:ext cx="4824360" cy="3619440"/>
            <a:chOff x="3657600" y="1676520"/>
            <a:chExt cx="4824360" cy="3619440"/>
          </a:xfrm>
        </p:grpSpPr>
        <p:grpSp>
          <p:nvGrpSpPr>
            <p:cNvPr id="3344" name=""/>
            <p:cNvGrpSpPr/>
            <p:nvPr/>
          </p:nvGrpSpPr>
          <p:grpSpPr>
            <a:xfrm>
              <a:off x="7616520" y="1878120"/>
              <a:ext cx="357120" cy="118800"/>
              <a:chOff x="7616520" y="1878120"/>
              <a:chExt cx="357120" cy="118800"/>
            </a:xfrm>
          </p:grpSpPr>
          <p:sp>
            <p:nvSpPr>
              <p:cNvPr id="3345" name=""/>
              <p:cNvSpPr/>
              <p:nvPr/>
            </p:nvSpPr>
            <p:spPr>
              <a:xfrm flipH="1">
                <a:off x="7616520" y="1878120"/>
                <a:ext cx="1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7736040" y="1878120"/>
                <a:ext cx="0" cy="11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 flipH="1">
                <a:off x="7736040" y="1996920"/>
                <a:ext cx="1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 flipV="1">
                <a:off x="7854840" y="1878120"/>
                <a:ext cx="0" cy="11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>
                <a:off x="7854840" y="1878120"/>
                <a:ext cx="1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0" name=""/>
            <p:cNvSpPr/>
            <p:nvPr/>
          </p:nvSpPr>
          <p:spPr>
            <a:xfrm>
              <a:off x="5987880" y="41911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5519160" y="283068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7016400" y="1676520"/>
              <a:ext cx="6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7283520" y="262404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5014800" y="3432240"/>
              <a:ext cx="0" cy="76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5014800" y="4195800"/>
              <a:ext cx="0" cy="75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125240" y="259092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3871800" y="2293920"/>
              <a:ext cx="374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7508880" y="3081240"/>
              <a:ext cx="415800" cy="654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7924680" y="3378240"/>
              <a:ext cx="55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448840" y="2293920"/>
              <a:ext cx="0" cy="109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 flipH="1" flipV="1">
              <a:off x="7554600" y="2118960"/>
              <a:ext cx="36972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7913520" y="229392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7794720" y="204624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7618320" y="20923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095880" y="337824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4648320" y="337824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3886200" y="337824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 flipH="1" flipV="1">
              <a:off x="4191120" y="3114360"/>
              <a:ext cx="45720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4267080" y="3112920"/>
              <a:ext cx="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0" name=""/>
            <p:cNvGrpSpPr/>
            <p:nvPr/>
          </p:nvGrpSpPr>
          <p:grpSpPr>
            <a:xfrm>
              <a:off x="4303800" y="3276720"/>
              <a:ext cx="304560" cy="393480"/>
              <a:chOff x="4303800" y="3276720"/>
              <a:chExt cx="304560" cy="393480"/>
            </a:xfrm>
          </p:grpSpPr>
          <p:grpSp>
            <p:nvGrpSpPr>
              <p:cNvPr id="3371" name=""/>
              <p:cNvGrpSpPr/>
              <p:nvPr/>
            </p:nvGrpSpPr>
            <p:grpSpPr>
              <a:xfrm>
                <a:off x="4303800" y="3581640"/>
                <a:ext cx="304560" cy="88560"/>
                <a:chOff x="4303800" y="3581640"/>
                <a:chExt cx="304560" cy="88560"/>
              </a:xfrm>
            </p:grpSpPr>
            <p:sp>
              <p:nvSpPr>
                <p:cNvPr id="3372" name=""/>
                <p:cNvSpPr/>
                <p:nvPr/>
              </p:nvSpPr>
              <p:spPr>
                <a:xfrm>
                  <a:off x="4303800" y="3582000"/>
                  <a:ext cx="0" cy="88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>
                  <a:off x="4303800" y="3669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4" name=""/>
                <p:cNvSpPr/>
                <p:nvPr/>
              </p:nvSpPr>
              <p:spPr>
                <a:xfrm flipV="1">
                  <a:off x="4608360" y="3581640"/>
                  <a:ext cx="0" cy="88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75" name=""/>
              <p:cNvSpPr/>
              <p:nvPr/>
            </p:nvSpPr>
            <p:spPr>
              <a:xfrm flipV="1">
                <a:off x="4464000" y="3276720"/>
                <a:ext cx="0" cy="38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6" name=""/>
            <p:cNvSpPr/>
            <p:nvPr/>
          </p:nvSpPr>
          <p:spPr>
            <a:xfrm flipV="1">
              <a:off x="6832440" y="3432240"/>
              <a:ext cx="0" cy="152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6041880" y="4957920"/>
              <a:ext cx="81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5029200" y="4957920"/>
              <a:ext cx="59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 flipV="1">
              <a:off x="5626080" y="4952880"/>
              <a:ext cx="415800" cy="17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0" name=""/>
            <p:cNvGrpSpPr/>
            <p:nvPr/>
          </p:nvGrpSpPr>
          <p:grpSpPr>
            <a:xfrm>
              <a:off x="5718240" y="5019480"/>
              <a:ext cx="280800" cy="276480"/>
              <a:chOff x="5718240" y="5019480"/>
              <a:chExt cx="280800" cy="276480"/>
            </a:xfrm>
          </p:grpSpPr>
          <p:grpSp>
            <p:nvGrpSpPr>
              <p:cNvPr id="3381" name=""/>
              <p:cNvGrpSpPr/>
              <p:nvPr/>
            </p:nvGrpSpPr>
            <p:grpSpPr>
              <a:xfrm>
                <a:off x="5718240" y="5221080"/>
                <a:ext cx="280800" cy="74880"/>
                <a:chOff x="5718240" y="5221080"/>
                <a:chExt cx="280800" cy="74880"/>
              </a:xfrm>
            </p:grpSpPr>
            <p:sp>
              <p:nvSpPr>
                <p:cNvPr id="3382" name=""/>
                <p:cNvSpPr/>
                <p:nvPr/>
              </p:nvSpPr>
              <p:spPr>
                <a:xfrm>
                  <a:off x="5718240" y="5221440"/>
                  <a:ext cx="0" cy="74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3" name=""/>
                <p:cNvSpPr/>
                <p:nvPr/>
              </p:nvSpPr>
              <p:spPr>
                <a:xfrm>
                  <a:off x="5718240" y="5295600"/>
                  <a:ext cx="280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 flipV="1">
                  <a:off x="5999040" y="5221080"/>
                  <a:ext cx="0" cy="74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5" name=""/>
              <p:cNvSpPr/>
              <p:nvPr/>
            </p:nvSpPr>
            <p:spPr>
              <a:xfrm flipV="1">
                <a:off x="5864400" y="5019480"/>
                <a:ext cx="0" cy="26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6" name=""/>
            <p:cNvGrpSpPr/>
            <p:nvPr/>
          </p:nvGrpSpPr>
          <p:grpSpPr>
            <a:xfrm>
              <a:off x="5641920" y="3390840"/>
              <a:ext cx="453960" cy="377640"/>
              <a:chOff x="5641920" y="3390840"/>
              <a:chExt cx="453960" cy="377640"/>
            </a:xfrm>
          </p:grpSpPr>
          <p:grpSp>
            <p:nvGrpSpPr>
              <p:cNvPr id="3387" name=""/>
              <p:cNvGrpSpPr/>
              <p:nvPr/>
            </p:nvGrpSpPr>
            <p:grpSpPr>
              <a:xfrm>
                <a:off x="5763960" y="3703680"/>
                <a:ext cx="260640" cy="64800"/>
                <a:chOff x="5763960" y="3703680"/>
                <a:chExt cx="260640" cy="64800"/>
              </a:xfrm>
            </p:grpSpPr>
            <p:sp>
              <p:nvSpPr>
                <p:cNvPr id="3388" name=""/>
                <p:cNvSpPr/>
                <p:nvPr/>
              </p:nvSpPr>
              <p:spPr>
                <a:xfrm>
                  <a:off x="5763960" y="3703680"/>
                  <a:ext cx="0" cy="64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9" name=""/>
                <p:cNvSpPr/>
                <p:nvPr/>
              </p:nvSpPr>
              <p:spPr>
                <a:xfrm>
                  <a:off x="5763960" y="3768480"/>
                  <a:ext cx="260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0" name=""/>
                <p:cNvSpPr/>
                <p:nvPr/>
              </p:nvSpPr>
              <p:spPr>
                <a:xfrm flipV="1">
                  <a:off x="6024600" y="3703680"/>
                  <a:ext cx="0" cy="64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91" name=""/>
              <p:cNvSpPr/>
              <p:nvPr/>
            </p:nvSpPr>
            <p:spPr>
              <a:xfrm flipV="1">
                <a:off x="5641920" y="3390840"/>
                <a:ext cx="453960" cy="19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 flipV="1">
                <a:off x="5894280" y="3507840"/>
                <a:ext cx="0" cy="26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3" name=""/>
            <p:cNvSpPr/>
            <p:nvPr/>
          </p:nvSpPr>
          <p:spPr>
            <a:xfrm>
              <a:off x="3753000" y="2233440"/>
              <a:ext cx="118800" cy="119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3753000" y="3319560"/>
              <a:ext cx="118800" cy="118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3657600" y="2554200"/>
              <a:ext cx="35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5115960" y="350532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4983120" y="3355920"/>
              <a:ext cx="73080" cy="73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6784920" y="3355920"/>
              <a:ext cx="73080" cy="73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9" name=""/>
            <p:cNvGrpSpPr/>
            <p:nvPr/>
          </p:nvGrpSpPr>
          <p:grpSpPr>
            <a:xfrm>
              <a:off x="4979880" y="3905280"/>
              <a:ext cx="1878120" cy="556920"/>
              <a:chOff x="4979880" y="3905280"/>
              <a:chExt cx="1878120" cy="556920"/>
            </a:xfrm>
          </p:grpSpPr>
          <p:sp>
            <p:nvSpPr>
              <p:cNvPr id="3400" name=""/>
              <p:cNvSpPr/>
              <p:nvPr/>
            </p:nvSpPr>
            <p:spPr>
              <a:xfrm>
                <a:off x="4979880" y="4132080"/>
                <a:ext cx="73080" cy="748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6784920" y="4132080"/>
                <a:ext cx="73080" cy="748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5029200" y="417024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3" name=""/>
              <p:cNvGrpSpPr/>
              <p:nvPr/>
            </p:nvGrpSpPr>
            <p:grpSpPr>
              <a:xfrm>
                <a:off x="5334120" y="3905280"/>
                <a:ext cx="380880" cy="556920"/>
                <a:chOff x="5334120" y="3905280"/>
                <a:chExt cx="380880" cy="556920"/>
              </a:xfrm>
            </p:grpSpPr>
            <p:sp>
              <p:nvSpPr>
                <p:cNvPr id="3404" name=""/>
                <p:cNvSpPr/>
                <p:nvPr/>
              </p:nvSpPr>
              <p:spPr>
                <a:xfrm flipH="1" flipV="1">
                  <a:off x="5334120" y="3952440"/>
                  <a:ext cx="38088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>
                  <a:off x="5410080" y="3905280"/>
                  <a:ext cx="0" cy="29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6" name=""/>
                <p:cNvGrpSpPr/>
                <p:nvPr/>
              </p:nvGrpSpPr>
              <p:grpSpPr>
                <a:xfrm>
                  <a:off x="5370480" y="4068360"/>
                  <a:ext cx="304200" cy="393840"/>
                  <a:chOff x="5370480" y="4068360"/>
                  <a:chExt cx="304200" cy="393840"/>
                </a:xfrm>
              </p:grpSpPr>
              <p:grpSp>
                <p:nvGrpSpPr>
                  <p:cNvPr id="3407" name=""/>
                  <p:cNvGrpSpPr/>
                  <p:nvPr/>
                </p:nvGrpSpPr>
                <p:grpSpPr>
                  <a:xfrm>
                    <a:off x="5370480" y="4373640"/>
                    <a:ext cx="304200" cy="88560"/>
                    <a:chOff x="5370480" y="4373640"/>
                    <a:chExt cx="304200" cy="88560"/>
                  </a:xfrm>
                </p:grpSpPr>
                <p:sp>
                  <p:nvSpPr>
                    <p:cNvPr id="3408" name=""/>
                    <p:cNvSpPr/>
                    <p:nvPr/>
                  </p:nvSpPr>
                  <p:spPr>
                    <a:xfrm>
                      <a:off x="5370480" y="4373640"/>
                      <a:ext cx="0" cy="88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9" name=""/>
                    <p:cNvSpPr/>
                    <p:nvPr/>
                  </p:nvSpPr>
                  <p:spPr>
                    <a:xfrm>
                      <a:off x="5370480" y="4462200"/>
                      <a:ext cx="3042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0" name=""/>
                    <p:cNvSpPr/>
                    <p:nvPr/>
                  </p:nvSpPr>
                  <p:spPr>
                    <a:xfrm flipV="1">
                      <a:off x="5674680" y="4373640"/>
                      <a:ext cx="0" cy="88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11" name=""/>
                  <p:cNvSpPr/>
                  <p:nvPr/>
                </p:nvSpPr>
                <p:spPr>
                  <a:xfrm flipV="1">
                    <a:off x="5530320" y="4068360"/>
                    <a:ext cx="0" cy="389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12" name=""/>
              <p:cNvSpPr/>
              <p:nvPr/>
            </p:nvSpPr>
            <p:spPr>
              <a:xfrm>
                <a:off x="6502320" y="4172040"/>
                <a:ext cx="35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5715000" y="4170240"/>
                <a:ext cx="48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 flipH="1">
                <a:off x="6197760" y="4172040"/>
                <a:ext cx="304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5" name=""/>
            <p:cNvSpPr/>
            <p:nvPr/>
          </p:nvSpPr>
          <p:spPr>
            <a:xfrm>
              <a:off x="5486400" y="44956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6" name=""/>
          <p:cNvSpPr/>
          <p:nvPr/>
        </p:nvSpPr>
        <p:spPr>
          <a:xfrm>
            <a:off x="6553080" y="5410080"/>
            <a:ext cx="1600200" cy="685800"/>
          </a:xfrm>
          <a:prstGeom prst="wedgeEllipseCallout">
            <a:avLst>
              <a:gd name="adj1" fmla="val -91370"/>
              <a:gd name="adj2" fmla="val -10162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复合按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既能长期工作又能点动的控制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8" name=""/>
          <p:cNvGrpSpPr/>
          <p:nvPr/>
        </p:nvGrpSpPr>
        <p:grpSpPr>
          <a:xfrm>
            <a:off x="2160720" y="1600200"/>
            <a:ext cx="4824360" cy="3619440"/>
            <a:chOff x="2160720" y="1600200"/>
            <a:chExt cx="4824360" cy="3619440"/>
          </a:xfrm>
        </p:grpSpPr>
        <p:grpSp>
          <p:nvGrpSpPr>
            <p:cNvPr id="3419" name=""/>
            <p:cNvGrpSpPr/>
            <p:nvPr/>
          </p:nvGrpSpPr>
          <p:grpSpPr>
            <a:xfrm>
              <a:off x="6119640" y="1801800"/>
              <a:ext cx="357120" cy="118800"/>
              <a:chOff x="6119640" y="1801800"/>
              <a:chExt cx="357120" cy="118800"/>
            </a:xfrm>
          </p:grpSpPr>
          <p:sp>
            <p:nvSpPr>
              <p:cNvPr id="3420" name=""/>
              <p:cNvSpPr/>
              <p:nvPr/>
            </p:nvSpPr>
            <p:spPr>
              <a:xfrm flipH="1">
                <a:off x="6119640" y="1801800"/>
                <a:ext cx="1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6239160" y="1801800"/>
                <a:ext cx="0" cy="11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 flipH="1">
                <a:off x="6239160" y="1920600"/>
                <a:ext cx="1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 flipV="1">
                <a:off x="6357960" y="1801800"/>
                <a:ext cx="0" cy="11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 flipH="1">
                <a:off x="6357960" y="1801800"/>
                <a:ext cx="1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5" name=""/>
            <p:cNvSpPr/>
            <p:nvPr/>
          </p:nvSpPr>
          <p:spPr>
            <a:xfrm>
              <a:off x="4491000" y="411480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022280" y="275436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519520" y="1600200"/>
              <a:ext cx="6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786640" y="25477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3517920" y="3355920"/>
              <a:ext cx="0" cy="76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3517920" y="4119480"/>
              <a:ext cx="0" cy="75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2628360" y="251460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2374920" y="2217600"/>
              <a:ext cx="374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012000" y="3004920"/>
              <a:ext cx="415800" cy="654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427800" y="3301920"/>
              <a:ext cx="55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951960" y="2217600"/>
              <a:ext cx="0" cy="109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 flipH="1" flipV="1">
              <a:off x="6057720" y="2042640"/>
              <a:ext cx="36972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6416640" y="221760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6297840" y="19699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6121440" y="20160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4599000" y="33019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151440" y="330192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2389320" y="3301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 flipH="1" flipV="1">
              <a:off x="2694240" y="3038040"/>
              <a:ext cx="45720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2770200" y="3036600"/>
              <a:ext cx="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5" name=""/>
            <p:cNvGrpSpPr/>
            <p:nvPr/>
          </p:nvGrpSpPr>
          <p:grpSpPr>
            <a:xfrm>
              <a:off x="2806920" y="3200400"/>
              <a:ext cx="304560" cy="393480"/>
              <a:chOff x="2806920" y="3200400"/>
              <a:chExt cx="304560" cy="393480"/>
            </a:xfrm>
          </p:grpSpPr>
          <p:grpSp>
            <p:nvGrpSpPr>
              <p:cNvPr id="3446" name=""/>
              <p:cNvGrpSpPr/>
              <p:nvPr/>
            </p:nvGrpSpPr>
            <p:grpSpPr>
              <a:xfrm>
                <a:off x="2806920" y="3505320"/>
                <a:ext cx="304560" cy="88560"/>
                <a:chOff x="2806920" y="3505320"/>
                <a:chExt cx="304560" cy="88560"/>
              </a:xfrm>
            </p:grpSpPr>
            <p:sp>
              <p:nvSpPr>
                <p:cNvPr id="3447" name=""/>
                <p:cNvSpPr/>
                <p:nvPr/>
              </p:nvSpPr>
              <p:spPr>
                <a:xfrm>
                  <a:off x="2806920" y="3505680"/>
                  <a:ext cx="0" cy="88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>
                  <a:off x="2806920" y="3593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 flipV="1">
                  <a:off x="3111480" y="3505320"/>
                  <a:ext cx="0" cy="88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50" name=""/>
              <p:cNvSpPr/>
              <p:nvPr/>
            </p:nvSpPr>
            <p:spPr>
              <a:xfrm flipV="1">
                <a:off x="2967120" y="3200400"/>
                <a:ext cx="0" cy="38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1" name=""/>
            <p:cNvSpPr/>
            <p:nvPr/>
          </p:nvSpPr>
          <p:spPr>
            <a:xfrm flipV="1">
              <a:off x="5335560" y="3355920"/>
              <a:ext cx="0" cy="152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4545000" y="4881600"/>
              <a:ext cx="81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3532320" y="4881600"/>
              <a:ext cx="59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 flipV="1">
              <a:off x="4129200" y="4876560"/>
              <a:ext cx="415800" cy="17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5" name=""/>
            <p:cNvGrpSpPr/>
            <p:nvPr/>
          </p:nvGrpSpPr>
          <p:grpSpPr>
            <a:xfrm>
              <a:off x="4221360" y="4943160"/>
              <a:ext cx="280800" cy="276480"/>
              <a:chOff x="4221360" y="4943160"/>
              <a:chExt cx="280800" cy="276480"/>
            </a:xfrm>
          </p:grpSpPr>
          <p:grpSp>
            <p:nvGrpSpPr>
              <p:cNvPr id="3456" name=""/>
              <p:cNvGrpSpPr/>
              <p:nvPr/>
            </p:nvGrpSpPr>
            <p:grpSpPr>
              <a:xfrm>
                <a:off x="4221360" y="5144760"/>
                <a:ext cx="280800" cy="74880"/>
                <a:chOff x="4221360" y="5144760"/>
                <a:chExt cx="280800" cy="74880"/>
              </a:xfrm>
            </p:grpSpPr>
            <p:sp>
              <p:nvSpPr>
                <p:cNvPr id="3457" name=""/>
                <p:cNvSpPr/>
                <p:nvPr/>
              </p:nvSpPr>
              <p:spPr>
                <a:xfrm>
                  <a:off x="4221360" y="5145120"/>
                  <a:ext cx="0" cy="74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4221360" y="5219280"/>
                  <a:ext cx="280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 flipV="1">
                  <a:off x="4502160" y="5144760"/>
                  <a:ext cx="0" cy="74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0" name=""/>
              <p:cNvSpPr/>
              <p:nvPr/>
            </p:nvSpPr>
            <p:spPr>
              <a:xfrm flipV="1">
                <a:off x="4367520" y="4943160"/>
                <a:ext cx="0" cy="26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1" name=""/>
            <p:cNvGrpSpPr/>
            <p:nvPr/>
          </p:nvGrpSpPr>
          <p:grpSpPr>
            <a:xfrm>
              <a:off x="4145040" y="3314520"/>
              <a:ext cx="453960" cy="377640"/>
              <a:chOff x="4145040" y="3314520"/>
              <a:chExt cx="453960" cy="377640"/>
            </a:xfrm>
          </p:grpSpPr>
          <p:grpSp>
            <p:nvGrpSpPr>
              <p:cNvPr id="3462" name=""/>
              <p:cNvGrpSpPr/>
              <p:nvPr/>
            </p:nvGrpSpPr>
            <p:grpSpPr>
              <a:xfrm>
                <a:off x="4267080" y="3627360"/>
                <a:ext cx="260640" cy="64800"/>
                <a:chOff x="4267080" y="3627360"/>
                <a:chExt cx="260640" cy="64800"/>
              </a:xfrm>
            </p:grpSpPr>
            <p:sp>
              <p:nvSpPr>
                <p:cNvPr id="3463" name=""/>
                <p:cNvSpPr/>
                <p:nvPr/>
              </p:nvSpPr>
              <p:spPr>
                <a:xfrm>
                  <a:off x="4267080" y="3627360"/>
                  <a:ext cx="0" cy="64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4267080" y="3692160"/>
                  <a:ext cx="260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 flipV="1">
                  <a:off x="4527720" y="3627360"/>
                  <a:ext cx="0" cy="64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6" name=""/>
              <p:cNvSpPr/>
              <p:nvPr/>
            </p:nvSpPr>
            <p:spPr>
              <a:xfrm flipV="1">
                <a:off x="4145040" y="3314520"/>
                <a:ext cx="453960" cy="19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 flipV="1">
                <a:off x="4397400" y="3431520"/>
                <a:ext cx="0" cy="26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8" name=""/>
            <p:cNvSpPr/>
            <p:nvPr/>
          </p:nvSpPr>
          <p:spPr>
            <a:xfrm>
              <a:off x="2256120" y="2157120"/>
              <a:ext cx="118800" cy="119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2256120" y="3243240"/>
              <a:ext cx="118800" cy="118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2160720" y="2477880"/>
              <a:ext cx="35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3619080" y="342900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3486240" y="3279600"/>
              <a:ext cx="73080" cy="73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5288040" y="3279600"/>
              <a:ext cx="73080" cy="73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4" name=""/>
            <p:cNvGrpSpPr/>
            <p:nvPr/>
          </p:nvGrpSpPr>
          <p:grpSpPr>
            <a:xfrm>
              <a:off x="3483000" y="3828960"/>
              <a:ext cx="1878120" cy="556920"/>
              <a:chOff x="3483000" y="3828960"/>
              <a:chExt cx="1878120" cy="556920"/>
            </a:xfrm>
          </p:grpSpPr>
          <p:sp>
            <p:nvSpPr>
              <p:cNvPr id="3475" name=""/>
              <p:cNvSpPr/>
              <p:nvPr/>
            </p:nvSpPr>
            <p:spPr>
              <a:xfrm>
                <a:off x="3483000" y="4055760"/>
                <a:ext cx="73080" cy="748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5288040" y="4055760"/>
                <a:ext cx="73080" cy="748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3532320" y="40939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8" name=""/>
              <p:cNvGrpSpPr/>
              <p:nvPr/>
            </p:nvGrpSpPr>
            <p:grpSpPr>
              <a:xfrm>
                <a:off x="3837240" y="3828960"/>
                <a:ext cx="380880" cy="556920"/>
                <a:chOff x="3837240" y="3828960"/>
                <a:chExt cx="380880" cy="556920"/>
              </a:xfrm>
            </p:grpSpPr>
            <p:sp>
              <p:nvSpPr>
                <p:cNvPr id="3479" name=""/>
                <p:cNvSpPr/>
                <p:nvPr/>
              </p:nvSpPr>
              <p:spPr>
                <a:xfrm flipH="1" flipV="1">
                  <a:off x="3837240" y="3876120"/>
                  <a:ext cx="38088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3913200" y="3828960"/>
                  <a:ext cx="0" cy="29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1" name=""/>
                <p:cNvGrpSpPr/>
                <p:nvPr/>
              </p:nvGrpSpPr>
              <p:grpSpPr>
                <a:xfrm>
                  <a:off x="3873600" y="3992040"/>
                  <a:ext cx="304200" cy="393840"/>
                  <a:chOff x="3873600" y="3992040"/>
                  <a:chExt cx="304200" cy="393840"/>
                </a:xfrm>
              </p:grpSpPr>
              <p:grpSp>
                <p:nvGrpSpPr>
                  <p:cNvPr id="3482" name=""/>
                  <p:cNvGrpSpPr/>
                  <p:nvPr/>
                </p:nvGrpSpPr>
                <p:grpSpPr>
                  <a:xfrm>
                    <a:off x="3873600" y="4297320"/>
                    <a:ext cx="304200" cy="88560"/>
                    <a:chOff x="3873600" y="4297320"/>
                    <a:chExt cx="304200" cy="88560"/>
                  </a:xfrm>
                </p:grpSpPr>
                <p:sp>
                  <p:nvSpPr>
                    <p:cNvPr id="3483" name=""/>
                    <p:cNvSpPr/>
                    <p:nvPr/>
                  </p:nvSpPr>
                  <p:spPr>
                    <a:xfrm>
                      <a:off x="3873600" y="4297320"/>
                      <a:ext cx="0" cy="88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4" name=""/>
                    <p:cNvSpPr/>
                    <p:nvPr/>
                  </p:nvSpPr>
                  <p:spPr>
                    <a:xfrm>
                      <a:off x="3873600" y="4385880"/>
                      <a:ext cx="3042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5" name=""/>
                    <p:cNvSpPr/>
                    <p:nvPr/>
                  </p:nvSpPr>
                  <p:spPr>
                    <a:xfrm flipV="1">
                      <a:off x="4177800" y="4297320"/>
                      <a:ext cx="0" cy="88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86" name=""/>
                  <p:cNvSpPr/>
                  <p:nvPr/>
                </p:nvSpPr>
                <p:spPr>
                  <a:xfrm flipV="1">
                    <a:off x="4033440" y="3992040"/>
                    <a:ext cx="0" cy="389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87" name=""/>
              <p:cNvSpPr/>
              <p:nvPr/>
            </p:nvSpPr>
            <p:spPr>
              <a:xfrm>
                <a:off x="5005440" y="4095720"/>
                <a:ext cx="35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4218120" y="4093920"/>
                <a:ext cx="48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 flipH="1">
                <a:off x="4700880" y="4095720"/>
                <a:ext cx="304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0" name=""/>
            <p:cNvSpPr/>
            <p:nvPr/>
          </p:nvSpPr>
          <p:spPr>
            <a:xfrm>
              <a:off x="3989520" y="441936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1" name=""/>
          <p:cNvSpPr/>
          <p:nvPr/>
        </p:nvSpPr>
        <p:spPr>
          <a:xfrm>
            <a:off x="2743200" y="5410080"/>
            <a:ext cx="1219320" cy="533520"/>
          </a:xfrm>
          <a:prstGeom prst="wedgeRoundRectCallout">
            <a:avLst>
              <a:gd name="adj1" fmla="val 75000"/>
              <a:gd name="adj2" fmla="val -139583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后闭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1828800" y="4572000"/>
            <a:ext cx="1219320" cy="533520"/>
          </a:xfrm>
          <a:prstGeom prst="wedgeRoundRectCallout">
            <a:avLst>
              <a:gd name="adj1" fmla="val 108074"/>
              <a:gd name="adj2" fmla="val -138689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先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2327400" y="3389400"/>
            <a:ext cx="10760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3403440" y="342900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 flipV="1">
            <a:off x="5424480" y="339228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5460840" y="338940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 flipV="1">
            <a:off x="7061040" y="21337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2413080" y="2133720"/>
            <a:ext cx="46479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405520" y="1090440"/>
            <a:ext cx="123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5715000" y="4572000"/>
            <a:ext cx="914400" cy="533520"/>
          </a:xfrm>
          <a:prstGeom prst="wedgeRoundRectCallout">
            <a:avLst>
              <a:gd name="adj1" fmla="val -134550"/>
              <a:gd name="adj2" fmla="val -120236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闭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3962520" y="1212840"/>
            <a:ext cx="685800" cy="258840"/>
          </a:xfrm>
          <a:prstGeom prst="rightArrow">
            <a:avLst>
              <a:gd name="adj1" fmla="val 50000"/>
              <a:gd name="adj2" fmla="val 66238"/>
            </a:avLst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lin ang="108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5018400" y="1066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机运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979920" y="1066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点动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4768200" y="53341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自锁触点不起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3479760" y="4994280"/>
            <a:ext cx="19810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 flipV="1">
            <a:off x="3886200" y="3885840"/>
            <a:ext cx="304920" cy="304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 flipH="1" flipV="1">
            <a:off x="4191120" y="472392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6019920" y="3006720"/>
            <a:ext cx="425160" cy="647640"/>
          </a:xfrm>
          <a:prstGeom prst="rect">
            <a:avLst/>
          </a:prstGeom>
          <a:solidFill>
            <a:srgbClr val="ff5d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6629400" y="3809880"/>
            <a:ext cx="914400" cy="533520"/>
          </a:xfrm>
          <a:prstGeom prst="wedgeRoundRectCallout">
            <a:avLst>
              <a:gd name="adj1" fmla="val -90800"/>
              <a:gd name="adj2" fmla="val -124106"/>
              <a:gd name="adj3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通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0" name=""/>
          <p:cNvGrpSpPr/>
          <p:nvPr/>
        </p:nvGrpSpPr>
        <p:grpSpPr>
          <a:xfrm>
            <a:off x="2160720" y="1905120"/>
            <a:ext cx="4824360" cy="3619440"/>
            <a:chOff x="2160720" y="1905120"/>
            <a:chExt cx="4824360" cy="3619440"/>
          </a:xfrm>
        </p:grpSpPr>
        <p:grpSp>
          <p:nvGrpSpPr>
            <p:cNvPr id="3511" name=""/>
            <p:cNvGrpSpPr/>
            <p:nvPr/>
          </p:nvGrpSpPr>
          <p:grpSpPr>
            <a:xfrm>
              <a:off x="6119640" y="2106720"/>
              <a:ext cx="357120" cy="118800"/>
              <a:chOff x="6119640" y="2106720"/>
              <a:chExt cx="357120" cy="118800"/>
            </a:xfrm>
          </p:grpSpPr>
          <p:sp>
            <p:nvSpPr>
              <p:cNvPr id="3512" name=""/>
              <p:cNvSpPr/>
              <p:nvPr/>
            </p:nvSpPr>
            <p:spPr>
              <a:xfrm flipH="1">
                <a:off x="6119640" y="2106720"/>
                <a:ext cx="1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6239160" y="2106720"/>
                <a:ext cx="0" cy="11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 flipH="1">
                <a:off x="6239160" y="2225520"/>
                <a:ext cx="1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 flipV="1">
                <a:off x="6357960" y="2106720"/>
                <a:ext cx="0" cy="11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 flipH="1">
                <a:off x="6357960" y="2106720"/>
                <a:ext cx="1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7" name=""/>
            <p:cNvSpPr/>
            <p:nvPr/>
          </p:nvSpPr>
          <p:spPr>
            <a:xfrm>
              <a:off x="4491000" y="44197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4022280" y="305928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5519520" y="1905120"/>
              <a:ext cx="6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5786640" y="285264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3517920" y="3660840"/>
              <a:ext cx="0" cy="76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3517920" y="4424400"/>
              <a:ext cx="0" cy="75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2628360" y="281952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2374920" y="2522520"/>
              <a:ext cx="374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6012000" y="3309840"/>
              <a:ext cx="415800" cy="654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6427800" y="3606840"/>
              <a:ext cx="55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6951960" y="2522520"/>
              <a:ext cx="0" cy="109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 flipH="1" flipV="1">
              <a:off x="6057720" y="2347560"/>
              <a:ext cx="36972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6416640" y="252252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6297840" y="227484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121440" y="23209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599000" y="360684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3151440" y="360684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2389320" y="360684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 flipH="1" flipV="1">
              <a:off x="2694240" y="3342960"/>
              <a:ext cx="45720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2770200" y="3341520"/>
              <a:ext cx="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7" name=""/>
            <p:cNvGrpSpPr/>
            <p:nvPr/>
          </p:nvGrpSpPr>
          <p:grpSpPr>
            <a:xfrm>
              <a:off x="2806920" y="3505320"/>
              <a:ext cx="304560" cy="393480"/>
              <a:chOff x="2806920" y="3505320"/>
              <a:chExt cx="304560" cy="393480"/>
            </a:xfrm>
          </p:grpSpPr>
          <p:grpSp>
            <p:nvGrpSpPr>
              <p:cNvPr id="3538" name=""/>
              <p:cNvGrpSpPr/>
              <p:nvPr/>
            </p:nvGrpSpPr>
            <p:grpSpPr>
              <a:xfrm>
                <a:off x="2806920" y="3810240"/>
                <a:ext cx="304560" cy="88560"/>
                <a:chOff x="2806920" y="3810240"/>
                <a:chExt cx="304560" cy="88560"/>
              </a:xfrm>
            </p:grpSpPr>
            <p:sp>
              <p:nvSpPr>
                <p:cNvPr id="3539" name=""/>
                <p:cNvSpPr/>
                <p:nvPr/>
              </p:nvSpPr>
              <p:spPr>
                <a:xfrm>
                  <a:off x="2806920" y="3810600"/>
                  <a:ext cx="0" cy="88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0" name=""/>
                <p:cNvSpPr/>
                <p:nvPr/>
              </p:nvSpPr>
              <p:spPr>
                <a:xfrm>
                  <a:off x="2806920" y="38984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1" name=""/>
                <p:cNvSpPr/>
                <p:nvPr/>
              </p:nvSpPr>
              <p:spPr>
                <a:xfrm flipV="1">
                  <a:off x="3111480" y="3810240"/>
                  <a:ext cx="0" cy="88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2" name=""/>
              <p:cNvSpPr/>
              <p:nvPr/>
            </p:nvSpPr>
            <p:spPr>
              <a:xfrm flipV="1">
                <a:off x="2967120" y="3505320"/>
                <a:ext cx="0" cy="38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3" name=""/>
            <p:cNvSpPr/>
            <p:nvPr/>
          </p:nvSpPr>
          <p:spPr>
            <a:xfrm flipV="1">
              <a:off x="5335560" y="3660840"/>
              <a:ext cx="0" cy="152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545000" y="5186520"/>
              <a:ext cx="81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3532320" y="5186520"/>
              <a:ext cx="59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V="1">
              <a:off x="4129200" y="5181480"/>
              <a:ext cx="415800" cy="17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7" name=""/>
            <p:cNvGrpSpPr/>
            <p:nvPr/>
          </p:nvGrpSpPr>
          <p:grpSpPr>
            <a:xfrm>
              <a:off x="4221360" y="5248080"/>
              <a:ext cx="280800" cy="276480"/>
              <a:chOff x="4221360" y="5248080"/>
              <a:chExt cx="280800" cy="276480"/>
            </a:xfrm>
          </p:grpSpPr>
          <p:grpSp>
            <p:nvGrpSpPr>
              <p:cNvPr id="3548" name=""/>
              <p:cNvGrpSpPr/>
              <p:nvPr/>
            </p:nvGrpSpPr>
            <p:grpSpPr>
              <a:xfrm>
                <a:off x="4221360" y="5449680"/>
                <a:ext cx="280800" cy="74880"/>
                <a:chOff x="4221360" y="5449680"/>
                <a:chExt cx="280800" cy="74880"/>
              </a:xfrm>
            </p:grpSpPr>
            <p:sp>
              <p:nvSpPr>
                <p:cNvPr id="3549" name=""/>
                <p:cNvSpPr/>
                <p:nvPr/>
              </p:nvSpPr>
              <p:spPr>
                <a:xfrm>
                  <a:off x="4221360" y="5450040"/>
                  <a:ext cx="0" cy="74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0" name=""/>
                <p:cNvSpPr/>
                <p:nvPr/>
              </p:nvSpPr>
              <p:spPr>
                <a:xfrm>
                  <a:off x="4221360" y="5524200"/>
                  <a:ext cx="280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1" name=""/>
                <p:cNvSpPr/>
                <p:nvPr/>
              </p:nvSpPr>
              <p:spPr>
                <a:xfrm flipV="1">
                  <a:off x="4502160" y="5449680"/>
                  <a:ext cx="0" cy="74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52" name=""/>
              <p:cNvSpPr/>
              <p:nvPr/>
            </p:nvSpPr>
            <p:spPr>
              <a:xfrm flipV="1">
                <a:off x="4367520" y="5248080"/>
                <a:ext cx="0" cy="26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3" name=""/>
            <p:cNvGrpSpPr/>
            <p:nvPr/>
          </p:nvGrpSpPr>
          <p:grpSpPr>
            <a:xfrm>
              <a:off x="4145040" y="3619440"/>
              <a:ext cx="453960" cy="377640"/>
              <a:chOff x="4145040" y="3619440"/>
              <a:chExt cx="453960" cy="377640"/>
            </a:xfrm>
          </p:grpSpPr>
          <p:grpSp>
            <p:nvGrpSpPr>
              <p:cNvPr id="3554" name=""/>
              <p:cNvGrpSpPr/>
              <p:nvPr/>
            </p:nvGrpSpPr>
            <p:grpSpPr>
              <a:xfrm>
                <a:off x="4267080" y="3932280"/>
                <a:ext cx="260640" cy="64800"/>
                <a:chOff x="4267080" y="3932280"/>
                <a:chExt cx="260640" cy="64800"/>
              </a:xfrm>
            </p:grpSpPr>
            <p:sp>
              <p:nvSpPr>
                <p:cNvPr id="3555" name=""/>
                <p:cNvSpPr/>
                <p:nvPr/>
              </p:nvSpPr>
              <p:spPr>
                <a:xfrm>
                  <a:off x="4267080" y="3932280"/>
                  <a:ext cx="0" cy="64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6" name=""/>
                <p:cNvSpPr/>
                <p:nvPr/>
              </p:nvSpPr>
              <p:spPr>
                <a:xfrm>
                  <a:off x="4267080" y="3997080"/>
                  <a:ext cx="260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7" name=""/>
                <p:cNvSpPr/>
                <p:nvPr/>
              </p:nvSpPr>
              <p:spPr>
                <a:xfrm flipV="1">
                  <a:off x="4527720" y="3932280"/>
                  <a:ext cx="0" cy="64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58" name=""/>
              <p:cNvSpPr/>
              <p:nvPr/>
            </p:nvSpPr>
            <p:spPr>
              <a:xfrm flipV="1">
                <a:off x="4145040" y="3619440"/>
                <a:ext cx="453960" cy="19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 flipV="1">
                <a:off x="4397400" y="3736440"/>
                <a:ext cx="0" cy="26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0" name=""/>
            <p:cNvSpPr/>
            <p:nvPr/>
          </p:nvSpPr>
          <p:spPr>
            <a:xfrm>
              <a:off x="2256120" y="2462040"/>
              <a:ext cx="118800" cy="119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2256120" y="3548160"/>
              <a:ext cx="118800" cy="118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2160720" y="2782800"/>
              <a:ext cx="35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3619080" y="373392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3486240" y="3584520"/>
              <a:ext cx="73080" cy="73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5288040" y="3584520"/>
              <a:ext cx="73080" cy="73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6" name=""/>
            <p:cNvGrpSpPr/>
            <p:nvPr/>
          </p:nvGrpSpPr>
          <p:grpSpPr>
            <a:xfrm>
              <a:off x="3483000" y="4133880"/>
              <a:ext cx="1878120" cy="556920"/>
              <a:chOff x="3483000" y="4133880"/>
              <a:chExt cx="1878120" cy="556920"/>
            </a:xfrm>
          </p:grpSpPr>
          <p:sp>
            <p:nvSpPr>
              <p:cNvPr id="3567" name=""/>
              <p:cNvSpPr/>
              <p:nvPr/>
            </p:nvSpPr>
            <p:spPr>
              <a:xfrm>
                <a:off x="3483000" y="4360680"/>
                <a:ext cx="73080" cy="748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5288040" y="4360680"/>
                <a:ext cx="73080" cy="748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3532320" y="439884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70" name=""/>
              <p:cNvGrpSpPr/>
              <p:nvPr/>
            </p:nvGrpSpPr>
            <p:grpSpPr>
              <a:xfrm>
                <a:off x="3837240" y="4133880"/>
                <a:ext cx="380880" cy="556920"/>
                <a:chOff x="3837240" y="4133880"/>
                <a:chExt cx="380880" cy="556920"/>
              </a:xfrm>
            </p:grpSpPr>
            <p:sp>
              <p:nvSpPr>
                <p:cNvPr id="3571" name=""/>
                <p:cNvSpPr/>
                <p:nvPr/>
              </p:nvSpPr>
              <p:spPr>
                <a:xfrm flipH="1" flipV="1">
                  <a:off x="3837240" y="4181040"/>
                  <a:ext cx="38088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2" name=""/>
                <p:cNvSpPr/>
                <p:nvPr/>
              </p:nvSpPr>
              <p:spPr>
                <a:xfrm>
                  <a:off x="3913200" y="4133880"/>
                  <a:ext cx="0" cy="29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73" name=""/>
                <p:cNvGrpSpPr/>
                <p:nvPr/>
              </p:nvGrpSpPr>
              <p:grpSpPr>
                <a:xfrm>
                  <a:off x="3873600" y="4296960"/>
                  <a:ext cx="304200" cy="393840"/>
                  <a:chOff x="3873600" y="4296960"/>
                  <a:chExt cx="304200" cy="393840"/>
                </a:xfrm>
              </p:grpSpPr>
              <p:grpSp>
                <p:nvGrpSpPr>
                  <p:cNvPr id="3574" name=""/>
                  <p:cNvGrpSpPr/>
                  <p:nvPr/>
                </p:nvGrpSpPr>
                <p:grpSpPr>
                  <a:xfrm>
                    <a:off x="3873600" y="4602240"/>
                    <a:ext cx="304200" cy="88560"/>
                    <a:chOff x="3873600" y="4602240"/>
                    <a:chExt cx="304200" cy="88560"/>
                  </a:xfrm>
                </p:grpSpPr>
                <p:sp>
                  <p:nvSpPr>
                    <p:cNvPr id="3575" name=""/>
                    <p:cNvSpPr/>
                    <p:nvPr/>
                  </p:nvSpPr>
                  <p:spPr>
                    <a:xfrm>
                      <a:off x="3873600" y="4602240"/>
                      <a:ext cx="0" cy="88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6" name=""/>
                    <p:cNvSpPr/>
                    <p:nvPr/>
                  </p:nvSpPr>
                  <p:spPr>
                    <a:xfrm>
                      <a:off x="3873600" y="4690800"/>
                      <a:ext cx="3042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7" name=""/>
                    <p:cNvSpPr/>
                    <p:nvPr/>
                  </p:nvSpPr>
                  <p:spPr>
                    <a:xfrm flipV="1">
                      <a:off x="4177800" y="4602240"/>
                      <a:ext cx="0" cy="88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78" name=""/>
                  <p:cNvSpPr/>
                  <p:nvPr/>
                </p:nvSpPr>
                <p:spPr>
                  <a:xfrm flipV="1">
                    <a:off x="4033440" y="4296960"/>
                    <a:ext cx="0" cy="389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79" name=""/>
              <p:cNvSpPr/>
              <p:nvPr/>
            </p:nvSpPr>
            <p:spPr>
              <a:xfrm>
                <a:off x="5005440" y="4400640"/>
                <a:ext cx="35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4218120" y="4398840"/>
                <a:ext cx="48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 flipH="1">
                <a:off x="4700880" y="4400640"/>
                <a:ext cx="304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2" name=""/>
            <p:cNvSpPr/>
            <p:nvPr/>
          </p:nvSpPr>
          <p:spPr>
            <a:xfrm>
              <a:off x="3989520" y="47242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3" name=""/>
          <p:cNvGrpSpPr/>
          <p:nvPr/>
        </p:nvGrpSpPr>
        <p:grpSpPr>
          <a:xfrm>
            <a:off x="2327400" y="2437920"/>
            <a:ext cx="4733640" cy="2896200"/>
            <a:chOff x="2327400" y="2437920"/>
            <a:chExt cx="4733640" cy="2896200"/>
          </a:xfrm>
        </p:grpSpPr>
        <p:sp>
          <p:nvSpPr>
            <p:cNvPr id="3584" name=""/>
            <p:cNvSpPr/>
            <p:nvPr/>
          </p:nvSpPr>
          <p:spPr>
            <a:xfrm>
              <a:off x="2327400" y="3693960"/>
              <a:ext cx="10760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3403440" y="3733920"/>
              <a:ext cx="0" cy="1600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 flipV="1">
              <a:off x="5424480" y="3696840"/>
              <a:ext cx="0" cy="1600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460840" y="369396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 flipV="1">
              <a:off x="7061040" y="2437920"/>
              <a:ext cx="0" cy="12193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2413080" y="2438280"/>
              <a:ext cx="46479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479760" y="5299200"/>
              <a:ext cx="19810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1" name=""/>
          <p:cNvGrpSpPr/>
          <p:nvPr/>
        </p:nvGrpSpPr>
        <p:grpSpPr>
          <a:xfrm>
            <a:off x="3886200" y="4190760"/>
            <a:ext cx="609480" cy="1143000"/>
            <a:chOff x="3886200" y="4190760"/>
            <a:chExt cx="609480" cy="1143000"/>
          </a:xfrm>
        </p:grpSpPr>
        <p:sp>
          <p:nvSpPr>
            <p:cNvPr id="3592" name=""/>
            <p:cNvSpPr/>
            <p:nvPr/>
          </p:nvSpPr>
          <p:spPr>
            <a:xfrm flipV="1">
              <a:off x="3886200" y="4190760"/>
              <a:ext cx="304920" cy="304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H="1" flipV="1">
              <a:off x="4191120" y="5028840"/>
              <a:ext cx="3045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4" name=""/>
          <p:cNvSpPr/>
          <p:nvPr/>
        </p:nvSpPr>
        <p:spPr>
          <a:xfrm>
            <a:off x="6019920" y="3311640"/>
            <a:ext cx="425160" cy="647640"/>
          </a:xfrm>
          <a:prstGeom prst="rect">
            <a:avLst/>
          </a:prstGeom>
          <a:solidFill>
            <a:srgbClr val="ff5d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2819520" y="5715000"/>
            <a:ext cx="1218960" cy="533520"/>
          </a:xfrm>
          <a:prstGeom prst="wedgeRoundRectCallout">
            <a:avLst>
              <a:gd name="adj1" fmla="val 75000"/>
              <a:gd name="adj2" fmla="val -153870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先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2057400" y="4876920"/>
            <a:ext cx="1219320" cy="533160"/>
          </a:xfrm>
          <a:prstGeom prst="wedgeRoundRectCallout">
            <a:avLst>
              <a:gd name="adj1" fmla="val 108074"/>
              <a:gd name="adj2" fmla="val -152976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后闭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5715000" y="4876920"/>
            <a:ext cx="914400" cy="533160"/>
          </a:xfrm>
          <a:prstGeom prst="wedgeRoundRectCallout">
            <a:avLst>
              <a:gd name="adj1" fmla="val -134550"/>
              <a:gd name="adj2" fmla="val -134523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6019920" y="3314880"/>
            <a:ext cx="425160" cy="647640"/>
          </a:xfrm>
          <a:prstGeom prst="rect">
            <a:avLst/>
          </a:prstGeom>
          <a:solidFill>
            <a:srgbClr val="e0eff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6629400" y="4191120"/>
            <a:ext cx="914400" cy="533160"/>
          </a:xfrm>
          <a:prstGeom prst="wedgeRoundRectCallout">
            <a:avLst>
              <a:gd name="adj1" fmla="val -90800"/>
              <a:gd name="adj2" fmla="val -138393"/>
              <a:gd name="adj3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断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PlaceHolder 1"/>
          <p:cNvSpPr>
            <a:spLocks noGrp="1"/>
          </p:cNvSpPr>
          <p:nvPr>
            <p:ph type="subTitle"/>
          </p:nvPr>
        </p:nvSpPr>
        <p:spPr>
          <a:xfrm>
            <a:off x="533520" y="5335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既能长期工作又能点动的控制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533520" y="4572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1235520" y="1233360"/>
            <a:ext cx="123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松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既能长期工作又能点动的控制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4" name=""/>
          <p:cNvGrpSpPr/>
          <p:nvPr/>
        </p:nvGrpSpPr>
        <p:grpSpPr>
          <a:xfrm>
            <a:off x="2236680" y="2133720"/>
            <a:ext cx="4824360" cy="3619440"/>
            <a:chOff x="2236680" y="2133720"/>
            <a:chExt cx="4824360" cy="3619440"/>
          </a:xfrm>
        </p:grpSpPr>
        <p:grpSp>
          <p:nvGrpSpPr>
            <p:cNvPr id="3605" name=""/>
            <p:cNvGrpSpPr/>
            <p:nvPr/>
          </p:nvGrpSpPr>
          <p:grpSpPr>
            <a:xfrm>
              <a:off x="6195600" y="2335320"/>
              <a:ext cx="357120" cy="118800"/>
              <a:chOff x="6195600" y="2335320"/>
              <a:chExt cx="357120" cy="118800"/>
            </a:xfrm>
          </p:grpSpPr>
          <p:sp>
            <p:nvSpPr>
              <p:cNvPr id="3606" name=""/>
              <p:cNvSpPr/>
              <p:nvPr/>
            </p:nvSpPr>
            <p:spPr>
              <a:xfrm flipH="1">
                <a:off x="6195600" y="2335320"/>
                <a:ext cx="1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6315120" y="2335320"/>
                <a:ext cx="0" cy="11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 flipH="1">
                <a:off x="6315120" y="2454120"/>
                <a:ext cx="1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 flipV="1">
                <a:off x="6433920" y="2335320"/>
                <a:ext cx="0" cy="11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 flipH="1">
                <a:off x="6433920" y="2335320"/>
                <a:ext cx="1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1" name=""/>
            <p:cNvSpPr/>
            <p:nvPr/>
          </p:nvSpPr>
          <p:spPr>
            <a:xfrm>
              <a:off x="4566960" y="46483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4098240" y="328788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5595480" y="2133720"/>
              <a:ext cx="6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862600" y="308124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593880" y="3889440"/>
              <a:ext cx="0" cy="76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593880" y="4653000"/>
              <a:ext cx="0" cy="75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704320" y="304812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2450880" y="2751120"/>
              <a:ext cx="374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087960" y="3538440"/>
              <a:ext cx="415800" cy="654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503760" y="3835440"/>
              <a:ext cx="55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7027920" y="2751120"/>
              <a:ext cx="0" cy="109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 flipH="1" flipV="1">
              <a:off x="6133680" y="2576160"/>
              <a:ext cx="36972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492600" y="275112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373800" y="250344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197400" y="2549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4674960" y="383544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3227400" y="383544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465280" y="383544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 flipH="1" flipV="1">
              <a:off x="2770200" y="3571560"/>
              <a:ext cx="45720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2846160" y="3570120"/>
              <a:ext cx="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1" name=""/>
            <p:cNvGrpSpPr/>
            <p:nvPr/>
          </p:nvGrpSpPr>
          <p:grpSpPr>
            <a:xfrm>
              <a:off x="2882880" y="3733920"/>
              <a:ext cx="304560" cy="393480"/>
              <a:chOff x="2882880" y="3733920"/>
              <a:chExt cx="304560" cy="393480"/>
            </a:xfrm>
          </p:grpSpPr>
          <p:grpSp>
            <p:nvGrpSpPr>
              <p:cNvPr id="3632" name=""/>
              <p:cNvGrpSpPr/>
              <p:nvPr/>
            </p:nvGrpSpPr>
            <p:grpSpPr>
              <a:xfrm>
                <a:off x="2882880" y="4038840"/>
                <a:ext cx="304560" cy="88560"/>
                <a:chOff x="2882880" y="4038840"/>
                <a:chExt cx="304560" cy="88560"/>
              </a:xfrm>
            </p:grpSpPr>
            <p:sp>
              <p:nvSpPr>
                <p:cNvPr id="3633" name=""/>
                <p:cNvSpPr/>
                <p:nvPr/>
              </p:nvSpPr>
              <p:spPr>
                <a:xfrm>
                  <a:off x="2882880" y="4039200"/>
                  <a:ext cx="0" cy="88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4" name=""/>
                <p:cNvSpPr/>
                <p:nvPr/>
              </p:nvSpPr>
              <p:spPr>
                <a:xfrm>
                  <a:off x="2882880" y="41270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5" name=""/>
                <p:cNvSpPr/>
                <p:nvPr/>
              </p:nvSpPr>
              <p:spPr>
                <a:xfrm flipV="1">
                  <a:off x="3187440" y="4038840"/>
                  <a:ext cx="0" cy="88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6" name=""/>
              <p:cNvSpPr/>
              <p:nvPr/>
            </p:nvSpPr>
            <p:spPr>
              <a:xfrm flipV="1">
                <a:off x="3043080" y="3733920"/>
                <a:ext cx="0" cy="38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7" name=""/>
            <p:cNvSpPr/>
            <p:nvPr/>
          </p:nvSpPr>
          <p:spPr>
            <a:xfrm flipV="1">
              <a:off x="5411520" y="3889440"/>
              <a:ext cx="0" cy="152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4620960" y="5415120"/>
              <a:ext cx="81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608280" y="5415120"/>
              <a:ext cx="59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 flipV="1">
              <a:off x="4205160" y="5410080"/>
              <a:ext cx="415800" cy="17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1" name=""/>
            <p:cNvGrpSpPr/>
            <p:nvPr/>
          </p:nvGrpSpPr>
          <p:grpSpPr>
            <a:xfrm>
              <a:off x="4297320" y="5476680"/>
              <a:ext cx="280800" cy="276480"/>
              <a:chOff x="4297320" y="5476680"/>
              <a:chExt cx="280800" cy="276480"/>
            </a:xfrm>
          </p:grpSpPr>
          <p:grpSp>
            <p:nvGrpSpPr>
              <p:cNvPr id="3642" name=""/>
              <p:cNvGrpSpPr/>
              <p:nvPr/>
            </p:nvGrpSpPr>
            <p:grpSpPr>
              <a:xfrm>
                <a:off x="4297320" y="5678280"/>
                <a:ext cx="280800" cy="74880"/>
                <a:chOff x="4297320" y="5678280"/>
                <a:chExt cx="280800" cy="74880"/>
              </a:xfrm>
            </p:grpSpPr>
            <p:sp>
              <p:nvSpPr>
                <p:cNvPr id="3643" name=""/>
                <p:cNvSpPr/>
                <p:nvPr/>
              </p:nvSpPr>
              <p:spPr>
                <a:xfrm>
                  <a:off x="4297320" y="5678640"/>
                  <a:ext cx="0" cy="74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4" name=""/>
                <p:cNvSpPr/>
                <p:nvPr/>
              </p:nvSpPr>
              <p:spPr>
                <a:xfrm>
                  <a:off x="4297320" y="5752800"/>
                  <a:ext cx="280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5" name=""/>
                <p:cNvSpPr/>
                <p:nvPr/>
              </p:nvSpPr>
              <p:spPr>
                <a:xfrm flipV="1">
                  <a:off x="4578120" y="5678280"/>
                  <a:ext cx="0" cy="74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46" name=""/>
              <p:cNvSpPr/>
              <p:nvPr/>
            </p:nvSpPr>
            <p:spPr>
              <a:xfrm flipV="1">
                <a:off x="4443480" y="5476680"/>
                <a:ext cx="0" cy="26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7" name=""/>
            <p:cNvGrpSpPr/>
            <p:nvPr/>
          </p:nvGrpSpPr>
          <p:grpSpPr>
            <a:xfrm>
              <a:off x="4221000" y="3848040"/>
              <a:ext cx="453960" cy="377640"/>
              <a:chOff x="4221000" y="3848040"/>
              <a:chExt cx="453960" cy="377640"/>
            </a:xfrm>
          </p:grpSpPr>
          <p:grpSp>
            <p:nvGrpSpPr>
              <p:cNvPr id="3648" name=""/>
              <p:cNvGrpSpPr/>
              <p:nvPr/>
            </p:nvGrpSpPr>
            <p:grpSpPr>
              <a:xfrm>
                <a:off x="4343040" y="4160880"/>
                <a:ext cx="260640" cy="64800"/>
                <a:chOff x="4343040" y="4160880"/>
                <a:chExt cx="260640" cy="64800"/>
              </a:xfrm>
            </p:grpSpPr>
            <p:sp>
              <p:nvSpPr>
                <p:cNvPr id="3649" name=""/>
                <p:cNvSpPr/>
                <p:nvPr/>
              </p:nvSpPr>
              <p:spPr>
                <a:xfrm>
                  <a:off x="4343040" y="4160880"/>
                  <a:ext cx="0" cy="64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0" name=""/>
                <p:cNvSpPr/>
                <p:nvPr/>
              </p:nvSpPr>
              <p:spPr>
                <a:xfrm>
                  <a:off x="4343040" y="4225680"/>
                  <a:ext cx="260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1" name=""/>
                <p:cNvSpPr/>
                <p:nvPr/>
              </p:nvSpPr>
              <p:spPr>
                <a:xfrm flipV="1">
                  <a:off x="4603680" y="4160880"/>
                  <a:ext cx="0" cy="64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2" name=""/>
              <p:cNvSpPr/>
              <p:nvPr/>
            </p:nvSpPr>
            <p:spPr>
              <a:xfrm flipV="1">
                <a:off x="4221000" y="3848040"/>
                <a:ext cx="453960" cy="19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V="1">
                <a:off x="4473360" y="3965040"/>
                <a:ext cx="0" cy="26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4" name=""/>
            <p:cNvSpPr/>
            <p:nvPr/>
          </p:nvSpPr>
          <p:spPr>
            <a:xfrm>
              <a:off x="2332080" y="2690640"/>
              <a:ext cx="118800" cy="119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2332080" y="3776760"/>
              <a:ext cx="118800" cy="118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2236680" y="3011400"/>
              <a:ext cx="35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3695040" y="396252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3562200" y="3813120"/>
              <a:ext cx="73080" cy="73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5364000" y="3813120"/>
              <a:ext cx="73080" cy="73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0" name=""/>
            <p:cNvGrpSpPr/>
            <p:nvPr/>
          </p:nvGrpSpPr>
          <p:grpSpPr>
            <a:xfrm>
              <a:off x="3558960" y="4362480"/>
              <a:ext cx="1878120" cy="556920"/>
              <a:chOff x="3558960" y="4362480"/>
              <a:chExt cx="1878120" cy="556920"/>
            </a:xfrm>
          </p:grpSpPr>
          <p:sp>
            <p:nvSpPr>
              <p:cNvPr id="3661" name=""/>
              <p:cNvSpPr/>
              <p:nvPr/>
            </p:nvSpPr>
            <p:spPr>
              <a:xfrm>
                <a:off x="3558960" y="4589280"/>
                <a:ext cx="73080" cy="748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5364000" y="4589280"/>
                <a:ext cx="73080" cy="748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3608280" y="462744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64" name=""/>
              <p:cNvGrpSpPr/>
              <p:nvPr/>
            </p:nvGrpSpPr>
            <p:grpSpPr>
              <a:xfrm>
                <a:off x="3913200" y="4362480"/>
                <a:ext cx="380880" cy="556920"/>
                <a:chOff x="3913200" y="4362480"/>
                <a:chExt cx="380880" cy="556920"/>
              </a:xfrm>
            </p:grpSpPr>
            <p:sp>
              <p:nvSpPr>
                <p:cNvPr id="3665" name=""/>
                <p:cNvSpPr/>
                <p:nvPr/>
              </p:nvSpPr>
              <p:spPr>
                <a:xfrm flipH="1" flipV="1">
                  <a:off x="3913200" y="4409640"/>
                  <a:ext cx="38088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6" name=""/>
                <p:cNvSpPr/>
                <p:nvPr/>
              </p:nvSpPr>
              <p:spPr>
                <a:xfrm>
                  <a:off x="3989160" y="4362480"/>
                  <a:ext cx="0" cy="29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67" name=""/>
                <p:cNvGrpSpPr/>
                <p:nvPr/>
              </p:nvGrpSpPr>
              <p:grpSpPr>
                <a:xfrm>
                  <a:off x="3949560" y="4525560"/>
                  <a:ext cx="304200" cy="393840"/>
                  <a:chOff x="3949560" y="4525560"/>
                  <a:chExt cx="304200" cy="393840"/>
                </a:xfrm>
              </p:grpSpPr>
              <p:grpSp>
                <p:nvGrpSpPr>
                  <p:cNvPr id="3668" name=""/>
                  <p:cNvGrpSpPr/>
                  <p:nvPr/>
                </p:nvGrpSpPr>
                <p:grpSpPr>
                  <a:xfrm>
                    <a:off x="3949560" y="4830840"/>
                    <a:ext cx="304200" cy="88560"/>
                    <a:chOff x="3949560" y="4830840"/>
                    <a:chExt cx="304200" cy="88560"/>
                  </a:xfrm>
                </p:grpSpPr>
                <p:sp>
                  <p:nvSpPr>
                    <p:cNvPr id="3669" name=""/>
                    <p:cNvSpPr/>
                    <p:nvPr/>
                  </p:nvSpPr>
                  <p:spPr>
                    <a:xfrm>
                      <a:off x="3949560" y="4830840"/>
                      <a:ext cx="0" cy="88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0" name=""/>
                    <p:cNvSpPr/>
                    <p:nvPr/>
                  </p:nvSpPr>
                  <p:spPr>
                    <a:xfrm>
                      <a:off x="3949560" y="4919400"/>
                      <a:ext cx="3042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1" name=""/>
                    <p:cNvSpPr/>
                    <p:nvPr/>
                  </p:nvSpPr>
                  <p:spPr>
                    <a:xfrm flipV="1">
                      <a:off x="4253760" y="4830840"/>
                      <a:ext cx="0" cy="88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72" name=""/>
                  <p:cNvSpPr/>
                  <p:nvPr/>
                </p:nvSpPr>
                <p:spPr>
                  <a:xfrm flipV="1">
                    <a:off x="4109400" y="4525560"/>
                    <a:ext cx="0" cy="389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73" name=""/>
              <p:cNvSpPr/>
              <p:nvPr/>
            </p:nvSpPr>
            <p:spPr>
              <a:xfrm>
                <a:off x="5081400" y="4629240"/>
                <a:ext cx="35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4294080" y="4627440"/>
                <a:ext cx="48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 flipH="1">
                <a:off x="4776840" y="4629240"/>
                <a:ext cx="304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6" name=""/>
            <p:cNvSpPr/>
            <p:nvPr/>
          </p:nvSpPr>
          <p:spPr>
            <a:xfrm>
              <a:off x="4065480" y="49528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7" name=""/>
          <p:cNvSpPr/>
          <p:nvPr/>
        </p:nvSpPr>
        <p:spPr>
          <a:xfrm>
            <a:off x="6095880" y="3540240"/>
            <a:ext cx="425520" cy="647640"/>
          </a:xfrm>
          <a:prstGeom prst="rect">
            <a:avLst/>
          </a:prstGeom>
          <a:solidFill>
            <a:srgbClr val="ff5d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1235520" y="1092240"/>
            <a:ext cx="123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松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2590920" y="1295280"/>
            <a:ext cx="685800" cy="252360"/>
          </a:xfrm>
          <a:prstGeom prst="rightArrow">
            <a:avLst>
              <a:gd name="adj1" fmla="val 50000"/>
              <a:gd name="adj2" fmla="val 67939"/>
            </a:avLst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3489480" y="1090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机停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5286600" y="1066680"/>
            <a:ext cx="1034280" cy="5205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实现点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3782880" y="1689840"/>
            <a:ext cx="12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用途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试车、检修以及车床主轴的调整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3" name=""/>
          <p:cNvGrpSpPr/>
          <p:nvPr/>
        </p:nvGrpSpPr>
        <p:grpSpPr>
          <a:xfrm>
            <a:off x="2133720" y="3543480"/>
            <a:ext cx="5486400" cy="2933640"/>
            <a:chOff x="2133720" y="3543480"/>
            <a:chExt cx="5486400" cy="2933640"/>
          </a:xfrm>
        </p:grpSpPr>
        <p:grpSp>
          <p:nvGrpSpPr>
            <p:cNvPr id="3684" name=""/>
            <p:cNvGrpSpPr/>
            <p:nvPr/>
          </p:nvGrpSpPr>
          <p:grpSpPr>
            <a:xfrm>
              <a:off x="2133720" y="4419720"/>
              <a:ext cx="5486400" cy="2057400"/>
              <a:chOff x="2133720" y="4419720"/>
              <a:chExt cx="5486400" cy="2057400"/>
            </a:xfrm>
          </p:grpSpPr>
          <p:sp>
            <p:nvSpPr>
              <p:cNvPr id="3685" name=""/>
              <p:cNvSpPr/>
              <p:nvPr/>
            </p:nvSpPr>
            <p:spPr>
              <a:xfrm>
                <a:off x="2895840" y="5943600"/>
                <a:ext cx="1218960" cy="533520"/>
              </a:xfrm>
              <a:prstGeom prst="wedgeRoundRectCallout">
                <a:avLst>
                  <a:gd name="adj1" fmla="val 75000"/>
                  <a:gd name="adj2" fmla="val -153870"/>
                  <a:gd name="adj3" fmla="val 16667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先断开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2133720" y="5105520"/>
                <a:ext cx="1219320" cy="533160"/>
              </a:xfrm>
              <a:prstGeom prst="wedgeRoundRectCallout">
                <a:avLst>
                  <a:gd name="adj1" fmla="val 108074"/>
                  <a:gd name="adj2" fmla="val -152976"/>
                  <a:gd name="adj3" fmla="val 16667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后闭合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5791320" y="5105520"/>
                <a:ext cx="914400" cy="533160"/>
              </a:xfrm>
              <a:prstGeom prst="wedgeRoundRectCallout">
                <a:avLst>
                  <a:gd name="adj1" fmla="val -134550"/>
                  <a:gd name="adj2" fmla="val -134523"/>
                  <a:gd name="adj3" fmla="val 16667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断开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6705720" y="4419720"/>
                <a:ext cx="914400" cy="533160"/>
              </a:xfrm>
              <a:prstGeom prst="wedgeRoundRectCallout">
                <a:avLst>
                  <a:gd name="adj1" fmla="val -90800"/>
                  <a:gd name="adj2" fmla="val -138393"/>
                  <a:gd name="adj3" fmla="val 16667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断电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9" name=""/>
            <p:cNvSpPr/>
            <p:nvPr/>
          </p:nvSpPr>
          <p:spPr>
            <a:xfrm>
              <a:off x="6096240" y="3543480"/>
              <a:ext cx="425160" cy="647640"/>
            </a:xfrm>
            <a:prstGeom prst="rect">
              <a:avLst/>
            </a:prstGeom>
            <a:solidFill>
              <a:srgbClr val="e0ef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"/>
          <p:cNvSpPr/>
          <p:nvPr/>
        </p:nvSpPr>
        <p:spPr>
          <a:xfrm>
            <a:off x="5037120" y="3757680"/>
            <a:ext cx="511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4381560" y="3757680"/>
            <a:ext cx="36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1757520" y="2736720"/>
            <a:ext cx="597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2266920" y="3029040"/>
            <a:ext cx="2114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4381560" y="302904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5329080" y="3757680"/>
            <a:ext cx="0" cy="76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5985000" y="3757680"/>
            <a:ext cx="138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 flipV="1">
            <a:off x="6642000" y="3757320"/>
            <a:ext cx="0" cy="102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7370640" y="3392640"/>
            <a:ext cx="511200" cy="80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7881840" y="3830760"/>
            <a:ext cx="36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8245440" y="2736720"/>
            <a:ext cx="0" cy="269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1" name=""/>
          <p:cNvGrpSpPr/>
          <p:nvPr/>
        </p:nvGrpSpPr>
        <p:grpSpPr>
          <a:xfrm>
            <a:off x="5467320" y="3752640"/>
            <a:ext cx="511200" cy="357120"/>
            <a:chOff x="5467320" y="3752640"/>
            <a:chExt cx="511200" cy="357120"/>
          </a:xfrm>
        </p:grpSpPr>
        <p:sp>
          <p:nvSpPr>
            <p:cNvPr id="3702" name=""/>
            <p:cNvSpPr/>
            <p:nvPr/>
          </p:nvSpPr>
          <p:spPr>
            <a:xfrm flipV="1">
              <a:off x="5467320" y="3752640"/>
              <a:ext cx="511200" cy="21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 flipV="1">
              <a:off x="5812560" y="3818160"/>
              <a:ext cx="27000" cy="2916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4" name=""/>
            <p:cNvGrpSpPr/>
            <p:nvPr/>
          </p:nvGrpSpPr>
          <p:grpSpPr>
            <a:xfrm>
              <a:off x="5673960" y="4037040"/>
              <a:ext cx="292320" cy="72720"/>
              <a:chOff x="5673960" y="4037040"/>
              <a:chExt cx="292320" cy="72720"/>
            </a:xfrm>
          </p:grpSpPr>
          <p:sp>
            <p:nvSpPr>
              <p:cNvPr id="3705" name=""/>
              <p:cNvSpPr/>
              <p:nvPr/>
            </p:nvSpPr>
            <p:spPr>
              <a:xfrm>
                <a:off x="5673960" y="4037040"/>
                <a:ext cx="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5673960" y="4109760"/>
                <a:ext cx="29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 flipV="1">
                <a:off x="5966280" y="4037040"/>
                <a:ext cx="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08" name=""/>
          <p:cNvGrpSpPr/>
          <p:nvPr/>
        </p:nvGrpSpPr>
        <p:grpSpPr>
          <a:xfrm>
            <a:off x="4689360" y="3546360"/>
            <a:ext cx="365400" cy="442800"/>
            <a:chOff x="4689360" y="3546360"/>
            <a:chExt cx="365400" cy="442800"/>
          </a:xfrm>
        </p:grpSpPr>
        <p:sp>
          <p:nvSpPr>
            <p:cNvPr id="3709" name=""/>
            <p:cNvSpPr/>
            <p:nvPr/>
          </p:nvSpPr>
          <p:spPr>
            <a:xfrm>
              <a:off x="4689360" y="3558240"/>
              <a:ext cx="36540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4759200" y="3546360"/>
              <a:ext cx="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 flipV="1">
              <a:off x="4891680" y="3696840"/>
              <a:ext cx="0" cy="292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2" name=""/>
            <p:cNvGrpSpPr/>
            <p:nvPr/>
          </p:nvGrpSpPr>
          <p:grpSpPr>
            <a:xfrm>
              <a:off x="4745520" y="3903840"/>
              <a:ext cx="292320" cy="73440"/>
              <a:chOff x="4745520" y="3903840"/>
              <a:chExt cx="292320" cy="73440"/>
            </a:xfrm>
          </p:grpSpPr>
          <p:sp>
            <p:nvSpPr>
              <p:cNvPr id="3713" name=""/>
              <p:cNvSpPr/>
              <p:nvPr/>
            </p:nvSpPr>
            <p:spPr>
              <a:xfrm>
                <a:off x="4745520" y="3904200"/>
                <a:ext cx="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4745520" y="3976920"/>
                <a:ext cx="29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 flipV="1">
                <a:off x="5037840" y="3903840"/>
                <a:ext cx="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16" name=""/>
          <p:cNvGrpSpPr/>
          <p:nvPr/>
        </p:nvGrpSpPr>
        <p:grpSpPr>
          <a:xfrm>
            <a:off x="5329080" y="4522680"/>
            <a:ext cx="1312560" cy="146160"/>
            <a:chOff x="5329080" y="4522680"/>
            <a:chExt cx="1312560" cy="146160"/>
          </a:xfrm>
        </p:grpSpPr>
        <p:sp>
          <p:nvSpPr>
            <p:cNvPr id="3717" name=""/>
            <p:cNvSpPr/>
            <p:nvPr/>
          </p:nvSpPr>
          <p:spPr>
            <a:xfrm>
              <a:off x="5329080" y="4522680"/>
              <a:ext cx="36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 flipV="1">
              <a:off x="5702760" y="4522680"/>
              <a:ext cx="437400" cy="14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6131520" y="4522680"/>
              <a:ext cx="51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0" name=""/>
          <p:cNvSpPr/>
          <p:nvPr/>
        </p:nvSpPr>
        <p:spPr>
          <a:xfrm>
            <a:off x="235440" y="3611520"/>
            <a:ext cx="8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KM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520560" y="208116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590400" y="142416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3" name=""/>
          <p:cNvGrpSpPr/>
          <p:nvPr/>
        </p:nvGrpSpPr>
        <p:grpSpPr>
          <a:xfrm>
            <a:off x="1319040" y="3247920"/>
            <a:ext cx="2625480" cy="290520"/>
            <a:chOff x="1319040" y="3247920"/>
            <a:chExt cx="2625480" cy="290520"/>
          </a:xfrm>
        </p:grpSpPr>
        <p:sp>
          <p:nvSpPr>
            <p:cNvPr id="3724" name=""/>
            <p:cNvSpPr/>
            <p:nvPr/>
          </p:nvSpPr>
          <p:spPr>
            <a:xfrm>
              <a:off x="1319040" y="3538440"/>
              <a:ext cx="160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1756440" y="3393000"/>
              <a:ext cx="167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2266920" y="3247920"/>
              <a:ext cx="167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7" name=""/>
          <p:cNvSpPr/>
          <p:nvPr/>
        </p:nvSpPr>
        <p:spPr>
          <a:xfrm>
            <a:off x="1246320" y="1716120"/>
            <a:ext cx="8744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1319040" y="1060560"/>
            <a:ext cx="1020600" cy="582120"/>
            <a:chOff x="1319040" y="1060560"/>
            <a:chExt cx="1020600" cy="582120"/>
          </a:xfrm>
        </p:grpSpPr>
        <p:grpSp>
          <p:nvGrpSpPr>
            <p:cNvPr id="3729" name=""/>
            <p:cNvGrpSpPr/>
            <p:nvPr/>
          </p:nvGrpSpPr>
          <p:grpSpPr>
            <a:xfrm>
              <a:off x="1319040" y="1060560"/>
              <a:ext cx="145440" cy="582120"/>
              <a:chOff x="1319040" y="1060560"/>
              <a:chExt cx="145440" cy="582120"/>
            </a:xfrm>
          </p:grpSpPr>
          <p:sp>
            <p:nvSpPr>
              <p:cNvPr id="3730" name=""/>
              <p:cNvSpPr/>
              <p:nvPr/>
            </p:nvSpPr>
            <p:spPr>
              <a:xfrm>
                <a:off x="1319040" y="1060560"/>
                <a:ext cx="145440" cy="145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1391400" y="1206000"/>
                <a:ext cx="0" cy="43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2" name=""/>
            <p:cNvGrpSpPr/>
            <p:nvPr/>
          </p:nvGrpSpPr>
          <p:grpSpPr>
            <a:xfrm>
              <a:off x="1756440" y="1060560"/>
              <a:ext cx="145440" cy="582120"/>
              <a:chOff x="1756440" y="1060560"/>
              <a:chExt cx="145440" cy="582120"/>
            </a:xfrm>
          </p:grpSpPr>
          <p:sp>
            <p:nvSpPr>
              <p:cNvPr id="3733" name=""/>
              <p:cNvSpPr/>
              <p:nvPr/>
            </p:nvSpPr>
            <p:spPr>
              <a:xfrm>
                <a:off x="1756440" y="1060560"/>
                <a:ext cx="145440" cy="145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1828800" y="1206000"/>
                <a:ext cx="0" cy="43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5" name=""/>
            <p:cNvGrpSpPr/>
            <p:nvPr/>
          </p:nvGrpSpPr>
          <p:grpSpPr>
            <a:xfrm>
              <a:off x="2194200" y="1060560"/>
              <a:ext cx="145440" cy="582120"/>
              <a:chOff x="2194200" y="1060560"/>
              <a:chExt cx="145440" cy="582120"/>
            </a:xfrm>
          </p:grpSpPr>
          <p:sp>
            <p:nvSpPr>
              <p:cNvPr id="3736" name=""/>
              <p:cNvSpPr/>
              <p:nvPr/>
            </p:nvSpPr>
            <p:spPr>
              <a:xfrm>
                <a:off x="2194200" y="1060560"/>
                <a:ext cx="145440" cy="145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2266560" y="1206000"/>
                <a:ext cx="0" cy="43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38" name=""/>
          <p:cNvGrpSpPr/>
          <p:nvPr/>
        </p:nvGrpSpPr>
        <p:grpSpPr>
          <a:xfrm>
            <a:off x="2048040" y="1569960"/>
            <a:ext cx="291960" cy="2406960"/>
            <a:chOff x="2048040" y="1569960"/>
            <a:chExt cx="291960" cy="2406960"/>
          </a:xfrm>
        </p:grpSpPr>
        <p:sp>
          <p:nvSpPr>
            <p:cNvPr id="3739" name=""/>
            <p:cNvSpPr/>
            <p:nvPr/>
          </p:nvSpPr>
          <p:spPr>
            <a:xfrm>
              <a:off x="2048040" y="1569960"/>
              <a:ext cx="218880" cy="36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2266920" y="1934640"/>
              <a:ext cx="0" cy="204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 rot="10883400">
              <a:off x="2194200" y="3757320"/>
              <a:ext cx="84960" cy="218520"/>
            </a:xfrm>
            <a:custGeom>
              <a:avLst/>
              <a:gdLst/>
              <a:ahLst/>
              <a:rect l="l" t="t" r="r" b="b"/>
              <a:pathLst>
                <a:path w="584" h="816">
                  <a:moveTo>
                    <a:pt x="0" y="0"/>
                  </a:moveTo>
                  <a:cubicBezTo>
                    <a:pt x="284" y="100"/>
                    <a:pt x="568" y="200"/>
                    <a:pt x="576" y="336"/>
                  </a:cubicBezTo>
                  <a:cubicBezTo>
                    <a:pt x="584" y="472"/>
                    <a:pt x="316" y="644"/>
                    <a:pt x="48" y="816"/>
                  </a:cubicBezTo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2" name=""/>
            <p:cNvGrpSpPr/>
            <p:nvPr/>
          </p:nvGrpSpPr>
          <p:grpSpPr>
            <a:xfrm>
              <a:off x="2194200" y="2080440"/>
              <a:ext cx="145800" cy="510480"/>
              <a:chOff x="2194200" y="2080440"/>
              <a:chExt cx="145800" cy="510480"/>
            </a:xfrm>
          </p:grpSpPr>
          <p:sp>
            <p:nvSpPr>
              <p:cNvPr id="3743" name=""/>
              <p:cNvSpPr/>
              <p:nvPr/>
            </p:nvSpPr>
            <p:spPr>
              <a:xfrm>
                <a:off x="2194200" y="208044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2340000" y="2080440"/>
                <a:ext cx="0" cy="51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2194200" y="259092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2194200" y="2080440"/>
                <a:ext cx="0" cy="51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47" name=""/>
          <p:cNvGrpSpPr/>
          <p:nvPr/>
        </p:nvGrpSpPr>
        <p:grpSpPr>
          <a:xfrm>
            <a:off x="1538280" y="1569960"/>
            <a:ext cx="291960" cy="2406960"/>
            <a:chOff x="1538280" y="1569960"/>
            <a:chExt cx="291960" cy="2406960"/>
          </a:xfrm>
        </p:grpSpPr>
        <p:sp>
          <p:nvSpPr>
            <p:cNvPr id="3748" name=""/>
            <p:cNvSpPr/>
            <p:nvPr/>
          </p:nvSpPr>
          <p:spPr>
            <a:xfrm>
              <a:off x="1538280" y="1569960"/>
              <a:ext cx="218880" cy="36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1757160" y="1934640"/>
              <a:ext cx="0" cy="204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 rot="10883400">
              <a:off x="1684440" y="3757320"/>
              <a:ext cx="84960" cy="218520"/>
            </a:xfrm>
            <a:custGeom>
              <a:avLst/>
              <a:gdLst/>
              <a:ahLst/>
              <a:rect l="l" t="t" r="r" b="b"/>
              <a:pathLst>
                <a:path w="584" h="816">
                  <a:moveTo>
                    <a:pt x="0" y="0"/>
                  </a:moveTo>
                  <a:cubicBezTo>
                    <a:pt x="284" y="100"/>
                    <a:pt x="568" y="200"/>
                    <a:pt x="576" y="336"/>
                  </a:cubicBezTo>
                  <a:cubicBezTo>
                    <a:pt x="584" y="472"/>
                    <a:pt x="316" y="644"/>
                    <a:pt x="48" y="816"/>
                  </a:cubicBezTo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1" name=""/>
            <p:cNvGrpSpPr/>
            <p:nvPr/>
          </p:nvGrpSpPr>
          <p:grpSpPr>
            <a:xfrm>
              <a:off x="1684440" y="2080440"/>
              <a:ext cx="145800" cy="510480"/>
              <a:chOff x="1684440" y="2080440"/>
              <a:chExt cx="145800" cy="510480"/>
            </a:xfrm>
          </p:grpSpPr>
          <p:sp>
            <p:nvSpPr>
              <p:cNvPr id="3752" name=""/>
              <p:cNvSpPr/>
              <p:nvPr/>
            </p:nvSpPr>
            <p:spPr>
              <a:xfrm>
                <a:off x="1684440" y="208044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1830240" y="2080440"/>
                <a:ext cx="0" cy="51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1684440" y="259092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1684440" y="2080440"/>
                <a:ext cx="0" cy="51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56" name=""/>
          <p:cNvGrpSpPr/>
          <p:nvPr/>
        </p:nvGrpSpPr>
        <p:grpSpPr>
          <a:xfrm>
            <a:off x="1100160" y="1569960"/>
            <a:ext cx="291960" cy="2406960"/>
            <a:chOff x="1100160" y="1569960"/>
            <a:chExt cx="291960" cy="2406960"/>
          </a:xfrm>
        </p:grpSpPr>
        <p:sp>
          <p:nvSpPr>
            <p:cNvPr id="3757" name=""/>
            <p:cNvSpPr/>
            <p:nvPr/>
          </p:nvSpPr>
          <p:spPr>
            <a:xfrm>
              <a:off x="1100160" y="1569960"/>
              <a:ext cx="218880" cy="36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1319040" y="1934640"/>
              <a:ext cx="0" cy="204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 rot="10883400">
              <a:off x="1246320" y="3757320"/>
              <a:ext cx="84960" cy="218520"/>
            </a:xfrm>
            <a:custGeom>
              <a:avLst/>
              <a:gdLst/>
              <a:ahLst/>
              <a:rect l="l" t="t" r="r" b="b"/>
              <a:pathLst>
                <a:path w="584" h="816">
                  <a:moveTo>
                    <a:pt x="0" y="0"/>
                  </a:moveTo>
                  <a:cubicBezTo>
                    <a:pt x="284" y="100"/>
                    <a:pt x="568" y="200"/>
                    <a:pt x="576" y="336"/>
                  </a:cubicBezTo>
                  <a:cubicBezTo>
                    <a:pt x="584" y="472"/>
                    <a:pt x="316" y="644"/>
                    <a:pt x="48" y="816"/>
                  </a:cubicBezTo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0" name=""/>
            <p:cNvGrpSpPr/>
            <p:nvPr/>
          </p:nvGrpSpPr>
          <p:grpSpPr>
            <a:xfrm>
              <a:off x="1246320" y="2080440"/>
              <a:ext cx="145800" cy="510480"/>
              <a:chOff x="1246320" y="2080440"/>
              <a:chExt cx="145800" cy="510480"/>
            </a:xfrm>
          </p:grpSpPr>
          <p:sp>
            <p:nvSpPr>
              <p:cNvPr id="3761" name=""/>
              <p:cNvSpPr/>
              <p:nvPr/>
            </p:nvSpPr>
            <p:spPr>
              <a:xfrm>
                <a:off x="1246320" y="208044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1392120" y="2080440"/>
                <a:ext cx="0" cy="51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1246320" y="259092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1246320" y="2080440"/>
                <a:ext cx="0" cy="51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65" name=""/>
          <p:cNvGrpSpPr/>
          <p:nvPr/>
        </p:nvGrpSpPr>
        <p:grpSpPr>
          <a:xfrm>
            <a:off x="1100160" y="3903480"/>
            <a:ext cx="1166760" cy="2649240"/>
            <a:chOff x="1100160" y="3903480"/>
            <a:chExt cx="1166760" cy="2649240"/>
          </a:xfrm>
        </p:grpSpPr>
        <p:sp>
          <p:nvSpPr>
            <p:cNvPr id="3766" name=""/>
            <p:cNvSpPr/>
            <p:nvPr/>
          </p:nvSpPr>
          <p:spPr>
            <a:xfrm>
              <a:off x="1228680" y="5495760"/>
              <a:ext cx="1036800" cy="1056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2266920" y="4268520"/>
              <a:ext cx="0" cy="58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2049480" y="3903840"/>
              <a:ext cx="217440" cy="36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2266920" y="4851000"/>
              <a:ext cx="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 flipH="1">
              <a:off x="2012760" y="5190840"/>
              <a:ext cx="25380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1" name=""/>
            <p:cNvGrpSpPr/>
            <p:nvPr/>
          </p:nvGrpSpPr>
          <p:grpSpPr>
            <a:xfrm>
              <a:off x="1100160" y="3903840"/>
              <a:ext cx="437760" cy="1675440"/>
              <a:chOff x="1100160" y="3903840"/>
              <a:chExt cx="437760" cy="1675440"/>
            </a:xfrm>
          </p:grpSpPr>
          <p:sp>
            <p:nvSpPr>
              <p:cNvPr id="3772" name=""/>
              <p:cNvSpPr/>
              <p:nvPr/>
            </p:nvSpPr>
            <p:spPr>
              <a:xfrm>
                <a:off x="1100160" y="3903840"/>
                <a:ext cx="218880" cy="3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1319040" y="5215320"/>
                <a:ext cx="218880" cy="3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1319040" y="4267800"/>
                <a:ext cx="0" cy="72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1319040" y="4851000"/>
                <a:ext cx="0" cy="3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6" name=""/>
            <p:cNvGrpSpPr/>
            <p:nvPr/>
          </p:nvGrpSpPr>
          <p:grpSpPr>
            <a:xfrm>
              <a:off x="1537920" y="3903480"/>
              <a:ext cx="219600" cy="1675800"/>
              <a:chOff x="1537920" y="3903480"/>
              <a:chExt cx="219600" cy="1675800"/>
            </a:xfrm>
          </p:grpSpPr>
          <p:sp>
            <p:nvSpPr>
              <p:cNvPr id="3777" name=""/>
              <p:cNvSpPr/>
              <p:nvPr/>
            </p:nvSpPr>
            <p:spPr>
              <a:xfrm>
                <a:off x="1757520" y="4267800"/>
                <a:ext cx="0" cy="131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 flipH="1" flipV="1">
                <a:off x="1537920" y="3903480"/>
                <a:ext cx="219240" cy="3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9" name=""/>
          <p:cNvSpPr/>
          <p:nvPr/>
        </p:nvSpPr>
        <p:spPr>
          <a:xfrm>
            <a:off x="3944880" y="3247920"/>
            <a:ext cx="0" cy="72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 rot="10883400">
            <a:off x="3871800" y="3757680"/>
            <a:ext cx="84240" cy="218880"/>
          </a:xfrm>
          <a:custGeom>
            <a:avLst/>
            <a:gdLst/>
            <a:ahLst/>
            <a:rect l="l" t="t" r="r" b="b"/>
            <a:pathLst>
              <a:path w="584" h="816">
                <a:moveTo>
                  <a:pt x="0" y="0"/>
                </a:moveTo>
                <a:cubicBezTo>
                  <a:pt x="284" y="100"/>
                  <a:pt x="568" y="200"/>
                  <a:pt x="576" y="336"/>
                </a:cubicBezTo>
                <a:cubicBezTo>
                  <a:pt x="584" y="472"/>
                  <a:pt x="316" y="644"/>
                  <a:pt x="48" y="816"/>
                </a:cubicBezTo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3433680" y="3392640"/>
            <a:ext cx="0" cy="58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 rot="10883400">
            <a:off x="3360240" y="3757680"/>
            <a:ext cx="86040" cy="218880"/>
          </a:xfrm>
          <a:custGeom>
            <a:avLst/>
            <a:gdLst/>
            <a:ahLst/>
            <a:rect l="l" t="t" r="r" b="b"/>
            <a:pathLst>
              <a:path w="584" h="816">
                <a:moveTo>
                  <a:pt x="0" y="0"/>
                </a:moveTo>
                <a:cubicBezTo>
                  <a:pt x="284" y="100"/>
                  <a:pt x="568" y="200"/>
                  <a:pt x="576" y="336"/>
                </a:cubicBezTo>
                <a:cubicBezTo>
                  <a:pt x="584" y="472"/>
                  <a:pt x="316" y="644"/>
                  <a:pt x="48" y="816"/>
                </a:cubicBezTo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2924280" y="3538440"/>
            <a:ext cx="0" cy="43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 rot="10883400">
            <a:off x="2851200" y="3757680"/>
            <a:ext cx="84240" cy="218880"/>
          </a:xfrm>
          <a:custGeom>
            <a:avLst/>
            <a:gdLst/>
            <a:ahLst/>
            <a:rect l="l" t="t" r="r" b="b"/>
            <a:pathLst>
              <a:path w="584" h="816">
                <a:moveTo>
                  <a:pt x="0" y="0"/>
                </a:moveTo>
                <a:cubicBezTo>
                  <a:pt x="284" y="100"/>
                  <a:pt x="568" y="200"/>
                  <a:pt x="576" y="336"/>
                </a:cubicBezTo>
                <a:cubicBezTo>
                  <a:pt x="584" y="472"/>
                  <a:pt x="316" y="644"/>
                  <a:pt x="48" y="816"/>
                </a:cubicBezTo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>
            <a:off x="4024800" y="3830760"/>
            <a:ext cx="8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1467360" y="5586480"/>
            <a:ext cx="6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3143880" y="5586480"/>
            <a:ext cx="6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1466280" y="5952960"/>
            <a:ext cx="5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3142800" y="5952960"/>
            <a:ext cx="5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7662960" y="2736720"/>
            <a:ext cx="58248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5037120" y="5945040"/>
            <a:ext cx="3650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 flipV="1">
            <a:off x="5402160" y="5956200"/>
            <a:ext cx="436680" cy="1461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5838840" y="5945040"/>
            <a:ext cx="5112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>
            <a:off x="5037120" y="5362560"/>
            <a:ext cx="5112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"/>
          <p:cNvSpPr/>
          <p:nvPr/>
        </p:nvSpPr>
        <p:spPr>
          <a:xfrm>
            <a:off x="5985000" y="5362560"/>
            <a:ext cx="13856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>
            <a:off x="7370640" y="4997520"/>
            <a:ext cx="511200" cy="801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"/>
          <p:cNvSpPr/>
          <p:nvPr/>
        </p:nvSpPr>
        <p:spPr>
          <a:xfrm>
            <a:off x="7881840" y="5435640"/>
            <a:ext cx="3636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8" name=""/>
          <p:cNvGrpSpPr/>
          <p:nvPr/>
        </p:nvGrpSpPr>
        <p:grpSpPr>
          <a:xfrm>
            <a:off x="5467320" y="5370120"/>
            <a:ext cx="517320" cy="341280"/>
            <a:chOff x="5467320" y="5370120"/>
            <a:chExt cx="517320" cy="341280"/>
          </a:xfrm>
        </p:grpSpPr>
        <p:sp>
          <p:nvSpPr>
            <p:cNvPr id="3799" name=""/>
            <p:cNvSpPr/>
            <p:nvPr/>
          </p:nvSpPr>
          <p:spPr>
            <a:xfrm flipV="1">
              <a:off x="5467320" y="5370120"/>
              <a:ext cx="509760" cy="2192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 flipV="1">
              <a:off x="5839200" y="5419080"/>
              <a:ext cx="0" cy="292320"/>
            </a:xfrm>
            <a:prstGeom prst="line">
              <a:avLst/>
            </a:prstGeom>
            <a:ln w="2844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1" name=""/>
            <p:cNvGrpSpPr/>
            <p:nvPr/>
          </p:nvGrpSpPr>
          <p:grpSpPr>
            <a:xfrm>
              <a:off x="5693400" y="5634720"/>
              <a:ext cx="291240" cy="73440"/>
              <a:chOff x="5693400" y="5634720"/>
              <a:chExt cx="291240" cy="73440"/>
            </a:xfrm>
          </p:grpSpPr>
          <p:sp>
            <p:nvSpPr>
              <p:cNvPr id="3802" name=""/>
              <p:cNvSpPr/>
              <p:nvPr/>
            </p:nvSpPr>
            <p:spPr>
              <a:xfrm>
                <a:off x="5693400" y="5635080"/>
                <a:ext cx="0" cy="7308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5693400" y="5707800"/>
                <a:ext cx="291240" cy="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 flipV="1">
                <a:off x="5984640" y="5634720"/>
                <a:ext cx="0" cy="7308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5" name=""/>
          <p:cNvGrpSpPr/>
          <p:nvPr/>
        </p:nvGrpSpPr>
        <p:grpSpPr>
          <a:xfrm>
            <a:off x="5037120" y="4778280"/>
            <a:ext cx="1604880" cy="1166760"/>
            <a:chOff x="5037120" y="4778280"/>
            <a:chExt cx="1604880" cy="1166760"/>
          </a:xfrm>
        </p:grpSpPr>
        <p:sp>
          <p:nvSpPr>
            <p:cNvPr id="3806" name=""/>
            <p:cNvSpPr/>
            <p:nvPr/>
          </p:nvSpPr>
          <p:spPr>
            <a:xfrm>
              <a:off x="5037120" y="4778280"/>
              <a:ext cx="160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5037120" y="4778280"/>
              <a:ext cx="0" cy="11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6350400" y="5361480"/>
              <a:ext cx="0" cy="58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9" name=""/>
          <p:cNvSpPr/>
          <p:nvPr/>
        </p:nvSpPr>
        <p:spPr>
          <a:xfrm>
            <a:off x="1592640" y="224172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4529520" y="31320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5475240" y="3214800"/>
            <a:ext cx="109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B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7171200" y="2895480"/>
            <a:ext cx="8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KM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5420160" y="4038480"/>
            <a:ext cx="8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5390280" y="4800600"/>
            <a:ext cx="718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B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5339160" y="5970600"/>
            <a:ext cx="8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K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7234920" y="4495680"/>
            <a:ext cx="8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K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3133800" y="1676520"/>
            <a:ext cx="101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SB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6215040" y="2916360"/>
            <a:ext cx="947880" cy="436320"/>
          </a:xfrm>
          <a:prstGeom prst="wedgeRoundRectCallout">
            <a:avLst>
              <a:gd name="adj1" fmla="val 91208"/>
              <a:gd name="adj2" fmla="val 157634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通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228600" y="3048120"/>
            <a:ext cx="947880" cy="436320"/>
          </a:xfrm>
          <a:prstGeom prst="wedgeRoundRectCallout">
            <a:avLst>
              <a:gd name="adj1" fmla="val 66416"/>
              <a:gd name="adj2" fmla="val 167819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闭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3000960" y="2133720"/>
            <a:ext cx="123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再按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SB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4016520" y="4559400"/>
            <a:ext cx="947520" cy="438120"/>
          </a:xfrm>
          <a:prstGeom prst="wedgeRoundRectCallout">
            <a:avLst>
              <a:gd name="adj1" fmla="val -67787"/>
              <a:gd name="adj2" fmla="val -178819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闭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6788160" y="6091200"/>
            <a:ext cx="947880" cy="438120"/>
          </a:xfrm>
          <a:prstGeom prst="wedgeRoundRectCallout">
            <a:avLst>
              <a:gd name="adj1" fmla="val 42467"/>
              <a:gd name="adj2" fmla="val -128472"/>
              <a:gd name="adj3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通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4038480" y="6095880"/>
            <a:ext cx="947880" cy="436680"/>
          </a:xfrm>
          <a:prstGeom prst="wedgeRoundRectCallout">
            <a:avLst>
              <a:gd name="adj1" fmla="val 106953"/>
              <a:gd name="adj2" fmla="val -59819"/>
              <a:gd name="adj3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闭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6629400" y="4114800"/>
            <a:ext cx="914400" cy="436680"/>
          </a:xfrm>
          <a:prstGeom prst="wedgeRoundRectCallout">
            <a:avLst>
              <a:gd name="adj1" fmla="val -109722"/>
              <a:gd name="adj2" fmla="val 35819"/>
              <a:gd name="adj3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闭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5" name=""/>
          <p:cNvGrpSpPr/>
          <p:nvPr/>
        </p:nvGrpSpPr>
        <p:grpSpPr>
          <a:xfrm>
            <a:off x="1122480" y="1642680"/>
            <a:ext cx="1239480" cy="291960"/>
            <a:chOff x="1122480" y="1642680"/>
            <a:chExt cx="1239480" cy="291960"/>
          </a:xfrm>
        </p:grpSpPr>
        <p:sp>
          <p:nvSpPr>
            <p:cNvPr id="3826" name=""/>
            <p:cNvSpPr/>
            <p:nvPr/>
          </p:nvSpPr>
          <p:spPr>
            <a:xfrm flipV="1">
              <a:off x="1122480" y="1642680"/>
              <a:ext cx="364320" cy="291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 flipV="1">
              <a:off x="1559880" y="1642680"/>
              <a:ext cx="364320" cy="291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 flipV="1">
              <a:off x="1997640" y="1642680"/>
              <a:ext cx="364320" cy="291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9" name=""/>
          <p:cNvSpPr/>
          <p:nvPr/>
        </p:nvSpPr>
        <p:spPr>
          <a:xfrm>
            <a:off x="2514600" y="806400"/>
            <a:ext cx="624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控制顺序：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起动后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才能起动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既不能单独起动，也不能单独停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0" name=""/>
          <p:cNvGrpSpPr/>
          <p:nvPr/>
        </p:nvGrpSpPr>
        <p:grpSpPr>
          <a:xfrm>
            <a:off x="4267080" y="1676520"/>
            <a:ext cx="1776240" cy="579600"/>
            <a:chOff x="4267080" y="1676520"/>
            <a:chExt cx="1776240" cy="579600"/>
          </a:xfrm>
        </p:grpSpPr>
        <p:sp>
          <p:nvSpPr>
            <p:cNvPr id="3831" name=""/>
            <p:cNvSpPr/>
            <p:nvPr/>
          </p:nvSpPr>
          <p:spPr>
            <a:xfrm>
              <a:off x="4911840" y="1676520"/>
              <a:ext cx="1131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M</a:t>
              </a:r>
              <a:r>
                <a:rPr b="1" lang="zh-CN" sz="28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转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4267080" y="1874880"/>
              <a:ext cx="492120" cy="190440"/>
            </a:xfrm>
            <a:prstGeom prst="rightArrow">
              <a:avLst>
                <a:gd name="adj1" fmla="val 50000"/>
                <a:gd name="adj2" fmla="val 64603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10800000"/>
            </a:gra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3" name=""/>
          <p:cNvSpPr/>
          <p:nvPr/>
        </p:nvSpPr>
        <p:spPr>
          <a:xfrm flipH="1" flipV="1">
            <a:off x="5466960" y="3600360"/>
            <a:ext cx="584280" cy="509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 flipH="1" flipV="1">
            <a:off x="5366880" y="5213160"/>
            <a:ext cx="582840" cy="509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机的顺序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6" name=""/>
          <p:cNvGrpSpPr/>
          <p:nvPr/>
        </p:nvGrpSpPr>
        <p:grpSpPr>
          <a:xfrm>
            <a:off x="2752560" y="3895200"/>
            <a:ext cx="1166760" cy="2649960"/>
            <a:chOff x="2752560" y="3895200"/>
            <a:chExt cx="1166760" cy="2649960"/>
          </a:xfrm>
        </p:grpSpPr>
        <p:sp>
          <p:nvSpPr>
            <p:cNvPr id="3837" name=""/>
            <p:cNvSpPr/>
            <p:nvPr/>
          </p:nvSpPr>
          <p:spPr>
            <a:xfrm>
              <a:off x="2881080" y="5487840"/>
              <a:ext cx="1036800" cy="1057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3919320" y="4260600"/>
              <a:ext cx="0" cy="58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3701880" y="3895560"/>
              <a:ext cx="2174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3919320" y="4843080"/>
              <a:ext cx="0" cy="36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 flipH="1">
              <a:off x="3665160" y="5182920"/>
              <a:ext cx="253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2" name=""/>
            <p:cNvGrpSpPr/>
            <p:nvPr/>
          </p:nvGrpSpPr>
          <p:grpSpPr>
            <a:xfrm>
              <a:off x="2752560" y="3895560"/>
              <a:ext cx="437760" cy="1675800"/>
              <a:chOff x="2752560" y="3895560"/>
              <a:chExt cx="437760" cy="1675800"/>
            </a:xfrm>
          </p:grpSpPr>
          <p:sp>
            <p:nvSpPr>
              <p:cNvPr id="3843" name=""/>
              <p:cNvSpPr/>
              <p:nvPr/>
            </p:nvSpPr>
            <p:spPr>
              <a:xfrm>
                <a:off x="2752560" y="3895560"/>
                <a:ext cx="218880" cy="3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2971440" y="5207400"/>
                <a:ext cx="218880" cy="3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2971440" y="4259520"/>
                <a:ext cx="0" cy="72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2971440" y="4843080"/>
                <a:ext cx="0" cy="3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7" name=""/>
            <p:cNvGrpSpPr/>
            <p:nvPr/>
          </p:nvGrpSpPr>
          <p:grpSpPr>
            <a:xfrm>
              <a:off x="3190320" y="3895200"/>
              <a:ext cx="219600" cy="1676160"/>
              <a:chOff x="3190320" y="3895200"/>
              <a:chExt cx="219600" cy="1676160"/>
            </a:xfrm>
          </p:grpSpPr>
          <p:sp>
            <p:nvSpPr>
              <p:cNvPr id="3848" name=""/>
              <p:cNvSpPr/>
              <p:nvPr/>
            </p:nvSpPr>
            <p:spPr>
              <a:xfrm>
                <a:off x="3409920" y="4259520"/>
                <a:ext cx="0" cy="1311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 flipH="1" flipV="1">
                <a:off x="3190320" y="3895200"/>
                <a:ext cx="219240" cy="3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50" name=""/>
          <p:cNvGrpSpPr/>
          <p:nvPr/>
        </p:nvGrpSpPr>
        <p:grpSpPr>
          <a:xfrm>
            <a:off x="4267080" y="2133720"/>
            <a:ext cx="2016360" cy="579600"/>
            <a:chOff x="4267080" y="2133720"/>
            <a:chExt cx="2016360" cy="579600"/>
          </a:xfrm>
        </p:grpSpPr>
        <p:sp>
          <p:nvSpPr>
            <p:cNvPr id="3851" name=""/>
            <p:cNvSpPr/>
            <p:nvPr/>
          </p:nvSpPr>
          <p:spPr>
            <a:xfrm>
              <a:off x="4800600" y="2133720"/>
              <a:ext cx="148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M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转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4267080" y="2324160"/>
              <a:ext cx="492120" cy="190440"/>
            </a:xfrm>
            <a:prstGeom prst="rightArrow">
              <a:avLst>
                <a:gd name="adj1" fmla="val 50000"/>
                <a:gd name="adj2" fmla="val 64603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10800000"/>
            </a:gra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3" name=""/>
          <p:cNvSpPr/>
          <p:nvPr/>
        </p:nvSpPr>
        <p:spPr>
          <a:xfrm>
            <a:off x="2129040" y="25146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2132280" y="27432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1602000" y="287964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1144800" y="304812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>
            <a:hlinkClick r:id="rId8"/>
          </p:cNvPr>
          <p:cNvSpPr/>
          <p:nvPr/>
        </p:nvSpPr>
        <p:spPr>
          <a:xfrm>
            <a:off x="380880" y="5334120"/>
            <a:ext cx="690840" cy="37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"/>
          <p:cNvSpPr/>
          <p:nvPr/>
        </p:nvSpPr>
        <p:spPr>
          <a:xfrm>
            <a:off x="2058840" y="5238720"/>
            <a:ext cx="1046160" cy="1046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 flipV="1">
            <a:off x="3030480" y="4724280"/>
            <a:ext cx="0" cy="73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2881440" y="4097160"/>
            <a:ext cx="149040" cy="1062360"/>
          </a:xfrm>
          <a:custGeom>
            <a:avLst/>
            <a:gdLst/>
            <a:ahLst/>
            <a:rect l="l" t="t" r="r" b="b"/>
            <a:pathLst>
              <a:path w="96" h="576">
                <a:moveTo>
                  <a:pt x="96" y="0"/>
                </a:moveTo>
                <a:lnTo>
                  <a:pt x="96" y="192"/>
                </a:lnTo>
                <a:lnTo>
                  <a:pt x="0" y="192"/>
                </a:lnTo>
                <a:lnTo>
                  <a:pt x="0" y="336"/>
                </a:lnTo>
                <a:lnTo>
                  <a:pt x="96" y="336"/>
                </a:lnTo>
                <a:lnTo>
                  <a:pt x="96" y="5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 flipV="1">
            <a:off x="2152800" y="4724280"/>
            <a:ext cx="0" cy="7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2003400" y="4119480"/>
            <a:ext cx="149400" cy="1062000"/>
          </a:xfrm>
          <a:custGeom>
            <a:avLst/>
            <a:gdLst/>
            <a:ahLst/>
            <a:rect l="l" t="t" r="r" b="b"/>
            <a:pathLst>
              <a:path w="96" h="576">
                <a:moveTo>
                  <a:pt x="96" y="0"/>
                </a:moveTo>
                <a:lnTo>
                  <a:pt x="96" y="192"/>
                </a:lnTo>
                <a:lnTo>
                  <a:pt x="0" y="192"/>
                </a:lnTo>
                <a:lnTo>
                  <a:pt x="0" y="336"/>
                </a:lnTo>
                <a:lnTo>
                  <a:pt x="96" y="336"/>
                </a:lnTo>
                <a:lnTo>
                  <a:pt x="96" y="5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3" name=""/>
          <p:cNvGrpSpPr/>
          <p:nvPr/>
        </p:nvGrpSpPr>
        <p:grpSpPr>
          <a:xfrm>
            <a:off x="4471920" y="838080"/>
            <a:ext cx="3352680" cy="1295280"/>
            <a:chOff x="4471920" y="838080"/>
            <a:chExt cx="3352680" cy="1295280"/>
          </a:xfrm>
        </p:grpSpPr>
        <p:sp>
          <p:nvSpPr>
            <p:cNvPr id="3864" name=""/>
            <p:cNvSpPr/>
            <p:nvPr/>
          </p:nvSpPr>
          <p:spPr>
            <a:xfrm>
              <a:off x="4471920" y="838080"/>
              <a:ext cx="3352680" cy="1295280"/>
            </a:xfrm>
            <a:prstGeom prst="cloudCallout">
              <a:avLst>
                <a:gd name="adj1" fmla="val -48912"/>
                <a:gd name="adj2" fmla="val 74388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4852800" y="120312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这样的顺序控制是否合理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6" name=""/>
          <p:cNvGrpSpPr/>
          <p:nvPr/>
        </p:nvGrpSpPr>
        <p:grpSpPr>
          <a:xfrm>
            <a:off x="3812400" y="2240280"/>
            <a:ext cx="601200" cy="1117080"/>
            <a:chOff x="3812400" y="2240280"/>
            <a:chExt cx="601200" cy="1117080"/>
          </a:xfrm>
        </p:grpSpPr>
        <p:sp>
          <p:nvSpPr>
            <p:cNvPr id="3867" name=""/>
            <p:cNvSpPr/>
            <p:nvPr/>
          </p:nvSpPr>
          <p:spPr>
            <a:xfrm flipH="1">
              <a:off x="3812400" y="2243880"/>
              <a:ext cx="596880" cy="10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3847680" y="2240280"/>
              <a:ext cx="565920" cy="1117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9" name=""/>
          <p:cNvSpPr/>
          <p:nvPr/>
        </p:nvSpPr>
        <p:spPr>
          <a:xfrm>
            <a:off x="6786360" y="2666880"/>
            <a:ext cx="1719720" cy="2653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电机各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要有独立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电源；这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接，主触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KM1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过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2071800" y="457200"/>
            <a:ext cx="145800" cy="146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2509920" y="457200"/>
            <a:ext cx="144360" cy="146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2946240" y="457200"/>
            <a:ext cx="146160" cy="146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3" name=""/>
          <p:cNvGrpSpPr/>
          <p:nvPr/>
        </p:nvGrpSpPr>
        <p:grpSpPr>
          <a:xfrm>
            <a:off x="2122560" y="603360"/>
            <a:ext cx="907560" cy="311040"/>
            <a:chOff x="2122560" y="603360"/>
            <a:chExt cx="907560" cy="311040"/>
          </a:xfrm>
        </p:grpSpPr>
        <p:sp>
          <p:nvSpPr>
            <p:cNvPr id="3874" name=""/>
            <p:cNvSpPr/>
            <p:nvPr/>
          </p:nvSpPr>
          <p:spPr>
            <a:xfrm>
              <a:off x="2122560" y="603360"/>
              <a:ext cx="0" cy="31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2577240" y="603360"/>
              <a:ext cx="0" cy="31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3030120" y="603360"/>
              <a:ext cx="0" cy="31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7" name=""/>
          <p:cNvSpPr/>
          <p:nvPr/>
        </p:nvSpPr>
        <p:spPr>
          <a:xfrm>
            <a:off x="2590920" y="251460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1195560" y="22096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K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2800440" y="793800"/>
            <a:ext cx="218880" cy="36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3019320" y="1158840"/>
            <a:ext cx="0" cy="105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 flipV="1">
            <a:off x="3033720" y="251424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2371680" y="793800"/>
            <a:ext cx="219240" cy="36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>
            <a:off x="2590920" y="1158840"/>
            <a:ext cx="0" cy="105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1906560" y="762120"/>
            <a:ext cx="219240" cy="36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2125800" y="1127160"/>
            <a:ext cx="0" cy="108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6" name=""/>
          <p:cNvGrpSpPr/>
          <p:nvPr/>
        </p:nvGrpSpPr>
        <p:grpSpPr>
          <a:xfrm>
            <a:off x="2050200" y="1989720"/>
            <a:ext cx="984600" cy="221040"/>
            <a:chOff x="2050200" y="1989720"/>
            <a:chExt cx="984600" cy="221040"/>
          </a:xfrm>
        </p:grpSpPr>
        <p:sp>
          <p:nvSpPr>
            <p:cNvPr id="3887" name=""/>
            <p:cNvSpPr/>
            <p:nvPr/>
          </p:nvSpPr>
          <p:spPr>
            <a:xfrm rot="10883400">
              <a:off x="2946240" y="1990800"/>
              <a:ext cx="85680" cy="218880"/>
            </a:xfrm>
            <a:custGeom>
              <a:avLst/>
              <a:gdLst/>
              <a:ahLst/>
              <a:rect l="l" t="t" r="r" b="b"/>
              <a:pathLst>
                <a:path w="584" h="816">
                  <a:moveTo>
                    <a:pt x="0" y="0"/>
                  </a:moveTo>
                  <a:cubicBezTo>
                    <a:pt x="284" y="100"/>
                    <a:pt x="568" y="200"/>
                    <a:pt x="576" y="336"/>
                  </a:cubicBezTo>
                  <a:cubicBezTo>
                    <a:pt x="584" y="472"/>
                    <a:pt x="316" y="644"/>
                    <a:pt x="48" y="81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 rot="10883400">
              <a:off x="2517840" y="1990800"/>
              <a:ext cx="85680" cy="218880"/>
            </a:xfrm>
            <a:custGeom>
              <a:avLst/>
              <a:gdLst/>
              <a:ahLst/>
              <a:rect l="l" t="t" r="r" b="b"/>
              <a:pathLst>
                <a:path w="584" h="816">
                  <a:moveTo>
                    <a:pt x="0" y="0"/>
                  </a:moveTo>
                  <a:cubicBezTo>
                    <a:pt x="284" y="100"/>
                    <a:pt x="568" y="200"/>
                    <a:pt x="576" y="336"/>
                  </a:cubicBezTo>
                  <a:cubicBezTo>
                    <a:pt x="584" y="472"/>
                    <a:pt x="316" y="644"/>
                    <a:pt x="48" y="81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 rot="10883400">
              <a:off x="2052720" y="1990800"/>
              <a:ext cx="85680" cy="218880"/>
            </a:xfrm>
            <a:custGeom>
              <a:avLst/>
              <a:gdLst/>
              <a:ahLst/>
              <a:rect l="l" t="t" r="r" b="b"/>
              <a:pathLst>
                <a:path w="584" h="816">
                  <a:moveTo>
                    <a:pt x="0" y="0"/>
                  </a:moveTo>
                  <a:cubicBezTo>
                    <a:pt x="284" y="100"/>
                    <a:pt x="568" y="200"/>
                    <a:pt x="576" y="336"/>
                  </a:cubicBezTo>
                  <a:cubicBezTo>
                    <a:pt x="584" y="472"/>
                    <a:pt x="316" y="644"/>
                    <a:pt x="48" y="81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0" name=""/>
          <p:cNvGrpSpPr/>
          <p:nvPr/>
        </p:nvGrpSpPr>
        <p:grpSpPr>
          <a:xfrm>
            <a:off x="2052720" y="1295280"/>
            <a:ext cx="1039680" cy="381240"/>
            <a:chOff x="2052720" y="1295280"/>
            <a:chExt cx="1039680" cy="381240"/>
          </a:xfrm>
        </p:grpSpPr>
        <p:grpSp>
          <p:nvGrpSpPr>
            <p:cNvPr id="3891" name=""/>
            <p:cNvGrpSpPr/>
            <p:nvPr/>
          </p:nvGrpSpPr>
          <p:grpSpPr>
            <a:xfrm>
              <a:off x="2946240" y="1302120"/>
              <a:ext cx="146160" cy="374400"/>
              <a:chOff x="2946240" y="1302120"/>
              <a:chExt cx="146160" cy="374400"/>
            </a:xfrm>
          </p:grpSpPr>
          <p:sp>
            <p:nvSpPr>
              <p:cNvPr id="3892" name=""/>
              <p:cNvSpPr/>
              <p:nvPr/>
            </p:nvSpPr>
            <p:spPr>
              <a:xfrm>
                <a:off x="2946240" y="1302120"/>
                <a:ext cx="14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3092400" y="13021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2946240" y="1676520"/>
                <a:ext cx="14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2946240" y="13021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6" name=""/>
            <p:cNvGrpSpPr/>
            <p:nvPr/>
          </p:nvGrpSpPr>
          <p:grpSpPr>
            <a:xfrm>
              <a:off x="2517840" y="1302120"/>
              <a:ext cx="145800" cy="374400"/>
              <a:chOff x="2517840" y="1302120"/>
              <a:chExt cx="145800" cy="374400"/>
            </a:xfrm>
          </p:grpSpPr>
          <p:sp>
            <p:nvSpPr>
              <p:cNvPr id="3897" name=""/>
              <p:cNvSpPr/>
              <p:nvPr/>
            </p:nvSpPr>
            <p:spPr>
              <a:xfrm>
                <a:off x="2517840" y="130212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2663640" y="13021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2517840" y="167652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2517840" y="13021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1" name=""/>
            <p:cNvGrpSpPr/>
            <p:nvPr/>
          </p:nvGrpSpPr>
          <p:grpSpPr>
            <a:xfrm>
              <a:off x="2052720" y="1295280"/>
              <a:ext cx="145800" cy="374040"/>
              <a:chOff x="2052720" y="1295280"/>
              <a:chExt cx="145800" cy="374040"/>
            </a:xfrm>
          </p:grpSpPr>
          <p:sp>
            <p:nvSpPr>
              <p:cNvPr id="3902" name=""/>
              <p:cNvSpPr/>
              <p:nvPr/>
            </p:nvSpPr>
            <p:spPr>
              <a:xfrm>
                <a:off x="2052720" y="129528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2198520" y="1295280"/>
                <a:ext cx="0" cy="37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2052720" y="166932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2052720" y="1295280"/>
                <a:ext cx="0" cy="37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06" name=""/>
          <p:cNvSpPr/>
          <p:nvPr/>
        </p:nvSpPr>
        <p:spPr>
          <a:xfrm flipV="1">
            <a:off x="2155680" y="251424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7" name=""/>
          <p:cNvGrpSpPr/>
          <p:nvPr/>
        </p:nvGrpSpPr>
        <p:grpSpPr>
          <a:xfrm>
            <a:off x="1914480" y="2133720"/>
            <a:ext cx="1142640" cy="380880"/>
            <a:chOff x="1914480" y="2133720"/>
            <a:chExt cx="1142640" cy="380880"/>
          </a:xfrm>
        </p:grpSpPr>
        <p:sp>
          <p:nvSpPr>
            <p:cNvPr id="3908" name=""/>
            <p:cNvSpPr/>
            <p:nvPr/>
          </p:nvSpPr>
          <p:spPr>
            <a:xfrm>
              <a:off x="1914480" y="2133720"/>
              <a:ext cx="237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2364120" y="2133720"/>
              <a:ext cx="237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819160" y="2133720"/>
              <a:ext cx="237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1" name=""/>
          <p:cNvGrpSpPr/>
          <p:nvPr/>
        </p:nvGrpSpPr>
        <p:grpSpPr>
          <a:xfrm>
            <a:off x="2101680" y="2473200"/>
            <a:ext cx="3935520" cy="3927600"/>
            <a:chOff x="2101680" y="2473200"/>
            <a:chExt cx="3935520" cy="3927600"/>
          </a:xfrm>
        </p:grpSpPr>
        <p:sp>
          <p:nvSpPr>
            <p:cNvPr id="3912" name=""/>
            <p:cNvSpPr/>
            <p:nvPr/>
          </p:nvSpPr>
          <p:spPr>
            <a:xfrm>
              <a:off x="5059080" y="2971800"/>
              <a:ext cx="0" cy="152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3" name=""/>
            <p:cNvGrpSpPr/>
            <p:nvPr/>
          </p:nvGrpSpPr>
          <p:grpSpPr>
            <a:xfrm>
              <a:off x="5891040" y="3511440"/>
              <a:ext cx="146160" cy="374760"/>
              <a:chOff x="5891040" y="3511440"/>
              <a:chExt cx="146160" cy="374760"/>
            </a:xfrm>
          </p:grpSpPr>
          <p:sp>
            <p:nvSpPr>
              <p:cNvPr id="3914" name=""/>
              <p:cNvSpPr/>
              <p:nvPr/>
            </p:nvSpPr>
            <p:spPr>
              <a:xfrm>
                <a:off x="5891040" y="3511440"/>
                <a:ext cx="14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6037200" y="35114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5891040" y="3886200"/>
                <a:ext cx="14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5891040" y="35114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8" name=""/>
            <p:cNvGrpSpPr/>
            <p:nvPr/>
          </p:nvGrpSpPr>
          <p:grpSpPr>
            <a:xfrm>
              <a:off x="5462280" y="3511440"/>
              <a:ext cx="146160" cy="374760"/>
              <a:chOff x="5462280" y="3511440"/>
              <a:chExt cx="146160" cy="374760"/>
            </a:xfrm>
          </p:grpSpPr>
          <p:sp>
            <p:nvSpPr>
              <p:cNvPr id="3919" name=""/>
              <p:cNvSpPr/>
              <p:nvPr/>
            </p:nvSpPr>
            <p:spPr>
              <a:xfrm>
                <a:off x="5462280" y="3511440"/>
                <a:ext cx="14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5608440" y="35114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5462280" y="3886200"/>
                <a:ext cx="14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5462280" y="35114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3" name=""/>
            <p:cNvGrpSpPr/>
            <p:nvPr/>
          </p:nvGrpSpPr>
          <p:grpSpPr>
            <a:xfrm>
              <a:off x="4962240" y="3504960"/>
              <a:ext cx="146160" cy="374760"/>
              <a:chOff x="4962240" y="3504960"/>
              <a:chExt cx="146160" cy="374760"/>
            </a:xfrm>
          </p:grpSpPr>
          <p:sp>
            <p:nvSpPr>
              <p:cNvPr id="3924" name=""/>
              <p:cNvSpPr/>
              <p:nvPr/>
            </p:nvSpPr>
            <p:spPr>
              <a:xfrm>
                <a:off x="4962240" y="3504960"/>
                <a:ext cx="14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5108400" y="3504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4962240" y="3879720"/>
                <a:ext cx="14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4962240" y="3504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8" name=""/>
            <p:cNvGrpSpPr/>
            <p:nvPr/>
          </p:nvGrpSpPr>
          <p:grpSpPr>
            <a:xfrm>
              <a:off x="2101680" y="2473200"/>
              <a:ext cx="3917880" cy="3927600"/>
              <a:chOff x="2101680" y="2473200"/>
              <a:chExt cx="3917880" cy="3927600"/>
            </a:xfrm>
          </p:grpSpPr>
          <p:sp>
            <p:nvSpPr>
              <p:cNvPr id="3929" name=""/>
              <p:cNvSpPr/>
              <p:nvPr/>
            </p:nvSpPr>
            <p:spPr>
              <a:xfrm>
                <a:off x="4025880" y="4038480"/>
                <a:ext cx="1047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KM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 flipV="1">
                <a:off x="5987880" y="2514600"/>
                <a:ext cx="0" cy="5983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2178000" y="2971800"/>
                <a:ext cx="289548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2627280" y="2743200"/>
                <a:ext cx="290340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3016080" y="2514600"/>
                <a:ext cx="297180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4971960" y="5410080"/>
                <a:ext cx="1047600" cy="990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M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3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35" name=""/>
              <p:cNvGrpSpPr/>
              <p:nvPr/>
            </p:nvGrpSpPr>
            <p:grpSpPr>
              <a:xfrm>
                <a:off x="5049720" y="3504960"/>
                <a:ext cx="915840" cy="685800"/>
                <a:chOff x="5049720" y="3504960"/>
                <a:chExt cx="915840" cy="685800"/>
              </a:xfrm>
            </p:grpSpPr>
            <p:sp>
              <p:nvSpPr>
                <p:cNvPr id="3936" name=""/>
                <p:cNvSpPr/>
                <p:nvPr/>
              </p:nvSpPr>
              <p:spPr>
                <a:xfrm>
                  <a:off x="5049720" y="3504960"/>
                  <a:ext cx="0" cy="65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7" name=""/>
                <p:cNvSpPr/>
                <p:nvPr/>
              </p:nvSpPr>
              <p:spPr>
                <a:xfrm>
                  <a:off x="5517720" y="3504960"/>
                  <a:ext cx="0" cy="65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8" name=""/>
                <p:cNvSpPr/>
                <p:nvPr/>
              </p:nvSpPr>
              <p:spPr>
                <a:xfrm>
                  <a:off x="5965560" y="350496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9" name=""/>
              <p:cNvGrpSpPr/>
              <p:nvPr/>
            </p:nvGrpSpPr>
            <p:grpSpPr>
              <a:xfrm>
                <a:off x="4921200" y="3046320"/>
                <a:ext cx="1042560" cy="458640"/>
                <a:chOff x="4921200" y="3046320"/>
                <a:chExt cx="1042560" cy="458640"/>
              </a:xfrm>
            </p:grpSpPr>
            <p:sp>
              <p:nvSpPr>
                <p:cNvPr id="3940" name=""/>
                <p:cNvSpPr/>
                <p:nvPr/>
              </p:nvSpPr>
              <p:spPr>
                <a:xfrm flipH="1" flipV="1">
                  <a:off x="5814720" y="3046320"/>
                  <a:ext cx="149040" cy="458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1" name=""/>
                <p:cNvSpPr/>
                <p:nvPr/>
              </p:nvSpPr>
              <p:spPr>
                <a:xfrm flipH="1" flipV="1">
                  <a:off x="4921200" y="3046320"/>
                  <a:ext cx="150480" cy="458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2" name=""/>
                <p:cNvSpPr/>
                <p:nvPr/>
              </p:nvSpPr>
              <p:spPr>
                <a:xfrm flipH="1">
                  <a:off x="4996080" y="3271680"/>
                  <a:ext cx="898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3" name=""/>
                <p:cNvSpPr/>
                <p:nvPr/>
              </p:nvSpPr>
              <p:spPr>
                <a:xfrm flipH="1" flipV="1">
                  <a:off x="5370480" y="3046320"/>
                  <a:ext cx="149040" cy="458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44" name=""/>
              <p:cNvSpPr/>
              <p:nvPr/>
            </p:nvSpPr>
            <p:spPr>
              <a:xfrm>
                <a:off x="5530680" y="2743200"/>
                <a:ext cx="0" cy="38088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45" name=""/>
              <p:cNvGrpSpPr/>
              <p:nvPr/>
            </p:nvGrpSpPr>
            <p:grpSpPr>
              <a:xfrm>
                <a:off x="4980600" y="3970800"/>
                <a:ext cx="984600" cy="221040"/>
                <a:chOff x="4980600" y="3970800"/>
                <a:chExt cx="984600" cy="221040"/>
              </a:xfrm>
            </p:grpSpPr>
            <p:sp>
              <p:nvSpPr>
                <p:cNvPr id="3946" name=""/>
                <p:cNvSpPr/>
                <p:nvPr/>
              </p:nvSpPr>
              <p:spPr>
                <a:xfrm rot="10883400">
                  <a:off x="5876640" y="3971880"/>
                  <a:ext cx="85680" cy="218880"/>
                </a:xfrm>
                <a:custGeom>
                  <a:avLst/>
                  <a:gdLst/>
                  <a:ahLst/>
                  <a:rect l="l" t="t" r="r" b="b"/>
                  <a:pathLst>
                    <a:path w="584" h="816">
                      <a:moveTo>
                        <a:pt x="0" y="0"/>
                      </a:moveTo>
                      <a:cubicBezTo>
                        <a:pt x="284" y="100"/>
                        <a:pt x="568" y="200"/>
                        <a:pt x="576" y="336"/>
                      </a:cubicBezTo>
                      <a:cubicBezTo>
                        <a:pt x="584" y="472"/>
                        <a:pt x="316" y="644"/>
                        <a:pt x="48" y="816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7" name=""/>
                <p:cNvSpPr/>
                <p:nvPr/>
              </p:nvSpPr>
              <p:spPr>
                <a:xfrm rot="10883400">
                  <a:off x="5448240" y="3971880"/>
                  <a:ext cx="85680" cy="218880"/>
                </a:xfrm>
                <a:custGeom>
                  <a:avLst/>
                  <a:gdLst/>
                  <a:ahLst/>
                  <a:rect l="l" t="t" r="r" b="b"/>
                  <a:pathLst>
                    <a:path w="584" h="816">
                      <a:moveTo>
                        <a:pt x="0" y="0"/>
                      </a:moveTo>
                      <a:cubicBezTo>
                        <a:pt x="284" y="100"/>
                        <a:pt x="568" y="200"/>
                        <a:pt x="576" y="336"/>
                      </a:cubicBezTo>
                      <a:cubicBezTo>
                        <a:pt x="584" y="472"/>
                        <a:pt x="316" y="644"/>
                        <a:pt x="48" y="816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8" name=""/>
                <p:cNvSpPr/>
                <p:nvPr/>
              </p:nvSpPr>
              <p:spPr>
                <a:xfrm rot="10883400">
                  <a:off x="4983120" y="3971880"/>
                  <a:ext cx="85680" cy="218880"/>
                </a:xfrm>
                <a:custGeom>
                  <a:avLst/>
                  <a:gdLst/>
                  <a:ahLst/>
                  <a:rect l="l" t="t" r="r" b="b"/>
                  <a:pathLst>
                    <a:path w="584" h="816">
                      <a:moveTo>
                        <a:pt x="0" y="0"/>
                      </a:moveTo>
                      <a:cubicBezTo>
                        <a:pt x="284" y="100"/>
                        <a:pt x="568" y="200"/>
                        <a:pt x="576" y="336"/>
                      </a:cubicBezTo>
                      <a:cubicBezTo>
                        <a:pt x="584" y="472"/>
                        <a:pt x="316" y="644"/>
                        <a:pt x="48" y="816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49" name=""/>
              <p:cNvSpPr/>
              <p:nvPr/>
            </p:nvSpPr>
            <p:spPr>
              <a:xfrm>
                <a:off x="4925880" y="4572000"/>
                <a:ext cx="195120" cy="990360"/>
              </a:xfrm>
              <a:custGeom>
                <a:avLst/>
                <a:gdLst/>
                <a:ahLst/>
                <a:rect l="l" t="t" r="r" b="b"/>
                <a:pathLst>
                  <a:path w="96" h="576">
                    <a:moveTo>
                      <a:pt x="96" y="0"/>
                    </a:moveTo>
                    <a:lnTo>
                      <a:pt x="96" y="192"/>
                    </a:lnTo>
                    <a:lnTo>
                      <a:pt x="0" y="192"/>
                    </a:lnTo>
                    <a:lnTo>
                      <a:pt x="0" y="336"/>
                    </a:lnTo>
                    <a:lnTo>
                      <a:pt x="96" y="336"/>
                    </a:lnTo>
                    <a:lnTo>
                      <a:pt x="96" y="57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5794200" y="4572000"/>
                <a:ext cx="177840" cy="1066680"/>
              </a:xfrm>
              <a:custGeom>
                <a:avLst/>
                <a:gdLst/>
                <a:ahLst/>
                <a:rect l="l" t="t" r="r" b="b"/>
                <a:pathLst>
                  <a:path w="96" h="576">
                    <a:moveTo>
                      <a:pt x="96" y="0"/>
                    </a:moveTo>
                    <a:lnTo>
                      <a:pt x="96" y="192"/>
                    </a:lnTo>
                    <a:lnTo>
                      <a:pt x="0" y="192"/>
                    </a:lnTo>
                    <a:lnTo>
                      <a:pt x="0" y="336"/>
                    </a:lnTo>
                    <a:lnTo>
                      <a:pt x="96" y="336"/>
                    </a:lnTo>
                    <a:lnTo>
                      <a:pt x="96" y="57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51" name=""/>
              <p:cNvGrpSpPr/>
              <p:nvPr/>
            </p:nvGrpSpPr>
            <p:grpSpPr>
              <a:xfrm>
                <a:off x="4921200" y="4227480"/>
                <a:ext cx="1066320" cy="380880"/>
                <a:chOff x="4921200" y="4227480"/>
                <a:chExt cx="1066320" cy="380880"/>
              </a:xfrm>
            </p:grpSpPr>
            <p:sp>
              <p:nvSpPr>
                <p:cNvPr id="3952" name=""/>
                <p:cNvSpPr/>
                <p:nvPr/>
              </p:nvSpPr>
              <p:spPr>
                <a:xfrm>
                  <a:off x="4921200" y="4227480"/>
                  <a:ext cx="22176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3" name=""/>
                <p:cNvSpPr/>
                <p:nvPr/>
              </p:nvSpPr>
              <p:spPr>
                <a:xfrm>
                  <a:off x="5340960" y="4227480"/>
                  <a:ext cx="22176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4" name=""/>
                <p:cNvSpPr/>
                <p:nvPr/>
              </p:nvSpPr>
              <p:spPr>
                <a:xfrm>
                  <a:off x="5765760" y="4227480"/>
                  <a:ext cx="22176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55" name=""/>
              <p:cNvSpPr/>
              <p:nvPr/>
            </p:nvSpPr>
            <p:spPr>
              <a:xfrm>
                <a:off x="5530680" y="457200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2101680" y="29304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2976480" y="2473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2558880" y="27003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9" name=""/>
          <p:cNvGrpSpPr/>
          <p:nvPr/>
        </p:nvGrpSpPr>
        <p:grpSpPr>
          <a:xfrm>
            <a:off x="189720" y="34200"/>
            <a:ext cx="1753920" cy="1667520"/>
            <a:chOff x="189720" y="34200"/>
            <a:chExt cx="1753920" cy="1667520"/>
          </a:xfrm>
        </p:grpSpPr>
        <p:sp>
          <p:nvSpPr>
            <p:cNvPr id="3960" name=""/>
            <p:cNvSpPr/>
            <p:nvPr/>
          </p:nvSpPr>
          <p:spPr>
            <a:xfrm rot="19759800">
              <a:off x="380520" y="304920"/>
              <a:ext cx="1371600" cy="1125360"/>
            </a:xfrm>
            <a:prstGeom prst="irregularSeal1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 rot="19570800">
              <a:off x="696960" y="5065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思考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"/>
          <p:cNvSpPr/>
          <p:nvPr/>
        </p:nvSpPr>
        <p:spPr>
          <a:xfrm>
            <a:off x="5261760" y="47703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K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3621240" y="57531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3539160" y="4846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K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3613680" y="38084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5312520" y="3352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6479280" y="37339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R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8" name=""/>
          <p:cNvGrpSpPr/>
          <p:nvPr/>
        </p:nvGrpSpPr>
        <p:grpSpPr>
          <a:xfrm>
            <a:off x="6148440" y="5221440"/>
            <a:ext cx="1036080" cy="510120"/>
            <a:chOff x="6148440" y="5221440"/>
            <a:chExt cx="1036080" cy="510120"/>
          </a:xfrm>
        </p:grpSpPr>
        <p:sp>
          <p:nvSpPr>
            <p:cNvPr id="3969" name=""/>
            <p:cNvSpPr/>
            <p:nvPr/>
          </p:nvSpPr>
          <p:spPr>
            <a:xfrm>
              <a:off x="6483600" y="52214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FR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6148440" y="5421600"/>
              <a:ext cx="412200" cy="206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6566400" y="5618160"/>
              <a:ext cx="618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6392880" y="5367600"/>
              <a:ext cx="0" cy="206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3" name=""/>
            <p:cNvGrpSpPr/>
            <p:nvPr/>
          </p:nvGrpSpPr>
          <p:grpSpPr>
            <a:xfrm>
              <a:off x="6175440" y="5236920"/>
              <a:ext cx="411840" cy="137520"/>
              <a:chOff x="6175440" y="5236920"/>
              <a:chExt cx="411840" cy="137520"/>
            </a:xfrm>
          </p:grpSpPr>
          <p:sp>
            <p:nvSpPr>
              <p:cNvPr id="3974" name=""/>
              <p:cNvSpPr/>
              <p:nvPr/>
            </p:nvSpPr>
            <p:spPr>
              <a:xfrm>
                <a:off x="6175440" y="5236920"/>
                <a:ext cx="1371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6312600" y="5236920"/>
                <a:ext cx="0" cy="137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6312600" y="5374440"/>
                <a:ext cx="1371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 flipV="1">
                <a:off x="6450120" y="5236920"/>
                <a:ext cx="0" cy="137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6450120" y="5236920"/>
                <a:ext cx="1371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9" name=""/>
            <p:cNvSpPr/>
            <p:nvPr/>
          </p:nvSpPr>
          <p:spPr>
            <a:xfrm>
              <a:off x="6242760" y="5420520"/>
              <a:ext cx="0" cy="206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0" name=""/>
          <p:cNvSpPr/>
          <p:nvPr/>
        </p:nvSpPr>
        <p:spPr>
          <a:xfrm>
            <a:off x="4307760" y="51184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 flipH="1" flipV="1">
            <a:off x="3733560" y="4117680"/>
            <a:ext cx="315720" cy="315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>
            <a:off x="228600" y="378000"/>
            <a:ext cx="861048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条皮带运输机分别由两台鼠笼异步电动机拖动，由一套起停按钮控制它们的起停。为避免物体堆积在运输机上，要求电动机按下述顺序起动和停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起动时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动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才能起动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停车时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停车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才能停车。应如何实现控制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 flipH="1" flipV="1">
            <a:off x="3657600" y="4586400"/>
            <a:ext cx="363600" cy="363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>
            <a:off x="1050120" y="2833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起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5" name=""/>
          <p:cNvGrpSpPr/>
          <p:nvPr/>
        </p:nvGrpSpPr>
        <p:grpSpPr>
          <a:xfrm>
            <a:off x="3129120" y="2876400"/>
            <a:ext cx="4109760" cy="3084480"/>
            <a:chOff x="3129120" y="2876400"/>
            <a:chExt cx="4109760" cy="3084480"/>
          </a:xfrm>
        </p:grpSpPr>
        <p:sp>
          <p:nvSpPr>
            <p:cNvPr id="3986" name=""/>
            <p:cNvSpPr/>
            <p:nvPr/>
          </p:nvSpPr>
          <p:spPr>
            <a:xfrm>
              <a:off x="3473280" y="561816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3824280" y="5408640"/>
              <a:ext cx="0" cy="20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4160880" y="561636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9" name=""/>
            <p:cNvGrpSpPr/>
            <p:nvPr/>
          </p:nvGrpSpPr>
          <p:grpSpPr>
            <a:xfrm>
              <a:off x="3129120" y="2876400"/>
              <a:ext cx="4109760" cy="3084480"/>
              <a:chOff x="3129120" y="2876400"/>
              <a:chExt cx="4109760" cy="3084480"/>
            </a:xfrm>
          </p:grpSpPr>
          <p:sp>
            <p:nvSpPr>
              <p:cNvPr id="3990" name=""/>
              <p:cNvSpPr/>
              <p:nvPr/>
            </p:nvSpPr>
            <p:spPr>
              <a:xfrm>
                <a:off x="5467320" y="3762360"/>
                <a:ext cx="480960" cy="755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7184880" y="300672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92" name=""/>
              <p:cNvGrpSpPr/>
              <p:nvPr/>
            </p:nvGrpSpPr>
            <p:grpSpPr>
              <a:xfrm>
                <a:off x="3679920" y="4186080"/>
                <a:ext cx="480960" cy="358560"/>
                <a:chOff x="3679920" y="4186080"/>
                <a:chExt cx="480960" cy="358560"/>
              </a:xfrm>
            </p:grpSpPr>
            <p:sp>
              <p:nvSpPr>
                <p:cNvPr id="3993" name=""/>
                <p:cNvSpPr/>
                <p:nvPr/>
              </p:nvSpPr>
              <p:spPr>
                <a:xfrm flipV="1">
                  <a:off x="3679920" y="4186080"/>
                  <a:ext cx="480960" cy="20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4" name=""/>
                <p:cNvSpPr/>
                <p:nvPr/>
              </p:nvSpPr>
              <p:spPr>
                <a:xfrm flipV="1">
                  <a:off x="3954600" y="4263120"/>
                  <a:ext cx="0" cy="274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95" name=""/>
                <p:cNvGrpSpPr/>
                <p:nvPr/>
              </p:nvGrpSpPr>
              <p:grpSpPr>
                <a:xfrm>
                  <a:off x="3817080" y="4476240"/>
                  <a:ext cx="275040" cy="68400"/>
                  <a:chOff x="3817080" y="4476240"/>
                  <a:chExt cx="275040" cy="68400"/>
                </a:xfrm>
              </p:grpSpPr>
              <p:sp>
                <p:nvSpPr>
                  <p:cNvPr id="3996" name=""/>
                  <p:cNvSpPr/>
                  <p:nvPr/>
                </p:nvSpPr>
                <p:spPr>
                  <a:xfrm>
                    <a:off x="3817080" y="4476240"/>
                    <a:ext cx="0" cy="68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7" name=""/>
                  <p:cNvSpPr/>
                  <p:nvPr/>
                </p:nvSpPr>
                <p:spPr>
                  <a:xfrm>
                    <a:off x="3817080" y="4544640"/>
                    <a:ext cx="275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8" name=""/>
                  <p:cNvSpPr/>
                  <p:nvPr/>
                </p:nvSpPr>
                <p:spPr>
                  <a:xfrm flipV="1">
                    <a:off x="4092120" y="4476240"/>
                    <a:ext cx="0" cy="68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99" name=""/>
              <p:cNvSpPr/>
              <p:nvPr/>
            </p:nvSpPr>
            <p:spPr>
              <a:xfrm>
                <a:off x="3757680" y="5419440"/>
                <a:ext cx="34272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 flipV="1">
                <a:off x="4573440" y="4174920"/>
                <a:ext cx="0" cy="61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3198960" y="4174920"/>
                <a:ext cx="480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4160880" y="4174920"/>
                <a:ext cx="412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3198960" y="4792680"/>
                <a:ext cx="480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 flipV="1">
                <a:off x="3679920" y="4797000"/>
                <a:ext cx="41256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4092480" y="4792680"/>
                <a:ext cx="480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6" name=""/>
              <p:cNvGrpSpPr/>
              <p:nvPr/>
            </p:nvGrpSpPr>
            <p:grpSpPr>
              <a:xfrm>
                <a:off x="3198960" y="4174920"/>
                <a:ext cx="0" cy="1442880"/>
                <a:chOff x="3198960" y="4174920"/>
                <a:chExt cx="0" cy="1442880"/>
              </a:xfrm>
            </p:grpSpPr>
            <p:sp>
              <p:nvSpPr>
                <p:cNvPr id="4007" name=""/>
                <p:cNvSpPr/>
                <p:nvPr/>
              </p:nvSpPr>
              <p:spPr>
                <a:xfrm>
                  <a:off x="3198960" y="4174920"/>
                  <a:ext cx="0" cy="755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"/>
                <p:cNvSpPr/>
                <p:nvPr/>
              </p:nvSpPr>
              <p:spPr>
                <a:xfrm>
                  <a:off x="3198960" y="4930560"/>
                  <a:ext cx="0" cy="68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9" name=""/>
              <p:cNvSpPr/>
              <p:nvPr/>
            </p:nvSpPr>
            <p:spPr>
              <a:xfrm>
                <a:off x="3198960" y="5618160"/>
                <a:ext cx="550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5467320" y="5205240"/>
                <a:ext cx="480960" cy="755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 flipV="1">
                <a:off x="7184880" y="4174920"/>
                <a:ext cx="0" cy="1478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3198960" y="3004920"/>
                <a:ext cx="0" cy="116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7129440" y="2876400"/>
                <a:ext cx="109440" cy="1094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3129120" y="2876400"/>
                <a:ext cx="110880" cy="1094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4505400" y="4174920"/>
                <a:ext cx="96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16" name=""/>
              <p:cNvGrpSpPr/>
              <p:nvPr/>
            </p:nvGrpSpPr>
            <p:grpSpPr>
              <a:xfrm>
                <a:off x="5948280" y="3736440"/>
                <a:ext cx="1236600" cy="446400"/>
                <a:chOff x="5948280" y="3736440"/>
                <a:chExt cx="1236600" cy="446400"/>
              </a:xfrm>
            </p:grpSpPr>
            <p:sp>
              <p:nvSpPr>
                <p:cNvPr id="4017" name=""/>
                <p:cNvSpPr/>
                <p:nvPr/>
              </p:nvSpPr>
              <p:spPr>
                <a:xfrm>
                  <a:off x="5948280" y="4174920"/>
                  <a:ext cx="274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8" name=""/>
                <p:cNvSpPr/>
                <p:nvPr/>
              </p:nvSpPr>
              <p:spPr>
                <a:xfrm>
                  <a:off x="6145200" y="3976560"/>
                  <a:ext cx="412920" cy="206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9" name=""/>
                <p:cNvSpPr/>
                <p:nvPr/>
              </p:nvSpPr>
              <p:spPr>
                <a:xfrm>
                  <a:off x="6566040" y="4174920"/>
                  <a:ext cx="618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>
                  <a:off x="6392880" y="3873240"/>
                  <a:ext cx="0" cy="20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21" name=""/>
                <p:cNvGrpSpPr/>
                <p:nvPr/>
              </p:nvGrpSpPr>
              <p:grpSpPr>
                <a:xfrm>
                  <a:off x="6175440" y="3736440"/>
                  <a:ext cx="412560" cy="136800"/>
                  <a:chOff x="6175440" y="3736440"/>
                  <a:chExt cx="412560" cy="136800"/>
                </a:xfrm>
              </p:grpSpPr>
              <p:sp>
                <p:nvSpPr>
                  <p:cNvPr id="4022" name=""/>
                  <p:cNvSpPr/>
                  <p:nvPr/>
                </p:nvSpPr>
                <p:spPr>
                  <a:xfrm>
                    <a:off x="6175440" y="3736440"/>
                    <a:ext cx="137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3" name=""/>
                  <p:cNvSpPr/>
                  <p:nvPr/>
                </p:nvSpPr>
                <p:spPr>
                  <a:xfrm>
                    <a:off x="6312960" y="373680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4" name=""/>
                  <p:cNvSpPr/>
                  <p:nvPr/>
                </p:nvSpPr>
                <p:spPr>
                  <a:xfrm>
                    <a:off x="6312960" y="3872880"/>
                    <a:ext cx="137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5" name=""/>
                  <p:cNvSpPr/>
                  <p:nvPr/>
                </p:nvSpPr>
                <p:spPr>
                  <a:xfrm flipV="1">
                    <a:off x="6450480" y="373644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6" name=""/>
                  <p:cNvSpPr/>
                  <p:nvPr/>
                </p:nvSpPr>
                <p:spPr>
                  <a:xfrm>
                    <a:off x="6450480" y="3736440"/>
                    <a:ext cx="137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27" name=""/>
                <p:cNvSpPr/>
                <p:nvPr/>
              </p:nvSpPr>
              <p:spPr>
                <a:xfrm>
                  <a:off x="6210360" y="3976560"/>
                  <a:ext cx="0" cy="206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28" name=""/>
              <p:cNvSpPr/>
              <p:nvPr/>
            </p:nvSpPr>
            <p:spPr>
              <a:xfrm>
                <a:off x="4092480" y="5616360"/>
                <a:ext cx="41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4917960" y="5616360"/>
                <a:ext cx="549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 flipV="1">
                <a:off x="3932280" y="5577840"/>
                <a:ext cx="0" cy="27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31" name=""/>
              <p:cNvGrpSpPr/>
              <p:nvPr/>
            </p:nvGrpSpPr>
            <p:grpSpPr>
              <a:xfrm>
                <a:off x="3795840" y="5790960"/>
                <a:ext cx="274680" cy="68400"/>
                <a:chOff x="3795840" y="5790960"/>
                <a:chExt cx="274680" cy="68400"/>
              </a:xfrm>
            </p:grpSpPr>
            <p:sp>
              <p:nvSpPr>
                <p:cNvPr id="4032" name=""/>
                <p:cNvSpPr/>
                <p:nvPr/>
              </p:nvSpPr>
              <p:spPr>
                <a:xfrm>
                  <a:off x="3795840" y="5790960"/>
                  <a:ext cx="0" cy="68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>
                  <a:off x="3795840" y="5859360"/>
                  <a:ext cx="274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4" name=""/>
                <p:cNvSpPr/>
                <p:nvPr/>
              </p:nvSpPr>
              <p:spPr>
                <a:xfrm flipV="1">
                  <a:off x="4070520" y="5790960"/>
                  <a:ext cx="0" cy="68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5" name=""/>
              <p:cNvGrpSpPr/>
              <p:nvPr/>
            </p:nvGrpSpPr>
            <p:grpSpPr>
              <a:xfrm>
                <a:off x="5943600" y="5200200"/>
                <a:ext cx="1236600" cy="446400"/>
                <a:chOff x="5943600" y="5200200"/>
                <a:chExt cx="1236600" cy="446400"/>
              </a:xfrm>
            </p:grpSpPr>
            <p:sp>
              <p:nvSpPr>
                <p:cNvPr id="4036" name=""/>
                <p:cNvSpPr/>
                <p:nvPr/>
              </p:nvSpPr>
              <p:spPr>
                <a:xfrm>
                  <a:off x="5943600" y="5638680"/>
                  <a:ext cx="274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7" name=""/>
                <p:cNvSpPr/>
                <p:nvPr/>
              </p:nvSpPr>
              <p:spPr>
                <a:xfrm>
                  <a:off x="6140520" y="5440320"/>
                  <a:ext cx="412920" cy="206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>
                  <a:off x="6561360" y="5638680"/>
                  <a:ext cx="618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9" name=""/>
                <p:cNvSpPr/>
                <p:nvPr/>
              </p:nvSpPr>
              <p:spPr>
                <a:xfrm>
                  <a:off x="6388200" y="5337000"/>
                  <a:ext cx="0" cy="20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40" name=""/>
                <p:cNvGrpSpPr/>
                <p:nvPr/>
              </p:nvGrpSpPr>
              <p:grpSpPr>
                <a:xfrm>
                  <a:off x="6170760" y="5200200"/>
                  <a:ext cx="412560" cy="136800"/>
                  <a:chOff x="6170760" y="5200200"/>
                  <a:chExt cx="412560" cy="136800"/>
                </a:xfrm>
              </p:grpSpPr>
              <p:sp>
                <p:nvSpPr>
                  <p:cNvPr id="4041" name=""/>
                  <p:cNvSpPr/>
                  <p:nvPr/>
                </p:nvSpPr>
                <p:spPr>
                  <a:xfrm>
                    <a:off x="6170760" y="5200200"/>
                    <a:ext cx="137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2" name=""/>
                  <p:cNvSpPr/>
                  <p:nvPr/>
                </p:nvSpPr>
                <p:spPr>
                  <a:xfrm>
                    <a:off x="6308280" y="520056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3" name=""/>
                  <p:cNvSpPr/>
                  <p:nvPr/>
                </p:nvSpPr>
                <p:spPr>
                  <a:xfrm>
                    <a:off x="6308280" y="5336640"/>
                    <a:ext cx="137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4" name=""/>
                  <p:cNvSpPr/>
                  <p:nvPr/>
                </p:nvSpPr>
                <p:spPr>
                  <a:xfrm flipV="1">
                    <a:off x="6445800" y="520020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5" name=""/>
                  <p:cNvSpPr/>
                  <p:nvPr/>
                </p:nvSpPr>
                <p:spPr>
                  <a:xfrm>
                    <a:off x="6445800" y="5200200"/>
                    <a:ext cx="137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46" name=""/>
                <p:cNvSpPr/>
                <p:nvPr/>
              </p:nvSpPr>
              <p:spPr>
                <a:xfrm>
                  <a:off x="6205680" y="5440320"/>
                  <a:ext cx="0" cy="206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47" name=""/>
              <p:cNvSpPr/>
              <p:nvPr/>
            </p:nvSpPr>
            <p:spPr>
              <a:xfrm flipH="1">
                <a:off x="4572000" y="5610240"/>
                <a:ext cx="3808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48" name=""/>
          <p:cNvSpPr/>
          <p:nvPr/>
        </p:nvSpPr>
        <p:spPr>
          <a:xfrm>
            <a:off x="5791320" y="4419720"/>
            <a:ext cx="1218960" cy="457200"/>
          </a:xfrm>
          <a:prstGeom prst="wedgeEllipseCallout">
            <a:avLst>
              <a:gd name="adj1" fmla="val -50259"/>
              <a:gd name="adj2" fmla="val -129513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通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5688000" y="5997600"/>
            <a:ext cx="1219320" cy="457200"/>
          </a:xfrm>
          <a:prstGeom prst="wedgeEllipseCallout">
            <a:avLst>
              <a:gd name="adj1" fmla="val -50259"/>
              <a:gd name="adj2" fmla="val -129513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 flipH="1" flipV="1">
            <a:off x="4627440" y="5448240"/>
            <a:ext cx="363600" cy="363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3962520" y="6095880"/>
            <a:ext cx="1218960" cy="457200"/>
          </a:xfrm>
          <a:prstGeom prst="wedgeEllipseCallout">
            <a:avLst>
              <a:gd name="adj1" fmla="val 14583"/>
              <a:gd name="adj2" fmla="val -13159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闭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1905120" y="5181480"/>
            <a:ext cx="1218960" cy="457200"/>
          </a:xfrm>
          <a:prstGeom prst="wedgeEllipseCallout">
            <a:avLst>
              <a:gd name="adj1" fmla="val 102342"/>
              <a:gd name="adj2" fmla="val -114930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闭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"/>
          <p:cNvSpPr/>
          <p:nvPr/>
        </p:nvSpPr>
        <p:spPr>
          <a:xfrm>
            <a:off x="3613680" y="38084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5312520" y="3352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6479280" y="37339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R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304920" y="378000"/>
            <a:ext cx="872964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条皮带运输机分别由两台鼠笼异步电动机拖动，由一套起停按钮控制它们的起停。为避免物体堆积在运输机上，要求电动机按下述顺序起动和停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起动时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动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才能起动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停车时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停车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才能停车。应如何实现控制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7" name=""/>
          <p:cNvGrpSpPr/>
          <p:nvPr/>
        </p:nvGrpSpPr>
        <p:grpSpPr>
          <a:xfrm>
            <a:off x="3129120" y="2876400"/>
            <a:ext cx="4109760" cy="3084480"/>
            <a:chOff x="3129120" y="2876400"/>
            <a:chExt cx="4109760" cy="3084480"/>
          </a:xfrm>
        </p:grpSpPr>
        <p:sp>
          <p:nvSpPr>
            <p:cNvPr id="4058" name=""/>
            <p:cNvSpPr/>
            <p:nvPr/>
          </p:nvSpPr>
          <p:spPr>
            <a:xfrm>
              <a:off x="3473280" y="561816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3824280" y="5408640"/>
              <a:ext cx="0" cy="20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4160880" y="561636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1" name=""/>
            <p:cNvGrpSpPr/>
            <p:nvPr/>
          </p:nvGrpSpPr>
          <p:grpSpPr>
            <a:xfrm>
              <a:off x="3129120" y="2876400"/>
              <a:ext cx="4109760" cy="3084480"/>
              <a:chOff x="3129120" y="2876400"/>
              <a:chExt cx="4109760" cy="3084480"/>
            </a:xfrm>
          </p:grpSpPr>
          <p:sp>
            <p:nvSpPr>
              <p:cNvPr id="4062" name=""/>
              <p:cNvSpPr/>
              <p:nvPr/>
            </p:nvSpPr>
            <p:spPr>
              <a:xfrm>
                <a:off x="5467320" y="3762360"/>
                <a:ext cx="480960" cy="755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7184880" y="300672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4" name=""/>
              <p:cNvGrpSpPr/>
              <p:nvPr/>
            </p:nvGrpSpPr>
            <p:grpSpPr>
              <a:xfrm>
                <a:off x="3679920" y="4186080"/>
                <a:ext cx="480960" cy="358560"/>
                <a:chOff x="3679920" y="4186080"/>
                <a:chExt cx="480960" cy="358560"/>
              </a:xfrm>
            </p:grpSpPr>
            <p:sp>
              <p:nvSpPr>
                <p:cNvPr id="4065" name=""/>
                <p:cNvSpPr/>
                <p:nvPr/>
              </p:nvSpPr>
              <p:spPr>
                <a:xfrm flipV="1">
                  <a:off x="3679920" y="4186080"/>
                  <a:ext cx="480960" cy="20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6" name=""/>
                <p:cNvSpPr/>
                <p:nvPr/>
              </p:nvSpPr>
              <p:spPr>
                <a:xfrm flipV="1">
                  <a:off x="3954600" y="4263120"/>
                  <a:ext cx="0" cy="274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67" name=""/>
                <p:cNvGrpSpPr/>
                <p:nvPr/>
              </p:nvGrpSpPr>
              <p:grpSpPr>
                <a:xfrm>
                  <a:off x="3817080" y="4476240"/>
                  <a:ext cx="275040" cy="68400"/>
                  <a:chOff x="3817080" y="4476240"/>
                  <a:chExt cx="275040" cy="68400"/>
                </a:xfrm>
              </p:grpSpPr>
              <p:sp>
                <p:nvSpPr>
                  <p:cNvPr id="4068" name=""/>
                  <p:cNvSpPr/>
                  <p:nvPr/>
                </p:nvSpPr>
                <p:spPr>
                  <a:xfrm>
                    <a:off x="3817080" y="4476240"/>
                    <a:ext cx="0" cy="68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9" name=""/>
                  <p:cNvSpPr/>
                  <p:nvPr/>
                </p:nvSpPr>
                <p:spPr>
                  <a:xfrm>
                    <a:off x="3817080" y="4544640"/>
                    <a:ext cx="275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0" name=""/>
                  <p:cNvSpPr/>
                  <p:nvPr/>
                </p:nvSpPr>
                <p:spPr>
                  <a:xfrm flipV="1">
                    <a:off x="4092120" y="4476240"/>
                    <a:ext cx="0" cy="68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71" name=""/>
              <p:cNvSpPr/>
              <p:nvPr/>
            </p:nvSpPr>
            <p:spPr>
              <a:xfrm>
                <a:off x="3757680" y="5419440"/>
                <a:ext cx="34272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 flipV="1">
                <a:off x="4573440" y="4174920"/>
                <a:ext cx="0" cy="61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3198960" y="4174920"/>
                <a:ext cx="480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4160880" y="4174920"/>
                <a:ext cx="412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3198960" y="4792680"/>
                <a:ext cx="480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 flipV="1">
                <a:off x="3679920" y="4797000"/>
                <a:ext cx="41256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4092480" y="4792680"/>
                <a:ext cx="480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8" name=""/>
              <p:cNvGrpSpPr/>
              <p:nvPr/>
            </p:nvGrpSpPr>
            <p:grpSpPr>
              <a:xfrm>
                <a:off x="3198960" y="4174920"/>
                <a:ext cx="0" cy="1442880"/>
                <a:chOff x="3198960" y="4174920"/>
                <a:chExt cx="0" cy="1442880"/>
              </a:xfrm>
            </p:grpSpPr>
            <p:sp>
              <p:nvSpPr>
                <p:cNvPr id="4079" name=""/>
                <p:cNvSpPr/>
                <p:nvPr/>
              </p:nvSpPr>
              <p:spPr>
                <a:xfrm>
                  <a:off x="3198960" y="4174920"/>
                  <a:ext cx="0" cy="755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0" name=""/>
                <p:cNvSpPr/>
                <p:nvPr/>
              </p:nvSpPr>
              <p:spPr>
                <a:xfrm>
                  <a:off x="3198960" y="4930560"/>
                  <a:ext cx="0" cy="68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1" name=""/>
              <p:cNvSpPr/>
              <p:nvPr/>
            </p:nvSpPr>
            <p:spPr>
              <a:xfrm>
                <a:off x="3198960" y="5618160"/>
                <a:ext cx="550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5467320" y="5205240"/>
                <a:ext cx="480960" cy="755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 flipV="1">
                <a:off x="7184880" y="4174920"/>
                <a:ext cx="0" cy="1478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3198960" y="3004920"/>
                <a:ext cx="0" cy="116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7129440" y="2876400"/>
                <a:ext cx="109440" cy="1094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3129120" y="2876400"/>
                <a:ext cx="110880" cy="1094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4505400" y="4174920"/>
                <a:ext cx="96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8" name=""/>
              <p:cNvGrpSpPr/>
              <p:nvPr/>
            </p:nvGrpSpPr>
            <p:grpSpPr>
              <a:xfrm>
                <a:off x="5948280" y="3736440"/>
                <a:ext cx="1236600" cy="446400"/>
                <a:chOff x="5948280" y="3736440"/>
                <a:chExt cx="1236600" cy="446400"/>
              </a:xfrm>
            </p:grpSpPr>
            <p:sp>
              <p:nvSpPr>
                <p:cNvPr id="4089" name=""/>
                <p:cNvSpPr/>
                <p:nvPr/>
              </p:nvSpPr>
              <p:spPr>
                <a:xfrm>
                  <a:off x="5948280" y="4174920"/>
                  <a:ext cx="274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0" name=""/>
                <p:cNvSpPr/>
                <p:nvPr/>
              </p:nvSpPr>
              <p:spPr>
                <a:xfrm>
                  <a:off x="6145200" y="3976560"/>
                  <a:ext cx="412920" cy="206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1" name=""/>
                <p:cNvSpPr/>
                <p:nvPr/>
              </p:nvSpPr>
              <p:spPr>
                <a:xfrm>
                  <a:off x="6566040" y="4174920"/>
                  <a:ext cx="618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2" name=""/>
                <p:cNvSpPr/>
                <p:nvPr/>
              </p:nvSpPr>
              <p:spPr>
                <a:xfrm>
                  <a:off x="6392880" y="3873240"/>
                  <a:ext cx="0" cy="20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93" name=""/>
                <p:cNvGrpSpPr/>
                <p:nvPr/>
              </p:nvGrpSpPr>
              <p:grpSpPr>
                <a:xfrm>
                  <a:off x="6175440" y="3736440"/>
                  <a:ext cx="412560" cy="136800"/>
                  <a:chOff x="6175440" y="3736440"/>
                  <a:chExt cx="412560" cy="136800"/>
                </a:xfrm>
              </p:grpSpPr>
              <p:sp>
                <p:nvSpPr>
                  <p:cNvPr id="4094" name=""/>
                  <p:cNvSpPr/>
                  <p:nvPr/>
                </p:nvSpPr>
                <p:spPr>
                  <a:xfrm>
                    <a:off x="6175440" y="3736440"/>
                    <a:ext cx="137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5" name=""/>
                  <p:cNvSpPr/>
                  <p:nvPr/>
                </p:nvSpPr>
                <p:spPr>
                  <a:xfrm>
                    <a:off x="6312960" y="373680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6" name=""/>
                  <p:cNvSpPr/>
                  <p:nvPr/>
                </p:nvSpPr>
                <p:spPr>
                  <a:xfrm>
                    <a:off x="6312960" y="3872880"/>
                    <a:ext cx="137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7" name=""/>
                  <p:cNvSpPr/>
                  <p:nvPr/>
                </p:nvSpPr>
                <p:spPr>
                  <a:xfrm flipV="1">
                    <a:off x="6450480" y="373644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8" name=""/>
                  <p:cNvSpPr/>
                  <p:nvPr/>
                </p:nvSpPr>
                <p:spPr>
                  <a:xfrm>
                    <a:off x="6450480" y="3736440"/>
                    <a:ext cx="137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99" name=""/>
                <p:cNvSpPr/>
                <p:nvPr/>
              </p:nvSpPr>
              <p:spPr>
                <a:xfrm>
                  <a:off x="6210360" y="3976560"/>
                  <a:ext cx="0" cy="206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0" name=""/>
              <p:cNvSpPr/>
              <p:nvPr/>
            </p:nvSpPr>
            <p:spPr>
              <a:xfrm>
                <a:off x="4092480" y="5616360"/>
                <a:ext cx="41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4917960" y="5616360"/>
                <a:ext cx="549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 flipV="1">
                <a:off x="3932280" y="5577840"/>
                <a:ext cx="0" cy="27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03" name=""/>
              <p:cNvGrpSpPr/>
              <p:nvPr/>
            </p:nvGrpSpPr>
            <p:grpSpPr>
              <a:xfrm>
                <a:off x="3795840" y="5790960"/>
                <a:ext cx="274680" cy="68400"/>
                <a:chOff x="3795840" y="5790960"/>
                <a:chExt cx="274680" cy="68400"/>
              </a:xfrm>
            </p:grpSpPr>
            <p:sp>
              <p:nvSpPr>
                <p:cNvPr id="4104" name=""/>
                <p:cNvSpPr/>
                <p:nvPr/>
              </p:nvSpPr>
              <p:spPr>
                <a:xfrm>
                  <a:off x="3795840" y="5790960"/>
                  <a:ext cx="0" cy="68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5" name=""/>
                <p:cNvSpPr/>
                <p:nvPr/>
              </p:nvSpPr>
              <p:spPr>
                <a:xfrm>
                  <a:off x="3795840" y="5859360"/>
                  <a:ext cx="274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6" name=""/>
                <p:cNvSpPr/>
                <p:nvPr/>
              </p:nvSpPr>
              <p:spPr>
                <a:xfrm flipV="1">
                  <a:off x="4070520" y="5790960"/>
                  <a:ext cx="0" cy="68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7" name=""/>
              <p:cNvGrpSpPr/>
              <p:nvPr/>
            </p:nvGrpSpPr>
            <p:grpSpPr>
              <a:xfrm>
                <a:off x="5943600" y="5200200"/>
                <a:ext cx="1236600" cy="446400"/>
                <a:chOff x="5943600" y="5200200"/>
                <a:chExt cx="1236600" cy="446400"/>
              </a:xfrm>
            </p:grpSpPr>
            <p:sp>
              <p:nvSpPr>
                <p:cNvPr id="4108" name=""/>
                <p:cNvSpPr/>
                <p:nvPr/>
              </p:nvSpPr>
              <p:spPr>
                <a:xfrm>
                  <a:off x="5943600" y="5638680"/>
                  <a:ext cx="274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9" name=""/>
                <p:cNvSpPr/>
                <p:nvPr/>
              </p:nvSpPr>
              <p:spPr>
                <a:xfrm>
                  <a:off x="6140520" y="5440320"/>
                  <a:ext cx="412920" cy="206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0" name=""/>
                <p:cNvSpPr/>
                <p:nvPr/>
              </p:nvSpPr>
              <p:spPr>
                <a:xfrm>
                  <a:off x="6561360" y="5638680"/>
                  <a:ext cx="618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1" name=""/>
                <p:cNvSpPr/>
                <p:nvPr/>
              </p:nvSpPr>
              <p:spPr>
                <a:xfrm>
                  <a:off x="6388200" y="5337000"/>
                  <a:ext cx="0" cy="20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2" name=""/>
                <p:cNvGrpSpPr/>
                <p:nvPr/>
              </p:nvGrpSpPr>
              <p:grpSpPr>
                <a:xfrm>
                  <a:off x="6170760" y="5200200"/>
                  <a:ext cx="412560" cy="136800"/>
                  <a:chOff x="6170760" y="5200200"/>
                  <a:chExt cx="412560" cy="136800"/>
                </a:xfrm>
              </p:grpSpPr>
              <p:sp>
                <p:nvSpPr>
                  <p:cNvPr id="4113" name=""/>
                  <p:cNvSpPr/>
                  <p:nvPr/>
                </p:nvSpPr>
                <p:spPr>
                  <a:xfrm>
                    <a:off x="6170760" y="5200200"/>
                    <a:ext cx="137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4" name=""/>
                  <p:cNvSpPr/>
                  <p:nvPr/>
                </p:nvSpPr>
                <p:spPr>
                  <a:xfrm>
                    <a:off x="6308280" y="520056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5" name=""/>
                  <p:cNvSpPr/>
                  <p:nvPr/>
                </p:nvSpPr>
                <p:spPr>
                  <a:xfrm>
                    <a:off x="6308280" y="5336640"/>
                    <a:ext cx="137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6" name=""/>
                  <p:cNvSpPr/>
                  <p:nvPr/>
                </p:nvSpPr>
                <p:spPr>
                  <a:xfrm flipV="1">
                    <a:off x="6445800" y="520020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7" name=""/>
                  <p:cNvSpPr/>
                  <p:nvPr/>
                </p:nvSpPr>
                <p:spPr>
                  <a:xfrm>
                    <a:off x="6445800" y="5200200"/>
                    <a:ext cx="137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18" name=""/>
                <p:cNvSpPr/>
                <p:nvPr/>
              </p:nvSpPr>
              <p:spPr>
                <a:xfrm>
                  <a:off x="6205680" y="5440320"/>
                  <a:ext cx="0" cy="206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19" name=""/>
              <p:cNvSpPr/>
              <p:nvPr/>
            </p:nvSpPr>
            <p:spPr>
              <a:xfrm flipH="1">
                <a:off x="4572000" y="5610240"/>
                <a:ext cx="3808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20" name=""/>
          <p:cNvGrpSpPr/>
          <p:nvPr/>
        </p:nvGrpSpPr>
        <p:grpSpPr>
          <a:xfrm>
            <a:off x="3539160" y="4117680"/>
            <a:ext cx="3645360" cy="2156040"/>
            <a:chOff x="3539160" y="4117680"/>
            <a:chExt cx="3645360" cy="2156040"/>
          </a:xfrm>
        </p:grpSpPr>
        <p:sp>
          <p:nvSpPr>
            <p:cNvPr id="4121" name=""/>
            <p:cNvSpPr/>
            <p:nvPr/>
          </p:nvSpPr>
          <p:spPr>
            <a:xfrm>
              <a:off x="5261760" y="477036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KM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3621240" y="5753160"/>
              <a:ext cx="6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3539160" y="484668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KM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4" name=""/>
            <p:cNvGrpSpPr/>
            <p:nvPr/>
          </p:nvGrpSpPr>
          <p:grpSpPr>
            <a:xfrm>
              <a:off x="6148440" y="5221440"/>
              <a:ext cx="1036080" cy="510120"/>
              <a:chOff x="6148440" y="5221440"/>
              <a:chExt cx="1036080" cy="510120"/>
            </a:xfrm>
          </p:grpSpPr>
          <p:sp>
            <p:nvSpPr>
              <p:cNvPr id="4125" name=""/>
              <p:cNvSpPr/>
              <p:nvPr/>
            </p:nvSpPr>
            <p:spPr>
              <a:xfrm>
                <a:off x="6483600" y="5221440"/>
                <a:ext cx="67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FR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6148440" y="5421600"/>
                <a:ext cx="412200" cy="206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6566400" y="5618160"/>
                <a:ext cx="6181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6392880" y="5367600"/>
                <a:ext cx="0" cy="206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29" name=""/>
              <p:cNvGrpSpPr/>
              <p:nvPr/>
            </p:nvGrpSpPr>
            <p:grpSpPr>
              <a:xfrm>
                <a:off x="6175440" y="5236920"/>
                <a:ext cx="411840" cy="137520"/>
                <a:chOff x="6175440" y="5236920"/>
                <a:chExt cx="411840" cy="137520"/>
              </a:xfrm>
            </p:grpSpPr>
            <p:sp>
              <p:nvSpPr>
                <p:cNvPr id="4130" name=""/>
                <p:cNvSpPr/>
                <p:nvPr/>
              </p:nvSpPr>
              <p:spPr>
                <a:xfrm>
                  <a:off x="6175440" y="5236920"/>
                  <a:ext cx="1371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1" name=""/>
                <p:cNvSpPr/>
                <p:nvPr/>
              </p:nvSpPr>
              <p:spPr>
                <a:xfrm>
                  <a:off x="6312600" y="5236920"/>
                  <a:ext cx="0" cy="137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2" name=""/>
                <p:cNvSpPr/>
                <p:nvPr/>
              </p:nvSpPr>
              <p:spPr>
                <a:xfrm>
                  <a:off x="6312600" y="5374440"/>
                  <a:ext cx="1371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3" name=""/>
                <p:cNvSpPr/>
                <p:nvPr/>
              </p:nvSpPr>
              <p:spPr>
                <a:xfrm flipV="1">
                  <a:off x="6450120" y="5236920"/>
                  <a:ext cx="0" cy="137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4" name=""/>
                <p:cNvSpPr/>
                <p:nvPr/>
              </p:nvSpPr>
              <p:spPr>
                <a:xfrm>
                  <a:off x="6450120" y="5236920"/>
                  <a:ext cx="1371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35" name=""/>
              <p:cNvSpPr/>
              <p:nvPr/>
            </p:nvSpPr>
            <p:spPr>
              <a:xfrm>
                <a:off x="6242760" y="5420520"/>
                <a:ext cx="0" cy="206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6" name=""/>
            <p:cNvSpPr/>
            <p:nvPr/>
          </p:nvSpPr>
          <p:spPr>
            <a:xfrm>
              <a:off x="4307760" y="511848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KM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 flipH="1" flipV="1">
              <a:off x="3733560" y="4117680"/>
              <a:ext cx="315720" cy="315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 flipH="1" flipV="1">
              <a:off x="3657600" y="4586400"/>
              <a:ext cx="363600" cy="363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 flipH="1" flipV="1">
              <a:off x="4627440" y="5448240"/>
              <a:ext cx="363600" cy="363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0" name=""/>
          <p:cNvSpPr/>
          <p:nvPr/>
        </p:nvSpPr>
        <p:spPr>
          <a:xfrm>
            <a:off x="1058040" y="2895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停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 flipV="1">
            <a:off x="3809880" y="5257800"/>
            <a:ext cx="304920" cy="41112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>
            <a:off x="5867280" y="4495680"/>
            <a:ext cx="1219320" cy="457200"/>
          </a:xfrm>
          <a:prstGeom prst="wedgeEllipseCallout">
            <a:avLst>
              <a:gd name="adj1" fmla="val -50259"/>
              <a:gd name="adj2" fmla="val -129513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断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3716280" y="4635360"/>
            <a:ext cx="360360" cy="36036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"/>
          <p:cNvSpPr/>
          <p:nvPr/>
        </p:nvSpPr>
        <p:spPr>
          <a:xfrm>
            <a:off x="4653000" y="5429160"/>
            <a:ext cx="360360" cy="4320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"/>
          <p:cNvSpPr/>
          <p:nvPr/>
        </p:nvSpPr>
        <p:spPr>
          <a:xfrm>
            <a:off x="5715000" y="5943600"/>
            <a:ext cx="1219320" cy="457200"/>
          </a:xfrm>
          <a:prstGeom prst="wedgeEllipseCallout">
            <a:avLst>
              <a:gd name="adj1" fmla="val -50259"/>
              <a:gd name="adj2" fmla="val -129513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断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>
            <a:off x="4038480" y="6095880"/>
            <a:ext cx="1219320" cy="457200"/>
          </a:xfrm>
          <a:prstGeom prst="wedgeEllipseCallout">
            <a:avLst>
              <a:gd name="adj1" fmla="val 11587"/>
              <a:gd name="adj2" fmla="val -136111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>
            <a:off x="1981080" y="5257800"/>
            <a:ext cx="1219320" cy="457200"/>
          </a:xfrm>
          <a:prstGeom prst="wedgeEllipseCallout">
            <a:avLst>
              <a:gd name="adj1" fmla="val 91666"/>
              <a:gd name="adj2" fmla="val -132291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7400" y="4572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1.1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常用控制电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79920" y="1143000"/>
            <a:ext cx="247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1.1.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组合开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676520"/>
            <a:ext cx="845820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合开关又称转换开关，由数层动、静触片组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绝缘盒而成的。动触点装在转轴上，用手柄转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轴使动触片与静触片接通与断开。可实现多条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路、不同联接方式的转换。图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11.1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用转换开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现三相电动机起停控制的接线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114800"/>
            <a:ext cx="82296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换开关中的弹簧可使动、静触片快速断开，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熄灭电弧。但转换开关的触片通流能力有限，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般用于交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8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直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2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电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0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下的电路中做电源开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title"/>
          </p:nvPr>
        </p:nvSpPr>
        <p:spPr>
          <a:xfrm>
            <a:off x="382680" y="533520"/>
            <a:ext cx="8456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1.3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鼠笼式电动机正反转的控制线路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382680" y="1600200"/>
            <a:ext cx="81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电动机接到电源的任意两根线对调一下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可使电动机反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326880" y="2438280"/>
            <a:ext cx="85885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需要用两个接触器来实现这一要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当正转接触器工作时，电动机正转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反转接触器工作时，将电动机接到电源的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两根联线对调一下，电动机反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1" name=""/>
          <p:cNvGrpSpPr/>
          <p:nvPr/>
        </p:nvGrpSpPr>
        <p:grpSpPr>
          <a:xfrm>
            <a:off x="380880" y="1352520"/>
            <a:ext cx="8381520" cy="171360"/>
            <a:chOff x="380880" y="1352520"/>
            <a:chExt cx="8381520" cy="171360"/>
          </a:xfrm>
        </p:grpSpPr>
        <p:pic>
          <p:nvPicPr>
            <p:cNvPr id="4152" name="" descr=""/>
            <p:cNvPicPr/>
            <p:nvPr/>
          </p:nvPicPr>
          <p:blipFill>
            <a:blip r:embed="rId1"/>
            <a:stretch/>
          </p:blipFill>
          <p:spPr>
            <a:xfrm>
              <a:off x="18856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3" name="" descr=""/>
            <p:cNvPicPr/>
            <p:nvPr/>
          </p:nvPicPr>
          <p:blipFill>
            <a:blip r:embed="rId2"/>
            <a:stretch/>
          </p:blipFill>
          <p:spPr>
            <a:xfrm>
              <a:off x="20476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4" name="" descr=""/>
            <p:cNvPicPr/>
            <p:nvPr/>
          </p:nvPicPr>
          <p:blipFill>
            <a:blip r:embed="rId3"/>
            <a:stretch/>
          </p:blipFill>
          <p:spPr>
            <a:xfrm>
              <a:off x="23428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5" name="" descr=""/>
            <p:cNvPicPr/>
            <p:nvPr/>
          </p:nvPicPr>
          <p:blipFill>
            <a:blip r:embed="rId4"/>
            <a:stretch/>
          </p:blipFill>
          <p:spPr>
            <a:xfrm>
              <a:off x="25048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6" name="" descr=""/>
            <p:cNvPicPr/>
            <p:nvPr/>
          </p:nvPicPr>
          <p:blipFill>
            <a:blip r:embed="rId5"/>
            <a:stretch/>
          </p:blipFill>
          <p:spPr>
            <a:xfrm>
              <a:off x="2657520" y="136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7" name="" descr=""/>
            <p:cNvPicPr/>
            <p:nvPr/>
          </p:nvPicPr>
          <p:blipFill>
            <a:blip r:embed="rId6"/>
            <a:stretch/>
          </p:blipFill>
          <p:spPr>
            <a:xfrm>
              <a:off x="28000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58" name=""/>
            <p:cNvGrpSpPr/>
            <p:nvPr/>
          </p:nvGrpSpPr>
          <p:grpSpPr>
            <a:xfrm>
              <a:off x="828720" y="1362240"/>
              <a:ext cx="466560" cy="161640"/>
              <a:chOff x="828720" y="1362240"/>
              <a:chExt cx="466560" cy="161640"/>
            </a:xfrm>
          </p:grpSpPr>
          <p:pic>
            <p:nvPicPr>
              <p:cNvPr id="415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28720" y="13622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971280" y="13622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133280" y="13622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62" name="" descr=""/>
            <p:cNvPicPr/>
            <p:nvPr/>
          </p:nvPicPr>
          <p:blipFill>
            <a:blip r:embed="rId10"/>
            <a:stretch/>
          </p:blipFill>
          <p:spPr>
            <a:xfrm>
              <a:off x="14284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3" name="" descr=""/>
            <p:cNvPicPr/>
            <p:nvPr/>
          </p:nvPicPr>
          <p:blipFill>
            <a:blip r:embed="rId11"/>
            <a:stretch/>
          </p:blipFill>
          <p:spPr>
            <a:xfrm>
              <a:off x="15904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4" name="" descr=""/>
            <p:cNvPicPr/>
            <p:nvPr/>
          </p:nvPicPr>
          <p:blipFill>
            <a:blip r:embed="rId12"/>
            <a:stretch/>
          </p:blipFill>
          <p:spPr>
            <a:xfrm>
              <a:off x="1743120" y="136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5" name="" descr=""/>
            <p:cNvPicPr/>
            <p:nvPr/>
          </p:nvPicPr>
          <p:blipFill>
            <a:blip r:embed="rId13"/>
            <a:stretch/>
          </p:blipFill>
          <p:spPr>
            <a:xfrm>
              <a:off x="1285920" y="136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6" name="" descr=""/>
            <p:cNvPicPr/>
            <p:nvPr/>
          </p:nvPicPr>
          <p:blipFill>
            <a:blip r:embed="rId14"/>
            <a:stretch/>
          </p:blipFill>
          <p:spPr>
            <a:xfrm>
              <a:off x="2200320" y="136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7" name="" descr=""/>
            <p:cNvPicPr/>
            <p:nvPr/>
          </p:nvPicPr>
          <p:blipFill>
            <a:blip r:embed="rId15"/>
            <a:stretch/>
          </p:blipFill>
          <p:spPr>
            <a:xfrm>
              <a:off x="29620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8" name="" descr=""/>
            <p:cNvPicPr/>
            <p:nvPr/>
          </p:nvPicPr>
          <p:blipFill>
            <a:blip r:embed="rId16"/>
            <a:stretch/>
          </p:blipFill>
          <p:spPr>
            <a:xfrm>
              <a:off x="3114720" y="136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9" name="" descr=""/>
            <p:cNvPicPr/>
            <p:nvPr/>
          </p:nvPicPr>
          <p:blipFill>
            <a:blip r:embed="rId17"/>
            <a:stretch/>
          </p:blipFill>
          <p:spPr>
            <a:xfrm>
              <a:off x="32572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0" name="" descr=""/>
            <p:cNvPicPr/>
            <p:nvPr/>
          </p:nvPicPr>
          <p:blipFill>
            <a:blip r:embed="rId18"/>
            <a:stretch/>
          </p:blipFill>
          <p:spPr>
            <a:xfrm>
              <a:off x="34192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1" name="" descr=""/>
            <p:cNvPicPr/>
            <p:nvPr/>
          </p:nvPicPr>
          <p:blipFill>
            <a:blip r:embed="rId19"/>
            <a:stretch/>
          </p:blipFill>
          <p:spPr>
            <a:xfrm>
              <a:off x="3571920" y="136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2" name="" descr=""/>
            <p:cNvPicPr/>
            <p:nvPr/>
          </p:nvPicPr>
          <p:blipFill>
            <a:blip r:embed="rId20"/>
            <a:stretch/>
          </p:blipFill>
          <p:spPr>
            <a:xfrm>
              <a:off x="37144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3" name="" descr=""/>
            <p:cNvPicPr/>
            <p:nvPr/>
          </p:nvPicPr>
          <p:blipFill>
            <a:blip r:embed="rId21"/>
            <a:stretch/>
          </p:blipFill>
          <p:spPr>
            <a:xfrm>
              <a:off x="38764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4" name="" descr=""/>
            <p:cNvPicPr/>
            <p:nvPr/>
          </p:nvPicPr>
          <p:blipFill>
            <a:blip r:embed="rId22"/>
            <a:stretch/>
          </p:blipFill>
          <p:spPr>
            <a:xfrm>
              <a:off x="41716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5" name="" descr=""/>
            <p:cNvPicPr/>
            <p:nvPr/>
          </p:nvPicPr>
          <p:blipFill>
            <a:blip r:embed="rId23"/>
            <a:stretch/>
          </p:blipFill>
          <p:spPr>
            <a:xfrm>
              <a:off x="43336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6" name="" descr=""/>
            <p:cNvPicPr/>
            <p:nvPr/>
          </p:nvPicPr>
          <p:blipFill>
            <a:blip r:embed="rId24"/>
            <a:stretch/>
          </p:blipFill>
          <p:spPr>
            <a:xfrm>
              <a:off x="4486320" y="136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7" name="" descr=""/>
            <p:cNvPicPr/>
            <p:nvPr/>
          </p:nvPicPr>
          <p:blipFill>
            <a:blip r:embed="rId25"/>
            <a:stretch/>
          </p:blipFill>
          <p:spPr>
            <a:xfrm>
              <a:off x="46288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8" name="" descr=""/>
            <p:cNvPicPr/>
            <p:nvPr/>
          </p:nvPicPr>
          <p:blipFill>
            <a:blip r:embed="rId26"/>
            <a:stretch/>
          </p:blipFill>
          <p:spPr>
            <a:xfrm>
              <a:off x="47908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9" name="" descr=""/>
            <p:cNvPicPr/>
            <p:nvPr/>
          </p:nvPicPr>
          <p:blipFill>
            <a:blip r:embed="rId27"/>
            <a:stretch/>
          </p:blipFill>
          <p:spPr>
            <a:xfrm>
              <a:off x="50860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0" name="" descr=""/>
            <p:cNvPicPr/>
            <p:nvPr/>
          </p:nvPicPr>
          <p:blipFill>
            <a:blip r:embed="rId28"/>
            <a:stretch/>
          </p:blipFill>
          <p:spPr>
            <a:xfrm>
              <a:off x="52480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1" name="" descr=""/>
            <p:cNvPicPr/>
            <p:nvPr/>
          </p:nvPicPr>
          <p:blipFill>
            <a:blip r:embed="rId29"/>
            <a:stretch/>
          </p:blipFill>
          <p:spPr>
            <a:xfrm>
              <a:off x="5400720" y="136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2" name="" descr=""/>
            <p:cNvPicPr/>
            <p:nvPr/>
          </p:nvPicPr>
          <p:blipFill>
            <a:blip r:embed="rId30"/>
            <a:stretch/>
          </p:blipFill>
          <p:spPr>
            <a:xfrm>
              <a:off x="55432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3" name="" descr=""/>
            <p:cNvPicPr/>
            <p:nvPr/>
          </p:nvPicPr>
          <p:blipFill>
            <a:blip r:embed="rId31"/>
            <a:stretch/>
          </p:blipFill>
          <p:spPr>
            <a:xfrm>
              <a:off x="4029120" y="136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4" name="" descr=""/>
            <p:cNvPicPr/>
            <p:nvPr/>
          </p:nvPicPr>
          <p:blipFill>
            <a:blip r:embed="rId32"/>
            <a:stretch/>
          </p:blipFill>
          <p:spPr>
            <a:xfrm>
              <a:off x="4943520" y="136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5" name="" descr=""/>
            <p:cNvPicPr/>
            <p:nvPr/>
          </p:nvPicPr>
          <p:blipFill>
            <a:blip r:embed="rId33"/>
            <a:stretch/>
          </p:blipFill>
          <p:spPr>
            <a:xfrm>
              <a:off x="57052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6" name="" descr=""/>
            <p:cNvPicPr/>
            <p:nvPr/>
          </p:nvPicPr>
          <p:blipFill>
            <a:blip r:embed="rId34"/>
            <a:stretch/>
          </p:blipFill>
          <p:spPr>
            <a:xfrm>
              <a:off x="5857920" y="136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7" name="" descr=""/>
            <p:cNvPicPr/>
            <p:nvPr/>
          </p:nvPicPr>
          <p:blipFill>
            <a:blip r:embed="rId35"/>
            <a:stretch/>
          </p:blipFill>
          <p:spPr>
            <a:xfrm>
              <a:off x="60004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8" name="" descr=""/>
            <p:cNvPicPr/>
            <p:nvPr/>
          </p:nvPicPr>
          <p:blipFill>
            <a:blip r:embed="rId36"/>
            <a:stretch/>
          </p:blipFill>
          <p:spPr>
            <a:xfrm>
              <a:off x="61624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9" name="" descr=""/>
            <p:cNvPicPr/>
            <p:nvPr/>
          </p:nvPicPr>
          <p:blipFill>
            <a:blip r:embed="rId37"/>
            <a:stretch/>
          </p:blipFill>
          <p:spPr>
            <a:xfrm>
              <a:off x="6315120" y="136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0" name="" descr=""/>
            <p:cNvPicPr/>
            <p:nvPr/>
          </p:nvPicPr>
          <p:blipFill>
            <a:blip r:embed="rId38"/>
            <a:stretch/>
          </p:blipFill>
          <p:spPr>
            <a:xfrm>
              <a:off x="64576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1" name="" descr=""/>
            <p:cNvPicPr/>
            <p:nvPr/>
          </p:nvPicPr>
          <p:blipFill>
            <a:blip r:embed="rId39"/>
            <a:stretch/>
          </p:blipFill>
          <p:spPr>
            <a:xfrm>
              <a:off x="66196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2" name="" descr=""/>
            <p:cNvPicPr/>
            <p:nvPr/>
          </p:nvPicPr>
          <p:blipFill>
            <a:blip r:embed="rId40"/>
            <a:stretch/>
          </p:blipFill>
          <p:spPr>
            <a:xfrm>
              <a:off x="69148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3" name="" descr=""/>
            <p:cNvPicPr/>
            <p:nvPr/>
          </p:nvPicPr>
          <p:blipFill>
            <a:blip r:embed="rId41"/>
            <a:stretch/>
          </p:blipFill>
          <p:spPr>
            <a:xfrm>
              <a:off x="70768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4" name="" descr=""/>
            <p:cNvPicPr/>
            <p:nvPr/>
          </p:nvPicPr>
          <p:blipFill>
            <a:blip r:embed="rId42"/>
            <a:stretch/>
          </p:blipFill>
          <p:spPr>
            <a:xfrm>
              <a:off x="7229520" y="136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5" name="" descr=""/>
            <p:cNvPicPr/>
            <p:nvPr/>
          </p:nvPicPr>
          <p:blipFill>
            <a:blip r:embed="rId43"/>
            <a:stretch/>
          </p:blipFill>
          <p:spPr>
            <a:xfrm>
              <a:off x="73720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6" name="" descr=""/>
            <p:cNvPicPr/>
            <p:nvPr/>
          </p:nvPicPr>
          <p:blipFill>
            <a:blip r:embed="rId44"/>
            <a:stretch/>
          </p:blipFill>
          <p:spPr>
            <a:xfrm>
              <a:off x="7534080" y="13622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7" name="" descr=""/>
            <p:cNvPicPr/>
            <p:nvPr/>
          </p:nvPicPr>
          <p:blipFill>
            <a:blip r:embed="rId45"/>
            <a:stretch/>
          </p:blipFill>
          <p:spPr>
            <a:xfrm>
              <a:off x="6772320" y="1362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8" name=""/>
            <p:cNvGrpSpPr/>
            <p:nvPr/>
          </p:nvGrpSpPr>
          <p:grpSpPr>
            <a:xfrm>
              <a:off x="7686720" y="1362240"/>
              <a:ext cx="1075680" cy="161640"/>
              <a:chOff x="7686720" y="1362240"/>
              <a:chExt cx="1075680" cy="161640"/>
            </a:xfrm>
          </p:grpSpPr>
          <p:pic>
            <p:nvPicPr>
              <p:cNvPr id="4199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7686720" y="13622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0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7829280" y="13622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1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7991280" y="1362240"/>
                <a:ext cx="16128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2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8286480" y="13622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3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8448480" y="1362240"/>
                <a:ext cx="16128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4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8600760" y="13622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5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8143560" y="13622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06" name=""/>
            <p:cNvGrpSpPr/>
            <p:nvPr/>
          </p:nvGrpSpPr>
          <p:grpSpPr>
            <a:xfrm>
              <a:off x="380880" y="1352520"/>
              <a:ext cx="466560" cy="161640"/>
              <a:chOff x="380880" y="1352520"/>
              <a:chExt cx="466560" cy="161640"/>
            </a:xfrm>
          </p:grpSpPr>
          <p:pic>
            <p:nvPicPr>
              <p:cNvPr id="4207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380880" y="13525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8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523440" y="13525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9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685440" y="13525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210" name=""/>
          <p:cNvGrpSpPr/>
          <p:nvPr/>
        </p:nvGrpSpPr>
        <p:grpSpPr>
          <a:xfrm>
            <a:off x="381600" y="5562720"/>
            <a:ext cx="6247440" cy="161640"/>
            <a:chOff x="381600" y="5562720"/>
            <a:chExt cx="6247440" cy="161640"/>
          </a:xfrm>
        </p:grpSpPr>
        <p:pic>
          <p:nvPicPr>
            <p:cNvPr id="4211" name="" descr=""/>
            <p:cNvPicPr/>
            <p:nvPr/>
          </p:nvPicPr>
          <p:blipFill>
            <a:blip r:embed="rId56"/>
            <a:stretch/>
          </p:blipFill>
          <p:spPr>
            <a:xfrm>
              <a:off x="2398320" y="5720040"/>
              <a:ext cx="195840" cy="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2" name="" descr=""/>
            <p:cNvPicPr/>
            <p:nvPr/>
          </p:nvPicPr>
          <p:blipFill>
            <a:blip r:embed="rId57"/>
            <a:stretch/>
          </p:blipFill>
          <p:spPr>
            <a:xfrm>
              <a:off x="2583000" y="5720040"/>
              <a:ext cx="195480" cy="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3" name="" descr=""/>
            <p:cNvPicPr/>
            <p:nvPr/>
          </p:nvPicPr>
          <p:blipFill>
            <a:blip r:embed="rId58"/>
            <a:stretch/>
          </p:blipFill>
          <p:spPr>
            <a:xfrm>
              <a:off x="2755440" y="5720040"/>
              <a:ext cx="195840" cy="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4" name="" descr=""/>
            <p:cNvPicPr/>
            <p:nvPr/>
          </p:nvPicPr>
          <p:blipFill>
            <a:blip r:embed="rId59"/>
            <a:stretch/>
          </p:blipFill>
          <p:spPr>
            <a:xfrm>
              <a:off x="2951640" y="5720040"/>
              <a:ext cx="195840" cy="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5" name="" descr=""/>
            <p:cNvPicPr/>
            <p:nvPr/>
          </p:nvPicPr>
          <p:blipFill>
            <a:blip r:embed="rId60"/>
            <a:stretch/>
          </p:blipFill>
          <p:spPr>
            <a:xfrm>
              <a:off x="3308760" y="5720040"/>
              <a:ext cx="195840" cy="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6" name="" descr=""/>
            <p:cNvPicPr/>
            <p:nvPr/>
          </p:nvPicPr>
          <p:blipFill>
            <a:blip r:embed="rId61"/>
            <a:stretch/>
          </p:blipFill>
          <p:spPr>
            <a:xfrm>
              <a:off x="3504960" y="5720040"/>
              <a:ext cx="195840" cy="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7" name="" descr=""/>
            <p:cNvPicPr/>
            <p:nvPr/>
          </p:nvPicPr>
          <p:blipFill>
            <a:blip r:embed="rId62"/>
            <a:stretch/>
          </p:blipFill>
          <p:spPr>
            <a:xfrm>
              <a:off x="3689640" y="5720040"/>
              <a:ext cx="195480" cy="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8" name="" descr=""/>
            <p:cNvPicPr/>
            <p:nvPr/>
          </p:nvPicPr>
          <p:blipFill>
            <a:blip r:embed="rId63"/>
            <a:stretch/>
          </p:blipFill>
          <p:spPr>
            <a:xfrm>
              <a:off x="3862080" y="5720040"/>
              <a:ext cx="195840" cy="4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19" name=""/>
            <p:cNvGrpSpPr/>
            <p:nvPr/>
          </p:nvGrpSpPr>
          <p:grpSpPr>
            <a:xfrm>
              <a:off x="1476000" y="5720040"/>
              <a:ext cx="921600" cy="4320"/>
              <a:chOff x="1476000" y="5720040"/>
              <a:chExt cx="921600" cy="4320"/>
            </a:xfrm>
          </p:grpSpPr>
          <p:pic>
            <p:nvPicPr>
              <p:cNvPr id="4220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1476000" y="5720040"/>
                <a:ext cx="195480" cy="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1" name="" descr=""/>
              <p:cNvPicPr/>
              <p:nvPr/>
            </p:nvPicPr>
            <p:blipFill>
              <a:blip r:embed="rId65"/>
              <a:stretch/>
            </p:blipFill>
            <p:spPr>
              <a:xfrm>
                <a:off x="1648440" y="5720040"/>
                <a:ext cx="195840" cy="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2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1844280" y="5720040"/>
                <a:ext cx="195840" cy="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3" name="" descr=""/>
              <p:cNvPicPr/>
              <p:nvPr/>
            </p:nvPicPr>
            <p:blipFill>
              <a:blip r:embed="rId67"/>
              <a:stretch/>
            </p:blipFill>
            <p:spPr>
              <a:xfrm>
                <a:off x="2201760" y="5720040"/>
                <a:ext cx="195840" cy="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4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2028960" y="5720040"/>
                <a:ext cx="195480" cy="4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25" name="" descr=""/>
            <p:cNvPicPr/>
            <p:nvPr/>
          </p:nvPicPr>
          <p:blipFill>
            <a:blip r:embed="rId69"/>
            <a:stretch/>
          </p:blipFill>
          <p:spPr>
            <a:xfrm>
              <a:off x="3136320" y="5720040"/>
              <a:ext cx="195480" cy="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6" name="" descr=""/>
            <p:cNvPicPr/>
            <p:nvPr/>
          </p:nvPicPr>
          <p:blipFill>
            <a:blip r:embed="rId70"/>
            <a:stretch/>
          </p:blipFill>
          <p:spPr>
            <a:xfrm>
              <a:off x="4058280" y="5720040"/>
              <a:ext cx="195840" cy="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7" name="" descr=""/>
            <p:cNvPicPr/>
            <p:nvPr/>
          </p:nvPicPr>
          <p:blipFill>
            <a:blip r:embed="rId71"/>
            <a:stretch/>
          </p:blipFill>
          <p:spPr>
            <a:xfrm>
              <a:off x="4242960" y="5720040"/>
              <a:ext cx="195480" cy="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8" name="" descr=""/>
            <p:cNvPicPr/>
            <p:nvPr/>
          </p:nvPicPr>
          <p:blipFill>
            <a:blip r:embed="rId72"/>
            <a:stretch/>
          </p:blipFill>
          <p:spPr>
            <a:xfrm>
              <a:off x="4415760" y="5720040"/>
              <a:ext cx="195840" cy="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9" name="" descr=""/>
            <p:cNvPicPr/>
            <p:nvPr/>
          </p:nvPicPr>
          <p:blipFill>
            <a:blip r:embed="rId73"/>
            <a:stretch/>
          </p:blipFill>
          <p:spPr>
            <a:xfrm>
              <a:off x="4611600" y="5720040"/>
              <a:ext cx="195840" cy="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0" name="" descr=""/>
            <p:cNvPicPr/>
            <p:nvPr/>
          </p:nvPicPr>
          <p:blipFill>
            <a:blip r:embed="rId74"/>
            <a:stretch/>
          </p:blipFill>
          <p:spPr>
            <a:xfrm>
              <a:off x="4796280" y="5720040"/>
              <a:ext cx="195480" cy="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1" name="" descr=""/>
            <p:cNvPicPr/>
            <p:nvPr/>
          </p:nvPicPr>
          <p:blipFill>
            <a:blip r:embed="rId75"/>
            <a:stretch/>
          </p:blipFill>
          <p:spPr>
            <a:xfrm>
              <a:off x="4969080" y="5720040"/>
              <a:ext cx="195840" cy="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2" name="" descr=""/>
            <p:cNvPicPr/>
            <p:nvPr/>
          </p:nvPicPr>
          <p:blipFill>
            <a:blip r:embed="rId76"/>
            <a:stretch/>
          </p:blipFill>
          <p:spPr>
            <a:xfrm>
              <a:off x="5164920" y="5720040"/>
              <a:ext cx="195840" cy="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3" name="" descr=""/>
            <p:cNvPicPr/>
            <p:nvPr/>
          </p:nvPicPr>
          <p:blipFill>
            <a:blip r:embed="rId77"/>
            <a:stretch/>
          </p:blipFill>
          <p:spPr>
            <a:xfrm>
              <a:off x="5522400" y="5720040"/>
              <a:ext cx="195840" cy="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4" name="" descr=""/>
            <p:cNvPicPr/>
            <p:nvPr/>
          </p:nvPicPr>
          <p:blipFill>
            <a:blip r:embed="rId78"/>
            <a:stretch/>
          </p:blipFill>
          <p:spPr>
            <a:xfrm>
              <a:off x="5718600" y="5720040"/>
              <a:ext cx="195840" cy="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5" name="" descr=""/>
            <p:cNvPicPr/>
            <p:nvPr/>
          </p:nvPicPr>
          <p:blipFill>
            <a:blip r:embed="rId79"/>
            <a:stretch/>
          </p:blipFill>
          <p:spPr>
            <a:xfrm>
              <a:off x="5903280" y="5720040"/>
              <a:ext cx="195480" cy="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6" name="" descr=""/>
            <p:cNvPicPr/>
            <p:nvPr/>
          </p:nvPicPr>
          <p:blipFill>
            <a:blip r:embed="rId80"/>
            <a:stretch/>
          </p:blipFill>
          <p:spPr>
            <a:xfrm>
              <a:off x="6075720" y="5720040"/>
              <a:ext cx="195840" cy="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7" name="" descr=""/>
            <p:cNvPicPr/>
            <p:nvPr/>
          </p:nvPicPr>
          <p:blipFill>
            <a:blip r:embed="rId81"/>
            <a:stretch/>
          </p:blipFill>
          <p:spPr>
            <a:xfrm>
              <a:off x="6271920" y="5720040"/>
              <a:ext cx="195840" cy="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8" name="" descr=""/>
            <p:cNvPicPr/>
            <p:nvPr/>
          </p:nvPicPr>
          <p:blipFill>
            <a:blip r:embed="rId82"/>
            <a:stretch/>
          </p:blipFill>
          <p:spPr>
            <a:xfrm>
              <a:off x="381600" y="5562720"/>
              <a:ext cx="6247440" cy="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9" name=""/>
          <p:cNvGrpSpPr/>
          <p:nvPr/>
        </p:nvGrpSpPr>
        <p:grpSpPr>
          <a:xfrm>
            <a:off x="3184920" y="1219320"/>
            <a:ext cx="1034280" cy="2742480"/>
            <a:chOff x="3184920" y="1219320"/>
            <a:chExt cx="1034280" cy="2742480"/>
          </a:xfrm>
        </p:grpSpPr>
        <p:grpSp>
          <p:nvGrpSpPr>
            <p:cNvPr id="4240" name=""/>
            <p:cNvGrpSpPr/>
            <p:nvPr/>
          </p:nvGrpSpPr>
          <p:grpSpPr>
            <a:xfrm>
              <a:off x="3256560" y="1922760"/>
              <a:ext cx="795240" cy="2039040"/>
              <a:chOff x="3256560" y="1922760"/>
              <a:chExt cx="795240" cy="2039040"/>
            </a:xfrm>
          </p:grpSpPr>
          <p:sp>
            <p:nvSpPr>
              <p:cNvPr id="4241" name=""/>
              <p:cNvSpPr/>
              <p:nvPr/>
            </p:nvSpPr>
            <p:spPr>
              <a:xfrm>
                <a:off x="3256560" y="1922760"/>
                <a:ext cx="795240" cy="56232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3256560" y="3399480"/>
                <a:ext cx="795240" cy="56232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3" name=""/>
            <p:cNvSpPr/>
            <p:nvPr/>
          </p:nvSpPr>
          <p:spPr>
            <a:xfrm>
              <a:off x="3184920" y="1219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机械联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4" name=""/>
          <p:cNvGrpSpPr/>
          <p:nvPr/>
        </p:nvGrpSpPr>
        <p:grpSpPr>
          <a:xfrm>
            <a:off x="4175280" y="1843200"/>
            <a:ext cx="1034280" cy="2882520"/>
            <a:chOff x="4175280" y="1843200"/>
            <a:chExt cx="1034280" cy="2882520"/>
          </a:xfrm>
        </p:grpSpPr>
        <p:sp>
          <p:nvSpPr>
            <p:cNvPr id="4245" name=""/>
            <p:cNvSpPr/>
            <p:nvPr/>
          </p:nvSpPr>
          <p:spPr>
            <a:xfrm>
              <a:off x="4343400" y="1843200"/>
              <a:ext cx="838080" cy="53316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4343400" y="3443040"/>
              <a:ext cx="838080" cy="53316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4175280" y="42051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电气联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8" name=""/>
          <p:cNvSpPr/>
          <p:nvPr/>
        </p:nvSpPr>
        <p:spPr>
          <a:xfrm>
            <a:off x="6705720" y="2802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利用复合按钮的触点实现联锁控制称机械联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2634840" y="52570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鼠笼式电动机正反转的控制线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 flipV="1">
            <a:off x="3178080" y="3762360"/>
            <a:ext cx="0" cy="8762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2076840" y="3043080"/>
            <a:ext cx="91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5164560" y="1349280"/>
            <a:ext cx="91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2153520" y="3457440"/>
            <a:ext cx="76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B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1132200" y="14954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5166360" y="2884320"/>
            <a:ext cx="93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K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5370480" y="1862280"/>
            <a:ext cx="512640" cy="80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5883120" y="2227320"/>
            <a:ext cx="29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6175440" y="1057320"/>
            <a:ext cx="0" cy="12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2167560" y="1662120"/>
            <a:ext cx="74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0" name=""/>
          <p:cNvGrpSpPr/>
          <p:nvPr/>
        </p:nvGrpSpPr>
        <p:grpSpPr>
          <a:xfrm>
            <a:off x="1862280" y="4638600"/>
            <a:ext cx="1315440" cy="155160"/>
            <a:chOff x="1862280" y="4638600"/>
            <a:chExt cx="1315440" cy="155160"/>
          </a:xfrm>
        </p:grpSpPr>
        <p:sp>
          <p:nvSpPr>
            <p:cNvPr id="4261" name=""/>
            <p:cNvSpPr/>
            <p:nvPr/>
          </p:nvSpPr>
          <p:spPr>
            <a:xfrm>
              <a:off x="1862280" y="4638600"/>
              <a:ext cx="36504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 flipV="1">
              <a:off x="2227320" y="4647240"/>
              <a:ext cx="438480" cy="1465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2666160" y="4638600"/>
              <a:ext cx="51156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4" name=""/>
          <p:cNvGrpSpPr/>
          <p:nvPr/>
        </p:nvGrpSpPr>
        <p:grpSpPr>
          <a:xfrm>
            <a:off x="2249640" y="3997440"/>
            <a:ext cx="512640" cy="358200"/>
            <a:chOff x="2249640" y="3997440"/>
            <a:chExt cx="512640" cy="358200"/>
          </a:xfrm>
        </p:grpSpPr>
        <p:sp>
          <p:nvSpPr>
            <p:cNvPr id="4265" name=""/>
            <p:cNvSpPr/>
            <p:nvPr/>
          </p:nvSpPr>
          <p:spPr>
            <a:xfrm flipV="1">
              <a:off x="2249640" y="3997440"/>
              <a:ext cx="512640" cy="2196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 flipV="1">
              <a:off x="2592720" y="4062600"/>
              <a:ext cx="0" cy="292680"/>
            </a:xfrm>
            <a:prstGeom prst="line">
              <a:avLst/>
            </a:prstGeom>
            <a:ln w="2844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7" name=""/>
            <p:cNvGrpSpPr/>
            <p:nvPr/>
          </p:nvGrpSpPr>
          <p:grpSpPr>
            <a:xfrm>
              <a:off x="2446200" y="4282920"/>
              <a:ext cx="292680" cy="72720"/>
              <a:chOff x="2446200" y="4282920"/>
              <a:chExt cx="292680" cy="72720"/>
            </a:xfrm>
          </p:grpSpPr>
          <p:sp>
            <p:nvSpPr>
              <p:cNvPr id="4268" name=""/>
              <p:cNvSpPr/>
              <p:nvPr/>
            </p:nvSpPr>
            <p:spPr>
              <a:xfrm>
                <a:off x="2446200" y="4282920"/>
                <a:ext cx="0" cy="7272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2446200" y="4355640"/>
                <a:ext cx="292680" cy="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 flipV="1">
                <a:off x="2738880" y="4282920"/>
                <a:ext cx="0" cy="7272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1" name=""/>
          <p:cNvSpPr/>
          <p:nvPr/>
        </p:nvSpPr>
        <p:spPr>
          <a:xfrm>
            <a:off x="1862280" y="3994200"/>
            <a:ext cx="43812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2738520" y="3994200"/>
            <a:ext cx="4395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5388120" y="3389400"/>
            <a:ext cx="511200" cy="80316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5883120" y="3773520"/>
            <a:ext cx="29232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 flipV="1">
            <a:off x="6175440" y="2300040"/>
            <a:ext cx="0" cy="15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4361040" y="3027240"/>
            <a:ext cx="91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KM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2053080" y="4686480"/>
            <a:ext cx="93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K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4363200" y="1523880"/>
            <a:ext cx="93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K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6102360" y="911160"/>
            <a:ext cx="146160" cy="146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0" name=""/>
          <p:cNvGrpSpPr/>
          <p:nvPr/>
        </p:nvGrpSpPr>
        <p:grpSpPr>
          <a:xfrm>
            <a:off x="3177720" y="1938240"/>
            <a:ext cx="1243080" cy="551880"/>
            <a:chOff x="3177720" y="1938240"/>
            <a:chExt cx="1243080" cy="551880"/>
          </a:xfrm>
        </p:grpSpPr>
        <p:grpSp>
          <p:nvGrpSpPr>
            <p:cNvPr id="4281" name=""/>
            <p:cNvGrpSpPr/>
            <p:nvPr/>
          </p:nvGrpSpPr>
          <p:grpSpPr>
            <a:xfrm>
              <a:off x="3177720" y="1938240"/>
              <a:ext cx="1243080" cy="291960"/>
              <a:chOff x="3177720" y="1938240"/>
              <a:chExt cx="1243080" cy="291960"/>
            </a:xfrm>
          </p:grpSpPr>
          <p:sp>
            <p:nvSpPr>
              <p:cNvPr id="4282" name=""/>
              <p:cNvSpPr/>
              <p:nvPr/>
            </p:nvSpPr>
            <p:spPr>
              <a:xfrm>
                <a:off x="3315240" y="1938240"/>
                <a:ext cx="511560" cy="29196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3384720" y="1938240"/>
                <a:ext cx="0" cy="29196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3836160" y="2227320"/>
                <a:ext cx="584640" cy="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 flipH="1">
                <a:off x="3177720" y="2227320"/>
                <a:ext cx="219240" cy="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6" name=""/>
            <p:cNvSpPr/>
            <p:nvPr/>
          </p:nvSpPr>
          <p:spPr>
            <a:xfrm flipV="1">
              <a:off x="3616560" y="2124720"/>
              <a:ext cx="0" cy="365400"/>
            </a:xfrm>
            <a:prstGeom prst="line">
              <a:avLst/>
            </a:prstGeom>
            <a:ln w="2844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7" name=""/>
            <p:cNvGrpSpPr/>
            <p:nvPr/>
          </p:nvGrpSpPr>
          <p:grpSpPr>
            <a:xfrm>
              <a:off x="3470040" y="2351520"/>
              <a:ext cx="292320" cy="73440"/>
              <a:chOff x="3470040" y="2351520"/>
              <a:chExt cx="292320" cy="73440"/>
            </a:xfrm>
          </p:grpSpPr>
          <p:sp>
            <p:nvSpPr>
              <p:cNvPr id="4288" name=""/>
              <p:cNvSpPr/>
              <p:nvPr/>
            </p:nvSpPr>
            <p:spPr>
              <a:xfrm>
                <a:off x="3470040" y="2351880"/>
                <a:ext cx="0" cy="7308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3470040" y="2424600"/>
                <a:ext cx="292320" cy="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 flipV="1">
                <a:off x="3762360" y="2351520"/>
                <a:ext cx="0" cy="7308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91" name=""/>
          <p:cNvSpPr/>
          <p:nvPr/>
        </p:nvSpPr>
        <p:spPr>
          <a:xfrm>
            <a:off x="5005440" y="2227320"/>
            <a:ext cx="3650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2" name=""/>
          <p:cNvSpPr/>
          <p:nvPr/>
        </p:nvSpPr>
        <p:spPr>
          <a:xfrm>
            <a:off x="4643280" y="1938240"/>
            <a:ext cx="0" cy="2923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>
            <a:off x="4559400" y="2008080"/>
            <a:ext cx="438120" cy="2192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"/>
          <p:cNvSpPr/>
          <p:nvPr/>
        </p:nvSpPr>
        <p:spPr>
          <a:xfrm flipH="1">
            <a:off x="4420800" y="2227320"/>
            <a:ext cx="2192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 flipV="1">
            <a:off x="2592360" y="2469960"/>
            <a:ext cx="1023840" cy="160812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6" name=""/>
          <p:cNvGrpSpPr/>
          <p:nvPr/>
        </p:nvGrpSpPr>
        <p:grpSpPr>
          <a:xfrm>
            <a:off x="1862280" y="2226960"/>
            <a:ext cx="3508200" cy="2411640"/>
            <a:chOff x="1862280" y="2226960"/>
            <a:chExt cx="3508200" cy="2411640"/>
          </a:xfrm>
        </p:grpSpPr>
        <p:sp>
          <p:nvSpPr>
            <p:cNvPr id="4297" name=""/>
            <p:cNvSpPr/>
            <p:nvPr/>
          </p:nvSpPr>
          <p:spPr>
            <a:xfrm>
              <a:off x="1862280" y="2227320"/>
              <a:ext cx="0" cy="241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8" name=""/>
            <p:cNvGrpSpPr/>
            <p:nvPr/>
          </p:nvGrpSpPr>
          <p:grpSpPr>
            <a:xfrm>
              <a:off x="1862280" y="3030480"/>
              <a:ext cx="1315440" cy="150480"/>
              <a:chOff x="1862280" y="3030480"/>
              <a:chExt cx="1315440" cy="150480"/>
            </a:xfrm>
          </p:grpSpPr>
          <p:sp>
            <p:nvSpPr>
              <p:cNvPr id="4299" name=""/>
              <p:cNvSpPr/>
              <p:nvPr/>
            </p:nvSpPr>
            <p:spPr>
              <a:xfrm>
                <a:off x="1862280" y="3030480"/>
                <a:ext cx="36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 flipV="1">
                <a:off x="2227320" y="3034800"/>
                <a:ext cx="438480" cy="14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2666160" y="3030480"/>
                <a:ext cx="51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2" name=""/>
            <p:cNvGrpSpPr/>
            <p:nvPr/>
          </p:nvGrpSpPr>
          <p:grpSpPr>
            <a:xfrm>
              <a:off x="3177720" y="3457440"/>
              <a:ext cx="1243080" cy="556920"/>
              <a:chOff x="3177720" y="3457440"/>
              <a:chExt cx="1243080" cy="556920"/>
            </a:xfrm>
          </p:grpSpPr>
          <p:grpSp>
            <p:nvGrpSpPr>
              <p:cNvPr id="4303" name=""/>
              <p:cNvGrpSpPr/>
              <p:nvPr/>
            </p:nvGrpSpPr>
            <p:grpSpPr>
              <a:xfrm>
                <a:off x="3177720" y="3457440"/>
                <a:ext cx="1243080" cy="308880"/>
                <a:chOff x="3177720" y="3457440"/>
                <a:chExt cx="1243080" cy="308880"/>
              </a:xfrm>
            </p:grpSpPr>
            <p:sp>
              <p:nvSpPr>
                <p:cNvPr id="4304" name=""/>
                <p:cNvSpPr/>
                <p:nvPr/>
              </p:nvSpPr>
              <p:spPr>
                <a:xfrm>
                  <a:off x="3315240" y="3457440"/>
                  <a:ext cx="511560" cy="291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5" name=""/>
                <p:cNvSpPr/>
                <p:nvPr/>
              </p:nvSpPr>
              <p:spPr>
                <a:xfrm>
                  <a:off x="3400200" y="3474000"/>
                  <a:ext cx="0" cy="29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6" name=""/>
                <p:cNvSpPr/>
                <p:nvPr/>
              </p:nvSpPr>
              <p:spPr>
                <a:xfrm>
                  <a:off x="3836160" y="3761640"/>
                  <a:ext cx="584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7" name=""/>
                <p:cNvSpPr/>
                <p:nvPr/>
              </p:nvSpPr>
              <p:spPr>
                <a:xfrm flipH="1">
                  <a:off x="3177720" y="3761640"/>
                  <a:ext cx="219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8" name=""/>
              <p:cNvSpPr/>
              <p:nvPr/>
            </p:nvSpPr>
            <p:spPr>
              <a:xfrm flipV="1">
                <a:off x="3616560" y="3644280"/>
                <a:ext cx="0" cy="36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9" name=""/>
              <p:cNvGrpSpPr/>
              <p:nvPr/>
            </p:nvGrpSpPr>
            <p:grpSpPr>
              <a:xfrm>
                <a:off x="3470040" y="3940920"/>
                <a:ext cx="292320" cy="73440"/>
                <a:chOff x="3470040" y="3940920"/>
                <a:chExt cx="292320" cy="73440"/>
              </a:xfrm>
            </p:grpSpPr>
            <p:sp>
              <p:nvSpPr>
                <p:cNvPr id="4310" name=""/>
                <p:cNvSpPr/>
                <p:nvPr/>
              </p:nvSpPr>
              <p:spPr>
                <a:xfrm>
                  <a:off x="3470040" y="39412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1" name=""/>
                <p:cNvSpPr/>
                <p:nvPr/>
              </p:nvSpPr>
              <p:spPr>
                <a:xfrm>
                  <a:off x="3470040" y="4014000"/>
                  <a:ext cx="292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2" name=""/>
                <p:cNvSpPr/>
                <p:nvPr/>
              </p:nvSpPr>
              <p:spPr>
                <a:xfrm flipV="1">
                  <a:off x="3762360" y="394092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13" name=""/>
            <p:cNvSpPr/>
            <p:nvPr/>
          </p:nvSpPr>
          <p:spPr>
            <a:xfrm>
              <a:off x="5005440" y="3762360"/>
              <a:ext cx="36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4643280" y="3457440"/>
              <a:ext cx="0" cy="2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4559400" y="3544920"/>
              <a:ext cx="438120" cy="21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 flipH="1">
              <a:off x="4420800" y="3762360"/>
              <a:ext cx="21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2519280" y="2324160"/>
              <a:ext cx="1073160" cy="1685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 flipV="1">
              <a:off x="3178080" y="2226960"/>
              <a:ext cx="0" cy="80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9" name=""/>
          <p:cNvGrpSpPr/>
          <p:nvPr/>
        </p:nvGrpSpPr>
        <p:grpSpPr>
          <a:xfrm>
            <a:off x="838080" y="838080"/>
            <a:ext cx="2340000" cy="1790280"/>
            <a:chOff x="838080" y="838080"/>
            <a:chExt cx="2340000" cy="1790280"/>
          </a:xfrm>
        </p:grpSpPr>
        <p:grpSp>
          <p:nvGrpSpPr>
            <p:cNvPr id="4320" name=""/>
            <p:cNvGrpSpPr/>
            <p:nvPr/>
          </p:nvGrpSpPr>
          <p:grpSpPr>
            <a:xfrm>
              <a:off x="1255680" y="2362320"/>
              <a:ext cx="304920" cy="76320"/>
              <a:chOff x="1255680" y="2362320"/>
              <a:chExt cx="304920" cy="76320"/>
            </a:xfrm>
          </p:grpSpPr>
          <p:sp>
            <p:nvSpPr>
              <p:cNvPr id="4321" name=""/>
              <p:cNvSpPr/>
              <p:nvPr/>
            </p:nvSpPr>
            <p:spPr>
              <a:xfrm>
                <a:off x="1255680" y="2362680"/>
                <a:ext cx="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 flipV="1">
                <a:off x="1560600" y="2362320"/>
                <a:ext cx="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1255680" y="24382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4" name=""/>
            <p:cNvSpPr/>
            <p:nvPr/>
          </p:nvSpPr>
          <p:spPr>
            <a:xfrm>
              <a:off x="895320" y="2227320"/>
              <a:ext cx="36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1569960" y="2227320"/>
              <a:ext cx="65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911160" y="984240"/>
              <a:ext cx="0" cy="124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2738520" y="2227320"/>
              <a:ext cx="43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8" name=""/>
            <p:cNvGrpSpPr/>
            <p:nvPr/>
          </p:nvGrpSpPr>
          <p:grpSpPr>
            <a:xfrm>
              <a:off x="2227320" y="2214000"/>
              <a:ext cx="511200" cy="414360"/>
              <a:chOff x="2227320" y="2214000"/>
              <a:chExt cx="511200" cy="414360"/>
            </a:xfrm>
          </p:grpSpPr>
          <p:sp>
            <p:nvSpPr>
              <p:cNvPr id="4329" name=""/>
              <p:cNvSpPr/>
              <p:nvPr/>
            </p:nvSpPr>
            <p:spPr>
              <a:xfrm flipV="1">
                <a:off x="2227320" y="2214000"/>
                <a:ext cx="511200" cy="21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 flipV="1">
                <a:off x="2519280" y="2336040"/>
                <a:ext cx="0" cy="29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31" name=""/>
              <p:cNvGrpSpPr/>
              <p:nvPr/>
            </p:nvGrpSpPr>
            <p:grpSpPr>
              <a:xfrm>
                <a:off x="2373120" y="2554920"/>
                <a:ext cx="291960" cy="73440"/>
                <a:chOff x="2373120" y="2554920"/>
                <a:chExt cx="291960" cy="73440"/>
              </a:xfrm>
            </p:grpSpPr>
            <p:sp>
              <p:nvSpPr>
                <p:cNvPr id="4332" name=""/>
                <p:cNvSpPr/>
                <p:nvPr/>
              </p:nvSpPr>
              <p:spPr>
                <a:xfrm>
                  <a:off x="2373120" y="25552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3" name=""/>
                <p:cNvSpPr/>
                <p:nvPr/>
              </p:nvSpPr>
              <p:spPr>
                <a:xfrm>
                  <a:off x="2373120" y="2628000"/>
                  <a:ext cx="291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4" name=""/>
                <p:cNvSpPr/>
                <p:nvPr/>
              </p:nvSpPr>
              <p:spPr>
                <a:xfrm flipV="1">
                  <a:off x="2665080" y="255492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5" name=""/>
            <p:cNvSpPr/>
            <p:nvPr/>
          </p:nvSpPr>
          <p:spPr>
            <a:xfrm>
              <a:off x="1230480" y="1981080"/>
              <a:ext cx="0" cy="24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 flipV="1">
              <a:off x="1424160" y="2144520"/>
              <a:ext cx="0" cy="292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838080" y="838080"/>
              <a:ext cx="146160" cy="146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 flipH="1" flipV="1">
              <a:off x="1143000" y="198072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"/>
          <p:cNvSpPr/>
          <p:nvPr/>
        </p:nvSpPr>
        <p:spPr>
          <a:xfrm flipV="1">
            <a:off x="4016520" y="3610080"/>
            <a:ext cx="0" cy="8762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2914920" y="2890800"/>
            <a:ext cx="91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6002640" y="1197000"/>
            <a:ext cx="91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2991600" y="3305160"/>
            <a:ext cx="76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B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1970280" y="13431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6004440" y="2732040"/>
            <a:ext cx="93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K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6208560" y="1709640"/>
            <a:ext cx="513000" cy="80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6721560" y="2075040"/>
            <a:ext cx="29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7013520" y="905040"/>
            <a:ext cx="0" cy="124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3005640" y="1509840"/>
            <a:ext cx="74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9" name=""/>
          <p:cNvGrpSpPr/>
          <p:nvPr/>
        </p:nvGrpSpPr>
        <p:grpSpPr>
          <a:xfrm>
            <a:off x="2700360" y="4486320"/>
            <a:ext cx="1315800" cy="155160"/>
            <a:chOff x="2700360" y="4486320"/>
            <a:chExt cx="1315800" cy="155160"/>
          </a:xfrm>
        </p:grpSpPr>
        <p:sp>
          <p:nvSpPr>
            <p:cNvPr id="4350" name=""/>
            <p:cNvSpPr/>
            <p:nvPr/>
          </p:nvSpPr>
          <p:spPr>
            <a:xfrm>
              <a:off x="2700360" y="4486320"/>
              <a:ext cx="36540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 flipV="1">
              <a:off x="3065760" y="4494960"/>
              <a:ext cx="438480" cy="1465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3504240" y="4486320"/>
              <a:ext cx="51192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3" name=""/>
          <p:cNvGrpSpPr/>
          <p:nvPr/>
        </p:nvGrpSpPr>
        <p:grpSpPr>
          <a:xfrm>
            <a:off x="3087720" y="3844440"/>
            <a:ext cx="512640" cy="358920"/>
            <a:chOff x="3087720" y="3844440"/>
            <a:chExt cx="512640" cy="358920"/>
          </a:xfrm>
        </p:grpSpPr>
        <p:sp>
          <p:nvSpPr>
            <p:cNvPr id="4354" name=""/>
            <p:cNvSpPr/>
            <p:nvPr/>
          </p:nvSpPr>
          <p:spPr>
            <a:xfrm flipV="1">
              <a:off x="3087720" y="3844440"/>
              <a:ext cx="512640" cy="21996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 flipV="1">
              <a:off x="3430800" y="3910320"/>
              <a:ext cx="0" cy="293040"/>
            </a:xfrm>
            <a:prstGeom prst="line">
              <a:avLst/>
            </a:prstGeom>
            <a:ln w="2844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6" name=""/>
            <p:cNvGrpSpPr/>
            <p:nvPr/>
          </p:nvGrpSpPr>
          <p:grpSpPr>
            <a:xfrm>
              <a:off x="3284280" y="4129920"/>
              <a:ext cx="292680" cy="73440"/>
              <a:chOff x="3284280" y="4129920"/>
              <a:chExt cx="292680" cy="73440"/>
            </a:xfrm>
          </p:grpSpPr>
          <p:sp>
            <p:nvSpPr>
              <p:cNvPr id="4357" name=""/>
              <p:cNvSpPr/>
              <p:nvPr/>
            </p:nvSpPr>
            <p:spPr>
              <a:xfrm>
                <a:off x="3284280" y="4130280"/>
                <a:ext cx="0" cy="7308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3284280" y="4203000"/>
                <a:ext cx="292680" cy="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 flipV="1">
                <a:off x="3576960" y="4129920"/>
                <a:ext cx="0" cy="7308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60" name=""/>
          <p:cNvSpPr/>
          <p:nvPr/>
        </p:nvSpPr>
        <p:spPr>
          <a:xfrm>
            <a:off x="2700360" y="3841920"/>
            <a:ext cx="43812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>
            <a:off x="3576600" y="3841920"/>
            <a:ext cx="43992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6226200" y="3236760"/>
            <a:ext cx="511200" cy="80352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>
            <a:off x="6721560" y="3621240"/>
            <a:ext cx="2919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 flipV="1">
            <a:off x="7013520" y="2147760"/>
            <a:ext cx="0" cy="15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5199480" y="2874960"/>
            <a:ext cx="91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2891520" y="4533840"/>
            <a:ext cx="93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K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5201280" y="1371600"/>
            <a:ext cx="93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K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6940440" y="758880"/>
            <a:ext cx="146160" cy="146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9" name=""/>
          <p:cNvGrpSpPr/>
          <p:nvPr/>
        </p:nvGrpSpPr>
        <p:grpSpPr>
          <a:xfrm>
            <a:off x="4016160" y="1785960"/>
            <a:ext cx="1242720" cy="551880"/>
            <a:chOff x="4016160" y="1785960"/>
            <a:chExt cx="1242720" cy="551880"/>
          </a:xfrm>
        </p:grpSpPr>
        <p:grpSp>
          <p:nvGrpSpPr>
            <p:cNvPr id="4370" name=""/>
            <p:cNvGrpSpPr/>
            <p:nvPr/>
          </p:nvGrpSpPr>
          <p:grpSpPr>
            <a:xfrm>
              <a:off x="4016160" y="1785960"/>
              <a:ext cx="1242720" cy="291960"/>
              <a:chOff x="4016160" y="1785960"/>
              <a:chExt cx="1242720" cy="291960"/>
            </a:xfrm>
          </p:grpSpPr>
          <p:sp>
            <p:nvSpPr>
              <p:cNvPr id="4371" name=""/>
              <p:cNvSpPr/>
              <p:nvPr/>
            </p:nvSpPr>
            <p:spPr>
              <a:xfrm>
                <a:off x="4153320" y="1785960"/>
                <a:ext cx="511200" cy="29196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4223160" y="1785960"/>
                <a:ext cx="0" cy="29196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4674240" y="2075040"/>
                <a:ext cx="584640" cy="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 flipH="1">
                <a:off x="4016160" y="2075040"/>
                <a:ext cx="219240" cy="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5" name=""/>
            <p:cNvSpPr/>
            <p:nvPr/>
          </p:nvSpPr>
          <p:spPr>
            <a:xfrm flipV="1">
              <a:off x="4455000" y="1972440"/>
              <a:ext cx="0" cy="365400"/>
            </a:xfrm>
            <a:prstGeom prst="line">
              <a:avLst/>
            </a:prstGeom>
            <a:ln w="2844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6" name=""/>
            <p:cNvGrpSpPr/>
            <p:nvPr/>
          </p:nvGrpSpPr>
          <p:grpSpPr>
            <a:xfrm>
              <a:off x="4308480" y="2199240"/>
              <a:ext cx="292320" cy="73440"/>
              <a:chOff x="4308480" y="2199240"/>
              <a:chExt cx="292320" cy="73440"/>
            </a:xfrm>
          </p:grpSpPr>
          <p:sp>
            <p:nvSpPr>
              <p:cNvPr id="4377" name=""/>
              <p:cNvSpPr/>
              <p:nvPr/>
            </p:nvSpPr>
            <p:spPr>
              <a:xfrm>
                <a:off x="4308480" y="2199600"/>
                <a:ext cx="0" cy="7308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4308480" y="2272320"/>
                <a:ext cx="292320" cy="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 flipV="1">
                <a:off x="4600800" y="2199240"/>
                <a:ext cx="0" cy="7308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80" name=""/>
          <p:cNvSpPr/>
          <p:nvPr/>
        </p:nvSpPr>
        <p:spPr>
          <a:xfrm>
            <a:off x="5843520" y="2075040"/>
            <a:ext cx="3650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5481720" y="1785960"/>
            <a:ext cx="0" cy="2919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>
            <a:off x="5397480" y="1855800"/>
            <a:ext cx="438120" cy="2192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 flipH="1">
            <a:off x="5258880" y="2075040"/>
            <a:ext cx="2192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 flipV="1">
            <a:off x="3430440" y="2317320"/>
            <a:ext cx="1024200" cy="160812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5" name=""/>
          <p:cNvGrpSpPr/>
          <p:nvPr/>
        </p:nvGrpSpPr>
        <p:grpSpPr>
          <a:xfrm>
            <a:off x="2700360" y="2074680"/>
            <a:ext cx="3508200" cy="2411640"/>
            <a:chOff x="2700360" y="2074680"/>
            <a:chExt cx="3508200" cy="2411640"/>
          </a:xfrm>
        </p:grpSpPr>
        <p:sp>
          <p:nvSpPr>
            <p:cNvPr id="4386" name=""/>
            <p:cNvSpPr/>
            <p:nvPr/>
          </p:nvSpPr>
          <p:spPr>
            <a:xfrm>
              <a:off x="2700360" y="2075040"/>
              <a:ext cx="0" cy="241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7" name=""/>
            <p:cNvGrpSpPr/>
            <p:nvPr/>
          </p:nvGrpSpPr>
          <p:grpSpPr>
            <a:xfrm>
              <a:off x="2700360" y="2878200"/>
              <a:ext cx="1315440" cy="150480"/>
              <a:chOff x="2700360" y="2878200"/>
              <a:chExt cx="1315440" cy="150480"/>
            </a:xfrm>
          </p:grpSpPr>
          <p:sp>
            <p:nvSpPr>
              <p:cNvPr id="4388" name=""/>
              <p:cNvSpPr/>
              <p:nvPr/>
            </p:nvSpPr>
            <p:spPr>
              <a:xfrm>
                <a:off x="2700360" y="2878200"/>
                <a:ext cx="36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 flipV="1">
                <a:off x="3065400" y="2882520"/>
                <a:ext cx="438480" cy="14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3504240" y="2878200"/>
                <a:ext cx="51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1" name=""/>
            <p:cNvGrpSpPr/>
            <p:nvPr/>
          </p:nvGrpSpPr>
          <p:grpSpPr>
            <a:xfrm>
              <a:off x="4015800" y="3305160"/>
              <a:ext cx="1243080" cy="556920"/>
              <a:chOff x="4015800" y="3305160"/>
              <a:chExt cx="1243080" cy="556920"/>
            </a:xfrm>
          </p:grpSpPr>
          <p:grpSp>
            <p:nvGrpSpPr>
              <p:cNvPr id="4392" name=""/>
              <p:cNvGrpSpPr/>
              <p:nvPr/>
            </p:nvGrpSpPr>
            <p:grpSpPr>
              <a:xfrm>
                <a:off x="4015800" y="3305160"/>
                <a:ext cx="1243080" cy="308880"/>
                <a:chOff x="4015800" y="3305160"/>
                <a:chExt cx="1243080" cy="308880"/>
              </a:xfrm>
            </p:grpSpPr>
            <p:sp>
              <p:nvSpPr>
                <p:cNvPr id="4393" name=""/>
                <p:cNvSpPr/>
                <p:nvPr/>
              </p:nvSpPr>
              <p:spPr>
                <a:xfrm>
                  <a:off x="4153320" y="3305160"/>
                  <a:ext cx="511560" cy="291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4" name=""/>
                <p:cNvSpPr/>
                <p:nvPr/>
              </p:nvSpPr>
              <p:spPr>
                <a:xfrm>
                  <a:off x="4238280" y="3321720"/>
                  <a:ext cx="0" cy="29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5" name=""/>
                <p:cNvSpPr/>
                <p:nvPr/>
              </p:nvSpPr>
              <p:spPr>
                <a:xfrm>
                  <a:off x="4674240" y="3609360"/>
                  <a:ext cx="584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6" name=""/>
                <p:cNvSpPr/>
                <p:nvPr/>
              </p:nvSpPr>
              <p:spPr>
                <a:xfrm flipH="1">
                  <a:off x="4015800" y="3609360"/>
                  <a:ext cx="219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97" name=""/>
              <p:cNvSpPr/>
              <p:nvPr/>
            </p:nvSpPr>
            <p:spPr>
              <a:xfrm flipV="1">
                <a:off x="4454640" y="3492000"/>
                <a:ext cx="0" cy="36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98" name=""/>
              <p:cNvGrpSpPr/>
              <p:nvPr/>
            </p:nvGrpSpPr>
            <p:grpSpPr>
              <a:xfrm>
                <a:off x="4308120" y="3788640"/>
                <a:ext cx="292320" cy="73440"/>
                <a:chOff x="4308120" y="3788640"/>
                <a:chExt cx="292320" cy="73440"/>
              </a:xfrm>
            </p:grpSpPr>
            <p:sp>
              <p:nvSpPr>
                <p:cNvPr id="4399" name=""/>
                <p:cNvSpPr/>
                <p:nvPr/>
              </p:nvSpPr>
              <p:spPr>
                <a:xfrm>
                  <a:off x="4308120" y="378900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0" name=""/>
                <p:cNvSpPr/>
                <p:nvPr/>
              </p:nvSpPr>
              <p:spPr>
                <a:xfrm>
                  <a:off x="4308120" y="3861720"/>
                  <a:ext cx="292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1" name=""/>
                <p:cNvSpPr/>
                <p:nvPr/>
              </p:nvSpPr>
              <p:spPr>
                <a:xfrm flipV="1">
                  <a:off x="4600440" y="378864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02" name=""/>
            <p:cNvSpPr/>
            <p:nvPr/>
          </p:nvSpPr>
          <p:spPr>
            <a:xfrm>
              <a:off x="5843520" y="3610080"/>
              <a:ext cx="36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5481360" y="3305160"/>
              <a:ext cx="0" cy="2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5397480" y="3392640"/>
              <a:ext cx="438120" cy="21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 flipH="1">
              <a:off x="5258880" y="3610080"/>
              <a:ext cx="21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3357360" y="2171880"/>
              <a:ext cx="1073160" cy="1685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 flipV="1">
              <a:off x="4016160" y="2074680"/>
              <a:ext cx="0" cy="80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8" name=""/>
          <p:cNvGrpSpPr/>
          <p:nvPr/>
        </p:nvGrpSpPr>
        <p:grpSpPr>
          <a:xfrm>
            <a:off x="1676520" y="685800"/>
            <a:ext cx="2340000" cy="1790280"/>
            <a:chOff x="1676520" y="685800"/>
            <a:chExt cx="2340000" cy="1790280"/>
          </a:xfrm>
        </p:grpSpPr>
        <p:grpSp>
          <p:nvGrpSpPr>
            <p:cNvPr id="4409" name=""/>
            <p:cNvGrpSpPr/>
            <p:nvPr/>
          </p:nvGrpSpPr>
          <p:grpSpPr>
            <a:xfrm>
              <a:off x="2094120" y="2210040"/>
              <a:ext cx="304920" cy="76320"/>
              <a:chOff x="2094120" y="2210040"/>
              <a:chExt cx="304920" cy="76320"/>
            </a:xfrm>
          </p:grpSpPr>
          <p:sp>
            <p:nvSpPr>
              <p:cNvPr id="4410" name=""/>
              <p:cNvSpPr/>
              <p:nvPr/>
            </p:nvSpPr>
            <p:spPr>
              <a:xfrm>
                <a:off x="2094120" y="2210400"/>
                <a:ext cx="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 flipV="1">
                <a:off x="2399040" y="2210040"/>
                <a:ext cx="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2094120" y="22860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3" name=""/>
            <p:cNvSpPr/>
            <p:nvPr/>
          </p:nvSpPr>
          <p:spPr>
            <a:xfrm>
              <a:off x="1733760" y="2075040"/>
              <a:ext cx="36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2408400" y="2075040"/>
              <a:ext cx="65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1749600" y="831960"/>
              <a:ext cx="0" cy="124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3576960" y="2075040"/>
              <a:ext cx="43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7" name=""/>
            <p:cNvGrpSpPr/>
            <p:nvPr/>
          </p:nvGrpSpPr>
          <p:grpSpPr>
            <a:xfrm>
              <a:off x="3065760" y="2061720"/>
              <a:ext cx="511200" cy="414360"/>
              <a:chOff x="3065760" y="2061720"/>
              <a:chExt cx="511200" cy="414360"/>
            </a:xfrm>
          </p:grpSpPr>
          <p:sp>
            <p:nvSpPr>
              <p:cNvPr id="4418" name=""/>
              <p:cNvSpPr/>
              <p:nvPr/>
            </p:nvSpPr>
            <p:spPr>
              <a:xfrm flipV="1">
                <a:off x="3065760" y="2061720"/>
                <a:ext cx="511200" cy="21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 flipV="1">
                <a:off x="3357720" y="2183760"/>
                <a:ext cx="0" cy="29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20" name=""/>
              <p:cNvGrpSpPr/>
              <p:nvPr/>
            </p:nvGrpSpPr>
            <p:grpSpPr>
              <a:xfrm>
                <a:off x="3211560" y="2402640"/>
                <a:ext cx="291960" cy="73440"/>
                <a:chOff x="3211560" y="2402640"/>
                <a:chExt cx="291960" cy="73440"/>
              </a:xfrm>
            </p:grpSpPr>
            <p:sp>
              <p:nvSpPr>
                <p:cNvPr id="4421" name=""/>
                <p:cNvSpPr/>
                <p:nvPr/>
              </p:nvSpPr>
              <p:spPr>
                <a:xfrm>
                  <a:off x="3211560" y="240300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2" name=""/>
                <p:cNvSpPr/>
                <p:nvPr/>
              </p:nvSpPr>
              <p:spPr>
                <a:xfrm>
                  <a:off x="3211560" y="2475720"/>
                  <a:ext cx="291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3" name=""/>
                <p:cNvSpPr/>
                <p:nvPr/>
              </p:nvSpPr>
              <p:spPr>
                <a:xfrm flipV="1">
                  <a:off x="3503520" y="240264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24" name=""/>
            <p:cNvSpPr/>
            <p:nvPr/>
          </p:nvSpPr>
          <p:spPr>
            <a:xfrm>
              <a:off x="2068920" y="1828800"/>
              <a:ext cx="0" cy="24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 flipV="1">
              <a:off x="2262600" y="1992240"/>
              <a:ext cx="0" cy="292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1676520" y="685800"/>
              <a:ext cx="146160" cy="146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 flipH="1" flipV="1">
              <a:off x="1981440" y="182844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8" name=""/>
          <p:cNvSpPr/>
          <p:nvPr/>
        </p:nvSpPr>
        <p:spPr>
          <a:xfrm>
            <a:off x="1143000" y="5257800"/>
            <a:ext cx="30481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电机正转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下反转按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"/>
          <p:cNvSpPr/>
          <p:nvPr/>
        </p:nvSpPr>
        <p:spPr>
          <a:xfrm>
            <a:off x="4419720" y="2362320"/>
            <a:ext cx="1066680" cy="533160"/>
          </a:xfrm>
          <a:prstGeom prst="wedgeRoundRectCallout">
            <a:avLst>
              <a:gd name="adj1" fmla="val -40476"/>
              <a:gd name="adj2" fmla="val -121129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先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"/>
          <p:cNvSpPr/>
          <p:nvPr/>
        </p:nvSpPr>
        <p:spPr>
          <a:xfrm>
            <a:off x="7238880" y="2209680"/>
            <a:ext cx="762120" cy="533520"/>
          </a:xfrm>
          <a:prstGeom prst="wedgeRoundRectCallout">
            <a:avLst>
              <a:gd name="adj1" fmla="val -147916"/>
              <a:gd name="adj2" fmla="val -87796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断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"/>
          <p:cNvSpPr/>
          <p:nvPr/>
        </p:nvSpPr>
        <p:spPr>
          <a:xfrm>
            <a:off x="7010280" y="1981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2" name=""/>
          <p:cNvSpPr/>
          <p:nvPr/>
        </p:nvSpPr>
        <p:spPr>
          <a:xfrm>
            <a:off x="5715000" y="4191120"/>
            <a:ext cx="762120" cy="533160"/>
          </a:xfrm>
          <a:prstGeom prst="wedgeRoundRectCallout">
            <a:avLst>
              <a:gd name="adj1" fmla="val -65416"/>
              <a:gd name="adj2" fmla="val -176486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闭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"/>
          <p:cNvSpPr/>
          <p:nvPr/>
        </p:nvSpPr>
        <p:spPr>
          <a:xfrm>
            <a:off x="7238880" y="3429000"/>
            <a:ext cx="762120" cy="533520"/>
          </a:xfrm>
          <a:prstGeom prst="wedgeRoundRectCallout">
            <a:avLst>
              <a:gd name="adj1" fmla="val -144791"/>
              <a:gd name="adj2" fmla="val -60416"/>
              <a:gd name="adj3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通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"/>
          <p:cNvSpPr/>
          <p:nvPr/>
        </p:nvSpPr>
        <p:spPr>
          <a:xfrm>
            <a:off x="1600200" y="2438280"/>
            <a:ext cx="838080" cy="533520"/>
          </a:xfrm>
          <a:prstGeom prst="wedgeRoundRectCallout">
            <a:avLst>
              <a:gd name="adj1" fmla="val 152652"/>
              <a:gd name="adj2" fmla="val -95833"/>
              <a:gd name="adj3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5" name=""/>
          <p:cNvGrpSpPr/>
          <p:nvPr/>
        </p:nvGrpSpPr>
        <p:grpSpPr>
          <a:xfrm>
            <a:off x="4114800" y="5210280"/>
            <a:ext cx="1551960" cy="1052280"/>
            <a:chOff x="4114800" y="5210280"/>
            <a:chExt cx="1551960" cy="1052280"/>
          </a:xfrm>
        </p:grpSpPr>
        <p:sp>
          <p:nvSpPr>
            <p:cNvPr id="4436" name=""/>
            <p:cNvSpPr/>
            <p:nvPr/>
          </p:nvSpPr>
          <p:spPr>
            <a:xfrm>
              <a:off x="4632480" y="5210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停止正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4114800" y="5424480"/>
              <a:ext cx="155520" cy="838080"/>
            </a:xfrm>
            <a:custGeom>
              <a:avLst/>
              <a:gdLst>
                <a:gd name="textAreaLeft" fmla="*/ 99360 w 155520"/>
                <a:gd name="textAreaRight" fmla="*/ 155520 w 1555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8" name=""/>
          <p:cNvSpPr/>
          <p:nvPr/>
        </p:nvSpPr>
        <p:spPr>
          <a:xfrm>
            <a:off x="1676520" y="4724280"/>
            <a:ext cx="838080" cy="533520"/>
          </a:xfrm>
          <a:prstGeom prst="wedgeRoundRectCallout">
            <a:avLst>
              <a:gd name="adj1" fmla="val 121592"/>
              <a:gd name="adj2" fmla="val -81546"/>
              <a:gd name="adj3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闭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>
            <a:off x="1676520" y="3962520"/>
            <a:ext cx="838080" cy="533160"/>
          </a:xfrm>
          <a:prstGeom prst="wedgeRoundRectCallout">
            <a:avLst>
              <a:gd name="adj1" fmla="val 138634"/>
              <a:gd name="adj2" fmla="val -68152"/>
              <a:gd name="adj3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闭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 flipH="1" flipV="1">
            <a:off x="3048120" y="4343400"/>
            <a:ext cx="380880" cy="3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4556520" y="5805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机反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 flipH="1" flipV="1">
            <a:off x="3123720" y="3781440"/>
            <a:ext cx="381240" cy="3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3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1.4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行程控制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5976360" y="3763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自动往返运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>
            <a:off x="5557680" y="4231440"/>
            <a:ext cx="3581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正向运行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向运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位后能自动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5710320" y="10659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行程控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>
            <a:off x="5329080" y="2277360"/>
            <a:ext cx="34340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某些机械的行程，当运动部件到达一定行程位置时利用行程开关进行控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8" name=""/>
          <p:cNvGrpSpPr/>
          <p:nvPr/>
        </p:nvGrpSpPr>
        <p:grpSpPr>
          <a:xfrm>
            <a:off x="456840" y="4475160"/>
            <a:ext cx="4525560" cy="1424880"/>
            <a:chOff x="456840" y="4475160"/>
            <a:chExt cx="4525560" cy="1424880"/>
          </a:xfrm>
        </p:grpSpPr>
        <p:grpSp>
          <p:nvGrpSpPr>
            <p:cNvPr id="4449" name=""/>
            <p:cNvGrpSpPr/>
            <p:nvPr/>
          </p:nvGrpSpPr>
          <p:grpSpPr>
            <a:xfrm>
              <a:off x="456840" y="4495680"/>
              <a:ext cx="193320" cy="1087200"/>
              <a:chOff x="456840" y="4495680"/>
              <a:chExt cx="193320" cy="1087200"/>
            </a:xfrm>
          </p:grpSpPr>
          <p:sp>
            <p:nvSpPr>
              <p:cNvPr id="4450" name=""/>
              <p:cNvSpPr/>
              <p:nvPr/>
            </p:nvSpPr>
            <p:spPr>
              <a:xfrm flipV="1">
                <a:off x="615600" y="4516200"/>
                <a:ext cx="0" cy="106668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51" name=""/>
              <p:cNvGrpSpPr/>
              <p:nvPr/>
            </p:nvGrpSpPr>
            <p:grpSpPr>
              <a:xfrm>
                <a:off x="456840" y="4495680"/>
                <a:ext cx="193320" cy="1087200"/>
                <a:chOff x="456840" y="4495680"/>
                <a:chExt cx="193320" cy="1087200"/>
              </a:xfrm>
            </p:grpSpPr>
            <p:sp>
              <p:nvSpPr>
                <p:cNvPr id="4452" name=""/>
                <p:cNvSpPr/>
                <p:nvPr/>
              </p:nvSpPr>
              <p:spPr>
                <a:xfrm flipH="1" flipV="1">
                  <a:off x="456840" y="5333760"/>
                  <a:ext cx="193320" cy="24912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3" name=""/>
                <p:cNvSpPr/>
                <p:nvPr/>
              </p:nvSpPr>
              <p:spPr>
                <a:xfrm flipH="1" flipV="1">
                  <a:off x="456840" y="5167080"/>
                  <a:ext cx="193320" cy="24912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4" name=""/>
                <p:cNvSpPr/>
                <p:nvPr/>
              </p:nvSpPr>
              <p:spPr>
                <a:xfrm flipH="1" flipV="1">
                  <a:off x="456840" y="5000040"/>
                  <a:ext cx="193320" cy="25092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5" name=""/>
                <p:cNvSpPr/>
                <p:nvPr/>
              </p:nvSpPr>
              <p:spPr>
                <a:xfrm flipH="1" flipV="1">
                  <a:off x="456840" y="4834800"/>
                  <a:ext cx="193320" cy="2494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6" name=""/>
                <p:cNvSpPr/>
                <p:nvPr/>
              </p:nvSpPr>
              <p:spPr>
                <a:xfrm flipH="1" flipV="1">
                  <a:off x="456840" y="4668120"/>
                  <a:ext cx="193320" cy="2494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7" name=""/>
                <p:cNvSpPr/>
                <p:nvPr/>
              </p:nvSpPr>
              <p:spPr>
                <a:xfrm flipH="1" flipV="1">
                  <a:off x="456840" y="4495680"/>
                  <a:ext cx="193320" cy="24912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58" name=""/>
            <p:cNvSpPr/>
            <p:nvPr/>
          </p:nvSpPr>
          <p:spPr>
            <a:xfrm rot="5400000">
              <a:off x="1621440" y="4978440"/>
              <a:ext cx="525600" cy="188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9" name=""/>
            <p:cNvGrpSpPr/>
            <p:nvPr/>
          </p:nvGrpSpPr>
          <p:grpSpPr>
            <a:xfrm>
              <a:off x="1316520" y="4974120"/>
              <a:ext cx="477720" cy="189360"/>
              <a:chOff x="1316520" y="4974120"/>
              <a:chExt cx="477720" cy="189360"/>
            </a:xfrm>
          </p:grpSpPr>
          <p:sp>
            <p:nvSpPr>
              <p:cNvPr id="4460" name=""/>
              <p:cNvSpPr/>
              <p:nvPr/>
            </p:nvSpPr>
            <p:spPr>
              <a:xfrm rot="21489000">
                <a:off x="1319040" y="4987800"/>
                <a:ext cx="78840" cy="1742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 rot="21489000">
                <a:off x="1476360" y="4982760"/>
                <a:ext cx="78480" cy="1742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 rot="21489000">
                <a:off x="1397520" y="4985280"/>
                <a:ext cx="78480" cy="1742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 rot="21489000">
                <a:off x="1634040" y="4977720"/>
                <a:ext cx="78480" cy="1742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 rot="21489000">
                <a:off x="1554840" y="4980240"/>
                <a:ext cx="78840" cy="1742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 rot="21489000">
                <a:off x="1712520" y="4975200"/>
                <a:ext cx="78480" cy="1742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6" name=""/>
            <p:cNvSpPr/>
            <p:nvPr/>
          </p:nvSpPr>
          <p:spPr>
            <a:xfrm>
              <a:off x="1319040" y="4809960"/>
              <a:ext cx="0" cy="5256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 rot="5400000">
              <a:off x="724320" y="5025240"/>
              <a:ext cx="525600" cy="9504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 flipH="1">
              <a:off x="1032840" y="5073480"/>
              <a:ext cx="2840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 rot="5400000">
              <a:off x="1035720" y="5158080"/>
              <a:ext cx="87480" cy="93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 rot="5400000">
              <a:off x="1035720" y="4894560"/>
              <a:ext cx="87480" cy="93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 rot="5400000">
              <a:off x="754200" y="5157000"/>
              <a:ext cx="87480" cy="950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 rot="5400000">
              <a:off x="754200" y="4893480"/>
              <a:ext cx="87480" cy="950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 rot="5400000">
              <a:off x="729360" y="4646880"/>
              <a:ext cx="700200" cy="8521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1158840" y="4896000"/>
              <a:ext cx="0" cy="3808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 rot="16200000">
              <a:off x="3264840" y="4978440"/>
              <a:ext cx="525600" cy="188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6" name=""/>
            <p:cNvGrpSpPr/>
            <p:nvPr/>
          </p:nvGrpSpPr>
          <p:grpSpPr>
            <a:xfrm>
              <a:off x="3619800" y="4983480"/>
              <a:ext cx="478080" cy="189360"/>
              <a:chOff x="3619800" y="4983480"/>
              <a:chExt cx="478080" cy="189360"/>
            </a:xfrm>
          </p:grpSpPr>
          <p:sp>
            <p:nvSpPr>
              <p:cNvPr id="4477" name=""/>
              <p:cNvSpPr/>
              <p:nvPr/>
            </p:nvSpPr>
            <p:spPr>
              <a:xfrm rot="10689000">
                <a:off x="4016160" y="4984560"/>
                <a:ext cx="78840" cy="1742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 rot="10689000">
                <a:off x="3859200" y="4989600"/>
                <a:ext cx="78480" cy="1742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 rot="10689000">
                <a:off x="3938040" y="4987080"/>
                <a:ext cx="78480" cy="1742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 rot="10689000">
                <a:off x="3701520" y="4994640"/>
                <a:ext cx="78480" cy="1742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 rot="10689000">
                <a:off x="3780000" y="4992120"/>
                <a:ext cx="78840" cy="1742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 rot="10689000">
                <a:off x="3622680" y="4997160"/>
                <a:ext cx="78480" cy="1742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3" name=""/>
            <p:cNvSpPr/>
            <p:nvPr/>
          </p:nvSpPr>
          <p:spPr>
            <a:xfrm flipV="1">
              <a:off x="4095720" y="4809960"/>
              <a:ext cx="0" cy="5256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 rot="16200000">
              <a:off x="4164120" y="5025240"/>
              <a:ext cx="525600" cy="946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4095720" y="5073480"/>
              <a:ext cx="28368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 rot="16200000">
              <a:off x="4289040" y="4894200"/>
              <a:ext cx="87480" cy="93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 rot="16200000">
              <a:off x="4289040" y="5157720"/>
              <a:ext cx="87480" cy="93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 rot="16200000">
              <a:off x="4572360" y="4893480"/>
              <a:ext cx="87480" cy="946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 rot="16200000">
              <a:off x="4572360" y="5157000"/>
              <a:ext cx="87480" cy="946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 rot="16200000">
              <a:off x="3982680" y="4646520"/>
              <a:ext cx="700200" cy="8521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 flipV="1">
              <a:off x="4255920" y="4870440"/>
              <a:ext cx="0" cy="3808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3940200" y="5379480"/>
              <a:ext cx="76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785520" y="5379480"/>
              <a:ext cx="75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4" name=""/>
            <p:cNvGrpSpPr/>
            <p:nvPr/>
          </p:nvGrpSpPr>
          <p:grpSpPr>
            <a:xfrm>
              <a:off x="2133360" y="4724280"/>
              <a:ext cx="1066320" cy="914400"/>
              <a:chOff x="2133360" y="4724280"/>
              <a:chExt cx="1066320" cy="914400"/>
            </a:xfrm>
          </p:grpSpPr>
          <p:sp>
            <p:nvSpPr>
              <p:cNvPr id="4495" name=""/>
              <p:cNvSpPr/>
              <p:nvPr/>
            </p:nvSpPr>
            <p:spPr>
              <a:xfrm>
                <a:off x="2133360" y="4724280"/>
                <a:ext cx="1066320" cy="67392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2209320" y="5398200"/>
                <a:ext cx="190440" cy="240480"/>
              </a:xfrm>
              <a:prstGeom prst="ellipse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2894760" y="5398200"/>
                <a:ext cx="190440" cy="240480"/>
              </a:xfrm>
              <a:prstGeom prst="ellipse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2388240" y="4766400"/>
                <a:ext cx="546480" cy="45972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电机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9" name=""/>
            <p:cNvGrpSpPr/>
            <p:nvPr/>
          </p:nvGrpSpPr>
          <p:grpSpPr>
            <a:xfrm>
              <a:off x="4782960" y="4475160"/>
              <a:ext cx="199440" cy="1087560"/>
              <a:chOff x="4782960" y="4475160"/>
              <a:chExt cx="199440" cy="1087560"/>
            </a:xfrm>
          </p:grpSpPr>
          <p:sp>
            <p:nvSpPr>
              <p:cNvPr id="4500" name=""/>
              <p:cNvSpPr/>
              <p:nvPr/>
            </p:nvSpPr>
            <p:spPr>
              <a:xfrm flipV="1">
                <a:off x="4817520" y="4495680"/>
                <a:ext cx="0" cy="106704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 flipV="1">
                <a:off x="4824000" y="5334120"/>
                <a:ext cx="158400" cy="1728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 flipV="1">
                <a:off x="4782960" y="5146200"/>
                <a:ext cx="193320" cy="24948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 flipV="1">
                <a:off x="4782960" y="4979520"/>
                <a:ext cx="193320" cy="2509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 flipV="1">
                <a:off x="4782960" y="4815000"/>
                <a:ext cx="193320" cy="2491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 flipV="1">
                <a:off x="4782960" y="4648320"/>
                <a:ext cx="193320" cy="2491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 flipV="1">
                <a:off x="4782960" y="4475160"/>
                <a:ext cx="193320" cy="2491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07" name=""/>
          <p:cNvGrpSpPr/>
          <p:nvPr/>
        </p:nvGrpSpPr>
        <p:grpSpPr>
          <a:xfrm>
            <a:off x="371160" y="1121760"/>
            <a:ext cx="4345560" cy="2693160"/>
            <a:chOff x="371160" y="1121760"/>
            <a:chExt cx="4345560" cy="2693160"/>
          </a:xfrm>
        </p:grpSpPr>
        <p:sp>
          <p:nvSpPr>
            <p:cNvPr id="4508" name=""/>
            <p:cNvSpPr/>
            <p:nvPr/>
          </p:nvSpPr>
          <p:spPr>
            <a:xfrm>
              <a:off x="4170240" y="3351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正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1295280" y="1542960"/>
              <a:ext cx="0" cy="8557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 flipH="1">
              <a:off x="1142640" y="1608120"/>
              <a:ext cx="128520" cy="2080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 flipH="1">
              <a:off x="1142640" y="1747800"/>
              <a:ext cx="128520" cy="2095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 flipH="1">
              <a:off x="1142640" y="1886040"/>
              <a:ext cx="128520" cy="2109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 flipH="1">
              <a:off x="1142640" y="2025720"/>
              <a:ext cx="128520" cy="2077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 flipH="1">
              <a:off x="1142640" y="2165400"/>
              <a:ext cx="128520" cy="2080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 flipH="1">
              <a:off x="1142640" y="2311560"/>
              <a:ext cx="128520" cy="2077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1330200" y="1920960"/>
              <a:ext cx="2802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2319480" y="1730520"/>
              <a:ext cx="412560" cy="382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2540160" y="2131920"/>
              <a:ext cx="0" cy="574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2363760" y="2665440"/>
              <a:ext cx="331920" cy="2556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144" y="0"/>
                  </a:moveTo>
                  <a:cubicBezTo>
                    <a:pt x="216" y="32"/>
                    <a:pt x="288" y="64"/>
                    <a:pt x="288" y="96"/>
                  </a:cubicBezTo>
                  <a:cubicBezTo>
                    <a:pt x="288" y="128"/>
                    <a:pt x="192" y="192"/>
                    <a:pt x="144" y="192"/>
                  </a:cubicBezTo>
                  <a:cubicBezTo>
                    <a:pt x="96" y="192"/>
                    <a:pt x="48" y="144"/>
                    <a:pt x="0" y="96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1990800" y="3303720"/>
              <a:ext cx="1152360" cy="51120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2567160" y="2921040"/>
              <a:ext cx="0" cy="382680"/>
            </a:xfrm>
            <a:prstGeom prst="line">
              <a:avLst/>
            </a:prstGeom>
            <a:ln w="57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3255840" y="3594240"/>
              <a:ext cx="7416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3827520" y="1679400"/>
              <a:ext cx="280800" cy="45720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192" y="0"/>
                  </a:moveTo>
                  <a:lnTo>
                    <a:pt x="192" y="288"/>
                  </a:lnTo>
                  <a:lnTo>
                    <a:pt x="96" y="288"/>
                  </a:lnTo>
                  <a:lnTo>
                    <a:pt x="96" y="192"/>
                  </a:lnTo>
                  <a:lnTo>
                    <a:pt x="0" y="192"/>
                  </a:lnTo>
                  <a:lnTo>
                    <a:pt x="0" y="96"/>
                  </a:lnTo>
                  <a:lnTo>
                    <a:pt x="96" y="96"/>
                  </a:lnTo>
                  <a:lnTo>
                    <a:pt x="96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2819520" y="2514600"/>
              <a:ext cx="1271520" cy="533520"/>
            </a:xfrm>
            <a:prstGeom prst="wedgeRoundRectCallout">
              <a:avLst>
                <a:gd name="adj1" fmla="val 41759"/>
                <a:gd name="adj2" fmla="val -130953"/>
                <a:gd name="adj3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限位开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3299040" y="1121760"/>
              <a:ext cx="76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 flipH="1">
              <a:off x="1335960" y="1692360"/>
              <a:ext cx="282600" cy="45720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192" y="0"/>
                  </a:moveTo>
                  <a:lnTo>
                    <a:pt x="192" y="288"/>
                  </a:lnTo>
                  <a:lnTo>
                    <a:pt x="96" y="288"/>
                  </a:lnTo>
                  <a:lnTo>
                    <a:pt x="96" y="192"/>
                  </a:lnTo>
                  <a:lnTo>
                    <a:pt x="0" y="192"/>
                  </a:lnTo>
                  <a:lnTo>
                    <a:pt x="0" y="96"/>
                  </a:lnTo>
                  <a:lnTo>
                    <a:pt x="96" y="96"/>
                  </a:lnTo>
                  <a:lnTo>
                    <a:pt x="96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1361880" y="1134360"/>
              <a:ext cx="75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371160" y="3346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逆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 flipH="1">
              <a:off x="1101600" y="3587760"/>
              <a:ext cx="7416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4114800" y="1457280"/>
              <a:ext cx="0" cy="8557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4138560" y="1522440"/>
              <a:ext cx="128520" cy="2080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4138560" y="1662120"/>
              <a:ext cx="128520" cy="2095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4138560" y="1800360"/>
              <a:ext cx="128520" cy="2109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4138560" y="1940040"/>
              <a:ext cx="128520" cy="2077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4138560" y="2079720"/>
              <a:ext cx="128520" cy="2077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4138560" y="2225520"/>
              <a:ext cx="128520" cy="2080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7" name=""/>
          <p:cNvGrpSpPr/>
          <p:nvPr/>
        </p:nvGrpSpPr>
        <p:grpSpPr>
          <a:xfrm>
            <a:off x="1603440" y="1590840"/>
            <a:ext cx="412200" cy="694800"/>
            <a:chOff x="1603440" y="1590840"/>
            <a:chExt cx="412200" cy="694800"/>
          </a:xfrm>
        </p:grpSpPr>
        <p:sp>
          <p:nvSpPr>
            <p:cNvPr id="4538" name=""/>
            <p:cNvSpPr/>
            <p:nvPr/>
          </p:nvSpPr>
          <p:spPr>
            <a:xfrm>
              <a:off x="1721160" y="1911600"/>
              <a:ext cx="294480" cy="374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 flipH="1" flipV="1">
              <a:off x="1661760" y="1643760"/>
              <a:ext cx="294840" cy="26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1603440" y="1590840"/>
              <a:ext cx="117720" cy="106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1" name=""/>
          <p:cNvGrpSpPr/>
          <p:nvPr/>
        </p:nvGrpSpPr>
        <p:grpSpPr>
          <a:xfrm>
            <a:off x="3724200" y="1547640"/>
            <a:ext cx="468360" cy="747720"/>
            <a:chOff x="3724200" y="1547640"/>
            <a:chExt cx="468360" cy="747720"/>
          </a:xfrm>
        </p:grpSpPr>
        <p:sp>
          <p:nvSpPr>
            <p:cNvPr id="4542" name=""/>
            <p:cNvSpPr/>
            <p:nvPr/>
          </p:nvSpPr>
          <p:spPr>
            <a:xfrm>
              <a:off x="3724200" y="1921320"/>
              <a:ext cx="292680" cy="374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4075560" y="1547640"/>
              <a:ext cx="117000" cy="106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 flipV="1">
              <a:off x="3782520" y="1653840"/>
              <a:ext cx="29268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5" name=""/>
          <p:cNvSpPr/>
          <p:nvPr/>
        </p:nvSpPr>
        <p:spPr>
          <a:xfrm>
            <a:off x="4090680" y="1843200"/>
            <a:ext cx="7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6" name=""/>
          <p:cNvSpPr/>
          <p:nvPr/>
        </p:nvSpPr>
        <p:spPr>
          <a:xfrm>
            <a:off x="957240" y="1908000"/>
            <a:ext cx="7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7" name=""/>
          <p:cNvGrpSpPr/>
          <p:nvPr/>
        </p:nvGrpSpPr>
        <p:grpSpPr>
          <a:xfrm>
            <a:off x="2274840" y="533520"/>
            <a:ext cx="2281320" cy="520560"/>
            <a:chOff x="2274840" y="533520"/>
            <a:chExt cx="2281320" cy="520560"/>
          </a:xfrm>
        </p:grpSpPr>
        <p:sp>
          <p:nvSpPr>
            <p:cNvPr id="4548" name=""/>
            <p:cNvSpPr/>
            <p:nvPr/>
          </p:nvSpPr>
          <p:spPr>
            <a:xfrm>
              <a:off x="2274840" y="838440"/>
              <a:ext cx="54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3019320" y="533520"/>
              <a:ext cx="153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前进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正转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0" name=""/>
          <p:cNvGrpSpPr/>
          <p:nvPr/>
        </p:nvGrpSpPr>
        <p:grpSpPr>
          <a:xfrm>
            <a:off x="2192040" y="1447920"/>
            <a:ext cx="1303920" cy="520560"/>
            <a:chOff x="2192040" y="1447920"/>
            <a:chExt cx="1303920" cy="520560"/>
          </a:xfrm>
        </p:grpSpPr>
        <p:sp>
          <p:nvSpPr>
            <p:cNvPr id="4551" name=""/>
            <p:cNvSpPr/>
            <p:nvPr/>
          </p:nvSpPr>
          <p:spPr>
            <a:xfrm flipH="1">
              <a:off x="2192040" y="1752840"/>
              <a:ext cx="62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2888640" y="1447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后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3" name=""/>
          <p:cNvSpPr/>
          <p:nvPr/>
        </p:nvSpPr>
        <p:spPr>
          <a:xfrm>
            <a:off x="917640" y="1066680"/>
            <a:ext cx="4111560" cy="2984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4" name=""/>
          <p:cNvGrpSpPr/>
          <p:nvPr/>
        </p:nvGrpSpPr>
        <p:grpSpPr>
          <a:xfrm>
            <a:off x="1143000" y="1281240"/>
            <a:ext cx="336600" cy="341280"/>
            <a:chOff x="1143000" y="1281240"/>
            <a:chExt cx="336600" cy="341280"/>
          </a:xfrm>
        </p:grpSpPr>
        <p:grpSp>
          <p:nvGrpSpPr>
            <p:cNvPr id="4555" name=""/>
            <p:cNvGrpSpPr/>
            <p:nvPr/>
          </p:nvGrpSpPr>
          <p:grpSpPr>
            <a:xfrm>
              <a:off x="1143000" y="1281240"/>
              <a:ext cx="336600" cy="340920"/>
              <a:chOff x="1143000" y="1281240"/>
              <a:chExt cx="336600" cy="340920"/>
            </a:xfrm>
          </p:grpSpPr>
          <p:sp>
            <p:nvSpPr>
              <p:cNvPr id="4556" name=""/>
              <p:cNvSpPr/>
              <p:nvPr/>
            </p:nvSpPr>
            <p:spPr>
              <a:xfrm>
                <a:off x="1143000" y="1281240"/>
                <a:ext cx="336600" cy="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1143000" y="1281240"/>
                <a:ext cx="0" cy="21312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1479600" y="1281240"/>
                <a:ext cx="0" cy="21312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1143000" y="1494360"/>
                <a:ext cx="111960" cy="12780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 flipH="1">
                <a:off x="1366920" y="1494360"/>
                <a:ext cx="111960" cy="12780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1" name=""/>
            <p:cNvSpPr/>
            <p:nvPr/>
          </p:nvSpPr>
          <p:spPr>
            <a:xfrm>
              <a:off x="1254960" y="1622520"/>
              <a:ext cx="11232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2" name=""/>
          <p:cNvGrpSpPr/>
          <p:nvPr/>
        </p:nvGrpSpPr>
        <p:grpSpPr>
          <a:xfrm>
            <a:off x="4352760" y="1281240"/>
            <a:ext cx="336600" cy="341280"/>
            <a:chOff x="4352760" y="1281240"/>
            <a:chExt cx="336600" cy="341280"/>
          </a:xfrm>
        </p:grpSpPr>
        <p:grpSp>
          <p:nvGrpSpPr>
            <p:cNvPr id="4563" name=""/>
            <p:cNvGrpSpPr/>
            <p:nvPr/>
          </p:nvGrpSpPr>
          <p:grpSpPr>
            <a:xfrm>
              <a:off x="4352760" y="1281240"/>
              <a:ext cx="336600" cy="340920"/>
              <a:chOff x="4352760" y="1281240"/>
              <a:chExt cx="336600" cy="340920"/>
            </a:xfrm>
          </p:grpSpPr>
          <p:sp>
            <p:nvSpPr>
              <p:cNvPr id="4564" name=""/>
              <p:cNvSpPr/>
              <p:nvPr/>
            </p:nvSpPr>
            <p:spPr>
              <a:xfrm>
                <a:off x="4352760" y="1281240"/>
                <a:ext cx="336600" cy="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4352760" y="1281240"/>
                <a:ext cx="0" cy="21312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4689360" y="1281240"/>
                <a:ext cx="0" cy="21312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4352760" y="1494360"/>
                <a:ext cx="111960" cy="12780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 flipH="1">
                <a:off x="4576680" y="1494360"/>
                <a:ext cx="111960" cy="12780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9" name=""/>
            <p:cNvSpPr/>
            <p:nvPr/>
          </p:nvSpPr>
          <p:spPr>
            <a:xfrm>
              <a:off x="4464720" y="1622520"/>
              <a:ext cx="11232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0" name=""/>
          <p:cNvSpPr/>
          <p:nvPr/>
        </p:nvSpPr>
        <p:spPr>
          <a:xfrm>
            <a:off x="114480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>
            <a:off x="437832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5457960" y="31896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B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3" name=""/>
          <p:cNvGrpSpPr/>
          <p:nvPr/>
        </p:nvGrpSpPr>
        <p:grpSpPr>
          <a:xfrm>
            <a:off x="5686560" y="777960"/>
            <a:ext cx="2222640" cy="579600"/>
            <a:chOff x="5686560" y="777960"/>
            <a:chExt cx="2222640" cy="579600"/>
          </a:xfrm>
        </p:grpSpPr>
        <p:sp>
          <p:nvSpPr>
            <p:cNvPr id="4574" name=""/>
            <p:cNvSpPr/>
            <p:nvPr/>
          </p:nvSpPr>
          <p:spPr>
            <a:xfrm>
              <a:off x="5686560" y="958680"/>
              <a:ext cx="685440" cy="208080"/>
            </a:xfrm>
            <a:prstGeom prst="rightArrow">
              <a:avLst>
                <a:gd name="adj1" fmla="val 50000"/>
                <a:gd name="adj2" fmla="val 82353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6480360" y="777960"/>
              <a:ext cx="1428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KM</a:t>
              </a:r>
              <a:r>
                <a:rPr b="1" lang="zh-CN" sz="2800" spc="-1" strike="noStrike" baseline="-25000">
                  <a:solidFill>
                    <a:srgbClr val="006600"/>
                  </a:solidFill>
                  <a:latin typeface="Times New Roman"/>
                </a:rPr>
                <a:t>F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通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6" name=""/>
          <p:cNvSpPr/>
          <p:nvPr/>
        </p:nvSpPr>
        <p:spPr>
          <a:xfrm>
            <a:off x="6691320" y="3168720"/>
            <a:ext cx="166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常闭断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开闭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6557040" y="3976560"/>
            <a:ext cx="1428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断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"/>
          <p:cNvSpPr/>
          <p:nvPr/>
        </p:nvSpPr>
        <p:spPr>
          <a:xfrm>
            <a:off x="6681240" y="4952880"/>
            <a:ext cx="145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9" name=""/>
          <p:cNvSpPr/>
          <p:nvPr/>
        </p:nvSpPr>
        <p:spPr>
          <a:xfrm>
            <a:off x="2133720" y="2286000"/>
            <a:ext cx="1523880" cy="457200"/>
          </a:xfrm>
          <a:prstGeom prst="wedgeRoundRectCallout">
            <a:avLst>
              <a:gd name="adj1" fmla="val -67189"/>
              <a:gd name="adj2" fmla="val -113194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行程开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"/>
          <p:cNvSpPr/>
          <p:nvPr/>
        </p:nvSpPr>
        <p:spPr>
          <a:xfrm>
            <a:off x="254160" y="2756880"/>
            <a:ext cx="33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自动往返运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1066680" y="457200"/>
            <a:ext cx="838440" cy="457200"/>
          </a:xfrm>
          <a:prstGeom prst="wedgeRoundRectCallout">
            <a:avLst>
              <a:gd name="adj1" fmla="val -14013"/>
              <a:gd name="adj2" fmla="val 151041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挡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">
            <a:hlinkClick r:id="rId4"/>
          </p:cNvPr>
          <p:cNvSpPr/>
          <p:nvPr/>
        </p:nvSpPr>
        <p:spPr>
          <a:xfrm>
            <a:off x="3429000" y="6095880"/>
            <a:ext cx="69048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3" name=""/>
          <p:cNvGrpSpPr/>
          <p:nvPr/>
        </p:nvGrpSpPr>
        <p:grpSpPr>
          <a:xfrm>
            <a:off x="5686560" y="1263600"/>
            <a:ext cx="2554200" cy="520560"/>
            <a:chOff x="5686560" y="1263600"/>
            <a:chExt cx="2554200" cy="520560"/>
          </a:xfrm>
        </p:grpSpPr>
        <p:sp>
          <p:nvSpPr>
            <p:cNvPr id="4584" name=""/>
            <p:cNvSpPr/>
            <p:nvPr/>
          </p:nvSpPr>
          <p:spPr>
            <a:xfrm>
              <a:off x="6336000" y="126360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电机正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5686560" y="1455840"/>
              <a:ext cx="685800" cy="207720"/>
            </a:xfrm>
            <a:prstGeom prst="rightArrow">
              <a:avLst>
                <a:gd name="adj1" fmla="val 50000"/>
                <a:gd name="adj2" fmla="val 82539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6" name=""/>
          <p:cNvGrpSpPr/>
          <p:nvPr/>
        </p:nvGrpSpPr>
        <p:grpSpPr>
          <a:xfrm>
            <a:off x="5686560" y="1720800"/>
            <a:ext cx="2221560" cy="520560"/>
            <a:chOff x="5686560" y="1720800"/>
            <a:chExt cx="2221560" cy="520560"/>
          </a:xfrm>
        </p:grpSpPr>
        <p:sp>
          <p:nvSpPr>
            <p:cNvPr id="4587" name=""/>
            <p:cNvSpPr/>
            <p:nvPr/>
          </p:nvSpPr>
          <p:spPr>
            <a:xfrm>
              <a:off x="6660720" y="17208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工作台前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5686560" y="1949400"/>
              <a:ext cx="685440" cy="208080"/>
            </a:xfrm>
            <a:prstGeom prst="rightArrow">
              <a:avLst>
                <a:gd name="adj1" fmla="val 50000"/>
                <a:gd name="adj2" fmla="val 82353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9" name=""/>
          <p:cNvGrpSpPr/>
          <p:nvPr/>
        </p:nvGrpSpPr>
        <p:grpSpPr>
          <a:xfrm>
            <a:off x="5686560" y="2254320"/>
            <a:ext cx="2965680" cy="1006200"/>
            <a:chOff x="5686560" y="2254320"/>
            <a:chExt cx="2965680" cy="1006200"/>
          </a:xfrm>
        </p:grpSpPr>
        <p:sp>
          <p:nvSpPr>
            <p:cNvPr id="4590" name=""/>
            <p:cNvSpPr/>
            <p:nvPr/>
          </p:nvSpPr>
          <p:spPr>
            <a:xfrm>
              <a:off x="6635160" y="2254320"/>
              <a:ext cx="2017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到达预定位置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挡块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撞击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ST</a:t>
              </a:r>
              <a:r>
                <a:rPr b="1" lang="zh-CN" sz="2800" spc="-1" strike="noStrike" baseline="-25000">
                  <a:solidFill>
                    <a:srgbClr val="0066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5686560" y="2427120"/>
              <a:ext cx="685800" cy="208080"/>
            </a:xfrm>
            <a:prstGeom prst="rightArrow">
              <a:avLst>
                <a:gd name="adj1" fmla="val 50000"/>
                <a:gd name="adj2" fmla="val 82396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2" name=""/>
          <p:cNvGrpSpPr/>
          <p:nvPr/>
        </p:nvGrpSpPr>
        <p:grpSpPr>
          <a:xfrm>
            <a:off x="479520" y="2743200"/>
            <a:ext cx="5158800" cy="3769920"/>
            <a:chOff x="479520" y="2743200"/>
            <a:chExt cx="5158800" cy="3769920"/>
          </a:xfrm>
        </p:grpSpPr>
        <p:sp>
          <p:nvSpPr>
            <p:cNvPr id="4593" name=""/>
            <p:cNvSpPr/>
            <p:nvPr/>
          </p:nvSpPr>
          <p:spPr>
            <a:xfrm>
              <a:off x="897120" y="4027680"/>
              <a:ext cx="0" cy="6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 flipV="1">
              <a:off x="1176120" y="4027320"/>
              <a:ext cx="0" cy="6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897120" y="4087800"/>
              <a:ext cx="27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 flipV="1">
              <a:off x="5569200" y="3937680"/>
              <a:ext cx="0" cy="161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1455120" y="5028480"/>
              <a:ext cx="34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 flipV="1">
              <a:off x="1803960" y="5018760"/>
              <a:ext cx="417600" cy="12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2221560" y="5028480"/>
              <a:ext cx="48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 flipV="1">
              <a:off x="1797480" y="4386240"/>
              <a:ext cx="48852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1455120" y="4388400"/>
              <a:ext cx="41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2292480" y="4388400"/>
              <a:ext cx="41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 flipH="1">
              <a:off x="1998000" y="4399200"/>
              <a:ext cx="2790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 flipH="1" flipV="1">
              <a:off x="1928160" y="4519080"/>
              <a:ext cx="69480" cy="6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706680" y="3260880"/>
              <a:ext cx="6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4619880" y="4744440"/>
              <a:ext cx="939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1748160" y="3361320"/>
              <a:ext cx="740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4573080" y="3031200"/>
              <a:ext cx="92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3817440" y="4812480"/>
              <a:ext cx="91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3784320" y="3164040"/>
              <a:ext cx="939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2878200" y="3114000"/>
              <a:ext cx="72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ST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2856600" y="474624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ST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1635120" y="4497480"/>
              <a:ext cx="91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1544040" y="5865840"/>
              <a:ext cx="939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1455120" y="3879720"/>
              <a:ext cx="0" cy="250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1176120" y="3879720"/>
              <a:ext cx="62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549000" y="2861640"/>
              <a:ext cx="0" cy="101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2292480" y="3879720"/>
              <a:ext cx="41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4801320" y="3580200"/>
              <a:ext cx="488160" cy="658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5289840" y="3879720"/>
              <a:ext cx="27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5569200" y="2921760"/>
              <a:ext cx="0" cy="101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 flipV="1">
              <a:off x="1803960" y="3890520"/>
              <a:ext cx="488520" cy="17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 flipV="1">
              <a:off x="2082960" y="3978360"/>
              <a:ext cx="0" cy="240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1944000" y="4158720"/>
              <a:ext cx="0" cy="6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1944000" y="4218840"/>
              <a:ext cx="27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 flipV="1">
              <a:off x="2223000" y="4158360"/>
              <a:ext cx="0" cy="6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824760" y="3691440"/>
              <a:ext cx="348120" cy="17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891000" y="3657600"/>
              <a:ext cx="0" cy="23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 flipV="1">
              <a:off x="1036080" y="3823560"/>
              <a:ext cx="0" cy="2386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5499720" y="2803320"/>
              <a:ext cx="138600" cy="118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79520" y="2743200"/>
              <a:ext cx="138600" cy="118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 rot="17105400">
              <a:off x="4479120" y="3853080"/>
              <a:ext cx="73440" cy="126360"/>
            </a:xfrm>
            <a:custGeom>
              <a:avLst/>
              <a:gdLst/>
              <a:ahLst/>
              <a:rect l="l" t="t" r="r" b="b"/>
              <a:pathLst>
                <a:path w="464" h="624">
                  <a:moveTo>
                    <a:pt x="272" y="0"/>
                  </a:moveTo>
                  <a:cubicBezTo>
                    <a:pt x="136" y="164"/>
                    <a:pt x="0" y="328"/>
                    <a:pt x="32" y="432"/>
                  </a:cubicBezTo>
                  <a:cubicBezTo>
                    <a:pt x="64" y="536"/>
                    <a:pt x="392" y="592"/>
                    <a:pt x="464" y="624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4452840" y="3879720"/>
              <a:ext cx="34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4104360" y="3589560"/>
              <a:ext cx="0" cy="30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4038120" y="3689640"/>
              <a:ext cx="4176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 flipH="1">
              <a:off x="3895920" y="3879720"/>
              <a:ext cx="20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2983320" y="3624840"/>
              <a:ext cx="488520" cy="24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3065040" y="3600000"/>
              <a:ext cx="0" cy="29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3338280" y="3879720"/>
              <a:ext cx="55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 flipH="1">
              <a:off x="2710440" y="3879720"/>
              <a:ext cx="34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3344040" y="3813120"/>
              <a:ext cx="0" cy="6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549000" y="3879720"/>
              <a:ext cx="34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2710440" y="3879720"/>
              <a:ext cx="0" cy="115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1455120" y="6379200"/>
              <a:ext cx="34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 flipV="1">
              <a:off x="1803960" y="6392880"/>
              <a:ext cx="417600" cy="12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2221560" y="6379200"/>
              <a:ext cx="48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 rot="6240600">
              <a:off x="2247480" y="6292080"/>
              <a:ext cx="73440" cy="126360"/>
            </a:xfrm>
            <a:custGeom>
              <a:avLst/>
              <a:gdLst/>
              <a:ahLst/>
              <a:rect l="l" t="t" r="r" b="b"/>
              <a:pathLst>
                <a:path w="464" h="624">
                  <a:moveTo>
                    <a:pt x="272" y="0"/>
                  </a:moveTo>
                  <a:cubicBezTo>
                    <a:pt x="136" y="164"/>
                    <a:pt x="0" y="328"/>
                    <a:pt x="32" y="432"/>
                  </a:cubicBezTo>
                  <a:cubicBezTo>
                    <a:pt x="64" y="536"/>
                    <a:pt x="392" y="592"/>
                    <a:pt x="464" y="624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 flipV="1">
              <a:off x="1837800" y="5865120"/>
              <a:ext cx="487080" cy="17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1455120" y="5875200"/>
              <a:ext cx="41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2292480" y="5875200"/>
              <a:ext cx="41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 flipH="1">
              <a:off x="2045880" y="5865480"/>
              <a:ext cx="279360" cy="17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 flipH="1" flipV="1">
              <a:off x="1976400" y="5984280"/>
              <a:ext cx="69120" cy="6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4802760" y="5182560"/>
              <a:ext cx="486720" cy="658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5289840" y="5541840"/>
              <a:ext cx="27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 rot="17105400">
              <a:off x="4480200" y="5444280"/>
              <a:ext cx="73800" cy="126360"/>
            </a:xfrm>
            <a:custGeom>
              <a:avLst/>
              <a:gdLst/>
              <a:ahLst/>
              <a:rect l="l" t="t" r="r" b="b"/>
              <a:pathLst>
                <a:path w="464" h="624">
                  <a:moveTo>
                    <a:pt x="272" y="0"/>
                  </a:moveTo>
                  <a:cubicBezTo>
                    <a:pt x="136" y="164"/>
                    <a:pt x="0" y="328"/>
                    <a:pt x="32" y="432"/>
                  </a:cubicBezTo>
                  <a:cubicBezTo>
                    <a:pt x="64" y="536"/>
                    <a:pt x="392" y="592"/>
                    <a:pt x="464" y="624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4454280" y="5470920"/>
              <a:ext cx="34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4104360" y="5230440"/>
              <a:ext cx="0" cy="24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4038120" y="5290560"/>
              <a:ext cx="419040" cy="18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 flipH="1">
              <a:off x="3896280" y="5483520"/>
              <a:ext cx="20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3023280" y="5244120"/>
              <a:ext cx="487080" cy="24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3065040" y="5185800"/>
              <a:ext cx="0" cy="29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3338280" y="5481720"/>
              <a:ext cx="55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 flipH="1">
              <a:off x="2673360" y="5481720"/>
              <a:ext cx="41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3338280" y="5404680"/>
              <a:ext cx="0" cy="6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 flipV="1">
              <a:off x="1837800" y="5470560"/>
              <a:ext cx="487080" cy="17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 flipV="1">
              <a:off x="2152440" y="5560200"/>
              <a:ext cx="0" cy="240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7" name=""/>
            <p:cNvGrpSpPr/>
            <p:nvPr/>
          </p:nvGrpSpPr>
          <p:grpSpPr>
            <a:xfrm>
              <a:off x="2013480" y="5740560"/>
              <a:ext cx="277200" cy="60480"/>
              <a:chOff x="2013480" y="5740560"/>
              <a:chExt cx="277200" cy="60480"/>
            </a:xfrm>
          </p:grpSpPr>
          <p:sp>
            <p:nvSpPr>
              <p:cNvPr id="4668" name=""/>
              <p:cNvSpPr/>
              <p:nvPr/>
            </p:nvSpPr>
            <p:spPr>
              <a:xfrm>
                <a:off x="2013480" y="5740920"/>
                <a:ext cx="0" cy="60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2013480" y="5800680"/>
                <a:ext cx="2772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 flipV="1">
                <a:off x="2290680" y="5740560"/>
                <a:ext cx="0" cy="60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1" name=""/>
            <p:cNvSpPr/>
            <p:nvPr/>
          </p:nvSpPr>
          <p:spPr>
            <a:xfrm flipH="1">
              <a:off x="1455120" y="5483520"/>
              <a:ext cx="41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2292480" y="5483520"/>
              <a:ext cx="41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2710440" y="5481720"/>
              <a:ext cx="0" cy="88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 flipH="1">
              <a:off x="2061000" y="3757680"/>
              <a:ext cx="1119240" cy="23054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2152440" y="4528800"/>
              <a:ext cx="1028160" cy="87588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1711800" y="4942800"/>
              <a:ext cx="763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1453680" y="3853440"/>
              <a:ext cx="52200" cy="522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1453680" y="4371120"/>
              <a:ext cx="52200" cy="522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1453680" y="4998960"/>
              <a:ext cx="52200" cy="522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1453680" y="5443200"/>
              <a:ext cx="52200" cy="522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1453680" y="5852160"/>
              <a:ext cx="52200" cy="522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2678040" y="5852160"/>
              <a:ext cx="52200" cy="522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2678040" y="5443200"/>
              <a:ext cx="52200" cy="522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2678040" y="4371120"/>
              <a:ext cx="52200" cy="522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2678040" y="3853440"/>
              <a:ext cx="52200" cy="522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5542920" y="3853440"/>
              <a:ext cx="52200" cy="522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7" name=""/>
          <p:cNvGrpSpPr/>
          <p:nvPr/>
        </p:nvGrpSpPr>
        <p:grpSpPr>
          <a:xfrm>
            <a:off x="5686560" y="4191120"/>
            <a:ext cx="838080" cy="1019160"/>
            <a:chOff x="5686560" y="4191120"/>
            <a:chExt cx="838080" cy="1019160"/>
          </a:xfrm>
        </p:grpSpPr>
        <p:sp>
          <p:nvSpPr>
            <p:cNvPr id="4688" name=""/>
            <p:cNvSpPr/>
            <p:nvPr/>
          </p:nvSpPr>
          <p:spPr>
            <a:xfrm>
              <a:off x="6296040" y="4191120"/>
              <a:ext cx="228600" cy="10191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6280 h 1019160"/>
                <a:gd name="textAreaBottom" fmla="*/ 992880 h 10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5686560" y="4572000"/>
              <a:ext cx="609480" cy="208080"/>
            </a:xfrm>
            <a:prstGeom prst="rightArrow">
              <a:avLst>
                <a:gd name="adj1" fmla="val 50000"/>
                <a:gd name="adj2" fmla="val 7322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0" name=""/>
          <p:cNvGrpSpPr/>
          <p:nvPr/>
        </p:nvGrpSpPr>
        <p:grpSpPr>
          <a:xfrm>
            <a:off x="6524640" y="4419720"/>
            <a:ext cx="1851840" cy="520560"/>
            <a:chOff x="6524640" y="4419720"/>
            <a:chExt cx="1851840" cy="520560"/>
          </a:xfrm>
        </p:grpSpPr>
        <p:sp>
          <p:nvSpPr>
            <p:cNvPr id="4691" name=""/>
            <p:cNvSpPr/>
            <p:nvPr/>
          </p:nvSpPr>
          <p:spPr>
            <a:xfrm>
              <a:off x="7342200" y="4419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停止正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6524640" y="4592520"/>
              <a:ext cx="609480" cy="208080"/>
            </a:xfrm>
            <a:prstGeom prst="rightArrow">
              <a:avLst>
                <a:gd name="adj1" fmla="val 50000"/>
                <a:gd name="adj2" fmla="val 7322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3" name=""/>
          <p:cNvGrpSpPr/>
          <p:nvPr/>
        </p:nvGrpSpPr>
        <p:grpSpPr>
          <a:xfrm>
            <a:off x="6524640" y="5410080"/>
            <a:ext cx="2073960" cy="947160"/>
            <a:chOff x="6524640" y="5410080"/>
            <a:chExt cx="2073960" cy="947160"/>
          </a:xfrm>
        </p:grpSpPr>
        <p:sp>
          <p:nvSpPr>
            <p:cNvPr id="4694" name=""/>
            <p:cNvSpPr/>
            <p:nvPr/>
          </p:nvSpPr>
          <p:spPr>
            <a:xfrm>
              <a:off x="6942960" y="5410080"/>
              <a:ext cx="1655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机反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工作台后退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6524640" y="5562720"/>
              <a:ext cx="609840" cy="207720"/>
            </a:xfrm>
            <a:prstGeom prst="rightArrow">
              <a:avLst>
                <a:gd name="adj1" fmla="val 50000"/>
                <a:gd name="adj2" fmla="val 7339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PlaceHolder 1"/>
          <p:cNvSpPr>
            <a:spLocks noGrp="1"/>
          </p:cNvSpPr>
          <p:nvPr>
            <p:ph type="title"/>
          </p:nvPr>
        </p:nvSpPr>
        <p:spPr>
          <a:xfrm>
            <a:off x="2215800" y="342720"/>
            <a:ext cx="52513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1. 5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时间控制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97" name="PlaceHolder 2"/>
          <p:cNvSpPr>
            <a:spLocks noGrp="1"/>
          </p:cNvSpPr>
          <p:nvPr>
            <p:ph type="subTitle"/>
          </p:nvPr>
        </p:nvSpPr>
        <p:spPr>
          <a:xfrm>
            <a:off x="2430360" y="990720"/>
            <a:ext cx="52545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.  Y–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换接起动控制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2387160" y="5423760"/>
            <a:ext cx="9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接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9" name=""/>
          <p:cNvGrpSpPr/>
          <p:nvPr/>
        </p:nvGrpSpPr>
        <p:grpSpPr>
          <a:xfrm>
            <a:off x="163080" y="4419720"/>
            <a:ext cx="2110680" cy="1655640"/>
            <a:chOff x="163080" y="4419720"/>
            <a:chExt cx="2110680" cy="1655640"/>
          </a:xfrm>
        </p:grpSpPr>
        <p:sp>
          <p:nvSpPr>
            <p:cNvPr id="4700" name=""/>
            <p:cNvSpPr/>
            <p:nvPr/>
          </p:nvSpPr>
          <p:spPr>
            <a:xfrm>
              <a:off x="163080" y="5289480"/>
              <a:ext cx="116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1" name=""/>
            <p:cNvGrpSpPr/>
            <p:nvPr/>
          </p:nvGrpSpPr>
          <p:grpSpPr>
            <a:xfrm>
              <a:off x="1179360" y="4419720"/>
              <a:ext cx="1094400" cy="1655640"/>
              <a:chOff x="1179360" y="4419720"/>
              <a:chExt cx="1094400" cy="1655640"/>
            </a:xfrm>
          </p:grpSpPr>
          <p:sp>
            <p:nvSpPr>
              <p:cNvPr id="4702" name=""/>
              <p:cNvSpPr/>
              <p:nvPr/>
            </p:nvSpPr>
            <p:spPr>
              <a:xfrm>
                <a:off x="1395360" y="6075360"/>
                <a:ext cx="86400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03" name=""/>
              <p:cNvGrpSpPr/>
              <p:nvPr/>
            </p:nvGrpSpPr>
            <p:grpSpPr>
              <a:xfrm>
                <a:off x="1179360" y="4419720"/>
                <a:ext cx="1094400" cy="1654920"/>
                <a:chOff x="1179360" y="4419720"/>
                <a:chExt cx="1094400" cy="1654920"/>
              </a:xfrm>
            </p:grpSpPr>
            <p:grpSp>
              <p:nvGrpSpPr>
                <p:cNvPr id="4704" name=""/>
                <p:cNvGrpSpPr/>
                <p:nvPr/>
              </p:nvGrpSpPr>
              <p:grpSpPr>
                <a:xfrm>
                  <a:off x="2043360" y="5355000"/>
                  <a:ext cx="216000" cy="719640"/>
                  <a:chOff x="2043360" y="5355000"/>
                  <a:chExt cx="216000" cy="719640"/>
                </a:xfrm>
              </p:grpSpPr>
              <p:sp>
                <p:nvSpPr>
                  <p:cNvPr id="4705" name=""/>
                  <p:cNvSpPr/>
                  <p:nvPr/>
                </p:nvSpPr>
                <p:spPr>
                  <a:xfrm>
                    <a:off x="2259360" y="5643000"/>
                    <a:ext cx="0" cy="431640"/>
                  </a:xfrm>
                  <a:prstGeom prst="line">
                    <a:avLst/>
                  </a:prstGeom>
                  <a:ln w="381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6" name=""/>
                  <p:cNvSpPr/>
                  <p:nvPr/>
                </p:nvSpPr>
                <p:spPr>
                  <a:xfrm flipH="1" flipV="1">
                    <a:off x="2043360" y="5355000"/>
                    <a:ext cx="216000" cy="287640"/>
                  </a:xfrm>
                  <a:prstGeom prst="line">
                    <a:avLst/>
                  </a:prstGeom>
                  <a:ln w="381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07" name=""/>
                <p:cNvSpPr/>
                <p:nvPr/>
              </p:nvSpPr>
              <p:spPr>
                <a:xfrm>
                  <a:off x="2259360" y="4419720"/>
                  <a:ext cx="0" cy="93564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8" name=""/>
                <p:cNvSpPr/>
                <p:nvPr/>
              </p:nvSpPr>
              <p:spPr>
                <a:xfrm rot="10883400">
                  <a:off x="2187000" y="5139360"/>
                  <a:ext cx="83880" cy="215640"/>
                </a:xfrm>
                <a:custGeom>
                  <a:avLst/>
                  <a:gdLst/>
                  <a:ahLst/>
                  <a:rect l="l" t="t" r="r" b="b"/>
                  <a:pathLst>
                    <a:path w="584" h="816">
                      <a:moveTo>
                        <a:pt x="0" y="0"/>
                      </a:moveTo>
                      <a:cubicBezTo>
                        <a:pt x="284" y="100"/>
                        <a:pt x="568" y="200"/>
                        <a:pt x="576" y="336"/>
                      </a:cubicBezTo>
                      <a:cubicBezTo>
                        <a:pt x="584" y="472"/>
                        <a:pt x="316" y="644"/>
                        <a:pt x="48" y="816"/>
                      </a:cubicBezTo>
                    </a:path>
                  </a:pathLst>
                </a:custGeom>
                <a:solidFill>
                  <a:srgbClr val="ff0000"/>
                </a:solidFill>
                <a:ln w="3816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09" name=""/>
                <p:cNvGrpSpPr/>
                <p:nvPr/>
              </p:nvGrpSpPr>
              <p:grpSpPr>
                <a:xfrm>
                  <a:off x="1611360" y="5355000"/>
                  <a:ext cx="216000" cy="719640"/>
                  <a:chOff x="1611360" y="5355000"/>
                  <a:chExt cx="216000" cy="719640"/>
                </a:xfrm>
              </p:grpSpPr>
              <p:sp>
                <p:nvSpPr>
                  <p:cNvPr id="4710" name=""/>
                  <p:cNvSpPr/>
                  <p:nvPr/>
                </p:nvSpPr>
                <p:spPr>
                  <a:xfrm>
                    <a:off x="1827360" y="5643000"/>
                    <a:ext cx="0" cy="431640"/>
                  </a:xfrm>
                  <a:prstGeom prst="line">
                    <a:avLst/>
                  </a:prstGeom>
                  <a:ln w="381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1" name=""/>
                  <p:cNvSpPr/>
                  <p:nvPr/>
                </p:nvSpPr>
                <p:spPr>
                  <a:xfrm flipH="1" flipV="1">
                    <a:off x="1611360" y="5355000"/>
                    <a:ext cx="216000" cy="287640"/>
                  </a:xfrm>
                  <a:prstGeom prst="line">
                    <a:avLst/>
                  </a:prstGeom>
                  <a:ln w="381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12" name=""/>
                <p:cNvSpPr/>
                <p:nvPr/>
              </p:nvSpPr>
              <p:spPr>
                <a:xfrm>
                  <a:off x="1827360" y="4419720"/>
                  <a:ext cx="0" cy="93564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3" name=""/>
                <p:cNvSpPr/>
                <p:nvPr/>
              </p:nvSpPr>
              <p:spPr>
                <a:xfrm rot="10883400">
                  <a:off x="1755000" y="5139360"/>
                  <a:ext cx="83880" cy="215640"/>
                </a:xfrm>
                <a:custGeom>
                  <a:avLst/>
                  <a:gdLst/>
                  <a:ahLst/>
                  <a:rect l="l" t="t" r="r" b="b"/>
                  <a:pathLst>
                    <a:path w="584" h="816">
                      <a:moveTo>
                        <a:pt x="0" y="0"/>
                      </a:moveTo>
                      <a:cubicBezTo>
                        <a:pt x="284" y="100"/>
                        <a:pt x="568" y="200"/>
                        <a:pt x="576" y="336"/>
                      </a:cubicBezTo>
                      <a:cubicBezTo>
                        <a:pt x="584" y="472"/>
                        <a:pt x="316" y="644"/>
                        <a:pt x="48" y="816"/>
                      </a:cubicBezTo>
                    </a:path>
                  </a:pathLst>
                </a:custGeom>
                <a:solidFill>
                  <a:srgbClr val="ff0000"/>
                </a:solidFill>
                <a:ln w="3816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14" name=""/>
                <p:cNvGrpSpPr/>
                <p:nvPr/>
              </p:nvGrpSpPr>
              <p:grpSpPr>
                <a:xfrm>
                  <a:off x="1179360" y="5355000"/>
                  <a:ext cx="216000" cy="719640"/>
                  <a:chOff x="1179360" y="5355000"/>
                  <a:chExt cx="216000" cy="719640"/>
                </a:xfrm>
              </p:grpSpPr>
              <p:sp>
                <p:nvSpPr>
                  <p:cNvPr id="4715" name=""/>
                  <p:cNvSpPr/>
                  <p:nvPr/>
                </p:nvSpPr>
                <p:spPr>
                  <a:xfrm>
                    <a:off x="1395360" y="5643000"/>
                    <a:ext cx="0" cy="431640"/>
                  </a:xfrm>
                  <a:prstGeom prst="line">
                    <a:avLst/>
                  </a:prstGeom>
                  <a:ln w="381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6" name=""/>
                  <p:cNvSpPr/>
                  <p:nvPr/>
                </p:nvSpPr>
                <p:spPr>
                  <a:xfrm flipH="1" flipV="1">
                    <a:off x="1179360" y="5355000"/>
                    <a:ext cx="216000" cy="287640"/>
                  </a:xfrm>
                  <a:prstGeom prst="line">
                    <a:avLst/>
                  </a:prstGeom>
                  <a:ln w="381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17" name=""/>
                <p:cNvSpPr/>
                <p:nvPr/>
              </p:nvSpPr>
              <p:spPr>
                <a:xfrm>
                  <a:off x="1395360" y="4419720"/>
                  <a:ext cx="0" cy="93564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8" name=""/>
                <p:cNvSpPr/>
                <p:nvPr/>
              </p:nvSpPr>
              <p:spPr>
                <a:xfrm rot="10883400">
                  <a:off x="1323000" y="5139360"/>
                  <a:ext cx="83880" cy="215640"/>
                </a:xfrm>
                <a:custGeom>
                  <a:avLst/>
                  <a:gdLst/>
                  <a:ahLst/>
                  <a:rect l="l" t="t" r="r" b="b"/>
                  <a:pathLst>
                    <a:path w="584" h="816">
                      <a:moveTo>
                        <a:pt x="0" y="0"/>
                      </a:moveTo>
                      <a:cubicBezTo>
                        <a:pt x="284" y="100"/>
                        <a:pt x="568" y="200"/>
                        <a:pt x="576" y="336"/>
                      </a:cubicBezTo>
                      <a:cubicBezTo>
                        <a:pt x="584" y="472"/>
                        <a:pt x="316" y="644"/>
                        <a:pt x="48" y="816"/>
                      </a:cubicBezTo>
                    </a:path>
                  </a:pathLst>
                </a:custGeom>
                <a:solidFill>
                  <a:srgbClr val="ff0000"/>
                </a:solidFill>
                <a:ln w="3816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19" name=""/>
          <p:cNvGrpSpPr/>
          <p:nvPr/>
        </p:nvGrpSpPr>
        <p:grpSpPr>
          <a:xfrm>
            <a:off x="422280" y="533520"/>
            <a:ext cx="2101680" cy="4030560"/>
            <a:chOff x="422280" y="533520"/>
            <a:chExt cx="2101680" cy="4030560"/>
          </a:xfrm>
        </p:grpSpPr>
        <p:sp>
          <p:nvSpPr>
            <p:cNvPr id="4720" name=""/>
            <p:cNvSpPr/>
            <p:nvPr/>
          </p:nvSpPr>
          <p:spPr>
            <a:xfrm>
              <a:off x="1084320" y="3772080"/>
              <a:ext cx="1439640" cy="79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1" name=""/>
            <p:cNvGrpSpPr/>
            <p:nvPr/>
          </p:nvGrpSpPr>
          <p:grpSpPr>
            <a:xfrm>
              <a:off x="422280" y="533520"/>
              <a:ext cx="1917720" cy="3871440"/>
              <a:chOff x="422280" y="533520"/>
              <a:chExt cx="1917720" cy="3871440"/>
            </a:xfrm>
          </p:grpSpPr>
          <p:sp>
            <p:nvSpPr>
              <p:cNvPr id="4722" name=""/>
              <p:cNvSpPr/>
              <p:nvPr/>
            </p:nvSpPr>
            <p:spPr>
              <a:xfrm>
                <a:off x="1228680" y="1181160"/>
                <a:ext cx="86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422280" y="2438280"/>
                <a:ext cx="94932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657360" y="1554120"/>
                <a:ext cx="94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728640" y="893880"/>
                <a:ext cx="566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26" name=""/>
              <p:cNvGrpSpPr/>
              <p:nvPr/>
            </p:nvGrpSpPr>
            <p:grpSpPr>
              <a:xfrm>
                <a:off x="1300320" y="533520"/>
                <a:ext cx="1007640" cy="575640"/>
                <a:chOff x="1300320" y="533520"/>
                <a:chExt cx="1007640" cy="575640"/>
              </a:xfrm>
            </p:grpSpPr>
            <p:grpSp>
              <p:nvGrpSpPr>
                <p:cNvPr id="4727" name=""/>
                <p:cNvGrpSpPr/>
                <p:nvPr/>
              </p:nvGrpSpPr>
              <p:grpSpPr>
                <a:xfrm>
                  <a:off x="1300320" y="533520"/>
                  <a:ext cx="143640" cy="575640"/>
                  <a:chOff x="1300320" y="533520"/>
                  <a:chExt cx="143640" cy="575640"/>
                </a:xfrm>
              </p:grpSpPr>
              <p:sp>
                <p:nvSpPr>
                  <p:cNvPr id="4728" name=""/>
                  <p:cNvSpPr/>
                  <p:nvPr/>
                </p:nvSpPr>
                <p:spPr>
                  <a:xfrm>
                    <a:off x="1300320" y="533520"/>
                    <a:ext cx="143640" cy="1440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9" name=""/>
                  <p:cNvSpPr/>
                  <p:nvPr/>
                </p:nvSpPr>
                <p:spPr>
                  <a:xfrm>
                    <a:off x="1371960" y="677520"/>
                    <a:ext cx="0" cy="431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30" name=""/>
                <p:cNvGrpSpPr/>
                <p:nvPr/>
              </p:nvGrpSpPr>
              <p:grpSpPr>
                <a:xfrm>
                  <a:off x="1732320" y="533520"/>
                  <a:ext cx="143640" cy="575640"/>
                  <a:chOff x="1732320" y="533520"/>
                  <a:chExt cx="143640" cy="575640"/>
                </a:xfrm>
              </p:grpSpPr>
              <p:sp>
                <p:nvSpPr>
                  <p:cNvPr id="4731" name=""/>
                  <p:cNvSpPr/>
                  <p:nvPr/>
                </p:nvSpPr>
                <p:spPr>
                  <a:xfrm>
                    <a:off x="1732320" y="533520"/>
                    <a:ext cx="143640" cy="1440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2" name=""/>
                  <p:cNvSpPr/>
                  <p:nvPr/>
                </p:nvSpPr>
                <p:spPr>
                  <a:xfrm>
                    <a:off x="1803960" y="677520"/>
                    <a:ext cx="0" cy="431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33" name=""/>
                <p:cNvGrpSpPr/>
                <p:nvPr/>
              </p:nvGrpSpPr>
              <p:grpSpPr>
                <a:xfrm>
                  <a:off x="2164320" y="533520"/>
                  <a:ext cx="143640" cy="575640"/>
                  <a:chOff x="2164320" y="533520"/>
                  <a:chExt cx="143640" cy="575640"/>
                </a:xfrm>
              </p:grpSpPr>
              <p:sp>
                <p:nvSpPr>
                  <p:cNvPr id="4734" name=""/>
                  <p:cNvSpPr/>
                  <p:nvPr/>
                </p:nvSpPr>
                <p:spPr>
                  <a:xfrm>
                    <a:off x="2164320" y="533520"/>
                    <a:ext cx="143640" cy="1440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5" name=""/>
                  <p:cNvSpPr/>
                  <p:nvPr/>
                </p:nvSpPr>
                <p:spPr>
                  <a:xfrm>
                    <a:off x="2235960" y="677520"/>
                    <a:ext cx="0" cy="431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36" name=""/>
              <p:cNvGrpSpPr/>
              <p:nvPr/>
            </p:nvGrpSpPr>
            <p:grpSpPr>
              <a:xfrm>
                <a:off x="2021040" y="1036800"/>
                <a:ext cx="286920" cy="1945080"/>
                <a:chOff x="2021040" y="1036800"/>
                <a:chExt cx="286920" cy="1945080"/>
              </a:xfrm>
            </p:grpSpPr>
            <p:sp>
              <p:nvSpPr>
                <p:cNvPr id="4737" name=""/>
                <p:cNvSpPr/>
                <p:nvPr/>
              </p:nvSpPr>
              <p:spPr>
                <a:xfrm>
                  <a:off x="2021040" y="1036800"/>
                  <a:ext cx="215280" cy="359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8" name=""/>
                <p:cNvSpPr/>
                <p:nvPr/>
              </p:nvSpPr>
              <p:spPr>
                <a:xfrm>
                  <a:off x="2236320" y="1396440"/>
                  <a:ext cx="0" cy="158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9" name=""/>
                <p:cNvSpPr/>
                <p:nvPr/>
              </p:nvSpPr>
              <p:spPr>
                <a:xfrm rot="10883400">
                  <a:off x="2164680" y="2764800"/>
                  <a:ext cx="83520" cy="216000"/>
                </a:xfrm>
                <a:custGeom>
                  <a:avLst/>
                  <a:gdLst/>
                  <a:ahLst/>
                  <a:rect l="l" t="t" r="r" b="b"/>
                  <a:pathLst>
                    <a:path w="584" h="816">
                      <a:moveTo>
                        <a:pt x="0" y="0"/>
                      </a:moveTo>
                      <a:cubicBezTo>
                        <a:pt x="284" y="100"/>
                        <a:pt x="568" y="200"/>
                        <a:pt x="576" y="336"/>
                      </a:cubicBezTo>
                      <a:cubicBezTo>
                        <a:pt x="584" y="472"/>
                        <a:pt x="316" y="644"/>
                        <a:pt x="48" y="816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40" name=""/>
                <p:cNvGrpSpPr/>
                <p:nvPr/>
              </p:nvGrpSpPr>
              <p:grpSpPr>
                <a:xfrm>
                  <a:off x="2164680" y="1540440"/>
                  <a:ext cx="143280" cy="504000"/>
                  <a:chOff x="2164680" y="1540440"/>
                  <a:chExt cx="143280" cy="504000"/>
                </a:xfrm>
              </p:grpSpPr>
              <p:sp>
                <p:nvSpPr>
                  <p:cNvPr id="4741" name=""/>
                  <p:cNvSpPr/>
                  <p:nvPr/>
                </p:nvSpPr>
                <p:spPr>
                  <a:xfrm>
                    <a:off x="2164680" y="1540440"/>
                    <a:ext cx="143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2" name=""/>
                  <p:cNvSpPr/>
                  <p:nvPr/>
                </p:nvSpPr>
                <p:spPr>
                  <a:xfrm>
                    <a:off x="2307960" y="1540440"/>
                    <a:ext cx="0" cy="504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3" name=""/>
                  <p:cNvSpPr/>
                  <p:nvPr/>
                </p:nvSpPr>
                <p:spPr>
                  <a:xfrm>
                    <a:off x="2164680" y="2044440"/>
                    <a:ext cx="143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4" name=""/>
                  <p:cNvSpPr/>
                  <p:nvPr/>
                </p:nvSpPr>
                <p:spPr>
                  <a:xfrm>
                    <a:off x="2164680" y="1540440"/>
                    <a:ext cx="0" cy="504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45" name=""/>
              <p:cNvGrpSpPr/>
              <p:nvPr/>
            </p:nvGrpSpPr>
            <p:grpSpPr>
              <a:xfrm>
                <a:off x="2021040" y="2981160"/>
                <a:ext cx="215640" cy="934920"/>
                <a:chOff x="2021040" y="2981160"/>
                <a:chExt cx="215640" cy="934920"/>
              </a:xfrm>
            </p:grpSpPr>
            <p:sp>
              <p:nvSpPr>
                <p:cNvPr id="4746" name=""/>
                <p:cNvSpPr/>
                <p:nvPr/>
              </p:nvSpPr>
              <p:spPr>
                <a:xfrm>
                  <a:off x="2236680" y="3268440"/>
                  <a:ext cx="0" cy="64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7" name=""/>
                <p:cNvSpPr/>
                <p:nvPr/>
              </p:nvSpPr>
              <p:spPr>
                <a:xfrm>
                  <a:off x="2021040" y="2981160"/>
                  <a:ext cx="215640" cy="28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8" name=""/>
              <p:cNvGrpSpPr/>
              <p:nvPr/>
            </p:nvGrpSpPr>
            <p:grpSpPr>
              <a:xfrm>
                <a:off x="1589040" y="1036800"/>
                <a:ext cx="286920" cy="1945080"/>
                <a:chOff x="1589040" y="1036800"/>
                <a:chExt cx="286920" cy="1945080"/>
              </a:xfrm>
            </p:grpSpPr>
            <p:sp>
              <p:nvSpPr>
                <p:cNvPr id="4749" name=""/>
                <p:cNvSpPr/>
                <p:nvPr/>
              </p:nvSpPr>
              <p:spPr>
                <a:xfrm>
                  <a:off x="1589040" y="1036800"/>
                  <a:ext cx="215280" cy="359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0" name=""/>
                <p:cNvSpPr/>
                <p:nvPr/>
              </p:nvSpPr>
              <p:spPr>
                <a:xfrm>
                  <a:off x="1804320" y="1396440"/>
                  <a:ext cx="0" cy="158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1" name=""/>
                <p:cNvSpPr/>
                <p:nvPr/>
              </p:nvSpPr>
              <p:spPr>
                <a:xfrm rot="10883400">
                  <a:off x="1732680" y="2764800"/>
                  <a:ext cx="83520" cy="216000"/>
                </a:xfrm>
                <a:custGeom>
                  <a:avLst/>
                  <a:gdLst/>
                  <a:ahLst/>
                  <a:rect l="l" t="t" r="r" b="b"/>
                  <a:pathLst>
                    <a:path w="584" h="816">
                      <a:moveTo>
                        <a:pt x="0" y="0"/>
                      </a:moveTo>
                      <a:cubicBezTo>
                        <a:pt x="284" y="100"/>
                        <a:pt x="568" y="200"/>
                        <a:pt x="576" y="336"/>
                      </a:cubicBezTo>
                      <a:cubicBezTo>
                        <a:pt x="584" y="472"/>
                        <a:pt x="316" y="644"/>
                        <a:pt x="48" y="816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52" name=""/>
                <p:cNvGrpSpPr/>
                <p:nvPr/>
              </p:nvGrpSpPr>
              <p:grpSpPr>
                <a:xfrm>
                  <a:off x="1732680" y="1540440"/>
                  <a:ext cx="143280" cy="504000"/>
                  <a:chOff x="1732680" y="1540440"/>
                  <a:chExt cx="143280" cy="504000"/>
                </a:xfrm>
              </p:grpSpPr>
              <p:sp>
                <p:nvSpPr>
                  <p:cNvPr id="4753" name=""/>
                  <p:cNvSpPr/>
                  <p:nvPr/>
                </p:nvSpPr>
                <p:spPr>
                  <a:xfrm>
                    <a:off x="1732680" y="1540440"/>
                    <a:ext cx="143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4" name=""/>
                  <p:cNvSpPr/>
                  <p:nvPr/>
                </p:nvSpPr>
                <p:spPr>
                  <a:xfrm>
                    <a:off x="1875960" y="1540440"/>
                    <a:ext cx="0" cy="504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5" name=""/>
                  <p:cNvSpPr/>
                  <p:nvPr/>
                </p:nvSpPr>
                <p:spPr>
                  <a:xfrm>
                    <a:off x="1732680" y="2044440"/>
                    <a:ext cx="143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6" name=""/>
                  <p:cNvSpPr/>
                  <p:nvPr/>
                </p:nvSpPr>
                <p:spPr>
                  <a:xfrm>
                    <a:off x="1732680" y="1540440"/>
                    <a:ext cx="0" cy="504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757" name=""/>
              <p:cNvSpPr/>
              <p:nvPr/>
            </p:nvSpPr>
            <p:spPr>
              <a:xfrm>
                <a:off x="1155600" y="1036800"/>
                <a:ext cx="21744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 rot="10883400">
                <a:off x="1299960" y="2765160"/>
                <a:ext cx="83880" cy="215640"/>
              </a:xfrm>
              <a:custGeom>
                <a:avLst/>
                <a:gdLst/>
                <a:ahLst/>
                <a:rect l="l" t="t" r="r" b="b"/>
                <a:pathLst>
                  <a:path w="584" h="816">
                    <a:moveTo>
                      <a:pt x="0" y="0"/>
                    </a:moveTo>
                    <a:cubicBezTo>
                      <a:pt x="284" y="100"/>
                      <a:pt x="568" y="200"/>
                      <a:pt x="576" y="336"/>
                    </a:cubicBezTo>
                    <a:cubicBezTo>
                      <a:pt x="584" y="472"/>
                      <a:pt x="316" y="644"/>
                      <a:pt x="48" y="81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59" name=""/>
              <p:cNvGrpSpPr/>
              <p:nvPr/>
            </p:nvGrpSpPr>
            <p:grpSpPr>
              <a:xfrm>
                <a:off x="1300320" y="1541520"/>
                <a:ext cx="144360" cy="503280"/>
                <a:chOff x="1300320" y="1541520"/>
                <a:chExt cx="144360" cy="503280"/>
              </a:xfrm>
            </p:grpSpPr>
            <p:sp>
              <p:nvSpPr>
                <p:cNvPr id="4760" name=""/>
                <p:cNvSpPr/>
                <p:nvPr/>
              </p:nvSpPr>
              <p:spPr>
                <a:xfrm>
                  <a:off x="1300320" y="1541520"/>
                  <a:ext cx="144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1" name=""/>
                <p:cNvSpPr/>
                <p:nvPr/>
              </p:nvSpPr>
              <p:spPr>
                <a:xfrm>
                  <a:off x="1444680" y="1541520"/>
                  <a:ext cx="0" cy="50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2" name=""/>
                <p:cNvSpPr/>
                <p:nvPr/>
              </p:nvSpPr>
              <p:spPr>
                <a:xfrm>
                  <a:off x="1300320" y="2044800"/>
                  <a:ext cx="144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3" name=""/>
                <p:cNvSpPr/>
                <p:nvPr/>
              </p:nvSpPr>
              <p:spPr>
                <a:xfrm>
                  <a:off x="1300320" y="1541520"/>
                  <a:ext cx="0" cy="50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4" name=""/>
              <p:cNvGrpSpPr/>
              <p:nvPr/>
            </p:nvGrpSpPr>
            <p:grpSpPr>
              <a:xfrm>
                <a:off x="1589040" y="2981160"/>
                <a:ext cx="216000" cy="934920"/>
                <a:chOff x="1589040" y="2981160"/>
                <a:chExt cx="216000" cy="934920"/>
              </a:xfrm>
            </p:grpSpPr>
            <p:sp>
              <p:nvSpPr>
                <p:cNvPr id="4765" name=""/>
                <p:cNvSpPr/>
                <p:nvPr/>
              </p:nvSpPr>
              <p:spPr>
                <a:xfrm>
                  <a:off x="1805040" y="3268440"/>
                  <a:ext cx="0" cy="64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6" name=""/>
                <p:cNvSpPr/>
                <p:nvPr/>
              </p:nvSpPr>
              <p:spPr>
                <a:xfrm>
                  <a:off x="1589040" y="2981160"/>
                  <a:ext cx="216000" cy="28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7" name=""/>
              <p:cNvGrpSpPr/>
              <p:nvPr/>
            </p:nvGrpSpPr>
            <p:grpSpPr>
              <a:xfrm>
                <a:off x="1155600" y="2981160"/>
                <a:ext cx="217440" cy="934920"/>
                <a:chOff x="1155600" y="2981160"/>
                <a:chExt cx="217440" cy="934920"/>
              </a:xfrm>
            </p:grpSpPr>
            <p:sp>
              <p:nvSpPr>
                <p:cNvPr id="4768" name=""/>
                <p:cNvSpPr/>
                <p:nvPr/>
              </p:nvSpPr>
              <p:spPr>
                <a:xfrm>
                  <a:off x="1373040" y="3268440"/>
                  <a:ext cx="0" cy="64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9" name=""/>
                <p:cNvSpPr/>
                <p:nvPr/>
              </p:nvSpPr>
              <p:spPr>
                <a:xfrm>
                  <a:off x="1155600" y="2981160"/>
                  <a:ext cx="217440" cy="28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0" name=""/>
              <p:cNvGrpSpPr/>
              <p:nvPr/>
            </p:nvGrpSpPr>
            <p:grpSpPr>
              <a:xfrm>
                <a:off x="2236680" y="3916440"/>
                <a:ext cx="103320" cy="488520"/>
                <a:chOff x="2236680" y="3916440"/>
                <a:chExt cx="103320" cy="488520"/>
              </a:xfrm>
            </p:grpSpPr>
            <p:sp>
              <p:nvSpPr>
                <p:cNvPr id="4771" name=""/>
                <p:cNvSpPr/>
                <p:nvPr/>
              </p:nvSpPr>
              <p:spPr>
                <a:xfrm>
                  <a:off x="2236680" y="3916440"/>
                  <a:ext cx="103320" cy="172440"/>
                </a:xfrm>
                <a:custGeom>
                  <a:avLst/>
                  <a:gdLst/>
                  <a:ahLst/>
                  <a:rect l="l" t="t" r="r" b="b"/>
                  <a:pathLst>
                    <a:path w="283" h="574">
                      <a:moveTo>
                        <a:pt x="34" y="0"/>
                      </a:moveTo>
                      <a:cubicBezTo>
                        <a:pt x="51" y="6"/>
                        <a:pt x="68" y="11"/>
                        <a:pt x="85" y="17"/>
                      </a:cubicBezTo>
                      <a:cubicBezTo>
                        <a:pt x="107" y="24"/>
                        <a:pt x="154" y="34"/>
                        <a:pt x="154" y="34"/>
                      </a:cubicBezTo>
                      <a:cubicBezTo>
                        <a:pt x="212" y="74"/>
                        <a:pt x="190" y="55"/>
                        <a:pt x="223" y="86"/>
                      </a:cubicBezTo>
                      <a:cubicBezTo>
                        <a:pt x="235" y="125"/>
                        <a:pt x="259" y="164"/>
                        <a:pt x="283" y="197"/>
                      </a:cubicBezTo>
                      <a:cubicBezTo>
                        <a:pt x="280" y="257"/>
                        <a:pt x="279" y="317"/>
                        <a:pt x="274" y="377"/>
                      </a:cubicBezTo>
                      <a:cubicBezTo>
                        <a:pt x="270" y="418"/>
                        <a:pt x="192" y="493"/>
                        <a:pt x="154" y="514"/>
                      </a:cubicBezTo>
                      <a:cubicBezTo>
                        <a:pt x="143" y="520"/>
                        <a:pt x="96" y="534"/>
                        <a:pt x="77" y="540"/>
                      </a:cubicBezTo>
                      <a:cubicBezTo>
                        <a:pt x="68" y="546"/>
                        <a:pt x="60" y="553"/>
                        <a:pt x="51" y="557"/>
                      </a:cubicBezTo>
                      <a:cubicBezTo>
                        <a:pt x="35" y="564"/>
                        <a:pt x="0" y="574"/>
                        <a:pt x="0" y="57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2" name=""/>
                <p:cNvSpPr/>
                <p:nvPr/>
              </p:nvSpPr>
              <p:spPr>
                <a:xfrm>
                  <a:off x="2236680" y="4088880"/>
                  <a:ext cx="103320" cy="172440"/>
                </a:xfrm>
                <a:custGeom>
                  <a:avLst/>
                  <a:gdLst/>
                  <a:ahLst/>
                  <a:rect l="l" t="t" r="r" b="b"/>
                  <a:pathLst>
                    <a:path w="283" h="574">
                      <a:moveTo>
                        <a:pt x="34" y="0"/>
                      </a:moveTo>
                      <a:cubicBezTo>
                        <a:pt x="51" y="6"/>
                        <a:pt x="68" y="11"/>
                        <a:pt x="85" y="17"/>
                      </a:cubicBezTo>
                      <a:cubicBezTo>
                        <a:pt x="107" y="24"/>
                        <a:pt x="154" y="34"/>
                        <a:pt x="154" y="34"/>
                      </a:cubicBezTo>
                      <a:cubicBezTo>
                        <a:pt x="212" y="74"/>
                        <a:pt x="190" y="55"/>
                        <a:pt x="223" y="86"/>
                      </a:cubicBezTo>
                      <a:cubicBezTo>
                        <a:pt x="235" y="125"/>
                        <a:pt x="259" y="164"/>
                        <a:pt x="283" y="197"/>
                      </a:cubicBezTo>
                      <a:cubicBezTo>
                        <a:pt x="280" y="257"/>
                        <a:pt x="279" y="317"/>
                        <a:pt x="274" y="377"/>
                      </a:cubicBezTo>
                      <a:cubicBezTo>
                        <a:pt x="270" y="418"/>
                        <a:pt x="192" y="493"/>
                        <a:pt x="154" y="514"/>
                      </a:cubicBezTo>
                      <a:cubicBezTo>
                        <a:pt x="143" y="520"/>
                        <a:pt x="96" y="534"/>
                        <a:pt x="77" y="540"/>
                      </a:cubicBezTo>
                      <a:cubicBezTo>
                        <a:pt x="68" y="546"/>
                        <a:pt x="60" y="553"/>
                        <a:pt x="51" y="557"/>
                      </a:cubicBezTo>
                      <a:cubicBezTo>
                        <a:pt x="35" y="564"/>
                        <a:pt x="0" y="574"/>
                        <a:pt x="0" y="57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3" name=""/>
                <p:cNvSpPr/>
                <p:nvPr/>
              </p:nvSpPr>
              <p:spPr>
                <a:xfrm>
                  <a:off x="2236680" y="4232520"/>
                  <a:ext cx="103320" cy="172440"/>
                </a:xfrm>
                <a:custGeom>
                  <a:avLst/>
                  <a:gdLst/>
                  <a:ahLst/>
                  <a:rect l="l" t="t" r="r" b="b"/>
                  <a:pathLst>
                    <a:path w="283" h="574">
                      <a:moveTo>
                        <a:pt x="34" y="0"/>
                      </a:moveTo>
                      <a:cubicBezTo>
                        <a:pt x="51" y="6"/>
                        <a:pt x="68" y="11"/>
                        <a:pt x="85" y="17"/>
                      </a:cubicBezTo>
                      <a:cubicBezTo>
                        <a:pt x="107" y="24"/>
                        <a:pt x="154" y="34"/>
                        <a:pt x="154" y="34"/>
                      </a:cubicBezTo>
                      <a:cubicBezTo>
                        <a:pt x="212" y="74"/>
                        <a:pt x="190" y="55"/>
                        <a:pt x="223" y="86"/>
                      </a:cubicBezTo>
                      <a:cubicBezTo>
                        <a:pt x="235" y="125"/>
                        <a:pt x="259" y="164"/>
                        <a:pt x="283" y="197"/>
                      </a:cubicBezTo>
                      <a:cubicBezTo>
                        <a:pt x="280" y="257"/>
                        <a:pt x="279" y="317"/>
                        <a:pt x="274" y="377"/>
                      </a:cubicBezTo>
                      <a:cubicBezTo>
                        <a:pt x="270" y="418"/>
                        <a:pt x="192" y="493"/>
                        <a:pt x="154" y="514"/>
                      </a:cubicBezTo>
                      <a:cubicBezTo>
                        <a:pt x="143" y="520"/>
                        <a:pt x="96" y="534"/>
                        <a:pt x="77" y="540"/>
                      </a:cubicBezTo>
                      <a:cubicBezTo>
                        <a:pt x="68" y="546"/>
                        <a:pt x="60" y="553"/>
                        <a:pt x="51" y="557"/>
                      </a:cubicBezTo>
                      <a:cubicBezTo>
                        <a:pt x="35" y="564"/>
                        <a:pt x="0" y="574"/>
                        <a:pt x="0" y="57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4" name=""/>
              <p:cNvGrpSpPr/>
              <p:nvPr/>
            </p:nvGrpSpPr>
            <p:grpSpPr>
              <a:xfrm>
                <a:off x="1805040" y="3916440"/>
                <a:ext cx="102960" cy="488520"/>
                <a:chOff x="1805040" y="3916440"/>
                <a:chExt cx="102960" cy="488520"/>
              </a:xfrm>
            </p:grpSpPr>
            <p:sp>
              <p:nvSpPr>
                <p:cNvPr id="4775" name=""/>
                <p:cNvSpPr/>
                <p:nvPr/>
              </p:nvSpPr>
              <p:spPr>
                <a:xfrm>
                  <a:off x="1805040" y="3916440"/>
                  <a:ext cx="102960" cy="172440"/>
                </a:xfrm>
                <a:custGeom>
                  <a:avLst/>
                  <a:gdLst/>
                  <a:ahLst/>
                  <a:rect l="l" t="t" r="r" b="b"/>
                  <a:pathLst>
                    <a:path w="283" h="574">
                      <a:moveTo>
                        <a:pt x="34" y="0"/>
                      </a:moveTo>
                      <a:cubicBezTo>
                        <a:pt x="51" y="6"/>
                        <a:pt x="68" y="11"/>
                        <a:pt x="85" y="17"/>
                      </a:cubicBezTo>
                      <a:cubicBezTo>
                        <a:pt x="107" y="24"/>
                        <a:pt x="154" y="34"/>
                        <a:pt x="154" y="34"/>
                      </a:cubicBezTo>
                      <a:cubicBezTo>
                        <a:pt x="212" y="74"/>
                        <a:pt x="190" y="55"/>
                        <a:pt x="223" y="86"/>
                      </a:cubicBezTo>
                      <a:cubicBezTo>
                        <a:pt x="235" y="125"/>
                        <a:pt x="259" y="164"/>
                        <a:pt x="283" y="197"/>
                      </a:cubicBezTo>
                      <a:cubicBezTo>
                        <a:pt x="280" y="257"/>
                        <a:pt x="279" y="317"/>
                        <a:pt x="274" y="377"/>
                      </a:cubicBezTo>
                      <a:cubicBezTo>
                        <a:pt x="270" y="418"/>
                        <a:pt x="192" y="493"/>
                        <a:pt x="154" y="514"/>
                      </a:cubicBezTo>
                      <a:cubicBezTo>
                        <a:pt x="143" y="520"/>
                        <a:pt x="96" y="534"/>
                        <a:pt x="77" y="540"/>
                      </a:cubicBezTo>
                      <a:cubicBezTo>
                        <a:pt x="68" y="546"/>
                        <a:pt x="60" y="553"/>
                        <a:pt x="51" y="557"/>
                      </a:cubicBezTo>
                      <a:cubicBezTo>
                        <a:pt x="35" y="564"/>
                        <a:pt x="0" y="574"/>
                        <a:pt x="0" y="57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6" name=""/>
                <p:cNvSpPr/>
                <p:nvPr/>
              </p:nvSpPr>
              <p:spPr>
                <a:xfrm>
                  <a:off x="1805040" y="4088880"/>
                  <a:ext cx="102960" cy="172440"/>
                </a:xfrm>
                <a:custGeom>
                  <a:avLst/>
                  <a:gdLst/>
                  <a:ahLst/>
                  <a:rect l="l" t="t" r="r" b="b"/>
                  <a:pathLst>
                    <a:path w="283" h="574">
                      <a:moveTo>
                        <a:pt x="34" y="0"/>
                      </a:moveTo>
                      <a:cubicBezTo>
                        <a:pt x="51" y="6"/>
                        <a:pt x="68" y="11"/>
                        <a:pt x="85" y="17"/>
                      </a:cubicBezTo>
                      <a:cubicBezTo>
                        <a:pt x="107" y="24"/>
                        <a:pt x="154" y="34"/>
                        <a:pt x="154" y="34"/>
                      </a:cubicBezTo>
                      <a:cubicBezTo>
                        <a:pt x="212" y="74"/>
                        <a:pt x="190" y="55"/>
                        <a:pt x="223" y="86"/>
                      </a:cubicBezTo>
                      <a:cubicBezTo>
                        <a:pt x="235" y="125"/>
                        <a:pt x="259" y="164"/>
                        <a:pt x="283" y="197"/>
                      </a:cubicBezTo>
                      <a:cubicBezTo>
                        <a:pt x="280" y="257"/>
                        <a:pt x="279" y="317"/>
                        <a:pt x="274" y="377"/>
                      </a:cubicBezTo>
                      <a:cubicBezTo>
                        <a:pt x="270" y="418"/>
                        <a:pt x="192" y="493"/>
                        <a:pt x="154" y="514"/>
                      </a:cubicBezTo>
                      <a:cubicBezTo>
                        <a:pt x="143" y="520"/>
                        <a:pt x="96" y="534"/>
                        <a:pt x="77" y="540"/>
                      </a:cubicBezTo>
                      <a:cubicBezTo>
                        <a:pt x="68" y="546"/>
                        <a:pt x="60" y="553"/>
                        <a:pt x="51" y="557"/>
                      </a:cubicBezTo>
                      <a:cubicBezTo>
                        <a:pt x="35" y="564"/>
                        <a:pt x="0" y="574"/>
                        <a:pt x="0" y="57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7" name=""/>
                <p:cNvSpPr/>
                <p:nvPr/>
              </p:nvSpPr>
              <p:spPr>
                <a:xfrm>
                  <a:off x="1805040" y="4232520"/>
                  <a:ext cx="102960" cy="172440"/>
                </a:xfrm>
                <a:custGeom>
                  <a:avLst/>
                  <a:gdLst/>
                  <a:ahLst/>
                  <a:rect l="l" t="t" r="r" b="b"/>
                  <a:pathLst>
                    <a:path w="283" h="574">
                      <a:moveTo>
                        <a:pt x="34" y="0"/>
                      </a:moveTo>
                      <a:cubicBezTo>
                        <a:pt x="51" y="6"/>
                        <a:pt x="68" y="11"/>
                        <a:pt x="85" y="17"/>
                      </a:cubicBezTo>
                      <a:cubicBezTo>
                        <a:pt x="107" y="24"/>
                        <a:pt x="154" y="34"/>
                        <a:pt x="154" y="34"/>
                      </a:cubicBezTo>
                      <a:cubicBezTo>
                        <a:pt x="212" y="74"/>
                        <a:pt x="190" y="55"/>
                        <a:pt x="223" y="86"/>
                      </a:cubicBezTo>
                      <a:cubicBezTo>
                        <a:pt x="235" y="125"/>
                        <a:pt x="259" y="164"/>
                        <a:pt x="283" y="197"/>
                      </a:cubicBezTo>
                      <a:cubicBezTo>
                        <a:pt x="280" y="257"/>
                        <a:pt x="279" y="317"/>
                        <a:pt x="274" y="377"/>
                      </a:cubicBezTo>
                      <a:cubicBezTo>
                        <a:pt x="270" y="418"/>
                        <a:pt x="192" y="493"/>
                        <a:pt x="154" y="514"/>
                      </a:cubicBezTo>
                      <a:cubicBezTo>
                        <a:pt x="143" y="520"/>
                        <a:pt x="96" y="534"/>
                        <a:pt x="77" y="540"/>
                      </a:cubicBezTo>
                      <a:cubicBezTo>
                        <a:pt x="68" y="546"/>
                        <a:pt x="60" y="553"/>
                        <a:pt x="51" y="557"/>
                      </a:cubicBezTo>
                      <a:cubicBezTo>
                        <a:pt x="35" y="564"/>
                        <a:pt x="0" y="574"/>
                        <a:pt x="0" y="57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8" name=""/>
              <p:cNvGrpSpPr/>
              <p:nvPr/>
            </p:nvGrpSpPr>
            <p:grpSpPr>
              <a:xfrm>
                <a:off x="1373040" y="3916440"/>
                <a:ext cx="103320" cy="488520"/>
                <a:chOff x="1373040" y="3916440"/>
                <a:chExt cx="103320" cy="488520"/>
              </a:xfrm>
            </p:grpSpPr>
            <p:sp>
              <p:nvSpPr>
                <p:cNvPr id="4779" name=""/>
                <p:cNvSpPr/>
                <p:nvPr/>
              </p:nvSpPr>
              <p:spPr>
                <a:xfrm>
                  <a:off x="1373040" y="3916440"/>
                  <a:ext cx="103320" cy="172440"/>
                </a:xfrm>
                <a:custGeom>
                  <a:avLst/>
                  <a:gdLst/>
                  <a:ahLst/>
                  <a:rect l="l" t="t" r="r" b="b"/>
                  <a:pathLst>
                    <a:path w="283" h="574">
                      <a:moveTo>
                        <a:pt x="34" y="0"/>
                      </a:moveTo>
                      <a:cubicBezTo>
                        <a:pt x="51" y="6"/>
                        <a:pt x="68" y="11"/>
                        <a:pt x="85" y="17"/>
                      </a:cubicBezTo>
                      <a:cubicBezTo>
                        <a:pt x="107" y="24"/>
                        <a:pt x="154" y="34"/>
                        <a:pt x="154" y="34"/>
                      </a:cubicBezTo>
                      <a:cubicBezTo>
                        <a:pt x="212" y="74"/>
                        <a:pt x="190" y="55"/>
                        <a:pt x="223" y="86"/>
                      </a:cubicBezTo>
                      <a:cubicBezTo>
                        <a:pt x="235" y="125"/>
                        <a:pt x="259" y="164"/>
                        <a:pt x="283" y="197"/>
                      </a:cubicBezTo>
                      <a:cubicBezTo>
                        <a:pt x="280" y="257"/>
                        <a:pt x="279" y="317"/>
                        <a:pt x="274" y="377"/>
                      </a:cubicBezTo>
                      <a:cubicBezTo>
                        <a:pt x="270" y="418"/>
                        <a:pt x="192" y="493"/>
                        <a:pt x="154" y="514"/>
                      </a:cubicBezTo>
                      <a:cubicBezTo>
                        <a:pt x="143" y="520"/>
                        <a:pt x="96" y="534"/>
                        <a:pt x="77" y="540"/>
                      </a:cubicBezTo>
                      <a:cubicBezTo>
                        <a:pt x="68" y="546"/>
                        <a:pt x="60" y="553"/>
                        <a:pt x="51" y="557"/>
                      </a:cubicBezTo>
                      <a:cubicBezTo>
                        <a:pt x="35" y="564"/>
                        <a:pt x="0" y="574"/>
                        <a:pt x="0" y="57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0" name=""/>
                <p:cNvSpPr/>
                <p:nvPr/>
              </p:nvSpPr>
              <p:spPr>
                <a:xfrm>
                  <a:off x="1373040" y="4088880"/>
                  <a:ext cx="103320" cy="172440"/>
                </a:xfrm>
                <a:custGeom>
                  <a:avLst/>
                  <a:gdLst/>
                  <a:ahLst/>
                  <a:rect l="l" t="t" r="r" b="b"/>
                  <a:pathLst>
                    <a:path w="283" h="574">
                      <a:moveTo>
                        <a:pt x="34" y="0"/>
                      </a:moveTo>
                      <a:cubicBezTo>
                        <a:pt x="51" y="6"/>
                        <a:pt x="68" y="11"/>
                        <a:pt x="85" y="17"/>
                      </a:cubicBezTo>
                      <a:cubicBezTo>
                        <a:pt x="107" y="24"/>
                        <a:pt x="154" y="34"/>
                        <a:pt x="154" y="34"/>
                      </a:cubicBezTo>
                      <a:cubicBezTo>
                        <a:pt x="212" y="74"/>
                        <a:pt x="190" y="55"/>
                        <a:pt x="223" y="86"/>
                      </a:cubicBezTo>
                      <a:cubicBezTo>
                        <a:pt x="235" y="125"/>
                        <a:pt x="259" y="164"/>
                        <a:pt x="283" y="197"/>
                      </a:cubicBezTo>
                      <a:cubicBezTo>
                        <a:pt x="280" y="257"/>
                        <a:pt x="279" y="317"/>
                        <a:pt x="274" y="377"/>
                      </a:cubicBezTo>
                      <a:cubicBezTo>
                        <a:pt x="270" y="418"/>
                        <a:pt x="192" y="493"/>
                        <a:pt x="154" y="514"/>
                      </a:cubicBezTo>
                      <a:cubicBezTo>
                        <a:pt x="143" y="520"/>
                        <a:pt x="96" y="534"/>
                        <a:pt x="77" y="540"/>
                      </a:cubicBezTo>
                      <a:cubicBezTo>
                        <a:pt x="68" y="546"/>
                        <a:pt x="60" y="553"/>
                        <a:pt x="51" y="557"/>
                      </a:cubicBezTo>
                      <a:cubicBezTo>
                        <a:pt x="35" y="564"/>
                        <a:pt x="0" y="574"/>
                        <a:pt x="0" y="57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1" name=""/>
                <p:cNvSpPr/>
                <p:nvPr/>
              </p:nvSpPr>
              <p:spPr>
                <a:xfrm>
                  <a:off x="1373040" y="4232520"/>
                  <a:ext cx="103320" cy="172440"/>
                </a:xfrm>
                <a:custGeom>
                  <a:avLst/>
                  <a:gdLst/>
                  <a:ahLst/>
                  <a:rect l="l" t="t" r="r" b="b"/>
                  <a:pathLst>
                    <a:path w="283" h="574">
                      <a:moveTo>
                        <a:pt x="34" y="0"/>
                      </a:moveTo>
                      <a:cubicBezTo>
                        <a:pt x="51" y="6"/>
                        <a:pt x="68" y="11"/>
                        <a:pt x="85" y="17"/>
                      </a:cubicBezTo>
                      <a:cubicBezTo>
                        <a:pt x="107" y="24"/>
                        <a:pt x="154" y="34"/>
                        <a:pt x="154" y="34"/>
                      </a:cubicBezTo>
                      <a:cubicBezTo>
                        <a:pt x="212" y="74"/>
                        <a:pt x="190" y="55"/>
                        <a:pt x="223" y="86"/>
                      </a:cubicBezTo>
                      <a:cubicBezTo>
                        <a:pt x="235" y="125"/>
                        <a:pt x="259" y="164"/>
                        <a:pt x="283" y="197"/>
                      </a:cubicBezTo>
                      <a:cubicBezTo>
                        <a:pt x="280" y="257"/>
                        <a:pt x="279" y="317"/>
                        <a:pt x="274" y="377"/>
                      </a:cubicBezTo>
                      <a:cubicBezTo>
                        <a:pt x="270" y="418"/>
                        <a:pt x="192" y="493"/>
                        <a:pt x="154" y="514"/>
                      </a:cubicBezTo>
                      <a:cubicBezTo>
                        <a:pt x="143" y="520"/>
                        <a:pt x="96" y="534"/>
                        <a:pt x="77" y="540"/>
                      </a:cubicBezTo>
                      <a:cubicBezTo>
                        <a:pt x="68" y="546"/>
                        <a:pt x="60" y="553"/>
                        <a:pt x="51" y="557"/>
                      </a:cubicBezTo>
                      <a:cubicBezTo>
                        <a:pt x="35" y="564"/>
                        <a:pt x="0" y="574"/>
                        <a:pt x="0" y="57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82" name=""/>
              <p:cNvSpPr/>
              <p:nvPr/>
            </p:nvSpPr>
            <p:spPr>
              <a:xfrm>
                <a:off x="1373040" y="1397160"/>
                <a:ext cx="0" cy="158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3" name=""/>
          <p:cNvSpPr/>
          <p:nvPr/>
        </p:nvSpPr>
        <p:spPr>
          <a:xfrm>
            <a:off x="3453120" y="4571280"/>
            <a:ext cx="9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接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4" name="">
            <a:hlinkClick r:id="rId2"/>
          </p:cNvPr>
          <p:cNvSpPr/>
          <p:nvPr/>
        </p:nvSpPr>
        <p:spPr>
          <a:xfrm>
            <a:off x="3886200" y="5791320"/>
            <a:ext cx="654120" cy="35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7d7d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动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5" name=""/>
          <p:cNvGrpSpPr/>
          <p:nvPr/>
        </p:nvGrpSpPr>
        <p:grpSpPr>
          <a:xfrm>
            <a:off x="1639800" y="1636200"/>
            <a:ext cx="7000920" cy="4257000"/>
            <a:chOff x="1639800" y="1636200"/>
            <a:chExt cx="7000920" cy="4257000"/>
          </a:xfrm>
        </p:grpSpPr>
        <p:sp>
          <p:nvSpPr>
            <p:cNvPr id="4786" name=""/>
            <p:cNvSpPr/>
            <p:nvPr/>
          </p:nvSpPr>
          <p:spPr>
            <a:xfrm flipH="1" flipV="1">
              <a:off x="3058920" y="2489040"/>
              <a:ext cx="360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 flipV="1">
              <a:off x="3130560" y="24890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3274920" y="26337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3419640" y="2849400"/>
              <a:ext cx="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 flipH="1">
              <a:off x="3130200" y="2921040"/>
              <a:ext cx="28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 flipV="1">
              <a:off x="3130560" y="2849040"/>
              <a:ext cx="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1639800" y="1636200"/>
              <a:ext cx="360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2977560" y="201384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2843280" y="1697040"/>
              <a:ext cx="575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2209680" y="2705040"/>
              <a:ext cx="92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3419640" y="2705040"/>
              <a:ext cx="9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1828800" y="2209680"/>
              <a:ext cx="101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 flipV="1">
              <a:off x="2843280" y="170496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2059200" y="213300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0" name=""/>
            <p:cNvGrpSpPr/>
            <p:nvPr/>
          </p:nvGrpSpPr>
          <p:grpSpPr>
            <a:xfrm>
              <a:off x="3791880" y="1697040"/>
              <a:ext cx="4848840" cy="4196160"/>
              <a:chOff x="3791880" y="1697040"/>
              <a:chExt cx="4848840" cy="4196160"/>
            </a:xfrm>
          </p:grpSpPr>
          <p:sp>
            <p:nvSpPr>
              <p:cNvPr id="4801" name=""/>
              <p:cNvSpPr/>
              <p:nvPr/>
            </p:nvSpPr>
            <p:spPr>
              <a:xfrm>
                <a:off x="8602560" y="1697040"/>
                <a:ext cx="0" cy="324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4012560" y="2165400"/>
                <a:ext cx="718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B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5564160" y="2096640"/>
                <a:ext cx="62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K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7523280" y="2685960"/>
                <a:ext cx="107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4930920" y="2685960"/>
                <a:ext cx="79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 flipH="1">
                <a:off x="4330440" y="2685960"/>
                <a:ext cx="64908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4651200" y="2781360"/>
                <a:ext cx="0" cy="191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08" name=""/>
              <p:cNvGrpSpPr/>
              <p:nvPr/>
            </p:nvGrpSpPr>
            <p:grpSpPr>
              <a:xfrm>
                <a:off x="4486320" y="2901600"/>
                <a:ext cx="349200" cy="105120"/>
                <a:chOff x="4486320" y="2901600"/>
                <a:chExt cx="349200" cy="105120"/>
              </a:xfrm>
            </p:grpSpPr>
            <p:sp>
              <p:nvSpPr>
                <p:cNvPr id="4809" name=""/>
                <p:cNvSpPr/>
                <p:nvPr/>
              </p:nvSpPr>
              <p:spPr>
                <a:xfrm>
                  <a:off x="4835520" y="2901960"/>
                  <a:ext cx="0" cy="104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0" name=""/>
                <p:cNvSpPr/>
                <p:nvPr/>
              </p:nvSpPr>
              <p:spPr>
                <a:xfrm flipH="1">
                  <a:off x="4486320" y="3006360"/>
                  <a:ext cx="349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1" name=""/>
                <p:cNvSpPr/>
                <p:nvPr/>
              </p:nvSpPr>
              <p:spPr>
                <a:xfrm flipV="1">
                  <a:off x="4486320" y="2901600"/>
                  <a:ext cx="0" cy="104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12" name=""/>
              <p:cNvSpPr/>
              <p:nvPr/>
            </p:nvSpPr>
            <p:spPr>
              <a:xfrm>
                <a:off x="6917400" y="195480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 flipH="1" flipV="1">
                <a:off x="5651280" y="2541240"/>
                <a:ext cx="43164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 flipV="1">
                <a:off x="5722920" y="24699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15" name=""/>
              <p:cNvGrpSpPr/>
              <p:nvPr/>
            </p:nvGrpSpPr>
            <p:grpSpPr>
              <a:xfrm>
                <a:off x="5796000" y="2614680"/>
                <a:ext cx="216000" cy="287280"/>
                <a:chOff x="5796000" y="2614680"/>
                <a:chExt cx="216000" cy="287280"/>
              </a:xfrm>
            </p:grpSpPr>
            <p:grpSp>
              <p:nvGrpSpPr>
                <p:cNvPr id="4816" name=""/>
                <p:cNvGrpSpPr/>
                <p:nvPr/>
              </p:nvGrpSpPr>
              <p:grpSpPr>
                <a:xfrm>
                  <a:off x="5868360" y="2614680"/>
                  <a:ext cx="72000" cy="287280"/>
                  <a:chOff x="5868360" y="2614680"/>
                  <a:chExt cx="72000" cy="287280"/>
                </a:xfrm>
              </p:grpSpPr>
              <p:sp>
                <p:nvSpPr>
                  <p:cNvPr id="4817" name=""/>
                  <p:cNvSpPr/>
                  <p:nvPr/>
                </p:nvSpPr>
                <p:spPr>
                  <a:xfrm flipV="1">
                    <a:off x="5940360" y="2614680"/>
                    <a:ext cx="0" cy="287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8" name=""/>
                  <p:cNvSpPr/>
                  <p:nvPr/>
                </p:nvSpPr>
                <p:spPr>
                  <a:xfrm flipV="1">
                    <a:off x="5868360" y="2614680"/>
                    <a:ext cx="0" cy="287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19" name=""/>
                <p:cNvSpPr/>
                <p:nvPr/>
              </p:nvSpPr>
              <p:spPr>
                <a:xfrm flipH="1" flipV="1">
                  <a:off x="5796000" y="2829960"/>
                  <a:ext cx="216000" cy="71640"/>
                </a:xfrm>
                <a:custGeom>
                  <a:avLst/>
                  <a:gdLst/>
                  <a:ahLst/>
                  <a:rect l="l" t="t" r="r" b="b"/>
                  <a:pathLst>
                    <a:path w="577" h="263">
                      <a:moveTo>
                        <a:pt x="0" y="197"/>
                      </a:moveTo>
                      <a:cubicBezTo>
                        <a:pt x="43" y="154"/>
                        <a:pt x="77" y="112"/>
                        <a:pt x="128" y="77"/>
                      </a:cubicBezTo>
                      <a:cubicBezTo>
                        <a:pt x="156" y="34"/>
                        <a:pt x="136" y="57"/>
                        <a:pt x="197" y="17"/>
                      </a:cubicBezTo>
                      <a:cubicBezTo>
                        <a:pt x="212" y="7"/>
                        <a:pt x="248" y="0"/>
                        <a:pt x="248" y="0"/>
                      </a:cubicBezTo>
                      <a:cubicBezTo>
                        <a:pt x="315" y="6"/>
                        <a:pt x="323" y="4"/>
                        <a:pt x="377" y="17"/>
                      </a:cubicBezTo>
                      <a:cubicBezTo>
                        <a:pt x="403" y="23"/>
                        <a:pt x="454" y="43"/>
                        <a:pt x="454" y="43"/>
                      </a:cubicBezTo>
                      <a:cubicBezTo>
                        <a:pt x="471" y="69"/>
                        <a:pt x="488" y="95"/>
                        <a:pt x="505" y="120"/>
                      </a:cubicBezTo>
                      <a:cubicBezTo>
                        <a:pt x="511" y="128"/>
                        <a:pt x="523" y="145"/>
                        <a:pt x="523" y="145"/>
                      </a:cubicBezTo>
                      <a:cubicBezTo>
                        <a:pt x="548" y="228"/>
                        <a:pt x="510" y="110"/>
                        <a:pt x="548" y="197"/>
                      </a:cubicBezTo>
                      <a:cubicBezTo>
                        <a:pt x="577" y="263"/>
                        <a:pt x="550" y="233"/>
                        <a:pt x="574" y="25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20" name=""/>
              <p:cNvSpPr/>
              <p:nvPr/>
            </p:nvSpPr>
            <p:spPr>
              <a:xfrm>
                <a:off x="6083280" y="268596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7091280" y="2432160"/>
                <a:ext cx="432000" cy="503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3886200" y="2666880"/>
                <a:ext cx="71280" cy="730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5181480" y="3675240"/>
                <a:ext cx="73080" cy="745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4643280" y="3065400"/>
                <a:ext cx="0" cy="237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5219640" y="2705040"/>
                <a:ext cx="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5219640" y="3713040"/>
                <a:ext cx="338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 flipH="1">
                <a:off x="6083280" y="320040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 flipH="1">
                <a:off x="5219640" y="320040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5219640" y="428940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6083280" y="4289400"/>
                <a:ext cx="10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7594560" y="428940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5522040" y="309780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66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7162920" y="3457440"/>
                <a:ext cx="431640" cy="503280"/>
              </a:xfrm>
              <a:prstGeom prst="rect">
                <a:avLst/>
              </a:prstGeom>
              <a:solidFill>
                <a:srgbClr val="cce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 flipH="1" flipV="1">
                <a:off x="5651280" y="4144680"/>
                <a:ext cx="431640" cy="1443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 flipV="1">
                <a:off x="5722920" y="4073400"/>
                <a:ext cx="0" cy="216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5493600" y="367632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6586560" y="4937040"/>
                <a:ext cx="0" cy="4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 flipH="1">
                <a:off x="7378200" y="536904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 flipH="1">
                <a:off x="6946920" y="5369040"/>
                <a:ext cx="457200" cy="141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 flipH="1">
                <a:off x="6586200" y="536904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7667640" y="4937040"/>
                <a:ext cx="0" cy="4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4643280" y="5442120"/>
                <a:ext cx="122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5867280" y="4865760"/>
                <a:ext cx="0" cy="31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7581240" y="381852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66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6788880" y="486468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7334280" y="4937040"/>
                <a:ext cx="128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3791880" y="367632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 flipH="1">
                <a:off x="4861080" y="3209760"/>
                <a:ext cx="35856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 flipH="1">
                <a:off x="4429080" y="3209760"/>
                <a:ext cx="432000" cy="14292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 flipH="1">
                <a:off x="3924360" y="3209760"/>
                <a:ext cx="5047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 flipH="1" flipV="1">
                <a:off x="6946560" y="4792320"/>
                <a:ext cx="43164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 flipV="1">
                <a:off x="7018200" y="472104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7162920" y="4038480"/>
                <a:ext cx="431640" cy="505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5219640" y="493704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6083280" y="493704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7883640" y="4649760"/>
                <a:ext cx="431640" cy="5032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7135560" y="3052440"/>
                <a:ext cx="62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K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7721640" y="5008320"/>
                <a:ext cx="8805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6370560" y="269568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 flipH="1" flipV="1">
                <a:off x="5651280" y="3055680"/>
                <a:ext cx="431640" cy="144360"/>
              </a:xfrm>
              <a:prstGeom prst="line">
                <a:avLst/>
              </a:prstGeom>
              <a:ln w="284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 flipV="1">
                <a:off x="5722920" y="2984400"/>
                <a:ext cx="0" cy="216000"/>
              </a:xfrm>
              <a:prstGeom prst="line">
                <a:avLst/>
              </a:prstGeom>
              <a:ln w="284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 flipH="1" flipV="1">
                <a:off x="5651280" y="4792320"/>
                <a:ext cx="43164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 flipV="1">
                <a:off x="5722920" y="472104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 flipH="1">
                <a:off x="4861080" y="371304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 flipH="1">
                <a:off x="4429080" y="3713040"/>
                <a:ext cx="43200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 flipH="1">
                <a:off x="3924360" y="371304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924360" y="2666880"/>
                <a:ext cx="0" cy="104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896280" y="3196080"/>
                <a:ext cx="62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K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6888240" y="538308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6046920" y="5081760"/>
                <a:ext cx="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 flipH="1">
                <a:off x="5697000" y="5186520"/>
                <a:ext cx="349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 flipV="1">
                <a:off x="5697360" y="5081400"/>
                <a:ext cx="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5184720" y="3162240"/>
                <a:ext cx="71640" cy="730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5867280" y="5218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6324480" y="2666880"/>
                <a:ext cx="73080" cy="748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5181480" y="4267080"/>
                <a:ext cx="73080" cy="748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6553080" y="4876920"/>
                <a:ext cx="73080" cy="745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7620120" y="4876920"/>
                <a:ext cx="73080" cy="745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8567640" y="4267080"/>
                <a:ext cx="73080" cy="748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8567640" y="3657600"/>
                <a:ext cx="73080" cy="745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8567640" y="2666880"/>
                <a:ext cx="73080" cy="748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5181480" y="2666880"/>
                <a:ext cx="71640" cy="730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83" name=""/>
          <p:cNvGrpSpPr/>
          <p:nvPr/>
        </p:nvGrpSpPr>
        <p:grpSpPr>
          <a:xfrm>
            <a:off x="1330200" y="3313080"/>
            <a:ext cx="3003120" cy="1708200"/>
            <a:chOff x="1330200" y="3313080"/>
            <a:chExt cx="3003120" cy="1708200"/>
          </a:xfrm>
        </p:grpSpPr>
        <p:grpSp>
          <p:nvGrpSpPr>
            <p:cNvPr id="4884" name=""/>
            <p:cNvGrpSpPr/>
            <p:nvPr/>
          </p:nvGrpSpPr>
          <p:grpSpPr>
            <a:xfrm>
              <a:off x="1330200" y="3352680"/>
              <a:ext cx="3003120" cy="1668600"/>
              <a:chOff x="1330200" y="3352680"/>
              <a:chExt cx="3003120" cy="1668600"/>
            </a:xfrm>
          </p:grpSpPr>
          <p:sp>
            <p:nvSpPr>
              <p:cNvPr id="4885" name=""/>
              <p:cNvSpPr/>
              <p:nvPr/>
            </p:nvSpPr>
            <p:spPr>
              <a:xfrm>
                <a:off x="1330200" y="4948200"/>
                <a:ext cx="71640" cy="730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86" name=""/>
              <p:cNvGrpSpPr/>
              <p:nvPr/>
            </p:nvGrpSpPr>
            <p:grpSpPr>
              <a:xfrm>
                <a:off x="1403280" y="3352680"/>
                <a:ext cx="2930040" cy="1657440"/>
                <a:chOff x="1403280" y="3352680"/>
                <a:chExt cx="2930040" cy="1657440"/>
              </a:xfrm>
            </p:grpSpPr>
            <p:grpSp>
              <p:nvGrpSpPr>
                <p:cNvPr id="4887" name=""/>
                <p:cNvGrpSpPr/>
                <p:nvPr/>
              </p:nvGrpSpPr>
              <p:grpSpPr>
                <a:xfrm>
                  <a:off x="1403280" y="3352680"/>
                  <a:ext cx="2016720" cy="1657440"/>
                  <a:chOff x="1403280" y="3352680"/>
                  <a:chExt cx="2016720" cy="1657440"/>
                </a:xfrm>
              </p:grpSpPr>
              <p:sp>
                <p:nvSpPr>
                  <p:cNvPr id="4888" name=""/>
                  <p:cNvSpPr/>
                  <p:nvPr/>
                </p:nvSpPr>
                <p:spPr>
                  <a:xfrm>
                    <a:off x="2738880" y="4319280"/>
                    <a:ext cx="0" cy="30924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9" name=""/>
                  <p:cNvSpPr/>
                  <p:nvPr/>
                </p:nvSpPr>
                <p:spPr>
                  <a:xfrm flipH="1" flipV="1">
                    <a:off x="2538360" y="4043160"/>
                    <a:ext cx="200160" cy="27576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90" name=""/>
                  <p:cNvGrpSpPr/>
                  <p:nvPr/>
                </p:nvGrpSpPr>
                <p:grpSpPr>
                  <a:xfrm>
                    <a:off x="2669400" y="3352680"/>
                    <a:ext cx="82800" cy="759600"/>
                    <a:chOff x="2669400" y="3352680"/>
                    <a:chExt cx="82800" cy="759600"/>
                  </a:xfrm>
                </p:grpSpPr>
                <p:sp>
                  <p:nvSpPr>
                    <p:cNvPr id="4891" name=""/>
                    <p:cNvSpPr/>
                    <p:nvPr/>
                  </p:nvSpPr>
                  <p:spPr>
                    <a:xfrm>
                      <a:off x="2738160" y="3352680"/>
                      <a:ext cx="0" cy="759240"/>
                    </a:xfrm>
                    <a:prstGeom prst="line">
                      <a:avLst/>
                    </a:prstGeom>
                    <a:ln w="38160">
                      <a:solidFill>
                        <a:srgbClr val="0000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2" name=""/>
                    <p:cNvSpPr/>
                    <p:nvPr/>
                  </p:nvSpPr>
                  <p:spPr>
                    <a:xfrm rot="10883400">
                      <a:off x="2671920" y="3904200"/>
                      <a:ext cx="77760" cy="20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4" h="816">
                          <a:moveTo>
                            <a:pt x="0" y="0"/>
                          </a:moveTo>
                          <a:cubicBezTo>
                            <a:pt x="284" y="100"/>
                            <a:pt x="568" y="200"/>
                            <a:pt x="576" y="336"/>
                          </a:cubicBezTo>
                          <a:cubicBezTo>
                            <a:pt x="584" y="472"/>
                            <a:pt x="316" y="644"/>
                            <a:pt x="48" y="816"/>
                          </a:cubicBezTo>
                        </a:path>
                      </a:pathLst>
                    </a:custGeom>
                    <a:solidFill>
                      <a:srgbClr val="336699"/>
                    </a:solidFill>
                    <a:ln w="381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93" name=""/>
                  <p:cNvSpPr/>
                  <p:nvPr/>
                </p:nvSpPr>
                <p:spPr>
                  <a:xfrm>
                    <a:off x="1403280" y="3352680"/>
                    <a:ext cx="1335600" cy="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4" name=""/>
                  <p:cNvSpPr/>
                  <p:nvPr/>
                </p:nvSpPr>
                <p:spPr>
                  <a:xfrm rot="10883400">
                    <a:off x="3005640" y="3904560"/>
                    <a:ext cx="77760" cy="20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816">
                        <a:moveTo>
                          <a:pt x="0" y="0"/>
                        </a:moveTo>
                        <a:cubicBezTo>
                          <a:pt x="284" y="100"/>
                          <a:pt x="568" y="200"/>
                          <a:pt x="576" y="336"/>
                        </a:cubicBezTo>
                        <a:cubicBezTo>
                          <a:pt x="584" y="472"/>
                          <a:pt x="316" y="644"/>
                          <a:pt x="48" y="816"/>
                        </a:cubicBezTo>
                      </a:path>
                    </a:pathLst>
                  </a:custGeom>
                  <a:solidFill>
                    <a:srgbClr val="336699"/>
                  </a:solidFill>
                  <a:ln w="381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5" name=""/>
                  <p:cNvSpPr/>
                  <p:nvPr/>
                </p:nvSpPr>
                <p:spPr>
                  <a:xfrm rot="10883400">
                    <a:off x="3339720" y="3904560"/>
                    <a:ext cx="77760" cy="20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816">
                        <a:moveTo>
                          <a:pt x="0" y="0"/>
                        </a:moveTo>
                        <a:cubicBezTo>
                          <a:pt x="284" y="100"/>
                          <a:pt x="568" y="200"/>
                          <a:pt x="576" y="336"/>
                        </a:cubicBezTo>
                        <a:cubicBezTo>
                          <a:pt x="584" y="472"/>
                          <a:pt x="316" y="644"/>
                          <a:pt x="48" y="816"/>
                        </a:cubicBezTo>
                      </a:path>
                    </a:pathLst>
                  </a:custGeom>
                  <a:solidFill>
                    <a:srgbClr val="336699"/>
                  </a:solidFill>
                  <a:ln w="381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6" name=""/>
                  <p:cNvSpPr/>
                  <p:nvPr/>
                </p:nvSpPr>
                <p:spPr>
                  <a:xfrm>
                    <a:off x="1803600" y="4626000"/>
                    <a:ext cx="934920" cy="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7" name=""/>
                  <p:cNvSpPr/>
                  <p:nvPr/>
                </p:nvSpPr>
                <p:spPr>
                  <a:xfrm>
                    <a:off x="1803600" y="3559680"/>
                    <a:ext cx="1268640" cy="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8" name=""/>
                  <p:cNvSpPr/>
                  <p:nvPr/>
                </p:nvSpPr>
                <p:spPr>
                  <a:xfrm>
                    <a:off x="3072600" y="4319280"/>
                    <a:ext cx="0" cy="48348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9" name=""/>
                  <p:cNvSpPr/>
                  <p:nvPr/>
                </p:nvSpPr>
                <p:spPr>
                  <a:xfrm flipH="1" flipV="1">
                    <a:off x="2872080" y="4043160"/>
                    <a:ext cx="200160" cy="27576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0" name=""/>
                  <p:cNvSpPr/>
                  <p:nvPr/>
                </p:nvSpPr>
                <p:spPr>
                  <a:xfrm>
                    <a:off x="2204280" y="4802760"/>
                    <a:ext cx="867960" cy="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1" name=""/>
                  <p:cNvSpPr/>
                  <p:nvPr/>
                </p:nvSpPr>
                <p:spPr>
                  <a:xfrm>
                    <a:off x="2204280" y="3767040"/>
                    <a:ext cx="1201680" cy="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2" name=""/>
                  <p:cNvSpPr/>
                  <p:nvPr/>
                </p:nvSpPr>
                <p:spPr>
                  <a:xfrm>
                    <a:off x="3406320" y="4319280"/>
                    <a:ext cx="0" cy="69048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3" name=""/>
                  <p:cNvSpPr/>
                  <p:nvPr/>
                </p:nvSpPr>
                <p:spPr>
                  <a:xfrm flipH="1" flipV="1">
                    <a:off x="3206160" y="4043160"/>
                    <a:ext cx="200160" cy="27576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4" name=""/>
                  <p:cNvSpPr/>
                  <p:nvPr/>
                </p:nvSpPr>
                <p:spPr>
                  <a:xfrm>
                    <a:off x="1403280" y="5010120"/>
                    <a:ext cx="2003040" cy="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5" name=""/>
                  <p:cNvSpPr/>
                  <p:nvPr/>
                </p:nvSpPr>
                <p:spPr>
                  <a:xfrm>
                    <a:off x="3406320" y="3767040"/>
                    <a:ext cx="0" cy="34488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6" name=""/>
                  <p:cNvSpPr/>
                  <p:nvPr/>
                </p:nvSpPr>
                <p:spPr>
                  <a:xfrm>
                    <a:off x="3072600" y="3559680"/>
                    <a:ext cx="0" cy="55224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07" name=""/>
                <p:cNvSpPr/>
                <p:nvPr/>
              </p:nvSpPr>
              <p:spPr>
                <a:xfrm>
                  <a:off x="3437640" y="4129200"/>
                  <a:ext cx="8956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Times New Roman"/>
                    </a:rPr>
                    <a:t>KM</a:t>
                  </a:r>
                  <a:r>
                    <a:rPr b="1" lang="en-US" sz="28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08" name=""/>
              <p:cNvSpPr/>
              <p:nvPr/>
            </p:nvSpPr>
            <p:spPr>
              <a:xfrm>
                <a:off x="1787400" y="4605480"/>
                <a:ext cx="71640" cy="727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9" name=""/>
            <p:cNvSpPr/>
            <p:nvPr/>
          </p:nvSpPr>
          <p:spPr>
            <a:xfrm>
              <a:off x="1330200" y="3313080"/>
              <a:ext cx="71640" cy="73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1752480" y="3505320"/>
              <a:ext cx="71640" cy="73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2173320" y="3695760"/>
              <a:ext cx="71280" cy="73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2209680" y="4764240"/>
              <a:ext cx="71640" cy="727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"/>
          <p:cNvSpPr/>
          <p:nvPr/>
        </p:nvSpPr>
        <p:spPr>
          <a:xfrm flipH="1" flipV="1">
            <a:off x="4154040" y="1294920"/>
            <a:ext cx="304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 flipH="1" flipV="1">
            <a:off x="4307040" y="2362320"/>
            <a:ext cx="30456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5" name=""/>
          <p:cNvSpPr/>
          <p:nvPr/>
        </p:nvSpPr>
        <p:spPr>
          <a:xfrm flipV="1">
            <a:off x="5526000" y="3505320"/>
            <a:ext cx="38124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 flipV="1">
            <a:off x="6821640" y="3505320"/>
            <a:ext cx="3808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7" name=""/>
          <p:cNvSpPr/>
          <p:nvPr/>
        </p:nvSpPr>
        <p:spPr>
          <a:xfrm flipH="1" flipV="1">
            <a:off x="4230360" y="1828800"/>
            <a:ext cx="3049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8" name=""/>
          <p:cNvSpPr/>
          <p:nvPr/>
        </p:nvSpPr>
        <p:spPr>
          <a:xfrm flipV="1">
            <a:off x="5526000" y="1752120"/>
            <a:ext cx="38124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9" name=""/>
          <p:cNvSpPr/>
          <p:nvPr/>
        </p:nvSpPr>
        <p:spPr>
          <a:xfrm>
            <a:off x="6892920" y="1288440"/>
            <a:ext cx="455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通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0" name=""/>
          <p:cNvSpPr/>
          <p:nvPr/>
        </p:nvSpPr>
        <p:spPr>
          <a:xfrm>
            <a:off x="6969240" y="2888640"/>
            <a:ext cx="455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通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1" name=""/>
          <p:cNvGrpSpPr/>
          <p:nvPr/>
        </p:nvGrpSpPr>
        <p:grpSpPr>
          <a:xfrm>
            <a:off x="1447920" y="418680"/>
            <a:ext cx="7000920" cy="4257000"/>
            <a:chOff x="1447920" y="418680"/>
            <a:chExt cx="7000920" cy="4257000"/>
          </a:xfrm>
        </p:grpSpPr>
        <p:sp>
          <p:nvSpPr>
            <p:cNvPr id="4922" name=""/>
            <p:cNvSpPr/>
            <p:nvPr/>
          </p:nvSpPr>
          <p:spPr>
            <a:xfrm flipH="1" flipV="1">
              <a:off x="2867040" y="1271520"/>
              <a:ext cx="360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 flipV="1">
              <a:off x="2938680" y="127152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3083040" y="14162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3227760" y="1631880"/>
              <a:ext cx="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 flipH="1">
              <a:off x="2938320" y="1703520"/>
              <a:ext cx="28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 flipV="1">
              <a:off x="2938680" y="1631520"/>
              <a:ext cx="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1447920" y="418680"/>
              <a:ext cx="360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2785680" y="79632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2651400" y="479520"/>
              <a:ext cx="575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2017800" y="1487520"/>
              <a:ext cx="92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3227760" y="1487520"/>
              <a:ext cx="9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1636920" y="992160"/>
              <a:ext cx="101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 flipV="1">
              <a:off x="2651400" y="4874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1867320" y="91548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36" name=""/>
            <p:cNvGrpSpPr/>
            <p:nvPr/>
          </p:nvGrpSpPr>
          <p:grpSpPr>
            <a:xfrm>
              <a:off x="3600000" y="479520"/>
              <a:ext cx="4848840" cy="4196160"/>
              <a:chOff x="3600000" y="479520"/>
              <a:chExt cx="4848840" cy="4196160"/>
            </a:xfrm>
          </p:grpSpPr>
          <p:sp>
            <p:nvSpPr>
              <p:cNvPr id="4937" name=""/>
              <p:cNvSpPr/>
              <p:nvPr/>
            </p:nvSpPr>
            <p:spPr>
              <a:xfrm>
                <a:off x="8410680" y="479520"/>
                <a:ext cx="0" cy="324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3820680" y="947880"/>
                <a:ext cx="718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B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5372280" y="879120"/>
                <a:ext cx="62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K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7331400" y="1468440"/>
                <a:ext cx="107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4739040" y="1468440"/>
                <a:ext cx="79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 flipH="1">
                <a:off x="4138560" y="1468440"/>
                <a:ext cx="64908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4459320" y="1563840"/>
                <a:ext cx="0" cy="191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4" name=""/>
              <p:cNvGrpSpPr/>
              <p:nvPr/>
            </p:nvGrpSpPr>
            <p:grpSpPr>
              <a:xfrm>
                <a:off x="4294440" y="1684080"/>
                <a:ext cx="349200" cy="105120"/>
                <a:chOff x="4294440" y="1684080"/>
                <a:chExt cx="349200" cy="105120"/>
              </a:xfrm>
            </p:grpSpPr>
            <p:sp>
              <p:nvSpPr>
                <p:cNvPr id="4945" name=""/>
                <p:cNvSpPr/>
                <p:nvPr/>
              </p:nvSpPr>
              <p:spPr>
                <a:xfrm>
                  <a:off x="4643640" y="1684440"/>
                  <a:ext cx="0" cy="104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6" name=""/>
                <p:cNvSpPr/>
                <p:nvPr/>
              </p:nvSpPr>
              <p:spPr>
                <a:xfrm flipH="1">
                  <a:off x="4294440" y="1788840"/>
                  <a:ext cx="349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7" name=""/>
                <p:cNvSpPr/>
                <p:nvPr/>
              </p:nvSpPr>
              <p:spPr>
                <a:xfrm flipV="1">
                  <a:off x="4294440" y="1684080"/>
                  <a:ext cx="0" cy="104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48" name=""/>
              <p:cNvSpPr/>
              <p:nvPr/>
            </p:nvSpPr>
            <p:spPr>
              <a:xfrm>
                <a:off x="6725520" y="73728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 flipH="1" flipV="1">
                <a:off x="5459400" y="1323720"/>
                <a:ext cx="43164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 flipV="1">
                <a:off x="5531040" y="125244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1" name=""/>
              <p:cNvGrpSpPr/>
              <p:nvPr/>
            </p:nvGrpSpPr>
            <p:grpSpPr>
              <a:xfrm>
                <a:off x="5604120" y="1397160"/>
                <a:ext cx="216000" cy="287280"/>
                <a:chOff x="5604120" y="1397160"/>
                <a:chExt cx="216000" cy="287280"/>
              </a:xfrm>
            </p:grpSpPr>
            <p:grpSp>
              <p:nvGrpSpPr>
                <p:cNvPr id="4952" name=""/>
                <p:cNvGrpSpPr/>
                <p:nvPr/>
              </p:nvGrpSpPr>
              <p:grpSpPr>
                <a:xfrm>
                  <a:off x="5676480" y="1397160"/>
                  <a:ext cx="72000" cy="287280"/>
                  <a:chOff x="5676480" y="1397160"/>
                  <a:chExt cx="72000" cy="287280"/>
                </a:xfrm>
              </p:grpSpPr>
              <p:sp>
                <p:nvSpPr>
                  <p:cNvPr id="4953" name=""/>
                  <p:cNvSpPr/>
                  <p:nvPr/>
                </p:nvSpPr>
                <p:spPr>
                  <a:xfrm flipV="1">
                    <a:off x="5748480" y="1397160"/>
                    <a:ext cx="0" cy="287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4" name=""/>
                  <p:cNvSpPr/>
                  <p:nvPr/>
                </p:nvSpPr>
                <p:spPr>
                  <a:xfrm flipV="1">
                    <a:off x="5676480" y="1397160"/>
                    <a:ext cx="0" cy="287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55" name=""/>
                <p:cNvSpPr/>
                <p:nvPr/>
              </p:nvSpPr>
              <p:spPr>
                <a:xfrm flipH="1" flipV="1">
                  <a:off x="5604120" y="1612440"/>
                  <a:ext cx="216000" cy="71640"/>
                </a:xfrm>
                <a:custGeom>
                  <a:avLst/>
                  <a:gdLst/>
                  <a:ahLst/>
                  <a:rect l="l" t="t" r="r" b="b"/>
                  <a:pathLst>
                    <a:path w="577" h="263">
                      <a:moveTo>
                        <a:pt x="0" y="197"/>
                      </a:moveTo>
                      <a:cubicBezTo>
                        <a:pt x="43" y="154"/>
                        <a:pt x="77" y="112"/>
                        <a:pt x="128" y="77"/>
                      </a:cubicBezTo>
                      <a:cubicBezTo>
                        <a:pt x="156" y="34"/>
                        <a:pt x="136" y="57"/>
                        <a:pt x="197" y="17"/>
                      </a:cubicBezTo>
                      <a:cubicBezTo>
                        <a:pt x="212" y="7"/>
                        <a:pt x="248" y="0"/>
                        <a:pt x="248" y="0"/>
                      </a:cubicBezTo>
                      <a:cubicBezTo>
                        <a:pt x="315" y="6"/>
                        <a:pt x="323" y="4"/>
                        <a:pt x="377" y="17"/>
                      </a:cubicBezTo>
                      <a:cubicBezTo>
                        <a:pt x="403" y="23"/>
                        <a:pt x="454" y="43"/>
                        <a:pt x="454" y="43"/>
                      </a:cubicBezTo>
                      <a:cubicBezTo>
                        <a:pt x="471" y="69"/>
                        <a:pt x="488" y="95"/>
                        <a:pt x="505" y="120"/>
                      </a:cubicBezTo>
                      <a:cubicBezTo>
                        <a:pt x="511" y="128"/>
                        <a:pt x="523" y="145"/>
                        <a:pt x="523" y="145"/>
                      </a:cubicBezTo>
                      <a:cubicBezTo>
                        <a:pt x="548" y="228"/>
                        <a:pt x="510" y="110"/>
                        <a:pt x="548" y="197"/>
                      </a:cubicBezTo>
                      <a:cubicBezTo>
                        <a:pt x="577" y="263"/>
                        <a:pt x="550" y="233"/>
                        <a:pt x="574" y="25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6" name=""/>
              <p:cNvSpPr/>
              <p:nvPr/>
            </p:nvSpPr>
            <p:spPr>
              <a:xfrm>
                <a:off x="5891400" y="14684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6899400" y="1214640"/>
                <a:ext cx="432000" cy="503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3694320" y="1449360"/>
                <a:ext cx="71280" cy="730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4989600" y="2457720"/>
                <a:ext cx="73080" cy="745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4451400" y="1847880"/>
                <a:ext cx="0" cy="237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5027760" y="1487520"/>
                <a:ext cx="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5027760" y="2495520"/>
                <a:ext cx="338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 flipH="1">
                <a:off x="5891400" y="198288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 flipH="1">
                <a:off x="5027760" y="198288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5027760" y="307188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5891400" y="3071880"/>
                <a:ext cx="10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7402680" y="307188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5330160" y="188028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66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6971040" y="2239920"/>
                <a:ext cx="431640" cy="503280"/>
              </a:xfrm>
              <a:prstGeom prst="rect">
                <a:avLst/>
              </a:prstGeom>
              <a:solidFill>
                <a:srgbClr val="cce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 flipH="1" flipV="1">
                <a:off x="5459400" y="2927160"/>
                <a:ext cx="431640" cy="1443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 flipV="1">
                <a:off x="5531040" y="2855880"/>
                <a:ext cx="0" cy="216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5301720" y="245880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6394680" y="3719520"/>
                <a:ext cx="0" cy="4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 flipH="1">
                <a:off x="7186320" y="415152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 flipH="1">
                <a:off x="6755040" y="4151520"/>
                <a:ext cx="457200" cy="141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 flipH="1">
                <a:off x="6394320" y="415152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7475760" y="3719520"/>
                <a:ext cx="0" cy="4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4451400" y="4224600"/>
                <a:ext cx="122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5675400" y="3648240"/>
                <a:ext cx="0" cy="31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7389360" y="260100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66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6597000" y="364716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7142400" y="3719520"/>
                <a:ext cx="128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3600000" y="245880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 flipH="1">
                <a:off x="4669200" y="1992240"/>
                <a:ext cx="35856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 flipH="1">
                <a:off x="4237200" y="1992240"/>
                <a:ext cx="432000" cy="14292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 flipH="1">
                <a:off x="3732480" y="1992240"/>
                <a:ext cx="5047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 flipH="1" flipV="1">
                <a:off x="6754680" y="3574800"/>
                <a:ext cx="43164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 flipV="1">
                <a:off x="6826320" y="350352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6971040" y="2820960"/>
                <a:ext cx="431640" cy="505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5027760" y="371952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5891400" y="371952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7691760" y="3432240"/>
                <a:ext cx="431640" cy="503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6943680" y="1834920"/>
                <a:ext cx="62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K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7571880" y="381564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6178680" y="147816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 flipH="1" flipV="1">
                <a:off x="5459400" y="1838160"/>
                <a:ext cx="431640" cy="144360"/>
              </a:xfrm>
              <a:prstGeom prst="line">
                <a:avLst/>
              </a:prstGeom>
              <a:ln w="284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 flipV="1">
                <a:off x="5531040" y="1766880"/>
                <a:ext cx="0" cy="216000"/>
              </a:xfrm>
              <a:prstGeom prst="line">
                <a:avLst/>
              </a:prstGeom>
              <a:ln w="284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 flipH="1" flipV="1">
                <a:off x="5459400" y="3574800"/>
                <a:ext cx="43164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 flipV="1">
                <a:off x="5531040" y="350352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 flipH="1">
                <a:off x="4669200" y="249552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 flipH="1">
                <a:off x="4237200" y="2495520"/>
                <a:ext cx="43200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 flipH="1">
                <a:off x="3732480" y="249552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3732480" y="1449360"/>
                <a:ext cx="0" cy="104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3704400" y="1978560"/>
                <a:ext cx="62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K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6696360" y="416556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5855040" y="3864240"/>
                <a:ext cx="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 flipH="1">
                <a:off x="5505120" y="3969000"/>
                <a:ext cx="349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 flipV="1">
                <a:off x="5505480" y="3863880"/>
                <a:ext cx="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4992840" y="1944720"/>
                <a:ext cx="71640" cy="730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5675400" y="4000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6132600" y="1449360"/>
                <a:ext cx="73080" cy="748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4989600" y="3049560"/>
                <a:ext cx="73080" cy="748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6361200" y="3659400"/>
                <a:ext cx="73080" cy="745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7428240" y="3659400"/>
                <a:ext cx="73080" cy="745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8375760" y="3049560"/>
                <a:ext cx="73080" cy="748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8375760" y="2440080"/>
                <a:ext cx="73080" cy="745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8375760" y="1449360"/>
                <a:ext cx="73080" cy="748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4989600" y="1449360"/>
                <a:ext cx="71640" cy="730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19" name=""/>
          <p:cNvSpPr/>
          <p:nvPr/>
        </p:nvSpPr>
        <p:spPr>
          <a:xfrm>
            <a:off x="6969240" y="2279160"/>
            <a:ext cx="455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通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0" name=""/>
          <p:cNvSpPr/>
          <p:nvPr/>
        </p:nvSpPr>
        <p:spPr>
          <a:xfrm>
            <a:off x="7659720" y="3513960"/>
            <a:ext cx="455760" cy="29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断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1" name=""/>
          <p:cNvSpPr/>
          <p:nvPr/>
        </p:nvSpPr>
        <p:spPr>
          <a:xfrm>
            <a:off x="7659720" y="1295280"/>
            <a:ext cx="1219320" cy="762120"/>
          </a:xfrm>
          <a:prstGeom prst="wedgeRoundRectCallout">
            <a:avLst>
              <a:gd name="adj1" fmla="val -94009"/>
              <a:gd name="adj2" fmla="val 75000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通电延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继电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>
            <a:off x="4124160" y="304920"/>
            <a:ext cx="1097280" cy="685800"/>
          </a:xfrm>
          <a:prstGeom prst="wedgeRoundRectCallout">
            <a:avLst>
              <a:gd name="adj1" fmla="val 71851"/>
              <a:gd name="adj2" fmla="val 114120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通电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时断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3" name=""/>
          <p:cNvSpPr/>
          <p:nvPr/>
        </p:nvSpPr>
        <p:spPr>
          <a:xfrm>
            <a:off x="3505320" y="2971800"/>
            <a:ext cx="763560" cy="762120"/>
          </a:xfrm>
          <a:prstGeom prst="wedgeRoundRectCallout">
            <a:avLst>
              <a:gd name="adj1" fmla="val 215490"/>
              <a:gd name="adj2" fmla="val 30416"/>
              <a:gd name="adj3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复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4" name=""/>
          <p:cNvSpPr/>
          <p:nvPr/>
        </p:nvSpPr>
        <p:spPr>
          <a:xfrm>
            <a:off x="658080" y="4190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动过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5" name=""/>
          <p:cNvSpPr/>
          <p:nvPr/>
        </p:nvSpPr>
        <p:spPr>
          <a:xfrm>
            <a:off x="341280" y="5075280"/>
            <a:ext cx="101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6" name=""/>
          <p:cNvSpPr/>
          <p:nvPr/>
        </p:nvSpPr>
        <p:spPr>
          <a:xfrm>
            <a:off x="1330200" y="4991040"/>
            <a:ext cx="152640" cy="685800"/>
          </a:xfrm>
          <a:custGeom>
            <a:avLst/>
            <a:gdLst>
              <a:gd name="textAreaLeft" fmla="*/ 97560 w 152640"/>
              <a:gd name="textAreaRight" fmla="*/ 153000 w 1526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7" name=""/>
          <p:cNvSpPr/>
          <p:nvPr/>
        </p:nvSpPr>
        <p:spPr>
          <a:xfrm>
            <a:off x="1517760" y="4784760"/>
            <a:ext cx="140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通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8" name=""/>
          <p:cNvSpPr/>
          <p:nvPr/>
        </p:nvSpPr>
        <p:spPr>
          <a:xfrm>
            <a:off x="1546560" y="5227560"/>
            <a:ext cx="140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断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9" name=""/>
          <p:cNvSpPr/>
          <p:nvPr/>
        </p:nvSpPr>
        <p:spPr>
          <a:xfrm>
            <a:off x="6836760" y="56379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绕组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0" name=""/>
          <p:cNvGrpSpPr/>
          <p:nvPr/>
        </p:nvGrpSpPr>
        <p:grpSpPr>
          <a:xfrm>
            <a:off x="4648320" y="4465440"/>
            <a:ext cx="1952280" cy="579600"/>
            <a:chOff x="4648320" y="4465440"/>
            <a:chExt cx="1952280" cy="579600"/>
          </a:xfrm>
        </p:grpSpPr>
        <p:sp>
          <p:nvSpPr>
            <p:cNvPr id="5031" name=""/>
            <p:cNvSpPr/>
            <p:nvPr/>
          </p:nvSpPr>
          <p:spPr>
            <a:xfrm>
              <a:off x="4648320" y="4800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5193000" y="4465440"/>
              <a:ext cx="140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断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3" name=""/>
          <p:cNvSpPr/>
          <p:nvPr/>
        </p:nvSpPr>
        <p:spPr>
          <a:xfrm>
            <a:off x="489960" y="2819520"/>
            <a:ext cx="261576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接通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绕组</a:t>
            </a:r>
            <a:r>
              <a:rPr b="1" lang="zh-CN" sz="2800" spc="-1" strike="noStrike">
                <a:solidFill>
                  <a:srgbClr val="006600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联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绕组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联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4" name=""/>
          <p:cNvSpPr/>
          <p:nvPr/>
        </p:nvSpPr>
        <p:spPr>
          <a:xfrm>
            <a:off x="4605480" y="533412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5" name=""/>
          <p:cNvSpPr/>
          <p:nvPr/>
        </p:nvSpPr>
        <p:spPr>
          <a:xfrm>
            <a:off x="5389920" y="6095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闭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6" name=""/>
          <p:cNvGrpSpPr/>
          <p:nvPr/>
        </p:nvGrpSpPr>
        <p:grpSpPr>
          <a:xfrm>
            <a:off x="6804000" y="5257080"/>
            <a:ext cx="1677600" cy="520560"/>
            <a:chOff x="6804000" y="5257080"/>
            <a:chExt cx="1677600" cy="520560"/>
          </a:xfrm>
        </p:grpSpPr>
        <p:sp>
          <p:nvSpPr>
            <p:cNvPr id="5037" name=""/>
            <p:cNvSpPr/>
            <p:nvPr/>
          </p:nvSpPr>
          <p:spPr>
            <a:xfrm>
              <a:off x="6804000" y="55641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7447320" y="5257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常开闭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9" name=""/>
          <p:cNvSpPr/>
          <p:nvPr/>
        </p:nvSpPr>
        <p:spPr>
          <a:xfrm>
            <a:off x="7067160" y="4828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闭延时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0" name=""/>
          <p:cNvSpPr/>
          <p:nvPr/>
        </p:nvSpPr>
        <p:spPr>
          <a:xfrm>
            <a:off x="6553080" y="5043600"/>
            <a:ext cx="152640" cy="519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3320 h 519120"/>
              <a:gd name="textAreaBottom" fmla="*/ 505800 h 51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1" name=""/>
          <p:cNvSpPr/>
          <p:nvPr/>
        </p:nvSpPr>
        <p:spPr>
          <a:xfrm>
            <a:off x="1704960" y="5714280"/>
            <a:ext cx="188748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动机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接起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2" name=""/>
          <p:cNvGrpSpPr/>
          <p:nvPr/>
        </p:nvGrpSpPr>
        <p:grpSpPr>
          <a:xfrm>
            <a:off x="3005280" y="4494960"/>
            <a:ext cx="1428480" cy="1297080"/>
            <a:chOff x="3005280" y="4494960"/>
            <a:chExt cx="1428480" cy="1297080"/>
          </a:xfrm>
        </p:grpSpPr>
        <p:sp>
          <p:nvSpPr>
            <p:cNvPr id="5043" name=""/>
            <p:cNvSpPr/>
            <p:nvPr/>
          </p:nvSpPr>
          <p:spPr>
            <a:xfrm>
              <a:off x="3399480" y="44949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常闭断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3399480" y="5015520"/>
              <a:ext cx="10342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常开闭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自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3005280" y="4763880"/>
              <a:ext cx="152640" cy="6094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6" name=""/>
          <p:cNvGrpSpPr/>
          <p:nvPr/>
        </p:nvGrpSpPr>
        <p:grpSpPr>
          <a:xfrm>
            <a:off x="4800600" y="5098320"/>
            <a:ext cx="1682280" cy="520560"/>
            <a:chOff x="4800600" y="5098320"/>
            <a:chExt cx="1682280" cy="520560"/>
          </a:xfrm>
        </p:grpSpPr>
        <p:sp>
          <p:nvSpPr>
            <p:cNvPr id="5047" name=""/>
            <p:cNvSpPr/>
            <p:nvPr/>
          </p:nvSpPr>
          <p:spPr>
            <a:xfrm>
              <a:off x="5278320" y="5098320"/>
              <a:ext cx="12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KT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通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4800600" y="53690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9" name=""/>
          <p:cNvGrpSpPr/>
          <p:nvPr/>
        </p:nvGrpSpPr>
        <p:grpSpPr>
          <a:xfrm>
            <a:off x="4800600" y="5622840"/>
            <a:ext cx="1875960" cy="579600"/>
            <a:chOff x="4800600" y="5622840"/>
            <a:chExt cx="1875960" cy="579600"/>
          </a:xfrm>
        </p:grpSpPr>
        <p:sp>
          <p:nvSpPr>
            <p:cNvPr id="5050" name=""/>
            <p:cNvSpPr/>
            <p:nvPr/>
          </p:nvSpPr>
          <p:spPr>
            <a:xfrm>
              <a:off x="5268960" y="5622840"/>
              <a:ext cx="140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KM</a:t>
              </a:r>
              <a:r>
                <a:rPr b="1" lang="zh-CN" sz="2800" spc="-1" strike="noStrike" baseline="-25000">
                  <a:solidFill>
                    <a:srgbClr val="cc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通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4800600" y="5957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2" name=""/>
          <p:cNvSpPr/>
          <p:nvPr/>
        </p:nvSpPr>
        <p:spPr>
          <a:xfrm>
            <a:off x="2021040" y="1981080"/>
            <a:ext cx="1144440" cy="762120"/>
          </a:xfrm>
          <a:prstGeom prst="wedgeRoundRectCallout">
            <a:avLst>
              <a:gd name="adj1" fmla="val 125310"/>
              <a:gd name="adj2" fmla="val -49583"/>
              <a:gd name="adj3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通电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时闭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3" name=""/>
          <p:cNvSpPr/>
          <p:nvPr/>
        </p:nvSpPr>
        <p:spPr>
          <a:xfrm>
            <a:off x="489960" y="2578320"/>
            <a:ext cx="261576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接通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绕组</a:t>
            </a:r>
            <a:r>
              <a:rPr b="1" lang="zh-CN" sz="2800" spc="-1" strike="noStrike">
                <a:solidFill>
                  <a:srgbClr val="006600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联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绕组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联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4" name=""/>
          <p:cNvGrpSpPr/>
          <p:nvPr/>
        </p:nvGrpSpPr>
        <p:grpSpPr>
          <a:xfrm>
            <a:off x="341280" y="4037760"/>
            <a:ext cx="8186760" cy="2349360"/>
            <a:chOff x="341280" y="4037760"/>
            <a:chExt cx="8186760" cy="2349360"/>
          </a:xfrm>
        </p:grpSpPr>
        <p:grpSp>
          <p:nvGrpSpPr>
            <p:cNvPr id="5055" name=""/>
            <p:cNvGrpSpPr/>
            <p:nvPr/>
          </p:nvGrpSpPr>
          <p:grpSpPr>
            <a:xfrm>
              <a:off x="4800600" y="4947120"/>
              <a:ext cx="1682280" cy="520560"/>
              <a:chOff x="4800600" y="4947120"/>
              <a:chExt cx="1682280" cy="520560"/>
            </a:xfrm>
          </p:grpSpPr>
          <p:sp>
            <p:nvSpPr>
              <p:cNvPr id="5056" name=""/>
              <p:cNvSpPr/>
              <p:nvPr/>
            </p:nvSpPr>
            <p:spPr>
              <a:xfrm>
                <a:off x="5278320" y="4947120"/>
                <a:ext cx="12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KT</a:t>
                </a: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通电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4800600" y="52178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8" name=""/>
            <p:cNvSpPr/>
            <p:nvPr/>
          </p:nvSpPr>
          <p:spPr>
            <a:xfrm>
              <a:off x="658080" y="40377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起动过程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341280" y="4924080"/>
              <a:ext cx="1017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1330200" y="4840200"/>
              <a:ext cx="152640" cy="6858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1517760" y="4633560"/>
              <a:ext cx="140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KM</a:t>
              </a:r>
              <a:r>
                <a:rPr b="1" lang="zh-CN" sz="28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通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1546560" y="5076360"/>
              <a:ext cx="140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断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6836760" y="54871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绕组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Y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4" name=""/>
            <p:cNvGrpSpPr/>
            <p:nvPr/>
          </p:nvGrpSpPr>
          <p:grpSpPr>
            <a:xfrm>
              <a:off x="4648320" y="4314600"/>
              <a:ext cx="1952280" cy="579600"/>
              <a:chOff x="4648320" y="4314600"/>
              <a:chExt cx="1952280" cy="579600"/>
            </a:xfrm>
          </p:grpSpPr>
          <p:sp>
            <p:nvSpPr>
              <p:cNvPr id="5065" name=""/>
              <p:cNvSpPr/>
              <p:nvPr/>
            </p:nvSpPr>
            <p:spPr>
              <a:xfrm>
                <a:off x="4648320" y="46494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5193000" y="4314600"/>
                <a:ext cx="1407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KM</a:t>
                </a:r>
                <a:r>
                  <a:rPr b="1" lang="zh-CN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2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断电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7" name=""/>
            <p:cNvSpPr/>
            <p:nvPr/>
          </p:nvSpPr>
          <p:spPr>
            <a:xfrm>
              <a:off x="4605480" y="5182920"/>
              <a:ext cx="152280" cy="6094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6301080" y="5866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常闭断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9" name=""/>
            <p:cNvGrpSpPr/>
            <p:nvPr/>
          </p:nvGrpSpPr>
          <p:grpSpPr>
            <a:xfrm>
              <a:off x="6804000" y="5105880"/>
              <a:ext cx="1677600" cy="520560"/>
              <a:chOff x="6804000" y="5105880"/>
              <a:chExt cx="1677600" cy="520560"/>
            </a:xfrm>
          </p:grpSpPr>
          <p:sp>
            <p:nvSpPr>
              <p:cNvPr id="5070" name=""/>
              <p:cNvSpPr/>
              <p:nvPr/>
            </p:nvSpPr>
            <p:spPr>
              <a:xfrm>
                <a:off x="6804000" y="5412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7447320" y="510588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常开闭合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2" name=""/>
            <p:cNvSpPr/>
            <p:nvPr/>
          </p:nvSpPr>
          <p:spPr>
            <a:xfrm>
              <a:off x="7067160" y="46774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常闭延时断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6553080" y="4892400"/>
              <a:ext cx="152640" cy="51912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3320 h 519120"/>
                <a:gd name="textAreaBottom" fmla="*/ 50580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1704960" y="5534640"/>
              <a:ext cx="188748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电动机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Y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接起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5" name=""/>
            <p:cNvGrpSpPr/>
            <p:nvPr/>
          </p:nvGrpSpPr>
          <p:grpSpPr>
            <a:xfrm>
              <a:off x="3005280" y="4344120"/>
              <a:ext cx="1428480" cy="1297080"/>
              <a:chOff x="3005280" y="4344120"/>
              <a:chExt cx="1428480" cy="1297080"/>
            </a:xfrm>
          </p:grpSpPr>
          <p:sp>
            <p:nvSpPr>
              <p:cNvPr id="5076" name=""/>
              <p:cNvSpPr/>
              <p:nvPr/>
            </p:nvSpPr>
            <p:spPr>
              <a:xfrm>
                <a:off x="3399480" y="43441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常闭断开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3399480" y="4864680"/>
                <a:ext cx="103428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常开闭合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自锁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3005280" y="4613040"/>
                <a:ext cx="152640" cy="609480"/>
              </a:xfrm>
              <a:custGeom>
                <a:avLst/>
                <a:gdLst>
                  <a:gd name="textAreaLeft" fmla="*/ 97560 w 152640"/>
                  <a:gd name="textAreaRight" fmla="*/ 153000 w 15264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9" name=""/>
            <p:cNvGrpSpPr/>
            <p:nvPr/>
          </p:nvGrpSpPr>
          <p:grpSpPr>
            <a:xfrm>
              <a:off x="4800600" y="5471640"/>
              <a:ext cx="1875960" cy="579600"/>
              <a:chOff x="4800600" y="5471640"/>
              <a:chExt cx="1875960" cy="579600"/>
            </a:xfrm>
          </p:grpSpPr>
          <p:sp>
            <p:nvSpPr>
              <p:cNvPr id="5080" name=""/>
              <p:cNvSpPr/>
              <p:nvPr/>
            </p:nvSpPr>
            <p:spPr>
              <a:xfrm>
                <a:off x="5268960" y="5471640"/>
                <a:ext cx="1407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KM</a:t>
                </a:r>
                <a:r>
                  <a:rPr b="1" lang="zh-CN" sz="2800" spc="-1" strike="noStrike" baseline="-25000">
                    <a:solidFill>
                      <a:srgbClr val="cc0000"/>
                    </a:solidFill>
                    <a:latin typeface="Times New Roman"/>
                  </a:rPr>
                  <a:t>3</a:t>
                </a: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通电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4800600" y="58064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82" name=""/>
          <p:cNvGrpSpPr/>
          <p:nvPr/>
        </p:nvGrpSpPr>
        <p:grpSpPr>
          <a:xfrm>
            <a:off x="1447920" y="304200"/>
            <a:ext cx="7000560" cy="4257000"/>
            <a:chOff x="1447920" y="304200"/>
            <a:chExt cx="7000560" cy="4257000"/>
          </a:xfrm>
        </p:grpSpPr>
        <p:sp>
          <p:nvSpPr>
            <p:cNvPr id="5083" name=""/>
            <p:cNvSpPr/>
            <p:nvPr/>
          </p:nvSpPr>
          <p:spPr>
            <a:xfrm flipH="1" flipV="1">
              <a:off x="4307040" y="2247480"/>
              <a:ext cx="30456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 flipV="1">
              <a:off x="6821640" y="3390480"/>
              <a:ext cx="3808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 flipH="1" flipV="1">
              <a:off x="4230360" y="171468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 flipV="1">
              <a:off x="5526000" y="1599840"/>
              <a:ext cx="3812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6892920" y="1174320"/>
              <a:ext cx="4557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通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6969240" y="2774520"/>
              <a:ext cx="455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通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9" name=""/>
            <p:cNvSpPr/>
            <p:nvPr/>
          </p:nvSpPr>
          <p:spPr>
            <a:xfrm flipH="1" flipV="1">
              <a:off x="2866680" y="1157040"/>
              <a:ext cx="36036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 flipV="1">
              <a:off x="2938320" y="115704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3083040" y="13017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3227400" y="1517760"/>
              <a:ext cx="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 flipH="1">
              <a:off x="2937960" y="1589040"/>
              <a:ext cx="28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 flipV="1">
              <a:off x="2938320" y="1517760"/>
              <a:ext cx="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1447920" y="304200"/>
              <a:ext cx="360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2785320" y="68184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2651040" y="365040"/>
              <a:ext cx="575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2017800" y="1373040"/>
              <a:ext cx="92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3227400" y="1373040"/>
              <a:ext cx="93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1636560" y="878040"/>
              <a:ext cx="101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 flipV="1">
              <a:off x="2651040" y="372600"/>
              <a:ext cx="0" cy="50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1866960" y="80136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3" name=""/>
            <p:cNvGrpSpPr/>
            <p:nvPr/>
          </p:nvGrpSpPr>
          <p:grpSpPr>
            <a:xfrm>
              <a:off x="3599640" y="365040"/>
              <a:ext cx="4848840" cy="4196160"/>
              <a:chOff x="3599640" y="365040"/>
              <a:chExt cx="4848840" cy="4196160"/>
            </a:xfrm>
          </p:grpSpPr>
          <p:sp>
            <p:nvSpPr>
              <p:cNvPr id="5104" name=""/>
              <p:cNvSpPr/>
              <p:nvPr/>
            </p:nvSpPr>
            <p:spPr>
              <a:xfrm>
                <a:off x="8410320" y="365040"/>
                <a:ext cx="0" cy="324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3820320" y="833400"/>
                <a:ext cx="718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B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5371920" y="764640"/>
                <a:ext cx="62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K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7331040" y="1353960"/>
                <a:ext cx="107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4738680" y="1353960"/>
                <a:ext cx="79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 flipH="1">
                <a:off x="4138200" y="1353960"/>
                <a:ext cx="64908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4458960" y="1449360"/>
                <a:ext cx="0" cy="191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11" name=""/>
              <p:cNvGrpSpPr/>
              <p:nvPr/>
            </p:nvGrpSpPr>
            <p:grpSpPr>
              <a:xfrm>
                <a:off x="4294080" y="1569600"/>
                <a:ext cx="349200" cy="105120"/>
                <a:chOff x="4294080" y="1569600"/>
                <a:chExt cx="349200" cy="105120"/>
              </a:xfrm>
            </p:grpSpPr>
            <p:sp>
              <p:nvSpPr>
                <p:cNvPr id="5112" name=""/>
                <p:cNvSpPr/>
                <p:nvPr/>
              </p:nvSpPr>
              <p:spPr>
                <a:xfrm>
                  <a:off x="4643280" y="1569960"/>
                  <a:ext cx="0" cy="104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3" name=""/>
                <p:cNvSpPr/>
                <p:nvPr/>
              </p:nvSpPr>
              <p:spPr>
                <a:xfrm flipH="1">
                  <a:off x="4294080" y="1674360"/>
                  <a:ext cx="349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4" name=""/>
                <p:cNvSpPr/>
                <p:nvPr/>
              </p:nvSpPr>
              <p:spPr>
                <a:xfrm flipV="1">
                  <a:off x="4294080" y="1569600"/>
                  <a:ext cx="0" cy="104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15" name=""/>
              <p:cNvSpPr/>
              <p:nvPr/>
            </p:nvSpPr>
            <p:spPr>
              <a:xfrm>
                <a:off x="6725160" y="62280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 flipH="1" flipV="1">
                <a:off x="5459040" y="1209240"/>
                <a:ext cx="43164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 flipV="1">
                <a:off x="5530680" y="11379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18" name=""/>
              <p:cNvGrpSpPr/>
              <p:nvPr/>
            </p:nvGrpSpPr>
            <p:grpSpPr>
              <a:xfrm>
                <a:off x="5603760" y="1282680"/>
                <a:ext cx="216000" cy="287280"/>
                <a:chOff x="5603760" y="1282680"/>
                <a:chExt cx="216000" cy="287280"/>
              </a:xfrm>
            </p:grpSpPr>
            <p:grpSp>
              <p:nvGrpSpPr>
                <p:cNvPr id="5119" name=""/>
                <p:cNvGrpSpPr/>
                <p:nvPr/>
              </p:nvGrpSpPr>
              <p:grpSpPr>
                <a:xfrm>
                  <a:off x="5676120" y="1282680"/>
                  <a:ext cx="72000" cy="287280"/>
                  <a:chOff x="5676120" y="1282680"/>
                  <a:chExt cx="72000" cy="287280"/>
                </a:xfrm>
              </p:grpSpPr>
              <p:sp>
                <p:nvSpPr>
                  <p:cNvPr id="5120" name=""/>
                  <p:cNvSpPr/>
                  <p:nvPr/>
                </p:nvSpPr>
                <p:spPr>
                  <a:xfrm flipV="1">
                    <a:off x="5748120" y="1282680"/>
                    <a:ext cx="0" cy="287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1" name=""/>
                  <p:cNvSpPr/>
                  <p:nvPr/>
                </p:nvSpPr>
                <p:spPr>
                  <a:xfrm flipV="1">
                    <a:off x="5676120" y="1282680"/>
                    <a:ext cx="0" cy="287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22" name=""/>
                <p:cNvSpPr/>
                <p:nvPr/>
              </p:nvSpPr>
              <p:spPr>
                <a:xfrm flipH="1" flipV="1">
                  <a:off x="5603760" y="1497960"/>
                  <a:ext cx="216000" cy="71640"/>
                </a:xfrm>
                <a:custGeom>
                  <a:avLst/>
                  <a:gdLst/>
                  <a:ahLst/>
                  <a:rect l="l" t="t" r="r" b="b"/>
                  <a:pathLst>
                    <a:path w="577" h="263">
                      <a:moveTo>
                        <a:pt x="0" y="197"/>
                      </a:moveTo>
                      <a:cubicBezTo>
                        <a:pt x="43" y="154"/>
                        <a:pt x="77" y="112"/>
                        <a:pt x="128" y="77"/>
                      </a:cubicBezTo>
                      <a:cubicBezTo>
                        <a:pt x="156" y="34"/>
                        <a:pt x="136" y="57"/>
                        <a:pt x="197" y="17"/>
                      </a:cubicBezTo>
                      <a:cubicBezTo>
                        <a:pt x="212" y="7"/>
                        <a:pt x="248" y="0"/>
                        <a:pt x="248" y="0"/>
                      </a:cubicBezTo>
                      <a:cubicBezTo>
                        <a:pt x="315" y="6"/>
                        <a:pt x="323" y="4"/>
                        <a:pt x="377" y="17"/>
                      </a:cubicBezTo>
                      <a:cubicBezTo>
                        <a:pt x="403" y="23"/>
                        <a:pt x="454" y="43"/>
                        <a:pt x="454" y="43"/>
                      </a:cubicBezTo>
                      <a:cubicBezTo>
                        <a:pt x="471" y="69"/>
                        <a:pt x="488" y="95"/>
                        <a:pt x="505" y="120"/>
                      </a:cubicBezTo>
                      <a:cubicBezTo>
                        <a:pt x="511" y="128"/>
                        <a:pt x="523" y="145"/>
                        <a:pt x="523" y="145"/>
                      </a:cubicBezTo>
                      <a:cubicBezTo>
                        <a:pt x="548" y="228"/>
                        <a:pt x="510" y="110"/>
                        <a:pt x="548" y="197"/>
                      </a:cubicBezTo>
                      <a:cubicBezTo>
                        <a:pt x="577" y="263"/>
                        <a:pt x="550" y="233"/>
                        <a:pt x="574" y="25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23" name=""/>
              <p:cNvSpPr/>
              <p:nvPr/>
            </p:nvSpPr>
            <p:spPr>
              <a:xfrm>
                <a:off x="5891040" y="135396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899040" y="1100160"/>
                <a:ext cx="432000" cy="503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3693960" y="1334880"/>
                <a:ext cx="71280" cy="730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4989240" y="2343240"/>
                <a:ext cx="73080" cy="745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4451040" y="1733400"/>
                <a:ext cx="0" cy="237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5027400" y="1373040"/>
                <a:ext cx="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5027400" y="2381040"/>
                <a:ext cx="338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 flipH="1">
                <a:off x="5891040" y="186840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 flipH="1">
                <a:off x="5027400" y="186840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5027400" y="295740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5891040" y="2957400"/>
                <a:ext cx="10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7402320" y="295740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5329800" y="176580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66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6970680" y="2125440"/>
                <a:ext cx="431640" cy="503280"/>
              </a:xfrm>
              <a:prstGeom prst="rect">
                <a:avLst/>
              </a:prstGeom>
              <a:solidFill>
                <a:srgbClr val="cce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 flipH="1" flipV="1">
                <a:off x="5459040" y="2812680"/>
                <a:ext cx="431640" cy="1443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 flipV="1">
                <a:off x="5530680" y="2741400"/>
                <a:ext cx="0" cy="216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5301360" y="234432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6394320" y="3605040"/>
                <a:ext cx="0" cy="4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 flipH="1">
                <a:off x="7185960" y="403704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 flipH="1">
                <a:off x="6754680" y="4037040"/>
                <a:ext cx="457200" cy="141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 flipH="1">
                <a:off x="6393960" y="403704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7475400" y="3605040"/>
                <a:ext cx="0" cy="4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4451040" y="4110120"/>
                <a:ext cx="122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5675040" y="3533760"/>
                <a:ext cx="0" cy="31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7389000" y="248652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66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6596640" y="353268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7142040" y="3605040"/>
                <a:ext cx="128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3599640" y="234432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 flipH="1">
                <a:off x="4668840" y="1877760"/>
                <a:ext cx="35856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 flipH="1">
                <a:off x="4236840" y="1877760"/>
                <a:ext cx="432000" cy="14292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 flipH="1">
                <a:off x="3732120" y="1877760"/>
                <a:ext cx="5047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 flipH="1" flipV="1">
                <a:off x="6754320" y="3460320"/>
                <a:ext cx="43164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 flipV="1">
                <a:off x="6825960" y="338904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6970680" y="2706480"/>
                <a:ext cx="431640" cy="505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5027400" y="360504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5891040" y="360504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691400" y="3317760"/>
                <a:ext cx="431640" cy="5032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6943320" y="1720440"/>
                <a:ext cx="62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K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7571520" y="370116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6178320" y="136368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 flipH="1" flipV="1">
                <a:off x="5459040" y="1723680"/>
                <a:ext cx="431640" cy="144360"/>
              </a:xfrm>
              <a:prstGeom prst="line">
                <a:avLst/>
              </a:prstGeom>
              <a:ln w="284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 flipV="1">
                <a:off x="5530680" y="1652400"/>
                <a:ext cx="0" cy="216000"/>
              </a:xfrm>
              <a:prstGeom prst="line">
                <a:avLst/>
              </a:prstGeom>
              <a:ln w="284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 flipH="1" flipV="1">
                <a:off x="5459040" y="3460320"/>
                <a:ext cx="43164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 flipV="1">
                <a:off x="5530680" y="338904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 flipH="1">
                <a:off x="4668840" y="238104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 flipH="1">
                <a:off x="4236840" y="2381040"/>
                <a:ext cx="43200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 flipH="1">
                <a:off x="3732120" y="238104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3732120" y="1334880"/>
                <a:ext cx="0" cy="104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3704040" y="1864080"/>
                <a:ext cx="62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K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6696000" y="4051080"/>
                <a:ext cx="79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KM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5854680" y="3749760"/>
                <a:ext cx="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 flipH="1">
                <a:off x="5504760" y="3854520"/>
                <a:ext cx="349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 flipV="1">
                <a:off x="5505120" y="3749400"/>
                <a:ext cx="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4992480" y="1830240"/>
                <a:ext cx="71640" cy="730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5675040" y="3886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6132240" y="1334880"/>
                <a:ext cx="73080" cy="748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4989240" y="2935080"/>
                <a:ext cx="73080" cy="748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6360840" y="3544920"/>
                <a:ext cx="73080" cy="745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7427880" y="3544920"/>
                <a:ext cx="73080" cy="745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8375400" y="2935080"/>
                <a:ext cx="73080" cy="748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8375400" y="2325600"/>
                <a:ext cx="73080" cy="745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8375400" y="1334880"/>
                <a:ext cx="73080" cy="748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4989240" y="1334880"/>
                <a:ext cx="71640" cy="730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6" name=""/>
            <p:cNvSpPr/>
            <p:nvPr/>
          </p:nvSpPr>
          <p:spPr>
            <a:xfrm>
              <a:off x="6969240" y="2165040"/>
              <a:ext cx="455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</a:rPr>
                <a:t>通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7659720" y="3399840"/>
              <a:ext cx="455760" cy="299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断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8" name=""/>
            <p:cNvGrpSpPr/>
            <p:nvPr/>
          </p:nvGrpSpPr>
          <p:grpSpPr>
            <a:xfrm>
              <a:off x="4154040" y="1180800"/>
              <a:ext cx="1753200" cy="2514960"/>
              <a:chOff x="4154040" y="1180800"/>
              <a:chExt cx="1753200" cy="2514960"/>
            </a:xfrm>
          </p:grpSpPr>
          <p:sp>
            <p:nvSpPr>
              <p:cNvPr id="5189" name=""/>
              <p:cNvSpPr/>
              <p:nvPr/>
            </p:nvSpPr>
            <p:spPr>
              <a:xfrm flipH="1" flipV="1">
                <a:off x="4154040" y="1180800"/>
                <a:ext cx="304920" cy="381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 flipV="1">
                <a:off x="5526000" y="3391200"/>
                <a:ext cx="3812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91" name=""/>
          <p:cNvSpPr/>
          <p:nvPr/>
        </p:nvSpPr>
        <p:spPr>
          <a:xfrm>
            <a:off x="380880" y="5995440"/>
            <a:ext cx="6096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松开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SB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机仍处于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接起动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276720" y="609480"/>
            <a:ext cx="2244600" cy="4916520"/>
            <a:chOff x="3276720" y="609480"/>
            <a:chExt cx="2244600" cy="4916520"/>
          </a:xfrm>
        </p:grpSpPr>
        <p:sp>
          <p:nvSpPr>
            <p:cNvPr id="112" name=""/>
            <p:cNvSpPr/>
            <p:nvPr/>
          </p:nvSpPr>
          <p:spPr>
            <a:xfrm>
              <a:off x="4038480" y="1905120"/>
              <a:ext cx="533520" cy="533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03800" y="160020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38480" y="2989440"/>
              <a:ext cx="533520" cy="533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94280" y="3276720"/>
              <a:ext cx="401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94280" y="32004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13320" y="32004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4038480" y="4114800"/>
              <a:ext cx="533520" cy="533520"/>
              <a:chOff x="4038480" y="4114800"/>
              <a:chExt cx="533520" cy="533520"/>
            </a:xfrm>
          </p:grpSpPr>
          <p:sp>
            <p:nvSpPr>
              <p:cNvPr id="119" name=""/>
              <p:cNvSpPr/>
              <p:nvPr/>
            </p:nvSpPr>
            <p:spPr>
              <a:xfrm>
                <a:off x="4038480" y="4114800"/>
                <a:ext cx="533520" cy="533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4075200" y="4192560"/>
                <a:ext cx="429120" cy="368280"/>
                <a:chOff x="4075200" y="4192560"/>
                <a:chExt cx="429120" cy="368280"/>
              </a:xfrm>
            </p:grpSpPr>
            <p:sp>
              <p:nvSpPr>
                <p:cNvPr id="121" name=""/>
                <p:cNvSpPr/>
                <p:nvPr/>
              </p:nvSpPr>
              <p:spPr>
                <a:xfrm flipV="1">
                  <a:off x="4119480" y="4232520"/>
                  <a:ext cx="371520" cy="266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075200" y="4437000"/>
                  <a:ext cx="88560" cy="123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415400" y="4192560"/>
                  <a:ext cx="88920" cy="123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" name=""/>
            <p:cNvSpPr/>
            <p:nvPr/>
          </p:nvSpPr>
          <p:spPr>
            <a:xfrm>
              <a:off x="4115880" y="2045160"/>
              <a:ext cx="378720" cy="25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071960" y="1981440"/>
              <a:ext cx="85320" cy="12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454640" y="2216520"/>
              <a:ext cx="85320" cy="12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156200" y="1447920"/>
              <a:ext cx="415800" cy="137880"/>
              <a:chOff x="4156200" y="1447920"/>
              <a:chExt cx="415800" cy="137880"/>
            </a:xfrm>
          </p:grpSpPr>
          <p:sp>
            <p:nvSpPr>
              <p:cNvPr id="128" name=""/>
              <p:cNvSpPr/>
              <p:nvPr/>
            </p:nvSpPr>
            <p:spPr>
              <a:xfrm>
                <a:off x="4171680" y="1447920"/>
                <a:ext cx="27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56200" y="1585800"/>
                <a:ext cx="41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68800" y="1447920"/>
                <a:ext cx="0" cy="13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27280" y="1447920"/>
                <a:ext cx="138240" cy="13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3997440" y="4191120"/>
              <a:ext cx="75960" cy="75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33840" y="4495680"/>
              <a:ext cx="76320" cy="76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7080" y="3519360"/>
              <a:ext cx="76320" cy="76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67080" y="2895480"/>
              <a:ext cx="76320" cy="76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91000" y="1903320"/>
              <a:ext cx="76320" cy="76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38480" y="2362320"/>
              <a:ext cx="76320" cy="75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0" y="19382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800600" y="1066320"/>
              <a:ext cx="0" cy="87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71880" y="106668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962520" y="685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25800" y="609480"/>
              <a:ext cx="76320" cy="76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73400" y="24382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76640" y="2590920"/>
              <a:ext cx="14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35520" y="484020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05480" y="4533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76920" y="4530600"/>
              <a:ext cx="0" cy="49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46640" y="3581280"/>
              <a:ext cx="806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30720" y="35812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5479920" y="2590560"/>
              <a:ext cx="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3616200" y="614520"/>
              <a:ext cx="76320" cy="2357280"/>
              <a:chOff x="3616200" y="614520"/>
              <a:chExt cx="76320" cy="2357280"/>
            </a:xfrm>
          </p:grpSpPr>
          <p:sp>
            <p:nvSpPr>
              <p:cNvPr id="152" name=""/>
              <p:cNvSpPr/>
              <p:nvPr/>
            </p:nvSpPr>
            <p:spPr>
              <a:xfrm>
                <a:off x="3657600" y="6858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16200" y="614520"/>
                <a:ext cx="76320" cy="75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3657600" y="29462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17760" y="685800"/>
              <a:ext cx="0" cy="358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76720" y="617400"/>
              <a:ext cx="75960" cy="76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09840" y="42307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53960" y="487692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53600" y="5105520"/>
              <a:ext cx="4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3~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274840" y="5629320"/>
            <a:ext cx="48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图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1.1.1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用组合开关起停电动机的接线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2" name=""/>
          <p:cNvSpPr/>
          <p:nvPr/>
        </p:nvSpPr>
        <p:spPr>
          <a:xfrm>
            <a:off x="489960" y="2578320"/>
            <a:ext cx="261576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接通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绕组</a:t>
            </a:r>
            <a:r>
              <a:rPr b="1" lang="zh-CN" sz="2800" spc="-1" strike="noStrike">
                <a:solidFill>
                  <a:srgbClr val="006600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联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绕组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联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3" name=""/>
          <p:cNvGrpSpPr/>
          <p:nvPr/>
        </p:nvGrpSpPr>
        <p:grpSpPr>
          <a:xfrm>
            <a:off x="1557360" y="365040"/>
            <a:ext cx="6891480" cy="4196160"/>
            <a:chOff x="1557360" y="365040"/>
            <a:chExt cx="6891480" cy="4196160"/>
          </a:xfrm>
        </p:grpSpPr>
        <p:sp>
          <p:nvSpPr>
            <p:cNvPr id="5194" name=""/>
            <p:cNvSpPr/>
            <p:nvPr/>
          </p:nvSpPr>
          <p:spPr>
            <a:xfrm flipH="1" flipV="1">
              <a:off x="4307040" y="2247480"/>
              <a:ext cx="30456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5" name=""/>
            <p:cNvSpPr/>
            <p:nvPr/>
          </p:nvSpPr>
          <p:spPr>
            <a:xfrm flipV="1">
              <a:off x="6821640" y="3390480"/>
              <a:ext cx="3808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 flipH="1" flipV="1">
              <a:off x="4230360" y="171468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7" name=""/>
            <p:cNvSpPr/>
            <p:nvPr/>
          </p:nvSpPr>
          <p:spPr>
            <a:xfrm flipV="1">
              <a:off x="5526000" y="1599840"/>
              <a:ext cx="3812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6892920" y="1174320"/>
              <a:ext cx="4557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通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6969240" y="2774520"/>
              <a:ext cx="455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通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0" name=""/>
            <p:cNvSpPr/>
            <p:nvPr/>
          </p:nvSpPr>
          <p:spPr>
            <a:xfrm flipH="1" flipV="1">
              <a:off x="2866680" y="1157040"/>
              <a:ext cx="36036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1" name=""/>
            <p:cNvSpPr/>
            <p:nvPr/>
          </p:nvSpPr>
          <p:spPr>
            <a:xfrm flipV="1">
              <a:off x="2938320" y="115704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3083040" y="13017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3227400" y="1517760"/>
              <a:ext cx="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 flipH="1">
              <a:off x="2937960" y="1589040"/>
              <a:ext cx="28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 flipV="1">
              <a:off x="2938320" y="1517760"/>
              <a:ext cx="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2785320" y="68184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2651040" y="365040"/>
              <a:ext cx="575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2017800" y="1373040"/>
              <a:ext cx="92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3227400" y="1373040"/>
              <a:ext cx="93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1636560" y="878040"/>
              <a:ext cx="101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 flipV="1">
              <a:off x="2651040" y="372600"/>
              <a:ext cx="0" cy="50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8410680" y="365040"/>
              <a:ext cx="0" cy="324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3820320" y="83340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5371920" y="76464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K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7331040" y="135396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4738680" y="135396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 flipH="1">
              <a:off x="4138560" y="1353960"/>
              <a:ext cx="64944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4459320" y="1449360"/>
              <a:ext cx="0" cy="1922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9" name=""/>
            <p:cNvGrpSpPr/>
            <p:nvPr/>
          </p:nvGrpSpPr>
          <p:grpSpPr>
            <a:xfrm>
              <a:off x="4294080" y="1569600"/>
              <a:ext cx="349200" cy="105120"/>
              <a:chOff x="4294080" y="1569600"/>
              <a:chExt cx="349200" cy="105120"/>
            </a:xfrm>
          </p:grpSpPr>
          <p:sp>
            <p:nvSpPr>
              <p:cNvPr id="5220" name=""/>
              <p:cNvSpPr/>
              <p:nvPr/>
            </p:nvSpPr>
            <p:spPr>
              <a:xfrm>
                <a:off x="4643280" y="1569960"/>
                <a:ext cx="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 flipH="1">
                <a:off x="4294080" y="1674360"/>
                <a:ext cx="34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 flipV="1">
                <a:off x="4294080" y="1569600"/>
                <a:ext cx="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3" name=""/>
            <p:cNvSpPr/>
            <p:nvPr/>
          </p:nvSpPr>
          <p:spPr>
            <a:xfrm>
              <a:off x="6725520" y="623160"/>
              <a:ext cx="79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 flipH="1" flipV="1">
              <a:off x="5459040" y="1209240"/>
              <a:ext cx="4316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 flipV="1">
              <a:off x="5530680" y="113796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6" name=""/>
            <p:cNvGrpSpPr/>
            <p:nvPr/>
          </p:nvGrpSpPr>
          <p:grpSpPr>
            <a:xfrm>
              <a:off x="5603760" y="1282680"/>
              <a:ext cx="216000" cy="287280"/>
              <a:chOff x="5603760" y="1282680"/>
              <a:chExt cx="216000" cy="287280"/>
            </a:xfrm>
          </p:grpSpPr>
          <p:grpSp>
            <p:nvGrpSpPr>
              <p:cNvPr id="5227" name=""/>
              <p:cNvGrpSpPr/>
              <p:nvPr/>
            </p:nvGrpSpPr>
            <p:grpSpPr>
              <a:xfrm>
                <a:off x="5676120" y="1282680"/>
                <a:ext cx="72000" cy="287280"/>
                <a:chOff x="5676120" y="1282680"/>
                <a:chExt cx="72000" cy="287280"/>
              </a:xfrm>
            </p:grpSpPr>
            <p:sp>
              <p:nvSpPr>
                <p:cNvPr id="5228" name=""/>
                <p:cNvSpPr/>
                <p:nvPr/>
              </p:nvSpPr>
              <p:spPr>
                <a:xfrm flipV="1">
                  <a:off x="5748120" y="1282680"/>
                  <a:ext cx="0" cy="28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9" name=""/>
                <p:cNvSpPr/>
                <p:nvPr/>
              </p:nvSpPr>
              <p:spPr>
                <a:xfrm flipV="1">
                  <a:off x="5676120" y="1282680"/>
                  <a:ext cx="0" cy="28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30" name=""/>
              <p:cNvSpPr/>
              <p:nvPr/>
            </p:nvSpPr>
            <p:spPr>
              <a:xfrm flipH="1" flipV="1">
                <a:off x="5603760" y="1497960"/>
                <a:ext cx="216000" cy="71640"/>
              </a:xfrm>
              <a:custGeom>
                <a:avLst/>
                <a:gdLst/>
                <a:ahLst/>
                <a:rect l="l" t="t" r="r" b="b"/>
                <a:pathLst>
                  <a:path w="577" h="263">
                    <a:moveTo>
                      <a:pt x="0" y="197"/>
                    </a:moveTo>
                    <a:cubicBezTo>
                      <a:pt x="43" y="154"/>
                      <a:pt x="77" y="112"/>
                      <a:pt x="128" y="77"/>
                    </a:cubicBezTo>
                    <a:cubicBezTo>
                      <a:pt x="156" y="34"/>
                      <a:pt x="136" y="57"/>
                      <a:pt x="197" y="17"/>
                    </a:cubicBezTo>
                    <a:cubicBezTo>
                      <a:pt x="212" y="7"/>
                      <a:pt x="248" y="0"/>
                      <a:pt x="248" y="0"/>
                    </a:cubicBezTo>
                    <a:cubicBezTo>
                      <a:pt x="315" y="6"/>
                      <a:pt x="323" y="4"/>
                      <a:pt x="377" y="17"/>
                    </a:cubicBezTo>
                    <a:cubicBezTo>
                      <a:pt x="403" y="23"/>
                      <a:pt x="454" y="43"/>
                      <a:pt x="454" y="43"/>
                    </a:cubicBezTo>
                    <a:cubicBezTo>
                      <a:pt x="471" y="69"/>
                      <a:pt x="488" y="95"/>
                      <a:pt x="505" y="120"/>
                    </a:cubicBezTo>
                    <a:cubicBezTo>
                      <a:pt x="511" y="128"/>
                      <a:pt x="523" y="145"/>
                      <a:pt x="523" y="145"/>
                    </a:cubicBezTo>
                    <a:cubicBezTo>
                      <a:pt x="548" y="228"/>
                      <a:pt x="510" y="110"/>
                      <a:pt x="548" y="197"/>
                    </a:cubicBezTo>
                    <a:cubicBezTo>
                      <a:pt x="577" y="263"/>
                      <a:pt x="550" y="233"/>
                      <a:pt x="574" y="25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1" name=""/>
            <p:cNvSpPr/>
            <p:nvPr/>
          </p:nvSpPr>
          <p:spPr>
            <a:xfrm>
              <a:off x="5891040" y="1353960"/>
              <a:ext cx="10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6899400" y="1100160"/>
              <a:ext cx="431640" cy="503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3693960" y="1335240"/>
              <a:ext cx="71640" cy="727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4989600" y="2343240"/>
              <a:ext cx="73080" cy="74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4451400" y="1733400"/>
              <a:ext cx="0" cy="2376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5027760" y="1373040"/>
              <a:ext cx="0" cy="22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5027760" y="2381400"/>
              <a:ext cx="338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 flipH="1">
              <a:off x="5890680" y="1868400"/>
              <a:ext cx="2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 flipH="1">
              <a:off x="5027400" y="1868400"/>
              <a:ext cx="50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5027760" y="2957400"/>
              <a:ext cx="50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5891040" y="295740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7402680" y="2957400"/>
              <a:ext cx="100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5330160" y="1766160"/>
              <a:ext cx="79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66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6970680" y="2125800"/>
              <a:ext cx="432000" cy="50328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 flipH="1" flipV="1">
              <a:off x="5459040" y="2812680"/>
              <a:ext cx="431640" cy="144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 flipV="1">
              <a:off x="5530680" y="2741400"/>
              <a:ext cx="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5301360" y="2344680"/>
              <a:ext cx="79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6394320" y="360504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 flipH="1">
              <a:off x="7186680" y="403704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 flipH="1">
              <a:off x="6754680" y="4037040"/>
              <a:ext cx="457200" cy="14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 flipH="1">
              <a:off x="6394320" y="403704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7475400" y="360504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4451400" y="411012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675400" y="3533760"/>
              <a:ext cx="0" cy="3160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7389000" y="2486880"/>
              <a:ext cx="79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66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6597000" y="3533040"/>
              <a:ext cx="79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7142040" y="3605040"/>
              <a:ext cx="128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3599640" y="2344680"/>
              <a:ext cx="79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 flipH="1">
              <a:off x="4668480" y="1878120"/>
              <a:ext cx="358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 flipH="1">
              <a:off x="4236840" y="1878120"/>
              <a:ext cx="431640" cy="1429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 flipH="1">
              <a:off x="3731760" y="1878120"/>
              <a:ext cx="50508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 flipH="1" flipV="1">
              <a:off x="6754680" y="3460320"/>
              <a:ext cx="4320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 flipV="1">
              <a:off x="6826320" y="338904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6970680" y="2706840"/>
              <a:ext cx="432000" cy="504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5027760" y="3605040"/>
              <a:ext cx="50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5891040" y="3605040"/>
              <a:ext cx="93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7691400" y="3317760"/>
              <a:ext cx="432000" cy="503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6943680" y="172044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K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7571520" y="3701160"/>
              <a:ext cx="79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6178680" y="136368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 flipH="1" flipV="1">
              <a:off x="5459040" y="1723680"/>
              <a:ext cx="431640" cy="1443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 flipV="1">
              <a:off x="5530680" y="1652400"/>
              <a:ext cx="0" cy="21564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 flipH="1" flipV="1">
              <a:off x="5459040" y="3460320"/>
              <a:ext cx="4316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 flipV="1">
              <a:off x="5530680" y="338904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 flipH="1">
              <a:off x="4668480" y="238140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 flipH="1">
              <a:off x="4236840" y="2381400"/>
              <a:ext cx="4316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 flipH="1">
              <a:off x="3731760" y="2381400"/>
              <a:ext cx="5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3732120" y="1335240"/>
              <a:ext cx="0" cy="104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3704040" y="186408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K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6696000" y="4051080"/>
              <a:ext cx="79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5854680" y="3749760"/>
              <a:ext cx="0" cy="1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 flipH="1">
              <a:off x="5505480" y="3854520"/>
              <a:ext cx="34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 flipV="1">
              <a:off x="5505480" y="3749400"/>
              <a:ext cx="0" cy="1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4992840" y="1830240"/>
              <a:ext cx="71280" cy="73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5675400" y="38862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6132600" y="1335240"/>
              <a:ext cx="73080" cy="74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4989600" y="2935440"/>
              <a:ext cx="73080" cy="74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6361200" y="3544920"/>
              <a:ext cx="73080" cy="74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7427880" y="3544920"/>
              <a:ext cx="73080" cy="74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8375760" y="2935440"/>
              <a:ext cx="73080" cy="74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8375760" y="2325600"/>
              <a:ext cx="73080" cy="748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8375760" y="1335240"/>
              <a:ext cx="73080" cy="74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4989600" y="1335240"/>
              <a:ext cx="71280" cy="727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6969240" y="2165040"/>
              <a:ext cx="455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</a:rPr>
                <a:t>通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7659720" y="3399840"/>
              <a:ext cx="455760" cy="299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断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6" name=""/>
            <p:cNvGrpSpPr/>
            <p:nvPr/>
          </p:nvGrpSpPr>
          <p:grpSpPr>
            <a:xfrm>
              <a:off x="4154040" y="1180800"/>
              <a:ext cx="1753200" cy="2514960"/>
              <a:chOff x="4154040" y="1180800"/>
              <a:chExt cx="1753200" cy="2514960"/>
            </a:xfrm>
          </p:grpSpPr>
          <p:sp>
            <p:nvSpPr>
              <p:cNvPr id="5297" name=""/>
              <p:cNvSpPr/>
              <p:nvPr/>
            </p:nvSpPr>
            <p:spPr>
              <a:xfrm flipH="1" flipV="1">
                <a:off x="4154040" y="1180800"/>
                <a:ext cx="304920" cy="381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 flipV="1">
                <a:off x="5526000" y="3391200"/>
                <a:ext cx="3812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9" name=""/>
            <p:cNvSpPr/>
            <p:nvPr/>
          </p:nvSpPr>
          <p:spPr>
            <a:xfrm>
              <a:off x="1557360" y="83808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1946160" y="133020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1" name=""/>
          <p:cNvSpPr/>
          <p:nvPr/>
        </p:nvSpPr>
        <p:spPr>
          <a:xfrm>
            <a:off x="7848720" y="1066680"/>
            <a:ext cx="1218960" cy="762120"/>
          </a:xfrm>
          <a:prstGeom prst="wedgeRoundRectCallout">
            <a:avLst>
              <a:gd name="adj1" fmla="val -94009"/>
              <a:gd name="adj2" fmla="val 75000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通电延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继电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2" name=""/>
          <p:cNvSpPr/>
          <p:nvPr/>
        </p:nvSpPr>
        <p:spPr>
          <a:xfrm>
            <a:off x="4313160" y="76320"/>
            <a:ext cx="1096920" cy="685800"/>
          </a:xfrm>
          <a:prstGeom prst="wedgeRoundRectCallout">
            <a:avLst>
              <a:gd name="adj1" fmla="val 73152"/>
              <a:gd name="adj2" fmla="val 78009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通电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时断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3" name=""/>
          <p:cNvSpPr/>
          <p:nvPr/>
        </p:nvSpPr>
        <p:spPr>
          <a:xfrm>
            <a:off x="1108080" y="5027400"/>
            <a:ext cx="140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断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4" name=""/>
          <p:cNvSpPr/>
          <p:nvPr/>
        </p:nvSpPr>
        <p:spPr>
          <a:xfrm>
            <a:off x="3173040" y="4752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开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5" name=""/>
          <p:cNvSpPr/>
          <p:nvPr/>
        </p:nvSpPr>
        <p:spPr>
          <a:xfrm>
            <a:off x="3172680" y="5257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闭闭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6" name=""/>
          <p:cNvSpPr/>
          <p:nvPr/>
        </p:nvSpPr>
        <p:spPr>
          <a:xfrm>
            <a:off x="304920" y="403812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当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KT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常闭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点延时断开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7" name=""/>
          <p:cNvSpPr/>
          <p:nvPr/>
        </p:nvSpPr>
        <p:spPr>
          <a:xfrm flipV="1">
            <a:off x="5519880" y="1066320"/>
            <a:ext cx="380880" cy="304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8" name=""/>
          <p:cNvSpPr/>
          <p:nvPr/>
        </p:nvSpPr>
        <p:spPr>
          <a:xfrm>
            <a:off x="6869160" y="1176480"/>
            <a:ext cx="455400" cy="326880"/>
          </a:xfrm>
          <a:prstGeom prst="rect">
            <a:avLst/>
          </a:prstGeom>
          <a:solidFill>
            <a:srgbClr val="006666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断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9" name=""/>
          <p:cNvSpPr/>
          <p:nvPr/>
        </p:nvSpPr>
        <p:spPr>
          <a:xfrm>
            <a:off x="2666880" y="49528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0" name=""/>
          <p:cNvSpPr/>
          <p:nvPr/>
        </p:nvSpPr>
        <p:spPr>
          <a:xfrm flipH="1" flipV="1">
            <a:off x="4303800" y="2244240"/>
            <a:ext cx="304560" cy="381240"/>
          </a:xfrm>
          <a:prstGeom prst="line">
            <a:avLst/>
          </a:prstGeom>
          <a:ln w="38160">
            <a:solidFill>
              <a:srgbClr val="ccdc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"/>
          <p:cNvSpPr/>
          <p:nvPr/>
        </p:nvSpPr>
        <p:spPr>
          <a:xfrm flipV="1">
            <a:off x="6823080" y="3397320"/>
            <a:ext cx="380880" cy="304560"/>
          </a:xfrm>
          <a:prstGeom prst="line">
            <a:avLst/>
          </a:prstGeom>
          <a:ln w="38160">
            <a:solidFill>
              <a:srgbClr val="ccdc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2" name=""/>
          <p:cNvGrpSpPr/>
          <p:nvPr/>
        </p:nvGrpSpPr>
        <p:grpSpPr>
          <a:xfrm>
            <a:off x="4148280" y="1179000"/>
            <a:ext cx="1752480" cy="2518200"/>
            <a:chOff x="4148280" y="1179000"/>
            <a:chExt cx="1752480" cy="2518200"/>
          </a:xfrm>
        </p:grpSpPr>
        <p:sp>
          <p:nvSpPr>
            <p:cNvPr id="5313" name=""/>
            <p:cNvSpPr/>
            <p:nvPr/>
          </p:nvSpPr>
          <p:spPr>
            <a:xfrm flipH="1" flipV="1">
              <a:off x="4148280" y="1179000"/>
              <a:ext cx="304560" cy="381240"/>
            </a:xfrm>
            <a:prstGeom prst="line">
              <a:avLst/>
            </a:prstGeom>
            <a:ln w="38160">
              <a:solidFill>
                <a:srgbClr val="aec7f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 flipV="1">
              <a:off x="5519880" y="3392640"/>
              <a:ext cx="380880" cy="304560"/>
            </a:xfrm>
            <a:prstGeom prst="line">
              <a:avLst/>
            </a:prstGeom>
            <a:ln w="38160">
              <a:solidFill>
                <a:srgbClr val="ccdc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5" name=""/>
          <p:cNvSpPr/>
          <p:nvPr/>
        </p:nvSpPr>
        <p:spPr>
          <a:xfrm>
            <a:off x="5791320" y="4343400"/>
            <a:ext cx="914400" cy="762120"/>
          </a:xfrm>
          <a:prstGeom prst="wedgeRoundRectCallout">
            <a:avLst>
              <a:gd name="adj1" fmla="val -75175"/>
              <a:gd name="adj2" fmla="val -155208"/>
              <a:gd name="adj3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复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6" name=""/>
          <p:cNvSpPr/>
          <p:nvPr/>
        </p:nvSpPr>
        <p:spPr>
          <a:xfrm>
            <a:off x="489960" y="2578320"/>
            <a:ext cx="261576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接通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绕组</a:t>
            </a:r>
            <a:r>
              <a:rPr b="1" lang="zh-CN" sz="2800" spc="-1" strike="noStrike">
                <a:solidFill>
                  <a:srgbClr val="006600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联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绕组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联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 flipV="1">
            <a:off x="5526000" y="1599840"/>
            <a:ext cx="38124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6892920" y="1174320"/>
            <a:ext cx="455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通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"/>
          <p:cNvSpPr/>
          <p:nvPr/>
        </p:nvSpPr>
        <p:spPr>
          <a:xfrm>
            <a:off x="6969240" y="2774520"/>
            <a:ext cx="455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通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"/>
          <p:cNvSpPr/>
          <p:nvPr/>
        </p:nvSpPr>
        <p:spPr>
          <a:xfrm flipH="1" flipV="1">
            <a:off x="2866680" y="1157040"/>
            <a:ext cx="36036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1" name=""/>
          <p:cNvSpPr/>
          <p:nvPr/>
        </p:nvSpPr>
        <p:spPr>
          <a:xfrm flipV="1">
            <a:off x="2938320" y="11570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2" name=""/>
          <p:cNvSpPr/>
          <p:nvPr/>
        </p:nvSpPr>
        <p:spPr>
          <a:xfrm>
            <a:off x="3083040" y="13017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"/>
          <p:cNvSpPr/>
          <p:nvPr/>
        </p:nvSpPr>
        <p:spPr>
          <a:xfrm>
            <a:off x="3227400" y="151776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"/>
          <p:cNvSpPr/>
          <p:nvPr/>
        </p:nvSpPr>
        <p:spPr>
          <a:xfrm flipH="1">
            <a:off x="2937960" y="15890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"/>
          <p:cNvSpPr/>
          <p:nvPr/>
        </p:nvSpPr>
        <p:spPr>
          <a:xfrm flipV="1">
            <a:off x="2938320" y="151776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"/>
          <p:cNvSpPr/>
          <p:nvPr/>
        </p:nvSpPr>
        <p:spPr>
          <a:xfrm>
            <a:off x="2785320" y="681840"/>
            <a:ext cx="718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>
            <a:off x="2651040" y="365040"/>
            <a:ext cx="575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"/>
          <p:cNvSpPr/>
          <p:nvPr/>
        </p:nvSpPr>
        <p:spPr>
          <a:xfrm>
            <a:off x="2017800" y="1373040"/>
            <a:ext cx="92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9" name=""/>
          <p:cNvSpPr/>
          <p:nvPr/>
        </p:nvSpPr>
        <p:spPr>
          <a:xfrm>
            <a:off x="3227400" y="137304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0" name=""/>
          <p:cNvSpPr/>
          <p:nvPr/>
        </p:nvSpPr>
        <p:spPr>
          <a:xfrm>
            <a:off x="1636560" y="878040"/>
            <a:ext cx="10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 flipV="1">
            <a:off x="2651040" y="37260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>
            <a:off x="8410680" y="365040"/>
            <a:ext cx="0" cy="32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>
            <a:off x="3820320" y="833400"/>
            <a:ext cx="718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>
            <a:off x="5371920" y="7646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"/>
          <p:cNvSpPr/>
          <p:nvPr/>
        </p:nvSpPr>
        <p:spPr>
          <a:xfrm>
            <a:off x="7331040" y="13539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6" name=""/>
          <p:cNvSpPr/>
          <p:nvPr/>
        </p:nvSpPr>
        <p:spPr>
          <a:xfrm>
            <a:off x="4738680" y="13539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"/>
          <p:cNvSpPr/>
          <p:nvPr/>
        </p:nvSpPr>
        <p:spPr>
          <a:xfrm flipH="1">
            <a:off x="4138560" y="1353960"/>
            <a:ext cx="649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>
            <a:off x="4459320" y="14493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9" name=""/>
          <p:cNvGrpSpPr/>
          <p:nvPr/>
        </p:nvGrpSpPr>
        <p:grpSpPr>
          <a:xfrm>
            <a:off x="4294080" y="1569600"/>
            <a:ext cx="349200" cy="105120"/>
            <a:chOff x="4294080" y="1569600"/>
            <a:chExt cx="349200" cy="105120"/>
          </a:xfrm>
        </p:grpSpPr>
        <p:sp>
          <p:nvSpPr>
            <p:cNvPr id="5340" name=""/>
            <p:cNvSpPr/>
            <p:nvPr/>
          </p:nvSpPr>
          <p:spPr>
            <a:xfrm>
              <a:off x="4643280" y="1569960"/>
              <a:ext cx="0" cy="1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 flipH="1">
              <a:off x="4294080" y="1674360"/>
              <a:ext cx="34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 flipV="1">
              <a:off x="4294080" y="1569600"/>
              <a:ext cx="0" cy="1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3" name=""/>
          <p:cNvSpPr/>
          <p:nvPr/>
        </p:nvSpPr>
        <p:spPr>
          <a:xfrm>
            <a:off x="6725520" y="623160"/>
            <a:ext cx="79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 flipH="1" flipV="1">
            <a:off x="5459040" y="1209240"/>
            <a:ext cx="4316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"/>
          <p:cNvSpPr/>
          <p:nvPr/>
        </p:nvSpPr>
        <p:spPr>
          <a:xfrm flipV="1">
            <a:off x="5530680" y="11379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6" name=""/>
          <p:cNvGrpSpPr/>
          <p:nvPr/>
        </p:nvGrpSpPr>
        <p:grpSpPr>
          <a:xfrm>
            <a:off x="5603760" y="1282680"/>
            <a:ext cx="216000" cy="287280"/>
            <a:chOff x="5603760" y="1282680"/>
            <a:chExt cx="216000" cy="287280"/>
          </a:xfrm>
        </p:grpSpPr>
        <p:grpSp>
          <p:nvGrpSpPr>
            <p:cNvPr id="5347" name=""/>
            <p:cNvGrpSpPr/>
            <p:nvPr/>
          </p:nvGrpSpPr>
          <p:grpSpPr>
            <a:xfrm>
              <a:off x="5676120" y="1282680"/>
              <a:ext cx="72000" cy="287280"/>
              <a:chOff x="5676120" y="1282680"/>
              <a:chExt cx="72000" cy="287280"/>
            </a:xfrm>
          </p:grpSpPr>
          <p:sp>
            <p:nvSpPr>
              <p:cNvPr id="5348" name=""/>
              <p:cNvSpPr/>
              <p:nvPr/>
            </p:nvSpPr>
            <p:spPr>
              <a:xfrm flipV="1">
                <a:off x="5748120" y="128268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 flipV="1">
                <a:off x="5676120" y="128268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0" name=""/>
            <p:cNvSpPr/>
            <p:nvPr/>
          </p:nvSpPr>
          <p:spPr>
            <a:xfrm flipH="1" flipV="1">
              <a:off x="5603760" y="1497960"/>
              <a:ext cx="216000" cy="71640"/>
            </a:xfrm>
            <a:custGeom>
              <a:avLst/>
              <a:gdLst/>
              <a:ahLst/>
              <a:rect l="l" t="t" r="r" b="b"/>
              <a:pathLst>
                <a:path w="577" h="263">
                  <a:moveTo>
                    <a:pt x="0" y="197"/>
                  </a:moveTo>
                  <a:cubicBezTo>
                    <a:pt x="43" y="154"/>
                    <a:pt x="77" y="112"/>
                    <a:pt x="128" y="77"/>
                  </a:cubicBezTo>
                  <a:cubicBezTo>
                    <a:pt x="156" y="34"/>
                    <a:pt x="136" y="57"/>
                    <a:pt x="197" y="17"/>
                  </a:cubicBezTo>
                  <a:cubicBezTo>
                    <a:pt x="212" y="7"/>
                    <a:pt x="248" y="0"/>
                    <a:pt x="248" y="0"/>
                  </a:cubicBezTo>
                  <a:cubicBezTo>
                    <a:pt x="315" y="6"/>
                    <a:pt x="323" y="4"/>
                    <a:pt x="377" y="17"/>
                  </a:cubicBezTo>
                  <a:cubicBezTo>
                    <a:pt x="403" y="23"/>
                    <a:pt x="454" y="43"/>
                    <a:pt x="454" y="43"/>
                  </a:cubicBezTo>
                  <a:cubicBezTo>
                    <a:pt x="471" y="69"/>
                    <a:pt x="488" y="95"/>
                    <a:pt x="505" y="120"/>
                  </a:cubicBezTo>
                  <a:cubicBezTo>
                    <a:pt x="511" y="128"/>
                    <a:pt x="523" y="145"/>
                    <a:pt x="523" y="145"/>
                  </a:cubicBezTo>
                  <a:cubicBezTo>
                    <a:pt x="548" y="228"/>
                    <a:pt x="510" y="110"/>
                    <a:pt x="548" y="197"/>
                  </a:cubicBezTo>
                  <a:cubicBezTo>
                    <a:pt x="577" y="263"/>
                    <a:pt x="550" y="233"/>
                    <a:pt x="574" y="25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1" name=""/>
          <p:cNvSpPr/>
          <p:nvPr/>
        </p:nvSpPr>
        <p:spPr>
          <a:xfrm>
            <a:off x="5891040" y="1353960"/>
            <a:ext cx="10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2" name=""/>
          <p:cNvSpPr/>
          <p:nvPr/>
        </p:nvSpPr>
        <p:spPr>
          <a:xfrm>
            <a:off x="6899400" y="1100160"/>
            <a:ext cx="43164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3" name=""/>
          <p:cNvSpPr/>
          <p:nvPr/>
        </p:nvSpPr>
        <p:spPr>
          <a:xfrm>
            <a:off x="3693960" y="1335240"/>
            <a:ext cx="71640" cy="727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4" name=""/>
          <p:cNvSpPr/>
          <p:nvPr/>
        </p:nvSpPr>
        <p:spPr>
          <a:xfrm>
            <a:off x="4989600" y="2343240"/>
            <a:ext cx="7308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5" name=""/>
          <p:cNvSpPr/>
          <p:nvPr/>
        </p:nvSpPr>
        <p:spPr>
          <a:xfrm>
            <a:off x="4451400" y="1733400"/>
            <a:ext cx="0" cy="2376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5027760" y="137304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"/>
          <p:cNvSpPr/>
          <p:nvPr/>
        </p:nvSpPr>
        <p:spPr>
          <a:xfrm>
            <a:off x="5027760" y="2381400"/>
            <a:ext cx="338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8" name=""/>
          <p:cNvSpPr/>
          <p:nvPr/>
        </p:nvSpPr>
        <p:spPr>
          <a:xfrm flipH="1">
            <a:off x="5890680" y="18684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"/>
          <p:cNvSpPr/>
          <p:nvPr/>
        </p:nvSpPr>
        <p:spPr>
          <a:xfrm flipH="1">
            <a:off x="5027400" y="1868400"/>
            <a:ext cx="50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0" name=""/>
          <p:cNvSpPr/>
          <p:nvPr/>
        </p:nvSpPr>
        <p:spPr>
          <a:xfrm>
            <a:off x="5027760" y="2957400"/>
            <a:ext cx="50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1" name=""/>
          <p:cNvSpPr/>
          <p:nvPr/>
        </p:nvSpPr>
        <p:spPr>
          <a:xfrm>
            <a:off x="5891040" y="295740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2" name=""/>
          <p:cNvSpPr/>
          <p:nvPr/>
        </p:nvSpPr>
        <p:spPr>
          <a:xfrm>
            <a:off x="7402680" y="295740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3" name=""/>
          <p:cNvSpPr/>
          <p:nvPr/>
        </p:nvSpPr>
        <p:spPr>
          <a:xfrm>
            <a:off x="5330160" y="1766160"/>
            <a:ext cx="79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KM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4" name=""/>
          <p:cNvSpPr/>
          <p:nvPr/>
        </p:nvSpPr>
        <p:spPr>
          <a:xfrm>
            <a:off x="6970680" y="2125800"/>
            <a:ext cx="432000" cy="50328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5" name=""/>
          <p:cNvSpPr/>
          <p:nvPr/>
        </p:nvSpPr>
        <p:spPr>
          <a:xfrm flipH="1" flipV="1">
            <a:off x="5459040" y="2812680"/>
            <a:ext cx="431640" cy="144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6" name=""/>
          <p:cNvSpPr/>
          <p:nvPr/>
        </p:nvSpPr>
        <p:spPr>
          <a:xfrm flipV="1">
            <a:off x="5530680" y="2741400"/>
            <a:ext cx="0" cy="215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7" name=""/>
          <p:cNvSpPr/>
          <p:nvPr/>
        </p:nvSpPr>
        <p:spPr>
          <a:xfrm>
            <a:off x="5301360" y="2344680"/>
            <a:ext cx="79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M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8" name=""/>
          <p:cNvSpPr/>
          <p:nvPr/>
        </p:nvSpPr>
        <p:spPr>
          <a:xfrm>
            <a:off x="6394320" y="36050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9" name=""/>
          <p:cNvSpPr/>
          <p:nvPr/>
        </p:nvSpPr>
        <p:spPr>
          <a:xfrm flipH="1">
            <a:off x="7186680" y="403704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0" name=""/>
          <p:cNvSpPr/>
          <p:nvPr/>
        </p:nvSpPr>
        <p:spPr>
          <a:xfrm flipH="1">
            <a:off x="6754680" y="4037040"/>
            <a:ext cx="45720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1" name=""/>
          <p:cNvSpPr/>
          <p:nvPr/>
        </p:nvSpPr>
        <p:spPr>
          <a:xfrm flipH="1">
            <a:off x="6394320" y="40370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2" name=""/>
          <p:cNvSpPr/>
          <p:nvPr/>
        </p:nvSpPr>
        <p:spPr>
          <a:xfrm>
            <a:off x="7475400" y="36050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3" name=""/>
          <p:cNvSpPr/>
          <p:nvPr/>
        </p:nvSpPr>
        <p:spPr>
          <a:xfrm>
            <a:off x="4451400" y="41101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"/>
          <p:cNvSpPr/>
          <p:nvPr/>
        </p:nvSpPr>
        <p:spPr>
          <a:xfrm>
            <a:off x="5675400" y="3533760"/>
            <a:ext cx="0" cy="316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5" name=""/>
          <p:cNvSpPr/>
          <p:nvPr/>
        </p:nvSpPr>
        <p:spPr>
          <a:xfrm>
            <a:off x="7389000" y="2486880"/>
            <a:ext cx="79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KM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6" name=""/>
          <p:cNvSpPr/>
          <p:nvPr/>
        </p:nvSpPr>
        <p:spPr>
          <a:xfrm>
            <a:off x="6597000" y="3533040"/>
            <a:ext cx="79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7" name=""/>
          <p:cNvSpPr/>
          <p:nvPr/>
        </p:nvSpPr>
        <p:spPr>
          <a:xfrm>
            <a:off x="7142040" y="3605040"/>
            <a:ext cx="1287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>
            <a:off x="3599640" y="2344680"/>
            <a:ext cx="79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9" name=""/>
          <p:cNvSpPr/>
          <p:nvPr/>
        </p:nvSpPr>
        <p:spPr>
          <a:xfrm flipH="1">
            <a:off x="4668480" y="1878120"/>
            <a:ext cx="358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0" name=""/>
          <p:cNvSpPr/>
          <p:nvPr/>
        </p:nvSpPr>
        <p:spPr>
          <a:xfrm flipH="1">
            <a:off x="4236840" y="1878120"/>
            <a:ext cx="43164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1" name=""/>
          <p:cNvSpPr/>
          <p:nvPr/>
        </p:nvSpPr>
        <p:spPr>
          <a:xfrm flipH="1">
            <a:off x="3731760" y="1878120"/>
            <a:ext cx="5050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2" name=""/>
          <p:cNvSpPr/>
          <p:nvPr/>
        </p:nvSpPr>
        <p:spPr>
          <a:xfrm flipH="1" flipV="1">
            <a:off x="6754680" y="3460320"/>
            <a:ext cx="4320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3" name=""/>
          <p:cNvSpPr/>
          <p:nvPr/>
        </p:nvSpPr>
        <p:spPr>
          <a:xfrm flipV="1">
            <a:off x="6826320" y="33890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4" name=""/>
          <p:cNvSpPr/>
          <p:nvPr/>
        </p:nvSpPr>
        <p:spPr>
          <a:xfrm>
            <a:off x="6970680" y="2706840"/>
            <a:ext cx="432000" cy="504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5" name=""/>
          <p:cNvSpPr/>
          <p:nvPr/>
        </p:nvSpPr>
        <p:spPr>
          <a:xfrm>
            <a:off x="5027760" y="3605040"/>
            <a:ext cx="50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6" name=""/>
          <p:cNvSpPr/>
          <p:nvPr/>
        </p:nvSpPr>
        <p:spPr>
          <a:xfrm>
            <a:off x="5891040" y="360504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7" name=""/>
          <p:cNvSpPr/>
          <p:nvPr/>
        </p:nvSpPr>
        <p:spPr>
          <a:xfrm>
            <a:off x="7691400" y="3317760"/>
            <a:ext cx="43200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8" name=""/>
          <p:cNvSpPr/>
          <p:nvPr/>
        </p:nvSpPr>
        <p:spPr>
          <a:xfrm>
            <a:off x="6943680" y="17204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9" name=""/>
          <p:cNvSpPr/>
          <p:nvPr/>
        </p:nvSpPr>
        <p:spPr>
          <a:xfrm>
            <a:off x="7571520" y="3701160"/>
            <a:ext cx="79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M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0" name=""/>
          <p:cNvSpPr/>
          <p:nvPr/>
        </p:nvSpPr>
        <p:spPr>
          <a:xfrm>
            <a:off x="6178680" y="13636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1" name=""/>
          <p:cNvSpPr/>
          <p:nvPr/>
        </p:nvSpPr>
        <p:spPr>
          <a:xfrm flipH="1" flipV="1">
            <a:off x="5459040" y="1723680"/>
            <a:ext cx="431640" cy="1443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2" name=""/>
          <p:cNvSpPr/>
          <p:nvPr/>
        </p:nvSpPr>
        <p:spPr>
          <a:xfrm flipV="1">
            <a:off x="5530680" y="1652400"/>
            <a:ext cx="0" cy="21564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3" name=""/>
          <p:cNvSpPr/>
          <p:nvPr/>
        </p:nvSpPr>
        <p:spPr>
          <a:xfrm flipH="1" flipV="1">
            <a:off x="5459040" y="3460320"/>
            <a:ext cx="4316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"/>
          <p:cNvSpPr/>
          <p:nvPr/>
        </p:nvSpPr>
        <p:spPr>
          <a:xfrm flipV="1">
            <a:off x="5530680" y="33890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"/>
          <p:cNvSpPr/>
          <p:nvPr/>
        </p:nvSpPr>
        <p:spPr>
          <a:xfrm flipH="1">
            <a:off x="4668480" y="238140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6" name=""/>
          <p:cNvSpPr/>
          <p:nvPr/>
        </p:nvSpPr>
        <p:spPr>
          <a:xfrm flipH="1">
            <a:off x="4236840" y="2381400"/>
            <a:ext cx="4316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"/>
          <p:cNvSpPr/>
          <p:nvPr/>
        </p:nvSpPr>
        <p:spPr>
          <a:xfrm flipH="1">
            <a:off x="3731760" y="238140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"/>
          <p:cNvSpPr/>
          <p:nvPr/>
        </p:nvSpPr>
        <p:spPr>
          <a:xfrm>
            <a:off x="3732120" y="1335240"/>
            <a:ext cx="0" cy="10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>
            <a:off x="3704040" y="18640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6696000" y="4051080"/>
            <a:ext cx="79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M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>
            <a:off x="5854680" y="3749760"/>
            <a:ext cx="0" cy="1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 flipH="1">
            <a:off x="5505480" y="3854520"/>
            <a:ext cx="34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 flipV="1">
            <a:off x="5505480" y="3749400"/>
            <a:ext cx="0" cy="1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4992840" y="1830240"/>
            <a:ext cx="71280" cy="730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>
            <a:off x="5675400" y="3886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>
            <a:off x="6132600" y="1335240"/>
            <a:ext cx="7308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4989600" y="2935440"/>
            <a:ext cx="7308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"/>
          <p:cNvSpPr/>
          <p:nvPr/>
        </p:nvSpPr>
        <p:spPr>
          <a:xfrm>
            <a:off x="6361200" y="3544920"/>
            <a:ext cx="7308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"/>
          <p:cNvSpPr/>
          <p:nvPr/>
        </p:nvSpPr>
        <p:spPr>
          <a:xfrm>
            <a:off x="7427880" y="3544920"/>
            <a:ext cx="7308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>
            <a:off x="8375760" y="2935440"/>
            <a:ext cx="7308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1" name=""/>
          <p:cNvSpPr/>
          <p:nvPr/>
        </p:nvSpPr>
        <p:spPr>
          <a:xfrm>
            <a:off x="8375760" y="2325600"/>
            <a:ext cx="7308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2" name=""/>
          <p:cNvSpPr/>
          <p:nvPr/>
        </p:nvSpPr>
        <p:spPr>
          <a:xfrm>
            <a:off x="8375760" y="1335240"/>
            <a:ext cx="7308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3" name=""/>
          <p:cNvSpPr/>
          <p:nvPr/>
        </p:nvSpPr>
        <p:spPr>
          <a:xfrm>
            <a:off x="4989600" y="1335240"/>
            <a:ext cx="71280" cy="727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"/>
          <p:cNvSpPr/>
          <p:nvPr/>
        </p:nvSpPr>
        <p:spPr>
          <a:xfrm>
            <a:off x="6969240" y="2165040"/>
            <a:ext cx="455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通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"/>
          <p:cNvSpPr/>
          <p:nvPr/>
        </p:nvSpPr>
        <p:spPr>
          <a:xfrm>
            <a:off x="7659720" y="3399840"/>
            <a:ext cx="455760" cy="29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断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6" name=""/>
          <p:cNvSpPr/>
          <p:nvPr/>
        </p:nvSpPr>
        <p:spPr>
          <a:xfrm>
            <a:off x="1557360" y="838080"/>
            <a:ext cx="76320" cy="76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"/>
          <p:cNvSpPr/>
          <p:nvPr/>
        </p:nvSpPr>
        <p:spPr>
          <a:xfrm>
            <a:off x="1946160" y="1330200"/>
            <a:ext cx="76320" cy="76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8" name=""/>
          <p:cNvSpPr/>
          <p:nvPr/>
        </p:nvSpPr>
        <p:spPr>
          <a:xfrm>
            <a:off x="7848720" y="1066680"/>
            <a:ext cx="1218960" cy="762120"/>
          </a:xfrm>
          <a:prstGeom prst="wedgeRoundRectCallout">
            <a:avLst>
              <a:gd name="adj1" fmla="val -94009"/>
              <a:gd name="adj2" fmla="val 75000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通电延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继电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"/>
          <p:cNvSpPr/>
          <p:nvPr/>
        </p:nvSpPr>
        <p:spPr>
          <a:xfrm>
            <a:off x="4313160" y="76320"/>
            <a:ext cx="1096920" cy="685800"/>
          </a:xfrm>
          <a:prstGeom prst="wedgeRoundRectCallout">
            <a:avLst>
              <a:gd name="adj1" fmla="val 73152"/>
              <a:gd name="adj2" fmla="val 78009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通电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时断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0" name=""/>
          <p:cNvSpPr/>
          <p:nvPr/>
        </p:nvSpPr>
        <p:spPr>
          <a:xfrm>
            <a:off x="4495680" y="4114800"/>
            <a:ext cx="990720" cy="762120"/>
          </a:xfrm>
          <a:prstGeom prst="wedgeRoundRectCallout">
            <a:avLst>
              <a:gd name="adj1" fmla="val 57532"/>
              <a:gd name="adj2" fmla="val -121458"/>
              <a:gd name="adj3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复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"/>
          <p:cNvSpPr/>
          <p:nvPr/>
        </p:nvSpPr>
        <p:spPr>
          <a:xfrm flipV="1">
            <a:off x="5519880" y="1066320"/>
            <a:ext cx="380880" cy="304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"/>
          <p:cNvSpPr/>
          <p:nvPr/>
        </p:nvSpPr>
        <p:spPr>
          <a:xfrm>
            <a:off x="6869160" y="1176480"/>
            <a:ext cx="455400" cy="326880"/>
          </a:xfrm>
          <a:prstGeom prst="rect">
            <a:avLst/>
          </a:prstGeom>
          <a:solidFill>
            <a:srgbClr val="006666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断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3" name=""/>
          <p:cNvGrpSpPr/>
          <p:nvPr/>
        </p:nvGrpSpPr>
        <p:grpSpPr>
          <a:xfrm>
            <a:off x="304920" y="4038120"/>
            <a:ext cx="3902400" cy="1739520"/>
            <a:chOff x="304920" y="4038120"/>
            <a:chExt cx="3902400" cy="1739520"/>
          </a:xfrm>
        </p:grpSpPr>
        <p:sp>
          <p:nvSpPr>
            <p:cNvPr id="5424" name=""/>
            <p:cNvSpPr/>
            <p:nvPr/>
          </p:nvSpPr>
          <p:spPr>
            <a:xfrm>
              <a:off x="1108080" y="5027400"/>
              <a:ext cx="140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断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3173040" y="4752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常开断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3172680" y="5257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常闭闭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304920" y="4038120"/>
              <a:ext cx="281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当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KT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常闭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点延时断开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2666880" y="4952880"/>
              <a:ext cx="228600" cy="762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9" name=""/>
          <p:cNvSpPr/>
          <p:nvPr/>
        </p:nvSpPr>
        <p:spPr>
          <a:xfrm>
            <a:off x="7686720" y="3352680"/>
            <a:ext cx="455400" cy="326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通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0" name=""/>
          <p:cNvSpPr/>
          <p:nvPr/>
        </p:nvSpPr>
        <p:spPr>
          <a:xfrm>
            <a:off x="6942240" y="2819520"/>
            <a:ext cx="455400" cy="326880"/>
          </a:xfrm>
          <a:prstGeom prst="rect">
            <a:avLst/>
          </a:prstGeom>
          <a:solidFill>
            <a:srgbClr val="0066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断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1" name=""/>
          <p:cNvGrpSpPr/>
          <p:nvPr/>
        </p:nvGrpSpPr>
        <p:grpSpPr>
          <a:xfrm>
            <a:off x="4419720" y="4922640"/>
            <a:ext cx="2104560" cy="579600"/>
            <a:chOff x="4419720" y="4922640"/>
            <a:chExt cx="2104560" cy="579600"/>
          </a:xfrm>
        </p:grpSpPr>
        <p:sp>
          <p:nvSpPr>
            <p:cNvPr id="5432" name=""/>
            <p:cNvSpPr/>
            <p:nvPr/>
          </p:nvSpPr>
          <p:spPr>
            <a:xfrm>
              <a:off x="4419720" y="5103720"/>
              <a:ext cx="609480" cy="234720"/>
            </a:xfrm>
            <a:prstGeom prst="rightArrow">
              <a:avLst>
                <a:gd name="adj1" fmla="val 50000"/>
                <a:gd name="adj2" fmla="val 64916"/>
              </a:avLst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lin ang="108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5116680" y="4922640"/>
              <a:ext cx="140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KM</a:t>
              </a:r>
              <a:r>
                <a:rPr b="1" lang="zh-CN" sz="28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通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4" name=""/>
          <p:cNvGrpSpPr/>
          <p:nvPr/>
        </p:nvGrpSpPr>
        <p:grpSpPr>
          <a:xfrm>
            <a:off x="6804000" y="5028480"/>
            <a:ext cx="1677600" cy="520560"/>
            <a:chOff x="6804000" y="5028480"/>
            <a:chExt cx="1677600" cy="520560"/>
          </a:xfrm>
        </p:grpSpPr>
        <p:sp>
          <p:nvSpPr>
            <p:cNvPr id="5435" name=""/>
            <p:cNvSpPr/>
            <p:nvPr/>
          </p:nvSpPr>
          <p:spPr>
            <a:xfrm>
              <a:off x="6804000" y="53355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7447320" y="50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常闭断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7" name=""/>
          <p:cNvSpPr/>
          <p:nvPr/>
        </p:nvSpPr>
        <p:spPr>
          <a:xfrm>
            <a:off x="6553080" y="480060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8" name=""/>
          <p:cNvGrpSpPr/>
          <p:nvPr/>
        </p:nvGrpSpPr>
        <p:grpSpPr>
          <a:xfrm>
            <a:off x="7318440" y="5486400"/>
            <a:ext cx="1407600" cy="854280"/>
            <a:chOff x="7318440" y="5486400"/>
            <a:chExt cx="1407600" cy="854280"/>
          </a:xfrm>
        </p:grpSpPr>
        <p:sp>
          <p:nvSpPr>
            <p:cNvPr id="5439" name=""/>
            <p:cNvSpPr/>
            <p:nvPr/>
          </p:nvSpPr>
          <p:spPr>
            <a:xfrm>
              <a:off x="7318440" y="5761080"/>
              <a:ext cx="140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断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7939080" y="5486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1" name=""/>
          <p:cNvGrpSpPr/>
          <p:nvPr/>
        </p:nvGrpSpPr>
        <p:grpSpPr>
          <a:xfrm>
            <a:off x="5168880" y="5576040"/>
            <a:ext cx="1707840" cy="520560"/>
            <a:chOff x="5168880" y="5576040"/>
            <a:chExt cx="1707840" cy="520560"/>
          </a:xfrm>
        </p:grpSpPr>
        <p:sp>
          <p:nvSpPr>
            <p:cNvPr id="5442" name=""/>
            <p:cNvSpPr/>
            <p:nvPr/>
          </p:nvSpPr>
          <p:spPr>
            <a:xfrm>
              <a:off x="5168880" y="5576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常闭闭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 flipH="1">
              <a:off x="6419520" y="5791320"/>
              <a:ext cx="457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4" name=""/>
          <p:cNvGrpSpPr/>
          <p:nvPr/>
        </p:nvGrpSpPr>
        <p:grpSpPr>
          <a:xfrm>
            <a:off x="6781680" y="4509360"/>
            <a:ext cx="1726200" cy="520560"/>
            <a:chOff x="6781680" y="4509360"/>
            <a:chExt cx="1726200" cy="520560"/>
          </a:xfrm>
        </p:grpSpPr>
        <p:sp>
          <p:nvSpPr>
            <p:cNvPr id="5445" name=""/>
            <p:cNvSpPr/>
            <p:nvPr/>
          </p:nvSpPr>
          <p:spPr>
            <a:xfrm>
              <a:off x="7376400" y="4509360"/>
              <a:ext cx="113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绕组</a:t>
              </a:r>
              <a:r>
                <a:rPr b="1" lang="zh-CN" sz="2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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 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6781680" y="4815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7" name=""/>
          <p:cNvSpPr/>
          <p:nvPr/>
        </p:nvSpPr>
        <p:spPr>
          <a:xfrm flipH="1">
            <a:off x="7010280" y="579132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8" name=""/>
          <p:cNvGrpSpPr/>
          <p:nvPr/>
        </p:nvGrpSpPr>
        <p:grpSpPr>
          <a:xfrm>
            <a:off x="5104440" y="6095160"/>
            <a:ext cx="1772280" cy="520560"/>
            <a:chOff x="5104440" y="6095160"/>
            <a:chExt cx="1772280" cy="520560"/>
          </a:xfrm>
        </p:grpSpPr>
        <p:sp>
          <p:nvSpPr>
            <p:cNvPr id="5449" name=""/>
            <p:cNvSpPr/>
            <p:nvPr/>
          </p:nvSpPr>
          <p:spPr>
            <a:xfrm>
              <a:off x="5104440" y="6095160"/>
              <a:ext cx="116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接断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 flipH="1">
              <a:off x="6419520" y="6310440"/>
              <a:ext cx="457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1" name=""/>
          <p:cNvSpPr/>
          <p:nvPr/>
        </p:nvSpPr>
        <p:spPr>
          <a:xfrm flipH="1" flipV="1">
            <a:off x="6857640" y="3809520"/>
            <a:ext cx="304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2" name=""/>
          <p:cNvSpPr/>
          <p:nvPr/>
        </p:nvSpPr>
        <p:spPr>
          <a:xfrm flipV="1">
            <a:off x="5562720" y="2742840"/>
            <a:ext cx="380880" cy="304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3" name=""/>
          <p:cNvSpPr/>
          <p:nvPr/>
        </p:nvSpPr>
        <p:spPr>
          <a:xfrm flipV="1">
            <a:off x="5527800" y="1596600"/>
            <a:ext cx="380880" cy="304920"/>
          </a:xfrm>
          <a:prstGeom prst="line">
            <a:avLst/>
          </a:prstGeom>
          <a:ln w="38160">
            <a:solidFill>
              <a:srgbClr val="aec7f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4" name=""/>
          <p:cNvSpPr/>
          <p:nvPr/>
        </p:nvSpPr>
        <p:spPr>
          <a:xfrm flipH="1" flipV="1">
            <a:off x="4230360" y="1714680"/>
            <a:ext cx="3049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5" name=""/>
          <p:cNvGrpSpPr/>
          <p:nvPr/>
        </p:nvGrpSpPr>
        <p:grpSpPr>
          <a:xfrm>
            <a:off x="304920" y="76320"/>
            <a:ext cx="8762760" cy="6539400"/>
            <a:chOff x="304920" y="76320"/>
            <a:chExt cx="8762760" cy="6539400"/>
          </a:xfrm>
        </p:grpSpPr>
        <p:sp>
          <p:nvSpPr>
            <p:cNvPr id="5456" name=""/>
            <p:cNvSpPr/>
            <p:nvPr/>
          </p:nvSpPr>
          <p:spPr>
            <a:xfrm>
              <a:off x="489960" y="2578320"/>
              <a:ext cx="261576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KM</a:t>
              </a:r>
              <a:r>
                <a:rPr b="1" lang="zh-CN" sz="28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接通电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KM</a:t>
              </a:r>
              <a:r>
                <a:rPr b="1" lang="zh-CN" sz="2800" spc="-1" strike="noStrike" baseline="-25000">
                  <a:solidFill>
                    <a:srgbClr val="0066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—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绕组</a:t>
              </a:r>
              <a:r>
                <a:rPr b="1" lang="zh-CN" sz="2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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联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—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绕组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联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6892920" y="1174320"/>
              <a:ext cx="4557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通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6969240" y="2774520"/>
              <a:ext cx="455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通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 flipH="1" flipV="1">
              <a:off x="2866680" y="1157040"/>
              <a:ext cx="36036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 flipV="1">
              <a:off x="2938320" y="115704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3083040" y="13017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3227400" y="1517760"/>
              <a:ext cx="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 flipH="1">
              <a:off x="2937960" y="1589040"/>
              <a:ext cx="28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 flipV="1">
              <a:off x="2938320" y="1517760"/>
              <a:ext cx="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2785320" y="68184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2651040" y="365040"/>
              <a:ext cx="575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2017800" y="1373040"/>
              <a:ext cx="92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3227400" y="1373040"/>
              <a:ext cx="93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1636560" y="878040"/>
              <a:ext cx="101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 flipV="1">
              <a:off x="2651040" y="372600"/>
              <a:ext cx="0" cy="50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8410680" y="365040"/>
              <a:ext cx="0" cy="324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3820320" y="83340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5371920" y="76464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K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7331040" y="135396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4738680" y="135396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 flipH="1">
              <a:off x="4138560" y="1353960"/>
              <a:ext cx="64944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4459320" y="1449360"/>
              <a:ext cx="0" cy="1922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78" name=""/>
            <p:cNvGrpSpPr/>
            <p:nvPr/>
          </p:nvGrpSpPr>
          <p:grpSpPr>
            <a:xfrm>
              <a:off x="4294080" y="1569600"/>
              <a:ext cx="349200" cy="105120"/>
              <a:chOff x="4294080" y="1569600"/>
              <a:chExt cx="349200" cy="105120"/>
            </a:xfrm>
          </p:grpSpPr>
          <p:sp>
            <p:nvSpPr>
              <p:cNvPr id="5479" name=""/>
              <p:cNvSpPr/>
              <p:nvPr/>
            </p:nvSpPr>
            <p:spPr>
              <a:xfrm>
                <a:off x="4643280" y="1569960"/>
                <a:ext cx="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 flipH="1">
                <a:off x="4294080" y="1674360"/>
                <a:ext cx="34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 flipV="1">
                <a:off x="4294080" y="1569600"/>
                <a:ext cx="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2" name=""/>
            <p:cNvSpPr/>
            <p:nvPr/>
          </p:nvSpPr>
          <p:spPr>
            <a:xfrm>
              <a:off x="6725520" y="623160"/>
              <a:ext cx="79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 flipH="1" flipV="1">
              <a:off x="5459040" y="1209240"/>
              <a:ext cx="4316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 flipV="1">
              <a:off x="5530680" y="113796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5" name=""/>
            <p:cNvGrpSpPr/>
            <p:nvPr/>
          </p:nvGrpSpPr>
          <p:grpSpPr>
            <a:xfrm>
              <a:off x="5603760" y="1282680"/>
              <a:ext cx="216000" cy="287280"/>
              <a:chOff x="5603760" y="1282680"/>
              <a:chExt cx="216000" cy="287280"/>
            </a:xfrm>
          </p:grpSpPr>
          <p:grpSp>
            <p:nvGrpSpPr>
              <p:cNvPr id="5486" name=""/>
              <p:cNvGrpSpPr/>
              <p:nvPr/>
            </p:nvGrpSpPr>
            <p:grpSpPr>
              <a:xfrm>
                <a:off x="5676120" y="1282680"/>
                <a:ext cx="72000" cy="287280"/>
                <a:chOff x="5676120" y="1282680"/>
                <a:chExt cx="72000" cy="287280"/>
              </a:xfrm>
            </p:grpSpPr>
            <p:sp>
              <p:nvSpPr>
                <p:cNvPr id="5487" name=""/>
                <p:cNvSpPr/>
                <p:nvPr/>
              </p:nvSpPr>
              <p:spPr>
                <a:xfrm flipV="1">
                  <a:off x="5748120" y="1282680"/>
                  <a:ext cx="0" cy="28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8" name=""/>
                <p:cNvSpPr/>
                <p:nvPr/>
              </p:nvSpPr>
              <p:spPr>
                <a:xfrm flipV="1">
                  <a:off x="5676120" y="1282680"/>
                  <a:ext cx="0" cy="28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89" name=""/>
              <p:cNvSpPr/>
              <p:nvPr/>
            </p:nvSpPr>
            <p:spPr>
              <a:xfrm flipH="1" flipV="1">
                <a:off x="5603760" y="1497960"/>
                <a:ext cx="216000" cy="71640"/>
              </a:xfrm>
              <a:custGeom>
                <a:avLst/>
                <a:gdLst/>
                <a:ahLst/>
                <a:rect l="l" t="t" r="r" b="b"/>
                <a:pathLst>
                  <a:path w="577" h="263">
                    <a:moveTo>
                      <a:pt x="0" y="197"/>
                    </a:moveTo>
                    <a:cubicBezTo>
                      <a:pt x="43" y="154"/>
                      <a:pt x="77" y="112"/>
                      <a:pt x="128" y="77"/>
                    </a:cubicBezTo>
                    <a:cubicBezTo>
                      <a:pt x="156" y="34"/>
                      <a:pt x="136" y="57"/>
                      <a:pt x="197" y="17"/>
                    </a:cubicBezTo>
                    <a:cubicBezTo>
                      <a:pt x="212" y="7"/>
                      <a:pt x="248" y="0"/>
                      <a:pt x="248" y="0"/>
                    </a:cubicBezTo>
                    <a:cubicBezTo>
                      <a:pt x="315" y="6"/>
                      <a:pt x="323" y="4"/>
                      <a:pt x="377" y="17"/>
                    </a:cubicBezTo>
                    <a:cubicBezTo>
                      <a:pt x="403" y="23"/>
                      <a:pt x="454" y="43"/>
                      <a:pt x="454" y="43"/>
                    </a:cubicBezTo>
                    <a:cubicBezTo>
                      <a:pt x="471" y="69"/>
                      <a:pt x="488" y="95"/>
                      <a:pt x="505" y="120"/>
                    </a:cubicBezTo>
                    <a:cubicBezTo>
                      <a:pt x="511" y="128"/>
                      <a:pt x="523" y="145"/>
                      <a:pt x="523" y="145"/>
                    </a:cubicBezTo>
                    <a:cubicBezTo>
                      <a:pt x="548" y="228"/>
                      <a:pt x="510" y="110"/>
                      <a:pt x="548" y="197"/>
                    </a:cubicBezTo>
                    <a:cubicBezTo>
                      <a:pt x="577" y="263"/>
                      <a:pt x="550" y="233"/>
                      <a:pt x="574" y="25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0" name=""/>
            <p:cNvSpPr/>
            <p:nvPr/>
          </p:nvSpPr>
          <p:spPr>
            <a:xfrm>
              <a:off x="5891040" y="1353960"/>
              <a:ext cx="10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6899400" y="1100160"/>
              <a:ext cx="431640" cy="503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3693960" y="1335240"/>
              <a:ext cx="71640" cy="727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4989600" y="2343240"/>
              <a:ext cx="73080" cy="74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4451400" y="1733400"/>
              <a:ext cx="0" cy="2376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5027760" y="1373040"/>
              <a:ext cx="0" cy="22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5027760" y="2381400"/>
              <a:ext cx="338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 flipH="1">
              <a:off x="5890680" y="1868400"/>
              <a:ext cx="2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 flipH="1">
              <a:off x="5027400" y="1868400"/>
              <a:ext cx="50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5027760" y="2957400"/>
              <a:ext cx="50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5891040" y="295740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7402680" y="2957400"/>
              <a:ext cx="100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5330160" y="1766160"/>
              <a:ext cx="79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66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6970680" y="2125800"/>
              <a:ext cx="432000" cy="50328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 flipH="1" flipV="1">
              <a:off x="5459040" y="2812680"/>
              <a:ext cx="431640" cy="144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 flipV="1">
              <a:off x="5530680" y="2741400"/>
              <a:ext cx="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5301360" y="2344680"/>
              <a:ext cx="79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6394320" y="360504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 flipH="1">
              <a:off x="7186680" y="403704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 flipH="1">
              <a:off x="6754680" y="4037040"/>
              <a:ext cx="457200" cy="14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 flipH="1">
              <a:off x="6394320" y="403704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7475400" y="360504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4451400" y="411012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5675400" y="3533760"/>
              <a:ext cx="0" cy="3160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7389000" y="2486880"/>
              <a:ext cx="79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66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6597000" y="3533040"/>
              <a:ext cx="79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7142040" y="3605040"/>
              <a:ext cx="128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3599640" y="2344680"/>
              <a:ext cx="79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 flipH="1">
              <a:off x="4668480" y="1878120"/>
              <a:ext cx="358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 flipH="1">
              <a:off x="4236840" y="1878120"/>
              <a:ext cx="431640" cy="1429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 flipH="1">
              <a:off x="3731760" y="1878120"/>
              <a:ext cx="50508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 flipH="1" flipV="1">
              <a:off x="6754680" y="3460320"/>
              <a:ext cx="4320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 flipV="1">
              <a:off x="6826320" y="338904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6970680" y="2706840"/>
              <a:ext cx="432000" cy="504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5027760" y="3605040"/>
              <a:ext cx="50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5891040" y="3605040"/>
              <a:ext cx="93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7691400" y="3317760"/>
              <a:ext cx="432000" cy="503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943680" y="172044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K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7571520" y="3701160"/>
              <a:ext cx="79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6178680" y="136368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 flipH="1" flipV="1">
              <a:off x="5459040" y="1723680"/>
              <a:ext cx="431640" cy="1443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 flipV="1">
              <a:off x="5530680" y="1652400"/>
              <a:ext cx="0" cy="21564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 flipH="1" flipV="1">
              <a:off x="5459040" y="3460320"/>
              <a:ext cx="4316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 flipV="1">
              <a:off x="5530680" y="338904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 flipH="1">
              <a:off x="4668480" y="238140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 flipH="1">
              <a:off x="4236840" y="2381400"/>
              <a:ext cx="4316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 flipH="1">
              <a:off x="3731760" y="2381400"/>
              <a:ext cx="5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3732120" y="1335240"/>
              <a:ext cx="0" cy="104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3704040" y="186408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K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6696000" y="4051080"/>
              <a:ext cx="79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5854680" y="3749760"/>
              <a:ext cx="0" cy="1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 flipH="1">
              <a:off x="5505480" y="3854520"/>
              <a:ext cx="34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 flipV="1">
              <a:off x="5505480" y="3749400"/>
              <a:ext cx="0" cy="1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4992840" y="1830240"/>
              <a:ext cx="71280" cy="73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5675400" y="38862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6132600" y="1335240"/>
              <a:ext cx="73080" cy="74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4989600" y="2935440"/>
              <a:ext cx="73080" cy="74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6361200" y="3544920"/>
              <a:ext cx="73080" cy="74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7427880" y="3544920"/>
              <a:ext cx="73080" cy="74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8375760" y="2935440"/>
              <a:ext cx="73080" cy="74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8375760" y="2325600"/>
              <a:ext cx="73080" cy="748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8375760" y="1335240"/>
              <a:ext cx="73080" cy="74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4989600" y="1335240"/>
              <a:ext cx="71280" cy="727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6969240" y="2165040"/>
              <a:ext cx="455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</a:rPr>
                <a:t>通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7659720" y="3399840"/>
              <a:ext cx="455760" cy="299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断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1557360" y="83808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1946160" y="133020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7848720" y="1066680"/>
              <a:ext cx="1218960" cy="762120"/>
            </a:xfrm>
            <a:prstGeom prst="wedgeRoundRectCallout">
              <a:avLst>
                <a:gd name="adj1" fmla="val -94009"/>
                <a:gd name="adj2" fmla="val 75000"/>
                <a:gd name="adj3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通电延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继电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4313160" y="76320"/>
              <a:ext cx="1096920" cy="685800"/>
            </a:xfrm>
            <a:prstGeom prst="wedgeRoundRectCallout">
              <a:avLst>
                <a:gd name="adj1" fmla="val 73152"/>
                <a:gd name="adj2" fmla="val 78009"/>
                <a:gd name="adj3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通电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时断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4495680" y="4114800"/>
              <a:ext cx="990720" cy="762120"/>
            </a:xfrm>
            <a:prstGeom prst="wedgeRoundRectCallout">
              <a:avLst>
                <a:gd name="adj1" fmla="val 57532"/>
                <a:gd name="adj2" fmla="val -121458"/>
                <a:gd name="adj3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复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按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 flipV="1">
              <a:off x="5519880" y="1066320"/>
              <a:ext cx="380880" cy="304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1" name=""/>
            <p:cNvGrpSpPr/>
            <p:nvPr/>
          </p:nvGrpSpPr>
          <p:grpSpPr>
            <a:xfrm>
              <a:off x="304920" y="4038120"/>
              <a:ext cx="3902400" cy="1739520"/>
              <a:chOff x="304920" y="4038120"/>
              <a:chExt cx="3902400" cy="1739520"/>
            </a:xfrm>
          </p:grpSpPr>
          <p:sp>
            <p:nvSpPr>
              <p:cNvPr id="5562" name=""/>
              <p:cNvSpPr/>
              <p:nvPr/>
            </p:nvSpPr>
            <p:spPr>
              <a:xfrm>
                <a:off x="1108080" y="5027400"/>
                <a:ext cx="1407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断电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3173040" y="47523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常开断开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3172680" y="525708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常闭闭合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304920" y="4038120"/>
                <a:ext cx="28191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当 </a:t>
                </a: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KT </a:t>
                </a: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常闭触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点延时断开时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2666880" y="4952880"/>
                <a:ext cx="228600" cy="762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9800 h 762120"/>
                  <a:gd name="textAreaBottom" fmla="*/ 742320 h 76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7" name=""/>
            <p:cNvSpPr/>
            <p:nvPr/>
          </p:nvSpPr>
          <p:spPr>
            <a:xfrm>
              <a:off x="7686720" y="3352680"/>
              <a:ext cx="455400" cy="3268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</a:rPr>
                <a:t>通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6942240" y="2819520"/>
              <a:ext cx="455400" cy="326880"/>
            </a:xfrm>
            <a:prstGeom prst="rect">
              <a:avLst/>
            </a:prstGeom>
            <a:solidFill>
              <a:srgbClr val="006666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Times New Roman"/>
                </a:rPr>
                <a:t>断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9" name=""/>
            <p:cNvGrpSpPr/>
            <p:nvPr/>
          </p:nvGrpSpPr>
          <p:grpSpPr>
            <a:xfrm>
              <a:off x="4419720" y="4922640"/>
              <a:ext cx="2104560" cy="579600"/>
              <a:chOff x="4419720" y="4922640"/>
              <a:chExt cx="2104560" cy="579600"/>
            </a:xfrm>
          </p:grpSpPr>
          <p:sp>
            <p:nvSpPr>
              <p:cNvPr id="5570" name=""/>
              <p:cNvSpPr/>
              <p:nvPr/>
            </p:nvSpPr>
            <p:spPr>
              <a:xfrm>
                <a:off x="4419720" y="5103720"/>
                <a:ext cx="609480" cy="234720"/>
              </a:xfrm>
              <a:prstGeom prst="rightArrow">
                <a:avLst>
                  <a:gd name="adj1" fmla="val 50000"/>
                  <a:gd name="adj2" fmla="val 64916"/>
                </a:avLst>
              </a:prstGeom>
              <a:gradFill rotWithShape="0">
                <a:gsLst>
                  <a:gs pos="0">
                    <a:srgbClr val="004600"/>
                  </a:gs>
                  <a:gs pos="100000">
                    <a:srgbClr val="009900"/>
                  </a:gs>
                </a:gsLst>
                <a:lin ang="10800000"/>
              </a:gra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5116680" y="4922640"/>
                <a:ext cx="1407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KM</a:t>
                </a:r>
                <a:r>
                  <a:rPr b="1" lang="zh-CN" sz="2800" spc="-1" strike="noStrike" baseline="-25000">
                    <a:solidFill>
                      <a:srgbClr val="cc0000"/>
                    </a:solidFill>
                    <a:latin typeface="Times New Roman"/>
                  </a:rPr>
                  <a:t>2</a:t>
                </a: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通电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2" name=""/>
            <p:cNvGrpSpPr/>
            <p:nvPr/>
          </p:nvGrpSpPr>
          <p:grpSpPr>
            <a:xfrm>
              <a:off x="6804000" y="5028480"/>
              <a:ext cx="1677600" cy="520560"/>
              <a:chOff x="6804000" y="5028480"/>
              <a:chExt cx="1677600" cy="520560"/>
            </a:xfrm>
          </p:grpSpPr>
          <p:sp>
            <p:nvSpPr>
              <p:cNvPr id="5573" name=""/>
              <p:cNvSpPr/>
              <p:nvPr/>
            </p:nvSpPr>
            <p:spPr>
              <a:xfrm>
                <a:off x="6804000" y="53355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7447320" y="502848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常闭断开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5" name=""/>
            <p:cNvSpPr/>
            <p:nvPr/>
          </p:nvSpPr>
          <p:spPr>
            <a:xfrm>
              <a:off x="6553080" y="4800600"/>
              <a:ext cx="152640" cy="6094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6" name=""/>
            <p:cNvGrpSpPr/>
            <p:nvPr/>
          </p:nvGrpSpPr>
          <p:grpSpPr>
            <a:xfrm>
              <a:off x="7318440" y="5486400"/>
              <a:ext cx="1407600" cy="854280"/>
              <a:chOff x="7318440" y="5486400"/>
              <a:chExt cx="1407600" cy="854280"/>
            </a:xfrm>
          </p:grpSpPr>
          <p:sp>
            <p:nvSpPr>
              <p:cNvPr id="5577" name=""/>
              <p:cNvSpPr/>
              <p:nvPr/>
            </p:nvSpPr>
            <p:spPr>
              <a:xfrm>
                <a:off x="7318440" y="5761080"/>
                <a:ext cx="1407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断电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7939080" y="54864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9" name=""/>
            <p:cNvGrpSpPr/>
            <p:nvPr/>
          </p:nvGrpSpPr>
          <p:grpSpPr>
            <a:xfrm>
              <a:off x="5168880" y="5576040"/>
              <a:ext cx="1707840" cy="520560"/>
              <a:chOff x="5168880" y="5576040"/>
              <a:chExt cx="1707840" cy="520560"/>
            </a:xfrm>
          </p:grpSpPr>
          <p:sp>
            <p:nvSpPr>
              <p:cNvPr id="5580" name=""/>
              <p:cNvSpPr/>
              <p:nvPr/>
            </p:nvSpPr>
            <p:spPr>
              <a:xfrm>
                <a:off x="5168880" y="557604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常闭闭合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 flipH="1">
                <a:off x="6419520" y="5791320"/>
                <a:ext cx="4572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2" name=""/>
            <p:cNvGrpSpPr/>
            <p:nvPr/>
          </p:nvGrpSpPr>
          <p:grpSpPr>
            <a:xfrm>
              <a:off x="6781680" y="4509360"/>
              <a:ext cx="1726200" cy="520560"/>
              <a:chOff x="6781680" y="4509360"/>
              <a:chExt cx="1726200" cy="520560"/>
            </a:xfrm>
          </p:grpSpPr>
          <p:sp>
            <p:nvSpPr>
              <p:cNvPr id="5583" name=""/>
              <p:cNvSpPr/>
              <p:nvPr/>
            </p:nvSpPr>
            <p:spPr>
              <a:xfrm>
                <a:off x="7376400" y="4509360"/>
                <a:ext cx="1131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6600"/>
                    </a:solidFill>
                    <a:latin typeface="Times New Roman"/>
                  </a:rPr>
                  <a:t>绕组</a:t>
                </a:r>
                <a:r>
                  <a:rPr b="1" lang="zh-CN" sz="2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</a:t>
                </a:r>
                <a:r>
                  <a:rPr b="1" lang="zh-CN" sz="2800" spc="-1" strike="noStrike">
                    <a:solidFill>
                      <a:srgbClr val="006600"/>
                    </a:solidFill>
                    <a:latin typeface="Times New Roman"/>
                  </a:rPr>
                  <a:t> 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6781680" y="48150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5" name=""/>
            <p:cNvSpPr/>
            <p:nvPr/>
          </p:nvSpPr>
          <p:spPr>
            <a:xfrm flipH="1">
              <a:off x="7010280" y="5791320"/>
              <a:ext cx="152640" cy="6094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6" name=""/>
            <p:cNvGrpSpPr/>
            <p:nvPr/>
          </p:nvGrpSpPr>
          <p:grpSpPr>
            <a:xfrm>
              <a:off x="5104440" y="6095160"/>
              <a:ext cx="1772280" cy="520560"/>
              <a:chOff x="5104440" y="6095160"/>
              <a:chExt cx="1772280" cy="520560"/>
            </a:xfrm>
          </p:grpSpPr>
          <p:sp>
            <p:nvSpPr>
              <p:cNvPr id="5587" name=""/>
              <p:cNvSpPr/>
              <p:nvPr/>
            </p:nvSpPr>
            <p:spPr>
              <a:xfrm>
                <a:off x="5104440" y="6095160"/>
                <a:ext cx="1162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接断开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 flipH="1">
                <a:off x="6419520" y="6310440"/>
                <a:ext cx="4572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9" name=""/>
            <p:cNvSpPr/>
            <p:nvPr/>
          </p:nvSpPr>
          <p:spPr>
            <a:xfrm flipH="1" flipV="1">
              <a:off x="6857640" y="3809520"/>
              <a:ext cx="30492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 flipV="1">
              <a:off x="5562720" y="2742840"/>
              <a:ext cx="380880" cy="304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 flipH="1" flipV="1">
              <a:off x="4230360" y="171468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2" name=""/>
          <p:cNvSpPr/>
          <p:nvPr/>
        </p:nvSpPr>
        <p:spPr>
          <a:xfrm>
            <a:off x="6888240" y="1219320"/>
            <a:ext cx="455400" cy="326880"/>
          </a:xfrm>
          <a:prstGeom prst="rect">
            <a:avLst/>
          </a:prstGeom>
          <a:solidFill>
            <a:srgbClr val="006666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ff33"/>
                </a:solidFill>
                <a:latin typeface="Times New Roman"/>
              </a:rPr>
              <a:t>通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890640" y="5714280"/>
            <a:ext cx="14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机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接运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4" name=""/>
          <p:cNvGrpSpPr/>
          <p:nvPr/>
        </p:nvGrpSpPr>
        <p:grpSpPr>
          <a:xfrm>
            <a:off x="3000600" y="5699160"/>
            <a:ext cx="1951920" cy="579600"/>
            <a:chOff x="3000600" y="5699160"/>
            <a:chExt cx="1951920" cy="579600"/>
          </a:xfrm>
        </p:grpSpPr>
        <p:sp>
          <p:nvSpPr>
            <p:cNvPr id="5595" name=""/>
            <p:cNvSpPr/>
            <p:nvPr/>
          </p:nvSpPr>
          <p:spPr>
            <a:xfrm flipH="1">
              <a:off x="4419000" y="5867280"/>
              <a:ext cx="533160" cy="169920"/>
            </a:xfrm>
            <a:prstGeom prst="rightArrow">
              <a:avLst>
                <a:gd name="adj1" fmla="val 50000"/>
                <a:gd name="adj2" fmla="val 78443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lin ang="10800000"/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 flipH="1">
              <a:off x="3000600" y="5699160"/>
              <a:ext cx="140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KM</a:t>
              </a:r>
              <a:r>
                <a:rPr b="1" lang="zh-CN" sz="28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通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7" name="PlaceHolder 1"/>
          <p:cNvSpPr>
            <a:spLocks noGrp="1"/>
          </p:cNvSpPr>
          <p:nvPr>
            <p:ph type="title"/>
          </p:nvPr>
        </p:nvSpPr>
        <p:spPr>
          <a:xfrm>
            <a:off x="2361960" y="533520"/>
            <a:ext cx="65530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.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鼠笼式电动机能耗制动控制线路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98" name=""/>
          <p:cNvSpPr/>
          <p:nvPr/>
        </p:nvSpPr>
        <p:spPr>
          <a:xfrm>
            <a:off x="6021360" y="2300400"/>
            <a:ext cx="1285920" cy="947520"/>
          </a:xfrm>
          <a:prstGeom prst="wedgeRoundRectCallout">
            <a:avLst>
              <a:gd name="adj1" fmla="val 66666"/>
              <a:gd name="adj2" fmla="val 180319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断电延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继电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9" name=""/>
          <p:cNvSpPr/>
          <p:nvPr/>
        </p:nvSpPr>
        <p:spPr>
          <a:xfrm>
            <a:off x="3125880" y="5043600"/>
            <a:ext cx="1557360" cy="541080"/>
          </a:xfrm>
          <a:prstGeom prst="wedgeRoundRectCallout">
            <a:avLst>
              <a:gd name="adj1" fmla="val 11875"/>
              <a:gd name="adj2" fmla="val -187245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直流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0" name=""/>
          <p:cNvSpPr/>
          <p:nvPr/>
        </p:nvSpPr>
        <p:spPr>
          <a:xfrm>
            <a:off x="2500200" y="5805360"/>
            <a:ext cx="2282760" cy="541440"/>
          </a:xfrm>
          <a:prstGeom prst="wedgeRoundRectCallout">
            <a:avLst>
              <a:gd name="adj1" fmla="val 78300"/>
              <a:gd name="adj2" fmla="val -65250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断电延时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1" name=""/>
          <p:cNvGrpSpPr/>
          <p:nvPr/>
        </p:nvGrpSpPr>
        <p:grpSpPr>
          <a:xfrm>
            <a:off x="1525680" y="1686240"/>
            <a:ext cx="6765120" cy="4410720"/>
            <a:chOff x="1525680" y="1686240"/>
            <a:chExt cx="6765120" cy="4410720"/>
          </a:xfrm>
        </p:grpSpPr>
        <p:grpSp>
          <p:nvGrpSpPr>
            <p:cNvPr id="5602" name=""/>
            <p:cNvGrpSpPr/>
            <p:nvPr/>
          </p:nvGrpSpPr>
          <p:grpSpPr>
            <a:xfrm>
              <a:off x="1525680" y="1686240"/>
              <a:ext cx="6765120" cy="4410720"/>
              <a:chOff x="1525680" y="1686240"/>
              <a:chExt cx="6765120" cy="4410720"/>
            </a:xfrm>
          </p:grpSpPr>
          <p:sp>
            <p:nvSpPr>
              <p:cNvPr id="5603" name=""/>
              <p:cNvSpPr/>
              <p:nvPr/>
            </p:nvSpPr>
            <p:spPr>
              <a:xfrm>
                <a:off x="1600200" y="1686240"/>
                <a:ext cx="32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2009160" y="2062800"/>
                <a:ext cx="32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1525680" y="3042720"/>
                <a:ext cx="320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2013840" y="3305520"/>
                <a:ext cx="3196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07" name=""/>
              <p:cNvGrpSpPr/>
              <p:nvPr/>
            </p:nvGrpSpPr>
            <p:grpSpPr>
              <a:xfrm>
                <a:off x="1676160" y="1686240"/>
                <a:ext cx="6614640" cy="4410720"/>
                <a:chOff x="1676160" y="1686240"/>
                <a:chExt cx="6614640" cy="4410720"/>
              </a:xfrm>
            </p:grpSpPr>
            <p:sp>
              <p:nvSpPr>
                <p:cNvPr id="5608" name=""/>
                <p:cNvSpPr/>
                <p:nvPr/>
              </p:nvSpPr>
              <p:spPr>
                <a:xfrm>
                  <a:off x="1676160" y="3592080"/>
                  <a:ext cx="120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9" name=""/>
                <p:cNvSpPr/>
                <p:nvPr/>
              </p:nvSpPr>
              <p:spPr>
                <a:xfrm>
                  <a:off x="6134040" y="2224440"/>
                  <a:ext cx="209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0" name=""/>
                <p:cNvSpPr/>
                <p:nvPr/>
              </p:nvSpPr>
              <p:spPr>
                <a:xfrm>
                  <a:off x="5196240" y="3259080"/>
                  <a:ext cx="7189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SB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1" name=""/>
                <p:cNvSpPr/>
                <p:nvPr/>
              </p:nvSpPr>
              <p:spPr>
                <a:xfrm>
                  <a:off x="6075360" y="4345560"/>
                  <a:ext cx="8956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Times New Roman"/>
                    </a:rPr>
                    <a:t>KM</a:t>
                  </a:r>
                  <a:r>
                    <a:rPr b="1" lang="en-US" sz="28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2" name=""/>
                <p:cNvSpPr/>
                <p:nvPr/>
              </p:nvSpPr>
              <p:spPr>
                <a:xfrm>
                  <a:off x="6045120" y="3336120"/>
                  <a:ext cx="7189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SB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3" name=""/>
                <p:cNvSpPr/>
                <p:nvPr/>
              </p:nvSpPr>
              <p:spPr>
                <a:xfrm>
                  <a:off x="6005880" y="1762560"/>
                  <a:ext cx="653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FR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4" name=""/>
                <p:cNvSpPr/>
                <p:nvPr/>
              </p:nvSpPr>
              <p:spPr>
                <a:xfrm>
                  <a:off x="7225920" y="3136680"/>
                  <a:ext cx="8956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Times New Roman"/>
                    </a:rPr>
                    <a:t>KM</a:t>
                  </a:r>
                  <a:r>
                    <a:rPr b="1" lang="en-US" sz="28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5" name=""/>
                <p:cNvSpPr/>
                <p:nvPr/>
              </p:nvSpPr>
              <p:spPr>
                <a:xfrm>
                  <a:off x="7419960" y="3583800"/>
                  <a:ext cx="404640" cy="5151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6" name=""/>
                <p:cNvSpPr/>
                <p:nvPr/>
              </p:nvSpPr>
              <p:spPr>
                <a:xfrm>
                  <a:off x="7824600" y="3855600"/>
                  <a:ext cx="406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7" name=""/>
                <p:cNvSpPr/>
                <p:nvPr/>
              </p:nvSpPr>
              <p:spPr>
                <a:xfrm>
                  <a:off x="8231040" y="2217960"/>
                  <a:ext cx="0" cy="361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18" name=""/>
                <p:cNvGrpSpPr/>
                <p:nvPr/>
              </p:nvGrpSpPr>
              <p:grpSpPr>
                <a:xfrm>
                  <a:off x="5731920" y="1750320"/>
                  <a:ext cx="405000" cy="473760"/>
                  <a:chOff x="5731920" y="1750320"/>
                  <a:chExt cx="405000" cy="473760"/>
                </a:xfrm>
              </p:grpSpPr>
              <p:sp>
                <p:nvSpPr>
                  <p:cNvPr id="5619" name=""/>
                  <p:cNvSpPr/>
                  <p:nvPr/>
                </p:nvSpPr>
                <p:spPr>
                  <a:xfrm flipH="1" flipV="1">
                    <a:off x="5731920" y="2021040"/>
                    <a:ext cx="405000" cy="2030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0" name=""/>
                  <p:cNvSpPr/>
                  <p:nvPr/>
                </p:nvSpPr>
                <p:spPr>
                  <a:xfrm flipV="1">
                    <a:off x="5934600" y="1886040"/>
                    <a:ext cx="0" cy="2030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21" name=""/>
                  <p:cNvGrpSpPr/>
                  <p:nvPr/>
                </p:nvGrpSpPr>
                <p:grpSpPr>
                  <a:xfrm>
                    <a:off x="5731920" y="1750320"/>
                    <a:ext cx="405000" cy="135360"/>
                    <a:chOff x="5731920" y="1750320"/>
                    <a:chExt cx="405000" cy="135360"/>
                  </a:xfrm>
                </p:grpSpPr>
                <p:sp>
                  <p:nvSpPr>
                    <p:cNvPr id="5622" name=""/>
                    <p:cNvSpPr/>
                    <p:nvPr/>
                  </p:nvSpPr>
                  <p:spPr>
                    <a:xfrm flipH="1">
                      <a:off x="6001920" y="1750320"/>
                      <a:ext cx="1350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3" name=""/>
                    <p:cNvSpPr/>
                    <p:nvPr/>
                  </p:nvSpPr>
                  <p:spPr>
                    <a:xfrm>
                      <a:off x="6001920" y="1750320"/>
                      <a:ext cx="0" cy="1353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4" name=""/>
                    <p:cNvSpPr/>
                    <p:nvPr/>
                  </p:nvSpPr>
                  <p:spPr>
                    <a:xfrm flipH="1">
                      <a:off x="5866920" y="1885680"/>
                      <a:ext cx="1350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5" name=""/>
                    <p:cNvSpPr/>
                    <p:nvPr/>
                  </p:nvSpPr>
                  <p:spPr>
                    <a:xfrm flipV="1">
                      <a:off x="5866920" y="1750320"/>
                      <a:ext cx="0" cy="1353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6" name=""/>
                    <p:cNvSpPr/>
                    <p:nvPr/>
                  </p:nvSpPr>
                  <p:spPr>
                    <a:xfrm flipH="1">
                      <a:off x="5731920" y="1750320"/>
                      <a:ext cx="1350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27" name=""/>
                  <p:cNvSpPr/>
                  <p:nvPr/>
                </p:nvSpPr>
                <p:spPr>
                  <a:xfrm flipV="1">
                    <a:off x="5799600" y="2021040"/>
                    <a:ext cx="0" cy="2030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28" name=""/>
                <p:cNvSpPr/>
                <p:nvPr/>
              </p:nvSpPr>
              <p:spPr>
                <a:xfrm>
                  <a:off x="5524920" y="3855600"/>
                  <a:ext cx="608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9" name=""/>
                <p:cNvSpPr/>
                <p:nvPr/>
              </p:nvSpPr>
              <p:spPr>
                <a:xfrm>
                  <a:off x="4916160" y="3855600"/>
                  <a:ext cx="337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0" name=""/>
                <p:cNvSpPr/>
                <p:nvPr/>
              </p:nvSpPr>
              <p:spPr>
                <a:xfrm flipV="1">
                  <a:off x="5795280" y="3876120"/>
                  <a:ext cx="0" cy="92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1" name=""/>
                <p:cNvSpPr/>
                <p:nvPr/>
              </p:nvSpPr>
              <p:spPr>
                <a:xfrm flipH="1">
                  <a:off x="6673680" y="4802040"/>
                  <a:ext cx="338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2" name=""/>
                <p:cNvSpPr/>
                <p:nvPr/>
              </p:nvSpPr>
              <p:spPr>
                <a:xfrm flipH="1">
                  <a:off x="6268680" y="4802040"/>
                  <a:ext cx="40500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3" name=""/>
                <p:cNvSpPr/>
                <p:nvPr/>
              </p:nvSpPr>
              <p:spPr>
                <a:xfrm flipH="1">
                  <a:off x="5795280" y="4802040"/>
                  <a:ext cx="47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4" name=""/>
                <p:cNvSpPr/>
                <p:nvPr/>
              </p:nvSpPr>
              <p:spPr>
                <a:xfrm>
                  <a:off x="6606360" y="3855600"/>
                  <a:ext cx="81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5" name=""/>
                <p:cNvSpPr/>
                <p:nvPr/>
              </p:nvSpPr>
              <p:spPr>
                <a:xfrm flipH="1" flipV="1">
                  <a:off x="7012800" y="3855240"/>
                  <a:ext cx="4680" cy="946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6" name=""/>
                <p:cNvSpPr/>
                <p:nvPr/>
              </p:nvSpPr>
              <p:spPr>
                <a:xfrm flipV="1">
                  <a:off x="6134040" y="3859920"/>
                  <a:ext cx="472320" cy="201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37" name=""/>
                <p:cNvGrpSpPr/>
                <p:nvPr/>
              </p:nvGrpSpPr>
              <p:grpSpPr>
                <a:xfrm>
                  <a:off x="6269040" y="3960720"/>
                  <a:ext cx="270000" cy="271440"/>
                  <a:chOff x="6269040" y="3960720"/>
                  <a:chExt cx="270000" cy="271440"/>
                </a:xfrm>
              </p:grpSpPr>
              <p:sp>
                <p:nvSpPr>
                  <p:cNvPr id="5638" name=""/>
                  <p:cNvSpPr/>
                  <p:nvPr/>
                </p:nvSpPr>
                <p:spPr>
                  <a:xfrm>
                    <a:off x="6404040" y="3960720"/>
                    <a:ext cx="0" cy="27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39" name=""/>
                  <p:cNvGrpSpPr/>
                  <p:nvPr/>
                </p:nvGrpSpPr>
                <p:grpSpPr>
                  <a:xfrm>
                    <a:off x="6269040" y="4164120"/>
                    <a:ext cx="270000" cy="67680"/>
                    <a:chOff x="6269040" y="4164120"/>
                    <a:chExt cx="270000" cy="67680"/>
                  </a:xfrm>
                </p:grpSpPr>
                <p:sp>
                  <p:nvSpPr>
                    <p:cNvPr id="5640" name=""/>
                    <p:cNvSpPr/>
                    <p:nvPr/>
                  </p:nvSpPr>
                  <p:spPr>
                    <a:xfrm>
                      <a:off x="6269040" y="4164120"/>
                      <a:ext cx="0" cy="676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1" name=""/>
                    <p:cNvSpPr/>
                    <p:nvPr/>
                  </p:nvSpPr>
                  <p:spPr>
                    <a:xfrm>
                      <a:off x="6269040" y="4231800"/>
                      <a:ext cx="2700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2" name=""/>
                    <p:cNvSpPr/>
                    <p:nvPr/>
                  </p:nvSpPr>
                  <p:spPr>
                    <a:xfrm flipV="1">
                      <a:off x="6539040" y="4164120"/>
                      <a:ext cx="0" cy="676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643" name=""/>
                <p:cNvGrpSpPr/>
                <p:nvPr/>
              </p:nvGrpSpPr>
              <p:grpSpPr>
                <a:xfrm>
                  <a:off x="5190480" y="3652920"/>
                  <a:ext cx="337320" cy="405000"/>
                  <a:chOff x="5190480" y="3652920"/>
                  <a:chExt cx="337320" cy="405000"/>
                </a:xfrm>
              </p:grpSpPr>
              <p:sp>
                <p:nvSpPr>
                  <p:cNvPr id="5644" name=""/>
                  <p:cNvSpPr/>
                  <p:nvPr/>
                </p:nvSpPr>
                <p:spPr>
                  <a:xfrm flipH="1" flipV="1">
                    <a:off x="5190480" y="3652920"/>
                    <a:ext cx="337320" cy="2023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5" name=""/>
                  <p:cNvSpPr/>
                  <p:nvPr/>
                </p:nvSpPr>
                <p:spPr>
                  <a:xfrm flipV="1">
                    <a:off x="5258160" y="3652920"/>
                    <a:ext cx="0" cy="2023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6" name=""/>
                  <p:cNvSpPr/>
                  <p:nvPr/>
                </p:nvSpPr>
                <p:spPr>
                  <a:xfrm>
                    <a:off x="5392800" y="3787560"/>
                    <a:ext cx="0" cy="270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47" name=""/>
                  <p:cNvGrpSpPr/>
                  <p:nvPr/>
                </p:nvGrpSpPr>
                <p:grpSpPr>
                  <a:xfrm>
                    <a:off x="5258160" y="3990240"/>
                    <a:ext cx="269640" cy="67680"/>
                    <a:chOff x="5258160" y="3990240"/>
                    <a:chExt cx="269640" cy="67680"/>
                  </a:xfrm>
                </p:grpSpPr>
                <p:sp>
                  <p:nvSpPr>
                    <p:cNvPr id="5648" name=""/>
                    <p:cNvSpPr/>
                    <p:nvPr/>
                  </p:nvSpPr>
                  <p:spPr>
                    <a:xfrm>
                      <a:off x="5527800" y="3990600"/>
                      <a:ext cx="0" cy="673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9" name=""/>
                    <p:cNvSpPr/>
                    <p:nvPr/>
                  </p:nvSpPr>
                  <p:spPr>
                    <a:xfrm flipH="1">
                      <a:off x="5258160" y="4057560"/>
                      <a:ext cx="26964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50" name=""/>
                    <p:cNvSpPr/>
                    <p:nvPr/>
                  </p:nvSpPr>
                  <p:spPr>
                    <a:xfrm flipV="1">
                      <a:off x="5258160" y="3990240"/>
                      <a:ext cx="0" cy="673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651" name=""/>
                <p:cNvSpPr/>
                <p:nvPr/>
              </p:nvSpPr>
              <p:spPr>
                <a:xfrm>
                  <a:off x="4916160" y="2594880"/>
                  <a:ext cx="0" cy="3240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2" name=""/>
                <p:cNvSpPr/>
                <p:nvPr/>
              </p:nvSpPr>
              <p:spPr>
                <a:xfrm>
                  <a:off x="7419960" y="4532400"/>
                  <a:ext cx="409680" cy="51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3" name=""/>
                <p:cNvSpPr/>
                <p:nvPr/>
              </p:nvSpPr>
              <p:spPr>
                <a:xfrm>
                  <a:off x="7013160" y="4802040"/>
                  <a:ext cx="406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4" name=""/>
                <p:cNvSpPr/>
                <p:nvPr/>
              </p:nvSpPr>
              <p:spPr>
                <a:xfrm>
                  <a:off x="7824600" y="4802040"/>
                  <a:ext cx="406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5" name=""/>
                <p:cNvSpPr/>
                <p:nvPr/>
              </p:nvSpPr>
              <p:spPr>
                <a:xfrm>
                  <a:off x="2127960" y="3861720"/>
                  <a:ext cx="451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6" name=""/>
                <p:cNvSpPr/>
                <p:nvPr/>
              </p:nvSpPr>
              <p:spPr>
                <a:xfrm>
                  <a:off x="1751400" y="2224440"/>
                  <a:ext cx="4043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7" name=""/>
                <p:cNvSpPr/>
                <p:nvPr/>
              </p:nvSpPr>
              <p:spPr>
                <a:xfrm>
                  <a:off x="2187720" y="2594880"/>
                  <a:ext cx="272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8" name=""/>
                <p:cNvSpPr/>
                <p:nvPr/>
              </p:nvSpPr>
              <p:spPr>
                <a:xfrm>
                  <a:off x="7247520" y="4096800"/>
                  <a:ext cx="692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6600"/>
                      </a:solidFill>
                      <a:latin typeface="Times New Roman"/>
                    </a:rPr>
                    <a:t>K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59" name=""/>
                <p:cNvGrpSpPr/>
                <p:nvPr/>
              </p:nvGrpSpPr>
              <p:grpSpPr>
                <a:xfrm>
                  <a:off x="4916160" y="5025960"/>
                  <a:ext cx="3314880" cy="1071000"/>
                  <a:chOff x="4916160" y="5025960"/>
                  <a:chExt cx="3314880" cy="1071000"/>
                </a:xfrm>
              </p:grpSpPr>
              <p:sp>
                <p:nvSpPr>
                  <p:cNvPr id="5660" name=""/>
                  <p:cNvSpPr/>
                  <p:nvPr/>
                </p:nvSpPr>
                <p:spPr>
                  <a:xfrm>
                    <a:off x="5660280" y="5826960"/>
                    <a:ext cx="6087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61" name=""/>
                  <p:cNvGrpSpPr/>
                  <p:nvPr/>
                </p:nvGrpSpPr>
                <p:grpSpPr>
                  <a:xfrm>
                    <a:off x="6204240" y="5555520"/>
                    <a:ext cx="406440" cy="271440"/>
                    <a:chOff x="6204240" y="5555520"/>
                    <a:chExt cx="406440" cy="271440"/>
                  </a:xfrm>
                </p:grpSpPr>
                <p:sp>
                  <p:nvSpPr>
                    <p:cNvPr id="5662" name=""/>
                    <p:cNvSpPr/>
                    <p:nvPr/>
                  </p:nvSpPr>
                  <p:spPr>
                    <a:xfrm flipH="1" flipV="1">
                      <a:off x="6204240" y="5555520"/>
                      <a:ext cx="406440" cy="27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63" name=""/>
                    <p:cNvSpPr/>
                    <p:nvPr/>
                  </p:nvSpPr>
                  <p:spPr>
                    <a:xfrm flipV="1">
                      <a:off x="6271920" y="5555520"/>
                      <a:ext cx="0" cy="27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64" name=""/>
                  <p:cNvSpPr/>
                  <p:nvPr/>
                </p:nvSpPr>
                <p:spPr>
                  <a:xfrm>
                    <a:off x="6606360" y="5826960"/>
                    <a:ext cx="8128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65" name=""/>
                  <p:cNvGrpSpPr/>
                  <p:nvPr/>
                </p:nvGrpSpPr>
                <p:grpSpPr>
                  <a:xfrm>
                    <a:off x="4916160" y="5025960"/>
                    <a:ext cx="3314880" cy="1071000"/>
                    <a:chOff x="4916160" y="5025960"/>
                    <a:chExt cx="3314880" cy="1071000"/>
                  </a:xfrm>
                </p:grpSpPr>
                <p:sp>
                  <p:nvSpPr>
                    <p:cNvPr id="5666" name=""/>
                    <p:cNvSpPr/>
                    <p:nvPr/>
                  </p:nvSpPr>
                  <p:spPr>
                    <a:xfrm>
                      <a:off x="4916160" y="5826960"/>
                      <a:ext cx="33732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67" name=""/>
                    <p:cNvSpPr/>
                    <p:nvPr/>
                  </p:nvSpPr>
                  <p:spPr>
                    <a:xfrm>
                      <a:off x="7419240" y="5582160"/>
                      <a:ext cx="405000" cy="5148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68" name=""/>
                    <p:cNvSpPr/>
                    <p:nvPr/>
                  </p:nvSpPr>
                  <p:spPr>
                    <a:xfrm>
                      <a:off x="7824600" y="5826960"/>
                      <a:ext cx="40644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669" name=""/>
                    <p:cNvGrpSpPr/>
                    <p:nvPr/>
                  </p:nvGrpSpPr>
                  <p:grpSpPr>
                    <a:xfrm>
                      <a:off x="5253480" y="5622840"/>
                      <a:ext cx="473760" cy="418680"/>
                      <a:chOff x="5253480" y="5622840"/>
                      <a:chExt cx="473760" cy="418680"/>
                    </a:xfrm>
                  </p:grpSpPr>
                  <p:sp>
                    <p:nvSpPr>
                      <p:cNvPr id="5670" name=""/>
                      <p:cNvSpPr/>
                      <p:nvPr/>
                    </p:nvSpPr>
                    <p:spPr>
                      <a:xfrm flipH="1">
                        <a:off x="5253480" y="5838480"/>
                        <a:ext cx="473760" cy="20304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671" name=""/>
                      <p:cNvGrpSpPr/>
                      <p:nvPr/>
                    </p:nvGrpSpPr>
                    <p:grpSpPr>
                      <a:xfrm>
                        <a:off x="5456880" y="5635800"/>
                        <a:ext cx="67680" cy="338400"/>
                        <a:chOff x="5456880" y="5635800"/>
                        <a:chExt cx="67680" cy="338400"/>
                      </a:xfrm>
                    </p:grpSpPr>
                    <p:sp>
                      <p:nvSpPr>
                        <p:cNvPr id="5672" name=""/>
                        <p:cNvSpPr/>
                        <p:nvPr/>
                      </p:nvSpPr>
                      <p:spPr>
                        <a:xfrm>
                          <a:off x="5456880" y="5635800"/>
                          <a:ext cx="0" cy="3384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73" name=""/>
                        <p:cNvSpPr/>
                        <p:nvPr/>
                      </p:nvSpPr>
                      <p:spPr>
                        <a:xfrm>
                          <a:off x="5524560" y="5635800"/>
                          <a:ext cx="0" cy="2703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674" name=""/>
                      <p:cNvSpPr/>
                      <p:nvPr/>
                    </p:nvSpPr>
                    <p:spPr>
                      <a:xfrm flipH="1" flipV="1">
                        <a:off x="5393160" y="5622480"/>
                        <a:ext cx="1987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3" h="532">
                            <a:moveTo>
                              <a:pt x="0" y="52"/>
                            </a:moveTo>
                            <a:cubicBezTo>
                              <a:pt x="48" y="97"/>
                              <a:pt x="59" y="168"/>
                              <a:pt x="95" y="223"/>
                            </a:cubicBezTo>
                            <a:cubicBezTo>
                              <a:pt x="104" y="253"/>
                              <a:pt x="116" y="270"/>
                              <a:pt x="138" y="292"/>
                            </a:cubicBezTo>
                            <a:cubicBezTo>
                              <a:pt x="152" y="337"/>
                              <a:pt x="137" y="303"/>
                              <a:pt x="180" y="352"/>
                            </a:cubicBezTo>
                            <a:cubicBezTo>
                              <a:pt x="223" y="402"/>
                              <a:pt x="246" y="418"/>
                              <a:pt x="300" y="454"/>
                            </a:cubicBezTo>
                            <a:cubicBezTo>
                              <a:pt x="347" y="485"/>
                              <a:pt x="287" y="462"/>
                              <a:pt x="343" y="480"/>
                            </a:cubicBezTo>
                            <a:cubicBezTo>
                              <a:pt x="385" y="508"/>
                              <a:pt x="423" y="522"/>
                              <a:pt x="472" y="532"/>
                            </a:cubicBezTo>
                            <a:cubicBezTo>
                              <a:pt x="530" y="526"/>
                              <a:pt x="598" y="524"/>
                              <a:pt x="652" y="497"/>
                            </a:cubicBezTo>
                            <a:cubicBezTo>
                              <a:pt x="723" y="462"/>
                              <a:pt x="765" y="410"/>
                              <a:pt x="823" y="360"/>
                            </a:cubicBezTo>
                            <a:cubicBezTo>
                              <a:pt x="834" y="350"/>
                              <a:pt x="848" y="345"/>
                              <a:pt x="858" y="334"/>
                            </a:cubicBezTo>
                            <a:cubicBezTo>
                              <a:pt x="889" y="300"/>
                              <a:pt x="923" y="253"/>
                              <a:pt x="952" y="214"/>
                            </a:cubicBezTo>
                            <a:cubicBezTo>
                              <a:pt x="964" y="198"/>
                              <a:pt x="975" y="180"/>
                              <a:pt x="986" y="163"/>
                            </a:cubicBezTo>
                            <a:cubicBezTo>
                              <a:pt x="992" y="154"/>
                              <a:pt x="1003" y="137"/>
                              <a:pt x="1003" y="137"/>
                            </a:cubicBezTo>
                            <a:cubicBezTo>
                              <a:pt x="1012" y="105"/>
                              <a:pt x="1028" y="83"/>
                              <a:pt x="1038" y="52"/>
                            </a:cubicBezTo>
                            <a:cubicBezTo>
                              <a:pt x="1041" y="43"/>
                              <a:pt x="1042" y="34"/>
                              <a:pt x="1046" y="26"/>
                            </a:cubicBezTo>
                            <a:cubicBezTo>
                              <a:pt x="1050" y="17"/>
                              <a:pt x="1063" y="0"/>
                              <a:pt x="1063" y="0"/>
                            </a:cubicBez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tIns="34560" bIns="34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675" name=""/>
                    <p:cNvSpPr/>
                    <p:nvPr/>
                  </p:nvSpPr>
                  <p:spPr>
                    <a:xfrm>
                      <a:off x="5154840" y="5190120"/>
                      <a:ext cx="6926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76" name=""/>
                    <p:cNvSpPr/>
                    <p:nvPr/>
                  </p:nvSpPr>
                  <p:spPr>
                    <a:xfrm>
                      <a:off x="6051600" y="5090760"/>
                      <a:ext cx="89568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M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77" name=""/>
                    <p:cNvSpPr/>
                    <p:nvPr/>
                  </p:nvSpPr>
                  <p:spPr>
                    <a:xfrm>
                      <a:off x="7200360" y="5025960"/>
                      <a:ext cx="89568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KM</a:t>
                      </a:r>
                      <a:r>
                        <a:rPr b="1" lang="en-US" sz="2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678" name=""/>
                <p:cNvSpPr/>
                <p:nvPr/>
              </p:nvSpPr>
              <p:spPr>
                <a:xfrm>
                  <a:off x="3493800" y="3996720"/>
                  <a:ext cx="136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9" name=""/>
                <p:cNvSpPr/>
                <p:nvPr/>
              </p:nvSpPr>
              <p:spPr>
                <a:xfrm>
                  <a:off x="2603880" y="2982960"/>
                  <a:ext cx="277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0" name=""/>
                <p:cNvSpPr/>
                <p:nvPr/>
              </p:nvSpPr>
              <p:spPr>
                <a:xfrm>
                  <a:off x="3258360" y="2982960"/>
                  <a:ext cx="439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1" name=""/>
                <p:cNvSpPr/>
                <p:nvPr/>
              </p:nvSpPr>
              <p:spPr>
                <a:xfrm>
                  <a:off x="4307040" y="3049920"/>
                  <a:ext cx="202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2" name=""/>
                <p:cNvSpPr/>
                <p:nvPr/>
              </p:nvSpPr>
              <p:spPr>
                <a:xfrm flipV="1">
                  <a:off x="4509360" y="2217600"/>
                  <a:ext cx="0" cy="831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83" name=""/>
                <p:cNvGrpSpPr/>
                <p:nvPr/>
              </p:nvGrpSpPr>
              <p:grpSpPr>
                <a:xfrm>
                  <a:off x="2722680" y="3569760"/>
                  <a:ext cx="536760" cy="166320"/>
                  <a:chOff x="2722680" y="3569760"/>
                  <a:chExt cx="536760" cy="166320"/>
                </a:xfrm>
              </p:grpSpPr>
              <p:sp>
                <p:nvSpPr>
                  <p:cNvPr id="5684" name=""/>
                  <p:cNvSpPr/>
                  <p:nvPr/>
                </p:nvSpPr>
                <p:spPr>
                  <a:xfrm flipH="1">
                    <a:off x="2853360" y="3599640"/>
                    <a:ext cx="40608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5" name=""/>
                  <p:cNvSpPr/>
                  <p:nvPr/>
                </p:nvSpPr>
                <p:spPr>
                  <a:xfrm flipH="1" flipV="1" rot="6240600">
                    <a:off x="2749680" y="3563640"/>
                    <a:ext cx="8388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4" h="624">
                        <a:moveTo>
                          <a:pt x="272" y="0"/>
                        </a:moveTo>
                        <a:cubicBezTo>
                          <a:pt x="136" y="164"/>
                          <a:pt x="0" y="328"/>
                          <a:pt x="32" y="432"/>
                        </a:cubicBezTo>
                        <a:cubicBezTo>
                          <a:pt x="64" y="536"/>
                          <a:pt x="392" y="592"/>
                          <a:pt x="464" y="624"/>
                        </a:cubicBezTo>
                      </a:path>
                    </a:pathLst>
                  </a:custGeom>
                  <a:solidFill>
                    <a:srgbClr val="006666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86" name=""/>
                <p:cNvGrpSpPr/>
                <p:nvPr/>
              </p:nvGrpSpPr>
              <p:grpSpPr>
                <a:xfrm>
                  <a:off x="2722680" y="2952000"/>
                  <a:ext cx="536760" cy="163800"/>
                  <a:chOff x="2722680" y="2952000"/>
                  <a:chExt cx="536760" cy="163800"/>
                </a:xfrm>
              </p:grpSpPr>
              <p:sp>
                <p:nvSpPr>
                  <p:cNvPr id="5687" name=""/>
                  <p:cNvSpPr/>
                  <p:nvPr/>
                </p:nvSpPr>
                <p:spPr>
                  <a:xfrm flipH="1">
                    <a:off x="2853360" y="2981160"/>
                    <a:ext cx="406080" cy="134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8" name=""/>
                  <p:cNvSpPr/>
                  <p:nvPr/>
                </p:nvSpPr>
                <p:spPr>
                  <a:xfrm flipH="1" flipV="1" rot="6240600">
                    <a:off x="2750400" y="2945520"/>
                    <a:ext cx="8280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4" h="624">
                        <a:moveTo>
                          <a:pt x="272" y="0"/>
                        </a:moveTo>
                        <a:cubicBezTo>
                          <a:pt x="136" y="164"/>
                          <a:pt x="0" y="328"/>
                          <a:pt x="32" y="432"/>
                        </a:cubicBezTo>
                        <a:cubicBezTo>
                          <a:pt x="64" y="536"/>
                          <a:pt x="392" y="592"/>
                          <a:pt x="464" y="624"/>
                        </a:cubicBezTo>
                      </a:path>
                    </a:pathLst>
                  </a:custGeom>
                  <a:solidFill>
                    <a:srgbClr val="006666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89" name=""/>
                <p:cNvGrpSpPr/>
                <p:nvPr/>
              </p:nvGrpSpPr>
              <p:grpSpPr>
                <a:xfrm>
                  <a:off x="3697920" y="3184920"/>
                  <a:ext cx="608400" cy="134640"/>
                  <a:chOff x="3697920" y="3184920"/>
                  <a:chExt cx="608400" cy="134640"/>
                </a:xfrm>
              </p:grpSpPr>
              <p:sp>
                <p:nvSpPr>
                  <p:cNvPr id="5690" name=""/>
                  <p:cNvSpPr/>
                  <p:nvPr/>
                </p:nvSpPr>
                <p:spPr>
                  <a:xfrm>
                    <a:off x="3697920" y="3194640"/>
                    <a:ext cx="20268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9" h="360">
                        <a:moveTo>
                          <a:pt x="0" y="317"/>
                        </a:moveTo>
                        <a:cubicBezTo>
                          <a:pt x="14" y="248"/>
                          <a:pt x="35" y="197"/>
                          <a:pt x="86" y="146"/>
                        </a:cubicBezTo>
                        <a:cubicBezTo>
                          <a:pt x="96" y="136"/>
                          <a:pt x="110" y="130"/>
                          <a:pt x="120" y="120"/>
                        </a:cubicBezTo>
                        <a:cubicBezTo>
                          <a:pt x="174" y="65"/>
                          <a:pt x="97" y="120"/>
                          <a:pt x="163" y="77"/>
                        </a:cubicBezTo>
                        <a:cubicBezTo>
                          <a:pt x="196" y="27"/>
                          <a:pt x="237" y="13"/>
                          <a:pt x="291" y="0"/>
                        </a:cubicBezTo>
                        <a:cubicBezTo>
                          <a:pt x="343" y="3"/>
                          <a:pt x="394" y="3"/>
                          <a:pt x="446" y="8"/>
                        </a:cubicBezTo>
                        <a:cubicBezTo>
                          <a:pt x="476" y="11"/>
                          <a:pt x="531" y="34"/>
                          <a:pt x="531" y="34"/>
                        </a:cubicBezTo>
                        <a:cubicBezTo>
                          <a:pt x="544" y="47"/>
                          <a:pt x="561" y="55"/>
                          <a:pt x="574" y="68"/>
                        </a:cubicBezTo>
                        <a:cubicBezTo>
                          <a:pt x="595" y="89"/>
                          <a:pt x="613" y="115"/>
                          <a:pt x="634" y="137"/>
                        </a:cubicBezTo>
                        <a:cubicBezTo>
                          <a:pt x="642" y="162"/>
                          <a:pt x="653" y="216"/>
                          <a:pt x="669" y="240"/>
                        </a:cubicBezTo>
                        <a:cubicBezTo>
                          <a:pt x="685" y="264"/>
                          <a:pt x="691" y="272"/>
                          <a:pt x="703" y="300"/>
                        </a:cubicBezTo>
                        <a:cubicBezTo>
                          <a:pt x="712" y="321"/>
                          <a:pt x="712" y="343"/>
                          <a:pt x="729" y="36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1" name=""/>
                  <p:cNvSpPr/>
                  <p:nvPr/>
                </p:nvSpPr>
                <p:spPr>
                  <a:xfrm>
                    <a:off x="3900600" y="3184920"/>
                    <a:ext cx="20268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9" h="360">
                        <a:moveTo>
                          <a:pt x="0" y="317"/>
                        </a:moveTo>
                        <a:cubicBezTo>
                          <a:pt x="14" y="248"/>
                          <a:pt x="35" y="197"/>
                          <a:pt x="86" y="146"/>
                        </a:cubicBezTo>
                        <a:cubicBezTo>
                          <a:pt x="96" y="136"/>
                          <a:pt x="110" y="130"/>
                          <a:pt x="120" y="120"/>
                        </a:cubicBezTo>
                        <a:cubicBezTo>
                          <a:pt x="174" y="65"/>
                          <a:pt x="97" y="120"/>
                          <a:pt x="163" y="77"/>
                        </a:cubicBezTo>
                        <a:cubicBezTo>
                          <a:pt x="196" y="27"/>
                          <a:pt x="237" y="13"/>
                          <a:pt x="291" y="0"/>
                        </a:cubicBezTo>
                        <a:cubicBezTo>
                          <a:pt x="343" y="3"/>
                          <a:pt x="394" y="3"/>
                          <a:pt x="446" y="8"/>
                        </a:cubicBezTo>
                        <a:cubicBezTo>
                          <a:pt x="476" y="11"/>
                          <a:pt x="531" y="34"/>
                          <a:pt x="531" y="34"/>
                        </a:cubicBezTo>
                        <a:cubicBezTo>
                          <a:pt x="544" y="47"/>
                          <a:pt x="561" y="55"/>
                          <a:pt x="574" y="68"/>
                        </a:cubicBezTo>
                        <a:cubicBezTo>
                          <a:pt x="595" y="89"/>
                          <a:pt x="613" y="115"/>
                          <a:pt x="634" y="137"/>
                        </a:cubicBezTo>
                        <a:cubicBezTo>
                          <a:pt x="642" y="162"/>
                          <a:pt x="653" y="216"/>
                          <a:pt x="669" y="240"/>
                        </a:cubicBezTo>
                        <a:cubicBezTo>
                          <a:pt x="685" y="264"/>
                          <a:pt x="691" y="272"/>
                          <a:pt x="703" y="300"/>
                        </a:cubicBezTo>
                        <a:cubicBezTo>
                          <a:pt x="712" y="321"/>
                          <a:pt x="712" y="343"/>
                          <a:pt x="729" y="36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2" name=""/>
                  <p:cNvSpPr/>
                  <p:nvPr/>
                </p:nvSpPr>
                <p:spPr>
                  <a:xfrm>
                    <a:off x="4103640" y="3184920"/>
                    <a:ext cx="20268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9" h="360">
                        <a:moveTo>
                          <a:pt x="0" y="317"/>
                        </a:moveTo>
                        <a:cubicBezTo>
                          <a:pt x="14" y="248"/>
                          <a:pt x="35" y="197"/>
                          <a:pt x="86" y="146"/>
                        </a:cubicBezTo>
                        <a:cubicBezTo>
                          <a:pt x="96" y="136"/>
                          <a:pt x="110" y="130"/>
                          <a:pt x="120" y="120"/>
                        </a:cubicBezTo>
                        <a:cubicBezTo>
                          <a:pt x="174" y="65"/>
                          <a:pt x="97" y="120"/>
                          <a:pt x="163" y="77"/>
                        </a:cubicBezTo>
                        <a:cubicBezTo>
                          <a:pt x="196" y="27"/>
                          <a:pt x="237" y="13"/>
                          <a:pt x="291" y="0"/>
                        </a:cubicBezTo>
                        <a:cubicBezTo>
                          <a:pt x="343" y="3"/>
                          <a:pt x="394" y="3"/>
                          <a:pt x="446" y="8"/>
                        </a:cubicBezTo>
                        <a:cubicBezTo>
                          <a:pt x="476" y="11"/>
                          <a:pt x="531" y="34"/>
                          <a:pt x="531" y="34"/>
                        </a:cubicBezTo>
                        <a:cubicBezTo>
                          <a:pt x="544" y="47"/>
                          <a:pt x="561" y="55"/>
                          <a:pt x="574" y="68"/>
                        </a:cubicBezTo>
                        <a:cubicBezTo>
                          <a:pt x="595" y="89"/>
                          <a:pt x="613" y="115"/>
                          <a:pt x="634" y="137"/>
                        </a:cubicBezTo>
                        <a:cubicBezTo>
                          <a:pt x="642" y="162"/>
                          <a:pt x="653" y="216"/>
                          <a:pt x="669" y="240"/>
                        </a:cubicBezTo>
                        <a:cubicBezTo>
                          <a:pt x="685" y="264"/>
                          <a:pt x="691" y="272"/>
                          <a:pt x="703" y="300"/>
                        </a:cubicBezTo>
                        <a:cubicBezTo>
                          <a:pt x="712" y="321"/>
                          <a:pt x="712" y="343"/>
                          <a:pt x="729" y="36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93" name=""/>
                <p:cNvGrpSpPr/>
                <p:nvPr/>
              </p:nvGrpSpPr>
              <p:grpSpPr>
                <a:xfrm>
                  <a:off x="3695400" y="2982240"/>
                  <a:ext cx="613080" cy="138960"/>
                  <a:chOff x="3695400" y="2982240"/>
                  <a:chExt cx="613080" cy="138960"/>
                </a:xfrm>
              </p:grpSpPr>
              <p:sp>
                <p:nvSpPr>
                  <p:cNvPr id="5694" name=""/>
                  <p:cNvSpPr/>
                  <p:nvPr/>
                </p:nvSpPr>
                <p:spPr>
                  <a:xfrm rot="10924200">
                    <a:off x="4103640" y="2990160"/>
                    <a:ext cx="202680" cy="124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9" h="360">
                        <a:moveTo>
                          <a:pt x="0" y="317"/>
                        </a:moveTo>
                        <a:cubicBezTo>
                          <a:pt x="14" y="248"/>
                          <a:pt x="35" y="197"/>
                          <a:pt x="86" y="146"/>
                        </a:cubicBezTo>
                        <a:cubicBezTo>
                          <a:pt x="96" y="136"/>
                          <a:pt x="110" y="130"/>
                          <a:pt x="120" y="120"/>
                        </a:cubicBezTo>
                        <a:cubicBezTo>
                          <a:pt x="174" y="65"/>
                          <a:pt x="97" y="120"/>
                          <a:pt x="163" y="77"/>
                        </a:cubicBezTo>
                        <a:cubicBezTo>
                          <a:pt x="196" y="27"/>
                          <a:pt x="237" y="13"/>
                          <a:pt x="291" y="0"/>
                        </a:cubicBezTo>
                        <a:cubicBezTo>
                          <a:pt x="343" y="3"/>
                          <a:pt x="394" y="3"/>
                          <a:pt x="446" y="8"/>
                        </a:cubicBezTo>
                        <a:cubicBezTo>
                          <a:pt x="476" y="11"/>
                          <a:pt x="531" y="34"/>
                          <a:pt x="531" y="34"/>
                        </a:cubicBezTo>
                        <a:cubicBezTo>
                          <a:pt x="544" y="47"/>
                          <a:pt x="561" y="55"/>
                          <a:pt x="574" y="68"/>
                        </a:cubicBezTo>
                        <a:cubicBezTo>
                          <a:pt x="595" y="89"/>
                          <a:pt x="613" y="115"/>
                          <a:pt x="634" y="137"/>
                        </a:cubicBezTo>
                        <a:cubicBezTo>
                          <a:pt x="642" y="162"/>
                          <a:pt x="653" y="216"/>
                          <a:pt x="669" y="240"/>
                        </a:cubicBezTo>
                        <a:cubicBezTo>
                          <a:pt x="685" y="264"/>
                          <a:pt x="691" y="272"/>
                          <a:pt x="703" y="300"/>
                        </a:cubicBezTo>
                        <a:cubicBezTo>
                          <a:pt x="712" y="321"/>
                          <a:pt x="712" y="343"/>
                          <a:pt x="729" y="36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5" name=""/>
                  <p:cNvSpPr/>
                  <p:nvPr/>
                </p:nvSpPr>
                <p:spPr>
                  <a:xfrm rot="10924200">
                    <a:off x="3900600" y="2992680"/>
                    <a:ext cx="202680" cy="124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9" h="360">
                        <a:moveTo>
                          <a:pt x="0" y="317"/>
                        </a:moveTo>
                        <a:cubicBezTo>
                          <a:pt x="14" y="248"/>
                          <a:pt x="35" y="197"/>
                          <a:pt x="86" y="146"/>
                        </a:cubicBezTo>
                        <a:cubicBezTo>
                          <a:pt x="96" y="136"/>
                          <a:pt x="110" y="130"/>
                          <a:pt x="120" y="120"/>
                        </a:cubicBezTo>
                        <a:cubicBezTo>
                          <a:pt x="174" y="65"/>
                          <a:pt x="97" y="120"/>
                          <a:pt x="163" y="77"/>
                        </a:cubicBezTo>
                        <a:cubicBezTo>
                          <a:pt x="196" y="27"/>
                          <a:pt x="237" y="13"/>
                          <a:pt x="291" y="0"/>
                        </a:cubicBezTo>
                        <a:cubicBezTo>
                          <a:pt x="343" y="3"/>
                          <a:pt x="394" y="3"/>
                          <a:pt x="446" y="8"/>
                        </a:cubicBezTo>
                        <a:cubicBezTo>
                          <a:pt x="476" y="11"/>
                          <a:pt x="531" y="34"/>
                          <a:pt x="531" y="34"/>
                        </a:cubicBezTo>
                        <a:cubicBezTo>
                          <a:pt x="544" y="47"/>
                          <a:pt x="561" y="55"/>
                          <a:pt x="574" y="68"/>
                        </a:cubicBezTo>
                        <a:cubicBezTo>
                          <a:pt x="595" y="89"/>
                          <a:pt x="613" y="115"/>
                          <a:pt x="634" y="137"/>
                        </a:cubicBezTo>
                        <a:cubicBezTo>
                          <a:pt x="642" y="162"/>
                          <a:pt x="653" y="216"/>
                          <a:pt x="669" y="240"/>
                        </a:cubicBezTo>
                        <a:cubicBezTo>
                          <a:pt x="685" y="264"/>
                          <a:pt x="691" y="272"/>
                          <a:pt x="703" y="300"/>
                        </a:cubicBezTo>
                        <a:cubicBezTo>
                          <a:pt x="712" y="321"/>
                          <a:pt x="712" y="343"/>
                          <a:pt x="729" y="36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6" name=""/>
                  <p:cNvSpPr/>
                  <p:nvPr/>
                </p:nvSpPr>
                <p:spPr>
                  <a:xfrm rot="10924200">
                    <a:off x="3697560" y="2985480"/>
                    <a:ext cx="202680" cy="124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9" h="360">
                        <a:moveTo>
                          <a:pt x="0" y="317"/>
                        </a:moveTo>
                        <a:cubicBezTo>
                          <a:pt x="14" y="248"/>
                          <a:pt x="35" y="197"/>
                          <a:pt x="86" y="146"/>
                        </a:cubicBezTo>
                        <a:cubicBezTo>
                          <a:pt x="96" y="136"/>
                          <a:pt x="110" y="130"/>
                          <a:pt x="120" y="120"/>
                        </a:cubicBezTo>
                        <a:cubicBezTo>
                          <a:pt x="174" y="65"/>
                          <a:pt x="97" y="120"/>
                          <a:pt x="163" y="77"/>
                        </a:cubicBezTo>
                        <a:cubicBezTo>
                          <a:pt x="196" y="27"/>
                          <a:pt x="237" y="13"/>
                          <a:pt x="291" y="0"/>
                        </a:cubicBezTo>
                        <a:cubicBezTo>
                          <a:pt x="343" y="3"/>
                          <a:pt x="394" y="3"/>
                          <a:pt x="446" y="8"/>
                        </a:cubicBezTo>
                        <a:cubicBezTo>
                          <a:pt x="476" y="11"/>
                          <a:pt x="531" y="34"/>
                          <a:pt x="531" y="34"/>
                        </a:cubicBezTo>
                        <a:cubicBezTo>
                          <a:pt x="544" y="47"/>
                          <a:pt x="561" y="55"/>
                          <a:pt x="574" y="68"/>
                        </a:cubicBezTo>
                        <a:cubicBezTo>
                          <a:pt x="595" y="89"/>
                          <a:pt x="613" y="115"/>
                          <a:pt x="634" y="137"/>
                        </a:cubicBezTo>
                        <a:cubicBezTo>
                          <a:pt x="642" y="162"/>
                          <a:pt x="653" y="216"/>
                          <a:pt x="669" y="240"/>
                        </a:cubicBezTo>
                        <a:cubicBezTo>
                          <a:pt x="685" y="264"/>
                          <a:pt x="691" y="272"/>
                          <a:pt x="703" y="300"/>
                        </a:cubicBezTo>
                        <a:cubicBezTo>
                          <a:pt x="712" y="321"/>
                          <a:pt x="712" y="343"/>
                          <a:pt x="729" y="36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97" name=""/>
                <p:cNvSpPr/>
                <p:nvPr/>
              </p:nvSpPr>
              <p:spPr>
                <a:xfrm flipH="1">
                  <a:off x="3493800" y="3320280"/>
                  <a:ext cx="20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8" name=""/>
                <p:cNvSpPr/>
                <p:nvPr/>
              </p:nvSpPr>
              <p:spPr>
                <a:xfrm>
                  <a:off x="3493800" y="3320280"/>
                  <a:ext cx="0" cy="676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9" name=""/>
                <p:cNvSpPr/>
                <p:nvPr/>
              </p:nvSpPr>
              <p:spPr>
                <a:xfrm>
                  <a:off x="4307040" y="3320280"/>
                  <a:ext cx="202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0" name=""/>
                <p:cNvSpPr/>
                <p:nvPr/>
              </p:nvSpPr>
              <p:spPr>
                <a:xfrm>
                  <a:off x="4509360" y="3320280"/>
                  <a:ext cx="0" cy="676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1" name=""/>
                <p:cNvSpPr/>
                <p:nvPr/>
              </p:nvSpPr>
              <p:spPr>
                <a:xfrm>
                  <a:off x="4374720" y="3996720"/>
                  <a:ext cx="134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02" name=""/>
                <p:cNvGrpSpPr/>
                <p:nvPr/>
              </p:nvGrpSpPr>
              <p:grpSpPr>
                <a:xfrm>
                  <a:off x="2722680" y="4110120"/>
                  <a:ext cx="536760" cy="164520"/>
                  <a:chOff x="2722680" y="4110120"/>
                  <a:chExt cx="536760" cy="164520"/>
                </a:xfrm>
              </p:grpSpPr>
              <p:sp>
                <p:nvSpPr>
                  <p:cNvPr id="5703" name=""/>
                  <p:cNvSpPr/>
                  <p:nvPr/>
                </p:nvSpPr>
                <p:spPr>
                  <a:xfrm flipH="1">
                    <a:off x="2853360" y="4139640"/>
                    <a:ext cx="406080" cy="135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4" name=""/>
                  <p:cNvSpPr/>
                  <p:nvPr/>
                </p:nvSpPr>
                <p:spPr>
                  <a:xfrm flipH="1" flipV="1" rot="6240600">
                    <a:off x="2750400" y="4103640"/>
                    <a:ext cx="8280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4" h="624">
                        <a:moveTo>
                          <a:pt x="272" y="0"/>
                        </a:moveTo>
                        <a:cubicBezTo>
                          <a:pt x="136" y="164"/>
                          <a:pt x="0" y="328"/>
                          <a:pt x="32" y="432"/>
                        </a:cubicBezTo>
                        <a:cubicBezTo>
                          <a:pt x="64" y="536"/>
                          <a:pt x="392" y="592"/>
                          <a:pt x="464" y="624"/>
                        </a:cubicBezTo>
                      </a:path>
                    </a:pathLst>
                  </a:custGeom>
                  <a:solidFill>
                    <a:srgbClr val="006666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05" name=""/>
                <p:cNvSpPr/>
                <p:nvPr/>
              </p:nvSpPr>
              <p:spPr>
                <a:xfrm>
                  <a:off x="3258360" y="3592080"/>
                  <a:ext cx="776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6" name=""/>
                <p:cNvSpPr/>
                <p:nvPr/>
              </p:nvSpPr>
              <p:spPr>
                <a:xfrm>
                  <a:off x="3561480" y="4403520"/>
                  <a:ext cx="47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7" name=""/>
                <p:cNvSpPr/>
                <p:nvPr/>
              </p:nvSpPr>
              <p:spPr>
                <a:xfrm>
                  <a:off x="3258360" y="4131720"/>
                  <a:ext cx="30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8" name=""/>
                <p:cNvSpPr/>
                <p:nvPr/>
              </p:nvSpPr>
              <p:spPr>
                <a:xfrm>
                  <a:off x="3561480" y="4131720"/>
                  <a:ext cx="0" cy="27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9" name=""/>
                <p:cNvSpPr/>
                <p:nvPr/>
              </p:nvSpPr>
              <p:spPr>
                <a:xfrm flipH="1">
                  <a:off x="3630600" y="3592080"/>
                  <a:ext cx="404640" cy="40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0" name=""/>
                <p:cNvSpPr/>
                <p:nvPr/>
              </p:nvSpPr>
              <p:spPr>
                <a:xfrm>
                  <a:off x="4035240" y="3592080"/>
                  <a:ext cx="339120" cy="40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1" name=""/>
                <p:cNvSpPr/>
                <p:nvPr/>
              </p:nvSpPr>
              <p:spPr>
                <a:xfrm>
                  <a:off x="3630600" y="3996720"/>
                  <a:ext cx="404640" cy="406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2" name=""/>
                <p:cNvSpPr/>
                <p:nvPr/>
              </p:nvSpPr>
              <p:spPr>
                <a:xfrm flipH="1">
                  <a:off x="4035240" y="3996720"/>
                  <a:ext cx="339120" cy="406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3" name=""/>
                <p:cNvSpPr/>
                <p:nvPr/>
              </p:nvSpPr>
              <p:spPr>
                <a:xfrm>
                  <a:off x="2580120" y="4131720"/>
                  <a:ext cx="301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4" name=""/>
                <p:cNvGrpSpPr/>
                <p:nvPr/>
              </p:nvGrpSpPr>
              <p:grpSpPr>
                <a:xfrm>
                  <a:off x="3900600" y="3794400"/>
                  <a:ext cx="269640" cy="406440"/>
                  <a:chOff x="3900600" y="3794400"/>
                  <a:chExt cx="269640" cy="406440"/>
                </a:xfrm>
              </p:grpSpPr>
              <p:sp>
                <p:nvSpPr>
                  <p:cNvPr id="5715" name=""/>
                  <p:cNvSpPr/>
                  <p:nvPr/>
                </p:nvSpPr>
                <p:spPr>
                  <a:xfrm>
                    <a:off x="3900600" y="3895920"/>
                    <a:ext cx="134640" cy="25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16" name=""/>
                  <p:cNvGrpSpPr/>
                  <p:nvPr/>
                </p:nvGrpSpPr>
                <p:grpSpPr>
                  <a:xfrm>
                    <a:off x="3900600" y="3794400"/>
                    <a:ext cx="269640" cy="406440"/>
                    <a:chOff x="3900600" y="3794400"/>
                    <a:chExt cx="269640" cy="406440"/>
                  </a:xfrm>
                </p:grpSpPr>
                <p:sp>
                  <p:nvSpPr>
                    <p:cNvPr id="5717" name=""/>
                    <p:cNvSpPr/>
                    <p:nvPr/>
                  </p:nvSpPr>
                  <p:spPr>
                    <a:xfrm>
                      <a:off x="3900600" y="3895920"/>
                      <a:ext cx="26964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8" name=""/>
                    <p:cNvSpPr/>
                    <p:nvPr/>
                  </p:nvSpPr>
                  <p:spPr>
                    <a:xfrm>
                      <a:off x="4035240" y="3794400"/>
                      <a:ext cx="0" cy="406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9" name=""/>
                    <p:cNvSpPr/>
                    <p:nvPr/>
                  </p:nvSpPr>
                  <p:spPr>
                    <a:xfrm>
                      <a:off x="3900600" y="4150080"/>
                      <a:ext cx="26964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0" name=""/>
                    <p:cNvSpPr/>
                    <p:nvPr/>
                  </p:nvSpPr>
                  <p:spPr>
                    <a:xfrm flipH="1">
                      <a:off x="4035240" y="3895920"/>
                      <a:ext cx="134640" cy="253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21" name=""/>
                <p:cNvSpPr/>
                <p:nvPr/>
              </p:nvSpPr>
              <p:spPr>
                <a:xfrm>
                  <a:off x="2594520" y="2575800"/>
                  <a:ext cx="0" cy="40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2" name=""/>
                <p:cNvSpPr/>
                <p:nvPr/>
              </p:nvSpPr>
              <p:spPr>
                <a:xfrm>
                  <a:off x="2580120" y="3861720"/>
                  <a:ext cx="0" cy="26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3" name=""/>
                <p:cNvSpPr/>
                <p:nvPr/>
              </p:nvSpPr>
              <p:spPr>
                <a:xfrm>
                  <a:off x="3032280" y="3047040"/>
                  <a:ext cx="0" cy="1205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4" name=""/>
                <p:cNvSpPr/>
                <p:nvPr/>
              </p:nvSpPr>
              <p:spPr>
                <a:xfrm>
                  <a:off x="3498480" y="3592080"/>
                  <a:ext cx="541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5" name=""/>
                <p:cNvSpPr/>
                <p:nvPr/>
              </p:nvSpPr>
              <p:spPr>
                <a:xfrm>
                  <a:off x="4352400" y="1686240"/>
                  <a:ext cx="3200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6" name=""/>
                <p:cNvSpPr/>
                <p:nvPr/>
              </p:nvSpPr>
              <p:spPr>
                <a:xfrm>
                  <a:off x="2429640" y="2062800"/>
                  <a:ext cx="3200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7" name=""/>
                <p:cNvSpPr/>
                <p:nvPr/>
              </p:nvSpPr>
              <p:spPr>
                <a:xfrm>
                  <a:off x="2590560" y="4177440"/>
                  <a:ext cx="8956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KM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28" name=""/>
                <p:cNvGrpSpPr/>
                <p:nvPr/>
              </p:nvGrpSpPr>
              <p:grpSpPr>
                <a:xfrm>
                  <a:off x="4840560" y="2762640"/>
                  <a:ext cx="135000" cy="423720"/>
                  <a:chOff x="4840560" y="2762640"/>
                  <a:chExt cx="135000" cy="423720"/>
                </a:xfrm>
              </p:grpSpPr>
              <p:sp>
                <p:nvSpPr>
                  <p:cNvPr id="5729" name=""/>
                  <p:cNvSpPr/>
                  <p:nvPr/>
                </p:nvSpPr>
                <p:spPr>
                  <a:xfrm>
                    <a:off x="4840560" y="2762640"/>
                    <a:ext cx="1350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0" name=""/>
                  <p:cNvSpPr/>
                  <p:nvPr/>
                </p:nvSpPr>
                <p:spPr>
                  <a:xfrm>
                    <a:off x="4975560" y="2762640"/>
                    <a:ext cx="0" cy="423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1" name=""/>
                  <p:cNvSpPr/>
                  <p:nvPr/>
                </p:nvSpPr>
                <p:spPr>
                  <a:xfrm>
                    <a:off x="4840560" y="3186360"/>
                    <a:ext cx="1350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2" name=""/>
                  <p:cNvSpPr/>
                  <p:nvPr/>
                </p:nvSpPr>
                <p:spPr>
                  <a:xfrm>
                    <a:off x="4840560" y="2762640"/>
                    <a:ext cx="0" cy="423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33" name=""/>
                <p:cNvGrpSpPr/>
                <p:nvPr/>
              </p:nvGrpSpPr>
              <p:grpSpPr>
                <a:xfrm>
                  <a:off x="8156160" y="2773800"/>
                  <a:ext cx="134640" cy="423720"/>
                  <a:chOff x="8156160" y="2773800"/>
                  <a:chExt cx="134640" cy="423720"/>
                </a:xfrm>
              </p:grpSpPr>
              <p:sp>
                <p:nvSpPr>
                  <p:cNvPr id="5734" name=""/>
                  <p:cNvSpPr/>
                  <p:nvPr/>
                </p:nvSpPr>
                <p:spPr>
                  <a:xfrm>
                    <a:off x="8156160" y="2773800"/>
                    <a:ext cx="1346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5" name=""/>
                  <p:cNvSpPr/>
                  <p:nvPr/>
                </p:nvSpPr>
                <p:spPr>
                  <a:xfrm>
                    <a:off x="8290800" y="2773800"/>
                    <a:ext cx="0" cy="423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6" name=""/>
                  <p:cNvSpPr/>
                  <p:nvPr/>
                </p:nvSpPr>
                <p:spPr>
                  <a:xfrm>
                    <a:off x="8156160" y="3197520"/>
                    <a:ext cx="1346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7" name=""/>
                  <p:cNvSpPr/>
                  <p:nvPr/>
                </p:nvSpPr>
                <p:spPr>
                  <a:xfrm>
                    <a:off x="8156160" y="2773800"/>
                    <a:ext cx="0" cy="423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738" name=""/>
            <p:cNvSpPr/>
            <p:nvPr/>
          </p:nvSpPr>
          <p:spPr>
            <a:xfrm>
              <a:off x="4950000" y="2619360"/>
              <a:ext cx="756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9" name=""/>
          <p:cNvGrpSpPr/>
          <p:nvPr/>
        </p:nvGrpSpPr>
        <p:grpSpPr>
          <a:xfrm>
            <a:off x="390600" y="685800"/>
            <a:ext cx="1886760" cy="5617800"/>
            <a:chOff x="390600" y="685800"/>
            <a:chExt cx="1886760" cy="5617800"/>
          </a:xfrm>
        </p:grpSpPr>
        <p:grpSp>
          <p:nvGrpSpPr>
            <p:cNvPr id="5740" name=""/>
            <p:cNvGrpSpPr/>
            <p:nvPr/>
          </p:nvGrpSpPr>
          <p:grpSpPr>
            <a:xfrm>
              <a:off x="390600" y="685800"/>
              <a:ext cx="1886760" cy="5617800"/>
              <a:chOff x="390600" y="685800"/>
              <a:chExt cx="1886760" cy="5617800"/>
            </a:xfrm>
          </p:grpSpPr>
          <p:sp>
            <p:nvSpPr>
              <p:cNvPr id="5741" name=""/>
              <p:cNvSpPr/>
              <p:nvPr/>
            </p:nvSpPr>
            <p:spPr>
              <a:xfrm>
                <a:off x="1195560" y="1293480"/>
                <a:ext cx="81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42" name=""/>
              <p:cNvGrpSpPr/>
              <p:nvPr/>
            </p:nvGrpSpPr>
            <p:grpSpPr>
              <a:xfrm>
                <a:off x="1263240" y="685800"/>
                <a:ext cx="946440" cy="539640"/>
                <a:chOff x="1263240" y="685800"/>
                <a:chExt cx="946440" cy="539640"/>
              </a:xfrm>
            </p:grpSpPr>
            <p:grpSp>
              <p:nvGrpSpPr>
                <p:cNvPr id="5743" name=""/>
                <p:cNvGrpSpPr/>
                <p:nvPr/>
              </p:nvGrpSpPr>
              <p:grpSpPr>
                <a:xfrm>
                  <a:off x="1263240" y="685800"/>
                  <a:ext cx="135000" cy="539640"/>
                  <a:chOff x="1263240" y="685800"/>
                  <a:chExt cx="135000" cy="539640"/>
                </a:xfrm>
              </p:grpSpPr>
              <p:sp>
                <p:nvSpPr>
                  <p:cNvPr id="5744" name=""/>
                  <p:cNvSpPr/>
                  <p:nvPr/>
                </p:nvSpPr>
                <p:spPr>
                  <a:xfrm>
                    <a:off x="1263240" y="685800"/>
                    <a:ext cx="135000" cy="1350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5" name=""/>
                  <p:cNvSpPr/>
                  <p:nvPr/>
                </p:nvSpPr>
                <p:spPr>
                  <a:xfrm>
                    <a:off x="1330560" y="820800"/>
                    <a:ext cx="0" cy="404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46" name=""/>
                <p:cNvGrpSpPr/>
                <p:nvPr/>
              </p:nvGrpSpPr>
              <p:grpSpPr>
                <a:xfrm>
                  <a:off x="1668960" y="685800"/>
                  <a:ext cx="135000" cy="539640"/>
                  <a:chOff x="1668960" y="685800"/>
                  <a:chExt cx="135000" cy="539640"/>
                </a:xfrm>
              </p:grpSpPr>
              <p:sp>
                <p:nvSpPr>
                  <p:cNvPr id="5747" name=""/>
                  <p:cNvSpPr/>
                  <p:nvPr/>
                </p:nvSpPr>
                <p:spPr>
                  <a:xfrm>
                    <a:off x="1668960" y="685800"/>
                    <a:ext cx="135000" cy="1350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8" name=""/>
                  <p:cNvSpPr/>
                  <p:nvPr/>
                </p:nvSpPr>
                <p:spPr>
                  <a:xfrm>
                    <a:off x="1736280" y="820800"/>
                    <a:ext cx="0" cy="404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49" name=""/>
                <p:cNvGrpSpPr/>
                <p:nvPr/>
              </p:nvGrpSpPr>
              <p:grpSpPr>
                <a:xfrm>
                  <a:off x="2074680" y="685800"/>
                  <a:ext cx="135000" cy="539640"/>
                  <a:chOff x="2074680" y="685800"/>
                  <a:chExt cx="135000" cy="539640"/>
                </a:xfrm>
              </p:grpSpPr>
              <p:sp>
                <p:nvSpPr>
                  <p:cNvPr id="5750" name=""/>
                  <p:cNvSpPr/>
                  <p:nvPr/>
                </p:nvSpPr>
                <p:spPr>
                  <a:xfrm>
                    <a:off x="2074680" y="685800"/>
                    <a:ext cx="135000" cy="1350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1" name=""/>
                  <p:cNvSpPr/>
                  <p:nvPr/>
                </p:nvSpPr>
                <p:spPr>
                  <a:xfrm>
                    <a:off x="2142000" y="820800"/>
                    <a:ext cx="0" cy="404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752" name=""/>
              <p:cNvSpPr/>
              <p:nvPr/>
            </p:nvSpPr>
            <p:spPr>
              <a:xfrm>
                <a:off x="1940040" y="2850120"/>
                <a:ext cx="201960" cy="33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3" name=""/>
              <p:cNvGrpSpPr/>
              <p:nvPr/>
            </p:nvGrpSpPr>
            <p:grpSpPr>
              <a:xfrm>
                <a:off x="1940040" y="4147200"/>
                <a:ext cx="337320" cy="471600"/>
                <a:chOff x="1940040" y="4147200"/>
                <a:chExt cx="337320" cy="471600"/>
              </a:xfrm>
            </p:grpSpPr>
            <p:sp>
              <p:nvSpPr>
                <p:cNvPr id="5754" name=""/>
                <p:cNvSpPr/>
                <p:nvPr/>
              </p:nvSpPr>
              <p:spPr>
                <a:xfrm>
                  <a:off x="2007000" y="4484520"/>
                  <a:ext cx="135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5" name=""/>
                <p:cNvSpPr/>
                <p:nvPr/>
              </p:nvSpPr>
              <p:spPr>
                <a:xfrm>
                  <a:off x="2007000" y="4282200"/>
                  <a:ext cx="135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6" name=""/>
                <p:cNvSpPr/>
                <p:nvPr/>
              </p:nvSpPr>
              <p:spPr>
                <a:xfrm>
                  <a:off x="2007000" y="4282200"/>
                  <a:ext cx="0" cy="20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57" name=""/>
                <p:cNvGrpSpPr/>
                <p:nvPr/>
              </p:nvGrpSpPr>
              <p:grpSpPr>
                <a:xfrm>
                  <a:off x="1940040" y="4147200"/>
                  <a:ext cx="337320" cy="471600"/>
                  <a:chOff x="1940040" y="4147200"/>
                  <a:chExt cx="337320" cy="471600"/>
                </a:xfrm>
              </p:grpSpPr>
              <p:sp>
                <p:nvSpPr>
                  <p:cNvPr id="5758" name=""/>
                  <p:cNvSpPr/>
                  <p:nvPr/>
                </p:nvSpPr>
                <p:spPr>
                  <a:xfrm>
                    <a:off x="1940040" y="4147200"/>
                    <a:ext cx="3373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59" name=""/>
                  <p:cNvGrpSpPr/>
                  <p:nvPr/>
                </p:nvGrpSpPr>
                <p:grpSpPr>
                  <a:xfrm>
                    <a:off x="1940040" y="4147200"/>
                    <a:ext cx="337320" cy="471600"/>
                    <a:chOff x="1940040" y="4147200"/>
                    <a:chExt cx="337320" cy="471600"/>
                  </a:xfrm>
                </p:grpSpPr>
                <p:sp>
                  <p:nvSpPr>
                    <p:cNvPr id="5760" name=""/>
                    <p:cNvSpPr/>
                    <p:nvPr/>
                  </p:nvSpPr>
                  <p:spPr>
                    <a:xfrm>
                      <a:off x="2277360" y="4147200"/>
                      <a:ext cx="0" cy="471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1" name=""/>
                    <p:cNvSpPr/>
                    <p:nvPr/>
                  </p:nvSpPr>
                  <p:spPr>
                    <a:xfrm>
                      <a:off x="1940040" y="4618800"/>
                      <a:ext cx="33732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2" name=""/>
                    <p:cNvSpPr/>
                    <p:nvPr/>
                  </p:nvSpPr>
                  <p:spPr>
                    <a:xfrm flipV="1">
                      <a:off x="1940040" y="4147200"/>
                      <a:ext cx="0" cy="471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5763" name=""/>
              <p:cNvSpPr/>
              <p:nvPr/>
            </p:nvSpPr>
            <p:spPr>
              <a:xfrm>
                <a:off x="1465560" y="2850120"/>
                <a:ext cx="203760" cy="33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1669680" y="3187800"/>
                <a:ext cx="0" cy="21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1263240" y="5012640"/>
                <a:ext cx="202320" cy="33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 flipH="1">
                <a:off x="1872000" y="5012640"/>
                <a:ext cx="269640" cy="40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1135800" y="5350320"/>
                <a:ext cx="1011240" cy="953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1382040" y="5692680"/>
                <a:ext cx="5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3~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1399680" y="539136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1940040" y="1158120"/>
                <a:ext cx="201960" cy="33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2142360" y="1495800"/>
                <a:ext cx="0" cy="135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 rot="10883400">
                <a:off x="2074320" y="2647440"/>
                <a:ext cx="78120" cy="202320"/>
              </a:xfrm>
              <a:custGeom>
                <a:avLst/>
                <a:gdLst/>
                <a:ahLst/>
                <a:rect l="l" t="t" r="r" b="b"/>
                <a:pathLst>
                  <a:path w="584" h="816">
                    <a:moveTo>
                      <a:pt x="0" y="0"/>
                    </a:moveTo>
                    <a:cubicBezTo>
                      <a:pt x="284" y="100"/>
                      <a:pt x="568" y="200"/>
                      <a:pt x="576" y="336"/>
                    </a:cubicBezTo>
                    <a:cubicBezTo>
                      <a:pt x="584" y="472"/>
                      <a:pt x="316" y="644"/>
                      <a:pt x="48" y="81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1532880" y="1158120"/>
                <a:ext cx="204120" cy="33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1737360" y="1495800"/>
                <a:ext cx="0" cy="135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 rot="10883400">
                <a:off x="1669320" y="2647440"/>
                <a:ext cx="78480" cy="202320"/>
              </a:xfrm>
              <a:custGeom>
                <a:avLst/>
                <a:gdLst/>
                <a:ahLst/>
                <a:rect l="l" t="t" r="r" b="b"/>
                <a:pathLst>
                  <a:path w="584" h="816">
                    <a:moveTo>
                      <a:pt x="0" y="0"/>
                    </a:moveTo>
                    <a:cubicBezTo>
                      <a:pt x="284" y="100"/>
                      <a:pt x="568" y="200"/>
                      <a:pt x="576" y="336"/>
                    </a:cubicBezTo>
                    <a:cubicBezTo>
                      <a:pt x="584" y="472"/>
                      <a:pt x="316" y="644"/>
                      <a:pt x="48" y="81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1128240" y="1158120"/>
                <a:ext cx="202320" cy="33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1330560" y="1495800"/>
                <a:ext cx="0" cy="135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 rot="10883400">
                <a:off x="1262520" y="2647440"/>
                <a:ext cx="78120" cy="202320"/>
              </a:xfrm>
              <a:custGeom>
                <a:avLst/>
                <a:gdLst/>
                <a:ahLst/>
                <a:rect l="l" t="t" r="r" b="b"/>
                <a:pathLst>
                  <a:path w="584" h="816">
                    <a:moveTo>
                      <a:pt x="0" y="0"/>
                    </a:moveTo>
                    <a:cubicBezTo>
                      <a:pt x="284" y="100"/>
                      <a:pt x="568" y="200"/>
                      <a:pt x="576" y="336"/>
                    </a:cubicBezTo>
                    <a:cubicBezTo>
                      <a:pt x="584" y="472"/>
                      <a:pt x="316" y="644"/>
                      <a:pt x="48" y="81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79" name=""/>
              <p:cNvGrpSpPr/>
              <p:nvPr/>
            </p:nvGrpSpPr>
            <p:grpSpPr>
              <a:xfrm>
                <a:off x="1263240" y="1632600"/>
                <a:ext cx="946800" cy="424080"/>
                <a:chOff x="1263240" y="1632600"/>
                <a:chExt cx="946800" cy="424080"/>
              </a:xfrm>
            </p:grpSpPr>
            <p:sp>
              <p:nvSpPr>
                <p:cNvPr id="5780" name=""/>
                <p:cNvSpPr/>
                <p:nvPr/>
              </p:nvSpPr>
              <p:spPr>
                <a:xfrm>
                  <a:off x="2075040" y="1632600"/>
                  <a:ext cx="134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1" name=""/>
                <p:cNvSpPr/>
                <p:nvPr/>
              </p:nvSpPr>
              <p:spPr>
                <a:xfrm>
                  <a:off x="2210040" y="1632600"/>
                  <a:ext cx="0" cy="424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2" name=""/>
                <p:cNvSpPr/>
                <p:nvPr/>
              </p:nvSpPr>
              <p:spPr>
                <a:xfrm>
                  <a:off x="2075040" y="2056680"/>
                  <a:ext cx="134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3" name=""/>
                <p:cNvSpPr/>
                <p:nvPr/>
              </p:nvSpPr>
              <p:spPr>
                <a:xfrm>
                  <a:off x="2075040" y="1632600"/>
                  <a:ext cx="0" cy="424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84" name=""/>
                <p:cNvGrpSpPr/>
                <p:nvPr/>
              </p:nvGrpSpPr>
              <p:grpSpPr>
                <a:xfrm>
                  <a:off x="1669680" y="1632600"/>
                  <a:ext cx="135000" cy="424080"/>
                  <a:chOff x="1669680" y="1632600"/>
                  <a:chExt cx="135000" cy="424080"/>
                </a:xfrm>
              </p:grpSpPr>
              <p:sp>
                <p:nvSpPr>
                  <p:cNvPr id="5785" name=""/>
                  <p:cNvSpPr/>
                  <p:nvPr/>
                </p:nvSpPr>
                <p:spPr>
                  <a:xfrm>
                    <a:off x="1669680" y="1632600"/>
                    <a:ext cx="1350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6" name=""/>
                  <p:cNvSpPr/>
                  <p:nvPr/>
                </p:nvSpPr>
                <p:spPr>
                  <a:xfrm>
                    <a:off x="1804680" y="1632600"/>
                    <a:ext cx="0" cy="424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7" name=""/>
                  <p:cNvSpPr/>
                  <p:nvPr/>
                </p:nvSpPr>
                <p:spPr>
                  <a:xfrm>
                    <a:off x="1669680" y="2056680"/>
                    <a:ext cx="1350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8" name=""/>
                  <p:cNvSpPr/>
                  <p:nvPr/>
                </p:nvSpPr>
                <p:spPr>
                  <a:xfrm>
                    <a:off x="1669680" y="1632600"/>
                    <a:ext cx="0" cy="424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89" name=""/>
                <p:cNvSpPr/>
                <p:nvPr/>
              </p:nvSpPr>
              <p:spPr>
                <a:xfrm>
                  <a:off x="1263240" y="1632600"/>
                  <a:ext cx="134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0" name=""/>
                <p:cNvSpPr/>
                <p:nvPr/>
              </p:nvSpPr>
              <p:spPr>
                <a:xfrm>
                  <a:off x="1397880" y="1632600"/>
                  <a:ext cx="0" cy="424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1" name=""/>
                <p:cNvSpPr/>
                <p:nvPr/>
              </p:nvSpPr>
              <p:spPr>
                <a:xfrm>
                  <a:off x="1263240" y="2056680"/>
                  <a:ext cx="134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2" name=""/>
                <p:cNvSpPr/>
                <p:nvPr/>
              </p:nvSpPr>
              <p:spPr>
                <a:xfrm>
                  <a:off x="1263240" y="1632600"/>
                  <a:ext cx="0" cy="424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93" name=""/>
              <p:cNvSpPr/>
              <p:nvPr/>
            </p:nvSpPr>
            <p:spPr>
              <a:xfrm>
                <a:off x="1060560" y="2850120"/>
                <a:ext cx="202320" cy="33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94" name=""/>
              <p:cNvGrpSpPr/>
              <p:nvPr/>
            </p:nvGrpSpPr>
            <p:grpSpPr>
              <a:xfrm>
                <a:off x="1263240" y="3187800"/>
                <a:ext cx="879120" cy="1130400"/>
                <a:chOff x="1263240" y="3187800"/>
                <a:chExt cx="879120" cy="1130400"/>
              </a:xfrm>
            </p:grpSpPr>
            <p:sp>
              <p:nvSpPr>
                <p:cNvPr id="5795" name=""/>
                <p:cNvSpPr/>
                <p:nvPr/>
              </p:nvSpPr>
              <p:spPr>
                <a:xfrm>
                  <a:off x="2142360" y="3187800"/>
                  <a:ext cx="0" cy="1130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6" name=""/>
                <p:cNvSpPr/>
                <p:nvPr/>
              </p:nvSpPr>
              <p:spPr>
                <a:xfrm>
                  <a:off x="1263240" y="3187800"/>
                  <a:ext cx="0" cy="1130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7" name=""/>
              <p:cNvGrpSpPr/>
              <p:nvPr/>
            </p:nvGrpSpPr>
            <p:grpSpPr>
              <a:xfrm>
                <a:off x="1263240" y="4469040"/>
                <a:ext cx="879120" cy="560520"/>
                <a:chOff x="1263240" y="4469040"/>
                <a:chExt cx="879120" cy="560520"/>
              </a:xfrm>
            </p:grpSpPr>
            <p:sp>
              <p:nvSpPr>
                <p:cNvPr id="5798" name=""/>
                <p:cNvSpPr/>
                <p:nvPr/>
              </p:nvSpPr>
              <p:spPr>
                <a:xfrm>
                  <a:off x="2142360" y="4469040"/>
                  <a:ext cx="0" cy="56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9" name=""/>
                <p:cNvSpPr/>
                <p:nvPr/>
              </p:nvSpPr>
              <p:spPr>
                <a:xfrm>
                  <a:off x="1263240" y="4469040"/>
                  <a:ext cx="0" cy="56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0" name=""/>
              <p:cNvGrpSpPr/>
              <p:nvPr/>
            </p:nvGrpSpPr>
            <p:grpSpPr>
              <a:xfrm>
                <a:off x="1060560" y="4147200"/>
                <a:ext cx="337320" cy="471600"/>
                <a:chOff x="1060560" y="4147200"/>
                <a:chExt cx="337320" cy="471600"/>
              </a:xfrm>
            </p:grpSpPr>
            <p:sp>
              <p:nvSpPr>
                <p:cNvPr id="5801" name=""/>
                <p:cNvSpPr/>
                <p:nvPr/>
              </p:nvSpPr>
              <p:spPr>
                <a:xfrm>
                  <a:off x="1127520" y="4484520"/>
                  <a:ext cx="135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2" name=""/>
                <p:cNvSpPr/>
                <p:nvPr/>
              </p:nvSpPr>
              <p:spPr>
                <a:xfrm>
                  <a:off x="1127520" y="4282200"/>
                  <a:ext cx="135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3" name=""/>
                <p:cNvSpPr/>
                <p:nvPr/>
              </p:nvSpPr>
              <p:spPr>
                <a:xfrm>
                  <a:off x="1127520" y="4282200"/>
                  <a:ext cx="0" cy="20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04" name=""/>
                <p:cNvGrpSpPr/>
                <p:nvPr/>
              </p:nvGrpSpPr>
              <p:grpSpPr>
                <a:xfrm>
                  <a:off x="1060560" y="4147200"/>
                  <a:ext cx="337320" cy="471600"/>
                  <a:chOff x="1060560" y="4147200"/>
                  <a:chExt cx="337320" cy="471600"/>
                </a:xfrm>
              </p:grpSpPr>
              <p:sp>
                <p:nvSpPr>
                  <p:cNvPr id="5805" name=""/>
                  <p:cNvSpPr/>
                  <p:nvPr/>
                </p:nvSpPr>
                <p:spPr>
                  <a:xfrm>
                    <a:off x="1060560" y="4147200"/>
                    <a:ext cx="3373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06" name=""/>
                  <p:cNvGrpSpPr/>
                  <p:nvPr/>
                </p:nvGrpSpPr>
                <p:grpSpPr>
                  <a:xfrm>
                    <a:off x="1060560" y="4147200"/>
                    <a:ext cx="337320" cy="471600"/>
                    <a:chOff x="1060560" y="4147200"/>
                    <a:chExt cx="337320" cy="471600"/>
                  </a:xfrm>
                </p:grpSpPr>
                <p:sp>
                  <p:nvSpPr>
                    <p:cNvPr id="5807" name=""/>
                    <p:cNvSpPr/>
                    <p:nvPr/>
                  </p:nvSpPr>
                  <p:spPr>
                    <a:xfrm>
                      <a:off x="1397880" y="4147200"/>
                      <a:ext cx="0" cy="471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8" name=""/>
                    <p:cNvSpPr/>
                    <p:nvPr/>
                  </p:nvSpPr>
                  <p:spPr>
                    <a:xfrm>
                      <a:off x="1060560" y="4618800"/>
                      <a:ext cx="33732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9" name=""/>
                    <p:cNvSpPr/>
                    <p:nvPr/>
                  </p:nvSpPr>
                  <p:spPr>
                    <a:xfrm flipV="1">
                      <a:off x="1060560" y="4147200"/>
                      <a:ext cx="0" cy="471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5810" name=""/>
              <p:cNvSpPr/>
              <p:nvPr/>
            </p:nvSpPr>
            <p:spPr>
              <a:xfrm>
                <a:off x="411840" y="4106160"/>
                <a:ext cx="653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390600" y="2810520"/>
                <a:ext cx="895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KM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635040" y="1700280"/>
                <a:ext cx="18360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685080" y="1001160"/>
                <a:ext cx="45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4" name=""/>
            <p:cNvSpPr/>
            <p:nvPr/>
          </p:nvSpPr>
          <p:spPr>
            <a:xfrm>
              <a:off x="530280" y="1538280"/>
              <a:ext cx="756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5" name="">
            <a:hlinkClick r:id="rId5"/>
          </p:cNvPr>
          <p:cNvSpPr/>
          <p:nvPr/>
        </p:nvSpPr>
        <p:spPr>
          <a:xfrm>
            <a:off x="457200" y="5105520"/>
            <a:ext cx="690480" cy="37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动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6" name=""/>
          <p:cNvSpPr/>
          <p:nvPr/>
        </p:nvSpPr>
        <p:spPr>
          <a:xfrm>
            <a:off x="533520" y="45856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常运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"/>
          <p:cNvSpPr/>
          <p:nvPr/>
        </p:nvSpPr>
        <p:spPr>
          <a:xfrm>
            <a:off x="546120" y="5075280"/>
            <a:ext cx="101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8" name=""/>
          <p:cNvGrpSpPr/>
          <p:nvPr/>
        </p:nvGrpSpPr>
        <p:grpSpPr>
          <a:xfrm>
            <a:off x="1600200" y="5075280"/>
            <a:ext cx="2122200" cy="579600"/>
            <a:chOff x="1600200" y="5075280"/>
            <a:chExt cx="2122200" cy="579600"/>
          </a:xfrm>
        </p:grpSpPr>
        <p:sp>
          <p:nvSpPr>
            <p:cNvPr id="5819" name=""/>
            <p:cNvSpPr/>
            <p:nvPr/>
          </p:nvSpPr>
          <p:spPr>
            <a:xfrm>
              <a:off x="1600200" y="5257800"/>
              <a:ext cx="663480" cy="220680"/>
            </a:xfrm>
            <a:prstGeom prst="rightArrow">
              <a:avLst>
                <a:gd name="adj1" fmla="val 50000"/>
                <a:gd name="adj2" fmla="val 75163"/>
              </a:avLst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lin ang="10800000"/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2314800" y="5075280"/>
              <a:ext cx="140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通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1" name=""/>
          <p:cNvGrpSpPr/>
          <p:nvPr/>
        </p:nvGrpSpPr>
        <p:grpSpPr>
          <a:xfrm>
            <a:off x="3803760" y="4541760"/>
            <a:ext cx="2558880" cy="1478160"/>
            <a:chOff x="3803760" y="4541760"/>
            <a:chExt cx="2558880" cy="1478160"/>
          </a:xfrm>
        </p:grpSpPr>
        <p:sp>
          <p:nvSpPr>
            <p:cNvPr id="5822" name=""/>
            <p:cNvSpPr/>
            <p:nvPr/>
          </p:nvSpPr>
          <p:spPr>
            <a:xfrm>
              <a:off x="3803760" y="4800600"/>
              <a:ext cx="152640" cy="121932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4314960" y="4541760"/>
              <a:ext cx="204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主触点闭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4" name=""/>
          <p:cNvGrpSpPr/>
          <p:nvPr/>
        </p:nvGrpSpPr>
        <p:grpSpPr>
          <a:xfrm>
            <a:off x="6618240" y="4571280"/>
            <a:ext cx="1707480" cy="520560"/>
            <a:chOff x="6618240" y="4571280"/>
            <a:chExt cx="1707480" cy="520560"/>
          </a:xfrm>
        </p:grpSpPr>
        <p:sp>
          <p:nvSpPr>
            <p:cNvPr id="5825" name=""/>
            <p:cNvSpPr/>
            <p:nvPr/>
          </p:nvSpPr>
          <p:spPr>
            <a:xfrm>
              <a:off x="6618240" y="4876920"/>
              <a:ext cx="38088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7291440" y="4571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电机运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7" name=""/>
          <p:cNvSpPr/>
          <p:nvPr/>
        </p:nvSpPr>
        <p:spPr>
          <a:xfrm>
            <a:off x="4429080" y="5028480"/>
            <a:ext cx="17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开闭合   自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8" name=""/>
          <p:cNvSpPr/>
          <p:nvPr/>
        </p:nvSpPr>
        <p:spPr>
          <a:xfrm>
            <a:off x="4243680" y="5942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闭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9" name=""/>
          <p:cNvGrpSpPr/>
          <p:nvPr/>
        </p:nvGrpSpPr>
        <p:grpSpPr>
          <a:xfrm>
            <a:off x="5551560" y="5913360"/>
            <a:ext cx="2135160" cy="579600"/>
            <a:chOff x="5551560" y="5913360"/>
            <a:chExt cx="2135160" cy="579600"/>
          </a:xfrm>
        </p:grpSpPr>
        <p:sp>
          <p:nvSpPr>
            <p:cNvPr id="5830" name=""/>
            <p:cNvSpPr/>
            <p:nvPr/>
          </p:nvSpPr>
          <p:spPr>
            <a:xfrm>
              <a:off x="5551560" y="62485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6227280" y="5913360"/>
              <a:ext cx="1459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KM</a:t>
              </a:r>
              <a:r>
                <a:rPr b="1" lang="zh-CN" sz="2800" spc="-1" strike="noStrike" baseline="-25000">
                  <a:solidFill>
                    <a:srgbClr val="cc0000"/>
                  </a:solidFill>
                  <a:latin typeface="Times New Roman"/>
                </a:rPr>
                <a:t>2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断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2" name=""/>
          <p:cNvSpPr/>
          <p:nvPr/>
        </p:nvSpPr>
        <p:spPr>
          <a:xfrm>
            <a:off x="6051240" y="5485680"/>
            <a:ext cx="24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KT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通电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常开闭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3" name=""/>
          <p:cNvSpPr/>
          <p:nvPr/>
        </p:nvSpPr>
        <p:spPr>
          <a:xfrm>
            <a:off x="975600" y="1844280"/>
            <a:ext cx="3114720" cy="15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接通电机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接通直流电源制动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KT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控制切断直流电源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4" name=""/>
          <p:cNvSpPr/>
          <p:nvPr/>
        </p:nvSpPr>
        <p:spPr>
          <a:xfrm>
            <a:off x="1740240" y="867960"/>
            <a:ext cx="4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5" name=""/>
          <p:cNvSpPr/>
          <p:nvPr/>
        </p:nvSpPr>
        <p:spPr>
          <a:xfrm>
            <a:off x="2819520" y="3657600"/>
            <a:ext cx="1371600" cy="838080"/>
          </a:xfrm>
          <a:prstGeom prst="wedgeRoundRectCallout">
            <a:avLst>
              <a:gd name="adj1" fmla="val 124421"/>
              <a:gd name="adj2" fmla="val -35986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断电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7547040" y="1508040"/>
            <a:ext cx="455400" cy="326880"/>
          </a:xfrm>
          <a:prstGeom prst="rect">
            <a:avLst/>
          </a:prstGeom>
          <a:solidFill>
            <a:srgbClr val="006666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ff33"/>
                </a:solidFill>
                <a:latin typeface="Times New Roman"/>
              </a:rPr>
              <a:t>通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 flipH="1" flipV="1">
            <a:off x="6248520" y="2590920"/>
            <a:ext cx="30456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 flipV="1">
            <a:off x="6248520" y="3580920"/>
            <a:ext cx="38088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9" name=""/>
          <p:cNvSpPr/>
          <p:nvPr/>
        </p:nvSpPr>
        <p:spPr>
          <a:xfrm>
            <a:off x="5562720" y="518148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0" name=""/>
          <p:cNvSpPr/>
          <p:nvPr/>
        </p:nvSpPr>
        <p:spPr>
          <a:xfrm>
            <a:off x="7527960" y="2550960"/>
            <a:ext cx="455400" cy="326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通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"/>
          <p:cNvSpPr/>
          <p:nvPr/>
        </p:nvSpPr>
        <p:spPr>
          <a:xfrm>
            <a:off x="7527960" y="3738600"/>
            <a:ext cx="455400" cy="326880"/>
          </a:xfrm>
          <a:prstGeom prst="rect">
            <a:avLst/>
          </a:prstGeom>
          <a:solidFill>
            <a:srgbClr val="006666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断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"/>
          <p:cNvSpPr/>
          <p:nvPr/>
        </p:nvSpPr>
        <p:spPr>
          <a:xfrm flipH="1" flipV="1">
            <a:off x="5181120" y="3733920"/>
            <a:ext cx="3049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971640" y="3429000"/>
            <a:ext cx="1447560" cy="1066680"/>
          </a:xfrm>
          <a:prstGeom prst="wedgeRoundRectCallout">
            <a:avLst>
              <a:gd name="adj1" fmla="val -72041"/>
              <a:gd name="adj2" fmla="val -61754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断电延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继电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4" name=""/>
          <p:cNvGrpSpPr/>
          <p:nvPr/>
        </p:nvGrpSpPr>
        <p:grpSpPr>
          <a:xfrm>
            <a:off x="1752480" y="152280"/>
            <a:ext cx="6705360" cy="4038840"/>
            <a:chOff x="1752480" y="152280"/>
            <a:chExt cx="6705360" cy="4038840"/>
          </a:xfrm>
        </p:grpSpPr>
        <p:sp>
          <p:nvSpPr>
            <p:cNvPr id="5845" name=""/>
            <p:cNvSpPr/>
            <p:nvPr/>
          </p:nvSpPr>
          <p:spPr>
            <a:xfrm>
              <a:off x="6095880" y="685800"/>
              <a:ext cx="23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4724280" y="38862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5039280" y="100476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6032880" y="2224080"/>
              <a:ext cx="895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6006240" y="112536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5951160" y="166680"/>
              <a:ext cx="6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7324920" y="914400"/>
              <a:ext cx="895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7543440" y="1371600"/>
              <a:ext cx="4572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8000640" y="16765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1828440" y="685800"/>
              <a:ext cx="388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1828440" y="167652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8457840" y="685800"/>
              <a:ext cx="0" cy="320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7" name=""/>
            <p:cNvGrpSpPr/>
            <p:nvPr/>
          </p:nvGrpSpPr>
          <p:grpSpPr>
            <a:xfrm>
              <a:off x="5643360" y="152280"/>
              <a:ext cx="457200" cy="533520"/>
              <a:chOff x="5643360" y="152280"/>
              <a:chExt cx="457200" cy="533520"/>
            </a:xfrm>
          </p:grpSpPr>
          <p:sp>
            <p:nvSpPr>
              <p:cNvPr id="5858" name=""/>
              <p:cNvSpPr/>
              <p:nvPr/>
            </p:nvSpPr>
            <p:spPr>
              <a:xfrm flipH="1" flipV="1">
                <a:off x="5643360" y="457200"/>
                <a:ext cx="4572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 flipV="1">
                <a:off x="5871960" y="3049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60" name=""/>
              <p:cNvGrpSpPr/>
              <p:nvPr/>
            </p:nvGrpSpPr>
            <p:grpSpPr>
              <a:xfrm>
                <a:off x="5643720" y="152280"/>
                <a:ext cx="456840" cy="152640"/>
                <a:chOff x="5643720" y="152280"/>
                <a:chExt cx="456840" cy="152640"/>
              </a:xfrm>
            </p:grpSpPr>
            <p:sp>
              <p:nvSpPr>
                <p:cNvPr id="5861" name=""/>
                <p:cNvSpPr/>
                <p:nvPr/>
              </p:nvSpPr>
              <p:spPr>
                <a:xfrm flipH="1">
                  <a:off x="5948280" y="15228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2" name=""/>
                <p:cNvSpPr/>
                <p:nvPr/>
              </p:nvSpPr>
              <p:spPr>
                <a:xfrm>
                  <a:off x="5948280" y="15228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3" name=""/>
                <p:cNvSpPr/>
                <p:nvPr/>
              </p:nvSpPr>
              <p:spPr>
                <a:xfrm flipH="1">
                  <a:off x="5796000" y="30492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4" name=""/>
                <p:cNvSpPr/>
                <p:nvPr/>
              </p:nvSpPr>
              <p:spPr>
                <a:xfrm flipV="1">
                  <a:off x="5796000" y="15228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5" name=""/>
                <p:cNvSpPr/>
                <p:nvPr/>
              </p:nvSpPr>
              <p:spPr>
                <a:xfrm flipH="1">
                  <a:off x="5643720" y="15228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6" name=""/>
              <p:cNvSpPr/>
              <p:nvPr/>
            </p:nvSpPr>
            <p:spPr>
              <a:xfrm flipV="1">
                <a:off x="5719680" y="457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7" name=""/>
            <p:cNvSpPr/>
            <p:nvPr/>
          </p:nvSpPr>
          <p:spPr>
            <a:xfrm>
              <a:off x="5410080" y="16765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4724280" y="16765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5714640" y="1676520"/>
              <a:ext cx="50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0" name=""/>
            <p:cNvGrpSpPr/>
            <p:nvPr/>
          </p:nvGrpSpPr>
          <p:grpSpPr>
            <a:xfrm>
              <a:off x="5714640" y="2514960"/>
              <a:ext cx="1371600" cy="380880"/>
              <a:chOff x="5714640" y="2514960"/>
              <a:chExt cx="1371600" cy="380880"/>
            </a:xfrm>
          </p:grpSpPr>
          <p:sp>
            <p:nvSpPr>
              <p:cNvPr id="5871" name=""/>
              <p:cNvSpPr/>
              <p:nvPr/>
            </p:nvSpPr>
            <p:spPr>
              <a:xfrm flipV="1">
                <a:off x="5714640" y="2514960"/>
                <a:ext cx="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 flipH="1">
                <a:off x="6705360" y="27432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 flipH="1">
                <a:off x="6248160" y="2743560"/>
                <a:ext cx="45720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 flipH="1">
                <a:off x="5714640" y="27432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5" name=""/>
            <p:cNvSpPr/>
            <p:nvPr/>
          </p:nvSpPr>
          <p:spPr>
            <a:xfrm>
              <a:off x="6629040" y="167652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 flipH="1" flipV="1">
              <a:off x="7086240" y="1676160"/>
              <a:ext cx="504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7" name=""/>
            <p:cNvGrpSpPr/>
            <p:nvPr/>
          </p:nvGrpSpPr>
          <p:grpSpPr>
            <a:xfrm>
              <a:off x="6095880" y="1687320"/>
              <a:ext cx="533160" cy="373320"/>
              <a:chOff x="6095880" y="1687320"/>
              <a:chExt cx="533160" cy="373320"/>
            </a:xfrm>
          </p:grpSpPr>
          <p:sp>
            <p:nvSpPr>
              <p:cNvPr id="5878" name=""/>
              <p:cNvSpPr/>
              <p:nvPr/>
            </p:nvSpPr>
            <p:spPr>
              <a:xfrm flipV="1">
                <a:off x="6095880" y="1687320"/>
                <a:ext cx="53316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6400440" y="175572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80" name=""/>
              <p:cNvGrpSpPr/>
              <p:nvPr/>
            </p:nvGrpSpPr>
            <p:grpSpPr>
              <a:xfrm>
                <a:off x="6248160" y="1984320"/>
                <a:ext cx="304920" cy="76320"/>
                <a:chOff x="6248160" y="1984320"/>
                <a:chExt cx="304920" cy="76320"/>
              </a:xfrm>
            </p:grpSpPr>
            <p:sp>
              <p:nvSpPr>
                <p:cNvPr id="5881" name=""/>
                <p:cNvSpPr/>
                <p:nvPr/>
              </p:nvSpPr>
              <p:spPr>
                <a:xfrm>
                  <a:off x="6248160" y="1984320"/>
                  <a:ext cx="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2" name=""/>
                <p:cNvSpPr/>
                <p:nvPr/>
              </p:nvSpPr>
              <p:spPr>
                <a:xfrm>
                  <a:off x="6248160" y="206064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3" name=""/>
                <p:cNvSpPr/>
                <p:nvPr/>
              </p:nvSpPr>
              <p:spPr>
                <a:xfrm flipV="1">
                  <a:off x="6553080" y="1984320"/>
                  <a:ext cx="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84" name=""/>
            <p:cNvGrpSpPr/>
            <p:nvPr/>
          </p:nvGrpSpPr>
          <p:grpSpPr>
            <a:xfrm>
              <a:off x="5033880" y="1447920"/>
              <a:ext cx="380880" cy="457560"/>
              <a:chOff x="5033880" y="1447920"/>
              <a:chExt cx="380880" cy="457560"/>
            </a:xfrm>
          </p:grpSpPr>
          <p:sp>
            <p:nvSpPr>
              <p:cNvPr id="5885" name=""/>
              <p:cNvSpPr/>
              <p:nvPr/>
            </p:nvSpPr>
            <p:spPr>
              <a:xfrm flipH="1" flipV="1">
                <a:off x="5033880" y="1447920"/>
                <a:ext cx="3808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 flipV="1">
                <a:off x="5110200" y="14479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5262480" y="16005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88" name=""/>
              <p:cNvGrpSpPr/>
              <p:nvPr/>
            </p:nvGrpSpPr>
            <p:grpSpPr>
              <a:xfrm>
                <a:off x="5110200" y="1828800"/>
                <a:ext cx="304560" cy="76320"/>
                <a:chOff x="5110200" y="1828800"/>
                <a:chExt cx="304560" cy="76320"/>
              </a:xfrm>
            </p:grpSpPr>
            <p:sp>
              <p:nvSpPr>
                <p:cNvPr id="5889" name=""/>
                <p:cNvSpPr/>
                <p:nvPr/>
              </p:nvSpPr>
              <p:spPr>
                <a:xfrm>
                  <a:off x="5414760" y="1828800"/>
                  <a:ext cx="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0" name=""/>
                <p:cNvSpPr/>
                <p:nvPr/>
              </p:nvSpPr>
              <p:spPr>
                <a:xfrm flipH="1">
                  <a:off x="5110200" y="19051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1" name=""/>
                <p:cNvSpPr/>
                <p:nvPr/>
              </p:nvSpPr>
              <p:spPr>
                <a:xfrm flipV="1">
                  <a:off x="5110200" y="1828800"/>
                  <a:ext cx="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92" name=""/>
            <p:cNvSpPr/>
            <p:nvPr/>
          </p:nvSpPr>
          <p:spPr>
            <a:xfrm>
              <a:off x="5562360" y="38862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3" name=""/>
            <p:cNvGrpSpPr/>
            <p:nvPr/>
          </p:nvGrpSpPr>
          <p:grpSpPr>
            <a:xfrm>
              <a:off x="6176880" y="3581280"/>
              <a:ext cx="457200" cy="304560"/>
              <a:chOff x="6176880" y="3581280"/>
              <a:chExt cx="457200" cy="304560"/>
            </a:xfrm>
          </p:grpSpPr>
          <p:sp>
            <p:nvSpPr>
              <p:cNvPr id="5894" name=""/>
              <p:cNvSpPr/>
              <p:nvPr/>
            </p:nvSpPr>
            <p:spPr>
              <a:xfrm flipH="1" flipV="1">
                <a:off x="6176880" y="3581280"/>
                <a:ext cx="45720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 flipV="1">
                <a:off x="6252840" y="358128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6" name=""/>
            <p:cNvSpPr/>
            <p:nvPr/>
          </p:nvSpPr>
          <p:spPr>
            <a:xfrm>
              <a:off x="4724280" y="1676520"/>
              <a:ext cx="0" cy="22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7543440" y="2438280"/>
              <a:ext cx="46224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7086240" y="2743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8000640" y="2743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7543440" y="3611520"/>
              <a:ext cx="4572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8000640" y="3886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6629040" y="38862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03" name=""/>
            <p:cNvGrpSpPr/>
            <p:nvPr/>
          </p:nvGrpSpPr>
          <p:grpSpPr>
            <a:xfrm>
              <a:off x="5105160" y="3657960"/>
              <a:ext cx="533520" cy="471600"/>
              <a:chOff x="5105160" y="3657960"/>
              <a:chExt cx="533520" cy="471600"/>
            </a:xfrm>
          </p:grpSpPr>
          <p:sp>
            <p:nvSpPr>
              <p:cNvPr id="5904" name=""/>
              <p:cNvSpPr/>
              <p:nvPr/>
            </p:nvSpPr>
            <p:spPr>
              <a:xfrm flipH="1">
                <a:off x="5105160" y="3900960"/>
                <a:ext cx="5335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05" name=""/>
              <p:cNvGrpSpPr/>
              <p:nvPr/>
            </p:nvGrpSpPr>
            <p:grpSpPr>
              <a:xfrm>
                <a:off x="5333760" y="3672360"/>
                <a:ext cx="75960" cy="380880"/>
                <a:chOff x="5333760" y="3672360"/>
                <a:chExt cx="75960" cy="380880"/>
              </a:xfrm>
            </p:grpSpPr>
            <p:sp>
              <p:nvSpPr>
                <p:cNvPr id="5906" name=""/>
                <p:cNvSpPr/>
                <p:nvPr/>
              </p:nvSpPr>
              <p:spPr>
                <a:xfrm>
                  <a:off x="5333760" y="36723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>
                  <a:off x="5409720" y="367236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08" name=""/>
              <p:cNvSpPr/>
              <p:nvPr/>
            </p:nvSpPr>
            <p:spPr>
              <a:xfrm flipH="1" flipV="1">
                <a:off x="5262120" y="3657600"/>
                <a:ext cx="223920" cy="90360"/>
              </a:xfrm>
              <a:custGeom>
                <a:avLst/>
                <a:gdLst/>
                <a:ahLst/>
                <a:rect l="l" t="t" r="r" b="b"/>
                <a:pathLst>
                  <a:path w="1063" h="532">
                    <a:moveTo>
                      <a:pt x="0" y="52"/>
                    </a:moveTo>
                    <a:cubicBezTo>
                      <a:pt x="48" y="97"/>
                      <a:pt x="59" y="168"/>
                      <a:pt x="95" y="223"/>
                    </a:cubicBezTo>
                    <a:cubicBezTo>
                      <a:pt x="104" y="253"/>
                      <a:pt x="116" y="270"/>
                      <a:pt x="138" y="292"/>
                    </a:cubicBezTo>
                    <a:cubicBezTo>
                      <a:pt x="152" y="337"/>
                      <a:pt x="137" y="303"/>
                      <a:pt x="180" y="352"/>
                    </a:cubicBezTo>
                    <a:cubicBezTo>
                      <a:pt x="223" y="402"/>
                      <a:pt x="246" y="418"/>
                      <a:pt x="300" y="454"/>
                    </a:cubicBezTo>
                    <a:cubicBezTo>
                      <a:pt x="347" y="485"/>
                      <a:pt x="287" y="462"/>
                      <a:pt x="343" y="480"/>
                    </a:cubicBezTo>
                    <a:cubicBezTo>
                      <a:pt x="385" y="508"/>
                      <a:pt x="423" y="522"/>
                      <a:pt x="472" y="532"/>
                    </a:cubicBezTo>
                    <a:cubicBezTo>
                      <a:pt x="530" y="526"/>
                      <a:pt x="598" y="524"/>
                      <a:pt x="652" y="497"/>
                    </a:cubicBezTo>
                    <a:cubicBezTo>
                      <a:pt x="723" y="462"/>
                      <a:pt x="765" y="410"/>
                      <a:pt x="823" y="360"/>
                    </a:cubicBezTo>
                    <a:cubicBezTo>
                      <a:pt x="834" y="350"/>
                      <a:pt x="848" y="345"/>
                      <a:pt x="858" y="334"/>
                    </a:cubicBezTo>
                    <a:cubicBezTo>
                      <a:pt x="889" y="300"/>
                      <a:pt x="923" y="253"/>
                      <a:pt x="952" y="214"/>
                    </a:cubicBezTo>
                    <a:cubicBezTo>
                      <a:pt x="964" y="198"/>
                      <a:pt x="975" y="180"/>
                      <a:pt x="986" y="163"/>
                    </a:cubicBezTo>
                    <a:cubicBezTo>
                      <a:pt x="992" y="154"/>
                      <a:pt x="1003" y="137"/>
                      <a:pt x="1003" y="137"/>
                    </a:cubicBezTo>
                    <a:cubicBezTo>
                      <a:pt x="1012" y="105"/>
                      <a:pt x="1028" y="83"/>
                      <a:pt x="1038" y="52"/>
                    </a:cubicBezTo>
                    <a:cubicBezTo>
                      <a:pt x="1041" y="43"/>
                      <a:pt x="1042" y="34"/>
                      <a:pt x="1046" y="26"/>
                    </a:cubicBezTo>
                    <a:cubicBezTo>
                      <a:pt x="1050" y="17"/>
                      <a:pt x="1063" y="0"/>
                      <a:pt x="1063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9" name=""/>
            <p:cNvSpPr/>
            <p:nvPr/>
          </p:nvSpPr>
          <p:spPr>
            <a:xfrm>
              <a:off x="7393320" y="1980360"/>
              <a:ext cx="6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K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5035680" y="3199680"/>
              <a:ext cx="6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K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6058080" y="3093840"/>
              <a:ext cx="895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7353720" y="3108240"/>
              <a:ext cx="895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 flipV="1">
              <a:off x="1752480" y="650880"/>
              <a:ext cx="75960" cy="76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 flipV="1">
              <a:off x="1792080" y="1636560"/>
              <a:ext cx="76320" cy="76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5" name=""/>
          <p:cNvSpPr/>
          <p:nvPr/>
        </p:nvSpPr>
        <p:spPr>
          <a:xfrm flipH="1" flipV="1">
            <a:off x="6172200" y="1599840"/>
            <a:ext cx="38088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6" name=""/>
          <p:cNvSpPr/>
          <p:nvPr/>
        </p:nvSpPr>
        <p:spPr>
          <a:xfrm>
            <a:off x="975600" y="2138040"/>
            <a:ext cx="3114720" cy="15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接通电机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接通直流电源制动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KT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控制切断直流电源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7" name=""/>
          <p:cNvSpPr/>
          <p:nvPr/>
        </p:nvSpPr>
        <p:spPr>
          <a:xfrm>
            <a:off x="1740240" y="867960"/>
            <a:ext cx="4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"/>
          <p:cNvSpPr/>
          <p:nvPr/>
        </p:nvSpPr>
        <p:spPr>
          <a:xfrm>
            <a:off x="7547040" y="1508040"/>
            <a:ext cx="455400" cy="326880"/>
          </a:xfrm>
          <a:prstGeom prst="rect">
            <a:avLst/>
          </a:prstGeom>
          <a:solidFill>
            <a:srgbClr val="006666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ff33"/>
                </a:solidFill>
                <a:latin typeface="Times New Roman"/>
              </a:rPr>
              <a:t>通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9" name=""/>
          <p:cNvSpPr/>
          <p:nvPr/>
        </p:nvSpPr>
        <p:spPr>
          <a:xfrm>
            <a:off x="7527960" y="2550960"/>
            <a:ext cx="455400" cy="326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通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0" name=""/>
          <p:cNvSpPr/>
          <p:nvPr/>
        </p:nvSpPr>
        <p:spPr>
          <a:xfrm>
            <a:off x="7527960" y="3738600"/>
            <a:ext cx="455400" cy="326880"/>
          </a:xfrm>
          <a:prstGeom prst="rect">
            <a:avLst/>
          </a:prstGeom>
          <a:solidFill>
            <a:srgbClr val="006666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断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1" name=""/>
          <p:cNvGrpSpPr/>
          <p:nvPr/>
        </p:nvGrpSpPr>
        <p:grpSpPr>
          <a:xfrm>
            <a:off x="5181120" y="2590920"/>
            <a:ext cx="1448280" cy="1599840"/>
            <a:chOff x="5181120" y="2590920"/>
            <a:chExt cx="1448280" cy="1599840"/>
          </a:xfrm>
        </p:grpSpPr>
        <p:sp>
          <p:nvSpPr>
            <p:cNvPr id="5922" name=""/>
            <p:cNvSpPr/>
            <p:nvPr/>
          </p:nvSpPr>
          <p:spPr>
            <a:xfrm flipH="1" flipV="1">
              <a:off x="6248520" y="2590920"/>
              <a:ext cx="30456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 flipV="1">
              <a:off x="6248520" y="3580920"/>
              <a:ext cx="3808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 flipH="1" flipV="1">
              <a:off x="5181120" y="3809520"/>
              <a:ext cx="30492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5" name=""/>
          <p:cNvGrpSpPr/>
          <p:nvPr/>
        </p:nvGrpSpPr>
        <p:grpSpPr>
          <a:xfrm>
            <a:off x="1752480" y="152280"/>
            <a:ext cx="6705360" cy="4038840"/>
            <a:chOff x="1752480" y="152280"/>
            <a:chExt cx="6705360" cy="4038840"/>
          </a:xfrm>
        </p:grpSpPr>
        <p:sp>
          <p:nvSpPr>
            <p:cNvPr id="5926" name=""/>
            <p:cNvSpPr/>
            <p:nvPr/>
          </p:nvSpPr>
          <p:spPr>
            <a:xfrm>
              <a:off x="6095880" y="685800"/>
              <a:ext cx="23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4724280" y="38862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5039280" y="100476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6032880" y="2224080"/>
              <a:ext cx="895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6006240" y="112536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5951160" y="166680"/>
              <a:ext cx="6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7324920" y="914400"/>
              <a:ext cx="895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7543440" y="1371600"/>
              <a:ext cx="4572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8000640" y="16765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1828440" y="685800"/>
              <a:ext cx="388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1828440" y="167652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8457840" y="685800"/>
              <a:ext cx="0" cy="320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38" name=""/>
            <p:cNvGrpSpPr/>
            <p:nvPr/>
          </p:nvGrpSpPr>
          <p:grpSpPr>
            <a:xfrm>
              <a:off x="5643360" y="152280"/>
              <a:ext cx="457200" cy="533520"/>
              <a:chOff x="5643360" y="152280"/>
              <a:chExt cx="457200" cy="533520"/>
            </a:xfrm>
          </p:grpSpPr>
          <p:sp>
            <p:nvSpPr>
              <p:cNvPr id="5939" name=""/>
              <p:cNvSpPr/>
              <p:nvPr/>
            </p:nvSpPr>
            <p:spPr>
              <a:xfrm flipH="1" flipV="1">
                <a:off x="5643360" y="457200"/>
                <a:ext cx="4572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 flipV="1">
                <a:off x="5871960" y="3049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41" name=""/>
              <p:cNvGrpSpPr/>
              <p:nvPr/>
            </p:nvGrpSpPr>
            <p:grpSpPr>
              <a:xfrm>
                <a:off x="5643720" y="152280"/>
                <a:ext cx="456840" cy="152640"/>
                <a:chOff x="5643720" y="152280"/>
                <a:chExt cx="456840" cy="152640"/>
              </a:xfrm>
            </p:grpSpPr>
            <p:sp>
              <p:nvSpPr>
                <p:cNvPr id="5942" name=""/>
                <p:cNvSpPr/>
                <p:nvPr/>
              </p:nvSpPr>
              <p:spPr>
                <a:xfrm flipH="1">
                  <a:off x="5948280" y="15228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3" name=""/>
                <p:cNvSpPr/>
                <p:nvPr/>
              </p:nvSpPr>
              <p:spPr>
                <a:xfrm>
                  <a:off x="5948280" y="15228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4" name=""/>
                <p:cNvSpPr/>
                <p:nvPr/>
              </p:nvSpPr>
              <p:spPr>
                <a:xfrm flipH="1">
                  <a:off x="5796000" y="30492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5" name=""/>
                <p:cNvSpPr/>
                <p:nvPr/>
              </p:nvSpPr>
              <p:spPr>
                <a:xfrm flipV="1">
                  <a:off x="5796000" y="15228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6" name=""/>
                <p:cNvSpPr/>
                <p:nvPr/>
              </p:nvSpPr>
              <p:spPr>
                <a:xfrm flipH="1">
                  <a:off x="5643720" y="15228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47" name=""/>
              <p:cNvSpPr/>
              <p:nvPr/>
            </p:nvSpPr>
            <p:spPr>
              <a:xfrm flipV="1">
                <a:off x="5719680" y="457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8" name=""/>
            <p:cNvSpPr/>
            <p:nvPr/>
          </p:nvSpPr>
          <p:spPr>
            <a:xfrm>
              <a:off x="5410080" y="16765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4724280" y="16765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5714640" y="1676520"/>
              <a:ext cx="50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1" name=""/>
            <p:cNvGrpSpPr/>
            <p:nvPr/>
          </p:nvGrpSpPr>
          <p:grpSpPr>
            <a:xfrm>
              <a:off x="5714640" y="2514960"/>
              <a:ext cx="1371600" cy="380880"/>
              <a:chOff x="5714640" y="2514960"/>
              <a:chExt cx="1371600" cy="380880"/>
            </a:xfrm>
          </p:grpSpPr>
          <p:sp>
            <p:nvSpPr>
              <p:cNvPr id="5952" name=""/>
              <p:cNvSpPr/>
              <p:nvPr/>
            </p:nvSpPr>
            <p:spPr>
              <a:xfrm flipV="1">
                <a:off x="5714640" y="2514960"/>
                <a:ext cx="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 flipH="1">
                <a:off x="6705360" y="27432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 flipH="1">
                <a:off x="6248160" y="2743560"/>
                <a:ext cx="45720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 flipH="1">
                <a:off x="5714640" y="27432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6" name=""/>
            <p:cNvSpPr/>
            <p:nvPr/>
          </p:nvSpPr>
          <p:spPr>
            <a:xfrm>
              <a:off x="6629040" y="167652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 flipH="1" flipV="1">
              <a:off x="7086240" y="1676160"/>
              <a:ext cx="504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8" name=""/>
            <p:cNvGrpSpPr/>
            <p:nvPr/>
          </p:nvGrpSpPr>
          <p:grpSpPr>
            <a:xfrm>
              <a:off x="6095880" y="1687320"/>
              <a:ext cx="533160" cy="373320"/>
              <a:chOff x="6095880" y="1687320"/>
              <a:chExt cx="533160" cy="373320"/>
            </a:xfrm>
          </p:grpSpPr>
          <p:sp>
            <p:nvSpPr>
              <p:cNvPr id="5959" name=""/>
              <p:cNvSpPr/>
              <p:nvPr/>
            </p:nvSpPr>
            <p:spPr>
              <a:xfrm flipV="1">
                <a:off x="6095880" y="1687320"/>
                <a:ext cx="53316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6400440" y="175572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61" name=""/>
              <p:cNvGrpSpPr/>
              <p:nvPr/>
            </p:nvGrpSpPr>
            <p:grpSpPr>
              <a:xfrm>
                <a:off x="6248160" y="1984320"/>
                <a:ext cx="304920" cy="76320"/>
                <a:chOff x="6248160" y="1984320"/>
                <a:chExt cx="304920" cy="76320"/>
              </a:xfrm>
            </p:grpSpPr>
            <p:sp>
              <p:nvSpPr>
                <p:cNvPr id="5962" name=""/>
                <p:cNvSpPr/>
                <p:nvPr/>
              </p:nvSpPr>
              <p:spPr>
                <a:xfrm>
                  <a:off x="6248160" y="1984320"/>
                  <a:ext cx="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3" name=""/>
                <p:cNvSpPr/>
                <p:nvPr/>
              </p:nvSpPr>
              <p:spPr>
                <a:xfrm>
                  <a:off x="6248160" y="206064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4" name=""/>
                <p:cNvSpPr/>
                <p:nvPr/>
              </p:nvSpPr>
              <p:spPr>
                <a:xfrm flipV="1">
                  <a:off x="6553080" y="1984320"/>
                  <a:ext cx="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65" name=""/>
            <p:cNvGrpSpPr/>
            <p:nvPr/>
          </p:nvGrpSpPr>
          <p:grpSpPr>
            <a:xfrm>
              <a:off x="5033880" y="1447920"/>
              <a:ext cx="380880" cy="457560"/>
              <a:chOff x="5033880" y="1447920"/>
              <a:chExt cx="380880" cy="457560"/>
            </a:xfrm>
          </p:grpSpPr>
          <p:sp>
            <p:nvSpPr>
              <p:cNvPr id="5966" name=""/>
              <p:cNvSpPr/>
              <p:nvPr/>
            </p:nvSpPr>
            <p:spPr>
              <a:xfrm flipH="1" flipV="1">
                <a:off x="5033880" y="1447920"/>
                <a:ext cx="3808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 flipV="1">
                <a:off x="5110200" y="14479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5262480" y="16005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69" name=""/>
              <p:cNvGrpSpPr/>
              <p:nvPr/>
            </p:nvGrpSpPr>
            <p:grpSpPr>
              <a:xfrm>
                <a:off x="5110200" y="1828800"/>
                <a:ext cx="304560" cy="76320"/>
                <a:chOff x="5110200" y="1828800"/>
                <a:chExt cx="304560" cy="76320"/>
              </a:xfrm>
            </p:grpSpPr>
            <p:sp>
              <p:nvSpPr>
                <p:cNvPr id="5970" name=""/>
                <p:cNvSpPr/>
                <p:nvPr/>
              </p:nvSpPr>
              <p:spPr>
                <a:xfrm>
                  <a:off x="5414760" y="1828800"/>
                  <a:ext cx="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1" name=""/>
                <p:cNvSpPr/>
                <p:nvPr/>
              </p:nvSpPr>
              <p:spPr>
                <a:xfrm flipH="1">
                  <a:off x="5110200" y="19051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2" name=""/>
                <p:cNvSpPr/>
                <p:nvPr/>
              </p:nvSpPr>
              <p:spPr>
                <a:xfrm flipV="1">
                  <a:off x="5110200" y="1828800"/>
                  <a:ext cx="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73" name=""/>
            <p:cNvSpPr/>
            <p:nvPr/>
          </p:nvSpPr>
          <p:spPr>
            <a:xfrm>
              <a:off x="5562360" y="38862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4" name=""/>
            <p:cNvGrpSpPr/>
            <p:nvPr/>
          </p:nvGrpSpPr>
          <p:grpSpPr>
            <a:xfrm>
              <a:off x="6176880" y="3581280"/>
              <a:ext cx="457200" cy="304560"/>
              <a:chOff x="6176880" y="3581280"/>
              <a:chExt cx="457200" cy="304560"/>
            </a:xfrm>
          </p:grpSpPr>
          <p:sp>
            <p:nvSpPr>
              <p:cNvPr id="5975" name=""/>
              <p:cNvSpPr/>
              <p:nvPr/>
            </p:nvSpPr>
            <p:spPr>
              <a:xfrm flipH="1" flipV="1">
                <a:off x="6176880" y="3581280"/>
                <a:ext cx="45720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 flipV="1">
                <a:off x="6252840" y="358128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7" name=""/>
            <p:cNvSpPr/>
            <p:nvPr/>
          </p:nvSpPr>
          <p:spPr>
            <a:xfrm>
              <a:off x="4724280" y="1676520"/>
              <a:ext cx="0" cy="22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7543440" y="2438280"/>
              <a:ext cx="46224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7086240" y="2743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8000640" y="2743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7543440" y="3611520"/>
              <a:ext cx="4572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8000640" y="3886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6629040" y="38862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4" name=""/>
            <p:cNvGrpSpPr/>
            <p:nvPr/>
          </p:nvGrpSpPr>
          <p:grpSpPr>
            <a:xfrm>
              <a:off x="5105160" y="3657960"/>
              <a:ext cx="533520" cy="471600"/>
              <a:chOff x="5105160" y="3657960"/>
              <a:chExt cx="533520" cy="471600"/>
            </a:xfrm>
          </p:grpSpPr>
          <p:sp>
            <p:nvSpPr>
              <p:cNvPr id="5985" name=""/>
              <p:cNvSpPr/>
              <p:nvPr/>
            </p:nvSpPr>
            <p:spPr>
              <a:xfrm flipH="1">
                <a:off x="5105160" y="3900960"/>
                <a:ext cx="5335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86" name=""/>
              <p:cNvGrpSpPr/>
              <p:nvPr/>
            </p:nvGrpSpPr>
            <p:grpSpPr>
              <a:xfrm>
                <a:off x="5333760" y="3672360"/>
                <a:ext cx="75960" cy="380880"/>
                <a:chOff x="5333760" y="3672360"/>
                <a:chExt cx="75960" cy="380880"/>
              </a:xfrm>
            </p:grpSpPr>
            <p:sp>
              <p:nvSpPr>
                <p:cNvPr id="5987" name=""/>
                <p:cNvSpPr/>
                <p:nvPr/>
              </p:nvSpPr>
              <p:spPr>
                <a:xfrm>
                  <a:off x="5333760" y="36723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8" name=""/>
                <p:cNvSpPr/>
                <p:nvPr/>
              </p:nvSpPr>
              <p:spPr>
                <a:xfrm>
                  <a:off x="5409720" y="367236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89" name=""/>
              <p:cNvSpPr/>
              <p:nvPr/>
            </p:nvSpPr>
            <p:spPr>
              <a:xfrm flipH="1" flipV="1">
                <a:off x="5262120" y="3657600"/>
                <a:ext cx="223920" cy="90360"/>
              </a:xfrm>
              <a:custGeom>
                <a:avLst/>
                <a:gdLst/>
                <a:ahLst/>
                <a:rect l="l" t="t" r="r" b="b"/>
                <a:pathLst>
                  <a:path w="1063" h="532">
                    <a:moveTo>
                      <a:pt x="0" y="52"/>
                    </a:moveTo>
                    <a:cubicBezTo>
                      <a:pt x="48" y="97"/>
                      <a:pt x="59" y="168"/>
                      <a:pt x="95" y="223"/>
                    </a:cubicBezTo>
                    <a:cubicBezTo>
                      <a:pt x="104" y="253"/>
                      <a:pt x="116" y="270"/>
                      <a:pt x="138" y="292"/>
                    </a:cubicBezTo>
                    <a:cubicBezTo>
                      <a:pt x="152" y="337"/>
                      <a:pt x="137" y="303"/>
                      <a:pt x="180" y="352"/>
                    </a:cubicBezTo>
                    <a:cubicBezTo>
                      <a:pt x="223" y="402"/>
                      <a:pt x="246" y="418"/>
                      <a:pt x="300" y="454"/>
                    </a:cubicBezTo>
                    <a:cubicBezTo>
                      <a:pt x="347" y="485"/>
                      <a:pt x="287" y="462"/>
                      <a:pt x="343" y="480"/>
                    </a:cubicBezTo>
                    <a:cubicBezTo>
                      <a:pt x="385" y="508"/>
                      <a:pt x="423" y="522"/>
                      <a:pt x="472" y="532"/>
                    </a:cubicBezTo>
                    <a:cubicBezTo>
                      <a:pt x="530" y="526"/>
                      <a:pt x="598" y="524"/>
                      <a:pt x="652" y="497"/>
                    </a:cubicBezTo>
                    <a:cubicBezTo>
                      <a:pt x="723" y="462"/>
                      <a:pt x="765" y="410"/>
                      <a:pt x="823" y="360"/>
                    </a:cubicBezTo>
                    <a:cubicBezTo>
                      <a:pt x="834" y="350"/>
                      <a:pt x="848" y="345"/>
                      <a:pt x="858" y="334"/>
                    </a:cubicBezTo>
                    <a:cubicBezTo>
                      <a:pt x="889" y="300"/>
                      <a:pt x="923" y="253"/>
                      <a:pt x="952" y="214"/>
                    </a:cubicBezTo>
                    <a:cubicBezTo>
                      <a:pt x="964" y="198"/>
                      <a:pt x="975" y="180"/>
                      <a:pt x="986" y="163"/>
                    </a:cubicBezTo>
                    <a:cubicBezTo>
                      <a:pt x="992" y="154"/>
                      <a:pt x="1003" y="137"/>
                      <a:pt x="1003" y="137"/>
                    </a:cubicBezTo>
                    <a:cubicBezTo>
                      <a:pt x="1012" y="105"/>
                      <a:pt x="1028" y="83"/>
                      <a:pt x="1038" y="52"/>
                    </a:cubicBezTo>
                    <a:cubicBezTo>
                      <a:pt x="1041" y="43"/>
                      <a:pt x="1042" y="34"/>
                      <a:pt x="1046" y="26"/>
                    </a:cubicBezTo>
                    <a:cubicBezTo>
                      <a:pt x="1050" y="17"/>
                      <a:pt x="1063" y="0"/>
                      <a:pt x="1063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0" name=""/>
            <p:cNvSpPr/>
            <p:nvPr/>
          </p:nvSpPr>
          <p:spPr>
            <a:xfrm>
              <a:off x="7393320" y="1980360"/>
              <a:ext cx="6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K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5035680" y="3199680"/>
              <a:ext cx="6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K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6058080" y="3093840"/>
              <a:ext cx="895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7353720" y="3108240"/>
              <a:ext cx="895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 flipV="1">
              <a:off x="1752480" y="650880"/>
              <a:ext cx="75960" cy="76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 flipV="1">
              <a:off x="1792080" y="1636560"/>
              <a:ext cx="76320" cy="76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6" name=""/>
          <p:cNvSpPr/>
          <p:nvPr/>
        </p:nvSpPr>
        <p:spPr>
          <a:xfrm>
            <a:off x="6019920" y="4191120"/>
            <a:ext cx="1371600" cy="838080"/>
          </a:xfrm>
          <a:prstGeom prst="wedgeRoundRectCallout">
            <a:avLst>
              <a:gd name="adj1" fmla="val -79861"/>
              <a:gd name="adj2" fmla="val -80680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断电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7" name=""/>
          <p:cNvSpPr/>
          <p:nvPr/>
        </p:nvSpPr>
        <p:spPr>
          <a:xfrm>
            <a:off x="507960" y="3975840"/>
            <a:ext cx="185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制动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8" name=""/>
          <p:cNvSpPr/>
          <p:nvPr/>
        </p:nvSpPr>
        <p:spPr>
          <a:xfrm>
            <a:off x="469800" y="4556160"/>
            <a:ext cx="101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9" name=""/>
          <p:cNvGrpSpPr/>
          <p:nvPr/>
        </p:nvGrpSpPr>
        <p:grpSpPr>
          <a:xfrm>
            <a:off x="1546200" y="4556160"/>
            <a:ext cx="2234880" cy="579600"/>
            <a:chOff x="1546200" y="4556160"/>
            <a:chExt cx="2234880" cy="579600"/>
          </a:xfrm>
        </p:grpSpPr>
        <p:sp>
          <p:nvSpPr>
            <p:cNvPr id="6000" name=""/>
            <p:cNvSpPr/>
            <p:nvPr/>
          </p:nvSpPr>
          <p:spPr>
            <a:xfrm>
              <a:off x="1546200" y="4738680"/>
              <a:ext cx="533520" cy="228600"/>
            </a:xfrm>
            <a:prstGeom prst="rightArrow">
              <a:avLst>
                <a:gd name="adj1" fmla="val 50000"/>
                <a:gd name="adj2" fmla="val 58346"/>
              </a:avLst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lin ang="10800000"/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2373480" y="4556160"/>
              <a:ext cx="140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断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2" name=""/>
          <p:cNvSpPr/>
          <p:nvPr/>
        </p:nvSpPr>
        <p:spPr>
          <a:xfrm>
            <a:off x="533520" y="529920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3" name=""/>
          <p:cNvSpPr/>
          <p:nvPr/>
        </p:nvSpPr>
        <p:spPr>
          <a:xfrm>
            <a:off x="1121400" y="5113080"/>
            <a:ext cx="20476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触点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4" name=""/>
          <p:cNvGrpSpPr/>
          <p:nvPr/>
        </p:nvGrpSpPr>
        <p:grpSpPr>
          <a:xfrm>
            <a:off x="3429000" y="5104800"/>
            <a:ext cx="2844000" cy="477720"/>
            <a:chOff x="3429000" y="5104800"/>
            <a:chExt cx="2844000" cy="477720"/>
          </a:xfrm>
        </p:grpSpPr>
        <p:sp>
          <p:nvSpPr>
            <p:cNvPr id="6005" name=""/>
            <p:cNvSpPr/>
            <p:nvPr/>
          </p:nvSpPr>
          <p:spPr>
            <a:xfrm>
              <a:off x="3429000" y="53895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4385520" y="5104800"/>
              <a:ext cx="18874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电机脱离三相电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7" name=""/>
          <p:cNvSpPr/>
          <p:nvPr/>
        </p:nvSpPr>
        <p:spPr>
          <a:xfrm>
            <a:off x="966240" y="5542920"/>
            <a:ext cx="1034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开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8" name=""/>
          <p:cNvSpPr/>
          <p:nvPr/>
        </p:nvSpPr>
        <p:spPr>
          <a:xfrm>
            <a:off x="1050480" y="5942880"/>
            <a:ext cx="1034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闭闭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9" name=""/>
          <p:cNvSpPr/>
          <p:nvPr/>
        </p:nvSpPr>
        <p:spPr>
          <a:xfrm>
            <a:off x="7543800" y="1501920"/>
            <a:ext cx="455760" cy="326880"/>
          </a:xfrm>
          <a:prstGeom prst="rect">
            <a:avLst/>
          </a:prstGeom>
          <a:solidFill>
            <a:srgbClr val="006666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断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0" name=""/>
          <p:cNvSpPr/>
          <p:nvPr/>
        </p:nvSpPr>
        <p:spPr>
          <a:xfrm flipV="1">
            <a:off x="6248520" y="3580920"/>
            <a:ext cx="380880" cy="304920"/>
          </a:xfrm>
          <a:prstGeom prst="line">
            <a:avLst/>
          </a:prstGeom>
          <a:ln w="38160">
            <a:solidFill>
              <a:srgbClr val="ccdc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1" name=""/>
          <p:cNvSpPr/>
          <p:nvPr/>
        </p:nvSpPr>
        <p:spPr>
          <a:xfrm flipH="1" flipV="1">
            <a:off x="6248520" y="2590920"/>
            <a:ext cx="304560" cy="380880"/>
          </a:xfrm>
          <a:prstGeom prst="line">
            <a:avLst/>
          </a:prstGeom>
          <a:ln w="38160">
            <a:solidFill>
              <a:srgbClr val="ccdc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2" name=""/>
          <p:cNvSpPr/>
          <p:nvPr/>
        </p:nvSpPr>
        <p:spPr>
          <a:xfrm>
            <a:off x="975600" y="2138040"/>
            <a:ext cx="3114720" cy="15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接通电机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接通直流电源制动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KT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控制切断直流电源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3" name=""/>
          <p:cNvSpPr/>
          <p:nvPr/>
        </p:nvSpPr>
        <p:spPr>
          <a:xfrm>
            <a:off x="6019920" y="4191120"/>
            <a:ext cx="1371600" cy="838080"/>
          </a:xfrm>
          <a:prstGeom prst="wedgeRoundRectCallout">
            <a:avLst>
              <a:gd name="adj1" fmla="val -79861"/>
              <a:gd name="adj2" fmla="val -80680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断电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4" name=""/>
          <p:cNvGrpSpPr/>
          <p:nvPr/>
        </p:nvGrpSpPr>
        <p:grpSpPr>
          <a:xfrm>
            <a:off x="1740240" y="152280"/>
            <a:ext cx="6717960" cy="4038840"/>
            <a:chOff x="1740240" y="152280"/>
            <a:chExt cx="6717960" cy="4038840"/>
          </a:xfrm>
        </p:grpSpPr>
        <p:sp>
          <p:nvSpPr>
            <p:cNvPr id="6015" name=""/>
            <p:cNvSpPr/>
            <p:nvPr/>
          </p:nvSpPr>
          <p:spPr>
            <a:xfrm>
              <a:off x="1740240" y="867960"/>
              <a:ext cx="41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7547040" y="1508040"/>
              <a:ext cx="455400" cy="326880"/>
            </a:xfrm>
            <a:prstGeom prst="rect">
              <a:avLst/>
            </a:prstGeom>
            <a:solidFill>
              <a:srgbClr val="006666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ff33"/>
                  </a:solidFill>
                  <a:latin typeface="Times New Roman"/>
                </a:rPr>
                <a:t>通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7527960" y="2550960"/>
              <a:ext cx="455400" cy="32688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通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7527960" y="3738600"/>
              <a:ext cx="455400" cy="326880"/>
            </a:xfrm>
            <a:prstGeom prst="rect">
              <a:avLst/>
            </a:prstGeom>
            <a:solidFill>
              <a:srgbClr val="006666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Times New Roman"/>
                </a:rPr>
                <a:t>断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 flipH="1" flipV="1">
              <a:off x="5181120" y="3809520"/>
              <a:ext cx="30492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6095880" y="685800"/>
              <a:ext cx="236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4724280" y="38862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5039640" y="100476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6032880" y="2224080"/>
              <a:ext cx="895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6006240" y="112536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5951160" y="166680"/>
              <a:ext cx="6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7325280" y="914400"/>
              <a:ext cx="895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7543800" y="1371600"/>
              <a:ext cx="4572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8001000" y="16765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1828800" y="685800"/>
              <a:ext cx="388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1828800" y="167652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8458200" y="685800"/>
              <a:ext cx="0" cy="320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2" name=""/>
            <p:cNvGrpSpPr/>
            <p:nvPr/>
          </p:nvGrpSpPr>
          <p:grpSpPr>
            <a:xfrm>
              <a:off x="5643720" y="152280"/>
              <a:ext cx="457200" cy="533520"/>
              <a:chOff x="5643720" y="152280"/>
              <a:chExt cx="457200" cy="533520"/>
            </a:xfrm>
          </p:grpSpPr>
          <p:sp>
            <p:nvSpPr>
              <p:cNvPr id="6033" name=""/>
              <p:cNvSpPr/>
              <p:nvPr/>
            </p:nvSpPr>
            <p:spPr>
              <a:xfrm flipH="1" flipV="1">
                <a:off x="5643720" y="457200"/>
                <a:ext cx="4572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 flipV="1">
                <a:off x="5872320" y="3049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35" name=""/>
              <p:cNvGrpSpPr/>
              <p:nvPr/>
            </p:nvGrpSpPr>
            <p:grpSpPr>
              <a:xfrm>
                <a:off x="5644080" y="152280"/>
                <a:ext cx="456840" cy="152640"/>
                <a:chOff x="5644080" y="152280"/>
                <a:chExt cx="456840" cy="152640"/>
              </a:xfrm>
            </p:grpSpPr>
            <p:sp>
              <p:nvSpPr>
                <p:cNvPr id="6036" name=""/>
                <p:cNvSpPr/>
                <p:nvPr/>
              </p:nvSpPr>
              <p:spPr>
                <a:xfrm flipH="1">
                  <a:off x="5948640" y="15228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7" name=""/>
                <p:cNvSpPr/>
                <p:nvPr/>
              </p:nvSpPr>
              <p:spPr>
                <a:xfrm>
                  <a:off x="5948640" y="15228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8" name=""/>
                <p:cNvSpPr/>
                <p:nvPr/>
              </p:nvSpPr>
              <p:spPr>
                <a:xfrm flipH="1">
                  <a:off x="5796360" y="30492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9" name=""/>
                <p:cNvSpPr/>
                <p:nvPr/>
              </p:nvSpPr>
              <p:spPr>
                <a:xfrm flipV="1">
                  <a:off x="5796360" y="15228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0" name=""/>
                <p:cNvSpPr/>
                <p:nvPr/>
              </p:nvSpPr>
              <p:spPr>
                <a:xfrm flipH="1">
                  <a:off x="5644080" y="15228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1" name=""/>
              <p:cNvSpPr/>
              <p:nvPr/>
            </p:nvSpPr>
            <p:spPr>
              <a:xfrm flipV="1">
                <a:off x="5720040" y="457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2" name=""/>
            <p:cNvSpPr/>
            <p:nvPr/>
          </p:nvSpPr>
          <p:spPr>
            <a:xfrm>
              <a:off x="5410080" y="16765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4724280" y="16765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5715000" y="1676520"/>
              <a:ext cx="46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 flipV="1">
              <a:off x="5715000" y="2514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 flipH="1">
              <a:off x="6705720" y="27432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 flipH="1">
              <a:off x="6248520" y="2743200"/>
              <a:ext cx="457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 flipH="1">
              <a:off x="5715000" y="2743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6629400" y="167652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 flipH="1" flipV="1">
              <a:off x="7086240" y="1676160"/>
              <a:ext cx="468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1" name=""/>
            <p:cNvGrpSpPr/>
            <p:nvPr/>
          </p:nvGrpSpPr>
          <p:grpSpPr>
            <a:xfrm>
              <a:off x="6095880" y="1687320"/>
              <a:ext cx="533160" cy="373320"/>
              <a:chOff x="6095880" y="1687320"/>
              <a:chExt cx="533160" cy="373320"/>
            </a:xfrm>
          </p:grpSpPr>
          <p:sp>
            <p:nvSpPr>
              <p:cNvPr id="6052" name=""/>
              <p:cNvSpPr/>
              <p:nvPr/>
            </p:nvSpPr>
            <p:spPr>
              <a:xfrm flipV="1">
                <a:off x="6095880" y="1687320"/>
                <a:ext cx="53316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6400440" y="175572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54" name=""/>
              <p:cNvGrpSpPr/>
              <p:nvPr/>
            </p:nvGrpSpPr>
            <p:grpSpPr>
              <a:xfrm>
                <a:off x="6248160" y="1984320"/>
                <a:ext cx="304920" cy="76320"/>
                <a:chOff x="6248160" y="1984320"/>
                <a:chExt cx="304920" cy="76320"/>
              </a:xfrm>
            </p:grpSpPr>
            <p:sp>
              <p:nvSpPr>
                <p:cNvPr id="6055" name=""/>
                <p:cNvSpPr/>
                <p:nvPr/>
              </p:nvSpPr>
              <p:spPr>
                <a:xfrm>
                  <a:off x="6248160" y="1984320"/>
                  <a:ext cx="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6" name=""/>
                <p:cNvSpPr/>
                <p:nvPr/>
              </p:nvSpPr>
              <p:spPr>
                <a:xfrm>
                  <a:off x="6248160" y="206064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7" name=""/>
                <p:cNvSpPr/>
                <p:nvPr/>
              </p:nvSpPr>
              <p:spPr>
                <a:xfrm flipV="1">
                  <a:off x="6553080" y="1984320"/>
                  <a:ext cx="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58" name=""/>
            <p:cNvGrpSpPr/>
            <p:nvPr/>
          </p:nvGrpSpPr>
          <p:grpSpPr>
            <a:xfrm>
              <a:off x="5033520" y="1447920"/>
              <a:ext cx="381240" cy="457560"/>
              <a:chOff x="5033520" y="1447920"/>
              <a:chExt cx="381240" cy="457560"/>
            </a:xfrm>
          </p:grpSpPr>
          <p:sp>
            <p:nvSpPr>
              <p:cNvPr id="6059" name=""/>
              <p:cNvSpPr/>
              <p:nvPr/>
            </p:nvSpPr>
            <p:spPr>
              <a:xfrm flipH="1" flipV="1">
                <a:off x="5033520" y="1447920"/>
                <a:ext cx="381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 flipV="1">
                <a:off x="5109840" y="14479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5262120" y="16005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62" name=""/>
              <p:cNvGrpSpPr/>
              <p:nvPr/>
            </p:nvGrpSpPr>
            <p:grpSpPr>
              <a:xfrm>
                <a:off x="5109840" y="1828800"/>
                <a:ext cx="304920" cy="76320"/>
                <a:chOff x="5109840" y="1828800"/>
                <a:chExt cx="304920" cy="76320"/>
              </a:xfrm>
            </p:grpSpPr>
            <p:sp>
              <p:nvSpPr>
                <p:cNvPr id="6063" name=""/>
                <p:cNvSpPr/>
                <p:nvPr/>
              </p:nvSpPr>
              <p:spPr>
                <a:xfrm>
                  <a:off x="5414760" y="1828800"/>
                  <a:ext cx="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4" name=""/>
                <p:cNvSpPr/>
                <p:nvPr/>
              </p:nvSpPr>
              <p:spPr>
                <a:xfrm flipH="1">
                  <a:off x="5109840" y="19051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5" name=""/>
                <p:cNvSpPr/>
                <p:nvPr/>
              </p:nvSpPr>
              <p:spPr>
                <a:xfrm flipV="1">
                  <a:off x="5109840" y="1828800"/>
                  <a:ext cx="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66" name=""/>
            <p:cNvSpPr/>
            <p:nvPr/>
          </p:nvSpPr>
          <p:spPr>
            <a:xfrm>
              <a:off x="5562720" y="38862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7" name=""/>
            <p:cNvGrpSpPr/>
            <p:nvPr/>
          </p:nvGrpSpPr>
          <p:grpSpPr>
            <a:xfrm>
              <a:off x="6176880" y="3581280"/>
              <a:ext cx="457200" cy="304560"/>
              <a:chOff x="6176880" y="3581280"/>
              <a:chExt cx="457200" cy="304560"/>
            </a:xfrm>
          </p:grpSpPr>
          <p:sp>
            <p:nvSpPr>
              <p:cNvPr id="6068" name=""/>
              <p:cNvSpPr/>
              <p:nvPr/>
            </p:nvSpPr>
            <p:spPr>
              <a:xfrm flipH="1" flipV="1">
                <a:off x="6176880" y="3581280"/>
                <a:ext cx="45720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 flipV="1">
                <a:off x="6252840" y="358128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0" name=""/>
            <p:cNvSpPr/>
            <p:nvPr/>
          </p:nvSpPr>
          <p:spPr>
            <a:xfrm>
              <a:off x="4724280" y="1676520"/>
              <a:ext cx="0" cy="22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7543800" y="2438280"/>
              <a:ext cx="46188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7086600" y="2743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8001000" y="2743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7543800" y="3611520"/>
              <a:ext cx="4572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8001000" y="3886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6629400" y="38862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77" name=""/>
            <p:cNvGrpSpPr/>
            <p:nvPr/>
          </p:nvGrpSpPr>
          <p:grpSpPr>
            <a:xfrm>
              <a:off x="5105160" y="3657960"/>
              <a:ext cx="533160" cy="471600"/>
              <a:chOff x="5105160" y="3657960"/>
              <a:chExt cx="533160" cy="471600"/>
            </a:xfrm>
          </p:grpSpPr>
          <p:sp>
            <p:nvSpPr>
              <p:cNvPr id="6078" name=""/>
              <p:cNvSpPr/>
              <p:nvPr/>
            </p:nvSpPr>
            <p:spPr>
              <a:xfrm flipH="1">
                <a:off x="5105160" y="3900960"/>
                <a:ext cx="53316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79" name=""/>
              <p:cNvGrpSpPr/>
              <p:nvPr/>
            </p:nvGrpSpPr>
            <p:grpSpPr>
              <a:xfrm>
                <a:off x="5334480" y="3672360"/>
                <a:ext cx="75960" cy="380880"/>
                <a:chOff x="5334480" y="3672360"/>
                <a:chExt cx="75960" cy="380880"/>
              </a:xfrm>
            </p:grpSpPr>
            <p:sp>
              <p:nvSpPr>
                <p:cNvPr id="6080" name=""/>
                <p:cNvSpPr/>
                <p:nvPr/>
              </p:nvSpPr>
              <p:spPr>
                <a:xfrm>
                  <a:off x="5334480" y="36723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1" name=""/>
                <p:cNvSpPr/>
                <p:nvPr/>
              </p:nvSpPr>
              <p:spPr>
                <a:xfrm>
                  <a:off x="5410440" y="367236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82" name=""/>
              <p:cNvSpPr/>
              <p:nvPr/>
            </p:nvSpPr>
            <p:spPr>
              <a:xfrm flipH="1" flipV="1">
                <a:off x="5262120" y="3657600"/>
                <a:ext cx="223560" cy="90360"/>
              </a:xfrm>
              <a:custGeom>
                <a:avLst/>
                <a:gdLst/>
                <a:ahLst/>
                <a:rect l="l" t="t" r="r" b="b"/>
                <a:pathLst>
                  <a:path w="1063" h="532">
                    <a:moveTo>
                      <a:pt x="0" y="52"/>
                    </a:moveTo>
                    <a:cubicBezTo>
                      <a:pt x="48" y="97"/>
                      <a:pt x="59" y="168"/>
                      <a:pt x="95" y="223"/>
                    </a:cubicBezTo>
                    <a:cubicBezTo>
                      <a:pt x="104" y="253"/>
                      <a:pt x="116" y="270"/>
                      <a:pt x="138" y="292"/>
                    </a:cubicBezTo>
                    <a:cubicBezTo>
                      <a:pt x="152" y="337"/>
                      <a:pt x="137" y="303"/>
                      <a:pt x="180" y="352"/>
                    </a:cubicBezTo>
                    <a:cubicBezTo>
                      <a:pt x="223" y="402"/>
                      <a:pt x="246" y="418"/>
                      <a:pt x="300" y="454"/>
                    </a:cubicBezTo>
                    <a:cubicBezTo>
                      <a:pt x="347" y="485"/>
                      <a:pt x="287" y="462"/>
                      <a:pt x="343" y="480"/>
                    </a:cubicBezTo>
                    <a:cubicBezTo>
                      <a:pt x="385" y="508"/>
                      <a:pt x="423" y="522"/>
                      <a:pt x="472" y="532"/>
                    </a:cubicBezTo>
                    <a:cubicBezTo>
                      <a:pt x="530" y="526"/>
                      <a:pt x="598" y="524"/>
                      <a:pt x="652" y="497"/>
                    </a:cubicBezTo>
                    <a:cubicBezTo>
                      <a:pt x="723" y="462"/>
                      <a:pt x="765" y="410"/>
                      <a:pt x="823" y="360"/>
                    </a:cubicBezTo>
                    <a:cubicBezTo>
                      <a:pt x="834" y="350"/>
                      <a:pt x="848" y="345"/>
                      <a:pt x="858" y="334"/>
                    </a:cubicBezTo>
                    <a:cubicBezTo>
                      <a:pt x="889" y="300"/>
                      <a:pt x="923" y="253"/>
                      <a:pt x="952" y="214"/>
                    </a:cubicBezTo>
                    <a:cubicBezTo>
                      <a:pt x="964" y="198"/>
                      <a:pt x="975" y="180"/>
                      <a:pt x="986" y="163"/>
                    </a:cubicBezTo>
                    <a:cubicBezTo>
                      <a:pt x="992" y="154"/>
                      <a:pt x="1003" y="137"/>
                      <a:pt x="1003" y="137"/>
                    </a:cubicBezTo>
                    <a:cubicBezTo>
                      <a:pt x="1012" y="105"/>
                      <a:pt x="1028" y="83"/>
                      <a:pt x="1038" y="52"/>
                    </a:cubicBezTo>
                    <a:cubicBezTo>
                      <a:pt x="1041" y="43"/>
                      <a:pt x="1042" y="34"/>
                      <a:pt x="1046" y="26"/>
                    </a:cubicBezTo>
                    <a:cubicBezTo>
                      <a:pt x="1050" y="17"/>
                      <a:pt x="1063" y="0"/>
                      <a:pt x="1063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3" name=""/>
            <p:cNvSpPr/>
            <p:nvPr/>
          </p:nvSpPr>
          <p:spPr>
            <a:xfrm>
              <a:off x="7393680" y="1980360"/>
              <a:ext cx="6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K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5036040" y="3199680"/>
              <a:ext cx="6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K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6058440" y="3093840"/>
              <a:ext cx="895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7353720" y="3108240"/>
              <a:ext cx="895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 flipV="1">
              <a:off x="1752480" y="650880"/>
              <a:ext cx="76320" cy="76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 flipV="1">
              <a:off x="1792440" y="1636560"/>
              <a:ext cx="75960" cy="76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7543800" y="1501920"/>
              <a:ext cx="455760" cy="326880"/>
            </a:xfrm>
            <a:prstGeom prst="rect">
              <a:avLst/>
            </a:prstGeom>
            <a:solidFill>
              <a:srgbClr val="006666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Times New Roman"/>
                </a:rPr>
                <a:t>断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0" name=""/>
          <p:cNvSpPr/>
          <p:nvPr/>
        </p:nvSpPr>
        <p:spPr>
          <a:xfrm>
            <a:off x="7539120" y="3711600"/>
            <a:ext cx="455400" cy="326880"/>
          </a:xfrm>
          <a:prstGeom prst="rect">
            <a:avLst/>
          </a:prstGeom>
          <a:solidFill>
            <a:srgbClr val="006666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ff33"/>
                </a:solidFill>
                <a:latin typeface="Times New Roman"/>
              </a:rPr>
              <a:t>通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1" name=""/>
          <p:cNvSpPr/>
          <p:nvPr/>
        </p:nvSpPr>
        <p:spPr>
          <a:xfrm>
            <a:off x="7539120" y="2568600"/>
            <a:ext cx="455400" cy="326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断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2" name=""/>
          <p:cNvGrpSpPr/>
          <p:nvPr/>
        </p:nvGrpSpPr>
        <p:grpSpPr>
          <a:xfrm>
            <a:off x="2286000" y="5562000"/>
            <a:ext cx="1690200" cy="520560"/>
            <a:chOff x="2286000" y="5562000"/>
            <a:chExt cx="1690200" cy="520560"/>
          </a:xfrm>
        </p:grpSpPr>
        <p:sp>
          <p:nvSpPr>
            <p:cNvPr id="6093" name=""/>
            <p:cNvSpPr/>
            <p:nvPr/>
          </p:nvSpPr>
          <p:spPr>
            <a:xfrm>
              <a:off x="2771640" y="5562000"/>
              <a:ext cx="12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KT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断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2286000" y="5867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5" name=""/>
          <p:cNvGrpSpPr/>
          <p:nvPr/>
        </p:nvGrpSpPr>
        <p:grpSpPr>
          <a:xfrm>
            <a:off x="2286000" y="5927760"/>
            <a:ext cx="2006280" cy="579600"/>
            <a:chOff x="2286000" y="5927760"/>
            <a:chExt cx="2006280" cy="579600"/>
          </a:xfrm>
        </p:grpSpPr>
        <p:sp>
          <p:nvSpPr>
            <p:cNvPr id="6096" name=""/>
            <p:cNvSpPr/>
            <p:nvPr/>
          </p:nvSpPr>
          <p:spPr>
            <a:xfrm>
              <a:off x="2286000" y="62625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2884680" y="5927760"/>
              <a:ext cx="140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KM</a:t>
              </a:r>
              <a:r>
                <a:rPr b="1" lang="zh-CN" sz="28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通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8" name=""/>
          <p:cNvGrpSpPr/>
          <p:nvPr/>
        </p:nvGrpSpPr>
        <p:grpSpPr>
          <a:xfrm>
            <a:off x="4343400" y="5957280"/>
            <a:ext cx="1698840" cy="520560"/>
            <a:chOff x="4343400" y="5957280"/>
            <a:chExt cx="1698840" cy="520560"/>
          </a:xfrm>
        </p:grpSpPr>
        <p:sp>
          <p:nvSpPr>
            <p:cNvPr id="6099" name=""/>
            <p:cNvSpPr/>
            <p:nvPr/>
          </p:nvSpPr>
          <p:spPr>
            <a:xfrm>
              <a:off x="4343400" y="6262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5007960" y="5957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制动开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1" name=""/>
          <p:cNvGrpSpPr/>
          <p:nvPr/>
        </p:nvGrpSpPr>
        <p:grpSpPr>
          <a:xfrm>
            <a:off x="469800" y="3975840"/>
            <a:ext cx="5803200" cy="2524680"/>
            <a:chOff x="469800" y="3975840"/>
            <a:chExt cx="5803200" cy="2524680"/>
          </a:xfrm>
        </p:grpSpPr>
        <p:grpSp>
          <p:nvGrpSpPr>
            <p:cNvPr id="6102" name=""/>
            <p:cNvGrpSpPr/>
            <p:nvPr/>
          </p:nvGrpSpPr>
          <p:grpSpPr>
            <a:xfrm>
              <a:off x="469800" y="3975840"/>
              <a:ext cx="5803200" cy="2501280"/>
              <a:chOff x="469800" y="3975840"/>
              <a:chExt cx="5803200" cy="2501280"/>
            </a:xfrm>
          </p:grpSpPr>
          <p:sp>
            <p:nvSpPr>
              <p:cNvPr id="6103" name=""/>
              <p:cNvSpPr/>
              <p:nvPr/>
            </p:nvSpPr>
            <p:spPr>
              <a:xfrm>
                <a:off x="507960" y="3975840"/>
                <a:ext cx="1854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制动时：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469800" y="4556160"/>
                <a:ext cx="1017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按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B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05" name=""/>
              <p:cNvGrpSpPr/>
              <p:nvPr/>
            </p:nvGrpSpPr>
            <p:grpSpPr>
              <a:xfrm>
                <a:off x="1546200" y="4556160"/>
                <a:ext cx="2234880" cy="579600"/>
                <a:chOff x="1546200" y="4556160"/>
                <a:chExt cx="2234880" cy="579600"/>
              </a:xfrm>
            </p:grpSpPr>
            <p:sp>
              <p:nvSpPr>
                <p:cNvPr id="6106" name=""/>
                <p:cNvSpPr/>
                <p:nvPr/>
              </p:nvSpPr>
              <p:spPr>
                <a:xfrm>
                  <a:off x="1546200" y="4738680"/>
                  <a:ext cx="533520" cy="228600"/>
                </a:xfrm>
                <a:prstGeom prst="rightArrow">
                  <a:avLst>
                    <a:gd name="adj1" fmla="val 50000"/>
                    <a:gd name="adj2" fmla="val 58346"/>
                  </a:avLst>
                </a:prstGeom>
                <a:gradFill rotWithShape="0">
                  <a:gsLst>
                    <a:gs pos="0">
                      <a:srgbClr val="004600"/>
                    </a:gs>
                    <a:gs pos="100000">
                      <a:srgbClr val="009900"/>
                    </a:gs>
                  </a:gsLst>
                  <a:lin ang="10800000"/>
                </a:gra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7" name=""/>
                <p:cNvSpPr/>
                <p:nvPr/>
              </p:nvSpPr>
              <p:spPr>
                <a:xfrm>
                  <a:off x="2373480" y="4556160"/>
                  <a:ext cx="14076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99"/>
                      </a:solidFill>
                      <a:latin typeface="Times New Roman"/>
                    </a:rPr>
                    <a:t>KM</a:t>
                  </a:r>
                  <a:r>
                    <a:rPr b="1" lang="zh-CN" sz="28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1</a:t>
                  </a:r>
                  <a:r>
                    <a:rPr b="1" lang="zh-CN" sz="2800" spc="-1" strike="noStrike">
                      <a:solidFill>
                        <a:srgbClr val="000099"/>
                      </a:solidFill>
                      <a:latin typeface="Times New Roman"/>
                    </a:rPr>
                    <a:t>断电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8" name=""/>
              <p:cNvSpPr/>
              <p:nvPr/>
            </p:nvSpPr>
            <p:spPr>
              <a:xfrm>
                <a:off x="533520" y="5299200"/>
                <a:ext cx="228600" cy="9903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25560 h 990360"/>
                  <a:gd name="textAreaBottom" fmla="*/ 964800 h 99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1121400" y="5113080"/>
                <a:ext cx="2047680" cy="5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主触点断开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10" name=""/>
              <p:cNvGrpSpPr/>
              <p:nvPr/>
            </p:nvGrpSpPr>
            <p:grpSpPr>
              <a:xfrm>
                <a:off x="3429000" y="5104800"/>
                <a:ext cx="2844000" cy="477720"/>
                <a:chOff x="3429000" y="5104800"/>
                <a:chExt cx="2844000" cy="477720"/>
              </a:xfrm>
            </p:grpSpPr>
            <p:sp>
              <p:nvSpPr>
                <p:cNvPr id="6111" name=""/>
                <p:cNvSpPr/>
                <p:nvPr/>
              </p:nvSpPr>
              <p:spPr>
                <a:xfrm>
                  <a:off x="3429000" y="53895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2" name=""/>
                <p:cNvSpPr/>
                <p:nvPr/>
              </p:nvSpPr>
              <p:spPr>
                <a:xfrm>
                  <a:off x="4385520" y="5104800"/>
                  <a:ext cx="18874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Times New Roman"/>
                    </a:rPr>
                    <a:t>电机脱离三相电源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3" name=""/>
              <p:cNvSpPr/>
              <p:nvPr/>
            </p:nvSpPr>
            <p:spPr>
              <a:xfrm>
                <a:off x="1390680" y="6000840"/>
                <a:ext cx="18396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1398600" y="5562720"/>
                <a:ext cx="18396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5" name=""/>
            <p:cNvSpPr/>
            <p:nvPr/>
          </p:nvSpPr>
          <p:spPr>
            <a:xfrm>
              <a:off x="1039320" y="59799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常闭闭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1042560" y="55008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常开断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7" name=""/>
          <p:cNvSpPr/>
          <p:nvPr/>
        </p:nvSpPr>
        <p:spPr>
          <a:xfrm>
            <a:off x="975600" y="1615680"/>
            <a:ext cx="3114720" cy="15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接通电机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KM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接通直流电源制动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KT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控制切断直流电源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"/>
          <p:cNvSpPr/>
          <p:nvPr/>
        </p:nvSpPr>
        <p:spPr>
          <a:xfrm>
            <a:off x="5105520" y="3809880"/>
            <a:ext cx="457200" cy="343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9" name=""/>
          <p:cNvGrpSpPr/>
          <p:nvPr/>
        </p:nvGrpSpPr>
        <p:grpSpPr>
          <a:xfrm>
            <a:off x="1740240" y="152280"/>
            <a:ext cx="6717960" cy="4038840"/>
            <a:chOff x="1740240" y="152280"/>
            <a:chExt cx="6717960" cy="4038840"/>
          </a:xfrm>
        </p:grpSpPr>
        <p:sp>
          <p:nvSpPr>
            <p:cNvPr id="6120" name=""/>
            <p:cNvSpPr/>
            <p:nvPr/>
          </p:nvSpPr>
          <p:spPr>
            <a:xfrm>
              <a:off x="1740240" y="867960"/>
              <a:ext cx="41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7547040" y="1508040"/>
              <a:ext cx="455400" cy="326880"/>
            </a:xfrm>
            <a:prstGeom prst="rect">
              <a:avLst/>
            </a:prstGeom>
            <a:solidFill>
              <a:srgbClr val="006666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ff33"/>
                  </a:solidFill>
                  <a:latin typeface="Times New Roman"/>
                </a:rPr>
                <a:t>通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7527960" y="2550960"/>
              <a:ext cx="455400" cy="32688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通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7527960" y="3738600"/>
              <a:ext cx="455400" cy="326880"/>
            </a:xfrm>
            <a:prstGeom prst="rect">
              <a:avLst/>
            </a:prstGeom>
            <a:solidFill>
              <a:srgbClr val="006666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Times New Roman"/>
                </a:rPr>
                <a:t>通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6095880" y="685800"/>
              <a:ext cx="236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4724280" y="38862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5039640" y="100476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6032880" y="2224080"/>
              <a:ext cx="895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6006240" y="112536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5951160" y="166680"/>
              <a:ext cx="6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7325280" y="914400"/>
              <a:ext cx="895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7543800" y="1371600"/>
              <a:ext cx="4572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8001000" y="16765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1828800" y="685800"/>
              <a:ext cx="388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1828800" y="167652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8458200" y="685800"/>
              <a:ext cx="0" cy="320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6" name=""/>
            <p:cNvGrpSpPr/>
            <p:nvPr/>
          </p:nvGrpSpPr>
          <p:grpSpPr>
            <a:xfrm>
              <a:off x="5643720" y="152280"/>
              <a:ext cx="457200" cy="533520"/>
              <a:chOff x="5643720" y="152280"/>
              <a:chExt cx="457200" cy="533520"/>
            </a:xfrm>
          </p:grpSpPr>
          <p:sp>
            <p:nvSpPr>
              <p:cNvPr id="6137" name=""/>
              <p:cNvSpPr/>
              <p:nvPr/>
            </p:nvSpPr>
            <p:spPr>
              <a:xfrm flipH="1" flipV="1">
                <a:off x="5643720" y="457200"/>
                <a:ext cx="4572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 flipV="1">
                <a:off x="5872320" y="3049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39" name=""/>
              <p:cNvGrpSpPr/>
              <p:nvPr/>
            </p:nvGrpSpPr>
            <p:grpSpPr>
              <a:xfrm>
                <a:off x="5644080" y="152280"/>
                <a:ext cx="456840" cy="152640"/>
                <a:chOff x="5644080" y="152280"/>
                <a:chExt cx="456840" cy="152640"/>
              </a:xfrm>
            </p:grpSpPr>
            <p:sp>
              <p:nvSpPr>
                <p:cNvPr id="6140" name=""/>
                <p:cNvSpPr/>
                <p:nvPr/>
              </p:nvSpPr>
              <p:spPr>
                <a:xfrm flipH="1">
                  <a:off x="5948640" y="15228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1" name=""/>
                <p:cNvSpPr/>
                <p:nvPr/>
              </p:nvSpPr>
              <p:spPr>
                <a:xfrm>
                  <a:off x="5948640" y="15228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2" name=""/>
                <p:cNvSpPr/>
                <p:nvPr/>
              </p:nvSpPr>
              <p:spPr>
                <a:xfrm flipH="1">
                  <a:off x="5796360" y="30492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3" name=""/>
                <p:cNvSpPr/>
                <p:nvPr/>
              </p:nvSpPr>
              <p:spPr>
                <a:xfrm flipV="1">
                  <a:off x="5796360" y="15228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4" name=""/>
                <p:cNvSpPr/>
                <p:nvPr/>
              </p:nvSpPr>
              <p:spPr>
                <a:xfrm flipH="1">
                  <a:off x="5644080" y="15228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45" name=""/>
              <p:cNvSpPr/>
              <p:nvPr/>
            </p:nvSpPr>
            <p:spPr>
              <a:xfrm flipV="1">
                <a:off x="5720040" y="457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6" name=""/>
            <p:cNvSpPr/>
            <p:nvPr/>
          </p:nvSpPr>
          <p:spPr>
            <a:xfrm>
              <a:off x="5410080" y="16765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4724280" y="16765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5715000" y="1676520"/>
              <a:ext cx="46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 flipV="1">
              <a:off x="5715000" y="2514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 flipH="1">
              <a:off x="6705720" y="27432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 flipH="1">
              <a:off x="6248520" y="2743200"/>
              <a:ext cx="457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 flipH="1">
              <a:off x="5715000" y="2743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6629400" y="167652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 flipH="1" flipV="1">
              <a:off x="7086240" y="1676160"/>
              <a:ext cx="468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5" name=""/>
            <p:cNvGrpSpPr/>
            <p:nvPr/>
          </p:nvGrpSpPr>
          <p:grpSpPr>
            <a:xfrm>
              <a:off x="6095880" y="1687320"/>
              <a:ext cx="533160" cy="373320"/>
              <a:chOff x="6095880" y="1687320"/>
              <a:chExt cx="533160" cy="373320"/>
            </a:xfrm>
          </p:grpSpPr>
          <p:sp>
            <p:nvSpPr>
              <p:cNvPr id="6156" name=""/>
              <p:cNvSpPr/>
              <p:nvPr/>
            </p:nvSpPr>
            <p:spPr>
              <a:xfrm flipV="1">
                <a:off x="6095880" y="1687320"/>
                <a:ext cx="53316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6400440" y="175572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58" name=""/>
              <p:cNvGrpSpPr/>
              <p:nvPr/>
            </p:nvGrpSpPr>
            <p:grpSpPr>
              <a:xfrm>
                <a:off x="6248160" y="1984320"/>
                <a:ext cx="304920" cy="76320"/>
                <a:chOff x="6248160" y="1984320"/>
                <a:chExt cx="304920" cy="76320"/>
              </a:xfrm>
            </p:grpSpPr>
            <p:sp>
              <p:nvSpPr>
                <p:cNvPr id="6159" name=""/>
                <p:cNvSpPr/>
                <p:nvPr/>
              </p:nvSpPr>
              <p:spPr>
                <a:xfrm>
                  <a:off x="6248160" y="1984320"/>
                  <a:ext cx="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0" name=""/>
                <p:cNvSpPr/>
                <p:nvPr/>
              </p:nvSpPr>
              <p:spPr>
                <a:xfrm>
                  <a:off x="6248160" y="206064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1" name=""/>
                <p:cNvSpPr/>
                <p:nvPr/>
              </p:nvSpPr>
              <p:spPr>
                <a:xfrm flipV="1">
                  <a:off x="6553080" y="1984320"/>
                  <a:ext cx="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62" name=""/>
            <p:cNvGrpSpPr/>
            <p:nvPr/>
          </p:nvGrpSpPr>
          <p:grpSpPr>
            <a:xfrm>
              <a:off x="5033520" y="1447920"/>
              <a:ext cx="381240" cy="457560"/>
              <a:chOff x="5033520" y="1447920"/>
              <a:chExt cx="381240" cy="457560"/>
            </a:xfrm>
          </p:grpSpPr>
          <p:sp>
            <p:nvSpPr>
              <p:cNvPr id="6163" name=""/>
              <p:cNvSpPr/>
              <p:nvPr/>
            </p:nvSpPr>
            <p:spPr>
              <a:xfrm flipH="1" flipV="1">
                <a:off x="5033520" y="1447920"/>
                <a:ext cx="381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 flipV="1">
                <a:off x="5109840" y="14479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5262120" y="16005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66" name=""/>
              <p:cNvGrpSpPr/>
              <p:nvPr/>
            </p:nvGrpSpPr>
            <p:grpSpPr>
              <a:xfrm>
                <a:off x="5109840" y="1828800"/>
                <a:ext cx="304920" cy="76320"/>
                <a:chOff x="5109840" y="1828800"/>
                <a:chExt cx="304920" cy="76320"/>
              </a:xfrm>
            </p:grpSpPr>
            <p:sp>
              <p:nvSpPr>
                <p:cNvPr id="6167" name=""/>
                <p:cNvSpPr/>
                <p:nvPr/>
              </p:nvSpPr>
              <p:spPr>
                <a:xfrm>
                  <a:off x="5414760" y="1828800"/>
                  <a:ext cx="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8" name=""/>
                <p:cNvSpPr/>
                <p:nvPr/>
              </p:nvSpPr>
              <p:spPr>
                <a:xfrm flipH="1">
                  <a:off x="5109840" y="19051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9" name=""/>
                <p:cNvSpPr/>
                <p:nvPr/>
              </p:nvSpPr>
              <p:spPr>
                <a:xfrm flipV="1">
                  <a:off x="5109840" y="1828800"/>
                  <a:ext cx="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70" name=""/>
            <p:cNvSpPr/>
            <p:nvPr/>
          </p:nvSpPr>
          <p:spPr>
            <a:xfrm>
              <a:off x="5562720" y="38862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1" name=""/>
            <p:cNvGrpSpPr/>
            <p:nvPr/>
          </p:nvGrpSpPr>
          <p:grpSpPr>
            <a:xfrm>
              <a:off x="6176880" y="3581280"/>
              <a:ext cx="457200" cy="304560"/>
              <a:chOff x="6176880" y="3581280"/>
              <a:chExt cx="457200" cy="304560"/>
            </a:xfrm>
          </p:grpSpPr>
          <p:sp>
            <p:nvSpPr>
              <p:cNvPr id="6172" name=""/>
              <p:cNvSpPr/>
              <p:nvPr/>
            </p:nvSpPr>
            <p:spPr>
              <a:xfrm flipH="1" flipV="1">
                <a:off x="6176880" y="3581280"/>
                <a:ext cx="45720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 flipV="1">
                <a:off x="6252840" y="358128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4" name=""/>
            <p:cNvSpPr/>
            <p:nvPr/>
          </p:nvSpPr>
          <p:spPr>
            <a:xfrm>
              <a:off x="4724280" y="1676520"/>
              <a:ext cx="0" cy="22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7543800" y="2438280"/>
              <a:ext cx="46188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7086600" y="2743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8001000" y="2743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7543800" y="3611520"/>
              <a:ext cx="4572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8001000" y="3886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6629400" y="38862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1" name=""/>
            <p:cNvGrpSpPr/>
            <p:nvPr/>
          </p:nvGrpSpPr>
          <p:grpSpPr>
            <a:xfrm>
              <a:off x="5105160" y="3657960"/>
              <a:ext cx="533160" cy="471600"/>
              <a:chOff x="5105160" y="3657960"/>
              <a:chExt cx="533160" cy="471600"/>
            </a:xfrm>
          </p:grpSpPr>
          <p:sp>
            <p:nvSpPr>
              <p:cNvPr id="6182" name=""/>
              <p:cNvSpPr/>
              <p:nvPr/>
            </p:nvSpPr>
            <p:spPr>
              <a:xfrm flipH="1">
                <a:off x="5105160" y="3900960"/>
                <a:ext cx="53316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83" name=""/>
              <p:cNvGrpSpPr/>
              <p:nvPr/>
            </p:nvGrpSpPr>
            <p:grpSpPr>
              <a:xfrm>
                <a:off x="5334480" y="3672360"/>
                <a:ext cx="75960" cy="380880"/>
                <a:chOff x="5334480" y="3672360"/>
                <a:chExt cx="75960" cy="380880"/>
              </a:xfrm>
            </p:grpSpPr>
            <p:sp>
              <p:nvSpPr>
                <p:cNvPr id="6184" name=""/>
                <p:cNvSpPr/>
                <p:nvPr/>
              </p:nvSpPr>
              <p:spPr>
                <a:xfrm>
                  <a:off x="5334480" y="36723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5" name=""/>
                <p:cNvSpPr/>
                <p:nvPr/>
              </p:nvSpPr>
              <p:spPr>
                <a:xfrm>
                  <a:off x="5410440" y="367236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6" name=""/>
              <p:cNvSpPr/>
              <p:nvPr/>
            </p:nvSpPr>
            <p:spPr>
              <a:xfrm flipH="1" flipV="1">
                <a:off x="5262120" y="3657600"/>
                <a:ext cx="223560" cy="90360"/>
              </a:xfrm>
              <a:custGeom>
                <a:avLst/>
                <a:gdLst/>
                <a:ahLst/>
                <a:rect l="l" t="t" r="r" b="b"/>
                <a:pathLst>
                  <a:path w="1063" h="532">
                    <a:moveTo>
                      <a:pt x="0" y="52"/>
                    </a:moveTo>
                    <a:cubicBezTo>
                      <a:pt x="48" y="97"/>
                      <a:pt x="59" y="168"/>
                      <a:pt x="95" y="223"/>
                    </a:cubicBezTo>
                    <a:cubicBezTo>
                      <a:pt x="104" y="253"/>
                      <a:pt x="116" y="270"/>
                      <a:pt x="138" y="292"/>
                    </a:cubicBezTo>
                    <a:cubicBezTo>
                      <a:pt x="152" y="337"/>
                      <a:pt x="137" y="303"/>
                      <a:pt x="180" y="352"/>
                    </a:cubicBezTo>
                    <a:cubicBezTo>
                      <a:pt x="223" y="402"/>
                      <a:pt x="246" y="418"/>
                      <a:pt x="300" y="454"/>
                    </a:cubicBezTo>
                    <a:cubicBezTo>
                      <a:pt x="347" y="485"/>
                      <a:pt x="287" y="462"/>
                      <a:pt x="343" y="480"/>
                    </a:cubicBezTo>
                    <a:cubicBezTo>
                      <a:pt x="385" y="508"/>
                      <a:pt x="423" y="522"/>
                      <a:pt x="472" y="532"/>
                    </a:cubicBezTo>
                    <a:cubicBezTo>
                      <a:pt x="530" y="526"/>
                      <a:pt x="598" y="524"/>
                      <a:pt x="652" y="497"/>
                    </a:cubicBezTo>
                    <a:cubicBezTo>
                      <a:pt x="723" y="462"/>
                      <a:pt x="765" y="410"/>
                      <a:pt x="823" y="360"/>
                    </a:cubicBezTo>
                    <a:cubicBezTo>
                      <a:pt x="834" y="350"/>
                      <a:pt x="848" y="345"/>
                      <a:pt x="858" y="334"/>
                    </a:cubicBezTo>
                    <a:cubicBezTo>
                      <a:pt x="889" y="300"/>
                      <a:pt x="923" y="253"/>
                      <a:pt x="952" y="214"/>
                    </a:cubicBezTo>
                    <a:cubicBezTo>
                      <a:pt x="964" y="198"/>
                      <a:pt x="975" y="180"/>
                      <a:pt x="986" y="163"/>
                    </a:cubicBezTo>
                    <a:cubicBezTo>
                      <a:pt x="992" y="154"/>
                      <a:pt x="1003" y="137"/>
                      <a:pt x="1003" y="137"/>
                    </a:cubicBezTo>
                    <a:cubicBezTo>
                      <a:pt x="1012" y="105"/>
                      <a:pt x="1028" y="83"/>
                      <a:pt x="1038" y="52"/>
                    </a:cubicBezTo>
                    <a:cubicBezTo>
                      <a:pt x="1041" y="43"/>
                      <a:pt x="1042" y="34"/>
                      <a:pt x="1046" y="26"/>
                    </a:cubicBezTo>
                    <a:cubicBezTo>
                      <a:pt x="1050" y="17"/>
                      <a:pt x="1063" y="0"/>
                      <a:pt x="1063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7" name=""/>
            <p:cNvSpPr/>
            <p:nvPr/>
          </p:nvSpPr>
          <p:spPr>
            <a:xfrm>
              <a:off x="7393680" y="1980360"/>
              <a:ext cx="6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K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5036040" y="3199680"/>
              <a:ext cx="6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K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6058440" y="3093840"/>
              <a:ext cx="895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7353720" y="3108240"/>
              <a:ext cx="895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KM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 flipV="1">
              <a:off x="1752480" y="650880"/>
              <a:ext cx="76320" cy="76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 flipV="1">
              <a:off x="1792440" y="1636560"/>
              <a:ext cx="75960" cy="76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7543800" y="1501920"/>
              <a:ext cx="455760" cy="326880"/>
            </a:xfrm>
            <a:prstGeom prst="rect">
              <a:avLst/>
            </a:prstGeom>
            <a:solidFill>
              <a:srgbClr val="006666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Times New Roman"/>
                </a:rPr>
                <a:t>断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7539120" y="2568600"/>
              <a:ext cx="455400" cy="326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断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5" name=""/>
          <p:cNvSpPr/>
          <p:nvPr/>
        </p:nvSpPr>
        <p:spPr>
          <a:xfrm>
            <a:off x="2233440" y="59356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6" name=""/>
          <p:cNvGrpSpPr/>
          <p:nvPr/>
        </p:nvGrpSpPr>
        <p:grpSpPr>
          <a:xfrm>
            <a:off x="417240" y="3428280"/>
            <a:ext cx="5803200" cy="2751840"/>
            <a:chOff x="417240" y="3428280"/>
            <a:chExt cx="5803200" cy="2751840"/>
          </a:xfrm>
        </p:grpSpPr>
        <p:grpSp>
          <p:nvGrpSpPr>
            <p:cNvPr id="6197" name=""/>
            <p:cNvGrpSpPr/>
            <p:nvPr/>
          </p:nvGrpSpPr>
          <p:grpSpPr>
            <a:xfrm>
              <a:off x="2233440" y="5180760"/>
              <a:ext cx="1690200" cy="520560"/>
              <a:chOff x="2233440" y="5180760"/>
              <a:chExt cx="1690200" cy="520560"/>
            </a:xfrm>
          </p:grpSpPr>
          <p:sp>
            <p:nvSpPr>
              <p:cNvPr id="6198" name=""/>
              <p:cNvSpPr/>
              <p:nvPr/>
            </p:nvSpPr>
            <p:spPr>
              <a:xfrm>
                <a:off x="2719080" y="5180760"/>
                <a:ext cx="12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6600"/>
                    </a:solidFill>
                    <a:latin typeface="Times New Roman"/>
                  </a:rPr>
                  <a:t>KT</a:t>
                </a:r>
                <a:r>
                  <a:rPr b="1" lang="zh-CN" sz="2800" spc="-1" strike="noStrike">
                    <a:solidFill>
                      <a:srgbClr val="006600"/>
                    </a:solidFill>
                    <a:latin typeface="Times New Roman"/>
                  </a:rPr>
                  <a:t>断电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2233440" y="54864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0" name=""/>
            <p:cNvSpPr/>
            <p:nvPr/>
          </p:nvSpPr>
          <p:spPr>
            <a:xfrm>
              <a:off x="2832120" y="5600520"/>
              <a:ext cx="140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KM</a:t>
              </a:r>
              <a:r>
                <a:rPr b="1" lang="zh-CN" sz="28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通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1" name=""/>
            <p:cNvGrpSpPr/>
            <p:nvPr/>
          </p:nvGrpSpPr>
          <p:grpSpPr>
            <a:xfrm>
              <a:off x="4290840" y="5630040"/>
              <a:ext cx="1698840" cy="520560"/>
              <a:chOff x="4290840" y="5630040"/>
              <a:chExt cx="1698840" cy="520560"/>
            </a:xfrm>
          </p:grpSpPr>
          <p:sp>
            <p:nvSpPr>
              <p:cNvPr id="6202" name=""/>
              <p:cNvSpPr/>
              <p:nvPr/>
            </p:nvSpPr>
            <p:spPr>
              <a:xfrm>
                <a:off x="4290840" y="593532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4955400" y="563004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6600"/>
                    </a:solidFill>
                    <a:latin typeface="Times New Roman"/>
                  </a:rPr>
                  <a:t>制动开始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4" name=""/>
            <p:cNvGrpSpPr/>
            <p:nvPr/>
          </p:nvGrpSpPr>
          <p:grpSpPr>
            <a:xfrm>
              <a:off x="417240" y="3428280"/>
              <a:ext cx="5803200" cy="2500560"/>
              <a:chOff x="417240" y="3428280"/>
              <a:chExt cx="5803200" cy="2500560"/>
            </a:xfrm>
          </p:grpSpPr>
          <p:sp>
            <p:nvSpPr>
              <p:cNvPr id="6205" name=""/>
              <p:cNvSpPr/>
              <p:nvPr/>
            </p:nvSpPr>
            <p:spPr>
              <a:xfrm>
                <a:off x="455400" y="3428280"/>
                <a:ext cx="1854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制动时：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17240" y="4008240"/>
                <a:ext cx="1017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按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B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7" name=""/>
              <p:cNvGrpSpPr/>
              <p:nvPr/>
            </p:nvGrpSpPr>
            <p:grpSpPr>
              <a:xfrm>
                <a:off x="1493640" y="4008240"/>
                <a:ext cx="2234880" cy="579600"/>
                <a:chOff x="1493640" y="4008240"/>
                <a:chExt cx="2234880" cy="579600"/>
              </a:xfrm>
            </p:grpSpPr>
            <p:sp>
              <p:nvSpPr>
                <p:cNvPr id="6208" name=""/>
                <p:cNvSpPr/>
                <p:nvPr/>
              </p:nvSpPr>
              <p:spPr>
                <a:xfrm>
                  <a:off x="1493640" y="4190400"/>
                  <a:ext cx="533520" cy="228240"/>
                </a:xfrm>
                <a:prstGeom prst="rightArrow">
                  <a:avLst>
                    <a:gd name="adj1" fmla="val 50000"/>
                    <a:gd name="adj2" fmla="val 58438"/>
                  </a:avLst>
                </a:prstGeom>
                <a:gradFill rotWithShape="0">
                  <a:gsLst>
                    <a:gs pos="0">
                      <a:srgbClr val="004600"/>
                    </a:gs>
                    <a:gs pos="100000">
                      <a:srgbClr val="009900"/>
                    </a:gs>
                  </a:gsLst>
                  <a:lin ang="10800000"/>
                </a:gra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9" name=""/>
                <p:cNvSpPr/>
                <p:nvPr/>
              </p:nvSpPr>
              <p:spPr>
                <a:xfrm>
                  <a:off x="2320920" y="4008240"/>
                  <a:ext cx="14076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99"/>
                      </a:solidFill>
                      <a:latin typeface="Times New Roman"/>
                    </a:rPr>
                    <a:t>KM</a:t>
                  </a:r>
                  <a:r>
                    <a:rPr b="1" lang="zh-CN" sz="28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1</a:t>
                  </a:r>
                  <a:r>
                    <a:rPr b="1" lang="zh-CN" sz="2800" spc="-1" strike="noStrike">
                      <a:solidFill>
                        <a:srgbClr val="000099"/>
                      </a:solidFill>
                      <a:latin typeface="Times New Roman"/>
                    </a:rPr>
                    <a:t>断电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10" name=""/>
              <p:cNvSpPr/>
              <p:nvPr/>
            </p:nvSpPr>
            <p:spPr>
              <a:xfrm>
                <a:off x="480960" y="4751280"/>
                <a:ext cx="228600" cy="9900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25560 h 990000"/>
                  <a:gd name="textAreaBottom" fmla="*/ 964440 h 99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1068840" y="4565160"/>
                <a:ext cx="2047680" cy="5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主触点断开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12" name=""/>
              <p:cNvGrpSpPr/>
              <p:nvPr/>
            </p:nvGrpSpPr>
            <p:grpSpPr>
              <a:xfrm>
                <a:off x="3376440" y="4556880"/>
                <a:ext cx="2844000" cy="477720"/>
                <a:chOff x="3376440" y="4556880"/>
                <a:chExt cx="2844000" cy="477720"/>
              </a:xfrm>
            </p:grpSpPr>
            <p:sp>
              <p:nvSpPr>
                <p:cNvPr id="6213" name=""/>
                <p:cNvSpPr/>
                <p:nvPr/>
              </p:nvSpPr>
              <p:spPr>
                <a:xfrm>
                  <a:off x="3376440" y="484128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4" name=""/>
                <p:cNvSpPr/>
                <p:nvPr/>
              </p:nvSpPr>
              <p:spPr>
                <a:xfrm>
                  <a:off x="4332960" y="4556880"/>
                  <a:ext cx="18874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Times New Roman"/>
                    </a:rPr>
                    <a:t>电机脱离三相电源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15" name=""/>
              <p:cNvSpPr/>
              <p:nvPr/>
            </p:nvSpPr>
            <p:spPr>
              <a:xfrm>
                <a:off x="1338120" y="5452920"/>
                <a:ext cx="183960" cy="47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1346040" y="5014800"/>
                <a:ext cx="183960" cy="47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17" name=""/>
          <p:cNvSpPr/>
          <p:nvPr/>
        </p:nvSpPr>
        <p:spPr>
          <a:xfrm>
            <a:off x="986760" y="5653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闭闭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990000" y="5133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开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9" name=""/>
          <p:cNvGrpSpPr/>
          <p:nvPr/>
        </p:nvGrpSpPr>
        <p:grpSpPr>
          <a:xfrm>
            <a:off x="3909960" y="4890240"/>
            <a:ext cx="914400" cy="534240"/>
            <a:chOff x="3909960" y="4890240"/>
            <a:chExt cx="914400" cy="534240"/>
          </a:xfrm>
        </p:grpSpPr>
        <p:sp>
          <p:nvSpPr>
            <p:cNvPr id="6220" name=""/>
            <p:cNvSpPr/>
            <p:nvPr/>
          </p:nvSpPr>
          <p:spPr>
            <a:xfrm>
              <a:off x="3909960" y="5424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4057200" y="48902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延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2" name=""/>
          <p:cNvSpPr/>
          <p:nvPr/>
        </p:nvSpPr>
        <p:spPr>
          <a:xfrm>
            <a:off x="4992120" y="5195160"/>
            <a:ext cx="16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KT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点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3" name=""/>
          <p:cNvGrpSpPr/>
          <p:nvPr/>
        </p:nvGrpSpPr>
        <p:grpSpPr>
          <a:xfrm>
            <a:off x="6729480" y="5165640"/>
            <a:ext cx="1915200" cy="579600"/>
            <a:chOff x="6729480" y="5165640"/>
            <a:chExt cx="1915200" cy="579600"/>
          </a:xfrm>
        </p:grpSpPr>
        <p:sp>
          <p:nvSpPr>
            <p:cNvPr id="6224" name=""/>
            <p:cNvSpPr/>
            <p:nvPr/>
          </p:nvSpPr>
          <p:spPr>
            <a:xfrm>
              <a:off x="7237080" y="5165640"/>
              <a:ext cx="140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KM</a:t>
              </a:r>
              <a:r>
                <a:rPr b="1" lang="zh-CN" sz="28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断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6729480" y="5500440"/>
              <a:ext cx="38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6" name=""/>
          <p:cNvGrpSpPr/>
          <p:nvPr/>
        </p:nvGrpSpPr>
        <p:grpSpPr>
          <a:xfrm>
            <a:off x="7367760" y="5729400"/>
            <a:ext cx="1034280" cy="734040"/>
            <a:chOff x="7367760" y="5729400"/>
            <a:chExt cx="1034280" cy="734040"/>
          </a:xfrm>
        </p:grpSpPr>
        <p:sp>
          <p:nvSpPr>
            <p:cNvPr id="6227" name=""/>
            <p:cNvSpPr/>
            <p:nvPr/>
          </p:nvSpPr>
          <p:spPr>
            <a:xfrm>
              <a:off x="7872480" y="57294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7367760" y="5942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制动结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9" name=""/>
          <p:cNvSpPr/>
          <p:nvPr/>
        </p:nvSpPr>
        <p:spPr>
          <a:xfrm>
            <a:off x="2971800" y="3124080"/>
            <a:ext cx="1371600" cy="838440"/>
          </a:xfrm>
          <a:prstGeom prst="wedgeRoundRectCallout">
            <a:avLst>
              <a:gd name="adj1" fmla="val 110416"/>
              <a:gd name="adj2" fmla="val 46592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断电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0" name=""/>
          <p:cNvSpPr/>
          <p:nvPr/>
        </p:nvSpPr>
        <p:spPr>
          <a:xfrm>
            <a:off x="7543800" y="3594960"/>
            <a:ext cx="436680" cy="559800"/>
          </a:xfrm>
          <a:prstGeom prst="rect">
            <a:avLst/>
          </a:prstGeom>
          <a:solidFill>
            <a:srgbClr val="006666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断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1" name=""/>
          <p:cNvGrpSpPr/>
          <p:nvPr/>
        </p:nvGrpSpPr>
        <p:grpSpPr>
          <a:xfrm>
            <a:off x="1218960" y="5181480"/>
            <a:ext cx="787320" cy="1114200"/>
            <a:chOff x="1218960" y="5181480"/>
            <a:chExt cx="787320" cy="1114200"/>
          </a:xfrm>
        </p:grpSpPr>
        <p:grpSp>
          <p:nvGrpSpPr>
            <p:cNvPr id="6232" name=""/>
            <p:cNvGrpSpPr/>
            <p:nvPr/>
          </p:nvGrpSpPr>
          <p:grpSpPr>
            <a:xfrm>
              <a:off x="1547280" y="5574240"/>
              <a:ext cx="196560" cy="328320"/>
              <a:chOff x="1547280" y="5574240"/>
              <a:chExt cx="196560" cy="328320"/>
            </a:xfrm>
          </p:grpSpPr>
          <p:sp>
            <p:nvSpPr>
              <p:cNvPr id="6233" name=""/>
              <p:cNvSpPr/>
              <p:nvPr/>
            </p:nvSpPr>
            <p:spPr>
              <a:xfrm flipH="1">
                <a:off x="1547280" y="5574240"/>
                <a:ext cx="196560" cy="32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1547280" y="5574240"/>
                <a:ext cx="196560" cy="32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5" name=""/>
            <p:cNvGrpSpPr/>
            <p:nvPr/>
          </p:nvGrpSpPr>
          <p:grpSpPr>
            <a:xfrm>
              <a:off x="1218960" y="5181480"/>
              <a:ext cx="196560" cy="326520"/>
              <a:chOff x="1218960" y="5181480"/>
              <a:chExt cx="196560" cy="326520"/>
            </a:xfrm>
          </p:grpSpPr>
          <p:sp>
            <p:nvSpPr>
              <p:cNvPr id="6236" name=""/>
              <p:cNvSpPr/>
              <p:nvPr/>
            </p:nvSpPr>
            <p:spPr>
              <a:xfrm flipH="1">
                <a:off x="1218960" y="5181480"/>
                <a:ext cx="196200" cy="32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1219320" y="5181480"/>
                <a:ext cx="196200" cy="32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8" name=""/>
            <p:cNvGrpSpPr/>
            <p:nvPr/>
          </p:nvGrpSpPr>
          <p:grpSpPr>
            <a:xfrm>
              <a:off x="1809720" y="5574240"/>
              <a:ext cx="196560" cy="328320"/>
              <a:chOff x="1809720" y="5574240"/>
              <a:chExt cx="196560" cy="328320"/>
            </a:xfrm>
          </p:grpSpPr>
          <p:sp>
            <p:nvSpPr>
              <p:cNvPr id="6239" name=""/>
              <p:cNvSpPr/>
              <p:nvPr/>
            </p:nvSpPr>
            <p:spPr>
              <a:xfrm flipH="1">
                <a:off x="1809720" y="5574240"/>
                <a:ext cx="196200" cy="32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1810080" y="5574240"/>
                <a:ext cx="196200" cy="32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1" name=""/>
            <p:cNvGrpSpPr/>
            <p:nvPr/>
          </p:nvGrpSpPr>
          <p:grpSpPr>
            <a:xfrm>
              <a:off x="1809720" y="5181480"/>
              <a:ext cx="196560" cy="326520"/>
              <a:chOff x="1809720" y="5181480"/>
              <a:chExt cx="196560" cy="326520"/>
            </a:xfrm>
          </p:grpSpPr>
          <p:sp>
            <p:nvSpPr>
              <p:cNvPr id="6242" name=""/>
              <p:cNvSpPr/>
              <p:nvPr/>
            </p:nvSpPr>
            <p:spPr>
              <a:xfrm flipH="1">
                <a:off x="1809720" y="5181480"/>
                <a:ext cx="196200" cy="32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1810080" y="5181480"/>
                <a:ext cx="196200" cy="32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4" name=""/>
            <p:cNvGrpSpPr/>
            <p:nvPr/>
          </p:nvGrpSpPr>
          <p:grpSpPr>
            <a:xfrm>
              <a:off x="1547280" y="5967360"/>
              <a:ext cx="196560" cy="328320"/>
              <a:chOff x="1547280" y="5967360"/>
              <a:chExt cx="196560" cy="328320"/>
            </a:xfrm>
          </p:grpSpPr>
          <p:sp>
            <p:nvSpPr>
              <p:cNvPr id="6245" name=""/>
              <p:cNvSpPr/>
              <p:nvPr/>
            </p:nvSpPr>
            <p:spPr>
              <a:xfrm flipH="1">
                <a:off x="1547280" y="5967360"/>
                <a:ext cx="196560" cy="328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1547280" y="5967360"/>
                <a:ext cx="196560" cy="328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7" name=""/>
            <p:cNvGrpSpPr/>
            <p:nvPr/>
          </p:nvGrpSpPr>
          <p:grpSpPr>
            <a:xfrm>
              <a:off x="1218960" y="5967360"/>
              <a:ext cx="196560" cy="328320"/>
              <a:chOff x="1218960" y="5967360"/>
              <a:chExt cx="196560" cy="328320"/>
            </a:xfrm>
          </p:grpSpPr>
          <p:sp>
            <p:nvSpPr>
              <p:cNvPr id="6248" name=""/>
              <p:cNvSpPr/>
              <p:nvPr/>
            </p:nvSpPr>
            <p:spPr>
              <a:xfrm flipH="1">
                <a:off x="1218960" y="5967360"/>
                <a:ext cx="196200" cy="328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1219320" y="5967360"/>
                <a:ext cx="196200" cy="328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0" name=""/>
            <p:cNvGrpSpPr/>
            <p:nvPr/>
          </p:nvGrpSpPr>
          <p:grpSpPr>
            <a:xfrm>
              <a:off x="1218960" y="5574240"/>
              <a:ext cx="196560" cy="328320"/>
              <a:chOff x="1218960" y="5574240"/>
              <a:chExt cx="196560" cy="328320"/>
            </a:xfrm>
          </p:grpSpPr>
          <p:sp>
            <p:nvSpPr>
              <p:cNvPr id="6251" name=""/>
              <p:cNvSpPr/>
              <p:nvPr/>
            </p:nvSpPr>
            <p:spPr>
              <a:xfrm flipH="1">
                <a:off x="1218960" y="5574240"/>
                <a:ext cx="196200" cy="32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1219320" y="5574240"/>
                <a:ext cx="196200" cy="32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3" name=""/>
            <p:cNvGrpSpPr/>
            <p:nvPr/>
          </p:nvGrpSpPr>
          <p:grpSpPr>
            <a:xfrm>
              <a:off x="1547280" y="5181480"/>
              <a:ext cx="196560" cy="326520"/>
              <a:chOff x="1547280" y="5181480"/>
              <a:chExt cx="196560" cy="326520"/>
            </a:xfrm>
          </p:grpSpPr>
          <p:sp>
            <p:nvSpPr>
              <p:cNvPr id="6254" name=""/>
              <p:cNvSpPr/>
              <p:nvPr/>
            </p:nvSpPr>
            <p:spPr>
              <a:xfrm flipH="1">
                <a:off x="1547280" y="5181480"/>
                <a:ext cx="196560" cy="32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1547280" y="5181480"/>
                <a:ext cx="196560" cy="32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56" name=""/>
          <p:cNvSpPr/>
          <p:nvPr/>
        </p:nvSpPr>
        <p:spPr>
          <a:xfrm>
            <a:off x="4926960" y="56444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正反转控制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7" name=""/>
          <p:cNvGrpSpPr/>
          <p:nvPr/>
        </p:nvGrpSpPr>
        <p:grpSpPr>
          <a:xfrm>
            <a:off x="685800" y="1371600"/>
            <a:ext cx="7333200" cy="5150880"/>
            <a:chOff x="685800" y="1371600"/>
            <a:chExt cx="7333200" cy="5150880"/>
          </a:xfrm>
        </p:grpSpPr>
        <p:sp>
          <p:nvSpPr>
            <p:cNvPr id="6258" name=""/>
            <p:cNvSpPr/>
            <p:nvPr/>
          </p:nvSpPr>
          <p:spPr>
            <a:xfrm>
              <a:off x="2865600" y="1962000"/>
              <a:ext cx="785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2901960" y="5295600"/>
              <a:ext cx="195120" cy="32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0" name=""/>
            <p:cNvGrpSpPr/>
            <p:nvPr/>
          </p:nvGrpSpPr>
          <p:grpSpPr>
            <a:xfrm>
              <a:off x="2827440" y="5614920"/>
              <a:ext cx="947520" cy="907560"/>
              <a:chOff x="2827440" y="5614920"/>
              <a:chExt cx="947520" cy="907560"/>
            </a:xfrm>
          </p:grpSpPr>
          <p:sp>
            <p:nvSpPr>
              <p:cNvPr id="6261" name=""/>
              <p:cNvSpPr/>
              <p:nvPr/>
            </p:nvSpPr>
            <p:spPr>
              <a:xfrm>
                <a:off x="2827440" y="5614920"/>
                <a:ext cx="947520" cy="892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3063600" y="6001920"/>
                <a:ext cx="5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3~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3049920" y="569448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4" name=""/>
            <p:cNvSpPr/>
            <p:nvPr/>
          </p:nvSpPr>
          <p:spPr>
            <a:xfrm>
              <a:off x="3259080" y="2357280"/>
              <a:ext cx="262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057400" y="4457520"/>
              <a:ext cx="90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060640" y="318924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2284560" y="2288880"/>
              <a:ext cx="76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2351160" y="179064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2930400" y="1371600"/>
              <a:ext cx="117720" cy="117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2995560" y="1503360"/>
              <a:ext cx="0" cy="39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3322800" y="1371600"/>
              <a:ext cx="118800" cy="117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3389400" y="1503360"/>
              <a:ext cx="0" cy="39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3718080" y="1371600"/>
              <a:ext cx="117360" cy="117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3784680" y="1503360"/>
              <a:ext cx="0" cy="39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3586320" y="3470040"/>
              <a:ext cx="196560" cy="32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3651120" y="4786200"/>
              <a:ext cx="13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3782880" y="3798720"/>
              <a:ext cx="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3651120" y="4589280"/>
              <a:ext cx="13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3651120" y="4589280"/>
              <a:ext cx="0" cy="19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3784680" y="4775040"/>
              <a:ext cx="0" cy="51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1" name=""/>
            <p:cNvGrpSpPr/>
            <p:nvPr/>
          </p:nvGrpSpPr>
          <p:grpSpPr>
            <a:xfrm>
              <a:off x="3586320" y="4457520"/>
              <a:ext cx="328320" cy="457920"/>
              <a:chOff x="3586320" y="4457520"/>
              <a:chExt cx="328320" cy="457920"/>
            </a:xfrm>
          </p:grpSpPr>
          <p:sp>
            <p:nvSpPr>
              <p:cNvPr id="6282" name=""/>
              <p:cNvSpPr/>
              <p:nvPr/>
            </p:nvSpPr>
            <p:spPr>
              <a:xfrm>
                <a:off x="3586320" y="4457520"/>
                <a:ext cx="32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83" name=""/>
              <p:cNvGrpSpPr/>
              <p:nvPr/>
            </p:nvGrpSpPr>
            <p:grpSpPr>
              <a:xfrm>
                <a:off x="3586320" y="4457520"/>
                <a:ext cx="328320" cy="457920"/>
                <a:chOff x="3586320" y="4457520"/>
                <a:chExt cx="328320" cy="457920"/>
              </a:xfrm>
            </p:grpSpPr>
            <p:sp>
              <p:nvSpPr>
                <p:cNvPr id="6284" name=""/>
                <p:cNvSpPr/>
                <p:nvPr/>
              </p:nvSpPr>
              <p:spPr>
                <a:xfrm>
                  <a:off x="3914640" y="4457520"/>
                  <a:ext cx="0" cy="45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5" name=""/>
                <p:cNvSpPr/>
                <p:nvPr/>
              </p:nvSpPr>
              <p:spPr>
                <a:xfrm>
                  <a:off x="3586320" y="4915440"/>
                  <a:ext cx="328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6" name=""/>
                <p:cNvSpPr/>
                <p:nvPr/>
              </p:nvSpPr>
              <p:spPr>
                <a:xfrm flipV="1">
                  <a:off x="3586320" y="4457520"/>
                  <a:ext cx="0" cy="45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87" name=""/>
            <p:cNvSpPr/>
            <p:nvPr/>
          </p:nvSpPr>
          <p:spPr>
            <a:xfrm>
              <a:off x="3127320" y="3470040"/>
              <a:ext cx="196920" cy="32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3324240" y="3798720"/>
              <a:ext cx="0" cy="182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 flipH="1">
              <a:off x="3563640" y="5254560"/>
              <a:ext cx="220680" cy="39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3586320" y="1830240"/>
              <a:ext cx="196560" cy="32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3782880" y="2158920"/>
              <a:ext cx="0" cy="13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 rot="10883400">
              <a:off x="3717360" y="3272400"/>
              <a:ext cx="74520" cy="196920"/>
            </a:xfrm>
            <a:custGeom>
              <a:avLst/>
              <a:gdLst/>
              <a:ahLst/>
              <a:rect l="l" t="t" r="r" b="b"/>
              <a:pathLst>
                <a:path w="584" h="816">
                  <a:moveTo>
                    <a:pt x="0" y="0"/>
                  </a:moveTo>
                  <a:cubicBezTo>
                    <a:pt x="284" y="100"/>
                    <a:pt x="568" y="200"/>
                    <a:pt x="576" y="336"/>
                  </a:cubicBezTo>
                  <a:cubicBezTo>
                    <a:pt x="584" y="472"/>
                    <a:pt x="316" y="644"/>
                    <a:pt x="48" y="81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3192480" y="1830240"/>
              <a:ext cx="196920" cy="32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3389400" y="2158920"/>
              <a:ext cx="0" cy="13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 rot="10883400">
              <a:off x="3323880" y="3272400"/>
              <a:ext cx="76320" cy="196920"/>
            </a:xfrm>
            <a:custGeom>
              <a:avLst/>
              <a:gdLst/>
              <a:ahLst/>
              <a:rect l="l" t="t" r="r" b="b"/>
              <a:pathLst>
                <a:path w="584" h="816">
                  <a:moveTo>
                    <a:pt x="0" y="0"/>
                  </a:moveTo>
                  <a:cubicBezTo>
                    <a:pt x="284" y="100"/>
                    <a:pt x="568" y="200"/>
                    <a:pt x="576" y="336"/>
                  </a:cubicBezTo>
                  <a:cubicBezTo>
                    <a:pt x="584" y="472"/>
                    <a:pt x="316" y="644"/>
                    <a:pt x="48" y="81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2800440" y="1830240"/>
              <a:ext cx="195120" cy="32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2995560" y="2158920"/>
              <a:ext cx="0" cy="13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 rot="10883400">
              <a:off x="2931480" y="3272400"/>
              <a:ext cx="74520" cy="196920"/>
            </a:xfrm>
            <a:custGeom>
              <a:avLst/>
              <a:gdLst/>
              <a:ahLst/>
              <a:rect l="l" t="t" r="r" b="b"/>
              <a:pathLst>
                <a:path w="584" h="816">
                  <a:moveTo>
                    <a:pt x="0" y="0"/>
                  </a:moveTo>
                  <a:cubicBezTo>
                    <a:pt x="284" y="100"/>
                    <a:pt x="568" y="200"/>
                    <a:pt x="576" y="336"/>
                  </a:cubicBezTo>
                  <a:cubicBezTo>
                    <a:pt x="584" y="472"/>
                    <a:pt x="316" y="644"/>
                    <a:pt x="48" y="81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9" name=""/>
            <p:cNvGrpSpPr/>
            <p:nvPr/>
          </p:nvGrpSpPr>
          <p:grpSpPr>
            <a:xfrm>
              <a:off x="2925720" y="2288880"/>
              <a:ext cx="937800" cy="385920"/>
              <a:chOff x="2925720" y="2288880"/>
              <a:chExt cx="937800" cy="385920"/>
            </a:xfrm>
          </p:grpSpPr>
          <p:grpSp>
            <p:nvGrpSpPr>
              <p:cNvPr id="6300" name=""/>
              <p:cNvGrpSpPr/>
              <p:nvPr/>
            </p:nvGrpSpPr>
            <p:grpSpPr>
              <a:xfrm>
                <a:off x="3711960" y="2288880"/>
                <a:ext cx="151560" cy="384840"/>
                <a:chOff x="3711960" y="2288880"/>
                <a:chExt cx="151560" cy="384840"/>
              </a:xfrm>
            </p:grpSpPr>
            <p:sp>
              <p:nvSpPr>
                <p:cNvPr id="6301" name=""/>
                <p:cNvSpPr/>
                <p:nvPr/>
              </p:nvSpPr>
              <p:spPr>
                <a:xfrm>
                  <a:off x="3711960" y="2288880"/>
                  <a:ext cx="15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2" name=""/>
                <p:cNvSpPr/>
                <p:nvPr/>
              </p:nvSpPr>
              <p:spPr>
                <a:xfrm>
                  <a:off x="3863520" y="2288880"/>
                  <a:ext cx="0" cy="38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3" name=""/>
                <p:cNvSpPr/>
                <p:nvPr/>
              </p:nvSpPr>
              <p:spPr>
                <a:xfrm>
                  <a:off x="3711960" y="2673720"/>
                  <a:ext cx="15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4" name=""/>
                <p:cNvSpPr/>
                <p:nvPr/>
              </p:nvSpPr>
              <p:spPr>
                <a:xfrm>
                  <a:off x="3711960" y="2288880"/>
                  <a:ext cx="0" cy="38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5" name=""/>
              <p:cNvGrpSpPr/>
              <p:nvPr/>
            </p:nvGrpSpPr>
            <p:grpSpPr>
              <a:xfrm>
                <a:off x="3318840" y="2288880"/>
                <a:ext cx="151560" cy="385920"/>
                <a:chOff x="3318840" y="2288880"/>
                <a:chExt cx="151560" cy="385920"/>
              </a:xfrm>
            </p:grpSpPr>
            <p:sp>
              <p:nvSpPr>
                <p:cNvPr id="6306" name=""/>
                <p:cNvSpPr/>
                <p:nvPr/>
              </p:nvSpPr>
              <p:spPr>
                <a:xfrm>
                  <a:off x="3318840" y="2288880"/>
                  <a:ext cx="15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7" name=""/>
                <p:cNvSpPr/>
                <p:nvPr/>
              </p:nvSpPr>
              <p:spPr>
                <a:xfrm>
                  <a:off x="3470400" y="2288880"/>
                  <a:ext cx="0" cy="38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8" name=""/>
                <p:cNvSpPr/>
                <p:nvPr/>
              </p:nvSpPr>
              <p:spPr>
                <a:xfrm>
                  <a:off x="3318840" y="2674800"/>
                  <a:ext cx="15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9" name=""/>
                <p:cNvSpPr/>
                <p:nvPr/>
              </p:nvSpPr>
              <p:spPr>
                <a:xfrm>
                  <a:off x="3318840" y="2288880"/>
                  <a:ext cx="0" cy="38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0" name=""/>
              <p:cNvGrpSpPr/>
              <p:nvPr/>
            </p:nvGrpSpPr>
            <p:grpSpPr>
              <a:xfrm>
                <a:off x="2925720" y="2288880"/>
                <a:ext cx="151560" cy="385920"/>
                <a:chOff x="2925720" y="2288880"/>
                <a:chExt cx="151560" cy="385920"/>
              </a:xfrm>
            </p:grpSpPr>
            <p:sp>
              <p:nvSpPr>
                <p:cNvPr id="6311" name=""/>
                <p:cNvSpPr/>
                <p:nvPr/>
              </p:nvSpPr>
              <p:spPr>
                <a:xfrm>
                  <a:off x="2925720" y="2288880"/>
                  <a:ext cx="15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2" name=""/>
                <p:cNvSpPr/>
                <p:nvPr/>
              </p:nvSpPr>
              <p:spPr>
                <a:xfrm>
                  <a:off x="3077280" y="2288880"/>
                  <a:ext cx="0" cy="38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3" name=""/>
                <p:cNvSpPr/>
                <p:nvPr/>
              </p:nvSpPr>
              <p:spPr>
                <a:xfrm>
                  <a:off x="2925720" y="2674800"/>
                  <a:ext cx="15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4" name=""/>
                <p:cNvSpPr/>
                <p:nvPr/>
              </p:nvSpPr>
              <p:spPr>
                <a:xfrm>
                  <a:off x="2925720" y="2288880"/>
                  <a:ext cx="0" cy="38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15" name=""/>
            <p:cNvSpPr/>
            <p:nvPr/>
          </p:nvSpPr>
          <p:spPr>
            <a:xfrm>
              <a:off x="2733840" y="3470040"/>
              <a:ext cx="196560" cy="32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2800440" y="4786200"/>
              <a:ext cx="12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2930400" y="3798720"/>
              <a:ext cx="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2800440" y="4589280"/>
              <a:ext cx="12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2800440" y="4589280"/>
              <a:ext cx="0" cy="19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2895480" y="4775040"/>
              <a:ext cx="0" cy="55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1" name=""/>
            <p:cNvGrpSpPr/>
            <p:nvPr/>
          </p:nvGrpSpPr>
          <p:grpSpPr>
            <a:xfrm>
              <a:off x="2733840" y="4457520"/>
              <a:ext cx="328320" cy="457920"/>
              <a:chOff x="2733840" y="4457520"/>
              <a:chExt cx="328320" cy="457920"/>
            </a:xfrm>
          </p:grpSpPr>
          <p:sp>
            <p:nvSpPr>
              <p:cNvPr id="6322" name=""/>
              <p:cNvSpPr/>
              <p:nvPr/>
            </p:nvSpPr>
            <p:spPr>
              <a:xfrm>
                <a:off x="2733840" y="4457520"/>
                <a:ext cx="32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3" name=""/>
              <p:cNvGrpSpPr/>
              <p:nvPr/>
            </p:nvGrpSpPr>
            <p:grpSpPr>
              <a:xfrm>
                <a:off x="2733840" y="4457520"/>
                <a:ext cx="328320" cy="457920"/>
                <a:chOff x="2733840" y="4457520"/>
                <a:chExt cx="328320" cy="457920"/>
              </a:xfrm>
            </p:grpSpPr>
            <p:sp>
              <p:nvSpPr>
                <p:cNvPr id="6324" name=""/>
                <p:cNvSpPr/>
                <p:nvPr/>
              </p:nvSpPr>
              <p:spPr>
                <a:xfrm>
                  <a:off x="3062160" y="4457520"/>
                  <a:ext cx="0" cy="45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5" name=""/>
                <p:cNvSpPr/>
                <p:nvPr/>
              </p:nvSpPr>
              <p:spPr>
                <a:xfrm>
                  <a:off x="2733840" y="4915440"/>
                  <a:ext cx="328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6" name=""/>
                <p:cNvSpPr/>
                <p:nvPr/>
              </p:nvSpPr>
              <p:spPr>
                <a:xfrm flipV="1">
                  <a:off x="2733840" y="4457520"/>
                  <a:ext cx="0" cy="45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27" name=""/>
            <p:cNvSpPr/>
            <p:nvPr/>
          </p:nvSpPr>
          <p:spPr>
            <a:xfrm>
              <a:off x="3652560" y="2247840"/>
              <a:ext cx="32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3260520" y="2419200"/>
              <a:ext cx="32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2867040" y="2544480"/>
              <a:ext cx="32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3197160" y="3452760"/>
              <a:ext cx="32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3643200" y="3598560"/>
              <a:ext cx="32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2788920" y="3746160"/>
              <a:ext cx="32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 rot="12600">
              <a:off x="3743280" y="3463920"/>
              <a:ext cx="81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3328920" y="5106960"/>
              <a:ext cx="373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5" name=""/>
            <p:cNvGrpSpPr/>
            <p:nvPr/>
          </p:nvGrpSpPr>
          <p:grpSpPr>
            <a:xfrm>
              <a:off x="6987240" y="4689360"/>
              <a:ext cx="997560" cy="869040"/>
              <a:chOff x="6987240" y="4689360"/>
              <a:chExt cx="997560" cy="869040"/>
            </a:xfrm>
          </p:grpSpPr>
          <p:sp>
            <p:nvSpPr>
              <p:cNvPr id="6336" name=""/>
              <p:cNvSpPr/>
              <p:nvPr/>
            </p:nvSpPr>
            <p:spPr>
              <a:xfrm>
                <a:off x="6987240" y="5098680"/>
                <a:ext cx="58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6996960" y="4905720"/>
                <a:ext cx="392400" cy="19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7396200" y="5106600"/>
                <a:ext cx="58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39" name=""/>
              <p:cNvGrpSpPr/>
              <p:nvPr/>
            </p:nvGrpSpPr>
            <p:grpSpPr>
              <a:xfrm>
                <a:off x="7067520" y="4689360"/>
                <a:ext cx="392040" cy="327600"/>
                <a:chOff x="7067520" y="4689360"/>
                <a:chExt cx="392040" cy="327600"/>
              </a:xfrm>
            </p:grpSpPr>
            <p:sp>
              <p:nvSpPr>
                <p:cNvPr id="6340" name=""/>
                <p:cNvSpPr/>
                <p:nvPr/>
              </p:nvSpPr>
              <p:spPr>
                <a:xfrm flipV="1">
                  <a:off x="7263720" y="4820400"/>
                  <a:ext cx="0" cy="196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41" name=""/>
                <p:cNvGrpSpPr/>
                <p:nvPr/>
              </p:nvGrpSpPr>
              <p:grpSpPr>
                <a:xfrm>
                  <a:off x="7067520" y="4689360"/>
                  <a:ext cx="392040" cy="131040"/>
                  <a:chOff x="7067520" y="4689360"/>
                  <a:chExt cx="392040" cy="131040"/>
                </a:xfrm>
              </p:grpSpPr>
              <p:sp>
                <p:nvSpPr>
                  <p:cNvPr id="6342" name=""/>
                  <p:cNvSpPr/>
                  <p:nvPr/>
                </p:nvSpPr>
                <p:spPr>
                  <a:xfrm>
                    <a:off x="7067520" y="4689360"/>
                    <a:ext cx="130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3" name=""/>
                  <p:cNvSpPr/>
                  <p:nvPr/>
                </p:nvSpPr>
                <p:spPr>
                  <a:xfrm>
                    <a:off x="7198200" y="4689360"/>
                    <a:ext cx="0" cy="1310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4" name=""/>
                  <p:cNvSpPr/>
                  <p:nvPr/>
                </p:nvSpPr>
                <p:spPr>
                  <a:xfrm>
                    <a:off x="7198200" y="4820400"/>
                    <a:ext cx="130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5" name=""/>
                  <p:cNvSpPr/>
                  <p:nvPr/>
                </p:nvSpPr>
                <p:spPr>
                  <a:xfrm flipV="1">
                    <a:off x="7328880" y="4689360"/>
                    <a:ext cx="0" cy="1310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6" name=""/>
                  <p:cNvSpPr/>
                  <p:nvPr/>
                </p:nvSpPr>
                <p:spPr>
                  <a:xfrm>
                    <a:off x="7328880" y="4689360"/>
                    <a:ext cx="130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347" name=""/>
              <p:cNvSpPr/>
              <p:nvPr/>
            </p:nvSpPr>
            <p:spPr>
              <a:xfrm>
                <a:off x="7058520" y="4905720"/>
                <a:ext cx="0" cy="19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8" name=""/>
            <p:cNvSpPr/>
            <p:nvPr/>
          </p:nvSpPr>
          <p:spPr>
            <a:xfrm>
              <a:off x="1363680" y="3340080"/>
              <a:ext cx="195120" cy="32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1755720" y="3404880"/>
              <a:ext cx="196920" cy="32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 rot="10883400">
              <a:off x="1493280" y="3207960"/>
              <a:ext cx="75960" cy="196560"/>
            </a:xfrm>
            <a:custGeom>
              <a:avLst/>
              <a:gdLst/>
              <a:ahLst/>
              <a:rect l="l" t="t" r="r" b="b"/>
              <a:pathLst>
                <a:path w="584" h="816">
                  <a:moveTo>
                    <a:pt x="0" y="0"/>
                  </a:moveTo>
                  <a:cubicBezTo>
                    <a:pt x="284" y="100"/>
                    <a:pt x="568" y="200"/>
                    <a:pt x="576" y="336"/>
                  </a:cubicBezTo>
                  <a:cubicBezTo>
                    <a:pt x="584" y="472"/>
                    <a:pt x="316" y="644"/>
                    <a:pt x="48" y="81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 rot="10883400">
              <a:off x="1885680" y="3208320"/>
              <a:ext cx="77760" cy="196560"/>
            </a:xfrm>
            <a:custGeom>
              <a:avLst/>
              <a:gdLst/>
              <a:ahLst/>
              <a:rect l="l" t="t" r="r" b="b"/>
              <a:pathLst>
                <a:path w="584" h="816">
                  <a:moveTo>
                    <a:pt x="0" y="0"/>
                  </a:moveTo>
                  <a:cubicBezTo>
                    <a:pt x="284" y="100"/>
                    <a:pt x="568" y="200"/>
                    <a:pt x="576" y="336"/>
                  </a:cubicBezTo>
                  <a:cubicBezTo>
                    <a:pt x="584" y="472"/>
                    <a:pt x="316" y="644"/>
                    <a:pt x="48" y="81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1558800" y="2814480"/>
              <a:ext cx="0" cy="59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1952640" y="2944800"/>
              <a:ext cx="0" cy="46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2346480" y="3078000"/>
              <a:ext cx="0" cy="32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 rot="10883400">
              <a:off x="2280600" y="3207960"/>
              <a:ext cx="75960" cy="196560"/>
            </a:xfrm>
            <a:custGeom>
              <a:avLst/>
              <a:gdLst/>
              <a:ahLst/>
              <a:rect l="l" t="t" r="r" b="b"/>
              <a:pathLst>
                <a:path w="584" h="816">
                  <a:moveTo>
                    <a:pt x="0" y="0"/>
                  </a:moveTo>
                  <a:cubicBezTo>
                    <a:pt x="284" y="100"/>
                    <a:pt x="568" y="200"/>
                    <a:pt x="576" y="336"/>
                  </a:cubicBezTo>
                  <a:cubicBezTo>
                    <a:pt x="584" y="472"/>
                    <a:pt x="316" y="644"/>
                    <a:pt x="48" y="81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1558800" y="2814480"/>
              <a:ext cx="222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1952640" y="2944800"/>
              <a:ext cx="14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2346480" y="3078000"/>
              <a:ext cx="65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1558800" y="4257360"/>
              <a:ext cx="137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1558800" y="3666960"/>
              <a:ext cx="0" cy="59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1952640" y="4125600"/>
              <a:ext cx="183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1952640" y="3733560"/>
              <a:ext cx="0" cy="39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2346480" y="3995640"/>
              <a:ext cx="9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 flipV="1">
              <a:off x="2346480" y="373356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2149560" y="3404880"/>
              <a:ext cx="196920" cy="32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685800" y="3396960"/>
              <a:ext cx="110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4456800" y="2222280"/>
              <a:ext cx="64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4964040" y="2814480"/>
              <a:ext cx="58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4505400" y="2814480"/>
              <a:ext cx="19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3787920" y="2814480"/>
              <a:ext cx="71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 flipH="1">
              <a:off x="4517640" y="2822400"/>
              <a:ext cx="4680" cy="117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2" name=""/>
            <p:cNvGrpSpPr/>
            <p:nvPr/>
          </p:nvGrpSpPr>
          <p:grpSpPr>
            <a:xfrm>
              <a:off x="4641840" y="2627280"/>
              <a:ext cx="326880" cy="196560"/>
              <a:chOff x="4641840" y="2627280"/>
              <a:chExt cx="326880" cy="196560"/>
            </a:xfrm>
          </p:grpSpPr>
          <p:sp>
            <p:nvSpPr>
              <p:cNvPr id="6373" name=""/>
              <p:cNvSpPr/>
              <p:nvPr/>
            </p:nvSpPr>
            <p:spPr>
              <a:xfrm flipH="1" flipV="1">
                <a:off x="4641840" y="2627280"/>
                <a:ext cx="32688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 flipV="1">
                <a:off x="4707000" y="2627280"/>
                <a:ext cx="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5" name=""/>
            <p:cNvSpPr/>
            <p:nvPr/>
          </p:nvSpPr>
          <p:spPr>
            <a:xfrm>
              <a:off x="6012000" y="2814480"/>
              <a:ext cx="39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7259760" y="2422440"/>
              <a:ext cx="458640" cy="718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7718400" y="2814480"/>
              <a:ext cx="26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8" name=""/>
            <p:cNvGrpSpPr/>
            <p:nvPr/>
          </p:nvGrpSpPr>
          <p:grpSpPr>
            <a:xfrm>
              <a:off x="5552640" y="2803320"/>
              <a:ext cx="459000" cy="345600"/>
              <a:chOff x="5552640" y="2803320"/>
              <a:chExt cx="459000" cy="345600"/>
            </a:xfrm>
          </p:grpSpPr>
          <p:sp>
            <p:nvSpPr>
              <p:cNvPr id="6379" name=""/>
              <p:cNvSpPr/>
              <p:nvPr/>
            </p:nvSpPr>
            <p:spPr>
              <a:xfrm flipH="1">
                <a:off x="5552640" y="2803320"/>
                <a:ext cx="45900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>
                <a:off x="5815080" y="2886480"/>
                <a:ext cx="0" cy="26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81" name=""/>
              <p:cNvGrpSpPr/>
              <p:nvPr/>
            </p:nvGrpSpPr>
            <p:grpSpPr>
              <a:xfrm>
                <a:off x="5684040" y="3083400"/>
                <a:ext cx="262440" cy="65520"/>
                <a:chOff x="5684040" y="3083400"/>
                <a:chExt cx="262440" cy="65520"/>
              </a:xfrm>
            </p:grpSpPr>
            <p:sp>
              <p:nvSpPr>
                <p:cNvPr id="6382" name=""/>
                <p:cNvSpPr/>
                <p:nvPr/>
              </p:nvSpPr>
              <p:spPr>
                <a:xfrm>
                  <a:off x="5684040" y="3083400"/>
                  <a:ext cx="0" cy="65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3" name=""/>
                <p:cNvSpPr/>
                <p:nvPr/>
              </p:nvSpPr>
              <p:spPr>
                <a:xfrm>
                  <a:off x="5684040" y="3148920"/>
                  <a:ext cx="262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4" name=""/>
                <p:cNvSpPr/>
                <p:nvPr/>
              </p:nvSpPr>
              <p:spPr>
                <a:xfrm flipV="1">
                  <a:off x="5946480" y="3083400"/>
                  <a:ext cx="0" cy="65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85" name=""/>
            <p:cNvGrpSpPr/>
            <p:nvPr/>
          </p:nvGrpSpPr>
          <p:grpSpPr>
            <a:xfrm>
              <a:off x="4702320" y="2761920"/>
              <a:ext cx="261720" cy="263520"/>
              <a:chOff x="4702320" y="2761920"/>
              <a:chExt cx="261720" cy="263520"/>
            </a:xfrm>
          </p:grpSpPr>
          <p:sp>
            <p:nvSpPr>
              <p:cNvPr id="6386" name=""/>
              <p:cNvSpPr/>
              <p:nvPr/>
            </p:nvSpPr>
            <p:spPr>
              <a:xfrm>
                <a:off x="4702320" y="2959920"/>
                <a:ext cx="0" cy="6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4702320" y="3025440"/>
                <a:ext cx="261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 flipV="1">
                <a:off x="4964040" y="2959920"/>
                <a:ext cx="0" cy="6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4833000" y="2761920"/>
                <a:ext cx="0" cy="26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0" name=""/>
            <p:cNvSpPr/>
            <p:nvPr/>
          </p:nvSpPr>
          <p:spPr>
            <a:xfrm>
              <a:off x="5485320" y="2369880"/>
              <a:ext cx="66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7086960" y="2011320"/>
              <a:ext cx="81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5262480" y="4681440"/>
              <a:ext cx="3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 flipV="1">
              <a:off x="5568840" y="4676760"/>
              <a:ext cx="393840" cy="1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5946840" y="4681440"/>
              <a:ext cx="45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5262480" y="4001760"/>
              <a:ext cx="0" cy="68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6377040" y="3939840"/>
              <a:ext cx="0" cy="74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4522680" y="3995640"/>
              <a:ext cx="117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7259760" y="3590640"/>
              <a:ext cx="458640" cy="720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7718400" y="3984480"/>
              <a:ext cx="26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 flipV="1">
              <a:off x="7985160" y="2814480"/>
              <a:ext cx="0" cy="229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5564160" y="3558960"/>
              <a:ext cx="68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SB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5430960" y="4270320"/>
              <a:ext cx="83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7184160" y="3190680"/>
              <a:ext cx="83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6377040" y="2184120"/>
              <a:ext cx="10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6937200" y="2814480"/>
              <a:ext cx="3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6624720" y="2562120"/>
              <a:ext cx="0" cy="26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6576840" y="2606400"/>
              <a:ext cx="39564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 flipH="1">
              <a:off x="6411600" y="2814480"/>
              <a:ext cx="19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6300000" y="3387600"/>
              <a:ext cx="83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KM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6931080" y="397008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6624720" y="3722400"/>
              <a:ext cx="0" cy="2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6562800" y="3782880"/>
              <a:ext cx="392040" cy="19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 flipH="1">
              <a:off x="6405120" y="3970080"/>
              <a:ext cx="19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6083280" y="3970080"/>
              <a:ext cx="3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5" name=""/>
            <p:cNvGrpSpPr/>
            <p:nvPr/>
          </p:nvGrpSpPr>
          <p:grpSpPr>
            <a:xfrm>
              <a:off x="5633640" y="3970080"/>
              <a:ext cx="459000" cy="344160"/>
              <a:chOff x="5633640" y="3970080"/>
              <a:chExt cx="459000" cy="344160"/>
            </a:xfrm>
          </p:grpSpPr>
          <p:sp>
            <p:nvSpPr>
              <p:cNvPr id="6416" name=""/>
              <p:cNvSpPr/>
              <p:nvPr/>
            </p:nvSpPr>
            <p:spPr>
              <a:xfrm flipH="1">
                <a:off x="5633640" y="3970080"/>
                <a:ext cx="459000" cy="19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>
                <a:off x="5896080" y="4052880"/>
                <a:ext cx="0" cy="26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8" name=""/>
              <p:cNvGrpSpPr/>
              <p:nvPr/>
            </p:nvGrpSpPr>
            <p:grpSpPr>
              <a:xfrm>
                <a:off x="5765040" y="4248720"/>
                <a:ext cx="262440" cy="65520"/>
                <a:chOff x="5765040" y="4248720"/>
                <a:chExt cx="262440" cy="65520"/>
              </a:xfrm>
            </p:grpSpPr>
            <p:sp>
              <p:nvSpPr>
                <p:cNvPr id="6419" name=""/>
                <p:cNvSpPr/>
                <p:nvPr/>
              </p:nvSpPr>
              <p:spPr>
                <a:xfrm>
                  <a:off x="5765040" y="4249080"/>
                  <a:ext cx="0" cy="65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0" name=""/>
                <p:cNvSpPr/>
                <p:nvPr/>
              </p:nvSpPr>
              <p:spPr>
                <a:xfrm>
                  <a:off x="5765040" y="4313880"/>
                  <a:ext cx="262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1" name=""/>
                <p:cNvSpPr/>
                <p:nvPr/>
              </p:nvSpPr>
              <p:spPr>
                <a:xfrm flipV="1">
                  <a:off x="6027480" y="4248720"/>
                  <a:ext cx="0" cy="65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22" name=""/>
          <p:cNvSpPr/>
          <p:nvPr/>
        </p:nvSpPr>
        <p:spPr>
          <a:xfrm>
            <a:off x="2201400" y="304920"/>
            <a:ext cx="469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下图所示的鼠笼式电动机正反转控制线路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有几处错误，请改正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38088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1.1.2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按钮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手动切换电器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05920" y="5257080"/>
            <a:ext cx="12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85800" y="2209680"/>
            <a:ext cx="3959280" cy="3056040"/>
            <a:chOff x="685800" y="2209680"/>
            <a:chExt cx="3959280" cy="3056040"/>
          </a:xfrm>
        </p:grpSpPr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685800" y="2209680"/>
              <a:ext cx="3959280" cy="30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按钮" descr=""/>
            <p:cNvPicPr/>
            <p:nvPr/>
          </p:nvPicPr>
          <p:blipFill>
            <a:blip r:embed="rId3"/>
            <a:stretch/>
          </p:blipFill>
          <p:spPr>
            <a:xfrm>
              <a:off x="868320" y="2334240"/>
              <a:ext cx="3593880" cy="276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"/>
          <p:cNvSpPr/>
          <p:nvPr/>
        </p:nvSpPr>
        <p:spPr>
          <a:xfrm>
            <a:off x="3346920" y="9144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按钮常用于接通和断开控制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84200" y="14479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的外形图和结构如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69600" y="5805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按钮开关的外形和符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22120" y="529200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形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952880" y="2200320"/>
            <a:ext cx="3733920" cy="3043080"/>
            <a:chOff x="4952880" y="2200320"/>
            <a:chExt cx="3733920" cy="3043080"/>
          </a:xfrm>
        </p:grpSpPr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4952880" y="2200320"/>
              <a:ext cx="3733920" cy="30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按钮3(g)" descr=""/>
            <p:cNvPicPr/>
            <p:nvPr/>
          </p:nvPicPr>
          <p:blipFill>
            <a:blip r:embed="rId5"/>
            <a:stretch/>
          </p:blipFill>
          <p:spPr>
            <a:xfrm>
              <a:off x="5160240" y="2349720"/>
              <a:ext cx="3318840" cy="268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4952880" y="2743200"/>
            <a:ext cx="1676160" cy="1332000"/>
            <a:chOff x="4952880" y="2743200"/>
            <a:chExt cx="1676160" cy="1332000"/>
          </a:xfrm>
        </p:grpSpPr>
        <p:grpSp>
          <p:nvGrpSpPr>
            <p:cNvPr id="174" name=""/>
            <p:cNvGrpSpPr/>
            <p:nvPr/>
          </p:nvGrpSpPr>
          <p:grpSpPr>
            <a:xfrm>
              <a:off x="4952880" y="3200400"/>
              <a:ext cx="1676160" cy="874800"/>
              <a:chOff x="4952880" y="3200400"/>
              <a:chExt cx="1676160" cy="874800"/>
            </a:xfrm>
          </p:grpSpPr>
          <p:sp>
            <p:nvSpPr>
              <p:cNvPr id="175" name=""/>
              <p:cNvSpPr/>
              <p:nvPr/>
            </p:nvSpPr>
            <p:spPr>
              <a:xfrm flipH="1" flipV="1">
                <a:off x="6192000" y="3200400"/>
                <a:ext cx="437040" cy="87480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4952880" y="3200400"/>
                <a:ext cx="1239120" cy="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5087520" y="2743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常闭触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738680" y="4343400"/>
            <a:ext cx="1967040" cy="1295280"/>
            <a:chOff x="4738680" y="4343400"/>
            <a:chExt cx="1967040" cy="1295280"/>
          </a:xfrm>
        </p:grpSpPr>
        <p:sp>
          <p:nvSpPr>
            <p:cNvPr id="179" name=""/>
            <p:cNvSpPr/>
            <p:nvPr/>
          </p:nvSpPr>
          <p:spPr>
            <a:xfrm flipH="1">
              <a:off x="4738680" y="5638680"/>
              <a:ext cx="129528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58920" y="51721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常开触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958000" y="4343400"/>
              <a:ext cx="747720" cy="12952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770440" y="930240"/>
            <a:ext cx="2488680" cy="515520"/>
            <a:chOff x="5770440" y="930240"/>
            <a:chExt cx="2488680" cy="515520"/>
          </a:xfrm>
        </p:grpSpPr>
        <p:sp>
          <p:nvSpPr>
            <p:cNvPr id="183" name=""/>
            <p:cNvSpPr/>
            <p:nvPr/>
          </p:nvSpPr>
          <p:spPr>
            <a:xfrm flipV="1">
              <a:off x="5770440" y="1169640"/>
              <a:ext cx="1495440" cy="27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26880" y="930240"/>
              <a:ext cx="73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宋体"/>
                </a:rPr>
                <a:t>复位弹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883120" y="1298520"/>
            <a:ext cx="2415600" cy="366120"/>
            <a:chOff x="5883120" y="1298520"/>
            <a:chExt cx="2415600" cy="366120"/>
          </a:xfrm>
        </p:grpSpPr>
        <p:sp>
          <p:nvSpPr>
            <p:cNvPr id="186" name=""/>
            <p:cNvSpPr/>
            <p:nvPr/>
          </p:nvSpPr>
          <p:spPr>
            <a:xfrm flipV="1">
              <a:off x="5883120" y="1568520"/>
              <a:ext cx="14320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66480" y="1298520"/>
              <a:ext cx="73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宋体"/>
                </a:rPr>
                <a:t>支柱连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313320" y="1828800"/>
            <a:ext cx="2153160" cy="393840"/>
            <a:chOff x="6313320" y="1828800"/>
            <a:chExt cx="2153160" cy="393840"/>
          </a:xfrm>
        </p:grpSpPr>
        <p:sp>
          <p:nvSpPr>
            <p:cNvPr id="189" name=""/>
            <p:cNvSpPr/>
            <p:nvPr/>
          </p:nvSpPr>
          <p:spPr>
            <a:xfrm flipV="1">
              <a:off x="6313320" y="2052720"/>
              <a:ext cx="939960" cy="169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51360" y="1828800"/>
              <a:ext cx="91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宋体"/>
                </a:rPr>
                <a:t>常闭静触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062760" y="2455920"/>
            <a:ext cx="2438640" cy="435960"/>
            <a:chOff x="6062760" y="2455920"/>
            <a:chExt cx="2438640" cy="435960"/>
          </a:xfrm>
        </p:grpSpPr>
        <p:sp>
          <p:nvSpPr>
            <p:cNvPr id="192" name=""/>
            <p:cNvSpPr/>
            <p:nvPr/>
          </p:nvSpPr>
          <p:spPr>
            <a:xfrm>
              <a:off x="6062760" y="2455920"/>
              <a:ext cx="1252440" cy="26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86280" y="2525760"/>
              <a:ext cx="91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宋体"/>
                </a:rPr>
                <a:t>桥式静触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095880" y="2743200"/>
            <a:ext cx="2433960" cy="644040"/>
            <a:chOff x="6095880" y="2743200"/>
            <a:chExt cx="2433960" cy="644040"/>
          </a:xfrm>
        </p:grpSpPr>
        <p:sp>
          <p:nvSpPr>
            <p:cNvPr id="195" name=""/>
            <p:cNvSpPr/>
            <p:nvPr/>
          </p:nvSpPr>
          <p:spPr>
            <a:xfrm>
              <a:off x="6095880" y="2743200"/>
              <a:ext cx="1182960" cy="37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14720" y="3021120"/>
              <a:ext cx="91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宋体"/>
                </a:rPr>
                <a:t>常开静触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026040" y="3009960"/>
            <a:ext cx="1742040" cy="816840"/>
            <a:chOff x="6026040" y="3009960"/>
            <a:chExt cx="1742040" cy="816840"/>
          </a:xfrm>
        </p:grpSpPr>
        <p:sp>
          <p:nvSpPr>
            <p:cNvPr id="198" name=""/>
            <p:cNvSpPr/>
            <p:nvPr/>
          </p:nvSpPr>
          <p:spPr>
            <a:xfrm>
              <a:off x="6026040" y="3009960"/>
              <a:ext cx="1258920" cy="64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01600" y="346068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宋体"/>
                </a:rPr>
                <a:t>外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33520" y="457200"/>
            <a:ext cx="6283080" cy="5883120"/>
            <a:chOff x="533520" y="457200"/>
            <a:chExt cx="6283080" cy="5883120"/>
          </a:xfrm>
        </p:grpSpPr>
        <p:sp>
          <p:nvSpPr>
            <p:cNvPr id="201" name=""/>
            <p:cNvSpPr/>
            <p:nvPr/>
          </p:nvSpPr>
          <p:spPr>
            <a:xfrm>
              <a:off x="6403680" y="28656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5897160" y="1655280"/>
              <a:ext cx="95400" cy="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5710320" y="1400040"/>
              <a:ext cx="230040" cy="5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5710320" y="1453680"/>
              <a:ext cx="92160" cy="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5897160" y="1385640"/>
              <a:ext cx="4284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667480" y="1198440"/>
              <a:ext cx="365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354720" y="733320"/>
              <a:ext cx="1800" cy="27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032520" y="1009800"/>
              <a:ext cx="63360" cy="18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54720" y="2822400"/>
              <a:ext cx="14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45280" y="2822400"/>
              <a:ext cx="1440" cy="7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230880" y="2254320"/>
              <a:ext cx="1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6343560" y="2254320"/>
              <a:ext cx="1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960560" y="4424040"/>
              <a:ext cx="1440" cy="39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60560" y="3892320"/>
              <a:ext cx="30780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960200" y="4056120"/>
              <a:ext cx="351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960560" y="3601800"/>
              <a:ext cx="1440" cy="45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868400" y="4303800"/>
              <a:ext cx="163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670040" y="4303800"/>
              <a:ext cx="155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465200" y="4303800"/>
              <a:ext cx="162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17960" y="4130640"/>
              <a:ext cx="3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1465200" y="4107960"/>
              <a:ext cx="180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65200" y="4108320"/>
              <a:ext cx="120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65200" y="4498920"/>
              <a:ext cx="120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65200" y="4303800"/>
              <a:ext cx="1800" cy="19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807000" y="4303800"/>
              <a:ext cx="163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608280" y="4303800"/>
              <a:ext cx="155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403440" y="4303800"/>
              <a:ext cx="162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99040" y="4114800"/>
              <a:ext cx="3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4840" y="4191120"/>
              <a:ext cx="3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03440" y="4498920"/>
              <a:ext cx="1209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03440" y="4108320"/>
              <a:ext cx="1209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03440" y="4303800"/>
              <a:ext cx="1800" cy="19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403440" y="4107960"/>
              <a:ext cx="180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040280" y="3601800"/>
              <a:ext cx="1440" cy="45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3732120" y="3892320"/>
              <a:ext cx="30816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040280" y="4424040"/>
              <a:ext cx="1440" cy="39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78600" y="4108320"/>
              <a:ext cx="117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78600" y="4498920"/>
              <a:ext cx="117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811840" y="3601800"/>
              <a:ext cx="1440" cy="45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113520" y="4303800"/>
              <a:ext cx="100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914800" y="4303800"/>
              <a:ext cx="160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5716080" y="4303800"/>
              <a:ext cx="155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514480" y="4303800"/>
              <a:ext cx="158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316480" y="4305240"/>
              <a:ext cx="169920" cy="3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5178240" y="4303800"/>
              <a:ext cx="98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7720" y="94788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宋体"/>
                </a:rPr>
                <a:t>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7720" y="24541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宋体"/>
                </a:rPr>
                <a:t>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7720" y="358776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宋体"/>
                </a:rPr>
                <a:t>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7720" y="449568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宋体"/>
                </a:rPr>
                <a:t>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7720" y="525780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宋体"/>
                </a:rPr>
                <a:t>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7720" y="583236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宋体"/>
                </a:rPr>
                <a:t>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24680" y="5334120"/>
              <a:ext cx="73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宋体"/>
                </a:rPr>
                <a:t>常闭按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69880" y="5656320"/>
              <a:ext cx="10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99"/>
                  </a:solidFill>
                  <a:latin typeface="宋体"/>
                </a:rPr>
                <a:t>停止按钮</a:t>
              </a:r>
              <a:r>
                <a:rPr b="1" lang="zh-CN" sz="2400" spc="-1" strike="noStrike">
                  <a:solidFill>
                    <a:srgbClr val="000099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66240" y="5334120"/>
              <a:ext cx="73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宋体"/>
                </a:rPr>
                <a:t>常开按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3520" y="5659560"/>
              <a:ext cx="10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99"/>
                  </a:solidFill>
                  <a:latin typeface="宋体"/>
                </a:rPr>
                <a:t>起动按钮</a:t>
              </a:r>
              <a:r>
                <a:rPr b="1" lang="zh-CN" sz="2400" spc="-1" strike="noStrike">
                  <a:solidFill>
                    <a:srgbClr val="000099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71000" y="5511960"/>
              <a:ext cx="73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宋体"/>
                </a:rPr>
                <a:t>复合按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78600" y="4303800"/>
              <a:ext cx="1440" cy="19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178600" y="4107960"/>
              <a:ext cx="144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5506560" y="3892320"/>
              <a:ext cx="30492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811840" y="4424040"/>
              <a:ext cx="1440" cy="39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6145200" y="3892320"/>
              <a:ext cx="30492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6145200" y="4424040"/>
              <a:ext cx="1440" cy="39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145200" y="3601800"/>
              <a:ext cx="1440" cy="45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6144840" y="4056120"/>
              <a:ext cx="351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15160" y="457200"/>
              <a:ext cx="1440" cy="588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44680" y="6338880"/>
              <a:ext cx="6270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44680" y="457200"/>
              <a:ext cx="1440" cy="588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71720" y="457200"/>
              <a:ext cx="1440" cy="588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21120" y="457200"/>
              <a:ext cx="1440" cy="588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79880" y="457200"/>
              <a:ext cx="1800" cy="588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544680" y="3386160"/>
              <a:ext cx="6270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4680" y="5048280"/>
              <a:ext cx="6270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95280" y="22255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27200" y="23194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14440" y="28605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76600" y="28656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32160" y="22971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440" y="23194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43320" y="28605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08040" y="719280"/>
              <a:ext cx="180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08040" y="1009800"/>
              <a:ext cx="973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2481120" y="733320"/>
              <a:ext cx="1800" cy="27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508040" y="719280"/>
              <a:ext cx="973080" cy="117360"/>
            </a:xfrm>
            <a:custGeom>
              <a:avLst/>
              <a:gdLst/>
              <a:ahLst/>
              <a:rect l="l" t="t" r="r" b="b"/>
              <a:pathLst>
                <a:path w="613" h="74">
                  <a:moveTo>
                    <a:pt x="0" y="0"/>
                  </a:moveTo>
                  <a:lnTo>
                    <a:pt x="147" y="54"/>
                  </a:lnTo>
                  <a:lnTo>
                    <a:pt x="305" y="74"/>
                  </a:lnTo>
                  <a:lnTo>
                    <a:pt x="464" y="58"/>
                  </a:lnTo>
                  <a:lnTo>
                    <a:pt x="613" y="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55720" y="1009800"/>
              <a:ext cx="38160" cy="18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93880" y="1198440"/>
              <a:ext cx="3697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2163600" y="1009800"/>
              <a:ext cx="59040" cy="18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28880" y="1198440"/>
              <a:ext cx="1440" cy="1144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28880" y="2343240"/>
              <a:ext cx="95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023920" y="1198440"/>
              <a:ext cx="1800" cy="1144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47880" y="1673280"/>
              <a:ext cx="1440" cy="10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120760" y="1687680"/>
              <a:ext cx="1800" cy="10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580760" y="1782720"/>
              <a:ext cx="266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81120" y="1782720"/>
              <a:ext cx="1440" cy="36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70040" y="2921040"/>
              <a:ext cx="603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360520" y="2253960"/>
              <a:ext cx="1800" cy="57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120760" y="1797120"/>
              <a:ext cx="239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1471320" y="1673280"/>
              <a:ext cx="376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71680" y="1673280"/>
              <a:ext cx="1440" cy="4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03440" y="3033720"/>
              <a:ext cx="7333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471760" y="2253960"/>
              <a:ext cx="1440" cy="64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120400" y="1687680"/>
              <a:ext cx="351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70120" y="2144880"/>
              <a:ext cx="1440" cy="10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255320" y="2254320"/>
              <a:ext cx="514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255320" y="2144880"/>
              <a:ext cx="514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81120" y="2254320"/>
              <a:ext cx="1440" cy="57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71680" y="2254320"/>
              <a:ext cx="1440" cy="64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81240" y="2144880"/>
              <a:ext cx="512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81240" y="2254320"/>
              <a:ext cx="512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81240" y="2144880"/>
              <a:ext cx="1440" cy="10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471760" y="1687680"/>
              <a:ext cx="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360520" y="1797120"/>
              <a:ext cx="1800" cy="34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71680" y="2900520"/>
              <a:ext cx="131760" cy="133200"/>
            </a:xfrm>
            <a:custGeom>
              <a:avLst/>
              <a:gdLst/>
              <a:ahLst/>
              <a:rect l="l" t="t" r="r" b="b"/>
              <a:pathLst>
                <a:path w="83" h="84">
                  <a:moveTo>
                    <a:pt x="0" y="0"/>
                  </a:moveTo>
                  <a:lnTo>
                    <a:pt x="25" y="60"/>
                  </a:lnTo>
                  <a:lnTo>
                    <a:pt x="83" y="8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36760" y="2900520"/>
              <a:ext cx="135000" cy="13320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0" y="84"/>
                  </a:moveTo>
                  <a:lnTo>
                    <a:pt x="60" y="60"/>
                  </a:lnTo>
                  <a:lnTo>
                    <a:pt x="8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81120" y="28321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0"/>
                  </a:moveTo>
                  <a:lnTo>
                    <a:pt x="16" y="40"/>
                  </a:lnTo>
                  <a:lnTo>
                    <a:pt x="56" y="5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73400" y="28321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0" y="56"/>
                  </a:moveTo>
                  <a:lnTo>
                    <a:pt x="38" y="40"/>
                  </a:lnTo>
                  <a:lnTo>
                    <a:pt x="5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73280" y="2254320"/>
              <a:ext cx="88920" cy="4608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0"/>
                  </a:moveTo>
                  <a:lnTo>
                    <a:pt x="9" y="20"/>
                  </a:lnTo>
                  <a:lnTo>
                    <a:pt x="27" y="29"/>
                  </a:lnTo>
                  <a:lnTo>
                    <a:pt x="47" y="20"/>
                  </a:lnTo>
                  <a:lnTo>
                    <a:pt x="56" y="0"/>
                  </a:lnTo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70040" y="2343240"/>
              <a:ext cx="620640" cy="10296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73280" y="2300400"/>
              <a:ext cx="88920" cy="4284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56" y="27"/>
                  </a:moveTo>
                  <a:lnTo>
                    <a:pt x="47" y="7"/>
                  </a:lnTo>
                  <a:lnTo>
                    <a:pt x="27" y="0"/>
                  </a:lnTo>
                  <a:lnTo>
                    <a:pt x="9" y="7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5000" y="2254320"/>
              <a:ext cx="85680" cy="46080"/>
            </a:xfrm>
            <a:custGeom>
              <a:avLst/>
              <a:gdLst/>
              <a:ahLst/>
              <a:rect l="l" t="t" r="r" b="b"/>
              <a:pathLst>
                <a:path w="54" h="29">
                  <a:moveTo>
                    <a:pt x="0" y="0"/>
                  </a:moveTo>
                  <a:lnTo>
                    <a:pt x="7" y="20"/>
                  </a:lnTo>
                  <a:lnTo>
                    <a:pt x="27" y="29"/>
                  </a:lnTo>
                  <a:lnTo>
                    <a:pt x="47" y="20"/>
                  </a:lnTo>
                  <a:lnTo>
                    <a:pt x="54" y="0"/>
                  </a:lnTo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05000" y="2300400"/>
              <a:ext cx="85680" cy="4284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54" y="27"/>
                  </a:moveTo>
                  <a:lnTo>
                    <a:pt x="47" y="7"/>
                  </a:lnTo>
                  <a:lnTo>
                    <a:pt x="27" y="0"/>
                  </a:lnTo>
                  <a:lnTo>
                    <a:pt x="7" y="7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2023560" y="1655280"/>
              <a:ext cx="96840" cy="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833480" y="1535040"/>
              <a:ext cx="227160" cy="6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2023920" y="1520640"/>
              <a:ext cx="3672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836720" y="1400040"/>
              <a:ext cx="233280" cy="5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>
              <a:off x="2023920" y="1385640"/>
              <a:ext cx="4608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1681200" y="1198080"/>
              <a:ext cx="149040" cy="8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1833120" y="1595520"/>
              <a:ext cx="95400" cy="3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1836720" y="1453680"/>
              <a:ext cx="92160" cy="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1681200" y="1279440"/>
              <a:ext cx="24768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303800" y="2822040"/>
              <a:ext cx="14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27280" y="2144880"/>
              <a:ext cx="1800" cy="56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416480" y="2822040"/>
              <a:ext cx="1440" cy="7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17840" y="2144880"/>
              <a:ext cx="1800" cy="56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17840" y="2900520"/>
              <a:ext cx="130320" cy="1332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0" y="0"/>
                  </a:moveTo>
                  <a:lnTo>
                    <a:pt x="24" y="60"/>
                  </a:lnTo>
                  <a:lnTo>
                    <a:pt x="82" y="8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16200" y="2921040"/>
              <a:ext cx="601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48160" y="3033720"/>
              <a:ext cx="7333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27280" y="28321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0"/>
                  </a:moveTo>
                  <a:lnTo>
                    <a:pt x="15" y="40"/>
                  </a:lnTo>
                  <a:lnTo>
                    <a:pt x="56" y="5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81480" y="2900520"/>
              <a:ext cx="135000" cy="13320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0" y="84"/>
                  </a:moveTo>
                  <a:lnTo>
                    <a:pt x="60" y="60"/>
                  </a:lnTo>
                  <a:lnTo>
                    <a:pt x="8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18120" y="2832120"/>
              <a:ext cx="85680" cy="8892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0" y="56"/>
                  </a:moveTo>
                  <a:lnTo>
                    <a:pt x="38" y="40"/>
                  </a:lnTo>
                  <a:lnTo>
                    <a:pt x="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200040" y="2822400"/>
              <a:ext cx="514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200040" y="2711520"/>
              <a:ext cx="514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417480" y="1673280"/>
              <a:ext cx="37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52760" y="719280"/>
              <a:ext cx="974880" cy="117360"/>
            </a:xfrm>
            <a:custGeom>
              <a:avLst/>
              <a:gdLst/>
              <a:ahLst/>
              <a:rect l="l" t="t" r="r" b="b"/>
              <a:pathLst>
                <a:path w="614" h="74">
                  <a:moveTo>
                    <a:pt x="0" y="0"/>
                  </a:moveTo>
                  <a:lnTo>
                    <a:pt x="147" y="54"/>
                  </a:lnTo>
                  <a:lnTo>
                    <a:pt x="306" y="74"/>
                  </a:lnTo>
                  <a:lnTo>
                    <a:pt x="462" y="58"/>
                  </a:lnTo>
                  <a:lnTo>
                    <a:pt x="614" y="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52760" y="1009800"/>
              <a:ext cx="974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52760" y="719280"/>
              <a:ext cx="180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17840" y="1673280"/>
              <a:ext cx="1800" cy="4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4416480" y="1687680"/>
              <a:ext cx="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4065480" y="1687680"/>
              <a:ext cx="1800" cy="10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92600" y="1673280"/>
              <a:ext cx="1440" cy="10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970440" y="1198440"/>
              <a:ext cx="1440" cy="1144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75040" y="1198440"/>
              <a:ext cx="1800" cy="1144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51160" y="2668680"/>
              <a:ext cx="84240" cy="4284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7"/>
                  </a:moveTo>
                  <a:lnTo>
                    <a:pt x="46" y="7"/>
                  </a:lnTo>
                  <a:lnTo>
                    <a:pt x="26" y="0"/>
                  </a:lnTo>
                  <a:lnTo>
                    <a:pt x="6" y="7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16200" y="2343240"/>
              <a:ext cx="619200" cy="10296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51160" y="2446200"/>
              <a:ext cx="84240" cy="4284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0" y="0"/>
                  </a:moveTo>
                  <a:lnTo>
                    <a:pt x="6" y="18"/>
                  </a:lnTo>
                  <a:lnTo>
                    <a:pt x="26" y="27"/>
                  </a:lnTo>
                  <a:lnTo>
                    <a:pt x="46" y="18"/>
                  </a:lnTo>
                  <a:lnTo>
                    <a:pt x="53" y="0"/>
                  </a:lnTo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25960" y="2711520"/>
              <a:ext cx="514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25960" y="2822400"/>
              <a:ext cx="514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065480" y="1797120"/>
              <a:ext cx="2383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19440" y="2668680"/>
              <a:ext cx="84240" cy="4284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7"/>
                  </a:moveTo>
                  <a:lnTo>
                    <a:pt x="47" y="7"/>
                  </a:lnTo>
                  <a:lnTo>
                    <a:pt x="27" y="0"/>
                  </a:lnTo>
                  <a:lnTo>
                    <a:pt x="9" y="7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19440" y="2446200"/>
              <a:ext cx="84240" cy="4284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0" y="0"/>
                  </a:moveTo>
                  <a:lnTo>
                    <a:pt x="9" y="18"/>
                  </a:lnTo>
                  <a:lnTo>
                    <a:pt x="27" y="27"/>
                  </a:lnTo>
                  <a:lnTo>
                    <a:pt x="47" y="18"/>
                  </a:lnTo>
                  <a:lnTo>
                    <a:pt x="53" y="0"/>
                  </a:lnTo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75040" y="2343240"/>
              <a:ext cx="95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27280" y="1782720"/>
              <a:ext cx="1800" cy="36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714840" y="2711520"/>
              <a:ext cx="1440" cy="11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526920" y="1782720"/>
              <a:ext cx="2653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4125960" y="2711520"/>
              <a:ext cx="1440" cy="11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303800" y="1797120"/>
              <a:ext cx="1440" cy="34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065120" y="1687680"/>
              <a:ext cx="351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625920" y="1198080"/>
              <a:ext cx="149040" cy="8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3625920" y="1279440"/>
              <a:ext cx="24912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3781440" y="1453680"/>
              <a:ext cx="93600" cy="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3777840" y="1595520"/>
              <a:ext cx="96840" cy="3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781440" y="1400040"/>
              <a:ext cx="235080" cy="5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778200" y="1535040"/>
              <a:ext cx="227160" cy="6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3970440" y="1655280"/>
              <a:ext cx="95040" cy="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3970080" y="1520640"/>
              <a:ext cx="3492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3970440" y="1385640"/>
              <a:ext cx="4608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40040" y="1198440"/>
              <a:ext cx="368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00440" y="1009800"/>
              <a:ext cx="39600" cy="18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108320" y="1009800"/>
              <a:ext cx="60480" cy="18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427640" y="733320"/>
              <a:ext cx="1440" cy="27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17840" y="2822400"/>
              <a:ext cx="1800" cy="7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27280" y="2822400"/>
              <a:ext cx="180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303800" y="2144880"/>
              <a:ext cx="1440" cy="56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416480" y="2144880"/>
              <a:ext cx="1440" cy="56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230880" y="2822040"/>
              <a:ext cx="180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54720" y="2254320"/>
              <a:ext cx="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6343560" y="2822040"/>
              <a:ext cx="1800" cy="7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345280" y="2254320"/>
              <a:ext cx="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45280" y="2900520"/>
              <a:ext cx="129960" cy="1332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0" y="0"/>
                  </a:moveTo>
                  <a:lnTo>
                    <a:pt x="24" y="60"/>
                  </a:lnTo>
                  <a:lnTo>
                    <a:pt x="82" y="8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43640" y="2921040"/>
              <a:ext cx="5983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75240" y="3033720"/>
              <a:ext cx="7333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54720" y="28321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0"/>
                  </a:moveTo>
                  <a:lnTo>
                    <a:pt x="16" y="40"/>
                  </a:lnTo>
                  <a:lnTo>
                    <a:pt x="56" y="5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08560" y="2900520"/>
              <a:ext cx="135000" cy="13320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0" y="84"/>
                  </a:moveTo>
                  <a:lnTo>
                    <a:pt x="61" y="60"/>
                  </a:lnTo>
                  <a:lnTo>
                    <a:pt x="8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41960" y="28321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56"/>
                  </a:moveTo>
                  <a:lnTo>
                    <a:pt x="40" y="40"/>
                  </a:lnTo>
                  <a:lnTo>
                    <a:pt x="5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129280" y="2144880"/>
              <a:ext cx="512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129280" y="2254320"/>
              <a:ext cx="512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5345280" y="1673280"/>
              <a:ext cx="374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76960" y="719280"/>
              <a:ext cx="977760" cy="117360"/>
            </a:xfrm>
            <a:custGeom>
              <a:avLst/>
              <a:gdLst/>
              <a:ahLst/>
              <a:rect l="l" t="t" r="r" b="b"/>
              <a:pathLst>
                <a:path w="616" h="74">
                  <a:moveTo>
                    <a:pt x="0" y="0"/>
                  </a:moveTo>
                  <a:lnTo>
                    <a:pt x="149" y="54"/>
                  </a:lnTo>
                  <a:lnTo>
                    <a:pt x="308" y="74"/>
                  </a:lnTo>
                  <a:lnTo>
                    <a:pt x="464" y="58"/>
                  </a:lnTo>
                  <a:lnTo>
                    <a:pt x="616" y="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76960" y="1009800"/>
              <a:ext cx="977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76960" y="719280"/>
              <a:ext cx="144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45280" y="1673280"/>
              <a:ext cx="1440" cy="4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343560" y="1687680"/>
              <a:ext cx="1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992920" y="1687680"/>
              <a:ext cx="1440" cy="10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19680" y="1673280"/>
              <a:ext cx="1800" cy="10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5897520" y="1198440"/>
              <a:ext cx="1800" cy="114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02480" y="1198440"/>
              <a:ext cx="1440" cy="114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78600" y="2254320"/>
              <a:ext cx="84240" cy="46080"/>
            </a:xfrm>
            <a:custGeom>
              <a:avLst/>
              <a:gdLst/>
              <a:ahLst/>
              <a:rect l="l" t="t" r="r" b="b"/>
              <a:pathLst>
                <a:path w="53" h="29">
                  <a:moveTo>
                    <a:pt x="0" y="0"/>
                  </a:moveTo>
                  <a:lnTo>
                    <a:pt x="6" y="20"/>
                  </a:lnTo>
                  <a:lnTo>
                    <a:pt x="27" y="29"/>
                  </a:lnTo>
                  <a:lnTo>
                    <a:pt x="47" y="20"/>
                  </a:lnTo>
                  <a:lnTo>
                    <a:pt x="53" y="0"/>
                  </a:lnTo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43640" y="2343240"/>
              <a:ext cx="619200" cy="102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78600" y="2300400"/>
              <a:ext cx="84240" cy="4284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7"/>
                  </a:moveTo>
                  <a:lnTo>
                    <a:pt x="47" y="7"/>
                  </a:lnTo>
                  <a:lnTo>
                    <a:pt x="27" y="0"/>
                  </a:lnTo>
                  <a:lnTo>
                    <a:pt x="6" y="7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53040" y="2254320"/>
              <a:ext cx="514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53040" y="2144880"/>
              <a:ext cx="514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992560" y="1797120"/>
              <a:ext cx="237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46880" y="2254320"/>
              <a:ext cx="85680" cy="46080"/>
            </a:xfrm>
            <a:custGeom>
              <a:avLst/>
              <a:gdLst/>
              <a:ahLst/>
              <a:rect l="l" t="t" r="r" b="b"/>
              <a:pathLst>
                <a:path w="54" h="29">
                  <a:moveTo>
                    <a:pt x="0" y="0"/>
                  </a:moveTo>
                  <a:lnTo>
                    <a:pt x="9" y="20"/>
                  </a:lnTo>
                  <a:lnTo>
                    <a:pt x="27" y="29"/>
                  </a:lnTo>
                  <a:lnTo>
                    <a:pt x="47" y="20"/>
                  </a:lnTo>
                  <a:lnTo>
                    <a:pt x="54" y="0"/>
                  </a:lnTo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46880" y="2300400"/>
              <a:ext cx="85680" cy="4284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54" y="27"/>
                  </a:moveTo>
                  <a:lnTo>
                    <a:pt x="47" y="7"/>
                  </a:lnTo>
                  <a:lnTo>
                    <a:pt x="27" y="0"/>
                  </a:lnTo>
                  <a:lnTo>
                    <a:pt x="9" y="7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02480" y="2343240"/>
              <a:ext cx="95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54720" y="1782720"/>
              <a:ext cx="1440" cy="36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41920" y="2144880"/>
              <a:ext cx="1800" cy="10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454720" y="1782720"/>
              <a:ext cx="2649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53040" y="2144880"/>
              <a:ext cx="1800" cy="10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6230880" y="1797120"/>
              <a:ext cx="1800" cy="34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992920" y="1687680"/>
              <a:ext cx="350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5553000" y="1198080"/>
              <a:ext cx="149400" cy="8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5552640" y="1279440"/>
              <a:ext cx="24948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5710320" y="1453680"/>
              <a:ext cx="92160" cy="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5705280" y="1595520"/>
              <a:ext cx="96840" cy="3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710320" y="1400040"/>
              <a:ext cx="230040" cy="5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705640" y="1535040"/>
              <a:ext cx="226800" cy="6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5897160" y="1655280"/>
              <a:ext cx="95400" cy="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897160" y="1520640"/>
              <a:ext cx="3492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5897160" y="1385640"/>
              <a:ext cx="4284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67480" y="1198440"/>
              <a:ext cx="365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27520" y="1009800"/>
              <a:ext cx="39960" cy="18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6032520" y="1009800"/>
              <a:ext cx="63360" cy="18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6354720" y="733320"/>
              <a:ext cx="1800" cy="27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92920" y="2711520"/>
              <a:ext cx="514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92920" y="2822400"/>
              <a:ext cx="514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08560" y="2900520"/>
              <a:ext cx="135000" cy="13320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0" y="84"/>
                  </a:moveTo>
                  <a:lnTo>
                    <a:pt x="61" y="60"/>
                  </a:lnTo>
                  <a:lnTo>
                    <a:pt x="8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5699160" y="2711520"/>
              <a:ext cx="1440" cy="11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5992920" y="2711520"/>
              <a:ext cx="1440" cy="11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5184360" y="2822400"/>
              <a:ext cx="514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75240" y="3033720"/>
              <a:ext cx="7333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43640" y="2921040"/>
              <a:ext cx="5983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45280" y="2900520"/>
              <a:ext cx="129960" cy="1332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0" y="0"/>
                  </a:moveTo>
                  <a:lnTo>
                    <a:pt x="24" y="60"/>
                  </a:lnTo>
                  <a:lnTo>
                    <a:pt x="82" y="8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54720" y="28321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0"/>
                  </a:moveTo>
                  <a:lnTo>
                    <a:pt x="16" y="40"/>
                  </a:lnTo>
                  <a:lnTo>
                    <a:pt x="56" y="5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54720" y="2822400"/>
              <a:ext cx="14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45280" y="2822400"/>
              <a:ext cx="1440" cy="7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41960" y="28321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56"/>
                  </a:moveTo>
                  <a:lnTo>
                    <a:pt x="40" y="40"/>
                  </a:lnTo>
                  <a:lnTo>
                    <a:pt x="5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6343560" y="2822040"/>
              <a:ext cx="1800" cy="7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230880" y="2822040"/>
              <a:ext cx="180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76960" y="719280"/>
              <a:ext cx="144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76960" y="719280"/>
              <a:ext cx="977760" cy="117360"/>
            </a:xfrm>
            <a:custGeom>
              <a:avLst/>
              <a:gdLst/>
              <a:ahLst/>
              <a:rect l="l" t="t" r="r" b="b"/>
              <a:pathLst>
                <a:path w="616" h="74">
                  <a:moveTo>
                    <a:pt x="0" y="0"/>
                  </a:moveTo>
                  <a:lnTo>
                    <a:pt x="149" y="54"/>
                  </a:lnTo>
                  <a:lnTo>
                    <a:pt x="308" y="74"/>
                  </a:lnTo>
                  <a:lnTo>
                    <a:pt x="464" y="58"/>
                  </a:lnTo>
                  <a:lnTo>
                    <a:pt x="616" y="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802480" y="1198440"/>
              <a:ext cx="1440" cy="1144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5897520" y="1198440"/>
              <a:ext cx="1800" cy="1144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719680" y="1673280"/>
              <a:ext cx="1800" cy="10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5992920" y="1687680"/>
              <a:ext cx="1440" cy="10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6343560" y="1687680"/>
              <a:ext cx="1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345280" y="1673280"/>
              <a:ext cx="1440" cy="4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184360" y="2711520"/>
              <a:ext cx="514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43640" y="2343240"/>
              <a:ext cx="619200" cy="10296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5454720" y="1782720"/>
              <a:ext cx="2649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454720" y="2254320"/>
              <a:ext cx="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345280" y="2254320"/>
              <a:ext cx="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603760" y="2668680"/>
              <a:ext cx="84240" cy="4284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7"/>
                  </a:moveTo>
                  <a:lnTo>
                    <a:pt x="47" y="7"/>
                  </a:lnTo>
                  <a:lnTo>
                    <a:pt x="26" y="0"/>
                  </a:lnTo>
                  <a:lnTo>
                    <a:pt x="6" y="7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03760" y="2446200"/>
              <a:ext cx="84240" cy="4284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0" y="0"/>
                  </a:moveTo>
                  <a:lnTo>
                    <a:pt x="6" y="18"/>
                  </a:lnTo>
                  <a:lnTo>
                    <a:pt x="26" y="27"/>
                  </a:lnTo>
                  <a:lnTo>
                    <a:pt x="47" y="18"/>
                  </a:lnTo>
                  <a:lnTo>
                    <a:pt x="5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54720" y="1782720"/>
              <a:ext cx="1440" cy="36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6343560" y="2254320"/>
              <a:ext cx="1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6230880" y="2254320"/>
              <a:ext cx="1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02480" y="2343240"/>
              <a:ext cx="95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018120" y="2668680"/>
              <a:ext cx="84240" cy="4284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7"/>
                  </a:moveTo>
                  <a:lnTo>
                    <a:pt x="44" y="7"/>
                  </a:lnTo>
                  <a:lnTo>
                    <a:pt x="27" y="0"/>
                  </a:lnTo>
                  <a:lnTo>
                    <a:pt x="7" y="7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18120" y="2446200"/>
              <a:ext cx="84240" cy="4284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0" y="0"/>
                  </a:moveTo>
                  <a:lnTo>
                    <a:pt x="7" y="18"/>
                  </a:lnTo>
                  <a:lnTo>
                    <a:pt x="27" y="27"/>
                  </a:lnTo>
                  <a:lnTo>
                    <a:pt x="44" y="18"/>
                  </a:lnTo>
                  <a:lnTo>
                    <a:pt x="5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992560" y="1797120"/>
              <a:ext cx="237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6230880" y="1797120"/>
              <a:ext cx="1800" cy="34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627520" y="1009800"/>
              <a:ext cx="39960" cy="18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flipV="1">
              <a:off x="5552640" y="1279440"/>
              <a:ext cx="24948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5553000" y="1198080"/>
              <a:ext cx="149400" cy="8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76960" y="1009800"/>
              <a:ext cx="977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345280" y="1673280"/>
              <a:ext cx="374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992920" y="1687680"/>
              <a:ext cx="350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5705640" y="1535040"/>
              <a:ext cx="226800" cy="6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5705280" y="1595520"/>
              <a:ext cx="96840" cy="3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flipV="1">
              <a:off x="5897160" y="1520640"/>
              <a:ext cx="3492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533520" y="457200"/>
              <a:ext cx="6270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189840" y="380880"/>
            <a:ext cx="1891800" cy="568440"/>
            <a:chOff x="6189840" y="380880"/>
            <a:chExt cx="1891800" cy="568440"/>
          </a:xfrm>
        </p:grpSpPr>
        <p:sp>
          <p:nvSpPr>
            <p:cNvPr id="483" name=""/>
            <p:cNvSpPr/>
            <p:nvPr/>
          </p:nvSpPr>
          <p:spPr>
            <a:xfrm flipV="1">
              <a:off x="6189840" y="701640"/>
              <a:ext cx="1056960" cy="24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52280" y="380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按钮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>
            <a:hlinkClick r:id="rId2"/>
          </p:cNvPr>
          <p:cNvSpPr/>
          <p:nvPr/>
        </p:nvSpPr>
        <p:spPr>
          <a:xfrm>
            <a:off x="7238880" y="4267080"/>
            <a:ext cx="69084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290760" y="54864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交流接触器的外形与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480" y="4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1.1.3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接触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1320" y="130968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用于频繁地接通和断开大电流电路的开关电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63040" y="50292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90800" y="510552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914400" y="1981080"/>
            <a:ext cx="3657600" cy="3006720"/>
            <a:chOff x="914400" y="1981080"/>
            <a:chExt cx="3657600" cy="3006720"/>
          </a:xfrm>
        </p:grpSpPr>
        <p:grpSp>
          <p:nvGrpSpPr>
            <p:cNvPr id="492" name=""/>
            <p:cNvGrpSpPr/>
            <p:nvPr/>
          </p:nvGrpSpPr>
          <p:grpSpPr>
            <a:xfrm>
              <a:off x="914400" y="1981080"/>
              <a:ext cx="3657600" cy="3006720"/>
              <a:chOff x="914400" y="1981080"/>
              <a:chExt cx="3657600" cy="3006720"/>
            </a:xfrm>
          </p:grpSpPr>
          <p:pic>
            <p:nvPicPr>
              <p:cNvPr id="4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14400" y="1981080"/>
                <a:ext cx="3657600" cy="30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"/>
              <p:cNvSpPr/>
              <p:nvPr/>
            </p:nvSpPr>
            <p:spPr>
              <a:xfrm>
                <a:off x="1110240" y="2141280"/>
                <a:ext cx="3200400" cy="267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95" name="接触器" descr=""/>
            <p:cNvPicPr/>
            <p:nvPr/>
          </p:nvPicPr>
          <p:blipFill>
            <a:blip r:embed="rId3"/>
            <a:stretch/>
          </p:blipFill>
          <p:spPr>
            <a:xfrm>
              <a:off x="1371600" y="2126880"/>
              <a:ext cx="2743200" cy="264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6" name=""/>
          <p:cNvGrpSpPr/>
          <p:nvPr/>
        </p:nvGrpSpPr>
        <p:grpSpPr>
          <a:xfrm>
            <a:off x="5334120" y="1905120"/>
            <a:ext cx="3276360" cy="3200400"/>
            <a:chOff x="5334120" y="1905120"/>
            <a:chExt cx="3276360" cy="3200400"/>
          </a:xfrm>
        </p:grpSpPr>
        <p:pic>
          <p:nvPicPr>
            <p:cNvPr id="497" name="" descr=""/>
            <p:cNvPicPr/>
            <p:nvPr/>
          </p:nvPicPr>
          <p:blipFill>
            <a:blip r:embed="rId4"/>
            <a:stretch/>
          </p:blipFill>
          <p:spPr>
            <a:xfrm>
              <a:off x="5334120" y="1905120"/>
              <a:ext cx="32763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5581440" y="2076480"/>
              <a:ext cx="2800080" cy="28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9" name="接触器(改)" descr=""/>
            <p:cNvPicPr/>
            <p:nvPr/>
          </p:nvPicPr>
          <p:blipFill>
            <a:blip r:embed="rId5"/>
            <a:stretch/>
          </p:blipFill>
          <p:spPr>
            <a:xfrm>
              <a:off x="6095880" y="2133720"/>
              <a:ext cx="1788840" cy="2819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09480" y="3808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1. 1.3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接触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71320" y="90000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用于频繁地接通和断开大电流电路的开关电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828800" y="1265400"/>
            <a:ext cx="4800600" cy="5120640"/>
            <a:chOff x="1828800" y="1265400"/>
            <a:chExt cx="4800600" cy="5120640"/>
          </a:xfrm>
        </p:grpSpPr>
        <p:sp>
          <p:nvSpPr>
            <p:cNvPr id="503" name=""/>
            <p:cNvSpPr/>
            <p:nvPr/>
          </p:nvSpPr>
          <p:spPr>
            <a:xfrm>
              <a:off x="2768760" y="2982960"/>
              <a:ext cx="190440" cy="11883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28800" y="2993760"/>
              <a:ext cx="787320" cy="111564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192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192" y="288"/>
                  </a:lnTo>
                  <a:lnTo>
                    <a:pt x="192" y="240"/>
                  </a:lnTo>
                  <a:lnTo>
                    <a:pt x="48" y="240"/>
                  </a:lnTo>
                  <a:lnTo>
                    <a:pt x="48" y="48"/>
                  </a:lnTo>
                  <a:lnTo>
                    <a:pt x="192" y="48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9933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2971800" y="3819240"/>
              <a:ext cx="483480" cy="418680"/>
              <a:chOff x="2971800" y="3819240"/>
              <a:chExt cx="483480" cy="418680"/>
            </a:xfrm>
          </p:grpSpPr>
          <p:sp>
            <p:nvSpPr>
              <p:cNvPr id="506" name=""/>
              <p:cNvSpPr/>
              <p:nvPr/>
            </p:nvSpPr>
            <p:spPr>
              <a:xfrm>
                <a:off x="3332880" y="3884760"/>
                <a:ext cx="0" cy="35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971800" y="4003560"/>
                <a:ext cx="62640" cy="1170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097440" y="4003560"/>
                <a:ext cx="62640" cy="1170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34440" y="4003560"/>
                <a:ext cx="62640" cy="1170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223080" y="4003560"/>
                <a:ext cx="62640" cy="1170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160440" y="4003560"/>
                <a:ext cx="62640" cy="1170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286080" y="4003560"/>
                <a:ext cx="62640" cy="1170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3" name=""/>
              <p:cNvGrpSpPr/>
              <p:nvPr/>
            </p:nvGrpSpPr>
            <p:grpSpPr>
              <a:xfrm>
                <a:off x="3341160" y="3953160"/>
                <a:ext cx="114120" cy="267840"/>
                <a:chOff x="3341160" y="3953160"/>
                <a:chExt cx="114120" cy="267840"/>
              </a:xfrm>
            </p:grpSpPr>
            <p:sp>
              <p:nvSpPr>
                <p:cNvPr id="514" name=""/>
                <p:cNvSpPr/>
                <p:nvPr/>
              </p:nvSpPr>
              <p:spPr>
                <a:xfrm flipH="1">
                  <a:off x="3341160" y="3953160"/>
                  <a:ext cx="97920" cy="13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>
                  <a:off x="3357360" y="4087080"/>
                  <a:ext cx="97920" cy="13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 flipH="1">
                <a:off x="3324600" y="3819240"/>
                <a:ext cx="114480" cy="117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2971800" y="2857320"/>
              <a:ext cx="483480" cy="416880"/>
              <a:chOff x="2971800" y="2857320"/>
              <a:chExt cx="483480" cy="416880"/>
            </a:xfrm>
          </p:grpSpPr>
          <p:sp>
            <p:nvSpPr>
              <p:cNvPr id="518" name=""/>
              <p:cNvSpPr/>
              <p:nvPr/>
            </p:nvSpPr>
            <p:spPr>
              <a:xfrm>
                <a:off x="3332880" y="2922480"/>
                <a:ext cx="0" cy="351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971800" y="3040920"/>
                <a:ext cx="62640" cy="1166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097440" y="3040920"/>
                <a:ext cx="62640" cy="1166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034440" y="3040920"/>
                <a:ext cx="62640" cy="1166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223080" y="3040920"/>
                <a:ext cx="62640" cy="1166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60440" y="3040920"/>
                <a:ext cx="62640" cy="1166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286080" y="3040920"/>
                <a:ext cx="62640" cy="1166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3341160" y="2990520"/>
                <a:ext cx="114120" cy="267120"/>
                <a:chOff x="3341160" y="2990520"/>
                <a:chExt cx="114120" cy="267120"/>
              </a:xfrm>
            </p:grpSpPr>
            <p:sp>
              <p:nvSpPr>
                <p:cNvPr id="526" name=""/>
                <p:cNvSpPr/>
                <p:nvPr/>
              </p:nvSpPr>
              <p:spPr>
                <a:xfrm flipH="1">
                  <a:off x="3341160" y="2990520"/>
                  <a:ext cx="97920" cy="133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H="1">
                  <a:off x="3357360" y="3124080"/>
                  <a:ext cx="97920" cy="133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8" name=""/>
              <p:cNvSpPr/>
              <p:nvPr/>
            </p:nvSpPr>
            <p:spPr>
              <a:xfrm flipH="1">
                <a:off x="3324600" y="2857320"/>
                <a:ext cx="114480" cy="116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2971800" y="3481200"/>
              <a:ext cx="3657600" cy="12996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5640120" y="2600280"/>
              <a:ext cx="632160" cy="1960920"/>
              <a:chOff x="5640120" y="2600280"/>
              <a:chExt cx="632160" cy="196092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5793120" y="3103200"/>
                <a:ext cx="105840" cy="889560"/>
                <a:chOff x="5793120" y="3103200"/>
                <a:chExt cx="105840" cy="8895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5869440" y="3103200"/>
                  <a:ext cx="0" cy="888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014000">
                  <a:off x="5810400" y="3110760"/>
                  <a:ext cx="70920" cy="13140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cc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81200">
                  <a:off x="5810760" y="3859560"/>
                  <a:ext cx="70920" cy="13104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5640480" y="2600280"/>
                <a:ext cx="104760" cy="639720"/>
                <a:chOff x="5640480" y="2600280"/>
                <a:chExt cx="104760" cy="639720"/>
              </a:xfrm>
            </p:grpSpPr>
            <p:sp>
              <p:nvSpPr>
                <p:cNvPr id="536" name=""/>
                <p:cNvSpPr/>
                <p:nvPr/>
              </p:nvSpPr>
              <p:spPr>
                <a:xfrm flipH="1" rot="20586000">
                  <a:off x="5656680" y="3094560"/>
                  <a:ext cx="70560" cy="12852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cc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673960" y="2600280"/>
                  <a:ext cx="0" cy="63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5640120" y="3847320"/>
                <a:ext cx="105840" cy="703080"/>
                <a:chOff x="5640120" y="3847320"/>
                <a:chExt cx="105840" cy="703080"/>
              </a:xfrm>
            </p:grpSpPr>
            <p:sp>
              <p:nvSpPr>
                <p:cNvPr id="539" name=""/>
                <p:cNvSpPr/>
                <p:nvPr/>
              </p:nvSpPr>
              <p:spPr>
                <a:xfrm flipV="1">
                  <a:off x="5668560" y="3856320"/>
                  <a:ext cx="0" cy="694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H="1" rot="20586000">
                  <a:off x="5657400" y="3854520"/>
                  <a:ext cx="70560" cy="13176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ff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6078240" y="3114000"/>
                <a:ext cx="106560" cy="889560"/>
                <a:chOff x="6078240" y="3114000"/>
                <a:chExt cx="106560" cy="88956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6107760" y="3114000"/>
                  <a:ext cx="0" cy="888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 rot="20586000">
                  <a:off x="6095880" y="3121920"/>
                  <a:ext cx="71280" cy="13140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cc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 rot="21418800">
                  <a:off x="6094800" y="3870360"/>
                  <a:ext cx="71280" cy="13104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ff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6155280" y="2622240"/>
                <a:ext cx="106200" cy="653040"/>
                <a:chOff x="6155280" y="2622240"/>
                <a:chExt cx="106200" cy="653040"/>
              </a:xfrm>
            </p:grpSpPr>
            <p:sp>
              <p:nvSpPr>
                <p:cNvPr id="546" name=""/>
                <p:cNvSpPr/>
                <p:nvPr/>
              </p:nvSpPr>
              <p:spPr>
                <a:xfrm rot="1014000">
                  <a:off x="6172560" y="3126960"/>
                  <a:ext cx="71280" cy="13068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ff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227280" y="2622240"/>
                  <a:ext cx="0" cy="653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6165720" y="3858120"/>
                <a:ext cx="106560" cy="703080"/>
                <a:chOff x="6165720" y="3858120"/>
                <a:chExt cx="106560" cy="703080"/>
              </a:xfrm>
            </p:grpSpPr>
            <p:sp>
              <p:nvSpPr>
                <p:cNvPr id="549" name=""/>
                <p:cNvSpPr/>
                <p:nvPr/>
              </p:nvSpPr>
              <p:spPr>
                <a:xfrm flipV="1">
                  <a:off x="6243480" y="3867120"/>
                  <a:ext cx="0" cy="694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rot="1014000">
                  <a:off x="6183360" y="3865680"/>
                  <a:ext cx="71280" cy="13140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cc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1" name=""/>
            <p:cNvSpPr/>
            <p:nvPr/>
          </p:nvSpPr>
          <p:spPr>
            <a:xfrm>
              <a:off x="2057400" y="3452760"/>
              <a:ext cx="581040" cy="19008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916280" y="3481200"/>
              <a:ext cx="196560" cy="13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3797640" y="2665440"/>
              <a:ext cx="1373760" cy="1945080"/>
              <a:chOff x="3797640" y="2665440"/>
              <a:chExt cx="1373760" cy="1945080"/>
            </a:xfrm>
          </p:grpSpPr>
          <p:sp>
            <p:nvSpPr>
              <p:cNvPr id="554" name=""/>
              <p:cNvSpPr/>
              <p:nvPr/>
            </p:nvSpPr>
            <p:spPr>
              <a:xfrm>
                <a:off x="3841200" y="2714400"/>
                <a:ext cx="0" cy="63972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 rot="20586000">
                <a:off x="3818520" y="3165480"/>
                <a:ext cx="103680" cy="165240"/>
              </a:xfrm>
              <a:custGeom>
                <a:avLst/>
                <a:gdLst/>
                <a:ahLst/>
                <a:rect l="l" t="t" r="r" b="b"/>
                <a:pathLst>
                  <a:path w="64" h="120">
                    <a:moveTo>
                      <a:pt x="40" y="0"/>
                    </a:moveTo>
                    <a:cubicBezTo>
                      <a:pt x="20" y="21"/>
                      <a:pt x="0" y="43"/>
                      <a:pt x="4" y="63"/>
                    </a:cubicBezTo>
                    <a:cubicBezTo>
                      <a:pt x="8" y="83"/>
                      <a:pt x="58" y="111"/>
                      <a:pt x="64" y="120"/>
                    </a:cubicBezTo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4366440" y="2681280"/>
                <a:ext cx="1440" cy="65340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flipV="1">
                <a:off x="4373280" y="3862080"/>
                <a:ext cx="97200" cy="181800"/>
              </a:xfrm>
              <a:custGeom>
                <a:avLst/>
                <a:gdLst/>
                <a:ahLst/>
                <a:rect l="l" t="t" r="r" b="b"/>
                <a:pathLst>
                  <a:path w="64" h="120">
                    <a:moveTo>
                      <a:pt x="40" y="0"/>
                    </a:moveTo>
                    <a:cubicBezTo>
                      <a:pt x="20" y="21"/>
                      <a:pt x="0" y="43"/>
                      <a:pt x="4" y="63"/>
                    </a:cubicBezTo>
                    <a:cubicBezTo>
                      <a:pt x="8" y="83"/>
                      <a:pt x="58" y="111"/>
                      <a:pt x="64" y="120"/>
                    </a:cubicBezTo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 rot="20586000">
                <a:off x="4333680" y="3154320"/>
                <a:ext cx="105120" cy="162360"/>
              </a:xfrm>
              <a:custGeom>
                <a:avLst/>
                <a:gdLst/>
                <a:ahLst/>
                <a:rect l="l" t="t" r="r" b="b"/>
                <a:pathLst>
                  <a:path w="64" h="120">
                    <a:moveTo>
                      <a:pt x="40" y="0"/>
                    </a:moveTo>
                    <a:cubicBezTo>
                      <a:pt x="20" y="21"/>
                      <a:pt x="0" y="43"/>
                      <a:pt x="4" y="63"/>
                    </a:cubicBezTo>
                    <a:cubicBezTo>
                      <a:pt x="8" y="83"/>
                      <a:pt x="58" y="111"/>
                      <a:pt x="64" y="120"/>
                    </a:cubicBezTo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 rot="20586000">
                <a:off x="4869720" y="3132360"/>
                <a:ext cx="105480" cy="162360"/>
              </a:xfrm>
              <a:custGeom>
                <a:avLst/>
                <a:gdLst/>
                <a:ahLst/>
                <a:rect l="l" t="t" r="r" b="b"/>
                <a:pathLst>
                  <a:path w="64" h="120">
                    <a:moveTo>
                      <a:pt x="40" y="0"/>
                    </a:moveTo>
                    <a:cubicBezTo>
                      <a:pt x="20" y="21"/>
                      <a:pt x="0" y="43"/>
                      <a:pt x="4" y="63"/>
                    </a:cubicBezTo>
                    <a:cubicBezTo>
                      <a:pt x="8" y="83"/>
                      <a:pt x="58" y="111"/>
                      <a:pt x="64" y="120"/>
                    </a:cubicBezTo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0" name=""/>
              <p:cNvGrpSpPr/>
              <p:nvPr/>
            </p:nvGrpSpPr>
            <p:grpSpPr>
              <a:xfrm>
                <a:off x="4493520" y="3168360"/>
                <a:ext cx="152280" cy="899640"/>
                <a:chOff x="4493520" y="3168360"/>
                <a:chExt cx="152280" cy="89964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4602960" y="3168360"/>
                  <a:ext cx="0" cy="899640"/>
                </a:xfrm>
                <a:prstGeom prst="line">
                  <a:avLst/>
                </a:prstGeom>
                <a:ln w="5724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V="1" rot="20708400">
                  <a:off x="4515480" y="3183840"/>
                  <a:ext cx="96840" cy="18540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ff0000"/>
                </a:solidFill>
                <a:ln w="3816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V="1" rot="20708400">
                  <a:off x="4526640" y="3866400"/>
                  <a:ext cx="96840" cy="18576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cc0000"/>
                </a:solidFill>
                <a:ln w="3816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4" name=""/>
              <p:cNvSpPr/>
              <p:nvPr/>
            </p:nvSpPr>
            <p:spPr>
              <a:xfrm flipH="1">
                <a:off x="4892040" y="2665440"/>
                <a:ext cx="1080" cy="65304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5019120" y="3135600"/>
                <a:ext cx="152280" cy="899280"/>
                <a:chOff x="5019120" y="3135600"/>
                <a:chExt cx="152280" cy="8992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5128560" y="3135600"/>
                  <a:ext cx="0" cy="899280"/>
                </a:xfrm>
                <a:prstGeom prst="line">
                  <a:avLst/>
                </a:prstGeom>
                <a:ln w="5724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V="1" rot="20708400">
                  <a:off x="5041080" y="3151080"/>
                  <a:ext cx="96840" cy="18540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ff0000"/>
                </a:solidFill>
                <a:ln w="3816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V="1" rot="20708400">
                  <a:off x="5052240" y="3833280"/>
                  <a:ext cx="96840" cy="18576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ff0000"/>
                </a:solidFill>
                <a:ln w="3816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3984480" y="3168360"/>
                <a:ext cx="152280" cy="899640"/>
                <a:chOff x="3984480" y="3168360"/>
                <a:chExt cx="152280" cy="89964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4093920" y="3168360"/>
                  <a:ext cx="0" cy="899640"/>
                </a:xfrm>
                <a:prstGeom prst="line">
                  <a:avLst/>
                </a:prstGeom>
                <a:ln w="5724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V="1" rot="20708400">
                  <a:off x="4006440" y="3183840"/>
                  <a:ext cx="96840" cy="18540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ff0000"/>
                </a:solidFill>
                <a:ln w="3816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V="1" rot="20708400">
                  <a:off x="4017600" y="3866400"/>
                  <a:ext cx="96840" cy="18576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000099"/>
                </a:solidFill>
                <a:ln w="3816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3847680" y="3873600"/>
                <a:ext cx="96840" cy="736920"/>
                <a:chOff x="3847680" y="3873600"/>
                <a:chExt cx="96840" cy="736920"/>
              </a:xfrm>
            </p:grpSpPr>
            <p:sp>
              <p:nvSpPr>
                <p:cNvPr id="574" name=""/>
                <p:cNvSpPr/>
                <p:nvPr/>
              </p:nvSpPr>
              <p:spPr>
                <a:xfrm flipV="1">
                  <a:off x="3857400" y="3873600"/>
                  <a:ext cx="0" cy="736920"/>
                </a:xfrm>
                <a:prstGeom prst="line">
                  <a:avLst/>
                </a:prstGeom>
                <a:ln w="5724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 flipV="1">
                  <a:off x="3847320" y="3873240"/>
                  <a:ext cx="96840" cy="185400"/>
                </a:xfrm>
                <a:custGeom>
                  <a:avLst/>
                  <a:gdLst/>
                  <a:ahLst/>
                  <a:rect l="l" t="t" r="r" b="b"/>
                  <a:pathLst>
                    <a:path w="64" h="120">
                      <a:moveTo>
                        <a:pt x="40" y="0"/>
                      </a:moveTo>
                      <a:cubicBezTo>
                        <a:pt x="20" y="21"/>
                        <a:pt x="0" y="43"/>
                        <a:pt x="4" y="63"/>
                      </a:cubicBezTo>
                      <a:cubicBezTo>
                        <a:pt x="8" y="83"/>
                        <a:pt x="58" y="111"/>
                        <a:pt x="64" y="120"/>
                      </a:cubicBezTo>
                    </a:path>
                  </a:pathLst>
                </a:custGeom>
                <a:solidFill>
                  <a:srgbClr val="ff0000"/>
                </a:solidFill>
                <a:ln w="3816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 flipH="1" flipV="1">
                <a:off x="4383000" y="3873600"/>
                <a:ext cx="1440" cy="73692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 flipV="1">
                <a:off x="4892040" y="3857040"/>
                <a:ext cx="1080" cy="73692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flipV="1">
                <a:off x="4854600" y="3824640"/>
                <a:ext cx="96840" cy="181440"/>
              </a:xfrm>
              <a:custGeom>
                <a:avLst/>
                <a:gdLst/>
                <a:ahLst/>
                <a:rect l="l" t="t" r="r" b="b"/>
                <a:pathLst>
                  <a:path w="64" h="120">
                    <a:moveTo>
                      <a:pt x="40" y="0"/>
                    </a:moveTo>
                    <a:cubicBezTo>
                      <a:pt x="20" y="21"/>
                      <a:pt x="0" y="43"/>
                      <a:pt x="4" y="63"/>
                    </a:cubicBezTo>
                    <a:cubicBezTo>
                      <a:pt x="8" y="83"/>
                      <a:pt x="58" y="111"/>
                      <a:pt x="64" y="120"/>
                    </a:cubicBezTo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>
              <a:off x="3836880" y="1265400"/>
              <a:ext cx="39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~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3733920" y="5205240"/>
              <a:ext cx="1295280" cy="1180800"/>
              <a:chOff x="3733920" y="5205240"/>
              <a:chExt cx="1295280" cy="1180800"/>
            </a:xfrm>
          </p:grpSpPr>
          <p:sp>
            <p:nvSpPr>
              <p:cNvPr id="581" name=""/>
              <p:cNvSpPr/>
              <p:nvPr/>
            </p:nvSpPr>
            <p:spPr>
              <a:xfrm flipH="1">
                <a:off x="3763080" y="6010560"/>
                <a:ext cx="272160" cy="3474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2" name=""/>
              <p:cNvGrpSpPr/>
              <p:nvPr/>
            </p:nvGrpSpPr>
            <p:grpSpPr>
              <a:xfrm>
                <a:off x="3733920" y="5205240"/>
                <a:ext cx="1295280" cy="1180800"/>
                <a:chOff x="3733920" y="5205240"/>
                <a:chExt cx="1295280" cy="118080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3884760" y="5205240"/>
                  <a:ext cx="1023120" cy="97200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~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733920" y="6386040"/>
                  <a:ext cx="1295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5" name=""/>
              <p:cNvSpPr/>
              <p:nvPr/>
            </p:nvSpPr>
            <p:spPr>
              <a:xfrm flipH="1" flipV="1">
                <a:off x="4756680" y="6038640"/>
                <a:ext cx="272160" cy="347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3873600" y="5064120"/>
              <a:ext cx="228600" cy="247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852720" y="4633920"/>
              <a:ext cx="0" cy="45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78320" y="4633920"/>
              <a:ext cx="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4647960" y="5075280"/>
              <a:ext cx="228600" cy="246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97440" y="4633920"/>
              <a:ext cx="0" cy="469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3809880" y="4557240"/>
              <a:ext cx="1143000" cy="122040"/>
              <a:chOff x="3809880" y="4557240"/>
              <a:chExt cx="1143000" cy="122040"/>
            </a:xfrm>
          </p:grpSpPr>
          <p:sp>
            <p:nvSpPr>
              <p:cNvPr id="592" name=""/>
              <p:cNvSpPr/>
              <p:nvPr/>
            </p:nvSpPr>
            <p:spPr>
              <a:xfrm flipV="1">
                <a:off x="3809880" y="4556880"/>
                <a:ext cx="120600" cy="122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4343040" y="4556880"/>
                <a:ext cx="120600" cy="122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4832280" y="4556880"/>
                <a:ext cx="120600" cy="122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2133720" y="2189160"/>
              <a:ext cx="2251080" cy="1537200"/>
              <a:chOff x="2133720" y="2189160"/>
              <a:chExt cx="2251080" cy="153720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144880" y="2194920"/>
                <a:ext cx="419040" cy="1531440"/>
                <a:chOff x="2144880" y="2194920"/>
                <a:chExt cx="419040" cy="1531440"/>
              </a:xfrm>
            </p:grpSpPr>
            <p:grpSp>
              <p:nvGrpSpPr>
                <p:cNvPr id="597" name=""/>
                <p:cNvGrpSpPr/>
                <p:nvPr/>
              </p:nvGrpSpPr>
              <p:grpSpPr>
                <a:xfrm>
                  <a:off x="2144880" y="2194920"/>
                  <a:ext cx="419040" cy="1531440"/>
                  <a:chOff x="2144880" y="2194920"/>
                  <a:chExt cx="419040" cy="153144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>
                    <a:off x="2538360" y="2423160"/>
                    <a:ext cx="0" cy="102996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428920" y="3440880"/>
                    <a:ext cx="13500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200">
                        <a:moveTo>
                          <a:pt x="81" y="0"/>
                        </a:moveTo>
                        <a:cubicBezTo>
                          <a:pt x="77" y="54"/>
                          <a:pt x="99" y="176"/>
                          <a:pt x="27" y="200"/>
                        </a:cubicBezTo>
                        <a:cubicBezTo>
                          <a:pt x="7" y="168"/>
                          <a:pt x="17" y="180"/>
                          <a:pt x="0" y="163"/>
                        </a:cubicBezTo>
                      </a:path>
                    </a:pathLst>
                  </a:custGeom>
                  <a:noFill/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144880" y="3453480"/>
                    <a:ext cx="13500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200">
                        <a:moveTo>
                          <a:pt x="81" y="0"/>
                        </a:moveTo>
                        <a:cubicBezTo>
                          <a:pt x="77" y="54"/>
                          <a:pt x="99" y="176"/>
                          <a:pt x="27" y="200"/>
                        </a:cubicBezTo>
                        <a:cubicBezTo>
                          <a:pt x="7" y="168"/>
                          <a:pt x="17" y="180"/>
                          <a:pt x="0" y="163"/>
                        </a:cubicBezTo>
                      </a:path>
                    </a:pathLst>
                  </a:custGeom>
                  <a:noFill/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2276640" y="3453480"/>
                    <a:ext cx="13500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200">
                        <a:moveTo>
                          <a:pt x="81" y="0"/>
                        </a:moveTo>
                        <a:cubicBezTo>
                          <a:pt x="77" y="54"/>
                          <a:pt x="99" y="176"/>
                          <a:pt x="27" y="200"/>
                        </a:cubicBezTo>
                        <a:cubicBezTo>
                          <a:pt x="7" y="168"/>
                          <a:pt x="17" y="180"/>
                          <a:pt x="0" y="163"/>
                        </a:cubicBezTo>
                      </a:path>
                    </a:pathLst>
                  </a:custGeom>
                  <a:noFill/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V="1">
                    <a:off x="2144880" y="2194920"/>
                    <a:ext cx="0" cy="125856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3" name=""/>
                <p:cNvSpPr/>
                <p:nvPr/>
              </p:nvSpPr>
              <p:spPr>
                <a:xfrm rot="2340600">
                  <a:off x="2396880" y="3388320"/>
                  <a:ext cx="74520" cy="8856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8" y="56"/>
                      </a:moveTo>
                      <a:cubicBezTo>
                        <a:pt x="4" y="36"/>
                        <a:pt x="0" y="16"/>
                        <a:pt x="8" y="8"/>
                      </a:cubicBezTo>
                      <a:cubicBezTo>
                        <a:pt x="16" y="0"/>
                        <a:pt x="48" y="8"/>
                        <a:pt x="56" y="8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42840" bIns="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rot="2340600">
                  <a:off x="2266920" y="3386880"/>
                  <a:ext cx="74880" cy="8856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8" y="56"/>
                      </a:moveTo>
                      <a:cubicBezTo>
                        <a:pt x="4" y="36"/>
                        <a:pt x="0" y="16"/>
                        <a:pt x="8" y="8"/>
                      </a:cubicBezTo>
                      <a:cubicBezTo>
                        <a:pt x="16" y="0"/>
                        <a:pt x="48" y="8"/>
                        <a:pt x="56" y="8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42840" bIns="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5" name=""/>
              <p:cNvSpPr/>
              <p:nvPr/>
            </p:nvSpPr>
            <p:spPr>
              <a:xfrm>
                <a:off x="2556000" y="2458440"/>
                <a:ext cx="1295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133720" y="2189160"/>
                <a:ext cx="2251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3809880" y="1804680"/>
              <a:ext cx="1143000" cy="913680"/>
              <a:chOff x="3809880" y="1804680"/>
              <a:chExt cx="1143000" cy="913680"/>
            </a:xfrm>
          </p:grpSpPr>
          <p:sp>
            <p:nvSpPr>
              <p:cNvPr id="608" name=""/>
              <p:cNvSpPr/>
              <p:nvPr/>
            </p:nvSpPr>
            <p:spPr>
              <a:xfrm flipV="1">
                <a:off x="3809880" y="1804320"/>
                <a:ext cx="120600" cy="122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4343040" y="1804320"/>
                <a:ext cx="120600" cy="122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4832280" y="1804320"/>
                <a:ext cx="120600" cy="122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895640" y="1881000"/>
                <a:ext cx="0" cy="761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3809880" y="2595960"/>
                <a:ext cx="120600" cy="122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4305240" y="2575440"/>
                <a:ext cx="120600" cy="122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4832280" y="2595960"/>
                <a:ext cx="120600" cy="122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381200" y="1881000"/>
                <a:ext cx="0" cy="761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848040" y="1920600"/>
                <a:ext cx="0" cy="761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7" name=""/>
          <p:cNvSpPr/>
          <p:nvPr/>
        </p:nvSpPr>
        <p:spPr>
          <a:xfrm>
            <a:off x="609480" y="2271600"/>
            <a:ext cx="1116000" cy="525600"/>
          </a:xfrm>
          <a:prstGeom prst="wedgeRoundRectCallout">
            <a:avLst>
              <a:gd name="adj1" fmla="val 90824"/>
              <a:gd name="adj2" fmla="val 196222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58000" y="4862520"/>
            <a:ext cx="1573200" cy="458640"/>
          </a:xfrm>
          <a:prstGeom prst="wedgeRoundRectCallout">
            <a:avLst>
              <a:gd name="adj1" fmla="val -104694"/>
              <a:gd name="adj2" fmla="val -223356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辅助触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914400" y="4786200"/>
            <a:ext cx="930240" cy="398520"/>
          </a:xfrm>
          <a:prstGeom prst="wedgeRoundRectCallout">
            <a:avLst>
              <a:gd name="adj1" fmla="val 77134"/>
              <a:gd name="adj2" fmla="val -238842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铁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133720" y="4786200"/>
            <a:ext cx="990360" cy="438120"/>
          </a:xfrm>
          <a:prstGeom prst="wedgeRoundRectCallout">
            <a:avLst>
              <a:gd name="adj1" fmla="val 25800"/>
              <a:gd name="adj2" fmla="val -244925"/>
              <a:gd name="adj3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衔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097600" y="1432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55320" y="5395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电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410080" y="4938840"/>
            <a:ext cx="1179720" cy="458640"/>
          </a:xfrm>
          <a:prstGeom prst="wedgeRoundRectCallout">
            <a:avLst>
              <a:gd name="adj1" fmla="val -129541"/>
              <a:gd name="adj2" fmla="val -317129"/>
              <a:gd name="adj3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触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086600" y="2424240"/>
            <a:ext cx="787320" cy="525240"/>
          </a:xfrm>
          <a:prstGeom prst="wedgeRoundRectCallout">
            <a:avLst>
              <a:gd name="adj1" fmla="val -161291"/>
              <a:gd name="adj2" fmla="val 92597"/>
              <a:gd name="adj3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19920" y="1738440"/>
            <a:ext cx="787320" cy="525240"/>
          </a:xfrm>
          <a:prstGeom prst="wedgeRoundRectCallout">
            <a:avLst>
              <a:gd name="adj1" fmla="val -69152"/>
              <a:gd name="adj2" fmla="val 215861"/>
              <a:gd name="adj3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rId9"/>
          </p:cNvPr>
          <p:cNvSpPr/>
          <p:nvPr/>
        </p:nvSpPr>
        <p:spPr>
          <a:xfrm>
            <a:off x="6248520" y="5715000"/>
            <a:ext cx="595080" cy="3254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7d7d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动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66880" y="1509840"/>
            <a:ext cx="789120" cy="525240"/>
          </a:xfrm>
          <a:prstGeom prst="wedgeRoundRectCallout">
            <a:avLst>
              <a:gd name="adj1" fmla="val 7949"/>
              <a:gd name="adj2" fmla="val 241541"/>
              <a:gd name="adj3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弹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05:44:52Z</dcterms:created>
  <dc:creator>kd</dc:creator>
  <dc:description/>
  <dc:language>en-US</dc:language>
  <cp:lastModifiedBy>xtw</cp:lastModifiedBy>
  <dcterms:modified xsi:type="dcterms:W3CDTF">2003-08-04T11:49:25Z</dcterms:modified>
  <cp:revision>27</cp:revision>
  <dc:subject/>
  <dc:title>第11章 继电接触控制系统</dc:title>
</cp:coreProperties>
</file>