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TYPE.WAV" ContentType="audio/x-wav"/>
  <Override PartName="/ppt/media/%E6%84%9F%E5%8F%B9%E6%97%B6%E5%A5%8F%E5%B9%BB%E6%83%B3%E7%A9%BA%E9%97%B4.wav" ContentType="audio/x-wav"/>
  <Override PartName="/ppt/media/image2.wmf" ContentType="image/x-wmf"/>
  <Override PartName="/ppt/media/image8.png" ContentType="image/png"/>
  <Override PartName="/ppt/media/image15.png" ContentType="image/png"/>
  <Override PartName="/ppt/media/%E6%89%93%E5%BC%80%E6%97%B6%E5%A5%8F%E4%B9%90.wav" ContentType="audio/x-wav"/>
  <Override PartName="/ppt/media/image3.png" ContentType="image/png"/>
  <Override PartName="/ppt/media/image14.png" ContentType="image/png"/>
  <Override PartName="/ppt/media/image9.png" ContentType="image/png"/>
  <Override PartName="/ppt/media/image12.png" ContentType="image/png"/>
  <Override PartName="/ppt/media/image11.png" ContentType="image/png"/>
  <Override PartName="/ppt/media/image10.png" ContentType="image/png"/>
  <Override PartName="/ppt/media/CAMERA.WAV" ContentType="audio/x-wav"/>
  <Override PartName="/ppt/media/image13.wmf" ContentType="image/x-wmf"/>
  <Override PartName="/ppt/media/image5.png" ContentType="image/png"/>
  <Override PartName="/ppt/media/whoosh.wav" ContentType="audio/x-wav"/>
  <Override PartName="/ppt/media/%E6%84%9F%E5%8F%B9%E6%97%B6%E5%A5%8F%E4%B9%90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&#30005;&#23376;&#25216;&#26415;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" action="ppaction://hlinkshowjump?jump=nextslide"/>
          </p:cNvPr>
          <p:cNvSpPr/>
          <p:nvPr/>
        </p:nvSpPr>
        <p:spPr>
          <a:xfrm>
            <a:off x="844884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3244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总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68547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738360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9185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3"/>
          </p:cNvPr>
          <p:cNvSpPr/>
          <p:nvPr/>
        </p:nvSpPr>
        <p:spPr>
          <a:xfrm>
            <a:off x="6324480" y="6477120"/>
            <a:ext cx="457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19.xml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24863;&#21497;&#26102;&#22863;&#20048;.wav"/><Relationship Id="rId3" Type="http://schemas.openxmlformats.org/officeDocument/2006/relationships/audio" Target="../media/&#24863;&#21497;&#26102;&#22863;&#20048;.wav"/><Relationship Id="rId4" Type="http://schemas.openxmlformats.org/officeDocument/2006/relationships/audio" Target="../media/&#24863;&#21497;&#26102;&#22863;&#24187;&#24819;&#31354;&#38388;.wav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audio" Target="../media/TYPE.WAV"/><Relationship Id="rId6" Type="http://schemas.openxmlformats.org/officeDocument/2006/relationships/audio" Target="../media/&#24863;&#21497;&#26102;&#22863;&#24187;&#24819;&#31354;&#38388;.wav"/><Relationship Id="rId7" Type="http://schemas.openxmlformats.org/officeDocument/2006/relationships/audio" Target="../media/&#24863;&#21497;&#26102;&#22863;&#24187;&#24819;&#31354;&#38388;.wav"/><Relationship Id="rId8" Type="http://schemas.openxmlformats.org/officeDocument/2006/relationships/audio" Target="../media/&#24863;&#21497;&#26102;&#22863;&#24187;&#24819;&#31354;&#38388;.wav"/><Relationship Id="rId9" Type="http://schemas.openxmlformats.org/officeDocument/2006/relationships/audio" Target="../media/&#24863;&#21497;&#26102;&#22863;&#20048;.wav"/><Relationship Id="rId10" Type="http://schemas.openxmlformats.org/officeDocument/2006/relationships/audio" Target="../media/&#24863;&#21497;&#26102;&#22863;&#20048;.wav"/><Relationship Id="rId11" Type="http://schemas.openxmlformats.org/officeDocument/2006/relationships/audio" Target="../media/&#24863;&#21497;&#26102;&#22863;&#24187;&#24819;&#31354;&#38388;.wav"/><Relationship Id="rId12" Type="http://schemas.openxmlformats.org/officeDocument/2006/relationships/audio" Target="../media/&#24863;&#21497;&#26102;&#22863;&#24187;&#24819;&#31354;&#38388;.wav"/><Relationship Id="rId13" Type="http://schemas.openxmlformats.org/officeDocument/2006/relationships/audio" Target="../media/&#24863;&#21497;&#26102;&#22863;&#24187;&#24819;&#31354;&#38388;.wav"/><Relationship Id="rId14" Type="http://schemas.openxmlformats.org/officeDocument/2006/relationships/audio" Target="../media/&#24863;&#21497;&#26102;&#22863;&#24187;&#24819;&#31354;&#38388;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24863;&#21497;&#26102;&#22863;&#24187;&#24819;&#31354;&#38388;.wav"/><Relationship Id="rId3" Type="http://schemas.openxmlformats.org/officeDocument/2006/relationships/audio" Target="../media/&#24863;&#21497;&#26102;&#22863;&#24187;&#24819;&#31354;&#38388;.wav"/><Relationship Id="rId4" Type="http://schemas.openxmlformats.org/officeDocument/2006/relationships/audio" Target="../media/&#24863;&#21497;&#26102;&#22863;&#24187;&#24819;&#31354;&#38388;.wav"/><Relationship Id="rId5" Type="http://schemas.openxmlformats.org/officeDocument/2006/relationships/audio" Target="../media/&#24863;&#21497;&#26102;&#22863;&#20048;.wav"/><Relationship Id="rId6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&#25171;&#24320;&#26102;&#22863;&#20048;.wav"/><Relationship Id="rId4" Type="http://schemas.openxmlformats.org/officeDocument/2006/relationships/audio" Target="../media/&#24863;&#21497;&#26102;&#22863;&#24187;&#24819;&#31354;&#38388;.wav"/><Relationship Id="rId5" Type="http://schemas.openxmlformats.org/officeDocument/2006/relationships/audio" Target="../media/&#24863;&#21497;&#26102;&#22863;&#24187;&#24819;&#31354;&#38388;.wav"/><Relationship Id="rId6" Type="http://schemas.openxmlformats.org/officeDocument/2006/relationships/audio" Target="../media/&#24863;&#21497;&#26102;&#22863;&#24187;&#24819;&#31354;&#38388;.wav"/><Relationship Id="rId7" Type="http://schemas.openxmlformats.org/officeDocument/2006/relationships/audio" Target="../media/&#24863;&#21497;&#26102;&#22863;&#24187;&#24819;&#31354;&#38388;.wav"/><Relationship Id="rId8" Type="http://schemas.openxmlformats.org/officeDocument/2006/relationships/audio" Target="../media/&#24863;&#21497;&#26102;&#22863;&#24187;&#24819;&#31354;&#38388;.wav"/><Relationship Id="rId9" Type="http://schemas.openxmlformats.org/officeDocument/2006/relationships/audio" Target="../media/&#24863;&#21497;&#26102;&#22863;&#24187;&#24819;&#31354;&#38388;.wav"/><Relationship Id="rId10" Type="http://schemas.openxmlformats.org/officeDocument/2006/relationships/audio" Target="../media/TYPE.WAV"/><Relationship Id="rId11" Type="http://schemas.openxmlformats.org/officeDocument/2006/relationships/audio" Target="../media/CAMERA.WAV"/><Relationship Id="rId12" Type="http://schemas.openxmlformats.org/officeDocument/2006/relationships/audio" Target="../media/&#24863;&#21497;&#26102;&#22863;&#24187;&#24819;&#31354;&#38388;.wav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audio" Target="../media/&#25171;&#24320;&#26102;&#22863;&#20048;.wav"/><Relationship Id="rId6" Type="http://schemas.openxmlformats.org/officeDocument/2006/relationships/audio" Target="../media/&#24863;&#21497;&#26102;&#22863;&#24187;&#24819;&#31354;&#38388;.wav"/><Relationship Id="rId7" Type="http://schemas.openxmlformats.org/officeDocument/2006/relationships/audio" Target="../media/&#24863;&#21497;&#26102;&#22863;&#24187;&#24819;&#31354;&#38388;.wav"/><Relationship Id="rId8" Type="http://schemas.openxmlformats.org/officeDocument/2006/relationships/audio" Target="../media/&#24863;&#21497;&#26102;&#22863;&#24187;&#24819;&#31354;&#38388;.wav"/><Relationship Id="rId9" Type="http://schemas.openxmlformats.org/officeDocument/2006/relationships/audio" Target="../media/&#24863;&#21497;&#26102;&#22863;&#24187;&#24819;&#31354;&#38388;.wav"/><Relationship Id="rId10" Type="http://schemas.openxmlformats.org/officeDocument/2006/relationships/audio" Target="../media/&#24863;&#21497;&#26102;&#22863;&#20048;.wav"/><Relationship Id="rId11" Type="http://schemas.openxmlformats.org/officeDocument/2006/relationships/audio" Target="../media/&#24863;&#21497;&#26102;&#22863;&#24187;&#24819;&#31354;&#38388;.wav"/><Relationship Id="rId12" Type="http://schemas.openxmlformats.org/officeDocument/2006/relationships/audio" Target="../media/&#24863;&#21497;&#26102;&#22863;&#24187;&#24819;&#31354;&#38388;.wav"/><Relationship Id="rId13" Type="http://schemas.openxmlformats.org/officeDocument/2006/relationships/audio" Target="../media/&#24863;&#21497;&#26102;&#22863;&#24187;&#24819;&#31354;&#38388;.wav"/><Relationship Id="rId14" Type="http://schemas.openxmlformats.org/officeDocument/2006/relationships/audio" Target="../media/&#24863;&#21497;&#26102;&#22863;&#20048;.wav"/><Relationship Id="rId15" Type="http://schemas.openxmlformats.org/officeDocument/2006/relationships/audio" Target="../media/&#24863;&#21497;&#26102;&#22863;&#24187;&#24819;&#31354;&#38388;.wav"/><Relationship Id="rId16" Type="http://schemas.openxmlformats.org/officeDocument/2006/relationships/audio" Target="../media/&#24863;&#21497;&#26102;&#22863;&#24187;&#24819;&#31354;&#38388;.wav"/><Relationship Id="rId17" Type="http://schemas.openxmlformats.org/officeDocument/2006/relationships/audio" Target="../media/CAMERA.WAV"/><Relationship Id="rId18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&#24863;&#21497;&#26102;&#22863;&#20048;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&#24863;&#21497;&#26102;&#22863;&#24187;&#24819;&#31354;&#38388;.wav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&#24863;&#21497;&#26102;&#22863;&#24187;&#24819;&#31354;&#38388;.wav"/><Relationship Id="rId4" Type="http://schemas.openxmlformats.org/officeDocument/2006/relationships/audio" Target="../media/&#24863;&#21497;&#26102;&#22863;&#24187;&#24819;&#31354;&#38388;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&#24863;&#21497;&#26102;&#22863;&#24187;&#24819;&#31354;&#38388;.wav"/><Relationship Id="rId4" Type="http://schemas.openxmlformats.org/officeDocument/2006/relationships/audio" Target="../media/&#24863;&#21497;&#26102;&#22863;&#24187;&#24819;&#31354;&#38388;.wav"/><Relationship Id="rId5" Type="http://schemas.openxmlformats.org/officeDocument/2006/relationships/audio" Target="../media/&#24863;&#21497;&#26102;&#22863;&#24187;&#24819;&#31354;&#38388;.wav"/><Relationship Id="rId6" Type="http://schemas.openxmlformats.org/officeDocument/2006/relationships/audio" Target="../media/&#24863;&#21497;&#26102;&#22863;&#20048;.wav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audio" Target="../media/&#24863;&#21497;&#26102;&#22863;&#20048;.wav"/><Relationship Id="rId37" Type="http://schemas.openxmlformats.org/officeDocument/2006/relationships/audio" Target="../media/&#24863;&#21497;&#26102;&#22863;&#24187;&#24819;&#31354;&#38388;.wav"/><Relationship Id="rId3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8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正弦波振荡电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2057400" y="175248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激振荡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2057400" y="2514600"/>
            <a:ext cx="4952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振荡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2057400" y="320040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.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L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振荡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99200" y="5654520"/>
            <a:ext cx="357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400800" y="4419720"/>
          <a:ext cx="2286000" cy="151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4419720"/>
                    <a:ext cx="228600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838080" y="5257800"/>
            <a:ext cx="4876920" cy="161640"/>
            <a:chOff x="838080" y="5257800"/>
            <a:chExt cx="4876920" cy="161640"/>
          </a:xfrm>
        </p:grpSpPr>
        <p:pic>
          <p:nvPicPr>
            <p:cNvPr id="52" name="" descr=""/>
            <p:cNvPicPr/>
            <p:nvPr/>
          </p:nvPicPr>
          <p:blipFill>
            <a:blip r:embed="rId7"/>
            <a:stretch/>
          </p:blipFill>
          <p:spPr>
            <a:xfrm>
              <a:off x="838080" y="52578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8"/>
            <a:stretch/>
          </p:blipFill>
          <p:spPr>
            <a:xfrm>
              <a:off x="981000" y="52578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9"/>
            <a:stretch/>
          </p:blipFill>
          <p:spPr>
            <a:xfrm>
              <a:off x="114300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0"/>
            <a:stretch/>
          </p:blipFill>
          <p:spPr>
            <a:xfrm>
              <a:off x="1438200" y="52578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1"/>
            <a:stretch/>
          </p:blipFill>
          <p:spPr>
            <a:xfrm>
              <a:off x="160020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2"/>
            <a:stretch/>
          </p:blipFill>
          <p:spPr>
            <a:xfrm>
              <a:off x="1752480" y="52578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13"/>
            <a:stretch/>
          </p:blipFill>
          <p:spPr>
            <a:xfrm>
              <a:off x="1895400" y="52578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4"/>
            <a:stretch/>
          </p:blipFill>
          <p:spPr>
            <a:xfrm>
              <a:off x="205740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5"/>
            <a:stretch/>
          </p:blipFill>
          <p:spPr>
            <a:xfrm>
              <a:off x="2352600" y="52578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6"/>
            <a:stretch/>
          </p:blipFill>
          <p:spPr>
            <a:xfrm>
              <a:off x="251460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7"/>
            <a:stretch/>
          </p:blipFill>
          <p:spPr>
            <a:xfrm>
              <a:off x="2666880" y="52578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8"/>
            <a:stretch/>
          </p:blipFill>
          <p:spPr>
            <a:xfrm>
              <a:off x="2809800" y="52578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9"/>
            <a:stretch/>
          </p:blipFill>
          <p:spPr>
            <a:xfrm>
              <a:off x="1295280" y="52578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0"/>
            <a:stretch/>
          </p:blipFill>
          <p:spPr>
            <a:xfrm>
              <a:off x="2209680" y="52578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1"/>
            <a:stretch/>
          </p:blipFill>
          <p:spPr>
            <a:xfrm>
              <a:off x="297180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2"/>
            <a:stretch/>
          </p:blipFill>
          <p:spPr>
            <a:xfrm>
              <a:off x="3124080" y="52578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3"/>
            <a:stretch/>
          </p:blipFill>
          <p:spPr>
            <a:xfrm>
              <a:off x="3267000" y="52578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4"/>
            <a:stretch/>
          </p:blipFill>
          <p:spPr>
            <a:xfrm>
              <a:off x="342900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5"/>
            <a:stretch/>
          </p:blipFill>
          <p:spPr>
            <a:xfrm>
              <a:off x="3581280" y="52578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6"/>
            <a:stretch/>
          </p:blipFill>
          <p:spPr>
            <a:xfrm>
              <a:off x="3724200" y="52578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7"/>
            <a:stretch/>
          </p:blipFill>
          <p:spPr>
            <a:xfrm>
              <a:off x="388620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8"/>
            <a:stretch/>
          </p:blipFill>
          <p:spPr>
            <a:xfrm>
              <a:off x="4181400" y="52578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9"/>
            <a:stretch/>
          </p:blipFill>
          <p:spPr>
            <a:xfrm>
              <a:off x="434340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0"/>
            <a:stretch/>
          </p:blipFill>
          <p:spPr>
            <a:xfrm>
              <a:off x="4495680" y="52578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1"/>
            <a:stretch/>
          </p:blipFill>
          <p:spPr>
            <a:xfrm>
              <a:off x="4638600" y="52578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2"/>
            <a:stretch/>
          </p:blipFill>
          <p:spPr>
            <a:xfrm>
              <a:off x="480060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3"/>
            <a:stretch/>
          </p:blipFill>
          <p:spPr>
            <a:xfrm>
              <a:off x="5095800" y="52578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34"/>
            <a:stretch/>
          </p:blipFill>
          <p:spPr>
            <a:xfrm>
              <a:off x="525780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5"/>
            <a:stretch/>
          </p:blipFill>
          <p:spPr>
            <a:xfrm>
              <a:off x="5410080" y="52578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6"/>
            <a:stretch/>
          </p:blipFill>
          <p:spPr>
            <a:xfrm>
              <a:off x="5553000" y="52578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7"/>
            <a:stretch/>
          </p:blipFill>
          <p:spPr>
            <a:xfrm>
              <a:off x="4038480" y="52578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8"/>
            <a:stretch/>
          </p:blipFill>
          <p:spPr>
            <a:xfrm>
              <a:off x="4952880" y="5257800"/>
              <a:ext cx="162000" cy="161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457200" y="3200400"/>
            <a:ext cx="8458200" cy="3249720"/>
            <a:chOff x="457200" y="3200400"/>
            <a:chExt cx="8458200" cy="3249720"/>
          </a:xfrm>
        </p:grpSpPr>
        <p:grpSp>
          <p:nvGrpSpPr>
            <p:cNvPr id="375" name=""/>
            <p:cNvGrpSpPr/>
            <p:nvPr/>
          </p:nvGrpSpPr>
          <p:grpSpPr>
            <a:xfrm>
              <a:off x="457200" y="3200400"/>
              <a:ext cx="8458200" cy="3249720"/>
              <a:chOff x="457200" y="3200400"/>
              <a:chExt cx="8458200" cy="3249720"/>
            </a:xfrm>
          </p:grpSpPr>
          <p:graphicFrame>
            <p:nvGraphicFramePr>
              <p:cNvPr id="376" name=""/>
              <p:cNvGraphicFramePr/>
              <p:nvPr/>
            </p:nvGraphicFramePr>
            <p:xfrm>
              <a:off x="457200" y="3200400"/>
              <a:ext cx="8458200" cy="32497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77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457200" y="3200400"/>
                        <a:ext cx="8458200" cy="3249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78" name=""/>
              <p:cNvSpPr/>
              <p:nvPr/>
            </p:nvSpPr>
            <p:spPr>
              <a:xfrm>
                <a:off x="6553080" y="3505320"/>
                <a:ext cx="762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r>
                  <a:rPr b="0" lang="en-US" sz="3200" spc="-1" strike="noStrike" baseline="-25000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57880" y="3934080"/>
                <a:ext cx="496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u</a:t>
                </a:r>
                <a:r>
                  <a:rPr b="0" lang="en-US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3809880" y="32004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与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波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6477120" y="17524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686480" y="338040"/>
            <a:ext cx="4065480" cy="2948760"/>
            <a:chOff x="4686480" y="338040"/>
            <a:chExt cx="4065480" cy="2948760"/>
          </a:xfrm>
        </p:grpSpPr>
        <p:graphicFrame>
          <p:nvGraphicFramePr>
            <p:cNvPr id="383" name=""/>
            <p:cNvGraphicFramePr/>
            <p:nvPr/>
          </p:nvGraphicFramePr>
          <p:xfrm>
            <a:off x="4686480" y="338040"/>
            <a:ext cx="4038480" cy="2895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686480" y="338040"/>
                      <a:ext cx="4038480" cy="289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5" name=""/>
            <p:cNvSpPr/>
            <p:nvPr/>
          </p:nvSpPr>
          <p:spPr>
            <a:xfrm>
              <a:off x="7277040" y="3380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相频特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6" name=""/>
                <p:cNvSpPr txBox="1"/>
                <p:nvPr/>
              </p:nvSpPr>
              <p:spPr>
                <a:xfrm>
                  <a:off x="8126280" y="2776680"/>
                  <a:ext cx="62568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</m:e>
                        <m:sup>
                          <m:r>
                            <m:t xml:space="preserve">ο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4762440" y="490680"/>
                  <a:ext cx="64944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</m:e>
                        <m:sup>
                          <m:r>
                            <m:t xml:space="preserve">ο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88" name=""/>
            <p:cNvSpPr/>
            <p:nvPr/>
          </p:nvSpPr>
          <p:spPr>
            <a:xfrm>
              <a:off x="7429680" y="7192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</a:t>
              </a:r>
              <a:r>
                <a:rPr b="1" i="1" lang="zh-CN" sz="2400" spc="-1" strike="noStrike">
                  <a:solidFill>
                    <a:srgbClr val="0000ff"/>
                  </a:solidFill>
                  <a:latin typeface="Times New Roman"/>
                </a:rPr>
                <a:t>（</a:t>
              </a:r>
              <a:r>
                <a:rPr b="1" i="1" lang="zh-CN" sz="24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r>
                <a:rPr b="1" i="1" lang="zh-CN" sz="2400" spc="-1" strike="noStrike">
                  <a:solidFill>
                    <a:srgbClr val="0000ff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94240" y="277668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6491160" y="1522440"/>
                  <a:ext cx="3304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0</m:t>
                          </m:r>
                        </m:e>
                        <m:sup>
                          <m:r>
                            <m:t xml:space="preserve">ο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91" name=""/>
            <p:cNvSpPr/>
            <p:nvPr/>
          </p:nvSpPr>
          <p:spPr>
            <a:xfrm flipV="1">
              <a:off x="6438960" y="1785960"/>
              <a:ext cx="0" cy="129528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57200" y="304920"/>
            <a:ext cx="4190760" cy="2981880"/>
            <a:chOff x="457200" y="304920"/>
            <a:chExt cx="4190760" cy="2981880"/>
          </a:xfrm>
        </p:grpSpPr>
        <p:grpSp>
          <p:nvGrpSpPr>
            <p:cNvPr id="393" name=""/>
            <p:cNvGrpSpPr/>
            <p:nvPr/>
          </p:nvGrpSpPr>
          <p:grpSpPr>
            <a:xfrm>
              <a:off x="457200" y="304920"/>
              <a:ext cx="4190760" cy="2981880"/>
              <a:chOff x="457200" y="304920"/>
              <a:chExt cx="4190760" cy="2981880"/>
            </a:xfrm>
          </p:grpSpPr>
          <p:graphicFrame>
            <p:nvGraphicFramePr>
              <p:cNvPr id="394" name=""/>
              <p:cNvGraphicFramePr/>
              <p:nvPr/>
            </p:nvGraphicFramePr>
            <p:xfrm>
              <a:off x="457200" y="338400"/>
              <a:ext cx="4114800" cy="289548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395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457200" y="338400"/>
                        <a:ext cx="4114800" cy="289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96" name=""/>
              <p:cNvSpPr/>
              <p:nvPr/>
            </p:nvSpPr>
            <p:spPr>
              <a:xfrm>
                <a:off x="3200400" y="33840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幅频特性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7" name=""/>
                  <p:cNvSpPr txBox="1"/>
                  <p:nvPr/>
                </p:nvSpPr>
                <p:spPr>
                  <a:xfrm>
                    <a:off x="696960" y="304920"/>
                    <a:ext cx="404640" cy="750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8" name=""/>
              <p:cNvSpPr/>
              <p:nvPr/>
            </p:nvSpPr>
            <p:spPr>
              <a:xfrm>
                <a:off x="4114800" y="27766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133360" y="2776680"/>
                <a:ext cx="457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zh-CN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286000" y="1328760"/>
                <a:ext cx="0" cy="1752840"/>
              </a:xfrm>
              <a:prstGeom prst="line">
                <a:avLst/>
              </a:prstGeom>
              <a:ln cap="rnd" w="936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532800" y="1328760"/>
                <a:ext cx="1752840" cy="0"/>
              </a:xfrm>
              <a:prstGeom prst="line">
                <a:avLst/>
              </a:prstGeom>
              <a:ln cap="rnd" w="936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33160" y="110016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685800" y="990720"/>
              <a:ext cx="309960" cy="687600"/>
              <a:chOff x="685800" y="990720"/>
              <a:chExt cx="309960" cy="687600"/>
            </a:xfrm>
          </p:grpSpPr>
          <p:sp>
            <p:nvSpPr>
              <p:cNvPr id="404" name=""/>
              <p:cNvSpPr/>
              <p:nvPr/>
            </p:nvSpPr>
            <p:spPr>
              <a:xfrm>
                <a:off x="686880" y="9907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86880" y="1279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85800" y="133020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2362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3520" y="1062000"/>
            <a:ext cx="78483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输出电压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正反馈（兼选频）网络分压后，取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"/>
              </a:rPr>
              <a:t>作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相比例电路的输入信号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3520" y="20574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起振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33520" y="2949480"/>
          <a:ext cx="8229600" cy="276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949480"/>
                    <a:ext cx="822960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685800" y="693720"/>
          <a:ext cx="8077320" cy="281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693720"/>
                    <a:ext cx="8077320" cy="28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稳定振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38080" y="4191120"/>
            <a:ext cx="777240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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r>
              <a:rPr b="1" i="1" lang="zh-CN" sz="28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，仅在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处 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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F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满足相位平衡条件，所以振荡频率 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 1 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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2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RC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19320" y="5257800"/>
            <a:ext cx="5029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改变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改变振荡频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38080" y="5805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振荡电路的振荡频率一般在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00KHz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以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3278160"/>
            <a:ext cx="792504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3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振荡频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振荡频率由相位平衡条件决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09480" y="533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振荡频率的调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914040" y="1171080"/>
            <a:ext cx="5272560" cy="4254840"/>
            <a:chOff x="914040" y="1171080"/>
            <a:chExt cx="5272560" cy="4254840"/>
          </a:xfrm>
        </p:grpSpPr>
        <p:sp>
          <p:nvSpPr>
            <p:cNvPr id="421" name=""/>
            <p:cNvSpPr/>
            <p:nvPr/>
          </p:nvSpPr>
          <p:spPr>
            <a:xfrm rot="16200000">
              <a:off x="2924640" y="1727280"/>
              <a:ext cx="358920" cy="154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187720" y="5425920"/>
              <a:ext cx="30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2335320" y="5219640"/>
              <a:ext cx="1440" cy="206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11760" y="2178000"/>
              <a:ext cx="8492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46560" y="1171440"/>
              <a:ext cx="0" cy="195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911760" y="3116160"/>
              <a:ext cx="29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465800" y="292104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05160" y="2487600"/>
              <a:ext cx="44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创艺简宋体"/>
                </a:rPr>
                <a:t>∞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054320" y="1322280"/>
              <a:ext cx="803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70040" y="3306600"/>
              <a:ext cx="1341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761000" y="3116160"/>
              <a:ext cx="69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94000" y="1746000"/>
              <a:ext cx="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48080" y="2935080"/>
              <a:ext cx="463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570040" y="1171440"/>
              <a:ext cx="25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5400000">
              <a:off x="4057560" y="2612880"/>
              <a:ext cx="144720" cy="1540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2422440" y="2900160"/>
              <a:ext cx="307800" cy="142920"/>
              <a:chOff x="2422440" y="2900160"/>
              <a:chExt cx="307800" cy="142920"/>
            </a:xfrm>
          </p:grpSpPr>
          <p:sp>
            <p:nvSpPr>
              <p:cNvPr id="437" name=""/>
              <p:cNvSpPr/>
              <p:nvPr/>
            </p:nvSpPr>
            <p:spPr>
              <a:xfrm>
                <a:off x="2422440" y="2900160"/>
                <a:ext cx="30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422440" y="3043080"/>
                <a:ext cx="30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3105000" y="198432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3105000" y="1382040"/>
              <a:ext cx="0" cy="241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70040" y="3043080"/>
              <a:ext cx="0" cy="54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276200" y="3573360"/>
              <a:ext cx="160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0800000">
              <a:off x="4152600" y="1788840"/>
              <a:ext cx="399960" cy="136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448080" y="1854000"/>
              <a:ext cx="73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444840" y="1847880"/>
              <a:ext cx="0" cy="2401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29080" y="4182840"/>
              <a:ext cx="56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6200000">
              <a:off x="3269520" y="4326480"/>
              <a:ext cx="358560" cy="154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94000" y="5014800"/>
              <a:ext cx="30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48080" y="4582800"/>
              <a:ext cx="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19360" y="2749320"/>
              <a:ext cx="63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6200000">
              <a:off x="2181960" y="3893040"/>
              <a:ext cx="358920" cy="153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2360520" y="3573360"/>
              <a:ext cx="0" cy="21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2730600" y="4443120"/>
              <a:ext cx="307440" cy="146160"/>
              <a:chOff x="2730600" y="4443120"/>
              <a:chExt cx="307440" cy="146160"/>
            </a:xfrm>
          </p:grpSpPr>
          <p:sp>
            <p:nvSpPr>
              <p:cNvPr id="454" name=""/>
              <p:cNvSpPr/>
              <p:nvPr/>
            </p:nvSpPr>
            <p:spPr>
              <a:xfrm>
                <a:off x="2730600" y="4443120"/>
                <a:ext cx="30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730600" y="4589280"/>
                <a:ext cx="30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 flipV="1">
              <a:off x="2876400" y="3573360"/>
              <a:ext cx="0" cy="89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76400" y="4589280"/>
              <a:ext cx="0" cy="66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01800" y="5219640"/>
              <a:ext cx="107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975040" y="42717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19680" y="2646360"/>
              <a:ext cx="38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19680" y="2517480"/>
              <a:ext cx="849240" cy="1008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24480" y="3073320"/>
              <a:ext cx="8568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24480" y="3887640"/>
              <a:ext cx="85680" cy="77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334120" y="4240080"/>
              <a:ext cx="30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59400" y="3965400"/>
              <a:ext cx="0" cy="27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5424480" y="2867040"/>
              <a:ext cx="762120" cy="1276200"/>
              <a:chOff x="5424480" y="2867040"/>
              <a:chExt cx="762120" cy="1276200"/>
            </a:xfrm>
          </p:grpSpPr>
          <p:sp>
            <p:nvSpPr>
              <p:cNvPr id="467" name=""/>
              <p:cNvSpPr/>
              <p:nvPr/>
            </p:nvSpPr>
            <p:spPr>
              <a:xfrm>
                <a:off x="5503320" y="3184200"/>
                <a:ext cx="493200" cy="54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r>
                  <a:rPr b="1" lang="zh-CN" sz="2000" spc="-1" strike="noStrike" baseline="-25000">
                    <a:solidFill>
                      <a:srgbClr val="ff33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500800" y="36226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24480" y="286704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 rot="16200000">
              <a:off x="2388240" y="1727280"/>
              <a:ext cx="358920" cy="154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2568600" y="1171080"/>
              <a:ext cx="3240" cy="45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6200000">
              <a:off x="1859400" y="1727280"/>
              <a:ext cx="358920" cy="154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2039760" y="1382040"/>
              <a:ext cx="0" cy="241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52920" y="18572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33640" y="1377720"/>
              <a:ext cx="109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571840" y="199548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43000" y="199548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27200" y="1344600"/>
              <a:ext cx="85680" cy="77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996920" y="2192040"/>
              <a:ext cx="86040" cy="78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30440" y="2200320"/>
              <a:ext cx="85680" cy="77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063960" y="2200320"/>
              <a:ext cx="85680" cy="77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2571840" y="2270160"/>
              <a:ext cx="0" cy="411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571840" y="2749320"/>
              <a:ext cx="0" cy="13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30440" y="2673360"/>
              <a:ext cx="8568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6200000">
              <a:off x="1629720" y="3918600"/>
              <a:ext cx="358560" cy="154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1809720" y="3573360"/>
              <a:ext cx="0" cy="24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12960" y="418464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66880" y="4383000"/>
              <a:ext cx="8568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16200000">
              <a:off x="1097640" y="3918600"/>
              <a:ext cx="358560" cy="153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1278000" y="3573360"/>
              <a:ext cx="0" cy="24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81240" y="418464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35160" y="4383000"/>
              <a:ext cx="8568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360520" y="412272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14440" y="4319280"/>
              <a:ext cx="86040" cy="78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1809720" y="4465440"/>
              <a:ext cx="0" cy="411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768320" y="4868640"/>
              <a:ext cx="8604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09720" y="4944960"/>
              <a:ext cx="0" cy="27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2724120" y="4327200"/>
              <a:ext cx="324000" cy="377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2438280" y="2817360"/>
              <a:ext cx="324000" cy="344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914040" y="3162240"/>
              <a:ext cx="1460520" cy="1896840"/>
              <a:chOff x="914040" y="3162240"/>
              <a:chExt cx="1460520" cy="1896840"/>
            </a:xfrm>
          </p:grpSpPr>
          <p:sp>
            <p:nvSpPr>
              <p:cNvPr id="501" name=""/>
              <p:cNvSpPr/>
              <p:nvPr/>
            </p:nvSpPr>
            <p:spPr>
              <a:xfrm flipH="1">
                <a:off x="914040" y="3162240"/>
                <a:ext cx="14605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914400" y="3162240"/>
                <a:ext cx="0" cy="1896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914400" y="5059080"/>
                <a:ext cx="13813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2263680" y="5059080"/>
              <a:ext cx="46044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724120" y="4671720"/>
              <a:ext cx="0" cy="41148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10000" y="2270160"/>
              <a:ext cx="118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47880" y="4478040"/>
              <a:ext cx="118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405160" y="3762360"/>
              <a:ext cx="566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71640" y="3762360"/>
              <a:ext cx="566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3762360"/>
              <a:ext cx="567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47640" y="1552320"/>
              <a:ext cx="567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81160" y="1552320"/>
              <a:ext cx="566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614680" y="1552320"/>
              <a:ext cx="566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3581280" y="4448160"/>
            <a:ext cx="518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改变开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位置可改变选频网络的电阻，实现频率粗调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改变电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大小可实现频率的细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6262560" y="1766880"/>
                <a:ext cx="19227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5867280" y="1143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振荡频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457200" y="3049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起振及稳定振荡的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990720" y="22860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稳定振荡条件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|= 1/ 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762120"/>
            <a:ext cx="65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振条件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 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因为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|=1/ 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1371600" y="1233360"/>
                <a:ext cx="251460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228600" y="3657600"/>
            <a:ext cx="868680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考虑到起振条件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 1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应选取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F</a:t>
            </a:r>
            <a:r>
              <a:rPr b="1" i="1" lang="zh-CN" sz="2800" spc="-1" strike="noStrike" baseline="-25000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略大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如果这个比值取得过大，会引起振荡波形严重失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1371600" y="2759040"/>
                <a:ext cx="259092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3" name=""/>
          <p:cNvSpPr/>
          <p:nvPr/>
        </p:nvSpPr>
        <p:spPr>
          <a:xfrm>
            <a:off x="457200" y="4648320"/>
            <a:ext cx="83818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运放构成的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串并联正弦波振荡电路不是靠运放内部的晶体管进入非线性区稳幅，而是通过在外部引入负反馈来达到稳幅的目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4%9F%E5%8F%B9%E6%97%B6%E5%A5%8F%E4%B9%90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4%9F%E5%8F%B9%E6%97%B6%E5%A5%8F%E4%B9%90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带稳幅环节的电路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33520" y="380880"/>
            <a:ext cx="5486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04640" y="631800"/>
            <a:ext cx="439596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热敏电阻具有负温度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数，利用它的非线性可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自动稳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0880" y="2057400"/>
            <a:ext cx="876312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起振时，由于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，流过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流也很小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是发热少，阻值高，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2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即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着振荡幅度的不断加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增大，流过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流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增大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受热而降低其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，使得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降，直到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稳定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振荡稳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00800" y="533520"/>
            <a:ext cx="2133720" cy="838080"/>
          </a:xfrm>
          <a:prstGeom prst="wedgeEllipseCallout">
            <a:avLst>
              <a:gd name="adj1" fmla="val -54537"/>
              <a:gd name="adj2" fmla="val 13200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半导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热敏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919760" y="1712880"/>
            <a:ext cx="3995280" cy="3163680"/>
            <a:chOff x="4919760" y="1712880"/>
            <a:chExt cx="3995280" cy="3163680"/>
          </a:xfrm>
        </p:grpSpPr>
        <p:sp>
          <p:nvSpPr>
            <p:cNvPr id="530" name=""/>
            <p:cNvSpPr/>
            <p:nvPr/>
          </p:nvSpPr>
          <p:spPr>
            <a:xfrm>
              <a:off x="5381640" y="2001600"/>
              <a:ext cx="63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6200000">
              <a:off x="5123520" y="2143080"/>
              <a:ext cx="438120" cy="169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75360" y="4876560"/>
              <a:ext cx="33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5337000" y="4390920"/>
              <a:ext cx="6480" cy="48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11920" y="2271600"/>
              <a:ext cx="93348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0920" y="1744560"/>
              <a:ext cx="0" cy="125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11920" y="2976480"/>
              <a:ext cx="3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421400" y="2738160"/>
              <a:ext cx="3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35920" y="2168280"/>
              <a:ext cx="48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创艺简宋体"/>
                </a:rPr>
                <a:t>∞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324480" y="2017440"/>
              <a:ext cx="88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337000" y="3208320"/>
              <a:ext cx="147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745400" y="2976480"/>
              <a:ext cx="76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32600" y="1744560"/>
              <a:ext cx="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302520" y="2755800"/>
              <a:ext cx="509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37000" y="1731960"/>
              <a:ext cx="28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5400000">
              <a:off x="6963480" y="2331000"/>
              <a:ext cx="177840" cy="169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5175360" y="2711160"/>
              <a:ext cx="337680" cy="176040"/>
              <a:chOff x="5175360" y="2711160"/>
              <a:chExt cx="337680" cy="176040"/>
            </a:xfrm>
          </p:grpSpPr>
          <p:sp>
            <p:nvSpPr>
              <p:cNvPr id="547" name=""/>
              <p:cNvSpPr/>
              <p:nvPr/>
            </p:nvSpPr>
            <p:spPr>
              <a:xfrm>
                <a:off x="5175360" y="2711160"/>
                <a:ext cx="33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75360" y="2887200"/>
                <a:ext cx="33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5343480" y="244764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5343480" y="1712880"/>
              <a:ext cx="0" cy="29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37000" y="2887560"/>
              <a:ext cx="0" cy="6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03640" y="3509640"/>
              <a:ext cx="67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16200000">
              <a:off x="6081840" y="2115720"/>
              <a:ext cx="441000" cy="168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6302520" y="1744200"/>
              <a:ext cx="0" cy="2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02520" y="2431800"/>
              <a:ext cx="0" cy="149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401520" y="3862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16200000">
              <a:off x="6083280" y="4044240"/>
              <a:ext cx="439560" cy="169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32600" y="4876560"/>
              <a:ext cx="34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302520" y="4349520"/>
              <a:ext cx="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91000" y="2603520"/>
              <a:ext cx="69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958280" y="3678120"/>
              <a:ext cx="5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6200000">
              <a:off x="4785480" y="3909960"/>
              <a:ext cx="438120" cy="169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003640" y="3509280"/>
              <a:ext cx="0" cy="26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003640" y="4214520"/>
              <a:ext cx="0" cy="1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5513400" y="3862080"/>
              <a:ext cx="337680" cy="177480"/>
              <a:chOff x="5513400" y="3862080"/>
              <a:chExt cx="337680" cy="177480"/>
            </a:xfrm>
          </p:grpSpPr>
          <p:sp>
            <p:nvSpPr>
              <p:cNvPr id="566" name=""/>
              <p:cNvSpPr/>
              <p:nvPr/>
            </p:nvSpPr>
            <p:spPr>
              <a:xfrm>
                <a:off x="5513400" y="3862080"/>
                <a:ext cx="33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513400" y="4039560"/>
                <a:ext cx="33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 flipV="1">
              <a:off x="5683320" y="3509280"/>
              <a:ext cx="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83320" y="4039920"/>
              <a:ext cx="0" cy="351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003640" y="4390920"/>
              <a:ext cx="67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781960" y="36781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821640" y="2403360"/>
              <a:ext cx="42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21640" y="2246040"/>
              <a:ext cx="933120" cy="1231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475840" y="2923920"/>
              <a:ext cx="95040" cy="93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475840" y="4254480"/>
              <a:ext cx="95040" cy="93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375760" y="4684680"/>
              <a:ext cx="33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513640" y="4348080"/>
              <a:ext cx="0" cy="33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8077320" y="2938320"/>
              <a:ext cx="837720" cy="1442880"/>
              <a:chOff x="8077320" y="2938320"/>
              <a:chExt cx="837720" cy="1442880"/>
            </a:xfrm>
          </p:grpSpPr>
          <p:sp>
            <p:nvSpPr>
              <p:cNvPr id="579" name=""/>
              <p:cNvSpPr/>
              <p:nvPr/>
            </p:nvSpPr>
            <p:spPr>
              <a:xfrm>
                <a:off x="8166600" y="3326040"/>
                <a:ext cx="51588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r>
                  <a:rPr b="1" lang="zh-CN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161200" y="3860640"/>
                <a:ext cx="58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077320" y="2938320"/>
                <a:ext cx="837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 flipH="1">
              <a:off x="6095880" y="2017440"/>
              <a:ext cx="4572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5936760" y="2322360"/>
              <a:ext cx="158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带稳幅环节的电路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685800"/>
            <a:ext cx="5486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04640" y="914400"/>
            <a:ext cx="43959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热敏电阻具有负温度系数，利用它的非线性可以自动稳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77120" y="838080"/>
            <a:ext cx="2133360" cy="838440"/>
          </a:xfrm>
          <a:prstGeom prst="wedgeEllipseCallout">
            <a:avLst>
              <a:gd name="adj1" fmla="val -54537"/>
              <a:gd name="adj2" fmla="val 13200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半导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热敏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5148360" y="2209680"/>
            <a:ext cx="3995280" cy="3163680"/>
            <a:chOff x="5148360" y="2209680"/>
            <a:chExt cx="3995280" cy="3163680"/>
          </a:xfrm>
        </p:grpSpPr>
        <p:sp>
          <p:nvSpPr>
            <p:cNvPr id="589" name=""/>
            <p:cNvSpPr/>
            <p:nvPr/>
          </p:nvSpPr>
          <p:spPr>
            <a:xfrm>
              <a:off x="5610240" y="2498400"/>
              <a:ext cx="63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6200000">
              <a:off x="5352120" y="2639880"/>
              <a:ext cx="438120" cy="169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403960" y="5373360"/>
              <a:ext cx="33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5565600" y="4887720"/>
              <a:ext cx="6480" cy="48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40520" y="2768400"/>
              <a:ext cx="93348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399520" y="2241360"/>
              <a:ext cx="0" cy="125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40520" y="3473280"/>
              <a:ext cx="3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650000" y="3234960"/>
              <a:ext cx="3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364520" y="2665080"/>
              <a:ext cx="48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创艺简宋体"/>
                </a:rPr>
                <a:t>∞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553080" y="2514240"/>
              <a:ext cx="88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65600" y="3705120"/>
              <a:ext cx="147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974000" y="3473280"/>
              <a:ext cx="76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361200" y="2241360"/>
              <a:ext cx="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31120" y="3252600"/>
              <a:ext cx="509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65600" y="2228760"/>
              <a:ext cx="28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5400000">
              <a:off x="7192080" y="2827800"/>
              <a:ext cx="177840" cy="169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5403960" y="3207960"/>
              <a:ext cx="337680" cy="176040"/>
              <a:chOff x="5403960" y="3207960"/>
              <a:chExt cx="337680" cy="176040"/>
            </a:xfrm>
          </p:grpSpPr>
          <p:sp>
            <p:nvSpPr>
              <p:cNvPr id="606" name=""/>
              <p:cNvSpPr/>
              <p:nvPr/>
            </p:nvSpPr>
            <p:spPr>
              <a:xfrm>
                <a:off x="5403960" y="3207960"/>
                <a:ext cx="33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03960" y="3384000"/>
                <a:ext cx="33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5572080" y="294444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5572080" y="2209680"/>
              <a:ext cx="0" cy="29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65600" y="3384360"/>
              <a:ext cx="0" cy="6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232240" y="4006440"/>
              <a:ext cx="67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16200000">
              <a:off x="6310440" y="2612520"/>
              <a:ext cx="441000" cy="168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6531120" y="2241000"/>
              <a:ext cx="0" cy="2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531120" y="2928600"/>
              <a:ext cx="0" cy="149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630120" y="43588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16200000">
              <a:off x="6311880" y="4541040"/>
              <a:ext cx="439560" cy="169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361200" y="5373360"/>
              <a:ext cx="34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531120" y="4846320"/>
              <a:ext cx="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619600" y="3100320"/>
              <a:ext cx="69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186880" y="4174920"/>
              <a:ext cx="5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5014080" y="4406760"/>
              <a:ext cx="438120" cy="169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5232240" y="4006080"/>
              <a:ext cx="0" cy="26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232240" y="4711320"/>
              <a:ext cx="0" cy="1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5742000" y="4358880"/>
              <a:ext cx="337680" cy="177480"/>
              <a:chOff x="5742000" y="4358880"/>
              <a:chExt cx="337680" cy="177480"/>
            </a:xfrm>
          </p:grpSpPr>
          <p:sp>
            <p:nvSpPr>
              <p:cNvPr id="625" name=""/>
              <p:cNvSpPr/>
              <p:nvPr/>
            </p:nvSpPr>
            <p:spPr>
              <a:xfrm>
                <a:off x="5742000" y="4358880"/>
                <a:ext cx="33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742000" y="4536360"/>
                <a:ext cx="33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 flipV="1">
              <a:off x="5911920" y="4006080"/>
              <a:ext cx="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11920" y="4536720"/>
              <a:ext cx="0" cy="351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32240" y="4887720"/>
              <a:ext cx="67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10560" y="41749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50240" y="2900160"/>
              <a:ext cx="42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050240" y="2742840"/>
              <a:ext cx="933120" cy="1231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704440" y="3420720"/>
              <a:ext cx="95040" cy="93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704440" y="4751280"/>
              <a:ext cx="95040" cy="93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604360" y="5181480"/>
              <a:ext cx="33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742240" y="4844880"/>
              <a:ext cx="0" cy="33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8305920" y="3435120"/>
              <a:ext cx="837720" cy="1442880"/>
              <a:chOff x="8305920" y="3435120"/>
              <a:chExt cx="837720" cy="1442880"/>
            </a:xfrm>
          </p:grpSpPr>
          <p:sp>
            <p:nvSpPr>
              <p:cNvPr id="638" name=""/>
              <p:cNvSpPr/>
              <p:nvPr/>
            </p:nvSpPr>
            <p:spPr>
              <a:xfrm>
                <a:off x="8395200" y="3822840"/>
                <a:ext cx="51588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r>
                  <a:rPr b="1" lang="zh-CN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389800" y="4357440"/>
                <a:ext cx="58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305920" y="3435120"/>
                <a:ext cx="837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 flipH="1">
              <a:off x="6324480" y="2514240"/>
              <a:ext cx="4572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6165360" y="2819160"/>
              <a:ext cx="158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635760" y="2362320"/>
            <a:ext cx="1425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稳幅过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09480" y="3505320"/>
            <a:ext cx="1600200" cy="1295280"/>
          </a:xfrm>
          <a:prstGeom prst="irregularSeal1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思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33520" y="5089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热敏电阻具有正温度系数，应接在何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457200" y="2895480"/>
            <a:ext cx="4419360" cy="736560"/>
            <a:chOff x="457200" y="2895480"/>
            <a:chExt cx="4419360" cy="736560"/>
          </a:xfrm>
        </p:grpSpPr>
        <p:sp>
          <p:nvSpPr>
            <p:cNvPr id="647" name=""/>
            <p:cNvSpPr/>
            <p:nvPr/>
          </p:nvSpPr>
          <p:spPr>
            <a:xfrm>
              <a:off x="457200" y="2895480"/>
              <a:ext cx="685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1028880" y="3047400"/>
              <a:ext cx="0" cy="476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143000" y="3276360"/>
              <a:ext cx="5526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676520" y="2971440"/>
              <a:ext cx="70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86000" y="3295440"/>
              <a:ext cx="5526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2819520" y="3001680"/>
              <a:ext cx="819000" cy="630360"/>
              <a:chOff x="2819520" y="3001680"/>
              <a:chExt cx="819000" cy="630360"/>
            </a:xfrm>
          </p:grpSpPr>
          <p:sp>
            <p:nvSpPr>
              <p:cNvPr id="653" name=""/>
              <p:cNvSpPr/>
              <p:nvPr/>
            </p:nvSpPr>
            <p:spPr>
              <a:xfrm>
                <a:off x="2819520" y="3001680"/>
                <a:ext cx="81900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448080" y="3116160"/>
                <a:ext cx="0" cy="457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" name=""/>
            <p:cNvSpPr/>
            <p:nvPr/>
          </p:nvSpPr>
          <p:spPr>
            <a:xfrm>
              <a:off x="3505320" y="3276360"/>
              <a:ext cx="5522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4114800" y="2971440"/>
              <a:ext cx="761760" cy="648720"/>
              <a:chOff x="4114800" y="2971440"/>
              <a:chExt cx="761760" cy="648720"/>
            </a:xfrm>
          </p:grpSpPr>
          <p:sp>
            <p:nvSpPr>
              <p:cNvPr id="657" name=""/>
              <p:cNvSpPr/>
              <p:nvPr/>
            </p:nvSpPr>
            <p:spPr>
              <a:xfrm>
                <a:off x="4114800" y="2971440"/>
                <a:ext cx="7617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A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u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733640" y="3074760"/>
                <a:ext cx="0" cy="457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 flipV="1">
              <a:off x="2057400" y="3047400"/>
              <a:ext cx="0" cy="476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带稳幅环节的电路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035000" y="2811600"/>
            <a:ext cx="2393640" cy="3367800"/>
            <a:chOff x="1035000" y="2811600"/>
            <a:chExt cx="2393640" cy="3367800"/>
          </a:xfrm>
        </p:grpSpPr>
        <p:sp>
          <p:nvSpPr>
            <p:cNvPr id="662" name=""/>
            <p:cNvSpPr/>
            <p:nvPr/>
          </p:nvSpPr>
          <p:spPr>
            <a:xfrm>
              <a:off x="1217880" y="3274920"/>
              <a:ext cx="0" cy="2011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217880" y="5286960"/>
              <a:ext cx="164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217880" y="3457800"/>
              <a:ext cx="1311120" cy="1856880"/>
            </a:xfrm>
            <a:custGeom>
              <a:avLst/>
              <a:gdLst/>
              <a:ahLst/>
              <a:rect l="l" t="t" r="r" b="b"/>
              <a:pathLst>
                <a:path w="1032" h="1942">
                  <a:moveTo>
                    <a:pt x="0" y="1896"/>
                  </a:moveTo>
                  <a:cubicBezTo>
                    <a:pt x="88" y="1886"/>
                    <a:pt x="398" y="1942"/>
                    <a:pt x="528" y="1836"/>
                  </a:cubicBezTo>
                  <a:cubicBezTo>
                    <a:pt x="658" y="1730"/>
                    <a:pt x="718" y="1444"/>
                    <a:pt x="780" y="1260"/>
                  </a:cubicBezTo>
                  <a:cubicBezTo>
                    <a:pt x="842" y="1076"/>
                    <a:pt x="858" y="942"/>
                    <a:pt x="900" y="732"/>
                  </a:cubicBezTo>
                  <a:lnTo>
                    <a:pt x="103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35000" y="2811600"/>
              <a:ext cx="56160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64520" y="5043240"/>
              <a:ext cx="56412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1184400" y="4006440"/>
            <a:ext cx="1238040" cy="1263600"/>
            <a:chOff x="1184400" y="4006440"/>
            <a:chExt cx="1238040" cy="1263600"/>
          </a:xfrm>
        </p:grpSpPr>
        <p:sp>
          <p:nvSpPr>
            <p:cNvPr id="668" name=""/>
            <p:cNvSpPr/>
            <p:nvPr/>
          </p:nvSpPr>
          <p:spPr>
            <a:xfrm flipV="1">
              <a:off x="1278360" y="4006440"/>
              <a:ext cx="1143720" cy="12193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84400" y="4006800"/>
              <a:ext cx="117720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422440" y="4067640"/>
              <a:ext cx="0" cy="120240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1600" y="4006800"/>
              <a:ext cx="59400" cy="5940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1233000" y="4616280"/>
            <a:ext cx="1021320" cy="669960"/>
            <a:chOff x="1233000" y="4616280"/>
            <a:chExt cx="1021320" cy="669960"/>
          </a:xfrm>
        </p:grpSpPr>
        <p:sp>
          <p:nvSpPr>
            <p:cNvPr id="673" name=""/>
            <p:cNvSpPr/>
            <p:nvPr/>
          </p:nvSpPr>
          <p:spPr>
            <a:xfrm flipH="1">
              <a:off x="1233360" y="4616280"/>
              <a:ext cx="1020960" cy="669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54320" y="4616280"/>
              <a:ext cx="0" cy="6699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1233000" y="4616280"/>
              <a:ext cx="96012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193480" y="4617360"/>
              <a:ext cx="59400" cy="5976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1619280" y="5638680"/>
            <a:ext cx="2514600" cy="990720"/>
          </a:xfrm>
          <a:prstGeom prst="wedgeRoundRectCallout">
            <a:avLst>
              <a:gd name="adj1" fmla="val -37500"/>
              <a:gd name="adj2" fmla="val -133652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4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振荡幅度较小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正向电阻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62080" y="1905120"/>
            <a:ext cx="2666880" cy="990360"/>
          </a:xfrm>
          <a:prstGeom prst="wedgeRoundRectCallout">
            <a:avLst>
              <a:gd name="adj1" fmla="val -12143"/>
              <a:gd name="adj2" fmla="val 187180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振荡幅度较大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正向电阻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7200" y="9144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利用二极管的正向伏安特性的非线性自动稳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4572000" y="1461960"/>
            <a:ext cx="4266720" cy="4100400"/>
            <a:chOff x="4572000" y="1461960"/>
            <a:chExt cx="4266720" cy="4100400"/>
          </a:xfrm>
        </p:grpSpPr>
        <p:sp>
          <p:nvSpPr>
            <p:cNvPr id="681" name=""/>
            <p:cNvSpPr/>
            <p:nvPr/>
          </p:nvSpPr>
          <p:spPr>
            <a:xfrm>
              <a:off x="4647960" y="2895480"/>
              <a:ext cx="57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5028840" y="3079440"/>
              <a:ext cx="398160" cy="153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074920" y="5562360"/>
              <a:ext cx="30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5222160" y="5121000"/>
              <a:ext cx="6120" cy="44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64240" y="3195360"/>
              <a:ext cx="848880" cy="11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806960" y="1523880"/>
              <a:ext cx="0" cy="232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564240" y="3835080"/>
              <a:ext cx="29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118280" y="3619440"/>
              <a:ext cx="29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857640" y="3101760"/>
              <a:ext cx="44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创艺简宋体"/>
                </a:rPr>
                <a:t>∞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368680" y="2819160"/>
              <a:ext cx="802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222520" y="4046400"/>
              <a:ext cx="1341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413480" y="3835080"/>
              <a:ext cx="69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946480" y="2863440"/>
              <a:ext cx="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100560" y="3635280"/>
              <a:ext cx="46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248080" y="1523880"/>
              <a:ext cx="25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5400000">
              <a:off x="6701400" y="3249360"/>
              <a:ext cx="160560" cy="1537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5074920" y="3595320"/>
              <a:ext cx="307440" cy="158400"/>
              <a:chOff x="5074920" y="3595320"/>
              <a:chExt cx="307440" cy="158400"/>
            </a:xfrm>
          </p:grpSpPr>
          <p:sp>
            <p:nvSpPr>
              <p:cNvPr id="698" name=""/>
              <p:cNvSpPr/>
              <p:nvPr/>
            </p:nvSpPr>
            <p:spPr>
              <a:xfrm>
                <a:off x="5074920" y="3595320"/>
                <a:ext cx="30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074920" y="3753720"/>
                <a:ext cx="30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"/>
            <p:cNvSpPr/>
            <p:nvPr/>
          </p:nvSpPr>
          <p:spPr>
            <a:xfrm>
              <a:off x="5229000" y="3355560"/>
              <a:ext cx="0" cy="2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5229000" y="1523520"/>
              <a:ext cx="0" cy="143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222520" y="375408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919400" y="4321080"/>
              <a:ext cx="61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6200000">
              <a:off x="5900400" y="3053880"/>
              <a:ext cx="399960" cy="15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6095880" y="2428560"/>
              <a:ext cx="0" cy="51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100560" y="3341520"/>
              <a:ext cx="0" cy="136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191640" y="46400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6200000">
              <a:off x="5901840" y="4806360"/>
              <a:ext cx="398520" cy="153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946480" y="5562360"/>
              <a:ext cx="30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100560" y="5082840"/>
              <a:ext cx="0" cy="47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72000" y="3352680"/>
              <a:ext cx="63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8360" y="4473360"/>
              <a:ext cx="5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16200000">
              <a:off x="4720680" y="4684320"/>
              <a:ext cx="398520" cy="153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4919400" y="4321080"/>
              <a:ext cx="0" cy="24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919400" y="4960800"/>
              <a:ext cx="0" cy="16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5383080" y="4640040"/>
              <a:ext cx="307080" cy="161640"/>
              <a:chOff x="5383080" y="4640040"/>
              <a:chExt cx="307080" cy="161640"/>
            </a:xfrm>
          </p:grpSpPr>
          <p:sp>
            <p:nvSpPr>
              <p:cNvPr id="717" name=""/>
              <p:cNvSpPr/>
              <p:nvPr/>
            </p:nvSpPr>
            <p:spPr>
              <a:xfrm>
                <a:off x="5383080" y="4640040"/>
                <a:ext cx="30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383080" y="4801680"/>
                <a:ext cx="30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 flipV="1">
              <a:off x="5536800" y="4321080"/>
              <a:ext cx="0" cy="3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536800" y="4802040"/>
              <a:ext cx="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919400" y="5121000"/>
              <a:ext cx="61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27520" y="4473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572160" y="3314520"/>
              <a:ext cx="38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72160" y="3171600"/>
              <a:ext cx="848880" cy="1119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076960" y="3787560"/>
              <a:ext cx="8532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076960" y="4692240"/>
              <a:ext cx="85320" cy="86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986600" y="5082840"/>
              <a:ext cx="30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111880" y="477828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8076960" y="3558960"/>
              <a:ext cx="761760" cy="1358640"/>
              <a:chOff x="8076960" y="3558960"/>
              <a:chExt cx="761760" cy="1358640"/>
            </a:xfrm>
          </p:grpSpPr>
          <p:sp>
            <p:nvSpPr>
              <p:cNvPr id="730" name=""/>
              <p:cNvSpPr/>
              <p:nvPr/>
            </p:nvSpPr>
            <p:spPr>
              <a:xfrm>
                <a:off x="8159040" y="3911400"/>
                <a:ext cx="51588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r>
                  <a:rPr b="1" lang="zh-CN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152920" y="439704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8076960" y="355896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3" name=""/>
            <p:cNvSpPr/>
            <p:nvPr/>
          </p:nvSpPr>
          <p:spPr>
            <a:xfrm>
              <a:off x="6095880" y="2433240"/>
              <a:ext cx="68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762600" y="2357280"/>
              <a:ext cx="399600" cy="15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62560" y="2433240"/>
              <a:ext cx="65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400440" y="1976040"/>
              <a:ext cx="1066680" cy="914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82440" y="235728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6857640" y="1780920"/>
              <a:ext cx="228240" cy="385920"/>
              <a:chOff x="6857640" y="1780920"/>
              <a:chExt cx="228240" cy="385920"/>
            </a:xfrm>
          </p:grpSpPr>
          <p:sp>
            <p:nvSpPr>
              <p:cNvPr id="739" name=""/>
              <p:cNvSpPr/>
              <p:nvPr/>
            </p:nvSpPr>
            <p:spPr>
              <a:xfrm rot="16200000">
                <a:off x="6819120" y="1861560"/>
                <a:ext cx="304920" cy="22824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857640" y="1780920"/>
                <a:ext cx="0" cy="38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6857640" y="2703240"/>
              <a:ext cx="228240" cy="385920"/>
              <a:chOff x="6857640" y="2703240"/>
              <a:chExt cx="228240" cy="385920"/>
            </a:xfrm>
          </p:grpSpPr>
          <p:sp>
            <p:nvSpPr>
              <p:cNvPr id="742" name=""/>
              <p:cNvSpPr/>
              <p:nvPr/>
            </p:nvSpPr>
            <p:spPr>
              <a:xfrm flipH="1" rot="5400000">
                <a:off x="6819120" y="2783880"/>
                <a:ext cx="304920" cy="22824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085880" y="2703240"/>
                <a:ext cx="0" cy="38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6306120" y="146196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324480" y="1904760"/>
              <a:ext cx="802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426080" y="2396880"/>
              <a:ext cx="85320" cy="85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360840" y="2396880"/>
              <a:ext cx="85320" cy="85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5791320" y="533520"/>
            <a:ext cx="2133360" cy="838080"/>
          </a:xfrm>
          <a:prstGeom prst="wedgeEllipseCallout">
            <a:avLst>
              <a:gd name="adj1" fmla="val 18675"/>
              <a:gd name="adj2" fmla="val 107009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稳幅环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248520" y="1676520"/>
            <a:ext cx="1371600" cy="1447560"/>
          </a:xfrm>
          <a:prstGeom prst="rect">
            <a:avLst/>
          </a:prstGeom>
          <a:noFill/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0520" y="425160"/>
            <a:ext cx="480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带稳幅环节的电路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4495680" y="806400"/>
            <a:ext cx="4267440" cy="4100400"/>
            <a:chOff x="4495680" y="806400"/>
            <a:chExt cx="4267440" cy="4100400"/>
          </a:xfrm>
        </p:grpSpPr>
        <p:sp>
          <p:nvSpPr>
            <p:cNvPr id="752" name=""/>
            <p:cNvSpPr/>
            <p:nvPr/>
          </p:nvSpPr>
          <p:spPr>
            <a:xfrm>
              <a:off x="4572000" y="2239920"/>
              <a:ext cx="57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16200000">
              <a:off x="4953240" y="2423880"/>
              <a:ext cx="398160" cy="154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998960" y="4906800"/>
              <a:ext cx="30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5146560" y="4465440"/>
              <a:ext cx="6480" cy="44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88280" y="2539800"/>
              <a:ext cx="849240" cy="11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731000" y="868320"/>
              <a:ext cx="0" cy="232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88280" y="3179520"/>
              <a:ext cx="29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042320" y="296388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781680" y="2446200"/>
              <a:ext cx="44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创艺简宋体"/>
                </a:rPr>
                <a:t>∞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92720" y="2163600"/>
              <a:ext cx="80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146560" y="3390840"/>
              <a:ext cx="1341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37520" y="3179520"/>
              <a:ext cx="69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70520" y="2207880"/>
              <a:ext cx="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24600" y="2979720"/>
              <a:ext cx="463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172120" y="868320"/>
              <a:ext cx="25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5400000">
              <a:off x="6626160" y="2593800"/>
              <a:ext cx="160560" cy="1540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4998960" y="2939760"/>
              <a:ext cx="307800" cy="158400"/>
              <a:chOff x="4998960" y="2939760"/>
              <a:chExt cx="307800" cy="158400"/>
            </a:xfrm>
          </p:grpSpPr>
          <p:sp>
            <p:nvSpPr>
              <p:cNvPr id="769" name=""/>
              <p:cNvSpPr/>
              <p:nvPr/>
            </p:nvSpPr>
            <p:spPr>
              <a:xfrm>
                <a:off x="4998960" y="2939760"/>
                <a:ext cx="30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998960" y="3098160"/>
                <a:ext cx="30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5153040" y="2700000"/>
              <a:ext cx="0" cy="2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5153040" y="867960"/>
              <a:ext cx="0" cy="143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146560" y="3098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843440" y="3665520"/>
              <a:ext cx="61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6200000">
              <a:off x="5824440" y="2397960"/>
              <a:ext cx="399960" cy="152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6019920" y="1773000"/>
              <a:ext cx="0" cy="51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024600" y="2685960"/>
              <a:ext cx="0" cy="136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116040" y="39844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6200000">
              <a:off x="5825880" y="4150440"/>
              <a:ext cx="398520" cy="154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870520" y="4906800"/>
              <a:ext cx="30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024600" y="4427280"/>
              <a:ext cx="0" cy="47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95680" y="2697120"/>
              <a:ext cx="63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802760" y="3817800"/>
              <a:ext cx="5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6200000">
              <a:off x="4644720" y="4028400"/>
              <a:ext cx="398520" cy="154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4843440" y="3665520"/>
              <a:ext cx="0" cy="24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843440" y="4305240"/>
              <a:ext cx="0" cy="16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5307120" y="3984480"/>
              <a:ext cx="307440" cy="161640"/>
              <a:chOff x="5307120" y="3984480"/>
              <a:chExt cx="307440" cy="161640"/>
            </a:xfrm>
          </p:grpSpPr>
          <p:sp>
            <p:nvSpPr>
              <p:cNvPr id="788" name=""/>
              <p:cNvSpPr/>
              <p:nvPr/>
            </p:nvSpPr>
            <p:spPr>
              <a:xfrm>
                <a:off x="5307120" y="3984480"/>
                <a:ext cx="30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07120" y="4146120"/>
                <a:ext cx="30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 flipV="1">
              <a:off x="5460840" y="3665520"/>
              <a:ext cx="0" cy="3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460840" y="4146480"/>
              <a:ext cx="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843440" y="4465440"/>
              <a:ext cx="61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551560" y="3817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496200" y="2658960"/>
              <a:ext cx="38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496200" y="2516040"/>
              <a:ext cx="849240" cy="1119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001000" y="313200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001000" y="4036680"/>
              <a:ext cx="85680" cy="86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910640" y="4427280"/>
              <a:ext cx="30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035920" y="4122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0" name=""/>
            <p:cNvGrpSpPr/>
            <p:nvPr/>
          </p:nvGrpSpPr>
          <p:grpSpPr>
            <a:xfrm>
              <a:off x="8001000" y="2903400"/>
              <a:ext cx="762120" cy="1358640"/>
              <a:chOff x="8001000" y="2903400"/>
              <a:chExt cx="762120" cy="1358640"/>
            </a:xfrm>
          </p:grpSpPr>
          <p:sp>
            <p:nvSpPr>
              <p:cNvPr id="801" name=""/>
              <p:cNvSpPr/>
              <p:nvPr/>
            </p:nvSpPr>
            <p:spPr>
              <a:xfrm>
                <a:off x="8079840" y="3255840"/>
                <a:ext cx="493200" cy="54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r>
                  <a:rPr b="1" lang="zh-CN" sz="2000" spc="-1" strike="noStrike" baseline="-25000">
                    <a:solidFill>
                      <a:srgbClr val="ff33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077320" y="37414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001000" y="290340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4" name=""/>
            <p:cNvSpPr/>
            <p:nvPr/>
          </p:nvSpPr>
          <p:spPr>
            <a:xfrm>
              <a:off x="6019920" y="1777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686640" y="1701720"/>
              <a:ext cx="399960" cy="15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086600" y="1777680"/>
              <a:ext cx="65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324480" y="1320480"/>
              <a:ext cx="1067040" cy="914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06840" y="170172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6781680" y="1125360"/>
              <a:ext cx="228600" cy="385920"/>
              <a:chOff x="6781680" y="1125360"/>
              <a:chExt cx="228600" cy="385920"/>
            </a:xfrm>
          </p:grpSpPr>
          <p:sp>
            <p:nvSpPr>
              <p:cNvPr id="810" name=""/>
              <p:cNvSpPr/>
              <p:nvPr/>
            </p:nvSpPr>
            <p:spPr>
              <a:xfrm rot="16200000">
                <a:off x="6743520" y="1206000"/>
                <a:ext cx="304920" cy="2286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781680" y="1125360"/>
                <a:ext cx="0" cy="38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6781320" y="2047680"/>
              <a:ext cx="228600" cy="385920"/>
              <a:chOff x="6781320" y="2047680"/>
              <a:chExt cx="228600" cy="385920"/>
            </a:xfrm>
          </p:grpSpPr>
          <p:sp>
            <p:nvSpPr>
              <p:cNvPr id="813" name=""/>
              <p:cNvSpPr/>
              <p:nvPr/>
            </p:nvSpPr>
            <p:spPr>
              <a:xfrm flipH="1" rot="5400000">
                <a:off x="6742800" y="2128320"/>
                <a:ext cx="304920" cy="2286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009920" y="2047680"/>
                <a:ext cx="0" cy="38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6230520" y="8064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248520" y="1249200"/>
              <a:ext cx="80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350120" y="1741320"/>
              <a:ext cx="85680" cy="85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284880" y="1741320"/>
              <a:ext cx="85680" cy="85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457200" y="958680"/>
            <a:ext cx="3657600" cy="37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图示电路中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为两部分。在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正反并联两个二极管，它们在输出电压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正负半周内分别导通。在起振之初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幅值很小，尚不足以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极管导通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向二极管近于开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此时，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2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12840" y="5226120"/>
            <a:ext cx="5087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着振荡幅度的增大，正向二极管导通，其正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阻逐渐减小，直到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2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振荡稳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8.3   </a:t>
            </a:r>
            <a:r>
              <a:rPr b="1" i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 LC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振荡电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520" y="1752480"/>
            <a:ext cx="8076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990000"/>
                </a:solidFill>
                <a:latin typeface="Times New Roman"/>
              </a:rPr>
              <a:t>LC 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振荡电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选频电路由电感和电容构成，可以产生高频振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几百千赫以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由于高频运放价格较高，所以一般用分离元件组成放大电路。本节只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L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振荡电路的结构和工作原理作简单介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6477120" y="5043600"/>
          <a:ext cx="1676160" cy="12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5043600"/>
                    <a:ext cx="167616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8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正弦波振荡电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1828800"/>
            <a:ext cx="79246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本章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解正弦波振荡电路自激振荡的条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解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L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振荡电路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振荡电路的工作原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8.3.l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变压器反馈式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L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振荡电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3200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路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4181400" y="3289320"/>
            <a:ext cx="6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943600" y="1752480"/>
            <a:ext cx="1295280" cy="1143000"/>
          </a:xfrm>
          <a:prstGeom prst="rect">
            <a:avLst/>
          </a:prstGeom>
          <a:noFill/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95760" y="1219320"/>
            <a:ext cx="2209680" cy="4800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620120" y="1828800"/>
            <a:ext cx="76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正反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701640" y="4738680"/>
                <a:ext cx="217800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2" name=""/>
          <p:cNvSpPr/>
          <p:nvPr/>
        </p:nvSpPr>
        <p:spPr>
          <a:xfrm>
            <a:off x="457200" y="3048120"/>
            <a:ext cx="266688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振荡频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L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联电路的谐振频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648320" y="1676520"/>
            <a:ext cx="1218960" cy="1600200"/>
          </a:xfrm>
          <a:prstGeom prst="rect">
            <a:avLst/>
          </a:prstGeom>
          <a:noFill/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6324480" y="1905120"/>
            <a:ext cx="914400" cy="839520"/>
            <a:chOff x="6324480" y="1905120"/>
            <a:chExt cx="914400" cy="839520"/>
          </a:xfrm>
        </p:grpSpPr>
        <p:sp>
          <p:nvSpPr>
            <p:cNvPr id="835" name=""/>
            <p:cNvSpPr/>
            <p:nvPr/>
          </p:nvSpPr>
          <p:spPr>
            <a:xfrm>
              <a:off x="6400440" y="1995480"/>
              <a:ext cx="838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324480" y="19051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324480" y="222408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444840" y="1263600"/>
            <a:ext cx="4632480" cy="4527360"/>
            <a:chOff x="3444840" y="1263600"/>
            <a:chExt cx="4632480" cy="4527360"/>
          </a:xfrm>
        </p:grpSpPr>
        <p:sp>
          <p:nvSpPr>
            <p:cNvPr id="839" name=""/>
            <p:cNvSpPr/>
            <p:nvPr/>
          </p:nvSpPr>
          <p:spPr>
            <a:xfrm>
              <a:off x="5257800" y="21333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496040" y="21333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53360" y="2889000"/>
              <a:ext cx="85680" cy="828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172200" y="2514600"/>
              <a:ext cx="85680" cy="82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221440" y="4876560"/>
              <a:ext cx="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55344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343400" y="28954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343400" y="480060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5943600" y="1980720"/>
              <a:ext cx="201600" cy="662040"/>
              <a:chOff x="5943600" y="1980720"/>
              <a:chExt cx="201600" cy="662040"/>
            </a:xfrm>
          </p:grpSpPr>
          <p:sp>
            <p:nvSpPr>
              <p:cNvPr id="848" name=""/>
              <p:cNvSpPr/>
              <p:nvPr/>
            </p:nvSpPr>
            <p:spPr>
              <a:xfrm rot="10800000">
                <a:off x="5943600" y="2393640"/>
                <a:ext cx="201600" cy="24912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0800000">
                <a:off x="5943600" y="2176200"/>
                <a:ext cx="201600" cy="24912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6200000">
                <a:off x="5933160" y="1991160"/>
                <a:ext cx="222480" cy="20160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5970600" y="2995920"/>
              <a:ext cx="201600" cy="737640"/>
              <a:chOff x="5970600" y="2995920"/>
              <a:chExt cx="201600" cy="737640"/>
            </a:xfrm>
          </p:grpSpPr>
          <p:sp>
            <p:nvSpPr>
              <p:cNvPr id="852" name=""/>
              <p:cNvSpPr/>
              <p:nvPr/>
            </p:nvSpPr>
            <p:spPr>
              <a:xfrm rot="10800000">
                <a:off x="5970600" y="3456000"/>
                <a:ext cx="201600" cy="27756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0800000">
                <a:off x="5970600" y="3213720"/>
                <a:ext cx="201600" cy="27756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5947560" y="3018960"/>
                <a:ext cx="247680" cy="20160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" name=""/>
            <p:cNvSpPr/>
            <p:nvPr/>
          </p:nvSpPr>
          <p:spPr>
            <a:xfrm flipH="1">
              <a:off x="3448080" y="3768480"/>
              <a:ext cx="3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6" name=""/>
            <p:cNvGrpSpPr/>
            <p:nvPr/>
          </p:nvGrpSpPr>
          <p:grpSpPr>
            <a:xfrm>
              <a:off x="3444840" y="1263600"/>
              <a:ext cx="4632480" cy="4527360"/>
              <a:chOff x="3444840" y="1263600"/>
              <a:chExt cx="4632480" cy="4527360"/>
            </a:xfrm>
          </p:grpSpPr>
          <p:grpSp>
            <p:nvGrpSpPr>
              <p:cNvPr id="857" name=""/>
              <p:cNvGrpSpPr/>
              <p:nvPr/>
            </p:nvGrpSpPr>
            <p:grpSpPr>
              <a:xfrm>
                <a:off x="3444840" y="1263600"/>
                <a:ext cx="4632480" cy="4527360"/>
                <a:chOff x="3444840" y="1263600"/>
                <a:chExt cx="4632480" cy="452736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4373640" y="1515960"/>
                  <a:ext cx="2487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9" name=""/>
                <p:cNvGrpSpPr/>
                <p:nvPr/>
              </p:nvGrpSpPr>
              <p:grpSpPr>
                <a:xfrm>
                  <a:off x="4954680" y="3562200"/>
                  <a:ext cx="317160" cy="471600"/>
                  <a:chOff x="4954680" y="3562200"/>
                  <a:chExt cx="317160" cy="471600"/>
                </a:xfrm>
              </p:grpSpPr>
              <p:sp>
                <p:nvSpPr>
                  <p:cNvPr id="860" name=""/>
                  <p:cNvSpPr/>
                  <p:nvPr/>
                </p:nvSpPr>
                <p:spPr>
                  <a:xfrm>
                    <a:off x="4954680" y="3562200"/>
                    <a:ext cx="0" cy="471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 flipV="1">
                    <a:off x="4954680" y="3571200"/>
                    <a:ext cx="317160" cy="226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4964400" y="3807360"/>
                    <a:ext cx="307440" cy="216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3" name=""/>
                <p:cNvSpPr/>
                <p:nvPr/>
              </p:nvSpPr>
              <p:spPr>
                <a:xfrm>
                  <a:off x="3886200" y="3770280"/>
                  <a:ext cx="970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4343400" y="1504800"/>
                  <a:ext cx="0" cy="94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>
                  <a:off x="4319640" y="3770280"/>
                  <a:ext cx="635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5234040" y="4014720"/>
                  <a:ext cx="0" cy="431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V="1">
                  <a:off x="5264280" y="3046320"/>
                  <a:ext cx="0" cy="549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6431040" y="2841480"/>
                  <a:ext cx="274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4373640" y="5310000"/>
                  <a:ext cx="1233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5193000" y="5265720"/>
                  <a:ext cx="77760" cy="745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6863040" y="1469880"/>
                  <a:ext cx="77760" cy="716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4281480" y="2438280"/>
                  <a:ext cx="138240" cy="4525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268880" y="4349520"/>
                  <a:ext cx="138240" cy="4525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5153040" y="4430520"/>
                  <a:ext cx="139680" cy="4539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5234040" y="4203720"/>
                  <a:ext cx="374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607000" y="4213080"/>
                  <a:ext cx="0" cy="411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5607000" y="4786200"/>
                  <a:ext cx="0" cy="547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8" name=""/>
                <p:cNvGrpSpPr/>
                <p:nvPr/>
              </p:nvGrpSpPr>
              <p:grpSpPr>
                <a:xfrm>
                  <a:off x="5430960" y="4638600"/>
                  <a:ext cx="317160" cy="122040"/>
                  <a:chOff x="5430960" y="4638600"/>
                  <a:chExt cx="317160" cy="122040"/>
                </a:xfrm>
              </p:grpSpPr>
              <p:sp>
                <p:nvSpPr>
                  <p:cNvPr id="879" name=""/>
                  <p:cNvSpPr/>
                  <p:nvPr/>
                </p:nvSpPr>
                <p:spPr>
                  <a:xfrm>
                    <a:off x="5440680" y="4638600"/>
                    <a:ext cx="297720" cy="11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5430960" y="4638600"/>
                    <a:ext cx="317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5430960" y="4760640"/>
                    <a:ext cx="317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2" name=""/>
                <p:cNvGrpSpPr/>
                <p:nvPr/>
              </p:nvGrpSpPr>
              <p:grpSpPr>
                <a:xfrm>
                  <a:off x="3770640" y="3630600"/>
                  <a:ext cx="129960" cy="303120"/>
                  <a:chOff x="3770640" y="3630600"/>
                  <a:chExt cx="129960" cy="303120"/>
                </a:xfrm>
              </p:grpSpPr>
              <p:sp>
                <p:nvSpPr>
                  <p:cNvPr id="883" name=""/>
                  <p:cNvSpPr/>
                  <p:nvPr/>
                </p:nvSpPr>
                <p:spPr>
                  <a:xfrm rot="5400000">
                    <a:off x="3698280" y="3721680"/>
                    <a:ext cx="284400" cy="120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3900600" y="3630600"/>
                    <a:ext cx="0" cy="3031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3770640" y="3630600"/>
                    <a:ext cx="0" cy="3031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6" name=""/>
                <p:cNvGrpSpPr/>
                <p:nvPr/>
              </p:nvGrpSpPr>
              <p:grpSpPr>
                <a:xfrm>
                  <a:off x="4853160" y="2292120"/>
                  <a:ext cx="317160" cy="122400"/>
                  <a:chOff x="4853160" y="2292120"/>
                  <a:chExt cx="317160" cy="122400"/>
                </a:xfrm>
              </p:grpSpPr>
              <p:sp>
                <p:nvSpPr>
                  <p:cNvPr id="887" name=""/>
                  <p:cNvSpPr/>
                  <p:nvPr/>
                </p:nvSpPr>
                <p:spPr>
                  <a:xfrm>
                    <a:off x="4862880" y="2292120"/>
                    <a:ext cx="297720" cy="11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4853160" y="2292120"/>
                    <a:ext cx="317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4853160" y="2414520"/>
                    <a:ext cx="317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0" name=""/>
                <p:cNvSpPr/>
                <p:nvPr/>
              </p:nvSpPr>
              <p:spPr>
                <a:xfrm>
                  <a:off x="6118200" y="2635200"/>
                  <a:ext cx="449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V="1">
                  <a:off x="4991400" y="1812600"/>
                  <a:ext cx="0" cy="479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5677200" y="2841480"/>
                  <a:ext cx="0" cy="204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V="1">
                  <a:off x="5677200" y="1812960"/>
                  <a:ext cx="0" cy="204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>
                  <a:off x="4991040" y="181296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448080" y="3760560"/>
                  <a:ext cx="0" cy="2019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444840" y="5789520"/>
                  <a:ext cx="401976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7467840" y="1984320"/>
                  <a:ext cx="0" cy="3806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4300560" y="3732120"/>
                  <a:ext cx="85680" cy="856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6946920" y="1263600"/>
                  <a:ext cx="11304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+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U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C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637320" y="3046320"/>
                  <a:ext cx="8524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R</a:t>
                  </a:r>
                  <a:r>
                    <a:rPr b="1" i="1" lang="en-US" sz="2800" spc="-1" strike="noStrike" baseline="-25000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L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3581640" y="3200400"/>
                  <a:ext cx="9712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C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2" name=""/>
                <p:cNvGrpSpPr/>
                <p:nvPr/>
              </p:nvGrpSpPr>
              <p:grpSpPr>
                <a:xfrm>
                  <a:off x="5085000" y="5275080"/>
                  <a:ext cx="296280" cy="265320"/>
                  <a:chOff x="5085000" y="5275080"/>
                  <a:chExt cx="296280" cy="265320"/>
                </a:xfrm>
              </p:grpSpPr>
              <p:sp>
                <p:nvSpPr>
                  <p:cNvPr id="903" name=""/>
                  <p:cNvSpPr/>
                  <p:nvPr/>
                </p:nvSpPr>
                <p:spPr>
                  <a:xfrm>
                    <a:off x="5242680" y="5275080"/>
                    <a:ext cx="0" cy="265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5085000" y="5521320"/>
                    <a:ext cx="2962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5" name=""/>
                <p:cNvSpPr/>
                <p:nvPr/>
              </p:nvSpPr>
              <p:spPr>
                <a:xfrm>
                  <a:off x="6019920" y="1984320"/>
                  <a:ext cx="1447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V="1">
                  <a:off x="4991400" y="2428560"/>
                  <a:ext cx="0" cy="617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H="1">
                  <a:off x="4991040" y="304632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V="1">
                  <a:off x="5334120" y="1503360"/>
                  <a:ext cx="0" cy="311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567480" y="2635200"/>
                  <a:ext cx="0" cy="206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118200" y="3733560"/>
                  <a:ext cx="449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6118200" y="3012840"/>
                  <a:ext cx="449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V="1">
                  <a:off x="6567480" y="3007800"/>
                  <a:ext cx="0" cy="111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6499440" y="3127320"/>
                  <a:ext cx="139680" cy="4539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4" name=""/>
              <p:cNvSpPr/>
              <p:nvPr/>
            </p:nvSpPr>
            <p:spPr>
              <a:xfrm>
                <a:off x="3657600" y="2269800"/>
                <a:ext cx="762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B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581640" y="423684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B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496040" y="431316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7" name=""/>
            <p:cNvSpPr/>
            <p:nvPr/>
          </p:nvSpPr>
          <p:spPr>
            <a:xfrm>
              <a:off x="5734080" y="4419360"/>
              <a:ext cx="971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5664240" y="1979280"/>
              <a:ext cx="203400" cy="879480"/>
              <a:chOff x="5664240" y="1979280"/>
              <a:chExt cx="203400" cy="879480"/>
            </a:xfrm>
          </p:grpSpPr>
          <p:sp>
            <p:nvSpPr>
              <p:cNvPr id="919" name=""/>
              <p:cNvSpPr/>
              <p:nvPr/>
            </p:nvSpPr>
            <p:spPr>
              <a:xfrm flipH="1" rot="10800000">
                <a:off x="5664240" y="2392200"/>
                <a:ext cx="201600" cy="24912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 rot="10800000">
                <a:off x="5664240" y="2174760"/>
                <a:ext cx="201600" cy="24912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H="1" rot="5400000">
                <a:off x="5653800" y="1989360"/>
                <a:ext cx="222120" cy="20160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 rot="10800000">
                <a:off x="5666040" y="2609280"/>
                <a:ext cx="201600" cy="24948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3" name=""/>
          <p:cNvSpPr/>
          <p:nvPr/>
        </p:nvSpPr>
        <p:spPr>
          <a:xfrm flipV="1">
            <a:off x="5181480" y="2666160"/>
            <a:ext cx="304920" cy="30492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6629400" y="2437560"/>
            <a:ext cx="304920" cy="30492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6324480" y="1598760"/>
            <a:ext cx="6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4191120" y="3746520"/>
            <a:ext cx="69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400800" y="5029200"/>
            <a:ext cx="1676520" cy="609480"/>
          </a:xfrm>
          <a:prstGeom prst="wedgeRoundRectCallout">
            <a:avLst>
              <a:gd name="adj1" fmla="val -101703"/>
              <a:gd name="adj2" fmla="val -215106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放大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57400" y="1752480"/>
            <a:ext cx="1676520" cy="609840"/>
          </a:xfrm>
          <a:prstGeom prst="wedgeRoundRectCallout">
            <a:avLst>
              <a:gd name="adj1" fmla="val 135699"/>
              <a:gd name="adj2" fmla="val 109375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选频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934320" y="3581280"/>
            <a:ext cx="1676160" cy="609840"/>
          </a:xfrm>
          <a:prstGeom prst="wedgeRoundRectCallout">
            <a:avLst>
              <a:gd name="adj1" fmla="val -46782"/>
              <a:gd name="adj2" fmla="val -195050"/>
              <a:gd name="adj3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反馈网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3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E6%84%9F%E5%8F%B9%E6%97%B6%E5%A5%8F%E4%B9%90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E6%84%9F%E5%8F%B9%E6%97%B6%E5%A5%8F%E4%B9%90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533520" y="762120"/>
            <a:ext cx="81532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在调节变压器反馈式振荡电路中，试解释下列现象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对调反馈线圈的两个接头后就能起振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调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阻值后即可起振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改用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大的晶体管后就能起振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适当增加反馈线圈的圈数后就能起振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适当增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或减小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后就能起振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反馈太强，波形变坏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调整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阻值后可使波形变好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负载太大不仅影响输出波形，有时甚至不能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起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09480" y="726840"/>
            <a:ext cx="1981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85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3160" y="2863800"/>
            <a:ext cx="3719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调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后即可起振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914400" y="159876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原反馈线圈接反，对调两个接头后满足相位条件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059120" y="730080"/>
            <a:ext cx="290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调反馈线圈的两个接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头后就能起振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442520" y="3732120"/>
            <a:ext cx="21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调阻值后使静态工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点合适，以满足幅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条件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04920" y="50734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改用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大的晶体管后就能起振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976040" y="5562720"/>
            <a:ext cx="41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改用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较大的晶体管，以满足幅度条件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4672080" y="600120"/>
            <a:ext cx="4167000" cy="3666600"/>
            <a:chOff x="4672080" y="600120"/>
            <a:chExt cx="4167000" cy="3666600"/>
          </a:xfrm>
        </p:grpSpPr>
        <p:sp>
          <p:nvSpPr>
            <p:cNvPr id="940" name=""/>
            <p:cNvSpPr/>
            <p:nvPr/>
          </p:nvSpPr>
          <p:spPr>
            <a:xfrm>
              <a:off x="6302520" y="1304640"/>
              <a:ext cx="4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562720" y="1209600"/>
              <a:ext cx="47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568920" y="1915920"/>
              <a:ext cx="76320" cy="662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124760" y="1612800"/>
              <a:ext cx="77760" cy="67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70480" y="3527280"/>
              <a:ext cx="0" cy="34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467480" y="2477880"/>
              <a:ext cx="0" cy="12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479920" y="1922400"/>
              <a:ext cx="0" cy="117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479920" y="3465360"/>
              <a:ext cx="0" cy="43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6919560" y="1181160"/>
              <a:ext cx="181440" cy="536040"/>
              <a:chOff x="6919560" y="1181160"/>
              <a:chExt cx="181440" cy="536040"/>
            </a:xfrm>
          </p:grpSpPr>
          <p:sp>
            <p:nvSpPr>
              <p:cNvPr id="949" name=""/>
              <p:cNvSpPr/>
              <p:nvPr/>
            </p:nvSpPr>
            <p:spPr>
              <a:xfrm rot="10800000">
                <a:off x="6919560" y="1515600"/>
                <a:ext cx="181080" cy="20160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0800000">
                <a:off x="6919560" y="1339560"/>
                <a:ext cx="181080" cy="20160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16200000">
                <a:off x="6920280" y="1180440"/>
                <a:ext cx="180000" cy="18108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6943320" y="2003400"/>
              <a:ext cx="181440" cy="596160"/>
              <a:chOff x="6943320" y="2003400"/>
              <a:chExt cx="181440" cy="596160"/>
            </a:xfrm>
          </p:grpSpPr>
          <p:sp>
            <p:nvSpPr>
              <p:cNvPr id="953" name=""/>
              <p:cNvSpPr/>
              <p:nvPr/>
            </p:nvSpPr>
            <p:spPr>
              <a:xfrm rot="10800000">
                <a:off x="6943320" y="2375280"/>
                <a:ext cx="181080" cy="22428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10800000">
                <a:off x="6943320" y="2179440"/>
                <a:ext cx="181080" cy="22428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16200000">
                <a:off x="6933960" y="2012760"/>
                <a:ext cx="200160" cy="18108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 flipH="1">
              <a:off x="4675320" y="2628720"/>
              <a:ext cx="311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506920" y="804600"/>
              <a:ext cx="22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8" name=""/>
            <p:cNvGrpSpPr/>
            <p:nvPr/>
          </p:nvGrpSpPr>
          <p:grpSpPr>
            <a:xfrm>
              <a:off x="6031080" y="2462040"/>
              <a:ext cx="284040" cy="380520"/>
              <a:chOff x="6031080" y="2462040"/>
              <a:chExt cx="284040" cy="380520"/>
            </a:xfrm>
          </p:grpSpPr>
          <p:sp>
            <p:nvSpPr>
              <p:cNvPr id="959" name=""/>
              <p:cNvSpPr/>
              <p:nvPr/>
            </p:nvSpPr>
            <p:spPr>
              <a:xfrm>
                <a:off x="6031080" y="2462040"/>
                <a:ext cx="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V="1">
                <a:off x="6031080" y="2468880"/>
                <a:ext cx="28404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039720" y="2659680"/>
                <a:ext cx="275040" cy="17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2" name=""/>
            <p:cNvSpPr/>
            <p:nvPr/>
          </p:nvSpPr>
          <p:spPr>
            <a:xfrm>
              <a:off x="5068800" y="2630160"/>
              <a:ext cx="87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479920" y="795240"/>
              <a:ext cx="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5459400" y="2630160"/>
              <a:ext cx="57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281640" y="2828880"/>
              <a:ext cx="0" cy="34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6308640" y="2044440"/>
              <a:ext cx="0" cy="44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358040" y="187776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506920" y="3877920"/>
              <a:ext cx="11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243480" y="3841560"/>
              <a:ext cx="71640" cy="60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746840" y="766440"/>
              <a:ext cx="69840" cy="5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24480" y="1550880"/>
              <a:ext cx="123840" cy="366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413320" y="3100320"/>
              <a:ext cx="123840" cy="364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208560" y="3165120"/>
              <a:ext cx="125640" cy="36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281640" y="2981160"/>
              <a:ext cx="336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616800" y="2989080"/>
              <a:ext cx="0" cy="33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616800" y="3452760"/>
              <a:ext cx="0" cy="44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7" name=""/>
            <p:cNvGrpSpPr/>
            <p:nvPr/>
          </p:nvGrpSpPr>
          <p:grpSpPr>
            <a:xfrm>
              <a:off x="6458040" y="3333600"/>
              <a:ext cx="285840" cy="97920"/>
              <a:chOff x="6458040" y="3333600"/>
              <a:chExt cx="285840" cy="97920"/>
            </a:xfrm>
          </p:grpSpPr>
          <p:sp>
            <p:nvSpPr>
              <p:cNvPr id="978" name=""/>
              <p:cNvSpPr/>
              <p:nvPr/>
            </p:nvSpPr>
            <p:spPr>
              <a:xfrm>
                <a:off x="6466680" y="3333600"/>
                <a:ext cx="268200" cy="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458040" y="3333600"/>
                <a:ext cx="2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458040" y="3431520"/>
                <a:ext cx="2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4963680" y="2517480"/>
              <a:ext cx="117720" cy="244080"/>
              <a:chOff x="4963680" y="2517480"/>
              <a:chExt cx="117720" cy="244080"/>
            </a:xfrm>
          </p:grpSpPr>
          <p:sp>
            <p:nvSpPr>
              <p:cNvPr id="982" name=""/>
              <p:cNvSpPr/>
              <p:nvPr/>
            </p:nvSpPr>
            <p:spPr>
              <a:xfrm rot="5400000">
                <a:off x="4912560" y="2584800"/>
                <a:ext cx="228960" cy="1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081400" y="2517480"/>
                <a:ext cx="0" cy="24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963680" y="2517480"/>
                <a:ext cx="0" cy="24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5938920" y="1433160"/>
              <a:ext cx="285840" cy="98280"/>
              <a:chOff x="5938920" y="1433160"/>
              <a:chExt cx="285840" cy="98280"/>
            </a:xfrm>
          </p:grpSpPr>
          <p:sp>
            <p:nvSpPr>
              <p:cNvPr id="986" name=""/>
              <p:cNvSpPr/>
              <p:nvPr/>
            </p:nvSpPr>
            <p:spPr>
              <a:xfrm>
                <a:off x="5947560" y="1433160"/>
                <a:ext cx="26820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938920" y="1433160"/>
                <a:ext cx="2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938920" y="1531440"/>
                <a:ext cx="2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9" name=""/>
            <p:cNvSpPr/>
            <p:nvPr/>
          </p:nvSpPr>
          <p:spPr>
            <a:xfrm>
              <a:off x="7077240" y="1711080"/>
              <a:ext cx="40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6062760" y="1044000"/>
              <a:ext cx="0" cy="38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680160" y="1877760"/>
              <a:ext cx="0" cy="16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6680160" y="1044360"/>
              <a:ext cx="0" cy="16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6062400" y="1044360"/>
              <a:ext cx="61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675320" y="2622240"/>
              <a:ext cx="0" cy="163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672080" y="4265280"/>
              <a:ext cx="3616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291520" y="1184040"/>
              <a:ext cx="0" cy="308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442120" y="2598480"/>
              <a:ext cx="75960" cy="69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821720" y="600120"/>
              <a:ext cx="101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+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543800" y="2044440"/>
              <a:ext cx="766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794120" y="2047680"/>
              <a:ext cx="874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"/>
            <p:cNvGrpSpPr/>
            <p:nvPr/>
          </p:nvGrpSpPr>
          <p:grpSpPr>
            <a:xfrm>
              <a:off x="6146640" y="3849480"/>
              <a:ext cx="266760" cy="213840"/>
              <a:chOff x="6146640" y="3849480"/>
              <a:chExt cx="266760" cy="213840"/>
            </a:xfrm>
          </p:grpSpPr>
          <p:sp>
            <p:nvSpPr>
              <p:cNvPr id="1002" name=""/>
              <p:cNvSpPr/>
              <p:nvPr/>
            </p:nvSpPr>
            <p:spPr>
              <a:xfrm>
                <a:off x="6288480" y="3849480"/>
                <a:ext cx="0" cy="21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46640" y="4047840"/>
                <a:ext cx="266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4" name=""/>
            <p:cNvSpPr/>
            <p:nvPr/>
          </p:nvSpPr>
          <p:spPr>
            <a:xfrm>
              <a:off x="6988320" y="1184040"/>
              <a:ext cx="130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6062760" y="1544400"/>
              <a:ext cx="0" cy="49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6062400" y="2044440"/>
              <a:ext cx="61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6372360" y="793440"/>
              <a:ext cx="0" cy="25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480440" y="1711080"/>
              <a:ext cx="0" cy="16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077240" y="2600280"/>
              <a:ext cx="40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077240" y="2017440"/>
              <a:ext cx="40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7480440" y="2012760"/>
              <a:ext cx="0" cy="9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419960" y="2109600"/>
              <a:ext cx="125280" cy="36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724280" y="1374480"/>
              <a:ext cx="85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718160" y="2944440"/>
              <a:ext cx="844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618160" y="3016080"/>
              <a:ext cx="684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730920" y="3157200"/>
              <a:ext cx="874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7" name=""/>
            <p:cNvGrpSpPr/>
            <p:nvPr/>
          </p:nvGrpSpPr>
          <p:grpSpPr>
            <a:xfrm>
              <a:off x="6669000" y="1179000"/>
              <a:ext cx="182160" cy="712080"/>
              <a:chOff x="6669000" y="1179000"/>
              <a:chExt cx="182160" cy="712080"/>
            </a:xfrm>
          </p:grpSpPr>
          <p:sp>
            <p:nvSpPr>
              <p:cNvPr id="1018" name=""/>
              <p:cNvSpPr/>
              <p:nvPr/>
            </p:nvSpPr>
            <p:spPr>
              <a:xfrm flipH="1" rot="10800000">
                <a:off x="6669000" y="1513440"/>
                <a:ext cx="180720" cy="20160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 rot="10800000">
                <a:off x="6669000" y="1337400"/>
                <a:ext cx="180720" cy="20160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 rot="5400000">
                <a:off x="6669360" y="1178280"/>
                <a:ext cx="179640" cy="18072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 rot="10800000">
                <a:off x="6670440" y="1689120"/>
                <a:ext cx="180720" cy="20196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6%84%9F%E5%8F%B9%E6%97%B6%E5%A5%8F%E4%B9%90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85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76520" y="2940120"/>
            <a:ext cx="286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适当增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或减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后就能起振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558800" y="1523880"/>
            <a:ext cx="231444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增加反馈线圈的圈数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即增大反馈量，以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足幅度条件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987480" y="730080"/>
            <a:ext cx="269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适当增加反馈线圈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圈数后就能起振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80880" y="5302080"/>
            <a:ext cx="8458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当适当增加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L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值或减小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值后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等效阻抗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|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Z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|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增大，因而就增大了反馈量，容易起振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2805120" y="4387680"/>
                <a:ext cx="158436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8" name=""/>
          <p:cNvSpPr/>
          <p:nvPr/>
        </p:nvSpPr>
        <p:spPr>
          <a:xfrm>
            <a:off x="533520" y="385452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L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并联电路在谐振时的等效阻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4672080" y="600120"/>
            <a:ext cx="4167000" cy="3666600"/>
            <a:chOff x="4672080" y="600120"/>
            <a:chExt cx="4167000" cy="3666600"/>
          </a:xfrm>
        </p:grpSpPr>
        <p:sp>
          <p:nvSpPr>
            <p:cNvPr id="1030" name=""/>
            <p:cNvSpPr/>
            <p:nvPr/>
          </p:nvSpPr>
          <p:spPr>
            <a:xfrm>
              <a:off x="6302520" y="1304640"/>
              <a:ext cx="4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562720" y="1209600"/>
              <a:ext cx="47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568920" y="1915920"/>
              <a:ext cx="76320" cy="662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124760" y="1612800"/>
              <a:ext cx="77760" cy="67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270480" y="3527280"/>
              <a:ext cx="0" cy="34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467480" y="2477880"/>
              <a:ext cx="0" cy="12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479920" y="1922400"/>
              <a:ext cx="0" cy="117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479920" y="3465360"/>
              <a:ext cx="0" cy="43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6919560" y="1181160"/>
              <a:ext cx="181440" cy="536040"/>
              <a:chOff x="6919560" y="1181160"/>
              <a:chExt cx="181440" cy="536040"/>
            </a:xfrm>
          </p:grpSpPr>
          <p:sp>
            <p:nvSpPr>
              <p:cNvPr id="1039" name=""/>
              <p:cNvSpPr/>
              <p:nvPr/>
            </p:nvSpPr>
            <p:spPr>
              <a:xfrm rot="10800000">
                <a:off x="6919560" y="1515600"/>
                <a:ext cx="181080" cy="20160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10800000">
                <a:off x="6919560" y="1339560"/>
                <a:ext cx="181080" cy="20160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16200000">
                <a:off x="6920280" y="1180440"/>
                <a:ext cx="180000" cy="18108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6943320" y="2003400"/>
              <a:ext cx="181440" cy="596160"/>
              <a:chOff x="6943320" y="2003400"/>
              <a:chExt cx="181440" cy="596160"/>
            </a:xfrm>
          </p:grpSpPr>
          <p:sp>
            <p:nvSpPr>
              <p:cNvPr id="1043" name=""/>
              <p:cNvSpPr/>
              <p:nvPr/>
            </p:nvSpPr>
            <p:spPr>
              <a:xfrm rot="10800000">
                <a:off x="6943320" y="2375280"/>
                <a:ext cx="181080" cy="22428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10800000">
                <a:off x="6943320" y="2179440"/>
                <a:ext cx="181080" cy="22428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16200000">
                <a:off x="6933960" y="2012760"/>
                <a:ext cx="200160" cy="18108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6" name=""/>
            <p:cNvSpPr/>
            <p:nvPr/>
          </p:nvSpPr>
          <p:spPr>
            <a:xfrm flipH="1">
              <a:off x="4675320" y="2628720"/>
              <a:ext cx="311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506920" y="804600"/>
              <a:ext cx="22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6031080" y="2462040"/>
              <a:ext cx="284040" cy="380520"/>
              <a:chOff x="6031080" y="2462040"/>
              <a:chExt cx="284040" cy="380520"/>
            </a:xfrm>
          </p:grpSpPr>
          <p:sp>
            <p:nvSpPr>
              <p:cNvPr id="1049" name=""/>
              <p:cNvSpPr/>
              <p:nvPr/>
            </p:nvSpPr>
            <p:spPr>
              <a:xfrm>
                <a:off x="6031080" y="2462040"/>
                <a:ext cx="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6031080" y="2468880"/>
                <a:ext cx="28404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039720" y="2659680"/>
                <a:ext cx="275040" cy="17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2" name=""/>
            <p:cNvSpPr/>
            <p:nvPr/>
          </p:nvSpPr>
          <p:spPr>
            <a:xfrm>
              <a:off x="5068800" y="2630160"/>
              <a:ext cx="87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479920" y="795240"/>
              <a:ext cx="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5459400" y="2630160"/>
              <a:ext cx="57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281640" y="2828880"/>
              <a:ext cx="0" cy="34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>
              <a:off x="6308640" y="2044440"/>
              <a:ext cx="0" cy="44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358040" y="187776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506920" y="3877920"/>
              <a:ext cx="11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243480" y="3841560"/>
              <a:ext cx="71640" cy="60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746840" y="766440"/>
              <a:ext cx="69840" cy="5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424480" y="1550880"/>
              <a:ext cx="123840" cy="366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413320" y="3100320"/>
              <a:ext cx="123840" cy="364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208560" y="3165120"/>
              <a:ext cx="125640" cy="36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281640" y="2981160"/>
              <a:ext cx="336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616800" y="2989080"/>
              <a:ext cx="0" cy="33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616800" y="3452760"/>
              <a:ext cx="0" cy="44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7" name=""/>
            <p:cNvGrpSpPr/>
            <p:nvPr/>
          </p:nvGrpSpPr>
          <p:grpSpPr>
            <a:xfrm>
              <a:off x="6458040" y="3333600"/>
              <a:ext cx="285840" cy="97920"/>
              <a:chOff x="6458040" y="3333600"/>
              <a:chExt cx="285840" cy="97920"/>
            </a:xfrm>
          </p:grpSpPr>
          <p:sp>
            <p:nvSpPr>
              <p:cNvPr id="1068" name=""/>
              <p:cNvSpPr/>
              <p:nvPr/>
            </p:nvSpPr>
            <p:spPr>
              <a:xfrm>
                <a:off x="6466680" y="3333600"/>
                <a:ext cx="268200" cy="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458040" y="3333600"/>
                <a:ext cx="2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458040" y="3431520"/>
                <a:ext cx="2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4963680" y="2517480"/>
              <a:ext cx="117720" cy="244080"/>
              <a:chOff x="4963680" y="2517480"/>
              <a:chExt cx="117720" cy="244080"/>
            </a:xfrm>
          </p:grpSpPr>
          <p:sp>
            <p:nvSpPr>
              <p:cNvPr id="1072" name=""/>
              <p:cNvSpPr/>
              <p:nvPr/>
            </p:nvSpPr>
            <p:spPr>
              <a:xfrm rot="5400000">
                <a:off x="4912560" y="2584800"/>
                <a:ext cx="228960" cy="1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081400" y="2517480"/>
                <a:ext cx="0" cy="24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963680" y="2517480"/>
                <a:ext cx="0" cy="24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5938920" y="1433160"/>
              <a:ext cx="285840" cy="98280"/>
              <a:chOff x="5938920" y="1433160"/>
              <a:chExt cx="285840" cy="98280"/>
            </a:xfrm>
          </p:grpSpPr>
          <p:sp>
            <p:nvSpPr>
              <p:cNvPr id="1076" name=""/>
              <p:cNvSpPr/>
              <p:nvPr/>
            </p:nvSpPr>
            <p:spPr>
              <a:xfrm>
                <a:off x="5947560" y="1433160"/>
                <a:ext cx="26820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938920" y="1433160"/>
                <a:ext cx="2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938920" y="1531440"/>
                <a:ext cx="2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9" name=""/>
            <p:cNvSpPr/>
            <p:nvPr/>
          </p:nvSpPr>
          <p:spPr>
            <a:xfrm>
              <a:off x="7077240" y="1711080"/>
              <a:ext cx="40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6062760" y="1044000"/>
              <a:ext cx="0" cy="38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680160" y="1877760"/>
              <a:ext cx="0" cy="16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6680160" y="1044360"/>
              <a:ext cx="0" cy="16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6062400" y="1044360"/>
              <a:ext cx="61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75320" y="2622240"/>
              <a:ext cx="0" cy="163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672080" y="4265280"/>
              <a:ext cx="3616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291520" y="1184040"/>
              <a:ext cx="0" cy="308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442120" y="2598480"/>
              <a:ext cx="75960" cy="69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821720" y="600120"/>
              <a:ext cx="101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+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543800" y="2044440"/>
              <a:ext cx="766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794120" y="2047680"/>
              <a:ext cx="874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1" name=""/>
            <p:cNvGrpSpPr/>
            <p:nvPr/>
          </p:nvGrpSpPr>
          <p:grpSpPr>
            <a:xfrm>
              <a:off x="6146640" y="3849480"/>
              <a:ext cx="266760" cy="213840"/>
              <a:chOff x="6146640" y="3849480"/>
              <a:chExt cx="266760" cy="213840"/>
            </a:xfrm>
          </p:grpSpPr>
          <p:sp>
            <p:nvSpPr>
              <p:cNvPr id="1092" name=""/>
              <p:cNvSpPr/>
              <p:nvPr/>
            </p:nvSpPr>
            <p:spPr>
              <a:xfrm>
                <a:off x="6288480" y="3849480"/>
                <a:ext cx="0" cy="21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146640" y="4047840"/>
                <a:ext cx="266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6988320" y="1184040"/>
              <a:ext cx="130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6062760" y="1544400"/>
              <a:ext cx="0" cy="49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6062400" y="2044440"/>
              <a:ext cx="61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6372360" y="793440"/>
              <a:ext cx="0" cy="25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80440" y="1711080"/>
              <a:ext cx="0" cy="16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077240" y="2600280"/>
              <a:ext cx="40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077240" y="2017440"/>
              <a:ext cx="40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7480440" y="2012760"/>
              <a:ext cx="0" cy="9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419960" y="2109600"/>
              <a:ext cx="125280" cy="36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724280" y="1374480"/>
              <a:ext cx="85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718160" y="2944440"/>
              <a:ext cx="844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618160" y="3016080"/>
              <a:ext cx="684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730920" y="3157200"/>
              <a:ext cx="874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6669000" y="1179000"/>
              <a:ext cx="182160" cy="712080"/>
              <a:chOff x="6669000" y="1179000"/>
              <a:chExt cx="182160" cy="712080"/>
            </a:xfrm>
          </p:grpSpPr>
          <p:sp>
            <p:nvSpPr>
              <p:cNvPr id="1108" name=""/>
              <p:cNvSpPr/>
              <p:nvPr/>
            </p:nvSpPr>
            <p:spPr>
              <a:xfrm flipH="1" rot="10800000">
                <a:off x="6669000" y="1513440"/>
                <a:ext cx="180720" cy="20160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H="1" rot="10800000">
                <a:off x="6669000" y="1337400"/>
                <a:ext cx="180720" cy="20160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 rot="5400000">
                <a:off x="6669360" y="1178280"/>
                <a:ext cx="179640" cy="18072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H="1" rot="10800000">
                <a:off x="6670440" y="1689120"/>
                <a:ext cx="180720" cy="20196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685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68200" y="2589120"/>
            <a:ext cx="4075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7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调整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阻值可使波形变好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38080" y="8668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反馈线圈的圈数过多或管子的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太大使反馈太强而进入非线性区，使波形变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983160" y="45720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6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馈太强，波形变坏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62120" y="34275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调阻值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使静态工作点在线性区，使波形变好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951000" y="4343400"/>
            <a:ext cx="11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8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负载太大不仅影响输出波形，有时甚至不能起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62120" y="4800600"/>
            <a:ext cx="800100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负载大，就是增大了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LC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并联电路的等效电阻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。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增大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一方面使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|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Z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|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减小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因而反馈幅度减小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不易起振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;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也使品质因数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减小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选频特性变坏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使波形变坏。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4672080" y="380880"/>
            <a:ext cx="4167000" cy="3667320"/>
            <a:chOff x="4672080" y="380880"/>
            <a:chExt cx="4167000" cy="3667320"/>
          </a:xfrm>
        </p:grpSpPr>
        <p:sp>
          <p:nvSpPr>
            <p:cNvPr id="1120" name=""/>
            <p:cNvSpPr/>
            <p:nvPr/>
          </p:nvSpPr>
          <p:spPr>
            <a:xfrm>
              <a:off x="6302520" y="1085760"/>
              <a:ext cx="4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562720" y="990720"/>
              <a:ext cx="47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568920" y="1697040"/>
              <a:ext cx="76320" cy="666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124760" y="1393920"/>
              <a:ext cx="77760" cy="680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270480" y="3308400"/>
              <a:ext cx="0" cy="3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467480" y="2259000"/>
              <a:ext cx="0" cy="12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479920" y="1703520"/>
              <a:ext cx="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479920" y="324648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8" name=""/>
            <p:cNvGrpSpPr/>
            <p:nvPr/>
          </p:nvGrpSpPr>
          <p:grpSpPr>
            <a:xfrm>
              <a:off x="6919560" y="961560"/>
              <a:ext cx="181440" cy="536760"/>
              <a:chOff x="6919560" y="961560"/>
              <a:chExt cx="181440" cy="536760"/>
            </a:xfrm>
          </p:grpSpPr>
          <p:sp>
            <p:nvSpPr>
              <p:cNvPr id="1129" name=""/>
              <p:cNvSpPr/>
              <p:nvPr/>
            </p:nvSpPr>
            <p:spPr>
              <a:xfrm rot="10800000">
                <a:off x="6919560" y="1296360"/>
                <a:ext cx="181080" cy="20196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rot="10800000">
                <a:off x="6919560" y="1120320"/>
                <a:ext cx="181080" cy="20196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16200000">
                <a:off x="6920280" y="961200"/>
                <a:ext cx="180360" cy="18108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2" name=""/>
            <p:cNvGrpSpPr/>
            <p:nvPr/>
          </p:nvGrpSpPr>
          <p:grpSpPr>
            <a:xfrm>
              <a:off x="6943320" y="1784880"/>
              <a:ext cx="181440" cy="596520"/>
              <a:chOff x="6943320" y="1784880"/>
              <a:chExt cx="181440" cy="596520"/>
            </a:xfrm>
          </p:grpSpPr>
          <p:sp>
            <p:nvSpPr>
              <p:cNvPr id="1133" name=""/>
              <p:cNvSpPr/>
              <p:nvPr/>
            </p:nvSpPr>
            <p:spPr>
              <a:xfrm rot="10800000">
                <a:off x="6943320" y="2157120"/>
                <a:ext cx="181080" cy="22428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rot="10800000">
                <a:off x="6943320" y="1961280"/>
                <a:ext cx="181080" cy="22428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rot="16200000">
                <a:off x="6933960" y="1794600"/>
                <a:ext cx="200520" cy="18108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6" name=""/>
            <p:cNvSpPr/>
            <p:nvPr/>
          </p:nvSpPr>
          <p:spPr>
            <a:xfrm flipH="1">
              <a:off x="4675320" y="2409840"/>
              <a:ext cx="311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506920" y="585720"/>
              <a:ext cx="22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"/>
            <p:cNvGrpSpPr/>
            <p:nvPr/>
          </p:nvGrpSpPr>
          <p:grpSpPr>
            <a:xfrm>
              <a:off x="6031080" y="2243160"/>
              <a:ext cx="284040" cy="380880"/>
              <a:chOff x="6031080" y="2243160"/>
              <a:chExt cx="284040" cy="380880"/>
            </a:xfrm>
          </p:grpSpPr>
          <p:sp>
            <p:nvSpPr>
              <p:cNvPr id="1139" name=""/>
              <p:cNvSpPr/>
              <p:nvPr/>
            </p:nvSpPr>
            <p:spPr>
              <a:xfrm>
                <a:off x="6031080" y="22431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V="1">
                <a:off x="6031080" y="2250000"/>
                <a:ext cx="28404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039720" y="2441160"/>
                <a:ext cx="275040" cy="17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2" name=""/>
            <p:cNvSpPr/>
            <p:nvPr/>
          </p:nvSpPr>
          <p:spPr>
            <a:xfrm>
              <a:off x="5068800" y="2411280"/>
              <a:ext cx="87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479920" y="576360"/>
              <a:ext cx="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5459400" y="2411280"/>
              <a:ext cx="57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281640" y="2610000"/>
              <a:ext cx="0" cy="34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6308640" y="1825200"/>
              <a:ext cx="0" cy="44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358040" y="165888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506920" y="3659040"/>
              <a:ext cx="11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243480" y="3622680"/>
              <a:ext cx="71640" cy="60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746840" y="547560"/>
              <a:ext cx="69840" cy="59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424480" y="1332000"/>
              <a:ext cx="123840" cy="366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413320" y="2881440"/>
              <a:ext cx="123840" cy="365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208560" y="2946240"/>
              <a:ext cx="125640" cy="368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281640" y="2762280"/>
              <a:ext cx="336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616800" y="2770200"/>
              <a:ext cx="0" cy="3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616800" y="3233880"/>
              <a:ext cx="0" cy="44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7" name=""/>
            <p:cNvGrpSpPr/>
            <p:nvPr/>
          </p:nvGrpSpPr>
          <p:grpSpPr>
            <a:xfrm>
              <a:off x="6458040" y="3114720"/>
              <a:ext cx="285840" cy="98280"/>
              <a:chOff x="6458040" y="3114720"/>
              <a:chExt cx="285840" cy="98280"/>
            </a:xfrm>
          </p:grpSpPr>
          <p:sp>
            <p:nvSpPr>
              <p:cNvPr id="1158" name=""/>
              <p:cNvSpPr/>
              <p:nvPr/>
            </p:nvSpPr>
            <p:spPr>
              <a:xfrm>
                <a:off x="6466680" y="3114720"/>
                <a:ext cx="26820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458040" y="3114720"/>
                <a:ext cx="2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58040" y="3213000"/>
                <a:ext cx="2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4963680" y="2298600"/>
              <a:ext cx="117720" cy="244440"/>
              <a:chOff x="4963680" y="2298600"/>
              <a:chExt cx="117720" cy="244440"/>
            </a:xfrm>
          </p:grpSpPr>
          <p:sp>
            <p:nvSpPr>
              <p:cNvPr id="1162" name=""/>
              <p:cNvSpPr/>
              <p:nvPr/>
            </p:nvSpPr>
            <p:spPr>
              <a:xfrm rot="5400000">
                <a:off x="4912200" y="2365920"/>
                <a:ext cx="229320" cy="1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081400" y="2298600"/>
                <a:ext cx="0" cy="24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963680" y="2298600"/>
                <a:ext cx="0" cy="24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5938920" y="1214280"/>
              <a:ext cx="285840" cy="98640"/>
              <a:chOff x="5938920" y="1214280"/>
              <a:chExt cx="285840" cy="98640"/>
            </a:xfrm>
          </p:grpSpPr>
          <p:sp>
            <p:nvSpPr>
              <p:cNvPr id="1166" name=""/>
              <p:cNvSpPr/>
              <p:nvPr/>
            </p:nvSpPr>
            <p:spPr>
              <a:xfrm>
                <a:off x="5947560" y="1214280"/>
                <a:ext cx="2682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938920" y="1214280"/>
                <a:ext cx="2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938920" y="1312920"/>
                <a:ext cx="2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9" name=""/>
            <p:cNvSpPr/>
            <p:nvPr/>
          </p:nvSpPr>
          <p:spPr>
            <a:xfrm>
              <a:off x="7077240" y="1492200"/>
              <a:ext cx="40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6062760" y="825480"/>
              <a:ext cx="0" cy="38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680160" y="165888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6680160" y="82512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6062400" y="825480"/>
              <a:ext cx="61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675320" y="2403360"/>
              <a:ext cx="0" cy="163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672080" y="4046400"/>
              <a:ext cx="36162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8291520" y="965160"/>
              <a:ext cx="0" cy="308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442120" y="2379600"/>
              <a:ext cx="7596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821720" y="380880"/>
              <a:ext cx="101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+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543800" y="1825560"/>
              <a:ext cx="766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794120" y="1828800"/>
              <a:ext cx="874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1" name=""/>
            <p:cNvGrpSpPr/>
            <p:nvPr/>
          </p:nvGrpSpPr>
          <p:grpSpPr>
            <a:xfrm>
              <a:off x="6146640" y="3630600"/>
              <a:ext cx="266760" cy="214200"/>
              <a:chOff x="6146640" y="3630600"/>
              <a:chExt cx="266760" cy="214200"/>
            </a:xfrm>
          </p:grpSpPr>
          <p:sp>
            <p:nvSpPr>
              <p:cNvPr id="1182" name=""/>
              <p:cNvSpPr/>
              <p:nvPr/>
            </p:nvSpPr>
            <p:spPr>
              <a:xfrm>
                <a:off x="6288480" y="3630600"/>
                <a:ext cx="0" cy="21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146640" y="3829320"/>
                <a:ext cx="266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4" name=""/>
            <p:cNvSpPr/>
            <p:nvPr/>
          </p:nvSpPr>
          <p:spPr>
            <a:xfrm>
              <a:off x="6988320" y="965160"/>
              <a:ext cx="130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6062760" y="1325160"/>
              <a:ext cx="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6062400" y="1825560"/>
              <a:ext cx="61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6372360" y="574200"/>
              <a:ext cx="0" cy="2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480440" y="14922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077240" y="2381400"/>
              <a:ext cx="40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077240" y="1798560"/>
              <a:ext cx="40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7480440" y="1793520"/>
              <a:ext cx="0" cy="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419960" y="1890720"/>
              <a:ext cx="125280" cy="36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724280" y="1155600"/>
              <a:ext cx="85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718160" y="2725560"/>
              <a:ext cx="844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618160" y="2797200"/>
              <a:ext cx="684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730920" y="2938320"/>
              <a:ext cx="874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7" name=""/>
            <p:cNvGrpSpPr/>
            <p:nvPr/>
          </p:nvGrpSpPr>
          <p:grpSpPr>
            <a:xfrm>
              <a:off x="6669000" y="960480"/>
              <a:ext cx="182160" cy="712080"/>
              <a:chOff x="6669000" y="960480"/>
              <a:chExt cx="182160" cy="712080"/>
            </a:xfrm>
          </p:grpSpPr>
          <p:sp>
            <p:nvSpPr>
              <p:cNvPr id="1198" name=""/>
              <p:cNvSpPr/>
              <p:nvPr/>
            </p:nvSpPr>
            <p:spPr>
              <a:xfrm flipH="1" rot="10800000">
                <a:off x="6669000" y="1294560"/>
                <a:ext cx="180720" cy="20160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H="1" rot="10800000">
                <a:off x="6669000" y="1118520"/>
                <a:ext cx="180720" cy="20160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H="1" rot="5400000">
                <a:off x="6669360" y="960120"/>
                <a:ext cx="180000" cy="18072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H="1" rot="10800000">
                <a:off x="6670440" y="1470600"/>
                <a:ext cx="180720" cy="20196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3200400" y="2514600"/>
            <a:ext cx="69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18760" y="22788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923760" y="1618560"/>
            <a:ext cx="820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反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6320" y="4757760"/>
            <a:ext cx="86104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注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瞬时极性法判断反馈的极性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耦合电容、旁路电容两端的极性相同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属于选频网络的电容，其两端的极性相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2362320" y="838080"/>
            <a:ext cx="4441680" cy="3768480"/>
            <a:chOff x="2362320" y="838080"/>
            <a:chExt cx="4441680" cy="3768480"/>
          </a:xfrm>
        </p:grpSpPr>
        <p:sp>
          <p:nvSpPr>
            <p:cNvPr id="1207" name=""/>
            <p:cNvSpPr/>
            <p:nvPr/>
          </p:nvSpPr>
          <p:spPr>
            <a:xfrm>
              <a:off x="5639040" y="3200040"/>
              <a:ext cx="77760" cy="684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961080" y="3841560"/>
              <a:ext cx="0" cy="3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105520" y="388584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170520" y="2236680"/>
              <a:ext cx="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170520" y="377964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2" name=""/>
            <p:cNvGrpSpPr/>
            <p:nvPr/>
          </p:nvGrpSpPr>
          <p:grpSpPr>
            <a:xfrm>
              <a:off x="5105160" y="3276720"/>
              <a:ext cx="181440" cy="596520"/>
              <a:chOff x="5105160" y="3276720"/>
              <a:chExt cx="181440" cy="596520"/>
            </a:xfrm>
          </p:grpSpPr>
          <p:sp>
            <p:nvSpPr>
              <p:cNvPr id="1213" name=""/>
              <p:cNvSpPr/>
              <p:nvPr/>
            </p:nvSpPr>
            <p:spPr>
              <a:xfrm flipH="1" rot="10800000">
                <a:off x="5105160" y="3648960"/>
                <a:ext cx="181080" cy="22428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H="1" rot="10800000">
                <a:off x="5105160" y="3453120"/>
                <a:ext cx="181080" cy="22428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H="1" rot="5400000">
                <a:off x="5095080" y="3286440"/>
                <a:ext cx="200520" cy="18108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6" name=""/>
            <p:cNvSpPr/>
            <p:nvPr/>
          </p:nvSpPr>
          <p:spPr>
            <a:xfrm flipH="1">
              <a:off x="2365560" y="2943000"/>
              <a:ext cx="311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176640" y="1339560"/>
              <a:ext cx="22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8" name=""/>
            <p:cNvGrpSpPr/>
            <p:nvPr/>
          </p:nvGrpSpPr>
          <p:grpSpPr>
            <a:xfrm>
              <a:off x="3721320" y="2776320"/>
              <a:ext cx="284040" cy="380880"/>
              <a:chOff x="3721320" y="2776320"/>
              <a:chExt cx="284040" cy="380880"/>
            </a:xfrm>
          </p:grpSpPr>
          <p:sp>
            <p:nvSpPr>
              <p:cNvPr id="1219" name=""/>
              <p:cNvSpPr/>
              <p:nvPr/>
            </p:nvSpPr>
            <p:spPr>
              <a:xfrm>
                <a:off x="3721320" y="277632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V="1">
                <a:off x="3721320" y="2783160"/>
                <a:ext cx="28404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3729960" y="2974320"/>
                <a:ext cx="275040" cy="17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2" name=""/>
            <p:cNvSpPr/>
            <p:nvPr/>
          </p:nvSpPr>
          <p:spPr>
            <a:xfrm>
              <a:off x="2759040" y="2944440"/>
              <a:ext cx="87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164040" y="1333440"/>
              <a:ext cx="0" cy="5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3149640" y="2944440"/>
              <a:ext cx="57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971880" y="3143160"/>
              <a:ext cx="0" cy="34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V="1">
              <a:off x="3962520" y="2209320"/>
              <a:ext cx="0" cy="59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200400" y="4190760"/>
              <a:ext cx="2667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934080" y="4155840"/>
              <a:ext cx="71280" cy="60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416560" y="1301400"/>
              <a:ext cx="69840" cy="5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102120" y="1865160"/>
              <a:ext cx="123840" cy="366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103560" y="3414600"/>
              <a:ext cx="123840" cy="365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899160" y="3479400"/>
              <a:ext cx="125280" cy="368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971880" y="3295440"/>
              <a:ext cx="336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307040" y="3303360"/>
              <a:ext cx="0" cy="3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307040" y="3767040"/>
              <a:ext cx="0" cy="44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6" name=""/>
            <p:cNvGrpSpPr/>
            <p:nvPr/>
          </p:nvGrpSpPr>
          <p:grpSpPr>
            <a:xfrm>
              <a:off x="4148280" y="3647880"/>
              <a:ext cx="285840" cy="98280"/>
              <a:chOff x="4148280" y="3647880"/>
              <a:chExt cx="285840" cy="98280"/>
            </a:xfrm>
          </p:grpSpPr>
          <p:sp>
            <p:nvSpPr>
              <p:cNvPr id="1237" name=""/>
              <p:cNvSpPr/>
              <p:nvPr/>
            </p:nvSpPr>
            <p:spPr>
              <a:xfrm>
                <a:off x="4156920" y="3647880"/>
                <a:ext cx="26820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148280" y="3647880"/>
                <a:ext cx="2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148280" y="3746160"/>
                <a:ext cx="2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2653920" y="2831760"/>
              <a:ext cx="117720" cy="244440"/>
              <a:chOff x="2653920" y="2831760"/>
              <a:chExt cx="117720" cy="244440"/>
            </a:xfrm>
          </p:grpSpPr>
          <p:sp>
            <p:nvSpPr>
              <p:cNvPr id="1241" name=""/>
              <p:cNvSpPr/>
              <p:nvPr/>
            </p:nvSpPr>
            <p:spPr>
              <a:xfrm rot="5400000">
                <a:off x="2602440" y="2899080"/>
                <a:ext cx="229320" cy="1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771640" y="2831760"/>
                <a:ext cx="0" cy="24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653920" y="2831760"/>
                <a:ext cx="0" cy="24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2365560" y="2936520"/>
              <a:ext cx="0" cy="163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2362320" y="4571640"/>
              <a:ext cx="251460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876920" y="3047760"/>
              <a:ext cx="0" cy="155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132360" y="2912760"/>
              <a:ext cx="7596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105520" y="838080"/>
              <a:ext cx="1017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+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484720" y="2361960"/>
              <a:ext cx="874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0" name=""/>
            <p:cNvGrpSpPr/>
            <p:nvPr/>
          </p:nvGrpSpPr>
          <p:grpSpPr>
            <a:xfrm>
              <a:off x="3837240" y="4163760"/>
              <a:ext cx="266400" cy="214200"/>
              <a:chOff x="3837240" y="4163760"/>
              <a:chExt cx="266400" cy="214200"/>
            </a:xfrm>
          </p:grpSpPr>
          <p:sp>
            <p:nvSpPr>
              <p:cNvPr id="1251" name=""/>
              <p:cNvSpPr/>
              <p:nvPr/>
            </p:nvSpPr>
            <p:spPr>
              <a:xfrm>
                <a:off x="3979080" y="4163760"/>
                <a:ext cx="0" cy="21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837240" y="4362480"/>
                <a:ext cx="266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3" name=""/>
            <p:cNvSpPr/>
            <p:nvPr/>
          </p:nvSpPr>
          <p:spPr>
            <a:xfrm flipV="1">
              <a:off x="3978360" y="132840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962520" y="25142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572000" y="2514240"/>
              <a:ext cx="12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5105520" y="3033000"/>
              <a:ext cx="0" cy="2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905280" y="1841400"/>
              <a:ext cx="125640" cy="36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414880" y="1688760"/>
              <a:ext cx="850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408400" y="3258720"/>
              <a:ext cx="844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308400" y="3330360"/>
              <a:ext cx="684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383360" y="3428640"/>
              <a:ext cx="874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562720" y="3276360"/>
              <a:ext cx="4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324840" y="3276360"/>
              <a:ext cx="47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953240" y="3885840"/>
              <a:ext cx="75960" cy="66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5" name=""/>
            <p:cNvGrpSpPr/>
            <p:nvPr/>
          </p:nvGrpSpPr>
          <p:grpSpPr>
            <a:xfrm>
              <a:off x="5412600" y="3047400"/>
              <a:ext cx="912240" cy="1000440"/>
              <a:chOff x="5412600" y="3047400"/>
              <a:chExt cx="912240" cy="1000440"/>
            </a:xfrm>
          </p:grpSpPr>
          <p:grpSp>
            <p:nvGrpSpPr>
              <p:cNvPr id="1266" name=""/>
              <p:cNvGrpSpPr/>
              <p:nvPr/>
            </p:nvGrpSpPr>
            <p:grpSpPr>
              <a:xfrm>
                <a:off x="6039000" y="3436560"/>
                <a:ext cx="285840" cy="98280"/>
                <a:chOff x="6039000" y="3436560"/>
                <a:chExt cx="285840" cy="98280"/>
              </a:xfrm>
            </p:grpSpPr>
            <p:sp>
              <p:nvSpPr>
                <p:cNvPr id="1267" name=""/>
                <p:cNvSpPr/>
                <p:nvPr/>
              </p:nvSpPr>
              <p:spPr>
                <a:xfrm flipH="1">
                  <a:off x="6047640" y="3436560"/>
                  <a:ext cx="268200" cy="9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 flipH="1">
                  <a:off x="6039000" y="3436560"/>
                  <a:ext cx="285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 flipH="1">
                  <a:off x="6039000" y="3534840"/>
                  <a:ext cx="285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0" name=""/>
              <p:cNvSpPr/>
              <p:nvPr/>
            </p:nvSpPr>
            <p:spPr>
              <a:xfrm flipV="1">
                <a:off x="6201000" y="3047760"/>
                <a:ext cx="0" cy="38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583600" y="3881160"/>
                <a:ext cx="0" cy="1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V="1">
                <a:off x="5583600" y="3047400"/>
                <a:ext cx="0" cy="1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583960" y="3047760"/>
                <a:ext cx="617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V="1">
                <a:off x="6201000" y="3547440"/>
                <a:ext cx="0" cy="50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583960" y="4047840"/>
                <a:ext cx="617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6" name=""/>
              <p:cNvGrpSpPr/>
              <p:nvPr/>
            </p:nvGrpSpPr>
            <p:grpSpPr>
              <a:xfrm>
                <a:off x="5412600" y="3182400"/>
                <a:ext cx="182160" cy="712080"/>
                <a:chOff x="5412600" y="3182400"/>
                <a:chExt cx="182160" cy="712080"/>
              </a:xfrm>
            </p:grpSpPr>
            <p:sp>
              <p:nvSpPr>
                <p:cNvPr id="1277" name=""/>
                <p:cNvSpPr/>
                <p:nvPr/>
              </p:nvSpPr>
              <p:spPr>
                <a:xfrm rot="10800000">
                  <a:off x="5414040" y="3516480"/>
                  <a:ext cx="180720" cy="201600"/>
                </a:xfrm>
                <a:custGeom>
                  <a:avLst/>
                  <a:gdLst/>
                  <a:ahLst/>
                  <a:rect l="l" t="t" r="r" b="b"/>
                  <a:pathLst>
                    <a:path w="137" h="221">
                      <a:moveTo>
                        <a:pt x="0" y="2"/>
                      </a:moveTo>
                      <a:cubicBezTo>
                        <a:pt x="13" y="6"/>
                        <a:pt x="66" y="0"/>
                        <a:pt x="86" y="11"/>
                      </a:cubicBezTo>
                      <a:cubicBezTo>
                        <a:pt x="106" y="22"/>
                        <a:pt x="124" y="37"/>
                        <a:pt x="122" y="67"/>
                      </a:cubicBezTo>
                      <a:cubicBezTo>
                        <a:pt x="136" y="117"/>
                        <a:pt x="137" y="171"/>
                        <a:pt x="74" y="189"/>
                      </a:cubicBezTo>
                      <a:cubicBezTo>
                        <a:pt x="68" y="197"/>
                        <a:pt x="30" y="196"/>
                        <a:pt x="22" y="202"/>
                      </a:cubicBezTo>
                      <a:cubicBezTo>
                        <a:pt x="14" y="207"/>
                        <a:pt x="28" y="221"/>
                        <a:pt x="28" y="221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 rot="10800000">
                  <a:off x="5414040" y="3340440"/>
                  <a:ext cx="180720" cy="201600"/>
                </a:xfrm>
                <a:custGeom>
                  <a:avLst/>
                  <a:gdLst/>
                  <a:ahLst/>
                  <a:rect l="l" t="t" r="r" b="b"/>
                  <a:pathLst>
                    <a:path w="137" h="221">
                      <a:moveTo>
                        <a:pt x="0" y="2"/>
                      </a:moveTo>
                      <a:cubicBezTo>
                        <a:pt x="13" y="6"/>
                        <a:pt x="66" y="0"/>
                        <a:pt x="86" y="11"/>
                      </a:cubicBezTo>
                      <a:cubicBezTo>
                        <a:pt x="106" y="22"/>
                        <a:pt x="124" y="37"/>
                        <a:pt x="122" y="67"/>
                      </a:cubicBezTo>
                      <a:cubicBezTo>
                        <a:pt x="136" y="117"/>
                        <a:pt x="137" y="171"/>
                        <a:pt x="74" y="189"/>
                      </a:cubicBezTo>
                      <a:cubicBezTo>
                        <a:pt x="68" y="197"/>
                        <a:pt x="30" y="196"/>
                        <a:pt x="22" y="202"/>
                      </a:cubicBezTo>
                      <a:cubicBezTo>
                        <a:pt x="14" y="207"/>
                        <a:pt x="28" y="221"/>
                        <a:pt x="28" y="221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rot="16200000">
                  <a:off x="5414400" y="3182040"/>
                  <a:ext cx="180000" cy="180720"/>
                </a:xfrm>
                <a:custGeom>
                  <a:avLst/>
                  <a:gdLst/>
                  <a:ahLst/>
                  <a:rect l="l" t="t" r="r" b="b"/>
                  <a:pathLst>
                    <a:path w="140" h="145">
                      <a:moveTo>
                        <a:pt x="1" y="145"/>
                      </a:moveTo>
                      <a:cubicBezTo>
                        <a:pt x="4" y="131"/>
                        <a:pt x="0" y="75"/>
                        <a:pt x="8" y="54"/>
                      </a:cubicBezTo>
                      <a:cubicBezTo>
                        <a:pt x="16" y="33"/>
                        <a:pt x="26" y="14"/>
                        <a:pt x="48" y="16"/>
                      </a:cubicBezTo>
                      <a:cubicBezTo>
                        <a:pt x="83" y="1"/>
                        <a:pt x="121" y="0"/>
                        <a:pt x="134" y="67"/>
                      </a:cubicBezTo>
                      <a:cubicBezTo>
                        <a:pt x="140" y="73"/>
                        <a:pt x="128" y="127"/>
                        <a:pt x="133" y="136"/>
                      </a:cubicBezTo>
                      <a:cubicBezTo>
                        <a:pt x="136" y="144"/>
                        <a:pt x="140" y="126"/>
                        <a:pt x="139" y="12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 rot="10800000">
                  <a:off x="5412600" y="3692520"/>
                  <a:ext cx="180720" cy="201960"/>
                </a:xfrm>
                <a:custGeom>
                  <a:avLst/>
                  <a:gdLst/>
                  <a:ahLst/>
                  <a:rect l="l" t="t" r="r" b="b"/>
                  <a:pathLst>
                    <a:path w="137" h="221">
                      <a:moveTo>
                        <a:pt x="0" y="2"/>
                      </a:moveTo>
                      <a:cubicBezTo>
                        <a:pt x="13" y="6"/>
                        <a:pt x="66" y="0"/>
                        <a:pt x="86" y="11"/>
                      </a:cubicBezTo>
                      <a:cubicBezTo>
                        <a:pt x="106" y="22"/>
                        <a:pt x="124" y="37"/>
                        <a:pt x="122" y="67"/>
                      </a:cubicBezTo>
                      <a:cubicBezTo>
                        <a:pt x="136" y="117"/>
                        <a:pt x="137" y="171"/>
                        <a:pt x="74" y="189"/>
                      </a:cubicBezTo>
                      <a:cubicBezTo>
                        <a:pt x="68" y="197"/>
                        <a:pt x="30" y="196"/>
                        <a:pt x="22" y="202"/>
                      </a:cubicBezTo>
                      <a:cubicBezTo>
                        <a:pt x="14" y="207"/>
                        <a:pt x="28" y="221"/>
                        <a:pt x="28" y="221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1" name=""/>
            <p:cNvGrpSpPr/>
            <p:nvPr/>
          </p:nvGrpSpPr>
          <p:grpSpPr>
            <a:xfrm>
              <a:off x="4419720" y="2361960"/>
              <a:ext cx="123840" cy="304920"/>
              <a:chOff x="4419720" y="2361960"/>
              <a:chExt cx="123840" cy="304920"/>
            </a:xfrm>
          </p:grpSpPr>
          <p:sp>
            <p:nvSpPr>
              <p:cNvPr id="1282" name=""/>
              <p:cNvSpPr/>
              <p:nvPr/>
            </p:nvSpPr>
            <p:spPr>
              <a:xfrm rot="5400000">
                <a:off x="4343400" y="2457360"/>
                <a:ext cx="28548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543560" y="236196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4419720" y="236196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5" name=""/>
            <p:cNvSpPr/>
            <p:nvPr/>
          </p:nvSpPr>
          <p:spPr>
            <a:xfrm flipV="1">
              <a:off x="5867640" y="251424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V="1">
              <a:off x="5867640" y="4038480"/>
              <a:ext cx="0" cy="18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4876560" y="3047760"/>
              <a:ext cx="227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8" name=""/>
          <p:cNvSpPr/>
          <p:nvPr/>
        </p:nvSpPr>
        <p:spPr>
          <a:xfrm>
            <a:off x="990720" y="44136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用相位平衡条件判断下图电路能否产生自激振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4091040" y="2185200"/>
            <a:ext cx="252360" cy="25236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V="1">
            <a:off x="5767560" y="3099600"/>
            <a:ext cx="252360" cy="25236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5157720" y="3938040"/>
            <a:ext cx="252360" cy="25236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791240" y="3214800"/>
            <a:ext cx="69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200400" y="2895480"/>
            <a:ext cx="69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9%93%E5%BC%80%E6%97%B6%E5%A5%8F%E4%B9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3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80880" y="318960"/>
            <a:ext cx="6019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8.3.2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点式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L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振荡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subTitle"/>
          </p:nvPr>
        </p:nvSpPr>
        <p:spPr>
          <a:xfrm>
            <a:off x="457200" y="852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感三点式振荡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917960" y="2390040"/>
            <a:ext cx="6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076400" y="1708920"/>
            <a:ext cx="82080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反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858000" y="4205160"/>
            <a:ext cx="914400" cy="914400"/>
          </a:xfrm>
          <a:prstGeom prst="rect">
            <a:avLst/>
          </a:prstGeom>
          <a:noFill/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343400" y="1004760"/>
            <a:ext cx="1752480" cy="34290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934320" y="2757600"/>
            <a:ext cx="1218960" cy="2743200"/>
          </a:xfrm>
          <a:prstGeom prst="rect">
            <a:avLst/>
          </a:prstGeom>
          <a:noFill/>
          <a:ln w="2844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362320" y="1614600"/>
            <a:ext cx="1676160" cy="609480"/>
          </a:xfrm>
          <a:prstGeom prst="wedgeRoundRectCallout">
            <a:avLst>
              <a:gd name="adj1" fmla="val 89013"/>
              <a:gd name="adj2" fmla="val 75782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放大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086600" y="1995480"/>
            <a:ext cx="1676520" cy="609480"/>
          </a:xfrm>
          <a:prstGeom prst="wedgeRoundRectCallout">
            <a:avLst>
              <a:gd name="adj1" fmla="val -16949"/>
              <a:gd name="adj2" fmla="val 175782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选频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800600" y="4586400"/>
            <a:ext cx="1676520" cy="609480"/>
          </a:xfrm>
          <a:prstGeom prst="wedgeRoundRectCallout">
            <a:avLst>
              <a:gd name="adj1" fmla="val 81629"/>
              <a:gd name="adj2" fmla="val -21615"/>
              <a:gd name="adj3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反馈网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92040" y="2924280"/>
                <a:ext cx="3252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05" name=""/>
          <p:cNvGrpSpPr/>
          <p:nvPr/>
        </p:nvGrpSpPr>
        <p:grpSpPr>
          <a:xfrm>
            <a:off x="4038480" y="1233360"/>
            <a:ext cx="4441680" cy="4076640"/>
            <a:chOff x="4038480" y="1233360"/>
            <a:chExt cx="4441680" cy="4076640"/>
          </a:xfrm>
        </p:grpSpPr>
        <p:sp>
          <p:nvSpPr>
            <p:cNvPr id="1306" name=""/>
            <p:cNvSpPr/>
            <p:nvPr/>
          </p:nvSpPr>
          <p:spPr>
            <a:xfrm>
              <a:off x="7315200" y="3138480"/>
              <a:ext cx="85680" cy="85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637240" y="3779640"/>
              <a:ext cx="0" cy="3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238880" y="496728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846680" y="2174760"/>
              <a:ext cx="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846680" y="3717720"/>
              <a:ext cx="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1" name=""/>
            <p:cNvGrpSpPr/>
            <p:nvPr/>
          </p:nvGrpSpPr>
          <p:grpSpPr>
            <a:xfrm>
              <a:off x="7086600" y="4357800"/>
              <a:ext cx="180720" cy="596520"/>
              <a:chOff x="7086600" y="4357800"/>
              <a:chExt cx="180720" cy="596520"/>
            </a:xfrm>
          </p:grpSpPr>
          <p:sp>
            <p:nvSpPr>
              <p:cNvPr id="1312" name=""/>
              <p:cNvSpPr/>
              <p:nvPr/>
            </p:nvSpPr>
            <p:spPr>
              <a:xfrm rot="10800000">
                <a:off x="7086600" y="4730040"/>
                <a:ext cx="180720" cy="22428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rot="10800000">
                <a:off x="7086600" y="4534200"/>
                <a:ext cx="180720" cy="22428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rot="16200000">
                <a:off x="7076520" y="4367520"/>
                <a:ext cx="200520" cy="18072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5" name=""/>
            <p:cNvSpPr/>
            <p:nvPr/>
          </p:nvSpPr>
          <p:spPr>
            <a:xfrm flipH="1">
              <a:off x="4041720" y="2881080"/>
              <a:ext cx="311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852800" y="1277640"/>
              <a:ext cx="22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7" name=""/>
            <p:cNvGrpSpPr/>
            <p:nvPr/>
          </p:nvGrpSpPr>
          <p:grpSpPr>
            <a:xfrm>
              <a:off x="5397480" y="2714400"/>
              <a:ext cx="284040" cy="381240"/>
              <a:chOff x="5397480" y="2714400"/>
              <a:chExt cx="284040" cy="381240"/>
            </a:xfrm>
          </p:grpSpPr>
          <p:sp>
            <p:nvSpPr>
              <p:cNvPr id="1318" name=""/>
              <p:cNvSpPr/>
              <p:nvPr/>
            </p:nvSpPr>
            <p:spPr>
              <a:xfrm>
                <a:off x="5397480" y="271440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V="1">
                <a:off x="5397480" y="2721600"/>
                <a:ext cx="284040" cy="18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406120" y="2912400"/>
                <a:ext cx="275040" cy="17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1" name=""/>
            <p:cNvSpPr/>
            <p:nvPr/>
          </p:nvSpPr>
          <p:spPr>
            <a:xfrm>
              <a:off x="4435200" y="2882880"/>
              <a:ext cx="87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840200" y="1271520"/>
              <a:ext cx="0" cy="5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4825800" y="2882880"/>
              <a:ext cx="57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648040" y="3081240"/>
              <a:ext cx="0" cy="34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5638680" y="2147400"/>
              <a:ext cx="0" cy="59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876560" y="4128840"/>
              <a:ext cx="235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610240" y="4093920"/>
              <a:ext cx="71280" cy="60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092720" y="1239840"/>
              <a:ext cx="69840" cy="5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778280" y="1803240"/>
              <a:ext cx="123840" cy="366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779720" y="3352680"/>
              <a:ext cx="123840" cy="365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575320" y="3417840"/>
              <a:ext cx="125280" cy="36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648040" y="3233520"/>
              <a:ext cx="336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983200" y="3241440"/>
              <a:ext cx="0" cy="3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983200" y="3705120"/>
              <a:ext cx="0" cy="44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5824440" y="3585960"/>
              <a:ext cx="285840" cy="98640"/>
              <a:chOff x="5824440" y="3585960"/>
              <a:chExt cx="285840" cy="98640"/>
            </a:xfrm>
          </p:grpSpPr>
          <p:sp>
            <p:nvSpPr>
              <p:cNvPr id="1336" name=""/>
              <p:cNvSpPr/>
              <p:nvPr/>
            </p:nvSpPr>
            <p:spPr>
              <a:xfrm>
                <a:off x="5833080" y="3585960"/>
                <a:ext cx="2682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824440" y="3585960"/>
                <a:ext cx="2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824440" y="3684600"/>
                <a:ext cx="2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9" name=""/>
            <p:cNvGrpSpPr/>
            <p:nvPr/>
          </p:nvGrpSpPr>
          <p:grpSpPr>
            <a:xfrm>
              <a:off x="4330080" y="2770200"/>
              <a:ext cx="117720" cy="244440"/>
              <a:chOff x="4330080" y="2770200"/>
              <a:chExt cx="117720" cy="244440"/>
            </a:xfrm>
          </p:grpSpPr>
          <p:sp>
            <p:nvSpPr>
              <p:cNvPr id="1340" name=""/>
              <p:cNvSpPr/>
              <p:nvPr/>
            </p:nvSpPr>
            <p:spPr>
              <a:xfrm rot="5400000">
                <a:off x="4278600" y="2837520"/>
                <a:ext cx="229320" cy="1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447800" y="2770200"/>
                <a:ext cx="0" cy="24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330080" y="2770200"/>
                <a:ext cx="0" cy="24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3" name=""/>
            <p:cNvSpPr/>
            <p:nvPr/>
          </p:nvSpPr>
          <p:spPr>
            <a:xfrm>
              <a:off x="4038480" y="2874960"/>
              <a:ext cx="0" cy="239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038480" y="5271840"/>
              <a:ext cx="385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808520" y="2851200"/>
              <a:ext cx="7596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831000" y="1233360"/>
              <a:ext cx="101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+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160880" y="2300040"/>
              <a:ext cx="874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8" name=""/>
            <p:cNvGrpSpPr/>
            <p:nvPr/>
          </p:nvGrpSpPr>
          <p:grpSpPr>
            <a:xfrm>
              <a:off x="5500440" y="4101840"/>
              <a:ext cx="266760" cy="214560"/>
              <a:chOff x="5500440" y="4101840"/>
              <a:chExt cx="266760" cy="214560"/>
            </a:xfrm>
          </p:grpSpPr>
          <p:sp>
            <p:nvSpPr>
              <p:cNvPr id="1349" name=""/>
              <p:cNvSpPr/>
              <p:nvPr/>
            </p:nvSpPr>
            <p:spPr>
              <a:xfrm>
                <a:off x="5642280" y="4101840"/>
                <a:ext cx="0" cy="21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500440" y="4300920"/>
                <a:ext cx="266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1" name=""/>
            <p:cNvSpPr/>
            <p:nvPr/>
          </p:nvSpPr>
          <p:spPr>
            <a:xfrm flipV="1">
              <a:off x="5654520" y="126648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638680" y="2452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248160" y="2452680"/>
              <a:ext cx="12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581440" y="1779480"/>
              <a:ext cx="125640" cy="36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091040" y="1626840"/>
              <a:ext cx="850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084560" y="3197160"/>
              <a:ext cx="844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984560" y="3268440"/>
              <a:ext cx="684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059520" y="3367080"/>
              <a:ext cx="874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238880" y="321444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8001000" y="3609720"/>
              <a:ext cx="47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315200" y="4348080"/>
              <a:ext cx="85680" cy="85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7731000" y="3770280"/>
              <a:ext cx="285840" cy="98280"/>
              <a:chOff x="7731000" y="3770280"/>
              <a:chExt cx="285840" cy="98280"/>
            </a:xfrm>
          </p:grpSpPr>
          <p:sp>
            <p:nvSpPr>
              <p:cNvPr id="1363" name=""/>
              <p:cNvSpPr/>
              <p:nvPr/>
            </p:nvSpPr>
            <p:spPr>
              <a:xfrm flipH="1">
                <a:off x="7739640" y="3770280"/>
                <a:ext cx="26820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H="1">
                <a:off x="7731000" y="3770280"/>
                <a:ext cx="2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H="1">
                <a:off x="7731000" y="3868560"/>
                <a:ext cx="2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6" name=""/>
            <p:cNvSpPr/>
            <p:nvPr/>
          </p:nvSpPr>
          <p:spPr>
            <a:xfrm flipV="1">
              <a:off x="7877160" y="2985840"/>
              <a:ext cx="0" cy="76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259400" y="3819240"/>
              <a:ext cx="0" cy="52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7259400" y="298548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259400" y="2985840"/>
              <a:ext cx="61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7877160" y="3852720"/>
              <a:ext cx="0" cy="145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1" name=""/>
            <p:cNvGrpSpPr/>
            <p:nvPr/>
          </p:nvGrpSpPr>
          <p:grpSpPr>
            <a:xfrm>
              <a:off x="7088040" y="3120840"/>
              <a:ext cx="182160" cy="712080"/>
              <a:chOff x="7088040" y="3120840"/>
              <a:chExt cx="182160" cy="712080"/>
            </a:xfrm>
          </p:grpSpPr>
          <p:sp>
            <p:nvSpPr>
              <p:cNvPr id="1372" name=""/>
              <p:cNvSpPr/>
              <p:nvPr/>
            </p:nvSpPr>
            <p:spPr>
              <a:xfrm rot="10800000">
                <a:off x="7089480" y="3454920"/>
                <a:ext cx="180720" cy="20160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rot="10800000">
                <a:off x="7089480" y="3278880"/>
                <a:ext cx="180720" cy="20160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rot="16200000">
                <a:off x="7089840" y="3120480"/>
                <a:ext cx="180000" cy="18072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rot="10800000">
                <a:off x="7088040" y="3630960"/>
                <a:ext cx="180720" cy="20196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6" name=""/>
            <p:cNvGrpSpPr/>
            <p:nvPr/>
          </p:nvGrpSpPr>
          <p:grpSpPr>
            <a:xfrm>
              <a:off x="6095880" y="2300040"/>
              <a:ext cx="123840" cy="304920"/>
              <a:chOff x="6095880" y="2300040"/>
              <a:chExt cx="123840" cy="304920"/>
            </a:xfrm>
          </p:grpSpPr>
          <p:sp>
            <p:nvSpPr>
              <p:cNvPr id="1377" name=""/>
              <p:cNvSpPr/>
              <p:nvPr/>
            </p:nvSpPr>
            <p:spPr>
              <a:xfrm rot="5400000">
                <a:off x="6019560" y="2395440"/>
                <a:ext cx="28548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219720" y="23000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095880" y="23000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 flipV="1">
              <a:off x="7543800" y="24523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238880" y="443376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876560" y="1660320"/>
              <a:ext cx="85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3" name=""/>
          <p:cNvSpPr/>
          <p:nvPr/>
        </p:nvSpPr>
        <p:spPr>
          <a:xfrm flipV="1">
            <a:off x="5715000" y="2147760"/>
            <a:ext cx="252360" cy="25272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7520040" y="4257000"/>
            <a:ext cx="252360" cy="25236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391520" y="4829040"/>
            <a:ext cx="69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943520" y="2833560"/>
            <a:ext cx="69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57200" y="2452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振荡频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04920" y="4064040"/>
            <a:ext cx="3504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常改变电容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来调节振荡频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492240" y="5470560"/>
            <a:ext cx="1866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馈电压取自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04920" y="5276880"/>
            <a:ext cx="5486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振荡频率一般在几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H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5105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容三点式振荡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917960" y="1918440"/>
            <a:ext cx="6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076400" y="1213560"/>
            <a:ext cx="82080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反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858000" y="3733920"/>
            <a:ext cx="914400" cy="914400"/>
          </a:xfrm>
          <a:prstGeom prst="rect">
            <a:avLst/>
          </a:prstGeom>
          <a:noFill/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343400" y="533520"/>
            <a:ext cx="1752480" cy="34290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934320" y="2286000"/>
            <a:ext cx="1218960" cy="2666880"/>
          </a:xfrm>
          <a:prstGeom prst="rect">
            <a:avLst/>
          </a:prstGeom>
          <a:noFill/>
          <a:ln w="2844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362320" y="1143000"/>
            <a:ext cx="1676160" cy="609480"/>
          </a:xfrm>
          <a:prstGeom prst="wedgeRoundRectCallout">
            <a:avLst>
              <a:gd name="adj1" fmla="val 89013"/>
              <a:gd name="adj2" fmla="val 75782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放大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800600" y="4114800"/>
            <a:ext cx="1676520" cy="609480"/>
          </a:xfrm>
          <a:prstGeom prst="wedgeRoundRectCallout">
            <a:avLst>
              <a:gd name="adj1" fmla="val 81629"/>
              <a:gd name="adj2" fmla="val -21615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反馈网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5715000" y="1675800"/>
            <a:ext cx="252360" cy="25236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7315200" y="2590200"/>
            <a:ext cx="252360" cy="25236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238880" y="4357800"/>
            <a:ext cx="6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943520" y="2362320"/>
            <a:ext cx="69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33520" y="1905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振荡频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80880" y="3975120"/>
            <a:ext cx="403884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常再与线圈串联一个较小的可变电容来调节振荡频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482520" y="4922640"/>
            <a:ext cx="1886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馈电压取自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473040" y="2149560"/>
                <a:ext cx="3245040" cy="16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07" name=""/>
          <p:cNvGrpSpPr/>
          <p:nvPr/>
        </p:nvGrpSpPr>
        <p:grpSpPr>
          <a:xfrm>
            <a:off x="4038480" y="762120"/>
            <a:ext cx="4496040" cy="4071600"/>
            <a:chOff x="4038480" y="762120"/>
            <a:chExt cx="4496040" cy="4071600"/>
          </a:xfrm>
        </p:grpSpPr>
        <p:sp>
          <p:nvSpPr>
            <p:cNvPr id="1408" name=""/>
            <p:cNvSpPr/>
            <p:nvPr/>
          </p:nvSpPr>
          <p:spPr>
            <a:xfrm>
              <a:off x="5637240" y="3308760"/>
              <a:ext cx="0" cy="34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257960" y="42292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846680" y="1703520"/>
              <a:ext cx="0" cy="117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846680" y="324684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4041720" y="2410200"/>
              <a:ext cx="311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853160" y="806760"/>
              <a:ext cx="223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4" name=""/>
            <p:cNvGrpSpPr/>
            <p:nvPr/>
          </p:nvGrpSpPr>
          <p:grpSpPr>
            <a:xfrm>
              <a:off x="5397480" y="2243520"/>
              <a:ext cx="284040" cy="380880"/>
              <a:chOff x="5397480" y="2243520"/>
              <a:chExt cx="284040" cy="380880"/>
            </a:xfrm>
          </p:grpSpPr>
          <p:sp>
            <p:nvSpPr>
              <p:cNvPr id="1415" name=""/>
              <p:cNvSpPr/>
              <p:nvPr/>
            </p:nvSpPr>
            <p:spPr>
              <a:xfrm>
                <a:off x="5397480" y="224352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V="1">
                <a:off x="5397480" y="2250360"/>
                <a:ext cx="28404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406120" y="2441520"/>
                <a:ext cx="275040" cy="17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8" name=""/>
            <p:cNvSpPr/>
            <p:nvPr/>
          </p:nvSpPr>
          <p:spPr>
            <a:xfrm>
              <a:off x="4435560" y="2411640"/>
              <a:ext cx="87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840200" y="800280"/>
              <a:ext cx="0" cy="5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4825800" y="2411640"/>
              <a:ext cx="571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648400" y="2610000"/>
              <a:ext cx="0" cy="34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V="1">
              <a:off x="5638680" y="1676520"/>
              <a:ext cx="0" cy="59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876920" y="3657960"/>
              <a:ext cx="237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610240" y="3623040"/>
              <a:ext cx="71280" cy="60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093080" y="768600"/>
              <a:ext cx="69840" cy="5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778280" y="1332000"/>
              <a:ext cx="123840" cy="366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780080" y="2881440"/>
              <a:ext cx="123840" cy="365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75320" y="2946600"/>
              <a:ext cx="125280" cy="36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48400" y="2762640"/>
              <a:ext cx="336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983200" y="2770560"/>
              <a:ext cx="0" cy="3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983200" y="3233880"/>
              <a:ext cx="0" cy="44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2" name=""/>
            <p:cNvGrpSpPr/>
            <p:nvPr/>
          </p:nvGrpSpPr>
          <p:grpSpPr>
            <a:xfrm>
              <a:off x="5824440" y="3115080"/>
              <a:ext cx="285840" cy="98280"/>
              <a:chOff x="5824440" y="3115080"/>
              <a:chExt cx="285840" cy="98280"/>
            </a:xfrm>
          </p:grpSpPr>
          <p:sp>
            <p:nvSpPr>
              <p:cNvPr id="1433" name=""/>
              <p:cNvSpPr/>
              <p:nvPr/>
            </p:nvSpPr>
            <p:spPr>
              <a:xfrm>
                <a:off x="5833080" y="3115080"/>
                <a:ext cx="26820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824440" y="3115080"/>
                <a:ext cx="2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824440" y="3213360"/>
                <a:ext cx="2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6" name=""/>
            <p:cNvGrpSpPr/>
            <p:nvPr/>
          </p:nvGrpSpPr>
          <p:grpSpPr>
            <a:xfrm>
              <a:off x="4330800" y="2298960"/>
              <a:ext cx="117360" cy="244440"/>
              <a:chOff x="4330800" y="2298960"/>
              <a:chExt cx="117360" cy="244440"/>
            </a:xfrm>
          </p:grpSpPr>
          <p:sp>
            <p:nvSpPr>
              <p:cNvPr id="1437" name=""/>
              <p:cNvSpPr/>
              <p:nvPr/>
            </p:nvSpPr>
            <p:spPr>
              <a:xfrm rot="5400000">
                <a:off x="4279320" y="2366640"/>
                <a:ext cx="229320" cy="1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4448160" y="2298960"/>
                <a:ext cx="0" cy="24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330800" y="2298960"/>
                <a:ext cx="0" cy="24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0" name=""/>
            <p:cNvSpPr/>
            <p:nvPr/>
          </p:nvSpPr>
          <p:spPr>
            <a:xfrm>
              <a:off x="4038480" y="2403720"/>
              <a:ext cx="0" cy="239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038480" y="4800960"/>
              <a:ext cx="385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808520" y="2379960"/>
              <a:ext cx="7632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831000" y="762120"/>
              <a:ext cx="1017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+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160880" y="1829160"/>
              <a:ext cx="874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5" name=""/>
            <p:cNvGrpSpPr/>
            <p:nvPr/>
          </p:nvGrpSpPr>
          <p:grpSpPr>
            <a:xfrm>
              <a:off x="5500800" y="3630960"/>
              <a:ext cx="266760" cy="214200"/>
              <a:chOff x="5500800" y="3630960"/>
              <a:chExt cx="266760" cy="214200"/>
            </a:xfrm>
          </p:grpSpPr>
          <p:sp>
            <p:nvSpPr>
              <p:cNvPr id="1446" name=""/>
              <p:cNvSpPr/>
              <p:nvPr/>
            </p:nvSpPr>
            <p:spPr>
              <a:xfrm>
                <a:off x="5642640" y="3630960"/>
                <a:ext cx="0" cy="21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500800" y="3829680"/>
                <a:ext cx="266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8" name=""/>
            <p:cNvSpPr/>
            <p:nvPr/>
          </p:nvSpPr>
          <p:spPr>
            <a:xfrm flipV="1">
              <a:off x="5654520" y="79524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638680" y="19814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248520" y="198144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581800" y="1308240"/>
              <a:ext cx="125280" cy="36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091040" y="1155960"/>
              <a:ext cx="850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084560" y="2725920"/>
              <a:ext cx="844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984920" y="2797200"/>
              <a:ext cx="684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059520" y="2895840"/>
              <a:ext cx="874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315200" y="274356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055000" y="3291120"/>
              <a:ext cx="47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8" name=""/>
            <p:cNvGrpSpPr/>
            <p:nvPr/>
          </p:nvGrpSpPr>
          <p:grpSpPr>
            <a:xfrm>
              <a:off x="7110360" y="4115160"/>
              <a:ext cx="285840" cy="98280"/>
              <a:chOff x="7110360" y="4115160"/>
              <a:chExt cx="285840" cy="98280"/>
            </a:xfrm>
          </p:grpSpPr>
          <p:sp>
            <p:nvSpPr>
              <p:cNvPr id="1459" name=""/>
              <p:cNvSpPr/>
              <p:nvPr/>
            </p:nvSpPr>
            <p:spPr>
              <a:xfrm flipH="1">
                <a:off x="7119000" y="4115160"/>
                <a:ext cx="26820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>
                <a:off x="7110360" y="4115160"/>
                <a:ext cx="2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H="1">
                <a:off x="7110360" y="4213440"/>
                <a:ext cx="2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2" name=""/>
            <p:cNvSpPr/>
            <p:nvPr/>
          </p:nvSpPr>
          <p:spPr>
            <a:xfrm flipV="1">
              <a:off x="7877160" y="2514960"/>
              <a:ext cx="0" cy="76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259760" y="3056040"/>
              <a:ext cx="0" cy="106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>
              <a:off x="7259760" y="2514600"/>
              <a:ext cx="0" cy="45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259760" y="2514960"/>
              <a:ext cx="61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V="1">
              <a:off x="7877160" y="3952800"/>
              <a:ext cx="0" cy="88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7" name=""/>
            <p:cNvGrpSpPr/>
            <p:nvPr/>
          </p:nvGrpSpPr>
          <p:grpSpPr>
            <a:xfrm>
              <a:off x="7894800" y="3249720"/>
              <a:ext cx="182160" cy="712080"/>
              <a:chOff x="7894800" y="3249720"/>
              <a:chExt cx="182160" cy="712080"/>
            </a:xfrm>
          </p:grpSpPr>
          <p:sp>
            <p:nvSpPr>
              <p:cNvPr id="1468" name=""/>
              <p:cNvSpPr/>
              <p:nvPr/>
            </p:nvSpPr>
            <p:spPr>
              <a:xfrm flipH="1" rot="10800000">
                <a:off x="7894800" y="3583800"/>
                <a:ext cx="180720" cy="20160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H="1" rot="10800000">
                <a:off x="7894800" y="3407760"/>
                <a:ext cx="180720" cy="20160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H="1" rot="5400000">
                <a:off x="7895160" y="3249360"/>
                <a:ext cx="180000" cy="18072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H="1" rot="10800000">
                <a:off x="7896240" y="3759840"/>
                <a:ext cx="180720" cy="20196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2" name=""/>
            <p:cNvGrpSpPr/>
            <p:nvPr/>
          </p:nvGrpSpPr>
          <p:grpSpPr>
            <a:xfrm>
              <a:off x="6095880" y="1829160"/>
              <a:ext cx="123840" cy="304560"/>
              <a:chOff x="6095880" y="1829160"/>
              <a:chExt cx="123840" cy="304560"/>
            </a:xfrm>
          </p:grpSpPr>
          <p:sp>
            <p:nvSpPr>
              <p:cNvPr id="1473" name=""/>
              <p:cNvSpPr/>
              <p:nvPr/>
            </p:nvSpPr>
            <p:spPr>
              <a:xfrm rot="5400000">
                <a:off x="6019560" y="1923840"/>
                <a:ext cx="28512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219720" y="18291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6095880" y="18291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6" name=""/>
            <p:cNvSpPr/>
            <p:nvPr/>
          </p:nvSpPr>
          <p:spPr>
            <a:xfrm flipV="1">
              <a:off x="7543800" y="198144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315200" y="396252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876920" y="1189080"/>
              <a:ext cx="850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9" name=""/>
            <p:cNvGrpSpPr/>
            <p:nvPr/>
          </p:nvGrpSpPr>
          <p:grpSpPr>
            <a:xfrm>
              <a:off x="7118280" y="2972160"/>
              <a:ext cx="285840" cy="98280"/>
              <a:chOff x="7118280" y="2972160"/>
              <a:chExt cx="285840" cy="98280"/>
            </a:xfrm>
          </p:grpSpPr>
          <p:sp>
            <p:nvSpPr>
              <p:cNvPr id="1480" name=""/>
              <p:cNvSpPr/>
              <p:nvPr/>
            </p:nvSpPr>
            <p:spPr>
              <a:xfrm flipH="1">
                <a:off x="7126920" y="2972160"/>
                <a:ext cx="26820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flipH="1">
                <a:off x="7118280" y="2972160"/>
                <a:ext cx="2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7118280" y="3070440"/>
                <a:ext cx="2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3" name=""/>
          <p:cNvGrpSpPr/>
          <p:nvPr/>
        </p:nvGrpSpPr>
        <p:grpSpPr>
          <a:xfrm>
            <a:off x="7696080" y="2743200"/>
            <a:ext cx="1211760" cy="1981080"/>
            <a:chOff x="7696080" y="2743200"/>
            <a:chExt cx="1211760" cy="1981080"/>
          </a:xfrm>
        </p:grpSpPr>
        <p:sp>
          <p:nvSpPr>
            <p:cNvPr id="1484" name=""/>
            <p:cNvSpPr/>
            <p:nvPr/>
          </p:nvSpPr>
          <p:spPr>
            <a:xfrm>
              <a:off x="7696080" y="2743200"/>
              <a:ext cx="762120" cy="1981080"/>
            </a:xfrm>
            <a:custGeom>
              <a:avLst/>
              <a:gdLst/>
              <a:ahLst/>
              <a:rect l="l" t="t" r="r" b="b"/>
              <a:pathLst>
                <a:path w="300" h="1908">
                  <a:moveTo>
                    <a:pt x="0" y="0"/>
                  </a:moveTo>
                  <a:cubicBezTo>
                    <a:pt x="85" y="86"/>
                    <a:pt x="196" y="168"/>
                    <a:pt x="240" y="372"/>
                  </a:cubicBezTo>
                  <a:cubicBezTo>
                    <a:pt x="284" y="576"/>
                    <a:pt x="300" y="968"/>
                    <a:pt x="264" y="1224"/>
                  </a:cubicBezTo>
                  <a:cubicBezTo>
                    <a:pt x="228" y="1480"/>
                    <a:pt x="74" y="1766"/>
                    <a:pt x="24" y="19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8300520" y="41140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反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" name=""/>
          <p:cNvSpPr/>
          <p:nvPr/>
        </p:nvSpPr>
        <p:spPr>
          <a:xfrm>
            <a:off x="304920" y="5479920"/>
            <a:ext cx="571500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振荡频率可达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00MHz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以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086600" y="1523880"/>
            <a:ext cx="1676520" cy="609840"/>
          </a:xfrm>
          <a:prstGeom prst="wedgeRoundRectCallout">
            <a:avLst>
              <a:gd name="adj1" fmla="val -16949"/>
              <a:gd name="adj2" fmla="val 175782"/>
              <a:gd name="adj3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选频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6%89%93%E5%BC%80%E6%97%B6%E5%A5%8F%E4%B9%90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E6%84%9F%E5%8F%B9%E6%97%B6%E5%A5%8F%E4%B9%90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E6%84%9F%E5%8F%B9%E6%97%B6%E5%A5%8F%E4%B9%90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1066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33520" y="874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示电路能否产生正弦波振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不能振荡，加以改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0" name=""/>
          <p:cNvGrpSpPr/>
          <p:nvPr/>
        </p:nvGrpSpPr>
        <p:grpSpPr>
          <a:xfrm>
            <a:off x="4343400" y="1576440"/>
            <a:ext cx="3962520" cy="3257280"/>
            <a:chOff x="4343400" y="1576440"/>
            <a:chExt cx="3962520" cy="3257280"/>
          </a:xfrm>
        </p:grpSpPr>
        <p:sp>
          <p:nvSpPr>
            <p:cNvPr id="1491" name=""/>
            <p:cNvSpPr/>
            <p:nvPr/>
          </p:nvSpPr>
          <p:spPr>
            <a:xfrm>
              <a:off x="5791320" y="22294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983560" y="4302720"/>
              <a:ext cx="0" cy="34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105520" y="2717280"/>
              <a:ext cx="0" cy="115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105520" y="4241880"/>
              <a:ext cx="0" cy="42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135760" y="1613160"/>
              <a:ext cx="248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6" name=""/>
            <p:cNvGrpSpPr/>
            <p:nvPr/>
          </p:nvGrpSpPr>
          <p:grpSpPr>
            <a:xfrm>
              <a:off x="5716800" y="3250800"/>
              <a:ext cx="317160" cy="377280"/>
              <a:chOff x="5716800" y="3250800"/>
              <a:chExt cx="317160" cy="377280"/>
            </a:xfrm>
          </p:grpSpPr>
          <p:sp>
            <p:nvSpPr>
              <p:cNvPr id="1497" name=""/>
              <p:cNvSpPr/>
              <p:nvPr/>
            </p:nvSpPr>
            <p:spPr>
              <a:xfrm>
                <a:off x="5716800" y="3250800"/>
                <a:ext cx="0" cy="37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V="1">
                <a:off x="5716800" y="3257640"/>
                <a:ext cx="317160" cy="1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726520" y="3447000"/>
                <a:ext cx="307440" cy="17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0" name=""/>
            <p:cNvSpPr/>
            <p:nvPr/>
          </p:nvSpPr>
          <p:spPr>
            <a:xfrm>
              <a:off x="5105520" y="3417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105520" y="1604160"/>
              <a:ext cx="0" cy="75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996160" y="3612960"/>
              <a:ext cx="0" cy="34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6019920" y="3021480"/>
              <a:ext cx="0" cy="25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135760" y="4649400"/>
              <a:ext cx="12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954760" y="4614120"/>
              <a:ext cx="77760" cy="59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624800" y="1576440"/>
              <a:ext cx="77760" cy="56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043600" y="2351160"/>
              <a:ext cx="138240" cy="362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031000" y="3880800"/>
              <a:ext cx="137880" cy="362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915160" y="3945600"/>
              <a:ext cx="139680" cy="363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996160" y="3753720"/>
              <a:ext cx="133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369120" y="3771720"/>
              <a:ext cx="0" cy="32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369120" y="4230360"/>
              <a:ext cx="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3" name=""/>
            <p:cNvGrpSpPr/>
            <p:nvPr/>
          </p:nvGrpSpPr>
          <p:grpSpPr>
            <a:xfrm>
              <a:off x="6193080" y="4112280"/>
              <a:ext cx="317160" cy="97560"/>
              <a:chOff x="6193080" y="4112280"/>
              <a:chExt cx="317160" cy="97560"/>
            </a:xfrm>
          </p:grpSpPr>
          <p:sp>
            <p:nvSpPr>
              <p:cNvPr id="1514" name=""/>
              <p:cNvSpPr/>
              <p:nvPr/>
            </p:nvSpPr>
            <p:spPr>
              <a:xfrm>
                <a:off x="6202800" y="4112280"/>
                <a:ext cx="297720" cy="9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6193080" y="4112280"/>
                <a:ext cx="317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6193080" y="4209840"/>
                <a:ext cx="317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7" name=""/>
            <p:cNvGrpSpPr/>
            <p:nvPr/>
          </p:nvGrpSpPr>
          <p:grpSpPr>
            <a:xfrm>
              <a:off x="6324840" y="2046600"/>
              <a:ext cx="317160" cy="97560"/>
              <a:chOff x="6324840" y="2046600"/>
              <a:chExt cx="317160" cy="97560"/>
            </a:xfrm>
          </p:grpSpPr>
          <p:sp>
            <p:nvSpPr>
              <p:cNvPr id="1518" name=""/>
              <p:cNvSpPr/>
              <p:nvPr/>
            </p:nvSpPr>
            <p:spPr>
              <a:xfrm>
                <a:off x="6334560" y="2046600"/>
                <a:ext cx="297720" cy="9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324840" y="2046600"/>
                <a:ext cx="317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324840" y="2144160"/>
                <a:ext cx="317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1" name=""/>
            <p:cNvSpPr/>
            <p:nvPr/>
          </p:nvSpPr>
          <p:spPr>
            <a:xfrm flipV="1">
              <a:off x="6477120" y="2140200"/>
              <a:ext cx="0" cy="55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767560" y="1863360"/>
              <a:ext cx="0" cy="24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6477120" y="1850400"/>
              <a:ext cx="0" cy="2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5752800" y="1850760"/>
              <a:ext cx="723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315200" y="2412360"/>
              <a:ext cx="0" cy="134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175520" y="1619640"/>
              <a:ext cx="113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+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572520" y="1863360"/>
              <a:ext cx="97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8" name=""/>
            <p:cNvGrpSpPr/>
            <p:nvPr/>
          </p:nvGrpSpPr>
          <p:grpSpPr>
            <a:xfrm>
              <a:off x="5832720" y="4621680"/>
              <a:ext cx="296280" cy="212040"/>
              <a:chOff x="5832720" y="4621680"/>
              <a:chExt cx="296280" cy="212040"/>
            </a:xfrm>
          </p:grpSpPr>
          <p:sp>
            <p:nvSpPr>
              <p:cNvPr id="1529" name=""/>
              <p:cNvSpPr/>
              <p:nvPr/>
            </p:nvSpPr>
            <p:spPr>
              <a:xfrm>
                <a:off x="5990400" y="4621680"/>
                <a:ext cx="0" cy="21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832720" y="4818600"/>
                <a:ext cx="29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1" name=""/>
            <p:cNvSpPr/>
            <p:nvPr/>
          </p:nvSpPr>
          <p:spPr>
            <a:xfrm>
              <a:off x="6477120" y="241236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5740560" y="2777760"/>
              <a:ext cx="0" cy="25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5752800" y="3021840"/>
              <a:ext cx="723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V="1">
              <a:off x="6096240" y="1602720"/>
              <a:ext cx="0" cy="24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419720" y="215856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343400" y="373356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257800" y="379368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496200" y="3936960"/>
              <a:ext cx="971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9" name=""/>
            <p:cNvGrpSpPr/>
            <p:nvPr/>
          </p:nvGrpSpPr>
          <p:grpSpPr>
            <a:xfrm>
              <a:off x="5589360" y="2073960"/>
              <a:ext cx="202680" cy="703800"/>
              <a:chOff x="5589360" y="2073960"/>
              <a:chExt cx="202680" cy="703800"/>
            </a:xfrm>
          </p:grpSpPr>
          <p:sp>
            <p:nvSpPr>
              <p:cNvPr id="1540" name=""/>
              <p:cNvSpPr/>
              <p:nvPr/>
            </p:nvSpPr>
            <p:spPr>
              <a:xfrm rot="10800000">
                <a:off x="5590800" y="2404080"/>
                <a:ext cx="201240" cy="19908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rot="10800000">
                <a:off x="5590800" y="2229840"/>
                <a:ext cx="201240" cy="19908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rot="16200000">
                <a:off x="5602320" y="2062080"/>
                <a:ext cx="177480" cy="20124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rot="10800000">
                <a:off x="5589360" y="2578320"/>
                <a:ext cx="201240" cy="1994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4" name=""/>
            <p:cNvGrpSpPr/>
            <p:nvPr/>
          </p:nvGrpSpPr>
          <p:grpSpPr>
            <a:xfrm>
              <a:off x="6324840" y="2680200"/>
              <a:ext cx="317160" cy="97920"/>
              <a:chOff x="6324840" y="2680200"/>
              <a:chExt cx="317160" cy="97920"/>
            </a:xfrm>
          </p:grpSpPr>
          <p:sp>
            <p:nvSpPr>
              <p:cNvPr id="1545" name=""/>
              <p:cNvSpPr/>
              <p:nvPr/>
            </p:nvSpPr>
            <p:spPr>
              <a:xfrm>
                <a:off x="6334560" y="2680200"/>
                <a:ext cx="297720" cy="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324840" y="2680200"/>
                <a:ext cx="317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324840" y="2778120"/>
                <a:ext cx="317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8" name=""/>
            <p:cNvSpPr/>
            <p:nvPr/>
          </p:nvSpPr>
          <p:spPr>
            <a:xfrm flipV="1">
              <a:off x="6477120" y="2765160"/>
              <a:ext cx="0" cy="25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572520" y="2532960"/>
              <a:ext cx="97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501480" y="1765440"/>
            <a:ext cx="3841920" cy="16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流电路合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旁路电容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将反馈信号旁路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电路中不存在反馈，所以电路不能振荡。将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开路，则电路可能产生振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078520" y="4922640"/>
            <a:ext cx="269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反馈电压取自</a:t>
            </a:r>
            <a:r>
              <a:rPr b="1" i="1" lang="zh-CN" sz="2800" spc="-1" strike="noStrike">
                <a:solidFill>
                  <a:srgbClr val="003399"/>
                </a:solidFill>
                <a:latin typeface="Times New Roman"/>
              </a:rPr>
              <a:t>C</a:t>
            </a:r>
            <a:r>
              <a:rPr b="1" lang="zh-CN" sz="2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222880" y="2979000"/>
            <a:ext cx="6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5919840" y="2726640"/>
            <a:ext cx="252360" cy="25236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086520" y="1455840"/>
            <a:ext cx="69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6172200" y="2269440"/>
            <a:ext cx="252360" cy="252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6172200" y="3436200"/>
            <a:ext cx="252360" cy="252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702560" y="2921760"/>
            <a:ext cx="820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正反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172200" y="3789360"/>
            <a:ext cx="1066680" cy="838080"/>
          </a:xfrm>
          <a:prstGeom prst="rect">
            <a:avLst/>
          </a:prstGeom>
          <a:solidFill>
            <a:srgbClr val="f6fa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380880" y="21420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半导体接近开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0" name=""/>
          <p:cNvGrpSpPr/>
          <p:nvPr/>
        </p:nvGrpSpPr>
        <p:grpSpPr>
          <a:xfrm>
            <a:off x="444600" y="2666880"/>
            <a:ext cx="7175520" cy="2708280"/>
            <a:chOff x="444600" y="2666880"/>
            <a:chExt cx="7175520" cy="2708280"/>
          </a:xfrm>
        </p:grpSpPr>
        <p:sp>
          <p:nvSpPr>
            <p:cNvPr id="1561" name=""/>
            <p:cNvSpPr/>
            <p:nvPr/>
          </p:nvSpPr>
          <p:spPr>
            <a:xfrm>
              <a:off x="2175120" y="3089160"/>
              <a:ext cx="63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584720" y="3073320"/>
              <a:ext cx="536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426040" y="3570120"/>
              <a:ext cx="71280" cy="71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435320" y="4300560"/>
              <a:ext cx="71280" cy="71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225880" y="4929120"/>
              <a:ext cx="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184400" y="3644640"/>
              <a:ext cx="0" cy="104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184400" y="4954320"/>
              <a:ext cx="0" cy="27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8" name=""/>
            <p:cNvGrpSpPr/>
            <p:nvPr/>
          </p:nvGrpSpPr>
          <p:grpSpPr>
            <a:xfrm>
              <a:off x="1432080" y="4087440"/>
              <a:ext cx="429840" cy="144720"/>
              <a:chOff x="1432080" y="4087440"/>
              <a:chExt cx="429840" cy="144720"/>
            </a:xfrm>
          </p:grpSpPr>
          <p:sp>
            <p:nvSpPr>
              <p:cNvPr id="1569" name=""/>
              <p:cNvSpPr/>
              <p:nvPr/>
            </p:nvSpPr>
            <p:spPr>
              <a:xfrm rot="16200000">
                <a:off x="1440720" y="4078800"/>
                <a:ext cx="14436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rot="16200000">
                <a:off x="1581840" y="4078800"/>
                <a:ext cx="14436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1717560" y="4087800"/>
                <a:ext cx="144360" cy="14436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2" name=""/>
            <p:cNvSpPr/>
            <p:nvPr/>
          </p:nvSpPr>
          <p:spPr>
            <a:xfrm flipH="1">
              <a:off x="1186200" y="4209840"/>
              <a:ext cx="24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190880" y="2708280"/>
              <a:ext cx="5530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4" name=""/>
            <p:cNvGrpSpPr/>
            <p:nvPr/>
          </p:nvGrpSpPr>
          <p:grpSpPr>
            <a:xfrm>
              <a:off x="2035440" y="4076640"/>
              <a:ext cx="226800" cy="304920"/>
              <a:chOff x="2035440" y="4076640"/>
              <a:chExt cx="226800" cy="304920"/>
            </a:xfrm>
          </p:grpSpPr>
          <p:sp>
            <p:nvSpPr>
              <p:cNvPr id="1575" name=""/>
              <p:cNvSpPr/>
              <p:nvPr/>
            </p:nvSpPr>
            <p:spPr>
              <a:xfrm>
                <a:off x="2035440" y="40766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V="1">
                <a:off x="2035440" y="4082760"/>
                <a:ext cx="226800" cy="14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41920" y="4235400"/>
                <a:ext cx="220320" cy="13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8" name=""/>
            <p:cNvSpPr/>
            <p:nvPr/>
          </p:nvSpPr>
          <p:spPr>
            <a:xfrm>
              <a:off x="1184400" y="2706480"/>
              <a:ext cx="0" cy="65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1861920" y="4232160"/>
              <a:ext cx="17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235600" y="4370400"/>
              <a:ext cx="0" cy="27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V="1">
              <a:off x="2256120" y="3741120"/>
              <a:ext cx="0" cy="35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165320" y="5222880"/>
              <a:ext cx="568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140120" y="3348000"/>
              <a:ext cx="98280" cy="291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130400" y="4689360"/>
              <a:ext cx="98640" cy="291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176560" y="4640040"/>
              <a:ext cx="100080" cy="293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35600" y="4492440"/>
              <a:ext cx="37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611800" y="3851280"/>
              <a:ext cx="144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613240" y="4868640"/>
              <a:ext cx="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9" name=""/>
            <p:cNvGrpSpPr/>
            <p:nvPr/>
          </p:nvGrpSpPr>
          <p:grpSpPr>
            <a:xfrm>
              <a:off x="2502000" y="4773600"/>
              <a:ext cx="228600" cy="79200"/>
              <a:chOff x="2502000" y="4773600"/>
              <a:chExt cx="228600" cy="79200"/>
            </a:xfrm>
          </p:grpSpPr>
          <p:sp>
            <p:nvSpPr>
              <p:cNvPr id="1590" name=""/>
              <p:cNvSpPr/>
              <p:nvPr/>
            </p:nvSpPr>
            <p:spPr>
              <a:xfrm>
                <a:off x="2508840" y="4773600"/>
                <a:ext cx="21456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02000" y="4773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502000" y="48528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3" name=""/>
            <p:cNvGrpSpPr/>
            <p:nvPr/>
          </p:nvGrpSpPr>
          <p:grpSpPr>
            <a:xfrm>
              <a:off x="1960920" y="3252600"/>
              <a:ext cx="228600" cy="79560"/>
              <a:chOff x="1960920" y="3252600"/>
              <a:chExt cx="228600" cy="79560"/>
            </a:xfrm>
          </p:grpSpPr>
          <p:sp>
            <p:nvSpPr>
              <p:cNvPr id="1594" name=""/>
              <p:cNvSpPr/>
              <p:nvPr/>
            </p:nvSpPr>
            <p:spPr>
              <a:xfrm>
                <a:off x="1967760" y="3252600"/>
                <a:ext cx="214560" cy="7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1960920" y="3252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1960920" y="33321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7" name=""/>
            <p:cNvSpPr/>
            <p:nvPr/>
          </p:nvSpPr>
          <p:spPr>
            <a:xfrm flipH="1" flipV="1">
              <a:off x="3416040" y="4155480"/>
              <a:ext cx="1800" cy="31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V="1">
              <a:off x="2060640" y="2941560"/>
              <a:ext cx="0" cy="31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554560" y="3608280"/>
              <a:ext cx="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V="1">
              <a:off x="2554560" y="2941560"/>
              <a:ext cx="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2060640" y="2941560"/>
              <a:ext cx="49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407120" y="446076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613240" y="3851280"/>
              <a:ext cx="80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016600" y="385128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464520" y="270828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–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778720" y="45370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E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184480" y="4003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8" name=""/>
            <p:cNvGrpSpPr/>
            <p:nvPr/>
          </p:nvGrpSpPr>
          <p:grpSpPr>
            <a:xfrm>
              <a:off x="2121120" y="5202000"/>
              <a:ext cx="212760" cy="173160"/>
              <a:chOff x="2121120" y="5202000"/>
              <a:chExt cx="212760" cy="173160"/>
            </a:xfrm>
          </p:grpSpPr>
          <p:sp>
            <p:nvSpPr>
              <p:cNvPr id="1609" name=""/>
              <p:cNvSpPr/>
              <p:nvPr/>
            </p:nvSpPr>
            <p:spPr>
              <a:xfrm>
                <a:off x="2234160" y="5202000"/>
                <a:ext cx="0" cy="17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121120" y="5362560"/>
                <a:ext cx="212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1" name=""/>
            <p:cNvSpPr/>
            <p:nvPr/>
          </p:nvSpPr>
          <p:spPr>
            <a:xfrm>
              <a:off x="3187800" y="4308480"/>
              <a:ext cx="1011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2060640" y="3341160"/>
              <a:ext cx="0" cy="39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2060640" y="3741480"/>
              <a:ext cx="49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V="1">
              <a:off x="2306880" y="270828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797640" y="4645080"/>
              <a:ext cx="98280" cy="272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44600" y="321516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97240" y="443448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663920" y="4663080"/>
              <a:ext cx="64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611800" y="4765680"/>
              <a:ext cx="69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0" name=""/>
            <p:cNvGrpSpPr/>
            <p:nvPr/>
          </p:nvGrpSpPr>
          <p:grpSpPr>
            <a:xfrm>
              <a:off x="2544120" y="3049560"/>
              <a:ext cx="130320" cy="571320"/>
              <a:chOff x="2544120" y="3049560"/>
              <a:chExt cx="130320" cy="571320"/>
            </a:xfrm>
          </p:grpSpPr>
          <p:sp>
            <p:nvSpPr>
              <p:cNvPr id="1621" name=""/>
              <p:cNvSpPr/>
              <p:nvPr/>
            </p:nvSpPr>
            <p:spPr>
              <a:xfrm flipH="1" rot="10800000">
                <a:off x="2543760" y="3317040"/>
                <a:ext cx="12924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H="1" rot="10800000">
                <a:off x="2543760" y="3175920"/>
                <a:ext cx="12924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H="1" rot="5400000">
                <a:off x="2536560" y="3056760"/>
                <a:ext cx="144000" cy="12924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H="1" rot="10800000">
                <a:off x="2544840" y="3458880"/>
                <a:ext cx="129240" cy="16200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5" name=""/>
            <p:cNvGrpSpPr/>
            <p:nvPr/>
          </p:nvGrpSpPr>
          <p:grpSpPr>
            <a:xfrm>
              <a:off x="1202040" y="4491000"/>
              <a:ext cx="385560" cy="731880"/>
              <a:chOff x="1202040" y="4491000"/>
              <a:chExt cx="385560" cy="731880"/>
            </a:xfrm>
          </p:grpSpPr>
          <p:sp>
            <p:nvSpPr>
              <p:cNvPr id="1626" name=""/>
              <p:cNvSpPr/>
              <p:nvPr/>
            </p:nvSpPr>
            <p:spPr>
              <a:xfrm>
                <a:off x="1202040" y="4491000"/>
                <a:ext cx="26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1470240" y="4497480"/>
                <a:ext cx="0" cy="266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1470240" y="4867200"/>
                <a:ext cx="0" cy="35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9" name=""/>
              <p:cNvGrpSpPr/>
              <p:nvPr/>
            </p:nvGrpSpPr>
            <p:grpSpPr>
              <a:xfrm>
                <a:off x="1359000" y="4772160"/>
                <a:ext cx="228600" cy="79200"/>
                <a:chOff x="1359000" y="4772160"/>
                <a:chExt cx="228600" cy="79200"/>
              </a:xfrm>
            </p:grpSpPr>
            <p:sp>
              <p:nvSpPr>
                <p:cNvPr id="1630" name=""/>
                <p:cNvSpPr/>
                <p:nvPr/>
              </p:nvSpPr>
              <p:spPr>
                <a:xfrm>
                  <a:off x="1365840" y="4772160"/>
                  <a:ext cx="2145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1359000" y="477216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1359000" y="485136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33" name=""/>
            <p:cNvSpPr/>
            <p:nvPr/>
          </p:nvSpPr>
          <p:spPr>
            <a:xfrm>
              <a:off x="1420920" y="4384440"/>
              <a:ext cx="7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511640" y="36226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3111480" y="4460400"/>
              <a:ext cx="129960" cy="571680"/>
              <a:chOff x="3111480" y="4460400"/>
              <a:chExt cx="129960" cy="571680"/>
            </a:xfrm>
          </p:grpSpPr>
          <p:sp>
            <p:nvSpPr>
              <p:cNvPr id="1636" name=""/>
              <p:cNvSpPr/>
              <p:nvPr/>
            </p:nvSpPr>
            <p:spPr>
              <a:xfrm rot="10800000">
                <a:off x="3112560" y="4728600"/>
                <a:ext cx="12888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rot="10800000">
                <a:off x="3112560" y="4587120"/>
                <a:ext cx="12888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rot="16200000">
                <a:off x="3104640" y="4467960"/>
                <a:ext cx="144360" cy="12888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rot="10800000">
                <a:off x="3111480" y="4870080"/>
                <a:ext cx="128880" cy="16200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0" name=""/>
            <p:cNvSpPr/>
            <p:nvPr/>
          </p:nvSpPr>
          <p:spPr>
            <a:xfrm>
              <a:off x="3187800" y="49942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3187800" y="4308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rot="16200000">
              <a:off x="3416400" y="419544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854520" y="491796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3854520" y="430812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5" name=""/>
            <p:cNvGrpSpPr/>
            <p:nvPr/>
          </p:nvGrpSpPr>
          <p:grpSpPr>
            <a:xfrm>
              <a:off x="4179960" y="4155840"/>
              <a:ext cx="226800" cy="304920"/>
              <a:chOff x="4179960" y="4155840"/>
              <a:chExt cx="226800" cy="304920"/>
            </a:xfrm>
          </p:grpSpPr>
          <p:sp>
            <p:nvSpPr>
              <p:cNvPr id="1646" name=""/>
              <p:cNvSpPr/>
              <p:nvPr/>
            </p:nvSpPr>
            <p:spPr>
              <a:xfrm>
                <a:off x="4179960" y="41558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V="1">
                <a:off x="4179960" y="4161960"/>
                <a:ext cx="226800" cy="14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4186440" y="4314600"/>
                <a:ext cx="220320" cy="13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9" name=""/>
            <p:cNvSpPr/>
            <p:nvPr/>
          </p:nvSpPr>
          <p:spPr>
            <a:xfrm>
              <a:off x="4346640" y="3241440"/>
              <a:ext cx="98640" cy="273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V="1">
              <a:off x="4407120" y="3508200"/>
              <a:ext cx="0" cy="66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V="1">
              <a:off x="4407120" y="2689200"/>
              <a:ext cx="0" cy="55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2" name=""/>
            <p:cNvGrpSpPr/>
            <p:nvPr/>
          </p:nvGrpSpPr>
          <p:grpSpPr>
            <a:xfrm>
              <a:off x="5550120" y="4079880"/>
              <a:ext cx="226800" cy="304560"/>
              <a:chOff x="5550120" y="4079880"/>
              <a:chExt cx="226800" cy="304560"/>
            </a:xfrm>
          </p:grpSpPr>
          <p:sp>
            <p:nvSpPr>
              <p:cNvPr id="1653" name=""/>
              <p:cNvSpPr/>
              <p:nvPr/>
            </p:nvSpPr>
            <p:spPr>
              <a:xfrm>
                <a:off x="5550120" y="40798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flipV="1">
                <a:off x="5550120" y="4085280"/>
                <a:ext cx="226800" cy="14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556600" y="4238280"/>
                <a:ext cx="22032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6" name=""/>
            <p:cNvSpPr/>
            <p:nvPr/>
          </p:nvSpPr>
          <p:spPr>
            <a:xfrm rot="16200000">
              <a:off x="3503880" y="3717360"/>
              <a:ext cx="98280" cy="273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970520" y="4689360"/>
              <a:ext cx="98640" cy="272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718240" y="4721040"/>
              <a:ext cx="98640" cy="273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729480" y="4653000"/>
              <a:ext cx="22860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710160" y="3851280"/>
              <a:ext cx="13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365720" y="3803400"/>
              <a:ext cx="85680" cy="860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206720" y="3774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V="1">
              <a:off x="1435320" y="3470040"/>
              <a:ext cx="0" cy="3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1206360" y="34700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016600" y="4994280"/>
              <a:ext cx="0" cy="26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5016600" y="42321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778720" y="4384440"/>
              <a:ext cx="0" cy="3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778720" y="4994280"/>
              <a:ext cx="0" cy="23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V="1">
              <a:off x="5778720" y="270828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778720" y="446076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845400" y="446076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845400" y="5070240"/>
              <a:ext cx="0" cy="16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3416400" y="362268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187800" y="321516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165840" y="4537080"/>
              <a:ext cx="63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330800" y="40798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766120" y="4003560"/>
              <a:ext cx="698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921720" y="4613040"/>
              <a:ext cx="69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340440" y="3851280"/>
              <a:ext cx="69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873600" y="45370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407120" y="31654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016600" y="46130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74000" y="369864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074000" y="391788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074000" y="407016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H="1">
              <a:off x="6616800" y="37400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>
              <a:off x="6616800" y="4113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616800" y="3768480"/>
              <a:ext cx="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H="1" flipV="1">
              <a:off x="6464160" y="3811320"/>
              <a:ext cx="6094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V="1">
              <a:off x="6616800" y="4003200"/>
              <a:ext cx="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693120" y="266688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2" name=""/>
          <p:cNvSpPr/>
          <p:nvPr/>
        </p:nvSpPr>
        <p:spPr>
          <a:xfrm>
            <a:off x="3276720" y="2514600"/>
            <a:ext cx="0" cy="3048120"/>
          </a:xfrm>
          <a:prstGeom prst="line">
            <a:avLst/>
          </a:prstGeom>
          <a:ln w="381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876920" y="2514600"/>
            <a:ext cx="0" cy="3048120"/>
          </a:xfrm>
          <a:prstGeom prst="line">
            <a:avLst/>
          </a:prstGeom>
          <a:ln w="381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477120" y="2514600"/>
            <a:ext cx="0" cy="3048120"/>
          </a:xfrm>
          <a:prstGeom prst="line">
            <a:avLst/>
          </a:prstGeom>
          <a:ln w="381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413720" y="54864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L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振荡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412440" y="5500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开关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058720" y="55008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射极输出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477120" y="550080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继电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533520" y="747720"/>
            <a:ext cx="83055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半导体接近开关是一种无触点开关，具有反映速度快、定位准确、寿命长等优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在行程控制、定位控制、自动计数以及各种报警电路中得到了广泛应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1661040"/>
            <a:ext cx="807696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正弦波振荡电路用来产生一定频率和幅值的正弦交流信号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它的频率范围很广，可以从一赫以下到几百兆以上；输出功率可以从几毫瓦到几十千瓦；输出的交流电能是从电源的直流电能转换而来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8.1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自激振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75040" y="28195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常用的正弦波振荡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44640" y="3378240"/>
            <a:ext cx="5136840" cy="1041840"/>
            <a:chOff x="944640" y="3378240"/>
            <a:chExt cx="5136840" cy="1041840"/>
          </a:xfrm>
        </p:grpSpPr>
        <p:sp>
          <p:nvSpPr>
            <p:cNvPr id="90" name=""/>
            <p:cNvSpPr/>
            <p:nvPr/>
          </p:nvSpPr>
          <p:spPr>
            <a:xfrm>
              <a:off x="944640" y="3441960"/>
              <a:ext cx="234720" cy="781560"/>
            </a:xfrm>
            <a:custGeom>
              <a:avLst/>
              <a:gdLst>
                <a:gd name="textAreaLeft" fmla="*/ 150120 w 234720"/>
                <a:gd name="textAreaRight" fmla="*/ 235080 w 234720"/>
                <a:gd name="textAreaTop" fmla="*/ 20160 h 781560"/>
                <a:gd name="textAreaBottom" fmla="*/ 76140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3800" y="3378240"/>
              <a:ext cx="39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99"/>
                  </a:solidFill>
                  <a:latin typeface="Times New Roman"/>
                </a:rPr>
                <a:t>LC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振荡电路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: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输出功率大、频率高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66400" y="3899520"/>
              <a:ext cx="401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99"/>
                  </a:solidFill>
                  <a:latin typeface="Times New Roman"/>
                </a:rPr>
                <a:t>RC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振荡电路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: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输出功率小、频率低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782520" y="434340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石英晶体振荡电路：频率稳定度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53031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线电通讯、广播电视，工业上的高频感应炉、超声波发生器、正弦波信号发生器、半导体接近开关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0" name=""/>
          <p:cNvGrpSpPr/>
          <p:nvPr/>
        </p:nvGrpSpPr>
        <p:grpSpPr>
          <a:xfrm>
            <a:off x="444600" y="852480"/>
            <a:ext cx="7175520" cy="2708280"/>
            <a:chOff x="444600" y="852480"/>
            <a:chExt cx="7175520" cy="2708280"/>
          </a:xfrm>
        </p:grpSpPr>
        <p:sp>
          <p:nvSpPr>
            <p:cNvPr id="1701" name=""/>
            <p:cNvSpPr/>
            <p:nvPr/>
          </p:nvSpPr>
          <p:spPr>
            <a:xfrm>
              <a:off x="2175120" y="1274760"/>
              <a:ext cx="63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584720" y="1258920"/>
              <a:ext cx="536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426040" y="1755720"/>
              <a:ext cx="71280" cy="71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435320" y="2486160"/>
              <a:ext cx="71280" cy="71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225880" y="3114720"/>
              <a:ext cx="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184400" y="1830240"/>
              <a:ext cx="0" cy="104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184400" y="3139920"/>
              <a:ext cx="0" cy="27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8" name=""/>
            <p:cNvGrpSpPr/>
            <p:nvPr/>
          </p:nvGrpSpPr>
          <p:grpSpPr>
            <a:xfrm>
              <a:off x="1432080" y="2273040"/>
              <a:ext cx="429840" cy="144720"/>
              <a:chOff x="1432080" y="2273040"/>
              <a:chExt cx="429840" cy="144720"/>
            </a:xfrm>
          </p:grpSpPr>
          <p:sp>
            <p:nvSpPr>
              <p:cNvPr id="1709" name=""/>
              <p:cNvSpPr/>
              <p:nvPr/>
            </p:nvSpPr>
            <p:spPr>
              <a:xfrm rot="16200000">
                <a:off x="1440720" y="2264400"/>
                <a:ext cx="14436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rot="16200000">
                <a:off x="1581840" y="2264400"/>
                <a:ext cx="14436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1717560" y="2273400"/>
                <a:ext cx="144360" cy="14436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2" name=""/>
            <p:cNvSpPr/>
            <p:nvPr/>
          </p:nvSpPr>
          <p:spPr>
            <a:xfrm flipH="1">
              <a:off x="1186200" y="2395440"/>
              <a:ext cx="24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190880" y="893880"/>
              <a:ext cx="5530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4" name=""/>
            <p:cNvGrpSpPr/>
            <p:nvPr/>
          </p:nvGrpSpPr>
          <p:grpSpPr>
            <a:xfrm>
              <a:off x="2035440" y="2262240"/>
              <a:ext cx="226800" cy="304920"/>
              <a:chOff x="2035440" y="2262240"/>
              <a:chExt cx="226800" cy="304920"/>
            </a:xfrm>
          </p:grpSpPr>
          <p:sp>
            <p:nvSpPr>
              <p:cNvPr id="1715" name=""/>
              <p:cNvSpPr/>
              <p:nvPr/>
            </p:nvSpPr>
            <p:spPr>
              <a:xfrm>
                <a:off x="2035440" y="22622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V="1">
                <a:off x="2035440" y="2268360"/>
                <a:ext cx="226800" cy="14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041920" y="2421000"/>
                <a:ext cx="220320" cy="13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8" name=""/>
            <p:cNvSpPr/>
            <p:nvPr/>
          </p:nvSpPr>
          <p:spPr>
            <a:xfrm>
              <a:off x="1184400" y="892080"/>
              <a:ext cx="0" cy="65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1861920" y="2417760"/>
              <a:ext cx="17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235600" y="2556000"/>
              <a:ext cx="0" cy="27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V="1">
              <a:off x="2256120" y="1926720"/>
              <a:ext cx="0" cy="35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165320" y="3408480"/>
              <a:ext cx="568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140120" y="1533600"/>
              <a:ext cx="98280" cy="291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130400" y="2874960"/>
              <a:ext cx="98640" cy="291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176560" y="2825640"/>
              <a:ext cx="100080" cy="293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235600" y="2678040"/>
              <a:ext cx="37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611800" y="2036880"/>
              <a:ext cx="144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613240" y="3054240"/>
              <a:ext cx="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9" name=""/>
            <p:cNvGrpSpPr/>
            <p:nvPr/>
          </p:nvGrpSpPr>
          <p:grpSpPr>
            <a:xfrm>
              <a:off x="2502000" y="2959200"/>
              <a:ext cx="228600" cy="79200"/>
              <a:chOff x="2502000" y="2959200"/>
              <a:chExt cx="228600" cy="79200"/>
            </a:xfrm>
          </p:grpSpPr>
          <p:sp>
            <p:nvSpPr>
              <p:cNvPr id="1730" name=""/>
              <p:cNvSpPr/>
              <p:nvPr/>
            </p:nvSpPr>
            <p:spPr>
              <a:xfrm>
                <a:off x="2508840" y="2959200"/>
                <a:ext cx="21456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502000" y="29592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502000" y="3038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1960920" y="1438200"/>
              <a:ext cx="228600" cy="79560"/>
              <a:chOff x="1960920" y="1438200"/>
              <a:chExt cx="228600" cy="79560"/>
            </a:xfrm>
          </p:grpSpPr>
          <p:sp>
            <p:nvSpPr>
              <p:cNvPr id="1734" name=""/>
              <p:cNvSpPr/>
              <p:nvPr/>
            </p:nvSpPr>
            <p:spPr>
              <a:xfrm>
                <a:off x="1967760" y="1438200"/>
                <a:ext cx="214560" cy="7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1960920" y="14382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1960920" y="1517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7" name=""/>
            <p:cNvSpPr/>
            <p:nvPr/>
          </p:nvSpPr>
          <p:spPr>
            <a:xfrm flipH="1" flipV="1">
              <a:off x="3416040" y="2341080"/>
              <a:ext cx="1800" cy="31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V="1">
              <a:off x="2060640" y="1127160"/>
              <a:ext cx="0" cy="31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554560" y="1793880"/>
              <a:ext cx="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V="1">
              <a:off x="2554560" y="1127160"/>
              <a:ext cx="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2060640" y="1127160"/>
              <a:ext cx="49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407120" y="264636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613240" y="2036880"/>
              <a:ext cx="80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016600" y="203688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464520" y="89388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–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778720" y="27226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E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184480" y="2189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8" name=""/>
            <p:cNvGrpSpPr/>
            <p:nvPr/>
          </p:nvGrpSpPr>
          <p:grpSpPr>
            <a:xfrm>
              <a:off x="2121120" y="3387600"/>
              <a:ext cx="212760" cy="173160"/>
              <a:chOff x="2121120" y="3387600"/>
              <a:chExt cx="212760" cy="173160"/>
            </a:xfrm>
          </p:grpSpPr>
          <p:sp>
            <p:nvSpPr>
              <p:cNvPr id="1749" name=""/>
              <p:cNvSpPr/>
              <p:nvPr/>
            </p:nvSpPr>
            <p:spPr>
              <a:xfrm>
                <a:off x="2234160" y="3387600"/>
                <a:ext cx="0" cy="17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2121120" y="3548160"/>
                <a:ext cx="212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1" name=""/>
            <p:cNvSpPr/>
            <p:nvPr/>
          </p:nvSpPr>
          <p:spPr>
            <a:xfrm>
              <a:off x="3187800" y="2494080"/>
              <a:ext cx="1011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2060640" y="1526760"/>
              <a:ext cx="0" cy="39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>
              <a:off x="2060640" y="1927080"/>
              <a:ext cx="49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2306880" y="89388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797640" y="2830680"/>
              <a:ext cx="98280" cy="272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44600" y="140076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97240" y="262008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663920" y="2848680"/>
              <a:ext cx="64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611800" y="2951280"/>
              <a:ext cx="69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0" name=""/>
            <p:cNvGrpSpPr/>
            <p:nvPr/>
          </p:nvGrpSpPr>
          <p:grpSpPr>
            <a:xfrm>
              <a:off x="2544120" y="1235160"/>
              <a:ext cx="130320" cy="571320"/>
              <a:chOff x="2544120" y="1235160"/>
              <a:chExt cx="130320" cy="571320"/>
            </a:xfrm>
          </p:grpSpPr>
          <p:sp>
            <p:nvSpPr>
              <p:cNvPr id="1761" name=""/>
              <p:cNvSpPr/>
              <p:nvPr/>
            </p:nvSpPr>
            <p:spPr>
              <a:xfrm flipH="1" rot="10800000">
                <a:off x="2543760" y="1502640"/>
                <a:ext cx="12924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 rot="10800000">
                <a:off x="2543760" y="1361520"/>
                <a:ext cx="12924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H="1" rot="5400000">
                <a:off x="2536560" y="1242360"/>
                <a:ext cx="144000" cy="12924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flipH="1" rot="10800000">
                <a:off x="2544840" y="1644480"/>
                <a:ext cx="129240" cy="16200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5" name=""/>
            <p:cNvGrpSpPr/>
            <p:nvPr/>
          </p:nvGrpSpPr>
          <p:grpSpPr>
            <a:xfrm>
              <a:off x="1202040" y="2676600"/>
              <a:ext cx="385560" cy="731880"/>
              <a:chOff x="1202040" y="2676600"/>
              <a:chExt cx="385560" cy="731880"/>
            </a:xfrm>
          </p:grpSpPr>
          <p:sp>
            <p:nvSpPr>
              <p:cNvPr id="1766" name=""/>
              <p:cNvSpPr/>
              <p:nvPr/>
            </p:nvSpPr>
            <p:spPr>
              <a:xfrm>
                <a:off x="1202040" y="2676600"/>
                <a:ext cx="26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1470240" y="2683080"/>
                <a:ext cx="0" cy="266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1470240" y="3052800"/>
                <a:ext cx="0" cy="35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9" name=""/>
              <p:cNvGrpSpPr/>
              <p:nvPr/>
            </p:nvGrpSpPr>
            <p:grpSpPr>
              <a:xfrm>
                <a:off x="1359000" y="2957760"/>
                <a:ext cx="228600" cy="79200"/>
                <a:chOff x="1359000" y="2957760"/>
                <a:chExt cx="228600" cy="79200"/>
              </a:xfrm>
            </p:grpSpPr>
            <p:sp>
              <p:nvSpPr>
                <p:cNvPr id="1770" name=""/>
                <p:cNvSpPr/>
                <p:nvPr/>
              </p:nvSpPr>
              <p:spPr>
                <a:xfrm>
                  <a:off x="1365840" y="2957760"/>
                  <a:ext cx="2145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1359000" y="295776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1359000" y="303696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3" name=""/>
            <p:cNvSpPr/>
            <p:nvPr/>
          </p:nvSpPr>
          <p:spPr>
            <a:xfrm>
              <a:off x="1420920" y="2570040"/>
              <a:ext cx="7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511640" y="18082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5" name=""/>
            <p:cNvGrpSpPr/>
            <p:nvPr/>
          </p:nvGrpSpPr>
          <p:grpSpPr>
            <a:xfrm>
              <a:off x="3111480" y="2646000"/>
              <a:ext cx="129960" cy="571680"/>
              <a:chOff x="3111480" y="2646000"/>
              <a:chExt cx="129960" cy="571680"/>
            </a:xfrm>
          </p:grpSpPr>
          <p:sp>
            <p:nvSpPr>
              <p:cNvPr id="1776" name=""/>
              <p:cNvSpPr/>
              <p:nvPr/>
            </p:nvSpPr>
            <p:spPr>
              <a:xfrm rot="10800000">
                <a:off x="3112560" y="2914200"/>
                <a:ext cx="12888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rot="10800000">
                <a:off x="3112560" y="2772720"/>
                <a:ext cx="12888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rot="16200000">
                <a:off x="3104640" y="2653560"/>
                <a:ext cx="144360" cy="12888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rot="10800000">
                <a:off x="3111480" y="3055680"/>
                <a:ext cx="128880" cy="16200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0" name=""/>
            <p:cNvSpPr/>
            <p:nvPr/>
          </p:nvSpPr>
          <p:spPr>
            <a:xfrm>
              <a:off x="3187800" y="31798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3187800" y="2493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rot="16200000">
              <a:off x="3416400" y="238104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854520" y="310356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3854520" y="249372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5" name=""/>
            <p:cNvGrpSpPr/>
            <p:nvPr/>
          </p:nvGrpSpPr>
          <p:grpSpPr>
            <a:xfrm>
              <a:off x="4179960" y="2341440"/>
              <a:ext cx="226800" cy="304920"/>
              <a:chOff x="4179960" y="2341440"/>
              <a:chExt cx="226800" cy="304920"/>
            </a:xfrm>
          </p:grpSpPr>
          <p:sp>
            <p:nvSpPr>
              <p:cNvPr id="1786" name=""/>
              <p:cNvSpPr/>
              <p:nvPr/>
            </p:nvSpPr>
            <p:spPr>
              <a:xfrm>
                <a:off x="4179960" y="23414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flipV="1">
                <a:off x="4179960" y="2347560"/>
                <a:ext cx="226800" cy="14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186440" y="2500200"/>
                <a:ext cx="220320" cy="13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9" name=""/>
            <p:cNvSpPr/>
            <p:nvPr/>
          </p:nvSpPr>
          <p:spPr>
            <a:xfrm>
              <a:off x="4346640" y="1427040"/>
              <a:ext cx="98640" cy="273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V="1">
              <a:off x="4407120" y="1693800"/>
              <a:ext cx="0" cy="66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V="1">
              <a:off x="4407120" y="874800"/>
              <a:ext cx="0" cy="55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2" name=""/>
            <p:cNvGrpSpPr/>
            <p:nvPr/>
          </p:nvGrpSpPr>
          <p:grpSpPr>
            <a:xfrm>
              <a:off x="5550120" y="2265480"/>
              <a:ext cx="226800" cy="304560"/>
              <a:chOff x="5550120" y="2265480"/>
              <a:chExt cx="226800" cy="304560"/>
            </a:xfrm>
          </p:grpSpPr>
          <p:sp>
            <p:nvSpPr>
              <p:cNvPr id="1793" name=""/>
              <p:cNvSpPr/>
              <p:nvPr/>
            </p:nvSpPr>
            <p:spPr>
              <a:xfrm>
                <a:off x="5550120" y="2265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V="1">
                <a:off x="5550120" y="2270880"/>
                <a:ext cx="226800" cy="14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556600" y="2423880"/>
                <a:ext cx="22032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6" name=""/>
            <p:cNvSpPr/>
            <p:nvPr/>
          </p:nvSpPr>
          <p:spPr>
            <a:xfrm rot="16200000">
              <a:off x="3503880" y="1902960"/>
              <a:ext cx="98280" cy="273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970520" y="2874960"/>
              <a:ext cx="98640" cy="272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718240" y="2906640"/>
              <a:ext cx="98640" cy="273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729480" y="2838600"/>
              <a:ext cx="22860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710160" y="2036880"/>
              <a:ext cx="13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365720" y="1989000"/>
              <a:ext cx="85680" cy="860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206720" y="196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V="1">
              <a:off x="1435320" y="1655640"/>
              <a:ext cx="0" cy="3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>
              <a:off x="1206360" y="16556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016600" y="3179880"/>
              <a:ext cx="0" cy="26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5016600" y="24177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778720" y="2570040"/>
              <a:ext cx="0" cy="3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778720" y="3179880"/>
              <a:ext cx="0" cy="23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V="1">
              <a:off x="5778720" y="89388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778720" y="264636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845400" y="264636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845400" y="3255840"/>
              <a:ext cx="0" cy="16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V="1">
              <a:off x="3416400" y="180828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3187800" y="140076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165840" y="2722680"/>
              <a:ext cx="63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330800" y="22654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766120" y="2189160"/>
              <a:ext cx="698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921720" y="2798640"/>
              <a:ext cx="69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340440" y="2036880"/>
              <a:ext cx="69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873600" y="27226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407120" y="13510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016600" y="27986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074000" y="188424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074000" y="210348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074000" y="225576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6616800" y="19256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6616800" y="2298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616800" y="1954080"/>
              <a:ext cx="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 flipV="1">
              <a:off x="6464160" y="1996920"/>
              <a:ext cx="6094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V="1">
              <a:off x="6616800" y="2188800"/>
              <a:ext cx="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693120" y="85248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2" name=""/>
          <p:cNvSpPr/>
          <p:nvPr/>
        </p:nvSpPr>
        <p:spPr>
          <a:xfrm>
            <a:off x="3276720" y="685800"/>
            <a:ext cx="0" cy="3048120"/>
          </a:xfrm>
          <a:prstGeom prst="line">
            <a:avLst/>
          </a:prstGeom>
          <a:ln w="381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876920" y="700200"/>
            <a:ext cx="0" cy="3047760"/>
          </a:xfrm>
          <a:prstGeom prst="line">
            <a:avLst/>
          </a:prstGeom>
          <a:ln w="381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477120" y="700200"/>
            <a:ext cx="0" cy="3047760"/>
          </a:xfrm>
          <a:prstGeom prst="line">
            <a:avLst/>
          </a:prstGeom>
          <a:ln w="381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990720" y="3672000"/>
            <a:ext cx="21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L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振荡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2971800" y="368604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开关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572000" y="368604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射极输出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400800" y="3686040"/>
            <a:ext cx="16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继电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14280" y="304920"/>
            <a:ext cx="49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半导体接近开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533520" y="4371840"/>
            <a:ext cx="533376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压器反馈式振荡器是接近  开关的核心部分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绕在右图所示的的磁芯上（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称感应头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1" name=""/>
          <p:cNvGrpSpPr/>
          <p:nvPr/>
        </p:nvGrpSpPr>
        <p:grpSpPr>
          <a:xfrm>
            <a:off x="5943600" y="4343400"/>
            <a:ext cx="1716120" cy="1831320"/>
            <a:chOff x="5943600" y="4343400"/>
            <a:chExt cx="1716120" cy="1831320"/>
          </a:xfrm>
        </p:grpSpPr>
        <p:grpSp>
          <p:nvGrpSpPr>
            <p:cNvPr id="1842" name=""/>
            <p:cNvGrpSpPr/>
            <p:nvPr/>
          </p:nvGrpSpPr>
          <p:grpSpPr>
            <a:xfrm>
              <a:off x="5943600" y="4797720"/>
              <a:ext cx="1716120" cy="152280"/>
              <a:chOff x="5943600" y="4797720"/>
              <a:chExt cx="1716120" cy="152280"/>
            </a:xfrm>
          </p:grpSpPr>
          <p:sp>
            <p:nvSpPr>
              <p:cNvPr id="1843" name=""/>
              <p:cNvSpPr/>
              <p:nvPr/>
            </p:nvSpPr>
            <p:spPr>
              <a:xfrm>
                <a:off x="5943600" y="4797720"/>
                <a:ext cx="1676160" cy="152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H="1">
                <a:off x="6019560" y="4797720"/>
                <a:ext cx="1526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>
                <a:off x="6171840" y="47977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>
                <a:off x="6324120" y="47977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H="1">
                <a:off x="6476760" y="4797720"/>
                <a:ext cx="1526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>
                <a:off x="6629040" y="47977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H="1">
                <a:off x="6781320" y="47977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H="1">
                <a:off x="6781320" y="47977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H="1">
                <a:off x="6933960" y="4797720"/>
                <a:ext cx="1526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7086240" y="47977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H="1">
                <a:off x="7238520" y="47977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H="1">
                <a:off x="7391160" y="4797720"/>
                <a:ext cx="1526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7543800" y="4834080"/>
                <a:ext cx="115920" cy="11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H="1">
                <a:off x="5943600" y="4797720"/>
                <a:ext cx="115920" cy="11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7" name=""/>
            <p:cNvSpPr/>
            <p:nvPr/>
          </p:nvSpPr>
          <p:spPr>
            <a:xfrm>
              <a:off x="5943600" y="510552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943600" y="6096240"/>
              <a:ext cx="171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943600" y="5105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248520" y="5105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7315200" y="5105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315200" y="5105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620120" y="510552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248520" y="57913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934320" y="57913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6629400" y="5639040"/>
              <a:ext cx="0" cy="18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V="1">
              <a:off x="6934320" y="5639040"/>
              <a:ext cx="0" cy="18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8" name=""/>
            <p:cNvGrpSpPr/>
            <p:nvPr/>
          </p:nvGrpSpPr>
          <p:grpSpPr>
            <a:xfrm>
              <a:off x="6534000" y="5217840"/>
              <a:ext cx="503280" cy="144720"/>
              <a:chOff x="6534000" y="5217840"/>
              <a:chExt cx="503280" cy="144720"/>
            </a:xfrm>
          </p:grpSpPr>
          <p:sp>
            <p:nvSpPr>
              <p:cNvPr id="1869" name=""/>
              <p:cNvSpPr/>
              <p:nvPr/>
            </p:nvSpPr>
            <p:spPr>
              <a:xfrm>
                <a:off x="6534000" y="5218200"/>
                <a:ext cx="503280" cy="144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6534000" y="5218200"/>
                <a:ext cx="5032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V="1">
                <a:off x="6534000" y="5217840"/>
                <a:ext cx="5032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2" name=""/>
            <p:cNvGrpSpPr/>
            <p:nvPr/>
          </p:nvGrpSpPr>
          <p:grpSpPr>
            <a:xfrm>
              <a:off x="6534000" y="5530680"/>
              <a:ext cx="503280" cy="144720"/>
              <a:chOff x="6534000" y="5530680"/>
              <a:chExt cx="503280" cy="144720"/>
            </a:xfrm>
          </p:grpSpPr>
          <p:sp>
            <p:nvSpPr>
              <p:cNvPr id="1873" name=""/>
              <p:cNvSpPr/>
              <p:nvPr/>
            </p:nvSpPr>
            <p:spPr>
              <a:xfrm>
                <a:off x="6534000" y="5531040"/>
                <a:ext cx="503280" cy="144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534000" y="5531040"/>
                <a:ext cx="5032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V="1">
                <a:off x="6534000" y="5530680"/>
                <a:ext cx="5032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6" name=""/>
            <p:cNvSpPr/>
            <p:nvPr/>
          </p:nvSpPr>
          <p:spPr>
            <a:xfrm flipV="1">
              <a:off x="6934320" y="5370120"/>
              <a:ext cx="0" cy="18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V="1">
              <a:off x="6629400" y="5370120"/>
              <a:ext cx="0" cy="18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V="1">
              <a:off x="6934320" y="5105160"/>
              <a:ext cx="0" cy="1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V="1">
              <a:off x="6629400" y="5105160"/>
              <a:ext cx="0" cy="1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629400" y="5105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180480" y="541044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942240" y="533412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166080" y="50292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161760" y="43434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移动的金属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776640" y="57150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感应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6" name=""/>
          <p:cNvGrpSpPr/>
          <p:nvPr/>
        </p:nvGrpSpPr>
        <p:grpSpPr>
          <a:xfrm>
            <a:off x="444600" y="776160"/>
            <a:ext cx="7175520" cy="2708280"/>
            <a:chOff x="444600" y="776160"/>
            <a:chExt cx="7175520" cy="2708280"/>
          </a:xfrm>
        </p:grpSpPr>
        <p:sp>
          <p:nvSpPr>
            <p:cNvPr id="1887" name=""/>
            <p:cNvSpPr/>
            <p:nvPr/>
          </p:nvSpPr>
          <p:spPr>
            <a:xfrm>
              <a:off x="2175120" y="1198440"/>
              <a:ext cx="63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584720" y="1182600"/>
              <a:ext cx="536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26040" y="1679400"/>
              <a:ext cx="71280" cy="71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435320" y="2409840"/>
              <a:ext cx="71280" cy="71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225880" y="3038400"/>
              <a:ext cx="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184400" y="1753920"/>
              <a:ext cx="0" cy="104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184400" y="3063600"/>
              <a:ext cx="0" cy="27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4" name=""/>
            <p:cNvGrpSpPr/>
            <p:nvPr/>
          </p:nvGrpSpPr>
          <p:grpSpPr>
            <a:xfrm>
              <a:off x="1432080" y="2196720"/>
              <a:ext cx="429840" cy="144720"/>
              <a:chOff x="1432080" y="2196720"/>
              <a:chExt cx="429840" cy="144720"/>
            </a:xfrm>
          </p:grpSpPr>
          <p:sp>
            <p:nvSpPr>
              <p:cNvPr id="1895" name=""/>
              <p:cNvSpPr/>
              <p:nvPr/>
            </p:nvSpPr>
            <p:spPr>
              <a:xfrm rot="16200000">
                <a:off x="1440720" y="2188080"/>
                <a:ext cx="14436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rot="16200000">
                <a:off x="1581840" y="2188080"/>
                <a:ext cx="14436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717560" y="2197080"/>
                <a:ext cx="144360" cy="14436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8" name=""/>
            <p:cNvSpPr/>
            <p:nvPr/>
          </p:nvSpPr>
          <p:spPr>
            <a:xfrm flipH="1">
              <a:off x="1186200" y="2319120"/>
              <a:ext cx="24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190880" y="817560"/>
              <a:ext cx="5530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0" name=""/>
            <p:cNvGrpSpPr/>
            <p:nvPr/>
          </p:nvGrpSpPr>
          <p:grpSpPr>
            <a:xfrm>
              <a:off x="2035440" y="2185920"/>
              <a:ext cx="226800" cy="304920"/>
              <a:chOff x="2035440" y="2185920"/>
              <a:chExt cx="226800" cy="304920"/>
            </a:xfrm>
          </p:grpSpPr>
          <p:sp>
            <p:nvSpPr>
              <p:cNvPr id="1901" name=""/>
              <p:cNvSpPr/>
              <p:nvPr/>
            </p:nvSpPr>
            <p:spPr>
              <a:xfrm>
                <a:off x="2035440" y="218592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V="1">
                <a:off x="2035440" y="2192040"/>
                <a:ext cx="226800" cy="14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2041920" y="2344680"/>
                <a:ext cx="220320" cy="13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4" name=""/>
            <p:cNvSpPr/>
            <p:nvPr/>
          </p:nvSpPr>
          <p:spPr>
            <a:xfrm>
              <a:off x="1184400" y="815760"/>
              <a:ext cx="0" cy="65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>
              <a:off x="1861920" y="2341440"/>
              <a:ext cx="17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235600" y="2479680"/>
              <a:ext cx="0" cy="27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>
              <a:off x="2256120" y="1850400"/>
              <a:ext cx="0" cy="35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165320" y="3332160"/>
              <a:ext cx="568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140120" y="1457280"/>
              <a:ext cx="98280" cy="291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130400" y="2798640"/>
              <a:ext cx="98640" cy="291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176560" y="2749320"/>
              <a:ext cx="100080" cy="293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235600" y="2601720"/>
              <a:ext cx="37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611800" y="1960560"/>
              <a:ext cx="144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613240" y="2977920"/>
              <a:ext cx="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5" name=""/>
            <p:cNvGrpSpPr/>
            <p:nvPr/>
          </p:nvGrpSpPr>
          <p:grpSpPr>
            <a:xfrm>
              <a:off x="2502000" y="2882880"/>
              <a:ext cx="228600" cy="79200"/>
              <a:chOff x="2502000" y="2882880"/>
              <a:chExt cx="228600" cy="79200"/>
            </a:xfrm>
          </p:grpSpPr>
          <p:sp>
            <p:nvSpPr>
              <p:cNvPr id="1916" name=""/>
              <p:cNvSpPr/>
              <p:nvPr/>
            </p:nvSpPr>
            <p:spPr>
              <a:xfrm>
                <a:off x="2508840" y="2882880"/>
                <a:ext cx="21456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2502000" y="28828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2502000" y="29620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9" name=""/>
            <p:cNvGrpSpPr/>
            <p:nvPr/>
          </p:nvGrpSpPr>
          <p:grpSpPr>
            <a:xfrm>
              <a:off x="1960920" y="1361880"/>
              <a:ext cx="228600" cy="79560"/>
              <a:chOff x="1960920" y="1361880"/>
              <a:chExt cx="228600" cy="79560"/>
            </a:xfrm>
          </p:grpSpPr>
          <p:sp>
            <p:nvSpPr>
              <p:cNvPr id="1920" name=""/>
              <p:cNvSpPr/>
              <p:nvPr/>
            </p:nvSpPr>
            <p:spPr>
              <a:xfrm>
                <a:off x="1967760" y="1361880"/>
                <a:ext cx="214560" cy="7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960920" y="13618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960920" y="144144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3" name=""/>
            <p:cNvSpPr/>
            <p:nvPr/>
          </p:nvSpPr>
          <p:spPr>
            <a:xfrm flipH="1" flipV="1">
              <a:off x="3416040" y="2264760"/>
              <a:ext cx="1800" cy="31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V="1">
              <a:off x="2060640" y="1050840"/>
              <a:ext cx="0" cy="31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2554560" y="1717560"/>
              <a:ext cx="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2554560" y="1050840"/>
              <a:ext cx="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H="1">
              <a:off x="2060640" y="1050840"/>
              <a:ext cx="49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407120" y="257004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613240" y="1960560"/>
              <a:ext cx="80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196056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464520" y="81756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–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778720" y="264636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E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184480" y="21128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4" name=""/>
            <p:cNvGrpSpPr/>
            <p:nvPr/>
          </p:nvGrpSpPr>
          <p:grpSpPr>
            <a:xfrm>
              <a:off x="2121120" y="3311280"/>
              <a:ext cx="212760" cy="173160"/>
              <a:chOff x="2121120" y="3311280"/>
              <a:chExt cx="212760" cy="173160"/>
            </a:xfrm>
          </p:grpSpPr>
          <p:sp>
            <p:nvSpPr>
              <p:cNvPr id="1935" name=""/>
              <p:cNvSpPr/>
              <p:nvPr/>
            </p:nvSpPr>
            <p:spPr>
              <a:xfrm>
                <a:off x="2234160" y="3311280"/>
                <a:ext cx="0" cy="17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2121120" y="3471840"/>
                <a:ext cx="212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7" name=""/>
            <p:cNvSpPr/>
            <p:nvPr/>
          </p:nvSpPr>
          <p:spPr>
            <a:xfrm>
              <a:off x="3187800" y="2417760"/>
              <a:ext cx="1011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2060640" y="1450440"/>
              <a:ext cx="0" cy="39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H="1">
              <a:off x="2060640" y="1850760"/>
              <a:ext cx="49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V="1">
              <a:off x="2306880" y="81756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797640" y="2754360"/>
              <a:ext cx="98280" cy="272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444600" y="132444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97240" y="254376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663920" y="2772360"/>
              <a:ext cx="64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611800" y="2874960"/>
              <a:ext cx="69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6" name=""/>
            <p:cNvGrpSpPr/>
            <p:nvPr/>
          </p:nvGrpSpPr>
          <p:grpSpPr>
            <a:xfrm>
              <a:off x="2544120" y="1158840"/>
              <a:ext cx="130320" cy="571320"/>
              <a:chOff x="2544120" y="1158840"/>
              <a:chExt cx="130320" cy="571320"/>
            </a:xfrm>
          </p:grpSpPr>
          <p:sp>
            <p:nvSpPr>
              <p:cNvPr id="1947" name=""/>
              <p:cNvSpPr/>
              <p:nvPr/>
            </p:nvSpPr>
            <p:spPr>
              <a:xfrm flipH="1" rot="10800000">
                <a:off x="2543760" y="1426320"/>
                <a:ext cx="12924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H="1" rot="10800000">
                <a:off x="2543760" y="1285200"/>
                <a:ext cx="12924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flipH="1" rot="5400000">
                <a:off x="2536560" y="1166040"/>
                <a:ext cx="144000" cy="12924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flipH="1" rot="10800000">
                <a:off x="2544840" y="1568160"/>
                <a:ext cx="129240" cy="16200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1" name=""/>
            <p:cNvGrpSpPr/>
            <p:nvPr/>
          </p:nvGrpSpPr>
          <p:grpSpPr>
            <a:xfrm>
              <a:off x="1202040" y="2600280"/>
              <a:ext cx="385560" cy="731880"/>
              <a:chOff x="1202040" y="2600280"/>
              <a:chExt cx="385560" cy="731880"/>
            </a:xfrm>
          </p:grpSpPr>
          <p:sp>
            <p:nvSpPr>
              <p:cNvPr id="1952" name=""/>
              <p:cNvSpPr/>
              <p:nvPr/>
            </p:nvSpPr>
            <p:spPr>
              <a:xfrm>
                <a:off x="1202040" y="2600280"/>
                <a:ext cx="26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470240" y="2606760"/>
                <a:ext cx="0" cy="266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470240" y="2976480"/>
                <a:ext cx="0" cy="35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5" name=""/>
              <p:cNvGrpSpPr/>
              <p:nvPr/>
            </p:nvGrpSpPr>
            <p:grpSpPr>
              <a:xfrm>
                <a:off x="1359000" y="2881440"/>
                <a:ext cx="228600" cy="79200"/>
                <a:chOff x="1359000" y="2881440"/>
                <a:chExt cx="228600" cy="79200"/>
              </a:xfrm>
            </p:grpSpPr>
            <p:sp>
              <p:nvSpPr>
                <p:cNvPr id="1956" name=""/>
                <p:cNvSpPr/>
                <p:nvPr/>
              </p:nvSpPr>
              <p:spPr>
                <a:xfrm>
                  <a:off x="1365840" y="2881440"/>
                  <a:ext cx="2145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1359000" y="28814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1359000" y="29606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59" name=""/>
            <p:cNvSpPr/>
            <p:nvPr/>
          </p:nvSpPr>
          <p:spPr>
            <a:xfrm>
              <a:off x="1420920" y="2493720"/>
              <a:ext cx="7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511640" y="17319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1" name=""/>
            <p:cNvGrpSpPr/>
            <p:nvPr/>
          </p:nvGrpSpPr>
          <p:grpSpPr>
            <a:xfrm>
              <a:off x="3111480" y="2569680"/>
              <a:ext cx="129960" cy="571680"/>
              <a:chOff x="3111480" y="2569680"/>
              <a:chExt cx="129960" cy="571680"/>
            </a:xfrm>
          </p:grpSpPr>
          <p:sp>
            <p:nvSpPr>
              <p:cNvPr id="1962" name=""/>
              <p:cNvSpPr/>
              <p:nvPr/>
            </p:nvSpPr>
            <p:spPr>
              <a:xfrm rot="10800000">
                <a:off x="3112560" y="2837880"/>
                <a:ext cx="12888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rot="10800000">
                <a:off x="3112560" y="2696400"/>
                <a:ext cx="12888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rot="16200000">
                <a:off x="3104640" y="2577240"/>
                <a:ext cx="144360" cy="12888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rot="10800000">
                <a:off x="3111480" y="2979360"/>
                <a:ext cx="128880" cy="16200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6" name=""/>
            <p:cNvSpPr/>
            <p:nvPr/>
          </p:nvSpPr>
          <p:spPr>
            <a:xfrm>
              <a:off x="3187800" y="31035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3187800" y="24174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rot="16200000">
              <a:off x="3416400" y="230472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854520" y="302724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3854520" y="24174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1" name=""/>
            <p:cNvGrpSpPr/>
            <p:nvPr/>
          </p:nvGrpSpPr>
          <p:grpSpPr>
            <a:xfrm>
              <a:off x="4179960" y="2265120"/>
              <a:ext cx="226800" cy="304920"/>
              <a:chOff x="4179960" y="2265120"/>
              <a:chExt cx="226800" cy="304920"/>
            </a:xfrm>
          </p:grpSpPr>
          <p:sp>
            <p:nvSpPr>
              <p:cNvPr id="1972" name=""/>
              <p:cNvSpPr/>
              <p:nvPr/>
            </p:nvSpPr>
            <p:spPr>
              <a:xfrm>
                <a:off x="4179960" y="226512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V="1">
                <a:off x="4179960" y="2271240"/>
                <a:ext cx="226800" cy="14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4186440" y="2423880"/>
                <a:ext cx="220320" cy="13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5" name=""/>
            <p:cNvSpPr/>
            <p:nvPr/>
          </p:nvSpPr>
          <p:spPr>
            <a:xfrm>
              <a:off x="4346640" y="1350720"/>
              <a:ext cx="98640" cy="273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4407120" y="1617480"/>
              <a:ext cx="0" cy="66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V="1">
              <a:off x="4407120" y="798480"/>
              <a:ext cx="0" cy="55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8" name=""/>
            <p:cNvGrpSpPr/>
            <p:nvPr/>
          </p:nvGrpSpPr>
          <p:grpSpPr>
            <a:xfrm>
              <a:off x="5550120" y="2189160"/>
              <a:ext cx="226800" cy="304560"/>
              <a:chOff x="5550120" y="2189160"/>
              <a:chExt cx="226800" cy="304560"/>
            </a:xfrm>
          </p:grpSpPr>
          <p:sp>
            <p:nvSpPr>
              <p:cNvPr id="1979" name=""/>
              <p:cNvSpPr/>
              <p:nvPr/>
            </p:nvSpPr>
            <p:spPr>
              <a:xfrm>
                <a:off x="5550120" y="21891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V="1">
                <a:off x="5550120" y="2194560"/>
                <a:ext cx="226800" cy="14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556600" y="2347560"/>
                <a:ext cx="22032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2" name=""/>
            <p:cNvSpPr/>
            <p:nvPr/>
          </p:nvSpPr>
          <p:spPr>
            <a:xfrm rot="16200000">
              <a:off x="3503880" y="1826640"/>
              <a:ext cx="98280" cy="273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970520" y="2798640"/>
              <a:ext cx="98640" cy="272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718240" y="2830320"/>
              <a:ext cx="98640" cy="273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729480" y="2762280"/>
              <a:ext cx="22860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710160" y="1960560"/>
              <a:ext cx="13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4365720" y="1912680"/>
              <a:ext cx="85680" cy="860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206720" y="18842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1435320" y="1579320"/>
              <a:ext cx="0" cy="3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1206360" y="1579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016600" y="3103560"/>
              <a:ext cx="0" cy="26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H="1">
              <a:off x="5016600" y="234144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778720" y="2493720"/>
              <a:ext cx="0" cy="3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778720" y="3103560"/>
              <a:ext cx="0" cy="23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V="1">
              <a:off x="5778720" y="81756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778720" y="257004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845400" y="257004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845400" y="3179520"/>
              <a:ext cx="0" cy="16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3416400" y="173196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187800" y="132444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165840" y="2646360"/>
              <a:ext cx="63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330800" y="2189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766120" y="2112840"/>
              <a:ext cx="698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921720" y="2722320"/>
              <a:ext cx="69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340440" y="1960560"/>
              <a:ext cx="69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873600" y="264636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407120" y="127476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016600" y="27223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074000" y="180792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074000" y="202716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074000" y="217944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H="1">
              <a:off x="6616800" y="1849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H="1">
              <a:off x="6616800" y="2222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616800" y="1877760"/>
              <a:ext cx="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 flipV="1">
              <a:off x="6464160" y="1920600"/>
              <a:ext cx="6094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flipV="1">
              <a:off x="6616800" y="2112480"/>
              <a:ext cx="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693120" y="77616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8" name=""/>
          <p:cNvSpPr/>
          <p:nvPr/>
        </p:nvSpPr>
        <p:spPr>
          <a:xfrm>
            <a:off x="948960" y="304920"/>
            <a:ext cx="24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半导体接近开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457200" y="3505320"/>
            <a:ext cx="6248520" cy="29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某金属被测物体移近感应头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金属体内感应出涡流，由于涡流的消磁作用，破坏了线圈之间的磁耦合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的反馈电压显著降低，破坏了自激振荡的幅值条件，振荡器停振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输出交流电压为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0" name=""/>
          <p:cNvGrpSpPr/>
          <p:nvPr/>
        </p:nvGrpSpPr>
        <p:grpSpPr>
          <a:xfrm>
            <a:off x="6705360" y="3429000"/>
            <a:ext cx="1716120" cy="1831320"/>
            <a:chOff x="6705360" y="3429000"/>
            <a:chExt cx="1716120" cy="1831320"/>
          </a:xfrm>
        </p:grpSpPr>
        <p:grpSp>
          <p:nvGrpSpPr>
            <p:cNvPr id="2021" name=""/>
            <p:cNvGrpSpPr/>
            <p:nvPr/>
          </p:nvGrpSpPr>
          <p:grpSpPr>
            <a:xfrm>
              <a:off x="6705360" y="3883320"/>
              <a:ext cx="1716120" cy="152280"/>
              <a:chOff x="6705360" y="3883320"/>
              <a:chExt cx="1716120" cy="152280"/>
            </a:xfrm>
          </p:grpSpPr>
          <p:sp>
            <p:nvSpPr>
              <p:cNvPr id="2022" name=""/>
              <p:cNvSpPr/>
              <p:nvPr/>
            </p:nvSpPr>
            <p:spPr>
              <a:xfrm>
                <a:off x="6705360" y="3883320"/>
                <a:ext cx="1676160" cy="152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H="1">
                <a:off x="6781320" y="3883320"/>
                <a:ext cx="1526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H="1">
                <a:off x="6933600" y="38833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H="1">
                <a:off x="7085880" y="38833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flipH="1">
                <a:off x="7238520" y="3883320"/>
                <a:ext cx="1526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H="1">
                <a:off x="7390800" y="38833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H="1">
                <a:off x="7543080" y="38833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H="1">
                <a:off x="7543080" y="38833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flipH="1">
                <a:off x="7695720" y="3883320"/>
                <a:ext cx="1526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flipH="1">
                <a:off x="7848000" y="38833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flipH="1">
                <a:off x="8000280" y="38833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>
                <a:off x="8152920" y="3883320"/>
                <a:ext cx="1526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flipH="1">
                <a:off x="8305560" y="3919680"/>
                <a:ext cx="115920" cy="11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flipH="1">
                <a:off x="6705360" y="3883320"/>
                <a:ext cx="115920" cy="11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6" name=""/>
            <p:cNvSpPr/>
            <p:nvPr/>
          </p:nvSpPr>
          <p:spPr>
            <a:xfrm>
              <a:off x="6705360" y="419112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705360" y="5181840"/>
              <a:ext cx="171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705360" y="4191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010280" y="41911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8076960" y="41911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8076960" y="4191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8381880" y="419112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010280" y="4876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96080" y="4876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V="1">
              <a:off x="7391160" y="4724640"/>
              <a:ext cx="0" cy="18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V="1">
              <a:off x="7696080" y="4724640"/>
              <a:ext cx="0" cy="18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7" name=""/>
            <p:cNvGrpSpPr/>
            <p:nvPr/>
          </p:nvGrpSpPr>
          <p:grpSpPr>
            <a:xfrm>
              <a:off x="7295760" y="4303440"/>
              <a:ext cx="503280" cy="144720"/>
              <a:chOff x="7295760" y="4303440"/>
              <a:chExt cx="503280" cy="144720"/>
            </a:xfrm>
          </p:grpSpPr>
          <p:sp>
            <p:nvSpPr>
              <p:cNvPr id="2048" name=""/>
              <p:cNvSpPr/>
              <p:nvPr/>
            </p:nvSpPr>
            <p:spPr>
              <a:xfrm>
                <a:off x="7295760" y="4303800"/>
                <a:ext cx="503280" cy="144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7295760" y="4303800"/>
                <a:ext cx="5032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 flipV="1">
                <a:off x="7295760" y="4303440"/>
                <a:ext cx="5032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1" name=""/>
            <p:cNvGrpSpPr/>
            <p:nvPr/>
          </p:nvGrpSpPr>
          <p:grpSpPr>
            <a:xfrm>
              <a:off x="7295760" y="4616280"/>
              <a:ext cx="503280" cy="144720"/>
              <a:chOff x="7295760" y="4616280"/>
              <a:chExt cx="503280" cy="144720"/>
            </a:xfrm>
          </p:grpSpPr>
          <p:sp>
            <p:nvSpPr>
              <p:cNvPr id="2052" name=""/>
              <p:cNvSpPr/>
              <p:nvPr/>
            </p:nvSpPr>
            <p:spPr>
              <a:xfrm>
                <a:off x="7295760" y="4616640"/>
                <a:ext cx="503280" cy="144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295760" y="4616640"/>
                <a:ext cx="5032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V="1">
                <a:off x="7295760" y="4616280"/>
                <a:ext cx="5032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5" name=""/>
            <p:cNvSpPr/>
            <p:nvPr/>
          </p:nvSpPr>
          <p:spPr>
            <a:xfrm flipV="1">
              <a:off x="7696080" y="4455720"/>
              <a:ext cx="0" cy="18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 flipV="1">
              <a:off x="7391160" y="4455720"/>
              <a:ext cx="0" cy="18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V="1">
              <a:off x="7696080" y="4190760"/>
              <a:ext cx="0" cy="1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 flipV="1">
              <a:off x="7391160" y="4190760"/>
              <a:ext cx="0" cy="1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391160" y="4191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942240" y="449604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704000" y="441972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927840" y="4114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923520" y="3429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移动的金属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538400" y="4800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感应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5" name=""/>
          <p:cNvGrpSpPr/>
          <p:nvPr/>
        </p:nvGrpSpPr>
        <p:grpSpPr>
          <a:xfrm>
            <a:off x="444600" y="685800"/>
            <a:ext cx="7175520" cy="2708280"/>
            <a:chOff x="444600" y="685800"/>
            <a:chExt cx="7175520" cy="2708280"/>
          </a:xfrm>
        </p:grpSpPr>
        <p:sp>
          <p:nvSpPr>
            <p:cNvPr id="2066" name=""/>
            <p:cNvSpPr/>
            <p:nvPr/>
          </p:nvSpPr>
          <p:spPr>
            <a:xfrm>
              <a:off x="2175120" y="1108080"/>
              <a:ext cx="63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584720" y="1092240"/>
              <a:ext cx="536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426040" y="1589040"/>
              <a:ext cx="71280" cy="71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435320" y="2319480"/>
              <a:ext cx="71280" cy="71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225880" y="2948040"/>
              <a:ext cx="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1184400" y="1663560"/>
              <a:ext cx="0" cy="104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1184400" y="2973240"/>
              <a:ext cx="0" cy="27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3" name=""/>
            <p:cNvGrpSpPr/>
            <p:nvPr/>
          </p:nvGrpSpPr>
          <p:grpSpPr>
            <a:xfrm>
              <a:off x="1432080" y="2106360"/>
              <a:ext cx="429840" cy="144720"/>
              <a:chOff x="1432080" y="2106360"/>
              <a:chExt cx="429840" cy="144720"/>
            </a:xfrm>
          </p:grpSpPr>
          <p:sp>
            <p:nvSpPr>
              <p:cNvPr id="2074" name=""/>
              <p:cNvSpPr/>
              <p:nvPr/>
            </p:nvSpPr>
            <p:spPr>
              <a:xfrm rot="16200000">
                <a:off x="1440720" y="2097720"/>
                <a:ext cx="14436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rot="16200000">
                <a:off x="1581840" y="2097720"/>
                <a:ext cx="14436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1717560" y="2106720"/>
                <a:ext cx="144360" cy="14436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7" name=""/>
            <p:cNvSpPr/>
            <p:nvPr/>
          </p:nvSpPr>
          <p:spPr>
            <a:xfrm flipH="1">
              <a:off x="1186200" y="2228760"/>
              <a:ext cx="24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1190880" y="727200"/>
              <a:ext cx="5530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9" name=""/>
            <p:cNvGrpSpPr/>
            <p:nvPr/>
          </p:nvGrpSpPr>
          <p:grpSpPr>
            <a:xfrm>
              <a:off x="2035440" y="2095560"/>
              <a:ext cx="226800" cy="304920"/>
              <a:chOff x="2035440" y="2095560"/>
              <a:chExt cx="226800" cy="304920"/>
            </a:xfrm>
          </p:grpSpPr>
          <p:sp>
            <p:nvSpPr>
              <p:cNvPr id="2080" name=""/>
              <p:cNvSpPr/>
              <p:nvPr/>
            </p:nvSpPr>
            <p:spPr>
              <a:xfrm>
                <a:off x="2035440" y="209556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flipV="1">
                <a:off x="2035440" y="2101680"/>
                <a:ext cx="226800" cy="14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041920" y="2254320"/>
                <a:ext cx="220320" cy="13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3" name=""/>
            <p:cNvSpPr/>
            <p:nvPr/>
          </p:nvSpPr>
          <p:spPr>
            <a:xfrm>
              <a:off x="1184400" y="725400"/>
              <a:ext cx="0" cy="65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>
              <a:off x="1861920" y="2251080"/>
              <a:ext cx="17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235600" y="2389320"/>
              <a:ext cx="0" cy="27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V="1">
              <a:off x="2256120" y="1760040"/>
              <a:ext cx="0" cy="35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165320" y="3241800"/>
              <a:ext cx="568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140120" y="1366920"/>
              <a:ext cx="98280" cy="291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130400" y="2708280"/>
              <a:ext cx="98640" cy="291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176560" y="2658960"/>
              <a:ext cx="100080" cy="293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2235600" y="2511360"/>
              <a:ext cx="37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611800" y="1870200"/>
              <a:ext cx="144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613240" y="2887560"/>
              <a:ext cx="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4" name=""/>
            <p:cNvGrpSpPr/>
            <p:nvPr/>
          </p:nvGrpSpPr>
          <p:grpSpPr>
            <a:xfrm>
              <a:off x="2502000" y="2792520"/>
              <a:ext cx="228600" cy="79200"/>
              <a:chOff x="2502000" y="2792520"/>
              <a:chExt cx="228600" cy="79200"/>
            </a:xfrm>
          </p:grpSpPr>
          <p:sp>
            <p:nvSpPr>
              <p:cNvPr id="2095" name=""/>
              <p:cNvSpPr/>
              <p:nvPr/>
            </p:nvSpPr>
            <p:spPr>
              <a:xfrm>
                <a:off x="2508840" y="2792520"/>
                <a:ext cx="21456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502000" y="279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502000" y="2871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8" name=""/>
            <p:cNvGrpSpPr/>
            <p:nvPr/>
          </p:nvGrpSpPr>
          <p:grpSpPr>
            <a:xfrm>
              <a:off x="1960920" y="1271520"/>
              <a:ext cx="228600" cy="79560"/>
              <a:chOff x="1960920" y="1271520"/>
              <a:chExt cx="228600" cy="79560"/>
            </a:xfrm>
          </p:grpSpPr>
          <p:sp>
            <p:nvSpPr>
              <p:cNvPr id="2099" name=""/>
              <p:cNvSpPr/>
              <p:nvPr/>
            </p:nvSpPr>
            <p:spPr>
              <a:xfrm>
                <a:off x="1967760" y="1271520"/>
                <a:ext cx="214560" cy="7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1960920" y="1271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1960920" y="13510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2" name=""/>
            <p:cNvSpPr/>
            <p:nvPr/>
          </p:nvSpPr>
          <p:spPr>
            <a:xfrm flipH="1" flipV="1">
              <a:off x="3416040" y="2174400"/>
              <a:ext cx="1800" cy="31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V="1">
              <a:off x="2060640" y="960480"/>
              <a:ext cx="0" cy="31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2554560" y="1627200"/>
              <a:ext cx="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2554560" y="960480"/>
              <a:ext cx="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2060640" y="960480"/>
              <a:ext cx="49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407120" y="2479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613240" y="1870200"/>
              <a:ext cx="80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016600" y="18702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464520" y="72720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–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778720" y="2556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E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2184480" y="20224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3" name=""/>
            <p:cNvGrpSpPr/>
            <p:nvPr/>
          </p:nvGrpSpPr>
          <p:grpSpPr>
            <a:xfrm>
              <a:off x="2121120" y="3220920"/>
              <a:ext cx="212760" cy="173160"/>
              <a:chOff x="2121120" y="3220920"/>
              <a:chExt cx="212760" cy="173160"/>
            </a:xfrm>
          </p:grpSpPr>
          <p:sp>
            <p:nvSpPr>
              <p:cNvPr id="2114" name=""/>
              <p:cNvSpPr/>
              <p:nvPr/>
            </p:nvSpPr>
            <p:spPr>
              <a:xfrm>
                <a:off x="2234160" y="3220920"/>
                <a:ext cx="0" cy="17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2121120" y="3381480"/>
                <a:ext cx="212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6" name=""/>
            <p:cNvSpPr/>
            <p:nvPr/>
          </p:nvSpPr>
          <p:spPr>
            <a:xfrm>
              <a:off x="3187800" y="2327400"/>
              <a:ext cx="1011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V="1">
              <a:off x="2060640" y="1360080"/>
              <a:ext cx="0" cy="39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2060640" y="1760400"/>
              <a:ext cx="49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2306880" y="72720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797640" y="2664000"/>
              <a:ext cx="98280" cy="272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44600" y="123408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97240" y="245340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663920" y="2682000"/>
              <a:ext cx="64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611800" y="2784600"/>
              <a:ext cx="69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5" name=""/>
            <p:cNvGrpSpPr/>
            <p:nvPr/>
          </p:nvGrpSpPr>
          <p:grpSpPr>
            <a:xfrm>
              <a:off x="2544120" y="1068480"/>
              <a:ext cx="130320" cy="571320"/>
              <a:chOff x="2544120" y="1068480"/>
              <a:chExt cx="130320" cy="571320"/>
            </a:xfrm>
          </p:grpSpPr>
          <p:sp>
            <p:nvSpPr>
              <p:cNvPr id="2126" name=""/>
              <p:cNvSpPr/>
              <p:nvPr/>
            </p:nvSpPr>
            <p:spPr>
              <a:xfrm flipH="1" rot="10800000">
                <a:off x="2543760" y="1335960"/>
                <a:ext cx="12924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H="1" rot="10800000">
                <a:off x="2543760" y="1194840"/>
                <a:ext cx="12924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H="1" rot="5400000">
                <a:off x="2536560" y="1075680"/>
                <a:ext cx="144000" cy="12924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flipH="1" rot="10800000">
                <a:off x="2544840" y="1477800"/>
                <a:ext cx="129240" cy="16200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0" name=""/>
            <p:cNvGrpSpPr/>
            <p:nvPr/>
          </p:nvGrpSpPr>
          <p:grpSpPr>
            <a:xfrm>
              <a:off x="1202040" y="2509920"/>
              <a:ext cx="385560" cy="731880"/>
              <a:chOff x="1202040" y="2509920"/>
              <a:chExt cx="385560" cy="731880"/>
            </a:xfrm>
          </p:grpSpPr>
          <p:sp>
            <p:nvSpPr>
              <p:cNvPr id="2131" name=""/>
              <p:cNvSpPr/>
              <p:nvPr/>
            </p:nvSpPr>
            <p:spPr>
              <a:xfrm>
                <a:off x="1202040" y="2509920"/>
                <a:ext cx="26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1470240" y="2516400"/>
                <a:ext cx="0" cy="266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1470240" y="2886120"/>
                <a:ext cx="0" cy="35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4" name=""/>
              <p:cNvGrpSpPr/>
              <p:nvPr/>
            </p:nvGrpSpPr>
            <p:grpSpPr>
              <a:xfrm>
                <a:off x="1359000" y="2791080"/>
                <a:ext cx="228600" cy="79200"/>
                <a:chOff x="1359000" y="2791080"/>
                <a:chExt cx="228600" cy="79200"/>
              </a:xfrm>
            </p:grpSpPr>
            <p:sp>
              <p:nvSpPr>
                <p:cNvPr id="2135" name=""/>
                <p:cNvSpPr/>
                <p:nvPr/>
              </p:nvSpPr>
              <p:spPr>
                <a:xfrm>
                  <a:off x="1365840" y="2791080"/>
                  <a:ext cx="2145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1359000" y="2791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1359000" y="28702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38" name=""/>
            <p:cNvSpPr/>
            <p:nvPr/>
          </p:nvSpPr>
          <p:spPr>
            <a:xfrm>
              <a:off x="1420920" y="2403360"/>
              <a:ext cx="7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1511640" y="16416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0" name=""/>
            <p:cNvGrpSpPr/>
            <p:nvPr/>
          </p:nvGrpSpPr>
          <p:grpSpPr>
            <a:xfrm>
              <a:off x="3111480" y="2479320"/>
              <a:ext cx="129960" cy="571680"/>
              <a:chOff x="3111480" y="2479320"/>
              <a:chExt cx="129960" cy="571680"/>
            </a:xfrm>
          </p:grpSpPr>
          <p:sp>
            <p:nvSpPr>
              <p:cNvPr id="2141" name=""/>
              <p:cNvSpPr/>
              <p:nvPr/>
            </p:nvSpPr>
            <p:spPr>
              <a:xfrm rot="10800000">
                <a:off x="3112560" y="2747520"/>
                <a:ext cx="12888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rot="10800000">
                <a:off x="3112560" y="2606040"/>
                <a:ext cx="12888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rot="16200000">
                <a:off x="3104640" y="2486880"/>
                <a:ext cx="144360" cy="12888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rot="10800000">
                <a:off x="3111480" y="2889000"/>
                <a:ext cx="128880" cy="16200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5" name=""/>
            <p:cNvSpPr/>
            <p:nvPr/>
          </p:nvSpPr>
          <p:spPr>
            <a:xfrm>
              <a:off x="3187800" y="3013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V="1">
              <a:off x="3187800" y="23270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rot="16200000">
              <a:off x="3416400" y="221436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854520" y="29368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V="1">
              <a:off x="3854520" y="232704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0" name=""/>
            <p:cNvGrpSpPr/>
            <p:nvPr/>
          </p:nvGrpSpPr>
          <p:grpSpPr>
            <a:xfrm>
              <a:off x="4179960" y="2174760"/>
              <a:ext cx="226800" cy="304920"/>
              <a:chOff x="4179960" y="2174760"/>
              <a:chExt cx="226800" cy="304920"/>
            </a:xfrm>
          </p:grpSpPr>
          <p:sp>
            <p:nvSpPr>
              <p:cNvPr id="2151" name=""/>
              <p:cNvSpPr/>
              <p:nvPr/>
            </p:nvSpPr>
            <p:spPr>
              <a:xfrm>
                <a:off x="4179960" y="217476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V="1">
                <a:off x="4179960" y="2180880"/>
                <a:ext cx="226800" cy="14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4186440" y="2333520"/>
                <a:ext cx="220320" cy="13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4" name=""/>
            <p:cNvSpPr/>
            <p:nvPr/>
          </p:nvSpPr>
          <p:spPr>
            <a:xfrm>
              <a:off x="4346640" y="1260360"/>
              <a:ext cx="98640" cy="273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V="1">
              <a:off x="4407120" y="1527120"/>
              <a:ext cx="0" cy="66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V="1">
              <a:off x="4407120" y="708120"/>
              <a:ext cx="0" cy="55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7" name=""/>
            <p:cNvGrpSpPr/>
            <p:nvPr/>
          </p:nvGrpSpPr>
          <p:grpSpPr>
            <a:xfrm>
              <a:off x="5550120" y="2098800"/>
              <a:ext cx="226800" cy="304560"/>
              <a:chOff x="5550120" y="2098800"/>
              <a:chExt cx="226800" cy="304560"/>
            </a:xfrm>
          </p:grpSpPr>
          <p:sp>
            <p:nvSpPr>
              <p:cNvPr id="2158" name=""/>
              <p:cNvSpPr/>
              <p:nvPr/>
            </p:nvSpPr>
            <p:spPr>
              <a:xfrm>
                <a:off x="5550120" y="20988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flipV="1">
                <a:off x="5550120" y="2104200"/>
                <a:ext cx="226800" cy="14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5556600" y="2257200"/>
                <a:ext cx="22032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1" name=""/>
            <p:cNvSpPr/>
            <p:nvPr/>
          </p:nvSpPr>
          <p:spPr>
            <a:xfrm rot="16200000">
              <a:off x="3503880" y="1736280"/>
              <a:ext cx="98280" cy="273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970520" y="2708280"/>
              <a:ext cx="98640" cy="272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718240" y="2739960"/>
              <a:ext cx="98640" cy="273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729480" y="2671920"/>
              <a:ext cx="22860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710160" y="1870200"/>
              <a:ext cx="13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365720" y="1822320"/>
              <a:ext cx="85680" cy="860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206720" y="1793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1435320" y="1488960"/>
              <a:ext cx="0" cy="3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1206360" y="1488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016600" y="3013200"/>
              <a:ext cx="0" cy="26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>
              <a:off x="5016600" y="22510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778720" y="2403360"/>
              <a:ext cx="0" cy="3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778720" y="3013200"/>
              <a:ext cx="0" cy="23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V="1">
              <a:off x="5778720" y="7272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778720" y="24796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6845400" y="247968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6845400" y="3089160"/>
              <a:ext cx="0" cy="16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V="1">
              <a:off x="3416400" y="16416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187800" y="123408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165840" y="2556000"/>
              <a:ext cx="63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330800" y="2098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766120" y="2022480"/>
              <a:ext cx="698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921720" y="2631960"/>
              <a:ext cx="69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340440" y="1870200"/>
              <a:ext cx="69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873600" y="2556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407120" y="11844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016600" y="263196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074000" y="171756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7074000" y="193680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7074000" y="208908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>
              <a:off x="6616800" y="1758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H="1">
              <a:off x="6616800" y="2131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616800" y="1787400"/>
              <a:ext cx="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H="1" flipV="1">
              <a:off x="6464160" y="1830240"/>
              <a:ext cx="6094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V="1">
              <a:off x="6616800" y="2022120"/>
              <a:ext cx="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693120" y="68580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7" name=""/>
          <p:cNvSpPr/>
          <p:nvPr/>
        </p:nvSpPr>
        <p:spPr>
          <a:xfrm>
            <a:off x="877320" y="228600"/>
            <a:ext cx="24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半导体接近开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380880" y="3429000"/>
            <a:ext cx="830592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输出交流电压为零时，二极管的整流输出电压也为零，因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截止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饱和导通，继电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继电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常闭触点接在电动机的控制回路内，可在被测金属体接近危险位置时，立即断电使电动机停转；也可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常开触点接在报警电路上，同时发出声光报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9" name=""/>
          <p:cNvGrpSpPr/>
          <p:nvPr/>
        </p:nvGrpSpPr>
        <p:grpSpPr>
          <a:xfrm>
            <a:off x="444600" y="685800"/>
            <a:ext cx="7175520" cy="2708280"/>
            <a:chOff x="444600" y="685800"/>
            <a:chExt cx="7175520" cy="2708280"/>
          </a:xfrm>
        </p:grpSpPr>
        <p:sp>
          <p:nvSpPr>
            <p:cNvPr id="2200" name=""/>
            <p:cNvSpPr/>
            <p:nvPr/>
          </p:nvSpPr>
          <p:spPr>
            <a:xfrm>
              <a:off x="2175120" y="1108080"/>
              <a:ext cx="63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84720" y="1092240"/>
              <a:ext cx="536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426040" y="1589040"/>
              <a:ext cx="71280" cy="71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435320" y="2319480"/>
              <a:ext cx="71280" cy="71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225880" y="2948040"/>
              <a:ext cx="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184400" y="1663560"/>
              <a:ext cx="0" cy="104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184400" y="2973240"/>
              <a:ext cx="0" cy="27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7" name=""/>
            <p:cNvGrpSpPr/>
            <p:nvPr/>
          </p:nvGrpSpPr>
          <p:grpSpPr>
            <a:xfrm>
              <a:off x="1432080" y="2106360"/>
              <a:ext cx="429840" cy="144720"/>
              <a:chOff x="1432080" y="2106360"/>
              <a:chExt cx="429840" cy="144720"/>
            </a:xfrm>
          </p:grpSpPr>
          <p:sp>
            <p:nvSpPr>
              <p:cNvPr id="2208" name=""/>
              <p:cNvSpPr/>
              <p:nvPr/>
            </p:nvSpPr>
            <p:spPr>
              <a:xfrm rot="16200000">
                <a:off x="1440720" y="2097720"/>
                <a:ext cx="14436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rot="16200000">
                <a:off x="1581840" y="2097720"/>
                <a:ext cx="14436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1717560" y="2106720"/>
                <a:ext cx="144360" cy="14436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1" name=""/>
            <p:cNvSpPr/>
            <p:nvPr/>
          </p:nvSpPr>
          <p:spPr>
            <a:xfrm flipH="1">
              <a:off x="1186200" y="2228760"/>
              <a:ext cx="24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190880" y="727200"/>
              <a:ext cx="5530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3" name=""/>
            <p:cNvGrpSpPr/>
            <p:nvPr/>
          </p:nvGrpSpPr>
          <p:grpSpPr>
            <a:xfrm>
              <a:off x="2035440" y="2095560"/>
              <a:ext cx="226800" cy="304920"/>
              <a:chOff x="2035440" y="2095560"/>
              <a:chExt cx="226800" cy="304920"/>
            </a:xfrm>
          </p:grpSpPr>
          <p:sp>
            <p:nvSpPr>
              <p:cNvPr id="2214" name=""/>
              <p:cNvSpPr/>
              <p:nvPr/>
            </p:nvSpPr>
            <p:spPr>
              <a:xfrm>
                <a:off x="2035440" y="209556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flipV="1">
                <a:off x="2035440" y="2101680"/>
                <a:ext cx="226800" cy="14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2041920" y="2254320"/>
                <a:ext cx="220320" cy="13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7" name=""/>
            <p:cNvSpPr/>
            <p:nvPr/>
          </p:nvSpPr>
          <p:spPr>
            <a:xfrm>
              <a:off x="1184400" y="725400"/>
              <a:ext cx="0" cy="65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H="1">
              <a:off x="1861920" y="2251080"/>
              <a:ext cx="17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235600" y="2389320"/>
              <a:ext cx="0" cy="27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V="1">
              <a:off x="2256120" y="1760040"/>
              <a:ext cx="0" cy="35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165320" y="3241800"/>
              <a:ext cx="568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140120" y="1366920"/>
              <a:ext cx="98280" cy="291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130400" y="2708280"/>
              <a:ext cx="98640" cy="291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176560" y="2658960"/>
              <a:ext cx="100080" cy="293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235600" y="2511360"/>
              <a:ext cx="37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611800" y="1870200"/>
              <a:ext cx="144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613240" y="2887560"/>
              <a:ext cx="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8" name=""/>
            <p:cNvGrpSpPr/>
            <p:nvPr/>
          </p:nvGrpSpPr>
          <p:grpSpPr>
            <a:xfrm>
              <a:off x="2502000" y="2792520"/>
              <a:ext cx="228600" cy="79200"/>
              <a:chOff x="2502000" y="2792520"/>
              <a:chExt cx="228600" cy="79200"/>
            </a:xfrm>
          </p:grpSpPr>
          <p:sp>
            <p:nvSpPr>
              <p:cNvPr id="2229" name=""/>
              <p:cNvSpPr/>
              <p:nvPr/>
            </p:nvSpPr>
            <p:spPr>
              <a:xfrm>
                <a:off x="2508840" y="2792520"/>
                <a:ext cx="21456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2502000" y="279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2502000" y="2871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2" name=""/>
            <p:cNvGrpSpPr/>
            <p:nvPr/>
          </p:nvGrpSpPr>
          <p:grpSpPr>
            <a:xfrm>
              <a:off x="1960920" y="1271520"/>
              <a:ext cx="228600" cy="79560"/>
              <a:chOff x="1960920" y="1271520"/>
              <a:chExt cx="228600" cy="79560"/>
            </a:xfrm>
          </p:grpSpPr>
          <p:sp>
            <p:nvSpPr>
              <p:cNvPr id="2233" name=""/>
              <p:cNvSpPr/>
              <p:nvPr/>
            </p:nvSpPr>
            <p:spPr>
              <a:xfrm>
                <a:off x="1967760" y="1271520"/>
                <a:ext cx="214560" cy="7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960920" y="1271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1960920" y="13510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6" name=""/>
            <p:cNvSpPr/>
            <p:nvPr/>
          </p:nvSpPr>
          <p:spPr>
            <a:xfrm flipH="1" flipV="1">
              <a:off x="3416040" y="2174400"/>
              <a:ext cx="1800" cy="31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V="1">
              <a:off x="2060640" y="960480"/>
              <a:ext cx="0" cy="31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554560" y="1627200"/>
              <a:ext cx="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V="1">
              <a:off x="2554560" y="960480"/>
              <a:ext cx="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 flipH="1">
              <a:off x="2060640" y="960480"/>
              <a:ext cx="49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407120" y="2479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613240" y="1870200"/>
              <a:ext cx="80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016600" y="18702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464520" y="72720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–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778720" y="2556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E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184480" y="20224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7" name=""/>
            <p:cNvGrpSpPr/>
            <p:nvPr/>
          </p:nvGrpSpPr>
          <p:grpSpPr>
            <a:xfrm>
              <a:off x="2121120" y="3220920"/>
              <a:ext cx="212760" cy="173160"/>
              <a:chOff x="2121120" y="3220920"/>
              <a:chExt cx="212760" cy="173160"/>
            </a:xfrm>
          </p:grpSpPr>
          <p:sp>
            <p:nvSpPr>
              <p:cNvPr id="2248" name=""/>
              <p:cNvSpPr/>
              <p:nvPr/>
            </p:nvSpPr>
            <p:spPr>
              <a:xfrm>
                <a:off x="2234160" y="3220920"/>
                <a:ext cx="0" cy="17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2121120" y="3381480"/>
                <a:ext cx="212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0" name=""/>
            <p:cNvSpPr/>
            <p:nvPr/>
          </p:nvSpPr>
          <p:spPr>
            <a:xfrm>
              <a:off x="3187800" y="2327400"/>
              <a:ext cx="1011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2060640" y="1360080"/>
              <a:ext cx="0" cy="39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H="1">
              <a:off x="2060640" y="1760400"/>
              <a:ext cx="49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V="1">
              <a:off x="2306880" y="72720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797640" y="2664000"/>
              <a:ext cx="98280" cy="272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44600" y="123408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97240" y="245340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663920" y="2682000"/>
              <a:ext cx="64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611800" y="2784600"/>
              <a:ext cx="69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9" name=""/>
            <p:cNvGrpSpPr/>
            <p:nvPr/>
          </p:nvGrpSpPr>
          <p:grpSpPr>
            <a:xfrm>
              <a:off x="2544120" y="1068480"/>
              <a:ext cx="130320" cy="571320"/>
              <a:chOff x="2544120" y="1068480"/>
              <a:chExt cx="130320" cy="571320"/>
            </a:xfrm>
          </p:grpSpPr>
          <p:sp>
            <p:nvSpPr>
              <p:cNvPr id="2260" name=""/>
              <p:cNvSpPr/>
              <p:nvPr/>
            </p:nvSpPr>
            <p:spPr>
              <a:xfrm flipH="1" rot="10800000">
                <a:off x="2543760" y="1335960"/>
                <a:ext cx="12924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flipH="1" rot="10800000">
                <a:off x="2543760" y="1194840"/>
                <a:ext cx="12924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flipH="1" rot="5400000">
                <a:off x="2536560" y="1075680"/>
                <a:ext cx="144000" cy="12924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H="1" rot="10800000">
                <a:off x="2544840" y="1477800"/>
                <a:ext cx="129240" cy="16200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4" name=""/>
            <p:cNvGrpSpPr/>
            <p:nvPr/>
          </p:nvGrpSpPr>
          <p:grpSpPr>
            <a:xfrm>
              <a:off x="1202040" y="2509920"/>
              <a:ext cx="385560" cy="731880"/>
              <a:chOff x="1202040" y="2509920"/>
              <a:chExt cx="385560" cy="731880"/>
            </a:xfrm>
          </p:grpSpPr>
          <p:sp>
            <p:nvSpPr>
              <p:cNvPr id="2265" name=""/>
              <p:cNvSpPr/>
              <p:nvPr/>
            </p:nvSpPr>
            <p:spPr>
              <a:xfrm>
                <a:off x="1202040" y="2509920"/>
                <a:ext cx="26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470240" y="2516400"/>
                <a:ext cx="0" cy="266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470240" y="2886120"/>
                <a:ext cx="0" cy="35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68" name=""/>
              <p:cNvGrpSpPr/>
              <p:nvPr/>
            </p:nvGrpSpPr>
            <p:grpSpPr>
              <a:xfrm>
                <a:off x="1359000" y="2791080"/>
                <a:ext cx="228600" cy="79200"/>
                <a:chOff x="1359000" y="2791080"/>
                <a:chExt cx="228600" cy="79200"/>
              </a:xfrm>
            </p:grpSpPr>
            <p:sp>
              <p:nvSpPr>
                <p:cNvPr id="2269" name=""/>
                <p:cNvSpPr/>
                <p:nvPr/>
              </p:nvSpPr>
              <p:spPr>
                <a:xfrm>
                  <a:off x="1365840" y="2791080"/>
                  <a:ext cx="2145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1359000" y="2791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1359000" y="28702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72" name=""/>
            <p:cNvSpPr/>
            <p:nvPr/>
          </p:nvSpPr>
          <p:spPr>
            <a:xfrm>
              <a:off x="1420920" y="2403360"/>
              <a:ext cx="7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511640" y="16416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4" name=""/>
            <p:cNvGrpSpPr/>
            <p:nvPr/>
          </p:nvGrpSpPr>
          <p:grpSpPr>
            <a:xfrm>
              <a:off x="3111480" y="2479320"/>
              <a:ext cx="129960" cy="571680"/>
              <a:chOff x="3111480" y="2479320"/>
              <a:chExt cx="129960" cy="571680"/>
            </a:xfrm>
          </p:grpSpPr>
          <p:sp>
            <p:nvSpPr>
              <p:cNvPr id="2275" name=""/>
              <p:cNvSpPr/>
              <p:nvPr/>
            </p:nvSpPr>
            <p:spPr>
              <a:xfrm rot="10800000">
                <a:off x="3112560" y="2747520"/>
                <a:ext cx="12888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0800000">
                <a:off x="3112560" y="2606040"/>
                <a:ext cx="128880" cy="16164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3104640" y="2486880"/>
                <a:ext cx="144360" cy="128880"/>
              </a:xfrm>
              <a:custGeom>
                <a:avLst/>
                <a:gdLst/>
                <a:ahLst/>
                <a:rect l="l" t="t" r="r" b="b"/>
                <a:pathLst>
                  <a:path w="140" h="145">
                    <a:moveTo>
                      <a:pt x="1" y="145"/>
                    </a:moveTo>
                    <a:cubicBezTo>
                      <a:pt x="4" y="131"/>
                      <a:pt x="0" y="75"/>
                      <a:pt x="8" y="54"/>
                    </a:cubicBezTo>
                    <a:cubicBezTo>
                      <a:pt x="16" y="33"/>
                      <a:pt x="26" y="14"/>
                      <a:pt x="48" y="16"/>
                    </a:cubicBezTo>
                    <a:cubicBezTo>
                      <a:pt x="83" y="1"/>
                      <a:pt x="121" y="0"/>
                      <a:pt x="134" y="67"/>
                    </a:cubicBezTo>
                    <a:cubicBezTo>
                      <a:pt x="140" y="73"/>
                      <a:pt x="128" y="127"/>
                      <a:pt x="133" y="136"/>
                    </a:cubicBezTo>
                    <a:cubicBezTo>
                      <a:pt x="136" y="144"/>
                      <a:pt x="140" y="126"/>
                      <a:pt x="139" y="1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0800000">
                <a:off x="3111480" y="2889000"/>
                <a:ext cx="128880" cy="162000"/>
              </a:xfrm>
              <a:custGeom>
                <a:avLst/>
                <a:gdLst/>
                <a:ahLst/>
                <a:rect l="l" t="t" r="r" b="b"/>
                <a:pathLst>
                  <a:path w="137" h="221">
                    <a:moveTo>
                      <a:pt x="0" y="2"/>
                    </a:moveTo>
                    <a:cubicBezTo>
                      <a:pt x="13" y="6"/>
                      <a:pt x="66" y="0"/>
                      <a:pt x="86" y="11"/>
                    </a:cubicBezTo>
                    <a:cubicBezTo>
                      <a:pt x="106" y="22"/>
                      <a:pt x="124" y="37"/>
                      <a:pt x="122" y="67"/>
                    </a:cubicBezTo>
                    <a:cubicBezTo>
                      <a:pt x="136" y="117"/>
                      <a:pt x="137" y="171"/>
                      <a:pt x="74" y="189"/>
                    </a:cubicBezTo>
                    <a:cubicBezTo>
                      <a:pt x="68" y="197"/>
                      <a:pt x="30" y="196"/>
                      <a:pt x="22" y="202"/>
                    </a:cubicBezTo>
                    <a:cubicBezTo>
                      <a:pt x="14" y="207"/>
                      <a:pt x="28" y="221"/>
                      <a:pt x="28" y="2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9" name=""/>
            <p:cNvSpPr/>
            <p:nvPr/>
          </p:nvSpPr>
          <p:spPr>
            <a:xfrm>
              <a:off x="3187800" y="3013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 flipV="1">
              <a:off x="3187800" y="23270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rot="16200000">
              <a:off x="3416400" y="221436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3854520" y="29368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 flipV="1">
              <a:off x="3854520" y="232704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4" name=""/>
            <p:cNvGrpSpPr/>
            <p:nvPr/>
          </p:nvGrpSpPr>
          <p:grpSpPr>
            <a:xfrm>
              <a:off x="4179960" y="2174760"/>
              <a:ext cx="226800" cy="304920"/>
              <a:chOff x="4179960" y="2174760"/>
              <a:chExt cx="226800" cy="304920"/>
            </a:xfrm>
          </p:grpSpPr>
          <p:sp>
            <p:nvSpPr>
              <p:cNvPr id="2285" name=""/>
              <p:cNvSpPr/>
              <p:nvPr/>
            </p:nvSpPr>
            <p:spPr>
              <a:xfrm>
                <a:off x="4179960" y="217476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flipV="1">
                <a:off x="4179960" y="2180880"/>
                <a:ext cx="226800" cy="14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4186440" y="2333520"/>
                <a:ext cx="220320" cy="13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8" name=""/>
            <p:cNvSpPr/>
            <p:nvPr/>
          </p:nvSpPr>
          <p:spPr>
            <a:xfrm>
              <a:off x="4346640" y="1260360"/>
              <a:ext cx="98640" cy="273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V="1">
              <a:off x="4407120" y="1527120"/>
              <a:ext cx="0" cy="66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 flipV="1">
              <a:off x="4407120" y="708120"/>
              <a:ext cx="0" cy="55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1" name=""/>
            <p:cNvGrpSpPr/>
            <p:nvPr/>
          </p:nvGrpSpPr>
          <p:grpSpPr>
            <a:xfrm>
              <a:off x="5550120" y="2098800"/>
              <a:ext cx="226800" cy="304560"/>
              <a:chOff x="5550120" y="2098800"/>
              <a:chExt cx="226800" cy="304560"/>
            </a:xfrm>
          </p:grpSpPr>
          <p:sp>
            <p:nvSpPr>
              <p:cNvPr id="2292" name=""/>
              <p:cNvSpPr/>
              <p:nvPr/>
            </p:nvSpPr>
            <p:spPr>
              <a:xfrm>
                <a:off x="5550120" y="20988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flipV="1">
                <a:off x="5550120" y="2104200"/>
                <a:ext cx="226800" cy="14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5556600" y="2257200"/>
                <a:ext cx="22032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5" name=""/>
            <p:cNvSpPr/>
            <p:nvPr/>
          </p:nvSpPr>
          <p:spPr>
            <a:xfrm rot="16200000">
              <a:off x="3503880" y="1736280"/>
              <a:ext cx="98280" cy="273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970520" y="2708280"/>
              <a:ext cx="98640" cy="272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718240" y="2739960"/>
              <a:ext cx="98640" cy="273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6729480" y="2671920"/>
              <a:ext cx="22860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3710160" y="1870200"/>
              <a:ext cx="13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365720" y="1822320"/>
              <a:ext cx="85680" cy="860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206720" y="1793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V="1">
              <a:off x="1435320" y="1488960"/>
              <a:ext cx="0" cy="3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 flipH="1">
              <a:off x="1206360" y="1488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016600" y="3013200"/>
              <a:ext cx="0" cy="26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H="1">
              <a:off x="5016600" y="22510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778720" y="2403360"/>
              <a:ext cx="0" cy="3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778720" y="3013200"/>
              <a:ext cx="0" cy="23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V="1">
              <a:off x="5778720" y="7272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778720" y="24796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845400" y="247968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845400" y="3089160"/>
              <a:ext cx="0" cy="16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flipV="1">
              <a:off x="3416400" y="16416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3187800" y="123408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165840" y="2556000"/>
              <a:ext cx="63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330800" y="2098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766120" y="2022480"/>
              <a:ext cx="698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921720" y="2631960"/>
              <a:ext cx="69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340440" y="1870200"/>
              <a:ext cx="69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873600" y="2556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407120" y="11844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016600" y="263196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74000" y="171756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7074000" y="193680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074000" y="208908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flipH="1">
              <a:off x="6616800" y="1758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H="1">
              <a:off x="6616800" y="2131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616800" y="1787400"/>
              <a:ext cx="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 flipH="1" flipV="1">
              <a:off x="6464160" y="1830240"/>
              <a:ext cx="6094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V="1">
              <a:off x="6616800" y="2022120"/>
              <a:ext cx="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693120" y="68580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1" name=""/>
          <p:cNvSpPr/>
          <p:nvPr/>
        </p:nvSpPr>
        <p:spPr>
          <a:xfrm>
            <a:off x="877320" y="228600"/>
            <a:ext cx="24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半导体接近开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380880" y="3429000"/>
            <a:ext cx="83059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金属被测物体离开感应头后，振荡电路立即起振，在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输出正弦电压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二极管的整流后，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饱和导通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截止，继电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断电，常闭触点重新闭合，电动机运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来调节振荡输出幅度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使振荡电路迅速而可靠的停振，也能促使振荡电路在被测金属物体离开感应头时迅速恢复振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914400" y="1560600"/>
            <a:ext cx="4311360" cy="803160"/>
            <a:chOff x="914400" y="1560600"/>
            <a:chExt cx="4311360" cy="803160"/>
          </a:xfrm>
        </p:grpSpPr>
        <p:sp>
          <p:nvSpPr>
            <p:cNvPr id="96" name=""/>
            <p:cNvSpPr/>
            <p:nvPr/>
          </p:nvSpPr>
          <p:spPr>
            <a:xfrm>
              <a:off x="2589120" y="1759320"/>
              <a:ext cx="927000" cy="60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49200" y="2033640"/>
              <a:ext cx="43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20480" y="2033640"/>
              <a:ext cx="4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16120" y="203364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1809000" y="2059560"/>
              <a:ext cx="304560" cy="16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25720" y="1997280"/>
              <a:ext cx="58680" cy="65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71520" y="2008440"/>
              <a:ext cx="56880" cy="63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68160" y="1560600"/>
              <a:ext cx="34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2787480" y="1843200"/>
                  <a:ext cx="303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914400" y="1751400"/>
                  <a:ext cx="369720" cy="51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4857480" y="181152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"/>
            <p:cNvSpPr/>
            <p:nvPr/>
          </p:nvSpPr>
          <p:spPr>
            <a:xfrm>
              <a:off x="2038320" y="1560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85840" y="2003760"/>
              <a:ext cx="57240" cy="66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84400" y="1843200"/>
              <a:ext cx="41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2590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自激振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33520"/>
            <a:ext cx="8153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放大电路在无输入信号的情况下，就能输出一定频率和幅值的交流信号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1638360"/>
            <a:ext cx="2971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开关合在“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无反馈放大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867280" y="2552760"/>
                <a:ext cx="1855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1700280" y="2050920"/>
            <a:ext cx="390600" cy="234720"/>
            <a:chOff x="1700280" y="2050920"/>
            <a:chExt cx="390600" cy="234720"/>
          </a:xfrm>
        </p:grpSpPr>
        <p:sp>
          <p:nvSpPr>
            <p:cNvPr id="115" name=""/>
            <p:cNvSpPr/>
            <p:nvPr/>
          </p:nvSpPr>
          <p:spPr>
            <a:xfrm>
              <a:off x="1700280" y="2050920"/>
              <a:ext cx="390600" cy="234720"/>
            </a:xfrm>
            <a:prstGeom prst="rect">
              <a:avLst/>
            </a:prstGeom>
            <a:solidFill>
              <a:srgbClr val="f6f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00280" y="205092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955800" y="3203640"/>
            <a:ext cx="4302000" cy="1576440"/>
            <a:chOff x="955800" y="3203640"/>
            <a:chExt cx="4302000" cy="1576440"/>
          </a:xfrm>
        </p:grpSpPr>
        <p:sp>
          <p:nvSpPr>
            <p:cNvPr id="118" name=""/>
            <p:cNvSpPr/>
            <p:nvPr/>
          </p:nvSpPr>
          <p:spPr>
            <a:xfrm>
              <a:off x="2620800" y="4176720"/>
              <a:ext cx="925560" cy="603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7560" y="450540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7560" y="401328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46360" y="4505400"/>
              <a:ext cx="53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83120" y="3592440"/>
              <a:ext cx="0" cy="9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62000" y="3959280"/>
              <a:ext cx="57240" cy="65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00200" y="3821040"/>
              <a:ext cx="34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2913120" y="4260960"/>
                  <a:ext cx="303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2046240" y="3782880"/>
                  <a:ext cx="345960" cy="48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7" name=""/>
            <p:cNvSpPr/>
            <p:nvPr/>
          </p:nvSpPr>
          <p:spPr>
            <a:xfrm>
              <a:off x="2620800" y="3325680"/>
              <a:ext cx="927360" cy="603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81240" y="3600360"/>
              <a:ext cx="43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52520" y="3600360"/>
              <a:ext cx="43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48160" y="360036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57760" y="3564000"/>
              <a:ext cx="58680" cy="65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90640" y="3570120"/>
              <a:ext cx="57240" cy="66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03200" y="3575160"/>
              <a:ext cx="57240" cy="63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43120" y="3271680"/>
              <a:ext cx="34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2819520" y="3409920"/>
                  <a:ext cx="303120" cy="33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955800" y="3343320"/>
                  <a:ext cx="34740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4879800" y="3340080"/>
                  <a:ext cx="3780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8" name=""/>
            <p:cNvSpPr/>
            <p:nvPr/>
          </p:nvSpPr>
          <p:spPr>
            <a:xfrm>
              <a:off x="2070360" y="3203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17880" y="3570120"/>
              <a:ext cx="56880" cy="66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797120" y="3575160"/>
              <a:ext cx="341280" cy="384120"/>
              <a:chOff x="1797120" y="3575160"/>
              <a:chExt cx="341280" cy="384120"/>
            </a:xfrm>
          </p:grpSpPr>
          <p:sp>
            <p:nvSpPr>
              <p:cNvPr id="141" name=""/>
              <p:cNvSpPr/>
              <p:nvPr/>
            </p:nvSpPr>
            <p:spPr>
              <a:xfrm>
                <a:off x="1797120" y="3629880"/>
                <a:ext cx="292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1943280" y="3575160"/>
                <a:ext cx="195120" cy="38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3059280" y="3409920"/>
              <a:ext cx="29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334120" y="3279600"/>
            <a:ext cx="327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开关合在“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”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有反馈放大电路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053040" y="4359240"/>
                <a:ext cx="18874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093680" y="4898880"/>
                <a:ext cx="20368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如果：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762120" y="5528880"/>
            <a:ext cx="74674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开关合在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去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仍有稳定的输出。反馈信号代替了放大电路的输入信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4648320"/>
            <a:ext cx="2209680" cy="609480"/>
          </a:xfrm>
          <a:prstGeom prst="wedgeRoundRectCallout">
            <a:avLst>
              <a:gd name="adj1" fmla="val -61638"/>
              <a:gd name="adj2" fmla="val -162240"/>
              <a:gd name="adj3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自激振荡状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600200" y="1994040"/>
            <a:ext cx="2406600" cy="1182600"/>
            <a:chOff x="1600200" y="1994040"/>
            <a:chExt cx="2406600" cy="1182600"/>
          </a:xfrm>
        </p:grpSpPr>
        <p:sp>
          <p:nvSpPr>
            <p:cNvPr id="150" name=""/>
            <p:cNvSpPr/>
            <p:nvPr/>
          </p:nvSpPr>
          <p:spPr>
            <a:xfrm>
              <a:off x="2544840" y="2573280"/>
              <a:ext cx="925560" cy="603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11240" y="290196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11240" y="240984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70400" y="2901960"/>
              <a:ext cx="53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06800" y="1994040"/>
              <a:ext cx="0" cy="93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2243160"/>
              <a:ext cx="34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2836800" y="2655720"/>
                  <a:ext cx="30312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1969920" y="2179800"/>
                  <a:ext cx="34632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4%9F%E5%8F%B9%E6%97%B6%E5%A5%8F%E4%B9%90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06440" y="47160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自激振荡的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2766960"/>
            <a:ext cx="39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幅度条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25840" y="2752560"/>
                <a:ext cx="11984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554360" y="2011320"/>
                <a:ext cx="40752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即：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d>
                    <m:r>
                      <m:t xml:space="preserve">∠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∠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914400" y="3500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位条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368520" y="3438360"/>
                <a:ext cx="2849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n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6553080" y="3438360"/>
            <a:ext cx="19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整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4124160"/>
            <a:ext cx="79246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相位条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意味着振荡电路必须是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正反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幅度条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明反馈放大器要产生自激振荡，还必须有足够的反馈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通过调整放大倍数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反馈系数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达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995400" y="1058760"/>
                <a:ext cx="20462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由：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461960" y="2066760"/>
                <a:ext cx="20433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F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3962520" y="1415880"/>
            <a:ext cx="761760" cy="498600"/>
          </a:xfrm>
          <a:custGeom>
            <a:avLst/>
            <a:gdLst>
              <a:gd name="textAreaLeft" fmla="*/ 95040 w 761760"/>
              <a:gd name="textAreaRight" fmla="*/ 666720 w 761760"/>
              <a:gd name="textAreaTop" fmla="*/ 124560 h 498600"/>
              <a:gd name="textAreaBottom" fmla="*/ 3740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755e"/>
              </a:gs>
              <a:gs pos="100000">
                <a:srgbClr val="00ffcc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229360" y="1447920"/>
                <a:ext cx="14000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554120" y="1481040"/>
                <a:ext cx="15400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3657600" y="107640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27920" y="8618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自激振荡的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1752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起振及稳幅振荡的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774720"/>
            <a:ext cx="723924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振荡电路输出电压的幅度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要求达到的输出电压幅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起振时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到稳定振荡时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81680" y="2374920"/>
            <a:ext cx="304920" cy="1371600"/>
          </a:xfrm>
          <a:custGeom>
            <a:avLst/>
            <a:gdLst>
              <a:gd name="textAreaLeft" fmla="*/ 40680 w 304920"/>
              <a:gd name="textAreaRight" fmla="*/ 264240 w 3049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2070000"/>
            <a:ext cx="723924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起振过程中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o</a:t>
            </a:r>
            <a:r>
              <a:rPr b="1" i="1" lang="zh-CN" sz="28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&lt;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，要求</a:t>
            </a:r>
            <a:r>
              <a:rPr b="0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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u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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&gt;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2984400"/>
            <a:ext cx="723924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稳定振荡时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o</a:t>
            </a:r>
            <a:r>
              <a:rPr b="1" i="1" lang="zh-CN" sz="28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，要求</a:t>
            </a:r>
            <a:r>
              <a:rPr b="0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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u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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975120"/>
            <a:ext cx="76960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就是自激振荡建立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2527200"/>
            <a:ext cx="556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可使输出电压的幅度不断增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3441600"/>
            <a:ext cx="51055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使输出电压的幅度得以稳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4889520"/>
            <a:ext cx="807732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起始信号的产生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电源接通时，会在电路中激起一个微小的扰动信号，它是个非正弦信号，含有一系列频率不同的正弦分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6%84%9F%E5%8F%B9%E6%97%B6%E5%A5%8F%E4%B9%90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4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正弦波振荡电路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放大电路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放大信号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19810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反馈网络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必须是正反馈，反馈信号即是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放大电路的输入信号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31240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选频网络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证输出为单一频率的正弦波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即使电路只在某一特定频率下满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足自激振 荡条件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572000"/>
            <a:ext cx="807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稳幅环节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电路能从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&gt;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过渡到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从而达到稳幅振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8. 2    </a:t>
            </a:r>
            <a:r>
              <a:rPr b="1" i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RC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振荡电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295280"/>
            <a:ext cx="0" cy="4038840"/>
          </a:xfrm>
          <a:prstGeom prst="line">
            <a:avLst/>
          </a:prstGeom>
          <a:ln w="381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3352680"/>
            <a:ext cx="2100240" cy="1143000"/>
          </a:xfrm>
          <a:prstGeom prst="wedgeRoundRectCallout">
            <a:avLst>
              <a:gd name="adj1" fmla="val 113263"/>
              <a:gd name="adj2" fmla="val -78888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RC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选频网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正反馈网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4724280"/>
            <a:ext cx="2286000" cy="762120"/>
          </a:xfrm>
          <a:prstGeom prst="wedgeRoundRectCallout">
            <a:avLst>
              <a:gd name="adj1" fmla="val -10069"/>
              <a:gd name="adj2" fmla="val -266041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同相比例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54864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放大信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4572000"/>
            <a:ext cx="350532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正反馈信号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为输入信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136600"/>
            <a:ext cx="236196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出单一频率的信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23336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路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505320" y="3200400"/>
            <a:ext cx="761760" cy="1358640"/>
            <a:chOff x="3505320" y="3200400"/>
            <a:chExt cx="761760" cy="1358640"/>
          </a:xfrm>
        </p:grpSpPr>
        <p:sp>
          <p:nvSpPr>
            <p:cNvPr id="196" name=""/>
            <p:cNvSpPr/>
            <p:nvPr/>
          </p:nvSpPr>
          <p:spPr>
            <a:xfrm>
              <a:off x="3582720" y="3552840"/>
              <a:ext cx="447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81280" y="40384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05320" y="32004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676520" y="885960"/>
            <a:ext cx="5181480" cy="180720"/>
            <a:chOff x="1676520" y="885960"/>
            <a:chExt cx="5181480" cy="180720"/>
          </a:xfrm>
        </p:grpSpPr>
        <p:pic>
          <p:nvPicPr>
            <p:cNvPr id="200" name="" descr=""/>
            <p:cNvPicPr/>
            <p:nvPr/>
          </p:nvPicPr>
          <p:blipFill>
            <a:blip r:embed="rId4"/>
            <a:stretch/>
          </p:blipFill>
          <p:spPr>
            <a:xfrm>
              <a:off x="258120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5"/>
            <a:stretch/>
          </p:blipFill>
          <p:spPr>
            <a:xfrm>
              <a:off x="272412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6"/>
            <a:stretch/>
          </p:blipFill>
          <p:spPr>
            <a:xfrm>
              <a:off x="288612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7"/>
            <a:stretch/>
          </p:blipFill>
          <p:spPr>
            <a:xfrm>
              <a:off x="318132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8"/>
            <a:stretch/>
          </p:blipFill>
          <p:spPr>
            <a:xfrm>
              <a:off x="334332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9"/>
            <a:stretch/>
          </p:blipFill>
          <p:spPr>
            <a:xfrm>
              <a:off x="349560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10"/>
            <a:stretch/>
          </p:blipFill>
          <p:spPr>
            <a:xfrm>
              <a:off x="363852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11"/>
            <a:stretch/>
          </p:blipFill>
          <p:spPr>
            <a:xfrm>
              <a:off x="380052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2"/>
            <a:stretch/>
          </p:blipFill>
          <p:spPr>
            <a:xfrm>
              <a:off x="409572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3"/>
            <a:stretch/>
          </p:blipFill>
          <p:spPr>
            <a:xfrm>
              <a:off x="425772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4"/>
            <a:stretch/>
          </p:blipFill>
          <p:spPr>
            <a:xfrm>
              <a:off x="441000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15"/>
            <a:stretch/>
          </p:blipFill>
          <p:spPr>
            <a:xfrm>
              <a:off x="455292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16"/>
            <a:stretch/>
          </p:blipFill>
          <p:spPr>
            <a:xfrm>
              <a:off x="303840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7"/>
            <a:stretch/>
          </p:blipFill>
          <p:spPr>
            <a:xfrm>
              <a:off x="395280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18"/>
            <a:stretch/>
          </p:blipFill>
          <p:spPr>
            <a:xfrm>
              <a:off x="471492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19"/>
            <a:stretch/>
          </p:blipFill>
          <p:spPr>
            <a:xfrm>
              <a:off x="4867200" y="895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6" name=""/>
            <p:cNvGrpSpPr/>
            <p:nvPr/>
          </p:nvGrpSpPr>
          <p:grpSpPr>
            <a:xfrm>
              <a:off x="5010120" y="895320"/>
              <a:ext cx="933480" cy="162000"/>
              <a:chOff x="5010120" y="895320"/>
              <a:chExt cx="933480" cy="162000"/>
            </a:xfrm>
          </p:grpSpPr>
          <p:pic>
            <p:nvPicPr>
              <p:cNvPr id="217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5010120" y="89532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172120" y="89532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5324400" y="89532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5467320" y="89532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5629320" y="89532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781600" y="89532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3" name=""/>
            <p:cNvGrpSpPr/>
            <p:nvPr/>
          </p:nvGrpSpPr>
          <p:grpSpPr>
            <a:xfrm>
              <a:off x="1676520" y="885960"/>
              <a:ext cx="923760" cy="162000"/>
              <a:chOff x="1676520" y="885960"/>
              <a:chExt cx="923760" cy="162000"/>
            </a:xfrm>
          </p:grpSpPr>
          <p:pic>
            <p:nvPicPr>
              <p:cNvPr id="224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1819440" y="88596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1981440" y="88596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2133720" y="88596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2276640" y="88596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38640" y="88596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1676520" y="88596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0" name=""/>
            <p:cNvGrpSpPr/>
            <p:nvPr/>
          </p:nvGrpSpPr>
          <p:grpSpPr>
            <a:xfrm>
              <a:off x="5924520" y="905040"/>
              <a:ext cx="933480" cy="161640"/>
              <a:chOff x="5924520" y="905040"/>
              <a:chExt cx="933480" cy="161640"/>
            </a:xfrm>
          </p:grpSpPr>
          <p:pic>
            <p:nvPicPr>
              <p:cNvPr id="231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5924520" y="9050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6086520" y="9050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6238800" y="9050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6381720" y="9050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6543720" y="9050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6696000" y="9050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37" name=""/>
          <p:cNvGrpSpPr/>
          <p:nvPr/>
        </p:nvGrpSpPr>
        <p:grpSpPr>
          <a:xfrm>
            <a:off x="4038480" y="1828440"/>
            <a:ext cx="3995640" cy="2875320"/>
            <a:chOff x="4038480" y="1828440"/>
            <a:chExt cx="3995640" cy="2875320"/>
          </a:xfrm>
        </p:grpSpPr>
        <p:sp>
          <p:nvSpPr>
            <p:cNvPr id="238" name=""/>
            <p:cNvSpPr/>
            <p:nvPr/>
          </p:nvSpPr>
          <p:spPr>
            <a:xfrm>
              <a:off x="4458960" y="2090520"/>
              <a:ext cx="57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6200000">
              <a:off x="4223880" y="2220120"/>
              <a:ext cx="398520" cy="154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70320" y="4703760"/>
              <a:ext cx="30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417560" y="4262400"/>
              <a:ext cx="6120" cy="44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59280" y="2336760"/>
              <a:ext cx="849240" cy="11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94440" y="185724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59280" y="2976480"/>
              <a:ext cx="29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13320" y="276048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53040" y="2243160"/>
              <a:ext cx="44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创艺简宋体"/>
                </a:rPr>
                <a:t>∞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90920" y="2028600"/>
              <a:ext cx="80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17920" y="3187440"/>
              <a:ext cx="1341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08520" y="2976480"/>
              <a:ext cx="69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41520" y="1857240"/>
              <a:ext cx="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95600" y="2776320"/>
              <a:ext cx="463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7920" y="1846080"/>
              <a:ext cx="25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5897160" y="2390400"/>
              <a:ext cx="160200" cy="1540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4270320" y="2736720"/>
              <a:ext cx="307440" cy="158400"/>
              <a:chOff x="4270320" y="2736720"/>
              <a:chExt cx="307440" cy="158400"/>
            </a:xfrm>
          </p:grpSpPr>
          <p:sp>
            <p:nvSpPr>
              <p:cNvPr id="255" name=""/>
              <p:cNvSpPr/>
              <p:nvPr/>
            </p:nvSpPr>
            <p:spPr>
              <a:xfrm>
                <a:off x="4270320" y="2736720"/>
                <a:ext cx="30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270320" y="2895120"/>
                <a:ext cx="30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4424040" y="2496960"/>
              <a:ext cx="0" cy="2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424040" y="1828440"/>
              <a:ext cx="0" cy="26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7920" y="2895480"/>
              <a:ext cx="0" cy="601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440" y="3462120"/>
              <a:ext cx="61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6200000">
              <a:off x="5095440" y="2195280"/>
              <a:ext cx="400320" cy="15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295600" y="1857240"/>
              <a:ext cx="0" cy="23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95600" y="2482920"/>
              <a:ext cx="0" cy="136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87040" y="37814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6200000">
              <a:off x="5097240" y="3947760"/>
              <a:ext cx="398520" cy="153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41520" y="4703760"/>
              <a:ext cx="30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95600" y="4224240"/>
              <a:ext cx="0" cy="47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66880" y="2638440"/>
              <a:ext cx="63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73760" y="3614760"/>
              <a:ext cx="5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3916080" y="3825720"/>
              <a:ext cx="398160" cy="153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4114440" y="3461760"/>
              <a:ext cx="0" cy="241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14440" y="4101840"/>
              <a:ext cx="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578120" y="3781440"/>
              <a:ext cx="307800" cy="161280"/>
              <a:chOff x="4578120" y="3781440"/>
              <a:chExt cx="307800" cy="161280"/>
            </a:xfrm>
          </p:grpSpPr>
          <p:sp>
            <p:nvSpPr>
              <p:cNvPr id="274" name=""/>
              <p:cNvSpPr/>
              <p:nvPr/>
            </p:nvSpPr>
            <p:spPr>
              <a:xfrm>
                <a:off x="4578120" y="3781440"/>
                <a:ext cx="30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578120" y="3942720"/>
                <a:ext cx="30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 flipV="1">
              <a:off x="4732200" y="3461760"/>
              <a:ext cx="0" cy="3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32200" y="3943080"/>
              <a:ext cx="0" cy="3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14440" y="4262400"/>
              <a:ext cx="61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22920" y="36147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67200" y="2455920"/>
              <a:ext cx="38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67200" y="2313000"/>
              <a:ext cx="849240" cy="1119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72000" y="292896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72000" y="383364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81640" y="4224240"/>
              <a:ext cx="30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06920" y="39193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7272000" y="2700360"/>
              <a:ext cx="762120" cy="1358640"/>
              <a:chOff x="7272000" y="2700360"/>
              <a:chExt cx="762120" cy="1358640"/>
            </a:xfrm>
          </p:grpSpPr>
          <p:sp>
            <p:nvSpPr>
              <p:cNvPr id="287" name=""/>
              <p:cNvSpPr/>
              <p:nvPr/>
            </p:nvSpPr>
            <p:spPr>
              <a:xfrm>
                <a:off x="7350840" y="3052800"/>
                <a:ext cx="493200" cy="54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r>
                  <a:rPr b="1" lang="zh-CN" sz="2000" spc="-1" strike="noStrike" baseline="-25000">
                    <a:solidFill>
                      <a:srgbClr val="ff33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348320" y="353844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272000" y="270036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67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 RC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串并联选频网络的选频特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960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输系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41440" y="1189080"/>
                <a:ext cx="5249880" cy="18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3" name=""/>
          <p:cNvGrpSpPr/>
          <p:nvPr/>
        </p:nvGrpSpPr>
        <p:grpSpPr>
          <a:xfrm>
            <a:off x="5811840" y="372960"/>
            <a:ext cx="2811600" cy="2951280"/>
            <a:chOff x="5811840" y="372960"/>
            <a:chExt cx="2811600" cy="2951280"/>
          </a:xfrm>
        </p:grpSpPr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5943600" y="1668600"/>
                  <a:ext cx="42552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8102520" y="2278080"/>
                  <a:ext cx="43200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"/>
            <p:cNvSpPr/>
            <p:nvPr/>
          </p:nvSpPr>
          <p:spPr>
            <a:xfrm>
              <a:off x="8237880" y="2803680"/>
              <a:ext cx="3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37880" y="1568520"/>
              <a:ext cx="3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72320" y="8301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6200000">
              <a:off x="7080480" y="1027080"/>
              <a:ext cx="344160" cy="138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54560" y="3119400"/>
              <a:ext cx="212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51840" y="2844720"/>
              <a:ext cx="0" cy="27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77040" y="1884240"/>
              <a:ext cx="102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115040" y="1473120"/>
              <a:ext cx="274680" cy="138240"/>
              <a:chOff x="7115040" y="1473120"/>
              <a:chExt cx="274680" cy="138240"/>
            </a:xfrm>
          </p:grpSpPr>
          <p:sp>
            <p:nvSpPr>
              <p:cNvPr id="304" name=""/>
              <p:cNvSpPr/>
              <p:nvPr/>
            </p:nvSpPr>
            <p:spPr>
              <a:xfrm>
                <a:off x="7115040" y="1473120"/>
                <a:ext cx="274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115040" y="1611360"/>
                <a:ext cx="274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7251840" y="1268280"/>
              <a:ext cx="0" cy="20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251840" y="718920"/>
              <a:ext cx="0" cy="20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51840" y="1611360"/>
              <a:ext cx="0" cy="5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77160" y="2158920"/>
              <a:ext cx="54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51840" y="2982960"/>
              <a:ext cx="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27680" y="1287360"/>
              <a:ext cx="41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88280" y="22287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6806520" y="2467800"/>
              <a:ext cx="342720" cy="138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6977160" y="2158920"/>
              <a:ext cx="0" cy="20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977160" y="2708280"/>
              <a:ext cx="0" cy="13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7389720" y="2433600"/>
              <a:ext cx="274680" cy="136440"/>
              <a:chOff x="7389720" y="2433600"/>
              <a:chExt cx="274680" cy="136440"/>
            </a:xfrm>
          </p:grpSpPr>
          <p:sp>
            <p:nvSpPr>
              <p:cNvPr id="317" name=""/>
              <p:cNvSpPr/>
              <p:nvPr/>
            </p:nvSpPr>
            <p:spPr>
              <a:xfrm>
                <a:off x="7389720" y="2433600"/>
                <a:ext cx="274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389720" y="2570040"/>
                <a:ext cx="274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 flipV="1">
              <a:off x="7526160" y="2158560"/>
              <a:ext cx="0" cy="27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526160" y="2570040"/>
              <a:ext cx="0" cy="27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77160" y="2844720"/>
              <a:ext cx="54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48800" y="22161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109920" y="719280"/>
              <a:ext cx="114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42240" y="2801880"/>
              <a:ext cx="3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11840" y="7477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48280" y="2600280"/>
              <a:ext cx="4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39080" y="1913040"/>
              <a:ext cx="6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055000" y="2668680"/>
              <a:ext cx="47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99400" y="372960"/>
              <a:ext cx="3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76440" y="808200"/>
            <a:ext cx="5114520" cy="171360"/>
            <a:chOff x="676440" y="808200"/>
            <a:chExt cx="5114520" cy="171360"/>
          </a:xfrm>
        </p:grpSpPr>
        <p:pic>
          <p:nvPicPr>
            <p:cNvPr id="331" name="" descr=""/>
            <p:cNvPicPr/>
            <p:nvPr/>
          </p:nvPicPr>
          <p:blipFill>
            <a:blip r:embed="rId2"/>
            <a:stretch/>
          </p:blipFill>
          <p:spPr>
            <a:xfrm>
              <a:off x="1581120" y="8175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3"/>
            <a:stretch/>
          </p:blipFill>
          <p:spPr>
            <a:xfrm>
              <a:off x="1724040" y="8175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4"/>
            <a:stretch/>
          </p:blipFill>
          <p:spPr>
            <a:xfrm>
              <a:off x="1886040" y="8175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5"/>
            <a:stretch/>
          </p:blipFill>
          <p:spPr>
            <a:xfrm>
              <a:off x="2181240" y="8175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6"/>
            <a:stretch/>
          </p:blipFill>
          <p:spPr>
            <a:xfrm>
              <a:off x="2343240" y="8175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7"/>
            <a:stretch/>
          </p:blipFill>
          <p:spPr>
            <a:xfrm>
              <a:off x="2495520" y="8175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8"/>
            <a:stretch/>
          </p:blipFill>
          <p:spPr>
            <a:xfrm>
              <a:off x="2638440" y="8175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9"/>
            <a:stretch/>
          </p:blipFill>
          <p:spPr>
            <a:xfrm>
              <a:off x="2800440" y="8175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3095640" y="8175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3257640" y="8175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3409920" y="8175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13"/>
            <a:stretch/>
          </p:blipFill>
          <p:spPr>
            <a:xfrm>
              <a:off x="3552840" y="8175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4"/>
            <a:stretch/>
          </p:blipFill>
          <p:spPr>
            <a:xfrm>
              <a:off x="2038320" y="8175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5"/>
            <a:stretch/>
          </p:blipFill>
          <p:spPr>
            <a:xfrm>
              <a:off x="2952720" y="8175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6"/>
            <a:stretch/>
          </p:blipFill>
          <p:spPr>
            <a:xfrm>
              <a:off x="3714840" y="8175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7"/>
            <a:stretch/>
          </p:blipFill>
          <p:spPr>
            <a:xfrm>
              <a:off x="3867120" y="8175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18"/>
            <a:stretch/>
          </p:blipFill>
          <p:spPr>
            <a:xfrm>
              <a:off x="4010040" y="8175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19"/>
            <a:stretch/>
          </p:blipFill>
          <p:spPr>
            <a:xfrm>
              <a:off x="4172040" y="8175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20"/>
            <a:stretch/>
          </p:blipFill>
          <p:spPr>
            <a:xfrm>
              <a:off x="4324320" y="8175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21"/>
            <a:stretch/>
          </p:blipFill>
          <p:spPr>
            <a:xfrm>
              <a:off x="4467240" y="8175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22"/>
            <a:stretch/>
          </p:blipFill>
          <p:spPr>
            <a:xfrm>
              <a:off x="4629240" y="8175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23"/>
            <a:stretch/>
          </p:blipFill>
          <p:spPr>
            <a:xfrm>
              <a:off x="4781520" y="8175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3" name=""/>
            <p:cNvGrpSpPr/>
            <p:nvPr/>
          </p:nvGrpSpPr>
          <p:grpSpPr>
            <a:xfrm>
              <a:off x="676440" y="808200"/>
              <a:ext cx="923760" cy="162000"/>
              <a:chOff x="676440" y="808200"/>
              <a:chExt cx="923760" cy="162000"/>
            </a:xfrm>
          </p:grpSpPr>
          <p:pic>
            <p:nvPicPr>
              <p:cNvPr id="354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819360" y="8082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981360" y="8082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1133640" y="8082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1276560" y="8082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1438560" y="8082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676440" y="8082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0" name=""/>
            <p:cNvGrpSpPr/>
            <p:nvPr/>
          </p:nvGrpSpPr>
          <p:grpSpPr>
            <a:xfrm>
              <a:off x="4867200" y="817560"/>
              <a:ext cx="923760" cy="162000"/>
              <a:chOff x="4867200" y="817560"/>
              <a:chExt cx="923760" cy="162000"/>
            </a:xfrm>
          </p:grpSpPr>
          <p:pic>
            <p:nvPicPr>
              <p:cNvPr id="36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10120" y="81756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2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5172120" y="81756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5324400" y="81756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5467320" y="81756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5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629320" y="81756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6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4867200" y="81756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828800" y="2971800"/>
                <a:ext cx="281952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4952880" y="3581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式中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6175440" y="3327480"/>
                <a:ext cx="144468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70" name=""/>
          <p:cNvGrpSpPr/>
          <p:nvPr/>
        </p:nvGrpSpPr>
        <p:grpSpPr>
          <a:xfrm>
            <a:off x="609480" y="4419720"/>
            <a:ext cx="8001000" cy="1922040"/>
            <a:chOff x="609480" y="4419720"/>
            <a:chExt cx="8001000" cy="1922040"/>
          </a:xfrm>
        </p:grpSpPr>
        <p:sp>
          <p:nvSpPr>
            <p:cNvPr id="371" name=""/>
            <p:cNvSpPr/>
            <p:nvPr/>
          </p:nvSpPr>
          <p:spPr>
            <a:xfrm>
              <a:off x="609480" y="4419720"/>
              <a:ext cx="800100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分析上式可知：仅当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时，             达最大值，且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与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同相 ，即网络具有选频特性，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6248160" y="4419720"/>
                  <a:ext cx="1219320" cy="103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73" name=""/>
            <p:cNvSpPr/>
            <p:nvPr/>
          </p:nvSpPr>
          <p:spPr>
            <a:xfrm>
              <a:off x="761760" y="5821200"/>
              <a:ext cx="151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定于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RC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%E6%84%9F%E5%8F%B9%E6%97%B6%E5%A5%8F%E4%B9%90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0:55:54Z</dcterms:created>
  <dc:creator>xtw</dc:creator>
  <dc:description/>
  <dc:language>en-US</dc:language>
  <cp:lastModifiedBy>王香婷</cp:lastModifiedBy>
  <dcterms:modified xsi:type="dcterms:W3CDTF">2003-07-29T23:22:26Z</dcterms:modified>
  <cp:revision>25</cp:revision>
  <dc:subject/>
  <dc:title>PowerPoint 演示文稿</dc:title>
</cp:coreProperties>
</file>