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4037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电工技术(无图标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20.xml"/><Relationship Id="rId5" Type="http://schemas.openxmlformats.org/officeDocument/2006/relationships/slide" Target="slide33.xml"/><Relationship Id="rId6" Type="http://schemas.openxmlformats.org/officeDocument/2006/relationships/slide" Target="slide38.xml"/><Relationship Id="rId7" Type="http://schemas.openxmlformats.org/officeDocument/2006/relationships/slide" Target="slide25.xml"/><Relationship Id="rId8" Type="http://schemas.openxmlformats.org/officeDocument/2006/relationships/slide" Target="slide41.xml"/><Relationship Id="rId9" Type="http://schemas.openxmlformats.org/officeDocument/2006/relationships/slide" Target="slide45.xm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606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 电工测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523880" y="28954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压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2125440" y="1447200"/>
            <a:ext cx="29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工测量仪表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523880" y="19393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工测量仪表的型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523880" y="243756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511280" y="3809880"/>
            <a:ext cx="38862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率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523880" y="426564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兆欧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1523880" y="33526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用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1523880" y="47275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电桥测量电阻、电容与电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1523880" y="5184720"/>
            <a:ext cx="4648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电量的电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6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86090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工测量仪表的型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8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2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磁电式仪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4320" y="480060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螺旋弹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738680" y="3933720"/>
            <a:ext cx="820440" cy="1552680"/>
            <a:chOff x="4738680" y="3933720"/>
            <a:chExt cx="820440" cy="1552680"/>
          </a:xfrm>
        </p:grpSpPr>
        <p:grpSp>
          <p:nvGrpSpPr>
            <p:cNvPr id="223" name=""/>
            <p:cNvGrpSpPr/>
            <p:nvPr/>
          </p:nvGrpSpPr>
          <p:grpSpPr>
            <a:xfrm>
              <a:off x="5073480" y="5443560"/>
              <a:ext cx="438120" cy="42840"/>
              <a:chOff x="5073480" y="5443560"/>
              <a:chExt cx="438120" cy="42840"/>
            </a:xfrm>
          </p:grpSpPr>
          <p:sp>
            <p:nvSpPr>
              <p:cNvPr id="224" name=""/>
              <p:cNvSpPr/>
              <p:nvPr/>
            </p:nvSpPr>
            <p:spPr>
              <a:xfrm>
                <a:off x="5376600" y="5443560"/>
                <a:ext cx="135000" cy="42840"/>
              </a:xfrm>
              <a:custGeom>
                <a:avLst/>
                <a:gdLst/>
                <a:ahLst/>
                <a:rect l="l" t="t" r="r" b="b"/>
                <a:pathLst>
                  <a:path w="84" h="29">
                    <a:moveTo>
                      <a:pt x="0" y="0"/>
                    </a:moveTo>
                    <a:lnTo>
                      <a:pt x="84" y="13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6600" y="5443560"/>
                <a:ext cx="135000" cy="42840"/>
              </a:xfrm>
              <a:custGeom>
                <a:avLst/>
                <a:gdLst/>
                <a:ahLst/>
                <a:rect l="l" t="t" r="r" b="b"/>
                <a:pathLst>
                  <a:path w="84" h="29">
                    <a:moveTo>
                      <a:pt x="0" y="0"/>
                    </a:moveTo>
                    <a:lnTo>
                      <a:pt x="84" y="13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5073480" y="5462640"/>
                <a:ext cx="3031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910040" y="4017600"/>
              <a:ext cx="46080" cy="444600"/>
              <a:chOff x="4910040" y="4017600"/>
              <a:chExt cx="46080" cy="4446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4917960" y="4395600"/>
                <a:ext cx="20880" cy="66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10040" y="426240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29" h="84">
                    <a:moveTo>
                      <a:pt x="29" y="0"/>
                    </a:moveTo>
                    <a:lnTo>
                      <a:pt x="13" y="84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10040" y="426240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29" h="84">
                    <a:moveTo>
                      <a:pt x="29" y="0"/>
                    </a:moveTo>
                    <a:lnTo>
                      <a:pt x="13" y="84"/>
                    </a:lnTo>
                    <a:lnTo>
                      <a:pt x="0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930920" y="4017600"/>
                <a:ext cx="144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368680" y="5141880"/>
              <a:ext cx="190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宋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38680" y="3933720"/>
              <a:ext cx="9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宋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10120" y="914400"/>
            <a:ext cx="3619080" cy="4681440"/>
            <a:chOff x="4110120" y="914400"/>
            <a:chExt cx="3619080" cy="4681440"/>
          </a:xfrm>
        </p:grpSpPr>
        <p:sp>
          <p:nvSpPr>
            <p:cNvPr id="235" name=""/>
            <p:cNvSpPr/>
            <p:nvPr/>
          </p:nvSpPr>
          <p:spPr>
            <a:xfrm>
              <a:off x="5079960" y="4089240"/>
              <a:ext cx="566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358040" y="1940040"/>
              <a:ext cx="1080" cy="214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9960" y="1940040"/>
              <a:ext cx="108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305320" y="2838600"/>
              <a:ext cx="1080" cy="12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140600" y="1940040"/>
              <a:ext cx="1080" cy="214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9960" y="946080"/>
              <a:ext cx="2277720" cy="993960"/>
            </a:xfrm>
            <a:custGeom>
              <a:avLst/>
              <a:gdLst/>
              <a:ahLst/>
              <a:rect l="l" t="t" r="r" b="b"/>
              <a:pathLst>
                <a:path w="1426" h="676">
                  <a:moveTo>
                    <a:pt x="1426" y="676"/>
                  </a:moveTo>
                  <a:lnTo>
                    <a:pt x="1400" y="523"/>
                  </a:lnTo>
                  <a:lnTo>
                    <a:pt x="1345" y="380"/>
                  </a:lnTo>
                  <a:lnTo>
                    <a:pt x="1256" y="252"/>
                  </a:lnTo>
                  <a:lnTo>
                    <a:pt x="1146" y="146"/>
                  </a:lnTo>
                  <a:lnTo>
                    <a:pt x="1014" y="66"/>
                  </a:lnTo>
                  <a:lnTo>
                    <a:pt x="868" y="17"/>
                  </a:lnTo>
                  <a:lnTo>
                    <a:pt x="713" y="0"/>
                  </a:lnTo>
                  <a:lnTo>
                    <a:pt x="561" y="17"/>
                  </a:lnTo>
                  <a:lnTo>
                    <a:pt x="413" y="66"/>
                  </a:lnTo>
                  <a:lnTo>
                    <a:pt x="283" y="146"/>
                  </a:lnTo>
                  <a:lnTo>
                    <a:pt x="170" y="252"/>
                  </a:lnTo>
                  <a:lnTo>
                    <a:pt x="84" y="380"/>
                  </a:lnTo>
                  <a:lnTo>
                    <a:pt x="26" y="523"/>
                  </a:lnTo>
                  <a:lnTo>
                    <a:pt x="0" y="6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05320" y="1177920"/>
              <a:ext cx="1834920" cy="762120"/>
            </a:xfrm>
            <a:custGeom>
              <a:avLst/>
              <a:gdLst/>
              <a:ahLst/>
              <a:rect l="l" t="t" r="r" b="b"/>
              <a:pathLst>
                <a:path w="1149" h="519">
                  <a:moveTo>
                    <a:pt x="1149" y="519"/>
                  </a:moveTo>
                  <a:lnTo>
                    <a:pt x="1115" y="368"/>
                  </a:lnTo>
                  <a:lnTo>
                    <a:pt x="1040" y="231"/>
                  </a:lnTo>
                  <a:lnTo>
                    <a:pt x="934" y="119"/>
                  </a:lnTo>
                  <a:lnTo>
                    <a:pt x="802" y="39"/>
                  </a:lnTo>
                  <a:lnTo>
                    <a:pt x="652" y="0"/>
                  </a:lnTo>
                  <a:lnTo>
                    <a:pt x="497" y="0"/>
                  </a:lnTo>
                  <a:lnTo>
                    <a:pt x="349" y="39"/>
                  </a:lnTo>
                  <a:lnTo>
                    <a:pt x="214" y="119"/>
                  </a:lnTo>
                  <a:lnTo>
                    <a:pt x="108" y="231"/>
                  </a:lnTo>
                  <a:lnTo>
                    <a:pt x="36" y="368"/>
                  </a:lnTo>
                  <a:lnTo>
                    <a:pt x="0" y="51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05320" y="3083040"/>
              <a:ext cx="43308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738760" y="2001600"/>
              <a:ext cx="1080" cy="10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38760" y="1173240"/>
              <a:ext cx="578880" cy="828720"/>
            </a:xfrm>
            <a:custGeom>
              <a:avLst/>
              <a:gdLst/>
              <a:ahLst/>
              <a:rect l="l" t="t" r="r" b="b"/>
              <a:pathLst>
                <a:path w="362" h="564">
                  <a:moveTo>
                    <a:pt x="362" y="0"/>
                  </a:moveTo>
                  <a:lnTo>
                    <a:pt x="236" y="67"/>
                  </a:lnTo>
                  <a:lnTo>
                    <a:pt x="130" y="162"/>
                  </a:lnTo>
                  <a:lnTo>
                    <a:pt x="53" y="283"/>
                  </a:lnTo>
                  <a:lnTo>
                    <a:pt x="9" y="420"/>
                  </a:lnTo>
                  <a:lnTo>
                    <a:pt x="0" y="5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38760" y="3083040"/>
              <a:ext cx="2106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9720" y="3102120"/>
              <a:ext cx="6156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651280" y="3144960"/>
              <a:ext cx="360000" cy="3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5587560" y="3462480"/>
              <a:ext cx="6300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305320" y="3456000"/>
              <a:ext cx="2822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587920" y="3102120"/>
              <a:ext cx="3614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646600" y="4046040"/>
              <a:ext cx="4248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99080" y="3495600"/>
              <a:ext cx="90000" cy="550800"/>
            </a:xfrm>
            <a:custGeom>
              <a:avLst/>
              <a:gdLst/>
              <a:ahLst/>
              <a:rect l="l" t="t" r="r" b="b"/>
              <a:pathLst>
                <a:path w="57" h="375">
                  <a:moveTo>
                    <a:pt x="33" y="0"/>
                  </a:moveTo>
                  <a:lnTo>
                    <a:pt x="0" y="125"/>
                  </a:lnTo>
                  <a:lnTo>
                    <a:pt x="8" y="256"/>
                  </a:lnTo>
                  <a:lnTo>
                    <a:pt x="57" y="37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57640" y="3144960"/>
              <a:ext cx="53640" cy="311040"/>
            </a:xfrm>
            <a:custGeom>
              <a:avLst/>
              <a:gdLst/>
              <a:ahLst/>
              <a:rect l="l" t="t" r="r" b="b"/>
              <a:pathLst>
                <a:path w="33" h="212">
                  <a:moveTo>
                    <a:pt x="33" y="0"/>
                  </a:moveTo>
                  <a:lnTo>
                    <a:pt x="2" y="104"/>
                  </a:ln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89440" y="3825360"/>
              <a:ext cx="22500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769080" y="4043160"/>
              <a:ext cx="2808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32080" y="3462480"/>
              <a:ext cx="307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784560" y="3462480"/>
              <a:ext cx="47160" cy="44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69080" y="3506760"/>
              <a:ext cx="117000" cy="536760"/>
            </a:xfrm>
            <a:custGeom>
              <a:avLst/>
              <a:gdLst/>
              <a:ahLst/>
              <a:rect l="l" t="t" r="r" b="b"/>
              <a:pathLst>
                <a:path w="73" h="365">
                  <a:moveTo>
                    <a:pt x="0" y="365"/>
                  </a:moveTo>
                  <a:lnTo>
                    <a:pt x="53" y="281"/>
                  </a:lnTo>
                  <a:lnTo>
                    <a:pt x="73" y="184"/>
                  </a:lnTo>
                  <a:lnTo>
                    <a:pt x="57" y="8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832440" y="3085920"/>
              <a:ext cx="307800" cy="376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06800" y="3618000"/>
              <a:ext cx="85536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662160" y="3506760"/>
              <a:ext cx="122040" cy="111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6800" y="3666960"/>
              <a:ext cx="85536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662520" y="3533760"/>
              <a:ext cx="142560" cy="133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06800" y="3705120"/>
              <a:ext cx="85536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662160" y="3560760"/>
              <a:ext cx="160200" cy="144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06800" y="3760920"/>
              <a:ext cx="36504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662520" y="3595680"/>
              <a:ext cx="180720" cy="165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6800" y="3825720"/>
              <a:ext cx="30924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662160" y="3641760"/>
              <a:ext cx="201240" cy="183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806800" y="3617640"/>
              <a:ext cx="1440" cy="207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806800" y="3085920"/>
              <a:ext cx="493560" cy="531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00720" y="3086280"/>
              <a:ext cx="80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97520" y="4089240"/>
              <a:ext cx="560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79880" y="3459240"/>
              <a:ext cx="688680" cy="584280"/>
            </a:xfrm>
            <a:custGeom>
              <a:avLst/>
              <a:gdLst/>
              <a:ahLst/>
              <a:rect l="l" t="t" r="r" b="b"/>
              <a:pathLst>
                <a:path w="431" h="398">
                  <a:moveTo>
                    <a:pt x="115" y="360"/>
                  </a:moveTo>
                  <a:lnTo>
                    <a:pt x="153" y="380"/>
                  </a:lnTo>
                  <a:lnTo>
                    <a:pt x="195" y="391"/>
                  </a:lnTo>
                  <a:lnTo>
                    <a:pt x="234" y="398"/>
                  </a:lnTo>
                  <a:lnTo>
                    <a:pt x="276" y="393"/>
                  </a:lnTo>
                  <a:lnTo>
                    <a:pt x="314" y="385"/>
                  </a:lnTo>
                  <a:lnTo>
                    <a:pt x="349" y="369"/>
                  </a:lnTo>
                  <a:lnTo>
                    <a:pt x="378" y="345"/>
                  </a:lnTo>
                  <a:lnTo>
                    <a:pt x="402" y="318"/>
                  </a:lnTo>
                  <a:lnTo>
                    <a:pt x="418" y="285"/>
                  </a:lnTo>
                  <a:lnTo>
                    <a:pt x="429" y="250"/>
                  </a:lnTo>
                  <a:lnTo>
                    <a:pt x="431" y="212"/>
                  </a:lnTo>
                  <a:lnTo>
                    <a:pt x="424" y="175"/>
                  </a:lnTo>
                  <a:lnTo>
                    <a:pt x="409" y="137"/>
                  </a:lnTo>
                  <a:lnTo>
                    <a:pt x="389" y="102"/>
                  </a:lnTo>
                  <a:lnTo>
                    <a:pt x="362" y="71"/>
                  </a:lnTo>
                  <a:lnTo>
                    <a:pt x="329" y="44"/>
                  </a:lnTo>
                  <a:lnTo>
                    <a:pt x="292" y="25"/>
                  </a:lnTo>
                  <a:lnTo>
                    <a:pt x="252" y="9"/>
                  </a:lnTo>
                  <a:lnTo>
                    <a:pt x="212" y="2"/>
                  </a:lnTo>
                  <a:lnTo>
                    <a:pt x="170" y="0"/>
                  </a:lnTo>
                  <a:lnTo>
                    <a:pt x="130" y="7"/>
                  </a:lnTo>
                  <a:lnTo>
                    <a:pt x="95" y="22"/>
                  </a:lnTo>
                  <a:lnTo>
                    <a:pt x="64" y="42"/>
                  </a:lnTo>
                  <a:lnTo>
                    <a:pt x="38" y="69"/>
                  </a:lnTo>
                  <a:lnTo>
                    <a:pt x="18" y="100"/>
                  </a:lnTo>
                  <a:lnTo>
                    <a:pt x="5" y="133"/>
                  </a:lnTo>
                  <a:lnTo>
                    <a:pt x="0" y="170"/>
                  </a:lnTo>
                  <a:lnTo>
                    <a:pt x="5" y="208"/>
                  </a:lnTo>
                  <a:lnTo>
                    <a:pt x="13" y="245"/>
                  </a:lnTo>
                  <a:lnTo>
                    <a:pt x="33" y="281"/>
                  </a:lnTo>
                  <a:lnTo>
                    <a:pt x="58" y="314"/>
                  </a:lnTo>
                  <a:lnTo>
                    <a:pt x="89" y="34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02280" y="3030480"/>
              <a:ext cx="428040" cy="47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30680" y="2982960"/>
              <a:ext cx="560160" cy="284040"/>
            </a:xfrm>
            <a:custGeom>
              <a:avLst/>
              <a:gdLst/>
              <a:ahLst/>
              <a:rect l="l" t="t" r="r" b="b"/>
              <a:pathLst>
                <a:path w="351" h="194">
                  <a:moveTo>
                    <a:pt x="351" y="194"/>
                  </a:moveTo>
                  <a:lnTo>
                    <a:pt x="342" y="156"/>
                  </a:lnTo>
                  <a:lnTo>
                    <a:pt x="324" y="121"/>
                  </a:lnTo>
                  <a:lnTo>
                    <a:pt x="300" y="86"/>
                  </a:lnTo>
                  <a:lnTo>
                    <a:pt x="269" y="57"/>
                  </a:lnTo>
                  <a:lnTo>
                    <a:pt x="234" y="33"/>
                  </a:lnTo>
                  <a:lnTo>
                    <a:pt x="194" y="15"/>
                  </a:lnTo>
                  <a:lnTo>
                    <a:pt x="154" y="4"/>
                  </a:lnTo>
                  <a:lnTo>
                    <a:pt x="112" y="0"/>
                  </a:lnTo>
                  <a:lnTo>
                    <a:pt x="73" y="4"/>
                  </a:lnTo>
                  <a:lnTo>
                    <a:pt x="35" y="15"/>
                  </a:lnTo>
                  <a:lnTo>
                    <a:pt x="0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24320" y="3728880"/>
              <a:ext cx="79200" cy="842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00280" y="3781440"/>
              <a:ext cx="85320" cy="90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13520" y="3794040"/>
              <a:ext cx="101160" cy="9684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24" y="66"/>
                  </a:moveTo>
                  <a:lnTo>
                    <a:pt x="31" y="66"/>
                  </a:lnTo>
                  <a:lnTo>
                    <a:pt x="37" y="64"/>
                  </a:lnTo>
                  <a:lnTo>
                    <a:pt x="42" y="62"/>
                  </a:lnTo>
                  <a:lnTo>
                    <a:pt x="49" y="59"/>
                  </a:lnTo>
                  <a:lnTo>
                    <a:pt x="53" y="55"/>
                  </a:lnTo>
                  <a:lnTo>
                    <a:pt x="57" y="50"/>
                  </a:lnTo>
                  <a:lnTo>
                    <a:pt x="60" y="44"/>
                  </a:lnTo>
                  <a:lnTo>
                    <a:pt x="62" y="39"/>
                  </a:lnTo>
                  <a:lnTo>
                    <a:pt x="64" y="33"/>
                  </a:lnTo>
                  <a:lnTo>
                    <a:pt x="62" y="26"/>
                  </a:lnTo>
                  <a:lnTo>
                    <a:pt x="62" y="20"/>
                  </a:lnTo>
                  <a:lnTo>
                    <a:pt x="60" y="15"/>
                  </a:lnTo>
                  <a:lnTo>
                    <a:pt x="55" y="11"/>
                  </a:lnTo>
                  <a:lnTo>
                    <a:pt x="51" y="6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7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4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3480" y="3825720"/>
              <a:ext cx="41868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80200" y="3760920"/>
              <a:ext cx="38196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21200" y="4497480"/>
              <a:ext cx="34560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67160" y="4302000"/>
              <a:ext cx="445680" cy="371520"/>
            </a:xfrm>
            <a:custGeom>
              <a:avLst/>
              <a:gdLst/>
              <a:ahLst/>
              <a:rect l="l" t="t" r="r" b="b"/>
              <a:pathLst>
                <a:path w="280" h="252">
                  <a:moveTo>
                    <a:pt x="0" y="133"/>
                  </a:moveTo>
                  <a:lnTo>
                    <a:pt x="37" y="60"/>
                  </a:lnTo>
                  <a:lnTo>
                    <a:pt x="62" y="27"/>
                  </a:lnTo>
                  <a:lnTo>
                    <a:pt x="97" y="7"/>
                  </a:lnTo>
                  <a:lnTo>
                    <a:pt x="137" y="0"/>
                  </a:lnTo>
                  <a:lnTo>
                    <a:pt x="179" y="7"/>
                  </a:lnTo>
                  <a:lnTo>
                    <a:pt x="214" y="25"/>
                  </a:lnTo>
                  <a:lnTo>
                    <a:pt x="243" y="53"/>
                  </a:lnTo>
                  <a:lnTo>
                    <a:pt x="280" y="126"/>
                  </a:lnTo>
                  <a:lnTo>
                    <a:pt x="280" y="168"/>
                  </a:lnTo>
                  <a:lnTo>
                    <a:pt x="267" y="206"/>
                  </a:lnTo>
                  <a:lnTo>
                    <a:pt x="238" y="237"/>
                  </a:lnTo>
                  <a:lnTo>
                    <a:pt x="201" y="252"/>
                  </a:lnTo>
                  <a:lnTo>
                    <a:pt x="119" y="250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6000" y="4260960"/>
              <a:ext cx="522000" cy="48096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0" y="115"/>
                  </a:moveTo>
                  <a:lnTo>
                    <a:pt x="25" y="70"/>
                  </a:lnTo>
                  <a:lnTo>
                    <a:pt x="56" y="31"/>
                  </a:lnTo>
                  <a:lnTo>
                    <a:pt x="100" y="6"/>
                  </a:lnTo>
                  <a:lnTo>
                    <a:pt x="148" y="0"/>
                  </a:lnTo>
                  <a:lnTo>
                    <a:pt x="199" y="6"/>
                  </a:lnTo>
                  <a:lnTo>
                    <a:pt x="243" y="24"/>
                  </a:lnTo>
                  <a:lnTo>
                    <a:pt x="307" y="104"/>
                  </a:lnTo>
                  <a:lnTo>
                    <a:pt x="327" y="148"/>
                  </a:lnTo>
                  <a:lnTo>
                    <a:pt x="325" y="199"/>
                  </a:lnTo>
                  <a:lnTo>
                    <a:pt x="314" y="245"/>
                  </a:lnTo>
                  <a:lnTo>
                    <a:pt x="285" y="287"/>
                  </a:lnTo>
                  <a:lnTo>
                    <a:pt x="243" y="316"/>
                  </a:lnTo>
                  <a:lnTo>
                    <a:pt x="195" y="327"/>
                  </a:lnTo>
                  <a:lnTo>
                    <a:pt x="146" y="327"/>
                  </a:lnTo>
                  <a:lnTo>
                    <a:pt x="97" y="313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941720" y="4430880"/>
              <a:ext cx="31392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19720" y="4394160"/>
              <a:ext cx="302760" cy="295200"/>
            </a:xfrm>
            <a:custGeom>
              <a:avLst/>
              <a:gdLst/>
              <a:ahLst/>
              <a:rect l="l" t="t" r="r" b="b"/>
              <a:pathLst>
                <a:path w="190" h="201">
                  <a:moveTo>
                    <a:pt x="31" y="201"/>
                  </a:moveTo>
                  <a:lnTo>
                    <a:pt x="9" y="157"/>
                  </a:lnTo>
                  <a:lnTo>
                    <a:pt x="0" y="109"/>
                  </a:lnTo>
                  <a:lnTo>
                    <a:pt x="9" y="60"/>
                  </a:lnTo>
                  <a:lnTo>
                    <a:pt x="40" y="20"/>
                  </a:lnTo>
                  <a:lnTo>
                    <a:pt x="82" y="0"/>
                  </a:lnTo>
                  <a:lnTo>
                    <a:pt x="133" y="7"/>
                  </a:lnTo>
                  <a:lnTo>
                    <a:pt x="168" y="36"/>
                  </a:lnTo>
                  <a:lnTo>
                    <a:pt x="190" y="80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79840" y="4430880"/>
              <a:ext cx="190080" cy="209520"/>
            </a:xfrm>
            <a:custGeom>
              <a:avLst/>
              <a:gdLst/>
              <a:ahLst/>
              <a:rect l="l" t="t" r="r" b="b"/>
              <a:pathLst>
                <a:path w="119" h="143">
                  <a:moveTo>
                    <a:pt x="22" y="143"/>
                  </a:moveTo>
                  <a:lnTo>
                    <a:pt x="6" y="112"/>
                  </a:lnTo>
                  <a:lnTo>
                    <a:pt x="4" y="77"/>
                  </a:lnTo>
                  <a:lnTo>
                    <a:pt x="0" y="44"/>
                  </a:lnTo>
                  <a:lnTo>
                    <a:pt x="19" y="15"/>
                  </a:lnTo>
                  <a:lnTo>
                    <a:pt x="48" y="0"/>
                  </a:lnTo>
                  <a:lnTo>
                    <a:pt x="84" y="6"/>
                  </a:lnTo>
                  <a:lnTo>
                    <a:pt x="108" y="31"/>
                  </a:lnTo>
                  <a:lnTo>
                    <a:pt x="119" y="61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527440" y="4511520"/>
              <a:ext cx="95040" cy="115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38520" y="4514760"/>
              <a:ext cx="5688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32400" y="4570560"/>
              <a:ext cx="94680" cy="8064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26" y="55"/>
                  </a:moveTo>
                  <a:lnTo>
                    <a:pt x="33" y="55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8" y="53"/>
                  </a:lnTo>
                  <a:lnTo>
                    <a:pt x="53" y="50"/>
                  </a:lnTo>
                  <a:lnTo>
                    <a:pt x="55" y="46"/>
                  </a:lnTo>
                  <a:lnTo>
                    <a:pt x="57" y="42"/>
                  </a:lnTo>
                  <a:lnTo>
                    <a:pt x="59" y="37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19"/>
                  </a:lnTo>
                  <a:lnTo>
                    <a:pt x="53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95760" y="4500720"/>
              <a:ext cx="741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47" y="13"/>
                  </a:moveTo>
                  <a:lnTo>
                    <a:pt x="42" y="9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38600" y="4478400"/>
              <a:ext cx="1728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027400" y="5327280"/>
              <a:ext cx="1440" cy="2667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076720" y="5361120"/>
              <a:ext cx="1080" cy="233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30560" y="4890960"/>
              <a:ext cx="315720" cy="436680"/>
            </a:xfrm>
            <a:custGeom>
              <a:avLst/>
              <a:gdLst/>
              <a:ahLst/>
              <a:rect l="l" t="t" r="r" b="b"/>
              <a:pathLst>
                <a:path w="197" h="298">
                  <a:moveTo>
                    <a:pt x="60" y="298"/>
                  </a:moveTo>
                  <a:lnTo>
                    <a:pt x="124" y="252"/>
                  </a:lnTo>
                  <a:lnTo>
                    <a:pt x="175" y="190"/>
                  </a:lnTo>
                  <a:lnTo>
                    <a:pt x="197" y="113"/>
                  </a:lnTo>
                  <a:lnTo>
                    <a:pt x="190" y="73"/>
                  </a:lnTo>
                  <a:lnTo>
                    <a:pt x="170" y="38"/>
                  </a:lnTo>
                  <a:lnTo>
                    <a:pt x="139" y="13"/>
                  </a:lnTo>
                  <a:lnTo>
                    <a:pt x="102" y="0"/>
                  </a:lnTo>
                  <a:lnTo>
                    <a:pt x="62" y="2"/>
                  </a:lnTo>
                  <a:lnTo>
                    <a:pt x="27" y="20"/>
                  </a:lnTo>
                  <a:lnTo>
                    <a:pt x="7" y="55"/>
                  </a:lnTo>
                  <a:lnTo>
                    <a:pt x="0" y="93"/>
                  </a:lnTo>
                  <a:lnTo>
                    <a:pt x="2" y="135"/>
                  </a:lnTo>
                  <a:lnTo>
                    <a:pt x="27" y="164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5120" y="4838760"/>
              <a:ext cx="444240" cy="522360"/>
            </a:xfrm>
            <a:custGeom>
              <a:avLst/>
              <a:gdLst/>
              <a:ahLst/>
              <a:rect l="l" t="t" r="r" b="b"/>
              <a:pathLst>
                <a:path w="278" h="355">
                  <a:moveTo>
                    <a:pt x="126" y="355"/>
                  </a:moveTo>
                  <a:lnTo>
                    <a:pt x="172" y="333"/>
                  </a:lnTo>
                  <a:lnTo>
                    <a:pt x="212" y="302"/>
                  </a:lnTo>
                  <a:lnTo>
                    <a:pt x="245" y="263"/>
                  </a:lnTo>
                  <a:lnTo>
                    <a:pt x="267" y="216"/>
                  </a:lnTo>
                  <a:lnTo>
                    <a:pt x="278" y="166"/>
                  </a:lnTo>
                  <a:lnTo>
                    <a:pt x="276" y="115"/>
                  </a:lnTo>
                  <a:lnTo>
                    <a:pt x="254" y="71"/>
                  </a:lnTo>
                  <a:lnTo>
                    <a:pt x="218" y="33"/>
                  </a:lnTo>
                  <a:lnTo>
                    <a:pt x="174" y="9"/>
                  </a:lnTo>
                  <a:lnTo>
                    <a:pt x="124" y="0"/>
                  </a:lnTo>
                  <a:lnTo>
                    <a:pt x="73" y="11"/>
                  </a:lnTo>
                  <a:lnTo>
                    <a:pt x="33" y="42"/>
                  </a:lnTo>
                  <a:lnTo>
                    <a:pt x="11" y="88"/>
                  </a:lnTo>
                  <a:lnTo>
                    <a:pt x="0" y="139"/>
                  </a:lnTo>
                  <a:lnTo>
                    <a:pt x="6" y="190"/>
                  </a:lnTo>
                  <a:lnTo>
                    <a:pt x="35" y="232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030640" y="5021280"/>
              <a:ext cx="1728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0640" y="5037120"/>
              <a:ext cx="77400" cy="11268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0" y="77"/>
                  </a:moveTo>
                  <a:lnTo>
                    <a:pt x="24" y="77"/>
                  </a:lnTo>
                  <a:lnTo>
                    <a:pt x="42" y="64"/>
                  </a:lnTo>
                  <a:lnTo>
                    <a:pt x="49" y="42"/>
                  </a:lnTo>
                  <a:lnTo>
                    <a:pt x="40" y="19"/>
                  </a:lnTo>
                  <a:lnTo>
                    <a:pt x="24" y="2"/>
                  </a:lnTo>
                  <a:lnTo>
                    <a:pt x="11" y="0"/>
                  </a:lnTo>
                  <a:lnTo>
                    <a:pt x="2" y="6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8440" y="5008680"/>
              <a:ext cx="178920" cy="20304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0" y="134"/>
                  </a:moveTo>
                  <a:lnTo>
                    <a:pt x="35" y="139"/>
                  </a:lnTo>
                  <a:lnTo>
                    <a:pt x="73" y="128"/>
                  </a:lnTo>
                  <a:lnTo>
                    <a:pt x="104" y="106"/>
                  </a:lnTo>
                  <a:lnTo>
                    <a:pt x="113" y="75"/>
                  </a:lnTo>
                  <a:lnTo>
                    <a:pt x="106" y="42"/>
                  </a:lnTo>
                  <a:lnTo>
                    <a:pt x="88" y="13"/>
                  </a:lnTo>
                  <a:lnTo>
                    <a:pt x="60" y="0"/>
                  </a:lnTo>
                  <a:lnTo>
                    <a:pt x="46" y="6"/>
                  </a:lnTo>
                  <a:lnTo>
                    <a:pt x="44" y="20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59200" y="5316480"/>
              <a:ext cx="80640" cy="9684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22" y="66"/>
                  </a:moveTo>
                  <a:lnTo>
                    <a:pt x="29" y="66"/>
                  </a:lnTo>
                  <a:lnTo>
                    <a:pt x="33" y="64"/>
                  </a:lnTo>
                  <a:lnTo>
                    <a:pt x="38" y="61"/>
                  </a:lnTo>
                  <a:lnTo>
                    <a:pt x="42" y="59"/>
                  </a:lnTo>
                  <a:lnTo>
                    <a:pt x="44" y="55"/>
                  </a:lnTo>
                  <a:lnTo>
                    <a:pt x="49" y="50"/>
                  </a:lnTo>
                  <a:lnTo>
                    <a:pt x="51" y="44"/>
                  </a:lnTo>
                  <a:lnTo>
                    <a:pt x="51" y="39"/>
                  </a:lnTo>
                  <a:lnTo>
                    <a:pt x="51" y="33"/>
                  </a:lnTo>
                  <a:lnTo>
                    <a:pt x="51" y="26"/>
                  </a:lnTo>
                  <a:lnTo>
                    <a:pt x="49" y="19"/>
                  </a:lnTo>
                  <a:lnTo>
                    <a:pt x="46" y="15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87920" y="5249880"/>
              <a:ext cx="196200" cy="2062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48" y="133"/>
                  </a:moveTo>
                  <a:lnTo>
                    <a:pt x="59" y="137"/>
                  </a:lnTo>
                  <a:lnTo>
                    <a:pt x="70" y="140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4" y="126"/>
                  </a:lnTo>
                  <a:lnTo>
                    <a:pt x="110" y="120"/>
                  </a:lnTo>
                  <a:lnTo>
                    <a:pt x="117" y="109"/>
                  </a:lnTo>
                  <a:lnTo>
                    <a:pt x="121" y="98"/>
                  </a:lnTo>
                  <a:lnTo>
                    <a:pt x="123" y="84"/>
                  </a:lnTo>
                  <a:lnTo>
                    <a:pt x="123" y="71"/>
                  </a:lnTo>
                  <a:lnTo>
                    <a:pt x="121" y="58"/>
                  </a:lnTo>
                  <a:lnTo>
                    <a:pt x="117" y="45"/>
                  </a:lnTo>
                  <a:lnTo>
                    <a:pt x="110" y="34"/>
                  </a:lnTo>
                  <a:lnTo>
                    <a:pt x="101" y="22"/>
                  </a:lnTo>
                  <a:lnTo>
                    <a:pt x="90" y="14"/>
                  </a:lnTo>
                  <a:lnTo>
                    <a:pt x="79" y="7"/>
                  </a:lnTo>
                  <a:lnTo>
                    <a:pt x="68" y="3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33" y="3"/>
                  </a:lnTo>
                  <a:lnTo>
                    <a:pt x="22" y="9"/>
                  </a:lnTo>
                  <a:lnTo>
                    <a:pt x="15" y="16"/>
                  </a:lnTo>
                  <a:lnTo>
                    <a:pt x="6" y="25"/>
                  </a:lnTo>
                  <a:lnTo>
                    <a:pt x="2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11" y="102"/>
                  </a:lnTo>
                  <a:lnTo>
                    <a:pt x="17" y="1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52720" y="5221440"/>
              <a:ext cx="177480" cy="20160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72" y="137"/>
                  </a:moveTo>
                  <a:lnTo>
                    <a:pt x="83" y="133"/>
                  </a:lnTo>
                  <a:lnTo>
                    <a:pt x="92" y="126"/>
                  </a:lnTo>
                  <a:lnTo>
                    <a:pt x="101" y="118"/>
                  </a:lnTo>
                  <a:lnTo>
                    <a:pt x="108" y="107"/>
                  </a:lnTo>
                  <a:lnTo>
                    <a:pt x="110" y="95"/>
                  </a:lnTo>
                  <a:lnTo>
                    <a:pt x="112" y="82"/>
                  </a:lnTo>
                  <a:lnTo>
                    <a:pt x="112" y="67"/>
                  </a:lnTo>
                  <a:lnTo>
                    <a:pt x="108" y="54"/>
                  </a:lnTo>
                  <a:lnTo>
                    <a:pt x="103" y="40"/>
                  </a:lnTo>
                  <a:lnTo>
                    <a:pt x="95" y="29"/>
                  </a:lnTo>
                  <a:lnTo>
                    <a:pt x="86" y="18"/>
                  </a:lnTo>
                  <a:lnTo>
                    <a:pt x="75" y="12"/>
                  </a:lnTo>
                  <a:lnTo>
                    <a:pt x="64" y="5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7" y="5"/>
                  </a:lnTo>
                  <a:lnTo>
                    <a:pt x="6" y="12"/>
                  </a:lnTo>
                  <a:lnTo>
                    <a:pt x="0" y="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7400" y="5594400"/>
              <a:ext cx="4896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735440" y="5020920"/>
              <a:ext cx="108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794120" y="5024160"/>
              <a:ext cx="108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832280" y="5009760"/>
              <a:ext cx="108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793760" y="5010120"/>
              <a:ext cx="378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35440" y="5000760"/>
              <a:ext cx="58320" cy="2376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7" y="16"/>
                  </a:moveTo>
                  <a:lnTo>
                    <a:pt x="28" y="3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440" y="4978440"/>
              <a:ext cx="69480" cy="3168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4" y="22"/>
                  </a:moveTo>
                  <a:lnTo>
                    <a:pt x="40" y="9"/>
                  </a:lnTo>
                  <a:lnTo>
                    <a:pt x="27" y="0"/>
                  </a:lnTo>
                  <a:lnTo>
                    <a:pt x="11" y="2"/>
                  </a:lnTo>
                  <a:lnTo>
                    <a:pt x="0" y="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694040" y="2787120"/>
              <a:ext cx="1440" cy="23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606560" y="5108400"/>
              <a:ext cx="86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06920" y="2787120"/>
              <a:ext cx="1080" cy="23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4546080" y="2695320"/>
              <a:ext cx="6012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546440" y="2452320"/>
              <a:ext cx="10296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9760" y="2452680"/>
              <a:ext cx="10584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694040" y="2695320"/>
              <a:ext cx="6156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47920" y="2306520"/>
              <a:ext cx="1442880" cy="241560"/>
            </a:xfrm>
            <a:custGeom>
              <a:avLst/>
              <a:gdLst/>
              <a:ahLst/>
              <a:rect l="l" t="t" r="r" b="b"/>
              <a:pathLst>
                <a:path w="903" h="164">
                  <a:moveTo>
                    <a:pt x="903" y="40"/>
                  </a:moveTo>
                  <a:lnTo>
                    <a:pt x="673" y="0"/>
                  </a:lnTo>
                  <a:lnTo>
                    <a:pt x="439" y="9"/>
                  </a:lnTo>
                  <a:lnTo>
                    <a:pt x="212" y="64"/>
                  </a:lnTo>
                  <a:lnTo>
                    <a:pt x="0" y="1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94040" y="2835360"/>
              <a:ext cx="826920" cy="48960"/>
            </a:xfrm>
            <a:custGeom>
              <a:avLst/>
              <a:gdLst/>
              <a:ahLst/>
              <a:rect l="l" t="t" r="r" b="b"/>
              <a:pathLst>
                <a:path w="517" h="33">
                  <a:moveTo>
                    <a:pt x="517" y="20"/>
                  </a:moveTo>
                  <a:lnTo>
                    <a:pt x="259" y="0"/>
                  </a:lnTo>
                  <a:lnTo>
                    <a:pt x="0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01960" y="2567160"/>
              <a:ext cx="850680" cy="63360"/>
            </a:xfrm>
            <a:custGeom>
              <a:avLst/>
              <a:gdLst/>
              <a:ahLst/>
              <a:rect l="l" t="t" r="r" b="b"/>
              <a:pathLst>
                <a:path w="532" h="44">
                  <a:moveTo>
                    <a:pt x="532" y="44"/>
                  </a:moveTo>
                  <a:lnTo>
                    <a:pt x="355" y="9"/>
                  </a:lnTo>
                  <a:lnTo>
                    <a:pt x="176" y="0"/>
                  </a:lnTo>
                  <a:lnTo>
                    <a:pt x="0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21320" y="2365200"/>
              <a:ext cx="69480" cy="500400"/>
            </a:xfrm>
            <a:custGeom>
              <a:avLst/>
              <a:gdLst/>
              <a:ahLst/>
              <a:rect l="l" t="t" r="r" b="b"/>
              <a:pathLst>
                <a:path w="44" h="340">
                  <a:moveTo>
                    <a:pt x="44" y="0"/>
                  </a:moveTo>
                  <a:lnTo>
                    <a:pt x="22" y="37"/>
                  </a:lnTo>
                  <a:lnTo>
                    <a:pt x="11" y="77"/>
                  </a:lnTo>
                  <a:lnTo>
                    <a:pt x="18" y="168"/>
                  </a:lnTo>
                  <a:lnTo>
                    <a:pt x="15" y="254"/>
                  </a:lnTo>
                  <a:lnTo>
                    <a:pt x="0" y="3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0120" y="2548080"/>
              <a:ext cx="182520" cy="469800"/>
            </a:xfrm>
            <a:custGeom>
              <a:avLst/>
              <a:gdLst/>
              <a:ahLst/>
              <a:rect l="l" t="t" r="r" b="b"/>
              <a:pathLst>
                <a:path w="114" h="320">
                  <a:moveTo>
                    <a:pt x="24" y="0"/>
                  </a:moveTo>
                  <a:lnTo>
                    <a:pt x="0" y="39"/>
                  </a:lnTo>
                  <a:lnTo>
                    <a:pt x="20" y="81"/>
                  </a:lnTo>
                  <a:lnTo>
                    <a:pt x="50" y="119"/>
                  </a:lnTo>
                  <a:lnTo>
                    <a:pt x="57" y="141"/>
                  </a:lnTo>
                  <a:lnTo>
                    <a:pt x="48" y="165"/>
                  </a:lnTo>
                  <a:lnTo>
                    <a:pt x="42" y="187"/>
                  </a:lnTo>
                  <a:lnTo>
                    <a:pt x="46" y="207"/>
                  </a:lnTo>
                  <a:lnTo>
                    <a:pt x="84" y="238"/>
                  </a:lnTo>
                  <a:lnTo>
                    <a:pt x="88" y="282"/>
                  </a:lnTo>
                  <a:lnTo>
                    <a:pt x="95" y="302"/>
                  </a:lnTo>
                  <a:lnTo>
                    <a:pt x="114" y="3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82920" y="2666880"/>
              <a:ext cx="2808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48160" y="2604960"/>
              <a:ext cx="21600" cy="5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8520" y="2505240"/>
              <a:ext cx="1080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6240" y="2514600"/>
              <a:ext cx="1440" cy="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92640" y="2514600"/>
              <a:ext cx="1080" cy="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379840" y="2530440"/>
              <a:ext cx="122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79960" y="2835360"/>
              <a:ext cx="1080" cy="12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05320" y="1940040"/>
              <a:ext cx="108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189320" y="2629080"/>
              <a:ext cx="399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292640" y="2908440"/>
              <a:ext cx="3139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86440" y="3086280"/>
              <a:ext cx="253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630680" y="2865600"/>
              <a:ext cx="2374200" cy="2684160"/>
              <a:chOff x="4630680" y="2865600"/>
              <a:chExt cx="2374200" cy="2684160"/>
            </a:xfrm>
          </p:grpSpPr>
          <p:sp>
            <p:nvSpPr>
              <p:cNvPr id="334" name=""/>
              <p:cNvSpPr/>
              <p:nvPr/>
            </p:nvSpPr>
            <p:spPr>
              <a:xfrm>
                <a:off x="6203520" y="3728880"/>
                <a:ext cx="82080" cy="5256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35"/>
                    </a:moveTo>
                    <a:lnTo>
                      <a:pt x="3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41600" y="3816360"/>
                <a:ext cx="43920" cy="42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4" y="29"/>
                    </a:moveTo>
                    <a:lnTo>
                      <a:pt x="26" y="27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2" y="5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339933"/>
              </a:solidFill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15640" y="3859200"/>
                <a:ext cx="563400" cy="635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87200" y="3825720"/>
                <a:ext cx="556920" cy="621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201640" y="4570560"/>
                <a:ext cx="274320" cy="303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246280" y="4597560"/>
                <a:ext cx="274320" cy="3092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874760" y="5037120"/>
                <a:ext cx="183600" cy="201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912560" y="5072040"/>
                <a:ext cx="186840" cy="2080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128200" y="4951440"/>
                <a:ext cx="75960" cy="88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082480" y="4916520"/>
                <a:ext cx="80280" cy="92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30680" y="5494320"/>
                <a:ext cx="5976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7" y="33"/>
                    </a:moveTo>
                    <a:lnTo>
                      <a:pt x="9" y="35"/>
                    </a:lnTo>
                    <a:lnTo>
                      <a:pt x="14" y="35"/>
                    </a:lnTo>
                    <a:lnTo>
                      <a:pt x="16" y="38"/>
                    </a:lnTo>
                    <a:lnTo>
                      <a:pt x="20" y="3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1"/>
                    </a:lnTo>
                    <a:lnTo>
                      <a:pt x="34" y="27"/>
                    </a:lnTo>
                    <a:lnTo>
                      <a:pt x="36" y="24"/>
                    </a:lnTo>
                    <a:lnTo>
                      <a:pt x="36" y="20"/>
                    </a:lnTo>
                    <a:lnTo>
                      <a:pt x="38" y="18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4" y="7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7" y="33"/>
                    </a:lnTo>
                  </a:path>
                </a:pathLst>
              </a:custGeom>
              <a:solidFill>
                <a:srgbClr val="339933"/>
              </a:solidFill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683960" y="5361120"/>
                <a:ext cx="155160" cy="176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638240" y="5316480"/>
                <a:ext cx="166320" cy="189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814800" y="2868480"/>
                <a:ext cx="155160" cy="1684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849720" y="2890800"/>
                <a:ext cx="155160" cy="169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70320" y="2865600"/>
                <a:ext cx="34560" cy="252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18"/>
                    </a:moveTo>
                    <a:lnTo>
                      <a:pt x="19" y="7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339933"/>
              </a:solidFill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flipV="1">
              <a:off x="7358040" y="3660840"/>
              <a:ext cx="36936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727760" y="1940040"/>
              <a:ext cx="1440" cy="172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18280" y="914400"/>
              <a:ext cx="1509120" cy="1025640"/>
            </a:xfrm>
            <a:custGeom>
              <a:avLst/>
              <a:gdLst/>
              <a:ahLst/>
              <a:rect l="l" t="t" r="r" b="b"/>
              <a:pathLst>
                <a:path w="945" h="698">
                  <a:moveTo>
                    <a:pt x="945" y="698"/>
                  </a:moveTo>
                  <a:lnTo>
                    <a:pt x="914" y="536"/>
                  </a:lnTo>
                  <a:lnTo>
                    <a:pt x="848" y="384"/>
                  </a:lnTo>
                  <a:lnTo>
                    <a:pt x="753" y="251"/>
                  </a:lnTo>
                  <a:lnTo>
                    <a:pt x="630" y="141"/>
                  </a:lnTo>
                  <a:lnTo>
                    <a:pt x="486" y="59"/>
                  </a:lnTo>
                  <a:lnTo>
                    <a:pt x="327" y="11"/>
                  </a:lnTo>
                  <a:lnTo>
                    <a:pt x="164" y="0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58040" y="359532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58040" y="352692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358040" y="3443400"/>
              <a:ext cx="36936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58040" y="3338280"/>
              <a:ext cx="369360" cy="42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58040" y="3238560"/>
              <a:ext cx="36936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358040" y="3149280"/>
              <a:ext cx="36936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58040" y="3079800"/>
              <a:ext cx="369360" cy="42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358040" y="295560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58040" y="2850840"/>
              <a:ext cx="36936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58040" y="2757600"/>
              <a:ext cx="36936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58040" y="265716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58040" y="258552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358040" y="2464920"/>
              <a:ext cx="36936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58040" y="2364840"/>
              <a:ext cx="369360" cy="42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58040" y="2268000"/>
              <a:ext cx="369360" cy="42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58040" y="2144520"/>
              <a:ext cx="369360" cy="42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58040" y="2017800"/>
              <a:ext cx="36936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58040" y="1890360"/>
              <a:ext cx="36324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58040" y="1793880"/>
              <a:ext cx="34560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305320" y="3004920"/>
              <a:ext cx="43308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05320" y="2912760"/>
              <a:ext cx="43308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305320" y="2808000"/>
              <a:ext cx="43308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305320" y="2711160"/>
              <a:ext cx="43308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305320" y="2854440"/>
              <a:ext cx="1616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535360" y="2620800"/>
              <a:ext cx="203040" cy="17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84680" y="2558880"/>
              <a:ext cx="142560" cy="1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605200" y="2489040"/>
              <a:ext cx="11232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602320" y="2430360"/>
              <a:ext cx="10116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616360" y="2371320"/>
              <a:ext cx="10440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587920" y="2284200"/>
              <a:ext cx="107640" cy="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4840" y="2214720"/>
              <a:ext cx="21564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392440" y="2173320"/>
              <a:ext cx="32040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365800" y="2144880"/>
              <a:ext cx="33768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333760" y="2085480"/>
              <a:ext cx="3837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330880" y="2034720"/>
              <a:ext cx="386640" cy="1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337000" y="1983960"/>
              <a:ext cx="36648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325840" y="1942920"/>
              <a:ext cx="36324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0880" y="1895400"/>
              <a:ext cx="37260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340240" y="1828800"/>
              <a:ext cx="37260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357520" y="1779120"/>
              <a:ext cx="3776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368680" y="1728720"/>
              <a:ext cx="3618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365800" y="1682280"/>
              <a:ext cx="3978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389560" y="1631880"/>
              <a:ext cx="39168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429160" y="1579680"/>
              <a:ext cx="36000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414760" y="1521000"/>
              <a:ext cx="44748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430680" y="936720"/>
              <a:ext cx="13464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40480" y="946080"/>
              <a:ext cx="158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78640" y="955440"/>
              <a:ext cx="229680" cy="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638760" y="975960"/>
              <a:ext cx="22500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08600" y="1001880"/>
              <a:ext cx="225000" cy="2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37400" y="1027080"/>
              <a:ext cx="294840" cy="3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25960" y="1064880"/>
              <a:ext cx="27144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4760" y="1411200"/>
              <a:ext cx="447480" cy="196920"/>
            </a:xfrm>
            <a:custGeom>
              <a:avLst/>
              <a:gdLst/>
              <a:ahLst/>
              <a:rect l="l" t="t" r="r" b="b"/>
              <a:pathLst>
                <a:path w="280" h="134">
                  <a:moveTo>
                    <a:pt x="101" y="0"/>
                  </a:moveTo>
                  <a:lnTo>
                    <a:pt x="0" y="134"/>
                  </a:lnTo>
                  <a:lnTo>
                    <a:pt x="280" y="75"/>
                  </a:lnTo>
                  <a:lnTo>
                    <a:pt x="10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4760" y="1411200"/>
              <a:ext cx="447480" cy="196920"/>
            </a:xfrm>
            <a:custGeom>
              <a:avLst/>
              <a:gdLst/>
              <a:ahLst/>
              <a:rect l="l" t="t" r="r" b="b"/>
              <a:pathLst>
                <a:path w="280" h="134">
                  <a:moveTo>
                    <a:pt x="101" y="0"/>
                  </a:moveTo>
                  <a:lnTo>
                    <a:pt x="0" y="134"/>
                  </a:lnTo>
                  <a:lnTo>
                    <a:pt x="280" y="75"/>
                  </a:lnTo>
                  <a:lnTo>
                    <a:pt x="10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76760" y="1374840"/>
              <a:ext cx="407520" cy="146160"/>
            </a:xfrm>
            <a:custGeom>
              <a:avLst/>
              <a:gdLst/>
              <a:ahLst/>
              <a:rect l="l" t="t" r="r" b="b"/>
              <a:pathLst>
                <a:path w="256" h="100">
                  <a:moveTo>
                    <a:pt x="256" y="0"/>
                  </a:moveTo>
                  <a:lnTo>
                    <a:pt x="0" y="25"/>
                  </a:lnTo>
                  <a:lnTo>
                    <a:pt x="179" y="100"/>
                  </a:lnTo>
                  <a:lnTo>
                    <a:pt x="25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76760" y="1374840"/>
              <a:ext cx="407520" cy="146160"/>
            </a:xfrm>
            <a:custGeom>
              <a:avLst/>
              <a:gdLst/>
              <a:ahLst/>
              <a:rect l="l" t="t" r="r" b="b"/>
              <a:pathLst>
                <a:path w="256" h="100">
                  <a:moveTo>
                    <a:pt x="256" y="0"/>
                  </a:moveTo>
                  <a:lnTo>
                    <a:pt x="0" y="25"/>
                  </a:lnTo>
                  <a:lnTo>
                    <a:pt x="179" y="100"/>
                  </a:lnTo>
                  <a:lnTo>
                    <a:pt x="2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76760" y="1263600"/>
              <a:ext cx="407520" cy="147600"/>
            </a:xfrm>
            <a:custGeom>
              <a:avLst/>
              <a:gdLst/>
              <a:ahLst/>
              <a:rect l="l" t="t" r="r" b="b"/>
              <a:pathLst>
                <a:path w="256" h="100">
                  <a:moveTo>
                    <a:pt x="137" y="0"/>
                  </a:moveTo>
                  <a:lnTo>
                    <a:pt x="0" y="100"/>
                  </a:lnTo>
                  <a:lnTo>
                    <a:pt x="256" y="75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76760" y="1263600"/>
              <a:ext cx="407520" cy="147600"/>
            </a:xfrm>
            <a:custGeom>
              <a:avLst/>
              <a:gdLst/>
              <a:ahLst/>
              <a:rect l="l" t="t" r="r" b="b"/>
              <a:pathLst>
                <a:path w="256" h="100">
                  <a:moveTo>
                    <a:pt x="137" y="0"/>
                  </a:moveTo>
                  <a:lnTo>
                    <a:pt x="0" y="100"/>
                  </a:lnTo>
                  <a:lnTo>
                    <a:pt x="256" y="75"/>
                  </a:lnTo>
                  <a:lnTo>
                    <a:pt x="1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6000" y="1255680"/>
              <a:ext cx="340920" cy="11916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214" y="0"/>
                  </a:moveTo>
                  <a:lnTo>
                    <a:pt x="0" y="6"/>
                  </a:lnTo>
                  <a:lnTo>
                    <a:pt x="119" y="81"/>
                  </a:lnTo>
                  <a:lnTo>
                    <a:pt x="21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6000" y="1255680"/>
              <a:ext cx="340920" cy="11916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214" y="0"/>
                  </a:moveTo>
                  <a:lnTo>
                    <a:pt x="0" y="6"/>
                  </a:lnTo>
                  <a:lnTo>
                    <a:pt x="119" y="81"/>
                  </a:ln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6000" y="1182600"/>
              <a:ext cx="340920" cy="81000"/>
            </a:xfrm>
            <a:custGeom>
              <a:avLst/>
              <a:gdLst/>
              <a:ahLst/>
              <a:rect l="l" t="t" r="r" b="b"/>
              <a:pathLst>
                <a:path w="214" h="55">
                  <a:moveTo>
                    <a:pt x="159" y="0"/>
                  </a:moveTo>
                  <a:lnTo>
                    <a:pt x="0" y="55"/>
                  </a:lnTo>
                  <a:lnTo>
                    <a:pt x="214" y="49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96000" y="1182600"/>
              <a:ext cx="340920" cy="81000"/>
            </a:xfrm>
            <a:custGeom>
              <a:avLst/>
              <a:gdLst/>
              <a:ahLst/>
              <a:rect l="l" t="t" r="r" b="b"/>
              <a:pathLst>
                <a:path w="214" h="55">
                  <a:moveTo>
                    <a:pt x="159" y="0"/>
                  </a:moveTo>
                  <a:lnTo>
                    <a:pt x="0" y="55"/>
                  </a:lnTo>
                  <a:lnTo>
                    <a:pt x="214" y="49"/>
                  </a:lnTo>
                  <a:lnTo>
                    <a:pt x="15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49800" y="1173240"/>
              <a:ext cx="267840" cy="8244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8" y="0"/>
                  </a:moveTo>
                  <a:lnTo>
                    <a:pt x="0" y="7"/>
                  </a:lnTo>
                  <a:lnTo>
                    <a:pt x="55" y="56"/>
                  </a:lnTo>
                  <a:lnTo>
                    <a:pt x="168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49800" y="1173240"/>
              <a:ext cx="267840" cy="8244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8" y="0"/>
                  </a:moveTo>
                  <a:lnTo>
                    <a:pt x="0" y="7"/>
                  </a:lnTo>
                  <a:lnTo>
                    <a:pt x="55" y="56"/>
                  </a:ln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79480" y="36813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76080" y="3641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637240" y="3651120"/>
              <a:ext cx="9324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626080" y="3517920"/>
              <a:ext cx="12348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798880" y="332280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646600" y="3342960"/>
              <a:ext cx="2361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692680" y="3284640"/>
              <a:ext cx="20772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675040" y="3858840"/>
              <a:ext cx="3780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661000" y="3751200"/>
              <a:ext cx="3132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686200" y="3877920"/>
              <a:ext cx="7452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692680" y="3860280"/>
              <a:ext cx="13464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19640" y="3098520"/>
              <a:ext cx="2966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249960" y="3138120"/>
              <a:ext cx="17244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8240" y="3313080"/>
              <a:ext cx="201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676920" y="3347640"/>
              <a:ext cx="1519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500520" y="3207960"/>
              <a:ext cx="26316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221160" y="3917520"/>
              <a:ext cx="55440" cy="11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1160" y="3933720"/>
              <a:ext cx="131400" cy="3168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0" y="22"/>
                  </a:moveTo>
                  <a:lnTo>
                    <a:pt x="45" y="20"/>
                  </a:lnTo>
                  <a:lnTo>
                    <a:pt x="82" y="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97400" y="3941640"/>
              <a:ext cx="215640" cy="6192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31"/>
                  </a:moveTo>
                  <a:lnTo>
                    <a:pt x="49" y="42"/>
                  </a:lnTo>
                  <a:lnTo>
                    <a:pt x="95" y="31"/>
                  </a:lnTo>
                  <a:lnTo>
                    <a:pt x="1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912480" y="3309840"/>
            <a:ext cx="735480" cy="456120"/>
            <a:chOff x="3912480" y="3309840"/>
            <a:chExt cx="735480" cy="456120"/>
          </a:xfrm>
        </p:grpSpPr>
        <p:sp>
          <p:nvSpPr>
            <p:cNvPr id="437" name=""/>
            <p:cNvSpPr/>
            <p:nvPr/>
          </p:nvSpPr>
          <p:spPr>
            <a:xfrm>
              <a:off x="3912480" y="34606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指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352760" y="3309840"/>
              <a:ext cx="295200" cy="207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454440" y="3962520"/>
            <a:ext cx="610200" cy="578160"/>
            <a:chOff x="6454440" y="3962520"/>
            <a:chExt cx="610200" cy="578160"/>
          </a:xfrm>
        </p:grpSpPr>
        <p:sp>
          <p:nvSpPr>
            <p:cNvPr id="440" name=""/>
            <p:cNvSpPr/>
            <p:nvPr/>
          </p:nvSpPr>
          <p:spPr>
            <a:xfrm>
              <a:off x="6454440" y="423540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永久磁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605640" y="3962520"/>
              <a:ext cx="379440" cy="236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00800" y="2895480"/>
            <a:ext cx="2161440" cy="610200"/>
            <a:chOff x="6400800" y="2895480"/>
            <a:chExt cx="2161440" cy="610200"/>
          </a:xfrm>
        </p:grpSpPr>
        <p:sp>
          <p:nvSpPr>
            <p:cNvPr id="443" name=""/>
            <p:cNvSpPr/>
            <p:nvPr/>
          </p:nvSpPr>
          <p:spPr>
            <a:xfrm>
              <a:off x="8104320" y="2895480"/>
              <a:ext cx="457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圆柱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铁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00800" y="3166920"/>
              <a:ext cx="1493640" cy="195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91320" y="2438280"/>
            <a:ext cx="1142640" cy="2269080"/>
            <a:chOff x="5791320" y="2438280"/>
            <a:chExt cx="1142640" cy="2269080"/>
          </a:xfrm>
        </p:grpSpPr>
        <p:sp>
          <p:nvSpPr>
            <p:cNvPr id="446" name=""/>
            <p:cNvSpPr/>
            <p:nvPr/>
          </p:nvSpPr>
          <p:spPr>
            <a:xfrm>
              <a:off x="6613200" y="2438280"/>
              <a:ext cx="26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28200" y="4402080"/>
              <a:ext cx="15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4259160"/>
              <a:ext cx="243720" cy="220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785640" y="2685600"/>
              <a:ext cx="14832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969880" y="2666880"/>
            <a:ext cx="305640" cy="458280"/>
            <a:chOff x="5969880" y="2666880"/>
            <a:chExt cx="305640" cy="458280"/>
          </a:xfrm>
        </p:grpSpPr>
        <p:sp>
          <p:nvSpPr>
            <p:cNvPr id="451" name=""/>
            <p:cNvSpPr/>
            <p:nvPr/>
          </p:nvSpPr>
          <p:spPr>
            <a:xfrm>
              <a:off x="5969880" y="26668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线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121080" y="2909520"/>
              <a:ext cx="13500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09480" y="1752480"/>
            <a:ext cx="3048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固定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蹄形永久磁铁、极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圆柱形铁心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3589200"/>
            <a:ext cx="3124440" cy="13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动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铝框及线圈，两根半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螺旋弹簧及指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5607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掌与铁心之间的空气隙的长度是均匀的，其中产生均匀的辐射方向的磁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7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转动转矩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2666880"/>
            <a:ext cx="32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阻转矩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083040"/>
            <a:ext cx="4952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线圈和指针转动时，螺旋弹簧被扭紧而产生阻转矩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通入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磁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2133720"/>
            <a:ext cx="426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圈受到的转矩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640480" y="1676520"/>
            <a:ext cx="2360160" cy="2240640"/>
            <a:chOff x="5640480" y="1676520"/>
            <a:chExt cx="2360160" cy="2240640"/>
          </a:xfrm>
        </p:grpSpPr>
        <p:sp>
          <p:nvSpPr>
            <p:cNvPr id="465" name=""/>
            <p:cNvSpPr/>
            <p:nvPr/>
          </p:nvSpPr>
          <p:spPr>
            <a:xfrm>
              <a:off x="6366960" y="2346120"/>
              <a:ext cx="923400" cy="923040"/>
            </a:xfrm>
            <a:custGeom>
              <a:avLst/>
              <a:gdLst/>
              <a:ahLst/>
              <a:rect l="l" t="t" r="r" b="b"/>
              <a:pathLst>
                <a:path w="728" h="728">
                  <a:moveTo>
                    <a:pt x="728" y="363"/>
                  </a:moveTo>
                  <a:lnTo>
                    <a:pt x="716" y="270"/>
                  </a:lnTo>
                  <a:lnTo>
                    <a:pt x="680" y="181"/>
                  </a:lnTo>
                  <a:lnTo>
                    <a:pt x="622" y="105"/>
                  </a:lnTo>
                  <a:lnTo>
                    <a:pt x="546" y="48"/>
                  </a:lnTo>
                  <a:lnTo>
                    <a:pt x="459" y="12"/>
                  </a:lnTo>
                  <a:lnTo>
                    <a:pt x="364" y="0"/>
                  </a:lnTo>
                  <a:lnTo>
                    <a:pt x="270" y="12"/>
                  </a:lnTo>
                  <a:lnTo>
                    <a:pt x="182" y="48"/>
                  </a:lnTo>
                  <a:lnTo>
                    <a:pt x="107" y="105"/>
                  </a:lnTo>
                  <a:lnTo>
                    <a:pt x="48" y="181"/>
                  </a:lnTo>
                  <a:lnTo>
                    <a:pt x="12" y="270"/>
                  </a:lnTo>
                  <a:lnTo>
                    <a:pt x="0" y="363"/>
                  </a:lnTo>
                  <a:lnTo>
                    <a:pt x="12" y="458"/>
                  </a:lnTo>
                  <a:lnTo>
                    <a:pt x="48" y="546"/>
                  </a:lnTo>
                  <a:lnTo>
                    <a:pt x="107" y="621"/>
                  </a:lnTo>
                  <a:lnTo>
                    <a:pt x="182" y="679"/>
                  </a:lnTo>
                  <a:lnTo>
                    <a:pt x="270" y="715"/>
                  </a:lnTo>
                  <a:lnTo>
                    <a:pt x="364" y="728"/>
                  </a:lnTo>
                  <a:lnTo>
                    <a:pt x="459" y="715"/>
                  </a:lnTo>
                  <a:lnTo>
                    <a:pt x="546" y="679"/>
                  </a:lnTo>
                  <a:lnTo>
                    <a:pt x="622" y="621"/>
                  </a:lnTo>
                  <a:lnTo>
                    <a:pt x="680" y="546"/>
                  </a:lnTo>
                  <a:lnTo>
                    <a:pt x="716" y="458"/>
                  </a:lnTo>
                  <a:lnTo>
                    <a:pt x="728" y="363"/>
                  </a:ln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640480" y="2159640"/>
              <a:ext cx="842760" cy="1311120"/>
              <a:chOff x="5640480" y="2159640"/>
              <a:chExt cx="842760" cy="1311120"/>
            </a:xfrm>
          </p:grpSpPr>
          <p:sp>
            <p:nvSpPr>
              <p:cNvPr id="467" name=""/>
              <p:cNvSpPr/>
              <p:nvPr/>
            </p:nvSpPr>
            <p:spPr>
              <a:xfrm>
                <a:off x="6084000" y="2159640"/>
                <a:ext cx="399240" cy="1310040"/>
              </a:xfrm>
              <a:custGeom>
                <a:avLst/>
                <a:gdLst/>
                <a:ahLst/>
                <a:rect l="l" t="t" r="r" b="b"/>
                <a:pathLst>
                  <a:path w="315" h="1033">
                    <a:moveTo>
                      <a:pt x="293" y="0"/>
                    </a:moveTo>
                    <a:lnTo>
                      <a:pt x="199" y="67"/>
                    </a:lnTo>
                    <a:lnTo>
                      <a:pt x="121" y="150"/>
                    </a:lnTo>
                    <a:lnTo>
                      <a:pt x="60" y="247"/>
                    </a:lnTo>
                    <a:lnTo>
                      <a:pt x="19" y="353"/>
                    </a:lnTo>
                    <a:lnTo>
                      <a:pt x="0" y="466"/>
                    </a:lnTo>
                    <a:lnTo>
                      <a:pt x="3" y="581"/>
                    </a:lnTo>
                    <a:lnTo>
                      <a:pt x="28" y="693"/>
                    </a:lnTo>
                    <a:lnTo>
                      <a:pt x="72" y="797"/>
                    </a:lnTo>
                    <a:lnTo>
                      <a:pt x="138" y="891"/>
                    </a:lnTo>
                    <a:lnTo>
                      <a:pt x="220" y="971"/>
                    </a:lnTo>
                    <a:lnTo>
                      <a:pt x="315" y="1033"/>
                    </a:ln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78280" y="3469680"/>
                <a:ext cx="804960" cy="10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40480" y="2159640"/>
                <a:ext cx="815040" cy="10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173720" y="2159640"/>
              <a:ext cx="826920" cy="1311120"/>
              <a:chOff x="7173720" y="2159640"/>
              <a:chExt cx="826920" cy="1311120"/>
            </a:xfrm>
          </p:grpSpPr>
          <p:sp>
            <p:nvSpPr>
              <p:cNvPr id="471" name=""/>
              <p:cNvSpPr/>
              <p:nvPr/>
            </p:nvSpPr>
            <p:spPr>
              <a:xfrm>
                <a:off x="7202520" y="2159640"/>
                <a:ext cx="713880" cy="10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73720" y="3469680"/>
                <a:ext cx="826920" cy="10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173720" y="2159640"/>
                <a:ext cx="399240" cy="1310040"/>
              </a:xfrm>
              <a:custGeom>
                <a:avLst/>
                <a:gdLst/>
                <a:ahLst/>
                <a:rect l="l" t="t" r="r" b="b"/>
                <a:pathLst>
                  <a:path w="315" h="1033">
                    <a:moveTo>
                      <a:pt x="0" y="1033"/>
                    </a:moveTo>
                    <a:lnTo>
                      <a:pt x="95" y="971"/>
                    </a:lnTo>
                    <a:lnTo>
                      <a:pt x="178" y="891"/>
                    </a:lnTo>
                    <a:lnTo>
                      <a:pt x="243" y="797"/>
                    </a:lnTo>
                    <a:lnTo>
                      <a:pt x="288" y="693"/>
                    </a:lnTo>
                    <a:lnTo>
                      <a:pt x="312" y="581"/>
                    </a:lnTo>
                    <a:lnTo>
                      <a:pt x="315" y="466"/>
                    </a:lnTo>
                    <a:lnTo>
                      <a:pt x="296" y="353"/>
                    </a:lnTo>
                    <a:lnTo>
                      <a:pt x="255" y="247"/>
                    </a:lnTo>
                    <a:lnTo>
                      <a:pt x="194" y="150"/>
                    </a:lnTo>
                    <a:lnTo>
                      <a:pt x="116" y="67"/>
                    </a:lnTo>
                    <a:lnTo>
                      <a:pt x="23" y="0"/>
                    </a:ln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184440" y="2761920"/>
              <a:ext cx="1289880" cy="91440"/>
              <a:chOff x="6184440" y="2761920"/>
              <a:chExt cx="1289880" cy="91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784200" y="2761920"/>
                <a:ext cx="88560" cy="903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5"/>
                    </a:moveTo>
                    <a:lnTo>
                      <a:pt x="60" y="10"/>
                    </a:lnTo>
                    <a:lnTo>
                      <a:pt x="35" y="0"/>
                    </a:lnTo>
                    <a:lnTo>
                      <a:pt x="10" y="10"/>
                    </a:lnTo>
                    <a:lnTo>
                      <a:pt x="0" y="35"/>
                    </a:lnTo>
                    <a:lnTo>
                      <a:pt x="10" y="60"/>
                    </a:lnTo>
                    <a:lnTo>
                      <a:pt x="35" y="71"/>
                    </a:lnTo>
                    <a:lnTo>
                      <a:pt x="60" y="60"/>
                    </a:lnTo>
                    <a:lnTo>
                      <a:pt x="70" y="3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28840" y="2761920"/>
                <a:ext cx="599400" cy="10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28840" y="2852280"/>
                <a:ext cx="599400" cy="10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84320" y="2761920"/>
                <a:ext cx="90000" cy="9036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71" y="35"/>
                    </a:moveTo>
                    <a:lnTo>
                      <a:pt x="60" y="10"/>
                    </a:lnTo>
                    <a:lnTo>
                      <a:pt x="35" y="0"/>
                    </a:lnTo>
                    <a:lnTo>
                      <a:pt x="11" y="10"/>
                    </a:lnTo>
                    <a:lnTo>
                      <a:pt x="0" y="35"/>
                    </a:lnTo>
                    <a:lnTo>
                      <a:pt x="11" y="60"/>
                    </a:lnTo>
                    <a:lnTo>
                      <a:pt x="35" y="71"/>
                    </a:lnTo>
                    <a:lnTo>
                      <a:pt x="60" y="60"/>
                    </a:lnTo>
                    <a:lnTo>
                      <a:pt x="71" y="35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6228720" y="2852280"/>
                <a:ext cx="599760" cy="10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228720" y="2761920"/>
                <a:ext cx="599760" cy="10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84440" y="2761920"/>
                <a:ext cx="88560" cy="903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5"/>
                    </a:moveTo>
                    <a:lnTo>
                      <a:pt x="60" y="10"/>
                    </a:lnTo>
                    <a:lnTo>
                      <a:pt x="35" y="0"/>
                    </a:lnTo>
                    <a:lnTo>
                      <a:pt x="10" y="10"/>
                    </a:lnTo>
                    <a:lnTo>
                      <a:pt x="0" y="35"/>
                    </a:lnTo>
                    <a:lnTo>
                      <a:pt x="10" y="60"/>
                    </a:lnTo>
                    <a:lnTo>
                      <a:pt x="35" y="71"/>
                    </a:lnTo>
                    <a:lnTo>
                      <a:pt x="60" y="60"/>
                    </a:lnTo>
                    <a:lnTo>
                      <a:pt x="70" y="35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089400" y="2174760"/>
              <a:ext cx="1478160" cy="1293480"/>
              <a:chOff x="6089400" y="2174760"/>
              <a:chExt cx="1478160" cy="12934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043040" y="2174760"/>
                <a:ext cx="524520" cy="1293480"/>
                <a:chOff x="7043040" y="2174760"/>
                <a:chExt cx="524520" cy="12934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127640" y="2174760"/>
                  <a:ext cx="101520" cy="140400"/>
                </a:xfrm>
                <a:custGeom>
                  <a:avLst/>
                  <a:gdLst/>
                  <a:ahLst/>
                  <a:rect l="l" t="t" r="r" b="b"/>
                  <a:pathLst>
                    <a:path w="80" h="111">
                      <a:moveTo>
                        <a:pt x="0" y="89"/>
                      </a:moveTo>
                      <a:lnTo>
                        <a:pt x="80" y="0"/>
                      </a:lnTo>
                      <a:lnTo>
                        <a:pt x="33" y="11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27640" y="2174760"/>
                  <a:ext cx="101520" cy="140400"/>
                </a:xfrm>
                <a:custGeom>
                  <a:avLst/>
                  <a:gdLst/>
                  <a:ahLst/>
                  <a:rect l="l" t="t" r="r" b="b"/>
                  <a:pathLst>
                    <a:path w="80" h="111">
                      <a:moveTo>
                        <a:pt x="0" y="89"/>
                      </a:moveTo>
                      <a:lnTo>
                        <a:pt x="80" y="0"/>
                      </a:lnTo>
                      <a:lnTo>
                        <a:pt x="33" y="111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7074360" y="2258280"/>
                  <a:ext cx="101520" cy="15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84440" y="3324960"/>
                  <a:ext cx="91440" cy="143280"/>
                </a:xfrm>
                <a:custGeom>
                  <a:avLst/>
                  <a:gdLst/>
                  <a:ahLst/>
                  <a:rect l="l" t="t" r="r" b="b"/>
                  <a:pathLst>
                    <a:path w="72" h="113">
                      <a:moveTo>
                        <a:pt x="34" y="0"/>
                      </a:moveTo>
                      <a:lnTo>
                        <a:pt x="72" y="113"/>
                      </a:lnTo>
                      <a:lnTo>
                        <a:pt x="0" y="1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84440" y="3324960"/>
                  <a:ext cx="91440" cy="143280"/>
                </a:xfrm>
                <a:custGeom>
                  <a:avLst/>
                  <a:gdLst/>
                  <a:ahLst/>
                  <a:rect l="l" t="t" r="r" b="b"/>
                  <a:pathLst>
                    <a:path w="72" h="113">
                      <a:moveTo>
                        <a:pt x="34" y="0"/>
                      </a:moveTo>
                      <a:lnTo>
                        <a:pt x="72" y="113"/>
                      </a:lnTo>
                      <a:lnTo>
                        <a:pt x="0" y="1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7043040" y="3215520"/>
                  <a:ext cx="87120" cy="16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173360" y="3267000"/>
                  <a:ext cx="111600" cy="131400"/>
                </a:xfrm>
                <a:custGeom>
                  <a:avLst/>
                  <a:gdLst/>
                  <a:ahLst/>
                  <a:rect l="l" t="t" r="r" b="b"/>
                  <a:pathLst>
                    <a:path w="88" h="104">
                      <a:moveTo>
                        <a:pt x="32" y="0"/>
                      </a:moveTo>
                      <a:lnTo>
                        <a:pt x="88" y="104"/>
                      </a:lnTo>
                      <a:lnTo>
                        <a:pt x="0" y="24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73360" y="3267000"/>
                  <a:ext cx="111600" cy="131400"/>
                </a:xfrm>
                <a:custGeom>
                  <a:avLst/>
                  <a:gdLst/>
                  <a:ahLst/>
                  <a:rect l="l" t="t" r="r" b="b"/>
                  <a:pathLst>
                    <a:path w="88" h="104">
                      <a:moveTo>
                        <a:pt x="32" y="0"/>
                      </a:moveTo>
                      <a:lnTo>
                        <a:pt x="88" y="104"/>
                      </a:lnTo>
                      <a:lnTo>
                        <a:pt x="0" y="2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7110000" y="3172320"/>
                  <a:ext cx="11376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54720" y="3191760"/>
                  <a:ext cx="126720" cy="117720"/>
                </a:xfrm>
                <a:custGeom>
                  <a:avLst/>
                  <a:gdLst/>
                  <a:ahLst/>
                  <a:rect l="l" t="t" r="r" b="b"/>
                  <a:pathLst>
                    <a:path w="100" h="93">
                      <a:moveTo>
                        <a:pt x="25" y="0"/>
                      </a:moveTo>
                      <a:lnTo>
                        <a:pt x="100" y="93"/>
                      </a:lnTo>
                      <a:lnTo>
                        <a:pt x="0" y="2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54720" y="3191760"/>
                  <a:ext cx="126720" cy="117720"/>
                </a:xfrm>
                <a:custGeom>
                  <a:avLst/>
                  <a:gdLst/>
                  <a:ahLst/>
                  <a:rect l="l" t="t" r="r" b="b"/>
                  <a:pathLst>
                    <a:path w="100" h="93">
                      <a:moveTo>
                        <a:pt x="25" y="0"/>
                      </a:moveTo>
                      <a:lnTo>
                        <a:pt x="100" y="93"/>
                      </a:lnTo>
                      <a:lnTo>
                        <a:pt x="0" y="29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7169400" y="3118320"/>
                  <a:ext cx="137880" cy="125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20600" y="3106800"/>
                  <a:ext cx="137880" cy="10008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21" y="0"/>
                      </a:moveTo>
                      <a:lnTo>
                        <a:pt x="109" y="79"/>
                      </a:lnTo>
                      <a:lnTo>
                        <a:pt x="0" y="3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320600" y="3106800"/>
                  <a:ext cx="137880" cy="10008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21" y="0"/>
                      </a:moveTo>
                      <a:lnTo>
                        <a:pt x="109" y="79"/>
                      </a:lnTo>
                      <a:lnTo>
                        <a:pt x="0" y="32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7217280" y="3054960"/>
                  <a:ext cx="158760" cy="9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371360" y="3011760"/>
                  <a:ext cx="148320" cy="79920"/>
                </a:xfrm>
                <a:custGeom>
                  <a:avLst/>
                  <a:gdLst/>
                  <a:ahLst/>
                  <a:rect l="l" t="t" r="r" b="b"/>
                  <a:pathLst>
                    <a:path w="117" h="63">
                      <a:moveTo>
                        <a:pt x="16" y="0"/>
                      </a:moveTo>
                      <a:lnTo>
                        <a:pt x="117" y="63"/>
                      </a:lnTo>
                      <a:lnTo>
                        <a:pt x="0" y="3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71360" y="3011760"/>
                  <a:ext cx="148320" cy="79920"/>
                </a:xfrm>
                <a:custGeom>
                  <a:avLst/>
                  <a:gdLst/>
                  <a:ahLst/>
                  <a:rect l="l" t="t" r="r" b="b"/>
                  <a:pathLst>
                    <a:path w="117" h="63">
                      <a:moveTo>
                        <a:pt x="16" y="0"/>
                      </a:moveTo>
                      <a:lnTo>
                        <a:pt x="117" y="63"/>
                      </a:lnTo>
                      <a:lnTo>
                        <a:pt x="0" y="3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7256160" y="2982240"/>
                  <a:ext cx="172080" cy="7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08080" y="2910240"/>
                  <a:ext cx="149400" cy="55800"/>
                </a:xfrm>
                <a:custGeom>
                  <a:avLst/>
                  <a:gdLst/>
                  <a:ahLst/>
                  <a:rect l="l" t="t" r="r" b="b"/>
                  <a:pathLst>
                    <a:path w="118" h="44">
                      <a:moveTo>
                        <a:pt x="7" y="0"/>
                      </a:moveTo>
                      <a:lnTo>
                        <a:pt x="118" y="44"/>
                      </a:lnTo>
                      <a:lnTo>
                        <a:pt x="0" y="3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408080" y="2910240"/>
                  <a:ext cx="149400" cy="55800"/>
                </a:xfrm>
                <a:custGeom>
                  <a:avLst/>
                  <a:gdLst/>
                  <a:ahLst/>
                  <a:rect l="l" t="t" r="r" b="b"/>
                  <a:pathLst>
                    <a:path w="118" h="44">
                      <a:moveTo>
                        <a:pt x="7" y="0"/>
                      </a:moveTo>
                      <a:lnTo>
                        <a:pt x="118" y="44"/>
                      </a:lnTo>
                      <a:lnTo>
                        <a:pt x="0" y="3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7278480" y="2905200"/>
                  <a:ext cx="182520" cy="3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417080" y="2703600"/>
                  <a:ext cx="150480" cy="47880"/>
                </a:xfrm>
                <a:custGeom>
                  <a:avLst/>
                  <a:gdLst/>
                  <a:ahLst/>
                  <a:rect l="l" t="t" r="r" b="b"/>
                  <a:pathLst>
                    <a:path w="119" h="38">
                      <a:moveTo>
                        <a:pt x="0" y="0"/>
                      </a:moveTo>
                      <a:lnTo>
                        <a:pt x="119" y="3"/>
                      </a:lnTo>
                      <a:lnTo>
                        <a:pt x="6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417080" y="2703600"/>
                  <a:ext cx="150480" cy="47880"/>
                </a:xfrm>
                <a:custGeom>
                  <a:avLst/>
                  <a:gdLst/>
                  <a:ahLst/>
                  <a:rect l="l" t="t" r="r" b="b"/>
                  <a:pathLst>
                    <a:path w="119" h="38">
                      <a:moveTo>
                        <a:pt x="0" y="0"/>
                      </a:moveTo>
                      <a:lnTo>
                        <a:pt x="119" y="3"/>
                      </a:lnTo>
                      <a:lnTo>
                        <a:pt x="6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7285680" y="2720160"/>
                  <a:ext cx="183960" cy="2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391520" y="2579040"/>
                  <a:ext cx="147240" cy="68400"/>
                </a:xfrm>
                <a:custGeom>
                  <a:avLst/>
                  <a:gdLst/>
                  <a:ahLst/>
                  <a:rect l="l" t="t" r="r" b="b"/>
                  <a:pathLst>
                    <a:path w="116" h="54">
                      <a:moveTo>
                        <a:pt x="0" y="17"/>
                      </a:moveTo>
                      <a:lnTo>
                        <a:pt x="116" y="0"/>
                      </a:lnTo>
                      <a:lnTo>
                        <a:pt x="12" y="5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391520" y="2579040"/>
                  <a:ext cx="147240" cy="68400"/>
                </a:xfrm>
                <a:custGeom>
                  <a:avLst/>
                  <a:gdLst/>
                  <a:ahLst/>
                  <a:rect l="l" t="t" r="r" b="b"/>
                  <a:pathLst>
                    <a:path w="116" h="54">
                      <a:moveTo>
                        <a:pt x="0" y="17"/>
                      </a:moveTo>
                      <a:lnTo>
                        <a:pt x="116" y="0"/>
                      </a:lnTo>
                      <a:lnTo>
                        <a:pt x="12" y="54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7268760" y="2609640"/>
                  <a:ext cx="1771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347240" y="2459880"/>
                  <a:ext cx="142920" cy="91080"/>
                </a:xfrm>
                <a:custGeom>
                  <a:avLst/>
                  <a:gdLst/>
                  <a:ahLst/>
                  <a:rect l="l" t="t" r="r" b="b"/>
                  <a:pathLst>
                    <a:path w="113" h="72">
                      <a:moveTo>
                        <a:pt x="0" y="37"/>
                      </a:moveTo>
                      <a:lnTo>
                        <a:pt x="113" y="0"/>
                      </a:lnTo>
                      <a:lnTo>
                        <a:pt x="18" y="72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347240" y="2459880"/>
                  <a:ext cx="142920" cy="91080"/>
                </a:xfrm>
                <a:custGeom>
                  <a:avLst/>
                  <a:gdLst/>
                  <a:ahLst/>
                  <a:rect l="l" t="t" r="r" b="b"/>
                  <a:pathLst>
                    <a:path w="113" h="72">
                      <a:moveTo>
                        <a:pt x="0" y="37"/>
                      </a:moveTo>
                      <a:lnTo>
                        <a:pt x="113" y="0"/>
                      </a:lnTo>
                      <a:lnTo>
                        <a:pt x="18" y="72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7238160" y="2506680"/>
                  <a:ext cx="163440" cy="8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286040" y="2349360"/>
                  <a:ext cx="133200" cy="111600"/>
                </a:xfrm>
                <a:custGeom>
                  <a:avLst/>
                  <a:gdLst/>
                  <a:ahLst/>
                  <a:rect l="l" t="t" r="r" b="b"/>
                  <a:pathLst>
                    <a:path w="105" h="88">
                      <a:moveTo>
                        <a:pt x="0" y="57"/>
                      </a:moveTo>
                      <a:lnTo>
                        <a:pt x="105" y="0"/>
                      </a:lnTo>
                      <a:lnTo>
                        <a:pt x="24" y="8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286040" y="2349360"/>
                  <a:ext cx="133200" cy="111600"/>
                </a:xfrm>
                <a:custGeom>
                  <a:avLst/>
                  <a:gdLst/>
                  <a:ahLst/>
                  <a:rect l="l" t="t" r="r" b="b"/>
                  <a:pathLst>
                    <a:path w="105" h="88">
                      <a:moveTo>
                        <a:pt x="0" y="57"/>
                      </a:moveTo>
                      <a:lnTo>
                        <a:pt x="105" y="0"/>
                      </a:lnTo>
                      <a:lnTo>
                        <a:pt x="24" y="88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7193880" y="2410560"/>
                  <a:ext cx="14688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214040" y="2254680"/>
                  <a:ext cx="116640" cy="125280"/>
                </a:xfrm>
                <a:custGeom>
                  <a:avLst/>
                  <a:gdLst/>
                  <a:ahLst/>
                  <a:rect l="l" t="t" r="r" b="b"/>
                  <a:pathLst>
                    <a:path w="92" h="99">
                      <a:moveTo>
                        <a:pt x="0" y="73"/>
                      </a:moveTo>
                      <a:lnTo>
                        <a:pt x="92" y="0"/>
                      </a:lnTo>
                      <a:lnTo>
                        <a:pt x="28" y="99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214040" y="2254680"/>
                  <a:ext cx="116640" cy="125280"/>
                </a:xfrm>
                <a:custGeom>
                  <a:avLst/>
                  <a:gdLst/>
                  <a:ahLst/>
                  <a:rect l="l" t="t" r="r" b="b"/>
                  <a:pathLst>
                    <a:path w="92" h="99">
                      <a:moveTo>
                        <a:pt x="0" y="73"/>
                      </a:moveTo>
                      <a:lnTo>
                        <a:pt x="92" y="0"/>
                      </a:lnTo>
                      <a:lnTo>
                        <a:pt x="28" y="99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7138800" y="2326680"/>
                  <a:ext cx="12564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089400" y="2213640"/>
                <a:ext cx="493200" cy="1223640"/>
                <a:chOff x="6089400" y="2213640"/>
                <a:chExt cx="493200" cy="1223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481080" y="3197520"/>
                  <a:ext cx="101520" cy="138240"/>
                </a:xfrm>
                <a:custGeom>
                  <a:avLst/>
                  <a:gdLst/>
                  <a:ahLst/>
                  <a:rect l="l" t="t" r="r" b="b"/>
                  <a:pathLst>
                    <a:path w="80" h="109">
                      <a:moveTo>
                        <a:pt x="0" y="87"/>
                      </a:moveTo>
                      <a:lnTo>
                        <a:pt x="80" y="0"/>
                      </a:lnTo>
                      <a:lnTo>
                        <a:pt x="33" y="10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481080" y="3197520"/>
                  <a:ext cx="101520" cy="138240"/>
                </a:xfrm>
                <a:custGeom>
                  <a:avLst/>
                  <a:gdLst/>
                  <a:ahLst/>
                  <a:rect l="l" t="t" r="r" b="b"/>
                  <a:pathLst>
                    <a:path w="80" h="109">
                      <a:moveTo>
                        <a:pt x="0" y="87"/>
                      </a:moveTo>
                      <a:lnTo>
                        <a:pt x="80" y="0"/>
                      </a:lnTo>
                      <a:lnTo>
                        <a:pt x="33" y="109"/>
                      </a:lnTo>
                      <a:lnTo>
                        <a:pt x="0" y="87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6430320" y="3281400"/>
                  <a:ext cx="98640" cy="15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35360" y="230868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88" h="104">
                      <a:moveTo>
                        <a:pt x="32" y="0"/>
                      </a:moveTo>
                      <a:lnTo>
                        <a:pt x="88" y="104"/>
                      </a:lnTo>
                      <a:lnTo>
                        <a:pt x="0" y="23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35360" y="230868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88" h="104">
                      <a:moveTo>
                        <a:pt x="32" y="0"/>
                      </a:moveTo>
                      <a:lnTo>
                        <a:pt x="88" y="104"/>
                      </a:lnTo>
                      <a:lnTo>
                        <a:pt x="0" y="2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>
                  <a:off x="6372720" y="2213640"/>
                  <a:ext cx="112680" cy="1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361920" y="2377080"/>
                  <a:ext cx="125280" cy="11772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26" y="0"/>
                      </a:moveTo>
                      <a:lnTo>
                        <a:pt x="99" y="93"/>
                      </a:lnTo>
                      <a:lnTo>
                        <a:pt x="0" y="29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61920" y="2377080"/>
                  <a:ext cx="125280" cy="11772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26" y="0"/>
                      </a:moveTo>
                      <a:lnTo>
                        <a:pt x="99" y="93"/>
                      </a:lnTo>
                      <a:lnTo>
                        <a:pt x="0" y="29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>
                  <a:off x="6278040" y="2302200"/>
                  <a:ext cx="136800" cy="12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301080" y="2459520"/>
                  <a:ext cx="138240" cy="10008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20" y="0"/>
                      </a:moveTo>
                      <a:lnTo>
                        <a:pt x="109" y="79"/>
                      </a:lnTo>
                      <a:lnTo>
                        <a:pt x="0" y="3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301080" y="2459520"/>
                  <a:ext cx="138240" cy="10008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20" y="0"/>
                      </a:moveTo>
                      <a:lnTo>
                        <a:pt x="109" y="79"/>
                      </a:lnTo>
                      <a:lnTo>
                        <a:pt x="0" y="3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6197760" y="2406600"/>
                  <a:ext cx="157320" cy="100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55000" y="2552400"/>
                  <a:ext cx="147240" cy="78480"/>
                </a:xfrm>
                <a:custGeom>
                  <a:avLst/>
                  <a:gdLst/>
                  <a:ahLst/>
                  <a:rect l="l" t="t" r="r" b="b"/>
                  <a:pathLst>
                    <a:path w="116" h="62">
                      <a:moveTo>
                        <a:pt x="15" y="0"/>
                      </a:moveTo>
                      <a:lnTo>
                        <a:pt x="116" y="62"/>
                      </a:lnTo>
                      <a:lnTo>
                        <a:pt x="0" y="3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255000" y="2552400"/>
                  <a:ext cx="147240" cy="78480"/>
                </a:xfrm>
                <a:custGeom>
                  <a:avLst/>
                  <a:gdLst/>
                  <a:ahLst/>
                  <a:rect l="l" t="t" r="r" b="b"/>
                  <a:pathLst>
                    <a:path w="116" h="62">
                      <a:moveTo>
                        <a:pt x="15" y="0"/>
                      </a:moveTo>
                      <a:lnTo>
                        <a:pt x="116" y="62"/>
                      </a:lnTo>
                      <a:lnTo>
                        <a:pt x="0" y="36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6137280" y="2521440"/>
                  <a:ext cx="173520" cy="7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27280" y="2651040"/>
                  <a:ext cx="150840" cy="55440"/>
                </a:xfrm>
                <a:custGeom>
                  <a:avLst/>
                  <a:gdLst/>
                  <a:ahLst/>
                  <a:rect l="l" t="t" r="r" b="b"/>
                  <a:pathLst>
                    <a:path w="119" h="44">
                      <a:moveTo>
                        <a:pt x="8" y="0"/>
                      </a:moveTo>
                      <a:lnTo>
                        <a:pt x="119" y="44"/>
                      </a:lnTo>
                      <a:lnTo>
                        <a:pt x="0" y="3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227280" y="2651040"/>
                  <a:ext cx="150840" cy="55440"/>
                </a:xfrm>
                <a:custGeom>
                  <a:avLst/>
                  <a:gdLst/>
                  <a:ahLst/>
                  <a:rect l="l" t="t" r="r" b="b"/>
                  <a:pathLst>
                    <a:path w="119" h="44">
                      <a:moveTo>
                        <a:pt x="8" y="0"/>
                      </a:moveTo>
                      <a:lnTo>
                        <a:pt x="119" y="44"/>
                      </a:lnTo>
                      <a:lnTo>
                        <a:pt x="0" y="3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6099120" y="2645640"/>
                  <a:ext cx="181440" cy="3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20800" y="2862720"/>
                  <a:ext cx="150840" cy="49320"/>
                </a:xfrm>
                <a:custGeom>
                  <a:avLst/>
                  <a:gdLst/>
                  <a:ahLst/>
                  <a:rect l="l" t="t" r="r" b="b"/>
                  <a:pathLst>
                    <a:path w="119" h="39">
                      <a:moveTo>
                        <a:pt x="0" y="0"/>
                      </a:moveTo>
                      <a:lnTo>
                        <a:pt x="119" y="4"/>
                      </a:lnTo>
                      <a:lnTo>
                        <a:pt x="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220800" y="2862720"/>
                  <a:ext cx="150840" cy="49320"/>
                </a:xfrm>
                <a:custGeom>
                  <a:avLst/>
                  <a:gdLst/>
                  <a:ahLst/>
                  <a:rect l="l" t="t" r="r" b="b"/>
                  <a:pathLst>
                    <a:path w="119" h="39">
                      <a:moveTo>
                        <a:pt x="0" y="0"/>
                      </a:moveTo>
                      <a:lnTo>
                        <a:pt x="119" y="4"/>
                      </a:lnTo>
                      <a:lnTo>
                        <a:pt x="5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089400" y="2880720"/>
                  <a:ext cx="183600" cy="2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239880" y="2946600"/>
                  <a:ext cx="148320" cy="68400"/>
                </a:xfrm>
                <a:custGeom>
                  <a:avLst/>
                  <a:gdLst/>
                  <a:ahLst/>
                  <a:rect l="l" t="t" r="r" b="b"/>
                  <a:pathLst>
                    <a:path w="117" h="54">
                      <a:moveTo>
                        <a:pt x="0" y="16"/>
                      </a:moveTo>
                      <a:lnTo>
                        <a:pt x="117" y="0"/>
                      </a:lnTo>
                      <a:lnTo>
                        <a:pt x="12" y="5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239880" y="2946600"/>
                  <a:ext cx="148320" cy="68400"/>
                </a:xfrm>
                <a:custGeom>
                  <a:avLst/>
                  <a:gdLst/>
                  <a:ahLst/>
                  <a:rect l="l" t="t" r="r" b="b"/>
                  <a:pathLst>
                    <a:path w="117" h="54">
                      <a:moveTo>
                        <a:pt x="0" y="16"/>
                      </a:moveTo>
                      <a:lnTo>
                        <a:pt x="117" y="0"/>
                      </a:lnTo>
                      <a:lnTo>
                        <a:pt x="12" y="54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117840" y="2977200"/>
                  <a:ext cx="17604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78040" y="3020040"/>
                  <a:ext cx="140400" cy="91440"/>
                </a:xfrm>
                <a:custGeom>
                  <a:avLst/>
                  <a:gdLst/>
                  <a:ahLst/>
                  <a:rect l="l" t="t" r="r" b="b"/>
                  <a:pathLst>
                    <a:path w="111" h="72">
                      <a:moveTo>
                        <a:pt x="0" y="38"/>
                      </a:moveTo>
                      <a:lnTo>
                        <a:pt x="111" y="0"/>
                      </a:lnTo>
                      <a:lnTo>
                        <a:pt x="18" y="72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78040" y="3020040"/>
                  <a:ext cx="140400" cy="91440"/>
                </a:xfrm>
                <a:custGeom>
                  <a:avLst/>
                  <a:gdLst/>
                  <a:ahLst/>
                  <a:rect l="l" t="t" r="r" b="b"/>
                  <a:pathLst>
                    <a:path w="111" h="72">
                      <a:moveTo>
                        <a:pt x="0" y="38"/>
                      </a:moveTo>
                      <a:lnTo>
                        <a:pt x="111" y="0"/>
                      </a:lnTo>
                      <a:lnTo>
                        <a:pt x="18" y="72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167520" y="3065760"/>
                  <a:ext cx="16452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31320" y="3088800"/>
                  <a:ext cx="131760" cy="110160"/>
                </a:xfrm>
                <a:custGeom>
                  <a:avLst/>
                  <a:gdLst/>
                  <a:ahLst/>
                  <a:rect l="l" t="t" r="r" b="b"/>
                  <a:pathLst>
                    <a:path w="104" h="87">
                      <a:moveTo>
                        <a:pt x="0" y="56"/>
                      </a:moveTo>
                      <a:lnTo>
                        <a:pt x="104" y="0"/>
                      </a:lnTo>
                      <a:lnTo>
                        <a:pt x="24" y="87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331320" y="3088800"/>
                  <a:ext cx="131760" cy="110160"/>
                </a:xfrm>
                <a:custGeom>
                  <a:avLst/>
                  <a:gdLst/>
                  <a:ahLst/>
                  <a:rect l="l" t="t" r="r" b="b"/>
                  <a:pathLst>
                    <a:path w="104" h="87">
                      <a:moveTo>
                        <a:pt x="0" y="56"/>
                      </a:moveTo>
                      <a:lnTo>
                        <a:pt x="104" y="0"/>
                      </a:lnTo>
                      <a:lnTo>
                        <a:pt x="24" y="87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237720" y="3148200"/>
                  <a:ext cx="14832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399720" y="3148200"/>
                  <a:ext cx="117720" cy="126720"/>
                </a:xfrm>
                <a:custGeom>
                  <a:avLst/>
                  <a:gdLst/>
                  <a:ahLst/>
                  <a:rect l="l" t="t" r="r" b="b"/>
                  <a:pathLst>
                    <a:path w="93" h="100">
                      <a:moveTo>
                        <a:pt x="0" y="73"/>
                      </a:moveTo>
                      <a:lnTo>
                        <a:pt x="93" y="0"/>
                      </a:lnTo>
                      <a:lnTo>
                        <a:pt x="28" y="10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399720" y="3148200"/>
                  <a:ext cx="117720" cy="126720"/>
                </a:xfrm>
                <a:custGeom>
                  <a:avLst/>
                  <a:gdLst/>
                  <a:ahLst/>
                  <a:rect l="l" t="t" r="r" b="b"/>
                  <a:pathLst>
                    <a:path w="93" h="100">
                      <a:moveTo>
                        <a:pt x="0" y="73"/>
                      </a:moveTo>
                      <a:lnTo>
                        <a:pt x="93" y="0"/>
                      </a:lnTo>
                      <a:lnTo>
                        <a:pt x="28" y="10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6325920" y="3222000"/>
                  <a:ext cx="12420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" name=""/>
            <p:cNvGrpSpPr/>
            <p:nvPr/>
          </p:nvGrpSpPr>
          <p:grpSpPr>
            <a:xfrm>
              <a:off x="7404840" y="2806560"/>
              <a:ext cx="49320" cy="992880"/>
              <a:chOff x="7404840" y="2806560"/>
              <a:chExt cx="49320" cy="992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404840" y="3651120"/>
                <a:ext cx="49320" cy="14832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9" y="0"/>
                    </a:moveTo>
                    <a:lnTo>
                      <a:pt x="19" y="117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404840" y="3651120"/>
                <a:ext cx="49320" cy="14832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9" y="0"/>
                    </a:moveTo>
                    <a:lnTo>
                      <a:pt x="19" y="117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7428600" y="2806560"/>
                <a:ext cx="1080" cy="8942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944680" y="1676520"/>
              <a:ext cx="245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49640" y="2576880"/>
              <a:ext cx="255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62520" y="26377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31560" y="3551040"/>
              <a:ext cx="23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6202080" y="1795320"/>
              <a:ext cx="54000" cy="1010160"/>
              <a:chOff x="6202080" y="1795320"/>
              <a:chExt cx="54000" cy="1010160"/>
            </a:xfrm>
          </p:grpSpPr>
          <p:sp>
            <p:nvSpPr>
              <p:cNvPr id="563" name=""/>
              <p:cNvSpPr/>
              <p:nvPr/>
            </p:nvSpPr>
            <p:spPr>
              <a:xfrm>
                <a:off x="6204600" y="1814040"/>
                <a:ext cx="47880" cy="148320"/>
              </a:xfrm>
              <a:custGeom>
                <a:avLst/>
                <a:gdLst/>
                <a:ahLst/>
                <a:rect l="l" t="t" r="r" b="b"/>
                <a:pathLst>
                  <a:path w="38" h="117">
                    <a:moveTo>
                      <a:pt x="38" y="117"/>
                    </a:moveTo>
                    <a:lnTo>
                      <a:pt x="19" y="0"/>
                    </a:lnTo>
                    <a:lnTo>
                      <a:pt x="0" y="117"/>
                    </a:lnTo>
                    <a:lnTo>
                      <a:pt x="38" y="117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25840" y="1814040"/>
                <a:ext cx="30240" cy="148320"/>
              </a:xfrm>
              <a:custGeom>
                <a:avLst/>
                <a:gdLst/>
                <a:ahLst/>
                <a:rect l="l" t="t" r="r" b="b"/>
                <a:pathLst>
                  <a:path w="24" h="117">
                    <a:moveTo>
                      <a:pt x="19" y="117"/>
                    </a:moveTo>
                    <a:lnTo>
                      <a:pt x="21" y="117"/>
                    </a:lnTo>
                    <a:lnTo>
                      <a:pt x="24" y="117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9" y="117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25840" y="1814040"/>
                <a:ext cx="30240" cy="148320"/>
              </a:xfrm>
              <a:custGeom>
                <a:avLst/>
                <a:gdLst/>
                <a:ahLst/>
                <a:rect l="l" t="t" r="r" b="b"/>
                <a:pathLst>
                  <a:path w="24" h="117">
                    <a:moveTo>
                      <a:pt x="19" y="117"/>
                    </a:moveTo>
                    <a:lnTo>
                      <a:pt x="21" y="117"/>
                    </a:lnTo>
                    <a:lnTo>
                      <a:pt x="24" y="117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9" y="117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25840" y="179532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2" y="0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25840" y="179532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5" y="15"/>
                    </a:moveTo>
                    <a:lnTo>
                      <a:pt x="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202080" y="1814040"/>
                <a:ext cx="30240" cy="148320"/>
              </a:xfrm>
              <a:custGeom>
                <a:avLst/>
                <a:gdLst/>
                <a:ahLst/>
                <a:rect l="l" t="t" r="r" b="b"/>
                <a:pathLst>
                  <a:path w="24" h="117">
                    <a:moveTo>
                      <a:pt x="24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0" y="117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6202080" y="1814040"/>
                <a:ext cx="30240" cy="991440"/>
                <a:chOff x="6202080" y="1814040"/>
                <a:chExt cx="30240" cy="9914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228360" y="1912680"/>
                  <a:ext cx="1080" cy="892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202080" y="1814040"/>
                  <a:ext cx="30240" cy="148320"/>
                </a:xfrm>
                <a:custGeom>
                  <a:avLst/>
                  <a:gdLst/>
                  <a:ahLst/>
                  <a:rect l="l" t="t" r="r" b="b"/>
                  <a:pathLst>
                    <a:path w="24" h="117">
                      <a:moveTo>
                        <a:pt x="24" y="0"/>
                      </a:move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0" y="117"/>
                      </a:lnTo>
                      <a:lnTo>
                        <a:pt x="2" y="117"/>
                      </a:lnTo>
                      <a:lnTo>
                        <a:pt x="4" y="117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6202080" y="196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04600" y="196020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8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04600" y="196020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8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52480" y="19623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>
            <a:off x="60948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通入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磁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受到转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和指针转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038480"/>
            <a:ext cx="8001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弹簧的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指针的偏转角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           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5029200"/>
            <a:ext cx="7848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弹簧的阻转矩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线圈受到的转矩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到平衡时，可动部分停止转动，此时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05120" y="588168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480" y="380880"/>
            <a:ext cx="78487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弹簧阻转矩与转动转矩达到平衡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可转动部分便停止转动，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505320" y="1523880"/>
                <a:ext cx="24066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914400" y="3200400"/>
            <a:ext cx="5029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表的标度尺上作均匀刻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阻尼作用的产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426708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线圈通入电流而发生偏转时，铝框切割磁通，在框内感应出电流，其电流再与磁场作用，产生与转动方向相反的制动力，于是可转动部分受到阻尼作用，快速停止在平衡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386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即指针的偏转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268128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指针偏转的角度与流经线圈的电流成正比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241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1278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刻度均匀；灵敏度和准确度高；阻尼强；消耗  电能量小；受外界磁场影响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能测量直流；价格较高；不能承受较大过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744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直流电压、直流电流及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17080" y="318960"/>
            <a:ext cx="23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2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磁式仪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7761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部分是固定的圆形线圈、线圈内部有固定的铁片、固定在转轴上的可动铁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288320" y="3654360"/>
            <a:ext cx="732240" cy="460440"/>
            <a:chOff x="4288320" y="3654360"/>
            <a:chExt cx="732240" cy="460440"/>
          </a:xfrm>
        </p:grpSpPr>
        <p:sp>
          <p:nvSpPr>
            <p:cNvPr id="599" name=""/>
            <p:cNvSpPr/>
            <p:nvPr/>
          </p:nvSpPr>
          <p:spPr>
            <a:xfrm>
              <a:off x="4288320" y="365436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圆形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797360" y="3944880"/>
              <a:ext cx="146160" cy="169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191120" y="5334120"/>
            <a:ext cx="1084680" cy="539280"/>
            <a:chOff x="4191120" y="5334120"/>
            <a:chExt cx="1084680" cy="539280"/>
          </a:xfrm>
        </p:grpSpPr>
        <p:sp>
          <p:nvSpPr>
            <p:cNvPr id="602" name=""/>
            <p:cNvSpPr/>
            <p:nvPr/>
          </p:nvSpPr>
          <p:spPr>
            <a:xfrm>
              <a:off x="4909320" y="550728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小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5334120"/>
              <a:ext cx="506160" cy="236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213280" y="1981080"/>
            <a:ext cx="3654000" cy="4269960"/>
            <a:chOff x="2213280" y="1981080"/>
            <a:chExt cx="3654000" cy="4269960"/>
          </a:xfrm>
        </p:grpSpPr>
        <p:sp>
          <p:nvSpPr>
            <p:cNvPr id="605" name=""/>
            <p:cNvSpPr/>
            <p:nvPr/>
          </p:nvSpPr>
          <p:spPr>
            <a:xfrm flipH="1" flipV="1">
              <a:off x="3563640" y="4437000"/>
              <a:ext cx="3492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3595320" y="4432320"/>
              <a:ext cx="19080" cy="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4327560"/>
              <a:ext cx="36720" cy="10944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6" y="0"/>
                  </a:moveTo>
                  <a:lnTo>
                    <a:pt x="0" y="50"/>
                  </a:lnTo>
                  <a:lnTo>
                    <a:pt x="28" y="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35200" y="4327560"/>
              <a:ext cx="60480" cy="104760"/>
            </a:xfrm>
            <a:custGeom>
              <a:avLst/>
              <a:gdLst/>
              <a:ahLst/>
              <a:rect l="l" t="t" r="r" b="b"/>
              <a:pathLst>
                <a:path w="45" h="85">
                  <a:moveTo>
                    <a:pt x="45" y="85"/>
                  </a:moveTo>
                  <a:lnTo>
                    <a:pt x="39" y="3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13040" y="4375080"/>
              <a:ext cx="84240" cy="889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0"/>
                  </a:moveTo>
                  <a:lnTo>
                    <a:pt x="18" y="23"/>
                  </a:lnTo>
                  <a:lnTo>
                    <a:pt x="0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0040" y="4375080"/>
              <a:ext cx="57240" cy="10008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0" y="82"/>
                  </a:moveTo>
                  <a:lnTo>
                    <a:pt x="37" y="50"/>
                  </a:lnTo>
                  <a:lnTo>
                    <a:pt x="4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675240" y="4463640"/>
              <a:ext cx="378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689280" y="4474800"/>
              <a:ext cx="5076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54280" y="4511520"/>
              <a:ext cx="65160" cy="795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49" y="0"/>
                  </a:moveTo>
                  <a:lnTo>
                    <a:pt x="41" y="4"/>
                  </a:lnTo>
                  <a:lnTo>
                    <a:pt x="33" y="10"/>
                  </a:lnTo>
                  <a:lnTo>
                    <a:pt x="25" y="19"/>
                  </a:lnTo>
                  <a:lnTo>
                    <a:pt x="16" y="29"/>
                  </a:lnTo>
                  <a:lnTo>
                    <a:pt x="10" y="39"/>
                  </a:lnTo>
                  <a:lnTo>
                    <a:pt x="4" y="53"/>
                  </a:lnTo>
                  <a:lnTo>
                    <a:pt x="0" y="6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203640" y="5419800"/>
              <a:ext cx="193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203640" y="4865400"/>
              <a:ext cx="19980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3440" y="4865760"/>
              <a:ext cx="90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397320" y="4865760"/>
              <a:ext cx="20160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60680" y="4956120"/>
              <a:ext cx="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3495600" y="4694040"/>
              <a:ext cx="10332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460680" y="4670280"/>
              <a:ext cx="9864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48160" y="4525920"/>
              <a:ext cx="117360" cy="16056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0" y="95"/>
                  </a:moveTo>
                  <a:lnTo>
                    <a:pt x="2" y="107"/>
                  </a:lnTo>
                  <a:lnTo>
                    <a:pt x="6" y="115"/>
                  </a:lnTo>
                  <a:lnTo>
                    <a:pt x="10" y="123"/>
                  </a:lnTo>
                  <a:lnTo>
                    <a:pt x="16" y="128"/>
                  </a:lnTo>
                  <a:lnTo>
                    <a:pt x="25" y="132"/>
                  </a:lnTo>
                  <a:lnTo>
                    <a:pt x="33" y="132"/>
                  </a:lnTo>
                  <a:lnTo>
                    <a:pt x="41" y="128"/>
                  </a:lnTo>
                  <a:lnTo>
                    <a:pt x="49" y="123"/>
                  </a:lnTo>
                  <a:lnTo>
                    <a:pt x="57" y="117"/>
                  </a:lnTo>
                  <a:lnTo>
                    <a:pt x="66" y="107"/>
                  </a:lnTo>
                  <a:lnTo>
                    <a:pt x="72" y="97"/>
                  </a:lnTo>
                  <a:lnTo>
                    <a:pt x="78" y="84"/>
                  </a:lnTo>
                  <a:lnTo>
                    <a:pt x="82" y="70"/>
                  </a:lnTo>
                  <a:lnTo>
                    <a:pt x="86" y="58"/>
                  </a:lnTo>
                  <a:lnTo>
                    <a:pt x="88" y="43"/>
                  </a:lnTo>
                  <a:lnTo>
                    <a:pt x="88" y="31"/>
                  </a:lnTo>
                  <a:lnTo>
                    <a:pt x="86" y="19"/>
                  </a:lnTo>
                  <a:lnTo>
                    <a:pt x="84" y="9"/>
                  </a:lnTo>
                  <a:lnTo>
                    <a:pt x="8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87760" y="4525920"/>
              <a:ext cx="106200" cy="17460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0" y="132"/>
                  </a:moveTo>
                  <a:lnTo>
                    <a:pt x="6" y="138"/>
                  </a:lnTo>
                  <a:lnTo>
                    <a:pt x="12" y="142"/>
                  </a:lnTo>
                  <a:lnTo>
                    <a:pt x="18" y="144"/>
                  </a:lnTo>
                  <a:lnTo>
                    <a:pt x="26" y="142"/>
                  </a:lnTo>
                  <a:lnTo>
                    <a:pt x="35" y="138"/>
                  </a:lnTo>
                  <a:lnTo>
                    <a:pt x="43" y="134"/>
                  </a:lnTo>
                  <a:lnTo>
                    <a:pt x="51" y="125"/>
                  </a:lnTo>
                  <a:lnTo>
                    <a:pt x="59" y="115"/>
                  </a:lnTo>
                  <a:lnTo>
                    <a:pt x="65" y="105"/>
                  </a:lnTo>
                  <a:lnTo>
                    <a:pt x="71" y="93"/>
                  </a:lnTo>
                  <a:lnTo>
                    <a:pt x="76" y="78"/>
                  </a:lnTo>
                  <a:lnTo>
                    <a:pt x="78" y="66"/>
                  </a:lnTo>
                  <a:lnTo>
                    <a:pt x="80" y="52"/>
                  </a:lnTo>
                  <a:lnTo>
                    <a:pt x="80" y="39"/>
                  </a:lnTo>
                  <a:lnTo>
                    <a:pt x="78" y="29"/>
                  </a:lnTo>
                  <a:lnTo>
                    <a:pt x="76" y="19"/>
                  </a:lnTo>
                  <a:lnTo>
                    <a:pt x="69" y="11"/>
                  </a:lnTo>
                  <a:lnTo>
                    <a:pt x="65" y="5"/>
                  </a:lnTo>
                  <a:lnTo>
                    <a:pt x="57" y="0"/>
                  </a:lnTo>
                  <a:lnTo>
                    <a:pt x="5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656160" y="2940120"/>
              <a:ext cx="588960" cy="15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619080" y="2919240"/>
              <a:ext cx="59868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30520" y="4865760"/>
              <a:ext cx="68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37000" y="4640400"/>
              <a:ext cx="8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18000" y="4591080"/>
              <a:ext cx="9360" cy="4932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0" y="41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36640" y="4591080"/>
              <a:ext cx="8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797200" y="4265640"/>
              <a:ext cx="663120" cy="887400"/>
              <a:chOff x="2797200" y="4265640"/>
              <a:chExt cx="663120" cy="887400"/>
            </a:xfrm>
          </p:grpSpPr>
          <p:sp>
            <p:nvSpPr>
              <p:cNvPr id="630" name=""/>
              <p:cNvSpPr/>
              <p:nvPr/>
            </p:nvSpPr>
            <p:spPr>
              <a:xfrm>
                <a:off x="3107520" y="4972680"/>
                <a:ext cx="31320" cy="115920"/>
              </a:xfrm>
              <a:custGeom>
                <a:avLst/>
                <a:gdLst/>
                <a:ahLst/>
                <a:rect l="l" t="t" r="r" b="b"/>
                <a:pathLst>
                  <a:path w="23" h="95">
                    <a:moveTo>
                      <a:pt x="16" y="95"/>
                    </a:moveTo>
                    <a:lnTo>
                      <a:pt x="23" y="45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54680" y="4301280"/>
                <a:ext cx="46800" cy="424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10" y="10"/>
                    </a:lnTo>
                    <a:lnTo>
                      <a:pt x="0" y="3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179160" y="5062680"/>
                <a:ext cx="41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2797200" y="4265640"/>
                <a:ext cx="663120" cy="887400"/>
                <a:chOff x="2797200" y="4265640"/>
                <a:chExt cx="663120" cy="887400"/>
              </a:xfrm>
            </p:grpSpPr>
            <p:sp>
              <p:nvSpPr>
                <p:cNvPr id="634" name=""/>
                <p:cNvSpPr/>
                <p:nvPr/>
              </p:nvSpPr>
              <p:spPr>
                <a:xfrm flipH="1">
                  <a:off x="3201480" y="4302720"/>
                  <a:ext cx="24588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154680" y="4345560"/>
                  <a:ext cx="1080" cy="18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151800" y="4525560"/>
                  <a:ext cx="27000" cy="186840"/>
                </a:xfrm>
                <a:custGeom>
                  <a:avLst/>
                  <a:gdLst/>
                  <a:ahLst/>
                  <a:rect l="l" t="t" r="r" b="b"/>
                  <a:pathLst>
                    <a:path w="20" h="154">
                      <a:moveTo>
                        <a:pt x="0" y="154"/>
                      </a:moveTo>
                      <a:lnTo>
                        <a:pt x="20" y="78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151800" y="4712760"/>
                  <a:ext cx="1080" cy="26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151800" y="4974120"/>
                  <a:ext cx="27000" cy="115920"/>
                </a:xfrm>
                <a:custGeom>
                  <a:avLst/>
                  <a:gdLst/>
                  <a:ahLst/>
                  <a:rect l="l" t="t" r="r" b="b"/>
                  <a:pathLst>
                    <a:path w="20" h="95">
                      <a:moveTo>
                        <a:pt x="14" y="95"/>
                      </a:moveTo>
                      <a:lnTo>
                        <a:pt x="20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170160" y="5090040"/>
                  <a:ext cx="1440" cy="6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3128400" y="5153040"/>
                  <a:ext cx="41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107520" y="4712760"/>
                  <a:ext cx="1440" cy="26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28760" y="5090040"/>
                  <a:ext cx="1440" cy="6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113280" y="4308120"/>
                  <a:ext cx="1080" cy="21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107520" y="4525560"/>
                  <a:ext cx="31320" cy="186840"/>
                </a:xfrm>
                <a:custGeom>
                  <a:avLst/>
                  <a:gdLst/>
                  <a:ahLst/>
                  <a:rect l="l" t="t" r="r" b="b"/>
                  <a:pathLst>
                    <a:path w="23" h="154">
                      <a:moveTo>
                        <a:pt x="0" y="154"/>
                      </a:moveTo>
                      <a:lnTo>
                        <a:pt x="23" y="78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116160" y="4265640"/>
                  <a:ext cx="3441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447720" y="4265640"/>
                  <a:ext cx="1080" cy="3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3110040" y="5153040"/>
                  <a:ext cx="18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3110400" y="5054040"/>
                  <a:ext cx="1080" cy="9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058560" y="5024160"/>
                  <a:ext cx="51480" cy="49680"/>
                </a:xfrm>
                <a:custGeom>
                  <a:avLst/>
                  <a:gdLst/>
                  <a:ahLst/>
                  <a:rect l="l" t="t" r="r" b="b"/>
                  <a:pathLst>
                    <a:path w="39" h="41">
                      <a:moveTo>
                        <a:pt x="39" y="21"/>
                      </a:moveTo>
                      <a:lnTo>
                        <a:pt x="33" y="7"/>
                      </a:lnTo>
                      <a:lnTo>
                        <a:pt x="19" y="0"/>
                      </a:lnTo>
                      <a:lnTo>
                        <a:pt x="6" y="7"/>
                      </a:lnTo>
                      <a:lnTo>
                        <a:pt x="0" y="21"/>
                      </a:lnTo>
                      <a:lnTo>
                        <a:pt x="6" y="35"/>
                      </a:lnTo>
                      <a:lnTo>
                        <a:pt x="19" y="41"/>
                      </a:lnTo>
                      <a:lnTo>
                        <a:pt x="33" y="35"/>
                      </a:lnTo>
                      <a:lnTo>
                        <a:pt x="39" y="2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58560" y="5071320"/>
                  <a:ext cx="144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3029040" y="5145840"/>
                  <a:ext cx="2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083040" y="5074200"/>
                  <a:ext cx="1440" cy="78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58560" y="5145840"/>
                  <a:ext cx="24120" cy="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3029040" y="5082840"/>
                  <a:ext cx="1080" cy="6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3025800" y="4952520"/>
                  <a:ext cx="36720" cy="7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3062880" y="4715640"/>
                  <a:ext cx="1440" cy="23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3041280" y="4527000"/>
                  <a:ext cx="27000" cy="6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3068640" y="4307760"/>
                  <a:ext cx="10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13280" y="4265640"/>
                  <a:ext cx="46800" cy="42480"/>
                </a:xfrm>
                <a:custGeom>
                  <a:avLst/>
                  <a:gdLst/>
                  <a:ahLst/>
                  <a:rect l="l" t="t" r="r" b="b"/>
                  <a:pathLst>
                    <a:path w="35" h="35">
                      <a:moveTo>
                        <a:pt x="35" y="0"/>
                      </a:moveTo>
                      <a:lnTo>
                        <a:pt x="10" y="10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068640" y="4265640"/>
                  <a:ext cx="47160" cy="42480"/>
                </a:xfrm>
                <a:custGeom>
                  <a:avLst/>
                  <a:gdLst/>
                  <a:ahLst/>
                  <a:rect l="l" t="t" r="r" b="b"/>
                  <a:pathLst>
                    <a:path w="35" h="35">
                      <a:moveTo>
                        <a:pt x="35" y="0"/>
                      </a:moveTo>
                      <a:lnTo>
                        <a:pt x="11" y="10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176280" y="5019840"/>
                  <a:ext cx="442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220560" y="5019840"/>
                  <a:ext cx="9720" cy="44280"/>
                </a:xfrm>
                <a:custGeom>
                  <a:avLst/>
                  <a:gdLst/>
                  <a:ahLst/>
                  <a:rect l="l" t="t" r="r" b="b"/>
                  <a:pathLst>
                    <a:path w="8" h="37">
                      <a:moveTo>
                        <a:pt x="0" y="37"/>
                      </a:moveTo>
                      <a:lnTo>
                        <a:pt x="2" y="37"/>
                      </a:lnTo>
                      <a:lnTo>
                        <a:pt x="4" y="35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8" y="27"/>
                      </a:lnTo>
                      <a:lnTo>
                        <a:pt x="8" y="25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4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2963880" y="5074200"/>
                  <a:ext cx="118440" cy="1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964240" y="5007240"/>
                  <a:ext cx="118440" cy="1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2825280" y="5007240"/>
                  <a:ext cx="1386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825640" y="5092560"/>
                  <a:ext cx="1386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797200" y="5007240"/>
                  <a:ext cx="52560" cy="828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21" y="0"/>
                      </a:moveTo>
                      <a:lnTo>
                        <a:pt x="17" y="2"/>
                      </a:lnTo>
                      <a:lnTo>
                        <a:pt x="13" y="4"/>
                      </a:lnTo>
                      <a:lnTo>
                        <a:pt x="11" y="6"/>
                      </a:lnTo>
                      <a:lnTo>
                        <a:pt x="7" y="10"/>
                      </a:lnTo>
                      <a:lnTo>
                        <a:pt x="4" y="14"/>
                      </a:lnTo>
                      <a:lnTo>
                        <a:pt x="2" y="21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2" y="45"/>
                      </a:lnTo>
                      <a:lnTo>
                        <a:pt x="2" y="51"/>
                      </a:lnTo>
                      <a:lnTo>
                        <a:pt x="4" y="57"/>
                      </a:lnTo>
                      <a:lnTo>
                        <a:pt x="9" y="62"/>
                      </a:lnTo>
                      <a:lnTo>
                        <a:pt x="11" y="66"/>
                      </a:lnTo>
                      <a:lnTo>
                        <a:pt x="15" y="68"/>
                      </a:lnTo>
                      <a:lnTo>
                        <a:pt x="19" y="68"/>
                      </a:lnTo>
                      <a:lnTo>
                        <a:pt x="23" y="68"/>
                      </a:lnTo>
                      <a:lnTo>
                        <a:pt x="25" y="68"/>
                      </a:lnTo>
                      <a:lnTo>
                        <a:pt x="29" y="66"/>
                      </a:lnTo>
                      <a:lnTo>
                        <a:pt x="33" y="62"/>
                      </a:lnTo>
                      <a:lnTo>
                        <a:pt x="35" y="57"/>
                      </a:lnTo>
                      <a:lnTo>
                        <a:pt x="37" y="51"/>
                      </a:lnTo>
                      <a:lnTo>
                        <a:pt x="39" y="45"/>
                      </a:lnTo>
                      <a:lnTo>
                        <a:pt x="39" y="39"/>
                      </a:lnTo>
                      <a:lnTo>
                        <a:pt x="39" y="33"/>
                      </a:lnTo>
                      <a:lnTo>
                        <a:pt x="39" y="27"/>
                      </a:lnTo>
                      <a:lnTo>
                        <a:pt x="39" y="21"/>
                      </a:lnTo>
                      <a:lnTo>
                        <a:pt x="37" y="14"/>
                      </a:lnTo>
                      <a:lnTo>
                        <a:pt x="33" y="10"/>
                      </a:lnTo>
                      <a:lnTo>
                        <a:pt x="31" y="6"/>
                      </a:lnTo>
                      <a:lnTo>
                        <a:pt x="27" y="4"/>
                      </a:lnTo>
                      <a:lnTo>
                        <a:pt x="25" y="2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025800" y="5074200"/>
                  <a:ext cx="2880" cy="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071880" y="4572720"/>
                  <a:ext cx="38520" cy="90000"/>
                </a:xfrm>
                <a:custGeom>
                  <a:avLst/>
                  <a:gdLst/>
                  <a:ahLst/>
                  <a:rect l="l" t="t" r="r" b="b"/>
                  <a:pathLst>
                    <a:path w="29" h="74">
                      <a:moveTo>
                        <a:pt x="0" y="58"/>
                      </a:moveTo>
                      <a:lnTo>
                        <a:pt x="2" y="64"/>
                      </a:lnTo>
                      <a:lnTo>
                        <a:pt x="4" y="68"/>
                      </a:lnTo>
                      <a:lnTo>
                        <a:pt x="9" y="70"/>
                      </a:lnTo>
                      <a:lnTo>
                        <a:pt x="11" y="72"/>
                      </a:lnTo>
                      <a:lnTo>
                        <a:pt x="15" y="74"/>
                      </a:lnTo>
                      <a:lnTo>
                        <a:pt x="17" y="72"/>
                      </a:lnTo>
                      <a:lnTo>
                        <a:pt x="21" y="70"/>
                      </a:lnTo>
                      <a:lnTo>
                        <a:pt x="23" y="68"/>
                      </a:lnTo>
                      <a:lnTo>
                        <a:pt x="25" y="64"/>
                      </a:lnTo>
                      <a:lnTo>
                        <a:pt x="27" y="58"/>
                      </a:lnTo>
                      <a:lnTo>
                        <a:pt x="29" y="52"/>
                      </a:lnTo>
                      <a:lnTo>
                        <a:pt x="29" y="45"/>
                      </a:lnTo>
                      <a:lnTo>
                        <a:pt x="29" y="37"/>
                      </a:lnTo>
                      <a:lnTo>
                        <a:pt x="29" y="31"/>
                      </a:lnTo>
                      <a:lnTo>
                        <a:pt x="29" y="23"/>
                      </a:lnTo>
                      <a:lnTo>
                        <a:pt x="27" y="17"/>
                      </a:lnTo>
                      <a:lnTo>
                        <a:pt x="25" y="13"/>
                      </a:lnTo>
                      <a:lnTo>
                        <a:pt x="23" y="6"/>
                      </a:lnTo>
                      <a:lnTo>
                        <a:pt x="21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6"/>
                      </a:lnTo>
                      <a:lnTo>
                        <a:pt x="2" y="13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038760" y="4642560"/>
                  <a:ext cx="2412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3021120" y="4748040"/>
              <a:ext cx="1407600" cy="868320"/>
              <a:chOff x="3021120" y="4748040"/>
              <a:chExt cx="1407600" cy="868320"/>
            </a:xfrm>
          </p:grpSpPr>
          <p:sp>
            <p:nvSpPr>
              <p:cNvPr id="672" name=""/>
              <p:cNvSpPr/>
              <p:nvPr/>
            </p:nvSpPr>
            <p:spPr>
              <a:xfrm>
                <a:off x="3838680" y="4790520"/>
                <a:ext cx="315720" cy="40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154400" y="5195160"/>
                <a:ext cx="274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075920" y="4790160"/>
                <a:ext cx="352800" cy="40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3838320" y="4790520"/>
                <a:ext cx="23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021120" y="5172480"/>
                <a:ext cx="1133280" cy="432720"/>
              </a:xfrm>
              <a:custGeom>
                <a:avLst/>
                <a:gdLst/>
                <a:ahLst/>
                <a:rect l="l" t="t" r="r" b="b"/>
                <a:pathLst>
                  <a:path w="847" h="355">
                    <a:moveTo>
                      <a:pt x="847" y="19"/>
                    </a:moveTo>
                    <a:lnTo>
                      <a:pt x="763" y="136"/>
                    </a:lnTo>
                    <a:lnTo>
                      <a:pt x="665" y="244"/>
                    </a:lnTo>
                    <a:lnTo>
                      <a:pt x="609" y="291"/>
                    </a:lnTo>
                    <a:lnTo>
                      <a:pt x="548" y="328"/>
                    </a:lnTo>
                    <a:lnTo>
                      <a:pt x="478" y="351"/>
                    </a:lnTo>
                    <a:lnTo>
                      <a:pt x="406" y="355"/>
                    </a:lnTo>
                    <a:lnTo>
                      <a:pt x="335" y="345"/>
                    </a:lnTo>
                    <a:lnTo>
                      <a:pt x="265" y="320"/>
                    </a:lnTo>
                    <a:lnTo>
                      <a:pt x="140" y="246"/>
                    </a:lnTo>
                    <a:lnTo>
                      <a:pt x="84" y="197"/>
                    </a:lnTo>
                    <a:lnTo>
                      <a:pt x="46" y="138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160" y="5195160"/>
                <a:ext cx="817560" cy="421200"/>
              </a:xfrm>
              <a:custGeom>
                <a:avLst/>
                <a:gdLst/>
                <a:ahLst/>
                <a:rect l="l" t="t" r="r" b="b"/>
                <a:pathLst>
                  <a:path w="611" h="346">
                    <a:moveTo>
                      <a:pt x="611" y="0"/>
                    </a:moveTo>
                    <a:lnTo>
                      <a:pt x="492" y="141"/>
                    </a:lnTo>
                    <a:lnTo>
                      <a:pt x="351" y="262"/>
                    </a:lnTo>
                    <a:lnTo>
                      <a:pt x="273" y="309"/>
                    </a:lnTo>
                    <a:lnTo>
                      <a:pt x="183" y="334"/>
                    </a:lnTo>
                    <a:lnTo>
                      <a:pt x="90" y="346"/>
                    </a:lnTo>
                    <a:lnTo>
                      <a:pt x="0" y="33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89920" y="4790520"/>
                <a:ext cx="248400" cy="104040"/>
              </a:xfrm>
              <a:custGeom>
                <a:avLst/>
                <a:gdLst/>
                <a:ahLst/>
                <a:rect l="l" t="t" r="r" b="b"/>
                <a:pathLst>
                  <a:path w="186" h="86">
                    <a:moveTo>
                      <a:pt x="186" y="0"/>
                    </a:moveTo>
                    <a:lnTo>
                      <a:pt x="106" y="69"/>
                    </a:lnTo>
                    <a:lnTo>
                      <a:pt x="53" y="86"/>
                    </a:lnTo>
                    <a:lnTo>
                      <a:pt x="0" y="7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72640" y="4748040"/>
                <a:ext cx="189720" cy="106920"/>
              </a:xfrm>
              <a:custGeom>
                <a:avLst/>
                <a:gdLst/>
                <a:ahLst/>
                <a:rect l="l" t="t" r="r" b="b"/>
                <a:pathLst>
                  <a:path w="142" h="88">
                    <a:moveTo>
                      <a:pt x="142" y="88"/>
                    </a:moveTo>
                    <a:lnTo>
                      <a:pt x="99" y="82"/>
                    </a:lnTo>
                    <a:lnTo>
                      <a:pt x="60" y="63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174840" y="4313160"/>
              <a:ext cx="361800" cy="564480"/>
              <a:chOff x="3174840" y="4313160"/>
              <a:chExt cx="361800" cy="564480"/>
            </a:xfrm>
          </p:grpSpPr>
          <p:sp>
            <p:nvSpPr>
              <p:cNvPr id="681" name=""/>
              <p:cNvSpPr/>
              <p:nvPr/>
            </p:nvSpPr>
            <p:spPr>
              <a:xfrm>
                <a:off x="3203280" y="4313160"/>
                <a:ext cx="153000" cy="290160"/>
              </a:xfrm>
              <a:custGeom>
                <a:avLst/>
                <a:gdLst/>
                <a:ahLst/>
                <a:rect l="l" t="t" r="r" b="b"/>
                <a:pathLst>
                  <a:path w="115" h="238">
                    <a:moveTo>
                      <a:pt x="115" y="0"/>
                    </a:moveTo>
                    <a:lnTo>
                      <a:pt x="65" y="49"/>
                    </a:lnTo>
                    <a:lnTo>
                      <a:pt x="26" y="104"/>
                    </a:lnTo>
                    <a:lnTo>
                      <a:pt x="6" y="170"/>
                    </a:lnTo>
                    <a:lnTo>
                      <a:pt x="0" y="238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174840" y="4316040"/>
                <a:ext cx="132840" cy="287280"/>
              </a:xfrm>
              <a:custGeom>
                <a:avLst/>
                <a:gdLst/>
                <a:ahLst/>
                <a:rect l="l" t="t" r="r" b="b"/>
                <a:pathLst>
                  <a:path w="99" h="236">
                    <a:moveTo>
                      <a:pt x="99" y="0"/>
                    </a:moveTo>
                    <a:lnTo>
                      <a:pt x="51" y="47"/>
                    </a:lnTo>
                    <a:lnTo>
                      <a:pt x="23" y="107"/>
                    </a:lnTo>
                    <a:lnTo>
                      <a:pt x="4" y="170"/>
                    </a:lnTo>
                    <a:lnTo>
                      <a:pt x="0" y="236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67720" y="4529160"/>
                <a:ext cx="179280" cy="244440"/>
              </a:xfrm>
              <a:custGeom>
                <a:avLst/>
                <a:gdLst/>
                <a:ahLst/>
                <a:rect l="l" t="t" r="r" b="b"/>
                <a:pathLst>
                  <a:path w="133" h="201">
                    <a:moveTo>
                      <a:pt x="0" y="103"/>
                    </a:moveTo>
                    <a:lnTo>
                      <a:pt x="8" y="162"/>
                    </a:lnTo>
                    <a:lnTo>
                      <a:pt x="27" y="187"/>
                    </a:lnTo>
                    <a:lnTo>
                      <a:pt x="53" y="201"/>
                    </a:lnTo>
                    <a:lnTo>
                      <a:pt x="84" y="199"/>
                    </a:lnTo>
                    <a:lnTo>
                      <a:pt x="109" y="181"/>
                    </a:lnTo>
                    <a:lnTo>
                      <a:pt x="133" y="127"/>
                    </a:lnTo>
                    <a:lnTo>
                      <a:pt x="131" y="68"/>
                    </a:lnTo>
                    <a:lnTo>
                      <a:pt x="127" y="39"/>
                    </a:lnTo>
                    <a:lnTo>
                      <a:pt x="111" y="13"/>
                    </a:lnTo>
                    <a:lnTo>
                      <a:pt x="84" y="0"/>
                    </a:lnTo>
                    <a:lnTo>
                      <a:pt x="55" y="8"/>
                    </a:lnTo>
                    <a:lnTo>
                      <a:pt x="37" y="33"/>
                    </a:lnTo>
                    <a:lnTo>
                      <a:pt x="35" y="62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37840" y="4516200"/>
                <a:ext cx="234720" cy="267480"/>
              </a:xfrm>
              <a:custGeom>
                <a:avLst/>
                <a:gdLst/>
                <a:ahLst/>
                <a:rect l="l" t="t" r="r" b="b"/>
                <a:pathLst>
                  <a:path w="175" h="219">
                    <a:moveTo>
                      <a:pt x="0" y="113"/>
                    </a:moveTo>
                    <a:lnTo>
                      <a:pt x="21" y="180"/>
                    </a:lnTo>
                    <a:lnTo>
                      <a:pt x="43" y="207"/>
                    </a:lnTo>
                    <a:lnTo>
                      <a:pt x="76" y="219"/>
                    </a:lnTo>
                    <a:lnTo>
                      <a:pt x="113" y="215"/>
                    </a:lnTo>
                    <a:lnTo>
                      <a:pt x="144" y="199"/>
                    </a:lnTo>
                    <a:lnTo>
                      <a:pt x="164" y="170"/>
                    </a:lnTo>
                    <a:lnTo>
                      <a:pt x="175" y="135"/>
                    </a:lnTo>
                    <a:lnTo>
                      <a:pt x="173" y="66"/>
                    </a:lnTo>
                    <a:lnTo>
                      <a:pt x="160" y="33"/>
                    </a:lnTo>
                    <a:lnTo>
                      <a:pt x="136" y="8"/>
                    </a:lnTo>
                    <a:lnTo>
                      <a:pt x="101" y="0"/>
                    </a:lnTo>
                    <a:lnTo>
                      <a:pt x="66" y="6"/>
                    </a:lnTo>
                    <a:lnTo>
                      <a:pt x="50" y="37"/>
                    </a:lnTo>
                    <a:lnTo>
                      <a:pt x="48" y="72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203280" y="4437360"/>
                <a:ext cx="303480" cy="406440"/>
              </a:xfrm>
              <a:custGeom>
                <a:avLst/>
                <a:gdLst/>
                <a:ahLst/>
                <a:rect l="l" t="t" r="r" b="b"/>
                <a:pathLst>
                  <a:path w="227" h="333">
                    <a:moveTo>
                      <a:pt x="0" y="177"/>
                    </a:moveTo>
                    <a:lnTo>
                      <a:pt x="10" y="226"/>
                    </a:lnTo>
                    <a:lnTo>
                      <a:pt x="33" y="275"/>
                    </a:lnTo>
                    <a:lnTo>
                      <a:pt x="63" y="316"/>
                    </a:lnTo>
                    <a:lnTo>
                      <a:pt x="112" y="333"/>
                    </a:lnTo>
                    <a:lnTo>
                      <a:pt x="164" y="320"/>
                    </a:lnTo>
                    <a:lnTo>
                      <a:pt x="199" y="283"/>
                    </a:lnTo>
                    <a:lnTo>
                      <a:pt x="227" y="185"/>
                    </a:lnTo>
                    <a:lnTo>
                      <a:pt x="223" y="82"/>
                    </a:lnTo>
                    <a:lnTo>
                      <a:pt x="205" y="33"/>
                    </a:lnTo>
                    <a:lnTo>
                      <a:pt x="164" y="2"/>
                    </a:lnTo>
                    <a:lnTo>
                      <a:pt x="110" y="0"/>
                    </a:lnTo>
                    <a:lnTo>
                      <a:pt x="76" y="35"/>
                    </a:lnTo>
                    <a:lnTo>
                      <a:pt x="53" y="136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77720" y="4430160"/>
                <a:ext cx="358920" cy="429120"/>
              </a:xfrm>
              <a:custGeom>
                <a:avLst/>
                <a:gdLst/>
                <a:ahLst/>
                <a:rect l="l" t="t" r="r" b="b"/>
                <a:pathLst>
                  <a:path w="269" h="351">
                    <a:moveTo>
                      <a:pt x="0" y="183"/>
                    </a:moveTo>
                    <a:lnTo>
                      <a:pt x="8" y="240"/>
                    </a:lnTo>
                    <a:lnTo>
                      <a:pt x="33" y="291"/>
                    </a:lnTo>
                    <a:lnTo>
                      <a:pt x="72" y="332"/>
                    </a:lnTo>
                    <a:lnTo>
                      <a:pt x="127" y="351"/>
                    </a:lnTo>
                    <a:lnTo>
                      <a:pt x="183" y="339"/>
                    </a:lnTo>
                    <a:lnTo>
                      <a:pt x="226" y="300"/>
                    </a:lnTo>
                    <a:lnTo>
                      <a:pt x="256" y="250"/>
                    </a:lnTo>
                    <a:lnTo>
                      <a:pt x="267" y="195"/>
                    </a:lnTo>
                    <a:lnTo>
                      <a:pt x="269" y="138"/>
                    </a:lnTo>
                    <a:lnTo>
                      <a:pt x="256" y="82"/>
                    </a:lnTo>
                    <a:lnTo>
                      <a:pt x="230" y="31"/>
                    </a:lnTo>
                    <a:lnTo>
                      <a:pt x="211" y="11"/>
                    </a:lnTo>
                    <a:lnTo>
                      <a:pt x="185" y="0"/>
                    </a:lnTo>
                    <a:lnTo>
                      <a:pt x="127" y="2"/>
                    </a:lnTo>
                    <a:lnTo>
                      <a:pt x="101" y="13"/>
                    </a:lnTo>
                    <a:lnTo>
                      <a:pt x="80" y="33"/>
                    </a:lnTo>
                    <a:lnTo>
                      <a:pt x="45" y="142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17760" y="4595040"/>
                <a:ext cx="84240" cy="8532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0" y="49"/>
                    </a:moveTo>
                    <a:lnTo>
                      <a:pt x="12" y="65"/>
                    </a:lnTo>
                    <a:lnTo>
                      <a:pt x="33" y="71"/>
                    </a:lnTo>
                    <a:lnTo>
                      <a:pt x="51" y="69"/>
                    </a:lnTo>
                    <a:lnTo>
                      <a:pt x="61" y="53"/>
                    </a:lnTo>
                    <a:lnTo>
                      <a:pt x="63" y="10"/>
                    </a:lnTo>
                    <a:lnTo>
                      <a:pt x="49" y="0"/>
                    </a:lnTo>
                    <a:lnTo>
                      <a:pt x="33" y="8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97600" y="4587480"/>
                <a:ext cx="127440" cy="1087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54"/>
                    </a:moveTo>
                    <a:lnTo>
                      <a:pt x="13" y="76"/>
                    </a:lnTo>
                    <a:lnTo>
                      <a:pt x="37" y="89"/>
                    </a:lnTo>
                    <a:lnTo>
                      <a:pt x="62" y="89"/>
                    </a:lnTo>
                    <a:lnTo>
                      <a:pt x="85" y="72"/>
                    </a:lnTo>
                    <a:lnTo>
                      <a:pt x="95" y="23"/>
                    </a:lnTo>
                    <a:lnTo>
                      <a:pt x="82" y="0"/>
                    </a:lnTo>
                    <a:lnTo>
                      <a:pt x="58" y="5"/>
                    </a:ln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3422160" y="4603320"/>
                <a:ext cx="21240" cy="1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422520" y="4653360"/>
                <a:ext cx="24120" cy="14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3413520" y="4803120"/>
                <a:ext cx="122760" cy="7452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213280" y="1981080"/>
              <a:ext cx="2906280" cy="1216080"/>
              <a:chOff x="2213280" y="1981080"/>
              <a:chExt cx="2906280" cy="1216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524400" y="19810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9620000">
                <a:off x="2503440" y="24379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160000">
                <a:off x="2732040" y="22255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060000">
                <a:off x="4377240" y="225540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060000">
                <a:off x="4834800" y="27889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2634840" y="2844360"/>
                <a:ext cx="5076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2660760" y="2755800"/>
                <a:ext cx="63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728440" y="2766960"/>
                <a:ext cx="334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2784600" y="2743200"/>
                <a:ext cx="2520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2822040" y="2712600"/>
                <a:ext cx="2700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2886120" y="2685600"/>
                <a:ext cx="1728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2901600" y="2579760"/>
                <a:ext cx="4284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2967120" y="2607840"/>
                <a:ext cx="33120" cy="5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3021120" y="2590920"/>
                <a:ext cx="38160" cy="6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3076200" y="2571480"/>
                <a:ext cx="3348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3138480" y="2557440"/>
                <a:ext cx="15840" cy="5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3192480" y="2444760"/>
                <a:ext cx="3024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3263400" y="2504880"/>
                <a:ext cx="1116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3343320" y="2484000"/>
                <a:ext cx="172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3428640" y="2468160"/>
                <a:ext cx="324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3526920" y="2441520"/>
                <a:ext cx="324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611520" y="2338560"/>
                <a:ext cx="180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706920" y="2448000"/>
                <a:ext cx="324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794040" y="2451240"/>
                <a:ext cx="180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862440" y="2459160"/>
                <a:ext cx="1728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943440" y="2498760"/>
                <a:ext cx="46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011480" y="2448000"/>
                <a:ext cx="20880" cy="12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052880" y="2557080"/>
                <a:ext cx="25560" cy="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116240" y="2590920"/>
                <a:ext cx="19080" cy="4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62320" y="2635200"/>
                <a:ext cx="30240" cy="3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05160" y="2655720"/>
                <a:ext cx="22320" cy="6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264200" y="2598480"/>
                <a:ext cx="6480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24320" y="2719080"/>
                <a:ext cx="302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365720" y="2769840"/>
                <a:ext cx="2520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397400" y="2800080"/>
                <a:ext cx="31680" cy="5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444920" y="2862360"/>
                <a:ext cx="3816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494240" y="2862360"/>
                <a:ext cx="6516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535640" y="2962440"/>
                <a:ext cx="31680" cy="4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575240" y="3003480"/>
                <a:ext cx="36360" cy="4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618080" y="3060720"/>
                <a:ext cx="30240" cy="3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637160" y="3099960"/>
                <a:ext cx="41040" cy="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4675320" y="3103560"/>
                <a:ext cx="6336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4245120" y="2873160"/>
                <a:ext cx="4752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4292640" y="2773440"/>
                <a:ext cx="144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224240" y="2773440"/>
                <a:ext cx="6840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4217760" y="2847960"/>
                <a:ext cx="612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8660000">
                <a:off x="2321280" y="26362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2572920" y="2857320"/>
                <a:ext cx="57240" cy="11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489560" y="4329000"/>
              <a:ext cx="317160" cy="365040"/>
              <a:chOff x="4489560" y="4329000"/>
              <a:chExt cx="317160" cy="36504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4489560" y="4329000"/>
                <a:ext cx="317160" cy="358200"/>
                <a:chOff x="4489560" y="4329000"/>
                <a:chExt cx="317160" cy="3582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4499280" y="4335840"/>
                  <a:ext cx="75240" cy="2700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56" y="12"/>
                      </a:moveTo>
                      <a:lnTo>
                        <a:pt x="35" y="0"/>
                      </a:lnTo>
                      <a:lnTo>
                        <a:pt x="15" y="4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489560" y="4329000"/>
                  <a:ext cx="317160" cy="358200"/>
                  <a:chOff x="4489560" y="4329000"/>
                  <a:chExt cx="317160" cy="35820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4567680" y="4343040"/>
                    <a:ext cx="17064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279">
                        <a:moveTo>
                          <a:pt x="129" y="279"/>
                        </a:moveTo>
                        <a:lnTo>
                          <a:pt x="77" y="1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489560" y="4356000"/>
                    <a:ext cx="183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9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6" y="17"/>
                        </a:lnTo>
                        <a:lnTo>
                          <a:pt x="14" y="19"/>
                        </a:lnTo>
                      </a:path>
                    </a:pathLst>
                  </a:custGeom>
                  <a:noFill/>
                  <a:ln w="2844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507920" y="4379040"/>
                    <a:ext cx="84960" cy="144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533480" y="4329000"/>
                    <a:ext cx="150480" cy="10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684320" y="4329000"/>
                    <a:ext cx="12240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93">
                        <a:moveTo>
                          <a:pt x="73" y="293"/>
                        </a:moveTo>
                        <a:lnTo>
                          <a:pt x="92" y="188"/>
                        </a:lnTo>
                        <a:lnTo>
                          <a:pt x="65" y="8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0" name=""/>
              <p:cNvSpPr/>
              <p:nvPr/>
            </p:nvSpPr>
            <p:spPr>
              <a:xfrm>
                <a:off x="4738680" y="4691520"/>
                <a:ext cx="42480" cy="25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568240" y="4564080"/>
              <a:ext cx="2982960" cy="104400"/>
              <a:chOff x="2568240" y="4564080"/>
              <a:chExt cx="2982960" cy="10440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2568600" y="4564080"/>
                <a:ext cx="156600" cy="102600"/>
                <a:chOff x="2568600" y="4564080"/>
                <a:chExt cx="156600" cy="1026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724120" y="4590720"/>
                  <a:ext cx="1080" cy="4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2685240" y="4600800"/>
                  <a:ext cx="385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2685600" y="4564080"/>
                  <a:ext cx="1080" cy="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568600" y="4564080"/>
                  <a:ext cx="1080" cy="50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685600" y="4629960"/>
                  <a:ext cx="1080" cy="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568240" y="4564080"/>
                <a:ext cx="2982960" cy="104400"/>
                <a:chOff x="2568240" y="4564080"/>
                <a:chExt cx="2982960" cy="104400"/>
              </a:xfrm>
            </p:grpSpPr>
            <p:sp>
              <p:nvSpPr>
                <p:cNvPr id="759" name=""/>
                <p:cNvSpPr/>
                <p:nvPr/>
              </p:nvSpPr>
              <p:spPr>
                <a:xfrm flipH="1">
                  <a:off x="4892400" y="4590720"/>
                  <a:ext cx="4874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724120" y="4640040"/>
                  <a:ext cx="412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2568240" y="4564080"/>
                  <a:ext cx="1170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2568240" y="4667040"/>
                  <a:ext cx="1170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2568600" y="4603680"/>
                  <a:ext cx="1080" cy="6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2666880" y="4630320"/>
                  <a:ext cx="568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505680" y="4640040"/>
                  <a:ext cx="5292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3205800" y="4590720"/>
                  <a:ext cx="2275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3503160" y="4589640"/>
                  <a:ext cx="5544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10520" y="4640040"/>
                  <a:ext cx="9730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205800" y="4640040"/>
                  <a:ext cx="2242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2723760" y="4590720"/>
                  <a:ext cx="4129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892400" y="4640040"/>
                  <a:ext cx="4874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3724560" y="4590720"/>
                  <a:ext cx="9590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79840" y="4590720"/>
                  <a:ext cx="1080" cy="4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5379840" y="4577760"/>
                  <a:ext cx="6516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5445360" y="4567680"/>
                  <a:ext cx="1440" cy="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45360" y="4568040"/>
                  <a:ext cx="1040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549760" y="4568040"/>
                  <a:ext cx="1440" cy="46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5549760" y="4614480"/>
                  <a:ext cx="1440" cy="49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445360" y="4664160"/>
                  <a:ext cx="1040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 flipV="1">
                  <a:off x="5379480" y="4639680"/>
                  <a:ext cx="6516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45360" y="4653000"/>
                  <a:ext cx="1440" cy="11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"/>
            <p:cNvSpPr/>
            <p:nvPr/>
          </p:nvSpPr>
          <p:spPr>
            <a:xfrm>
              <a:off x="4008600" y="4260960"/>
              <a:ext cx="363240" cy="326880"/>
            </a:xfrm>
            <a:custGeom>
              <a:avLst/>
              <a:gdLst/>
              <a:ahLst/>
              <a:rect l="l" t="t" r="r" b="b"/>
              <a:pathLst>
                <a:path w="271" h="269">
                  <a:moveTo>
                    <a:pt x="271" y="37"/>
                  </a:moveTo>
                  <a:lnTo>
                    <a:pt x="215" y="10"/>
                  </a:lnTo>
                  <a:lnTo>
                    <a:pt x="164" y="0"/>
                  </a:lnTo>
                  <a:lnTo>
                    <a:pt x="115" y="21"/>
                  </a:lnTo>
                  <a:lnTo>
                    <a:pt x="72" y="62"/>
                  </a:lnTo>
                  <a:lnTo>
                    <a:pt x="39" y="109"/>
                  </a:lnTo>
                  <a:lnTo>
                    <a:pt x="19" y="158"/>
                  </a:lnTo>
                  <a:lnTo>
                    <a:pt x="0" y="2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60800" y="4309920"/>
              <a:ext cx="122400" cy="281160"/>
            </a:xfrm>
            <a:custGeom>
              <a:avLst/>
              <a:gdLst/>
              <a:ahLst/>
              <a:rect l="l" t="t" r="r" b="b"/>
              <a:pathLst>
                <a:path w="92" h="232">
                  <a:moveTo>
                    <a:pt x="92" y="0"/>
                  </a:moveTo>
                  <a:lnTo>
                    <a:pt x="26" y="109"/>
                  </a:lnTo>
                  <a:lnTo>
                    <a:pt x="6" y="168"/>
                  </a:ln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60800" y="4640400"/>
              <a:ext cx="71640" cy="253800"/>
            </a:xfrm>
            <a:custGeom>
              <a:avLst/>
              <a:gdLst/>
              <a:ahLst/>
              <a:rect l="l" t="t" r="r" b="b"/>
              <a:pathLst>
                <a:path w="53" h="207">
                  <a:moveTo>
                    <a:pt x="0" y="0"/>
                  </a:moveTo>
                  <a:lnTo>
                    <a:pt x="8" y="110"/>
                  </a:lnTo>
                  <a:lnTo>
                    <a:pt x="24" y="162"/>
                  </a:lnTo>
                  <a:lnTo>
                    <a:pt x="53" y="20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9200" y="5045040"/>
              <a:ext cx="351000" cy="147600"/>
            </a:xfrm>
            <a:custGeom>
              <a:avLst/>
              <a:gdLst/>
              <a:ahLst/>
              <a:rect l="l" t="t" r="r" b="b"/>
              <a:pathLst>
                <a:path w="262" h="121">
                  <a:moveTo>
                    <a:pt x="262" y="0"/>
                  </a:moveTo>
                  <a:lnTo>
                    <a:pt x="213" y="61"/>
                  </a:lnTo>
                  <a:lnTo>
                    <a:pt x="186" y="90"/>
                  </a:lnTo>
                  <a:lnTo>
                    <a:pt x="151" y="111"/>
                  </a:lnTo>
                  <a:lnTo>
                    <a:pt x="112" y="121"/>
                  </a:lnTo>
                  <a:lnTo>
                    <a:pt x="74" y="119"/>
                  </a:lnTo>
                  <a:lnTo>
                    <a:pt x="0" y="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3811680" y="4022640"/>
              <a:ext cx="1572480" cy="1149120"/>
              <a:chOff x="3811680" y="4022640"/>
              <a:chExt cx="1572480" cy="1149120"/>
            </a:xfrm>
          </p:grpSpPr>
          <p:sp>
            <p:nvSpPr>
              <p:cNvPr id="787" name=""/>
              <p:cNvSpPr/>
              <p:nvPr/>
            </p:nvSpPr>
            <p:spPr>
              <a:xfrm>
                <a:off x="3811680" y="4048560"/>
                <a:ext cx="627120" cy="541440"/>
              </a:xfrm>
              <a:custGeom>
                <a:avLst/>
                <a:gdLst/>
                <a:ahLst/>
                <a:rect l="l" t="t" r="r" b="b"/>
                <a:pathLst>
                  <a:path w="469" h="445">
                    <a:moveTo>
                      <a:pt x="469" y="88"/>
                    </a:moveTo>
                    <a:lnTo>
                      <a:pt x="391" y="27"/>
                    </a:lnTo>
                    <a:lnTo>
                      <a:pt x="348" y="6"/>
                    </a:lnTo>
                    <a:lnTo>
                      <a:pt x="301" y="0"/>
                    </a:lnTo>
                    <a:lnTo>
                      <a:pt x="254" y="8"/>
                    </a:lnTo>
                    <a:lnTo>
                      <a:pt x="207" y="27"/>
                    </a:lnTo>
                    <a:lnTo>
                      <a:pt x="131" y="86"/>
                    </a:lnTo>
                    <a:lnTo>
                      <a:pt x="78" y="168"/>
                    </a:lnTo>
                    <a:lnTo>
                      <a:pt x="43" y="258"/>
                    </a:lnTo>
                    <a:lnTo>
                      <a:pt x="12" y="350"/>
                    </a:lnTo>
                    <a:lnTo>
                      <a:pt x="0" y="44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 flipV="1">
                <a:off x="4359960" y="4893120"/>
                <a:ext cx="90000" cy="15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359960" y="4893120"/>
                <a:ext cx="92016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80480" y="4893120"/>
                <a:ext cx="98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50320" y="5047560"/>
                <a:ext cx="44280" cy="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4428720" y="4937760"/>
                <a:ext cx="65520" cy="1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8720" y="4937760"/>
                <a:ext cx="8244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253480" y="4937760"/>
                <a:ext cx="6264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316480" y="5044680"/>
                <a:ext cx="62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4473000" y="5011920"/>
                <a:ext cx="8240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997080" y="4640040"/>
                <a:ext cx="371520" cy="317160"/>
              </a:xfrm>
              <a:custGeom>
                <a:avLst/>
                <a:gdLst/>
                <a:ahLst/>
                <a:rect l="l" t="t" r="r" b="b"/>
                <a:pathLst>
                  <a:path w="277" h="260">
                    <a:moveTo>
                      <a:pt x="0" y="0"/>
                    </a:moveTo>
                    <a:lnTo>
                      <a:pt x="14" y="112"/>
                    </a:lnTo>
                    <a:lnTo>
                      <a:pt x="39" y="166"/>
                    </a:lnTo>
                    <a:lnTo>
                      <a:pt x="74" y="215"/>
                    </a:lnTo>
                    <a:lnTo>
                      <a:pt x="119" y="250"/>
                    </a:lnTo>
                    <a:lnTo>
                      <a:pt x="174" y="260"/>
                    </a:lnTo>
                    <a:lnTo>
                      <a:pt x="232" y="244"/>
                    </a:lnTo>
                    <a:lnTo>
                      <a:pt x="277" y="20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11680" y="4640040"/>
                <a:ext cx="638640" cy="518760"/>
              </a:xfrm>
              <a:custGeom>
                <a:avLst/>
                <a:gdLst/>
                <a:ahLst/>
                <a:rect l="l" t="t" r="r" b="b"/>
                <a:pathLst>
                  <a:path w="477" h="426">
                    <a:moveTo>
                      <a:pt x="0" y="0"/>
                    </a:moveTo>
                    <a:lnTo>
                      <a:pt x="14" y="96"/>
                    </a:lnTo>
                    <a:lnTo>
                      <a:pt x="39" y="188"/>
                    </a:lnTo>
                    <a:lnTo>
                      <a:pt x="82" y="274"/>
                    </a:lnTo>
                    <a:lnTo>
                      <a:pt x="145" y="348"/>
                    </a:lnTo>
                    <a:lnTo>
                      <a:pt x="225" y="404"/>
                    </a:lnTo>
                    <a:lnTo>
                      <a:pt x="270" y="420"/>
                    </a:lnTo>
                    <a:lnTo>
                      <a:pt x="317" y="426"/>
                    </a:lnTo>
                    <a:lnTo>
                      <a:pt x="412" y="404"/>
                    </a:lnTo>
                    <a:lnTo>
                      <a:pt x="453" y="375"/>
                    </a:lnTo>
                    <a:lnTo>
                      <a:pt x="477" y="33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4389840" y="5051880"/>
                <a:ext cx="10404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82040" y="5044680"/>
                <a:ext cx="334080" cy="127080"/>
              </a:xfrm>
              <a:custGeom>
                <a:avLst/>
                <a:gdLst/>
                <a:ahLst/>
                <a:rect l="l" t="t" r="r" b="b"/>
                <a:pathLst>
                  <a:path w="250" h="104">
                    <a:moveTo>
                      <a:pt x="250" y="0"/>
                    </a:moveTo>
                    <a:lnTo>
                      <a:pt x="205" y="57"/>
                    </a:lnTo>
                    <a:lnTo>
                      <a:pt x="141" y="98"/>
                    </a:lnTo>
                    <a:lnTo>
                      <a:pt x="68" y="104"/>
                    </a:lnTo>
                    <a:lnTo>
                      <a:pt x="0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4414680" y="5133240"/>
                <a:ext cx="567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82040" y="5133240"/>
                <a:ext cx="1882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170680" y="5011920"/>
                <a:ext cx="126720" cy="121320"/>
              </a:xfrm>
              <a:custGeom>
                <a:avLst/>
                <a:gdLst/>
                <a:ahLst/>
                <a:rect l="l" t="t" r="r" b="b"/>
                <a:pathLst>
                  <a:path w="95" h="99">
                    <a:moveTo>
                      <a:pt x="95" y="0"/>
                    </a:moveTo>
                    <a:lnTo>
                      <a:pt x="62" y="64"/>
                    </a:lnTo>
                    <a:lnTo>
                      <a:pt x="0" y="9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40400" y="5068800"/>
                <a:ext cx="34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64600" y="5071680"/>
                <a:ext cx="471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96000" y="5064840"/>
                <a:ext cx="496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03280" y="5064840"/>
                <a:ext cx="540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30360" y="5068800"/>
                <a:ext cx="60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946040" y="5090400"/>
                <a:ext cx="119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98800" y="5100480"/>
                <a:ext cx="514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63080" y="5101920"/>
                <a:ext cx="500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564440" y="5051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18880" y="5047560"/>
                <a:ext cx="79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896000" y="5064840"/>
                <a:ext cx="727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063400" y="503604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091840" y="5051880"/>
                <a:ext cx="62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96000" y="4964400"/>
                <a:ext cx="72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896000" y="4964400"/>
                <a:ext cx="4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564440" y="4953240"/>
                <a:ext cx="66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40400" y="4969080"/>
                <a:ext cx="342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64600" y="4971600"/>
                <a:ext cx="4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18880" y="4947480"/>
                <a:ext cx="79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946040" y="4990320"/>
                <a:ext cx="1198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003280" y="4964400"/>
                <a:ext cx="54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130360" y="4969080"/>
                <a:ext cx="60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091840" y="4953240"/>
                <a:ext cx="6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663080" y="5001840"/>
                <a:ext cx="500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798800" y="5000400"/>
                <a:ext cx="514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4044600" y="4022640"/>
                <a:ext cx="1339560" cy="285840"/>
                <a:chOff x="4044600" y="4022640"/>
                <a:chExt cx="1339560" cy="28584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4362840" y="4308480"/>
                  <a:ext cx="91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5280120" y="4143960"/>
                  <a:ext cx="104040" cy="16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5324400" y="4143960"/>
                  <a:ext cx="5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5239800" y="4143960"/>
                  <a:ext cx="83880" cy="13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4422960" y="4276800"/>
                  <a:ext cx="8172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4422960" y="4155120"/>
                  <a:ext cx="7848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4438800" y="4155480"/>
                  <a:ext cx="62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4362840" y="4155480"/>
                  <a:ext cx="756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4482720" y="4185360"/>
                  <a:ext cx="8139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044600" y="4022640"/>
                  <a:ext cx="456840" cy="132840"/>
                </a:xfrm>
                <a:custGeom>
                  <a:avLst/>
                  <a:gdLst/>
                  <a:ahLst/>
                  <a:rect l="l" t="t" r="r" b="b"/>
                  <a:pathLst>
                    <a:path w="342" h="109">
                      <a:moveTo>
                        <a:pt x="342" y="109"/>
                      </a:moveTo>
                      <a:lnTo>
                        <a:pt x="271" y="39"/>
                      </a:lnTo>
                      <a:lnTo>
                        <a:pt x="230" y="13"/>
                      </a:lnTo>
                      <a:lnTo>
                        <a:pt x="182" y="0"/>
                      </a:lnTo>
                      <a:lnTo>
                        <a:pt x="133" y="4"/>
                      </a:lnTo>
                      <a:lnTo>
                        <a:pt x="88" y="21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407120" y="4068000"/>
                  <a:ext cx="6811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034600" y="4031280"/>
                  <a:ext cx="289800" cy="112680"/>
                </a:xfrm>
                <a:custGeom>
                  <a:avLst/>
                  <a:gdLst/>
                  <a:ahLst/>
                  <a:rect l="l" t="t" r="r" b="b"/>
                  <a:pathLst>
                    <a:path w="217" h="92">
                      <a:moveTo>
                        <a:pt x="217" y="92"/>
                      </a:moveTo>
                      <a:lnTo>
                        <a:pt x="117" y="12"/>
                      </a:lnTo>
                      <a:lnTo>
                        <a:pt x="88" y="0"/>
                      </a:lnTo>
                      <a:lnTo>
                        <a:pt x="57" y="0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175720" y="4038480"/>
                  <a:ext cx="208440" cy="105480"/>
                </a:xfrm>
                <a:custGeom>
                  <a:avLst/>
                  <a:gdLst/>
                  <a:ahLst/>
                  <a:rect l="l" t="t" r="r" b="b"/>
                  <a:pathLst>
                    <a:path w="156" h="86">
                      <a:moveTo>
                        <a:pt x="156" y="86"/>
                      </a:moveTo>
                      <a:lnTo>
                        <a:pt x="89" y="20"/>
                      </a:lnTo>
                      <a:lnTo>
                        <a:pt x="4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083200" y="4065480"/>
                  <a:ext cx="229680" cy="104040"/>
                </a:xfrm>
                <a:custGeom>
                  <a:avLst/>
                  <a:gdLst/>
                  <a:ahLst/>
                  <a:rect l="l" t="t" r="r" b="b"/>
                  <a:pathLst>
                    <a:path w="172" h="86">
                      <a:moveTo>
                        <a:pt x="172" y="86"/>
                      </a:moveTo>
                      <a:lnTo>
                        <a:pt x="96" y="21"/>
                      </a:lnTo>
                      <a:lnTo>
                        <a:pt x="49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889880" y="4111200"/>
                  <a:ext cx="50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889880" y="4111200"/>
                  <a:ext cx="7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558680" y="4098240"/>
                  <a:ext cx="65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634280" y="4115520"/>
                  <a:ext cx="342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759920" y="4119840"/>
                  <a:ext cx="453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713120" y="4093920"/>
                  <a:ext cx="78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940280" y="4135680"/>
                  <a:ext cx="119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997160" y="4111200"/>
                  <a:ext cx="55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122800" y="4115520"/>
                  <a:ext cx="612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086080" y="4098240"/>
                  <a:ext cx="626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658760" y="4148280"/>
                  <a:ext cx="482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791600" y="4145760"/>
                  <a:ext cx="525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889880" y="4222800"/>
                  <a:ext cx="500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889880" y="4222800"/>
                  <a:ext cx="72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58680" y="4209840"/>
                  <a:ext cx="65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34280" y="4227120"/>
                  <a:ext cx="342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759920" y="4231080"/>
                  <a:ext cx="453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13120" y="4205520"/>
                  <a:ext cx="781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940280" y="4248360"/>
                  <a:ext cx="119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997160" y="4222800"/>
                  <a:ext cx="554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122800" y="4227120"/>
                  <a:ext cx="612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086080" y="4209840"/>
                  <a:ext cx="626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658760" y="4259880"/>
                  <a:ext cx="482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791600" y="4255560"/>
                  <a:ext cx="525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8" name=""/>
            <p:cNvSpPr/>
            <p:nvPr/>
          </p:nvSpPr>
          <p:spPr>
            <a:xfrm>
              <a:off x="2436840" y="5791320"/>
              <a:ext cx="34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推斥式电磁式仪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64000" y="4589640"/>
              <a:ext cx="19080" cy="507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43"/>
                  </a:moveTo>
                  <a:lnTo>
                    <a:pt x="14" y="2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510080" y="4594320"/>
              <a:ext cx="11160" cy="4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21240" y="4818240"/>
              <a:ext cx="60120" cy="1872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20" y="15"/>
                  </a:lnTo>
                  <a:lnTo>
                    <a:pt x="45" y="4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467240" y="4446720"/>
              <a:ext cx="394920" cy="410760"/>
              <a:chOff x="4467240" y="4446720"/>
              <a:chExt cx="394920" cy="41076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4473000" y="4446720"/>
                <a:ext cx="167400" cy="146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521600" y="4496040"/>
                <a:ext cx="109800" cy="93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467240" y="4643280"/>
                <a:ext cx="18720" cy="1868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04320" y="4640400"/>
                <a:ext cx="16920" cy="176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485960" y="4830480"/>
                <a:ext cx="81360" cy="2700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27" y="22"/>
                    </a:lnTo>
                    <a:lnTo>
                      <a:pt x="61" y="18"/>
                    </a:ln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81720" y="4496400"/>
                <a:ext cx="68760" cy="325080"/>
              </a:xfrm>
              <a:custGeom>
                <a:avLst/>
                <a:gdLst/>
                <a:ahLst/>
                <a:rect l="l" t="t" r="r" b="b"/>
                <a:pathLst>
                  <a:path w="51" h="268">
                    <a:moveTo>
                      <a:pt x="0" y="268"/>
                    </a:moveTo>
                    <a:lnTo>
                      <a:pt x="51" y="139"/>
                    </a:lnTo>
                    <a:lnTo>
                      <a:pt x="37" y="0"/>
                    </a:ln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567320" y="4853160"/>
                <a:ext cx="190080" cy="14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757760" y="4493520"/>
                <a:ext cx="104400" cy="361080"/>
              </a:xfrm>
              <a:custGeom>
                <a:avLst/>
                <a:gdLst/>
                <a:ahLst/>
                <a:rect l="l" t="t" r="r" b="b"/>
                <a:pathLst>
                  <a:path w="78" h="297">
                    <a:moveTo>
                      <a:pt x="0" y="297"/>
                    </a:moveTo>
                    <a:lnTo>
                      <a:pt x="57" y="209"/>
                    </a:lnTo>
                    <a:lnTo>
                      <a:pt x="78" y="104"/>
                    </a:lnTo>
                    <a:lnTo>
                      <a:pt x="59" y="0"/>
                    </a:ln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flipV="1">
                <a:off x="4763160" y="4466160"/>
                <a:ext cx="68760" cy="68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2" name=""/>
          <p:cNvGrpSpPr/>
          <p:nvPr/>
        </p:nvGrpSpPr>
        <p:grpSpPr>
          <a:xfrm>
            <a:off x="4724280" y="4191120"/>
            <a:ext cx="1710720" cy="366120"/>
            <a:chOff x="4724280" y="4191120"/>
            <a:chExt cx="1710720" cy="366120"/>
          </a:xfrm>
        </p:grpSpPr>
        <p:sp>
          <p:nvSpPr>
            <p:cNvPr id="883" name=""/>
            <p:cNvSpPr/>
            <p:nvPr/>
          </p:nvSpPr>
          <p:spPr>
            <a:xfrm>
              <a:off x="5702760" y="41911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固定铁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724280" y="4357080"/>
              <a:ext cx="669600" cy="61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724280" y="4724280"/>
            <a:ext cx="1663200" cy="366120"/>
            <a:chOff x="4724280" y="4724280"/>
            <a:chExt cx="1663200" cy="366120"/>
          </a:xfrm>
        </p:grpSpPr>
        <p:sp>
          <p:nvSpPr>
            <p:cNvPr id="886" name=""/>
            <p:cNvSpPr/>
            <p:nvPr/>
          </p:nvSpPr>
          <p:spPr>
            <a:xfrm>
              <a:off x="5655240" y="472428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可动铁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24280" y="4759200"/>
              <a:ext cx="608040" cy="633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仪表的转动转矩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 I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14600" y="298620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弹簧的阻转矩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243828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弹簧的阻转矩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指针的偏转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zh-CN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正比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9480" y="358128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可动部分停止转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4191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指针的偏转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454560" y="4267080"/>
                <a:ext cx="254160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762120" y="5410080"/>
            <a:ext cx="74674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指针偏转的角度与直流电流或交流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有效值的平方成正比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" y="609480"/>
            <a:ext cx="82296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通入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609480"/>
            <a:ext cx="82296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通入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定和可动铁片均被磁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一端的极性是相同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" y="1050840"/>
            <a:ext cx="82296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动片因受斥力而带动指针转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00800" y="3962520"/>
            <a:ext cx="1295280" cy="838080"/>
          </a:xfrm>
          <a:prstGeom prst="wedgeRoundRectCallout">
            <a:avLst>
              <a:gd name="adj1" fmla="val -103064"/>
              <a:gd name="adj2" fmla="val 46782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流为有效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5720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指针的偏转角度与直流电流或交流有效值平方成正比，所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仪表标度尺上的刻度是不均匀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00" y="144792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轴相联的活塞在小室中移动产生阻尼力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气阻尼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24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9480" y="3505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7200" y="29718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造简单；价格低廉；可用于交直流；能测量较大的电流；允许较大的过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刻度不均匀；易受外界磁场及铁片中磁滞和涡流（测量交流时）的影响，因此准确度不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00200" y="2438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交流电压、交流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800" y="228600"/>
            <a:ext cx="23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2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动式仪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" y="685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88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线圈：固定线圈和可动线圈。可动线圈与指针及空气阻尼器的活塞都固定在轴上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438280" y="3805200"/>
            <a:ext cx="2057400" cy="685800"/>
            <a:chOff x="2438280" y="3805200"/>
            <a:chExt cx="2057400" cy="685800"/>
          </a:xfrm>
        </p:grpSpPr>
        <p:sp>
          <p:nvSpPr>
            <p:cNvPr id="915" name=""/>
            <p:cNvSpPr/>
            <p:nvPr/>
          </p:nvSpPr>
          <p:spPr>
            <a:xfrm flipH="1" flipV="1">
              <a:off x="3711600" y="4119480"/>
              <a:ext cx="326880" cy="371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38280" y="3805200"/>
              <a:ext cx="158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螺旋弹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711600" y="4119480"/>
              <a:ext cx="784080" cy="371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895480" y="2052720"/>
            <a:ext cx="3019680" cy="4195800"/>
            <a:chOff x="2895480" y="2052720"/>
            <a:chExt cx="3019680" cy="4195800"/>
          </a:xfrm>
        </p:grpSpPr>
        <p:sp>
          <p:nvSpPr>
            <p:cNvPr id="919" name=""/>
            <p:cNvSpPr/>
            <p:nvPr/>
          </p:nvSpPr>
          <p:spPr>
            <a:xfrm>
              <a:off x="3646440" y="4314960"/>
              <a:ext cx="558720" cy="190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95680" y="4300920"/>
              <a:ext cx="604800" cy="1404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51240" y="4314960"/>
              <a:ext cx="220680" cy="64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55920" y="4338720"/>
              <a:ext cx="206640" cy="504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0520" y="4719960"/>
              <a:ext cx="6336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0" y="51"/>
                  </a:moveTo>
                  <a:lnTo>
                    <a:pt x="3" y="38"/>
                  </a:lnTo>
                  <a:lnTo>
                    <a:pt x="11" y="29"/>
                  </a:lnTo>
                  <a:lnTo>
                    <a:pt x="24" y="22"/>
                  </a:lnTo>
                  <a:lnTo>
                    <a:pt x="35" y="8"/>
                  </a:lnTo>
                  <a:lnTo>
                    <a:pt x="40" y="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10080" y="5007240"/>
              <a:ext cx="181080" cy="285840"/>
            </a:xfrm>
            <a:custGeom>
              <a:avLst/>
              <a:gdLst/>
              <a:ahLst/>
              <a:rect l="l" t="t" r="r" b="b"/>
              <a:pathLst>
                <a:path w="166" h="262">
                  <a:moveTo>
                    <a:pt x="0" y="0"/>
                  </a:moveTo>
                  <a:lnTo>
                    <a:pt x="23" y="75"/>
                  </a:lnTo>
                  <a:lnTo>
                    <a:pt x="62" y="145"/>
                  </a:lnTo>
                  <a:lnTo>
                    <a:pt x="106" y="210"/>
                  </a:lnTo>
                  <a:lnTo>
                    <a:pt x="166" y="262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76680" y="4948560"/>
              <a:ext cx="54000" cy="5076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" y="36"/>
                  </a:moveTo>
                  <a:lnTo>
                    <a:pt x="5" y="39"/>
                  </a:lnTo>
                  <a:lnTo>
                    <a:pt x="10" y="41"/>
                  </a:lnTo>
                  <a:lnTo>
                    <a:pt x="13" y="44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7" y="31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49" y="15"/>
                  </a:lnTo>
                  <a:lnTo>
                    <a:pt x="49" y="10"/>
                  </a:lnTo>
                  <a:lnTo>
                    <a:pt x="47" y="7"/>
                  </a:lnTo>
                  <a:lnTo>
                    <a:pt x="44" y="5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10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26000" y="4902480"/>
              <a:ext cx="54000" cy="489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" y="36"/>
                  </a:moveTo>
                  <a:lnTo>
                    <a:pt x="5" y="39"/>
                  </a:lnTo>
                  <a:lnTo>
                    <a:pt x="8" y="42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4" y="31"/>
                  </a:lnTo>
                  <a:lnTo>
                    <a:pt x="47" y="26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7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84680" y="4930920"/>
              <a:ext cx="55440" cy="507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3" y="36"/>
                  </a:moveTo>
                  <a:lnTo>
                    <a:pt x="6" y="39"/>
                  </a:lnTo>
                  <a:lnTo>
                    <a:pt x="8" y="42"/>
                  </a:lnTo>
                  <a:lnTo>
                    <a:pt x="13" y="44"/>
                  </a:lnTo>
                  <a:lnTo>
                    <a:pt x="18" y="44"/>
                  </a:lnTo>
                  <a:lnTo>
                    <a:pt x="21" y="47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7" y="42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7" y="31"/>
                  </a:lnTo>
                  <a:lnTo>
                    <a:pt x="50" y="29"/>
                  </a:lnTo>
                  <a:lnTo>
                    <a:pt x="50" y="23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33920" y="4973760"/>
              <a:ext cx="54000" cy="478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2" y="36"/>
                  </a:moveTo>
                  <a:lnTo>
                    <a:pt x="5" y="39"/>
                  </a:lnTo>
                  <a:lnTo>
                    <a:pt x="7" y="41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39" y="36"/>
                  </a:lnTo>
                  <a:lnTo>
                    <a:pt x="44" y="34"/>
                  </a:lnTo>
                  <a:lnTo>
                    <a:pt x="46" y="31"/>
                  </a:lnTo>
                  <a:lnTo>
                    <a:pt x="46" y="26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9" y="13"/>
                  </a:lnTo>
                  <a:lnTo>
                    <a:pt x="49" y="10"/>
                  </a:lnTo>
                  <a:lnTo>
                    <a:pt x="46" y="5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5" y="10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2" y="3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99080" y="4997520"/>
              <a:ext cx="54000" cy="493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3" y="36"/>
                  </a:moveTo>
                  <a:lnTo>
                    <a:pt x="5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7" y="41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7" y="31"/>
                  </a:lnTo>
                  <a:lnTo>
                    <a:pt x="47" y="28"/>
                  </a:lnTo>
                  <a:lnTo>
                    <a:pt x="50" y="23"/>
                  </a:lnTo>
                  <a:lnTo>
                    <a:pt x="50" y="18"/>
                  </a:lnTo>
                  <a:lnTo>
                    <a:pt x="50" y="15"/>
                  </a:lnTo>
                  <a:lnTo>
                    <a:pt x="50" y="10"/>
                  </a:lnTo>
                  <a:lnTo>
                    <a:pt x="47" y="7"/>
                  </a:lnTo>
                  <a:lnTo>
                    <a:pt x="44" y="5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1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3" y="33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56320" y="4962600"/>
              <a:ext cx="53640" cy="478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" y="36"/>
                  </a:move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9" y="41"/>
                  </a:lnTo>
                  <a:lnTo>
                    <a:pt x="34" y="41"/>
                  </a:lnTo>
                  <a:lnTo>
                    <a:pt x="39" y="38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9" y="18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8" y="7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65680" y="5021640"/>
              <a:ext cx="52560" cy="47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" y="36"/>
                  </a:moveTo>
                  <a:lnTo>
                    <a:pt x="5" y="39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4" y="42"/>
                  </a:lnTo>
                  <a:lnTo>
                    <a:pt x="39" y="39"/>
                  </a:lnTo>
                  <a:lnTo>
                    <a:pt x="41" y="36"/>
                  </a:lnTo>
                  <a:lnTo>
                    <a:pt x="44" y="31"/>
                  </a:lnTo>
                  <a:lnTo>
                    <a:pt x="47" y="26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7" y="10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21120" y="4997520"/>
              <a:ext cx="54000" cy="478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2" y="36"/>
                  </a:moveTo>
                  <a:lnTo>
                    <a:pt x="5" y="39"/>
                  </a:lnTo>
                  <a:lnTo>
                    <a:pt x="8" y="41"/>
                  </a:lnTo>
                  <a:lnTo>
                    <a:pt x="10" y="44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3" y="44"/>
                  </a:lnTo>
                  <a:lnTo>
                    <a:pt x="28" y="41"/>
                  </a:lnTo>
                  <a:lnTo>
                    <a:pt x="33" y="41"/>
                  </a:lnTo>
                  <a:lnTo>
                    <a:pt x="39" y="39"/>
                  </a:lnTo>
                  <a:lnTo>
                    <a:pt x="41" y="33"/>
                  </a:lnTo>
                  <a:lnTo>
                    <a:pt x="44" y="31"/>
                  </a:lnTo>
                  <a:lnTo>
                    <a:pt x="46" y="26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6" y="13"/>
                  </a:lnTo>
                  <a:lnTo>
                    <a:pt x="46" y="10"/>
                  </a:lnTo>
                  <a:lnTo>
                    <a:pt x="44" y="7"/>
                  </a:lnTo>
                  <a:lnTo>
                    <a:pt x="41" y="5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18240" y="5056560"/>
              <a:ext cx="53640" cy="47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" y="36"/>
                  </a:moveTo>
                  <a:lnTo>
                    <a:pt x="5" y="39"/>
                  </a:lnTo>
                  <a:lnTo>
                    <a:pt x="8" y="42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21" y="44"/>
                  </a:lnTo>
                  <a:lnTo>
                    <a:pt x="26" y="44"/>
                  </a:lnTo>
                  <a:lnTo>
                    <a:pt x="31" y="42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2" y="34"/>
                  </a:lnTo>
                  <a:lnTo>
                    <a:pt x="44" y="31"/>
                  </a:lnTo>
                  <a:lnTo>
                    <a:pt x="47" y="26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71880" y="5018400"/>
              <a:ext cx="54000" cy="4896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" y="37"/>
                  </a:moveTo>
                  <a:lnTo>
                    <a:pt x="6" y="39"/>
                  </a:lnTo>
                  <a:lnTo>
                    <a:pt x="8" y="42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5"/>
                  </a:lnTo>
                  <a:lnTo>
                    <a:pt x="26" y="45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9" y="39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7" y="26"/>
                  </a:lnTo>
                  <a:lnTo>
                    <a:pt x="50" y="24"/>
                  </a:lnTo>
                  <a:lnTo>
                    <a:pt x="50" y="19"/>
                  </a:lnTo>
                  <a:lnTo>
                    <a:pt x="50" y="16"/>
                  </a:lnTo>
                  <a:lnTo>
                    <a:pt x="47" y="11"/>
                  </a:lnTo>
                  <a:lnTo>
                    <a:pt x="47" y="8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9" y="3"/>
                  </a:lnTo>
                  <a:lnTo>
                    <a:pt x="13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9920" y="4984920"/>
              <a:ext cx="150840" cy="270000"/>
            </a:xfrm>
            <a:custGeom>
              <a:avLst/>
              <a:gdLst/>
              <a:ahLst/>
              <a:rect l="l" t="t" r="r" b="b"/>
              <a:pathLst>
                <a:path w="138" h="247">
                  <a:moveTo>
                    <a:pt x="0" y="0"/>
                  </a:moveTo>
                  <a:lnTo>
                    <a:pt x="8" y="73"/>
                  </a:lnTo>
                  <a:lnTo>
                    <a:pt x="42" y="138"/>
                  </a:lnTo>
                  <a:lnTo>
                    <a:pt x="138" y="24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37160" y="5013360"/>
              <a:ext cx="119160" cy="214560"/>
            </a:xfrm>
            <a:custGeom>
              <a:avLst/>
              <a:gdLst/>
              <a:ahLst/>
              <a:rect l="l" t="t" r="r" b="b"/>
              <a:pathLst>
                <a:path w="109" h="197">
                  <a:moveTo>
                    <a:pt x="0" y="0"/>
                  </a:moveTo>
                  <a:lnTo>
                    <a:pt x="37" y="109"/>
                  </a:lnTo>
                  <a:lnTo>
                    <a:pt x="109" y="19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02320" y="5035680"/>
              <a:ext cx="71280" cy="149400"/>
            </a:xfrm>
            <a:custGeom>
              <a:avLst/>
              <a:gdLst/>
              <a:ahLst/>
              <a:rect l="l" t="t" r="r" b="b"/>
              <a:pathLst>
                <a:path w="65" h="137">
                  <a:moveTo>
                    <a:pt x="0" y="0"/>
                  </a:moveTo>
                  <a:lnTo>
                    <a:pt x="23" y="75"/>
                  </a:lnTo>
                  <a:lnTo>
                    <a:pt x="65" y="13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782960" y="5069160"/>
              <a:ext cx="33480" cy="75960"/>
            </a:xfrm>
            <a:custGeom>
              <a:avLst/>
              <a:gdLst/>
              <a:ahLst/>
              <a:rect l="l" t="t" r="r" b="b"/>
              <a:pathLst>
                <a:path w="29" h="70">
                  <a:moveTo>
                    <a:pt x="0" y="0"/>
                  </a:moveTo>
                  <a:lnTo>
                    <a:pt x="5" y="42"/>
                  </a:lnTo>
                  <a:lnTo>
                    <a:pt x="29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21120" y="5094360"/>
              <a:ext cx="1116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42000" y="4546800"/>
              <a:ext cx="610920" cy="341280"/>
            </a:xfrm>
            <a:custGeom>
              <a:avLst/>
              <a:gdLst/>
              <a:ahLst/>
              <a:rect l="l" t="t" r="r" b="b"/>
              <a:pathLst>
                <a:path w="560" h="313">
                  <a:moveTo>
                    <a:pt x="557" y="62"/>
                  </a:moveTo>
                  <a:lnTo>
                    <a:pt x="544" y="38"/>
                  </a:lnTo>
                  <a:lnTo>
                    <a:pt x="521" y="20"/>
                  </a:lnTo>
                  <a:lnTo>
                    <a:pt x="490" y="7"/>
                  </a:lnTo>
                  <a:lnTo>
                    <a:pt x="451" y="0"/>
                  </a:lnTo>
                  <a:lnTo>
                    <a:pt x="407" y="0"/>
                  </a:lnTo>
                  <a:lnTo>
                    <a:pt x="358" y="2"/>
                  </a:lnTo>
                  <a:lnTo>
                    <a:pt x="303" y="13"/>
                  </a:lnTo>
                  <a:lnTo>
                    <a:pt x="251" y="26"/>
                  </a:lnTo>
                  <a:lnTo>
                    <a:pt x="199" y="46"/>
                  </a:lnTo>
                  <a:lnTo>
                    <a:pt x="150" y="70"/>
                  </a:lnTo>
                  <a:lnTo>
                    <a:pt x="104" y="95"/>
                  </a:lnTo>
                  <a:lnTo>
                    <a:pt x="67" y="124"/>
                  </a:lnTo>
                  <a:lnTo>
                    <a:pt x="36" y="153"/>
                  </a:lnTo>
                  <a:lnTo>
                    <a:pt x="15" y="184"/>
                  </a:lnTo>
                  <a:lnTo>
                    <a:pt x="2" y="212"/>
                  </a:lnTo>
                  <a:lnTo>
                    <a:pt x="0" y="241"/>
                  </a:lnTo>
                  <a:lnTo>
                    <a:pt x="10" y="264"/>
                  </a:lnTo>
                  <a:lnTo>
                    <a:pt x="26" y="285"/>
                  </a:lnTo>
                  <a:lnTo>
                    <a:pt x="54" y="300"/>
                  </a:lnTo>
                  <a:lnTo>
                    <a:pt x="91" y="311"/>
                  </a:lnTo>
                  <a:lnTo>
                    <a:pt x="132" y="313"/>
                  </a:lnTo>
                  <a:lnTo>
                    <a:pt x="179" y="313"/>
                  </a:lnTo>
                  <a:lnTo>
                    <a:pt x="231" y="308"/>
                  </a:lnTo>
                  <a:lnTo>
                    <a:pt x="285" y="295"/>
                  </a:lnTo>
                  <a:lnTo>
                    <a:pt x="337" y="277"/>
                  </a:lnTo>
                  <a:lnTo>
                    <a:pt x="389" y="256"/>
                  </a:lnTo>
                  <a:lnTo>
                    <a:pt x="435" y="233"/>
                  </a:lnTo>
                  <a:lnTo>
                    <a:pt x="477" y="204"/>
                  </a:lnTo>
                  <a:lnTo>
                    <a:pt x="510" y="176"/>
                  </a:lnTo>
                  <a:lnTo>
                    <a:pt x="536" y="145"/>
                  </a:lnTo>
                  <a:lnTo>
                    <a:pt x="555" y="116"/>
                  </a:lnTo>
                  <a:lnTo>
                    <a:pt x="560" y="88"/>
                  </a:lnTo>
                  <a:lnTo>
                    <a:pt x="557" y="62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03840" y="4510440"/>
              <a:ext cx="690480" cy="417240"/>
            </a:xfrm>
            <a:custGeom>
              <a:avLst/>
              <a:gdLst/>
              <a:ahLst/>
              <a:rect l="l" t="t" r="r" b="b"/>
              <a:pathLst>
                <a:path w="630" h="383">
                  <a:moveTo>
                    <a:pt x="625" y="83"/>
                  </a:moveTo>
                  <a:lnTo>
                    <a:pt x="604" y="49"/>
                  </a:lnTo>
                  <a:lnTo>
                    <a:pt x="570" y="23"/>
                  </a:lnTo>
                  <a:lnTo>
                    <a:pt x="482" y="0"/>
                  </a:lnTo>
                  <a:lnTo>
                    <a:pt x="376" y="2"/>
                  </a:lnTo>
                  <a:lnTo>
                    <a:pt x="259" y="31"/>
                  </a:lnTo>
                  <a:lnTo>
                    <a:pt x="151" y="80"/>
                  </a:lnTo>
                  <a:lnTo>
                    <a:pt x="65" y="142"/>
                  </a:lnTo>
                  <a:lnTo>
                    <a:pt x="11" y="218"/>
                  </a:lnTo>
                  <a:lnTo>
                    <a:pt x="0" y="256"/>
                  </a:lnTo>
                  <a:lnTo>
                    <a:pt x="5" y="298"/>
                  </a:lnTo>
                  <a:lnTo>
                    <a:pt x="26" y="332"/>
                  </a:lnTo>
                  <a:lnTo>
                    <a:pt x="57" y="358"/>
                  </a:lnTo>
                  <a:lnTo>
                    <a:pt x="145" y="383"/>
                  </a:lnTo>
                  <a:lnTo>
                    <a:pt x="254" y="378"/>
                  </a:lnTo>
                  <a:lnTo>
                    <a:pt x="368" y="350"/>
                  </a:lnTo>
                  <a:lnTo>
                    <a:pt x="477" y="301"/>
                  </a:lnTo>
                  <a:lnTo>
                    <a:pt x="565" y="238"/>
                  </a:lnTo>
                  <a:lnTo>
                    <a:pt x="620" y="166"/>
                  </a:lnTo>
                  <a:lnTo>
                    <a:pt x="630" y="124"/>
                  </a:lnTo>
                  <a:lnTo>
                    <a:pt x="625" y="83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73640" y="4297680"/>
              <a:ext cx="125280" cy="88920"/>
            </a:xfrm>
            <a:custGeom>
              <a:avLst/>
              <a:gdLst/>
              <a:ahLst/>
              <a:rect l="l" t="t" r="r" b="b"/>
              <a:pathLst>
                <a:path w="114" h="81">
                  <a:moveTo>
                    <a:pt x="114" y="81"/>
                  </a:moveTo>
                  <a:lnTo>
                    <a:pt x="70" y="2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98920" y="4386600"/>
              <a:ext cx="88920" cy="2142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22840" y="4619880"/>
              <a:ext cx="87120" cy="2160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52960" y="4597560"/>
              <a:ext cx="2779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02200" y="4624560"/>
              <a:ext cx="3268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789440" y="4589640"/>
              <a:ext cx="32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92680" y="4602240"/>
              <a:ext cx="144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13360" y="4321440"/>
              <a:ext cx="396720" cy="93600"/>
            </a:xfrm>
            <a:custGeom>
              <a:avLst/>
              <a:gdLst/>
              <a:ahLst/>
              <a:rect l="l" t="t" r="r" b="b"/>
              <a:pathLst>
                <a:path w="363" h="86">
                  <a:moveTo>
                    <a:pt x="363" y="86"/>
                  </a:moveTo>
                  <a:lnTo>
                    <a:pt x="342" y="52"/>
                  </a:lnTo>
                  <a:lnTo>
                    <a:pt x="308" y="26"/>
                  </a:lnTo>
                  <a:lnTo>
                    <a:pt x="223" y="0"/>
                  </a:lnTo>
                  <a:lnTo>
                    <a:pt x="117" y="5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33880" y="4354560"/>
              <a:ext cx="389160" cy="90720"/>
            </a:xfrm>
            <a:custGeom>
              <a:avLst/>
              <a:gdLst/>
              <a:ahLst/>
              <a:rect l="l" t="t" r="r" b="b"/>
              <a:pathLst>
                <a:path w="355" h="83">
                  <a:moveTo>
                    <a:pt x="355" y="83"/>
                  </a:moveTo>
                  <a:lnTo>
                    <a:pt x="334" y="50"/>
                  </a:lnTo>
                  <a:lnTo>
                    <a:pt x="303" y="24"/>
                  </a:lnTo>
                  <a:lnTo>
                    <a:pt x="218" y="0"/>
                  </a:lnTo>
                  <a:lnTo>
                    <a:pt x="112" y="3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22720" y="4381560"/>
              <a:ext cx="411120" cy="95400"/>
            </a:xfrm>
            <a:custGeom>
              <a:avLst/>
              <a:gdLst/>
              <a:ahLst/>
              <a:rect l="l" t="t" r="r" b="b"/>
              <a:pathLst>
                <a:path w="376" h="86">
                  <a:moveTo>
                    <a:pt x="376" y="86"/>
                  </a:moveTo>
                  <a:lnTo>
                    <a:pt x="355" y="49"/>
                  </a:lnTo>
                  <a:lnTo>
                    <a:pt x="321" y="24"/>
                  </a:lnTo>
                  <a:lnTo>
                    <a:pt x="230" y="0"/>
                  </a:lnTo>
                  <a:lnTo>
                    <a:pt x="119" y="5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51520" y="4416480"/>
              <a:ext cx="396720" cy="93960"/>
            </a:xfrm>
            <a:custGeom>
              <a:avLst/>
              <a:gdLst/>
              <a:ahLst/>
              <a:rect l="l" t="t" r="r" b="b"/>
              <a:pathLst>
                <a:path w="363" h="86">
                  <a:moveTo>
                    <a:pt x="363" y="86"/>
                  </a:moveTo>
                  <a:lnTo>
                    <a:pt x="342" y="50"/>
                  </a:lnTo>
                  <a:lnTo>
                    <a:pt x="311" y="26"/>
                  </a:lnTo>
                  <a:lnTo>
                    <a:pt x="223" y="0"/>
                  </a:lnTo>
                  <a:lnTo>
                    <a:pt x="114" y="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33880" y="4451400"/>
              <a:ext cx="425520" cy="92160"/>
            </a:xfrm>
            <a:custGeom>
              <a:avLst/>
              <a:gdLst/>
              <a:ahLst/>
              <a:rect l="l" t="t" r="r" b="b"/>
              <a:pathLst>
                <a:path w="389" h="86">
                  <a:moveTo>
                    <a:pt x="389" y="86"/>
                  </a:moveTo>
                  <a:lnTo>
                    <a:pt x="366" y="50"/>
                  </a:lnTo>
                  <a:lnTo>
                    <a:pt x="332" y="24"/>
                  </a:lnTo>
                  <a:lnTo>
                    <a:pt x="236" y="0"/>
                  </a:lnTo>
                  <a:lnTo>
                    <a:pt x="122" y="8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7760" y="4481640"/>
              <a:ext cx="447480" cy="93600"/>
            </a:xfrm>
            <a:custGeom>
              <a:avLst/>
              <a:gdLst/>
              <a:ahLst/>
              <a:rect l="l" t="t" r="r" b="b"/>
              <a:pathLst>
                <a:path w="409" h="86">
                  <a:moveTo>
                    <a:pt x="409" y="86"/>
                  </a:moveTo>
                  <a:lnTo>
                    <a:pt x="386" y="47"/>
                  </a:lnTo>
                  <a:lnTo>
                    <a:pt x="347" y="21"/>
                  </a:lnTo>
                  <a:lnTo>
                    <a:pt x="249" y="0"/>
                  </a:lnTo>
                  <a:lnTo>
                    <a:pt x="127" y="1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792680" y="4578480"/>
              <a:ext cx="154080" cy="239760"/>
            </a:xfrm>
            <a:custGeom>
              <a:avLst/>
              <a:gdLst/>
              <a:ahLst/>
              <a:rect l="l" t="t" r="r" b="b"/>
              <a:pathLst>
                <a:path w="140" h="220">
                  <a:moveTo>
                    <a:pt x="140" y="0"/>
                  </a:moveTo>
                  <a:lnTo>
                    <a:pt x="72" y="47"/>
                  </a:lnTo>
                  <a:lnTo>
                    <a:pt x="26" y="101"/>
                  </a:lnTo>
                  <a:lnTo>
                    <a:pt x="0" y="158"/>
                  </a:lnTo>
                  <a:lnTo>
                    <a:pt x="8" y="220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971600" y="4546800"/>
              <a:ext cx="33480" cy="144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4995720" y="4502520"/>
              <a:ext cx="22320" cy="79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775040" y="4535640"/>
              <a:ext cx="171720" cy="252360"/>
            </a:xfrm>
            <a:custGeom>
              <a:avLst/>
              <a:gdLst/>
              <a:ahLst/>
              <a:rect l="l" t="t" r="r" b="b"/>
              <a:pathLst>
                <a:path w="156" h="231">
                  <a:moveTo>
                    <a:pt x="156" y="0"/>
                  </a:moveTo>
                  <a:lnTo>
                    <a:pt x="83" y="49"/>
                  </a:lnTo>
                  <a:lnTo>
                    <a:pt x="29" y="104"/>
                  </a:lnTo>
                  <a:lnTo>
                    <a:pt x="0" y="166"/>
                  </a:lnTo>
                  <a:lnTo>
                    <a:pt x="8" y="231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4962600" y="4519800"/>
              <a:ext cx="17280" cy="64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767120" y="4503960"/>
              <a:ext cx="163800" cy="249120"/>
            </a:xfrm>
            <a:custGeom>
              <a:avLst/>
              <a:gdLst/>
              <a:ahLst/>
              <a:rect l="l" t="t" r="r" b="b"/>
              <a:pathLst>
                <a:path w="150" h="228">
                  <a:moveTo>
                    <a:pt x="150" y="0"/>
                  </a:moveTo>
                  <a:lnTo>
                    <a:pt x="80" y="49"/>
                  </a:lnTo>
                  <a:lnTo>
                    <a:pt x="28" y="103"/>
                  </a:lnTo>
                  <a:lnTo>
                    <a:pt x="0" y="166"/>
                  </a:lnTo>
                  <a:lnTo>
                    <a:pt x="7" y="228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4947840" y="4481640"/>
              <a:ext cx="28440" cy="144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989600" y="4462560"/>
              <a:ext cx="30240" cy="144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979880" y="4434120"/>
              <a:ext cx="15840" cy="79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78280" y="4464360"/>
              <a:ext cx="152640" cy="125280"/>
            </a:xfrm>
            <a:custGeom>
              <a:avLst/>
              <a:gdLst/>
              <a:ahLst/>
              <a:rect l="l" t="t" r="r" b="b"/>
              <a:pathLst>
                <a:path w="140" h="114">
                  <a:moveTo>
                    <a:pt x="140" y="0"/>
                  </a:moveTo>
                  <a:lnTo>
                    <a:pt x="59" y="52"/>
                  </a:lnTo>
                  <a:lnTo>
                    <a:pt x="0" y="114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946400" y="4448520"/>
              <a:ext cx="19080" cy="79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49840" y="4438800"/>
              <a:ext cx="156960" cy="1508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143" y="0"/>
                  </a:moveTo>
                  <a:lnTo>
                    <a:pt x="54" y="62"/>
                  </a:lnTo>
                  <a:lnTo>
                    <a:pt x="0" y="137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4923000" y="4415040"/>
              <a:ext cx="31680" cy="158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4979880" y="4391280"/>
              <a:ext cx="38160" cy="144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882680" y="4391280"/>
              <a:ext cx="42840" cy="237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27520" y="4424400"/>
              <a:ext cx="138240" cy="16200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27" y="0"/>
                  </a:moveTo>
                  <a:lnTo>
                    <a:pt x="44" y="70"/>
                  </a:lnTo>
                  <a:lnTo>
                    <a:pt x="0" y="148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946760" y="4361040"/>
              <a:ext cx="55440" cy="205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24280" y="4615200"/>
              <a:ext cx="11160" cy="428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41920" y="4615200"/>
              <a:ext cx="4680" cy="727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49840" y="4615200"/>
              <a:ext cx="15840" cy="102960"/>
            </a:xfrm>
            <a:custGeom>
              <a:avLst/>
              <a:gdLst/>
              <a:ahLst/>
              <a:rect l="l" t="t" r="r" b="b"/>
              <a:pathLst>
                <a:path w="13" h="96">
                  <a:moveTo>
                    <a:pt x="13" y="0"/>
                  </a:moveTo>
                  <a:lnTo>
                    <a:pt x="0" y="49"/>
                  </a:lnTo>
                  <a:lnTo>
                    <a:pt x="8" y="96"/>
                  </a:lnTo>
                </a:path>
              </a:pathLst>
            </a:custGeom>
            <a:noFill/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18160" y="4615200"/>
              <a:ext cx="612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16360" y="4292640"/>
              <a:ext cx="474840" cy="293760"/>
            </a:xfrm>
            <a:custGeom>
              <a:avLst/>
              <a:gdLst/>
              <a:ahLst/>
              <a:rect l="l" t="t" r="r" b="b"/>
              <a:pathLst>
                <a:path w="433" h="270">
                  <a:moveTo>
                    <a:pt x="433" y="0"/>
                  </a:moveTo>
                  <a:lnTo>
                    <a:pt x="285" y="26"/>
                  </a:lnTo>
                  <a:lnTo>
                    <a:pt x="145" y="86"/>
                  </a:lnTo>
                  <a:lnTo>
                    <a:pt x="88" y="127"/>
                  </a:lnTo>
                  <a:lnTo>
                    <a:pt x="41" y="171"/>
                  </a:lnTo>
                  <a:lnTo>
                    <a:pt x="10" y="218"/>
                  </a:lnTo>
                  <a:lnTo>
                    <a:pt x="0" y="27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4486320" y="4797360"/>
              <a:ext cx="17280" cy="166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64080" y="4015080"/>
              <a:ext cx="272880" cy="395280"/>
            </a:xfrm>
            <a:custGeom>
              <a:avLst/>
              <a:gdLst/>
              <a:ahLst/>
              <a:rect l="l" t="t" r="r" b="b"/>
              <a:pathLst>
                <a:path w="251" h="363">
                  <a:moveTo>
                    <a:pt x="0" y="363"/>
                  </a:moveTo>
                  <a:lnTo>
                    <a:pt x="47" y="262"/>
                  </a:lnTo>
                  <a:lnTo>
                    <a:pt x="111" y="171"/>
                  </a:lnTo>
                  <a:lnTo>
                    <a:pt x="25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29160" y="3961080"/>
              <a:ext cx="342720" cy="4413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0" y="404"/>
                  </a:moveTo>
                  <a:lnTo>
                    <a:pt x="57" y="290"/>
                  </a:lnTo>
                  <a:lnTo>
                    <a:pt x="129" y="181"/>
                  </a:lnTo>
                  <a:lnTo>
                    <a:pt x="212" y="83"/>
                  </a:lnTo>
                  <a:lnTo>
                    <a:pt x="313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24280" y="4186440"/>
              <a:ext cx="212760" cy="376200"/>
            </a:xfrm>
            <a:custGeom>
              <a:avLst/>
              <a:gdLst/>
              <a:ahLst/>
              <a:rect l="l" t="t" r="r" b="b"/>
              <a:pathLst>
                <a:path w="194" h="345">
                  <a:moveTo>
                    <a:pt x="194" y="0"/>
                  </a:moveTo>
                  <a:lnTo>
                    <a:pt x="121" y="70"/>
                  </a:lnTo>
                  <a:lnTo>
                    <a:pt x="67" y="156"/>
                  </a:lnTo>
                  <a:lnTo>
                    <a:pt x="0" y="345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73520" y="4615200"/>
              <a:ext cx="11160" cy="244440"/>
            </a:xfrm>
            <a:custGeom>
              <a:avLst/>
              <a:gdLst/>
              <a:ahLst/>
              <a:rect l="l" t="t" r="r" b="b"/>
              <a:pathLst>
                <a:path w="10" h="225">
                  <a:moveTo>
                    <a:pt x="10" y="0"/>
                  </a:moveTo>
                  <a:lnTo>
                    <a:pt x="0" y="111"/>
                  </a:lnTo>
                  <a:lnTo>
                    <a:pt x="5" y="225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25960" y="4859640"/>
              <a:ext cx="295200" cy="285480"/>
            </a:xfrm>
            <a:custGeom>
              <a:avLst/>
              <a:gdLst/>
              <a:ahLst/>
              <a:rect l="l" t="t" r="r" b="b"/>
              <a:pathLst>
                <a:path w="269" h="264">
                  <a:moveTo>
                    <a:pt x="269" y="264"/>
                  </a:moveTo>
                  <a:lnTo>
                    <a:pt x="176" y="230"/>
                  </a:lnTo>
                  <a:lnTo>
                    <a:pt x="90" y="173"/>
                  </a:lnTo>
                  <a:lnTo>
                    <a:pt x="26" y="9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4106880" y="4340160"/>
              <a:ext cx="144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4078440" y="4334040"/>
              <a:ext cx="79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4098960" y="4162680"/>
              <a:ext cx="55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84640" y="3635640"/>
              <a:ext cx="971640" cy="439560"/>
            </a:xfrm>
            <a:custGeom>
              <a:avLst/>
              <a:gdLst/>
              <a:ahLst/>
              <a:rect l="l" t="t" r="r" b="b"/>
              <a:pathLst>
                <a:path w="889" h="402">
                  <a:moveTo>
                    <a:pt x="0" y="402"/>
                  </a:moveTo>
                  <a:lnTo>
                    <a:pt x="72" y="280"/>
                  </a:lnTo>
                  <a:lnTo>
                    <a:pt x="158" y="166"/>
                  </a:lnTo>
                  <a:lnTo>
                    <a:pt x="264" y="70"/>
                  </a:lnTo>
                  <a:lnTo>
                    <a:pt x="326" y="34"/>
                  </a:lnTo>
                  <a:lnTo>
                    <a:pt x="391" y="10"/>
                  </a:lnTo>
                  <a:lnTo>
                    <a:pt x="534" y="0"/>
                  </a:lnTo>
                  <a:lnTo>
                    <a:pt x="676" y="8"/>
                  </a:lnTo>
                  <a:lnTo>
                    <a:pt x="743" y="31"/>
                  </a:lnTo>
                  <a:lnTo>
                    <a:pt x="806" y="67"/>
                  </a:lnTo>
                  <a:lnTo>
                    <a:pt x="855" y="117"/>
                  </a:lnTo>
                  <a:lnTo>
                    <a:pt x="889" y="181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89320" y="3640320"/>
              <a:ext cx="484200" cy="48420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445"/>
                  </a:moveTo>
                  <a:lnTo>
                    <a:pt x="83" y="311"/>
                  </a:lnTo>
                  <a:lnTo>
                    <a:pt x="176" y="189"/>
                  </a:lnTo>
                  <a:lnTo>
                    <a:pt x="298" y="90"/>
                  </a:lnTo>
                  <a:lnTo>
                    <a:pt x="443" y="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54480" y="3764160"/>
              <a:ext cx="824040" cy="533520"/>
            </a:xfrm>
            <a:custGeom>
              <a:avLst/>
              <a:gdLst/>
              <a:ahLst/>
              <a:rect l="l" t="t" r="r" b="b"/>
              <a:pathLst>
                <a:path w="755" h="489">
                  <a:moveTo>
                    <a:pt x="0" y="489"/>
                  </a:moveTo>
                  <a:lnTo>
                    <a:pt x="52" y="373"/>
                  </a:lnTo>
                  <a:lnTo>
                    <a:pt x="114" y="267"/>
                  </a:lnTo>
                  <a:lnTo>
                    <a:pt x="195" y="168"/>
                  </a:lnTo>
                  <a:lnTo>
                    <a:pt x="288" y="85"/>
                  </a:lnTo>
                  <a:lnTo>
                    <a:pt x="400" y="23"/>
                  </a:lnTo>
                  <a:lnTo>
                    <a:pt x="521" y="0"/>
                  </a:lnTo>
                  <a:lnTo>
                    <a:pt x="648" y="15"/>
                  </a:lnTo>
                  <a:lnTo>
                    <a:pt x="711" y="33"/>
                  </a:lnTo>
                  <a:lnTo>
                    <a:pt x="755" y="75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1480" y="3794400"/>
              <a:ext cx="797040" cy="520560"/>
            </a:xfrm>
            <a:custGeom>
              <a:avLst/>
              <a:gdLst/>
              <a:ahLst/>
              <a:rect l="l" t="t" r="r" b="b"/>
              <a:pathLst>
                <a:path w="729" h="477">
                  <a:moveTo>
                    <a:pt x="0" y="477"/>
                  </a:moveTo>
                  <a:lnTo>
                    <a:pt x="50" y="368"/>
                  </a:lnTo>
                  <a:lnTo>
                    <a:pt x="109" y="267"/>
                  </a:lnTo>
                  <a:lnTo>
                    <a:pt x="187" y="174"/>
                  </a:lnTo>
                  <a:lnTo>
                    <a:pt x="272" y="91"/>
                  </a:lnTo>
                  <a:lnTo>
                    <a:pt x="379" y="31"/>
                  </a:lnTo>
                  <a:lnTo>
                    <a:pt x="493" y="0"/>
                  </a:lnTo>
                  <a:lnTo>
                    <a:pt x="612" y="8"/>
                  </a:lnTo>
                  <a:lnTo>
                    <a:pt x="674" y="21"/>
                  </a:lnTo>
                  <a:lnTo>
                    <a:pt x="729" y="4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14960" y="3819600"/>
              <a:ext cx="755640" cy="498600"/>
            </a:xfrm>
            <a:custGeom>
              <a:avLst/>
              <a:gdLst/>
              <a:ahLst/>
              <a:rect l="l" t="t" r="r" b="b"/>
              <a:pathLst>
                <a:path w="690" h="457">
                  <a:moveTo>
                    <a:pt x="0" y="457"/>
                  </a:moveTo>
                  <a:lnTo>
                    <a:pt x="50" y="353"/>
                  </a:lnTo>
                  <a:lnTo>
                    <a:pt x="107" y="260"/>
                  </a:lnTo>
                  <a:lnTo>
                    <a:pt x="179" y="172"/>
                  </a:lnTo>
                  <a:lnTo>
                    <a:pt x="260" y="94"/>
                  </a:lnTo>
                  <a:lnTo>
                    <a:pt x="358" y="34"/>
                  </a:lnTo>
                  <a:lnTo>
                    <a:pt x="464" y="0"/>
                  </a:lnTo>
                  <a:lnTo>
                    <a:pt x="573" y="0"/>
                  </a:lnTo>
                  <a:lnTo>
                    <a:pt x="690" y="2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44840" y="3832560"/>
              <a:ext cx="714600" cy="485640"/>
            </a:xfrm>
            <a:custGeom>
              <a:avLst/>
              <a:gdLst/>
              <a:ahLst/>
              <a:rect l="l" t="t" r="r" b="b"/>
              <a:pathLst>
                <a:path w="653" h="446">
                  <a:moveTo>
                    <a:pt x="0" y="446"/>
                  </a:moveTo>
                  <a:lnTo>
                    <a:pt x="104" y="259"/>
                  </a:lnTo>
                  <a:lnTo>
                    <a:pt x="249" y="101"/>
                  </a:lnTo>
                  <a:lnTo>
                    <a:pt x="340" y="41"/>
                  </a:lnTo>
                  <a:lnTo>
                    <a:pt x="441" y="5"/>
                  </a:lnTo>
                  <a:lnTo>
                    <a:pt x="547" y="0"/>
                  </a:lnTo>
                  <a:lnTo>
                    <a:pt x="653" y="18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62480" y="3861000"/>
              <a:ext cx="650880" cy="457200"/>
            </a:xfrm>
            <a:custGeom>
              <a:avLst/>
              <a:gdLst/>
              <a:ahLst/>
              <a:rect l="l" t="t" r="r" b="b"/>
              <a:pathLst>
                <a:path w="596" h="420">
                  <a:moveTo>
                    <a:pt x="0" y="420"/>
                  </a:moveTo>
                  <a:lnTo>
                    <a:pt x="98" y="251"/>
                  </a:lnTo>
                  <a:lnTo>
                    <a:pt x="231" y="109"/>
                  </a:lnTo>
                  <a:lnTo>
                    <a:pt x="311" y="52"/>
                  </a:lnTo>
                  <a:lnTo>
                    <a:pt x="404" y="13"/>
                  </a:lnTo>
                  <a:lnTo>
                    <a:pt x="498" y="0"/>
                  </a:lnTo>
                  <a:lnTo>
                    <a:pt x="596" y="1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73640" y="3880080"/>
              <a:ext cx="609480" cy="438120"/>
            </a:xfrm>
            <a:custGeom>
              <a:avLst/>
              <a:gdLst/>
              <a:ahLst/>
              <a:rect l="l" t="t" r="r" b="b"/>
              <a:pathLst>
                <a:path w="557" h="402">
                  <a:moveTo>
                    <a:pt x="0" y="402"/>
                  </a:moveTo>
                  <a:lnTo>
                    <a:pt x="96" y="246"/>
                  </a:lnTo>
                  <a:lnTo>
                    <a:pt x="221" y="111"/>
                  </a:lnTo>
                  <a:lnTo>
                    <a:pt x="296" y="57"/>
                  </a:lnTo>
                  <a:lnTo>
                    <a:pt x="379" y="18"/>
                  </a:lnTo>
                  <a:lnTo>
                    <a:pt x="469" y="0"/>
                  </a:lnTo>
                  <a:lnTo>
                    <a:pt x="557" y="5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95960" y="3899160"/>
              <a:ext cx="558720" cy="419040"/>
            </a:xfrm>
            <a:custGeom>
              <a:avLst/>
              <a:gdLst/>
              <a:ahLst/>
              <a:rect l="l" t="t" r="r" b="b"/>
              <a:pathLst>
                <a:path w="511" h="384">
                  <a:moveTo>
                    <a:pt x="0" y="384"/>
                  </a:moveTo>
                  <a:lnTo>
                    <a:pt x="91" y="241"/>
                  </a:lnTo>
                  <a:lnTo>
                    <a:pt x="205" y="117"/>
                  </a:lnTo>
                  <a:lnTo>
                    <a:pt x="272" y="67"/>
                  </a:lnTo>
                  <a:lnTo>
                    <a:pt x="347" y="26"/>
                  </a:lnTo>
                  <a:lnTo>
                    <a:pt x="430" y="3"/>
                  </a:lnTo>
                  <a:lnTo>
                    <a:pt x="51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35560" y="3937320"/>
              <a:ext cx="468360" cy="384120"/>
            </a:xfrm>
            <a:custGeom>
              <a:avLst/>
              <a:gdLst/>
              <a:ahLst/>
              <a:rect l="l" t="t" r="r" b="b"/>
              <a:pathLst>
                <a:path w="428" h="352">
                  <a:moveTo>
                    <a:pt x="0" y="352"/>
                  </a:moveTo>
                  <a:lnTo>
                    <a:pt x="78" y="233"/>
                  </a:lnTo>
                  <a:lnTo>
                    <a:pt x="174" y="127"/>
                  </a:lnTo>
                  <a:lnTo>
                    <a:pt x="291" y="44"/>
                  </a:lnTo>
                  <a:lnTo>
                    <a:pt x="428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46720" y="3957840"/>
              <a:ext cx="433080" cy="363600"/>
            </a:xfrm>
            <a:custGeom>
              <a:avLst/>
              <a:gdLst/>
              <a:ahLst/>
              <a:rect l="l" t="t" r="r" b="b"/>
              <a:pathLst>
                <a:path w="396" h="332">
                  <a:moveTo>
                    <a:pt x="0" y="332"/>
                  </a:moveTo>
                  <a:lnTo>
                    <a:pt x="75" y="223"/>
                  </a:lnTo>
                  <a:lnTo>
                    <a:pt x="166" y="125"/>
                  </a:lnTo>
                  <a:lnTo>
                    <a:pt x="272" y="47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75160" y="4000680"/>
              <a:ext cx="341280" cy="320760"/>
            </a:xfrm>
            <a:custGeom>
              <a:avLst/>
              <a:gdLst/>
              <a:ahLst/>
              <a:rect l="l" t="t" r="r" b="b"/>
              <a:pathLst>
                <a:path w="311" h="293">
                  <a:moveTo>
                    <a:pt x="0" y="293"/>
                  </a:moveTo>
                  <a:lnTo>
                    <a:pt x="132" y="125"/>
                  </a:lnTo>
                  <a:lnTo>
                    <a:pt x="215" y="55"/>
                  </a:lnTo>
                  <a:lnTo>
                    <a:pt x="31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83080" y="4057920"/>
              <a:ext cx="273240" cy="285840"/>
            </a:xfrm>
            <a:custGeom>
              <a:avLst/>
              <a:gdLst/>
              <a:ahLst/>
              <a:rect l="l" t="t" r="r" b="b"/>
              <a:pathLst>
                <a:path w="249" h="262">
                  <a:moveTo>
                    <a:pt x="0" y="262"/>
                  </a:moveTo>
                  <a:lnTo>
                    <a:pt x="109" y="117"/>
                  </a:lnTo>
                  <a:lnTo>
                    <a:pt x="174" y="52"/>
                  </a:lnTo>
                  <a:lnTo>
                    <a:pt x="249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03600" y="4111920"/>
              <a:ext cx="203400" cy="234720"/>
            </a:xfrm>
            <a:custGeom>
              <a:avLst/>
              <a:gdLst/>
              <a:ahLst/>
              <a:rect l="l" t="t" r="r" b="b"/>
              <a:pathLst>
                <a:path w="187" h="216">
                  <a:moveTo>
                    <a:pt x="0" y="216"/>
                  </a:moveTo>
                  <a:lnTo>
                    <a:pt x="86" y="102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522680" y="4213440"/>
              <a:ext cx="108000" cy="133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90920" y="4351680"/>
              <a:ext cx="49320" cy="228600"/>
            </a:xfrm>
            <a:custGeom>
              <a:avLst/>
              <a:gdLst/>
              <a:ahLst/>
              <a:rect l="l" t="t" r="r" b="b"/>
              <a:pathLst>
                <a:path w="46" h="210">
                  <a:moveTo>
                    <a:pt x="46" y="0"/>
                  </a:moveTo>
                  <a:lnTo>
                    <a:pt x="10" y="103"/>
                  </a:lnTo>
                  <a:lnTo>
                    <a:pt x="0" y="210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00480" y="4607280"/>
              <a:ext cx="209520" cy="433080"/>
            </a:xfrm>
            <a:custGeom>
              <a:avLst/>
              <a:gdLst/>
              <a:ahLst/>
              <a:rect l="l" t="t" r="r" b="b"/>
              <a:pathLst>
                <a:path w="192" h="399">
                  <a:moveTo>
                    <a:pt x="0" y="0"/>
                  </a:moveTo>
                  <a:lnTo>
                    <a:pt x="11" y="117"/>
                  </a:lnTo>
                  <a:lnTo>
                    <a:pt x="39" y="228"/>
                  </a:lnTo>
                  <a:lnTo>
                    <a:pt x="104" y="324"/>
                  </a:lnTo>
                  <a:lnTo>
                    <a:pt x="192" y="399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54480" y="4749840"/>
              <a:ext cx="127080" cy="24948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0" y="0"/>
                  </a:moveTo>
                  <a:lnTo>
                    <a:pt x="42" y="122"/>
                  </a:lnTo>
                  <a:lnTo>
                    <a:pt x="117" y="228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97320" y="4800960"/>
              <a:ext cx="73080" cy="150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597200" y="4222800"/>
              <a:ext cx="90360" cy="222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619520" y="4080240"/>
              <a:ext cx="168480" cy="406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628880" y="4057920"/>
              <a:ext cx="207720" cy="4888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653000" y="4108680"/>
              <a:ext cx="200160" cy="474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827600" y="4146840"/>
              <a:ext cx="47520" cy="135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559040" y="4654800"/>
              <a:ext cx="104760" cy="2649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4616280" y="4781880"/>
              <a:ext cx="46080" cy="838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510080" y="4611960"/>
              <a:ext cx="131760" cy="322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146120" y="4694400"/>
              <a:ext cx="42840" cy="1238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167360" y="4745160"/>
              <a:ext cx="33120" cy="842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151160" y="4781880"/>
              <a:ext cx="54000" cy="1587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4172040" y="4818240"/>
              <a:ext cx="47520" cy="144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4184640" y="4859640"/>
              <a:ext cx="47520" cy="1317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202280" y="4883400"/>
              <a:ext cx="41040" cy="127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213080" y="4894560"/>
              <a:ext cx="52560" cy="145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247640" y="4935600"/>
              <a:ext cx="25560" cy="1033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273560" y="4959720"/>
              <a:ext cx="31680" cy="1141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55560" y="4951440"/>
              <a:ext cx="33480" cy="127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296960" y="4988160"/>
              <a:ext cx="25560" cy="106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4314600" y="5004000"/>
              <a:ext cx="29880" cy="100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4336560" y="5013360"/>
              <a:ext cx="25560" cy="108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4355640" y="5021640"/>
              <a:ext cx="19080" cy="1047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4370040" y="5032440"/>
              <a:ext cx="20520" cy="86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4392720" y="5061240"/>
              <a:ext cx="17280" cy="68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132080" y="4224600"/>
              <a:ext cx="219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141800" y="4348440"/>
              <a:ext cx="792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157280" y="4348440"/>
              <a:ext cx="1116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174920" y="4361040"/>
              <a:ext cx="140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190760" y="4388040"/>
              <a:ext cx="140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4205160" y="4072320"/>
              <a:ext cx="20880" cy="759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212720" y="3984840"/>
              <a:ext cx="81000" cy="192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232160" y="3921480"/>
              <a:ext cx="130320" cy="295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244760" y="3856320"/>
              <a:ext cx="168120" cy="396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366800" y="3789720"/>
              <a:ext cx="104760" cy="27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428720" y="3749760"/>
              <a:ext cx="87480" cy="223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4492800" y="3722760"/>
              <a:ext cx="71280" cy="190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4539960" y="3695760"/>
              <a:ext cx="68040" cy="166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597200" y="3664080"/>
              <a:ext cx="53640" cy="169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630320" y="3651480"/>
              <a:ext cx="57240" cy="166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662360" y="3646800"/>
              <a:ext cx="60480" cy="1587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4706640" y="3646800"/>
              <a:ext cx="49320" cy="136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4741920" y="3646800"/>
              <a:ext cx="47520" cy="118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4781160" y="3651480"/>
              <a:ext cx="42840" cy="106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4824000" y="3651480"/>
              <a:ext cx="41400" cy="982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852800" y="3652920"/>
              <a:ext cx="36360" cy="1033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863600" y="3659400"/>
              <a:ext cx="49320" cy="106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903920" y="3673800"/>
              <a:ext cx="33120" cy="9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939920" y="3675240"/>
              <a:ext cx="36360" cy="90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968360" y="3692880"/>
              <a:ext cx="33480" cy="759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4994280" y="3702240"/>
              <a:ext cx="31680" cy="81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022720" y="3727800"/>
              <a:ext cx="22320" cy="64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048280" y="3738600"/>
              <a:ext cx="25200" cy="71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073480" y="3757680"/>
              <a:ext cx="20880" cy="61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087880" y="3764160"/>
              <a:ext cx="22320" cy="69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5229000" y="4061160"/>
              <a:ext cx="44280" cy="106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246280" y="4032360"/>
              <a:ext cx="74520" cy="196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257800" y="4008600"/>
              <a:ext cx="108000" cy="247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288040" y="3996000"/>
              <a:ext cx="117360" cy="280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354280" y="3986280"/>
              <a:ext cx="87480" cy="241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398560" y="3984840"/>
              <a:ext cx="88920" cy="2109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440320" y="3981600"/>
              <a:ext cx="84240" cy="189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81720" y="3981600"/>
              <a:ext cx="79200" cy="18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518080" y="3984840"/>
              <a:ext cx="76320" cy="171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552640" y="3992760"/>
              <a:ext cx="79560" cy="177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589720" y="4008600"/>
              <a:ext cx="64800" cy="154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618160" y="4018320"/>
              <a:ext cx="68400" cy="1587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5643720" y="4032360"/>
              <a:ext cx="69840" cy="162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672160" y="4062600"/>
              <a:ext cx="69840" cy="162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689080" y="4089600"/>
              <a:ext cx="71640" cy="160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5708160" y="4131000"/>
              <a:ext cx="71640" cy="161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722920" y="4183200"/>
              <a:ext cx="71280" cy="160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5730480" y="4246920"/>
              <a:ext cx="71640" cy="161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5734080" y="4326120"/>
              <a:ext cx="71280" cy="16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717880" y="4224600"/>
              <a:ext cx="158760" cy="358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700240" y="4515120"/>
              <a:ext cx="71640" cy="16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49480" y="4270680"/>
              <a:ext cx="243000" cy="55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5439960" y="4297680"/>
              <a:ext cx="459000" cy="10494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5489640" y="4357800"/>
              <a:ext cx="420480" cy="959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545080" y="4427640"/>
              <a:ext cx="370080" cy="846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611320" y="4524480"/>
              <a:ext cx="303480" cy="6876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691240" y="4645080"/>
              <a:ext cx="208080" cy="4734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5397120" y="5064480"/>
              <a:ext cx="120600" cy="307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340240" y="5121360"/>
              <a:ext cx="123840" cy="285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305320" y="5154840"/>
              <a:ext cx="108000" cy="2761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5262480" y="5185080"/>
              <a:ext cx="106560" cy="252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211720" y="5205600"/>
              <a:ext cx="100080" cy="241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181480" y="5216760"/>
              <a:ext cx="90720" cy="235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155920" y="5220000"/>
              <a:ext cx="82440" cy="226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121360" y="5220000"/>
              <a:ext cx="79200" cy="198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109840" y="5213520"/>
              <a:ext cx="60120" cy="1522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097240" y="5205600"/>
              <a:ext cx="5076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073120" y="5185080"/>
              <a:ext cx="4140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048280" y="5161320"/>
              <a:ext cx="4608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030640" y="5135760"/>
              <a:ext cx="302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001840" y="5108760"/>
              <a:ext cx="4140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968720" y="5064480"/>
              <a:ext cx="5112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4933800" y="5067360"/>
              <a:ext cx="46080" cy="13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4897080" y="5107320"/>
              <a:ext cx="2844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4849560" y="5150160"/>
              <a:ext cx="140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175000" y="4554720"/>
              <a:ext cx="74520" cy="475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37040" y="4626000"/>
              <a:ext cx="190440" cy="33480"/>
            </a:xfrm>
            <a:custGeom>
              <a:avLst/>
              <a:gdLst/>
              <a:ahLst/>
              <a:rect l="l" t="t" r="r" b="b"/>
              <a:pathLst>
                <a:path w="174" h="31">
                  <a:moveTo>
                    <a:pt x="174" y="0"/>
                  </a:moveTo>
                  <a:lnTo>
                    <a:pt x="88" y="23"/>
                  </a:lnTo>
                  <a:lnTo>
                    <a:pt x="0" y="3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5326200" y="4608720"/>
              <a:ext cx="288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62600" y="4654800"/>
              <a:ext cx="93600" cy="2332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984920" y="4658040"/>
              <a:ext cx="93600" cy="2253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22720" y="4648320"/>
              <a:ext cx="96840" cy="2206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60880" y="4643640"/>
              <a:ext cx="96840" cy="2206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14880" y="4634280"/>
              <a:ext cx="88920" cy="2156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149800" y="4629240"/>
              <a:ext cx="88920" cy="2113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97320" y="4629240"/>
              <a:ext cx="82800" cy="1922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245200" y="4634280"/>
              <a:ext cx="75960" cy="1616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18200" y="4578480"/>
              <a:ext cx="17280" cy="288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46640" y="4557960"/>
              <a:ext cx="25560" cy="493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62480" y="4554720"/>
              <a:ext cx="34920" cy="525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92720" y="4553280"/>
              <a:ext cx="117360" cy="1746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311800" y="4546800"/>
              <a:ext cx="114120" cy="1652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34120" y="4546800"/>
              <a:ext cx="106200" cy="1443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65800" y="4553280"/>
              <a:ext cx="87120" cy="1047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92800" y="4561200"/>
              <a:ext cx="60120" cy="680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51400" y="4550040"/>
              <a:ext cx="79560" cy="1000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40280" y="4659480"/>
              <a:ext cx="82440" cy="2286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29120" y="4672080"/>
              <a:ext cx="73080" cy="2206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19760" y="4677120"/>
              <a:ext cx="71280" cy="2156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908600" y="4687920"/>
              <a:ext cx="68040" cy="20016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00680" y="4696200"/>
              <a:ext cx="61920" cy="19188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86280" y="4707000"/>
              <a:ext cx="54000" cy="1573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75120" y="4718160"/>
              <a:ext cx="55800" cy="1652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70440" y="4739040"/>
              <a:ext cx="47520" cy="1411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61080" y="4745160"/>
              <a:ext cx="42840" cy="1303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83040" y="4712040"/>
              <a:ext cx="57240" cy="1746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53160" y="4759560"/>
              <a:ext cx="33120" cy="1062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43440" y="4781880"/>
              <a:ext cx="22320" cy="7272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86240" y="4631040"/>
              <a:ext cx="79560" cy="1364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315040" y="4631040"/>
              <a:ext cx="73080" cy="11880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45000" y="4179960"/>
              <a:ext cx="227160" cy="63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13320" y="4189680"/>
              <a:ext cx="273240" cy="81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19800" y="4218120"/>
              <a:ext cx="284040" cy="82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25920" y="4241880"/>
              <a:ext cx="287640" cy="81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25920" y="4260960"/>
              <a:ext cx="292320" cy="85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3040" y="4276800"/>
              <a:ext cx="2966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19800" y="4305600"/>
              <a:ext cx="306360" cy="9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19800" y="4334040"/>
              <a:ext cx="3096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19800" y="4354560"/>
              <a:ext cx="3096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13320" y="4386600"/>
              <a:ext cx="31608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23040" y="4419720"/>
              <a:ext cx="30312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19800" y="4456440"/>
              <a:ext cx="3031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51480" y="4521240"/>
              <a:ext cx="26208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68760" y="4567320"/>
              <a:ext cx="23976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94320" y="4624560"/>
              <a:ext cx="20016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89640" y="4665960"/>
              <a:ext cx="19368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70560" y="4712040"/>
              <a:ext cx="16668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48240" y="4745160"/>
              <a:ext cx="1778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19800" y="4783320"/>
              <a:ext cx="2160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59320" y="4818240"/>
              <a:ext cx="25236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10360" y="4849920"/>
              <a:ext cx="2552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4320" y="4894560"/>
              <a:ext cx="32868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191200" y="4934160"/>
              <a:ext cx="33156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57720" y="4959720"/>
              <a:ext cx="33804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10200" y="4992840"/>
              <a:ext cx="3506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073480" y="5013360"/>
              <a:ext cx="36684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38560" y="5027760"/>
              <a:ext cx="37476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5040" y="5050080"/>
              <a:ext cx="34776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52960" y="5078520"/>
              <a:ext cx="31608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04080"/>
              <a:ext cx="27792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78520" y="5132520"/>
              <a:ext cx="2318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91120" y="5150160"/>
              <a:ext cx="19512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14880" y="5173920"/>
              <a:ext cx="138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29200" y="4872240"/>
              <a:ext cx="201600" cy="144360"/>
            </a:xfrm>
            <a:custGeom>
              <a:avLst/>
              <a:gdLst/>
              <a:ahLst/>
              <a:rect l="l" t="t" r="r" b="b"/>
              <a:pathLst>
                <a:path w="184" h="132">
                  <a:moveTo>
                    <a:pt x="0" y="132"/>
                  </a:moveTo>
                  <a:lnTo>
                    <a:pt x="103" y="80"/>
                  </a:ln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300640" y="4880160"/>
              <a:ext cx="2588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410080" y="4195800"/>
              <a:ext cx="15840" cy="219240"/>
            </a:xfrm>
            <a:custGeom>
              <a:avLst/>
              <a:gdLst/>
              <a:ahLst/>
              <a:rect l="l" t="t" r="r" b="b"/>
              <a:pathLst>
                <a:path w="13" h="200">
                  <a:moveTo>
                    <a:pt x="0" y="0"/>
                  </a:moveTo>
                  <a:lnTo>
                    <a:pt x="13" y="49"/>
                  </a:lnTo>
                  <a:lnTo>
                    <a:pt x="8" y="101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59400" y="4173840"/>
              <a:ext cx="193680" cy="42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4960" y="4165920"/>
              <a:ext cx="150840" cy="331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11960" y="4162680"/>
              <a:ext cx="120600" cy="25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11960" y="4195800"/>
              <a:ext cx="150480" cy="33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13320" y="4189680"/>
              <a:ext cx="263520" cy="601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82760" y="2248200"/>
              <a:ext cx="2186280" cy="1135080"/>
            </a:xfrm>
            <a:custGeom>
              <a:avLst/>
              <a:gdLst/>
              <a:ahLst/>
              <a:rect l="l" t="t" r="r" b="b"/>
              <a:pathLst>
                <a:path w="1998" h="1040">
                  <a:moveTo>
                    <a:pt x="0" y="332"/>
                  </a:moveTo>
                  <a:lnTo>
                    <a:pt x="256" y="143"/>
                  </a:lnTo>
                  <a:lnTo>
                    <a:pt x="399" y="73"/>
                  </a:lnTo>
                  <a:lnTo>
                    <a:pt x="554" y="24"/>
                  </a:lnTo>
                  <a:lnTo>
                    <a:pt x="712" y="0"/>
                  </a:lnTo>
                  <a:lnTo>
                    <a:pt x="873" y="6"/>
                  </a:lnTo>
                  <a:lnTo>
                    <a:pt x="1031" y="37"/>
                  </a:lnTo>
                  <a:lnTo>
                    <a:pt x="1182" y="91"/>
                  </a:lnTo>
                  <a:lnTo>
                    <a:pt x="1322" y="166"/>
                  </a:lnTo>
                  <a:lnTo>
                    <a:pt x="1449" y="265"/>
                  </a:lnTo>
                  <a:lnTo>
                    <a:pt x="1563" y="376"/>
                  </a:lnTo>
                  <a:lnTo>
                    <a:pt x="1664" y="498"/>
                  </a:lnTo>
                  <a:lnTo>
                    <a:pt x="1848" y="760"/>
                  </a:lnTo>
                  <a:lnTo>
                    <a:pt x="1998" y="10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147840" y="2565720"/>
              <a:ext cx="30240" cy="475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76640" y="2494080"/>
              <a:ext cx="47520" cy="82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18040" y="2463840"/>
              <a:ext cx="47520" cy="874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259080" y="2432160"/>
              <a:ext cx="44640" cy="777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13080" y="2400480"/>
              <a:ext cx="47520" cy="763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25680" y="2294280"/>
              <a:ext cx="74880" cy="1569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05240" y="2318040"/>
              <a:ext cx="55440" cy="871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65360" y="2318040"/>
              <a:ext cx="33480" cy="666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98840" y="2259360"/>
              <a:ext cx="49320" cy="99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562200" y="2246400"/>
              <a:ext cx="36720" cy="88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70120" y="2079720"/>
              <a:ext cx="65160" cy="2383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678120" y="2200320"/>
              <a:ext cx="28800" cy="95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28880" y="2186280"/>
              <a:ext cx="25560" cy="96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0520" y="2143440"/>
              <a:ext cx="22320" cy="122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73600" y="2152800"/>
              <a:ext cx="14040" cy="1033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27600" y="2052720"/>
              <a:ext cx="14040" cy="198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006800" y="2141640"/>
              <a:ext cx="4680" cy="1065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4071960" y="2129040"/>
              <a:ext cx="6480" cy="119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4149360" y="2121120"/>
              <a:ext cx="17640" cy="135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212720" y="2141640"/>
              <a:ext cx="24120" cy="123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305240" y="2087640"/>
              <a:ext cx="4680" cy="2016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73640" y="2175120"/>
              <a:ext cx="0" cy="1332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4435200" y="2205360"/>
              <a:ext cx="11160" cy="123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516200" y="2233800"/>
              <a:ext cx="4680" cy="1332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4587480" y="2279880"/>
              <a:ext cx="4680" cy="1252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656240" y="2217960"/>
              <a:ext cx="17280" cy="230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4704840" y="2360880"/>
              <a:ext cx="17640" cy="1206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4760640" y="2400480"/>
              <a:ext cx="28440" cy="1270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806720" y="2448000"/>
              <a:ext cx="36360" cy="122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4861080" y="2508480"/>
              <a:ext cx="39600" cy="115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4917960" y="2421000"/>
              <a:ext cx="92160" cy="270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957560" y="2586240"/>
              <a:ext cx="68040" cy="1476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5005440" y="2662560"/>
              <a:ext cx="54000" cy="1317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5052960" y="2729160"/>
              <a:ext cx="68400" cy="1270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5105160" y="2813400"/>
              <a:ext cx="58680" cy="1126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5149440" y="2794320"/>
              <a:ext cx="119160" cy="199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200200" y="2959200"/>
              <a:ext cx="73080" cy="1144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252760" y="3043440"/>
              <a:ext cx="68040" cy="1144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5295600" y="3119760"/>
              <a:ext cx="81000" cy="118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5336640" y="3195720"/>
              <a:ext cx="88920" cy="123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5369040" y="3211560"/>
              <a:ext cx="155520" cy="171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22640" y="5170680"/>
              <a:ext cx="54000" cy="271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1160" y="5704200"/>
              <a:ext cx="1089000" cy="544320"/>
            </a:xfrm>
            <a:custGeom>
              <a:avLst/>
              <a:gdLst/>
              <a:ahLst/>
              <a:rect l="l" t="t" r="r" b="b"/>
              <a:pathLst>
                <a:path w="995" h="500">
                  <a:moveTo>
                    <a:pt x="995" y="0"/>
                  </a:moveTo>
                  <a:lnTo>
                    <a:pt x="912" y="132"/>
                  </a:lnTo>
                  <a:lnTo>
                    <a:pt x="819" y="241"/>
                  </a:lnTo>
                  <a:lnTo>
                    <a:pt x="702" y="331"/>
                  </a:lnTo>
                  <a:lnTo>
                    <a:pt x="573" y="401"/>
                  </a:lnTo>
                  <a:lnTo>
                    <a:pt x="436" y="456"/>
                  </a:lnTo>
                  <a:lnTo>
                    <a:pt x="293" y="487"/>
                  </a:lnTo>
                  <a:lnTo>
                    <a:pt x="148" y="500"/>
                  </a:lnTo>
                  <a:lnTo>
                    <a:pt x="0" y="49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40280" y="5704200"/>
              <a:ext cx="299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122640" y="4953240"/>
              <a:ext cx="380880" cy="217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503520" y="4953240"/>
              <a:ext cx="90720" cy="225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124160" y="5473800"/>
              <a:ext cx="123840" cy="749520"/>
            </a:xfrm>
            <a:custGeom>
              <a:avLst/>
              <a:gdLst/>
              <a:ahLst/>
              <a:rect l="l" t="t" r="r" b="b"/>
              <a:pathLst>
                <a:path w="114" h="687">
                  <a:moveTo>
                    <a:pt x="34" y="0"/>
                  </a:moveTo>
                  <a:lnTo>
                    <a:pt x="0" y="85"/>
                  </a:lnTo>
                  <a:lnTo>
                    <a:pt x="31" y="166"/>
                  </a:lnTo>
                  <a:lnTo>
                    <a:pt x="44" y="207"/>
                  </a:lnTo>
                  <a:lnTo>
                    <a:pt x="44" y="251"/>
                  </a:lnTo>
                  <a:lnTo>
                    <a:pt x="47" y="339"/>
                  </a:lnTo>
                  <a:lnTo>
                    <a:pt x="114" y="687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03520" y="4953240"/>
              <a:ext cx="123840" cy="9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32360" y="4997520"/>
              <a:ext cx="315720" cy="397080"/>
            </a:xfrm>
            <a:custGeom>
              <a:avLst/>
              <a:gdLst/>
              <a:ahLst/>
              <a:rect l="l" t="t" r="r" b="b"/>
              <a:pathLst>
                <a:path w="288" h="365">
                  <a:moveTo>
                    <a:pt x="0" y="0"/>
                  </a:moveTo>
                  <a:lnTo>
                    <a:pt x="29" y="119"/>
                  </a:lnTo>
                  <a:lnTo>
                    <a:pt x="91" y="225"/>
                  </a:lnTo>
                  <a:lnTo>
                    <a:pt x="179" y="311"/>
                  </a:lnTo>
                  <a:lnTo>
                    <a:pt x="288" y="365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774680" y="5211720"/>
              <a:ext cx="165240" cy="4921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4586400" y="5212080"/>
              <a:ext cx="188640" cy="180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4755960" y="5267160"/>
              <a:ext cx="144360" cy="430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4597200" y="5267520"/>
              <a:ext cx="158760" cy="1522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60880" y="5473800"/>
              <a:ext cx="138240" cy="32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84640" y="5499360"/>
              <a:ext cx="10620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162320" y="5499360"/>
              <a:ext cx="114480" cy="682560"/>
            </a:xfrm>
            <a:custGeom>
              <a:avLst/>
              <a:gdLst/>
              <a:ahLst/>
              <a:rect l="l" t="t" r="r" b="b"/>
              <a:pathLst>
                <a:path w="104" h="625">
                  <a:moveTo>
                    <a:pt x="21" y="0"/>
                  </a:moveTo>
                  <a:lnTo>
                    <a:pt x="0" y="75"/>
                  </a:lnTo>
                  <a:lnTo>
                    <a:pt x="34" y="150"/>
                  </a:lnTo>
                  <a:lnTo>
                    <a:pt x="42" y="228"/>
                  </a:lnTo>
                  <a:lnTo>
                    <a:pt x="45" y="309"/>
                  </a:lnTo>
                  <a:lnTo>
                    <a:pt x="104" y="625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76800" y="5697720"/>
              <a:ext cx="623880" cy="484200"/>
            </a:xfrm>
            <a:custGeom>
              <a:avLst/>
              <a:gdLst/>
              <a:ahLst/>
              <a:rect l="l" t="t" r="r" b="b"/>
              <a:pathLst>
                <a:path w="570" h="443">
                  <a:moveTo>
                    <a:pt x="0" y="443"/>
                  </a:moveTo>
                  <a:lnTo>
                    <a:pt x="176" y="381"/>
                  </a:lnTo>
                  <a:lnTo>
                    <a:pt x="334" y="282"/>
                  </a:lnTo>
                  <a:lnTo>
                    <a:pt x="461" y="150"/>
                  </a:lnTo>
                  <a:lnTo>
                    <a:pt x="57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4374720" y="5392440"/>
              <a:ext cx="165240" cy="559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75080" y="5392800"/>
              <a:ext cx="136440" cy="1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4289400" y="5392800"/>
              <a:ext cx="85680" cy="63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89400" y="5456520"/>
              <a:ext cx="160200" cy="546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449600" y="5951520"/>
              <a:ext cx="90720" cy="50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40320" y="5951880"/>
              <a:ext cx="156960" cy="6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49600" y="6002640"/>
              <a:ext cx="166680" cy="219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4659480" y="5408280"/>
              <a:ext cx="134640" cy="435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4586040" y="5408640"/>
              <a:ext cx="73080" cy="1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99080" y="5365800"/>
              <a:ext cx="137880" cy="405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30760" y="5355000"/>
              <a:ext cx="130320" cy="396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92720" y="5423040"/>
              <a:ext cx="128520" cy="6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10000" y="5459760"/>
              <a:ext cx="119160" cy="2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14680" y="5496120"/>
              <a:ext cx="258840" cy="9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14680" y="5535720"/>
              <a:ext cx="258840" cy="6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424400" y="5569200"/>
              <a:ext cx="257040" cy="9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46720" y="5599440"/>
              <a:ext cx="258480" cy="7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467240" y="5632560"/>
              <a:ext cx="257040" cy="7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79840" y="5669280"/>
              <a:ext cx="260280" cy="7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92800" y="5699160"/>
              <a:ext cx="257040" cy="9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00720" y="5737320"/>
              <a:ext cx="260280" cy="7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11520" y="5767560"/>
              <a:ext cx="258840" cy="9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10080" y="5791320"/>
              <a:ext cx="257040" cy="7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29160" y="5821560"/>
              <a:ext cx="108000" cy="3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522680" y="5857920"/>
              <a:ext cx="125640" cy="3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33840" y="5889960"/>
              <a:ext cx="125640" cy="1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557600" y="5919840"/>
              <a:ext cx="112680" cy="50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4628880" y="5795640"/>
              <a:ext cx="4428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81440" y="5802480"/>
              <a:ext cx="316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07000" y="5896080"/>
              <a:ext cx="4608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716360" y="5924880"/>
              <a:ext cx="79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99080" y="5864400"/>
              <a:ext cx="83880" cy="3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87920" y="5828040"/>
              <a:ext cx="100080" cy="1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538520" y="5481720"/>
              <a:ext cx="5400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4362120" y="4711680"/>
              <a:ext cx="230040" cy="772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4314960" y="4724640"/>
              <a:ext cx="218880" cy="7524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4341600" y="4711680"/>
              <a:ext cx="222120" cy="7506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576680" y="5430960"/>
              <a:ext cx="87480" cy="6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586400" y="5464440"/>
              <a:ext cx="82440" cy="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72120" y="4470480"/>
              <a:ext cx="72720" cy="241560"/>
            </a:xfrm>
            <a:custGeom>
              <a:avLst/>
              <a:gdLst/>
              <a:ahLst/>
              <a:rect l="l" t="t" r="r" b="b"/>
              <a:pathLst>
                <a:path w="67" h="220">
                  <a:moveTo>
                    <a:pt x="65" y="220"/>
                  </a:moveTo>
                  <a:lnTo>
                    <a:pt x="67" y="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38640" y="4476960"/>
              <a:ext cx="76320" cy="247680"/>
            </a:xfrm>
            <a:custGeom>
              <a:avLst/>
              <a:gdLst/>
              <a:ahLst/>
              <a:rect l="l" t="t" r="r" b="b"/>
              <a:pathLst>
                <a:path w="70" h="228">
                  <a:moveTo>
                    <a:pt x="6" y="0"/>
                  </a:moveTo>
                  <a:lnTo>
                    <a:pt x="0" y="124"/>
                  </a:lnTo>
                  <a:lnTo>
                    <a:pt x="70" y="228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97320" y="4464360"/>
              <a:ext cx="73080" cy="247680"/>
            </a:xfrm>
            <a:custGeom>
              <a:avLst/>
              <a:gdLst/>
              <a:ahLst/>
              <a:rect l="l" t="t" r="r" b="b"/>
              <a:pathLst>
                <a:path w="68" h="226">
                  <a:moveTo>
                    <a:pt x="60" y="226"/>
                  </a:moveTo>
                  <a:lnTo>
                    <a:pt x="68" y="10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3728880" y="2681280"/>
              <a:ext cx="516240" cy="17953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635280" y="2531880"/>
              <a:ext cx="93600" cy="149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3635280" y="2317680"/>
              <a:ext cx="1800" cy="2142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35280" y="2318040"/>
              <a:ext cx="88920" cy="163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724200" y="2481480"/>
              <a:ext cx="30240" cy="2095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754440" y="2691000"/>
              <a:ext cx="517680" cy="1779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3754440" y="2691000"/>
              <a:ext cx="542880" cy="17733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19760" y="5732640"/>
              <a:ext cx="30168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92760" y="5774040"/>
              <a:ext cx="30456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875120" y="5799240"/>
              <a:ext cx="30636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54600" y="5824800"/>
              <a:ext cx="30960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835520" y="5853240"/>
              <a:ext cx="30816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811760" y="5884920"/>
              <a:ext cx="30780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82960" y="5918400"/>
              <a:ext cx="31140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761000" y="5942160"/>
              <a:ext cx="30636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735440" y="5967720"/>
              <a:ext cx="30312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11680" y="5994720"/>
              <a:ext cx="29844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76760" y="6024600"/>
              <a:ext cx="295200" cy="5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645080" y="6051600"/>
              <a:ext cx="29196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605480" y="6078600"/>
              <a:ext cx="28728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68760" y="6100920"/>
              <a:ext cx="28440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16560" y="6129720"/>
              <a:ext cx="27288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471920" y="6151680"/>
              <a:ext cx="27000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4680" y="6175440"/>
              <a:ext cx="27324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19640" y="6205680"/>
              <a:ext cx="27792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05160" y="6228000"/>
              <a:ext cx="28764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775040" y="5212080"/>
              <a:ext cx="250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25960" y="5212080"/>
              <a:ext cx="214200" cy="4921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925880" y="5212080"/>
              <a:ext cx="12708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27600" y="5212080"/>
              <a:ext cx="25416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788000" y="5241960"/>
              <a:ext cx="331560" cy="177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03840" y="5295960"/>
              <a:ext cx="345960" cy="195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35520" y="5389920"/>
              <a:ext cx="347760" cy="1792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54600" y="5446800"/>
              <a:ext cx="357120" cy="187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75120" y="5510520"/>
              <a:ext cx="365040" cy="188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896000" y="5569200"/>
              <a:ext cx="245880" cy="135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917960" y="5634360"/>
              <a:ext cx="138240" cy="69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895480" y="5442120"/>
              <a:ext cx="127080" cy="158760"/>
            </a:xfrm>
            <a:custGeom>
              <a:avLst/>
              <a:gdLst/>
              <a:ahLst/>
              <a:rect l="l" t="t" r="r" b="b"/>
              <a:pathLst>
                <a:path w="117" h="145">
                  <a:moveTo>
                    <a:pt x="101" y="31"/>
                  </a:moveTo>
                  <a:lnTo>
                    <a:pt x="93" y="21"/>
                  </a:lnTo>
                  <a:lnTo>
                    <a:pt x="83" y="13"/>
                  </a:lnTo>
                  <a:lnTo>
                    <a:pt x="73" y="5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1" y="11"/>
                  </a:lnTo>
                  <a:lnTo>
                    <a:pt x="13" y="18"/>
                  </a:lnTo>
                  <a:lnTo>
                    <a:pt x="8" y="29"/>
                  </a:lnTo>
                  <a:lnTo>
                    <a:pt x="3" y="42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3" y="81"/>
                  </a:lnTo>
                  <a:lnTo>
                    <a:pt x="8" y="96"/>
                  </a:lnTo>
                  <a:lnTo>
                    <a:pt x="13" y="109"/>
                  </a:lnTo>
                  <a:lnTo>
                    <a:pt x="21" y="119"/>
                  </a:lnTo>
                  <a:lnTo>
                    <a:pt x="28" y="130"/>
                  </a:lnTo>
                  <a:lnTo>
                    <a:pt x="39" y="138"/>
                  </a:lnTo>
                  <a:lnTo>
                    <a:pt x="49" y="143"/>
                  </a:lnTo>
                  <a:lnTo>
                    <a:pt x="60" y="145"/>
                  </a:lnTo>
                  <a:lnTo>
                    <a:pt x="73" y="145"/>
                  </a:lnTo>
                  <a:lnTo>
                    <a:pt x="83" y="143"/>
                  </a:lnTo>
                  <a:lnTo>
                    <a:pt x="91" y="138"/>
                  </a:lnTo>
                  <a:lnTo>
                    <a:pt x="98" y="130"/>
                  </a:lnTo>
                  <a:lnTo>
                    <a:pt x="106" y="119"/>
                  </a:lnTo>
                  <a:lnTo>
                    <a:pt x="111" y="109"/>
                  </a:lnTo>
                  <a:lnTo>
                    <a:pt x="114" y="96"/>
                  </a:lnTo>
                  <a:lnTo>
                    <a:pt x="117" y="83"/>
                  </a:lnTo>
                  <a:lnTo>
                    <a:pt x="114" y="68"/>
                  </a:lnTo>
                  <a:lnTo>
                    <a:pt x="111" y="5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320" y="5442120"/>
              <a:ext cx="351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81160" y="5599440"/>
              <a:ext cx="32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89320" y="5442120"/>
              <a:ext cx="74520" cy="158760"/>
            </a:xfrm>
            <a:custGeom>
              <a:avLst/>
              <a:gdLst/>
              <a:ahLst/>
              <a:rect l="l" t="t" r="r" b="b"/>
              <a:pathLst>
                <a:path w="68" h="145">
                  <a:moveTo>
                    <a:pt x="18" y="145"/>
                  </a:moveTo>
                  <a:lnTo>
                    <a:pt x="29" y="145"/>
                  </a:lnTo>
                  <a:lnTo>
                    <a:pt x="37" y="140"/>
                  </a:lnTo>
                  <a:lnTo>
                    <a:pt x="47" y="135"/>
                  </a:lnTo>
                  <a:lnTo>
                    <a:pt x="55" y="127"/>
                  </a:lnTo>
                  <a:lnTo>
                    <a:pt x="60" y="117"/>
                  </a:lnTo>
                  <a:lnTo>
                    <a:pt x="65" y="104"/>
                  </a:lnTo>
                  <a:lnTo>
                    <a:pt x="65" y="91"/>
                  </a:lnTo>
                  <a:lnTo>
                    <a:pt x="68" y="78"/>
                  </a:lnTo>
                  <a:lnTo>
                    <a:pt x="65" y="65"/>
                  </a:lnTo>
                  <a:lnTo>
                    <a:pt x="62" y="52"/>
                  </a:lnTo>
                  <a:lnTo>
                    <a:pt x="55" y="39"/>
                  </a:lnTo>
                  <a:lnTo>
                    <a:pt x="49" y="26"/>
                  </a:lnTo>
                  <a:lnTo>
                    <a:pt x="39" y="16"/>
                  </a:lnTo>
                  <a:lnTo>
                    <a:pt x="31" y="8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0920" y="5600880"/>
              <a:ext cx="1719360" cy="638280"/>
            </a:xfrm>
            <a:custGeom>
              <a:avLst/>
              <a:gdLst/>
              <a:ahLst/>
              <a:rect l="l" t="t" r="r" b="b"/>
              <a:pathLst>
                <a:path w="1571" h="586">
                  <a:moveTo>
                    <a:pt x="0" y="0"/>
                  </a:moveTo>
                  <a:lnTo>
                    <a:pt x="49" y="117"/>
                  </a:lnTo>
                  <a:lnTo>
                    <a:pt x="111" y="226"/>
                  </a:lnTo>
                  <a:lnTo>
                    <a:pt x="189" y="327"/>
                  </a:lnTo>
                  <a:lnTo>
                    <a:pt x="280" y="415"/>
                  </a:lnTo>
                  <a:lnTo>
                    <a:pt x="384" y="485"/>
                  </a:lnTo>
                  <a:lnTo>
                    <a:pt x="500" y="540"/>
                  </a:lnTo>
                  <a:lnTo>
                    <a:pt x="622" y="573"/>
                  </a:lnTo>
                  <a:lnTo>
                    <a:pt x="746" y="586"/>
                  </a:lnTo>
                  <a:lnTo>
                    <a:pt x="873" y="581"/>
                  </a:lnTo>
                  <a:lnTo>
                    <a:pt x="998" y="555"/>
                  </a:lnTo>
                  <a:lnTo>
                    <a:pt x="1120" y="516"/>
                  </a:lnTo>
                  <a:lnTo>
                    <a:pt x="1231" y="459"/>
                  </a:lnTo>
                  <a:lnTo>
                    <a:pt x="1335" y="387"/>
                  </a:lnTo>
                  <a:lnTo>
                    <a:pt x="1423" y="298"/>
                  </a:lnTo>
                  <a:lnTo>
                    <a:pt x="1571" y="94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905200" y="5477040"/>
              <a:ext cx="10008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3005280" y="5469120"/>
              <a:ext cx="136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916360" y="5502240"/>
              <a:ext cx="101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3017880" y="5491080"/>
              <a:ext cx="138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141720" y="5469120"/>
              <a:ext cx="1440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46560" y="5477040"/>
              <a:ext cx="2397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67080" y="5524560"/>
              <a:ext cx="243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516480" y="5639040"/>
              <a:ext cx="316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3548160" y="5533920"/>
              <a:ext cx="205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548160" y="56563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3573360" y="5533920"/>
              <a:ext cx="208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3516480" y="4764240"/>
              <a:ext cx="145800" cy="8748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586320" y="5534280"/>
              <a:ext cx="23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586320" y="5689800"/>
              <a:ext cx="3312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3619440" y="4810320"/>
              <a:ext cx="139680" cy="905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3619440" y="5698800"/>
              <a:ext cx="3816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3657600" y="4800600"/>
              <a:ext cx="142920" cy="8982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610080" y="5491080"/>
              <a:ext cx="4680" cy="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586320" y="5480280"/>
              <a:ext cx="28440" cy="284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3" y="26"/>
                  </a:moveTo>
                  <a:lnTo>
                    <a:pt x="28" y="15"/>
                  </a:lnTo>
                  <a:lnTo>
                    <a:pt x="23" y="3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11600" y="5347080"/>
              <a:ext cx="449280" cy="147600"/>
            </a:xfrm>
            <a:custGeom>
              <a:avLst/>
              <a:gdLst/>
              <a:ahLst/>
              <a:rect l="l" t="t" r="r" b="b"/>
              <a:pathLst>
                <a:path w="410" h="135">
                  <a:moveTo>
                    <a:pt x="0" y="0"/>
                  </a:moveTo>
                  <a:lnTo>
                    <a:pt x="89" y="75"/>
                  </a:lnTo>
                  <a:lnTo>
                    <a:pt x="187" y="127"/>
                  </a:lnTo>
                  <a:lnTo>
                    <a:pt x="296" y="135"/>
                  </a:lnTo>
                  <a:lnTo>
                    <a:pt x="410" y="117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72080" y="4973760"/>
              <a:ext cx="260280" cy="237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10000" y="4981680"/>
              <a:ext cx="114120" cy="6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67040" y="5004000"/>
              <a:ext cx="268560" cy="205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22600" y="5010480"/>
              <a:ext cx="9864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82880" y="5035680"/>
              <a:ext cx="258840" cy="144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3533760" y="5035320"/>
              <a:ext cx="8100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81440" y="5058000"/>
              <a:ext cx="264960" cy="15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544920" y="5069160"/>
              <a:ext cx="6516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68840" y="5091480"/>
              <a:ext cx="285480" cy="126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3556080" y="5100480"/>
              <a:ext cx="4752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49760" y="5118480"/>
              <a:ext cx="320760" cy="219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43280" y="5154840"/>
              <a:ext cx="6840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38600" y="5185080"/>
              <a:ext cx="8712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33920" y="5232600"/>
              <a:ext cx="9504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24200" y="5274000"/>
              <a:ext cx="14436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51200" y="5318280"/>
              <a:ext cx="142920" cy="6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828960" y="5379840"/>
              <a:ext cx="76320" cy="32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083120" y="5394600"/>
              <a:ext cx="182520" cy="126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56040" y="5326200"/>
              <a:ext cx="281160" cy="15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24360" y="5281920"/>
              <a:ext cx="252360" cy="7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902040" y="5232600"/>
              <a:ext cx="22392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63880" y="5191200"/>
              <a:ext cx="236520" cy="7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57760" y="5156280"/>
              <a:ext cx="223560" cy="9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613320" y="4416480"/>
              <a:ext cx="61920" cy="358920"/>
            </a:xfrm>
            <a:custGeom>
              <a:avLst/>
              <a:gdLst/>
              <a:ahLst/>
              <a:rect l="l" t="t" r="r" b="b"/>
              <a:pathLst>
                <a:path w="39" h="226">
                  <a:moveTo>
                    <a:pt x="27" y="0"/>
                  </a:moveTo>
                  <a:lnTo>
                    <a:pt x="16" y="25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3" y="155"/>
                  </a:lnTo>
                  <a:lnTo>
                    <a:pt x="9" y="179"/>
                  </a:lnTo>
                  <a:lnTo>
                    <a:pt x="18" y="198"/>
                  </a:lnTo>
                  <a:lnTo>
                    <a:pt x="28" y="212"/>
                  </a:lnTo>
                  <a:lnTo>
                    <a:pt x="34" y="226"/>
                  </a:lnTo>
                  <a:lnTo>
                    <a:pt x="33" y="215"/>
                  </a:lnTo>
                  <a:lnTo>
                    <a:pt x="38" y="218"/>
                  </a:lnTo>
                  <a:lnTo>
                    <a:pt x="33" y="220"/>
                  </a:lnTo>
                  <a:lnTo>
                    <a:pt x="36" y="218"/>
                  </a:lnTo>
                  <a:lnTo>
                    <a:pt x="33" y="215"/>
                  </a:lnTo>
                  <a:lnTo>
                    <a:pt x="34" y="218"/>
                  </a:lnTo>
                  <a:lnTo>
                    <a:pt x="39" y="221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18080" y="4464360"/>
              <a:ext cx="54000" cy="115920"/>
            </a:xfrm>
            <a:custGeom>
              <a:avLst/>
              <a:gdLst/>
              <a:ahLst/>
              <a:rect l="l" t="t" r="r" b="b"/>
              <a:pathLst>
                <a:path w="49" h="107">
                  <a:moveTo>
                    <a:pt x="36" y="0"/>
                  </a:moveTo>
                  <a:lnTo>
                    <a:pt x="31" y="0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3" y="19"/>
                  </a:lnTo>
                  <a:lnTo>
                    <a:pt x="10" y="26"/>
                  </a:lnTo>
                  <a:lnTo>
                    <a:pt x="5" y="37"/>
                  </a:lnTo>
                  <a:lnTo>
                    <a:pt x="2" y="47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0" y="76"/>
                  </a:lnTo>
                  <a:lnTo>
                    <a:pt x="2" y="83"/>
                  </a:lnTo>
                  <a:lnTo>
                    <a:pt x="2" y="91"/>
                  </a:lnTo>
                  <a:lnTo>
                    <a:pt x="5" y="99"/>
                  </a:lnTo>
                  <a:lnTo>
                    <a:pt x="10" y="102"/>
                  </a:lnTo>
                  <a:lnTo>
                    <a:pt x="13" y="107"/>
                  </a:lnTo>
                  <a:lnTo>
                    <a:pt x="18" y="107"/>
                  </a:lnTo>
                  <a:lnTo>
                    <a:pt x="23" y="104"/>
                  </a:lnTo>
                  <a:lnTo>
                    <a:pt x="25" y="102"/>
                  </a:lnTo>
                  <a:lnTo>
                    <a:pt x="31" y="96"/>
                  </a:lnTo>
                  <a:lnTo>
                    <a:pt x="36" y="91"/>
                  </a:lnTo>
                  <a:lnTo>
                    <a:pt x="41" y="83"/>
                  </a:lnTo>
                  <a:lnTo>
                    <a:pt x="44" y="76"/>
                  </a:lnTo>
                  <a:lnTo>
                    <a:pt x="46" y="65"/>
                  </a:lnTo>
                  <a:lnTo>
                    <a:pt x="49" y="55"/>
                  </a:lnTo>
                  <a:lnTo>
                    <a:pt x="49" y="4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49" y="19"/>
                  </a:lnTo>
                  <a:lnTo>
                    <a:pt x="46" y="11"/>
                  </a:lnTo>
                  <a:lnTo>
                    <a:pt x="44" y="6"/>
                  </a:lnTo>
                  <a:lnTo>
                    <a:pt x="38" y="0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2520" y="4427640"/>
              <a:ext cx="108000" cy="187560"/>
            </a:xfrm>
            <a:custGeom>
              <a:avLst/>
              <a:gdLst/>
              <a:ahLst/>
              <a:rect l="l" t="t" r="r" b="b"/>
              <a:pathLst>
                <a:path w="99" h="171">
                  <a:moveTo>
                    <a:pt x="65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37" y="10"/>
                  </a:lnTo>
                  <a:lnTo>
                    <a:pt x="29" y="18"/>
                  </a:lnTo>
                  <a:lnTo>
                    <a:pt x="21" y="28"/>
                  </a:lnTo>
                  <a:lnTo>
                    <a:pt x="13" y="44"/>
                  </a:lnTo>
                  <a:lnTo>
                    <a:pt x="8" y="57"/>
                  </a:lnTo>
                  <a:lnTo>
                    <a:pt x="3" y="72"/>
                  </a:lnTo>
                  <a:lnTo>
                    <a:pt x="0" y="90"/>
                  </a:lnTo>
                  <a:lnTo>
                    <a:pt x="0" y="106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8" y="147"/>
                  </a:lnTo>
                  <a:lnTo>
                    <a:pt x="13" y="158"/>
                  </a:lnTo>
                  <a:lnTo>
                    <a:pt x="21" y="166"/>
                  </a:lnTo>
                  <a:lnTo>
                    <a:pt x="29" y="171"/>
                  </a:lnTo>
                  <a:lnTo>
                    <a:pt x="37" y="171"/>
                  </a:lnTo>
                  <a:lnTo>
                    <a:pt x="47" y="171"/>
                  </a:lnTo>
                  <a:lnTo>
                    <a:pt x="57" y="166"/>
                  </a:lnTo>
                  <a:lnTo>
                    <a:pt x="65" y="158"/>
                  </a:lnTo>
                  <a:lnTo>
                    <a:pt x="73" y="147"/>
                  </a:lnTo>
                  <a:lnTo>
                    <a:pt x="81" y="137"/>
                  </a:lnTo>
                  <a:lnTo>
                    <a:pt x="88" y="122"/>
                  </a:lnTo>
                  <a:lnTo>
                    <a:pt x="94" y="106"/>
                  </a:lnTo>
                  <a:lnTo>
                    <a:pt x="96" y="90"/>
                  </a:lnTo>
                  <a:lnTo>
                    <a:pt x="99" y="75"/>
                  </a:lnTo>
                  <a:lnTo>
                    <a:pt x="99" y="59"/>
                  </a:lnTo>
                  <a:lnTo>
                    <a:pt x="96" y="44"/>
                  </a:lnTo>
                  <a:lnTo>
                    <a:pt x="94" y="31"/>
                  </a:lnTo>
                  <a:lnTo>
                    <a:pt x="88" y="18"/>
                  </a:lnTo>
                  <a:lnTo>
                    <a:pt x="81" y="10"/>
                  </a:lnTo>
                  <a:lnTo>
                    <a:pt x="73" y="5"/>
                  </a:lnTo>
                  <a:lnTo>
                    <a:pt x="65" y="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87920" y="4572360"/>
              <a:ext cx="145800" cy="28224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33720" y="4854600"/>
              <a:ext cx="238320" cy="1116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4167000" y="4835520"/>
              <a:ext cx="4680" cy="298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3959280" y="4822920"/>
              <a:ext cx="208080" cy="1296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 flipV="1">
              <a:off x="3805200" y="4535640"/>
              <a:ext cx="154080" cy="2872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 flipV="1">
              <a:off x="3646080" y="4314600"/>
              <a:ext cx="65160" cy="14940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3595320" y="4300560"/>
              <a:ext cx="96840" cy="19044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675240" y="4326120"/>
              <a:ext cx="198360" cy="304920"/>
            </a:xfrm>
            <a:custGeom>
              <a:avLst/>
              <a:gdLst/>
              <a:ahLst/>
              <a:rect l="l" t="t" r="r" b="b"/>
              <a:pathLst>
                <a:path w="181" h="280">
                  <a:moveTo>
                    <a:pt x="166" y="280"/>
                  </a:moveTo>
                  <a:lnTo>
                    <a:pt x="176" y="241"/>
                  </a:lnTo>
                  <a:lnTo>
                    <a:pt x="181" y="203"/>
                  </a:lnTo>
                  <a:lnTo>
                    <a:pt x="181" y="164"/>
                  </a:lnTo>
                  <a:lnTo>
                    <a:pt x="179" y="125"/>
                  </a:lnTo>
                  <a:lnTo>
                    <a:pt x="173" y="91"/>
                  </a:lnTo>
                  <a:lnTo>
                    <a:pt x="160" y="60"/>
                  </a:lnTo>
                  <a:lnTo>
                    <a:pt x="147" y="34"/>
                  </a:lnTo>
                  <a:lnTo>
                    <a:pt x="129" y="16"/>
                  </a:lnTo>
                  <a:lnTo>
                    <a:pt x="111" y="3"/>
                  </a:lnTo>
                  <a:lnTo>
                    <a:pt x="88" y="0"/>
                  </a:lnTo>
                  <a:lnTo>
                    <a:pt x="67" y="3"/>
                  </a:lnTo>
                  <a:lnTo>
                    <a:pt x="44" y="13"/>
                  </a:lnTo>
                  <a:lnTo>
                    <a:pt x="20" y="29"/>
                  </a:lnTo>
                  <a:lnTo>
                    <a:pt x="0" y="55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09880" y="4338720"/>
              <a:ext cx="93960" cy="333360"/>
            </a:xfrm>
            <a:custGeom>
              <a:avLst/>
              <a:gdLst/>
              <a:ahLst/>
              <a:rect l="l" t="t" r="r" b="b"/>
              <a:pathLst>
                <a:path w="59" h="210">
                  <a:moveTo>
                    <a:pt x="46" y="210"/>
                  </a:moveTo>
                  <a:lnTo>
                    <a:pt x="50" y="189"/>
                  </a:lnTo>
                  <a:lnTo>
                    <a:pt x="56" y="165"/>
                  </a:lnTo>
                  <a:lnTo>
                    <a:pt x="58" y="141"/>
                  </a:lnTo>
                  <a:lnTo>
                    <a:pt x="59" y="115"/>
                  </a:lnTo>
                  <a:lnTo>
                    <a:pt x="58" y="89"/>
                  </a:lnTo>
                  <a:lnTo>
                    <a:pt x="52" y="66"/>
                  </a:lnTo>
                  <a:lnTo>
                    <a:pt x="47" y="46"/>
                  </a:lnTo>
                  <a:lnTo>
                    <a:pt x="37" y="28"/>
                  </a:lnTo>
                  <a:lnTo>
                    <a:pt x="25" y="1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924360" y="4591080"/>
              <a:ext cx="1746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935520" y="4561200"/>
              <a:ext cx="1648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99120" y="4569120"/>
              <a:ext cx="9360" cy="3312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24"/>
                  </a:lnTo>
                  <a:lnTo>
                    <a:pt x="8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70400" y="4575240"/>
              <a:ext cx="139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75080" y="4602240"/>
              <a:ext cx="1303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46400" y="4496040"/>
              <a:ext cx="52560" cy="12060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16" y="96"/>
                  </a:moveTo>
                  <a:lnTo>
                    <a:pt x="39" y="111"/>
                  </a:lnTo>
                  <a:lnTo>
                    <a:pt x="47" y="85"/>
                  </a:lnTo>
                  <a:lnTo>
                    <a:pt x="44" y="28"/>
                  </a:lnTo>
                  <a:lnTo>
                    <a:pt x="34" y="0"/>
                  </a:lnTo>
                  <a:lnTo>
                    <a:pt x="11" y="8"/>
                  </a:lnTo>
                  <a:lnTo>
                    <a:pt x="0" y="62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86360" y="4372200"/>
              <a:ext cx="98280" cy="369720"/>
            </a:xfrm>
            <a:custGeom>
              <a:avLst/>
              <a:gdLst/>
              <a:ahLst/>
              <a:rect l="l" t="t" r="r" b="b"/>
              <a:pathLst>
                <a:path w="91" h="339">
                  <a:moveTo>
                    <a:pt x="0" y="0"/>
                  </a:moveTo>
                  <a:lnTo>
                    <a:pt x="50" y="23"/>
                  </a:lnTo>
                  <a:lnTo>
                    <a:pt x="81" y="59"/>
                  </a:lnTo>
                  <a:lnTo>
                    <a:pt x="91" y="166"/>
                  </a:lnTo>
                  <a:lnTo>
                    <a:pt x="89" y="269"/>
                  </a:lnTo>
                  <a:lnTo>
                    <a:pt x="70" y="316"/>
                  </a:lnTo>
                  <a:lnTo>
                    <a:pt x="24" y="339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83120" y="4424400"/>
              <a:ext cx="68040" cy="271800"/>
            </a:xfrm>
            <a:custGeom>
              <a:avLst/>
              <a:gdLst/>
              <a:ahLst/>
              <a:rect l="l" t="t" r="r" b="b"/>
              <a:pathLst>
                <a:path w="62" h="249">
                  <a:moveTo>
                    <a:pt x="0" y="0"/>
                  </a:moveTo>
                  <a:lnTo>
                    <a:pt x="39" y="18"/>
                  </a:lnTo>
                  <a:lnTo>
                    <a:pt x="57" y="49"/>
                  </a:lnTo>
                  <a:lnTo>
                    <a:pt x="62" y="132"/>
                  </a:lnTo>
                  <a:lnTo>
                    <a:pt x="62" y="213"/>
                  </a:lnTo>
                  <a:lnTo>
                    <a:pt x="47" y="249"/>
                  </a:lnTo>
                  <a:lnTo>
                    <a:pt x="5" y="24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65480" y="4492800"/>
              <a:ext cx="58680" cy="131760"/>
            </a:xfrm>
            <a:custGeom>
              <a:avLst/>
              <a:gdLst/>
              <a:ahLst/>
              <a:rect l="l" t="t" r="r" b="b"/>
              <a:pathLst>
                <a:path w="52" h="120">
                  <a:moveTo>
                    <a:pt x="11" y="0"/>
                  </a:moveTo>
                  <a:lnTo>
                    <a:pt x="37" y="3"/>
                  </a:lnTo>
                  <a:lnTo>
                    <a:pt x="50" y="24"/>
                  </a:lnTo>
                  <a:lnTo>
                    <a:pt x="52" y="73"/>
                  </a:lnTo>
                  <a:lnTo>
                    <a:pt x="52" y="99"/>
                  </a:lnTo>
                  <a:lnTo>
                    <a:pt x="39" y="120"/>
                  </a:lnTo>
                  <a:lnTo>
                    <a:pt x="13" y="117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24160" y="4567320"/>
              <a:ext cx="1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25960" y="4597560"/>
              <a:ext cx="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51160" y="4567320"/>
              <a:ext cx="1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51160" y="4597560"/>
              <a:ext cx="1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91120" y="4569120"/>
              <a:ext cx="110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184640" y="4597560"/>
              <a:ext cx="1173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435560" y="4550040"/>
              <a:ext cx="68040" cy="10800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21" y="24"/>
                  </a:moveTo>
                  <a:lnTo>
                    <a:pt x="37" y="0"/>
                  </a:lnTo>
                  <a:lnTo>
                    <a:pt x="62" y="5"/>
                  </a:lnTo>
                  <a:lnTo>
                    <a:pt x="62" y="60"/>
                  </a:lnTo>
                  <a:lnTo>
                    <a:pt x="52" y="88"/>
                  </a:lnTo>
                  <a:lnTo>
                    <a:pt x="29" y="99"/>
                  </a:lnTo>
                  <a:lnTo>
                    <a:pt x="5" y="81"/>
                  </a:lnTo>
                  <a:lnTo>
                    <a:pt x="0" y="52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75160" y="4451400"/>
              <a:ext cx="84240" cy="27324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10" y="6"/>
                  </a:moveTo>
                  <a:lnTo>
                    <a:pt x="31" y="0"/>
                  </a:lnTo>
                  <a:lnTo>
                    <a:pt x="49" y="11"/>
                  </a:lnTo>
                  <a:lnTo>
                    <a:pt x="72" y="47"/>
                  </a:lnTo>
                  <a:lnTo>
                    <a:pt x="77" y="133"/>
                  </a:lnTo>
                  <a:lnTo>
                    <a:pt x="64" y="216"/>
                  </a:lnTo>
                  <a:lnTo>
                    <a:pt x="41" y="252"/>
                  </a:lnTo>
                  <a:lnTo>
                    <a:pt x="0" y="252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471920" y="4405680"/>
              <a:ext cx="138240" cy="387360"/>
            </a:xfrm>
            <a:custGeom>
              <a:avLst/>
              <a:gdLst/>
              <a:ahLst/>
              <a:rect l="l" t="t" r="r" b="b"/>
              <a:pathLst>
                <a:path w="127" h="355">
                  <a:moveTo>
                    <a:pt x="16" y="0"/>
                  </a:moveTo>
                  <a:lnTo>
                    <a:pt x="75" y="16"/>
                  </a:lnTo>
                  <a:lnTo>
                    <a:pt x="111" y="62"/>
                  </a:lnTo>
                  <a:lnTo>
                    <a:pt x="127" y="184"/>
                  </a:lnTo>
                  <a:lnTo>
                    <a:pt x="122" y="244"/>
                  </a:lnTo>
                  <a:lnTo>
                    <a:pt x="101" y="301"/>
                  </a:lnTo>
                  <a:lnTo>
                    <a:pt x="60" y="342"/>
                  </a:lnTo>
                  <a:lnTo>
                    <a:pt x="0" y="355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410000" y="4346640"/>
              <a:ext cx="52560" cy="228600"/>
            </a:xfrm>
            <a:custGeom>
              <a:avLst/>
              <a:gdLst/>
              <a:ahLst/>
              <a:rect l="l" t="t" r="r" b="b"/>
              <a:pathLst>
                <a:path w="47" h="210">
                  <a:moveTo>
                    <a:pt x="47" y="0"/>
                  </a:moveTo>
                  <a:lnTo>
                    <a:pt x="10" y="103"/>
                  </a:lnTo>
                  <a:lnTo>
                    <a:pt x="0" y="210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90920" y="4607280"/>
              <a:ext cx="88920" cy="18576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83" y="171"/>
                  </a:moveTo>
                  <a:lnTo>
                    <a:pt x="36" y="150"/>
                  </a:lnTo>
                  <a:lnTo>
                    <a:pt x="10" y="10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08360" y="4611960"/>
              <a:ext cx="184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10160" y="4583160"/>
              <a:ext cx="1825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59400" y="4608720"/>
              <a:ext cx="12600" cy="14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59400" y="4580280"/>
              <a:ext cx="12600" cy="1440"/>
            </a:xfrm>
            <a:prstGeom prst="line">
              <a:avLst/>
            </a:prstGeom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68680" y="4546800"/>
              <a:ext cx="54000" cy="112680"/>
            </a:xfrm>
            <a:custGeom>
              <a:avLst/>
              <a:gdLst/>
              <a:ahLst/>
              <a:rect l="l" t="t" r="r" b="b"/>
              <a:pathLst>
                <a:path w="50" h="103">
                  <a:moveTo>
                    <a:pt x="0" y="5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50" y="49"/>
                  </a:lnTo>
                  <a:lnTo>
                    <a:pt x="39" y="90"/>
                  </a:lnTo>
                  <a:lnTo>
                    <a:pt x="24" y="103"/>
                  </a:lnTo>
                  <a:lnTo>
                    <a:pt x="3" y="103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522680" y="4608720"/>
              <a:ext cx="15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522680" y="4580280"/>
              <a:ext cx="15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414680" y="4459320"/>
              <a:ext cx="123840" cy="268560"/>
            </a:xfrm>
            <a:custGeom>
              <a:avLst/>
              <a:gdLst/>
              <a:ahLst/>
              <a:rect l="l" t="t" r="r" b="b"/>
              <a:pathLst>
                <a:path w="112" h="246">
                  <a:moveTo>
                    <a:pt x="21" y="109"/>
                  </a:moveTo>
                  <a:lnTo>
                    <a:pt x="29" y="42"/>
                  </a:lnTo>
                  <a:lnTo>
                    <a:pt x="47" y="11"/>
                  </a:lnTo>
                  <a:lnTo>
                    <a:pt x="75" y="0"/>
                  </a:lnTo>
                  <a:lnTo>
                    <a:pt x="101" y="29"/>
                  </a:lnTo>
                  <a:lnTo>
                    <a:pt x="106" y="60"/>
                  </a:lnTo>
                  <a:lnTo>
                    <a:pt x="112" y="130"/>
                  </a:lnTo>
                  <a:lnTo>
                    <a:pt x="106" y="197"/>
                  </a:lnTo>
                  <a:lnTo>
                    <a:pt x="93" y="231"/>
                  </a:lnTo>
                  <a:lnTo>
                    <a:pt x="65" y="246"/>
                  </a:lnTo>
                  <a:lnTo>
                    <a:pt x="34" y="231"/>
                  </a:lnTo>
                  <a:lnTo>
                    <a:pt x="16" y="200"/>
                  </a:lnTo>
                  <a:lnTo>
                    <a:pt x="0" y="135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14680" y="4408560"/>
              <a:ext cx="154080" cy="379440"/>
            </a:xfrm>
            <a:custGeom>
              <a:avLst/>
              <a:gdLst/>
              <a:ahLst/>
              <a:rect l="l" t="t" r="r" b="b"/>
              <a:pathLst>
                <a:path w="140" h="347">
                  <a:moveTo>
                    <a:pt x="0" y="155"/>
                  </a:moveTo>
                  <a:lnTo>
                    <a:pt x="11" y="83"/>
                  </a:lnTo>
                  <a:lnTo>
                    <a:pt x="36" y="15"/>
                  </a:lnTo>
                  <a:lnTo>
                    <a:pt x="70" y="0"/>
                  </a:lnTo>
                  <a:lnTo>
                    <a:pt x="104" y="10"/>
                  </a:lnTo>
                  <a:lnTo>
                    <a:pt x="140" y="72"/>
                  </a:lnTo>
                  <a:lnTo>
                    <a:pt x="140" y="217"/>
                  </a:lnTo>
                  <a:lnTo>
                    <a:pt x="119" y="287"/>
                  </a:lnTo>
                  <a:lnTo>
                    <a:pt x="78" y="347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06760" y="4607280"/>
              <a:ext cx="93960" cy="180720"/>
            </a:xfrm>
            <a:custGeom>
              <a:avLst/>
              <a:gdLst/>
              <a:ahLst/>
              <a:rect l="l" t="t" r="r" b="b"/>
              <a:pathLst>
                <a:path w="86" h="166">
                  <a:moveTo>
                    <a:pt x="0" y="0"/>
                  </a:moveTo>
                  <a:lnTo>
                    <a:pt x="0" y="52"/>
                  </a:lnTo>
                  <a:lnTo>
                    <a:pt x="13" y="101"/>
                  </a:lnTo>
                  <a:lnTo>
                    <a:pt x="39" y="145"/>
                  </a:lnTo>
                  <a:lnTo>
                    <a:pt x="86" y="166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4440240" y="4338720"/>
              <a:ext cx="4680" cy="5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89520" y="4591080"/>
              <a:ext cx="164880" cy="24480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0"/>
                  </a:moveTo>
                  <a:lnTo>
                    <a:pt x="52" y="130"/>
                  </a:lnTo>
                  <a:lnTo>
                    <a:pt x="94" y="187"/>
                  </a:lnTo>
                  <a:lnTo>
                    <a:pt x="151" y="223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87720" y="4380120"/>
              <a:ext cx="179640" cy="358920"/>
            </a:xfrm>
            <a:custGeom>
              <a:avLst/>
              <a:gdLst/>
              <a:ahLst/>
              <a:rect l="l" t="t" r="r" b="b"/>
              <a:pathLst>
                <a:path w="163" h="329">
                  <a:moveTo>
                    <a:pt x="36" y="197"/>
                  </a:moveTo>
                  <a:lnTo>
                    <a:pt x="59" y="287"/>
                  </a:lnTo>
                  <a:lnTo>
                    <a:pt x="96" y="324"/>
                  </a:lnTo>
                  <a:lnTo>
                    <a:pt x="119" y="329"/>
                  </a:lnTo>
                  <a:lnTo>
                    <a:pt x="140" y="318"/>
                  </a:lnTo>
                  <a:lnTo>
                    <a:pt x="163" y="274"/>
                  </a:lnTo>
                  <a:lnTo>
                    <a:pt x="163" y="228"/>
                  </a:lnTo>
                  <a:lnTo>
                    <a:pt x="158" y="132"/>
                  </a:lnTo>
                  <a:lnTo>
                    <a:pt x="140" y="41"/>
                  </a:lnTo>
                  <a:lnTo>
                    <a:pt x="109" y="2"/>
                  </a:lnTo>
                  <a:lnTo>
                    <a:pt x="65" y="0"/>
                  </a:lnTo>
                  <a:lnTo>
                    <a:pt x="26" y="28"/>
                  </a:lnTo>
                  <a:lnTo>
                    <a:pt x="8" y="70"/>
                  </a:lnTo>
                  <a:lnTo>
                    <a:pt x="0" y="166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24440" y="4427640"/>
              <a:ext cx="117360" cy="266760"/>
            </a:xfrm>
            <a:custGeom>
              <a:avLst/>
              <a:gdLst/>
              <a:ahLst/>
              <a:rect l="l" t="t" r="r" b="b"/>
              <a:pathLst>
                <a:path w="107" h="243">
                  <a:moveTo>
                    <a:pt x="21" y="153"/>
                  </a:moveTo>
                  <a:lnTo>
                    <a:pt x="45" y="220"/>
                  </a:lnTo>
                  <a:lnTo>
                    <a:pt x="63" y="243"/>
                  </a:lnTo>
                  <a:lnTo>
                    <a:pt x="91" y="228"/>
                  </a:lnTo>
                  <a:lnTo>
                    <a:pt x="107" y="197"/>
                  </a:lnTo>
                  <a:lnTo>
                    <a:pt x="107" y="163"/>
                  </a:lnTo>
                  <a:lnTo>
                    <a:pt x="102" y="98"/>
                  </a:lnTo>
                  <a:lnTo>
                    <a:pt x="89" y="31"/>
                  </a:lnTo>
                  <a:lnTo>
                    <a:pt x="68" y="5"/>
                  </a:lnTo>
                  <a:lnTo>
                    <a:pt x="37" y="0"/>
                  </a:lnTo>
                  <a:lnTo>
                    <a:pt x="11" y="26"/>
                  </a:lnTo>
                  <a:lnTo>
                    <a:pt x="0" y="57"/>
                  </a:lnTo>
                  <a:lnTo>
                    <a:pt x="0" y="124"/>
                  </a:lnTo>
                </a:path>
              </a:pathLst>
            </a:custGeom>
            <a:noFill/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038560" y="4162680"/>
              <a:ext cx="690840" cy="1050840"/>
            </a:xfrm>
            <a:custGeom>
              <a:avLst/>
              <a:gdLst/>
              <a:ahLst/>
              <a:rect l="l" t="t" r="r" b="b"/>
              <a:pathLst>
                <a:path w="630" h="964">
                  <a:moveTo>
                    <a:pt x="0" y="801"/>
                  </a:moveTo>
                  <a:lnTo>
                    <a:pt x="24" y="863"/>
                  </a:lnTo>
                  <a:lnTo>
                    <a:pt x="55" y="912"/>
                  </a:lnTo>
                  <a:lnTo>
                    <a:pt x="99" y="946"/>
                  </a:lnTo>
                  <a:lnTo>
                    <a:pt x="148" y="964"/>
                  </a:lnTo>
                  <a:lnTo>
                    <a:pt x="202" y="962"/>
                  </a:lnTo>
                  <a:lnTo>
                    <a:pt x="262" y="944"/>
                  </a:lnTo>
                  <a:lnTo>
                    <a:pt x="324" y="910"/>
                  </a:lnTo>
                  <a:lnTo>
                    <a:pt x="384" y="858"/>
                  </a:lnTo>
                  <a:lnTo>
                    <a:pt x="441" y="793"/>
                  </a:lnTo>
                  <a:lnTo>
                    <a:pt x="495" y="718"/>
                  </a:lnTo>
                  <a:lnTo>
                    <a:pt x="542" y="635"/>
                  </a:lnTo>
                  <a:lnTo>
                    <a:pt x="578" y="544"/>
                  </a:lnTo>
                  <a:lnTo>
                    <a:pt x="607" y="454"/>
                  </a:lnTo>
                  <a:lnTo>
                    <a:pt x="625" y="360"/>
                  </a:lnTo>
                  <a:lnTo>
                    <a:pt x="630" y="275"/>
                  </a:lnTo>
                  <a:lnTo>
                    <a:pt x="625" y="197"/>
                  </a:lnTo>
                  <a:lnTo>
                    <a:pt x="607" y="127"/>
                  </a:lnTo>
                  <a:lnTo>
                    <a:pt x="578" y="73"/>
                  </a:lnTo>
                  <a:lnTo>
                    <a:pt x="542" y="31"/>
                  </a:lnTo>
                  <a:lnTo>
                    <a:pt x="495" y="8"/>
                  </a:lnTo>
                  <a:lnTo>
                    <a:pt x="441" y="0"/>
                  </a:lnTo>
                  <a:lnTo>
                    <a:pt x="384" y="10"/>
                  </a:lnTo>
                  <a:lnTo>
                    <a:pt x="324" y="36"/>
                  </a:lnTo>
                  <a:lnTo>
                    <a:pt x="262" y="80"/>
                  </a:lnTo>
                  <a:lnTo>
                    <a:pt x="202" y="1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35400" y="3973680"/>
              <a:ext cx="779760" cy="1482840"/>
            </a:xfrm>
            <a:custGeom>
              <a:avLst/>
              <a:gdLst/>
              <a:ahLst/>
              <a:rect l="l" t="t" r="r" b="b"/>
              <a:pathLst>
                <a:path w="713" h="1361">
                  <a:moveTo>
                    <a:pt x="0" y="1356"/>
                  </a:moveTo>
                  <a:lnTo>
                    <a:pt x="50" y="1361"/>
                  </a:lnTo>
                  <a:lnTo>
                    <a:pt x="83" y="1353"/>
                  </a:lnTo>
                  <a:lnTo>
                    <a:pt x="130" y="1346"/>
                  </a:lnTo>
                  <a:lnTo>
                    <a:pt x="182" y="1327"/>
                  </a:lnTo>
                  <a:lnTo>
                    <a:pt x="241" y="1278"/>
                  </a:lnTo>
                  <a:lnTo>
                    <a:pt x="298" y="1247"/>
                  </a:lnTo>
                  <a:lnTo>
                    <a:pt x="405" y="1167"/>
                  </a:lnTo>
                  <a:lnTo>
                    <a:pt x="495" y="1068"/>
                  </a:lnTo>
                  <a:lnTo>
                    <a:pt x="573" y="952"/>
                  </a:lnTo>
                  <a:lnTo>
                    <a:pt x="635" y="822"/>
                  </a:lnTo>
                  <a:lnTo>
                    <a:pt x="682" y="687"/>
                  </a:lnTo>
                  <a:lnTo>
                    <a:pt x="708" y="550"/>
                  </a:lnTo>
                  <a:lnTo>
                    <a:pt x="713" y="415"/>
                  </a:lnTo>
                  <a:lnTo>
                    <a:pt x="695" y="286"/>
                  </a:lnTo>
                  <a:lnTo>
                    <a:pt x="646" y="164"/>
                  </a:lnTo>
                  <a:lnTo>
                    <a:pt x="604" y="112"/>
                  </a:lnTo>
                  <a:lnTo>
                    <a:pt x="555" y="65"/>
                  </a:lnTo>
                  <a:lnTo>
                    <a:pt x="493" y="29"/>
                  </a:lnTo>
                  <a:lnTo>
                    <a:pt x="425" y="6"/>
                  </a:lnTo>
                  <a:lnTo>
                    <a:pt x="356" y="0"/>
                  </a:lnTo>
                  <a:lnTo>
                    <a:pt x="291" y="8"/>
                  </a:lnTo>
                  <a:lnTo>
                    <a:pt x="166" y="52"/>
                  </a:lnTo>
                  <a:lnTo>
                    <a:pt x="60" y="125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00560" y="4108680"/>
              <a:ext cx="60480" cy="2062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4903920" y="4206960"/>
              <a:ext cx="357120" cy="1080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4835520" y="4008240"/>
              <a:ext cx="68400" cy="198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53040" y="4089600"/>
              <a:ext cx="50760" cy="181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4925880" y="4185000"/>
              <a:ext cx="277920" cy="85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4871880" y="4008600"/>
              <a:ext cx="54000" cy="1764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53040" y="3949920"/>
              <a:ext cx="585720" cy="139680"/>
            </a:xfrm>
            <a:custGeom>
              <a:avLst/>
              <a:gdLst/>
              <a:ahLst/>
              <a:rect l="l" t="t" r="r" b="b"/>
              <a:pathLst>
                <a:path w="536" h="127">
                  <a:moveTo>
                    <a:pt x="536" y="80"/>
                  </a:moveTo>
                  <a:lnTo>
                    <a:pt x="498" y="36"/>
                  </a:lnTo>
                  <a:lnTo>
                    <a:pt x="466" y="18"/>
                  </a:lnTo>
                  <a:lnTo>
                    <a:pt x="451" y="13"/>
                  </a:lnTo>
                  <a:lnTo>
                    <a:pt x="407" y="2"/>
                  </a:lnTo>
                  <a:lnTo>
                    <a:pt x="329" y="0"/>
                  </a:lnTo>
                  <a:lnTo>
                    <a:pt x="207" y="13"/>
                  </a:lnTo>
                  <a:lnTo>
                    <a:pt x="98" y="59"/>
                  </a:lnTo>
                  <a:lnTo>
                    <a:pt x="0" y="127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71880" y="3843720"/>
              <a:ext cx="667080" cy="160200"/>
            </a:xfrm>
            <a:custGeom>
              <a:avLst/>
              <a:gdLst/>
              <a:ahLst/>
              <a:rect l="l" t="t" r="r" b="b"/>
              <a:pathLst>
                <a:path w="609" h="148">
                  <a:moveTo>
                    <a:pt x="609" y="96"/>
                  </a:moveTo>
                  <a:lnTo>
                    <a:pt x="516" y="36"/>
                  </a:lnTo>
                  <a:lnTo>
                    <a:pt x="470" y="18"/>
                  </a:lnTo>
                  <a:lnTo>
                    <a:pt x="451" y="13"/>
                  </a:lnTo>
                  <a:lnTo>
                    <a:pt x="405" y="3"/>
                  </a:lnTo>
                  <a:lnTo>
                    <a:pt x="324" y="0"/>
                  </a:lnTo>
                  <a:lnTo>
                    <a:pt x="262" y="11"/>
                  </a:lnTo>
                  <a:lnTo>
                    <a:pt x="205" y="36"/>
                  </a:lnTo>
                  <a:lnTo>
                    <a:pt x="96" y="81"/>
                  </a:lnTo>
                  <a:lnTo>
                    <a:pt x="0" y="148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35520" y="3827520"/>
              <a:ext cx="504720" cy="181080"/>
            </a:xfrm>
            <a:custGeom>
              <a:avLst/>
              <a:gdLst/>
              <a:ahLst/>
              <a:rect l="l" t="t" r="r" b="b"/>
              <a:pathLst>
                <a:path w="461" h="168">
                  <a:moveTo>
                    <a:pt x="0" y="168"/>
                  </a:moveTo>
                  <a:lnTo>
                    <a:pt x="90" y="77"/>
                  </a:lnTo>
                  <a:lnTo>
                    <a:pt x="210" y="23"/>
                  </a:lnTo>
                  <a:lnTo>
                    <a:pt x="337" y="0"/>
                  </a:lnTo>
                  <a:lnTo>
                    <a:pt x="461" y="23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4835520" y="4003560"/>
              <a:ext cx="36360" cy="4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53040" y="4089600"/>
              <a:ext cx="47520" cy="19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29120" y="4051440"/>
              <a:ext cx="36720" cy="6192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1" y="0"/>
                  </a:move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7"/>
                  </a:lnTo>
                  <a:lnTo>
                    <a:pt x="8" y="52"/>
                  </a:lnTo>
                  <a:lnTo>
                    <a:pt x="13" y="54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1" y="57"/>
                  </a:lnTo>
                  <a:lnTo>
                    <a:pt x="26" y="57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4" y="39"/>
                  </a:lnTo>
                  <a:lnTo>
                    <a:pt x="34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1" y="18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75200" y="4065840"/>
              <a:ext cx="38160" cy="63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3" y="0"/>
                  </a:moveTo>
                  <a:lnTo>
                    <a:pt x="7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20" y="57"/>
                  </a:lnTo>
                  <a:lnTo>
                    <a:pt x="23" y="57"/>
                  </a:lnTo>
                  <a:lnTo>
                    <a:pt x="26" y="57"/>
                  </a:lnTo>
                  <a:lnTo>
                    <a:pt x="28" y="54"/>
                  </a:lnTo>
                  <a:lnTo>
                    <a:pt x="31" y="52"/>
                  </a:lnTo>
                  <a:lnTo>
                    <a:pt x="33" y="49"/>
                  </a:lnTo>
                  <a:lnTo>
                    <a:pt x="33" y="44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36" y="28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28" y="8"/>
                  </a:lnTo>
                  <a:lnTo>
                    <a:pt x="26" y="5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30640" y="4083120"/>
              <a:ext cx="39960" cy="637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3" y="0"/>
                  </a:moveTo>
                  <a:lnTo>
                    <a:pt x="7" y="2"/>
                  </a:lnTo>
                  <a:lnTo>
                    <a:pt x="5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20" y="57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8" y="54"/>
                  </a:lnTo>
                  <a:lnTo>
                    <a:pt x="31" y="51"/>
                  </a:lnTo>
                  <a:lnTo>
                    <a:pt x="33" y="49"/>
                  </a:lnTo>
                  <a:lnTo>
                    <a:pt x="33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094360" y="4100760"/>
              <a:ext cx="38160" cy="619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3" y="0"/>
                  </a:move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0" y="57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8" y="54"/>
                  </a:lnTo>
                  <a:lnTo>
                    <a:pt x="31" y="52"/>
                  </a:lnTo>
                  <a:lnTo>
                    <a:pt x="33" y="49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36" y="29"/>
                  </a:lnTo>
                  <a:lnTo>
                    <a:pt x="36" y="23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5" y="5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32520" y="4177080"/>
              <a:ext cx="37800" cy="6192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0" y="0"/>
                  </a:moveTo>
                  <a:lnTo>
                    <a:pt x="8" y="0"/>
                  </a:lnTo>
                  <a:lnTo>
                    <a:pt x="5" y="3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8" y="49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1" y="57"/>
                  </a:lnTo>
                  <a:lnTo>
                    <a:pt x="26" y="57"/>
                  </a:lnTo>
                  <a:lnTo>
                    <a:pt x="28" y="54"/>
                  </a:lnTo>
                  <a:lnTo>
                    <a:pt x="31" y="52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4" y="39"/>
                  </a:lnTo>
                  <a:lnTo>
                    <a:pt x="34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1" y="18"/>
                  </a:lnTo>
                  <a:lnTo>
                    <a:pt x="28" y="13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70600" y="4165920"/>
              <a:ext cx="37800" cy="6192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0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10" y="49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3" y="57"/>
                  </a:lnTo>
                  <a:lnTo>
                    <a:pt x="26" y="57"/>
                  </a:lnTo>
                  <a:lnTo>
                    <a:pt x="28" y="54"/>
                  </a:lnTo>
                  <a:lnTo>
                    <a:pt x="31" y="52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39"/>
                  </a:lnTo>
                  <a:lnTo>
                    <a:pt x="34" y="33"/>
                  </a:lnTo>
                  <a:lnTo>
                    <a:pt x="34" y="28"/>
                  </a:lnTo>
                  <a:lnTo>
                    <a:pt x="34" y="23"/>
                  </a:lnTo>
                  <a:lnTo>
                    <a:pt x="31" y="18"/>
                  </a:lnTo>
                  <a:lnTo>
                    <a:pt x="28" y="13"/>
                  </a:lnTo>
                  <a:lnTo>
                    <a:pt x="26" y="7"/>
                  </a:lnTo>
                  <a:lnTo>
                    <a:pt x="23" y="5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05440" y="4146840"/>
              <a:ext cx="39600" cy="6012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11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8" y="44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6" y="54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4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7" y="38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34" y="23"/>
                  </a:lnTo>
                  <a:lnTo>
                    <a:pt x="34" y="18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48200" y="4119840"/>
              <a:ext cx="36720" cy="633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1" y="0"/>
                  </a:moveTo>
                  <a:lnTo>
                    <a:pt x="8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6" y="47"/>
                  </a:lnTo>
                  <a:lnTo>
                    <a:pt x="8" y="52"/>
                  </a:lnTo>
                  <a:lnTo>
                    <a:pt x="13" y="55"/>
                  </a:lnTo>
                  <a:lnTo>
                    <a:pt x="16" y="57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2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36"/>
                  </a:lnTo>
                  <a:lnTo>
                    <a:pt x="34" y="29"/>
                  </a:lnTo>
                  <a:lnTo>
                    <a:pt x="34" y="24"/>
                  </a:lnTo>
                  <a:lnTo>
                    <a:pt x="31" y="18"/>
                  </a:lnTo>
                  <a:lnTo>
                    <a:pt x="29" y="16"/>
                  </a:lnTo>
                  <a:lnTo>
                    <a:pt x="26" y="11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940280" y="3908520"/>
              <a:ext cx="538200" cy="142920"/>
            </a:xfrm>
            <a:custGeom>
              <a:avLst/>
              <a:gdLst/>
              <a:ahLst/>
              <a:rect l="l" t="t" r="r" b="b"/>
              <a:pathLst>
                <a:path w="492" h="132">
                  <a:moveTo>
                    <a:pt x="0" y="132"/>
                  </a:moveTo>
                  <a:lnTo>
                    <a:pt x="103" y="46"/>
                  </a:lnTo>
                  <a:lnTo>
                    <a:pt x="230" y="5"/>
                  </a:lnTo>
                  <a:lnTo>
                    <a:pt x="365" y="0"/>
                  </a:lnTo>
                  <a:lnTo>
                    <a:pt x="492" y="4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89600" y="3937320"/>
              <a:ext cx="446040" cy="128520"/>
            </a:xfrm>
            <a:custGeom>
              <a:avLst/>
              <a:gdLst/>
              <a:ahLst/>
              <a:rect l="l" t="t" r="r" b="b"/>
              <a:pathLst>
                <a:path w="409" h="119">
                  <a:moveTo>
                    <a:pt x="0" y="119"/>
                  </a:moveTo>
                  <a:lnTo>
                    <a:pt x="88" y="49"/>
                  </a:lnTo>
                  <a:lnTo>
                    <a:pt x="189" y="7"/>
                  </a:lnTo>
                  <a:lnTo>
                    <a:pt x="300" y="0"/>
                  </a:lnTo>
                  <a:lnTo>
                    <a:pt x="409" y="18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45040" y="3975480"/>
              <a:ext cx="298440" cy="107640"/>
            </a:xfrm>
            <a:custGeom>
              <a:avLst/>
              <a:gdLst/>
              <a:ahLst/>
              <a:rect l="l" t="t" r="r" b="b"/>
              <a:pathLst>
                <a:path w="272" h="99">
                  <a:moveTo>
                    <a:pt x="0" y="99"/>
                  </a:moveTo>
                  <a:lnTo>
                    <a:pt x="124" y="18"/>
                  </a:lnTo>
                  <a:lnTo>
                    <a:pt x="196" y="3"/>
                  </a:lnTo>
                  <a:lnTo>
                    <a:pt x="272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08400" y="4013280"/>
              <a:ext cx="154080" cy="87480"/>
            </a:xfrm>
            <a:custGeom>
              <a:avLst/>
              <a:gdLst/>
              <a:ahLst/>
              <a:rect l="l" t="t" r="r" b="b"/>
              <a:pathLst>
                <a:path w="142" h="80">
                  <a:moveTo>
                    <a:pt x="0" y="80"/>
                  </a:moveTo>
                  <a:lnTo>
                    <a:pt x="64" y="26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flipV="1">
              <a:off x="4648320" y="4871880"/>
              <a:ext cx="382320" cy="1825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479840" y="4853160"/>
              <a:ext cx="176400" cy="135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4510080" y="4892760"/>
              <a:ext cx="138240" cy="1144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892760"/>
              <a:ext cx="298440" cy="1396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58840" y="5032440"/>
              <a:ext cx="1875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4803840" y="5035680"/>
              <a:ext cx="198360" cy="16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79840" y="4988160"/>
              <a:ext cx="193680" cy="31896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0"/>
                  </a:moveTo>
                  <a:lnTo>
                    <a:pt x="13" y="88"/>
                  </a:lnTo>
                  <a:lnTo>
                    <a:pt x="57" y="166"/>
                  </a:lnTo>
                  <a:lnTo>
                    <a:pt x="106" y="238"/>
                  </a:lnTo>
                  <a:lnTo>
                    <a:pt x="176" y="293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755880" y="46720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6" y="66"/>
                  </a:moveTo>
                  <a:lnTo>
                    <a:pt x="7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9" y="64"/>
                  </a:lnTo>
                  <a:lnTo>
                    <a:pt x="8" y="65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6" y="54"/>
                  </a:lnTo>
                  <a:lnTo>
                    <a:pt x="30" y="39"/>
                  </a:lnTo>
                  <a:lnTo>
                    <a:pt x="43" y="21"/>
                  </a:lnTo>
                  <a:lnTo>
                    <a:pt x="55" y="0"/>
                  </a:ln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5099040" y="3403440"/>
            <a:ext cx="1910880" cy="554040"/>
            <a:chOff x="5099040" y="3403440"/>
            <a:chExt cx="1910880" cy="554040"/>
          </a:xfrm>
        </p:grpSpPr>
        <p:sp>
          <p:nvSpPr>
            <p:cNvPr id="1444" name=""/>
            <p:cNvSpPr/>
            <p:nvPr/>
          </p:nvSpPr>
          <p:spPr>
            <a:xfrm>
              <a:off x="5555880" y="3403440"/>
              <a:ext cx="145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固定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5099040" y="3555720"/>
              <a:ext cx="387000" cy="2156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5336640" y="3556080"/>
              <a:ext cx="148680" cy="4014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5257800" y="4719600"/>
            <a:ext cx="1676520" cy="1229760"/>
            <a:chOff x="5257800" y="4719600"/>
            <a:chExt cx="1676520" cy="1229760"/>
          </a:xfrm>
        </p:grpSpPr>
        <p:sp>
          <p:nvSpPr>
            <p:cNvPr id="1448" name=""/>
            <p:cNvSpPr/>
            <p:nvPr/>
          </p:nvSpPr>
          <p:spPr>
            <a:xfrm>
              <a:off x="5483520" y="5583240"/>
              <a:ext cx="1450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可动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57800" y="4719600"/>
              <a:ext cx="304920" cy="914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1292400" y="4414680"/>
            <a:ext cx="2059920" cy="761760"/>
            <a:chOff x="1292400" y="4414680"/>
            <a:chExt cx="2059920" cy="761760"/>
          </a:xfrm>
        </p:grpSpPr>
        <p:sp>
          <p:nvSpPr>
            <p:cNvPr id="1451" name=""/>
            <p:cNvSpPr/>
            <p:nvPr/>
          </p:nvSpPr>
          <p:spPr>
            <a:xfrm>
              <a:off x="1292400" y="4414680"/>
              <a:ext cx="175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空气阻尼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2666520" y="4795200"/>
              <a:ext cx="68580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990720" y="4724280"/>
            <a:ext cx="1880640" cy="1051920"/>
            <a:chOff x="990720" y="4724280"/>
            <a:chExt cx="1880640" cy="1051920"/>
          </a:xfrm>
        </p:grpSpPr>
        <p:sp>
          <p:nvSpPr>
            <p:cNvPr id="1454" name=""/>
            <p:cNvSpPr/>
            <p:nvPr/>
          </p:nvSpPr>
          <p:spPr>
            <a:xfrm>
              <a:off x="990720" y="5410080"/>
              <a:ext cx="1880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产生阻尼力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1819800" y="4724280"/>
              <a:ext cx="165600" cy="685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189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833400" y="2362320"/>
            <a:ext cx="3662280" cy="3627360"/>
            <a:chOff x="833400" y="2362320"/>
            <a:chExt cx="3662280" cy="3627360"/>
          </a:xfrm>
        </p:grpSpPr>
        <p:sp>
          <p:nvSpPr>
            <p:cNvPr id="1460" name=""/>
            <p:cNvSpPr/>
            <p:nvPr/>
          </p:nvSpPr>
          <p:spPr>
            <a:xfrm>
              <a:off x="2011320" y="37990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59"/>
                  </a:moveTo>
                  <a:lnTo>
                    <a:pt x="104" y="17"/>
                  </a:lnTo>
                  <a:lnTo>
                    <a:pt x="60" y="0"/>
                  </a:lnTo>
                  <a:lnTo>
                    <a:pt x="17" y="17"/>
                  </a:lnTo>
                  <a:lnTo>
                    <a:pt x="0" y="59"/>
                  </a:lnTo>
                  <a:lnTo>
                    <a:pt x="17" y="104"/>
                  </a:lnTo>
                  <a:lnTo>
                    <a:pt x="60" y="121"/>
                  </a:lnTo>
                  <a:lnTo>
                    <a:pt x="104" y="104"/>
                  </a:lnTo>
                  <a:lnTo>
                    <a:pt x="121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0672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0672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06720" y="38545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06720" y="38545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84400" y="385452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8"/>
                  </a:lnTo>
                  <a:lnTo>
                    <a:pt x="14" y="2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084400" y="385452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8"/>
                  </a:lnTo>
                  <a:lnTo>
                    <a:pt x="14" y="21"/>
                  </a:lnTo>
                  <a:lnTo>
                    <a:pt x="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74680" y="386568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6" y="0"/>
                  </a:moveTo>
                  <a:lnTo>
                    <a:pt x="0" y="13"/>
                  </a:lnTo>
                  <a:lnTo>
                    <a:pt x="2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74680" y="386568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6" y="0"/>
                  </a:moveTo>
                  <a:lnTo>
                    <a:pt x="0" y="13"/>
                  </a:lnTo>
                  <a:lnTo>
                    <a:pt x="20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074680" y="38847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6" y="16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074680" y="38847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6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084400" y="3884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6"/>
                  </a:moveTo>
                  <a:lnTo>
                    <a:pt x="14" y="22"/>
                  </a:lnTo>
                  <a:lnTo>
                    <a:pt x="1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084400" y="3884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6"/>
                  </a:moveTo>
                  <a:lnTo>
                    <a:pt x="14" y="22"/>
                  </a:lnTo>
                  <a:lnTo>
                    <a:pt x="14" y="0"/>
                  </a:lnTo>
                  <a:lnTo>
                    <a:pt x="0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06720" y="38847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06720" y="38847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0672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0672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11320" y="5294520"/>
              <a:ext cx="192240" cy="18072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21" y="62"/>
                  </a:moveTo>
                  <a:lnTo>
                    <a:pt x="104" y="18"/>
                  </a:lnTo>
                  <a:lnTo>
                    <a:pt x="60" y="0"/>
                  </a:lnTo>
                  <a:lnTo>
                    <a:pt x="17" y="18"/>
                  </a:lnTo>
                  <a:lnTo>
                    <a:pt x="0" y="62"/>
                  </a:lnTo>
                  <a:lnTo>
                    <a:pt x="17" y="105"/>
                  </a:lnTo>
                  <a:lnTo>
                    <a:pt x="60" y="122"/>
                  </a:lnTo>
                  <a:lnTo>
                    <a:pt x="104" y="105"/>
                  </a:lnTo>
                  <a:lnTo>
                    <a:pt x="121" y="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106720" y="5337000"/>
              <a:ext cx="5076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2057040" y="5337000"/>
              <a:ext cx="4932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2057040" y="5386680"/>
              <a:ext cx="4932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06720" y="5386680"/>
              <a:ext cx="5076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2476080" y="5386680"/>
              <a:ext cx="4932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 flipV="1">
              <a:off x="2476080" y="5337000"/>
              <a:ext cx="4932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30360" y="5294520"/>
              <a:ext cx="193680" cy="180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2"/>
                  </a:moveTo>
                  <a:lnTo>
                    <a:pt x="104" y="18"/>
                  </a:lnTo>
                  <a:lnTo>
                    <a:pt x="60" y="0"/>
                  </a:lnTo>
                  <a:lnTo>
                    <a:pt x="18" y="18"/>
                  </a:lnTo>
                  <a:lnTo>
                    <a:pt x="0" y="62"/>
                  </a:lnTo>
                  <a:lnTo>
                    <a:pt x="18" y="105"/>
                  </a:lnTo>
                  <a:lnTo>
                    <a:pt x="60" y="122"/>
                  </a:lnTo>
                  <a:lnTo>
                    <a:pt x="104" y="105"/>
                  </a:lnTo>
                  <a:lnTo>
                    <a:pt x="122" y="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25760" y="5386680"/>
              <a:ext cx="5220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2525760" y="5337000"/>
              <a:ext cx="522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2576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6" y="0"/>
                  </a:lnTo>
                  <a:lnTo>
                    <a:pt x="0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52576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6" y="0"/>
                  </a:ln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52576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52576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6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04880" y="3854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0" y="8"/>
                  </a:lnTo>
                  <a:lnTo>
                    <a:pt x="13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504880" y="3854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0" y="8"/>
                  </a:lnTo>
                  <a:lnTo>
                    <a:pt x="13" y="21"/>
                  </a:lnTo>
                  <a:lnTo>
                    <a:pt x="1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49228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49228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49228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8" y="16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49228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8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504880" y="38847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6"/>
                  </a:moveTo>
                  <a:lnTo>
                    <a:pt x="13" y="22"/>
                  </a:lnTo>
                  <a:lnTo>
                    <a:pt x="1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04880" y="38847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6"/>
                  </a:moveTo>
                  <a:lnTo>
                    <a:pt x="13" y="22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2576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52576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52576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52576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430360" y="379908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59"/>
                  </a:moveTo>
                  <a:lnTo>
                    <a:pt x="104" y="17"/>
                  </a:lnTo>
                  <a:lnTo>
                    <a:pt x="60" y="0"/>
                  </a:lnTo>
                  <a:lnTo>
                    <a:pt x="18" y="17"/>
                  </a:lnTo>
                  <a:lnTo>
                    <a:pt x="0" y="59"/>
                  </a:lnTo>
                  <a:lnTo>
                    <a:pt x="18" y="104"/>
                  </a:lnTo>
                  <a:lnTo>
                    <a:pt x="60" y="121"/>
                  </a:lnTo>
                  <a:lnTo>
                    <a:pt x="104" y="104"/>
                  </a:lnTo>
                  <a:lnTo>
                    <a:pt x="122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2881080" y="5386680"/>
              <a:ext cx="5220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flipV="1">
              <a:off x="2881080" y="5337000"/>
              <a:ext cx="522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35360" y="5294520"/>
              <a:ext cx="196920" cy="18072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124" y="62"/>
                  </a:moveTo>
                  <a:lnTo>
                    <a:pt x="104" y="18"/>
                  </a:lnTo>
                  <a:lnTo>
                    <a:pt x="62" y="0"/>
                  </a:lnTo>
                  <a:lnTo>
                    <a:pt x="19" y="18"/>
                  </a:lnTo>
                  <a:lnTo>
                    <a:pt x="0" y="62"/>
                  </a:lnTo>
                  <a:lnTo>
                    <a:pt x="19" y="105"/>
                  </a:lnTo>
                  <a:lnTo>
                    <a:pt x="62" y="122"/>
                  </a:lnTo>
                  <a:lnTo>
                    <a:pt x="104" y="105"/>
                  </a:lnTo>
                  <a:lnTo>
                    <a:pt x="124" y="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33640" y="5386680"/>
              <a:ext cx="5256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933640" y="5337000"/>
              <a:ext cx="5256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3364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93364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933640" y="38545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933640" y="38545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0844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lnTo>
                    <a:pt x="0" y="8"/>
                  </a:lnTo>
                  <a:lnTo>
                    <a:pt x="16" y="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0844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lnTo>
                    <a:pt x="0" y="8"/>
                  </a:lnTo>
                  <a:lnTo>
                    <a:pt x="16" y="21"/>
                  </a:lnTo>
                  <a:lnTo>
                    <a:pt x="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90052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5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900520" y="3865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5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90052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5" y="16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00520" y="38847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5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0844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6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90844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6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933640" y="38847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933640" y="38847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3364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93364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5360" y="3799080"/>
              <a:ext cx="196920" cy="1778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59"/>
                  </a:moveTo>
                  <a:lnTo>
                    <a:pt x="104" y="17"/>
                  </a:lnTo>
                  <a:lnTo>
                    <a:pt x="62" y="0"/>
                  </a:lnTo>
                  <a:lnTo>
                    <a:pt x="19" y="17"/>
                  </a:lnTo>
                  <a:lnTo>
                    <a:pt x="0" y="59"/>
                  </a:lnTo>
                  <a:lnTo>
                    <a:pt x="19" y="104"/>
                  </a:lnTo>
                  <a:lnTo>
                    <a:pt x="62" y="121"/>
                  </a:lnTo>
                  <a:lnTo>
                    <a:pt x="104" y="104"/>
                  </a:lnTo>
                  <a:lnTo>
                    <a:pt x="124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252600" y="5386680"/>
              <a:ext cx="5112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3252600" y="5337000"/>
              <a:ext cx="5112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206880" y="5294520"/>
              <a:ext cx="195120" cy="18072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2"/>
                  </a:moveTo>
                  <a:lnTo>
                    <a:pt x="104" y="18"/>
                  </a:lnTo>
                  <a:lnTo>
                    <a:pt x="61" y="0"/>
                  </a:lnTo>
                  <a:lnTo>
                    <a:pt x="19" y="18"/>
                  </a:lnTo>
                  <a:lnTo>
                    <a:pt x="0" y="62"/>
                  </a:lnTo>
                  <a:lnTo>
                    <a:pt x="19" y="105"/>
                  </a:lnTo>
                  <a:lnTo>
                    <a:pt x="61" y="122"/>
                  </a:lnTo>
                  <a:lnTo>
                    <a:pt x="104" y="105"/>
                  </a:lnTo>
                  <a:lnTo>
                    <a:pt x="123" y="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303720" y="5386680"/>
              <a:ext cx="5220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3303720" y="5337000"/>
              <a:ext cx="522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03720" y="3865680"/>
              <a:ext cx="34920" cy="190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3"/>
                  </a:moveTo>
                  <a:lnTo>
                    <a:pt x="16" y="0"/>
                  </a:lnTo>
                  <a:lnTo>
                    <a:pt x="0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03720" y="3865680"/>
              <a:ext cx="34920" cy="190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3"/>
                  </a:moveTo>
                  <a:lnTo>
                    <a:pt x="16" y="0"/>
                  </a:lnTo>
                  <a:lnTo>
                    <a:pt x="0" y="13"/>
                  </a:lnTo>
                  <a:lnTo>
                    <a:pt x="22" y="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0372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303720" y="3854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8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6" y="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79600" y="3854520"/>
              <a:ext cx="2412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0"/>
                  </a:moveTo>
                  <a:lnTo>
                    <a:pt x="0" y="8"/>
                  </a:lnTo>
                  <a:lnTo>
                    <a:pt x="15" y="2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79600" y="3854520"/>
              <a:ext cx="2412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0"/>
                  </a:moveTo>
                  <a:lnTo>
                    <a:pt x="0" y="8"/>
                  </a:lnTo>
                  <a:lnTo>
                    <a:pt x="15" y="21"/>
                  </a:lnTo>
                  <a:lnTo>
                    <a:pt x="1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27024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6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270240" y="386568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6" y="0"/>
                  </a:moveTo>
                  <a:lnTo>
                    <a:pt x="0" y="13"/>
                  </a:lnTo>
                  <a:lnTo>
                    <a:pt x="21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27024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6" y="16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270240" y="38847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6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279600" y="3884760"/>
              <a:ext cx="2412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16"/>
                  </a:moveTo>
                  <a:lnTo>
                    <a:pt x="15" y="22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79600" y="3884760"/>
              <a:ext cx="24120" cy="33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16"/>
                  </a:moveTo>
                  <a:lnTo>
                    <a:pt x="15" y="22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0372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03720" y="3884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03720" y="38847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03720" y="38847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206880" y="3799080"/>
              <a:ext cx="195120" cy="1778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123" y="59"/>
                  </a:moveTo>
                  <a:lnTo>
                    <a:pt x="104" y="17"/>
                  </a:lnTo>
                  <a:lnTo>
                    <a:pt x="61" y="0"/>
                  </a:lnTo>
                  <a:lnTo>
                    <a:pt x="19" y="17"/>
                  </a:lnTo>
                  <a:lnTo>
                    <a:pt x="0" y="59"/>
                  </a:lnTo>
                  <a:lnTo>
                    <a:pt x="19" y="104"/>
                  </a:lnTo>
                  <a:lnTo>
                    <a:pt x="61" y="121"/>
                  </a:lnTo>
                  <a:lnTo>
                    <a:pt x="104" y="104"/>
                  </a:lnTo>
                  <a:lnTo>
                    <a:pt x="123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06720" y="3976920"/>
              <a:ext cx="419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525760" y="3976920"/>
              <a:ext cx="144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06720" y="5294520"/>
              <a:ext cx="419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2106720" y="3976920"/>
              <a:ext cx="144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933640" y="3976920"/>
              <a:ext cx="180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33640" y="5294520"/>
              <a:ext cx="370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3303720" y="3976920"/>
              <a:ext cx="144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2933640" y="3976920"/>
              <a:ext cx="370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619280" y="3743280"/>
              <a:ext cx="2276280" cy="438480"/>
            </a:xfrm>
            <a:custGeom>
              <a:avLst/>
              <a:gdLst/>
              <a:ahLst/>
              <a:rect l="l" t="t" r="r" b="b"/>
              <a:pathLst>
                <a:path w="1434" h="297">
                  <a:moveTo>
                    <a:pt x="0" y="127"/>
                  </a:moveTo>
                  <a:lnTo>
                    <a:pt x="197" y="220"/>
                  </a:lnTo>
                  <a:lnTo>
                    <a:pt x="409" y="278"/>
                  </a:lnTo>
                  <a:lnTo>
                    <a:pt x="627" y="297"/>
                  </a:lnTo>
                  <a:lnTo>
                    <a:pt x="845" y="278"/>
                  </a:lnTo>
                  <a:lnTo>
                    <a:pt x="1056" y="220"/>
                  </a:lnTo>
                  <a:lnTo>
                    <a:pt x="1255" y="127"/>
                  </a:lnTo>
                  <a:lnTo>
                    <a:pt x="1434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293840" y="4276800"/>
              <a:ext cx="2874960" cy="206280"/>
            </a:xfrm>
            <a:custGeom>
              <a:avLst/>
              <a:gdLst/>
              <a:ahLst/>
              <a:rect l="l" t="t" r="r" b="b"/>
              <a:pathLst>
                <a:path w="1811" h="141">
                  <a:moveTo>
                    <a:pt x="0" y="83"/>
                  </a:moveTo>
                  <a:lnTo>
                    <a:pt x="363" y="127"/>
                  </a:lnTo>
                  <a:lnTo>
                    <a:pt x="728" y="141"/>
                  </a:lnTo>
                  <a:lnTo>
                    <a:pt x="1093" y="124"/>
                  </a:lnTo>
                  <a:lnTo>
                    <a:pt x="1454" y="77"/>
                  </a:lnTo>
                  <a:lnTo>
                    <a:pt x="1811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2280" y="3706920"/>
              <a:ext cx="309600" cy="21744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0" y="91"/>
                  </a:moveTo>
                  <a:lnTo>
                    <a:pt x="195" y="0"/>
                  </a:lnTo>
                  <a:lnTo>
                    <a:pt x="41" y="14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662280" y="3706920"/>
              <a:ext cx="309600" cy="21744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0" y="91"/>
                  </a:moveTo>
                  <a:lnTo>
                    <a:pt x="195" y="0"/>
                  </a:lnTo>
                  <a:lnTo>
                    <a:pt x="41" y="148"/>
                  </a:lnTo>
                  <a:lnTo>
                    <a:pt x="0" y="91"/>
                  </a:lnTo>
                </a:path>
              </a:pathLst>
            </a:custGeom>
            <a:solidFill>
              <a:srgbClr val="006600"/>
            </a:solidFill>
            <a:ln w="3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138560" y="4199040"/>
              <a:ext cx="357120" cy="139680"/>
            </a:xfrm>
            <a:custGeom>
              <a:avLst/>
              <a:gdLst/>
              <a:ahLst/>
              <a:rect l="l" t="t" r="r" b="b"/>
              <a:pathLst>
                <a:path w="225" h="94">
                  <a:moveTo>
                    <a:pt x="0" y="23"/>
                  </a:moveTo>
                  <a:lnTo>
                    <a:pt x="225" y="0"/>
                  </a:lnTo>
                  <a:lnTo>
                    <a:pt x="15" y="9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138560" y="4199040"/>
              <a:ext cx="357120" cy="139680"/>
            </a:xfrm>
            <a:custGeom>
              <a:avLst/>
              <a:gdLst/>
              <a:ahLst/>
              <a:rect l="l" t="t" r="r" b="b"/>
              <a:pathLst>
                <a:path w="225" h="94">
                  <a:moveTo>
                    <a:pt x="0" y="23"/>
                  </a:moveTo>
                  <a:lnTo>
                    <a:pt x="225" y="0"/>
                  </a:lnTo>
                  <a:lnTo>
                    <a:pt x="15" y="94"/>
                  </a:lnTo>
                  <a:lnTo>
                    <a:pt x="0" y="23"/>
                  </a:lnTo>
                </a:path>
              </a:pathLst>
            </a:custGeom>
            <a:solidFill>
              <a:srgbClr val="006600"/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93840" y="4730760"/>
              <a:ext cx="2874960" cy="211320"/>
            </a:xfrm>
            <a:custGeom>
              <a:avLst/>
              <a:gdLst/>
              <a:ahLst/>
              <a:rect l="l" t="t" r="r" b="b"/>
              <a:pathLst>
                <a:path w="1811" h="143">
                  <a:moveTo>
                    <a:pt x="1811" y="143"/>
                  </a:moveTo>
                  <a:lnTo>
                    <a:pt x="1454" y="66"/>
                  </a:lnTo>
                  <a:lnTo>
                    <a:pt x="1093" y="17"/>
                  </a:lnTo>
                  <a:lnTo>
                    <a:pt x="728" y="0"/>
                  </a:lnTo>
                  <a:lnTo>
                    <a:pt x="363" y="13"/>
                  </a:lnTo>
                  <a:lnTo>
                    <a:pt x="0" y="5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92360" y="5043600"/>
              <a:ext cx="2203200" cy="428760"/>
            </a:xfrm>
            <a:custGeom>
              <a:avLst/>
              <a:gdLst/>
              <a:ahLst/>
              <a:rect l="l" t="t" r="r" b="b"/>
              <a:pathLst>
                <a:path w="1388" h="290">
                  <a:moveTo>
                    <a:pt x="1388" y="290"/>
                  </a:moveTo>
                  <a:lnTo>
                    <a:pt x="1239" y="170"/>
                  </a:lnTo>
                  <a:lnTo>
                    <a:pt x="1073" y="81"/>
                  </a:lnTo>
                  <a:lnTo>
                    <a:pt x="892" y="24"/>
                  </a:lnTo>
                  <a:lnTo>
                    <a:pt x="703" y="0"/>
                  </a:lnTo>
                  <a:lnTo>
                    <a:pt x="514" y="12"/>
                  </a:lnTo>
                  <a:lnTo>
                    <a:pt x="328" y="58"/>
                  </a:lnTo>
                  <a:lnTo>
                    <a:pt x="156" y="137"/>
                  </a:lnTo>
                  <a:lnTo>
                    <a:pt x="0" y="24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662280" y="5291280"/>
              <a:ext cx="309600" cy="22068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0" y="58"/>
                  </a:moveTo>
                  <a:lnTo>
                    <a:pt x="195" y="149"/>
                  </a:lnTo>
                  <a:lnTo>
                    <a:pt x="41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662280" y="5291280"/>
              <a:ext cx="309600" cy="22068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0" y="58"/>
                  </a:moveTo>
                  <a:lnTo>
                    <a:pt x="195" y="149"/>
                  </a:lnTo>
                  <a:lnTo>
                    <a:pt x="41" y="0"/>
                  </a:lnTo>
                  <a:lnTo>
                    <a:pt x="0" y="58"/>
                  </a:lnTo>
                </a:path>
              </a:pathLst>
            </a:custGeom>
            <a:solidFill>
              <a:srgbClr val="006600"/>
            </a:solidFill>
            <a:ln w="3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38560" y="4878360"/>
              <a:ext cx="357120" cy="138240"/>
            </a:xfrm>
            <a:custGeom>
              <a:avLst/>
              <a:gdLst/>
              <a:ahLst/>
              <a:rect l="l" t="t" r="r" b="b"/>
              <a:pathLst>
                <a:path w="225" h="93">
                  <a:moveTo>
                    <a:pt x="0" y="72"/>
                  </a:moveTo>
                  <a:lnTo>
                    <a:pt x="225" y="93"/>
                  </a:lnTo>
                  <a:lnTo>
                    <a:pt x="1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38560" y="4878360"/>
              <a:ext cx="357120" cy="138240"/>
            </a:xfrm>
            <a:custGeom>
              <a:avLst/>
              <a:gdLst/>
              <a:ahLst/>
              <a:rect l="l" t="t" r="r" b="b"/>
              <a:pathLst>
                <a:path w="225" h="93">
                  <a:moveTo>
                    <a:pt x="0" y="72"/>
                  </a:moveTo>
                  <a:lnTo>
                    <a:pt x="225" y="93"/>
                  </a:lnTo>
                  <a:lnTo>
                    <a:pt x="15" y="0"/>
                  </a:lnTo>
                  <a:lnTo>
                    <a:pt x="0" y="72"/>
                  </a:lnTo>
                </a:path>
              </a:pathLst>
            </a:custGeom>
            <a:solidFill>
              <a:srgbClr val="006600"/>
            </a:solidFill>
            <a:ln w="3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977840" y="50072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5" y="0"/>
                  </a:lnTo>
                  <a:lnTo>
                    <a:pt x="0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77840" y="50072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5" y="0"/>
                  </a:lnTo>
                  <a:lnTo>
                    <a:pt x="0" y="14"/>
                  </a:lnTo>
                  <a:lnTo>
                    <a:pt x="21" y="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977840" y="4997520"/>
              <a:ext cx="2412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7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977840" y="4997520"/>
              <a:ext cx="2412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7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52640" y="4997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lnTo>
                    <a:pt x="0" y="7"/>
                  </a:lnTo>
                  <a:lnTo>
                    <a:pt x="16" y="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52640" y="49975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lnTo>
                    <a:pt x="0" y="7"/>
                  </a:lnTo>
                  <a:lnTo>
                    <a:pt x="16" y="21"/>
                  </a:lnTo>
                  <a:lnTo>
                    <a:pt x="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42920" y="5007240"/>
              <a:ext cx="34920" cy="205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6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2920" y="5007240"/>
              <a:ext cx="34920" cy="205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6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42920" y="5027760"/>
              <a:ext cx="34920" cy="22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942920" y="5027760"/>
              <a:ext cx="34920" cy="22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52640" y="502776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5"/>
                  </a:moveTo>
                  <a:lnTo>
                    <a:pt x="16" y="2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952640" y="502776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5"/>
                  </a:moveTo>
                  <a:lnTo>
                    <a:pt x="16" y="21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977840" y="5027760"/>
              <a:ext cx="24120" cy="316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77840" y="5027760"/>
              <a:ext cx="24120" cy="316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77840" y="50277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77840" y="50277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879560" y="4938840"/>
              <a:ext cx="195120" cy="1810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0"/>
                  </a:moveTo>
                  <a:lnTo>
                    <a:pt x="104" y="17"/>
                  </a:lnTo>
                  <a:lnTo>
                    <a:pt x="62" y="0"/>
                  </a:lnTo>
                  <a:lnTo>
                    <a:pt x="19" y="17"/>
                  </a:lnTo>
                  <a:lnTo>
                    <a:pt x="0" y="60"/>
                  </a:lnTo>
                  <a:lnTo>
                    <a:pt x="19" y="104"/>
                  </a:lnTo>
                  <a:lnTo>
                    <a:pt x="62" y="122"/>
                  </a:lnTo>
                  <a:lnTo>
                    <a:pt x="104" y="104"/>
                  </a:lnTo>
                  <a:lnTo>
                    <a:pt x="123" y="6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3392280" y="4218120"/>
              <a:ext cx="522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3392280" y="4172040"/>
              <a:ext cx="52200" cy="4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49440" y="4130640"/>
              <a:ext cx="193680" cy="17964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0"/>
                  </a:moveTo>
                  <a:lnTo>
                    <a:pt x="105" y="18"/>
                  </a:lnTo>
                  <a:lnTo>
                    <a:pt x="60" y="0"/>
                  </a:lnTo>
                  <a:lnTo>
                    <a:pt x="18" y="18"/>
                  </a:lnTo>
                  <a:lnTo>
                    <a:pt x="0" y="60"/>
                  </a:lnTo>
                  <a:lnTo>
                    <a:pt x="18" y="105"/>
                  </a:lnTo>
                  <a:lnTo>
                    <a:pt x="60" y="122"/>
                  </a:lnTo>
                  <a:lnTo>
                    <a:pt x="105" y="105"/>
                  </a:lnTo>
                  <a:lnTo>
                    <a:pt x="122" y="6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44840" y="4218120"/>
              <a:ext cx="5256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3444840" y="4172040"/>
              <a:ext cx="52560" cy="4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928880" y="4141440"/>
              <a:ext cx="1466640" cy="809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025720" y="4296960"/>
              <a:ext cx="1468440" cy="809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14680" y="453564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0"/>
                  </a:moveTo>
                  <a:lnTo>
                    <a:pt x="104" y="17"/>
                  </a:lnTo>
                  <a:lnTo>
                    <a:pt x="62" y="0"/>
                  </a:lnTo>
                  <a:lnTo>
                    <a:pt x="17" y="17"/>
                  </a:lnTo>
                  <a:lnTo>
                    <a:pt x="0" y="60"/>
                  </a:lnTo>
                  <a:lnTo>
                    <a:pt x="17" y="104"/>
                  </a:lnTo>
                  <a:lnTo>
                    <a:pt x="62" y="121"/>
                  </a:lnTo>
                  <a:lnTo>
                    <a:pt x="104" y="104"/>
                  </a:lnTo>
                  <a:lnTo>
                    <a:pt x="122" y="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89280" y="3075120"/>
              <a:ext cx="750600" cy="14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919160" y="3056040"/>
              <a:ext cx="787680" cy="147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814400" y="3075120"/>
              <a:ext cx="7488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1689120" y="2712960"/>
              <a:ext cx="12528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689120" y="2713320"/>
              <a:ext cx="3096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918800" y="3000600"/>
              <a:ext cx="79560" cy="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409760" y="2752920"/>
              <a:ext cx="128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533600" y="2762280"/>
              <a:ext cx="73080" cy="1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576440" y="2656080"/>
              <a:ext cx="119160" cy="1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735200" y="2602080"/>
              <a:ext cx="8568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76320" y="2649600"/>
              <a:ext cx="4932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28880" y="2502000"/>
              <a:ext cx="8568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47680" y="2581560"/>
              <a:ext cx="3024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30480" y="2454480"/>
              <a:ext cx="4896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243160" y="2541600"/>
              <a:ext cx="2844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01840" y="2419560"/>
              <a:ext cx="4608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94000" y="2533680"/>
              <a:ext cx="612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69960" y="2379960"/>
              <a:ext cx="972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556000" y="2478240"/>
              <a:ext cx="144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2630160" y="2362320"/>
              <a:ext cx="612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19440" y="2508480"/>
              <a:ext cx="936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2805120" y="2394000"/>
              <a:ext cx="1728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2890440" y="2527560"/>
              <a:ext cx="1764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2954160" y="2401920"/>
              <a:ext cx="5256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3049560" y="2541600"/>
              <a:ext cx="93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138120" y="2419560"/>
              <a:ext cx="5868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3197160" y="2573280"/>
              <a:ext cx="3672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3295800" y="2468520"/>
              <a:ext cx="7272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3384360" y="2581560"/>
              <a:ext cx="4320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3438360" y="2519640"/>
              <a:ext cx="12096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3524040" y="2646360"/>
              <a:ext cx="5220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3619440" y="2544840"/>
              <a:ext cx="1317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3681360" y="2765520"/>
              <a:ext cx="554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3766680" y="2673360"/>
              <a:ext cx="11916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297080" y="4056120"/>
              <a:ext cx="226800" cy="29052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83" y="197"/>
                  </a:moveTo>
                  <a:lnTo>
                    <a:pt x="0" y="0"/>
                  </a:lnTo>
                  <a:lnTo>
                    <a:pt x="143" y="159"/>
                  </a:lnTo>
                  <a:lnTo>
                    <a:pt x="83" y="197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97080" y="4056120"/>
              <a:ext cx="226800" cy="29052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83" y="197"/>
                  </a:moveTo>
                  <a:lnTo>
                    <a:pt x="0" y="0"/>
                  </a:lnTo>
                  <a:lnTo>
                    <a:pt x="143" y="159"/>
                  </a:lnTo>
                  <a:lnTo>
                    <a:pt x="83" y="197"/>
                  </a:lnTo>
                </a:path>
              </a:pathLst>
            </a:custGeom>
            <a:solidFill>
              <a:srgbClr val="000099"/>
            </a:solidFill>
            <a:ln w="3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74920" y="4318200"/>
              <a:ext cx="487080" cy="709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03760" y="4795920"/>
              <a:ext cx="226800" cy="293760"/>
            </a:xfrm>
            <a:custGeom>
              <a:avLst/>
              <a:gdLst/>
              <a:ahLst/>
              <a:rect l="l" t="t" r="r" b="b"/>
              <a:pathLst>
                <a:path w="143" h="199">
                  <a:moveTo>
                    <a:pt x="60" y="0"/>
                  </a:moveTo>
                  <a:lnTo>
                    <a:pt x="143" y="199"/>
                  </a:lnTo>
                  <a:lnTo>
                    <a:pt x="0" y="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803760" y="4795920"/>
              <a:ext cx="226800" cy="293760"/>
            </a:xfrm>
            <a:custGeom>
              <a:avLst/>
              <a:gdLst/>
              <a:ahLst/>
              <a:rect l="l" t="t" r="r" b="b"/>
              <a:pathLst>
                <a:path w="143" h="199">
                  <a:moveTo>
                    <a:pt x="60" y="0"/>
                  </a:moveTo>
                  <a:lnTo>
                    <a:pt x="143" y="199"/>
                  </a:lnTo>
                  <a:lnTo>
                    <a:pt x="0" y="39"/>
                  </a:lnTo>
                  <a:lnTo>
                    <a:pt x="60" y="0"/>
                  </a:lnTo>
                </a:path>
              </a:pathLst>
            </a:custGeom>
            <a:solidFill>
              <a:srgbClr val="000099"/>
            </a:solidFill>
            <a:ln w="3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73600" y="5029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03240" y="3962520"/>
              <a:ext cx="37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33400" y="4953240"/>
              <a:ext cx="701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宋体"/>
                </a:rPr>
                <a:t>可动线圈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357280" y="5639040"/>
              <a:ext cx="701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宋体"/>
                </a:rPr>
                <a:t>固定线圈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flipV="1">
              <a:off x="3444480" y="4217760"/>
              <a:ext cx="407880" cy="608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380880" y="76032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定线圈中的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动线圈中的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磁场相互作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磁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受到转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圈和指针转动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724280" y="2133720"/>
            <a:ext cx="39625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仪表的转动转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入直流时，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T=k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3124080"/>
            <a:ext cx="32767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入交流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T=k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cos</a:t>
            </a:r>
            <a:r>
              <a:rPr b="1" i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4648320"/>
            <a:ext cx="1600200" cy="1066680"/>
          </a:xfrm>
          <a:prstGeom prst="wedgeRoundRectCallout">
            <a:avLst>
              <a:gd name="adj1" fmla="val 48115"/>
              <a:gd name="adj2" fmla="val -106694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有效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858000" y="4724280"/>
            <a:ext cx="1905120" cy="990720"/>
          </a:xfrm>
          <a:prstGeom prst="wedgeRoundRectCallout">
            <a:avLst>
              <a:gd name="adj1" fmla="val -23333"/>
              <a:gd name="adj2" fmla="val -123236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相位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2362320" y="182880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弹簧的阻转矩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137160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弹簧的阻转矩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指针的偏转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zh-CN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正比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80880" y="228600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可动部分停止转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0880" y="27432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指针的偏转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33520" y="3778200"/>
            <a:ext cx="56386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指针偏转的角度与两个电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对交流为有效值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的乘积成正比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85800" y="380880"/>
            <a:ext cx="685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仪表的转动转矩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入直流时，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T=k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429000" y="838080"/>
            <a:ext cx="472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入交流时，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T=k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cos</a:t>
            </a:r>
            <a:r>
              <a:rPr b="1" i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505320" y="26668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= k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505320" y="3154320"/>
            <a:ext cx="419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= k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cos</a:t>
            </a:r>
            <a:r>
              <a:rPr b="1" i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553080" y="3733920"/>
            <a:ext cx="1905120" cy="914400"/>
          </a:xfrm>
          <a:prstGeom prst="wedgeRoundRectCallout">
            <a:avLst>
              <a:gd name="adj1" fmla="val -87666"/>
              <a:gd name="adj2" fmla="val -71180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相位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52578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优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用于交直流；准确度较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外界磁场影响大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承受较大过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9480" y="4724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用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测量交直流电压、电流及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1452960"/>
            <a:ext cx="784836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常用电工测量仪表的结构和工作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常用电工测量仪表的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电桥测量电阻、电容和电感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常用非电量的电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360" y="516960"/>
            <a:ext cx="302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工测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5840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3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流的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0" y="1752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流表的内阻要很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直流电流通常用磁电式电流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0880" y="44640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要扩大电流表的量程，可在测量机构上并联一个分流电阻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57200" y="1752480"/>
            <a:ext cx="4876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表应串联在电路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1219320" y="2208960"/>
            <a:ext cx="2619360" cy="2134440"/>
            <a:chOff x="1219320" y="2208960"/>
            <a:chExt cx="2619360" cy="2134440"/>
          </a:xfrm>
        </p:grpSpPr>
        <p:grpSp>
          <p:nvGrpSpPr>
            <p:cNvPr id="1661" name=""/>
            <p:cNvGrpSpPr/>
            <p:nvPr/>
          </p:nvGrpSpPr>
          <p:grpSpPr>
            <a:xfrm>
              <a:off x="1324080" y="2208960"/>
              <a:ext cx="719280" cy="520560"/>
              <a:chOff x="1324080" y="2208960"/>
              <a:chExt cx="719280" cy="520560"/>
            </a:xfrm>
          </p:grpSpPr>
          <p:sp>
            <p:nvSpPr>
              <p:cNvPr id="1662" name=""/>
              <p:cNvSpPr/>
              <p:nvPr/>
            </p:nvSpPr>
            <p:spPr>
              <a:xfrm>
                <a:off x="1484280" y="220896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324080" y="2652480"/>
                <a:ext cx="719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332160" y="304740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38360" y="2782800"/>
              <a:ext cx="69084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05360" y="3276360"/>
              <a:ext cx="199800" cy="45720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205440" y="3720960"/>
              <a:ext cx="0" cy="59868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205440" y="2781000"/>
              <a:ext cx="0" cy="52524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24080" y="4302000"/>
              <a:ext cx="19051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86200" y="2590560"/>
              <a:ext cx="431640" cy="43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47760" y="27432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19320" y="423864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009880" y="2514600"/>
              <a:ext cx="60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324080" y="2779560"/>
              <a:ext cx="7621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5076720" y="2208960"/>
            <a:ext cx="2619360" cy="2134440"/>
            <a:chOff x="5076720" y="2208960"/>
            <a:chExt cx="2619360" cy="2134440"/>
          </a:xfrm>
        </p:grpSpPr>
        <p:sp>
          <p:nvSpPr>
            <p:cNvPr id="1676" name=""/>
            <p:cNvSpPr/>
            <p:nvPr/>
          </p:nvSpPr>
          <p:spPr>
            <a:xfrm>
              <a:off x="5182920" y="22089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181480" y="2652840"/>
              <a:ext cx="457200" cy="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89920" y="3047760"/>
              <a:ext cx="5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96120" y="2782800"/>
              <a:ext cx="69048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62760" y="3276720"/>
              <a:ext cx="200160" cy="45720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062840" y="3720960"/>
              <a:ext cx="0" cy="59868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62840" y="2781000"/>
              <a:ext cx="0" cy="52524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181480" y="4302000"/>
              <a:ext cx="19051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43600" y="2590920"/>
              <a:ext cx="43164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105520" y="27432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076720" y="423864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181480" y="2779560"/>
              <a:ext cx="7621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6095880" y="266652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rot="16200000">
              <a:off x="6057720" y="3162240"/>
              <a:ext cx="228600" cy="45720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5638680" y="2819520"/>
              <a:ext cx="304920" cy="609480"/>
              <a:chOff x="5638680" y="2819520"/>
              <a:chExt cx="304920" cy="609480"/>
            </a:xfrm>
          </p:grpSpPr>
          <p:sp>
            <p:nvSpPr>
              <p:cNvPr id="1691" name=""/>
              <p:cNvSpPr/>
              <p:nvPr/>
            </p:nvSpPr>
            <p:spPr>
              <a:xfrm>
                <a:off x="5638680" y="2819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38680" y="33894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6401160" y="2819520"/>
              <a:ext cx="380520" cy="609480"/>
              <a:chOff x="6401160" y="2819520"/>
              <a:chExt cx="380520" cy="609480"/>
            </a:xfrm>
          </p:grpSpPr>
          <p:sp>
            <p:nvSpPr>
              <p:cNvPr id="1694" name=""/>
              <p:cNvSpPr/>
              <p:nvPr/>
            </p:nvSpPr>
            <p:spPr>
              <a:xfrm>
                <a:off x="6781680" y="2819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401160" y="33894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6" name=""/>
            <p:cNvSpPr/>
            <p:nvPr/>
          </p:nvSpPr>
          <p:spPr>
            <a:xfrm>
              <a:off x="5954400" y="3429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71000" y="2320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00800" y="2666880"/>
              <a:ext cx="385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32760" y="220968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62120" y="5319720"/>
                <a:ext cx="25146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1" name=""/>
          <p:cNvSpPr/>
          <p:nvPr/>
        </p:nvSpPr>
        <p:spPr>
          <a:xfrm>
            <a:off x="342900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式中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测量机构的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流器的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直流电流通常用磁电式电流表，测量交流电流通常用电磁式电流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3225960" y="2013120"/>
            <a:ext cx="28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665360" y="304920"/>
                <a:ext cx="2297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609480" y="547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3581280" y="1425600"/>
                <a:ext cx="198144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609480" y="1600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得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流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57200" y="2743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需扩大的量程愈大，则分流电阻应愈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3520" y="33512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磁电式电流表，当无分流器时，表头的满标值电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头电阻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今欲使其量程（满标值）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问分流器的电阻应为多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838080" y="4776840"/>
                <a:ext cx="289584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3689280" y="4756320"/>
                <a:ext cx="38545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584064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4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压的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791320" y="1770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表的内阻要很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0880" y="914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直流电压通常用磁电式电压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85800" y="43434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要扩大电压表的量程，可在测量机构上串联一个倍压电阻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57200" y="1752480"/>
            <a:ext cx="5410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压表应并联在被测电路两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936720" y="5181480"/>
                <a:ext cx="241596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0" name=""/>
          <p:cNvSpPr/>
          <p:nvPr/>
        </p:nvSpPr>
        <p:spPr>
          <a:xfrm>
            <a:off x="3429000" y="5257800"/>
            <a:ext cx="5105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式中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测量机构的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倍压器的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990720" y="2514600"/>
            <a:ext cx="2847960" cy="1639080"/>
            <a:chOff x="990720" y="2514600"/>
            <a:chExt cx="2847960" cy="1639080"/>
          </a:xfrm>
        </p:grpSpPr>
        <p:sp>
          <p:nvSpPr>
            <p:cNvPr id="1722" name=""/>
            <p:cNvSpPr/>
            <p:nvPr/>
          </p:nvSpPr>
          <p:spPr>
            <a:xfrm>
              <a:off x="990720" y="30855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332160" y="285732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2436840" y="2548080"/>
              <a:ext cx="0" cy="61920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105000" y="3086280"/>
              <a:ext cx="200160" cy="45720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5080" y="3530520"/>
              <a:ext cx="0" cy="59868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3205080" y="2552400"/>
              <a:ext cx="0" cy="56196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24080" y="4111560"/>
              <a:ext cx="190476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09680" y="3125880"/>
              <a:ext cx="43200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47760" y="25146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219320" y="40482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3720" y="3086280"/>
              <a:ext cx="60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324080" y="2552760"/>
              <a:ext cx="18763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2436840" y="3543120"/>
              <a:ext cx="0" cy="54756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990720" y="255204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90720" y="363312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5181480" y="2437560"/>
            <a:ext cx="2847960" cy="1701720"/>
            <a:chOff x="5181480" y="2437560"/>
            <a:chExt cx="2847960" cy="1701720"/>
          </a:xfrm>
        </p:grpSpPr>
        <p:sp>
          <p:nvSpPr>
            <p:cNvPr id="1738" name=""/>
            <p:cNvSpPr/>
            <p:nvPr/>
          </p:nvSpPr>
          <p:spPr>
            <a:xfrm>
              <a:off x="5181480" y="30711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22920" y="284292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6626160" y="2545920"/>
              <a:ext cx="0" cy="25884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295760" y="3071880"/>
              <a:ext cx="200160" cy="45720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95840" y="3516120"/>
              <a:ext cx="0" cy="59868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395840" y="2538000"/>
              <a:ext cx="0" cy="56196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514840" y="4097160"/>
              <a:ext cx="190476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400440" y="2768400"/>
              <a:ext cx="432000" cy="43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38520" y="25002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10080" y="4033800"/>
              <a:ext cx="104760" cy="10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14840" y="2538360"/>
              <a:ext cx="1876320" cy="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626160" y="3866760"/>
              <a:ext cx="1440" cy="20772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81480" y="253764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81480" y="361872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21040" y="3490920"/>
              <a:ext cx="200160" cy="380880"/>
            </a:xfrm>
            <a:prstGeom prst="rect">
              <a:avLst/>
            </a:prstGeom>
            <a:noFill/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627600" y="3219120"/>
              <a:ext cx="0" cy="269640"/>
            </a:xfrm>
            <a:prstGeom prst="line">
              <a:avLst/>
            </a:prstGeom>
            <a:ln w="38160">
              <a:solidFill>
                <a:srgbClr val="00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6476760" y="28807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789960" y="27288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716160" y="34909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19560" y="243756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019560" y="303300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843520" y="2712960"/>
              <a:ext cx="70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380880" y="914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直流电压通常用磁电式电压表，测量交流电流通常用电磁式电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289320" y="2013120"/>
            <a:ext cx="4680" cy="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1463760" y="320760"/>
                <a:ext cx="239076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3" name=""/>
          <p:cNvSpPr/>
          <p:nvPr/>
        </p:nvSpPr>
        <p:spPr>
          <a:xfrm>
            <a:off x="609480" y="457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3344760" y="1523880"/>
                <a:ext cx="2903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5" name=""/>
          <p:cNvSpPr/>
          <p:nvPr/>
        </p:nvSpPr>
        <p:spPr>
          <a:xfrm>
            <a:off x="609480" y="1600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得，串联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2590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需扩大的量程愈大，则串联电阻应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09480" y="3200400"/>
            <a:ext cx="80773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电压表，其量程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内阻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今欲使其量程扩大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问还需串联多大电阻的倍压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8" name=""/>
              <p:cNvSpPr txBox="1"/>
              <p:nvPr/>
            </p:nvSpPr>
            <p:spPr>
              <a:xfrm>
                <a:off x="685800" y="4565520"/>
                <a:ext cx="32004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3886200" y="4572000"/>
                <a:ext cx="42670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09480" y="928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5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磁电式万用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5800" y="1447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测量直流电流、直流电压、交流电压和电阻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9480" y="2057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直流电流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762120" y="2743200"/>
            <a:ext cx="4724280" cy="3083760"/>
            <a:chOff x="762120" y="2743200"/>
            <a:chExt cx="4724280" cy="3083760"/>
          </a:xfrm>
        </p:grpSpPr>
        <p:sp>
          <p:nvSpPr>
            <p:cNvPr id="1775" name=""/>
            <p:cNvSpPr/>
            <p:nvPr/>
          </p:nvSpPr>
          <p:spPr>
            <a:xfrm>
              <a:off x="762120" y="536724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测量直流电流的原理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112760" y="2743200"/>
              <a:ext cx="3362040" cy="2645640"/>
              <a:chOff x="1112760" y="2743200"/>
              <a:chExt cx="3362040" cy="2645640"/>
            </a:xfrm>
          </p:grpSpPr>
          <p:sp>
            <p:nvSpPr>
              <p:cNvPr id="1777" name=""/>
              <p:cNvSpPr/>
              <p:nvPr/>
            </p:nvSpPr>
            <p:spPr>
              <a:xfrm>
                <a:off x="1276920" y="3306240"/>
                <a:ext cx="73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014920" y="3081600"/>
                <a:ext cx="409680" cy="374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834640" y="4989960"/>
                <a:ext cx="8532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233720" y="4914720"/>
                <a:ext cx="8532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2178720" y="3156120"/>
                <a:ext cx="163800" cy="22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162600" y="3267000"/>
                <a:ext cx="409680" cy="149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58640" y="3788280"/>
                <a:ext cx="738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080520" y="2817720"/>
                <a:ext cx="73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424600" y="3341880"/>
                <a:ext cx="73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572640" y="3341880"/>
                <a:ext cx="73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7" name=""/>
              <p:cNvGrpSpPr/>
              <p:nvPr/>
            </p:nvGrpSpPr>
            <p:grpSpPr>
              <a:xfrm>
                <a:off x="1276920" y="3716280"/>
                <a:ext cx="3033360" cy="149760"/>
                <a:chOff x="1276920" y="3716280"/>
                <a:chExt cx="3033360" cy="14976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1276920" y="3716280"/>
                  <a:ext cx="737280" cy="149760"/>
                  <a:chOff x="1276920" y="3716280"/>
                  <a:chExt cx="737280" cy="14976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>
                    <a:off x="1276920" y="3791160"/>
                    <a:ext cx="20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1813320" y="3791160"/>
                    <a:ext cx="200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1477800" y="3716280"/>
                    <a:ext cx="335160" cy="1497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2" name=""/>
                <p:cNvSpPr/>
                <p:nvPr/>
              </p:nvSpPr>
              <p:spPr>
                <a:xfrm>
                  <a:off x="2014560" y="3716280"/>
                  <a:ext cx="327960" cy="149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42880" y="3791160"/>
                  <a:ext cx="245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2588760" y="3716280"/>
                  <a:ext cx="327600" cy="149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2916360" y="3791160"/>
                  <a:ext cx="245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3490560" y="3791160"/>
                  <a:ext cx="245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162240" y="3716280"/>
                  <a:ext cx="327960" cy="149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3736440" y="3716280"/>
                  <a:ext cx="327960" cy="149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064400" y="3791160"/>
                  <a:ext cx="245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0" name=""/>
              <p:cNvSpPr/>
              <p:nvPr/>
            </p:nvSpPr>
            <p:spPr>
              <a:xfrm>
                <a:off x="1276920" y="3306240"/>
                <a:ext cx="0" cy="160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10640" y="3341880"/>
                <a:ext cx="0" cy="97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932840" y="3791520"/>
                <a:ext cx="0" cy="52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424600" y="3791520"/>
                <a:ext cx="0" cy="44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998800" y="3791520"/>
                <a:ext cx="0" cy="22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572640" y="3791520"/>
                <a:ext cx="0" cy="44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096640" y="4540320"/>
                <a:ext cx="8532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0320" y="4240800"/>
                <a:ext cx="8532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952720" y="4016160"/>
                <a:ext cx="8496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530160" y="4240800"/>
                <a:ext cx="8532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834640" y="4615200"/>
                <a:ext cx="85320" cy="78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2424600" y="4315320"/>
                <a:ext cx="409680" cy="29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75680" y="4690080"/>
                <a:ext cx="0" cy="299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983040" y="4315680"/>
                <a:ext cx="327600" cy="22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932840" y="4315680"/>
                <a:ext cx="163800" cy="22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900960" y="4540320"/>
                <a:ext cx="84960" cy="77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3162600" y="3116880"/>
                <a:ext cx="40968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932840" y="3788280"/>
                <a:ext cx="736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424600" y="3788280"/>
                <a:ext cx="738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998800" y="3788280"/>
                <a:ext cx="74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572640" y="3788280"/>
                <a:ext cx="738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04520" y="4540320"/>
                <a:ext cx="106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500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848960" y="4091040"/>
                <a:ext cx="10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50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669040" y="4016160"/>
                <a:ext cx="107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5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162600" y="4237560"/>
                <a:ext cx="10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0.5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408840" y="4540320"/>
                <a:ext cx="106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36080" y="2743200"/>
                <a:ext cx="47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339640" y="2817720"/>
                <a:ext cx="49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686600" y="2817720"/>
                <a:ext cx="7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669040" y="4989960"/>
                <a:ext cx="4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112760" y="4914720"/>
                <a:ext cx="73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1" name=""/>
          <p:cNvSpPr/>
          <p:nvPr/>
        </p:nvSpPr>
        <p:spPr>
          <a:xfrm>
            <a:off x="4952880" y="32004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分流器电阻，改变转换开关的位置，就改变了分流器的电阻，从而改变了电流的量程。量程愈大，分流器电阻愈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523880" y="372960"/>
            <a:ext cx="5840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5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用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267080" y="2209680"/>
            <a:ext cx="1905120" cy="990720"/>
          </a:xfrm>
          <a:prstGeom prst="wedgeRoundRectCallout">
            <a:avLst>
              <a:gd name="adj1" fmla="val -95166"/>
              <a:gd name="adj2" fmla="val 62018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调整电位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295280" y="448920"/>
            <a:ext cx="5840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5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用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3520" y="1004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5.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磁电式万用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85800" y="1447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测量直流电流、直流电压、交流电压和电阻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33520" y="20574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直流电压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09480" y="2590920"/>
            <a:ext cx="35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V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V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成倍压器电阻，改变转换开关的位置，就改变了倍压器的电阻，从而改变了电压的量程。量程愈大，倍压器电阻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4191120" y="2438280"/>
            <a:ext cx="4952880" cy="3084120"/>
            <a:chOff x="4191120" y="2438280"/>
            <a:chExt cx="4952880" cy="3084120"/>
          </a:xfrm>
        </p:grpSpPr>
        <p:sp>
          <p:nvSpPr>
            <p:cNvPr id="1841" name=""/>
            <p:cNvSpPr/>
            <p:nvPr/>
          </p:nvSpPr>
          <p:spPr>
            <a:xfrm>
              <a:off x="4191120" y="5062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测量直流电压的原理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05520" y="278136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62360" y="4645080"/>
              <a:ext cx="8568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257800" y="2819520"/>
              <a:ext cx="16344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791320" y="2895480"/>
              <a:ext cx="41112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81480" y="3505320"/>
              <a:ext cx="73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1320" y="2514600"/>
              <a:ext cx="73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48640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72200" y="29718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334120" y="3429000"/>
              <a:ext cx="32832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800760" y="3443400"/>
              <a:ext cx="3286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29440" y="3519360"/>
              <a:ext cx="24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702560" y="351936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375680" y="3443400"/>
              <a:ext cx="3268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48440" y="3443400"/>
              <a:ext cx="3286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77120" y="3519360"/>
              <a:ext cx="24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705200" y="2965320"/>
              <a:ext cx="0" cy="16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534520" y="2971800"/>
              <a:ext cx="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7772040" y="3517920"/>
              <a:ext cx="12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197840" y="403848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190000" y="4343400"/>
              <a:ext cx="0" cy="29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5867280" y="2742840"/>
              <a:ext cx="41112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38880" y="3505320"/>
              <a:ext cx="735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629400" y="35053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785000" y="3514680"/>
              <a:ext cx="73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34520" y="3809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20120" y="3886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9343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030640" y="24382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34120" y="25146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800600" y="2514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01000" y="464832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72000" y="4648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4687560" y="29718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4724280" y="35053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675400" y="3505320"/>
              <a:ext cx="11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00800" y="2971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38880" y="35053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737480" y="388620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153280" y="426708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229600" y="39625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93120" y="392580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153280" y="464832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350120" y="419112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609480" y="395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交流电压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57200" y="838080"/>
            <a:ext cx="3581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电式仪表只能测量直流，如果要测量交流，需加整流元件，如图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4114800" y="762120"/>
            <a:ext cx="4800600" cy="3056760"/>
            <a:chOff x="4114800" y="762120"/>
            <a:chExt cx="4800600" cy="3056760"/>
          </a:xfrm>
        </p:grpSpPr>
        <p:grpSp>
          <p:nvGrpSpPr>
            <p:cNvPr id="1888" name=""/>
            <p:cNvGrpSpPr/>
            <p:nvPr/>
          </p:nvGrpSpPr>
          <p:grpSpPr>
            <a:xfrm>
              <a:off x="4114800" y="762120"/>
              <a:ext cx="4800600" cy="3056760"/>
              <a:chOff x="4114800" y="762120"/>
              <a:chExt cx="4800600" cy="3056760"/>
            </a:xfrm>
          </p:grpSpPr>
          <p:sp>
            <p:nvSpPr>
              <p:cNvPr id="1889" name=""/>
              <p:cNvSpPr/>
              <p:nvPr/>
            </p:nvSpPr>
            <p:spPr>
              <a:xfrm>
                <a:off x="4114800" y="3359160"/>
                <a:ext cx="472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测量交流电压的原理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391520" y="1149120"/>
                <a:ext cx="287280" cy="286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761000" y="3054240"/>
                <a:ext cx="79560" cy="77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7467840" y="1149120"/>
                <a:ext cx="163440" cy="22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05720" y="844560"/>
                <a:ext cx="73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800600" y="76824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105520" y="1225440"/>
                <a:ext cx="32868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781520" y="762120"/>
                <a:ext cx="19080" cy="22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077320" y="768240"/>
                <a:ext cx="0" cy="106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6782040" y="1072800"/>
                <a:ext cx="41112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658120" y="1225440"/>
                <a:ext cx="32832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986440" y="1301760"/>
                <a:ext cx="24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559560" y="1301760"/>
                <a:ext cx="24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232680" y="1225440"/>
                <a:ext cx="32688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805800" y="1225440"/>
                <a:ext cx="32868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34480" y="1301760"/>
                <a:ext cx="24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077320" y="22921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0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316640" y="844560"/>
                <a:ext cx="47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62920" y="920520"/>
                <a:ext cx="49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620120" y="8445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467840" y="3054240"/>
                <a:ext cx="4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648320" y="29779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7696440" y="1301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800240" y="13017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315200" y="2520720"/>
                <a:ext cx="79560" cy="77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696440" y="2786040"/>
                <a:ext cx="79200" cy="77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7772400" y="2481120"/>
                <a:ext cx="3049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035920" y="2444760"/>
                <a:ext cx="79560" cy="77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696440" y="3054240"/>
                <a:ext cx="79200" cy="77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5445000" y="13017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5791320" y="1377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791320" y="1834920"/>
                <a:ext cx="228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1" name=""/>
              <p:cNvGrpSpPr/>
              <p:nvPr/>
            </p:nvGrpSpPr>
            <p:grpSpPr>
              <a:xfrm>
                <a:off x="6096240" y="1722240"/>
                <a:ext cx="152280" cy="228240"/>
                <a:chOff x="6096240" y="1722240"/>
                <a:chExt cx="152280" cy="22824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6096240" y="172224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V="1">
                  <a:off x="6096240" y="1722240"/>
                  <a:ext cx="152280" cy="11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096240" y="183600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248520" y="172224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6" name=""/>
              <p:cNvGrpSpPr/>
              <p:nvPr/>
            </p:nvGrpSpPr>
            <p:grpSpPr>
              <a:xfrm>
                <a:off x="7315200" y="1719000"/>
                <a:ext cx="152640" cy="228240"/>
                <a:chOff x="7315200" y="1719000"/>
                <a:chExt cx="152640" cy="22824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7315200" y="171900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V="1">
                  <a:off x="7315200" y="1719000"/>
                  <a:ext cx="152640" cy="11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7315200" y="1832760"/>
                  <a:ext cx="15264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7467840" y="171900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1" name=""/>
              <p:cNvSpPr/>
              <p:nvPr/>
            </p:nvSpPr>
            <p:spPr>
              <a:xfrm>
                <a:off x="6629400" y="1834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915240" y="2139840"/>
                <a:ext cx="32868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467840" y="2139840"/>
                <a:ext cx="328320" cy="15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629400" y="2216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39240" y="22161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772400" y="2216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356600" y="22161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077320" y="2216160"/>
                <a:ext cx="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737480" y="2859120"/>
                <a:ext cx="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010640" y="25207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025320" y="137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44640" y="137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>
              <a:off x="6706800" y="2210040"/>
              <a:ext cx="61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392600" y="2210040"/>
              <a:ext cx="61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564520" y="909720"/>
              <a:ext cx="6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380880" y="2666880"/>
            <a:ext cx="35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半周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流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部分电流流经微安表流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5790960" y="19810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7924680" y="27432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6781680" y="2057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952520" y="1447920"/>
            <a:ext cx="1829160" cy="0"/>
            <a:chOff x="4952520" y="1447920"/>
            <a:chExt cx="1829160" cy="0"/>
          </a:xfrm>
        </p:grpSpPr>
        <p:sp>
          <p:nvSpPr>
            <p:cNvPr id="1951" name=""/>
            <p:cNvSpPr/>
            <p:nvPr/>
          </p:nvSpPr>
          <p:spPr>
            <a:xfrm>
              <a:off x="6248520" y="144792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4952520" y="14479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4876920" y="19810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4648320" y="167616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400800" y="685800"/>
            <a:ext cx="53352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7009920" y="175248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010280" y="1981080"/>
            <a:ext cx="60984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077320" y="2743200"/>
            <a:ext cx="0" cy="53352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57200" y="403848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半周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直接流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流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80880" y="4495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见，通过微安表的是半波电流，读数应为该电流的平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0880" y="4495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见，通过微安表的是半波电流，读数应为该电流的平均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此，加一交流调整电位器（图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用来改变表盘刻度；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指示读数被折换为正弦电压有效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0880" y="4495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见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通过微安表的是半波电流，读数应为该电流的平均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此，加一交流调整电位器（图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用来改变表盘刻度；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指示读数被折换为正弦电压有效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普通万用表只适合测量频率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5~1000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457200" y="609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阻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57200" y="1143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电阻时，需接入电池，被测电阻愈小，电流愈大，则指针偏转的角度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4572000" y="914400"/>
            <a:ext cx="4191120" cy="3431520"/>
            <a:chOff x="4572000" y="914400"/>
            <a:chExt cx="4191120" cy="3431520"/>
          </a:xfrm>
        </p:grpSpPr>
        <p:sp>
          <p:nvSpPr>
            <p:cNvPr id="1966" name=""/>
            <p:cNvSpPr/>
            <p:nvPr/>
          </p:nvSpPr>
          <p:spPr>
            <a:xfrm>
              <a:off x="4572000" y="38862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测量电阻的原理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391520" y="1301760"/>
              <a:ext cx="287280" cy="287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761000" y="365760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467480" y="1301760"/>
              <a:ext cx="1638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996840"/>
              <a:ext cx="73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800600" y="9208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05520" y="1378080"/>
              <a:ext cx="32832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781520" y="914400"/>
              <a:ext cx="1908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077320" y="920880"/>
              <a:ext cx="0" cy="13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6781680" y="1225080"/>
              <a:ext cx="41112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57760" y="1378080"/>
              <a:ext cx="3286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986440" y="1454040"/>
              <a:ext cx="24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559560" y="145404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232680" y="1378080"/>
              <a:ext cx="3268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805440" y="1378080"/>
              <a:ext cx="328680" cy="15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134120" y="1454040"/>
              <a:ext cx="24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316640" y="9968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162920" y="10731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620120" y="996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648320" y="3581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7695720" y="14540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800240" y="145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297400" y="281952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444640" y="14540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6400800" y="1523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400800" y="1981080"/>
              <a:ext cx="16765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67280" y="25909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38680" y="3657600"/>
              <a:ext cx="4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678640" y="365760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248520" y="3159000"/>
              <a:ext cx="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945760" y="1066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.7k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57800" y="2286000"/>
              <a:ext cx="15228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791320" y="2286000"/>
              <a:ext cx="15228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334120" y="2057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00600" y="20574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5867280" y="2057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334120" y="2590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826240" y="266688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flipV="1">
              <a:off x="586692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95880" y="33526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095880" y="3200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019920" y="32767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715000" y="335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715000" y="3352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001000" y="2286000"/>
              <a:ext cx="15228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077320" y="2590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07120" y="3083040"/>
              <a:ext cx="795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715000" y="32767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019920" y="327672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715000" y="3429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952880" y="28195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867280" y="243828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83440" y="3122640"/>
              <a:ext cx="179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34120" y="14479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调零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609480" y="3124080"/>
            <a:ext cx="3657600" cy="22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前应先将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短接，看指针是否指在零，否则应调节调零电位器（图中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7k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）进行校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19720" y="464832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绝对不能在带电线路上测量电阻。用毕应将转换开关转到高电压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2798280" y="6172200"/>
            <a:ext cx="28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型万用表的面板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523880" y="220680"/>
            <a:ext cx="5840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5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用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934320" y="2895480"/>
            <a:ext cx="1295280" cy="838440"/>
          </a:xfrm>
          <a:prstGeom prst="wedgeRoundRectCallout">
            <a:avLst>
              <a:gd name="adj1" fmla="val -119486"/>
              <a:gd name="adj2" fmla="val 60416"/>
              <a:gd name="adj3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零欧姆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38080" y="1981080"/>
            <a:ext cx="1295640" cy="838440"/>
          </a:xfrm>
          <a:prstGeom prst="wedgeRoundRectCallout">
            <a:avLst>
              <a:gd name="adj1" fmla="val 240810"/>
              <a:gd name="adj2" fmla="val 95833"/>
              <a:gd name="adj3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机械零位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2523600" y="838080"/>
            <a:ext cx="4182120" cy="5272920"/>
            <a:chOff x="2523600" y="838080"/>
            <a:chExt cx="4182120" cy="5272920"/>
          </a:xfrm>
        </p:grpSpPr>
        <p:sp>
          <p:nvSpPr>
            <p:cNvPr id="2027" name=""/>
            <p:cNvSpPr/>
            <p:nvPr/>
          </p:nvSpPr>
          <p:spPr>
            <a:xfrm rot="20100000">
              <a:off x="3046320" y="12189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20466600">
              <a:off x="3310920" y="10857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20760000">
              <a:off x="3975120" y="9637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21189600">
              <a:off x="4229280" y="9298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95400">
              <a:off x="4516200" y="9298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234800">
              <a:off x="4925520" y="9302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1740000">
              <a:off x="5438520" y="10569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2160000">
              <a:off x="5828040" y="126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2700000">
              <a:off x="6172560" y="1461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9920000">
              <a:off x="3575160" y="16873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20675400">
              <a:off x="4103640" y="1528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484800">
              <a:off x="4687200" y="154260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rot="1626000">
              <a:off x="5336640" y="172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rot="2044200">
              <a:off x="5725440" y="19569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20193000">
              <a:off x="3691080" y="1863360"/>
              <a:ext cx="1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40080" y="1736640"/>
              <a:ext cx="17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612000">
              <a:off x="4749480" y="1752480"/>
              <a:ext cx="1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753200">
              <a:off x="5231520" y="1848960"/>
              <a:ext cx="17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2160000">
              <a:off x="5611680" y="20728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20640000">
              <a:off x="3959280" y="21891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381560" y="21286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1980000">
              <a:off x="5361120" y="2453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370400" y="2438280"/>
              <a:ext cx="51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-V-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19860000">
              <a:off x="3794760" y="2263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9260000">
              <a:off x="2763360" y="145836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19200000">
              <a:off x="2672280" y="1652760"/>
              <a:ext cx="14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19260000">
              <a:off x="3123360" y="222516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9380000">
              <a:off x="3276000" y="2301120"/>
              <a:ext cx="27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rot="19500000">
              <a:off x="3484440" y="2398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2760000">
              <a:off x="5904000" y="2022840"/>
              <a:ext cx="44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V.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2700000">
              <a:off x="5742720" y="225648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1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2340000">
              <a:off x="5561280" y="24382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+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2520000">
              <a:off x="6230520" y="1744200"/>
              <a:ext cx="14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895480" y="5211720"/>
              <a:ext cx="617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67280" y="5181480"/>
              <a:ext cx="381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076640" y="55101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78320" y="5576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608360" y="5578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921200" y="5524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10080" y="4892760"/>
              <a:ext cx="24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356080" y="466416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57800" y="4495680"/>
              <a:ext cx="23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18560" y="426708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×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3320" y="411480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×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445280" y="397836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×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075920" y="4054320"/>
              <a:ext cx="28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×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83320" y="4206960"/>
              <a:ext cx="19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×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733920" y="441972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740040" y="5041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41920" y="53020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90640" y="47084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78240" y="5334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292360" y="51386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649840" y="4876920"/>
              <a:ext cx="217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24480" y="3657600"/>
              <a:ext cx="24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72760" y="4419720"/>
              <a:ext cx="32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imes New Roman"/>
                </a:rPr>
                <a:t>μ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428280" y="533412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99"/>
                  </a:solidFill>
                  <a:uFillTx/>
                  <a:latin typeface="Times New Roman"/>
                </a:rPr>
                <a:t>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571640" y="5715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613040" y="58672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99"/>
                  </a:solidFill>
                  <a:latin typeface="宋体"/>
                </a:rPr>
                <a:t>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51280" y="6094440"/>
              <a:ext cx="345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6404040" y="5392440"/>
              <a:ext cx="299880" cy="70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6703920" y="838080"/>
              <a:ext cx="1800" cy="45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2523600" y="838080"/>
              <a:ext cx="4179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523960" y="838080"/>
              <a:ext cx="1800" cy="45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523960" y="5392800"/>
              <a:ext cx="427320" cy="70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 flipV="1">
              <a:off x="2626920" y="3257280"/>
              <a:ext cx="200988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627280" y="921960"/>
              <a:ext cx="1800" cy="233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627280" y="922320"/>
              <a:ext cx="391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43720" y="922320"/>
              <a:ext cx="1440" cy="23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4637160" y="3281400"/>
              <a:ext cx="190656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906640" y="2697120"/>
              <a:ext cx="3360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 flipV="1">
              <a:off x="2924280" y="1693440"/>
              <a:ext cx="1131840" cy="10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40040" y="1182600"/>
              <a:ext cx="3335400" cy="568440"/>
            </a:xfrm>
            <a:custGeom>
              <a:avLst/>
              <a:gdLst/>
              <a:ahLst/>
              <a:rect l="l" t="t" r="r" b="b"/>
              <a:pathLst>
                <a:path w="2101" h="403">
                  <a:moveTo>
                    <a:pt x="2101" y="403"/>
                  </a:moveTo>
                  <a:lnTo>
                    <a:pt x="1870" y="232"/>
                  </a:lnTo>
                  <a:lnTo>
                    <a:pt x="1613" y="107"/>
                  </a:lnTo>
                  <a:lnTo>
                    <a:pt x="1338" y="28"/>
                  </a:lnTo>
                  <a:lnTo>
                    <a:pt x="1053" y="0"/>
                  </a:lnTo>
                  <a:lnTo>
                    <a:pt x="766" y="26"/>
                  </a:lnTo>
                  <a:lnTo>
                    <a:pt x="491" y="100"/>
                  </a:lnTo>
                  <a:lnTo>
                    <a:pt x="232" y="223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166920" y="1500120"/>
              <a:ext cx="2776680" cy="466920"/>
            </a:xfrm>
            <a:custGeom>
              <a:avLst/>
              <a:gdLst/>
              <a:ahLst/>
              <a:rect l="l" t="t" r="r" b="b"/>
              <a:pathLst>
                <a:path w="1749" h="331">
                  <a:moveTo>
                    <a:pt x="1749" y="331"/>
                  </a:moveTo>
                  <a:lnTo>
                    <a:pt x="1557" y="194"/>
                  </a:lnTo>
                  <a:lnTo>
                    <a:pt x="1345" y="90"/>
                  </a:lnTo>
                  <a:lnTo>
                    <a:pt x="1115" y="25"/>
                  </a:lnTo>
                  <a:lnTo>
                    <a:pt x="882" y="0"/>
                  </a:lnTo>
                  <a:lnTo>
                    <a:pt x="646" y="14"/>
                  </a:lnTo>
                  <a:lnTo>
                    <a:pt x="417" y="69"/>
                  </a:lnTo>
                  <a:lnTo>
                    <a:pt x="199" y="162"/>
                  </a:lnTo>
                  <a:lnTo>
                    <a:pt x="0" y="2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19440" y="2058840"/>
              <a:ext cx="1928880" cy="341640"/>
            </a:xfrm>
            <a:custGeom>
              <a:avLst/>
              <a:gdLst/>
              <a:ahLst/>
              <a:rect l="l" t="t" r="r" b="b"/>
              <a:pathLst>
                <a:path w="1215" h="243">
                  <a:moveTo>
                    <a:pt x="1215" y="243"/>
                  </a:moveTo>
                  <a:lnTo>
                    <a:pt x="1064" y="132"/>
                  </a:lnTo>
                  <a:lnTo>
                    <a:pt x="893" y="55"/>
                  </a:lnTo>
                  <a:lnTo>
                    <a:pt x="712" y="9"/>
                  </a:lnTo>
                  <a:lnTo>
                    <a:pt x="525" y="0"/>
                  </a:lnTo>
                  <a:lnTo>
                    <a:pt x="340" y="25"/>
                  </a:lnTo>
                  <a:lnTo>
                    <a:pt x="162" y="85"/>
                  </a:lnTo>
                  <a:lnTo>
                    <a:pt x="0" y="1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560760" y="1973160"/>
              <a:ext cx="2052720" cy="349200"/>
            </a:xfrm>
            <a:custGeom>
              <a:avLst/>
              <a:gdLst/>
              <a:ahLst/>
              <a:rect l="l" t="t" r="r" b="b"/>
              <a:pathLst>
                <a:path w="1293" h="247">
                  <a:moveTo>
                    <a:pt x="1293" y="247"/>
                  </a:moveTo>
                  <a:lnTo>
                    <a:pt x="1129" y="134"/>
                  </a:lnTo>
                  <a:lnTo>
                    <a:pt x="946" y="53"/>
                  </a:lnTo>
                  <a:lnTo>
                    <a:pt x="754" y="6"/>
                  </a:lnTo>
                  <a:lnTo>
                    <a:pt x="555" y="0"/>
                  </a:lnTo>
                  <a:lnTo>
                    <a:pt x="358" y="32"/>
                  </a:lnTo>
                  <a:lnTo>
                    <a:pt x="171" y="99"/>
                  </a:lnTo>
                  <a:lnTo>
                    <a:pt x="0" y="20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28840" y="1393920"/>
              <a:ext cx="4788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97400" y="1295280"/>
              <a:ext cx="3636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114800" y="1128600"/>
              <a:ext cx="144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343400" y="1128600"/>
              <a:ext cx="32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26000" y="1112760"/>
              <a:ext cx="14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4952520" y="1119240"/>
              <a:ext cx="1116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143680" y="1197000"/>
              <a:ext cx="1872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397120" y="1258920"/>
              <a:ext cx="3348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5783040" y="1420920"/>
              <a:ext cx="507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6094080" y="1639800"/>
              <a:ext cx="4428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 flipV="1">
              <a:off x="3636720" y="1663560"/>
              <a:ext cx="4428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 flipV="1">
              <a:off x="4192560" y="1520640"/>
              <a:ext cx="1440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4867200" y="1525680"/>
              <a:ext cx="11160" cy="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5478480" y="1709640"/>
              <a:ext cx="25560" cy="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5896080" y="1967040"/>
              <a:ext cx="47520" cy="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84680" y="2038320"/>
              <a:ext cx="5076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290840" y="1922400"/>
              <a:ext cx="11160" cy="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4768920" y="1930320"/>
              <a:ext cx="7920" cy="5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221080" y="2041560"/>
              <a:ext cx="2844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613480" y="2322360"/>
              <a:ext cx="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5613480" y="2269800"/>
              <a:ext cx="5544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514480" y="2400480"/>
              <a:ext cx="3348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5022720" y="2139480"/>
              <a:ext cx="288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4452840" y="2058480"/>
              <a:ext cx="18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 flipV="1">
              <a:off x="3924360" y="2133360"/>
              <a:ext cx="47520" cy="74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3751200" y="2236680"/>
              <a:ext cx="28800" cy="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471920" y="3049560"/>
              <a:ext cx="319320" cy="284040"/>
            </a:xfrm>
            <a:custGeom>
              <a:avLst/>
              <a:gdLst/>
              <a:ahLst/>
              <a:rect l="l" t="t" r="r" b="b"/>
              <a:pathLst>
                <a:path w="201" h="202">
                  <a:moveTo>
                    <a:pt x="201" y="100"/>
                  </a:moveTo>
                  <a:lnTo>
                    <a:pt x="187" y="51"/>
                  </a:lnTo>
                  <a:lnTo>
                    <a:pt x="150" y="14"/>
                  </a:lnTo>
                  <a:lnTo>
                    <a:pt x="101" y="0"/>
                  </a:lnTo>
                  <a:lnTo>
                    <a:pt x="50" y="14"/>
                  </a:lnTo>
                  <a:lnTo>
                    <a:pt x="13" y="51"/>
                  </a:lnTo>
                  <a:lnTo>
                    <a:pt x="0" y="100"/>
                  </a:lnTo>
                  <a:lnTo>
                    <a:pt x="13" y="151"/>
                  </a:lnTo>
                  <a:lnTo>
                    <a:pt x="50" y="188"/>
                  </a:lnTo>
                  <a:lnTo>
                    <a:pt x="101" y="202"/>
                  </a:lnTo>
                  <a:lnTo>
                    <a:pt x="150" y="188"/>
                  </a:lnTo>
                  <a:lnTo>
                    <a:pt x="187" y="151"/>
                  </a:lnTo>
                  <a:lnTo>
                    <a:pt x="201" y="1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475160" y="3157560"/>
              <a:ext cx="31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481640" y="3238560"/>
              <a:ext cx="301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59360" y="3699000"/>
              <a:ext cx="324000" cy="28728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190" y="51"/>
                  </a:lnTo>
                  <a:lnTo>
                    <a:pt x="153" y="14"/>
                  </a:lnTo>
                  <a:lnTo>
                    <a:pt x="102" y="0"/>
                  </a:lnTo>
                  <a:lnTo>
                    <a:pt x="51" y="14"/>
                  </a:lnTo>
                  <a:lnTo>
                    <a:pt x="14" y="51"/>
                  </a:lnTo>
                  <a:lnTo>
                    <a:pt x="0" y="102"/>
                  </a:lnTo>
                  <a:lnTo>
                    <a:pt x="14" y="153"/>
                  </a:lnTo>
                  <a:lnTo>
                    <a:pt x="51" y="190"/>
                  </a:lnTo>
                  <a:lnTo>
                    <a:pt x="102" y="204"/>
                  </a:lnTo>
                  <a:lnTo>
                    <a:pt x="153" y="190"/>
                  </a:lnTo>
                  <a:lnTo>
                    <a:pt x="190" y="153"/>
                  </a:lnTo>
                  <a:lnTo>
                    <a:pt x="204" y="1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94200" y="3637080"/>
              <a:ext cx="459000" cy="406440"/>
            </a:xfrm>
            <a:custGeom>
              <a:avLst/>
              <a:gdLst/>
              <a:ahLst/>
              <a:rect l="l" t="t" r="r" b="b"/>
              <a:pathLst>
                <a:path w="289" h="289">
                  <a:moveTo>
                    <a:pt x="289" y="146"/>
                  </a:moveTo>
                  <a:lnTo>
                    <a:pt x="268" y="72"/>
                  </a:lnTo>
                  <a:lnTo>
                    <a:pt x="217" y="21"/>
                  </a:lnTo>
                  <a:lnTo>
                    <a:pt x="143" y="0"/>
                  </a:lnTo>
                  <a:lnTo>
                    <a:pt x="71" y="21"/>
                  </a:lnTo>
                  <a:lnTo>
                    <a:pt x="18" y="72"/>
                  </a:lnTo>
                  <a:lnTo>
                    <a:pt x="0" y="146"/>
                  </a:lnTo>
                  <a:lnTo>
                    <a:pt x="18" y="217"/>
                  </a:lnTo>
                  <a:lnTo>
                    <a:pt x="71" y="271"/>
                  </a:lnTo>
                  <a:lnTo>
                    <a:pt x="143" y="289"/>
                  </a:lnTo>
                  <a:lnTo>
                    <a:pt x="217" y="271"/>
                  </a:lnTo>
                  <a:lnTo>
                    <a:pt x="268" y="217"/>
                  </a:lnTo>
                  <a:lnTo>
                    <a:pt x="289" y="14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147840" y="5648400"/>
              <a:ext cx="177840" cy="15876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112" y="58"/>
                  </a:moveTo>
                  <a:lnTo>
                    <a:pt x="95" y="16"/>
                  </a:lnTo>
                  <a:lnTo>
                    <a:pt x="56" y="0"/>
                  </a:lnTo>
                  <a:lnTo>
                    <a:pt x="17" y="16"/>
                  </a:lnTo>
                  <a:lnTo>
                    <a:pt x="0" y="58"/>
                  </a:lnTo>
                  <a:lnTo>
                    <a:pt x="17" y="97"/>
                  </a:lnTo>
                  <a:lnTo>
                    <a:pt x="56" y="113"/>
                  </a:lnTo>
                  <a:lnTo>
                    <a:pt x="95" y="97"/>
                  </a:lnTo>
                  <a:lnTo>
                    <a:pt x="112" y="5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075120" y="5586480"/>
              <a:ext cx="323640" cy="28728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190" y="51"/>
                  </a:lnTo>
                  <a:lnTo>
                    <a:pt x="153" y="14"/>
                  </a:lnTo>
                  <a:lnTo>
                    <a:pt x="102" y="0"/>
                  </a:lnTo>
                  <a:lnTo>
                    <a:pt x="51" y="14"/>
                  </a:lnTo>
                  <a:lnTo>
                    <a:pt x="14" y="51"/>
                  </a:lnTo>
                  <a:lnTo>
                    <a:pt x="0" y="102"/>
                  </a:lnTo>
                  <a:lnTo>
                    <a:pt x="14" y="153"/>
                  </a:lnTo>
                  <a:lnTo>
                    <a:pt x="51" y="190"/>
                  </a:lnTo>
                  <a:lnTo>
                    <a:pt x="102" y="204"/>
                  </a:lnTo>
                  <a:lnTo>
                    <a:pt x="153" y="190"/>
                  </a:lnTo>
                  <a:lnTo>
                    <a:pt x="190" y="153"/>
                  </a:lnTo>
                  <a:lnTo>
                    <a:pt x="204" y="1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907240" y="5586480"/>
              <a:ext cx="323640" cy="28728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190" y="51"/>
                  </a:lnTo>
                  <a:lnTo>
                    <a:pt x="153" y="14"/>
                  </a:lnTo>
                  <a:lnTo>
                    <a:pt x="102" y="0"/>
                  </a:lnTo>
                  <a:lnTo>
                    <a:pt x="51" y="14"/>
                  </a:lnTo>
                  <a:lnTo>
                    <a:pt x="14" y="51"/>
                  </a:lnTo>
                  <a:lnTo>
                    <a:pt x="0" y="102"/>
                  </a:lnTo>
                  <a:lnTo>
                    <a:pt x="14" y="153"/>
                  </a:lnTo>
                  <a:lnTo>
                    <a:pt x="51" y="190"/>
                  </a:lnTo>
                  <a:lnTo>
                    <a:pt x="102" y="204"/>
                  </a:lnTo>
                  <a:lnTo>
                    <a:pt x="153" y="190"/>
                  </a:lnTo>
                  <a:lnTo>
                    <a:pt x="190" y="153"/>
                  </a:lnTo>
                  <a:lnTo>
                    <a:pt x="204" y="1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981760" y="5648400"/>
              <a:ext cx="179280" cy="15876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113" y="58"/>
                  </a:moveTo>
                  <a:lnTo>
                    <a:pt x="97" y="16"/>
                  </a:lnTo>
                  <a:lnTo>
                    <a:pt x="55" y="0"/>
                  </a:lnTo>
                  <a:lnTo>
                    <a:pt x="16" y="16"/>
                  </a:lnTo>
                  <a:lnTo>
                    <a:pt x="0" y="58"/>
                  </a:lnTo>
                  <a:lnTo>
                    <a:pt x="16" y="97"/>
                  </a:lnTo>
                  <a:lnTo>
                    <a:pt x="55" y="113"/>
                  </a:lnTo>
                  <a:lnTo>
                    <a:pt x="97" y="97"/>
                  </a:lnTo>
                  <a:lnTo>
                    <a:pt x="113" y="5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65600" y="4532400"/>
              <a:ext cx="324000" cy="701640"/>
            </a:xfrm>
            <a:custGeom>
              <a:avLst/>
              <a:gdLst/>
              <a:ahLst/>
              <a:rect l="l" t="t" r="r" b="b"/>
              <a:pathLst>
                <a:path w="204" h="498">
                  <a:moveTo>
                    <a:pt x="19" y="498"/>
                  </a:moveTo>
                  <a:lnTo>
                    <a:pt x="107" y="456"/>
                  </a:lnTo>
                  <a:lnTo>
                    <a:pt x="171" y="382"/>
                  </a:lnTo>
                  <a:lnTo>
                    <a:pt x="204" y="292"/>
                  </a:lnTo>
                  <a:lnTo>
                    <a:pt x="199" y="195"/>
                  </a:lnTo>
                  <a:lnTo>
                    <a:pt x="160" y="104"/>
                  </a:lnTo>
                  <a:lnTo>
                    <a:pt x="90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02040" y="4278240"/>
              <a:ext cx="1370160" cy="1219320"/>
            </a:xfrm>
            <a:custGeom>
              <a:avLst/>
              <a:gdLst/>
              <a:ahLst/>
              <a:rect l="l" t="t" r="r" b="b"/>
              <a:pathLst>
                <a:path w="863" h="865">
                  <a:moveTo>
                    <a:pt x="863" y="433"/>
                  </a:moveTo>
                  <a:lnTo>
                    <a:pt x="842" y="298"/>
                  </a:lnTo>
                  <a:lnTo>
                    <a:pt x="782" y="178"/>
                  </a:lnTo>
                  <a:lnTo>
                    <a:pt x="685" y="81"/>
                  </a:lnTo>
                  <a:lnTo>
                    <a:pt x="564" y="21"/>
                  </a:lnTo>
                  <a:lnTo>
                    <a:pt x="433" y="0"/>
                  </a:lnTo>
                  <a:lnTo>
                    <a:pt x="298" y="21"/>
                  </a:lnTo>
                  <a:lnTo>
                    <a:pt x="178" y="81"/>
                  </a:lnTo>
                  <a:lnTo>
                    <a:pt x="83" y="178"/>
                  </a:lnTo>
                  <a:lnTo>
                    <a:pt x="21" y="298"/>
                  </a:lnTo>
                  <a:lnTo>
                    <a:pt x="0" y="433"/>
                  </a:lnTo>
                  <a:lnTo>
                    <a:pt x="21" y="565"/>
                  </a:lnTo>
                  <a:lnTo>
                    <a:pt x="83" y="687"/>
                  </a:lnTo>
                  <a:lnTo>
                    <a:pt x="178" y="782"/>
                  </a:lnTo>
                  <a:lnTo>
                    <a:pt x="298" y="842"/>
                  </a:lnTo>
                  <a:lnTo>
                    <a:pt x="433" y="865"/>
                  </a:lnTo>
                  <a:lnTo>
                    <a:pt x="564" y="842"/>
                  </a:lnTo>
                  <a:lnTo>
                    <a:pt x="685" y="782"/>
                  </a:lnTo>
                  <a:lnTo>
                    <a:pt x="782" y="687"/>
                  </a:lnTo>
                  <a:lnTo>
                    <a:pt x="842" y="565"/>
                  </a:lnTo>
                  <a:lnTo>
                    <a:pt x="863" y="4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494160" y="5172120"/>
              <a:ext cx="13644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 flipV="1">
              <a:off x="4408560" y="4382640"/>
              <a:ext cx="301680" cy="11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4662000" y="4363920"/>
              <a:ext cx="4788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4408200" y="4363920"/>
              <a:ext cx="2538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81400" y="4549680"/>
              <a:ext cx="447840" cy="696960"/>
            </a:xfrm>
            <a:custGeom>
              <a:avLst/>
              <a:gdLst/>
              <a:ahLst/>
              <a:rect l="l" t="t" r="r" b="b"/>
              <a:pathLst>
                <a:path w="282" h="495">
                  <a:moveTo>
                    <a:pt x="169" y="0"/>
                  </a:moveTo>
                  <a:lnTo>
                    <a:pt x="81" y="55"/>
                  </a:lnTo>
                  <a:lnTo>
                    <a:pt x="21" y="141"/>
                  </a:lnTo>
                  <a:lnTo>
                    <a:pt x="0" y="245"/>
                  </a:lnTo>
                  <a:lnTo>
                    <a:pt x="23" y="347"/>
                  </a:lnTo>
                  <a:lnTo>
                    <a:pt x="85" y="430"/>
                  </a:lnTo>
                  <a:lnTo>
                    <a:pt x="178" y="484"/>
                  </a:lnTo>
                  <a:lnTo>
                    <a:pt x="282" y="49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897440" y="4275000"/>
              <a:ext cx="3960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4628880" y="4200480"/>
              <a:ext cx="1116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352760" y="4232160"/>
              <a:ext cx="190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11560" y="4346640"/>
              <a:ext cx="4752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27600" y="4529160"/>
              <a:ext cx="69840" cy="4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3824280" y="4787640"/>
              <a:ext cx="88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3849840" y="5057640"/>
              <a:ext cx="806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3983040" y="5267160"/>
              <a:ext cx="61920" cy="5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4240080" y="5430960"/>
              <a:ext cx="367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4497480" y="5492520"/>
              <a:ext cx="111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4893840" y="5432040"/>
              <a:ext cx="176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5076360" y="5311440"/>
              <a:ext cx="4788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5194440" y="5172120"/>
              <a:ext cx="69840" cy="4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5261040" y="4998960"/>
              <a:ext cx="842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271840" y="4809960"/>
              <a:ext cx="88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5216040" y="4616280"/>
              <a:ext cx="8100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5087520" y="4417920"/>
              <a:ext cx="63720" cy="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5367240" y="4227480"/>
              <a:ext cx="8100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5543640" y="4503600"/>
              <a:ext cx="95040" cy="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297400" y="5559480"/>
              <a:ext cx="666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011560" y="5719680"/>
              <a:ext cx="4320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4254120" y="5762520"/>
              <a:ext cx="5868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3975120" y="5673600"/>
              <a:ext cx="47520" cy="6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3494160" y="5149800"/>
              <a:ext cx="9216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 flipV="1">
              <a:off x="3457440" y="4767120"/>
              <a:ext cx="986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3603240" y="4376880"/>
              <a:ext cx="9684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3832200" y="4132440"/>
              <a:ext cx="7632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3541680" y="4376880"/>
              <a:ext cx="6192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02320" y="3879720"/>
              <a:ext cx="745920" cy="347760"/>
            </a:xfrm>
            <a:custGeom>
              <a:avLst/>
              <a:gdLst/>
              <a:ahLst/>
              <a:rect l="l" t="t" r="r" b="b"/>
              <a:pathLst>
                <a:path w="470" h="246">
                  <a:moveTo>
                    <a:pt x="470" y="246"/>
                  </a:moveTo>
                  <a:lnTo>
                    <a:pt x="336" y="125"/>
                  </a:lnTo>
                  <a:lnTo>
                    <a:pt x="176" y="4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364000" y="5159520"/>
              <a:ext cx="319320" cy="466560"/>
            </a:xfrm>
            <a:custGeom>
              <a:avLst/>
              <a:gdLst/>
              <a:ahLst/>
              <a:rect l="l" t="t" r="r" b="b"/>
              <a:pathLst>
                <a:path w="201" h="331">
                  <a:moveTo>
                    <a:pt x="0" y="331"/>
                  </a:moveTo>
                  <a:lnTo>
                    <a:pt x="125" y="178"/>
                  </a:lnTo>
                  <a:lnTo>
                    <a:pt x="20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254480" y="5854680"/>
              <a:ext cx="335160" cy="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4724280" y="5811480"/>
              <a:ext cx="3304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38680" y="4503600"/>
              <a:ext cx="81000" cy="473040"/>
            </a:xfrm>
            <a:custGeom>
              <a:avLst/>
              <a:gdLst/>
              <a:ahLst/>
              <a:rect l="l" t="t" r="r" b="b"/>
              <a:pathLst>
                <a:path w="51" h="336">
                  <a:moveTo>
                    <a:pt x="51" y="336"/>
                  </a:moveTo>
                  <a:lnTo>
                    <a:pt x="47" y="16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32200" y="3876840"/>
              <a:ext cx="698400" cy="255600"/>
            </a:xfrm>
            <a:custGeom>
              <a:avLst/>
              <a:gdLst/>
              <a:ahLst/>
              <a:rect l="l" t="t" r="r" b="b"/>
              <a:pathLst>
                <a:path w="440" h="181">
                  <a:moveTo>
                    <a:pt x="440" y="0"/>
                  </a:moveTo>
                  <a:lnTo>
                    <a:pt x="280" y="26"/>
                  </a:lnTo>
                  <a:lnTo>
                    <a:pt x="132" y="88"/>
                  </a:lnTo>
                  <a:lnTo>
                    <a:pt x="0" y="18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3457080" y="4670280"/>
              <a:ext cx="1764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798720" y="5616720"/>
              <a:ext cx="176400" cy="1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2185200">
              <a:off x="5769360" y="22845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2" name=""/>
          <p:cNvSpPr/>
          <p:nvPr/>
        </p:nvSpPr>
        <p:spPr>
          <a:xfrm>
            <a:off x="685800" y="3505320"/>
            <a:ext cx="1676520" cy="457200"/>
          </a:xfrm>
          <a:prstGeom prst="wedgeRoundRectCallout">
            <a:avLst>
              <a:gd name="adj1" fmla="val 183805"/>
              <a:gd name="adj2" fmla="val 217361"/>
              <a:gd name="adj3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转换开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5.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字式万用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181万用表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40160" cy="4883040"/>
          </a:xfrm>
          <a:prstGeom prst="rect">
            <a:avLst/>
          </a:prstGeom>
          <a:ln w="0">
            <a:noFill/>
          </a:ln>
        </p:spPr>
      </p:pic>
      <p:pic>
        <p:nvPicPr>
          <p:cNvPr id="2186" name="5801万用表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462040" cy="4807080"/>
          </a:xfrm>
          <a:prstGeom prst="rect">
            <a:avLst/>
          </a:prstGeom>
          <a:ln w="0">
            <a:noFill/>
          </a:ln>
        </p:spPr>
      </p:pic>
      <p:pic>
        <p:nvPicPr>
          <p:cNvPr id="2187" name="850B万用表" descr=""/>
          <p:cNvPicPr/>
          <p:nvPr/>
        </p:nvPicPr>
        <p:blipFill>
          <a:blip r:embed="rId3"/>
          <a:stretch/>
        </p:blipFill>
        <p:spPr>
          <a:xfrm>
            <a:off x="3124080" y="990720"/>
            <a:ext cx="295128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4300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中的各个物理量（如电压、电流、功率、电能及电路参数等）的大小，除用分析与计算的方法外，常用电工测量仪表去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2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工测量技术的应用主要有以下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90160" y="486720"/>
            <a:ext cx="302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工测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006720"/>
            <a:ext cx="807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工测量仪表的结构简单，使用方便，并有足够的精确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962520"/>
            <a:ext cx="807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工测量仪表可以灵活地安装在需要进行测量的地方，并可实现自动记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95288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工测量仪表可实现远距离的测量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008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利用电工测量的方法对非电量进行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80880" y="685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T-8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数字万用表为例来说明它的测量范围和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57200" y="1523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测量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33520" y="1981080"/>
            <a:ext cx="6933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直流电压分为五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mV,2V,20V,200V,10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33520" y="2895480"/>
            <a:ext cx="73911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交流电压分为五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mV,2V,20V,200V,75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33520" y="3809880"/>
            <a:ext cx="81532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直流电流分为五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,2 mA,20mA,200mA,10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33520" y="4672080"/>
            <a:ext cx="8076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交流电流分为五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,2 mA,20mA,200mA,10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33520" y="5510160"/>
            <a:ext cx="8305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电阻分为六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2k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,20k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200k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2M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,20M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5.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字式万用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4908600" y="1922400"/>
            <a:ext cx="936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0"/>
                </a:moveTo>
                <a:lnTo>
                  <a:pt x="0" y="2"/>
                </a:lnTo>
                <a:lnTo>
                  <a:pt x="6" y="9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82040" y="6019920"/>
            <a:ext cx="287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T-8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型万用表的面板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2483640" y="457200"/>
            <a:ext cx="4786560" cy="5481720"/>
            <a:chOff x="2483640" y="457200"/>
            <a:chExt cx="4786560" cy="5481720"/>
          </a:xfrm>
        </p:grpSpPr>
        <p:sp>
          <p:nvSpPr>
            <p:cNvPr id="2200" name=""/>
            <p:cNvSpPr/>
            <p:nvPr/>
          </p:nvSpPr>
          <p:spPr>
            <a:xfrm>
              <a:off x="3392640" y="457200"/>
              <a:ext cx="3159000" cy="5481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621240" y="696960"/>
              <a:ext cx="2747880" cy="860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21240" y="1801800"/>
              <a:ext cx="2736720" cy="393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65600" y="824040"/>
              <a:ext cx="2459160" cy="61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871800" y="912960"/>
              <a:ext cx="2264040" cy="447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99040" y="954000"/>
              <a:ext cx="1440" cy="35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4746240" y="1149480"/>
              <a:ext cx="22860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4746600" y="965160"/>
              <a:ext cx="1440" cy="184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46600" y="965160"/>
              <a:ext cx="22860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975200" y="965160"/>
              <a:ext cx="144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4738320" y="1325520"/>
              <a:ext cx="23652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526000" y="965160"/>
              <a:ext cx="180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5295960" y="965160"/>
              <a:ext cx="1440" cy="184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5295600" y="1149480"/>
              <a:ext cx="23004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5289120" y="1325520"/>
              <a:ext cx="23652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295960" y="965160"/>
              <a:ext cx="23004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94360" y="965160"/>
              <a:ext cx="180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5765760" y="965160"/>
              <a:ext cx="1800" cy="184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765400" y="1149480"/>
              <a:ext cx="22860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5762520" y="1325520"/>
              <a:ext cx="23184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65760" y="965160"/>
              <a:ext cx="22860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452840" y="1254240"/>
              <a:ext cx="2880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452840" y="1254240"/>
              <a:ext cx="2880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18" y="14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452840" y="124776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452840" y="124776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4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435560" y="1247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435560" y="1247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429080" y="125424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4" y="0"/>
                  </a:moveTo>
                  <a:lnTo>
                    <a:pt x="0" y="14"/>
                  </a:lnTo>
                  <a:lnTo>
                    <a:pt x="15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429080" y="125424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4" y="0"/>
                  </a:moveTo>
                  <a:lnTo>
                    <a:pt x="0" y="14"/>
                  </a:lnTo>
                  <a:lnTo>
                    <a:pt x="15" y="1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429080" y="12762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4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429080" y="12762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4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435560" y="1276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435560" y="1276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452840" y="127620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452840" y="127620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452840" y="127620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73000" y="16286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PO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452840" y="127620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02600" y="1805040"/>
              <a:ext cx="34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OF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042080" y="1805040"/>
              <a:ext cx="29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768280" y="185904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35760" y="22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35200" y="18367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6680" y="1596960"/>
              <a:ext cx="25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hF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47960" y="1995480"/>
              <a:ext cx="268560" cy="268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782880" y="2033640"/>
              <a:ext cx="204840" cy="20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048200" y="1995480"/>
              <a:ext cx="268200" cy="268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083120" y="2033640"/>
              <a:ext cx="204840" cy="20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42160" y="1925640"/>
              <a:ext cx="253800" cy="252360"/>
            </a:xfrm>
            <a:custGeom>
              <a:avLst/>
              <a:gdLst/>
              <a:ahLst/>
              <a:rect l="l" t="t" r="r" b="b"/>
              <a:pathLst>
                <a:path w="160" h="159">
                  <a:moveTo>
                    <a:pt x="160" y="79"/>
                  </a:moveTo>
                  <a:lnTo>
                    <a:pt x="135" y="24"/>
                  </a:lnTo>
                  <a:lnTo>
                    <a:pt x="80" y="0"/>
                  </a:lnTo>
                  <a:lnTo>
                    <a:pt x="24" y="24"/>
                  </a:lnTo>
                  <a:lnTo>
                    <a:pt x="0" y="79"/>
                  </a:lnTo>
                  <a:lnTo>
                    <a:pt x="24" y="135"/>
                  </a:lnTo>
                  <a:lnTo>
                    <a:pt x="80" y="159"/>
                  </a:lnTo>
                  <a:lnTo>
                    <a:pt x="135" y="135"/>
                  </a:lnTo>
                  <a:lnTo>
                    <a:pt x="160" y="7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884920" y="1868400"/>
              <a:ext cx="366480" cy="36684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16" y="58"/>
                  </a:lnTo>
                  <a:lnTo>
                    <a:pt x="174" y="16"/>
                  </a:lnTo>
                  <a:lnTo>
                    <a:pt x="116" y="0"/>
                  </a:lnTo>
                  <a:lnTo>
                    <a:pt x="58" y="16"/>
                  </a:lnTo>
                  <a:lnTo>
                    <a:pt x="16" y="58"/>
                  </a:lnTo>
                  <a:lnTo>
                    <a:pt x="0" y="115"/>
                  </a:lnTo>
                  <a:lnTo>
                    <a:pt x="16" y="173"/>
                  </a:lnTo>
                  <a:lnTo>
                    <a:pt x="58" y="215"/>
                  </a:lnTo>
                  <a:lnTo>
                    <a:pt x="116" y="231"/>
                  </a:lnTo>
                  <a:lnTo>
                    <a:pt x="174" y="215"/>
                  </a:lnTo>
                  <a:lnTo>
                    <a:pt x="216" y="173"/>
                  </a:lnTo>
                  <a:lnTo>
                    <a:pt x="23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095880" y="1905120"/>
              <a:ext cx="800280" cy="1332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08760" y="19699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08760" y="19699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08760" y="196704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08760" y="196704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97600" y="196704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0" y="2"/>
                  </a:lnTo>
                  <a:lnTo>
                    <a:pt x="7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97600" y="196704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0" y="2"/>
                  </a:lnTo>
                  <a:lnTo>
                    <a:pt x="7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94360" y="19699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94360" y="19699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94360" y="19810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2" y="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94360" y="19810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2" y="7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97600" y="19810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97600" y="19810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9"/>
                  </a:lnTo>
                  <a:lnTo>
                    <a:pt x="7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008760" y="19810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7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8760" y="19810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7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19810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08760" y="19810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7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121440" y="19670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121440" y="19670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121440" y="19638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121440" y="19638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111720" y="196380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2"/>
                  </a:lnTo>
                  <a:lnTo>
                    <a:pt x="6" y="9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107040" y="19670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107040" y="19670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107040" y="19782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107040" y="19782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111720" y="19782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6" y="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111720" y="19782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6" y="9"/>
                  </a:ln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121440" y="19782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6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21440" y="19782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6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121440" y="19782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6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121440" y="19782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6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32600" y="2111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32600" y="2111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7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132600" y="21081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132600" y="21081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2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121440" y="21081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0" y="2"/>
                  </a:lnTo>
                  <a:lnTo>
                    <a:pt x="7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21440" y="21081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0" y="2"/>
                  </a:lnTo>
                  <a:lnTo>
                    <a:pt x="7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18200" y="2111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118200" y="2111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0" y="7"/>
                  </a:lnTo>
                  <a:lnTo>
                    <a:pt x="9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118200" y="2122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2" y="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118200" y="2122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2" y="7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121440" y="212256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21440" y="212256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9"/>
                  </a:lnTo>
                  <a:lnTo>
                    <a:pt x="7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132600" y="21225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132600" y="21225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132600" y="212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132600" y="212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012000" y="2101680"/>
              <a:ext cx="1404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5" y="0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012000" y="2101680"/>
              <a:ext cx="1404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5" y="0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12000" y="20970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012000" y="20970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002280" y="209700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3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002280" y="209700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3"/>
                  </a:lnTo>
                  <a:lnTo>
                    <a:pt x="6" y="9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997600" y="210168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0" y="6"/>
                  </a:lnTo>
                  <a:lnTo>
                    <a:pt x="9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7600" y="210168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0" y="6"/>
                  </a:lnTo>
                  <a:lnTo>
                    <a:pt x="9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997600" y="2111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3" y="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997600" y="2111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3" y="7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002280" y="211140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7"/>
                  </a:moveTo>
                  <a:lnTo>
                    <a:pt x="6" y="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002280" y="211140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7"/>
                  </a:moveTo>
                  <a:lnTo>
                    <a:pt x="6" y="9"/>
                  </a:lnTo>
                  <a:lnTo>
                    <a:pt x="6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12000" y="21114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012000" y="21114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12000" y="211140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995160" y="170352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晶体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39080" y="190512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插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12000" y="211140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74000" y="82872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显示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83640" y="19224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电源开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518560" y="35226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转换开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851880" y="461952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输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851880" y="482112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插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517000" y="2540160"/>
              <a:ext cx="25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hF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800320" y="2849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68360" y="30337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0480" y="323064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140440" y="42670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59720" y="365760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758920" y="38401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81800" y="403056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919040" y="43099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707000" y="42847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941640" y="3432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006080" y="36226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92480" y="37958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40800" y="26449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 flipV="1">
              <a:off x="3095640" y="968040"/>
              <a:ext cx="719280" cy="1443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 flipV="1">
              <a:off x="3179520" y="1981080"/>
              <a:ext cx="657000" cy="1526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287960" y="2832120"/>
              <a:ext cx="1033200" cy="1273320"/>
            </a:xfrm>
            <a:custGeom>
              <a:avLst/>
              <a:gdLst/>
              <a:ahLst/>
              <a:rect l="l" t="t" r="r" b="b"/>
              <a:pathLst>
                <a:path w="651" h="802">
                  <a:moveTo>
                    <a:pt x="162" y="0"/>
                  </a:moveTo>
                  <a:lnTo>
                    <a:pt x="67" y="108"/>
                  </a:lnTo>
                  <a:lnTo>
                    <a:pt x="11" y="244"/>
                  </a:lnTo>
                  <a:lnTo>
                    <a:pt x="0" y="391"/>
                  </a:lnTo>
                  <a:lnTo>
                    <a:pt x="36" y="531"/>
                  </a:lnTo>
                  <a:lnTo>
                    <a:pt x="116" y="655"/>
                  </a:lnTo>
                  <a:lnTo>
                    <a:pt x="229" y="746"/>
                  </a:lnTo>
                  <a:lnTo>
                    <a:pt x="367" y="797"/>
                  </a:lnTo>
                  <a:lnTo>
                    <a:pt x="511" y="802"/>
                  </a:lnTo>
                  <a:lnTo>
                    <a:pt x="651" y="75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241880" y="2619360"/>
              <a:ext cx="1530360" cy="1535040"/>
            </a:xfrm>
            <a:custGeom>
              <a:avLst/>
              <a:gdLst/>
              <a:ahLst/>
              <a:rect l="l" t="t" r="r" b="b"/>
              <a:pathLst>
                <a:path w="964" h="967">
                  <a:moveTo>
                    <a:pt x="964" y="485"/>
                  </a:moveTo>
                  <a:lnTo>
                    <a:pt x="942" y="333"/>
                  </a:lnTo>
                  <a:lnTo>
                    <a:pt x="873" y="200"/>
                  </a:lnTo>
                  <a:lnTo>
                    <a:pt x="767" y="94"/>
                  </a:lnTo>
                  <a:lnTo>
                    <a:pt x="631" y="25"/>
                  </a:lnTo>
                  <a:lnTo>
                    <a:pt x="482" y="0"/>
                  </a:lnTo>
                  <a:lnTo>
                    <a:pt x="333" y="25"/>
                  </a:lnTo>
                  <a:lnTo>
                    <a:pt x="200" y="94"/>
                  </a:lnTo>
                  <a:lnTo>
                    <a:pt x="93" y="200"/>
                  </a:lnTo>
                  <a:lnTo>
                    <a:pt x="25" y="333"/>
                  </a:lnTo>
                  <a:lnTo>
                    <a:pt x="0" y="485"/>
                  </a:lnTo>
                  <a:lnTo>
                    <a:pt x="25" y="633"/>
                  </a:lnTo>
                  <a:lnTo>
                    <a:pt x="93" y="767"/>
                  </a:lnTo>
                  <a:lnTo>
                    <a:pt x="200" y="873"/>
                  </a:lnTo>
                  <a:lnTo>
                    <a:pt x="333" y="942"/>
                  </a:lnTo>
                  <a:lnTo>
                    <a:pt x="482" y="967"/>
                  </a:lnTo>
                  <a:lnTo>
                    <a:pt x="631" y="942"/>
                  </a:lnTo>
                  <a:lnTo>
                    <a:pt x="767" y="873"/>
                  </a:lnTo>
                  <a:lnTo>
                    <a:pt x="873" y="767"/>
                  </a:lnTo>
                  <a:lnTo>
                    <a:pt x="942" y="633"/>
                  </a:lnTo>
                  <a:lnTo>
                    <a:pt x="964" y="48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892680" y="2270160"/>
              <a:ext cx="2228760" cy="2233440"/>
            </a:xfrm>
            <a:custGeom>
              <a:avLst/>
              <a:gdLst/>
              <a:ahLst/>
              <a:rect l="l" t="t" r="r" b="b"/>
              <a:pathLst>
                <a:path w="1404" h="1407">
                  <a:moveTo>
                    <a:pt x="1404" y="705"/>
                  </a:moveTo>
                  <a:lnTo>
                    <a:pt x="1382" y="522"/>
                  </a:lnTo>
                  <a:lnTo>
                    <a:pt x="1311" y="351"/>
                  </a:lnTo>
                  <a:lnTo>
                    <a:pt x="1200" y="207"/>
                  </a:lnTo>
                  <a:lnTo>
                    <a:pt x="1053" y="96"/>
                  </a:lnTo>
                  <a:lnTo>
                    <a:pt x="884" y="25"/>
                  </a:lnTo>
                  <a:lnTo>
                    <a:pt x="702" y="0"/>
                  </a:lnTo>
                  <a:lnTo>
                    <a:pt x="520" y="25"/>
                  </a:lnTo>
                  <a:lnTo>
                    <a:pt x="351" y="96"/>
                  </a:lnTo>
                  <a:lnTo>
                    <a:pt x="207" y="207"/>
                  </a:lnTo>
                  <a:lnTo>
                    <a:pt x="94" y="351"/>
                  </a:lnTo>
                  <a:lnTo>
                    <a:pt x="25" y="522"/>
                  </a:lnTo>
                  <a:lnTo>
                    <a:pt x="0" y="705"/>
                  </a:lnTo>
                  <a:lnTo>
                    <a:pt x="25" y="887"/>
                  </a:lnTo>
                  <a:lnTo>
                    <a:pt x="94" y="1056"/>
                  </a:lnTo>
                  <a:lnTo>
                    <a:pt x="207" y="1200"/>
                  </a:lnTo>
                  <a:lnTo>
                    <a:pt x="351" y="1313"/>
                  </a:lnTo>
                  <a:lnTo>
                    <a:pt x="520" y="1382"/>
                  </a:lnTo>
                  <a:lnTo>
                    <a:pt x="702" y="1407"/>
                  </a:lnTo>
                  <a:lnTo>
                    <a:pt x="884" y="1382"/>
                  </a:lnTo>
                  <a:lnTo>
                    <a:pt x="1053" y="1313"/>
                  </a:lnTo>
                  <a:lnTo>
                    <a:pt x="1200" y="1200"/>
                  </a:lnTo>
                  <a:lnTo>
                    <a:pt x="1311" y="1056"/>
                  </a:lnTo>
                  <a:lnTo>
                    <a:pt x="1382" y="887"/>
                  </a:lnTo>
                  <a:lnTo>
                    <a:pt x="1404" y="7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344840" y="4002120"/>
              <a:ext cx="20808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 flipV="1">
              <a:off x="5352840" y="4073400"/>
              <a:ext cx="15876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 flipV="1">
              <a:off x="5762520" y="3522240"/>
              <a:ext cx="34128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595840" y="2673360"/>
              <a:ext cx="268560" cy="2221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38440" y="2379600"/>
              <a:ext cx="152280" cy="3175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006880" y="2270160"/>
              <a:ext cx="1800" cy="349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903840" y="3247920"/>
              <a:ext cx="345960" cy="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5038560" y="2344680"/>
              <a:ext cx="180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038560" y="2341440"/>
              <a:ext cx="103320" cy="12240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5" y="77"/>
                  </a:moveTo>
                  <a:lnTo>
                    <a:pt x="65" y="0"/>
                  </a:lnTo>
                  <a:lnTo>
                    <a:pt x="0" y="37"/>
                  </a:lnTo>
                  <a:lnTo>
                    <a:pt x="65" y="7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018040" y="2400480"/>
              <a:ext cx="155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257800" y="2379600"/>
              <a:ext cx="14400" cy="66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0" y="42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95960" y="2359080"/>
              <a:ext cx="28440" cy="9504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9" y="60"/>
                  </a:moveTo>
                  <a:lnTo>
                    <a:pt x="18" y="2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49960" y="2344680"/>
              <a:ext cx="27000" cy="13824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0" y="87"/>
                  </a:moveTo>
                  <a:lnTo>
                    <a:pt x="17" y="44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545000" y="2832120"/>
              <a:ext cx="776160" cy="12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45000" y="2778120"/>
              <a:ext cx="819000" cy="128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54440" y="2708280"/>
              <a:ext cx="81432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703760" y="2732040"/>
              <a:ext cx="758880" cy="12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4611240" y="2788920"/>
              <a:ext cx="14148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608360" y="276084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9"/>
                  </a:moveTo>
                  <a:lnTo>
                    <a:pt x="18" y="0"/>
                  </a:lnTo>
                  <a:lnTo>
                    <a:pt x="7" y="0"/>
                  </a:lnTo>
                  <a:lnTo>
                    <a:pt x="0" y="9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648320" y="2774880"/>
              <a:ext cx="136440" cy="2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53080" y="298620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1"/>
                  </a:moveTo>
                  <a:lnTo>
                    <a:pt x="9" y="18"/>
                  </a:lnTo>
                  <a:lnTo>
                    <a:pt x="18" y="16"/>
                  </a:lnTo>
                  <a:lnTo>
                    <a:pt x="22" y="9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03760" y="2668680"/>
              <a:ext cx="1022400" cy="1280880"/>
            </a:xfrm>
            <a:custGeom>
              <a:avLst/>
              <a:gdLst/>
              <a:ahLst/>
              <a:rect l="l" t="t" r="r" b="b"/>
              <a:pathLst>
                <a:path w="644" h="807">
                  <a:moveTo>
                    <a:pt x="478" y="807"/>
                  </a:moveTo>
                  <a:lnTo>
                    <a:pt x="576" y="698"/>
                  </a:lnTo>
                  <a:lnTo>
                    <a:pt x="633" y="565"/>
                  </a:lnTo>
                  <a:lnTo>
                    <a:pt x="644" y="420"/>
                  </a:lnTo>
                  <a:lnTo>
                    <a:pt x="611" y="278"/>
                  </a:lnTo>
                  <a:lnTo>
                    <a:pt x="536" y="154"/>
                  </a:lnTo>
                  <a:lnTo>
                    <a:pt x="422" y="60"/>
                  </a:lnTo>
                  <a:lnTo>
                    <a:pt x="287" y="7"/>
                  </a:lnTo>
                  <a:lnTo>
                    <a:pt x="140" y="0"/>
                  </a:lnTo>
                  <a:lnTo>
                    <a:pt x="0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210200" y="313524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210200" y="313524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210200" y="31273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10200" y="31273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2560" y="3127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5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2560" y="3127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5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86080" y="313524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0"/>
                  </a:moveTo>
                  <a:lnTo>
                    <a:pt x="0" y="13"/>
                  </a:lnTo>
                  <a:lnTo>
                    <a:pt x="15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86080" y="313524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0"/>
                  </a:moveTo>
                  <a:lnTo>
                    <a:pt x="0" y="13"/>
                  </a:lnTo>
                  <a:lnTo>
                    <a:pt x="15" y="13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86080" y="3156120"/>
              <a:ext cx="2412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lnTo>
                    <a:pt x="4" y="1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86080" y="3156120"/>
              <a:ext cx="2412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lnTo>
                    <a:pt x="4" y="11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92560" y="31561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1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92560" y="31561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1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10200" y="31561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10200" y="31561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0200" y="31561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31561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87960" y="29448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87960" y="29448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87960" y="293364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87960" y="293364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70320" y="293364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70320" y="293364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62400" y="29448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5" y="0"/>
                  </a:moveTo>
                  <a:lnTo>
                    <a:pt x="0" y="11"/>
                  </a:lnTo>
                  <a:lnTo>
                    <a:pt x="16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62400" y="29448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5" y="0"/>
                  </a:moveTo>
                  <a:lnTo>
                    <a:pt x="0" y="11"/>
                  </a:lnTo>
                  <a:lnTo>
                    <a:pt x="16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62400" y="296244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5" y="13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2400" y="296244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5" y="13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70320" y="29624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70320" y="29624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87960" y="29624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87960" y="29624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87960" y="29624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87960" y="29624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32320" y="27637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432320" y="27637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32320" y="27543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6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32320" y="27543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6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411800" y="27543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6"/>
                  </a:lnTo>
                  <a:lnTo>
                    <a:pt x="13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411800" y="27543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6"/>
                  </a:lnTo>
                  <a:lnTo>
                    <a:pt x="13" y="17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403880" y="27637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03880" y="27637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403880" y="27813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5" y="14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403880" y="27813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5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411800" y="27813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411800" y="27813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432320" y="27813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432320" y="27813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432320" y="27813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432320" y="27813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587840" y="2654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587840" y="2654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587840" y="2647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587840" y="2647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567320" y="2647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67320" y="2647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59400" y="2654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5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59400" y="2654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5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59400" y="26766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559400" y="26766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67320" y="2676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67320" y="2676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587840" y="2676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587840" y="2676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87840" y="26766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587840" y="26766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43360" y="255276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743360" y="255276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7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743360" y="254628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743360" y="254628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724280" y="254628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lnTo>
                    <a:pt x="0" y="4"/>
                  </a:lnTo>
                  <a:lnTo>
                    <a:pt x="12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724280" y="254628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lnTo>
                    <a:pt x="0" y="4"/>
                  </a:lnTo>
                  <a:lnTo>
                    <a:pt x="12" y="17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14920" y="25527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6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714920" y="25527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6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714920" y="2573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6" y="14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14920" y="2573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6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24280" y="25732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4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724280" y="25732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4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743360" y="2573280"/>
              <a:ext cx="2088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743360" y="2573280"/>
              <a:ext cx="2088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743360" y="257328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3" y="14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743360" y="257328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3" y="14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13" y="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905360" y="25210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905360" y="25210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905360" y="25146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905360" y="25146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88080" y="2514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0" y="4"/>
                  </a:lnTo>
                  <a:lnTo>
                    <a:pt x="11" y="1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88080" y="2514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0" y="4"/>
                  </a:lnTo>
                  <a:lnTo>
                    <a:pt x="11" y="17"/>
                  </a:lnTo>
                  <a:lnTo>
                    <a:pt x="1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79800" y="252108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5" y="0"/>
                  </a:moveTo>
                  <a:lnTo>
                    <a:pt x="0" y="13"/>
                  </a:lnTo>
                  <a:lnTo>
                    <a:pt x="16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79800" y="252108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5" y="0"/>
                  </a:moveTo>
                  <a:lnTo>
                    <a:pt x="0" y="13"/>
                  </a:lnTo>
                  <a:lnTo>
                    <a:pt x="16" y="13"/>
                  </a:lnTo>
                  <a:lnTo>
                    <a:pt x="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79800" y="254160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0"/>
                  </a:moveTo>
                  <a:lnTo>
                    <a:pt x="5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79800" y="254160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0"/>
                  </a:moveTo>
                  <a:lnTo>
                    <a:pt x="5" y="1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88080" y="25416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1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88080" y="25416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1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905360" y="2541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905360" y="2541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05360" y="2541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905360" y="2541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119560" y="252108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119560" y="252108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119560" y="251460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119560" y="251460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1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099040" y="25146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4"/>
                  </a:lnTo>
                  <a:lnTo>
                    <a:pt x="13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99040" y="25146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4"/>
                  </a:lnTo>
                  <a:lnTo>
                    <a:pt x="13" y="17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092560" y="25210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092560" y="25210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092560" y="254160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92560" y="254160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099040" y="2541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099040" y="25416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119560" y="254160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119560" y="254160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119560" y="254160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119560" y="254160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307120" y="255888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307120" y="255888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307120" y="25495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6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07120" y="25495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6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86240" y="254952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6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86240" y="254952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6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78320" y="255888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0"/>
                  </a:moveTo>
                  <a:lnTo>
                    <a:pt x="0" y="12"/>
                  </a:lnTo>
                  <a:lnTo>
                    <a:pt x="18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78320" y="255888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0"/>
                  </a:moveTo>
                  <a:lnTo>
                    <a:pt x="0" y="12"/>
                  </a:lnTo>
                  <a:lnTo>
                    <a:pt x="18" y="12"/>
                  </a:lnTo>
                  <a:lnTo>
                    <a:pt x="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78320" y="257796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78320" y="257796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86240" y="257796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3" y="17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86240" y="257796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3" y="17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307120" y="25779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307120" y="25779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307120" y="257796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307120" y="257796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465880" y="266544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465880" y="266544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465880" y="26589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465880" y="26589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3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48240" y="265896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0"/>
                  </a:moveTo>
                  <a:lnTo>
                    <a:pt x="0" y="4"/>
                  </a:lnTo>
                  <a:lnTo>
                    <a:pt x="11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240" y="265896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0"/>
                  </a:moveTo>
                  <a:lnTo>
                    <a:pt x="0" y="4"/>
                  </a:lnTo>
                  <a:lnTo>
                    <a:pt x="11" y="15"/>
                  </a:lnTo>
                  <a:lnTo>
                    <a:pt x="1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37080" y="266544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37080" y="266544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37080" y="26827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7" y="14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37080" y="26827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7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48240" y="26827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4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48240" y="26827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4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65880" y="26827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65880" y="26827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65880" y="26827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65880" y="26827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607000" y="277488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607000" y="277488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607000" y="276876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607000" y="276876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586480" y="27687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4"/>
                  </a:lnTo>
                  <a:lnTo>
                    <a:pt x="13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586480" y="276876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0" y="4"/>
                  </a:lnTo>
                  <a:lnTo>
                    <a:pt x="13" y="17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578560" y="27748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578560" y="27748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578560" y="27957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5" y="11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578560" y="27957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5" y="11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586480" y="27957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86480" y="27957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07000" y="279576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607000" y="279576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607000" y="2795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607000" y="2795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22920" y="29163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2920" y="29163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722920" y="2905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722920" y="2905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705640" y="29052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705640" y="29052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94480" y="29163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94480" y="29163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94480" y="29336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94480" y="29336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705640" y="293364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3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705640" y="293364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3"/>
                  </a:moveTo>
                  <a:lnTo>
                    <a:pt x="11" y="18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722920" y="293364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93364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722920" y="29336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722920" y="29336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800680" y="31129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800680" y="31129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800680" y="31068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800680" y="31068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783400" y="31068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783400" y="310680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72240" y="31129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772240" y="31129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772240" y="31352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7" y="11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772240" y="31352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7" y="11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83400" y="3135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783400" y="3135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800680" y="31352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00680" y="31352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800680" y="313524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800680" y="313524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850000" y="33066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850000" y="33066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850000" y="330048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850000" y="330048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3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832360" y="330048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4"/>
                  </a:lnTo>
                  <a:lnTo>
                    <a:pt x="11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832360" y="330048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4"/>
                  </a:lnTo>
                  <a:lnTo>
                    <a:pt x="11" y="16"/>
                  </a:lnTo>
                  <a:lnTo>
                    <a:pt x="1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821200" y="33066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0"/>
                  </a:moveTo>
                  <a:lnTo>
                    <a:pt x="0" y="12"/>
                  </a:lnTo>
                  <a:lnTo>
                    <a:pt x="18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21200" y="33066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0"/>
                  </a:moveTo>
                  <a:lnTo>
                    <a:pt x="0" y="12"/>
                  </a:lnTo>
                  <a:lnTo>
                    <a:pt x="18" y="12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821200" y="332568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821200" y="332568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832360" y="33256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32360" y="33256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850000" y="332568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850000" y="332568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850000" y="33256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850000" y="33256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846760" y="34732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846760" y="34732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846760" y="346536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846760" y="346536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826240" y="346536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826240" y="346536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818320" y="34732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818320" y="34732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818320" y="34941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5" y="14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818320" y="34941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5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826240" y="34941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826240" y="34941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846760" y="34941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846760" y="34941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4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846760" y="34941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846760" y="34941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3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789520" y="364320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89520" y="3643200"/>
              <a:ext cx="2880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789520" y="363528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789520" y="363528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769000" y="36352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769000" y="36352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762520" y="36432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762520" y="36432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62520" y="36640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762520" y="36640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769000" y="366408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13" y="15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769000" y="366408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13" y="15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789520" y="366408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789520" y="366408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789520" y="366408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789520" y="366408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722920" y="379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722920" y="379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3" y="0"/>
                  </a:lnTo>
                  <a:lnTo>
                    <a:pt x="0" y="14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722920" y="3790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722920" y="379080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705640" y="379080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705640" y="379080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4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94480" y="379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694480" y="379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694480" y="3819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7" y="11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94480" y="3819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7" y="11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705640" y="381960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1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705640" y="381960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1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722920" y="38196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722920" y="38196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11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722920" y="3819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722920" y="38196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607000" y="394956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607000" y="394956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607000" y="39416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607000" y="39416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1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586480" y="3941640"/>
              <a:ext cx="2052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0"/>
                  </a:moveTo>
                  <a:lnTo>
                    <a:pt x="0" y="5"/>
                  </a:lnTo>
                  <a:lnTo>
                    <a:pt x="1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586480" y="3941640"/>
              <a:ext cx="2052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0"/>
                  </a:moveTo>
                  <a:lnTo>
                    <a:pt x="0" y="5"/>
                  </a:lnTo>
                  <a:lnTo>
                    <a:pt x="13" y="16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578560" y="394956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578560" y="394956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578560" y="39672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78560" y="39672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586480" y="3967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586480" y="3967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607000" y="396720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607000" y="396720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607000" y="396720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607000" y="396720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459400" y="40622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459400" y="40622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13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7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459400" y="4054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459400" y="4054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437080" y="405432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0" y="5"/>
                  </a:lnTo>
                  <a:lnTo>
                    <a:pt x="14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437080" y="405432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0" y="5"/>
                  </a:lnTo>
                  <a:lnTo>
                    <a:pt x="14" y="18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430960" y="406224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430960" y="406224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430960" y="40831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4" y="14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430960" y="408312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4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437080" y="408312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4"/>
                  </a:moveTo>
                  <a:lnTo>
                    <a:pt x="14" y="18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437080" y="408312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4"/>
                  </a:moveTo>
                  <a:lnTo>
                    <a:pt x="14" y="18"/>
                  </a:lnTo>
                  <a:lnTo>
                    <a:pt x="14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459400" y="40831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59400" y="40831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4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59400" y="40831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1" y="14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459400" y="40831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1" y="14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11" y="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307120" y="41403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307120" y="41403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307120" y="413244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307120" y="413244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286240" y="413244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286240" y="413244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278320" y="414036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278320" y="414036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278320" y="416088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278320" y="416088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286240" y="416088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286240" y="416088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307120" y="41608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307120" y="41608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307120" y="41608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307120" y="41608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168880" y="418140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68880" y="418140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68880" y="41752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68880" y="41752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48360" y="41752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148360" y="41752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141880" y="41814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0"/>
                  </a:moveTo>
                  <a:lnTo>
                    <a:pt x="0" y="14"/>
                  </a:lnTo>
                  <a:lnTo>
                    <a:pt x="17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141880" y="41814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0"/>
                  </a:moveTo>
                  <a:lnTo>
                    <a:pt x="0" y="14"/>
                  </a:lnTo>
                  <a:lnTo>
                    <a:pt x="17" y="14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141880" y="420372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141880" y="420372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148360" y="420372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13" y="15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48360" y="420372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13" y="15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168880" y="420372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168880" y="420372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168880" y="420372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1" y="1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168880" y="420372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1" y="1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1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975200" y="42004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975200" y="42004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975200" y="418932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975200" y="418932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57920" y="418932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57920" y="4189320"/>
              <a:ext cx="1728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946760" y="42004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946760" y="42004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946760" y="4218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946760" y="4218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957920" y="4218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957920" y="4218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975200" y="42181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975200" y="42181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975200" y="4218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975200" y="4218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788000" y="41860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788000" y="41860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788000" y="41781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788000" y="41781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767120" y="4178160"/>
              <a:ext cx="2088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767120" y="4178160"/>
              <a:ext cx="2088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5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761000" y="4186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761000" y="4186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761000" y="420696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61000" y="420696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4" y="11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767120" y="420696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767120" y="420696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1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788000" y="42069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1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88000" y="42069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788000" y="42069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2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788000" y="420696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2" y="11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608360" y="411480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608360" y="411480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608360" y="4108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608360" y="4108320"/>
              <a:ext cx="1764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87840" y="41083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87840" y="41083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4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79920" y="411480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5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79920" y="411480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5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79920" y="4137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79920" y="41371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87840" y="413712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3" y="17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587840" y="413712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3" y="17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8360" y="413712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413712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08360" y="413712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08360" y="413712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449600" y="399888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449600" y="399888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449600" y="3992400"/>
              <a:ext cx="17640" cy="24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4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449600" y="3992400"/>
              <a:ext cx="17640" cy="24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4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429080" y="399240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lnTo>
                    <a:pt x="0" y="4"/>
                  </a:lnTo>
                  <a:lnTo>
                    <a:pt x="13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29080" y="399240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lnTo>
                    <a:pt x="0" y="4"/>
                  </a:lnTo>
                  <a:lnTo>
                    <a:pt x="13" y="15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421160" y="39988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421160" y="399888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421160" y="40165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421160" y="40165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429080" y="40165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429080" y="401652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449600" y="40165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449600" y="401652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11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449600" y="40165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1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49600" y="40165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1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325760" y="386856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2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25760" y="386856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2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25760" y="3857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25760" y="3857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05240" y="38577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7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05240" y="38577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7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299120" y="3868560"/>
              <a:ext cx="2664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4" y="0"/>
                  </a:moveTo>
                  <a:lnTo>
                    <a:pt x="0" y="11"/>
                  </a:lnTo>
                  <a:lnTo>
                    <a:pt x="1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299120" y="3868560"/>
              <a:ext cx="2664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4" y="0"/>
                  </a:moveTo>
                  <a:lnTo>
                    <a:pt x="0" y="11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99120" y="3886200"/>
              <a:ext cx="2664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lnTo>
                    <a:pt x="4" y="13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299120" y="3886200"/>
              <a:ext cx="2664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lnTo>
                    <a:pt x="4" y="13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305240" y="3886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305240" y="38862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325760" y="38862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325760" y="38862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325760" y="388620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2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325760" y="388620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2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2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27480" y="37130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27480" y="37130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227480" y="370188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227480" y="370188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7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206960" y="37018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7"/>
                  </a:lnTo>
                  <a:lnTo>
                    <a:pt x="13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206960" y="37018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0" y="7"/>
                  </a:lnTo>
                  <a:lnTo>
                    <a:pt x="13" y="1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99040" y="37130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99040" y="37130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199040" y="37306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99040" y="37306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5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06960" y="37306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206960" y="37306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3"/>
                  </a:moveTo>
                  <a:lnTo>
                    <a:pt x="13" y="18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27480" y="373068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227480" y="373068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227480" y="37306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227480" y="37306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4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4" y="13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78160" y="354024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78160" y="354024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13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18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78160" y="353376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78160" y="353376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3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60880" y="3533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0" y="4"/>
                  </a:lnTo>
                  <a:lnTo>
                    <a:pt x="11" y="17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60880" y="3533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0" y="4"/>
                  </a:lnTo>
                  <a:lnTo>
                    <a:pt x="11" y="17"/>
                  </a:lnTo>
                  <a:lnTo>
                    <a:pt x="1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49720" y="35402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49720" y="35402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0"/>
                  </a:moveTo>
                  <a:lnTo>
                    <a:pt x="0" y="13"/>
                  </a:lnTo>
                  <a:lnTo>
                    <a:pt x="18" y="1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49720" y="35607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7" y="12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49720" y="35607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7" y="12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160880" y="35607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2"/>
                  </a:moveTo>
                  <a:lnTo>
                    <a:pt x="11" y="16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60880" y="35607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2"/>
                  </a:moveTo>
                  <a:lnTo>
                    <a:pt x="11" y="16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178160" y="3560760"/>
              <a:ext cx="2088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lnTo>
                    <a:pt x="13" y="1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178160" y="3560760"/>
              <a:ext cx="2088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lnTo>
                    <a:pt x="13" y="12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178160" y="356076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3" y="1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178160" y="356076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3" y="1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57640" y="33577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157640" y="33577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8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157640" y="33465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157640" y="334656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140360" y="33465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140360" y="33465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129200" y="33577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29200" y="335772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9200" y="33750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29200" y="33750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7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40360" y="33750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40360" y="33750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3"/>
                  </a:moveTo>
                  <a:lnTo>
                    <a:pt x="11" y="17"/>
                  </a:lnTo>
                  <a:lnTo>
                    <a:pt x="11" y="0"/>
                  </a:lnTo>
                  <a:lnTo>
                    <a:pt x="0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157640" y="33750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157640" y="33750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157640" y="33750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157640" y="337500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3" y="1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3" y="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702600" y="541800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10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465440" y="5418000"/>
              <a:ext cx="24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201640" y="5418000"/>
              <a:ext cx="35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938200" y="545292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V·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 flipV="1">
              <a:off x="3201840" y="3600360"/>
              <a:ext cx="765360" cy="9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762360" y="507852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22" y="22"/>
                  </a:lnTo>
                  <a:lnTo>
                    <a:pt x="71" y="0"/>
                  </a:lnTo>
                  <a:lnTo>
                    <a:pt x="22" y="22"/>
                  </a:lnTo>
                  <a:lnTo>
                    <a:pt x="0" y="71"/>
                  </a:lnTo>
                  <a:lnTo>
                    <a:pt x="22" y="122"/>
                  </a:lnTo>
                  <a:lnTo>
                    <a:pt x="71" y="142"/>
                  </a:lnTo>
                  <a:lnTo>
                    <a:pt x="122" y="122"/>
                  </a:lnTo>
                  <a:lnTo>
                    <a:pt x="142" y="7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724200" y="5038560"/>
              <a:ext cx="303120" cy="303480"/>
            </a:xfrm>
            <a:custGeom>
              <a:avLst/>
              <a:gdLst/>
              <a:ahLst/>
              <a:rect l="l" t="t" r="r" b="b"/>
              <a:pathLst>
                <a:path w="191" h="191">
                  <a:moveTo>
                    <a:pt x="191" y="96"/>
                  </a:moveTo>
                  <a:lnTo>
                    <a:pt x="177" y="49"/>
                  </a:lnTo>
                  <a:lnTo>
                    <a:pt x="144" y="14"/>
                  </a:lnTo>
                  <a:lnTo>
                    <a:pt x="95" y="0"/>
                  </a:lnTo>
                  <a:lnTo>
                    <a:pt x="48" y="14"/>
                  </a:lnTo>
                  <a:lnTo>
                    <a:pt x="13" y="49"/>
                  </a:lnTo>
                  <a:lnTo>
                    <a:pt x="0" y="96"/>
                  </a:lnTo>
                  <a:lnTo>
                    <a:pt x="13" y="145"/>
                  </a:lnTo>
                  <a:lnTo>
                    <a:pt x="48" y="178"/>
                  </a:lnTo>
                  <a:lnTo>
                    <a:pt x="95" y="191"/>
                  </a:lnTo>
                  <a:lnTo>
                    <a:pt x="144" y="178"/>
                  </a:lnTo>
                  <a:lnTo>
                    <a:pt x="177" y="145"/>
                  </a:lnTo>
                  <a:lnTo>
                    <a:pt x="191" y="9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95680" y="5038560"/>
              <a:ext cx="300240" cy="303480"/>
            </a:xfrm>
            <a:custGeom>
              <a:avLst/>
              <a:gdLst/>
              <a:ahLst/>
              <a:rect l="l" t="t" r="r" b="b"/>
              <a:pathLst>
                <a:path w="189" h="191">
                  <a:moveTo>
                    <a:pt x="189" y="96"/>
                  </a:moveTo>
                  <a:lnTo>
                    <a:pt x="176" y="49"/>
                  </a:lnTo>
                  <a:lnTo>
                    <a:pt x="142" y="14"/>
                  </a:lnTo>
                  <a:lnTo>
                    <a:pt x="93" y="0"/>
                  </a:lnTo>
                  <a:lnTo>
                    <a:pt x="47" y="14"/>
                  </a:lnTo>
                  <a:lnTo>
                    <a:pt x="11" y="49"/>
                  </a:lnTo>
                  <a:lnTo>
                    <a:pt x="0" y="96"/>
                  </a:lnTo>
                  <a:lnTo>
                    <a:pt x="11" y="145"/>
                  </a:lnTo>
                  <a:lnTo>
                    <a:pt x="47" y="178"/>
                  </a:lnTo>
                  <a:lnTo>
                    <a:pt x="93" y="191"/>
                  </a:lnTo>
                  <a:lnTo>
                    <a:pt x="142" y="178"/>
                  </a:lnTo>
                  <a:lnTo>
                    <a:pt x="176" y="145"/>
                  </a:lnTo>
                  <a:lnTo>
                    <a:pt x="189" y="9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35640" y="5078520"/>
              <a:ext cx="220680" cy="225360"/>
            </a:xfrm>
            <a:custGeom>
              <a:avLst/>
              <a:gdLst/>
              <a:ahLst/>
              <a:rect l="l" t="t" r="r" b="b"/>
              <a:pathLst>
                <a:path w="139" h="142">
                  <a:moveTo>
                    <a:pt x="139" y="71"/>
                  </a:moveTo>
                  <a:lnTo>
                    <a:pt x="119" y="22"/>
                  </a:lnTo>
                  <a:lnTo>
                    <a:pt x="68" y="0"/>
                  </a:lnTo>
                  <a:lnTo>
                    <a:pt x="20" y="22"/>
                  </a:lnTo>
                  <a:lnTo>
                    <a:pt x="0" y="71"/>
                  </a:lnTo>
                  <a:lnTo>
                    <a:pt x="20" y="122"/>
                  </a:lnTo>
                  <a:lnTo>
                    <a:pt x="68" y="142"/>
                  </a:lnTo>
                  <a:lnTo>
                    <a:pt x="119" y="122"/>
                  </a:lnTo>
                  <a:lnTo>
                    <a:pt x="139" y="7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249880" y="5038560"/>
              <a:ext cx="304920" cy="303480"/>
            </a:xfrm>
            <a:custGeom>
              <a:avLst/>
              <a:gdLst/>
              <a:ahLst/>
              <a:rect l="l" t="t" r="r" b="b"/>
              <a:pathLst>
                <a:path w="192" h="191">
                  <a:moveTo>
                    <a:pt x="192" y="96"/>
                  </a:moveTo>
                  <a:lnTo>
                    <a:pt x="178" y="49"/>
                  </a:lnTo>
                  <a:lnTo>
                    <a:pt x="143" y="14"/>
                  </a:lnTo>
                  <a:lnTo>
                    <a:pt x="96" y="0"/>
                  </a:lnTo>
                  <a:lnTo>
                    <a:pt x="47" y="14"/>
                  </a:lnTo>
                  <a:lnTo>
                    <a:pt x="14" y="49"/>
                  </a:lnTo>
                  <a:lnTo>
                    <a:pt x="0" y="96"/>
                  </a:lnTo>
                  <a:lnTo>
                    <a:pt x="14" y="145"/>
                  </a:lnTo>
                  <a:lnTo>
                    <a:pt x="47" y="178"/>
                  </a:lnTo>
                  <a:lnTo>
                    <a:pt x="96" y="191"/>
                  </a:lnTo>
                  <a:lnTo>
                    <a:pt x="143" y="178"/>
                  </a:lnTo>
                  <a:lnTo>
                    <a:pt x="178" y="145"/>
                  </a:lnTo>
                  <a:lnTo>
                    <a:pt x="192" y="9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289480" y="507852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20" y="22"/>
                  </a:lnTo>
                  <a:lnTo>
                    <a:pt x="71" y="0"/>
                  </a:lnTo>
                  <a:lnTo>
                    <a:pt x="20" y="22"/>
                  </a:lnTo>
                  <a:lnTo>
                    <a:pt x="0" y="71"/>
                  </a:lnTo>
                  <a:lnTo>
                    <a:pt x="20" y="122"/>
                  </a:lnTo>
                  <a:lnTo>
                    <a:pt x="71" y="142"/>
                  </a:lnTo>
                  <a:lnTo>
                    <a:pt x="120" y="122"/>
                  </a:lnTo>
                  <a:lnTo>
                    <a:pt x="142" y="7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970600" y="5038560"/>
              <a:ext cx="303120" cy="303480"/>
            </a:xfrm>
            <a:custGeom>
              <a:avLst/>
              <a:gdLst/>
              <a:ahLst/>
              <a:rect l="l" t="t" r="r" b="b"/>
              <a:pathLst>
                <a:path w="191" h="191">
                  <a:moveTo>
                    <a:pt x="191" y="96"/>
                  </a:moveTo>
                  <a:lnTo>
                    <a:pt x="177" y="49"/>
                  </a:lnTo>
                  <a:lnTo>
                    <a:pt x="144" y="14"/>
                  </a:lnTo>
                  <a:lnTo>
                    <a:pt x="95" y="0"/>
                  </a:lnTo>
                  <a:lnTo>
                    <a:pt x="49" y="14"/>
                  </a:lnTo>
                  <a:lnTo>
                    <a:pt x="13" y="49"/>
                  </a:lnTo>
                  <a:lnTo>
                    <a:pt x="0" y="96"/>
                  </a:lnTo>
                  <a:lnTo>
                    <a:pt x="13" y="145"/>
                  </a:lnTo>
                  <a:lnTo>
                    <a:pt x="49" y="178"/>
                  </a:lnTo>
                  <a:lnTo>
                    <a:pt x="95" y="191"/>
                  </a:lnTo>
                  <a:lnTo>
                    <a:pt x="144" y="178"/>
                  </a:lnTo>
                  <a:lnTo>
                    <a:pt x="177" y="145"/>
                  </a:lnTo>
                  <a:lnTo>
                    <a:pt x="191" y="96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008760" y="507852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22" y="22"/>
                  </a:lnTo>
                  <a:lnTo>
                    <a:pt x="71" y="0"/>
                  </a:lnTo>
                  <a:lnTo>
                    <a:pt x="22" y="22"/>
                  </a:lnTo>
                  <a:lnTo>
                    <a:pt x="0" y="71"/>
                  </a:lnTo>
                  <a:lnTo>
                    <a:pt x="22" y="122"/>
                  </a:lnTo>
                  <a:lnTo>
                    <a:pt x="71" y="142"/>
                  </a:lnTo>
                  <a:lnTo>
                    <a:pt x="122" y="122"/>
                  </a:lnTo>
                  <a:lnTo>
                    <a:pt x="142" y="7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3935520" y="4852800"/>
              <a:ext cx="1042920" cy="338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4660920" y="4853160"/>
              <a:ext cx="317520" cy="317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H="1" flipV="1">
              <a:off x="4978440" y="4853160"/>
              <a:ext cx="395280" cy="2952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978440" y="4853160"/>
              <a:ext cx="1119240" cy="3063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4978440" y="4766760"/>
              <a:ext cx="1735200" cy="86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8" name=""/>
          <p:cNvSpPr/>
          <p:nvPr/>
        </p:nvSpPr>
        <p:spPr>
          <a:xfrm>
            <a:off x="533520" y="380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面板说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80880" y="2133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源开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时将开关置于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；使用完毕置于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FF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8088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转换开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以选择功能和量程。根据被测的电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、电流、电阻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相应的功能位；按被测量程的大小性选择合适的量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04920" y="4495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入插座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黑色测试笔插入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插座。红色测试笔有如下三种插法，测量电压和电阻时插入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座；测量小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时插入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座；测量大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时插入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A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3" name=""/>
          <p:cNvGrpSpPr/>
          <p:nvPr/>
        </p:nvGrpSpPr>
        <p:grpSpPr>
          <a:xfrm>
            <a:off x="228600" y="380880"/>
            <a:ext cx="8610480" cy="1800360"/>
            <a:chOff x="228600" y="380880"/>
            <a:chExt cx="8610480" cy="1800360"/>
          </a:xfrm>
        </p:grpSpPr>
        <p:sp>
          <p:nvSpPr>
            <p:cNvPr id="2834" name=""/>
            <p:cNvSpPr/>
            <p:nvPr/>
          </p:nvSpPr>
          <p:spPr>
            <a:xfrm>
              <a:off x="228600" y="380880"/>
              <a:ext cx="8610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1)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显示器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显示四位数字，最高位只能显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不显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示数字，算半位，故称三位半（       ）。最大指示为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199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当被测量超过最大指示值时，显示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”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5" name=""/>
                <p:cNvSpPr txBox="1"/>
                <p:nvPr/>
              </p:nvSpPr>
              <p:spPr>
                <a:xfrm>
                  <a:off x="5567400" y="762120"/>
                  <a:ext cx="528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1550880" y="525240"/>
            <a:ext cx="5840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6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功率的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33520" y="12333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6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相交流和直流功率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62120" y="1766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用电动式仪表来测量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486400" y="4419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功率表的接线图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6629400" y="1523880"/>
            <a:ext cx="1981080" cy="990720"/>
            <a:chOff x="6629400" y="1523880"/>
            <a:chExt cx="1981080" cy="990720"/>
          </a:xfrm>
        </p:grpSpPr>
        <p:sp>
          <p:nvSpPr>
            <p:cNvPr id="2842" name=""/>
            <p:cNvSpPr/>
            <p:nvPr/>
          </p:nvSpPr>
          <p:spPr>
            <a:xfrm flipV="1">
              <a:off x="6629400" y="1904760"/>
              <a:ext cx="533160" cy="609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10280" y="1523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压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6781680" y="1981080"/>
            <a:ext cx="2133720" cy="914400"/>
            <a:chOff x="6781680" y="1981080"/>
            <a:chExt cx="2133720" cy="914400"/>
          </a:xfrm>
        </p:grpSpPr>
        <p:sp>
          <p:nvSpPr>
            <p:cNvPr id="2845" name=""/>
            <p:cNvSpPr/>
            <p:nvPr/>
          </p:nvSpPr>
          <p:spPr>
            <a:xfrm flipV="1">
              <a:off x="6781680" y="2361960"/>
              <a:ext cx="609480" cy="533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315200" y="1981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流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7" name=""/>
          <p:cNvGrpSpPr/>
          <p:nvPr/>
        </p:nvGrpSpPr>
        <p:grpSpPr>
          <a:xfrm>
            <a:off x="5486400" y="1981080"/>
            <a:ext cx="2590920" cy="2325600"/>
            <a:chOff x="5486400" y="1981080"/>
            <a:chExt cx="2590920" cy="2325600"/>
          </a:xfrm>
        </p:grpSpPr>
        <p:sp>
          <p:nvSpPr>
            <p:cNvPr id="2848" name=""/>
            <p:cNvSpPr/>
            <p:nvPr/>
          </p:nvSpPr>
          <p:spPr>
            <a:xfrm>
              <a:off x="5639040" y="2933640"/>
              <a:ext cx="8568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86400" y="3276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858000" y="29718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848720" y="37335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848720" y="2971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054840" y="2933640"/>
              <a:ext cx="7956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705720" y="34290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86600" y="2300040"/>
              <a:ext cx="99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486400" y="289548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56272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5714640" y="297180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5714640" y="426708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96240" y="22860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629400" y="2743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629400" y="34290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39040" y="4228920"/>
              <a:ext cx="7920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4" name=""/>
            <p:cNvGrpSpPr/>
            <p:nvPr/>
          </p:nvGrpSpPr>
          <p:grpSpPr>
            <a:xfrm>
              <a:off x="6388200" y="2854080"/>
              <a:ext cx="469800" cy="139680"/>
              <a:chOff x="6388200" y="2854080"/>
              <a:chExt cx="469800" cy="139680"/>
            </a:xfrm>
          </p:grpSpPr>
          <p:sp>
            <p:nvSpPr>
              <p:cNvPr id="2865" name=""/>
              <p:cNvSpPr/>
              <p:nvPr/>
            </p:nvSpPr>
            <p:spPr>
              <a:xfrm>
                <a:off x="6388200" y="2865240"/>
                <a:ext cx="228600" cy="128520"/>
              </a:xfrm>
              <a:custGeom>
                <a:avLst/>
                <a:gdLst/>
                <a:ahLst/>
                <a:rect l="l" t="t" r="r" b="b"/>
                <a:pathLst>
                  <a:path w="144" h="81">
                    <a:moveTo>
                      <a:pt x="0" y="73"/>
                    </a:moveTo>
                    <a:cubicBezTo>
                      <a:pt x="14" y="32"/>
                      <a:pt x="31" y="15"/>
                      <a:pt x="72" y="1"/>
                    </a:cubicBezTo>
                    <a:cubicBezTo>
                      <a:pt x="123" y="14"/>
                      <a:pt x="98" y="0"/>
                      <a:pt x="136" y="57"/>
                    </a:cubicBezTo>
                    <a:cubicBezTo>
                      <a:pt x="141" y="64"/>
                      <a:pt x="144" y="81"/>
                      <a:pt x="144" y="8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629400" y="2854080"/>
                <a:ext cx="228600" cy="128520"/>
              </a:xfrm>
              <a:custGeom>
                <a:avLst/>
                <a:gdLst/>
                <a:ahLst/>
                <a:rect l="l" t="t" r="r" b="b"/>
                <a:pathLst>
                  <a:path w="144" h="81">
                    <a:moveTo>
                      <a:pt x="0" y="73"/>
                    </a:moveTo>
                    <a:cubicBezTo>
                      <a:pt x="14" y="32"/>
                      <a:pt x="31" y="15"/>
                      <a:pt x="72" y="1"/>
                    </a:cubicBezTo>
                    <a:cubicBezTo>
                      <a:pt x="123" y="14"/>
                      <a:pt x="98" y="0"/>
                      <a:pt x="136" y="57"/>
                    </a:cubicBezTo>
                    <a:cubicBezTo>
                      <a:pt x="141" y="64"/>
                      <a:pt x="144" y="81"/>
                      <a:pt x="144" y="8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594480" y="2438280"/>
              <a:ext cx="110880" cy="317160"/>
              <a:chOff x="6594480" y="2438280"/>
              <a:chExt cx="110880" cy="317160"/>
            </a:xfrm>
          </p:grpSpPr>
          <p:sp>
            <p:nvSpPr>
              <p:cNvPr id="2868" name=""/>
              <p:cNvSpPr/>
              <p:nvPr/>
            </p:nvSpPr>
            <p:spPr>
              <a:xfrm>
                <a:off x="6594480" y="2438280"/>
                <a:ext cx="80640" cy="10620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cubicBezTo>
                      <a:pt x="13" y="4"/>
                      <a:pt x="40" y="11"/>
                      <a:pt x="48" y="24"/>
                    </a:cubicBezTo>
                    <a:cubicBezTo>
                      <a:pt x="57" y="38"/>
                      <a:pt x="64" y="72"/>
                      <a:pt x="64" y="72"/>
                    </a:cubicBezTo>
                    <a:cubicBezTo>
                      <a:pt x="52" y="133"/>
                      <a:pt x="47" y="121"/>
                      <a:pt x="8" y="16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624720" y="2539080"/>
                <a:ext cx="80640" cy="10620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cubicBezTo>
                      <a:pt x="13" y="4"/>
                      <a:pt x="40" y="11"/>
                      <a:pt x="48" y="24"/>
                    </a:cubicBezTo>
                    <a:cubicBezTo>
                      <a:pt x="57" y="38"/>
                      <a:pt x="64" y="72"/>
                      <a:pt x="64" y="72"/>
                    </a:cubicBezTo>
                    <a:cubicBezTo>
                      <a:pt x="52" y="133"/>
                      <a:pt x="47" y="121"/>
                      <a:pt x="8" y="16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624720" y="2649240"/>
                <a:ext cx="80640" cy="10620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cubicBezTo>
                      <a:pt x="13" y="4"/>
                      <a:pt x="40" y="11"/>
                      <a:pt x="48" y="24"/>
                    </a:cubicBezTo>
                    <a:cubicBezTo>
                      <a:pt x="57" y="38"/>
                      <a:pt x="64" y="72"/>
                      <a:pt x="64" y="72"/>
                    </a:cubicBezTo>
                    <a:cubicBezTo>
                      <a:pt x="52" y="133"/>
                      <a:pt x="47" y="121"/>
                      <a:pt x="8" y="16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>
              <a:off x="6553440" y="3124080"/>
              <a:ext cx="15228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772400" y="3429000"/>
              <a:ext cx="1526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6629400" y="2285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096240" y="22860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91320" y="2666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47712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315200" y="28540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705720" y="358128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134400" y="2396880"/>
              <a:ext cx="106668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7924680" y="3124080"/>
            <a:ext cx="4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负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62120" y="2309760"/>
            <a:ext cx="4647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定线圈：匝数少，导线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负载串联，作为电流线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85800" y="3300480"/>
            <a:ext cx="46483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动线圈：匝数多，导线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负载并联，作为电压线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8580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160280" y="480060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可认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1752480" y="5334120"/>
                <a:ext cx="2425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6" name=""/>
          <p:cNvSpPr/>
          <p:nvPr/>
        </p:nvSpPr>
        <p:spPr>
          <a:xfrm>
            <a:off x="685800" y="5348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7" name=""/>
              <p:cNvSpPr txBox="1"/>
              <p:nvPr/>
            </p:nvSpPr>
            <p:spPr>
              <a:xfrm>
                <a:off x="4114800" y="5410080"/>
                <a:ext cx="2021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UI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8" name=""/>
              <p:cNvSpPr txBox="1"/>
              <p:nvPr/>
            </p:nvSpPr>
            <p:spPr>
              <a:xfrm>
                <a:off x="6095880" y="5445000"/>
                <a:ext cx="1043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584064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6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功率的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33520" y="685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6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相功率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09480" y="11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三相三线制中，广泛采用两功率表来测量三相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3" name=""/>
          <p:cNvGrpSpPr/>
          <p:nvPr/>
        </p:nvGrpSpPr>
        <p:grpSpPr>
          <a:xfrm>
            <a:off x="4495680" y="1542960"/>
            <a:ext cx="4044600" cy="3120120"/>
            <a:chOff x="4495680" y="1542960"/>
            <a:chExt cx="4044600" cy="3120120"/>
          </a:xfrm>
        </p:grpSpPr>
        <p:sp>
          <p:nvSpPr>
            <p:cNvPr id="2894" name=""/>
            <p:cNvSpPr/>
            <p:nvPr/>
          </p:nvSpPr>
          <p:spPr>
            <a:xfrm>
              <a:off x="4881600" y="3281760"/>
              <a:ext cx="72360" cy="64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817160" y="4357440"/>
              <a:ext cx="67680" cy="6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10120" y="2049480"/>
              <a:ext cx="32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7" name=""/>
                <p:cNvSpPr txBox="1"/>
                <p:nvPr/>
              </p:nvSpPr>
              <p:spPr>
                <a:xfrm>
                  <a:off x="7778520" y="2366280"/>
                  <a:ext cx="45828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898" name=""/>
            <p:cNvSpPr/>
            <p:nvPr/>
          </p:nvSpPr>
          <p:spPr>
            <a:xfrm>
              <a:off x="7005960" y="3633480"/>
              <a:ext cx="0" cy="75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rot="2876400">
              <a:off x="7256160" y="3158280"/>
              <a:ext cx="153720" cy="30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6991200" y="3412440"/>
              <a:ext cx="226800" cy="21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7442280" y="2965320"/>
              <a:ext cx="2682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rot="18435000">
              <a:off x="8015760" y="3158280"/>
              <a:ext cx="153720" cy="303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213760" y="3404160"/>
              <a:ext cx="241200" cy="1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 flipV="1">
              <a:off x="7690680" y="2979000"/>
              <a:ext cx="279000" cy="23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638120" y="2384280"/>
              <a:ext cx="150840" cy="307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713720" y="2692080"/>
              <a:ext cx="0" cy="30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7713720" y="2112480"/>
              <a:ext cx="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463600" y="357480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925880" y="1543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555240" y="3760200"/>
              <a:ext cx="192960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H="1">
              <a:off x="4881600" y="4393440"/>
              <a:ext cx="211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6555240" y="3316320"/>
              <a:ext cx="0" cy="4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6105240" y="3316680"/>
              <a:ext cx="44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6813000" y="2112840"/>
              <a:ext cx="89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680240" y="2971440"/>
              <a:ext cx="68040" cy="6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881600" y="2078280"/>
              <a:ext cx="66240" cy="64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491520" y="1955880"/>
              <a:ext cx="321480" cy="31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428160" y="1955880"/>
              <a:ext cx="67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784120" y="3126600"/>
              <a:ext cx="319680" cy="31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719320" y="3126600"/>
              <a:ext cx="586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4946760" y="2112840"/>
              <a:ext cx="153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4946760" y="3316680"/>
              <a:ext cx="82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5589360" y="2999520"/>
              <a:ext cx="0" cy="31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589360" y="2999520"/>
              <a:ext cx="34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943960" y="2999520"/>
              <a:ext cx="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941080" y="3443400"/>
              <a:ext cx="0" cy="9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V="1">
              <a:off x="6361920" y="1796040"/>
              <a:ext cx="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361920" y="179640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684840" y="1796400"/>
              <a:ext cx="0" cy="18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651720" y="2274120"/>
              <a:ext cx="0" cy="212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619680" y="4361760"/>
              <a:ext cx="6624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912280" y="4361760"/>
              <a:ext cx="6624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333040" y="306324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782680" y="27464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105600" y="1859400"/>
              <a:ext cx="5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491520" y="15429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7" name=""/>
                <p:cNvSpPr txBox="1"/>
                <p:nvPr/>
              </p:nvSpPr>
              <p:spPr>
                <a:xfrm>
                  <a:off x="8110440" y="2936520"/>
                  <a:ext cx="4298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8" name=""/>
                <p:cNvSpPr txBox="1"/>
                <p:nvPr/>
              </p:nvSpPr>
              <p:spPr>
                <a:xfrm>
                  <a:off x="6888240" y="2936520"/>
                  <a:ext cx="4374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939" name=""/>
            <p:cNvSpPr/>
            <p:nvPr/>
          </p:nvSpPr>
          <p:spPr>
            <a:xfrm>
              <a:off x="5010120" y="3252960"/>
              <a:ext cx="32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946760" y="4330440"/>
              <a:ext cx="321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995360" y="2734920"/>
              <a:ext cx="38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57840" y="382104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560480" y="19227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560480" y="31266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5680" y="42033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4876920" y="4419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功率表测量三相功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094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6094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瞬时功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609480" y="4200480"/>
            <a:ext cx="579132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(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62120" y="2819520"/>
            <a:ext cx="36576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09480" y="373392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286000" y="5881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见，三相功率可用两个功率表来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588960" y="817560"/>
                <a:ext cx="444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 </m:t>
                        </m:r>
                        <m:r>
                          <m:t xml:space="preserve">α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4" name=""/>
          <p:cNvSpPr/>
          <p:nvPr/>
        </p:nvSpPr>
        <p:spPr>
          <a:xfrm>
            <a:off x="533520" y="169056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相位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5105520" y="1905120"/>
            <a:ext cx="3800520" cy="2953440"/>
            <a:chOff x="5105520" y="1905120"/>
            <a:chExt cx="3800520" cy="2953440"/>
          </a:xfrm>
        </p:grpSpPr>
        <p:sp>
          <p:nvSpPr>
            <p:cNvPr id="2956" name=""/>
            <p:cNvSpPr/>
            <p:nvPr/>
          </p:nvSpPr>
          <p:spPr>
            <a:xfrm>
              <a:off x="5468760" y="3606840"/>
              <a:ext cx="68400" cy="61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407200" y="4619520"/>
              <a:ext cx="63360" cy="58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587920" y="244944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9" name=""/>
                <p:cNvSpPr txBox="1"/>
                <p:nvPr/>
              </p:nvSpPr>
              <p:spPr>
                <a:xfrm>
                  <a:off x="8190000" y="2747880"/>
                  <a:ext cx="4302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960" name=""/>
            <p:cNvSpPr/>
            <p:nvPr/>
          </p:nvSpPr>
          <p:spPr>
            <a:xfrm>
              <a:off x="7464600" y="3938760"/>
              <a:ext cx="0" cy="71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2876400">
              <a:off x="7700400" y="3493080"/>
              <a:ext cx="144360" cy="285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>
              <a:off x="7450560" y="3731040"/>
              <a:ext cx="21132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7874640" y="3309120"/>
              <a:ext cx="25164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18435000">
              <a:off x="8413560" y="3493800"/>
              <a:ext cx="144360" cy="284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599680" y="3722760"/>
              <a:ext cx="22608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 flipV="1">
              <a:off x="8107200" y="3322080"/>
              <a:ext cx="26352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058240" y="2765520"/>
              <a:ext cx="142920" cy="287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129520" y="3052800"/>
              <a:ext cx="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8129520" y="2507760"/>
              <a:ext cx="0" cy="2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832960" y="3882960"/>
              <a:ext cx="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496480" y="195804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040520" y="4057560"/>
              <a:ext cx="181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H="1">
              <a:off x="5468400" y="4653000"/>
              <a:ext cx="198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7040520" y="3639960"/>
              <a:ext cx="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6653160" y="3639960"/>
              <a:ext cx="378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7316280" y="2508120"/>
              <a:ext cx="798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097840" y="3316320"/>
              <a:ext cx="6336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468760" y="2476440"/>
              <a:ext cx="61920" cy="60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980400" y="2362320"/>
              <a:ext cx="360360" cy="352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919920" y="2362320"/>
              <a:ext cx="63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316560" y="3462480"/>
              <a:ext cx="352440" cy="347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254640" y="3462480"/>
              <a:ext cx="55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5529240" y="250812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5528880" y="3639960"/>
              <a:ext cx="77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6134040" y="3343320"/>
              <a:ext cx="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134040" y="334332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65960" y="3343320"/>
              <a:ext cx="144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64160" y="3795840"/>
              <a:ext cx="1800" cy="85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V="1">
              <a:off x="6859440" y="2209320"/>
              <a:ext cx="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859440" y="2209680"/>
              <a:ext cx="3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161120" y="2209680"/>
              <a:ext cx="18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130880" y="2730600"/>
              <a:ext cx="1800" cy="19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101000" y="4622760"/>
              <a:ext cx="619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435720" y="4622760"/>
              <a:ext cx="6336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892840" y="33415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15120" y="303840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618240" y="220680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980400" y="190512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9" name=""/>
                <p:cNvSpPr txBox="1"/>
                <p:nvPr/>
              </p:nvSpPr>
              <p:spPr>
                <a:xfrm>
                  <a:off x="8501040" y="3282840"/>
                  <a:ext cx="40500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0" name=""/>
                <p:cNvSpPr txBox="1"/>
                <p:nvPr/>
              </p:nvSpPr>
              <p:spPr>
                <a:xfrm>
                  <a:off x="7353360" y="3282840"/>
                  <a:ext cx="4111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001" name=""/>
            <p:cNvSpPr/>
            <p:nvPr/>
          </p:nvSpPr>
          <p:spPr>
            <a:xfrm>
              <a:off x="5587920" y="357984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529240" y="4592520"/>
              <a:ext cx="301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562720" y="3078720"/>
              <a:ext cx="38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31320" y="41011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4d4d4d"/>
                  </a:solidFill>
                  <a:latin typeface="Times New Roman"/>
                </a:rPr>
                <a:t>i</a:t>
              </a:r>
              <a:r>
                <a:rPr b="1" lang="zh-CN" sz="2400" spc="-1" strike="noStrike" baseline="-25000">
                  <a:solidFill>
                    <a:srgbClr val="4d4d4d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105520" y="228276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105520" y="34164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105520" y="439884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457200" y="343080"/>
            <a:ext cx="2514600" cy="579600"/>
            <a:chOff x="457200" y="343080"/>
            <a:chExt cx="2514600" cy="579600"/>
          </a:xfrm>
        </p:grpSpPr>
        <p:sp>
          <p:nvSpPr>
            <p:cNvPr id="3009" name=""/>
            <p:cNvSpPr/>
            <p:nvPr/>
          </p:nvSpPr>
          <p:spPr>
            <a:xfrm>
              <a:off x="457200" y="343080"/>
              <a:ext cx="251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W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1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的读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92120" y="343080"/>
              <a:ext cx="571680" cy="571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1" name=""/>
              <p:cNvSpPr txBox="1"/>
              <p:nvPr/>
            </p:nvSpPr>
            <p:spPr>
              <a:xfrm>
                <a:off x="700200" y="2886120"/>
                <a:ext cx="4329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 </m:t>
                        </m:r>
                        <m:r>
                          <m:t xml:space="preserve">β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012" name=""/>
          <p:cNvGrpSpPr/>
          <p:nvPr/>
        </p:nvGrpSpPr>
        <p:grpSpPr>
          <a:xfrm>
            <a:off x="533520" y="2324160"/>
            <a:ext cx="2514600" cy="579600"/>
            <a:chOff x="533520" y="2324160"/>
            <a:chExt cx="2514600" cy="579600"/>
          </a:xfrm>
        </p:grpSpPr>
        <p:sp>
          <p:nvSpPr>
            <p:cNvPr id="3013" name=""/>
            <p:cNvSpPr/>
            <p:nvPr/>
          </p:nvSpPr>
          <p:spPr>
            <a:xfrm>
              <a:off x="533520" y="2324160"/>
              <a:ext cx="251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W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的读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68440" y="2324160"/>
              <a:ext cx="571680" cy="571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5" name=""/>
          <p:cNvSpPr/>
          <p:nvPr/>
        </p:nvSpPr>
        <p:spPr>
          <a:xfrm>
            <a:off x="609480" y="374796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相位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685800" y="4343400"/>
            <a:ext cx="518148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功率表读数之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"/>
          <p:cNvGrpSpPr/>
          <p:nvPr/>
        </p:nvGrpSpPr>
        <p:grpSpPr>
          <a:xfrm>
            <a:off x="6858000" y="2971800"/>
            <a:ext cx="609480" cy="380880"/>
            <a:chOff x="6858000" y="2971800"/>
            <a:chExt cx="609480" cy="380880"/>
          </a:xfrm>
        </p:grpSpPr>
        <p:sp>
          <p:nvSpPr>
            <p:cNvPr id="3018" name=""/>
            <p:cNvSpPr/>
            <p:nvPr/>
          </p:nvSpPr>
          <p:spPr>
            <a:xfrm>
              <a:off x="6858000" y="2971800"/>
              <a:ext cx="609480" cy="380880"/>
            </a:xfrm>
            <a:prstGeom prst="wedgeRoundRectCallout">
              <a:avLst>
                <a:gd name="adj1" fmla="val -28907"/>
                <a:gd name="adj2" fmla="val -238750"/>
                <a:gd name="adj3" fmla="val 16667"/>
              </a:avLst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858000" y="2971800"/>
              <a:ext cx="609480" cy="380880"/>
            </a:xfrm>
            <a:prstGeom prst="wedgeRoundRectCallout">
              <a:avLst>
                <a:gd name="adj1" fmla="val -101564"/>
                <a:gd name="adj2" fmla="val -187916"/>
                <a:gd name="adj3" fmla="val 16667"/>
              </a:avLst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6435360" y="2170080"/>
            <a:ext cx="651240" cy="483840"/>
            <a:chOff x="6435360" y="2170080"/>
            <a:chExt cx="651240" cy="483840"/>
          </a:xfrm>
        </p:grpSpPr>
        <p:sp>
          <p:nvSpPr>
            <p:cNvPr id="3021" name=""/>
            <p:cNvSpPr/>
            <p:nvPr/>
          </p:nvSpPr>
          <p:spPr>
            <a:xfrm>
              <a:off x="7010280" y="2170080"/>
              <a:ext cx="76320" cy="233280"/>
            </a:xfrm>
            <a:custGeom>
              <a:avLst/>
              <a:gdLst/>
              <a:ahLst/>
              <a:rect l="l" t="t" r="r" b="b"/>
              <a:pathLst>
                <a:path w="72" h="104">
                  <a:moveTo>
                    <a:pt x="72" y="0"/>
                  </a:moveTo>
                  <a:cubicBezTo>
                    <a:pt x="64" y="25"/>
                    <a:pt x="56" y="56"/>
                    <a:pt x="32" y="72"/>
                  </a:cubicBezTo>
                  <a:cubicBezTo>
                    <a:pt x="3" y="91"/>
                    <a:pt x="12" y="79"/>
                    <a:pt x="0" y="104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rot="20908800">
              <a:off x="6444720" y="2520360"/>
              <a:ext cx="184320" cy="115920"/>
            </a:xfrm>
            <a:custGeom>
              <a:avLst/>
              <a:gdLst/>
              <a:ahLst/>
              <a:rect l="l" t="t" r="r" b="b"/>
              <a:pathLst>
                <a:path w="160" h="96">
                  <a:moveTo>
                    <a:pt x="0" y="0"/>
                  </a:moveTo>
                  <a:cubicBezTo>
                    <a:pt x="3" y="8"/>
                    <a:pt x="2" y="18"/>
                    <a:pt x="8" y="24"/>
                  </a:cubicBezTo>
                  <a:cubicBezTo>
                    <a:pt x="40" y="56"/>
                    <a:pt x="113" y="96"/>
                    <a:pt x="160" y="9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6095880" y="2266920"/>
            <a:ext cx="1600200" cy="783360"/>
            <a:chOff x="6095880" y="2266920"/>
            <a:chExt cx="1600200" cy="783360"/>
          </a:xfrm>
        </p:grpSpPr>
        <p:sp>
          <p:nvSpPr>
            <p:cNvPr id="3024" name=""/>
            <p:cNvSpPr/>
            <p:nvPr/>
          </p:nvSpPr>
          <p:spPr>
            <a:xfrm>
              <a:off x="7162920" y="2342880"/>
              <a:ext cx="75960" cy="190800"/>
            </a:xfrm>
            <a:custGeom>
              <a:avLst/>
              <a:gdLst/>
              <a:ahLst/>
              <a:rect l="l" t="t" r="r" b="b"/>
              <a:pathLst>
                <a:path w="48" h="120">
                  <a:moveTo>
                    <a:pt x="48" y="0"/>
                  </a:moveTo>
                  <a:cubicBezTo>
                    <a:pt x="36" y="37"/>
                    <a:pt x="28" y="92"/>
                    <a:pt x="0" y="12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095880" y="2590560"/>
              <a:ext cx="533520" cy="3049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16" y="56"/>
                    <a:pt x="32" y="112"/>
                    <a:pt x="48" y="144"/>
                  </a:cubicBezTo>
                  <a:cubicBezTo>
                    <a:pt x="64" y="176"/>
                    <a:pt x="80" y="176"/>
                    <a:pt x="96" y="192"/>
                  </a:cubicBezTo>
                  <a:cubicBezTo>
                    <a:pt x="112" y="208"/>
                    <a:pt x="128" y="224"/>
                    <a:pt x="144" y="240"/>
                  </a:cubicBezTo>
                  <a:cubicBezTo>
                    <a:pt x="160" y="256"/>
                    <a:pt x="168" y="272"/>
                    <a:pt x="192" y="288"/>
                  </a:cubicBezTo>
                  <a:cubicBezTo>
                    <a:pt x="216" y="304"/>
                    <a:pt x="252" y="320"/>
                    <a:pt x="288" y="3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162920" y="2266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2071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8" name=""/>
          <p:cNvSpPr/>
          <p:nvPr/>
        </p:nvSpPr>
        <p:spPr>
          <a:xfrm>
            <a:off x="304920" y="425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负载对称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9" name=""/>
          <p:cNvGrpSpPr/>
          <p:nvPr/>
        </p:nvGrpSpPr>
        <p:grpSpPr>
          <a:xfrm>
            <a:off x="5638680" y="914400"/>
            <a:ext cx="2597400" cy="2543040"/>
            <a:chOff x="5638680" y="914400"/>
            <a:chExt cx="2597400" cy="2543040"/>
          </a:xfrm>
        </p:grpSpPr>
        <p:sp>
          <p:nvSpPr>
            <p:cNvPr id="3030" name=""/>
            <p:cNvSpPr/>
            <p:nvPr/>
          </p:nvSpPr>
          <p:spPr>
            <a:xfrm>
              <a:off x="6653160" y="2171520"/>
              <a:ext cx="12067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>
              <a:off x="6064560" y="2181960"/>
              <a:ext cx="572400" cy="1062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 flipV="1">
              <a:off x="6042240" y="1116720"/>
              <a:ext cx="602640" cy="10436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3" name=""/>
                <p:cNvSpPr txBox="1"/>
                <p:nvPr/>
              </p:nvSpPr>
              <p:spPr>
                <a:xfrm>
                  <a:off x="7829640" y="1877760"/>
                  <a:ext cx="40644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4" name=""/>
                <p:cNvSpPr txBox="1"/>
                <p:nvPr/>
              </p:nvSpPr>
              <p:spPr>
                <a:xfrm>
                  <a:off x="5638680" y="941400"/>
                  <a:ext cx="387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035" name=""/>
            <p:cNvGrpSpPr/>
            <p:nvPr/>
          </p:nvGrpSpPr>
          <p:grpSpPr>
            <a:xfrm>
              <a:off x="5947920" y="1298520"/>
              <a:ext cx="1531080" cy="1435320"/>
              <a:chOff x="5947920" y="1298520"/>
              <a:chExt cx="1531080" cy="1435320"/>
            </a:xfrm>
          </p:grpSpPr>
          <p:sp>
            <p:nvSpPr>
              <p:cNvPr id="3036" name=""/>
              <p:cNvSpPr/>
              <p:nvPr/>
            </p:nvSpPr>
            <p:spPr>
              <a:xfrm>
                <a:off x="6631920" y="2167200"/>
                <a:ext cx="8470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947920" y="2169000"/>
                <a:ext cx="683640" cy="56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 flipV="1">
                <a:off x="6469560" y="1298520"/>
                <a:ext cx="158760" cy="87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39" name=""/>
                <p:cNvSpPr txBox="1"/>
                <p:nvPr/>
              </p:nvSpPr>
              <p:spPr>
                <a:xfrm>
                  <a:off x="5651640" y="2438280"/>
                  <a:ext cx="374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0" name=""/>
                <p:cNvSpPr txBox="1"/>
                <p:nvPr/>
              </p:nvSpPr>
              <p:spPr>
                <a:xfrm>
                  <a:off x="7523280" y="220968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1" name=""/>
                <p:cNvSpPr txBox="1"/>
                <p:nvPr/>
              </p:nvSpPr>
              <p:spPr>
                <a:xfrm>
                  <a:off x="6388200" y="914400"/>
                  <a:ext cx="323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42" name=""/>
            <p:cNvSpPr/>
            <p:nvPr/>
          </p:nvSpPr>
          <p:spPr>
            <a:xfrm>
              <a:off x="7169040" y="2171520"/>
              <a:ext cx="92160" cy="16524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0"/>
                  </a:moveTo>
                  <a:cubicBezTo>
                    <a:pt x="57" y="12"/>
                    <a:pt x="54" y="50"/>
                    <a:pt x="44" y="67"/>
                  </a:cubicBezTo>
                  <a:cubicBezTo>
                    <a:pt x="34" y="84"/>
                    <a:pt x="9" y="96"/>
                    <a:pt x="0" y="1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01080" y="20048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rot="19626000">
              <a:off x="6416280" y="2358720"/>
              <a:ext cx="25560" cy="12528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0" y="0"/>
                  </a:moveTo>
                  <a:cubicBezTo>
                    <a:pt x="9" y="46"/>
                    <a:pt x="2" y="28"/>
                    <a:pt x="16" y="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102360" y="23619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6" name=""/>
                <p:cNvSpPr txBox="1"/>
                <p:nvPr/>
              </p:nvSpPr>
              <p:spPr>
                <a:xfrm>
                  <a:off x="5721480" y="3047760"/>
                  <a:ext cx="38412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47" name=""/>
          <p:cNvGrpSpPr/>
          <p:nvPr/>
        </p:nvGrpSpPr>
        <p:grpSpPr>
          <a:xfrm>
            <a:off x="6635880" y="2133720"/>
            <a:ext cx="2214000" cy="2367000"/>
            <a:chOff x="6635880" y="2133720"/>
            <a:chExt cx="2214000" cy="2367000"/>
          </a:xfrm>
        </p:grpSpPr>
        <mc:AlternateContent>
          <mc:Choice xmlns:a14="http://schemas.microsoft.com/office/drawing/2010/main" Requires="a14">
            <p:sp>
              <p:nvSpPr>
                <p:cNvPr id="3048" name=""/>
                <p:cNvSpPr txBox="1"/>
                <p:nvPr/>
              </p:nvSpPr>
              <p:spPr>
                <a:xfrm>
                  <a:off x="8316720" y="3276720"/>
                  <a:ext cx="5331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49" name=""/>
            <p:cNvSpPr/>
            <p:nvPr/>
          </p:nvSpPr>
          <p:spPr>
            <a:xfrm>
              <a:off x="7824600" y="2133720"/>
              <a:ext cx="685440" cy="11430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635880" y="2170080"/>
              <a:ext cx="1833120" cy="1106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40200" y="2209680"/>
              <a:ext cx="0" cy="213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2" name=""/>
                <p:cNvSpPr txBox="1"/>
                <p:nvPr/>
              </p:nvSpPr>
              <p:spPr>
                <a:xfrm>
                  <a:off x="6716520" y="4038480"/>
                  <a:ext cx="53316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3" name=""/>
          <p:cNvSpPr/>
          <p:nvPr/>
        </p:nvSpPr>
        <p:spPr>
          <a:xfrm>
            <a:off x="228600" y="914400"/>
            <a:ext cx="3200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685800" y="1371600"/>
            <a:ext cx="3581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(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–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28600" y="1787400"/>
            <a:ext cx="3200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22160" y="2244600"/>
            <a:ext cx="3581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(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+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304920" y="457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相量图可知，两功率表的读数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304920" y="2819520"/>
            <a:ext cx="6324480" cy="14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功率表读数之和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(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–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s (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+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9480" y="4154400"/>
                <a:ext cx="1981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0" name=""/>
          <p:cNvSpPr/>
          <p:nvPr/>
        </p:nvSpPr>
        <p:spPr>
          <a:xfrm>
            <a:off x="533520" y="5729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见，采用两表法可测量三相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533520" y="4648320"/>
            <a:ext cx="70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lt; 6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均为正值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533520" y="52578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&gt; 6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正值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负值，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419720" y="1066680"/>
            <a:ext cx="411480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功率应是两个功率表读数的代数和，其中任意一个功率表的读数是无意义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1321560" y="1562040"/>
            <a:ext cx="2250000" cy="2514960"/>
            <a:chOff x="1321560" y="1562040"/>
            <a:chExt cx="2250000" cy="2514960"/>
          </a:xfrm>
        </p:grpSpPr>
        <p:sp>
          <p:nvSpPr>
            <p:cNvPr id="3065" name=""/>
            <p:cNvSpPr/>
            <p:nvPr/>
          </p:nvSpPr>
          <p:spPr>
            <a:xfrm>
              <a:off x="1768320" y="1562040"/>
              <a:ext cx="1510920" cy="1419120"/>
            </a:xfrm>
            <a:custGeom>
              <a:avLst/>
              <a:gdLst/>
              <a:ahLst/>
              <a:rect l="l" t="t" r="r" b="b"/>
              <a:pathLst>
                <a:path w="1188" h="1189">
                  <a:moveTo>
                    <a:pt x="1188" y="594"/>
                  </a:moveTo>
                  <a:lnTo>
                    <a:pt x="1176" y="479"/>
                  </a:lnTo>
                  <a:lnTo>
                    <a:pt x="1142" y="367"/>
                  </a:lnTo>
                  <a:lnTo>
                    <a:pt x="1088" y="264"/>
                  </a:lnTo>
                  <a:lnTo>
                    <a:pt x="1014" y="174"/>
                  </a:lnTo>
                  <a:lnTo>
                    <a:pt x="924" y="100"/>
                  </a:lnTo>
                  <a:lnTo>
                    <a:pt x="821" y="44"/>
                  </a:lnTo>
                  <a:lnTo>
                    <a:pt x="710" y="11"/>
                  </a:lnTo>
                  <a:lnTo>
                    <a:pt x="594" y="0"/>
                  </a:lnTo>
                  <a:lnTo>
                    <a:pt x="478" y="11"/>
                  </a:lnTo>
                  <a:lnTo>
                    <a:pt x="366" y="44"/>
                  </a:lnTo>
                  <a:lnTo>
                    <a:pt x="264" y="100"/>
                  </a:lnTo>
                  <a:lnTo>
                    <a:pt x="174" y="174"/>
                  </a:lnTo>
                  <a:lnTo>
                    <a:pt x="100" y="264"/>
                  </a:lnTo>
                  <a:lnTo>
                    <a:pt x="46" y="367"/>
                  </a:lnTo>
                  <a:lnTo>
                    <a:pt x="11" y="479"/>
                  </a:lnTo>
                  <a:lnTo>
                    <a:pt x="0" y="594"/>
                  </a:lnTo>
                  <a:lnTo>
                    <a:pt x="11" y="710"/>
                  </a:lnTo>
                  <a:lnTo>
                    <a:pt x="46" y="822"/>
                  </a:lnTo>
                  <a:lnTo>
                    <a:pt x="100" y="925"/>
                  </a:lnTo>
                  <a:lnTo>
                    <a:pt x="174" y="1015"/>
                  </a:lnTo>
                  <a:lnTo>
                    <a:pt x="264" y="1088"/>
                  </a:lnTo>
                  <a:lnTo>
                    <a:pt x="366" y="1144"/>
                  </a:lnTo>
                  <a:lnTo>
                    <a:pt x="478" y="1177"/>
                  </a:lnTo>
                  <a:lnTo>
                    <a:pt x="594" y="1189"/>
                  </a:lnTo>
                  <a:lnTo>
                    <a:pt x="710" y="1177"/>
                  </a:lnTo>
                  <a:lnTo>
                    <a:pt x="821" y="1144"/>
                  </a:lnTo>
                  <a:lnTo>
                    <a:pt x="924" y="1088"/>
                  </a:lnTo>
                  <a:lnTo>
                    <a:pt x="1014" y="1015"/>
                  </a:lnTo>
                  <a:lnTo>
                    <a:pt x="1088" y="925"/>
                  </a:lnTo>
                  <a:lnTo>
                    <a:pt x="1142" y="822"/>
                  </a:lnTo>
                  <a:lnTo>
                    <a:pt x="1176" y="710"/>
                  </a:lnTo>
                  <a:lnTo>
                    <a:pt x="1188" y="59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584360" y="3679560"/>
              <a:ext cx="198720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433680" y="3659040"/>
              <a:ext cx="137880" cy="442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0" y="0"/>
                  </a:moveTo>
                  <a:lnTo>
                    <a:pt x="109" y="18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433680" y="3659040"/>
              <a:ext cx="137880" cy="442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0" y="0"/>
                  </a:moveTo>
                  <a:lnTo>
                    <a:pt x="109" y="18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3189240" y="3679560"/>
              <a:ext cx="24408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H="1">
              <a:off x="1584000" y="3679560"/>
              <a:ext cx="25812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701720" y="3659040"/>
              <a:ext cx="140760" cy="44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0" y="0"/>
                  </a:moveTo>
                  <a:lnTo>
                    <a:pt x="110" y="18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701720" y="3659040"/>
              <a:ext cx="140760" cy="44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0" y="0"/>
                  </a:moveTo>
                  <a:lnTo>
                    <a:pt x="110" y="18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584360" y="3511440"/>
              <a:ext cx="132660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>
              <a:off x="1584000" y="3511440"/>
              <a:ext cx="258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701720" y="3490560"/>
              <a:ext cx="140760" cy="432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1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701720" y="3490560"/>
              <a:ext cx="140760" cy="432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10" y="18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433680" y="3490560"/>
              <a:ext cx="137880" cy="4320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0" y="0"/>
                  </a:moveTo>
                  <a:lnTo>
                    <a:pt x="10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433680" y="3490560"/>
              <a:ext cx="137880" cy="4320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0" y="0"/>
                  </a:moveTo>
                  <a:lnTo>
                    <a:pt x="109" y="18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H="1">
              <a:off x="3189240" y="3511440"/>
              <a:ext cx="24408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584360" y="3332160"/>
              <a:ext cx="35820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H="1">
              <a:off x="1584000" y="3332160"/>
              <a:ext cx="258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701720" y="3311280"/>
              <a:ext cx="140760" cy="428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1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701720" y="3311280"/>
              <a:ext cx="140760" cy="428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10" y="18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33680" y="3311280"/>
              <a:ext cx="137880" cy="4284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0" y="0"/>
                  </a:moveTo>
                  <a:lnTo>
                    <a:pt x="10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433680" y="3311280"/>
              <a:ext cx="137880" cy="4284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0" y="0"/>
                  </a:moveTo>
                  <a:lnTo>
                    <a:pt x="109" y="18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991240" y="2865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794320" y="2987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991160" y="2865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84840" y="2987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189240" y="3332160"/>
              <a:ext cx="24408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2911320" y="2964960"/>
              <a:ext cx="1440" cy="5461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2720880" y="2441520"/>
              <a:ext cx="19008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2720880" y="2082240"/>
              <a:ext cx="0" cy="358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20880" y="2082600"/>
              <a:ext cx="29880" cy="14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106440" y="2082600"/>
              <a:ext cx="0" cy="647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106440" y="3511440"/>
              <a:ext cx="465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23960" y="1882440"/>
              <a:ext cx="1440" cy="1098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2732040" y="3052080"/>
              <a:ext cx="1080" cy="459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732040" y="2792160"/>
              <a:ext cx="727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2805120" y="2314080"/>
              <a:ext cx="0" cy="477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805120" y="2314440"/>
              <a:ext cx="12168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927160" y="2222280"/>
              <a:ext cx="1440" cy="921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>
              <a:off x="2523600" y="1882440"/>
              <a:ext cx="40284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751120" y="2035080"/>
              <a:ext cx="99720" cy="4752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79" y="40"/>
                  </a:moveTo>
                  <a:lnTo>
                    <a:pt x="68" y="12"/>
                  </a:lnTo>
                  <a:lnTo>
                    <a:pt x="39" y="0"/>
                  </a:lnTo>
                  <a:lnTo>
                    <a:pt x="12" y="12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851200" y="2082600"/>
              <a:ext cx="120240" cy="1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900160" y="1992240"/>
              <a:ext cx="50400" cy="230040"/>
            </a:xfrm>
            <a:custGeom>
              <a:avLst/>
              <a:gdLst/>
              <a:ahLst/>
              <a:rect l="l" t="t" r="r" b="b"/>
              <a:pathLst>
                <a:path w="40" h="193">
                  <a:moveTo>
                    <a:pt x="22" y="0"/>
                  </a:moveTo>
                  <a:lnTo>
                    <a:pt x="37" y="10"/>
                  </a:lnTo>
                  <a:lnTo>
                    <a:pt x="35" y="25"/>
                  </a:lnTo>
                  <a:lnTo>
                    <a:pt x="3" y="42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16" y="71"/>
                  </a:lnTo>
                  <a:lnTo>
                    <a:pt x="39" y="96"/>
                  </a:lnTo>
                  <a:lnTo>
                    <a:pt x="30" y="110"/>
                  </a:lnTo>
                  <a:lnTo>
                    <a:pt x="16" y="119"/>
                  </a:lnTo>
                  <a:lnTo>
                    <a:pt x="3" y="131"/>
                  </a:lnTo>
                  <a:lnTo>
                    <a:pt x="12" y="145"/>
                  </a:lnTo>
                  <a:lnTo>
                    <a:pt x="39" y="168"/>
                  </a:lnTo>
                  <a:lnTo>
                    <a:pt x="40" y="176"/>
                  </a:lnTo>
                  <a:lnTo>
                    <a:pt x="36" y="184"/>
                  </a:lnTo>
                  <a:lnTo>
                    <a:pt x="22" y="193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2927160" y="1882080"/>
              <a:ext cx="1440" cy="109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971800" y="2035080"/>
              <a:ext cx="101160" cy="4752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79" y="40"/>
                  </a:moveTo>
                  <a:lnTo>
                    <a:pt x="67" y="12"/>
                  </a:lnTo>
                  <a:lnTo>
                    <a:pt x="39" y="0"/>
                  </a:lnTo>
                  <a:lnTo>
                    <a:pt x="12" y="12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073320" y="2082600"/>
              <a:ext cx="32760" cy="14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087720" y="2728800"/>
              <a:ext cx="59760" cy="572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4"/>
                  </a:moveTo>
                  <a:lnTo>
                    <a:pt x="40" y="7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2"/>
                  </a:lnTo>
                  <a:lnTo>
                    <a:pt x="24" y="48"/>
                  </a:lnTo>
                  <a:lnTo>
                    <a:pt x="40" y="42"/>
                  </a:lnTo>
                  <a:lnTo>
                    <a:pt x="48" y="24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868480" y="2887560"/>
              <a:ext cx="83880" cy="77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55" y="10"/>
                  </a:lnTo>
                  <a:lnTo>
                    <a:pt x="33" y="0"/>
                  </a:lnTo>
                  <a:lnTo>
                    <a:pt x="10" y="10"/>
                  </a:lnTo>
                  <a:lnTo>
                    <a:pt x="0" y="32"/>
                  </a:lnTo>
                  <a:lnTo>
                    <a:pt x="10" y="55"/>
                  </a:lnTo>
                  <a:lnTo>
                    <a:pt x="33" y="65"/>
                  </a:lnTo>
                  <a:lnTo>
                    <a:pt x="55" y="55"/>
                  </a:lnTo>
                  <a:lnTo>
                    <a:pt x="65" y="32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679480" y="2954160"/>
              <a:ext cx="102960" cy="9828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41"/>
                  </a:moveTo>
                  <a:lnTo>
                    <a:pt x="69" y="12"/>
                  </a:lnTo>
                  <a:lnTo>
                    <a:pt x="41" y="0"/>
                  </a:lnTo>
                  <a:lnTo>
                    <a:pt x="12" y="12"/>
                  </a:lnTo>
                  <a:lnTo>
                    <a:pt x="0" y="41"/>
                  </a:lnTo>
                  <a:lnTo>
                    <a:pt x="12" y="70"/>
                  </a:lnTo>
                  <a:lnTo>
                    <a:pt x="41" y="82"/>
                  </a:lnTo>
                  <a:lnTo>
                    <a:pt x="69" y="70"/>
                  </a:lnTo>
                  <a:lnTo>
                    <a:pt x="81" y="4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2732040" y="2792160"/>
              <a:ext cx="1080" cy="162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2911320" y="2441160"/>
              <a:ext cx="1440" cy="446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106440" y="2784240"/>
              <a:ext cx="0" cy="727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489040" y="2981160"/>
              <a:ext cx="71280" cy="666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8"/>
                  </a:moveTo>
                  <a:lnTo>
                    <a:pt x="47" y="9"/>
                  </a:lnTo>
                  <a:lnTo>
                    <a:pt x="28" y="0"/>
                  </a:lnTo>
                  <a:lnTo>
                    <a:pt x="9" y="9"/>
                  </a:lnTo>
                  <a:lnTo>
                    <a:pt x="0" y="28"/>
                  </a:lnTo>
                  <a:lnTo>
                    <a:pt x="9" y="47"/>
                  </a:lnTo>
                  <a:lnTo>
                    <a:pt x="28" y="55"/>
                  </a:lnTo>
                  <a:lnTo>
                    <a:pt x="47" y="47"/>
                  </a:lnTo>
                  <a:lnTo>
                    <a:pt x="56" y="28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523960" y="3047760"/>
              <a:ext cx="1440" cy="63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942920" y="2784240"/>
              <a:ext cx="1440" cy="547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900080" y="2728800"/>
              <a:ext cx="61560" cy="572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4"/>
                  </a:moveTo>
                  <a:lnTo>
                    <a:pt x="41" y="7"/>
                  </a:lnTo>
                  <a:lnTo>
                    <a:pt x="24" y="0"/>
                  </a:lnTo>
                  <a:lnTo>
                    <a:pt x="8" y="7"/>
                  </a:lnTo>
                  <a:lnTo>
                    <a:pt x="0" y="24"/>
                  </a:lnTo>
                  <a:lnTo>
                    <a:pt x="8" y="42"/>
                  </a:lnTo>
                  <a:lnTo>
                    <a:pt x="24" y="48"/>
                  </a:lnTo>
                  <a:lnTo>
                    <a:pt x="41" y="42"/>
                  </a:lnTo>
                  <a:lnTo>
                    <a:pt x="48" y="24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097000" y="2887560"/>
              <a:ext cx="82080" cy="77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55" y="10"/>
                  </a:lnTo>
                  <a:lnTo>
                    <a:pt x="32" y="0"/>
                  </a:lnTo>
                  <a:lnTo>
                    <a:pt x="10" y="10"/>
                  </a:lnTo>
                  <a:lnTo>
                    <a:pt x="0" y="32"/>
                  </a:lnTo>
                  <a:lnTo>
                    <a:pt x="10" y="55"/>
                  </a:lnTo>
                  <a:lnTo>
                    <a:pt x="32" y="65"/>
                  </a:lnTo>
                  <a:lnTo>
                    <a:pt x="55" y="55"/>
                  </a:lnTo>
                  <a:lnTo>
                    <a:pt x="65" y="32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2138400" y="2964960"/>
              <a:ext cx="0" cy="3668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2317680" y="3052440"/>
              <a:ext cx="0" cy="100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265120" y="2954160"/>
              <a:ext cx="102960" cy="9828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41"/>
                  </a:moveTo>
                  <a:lnTo>
                    <a:pt x="69" y="12"/>
                  </a:lnTo>
                  <a:lnTo>
                    <a:pt x="40" y="0"/>
                  </a:lnTo>
                  <a:lnTo>
                    <a:pt x="12" y="12"/>
                  </a:lnTo>
                  <a:lnTo>
                    <a:pt x="0" y="41"/>
                  </a:lnTo>
                  <a:lnTo>
                    <a:pt x="12" y="70"/>
                  </a:lnTo>
                  <a:lnTo>
                    <a:pt x="40" y="82"/>
                  </a:lnTo>
                  <a:lnTo>
                    <a:pt x="69" y="70"/>
                  </a:lnTo>
                  <a:lnTo>
                    <a:pt x="81" y="41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2244600" y="2314080"/>
              <a:ext cx="1080" cy="4777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V="1">
              <a:off x="2138400" y="2441160"/>
              <a:ext cx="0" cy="4460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2317680" y="2792160"/>
              <a:ext cx="0" cy="1620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244600" y="2792160"/>
              <a:ext cx="727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1942920" y="2082600"/>
              <a:ext cx="1440" cy="6476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 flipV="1">
              <a:off x="2120760" y="2222280"/>
              <a:ext cx="1080" cy="921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2328840" y="2082240"/>
              <a:ext cx="1080" cy="35892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120400" y="2314440"/>
              <a:ext cx="12348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38400" y="2441520"/>
              <a:ext cx="19008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97080" y="2035080"/>
              <a:ext cx="99720" cy="4752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78" y="40"/>
                  </a:moveTo>
                  <a:lnTo>
                    <a:pt x="67" y="12"/>
                  </a:lnTo>
                  <a:lnTo>
                    <a:pt x="40" y="0"/>
                  </a:lnTo>
                  <a:lnTo>
                    <a:pt x="11" y="12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2296800" y="2082600"/>
              <a:ext cx="313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097000" y="1992240"/>
              <a:ext cx="51840" cy="230040"/>
            </a:xfrm>
            <a:custGeom>
              <a:avLst/>
              <a:gdLst/>
              <a:ahLst/>
              <a:rect l="l" t="t" r="r" b="b"/>
              <a:pathLst>
                <a:path w="41" h="193">
                  <a:moveTo>
                    <a:pt x="19" y="0"/>
                  </a:moveTo>
                  <a:lnTo>
                    <a:pt x="4" y="10"/>
                  </a:lnTo>
                  <a:lnTo>
                    <a:pt x="6" y="25"/>
                  </a:lnTo>
                  <a:lnTo>
                    <a:pt x="38" y="42"/>
                  </a:lnTo>
                  <a:lnTo>
                    <a:pt x="41" y="49"/>
                  </a:lnTo>
                  <a:lnTo>
                    <a:pt x="37" y="58"/>
                  </a:lnTo>
                  <a:lnTo>
                    <a:pt x="25" y="71"/>
                  </a:lnTo>
                  <a:lnTo>
                    <a:pt x="2" y="96"/>
                  </a:lnTo>
                  <a:lnTo>
                    <a:pt x="11" y="110"/>
                  </a:lnTo>
                  <a:lnTo>
                    <a:pt x="25" y="119"/>
                  </a:lnTo>
                  <a:lnTo>
                    <a:pt x="37" y="131"/>
                  </a:lnTo>
                  <a:lnTo>
                    <a:pt x="29" y="145"/>
                  </a:lnTo>
                  <a:lnTo>
                    <a:pt x="2" y="168"/>
                  </a:lnTo>
                  <a:lnTo>
                    <a:pt x="0" y="176"/>
                  </a:lnTo>
                  <a:lnTo>
                    <a:pt x="5" y="184"/>
                  </a:lnTo>
                  <a:lnTo>
                    <a:pt x="19" y="193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976400" y="2035080"/>
              <a:ext cx="99720" cy="4752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79" y="40"/>
                  </a:moveTo>
                  <a:lnTo>
                    <a:pt x="67" y="12"/>
                  </a:lnTo>
                  <a:lnTo>
                    <a:pt x="40" y="0"/>
                  </a:lnTo>
                  <a:lnTo>
                    <a:pt x="12" y="12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>
              <a:off x="2076480" y="2082600"/>
              <a:ext cx="120240" cy="1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942920" y="2082600"/>
              <a:ext cx="33120" cy="14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2120760" y="1882080"/>
              <a:ext cx="1080" cy="109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20760" y="1882440"/>
              <a:ext cx="40284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>
              <a:off x="1904760" y="3152520"/>
              <a:ext cx="412560" cy="18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38400" y="3332160"/>
              <a:ext cx="143316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523960" y="3662280"/>
              <a:ext cx="28440" cy="172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15"/>
                  </a:moveTo>
                  <a:lnTo>
                    <a:pt x="16" y="0"/>
                  </a:lnTo>
                  <a:lnTo>
                    <a:pt x="0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523960" y="3662280"/>
              <a:ext cx="28440" cy="172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15"/>
                  </a:moveTo>
                  <a:lnTo>
                    <a:pt x="16" y="0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523960" y="365436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7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523960" y="365436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7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503440" y="365436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7"/>
                  </a:lnTo>
                  <a:lnTo>
                    <a:pt x="16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503440" y="365436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7"/>
                  </a:ln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496960" y="3662280"/>
              <a:ext cx="26640" cy="172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6" y="0"/>
                  </a:moveTo>
                  <a:lnTo>
                    <a:pt x="0" y="15"/>
                  </a:lnTo>
                  <a:lnTo>
                    <a:pt x="22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496960" y="3662280"/>
              <a:ext cx="26640" cy="172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6" y="0"/>
                  </a:moveTo>
                  <a:lnTo>
                    <a:pt x="0" y="15"/>
                  </a:lnTo>
                  <a:lnTo>
                    <a:pt x="22" y="15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496960" y="3679560"/>
              <a:ext cx="266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496960" y="3679560"/>
              <a:ext cx="266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503440" y="367956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5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503440" y="367956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5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523960" y="367956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523960" y="367956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523960" y="3679560"/>
              <a:ext cx="284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6" y="1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523960" y="3679560"/>
              <a:ext cx="284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6" y="1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732040" y="3493800"/>
              <a:ext cx="280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15"/>
                  </a:moveTo>
                  <a:lnTo>
                    <a:pt x="15" y="0"/>
                  </a:lnTo>
                  <a:lnTo>
                    <a:pt x="0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732040" y="3493800"/>
              <a:ext cx="280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15"/>
                  </a:moveTo>
                  <a:lnTo>
                    <a:pt x="15" y="0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732040" y="3485880"/>
              <a:ext cx="18720" cy="25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6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732040" y="3485880"/>
              <a:ext cx="18720" cy="25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6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5" y="6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712960" y="3485880"/>
              <a:ext cx="18720" cy="25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0"/>
                  </a:moveTo>
                  <a:lnTo>
                    <a:pt x="0" y="6"/>
                  </a:lnTo>
                  <a:lnTo>
                    <a:pt x="15" y="2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712960" y="3485880"/>
              <a:ext cx="18720" cy="25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0"/>
                  </a:moveTo>
                  <a:lnTo>
                    <a:pt x="0" y="6"/>
                  </a:lnTo>
                  <a:lnTo>
                    <a:pt x="15" y="21"/>
                  </a:lnTo>
                  <a:lnTo>
                    <a:pt x="15" y="0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701800" y="3493800"/>
              <a:ext cx="29880" cy="1764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8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701800" y="3493800"/>
              <a:ext cx="29880" cy="1764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8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701800" y="3511440"/>
              <a:ext cx="29880" cy="190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16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701800" y="3511440"/>
              <a:ext cx="29880" cy="190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8" y="16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712960" y="3511440"/>
              <a:ext cx="18720" cy="27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16"/>
                  </a:moveTo>
                  <a:lnTo>
                    <a:pt x="15" y="22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712960" y="3511440"/>
              <a:ext cx="18720" cy="27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16"/>
                  </a:moveTo>
                  <a:lnTo>
                    <a:pt x="15" y="22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732040" y="3511440"/>
              <a:ext cx="18720" cy="27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732040" y="3511440"/>
              <a:ext cx="18720" cy="27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15" y="16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732040" y="3511440"/>
              <a:ext cx="2808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732040" y="3511440"/>
              <a:ext cx="2808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5" y="16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942920" y="3135240"/>
              <a:ext cx="26640" cy="172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942920" y="3135240"/>
              <a:ext cx="26640" cy="172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21" y="14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942920" y="3125520"/>
              <a:ext cx="17280" cy="27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8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942920" y="3125520"/>
              <a:ext cx="17280" cy="27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8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4" y="8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922400" y="312552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8"/>
                  </a:lnTo>
                  <a:lnTo>
                    <a:pt x="16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922400" y="312552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8"/>
                  </a:ln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912680" y="3135240"/>
              <a:ext cx="2988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7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912680" y="3135240"/>
              <a:ext cx="29880" cy="172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7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912680" y="3152520"/>
              <a:ext cx="29880" cy="190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7" y="16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912680" y="3152520"/>
              <a:ext cx="29880" cy="1908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7" y="16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922400" y="315252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16"/>
                  </a:moveTo>
                  <a:lnTo>
                    <a:pt x="16" y="23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922400" y="3152520"/>
              <a:ext cx="20160" cy="27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16"/>
                  </a:moveTo>
                  <a:lnTo>
                    <a:pt x="16" y="23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942920" y="3152520"/>
              <a:ext cx="17280" cy="27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16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942920" y="3152520"/>
              <a:ext cx="17280" cy="27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23"/>
                  </a:moveTo>
                  <a:lnTo>
                    <a:pt x="14" y="16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942920" y="315252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942920" y="315252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4" y="16"/>
                  </a:lnTo>
                </a:path>
              </a:pathLst>
            </a:custGeom>
            <a:noFill/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523960" y="1863720"/>
              <a:ext cx="28440" cy="187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523960" y="1863720"/>
              <a:ext cx="28440" cy="187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523960" y="185724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6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523960" y="185724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6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503440" y="185724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6"/>
                  </a:lnTo>
                  <a:lnTo>
                    <a:pt x="16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503440" y="1857240"/>
              <a:ext cx="20160" cy="252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0"/>
                  </a:moveTo>
                  <a:lnTo>
                    <a:pt x="0" y="6"/>
                  </a:ln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96960" y="1863720"/>
              <a:ext cx="26640" cy="187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16"/>
                  </a:lnTo>
                  <a:lnTo>
                    <a:pt x="2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496960" y="1863720"/>
              <a:ext cx="26640" cy="187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16"/>
                  </a:lnTo>
                  <a:lnTo>
                    <a:pt x="22" y="16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496960" y="1882440"/>
              <a:ext cx="266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496960" y="1882440"/>
              <a:ext cx="266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15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503440" y="1882440"/>
              <a:ext cx="20160" cy="255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5"/>
                  </a:moveTo>
                  <a:lnTo>
                    <a:pt x="16" y="2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503440" y="1882440"/>
              <a:ext cx="20160" cy="255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5"/>
                  </a:moveTo>
                  <a:lnTo>
                    <a:pt x="16" y="21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523960" y="1882440"/>
              <a:ext cx="20160" cy="255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523960" y="1882440"/>
              <a:ext cx="20160" cy="255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523960" y="1882440"/>
              <a:ext cx="284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6" y="1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34240" y="320040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5840" y="336528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64120" y="357948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523960" y="1882440"/>
              <a:ext cx="28440" cy="19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6" y="1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321560" y="3771720"/>
              <a:ext cx="169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三相功率表的连接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1" name=""/>
          <p:cNvSpPr/>
          <p:nvPr/>
        </p:nvSpPr>
        <p:spPr>
          <a:xfrm>
            <a:off x="53352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用中，常用一个三相功率表（二元功率表）代替两个单相功率表来测量功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5840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7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兆欧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33520" y="914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兆欧表：用于检查电机、电器及线路的绝缘情况和测量高值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68580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191120" y="525780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兆欧表构造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33520" y="2438280"/>
            <a:ext cx="2895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线圈固定在同一轴上且相互垂直。一个线圈与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，另一个线圈与被测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，两者并联接于直流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8" name=""/>
          <p:cNvGrpSpPr/>
          <p:nvPr/>
        </p:nvGrpSpPr>
        <p:grpSpPr>
          <a:xfrm>
            <a:off x="4161600" y="2362320"/>
            <a:ext cx="3763080" cy="2819160"/>
            <a:chOff x="4161600" y="2362320"/>
            <a:chExt cx="3763080" cy="2819160"/>
          </a:xfrm>
        </p:grpSpPr>
        <p:sp>
          <p:nvSpPr>
            <p:cNvPr id="3219" name=""/>
            <p:cNvSpPr/>
            <p:nvPr/>
          </p:nvSpPr>
          <p:spPr>
            <a:xfrm>
              <a:off x="4816440" y="514368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6959520" y="4083120"/>
              <a:ext cx="1800" cy="10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4816080" y="293544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816440" y="2935440"/>
              <a:ext cx="3240" cy="41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816440" y="3351240"/>
              <a:ext cx="258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>
              <a:off x="4816440" y="3976560"/>
              <a:ext cx="115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816440" y="3976560"/>
              <a:ext cx="324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861160" y="4506840"/>
              <a:ext cx="96840" cy="32868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767120" y="4506840"/>
              <a:ext cx="10008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5907240" y="4144680"/>
              <a:ext cx="1440" cy="361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H="1">
              <a:off x="5611320" y="4145040"/>
              <a:ext cx="295560" cy="1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907240" y="4835520"/>
              <a:ext cx="14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6100560" y="4237200"/>
              <a:ext cx="30132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 flipV="1">
              <a:off x="6102000" y="3300120"/>
              <a:ext cx="3240" cy="949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100920" y="3300480"/>
              <a:ext cx="33336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H="1">
              <a:off x="5786280" y="3484440"/>
              <a:ext cx="100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16440" y="4835520"/>
              <a:ext cx="32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302000" y="3308400"/>
              <a:ext cx="29376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595760" y="3308400"/>
              <a:ext cx="1800" cy="957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4273200" y="4265640"/>
              <a:ext cx="32220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769080" y="3687840"/>
              <a:ext cx="379440" cy="39528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217" y="108"/>
                  </a:moveTo>
                  <a:lnTo>
                    <a:pt x="210" y="67"/>
                  </a:lnTo>
                  <a:lnTo>
                    <a:pt x="186" y="31"/>
                  </a:lnTo>
                  <a:lnTo>
                    <a:pt x="151" y="8"/>
                  </a:lnTo>
                  <a:lnTo>
                    <a:pt x="109" y="0"/>
                  </a:lnTo>
                  <a:lnTo>
                    <a:pt x="67" y="8"/>
                  </a:lnTo>
                  <a:lnTo>
                    <a:pt x="32" y="31"/>
                  </a:lnTo>
                  <a:lnTo>
                    <a:pt x="8" y="67"/>
                  </a:lnTo>
                  <a:lnTo>
                    <a:pt x="0" y="108"/>
                  </a:lnTo>
                  <a:lnTo>
                    <a:pt x="8" y="150"/>
                  </a:lnTo>
                  <a:lnTo>
                    <a:pt x="32" y="186"/>
                  </a:lnTo>
                  <a:lnTo>
                    <a:pt x="67" y="209"/>
                  </a:lnTo>
                  <a:lnTo>
                    <a:pt x="109" y="217"/>
                  </a:lnTo>
                  <a:lnTo>
                    <a:pt x="151" y="209"/>
                  </a:lnTo>
                  <a:lnTo>
                    <a:pt x="186" y="186"/>
                  </a:lnTo>
                  <a:lnTo>
                    <a:pt x="210" y="150"/>
                  </a:lnTo>
                  <a:lnTo>
                    <a:pt x="217" y="1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148520" y="3884760"/>
              <a:ext cx="52560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7674120" y="3720600"/>
              <a:ext cx="1440" cy="1638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674120" y="3720960"/>
              <a:ext cx="249120" cy="18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923240" y="3720960"/>
              <a:ext cx="1440" cy="874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H="1">
              <a:off x="7674120" y="3808440"/>
              <a:ext cx="24912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6959520" y="2935440"/>
              <a:ext cx="180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929120" y="3921120"/>
              <a:ext cx="98640" cy="1033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8"/>
                  </a:moveTo>
                  <a:lnTo>
                    <a:pt x="49" y="9"/>
                  </a:lnTo>
                  <a:lnTo>
                    <a:pt x="28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8" y="48"/>
                  </a:lnTo>
                  <a:lnTo>
                    <a:pt x="28" y="57"/>
                  </a:lnTo>
                  <a:lnTo>
                    <a:pt x="49" y="48"/>
                  </a:lnTo>
                  <a:lnTo>
                    <a:pt x="57" y="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691240" y="3430440"/>
              <a:ext cx="98280" cy="1047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8" y="9"/>
                  </a:lnTo>
                  <a:lnTo>
                    <a:pt x="27" y="0"/>
                  </a:lnTo>
                  <a:lnTo>
                    <a:pt x="8" y="9"/>
                  </a:lnTo>
                  <a:lnTo>
                    <a:pt x="0" y="29"/>
                  </a:lnTo>
                  <a:lnTo>
                    <a:pt x="8" y="49"/>
                  </a:lnTo>
                  <a:lnTo>
                    <a:pt x="27" y="58"/>
                  </a:lnTo>
                  <a:lnTo>
                    <a:pt x="48" y="49"/>
                  </a:lnTo>
                  <a:lnTo>
                    <a:pt x="56" y="29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075280" y="3298680"/>
              <a:ext cx="98280" cy="1065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29"/>
                  </a:moveTo>
                  <a:lnTo>
                    <a:pt x="49" y="9"/>
                  </a:lnTo>
                  <a:lnTo>
                    <a:pt x="28" y="0"/>
                  </a:lnTo>
                  <a:lnTo>
                    <a:pt x="8" y="9"/>
                  </a:lnTo>
                  <a:lnTo>
                    <a:pt x="0" y="29"/>
                  </a:lnTo>
                  <a:lnTo>
                    <a:pt x="8" y="49"/>
                  </a:lnTo>
                  <a:lnTo>
                    <a:pt x="28" y="58"/>
                  </a:lnTo>
                  <a:lnTo>
                    <a:pt x="49" y="49"/>
                  </a:lnTo>
                  <a:lnTo>
                    <a:pt x="57" y="29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510160" y="4091040"/>
              <a:ext cx="101520" cy="1029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8" y="28"/>
                  </a:moveTo>
                  <a:lnTo>
                    <a:pt x="50" y="8"/>
                  </a:lnTo>
                  <a:lnTo>
                    <a:pt x="29" y="0"/>
                  </a:lnTo>
                  <a:lnTo>
                    <a:pt x="9" y="8"/>
                  </a:lnTo>
                  <a:lnTo>
                    <a:pt x="0" y="28"/>
                  </a:lnTo>
                  <a:lnTo>
                    <a:pt x="9" y="49"/>
                  </a:lnTo>
                  <a:lnTo>
                    <a:pt x="29" y="57"/>
                  </a:lnTo>
                  <a:lnTo>
                    <a:pt x="50" y="49"/>
                  </a:lnTo>
                  <a:lnTo>
                    <a:pt x="58" y="28"/>
                  </a:lnTo>
                </a:path>
              </a:pathLst>
            </a:custGeom>
            <a:noFill/>
            <a:ln w="190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 flipV="1">
              <a:off x="5320800" y="3811680"/>
              <a:ext cx="196920" cy="357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168880" y="3325680"/>
              <a:ext cx="18900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H="1">
              <a:off x="5011200" y="3525840"/>
              <a:ext cx="754200" cy="484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H="1">
              <a:off x="4962240" y="3429000"/>
              <a:ext cx="763560" cy="4906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405400" y="3757680"/>
              <a:ext cx="196920" cy="358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 flipV="1">
              <a:off x="5081400" y="3376440"/>
              <a:ext cx="191880" cy="346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5329080" y="2550960"/>
              <a:ext cx="2606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 flipV="1">
              <a:off x="5557320" y="2541600"/>
              <a:ext cx="32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5557680" y="2412720"/>
              <a:ext cx="8604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643720" y="2413080"/>
              <a:ext cx="144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 flipV="1">
              <a:off x="5617800" y="2557440"/>
              <a:ext cx="255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5381280" y="2557440"/>
              <a:ext cx="236520" cy="10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2" name=""/>
            <p:cNvGrpSpPr/>
            <p:nvPr/>
          </p:nvGrpSpPr>
          <p:grpSpPr>
            <a:xfrm>
              <a:off x="5764320" y="4495320"/>
              <a:ext cx="34920" cy="319320"/>
              <a:chOff x="5764320" y="4495320"/>
              <a:chExt cx="34920" cy="319320"/>
            </a:xfrm>
          </p:grpSpPr>
          <p:sp>
            <p:nvSpPr>
              <p:cNvPr id="3263" name=""/>
              <p:cNvSpPr/>
              <p:nvPr/>
            </p:nvSpPr>
            <p:spPr>
              <a:xfrm>
                <a:off x="5764320" y="4700520"/>
                <a:ext cx="34920" cy="11412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764320" y="4700520"/>
                <a:ext cx="34920" cy="11412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5780160" y="4495320"/>
                <a:ext cx="1440" cy="2048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6527880" y="2814480"/>
              <a:ext cx="304200" cy="38160"/>
              <a:chOff x="6527880" y="2814480"/>
              <a:chExt cx="304200" cy="38160"/>
            </a:xfrm>
          </p:grpSpPr>
          <p:sp>
            <p:nvSpPr>
              <p:cNvPr id="3267" name=""/>
              <p:cNvSpPr/>
              <p:nvPr/>
            </p:nvSpPr>
            <p:spPr>
              <a:xfrm>
                <a:off x="6527880" y="2814480"/>
                <a:ext cx="110880" cy="3816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0" y="11"/>
                    </a:lnTo>
                    <a:lnTo>
                      <a:pt x="64" y="0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527880" y="2814480"/>
                <a:ext cx="110880" cy="3816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0" y="11"/>
                    </a:lnTo>
                    <a:lnTo>
                      <a:pt x="64" y="0"/>
                    </a:lnTo>
                    <a:lnTo>
                      <a:pt x="64" y="21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638760" y="2835000"/>
                <a:ext cx="193320" cy="18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rot="18900000">
              <a:off x="4215240" y="26640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217480" y="2590920"/>
              <a:ext cx="18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rot="19260000">
              <a:off x="4271760" y="27745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rot="20040000">
              <a:off x="4626360" y="25412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rot="21000000">
              <a:off x="4930200" y="2463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206320" y="24163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rot="1200000">
              <a:off x="5695920" y="24732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rot="1440000">
              <a:off x="5886360" y="25761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rot="1800000">
              <a:off x="6124680" y="26989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648400" y="2998800"/>
              <a:ext cx="228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343400" y="3622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253200" y="3584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553080" y="3763800"/>
              <a:ext cx="2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470120" y="4602240"/>
              <a:ext cx="156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6280" y="4529160"/>
              <a:ext cx="380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i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972040" y="452592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565240" y="4584600"/>
              <a:ext cx="156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620400" y="3505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652080" y="3962520"/>
              <a:ext cx="8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867360" y="373392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0" name=""/>
            <p:cNvGrpSpPr/>
            <p:nvPr/>
          </p:nvGrpSpPr>
          <p:grpSpPr>
            <a:xfrm>
              <a:off x="4651200" y="4486320"/>
              <a:ext cx="36360" cy="314280"/>
              <a:chOff x="4651200" y="4486320"/>
              <a:chExt cx="36360" cy="314280"/>
            </a:xfrm>
          </p:grpSpPr>
          <p:sp>
            <p:nvSpPr>
              <p:cNvPr id="3291" name=""/>
              <p:cNvSpPr/>
              <p:nvPr/>
            </p:nvSpPr>
            <p:spPr>
              <a:xfrm>
                <a:off x="4651200" y="468648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21" y="0"/>
                    </a:moveTo>
                    <a:lnTo>
                      <a:pt x="11" y="63"/>
                    </a:lnTo>
                    <a:lnTo>
                      <a:pt x="0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651200" y="468648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21" y="0"/>
                    </a:moveTo>
                    <a:lnTo>
                      <a:pt x="11" y="63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4670280" y="4486320"/>
                <a:ext cx="1440" cy="20016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4" name=""/>
            <p:cNvSpPr/>
            <p:nvPr/>
          </p:nvSpPr>
          <p:spPr>
            <a:xfrm>
              <a:off x="4471920" y="2362320"/>
              <a:ext cx="1784520" cy="314280"/>
            </a:xfrm>
            <a:custGeom>
              <a:avLst/>
              <a:gdLst/>
              <a:ahLst/>
              <a:rect l="l" t="t" r="r" b="b"/>
              <a:pathLst>
                <a:path w="1024" h="173">
                  <a:moveTo>
                    <a:pt x="1024" y="173"/>
                  </a:moveTo>
                  <a:lnTo>
                    <a:pt x="908" y="100"/>
                  </a:lnTo>
                  <a:lnTo>
                    <a:pt x="782" y="46"/>
                  </a:lnTo>
                  <a:lnTo>
                    <a:pt x="649" y="12"/>
                  </a:lnTo>
                  <a:lnTo>
                    <a:pt x="512" y="0"/>
                  </a:lnTo>
                  <a:lnTo>
                    <a:pt x="377" y="10"/>
                  </a:lnTo>
                  <a:lnTo>
                    <a:pt x="244" y="42"/>
                  </a:lnTo>
                  <a:lnTo>
                    <a:pt x="116" y="95"/>
                  </a:lnTo>
                  <a:lnTo>
                    <a:pt x="0" y="1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 flipV="1">
              <a:off x="4768920" y="2489040"/>
              <a:ext cx="252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 flipV="1">
              <a:off x="5040360" y="2398320"/>
              <a:ext cx="144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 flipV="1">
              <a:off x="5310360" y="236232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5965920" y="2511000"/>
              <a:ext cx="2376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6208560" y="2673360"/>
              <a:ext cx="3996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H="1" flipV="1">
              <a:off x="4481640" y="2662200"/>
              <a:ext cx="252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886440" y="4005360"/>
              <a:ext cx="165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269120" y="3724200"/>
              <a:ext cx="125280" cy="317520"/>
            </a:xfrm>
            <a:custGeom>
              <a:avLst/>
              <a:gdLst/>
              <a:ahLst/>
              <a:rect l="l" t="t" r="r" b="b"/>
              <a:pathLst>
                <a:path w="72" h="174">
                  <a:moveTo>
                    <a:pt x="72" y="34"/>
                  </a:moveTo>
                  <a:lnTo>
                    <a:pt x="66" y="22"/>
                  </a:lnTo>
                  <a:lnTo>
                    <a:pt x="60" y="12"/>
                  </a:lnTo>
                  <a:lnTo>
                    <a:pt x="52" y="5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3"/>
                  </a:lnTo>
                  <a:lnTo>
                    <a:pt x="22" y="9"/>
                  </a:lnTo>
                  <a:lnTo>
                    <a:pt x="16" y="17"/>
                  </a:lnTo>
                  <a:lnTo>
                    <a:pt x="10" y="28"/>
                  </a:lnTo>
                  <a:lnTo>
                    <a:pt x="6" y="41"/>
                  </a:lnTo>
                  <a:lnTo>
                    <a:pt x="2" y="55"/>
                  </a:lnTo>
                  <a:lnTo>
                    <a:pt x="1" y="71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2" y="120"/>
                  </a:lnTo>
                  <a:lnTo>
                    <a:pt x="6" y="135"/>
                  </a:lnTo>
                  <a:lnTo>
                    <a:pt x="10" y="148"/>
                  </a:lnTo>
                  <a:lnTo>
                    <a:pt x="16" y="159"/>
                  </a:lnTo>
                  <a:lnTo>
                    <a:pt x="24" y="167"/>
                  </a:lnTo>
                  <a:lnTo>
                    <a:pt x="31" y="172"/>
                  </a:lnTo>
                  <a:lnTo>
                    <a:pt x="38" y="174"/>
                  </a:lnTo>
                  <a:lnTo>
                    <a:pt x="45" y="173"/>
                  </a:lnTo>
                  <a:lnTo>
                    <a:pt x="54" y="169"/>
                  </a:lnTo>
                  <a:lnTo>
                    <a:pt x="60" y="1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369200" y="3767040"/>
              <a:ext cx="41400" cy="11772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2" y="0"/>
                  </a:moveTo>
                  <a:lnTo>
                    <a:pt x="24" y="65"/>
                  </a:lnTo>
                  <a:lnTo>
                    <a:pt x="0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369200" y="3767040"/>
              <a:ext cx="41400" cy="11772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2" y="0"/>
                  </a:moveTo>
                  <a:lnTo>
                    <a:pt x="24" y="65"/>
                  </a:lnTo>
                  <a:lnTo>
                    <a:pt x="0" y="5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5343120" y="3857760"/>
              <a:ext cx="3240" cy="40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121360" y="3938760"/>
              <a:ext cx="88920" cy="10296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4" y="56"/>
                  </a:moveTo>
                  <a:lnTo>
                    <a:pt x="0" y="0"/>
                  </a:lnTo>
                  <a:lnTo>
                    <a:pt x="51" y="42"/>
                  </a:lnTo>
                  <a:lnTo>
                    <a:pt x="34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121360" y="3938760"/>
              <a:ext cx="88920" cy="10296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4" y="56"/>
                  </a:moveTo>
                  <a:lnTo>
                    <a:pt x="0" y="0"/>
                  </a:lnTo>
                  <a:lnTo>
                    <a:pt x="51" y="42"/>
                  </a:lnTo>
                  <a:lnTo>
                    <a:pt x="34" y="5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962600" y="4227480"/>
              <a:ext cx="2030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691320" y="2550960"/>
              <a:ext cx="17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195880" y="4029120"/>
              <a:ext cx="150840" cy="7128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0"/>
                  </a:moveTo>
                  <a:lnTo>
                    <a:pt x="22" y="26"/>
                  </a:lnTo>
                  <a:lnTo>
                    <a:pt x="53" y="40"/>
                  </a:lnTo>
                  <a:lnTo>
                    <a:pt x="87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907240" y="5119560"/>
              <a:ext cx="36360" cy="24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907240" y="5119560"/>
              <a:ext cx="36360" cy="24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907240" y="5108400"/>
              <a:ext cx="2700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6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907240" y="5108400"/>
              <a:ext cx="2700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6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5" y="6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884920" y="5108400"/>
              <a:ext cx="22320" cy="35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884920" y="5108400"/>
              <a:ext cx="22320" cy="35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873760" y="5119560"/>
              <a:ext cx="33480" cy="241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6" y="0"/>
                  </a:moveTo>
                  <a:lnTo>
                    <a:pt x="0" y="13"/>
                  </a:lnTo>
                  <a:lnTo>
                    <a:pt x="19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73760" y="5119560"/>
              <a:ext cx="33480" cy="241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6" y="0"/>
                  </a:moveTo>
                  <a:lnTo>
                    <a:pt x="0" y="13"/>
                  </a:lnTo>
                  <a:lnTo>
                    <a:pt x="19" y="1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73760" y="5143680"/>
              <a:ext cx="33480" cy="2664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1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73760" y="5143680"/>
              <a:ext cx="33480" cy="2664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84920" y="5143680"/>
              <a:ext cx="22320" cy="378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15"/>
                  </a:moveTo>
                  <a:lnTo>
                    <a:pt x="13" y="21"/>
                  </a:lnTo>
                  <a:lnTo>
                    <a:pt x="13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84920" y="5143680"/>
              <a:ext cx="22320" cy="378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15"/>
                  </a:moveTo>
                  <a:lnTo>
                    <a:pt x="13" y="21"/>
                  </a:lnTo>
                  <a:lnTo>
                    <a:pt x="13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907240" y="5143680"/>
              <a:ext cx="27000" cy="37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07240" y="5143680"/>
              <a:ext cx="27000" cy="37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907240" y="5143680"/>
              <a:ext cx="36360" cy="266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907240" y="5143680"/>
              <a:ext cx="36360" cy="266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877000" y="2917800"/>
              <a:ext cx="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923000" y="3011400"/>
              <a:ext cx="3045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840280" y="28954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343480" y="4191120"/>
              <a:ext cx="3049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4962600" y="3997440"/>
              <a:ext cx="34920" cy="252000"/>
              <a:chOff x="4962600" y="3997440"/>
              <a:chExt cx="34920" cy="252000"/>
            </a:xfrm>
          </p:grpSpPr>
          <p:sp>
            <p:nvSpPr>
              <p:cNvPr id="3332" name=""/>
              <p:cNvSpPr/>
              <p:nvPr/>
            </p:nvSpPr>
            <p:spPr>
              <a:xfrm>
                <a:off x="4962600" y="415944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962600" y="415944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V="1">
                <a:off x="4978440" y="3997440"/>
                <a:ext cx="1440" cy="162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5545080" y="4159080"/>
              <a:ext cx="34920" cy="252360"/>
              <a:chOff x="5545080" y="4159080"/>
              <a:chExt cx="34920" cy="252360"/>
            </a:xfrm>
          </p:grpSpPr>
          <p:sp>
            <p:nvSpPr>
              <p:cNvPr id="3336" name=""/>
              <p:cNvSpPr/>
              <p:nvPr/>
            </p:nvSpPr>
            <p:spPr>
              <a:xfrm>
                <a:off x="5545080" y="4321080"/>
                <a:ext cx="34920" cy="9036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545080" y="4321080"/>
                <a:ext cx="34920" cy="9036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V="1">
                <a:off x="5560920" y="4159080"/>
                <a:ext cx="1440" cy="16200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9" name=""/>
            <p:cNvGrpSpPr/>
            <p:nvPr/>
          </p:nvGrpSpPr>
          <p:grpSpPr>
            <a:xfrm>
              <a:off x="5724360" y="3200400"/>
              <a:ext cx="34920" cy="252000"/>
              <a:chOff x="5724360" y="3200400"/>
              <a:chExt cx="34920" cy="252000"/>
            </a:xfrm>
          </p:grpSpPr>
          <p:sp>
            <p:nvSpPr>
              <p:cNvPr id="3340" name=""/>
              <p:cNvSpPr/>
              <p:nvPr/>
            </p:nvSpPr>
            <p:spPr>
              <a:xfrm flipV="1">
                <a:off x="5724360" y="320040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V="1">
                <a:off x="5724360" y="320040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740200" y="3290400"/>
                <a:ext cx="1440" cy="162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3" name=""/>
            <p:cNvGrpSpPr/>
            <p:nvPr/>
          </p:nvGrpSpPr>
          <p:grpSpPr>
            <a:xfrm>
              <a:off x="5114880" y="3073320"/>
              <a:ext cx="34920" cy="252000"/>
              <a:chOff x="5114880" y="3073320"/>
              <a:chExt cx="34920" cy="252000"/>
            </a:xfrm>
          </p:grpSpPr>
          <p:sp>
            <p:nvSpPr>
              <p:cNvPr id="3344" name=""/>
              <p:cNvSpPr/>
              <p:nvPr/>
            </p:nvSpPr>
            <p:spPr>
              <a:xfrm flipV="1">
                <a:off x="5114880" y="307332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V="1">
                <a:off x="5114880" y="3073320"/>
                <a:ext cx="34920" cy="90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130720" y="3163320"/>
                <a:ext cx="1440" cy="16200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7" name=""/>
          <p:cNvSpPr/>
          <p:nvPr/>
        </p:nvSpPr>
        <p:spPr>
          <a:xfrm>
            <a:off x="3505320" y="3809880"/>
            <a:ext cx="533160" cy="1524240"/>
          </a:xfrm>
          <a:prstGeom prst="wedgeRoundRectCallout">
            <a:avLst>
              <a:gd name="adj1" fmla="val 119347"/>
              <a:gd name="adj2" fmla="val -40000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永久磁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3276720" y="2743200"/>
            <a:ext cx="914400" cy="533520"/>
          </a:xfrm>
          <a:prstGeom prst="wedgeRoundRectCallout">
            <a:avLst>
              <a:gd name="adj1" fmla="val 175347"/>
              <a:gd name="adj2" fmla="val 140476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086600" y="4419720"/>
            <a:ext cx="1600200" cy="761760"/>
          </a:xfrm>
          <a:prstGeom prst="wedgeRoundRectCallout">
            <a:avLst>
              <a:gd name="adj1" fmla="val -34819"/>
              <a:gd name="adj2" fmla="val -117500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摇直流发电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3048120" y="5562720"/>
            <a:ext cx="1600200" cy="838080"/>
          </a:xfrm>
          <a:prstGeom prst="wedgeRoundRectCallout">
            <a:avLst>
              <a:gd name="adj1" fmla="val -3569"/>
              <a:gd name="adj2" fmla="val -82384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磁场是不均匀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57200" y="3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914400" y="7761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测量时，通过线圈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4" name=""/>
              <p:cNvSpPr txBox="1"/>
              <p:nvPr/>
            </p:nvSpPr>
            <p:spPr>
              <a:xfrm>
                <a:off x="990720" y="1219320"/>
                <a:ext cx="1752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5" name=""/>
              <p:cNvSpPr txBox="1"/>
              <p:nvPr/>
            </p:nvSpPr>
            <p:spPr>
              <a:xfrm>
                <a:off x="2971800" y="1270080"/>
                <a:ext cx="19051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56" name=""/>
          <p:cNvGrpSpPr/>
          <p:nvPr/>
        </p:nvGrpSpPr>
        <p:grpSpPr>
          <a:xfrm>
            <a:off x="2209680" y="2438280"/>
            <a:ext cx="1600200" cy="533520"/>
            <a:chOff x="2209680" y="2438280"/>
            <a:chExt cx="1600200" cy="533520"/>
          </a:xfrm>
        </p:grpSpPr>
        <p:sp>
          <p:nvSpPr>
            <p:cNvPr id="3357" name=""/>
            <p:cNvSpPr/>
            <p:nvPr/>
          </p:nvSpPr>
          <p:spPr>
            <a:xfrm>
              <a:off x="2209680" y="2438280"/>
              <a:ext cx="1600200" cy="533520"/>
            </a:xfrm>
            <a:prstGeom prst="wedgeRoundRectCallout">
              <a:avLst>
                <a:gd name="adj1" fmla="val 49208"/>
                <a:gd name="adj2" fmla="val -103273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209680" y="2438280"/>
              <a:ext cx="1600200" cy="533520"/>
            </a:xfrm>
            <a:prstGeom prst="wedgeRoundRectCallout">
              <a:avLst>
                <a:gd name="adj1" fmla="val -55652"/>
                <a:gd name="adj2" fmla="val -103273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线圈电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9" name=""/>
          <p:cNvSpPr/>
          <p:nvPr/>
        </p:nvSpPr>
        <p:spPr>
          <a:xfrm>
            <a:off x="609480" y="30160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圈受到磁场的作用，产生两个方向相反的转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33520" y="45212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为两个线圈所在处的磁感应强度与偏转角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函数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5448600" y="1371600"/>
            <a:ext cx="3387240" cy="2539800"/>
            <a:chOff x="5448600" y="1371600"/>
            <a:chExt cx="3387240" cy="2539800"/>
          </a:xfrm>
        </p:grpSpPr>
        <p:sp>
          <p:nvSpPr>
            <p:cNvPr id="3362" name=""/>
            <p:cNvSpPr/>
            <p:nvPr/>
          </p:nvSpPr>
          <p:spPr>
            <a:xfrm>
              <a:off x="6036840" y="3877560"/>
              <a:ext cx="1929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7966800" y="2922120"/>
              <a:ext cx="1440" cy="9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6036480" y="1887840"/>
              <a:ext cx="1929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6840" y="1887840"/>
              <a:ext cx="2880" cy="37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036840" y="2262600"/>
              <a:ext cx="23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6036480" y="2826000"/>
              <a:ext cx="1040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036840" y="2826000"/>
              <a:ext cx="2880" cy="47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977520" y="3303720"/>
              <a:ext cx="87120" cy="2959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992200" y="3303720"/>
              <a:ext cx="90000" cy="295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7019280" y="2977200"/>
              <a:ext cx="1080" cy="32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6752520" y="2977560"/>
              <a:ext cx="266040" cy="10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019280" y="3600000"/>
              <a:ext cx="1080" cy="2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H="1">
              <a:off x="7193160" y="3060720"/>
              <a:ext cx="271080" cy="1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 flipV="1">
              <a:off x="7194960" y="2216880"/>
              <a:ext cx="2880" cy="855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193520" y="2216880"/>
              <a:ext cx="299880" cy="1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6910200" y="2382480"/>
              <a:ext cx="9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036840" y="3600000"/>
              <a:ext cx="2880" cy="2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573520" y="2223720"/>
              <a:ext cx="264240" cy="1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838120" y="2223720"/>
              <a:ext cx="1440" cy="862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547960" y="3086280"/>
              <a:ext cx="290160" cy="1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795440" y="2565720"/>
              <a:ext cx="341640" cy="35604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217" y="108"/>
                  </a:moveTo>
                  <a:lnTo>
                    <a:pt x="210" y="67"/>
                  </a:lnTo>
                  <a:lnTo>
                    <a:pt x="186" y="31"/>
                  </a:lnTo>
                  <a:lnTo>
                    <a:pt x="151" y="8"/>
                  </a:lnTo>
                  <a:lnTo>
                    <a:pt x="109" y="0"/>
                  </a:lnTo>
                  <a:lnTo>
                    <a:pt x="67" y="8"/>
                  </a:lnTo>
                  <a:lnTo>
                    <a:pt x="32" y="31"/>
                  </a:lnTo>
                  <a:lnTo>
                    <a:pt x="8" y="67"/>
                  </a:lnTo>
                  <a:lnTo>
                    <a:pt x="0" y="108"/>
                  </a:lnTo>
                  <a:lnTo>
                    <a:pt x="8" y="150"/>
                  </a:lnTo>
                  <a:lnTo>
                    <a:pt x="32" y="186"/>
                  </a:lnTo>
                  <a:lnTo>
                    <a:pt x="67" y="209"/>
                  </a:lnTo>
                  <a:lnTo>
                    <a:pt x="109" y="217"/>
                  </a:lnTo>
                  <a:lnTo>
                    <a:pt x="151" y="209"/>
                  </a:lnTo>
                  <a:lnTo>
                    <a:pt x="186" y="186"/>
                  </a:lnTo>
                  <a:lnTo>
                    <a:pt x="210" y="150"/>
                  </a:lnTo>
                  <a:lnTo>
                    <a:pt x="217" y="1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37080" y="2743200"/>
              <a:ext cx="473040" cy="1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8610480" y="2595240"/>
              <a:ext cx="1080" cy="147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610480" y="2595600"/>
              <a:ext cx="224280" cy="1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834760" y="2595600"/>
              <a:ext cx="1080" cy="784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8610120" y="2674440"/>
              <a:ext cx="224280" cy="1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7966800" y="1887480"/>
              <a:ext cx="144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138360" y="2775960"/>
              <a:ext cx="88560" cy="928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8"/>
                  </a:moveTo>
                  <a:lnTo>
                    <a:pt x="49" y="9"/>
                  </a:lnTo>
                  <a:lnTo>
                    <a:pt x="28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8" y="48"/>
                  </a:lnTo>
                  <a:lnTo>
                    <a:pt x="28" y="57"/>
                  </a:lnTo>
                  <a:lnTo>
                    <a:pt x="49" y="48"/>
                  </a:lnTo>
                  <a:lnTo>
                    <a:pt x="57" y="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824520" y="2333880"/>
              <a:ext cx="88200" cy="943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8" y="9"/>
                  </a:lnTo>
                  <a:lnTo>
                    <a:pt x="27" y="0"/>
                  </a:lnTo>
                  <a:lnTo>
                    <a:pt x="8" y="9"/>
                  </a:lnTo>
                  <a:lnTo>
                    <a:pt x="0" y="29"/>
                  </a:lnTo>
                  <a:lnTo>
                    <a:pt x="8" y="49"/>
                  </a:lnTo>
                  <a:lnTo>
                    <a:pt x="27" y="58"/>
                  </a:lnTo>
                  <a:lnTo>
                    <a:pt x="48" y="49"/>
                  </a:lnTo>
                  <a:lnTo>
                    <a:pt x="56" y="29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6269760" y="2215080"/>
              <a:ext cx="88200" cy="957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29"/>
                  </a:moveTo>
                  <a:lnTo>
                    <a:pt x="49" y="9"/>
                  </a:lnTo>
                  <a:lnTo>
                    <a:pt x="28" y="0"/>
                  </a:lnTo>
                  <a:lnTo>
                    <a:pt x="8" y="9"/>
                  </a:lnTo>
                  <a:lnTo>
                    <a:pt x="0" y="29"/>
                  </a:lnTo>
                  <a:lnTo>
                    <a:pt x="8" y="49"/>
                  </a:lnTo>
                  <a:lnTo>
                    <a:pt x="28" y="58"/>
                  </a:lnTo>
                  <a:lnTo>
                    <a:pt x="49" y="49"/>
                  </a:lnTo>
                  <a:lnTo>
                    <a:pt x="57" y="29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661440" y="2928960"/>
              <a:ext cx="91080" cy="9252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8" y="28"/>
                  </a:moveTo>
                  <a:lnTo>
                    <a:pt x="50" y="8"/>
                  </a:lnTo>
                  <a:lnTo>
                    <a:pt x="29" y="0"/>
                  </a:lnTo>
                  <a:lnTo>
                    <a:pt x="9" y="8"/>
                  </a:lnTo>
                  <a:lnTo>
                    <a:pt x="0" y="28"/>
                  </a:lnTo>
                  <a:lnTo>
                    <a:pt x="9" y="49"/>
                  </a:lnTo>
                  <a:lnTo>
                    <a:pt x="29" y="57"/>
                  </a:lnTo>
                  <a:lnTo>
                    <a:pt x="50" y="49"/>
                  </a:lnTo>
                  <a:lnTo>
                    <a:pt x="58" y="28"/>
                  </a:lnTo>
                </a:path>
              </a:pathLst>
            </a:custGeom>
            <a:noFill/>
            <a:ln w="190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 flipV="1">
              <a:off x="6491160" y="2676960"/>
              <a:ext cx="177120" cy="321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354000" y="2239560"/>
              <a:ext cx="169920" cy="308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H="1">
              <a:off x="6212520" y="2419920"/>
              <a:ext cx="678960" cy="4359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>
              <a:off x="6168240" y="2332440"/>
              <a:ext cx="687600" cy="442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567120" y="2628720"/>
              <a:ext cx="177120" cy="322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H="1" flipV="1">
              <a:off x="6275520" y="2285280"/>
              <a:ext cx="172800" cy="3117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V="1">
              <a:off x="6498360" y="1541520"/>
              <a:ext cx="234720" cy="9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H="1" flipV="1">
              <a:off x="6704280" y="1532520"/>
              <a:ext cx="2880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6704280" y="1416960"/>
              <a:ext cx="7740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781680" y="1417320"/>
              <a:ext cx="108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 flipV="1">
              <a:off x="6758280" y="1547280"/>
              <a:ext cx="2268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6545520" y="1547280"/>
              <a:ext cx="212760" cy="9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5" name=""/>
            <p:cNvGrpSpPr/>
            <p:nvPr/>
          </p:nvGrpSpPr>
          <p:grpSpPr>
            <a:xfrm>
              <a:off x="6890400" y="3293280"/>
              <a:ext cx="31320" cy="287640"/>
              <a:chOff x="6890400" y="3293280"/>
              <a:chExt cx="31320" cy="287640"/>
            </a:xfrm>
          </p:grpSpPr>
          <p:sp>
            <p:nvSpPr>
              <p:cNvPr id="3406" name=""/>
              <p:cNvSpPr/>
              <p:nvPr/>
            </p:nvSpPr>
            <p:spPr>
              <a:xfrm>
                <a:off x="6890400" y="3478320"/>
                <a:ext cx="31320" cy="1026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890400" y="3478320"/>
                <a:ext cx="31320" cy="1026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6904440" y="3293280"/>
                <a:ext cx="1080" cy="1846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9" name=""/>
            <p:cNvGrpSpPr/>
            <p:nvPr/>
          </p:nvGrpSpPr>
          <p:grpSpPr>
            <a:xfrm>
              <a:off x="7578000" y="1778760"/>
              <a:ext cx="273600" cy="34200"/>
              <a:chOff x="7578000" y="1778760"/>
              <a:chExt cx="273600" cy="34200"/>
            </a:xfrm>
          </p:grpSpPr>
          <p:sp>
            <p:nvSpPr>
              <p:cNvPr id="3410" name=""/>
              <p:cNvSpPr/>
              <p:nvPr/>
            </p:nvSpPr>
            <p:spPr>
              <a:xfrm>
                <a:off x="7578000" y="17787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0" y="11"/>
                    </a:lnTo>
                    <a:lnTo>
                      <a:pt x="64" y="0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578000" y="17787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0" y="11"/>
                    </a:lnTo>
                    <a:lnTo>
                      <a:pt x="64" y="0"/>
                    </a:lnTo>
                    <a:lnTo>
                      <a:pt x="64" y="21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677720" y="1797120"/>
                <a:ext cx="173880" cy="14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3" name=""/>
            <p:cNvSpPr/>
            <p:nvPr/>
          </p:nvSpPr>
          <p:spPr>
            <a:xfrm rot="18900000">
              <a:off x="5502240" y="16333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400080" y="1577520"/>
              <a:ext cx="18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rot="19260000">
              <a:off x="5545080" y="17319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rot="20040000">
              <a:off x="5866560" y="152676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rot="21000000">
              <a:off x="6136920" y="1462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386400" y="14202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rot="1200000">
              <a:off x="6824880" y="14742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rot="1440000">
              <a:off x="6995880" y="15670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rot="1800000">
              <a:off x="7209360" y="16747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786000" y="1945080"/>
              <a:ext cx="2055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610240" y="2507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330680" y="2472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600680" y="2633040"/>
              <a:ext cx="20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725080" y="3389760"/>
              <a:ext cx="156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099480" y="3323880"/>
              <a:ext cx="34272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i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077600" y="3321000"/>
              <a:ext cx="2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711840" y="3373920"/>
              <a:ext cx="156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659720" y="2401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691400" y="2813400"/>
              <a:ext cx="8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884000" y="260712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3" name=""/>
            <p:cNvGrpSpPr/>
            <p:nvPr/>
          </p:nvGrpSpPr>
          <p:grpSpPr>
            <a:xfrm>
              <a:off x="5887800" y="3285360"/>
              <a:ext cx="32760" cy="282600"/>
              <a:chOff x="5887800" y="3285360"/>
              <a:chExt cx="32760" cy="282600"/>
            </a:xfrm>
          </p:grpSpPr>
          <p:sp>
            <p:nvSpPr>
              <p:cNvPr id="3434" name=""/>
              <p:cNvSpPr/>
              <p:nvPr/>
            </p:nvSpPr>
            <p:spPr>
              <a:xfrm>
                <a:off x="5887800" y="3465360"/>
                <a:ext cx="32760" cy="10260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21" y="0"/>
                    </a:moveTo>
                    <a:lnTo>
                      <a:pt x="11" y="63"/>
                    </a:lnTo>
                    <a:lnTo>
                      <a:pt x="0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887800" y="3465360"/>
                <a:ext cx="32760" cy="10260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21" y="0"/>
                    </a:moveTo>
                    <a:lnTo>
                      <a:pt x="11" y="63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5904720" y="3285360"/>
                <a:ext cx="1080" cy="180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5726520" y="1371600"/>
              <a:ext cx="1607040" cy="282960"/>
            </a:xfrm>
            <a:custGeom>
              <a:avLst/>
              <a:gdLst/>
              <a:ahLst/>
              <a:rect l="l" t="t" r="r" b="b"/>
              <a:pathLst>
                <a:path w="1024" h="173">
                  <a:moveTo>
                    <a:pt x="1024" y="173"/>
                  </a:moveTo>
                  <a:lnTo>
                    <a:pt x="908" y="100"/>
                  </a:lnTo>
                  <a:lnTo>
                    <a:pt x="782" y="46"/>
                  </a:lnTo>
                  <a:lnTo>
                    <a:pt x="649" y="12"/>
                  </a:lnTo>
                  <a:lnTo>
                    <a:pt x="512" y="0"/>
                  </a:lnTo>
                  <a:lnTo>
                    <a:pt x="377" y="10"/>
                  </a:lnTo>
                  <a:lnTo>
                    <a:pt x="244" y="42"/>
                  </a:lnTo>
                  <a:lnTo>
                    <a:pt x="116" y="95"/>
                  </a:lnTo>
                  <a:lnTo>
                    <a:pt x="0" y="1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 flipV="1">
              <a:off x="5993640" y="1485360"/>
              <a:ext cx="2268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 flipV="1">
              <a:off x="6238440" y="1404360"/>
              <a:ext cx="1296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H="1" flipV="1">
              <a:off x="6481080" y="1371600"/>
              <a:ext cx="1080" cy="6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7071840" y="1505520"/>
              <a:ext cx="212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7290360" y="1651680"/>
              <a:ext cx="35640" cy="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H="1" flipV="1">
              <a:off x="5734800" y="1641240"/>
              <a:ext cx="226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900920" y="2851920"/>
              <a:ext cx="148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245800" y="2598480"/>
              <a:ext cx="112680" cy="285840"/>
            </a:xfrm>
            <a:custGeom>
              <a:avLst/>
              <a:gdLst/>
              <a:ahLst/>
              <a:rect l="l" t="t" r="r" b="b"/>
              <a:pathLst>
                <a:path w="72" h="174">
                  <a:moveTo>
                    <a:pt x="72" y="34"/>
                  </a:moveTo>
                  <a:lnTo>
                    <a:pt x="66" y="22"/>
                  </a:lnTo>
                  <a:lnTo>
                    <a:pt x="60" y="12"/>
                  </a:lnTo>
                  <a:lnTo>
                    <a:pt x="52" y="5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3"/>
                  </a:lnTo>
                  <a:lnTo>
                    <a:pt x="22" y="9"/>
                  </a:lnTo>
                  <a:lnTo>
                    <a:pt x="16" y="17"/>
                  </a:lnTo>
                  <a:lnTo>
                    <a:pt x="10" y="28"/>
                  </a:lnTo>
                  <a:lnTo>
                    <a:pt x="6" y="41"/>
                  </a:lnTo>
                  <a:lnTo>
                    <a:pt x="2" y="55"/>
                  </a:lnTo>
                  <a:lnTo>
                    <a:pt x="1" y="71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2" y="120"/>
                  </a:lnTo>
                  <a:lnTo>
                    <a:pt x="6" y="135"/>
                  </a:lnTo>
                  <a:lnTo>
                    <a:pt x="10" y="148"/>
                  </a:lnTo>
                  <a:lnTo>
                    <a:pt x="16" y="159"/>
                  </a:lnTo>
                  <a:lnTo>
                    <a:pt x="24" y="167"/>
                  </a:lnTo>
                  <a:lnTo>
                    <a:pt x="31" y="172"/>
                  </a:lnTo>
                  <a:lnTo>
                    <a:pt x="38" y="174"/>
                  </a:lnTo>
                  <a:lnTo>
                    <a:pt x="45" y="173"/>
                  </a:lnTo>
                  <a:lnTo>
                    <a:pt x="54" y="169"/>
                  </a:lnTo>
                  <a:lnTo>
                    <a:pt x="60" y="1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335800" y="2637000"/>
              <a:ext cx="37080" cy="10584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2" y="0"/>
                  </a:moveTo>
                  <a:lnTo>
                    <a:pt x="24" y="65"/>
                  </a:lnTo>
                  <a:lnTo>
                    <a:pt x="0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335800" y="2637000"/>
              <a:ext cx="37080" cy="10584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2" y="0"/>
                  </a:moveTo>
                  <a:lnTo>
                    <a:pt x="24" y="65"/>
                  </a:lnTo>
                  <a:lnTo>
                    <a:pt x="0" y="5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6511320" y="2718720"/>
              <a:ext cx="2880" cy="36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311520" y="2791800"/>
              <a:ext cx="79920" cy="9252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4" y="56"/>
                  </a:moveTo>
                  <a:lnTo>
                    <a:pt x="0" y="0"/>
                  </a:lnTo>
                  <a:lnTo>
                    <a:pt x="51" y="42"/>
                  </a:lnTo>
                  <a:lnTo>
                    <a:pt x="34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311520" y="2791800"/>
              <a:ext cx="79920" cy="9252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4" y="56"/>
                  </a:moveTo>
                  <a:lnTo>
                    <a:pt x="0" y="0"/>
                  </a:lnTo>
                  <a:lnTo>
                    <a:pt x="51" y="42"/>
                  </a:lnTo>
                  <a:lnTo>
                    <a:pt x="34" y="56"/>
                  </a:ln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168240" y="3052080"/>
              <a:ext cx="182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725240" y="1541520"/>
              <a:ext cx="15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378480" y="2873160"/>
              <a:ext cx="135720" cy="6408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0"/>
                  </a:moveTo>
                  <a:lnTo>
                    <a:pt x="22" y="26"/>
                  </a:lnTo>
                  <a:lnTo>
                    <a:pt x="53" y="40"/>
                  </a:lnTo>
                  <a:lnTo>
                    <a:pt x="87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019280" y="3855960"/>
              <a:ext cx="32400" cy="216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019280" y="3855960"/>
              <a:ext cx="32400" cy="216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019280" y="3845880"/>
              <a:ext cx="2412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6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019280" y="3845880"/>
              <a:ext cx="2412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6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5" y="6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999120" y="3845880"/>
              <a:ext cx="19800" cy="316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999120" y="3845880"/>
              <a:ext cx="19800" cy="316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989040" y="3855960"/>
              <a:ext cx="29880" cy="216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6" y="0"/>
                  </a:moveTo>
                  <a:lnTo>
                    <a:pt x="0" y="13"/>
                  </a:lnTo>
                  <a:lnTo>
                    <a:pt x="19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989040" y="3855960"/>
              <a:ext cx="29880" cy="216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6" y="0"/>
                  </a:moveTo>
                  <a:lnTo>
                    <a:pt x="0" y="13"/>
                  </a:lnTo>
                  <a:lnTo>
                    <a:pt x="19" y="1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6989040" y="38775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1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989040" y="38775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6999120" y="3877560"/>
              <a:ext cx="19800" cy="338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15"/>
                  </a:moveTo>
                  <a:lnTo>
                    <a:pt x="13" y="21"/>
                  </a:lnTo>
                  <a:lnTo>
                    <a:pt x="13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999120" y="3877560"/>
              <a:ext cx="19800" cy="338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15"/>
                  </a:moveTo>
                  <a:lnTo>
                    <a:pt x="13" y="21"/>
                  </a:lnTo>
                  <a:lnTo>
                    <a:pt x="13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019280" y="3877560"/>
              <a:ext cx="24120" cy="33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019280" y="3877560"/>
              <a:ext cx="24120" cy="33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019280" y="3877560"/>
              <a:ext cx="3240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019280" y="3877560"/>
              <a:ext cx="3240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5" y="1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5" y="15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991920" y="1872000"/>
              <a:ext cx="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132600" y="1954800"/>
              <a:ext cx="2739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958800" y="1851840"/>
              <a:ext cx="6444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10240" y="3019320"/>
              <a:ext cx="2757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lang="en-US" sz="1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4" name=""/>
            <p:cNvGrpSpPr/>
            <p:nvPr/>
          </p:nvGrpSpPr>
          <p:grpSpPr>
            <a:xfrm>
              <a:off x="6168240" y="2844360"/>
              <a:ext cx="31320" cy="227160"/>
              <a:chOff x="6168240" y="2844360"/>
              <a:chExt cx="31320" cy="227160"/>
            </a:xfrm>
          </p:grpSpPr>
          <p:sp>
            <p:nvSpPr>
              <p:cNvPr id="3475" name=""/>
              <p:cNvSpPr/>
              <p:nvPr/>
            </p:nvSpPr>
            <p:spPr>
              <a:xfrm>
                <a:off x="6168240" y="299052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68240" y="299052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V="1">
                <a:off x="6182280" y="2844360"/>
                <a:ext cx="1080" cy="14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6693120" y="2990520"/>
              <a:ext cx="31320" cy="227520"/>
              <a:chOff x="6693120" y="2990520"/>
              <a:chExt cx="31320" cy="227520"/>
            </a:xfrm>
          </p:grpSpPr>
          <p:sp>
            <p:nvSpPr>
              <p:cNvPr id="3479" name=""/>
              <p:cNvSpPr/>
              <p:nvPr/>
            </p:nvSpPr>
            <p:spPr>
              <a:xfrm>
                <a:off x="6693120" y="3136680"/>
                <a:ext cx="31320" cy="8136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693120" y="3136680"/>
                <a:ext cx="31320" cy="8136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flipV="1">
                <a:off x="6707160" y="2990520"/>
                <a:ext cx="1080" cy="14616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2" name=""/>
            <p:cNvGrpSpPr/>
            <p:nvPr/>
          </p:nvGrpSpPr>
          <p:grpSpPr>
            <a:xfrm>
              <a:off x="6854400" y="2126520"/>
              <a:ext cx="31320" cy="227160"/>
              <a:chOff x="6854400" y="2126520"/>
              <a:chExt cx="31320" cy="227160"/>
            </a:xfrm>
          </p:grpSpPr>
          <p:sp>
            <p:nvSpPr>
              <p:cNvPr id="3483" name=""/>
              <p:cNvSpPr/>
              <p:nvPr/>
            </p:nvSpPr>
            <p:spPr>
              <a:xfrm flipV="1">
                <a:off x="6854400" y="212616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V="1">
                <a:off x="6854400" y="212616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868440" y="2207880"/>
                <a:ext cx="1080" cy="14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6" name=""/>
            <p:cNvGrpSpPr/>
            <p:nvPr/>
          </p:nvGrpSpPr>
          <p:grpSpPr>
            <a:xfrm>
              <a:off x="6305400" y="2012040"/>
              <a:ext cx="31320" cy="227160"/>
              <a:chOff x="6305400" y="2012040"/>
              <a:chExt cx="31320" cy="227160"/>
            </a:xfrm>
          </p:grpSpPr>
          <p:sp>
            <p:nvSpPr>
              <p:cNvPr id="3487" name=""/>
              <p:cNvSpPr/>
              <p:nvPr/>
            </p:nvSpPr>
            <p:spPr>
              <a:xfrm flipV="1">
                <a:off x="6305400" y="201168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6305400" y="2011680"/>
                <a:ext cx="31320" cy="810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0"/>
                    </a:moveTo>
                    <a:lnTo>
                      <a:pt x="9" y="63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0000"/>
              </a:solidFill>
              <a:ln w="1908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19440" y="2093400"/>
                <a:ext cx="1080" cy="14580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0" name=""/>
          <p:cNvSpPr/>
          <p:nvPr/>
        </p:nvSpPr>
        <p:spPr>
          <a:xfrm>
            <a:off x="609480" y="397656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200400" y="397656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533520" y="5435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表的可动部分在转矩的作用下发生偏转，直到两个线圈产生的转矩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090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1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工测量仪表的分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468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照被测量的种类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52560" y="1106640"/>
          <a:ext cx="7124760" cy="533052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1752480"/>
                <a:gridCol w="186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  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测量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仪表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符  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安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电压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千伏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功率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瓦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电度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位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频率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欧姆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兆欧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" name=""/>
          <p:cNvGrpSpPr/>
          <p:nvPr/>
        </p:nvGrpSpPr>
        <p:grpSpPr>
          <a:xfrm>
            <a:off x="1409760" y="1563840"/>
            <a:ext cx="6040080" cy="4802400"/>
            <a:chOff x="1409760" y="1563840"/>
            <a:chExt cx="6040080" cy="4802400"/>
          </a:xfrm>
        </p:grpSpPr>
        <p:sp>
          <p:nvSpPr>
            <p:cNvPr id="70" name=""/>
            <p:cNvSpPr/>
            <p:nvPr/>
          </p:nvSpPr>
          <p:spPr>
            <a:xfrm>
              <a:off x="2781360" y="1716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09760" y="1792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    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09760" y="26305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电    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09760" y="3544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功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9760" y="42307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              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电    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09760" y="4687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相位差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9760" y="51451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6           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频    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9760" y="57546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    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781680" y="1563840"/>
              <a:ext cx="533520" cy="459720"/>
              <a:chOff x="6781680" y="1563840"/>
              <a:chExt cx="533520" cy="459720"/>
            </a:xfrm>
          </p:grpSpPr>
          <p:sp>
            <p:nvSpPr>
              <p:cNvPr id="79" name=""/>
              <p:cNvSpPr/>
              <p:nvPr/>
            </p:nvSpPr>
            <p:spPr>
              <a:xfrm>
                <a:off x="6851520" y="164016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1563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705720" y="2060640"/>
              <a:ext cx="699840" cy="380880"/>
              <a:chOff x="6705720" y="2060640"/>
              <a:chExt cx="699840" cy="380880"/>
            </a:xfrm>
          </p:grpSpPr>
          <p:sp>
            <p:nvSpPr>
              <p:cNvPr id="82" name=""/>
              <p:cNvSpPr/>
              <p:nvPr/>
            </p:nvSpPr>
            <p:spPr>
              <a:xfrm>
                <a:off x="6858000" y="206064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2060640"/>
                <a:ext cx="69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m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815160" y="2467080"/>
              <a:ext cx="533520" cy="459720"/>
              <a:chOff x="6815160" y="2467080"/>
              <a:chExt cx="5335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6885000" y="2508120"/>
                <a:ext cx="380880" cy="381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15160" y="24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729480" y="2955960"/>
              <a:ext cx="699840" cy="380880"/>
              <a:chOff x="6729480" y="2955960"/>
              <a:chExt cx="699840" cy="380880"/>
            </a:xfrm>
          </p:grpSpPr>
          <p:sp>
            <p:nvSpPr>
              <p:cNvPr id="88" name=""/>
              <p:cNvSpPr/>
              <p:nvPr/>
            </p:nvSpPr>
            <p:spPr>
              <a:xfrm>
                <a:off x="6881760" y="295596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29480" y="2955960"/>
                <a:ext cx="69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k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15160" y="3376800"/>
              <a:ext cx="533520" cy="398880"/>
              <a:chOff x="6815160" y="3376800"/>
              <a:chExt cx="533520" cy="398880"/>
            </a:xfrm>
          </p:grpSpPr>
          <p:sp>
            <p:nvSpPr>
              <p:cNvPr id="91" name=""/>
              <p:cNvSpPr/>
              <p:nvPr/>
            </p:nvSpPr>
            <p:spPr>
              <a:xfrm>
                <a:off x="6885000" y="339264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15160" y="33768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743880" y="3848040"/>
              <a:ext cx="699840" cy="380880"/>
              <a:chOff x="6743880" y="3848040"/>
              <a:chExt cx="699840" cy="380880"/>
            </a:xfrm>
          </p:grpSpPr>
          <p:sp>
            <p:nvSpPr>
              <p:cNvPr id="94" name=""/>
              <p:cNvSpPr/>
              <p:nvPr/>
            </p:nvSpPr>
            <p:spPr>
              <a:xfrm>
                <a:off x="6896160" y="384804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43880" y="3848040"/>
                <a:ext cx="69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</a:rPr>
                  <a:t>k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823080" y="5091120"/>
              <a:ext cx="533520" cy="398880"/>
              <a:chOff x="6823080" y="5091120"/>
              <a:chExt cx="533520" cy="398880"/>
            </a:xfrm>
          </p:grpSpPr>
          <p:sp>
            <p:nvSpPr>
              <p:cNvPr id="97" name=""/>
              <p:cNvSpPr/>
              <p:nvPr/>
            </p:nvSpPr>
            <p:spPr>
              <a:xfrm>
                <a:off x="6892920" y="510696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23080" y="5091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823080" y="4572000"/>
              <a:ext cx="533520" cy="473040"/>
              <a:chOff x="6823080" y="4572000"/>
              <a:chExt cx="533520" cy="473040"/>
            </a:xfrm>
          </p:grpSpPr>
          <p:sp>
            <p:nvSpPr>
              <p:cNvPr id="100" name=""/>
              <p:cNvSpPr/>
              <p:nvPr/>
            </p:nvSpPr>
            <p:spPr>
              <a:xfrm>
                <a:off x="6892920" y="4663800"/>
                <a:ext cx="380880" cy="381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2308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823080" y="5489640"/>
              <a:ext cx="533520" cy="459720"/>
              <a:chOff x="6823080" y="5489640"/>
              <a:chExt cx="533520" cy="459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92920" y="55404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23080" y="5489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750000" y="5967360"/>
              <a:ext cx="699840" cy="398880"/>
              <a:chOff x="6750000" y="5967360"/>
              <a:chExt cx="69984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6902280" y="596736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50000" y="5967360"/>
                <a:ext cx="69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739560" y="4305240"/>
              <a:ext cx="694440" cy="368280"/>
              <a:chOff x="6739560" y="4305240"/>
              <a:chExt cx="694440" cy="36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6894720" y="4305240"/>
                <a:ext cx="380880" cy="304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4720" y="43815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39560" y="4305240"/>
                <a:ext cx="69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宋体"/>
                  </a:rPr>
                  <a:t>kW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457200" y="3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914400" y="8064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两个线圈产生的转矩平衡时，有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6" name=""/>
              <p:cNvSpPr txBox="1"/>
              <p:nvPr/>
            </p:nvSpPr>
            <p:spPr>
              <a:xfrm>
                <a:off x="5505480" y="1884240"/>
                <a:ext cx="20383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7" name=""/>
          <p:cNvSpPr/>
          <p:nvPr/>
        </p:nvSpPr>
        <p:spPr>
          <a:xfrm>
            <a:off x="990720" y="1274760"/>
            <a:ext cx="548640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8" name=""/>
              <p:cNvSpPr txBox="1"/>
              <p:nvPr/>
            </p:nvSpPr>
            <p:spPr>
              <a:xfrm>
                <a:off x="1539720" y="1844640"/>
                <a:ext cx="3473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9" name=""/>
          <p:cNvSpPr/>
          <p:nvPr/>
        </p:nvSpPr>
        <p:spPr>
          <a:xfrm>
            <a:off x="685800" y="2766960"/>
            <a:ext cx="8001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上式表明，偏转角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与两线圈中电流之比有关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故称为流比计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0" name=""/>
              <p:cNvSpPr txBox="1"/>
              <p:nvPr/>
            </p:nvSpPr>
            <p:spPr>
              <a:xfrm>
                <a:off x="1295280" y="3757680"/>
                <a:ext cx="1828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1" name=""/>
          <p:cNvSpPr/>
          <p:nvPr/>
        </p:nvSpPr>
        <p:spPr>
          <a:xfrm>
            <a:off x="762120" y="3879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2" name=""/>
              <p:cNvSpPr txBox="1"/>
              <p:nvPr/>
            </p:nvSpPr>
            <p:spPr>
              <a:xfrm>
                <a:off x="4152960" y="3733920"/>
                <a:ext cx="40003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3" name=""/>
          <p:cNvSpPr/>
          <p:nvPr/>
        </p:nvSpPr>
        <p:spPr>
          <a:xfrm>
            <a:off x="3276720" y="39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85800" y="460044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偏转角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被测电阻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有一定的函数关系，所以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角可以反映出被测电阻的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85800" y="5486400"/>
            <a:ext cx="79246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仪表的偏转角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电源电压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关，所以手摇发电机转动的快慢不影响读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8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用电桥测量电阻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容和电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685800" y="838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8.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直流电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3962520" y="1219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62120" y="1219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1" name=""/>
          <p:cNvGrpSpPr/>
          <p:nvPr/>
        </p:nvGrpSpPr>
        <p:grpSpPr>
          <a:xfrm>
            <a:off x="889560" y="1801800"/>
            <a:ext cx="2049840" cy="3006720"/>
            <a:chOff x="889560" y="1801800"/>
            <a:chExt cx="2049840" cy="3006720"/>
          </a:xfrm>
        </p:grpSpPr>
        <p:sp>
          <p:nvSpPr>
            <p:cNvPr id="3512" name=""/>
            <p:cNvSpPr/>
            <p:nvPr/>
          </p:nvSpPr>
          <p:spPr>
            <a:xfrm>
              <a:off x="1704960" y="4289400"/>
              <a:ext cx="46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3" name=""/>
            <p:cNvGrpSpPr/>
            <p:nvPr/>
          </p:nvGrpSpPr>
          <p:grpSpPr>
            <a:xfrm>
              <a:off x="889560" y="1801800"/>
              <a:ext cx="2049840" cy="2836800"/>
              <a:chOff x="889560" y="1801800"/>
              <a:chExt cx="2049840" cy="2836800"/>
            </a:xfrm>
          </p:grpSpPr>
          <p:sp>
            <p:nvSpPr>
              <p:cNvPr id="3514" name=""/>
              <p:cNvSpPr/>
              <p:nvPr/>
            </p:nvSpPr>
            <p:spPr>
              <a:xfrm>
                <a:off x="2010600" y="41194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548720" y="417492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414440" y="2533680"/>
                <a:ext cx="460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21233400">
                <a:off x="1066320" y="3138120"/>
                <a:ext cx="7398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30000">
                <a:off x="2293200" y="312372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371400">
                <a:off x="919080" y="182808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21584400">
                <a:off x="2413080" y="197748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V="1">
                <a:off x="1906560" y="1854000"/>
                <a:ext cx="0" cy="73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906560" y="2873160"/>
                <a:ext cx="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871720" y="2760480"/>
                <a:ext cx="0" cy="141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996920" y="2044440"/>
                <a:ext cx="0" cy="374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972080" y="2081160"/>
                <a:ext cx="479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3399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946080" y="2747880"/>
                <a:ext cx="0" cy="142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7" name=""/>
              <p:cNvGrpSpPr/>
              <p:nvPr/>
            </p:nvGrpSpPr>
            <p:grpSpPr>
              <a:xfrm>
                <a:off x="1881000" y="2750760"/>
                <a:ext cx="944280" cy="915840"/>
                <a:chOff x="1881000" y="2750760"/>
                <a:chExt cx="944280" cy="915840"/>
              </a:xfrm>
            </p:grpSpPr>
            <p:sp>
              <p:nvSpPr>
                <p:cNvPr id="3528" name=""/>
                <p:cNvSpPr/>
                <p:nvPr/>
              </p:nvSpPr>
              <p:spPr>
                <a:xfrm flipV="1">
                  <a:off x="2463120" y="2750760"/>
                  <a:ext cx="362160" cy="34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 flipH="1">
                  <a:off x="1881000" y="3325680"/>
                  <a:ext cx="348480" cy="34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 flipH="1" rot="2700000">
                  <a:off x="2283840" y="3035520"/>
                  <a:ext cx="104400" cy="3398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1" name=""/>
              <p:cNvSpPr/>
              <p:nvPr/>
            </p:nvSpPr>
            <p:spPr>
              <a:xfrm>
                <a:off x="2825640" y="2730240"/>
                <a:ext cx="698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858680" y="1828800"/>
                <a:ext cx="69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914400" y="2730240"/>
                <a:ext cx="698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5400000">
                <a:off x="1767600" y="4029840"/>
                <a:ext cx="288720" cy="296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H="1">
                <a:off x="946080" y="4176720"/>
                <a:ext cx="193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V="1">
                <a:off x="1528560" y="1844280"/>
                <a:ext cx="362160" cy="34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flipH="1">
                <a:off x="946080" y="2419200"/>
                <a:ext cx="34920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flipH="1" rot="2700000">
                <a:off x="1348560" y="2128320"/>
                <a:ext cx="104760" cy="339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9" name=""/>
              <p:cNvGrpSpPr/>
              <p:nvPr/>
            </p:nvGrpSpPr>
            <p:grpSpPr>
              <a:xfrm>
                <a:off x="945720" y="2760120"/>
                <a:ext cx="942840" cy="916560"/>
                <a:chOff x="945720" y="2760120"/>
                <a:chExt cx="942840" cy="916560"/>
              </a:xfrm>
            </p:grpSpPr>
            <p:sp>
              <p:nvSpPr>
                <p:cNvPr id="3540" name=""/>
                <p:cNvSpPr/>
                <p:nvPr/>
              </p:nvSpPr>
              <p:spPr>
                <a:xfrm flipH="1" flipV="1">
                  <a:off x="945720" y="2760120"/>
                  <a:ext cx="358200" cy="35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1537560" y="3338640"/>
                  <a:ext cx="35100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 flipH="1" rot="18900000">
                  <a:off x="1362600" y="3059640"/>
                  <a:ext cx="101160" cy="349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3" name=""/>
              <p:cNvGrpSpPr/>
              <p:nvPr/>
            </p:nvGrpSpPr>
            <p:grpSpPr>
              <a:xfrm>
                <a:off x="1928520" y="1853640"/>
                <a:ext cx="942840" cy="916560"/>
                <a:chOff x="1928520" y="1853640"/>
                <a:chExt cx="942840" cy="916560"/>
              </a:xfrm>
            </p:grpSpPr>
            <p:sp>
              <p:nvSpPr>
                <p:cNvPr id="3544" name=""/>
                <p:cNvSpPr/>
                <p:nvPr/>
              </p:nvSpPr>
              <p:spPr>
                <a:xfrm flipH="1" flipV="1">
                  <a:off x="1928520" y="1853640"/>
                  <a:ext cx="358560" cy="35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2520000" y="2432160"/>
                  <a:ext cx="35136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 flipH="1" rot="18900000">
                  <a:off x="2345040" y="2153160"/>
                  <a:ext cx="101160" cy="349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7" name=""/>
              <p:cNvSpPr/>
              <p:nvPr/>
            </p:nvSpPr>
            <p:spPr>
              <a:xfrm rot="5400000">
                <a:off x="1766520" y="2585880"/>
                <a:ext cx="290520" cy="296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869840" y="3638520"/>
                <a:ext cx="69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906560" y="263664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0" name=""/>
          <p:cNvSpPr/>
          <p:nvPr/>
        </p:nvSpPr>
        <p:spPr>
          <a:xfrm>
            <a:off x="533520" y="5715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常用的单臂直流电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惠斯登电桥）用来测量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M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327672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检流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无电流流过时，电桥达到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3276720" y="2590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桥平衡的条件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65530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581280" y="304812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被测电阻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5" name=""/>
              <p:cNvSpPr txBox="1"/>
              <p:nvPr/>
            </p:nvSpPr>
            <p:spPr>
              <a:xfrm>
                <a:off x="4570560" y="3429000"/>
                <a:ext cx="1982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6" name=""/>
          <p:cNvGrpSpPr/>
          <p:nvPr/>
        </p:nvGrpSpPr>
        <p:grpSpPr>
          <a:xfrm>
            <a:off x="2819520" y="4038480"/>
            <a:ext cx="6248160" cy="1006560"/>
            <a:chOff x="2819520" y="4038480"/>
            <a:chExt cx="6248160" cy="1006560"/>
          </a:xfrm>
        </p:grpSpPr>
        <p:sp>
          <p:nvSpPr>
            <p:cNvPr id="3557" name=""/>
            <p:cNvSpPr/>
            <p:nvPr/>
          </p:nvSpPr>
          <p:spPr>
            <a:xfrm>
              <a:off x="2819520" y="4297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式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8" name=""/>
                <p:cNvSpPr txBox="1"/>
                <p:nvPr/>
              </p:nvSpPr>
              <p:spPr>
                <a:xfrm>
                  <a:off x="3629160" y="4038480"/>
                  <a:ext cx="637920" cy="100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59" name=""/>
            <p:cNvSpPr/>
            <p:nvPr/>
          </p:nvSpPr>
          <p:spPr>
            <a:xfrm>
              <a:off x="4114800" y="4267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称为电桥的比臂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0" name=""/>
                <p:cNvSpPr txBox="1"/>
                <p:nvPr/>
              </p:nvSpPr>
              <p:spPr>
                <a:xfrm>
                  <a:off x="6858000" y="4267080"/>
                  <a:ext cx="5382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61" name=""/>
            <p:cNvSpPr/>
            <p:nvPr/>
          </p:nvSpPr>
          <p:spPr>
            <a:xfrm>
              <a:off x="723888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称为较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2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测量时，先将比臂调到一定比值，然后再调节较臂直到电桥平衡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609480" y="395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8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交流电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0948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9144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电桥用来测量电容和电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5495040" y="18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电桥平衡的条件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8" name=""/>
          <p:cNvGrpSpPr/>
          <p:nvPr/>
        </p:nvGrpSpPr>
        <p:grpSpPr>
          <a:xfrm>
            <a:off x="1924920" y="1497960"/>
            <a:ext cx="2030040" cy="2603880"/>
            <a:chOff x="1924920" y="1497960"/>
            <a:chExt cx="2030040" cy="2603880"/>
          </a:xfrm>
        </p:grpSpPr>
        <p:sp>
          <p:nvSpPr>
            <p:cNvPr id="3569" name=""/>
            <p:cNvSpPr/>
            <p:nvPr/>
          </p:nvSpPr>
          <p:spPr>
            <a:xfrm>
              <a:off x="2449440" y="222876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rot="21233400">
              <a:off x="2101320" y="2833200"/>
              <a:ext cx="739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rot="30000">
              <a:off x="3328560" y="2819160"/>
              <a:ext cx="505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371400">
              <a:off x="1954440" y="1523160"/>
              <a:ext cx="505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rot="21584400">
              <a:off x="3448440" y="1672560"/>
              <a:ext cx="505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2941560" y="1549080"/>
              <a:ext cx="0" cy="73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941560" y="256824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906720" y="2455560"/>
              <a:ext cx="0" cy="14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031920" y="1739520"/>
              <a:ext cx="0" cy="37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007080" y="177624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981080" y="2442960"/>
              <a:ext cx="0" cy="14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0" name=""/>
            <p:cNvGrpSpPr/>
            <p:nvPr/>
          </p:nvGrpSpPr>
          <p:grpSpPr>
            <a:xfrm>
              <a:off x="2916000" y="2445840"/>
              <a:ext cx="944280" cy="915840"/>
              <a:chOff x="2916000" y="2445840"/>
              <a:chExt cx="944280" cy="915840"/>
            </a:xfrm>
          </p:grpSpPr>
          <p:sp>
            <p:nvSpPr>
              <p:cNvPr id="3581" name=""/>
              <p:cNvSpPr/>
              <p:nvPr/>
            </p:nvSpPr>
            <p:spPr>
              <a:xfrm flipV="1">
                <a:off x="3498120" y="2445840"/>
                <a:ext cx="362160" cy="3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>
                <a:off x="2916000" y="3020760"/>
                <a:ext cx="348480" cy="34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rot="2700000">
                <a:off x="3318840" y="2730600"/>
                <a:ext cx="104400" cy="339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4" name=""/>
            <p:cNvSpPr/>
            <p:nvPr/>
          </p:nvSpPr>
          <p:spPr>
            <a:xfrm>
              <a:off x="3860640" y="2425320"/>
              <a:ext cx="698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893680" y="1523880"/>
              <a:ext cx="69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949400" y="2425320"/>
              <a:ext cx="698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2563560" y="1539360"/>
              <a:ext cx="362160" cy="34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H="1">
              <a:off x="1981080" y="2114280"/>
              <a:ext cx="34920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rot="2700000">
              <a:off x="2383560" y="1823400"/>
              <a:ext cx="104760" cy="33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1980720" y="2455200"/>
              <a:ext cx="942840" cy="916560"/>
              <a:chOff x="1980720" y="2455200"/>
              <a:chExt cx="942840" cy="916560"/>
            </a:xfrm>
          </p:grpSpPr>
          <p:sp>
            <p:nvSpPr>
              <p:cNvPr id="3591" name=""/>
              <p:cNvSpPr/>
              <p:nvPr/>
            </p:nvSpPr>
            <p:spPr>
              <a:xfrm flipH="1" flipV="1">
                <a:off x="1980720" y="2455200"/>
                <a:ext cx="358200" cy="35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572560" y="3033720"/>
                <a:ext cx="351000" cy="33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flipH="1" rot="18900000">
                <a:off x="2397600" y="2754720"/>
                <a:ext cx="101160" cy="349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4" name=""/>
            <p:cNvGrpSpPr/>
            <p:nvPr/>
          </p:nvGrpSpPr>
          <p:grpSpPr>
            <a:xfrm>
              <a:off x="2963520" y="1548720"/>
              <a:ext cx="942840" cy="916560"/>
              <a:chOff x="2963520" y="1548720"/>
              <a:chExt cx="942840" cy="916560"/>
            </a:xfrm>
          </p:grpSpPr>
          <p:sp>
            <p:nvSpPr>
              <p:cNvPr id="3595" name=""/>
              <p:cNvSpPr/>
              <p:nvPr/>
            </p:nvSpPr>
            <p:spPr>
              <a:xfrm flipH="1" flipV="1">
                <a:off x="2963520" y="1548720"/>
                <a:ext cx="358560" cy="35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555000" y="2127240"/>
                <a:ext cx="351360" cy="33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 flipH="1" rot="18900000">
                <a:off x="3380040" y="1848240"/>
                <a:ext cx="101160" cy="349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8" name=""/>
            <p:cNvSpPr/>
            <p:nvPr/>
          </p:nvSpPr>
          <p:spPr>
            <a:xfrm rot="5400000">
              <a:off x="2801520" y="2280960"/>
              <a:ext cx="290520" cy="296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904840" y="3333600"/>
              <a:ext cx="69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941560" y="2331720"/>
              <a:ext cx="0" cy="2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987560" y="38858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244680" y="38858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35200" y="38448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168360" y="384804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78748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6" name=""/>
          <p:cNvSpPr/>
          <p:nvPr/>
        </p:nvSpPr>
        <p:spPr>
          <a:xfrm>
            <a:off x="47242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029200" y="22860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419720" y="274320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 |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5029200" y="3193920"/>
            <a:ext cx="2514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685800" y="3962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使平衡容易调节，常将两个桥臂设计为纯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685800" y="449568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纯电阻时，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同为电感性或电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762120" y="53020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纯电阻时，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一个为电感性，而另一个为电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533520" y="304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8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交流电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09480" y="7761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容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6063480" y="582480"/>
            <a:ext cx="2171880" cy="2833560"/>
            <a:chOff x="6063480" y="582480"/>
            <a:chExt cx="2171880" cy="2833560"/>
          </a:xfrm>
        </p:grpSpPr>
        <p:sp>
          <p:nvSpPr>
            <p:cNvPr id="3617" name=""/>
            <p:cNvSpPr/>
            <p:nvPr/>
          </p:nvSpPr>
          <p:spPr>
            <a:xfrm>
              <a:off x="6629400" y="1538280"/>
              <a:ext cx="46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rot="21233400">
              <a:off x="6213240" y="1980720"/>
              <a:ext cx="739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rot="30000">
              <a:off x="7589520" y="213336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rot="371400">
              <a:off x="6093000" y="91368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21584400">
              <a:off x="7709040" y="9871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7202520" y="863640"/>
              <a:ext cx="0" cy="73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202520" y="18828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8167680" y="1770120"/>
              <a:ext cx="0" cy="141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292880" y="1054080"/>
              <a:ext cx="0" cy="37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268400" y="109044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42040" y="1757520"/>
              <a:ext cx="0" cy="142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8" name=""/>
            <p:cNvGrpSpPr/>
            <p:nvPr/>
          </p:nvGrpSpPr>
          <p:grpSpPr>
            <a:xfrm>
              <a:off x="7211880" y="1790280"/>
              <a:ext cx="944280" cy="916200"/>
              <a:chOff x="7211880" y="1790280"/>
              <a:chExt cx="944280" cy="916200"/>
            </a:xfrm>
          </p:grpSpPr>
          <p:sp>
            <p:nvSpPr>
              <p:cNvPr id="3629" name=""/>
              <p:cNvSpPr/>
              <p:nvPr/>
            </p:nvSpPr>
            <p:spPr>
              <a:xfrm flipV="1">
                <a:off x="7794000" y="1790280"/>
                <a:ext cx="362160" cy="3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7211880" y="2365200"/>
                <a:ext cx="34848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 rot="2700000">
                <a:off x="7614720" y="2075040"/>
                <a:ext cx="104400" cy="339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2" name=""/>
            <p:cNvSpPr/>
            <p:nvPr/>
          </p:nvSpPr>
          <p:spPr>
            <a:xfrm>
              <a:off x="8121600" y="1739880"/>
              <a:ext cx="7956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155000" y="826920"/>
              <a:ext cx="792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210360" y="1739880"/>
              <a:ext cx="7920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6896160" y="853560"/>
              <a:ext cx="2905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H="1">
              <a:off x="6241680" y="1600200"/>
              <a:ext cx="196920" cy="16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H="1" rot="2700000">
              <a:off x="6514560" y="1294920"/>
              <a:ext cx="104760" cy="33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 flipV="1">
              <a:off x="6244560" y="1762560"/>
              <a:ext cx="266040" cy="22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972480" y="2438280"/>
              <a:ext cx="21096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 rot="18900000">
              <a:off x="6563880" y="1932120"/>
              <a:ext cx="100440" cy="350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1" name=""/>
            <p:cNvGrpSpPr/>
            <p:nvPr/>
          </p:nvGrpSpPr>
          <p:grpSpPr>
            <a:xfrm>
              <a:off x="7162920" y="837720"/>
              <a:ext cx="1002600" cy="940320"/>
              <a:chOff x="7162920" y="837720"/>
              <a:chExt cx="1002600" cy="940320"/>
            </a:xfrm>
          </p:grpSpPr>
          <p:sp>
            <p:nvSpPr>
              <p:cNvPr id="3642" name=""/>
              <p:cNvSpPr/>
              <p:nvPr/>
            </p:nvSpPr>
            <p:spPr>
              <a:xfrm flipH="1" flipV="1">
                <a:off x="7162920" y="837720"/>
                <a:ext cx="41904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814520" y="1440000"/>
                <a:ext cx="351000" cy="33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H="1" rot="18900000">
                <a:off x="7640280" y="1160640"/>
                <a:ext cx="100440" cy="350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 rot="5400000">
              <a:off x="7062480" y="1595520"/>
              <a:ext cx="290520" cy="29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165800" y="2647800"/>
              <a:ext cx="795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202520" y="1646280"/>
              <a:ext cx="0" cy="2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248520" y="32004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505640" y="32004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896160" y="31590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429680" y="316224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04844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74388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819840" y="2286000"/>
              <a:ext cx="15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6895800" y="23623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rot="21233400">
              <a:off x="6518160" y="2361960"/>
              <a:ext cx="739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6667560" y="12189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743880" y="11430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819840" y="1066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rot="371400">
              <a:off x="6367680" y="60876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1" name=""/>
          <p:cNvSpPr/>
          <p:nvPr/>
        </p:nvSpPr>
        <p:spPr>
          <a:xfrm>
            <a:off x="57150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电容的电桥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60948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桥平衡时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652320" y="3673440"/>
                <a:ext cx="52149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>
            <a:off x="700200" y="49100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5" name=""/>
              <p:cNvSpPr txBox="1"/>
              <p:nvPr/>
            </p:nvSpPr>
            <p:spPr>
              <a:xfrm>
                <a:off x="1555920" y="4667400"/>
                <a:ext cx="21938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6" name=""/>
              <p:cNvSpPr txBox="1"/>
              <p:nvPr/>
            </p:nvSpPr>
            <p:spPr>
              <a:xfrm>
                <a:off x="4114800" y="4667400"/>
                <a:ext cx="20574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7" name=""/>
          <p:cNvSpPr/>
          <p:nvPr/>
        </p:nvSpPr>
        <p:spPr>
          <a:xfrm>
            <a:off x="3657600" y="609480"/>
            <a:ext cx="2286000" cy="609840"/>
          </a:xfrm>
          <a:prstGeom prst="wedgeRoundRectCallout">
            <a:avLst>
              <a:gd name="adj1" fmla="val 67083"/>
              <a:gd name="adj2" fmla="val 20050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被测电容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rot="19286400">
            <a:off x="6060600" y="718920"/>
            <a:ext cx="990720" cy="903240"/>
          </a:xfrm>
          <a:prstGeom prst="ellipse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rot="19286400">
            <a:off x="6335640" y="1817640"/>
            <a:ext cx="741600" cy="11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3581280" y="1676520"/>
            <a:ext cx="2210040" cy="1371600"/>
          </a:xfrm>
          <a:prstGeom prst="wedgeRoundRectCallout">
            <a:avLst>
              <a:gd name="adj1" fmla="val 89583"/>
              <a:gd name="adj2" fmla="val 8680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损耗的标准电容器和标准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33520" y="533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8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交流电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09480" y="10047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感的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3352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桥平衡时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57360" y="53341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066680" y="2001960"/>
            <a:ext cx="2590920" cy="609480"/>
          </a:xfrm>
          <a:prstGeom prst="wedgeRoundRectCallout">
            <a:avLst>
              <a:gd name="adj1" fmla="val 65074"/>
              <a:gd name="adj2" fmla="val -13282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被测电感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rot="19286400">
            <a:off x="3785760" y="1563480"/>
            <a:ext cx="990720" cy="826920"/>
          </a:xfrm>
          <a:prstGeom prst="ellipse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rot="13886400">
            <a:off x="5209560" y="2498040"/>
            <a:ext cx="838440" cy="11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6477120" y="2001960"/>
            <a:ext cx="2209680" cy="1371600"/>
          </a:xfrm>
          <a:prstGeom prst="wedgeRoundRectCallout">
            <a:avLst>
              <a:gd name="adj1" fmla="val -76509"/>
              <a:gd name="adj2" fmla="val 9143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损耗的标准电容器和标准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358128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电感的电桥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3785400" y="1422360"/>
            <a:ext cx="2331000" cy="2693880"/>
            <a:chOff x="3785400" y="1422360"/>
            <a:chExt cx="2331000" cy="2693880"/>
          </a:xfrm>
        </p:grpSpPr>
        <p:grpSp>
          <p:nvGrpSpPr>
            <p:cNvPr id="3682" name=""/>
            <p:cNvGrpSpPr/>
            <p:nvPr/>
          </p:nvGrpSpPr>
          <p:grpSpPr>
            <a:xfrm>
              <a:off x="5263560" y="2495160"/>
              <a:ext cx="721440" cy="700200"/>
              <a:chOff x="5263560" y="2495160"/>
              <a:chExt cx="721440" cy="700200"/>
            </a:xfrm>
          </p:grpSpPr>
          <p:sp>
            <p:nvSpPr>
              <p:cNvPr id="3683" name=""/>
              <p:cNvSpPr/>
              <p:nvPr/>
            </p:nvSpPr>
            <p:spPr>
              <a:xfrm flipV="1">
                <a:off x="5749920" y="2495160"/>
                <a:ext cx="235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 rot="2700000">
                <a:off x="5368320" y="2868120"/>
                <a:ext cx="104760" cy="339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5" name=""/>
              <p:cNvGrpSpPr/>
              <p:nvPr/>
            </p:nvGrpSpPr>
            <p:grpSpPr>
              <a:xfrm>
                <a:off x="5597640" y="2639880"/>
                <a:ext cx="228600" cy="228600"/>
                <a:chOff x="5597640" y="2639880"/>
                <a:chExt cx="228600" cy="22860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5597640" y="271620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673960" y="2639880"/>
                  <a:ext cx="1522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8" name=""/>
              <p:cNvSpPr/>
              <p:nvPr/>
            </p:nvSpPr>
            <p:spPr>
              <a:xfrm flipH="1">
                <a:off x="5520960" y="27925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9" name=""/>
            <p:cNvGrpSpPr/>
            <p:nvPr/>
          </p:nvGrpSpPr>
          <p:grpSpPr>
            <a:xfrm>
              <a:off x="3785400" y="1422360"/>
              <a:ext cx="2331000" cy="2693880"/>
              <a:chOff x="3785400" y="1422360"/>
              <a:chExt cx="2331000" cy="2693880"/>
            </a:xfrm>
          </p:grpSpPr>
          <p:sp>
            <p:nvSpPr>
              <p:cNvPr id="3690" name=""/>
              <p:cNvSpPr/>
              <p:nvPr/>
            </p:nvSpPr>
            <p:spPr>
              <a:xfrm>
                <a:off x="4538520" y="2243160"/>
                <a:ext cx="460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rot="21233400">
                <a:off x="4117680" y="2833200"/>
                <a:ext cx="7398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rot="30000">
                <a:off x="5265360" y="304776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rot="371400">
                <a:off x="3814920" y="168984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rot="21584400">
                <a:off x="5537520" y="168732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030640" y="1563480"/>
                <a:ext cx="0" cy="73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30640" y="2583000"/>
                <a:ext cx="0" cy="7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96160" y="2470320"/>
                <a:ext cx="0" cy="141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121360" y="1754280"/>
                <a:ext cx="0" cy="37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96520" y="1790640"/>
                <a:ext cx="479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3399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070520" y="2457360"/>
                <a:ext cx="0" cy="142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5016240" y="3154320"/>
                <a:ext cx="291960" cy="27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950080" y="2440080"/>
                <a:ext cx="792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983120" y="1523880"/>
                <a:ext cx="90360" cy="87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038480" y="2440080"/>
                <a:ext cx="795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4648320" y="1554120"/>
                <a:ext cx="366480" cy="36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H="1">
                <a:off x="4070520" y="2147760"/>
                <a:ext cx="27288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H="1" flipV="1">
                <a:off x="4068360" y="2468160"/>
                <a:ext cx="2746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608360" y="2984400"/>
                <a:ext cx="403200" cy="39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H="1" rot="18900000">
                <a:off x="4430160" y="2709720"/>
                <a:ext cx="100440" cy="351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0" name=""/>
              <p:cNvGrpSpPr/>
              <p:nvPr/>
            </p:nvGrpSpPr>
            <p:grpSpPr>
              <a:xfrm>
                <a:off x="5052960" y="1564200"/>
                <a:ext cx="942840" cy="915840"/>
                <a:chOff x="5052960" y="1564200"/>
                <a:chExt cx="942840" cy="915840"/>
              </a:xfrm>
            </p:grpSpPr>
            <p:sp>
              <p:nvSpPr>
                <p:cNvPr id="3711" name=""/>
                <p:cNvSpPr/>
                <p:nvPr/>
              </p:nvSpPr>
              <p:spPr>
                <a:xfrm flipH="1" flipV="1">
                  <a:off x="5052960" y="1564200"/>
                  <a:ext cx="358560" cy="351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5644440" y="2142000"/>
                  <a:ext cx="351360" cy="338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 rot="18900000">
                  <a:off x="5469480" y="1863000"/>
                  <a:ext cx="101160" cy="349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4" name=""/>
              <p:cNvSpPr/>
              <p:nvPr/>
            </p:nvSpPr>
            <p:spPr>
              <a:xfrm rot="5400000">
                <a:off x="4890960" y="2295360"/>
                <a:ext cx="290520" cy="296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994280" y="3359160"/>
                <a:ext cx="792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30640" y="2346480"/>
                <a:ext cx="0" cy="22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076640" y="39006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334120" y="39006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724280" y="3859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257800" y="386244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76920" y="3595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rot="21371400">
                <a:off x="5488200" y="2760480"/>
                <a:ext cx="6094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3" name=""/>
              <p:cNvGrpSpPr/>
              <p:nvPr/>
            </p:nvGrpSpPr>
            <p:grpSpPr>
              <a:xfrm>
                <a:off x="4259880" y="1816200"/>
                <a:ext cx="399960" cy="360360"/>
                <a:chOff x="4259880" y="1816200"/>
                <a:chExt cx="399960" cy="360360"/>
              </a:xfrm>
            </p:grpSpPr>
            <p:sp>
              <p:nvSpPr>
                <p:cNvPr id="3724" name=""/>
                <p:cNvSpPr/>
                <p:nvPr/>
              </p:nvSpPr>
              <p:spPr>
                <a:xfrm rot="19155000">
                  <a:off x="4267800" y="2055600"/>
                  <a:ext cx="152280" cy="81000"/>
                </a:xfrm>
                <a:custGeom>
                  <a:avLst/>
                  <a:gdLst/>
                  <a:ahLst/>
                  <a:rect l="l" t="t" r="r" b="b"/>
                  <a:pathLst>
                    <a:path w="96" h="51">
                      <a:moveTo>
                        <a:pt x="0" y="51"/>
                      </a:moveTo>
                      <a:cubicBezTo>
                        <a:pt x="31" y="5"/>
                        <a:pt x="23" y="0"/>
                        <a:pt x="80" y="11"/>
                      </a:cubicBezTo>
                      <a:cubicBezTo>
                        <a:pt x="90" y="41"/>
                        <a:pt x="84" y="27"/>
                        <a:pt x="96" y="5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rot="19155000">
                  <a:off x="4384440" y="1955160"/>
                  <a:ext cx="151920" cy="81000"/>
                </a:xfrm>
                <a:custGeom>
                  <a:avLst/>
                  <a:gdLst/>
                  <a:ahLst/>
                  <a:rect l="l" t="t" r="r" b="b"/>
                  <a:pathLst>
                    <a:path w="96" h="51">
                      <a:moveTo>
                        <a:pt x="0" y="51"/>
                      </a:moveTo>
                      <a:cubicBezTo>
                        <a:pt x="31" y="5"/>
                        <a:pt x="23" y="0"/>
                        <a:pt x="80" y="11"/>
                      </a:cubicBezTo>
                      <a:cubicBezTo>
                        <a:pt x="90" y="41"/>
                        <a:pt x="84" y="27"/>
                        <a:pt x="96" y="5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 rot="19155000">
                  <a:off x="4499640" y="1855800"/>
                  <a:ext cx="152280" cy="81000"/>
                </a:xfrm>
                <a:custGeom>
                  <a:avLst/>
                  <a:gdLst/>
                  <a:ahLst/>
                  <a:rect l="l" t="t" r="r" b="b"/>
                  <a:pathLst>
                    <a:path w="96" h="51">
                      <a:moveTo>
                        <a:pt x="0" y="51"/>
                      </a:moveTo>
                      <a:cubicBezTo>
                        <a:pt x="31" y="5"/>
                        <a:pt x="23" y="0"/>
                        <a:pt x="80" y="11"/>
                      </a:cubicBezTo>
                      <a:cubicBezTo>
                        <a:pt x="90" y="41"/>
                        <a:pt x="84" y="27"/>
                        <a:pt x="96" y="5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7" name=""/>
              <p:cNvSpPr/>
              <p:nvPr/>
            </p:nvSpPr>
            <p:spPr>
              <a:xfrm rot="371400">
                <a:off x="4043880" y="1447560"/>
                <a:ext cx="5050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728" name=""/>
              <p:cNvSpPr txBox="1"/>
              <p:nvPr/>
            </p:nvSpPr>
            <p:spPr>
              <a:xfrm>
                <a:off x="1252440" y="4114800"/>
                <a:ext cx="5334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9" name=""/>
              <p:cNvSpPr txBox="1"/>
              <p:nvPr/>
            </p:nvSpPr>
            <p:spPr>
              <a:xfrm>
                <a:off x="1600200" y="5105520"/>
                <a:ext cx="34275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0" name=""/>
              <p:cNvSpPr txBox="1"/>
              <p:nvPr/>
            </p:nvSpPr>
            <p:spPr>
              <a:xfrm>
                <a:off x="5199120" y="5181480"/>
                <a:ext cx="3157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9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非电量的电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68580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量的电测法就是将各种非电量（如温度、压力、速度、位移、应变、流量、液位等）变换为电量，而后进行测量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685800" y="2178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量的电测仪器，主要由下列几个主要部分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1447920" y="2787480"/>
            <a:ext cx="6324480" cy="520560"/>
            <a:chOff x="1447920" y="2787480"/>
            <a:chExt cx="6324480" cy="520560"/>
          </a:xfrm>
        </p:grpSpPr>
        <p:sp>
          <p:nvSpPr>
            <p:cNvPr id="3736" name=""/>
            <p:cNvSpPr/>
            <p:nvPr/>
          </p:nvSpPr>
          <p:spPr>
            <a:xfrm>
              <a:off x="1447920" y="2787480"/>
              <a:ext cx="129528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传感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581280" y="2787480"/>
              <a:ext cx="167652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测量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95880" y="2787480"/>
              <a:ext cx="167652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测录装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43200" y="30160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257800" y="309204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1" name=""/>
          <p:cNvSpPr/>
          <p:nvPr/>
        </p:nvSpPr>
        <p:spPr>
          <a:xfrm>
            <a:off x="762120" y="3397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传感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被测非电量变换为与其成一定比例关系的电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762120" y="4356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测量电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传感器输出的电信号进行处理，使之适合于显示、记录及和微型计算机的联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838080" y="5302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测录装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种电工测量仪表、示波器、自动记录仪、数据处理器及控制电机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228600" y="3189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9.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变电阻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5441760" y="533520"/>
            <a:ext cx="941400" cy="1082160"/>
            <a:chOff x="5441760" y="533520"/>
            <a:chExt cx="941400" cy="1082160"/>
          </a:xfrm>
        </p:grpSpPr>
        <p:sp>
          <p:nvSpPr>
            <p:cNvPr id="3747" name=""/>
            <p:cNvSpPr/>
            <p:nvPr/>
          </p:nvSpPr>
          <p:spPr>
            <a:xfrm>
              <a:off x="5441760" y="53352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电阻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 flipV="1">
              <a:off x="5807160" y="900000"/>
              <a:ext cx="576000" cy="7156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4294800" y="990720"/>
            <a:ext cx="1583640" cy="669600"/>
            <a:chOff x="4294800" y="990720"/>
            <a:chExt cx="1583640" cy="669600"/>
          </a:xfrm>
        </p:grpSpPr>
        <p:sp>
          <p:nvSpPr>
            <p:cNvPr id="3750" name=""/>
            <p:cNvSpPr/>
            <p:nvPr/>
          </p:nvSpPr>
          <p:spPr>
            <a:xfrm>
              <a:off x="4294800" y="9907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特殊胶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H="1" flipV="1">
              <a:off x="5078520" y="1323720"/>
              <a:ext cx="799920" cy="336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397640" y="762120"/>
            <a:ext cx="1177920" cy="679320"/>
            <a:chOff x="7397640" y="762120"/>
            <a:chExt cx="1177920" cy="679320"/>
          </a:xfrm>
        </p:grpSpPr>
        <p:sp>
          <p:nvSpPr>
            <p:cNvPr id="3753" name=""/>
            <p:cNvSpPr/>
            <p:nvPr/>
          </p:nvSpPr>
          <p:spPr>
            <a:xfrm>
              <a:off x="8026200" y="76212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薄纸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V="1">
              <a:off x="7397640" y="990720"/>
              <a:ext cx="434880" cy="45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038000" y="2301840"/>
            <a:ext cx="732240" cy="670680"/>
            <a:chOff x="7038000" y="2301840"/>
            <a:chExt cx="732240" cy="670680"/>
          </a:xfrm>
        </p:grpSpPr>
        <p:sp>
          <p:nvSpPr>
            <p:cNvPr id="3756" name=""/>
            <p:cNvSpPr/>
            <p:nvPr/>
          </p:nvSpPr>
          <p:spPr>
            <a:xfrm>
              <a:off x="7038000" y="260640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被测试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>
              <a:off x="7148520" y="2301840"/>
              <a:ext cx="177840" cy="352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4678200" y="1066680"/>
            <a:ext cx="3124080" cy="1827000"/>
            <a:chOff x="4678200" y="1066680"/>
            <a:chExt cx="3124080" cy="1827000"/>
          </a:xfrm>
        </p:grpSpPr>
        <p:sp>
          <p:nvSpPr>
            <p:cNvPr id="3759" name=""/>
            <p:cNvSpPr/>
            <p:nvPr/>
          </p:nvSpPr>
          <p:spPr>
            <a:xfrm>
              <a:off x="5085360" y="2275200"/>
              <a:ext cx="607320" cy="255600"/>
            </a:xfrm>
            <a:custGeom>
              <a:avLst/>
              <a:gdLst/>
              <a:ahLst/>
              <a:rect l="l" t="t" r="r" b="b"/>
              <a:pathLst>
                <a:path w="614" h="343">
                  <a:moveTo>
                    <a:pt x="0" y="0"/>
                  </a:moveTo>
                  <a:lnTo>
                    <a:pt x="24" y="34"/>
                  </a:lnTo>
                  <a:lnTo>
                    <a:pt x="58" y="59"/>
                  </a:lnTo>
                  <a:lnTo>
                    <a:pt x="141" y="100"/>
                  </a:lnTo>
                  <a:lnTo>
                    <a:pt x="300" y="179"/>
                  </a:lnTo>
                  <a:lnTo>
                    <a:pt x="614" y="34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308560" y="2145600"/>
              <a:ext cx="592920" cy="257040"/>
            </a:xfrm>
            <a:custGeom>
              <a:avLst/>
              <a:gdLst/>
              <a:ahLst/>
              <a:rect l="l" t="t" r="r" b="b"/>
              <a:pathLst>
                <a:path w="599" h="345">
                  <a:moveTo>
                    <a:pt x="0" y="0"/>
                  </a:moveTo>
                  <a:lnTo>
                    <a:pt x="64" y="64"/>
                  </a:lnTo>
                  <a:lnTo>
                    <a:pt x="143" y="96"/>
                  </a:lnTo>
                  <a:lnTo>
                    <a:pt x="232" y="110"/>
                  </a:lnTo>
                  <a:lnTo>
                    <a:pt x="315" y="135"/>
                  </a:lnTo>
                  <a:lnTo>
                    <a:pt x="386" y="187"/>
                  </a:lnTo>
                  <a:lnTo>
                    <a:pt x="452" y="249"/>
                  </a:lnTo>
                  <a:lnTo>
                    <a:pt x="522" y="303"/>
                  </a:lnTo>
                  <a:lnTo>
                    <a:pt x="599" y="34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482800" y="1613880"/>
              <a:ext cx="2319480" cy="1176120"/>
            </a:xfrm>
            <a:custGeom>
              <a:avLst/>
              <a:gdLst/>
              <a:ahLst/>
              <a:rect l="l" t="t" r="r" b="b"/>
              <a:pathLst>
                <a:path w="2346" h="1574">
                  <a:moveTo>
                    <a:pt x="2324" y="0"/>
                  </a:moveTo>
                  <a:lnTo>
                    <a:pt x="2340" y="103"/>
                  </a:lnTo>
                  <a:lnTo>
                    <a:pt x="2346" y="205"/>
                  </a:lnTo>
                  <a:lnTo>
                    <a:pt x="2334" y="413"/>
                  </a:lnTo>
                  <a:lnTo>
                    <a:pt x="2321" y="518"/>
                  </a:lnTo>
                  <a:lnTo>
                    <a:pt x="2303" y="566"/>
                  </a:lnTo>
                  <a:lnTo>
                    <a:pt x="2274" y="607"/>
                  </a:lnTo>
                  <a:lnTo>
                    <a:pt x="2203" y="684"/>
                  </a:lnTo>
                  <a:lnTo>
                    <a:pt x="2128" y="753"/>
                  </a:lnTo>
                  <a:lnTo>
                    <a:pt x="2081" y="782"/>
                  </a:lnTo>
                  <a:lnTo>
                    <a:pt x="2066" y="800"/>
                  </a:lnTo>
                  <a:lnTo>
                    <a:pt x="2058" y="823"/>
                  </a:lnTo>
                  <a:lnTo>
                    <a:pt x="2068" y="931"/>
                  </a:lnTo>
                  <a:lnTo>
                    <a:pt x="2060" y="981"/>
                  </a:lnTo>
                  <a:lnTo>
                    <a:pt x="2031" y="1022"/>
                  </a:lnTo>
                  <a:lnTo>
                    <a:pt x="1989" y="1055"/>
                  </a:lnTo>
                  <a:lnTo>
                    <a:pt x="1938" y="1076"/>
                  </a:lnTo>
                  <a:lnTo>
                    <a:pt x="1741" y="1134"/>
                  </a:lnTo>
                  <a:lnTo>
                    <a:pt x="1647" y="1176"/>
                  </a:lnTo>
                  <a:lnTo>
                    <a:pt x="1550" y="1211"/>
                  </a:lnTo>
                  <a:lnTo>
                    <a:pt x="1444" y="1213"/>
                  </a:lnTo>
                  <a:lnTo>
                    <a:pt x="1392" y="1217"/>
                  </a:lnTo>
                  <a:lnTo>
                    <a:pt x="1349" y="1238"/>
                  </a:lnTo>
                  <a:lnTo>
                    <a:pt x="1276" y="1315"/>
                  </a:lnTo>
                  <a:lnTo>
                    <a:pt x="1191" y="1373"/>
                  </a:lnTo>
                  <a:lnTo>
                    <a:pt x="1002" y="1454"/>
                  </a:lnTo>
                  <a:lnTo>
                    <a:pt x="801" y="1510"/>
                  </a:lnTo>
                  <a:lnTo>
                    <a:pt x="604" y="1570"/>
                  </a:lnTo>
                  <a:lnTo>
                    <a:pt x="502" y="1574"/>
                  </a:lnTo>
                  <a:lnTo>
                    <a:pt x="400" y="1557"/>
                  </a:lnTo>
                  <a:lnTo>
                    <a:pt x="199" y="1506"/>
                  </a:lnTo>
                  <a:lnTo>
                    <a:pt x="98" y="1485"/>
                  </a:lnTo>
                  <a:lnTo>
                    <a:pt x="0" y="145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058360" y="1671120"/>
              <a:ext cx="81360" cy="358560"/>
            </a:xfrm>
            <a:custGeom>
              <a:avLst/>
              <a:gdLst/>
              <a:ahLst/>
              <a:rect l="l" t="t" r="r" b="b"/>
              <a:pathLst>
                <a:path w="82" h="480">
                  <a:moveTo>
                    <a:pt x="82" y="0"/>
                  </a:moveTo>
                  <a:lnTo>
                    <a:pt x="37" y="50"/>
                  </a:lnTo>
                  <a:lnTo>
                    <a:pt x="10" y="108"/>
                  </a:lnTo>
                  <a:lnTo>
                    <a:pt x="6" y="237"/>
                  </a:lnTo>
                  <a:lnTo>
                    <a:pt x="0" y="368"/>
                  </a:lnTo>
                  <a:lnTo>
                    <a:pt x="16" y="432"/>
                  </a:lnTo>
                  <a:lnTo>
                    <a:pt x="37" y="455"/>
                  </a:lnTo>
                  <a:lnTo>
                    <a:pt x="51" y="465"/>
                  </a:lnTo>
                  <a:lnTo>
                    <a:pt x="51" y="4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092560" y="1709640"/>
              <a:ext cx="1440" cy="29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123880" y="1732320"/>
              <a:ext cx="0" cy="28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152680" y="1773720"/>
              <a:ext cx="1440" cy="22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182560" y="1796760"/>
              <a:ext cx="1080" cy="1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102640" y="2295360"/>
              <a:ext cx="1080" cy="24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148360" y="2322720"/>
              <a:ext cx="1440" cy="23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201280" y="2342520"/>
              <a:ext cx="144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242680" y="2355480"/>
              <a:ext cx="0" cy="20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307120" y="2371320"/>
              <a:ext cx="0" cy="20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378400" y="2406960"/>
              <a:ext cx="0" cy="22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54360" y="2438280"/>
              <a:ext cx="1080" cy="23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518440" y="2462760"/>
              <a:ext cx="1440" cy="175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614560" y="2499480"/>
              <a:ext cx="1080" cy="7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689800" y="252972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767200" y="2561040"/>
              <a:ext cx="1080" cy="18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837400" y="2584080"/>
              <a:ext cx="108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931720" y="2603880"/>
              <a:ext cx="1080" cy="18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990400" y="2618280"/>
              <a:ext cx="108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020280" y="26211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045840" y="2624040"/>
              <a:ext cx="1440" cy="16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095880" y="2625120"/>
              <a:ext cx="0" cy="15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144480" y="2625120"/>
              <a:ext cx="1080" cy="14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188760" y="2621160"/>
              <a:ext cx="1440" cy="14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247440" y="2612520"/>
              <a:ext cx="1440" cy="13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303240" y="2596680"/>
              <a:ext cx="1440" cy="13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6363000" y="2571120"/>
              <a:ext cx="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6436080" y="2525400"/>
              <a:ext cx="1440" cy="18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501960" y="2479680"/>
              <a:ext cx="1440" cy="21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576120" y="2435400"/>
              <a:ext cx="1440" cy="23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660720" y="2399760"/>
              <a:ext cx="0" cy="23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784920" y="2368440"/>
              <a:ext cx="1440" cy="19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893280" y="2351160"/>
              <a:ext cx="1440" cy="17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963840" y="2341080"/>
              <a:ext cx="1080" cy="18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033680" y="2318040"/>
              <a:ext cx="0" cy="19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132320" y="2306880"/>
              <a:ext cx="0" cy="18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222320" y="2281320"/>
              <a:ext cx="0" cy="17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306560" y="2249640"/>
              <a:ext cx="0" cy="18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359480" y="2223720"/>
              <a:ext cx="1080" cy="20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408080" y="2189880"/>
              <a:ext cx="10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463880" y="2052360"/>
              <a:ext cx="1080" cy="34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503840" y="1989720"/>
              <a:ext cx="1440" cy="37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538040" y="1960920"/>
              <a:ext cx="1440" cy="23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582320" y="1925280"/>
              <a:ext cx="1080" cy="25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628040" y="1882440"/>
              <a:ext cx="1080" cy="27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666560" y="183816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691040" y="1805400"/>
              <a:ext cx="1080" cy="29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716600" y="1768320"/>
              <a:ext cx="0" cy="30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741080" y="1729800"/>
              <a:ext cx="1440" cy="32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770960" y="1666800"/>
              <a:ext cx="1080" cy="35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786800" y="1715040"/>
              <a:ext cx="0" cy="14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378400" y="2045160"/>
              <a:ext cx="241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V="1">
              <a:off x="6157440" y="1549440"/>
              <a:ext cx="1277640" cy="79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H="1" flipV="1">
              <a:off x="6764760" y="1265040"/>
              <a:ext cx="669960" cy="28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H="1">
              <a:off x="5378040" y="1265040"/>
              <a:ext cx="1386360" cy="78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00000" y="2092680"/>
              <a:ext cx="623160" cy="23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6161760" y="1573560"/>
              <a:ext cx="1330200" cy="80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H="1" flipV="1">
              <a:off x="7435440" y="1549080"/>
              <a:ext cx="5688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H="1">
              <a:off x="5742720" y="1976760"/>
              <a:ext cx="24120" cy="216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H="1">
              <a:off x="6134760" y="2152440"/>
              <a:ext cx="29520" cy="183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04520" y="2206800"/>
              <a:ext cx="24120" cy="241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637240" y="1972440"/>
              <a:ext cx="22680" cy="226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4678200" y="2402640"/>
              <a:ext cx="128520" cy="9684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4"/>
                  </a:moveTo>
                  <a:lnTo>
                    <a:pt x="110" y="20"/>
                  </a:lnTo>
                  <a:lnTo>
                    <a:pt x="64" y="0"/>
                  </a:lnTo>
                  <a:lnTo>
                    <a:pt x="20" y="20"/>
                  </a:lnTo>
                  <a:lnTo>
                    <a:pt x="0" y="64"/>
                  </a:lnTo>
                  <a:lnTo>
                    <a:pt x="20" y="111"/>
                  </a:lnTo>
                  <a:lnTo>
                    <a:pt x="64" y="130"/>
                  </a:lnTo>
                  <a:lnTo>
                    <a:pt x="110" y="111"/>
                  </a:lnTo>
                  <a:lnTo>
                    <a:pt x="130" y="64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4699440" y="2365560"/>
              <a:ext cx="85320" cy="1800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H="1" flipV="1">
              <a:off x="5658480" y="1942560"/>
              <a:ext cx="84240" cy="554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4803840" y="1942560"/>
              <a:ext cx="854640" cy="4957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H="1" flipV="1">
              <a:off x="5659920" y="1905480"/>
              <a:ext cx="107280" cy="712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H="1">
              <a:off x="4780800" y="1905480"/>
              <a:ext cx="878760" cy="5086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H="1">
              <a:off x="5249880" y="2715480"/>
              <a:ext cx="85680" cy="1782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228280" y="2754000"/>
              <a:ext cx="128520" cy="95760"/>
            </a:xfrm>
            <a:custGeom>
              <a:avLst/>
              <a:gdLst/>
              <a:ahLst/>
              <a:rect l="l" t="t" r="r" b="b"/>
              <a:pathLst>
                <a:path w="130" h="127">
                  <a:moveTo>
                    <a:pt x="130" y="63"/>
                  </a:moveTo>
                  <a:lnTo>
                    <a:pt x="110" y="17"/>
                  </a:lnTo>
                  <a:lnTo>
                    <a:pt x="64" y="0"/>
                  </a:lnTo>
                  <a:lnTo>
                    <a:pt x="20" y="17"/>
                  </a:lnTo>
                  <a:lnTo>
                    <a:pt x="0" y="63"/>
                  </a:lnTo>
                  <a:lnTo>
                    <a:pt x="20" y="108"/>
                  </a:lnTo>
                  <a:lnTo>
                    <a:pt x="64" y="127"/>
                  </a:lnTo>
                  <a:lnTo>
                    <a:pt x="110" y="108"/>
                  </a:lnTo>
                  <a:lnTo>
                    <a:pt x="130" y="63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164280" y="2152440"/>
              <a:ext cx="85680" cy="712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H="1">
              <a:off x="5349600" y="2223720"/>
              <a:ext cx="900360" cy="5558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134760" y="2171160"/>
              <a:ext cx="61560" cy="500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H="1">
              <a:off x="5308200" y="2221200"/>
              <a:ext cx="887400" cy="5454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5637240" y="1364040"/>
              <a:ext cx="1090440" cy="6084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6773400" y="1368000"/>
              <a:ext cx="25560" cy="226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H="1">
              <a:off x="5891040" y="1428120"/>
              <a:ext cx="904680" cy="5284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884200" y="1992600"/>
              <a:ext cx="3960" cy="39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5936040" y="1430640"/>
              <a:ext cx="991440" cy="5684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975000" y="1436760"/>
              <a:ext cx="27000" cy="255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H="1">
              <a:off x="6082560" y="1497960"/>
              <a:ext cx="913320" cy="5443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077160" y="2078280"/>
              <a:ext cx="14400" cy="111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6134760" y="1517760"/>
              <a:ext cx="987480" cy="5742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167960" y="1522440"/>
              <a:ext cx="28440" cy="241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H="1">
              <a:off x="6128280" y="1582200"/>
              <a:ext cx="1064520" cy="6483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V="1">
              <a:off x="5659920" y="1389240"/>
              <a:ext cx="1085760" cy="6058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746040" y="1389600"/>
              <a:ext cx="19800" cy="1836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5835600" y="1415160"/>
              <a:ext cx="938880" cy="5371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830200" y="1988280"/>
              <a:ext cx="52560" cy="468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5927040" y="1456200"/>
              <a:ext cx="1019160" cy="5828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946560" y="1456560"/>
              <a:ext cx="21240" cy="1980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H="1">
              <a:off x="6028920" y="1476720"/>
              <a:ext cx="938880" cy="56268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023160" y="2073960"/>
              <a:ext cx="62640" cy="554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6128640" y="1543320"/>
              <a:ext cx="1013400" cy="5900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142400" y="1543680"/>
              <a:ext cx="22680" cy="187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6104160" y="1562400"/>
              <a:ext cx="1060200" cy="6440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888520" y="1996560"/>
              <a:ext cx="47160" cy="86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0" y="0"/>
                  </a:moveTo>
                  <a:lnTo>
                    <a:pt x="21" y="12"/>
                  </a:lnTo>
                  <a:lnTo>
                    <a:pt x="47" y="4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878800" y="1956960"/>
              <a:ext cx="12600" cy="35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3" y="0"/>
                  </a:moveTo>
                  <a:lnTo>
                    <a:pt x="0" y="23"/>
                  </a:lnTo>
                  <a:lnTo>
                    <a:pt x="7" y="48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823000" y="1952280"/>
              <a:ext cx="12600" cy="35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3" y="0"/>
                  </a:moveTo>
                  <a:lnTo>
                    <a:pt x="0" y="23"/>
                  </a:lnTo>
                  <a:lnTo>
                    <a:pt x="7" y="48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83120" y="2035440"/>
              <a:ext cx="43920" cy="864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22" y="12"/>
                  </a:lnTo>
                  <a:lnTo>
                    <a:pt x="45" y="6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6015960" y="2039400"/>
              <a:ext cx="12960" cy="342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13" y="0"/>
                  </a:moveTo>
                  <a:lnTo>
                    <a:pt x="0" y="21"/>
                  </a:lnTo>
                  <a:lnTo>
                    <a:pt x="7" y="46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069960" y="2042280"/>
              <a:ext cx="12960" cy="35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3" y="0"/>
                  </a:moveTo>
                  <a:lnTo>
                    <a:pt x="0" y="23"/>
                  </a:lnTo>
                  <a:lnTo>
                    <a:pt x="7" y="48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6091920" y="2089800"/>
              <a:ext cx="42480" cy="972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0"/>
                  </a:moveTo>
                  <a:lnTo>
                    <a:pt x="21" y="12"/>
                  </a:lnTo>
                  <a:lnTo>
                    <a:pt x="44" y="4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085800" y="2129400"/>
              <a:ext cx="42480" cy="864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21" y="11"/>
                  </a:lnTo>
                  <a:lnTo>
                    <a:pt x="44" y="5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727680" y="1358280"/>
              <a:ext cx="45360" cy="9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6" y="12"/>
                  </a:moveTo>
                  <a:lnTo>
                    <a:pt x="23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796440" y="1390680"/>
              <a:ext cx="11160" cy="3708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50"/>
                  </a:moveTo>
                  <a:lnTo>
                    <a:pt x="12" y="27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927840" y="1426680"/>
              <a:ext cx="47160" cy="97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49" y="14"/>
                  </a:moveTo>
                  <a:lnTo>
                    <a:pt x="26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996600" y="1462320"/>
              <a:ext cx="11160" cy="35640"/>
            </a:xfrm>
            <a:custGeom>
              <a:avLst/>
              <a:gdLst/>
              <a:ahLst/>
              <a:rect l="l" t="t" r="r" b="b"/>
              <a:pathLst>
                <a:path w="12" h="47">
                  <a:moveTo>
                    <a:pt x="0" y="47"/>
                  </a:moveTo>
                  <a:lnTo>
                    <a:pt x="12" y="2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122240" y="1513800"/>
              <a:ext cx="45360" cy="82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7" y="12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193520" y="1546560"/>
              <a:ext cx="9720" cy="35640"/>
            </a:xfrm>
            <a:custGeom>
              <a:avLst/>
              <a:gdLst/>
              <a:ahLst/>
              <a:rect l="l" t="t" r="r" b="b"/>
              <a:pathLst>
                <a:path w="11" h="49">
                  <a:moveTo>
                    <a:pt x="0" y="49"/>
                  </a:moveTo>
                  <a:lnTo>
                    <a:pt x="11" y="26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>
              <a:off x="6138360" y="2422440"/>
              <a:ext cx="6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>
              <a:off x="6020280" y="242244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H="1">
              <a:off x="5949720" y="2422440"/>
              <a:ext cx="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6321600" y="2378520"/>
              <a:ext cx="18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H="1">
              <a:off x="6200280" y="237852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6080040" y="237852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H="1">
              <a:off x="6002640" y="2378520"/>
              <a:ext cx="1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H="1">
              <a:off x="6381720" y="2331000"/>
              <a:ext cx="32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6261120" y="2331000"/>
              <a:ext cx="60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442920" y="2285280"/>
              <a:ext cx="4284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6321960" y="228528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H="1">
              <a:off x="6503400" y="2238120"/>
              <a:ext cx="5976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H="1">
              <a:off x="6393240" y="223812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H="1">
              <a:off x="6684480" y="2194200"/>
              <a:ext cx="48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>
              <a:off x="6563520" y="2194200"/>
              <a:ext cx="59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H="1">
              <a:off x="6468840" y="2194200"/>
              <a:ext cx="3420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H="1">
              <a:off x="6746040" y="2148480"/>
              <a:ext cx="58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>
              <a:off x="6622920" y="214848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>
              <a:off x="6545880" y="2148480"/>
              <a:ext cx="169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>
              <a:off x="6804360" y="210276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>
              <a:off x="6684840" y="210276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H="1">
              <a:off x="6620400" y="2102760"/>
              <a:ext cx="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H="1">
              <a:off x="5279400" y="210276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H="1">
              <a:off x="6866280" y="205524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H="1">
              <a:off x="6746040" y="2055240"/>
              <a:ext cx="58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H="1">
              <a:off x="5294160" y="2055240"/>
              <a:ext cx="58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H="1">
              <a:off x="6927480" y="2010960"/>
              <a:ext cx="3996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H="1">
              <a:off x="6804360" y="201096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>
              <a:off x="5352840" y="201096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H="1">
              <a:off x="5291280" y="2010960"/>
              <a:ext cx="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>
              <a:off x="6986160" y="1964160"/>
              <a:ext cx="3996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6866280" y="196416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H="1">
              <a:off x="5413680" y="1964160"/>
              <a:ext cx="60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H="1">
              <a:off x="5313960" y="1964160"/>
              <a:ext cx="38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>
              <a:off x="7048080" y="1919520"/>
              <a:ext cx="58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6927840" y="1919520"/>
              <a:ext cx="58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5595120" y="1919520"/>
              <a:ext cx="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>
              <a:off x="5474520" y="191952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H="1">
              <a:off x="5357160" y="191952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H="1">
              <a:off x="7108920" y="187272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H="1">
              <a:off x="6997320" y="1872720"/>
              <a:ext cx="5004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H="1">
              <a:off x="5656680" y="187272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H="1">
              <a:off x="5534280" y="187272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 flipH="1">
              <a:off x="5442480" y="1872720"/>
              <a:ext cx="31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flipH="1">
              <a:off x="7288920" y="1828080"/>
              <a:ext cx="3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 flipH="1">
              <a:off x="7170840" y="182808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H="1">
              <a:off x="7072200" y="1828080"/>
              <a:ext cx="36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5715720" y="1828080"/>
              <a:ext cx="49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H="1">
              <a:off x="5595120" y="182808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H="1">
              <a:off x="7350840" y="178092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 flipH="1">
              <a:off x="7229520" y="178092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H="1">
              <a:off x="7148880" y="178092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5775480" y="1780920"/>
              <a:ext cx="6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5657040" y="1780920"/>
              <a:ext cx="5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H="1">
              <a:off x="7410960" y="173520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>
              <a:off x="7288920" y="173520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H="1">
              <a:off x="7224840" y="1735200"/>
              <a:ext cx="3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5837400" y="173520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H="1">
              <a:off x="5715720" y="173520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5654160" y="1735200"/>
              <a:ext cx="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7472160" y="1689480"/>
              <a:ext cx="25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7350840" y="168948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5898600" y="168948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H="1">
              <a:off x="5785560" y="168948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H="1">
              <a:off x="7532280" y="1645200"/>
              <a:ext cx="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7410960" y="164520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6080040" y="1645200"/>
              <a:ext cx="11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5958360" y="164520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5855760" y="1645200"/>
              <a:ext cx="4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7471800" y="1598040"/>
              <a:ext cx="60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6138360" y="1598040"/>
              <a:ext cx="34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H="1">
              <a:off x="6020280" y="1598040"/>
              <a:ext cx="59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H="1">
              <a:off x="5931720" y="159804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H="1">
              <a:off x="7532640" y="1552680"/>
              <a:ext cx="36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H="1">
              <a:off x="7440480" y="15526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H="1">
              <a:off x="6200280" y="155268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H="1">
              <a:off x="6080040" y="155268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H="1">
              <a:off x="6007320" y="1552680"/>
              <a:ext cx="1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H="1">
              <a:off x="7471800" y="150516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H="1">
              <a:off x="7350840" y="150516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H="1">
              <a:off x="6261120" y="150516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H="1">
              <a:off x="6138360" y="1505160"/>
              <a:ext cx="61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H="1">
              <a:off x="6062760" y="1505160"/>
              <a:ext cx="1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flipH="1">
              <a:off x="7410960" y="146124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H="1">
              <a:off x="7288920" y="146124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H="1">
              <a:off x="7224840" y="1461240"/>
              <a:ext cx="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H="1">
              <a:off x="6321960" y="1461240"/>
              <a:ext cx="59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H="1">
              <a:off x="6200280" y="146124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H="1">
              <a:off x="6112800" y="14612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H="1">
              <a:off x="7350840" y="141516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>
              <a:off x="7229520" y="141516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H="1">
              <a:off x="7116120" y="141516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H="1">
              <a:off x="6381720" y="1415160"/>
              <a:ext cx="61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6261120" y="141516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H="1">
              <a:off x="6165720" y="1415160"/>
              <a:ext cx="3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H="1">
              <a:off x="7288920" y="1369440"/>
              <a:ext cx="29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H="1">
              <a:off x="7170840" y="136944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>
              <a:off x="7048080" y="1369440"/>
              <a:ext cx="6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>
              <a:off x="6563160" y="1369440"/>
              <a:ext cx="1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6442920" y="1369440"/>
              <a:ext cx="60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H="1">
              <a:off x="6321960" y="136944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H="1">
              <a:off x="6238440" y="1369440"/>
              <a:ext cx="22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H="1">
              <a:off x="7108920" y="132264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H="1">
              <a:off x="6986160" y="132264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flipH="1">
              <a:off x="6900120" y="132264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H="1">
              <a:off x="6622920" y="1322640"/>
              <a:ext cx="38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H="1">
              <a:off x="6503400" y="1322640"/>
              <a:ext cx="59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H="1">
              <a:off x="6381720" y="132264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H="1">
              <a:off x="7047720" y="12780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H="1">
              <a:off x="6927840" y="1278000"/>
              <a:ext cx="5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H="1">
              <a:off x="6804360" y="127800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H="1">
              <a:off x="6684840" y="127800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H="1">
              <a:off x="6563520" y="1278000"/>
              <a:ext cx="5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H="1">
              <a:off x="6866280" y="123120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flipH="1">
              <a:off x="6746040" y="1231200"/>
              <a:ext cx="58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>
              <a:off x="6622920" y="123120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14040" y="2102760"/>
              <a:ext cx="11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352840" y="214848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474520" y="2148480"/>
              <a:ext cx="59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414040" y="2194200"/>
              <a:ext cx="60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34280" y="219420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657040" y="2194200"/>
              <a:ext cx="9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600160" y="2238120"/>
              <a:ext cx="5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715720" y="2238120"/>
              <a:ext cx="5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689800" y="2285280"/>
              <a:ext cx="25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775840" y="2285280"/>
              <a:ext cx="61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898600" y="2285280"/>
              <a:ext cx="11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755680" y="2331000"/>
              <a:ext cx="19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837400" y="2331000"/>
              <a:ext cx="61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958720" y="2331000"/>
              <a:ext cx="61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835600" y="2378520"/>
              <a:ext cx="1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898600" y="2378520"/>
              <a:ext cx="44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 flipV="1">
              <a:off x="5063760" y="2216520"/>
              <a:ext cx="3960" cy="3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276880" y="1190880"/>
              <a:ext cx="2292120" cy="1258560"/>
            </a:xfrm>
            <a:custGeom>
              <a:avLst/>
              <a:gdLst/>
              <a:ahLst/>
              <a:rect l="l" t="t" r="r" b="b"/>
              <a:pathLst>
                <a:path w="2318" h="1684">
                  <a:moveTo>
                    <a:pt x="667" y="1642"/>
                  </a:moveTo>
                  <a:lnTo>
                    <a:pt x="743" y="1673"/>
                  </a:lnTo>
                  <a:lnTo>
                    <a:pt x="824" y="1684"/>
                  </a:lnTo>
                  <a:lnTo>
                    <a:pt x="905" y="1675"/>
                  </a:lnTo>
                  <a:lnTo>
                    <a:pt x="982" y="1648"/>
                  </a:lnTo>
                  <a:lnTo>
                    <a:pt x="1052" y="1605"/>
                  </a:lnTo>
                  <a:lnTo>
                    <a:pt x="1115" y="1555"/>
                  </a:lnTo>
                  <a:lnTo>
                    <a:pt x="1243" y="1453"/>
                  </a:lnTo>
                  <a:lnTo>
                    <a:pt x="1388" y="1379"/>
                  </a:lnTo>
                  <a:lnTo>
                    <a:pt x="1534" y="1312"/>
                  </a:lnTo>
                  <a:lnTo>
                    <a:pt x="1604" y="1265"/>
                  </a:lnTo>
                  <a:lnTo>
                    <a:pt x="1654" y="1203"/>
                  </a:lnTo>
                  <a:lnTo>
                    <a:pt x="1691" y="1130"/>
                  </a:lnTo>
                  <a:lnTo>
                    <a:pt x="1735" y="1064"/>
                  </a:lnTo>
                  <a:lnTo>
                    <a:pt x="1864" y="962"/>
                  </a:lnTo>
                  <a:lnTo>
                    <a:pt x="1930" y="916"/>
                  </a:lnTo>
                  <a:lnTo>
                    <a:pt x="2003" y="881"/>
                  </a:lnTo>
                  <a:lnTo>
                    <a:pt x="2154" y="811"/>
                  </a:lnTo>
                  <a:lnTo>
                    <a:pt x="2183" y="786"/>
                  </a:lnTo>
                  <a:lnTo>
                    <a:pt x="2204" y="754"/>
                  </a:lnTo>
                  <a:lnTo>
                    <a:pt x="2239" y="678"/>
                  </a:lnTo>
                  <a:lnTo>
                    <a:pt x="2285" y="609"/>
                  </a:lnTo>
                  <a:lnTo>
                    <a:pt x="2307" y="576"/>
                  </a:lnTo>
                  <a:lnTo>
                    <a:pt x="2318" y="537"/>
                  </a:lnTo>
                  <a:lnTo>
                    <a:pt x="2312" y="454"/>
                  </a:lnTo>
                  <a:lnTo>
                    <a:pt x="2280" y="379"/>
                  </a:lnTo>
                  <a:lnTo>
                    <a:pt x="2225" y="321"/>
                  </a:lnTo>
                  <a:lnTo>
                    <a:pt x="2154" y="282"/>
                  </a:lnTo>
                  <a:lnTo>
                    <a:pt x="2009" y="203"/>
                  </a:lnTo>
                  <a:lnTo>
                    <a:pt x="1940" y="163"/>
                  </a:lnTo>
                  <a:lnTo>
                    <a:pt x="1864" y="132"/>
                  </a:lnTo>
                  <a:lnTo>
                    <a:pt x="1714" y="70"/>
                  </a:lnTo>
                  <a:lnTo>
                    <a:pt x="1644" y="31"/>
                  </a:lnTo>
                  <a:lnTo>
                    <a:pt x="1567" y="0"/>
                  </a:lnTo>
                  <a:lnTo>
                    <a:pt x="1486" y="0"/>
                  </a:lnTo>
                  <a:lnTo>
                    <a:pt x="1409" y="27"/>
                  </a:lnTo>
                  <a:lnTo>
                    <a:pt x="1337" y="66"/>
                  </a:lnTo>
                  <a:lnTo>
                    <a:pt x="1278" y="120"/>
                  </a:lnTo>
                  <a:lnTo>
                    <a:pt x="1241" y="138"/>
                  </a:lnTo>
                  <a:lnTo>
                    <a:pt x="1198" y="138"/>
                  </a:lnTo>
                  <a:lnTo>
                    <a:pt x="1123" y="163"/>
                  </a:lnTo>
                  <a:lnTo>
                    <a:pt x="976" y="236"/>
                  </a:lnTo>
                  <a:lnTo>
                    <a:pt x="913" y="286"/>
                  </a:lnTo>
                  <a:lnTo>
                    <a:pt x="857" y="346"/>
                  </a:lnTo>
                  <a:lnTo>
                    <a:pt x="752" y="470"/>
                  </a:lnTo>
                  <a:lnTo>
                    <a:pt x="625" y="572"/>
                  </a:lnTo>
                  <a:lnTo>
                    <a:pt x="565" y="626"/>
                  </a:lnTo>
                  <a:lnTo>
                    <a:pt x="501" y="674"/>
                  </a:lnTo>
                  <a:lnTo>
                    <a:pt x="422" y="703"/>
                  </a:lnTo>
                  <a:lnTo>
                    <a:pt x="389" y="721"/>
                  </a:lnTo>
                  <a:lnTo>
                    <a:pt x="362" y="754"/>
                  </a:lnTo>
                  <a:lnTo>
                    <a:pt x="314" y="819"/>
                  </a:lnTo>
                  <a:lnTo>
                    <a:pt x="249" y="867"/>
                  </a:lnTo>
                  <a:lnTo>
                    <a:pt x="106" y="952"/>
                  </a:lnTo>
                  <a:lnTo>
                    <a:pt x="52" y="1010"/>
                  </a:lnTo>
                  <a:lnTo>
                    <a:pt x="19" y="1084"/>
                  </a:lnTo>
                  <a:lnTo>
                    <a:pt x="0" y="1165"/>
                  </a:lnTo>
                  <a:lnTo>
                    <a:pt x="1" y="1205"/>
                  </a:lnTo>
                  <a:lnTo>
                    <a:pt x="13" y="12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056920" y="1066680"/>
              <a:ext cx="2724120" cy="1558440"/>
            </a:xfrm>
            <a:custGeom>
              <a:avLst/>
              <a:gdLst/>
              <a:ahLst/>
              <a:rect l="l" t="t" r="r" b="b"/>
              <a:pathLst>
                <a:path w="2755" h="2086">
                  <a:moveTo>
                    <a:pt x="680" y="1980"/>
                  </a:moveTo>
                  <a:lnTo>
                    <a:pt x="779" y="2026"/>
                  </a:lnTo>
                  <a:lnTo>
                    <a:pt x="881" y="2061"/>
                  </a:lnTo>
                  <a:lnTo>
                    <a:pt x="989" y="2082"/>
                  </a:lnTo>
                  <a:lnTo>
                    <a:pt x="1099" y="2086"/>
                  </a:lnTo>
                  <a:lnTo>
                    <a:pt x="1209" y="2067"/>
                  </a:lnTo>
                  <a:lnTo>
                    <a:pt x="1306" y="2022"/>
                  </a:lnTo>
                  <a:lnTo>
                    <a:pt x="1474" y="1881"/>
                  </a:lnTo>
                  <a:lnTo>
                    <a:pt x="1560" y="1816"/>
                  </a:lnTo>
                  <a:lnTo>
                    <a:pt x="1657" y="1767"/>
                  </a:lnTo>
                  <a:lnTo>
                    <a:pt x="1869" y="1717"/>
                  </a:lnTo>
                  <a:lnTo>
                    <a:pt x="2080" y="1667"/>
                  </a:lnTo>
                  <a:lnTo>
                    <a:pt x="2182" y="1626"/>
                  </a:lnTo>
                  <a:lnTo>
                    <a:pt x="2284" y="1576"/>
                  </a:lnTo>
                  <a:lnTo>
                    <a:pt x="2373" y="1510"/>
                  </a:lnTo>
                  <a:lnTo>
                    <a:pt x="2402" y="1466"/>
                  </a:lnTo>
                  <a:lnTo>
                    <a:pt x="2418" y="1416"/>
                  </a:lnTo>
                  <a:lnTo>
                    <a:pt x="2439" y="1306"/>
                  </a:lnTo>
                  <a:lnTo>
                    <a:pt x="2460" y="1257"/>
                  </a:lnTo>
                  <a:lnTo>
                    <a:pt x="2493" y="1215"/>
                  </a:lnTo>
                  <a:lnTo>
                    <a:pt x="2568" y="1134"/>
                  </a:lnTo>
                  <a:lnTo>
                    <a:pt x="2630" y="1047"/>
                  </a:lnTo>
                  <a:lnTo>
                    <a:pt x="2686" y="950"/>
                  </a:lnTo>
                  <a:lnTo>
                    <a:pt x="2732" y="844"/>
                  </a:lnTo>
                  <a:lnTo>
                    <a:pt x="2755" y="736"/>
                  </a:lnTo>
                  <a:lnTo>
                    <a:pt x="2752" y="684"/>
                  </a:lnTo>
                  <a:lnTo>
                    <a:pt x="2732" y="636"/>
                  </a:lnTo>
                  <a:lnTo>
                    <a:pt x="2674" y="541"/>
                  </a:lnTo>
                  <a:lnTo>
                    <a:pt x="2628" y="441"/>
                  </a:lnTo>
                  <a:lnTo>
                    <a:pt x="2570" y="350"/>
                  </a:lnTo>
                  <a:lnTo>
                    <a:pt x="2499" y="269"/>
                  </a:lnTo>
                  <a:lnTo>
                    <a:pt x="2443" y="172"/>
                  </a:lnTo>
                  <a:lnTo>
                    <a:pt x="2416" y="126"/>
                  </a:lnTo>
                  <a:lnTo>
                    <a:pt x="2379" y="85"/>
                  </a:lnTo>
                  <a:lnTo>
                    <a:pt x="2333" y="58"/>
                  </a:lnTo>
                  <a:lnTo>
                    <a:pt x="2279" y="45"/>
                  </a:lnTo>
                  <a:lnTo>
                    <a:pt x="2170" y="43"/>
                  </a:lnTo>
                  <a:lnTo>
                    <a:pt x="2058" y="37"/>
                  </a:lnTo>
                  <a:lnTo>
                    <a:pt x="1952" y="49"/>
                  </a:lnTo>
                  <a:lnTo>
                    <a:pt x="1852" y="87"/>
                  </a:lnTo>
                  <a:lnTo>
                    <a:pt x="1798" y="99"/>
                  </a:lnTo>
                  <a:lnTo>
                    <a:pt x="1744" y="97"/>
                  </a:lnTo>
                  <a:lnTo>
                    <a:pt x="1645" y="51"/>
                  </a:lnTo>
                  <a:lnTo>
                    <a:pt x="1543" y="14"/>
                  </a:lnTo>
                  <a:lnTo>
                    <a:pt x="1435" y="0"/>
                  </a:lnTo>
                  <a:lnTo>
                    <a:pt x="1327" y="6"/>
                  </a:lnTo>
                  <a:lnTo>
                    <a:pt x="1226" y="49"/>
                  </a:lnTo>
                  <a:lnTo>
                    <a:pt x="1132" y="107"/>
                  </a:lnTo>
                  <a:lnTo>
                    <a:pt x="1039" y="161"/>
                  </a:lnTo>
                  <a:lnTo>
                    <a:pt x="941" y="205"/>
                  </a:lnTo>
                  <a:lnTo>
                    <a:pt x="736" y="282"/>
                  </a:lnTo>
                  <a:lnTo>
                    <a:pt x="638" y="329"/>
                  </a:lnTo>
                  <a:lnTo>
                    <a:pt x="545" y="385"/>
                  </a:lnTo>
                  <a:lnTo>
                    <a:pt x="502" y="421"/>
                  </a:lnTo>
                  <a:lnTo>
                    <a:pt x="473" y="466"/>
                  </a:lnTo>
                  <a:lnTo>
                    <a:pt x="419" y="558"/>
                  </a:lnTo>
                  <a:lnTo>
                    <a:pt x="387" y="603"/>
                  </a:lnTo>
                  <a:lnTo>
                    <a:pt x="377" y="630"/>
                  </a:lnTo>
                  <a:lnTo>
                    <a:pt x="352" y="641"/>
                  </a:lnTo>
                  <a:lnTo>
                    <a:pt x="255" y="688"/>
                  </a:lnTo>
                  <a:lnTo>
                    <a:pt x="161" y="742"/>
                  </a:lnTo>
                  <a:lnTo>
                    <a:pt x="114" y="777"/>
                  </a:lnTo>
                  <a:lnTo>
                    <a:pt x="76" y="819"/>
                  </a:lnTo>
                  <a:lnTo>
                    <a:pt x="62" y="867"/>
                  </a:lnTo>
                  <a:lnTo>
                    <a:pt x="82" y="921"/>
                  </a:lnTo>
                  <a:lnTo>
                    <a:pt x="155" y="1006"/>
                  </a:lnTo>
                  <a:lnTo>
                    <a:pt x="188" y="1049"/>
                  </a:lnTo>
                  <a:lnTo>
                    <a:pt x="201" y="1101"/>
                  </a:lnTo>
                  <a:lnTo>
                    <a:pt x="194" y="1157"/>
                  </a:lnTo>
                  <a:lnTo>
                    <a:pt x="163" y="1200"/>
                  </a:lnTo>
                  <a:lnTo>
                    <a:pt x="74" y="1269"/>
                  </a:lnTo>
                  <a:lnTo>
                    <a:pt x="37" y="1310"/>
                  </a:lnTo>
                  <a:lnTo>
                    <a:pt x="12" y="1356"/>
                  </a:lnTo>
                  <a:lnTo>
                    <a:pt x="2" y="1408"/>
                  </a:lnTo>
                  <a:lnTo>
                    <a:pt x="0" y="1466"/>
                  </a:lnTo>
                  <a:lnTo>
                    <a:pt x="14" y="15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89800" y="2569680"/>
              <a:ext cx="1440" cy="17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14560" y="2616840"/>
              <a:ext cx="108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518440" y="2675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054040" y="2284200"/>
              <a:ext cx="391320" cy="398520"/>
            </a:xfrm>
            <a:custGeom>
              <a:avLst/>
              <a:gdLst/>
              <a:ahLst/>
              <a:rect l="l" t="t" r="r" b="b"/>
              <a:pathLst>
                <a:path w="397" h="533">
                  <a:moveTo>
                    <a:pt x="397" y="533"/>
                  </a:moveTo>
                  <a:lnTo>
                    <a:pt x="328" y="468"/>
                  </a:lnTo>
                  <a:lnTo>
                    <a:pt x="262" y="396"/>
                  </a:lnTo>
                  <a:lnTo>
                    <a:pt x="218" y="379"/>
                  </a:lnTo>
                  <a:lnTo>
                    <a:pt x="170" y="371"/>
                  </a:lnTo>
                  <a:lnTo>
                    <a:pt x="73" y="357"/>
                  </a:lnTo>
                  <a:lnTo>
                    <a:pt x="31" y="332"/>
                  </a:lnTo>
                  <a:lnTo>
                    <a:pt x="9" y="292"/>
                  </a:lnTo>
                  <a:lnTo>
                    <a:pt x="5" y="191"/>
                  </a:lnTo>
                  <a:lnTo>
                    <a:pt x="0" y="95"/>
                  </a:lnTo>
                  <a:lnTo>
                    <a:pt x="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093000" y="2320920"/>
              <a:ext cx="6408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6061680" y="2342520"/>
              <a:ext cx="10008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441400" y="2068200"/>
              <a:ext cx="61596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4" name=""/>
          <p:cNvSpPr/>
          <p:nvPr/>
        </p:nvSpPr>
        <p:spPr>
          <a:xfrm>
            <a:off x="4905360" y="306396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57200" y="777960"/>
            <a:ext cx="38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金属电阻丝应变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609480" y="1295280"/>
            <a:ext cx="351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丝由直径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2~0.04m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康铜或镍铬合金绕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33520" y="266688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533520" y="312264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件发生的应变通过胶层和纸片传给电阻丝，将电阻丝拉长或缩短，从而改变了它的电阻。就将机械应变变换为电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609480" y="4419720"/>
            <a:ext cx="8001000" cy="991800"/>
            <a:chOff x="609480" y="4419720"/>
            <a:chExt cx="8001000" cy="991800"/>
          </a:xfrm>
        </p:grpSpPr>
        <p:sp>
          <p:nvSpPr>
            <p:cNvPr id="4020" name=""/>
            <p:cNvSpPr/>
            <p:nvPr/>
          </p:nvSpPr>
          <p:spPr>
            <a:xfrm>
              <a:off x="933480" y="449568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阻丝电阻的相对变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1" name=""/>
                <p:cNvSpPr txBox="1"/>
                <p:nvPr/>
              </p:nvSpPr>
              <p:spPr>
                <a:xfrm>
                  <a:off x="4591080" y="4419720"/>
                  <a:ext cx="568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R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22" name=""/>
            <p:cNvSpPr/>
            <p:nvPr/>
          </p:nvSpPr>
          <p:spPr>
            <a:xfrm>
              <a:off x="5124600" y="451008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试件的轴向应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3" name=""/>
                <p:cNvSpPr txBox="1"/>
                <p:nvPr/>
              </p:nvSpPr>
              <p:spPr>
                <a:xfrm>
                  <a:off x="8096400" y="4419720"/>
                  <a:ext cx="514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24" name=""/>
            <p:cNvSpPr/>
            <p:nvPr/>
          </p:nvSpPr>
          <p:spPr>
            <a:xfrm>
              <a:off x="609480" y="48909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成正比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5" name=""/>
              <p:cNvSpPr txBox="1"/>
              <p:nvPr/>
            </p:nvSpPr>
            <p:spPr>
              <a:xfrm>
                <a:off x="1143000" y="5410080"/>
                <a:ext cx="22096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/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6" name=""/>
          <p:cNvSpPr/>
          <p:nvPr/>
        </p:nvSpPr>
        <p:spPr>
          <a:xfrm>
            <a:off x="3429000" y="5410080"/>
            <a:ext cx="51814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电阻丝应片的灵敏系数，其值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"/>
          <p:cNvSpPr/>
          <p:nvPr/>
        </p:nvSpPr>
        <p:spPr>
          <a:xfrm>
            <a:off x="5638680" y="3429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流电桥测量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8" name=""/>
          <p:cNvGrpSpPr/>
          <p:nvPr/>
        </p:nvGrpSpPr>
        <p:grpSpPr>
          <a:xfrm>
            <a:off x="5860440" y="982440"/>
            <a:ext cx="2674080" cy="2523960"/>
            <a:chOff x="5860440" y="982440"/>
            <a:chExt cx="2674080" cy="2523960"/>
          </a:xfrm>
        </p:grpSpPr>
        <p:sp>
          <p:nvSpPr>
            <p:cNvPr id="4029" name=""/>
            <p:cNvSpPr/>
            <p:nvPr/>
          </p:nvSpPr>
          <p:spPr>
            <a:xfrm>
              <a:off x="6400440" y="3048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009560" y="304812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rot="21233400">
              <a:off x="6067440" y="2306160"/>
              <a:ext cx="687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rot="30000">
              <a:off x="7206840" y="229212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rot="21508200">
              <a:off x="5868000" y="990720"/>
              <a:ext cx="627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rot="21584400">
              <a:off x="7318440" y="120780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737480" y="194796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956200" y="1936800"/>
              <a:ext cx="0" cy="13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7" name=""/>
            <p:cNvGrpSpPr/>
            <p:nvPr/>
          </p:nvGrpSpPr>
          <p:grpSpPr>
            <a:xfrm>
              <a:off x="6823080" y="1937880"/>
              <a:ext cx="877680" cy="866880"/>
              <a:chOff x="6823080" y="1937880"/>
              <a:chExt cx="877680" cy="866880"/>
            </a:xfrm>
          </p:grpSpPr>
          <p:sp>
            <p:nvSpPr>
              <p:cNvPr id="4038" name=""/>
              <p:cNvSpPr/>
              <p:nvPr/>
            </p:nvSpPr>
            <p:spPr>
              <a:xfrm flipV="1">
                <a:off x="7364160" y="1937880"/>
                <a:ext cx="336600" cy="32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H="1">
                <a:off x="6823080" y="2481840"/>
                <a:ext cx="324000" cy="3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flipH="1" rot="2700000">
                <a:off x="7198200" y="2207160"/>
                <a:ext cx="96840" cy="321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1" name=""/>
            <p:cNvSpPr/>
            <p:nvPr/>
          </p:nvSpPr>
          <p:spPr>
            <a:xfrm>
              <a:off x="7683480" y="1919160"/>
              <a:ext cx="651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6802560" y="1042920"/>
              <a:ext cx="7920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25960" y="1919160"/>
              <a:ext cx="651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6496200" y="1080720"/>
              <a:ext cx="33624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H="1">
              <a:off x="5956200" y="1625760"/>
              <a:ext cx="32400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 rot="2700000">
              <a:off x="6329160" y="1351080"/>
              <a:ext cx="98280" cy="320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7" name=""/>
            <p:cNvGrpSpPr/>
            <p:nvPr/>
          </p:nvGrpSpPr>
          <p:grpSpPr>
            <a:xfrm>
              <a:off x="5955840" y="1947600"/>
              <a:ext cx="874800" cy="866520"/>
              <a:chOff x="5955840" y="1947600"/>
              <a:chExt cx="874800" cy="866520"/>
            </a:xfrm>
          </p:grpSpPr>
          <p:sp>
            <p:nvSpPr>
              <p:cNvPr id="4048" name=""/>
              <p:cNvSpPr/>
              <p:nvPr/>
            </p:nvSpPr>
            <p:spPr>
              <a:xfrm flipH="1" flipV="1">
                <a:off x="5955840" y="1947600"/>
                <a:ext cx="332280" cy="33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504840" y="2494440"/>
                <a:ext cx="325800" cy="31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 rot="18900000">
                <a:off x="6341400" y="2234160"/>
                <a:ext cx="95760" cy="324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1" name=""/>
            <p:cNvGrpSpPr/>
            <p:nvPr/>
          </p:nvGrpSpPr>
          <p:grpSpPr>
            <a:xfrm>
              <a:off x="6867000" y="1090800"/>
              <a:ext cx="876600" cy="866880"/>
              <a:chOff x="6867000" y="1090800"/>
              <a:chExt cx="876600" cy="866880"/>
            </a:xfrm>
          </p:grpSpPr>
          <p:sp>
            <p:nvSpPr>
              <p:cNvPr id="4052" name=""/>
              <p:cNvSpPr/>
              <p:nvPr/>
            </p:nvSpPr>
            <p:spPr>
              <a:xfrm flipH="1" flipV="1">
                <a:off x="6867000" y="1090800"/>
                <a:ext cx="333000" cy="33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417080" y="1637640"/>
                <a:ext cx="326520" cy="32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H="1" rot="18900000">
                <a:off x="7253640" y="1376280"/>
                <a:ext cx="95760" cy="32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5" name=""/>
            <p:cNvSpPr/>
            <p:nvPr/>
          </p:nvSpPr>
          <p:spPr>
            <a:xfrm>
              <a:off x="6813720" y="2770200"/>
              <a:ext cx="648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6" name=""/>
                <p:cNvSpPr txBox="1"/>
                <p:nvPr/>
              </p:nvSpPr>
              <p:spPr>
                <a:xfrm>
                  <a:off x="8153280" y="1787400"/>
                  <a:ext cx="3812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57" name=""/>
            <p:cNvSpPr/>
            <p:nvPr/>
          </p:nvSpPr>
          <p:spPr>
            <a:xfrm>
              <a:off x="6845400" y="1066680"/>
              <a:ext cx="14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845400" y="2795760"/>
              <a:ext cx="14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61280" y="106668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61280" y="239544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948280" y="3300480"/>
              <a:ext cx="38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413480" y="3300480"/>
              <a:ext cx="33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324480" y="3265560"/>
              <a:ext cx="7164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334280" y="3265560"/>
              <a:ext cx="7128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8224920" y="2289240"/>
              <a:ext cx="7128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8223120" y="1486080"/>
              <a:ext cx="69840" cy="7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V="1">
              <a:off x="6421320" y="1137960"/>
              <a:ext cx="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8121240" y="1905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8101800" y="142704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0" name=""/>
                <p:cNvSpPr txBox="1"/>
                <p:nvPr/>
              </p:nvSpPr>
              <p:spPr>
                <a:xfrm>
                  <a:off x="6780240" y="3124080"/>
                  <a:ext cx="38268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U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71" name=""/>
          <p:cNvSpPr/>
          <p:nvPr/>
        </p:nvSpPr>
        <p:spPr>
          <a:xfrm>
            <a:off x="60948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2" name=""/>
              <p:cNvSpPr txBox="1"/>
              <p:nvPr/>
            </p:nvSpPr>
            <p:spPr>
              <a:xfrm>
                <a:off x="838080" y="1676520"/>
                <a:ext cx="40388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73" name=""/>
          <p:cNvSpPr/>
          <p:nvPr/>
        </p:nvSpPr>
        <p:spPr>
          <a:xfrm>
            <a:off x="457200" y="2590920"/>
            <a:ext cx="4800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测量前电桥平衡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4114800" y="1295280"/>
            <a:ext cx="1600200" cy="533520"/>
          </a:xfrm>
          <a:prstGeom prst="wedgeRoundRectCallout">
            <a:avLst>
              <a:gd name="adj1" fmla="val 90773"/>
              <a:gd name="adj2" fmla="val -10120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应变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457200" y="365760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时应变电阻变化了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6" name=""/>
              <p:cNvSpPr txBox="1"/>
              <p:nvPr/>
            </p:nvSpPr>
            <p:spPr>
              <a:xfrm>
                <a:off x="838080" y="4172040"/>
                <a:ext cx="55245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77" name=""/>
          <p:cNvSpPr/>
          <p:nvPr/>
        </p:nvSpPr>
        <p:spPr>
          <a:xfrm>
            <a:off x="685800" y="51055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忽略分母中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8" name=""/>
              <p:cNvSpPr txBox="1"/>
              <p:nvPr/>
            </p:nvSpPr>
            <p:spPr>
              <a:xfrm>
                <a:off x="2413080" y="5557680"/>
                <a:ext cx="2463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79" name="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电桥电路（大多采用不平衡电桥），把电阻的相对变化转换为电压或电流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0" name=""/>
              <p:cNvSpPr txBox="1"/>
              <p:nvPr/>
            </p:nvSpPr>
            <p:spPr>
              <a:xfrm>
                <a:off x="3276720" y="304812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685800" y="457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9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感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609480" y="882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感传感器能将非电量的变化变换为线圈电感的变化，再由测量电路转换为电压或电流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4952880" y="3048120"/>
            <a:ext cx="1371600" cy="761400"/>
            <a:chOff x="4952880" y="3048120"/>
            <a:chExt cx="1371600" cy="761400"/>
          </a:xfrm>
        </p:grpSpPr>
        <p:sp>
          <p:nvSpPr>
            <p:cNvPr id="4085" name=""/>
            <p:cNvSpPr/>
            <p:nvPr/>
          </p:nvSpPr>
          <p:spPr>
            <a:xfrm flipH="1">
              <a:off x="5638320" y="3048120"/>
              <a:ext cx="685800" cy="2282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38680" y="3276360"/>
              <a:ext cx="68580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52880" y="3048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8" name=""/>
          <p:cNvGrpSpPr/>
          <p:nvPr/>
        </p:nvGrpSpPr>
        <p:grpSpPr>
          <a:xfrm>
            <a:off x="5181480" y="4114800"/>
            <a:ext cx="838440" cy="840600"/>
            <a:chOff x="5181480" y="4114800"/>
            <a:chExt cx="838440" cy="840600"/>
          </a:xfrm>
        </p:grpSpPr>
        <p:sp>
          <p:nvSpPr>
            <p:cNvPr id="4089" name=""/>
            <p:cNvSpPr/>
            <p:nvPr/>
          </p:nvSpPr>
          <p:spPr>
            <a:xfrm flipH="1">
              <a:off x="5562720" y="4114800"/>
              <a:ext cx="457200" cy="457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181480" y="4495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铁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1" name=""/>
          <p:cNvGrpSpPr/>
          <p:nvPr/>
        </p:nvGrpSpPr>
        <p:grpSpPr>
          <a:xfrm>
            <a:off x="6248520" y="3886200"/>
            <a:ext cx="838080" cy="1145520"/>
            <a:chOff x="6248520" y="3886200"/>
            <a:chExt cx="838080" cy="1145520"/>
          </a:xfrm>
        </p:grpSpPr>
        <p:sp>
          <p:nvSpPr>
            <p:cNvPr id="4092" name=""/>
            <p:cNvSpPr/>
            <p:nvPr/>
          </p:nvSpPr>
          <p:spPr>
            <a:xfrm flipH="1">
              <a:off x="6629040" y="3886200"/>
              <a:ext cx="152280" cy="762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248520" y="4572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衔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4" name=""/>
          <p:cNvGrpSpPr/>
          <p:nvPr/>
        </p:nvGrpSpPr>
        <p:grpSpPr>
          <a:xfrm>
            <a:off x="5943600" y="2209680"/>
            <a:ext cx="2362320" cy="2438640"/>
            <a:chOff x="5943600" y="2209680"/>
            <a:chExt cx="2362320" cy="2438640"/>
          </a:xfrm>
        </p:grpSpPr>
        <p:grpSp>
          <p:nvGrpSpPr>
            <p:cNvPr id="4095" name=""/>
            <p:cNvGrpSpPr/>
            <p:nvPr/>
          </p:nvGrpSpPr>
          <p:grpSpPr>
            <a:xfrm>
              <a:off x="5943600" y="2514600"/>
              <a:ext cx="685800" cy="1828800"/>
              <a:chOff x="5943600" y="2514600"/>
              <a:chExt cx="685800" cy="1828800"/>
            </a:xfrm>
          </p:grpSpPr>
          <p:grpSp>
            <p:nvGrpSpPr>
              <p:cNvPr id="4096" name=""/>
              <p:cNvGrpSpPr/>
              <p:nvPr/>
            </p:nvGrpSpPr>
            <p:grpSpPr>
              <a:xfrm>
                <a:off x="5943600" y="2514600"/>
                <a:ext cx="685800" cy="1828800"/>
                <a:chOff x="5943600" y="2514600"/>
                <a:chExt cx="685800" cy="182880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5943600" y="251460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5943600" y="25146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5943600" y="434340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6172200" y="419112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 flipV="1">
                  <a:off x="6172200" y="35049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6172200" y="3505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6172200" y="33526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 flipV="1">
                  <a:off x="6172200" y="2666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6172200" y="2666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6629400" y="25146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6629400" y="3352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6629400" y="41911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9" name=""/>
              <p:cNvSpPr/>
              <p:nvPr/>
            </p:nvSpPr>
            <p:spPr>
              <a:xfrm>
                <a:off x="6477120" y="2514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324840" y="2514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943600" y="25146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172200" y="251460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943600" y="2666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943600" y="28954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943600" y="31240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943600" y="3352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943600" y="35812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943600" y="3809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943600" y="403848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248520" y="4191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477120" y="4191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248520" y="3352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477120" y="3352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4" name=""/>
            <p:cNvGrpSpPr/>
            <p:nvPr/>
          </p:nvGrpSpPr>
          <p:grpSpPr>
            <a:xfrm>
              <a:off x="6248520" y="2743200"/>
              <a:ext cx="380880" cy="533520"/>
              <a:chOff x="6248520" y="2743200"/>
              <a:chExt cx="380880" cy="533520"/>
            </a:xfrm>
          </p:grpSpPr>
          <p:sp>
            <p:nvSpPr>
              <p:cNvPr id="4125" name=""/>
              <p:cNvSpPr/>
              <p:nvPr/>
            </p:nvSpPr>
            <p:spPr>
              <a:xfrm>
                <a:off x="6248520" y="2743200"/>
                <a:ext cx="380880" cy="5335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248520" y="274320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H="1">
                <a:off x="6248520" y="274320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8" name=""/>
            <p:cNvGrpSpPr/>
            <p:nvPr/>
          </p:nvGrpSpPr>
          <p:grpSpPr>
            <a:xfrm>
              <a:off x="7009920" y="2514600"/>
              <a:ext cx="685800" cy="1828800"/>
              <a:chOff x="7009920" y="2514600"/>
              <a:chExt cx="685800" cy="1828800"/>
            </a:xfrm>
          </p:grpSpPr>
          <p:grpSp>
            <p:nvGrpSpPr>
              <p:cNvPr id="4129" name=""/>
              <p:cNvGrpSpPr/>
              <p:nvPr/>
            </p:nvGrpSpPr>
            <p:grpSpPr>
              <a:xfrm>
                <a:off x="7009920" y="2514600"/>
                <a:ext cx="685800" cy="1828800"/>
                <a:chOff x="7009920" y="2514600"/>
                <a:chExt cx="685800" cy="1828800"/>
              </a:xfrm>
            </p:grpSpPr>
            <p:sp>
              <p:nvSpPr>
                <p:cNvPr id="4130" name=""/>
                <p:cNvSpPr/>
                <p:nvPr/>
              </p:nvSpPr>
              <p:spPr>
                <a:xfrm flipH="1">
                  <a:off x="7009920" y="434340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 flipV="1">
                  <a:off x="7695720" y="25146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 flipH="1">
                  <a:off x="7009920" y="251460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 flipH="1">
                  <a:off x="7009920" y="2666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7467120" y="266724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 flipH="1">
                  <a:off x="7009920" y="33526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 flipH="1">
                  <a:off x="7009920" y="3505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7467120" y="35056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 flipH="1">
                  <a:off x="7009920" y="419112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 flipV="1">
                  <a:off x="7009920" y="41911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 flipV="1">
                  <a:off x="7009920" y="3352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 flipV="1">
                  <a:off x="7009920" y="25146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2" name=""/>
              <p:cNvSpPr/>
              <p:nvPr/>
            </p:nvSpPr>
            <p:spPr>
              <a:xfrm flipH="1" flipV="1">
                <a:off x="7009920" y="4191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H="1" flipV="1">
                <a:off x="7162200" y="4191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 flipV="1">
                <a:off x="7467120" y="41148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 flipH="1" flipV="1">
                <a:off x="7314480" y="419112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H="1" flipV="1">
                <a:off x="7467120" y="39625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H="1" flipV="1">
                <a:off x="7467120" y="37339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H="1" flipV="1">
                <a:off x="7467120" y="35053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 flipV="1">
                <a:off x="7467120" y="32767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H="1" flipV="1">
                <a:off x="7467120" y="3048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 flipV="1">
                <a:off x="7467120" y="28195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H="1" flipV="1">
                <a:off x="7390800" y="251460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H="1" flipV="1">
                <a:off x="7238520" y="2514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H="1" flipV="1">
                <a:off x="7009920" y="2514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 flipV="1">
                <a:off x="7238520" y="3352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 flipV="1">
                <a:off x="7009920" y="3352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7" name=""/>
            <p:cNvGrpSpPr/>
            <p:nvPr/>
          </p:nvGrpSpPr>
          <p:grpSpPr>
            <a:xfrm>
              <a:off x="7010280" y="3581280"/>
              <a:ext cx="380880" cy="533520"/>
              <a:chOff x="7010280" y="3581280"/>
              <a:chExt cx="380880" cy="533520"/>
            </a:xfrm>
          </p:grpSpPr>
          <p:sp>
            <p:nvSpPr>
              <p:cNvPr id="4158" name=""/>
              <p:cNvSpPr/>
              <p:nvPr/>
            </p:nvSpPr>
            <p:spPr>
              <a:xfrm>
                <a:off x="7010280" y="3581280"/>
                <a:ext cx="380880" cy="5335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010280" y="358128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7010280" y="358128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7010280" y="2743200"/>
              <a:ext cx="380880" cy="533520"/>
              <a:chOff x="7010280" y="2743200"/>
              <a:chExt cx="380880" cy="533520"/>
            </a:xfrm>
          </p:grpSpPr>
          <p:sp>
            <p:nvSpPr>
              <p:cNvPr id="4162" name=""/>
              <p:cNvSpPr/>
              <p:nvPr/>
            </p:nvSpPr>
            <p:spPr>
              <a:xfrm>
                <a:off x="7010280" y="2743200"/>
                <a:ext cx="380880" cy="5335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010280" y="274320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H="1">
                <a:off x="7010280" y="274320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5" name=""/>
            <p:cNvGrpSpPr/>
            <p:nvPr/>
          </p:nvGrpSpPr>
          <p:grpSpPr>
            <a:xfrm>
              <a:off x="6248520" y="3581280"/>
              <a:ext cx="380880" cy="533520"/>
              <a:chOff x="6248520" y="3581280"/>
              <a:chExt cx="380880" cy="533520"/>
            </a:xfrm>
          </p:grpSpPr>
          <p:sp>
            <p:nvSpPr>
              <p:cNvPr id="4166" name=""/>
              <p:cNvSpPr/>
              <p:nvPr/>
            </p:nvSpPr>
            <p:spPr>
              <a:xfrm>
                <a:off x="6248520" y="3581280"/>
                <a:ext cx="380880" cy="5335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248520" y="358128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H="1">
                <a:off x="6248520" y="3581280"/>
                <a:ext cx="38088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9" name=""/>
            <p:cNvSpPr/>
            <p:nvPr/>
          </p:nvSpPr>
          <p:spPr>
            <a:xfrm>
              <a:off x="6705720" y="2895480"/>
              <a:ext cx="228600" cy="106704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815160" y="22096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629400" y="2514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391520" y="2819520"/>
              <a:ext cx="838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7391520" y="4038480"/>
              <a:ext cx="838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7391520" y="320040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7391520" y="365760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924680" y="3200400"/>
              <a:ext cx="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7924680" y="34290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8223120" y="399744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8229600" y="339264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229600" y="278136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6934320" y="2550600"/>
              <a:ext cx="0" cy="30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705720" y="2590920"/>
              <a:ext cx="0" cy="30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696080" y="373392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696080" y="289548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769608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7" name=""/>
          <p:cNvSpPr/>
          <p:nvPr/>
        </p:nvSpPr>
        <p:spPr>
          <a:xfrm>
            <a:off x="685800" y="1828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差动电感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762120" y="2286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只线圈完全相同，且上下对称排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762120" y="32767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衔铁在中间位置时，两线圈的电感相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762120" y="3276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衔铁在中间位置时，两线圈的电感相同，当衔铁受非电量的作用上下移动时，两个线圈的电感一增一减，发生变化，此即为差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"/>
          <p:cNvSpPr/>
          <p:nvPr/>
        </p:nvSpPr>
        <p:spPr>
          <a:xfrm>
            <a:off x="457200" y="89856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衔铁处于中间位置，电桥平衡，输出电压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2" name=""/>
              <p:cNvSpPr txBox="1"/>
              <p:nvPr/>
            </p:nvSpPr>
            <p:spPr>
              <a:xfrm>
                <a:off x="838080" y="1824120"/>
                <a:ext cx="1067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3" name=""/>
          <p:cNvSpPr/>
          <p:nvPr/>
        </p:nvSpPr>
        <p:spPr>
          <a:xfrm>
            <a:off x="457200" y="47242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感传感器常用来测量压力、位移、液位、表面光洁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533520" y="380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380880" y="2421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衔铁偏离中间位置上下移动时，电桥不平衡，输出电压的大小与衔铁位移的大小成正比，其相位与衔铁移动的方向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181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流电桥测量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7" name=""/>
          <p:cNvGrpSpPr/>
          <p:nvPr/>
        </p:nvGrpSpPr>
        <p:grpSpPr>
          <a:xfrm>
            <a:off x="5013000" y="660960"/>
            <a:ext cx="3063960" cy="2540520"/>
            <a:chOff x="5013000" y="660960"/>
            <a:chExt cx="3063960" cy="2540520"/>
          </a:xfrm>
        </p:grpSpPr>
        <p:sp>
          <p:nvSpPr>
            <p:cNvPr id="4198" name=""/>
            <p:cNvSpPr/>
            <p:nvPr/>
          </p:nvSpPr>
          <p:spPr>
            <a:xfrm>
              <a:off x="5943240" y="2743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552360" y="274320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rot="30000">
              <a:off x="6747840" y="198720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rot="21584400">
              <a:off x="6859440" y="902880"/>
              <a:ext cx="476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80280" y="164304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499000" y="1631880"/>
              <a:ext cx="0" cy="13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4" name=""/>
            <p:cNvGrpSpPr/>
            <p:nvPr/>
          </p:nvGrpSpPr>
          <p:grpSpPr>
            <a:xfrm>
              <a:off x="6365880" y="1633320"/>
              <a:ext cx="877680" cy="866520"/>
              <a:chOff x="6365880" y="1633320"/>
              <a:chExt cx="877680" cy="866520"/>
            </a:xfrm>
          </p:grpSpPr>
          <p:sp>
            <p:nvSpPr>
              <p:cNvPr id="4205" name=""/>
              <p:cNvSpPr/>
              <p:nvPr/>
            </p:nvSpPr>
            <p:spPr>
              <a:xfrm flipV="1">
                <a:off x="6906960" y="1633320"/>
                <a:ext cx="336600" cy="32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H="1">
                <a:off x="6365880" y="2177280"/>
                <a:ext cx="32400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H="1" rot="2700000">
                <a:off x="6740640" y="1902240"/>
                <a:ext cx="96840" cy="321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8" name=""/>
            <p:cNvSpPr/>
            <p:nvPr/>
          </p:nvSpPr>
          <p:spPr>
            <a:xfrm>
              <a:off x="7226280" y="1614600"/>
              <a:ext cx="651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345000" y="738360"/>
              <a:ext cx="795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468760" y="1614600"/>
              <a:ext cx="651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V="1">
              <a:off x="6038640" y="776160"/>
              <a:ext cx="33660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5499000" y="1320840"/>
              <a:ext cx="32400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H="1" rot="2700000">
              <a:off x="5871600" y="1045800"/>
              <a:ext cx="98640" cy="32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4" name=""/>
            <p:cNvGrpSpPr/>
            <p:nvPr/>
          </p:nvGrpSpPr>
          <p:grpSpPr>
            <a:xfrm>
              <a:off x="5498640" y="1643400"/>
              <a:ext cx="874800" cy="866880"/>
              <a:chOff x="5498640" y="1643400"/>
              <a:chExt cx="874800" cy="866880"/>
            </a:xfrm>
          </p:grpSpPr>
          <p:sp>
            <p:nvSpPr>
              <p:cNvPr id="4215" name=""/>
              <p:cNvSpPr/>
              <p:nvPr/>
            </p:nvSpPr>
            <p:spPr>
              <a:xfrm flipH="1" flipV="1">
                <a:off x="5498640" y="1643400"/>
                <a:ext cx="332280" cy="33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6047640" y="2190240"/>
                <a:ext cx="325800" cy="32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 rot="18900000">
                <a:off x="5884200" y="1929600"/>
                <a:ext cx="95760" cy="324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8" name=""/>
            <p:cNvGrpSpPr/>
            <p:nvPr/>
          </p:nvGrpSpPr>
          <p:grpSpPr>
            <a:xfrm>
              <a:off x="6409800" y="786240"/>
              <a:ext cx="876240" cy="866880"/>
              <a:chOff x="6409800" y="786240"/>
              <a:chExt cx="876240" cy="866880"/>
            </a:xfrm>
          </p:grpSpPr>
          <p:sp>
            <p:nvSpPr>
              <p:cNvPr id="4219" name=""/>
              <p:cNvSpPr/>
              <p:nvPr/>
            </p:nvSpPr>
            <p:spPr>
              <a:xfrm flipH="1" flipV="1">
                <a:off x="6409800" y="786240"/>
                <a:ext cx="333000" cy="33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959880" y="1333080"/>
                <a:ext cx="326160" cy="32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H="1" rot="18900000">
                <a:off x="6796440" y="1071720"/>
                <a:ext cx="95760" cy="32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2" name=""/>
            <p:cNvSpPr/>
            <p:nvPr/>
          </p:nvSpPr>
          <p:spPr>
            <a:xfrm>
              <a:off x="6356160" y="2465280"/>
              <a:ext cx="651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3" name=""/>
                <p:cNvSpPr txBox="1"/>
                <p:nvPr/>
              </p:nvSpPr>
              <p:spPr>
                <a:xfrm>
                  <a:off x="7696080" y="1482840"/>
                  <a:ext cx="3808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24" name=""/>
            <p:cNvSpPr/>
            <p:nvPr/>
          </p:nvSpPr>
          <p:spPr>
            <a:xfrm>
              <a:off x="6387840" y="762120"/>
              <a:ext cx="141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387840" y="2490840"/>
              <a:ext cx="141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804080" y="76212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7804080" y="209088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491080" y="2995560"/>
              <a:ext cx="38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956280" y="299556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867280" y="2960640"/>
              <a:ext cx="7128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877080" y="2960640"/>
              <a:ext cx="7128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767360" y="1984320"/>
              <a:ext cx="71640" cy="73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765920" y="1181160"/>
              <a:ext cx="69840" cy="7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5964120" y="833040"/>
              <a:ext cx="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664040" y="160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644600" y="112248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7" name=""/>
                <p:cNvSpPr txBox="1"/>
                <p:nvPr/>
              </p:nvSpPr>
              <p:spPr>
                <a:xfrm>
                  <a:off x="6323040" y="2819520"/>
                  <a:ext cx="38232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U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238" name=""/>
            <p:cNvSpPr/>
            <p:nvPr/>
          </p:nvSpPr>
          <p:spPr>
            <a:xfrm>
              <a:off x="5943600" y="1828800"/>
              <a:ext cx="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 rot="19078800">
              <a:off x="5048280" y="908280"/>
              <a:ext cx="9151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j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 rot="2800800">
              <a:off x="5415120" y="2220120"/>
              <a:ext cx="9151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j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1" name=""/>
          <p:cNvSpPr/>
          <p:nvPr/>
        </p:nvSpPr>
        <p:spPr>
          <a:xfrm>
            <a:off x="4114800" y="914400"/>
            <a:ext cx="990720" cy="609480"/>
          </a:xfrm>
          <a:prstGeom prst="wedgeRoundRectCallout">
            <a:avLst>
              <a:gd name="adj1" fmla="val 77884"/>
              <a:gd name="adj2" fmla="val 98175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线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 rot="15627600">
            <a:off x="4661280" y="1230480"/>
            <a:ext cx="2181240" cy="1144440"/>
          </a:xfrm>
          <a:prstGeom prst="ellipse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 rot="10728600">
            <a:off x="6555960" y="907560"/>
            <a:ext cx="911160" cy="1525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8153280" y="609480"/>
            <a:ext cx="533520" cy="1828800"/>
          </a:xfrm>
          <a:prstGeom prst="wedgeRoundRectCallout">
            <a:avLst>
              <a:gd name="adj1" fmla="val -223212"/>
              <a:gd name="adj2" fmla="val -7115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5" name=""/>
          <p:cNvGrpSpPr/>
          <p:nvPr/>
        </p:nvGrpSpPr>
        <p:grpSpPr>
          <a:xfrm>
            <a:off x="5029200" y="3657600"/>
            <a:ext cx="3352320" cy="2822040"/>
            <a:chOff x="5029200" y="3657600"/>
            <a:chExt cx="3352320" cy="2822040"/>
          </a:xfrm>
        </p:grpSpPr>
        <p:grpSp>
          <p:nvGrpSpPr>
            <p:cNvPr id="4246" name=""/>
            <p:cNvGrpSpPr/>
            <p:nvPr/>
          </p:nvGrpSpPr>
          <p:grpSpPr>
            <a:xfrm>
              <a:off x="5029200" y="4495680"/>
              <a:ext cx="1371600" cy="762120"/>
              <a:chOff x="5029200" y="4495680"/>
              <a:chExt cx="1371600" cy="762120"/>
            </a:xfrm>
          </p:grpSpPr>
          <p:sp>
            <p:nvSpPr>
              <p:cNvPr id="4247" name=""/>
              <p:cNvSpPr/>
              <p:nvPr/>
            </p:nvSpPr>
            <p:spPr>
              <a:xfrm flipH="1">
                <a:off x="5714640" y="4495680"/>
                <a:ext cx="685800" cy="22860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715000" y="4724280"/>
                <a:ext cx="68580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02920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线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0" name=""/>
            <p:cNvGrpSpPr/>
            <p:nvPr/>
          </p:nvGrpSpPr>
          <p:grpSpPr>
            <a:xfrm>
              <a:off x="5257800" y="5562720"/>
              <a:ext cx="838080" cy="840600"/>
              <a:chOff x="5257800" y="5562720"/>
              <a:chExt cx="838080" cy="840600"/>
            </a:xfrm>
          </p:grpSpPr>
          <p:sp>
            <p:nvSpPr>
              <p:cNvPr id="4251" name=""/>
              <p:cNvSpPr/>
              <p:nvPr/>
            </p:nvSpPr>
            <p:spPr>
              <a:xfrm flipH="1">
                <a:off x="5638320" y="5562720"/>
                <a:ext cx="456840" cy="45720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5257800" y="5943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铁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3" name=""/>
            <p:cNvGrpSpPr/>
            <p:nvPr/>
          </p:nvGrpSpPr>
          <p:grpSpPr>
            <a:xfrm>
              <a:off x="6324480" y="5334120"/>
              <a:ext cx="838080" cy="1145520"/>
              <a:chOff x="6324480" y="5334120"/>
              <a:chExt cx="838080" cy="1145520"/>
            </a:xfrm>
          </p:grpSpPr>
          <p:sp>
            <p:nvSpPr>
              <p:cNvPr id="4254" name=""/>
              <p:cNvSpPr/>
              <p:nvPr/>
            </p:nvSpPr>
            <p:spPr>
              <a:xfrm flipH="1">
                <a:off x="6705000" y="5334120"/>
                <a:ext cx="152280" cy="7621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324480" y="6019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衔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6019920" y="3657600"/>
              <a:ext cx="2361600" cy="2438280"/>
              <a:chOff x="6019920" y="3657600"/>
              <a:chExt cx="2361600" cy="2438280"/>
            </a:xfrm>
          </p:grpSpPr>
          <p:grpSp>
            <p:nvGrpSpPr>
              <p:cNvPr id="4257" name=""/>
              <p:cNvGrpSpPr/>
              <p:nvPr/>
            </p:nvGrpSpPr>
            <p:grpSpPr>
              <a:xfrm>
                <a:off x="6019920" y="3962160"/>
                <a:ext cx="685440" cy="1828440"/>
                <a:chOff x="6019920" y="3962160"/>
                <a:chExt cx="685440" cy="1828440"/>
              </a:xfrm>
            </p:grpSpPr>
            <p:grpSp>
              <p:nvGrpSpPr>
                <p:cNvPr id="4258" name=""/>
                <p:cNvGrpSpPr/>
                <p:nvPr/>
              </p:nvGrpSpPr>
              <p:grpSpPr>
                <a:xfrm>
                  <a:off x="6019920" y="3962160"/>
                  <a:ext cx="685440" cy="1828440"/>
                  <a:chOff x="6019920" y="3962160"/>
                  <a:chExt cx="685440" cy="1828440"/>
                </a:xfrm>
              </p:grpSpPr>
              <p:sp>
                <p:nvSpPr>
                  <p:cNvPr id="4259" name=""/>
                  <p:cNvSpPr/>
                  <p:nvPr/>
                </p:nvSpPr>
                <p:spPr>
                  <a:xfrm>
                    <a:off x="6019920" y="396216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6019920" y="3962160"/>
                    <a:ext cx="0" cy="1828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6019920" y="579060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6248160" y="56383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 flipV="1">
                    <a:off x="6248160" y="4952520"/>
                    <a:ext cx="0" cy="685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4" name=""/>
                  <p:cNvSpPr/>
                  <p:nvPr/>
                </p:nvSpPr>
                <p:spPr>
                  <a:xfrm>
                    <a:off x="6248160" y="49525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5" name=""/>
                  <p:cNvSpPr/>
                  <p:nvPr/>
                </p:nvSpPr>
                <p:spPr>
                  <a:xfrm>
                    <a:off x="6248160" y="479988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 flipV="1">
                    <a:off x="6248160" y="4114080"/>
                    <a:ext cx="0" cy="685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>
                    <a:off x="6248160" y="411408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>
                    <a:off x="6705360" y="3962160"/>
                    <a:ext cx="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9" name=""/>
                  <p:cNvSpPr/>
                  <p:nvPr/>
                </p:nvSpPr>
                <p:spPr>
                  <a:xfrm>
                    <a:off x="6705360" y="47998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0" name=""/>
                  <p:cNvSpPr/>
                  <p:nvPr/>
                </p:nvSpPr>
                <p:spPr>
                  <a:xfrm>
                    <a:off x="6705360" y="5638320"/>
                    <a:ext cx="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1" name=""/>
                <p:cNvSpPr/>
                <p:nvPr/>
              </p:nvSpPr>
              <p:spPr>
                <a:xfrm>
                  <a:off x="6553080" y="396216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6400800" y="396216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6019920" y="396216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6248160" y="3962160"/>
                  <a:ext cx="15228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6019920" y="41140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6019920" y="43426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6019920" y="45712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6019920" y="47998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6019920" y="50284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6019920" y="52570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6019920" y="548568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6324480" y="563832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6553080" y="563832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6324480" y="479988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6553080" y="479988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6" name=""/>
              <p:cNvGrpSpPr/>
              <p:nvPr/>
            </p:nvGrpSpPr>
            <p:grpSpPr>
              <a:xfrm>
                <a:off x="6324120" y="4190760"/>
                <a:ext cx="380880" cy="533160"/>
                <a:chOff x="6324120" y="4190760"/>
                <a:chExt cx="380880" cy="533160"/>
              </a:xfrm>
            </p:grpSpPr>
            <p:sp>
              <p:nvSpPr>
                <p:cNvPr id="4287" name=""/>
                <p:cNvSpPr/>
                <p:nvPr/>
              </p:nvSpPr>
              <p:spPr>
                <a:xfrm>
                  <a:off x="6324480" y="4190760"/>
                  <a:ext cx="380520" cy="533160"/>
                </a:xfrm>
                <a:prstGeom prst="rect">
                  <a:avLst/>
                </a:prstGeom>
                <a:noFill/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6324480" y="4190760"/>
                  <a:ext cx="38052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H="1">
                  <a:off x="6324120" y="4190760"/>
                  <a:ext cx="38052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0" name=""/>
              <p:cNvGrpSpPr/>
              <p:nvPr/>
            </p:nvGrpSpPr>
            <p:grpSpPr>
              <a:xfrm>
                <a:off x="7086240" y="3961800"/>
                <a:ext cx="685440" cy="1828440"/>
                <a:chOff x="7086240" y="3961800"/>
                <a:chExt cx="685440" cy="1828440"/>
              </a:xfrm>
            </p:grpSpPr>
            <p:grpSp>
              <p:nvGrpSpPr>
                <p:cNvPr id="4291" name=""/>
                <p:cNvGrpSpPr/>
                <p:nvPr/>
              </p:nvGrpSpPr>
              <p:grpSpPr>
                <a:xfrm>
                  <a:off x="7086240" y="3961800"/>
                  <a:ext cx="685440" cy="1828440"/>
                  <a:chOff x="7086240" y="3961800"/>
                  <a:chExt cx="685440" cy="1828440"/>
                </a:xfrm>
              </p:grpSpPr>
              <p:sp>
                <p:nvSpPr>
                  <p:cNvPr id="4292" name=""/>
                  <p:cNvSpPr/>
                  <p:nvPr/>
                </p:nvSpPr>
                <p:spPr>
                  <a:xfrm flipH="1">
                    <a:off x="7086240" y="579024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 flipV="1">
                    <a:off x="7771680" y="3961800"/>
                    <a:ext cx="0" cy="1828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 flipH="1">
                    <a:off x="7086240" y="396180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 flipH="1">
                    <a:off x="7086600" y="411408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7543440" y="4114440"/>
                    <a:ext cx="0" cy="685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 flipH="1">
                    <a:off x="7086600" y="479988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 flipH="1">
                    <a:off x="7086600" y="49525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7543440" y="4952880"/>
                    <a:ext cx="0" cy="685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 flipH="1">
                    <a:off x="7086600" y="563832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 flipV="1">
                    <a:off x="7086240" y="5638320"/>
                    <a:ext cx="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 flipV="1">
                    <a:off x="7086240" y="480024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 flipV="1">
                    <a:off x="7086240" y="3962160"/>
                    <a:ext cx="0" cy="151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04" name=""/>
                <p:cNvSpPr/>
                <p:nvPr/>
              </p:nvSpPr>
              <p:spPr>
                <a:xfrm flipH="1" flipV="1">
                  <a:off x="7086600" y="563832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H="1" flipV="1">
                  <a:off x="7238880" y="563832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H="1" flipV="1">
                  <a:off x="7543440" y="556200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H="1" flipV="1">
                  <a:off x="7391160" y="5638320"/>
                  <a:ext cx="15228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H="1" flipV="1">
                  <a:off x="7543440" y="54100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H="1" flipV="1">
                  <a:off x="7543440" y="51814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 flipH="1" flipV="1">
                  <a:off x="7543440" y="49528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 flipH="1" flipV="1">
                  <a:off x="7543440" y="47242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H="1" flipV="1">
                  <a:off x="7543440" y="44956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H="1" flipV="1">
                  <a:off x="7543440" y="4267080"/>
                  <a:ext cx="2282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 flipH="1" flipV="1">
                  <a:off x="7467120" y="396216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 flipH="1" flipV="1">
                  <a:off x="7315200" y="396216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 flipH="1" flipV="1">
                  <a:off x="7086600" y="396216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H="1" flipV="1">
                  <a:off x="7315200" y="480024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 flipH="1" flipV="1">
                  <a:off x="7086600" y="480024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9" name=""/>
              <p:cNvGrpSpPr/>
              <p:nvPr/>
            </p:nvGrpSpPr>
            <p:grpSpPr>
              <a:xfrm>
                <a:off x="7086240" y="5028840"/>
                <a:ext cx="380880" cy="533160"/>
                <a:chOff x="7086240" y="5028840"/>
                <a:chExt cx="380880" cy="533160"/>
              </a:xfrm>
            </p:grpSpPr>
            <p:sp>
              <p:nvSpPr>
                <p:cNvPr id="4320" name=""/>
                <p:cNvSpPr/>
                <p:nvPr/>
              </p:nvSpPr>
              <p:spPr>
                <a:xfrm>
                  <a:off x="7086240" y="5028840"/>
                  <a:ext cx="380880" cy="533160"/>
                </a:xfrm>
                <a:prstGeom prst="rect">
                  <a:avLst/>
                </a:prstGeom>
                <a:noFill/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7086240" y="5028840"/>
                  <a:ext cx="38088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 flipH="1">
                  <a:off x="7086240" y="5028840"/>
                  <a:ext cx="38088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3" name=""/>
              <p:cNvGrpSpPr/>
              <p:nvPr/>
            </p:nvGrpSpPr>
            <p:grpSpPr>
              <a:xfrm>
                <a:off x="7086240" y="4190760"/>
                <a:ext cx="380880" cy="533160"/>
                <a:chOff x="7086240" y="4190760"/>
                <a:chExt cx="380880" cy="53316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7086240" y="4190760"/>
                  <a:ext cx="380880" cy="533160"/>
                </a:xfrm>
                <a:prstGeom prst="rect">
                  <a:avLst/>
                </a:prstGeom>
                <a:noFill/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7086240" y="4190760"/>
                  <a:ext cx="38088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 flipH="1">
                  <a:off x="7086240" y="4190760"/>
                  <a:ext cx="38088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7" name=""/>
              <p:cNvGrpSpPr/>
              <p:nvPr/>
            </p:nvGrpSpPr>
            <p:grpSpPr>
              <a:xfrm>
                <a:off x="6324120" y="5028840"/>
                <a:ext cx="380880" cy="533160"/>
                <a:chOff x="6324120" y="5028840"/>
                <a:chExt cx="380880" cy="533160"/>
              </a:xfrm>
            </p:grpSpPr>
            <p:sp>
              <p:nvSpPr>
                <p:cNvPr id="4328" name=""/>
                <p:cNvSpPr/>
                <p:nvPr/>
              </p:nvSpPr>
              <p:spPr>
                <a:xfrm>
                  <a:off x="6324480" y="5028840"/>
                  <a:ext cx="380520" cy="533160"/>
                </a:xfrm>
                <a:prstGeom prst="rect">
                  <a:avLst/>
                </a:prstGeom>
                <a:noFill/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6324480" y="5028840"/>
                  <a:ext cx="38052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 flipH="1">
                  <a:off x="6324120" y="5028840"/>
                  <a:ext cx="380520" cy="533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1" name=""/>
              <p:cNvSpPr/>
              <p:nvPr/>
            </p:nvSpPr>
            <p:spPr>
              <a:xfrm>
                <a:off x="6781680" y="4343040"/>
                <a:ext cx="228240" cy="1066680"/>
              </a:xfrm>
              <a:prstGeom prst="rect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891120" y="36576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705360" y="39621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467480" y="4267080"/>
                <a:ext cx="837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467480" y="5486040"/>
                <a:ext cx="837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467480" y="4647960"/>
                <a:ext cx="5328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467480" y="5105160"/>
                <a:ext cx="5328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8000640" y="4647960"/>
                <a:ext cx="0" cy="4568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8000640" y="487656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8299080" y="5445000"/>
                <a:ext cx="75960" cy="75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8305560" y="4840200"/>
                <a:ext cx="75960" cy="75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8305560" y="4228920"/>
                <a:ext cx="75960" cy="75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010280" y="3998520"/>
                <a:ext cx="0" cy="304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6781680" y="4038480"/>
                <a:ext cx="0" cy="304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772040" y="5181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772040" y="4343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772040" y="4952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772040" y="41144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27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照工作原理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762120"/>
            <a:ext cx="8458200" cy="5105160"/>
            <a:chOff x="457200" y="762120"/>
            <a:chExt cx="8458200" cy="5105160"/>
          </a:xfrm>
        </p:grpSpPr>
        <p:sp>
          <p:nvSpPr>
            <p:cNvPr id="115" name=""/>
            <p:cNvSpPr/>
            <p:nvPr/>
          </p:nvSpPr>
          <p:spPr>
            <a:xfrm>
              <a:off x="457200" y="762120"/>
              <a:ext cx="8381880" cy="510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124668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233856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369000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474084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762120"/>
              <a:ext cx="0" cy="51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762120"/>
              <a:ext cx="0" cy="51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762120"/>
              <a:ext cx="0" cy="51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195640" y="3314520"/>
              <a:ext cx="664920" cy="290880"/>
              <a:chOff x="2195640" y="3314520"/>
              <a:chExt cx="664920" cy="290880"/>
            </a:xfrm>
          </p:grpSpPr>
          <p:sp>
            <p:nvSpPr>
              <p:cNvPr id="124" name=""/>
              <p:cNvSpPr/>
              <p:nvPr/>
            </p:nvSpPr>
            <p:spPr>
              <a:xfrm rot="5400000">
                <a:off x="2410920" y="3297600"/>
                <a:ext cx="242640" cy="2761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71200" y="3314520"/>
                <a:ext cx="0" cy="29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95640" y="3439800"/>
                <a:ext cx="66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59000" y="1370160"/>
              <a:ext cx="641520" cy="804960"/>
              <a:chOff x="2259000" y="1370160"/>
              <a:chExt cx="641520" cy="804960"/>
            </a:xfrm>
          </p:grpSpPr>
          <p:sp>
            <p:nvSpPr>
              <p:cNvPr id="128" name=""/>
              <p:cNvSpPr/>
              <p:nvPr/>
            </p:nvSpPr>
            <p:spPr>
              <a:xfrm>
                <a:off x="2259000" y="1370160"/>
                <a:ext cx="641520" cy="62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59000" y="1702800"/>
                <a:ext cx="0" cy="4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00520" y="1702800"/>
                <a:ext cx="0" cy="4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0240" y="1745280"/>
                <a:ext cx="605880" cy="277920"/>
              </a:xfrm>
              <a:prstGeom prst="rect">
                <a:avLst/>
              </a:prstGeom>
              <a:solidFill>
                <a:srgbClr val="f5e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28920" y="2147040"/>
                <a:ext cx="33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259000" y="2433960"/>
              <a:ext cx="641520" cy="804960"/>
              <a:chOff x="2259000" y="2433960"/>
              <a:chExt cx="641520" cy="8049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59000" y="2433960"/>
                <a:ext cx="641520" cy="62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59000" y="2766600"/>
                <a:ext cx="0" cy="4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00520" y="2766600"/>
                <a:ext cx="0" cy="4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80240" y="2809080"/>
                <a:ext cx="605880" cy="277920"/>
              </a:xfrm>
              <a:prstGeom prst="rect">
                <a:avLst/>
              </a:prstGeom>
              <a:solidFill>
                <a:srgbClr val="f5e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28920" y="3210840"/>
                <a:ext cx="33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33720" y="4981680"/>
              <a:ext cx="990360" cy="634320"/>
              <a:chOff x="2133720" y="4981680"/>
              <a:chExt cx="990360" cy="634320"/>
            </a:xfrm>
          </p:grpSpPr>
          <p:sp>
            <p:nvSpPr>
              <p:cNvPr id="140" name=""/>
              <p:cNvSpPr/>
              <p:nvPr/>
            </p:nvSpPr>
            <p:spPr>
              <a:xfrm>
                <a:off x="2133720" y="5169240"/>
                <a:ext cx="990360" cy="26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33720" y="529884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30520" y="4981680"/>
                <a:ext cx="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30520" y="5431680"/>
                <a:ext cx="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22000" y="3800880"/>
              <a:ext cx="338400" cy="864360"/>
              <a:chOff x="2322000" y="3800880"/>
              <a:chExt cx="338400" cy="8643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2322360" y="3854520"/>
                <a:ext cx="27576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22360" y="4017240"/>
                <a:ext cx="220680" cy="10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322000" y="4124880"/>
                <a:ext cx="220680" cy="10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22360" y="4232520"/>
                <a:ext cx="220680" cy="10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322000" y="4341240"/>
                <a:ext cx="220680" cy="10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2322360" y="4448880"/>
                <a:ext cx="275760" cy="16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33240" y="3854520"/>
                <a:ext cx="0" cy="7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98120" y="3800880"/>
                <a:ext cx="62280" cy="61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90200" y="4604040"/>
                <a:ext cx="62280" cy="61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33520" y="762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型  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7758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符  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7621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被测量的种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15123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磁电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28029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整流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3989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磁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5094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电动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762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流的种类与频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133128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流、电压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2680" y="2713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电流、电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2680" y="39898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流、电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4890960"/>
              <a:ext cx="2361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电流、电压、电功率、功率因数、电能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5123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直  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5000" y="2563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工频和较高频率的交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39153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直流和工频交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1320" y="4890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直流及工频与较高频率的交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58672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按照电流的种类分类（见上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609480" y="471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9.3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533520" y="914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容传感器能将非电量的变化变换为电容器电容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2" name=""/>
          <p:cNvGrpSpPr/>
          <p:nvPr/>
        </p:nvGrpSpPr>
        <p:grpSpPr>
          <a:xfrm>
            <a:off x="5181480" y="1752480"/>
            <a:ext cx="3581640" cy="2364840"/>
            <a:chOff x="5181480" y="1752480"/>
            <a:chExt cx="3581640" cy="2364840"/>
          </a:xfrm>
        </p:grpSpPr>
        <p:sp>
          <p:nvSpPr>
            <p:cNvPr id="4353" name=""/>
            <p:cNvSpPr/>
            <p:nvPr/>
          </p:nvSpPr>
          <p:spPr>
            <a:xfrm>
              <a:off x="5181480" y="36576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板电容传感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4" name=""/>
            <p:cNvGrpSpPr/>
            <p:nvPr/>
          </p:nvGrpSpPr>
          <p:grpSpPr>
            <a:xfrm>
              <a:off x="6172200" y="1752480"/>
              <a:ext cx="1371600" cy="1752480"/>
              <a:chOff x="6172200" y="1752480"/>
              <a:chExt cx="1371600" cy="1752480"/>
            </a:xfrm>
          </p:grpSpPr>
          <p:sp>
            <p:nvSpPr>
              <p:cNvPr id="4355" name=""/>
              <p:cNvSpPr/>
              <p:nvPr/>
            </p:nvSpPr>
            <p:spPr>
              <a:xfrm>
                <a:off x="6172200" y="2361960"/>
                <a:ext cx="914400" cy="76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6172200" y="2819160"/>
                <a:ext cx="914400" cy="76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6629400" y="18284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V="1">
                <a:off x="6629400" y="289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588000" y="3428640"/>
                <a:ext cx="76320" cy="763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593040" y="1752480"/>
                <a:ext cx="75960" cy="75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162920" y="2438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162920" y="281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391520" y="2133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7391520" y="2818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162920" y="23619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366" name=""/>
              <p:cNvSpPr txBox="1"/>
              <p:nvPr/>
            </p:nvSpPr>
            <p:spPr>
              <a:xfrm>
                <a:off x="1695600" y="2362320"/>
                <a:ext cx="1331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7" name=""/>
          <p:cNvSpPr/>
          <p:nvPr/>
        </p:nvSpPr>
        <p:spPr>
          <a:xfrm>
            <a:off x="457200" y="34290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见，只要改变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者之一，都可使电容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57200" y="4495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上极板固定，下极板与被测物体相接触，当运动物体上、下位移（改变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或左、右位移（改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时，将引起电容的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685800" y="1828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平板电容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"/>
          <p:cNvSpPr/>
          <p:nvPr/>
        </p:nvSpPr>
        <p:spPr>
          <a:xfrm>
            <a:off x="533520" y="762120"/>
            <a:ext cx="4647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时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桥平衡，输出电压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1" name=""/>
              <p:cNvSpPr txBox="1"/>
              <p:nvPr/>
            </p:nvSpPr>
            <p:spPr>
              <a:xfrm>
                <a:off x="2209680" y="1273320"/>
                <a:ext cx="1143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2" name=""/>
          <p:cNvSpPr/>
          <p:nvPr/>
        </p:nvSpPr>
        <p:spPr>
          <a:xfrm>
            <a:off x="5562720" y="3352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流电桥测量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609480" y="1903320"/>
            <a:ext cx="4724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时，电桥不平衡，输出电压的大小与电容的变化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4" name=""/>
              <p:cNvSpPr txBox="1"/>
              <p:nvPr/>
            </p:nvSpPr>
            <p:spPr>
              <a:xfrm>
                <a:off x="5562720" y="4572000"/>
                <a:ext cx="21333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-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5" name=""/>
          <p:cNvSpPr/>
          <p:nvPr/>
        </p:nvSpPr>
        <p:spPr>
          <a:xfrm>
            <a:off x="4572000" y="47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4419720" y="4038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带条厚度为 </a:t>
            </a:r>
            <a:r>
              <a:rPr b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，其介电常数为 </a:t>
            </a:r>
            <a:r>
              <a:rPr b="1" i="1" lang="zh-CN" sz="24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7" name=""/>
          <p:cNvGrpSpPr/>
          <p:nvPr/>
        </p:nvGrpSpPr>
        <p:grpSpPr>
          <a:xfrm>
            <a:off x="685800" y="3276720"/>
            <a:ext cx="3962520" cy="3111480"/>
            <a:chOff x="685800" y="3276720"/>
            <a:chExt cx="3962520" cy="3111480"/>
          </a:xfrm>
        </p:grpSpPr>
        <p:grpSp>
          <p:nvGrpSpPr>
            <p:cNvPr id="4378" name=""/>
            <p:cNvGrpSpPr/>
            <p:nvPr/>
          </p:nvGrpSpPr>
          <p:grpSpPr>
            <a:xfrm>
              <a:off x="1295280" y="3276720"/>
              <a:ext cx="3353040" cy="2364480"/>
              <a:chOff x="1295280" y="3276720"/>
              <a:chExt cx="3353040" cy="2364480"/>
            </a:xfrm>
          </p:grpSpPr>
          <p:grpSp>
            <p:nvGrpSpPr>
              <p:cNvPr id="4379" name=""/>
              <p:cNvGrpSpPr/>
              <p:nvPr/>
            </p:nvGrpSpPr>
            <p:grpSpPr>
              <a:xfrm>
                <a:off x="1409760" y="4156200"/>
                <a:ext cx="609480" cy="609480"/>
                <a:chOff x="1409760" y="4156200"/>
                <a:chExt cx="609480" cy="60948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1409760" y="4156200"/>
                  <a:ext cx="609480" cy="609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1676160" y="4419720"/>
                  <a:ext cx="75960" cy="759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2" name=""/>
              <p:cNvGrpSpPr/>
              <p:nvPr/>
            </p:nvGrpSpPr>
            <p:grpSpPr>
              <a:xfrm>
                <a:off x="3124080" y="4148280"/>
                <a:ext cx="609840" cy="609480"/>
                <a:chOff x="3124080" y="4148280"/>
                <a:chExt cx="609840" cy="609480"/>
              </a:xfrm>
            </p:grpSpPr>
            <p:sp>
              <p:nvSpPr>
                <p:cNvPr id="4383" name=""/>
                <p:cNvSpPr/>
                <p:nvPr/>
              </p:nvSpPr>
              <p:spPr>
                <a:xfrm>
                  <a:off x="3124080" y="4148280"/>
                  <a:ext cx="609840" cy="609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3390840" y="4411800"/>
                  <a:ext cx="76320" cy="759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5" name=""/>
              <p:cNvSpPr/>
              <p:nvPr/>
            </p:nvSpPr>
            <p:spPr>
              <a:xfrm>
                <a:off x="1654200" y="4114800"/>
                <a:ext cx="555480" cy="38160"/>
              </a:xfrm>
              <a:custGeom>
                <a:avLst/>
                <a:gdLst/>
                <a:ahLst/>
                <a:rect l="l" t="t" r="r" b="b"/>
                <a:pathLst>
                  <a:path w="350" h="24">
                    <a:moveTo>
                      <a:pt x="0" y="24"/>
                    </a:moveTo>
                    <a:cubicBezTo>
                      <a:pt x="53" y="11"/>
                      <a:pt x="111" y="8"/>
                      <a:pt x="166" y="8"/>
                    </a:cubicBezTo>
                    <a:lnTo>
                      <a:pt x="350" y="0"/>
                    </a:ln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2209680" y="4114800"/>
                <a:ext cx="609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19520" y="4113360"/>
                <a:ext cx="745920" cy="61920"/>
              </a:xfrm>
              <a:custGeom>
                <a:avLst/>
                <a:gdLst/>
                <a:ahLst/>
                <a:rect l="l" t="t" r="r" b="b"/>
                <a:pathLst>
                  <a:path w="470" h="39">
                    <a:moveTo>
                      <a:pt x="0" y="1"/>
                    </a:moveTo>
                    <a:cubicBezTo>
                      <a:pt x="43" y="5"/>
                      <a:pt x="222" y="0"/>
                      <a:pt x="283" y="2"/>
                    </a:cubicBezTo>
                    <a:cubicBezTo>
                      <a:pt x="344" y="3"/>
                      <a:pt x="334" y="0"/>
                      <a:pt x="365" y="6"/>
                    </a:cubicBezTo>
                    <a:cubicBezTo>
                      <a:pt x="396" y="12"/>
                      <a:pt x="456" y="30"/>
                      <a:pt x="470" y="39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209680" y="4191120"/>
                <a:ext cx="685800" cy="39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2209680" y="3962520"/>
                <a:ext cx="685800" cy="39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2819520" y="388620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860560" y="43070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819520" y="4230720"/>
                <a:ext cx="74520" cy="74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2860560" y="3429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2801880" y="4764240"/>
                <a:ext cx="108000" cy="10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2801880" y="3317760"/>
                <a:ext cx="108000" cy="1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1409760" y="4495680"/>
                <a:ext cx="0" cy="838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3733920" y="4419720"/>
                <a:ext cx="0" cy="83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1295280" y="4800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V="1">
                <a:off x="3809880" y="4800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752480" y="4648320"/>
                <a:ext cx="685800" cy="68580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V="1">
                <a:off x="2438280" y="4647960"/>
                <a:ext cx="990720" cy="68580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243828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滚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200400" y="3809520"/>
                <a:ext cx="68580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733920" y="3505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带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2286000" y="3657600"/>
                <a:ext cx="228600" cy="533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H="1">
                <a:off x="2209680" y="3657600"/>
                <a:ext cx="7632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167652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极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8" name=""/>
            <p:cNvSpPr/>
            <p:nvPr/>
          </p:nvSpPr>
          <p:spPr>
            <a:xfrm>
              <a:off x="1371600" y="556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容传感器测量绝缘带条的厚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85800" y="3367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例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0" name=""/>
          <p:cNvSpPr/>
          <p:nvPr/>
        </p:nvSpPr>
        <p:spPr>
          <a:xfrm>
            <a:off x="609480" y="3189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5711040" y="912960"/>
            <a:ext cx="2747160" cy="2440800"/>
            <a:chOff x="5711040" y="912960"/>
            <a:chExt cx="2747160" cy="2440800"/>
          </a:xfrm>
        </p:grpSpPr>
        <mc:AlternateContent>
          <mc:Choice xmlns:a14="http://schemas.microsoft.com/office/drawing/2010/main" Requires="a14">
            <p:sp>
              <p:nvSpPr>
                <p:cNvPr id="4412" name=""/>
                <p:cNvSpPr txBox="1"/>
                <p:nvPr/>
              </p:nvSpPr>
              <p:spPr>
                <a:xfrm>
                  <a:off x="8077320" y="1600200"/>
                  <a:ext cx="3808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413" name=""/>
            <p:cNvSpPr/>
            <p:nvPr/>
          </p:nvSpPr>
          <p:spPr>
            <a:xfrm>
              <a:off x="8184960" y="93492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8184960" y="2263680"/>
              <a:ext cx="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8148600" y="2171880"/>
              <a:ext cx="71280" cy="7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8147160" y="1353960"/>
              <a:ext cx="69840" cy="7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8044920" y="177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8025480" y="129528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5879880" y="2895480"/>
              <a:ext cx="1803600" cy="458280"/>
              <a:chOff x="5879880" y="2895480"/>
              <a:chExt cx="1803600" cy="458280"/>
            </a:xfrm>
          </p:grpSpPr>
          <p:sp>
            <p:nvSpPr>
              <p:cNvPr id="4420" name=""/>
              <p:cNvSpPr/>
              <p:nvPr/>
            </p:nvSpPr>
            <p:spPr>
              <a:xfrm>
                <a:off x="6332040" y="28954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6941160" y="289548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5879880" y="3147840"/>
                <a:ext cx="38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345080" y="3147840"/>
                <a:ext cx="33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6256080" y="3112920"/>
                <a:ext cx="71640" cy="73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265880" y="3112920"/>
                <a:ext cx="71280" cy="73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26" name=""/>
                  <p:cNvSpPr txBox="1"/>
                  <p:nvPr/>
                </p:nvSpPr>
                <p:spPr>
                  <a:xfrm>
                    <a:off x="6711840" y="2971800"/>
                    <a:ext cx="38268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27" name=""/>
            <p:cNvSpPr/>
            <p:nvPr/>
          </p:nvSpPr>
          <p:spPr>
            <a:xfrm rot="30000">
              <a:off x="7137000" y="213336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rot="21584400">
              <a:off x="7236000" y="91404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673760" y="179532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886360" y="1784520"/>
              <a:ext cx="0" cy="13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6752880" y="1752480"/>
              <a:ext cx="931680" cy="900000"/>
              <a:chOff x="6752880" y="1752480"/>
              <a:chExt cx="931680" cy="9000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7327440" y="1752480"/>
                <a:ext cx="357120" cy="34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>
                <a:off x="6752880" y="2317320"/>
                <a:ext cx="343800" cy="33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rot="2700000">
                <a:off x="7151400" y="2031480"/>
                <a:ext cx="102960" cy="334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5" name=""/>
            <p:cNvSpPr/>
            <p:nvPr/>
          </p:nvSpPr>
          <p:spPr>
            <a:xfrm>
              <a:off x="7630920" y="1766880"/>
              <a:ext cx="651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732720" y="914400"/>
              <a:ext cx="648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5856120" y="1766880"/>
              <a:ext cx="651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V="1">
              <a:off x="6389640" y="928800"/>
              <a:ext cx="372960" cy="36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>
              <a:off x="5886360" y="1371600"/>
              <a:ext cx="42696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 flipH="1" flipV="1">
              <a:off x="5868720" y="1749240"/>
              <a:ext cx="485640" cy="47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455520" y="2319480"/>
              <a:ext cx="33516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2" name=""/>
            <p:cNvGrpSpPr/>
            <p:nvPr/>
          </p:nvGrpSpPr>
          <p:grpSpPr>
            <a:xfrm>
              <a:off x="6797160" y="938520"/>
              <a:ext cx="876240" cy="866880"/>
              <a:chOff x="6797160" y="938520"/>
              <a:chExt cx="876240" cy="866880"/>
            </a:xfrm>
          </p:grpSpPr>
          <p:sp>
            <p:nvSpPr>
              <p:cNvPr id="4443" name=""/>
              <p:cNvSpPr/>
              <p:nvPr/>
            </p:nvSpPr>
            <p:spPr>
              <a:xfrm flipH="1" flipV="1">
                <a:off x="6797160" y="938520"/>
                <a:ext cx="333000" cy="33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347240" y="1485360"/>
                <a:ext cx="326160" cy="32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rot="18900000">
                <a:off x="7183800" y="1224000"/>
                <a:ext cx="95760" cy="32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6" name=""/>
            <p:cNvSpPr/>
            <p:nvPr/>
          </p:nvSpPr>
          <p:spPr>
            <a:xfrm>
              <a:off x="6743520" y="2625840"/>
              <a:ext cx="651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775560" y="914400"/>
              <a:ext cx="14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775560" y="2660760"/>
              <a:ext cx="14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V="1">
              <a:off x="6313320" y="990360"/>
              <a:ext cx="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275520" y="11844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195960" y="125568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H="1">
              <a:off x="6312960" y="220968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H="1">
              <a:off x="6237000" y="2133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rot="21584400">
              <a:off x="5712120" y="91404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rot="21584400">
              <a:off x="5940720" y="2285640"/>
              <a:ext cx="524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380880" y="380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.9.4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热电传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533520" y="8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传感器能将温度的变化变换为电动势或电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60948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热电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0" name=""/>
              <p:cNvSpPr txBox="1"/>
              <p:nvPr/>
            </p:nvSpPr>
            <p:spPr>
              <a:xfrm>
                <a:off x="3657600" y="4451400"/>
                <a:ext cx="266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61" name=""/>
          <p:cNvGrpSpPr/>
          <p:nvPr/>
        </p:nvGrpSpPr>
        <p:grpSpPr>
          <a:xfrm>
            <a:off x="1371600" y="2819520"/>
            <a:ext cx="615960" cy="1828800"/>
            <a:chOff x="1371600" y="2819520"/>
            <a:chExt cx="615960" cy="1828800"/>
          </a:xfrm>
        </p:grpSpPr>
        <p:sp>
          <p:nvSpPr>
            <p:cNvPr id="4462" name=""/>
            <p:cNvSpPr/>
            <p:nvPr/>
          </p:nvSpPr>
          <p:spPr>
            <a:xfrm>
              <a:off x="1414440" y="3048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1414440" y="4038480"/>
              <a:ext cx="304920" cy="533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V="1">
              <a:off x="1795320" y="403848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V="1">
              <a:off x="1947960" y="30477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371600" y="297180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11240" y="29764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719360" y="457200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490760" y="3886200"/>
              <a:ext cx="380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1600200" y="2819520"/>
              <a:ext cx="380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1" name=""/>
          <p:cNvSpPr/>
          <p:nvPr/>
        </p:nvSpPr>
        <p:spPr>
          <a:xfrm>
            <a:off x="533520" y="49528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热电偶冷端的温度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持恒定，则热电动势只与热端的温度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2514600" y="266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偶由两根不同的金属丝或合金丝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33520" y="5791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偶温度计常用来测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~1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温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2514600" y="3537000"/>
            <a:ext cx="5943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在两根金属丝相联的一端加热，则产生热电动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22720" y="2209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偶将温度的变化转换为电动势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"/>
          <p:cNvSpPr/>
          <p:nvPr/>
        </p:nvSpPr>
        <p:spPr>
          <a:xfrm>
            <a:off x="533520" y="380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热电偶应用于炉温控制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7" name=""/>
          <p:cNvGrpSpPr/>
          <p:nvPr/>
        </p:nvGrpSpPr>
        <p:grpSpPr>
          <a:xfrm>
            <a:off x="685800" y="952560"/>
            <a:ext cx="7657200" cy="5189400"/>
            <a:chOff x="685800" y="952560"/>
            <a:chExt cx="7657200" cy="5189400"/>
          </a:xfrm>
        </p:grpSpPr>
        <p:grpSp>
          <p:nvGrpSpPr>
            <p:cNvPr id="4478" name=""/>
            <p:cNvGrpSpPr/>
            <p:nvPr/>
          </p:nvGrpSpPr>
          <p:grpSpPr>
            <a:xfrm>
              <a:off x="5322960" y="3252960"/>
              <a:ext cx="954000" cy="976320"/>
              <a:chOff x="5322960" y="3252960"/>
              <a:chExt cx="954000" cy="976320"/>
            </a:xfrm>
          </p:grpSpPr>
          <p:sp>
            <p:nvSpPr>
              <p:cNvPr id="4479" name=""/>
              <p:cNvSpPr/>
              <p:nvPr/>
            </p:nvSpPr>
            <p:spPr>
              <a:xfrm>
                <a:off x="5437080" y="3309840"/>
                <a:ext cx="781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218280" y="3309840"/>
                <a:ext cx="144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H="1">
                <a:off x="5437080" y="4172040"/>
                <a:ext cx="781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218280" y="3892680"/>
                <a:ext cx="58680" cy="125280"/>
              </a:xfrm>
              <a:custGeom>
                <a:avLst/>
                <a:gdLst/>
                <a:ahLst/>
                <a:rect l="l" t="t" r="r" b="b"/>
                <a:pathLst>
                  <a:path w="37" h="77">
                    <a:moveTo>
                      <a:pt x="0" y="77"/>
                    </a:moveTo>
                    <a:lnTo>
                      <a:pt x="26" y="66"/>
                    </a:lnTo>
                    <a:lnTo>
                      <a:pt x="37" y="38"/>
                    </a:lnTo>
                    <a:lnTo>
                      <a:pt x="26" y="1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18280" y="3765600"/>
                <a:ext cx="58680" cy="127080"/>
              </a:xfrm>
              <a:custGeom>
                <a:avLst/>
                <a:gdLst/>
                <a:ahLst/>
                <a:rect l="l" t="t" r="r" b="b"/>
                <a:pathLst>
                  <a:path w="37" h="78">
                    <a:moveTo>
                      <a:pt x="0" y="78"/>
                    </a:moveTo>
                    <a:lnTo>
                      <a:pt x="26" y="65"/>
                    </a:lnTo>
                    <a:lnTo>
                      <a:pt x="37" y="39"/>
                    </a:lnTo>
                    <a:lnTo>
                      <a:pt x="26" y="1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18280" y="363996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37" h="77">
                    <a:moveTo>
                      <a:pt x="0" y="77"/>
                    </a:moveTo>
                    <a:lnTo>
                      <a:pt x="26" y="66"/>
                    </a:lnTo>
                    <a:lnTo>
                      <a:pt x="37" y="40"/>
                    </a:lnTo>
                    <a:lnTo>
                      <a:pt x="26" y="12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218280" y="3516480"/>
                <a:ext cx="58680" cy="123480"/>
              </a:xfrm>
              <a:custGeom>
                <a:avLst/>
                <a:gdLst/>
                <a:ahLst/>
                <a:rect l="l" t="t" r="r" b="b"/>
                <a:pathLst>
                  <a:path w="37" h="76">
                    <a:moveTo>
                      <a:pt x="0" y="76"/>
                    </a:moveTo>
                    <a:lnTo>
                      <a:pt x="26" y="65"/>
                    </a:lnTo>
                    <a:lnTo>
                      <a:pt x="37" y="39"/>
                    </a:lnTo>
                    <a:lnTo>
                      <a:pt x="26" y="1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218280" y="4017960"/>
                <a:ext cx="1440" cy="15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322960" y="411336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71" y="36"/>
                    </a:moveTo>
                    <a:lnTo>
                      <a:pt x="60" y="10"/>
                    </a:lnTo>
                    <a:lnTo>
                      <a:pt x="36" y="0"/>
                    </a:lnTo>
                    <a:lnTo>
                      <a:pt x="11" y="10"/>
                    </a:lnTo>
                    <a:lnTo>
                      <a:pt x="0" y="36"/>
                    </a:lnTo>
                    <a:lnTo>
                      <a:pt x="11" y="60"/>
                    </a:lnTo>
                    <a:lnTo>
                      <a:pt x="36" y="71"/>
                    </a:lnTo>
                    <a:lnTo>
                      <a:pt x="60" y="60"/>
                    </a:lnTo>
                    <a:lnTo>
                      <a:pt x="71" y="3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322960" y="3252960"/>
                <a:ext cx="114120" cy="11556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71" y="35"/>
                    </a:moveTo>
                    <a:lnTo>
                      <a:pt x="60" y="11"/>
                    </a:lnTo>
                    <a:lnTo>
                      <a:pt x="36" y="0"/>
                    </a:lnTo>
                    <a:lnTo>
                      <a:pt x="11" y="11"/>
                    </a:lnTo>
                    <a:lnTo>
                      <a:pt x="0" y="35"/>
                    </a:lnTo>
                    <a:lnTo>
                      <a:pt x="11" y="61"/>
                    </a:lnTo>
                    <a:lnTo>
                      <a:pt x="36" y="71"/>
                    </a:lnTo>
                    <a:lnTo>
                      <a:pt x="60" y="61"/>
                    </a:lnTo>
                    <a:lnTo>
                      <a:pt x="71" y="3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9" name=""/>
            <p:cNvGrpSpPr/>
            <p:nvPr/>
          </p:nvGrpSpPr>
          <p:grpSpPr>
            <a:xfrm>
              <a:off x="6905520" y="4162320"/>
              <a:ext cx="1437480" cy="1244880"/>
              <a:chOff x="6905520" y="4162320"/>
              <a:chExt cx="1437480" cy="1244880"/>
            </a:xfrm>
          </p:grpSpPr>
          <p:sp>
            <p:nvSpPr>
              <p:cNvPr id="4490" name=""/>
              <p:cNvSpPr/>
              <p:nvPr/>
            </p:nvSpPr>
            <p:spPr>
              <a:xfrm flipH="1">
                <a:off x="6978240" y="4224240"/>
                <a:ext cx="8701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978600" y="4224240"/>
                <a:ext cx="1800" cy="2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905520" y="5060880"/>
                <a:ext cx="73080" cy="14292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45" y="0"/>
                    </a:moveTo>
                    <a:lnTo>
                      <a:pt x="13" y="13"/>
                    </a:lnTo>
                    <a:lnTo>
                      <a:pt x="0" y="43"/>
                    </a:lnTo>
                    <a:lnTo>
                      <a:pt x="13" y="75"/>
                    </a:lnTo>
                    <a:lnTo>
                      <a:pt x="45" y="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905520" y="4919760"/>
                <a:ext cx="73080" cy="14112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5" y="0"/>
                    </a:moveTo>
                    <a:lnTo>
                      <a:pt x="13" y="13"/>
                    </a:lnTo>
                    <a:lnTo>
                      <a:pt x="0" y="43"/>
                    </a:lnTo>
                    <a:lnTo>
                      <a:pt x="13" y="74"/>
                    </a:lnTo>
                    <a:lnTo>
                      <a:pt x="45" y="8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905520" y="4775040"/>
                <a:ext cx="73080" cy="14472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45" y="0"/>
                    </a:moveTo>
                    <a:lnTo>
                      <a:pt x="13" y="13"/>
                    </a:lnTo>
                    <a:lnTo>
                      <a:pt x="0" y="43"/>
                    </a:lnTo>
                    <a:lnTo>
                      <a:pt x="13" y="75"/>
                    </a:lnTo>
                    <a:lnTo>
                      <a:pt x="45" y="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905520" y="4632480"/>
                <a:ext cx="73080" cy="14256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45" y="0"/>
                    </a:moveTo>
                    <a:lnTo>
                      <a:pt x="13" y="13"/>
                    </a:lnTo>
                    <a:lnTo>
                      <a:pt x="0" y="43"/>
                    </a:lnTo>
                    <a:lnTo>
                      <a:pt x="13" y="75"/>
                    </a:lnTo>
                    <a:lnTo>
                      <a:pt x="45" y="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905520" y="4491000"/>
                <a:ext cx="73080" cy="14148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5" y="0"/>
                    </a:moveTo>
                    <a:lnTo>
                      <a:pt x="13" y="11"/>
                    </a:lnTo>
                    <a:lnTo>
                      <a:pt x="0" y="43"/>
                    </a:lnTo>
                    <a:lnTo>
                      <a:pt x="13" y="74"/>
                    </a:lnTo>
                    <a:lnTo>
                      <a:pt x="45" y="8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978600" y="5203800"/>
                <a:ext cx="18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409520" y="4572000"/>
                <a:ext cx="933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～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2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797960" y="5291280"/>
                <a:ext cx="112680" cy="1159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5"/>
                    </a:moveTo>
                    <a:lnTo>
                      <a:pt x="61" y="9"/>
                    </a:lnTo>
                    <a:lnTo>
                      <a:pt x="35" y="0"/>
                    </a:lnTo>
                    <a:lnTo>
                      <a:pt x="11" y="9"/>
                    </a:lnTo>
                    <a:lnTo>
                      <a:pt x="0" y="35"/>
                    </a:lnTo>
                    <a:lnTo>
                      <a:pt x="11" y="60"/>
                    </a:lnTo>
                    <a:lnTo>
                      <a:pt x="35" y="71"/>
                    </a:lnTo>
                    <a:lnTo>
                      <a:pt x="61" y="60"/>
                    </a:lnTo>
                    <a:lnTo>
                      <a:pt x="70" y="3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848720" y="4162320"/>
                <a:ext cx="114120" cy="11916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38"/>
                    </a:moveTo>
                    <a:lnTo>
                      <a:pt x="60" y="11"/>
                    </a:lnTo>
                    <a:lnTo>
                      <a:pt x="36" y="0"/>
                    </a:lnTo>
                    <a:lnTo>
                      <a:pt x="11" y="11"/>
                    </a:lnTo>
                    <a:lnTo>
                      <a:pt x="0" y="38"/>
                    </a:lnTo>
                    <a:lnTo>
                      <a:pt x="11" y="62"/>
                    </a:lnTo>
                    <a:lnTo>
                      <a:pt x="36" y="73"/>
                    </a:lnTo>
                    <a:lnTo>
                      <a:pt x="60" y="62"/>
                    </a:lnTo>
                    <a:lnTo>
                      <a:pt x="71" y="3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1" name=""/>
            <p:cNvGrpSpPr/>
            <p:nvPr/>
          </p:nvGrpSpPr>
          <p:grpSpPr>
            <a:xfrm>
              <a:off x="6862320" y="2141640"/>
              <a:ext cx="910080" cy="595080"/>
              <a:chOff x="6862320" y="2141640"/>
              <a:chExt cx="910080" cy="595080"/>
            </a:xfrm>
          </p:grpSpPr>
          <p:sp>
            <p:nvSpPr>
              <p:cNvPr id="4502" name=""/>
              <p:cNvSpPr/>
              <p:nvPr/>
            </p:nvSpPr>
            <p:spPr>
              <a:xfrm>
                <a:off x="6862680" y="2141640"/>
                <a:ext cx="909720" cy="595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862680" y="2141640"/>
                <a:ext cx="909720" cy="59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>
                <a:off x="6862320" y="2141640"/>
                <a:ext cx="909720" cy="59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5" name=""/>
            <p:cNvGrpSpPr/>
            <p:nvPr/>
          </p:nvGrpSpPr>
          <p:grpSpPr>
            <a:xfrm>
              <a:off x="1158840" y="4632480"/>
              <a:ext cx="2300400" cy="309240"/>
              <a:chOff x="1158840" y="4632480"/>
              <a:chExt cx="2300400" cy="309240"/>
            </a:xfrm>
          </p:grpSpPr>
          <p:sp>
            <p:nvSpPr>
              <p:cNvPr id="4506" name=""/>
              <p:cNvSpPr/>
              <p:nvPr/>
            </p:nvSpPr>
            <p:spPr>
              <a:xfrm flipH="1">
                <a:off x="1158840" y="4940280"/>
                <a:ext cx="2300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1158840" y="4701960"/>
                <a:ext cx="1800" cy="23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158840" y="4702320"/>
                <a:ext cx="1843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43160" y="4632480"/>
                <a:ext cx="379440" cy="142560"/>
              </a:xfrm>
              <a:custGeom>
                <a:avLst/>
                <a:gdLst/>
                <a:ahLst/>
                <a:rect l="l" t="t" r="r" b="b"/>
                <a:pathLst>
                  <a:path w="235" h="88">
                    <a:moveTo>
                      <a:pt x="0" y="43"/>
                    </a:moveTo>
                    <a:lnTo>
                      <a:pt x="4" y="10"/>
                    </a:lnTo>
                    <a:lnTo>
                      <a:pt x="15" y="2"/>
                    </a:lnTo>
                    <a:lnTo>
                      <a:pt x="32" y="4"/>
                    </a:lnTo>
                    <a:lnTo>
                      <a:pt x="48" y="30"/>
                    </a:lnTo>
                    <a:lnTo>
                      <a:pt x="54" y="64"/>
                    </a:lnTo>
                    <a:lnTo>
                      <a:pt x="63" y="81"/>
                    </a:lnTo>
                    <a:lnTo>
                      <a:pt x="74" y="86"/>
                    </a:lnTo>
                    <a:lnTo>
                      <a:pt x="93" y="58"/>
                    </a:lnTo>
                    <a:lnTo>
                      <a:pt x="97" y="26"/>
                    </a:lnTo>
                    <a:lnTo>
                      <a:pt x="102" y="10"/>
                    </a:lnTo>
                    <a:lnTo>
                      <a:pt x="114" y="0"/>
                    </a:lnTo>
                    <a:lnTo>
                      <a:pt x="128" y="4"/>
                    </a:lnTo>
                    <a:lnTo>
                      <a:pt x="138" y="19"/>
                    </a:lnTo>
                    <a:lnTo>
                      <a:pt x="145" y="51"/>
                    </a:lnTo>
                    <a:lnTo>
                      <a:pt x="153" y="82"/>
                    </a:lnTo>
                    <a:lnTo>
                      <a:pt x="168" y="88"/>
                    </a:lnTo>
                    <a:lnTo>
                      <a:pt x="183" y="81"/>
                    </a:lnTo>
                    <a:lnTo>
                      <a:pt x="197" y="17"/>
                    </a:lnTo>
                    <a:lnTo>
                      <a:pt x="209" y="4"/>
                    </a:lnTo>
                    <a:lnTo>
                      <a:pt x="220" y="12"/>
                    </a:lnTo>
                    <a:lnTo>
                      <a:pt x="235" y="43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1285560" y="952560"/>
              <a:ext cx="7020360" cy="5189400"/>
              <a:chOff x="1285560" y="952560"/>
              <a:chExt cx="7020360" cy="5189400"/>
            </a:xfrm>
          </p:grpSpPr>
          <p:sp>
            <p:nvSpPr>
              <p:cNvPr id="4511" name=""/>
              <p:cNvSpPr/>
              <p:nvPr/>
            </p:nvSpPr>
            <p:spPr>
              <a:xfrm>
                <a:off x="2895480" y="5715000"/>
                <a:ext cx="3429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电炉炉温控制系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>
                <a:off x="3459240" y="5348160"/>
                <a:ext cx="43387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3459240" y="4939920"/>
                <a:ext cx="1440" cy="40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019400" y="2060640"/>
                <a:ext cx="1122480" cy="758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2611440" y="1816200"/>
                <a:ext cx="361800" cy="110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499080" y="2440080"/>
                <a:ext cx="397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2790720" y="1927080"/>
                <a:ext cx="1800" cy="27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2790720" y="2205000"/>
                <a:ext cx="12286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H="1">
                <a:off x="1808280" y="2697120"/>
                <a:ext cx="22111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808280" y="2697120"/>
                <a:ext cx="1440" cy="121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H="1">
                <a:off x="1547640" y="3875040"/>
                <a:ext cx="260640" cy="45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1285560" y="3874680"/>
                <a:ext cx="261720" cy="459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V="1">
                <a:off x="1285920" y="1871280"/>
                <a:ext cx="1440" cy="204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285920" y="1871640"/>
                <a:ext cx="1290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2081160" y="1477800"/>
                <a:ext cx="180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2081160" y="1477800"/>
                <a:ext cx="568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3438360" y="1477800"/>
                <a:ext cx="180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flipH="1">
                <a:off x="2973240" y="1871640"/>
                <a:ext cx="465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5141880" y="2225520"/>
                <a:ext cx="214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356080" y="1784160"/>
                <a:ext cx="1800" cy="44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5356080" y="1784520"/>
                <a:ext cx="870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226200" y="1784520"/>
                <a:ext cx="1440" cy="3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226200" y="2716200"/>
                <a:ext cx="1440" cy="43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H="1">
                <a:off x="5355720" y="3146400"/>
                <a:ext cx="870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356080" y="2664000"/>
                <a:ext cx="1800" cy="48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>
                <a:off x="5141520" y="2664000"/>
                <a:ext cx="2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707160" y="4670280"/>
                <a:ext cx="198360" cy="66960"/>
              </a:xfrm>
              <a:custGeom>
                <a:avLst/>
                <a:gdLst/>
                <a:ahLst/>
                <a:rect l="l" t="t" r="r" b="b"/>
                <a:pathLst>
                  <a:path w="123" h="41">
                    <a:moveTo>
                      <a:pt x="0" y="0"/>
                    </a:moveTo>
                    <a:lnTo>
                      <a:pt x="123" y="20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707160" y="4670280"/>
                <a:ext cx="198360" cy="66960"/>
              </a:xfrm>
              <a:custGeom>
                <a:avLst/>
                <a:gdLst/>
                <a:ahLst/>
                <a:rect l="l" t="t" r="r" b="b"/>
                <a:pathLst>
                  <a:path w="123" h="41">
                    <a:moveTo>
                      <a:pt x="0" y="0"/>
                    </a:moveTo>
                    <a:lnTo>
                      <a:pt x="123" y="20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952880" y="3521160"/>
                <a:ext cx="4572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5029200" y="3124080"/>
                <a:ext cx="345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5029200" y="3962520"/>
                <a:ext cx="303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5318280" y="1981080"/>
                <a:ext cx="396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5370480" y="2514600"/>
                <a:ext cx="318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5334120" y="2286000"/>
                <a:ext cx="291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019560" y="2316240"/>
                <a:ext cx="34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3664080" y="1905120"/>
                <a:ext cx="45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3740040" y="2606760"/>
                <a:ext cx="298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847960" y="1143000"/>
                <a:ext cx="27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565360" y="1905120"/>
                <a:ext cx="40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676520" y="2362320"/>
                <a:ext cx="330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25680" y="1158840"/>
                <a:ext cx="241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027160" y="1905120"/>
                <a:ext cx="33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676520" y="1768320"/>
                <a:ext cx="384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3389400" y="2286000"/>
                <a:ext cx="45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271600" y="1905120"/>
                <a:ext cx="3952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555920" y="2057400"/>
                <a:ext cx="425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514600" y="952560"/>
                <a:ext cx="379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>
                <a:off x="6319800" y="4702320"/>
                <a:ext cx="387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068880" y="2590920"/>
                <a:ext cx="301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639880" y="1371600"/>
                <a:ext cx="20880" cy="10620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0"/>
                    </a:moveTo>
                    <a:lnTo>
                      <a:pt x="0" y="0"/>
                    </a:lnTo>
                    <a:lnTo>
                      <a:pt x="13" y="6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639880" y="1371600"/>
                <a:ext cx="20880" cy="10620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0" y="0"/>
                    </a:moveTo>
                    <a:lnTo>
                      <a:pt x="13" y="66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639880" y="1371600"/>
                <a:ext cx="20880" cy="106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639880" y="1477800"/>
                <a:ext cx="20880" cy="106560"/>
              </a:xfrm>
              <a:custGeom>
                <a:avLst/>
                <a:gdLst/>
                <a:ahLst/>
                <a:rect l="l" t="t" r="r" b="b"/>
                <a:pathLst>
                  <a:path w="13" h="65">
                    <a:moveTo>
                      <a:pt x="0" y="65"/>
                    </a:moveTo>
                    <a:lnTo>
                      <a:pt x="13" y="65"/>
                    </a:lnTo>
                    <a:lnTo>
                      <a:pt x="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639880" y="1477800"/>
                <a:ext cx="20880" cy="106560"/>
              </a:xfrm>
              <a:custGeom>
                <a:avLst/>
                <a:gdLst/>
                <a:ahLst/>
                <a:rect l="l" t="t" r="r" b="b"/>
                <a:pathLst>
                  <a:path w="13" h="65">
                    <a:moveTo>
                      <a:pt x="13" y="65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65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639880" y="1477800"/>
                <a:ext cx="20880" cy="106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730600" y="1477800"/>
                <a:ext cx="707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757600" y="1927080"/>
                <a:ext cx="66600" cy="20340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125"/>
                    </a:moveTo>
                    <a:lnTo>
                      <a:pt x="21" y="0"/>
                    </a:lnTo>
                    <a:lnTo>
                      <a:pt x="41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757600" y="1927080"/>
                <a:ext cx="66600" cy="20340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125"/>
                    </a:moveTo>
                    <a:lnTo>
                      <a:pt x="21" y="0"/>
                    </a:lnTo>
                    <a:lnTo>
                      <a:pt x="41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081160" y="184320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081160" y="184320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25" y="18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081160" y="1833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6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081160" y="1833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6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9" y="6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055960" y="18334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6"/>
                    </a:lnTo>
                    <a:lnTo>
                      <a:pt x="16" y="2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055960" y="18334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6"/>
                    </a:lnTo>
                    <a:lnTo>
                      <a:pt x="16" y="2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041560" y="184320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8" y="0"/>
                    </a:moveTo>
                    <a:lnTo>
                      <a:pt x="0" y="18"/>
                    </a:lnTo>
                    <a:lnTo>
                      <a:pt x="24" y="1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041560" y="184320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8" y="0"/>
                    </a:moveTo>
                    <a:lnTo>
                      <a:pt x="0" y="18"/>
                    </a:lnTo>
                    <a:lnTo>
                      <a:pt x="24" y="1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041560" y="18716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8" y="17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041560" y="18716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8" y="17"/>
                    </a:lnTo>
                    <a:lnTo>
                      <a:pt x="2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055960" y="187164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17"/>
                    </a:moveTo>
                    <a:lnTo>
                      <a:pt x="16" y="24"/>
                    </a:lnTo>
                    <a:lnTo>
                      <a:pt x="1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055960" y="187164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17"/>
                    </a:moveTo>
                    <a:lnTo>
                      <a:pt x="16" y="24"/>
                    </a:lnTo>
                    <a:lnTo>
                      <a:pt x="16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081160" y="187164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24"/>
                    </a:moveTo>
                    <a:lnTo>
                      <a:pt x="19" y="17"/>
                    </a:lnTo>
                    <a:lnTo>
                      <a:pt x="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081160" y="187164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24"/>
                    </a:moveTo>
                    <a:lnTo>
                      <a:pt x="19" y="17"/>
                    </a:lnTo>
                    <a:lnTo>
                      <a:pt x="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081160" y="18716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9" y="17"/>
                    </a:moveTo>
                    <a:lnTo>
                      <a:pt x="25" y="0"/>
                    </a:lnTo>
                    <a:lnTo>
                      <a:pt x="0" y="0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5105520" y="1057320"/>
                <a:ext cx="13716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直流伺服电动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121520" y="167652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减速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302000" y="228600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放大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01800" y="350532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热电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871360" y="415440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加热电阻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197480" y="374976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调压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081160" y="18716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9" y="17"/>
                    </a:moveTo>
                    <a:lnTo>
                      <a:pt x="25" y="0"/>
                    </a:lnTo>
                    <a:lnTo>
                      <a:pt x="0" y="0"/>
                    </a:lnTo>
                    <a:lnTo>
                      <a:pt x="19" y="17"/>
                    </a:lnTo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1733400" y="4118040"/>
                <a:ext cx="247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宋体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805880" y="2440080"/>
                <a:ext cx="5000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H="1">
                <a:off x="5983200" y="2440080"/>
                <a:ext cx="2322720" cy="226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1754280" y="3710160"/>
                <a:ext cx="763560" cy="25848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722600" y="4702320"/>
                <a:ext cx="5182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527120" y="4304880"/>
                <a:ext cx="1001880" cy="32724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7" name=""/>
            <p:cNvGrpSpPr/>
            <p:nvPr/>
          </p:nvGrpSpPr>
          <p:grpSpPr>
            <a:xfrm>
              <a:off x="685800" y="3189240"/>
              <a:ext cx="1681200" cy="2220840"/>
              <a:chOff x="685800" y="3189240"/>
              <a:chExt cx="1681200" cy="2220840"/>
            </a:xfrm>
          </p:grpSpPr>
          <p:grpSp>
            <p:nvGrpSpPr>
              <p:cNvPr id="4598" name=""/>
              <p:cNvGrpSpPr/>
              <p:nvPr/>
            </p:nvGrpSpPr>
            <p:grpSpPr>
              <a:xfrm>
                <a:off x="685800" y="3189240"/>
                <a:ext cx="1681200" cy="2220840"/>
                <a:chOff x="685800" y="3189240"/>
                <a:chExt cx="1681200" cy="2220840"/>
              </a:xfrm>
            </p:grpSpPr>
            <p:sp>
              <p:nvSpPr>
                <p:cNvPr id="4599" name=""/>
                <p:cNvSpPr/>
                <p:nvPr/>
              </p:nvSpPr>
              <p:spPr>
                <a:xfrm>
                  <a:off x="968400" y="3443400"/>
                  <a:ext cx="1135080" cy="169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0" name=""/>
                <p:cNvGrpSpPr/>
                <p:nvPr/>
              </p:nvGrpSpPr>
              <p:grpSpPr>
                <a:xfrm>
                  <a:off x="685800" y="3189240"/>
                  <a:ext cx="1681200" cy="2220840"/>
                  <a:chOff x="685800" y="3189240"/>
                  <a:chExt cx="1681200" cy="2220840"/>
                </a:xfrm>
              </p:grpSpPr>
              <p:sp>
                <p:nvSpPr>
                  <p:cNvPr id="4601" name=""/>
                  <p:cNvSpPr/>
                  <p:nvPr/>
                </p:nvSpPr>
                <p:spPr>
                  <a:xfrm flipV="1">
                    <a:off x="2093760" y="3189240"/>
                    <a:ext cx="252720" cy="25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685800" y="3189240"/>
                    <a:ext cx="1681200" cy="2220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 flipV="1">
                    <a:off x="685800" y="3189240"/>
                    <a:ext cx="46080" cy="47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 flipV="1">
                    <a:off x="685800" y="3189240"/>
                    <a:ext cx="227160" cy="23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 flipV="1">
                    <a:off x="685800" y="3189240"/>
                    <a:ext cx="404640" cy="409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 flipV="1">
                    <a:off x="685800" y="3495600"/>
                    <a:ext cx="282600" cy="284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 flipV="1">
                    <a:off x="1017720" y="3189240"/>
                    <a:ext cx="252360" cy="25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 flipV="1">
                    <a:off x="685800" y="3675240"/>
                    <a:ext cx="28260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1195560" y="3189240"/>
                    <a:ext cx="2552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156">
                        <a:moveTo>
                          <a:pt x="159" y="0"/>
                        </a:moveTo>
                        <a:lnTo>
                          <a:pt x="56" y="102"/>
                        </a:lnTo>
                        <a:lnTo>
                          <a:pt x="0" y="156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 flipV="1">
                    <a:off x="685800" y="3855600"/>
                    <a:ext cx="282600" cy="289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 flipV="1">
                    <a:off x="1374840" y="3189240"/>
                    <a:ext cx="253800" cy="25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 flipV="1">
                    <a:off x="685800" y="4038480"/>
                    <a:ext cx="282600" cy="285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 flipV="1">
                    <a:off x="1555920" y="3189240"/>
                    <a:ext cx="252360" cy="25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 flipV="1">
                    <a:off x="685800" y="4218120"/>
                    <a:ext cx="28260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"/>
                  <p:cNvSpPr/>
                  <p:nvPr/>
                </p:nvSpPr>
                <p:spPr>
                  <a:xfrm>
                    <a:off x="1733400" y="3189240"/>
                    <a:ext cx="25560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156">
                        <a:moveTo>
                          <a:pt x="159" y="0"/>
                        </a:moveTo>
                        <a:lnTo>
                          <a:pt x="47" y="110"/>
                        </a:lnTo>
                        <a:lnTo>
                          <a:pt x="0" y="156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 flipV="1">
                    <a:off x="685800" y="4400640"/>
                    <a:ext cx="28260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 flipV="1">
                    <a:off x="1913040" y="3189240"/>
                    <a:ext cx="253800" cy="25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 flipV="1">
                    <a:off x="685800" y="4581000"/>
                    <a:ext cx="282600" cy="289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"/>
                  <p:cNvSpPr/>
                  <p:nvPr/>
                </p:nvSpPr>
                <p:spPr>
                  <a:xfrm flipV="1">
                    <a:off x="685800" y="4763880"/>
                    <a:ext cx="282600" cy="28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"/>
                  <p:cNvSpPr/>
                  <p:nvPr/>
                </p:nvSpPr>
                <p:spPr>
                  <a:xfrm flipV="1">
                    <a:off x="2103480" y="3349800"/>
                    <a:ext cx="263520" cy="264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 flipV="1">
                    <a:off x="685800" y="4943520"/>
                    <a:ext cx="28260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 flipV="1">
                    <a:off x="2103480" y="3527280"/>
                    <a:ext cx="263520" cy="27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 flipV="1">
                    <a:off x="685800" y="5124240"/>
                    <a:ext cx="282600" cy="28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>
                    <a:off x="2103480" y="3710160"/>
                    <a:ext cx="263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64">
                        <a:moveTo>
                          <a:pt x="164" y="0"/>
                        </a:moveTo>
                        <a:lnTo>
                          <a:pt x="117" y="47"/>
                        </a:lnTo>
                        <a:lnTo>
                          <a:pt x="0" y="164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 flipV="1">
                    <a:off x="865080" y="5133600"/>
                    <a:ext cx="27324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 flipV="1">
                    <a:off x="2103480" y="3892680"/>
                    <a:ext cx="263520" cy="266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 flipV="1">
                    <a:off x="1044720" y="5133600"/>
                    <a:ext cx="27432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 flipV="1">
                    <a:off x="2103480" y="4071600"/>
                    <a:ext cx="263520" cy="266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 flipV="1">
                    <a:off x="1222200" y="5133600"/>
                    <a:ext cx="27324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2103480" y="4253040"/>
                    <a:ext cx="26352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64">
                        <a:moveTo>
                          <a:pt x="164" y="0"/>
                        </a:moveTo>
                        <a:lnTo>
                          <a:pt x="70" y="93"/>
                        </a:lnTo>
                        <a:lnTo>
                          <a:pt x="0" y="164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 flipV="1">
                    <a:off x="1403280" y="5133600"/>
                    <a:ext cx="27324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 flipV="1">
                    <a:off x="2103480" y="4435200"/>
                    <a:ext cx="263520" cy="266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 flipV="1">
                    <a:off x="1579680" y="5133600"/>
                    <a:ext cx="27756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2103480" y="4618080"/>
                    <a:ext cx="2635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62">
                        <a:moveTo>
                          <a:pt x="164" y="0"/>
                        </a:moveTo>
                        <a:lnTo>
                          <a:pt x="110" y="52"/>
                        </a:lnTo>
                        <a:lnTo>
                          <a:pt x="0" y="162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 flipV="1">
                    <a:off x="1760400" y="5133600"/>
                    <a:ext cx="273240" cy="276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>
                    <a:off x="2103480" y="4797360"/>
                    <a:ext cx="26352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64">
                        <a:moveTo>
                          <a:pt x="164" y="0"/>
                        </a:moveTo>
                        <a:lnTo>
                          <a:pt x="76" y="88"/>
                        </a:lnTo>
                        <a:lnTo>
                          <a:pt x="0" y="164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 flipV="1">
                    <a:off x="1941480" y="4978080"/>
                    <a:ext cx="42552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 flipV="1">
                    <a:off x="2117880" y="5160960"/>
                    <a:ext cx="249120" cy="249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9" name=""/>
              <p:cNvSpPr/>
              <p:nvPr/>
            </p:nvSpPr>
            <p:spPr>
              <a:xfrm flipV="1">
                <a:off x="2298600" y="5340240"/>
                <a:ext cx="6840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0" name=""/>
            <p:cNvSpPr/>
            <p:nvPr/>
          </p:nvSpPr>
          <p:spPr>
            <a:xfrm>
              <a:off x="5943600" y="2193840"/>
              <a:ext cx="533520" cy="540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743200" y="1295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2" name=""/>
          <p:cNvSpPr/>
          <p:nvPr/>
        </p:nvSpPr>
        <p:spPr>
          <a:xfrm>
            <a:off x="304920" y="990720"/>
            <a:ext cx="1600200" cy="761760"/>
          </a:xfrm>
          <a:prstGeom prst="wedgeRoundRectCallout">
            <a:avLst>
              <a:gd name="adj1" fmla="val 32935"/>
              <a:gd name="adj2" fmla="val 95416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热电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输出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1828800" y="2666880"/>
            <a:ext cx="1600200" cy="457200"/>
          </a:xfrm>
          <a:prstGeom prst="wedgeRoundRectCallout">
            <a:avLst>
              <a:gd name="adj1" fmla="val -9625"/>
              <a:gd name="adj2" fmla="val -146527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参考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429000" y="3048120"/>
            <a:ext cx="1600200" cy="457200"/>
          </a:xfrm>
          <a:prstGeom prst="wedgeRoundRectCallout">
            <a:avLst>
              <a:gd name="adj1" fmla="val -26189"/>
              <a:gd name="adj2" fmla="val -157986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差值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4267080" y="4191120"/>
            <a:ext cx="1600200" cy="457200"/>
          </a:xfrm>
          <a:prstGeom prst="wedgeRoundRectCallout">
            <a:avLst>
              <a:gd name="adj1" fmla="val 6449"/>
              <a:gd name="adj2" fmla="val -118055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励磁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3657600" y="1371600"/>
            <a:ext cx="1600200" cy="457200"/>
          </a:xfrm>
          <a:prstGeom prst="wedgeRoundRectCallout">
            <a:avLst>
              <a:gd name="adj1" fmla="val 55851"/>
              <a:gd name="adj2" fmla="val 178472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枢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685800" y="8380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偶用来测量炉温，输出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比于炉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60948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685800" y="23302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炉温为给定值时，电路平衡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差值电压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动机不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533520" y="3352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炉温高于给定值时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差值电压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685800" y="1371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电路是电位计电路，基准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炉温的给定值相对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685800" y="3809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放大后其输出的电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在直流伺服电动机的电枢两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685800" y="472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动机通过减速器带动调压器手柄，改变调压器的输出电压，使加热电流减小，炉温下降。使电路重新平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炉温保持给定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53352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热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990720" y="2224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属电阻丝的电阻随温度变化的关系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4952880" y="3274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金属丝电阻在工作温度范围内的电阻温度系数的平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990720" y="762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电阻传感器将温度的变化转换为电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609480" y="1295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温度计中的热电阻传感器是绕在云母、石英或塑料骨架上的金属电阻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838080" y="3581280"/>
            <a:ext cx="1752840" cy="838440"/>
          </a:xfrm>
          <a:prstGeom prst="wedgeRoundRectCallout">
            <a:avLst>
              <a:gd name="adj1" fmla="val 32972"/>
              <a:gd name="adj2" fmla="val -101513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阻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2057400" y="274320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 1 +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A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Bt</a:t>
            </a:r>
            <a:r>
              <a:rPr b="1" lang="zh-CN" sz="28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743200" y="3581280"/>
            <a:ext cx="1752480" cy="838440"/>
          </a:xfrm>
          <a:prstGeom prst="wedgeRoundRectCallout">
            <a:avLst>
              <a:gd name="adj1" fmla="val -40310"/>
              <a:gd name="adj2" fmla="val -96023"/>
              <a:gd name="adj3" fmla="val 1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阻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533520" y="4876920"/>
            <a:ext cx="8305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铜丝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铂丝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.98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5.84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57200" y="228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热敏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457200" y="685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敏电阻将温度的变化转换为电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8" name=""/>
          <p:cNvGrpSpPr/>
          <p:nvPr/>
        </p:nvGrpSpPr>
        <p:grpSpPr>
          <a:xfrm>
            <a:off x="990720" y="1905120"/>
            <a:ext cx="3657600" cy="3202920"/>
            <a:chOff x="990720" y="1905120"/>
            <a:chExt cx="3657600" cy="3202920"/>
          </a:xfrm>
        </p:grpSpPr>
        <p:sp>
          <p:nvSpPr>
            <p:cNvPr id="4669" name=""/>
            <p:cNvSpPr/>
            <p:nvPr/>
          </p:nvSpPr>
          <p:spPr>
            <a:xfrm flipV="1">
              <a:off x="1371960" y="221004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295640" y="43434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663920" y="2463840"/>
              <a:ext cx="1765440" cy="1739880"/>
            </a:xfrm>
            <a:custGeom>
              <a:avLst/>
              <a:gdLst/>
              <a:ahLst/>
              <a:rect l="l" t="t" r="r" b="b"/>
              <a:pathLst>
                <a:path w="1112" h="1096">
                  <a:moveTo>
                    <a:pt x="0" y="0"/>
                  </a:moveTo>
                  <a:cubicBezTo>
                    <a:pt x="3" y="43"/>
                    <a:pt x="4" y="85"/>
                    <a:pt x="8" y="128"/>
                  </a:cubicBezTo>
                  <a:cubicBezTo>
                    <a:pt x="13" y="182"/>
                    <a:pt x="31" y="229"/>
                    <a:pt x="48" y="280"/>
                  </a:cubicBezTo>
                  <a:cubicBezTo>
                    <a:pt x="79" y="373"/>
                    <a:pt x="105" y="473"/>
                    <a:pt x="176" y="544"/>
                  </a:cubicBezTo>
                  <a:cubicBezTo>
                    <a:pt x="187" y="576"/>
                    <a:pt x="196" y="589"/>
                    <a:pt x="224" y="608"/>
                  </a:cubicBezTo>
                  <a:cubicBezTo>
                    <a:pt x="260" y="662"/>
                    <a:pt x="314" y="732"/>
                    <a:pt x="368" y="768"/>
                  </a:cubicBezTo>
                  <a:cubicBezTo>
                    <a:pt x="373" y="776"/>
                    <a:pt x="377" y="786"/>
                    <a:pt x="384" y="792"/>
                  </a:cubicBezTo>
                  <a:cubicBezTo>
                    <a:pt x="398" y="805"/>
                    <a:pt x="432" y="824"/>
                    <a:pt x="432" y="824"/>
                  </a:cubicBezTo>
                  <a:cubicBezTo>
                    <a:pt x="454" y="856"/>
                    <a:pt x="486" y="865"/>
                    <a:pt x="520" y="888"/>
                  </a:cubicBezTo>
                  <a:cubicBezTo>
                    <a:pt x="589" y="934"/>
                    <a:pt x="624" y="948"/>
                    <a:pt x="704" y="968"/>
                  </a:cubicBezTo>
                  <a:cubicBezTo>
                    <a:pt x="744" y="978"/>
                    <a:pt x="713" y="972"/>
                    <a:pt x="752" y="992"/>
                  </a:cubicBezTo>
                  <a:cubicBezTo>
                    <a:pt x="772" y="1002"/>
                    <a:pt x="806" y="1005"/>
                    <a:pt x="824" y="1008"/>
                  </a:cubicBezTo>
                  <a:cubicBezTo>
                    <a:pt x="882" y="1037"/>
                    <a:pt x="959" y="1059"/>
                    <a:pt x="1024" y="1072"/>
                  </a:cubicBezTo>
                  <a:cubicBezTo>
                    <a:pt x="1036" y="1074"/>
                    <a:pt x="1112" y="1077"/>
                    <a:pt x="1112" y="109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600560" y="4343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 flipV="1">
              <a:off x="1829160" y="42670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 flipV="1">
              <a:off x="2286360" y="42670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2743560" y="42670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 flipV="1">
              <a:off x="3200760" y="42670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981440" y="4343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514960" y="4343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048120" y="4343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371960" y="38862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71960" y="34290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371960" y="29718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371960" y="25909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990720" y="3733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990720" y="3200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990720" y="274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990720" y="2362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219320" y="19051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810240" y="41911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990720" y="4648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热敏电阻的电阻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温度特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1" name=""/>
          <p:cNvSpPr/>
          <p:nvPr/>
        </p:nvSpPr>
        <p:spPr>
          <a:xfrm>
            <a:off x="1143000" y="5486400"/>
            <a:ext cx="6248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热敏电阻测温范围约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-50~+3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°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温度时采用的也是电桥测量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5181480" y="4648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敏电阻与补偿电阻并联的电桥测量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3" name=""/>
          <p:cNvGrpSpPr/>
          <p:nvPr/>
        </p:nvGrpSpPr>
        <p:grpSpPr>
          <a:xfrm>
            <a:off x="5108400" y="1981080"/>
            <a:ext cx="3120840" cy="2820240"/>
            <a:chOff x="5108400" y="1981080"/>
            <a:chExt cx="3120840" cy="2820240"/>
          </a:xfrm>
        </p:grpSpPr>
        <p:sp>
          <p:nvSpPr>
            <p:cNvPr id="4694" name=""/>
            <p:cNvSpPr/>
            <p:nvPr/>
          </p:nvSpPr>
          <p:spPr>
            <a:xfrm>
              <a:off x="6476400" y="4343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5942520" y="434304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108400" y="1981080"/>
              <a:ext cx="3063240" cy="2464920"/>
              <a:chOff x="5108400" y="1981080"/>
              <a:chExt cx="3063240" cy="2464920"/>
            </a:xfrm>
          </p:grpSpPr>
          <p:sp>
            <p:nvSpPr>
              <p:cNvPr id="4697" name=""/>
              <p:cNvSpPr/>
              <p:nvPr/>
            </p:nvSpPr>
            <p:spPr>
              <a:xfrm rot="30000">
                <a:off x="6690600" y="339984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rot="21584400">
                <a:off x="6802200" y="231552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227720" y="3055680"/>
                <a:ext cx="0" cy="133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5440320" y="3044520"/>
                <a:ext cx="0" cy="13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1" name=""/>
              <p:cNvGrpSpPr/>
              <p:nvPr/>
            </p:nvGrpSpPr>
            <p:grpSpPr>
              <a:xfrm>
                <a:off x="6306840" y="3045600"/>
                <a:ext cx="877680" cy="866520"/>
                <a:chOff x="6306840" y="3045600"/>
                <a:chExt cx="877680" cy="866520"/>
              </a:xfrm>
            </p:grpSpPr>
            <p:sp>
              <p:nvSpPr>
                <p:cNvPr id="4702" name=""/>
                <p:cNvSpPr/>
                <p:nvPr/>
              </p:nvSpPr>
              <p:spPr>
                <a:xfrm flipV="1">
                  <a:off x="6847920" y="3045600"/>
                  <a:ext cx="336600" cy="32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 flipH="1">
                  <a:off x="6306840" y="3589560"/>
                  <a:ext cx="324000" cy="32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 flipH="1" rot="2700000">
                  <a:off x="6681600" y="3314520"/>
                  <a:ext cx="96840" cy="3214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5" name=""/>
              <p:cNvSpPr/>
              <p:nvPr/>
            </p:nvSpPr>
            <p:spPr>
              <a:xfrm>
                <a:off x="7184880" y="3026880"/>
                <a:ext cx="6480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6286320" y="2174400"/>
                <a:ext cx="6480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7" name=""/>
              <p:cNvGrpSpPr/>
              <p:nvPr/>
            </p:nvGrpSpPr>
            <p:grpSpPr>
              <a:xfrm>
                <a:off x="5410080" y="2188800"/>
                <a:ext cx="905760" cy="901080"/>
                <a:chOff x="5410080" y="2188800"/>
                <a:chExt cx="905760" cy="901080"/>
              </a:xfrm>
            </p:grpSpPr>
            <p:sp>
              <p:nvSpPr>
                <p:cNvPr id="4708" name=""/>
                <p:cNvSpPr/>
                <p:nvPr/>
              </p:nvSpPr>
              <p:spPr>
                <a:xfrm>
                  <a:off x="5410080" y="3026520"/>
                  <a:ext cx="6480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 flipV="1">
                  <a:off x="5979600" y="2188800"/>
                  <a:ext cx="336240" cy="32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 flipH="1">
                  <a:off x="5439960" y="2733120"/>
                  <a:ext cx="323280" cy="321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 flipH="1" rot="2700000">
                  <a:off x="5812200" y="2458080"/>
                  <a:ext cx="97920" cy="320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2" name=""/>
              <p:cNvGrpSpPr/>
              <p:nvPr/>
            </p:nvGrpSpPr>
            <p:grpSpPr>
              <a:xfrm>
                <a:off x="5439960" y="3056040"/>
                <a:ext cx="874800" cy="865800"/>
                <a:chOff x="5439960" y="3056040"/>
                <a:chExt cx="874800" cy="865800"/>
              </a:xfrm>
            </p:grpSpPr>
            <p:sp>
              <p:nvSpPr>
                <p:cNvPr id="4713" name=""/>
                <p:cNvSpPr/>
                <p:nvPr/>
              </p:nvSpPr>
              <p:spPr>
                <a:xfrm flipH="1" flipV="1">
                  <a:off x="5439960" y="3056040"/>
                  <a:ext cx="332280" cy="33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5988960" y="3602160"/>
                  <a:ext cx="325800" cy="31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H="1" rot="18900000">
                  <a:off x="5825520" y="3341880"/>
                  <a:ext cx="95760" cy="3243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6" name=""/>
              <p:cNvGrpSpPr/>
              <p:nvPr/>
            </p:nvGrpSpPr>
            <p:grpSpPr>
              <a:xfrm>
                <a:off x="6351120" y="2197800"/>
                <a:ext cx="875880" cy="866520"/>
                <a:chOff x="6351120" y="2197800"/>
                <a:chExt cx="875880" cy="866520"/>
              </a:xfrm>
            </p:grpSpPr>
            <p:sp>
              <p:nvSpPr>
                <p:cNvPr id="4717" name=""/>
                <p:cNvSpPr/>
                <p:nvPr/>
              </p:nvSpPr>
              <p:spPr>
                <a:xfrm flipH="1" flipV="1">
                  <a:off x="6351120" y="2197800"/>
                  <a:ext cx="333000" cy="33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6900840" y="2744640"/>
                  <a:ext cx="326160" cy="31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 flipH="1" rot="18900000">
                  <a:off x="6737400" y="2483640"/>
                  <a:ext cx="95760" cy="325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0" name=""/>
              <p:cNvSpPr/>
              <p:nvPr/>
            </p:nvSpPr>
            <p:spPr>
              <a:xfrm>
                <a:off x="6297480" y="3885840"/>
                <a:ext cx="648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6329160" y="2174400"/>
                <a:ext cx="14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6329160" y="3903480"/>
                <a:ext cx="14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745400" y="2174400"/>
                <a:ext cx="0" cy="64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745400" y="325548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410080" y="4408200"/>
                <a:ext cx="63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6613560" y="4408200"/>
                <a:ext cx="63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046560" y="4373280"/>
                <a:ext cx="71280" cy="7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541920" y="4373280"/>
                <a:ext cx="71280" cy="72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708680" y="3182760"/>
                <a:ext cx="71280" cy="72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707240" y="2823840"/>
                <a:ext cx="69480" cy="70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814880" y="30398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814520" y="253476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3" name=""/>
              <p:cNvGrpSpPr/>
              <p:nvPr/>
            </p:nvGrpSpPr>
            <p:grpSpPr>
              <a:xfrm>
                <a:off x="5257800" y="1981080"/>
                <a:ext cx="905760" cy="901080"/>
                <a:chOff x="5257800" y="1981080"/>
                <a:chExt cx="905760" cy="901080"/>
              </a:xfrm>
            </p:grpSpPr>
            <p:sp>
              <p:nvSpPr>
                <p:cNvPr id="4734" name=""/>
                <p:cNvSpPr/>
                <p:nvPr/>
              </p:nvSpPr>
              <p:spPr>
                <a:xfrm>
                  <a:off x="5257800" y="2818800"/>
                  <a:ext cx="6480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 flipV="1">
                  <a:off x="5827320" y="1981080"/>
                  <a:ext cx="336240" cy="32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 flipH="1">
                  <a:off x="5287680" y="2525400"/>
                  <a:ext cx="323280" cy="321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 flipH="1" rot="2700000">
                  <a:off x="5659920" y="2250360"/>
                  <a:ext cx="97920" cy="320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8" name=""/>
              <p:cNvSpPr/>
              <p:nvPr/>
            </p:nvSpPr>
            <p:spPr>
              <a:xfrm>
                <a:off x="6134040" y="1983960"/>
                <a:ext cx="186840" cy="18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H="1" flipV="1">
                <a:off x="5257800" y="2860200"/>
                <a:ext cx="22824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715000" y="20980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rot="30000">
                <a:off x="5569560" y="3469680"/>
                <a:ext cx="52488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rot="30000">
                <a:off x="5797080" y="2555640"/>
                <a:ext cx="51264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rot="30000">
                <a:off x="5110560" y="2021760"/>
                <a:ext cx="48996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4" name=""/>
            <p:cNvSpPr/>
            <p:nvPr/>
          </p:nvSpPr>
          <p:spPr>
            <a:xfrm>
              <a:off x="6095880" y="41907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772400" y="27428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6" name=""/>
          <p:cNvSpPr/>
          <p:nvPr/>
        </p:nvSpPr>
        <p:spPr>
          <a:xfrm>
            <a:off x="457200" y="12034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敏电阻是半导体元件，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阻具有负温度系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243828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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7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照准确度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43200" y="2454120"/>
                <a:ext cx="26845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437000" y="1981080"/>
            <a:ext cx="2344680" cy="533520"/>
          </a:xfrm>
          <a:prstGeom prst="wedgeRoundRectCallout">
            <a:avLst>
              <a:gd name="adj1" fmla="val -72476"/>
              <a:gd name="adj2" fmla="val 79166"/>
              <a:gd name="adj3" fmla="val 16667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基本误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13320" y="3505320"/>
            <a:ext cx="3944880" cy="533160"/>
          </a:xfrm>
          <a:prstGeom prst="wedgeRoundRectCallout">
            <a:avLst>
              <a:gd name="adj1" fmla="val -67625"/>
              <a:gd name="adj2" fmla="val -91069"/>
              <a:gd name="adj3" fmla="val 16667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表的最大量程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满标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073400"/>
            <a:ext cx="8077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目前我国直读式电工测量仪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按照准确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1,  0.2,  0.5,  1.0,  1.5,  2.5,  5.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七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准确度是电工测量仪表的主要特性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准确度较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仪表常用来进行精密测量或校正其他仪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3280" y="1981080"/>
            <a:ext cx="2344680" cy="533520"/>
          </a:xfrm>
          <a:prstGeom prst="wedgeRoundRectCallout">
            <a:avLst>
              <a:gd name="adj1" fmla="val 47291"/>
              <a:gd name="adj2" fmla="val 138097"/>
              <a:gd name="adj3" fmla="val 16667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对额定误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84924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准确度是电工测量仪表的主要特性之一。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仪表的准确度是根据仪表的相对额定误差来分级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45720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一准确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的电压表，其最大量程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273320" y="1496880"/>
                <a:ext cx="63975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V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3520" y="200340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常情况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认为最大基本误差是不变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所以被测量值比满标值愈小，则相对测量误差就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032280"/>
            <a:ext cx="8229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用上述电压表来测量实际值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时，相对误差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666880" y="3581280"/>
                <a:ext cx="5113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33520" y="451476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实际值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时，相对误差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619360" y="5124600"/>
                <a:ext cx="5076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09480" y="2514600"/>
            <a:ext cx="3124440" cy="358128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选用仪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量程时，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般应使被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值超过仪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满标值的一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6120" y="990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能产生的最大基本误差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工测量仪表上的几种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480" y="914400"/>
            <a:ext cx="7925040" cy="5334120"/>
            <a:chOff x="609480" y="914400"/>
            <a:chExt cx="7925040" cy="5334120"/>
          </a:xfrm>
        </p:grpSpPr>
        <p:sp>
          <p:nvSpPr>
            <p:cNvPr id="192" name=""/>
            <p:cNvSpPr/>
            <p:nvPr/>
          </p:nvSpPr>
          <p:spPr>
            <a:xfrm>
              <a:off x="609480" y="914400"/>
              <a:ext cx="7925040" cy="5334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1523880"/>
              <a:ext cx="792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914400"/>
              <a:ext cx="0" cy="533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99072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符    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8320" y="9907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意        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1828800"/>
              <a:ext cx="17528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99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Tahoma"/>
                </a:rPr>
                <a:t>3 </a:t>
              </a: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</a:rPr>
                <a:t>~</a:t>
              </a:r>
              <a:r>
                <a:rPr b="1" lang="zh-CN" sz="28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ahoma"/>
                </a:rPr>
                <a:t>或 </a:t>
              </a: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ahoma"/>
                </a:rPr>
                <a:t>或 </a:t>
              </a: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或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420560" y="4078440"/>
              <a:ext cx="179640" cy="304200"/>
              <a:chOff x="1420560" y="4078440"/>
              <a:chExt cx="179640" cy="3042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1420560" y="4078440"/>
                <a:ext cx="7596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20920" y="4230360"/>
                <a:ext cx="17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496520" y="4230360"/>
                <a:ext cx="759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209680" y="4778280"/>
              <a:ext cx="0" cy="136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1828800"/>
              <a:ext cx="27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01800" y="3165480"/>
              <a:ext cx="2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64040" y="324468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7560" y="335268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4160" y="1469880"/>
              <a:ext cx="4181760" cy="46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    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交    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交直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相交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仪表绝缘试验电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00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仪表直立放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仪表水平放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仪表倾斜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60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°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度放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3760" y="5638680"/>
              <a:ext cx="104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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60 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320" y="26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090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4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工测量仪表的型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6573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直读式仪表测量各种电量的基本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仪表中通入电流后产生电磁作用，使可动部分受到转矩而发生转动。转动转矩与通入的电流之间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1876320"/>
            <a:ext cx="2438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f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80" y="283356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产生转动转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46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仪表可动部分受到转矩而发生转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0277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阻尼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产生制动力（阻尼力）的装置，使仪表可动部分能迅速静止在平衡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330280"/>
            <a:ext cx="56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</a:rPr>
              <a:t>直读式仪表的基本组成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73212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产生阻转矩</a:t>
            </a:r>
            <a:r>
              <a:rPr b="1" i="1" lang="zh-CN" sz="2800" spc="-1" strike="noStrike">
                <a:solidFill>
                  <a:srgbClr val="004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46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阻转矩</a:t>
            </a:r>
            <a:r>
              <a:rPr b="1" i="1" lang="zh-CN" sz="2800" spc="-1" strike="noStrike">
                <a:solidFill>
                  <a:srgbClr val="004600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004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于转动转矩</a:t>
            </a:r>
            <a:r>
              <a:rPr b="1" i="1" lang="zh-CN" sz="2800" spc="-1" strike="noStrike">
                <a:solidFill>
                  <a:srgbClr val="0046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仪表可动部分平衡在一定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0:22:50Z</dcterms:created>
  <dc:creator>王香婷</dc:creator>
  <dc:description/>
  <dc:language>en-US</dc:language>
  <cp:lastModifiedBy>王香婷</cp:lastModifiedBy>
  <dcterms:modified xsi:type="dcterms:W3CDTF">2003-07-31T21:44:23Z</dcterms:modified>
  <cp:revision>10</cp:revision>
  <dc:subject/>
  <dc:title>PowerPoint 演示文稿</dc:title>
</cp:coreProperties>
</file>