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image5.png" ContentType="image/png"/>
  <Override PartName="/ppt/media/image2.png" ContentType="image/png"/>
  <Override PartName="/ppt/media/image3.wmf" ContentType="image/x-wm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&#30005;&#23376;&#25216;&#26415;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>
            <a:hlinkClick r:id="" action="ppaction://hlinkshowjump?jump=nextslide"/>
          </p:cNvPr>
          <p:cNvSpPr/>
          <p:nvPr/>
        </p:nvSpPr>
        <p:spPr>
          <a:xfrm>
            <a:off x="844884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5fede"/>
              </a:gs>
              <a:gs pos="100000">
                <a:srgbClr val="dbe3c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a9c06"/>
                </a:solidFill>
                <a:latin typeface="Times New Roman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3244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5fede"/>
              </a:gs>
              <a:gs pos="100000">
                <a:srgbClr val="dbe3c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a9c06"/>
                </a:solidFill>
                <a:latin typeface="Times New Roman"/>
              </a:rPr>
              <a:t>总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68547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5fede"/>
              </a:gs>
              <a:gs pos="100000">
                <a:srgbClr val="dbe3c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a9c06"/>
                </a:solidFill>
                <a:latin typeface="Times New Roman"/>
              </a:rPr>
              <a:t>章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738360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5fede"/>
              </a:gs>
              <a:gs pos="100000">
                <a:srgbClr val="dbe3c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a9c06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9185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5fede"/>
              </a:gs>
              <a:gs pos="100000">
                <a:srgbClr val="dbe3c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a9c06"/>
                </a:solidFill>
                <a:latin typeface="Times New Roman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3"/>
          </p:cNvPr>
          <p:cNvSpPr/>
          <p:nvPr/>
        </p:nvSpPr>
        <p:spPr>
          <a:xfrm>
            <a:off x="6324480" y="6477120"/>
            <a:ext cx="457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slide" Target="slide23.xml"/><Relationship Id="rId45" Type="http://schemas.openxmlformats.org/officeDocument/2006/relationships/slide" Target="slide32.xml"/><Relationship Id="rId46" Type="http://schemas.openxmlformats.org/officeDocument/2006/relationships/slide" Target="slide4.xml"/><Relationship Id="rId47" Type="http://schemas.openxmlformats.org/officeDocument/2006/relationships/oleObject" Target="../embeddings/oleObject1.bin"/><Relationship Id="rId48" Type="http://schemas.openxmlformats.org/officeDocument/2006/relationships/image" Target="../media/image3.wmf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4.gif"/><Relationship Id="rId8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hyperlink" Target="zldl1.exe" TargetMode="External"/><Relationship Id="rId4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hyperlink" Target="zldl2.exe" TargetMode="External"/><Relationship Id="rId4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9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 直流稳压电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09600" y="1209600"/>
            <a:ext cx="6410160" cy="162000"/>
            <a:chOff x="1209600" y="1209600"/>
            <a:chExt cx="6410160" cy="16200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1352520" y="1209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1514520" y="1209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1666800" y="1209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5"/>
            <a:stretch/>
          </p:blipFill>
          <p:spPr>
            <a:xfrm>
              <a:off x="1809720" y="1209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6"/>
            <a:stretch/>
          </p:blipFill>
          <p:spPr>
            <a:xfrm>
              <a:off x="1971720" y="1209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7"/>
            <a:stretch/>
          </p:blipFill>
          <p:spPr>
            <a:xfrm>
              <a:off x="2266920" y="1209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8"/>
            <a:stretch/>
          </p:blipFill>
          <p:spPr>
            <a:xfrm>
              <a:off x="2428920" y="1209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9"/>
            <a:stretch/>
          </p:blipFill>
          <p:spPr>
            <a:xfrm>
              <a:off x="2581200" y="1209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10"/>
            <a:stretch/>
          </p:blipFill>
          <p:spPr>
            <a:xfrm>
              <a:off x="2724120" y="1209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1"/>
            <a:stretch/>
          </p:blipFill>
          <p:spPr>
            <a:xfrm>
              <a:off x="1209600" y="1209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2"/>
            <a:stretch/>
          </p:blipFill>
          <p:spPr>
            <a:xfrm>
              <a:off x="2124000" y="1209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13"/>
            <a:stretch/>
          </p:blipFill>
          <p:spPr>
            <a:xfrm>
              <a:off x="2886120" y="1209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" name=""/>
            <p:cNvGrpSpPr/>
            <p:nvPr/>
          </p:nvGrpSpPr>
          <p:grpSpPr>
            <a:xfrm>
              <a:off x="3038400" y="1209600"/>
              <a:ext cx="4581360" cy="162000"/>
              <a:chOff x="3038400" y="1209600"/>
              <a:chExt cx="4581360" cy="162000"/>
            </a:xfrm>
          </p:grpSpPr>
          <p:pic>
            <p:nvPicPr>
              <p:cNvPr id="60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038400" y="12096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18096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34296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3495600" y="12096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363816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80016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09536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25736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4410000" y="12096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455256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471456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00976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517176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5324400" y="12096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546696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3952800" y="12096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4867200" y="12096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562896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5781600" y="12096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592416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608616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6238800" y="12096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638136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654336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683856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700056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7153200" y="12096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729576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745776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6696000" y="12096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" name="">
            <a:hlinkClick r:id="rId44" action="ppaction://hlinksldjump"/>
          </p:cNvPr>
          <p:cNvSpPr/>
          <p:nvPr/>
        </p:nvSpPr>
        <p:spPr>
          <a:xfrm>
            <a:off x="1600200" y="2590920"/>
            <a:ext cx="4191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.2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滤波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45" action="ppaction://hlinksldjump"/>
          </p:cNvPr>
          <p:cNvSpPr/>
          <p:nvPr/>
        </p:nvSpPr>
        <p:spPr>
          <a:xfrm>
            <a:off x="1600200" y="3305160"/>
            <a:ext cx="5334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.3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流稳压电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46" action="ppaction://hlinksldjump"/>
          </p:cNvPr>
          <p:cNvSpPr/>
          <p:nvPr/>
        </p:nvSpPr>
        <p:spPr>
          <a:xfrm>
            <a:off x="1847160" y="186228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.1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整流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324480" y="4419720"/>
          <a:ext cx="2286000" cy="15192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6324480" y="4419720"/>
                    <a:ext cx="228600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" name=""/>
          <p:cNvGrpSpPr/>
          <p:nvPr/>
        </p:nvGrpSpPr>
        <p:grpSpPr>
          <a:xfrm>
            <a:off x="762120" y="5257800"/>
            <a:ext cx="4876200" cy="161640"/>
            <a:chOff x="762120" y="5257800"/>
            <a:chExt cx="4876200" cy="161640"/>
          </a:xfrm>
        </p:grpSpPr>
        <p:pic>
          <p:nvPicPr>
            <p:cNvPr id="96" name="" descr=""/>
            <p:cNvPicPr/>
            <p:nvPr/>
          </p:nvPicPr>
          <p:blipFill>
            <a:blip r:embed="rId49"/>
            <a:stretch/>
          </p:blipFill>
          <p:spPr>
            <a:xfrm>
              <a:off x="76212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50"/>
            <a:stretch/>
          </p:blipFill>
          <p:spPr>
            <a:xfrm>
              <a:off x="90468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51"/>
            <a:stretch/>
          </p:blipFill>
          <p:spPr>
            <a:xfrm>
              <a:off x="1066680" y="52578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52"/>
            <a:stretch/>
          </p:blipFill>
          <p:spPr>
            <a:xfrm>
              <a:off x="136188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53"/>
            <a:stretch/>
          </p:blipFill>
          <p:spPr>
            <a:xfrm>
              <a:off x="1523880" y="52578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54"/>
            <a:stretch/>
          </p:blipFill>
          <p:spPr>
            <a:xfrm>
              <a:off x="167616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55"/>
            <a:stretch/>
          </p:blipFill>
          <p:spPr>
            <a:xfrm>
              <a:off x="181908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56"/>
            <a:stretch/>
          </p:blipFill>
          <p:spPr>
            <a:xfrm>
              <a:off x="1981080" y="52578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57"/>
            <a:stretch/>
          </p:blipFill>
          <p:spPr>
            <a:xfrm>
              <a:off x="227628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58"/>
            <a:stretch/>
          </p:blipFill>
          <p:spPr>
            <a:xfrm>
              <a:off x="2438280" y="52578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59"/>
            <a:stretch/>
          </p:blipFill>
          <p:spPr>
            <a:xfrm>
              <a:off x="259056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60"/>
            <a:stretch/>
          </p:blipFill>
          <p:spPr>
            <a:xfrm>
              <a:off x="273348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61"/>
            <a:stretch/>
          </p:blipFill>
          <p:spPr>
            <a:xfrm>
              <a:off x="121896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62"/>
            <a:stretch/>
          </p:blipFill>
          <p:spPr>
            <a:xfrm>
              <a:off x="213336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63"/>
            <a:stretch/>
          </p:blipFill>
          <p:spPr>
            <a:xfrm>
              <a:off x="2895480" y="52578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64"/>
            <a:stretch/>
          </p:blipFill>
          <p:spPr>
            <a:xfrm>
              <a:off x="304776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65"/>
            <a:stretch/>
          </p:blipFill>
          <p:spPr>
            <a:xfrm>
              <a:off x="319068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66"/>
            <a:stretch/>
          </p:blipFill>
          <p:spPr>
            <a:xfrm>
              <a:off x="3352680" y="52578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67"/>
            <a:stretch/>
          </p:blipFill>
          <p:spPr>
            <a:xfrm>
              <a:off x="350496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68"/>
            <a:stretch/>
          </p:blipFill>
          <p:spPr>
            <a:xfrm>
              <a:off x="364788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69"/>
            <a:stretch/>
          </p:blipFill>
          <p:spPr>
            <a:xfrm>
              <a:off x="3809880" y="52578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70"/>
            <a:stretch/>
          </p:blipFill>
          <p:spPr>
            <a:xfrm>
              <a:off x="410508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71"/>
            <a:stretch/>
          </p:blipFill>
          <p:spPr>
            <a:xfrm>
              <a:off x="4267080" y="52578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72"/>
            <a:stretch/>
          </p:blipFill>
          <p:spPr>
            <a:xfrm>
              <a:off x="441936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73"/>
            <a:stretch/>
          </p:blipFill>
          <p:spPr>
            <a:xfrm>
              <a:off x="456228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74"/>
            <a:stretch/>
          </p:blipFill>
          <p:spPr>
            <a:xfrm>
              <a:off x="4724280" y="52578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75"/>
            <a:stretch/>
          </p:blipFill>
          <p:spPr>
            <a:xfrm>
              <a:off x="501948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76"/>
            <a:stretch/>
          </p:blipFill>
          <p:spPr>
            <a:xfrm>
              <a:off x="5181480" y="52578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77"/>
            <a:stretch/>
          </p:blipFill>
          <p:spPr>
            <a:xfrm>
              <a:off x="533376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78"/>
            <a:stretch/>
          </p:blipFill>
          <p:spPr>
            <a:xfrm>
              <a:off x="547668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79"/>
            <a:stretch/>
          </p:blipFill>
          <p:spPr>
            <a:xfrm>
              <a:off x="396216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80"/>
            <a:stretch/>
          </p:blipFill>
          <p:spPr>
            <a:xfrm>
              <a:off x="487656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1378080"/>
            <a:ext cx="7696080" cy="33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本章要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理解单相整流电路和滤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电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工作原理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数的计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了解稳压管稳压电路和串联型稳压电路的工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了解集成稳压电路的性能及应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609480"/>
            <a:ext cx="6553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9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 直流稳压电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9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　直流稳压电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22360" y="1447560"/>
            <a:ext cx="5790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小功率直流稳压电源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576680"/>
            <a:ext cx="8534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交流电压变成稳定的大小合适 的直流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265800" y="3641760"/>
            <a:ext cx="820800" cy="701640"/>
            <a:chOff x="6265800" y="3641760"/>
            <a:chExt cx="820800" cy="701640"/>
          </a:xfrm>
        </p:grpSpPr>
        <p:sp>
          <p:nvSpPr>
            <p:cNvPr id="134" name=""/>
            <p:cNvSpPr/>
            <p:nvPr/>
          </p:nvSpPr>
          <p:spPr>
            <a:xfrm>
              <a:off x="6269040" y="4108680"/>
              <a:ext cx="682560" cy="66600"/>
            </a:xfrm>
            <a:custGeom>
              <a:avLst/>
              <a:gdLst/>
              <a:ahLst/>
              <a:rect l="l" t="t" r="r" b="b"/>
              <a:pathLst>
                <a:path w="1908" h="388">
                  <a:moveTo>
                    <a:pt x="0" y="388"/>
                  </a:moveTo>
                  <a:cubicBezTo>
                    <a:pt x="161" y="196"/>
                    <a:pt x="322" y="4"/>
                    <a:pt x="480" y="2"/>
                  </a:cubicBezTo>
                  <a:cubicBezTo>
                    <a:pt x="638" y="0"/>
                    <a:pt x="786" y="376"/>
                    <a:pt x="948" y="376"/>
                  </a:cubicBezTo>
                  <a:cubicBezTo>
                    <a:pt x="1110" y="376"/>
                    <a:pt x="1291" y="2"/>
                    <a:pt x="1451" y="2"/>
                  </a:cubicBezTo>
                  <a:cubicBezTo>
                    <a:pt x="1611" y="2"/>
                    <a:pt x="1759" y="189"/>
                    <a:pt x="1908" y="37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269040" y="384948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69040" y="4343400"/>
              <a:ext cx="81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65800" y="3641760"/>
              <a:ext cx="439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8062920" y="3689280"/>
            <a:ext cx="758880" cy="653760"/>
            <a:chOff x="8062920" y="3689280"/>
            <a:chExt cx="758880" cy="653760"/>
          </a:xfrm>
        </p:grpSpPr>
        <p:sp>
          <p:nvSpPr>
            <p:cNvPr id="139" name=""/>
            <p:cNvSpPr/>
            <p:nvPr/>
          </p:nvSpPr>
          <p:spPr>
            <a:xfrm flipV="1">
              <a:off x="8062920" y="3917520"/>
              <a:ext cx="0" cy="42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62920" y="434304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77320" y="414648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77320" y="3689280"/>
              <a:ext cx="450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133640" y="1209600"/>
            <a:ext cx="6409800" cy="162000"/>
            <a:chOff x="1133640" y="1209600"/>
            <a:chExt cx="6409800" cy="162000"/>
          </a:xfrm>
        </p:grpSpPr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127620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143820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4"/>
            <a:stretch/>
          </p:blipFill>
          <p:spPr>
            <a:xfrm>
              <a:off x="159048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5"/>
            <a:stretch/>
          </p:blipFill>
          <p:spPr>
            <a:xfrm>
              <a:off x="173340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6"/>
            <a:stretch/>
          </p:blipFill>
          <p:spPr>
            <a:xfrm>
              <a:off x="189540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7"/>
            <a:stretch/>
          </p:blipFill>
          <p:spPr>
            <a:xfrm>
              <a:off x="219060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8"/>
            <a:stretch/>
          </p:blipFill>
          <p:spPr>
            <a:xfrm>
              <a:off x="235260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9"/>
            <a:stretch/>
          </p:blipFill>
          <p:spPr>
            <a:xfrm>
              <a:off x="250488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10"/>
            <a:stretch/>
          </p:blipFill>
          <p:spPr>
            <a:xfrm>
              <a:off x="264780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1"/>
            <a:stretch/>
          </p:blipFill>
          <p:spPr>
            <a:xfrm>
              <a:off x="113364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12"/>
            <a:stretch/>
          </p:blipFill>
          <p:spPr>
            <a:xfrm>
              <a:off x="204768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13"/>
            <a:stretch/>
          </p:blipFill>
          <p:spPr>
            <a:xfrm>
              <a:off x="280980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"/>
            <p:cNvGrpSpPr/>
            <p:nvPr/>
          </p:nvGrpSpPr>
          <p:grpSpPr>
            <a:xfrm>
              <a:off x="2962080" y="1209600"/>
              <a:ext cx="4581360" cy="162000"/>
              <a:chOff x="2962080" y="1209600"/>
              <a:chExt cx="4581360" cy="162000"/>
            </a:xfrm>
          </p:grpSpPr>
          <p:pic>
            <p:nvPicPr>
              <p:cNvPr id="15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62080" y="12096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10464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26664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3419280" y="12096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356184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72384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01904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18104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4333680" y="12096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447624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463824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493344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509544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5248080" y="12096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539064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3876480" y="12096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4790880" y="12096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555264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5705280" y="12096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584784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600984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6162480" y="12096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630504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646704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676224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692424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7076880" y="12096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721944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738144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6619680" y="12096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7" name=""/>
          <p:cNvGrpSpPr/>
          <p:nvPr/>
        </p:nvGrpSpPr>
        <p:grpSpPr>
          <a:xfrm>
            <a:off x="228600" y="5791320"/>
            <a:ext cx="5952960" cy="161640"/>
            <a:chOff x="228600" y="5791320"/>
            <a:chExt cx="5952960" cy="161640"/>
          </a:xfrm>
        </p:grpSpPr>
        <p:pic>
          <p:nvPicPr>
            <p:cNvPr id="188" name="" descr=""/>
            <p:cNvPicPr/>
            <p:nvPr/>
          </p:nvPicPr>
          <p:blipFill>
            <a:blip r:embed="rId44"/>
            <a:stretch/>
          </p:blipFill>
          <p:spPr>
            <a:xfrm>
              <a:off x="371520" y="57913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45"/>
            <a:stretch/>
          </p:blipFill>
          <p:spPr>
            <a:xfrm>
              <a:off x="533520" y="5791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46"/>
            <a:stretch/>
          </p:blipFill>
          <p:spPr>
            <a:xfrm>
              <a:off x="685800" y="57913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47"/>
            <a:stretch/>
          </p:blipFill>
          <p:spPr>
            <a:xfrm>
              <a:off x="828720" y="57913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48"/>
            <a:stretch/>
          </p:blipFill>
          <p:spPr>
            <a:xfrm>
              <a:off x="990720" y="5791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49"/>
            <a:stretch/>
          </p:blipFill>
          <p:spPr>
            <a:xfrm>
              <a:off x="1285920" y="57913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50"/>
            <a:stretch/>
          </p:blipFill>
          <p:spPr>
            <a:xfrm>
              <a:off x="1447920" y="5791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51"/>
            <a:stretch/>
          </p:blipFill>
          <p:spPr>
            <a:xfrm>
              <a:off x="1600200" y="57913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52"/>
            <a:stretch/>
          </p:blipFill>
          <p:spPr>
            <a:xfrm>
              <a:off x="1743120" y="57913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53"/>
            <a:stretch/>
          </p:blipFill>
          <p:spPr>
            <a:xfrm>
              <a:off x="228600" y="57913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54"/>
            <a:stretch/>
          </p:blipFill>
          <p:spPr>
            <a:xfrm>
              <a:off x="1143000" y="57913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55"/>
            <a:stretch/>
          </p:blipFill>
          <p:spPr>
            <a:xfrm>
              <a:off x="1905120" y="5791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56"/>
            <a:stretch/>
          </p:blipFill>
          <p:spPr>
            <a:xfrm>
              <a:off x="2057400" y="57913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57"/>
            <a:stretch/>
          </p:blipFill>
          <p:spPr>
            <a:xfrm>
              <a:off x="2200320" y="57913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58"/>
            <a:stretch/>
          </p:blipFill>
          <p:spPr>
            <a:xfrm>
              <a:off x="2362320" y="5791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59"/>
            <a:stretch/>
          </p:blipFill>
          <p:spPr>
            <a:xfrm>
              <a:off x="2514600" y="57913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60"/>
            <a:stretch/>
          </p:blipFill>
          <p:spPr>
            <a:xfrm>
              <a:off x="2657520" y="57913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61"/>
            <a:stretch/>
          </p:blipFill>
          <p:spPr>
            <a:xfrm>
              <a:off x="2819520" y="5791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62"/>
            <a:stretch/>
          </p:blipFill>
          <p:spPr>
            <a:xfrm>
              <a:off x="3114720" y="57913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63"/>
            <a:stretch/>
          </p:blipFill>
          <p:spPr>
            <a:xfrm>
              <a:off x="3276720" y="5791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64"/>
            <a:stretch/>
          </p:blipFill>
          <p:spPr>
            <a:xfrm>
              <a:off x="3429000" y="57913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65"/>
            <a:stretch/>
          </p:blipFill>
          <p:spPr>
            <a:xfrm>
              <a:off x="3571920" y="57913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66"/>
            <a:stretch/>
          </p:blipFill>
          <p:spPr>
            <a:xfrm>
              <a:off x="3733920" y="5791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67"/>
            <a:stretch/>
          </p:blipFill>
          <p:spPr>
            <a:xfrm>
              <a:off x="4029120" y="57913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68"/>
            <a:stretch/>
          </p:blipFill>
          <p:spPr>
            <a:xfrm>
              <a:off x="4191120" y="5791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69"/>
            <a:stretch/>
          </p:blipFill>
          <p:spPr>
            <a:xfrm>
              <a:off x="4343400" y="57913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70"/>
            <a:stretch/>
          </p:blipFill>
          <p:spPr>
            <a:xfrm>
              <a:off x="4486320" y="57913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71"/>
            <a:stretch/>
          </p:blipFill>
          <p:spPr>
            <a:xfrm>
              <a:off x="2971800" y="57913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72"/>
            <a:stretch/>
          </p:blipFill>
          <p:spPr>
            <a:xfrm>
              <a:off x="3886200" y="57913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73"/>
            <a:stretch/>
          </p:blipFill>
          <p:spPr>
            <a:xfrm>
              <a:off x="4648320" y="5791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74"/>
            <a:stretch/>
          </p:blipFill>
          <p:spPr>
            <a:xfrm>
              <a:off x="4800600" y="57913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75"/>
            <a:stretch/>
          </p:blipFill>
          <p:spPr>
            <a:xfrm>
              <a:off x="4943520" y="57913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76"/>
            <a:stretch/>
          </p:blipFill>
          <p:spPr>
            <a:xfrm>
              <a:off x="5105520" y="5791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77"/>
            <a:stretch/>
          </p:blipFill>
          <p:spPr>
            <a:xfrm>
              <a:off x="5257800" y="57913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78"/>
            <a:stretch/>
          </p:blipFill>
          <p:spPr>
            <a:xfrm>
              <a:off x="5400720" y="57913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79"/>
            <a:stretch/>
          </p:blipFill>
          <p:spPr>
            <a:xfrm>
              <a:off x="5562720" y="5791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80"/>
            <a:stretch/>
          </p:blipFill>
          <p:spPr>
            <a:xfrm>
              <a:off x="5857920" y="57913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81"/>
            <a:stretch/>
          </p:blipFill>
          <p:spPr>
            <a:xfrm>
              <a:off x="6019920" y="5791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82"/>
            <a:stretch/>
          </p:blipFill>
          <p:spPr>
            <a:xfrm>
              <a:off x="5715000" y="5791320"/>
              <a:ext cx="162000" cy="16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7" name="" descr=""/>
          <p:cNvPicPr/>
          <p:nvPr/>
        </p:nvPicPr>
        <p:blipFill>
          <a:blip r:embed="rId83"/>
          <a:stretch/>
        </p:blipFill>
        <p:spPr>
          <a:xfrm>
            <a:off x="7772400" y="4876920"/>
            <a:ext cx="1008000" cy="129528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4419720" y="3581280"/>
            <a:ext cx="875880" cy="738000"/>
            <a:chOff x="4419720" y="3581280"/>
            <a:chExt cx="875880" cy="738000"/>
          </a:xfrm>
        </p:grpSpPr>
        <p:sp>
          <p:nvSpPr>
            <p:cNvPr id="229" name=""/>
            <p:cNvSpPr/>
            <p:nvPr/>
          </p:nvSpPr>
          <p:spPr>
            <a:xfrm flipV="1">
              <a:off x="4465440" y="3857760"/>
              <a:ext cx="0" cy="46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4465440" y="4042800"/>
              <a:ext cx="552960" cy="276480"/>
              <a:chOff x="4465440" y="4042800"/>
              <a:chExt cx="552960" cy="27648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4465440" y="4042800"/>
                <a:ext cx="280440" cy="27648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4737960" y="4042800"/>
                <a:ext cx="280440" cy="27648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4419720" y="3581280"/>
              <a:ext cx="553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65440" y="4319280"/>
              <a:ext cx="830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590920" y="3595680"/>
            <a:ext cx="826560" cy="975960"/>
            <a:chOff x="2590920" y="3595680"/>
            <a:chExt cx="826560" cy="975960"/>
          </a:xfrm>
        </p:grpSpPr>
        <p:sp>
          <p:nvSpPr>
            <p:cNvPr id="236" name=""/>
            <p:cNvSpPr/>
            <p:nvPr/>
          </p:nvSpPr>
          <p:spPr>
            <a:xfrm>
              <a:off x="2590920" y="3595680"/>
              <a:ext cx="56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07840" y="4098240"/>
              <a:ext cx="572040" cy="473400"/>
            </a:xfrm>
            <a:custGeom>
              <a:avLst/>
              <a:gdLst/>
              <a:ahLst/>
              <a:rect l="l" t="t" r="r" b="b"/>
              <a:pathLst>
                <a:path w="1932" h="753">
                  <a:moveTo>
                    <a:pt x="0" y="376"/>
                  </a:moveTo>
                  <a:cubicBezTo>
                    <a:pt x="166" y="190"/>
                    <a:pt x="332" y="4"/>
                    <a:pt x="492" y="2"/>
                  </a:cubicBezTo>
                  <a:cubicBezTo>
                    <a:pt x="652" y="0"/>
                    <a:pt x="798" y="239"/>
                    <a:pt x="960" y="364"/>
                  </a:cubicBezTo>
                  <a:cubicBezTo>
                    <a:pt x="1122" y="489"/>
                    <a:pt x="1301" y="749"/>
                    <a:pt x="1463" y="751"/>
                  </a:cubicBezTo>
                  <a:cubicBezTo>
                    <a:pt x="1625" y="753"/>
                    <a:pt x="1854" y="439"/>
                    <a:pt x="1932" y="37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2590920" y="3777840"/>
              <a:ext cx="0" cy="54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90920" y="4323960"/>
              <a:ext cx="826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762120" y="3649680"/>
            <a:ext cx="761760" cy="921960"/>
            <a:chOff x="762120" y="3649680"/>
            <a:chExt cx="761760" cy="921960"/>
          </a:xfrm>
        </p:grpSpPr>
        <p:sp>
          <p:nvSpPr>
            <p:cNvPr id="241" name=""/>
            <p:cNvSpPr/>
            <p:nvPr/>
          </p:nvSpPr>
          <p:spPr>
            <a:xfrm>
              <a:off x="762120" y="3649680"/>
              <a:ext cx="45720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762120" y="3878280"/>
              <a:ext cx="761760" cy="693360"/>
              <a:chOff x="762120" y="3878280"/>
              <a:chExt cx="761760" cy="693360"/>
            </a:xfrm>
          </p:grpSpPr>
          <p:sp>
            <p:nvSpPr>
              <p:cNvPr id="243" name=""/>
              <p:cNvSpPr/>
              <p:nvPr/>
            </p:nvSpPr>
            <p:spPr>
              <a:xfrm>
                <a:off x="762120" y="4129200"/>
                <a:ext cx="554040" cy="442440"/>
              </a:xfrm>
              <a:custGeom>
                <a:avLst/>
                <a:gdLst/>
                <a:ahLst/>
                <a:rect l="l" t="t" r="r" b="b"/>
                <a:pathLst>
                  <a:path w="1932" h="753">
                    <a:moveTo>
                      <a:pt x="0" y="376"/>
                    </a:moveTo>
                    <a:cubicBezTo>
                      <a:pt x="166" y="190"/>
                      <a:pt x="332" y="4"/>
                      <a:pt x="492" y="2"/>
                    </a:cubicBezTo>
                    <a:cubicBezTo>
                      <a:pt x="652" y="0"/>
                      <a:pt x="798" y="239"/>
                      <a:pt x="960" y="364"/>
                    </a:cubicBezTo>
                    <a:cubicBezTo>
                      <a:pt x="1122" y="489"/>
                      <a:pt x="1301" y="749"/>
                      <a:pt x="1463" y="751"/>
                    </a:cubicBezTo>
                    <a:cubicBezTo>
                      <a:pt x="1625" y="753"/>
                      <a:pt x="1854" y="439"/>
                      <a:pt x="1932" y="376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762120" y="3878280"/>
                <a:ext cx="761760" cy="466560"/>
                <a:chOff x="762120" y="3878280"/>
                <a:chExt cx="761760" cy="466560"/>
              </a:xfrm>
            </p:grpSpPr>
            <p:sp>
              <p:nvSpPr>
                <p:cNvPr id="245" name=""/>
                <p:cNvSpPr/>
                <p:nvPr/>
              </p:nvSpPr>
              <p:spPr>
                <a:xfrm flipV="1">
                  <a:off x="762120" y="3878280"/>
                  <a:ext cx="0" cy="466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62120" y="4344840"/>
                  <a:ext cx="761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7" name=""/>
          <p:cNvGrpSpPr/>
          <p:nvPr/>
        </p:nvGrpSpPr>
        <p:grpSpPr>
          <a:xfrm>
            <a:off x="135000" y="2133720"/>
            <a:ext cx="8717040" cy="1828800"/>
            <a:chOff x="135000" y="2133720"/>
            <a:chExt cx="8717040" cy="1828800"/>
          </a:xfrm>
        </p:grpSpPr>
        <p:sp>
          <p:nvSpPr>
            <p:cNvPr id="248" name=""/>
            <p:cNvSpPr/>
            <p:nvPr/>
          </p:nvSpPr>
          <p:spPr>
            <a:xfrm>
              <a:off x="135000" y="274356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交流电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305560" y="27435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负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57800" y="2743560"/>
              <a:ext cx="838080" cy="1218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20800" y="327672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38760" y="3225960"/>
              <a:ext cx="260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25480" y="2133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5800"/>
                  </a:solidFill>
                  <a:latin typeface="Times New Roman"/>
                </a:rPr>
                <a:t>变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87680" y="2667240"/>
              <a:ext cx="838080" cy="1219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82560" y="2667240"/>
              <a:ext cx="83844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68960" y="2667240"/>
              <a:ext cx="838440" cy="1219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21000" y="327672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25760" y="3276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78600" y="3276720"/>
              <a:ext cx="99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07400" y="32767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95320" y="2133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5800"/>
                  </a:solidFill>
                  <a:latin typeface="Times New Roman"/>
                </a:rPr>
                <a:t>整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080" y="2133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5800"/>
                  </a:solidFill>
                  <a:latin typeface="Times New Roman"/>
                </a:rPr>
                <a:t>滤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11880" y="2133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5800"/>
                  </a:solidFill>
                  <a:latin typeface="Times New Roman"/>
                </a:rPr>
                <a:t>稳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7319880" y="2856240"/>
              <a:ext cx="306360" cy="761760"/>
              <a:chOff x="7319880" y="2856240"/>
              <a:chExt cx="306360" cy="76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7319880" y="3160800"/>
                <a:ext cx="30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321680" y="3168720"/>
                <a:ext cx="304560" cy="2203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624800" y="3162240"/>
                <a:ext cx="0" cy="52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7472160" y="2856240"/>
                <a:ext cx="0" cy="761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316480" y="3006720"/>
              <a:ext cx="685800" cy="648000"/>
              <a:chOff x="5316480" y="3006720"/>
              <a:chExt cx="685800" cy="648000"/>
            </a:xfrm>
          </p:grpSpPr>
          <p:sp>
            <p:nvSpPr>
              <p:cNvPr id="270" name=""/>
              <p:cNvSpPr/>
              <p:nvPr/>
            </p:nvSpPr>
            <p:spPr>
              <a:xfrm flipV="1">
                <a:off x="5560920" y="3006360"/>
                <a:ext cx="195480" cy="1429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756400" y="3438720"/>
                <a:ext cx="1965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5756400" y="3294360"/>
                <a:ext cx="1965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 flipV="1">
                <a:off x="5854680" y="3078360"/>
                <a:ext cx="1440" cy="217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854680" y="3438720"/>
                <a:ext cx="0" cy="21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316480" y="3078360"/>
                <a:ext cx="244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57840" y="3080160"/>
                <a:ext cx="244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364000" y="3437280"/>
                <a:ext cx="196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5363640" y="3292560"/>
                <a:ext cx="196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5462640" y="3076560"/>
                <a:ext cx="0" cy="215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462640" y="3437280"/>
                <a:ext cx="0" cy="215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316480" y="3642120"/>
                <a:ext cx="684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3505320" y="2856240"/>
              <a:ext cx="761760" cy="837360"/>
              <a:chOff x="3505320" y="2856240"/>
              <a:chExt cx="761760" cy="837360"/>
            </a:xfrm>
          </p:grpSpPr>
          <p:sp>
            <p:nvSpPr>
              <p:cNvPr id="283" name=""/>
              <p:cNvSpPr/>
              <p:nvPr/>
            </p:nvSpPr>
            <p:spPr>
              <a:xfrm flipV="1">
                <a:off x="3960720" y="3152880"/>
                <a:ext cx="0" cy="244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rot="5400000">
                <a:off x="3787920" y="3176640"/>
                <a:ext cx="196560" cy="14904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701160" y="3245040"/>
                <a:ext cx="412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3631680" y="3000600"/>
                <a:ext cx="274680" cy="274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632040" y="3275280"/>
                <a:ext cx="274680" cy="273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906720" y="3008520"/>
                <a:ext cx="274680" cy="274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3906360" y="3275280"/>
                <a:ext cx="274680" cy="273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906720" y="2856240"/>
                <a:ext cx="0" cy="180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4181400" y="3275280"/>
                <a:ext cx="85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3906720" y="3549240"/>
                <a:ext cx="0" cy="144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505320" y="327528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676520" y="2927520"/>
              <a:ext cx="649080" cy="693720"/>
              <a:chOff x="1676520" y="2927520"/>
              <a:chExt cx="649080" cy="693720"/>
            </a:xfrm>
          </p:grpSpPr>
          <p:sp>
            <p:nvSpPr>
              <p:cNvPr id="295" name=""/>
              <p:cNvSpPr/>
              <p:nvPr/>
            </p:nvSpPr>
            <p:spPr>
              <a:xfrm>
                <a:off x="1908000" y="2927520"/>
                <a:ext cx="0" cy="99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1908000" y="3522600"/>
                <a:ext cx="0" cy="98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908000" y="3027240"/>
                <a:ext cx="28800" cy="495360"/>
              </a:xfrm>
              <a:custGeom>
                <a:avLst/>
                <a:gdLst/>
                <a:ahLst/>
                <a:rect l="l" t="t" r="r" b="b"/>
                <a:pathLst>
                  <a:path w="48" h="768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0" y="160"/>
                      <a:pt x="0" y="192"/>
                    </a:cubicBezTo>
                    <a:cubicBezTo>
                      <a:pt x="0" y="224"/>
                      <a:pt x="48" y="256"/>
                      <a:pt x="48" y="288"/>
                    </a:cubicBezTo>
                    <a:cubicBezTo>
                      <a:pt x="48" y="320"/>
                      <a:pt x="0" y="352"/>
                      <a:pt x="0" y="384"/>
                    </a:cubicBezTo>
                    <a:cubicBezTo>
                      <a:pt x="0" y="416"/>
                      <a:pt x="48" y="448"/>
                      <a:pt x="48" y="480"/>
                    </a:cubicBezTo>
                    <a:cubicBezTo>
                      <a:pt x="48" y="512"/>
                      <a:pt x="0" y="544"/>
                      <a:pt x="0" y="576"/>
                    </a:cubicBezTo>
                    <a:cubicBezTo>
                      <a:pt x="0" y="608"/>
                      <a:pt x="48" y="640"/>
                      <a:pt x="48" y="672"/>
                    </a:cubicBezTo>
                    <a:cubicBezTo>
                      <a:pt x="48" y="704"/>
                      <a:pt x="8" y="752"/>
                      <a:pt x="0" y="768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54160" y="2927520"/>
                <a:ext cx="0" cy="99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2054160" y="3522600"/>
                <a:ext cx="0" cy="98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2023920" y="3027240"/>
                <a:ext cx="30240" cy="495360"/>
              </a:xfrm>
              <a:custGeom>
                <a:avLst/>
                <a:gdLst/>
                <a:ahLst/>
                <a:rect l="l" t="t" r="r" b="b"/>
                <a:pathLst>
                  <a:path w="48" h="768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0" y="160"/>
                      <a:pt x="0" y="192"/>
                    </a:cubicBezTo>
                    <a:cubicBezTo>
                      <a:pt x="0" y="224"/>
                      <a:pt x="48" y="256"/>
                      <a:pt x="48" y="288"/>
                    </a:cubicBezTo>
                    <a:cubicBezTo>
                      <a:pt x="48" y="320"/>
                      <a:pt x="0" y="352"/>
                      <a:pt x="0" y="384"/>
                    </a:cubicBezTo>
                    <a:cubicBezTo>
                      <a:pt x="0" y="416"/>
                      <a:pt x="48" y="448"/>
                      <a:pt x="48" y="480"/>
                    </a:cubicBezTo>
                    <a:cubicBezTo>
                      <a:pt x="48" y="512"/>
                      <a:pt x="0" y="544"/>
                      <a:pt x="0" y="576"/>
                    </a:cubicBezTo>
                    <a:cubicBezTo>
                      <a:pt x="0" y="608"/>
                      <a:pt x="48" y="640"/>
                      <a:pt x="48" y="672"/>
                    </a:cubicBezTo>
                    <a:cubicBezTo>
                      <a:pt x="48" y="704"/>
                      <a:pt x="8" y="752"/>
                      <a:pt x="0" y="768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981080" y="2927520"/>
                <a:ext cx="0" cy="693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679400" y="2927520"/>
                <a:ext cx="252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676520" y="3613320"/>
                <a:ext cx="25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73240" y="2927520"/>
                <a:ext cx="25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070000" y="3613320"/>
                <a:ext cx="25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9.1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流电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1295280"/>
            <a:ext cx="7848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整流电路的作用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99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将交流电压转变为脉动的直流电压。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3381120"/>
            <a:ext cx="85345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见的整流电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半波、全波、桥式和倍压整流；单相和三相整流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4487760"/>
            <a:ext cx="8458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分析时可把二极管当作理想元件处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极管的正向导通电阻为零，反向电阻为无穷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03920" y="2253960"/>
            <a:ext cx="298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整流原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利用二极管的单向导电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428840" y="1066680"/>
            <a:ext cx="5657760" cy="171720"/>
            <a:chOff x="1428840" y="1066680"/>
            <a:chExt cx="5657760" cy="171720"/>
          </a:xfrm>
        </p:grpSpPr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1428840" y="1076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3"/>
            <a:stretch/>
          </p:blipFill>
          <p:spPr>
            <a:xfrm>
              <a:off x="1724040" y="1076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4"/>
            <a:stretch/>
          </p:blipFill>
          <p:spPr>
            <a:xfrm>
              <a:off x="1886040" y="1076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5"/>
            <a:stretch/>
          </p:blipFill>
          <p:spPr>
            <a:xfrm>
              <a:off x="2038320" y="1076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6"/>
            <a:stretch/>
          </p:blipFill>
          <p:spPr>
            <a:xfrm>
              <a:off x="2181240" y="1076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7"/>
            <a:stretch/>
          </p:blipFill>
          <p:spPr>
            <a:xfrm>
              <a:off x="1590840" y="10666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8"/>
            <a:stretch/>
          </p:blipFill>
          <p:spPr>
            <a:xfrm>
              <a:off x="2343240" y="1076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9" name=""/>
            <p:cNvGrpSpPr/>
            <p:nvPr/>
          </p:nvGrpSpPr>
          <p:grpSpPr>
            <a:xfrm>
              <a:off x="2505240" y="1066680"/>
              <a:ext cx="4581360" cy="162000"/>
              <a:chOff x="2505240" y="1066680"/>
              <a:chExt cx="4581360" cy="162000"/>
            </a:xfrm>
          </p:grpSpPr>
          <p:pic>
            <p:nvPicPr>
              <p:cNvPr id="32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0524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6478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8098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6244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1050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2670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6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622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7242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387684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0194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1814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4766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6386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3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479124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49338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341964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433404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7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50958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8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524844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9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53910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0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55530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1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570564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2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58482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3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60102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4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63054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5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64674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6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662004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67626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8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69246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9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616284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5096880" y="4433760"/>
            <a:ext cx="3513600" cy="1422000"/>
            <a:chOff x="5096880" y="4433760"/>
            <a:chExt cx="3513600" cy="1422000"/>
          </a:xfrm>
        </p:grpSpPr>
        <p:sp>
          <p:nvSpPr>
            <p:cNvPr id="351" name=""/>
            <p:cNvSpPr/>
            <p:nvPr/>
          </p:nvSpPr>
          <p:spPr>
            <a:xfrm flipV="1">
              <a:off x="5564160" y="486540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564160" y="5170320"/>
              <a:ext cx="2801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3" name=""/>
                <p:cNvSpPr txBox="1"/>
                <p:nvPr/>
              </p:nvSpPr>
              <p:spPr>
                <a:xfrm>
                  <a:off x="8255160" y="5170320"/>
                  <a:ext cx="35532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4" name=""/>
            <p:cNvSpPr/>
            <p:nvPr/>
          </p:nvSpPr>
          <p:spPr>
            <a:xfrm>
              <a:off x="5096880" y="4433760"/>
              <a:ext cx="52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59600" y="5043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5791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9.1.1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单相半波整流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3768480"/>
            <a:ext cx="2666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4149720"/>
            <a:ext cx="38862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4e00"/>
                </a:solidFill>
                <a:latin typeface="Times New Roman"/>
              </a:rPr>
              <a:t>    </a:t>
            </a:r>
            <a:r>
              <a:rPr b="1" i="1" lang="zh-CN" sz="2800" spc="-1" strike="noStrike">
                <a:solidFill>
                  <a:srgbClr val="004e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4e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4e00"/>
                </a:solidFill>
                <a:latin typeface="宋体"/>
              </a:rPr>
              <a:t>正半周，</a:t>
            </a:r>
            <a:r>
              <a:rPr b="1" lang="zh-CN" sz="2800" spc="-1" strike="noStrike">
                <a:solidFill>
                  <a:srgbClr val="004e00"/>
                </a:solidFill>
                <a:latin typeface="Times New Roman"/>
              </a:rPr>
              <a:t>V</a:t>
            </a:r>
            <a:r>
              <a:rPr b="1" lang="zh-CN" sz="2800" spc="-1" strike="noStrike" baseline="-25000">
                <a:solidFill>
                  <a:srgbClr val="004e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4e00"/>
                </a:solidFill>
                <a:latin typeface="Times New Roman"/>
              </a:rPr>
              <a:t>&gt;V</a:t>
            </a:r>
            <a:r>
              <a:rPr b="1" lang="zh-CN" sz="2800" spc="-1" strike="noStrike" baseline="-25000">
                <a:solidFill>
                  <a:srgbClr val="004e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4e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宋体"/>
              </a:rPr>
              <a:t>二极管</a:t>
            </a:r>
            <a:r>
              <a:rPr b="1" lang="zh-CN" sz="2800" spc="-1" strike="noStrike">
                <a:solidFill>
                  <a:srgbClr val="004e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4e00"/>
                </a:solidFill>
                <a:latin typeface="宋体"/>
              </a:rPr>
              <a:t>导通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24520" y="12542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5140440"/>
            <a:ext cx="38862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负半周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lt; 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极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截止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04160" y="102564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路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797040"/>
            <a:ext cx="6409800" cy="161640"/>
            <a:chOff x="457200" y="797040"/>
            <a:chExt cx="6409800" cy="161640"/>
          </a:xfrm>
        </p:grpSpPr>
        <p:pic>
          <p:nvPicPr>
            <p:cNvPr id="363" name="" descr=""/>
            <p:cNvPicPr/>
            <p:nvPr/>
          </p:nvPicPr>
          <p:blipFill>
            <a:blip r:embed="rId2"/>
            <a:stretch/>
          </p:blipFill>
          <p:spPr>
            <a:xfrm>
              <a:off x="599760" y="7970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3"/>
            <a:stretch/>
          </p:blipFill>
          <p:spPr>
            <a:xfrm>
              <a:off x="761760" y="7970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4"/>
            <a:stretch/>
          </p:blipFill>
          <p:spPr>
            <a:xfrm>
              <a:off x="914040" y="7970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5"/>
            <a:stretch/>
          </p:blipFill>
          <p:spPr>
            <a:xfrm>
              <a:off x="1056960" y="7970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6"/>
            <a:stretch/>
          </p:blipFill>
          <p:spPr>
            <a:xfrm>
              <a:off x="1218960" y="7970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7"/>
            <a:stretch/>
          </p:blipFill>
          <p:spPr>
            <a:xfrm>
              <a:off x="1514160" y="7970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8"/>
            <a:stretch/>
          </p:blipFill>
          <p:spPr>
            <a:xfrm>
              <a:off x="1676160" y="7970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9"/>
            <a:stretch/>
          </p:blipFill>
          <p:spPr>
            <a:xfrm>
              <a:off x="1828440" y="7970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10"/>
            <a:stretch/>
          </p:blipFill>
          <p:spPr>
            <a:xfrm>
              <a:off x="1971360" y="7970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11"/>
            <a:stretch/>
          </p:blipFill>
          <p:spPr>
            <a:xfrm>
              <a:off x="457200" y="7970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12"/>
            <a:stretch/>
          </p:blipFill>
          <p:spPr>
            <a:xfrm>
              <a:off x="1371240" y="7970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13"/>
            <a:stretch/>
          </p:blipFill>
          <p:spPr>
            <a:xfrm>
              <a:off x="2133360" y="7970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5" name=""/>
            <p:cNvGrpSpPr/>
            <p:nvPr/>
          </p:nvGrpSpPr>
          <p:grpSpPr>
            <a:xfrm>
              <a:off x="2285640" y="797040"/>
              <a:ext cx="4581360" cy="161640"/>
              <a:chOff x="2285640" y="797040"/>
              <a:chExt cx="4581360" cy="161640"/>
            </a:xfrm>
          </p:grpSpPr>
          <p:pic>
            <p:nvPicPr>
              <p:cNvPr id="376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285640" y="79704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7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428200" y="7970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2590200" y="7970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9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742840" y="79704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885400" y="7970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047400" y="7970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342600" y="7970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3504600" y="7970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4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3657240" y="79704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3799800" y="7970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3961800" y="7970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7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4257000" y="7970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8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4419000" y="7970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571640" y="79704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0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4200" y="7970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1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3200040" y="79704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2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4114440" y="79704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3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4876200" y="7970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4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5028840" y="79704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5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5171400" y="7970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6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5333400" y="7970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7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5486040" y="79704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8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5628600" y="7970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9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5790600" y="7970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0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6085800" y="7970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1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6247800" y="7970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2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6400440" y="79704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3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6543000" y="7970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4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6705000" y="7970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5943240" y="79704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06" name=""/>
          <p:cNvGrpSpPr/>
          <p:nvPr/>
        </p:nvGrpSpPr>
        <p:grpSpPr>
          <a:xfrm>
            <a:off x="533520" y="1363680"/>
            <a:ext cx="4038480" cy="2536560"/>
            <a:chOff x="533520" y="1363680"/>
            <a:chExt cx="4038480" cy="2536560"/>
          </a:xfrm>
        </p:grpSpPr>
        <p:sp>
          <p:nvSpPr>
            <p:cNvPr id="407" name=""/>
            <p:cNvSpPr/>
            <p:nvPr/>
          </p:nvSpPr>
          <p:spPr>
            <a:xfrm>
              <a:off x="3881880" y="27486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  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05360" y="20642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34160" y="2048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230200" y="2736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536400" y="2093760"/>
              <a:ext cx="1084320" cy="553680"/>
              <a:chOff x="536400" y="2093760"/>
              <a:chExt cx="1084320" cy="553680"/>
            </a:xfrm>
          </p:grpSpPr>
          <p:sp>
            <p:nvSpPr>
              <p:cNvPr id="412" name=""/>
              <p:cNvSpPr/>
              <p:nvPr/>
            </p:nvSpPr>
            <p:spPr>
              <a:xfrm flipV="1">
                <a:off x="536400" y="2093760"/>
                <a:ext cx="0" cy="55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36400" y="2647440"/>
                <a:ext cx="108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533520" y="2377800"/>
              <a:ext cx="785520" cy="522000"/>
            </a:xfrm>
            <a:custGeom>
              <a:avLst/>
              <a:gdLst/>
              <a:ahLst/>
              <a:rect l="l" t="t" r="r" b="b"/>
              <a:pathLst>
                <a:path w="1932" h="753">
                  <a:moveTo>
                    <a:pt x="0" y="376"/>
                  </a:moveTo>
                  <a:cubicBezTo>
                    <a:pt x="166" y="190"/>
                    <a:pt x="332" y="4"/>
                    <a:pt x="492" y="2"/>
                  </a:cubicBezTo>
                  <a:cubicBezTo>
                    <a:pt x="652" y="0"/>
                    <a:pt x="798" y="239"/>
                    <a:pt x="960" y="364"/>
                  </a:cubicBezTo>
                  <a:cubicBezTo>
                    <a:pt x="1122" y="489"/>
                    <a:pt x="1301" y="749"/>
                    <a:pt x="1463" y="751"/>
                  </a:cubicBezTo>
                  <a:cubicBezTo>
                    <a:pt x="1625" y="753"/>
                    <a:pt x="1854" y="439"/>
                    <a:pt x="1932" y="37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85920" y="1509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754280" y="1591920"/>
              <a:ext cx="57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897280" y="1377720"/>
              <a:ext cx="5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25880" y="2354040"/>
              <a:ext cx="54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90440" y="2016000"/>
              <a:ext cx="75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025640" y="1987200"/>
              <a:ext cx="61920" cy="52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090440" y="3384360"/>
              <a:ext cx="75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025640" y="3355560"/>
              <a:ext cx="61920" cy="53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828800" y="2304720"/>
              <a:ext cx="65160" cy="788760"/>
            </a:xfrm>
            <a:custGeom>
              <a:avLst/>
              <a:gdLst/>
              <a:ahLst/>
              <a:rect l="l" t="t" r="r" b="b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2109960" y="2304720"/>
              <a:ext cx="63360" cy="788760"/>
            </a:xfrm>
            <a:custGeom>
              <a:avLst/>
              <a:gdLst/>
              <a:ahLst/>
              <a:rect l="l" t="t" r="r" b="b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006640" y="2144520"/>
              <a:ext cx="0" cy="110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2162160" y="3381120"/>
              <a:ext cx="175248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209680" y="2385720"/>
              <a:ext cx="46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28800" y="2012760"/>
              <a:ext cx="0" cy="28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28800" y="3093840"/>
              <a:ext cx="0" cy="28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73320" y="2014200"/>
              <a:ext cx="0" cy="29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173320" y="3093840"/>
              <a:ext cx="0" cy="28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98800" y="2012760"/>
              <a:ext cx="0" cy="43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113200" y="3379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14800" y="2385720"/>
              <a:ext cx="836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2970000" y="1856880"/>
              <a:ext cx="269640" cy="294480"/>
              <a:chOff x="2970000" y="1856880"/>
              <a:chExt cx="269640" cy="294480"/>
            </a:xfrm>
          </p:grpSpPr>
          <p:sp>
            <p:nvSpPr>
              <p:cNvPr id="436" name=""/>
              <p:cNvSpPr/>
              <p:nvPr/>
            </p:nvSpPr>
            <p:spPr>
              <a:xfrm flipH="1" rot="5400000">
                <a:off x="2950200" y="1880280"/>
                <a:ext cx="290520" cy="25128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3239640" y="1856880"/>
                <a:ext cx="0" cy="29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3827520" y="2465280"/>
              <a:ext cx="154080" cy="423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73320" y="2016000"/>
              <a:ext cx="1741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359160" y="1871280"/>
              <a:ext cx="538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81480" y="1363680"/>
              <a:ext cx="547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i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03840" y="2887560"/>
              <a:ext cx="0" cy="49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3922560" y="2016000"/>
            <a:ext cx="0" cy="1371240"/>
            <a:chOff x="3922560" y="2016000"/>
            <a:chExt cx="0" cy="1371240"/>
          </a:xfrm>
        </p:grpSpPr>
        <p:sp>
          <p:nvSpPr>
            <p:cNvPr id="444" name=""/>
            <p:cNvSpPr/>
            <p:nvPr/>
          </p:nvSpPr>
          <p:spPr>
            <a:xfrm>
              <a:off x="3922560" y="2791080"/>
              <a:ext cx="0" cy="596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22560" y="2016000"/>
              <a:ext cx="0" cy="834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2209680" y="3382920"/>
            <a:ext cx="1752480" cy="0"/>
            <a:chOff x="2209680" y="3382920"/>
            <a:chExt cx="1752480" cy="0"/>
          </a:xfrm>
        </p:grpSpPr>
        <p:sp>
          <p:nvSpPr>
            <p:cNvPr id="447" name=""/>
            <p:cNvSpPr/>
            <p:nvPr/>
          </p:nvSpPr>
          <p:spPr>
            <a:xfrm flipH="1">
              <a:off x="2209680" y="3382920"/>
              <a:ext cx="8762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3085920" y="3382920"/>
              <a:ext cx="8762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246400" y="2016000"/>
            <a:ext cx="1675440" cy="0"/>
            <a:chOff x="2246400" y="2016000"/>
            <a:chExt cx="1675440" cy="0"/>
          </a:xfrm>
        </p:grpSpPr>
        <p:sp>
          <p:nvSpPr>
            <p:cNvPr id="450" name=""/>
            <p:cNvSpPr/>
            <p:nvPr/>
          </p:nvSpPr>
          <p:spPr>
            <a:xfrm>
              <a:off x="3084120" y="2016000"/>
              <a:ext cx="837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246400" y="2016000"/>
              <a:ext cx="837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 flipV="1">
            <a:off x="5564160" y="3951360"/>
            <a:ext cx="485640" cy="519120"/>
          </a:xfrm>
          <a:custGeom>
            <a:avLst/>
            <a:gdLst/>
            <a:ahLst/>
            <a:rect l="l" t="t" r="r" b="b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6539040" y="3951360"/>
            <a:ext cx="485640" cy="519120"/>
          </a:xfrm>
          <a:custGeom>
            <a:avLst/>
            <a:gdLst/>
            <a:ahLst/>
            <a:rect l="l" t="t" r="r" b="b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7513560" y="3951360"/>
            <a:ext cx="486000" cy="519120"/>
          </a:xfrm>
          <a:custGeom>
            <a:avLst/>
            <a:gdLst/>
            <a:ahLst/>
            <a:rect l="l" t="t" r="r" b="b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54840" y="5170320"/>
            <a:ext cx="487080" cy="533520"/>
          </a:xfrm>
          <a:custGeom>
            <a:avLst/>
            <a:gdLst/>
            <a:ahLst/>
            <a:rect l="l" t="t" r="r" b="b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029360" y="5170320"/>
            <a:ext cx="487440" cy="533520"/>
          </a:xfrm>
          <a:custGeom>
            <a:avLst/>
            <a:gdLst/>
            <a:ahLst/>
            <a:rect l="l" t="t" r="r" b="b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6054840" y="2884320"/>
            <a:ext cx="1950840" cy="2286000"/>
            <a:chOff x="6054840" y="2884320"/>
            <a:chExt cx="1950840" cy="2286000"/>
          </a:xfrm>
        </p:grpSpPr>
        <p:sp>
          <p:nvSpPr>
            <p:cNvPr id="458" name=""/>
            <p:cNvSpPr/>
            <p:nvPr/>
          </p:nvSpPr>
          <p:spPr>
            <a:xfrm>
              <a:off x="6054840" y="2884320"/>
              <a:ext cx="0" cy="2286000"/>
            </a:xfrm>
            <a:prstGeom prst="line">
              <a:avLst/>
            </a:prstGeom>
            <a:ln w="1908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542280" y="2884320"/>
              <a:ext cx="0" cy="2286000"/>
            </a:xfrm>
            <a:prstGeom prst="line">
              <a:avLst/>
            </a:prstGeom>
            <a:ln w="1908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030440" y="2884320"/>
              <a:ext cx="0" cy="2286000"/>
            </a:xfrm>
            <a:prstGeom prst="line">
              <a:avLst/>
            </a:prstGeom>
            <a:ln w="1908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17880" y="2884320"/>
              <a:ext cx="0" cy="2286000"/>
            </a:xfrm>
            <a:prstGeom prst="line">
              <a:avLst/>
            </a:prstGeom>
            <a:ln w="1908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005680" y="2884320"/>
              <a:ext cx="0" cy="2286000"/>
            </a:xfrm>
            <a:prstGeom prst="line">
              <a:avLst/>
            </a:prstGeom>
            <a:ln w="1908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054840" y="4460760"/>
            <a:ext cx="1461600" cy="0"/>
            <a:chOff x="6054840" y="4460760"/>
            <a:chExt cx="1461600" cy="0"/>
          </a:xfrm>
        </p:grpSpPr>
        <p:sp>
          <p:nvSpPr>
            <p:cNvPr id="464" name=""/>
            <p:cNvSpPr/>
            <p:nvPr/>
          </p:nvSpPr>
          <p:spPr>
            <a:xfrm>
              <a:off x="6054840" y="4460760"/>
              <a:ext cx="487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029360" y="4460760"/>
              <a:ext cx="487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5567400" y="5170320"/>
            <a:ext cx="2437920" cy="0"/>
            <a:chOff x="5567400" y="5170320"/>
            <a:chExt cx="2437920" cy="0"/>
          </a:xfrm>
        </p:grpSpPr>
        <p:sp>
          <p:nvSpPr>
            <p:cNvPr id="467" name=""/>
            <p:cNvSpPr/>
            <p:nvPr/>
          </p:nvSpPr>
          <p:spPr>
            <a:xfrm>
              <a:off x="7517880" y="5170320"/>
              <a:ext cx="48744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542280" y="5170320"/>
              <a:ext cx="4878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7400" y="5170320"/>
              <a:ext cx="48744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>
            <a:hlinkClick r:id="rId44"/>
          </p:cNvPr>
          <p:cNvSpPr/>
          <p:nvPr/>
        </p:nvSpPr>
        <p:spPr>
          <a:xfrm>
            <a:off x="7005600" y="1298520"/>
            <a:ext cx="766800" cy="37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bcb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00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5181480" y="1721880"/>
            <a:ext cx="3354120" cy="1858680"/>
            <a:chOff x="5181480" y="1721880"/>
            <a:chExt cx="3354120" cy="1858680"/>
          </a:xfrm>
        </p:grpSpPr>
        <p:sp>
          <p:nvSpPr>
            <p:cNvPr id="472" name=""/>
            <p:cNvSpPr/>
            <p:nvPr/>
          </p:nvSpPr>
          <p:spPr>
            <a:xfrm flipV="1">
              <a:off x="5546880" y="205668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46880" y="2895480"/>
              <a:ext cx="2802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81480" y="1721880"/>
              <a:ext cx="36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26840" y="2847960"/>
              <a:ext cx="60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6720" y="27158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5121720" y="3235320"/>
            <a:ext cx="3463560" cy="1576440"/>
            <a:chOff x="5121720" y="3235320"/>
            <a:chExt cx="3463560" cy="1576440"/>
          </a:xfrm>
        </p:grpSpPr>
        <p:grpSp>
          <p:nvGrpSpPr>
            <p:cNvPr id="478" name=""/>
            <p:cNvGrpSpPr/>
            <p:nvPr/>
          </p:nvGrpSpPr>
          <p:grpSpPr>
            <a:xfrm>
              <a:off x="5121720" y="3235320"/>
              <a:ext cx="3183840" cy="1557360"/>
              <a:chOff x="5121720" y="3235320"/>
              <a:chExt cx="3183840" cy="1557360"/>
            </a:xfrm>
          </p:grpSpPr>
          <p:grpSp>
            <p:nvGrpSpPr>
              <p:cNvPr id="479" name=""/>
              <p:cNvGrpSpPr/>
              <p:nvPr/>
            </p:nvGrpSpPr>
            <p:grpSpPr>
              <a:xfrm>
                <a:off x="5121720" y="3235320"/>
                <a:ext cx="3183840" cy="1557360"/>
                <a:chOff x="5121720" y="3235320"/>
                <a:chExt cx="3183840" cy="1557360"/>
              </a:xfrm>
            </p:grpSpPr>
            <p:grpSp>
              <p:nvGrpSpPr>
                <p:cNvPr id="480" name=""/>
                <p:cNvGrpSpPr/>
                <p:nvPr/>
              </p:nvGrpSpPr>
              <p:grpSpPr>
                <a:xfrm>
                  <a:off x="5563080" y="3646440"/>
                  <a:ext cx="2742480" cy="1146240"/>
                  <a:chOff x="5563080" y="3646440"/>
                  <a:chExt cx="2742480" cy="114624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flipV="1">
                    <a:off x="5563080" y="3646440"/>
                    <a:ext cx="0" cy="1146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arrow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5563080" y="4462560"/>
                    <a:ext cx="2742480" cy="12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arrow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3" name=""/>
                <p:cNvSpPr/>
                <p:nvPr/>
              </p:nvSpPr>
              <p:spPr>
                <a:xfrm>
                  <a:off x="5121720" y="3235320"/>
                  <a:ext cx="4824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u</a:t>
                  </a:r>
                  <a:r>
                    <a:rPr b="1" lang="zh-CN" sz="2800" spc="-1" strike="noStrike" baseline="-25000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"/>
              <p:cNvSpPr/>
              <p:nvPr/>
            </p:nvSpPr>
            <p:spPr>
              <a:xfrm>
                <a:off x="5259600" y="4267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85" name=""/>
                <p:cNvSpPr txBox="1"/>
                <p:nvPr/>
              </p:nvSpPr>
              <p:spPr>
                <a:xfrm>
                  <a:off x="8229600" y="4495680"/>
                  <a:ext cx="35568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6" name=""/>
          <p:cNvGrpSpPr/>
          <p:nvPr/>
        </p:nvGrpSpPr>
        <p:grpSpPr>
          <a:xfrm>
            <a:off x="5105520" y="2216160"/>
            <a:ext cx="2895480" cy="1201680"/>
            <a:chOff x="5105520" y="2216160"/>
            <a:chExt cx="2895480" cy="1201680"/>
          </a:xfrm>
        </p:grpSpPr>
        <p:sp>
          <p:nvSpPr>
            <p:cNvPr id="487" name=""/>
            <p:cNvSpPr/>
            <p:nvPr/>
          </p:nvSpPr>
          <p:spPr>
            <a:xfrm>
              <a:off x="5564160" y="2351160"/>
              <a:ext cx="243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64160" y="2351160"/>
              <a:ext cx="2436840" cy="1066680"/>
            </a:xfrm>
            <a:custGeom>
              <a:avLst/>
              <a:gdLst/>
              <a:ahLst/>
              <a:rect l="l" t="t" r="r" b="b"/>
              <a:pathLst>
                <a:path w="4320" h="960">
                  <a:moveTo>
                    <a:pt x="0" y="480"/>
                  </a:moveTo>
                  <a:cubicBezTo>
                    <a:pt x="144" y="240"/>
                    <a:pt x="288" y="0"/>
                    <a:pt x="432" y="0"/>
                  </a:cubicBezTo>
                  <a:cubicBezTo>
                    <a:pt x="576" y="0"/>
                    <a:pt x="720" y="320"/>
                    <a:pt x="864" y="480"/>
                  </a:cubicBezTo>
                  <a:cubicBezTo>
                    <a:pt x="1008" y="640"/>
                    <a:pt x="1152" y="960"/>
                    <a:pt x="1296" y="960"/>
                  </a:cubicBezTo>
                  <a:cubicBezTo>
                    <a:pt x="1440" y="960"/>
                    <a:pt x="1584" y="640"/>
                    <a:pt x="1728" y="480"/>
                  </a:cubicBezTo>
                  <a:cubicBezTo>
                    <a:pt x="1872" y="320"/>
                    <a:pt x="2016" y="0"/>
                    <a:pt x="2160" y="0"/>
                  </a:cubicBezTo>
                  <a:cubicBezTo>
                    <a:pt x="2304" y="0"/>
                    <a:pt x="2448" y="320"/>
                    <a:pt x="2592" y="480"/>
                  </a:cubicBezTo>
                  <a:cubicBezTo>
                    <a:pt x="2736" y="640"/>
                    <a:pt x="2880" y="960"/>
                    <a:pt x="3024" y="960"/>
                  </a:cubicBezTo>
                  <a:cubicBezTo>
                    <a:pt x="3168" y="960"/>
                    <a:pt x="3312" y="640"/>
                    <a:pt x="3456" y="480"/>
                  </a:cubicBezTo>
                  <a:cubicBezTo>
                    <a:pt x="3600" y="320"/>
                    <a:pt x="3744" y="0"/>
                    <a:pt x="3888" y="0"/>
                  </a:cubicBezTo>
                  <a:cubicBezTo>
                    <a:pt x="4032" y="0"/>
                    <a:pt x="4176" y="240"/>
                    <a:pt x="4320" y="48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9" name=""/>
                <p:cNvSpPr txBox="1"/>
                <p:nvPr/>
              </p:nvSpPr>
              <p:spPr>
                <a:xfrm>
                  <a:off x="5105520" y="2216160"/>
                  <a:ext cx="4014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0" name=""/>
          <p:cNvGrpSpPr/>
          <p:nvPr/>
        </p:nvGrpSpPr>
        <p:grpSpPr>
          <a:xfrm>
            <a:off x="5029200" y="3807000"/>
            <a:ext cx="782280" cy="384120"/>
            <a:chOff x="5029200" y="3807000"/>
            <a:chExt cx="782280" cy="384120"/>
          </a:xfrm>
        </p:grpSpPr>
        <mc:AlternateContent>
          <mc:Choice xmlns:a14="http://schemas.microsoft.com/office/drawing/2010/main" Requires="a14">
            <p:sp>
              <p:nvSpPr>
                <p:cNvPr id="491" name=""/>
                <p:cNvSpPr txBox="1"/>
                <p:nvPr/>
              </p:nvSpPr>
              <p:spPr>
                <a:xfrm>
                  <a:off x="5029200" y="3807000"/>
                  <a:ext cx="46692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2" name=""/>
            <p:cNvSpPr/>
            <p:nvPr/>
          </p:nvSpPr>
          <p:spPr>
            <a:xfrm flipH="1">
              <a:off x="5528880" y="3959280"/>
              <a:ext cx="28260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4929120" y="5448240"/>
            <a:ext cx="1369800" cy="384120"/>
            <a:chOff x="4929120" y="5448240"/>
            <a:chExt cx="1369800" cy="384120"/>
          </a:xfrm>
        </p:grpSpPr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4929120" y="5448240"/>
                  <a:ext cx="57312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5" name=""/>
            <p:cNvSpPr/>
            <p:nvPr/>
          </p:nvSpPr>
          <p:spPr>
            <a:xfrm flipH="1">
              <a:off x="5552640" y="5703840"/>
              <a:ext cx="74628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393840" y="380880"/>
            <a:ext cx="326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4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参数计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04920" y="838080"/>
            <a:ext cx="4647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4e00"/>
                </a:solidFill>
                <a:latin typeface="Times New Roman"/>
              </a:rPr>
              <a:t>整流电压平均值 </a:t>
            </a:r>
            <a:r>
              <a:rPr b="1" i="1" lang="zh-CN" sz="2800" spc="-1" strike="noStrike">
                <a:solidFill>
                  <a:srgbClr val="004e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4e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04920" y="2216160"/>
            <a:ext cx="426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4e00"/>
                </a:solidFill>
                <a:latin typeface="Times New Roman"/>
              </a:rPr>
              <a:t>整流电流平均值 </a:t>
            </a:r>
            <a:r>
              <a:rPr b="1" i="1" lang="zh-CN" sz="2800" spc="-1" strike="noStrike">
                <a:solidFill>
                  <a:srgbClr val="004e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4e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3976560" y="1973160"/>
                <a:ext cx="295776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304920" y="3200400"/>
            <a:ext cx="5105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4e00"/>
                </a:solidFill>
                <a:latin typeface="Times New Roman"/>
              </a:rPr>
              <a:t>流过每管电流平均值 </a:t>
            </a:r>
            <a:r>
              <a:rPr b="1" i="1" lang="zh-CN" sz="2800" spc="-1" strike="noStrike">
                <a:solidFill>
                  <a:srgbClr val="004e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4e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4800600" y="3214800"/>
                <a:ext cx="129528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2" name=""/>
          <p:cNvSpPr/>
          <p:nvPr/>
        </p:nvSpPr>
        <p:spPr>
          <a:xfrm>
            <a:off x="1054440" y="3886200"/>
            <a:ext cx="404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imes New Roman"/>
              </a:rPr>
              <a:t>(4) </a:t>
            </a:r>
            <a:r>
              <a:rPr b="1" lang="zh-CN" sz="2800" spc="-1" strike="noStrike">
                <a:solidFill>
                  <a:srgbClr val="004e00"/>
                </a:solidFill>
                <a:latin typeface="Times New Roman"/>
              </a:rPr>
              <a:t>每管承受的最高反向电压 </a:t>
            </a:r>
            <a:r>
              <a:rPr b="1" i="1" lang="zh-CN" sz="2800" spc="-1" strike="noStrike">
                <a:solidFill>
                  <a:srgbClr val="004e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4e00"/>
                </a:solidFill>
                <a:latin typeface="Times New Roman"/>
              </a:rPr>
              <a:t>D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6019920" y="3886200"/>
                <a:ext cx="17524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M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4" name=""/>
          <p:cNvSpPr/>
          <p:nvPr/>
        </p:nvSpPr>
        <p:spPr>
          <a:xfrm>
            <a:off x="304920" y="44956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imes New Roman"/>
              </a:rPr>
              <a:t>(5) </a:t>
            </a:r>
            <a:r>
              <a:rPr b="1" lang="zh-CN" sz="2800" spc="-1" strike="noStrike">
                <a:solidFill>
                  <a:srgbClr val="004e00"/>
                </a:solidFill>
                <a:latin typeface="Times New Roman"/>
              </a:rPr>
              <a:t>变压器副边电流有效值 </a:t>
            </a:r>
            <a:r>
              <a:rPr b="1" i="1" lang="zh-CN" sz="2800" spc="-1" strike="noStrike">
                <a:solidFill>
                  <a:srgbClr val="004e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2209680" y="5029200"/>
                <a:ext cx="53341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ω</m:t>
                            </m:r>
                            <m:r>
                              <m:t xml:space="preserve">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  <m:r>
                              <m:t xml:space="preserve">t</m:t>
                            </m:r>
                          </m:e>
                        </m:nary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06" name=""/>
          <p:cNvGrpSpPr/>
          <p:nvPr/>
        </p:nvGrpSpPr>
        <p:grpSpPr>
          <a:xfrm>
            <a:off x="2351160" y="1265400"/>
            <a:ext cx="5565600" cy="930240"/>
            <a:chOff x="2351160" y="1265400"/>
            <a:chExt cx="5565600" cy="930240"/>
          </a:xfrm>
        </p:grpSpPr>
        <mc:AlternateContent>
          <mc:Choice xmlns:a14="http://schemas.microsoft.com/office/drawing/2010/main" Requires="a14">
            <p:sp>
              <p:nvSpPr>
                <p:cNvPr id="507" name=""/>
                <p:cNvSpPr txBox="1"/>
                <p:nvPr/>
              </p:nvSpPr>
              <p:spPr>
                <a:xfrm>
                  <a:off x="2833560" y="1265400"/>
                  <a:ext cx="3872160" cy="93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den>
                      </m:f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e>
                      </m:nary>
                      <m:r>
                        <m:t xml:space="preserve">U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ω</m:t>
                      </m:r>
                      <m:r>
                        <m:t xml:space="preserve">td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8" name=""/>
                <p:cNvSpPr txBox="1"/>
                <p:nvPr/>
              </p:nvSpPr>
              <p:spPr>
                <a:xfrm>
                  <a:off x="6629400" y="1523880"/>
                  <a:ext cx="128736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9" name=""/>
                <p:cNvSpPr txBox="1"/>
                <p:nvPr/>
              </p:nvSpPr>
              <p:spPr>
                <a:xfrm>
                  <a:off x="2351160" y="1447920"/>
                  <a:ext cx="54432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762120" y="609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5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整流二极管的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1284480"/>
            <a:ext cx="74674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均电流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最高反向电压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DR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选择整流二极管的主要依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371600" y="2284560"/>
            <a:ext cx="5486400" cy="1095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选管时应满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OM</a:t>
            </a:r>
            <a:r>
              <a:rPr b="1" i="1" lang="zh-CN" sz="2800" spc="-1" strike="noStrike" baseline="-25000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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，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RWM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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DRM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9.1.2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单相桥式整流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533520" y="3927240"/>
            <a:ext cx="2666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3520" y="4384800"/>
            <a:ext cx="396216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半周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极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导通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截止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334120" y="11080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557680" y="5343480"/>
            <a:ext cx="6908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u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D2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u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D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69800" y="1122480"/>
            <a:ext cx="22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路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447840" y="879480"/>
            <a:ext cx="6409800" cy="162000"/>
            <a:chOff x="447840" y="879480"/>
            <a:chExt cx="6409800" cy="162000"/>
          </a:xfrm>
        </p:grpSpPr>
        <p:pic>
          <p:nvPicPr>
            <p:cNvPr id="520" name="" descr=""/>
            <p:cNvPicPr/>
            <p:nvPr/>
          </p:nvPicPr>
          <p:blipFill>
            <a:blip r:embed="rId2"/>
            <a:stretch/>
          </p:blipFill>
          <p:spPr>
            <a:xfrm>
              <a:off x="590400" y="8794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" descr=""/>
            <p:cNvPicPr/>
            <p:nvPr/>
          </p:nvPicPr>
          <p:blipFill>
            <a:blip r:embed="rId3"/>
            <a:stretch/>
          </p:blipFill>
          <p:spPr>
            <a:xfrm>
              <a:off x="752400" y="8794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" descr=""/>
            <p:cNvPicPr/>
            <p:nvPr/>
          </p:nvPicPr>
          <p:blipFill>
            <a:blip r:embed="rId4"/>
            <a:stretch/>
          </p:blipFill>
          <p:spPr>
            <a:xfrm>
              <a:off x="904680" y="8794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" descr=""/>
            <p:cNvPicPr/>
            <p:nvPr/>
          </p:nvPicPr>
          <p:blipFill>
            <a:blip r:embed="rId5"/>
            <a:stretch/>
          </p:blipFill>
          <p:spPr>
            <a:xfrm>
              <a:off x="1047600" y="8794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" descr=""/>
            <p:cNvPicPr/>
            <p:nvPr/>
          </p:nvPicPr>
          <p:blipFill>
            <a:blip r:embed="rId6"/>
            <a:stretch/>
          </p:blipFill>
          <p:spPr>
            <a:xfrm>
              <a:off x="1209600" y="8794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" descr=""/>
            <p:cNvPicPr/>
            <p:nvPr/>
          </p:nvPicPr>
          <p:blipFill>
            <a:blip r:embed="rId7"/>
            <a:stretch/>
          </p:blipFill>
          <p:spPr>
            <a:xfrm>
              <a:off x="1504800" y="8794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8"/>
            <a:stretch/>
          </p:blipFill>
          <p:spPr>
            <a:xfrm>
              <a:off x="1666800" y="8794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" descr=""/>
            <p:cNvPicPr/>
            <p:nvPr/>
          </p:nvPicPr>
          <p:blipFill>
            <a:blip r:embed="rId9"/>
            <a:stretch/>
          </p:blipFill>
          <p:spPr>
            <a:xfrm>
              <a:off x="1819080" y="8794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" descr=""/>
            <p:cNvPicPr/>
            <p:nvPr/>
          </p:nvPicPr>
          <p:blipFill>
            <a:blip r:embed="rId10"/>
            <a:stretch/>
          </p:blipFill>
          <p:spPr>
            <a:xfrm>
              <a:off x="1962000" y="8794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" descr=""/>
            <p:cNvPicPr/>
            <p:nvPr/>
          </p:nvPicPr>
          <p:blipFill>
            <a:blip r:embed="rId11"/>
            <a:stretch/>
          </p:blipFill>
          <p:spPr>
            <a:xfrm>
              <a:off x="447840" y="8794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" descr=""/>
            <p:cNvPicPr/>
            <p:nvPr/>
          </p:nvPicPr>
          <p:blipFill>
            <a:blip r:embed="rId12"/>
            <a:stretch/>
          </p:blipFill>
          <p:spPr>
            <a:xfrm>
              <a:off x="1361880" y="8794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13"/>
            <a:stretch/>
          </p:blipFill>
          <p:spPr>
            <a:xfrm>
              <a:off x="2124000" y="8794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2" name=""/>
            <p:cNvGrpSpPr/>
            <p:nvPr/>
          </p:nvGrpSpPr>
          <p:grpSpPr>
            <a:xfrm>
              <a:off x="2276280" y="879480"/>
              <a:ext cx="4581360" cy="162000"/>
              <a:chOff x="2276280" y="879480"/>
              <a:chExt cx="4581360" cy="162000"/>
            </a:xfrm>
          </p:grpSpPr>
          <p:pic>
            <p:nvPicPr>
              <p:cNvPr id="53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276280" y="8794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418840" y="8794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5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2580840" y="8794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6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733480" y="8794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876040" y="8794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8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038040" y="8794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9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333240" y="8794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0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3495240" y="8794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1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3647880" y="8794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2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3790440" y="8794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3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3952440" y="8794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4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4247640" y="8794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5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4409640" y="8794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6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562280" y="8794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7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04840" y="8794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8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3190680" y="8794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9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4105080" y="8794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0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4866840" y="8794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1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5019480" y="8794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2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5162040" y="8794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3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5324040" y="8794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4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5476680" y="8794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5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5619240" y="8794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6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5781240" y="8794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7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6076440" y="8794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8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6238440" y="8794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9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6391080" y="8794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0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6533640" y="8794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1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6695640" y="8794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2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5933880" y="8794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63" name=""/>
          <p:cNvSpPr/>
          <p:nvPr/>
        </p:nvSpPr>
        <p:spPr>
          <a:xfrm>
            <a:off x="3690720" y="2052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Symbol"/>
                <a:ea typeface="Symbol"/>
              </a:rPr>
              <a:t>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809880" y="3164760"/>
            <a:ext cx="304920" cy="304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5564160" y="3666960"/>
            <a:ext cx="485640" cy="519120"/>
          </a:xfrm>
          <a:custGeom>
            <a:avLst/>
            <a:gdLst/>
            <a:ahLst/>
            <a:rect l="l" t="t" r="r" b="b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6539040" y="3666960"/>
            <a:ext cx="485640" cy="519120"/>
          </a:xfrm>
          <a:custGeom>
            <a:avLst/>
            <a:gdLst/>
            <a:ahLst/>
            <a:rect l="l" t="t" r="r" b="b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7513560" y="3666960"/>
            <a:ext cx="486000" cy="519120"/>
          </a:xfrm>
          <a:custGeom>
            <a:avLst/>
            <a:gdLst/>
            <a:ahLst/>
            <a:rect l="l" t="t" r="r" b="b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564160" y="4886280"/>
            <a:ext cx="487440" cy="533520"/>
          </a:xfrm>
          <a:custGeom>
            <a:avLst/>
            <a:gdLst/>
            <a:ahLst/>
            <a:rect l="l" t="t" r="r" b="b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537240" y="4886280"/>
            <a:ext cx="487440" cy="533520"/>
          </a:xfrm>
          <a:custGeom>
            <a:avLst/>
            <a:gdLst/>
            <a:ahLst/>
            <a:rect l="l" t="t" r="r" b="b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510320" y="4886280"/>
            <a:ext cx="489240" cy="533520"/>
          </a:xfrm>
          <a:custGeom>
            <a:avLst/>
            <a:gdLst/>
            <a:ahLst/>
            <a:rect l="l" t="t" r="r" b="b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054840" y="2600280"/>
            <a:ext cx="1950840" cy="2286000"/>
            <a:chOff x="6054840" y="2600280"/>
            <a:chExt cx="1950840" cy="2286000"/>
          </a:xfrm>
        </p:grpSpPr>
        <p:sp>
          <p:nvSpPr>
            <p:cNvPr id="572" name=""/>
            <p:cNvSpPr/>
            <p:nvPr/>
          </p:nvSpPr>
          <p:spPr>
            <a:xfrm>
              <a:off x="6054840" y="2600280"/>
              <a:ext cx="0" cy="2286000"/>
            </a:xfrm>
            <a:prstGeom prst="line">
              <a:avLst/>
            </a:prstGeom>
            <a:ln w="1908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42280" y="2600280"/>
              <a:ext cx="0" cy="2286000"/>
            </a:xfrm>
            <a:prstGeom prst="line">
              <a:avLst/>
            </a:prstGeom>
            <a:ln w="1908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30440" y="2600280"/>
              <a:ext cx="0" cy="2286000"/>
            </a:xfrm>
            <a:prstGeom prst="line">
              <a:avLst/>
            </a:prstGeom>
            <a:ln w="1908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517880" y="2600280"/>
              <a:ext cx="0" cy="2286000"/>
            </a:xfrm>
            <a:prstGeom prst="line">
              <a:avLst/>
            </a:prstGeom>
            <a:ln w="1908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005680" y="2600280"/>
              <a:ext cx="0" cy="2286000"/>
            </a:xfrm>
            <a:prstGeom prst="line">
              <a:avLst/>
            </a:prstGeom>
            <a:ln w="1908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5077800" y="2950920"/>
            <a:ext cx="3525840" cy="2621160"/>
            <a:chOff x="5077800" y="2950920"/>
            <a:chExt cx="3525840" cy="2621160"/>
          </a:xfrm>
        </p:grpSpPr>
        <p:sp>
          <p:nvSpPr>
            <p:cNvPr id="578" name=""/>
            <p:cNvSpPr/>
            <p:nvPr/>
          </p:nvSpPr>
          <p:spPr>
            <a:xfrm flipV="1">
              <a:off x="5563800" y="458136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563800" y="4886280"/>
              <a:ext cx="2802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0" name=""/>
            <p:cNvGrpSpPr/>
            <p:nvPr/>
          </p:nvGrpSpPr>
          <p:grpSpPr>
            <a:xfrm>
              <a:off x="5563800" y="3362040"/>
              <a:ext cx="2742120" cy="1146240"/>
              <a:chOff x="5563800" y="3362040"/>
              <a:chExt cx="2742120" cy="1146240"/>
            </a:xfrm>
          </p:grpSpPr>
          <p:sp>
            <p:nvSpPr>
              <p:cNvPr id="581" name=""/>
              <p:cNvSpPr/>
              <p:nvPr/>
            </p:nvSpPr>
            <p:spPr>
              <a:xfrm flipV="1">
                <a:off x="5563800" y="3362040"/>
                <a:ext cx="0" cy="1146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563800" y="4178160"/>
                <a:ext cx="2742120" cy="1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5122080" y="295092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077800" y="4276440"/>
              <a:ext cx="52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075160" y="4047840"/>
              <a:ext cx="52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080200" y="4809960"/>
              <a:ext cx="52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423720" y="1336680"/>
            <a:ext cx="3877560" cy="2438280"/>
            <a:chOff x="423720" y="1336680"/>
            <a:chExt cx="3877560" cy="2438280"/>
          </a:xfrm>
        </p:grpSpPr>
        <p:grpSp>
          <p:nvGrpSpPr>
            <p:cNvPr id="588" name=""/>
            <p:cNvGrpSpPr/>
            <p:nvPr/>
          </p:nvGrpSpPr>
          <p:grpSpPr>
            <a:xfrm>
              <a:off x="2238840" y="2006640"/>
              <a:ext cx="659880" cy="664560"/>
              <a:chOff x="2238840" y="2006640"/>
              <a:chExt cx="659880" cy="664560"/>
            </a:xfrm>
          </p:grpSpPr>
          <p:sp>
            <p:nvSpPr>
              <p:cNvPr id="589" name=""/>
              <p:cNvSpPr/>
              <p:nvPr/>
            </p:nvSpPr>
            <p:spPr>
              <a:xfrm flipH="1">
                <a:off x="2498400" y="2305800"/>
                <a:ext cx="228600" cy="20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8310000">
                <a:off x="2387160" y="2212560"/>
                <a:ext cx="304920" cy="220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238840" y="2006640"/>
                <a:ext cx="659880" cy="66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1553760" y="2000520"/>
              <a:ext cx="655920" cy="668520"/>
              <a:chOff x="1553760" y="2000520"/>
              <a:chExt cx="655920" cy="668520"/>
            </a:xfrm>
          </p:grpSpPr>
          <p:sp>
            <p:nvSpPr>
              <p:cNvPr id="593" name=""/>
              <p:cNvSpPr/>
              <p:nvPr/>
            </p:nvSpPr>
            <p:spPr>
              <a:xfrm>
                <a:off x="1847160" y="2176200"/>
                <a:ext cx="204840" cy="22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865600">
                <a:off x="1713240" y="2253240"/>
                <a:ext cx="304920" cy="220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1553760" y="2000520"/>
                <a:ext cx="655920" cy="668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232000" y="2694240"/>
              <a:ext cx="671400" cy="653040"/>
              <a:chOff x="2232000" y="2694240"/>
              <a:chExt cx="671400" cy="653040"/>
            </a:xfrm>
          </p:grpSpPr>
          <p:sp>
            <p:nvSpPr>
              <p:cNvPr id="597" name=""/>
              <p:cNvSpPr/>
              <p:nvPr/>
            </p:nvSpPr>
            <p:spPr>
              <a:xfrm>
                <a:off x="2535480" y="2861280"/>
                <a:ext cx="199440" cy="23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2945400">
                <a:off x="2399040" y="2937600"/>
                <a:ext cx="304920" cy="220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2232000" y="2694240"/>
                <a:ext cx="671400" cy="653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 flipH="1">
              <a:off x="1868040" y="2991600"/>
              <a:ext cx="228600" cy="20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8311800">
              <a:off x="1757520" y="2898000"/>
              <a:ext cx="304560" cy="2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67440" y="2690640"/>
              <a:ext cx="659520" cy="66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155680" y="2022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879480" y="20224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79480" y="331776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2917800" y="2022120"/>
              <a:ext cx="0" cy="67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65280" y="263196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565280" y="3774960"/>
              <a:ext cx="21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917800" y="2022480"/>
              <a:ext cx="77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 rot="16200000">
              <a:off x="3465000" y="2784240"/>
              <a:ext cx="457200" cy="152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93960" y="308916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693960" y="2022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747240" y="2570040"/>
              <a:ext cx="55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52680" y="24177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124080" y="1336680"/>
              <a:ext cx="460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164040" y="1908000"/>
              <a:ext cx="403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171240" y="255744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57800" y="1946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557800" y="296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567080" y="2887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567080" y="1896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23720" y="1641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24080" y="30128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94080" y="19461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76360" y="283212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202200" y="21747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125880" y="303048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03160" y="3278160"/>
              <a:ext cx="8568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03160" y="1993680"/>
              <a:ext cx="8568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1565280" y="2668680"/>
            <a:ext cx="685800" cy="6858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914400" y="3317760"/>
            <a:ext cx="13716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914400" y="2022480"/>
            <a:ext cx="13716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247840" y="2041560"/>
            <a:ext cx="685800" cy="6858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2914560" y="2022120"/>
            <a:ext cx="0" cy="6858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2914560" y="2022480"/>
            <a:ext cx="795600" cy="0"/>
            <a:chOff x="2914560" y="2022480"/>
            <a:chExt cx="795600" cy="0"/>
          </a:xfrm>
        </p:grpSpPr>
        <p:sp>
          <p:nvSpPr>
            <p:cNvPr id="636" name=""/>
            <p:cNvSpPr/>
            <p:nvPr/>
          </p:nvSpPr>
          <p:spPr>
            <a:xfrm>
              <a:off x="3312360" y="2022480"/>
              <a:ext cx="39780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914560" y="2022480"/>
              <a:ext cx="39780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3695760" y="2022480"/>
            <a:ext cx="0" cy="1752480"/>
            <a:chOff x="3695760" y="2022480"/>
            <a:chExt cx="0" cy="1752480"/>
          </a:xfrm>
        </p:grpSpPr>
        <p:sp>
          <p:nvSpPr>
            <p:cNvPr id="639" name=""/>
            <p:cNvSpPr/>
            <p:nvPr/>
          </p:nvSpPr>
          <p:spPr>
            <a:xfrm>
              <a:off x="3695760" y="3012840"/>
              <a:ext cx="0" cy="76212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695760" y="2022480"/>
              <a:ext cx="0" cy="10666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1565280" y="2631960"/>
            <a:ext cx="0" cy="11430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1564920" y="3774960"/>
            <a:ext cx="2130480" cy="0"/>
            <a:chOff x="1564920" y="3774960"/>
            <a:chExt cx="2130480" cy="0"/>
          </a:xfrm>
        </p:grpSpPr>
        <p:sp>
          <p:nvSpPr>
            <p:cNvPr id="643" name=""/>
            <p:cNvSpPr/>
            <p:nvPr/>
          </p:nvSpPr>
          <p:spPr>
            <a:xfrm flipH="1">
              <a:off x="1564920" y="3774960"/>
              <a:ext cx="106524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2630160" y="3774960"/>
              <a:ext cx="106524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338040" y="190008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Symbol"/>
                <a:ea typeface="Symbol"/>
              </a:rPr>
              <a:t>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457200" y="2784600"/>
            <a:ext cx="304920" cy="304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>
            <a:hlinkClick r:id="rId44"/>
          </p:cNvPr>
          <p:cNvSpPr/>
          <p:nvPr/>
        </p:nvSpPr>
        <p:spPr>
          <a:xfrm>
            <a:off x="7391520" y="1219320"/>
            <a:ext cx="690480" cy="377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bcb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00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5105520" y="1426320"/>
            <a:ext cx="3504960" cy="1859400"/>
            <a:chOff x="5105520" y="1426320"/>
            <a:chExt cx="3504960" cy="1859400"/>
          </a:xfrm>
        </p:grpSpPr>
        <p:sp>
          <p:nvSpPr>
            <p:cNvPr id="649" name=""/>
            <p:cNvSpPr/>
            <p:nvPr/>
          </p:nvSpPr>
          <p:spPr>
            <a:xfrm>
              <a:off x="5564160" y="2066760"/>
              <a:ext cx="243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562720" y="2066760"/>
              <a:ext cx="2438280" cy="1067040"/>
            </a:xfrm>
            <a:custGeom>
              <a:avLst/>
              <a:gdLst/>
              <a:ahLst/>
              <a:rect l="l" t="t" r="r" b="b"/>
              <a:pathLst>
                <a:path w="4320" h="960">
                  <a:moveTo>
                    <a:pt x="0" y="480"/>
                  </a:moveTo>
                  <a:cubicBezTo>
                    <a:pt x="144" y="240"/>
                    <a:pt x="288" y="0"/>
                    <a:pt x="432" y="0"/>
                  </a:cubicBezTo>
                  <a:cubicBezTo>
                    <a:pt x="576" y="0"/>
                    <a:pt x="720" y="320"/>
                    <a:pt x="864" y="480"/>
                  </a:cubicBezTo>
                  <a:cubicBezTo>
                    <a:pt x="1008" y="640"/>
                    <a:pt x="1152" y="960"/>
                    <a:pt x="1296" y="960"/>
                  </a:cubicBezTo>
                  <a:cubicBezTo>
                    <a:pt x="1440" y="960"/>
                    <a:pt x="1584" y="640"/>
                    <a:pt x="1728" y="480"/>
                  </a:cubicBezTo>
                  <a:cubicBezTo>
                    <a:pt x="1872" y="320"/>
                    <a:pt x="2016" y="0"/>
                    <a:pt x="2160" y="0"/>
                  </a:cubicBezTo>
                  <a:cubicBezTo>
                    <a:pt x="2304" y="0"/>
                    <a:pt x="2448" y="320"/>
                    <a:pt x="2592" y="480"/>
                  </a:cubicBezTo>
                  <a:cubicBezTo>
                    <a:pt x="2736" y="640"/>
                    <a:pt x="2880" y="960"/>
                    <a:pt x="3024" y="960"/>
                  </a:cubicBezTo>
                  <a:cubicBezTo>
                    <a:pt x="3168" y="960"/>
                    <a:pt x="3312" y="640"/>
                    <a:pt x="3456" y="480"/>
                  </a:cubicBezTo>
                  <a:cubicBezTo>
                    <a:pt x="3600" y="320"/>
                    <a:pt x="3744" y="0"/>
                    <a:pt x="3888" y="0"/>
                  </a:cubicBezTo>
                  <a:cubicBezTo>
                    <a:pt x="4032" y="0"/>
                    <a:pt x="4176" y="240"/>
                    <a:pt x="4320" y="48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5562720" y="176184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62720" y="2600280"/>
              <a:ext cx="2803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197320" y="1426320"/>
              <a:ext cx="36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4" name=""/>
                <p:cNvSpPr txBox="1"/>
                <p:nvPr/>
              </p:nvSpPr>
              <p:spPr>
                <a:xfrm>
                  <a:off x="8255160" y="2600280"/>
                  <a:ext cx="35532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5" name=""/>
                <p:cNvSpPr txBox="1"/>
                <p:nvPr/>
              </p:nvSpPr>
              <p:spPr>
                <a:xfrm>
                  <a:off x="5105520" y="1932120"/>
                  <a:ext cx="4032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6" name=""/>
          <p:cNvGrpSpPr/>
          <p:nvPr/>
        </p:nvGrpSpPr>
        <p:grpSpPr>
          <a:xfrm>
            <a:off x="5029200" y="3505320"/>
            <a:ext cx="782280" cy="384120"/>
            <a:chOff x="5029200" y="3505320"/>
            <a:chExt cx="782280" cy="384120"/>
          </a:xfrm>
        </p:grpSpPr>
        <mc:AlternateContent>
          <mc:Choice xmlns:a14="http://schemas.microsoft.com/office/drawing/2010/main" Requires="a14">
            <p:sp>
              <p:nvSpPr>
                <p:cNvPr id="657" name=""/>
                <p:cNvSpPr txBox="1"/>
                <p:nvPr/>
              </p:nvSpPr>
              <p:spPr>
                <a:xfrm>
                  <a:off x="5029200" y="3505320"/>
                  <a:ext cx="46692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8" name=""/>
            <p:cNvSpPr/>
            <p:nvPr/>
          </p:nvSpPr>
          <p:spPr>
            <a:xfrm flipH="1">
              <a:off x="5528880" y="3657600"/>
              <a:ext cx="28260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929120" y="5164200"/>
            <a:ext cx="817560" cy="384120"/>
            <a:chOff x="4929120" y="5164200"/>
            <a:chExt cx="817560" cy="384120"/>
          </a:xfrm>
        </p:grpSpPr>
        <mc:AlternateContent>
          <mc:Choice xmlns:a14="http://schemas.microsoft.com/office/drawing/2010/main" Requires="a14">
            <p:sp>
              <p:nvSpPr>
                <p:cNvPr id="660" name=""/>
                <p:cNvSpPr txBox="1"/>
                <p:nvPr/>
              </p:nvSpPr>
              <p:spPr>
                <a:xfrm>
                  <a:off x="4929120" y="5164200"/>
                  <a:ext cx="57312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1" name=""/>
            <p:cNvSpPr/>
            <p:nvPr/>
          </p:nvSpPr>
          <p:spPr>
            <a:xfrm flipH="1">
              <a:off x="5553000" y="5419800"/>
              <a:ext cx="19368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5867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9.1.2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单相桥式整流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533520" y="3809880"/>
            <a:ext cx="2666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257800" y="9907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557680" y="5226120"/>
            <a:ext cx="6908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D2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69800" y="1004760"/>
            <a:ext cx="22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路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447840" y="762120"/>
            <a:ext cx="6409800" cy="161640"/>
            <a:chOff x="447840" y="762120"/>
            <a:chExt cx="6409800" cy="161640"/>
          </a:xfrm>
        </p:grpSpPr>
        <p:pic>
          <p:nvPicPr>
            <p:cNvPr id="668" name="" descr=""/>
            <p:cNvPicPr/>
            <p:nvPr/>
          </p:nvPicPr>
          <p:blipFill>
            <a:blip r:embed="rId1"/>
            <a:stretch/>
          </p:blipFill>
          <p:spPr>
            <a:xfrm>
              <a:off x="5904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" descr=""/>
            <p:cNvPicPr/>
            <p:nvPr/>
          </p:nvPicPr>
          <p:blipFill>
            <a:blip r:embed="rId2"/>
            <a:stretch/>
          </p:blipFill>
          <p:spPr>
            <a:xfrm>
              <a:off x="7524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" descr=""/>
            <p:cNvPicPr/>
            <p:nvPr/>
          </p:nvPicPr>
          <p:blipFill>
            <a:blip r:embed="rId3"/>
            <a:stretch/>
          </p:blipFill>
          <p:spPr>
            <a:xfrm>
              <a:off x="90468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" descr=""/>
            <p:cNvPicPr/>
            <p:nvPr/>
          </p:nvPicPr>
          <p:blipFill>
            <a:blip r:embed="rId4"/>
            <a:stretch/>
          </p:blipFill>
          <p:spPr>
            <a:xfrm>
              <a:off x="10476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" descr=""/>
            <p:cNvPicPr/>
            <p:nvPr/>
          </p:nvPicPr>
          <p:blipFill>
            <a:blip r:embed="rId5"/>
            <a:stretch/>
          </p:blipFill>
          <p:spPr>
            <a:xfrm>
              <a:off x="12096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" descr=""/>
            <p:cNvPicPr/>
            <p:nvPr/>
          </p:nvPicPr>
          <p:blipFill>
            <a:blip r:embed="rId6"/>
            <a:stretch/>
          </p:blipFill>
          <p:spPr>
            <a:xfrm>
              <a:off x="15048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" descr=""/>
            <p:cNvPicPr/>
            <p:nvPr/>
          </p:nvPicPr>
          <p:blipFill>
            <a:blip r:embed="rId7"/>
            <a:stretch/>
          </p:blipFill>
          <p:spPr>
            <a:xfrm>
              <a:off x="16668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" descr=""/>
            <p:cNvPicPr/>
            <p:nvPr/>
          </p:nvPicPr>
          <p:blipFill>
            <a:blip r:embed="rId8"/>
            <a:stretch/>
          </p:blipFill>
          <p:spPr>
            <a:xfrm>
              <a:off x="181908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" descr=""/>
            <p:cNvPicPr/>
            <p:nvPr/>
          </p:nvPicPr>
          <p:blipFill>
            <a:blip r:embed="rId9"/>
            <a:stretch/>
          </p:blipFill>
          <p:spPr>
            <a:xfrm>
              <a:off x="19620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" descr=""/>
            <p:cNvPicPr/>
            <p:nvPr/>
          </p:nvPicPr>
          <p:blipFill>
            <a:blip r:embed="rId10"/>
            <a:stretch/>
          </p:blipFill>
          <p:spPr>
            <a:xfrm>
              <a:off x="44784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" descr=""/>
            <p:cNvPicPr/>
            <p:nvPr/>
          </p:nvPicPr>
          <p:blipFill>
            <a:blip r:embed="rId11"/>
            <a:stretch/>
          </p:blipFill>
          <p:spPr>
            <a:xfrm>
              <a:off x="136188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" descr=""/>
            <p:cNvPicPr/>
            <p:nvPr/>
          </p:nvPicPr>
          <p:blipFill>
            <a:blip r:embed="rId12"/>
            <a:stretch/>
          </p:blipFill>
          <p:spPr>
            <a:xfrm>
              <a:off x="21240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0" name=""/>
            <p:cNvGrpSpPr/>
            <p:nvPr/>
          </p:nvGrpSpPr>
          <p:grpSpPr>
            <a:xfrm>
              <a:off x="2276280" y="762120"/>
              <a:ext cx="4581360" cy="161640"/>
              <a:chOff x="2276280" y="762120"/>
              <a:chExt cx="4581360" cy="161640"/>
            </a:xfrm>
          </p:grpSpPr>
          <p:pic>
            <p:nvPicPr>
              <p:cNvPr id="68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276280" y="7621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2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418840" y="7621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3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80840" y="7621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2733480" y="7621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876040" y="7621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6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3038040" y="7621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7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333240" y="7621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8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495240" y="7621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9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3647880" y="7621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0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3790440" y="7621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1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3952440" y="7621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2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4247640" y="7621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3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4409640" y="7621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4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4562280" y="7621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5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704840" y="7621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6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3190680" y="7621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7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4105080" y="7621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8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4866840" y="7621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9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5019480" y="7621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0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5162040" y="7621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1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5324040" y="7621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2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5476680" y="7621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3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5619240" y="7621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4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5781240" y="7621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5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6076440" y="7621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6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6238440" y="7621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7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6391080" y="7621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8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6533640" y="7621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9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6695640" y="7621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0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5933880" y="7621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11" name=""/>
          <p:cNvGrpSpPr/>
          <p:nvPr/>
        </p:nvGrpSpPr>
        <p:grpSpPr>
          <a:xfrm>
            <a:off x="423720" y="1219320"/>
            <a:ext cx="3864960" cy="2438280"/>
            <a:chOff x="423720" y="1219320"/>
            <a:chExt cx="3864960" cy="2438280"/>
          </a:xfrm>
        </p:grpSpPr>
        <p:grpSp>
          <p:nvGrpSpPr>
            <p:cNvPr id="712" name=""/>
            <p:cNvGrpSpPr/>
            <p:nvPr/>
          </p:nvGrpSpPr>
          <p:grpSpPr>
            <a:xfrm>
              <a:off x="2238840" y="1889280"/>
              <a:ext cx="659880" cy="664560"/>
              <a:chOff x="2238840" y="1889280"/>
              <a:chExt cx="659880" cy="664560"/>
            </a:xfrm>
          </p:grpSpPr>
          <p:sp>
            <p:nvSpPr>
              <p:cNvPr id="713" name=""/>
              <p:cNvSpPr/>
              <p:nvPr/>
            </p:nvSpPr>
            <p:spPr>
              <a:xfrm flipH="1">
                <a:off x="2498400" y="2188440"/>
                <a:ext cx="228600" cy="20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8310000">
                <a:off x="2387160" y="2095200"/>
                <a:ext cx="304920" cy="220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238840" y="1889280"/>
                <a:ext cx="659880" cy="66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1553760" y="1883160"/>
              <a:ext cx="655920" cy="668520"/>
              <a:chOff x="1553760" y="1883160"/>
              <a:chExt cx="655920" cy="668520"/>
            </a:xfrm>
          </p:grpSpPr>
          <p:sp>
            <p:nvSpPr>
              <p:cNvPr id="717" name=""/>
              <p:cNvSpPr/>
              <p:nvPr/>
            </p:nvSpPr>
            <p:spPr>
              <a:xfrm>
                <a:off x="1847160" y="2058840"/>
                <a:ext cx="204840" cy="22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865600">
                <a:off x="1713240" y="2135880"/>
                <a:ext cx="304920" cy="220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1553760" y="1883160"/>
                <a:ext cx="655920" cy="668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2232000" y="2576880"/>
              <a:ext cx="671400" cy="653040"/>
              <a:chOff x="2232000" y="2576880"/>
              <a:chExt cx="671400" cy="653040"/>
            </a:xfrm>
          </p:grpSpPr>
          <p:sp>
            <p:nvSpPr>
              <p:cNvPr id="721" name=""/>
              <p:cNvSpPr/>
              <p:nvPr/>
            </p:nvSpPr>
            <p:spPr>
              <a:xfrm>
                <a:off x="2535480" y="2743920"/>
                <a:ext cx="199440" cy="23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2945400">
                <a:off x="2399040" y="2820240"/>
                <a:ext cx="304920" cy="220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2232000" y="2576880"/>
                <a:ext cx="671400" cy="653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4" name=""/>
            <p:cNvSpPr/>
            <p:nvPr/>
          </p:nvSpPr>
          <p:spPr>
            <a:xfrm flipH="1">
              <a:off x="1868040" y="2874240"/>
              <a:ext cx="228600" cy="20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8311800">
              <a:off x="1757520" y="2780640"/>
              <a:ext cx="304560" cy="2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567440" y="2573280"/>
              <a:ext cx="659520" cy="66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155680" y="1905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879480" y="19051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79480" y="320040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2917800" y="1904760"/>
              <a:ext cx="0" cy="67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565280" y="251460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565280" y="3657600"/>
              <a:ext cx="21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917800" y="1905120"/>
              <a:ext cx="77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 rot="16200000">
              <a:off x="3465000" y="2666880"/>
              <a:ext cx="457200" cy="152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693960" y="297180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693960" y="19051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746880" y="2452680"/>
              <a:ext cx="541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2680" y="23004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124080" y="1219320"/>
              <a:ext cx="460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zh-CN" sz="2800" spc="-1" strike="noStrike" baseline="-25000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164040" y="1790640"/>
              <a:ext cx="403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171240" y="244008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i="1" lang="zh-CN" sz="2800" spc="-1" strike="noStrike" baseline="-25000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557440" y="1828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557440" y="2795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566720" y="2719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566720" y="1728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23720" y="1523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23720" y="2895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94080" y="1828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76360" y="2714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202200" y="2057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125880" y="291312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03160" y="3160800"/>
              <a:ext cx="8568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03160" y="1876320"/>
              <a:ext cx="8568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914400" y="1905120"/>
            <a:ext cx="1295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2900520" y="1904760"/>
            <a:ext cx="0" cy="6793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565280" y="2514600"/>
            <a:ext cx="0" cy="1143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914400" y="3200400"/>
            <a:ext cx="13716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2247840" y="2550960"/>
            <a:ext cx="650880" cy="6508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1565280" y="1866960"/>
            <a:ext cx="644400" cy="644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878200" y="1905120"/>
            <a:ext cx="840960" cy="0"/>
            <a:chOff x="2878200" y="1905120"/>
            <a:chExt cx="840960" cy="0"/>
          </a:xfrm>
        </p:grpSpPr>
        <p:sp>
          <p:nvSpPr>
            <p:cNvPr id="761" name=""/>
            <p:cNvSpPr/>
            <p:nvPr/>
          </p:nvSpPr>
          <p:spPr>
            <a:xfrm>
              <a:off x="3298680" y="1905120"/>
              <a:ext cx="4204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78200" y="1905120"/>
              <a:ext cx="4204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3695760" y="1905120"/>
            <a:ext cx="0" cy="1752480"/>
            <a:chOff x="3695760" y="1905120"/>
            <a:chExt cx="0" cy="1752480"/>
          </a:xfrm>
        </p:grpSpPr>
        <p:sp>
          <p:nvSpPr>
            <p:cNvPr id="764" name=""/>
            <p:cNvSpPr/>
            <p:nvPr/>
          </p:nvSpPr>
          <p:spPr>
            <a:xfrm>
              <a:off x="3695760" y="2819520"/>
              <a:ext cx="0" cy="8380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695760" y="1905120"/>
              <a:ext cx="0" cy="990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1523880" y="3657600"/>
            <a:ext cx="2201760" cy="0"/>
            <a:chOff x="1523880" y="3657600"/>
            <a:chExt cx="2201760" cy="0"/>
          </a:xfrm>
        </p:grpSpPr>
        <p:sp>
          <p:nvSpPr>
            <p:cNvPr id="767" name=""/>
            <p:cNvSpPr/>
            <p:nvPr/>
          </p:nvSpPr>
          <p:spPr>
            <a:xfrm flipH="1">
              <a:off x="1523880" y="3657600"/>
              <a:ext cx="11008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2624760" y="3657600"/>
              <a:ext cx="11008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867240" y="4234680"/>
            <a:ext cx="3506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半周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二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管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导通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截止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0880" y="5216400"/>
            <a:ext cx="4496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5800"/>
                </a:solidFill>
                <a:latin typeface="Times New Roman"/>
              </a:rPr>
              <a:t>    </a:t>
            </a:r>
            <a:r>
              <a:rPr b="1" i="1" lang="zh-CN" sz="2800" spc="-1" strike="noStrike">
                <a:solidFill>
                  <a:srgbClr val="0058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58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5800"/>
                </a:solidFill>
                <a:latin typeface="Times New Roman"/>
              </a:rPr>
              <a:t>负半周，</a:t>
            </a:r>
            <a:r>
              <a:rPr b="1" lang="zh-CN" sz="2800" spc="-1" strike="noStrike">
                <a:solidFill>
                  <a:srgbClr val="005800"/>
                </a:solidFill>
                <a:latin typeface="Times New Roman"/>
              </a:rPr>
              <a:t>V</a:t>
            </a:r>
            <a:r>
              <a:rPr b="1" lang="zh-CN" sz="2800" spc="-1" strike="noStrike" baseline="-25000">
                <a:solidFill>
                  <a:srgbClr val="0058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5800"/>
                </a:solidFill>
                <a:latin typeface="Times New Roman"/>
              </a:rPr>
              <a:t>&lt;V</a:t>
            </a:r>
            <a:r>
              <a:rPr b="1" lang="zh-CN" sz="2800" spc="-1" strike="noStrike" baseline="-25000">
                <a:solidFill>
                  <a:srgbClr val="0058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5800"/>
                </a:solidFill>
                <a:latin typeface="Times New Roman"/>
              </a:rPr>
              <a:t>，二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800"/>
                </a:solidFill>
                <a:latin typeface="Times New Roman"/>
              </a:rPr>
              <a:t>管 </a:t>
            </a:r>
            <a:r>
              <a:rPr b="1" lang="zh-CN" sz="2800" spc="-1" strike="noStrike">
                <a:solidFill>
                  <a:srgbClr val="0058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58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5800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5800"/>
                </a:solidFill>
                <a:latin typeface="Times New Roman"/>
              </a:rPr>
              <a:t>导通，</a:t>
            </a:r>
            <a:r>
              <a:rPr b="1" lang="zh-CN" sz="2800" spc="-1" strike="noStrike">
                <a:solidFill>
                  <a:srgbClr val="0058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58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58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5800"/>
                </a:solidFill>
                <a:latin typeface="Times New Roman"/>
              </a:rPr>
              <a:t>截止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5564160" y="3549600"/>
            <a:ext cx="485640" cy="519120"/>
          </a:xfrm>
          <a:custGeom>
            <a:avLst/>
            <a:gdLst/>
            <a:ahLst/>
            <a:rect l="l" t="t" r="r" b="b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6539040" y="3549600"/>
            <a:ext cx="485640" cy="519120"/>
          </a:xfrm>
          <a:custGeom>
            <a:avLst/>
            <a:gdLst/>
            <a:ahLst/>
            <a:rect l="l" t="t" r="r" b="b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7513560" y="3549600"/>
            <a:ext cx="486000" cy="519120"/>
          </a:xfrm>
          <a:custGeom>
            <a:avLst/>
            <a:gdLst/>
            <a:ahLst/>
            <a:rect l="l" t="t" r="r" b="b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564160" y="4768920"/>
            <a:ext cx="487440" cy="533160"/>
          </a:xfrm>
          <a:custGeom>
            <a:avLst/>
            <a:gdLst/>
            <a:ahLst/>
            <a:rect l="l" t="t" r="r" b="b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537240" y="4768920"/>
            <a:ext cx="487440" cy="533160"/>
          </a:xfrm>
          <a:custGeom>
            <a:avLst/>
            <a:gdLst/>
            <a:ahLst/>
            <a:rect l="l" t="t" r="r" b="b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510320" y="4768920"/>
            <a:ext cx="489240" cy="533160"/>
          </a:xfrm>
          <a:custGeom>
            <a:avLst/>
            <a:gdLst/>
            <a:ahLst/>
            <a:rect l="l" t="t" r="r" b="b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6054840" y="2482920"/>
            <a:ext cx="1950840" cy="2286000"/>
            <a:chOff x="6054840" y="2482920"/>
            <a:chExt cx="1950840" cy="2286000"/>
          </a:xfrm>
        </p:grpSpPr>
        <p:sp>
          <p:nvSpPr>
            <p:cNvPr id="778" name=""/>
            <p:cNvSpPr/>
            <p:nvPr/>
          </p:nvSpPr>
          <p:spPr>
            <a:xfrm>
              <a:off x="6054840" y="2482920"/>
              <a:ext cx="0" cy="2286000"/>
            </a:xfrm>
            <a:prstGeom prst="line">
              <a:avLst/>
            </a:prstGeom>
            <a:ln w="1908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542280" y="2482920"/>
              <a:ext cx="0" cy="2286000"/>
            </a:xfrm>
            <a:prstGeom prst="line">
              <a:avLst/>
            </a:prstGeom>
            <a:ln w="1908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030440" y="2482920"/>
              <a:ext cx="0" cy="2286000"/>
            </a:xfrm>
            <a:prstGeom prst="line">
              <a:avLst/>
            </a:prstGeom>
            <a:ln w="1908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517880" y="2482920"/>
              <a:ext cx="0" cy="2286000"/>
            </a:xfrm>
            <a:prstGeom prst="line">
              <a:avLst/>
            </a:prstGeom>
            <a:ln w="1908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005680" y="2482920"/>
              <a:ext cx="0" cy="2286000"/>
            </a:xfrm>
            <a:prstGeom prst="line">
              <a:avLst/>
            </a:prstGeom>
            <a:ln w="1908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5077800" y="2833560"/>
            <a:ext cx="3525840" cy="2621160"/>
            <a:chOff x="5077800" y="2833560"/>
            <a:chExt cx="3525840" cy="2621160"/>
          </a:xfrm>
        </p:grpSpPr>
        <p:sp>
          <p:nvSpPr>
            <p:cNvPr id="784" name=""/>
            <p:cNvSpPr/>
            <p:nvPr/>
          </p:nvSpPr>
          <p:spPr>
            <a:xfrm flipV="1">
              <a:off x="5563800" y="446400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563800" y="4768920"/>
              <a:ext cx="2802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5563800" y="3244680"/>
              <a:ext cx="2742120" cy="1146240"/>
              <a:chOff x="5563800" y="3244680"/>
              <a:chExt cx="2742120" cy="1146240"/>
            </a:xfrm>
          </p:grpSpPr>
          <p:sp>
            <p:nvSpPr>
              <p:cNvPr id="787" name=""/>
              <p:cNvSpPr/>
              <p:nvPr/>
            </p:nvSpPr>
            <p:spPr>
              <a:xfrm flipV="1">
                <a:off x="5563800" y="3244680"/>
                <a:ext cx="0" cy="1146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563800" y="4060800"/>
                <a:ext cx="2742120" cy="1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" name=""/>
            <p:cNvSpPr/>
            <p:nvPr/>
          </p:nvSpPr>
          <p:spPr>
            <a:xfrm>
              <a:off x="5122080" y="283356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077800" y="4159080"/>
              <a:ext cx="52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i="1" lang="zh-CN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075160" y="3930480"/>
              <a:ext cx="52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080200" y="4692600"/>
              <a:ext cx="52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0:55:54Z</dcterms:created>
  <dc:creator>xtw</dc:creator>
  <dc:description/>
  <dc:language>en-US</dc:language>
  <cp:lastModifiedBy>xtw</cp:lastModifiedBy>
  <dcterms:modified xsi:type="dcterms:W3CDTF">2003-08-08T09:04:34Z</dcterms:modified>
  <cp:revision>64</cp:revision>
  <dc:subject/>
  <dc:title>PowerPoint 演示文稿</dc:title>
</cp:coreProperties>
</file>