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1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3376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电子技术_bg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372520" y="6335640"/>
            <a:ext cx="500040" cy="29232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36930" h="21600">
                <a:moveTo>
                  <a:pt x="0" y="0"/>
                </a:moveTo>
                <a:lnTo>
                  <a:pt x="36930" y="0"/>
                </a:lnTo>
                <a:lnTo>
                  <a:pt x="36930" y="21600"/>
                </a:lnTo>
                <a:lnTo>
                  <a:pt x="0" y="21600"/>
                </a:lnTo>
                <a:close/>
              </a:path>
              <a:path fill="lightenLess" w="36930" h="21600">
                <a:moveTo>
                  <a:pt x="0" y="0"/>
                </a:moveTo>
                <a:lnTo>
                  <a:pt x="36930" y="0"/>
                </a:lnTo>
                <a:lnTo>
                  <a:pt x="35530" y="1400"/>
                </a:lnTo>
                <a:lnTo>
                  <a:pt x="1400" y="1400"/>
                </a:lnTo>
                <a:close/>
              </a:path>
              <a:path fill="darken" w="36930" h="21600">
                <a:moveTo>
                  <a:pt x="36930" y="0"/>
                </a:moveTo>
                <a:lnTo>
                  <a:pt x="36930" y="21600"/>
                </a:lnTo>
                <a:lnTo>
                  <a:pt x="35530" y="20200"/>
                </a:lnTo>
                <a:lnTo>
                  <a:pt x="35530" y="1400"/>
                </a:lnTo>
                <a:close/>
              </a:path>
              <a:path fill="darkenLess" w="36930" h="21600">
                <a:moveTo>
                  <a:pt x="36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30" y="20200"/>
                </a:lnTo>
                <a:close/>
              </a:path>
              <a:path fill="lighten" w="36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77880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0728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84224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3"/>
          </p:cNvPr>
          <p:cNvSpPr/>
          <p:nvPr/>
        </p:nvSpPr>
        <p:spPr>
          <a:xfrm>
            <a:off x="6248520" y="6324480"/>
            <a:ext cx="457200" cy="3063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49.xml"/><Relationship Id="rId5" Type="http://schemas.openxmlformats.org/officeDocument/2006/relationships/slide" Target="slide42.xml"/><Relationship Id="rId6" Type="http://schemas.openxmlformats.org/officeDocument/2006/relationships/slide" Target="slide23.xml"/><Relationship Id="rId7" Type="http://schemas.openxmlformats.org/officeDocument/2006/relationships/slide" Target="slide73.xml"/><Relationship Id="rId8" Type="http://schemas.openxmlformats.org/officeDocument/2006/relationships/slide" Target="slide91.xml"/><Relationship Id="rId9" Type="http://schemas.openxmlformats.org/officeDocument/2006/relationships/slide" Target="slide98.xml"/><Relationship Id="rId10" Type="http://schemas.openxmlformats.org/officeDocument/2006/relationships/slide" Target="slide113.xml"/><Relationship Id="rId11" Type="http://schemas.openxmlformats.org/officeDocument/2006/relationships/slide" Target="slide127.xml"/><Relationship Id="rId12" Type="http://schemas.openxmlformats.org/officeDocument/2006/relationships/slide" Target="slide139.xml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zhlj4.exe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31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hyperlink" Target="zhlj5.exe" TargetMode="External"/><Relationship Id="rId4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3.png"/><Relationship Id="rId42" Type="http://schemas.openxmlformats.org/officeDocument/2006/relationships/image" Target="../media/image13.png"/><Relationship Id="rId43" Type="http://schemas.openxmlformats.org/officeDocument/2006/relationships/image" Target="../media/image13.png"/><Relationship Id="rId44" Type="http://schemas.openxmlformats.org/officeDocument/2006/relationships/image" Target="../media/image13.png"/><Relationship Id="rId45" Type="http://schemas.openxmlformats.org/officeDocument/2006/relationships/image" Target="../media/image13.png"/><Relationship Id="rId46" Type="http://schemas.openxmlformats.org/officeDocument/2006/relationships/image" Target="../media/image13.png"/><Relationship Id="rId47" Type="http://schemas.openxmlformats.org/officeDocument/2006/relationships/image" Target="../media/image13.png"/><Relationship Id="rId48" Type="http://schemas.openxmlformats.org/officeDocument/2006/relationships/image" Target="../media/image13.png"/><Relationship Id="rId49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zhlj1.exe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3.png"/><Relationship Id="rId42" Type="http://schemas.openxmlformats.org/officeDocument/2006/relationships/image" Target="../media/image13.png"/><Relationship Id="rId43" Type="http://schemas.openxmlformats.org/officeDocument/2006/relationships/image" Target="../media/image13.png"/><Relationship Id="rId44" Type="http://schemas.openxmlformats.org/officeDocument/2006/relationships/image" Target="../media/image13.png"/><Relationship Id="rId45" Type="http://schemas.openxmlformats.org/officeDocument/2006/relationships/image" Target="../media/image13.png"/><Relationship Id="rId46" Type="http://schemas.openxmlformats.org/officeDocument/2006/relationships/image" Target="../media/image13.png"/><Relationship Id="rId47" Type="http://schemas.openxmlformats.org/officeDocument/2006/relationships/image" Target="../media/image13.png"/><Relationship Id="rId4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5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oleObject" Target="../embeddings/oleObject1.bin"/><Relationship Id="rId35" Type="http://schemas.openxmlformats.org/officeDocument/2006/relationships/image" Target="../media/image27.png"/><Relationship Id="rId36" Type="http://schemas.openxmlformats.org/officeDocument/2006/relationships/oleObject" Target="../embeddings/oleObject2.bin"/><Relationship Id="rId37" Type="http://schemas.openxmlformats.org/officeDocument/2006/relationships/image" Target="../media/image27.png"/><Relationship Id="rId38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3.png"/><Relationship Id="rId42" Type="http://schemas.openxmlformats.org/officeDocument/2006/relationships/image" Target="../media/image13.png"/><Relationship Id="rId43" Type="http://schemas.openxmlformats.org/officeDocument/2006/relationships/image" Target="../media/image13.png"/><Relationship Id="rId44" Type="http://schemas.openxmlformats.org/officeDocument/2006/relationships/image" Target="../media/image31.gif"/><Relationship Id="rId45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3.gi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3.png"/><Relationship Id="rId4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3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门电路和组合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371600" y="113976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冲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371600" y="167328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体管的开关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371600" y="2090880"/>
            <a:ext cx="48769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立元件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295280" y="3232080"/>
            <a:ext cx="381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6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代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295280" y="281628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5   M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371600" y="23590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4   TT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1295280" y="35593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7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逻辑电路的分析与综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1371600" y="403560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8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法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1371600" y="44323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9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码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1371600" y="483696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译码器和数字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1371600" y="522288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1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分配器和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1371600" y="57150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895320" y="1542960"/>
            <a:ext cx="3448080" cy="1755360"/>
            <a:chOff x="895320" y="1542960"/>
            <a:chExt cx="3448080" cy="1755360"/>
          </a:xfrm>
        </p:grpSpPr>
        <p:sp>
          <p:nvSpPr>
            <p:cNvPr id="394" name=""/>
            <p:cNvSpPr/>
            <p:nvPr/>
          </p:nvSpPr>
          <p:spPr>
            <a:xfrm>
              <a:off x="895320" y="221184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82600" y="1542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1000" y="2838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930320" y="1625400"/>
              <a:ext cx="43668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32160" y="160812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029040" y="1625400"/>
              <a:ext cx="43488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84440" y="1608120"/>
              <a:ext cx="5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70280" y="2154240"/>
              <a:ext cx="573120" cy="5745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0520" y="1619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27320" y="15429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98600" y="31780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1840" y="15778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79600" y="321948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70520" y="2725560"/>
              <a:ext cx="0" cy="5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4400" y="15652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29000" y="158256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85800" y="505152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设：开关断开、灯不亮用逻辑 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，开关闭合、灯亮用 逻辑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68920" y="3505320"/>
            <a:ext cx="3238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表达式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：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Y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=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•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411480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”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逻辑关系是指当决定某事件的条件全部具备时，该事件才发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904760" y="1404720"/>
            <a:ext cx="414360" cy="423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2976120" y="1447920"/>
            <a:ext cx="37332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257800" y="2027160"/>
            <a:ext cx="1523880" cy="520560"/>
            <a:chOff x="5257800" y="2027160"/>
            <a:chExt cx="1523880" cy="520560"/>
          </a:xfrm>
        </p:grpSpPr>
        <p:sp>
          <p:nvSpPr>
            <p:cNvPr id="417" name=""/>
            <p:cNvSpPr/>
            <p:nvPr/>
          </p:nvSpPr>
          <p:spPr>
            <a:xfrm>
              <a:off x="525780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2448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57800" y="2484360"/>
            <a:ext cx="1447920" cy="520560"/>
            <a:chOff x="5257800" y="2484360"/>
            <a:chExt cx="1447920" cy="520560"/>
          </a:xfrm>
        </p:grpSpPr>
        <p:sp>
          <p:nvSpPr>
            <p:cNvPr id="420" name=""/>
            <p:cNvSpPr/>
            <p:nvPr/>
          </p:nvSpPr>
          <p:spPr>
            <a:xfrm>
              <a:off x="5257800" y="2484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24480" y="24843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238880" y="2484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247000" y="3446640"/>
            <a:ext cx="1450440" cy="520560"/>
            <a:chOff x="5247000" y="3446640"/>
            <a:chExt cx="1450440" cy="520560"/>
          </a:xfrm>
        </p:grpSpPr>
        <p:sp>
          <p:nvSpPr>
            <p:cNvPr id="424" name=""/>
            <p:cNvSpPr/>
            <p:nvPr/>
          </p:nvSpPr>
          <p:spPr>
            <a:xfrm>
              <a:off x="524700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404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7228440" y="3476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247360" y="2989440"/>
            <a:ext cx="2364480" cy="520560"/>
            <a:chOff x="5247360" y="2989440"/>
            <a:chExt cx="2364480" cy="520560"/>
          </a:xfrm>
        </p:grpSpPr>
        <p:sp>
          <p:nvSpPr>
            <p:cNvPr id="428" name=""/>
            <p:cNvSpPr/>
            <p:nvPr/>
          </p:nvSpPr>
          <p:spPr>
            <a:xfrm>
              <a:off x="63140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736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284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228440" y="198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952880" y="1371600"/>
            <a:ext cx="3048120" cy="2637000"/>
            <a:chOff x="4952880" y="1371600"/>
            <a:chExt cx="3048120" cy="2637000"/>
          </a:xfrm>
        </p:grpSpPr>
        <p:sp>
          <p:nvSpPr>
            <p:cNvPr id="433" name=""/>
            <p:cNvSpPr/>
            <p:nvPr/>
          </p:nvSpPr>
          <p:spPr>
            <a:xfrm>
              <a:off x="518148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485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13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2880" y="14176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992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95264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9200" y="400860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904760" y="1447560"/>
            <a:ext cx="1484280" cy="414360"/>
            <a:chOff x="1904760" y="1447560"/>
            <a:chExt cx="1484280" cy="414360"/>
          </a:xfrm>
        </p:grpSpPr>
        <p:sp>
          <p:nvSpPr>
            <p:cNvPr id="442" name=""/>
            <p:cNvSpPr/>
            <p:nvPr/>
          </p:nvSpPr>
          <p:spPr>
            <a:xfrm flipH="1" flipV="1">
              <a:off x="1904760" y="1447560"/>
              <a:ext cx="423720" cy="41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965320" y="1447560"/>
              <a:ext cx="423720" cy="41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132720" y="1141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0" y="2152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6240" y="11430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092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33920" y="2133720"/>
            <a:ext cx="636480" cy="620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"/>
          <p:cNvSpPr/>
          <p:nvPr/>
        </p:nvSpPr>
        <p:spPr>
          <a:xfrm>
            <a:off x="685800" y="3562200"/>
            <a:ext cx="7924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分析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入有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个信号，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即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N=8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根据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zh-CN" sz="2800" spc="-1" strike="noStrike" baseline="30000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 baseline="30000">
                <a:solidFill>
                  <a:srgbClr val="cc0000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N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的关系，即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3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即输出为三位二进制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685800" y="743040"/>
            <a:ext cx="7620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计一个编码器，满足以下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…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7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信号编成二进制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编码器每次只能对一个信号进行编码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允许两个或两个以上的信号同时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输入信号高电平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9" name=""/>
          <p:cNvGrpSpPr/>
          <p:nvPr/>
        </p:nvGrpSpPr>
        <p:grpSpPr>
          <a:xfrm>
            <a:off x="2014560" y="2244600"/>
            <a:ext cx="3977640" cy="3753720"/>
            <a:chOff x="2014560" y="2244600"/>
            <a:chExt cx="3977640" cy="3753720"/>
          </a:xfrm>
        </p:grpSpPr>
        <p:grpSp>
          <p:nvGrpSpPr>
            <p:cNvPr id="6080" name=""/>
            <p:cNvGrpSpPr/>
            <p:nvPr/>
          </p:nvGrpSpPr>
          <p:grpSpPr>
            <a:xfrm>
              <a:off x="3605400" y="2244600"/>
              <a:ext cx="2386800" cy="3701160"/>
              <a:chOff x="3605400" y="2244600"/>
              <a:chExt cx="2386800" cy="3701160"/>
            </a:xfrm>
          </p:grpSpPr>
          <p:sp>
            <p:nvSpPr>
              <p:cNvPr id="6081" name=""/>
              <p:cNvSpPr/>
              <p:nvPr/>
            </p:nvSpPr>
            <p:spPr>
              <a:xfrm>
                <a:off x="3672360" y="2684880"/>
                <a:ext cx="231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0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3672360" y="3565080"/>
                <a:ext cx="231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1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3605400" y="444564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0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3605400" y="224460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0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3605400" y="312660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1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605400" y="400716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0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605400" y="488592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1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605400" y="536436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1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9" name=""/>
            <p:cNvGrpSpPr/>
            <p:nvPr/>
          </p:nvGrpSpPr>
          <p:grpSpPr>
            <a:xfrm>
              <a:off x="2014560" y="2332440"/>
              <a:ext cx="745560" cy="3665880"/>
              <a:chOff x="2014560" y="2332440"/>
              <a:chExt cx="745560" cy="3665880"/>
            </a:xfrm>
          </p:grpSpPr>
          <p:sp>
            <p:nvSpPr>
              <p:cNvPr id="6090" name=""/>
              <p:cNvSpPr/>
              <p:nvPr/>
            </p:nvSpPr>
            <p:spPr>
              <a:xfrm>
                <a:off x="2014560" y="2332440"/>
                <a:ext cx="74556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018880" y="272268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018880" y="316512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018880" y="360504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018880" y="404352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018880" y="448560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018880" y="492408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018880" y="536796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8" name=""/>
          <p:cNvSpPr/>
          <p:nvPr/>
        </p:nvSpPr>
        <p:spPr>
          <a:xfrm>
            <a:off x="832320" y="533520"/>
            <a:ext cx="20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编码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9" name="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14670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100" name=""/>
          <p:cNvGrpSpPr/>
          <p:nvPr/>
        </p:nvGrpSpPr>
        <p:grpSpPr>
          <a:xfrm>
            <a:off x="1600200" y="1200240"/>
            <a:ext cx="4952880" cy="4690800"/>
            <a:chOff x="1600200" y="1200240"/>
            <a:chExt cx="4952880" cy="4690800"/>
          </a:xfrm>
        </p:grpSpPr>
        <p:grpSp>
          <p:nvGrpSpPr>
            <p:cNvPr id="6101" name=""/>
            <p:cNvGrpSpPr/>
            <p:nvPr/>
          </p:nvGrpSpPr>
          <p:grpSpPr>
            <a:xfrm>
              <a:off x="1600200" y="1200240"/>
              <a:ext cx="4723920" cy="4666680"/>
              <a:chOff x="1600200" y="1200240"/>
              <a:chExt cx="4723920" cy="4666680"/>
            </a:xfrm>
          </p:grpSpPr>
          <p:grpSp>
            <p:nvGrpSpPr>
              <p:cNvPr id="6102" name=""/>
              <p:cNvGrpSpPr/>
              <p:nvPr/>
            </p:nvGrpSpPr>
            <p:grpSpPr>
              <a:xfrm>
                <a:off x="1600200" y="1200240"/>
                <a:ext cx="4723920" cy="4666680"/>
                <a:chOff x="1600200" y="1200240"/>
                <a:chExt cx="4723920" cy="4666680"/>
              </a:xfrm>
            </p:grpSpPr>
            <p:sp>
              <p:nvSpPr>
                <p:cNvPr id="6103" name=""/>
                <p:cNvSpPr/>
                <p:nvPr/>
              </p:nvSpPr>
              <p:spPr>
                <a:xfrm>
                  <a:off x="1600200" y="1200240"/>
                  <a:ext cx="47239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4" name=""/>
                <p:cNvSpPr/>
                <p:nvPr/>
              </p:nvSpPr>
              <p:spPr>
                <a:xfrm>
                  <a:off x="1600200" y="2256840"/>
                  <a:ext cx="47239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5" name=""/>
                <p:cNvSpPr/>
                <p:nvPr/>
              </p:nvSpPr>
              <p:spPr>
                <a:xfrm>
                  <a:off x="3092040" y="1200240"/>
                  <a:ext cx="0" cy="46666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6" name=""/>
                <p:cNvSpPr/>
                <p:nvPr/>
              </p:nvSpPr>
              <p:spPr>
                <a:xfrm>
                  <a:off x="3092040" y="1728360"/>
                  <a:ext cx="32320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7" name=""/>
              <p:cNvGrpSpPr/>
              <p:nvPr/>
            </p:nvGrpSpPr>
            <p:grpSpPr>
              <a:xfrm>
                <a:off x="1931040" y="1209600"/>
                <a:ext cx="3960720" cy="1127160"/>
                <a:chOff x="1931040" y="1209600"/>
                <a:chExt cx="3960720" cy="1127160"/>
              </a:xfrm>
            </p:grpSpPr>
            <p:sp>
              <p:nvSpPr>
                <p:cNvPr id="6108" name=""/>
                <p:cNvSpPr/>
                <p:nvPr/>
              </p:nvSpPr>
              <p:spPr>
                <a:xfrm>
                  <a:off x="1931040" y="144216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cc0000"/>
                      </a:solidFill>
                      <a:latin typeface=""/>
                    </a:rPr>
                    <a:t>输入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9" name=""/>
                <p:cNvSpPr/>
                <p:nvPr/>
              </p:nvSpPr>
              <p:spPr>
                <a:xfrm>
                  <a:off x="4160160" y="1209600"/>
                  <a:ext cx="1194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cc0000"/>
                      </a:solidFill>
                      <a:latin typeface=""/>
                    </a:rPr>
                    <a:t>输     出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0" name=""/>
                <p:cNvSpPr/>
                <p:nvPr/>
              </p:nvSpPr>
              <p:spPr>
                <a:xfrm>
                  <a:off x="3602520" y="1706400"/>
                  <a:ext cx="22892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2</a:t>
                  </a:r>
                  <a:r>
                    <a:rPr b="1" lang="en-US" sz="3200" spc="-1" strike="noStrike">
                      <a:solidFill>
                        <a:srgbClr val="003399"/>
                      </a:solidFill>
                      <a:latin typeface=""/>
                    </a:rPr>
                    <a:t>     </a:t>
                  </a: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1</a:t>
                  </a:r>
                  <a:r>
                    <a:rPr b="1" lang="en-US" sz="3200" spc="-1" strike="noStrike">
                      <a:solidFill>
                        <a:srgbClr val="003399"/>
                      </a:solidFill>
                      <a:latin typeface=""/>
                    </a:rPr>
                    <a:t>      </a:t>
                  </a: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11" name=""/>
            <p:cNvSpPr/>
            <p:nvPr/>
          </p:nvSpPr>
          <p:spPr>
            <a:xfrm>
              <a:off x="1752480" y="5891040"/>
              <a:ext cx="4800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"/>
          <p:cNvSpPr/>
          <p:nvPr/>
        </p:nvSpPr>
        <p:spPr>
          <a:xfrm>
            <a:off x="1431000" y="685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3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式并转换成“与非”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1143000" y="1467000"/>
            <a:ext cx="3794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4" name=""/>
          <p:cNvGrpSpPr/>
          <p:nvPr/>
        </p:nvGrpSpPr>
        <p:grpSpPr>
          <a:xfrm>
            <a:off x="1600200" y="2058840"/>
            <a:ext cx="3220920" cy="933120"/>
            <a:chOff x="1600200" y="2058840"/>
            <a:chExt cx="3220920" cy="933120"/>
          </a:xfrm>
        </p:grpSpPr>
        <p:grpSp>
          <p:nvGrpSpPr>
            <p:cNvPr id="6115" name=""/>
            <p:cNvGrpSpPr/>
            <p:nvPr/>
          </p:nvGrpSpPr>
          <p:grpSpPr>
            <a:xfrm>
              <a:off x="1600200" y="2058840"/>
              <a:ext cx="3220920" cy="933120"/>
              <a:chOff x="1600200" y="2058840"/>
              <a:chExt cx="3220920" cy="933120"/>
            </a:xfrm>
          </p:grpSpPr>
          <p:sp>
            <p:nvSpPr>
              <p:cNvPr id="6116" name=""/>
              <p:cNvSpPr/>
              <p:nvPr/>
            </p:nvSpPr>
            <p:spPr>
              <a:xfrm>
                <a:off x="1600200" y="227376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4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5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530800" y="2058840"/>
                <a:ext cx="42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247920" y="205884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892320" y="205884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0" name=""/>
            <p:cNvGrpSpPr/>
            <p:nvPr/>
          </p:nvGrpSpPr>
          <p:grpSpPr>
            <a:xfrm>
              <a:off x="2100960" y="2273760"/>
              <a:ext cx="2433600" cy="71280"/>
              <a:chOff x="2100960" y="2273760"/>
              <a:chExt cx="2433600" cy="71280"/>
            </a:xfrm>
          </p:grpSpPr>
          <p:sp>
            <p:nvSpPr>
              <p:cNvPr id="6121" name=""/>
              <p:cNvSpPr/>
              <p:nvPr/>
            </p:nvSpPr>
            <p:spPr>
              <a:xfrm>
                <a:off x="2100960" y="234504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104720" y="234504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460680" y="234504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745000" y="234504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100960" y="227376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6" name=""/>
          <p:cNvGrpSpPr/>
          <p:nvPr/>
        </p:nvGrpSpPr>
        <p:grpSpPr>
          <a:xfrm>
            <a:off x="4840920" y="1511280"/>
            <a:ext cx="2922480" cy="718200"/>
            <a:chOff x="4840920" y="1511280"/>
            <a:chExt cx="2922480" cy="718200"/>
          </a:xfrm>
        </p:grpSpPr>
        <p:sp>
          <p:nvSpPr>
            <p:cNvPr id="6127" name=""/>
            <p:cNvSpPr/>
            <p:nvPr/>
          </p:nvSpPr>
          <p:spPr>
            <a:xfrm>
              <a:off x="4840920" y="1511280"/>
              <a:ext cx="2922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8" name=""/>
            <p:cNvGrpSpPr/>
            <p:nvPr/>
          </p:nvGrpSpPr>
          <p:grpSpPr>
            <a:xfrm>
              <a:off x="5230080" y="1511280"/>
              <a:ext cx="2433600" cy="71640"/>
              <a:chOff x="5230080" y="1511280"/>
              <a:chExt cx="2433600" cy="71640"/>
            </a:xfrm>
          </p:grpSpPr>
          <p:sp>
            <p:nvSpPr>
              <p:cNvPr id="6129" name=""/>
              <p:cNvSpPr/>
              <p:nvPr/>
            </p:nvSpPr>
            <p:spPr>
              <a:xfrm>
                <a:off x="5230080" y="15829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5230080" y="15112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1" name=""/>
          <p:cNvSpPr/>
          <p:nvPr/>
        </p:nvSpPr>
        <p:spPr>
          <a:xfrm>
            <a:off x="1192680" y="3067200"/>
            <a:ext cx="3157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2" name=""/>
          <p:cNvGrpSpPr/>
          <p:nvPr/>
        </p:nvGrpSpPr>
        <p:grpSpPr>
          <a:xfrm>
            <a:off x="1611360" y="3639960"/>
            <a:ext cx="3220920" cy="1556280"/>
            <a:chOff x="1611360" y="3639960"/>
            <a:chExt cx="3220920" cy="1556280"/>
          </a:xfrm>
        </p:grpSpPr>
        <p:grpSp>
          <p:nvGrpSpPr>
            <p:cNvPr id="6133" name=""/>
            <p:cNvGrpSpPr/>
            <p:nvPr/>
          </p:nvGrpSpPr>
          <p:grpSpPr>
            <a:xfrm>
              <a:off x="1611360" y="3639960"/>
              <a:ext cx="3220920" cy="1556280"/>
              <a:chOff x="1611360" y="3639960"/>
              <a:chExt cx="3220920" cy="1556280"/>
            </a:xfrm>
          </p:grpSpPr>
          <p:sp>
            <p:nvSpPr>
              <p:cNvPr id="6134" name=""/>
              <p:cNvSpPr/>
              <p:nvPr/>
            </p:nvSpPr>
            <p:spPr>
              <a:xfrm>
                <a:off x="1611360" y="385488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540160" y="3639960"/>
                <a:ext cx="4309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 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258000" y="363996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902760" y="363996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8" name=""/>
            <p:cNvGrpSpPr/>
            <p:nvPr/>
          </p:nvGrpSpPr>
          <p:grpSpPr>
            <a:xfrm>
              <a:off x="2195640" y="3828960"/>
              <a:ext cx="2590560" cy="75960"/>
              <a:chOff x="2195640" y="3828960"/>
              <a:chExt cx="2590560" cy="75960"/>
            </a:xfrm>
          </p:grpSpPr>
          <p:sp>
            <p:nvSpPr>
              <p:cNvPr id="6139" name=""/>
              <p:cNvSpPr/>
              <p:nvPr/>
            </p:nvSpPr>
            <p:spPr>
              <a:xfrm>
                <a:off x="2195640" y="3904920"/>
                <a:ext cx="3808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329000" y="3904920"/>
                <a:ext cx="3812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643200" y="3904920"/>
                <a:ext cx="3812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881440" y="3904920"/>
                <a:ext cx="3808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195640" y="3828960"/>
                <a:ext cx="2590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4" name=""/>
          <p:cNvGrpSpPr/>
          <p:nvPr/>
        </p:nvGrpSpPr>
        <p:grpSpPr>
          <a:xfrm>
            <a:off x="4500720" y="3067200"/>
            <a:ext cx="3057120" cy="718200"/>
            <a:chOff x="4500720" y="3067200"/>
            <a:chExt cx="3057120" cy="718200"/>
          </a:xfrm>
        </p:grpSpPr>
        <p:sp>
          <p:nvSpPr>
            <p:cNvPr id="6145" name=""/>
            <p:cNvSpPr/>
            <p:nvPr/>
          </p:nvSpPr>
          <p:spPr>
            <a:xfrm>
              <a:off x="4500720" y="3067200"/>
              <a:ext cx="305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6" name=""/>
            <p:cNvGrpSpPr/>
            <p:nvPr/>
          </p:nvGrpSpPr>
          <p:grpSpPr>
            <a:xfrm>
              <a:off x="5008680" y="3067200"/>
              <a:ext cx="2433600" cy="71280"/>
              <a:chOff x="5008680" y="3067200"/>
              <a:chExt cx="2433600" cy="71280"/>
            </a:xfrm>
          </p:grpSpPr>
          <p:sp>
            <p:nvSpPr>
              <p:cNvPr id="6147" name=""/>
              <p:cNvSpPr/>
              <p:nvPr/>
            </p:nvSpPr>
            <p:spPr>
              <a:xfrm>
                <a:off x="5008680" y="31384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008680" y="306720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9" name=""/>
          <p:cNvSpPr/>
          <p:nvPr/>
        </p:nvSpPr>
        <p:spPr>
          <a:xfrm>
            <a:off x="1143000" y="4540320"/>
            <a:ext cx="3733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0" name=""/>
          <p:cNvGrpSpPr/>
          <p:nvPr/>
        </p:nvGrpSpPr>
        <p:grpSpPr>
          <a:xfrm>
            <a:off x="1390680" y="5164200"/>
            <a:ext cx="3220920" cy="933120"/>
            <a:chOff x="1390680" y="5164200"/>
            <a:chExt cx="3220920" cy="933120"/>
          </a:xfrm>
        </p:grpSpPr>
        <p:grpSp>
          <p:nvGrpSpPr>
            <p:cNvPr id="6151" name=""/>
            <p:cNvGrpSpPr/>
            <p:nvPr/>
          </p:nvGrpSpPr>
          <p:grpSpPr>
            <a:xfrm>
              <a:off x="1390680" y="5164200"/>
              <a:ext cx="3220920" cy="933120"/>
              <a:chOff x="1390680" y="5164200"/>
              <a:chExt cx="3220920" cy="933120"/>
            </a:xfrm>
          </p:grpSpPr>
          <p:sp>
            <p:nvSpPr>
              <p:cNvPr id="6152" name=""/>
              <p:cNvSpPr/>
              <p:nvPr/>
            </p:nvSpPr>
            <p:spPr>
              <a:xfrm>
                <a:off x="1390680" y="537912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5 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319480" y="5164200"/>
                <a:ext cx="430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37680" y="51642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682080" y="51642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6" name=""/>
            <p:cNvGrpSpPr/>
            <p:nvPr/>
          </p:nvGrpSpPr>
          <p:grpSpPr>
            <a:xfrm>
              <a:off x="1892160" y="5361120"/>
              <a:ext cx="2433600" cy="71640"/>
              <a:chOff x="1892160" y="5361120"/>
              <a:chExt cx="2433600" cy="71640"/>
            </a:xfrm>
          </p:grpSpPr>
          <p:sp>
            <p:nvSpPr>
              <p:cNvPr id="6157" name=""/>
              <p:cNvSpPr/>
              <p:nvPr/>
            </p:nvSpPr>
            <p:spPr>
              <a:xfrm>
                <a:off x="1892160" y="543276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895920" y="543276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251880" y="543276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536200" y="543276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1892160" y="53611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2" name=""/>
          <p:cNvGrpSpPr/>
          <p:nvPr/>
        </p:nvGrpSpPr>
        <p:grpSpPr>
          <a:xfrm>
            <a:off x="4741920" y="4572000"/>
            <a:ext cx="3057120" cy="718200"/>
            <a:chOff x="4741920" y="4572000"/>
            <a:chExt cx="3057120" cy="718200"/>
          </a:xfrm>
        </p:grpSpPr>
        <p:sp>
          <p:nvSpPr>
            <p:cNvPr id="6163" name=""/>
            <p:cNvSpPr/>
            <p:nvPr/>
          </p:nvSpPr>
          <p:spPr>
            <a:xfrm>
              <a:off x="4741920" y="4572000"/>
              <a:ext cx="305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4" name=""/>
            <p:cNvGrpSpPr/>
            <p:nvPr/>
          </p:nvGrpSpPr>
          <p:grpSpPr>
            <a:xfrm>
              <a:off x="4970520" y="4643280"/>
              <a:ext cx="2433600" cy="71640"/>
              <a:chOff x="4970520" y="4643280"/>
              <a:chExt cx="2433600" cy="71640"/>
            </a:xfrm>
          </p:grpSpPr>
          <p:sp>
            <p:nvSpPr>
              <p:cNvPr id="6165" name=""/>
              <p:cNvSpPr/>
              <p:nvPr/>
            </p:nvSpPr>
            <p:spPr>
              <a:xfrm>
                <a:off x="4970520" y="47149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970520" y="46432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7" name=""/>
          <p:cNvSpPr/>
          <p:nvPr/>
        </p:nvSpPr>
        <p:spPr>
          <a:xfrm>
            <a:off x="762120" y="5335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4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8" name=""/>
          <p:cNvGrpSpPr/>
          <p:nvPr/>
        </p:nvGrpSpPr>
        <p:grpSpPr>
          <a:xfrm>
            <a:off x="1600200" y="990720"/>
            <a:ext cx="6324480" cy="5253120"/>
            <a:chOff x="1600200" y="990720"/>
            <a:chExt cx="6324480" cy="5253120"/>
          </a:xfrm>
        </p:grpSpPr>
        <p:grpSp>
          <p:nvGrpSpPr>
            <p:cNvPr id="6169" name=""/>
            <p:cNvGrpSpPr/>
            <p:nvPr/>
          </p:nvGrpSpPr>
          <p:grpSpPr>
            <a:xfrm>
              <a:off x="1981080" y="5334120"/>
              <a:ext cx="5832000" cy="459720"/>
              <a:chOff x="1981080" y="5334120"/>
              <a:chExt cx="5832000" cy="459720"/>
            </a:xfrm>
          </p:grpSpPr>
          <p:sp>
            <p:nvSpPr>
              <p:cNvPr id="6170" name=""/>
              <p:cNvSpPr/>
              <p:nvPr/>
            </p:nvSpPr>
            <p:spPr>
              <a:xfrm>
                <a:off x="1981080" y="53341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1" name=""/>
              <p:cNvGrpSpPr/>
              <p:nvPr/>
            </p:nvGrpSpPr>
            <p:grpSpPr>
              <a:xfrm>
                <a:off x="2962800" y="5334120"/>
                <a:ext cx="4850280" cy="459720"/>
                <a:chOff x="2962800" y="5334120"/>
                <a:chExt cx="4850280" cy="459720"/>
              </a:xfrm>
            </p:grpSpPr>
            <p:sp>
              <p:nvSpPr>
                <p:cNvPr id="6172" name=""/>
                <p:cNvSpPr/>
                <p:nvPr/>
              </p:nvSpPr>
              <p:spPr>
                <a:xfrm>
                  <a:off x="296280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3" name=""/>
                <p:cNvSpPr/>
                <p:nvPr/>
              </p:nvSpPr>
              <p:spPr>
                <a:xfrm>
                  <a:off x="38008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4" name=""/>
                <p:cNvSpPr/>
                <p:nvPr/>
              </p:nvSpPr>
              <p:spPr>
                <a:xfrm>
                  <a:off x="47152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5" name=""/>
                <p:cNvSpPr/>
                <p:nvPr/>
              </p:nvSpPr>
              <p:spPr>
                <a:xfrm>
                  <a:off x="56296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6" name=""/>
                <p:cNvSpPr/>
                <p:nvPr/>
              </p:nvSpPr>
              <p:spPr>
                <a:xfrm>
                  <a:off x="65440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7" name=""/>
                <p:cNvSpPr/>
                <p:nvPr/>
              </p:nvSpPr>
              <p:spPr>
                <a:xfrm>
                  <a:off x="74584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78" name=""/>
            <p:cNvSpPr/>
            <p:nvPr/>
          </p:nvSpPr>
          <p:spPr>
            <a:xfrm>
              <a:off x="197208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9" name=""/>
            <p:cNvGrpSpPr/>
            <p:nvPr/>
          </p:nvGrpSpPr>
          <p:grpSpPr>
            <a:xfrm>
              <a:off x="2505600" y="1447920"/>
              <a:ext cx="4317120" cy="459720"/>
              <a:chOff x="2505600" y="1447920"/>
              <a:chExt cx="4317120" cy="459720"/>
            </a:xfrm>
          </p:grpSpPr>
          <p:sp>
            <p:nvSpPr>
              <p:cNvPr id="6180" name=""/>
              <p:cNvSpPr/>
              <p:nvPr/>
            </p:nvSpPr>
            <p:spPr>
              <a:xfrm>
                <a:off x="250560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56300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46812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3" name=""/>
            <p:cNvGrpSpPr/>
            <p:nvPr/>
          </p:nvGrpSpPr>
          <p:grpSpPr>
            <a:xfrm>
              <a:off x="1756440" y="5638680"/>
              <a:ext cx="6164640" cy="605160"/>
              <a:chOff x="1756440" y="5638680"/>
              <a:chExt cx="6164640" cy="605160"/>
            </a:xfrm>
          </p:grpSpPr>
          <p:grpSp>
            <p:nvGrpSpPr>
              <p:cNvPr id="6184" name=""/>
              <p:cNvGrpSpPr/>
              <p:nvPr/>
            </p:nvGrpSpPr>
            <p:grpSpPr>
              <a:xfrm>
                <a:off x="1756440" y="5664240"/>
                <a:ext cx="6164640" cy="579600"/>
                <a:chOff x="1756440" y="5664240"/>
                <a:chExt cx="6164640" cy="579600"/>
              </a:xfrm>
            </p:grpSpPr>
            <p:sp>
              <p:nvSpPr>
                <p:cNvPr id="6185" name=""/>
                <p:cNvSpPr/>
                <p:nvPr/>
              </p:nvSpPr>
              <p:spPr>
                <a:xfrm>
                  <a:off x="7374960" y="5715000"/>
                  <a:ext cx="546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6" name=""/>
                <p:cNvSpPr/>
                <p:nvPr/>
              </p:nvSpPr>
              <p:spPr>
                <a:xfrm>
                  <a:off x="175644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>
                  <a:off x="276984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363168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456768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>
                  <a:off x="550476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>
                  <a:off x="6437880" y="5715000"/>
                  <a:ext cx="7027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2" name=""/>
              <p:cNvSpPr/>
              <p:nvPr/>
            </p:nvSpPr>
            <p:spPr>
              <a:xfrm>
                <a:off x="7378560" y="563868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6441840" y="563868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4" name=""/>
            <p:cNvSpPr/>
            <p:nvPr/>
          </p:nvSpPr>
          <p:spPr>
            <a:xfrm flipV="1">
              <a:off x="7534440" y="4460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6284880" y="268596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605160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332240" y="2685960"/>
              <a:ext cx="0" cy="51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06856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303640" y="2685960"/>
              <a:ext cx="0" cy="51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536920" y="268596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771640" y="2685960"/>
              <a:ext cx="0" cy="10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9896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567320" y="2685960"/>
              <a:ext cx="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6597720" y="4460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1913040" y="1947960"/>
              <a:ext cx="10144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146320" y="1947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381400" y="179856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V="1">
              <a:off x="245916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943440" y="1947960"/>
              <a:ext cx="10144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176720" y="1947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411800" y="179856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flipV="1">
              <a:off x="448956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5894280" y="1947960"/>
              <a:ext cx="10162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6129360" y="1947960"/>
              <a:ext cx="5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6362640" y="1798560"/>
              <a:ext cx="1573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 flipV="1">
              <a:off x="644220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1600200" y="29811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1600200" y="32288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1600200" y="34988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1600200" y="37209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1600200" y="39672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1600200" y="42386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1600200" y="44607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6284880" y="4830840"/>
              <a:ext cx="6256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6519960" y="468144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65977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64346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221600" y="4830840"/>
              <a:ext cx="62532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456320" y="4681440"/>
              <a:ext cx="15588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53444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36956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34816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581800" y="4681440"/>
              <a:ext cx="15696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66100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54950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1180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645080" y="4681440"/>
              <a:ext cx="15696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72428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55832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3473280" y="4830840"/>
              <a:ext cx="6256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3708360" y="468144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37861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62160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614680" y="4830840"/>
              <a:ext cx="62532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849400" y="4681440"/>
              <a:ext cx="15588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9275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7626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160020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1833480" y="4681440"/>
              <a:ext cx="1573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191304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1866960" y="564372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174672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4879800" y="2685960"/>
              <a:ext cx="0" cy="15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6519960" y="2685960"/>
              <a:ext cx="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6753240" y="2685960"/>
              <a:ext cx="0" cy="17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flipV="1">
              <a:off x="5661000" y="3943440"/>
              <a:ext cx="0" cy="73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flipV="1">
              <a:off x="4722840" y="3720960"/>
              <a:ext cx="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flipV="1">
              <a:off x="3786120" y="3498480"/>
              <a:ext cx="0" cy="11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V="1">
              <a:off x="2927520" y="3203280"/>
              <a:ext cx="0" cy="14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 flipV="1">
              <a:off x="1913040" y="2980800"/>
              <a:ext cx="0" cy="17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 flipV="1">
              <a:off x="6597720" y="4238280"/>
              <a:ext cx="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221920" y="9907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4267080" y="990720"/>
              <a:ext cx="698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6184440" y="9907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87820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562140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468468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73392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491240" y="5638680"/>
              <a:ext cx="9396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6534000" y="5621400"/>
              <a:ext cx="9396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40984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45464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640080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4" name=""/>
          <p:cNvSpPr/>
          <p:nvPr/>
        </p:nvSpPr>
        <p:spPr>
          <a:xfrm>
            <a:off x="838080" y="1295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将十进制数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~9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编成二进制代码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9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十进制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2743200" y="5161680"/>
            <a:ext cx="2590920" cy="561600"/>
          </a:xfrm>
          <a:prstGeom prst="wedgeRoundRectCallout">
            <a:avLst>
              <a:gd name="adj1" fmla="val -66541"/>
              <a:gd name="adj2" fmla="val -276773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十进制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7" name=""/>
          <p:cNvGrpSpPr/>
          <p:nvPr/>
        </p:nvGrpSpPr>
        <p:grpSpPr>
          <a:xfrm>
            <a:off x="1676520" y="2289240"/>
            <a:ext cx="6019560" cy="1906560"/>
            <a:chOff x="1676520" y="2289240"/>
            <a:chExt cx="6019560" cy="1906560"/>
          </a:xfrm>
        </p:grpSpPr>
        <p:sp>
          <p:nvSpPr>
            <p:cNvPr id="6278" name=""/>
            <p:cNvSpPr/>
            <p:nvPr/>
          </p:nvSpPr>
          <p:spPr>
            <a:xfrm>
              <a:off x="6038280" y="315108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520360" y="3119400"/>
              <a:ext cx="8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10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733920" y="3357720"/>
              <a:ext cx="1904760" cy="83808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886200" y="3510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编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1676520" y="228924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086600" y="236700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943600" y="358632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514600" y="358632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"/>
          <p:cNvSpPr/>
          <p:nvPr/>
        </p:nvSpPr>
        <p:spPr>
          <a:xfrm>
            <a:off x="533520" y="1468440"/>
            <a:ext cx="3581280" cy="37371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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列编码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四位二进制代码可以表示十六种不同的状态，其中任何十种状态都可以表示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~9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十个数码，最常用的是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842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7" name=""/>
          <p:cNvGrpSpPr/>
          <p:nvPr/>
        </p:nvGrpSpPr>
        <p:grpSpPr>
          <a:xfrm>
            <a:off x="4332600" y="533520"/>
            <a:ext cx="3820680" cy="5668200"/>
            <a:chOff x="4332600" y="533520"/>
            <a:chExt cx="3820680" cy="5668200"/>
          </a:xfrm>
        </p:grpSpPr>
        <p:grpSp>
          <p:nvGrpSpPr>
            <p:cNvPr id="6288" name=""/>
            <p:cNvGrpSpPr/>
            <p:nvPr/>
          </p:nvGrpSpPr>
          <p:grpSpPr>
            <a:xfrm>
              <a:off x="4332600" y="1066680"/>
              <a:ext cx="3645000" cy="5135040"/>
              <a:chOff x="4332600" y="1066680"/>
              <a:chExt cx="3645000" cy="5135040"/>
            </a:xfrm>
          </p:grpSpPr>
          <p:grpSp>
            <p:nvGrpSpPr>
              <p:cNvPr id="6289" name=""/>
              <p:cNvGrpSpPr/>
              <p:nvPr/>
            </p:nvGrpSpPr>
            <p:grpSpPr>
              <a:xfrm>
                <a:off x="4495680" y="1144440"/>
                <a:ext cx="3429000" cy="4949640"/>
                <a:chOff x="4495680" y="1144440"/>
                <a:chExt cx="3429000" cy="4949640"/>
              </a:xfrm>
            </p:grpSpPr>
            <p:sp>
              <p:nvSpPr>
                <p:cNvPr id="6290" name=""/>
                <p:cNvSpPr/>
                <p:nvPr/>
              </p:nvSpPr>
              <p:spPr>
                <a:xfrm>
                  <a:off x="4495680" y="1144440"/>
                  <a:ext cx="34290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5486040" y="1144440"/>
                  <a:ext cx="0" cy="49496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495680" y="2087280"/>
                  <a:ext cx="34290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5486040" y="1615680"/>
                  <a:ext cx="24386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4" name=""/>
              <p:cNvSpPr/>
              <p:nvPr/>
            </p:nvSpPr>
            <p:spPr>
              <a:xfrm>
                <a:off x="5628240" y="3265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5628240" y="4051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5628240" y="4836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7" name=""/>
              <p:cNvGrpSpPr/>
              <p:nvPr/>
            </p:nvGrpSpPr>
            <p:grpSpPr>
              <a:xfrm>
                <a:off x="4332600" y="1066680"/>
                <a:ext cx="3645000" cy="5135040"/>
                <a:chOff x="4332600" y="1066680"/>
                <a:chExt cx="3645000" cy="5135040"/>
              </a:xfrm>
            </p:grpSpPr>
            <p:grpSp>
              <p:nvGrpSpPr>
                <p:cNvPr id="6298" name=""/>
                <p:cNvGrpSpPr/>
                <p:nvPr/>
              </p:nvGrpSpPr>
              <p:grpSpPr>
                <a:xfrm>
                  <a:off x="4332600" y="1066680"/>
                  <a:ext cx="3645000" cy="5135040"/>
                  <a:chOff x="4332600" y="1066680"/>
                  <a:chExt cx="3645000" cy="5135040"/>
                </a:xfrm>
              </p:grpSpPr>
              <p:sp>
                <p:nvSpPr>
                  <p:cNvPr id="6299" name=""/>
                  <p:cNvSpPr/>
                  <p:nvPr/>
                </p:nvSpPr>
                <p:spPr>
                  <a:xfrm>
                    <a:off x="6391800" y="1066680"/>
                    <a:ext cx="700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"/>
                      </a:rPr>
                      <a:t>输 出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0" name=""/>
                  <p:cNvSpPr/>
                  <p:nvPr/>
                </p:nvSpPr>
                <p:spPr>
                  <a:xfrm>
                    <a:off x="4343400" y="1380600"/>
                    <a:ext cx="990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"/>
                      </a:rPr>
                      <a:t>输 入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1" name=""/>
                  <p:cNvSpPr/>
                  <p:nvPr/>
                </p:nvSpPr>
                <p:spPr>
                  <a:xfrm>
                    <a:off x="687024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2" name=""/>
                  <p:cNvSpPr/>
                  <p:nvPr/>
                </p:nvSpPr>
                <p:spPr>
                  <a:xfrm>
                    <a:off x="626076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3" name=""/>
                  <p:cNvSpPr/>
                  <p:nvPr/>
                </p:nvSpPr>
                <p:spPr>
                  <a:xfrm>
                    <a:off x="747972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04" name=""/>
                  <p:cNvGrpSpPr/>
                  <p:nvPr/>
                </p:nvGrpSpPr>
                <p:grpSpPr>
                  <a:xfrm>
                    <a:off x="4332600" y="2087640"/>
                    <a:ext cx="1077840" cy="4114080"/>
                    <a:chOff x="4332600" y="2087640"/>
                    <a:chExt cx="1077840" cy="4114080"/>
                  </a:xfrm>
                </p:grpSpPr>
                <p:sp>
                  <p:nvSpPr>
                    <p:cNvPr id="6305" name=""/>
                    <p:cNvSpPr/>
                    <p:nvPr/>
                  </p:nvSpPr>
                  <p:spPr>
                    <a:xfrm>
                      <a:off x="4343400" y="2087640"/>
                      <a:ext cx="10670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 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6" name=""/>
                    <p:cNvSpPr/>
                    <p:nvPr/>
                  </p:nvSpPr>
                  <p:spPr>
                    <a:xfrm>
                      <a:off x="4332600" y="24771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7" name=""/>
                    <p:cNvSpPr/>
                    <p:nvPr/>
                  </p:nvSpPr>
                  <p:spPr>
                    <a:xfrm>
                      <a:off x="4332600" y="28731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8" name=""/>
                    <p:cNvSpPr/>
                    <p:nvPr/>
                  </p:nvSpPr>
                  <p:spPr>
                    <a:xfrm>
                      <a:off x="4332600" y="326088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3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9" name=""/>
                    <p:cNvSpPr/>
                    <p:nvPr/>
                  </p:nvSpPr>
                  <p:spPr>
                    <a:xfrm>
                      <a:off x="4332600" y="365868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0" name=""/>
                    <p:cNvSpPr/>
                    <p:nvPr/>
                  </p:nvSpPr>
                  <p:spPr>
                    <a:xfrm>
                      <a:off x="4332600" y="405144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5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1" name=""/>
                    <p:cNvSpPr/>
                    <p:nvPr/>
                  </p:nvSpPr>
                  <p:spPr>
                    <a:xfrm>
                      <a:off x="4332600" y="444384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2" name=""/>
                    <p:cNvSpPr/>
                    <p:nvPr/>
                  </p:nvSpPr>
                  <p:spPr>
                    <a:xfrm>
                      <a:off x="4332600" y="48369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7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3" name=""/>
                    <p:cNvSpPr/>
                    <p:nvPr/>
                  </p:nvSpPr>
                  <p:spPr>
                    <a:xfrm>
                      <a:off x="4343400" y="5228280"/>
                      <a:ext cx="10670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4" name=""/>
                    <p:cNvSpPr/>
                    <p:nvPr/>
                  </p:nvSpPr>
                  <p:spPr>
                    <a:xfrm>
                      <a:off x="4332600" y="562212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9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15" name=""/>
                  <p:cNvSpPr/>
                  <p:nvPr/>
                </p:nvSpPr>
                <p:spPr>
                  <a:xfrm>
                    <a:off x="557496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6" name=""/>
                <p:cNvGrpSpPr/>
                <p:nvPr/>
              </p:nvGrpSpPr>
              <p:grpSpPr>
                <a:xfrm>
                  <a:off x="5628240" y="2087640"/>
                  <a:ext cx="2288520" cy="4055040"/>
                  <a:chOff x="5628240" y="2087640"/>
                  <a:chExt cx="2288520" cy="4055040"/>
                </a:xfrm>
              </p:grpSpPr>
              <p:grpSp>
                <p:nvGrpSpPr>
                  <p:cNvPr id="6317" name=""/>
                  <p:cNvGrpSpPr/>
                  <p:nvPr/>
                </p:nvGrpSpPr>
                <p:grpSpPr>
                  <a:xfrm>
                    <a:off x="7533000" y="2087640"/>
                    <a:ext cx="383400" cy="3269880"/>
                    <a:chOff x="7533000" y="2087640"/>
                    <a:chExt cx="383400" cy="3269880"/>
                  </a:xfrm>
                </p:grpSpPr>
                <p:sp>
                  <p:nvSpPr>
                    <p:cNvPr id="6318" name=""/>
                    <p:cNvSpPr/>
                    <p:nvPr/>
                  </p:nvSpPr>
                  <p:spPr>
                    <a:xfrm>
                      <a:off x="753300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9" name=""/>
                    <p:cNvSpPr/>
                    <p:nvPr/>
                  </p:nvSpPr>
                  <p:spPr>
                    <a:xfrm>
                      <a:off x="753300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0" name=""/>
                    <p:cNvSpPr/>
                    <p:nvPr/>
                  </p:nvSpPr>
                  <p:spPr>
                    <a:xfrm>
                      <a:off x="753300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1" name=""/>
                    <p:cNvSpPr/>
                    <p:nvPr/>
                  </p:nvSpPr>
                  <p:spPr>
                    <a:xfrm>
                      <a:off x="7533000" y="2477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2" name=""/>
                    <p:cNvSpPr/>
                    <p:nvPr/>
                  </p:nvSpPr>
                  <p:spPr>
                    <a:xfrm>
                      <a:off x="753300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3" name=""/>
                    <p:cNvSpPr/>
                    <p:nvPr/>
                  </p:nvSpPr>
                  <p:spPr>
                    <a:xfrm>
                      <a:off x="753300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4" name=""/>
                    <p:cNvSpPr/>
                    <p:nvPr/>
                  </p:nvSpPr>
                  <p:spPr>
                    <a:xfrm>
                      <a:off x="753300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5" name=""/>
                    <p:cNvSpPr/>
                    <p:nvPr/>
                  </p:nvSpPr>
                  <p:spPr>
                    <a:xfrm>
                      <a:off x="753300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26" name=""/>
                  <p:cNvGrpSpPr/>
                  <p:nvPr/>
                </p:nvGrpSpPr>
                <p:grpSpPr>
                  <a:xfrm>
                    <a:off x="6237720" y="2087640"/>
                    <a:ext cx="383400" cy="3269880"/>
                    <a:chOff x="6237720" y="2087640"/>
                    <a:chExt cx="383400" cy="3269880"/>
                  </a:xfrm>
                </p:grpSpPr>
                <p:sp>
                  <p:nvSpPr>
                    <p:cNvPr id="6327" name=""/>
                    <p:cNvSpPr/>
                    <p:nvPr/>
                  </p:nvSpPr>
                  <p:spPr>
                    <a:xfrm>
                      <a:off x="623772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8" name=""/>
                    <p:cNvSpPr/>
                    <p:nvPr/>
                  </p:nvSpPr>
                  <p:spPr>
                    <a:xfrm>
                      <a:off x="6248520" y="2477160"/>
                      <a:ext cx="361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9" name=""/>
                    <p:cNvSpPr/>
                    <p:nvPr/>
                  </p:nvSpPr>
                  <p:spPr>
                    <a:xfrm>
                      <a:off x="623772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0" name=""/>
                    <p:cNvSpPr/>
                    <p:nvPr/>
                  </p:nvSpPr>
                  <p:spPr>
                    <a:xfrm>
                      <a:off x="623772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1" name=""/>
                    <p:cNvSpPr/>
                    <p:nvPr/>
                  </p:nvSpPr>
                  <p:spPr>
                    <a:xfrm>
                      <a:off x="623772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2" name=""/>
                    <p:cNvSpPr/>
                    <p:nvPr/>
                  </p:nvSpPr>
                  <p:spPr>
                    <a:xfrm>
                      <a:off x="623772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3" name=""/>
                    <p:cNvSpPr/>
                    <p:nvPr/>
                  </p:nvSpPr>
                  <p:spPr>
                    <a:xfrm>
                      <a:off x="623772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4" name=""/>
                    <p:cNvSpPr/>
                    <p:nvPr/>
                  </p:nvSpPr>
                  <p:spPr>
                    <a:xfrm>
                      <a:off x="623772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5" name=""/>
                  <p:cNvGrpSpPr/>
                  <p:nvPr/>
                </p:nvGrpSpPr>
                <p:grpSpPr>
                  <a:xfrm>
                    <a:off x="6923520" y="2087640"/>
                    <a:ext cx="383400" cy="3269880"/>
                    <a:chOff x="6923520" y="2087640"/>
                    <a:chExt cx="383400" cy="3269880"/>
                  </a:xfrm>
                </p:grpSpPr>
                <p:sp>
                  <p:nvSpPr>
                    <p:cNvPr id="6336" name=""/>
                    <p:cNvSpPr/>
                    <p:nvPr/>
                  </p:nvSpPr>
                  <p:spPr>
                    <a:xfrm>
                      <a:off x="692352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7" name=""/>
                    <p:cNvSpPr/>
                    <p:nvPr/>
                  </p:nvSpPr>
                  <p:spPr>
                    <a:xfrm>
                      <a:off x="6923520" y="2477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8" name=""/>
                    <p:cNvSpPr/>
                    <p:nvPr/>
                  </p:nvSpPr>
                  <p:spPr>
                    <a:xfrm>
                      <a:off x="692352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9" name=""/>
                    <p:cNvSpPr/>
                    <p:nvPr/>
                  </p:nvSpPr>
                  <p:spPr>
                    <a:xfrm>
                      <a:off x="692352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0" name=""/>
                    <p:cNvSpPr/>
                    <p:nvPr/>
                  </p:nvSpPr>
                  <p:spPr>
                    <a:xfrm>
                      <a:off x="692352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1" name=""/>
                    <p:cNvSpPr/>
                    <p:nvPr/>
                  </p:nvSpPr>
                  <p:spPr>
                    <a:xfrm>
                      <a:off x="692352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2" name=""/>
                    <p:cNvSpPr/>
                    <p:nvPr/>
                  </p:nvSpPr>
                  <p:spPr>
                    <a:xfrm>
                      <a:off x="692352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3" name=""/>
                    <p:cNvSpPr/>
                    <p:nvPr/>
                  </p:nvSpPr>
                  <p:spPr>
                    <a:xfrm>
                      <a:off x="692352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44" name=""/>
                  <p:cNvSpPr/>
                  <p:nvPr/>
                </p:nvSpPr>
                <p:spPr>
                  <a:xfrm>
                    <a:off x="5639040" y="2087640"/>
                    <a:ext cx="361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5" name=""/>
                  <p:cNvSpPr/>
                  <p:nvPr/>
                </p:nvSpPr>
                <p:spPr>
                  <a:xfrm>
                    <a:off x="5628240" y="247716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6" name=""/>
                  <p:cNvSpPr/>
                  <p:nvPr/>
                </p:nvSpPr>
                <p:spPr>
                  <a:xfrm>
                    <a:off x="5628240" y="287316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7" name=""/>
                  <p:cNvSpPr/>
                  <p:nvPr/>
                </p:nvSpPr>
                <p:spPr>
                  <a:xfrm>
                    <a:off x="5628240" y="365904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8" name=""/>
                  <p:cNvSpPr/>
                  <p:nvPr/>
                </p:nvSpPr>
                <p:spPr>
                  <a:xfrm>
                    <a:off x="5628240" y="444420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49" name=""/>
                  <p:cNvGrpSpPr/>
                  <p:nvPr/>
                </p:nvGrpSpPr>
                <p:grpSpPr>
                  <a:xfrm>
                    <a:off x="5628240" y="5229720"/>
                    <a:ext cx="2288520" cy="912960"/>
                    <a:chOff x="5628240" y="5229720"/>
                    <a:chExt cx="2288520" cy="912960"/>
                  </a:xfrm>
                </p:grpSpPr>
                <p:sp>
                  <p:nvSpPr>
                    <p:cNvPr id="6350" name=""/>
                    <p:cNvSpPr/>
                    <p:nvPr/>
                  </p:nvSpPr>
                  <p:spPr>
                    <a:xfrm>
                      <a:off x="753336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1" name=""/>
                    <p:cNvSpPr/>
                    <p:nvPr/>
                  </p:nvSpPr>
                  <p:spPr>
                    <a:xfrm>
                      <a:off x="692352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2" name=""/>
                    <p:cNvSpPr/>
                    <p:nvPr/>
                  </p:nvSpPr>
                  <p:spPr>
                    <a:xfrm>
                      <a:off x="623772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3" name=""/>
                    <p:cNvSpPr/>
                    <p:nvPr/>
                  </p:nvSpPr>
                  <p:spPr>
                    <a:xfrm>
                      <a:off x="692352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4" name=""/>
                    <p:cNvSpPr/>
                    <p:nvPr/>
                  </p:nvSpPr>
                  <p:spPr>
                    <a:xfrm>
                      <a:off x="623772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5" name=""/>
                    <p:cNvSpPr/>
                    <p:nvPr/>
                  </p:nvSpPr>
                  <p:spPr>
                    <a:xfrm>
                      <a:off x="562824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6" name=""/>
                    <p:cNvSpPr/>
                    <p:nvPr/>
                  </p:nvSpPr>
                  <p:spPr>
                    <a:xfrm>
                      <a:off x="562824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7" name=""/>
                    <p:cNvSpPr/>
                    <p:nvPr/>
                  </p:nvSpPr>
                  <p:spPr>
                    <a:xfrm>
                      <a:off x="753336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358" name=""/>
            <p:cNvSpPr/>
            <p:nvPr/>
          </p:nvSpPr>
          <p:spPr>
            <a:xfrm>
              <a:off x="4572000" y="53352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8421BCD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码编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"/>
          <p:cNvSpPr/>
          <p:nvPr/>
        </p:nvSpPr>
        <p:spPr>
          <a:xfrm>
            <a:off x="762120" y="776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写出逻辑式并化成“或非”门和“与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0" name=""/>
          <p:cNvGrpSpPr/>
          <p:nvPr/>
        </p:nvGrpSpPr>
        <p:grpSpPr>
          <a:xfrm>
            <a:off x="1378800" y="1522440"/>
            <a:ext cx="1801440" cy="667800"/>
            <a:chOff x="1378800" y="1522440"/>
            <a:chExt cx="1801440" cy="667800"/>
          </a:xfrm>
        </p:grpSpPr>
        <p:sp>
          <p:nvSpPr>
            <p:cNvPr id="6361" name=""/>
            <p:cNvSpPr/>
            <p:nvPr/>
          </p:nvSpPr>
          <p:spPr>
            <a:xfrm>
              <a:off x="1378800" y="1541520"/>
              <a:ext cx="1801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2" name=""/>
            <p:cNvGrpSpPr/>
            <p:nvPr/>
          </p:nvGrpSpPr>
          <p:grpSpPr>
            <a:xfrm>
              <a:off x="2286000" y="1522440"/>
              <a:ext cx="762120" cy="75960"/>
              <a:chOff x="2286000" y="1522440"/>
              <a:chExt cx="762120" cy="75960"/>
            </a:xfrm>
          </p:grpSpPr>
          <p:sp>
            <p:nvSpPr>
              <p:cNvPr id="6363" name=""/>
              <p:cNvSpPr/>
              <p:nvPr/>
            </p:nvSpPr>
            <p:spPr>
              <a:xfrm>
                <a:off x="2286000" y="1598400"/>
                <a:ext cx="762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286000" y="1522440"/>
                <a:ext cx="762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65" name=""/>
          <p:cNvGrpSpPr/>
          <p:nvPr/>
        </p:nvGrpSpPr>
        <p:grpSpPr>
          <a:xfrm>
            <a:off x="1371600" y="2055960"/>
            <a:ext cx="6629400" cy="927720"/>
            <a:chOff x="1371600" y="2055960"/>
            <a:chExt cx="6629400" cy="927720"/>
          </a:xfrm>
        </p:grpSpPr>
        <p:grpSp>
          <p:nvGrpSpPr>
            <p:cNvPr id="6366" name=""/>
            <p:cNvGrpSpPr/>
            <p:nvPr/>
          </p:nvGrpSpPr>
          <p:grpSpPr>
            <a:xfrm>
              <a:off x="4267080" y="2055960"/>
              <a:ext cx="3733920" cy="927720"/>
              <a:chOff x="4267080" y="2055960"/>
              <a:chExt cx="3733920" cy="927720"/>
            </a:xfrm>
          </p:grpSpPr>
          <p:sp>
            <p:nvSpPr>
              <p:cNvPr id="6367" name=""/>
              <p:cNvSpPr/>
              <p:nvPr/>
            </p:nvSpPr>
            <p:spPr>
              <a:xfrm>
                <a:off x="5934600" y="2055960"/>
                <a:ext cx="354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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4267080" y="2284200"/>
                <a:ext cx="37339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4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     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5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69" name=""/>
              <p:cNvGrpSpPr/>
              <p:nvPr/>
            </p:nvGrpSpPr>
            <p:grpSpPr>
              <a:xfrm>
                <a:off x="4800600" y="2360520"/>
                <a:ext cx="2438280" cy="75600"/>
                <a:chOff x="4800600" y="2360520"/>
                <a:chExt cx="2438280" cy="75600"/>
              </a:xfrm>
            </p:grpSpPr>
            <p:sp>
              <p:nvSpPr>
                <p:cNvPr id="6370" name=""/>
                <p:cNvSpPr/>
                <p:nvPr/>
              </p:nvSpPr>
              <p:spPr>
                <a:xfrm>
                  <a:off x="4800600" y="2436120"/>
                  <a:ext cx="108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6290640" y="2436120"/>
                  <a:ext cx="9478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800600" y="23605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73" name=""/>
            <p:cNvSpPr/>
            <p:nvPr/>
          </p:nvSpPr>
          <p:spPr>
            <a:xfrm>
              <a:off x="1371600" y="232884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4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6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4" name=""/>
            <p:cNvGrpSpPr/>
            <p:nvPr/>
          </p:nvGrpSpPr>
          <p:grpSpPr>
            <a:xfrm>
              <a:off x="2286000" y="2360520"/>
              <a:ext cx="2057400" cy="74160"/>
              <a:chOff x="2286000" y="2360520"/>
              <a:chExt cx="2057400" cy="74160"/>
            </a:xfrm>
          </p:grpSpPr>
          <p:sp>
            <p:nvSpPr>
              <p:cNvPr id="6375" name=""/>
              <p:cNvSpPr/>
              <p:nvPr/>
            </p:nvSpPr>
            <p:spPr>
              <a:xfrm>
                <a:off x="2286000" y="236052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2286000" y="243468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7" name=""/>
          <p:cNvGrpSpPr/>
          <p:nvPr/>
        </p:nvGrpSpPr>
        <p:grpSpPr>
          <a:xfrm>
            <a:off x="1371600" y="4037040"/>
            <a:ext cx="4495680" cy="648720"/>
            <a:chOff x="1371600" y="4037040"/>
            <a:chExt cx="4495680" cy="648720"/>
          </a:xfrm>
        </p:grpSpPr>
        <p:sp>
          <p:nvSpPr>
            <p:cNvPr id="6378" name=""/>
            <p:cNvSpPr/>
            <p:nvPr/>
          </p:nvSpPr>
          <p:spPr>
            <a:xfrm>
              <a:off x="1371600" y="4037040"/>
              <a:ext cx="4495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9" name=""/>
            <p:cNvGrpSpPr/>
            <p:nvPr/>
          </p:nvGrpSpPr>
          <p:grpSpPr>
            <a:xfrm>
              <a:off x="2286000" y="4037040"/>
              <a:ext cx="2590560" cy="75960"/>
              <a:chOff x="2286000" y="4037040"/>
              <a:chExt cx="2590560" cy="75960"/>
            </a:xfrm>
          </p:grpSpPr>
          <p:sp>
            <p:nvSpPr>
              <p:cNvPr id="6380" name=""/>
              <p:cNvSpPr/>
              <p:nvPr/>
            </p:nvSpPr>
            <p:spPr>
              <a:xfrm>
                <a:off x="2286000" y="411300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2286000" y="403704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2" name=""/>
          <p:cNvGrpSpPr/>
          <p:nvPr/>
        </p:nvGrpSpPr>
        <p:grpSpPr>
          <a:xfrm>
            <a:off x="1676520" y="4722840"/>
            <a:ext cx="4952880" cy="909000"/>
            <a:chOff x="1676520" y="4722840"/>
            <a:chExt cx="4952880" cy="909000"/>
          </a:xfrm>
        </p:grpSpPr>
        <p:sp>
          <p:nvSpPr>
            <p:cNvPr id="6383" name=""/>
            <p:cNvSpPr/>
            <p:nvPr/>
          </p:nvSpPr>
          <p:spPr>
            <a:xfrm>
              <a:off x="4495680" y="4722840"/>
              <a:ext cx="45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76520" y="4983120"/>
              <a:ext cx="4952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=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9     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7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3159360" y="4722840"/>
              <a:ext cx="35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6" name=""/>
            <p:cNvGrpSpPr/>
            <p:nvPr/>
          </p:nvGrpSpPr>
          <p:grpSpPr>
            <a:xfrm>
              <a:off x="2286000" y="4951440"/>
              <a:ext cx="3428640" cy="76320"/>
              <a:chOff x="2286000" y="4951440"/>
              <a:chExt cx="3428640" cy="76320"/>
            </a:xfrm>
          </p:grpSpPr>
          <p:sp>
            <p:nvSpPr>
              <p:cNvPr id="6387" name=""/>
              <p:cNvSpPr/>
              <p:nvPr/>
            </p:nvSpPr>
            <p:spPr>
              <a:xfrm>
                <a:off x="2286000" y="5027760"/>
                <a:ext cx="922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2286000" y="4951440"/>
                <a:ext cx="3428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4791240" y="5027760"/>
                <a:ext cx="9230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3538800" y="5027760"/>
                <a:ext cx="922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1" name=""/>
          <p:cNvGrpSpPr/>
          <p:nvPr/>
        </p:nvGrpSpPr>
        <p:grpSpPr>
          <a:xfrm>
            <a:off x="1371600" y="2817720"/>
            <a:ext cx="6629400" cy="928080"/>
            <a:chOff x="1371600" y="2817720"/>
            <a:chExt cx="6629400" cy="928080"/>
          </a:xfrm>
        </p:grpSpPr>
        <p:grpSp>
          <p:nvGrpSpPr>
            <p:cNvPr id="6392" name=""/>
            <p:cNvGrpSpPr/>
            <p:nvPr/>
          </p:nvGrpSpPr>
          <p:grpSpPr>
            <a:xfrm>
              <a:off x="4267080" y="2817720"/>
              <a:ext cx="3733920" cy="928080"/>
              <a:chOff x="4267080" y="2817720"/>
              <a:chExt cx="3733920" cy="928080"/>
            </a:xfrm>
          </p:grpSpPr>
          <p:sp>
            <p:nvSpPr>
              <p:cNvPr id="6393" name=""/>
              <p:cNvSpPr/>
              <p:nvPr/>
            </p:nvSpPr>
            <p:spPr>
              <a:xfrm>
                <a:off x="5934600" y="2817720"/>
                <a:ext cx="354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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4267080" y="3046320"/>
                <a:ext cx="37339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2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     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3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5" name=""/>
              <p:cNvGrpSpPr/>
              <p:nvPr/>
            </p:nvGrpSpPr>
            <p:grpSpPr>
              <a:xfrm>
                <a:off x="4800600" y="3122640"/>
                <a:ext cx="2438280" cy="75960"/>
                <a:chOff x="4800600" y="3122640"/>
                <a:chExt cx="2438280" cy="75960"/>
              </a:xfrm>
            </p:grpSpPr>
            <p:sp>
              <p:nvSpPr>
                <p:cNvPr id="6396" name=""/>
                <p:cNvSpPr/>
                <p:nvPr/>
              </p:nvSpPr>
              <p:spPr>
                <a:xfrm>
                  <a:off x="4800600" y="3198600"/>
                  <a:ext cx="108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6290640" y="3198600"/>
                  <a:ext cx="9478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800600" y="312264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9" name=""/>
            <p:cNvSpPr/>
            <p:nvPr/>
          </p:nvSpPr>
          <p:spPr>
            <a:xfrm>
              <a:off x="1371600" y="309096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6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0" name=""/>
            <p:cNvGrpSpPr/>
            <p:nvPr/>
          </p:nvGrpSpPr>
          <p:grpSpPr>
            <a:xfrm>
              <a:off x="2286000" y="3122280"/>
              <a:ext cx="2057400" cy="74520"/>
              <a:chOff x="2286000" y="3122280"/>
              <a:chExt cx="2057400" cy="74520"/>
            </a:xfrm>
          </p:grpSpPr>
          <p:sp>
            <p:nvSpPr>
              <p:cNvPr id="6401" name=""/>
              <p:cNvSpPr/>
              <p:nvPr/>
            </p:nvSpPr>
            <p:spPr>
              <a:xfrm>
                <a:off x="2286000" y="312228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2286000" y="319680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"/>
          <p:cNvSpPr/>
          <p:nvPr/>
        </p:nvSpPr>
        <p:spPr>
          <a:xfrm>
            <a:off x="91440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4" name=""/>
          <p:cNvGrpSpPr/>
          <p:nvPr/>
        </p:nvGrpSpPr>
        <p:grpSpPr>
          <a:xfrm>
            <a:off x="1210320" y="762120"/>
            <a:ext cx="6942960" cy="5564880"/>
            <a:chOff x="1210320" y="762120"/>
            <a:chExt cx="6942960" cy="5564880"/>
          </a:xfrm>
        </p:grpSpPr>
        <p:grpSp>
          <p:nvGrpSpPr>
            <p:cNvPr id="6405" name=""/>
            <p:cNvGrpSpPr/>
            <p:nvPr/>
          </p:nvGrpSpPr>
          <p:grpSpPr>
            <a:xfrm>
              <a:off x="1210320" y="5867280"/>
              <a:ext cx="6808680" cy="459720"/>
              <a:chOff x="1210320" y="5867280"/>
              <a:chExt cx="6808680" cy="459720"/>
            </a:xfrm>
          </p:grpSpPr>
          <p:sp>
            <p:nvSpPr>
              <p:cNvPr id="6406" name=""/>
              <p:cNvSpPr/>
              <p:nvPr/>
            </p:nvSpPr>
            <p:spPr>
              <a:xfrm>
                <a:off x="4038120" y="5867280"/>
                <a:ext cx="27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6634440" y="5867280"/>
                <a:ext cx="37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766440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28948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284220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247032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210024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165456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1210320" y="5867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5" name=""/>
            <p:cNvGrpSpPr/>
            <p:nvPr/>
          </p:nvGrpSpPr>
          <p:grpSpPr>
            <a:xfrm>
              <a:off x="1667520" y="2971800"/>
              <a:ext cx="6333480" cy="459720"/>
              <a:chOff x="1667520" y="2971800"/>
              <a:chExt cx="6333480" cy="459720"/>
            </a:xfrm>
          </p:grpSpPr>
          <p:sp>
            <p:nvSpPr>
              <p:cNvPr id="6416" name=""/>
              <p:cNvSpPr/>
              <p:nvPr/>
            </p:nvSpPr>
            <p:spPr>
              <a:xfrm>
                <a:off x="7696080" y="2971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6544080" y="297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325120" y="297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4105800" y="297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2886480" y="297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1667520" y="297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2" name=""/>
            <p:cNvGrpSpPr/>
            <p:nvPr/>
          </p:nvGrpSpPr>
          <p:grpSpPr>
            <a:xfrm>
              <a:off x="1819800" y="1219320"/>
              <a:ext cx="6069600" cy="535680"/>
              <a:chOff x="1819800" y="1219320"/>
              <a:chExt cx="6069600" cy="535680"/>
            </a:xfrm>
          </p:grpSpPr>
          <p:sp>
            <p:nvSpPr>
              <p:cNvPr id="6423" name=""/>
              <p:cNvSpPr/>
              <p:nvPr/>
            </p:nvSpPr>
            <p:spPr>
              <a:xfrm>
                <a:off x="1819800" y="1295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3191400" y="1295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553720" y="1219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7534800" y="1219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7" name=""/>
            <p:cNvSpPr/>
            <p:nvPr/>
          </p:nvSpPr>
          <p:spPr>
            <a:xfrm>
              <a:off x="1292400" y="1928880"/>
              <a:ext cx="876240" cy="7318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1511280" y="1928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1657440" y="17827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1730520" y="141768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606760" y="1928880"/>
              <a:ext cx="874800" cy="7318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752560" y="192888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970360" y="17827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 flipV="1">
              <a:off x="3043080" y="141768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014800" y="1855800"/>
              <a:ext cx="876240" cy="730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160960" y="185580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5380200" y="170964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 flipV="1">
              <a:off x="5452920" y="134460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058160" y="1855800"/>
              <a:ext cx="876240" cy="730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203960" y="185580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423200" y="170964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 flipV="1">
              <a:off x="7496280" y="134460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70044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99240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3773520" y="3610080"/>
              <a:ext cx="7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H="1">
              <a:off x="3919320" y="3902040"/>
              <a:ext cx="14580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136512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1657440" y="34639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1438200" y="3610080"/>
              <a:ext cx="7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flipH="1">
              <a:off x="15843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494172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523404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5014800" y="3610080"/>
              <a:ext cx="7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 flipH="1">
              <a:off x="51609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183360" y="3610080"/>
              <a:ext cx="7286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647388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6256440" y="3610080"/>
              <a:ext cx="7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H="1">
              <a:off x="6402240" y="3902040"/>
              <a:ext cx="14472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350120" y="3610080"/>
              <a:ext cx="73008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64208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423200" y="3610080"/>
              <a:ext cx="7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 flipH="1">
              <a:off x="7569000" y="3902040"/>
              <a:ext cx="14580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2533680" y="3610080"/>
              <a:ext cx="7286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825640" y="3463920"/>
              <a:ext cx="14472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2606760" y="3610080"/>
              <a:ext cx="7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 flipH="1">
              <a:off x="27525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1730520" y="2658960"/>
              <a:ext cx="0" cy="804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 flipV="1">
              <a:off x="4065480" y="3024000"/>
              <a:ext cx="0" cy="4395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5672160" y="2585880"/>
              <a:ext cx="0" cy="658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5672160" y="3244680"/>
              <a:ext cx="874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5307120" y="2585880"/>
              <a:ext cx="0" cy="87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 flipV="1">
              <a:off x="2898720" y="2658960"/>
              <a:ext cx="0" cy="804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189240" y="2658960"/>
              <a:ext cx="0" cy="365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189240" y="3024360"/>
              <a:ext cx="876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6546960" y="3244320"/>
              <a:ext cx="0" cy="219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 flipV="1">
              <a:off x="7715160" y="2585520"/>
              <a:ext cx="0" cy="87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5307120" y="3024360"/>
              <a:ext cx="2189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 flipV="1">
              <a:off x="7496280" y="2585880"/>
              <a:ext cx="0" cy="4384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898720" y="2805120"/>
              <a:ext cx="4378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 flipV="1">
              <a:off x="7277040" y="2585520"/>
              <a:ext cx="0" cy="219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613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151128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18763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679840" y="412272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04488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496280" y="4122720"/>
              <a:ext cx="0" cy="876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676584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54529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421164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5087880" y="412272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314440" y="4487760"/>
              <a:ext cx="2773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846600" y="4122720"/>
              <a:ext cx="0" cy="58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1511280" y="4998960"/>
              <a:ext cx="5985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6400800" y="4122720"/>
              <a:ext cx="0" cy="58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679840" y="4707000"/>
              <a:ext cx="3720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314440" y="4487760"/>
              <a:ext cx="0" cy="9511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679840" y="4707000"/>
              <a:ext cx="0" cy="731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1460520" y="543888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9" name=""/>
            <p:cNvGrpSpPr/>
            <p:nvPr/>
          </p:nvGrpSpPr>
          <p:grpSpPr>
            <a:xfrm>
              <a:off x="1221840" y="5486400"/>
              <a:ext cx="6931080" cy="579600"/>
              <a:chOff x="1221840" y="5486400"/>
              <a:chExt cx="6931080" cy="579600"/>
            </a:xfrm>
          </p:grpSpPr>
          <p:sp>
            <p:nvSpPr>
              <p:cNvPr id="6500" name=""/>
              <p:cNvSpPr/>
              <p:nvPr/>
            </p:nvSpPr>
            <p:spPr>
              <a:xfrm>
                <a:off x="7569360" y="5486400"/>
                <a:ext cx="583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54948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23620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9528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282744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246240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209772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1657080" y="5486400"/>
                <a:ext cx="583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122184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9" name=""/>
            <p:cNvSpPr/>
            <p:nvPr/>
          </p:nvSpPr>
          <p:spPr>
            <a:xfrm>
              <a:off x="1536120" y="8380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831400" y="8380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5270040" y="7621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7251120" y="7621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863800" y="2773440"/>
              <a:ext cx="82440" cy="810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5270400" y="2986200"/>
              <a:ext cx="82800" cy="8244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182880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26692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62584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008160" y="5448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414828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410080" y="5443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672156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7808760" y="5448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1676520" y="13352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008160" y="1335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5410080" y="125892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442280" y="125892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7" name=""/>
          <p:cNvSpPr/>
          <p:nvPr/>
        </p:nvSpPr>
        <p:spPr>
          <a:xfrm>
            <a:off x="762120" y="7761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法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9" name=""/>
              <p:cNvSpPr txBox="1"/>
              <p:nvPr/>
            </p:nvSpPr>
            <p:spPr>
              <a:xfrm>
                <a:off x="1447920" y="1447920"/>
                <a:ext cx="3544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9</m:t>
                                </m:r>
                              </m:sub>
                            </m:sSub>
                          </m:e>
                        </m:ba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9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0" name=""/>
              <p:cNvSpPr txBox="1"/>
              <p:nvPr/>
            </p:nvSpPr>
            <p:spPr>
              <a:xfrm>
                <a:off x="1447920" y="2279520"/>
                <a:ext cx="6325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e>
                        </m:ba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1" name=""/>
              <p:cNvSpPr txBox="1"/>
              <p:nvPr/>
            </p:nvSpPr>
            <p:spPr>
              <a:xfrm>
                <a:off x="1447920" y="3117960"/>
                <a:ext cx="63259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e>
                        </m:ba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2" name=""/>
              <p:cNvSpPr txBox="1"/>
              <p:nvPr/>
            </p:nvSpPr>
            <p:spPr>
              <a:xfrm>
                <a:off x="1447920" y="4049640"/>
                <a:ext cx="43434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e>
                            </m:bar>
                          </m:e>
                        </m:ba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⋅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⋅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⋅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⋅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3" name=""/>
              <p:cNvSpPr txBox="1"/>
              <p:nvPr/>
            </p:nvSpPr>
            <p:spPr>
              <a:xfrm>
                <a:off x="4483080" y="3321000"/>
                <a:ext cx="177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4" name=""/>
          <p:cNvSpPr/>
          <p:nvPr/>
        </p:nvSpPr>
        <p:spPr>
          <a:xfrm>
            <a:off x="2644200" y="5821200"/>
            <a:ext cx="311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4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码编码器的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5" name=""/>
          <p:cNvGrpSpPr/>
          <p:nvPr/>
        </p:nvGrpSpPr>
        <p:grpSpPr>
          <a:xfrm>
            <a:off x="1158840" y="457200"/>
            <a:ext cx="6627960" cy="5445720"/>
            <a:chOff x="1158840" y="457200"/>
            <a:chExt cx="6627960" cy="5445720"/>
          </a:xfrm>
        </p:grpSpPr>
        <p:sp>
          <p:nvSpPr>
            <p:cNvPr id="6536" name=""/>
            <p:cNvSpPr/>
            <p:nvPr/>
          </p:nvSpPr>
          <p:spPr>
            <a:xfrm>
              <a:off x="7148880" y="457200"/>
              <a:ext cx="63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+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6274800" y="123444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7193160" y="137736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6274800" y="21639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208640" y="232380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6274800" y="310572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7180920" y="324396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6274800" y="40521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180920" y="417960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51344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98396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45232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91960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38544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85236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430380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478944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524268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5703840" y="4691520"/>
              <a:ext cx="208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5798520" y="810720"/>
              <a:ext cx="110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K</a:t>
              </a:r>
              <a:r>
                <a:rPr b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×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439280" y="668160"/>
              <a:ext cx="5582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43928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143928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190944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90944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37816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37816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84544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84544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309480" y="1209600"/>
              <a:ext cx="10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309480" y="669600"/>
              <a:ext cx="108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77640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77640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229640" y="1209600"/>
              <a:ext cx="10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229640" y="669600"/>
              <a:ext cx="108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4712400" y="1209600"/>
              <a:ext cx="144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4712400" y="669600"/>
              <a:ext cx="144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5168520" y="1209600"/>
              <a:ext cx="108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5168520" y="669600"/>
              <a:ext cx="108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5" name=""/>
            <p:cNvGrpSpPr/>
            <p:nvPr/>
          </p:nvGrpSpPr>
          <p:grpSpPr>
            <a:xfrm>
              <a:off x="1382040" y="846720"/>
              <a:ext cx="4307400" cy="340920"/>
              <a:chOff x="1382040" y="846720"/>
              <a:chExt cx="4307400" cy="340920"/>
            </a:xfrm>
          </p:grpSpPr>
          <p:sp>
            <p:nvSpPr>
              <p:cNvPr id="6576" name=""/>
              <p:cNvSpPr/>
              <p:nvPr/>
            </p:nvSpPr>
            <p:spPr>
              <a:xfrm>
                <a:off x="1382040" y="846720"/>
                <a:ext cx="1191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1849680" y="846720"/>
                <a:ext cx="1191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2315880" y="846720"/>
                <a:ext cx="1227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2785320" y="846720"/>
                <a:ext cx="12240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247200" y="846720"/>
                <a:ext cx="1191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716640" y="846720"/>
                <a:ext cx="11952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169520" y="846720"/>
                <a:ext cx="12240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653360" y="846720"/>
                <a:ext cx="11952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5106600" y="846720"/>
                <a:ext cx="1191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5570280" y="846720"/>
                <a:ext cx="119160" cy="340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6" name=""/>
            <p:cNvSpPr/>
            <p:nvPr/>
          </p:nvSpPr>
          <p:spPr>
            <a:xfrm>
              <a:off x="5631120" y="120960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5631120" y="669600"/>
              <a:ext cx="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021440" y="632160"/>
              <a:ext cx="77760" cy="777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3" y="6"/>
                  </a:lnTo>
                  <a:lnTo>
                    <a:pt x="26" y="0"/>
                  </a:lnTo>
                  <a:lnTo>
                    <a:pt x="6" y="6"/>
                  </a:lnTo>
                  <a:lnTo>
                    <a:pt x="0" y="26"/>
                  </a:lnTo>
                  <a:lnTo>
                    <a:pt x="6" y="43"/>
                  </a:lnTo>
                  <a:lnTo>
                    <a:pt x="26" y="52"/>
                  </a:lnTo>
                  <a:lnTo>
                    <a:pt x="43" y="43"/>
                  </a:lnTo>
                  <a:lnTo>
                    <a:pt x="52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6105960" y="1267200"/>
              <a:ext cx="48708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6593400" y="1571040"/>
              <a:ext cx="7884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lnTo>
                    <a:pt x="46" y="7"/>
                  </a:lnTo>
                  <a:lnTo>
                    <a:pt x="27" y="0"/>
                  </a:lnTo>
                  <a:lnTo>
                    <a:pt x="9" y="7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27" y="53"/>
                  </a:lnTo>
                  <a:lnTo>
                    <a:pt x="46" y="44"/>
                  </a:lnTo>
                  <a:lnTo>
                    <a:pt x="53" y="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6672600" y="1611720"/>
              <a:ext cx="3520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7024680" y="1571040"/>
              <a:ext cx="75960" cy="7776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27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9" y="7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26" y="53"/>
                  </a:lnTo>
                  <a:lnTo>
                    <a:pt x="44" y="44"/>
                  </a:lnTo>
                  <a:lnTo>
                    <a:pt x="52" y="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6672600" y="2534760"/>
              <a:ext cx="3520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6105960" y="2191680"/>
              <a:ext cx="48708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6593400" y="2495880"/>
              <a:ext cx="7884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6"/>
                  </a:moveTo>
                  <a:lnTo>
                    <a:pt x="46" y="9"/>
                  </a:lnTo>
                  <a:lnTo>
                    <a:pt x="27" y="0"/>
                  </a:lnTo>
                  <a:lnTo>
                    <a:pt x="9" y="9"/>
                  </a:lnTo>
                  <a:lnTo>
                    <a:pt x="0" y="26"/>
                  </a:lnTo>
                  <a:lnTo>
                    <a:pt x="9" y="46"/>
                  </a:lnTo>
                  <a:lnTo>
                    <a:pt x="27" y="53"/>
                  </a:lnTo>
                  <a:lnTo>
                    <a:pt x="46" y="46"/>
                  </a:lnTo>
                  <a:lnTo>
                    <a:pt x="53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7024680" y="2495880"/>
              <a:ext cx="75960" cy="7776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26"/>
                  </a:moveTo>
                  <a:lnTo>
                    <a:pt x="44" y="9"/>
                  </a:lnTo>
                  <a:lnTo>
                    <a:pt x="26" y="0"/>
                  </a:lnTo>
                  <a:lnTo>
                    <a:pt x="9" y="9"/>
                  </a:lnTo>
                  <a:lnTo>
                    <a:pt x="0" y="26"/>
                  </a:lnTo>
                  <a:lnTo>
                    <a:pt x="9" y="46"/>
                  </a:lnTo>
                  <a:lnTo>
                    <a:pt x="26" y="53"/>
                  </a:lnTo>
                  <a:lnTo>
                    <a:pt x="44" y="46"/>
                  </a:lnTo>
                  <a:lnTo>
                    <a:pt x="52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6672600" y="3475080"/>
              <a:ext cx="3520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6105960" y="3133800"/>
              <a:ext cx="487080" cy="68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6593400" y="3437640"/>
              <a:ext cx="78840" cy="7596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26"/>
                  </a:moveTo>
                  <a:lnTo>
                    <a:pt x="46" y="8"/>
                  </a:lnTo>
                  <a:lnTo>
                    <a:pt x="27" y="0"/>
                  </a:lnTo>
                  <a:lnTo>
                    <a:pt x="9" y="8"/>
                  </a:lnTo>
                  <a:lnTo>
                    <a:pt x="0" y="26"/>
                  </a:lnTo>
                  <a:lnTo>
                    <a:pt x="9" y="46"/>
                  </a:lnTo>
                  <a:lnTo>
                    <a:pt x="27" y="52"/>
                  </a:lnTo>
                  <a:lnTo>
                    <a:pt x="46" y="46"/>
                  </a:lnTo>
                  <a:lnTo>
                    <a:pt x="53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7024680" y="3437640"/>
              <a:ext cx="75960" cy="759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9" y="8"/>
                  </a:lnTo>
                  <a:lnTo>
                    <a:pt x="0" y="26"/>
                  </a:lnTo>
                  <a:lnTo>
                    <a:pt x="9" y="46"/>
                  </a:lnTo>
                  <a:lnTo>
                    <a:pt x="26" y="52"/>
                  </a:lnTo>
                  <a:lnTo>
                    <a:pt x="44" y="46"/>
                  </a:lnTo>
                  <a:lnTo>
                    <a:pt x="52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6672600" y="4426200"/>
              <a:ext cx="3520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6105960" y="4083480"/>
              <a:ext cx="487080" cy="68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6593400" y="4387680"/>
              <a:ext cx="78840" cy="774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26"/>
                  </a:moveTo>
                  <a:lnTo>
                    <a:pt x="46" y="6"/>
                  </a:lnTo>
                  <a:lnTo>
                    <a:pt x="27" y="0"/>
                  </a:lnTo>
                  <a:lnTo>
                    <a:pt x="9" y="6"/>
                  </a:lnTo>
                  <a:lnTo>
                    <a:pt x="0" y="26"/>
                  </a:lnTo>
                  <a:lnTo>
                    <a:pt x="9" y="44"/>
                  </a:lnTo>
                  <a:lnTo>
                    <a:pt x="27" y="52"/>
                  </a:lnTo>
                  <a:lnTo>
                    <a:pt x="46" y="44"/>
                  </a:lnTo>
                  <a:lnTo>
                    <a:pt x="53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7024680" y="4387680"/>
              <a:ext cx="75960" cy="77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6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6"/>
                  </a:lnTo>
                  <a:lnTo>
                    <a:pt x="9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143928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190944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37816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84544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309480" y="1741680"/>
              <a:ext cx="108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77640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4229640" y="1741680"/>
              <a:ext cx="108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4712400" y="1741680"/>
              <a:ext cx="144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5168520" y="1741680"/>
              <a:ext cx="108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5631120" y="1741680"/>
              <a:ext cx="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 flipH="1">
              <a:off x="1909440" y="4629600"/>
              <a:ext cx="419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H="1">
              <a:off x="2845080" y="4513320"/>
              <a:ext cx="3260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 flipH="1">
              <a:off x="3776400" y="4396680"/>
              <a:ext cx="2329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4712040" y="4280400"/>
              <a:ext cx="1393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 flipH="1">
              <a:off x="5631120" y="4140720"/>
              <a:ext cx="474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378160" y="3701880"/>
              <a:ext cx="3727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 flipH="1">
              <a:off x="2845080" y="3540240"/>
              <a:ext cx="3260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H="1">
              <a:off x="4229280" y="3378960"/>
              <a:ext cx="1875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 flipH="1">
              <a:off x="4712040" y="3239280"/>
              <a:ext cx="1393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H="1">
              <a:off x="3309120" y="2778480"/>
              <a:ext cx="2796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 flipH="1">
              <a:off x="3776400" y="2579760"/>
              <a:ext cx="2329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4229280" y="2418480"/>
              <a:ext cx="1875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 flipH="1">
              <a:off x="4712040" y="2266560"/>
              <a:ext cx="1393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5168160" y="1782360"/>
              <a:ext cx="937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 flipH="1">
              <a:off x="5631120" y="1386360"/>
              <a:ext cx="47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0" name=""/>
            <p:cNvGrpSpPr/>
            <p:nvPr/>
          </p:nvGrpSpPr>
          <p:grpSpPr>
            <a:xfrm>
              <a:off x="1158840" y="4950360"/>
              <a:ext cx="4937400" cy="952560"/>
              <a:chOff x="1158840" y="4950360"/>
              <a:chExt cx="4937400" cy="952560"/>
            </a:xfrm>
          </p:grpSpPr>
          <p:sp>
            <p:nvSpPr>
              <p:cNvPr id="6631" name=""/>
              <p:cNvSpPr/>
              <p:nvPr/>
            </p:nvSpPr>
            <p:spPr>
              <a:xfrm>
                <a:off x="115884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141264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186804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162756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235044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209628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281556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256464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328392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302868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4688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49560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420300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94704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468396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443304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14008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488592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602680" y="5536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5350320" y="516456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1409760" y="51987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40" y="19"/>
                    </a:moveTo>
                    <a:lnTo>
                      <a:pt x="35" y="6"/>
                    </a:lnTo>
                    <a:lnTo>
                      <a:pt x="20" y="0"/>
                    </a:lnTo>
                    <a:lnTo>
                      <a:pt x="7" y="6"/>
                    </a:lnTo>
                    <a:lnTo>
                      <a:pt x="0" y="19"/>
                    </a:lnTo>
                    <a:lnTo>
                      <a:pt x="7" y="35"/>
                    </a:lnTo>
                    <a:lnTo>
                      <a:pt x="20" y="39"/>
                    </a:lnTo>
                    <a:lnTo>
                      <a:pt x="35" y="35"/>
                    </a:lnTo>
                    <a:lnTo>
                      <a:pt x="40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 flipV="1">
                <a:off x="1352160" y="4959720"/>
                <a:ext cx="109800" cy="24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1439280" y="5563080"/>
                <a:ext cx="46569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 flipV="1">
                <a:off x="1822680" y="4959720"/>
                <a:ext cx="108720" cy="24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1880280" y="519876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5" y="6"/>
                    </a:lnTo>
                    <a:lnTo>
                      <a:pt x="20" y="0"/>
                    </a:lnTo>
                    <a:lnTo>
                      <a:pt x="7" y="6"/>
                    </a:lnTo>
                    <a:lnTo>
                      <a:pt x="0" y="19"/>
                    </a:lnTo>
                    <a:lnTo>
                      <a:pt x="7" y="35"/>
                    </a:lnTo>
                    <a:lnTo>
                      <a:pt x="20" y="39"/>
                    </a:lnTo>
                    <a:lnTo>
                      <a:pt x="35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 flipV="1">
                <a:off x="3222000" y="4959720"/>
                <a:ext cx="105480" cy="24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3279960" y="5198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4" y="6"/>
                    </a:lnTo>
                    <a:lnTo>
                      <a:pt x="0" y="19"/>
                    </a:lnTo>
                    <a:lnTo>
                      <a:pt x="4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8" name=""/>
              <p:cNvGrpSpPr/>
              <p:nvPr/>
            </p:nvGrpSpPr>
            <p:grpSpPr>
              <a:xfrm>
                <a:off x="3689280" y="4959720"/>
                <a:ext cx="122400" cy="302040"/>
                <a:chOff x="3689280" y="4959720"/>
                <a:chExt cx="122400" cy="302040"/>
              </a:xfrm>
            </p:grpSpPr>
            <p:sp>
              <p:nvSpPr>
                <p:cNvPr id="6659" name=""/>
                <p:cNvSpPr/>
                <p:nvPr/>
              </p:nvSpPr>
              <p:spPr>
                <a:xfrm flipH="1" flipV="1">
                  <a:off x="3689280" y="4959720"/>
                  <a:ext cx="10800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3745440" y="5198760"/>
                  <a:ext cx="66240" cy="63000"/>
                </a:xfrm>
                <a:custGeom>
                  <a:avLst/>
                  <a:gdLst/>
                  <a:ahLst/>
                  <a:rect l="l" t="t" r="r" b="b"/>
                  <a:pathLst>
                    <a:path w="41" h="39">
                      <a:moveTo>
                        <a:pt x="41" y="19"/>
                      </a:moveTo>
                      <a:lnTo>
                        <a:pt x="35" y="6"/>
                      </a:lnTo>
                      <a:lnTo>
                        <a:pt x="21" y="0"/>
                      </a:lnTo>
                      <a:lnTo>
                        <a:pt x="6" y="6"/>
                      </a:lnTo>
                      <a:lnTo>
                        <a:pt x="0" y="19"/>
                      </a:lnTo>
                      <a:lnTo>
                        <a:pt x="6" y="35"/>
                      </a:lnTo>
                      <a:lnTo>
                        <a:pt x="21" y="39"/>
                      </a:lnTo>
                      <a:lnTo>
                        <a:pt x="35" y="35"/>
                      </a:lnTo>
                      <a:lnTo>
                        <a:pt x="41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1" name=""/>
              <p:cNvGrpSpPr/>
              <p:nvPr/>
            </p:nvGrpSpPr>
            <p:grpSpPr>
              <a:xfrm>
                <a:off x="4142520" y="4959720"/>
                <a:ext cx="122040" cy="302040"/>
                <a:chOff x="4142520" y="4959720"/>
                <a:chExt cx="122040" cy="302040"/>
              </a:xfrm>
            </p:grpSpPr>
            <p:sp>
              <p:nvSpPr>
                <p:cNvPr id="6662" name=""/>
                <p:cNvSpPr/>
                <p:nvPr/>
              </p:nvSpPr>
              <p:spPr>
                <a:xfrm flipH="1" flipV="1">
                  <a:off x="4142520" y="4959720"/>
                  <a:ext cx="11016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4201200" y="5198760"/>
                  <a:ext cx="63360" cy="630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5" y="6"/>
                      </a:lnTo>
                      <a:lnTo>
                        <a:pt x="19" y="0"/>
                      </a:lnTo>
                      <a:lnTo>
                        <a:pt x="6" y="6"/>
                      </a:lnTo>
                      <a:lnTo>
                        <a:pt x="0" y="19"/>
                      </a:lnTo>
                      <a:lnTo>
                        <a:pt x="6" y="35"/>
                      </a:lnTo>
                      <a:lnTo>
                        <a:pt x="19" y="39"/>
                      </a:lnTo>
                      <a:lnTo>
                        <a:pt x="35" y="35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4" name=""/>
              <p:cNvGrpSpPr/>
              <p:nvPr/>
            </p:nvGrpSpPr>
            <p:grpSpPr>
              <a:xfrm>
                <a:off x="4625280" y="4959720"/>
                <a:ext cx="123840" cy="302040"/>
                <a:chOff x="4625280" y="4959720"/>
                <a:chExt cx="123840" cy="302040"/>
              </a:xfrm>
            </p:grpSpPr>
            <p:sp>
              <p:nvSpPr>
                <p:cNvPr id="6665" name=""/>
                <p:cNvSpPr/>
                <p:nvPr/>
              </p:nvSpPr>
              <p:spPr>
                <a:xfrm flipH="1" flipV="1">
                  <a:off x="4625280" y="4959720"/>
                  <a:ext cx="10944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4682880" y="5198760"/>
                  <a:ext cx="66240" cy="63000"/>
                </a:xfrm>
                <a:custGeom>
                  <a:avLst/>
                  <a:gdLst/>
                  <a:ahLst/>
                  <a:rect l="l" t="t" r="r" b="b"/>
                  <a:pathLst>
                    <a:path w="40" h="39">
                      <a:moveTo>
                        <a:pt x="40" y="19"/>
                      </a:moveTo>
                      <a:lnTo>
                        <a:pt x="35" y="6"/>
                      </a:lnTo>
                      <a:lnTo>
                        <a:pt x="20" y="0"/>
                      </a:lnTo>
                      <a:lnTo>
                        <a:pt x="7" y="6"/>
                      </a:lnTo>
                      <a:lnTo>
                        <a:pt x="0" y="19"/>
                      </a:lnTo>
                      <a:lnTo>
                        <a:pt x="7" y="35"/>
                      </a:lnTo>
                      <a:lnTo>
                        <a:pt x="20" y="39"/>
                      </a:lnTo>
                      <a:lnTo>
                        <a:pt x="35" y="35"/>
                      </a:lnTo>
                      <a:lnTo>
                        <a:pt x="40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7" name=""/>
              <p:cNvGrpSpPr/>
              <p:nvPr/>
            </p:nvGrpSpPr>
            <p:grpSpPr>
              <a:xfrm>
                <a:off x="5081040" y="4959720"/>
                <a:ext cx="124200" cy="302040"/>
                <a:chOff x="5081040" y="4959720"/>
                <a:chExt cx="124200" cy="302040"/>
              </a:xfrm>
            </p:grpSpPr>
            <p:sp>
              <p:nvSpPr>
                <p:cNvPr id="6668" name=""/>
                <p:cNvSpPr/>
                <p:nvPr/>
              </p:nvSpPr>
              <p:spPr>
                <a:xfrm flipH="1" flipV="1">
                  <a:off x="5081040" y="4959720"/>
                  <a:ext cx="10620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138640" y="5198760"/>
                  <a:ext cx="66600" cy="63000"/>
                </a:xfrm>
                <a:custGeom>
                  <a:avLst/>
                  <a:gdLst/>
                  <a:ahLst/>
                  <a:rect l="l" t="t" r="r" b="b"/>
                  <a:pathLst>
                    <a:path w="40" h="39">
                      <a:moveTo>
                        <a:pt x="40" y="19"/>
                      </a:moveTo>
                      <a:lnTo>
                        <a:pt x="33" y="6"/>
                      </a:lnTo>
                      <a:lnTo>
                        <a:pt x="20" y="0"/>
                      </a:lnTo>
                      <a:lnTo>
                        <a:pt x="5" y="6"/>
                      </a:lnTo>
                      <a:lnTo>
                        <a:pt x="0" y="19"/>
                      </a:lnTo>
                      <a:lnTo>
                        <a:pt x="5" y="35"/>
                      </a:lnTo>
                      <a:lnTo>
                        <a:pt x="20" y="39"/>
                      </a:lnTo>
                      <a:lnTo>
                        <a:pt x="33" y="35"/>
                      </a:lnTo>
                      <a:lnTo>
                        <a:pt x="40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0" name=""/>
              <p:cNvGrpSpPr/>
              <p:nvPr/>
            </p:nvGrpSpPr>
            <p:grpSpPr>
              <a:xfrm>
                <a:off x="5542560" y="4959360"/>
                <a:ext cx="129600" cy="310320"/>
                <a:chOff x="5542560" y="4959360"/>
                <a:chExt cx="129600" cy="310320"/>
              </a:xfrm>
            </p:grpSpPr>
            <p:sp>
              <p:nvSpPr>
                <p:cNvPr id="6671" name=""/>
                <p:cNvSpPr/>
                <p:nvPr/>
              </p:nvSpPr>
              <p:spPr>
                <a:xfrm flipH="1" flipV="1">
                  <a:off x="5542560" y="4959360"/>
                  <a:ext cx="105840" cy="24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01240" y="5199120"/>
                  <a:ext cx="70920" cy="7056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2" y="6"/>
                      </a:lnTo>
                      <a:lnTo>
                        <a:pt x="19" y="0"/>
                      </a:lnTo>
                      <a:lnTo>
                        <a:pt x="4" y="6"/>
                      </a:lnTo>
                      <a:lnTo>
                        <a:pt x="0" y="19"/>
                      </a:lnTo>
                      <a:lnTo>
                        <a:pt x="4" y="35"/>
                      </a:lnTo>
                      <a:lnTo>
                        <a:pt x="19" y="39"/>
                      </a:lnTo>
                      <a:lnTo>
                        <a:pt x="32" y="35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6085440" y="5429880"/>
                <a:ext cx="0" cy="28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 flipV="1">
                <a:off x="2289600" y="4959720"/>
                <a:ext cx="109800" cy="24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2348640" y="5198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 flipV="1">
                <a:off x="2756880" y="4950360"/>
                <a:ext cx="111600" cy="24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2836080" y="5201640"/>
                <a:ext cx="69480" cy="712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8" name=""/>
              <p:cNvGrpSpPr/>
              <p:nvPr/>
            </p:nvGrpSpPr>
            <p:grpSpPr>
              <a:xfrm>
                <a:off x="1439280" y="5257800"/>
                <a:ext cx="1445400" cy="321840"/>
                <a:chOff x="1439280" y="5257800"/>
                <a:chExt cx="1445400" cy="321840"/>
              </a:xfrm>
            </p:grpSpPr>
            <p:grpSp>
              <p:nvGrpSpPr>
                <p:cNvPr id="6679" name=""/>
                <p:cNvGrpSpPr/>
                <p:nvPr/>
              </p:nvGrpSpPr>
              <p:grpSpPr>
                <a:xfrm>
                  <a:off x="1439280" y="5257800"/>
                  <a:ext cx="482040" cy="318960"/>
                  <a:chOff x="1439280" y="5257800"/>
                  <a:chExt cx="482040" cy="318960"/>
                </a:xfrm>
              </p:grpSpPr>
              <p:sp>
                <p:nvSpPr>
                  <p:cNvPr id="6680" name=""/>
                  <p:cNvSpPr/>
                  <p:nvPr/>
                </p:nvSpPr>
                <p:spPr>
                  <a:xfrm>
                    <a:off x="1439280" y="5263560"/>
                    <a:ext cx="1440" cy="31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1" name=""/>
                  <p:cNvSpPr/>
                  <p:nvPr/>
                </p:nvSpPr>
                <p:spPr>
                  <a:xfrm>
                    <a:off x="1919880" y="5257800"/>
                    <a:ext cx="1440" cy="31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82" name=""/>
                <p:cNvGrpSpPr/>
                <p:nvPr/>
              </p:nvGrpSpPr>
              <p:grpSpPr>
                <a:xfrm>
                  <a:off x="2403000" y="5260680"/>
                  <a:ext cx="481680" cy="318960"/>
                  <a:chOff x="2403000" y="5260680"/>
                  <a:chExt cx="481680" cy="318960"/>
                </a:xfrm>
              </p:grpSpPr>
              <p:sp>
                <p:nvSpPr>
                  <p:cNvPr id="6683" name=""/>
                  <p:cNvSpPr/>
                  <p:nvPr/>
                </p:nvSpPr>
                <p:spPr>
                  <a:xfrm>
                    <a:off x="2403000" y="5266440"/>
                    <a:ext cx="1440" cy="31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4" name=""/>
                  <p:cNvSpPr/>
                  <p:nvPr/>
                </p:nvSpPr>
                <p:spPr>
                  <a:xfrm>
                    <a:off x="2883240" y="5260680"/>
                    <a:ext cx="1440" cy="31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5" name=""/>
              <p:cNvSpPr/>
              <p:nvPr/>
            </p:nvSpPr>
            <p:spPr>
              <a:xfrm>
                <a:off x="3303000" y="5231160"/>
                <a:ext cx="144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785760" y="5261040"/>
                <a:ext cx="108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7" name=""/>
              <p:cNvGrpSpPr/>
              <p:nvPr/>
            </p:nvGrpSpPr>
            <p:grpSpPr>
              <a:xfrm>
                <a:off x="4232880" y="5228280"/>
                <a:ext cx="482040" cy="318960"/>
                <a:chOff x="4232880" y="5228280"/>
                <a:chExt cx="482040" cy="318960"/>
              </a:xfrm>
            </p:grpSpPr>
            <p:sp>
              <p:nvSpPr>
                <p:cNvPr id="6688" name=""/>
                <p:cNvSpPr/>
                <p:nvPr/>
              </p:nvSpPr>
              <p:spPr>
                <a:xfrm>
                  <a:off x="4232880" y="5234040"/>
                  <a:ext cx="1440" cy="31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>
                  <a:off x="4713480" y="5228280"/>
                  <a:ext cx="1440" cy="31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0" name=""/>
              <p:cNvGrpSpPr/>
              <p:nvPr/>
            </p:nvGrpSpPr>
            <p:grpSpPr>
              <a:xfrm>
                <a:off x="5165280" y="5257800"/>
                <a:ext cx="482040" cy="318960"/>
                <a:chOff x="5165280" y="5257800"/>
                <a:chExt cx="482040" cy="318960"/>
              </a:xfrm>
            </p:grpSpPr>
            <p:sp>
              <p:nvSpPr>
                <p:cNvPr id="6691" name=""/>
                <p:cNvSpPr/>
                <p:nvPr/>
              </p:nvSpPr>
              <p:spPr>
                <a:xfrm>
                  <a:off x="5165280" y="5263560"/>
                  <a:ext cx="1440" cy="31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2" name=""/>
                <p:cNvSpPr/>
                <p:nvPr/>
              </p:nvSpPr>
              <p:spPr>
                <a:xfrm>
                  <a:off x="5645880" y="5257800"/>
                  <a:ext cx="1440" cy="31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352520" y="1143000"/>
            <a:ext cx="2922480" cy="2364840"/>
            <a:chOff x="1352520" y="1143000"/>
            <a:chExt cx="2922480" cy="2364840"/>
          </a:xfrm>
        </p:grpSpPr>
        <p:sp>
          <p:nvSpPr>
            <p:cNvPr id="450" name=""/>
            <p:cNvSpPr/>
            <p:nvPr/>
          </p:nvSpPr>
          <p:spPr>
            <a:xfrm>
              <a:off x="2667960" y="1751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4040" y="230436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2520" y="244044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95440" y="1523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178740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01880" y="2306520"/>
              <a:ext cx="573120" cy="57492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02120" y="17715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66880" y="1143000"/>
              <a:ext cx="5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92440" y="17715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33526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39800" y="1771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76520" y="3048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66960" y="1806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02120" y="2878200"/>
              <a:ext cx="0" cy="52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9544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8120" y="1523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2900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03360" y="20574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56040" y="2057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09800" y="3389400"/>
              <a:ext cx="213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666880" y="1523880"/>
              <a:ext cx="381240" cy="228240"/>
              <a:chOff x="2666880" y="1523880"/>
              <a:chExt cx="381240" cy="228240"/>
            </a:xfrm>
          </p:grpSpPr>
          <p:sp>
            <p:nvSpPr>
              <p:cNvPr id="471" name=""/>
              <p:cNvSpPr/>
              <p:nvPr/>
            </p:nvSpPr>
            <p:spPr>
              <a:xfrm flipV="1">
                <a:off x="2666880" y="1591920"/>
                <a:ext cx="284400" cy="16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71800" y="15238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2701800" y="2125440"/>
              <a:ext cx="28440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1800" y="20574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4648320"/>
            <a:ext cx="7543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或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关系是指当决定某事件的条件之一具备时，该事件就发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58840" y="3886200"/>
            <a:ext cx="32893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表达式：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Y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=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+ </a:t>
            </a:r>
            <a:r>
              <a:rPr b="1" i="1" lang="zh-CN" sz="3200" spc="-1" strike="noStrike">
                <a:solidFill>
                  <a:srgbClr val="000099"/>
                </a:solidFill>
                <a:latin typeface="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32440" y="8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真值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57800" y="2027160"/>
            <a:ext cx="1523880" cy="520560"/>
            <a:chOff x="5257800" y="2027160"/>
            <a:chExt cx="1523880" cy="520560"/>
          </a:xfrm>
        </p:grpSpPr>
        <p:sp>
          <p:nvSpPr>
            <p:cNvPr id="480" name=""/>
            <p:cNvSpPr/>
            <p:nvPr/>
          </p:nvSpPr>
          <p:spPr>
            <a:xfrm>
              <a:off x="525780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2448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257800" y="2484360"/>
            <a:ext cx="1447920" cy="520560"/>
            <a:chOff x="5257800" y="2484360"/>
            <a:chExt cx="1447920" cy="520560"/>
          </a:xfrm>
        </p:grpSpPr>
        <p:sp>
          <p:nvSpPr>
            <p:cNvPr id="483" name=""/>
            <p:cNvSpPr/>
            <p:nvPr/>
          </p:nvSpPr>
          <p:spPr>
            <a:xfrm>
              <a:off x="5257800" y="2484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24480" y="24843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238880" y="2484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247000" y="3446640"/>
            <a:ext cx="1450440" cy="520560"/>
            <a:chOff x="5247000" y="3446640"/>
            <a:chExt cx="1450440" cy="520560"/>
          </a:xfrm>
        </p:grpSpPr>
        <p:sp>
          <p:nvSpPr>
            <p:cNvPr id="487" name=""/>
            <p:cNvSpPr/>
            <p:nvPr/>
          </p:nvSpPr>
          <p:spPr>
            <a:xfrm>
              <a:off x="524700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1404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228440" y="3476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247000" y="2989440"/>
            <a:ext cx="1450440" cy="520560"/>
            <a:chOff x="5247000" y="2989440"/>
            <a:chExt cx="1450440" cy="520560"/>
          </a:xfrm>
        </p:grpSpPr>
        <p:sp>
          <p:nvSpPr>
            <p:cNvPr id="491" name=""/>
            <p:cNvSpPr/>
            <p:nvPr/>
          </p:nvSpPr>
          <p:spPr>
            <a:xfrm>
              <a:off x="63140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4700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228440" y="2989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28440" y="198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952880" y="1371600"/>
            <a:ext cx="3048120" cy="2637000"/>
            <a:chOff x="4952880" y="1371600"/>
            <a:chExt cx="3048120" cy="2637000"/>
          </a:xfrm>
        </p:grpSpPr>
        <p:sp>
          <p:nvSpPr>
            <p:cNvPr id="496" name=""/>
            <p:cNvSpPr/>
            <p:nvPr/>
          </p:nvSpPr>
          <p:spPr>
            <a:xfrm>
              <a:off x="518148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13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2880" y="14176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52880" y="195264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9200" y="400860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4" name=""/>
          <p:cNvGraphicFramePr/>
          <p:nvPr/>
        </p:nvGraphicFramePr>
        <p:xfrm>
          <a:off x="3809880" y="762120"/>
          <a:ext cx="4572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7621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2650680" y="1365120"/>
            <a:ext cx="1643400" cy="1541520"/>
            <a:chOff x="2650680" y="1365120"/>
            <a:chExt cx="1643400" cy="1541520"/>
          </a:xfrm>
        </p:grpSpPr>
        <p:sp>
          <p:nvSpPr>
            <p:cNvPr id="507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2650680" y="136512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97180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666520" y="1898640"/>
            <a:ext cx="1627560" cy="1008000"/>
            <a:chOff x="2666520" y="1898640"/>
            <a:chExt cx="1627560" cy="1008000"/>
          </a:xfrm>
        </p:grpSpPr>
        <p:sp>
          <p:nvSpPr>
            <p:cNvPr id="511" name=""/>
            <p:cNvSpPr/>
            <p:nvPr/>
          </p:nvSpPr>
          <p:spPr>
            <a:xfrm flipH="1" flipV="1">
              <a:off x="2666520" y="189864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66520" y="1905120"/>
            <a:ext cx="1627560" cy="1008000"/>
            <a:chOff x="2666520" y="1905120"/>
            <a:chExt cx="1627560" cy="1008000"/>
          </a:xfrm>
        </p:grpSpPr>
        <p:sp>
          <p:nvSpPr>
            <p:cNvPr id="514" name=""/>
            <p:cNvSpPr/>
            <p:nvPr/>
          </p:nvSpPr>
          <p:spPr>
            <a:xfrm flipH="1" flipV="1">
              <a:off x="2666520" y="190512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57600" y="229248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639520" y="1434960"/>
            <a:ext cx="1654560" cy="1471680"/>
            <a:chOff x="2639520" y="1434960"/>
            <a:chExt cx="1654560" cy="1471680"/>
          </a:xfrm>
        </p:grpSpPr>
        <p:sp>
          <p:nvSpPr>
            <p:cNvPr id="517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2712600" y="143496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2639520" y="189396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"/>
          <p:cNvSpPr/>
          <p:nvPr/>
        </p:nvSpPr>
        <p:spPr>
          <a:xfrm>
            <a:off x="609480" y="1473120"/>
            <a:ext cx="8153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当有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两个或两个以上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的信号同时输入编码电路，电路只能对其中一个优先级别高的信号进行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685800" y="25146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即允许几个信号同时有效，但电路只对其中优先级别高的信号进行编码，而对其它优先级别低的信号不予理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1600200" y="3048120"/>
            <a:ext cx="64008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838080" y="3581280"/>
            <a:ext cx="70106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838080" y="5335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1.9.3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优先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8" name=""/>
          <p:cNvGrpSpPr/>
          <p:nvPr/>
        </p:nvGrpSpPr>
        <p:grpSpPr>
          <a:xfrm>
            <a:off x="838080" y="1200240"/>
            <a:ext cx="3809880" cy="171000"/>
            <a:chOff x="838080" y="1200240"/>
            <a:chExt cx="3809880" cy="171000"/>
          </a:xfrm>
        </p:grpSpPr>
        <p:pic>
          <p:nvPicPr>
            <p:cNvPr id="6699" name="" descr=""/>
            <p:cNvPicPr/>
            <p:nvPr/>
          </p:nvPicPr>
          <p:blipFill>
            <a:blip r:embed="rId1"/>
            <a:stretch/>
          </p:blipFill>
          <p:spPr>
            <a:xfrm>
              <a:off x="17431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0" name="" descr=""/>
            <p:cNvPicPr/>
            <p:nvPr/>
          </p:nvPicPr>
          <p:blipFill>
            <a:blip r:embed="rId2"/>
            <a:stretch/>
          </p:blipFill>
          <p:spPr>
            <a:xfrm>
              <a:off x="1885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1" name="" descr=""/>
            <p:cNvPicPr/>
            <p:nvPr/>
          </p:nvPicPr>
          <p:blipFill>
            <a:blip r:embed="rId3"/>
            <a:stretch/>
          </p:blipFill>
          <p:spPr>
            <a:xfrm>
              <a:off x="2047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2" name="" descr=""/>
            <p:cNvPicPr/>
            <p:nvPr/>
          </p:nvPicPr>
          <p:blipFill>
            <a:blip r:embed="rId4"/>
            <a:stretch/>
          </p:blipFill>
          <p:spPr>
            <a:xfrm>
              <a:off x="23428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3" name="" descr=""/>
            <p:cNvPicPr/>
            <p:nvPr/>
          </p:nvPicPr>
          <p:blipFill>
            <a:blip r:embed="rId5"/>
            <a:stretch/>
          </p:blipFill>
          <p:spPr>
            <a:xfrm>
              <a:off x="25048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4" name="" descr=""/>
            <p:cNvPicPr/>
            <p:nvPr/>
          </p:nvPicPr>
          <p:blipFill>
            <a:blip r:embed="rId6"/>
            <a:stretch/>
          </p:blipFill>
          <p:spPr>
            <a:xfrm>
              <a:off x="26575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5" name="" descr=""/>
            <p:cNvPicPr/>
            <p:nvPr/>
          </p:nvPicPr>
          <p:blipFill>
            <a:blip r:embed="rId7"/>
            <a:stretch/>
          </p:blipFill>
          <p:spPr>
            <a:xfrm>
              <a:off x="28000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6" name="" descr=""/>
            <p:cNvPicPr/>
            <p:nvPr/>
          </p:nvPicPr>
          <p:blipFill>
            <a:blip r:embed="rId8"/>
            <a:stretch/>
          </p:blipFill>
          <p:spPr>
            <a:xfrm>
              <a:off x="29620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7" name="" descr=""/>
            <p:cNvPicPr/>
            <p:nvPr/>
          </p:nvPicPr>
          <p:blipFill>
            <a:blip r:embed="rId9"/>
            <a:stretch/>
          </p:blipFill>
          <p:spPr>
            <a:xfrm>
              <a:off x="32572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8" name="" descr=""/>
            <p:cNvPicPr/>
            <p:nvPr/>
          </p:nvPicPr>
          <p:blipFill>
            <a:blip r:embed="rId10"/>
            <a:stretch/>
          </p:blipFill>
          <p:spPr>
            <a:xfrm>
              <a:off x="34192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9" name="" descr=""/>
            <p:cNvPicPr/>
            <p:nvPr/>
          </p:nvPicPr>
          <p:blipFill>
            <a:blip r:embed="rId11"/>
            <a:stretch/>
          </p:blipFill>
          <p:spPr>
            <a:xfrm>
              <a:off x="35719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0" name="" descr=""/>
            <p:cNvPicPr/>
            <p:nvPr/>
          </p:nvPicPr>
          <p:blipFill>
            <a:blip r:embed="rId12"/>
            <a:stretch/>
          </p:blipFill>
          <p:spPr>
            <a:xfrm>
              <a:off x="37144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1" name="" descr=""/>
            <p:cNvPicPr/>
            <p:nvPr/>
          </p:nvPicPr>
          <p:blipFill>
            <a:blip r:embed="rId13"/>
            <a:stretch/>
          </p:blipFill>
          <p:spPr>
            <a:xfrm>
              <a:off x="22003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2" name="" descr=""/>
            <p:cNvPicPr/>
            <p:nvPr/>
          </p:nvPicPr>
          <p:blipFill>
            <a:blip r:embed="rId14"/>
            <a:stretch/>
          </p:blipFill>
          <p:spPr>
            <a:xfrm>
              <a:off x="31147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3" name="" descr=""/>
            <p:cNvPicPr/>
            <p:nvPr/>
          </p:nvPicPr>
          <p:blipFill>
            <a:blip r:embed="rId15"/>
            <a:stretch/>
          </p:blipFill>
          <p:spPr>
            <a:xfrm>
              <a:off x="38764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4" name="" descr=""/>
            <p:cNvPicPr/>
            <p:nvPr/>
          </p:nvPicPr>
          <p:blipFill>
            <a:blip r:embed="rId16"/>
            <a:stretch/>
          </p:blipFill>
          <p:spPr>
            <a:xfrm>
              <a:off x="40291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5" name="" descr=""/>
            <p:cNvPicPr/>
            <p:nvPr/>
          </p:nvPicPr>
          <p:blipFill>
            <a:blip r:embed="rId17"/>
            <a:stretch/>
          </p:blipFill>
          <p:spPr>
            <a:xfrm>
              <a:off x="4171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6" name="" descr=""/>
            <p:cNvPicPr/>
            <p:nvPr/>
          </p:nvPicPr>
          <p:blipFill>
            <a:blip r:embed="rId18"/>
            <a:stretch/>
          </p:blipFill>
          <p:spPr>
            <a:xfrm>
              <a:off x="4333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7" name="" descr=""/>
            <p:cNvPicPr/>
            <p:nvPr/>
          </p:nvPicPr>
          <p:blipFill>
            <a:blip r:embed="rId19"/>
            <a:stretch/>
          </p:blipFill>
          <p:spPr>
            <a:xfrm>
              <a:off x="44863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18" name=""/>
            <p:cNvGrpSpPr/>
            <p:nvPr/>
          </p:nvGrpSpPr>
          <p:grpSpPr>
            <a:xfrm>
              <a:off x="838080" y="1200240"/>
              <a:ext cx="923760" cy="161640"/>
              <a:chOff x="838080" y="1200240"/>
              <a:chExt cx="923760" cy="161640"/>
            </a:xfrm>
          </p:grpSpPr>
          <p:pic>
            <p:nvPicPr>
              <p:cNvPr id="671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98100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0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14300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1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528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2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43820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0020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83808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25" name=""/>
          <p:cNvSpPr/>
          <p:nvPr/>
        </p:nvSpPr>
        <p:spPr>
          <a:xfrm>
            <a:off x="762120" y="4114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6" name=""/>
          <p:cNvSpPr/>
          <p:nvPr/>
        </p:nvSpPr>
        <p:spPr>
          <a:xfrm>
            <a:off x="3087360" y="380880"/>
            <a:ext cx="37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CT74LS</a:t>
            </a:r>
            <a:r>
              <a:rPr b="1" lang="zh-CN" sz="2800" spc="-1" strike="noStrike">
                <a:solidFill>
                  <a:srgbClr val="003399"/>
                </a:solidFill>
                <a:latin typeface=""/>
              </a:rPr>
              <a:t>4147 </a:t>
            </a:r>
            <a:r>
              <a:rPr b="1" lang="zh-CN" sz="2800" spc="-1" strike="noStrike">
                <a:solidFill>
                  <a:srgbClr val="003399"/>
                </a:solidFill>
                <a:latin typeface=""/>
              </a:rPr>
              <a:t>编码器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7" name=""/>
          <p:cNvGrpSpPr/>
          <p:nvPr/>
        </p:nvGrpSpPr>
        <p:grpSpPr>
          <a:xfrm>
            <a:off x="782280" y="914400"/>
            <a:ext cx="7738560" cy="5333760"/>
            <a:chOff x="782280" y="914400"/>
            <a:chExt cx="7738560" cy="5333760"/>
          </a:xfrm>
        </p:grpSpPr>
        <p:sp>
          <p:nvSpPr>
            <p:cNvPr id="6728" name=""/>
            <p:cNvSpPr/>
            <p:nvPr/>
          </p:nvSpPr>
          <p:spPr>
            <a:xfrm>
              <a:off x="1066680" y="914400"/>
              <a:ext cx="7086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066680" y="1447560"/>
              <a:ext cx="7113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066680" y="2057400"/>
              <a:ext cx="7086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127620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127620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391520" y="152388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43760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175572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175572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236680" y="1538280"/>
              <a:ext cx="55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236680" y="1620720"/>
              <a:ext cx="319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71620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71620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19572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19572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676680" y="1538280"/>
              <a:ext cx="55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676680" y="1620720"/>
              <a:ext cx="318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415620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415620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4637160" y="1538280"/>
              <a:ext cx="55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463536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511668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511668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6823080" y="1523880"/>
              <a:ext cx="72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6902280" y="16063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6291360" y="153828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637056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5791320" y="1523880"/>
              <a:ext cx="72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5870520" y="16063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965880" y="2057400"/>
              <a:ext cx="70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1    1   1    1   1   1   1   1      1    1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1676520" y="91440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输   入  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低电平有效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5691960" y="965160"/>
              <a:ext cx="21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输 出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"/>
                </a:rPr>
                <a:t>8421</a:t>
              </a:r>
              <a:r>
                <a:rPr b="1" lang="zh-CN" sz="2400" spc="-1" strike="noStrike">
                  <a:solidFill>
                    <a:srgbClr val="ff0000"/>
                  </a:solidFill>
                  <a:latin typeface=""/>
                </a:rPr>
                <a:t>反码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794880" y="2438280"/>
              <a:ext cx="77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0    1    1    0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829800" y="2819160"/>
              <a:ext cx="74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0    1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782280" y="3200400"/>
              <a:ext cx="747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1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    1    0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891720" y="3581280"/>
              <a:ext cx="73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1    1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   1    0    0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922320" y="3962160"/>
              <a:ext cx="722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1    1   1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   1    0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953280" y="4419360"/>
              <a:ext cx="71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  1    0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984240" y="4876560"/>
              <a:ext cx="70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1    1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1013040" y="5333760"/>
              <a:ext cx="70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1    1   1    1   1   1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   1    1    0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1044000" y="5715000"/>
              <a:ext cx="699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1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1    1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1066680" y="914400"/>
              <a:ext cx="0" cy="5333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 flipH="1">
              <a:off x="5638320" y="914400"/>
              <a:ext cx="1800" cy="5257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8153280" y="914400"/>
              <a:ext cx="0" cy="5333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2" name=""/>
          <p:cNvSpPr/>
          <p:nvPr/>
        </p:nvSpPr>
        <p:spPr>
          <a:xfrm>
            <a:off x="1066680" y="62485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3" name=""/>
          <p:cNvSpPr/>
          <p:nvPr/>
        </p:nvSpPr>
        <p:spPr>
          <a:xfrm>
            <a:off x="1254960" y="819000"/>
            <a:ext cx="66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T74L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4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集成优先编码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3772440" y="50436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T4147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引脚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711360" y="3505320"/>
            <a:ext cx="1211040" cy="855720"/>
          </a:xfrm>
          <a:prstGeom prst="wedgeRoundRectCallout">
            <a:avLst>
              <a:gd name="adj1" fmla="val 119069"/>
              <a:gd name="adj2" fmla="val 8543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低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6" name=""/>
          <p:cNvGrpSpPr/>
          <p:nvPr/>
        </p:nvGrpSpPr>
        <p:grpSpPr>
          <a:xfrm>
            <a:off x="2514600" y="1600200"/>
            <a:ext cx="5281560" cy="3522600"/>
            <a:chOff x="2514600" y="1600200"/>
            <a:chExt cx="5281560" cy="3522600"/>
          </a:xfrm>
        </p:grpSpPr>
        <mc:AlternateContent>
          <mc:Choice xmlns:a14="http://schemas.microsoft.com/office/drawing/2010/main" Requires="a14">
            <p:sp>
              <p:nvSpPr>
                <p:cNvPr id="6777" name=""/>
                <p:cNvSpPr txBox="1"/>
                <p:nvPr/>
              </p:nvSpPr>
              <p:spPr>
                <a:xfrm>
                  <a:off x="2590920" y="4549680"/>
                  <a:ext cx="520524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7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8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GN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8" name=""/>
                <p:cNvSpPr txBox="1"/>
                <p:nvPr/>
              </p:nvSpPr>
              <p:spPr>
                <a:xfrm>
                  <a:off x="2514600" y="1600200"/>
                  <a:ext cx="457200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C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N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9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79" name=""/>
            <p:cNvSpPr/>
            <p:nvPr/>
          </p:nvSpPr>
          <p:spPr>
            <a:xfrm>
              <a:off x="2579760" y="2575080"/>
              <a:ext cx="4552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6  15  14  13   12   11  10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705040" y="3754440"/>
              <a:ext cx="436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    2    3    4     5    6    7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3604680" y="3078000"/>
              <a:ext cx="258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T74LS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414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706840" y="4229280"/>
              <a:ext cx="25704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706840" y="2178000"/>
              <a:ext cx="25704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4375080" y="4229280"/>
              <a:ext cx="25560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797280" y="4229280"/>
              <a:ext cx="25560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219480" y="4229280"/>
              <a:ext cx="25704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4951440" y="4229280"/>
              <a:ext cx="25704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5527800" y="4229280"/>
              <a:ext cx="25848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6105600" y="4229280"/>
              <a:ext cx="25560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6683400" y="4229280"/>
              <a:ext cx="255600" cy="32040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284640" y="2178000"/>
              <a:ext cx="25704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797280" y="2178000"/>
              <a:ext cx="25560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4375080" y="2178000"/>
              <a:ext cx="25560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951440" y="2178000"/>
              <a:ext cx="25704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5527800" y="2178000"/>
              <a:ext cx="25848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6105600" y="2178000"/>
              <a:ext cx="25560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6683400" y="2178000"/>
              <a:ext cx="255600" cy="320760"/>
            </a:xfrm>
            <a:prstGeom prst="rect">
              <a:avLst/>
            </a:prstGeom>
            <a:noFill/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514600" y="2498760"/>
              <a:ext cx="4681440" cy="173052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522520" y="3209760"/>
              <a:ext cx="168120" cy="473400"/>
            </a:xfrm>
            <a:custGeom>
              <a:avLst/>
              <a:gdLst/>
              <a:ahLst/>
              <a:rect l="l" t="t" r="r" b="b"/>
              <a:pathLst>
                <a:path w="126" h="354">
                  <a:moveTo>
                    <a:pt x="0" y="0"/>
                  </a:moveTo>
                  <a:cubicBezTo>
                    <a:pt x="34" y="11"/>
                    <a:pt x="48" y="34"/>
                    <a:pt x="82" y="45"/>
                  </a:cubicBezTo>
                  <a:cubicBezTo>
                    <a:pt x="113" y="143"/>
                    <a:pt x="126" y="77"/>
                    <a:pt x="100" y="254"/>
                  </a:cubicBezTo>
                  <a:cubicBezTo>
                    <a:pt x="93" y="300"/>
                    <a:pt x="9" y="314"/>
                    <a:pt x="9" y="354"/>
                  </a:cubicBezTo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0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10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译码器和数字显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609480" y="1351080"/>
            <a:ext cx="807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译码是编码的反过程，它是将代码的组合译成一个特定的输出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1148040" y="2438280"/>
            <a:ext cx="34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21.10.1   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二进制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3" name=""/>
          <p:cNvGrpSpPr/>
          <p:nvPr/>
        </p:nvGrpSpPr>
        <p:grpSpPr>
          <a:xfrm>
            <a:off x="1066680" y="1066680"/>
            <a:ext cx="5486400" cy="171360"/>
            <a:chOff x="1066680" y="1066680"/>
            <a:chExt cx="5486400" cy="171360"/>
          </a:xfrm>
        </p:grpSpPr>
        <p:pic>
          <p:nvPicPr>
            <p:cNvPr id="6804" name="" descr=""/>
            <p:cNvPicPr/>
            <p:nvPr/>
          </p:nvPicPr>
          <p:blipFill>
            <a:blip r:embed="rId1"/>
            <a:stretch/>
          </p:blipFill>
          <p:spPr>
            <a:xfrm>
              <a:off x="1971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5" name="" descr=""/>
            <p:cNvPicPr/>
            <p:nvPr/>
          </p:nvPicPr>
          <p:blipFill>
            <a:blip r:embed="rId2"/>
            <a:stretch/>
          </p:blipFill>
          <p:spPr>
            <a:xfrm>
              <a:off x="2114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6" name="" descr=""/>
            <p:cNvPicPr/>
            <p:nvPr/>
          </p:nvPicPr>
          <p:blipFill>
            <a:blip r:embed="rId3"/>
            <a:stretch/>
          </p:blipFill>
          <p:spPr>
            <a:xfrm>
              <a:off x="2276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7" name="" descr=""/>
            <p:cNvPicPr/>
            <p:nvPr/>
          </p:nvPicPr>
          <p:blipFill>
            <a:blip r:embed="rId4"/>
            <a:stretch/>
          </p:blipFill>
          <p:spPr>
            <a:xfrm>
              <a:off x="2571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8" name="" descr=""/>
            <p:cNvPicPr/>
            <p:nvPr/>
          </p:nvPicPr>
          <p:blipFill>
            <a:blip r:embed="rId5"/>
            <a:stretch/>
          </p:blipFill>
          <p:spPr>
            <a:xfrm>
              <a:off x="2733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9" name="" descr=""/>
            <p:cNvPicPr/>
            <p:nvPr/>
          </p:nvPicPr>
          <p:blipFill>
            <a:blip r:embed="rId6"/>
            <a:stretch/>
          </p:blipFill>
          <p:spPr>
            <a:xfrm>
              <a:off x="2886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0" name="" descr=""/>
            <p:cNvPicPr/>
            <p:nvPr/>
          </p:nvPicPr>
          <p:blipFill>
            <a:blip r:embed="rId7"/>
            <a:stretch/>
          </p:blipFill>
          <p:spPr>
            <a:xfrm>
              <a:off x="3029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1" name="" descr=""/>
            <p:cNvPicPr/>
            <p:nvPr/>
          </p:nvPicPr>
          <p:blipFill>
            <a:blip r:embed="rId8"/>
            <a:stretch/>
          </p:blipFill>
          <p:spPr>
            <a:xfrm>
              <a:off x="3191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2" name="" descr=""/>
            <p:cNvPicPr/>
            <p:nvPr/>
          </p:nvPicPr>
          <p:blipFill>
            <a:blip r:embed="rId9"/>
            <a:stretch/>
          </p:blipFill>
          <p:spPr>
            <a:xfrm>
              <a:off x="3486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3" name="" descr=""/>
            <p:cNvPicPr/>
            <p:nvPr/>
          </p:nvPicPr>
          <p:blipFill>
            <a:blip r:embed="rId10"/>
            <a:stretch/>
          </p:blipFill>
          <p:spPr>
            <a:xfrm>
              <a:off x="3648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4" name="" descr=""/>
            <p:cNvPicPr/>
            <p:nvPr/>
          </p:nvPicPr>
          <p:blipFill>
            <a:blip r:embed="rId11"/>
            <a:stretch/>
          </p:blipFill>
          <p:spPr>
            <a:xfrm>
              <a:off x="3800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5" name="" descr=""/>
            <p:cNvPicPr/>
            <p:nvPr/>
          </p:nvPicPr>
          <p:blipFill>
            <a:blip r:embed="rId12"/>
            <a:stretch/>
          </p:blipFill>
          <p:spPr>
            <a:xfrm>
              <a:off x="3943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6" name="" descr=""/>
            <p:cNvPicPr/>
            <p:nvPr/>
          </p:nvPicPr>
          <p:blipFill>
            <a:blip r:embed="rId13"/>
            <a:stretch/>
          </p:blipFill>
          <p:spPr>
            <a:xfrm>
              <a:off x="2428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7" name="" descr=""/>
            <p:cNvPicPr/>
            <p:nvPr/>
          </p:nvPicPr>
          <p:blipFill>
            <a:blip r:embed="rId14"/>
            <a:stretch/>
          </p:blipFill>
          <p:spPr>
            <a:xfrm>
              <a:off x="3343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8" name="" descr=""/>
            <p:cNvPicPr/>
            <p:nvPr/>
          </p:nvPicPr>
          <p:blipFill>
            <a:blip r:embed="rId15"/>
            <a:stretch/>
          </p:blipFill>
          <p:spPr>
            <a:xfrm>
              <a:off x="4105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9" name="" descr=""/>
            <p:cNvPicPr/>
            <p:nvPr/>
          </p:nvPicPr>
          <p:blipFill>
            <a:blip r:embed="rId16"/>
            <a:stretch/>
          </p:blipFill>
          <p:spPr>
            <a:xfrm>
              <a:off x="4257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0" name="" descr=""/>
            <p:cNvPicPr/>
            <p:nvPr/>
          </p:nvPicPr>
          <p:blipFill>
            <a:blip r:embed="rId17"/>
            <a:stretch/>
          </p:blipFill>
          <p:spPr>
            <a:xfrm>
              <a:off x="4400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1" name="" descr=""/>
            <p:cNvPicPr/>
            <p:nvPr/>
          </p:nvPicPr>
          <p:blipFill>
            <a:blip r:embed="rId18"/>
            <a:stretch/>
          </p:blipFill>
          <p:spPr>
            <a:xfrm>
              <a:off x="4562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2" name="" descr=""/>
            <p:cNvPicPr/>
            <p:nvPr/>
          </p:nvPicPr>
          <p:blipFill>
            <a:blip r:embed="rId19"/>
            <a:stretch/>
          </p:blipFill>
          <p:spPr>
            <a:xfrm>
              <a:off x="4714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3" name="" descr=""/>
            <p:cNvPicPr/>
            <p:nvPr/>
          </p:nvPicPr>
          <p:blipFill>
            <a:blip r:embed="rId20"/>
            <a:stretch/>
          </p:blipFill>
          <p:spPr>
            <a:xfrm>
              <a:off x="4857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4" name="" descr=""/>
            <p:cNvPicPr/>
            <p:nvPr/>
          </p:nvPicPr>
          <p:blipFill>
            <a:blip r:embed="rId21"/>
            <a:stretch/>
          </p:blipFill>
          <p:spPr>
            <a:xfrm>
              <a:off x="5019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5" name="" descr=""/>
            <p:cNvPicPr/>
            <p:nvPr/>
          </p:nvPicPr>
          <p:blipFill>
            <a:blip r:embed="rId22"/>
            <a:stretch/>
          </p:blipFill>
          <p:spPr>
            <a:xfrm>
              <a:off x="5315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6" name="" descr=""/>
            <p:cNvPicPr/>
            <p:nvPr/>
          </p:nvPicPr>
          <p:blipFill>
            <a:blip r:embed="rId23"/>
            <a:stretch/>
          </p:blipFill>
          <p:spPr>
            <a:xfrm>
              <a:off x="5477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7" name="" descr=""/>
            <p:cNvPicPr/>
            <p:nvPr/>
          </p:nvPicPr>
          <p:blipFill>
            <a:blip r:embed="rId24"/>
            <a:stretch/>
          </p:blipFill>
          <p:spPr>
            <a:xfrm>
              <a:off x="5629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8" name="" descr=""/>
            <p:cNvPicPr/>
            <p:nvPr/>
          </p:nvPicPr>
          <p:blipFill>
            <a:blip r:embed="rId25"/>
            <a:stretch/>
          </p:blipFill>
          <p:spPr>
            <a:xfrm>
              <a:off x="5772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9" name="" descr=""/>
            <p:cNvPicPr/>
            <p:nvPr/>
          </p:nvPicPr>
          <p:blipFill>
            <a:blip r:embed="rId26"/>
            <a:stretch/>
          </p:blipFill>
          <p:spPr>
            <a:xfrm>
              <a:off x="5934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0" name="" descr=""/>
            <p:cNvPicPr/>
            <p:nvPr/>
          </p:nvPicPr>
          <p:blipFill>
            <a:blip r:embed="rId27"/>
            <a:stretch/>
          </p:blipFill>
          <p:spPr>
            <a:xfrm>
              <a:off x="6229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1" name="" descr=""/>
            <p:cNvPicPr/>
            <p:nvPr/>
          </p:nvPicPr>
          <p:blipFill>
            <a:blip r:embed="rId28"/>
            <a:stretch/>
          </p:blipFill>
          <p:spPr>
            <a:xfrm>
              <a:off x="6391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2" name="" descr=""/>
            <p:cNvPicPr/>
            <p:nvPr/>
          </p:nvPicPr>
          <p:blipFill>
            <a:blip r:embed="rId29"/>
            <a:stretch/>
          </p:blipFill>
          <p:spPr>
            <a:xfrm>
              <a:off x="5172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3" name="" descr=""/>
            <p:cNvPicPr/>
            <p:nvPr/>
          </p:nvPicPr>
          <p:blipFill>
            <a:blip r:embed="rId30"/>
            <a:stretch/>
          </p:blipFill>
          <p:spPr>
            <a:xfrm>
              <a:off x="6086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4" name=""/>
            <p:cNvGrpSpPr/>
            <p:nvPr/>
          </p:nvGrpSpPr>
          <p:grpSpPr>
            <a:xfrm>
              <a:off x="1066680" y="1066680"/>
              <a:ext cx="923760" cy="162000"/>
              <a:chOff x="1066680" y="1066680"/>
              <a:chExt cx="923760" cy="162000"/>
            </a:xfrm>
          </p:grpSpPr>
          <p:pic>
            <p:nvPicPr>
              <p:cNvPr id="683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209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3716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7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238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66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288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0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0666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41" name=""/>
          <p:cNvGrpSpPr/>
          <p:nvPr/>
        </p:nvGrpSpPr>
        <p:grpSpPr>
          <a:xfrm>
            <a:off x="1523880" y="2975040"/>
            <a:ext cx="6095880" cy="1828080"/>
            <a:chOff x="1523880" y="2975040"/>
            <a:chExt cx="6095880" cy="1828080"/>
          </a:xfrm>
        </p:grpSpPr>
        <p:sp>
          <p:nvSpPr>
            <p:cNvPr id="6842" name=""/>
            <p:cNvSpPr/>
            <p:nvPr/>
          </p:nvSpPr>
          <p:spPr>
            <a:xfrm>
              <a:off x="5961600" y="375912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2795"/>
                  </a:solidFill>
                  <a:latin typeface=""/>
                </a:rPr>
                <a:t>8</a:t>
              </a:r>
              <a:r>
                <a:rPr b="1" lang="zh-CN" sz="2800" spc="-1" strike="noStrike">
                  <a:solidFill>
                    <a:srgbClr val="112795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575440" y="372744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2795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112795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657240" y="3965400"/>
              <a:ext cx="1905120" cy="83772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809880" y="41176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1523880" y="320328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7010280" y="297504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5867280" y="4194000"/>
              <a:ext cx="990360" cy="456840"/>
            </a:xfrm>
            <a:prstGeom prst="rightArrow">
              <a:avLst>
                <a:gd name="adj1" fmla="val 50000"/>
                <a:gd name="adj2" fmla="val 54196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438280" y="4194000"/>
              <a:ext cx="990360" cy="456840"/>
            </a:xfrm>
            <a:prstGeom prst="rightArrow">
              <a:avLst>
                <a:gd name="adj1" fmla="val 50000"/>
                <a:gd name="adj2" fmla="val 54196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0" name=""/>
          <p:cNvSpPr/>
          <p:nvPr/>
        </p:nvSpPr>
        <p:spPr>
          <a:xfrm>
            <a:off x="3254400" y="1004760"/>
            <a:ext cx="29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状     态    表</a:t>
            </a:r>
            <a:r>
              <a:rPr b="1" lang="zh-CN" sz="3200" spc="-1" strike="noStrike">
                <a:solidFill>
                  <a:srgbClr val="003399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209320" y="53352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位二进制译码器（输出高电平有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2" name=""/>
          <p:cNvGrpSpPr/>
          <p:nvPr/>
        </p:nvGrpSpPr>
        <p:grpSpPr>
          <a:xfrm>
            <a:off x="1218960" y="1447920"/>
            <a:ext cx="6687000" cy="4787640"/>
            <a:chOff x="1218960" y="1447920"/>
            <a:chExt cx="6687000" cy="4787640"/>
          </a:xfrm>
        </p:grpSpPr>
        <p:sp>
          <p:nvSpPr>
            <p:cNvPr id="6853" name=""/>
            <p:cNvSpPr/>
            <p:nvPr/>
          </p:nvSpPr>
          <p:spPr>
            <a:xfrm>
              <a:off x="1295280" y="144792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963880" y="1447920"/>
              <a:ext cx="0" cy="472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1295280" y="190512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1295280" y="243828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1512720" y="1447920"/>
              <a:ext cx="13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1454400" y="1905120"/>
              <a:ext cx="13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   B  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291120" y="1905120"/>
              <a:ext cx="421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4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5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6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1219320" y="25146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0   0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 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0     0     0    0 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1219320" y="29718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0   1 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 0    0 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1218960" y="3429000"/>
              <a:ext cx="66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1   0 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 0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1219320" y="38862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1   1      0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1219320" y="43434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0   0      0     0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1219320" y="48006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0   1      0     0     0     0     0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1219320" y="52578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1    1   0      0     0     0     0     0    0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1219320" y="57150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1   1      0     0     0     0     0    0     0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4395600" y="1447920"/>
              <a:ext cx="153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447920" y="6172200"/>
              <a:ext cx="6310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0" name=""/>
          <p:cNvSpPr/>
          <p:nvPr/>
        </p:nvSpPr>
        <p:spPr>
          <a:xfrm>
            <a:off x="1571760" y="662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1" name=""/>
          <p:cNvGrpSpPr/>
          <p:nvPr/>
        </p:nvGrpSpPr>
        <p:grpSpPr>
          <a:xfrm>
            <a:off x="1519200" y="1447920"/>
            <a:ext cx="5262480" cy="2629800"/>
            <a:chOff x="1519200" y="1447920"/>
            <a:chExt cx="5262480" cy="2629800"/>
          </a:xfrm>
        </p:grpSpPr>
        <p:sp>
          <p:nvSpPr>
            <p:cNvPr id="6872" name=""/>
            <p:cNvSpPr/>
            <p:nvPr/>
          </p:nvSpPr>
          <p:spPr>
            <a:xfrm>
              <a:off x="1523880" y="1447920"/>
              <a:ext cx="210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 B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3" name=""/>
            <p:cNvGrpSpPr/>
            <p:nvPr/>
          </p:nvGrpSpPr>
          <p:grpSpPr>
            <a:xfrm>
              <a:off x="2286000" y="1512720"/>
              <a:ext cx="987120" cy="0"/>
              <a:chOff x="2286000" y="1512720"/>
              <a:chExt cx="987120" cy="0"/>
            </a:xfrm>
          </p:grpSpPr>
          <p:sp>
            <p:nvSpPr>
              <p:cNvPr id="6874" name=""/>
              <p:cNvSpPr/>
              <p:nvPr/>
            </p:nvSpPr>
            <p:spPr>
              <a:xfrm>
                <a:off x="2286000" y="1512720"/>
                <a:ext cx="26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680920" y="1512720"/>
                <a:ext cx="26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009960" y="151272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7" name=""/>
            <p:cNvGrpSpPr/>
            <p:nvPr/>
          </p:nvGrpSpPr>
          <p:grpSpPr>
            <a:xfrm>
              <a:off x="4191120" y="1447920"/>
              <a:ext cx="2109600" cy="648720"/>
              <a:chOff x="4191120" y="1447920"/>
              <a:chExt cx="2109600" cy="648720"/>
            </a:xfrm>
          </p:grpSpPr>
          <p:sp>
            <p:nvSpPr>
              <p:cNvPr id="6878" name=""/>
              <p:cNvSpPr/>
              <p:nvPr/>
            </p:nvSpPr>
            <p:spPr>
              <a:xfrm>
                <a:off x="4191120" y="1447920"/>
                <a:ext cx="2109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952880" y="1513080"/>
                <a:ext cx="261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5346720" y="151308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1" name=""/>
            <p:cNvGrpSpPr/>
            <p:nvPr/>
          </p:nvGrpSpPr>
          <p:grpSpPr>
            <a:xfrm>
              <a:off x="1558080" y="2133720"/>
              <a:ext cx="1746000" cy="648720"/>
              <a:chOff x="1558080" y="2133720"/>
              <a:chExt cx="1746000" cy="648720"/>
            </a:xfrm>
          </p:grpSpPr>
          <p:sp>
            <p:nvSpPr>
              <p:cNvPr id="6882" name=""/>
              <p:cNvSpPr/>
              <p:nvPr/>
            </p:nvSpPr>
            <p:spPr>
              <a:xfrm>
                <a:off x="1558080" y="2133720"/>
                <a:ext cx="1746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286000" y="22017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009960" y="22017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5" name=""/>
            <p:cNvGrpSpPr/>
            <p:nvPr/>
          </p:nvGrpSpPr>
          <p:grpSpPr>
            <a:xfrm>
              <a:off x="4225320" y="2057400"/>
              <a:ext cx="1746000" cy="648720"/>
              <a:chOff x="4225320" y="2057400"/>
              <a:chExt cx="1746000" cy="648720"/>
            </a:xfrm>
          </p:grpSpPr>
          <p:sp>
            <p:nvSpPr>
              <p:cNvPr id="6886" name=""/>
              <p:cNvSpPr/>
              <p:nvPr/>
            </p:nvSpPr>
            <p:spPr>
              <a:xfrm>
                <a:off x="4225320" y="2057400"/>
                <a:ext cx="1746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952880" y="213840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8" name=""/>
            <p:cNvSpPr/>
            <p:nvPr/>
          </p:nvSpPr>
          <p:spPr>
            <a:xfrm>
              <a:off x="4225320" y="3429000"/>
              <a:ext cx="174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 B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9" name=""/>
            <p:cNvGrpSpPr/>
            <p:nvPr/>
          </p:nvGrpSpPr>
          <p:grpSpPr>
            <a:xfrm>
              <a:off x="1559880" y="2773440"/>
              <a:ext cx="1640880" cy="648720"/>
              <a:chOff x="1559880" y="2773440"/>
              <a:chExt cx="1640880" cy="648720"/>
            </a:xfrm>
          </p:grpSpPr>
          <p:sp>
            <p:nvSpPr>
              <p:cNvPr id="6890" name=""/>
              <p:cNvSpPr/>
              <p:nvPr/>
            </p:nvSpPr>
            <p:spPr>
              <a:xfrm>
                <a:off x="1559880" y="2773440"/>
                <a:ext cx="1640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600280" y="28209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928960" y="28209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3" name=""/>
            <p:cNvGrpSpPr/>
            <p:nvPr/>
          </p:nvGrpSpPr>
          <p:grpSpPr>
            <a:xfrm>
              <a:off x="1519200" y="3429000"/>
              <a:ext cx="2900520" cy="648720"/>
              <a:chOff x="1519200" y="3429000"/>
              <a:chExt cx="2900520" cy="648720"/>
            </a:xfrm>
          </p:grpSpPr>
          <p:sp>
            <p:nvSpPr>
              <p:cNvPr id="6894" name=""/>
              <p:cNvSpPr/>
              <p:nvPr/>
            </p:nvSpPr>
            <p:spPr>
              <a:xfrm>
                <a:off x="1519200" y="3429000"/>
                <a:ext cx="2900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008160" y="34941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6" name=""/>
            <p:cNvGrpSpPr/>
            <p:nvPr/>
          </p:nvGrpSpPr>
          <p:grpSpPr>
            <a:xfrm>
              <a:off x="4186080" y="2743200"/>
              <a:ext cx="2595600" cy="648720"/>
              <a:chOff x="4186080" y="2743200"/>
              <a:chExt cx="2595600" cy="648720"/>
            </a:xfrm>
          </p:grpSpPr>
          <p:sp>
            <p:nvSpPr>
              <p:cNvPr id="6897" name=""/>
              <p:cNvSpPr/>
              <p:nvPr/>
            </p:nvSpPr>
            <p:spPr>
              <a:xfrm>
                <a:off x="4186080" y="2743200"/>
                <a:ext cx="2595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5329080" y="280692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9" name=""/>
          <p:cNvSpPr/>
          <p:nvPr/>
        </p:nvSpPr>
        <p:spPr>
          <a:xfrm>
            <a:off x="762120" y="380880"/>
            <a:ext cx="13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0" name=""/>
          <p:cNvGrpSpPr/>
          <p:nvPr/>
        </p:nvGrpSpPr>
        <p:grpSpPr>
          <a:xfrm>
            <a:off x="311400" y="838080"/>
            <a:ext cx="8146800" cy="5473800"/>
            <a:chOff x="311400" y="838080"/>
            <a:chExt cx="8146800" cy="5473800"/>
          </a:xfrm>
        </p:grpSpPr>
        <p:grpSp>
          <p:nvGrpSpPr>
            <p:cNvPr id="6901" name=""/>
            <p:cNvGrpSpPr/>
            <p:nvPr/>
          </p:nvGrpSpPr>
          <p:grpSpPr>
            <a:xfrm>
              <a:off x="609480" y="838080"/>
              <a:ext cx="7848720" cy="5473800"/>
              <a:chOff x="609480" y="838080"/>
              <a:chExt cx="7848720" cy="5473800"/>
            </a:xfrm>
          </p:grpSpPr>
          <p:sp>
            <p:nvSpPr>
              <p:cNvPr id="6902" name=""/>
              <p:cNvSpPr/>
              <p:nvPr/>
            </p:nvSpPr>
            <p:spPr>
              <a:xfrm>
                <a:off x="5344920" y="579132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48560" y="579132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2751840" y="579132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105876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128268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150660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203040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25432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47824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00204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22596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344952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97368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9724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42116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94496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16888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39280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91660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614052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636588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688824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711216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733752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785988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808524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830880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 flipV="1">
                <a:off x="2927520" y="2819520"/>
                <a:ext cx="0" cy="182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flipV="1">
                <a:off x="4272120" y="3428640"/>
                <a:ext cx="0" cy="12193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flipV="1">
                <a:off x="5543640" y="4038480"/>
                <a:ext cx="0" cy="609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627280" y="4800600"/>
                <a:ext cx="59868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2776680" y="4724280"/>
                <a:ext cx="37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285264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92752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88936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973680" y="4800600"/>
                <a:ext cx="59832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4122720" y="4724280"/>
                <a:ext cx="3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419724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27212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5243400" y="4800600"/>
                <a:ext cx="59868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5392800" y="4724280"/>
                <a:ext cx="37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546876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554364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609480" y="312408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609480" y="441972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609480" y="373392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09480" y="281952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609480" y="342900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609480" y="403848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2927520" y="5486400"/>
                <a:ext cx="447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V="1">
                <a:off x="3375000" y="3124080"/>
                <a:ext cx="0" cy="2362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272120" y="5486400"/>
                <a:ext cx="449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V="1">
                <a:off x="4721400" y="3733920"/>
                <a:ext cx="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5543640" y="5486400"/>
                <a:ext cx="671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6215040" y="4419360"/>
                <a:ext cx="0" cy="1066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82428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973680" y="182880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V="1">
                <a:off x="419724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90792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105876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V="1">
                <a:off x="128268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187956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03040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V="1">
                <a:off x="225432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2852640" y="1905120"/>
                <a:ext cx="74628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00204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V="1">
                <a:off x="322596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71048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85988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 flipV="1">
                <a:off x="808524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576756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91660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V="1">
                <a:off x="614052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73884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8824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V="1">
                <a:off x="711216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479592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494496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V="1">
                <a:off x="516888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1066680" y="838080"/>
                <a:ext cx="67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1981080" y="838080"/>
                <a:ext cx="596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0600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886200" y="838080"/>
                <a:ext cx="596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48888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87952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79392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8606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422748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48640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12445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209680" y="1295280"/>
                <a:ext cx="9396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1813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414828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12460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095880" y="1295280"/>
                <a:ext cx="9396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80359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70675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807280" y="5562720"/>
                <a:ext cx="320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              1  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805120" y="4343400"/>
                <a:ext cx="32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1              0   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1" name=""/>
              <p:cNvGrpSpPr/>
              <p:nvPr/>
            </p:nvGrpSpPr>
            <p:grpSpPr>
              <a:xfrm>
                <a:off x="1284480" y="1371600"/>
                <a:ext cx="7112880" cy="520560"/>
                <a:chOff x="1284480" y="1371600"/>
                <a:chExt cx="7112880" cy="520560"/>
              </a:xfrm>
            </p:grpSpPr>
            <p:sp>
              <p:nvSpPr>
                <p:cNvPr id="7002" name=""/>
                <p:cNvSpPr/>
                <p:nvPr/>
              </p:nvSpPr>
              <p:spPr>
                <a:xfrm>
                  <a:off x="4179240" y="1371600"/>
                  <a:ext cx="44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3" name=""/>
                <p:cNvSpPr/>
                <p:nvPr/>
              </p:nvSpPr>
              <p:spPr>
                <a:xfrm>
                  <a:off x="32068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4" name=""/>
                <p:cNvSpPr/>
                <p:nvPr/>
              </p:nvSpPr>
              <p:spPr>
                <a:xfrm>
                  <a:off x="22456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>
                  <a:off x="12844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6" name=""/>
                <p:cNvSpPr/>
                <p:nvPr/>
              </p:nvSpPr>
              <p:spPr>
                <a:xfrm>
                  <a:off x="51300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7" name=""/>
                <p:cNvSpPr/>
                <p:nvPr/>
              </p:nvSpPr>
              <p:spPr>
                <a:xfrm>
                  <a:off x="60912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8" name=""/>
                <p:cNvSpPr/>
                <p:nvPr/>
              </p:nvSpPr>
              <p:spPr>
                <a:xfrm>
                  <a:off x="70524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>
                  <a:off x="801396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10" name=""/>
            <p:cNvGrpSpPr/>
            <p:nvPr/>
          </p:nvGrpSpPr>
          <p:grpSpPr>
            <a:xfrm>
              <a:off x="311400" y="2535120"/>
              <a:ext cx="340920" cy="2079720"/>
              <a:chOff x="311400" y="2535120"/>
              <a:chExt cx="340920" cy="2079720"/>
            </a:xfrm>
          </p:grpSpPr>
          <p:grpSp>
            <p:nvGrpSpPr>
              <p:cNvPr id="7011" name=""/>
              <p:cNvGrpSpPr/>
              <p:nvPr/>
            </p:nvGrpSpPr>
            <p:grpSpPr>
              <a:xfrm>
                <a:off x="311400" y="2535120"/>
                <a:ext cx="340920" cy="743400"/>
                <a:chOff x="311400" y="2535120"/>
                <a:chExt cx="340920" cy="743400"/>
              </a:xfrm>
            </p:grpSpPr>
            <p:sp>
              <p:nvSpPr>
                <p:cNvPr id="7012" name=""/>
                <p:cNvSpPr/>
                <p:nvPr/>
              </p:nvSpPr>
              <p:spPr>
                <a:xfrm>
                  <a:off x="311400" y="28796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3" name=""/>
                <p:cNvSpPr/>
                <p:nvPr/>
              </p:nvSpPr>
              <p:spPr>
                <a:xfrm>
                  <a:off x="311400" y="253512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4" name=""/>
                <p:cNvSpPr/>
                <p:nvPr/>
              </p:nvSpPr>
              <p:spPr>
                <a:xfrm>
                  <a:off x="415800" y="262224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5" name=""/>
              <p:cNvGrpSpPr/>
              <p:nvPr/>
            </p:nvGrpSpPr>
            <p:grpSpPr>
              <a:xfrm>
                <a:off x="312120" y="3200400"/>
                <a:ext cx="339120" cy="743400"/>
                <a:chOff x="312120" y="3200400"/>
                <a:chExt cx="339120" cy="743400"/>
              </a:xfrm>
            </p:grpSpPr>
            <p:sp>
              <p:nvSpPr>
                <p:cNvPr id="7016" name=""/>
                <p:cNvSpPr/>
                <p:nvPr/>
              </p:nvSpPr>
              <p:spPr>
                <a:xfrm>
                  <a:off x="312120" y="3544920"/>
                  <a:ext cx="33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7" name=""/>
                <p:cNvSpPr/>
                <p:nvPr/>
              </p:nvSpPr>
              <p:spPr>
                <a:xfrm>
                  <a:off x="312120" y="3200400"/>
                  <a:ext cx="33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8" name=""/>
                <p:cNvSpPr/>
                <p:nvPr/>
              </p:nvSpPr>
              <p:spPr>
                <a:xfrm>
                  <a:off x="415800" y="328752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9" name=""/>
              <p:cNvGrpSpPr/>
              <p:nvPr/>
            </p:nvGrpSpPr>
            <p:grpSpPr>
              <a:xfrm>
                <a:off x="313560" y="3906720"/>
                <a:ext cx="336240" cy="708120"/>
                <a:chOff x="313560" y="3906720"/>
                <a:chExt cx="336240" cy="708120"/>
              </a:xfrm>
            </p:grpSpPr>
            <p:sp>
              <p:nvSpPr>
                <p:cNvPr id="7020" name=""/>
                <p:cNvSpPr/>
                <p:nvPr/>
              </p:nvSpPr>
              <p:spPr>
                <a:xfrm>
                  <a:off x="313560" y="42159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1" name=""/>
                <p:cNvSpPr/>
                <p:nvPr/>
              </p:nvSpPr>
              <p:spPr>
                <a:xfrm>
                  <a:off x="313560" y="39067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2" name=""/>
                <p:cNvSpPr/>
                <p:nvPr/>
              </p:nvSpPr>
              <p:spPr>
                <a:xfrm>
                  <a:off x="415800" y="398484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3" name="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利用译码器分时将采样数据送入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4" name=""/>
          <p:cNvGrpSpPr/>
          <p:nvPr/>
        </p:nvGrpSpPr>
        <p:grpSpPr>
          <a:xfrm>
            <a:off x="229680" y="990720"/>
            <a:ext cx="8492040" cy="5068800"/>
            <a:chOff x="229680" y="990720"/>
            <a:chExt cx="8492040" cy="5068800"/>
          </a:xfrm>
        </p:grpSpPr>
        <p:sp>
          <p:nvSpPr>
            <p:cNvPr id="7025" name=""/>
            <p:cNvSpPr/>
            <p:nvPr/>
          </p:nvSpPr>
          <p:spPr>
            <a:xfrm>
              <a:off x="229680" y="990720"/>
              <a:ext cx="606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762120" y="1106640"/>
              <a:ext cx="7154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762120" y="1335240"/>
              <a:ext cx="6858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762120" y="1868400"/>
              <a:ext cx="6248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819520" y="4998960"/>
              <a:ext cx="2970000" cy="98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5818320" y="56340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5791320" y="514512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5791320" y="545004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5948280" y="5707080"/>
              <a:ext cx="30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6237360" y="5692680"/>
              <a:ext cx="1116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6019920" y="605952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38862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4594320" y="48402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5181480" y="484812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5146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5257800" y="4459320"/>
              <a:ext cx="0" cy="380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8381880" y="2859120"/>
              <a:ext cx="0" cy="1600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5257800" y="4459320"/>
              <a:ext cx="3124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5720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 flipV="1">
              <a:off x="3956040" y="414828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3962520" y="4154400"/>
              <a:ext cx="6094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V="1">
              <a:off x="4648320" y="4306680"/>
              <a:ext cx="0" cy="533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648320" y="4307040"/>
              <a:ext cx="1981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6629400" y="2859120"/>
              <a:ext cx="0" cy="1436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9" name=""/>
                <p:cNvSpPr txBox="1"/>
                <p:nvPr/>
              </p:nvSpPr>
              <p:spPr>
                <a:xfrm>
                  <a:off x="6545160" y="4840200"/>
                  <a:ext cx="473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0" name=""/>
                <p:cNvSpPr txBox="1"/>
                <p:nvPr/>
              </p:nvSpPr>
              <p:spPr>
                <a:xfrm>
                  <a:off x="6292800" y="5526000"/>
                  <a:ext cx="379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S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7051" name=""/>
            <p:cNvSpPr/>
            <p:nvPr/>
          </p:nvSpPr>
          <p:spPr>
            <a:xfrm>
              <a:off x="3124080" y="5221440"/>
              <a:ext cx="25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2-4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线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119052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322596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5289480" y="3814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7237440" y="379080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2514600" y="4154400"/>
              <a:ext cx="7621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 flipV="1">
              <a:off x="3276720" y="415440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32004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685800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8083440" y="2782800"/>
              <a:ext cx="11448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 flipV="1">
              <a:off x="69850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72709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 flipV="1">
              <a:off x="75754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V="1">
              <a:off x="7880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8188200" y="2859120"/>
              <a:ext cx="193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V="1" rot="16200000">
              <a:off x="728064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685800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701028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 flipV="1">
              <a:off x="731520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V="1">
              <a:off x="762012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V="1">
              <a:off x="792468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62120" y="1563840"/>
              <a:ext cx="65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89548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4121280" y="278280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 flipV="1">
              <a:off x="30225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3308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V="1">
              <a:off x="36133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V="1">
              <a:off x="39178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226040" y="285912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V="1" rot="16200000">
              <a:off x="331812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289548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 flipV="1">
              <a:off x="304812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335268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 flipV="1">
              <a:off x="365760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V="1">
              <a:off x="396252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873000" y="24908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09880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 flipV="1">
              <a:off x="10000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V="1">
              <a:off x="12859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 flipV="1">
              <a:off x="159084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18954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03560" y="285588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 rot="16200000">
              <a:off x="129564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87300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 flipV="1">
              <a:off x="102564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 flipV="1">
              <a:off x="133020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V="1">
              <a:off x="163512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V="1">
              <a:off x="194004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99" name=""/>
                <p:cNvSpPr txBox="1"/>
                <p:nvPr/>
              </p:nvSpPr>
              <p:spPr>
                <a:xfrm>
                  <a:off x="2832120" y="44593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0" name=""/>
                <p:cNvSpPr txBox="1"/>
                <p:nvPr/>
              </p:nvSpPr>
              <p:spPr>
                <a:xfrm>
                  <a:off x="3505320" y="44197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1" name=""/>
                <p:cNvSpPr txBox="1"/>
                <p:nvPr/>
              </p:nvSpPr>
              <p:spPr>
                <a:xfrm>
                  <a:off x="4205160" y="4459320"/>
                  <a:ext cx="4287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102" name=""/>
            <p:cNvSpPr/>
            <p:nvPr/>
          </p:nvSpPr>
          <p:spPr>
            <a:xfrm>
              <a:off x="4952880" y="2459160"/>
              <a:ext cx="1219320" cy="7426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617868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V="1">
              <a:off x="507996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53658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56707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V="1">
              <a:off x="59752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6283440" y="285588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 rot="16200000">
              <a:off x="537552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95288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510552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V="1">
              <a:off x="541008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V="1">
              <a:off x="571500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 flipV="1">
              <a:off x="601992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5" name=""/>
                <p:cNvSpPr txBox="1"/>
                <p:nvPr/>
              </p:nvSpPr>
              <p:spPr>
                <a:xfrm>
                  <a:off x="762120" y="4789440"/>
                  <a:ext cx="1904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16" name=""/>
            <p:cNvSpPr/>
            <p:nvPr/>
          </p:nvSpPr>
          <p:spPr>
            <a:xfrm>
              <a:off x="1024920" y="523872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译码器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7" name=""/>
                <p:cNvSpPr txBox="1"/>
                <p:nvPr/>
              </p:nvSpPr>
              <p:spPr>
                <a:xfrm>
                  <a:off x="4800600" y="44197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8" name=""/>
                <p:cNvSpPr txBox="1"/>
                <p:nvPr/>
              </p:nvSpPr>
              <p:spPr>
                <a:xfrm>
                  <a:off x="6566040" y="5197320"/>
                  <a:ext cx="447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9" name=""/>
                <p:cNvSpPr txBox="1"/>
                <p:nvPr/>
              </p:nvSpPr>
              <p:spPr>
                <a:xfrm>
                  <a:off x="2079720" y="2359080"/>
                  <a:ext cx="5112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20" name=""/>
                <p:cNvSpPr txBox="1"/>
                <p:nvPr/>
              </p:nvSpPr>
              <p:spPr>
                <a:xfrm>
                  <a:off x="4165560" y="2325600"/>
                  <a:ext cx="5032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21" name=""/>
                <p:cNvSpPr txBox="1"/>
                <p:nvPr/>
              </p:nvSpPr>
              <p:spPr>
                <a:xfrm>
                  <a:off x="6221520" y="2325600"/>
                  <a:ext cx="504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22" name=""/>
                <p:cNvSpPr txBox="1"/>
                <p:nvPr/>
              </p:nvSpPr>
              <p:spPr>
                <a:xfrm>
                  <a:off x="8202600" y="2306520"/>
                  <a:ext cx="5191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3" name=""/>
          <p:cNvSpPr/>
          <p:nvPr/>
        </p:nvSpPr>
        <p:spPr>
          <a:xfrm>
            <a:off x="381960" y="990720"/>
            <a:ext cx="6069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总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4" name=""/>
          <p:cNvGrpSpPr/>
          <p:nvPr/>
        </p:nvGrpSpPr>
        <p:grpSpPr>
          <a:xfrm>
            <a:off x="685800" y="4876920"/>
            <a:ext cx="1905120" cy="1153440"/>
            <a:chOff x="685800" y="4876920"/>
            <a:chExt cx="1905120" cy="1153440"/>
          </a:xfrm>
        </p:grpSpPr>
        <mc:AlternateContent>
          <mc:Choice xmlns:a14="http://schemas.microsoft.com/office/drawing/2010/main" Requires="a14">
            <p:sp>
              <p:nvSpPr>
                <p:cNvPr id="7125" name=""/>
                <p:cNvSpPr txBox="1"/>
                <p:nvPr/>
              </p:nvSpPr>
              <p:spPr>
                <a:xfrm>
                  <a:off x="685800" y="4876920"/>
                  <a:ext cx="19051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26" name=""/>
            <p:cNvSpPr/>
            <p:nvPr/>
          </p:nvSpPr>
          <p:spPr>
            <a:xfrm>
              <a:off x="1024920" y="546732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译码器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7" name=""/>
          <p:cNvSpPr/>
          <p:nvPr/>
        </p:nvSpPr>
        <p:spPr>
          <a:xfrm>
            <a:off x="533520" y="45720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工作原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8" name=""/>
          <p:cNvGrpSpPr/>
          <p:nvPr/>
        </p:nvGrpSpPr>
        <p:grpSpPr>
          <a:xfrm>
            <a:off x="6923520" y="4800600"/>
            <a:ext cx="383400" cy="1020240"/>
            <a:chOff x="6923520" y="4800600"/>
            <a:chExt cx="383400" cy="1020240"/>
          </a:xfrm>
        </p:grpSpPr>
        <p:sp>
          <p:nvSpPr>
            <p:cNvPr id="7129" name=""/>
            <p:cNvSpPr/>
            <p:nvPr/>
          </p:nvSpPr>
          <p:spPr>
            <a:xfrm>
              <a:off x="6923520" y="48006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6923520" y="52578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1" name=""/>
          <p:cNvGrpSpPr/>
          <p:nvPr/>
        </p:nvGrpSpPr>
        <p:grpSpPr>
          <a:xfrm>
            <a:off x="2819520" y="1905120"/>
            <a:ext cx="5257440" cy="456840"/>
            <a:chOff x="2819520" y="1905120"/>
            <a:chExt cx="5257440" cy="456840"/>
          </a:xfrm>
        </p:grpSpPr>
        <p:sp>
          <p:nvSpPr>
            <p:cNvPr id="7132" name=""/>
            <p:cNvSpPr/>
            <p:nvPr/>
          </p:nvSpPr>
          <p:spPr>
            <a:xfrm>
              <a:off x="2819520" y="190512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854600" y="19220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6663600" y="19724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5" name=""/>
          <p:cNvSpPr/>
          <p:nvPr/>
        </p:nvSpPr>
        <p:spPr>
          <a:xfrm>
            <a:off x="2819520" y="4038480"/>
            <a:ext cx="38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381960" y="990720"/>
            <a:ext cx="6069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总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762120" y="1106640"/>
            <a:ext cx="71546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762120" y="1335240"/>
            <a:ext cx="6858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762120" y="1868400"/>
            <a:ext cx="6248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2819520" y="4998960"/>
            <a:ext cx="2970000" cy="98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5818320" y="5634000"/>
            <a:ext cx="129960" cy="1317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5791320" y="5145120"/>
            <a:ext cx="663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5791320" y="5450040"/>
            <a:ext cx="663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5948280" y="5707080"/>
            <a:ext cx="30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6019920" y="609588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3886200" y="4840200"/>
            <a:ext cx="130320" cy="1317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>
            <a:off x="4594320" y="4840200"/>
            <a:ext cx="129960" cy="1317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5181480" y="4848120"/>
            <a:ext cx="130320" cy="1317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2514600" y="2859120"/>
            <a:ext cx="0" cy="1295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5257800" y="4459320"/>
            <a:ext cx="0" cy="3808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8381880" y="2859120"/>
            <a:ext cx="0" cy="1600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5257800" y="4459320"/>
            <a:ext cx="3124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4572000" y="2859120"/>
            <a:ext cx="0" cy="1295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V="1">
            <a:off x="3956040" y="4148280"/>
            <a:ext cx="0" cy="720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3962520" y="4154400"/>
            <a:ext cx="6094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 flipV="1">
            <a:off x="4648320" y="4306680"/>
            <a:ext cx="0" cy="5331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4648320" y="4307040"/>
            <a:ext cx="1981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>
            <a:off x="6629400" y="2859120"/>
            <a:ext cx="0" cy="14367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9" name=""/>
              <p:cNvSpPr txBox="1"/>
              <p:nvPr/>
            </p:nvSpPr>
            <p:spPr>
              <a:xfrm>
                <a:off x="6545160" y="4840200"/>
                <a:ext cx="473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0" name=""/>
              <p:cNvSpPr txBox="1"/>
              <p:nvPr/>
            </p:nvSpPr>
            <p:spPr>
              <a:xfrm>
                <a:off x="6292800" y="5526000"/>
                <a:ext cx="37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161" name=""/>
          <p:cNvSpPr/>
          <p:nvPr/>
        </p:nvSpPr>
        <p:spPr>
          <a:xfrm>
            <a:off x="3124080" y="5221440"/>
            <a:ext cx="25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-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线译码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1190520" y="387972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3225960" y="387972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5289480" y="381492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7237440" y="379080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6" name=""/>
              <p:cNvSpPr txBox="1"/>
              <p:nvPr/>
            </p:nvSpPr>
            <p:spPr>
              <a:xfrm>
                <a:off x="2079720" y="2359080"/>
                <a:ext cx="511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7" name=""/>
              <p:cNvSpPr txBox="1"/>
              <p:nvPr/>
            </p:nvSpPr>
            <p:spPr>
              <a:xfrm>
                <a:off x="4165560" y="2325600"/>
                <a:ext cx="503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8" name=""/>
              <p:cNvSpPr txBox="1"/>
              <p:nvPr/>
            </p:nvSpPr>
            <p:spPr>
              <a:xfrm>
                <a:off x="6221520" y="2325600"/>
                <a:ext cx="504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9" name=""/>
              <p:cNvSpPr txBox="1"/>
              <p:nvPr/>
            </p:nvSpPr>
            <p:spPr>
              <a:xfrm>
                <a:off x="8202600" y="2306520"/>
                <a:ext cx="519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70" name=""/>
          <p:cNvSpPr/>
          <p:nvPr/>
        </p:nvSpPr>
        <p:spPr>
          <a:xfrm>
            <a:off x="2514600" y="4154400"/>
            <a:ext cx="762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 flipV="1">
            <a:off x="3276720" y="4154400"/>
            <a:ext cx="0" cy="720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3200400" y="4840200"/>
            <a:ext cx="130320" cy="1317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6858000" y="2462040"/>
            <a:ext cx="1219320" cy="743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8083440" y="2782800"/>
            <a:ext cx="114480" cy="1335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 flipV="1">
            <a:off x="6985080" y="322092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 flipV="1">
            <a:off x="7270920" y="322092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7" name=""/>
          <p:cNvSpPr/>
          <p:nvPr/>
        </p:nvSpPr>
        <p:spPr>
          <a:xfrm flipV="1">
            <a:off x="7575480" y="322092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8" name=""/>
          <p:cNvSpPr/>
          <p:nvPr/>
        </p:nvSpPr>
        <p:spPr>
          <a:xfrm flipV="1">
            <a:off x="7880400" y="322092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8188200" y="2859120"/>
            <a:ext cx="1936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 flipV="1" rot="16200000">
            <a:off x="7280640" y="3305880"/>
            <a:ext cx="317520" cy="995400"/>
          </a:xfrm>
          <a:custGeom>
            <a:avLst/>
            <a:gdLst>
              <a:gd name="textAreaLeft" fmla="*/ 203040 w 317520"/>
              <a:gd name="textAreaRight" fmla="*/ 317520 w 317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6858000" y="263052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态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 flipV="1">
            <a:off x="7010280" y="18684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 flipV="1">
            <a:off x="7315200" y="15638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7620120" y="13348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 flipV="1">
            <a:off x="7924680" y="11066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762120" y="156384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7" name=""/>
          <p:cNvGrpSpPr/>
          <p:nvPr/>
        </p:nvGrpSpPr>
        <p:grpSpPr>
          <a:xfrm>
            <a:off x="2895480" y="1069920"/>
            <a:ext cx="1676520" cy="2892240"/>
            <a:chOff x="2895480" y="1069920"/>
            <a:chExt cx="1676520" cy="2892240"/>
          </a:xfrm>
        </p:grpSpPr>
        <p:sp>
          <p:nvSpPr>
            <p:cNvPr id="7188" name=""/>
            <p:cNvSpPr/>
            <p:nvPr/>
          </p:nvSpPr>
          <p:spPr>
            <a:xfrm>
              <a:off x="289548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4120920" y="2782800"/>
              <a:ext cx="114480" cy="1332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V="1">
              <a:off x="30225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V="1">
              <a:off x="3308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 flipV="1">
              <a:off x="36129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 flipV="1">
              <a:off x="39178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225680" y="2859120"/>
              <a:ext cx="346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3012840" y="183348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 flipV="1" rot="16200000">
              <a:off x="3318120" y="330552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89548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 flipV="1">
              <a:off x="3047760" y="1868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 flipV="1">
              <a:off x="3352680" y="15634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 flipV="1">
              <a:off x="3657600" y="133452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 flipV="1">
              <a:off x="3962160" y="11062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3314520" y="152712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3620880" y="129672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922560" y="106992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5" name=""/>
          <p:cNvSpPr/>
          <p:nvPr/>
        </p:nvSpPr>
        <p:spPr>
          <a:xfrm>
            <a:off x="873000" y="2490840"/>
            <a:ext cx="1219320" cy="743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2098800" y="2779560"/>
            <a:ext cx="114120" cy="1335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 flipV="1">
            <a:off x="1000080" y="321804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 flipV="1">
            <a:off x="1285920" y="321804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 flipV="1">
            <a:off x="1590840" y="321804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 flipV="1">
            <a:off x="1895400" y="321804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2203560" y="2855880"/>
            <a:ext cx="3045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990720" y="1830240"/>
            <a:ext cx="56880" cy="57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 flipV="1" rot="16200000">
            <a:off x="1295640" y="3302640"/>
            <a:ext cx="317520" cy="995400"/>
          </a:xfrm>
          <a:custGeom>
            <a:avLst/>
            <a:gdLst>
              <a:gd name="textAreaLeft" fmla="*/ 203040 w 317520"/>
              <a:gd name="textAreaRight" fmla="*/ 317520 w 317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>
            <a:off x="873000" y="262728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态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 flipV="1">
            <a:off x="1025640" y="18651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 flipV="1">
            <a:off x="1330200" y="1560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 flipV="1">
            <a:off x="1635120" y="13316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 flipV="1">
            <a:off x="1940040" y="11034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1292400" y="1523880"/>
            <a:ext cx="56880" cy="57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1598760" y="1293840"/>
            <a:ext cx="56880" cy="57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1900080" y="1066680"/>
            <a:ext cx="57240" cy="57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2" name=""/>
              <p:cNvSpPr txBox="1"/>
              <p:nvPr/>
            </p:nvSpPr>
            <p:spPr>
              <a:xfrm>
                <a:off x="2832120" y="44593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3" name=""/>
              <p:cNvSpPr txBox="1"/>
              <p:nvPr/>
            </p:nvSpPr>
            <p:spPr>
              <a:xfrm>
                <a:off x="3505320" y="44197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4" name=""/>
              <p:cNvSpPr txBox="1"/>
              <p:nvPr/>
            </p:nvSpPr>
            <p:spPr>
              <a:xfrm>
                <a:off x="4205160" y="4459320"/>
                <a:ext cx="428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25" name=""/>
          <p:cNvGrpSpPr/>
          <p:nvPr/>
        </p:nvGrpSpPr>
        <p:grpSpPr>
          <a:xfrm>
            <a:off x="4952880" y="1066680"/>
            <a:ext cx="1676520" cy="2892240"/>
            <a:chOff x="4952880" y="1066680"/>
            <a:chExt cx="1676520" cy="2892240"/>
          </a:xfrm>
        </p:grpSpPr>
        <p:sp>
          <p:nvSpPr>
            <p:cNvPr id="7226" name=""/>
            <p:cNvSpPr/>
            <p:nvPr/>
          </p:nvSpPr>
          <p:spPr>
            <a:xfrm>
              <a:off x="4952880" y="245880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6178320" y="2779560"/>
              <a:ext cx="114480" cy="1332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 flipV="1">
              <a:off x="5079960" y="321768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 flipV="1">
              <a:off x="5365800" y="321768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V="1">
              <a:off x="5670360" y="321768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 flipV="1">
              <a:off x="5975280" y="321768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6283080" y="2855880"/>
              <a:ext cx="346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070240" y="183024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 rot="16200000">
              <a:off x="5375520" y="33022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95288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 flipV="1">
              <a:off x="5105160" y="18648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 flipV="1">
              <a:off x="5410080" y="15602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5715000" y="1331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 flipV="1">
              <a:off x="6019560" y="11030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371920" y="152388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5678280" y="129348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979960" y="1066680"/>
              <a:ext cx="57240" cy="57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43" name=""/>
              <p:cNvSpPr txBox="1"/>
              <p:nvPr/>
            </p:nvSpPr>
            <p:spPr>
              <a:xfrm>
                <a:off x="4800600" y="44197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4" name=""/>
              <p:cNvSpPr txBox="1"/>
              <p:nvPr/>
            </p:nvSpPr>
            <p:spPr>
              <a:xfrm>
                <a:off x="6566040" y="5197320"/>
                <a:ext cx="44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45" name=""/>
          <p:cNvSpPr/>
          <p:nvPr/>
        </p:nvSpPr>
        <p:spPr>
          <a:xfrm>
            <a:off x="6553080" y="624600"/>
            <a:ext cx="1981440" cy="561600"/>
          </a:xfrm>
          <a:prstGeom prst="wedgeRoundRectCallout">
            <a:avLst>
              <a:gd name="adj1" fmla="val 152"/>
              <a:gd name="adj2" fmla="val 21777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  <a:ea typeface="楷体_GB2312"/>
              </a:rPr>
              <a:t>脱离总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6" name=""/>
          <p:cNvGrpSpPr/>
          <p:nvPr/>
        </p:nvGrpSpPr>
        <p:grpSpPr>
          <a:xfrm>
            <a:off x="1066680" y="1295280"/>
            <a:ext cx="800280" cy="1390680"/>
            <a:chOff x="1066680" y="1295280"/>
            <a:chExt cx="800280" cy="1390680"/>
          </a:xfrm>
        </p:grpSpPr>
        <p:sp>
          <p:nvSpPr>
            <p:cNvPr id="7247" name=""/>
            <p:cNvSpPr/>
            <p:nvPr/>
          </p:nvSpPr>
          <p:spPr>
            <a:xfrm>
              <a:off x="1066680" y="1295280"/>
              <a:ext cx="800280" cy="1047960"/>
            </a:xfrm>
            <a:prstGeom prst="upArrow">
              <a:avLst>
                <a:gd name="adj1" fmla="val 50000"/>
                <a:gd name="adj2" fmla="val 32737"/>
              </a:avLst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1141920" y="1447920"/>
              <a:ext cx="66780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"/>
                  <a:ea typeface="楷体_GB2312"/>
                </a:rPr>
                <a:t>数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9" name=""/>
          <p:cNvSpPr/>
          <p:nvPr/>
        </p:nvSpPr>
        <p:spPr>
          <a:xfrm>
            <a:off x="5791320" y="4353840"/>
            <a:ext cx="1981080" cy="561600"/>
          </a:xfrm>
          <a:prstGeom prst="wedgeRoundRectCallout">
            <a:avLst>
              <a:gd name="adj1" fmla="val -66824"/>
              <a:gd name="adj2" fmla="val -695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全为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3505320" y="4343400"/>
            <a:ext cx="1904760" cy="5335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62485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2" name=""/>
          <p:cNvGrpSpPr/>
          <p:nvPr/>
        </p:nvGrpSpPr>
        <p:grpSpPr>
          <a:xfrm>
            <a:off x="229680" y="990720"/>
            <a:ext cx="8492040" cy="5068800"/>
            <a:chOff x="229680" y="990720"/>
            <a:chExt cx="8492040" cy="5068800"/>
          </a:xfrm>
        </p:grpSpPr>
        <p:sp>
          <p:nvSpPr>
            <p:cNvPr id="7253" name=""/>
            <p:cNvSpPr/>
            <p:nvPr/>
          </p:nvSpPr>
          <p:spPr>
            <a:xfrm>
              <a:off x="229680" y="990720"/>
              <a:ext cx="606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762120" y="1106640"/>
              <a:ext cx="7154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762120" y="1335240"/>
              <a:ext cx="6858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762120" y="1868400"/>
              <a:ext cx="6248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819520" y="4998960"/>
              <a:ext cx="2970000" cy="98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5818320" y="56340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5791320" y="514512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791320" y="545004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5948280" y="5707080"/>
              <a:ext cx="30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237360" y="5692680"/>
              <a:ext cx="1116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019920" y="605952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38862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4594320" y="48402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181480" y="484812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5146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257800" y="4459320"/>
              <a:ext cx="0" cy="380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8381880" y="2859120"/>
              <a:ext cx="0" cy="1600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5257800" y="4459320"/>
              <a:ext cx="3124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45720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3956040" y="414828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962520" y="4154400"/>
              <a:ext cx="6094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4648320" y="4306680"/>
              <a:ext cx="0" cy="533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648320" y="4307040"/>
              <a:ext cx="1981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6629400" y="2859120"/>
              <a:ext cx="0" cy="1436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77" name=""/>
                <p:cNvSpPr txBox="1"/>
                <p:nvPr/>
              </p:nvSpPr>
              <p:spPr>
                <a:xfrm>
                  <a:off x="6545160" y="4840200"/>
                  <a:ext cx="473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78" name=""/>
                <p:cNvSpPr txBox="1"/>
                <p:nvPr/>
              </p:nvSpPr>
              <p:spPr>
                <a:xfrm>
                  <a:off x="6292800" y="5526000"/>
                  <a:ext cx="379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S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7279" name=""/>
            <p:cNvSpPr/>
            <p:nvPr/>
          </p:nvSpPr>
          <p:spPr>
            <a:xfrm>
              <a:off x="3124080" y="5221440"/>
              <a:ext cx="25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2-4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线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119052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322596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289480" y="3814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7237440" y="379080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514600" y="4154400"/>
              <a:ext cx="7621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 flipV="1">
              <a:off x="3276720" y="415440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2004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685800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8083440" y="2782800"/>
              <a:ext cx="11448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 flipV="1">
              <a:off x="69850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 flipV="1">
              <a:off x="72709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 flipV="1">
              <a:off x="75754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 flipV="1">
              <a:off x="7880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8188200" y="2859120"/>
              <a:ext cx="193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flipV="1" rot="16200000">
              <a:off x="728064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685800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 flipV="1">
              <a:off x="701028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 flipV="1">
              <a:off x="731520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V="1">
              <a:off x="762012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 flipV="1">
              <a:off x="792468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762120" y="1563840"/>
              <a:ext cx="65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89548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4121280" y="278280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 flipV="1">
              <a:off x="30225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 flipV="1">
              <a:off x="3308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 flipV="1">
              <a:off x="36133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 flipV="1">
              <a:off x="39178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4226040" y="285912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 flipV="1" rot="16200000">
              <a:off x="331812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89548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 flipV="1">
              <a:off x="304812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V="1">
              <a:off x="335268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 flipV="1">
              <a:off x="365760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 flipV="1">
              <a:off x="396252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873000" y="24908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209880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10000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 flipV="1">
              <a:off x="12859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 flipV="1">
              <a:off x="159084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 flipV="1">
              <a:off x="18954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203560" y="285588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 flipV="1" rot="16200000">
              <a:off x="129564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87300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V="1">
              <a:off x="102564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V="1">
              <a:off x="133020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V="1">
              <a:off x="163512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V="1">
              <a:off x="194004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27" name=""/>
                <p:cNvSpPr txBox="1"/>
                <p:nvPr/>
              </p:nvSpPr>
              <p:spPr>
                <a:xfrm>
                  <a:off x="2832120" y="44593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28" name=""/>
                <p:cNvSpPr txBox="1"/>
                <p:nvPr/>
              </p:nvSpPr>
              <p:spPr>
                <a:xfrm>
                  <a:off x="3505320" y="44197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29" name=""/>
                <p:cNvSpPr txBox="1"/>
                <p:nvPr/>
              </p:nvSpPr>
              <p:spPr>
                <a:xfrm>
                  <a:off x="4205160" y="4459320"/>
                  <a:ext cx="4287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330" name=""/>
            <p:cNvSpPr/>
            <p:nvPr/>
          </p:nvSpPr>
          <p:spPr>
            <a:xfrm>
              <a:off x="4952880" y="2459160"/>
              <a:ext cx="1219320" cy="7426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617868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flipV="1">
              <a:off x="507996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flipV="1">
              <a:off x="53658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flipV="1">
              <a:off x="56707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V="1">
              <a:off x="59752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6283440" y="285588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V="1" rot="16200000">
              <a:off x="537552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495288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V="1">
              <a:off x="510552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 flipV="1">
              <a:off x="541008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V="1">
              <a:off x="571500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V="1">
              <a:off x="601992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3" name=""/>
                <p:cNvSpPr txBox="1"/>
                <p:nvPr/>
              </p:nvSpPr>
              <p:spPr>
                <a:xfrm>
                  <a:off x="762120" y="4789440"/>
                  <a:ext cx="1904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44" name=""/>
            <p:cNvSpPr/>
            <p:nvPr/>
          </p:nvSpPr>
          <p:spPr>
            <a:xfrm>
              <a:off x="1024920" y="523872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译码器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5" name=""/>
                <p:cNvSpPr txBox="1"/>
                <p:nvPr/>
              </p:nvSpPr>
              <p:spPr>
                <a:xfrm>
                  <a:off x="4800600" y="441972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6" name=""/>
                <p:cNvSpPr txBox="1"/>
                <p:nvPr/>
              </p:nvSpPr>
              <p:spPr>
                <a:xfrm>
                  <a:off x="6566040" y="5197320"/>
                  <a:ext cx="447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7" name=""/>
                <p:cNvSpPr txBox="1"/>
                <p:nvPr/>
              </p:nvSpPr>
              <p:spPr>
                <a:xfrm>
                  <a:off x="2079720" y="2359080"/>
                  <a:ext cx="5112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8" name=""/>
                <p:cNvSpPr txBox="1"/>
                <p:nvPr/>
              </p:nvSpPr>
              <p:spPr>
                <a:xfrm>
                  <a:off x="4165560" y="2325600"/>
                  <a:ext cx="5032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9" name=""/>
                <p:cNvSpPr txBox="1"/>
                <p:nvPr/>
              </p:nvSpPr>
              <p:spPr>
                <a:xfrm>
                  <a:off x="6221520" y="2325600"/>
                  <a:ext cx="504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50" name=""/>
                <p:cNvSpPr txBox="1"/>
                <p:nvPr/>
              </p:nvSpPr>
              <p:spPr>
                <a:xfrm>
                  <a:off x="8202600" y="2306520"/>
                  <a:ext cx="5191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E</m:t>
                              </m:r>
                            </m:e>
                          </m:ba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51" name=""/>
          <p:cNvSpPr/>
          <p:nvPr/>
        </p:nvSpPr>
        <p:spPr>
          <a:xfrm>
            <a:off x="533520" y="45720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工作原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2" name=""/>
          <p:cNvGrpSpPr/>
          <p:nvPr/>
        </p:nvGrpSpPr>
        <p:grpSpPr>
          <a:xfrm>
            <a:off x="6923520" y="4800600"/>
            <a:ext cx="383400" cy="1020240"/>
            <a:chOff x="6923520" y="4800600"/>
            <a:chExt cx="383400" cy="1020240"/>
          </a:xfrm>
        </p:grpSpPr>
        <p:sp>
          <p:nvSpPr>
            <p:cNvPr id="7353" name=""/>
            <p:cNvSpPr/>
            <p:nvPr/>
          </p:nvSpPr>
          <p:spPr>
            <a:xfrm>
              <a:off x="6923520" y="48006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6923520" y="52578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5" name=""/>
          <p:cNvGrpSpPr/>
          <p:nvPr/>
        </p:nvGrpSpPr>
        <p:grpSpPr>
          <a:xfrm>
            <a:off x="2819520" y="1905120"/>
            <a:ext cx="5257440" cy="456840"/>
            <a:chOff x="2819520" y="1905120"/>
            <a:chExt cx="5257440" cy="456840"/>
          </a:xfrm>
        </p:grpSpPr>
        <p:sp>
          <p:nvSpPr>
            <p:cNvPr id="7356" name=""/>
            <p:cNvSpPr/>
            <p:nvPr/>
          </p:nvSpPr>
          <p:spPr>
            <a:xfrm>
              <a:off x="2819520" y="190512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54600" y="19220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663600" y="19724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2819520" y="4038480"/>
            <a:ext cx="38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6553080" y="624600"/>
            <a:ext cx="1981440" cy="561600"/>
          </a:xfrm>
          <a:prstGeom prst="wedgeRoundRectCallout">
            <a:avLst>
              <a:gd name="adj1" fmla="val 152"/>
              <a:gd name="adj2" fmla="val 21777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  <a:ea typeface="楷体_GB2312"/>
              </a:rPr>
              <a:t>脱离总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1" name=""/>
          <p:cNvGrpSpPr/>
          <p:nvPr/>
        </p:nvGrpSpPr>
        <p:grpSpPr>
          <a:xfrm>
            <a:off x="1066680" y="1295280"/>
            <a:ext cx="800280" cy="1390680"/>
            <a:chOff x="1066680" y="1295280"/>
            <a:chExt cx="800280" cy="1390680"/>
          </a:xfrm>
        </p:grpSpPr>
        <p:sp>
          <p:nvSpPr>
            <p:cNvPr id="7362" name=""/>
            <p:cNvSpPr/>
            <p:nvPr/>
          </p:nvSpPr>
          <p:spPr>
            <a:xfrm>
              <a:off x="1066680" y="1295280"/>
              <a:ext cx="800280" cy="1047960"/>
            </a:xfrm>
            <a:prstGeom prst="upArrow">
              <a:avLst>
                <a:gd name="adj1" fmla="val 50000"/>
                <a:gd name="adj2" fmla="val 32737"/>
              </a:avLst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1141920" y="1447920"/>
              <a:ext cx="66780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"/>
                  <a:ea typeface="楷体_GB2312"/>
                </a:rPr>
                <a:t>数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4" name=""/>
          <p:cNvSpPr/>
          <p:nvPr/>
        </p:nvSpPr>
        <p:spPr>
          <a:xfrm>
            <a:off x="5791320" y="4353840"/>
            <a:ext cx="1981080" cy="561600"/>
          </a:xfrm>
          <a:prstGeom prst="wedgeRoundRectCallout">
            <a:avLst>
              <a:gd name="adj1" fmla="val -66824"/>
              <a:gd name="adj2" fmla="val -695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全为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3505320" y="4343400"/>
            <a:ext cx="1904760" cy="5335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837720" y="838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非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876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关系是否定或相反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007720" y="3962520"/>
            <a:ext cx="2792880" cy="581400"/>
            <a:chOff x="2007720" y="3962520"/>
            <a:chExt cx="2792880" cy="581400"/>
          </a:xfrm>
        </p:grpSpPr>
        <p:sp>
          <p:nvSpPr>
            <p:cNvPr id="523" name=""/>
            <p:cNvSpPr/>
            <p:nvPr/>
          </p:nvSpPr>
          <p:spPr>
            <a:xfrm>
              <a:off x="2007720" y="3962520"/>
              <a:ext cx="247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表达式：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Y 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0" y="4038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334120" y="1599480"/>
            <a:ext cx="2286000" cy="2104920"/>
            <a:chOff x="5334120" y="1599480"/>
            <a:chExt cx="2286000" cy="2104920"/>
          </a:xfrm>
        </p:grpSpPr>
        <p:sp>
          <p:nvSpPr>
            <p:cNvPr id="526" name=""/>
            <p:cNvSpPr/>
            <p:nvPr/>
          </p:nvSpPr>
          <p:spPr>
            <a:xfrm>
              <a:off x="6087240" y="1599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31480" y="3183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3280" y="3183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93280" y="268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34120" y="22096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34120" y="2743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37018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37160" y="220968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57040" y="22550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10560" y="2255040"/>
              <a:ext cx="29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1480" y="2712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621240" y="23853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57440" y="24422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183348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1833480"/>
            <a:ext cx="14842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2367000"/>
            <a:ext cx="573120" cy="5745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59320" y="18525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2209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1792440"/>
            <a:ext cx="7632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38240" y="3433680"/>
            <a:ext cx="763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183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052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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59320" y="2959200"/>
            <a:ext cx="0" cy="52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1833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22860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05320" y="2671920"/>
            <a:ext cx="0" cy="7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90920" y="1752480"/>
            <a:ext cx="380880" cy="152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17800" y="3470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18334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295800" y="2286000"/>
            <a:ext cx="1504800" cy="685800"/>
            <a:chOff x="3295800" y="2286000"/>
            <a:chExt cx="1504800" cy="685800"/>
          </a:xfrm>
        </p:grpSpPr>
        <p:sp>
          <p:nvSpPr>
            <p:cNvPr id="556" name=""/>
            <p:cNvSpPr/>
            <p:nvPr/>
          </p:nvSpPr>
          <p:spPr>
            <a:xfrm flipV="1">
              <a:off x="3295800" y="2286000"/>
              <a:ext cx="2854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91120" y="2362320"/>
              <a:ext cx="609480" cy="6094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468600" y="2590920"/>
            <a:ext cx="7632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22860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6" name=""/>
          <p:cNvGrpSpPr/>
          <p:nvPr/>
        </p:nvGrpSpPr>
        <p:grpSpPr>
          <a:xfrm>
            <a:off x="609480" y="777960"/>
            <a:ext cx="8036280" cy="4404600"/>
            <a:chOff x="609480" y="777960"/>
            <a:chExt cx="8036280" cy="4404600"/>
          </a:xfrm>
        </p:grpSpPr>
        <p:sp>
          <p:nvSpPr>
            <p:cNvPr id="7367" name=""/>
            <p:cNvSpPr/>
            <p:nvPr/>
          </p:nvSpPr>
          <p:spPr>
            <a:xfrm>
              <a:off x="3339000" y="4375080"/>
              <a:ext cx="236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CT74LS139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型译码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029400" y="4816440"/>
              <a:ext cx="29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外引线排列图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逻辑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1836360" y="4130640"/>
              <a:ext cx="29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0" name=""/>
            <p:cNvGrpSpPr/>
            <p:nvPr/>
          </p:nvGrpSpPr>
          <p:grpSpPr>
            <a:xfrm>
              <a:off x="609480" y="777960"/>
              <a:ext cx="2910960" cy="3338280"/>
              <a:chOff x="609480" y="777960"/>
              <a:chExt cx="2910960" cy="3338280"/>
            </a:xfrm>
          </p:grpSpPr>
          <p:grpSp>
            <p:nvGrpSpPr>
              <p:cNvPr id="7371" name=""/>
              <p:cNvGrpSpPr/>
              <p:nvPr/>
            </p:nvGrpSpPr>
            <p:grpSpPr>
              <a:xfrm>
                <a:off x="609480" y="862200"/>
                <a:ext cx="677520" cy="3241080"/>
                <a:chOff x="609480" y="862200"/>
                <a:chExt cx="677520" cy="3241080"/>
              </a:xfrm>
            </p:grpSpPr>
            <p:sp>
              <p:nvSpPr>
                <p:cNvPr id="7372" name=""/>
                <p:cNvSpPr/>
                <p:nvPr/>
              </p:nvSpPr>
              <p:spPr>
                <a:xfrm>
                  <a:off x="609480" y="3737160"/>
                  <a:ext cx="677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3" name=""/>
                <p:cNvSpPr/>
                <p:nvPr/>
              </p:nvSpPr>
              <p:spPr>
                <a:xfrm>
                  <a:off x="664200" y="335304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4" name=""/>
                <p:cNvSpPr/>
                <p:nvPr/>
              </p:nvSpPr>
              <p:spPr>
                <a:xfrm>
                  <a:off x="664200" y="293256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5" name=""/>
                <p:cNvSpPr/>
                <p:nvPr/>
              </p:nvSpPr>
              <p:spPr>
                <a:xfrm>
                  <a:off x="664200" y="252576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>
                  <a:off x="664200" y="211104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7" name=""/>
                <p:cNvSpPr/>
                <p:nvPr/>
              </p:nvSpPr>
              <p:spPr>
                <a:xfrm>
                  <a:off x="664920" y="1692000"/>
                  <a:ext cx="44424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8" name=""/>
                <p:cNvSpPr/>
                <p:nvPr/>
              </p:nvSpPr>
              <p:spPr>
                <a:xfrm>
                  <a:off x="664920" y="1278000"/>
                  <a:ext cx="44424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9" name=""/>
                <p:cNvSpPr/>
                <p:nvPr/>
              </p:nvSpPr>
              <p:spPr>
                <a:xfrm>
                  <a:off x="658440" y="862200"/>
                  <a:ext cx="32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0" name=""/>
              <p:cNvGrpSpPr/>
              <p:nvPr/>
            </p:nvGrpSpPr>
            <p:grpSpPr>
              <a:xfrm>
                <a:off x="1562400" y="842760"/>
                <a:ext cx="140040" cy="3204360"/>
                <a:chOff x="1562400" y="842760"/>
                <a:chExt cx="140040" cy="3204360"/>
              </a:xfrm>
            </p:grpSpPr>
            <p:sp>
              <p:nvSpPr>
                <p:cNvPr id="7381" name=""/>
                <p:cNvSpPr/>
                <p:nvPr/>
              </p:nvSpPr>
              <p:spPr>
                <a:xfrm>
                  <a:off x="1573560" y="37418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2" name=""/>
                <p:cNvSpPr/>
                <p:nvPr/>
              </p:nvSpPr>
              <p:spPr>
                <a:xfrm>
                  <a:off x="1569600" y="33303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3" name=""/>
                <p:cNvSpPr/>
                <p:nvPr/>
              </p:nvSpPr>
              <p:spPr>
                <a:xfrm>
                  <a:off x="1573560" y="29098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>
                  <a:off x="1569600" y="25034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>
                  <a:off x="1573560" y="2091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6" name=""/>
                <p:cNvSpPr/>
                <p:nvPr/>
              </p:nvSpPr>
              <p:spPr>
                <a:xfrm>
                  <a:off x="1569600" y="16700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7" name=""/>
                <p:cNvSpPr/>
                <p:nvPr/>
              </p:nvSpPr>
              <p:spPr>
                <a:xfrm>
                  <a:off x="1569600" y="12553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>
                  <a:off x="1562400" y="8427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9" name=""/>
              <p:cNvSpPr/>
              <p:nvPr/>
            </p:nvSpPr>
            <p:spPr>
              <a:xfrm>
                <a:off x="2863440" y="331704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928240" y="369972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869560" y="289512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862000" y="248940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869560" y="207540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862000" y="165636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939760" y="124200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870280" y="825840"/>
                <a:ext cx="650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240280" y="33350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25240" y="37450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247840" y="8589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243160" y="126000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37040" y="16743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43160" y="20962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43160" y="25077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47840" y="29131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rot="5400000">
                <a:off x="1222560" y="2361240"/>
                <a:ext cx="1556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T74LS13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1492560" y="777960"/>
                <a:ext cx="1074600" cy="3327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1275480" y="38023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1275480" y="33937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1275480" y="2971800"/>
                <a:ext cx="216720" cy="20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1275480" y="2568240"/>
                <a:ext cx="216720" cy="204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1275480" y="2154960"/>
                <a:ext cx="216720" cy="203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1275480" y="1733400"/>
                <a:ext cx="216720" cy="203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1275480" y="131868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1275480" y="9043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567520" y="33937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567520" y="38023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567520" y="2568240"/>
                <a:ext cx="218520" cy="204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567520" y="2971800"/>
                <a:ext cx="218520" cy="20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567520" y="2154960"/>
                <a:ext cx="218520" cy="203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567520" y="1733400"/>
                <a:ext cx="218520" cy="203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567520" y="131868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567520" y="9043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3" name=""/>
            <p:cNvGrpSpPr/>
            <p:nvPr/>
          </p:nvGrpSpPr>
          <p:grpSpPr>
            <a:xfrm>
              <a:off x="833400" y="2149560"/>
              <a:ext cx="233280" cy="380880"/>
              <a:chOff x="833400" y="2149560"/>
              <a:chExt cx="233280" cy="380880"/>
            </a:xfrm>
          </p:grpSpPr>
          <p:sp>
            <p:nvSpPr>
              <p:cNvPr id="7424" name=""/>
              <p:cNvSpPr/>
              <p:nvPr/>
            </p:nvSpPr>
            <p:spPr>
              <a:xfrm>
                <a:off x="838080" y="21495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833400" y="25304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6" name=""/>
            <p:cNvSpPr/>
            <p:nvPr/>
          </p:nvSpPr>
          <p:spPr>
            <a:xfrm>
              <a:off x="3048120" y="3743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011400" y="249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8" name=""/>
            <p:cNvGrpSpPr/>
            <p:nvPr/>
          </p:nvGrpSpPr>
          <p:grpSpPr>
            <a:xfrm>
              <a:off x="838080" y="2944800"/>
              <a:ext cx="233280" cy="423360"/>
              <a:chOff x="838080" y="2944800"/>
              <a:chExt cx="233280" cy="423360"/>
            </a:xfrm>
          </p:grpSpPr>
          <p:sp>
            <p:nvSpPr>
              <p:cNvPr id="7429" name=""/>
              <p:cNvSpPr/>
              <p:nvPr/>
            </p:nvSpPr>
            <p:spPr>
              <a:xfrm>
                <a:off x="842760" y="29448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838080" y="33681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1" name=""/>
            <p:cNvGrpSpPr/>
            <p:nvPr/>
          </p:nvGrpSpPr>
          <p:grpSpPr>
            <a:xfrm>
              <a:off x="3006720" y="2911320"/>
              <a:ext cx="233280" cy="423720"/>
              <a:chOff x="3006720" y="2911320"/>
              <a:chExt cx="233280" cy="423720"/>
            </a:xfrm>
          </p:grpSpPr>
          <p:sp>
            <p:nvSpPr>
              <p:cNvPr id="7432" name=""/>
              <p:cNvSpPr/>
              <p:nvPr/>
            </p:nvSpPr>
            <p:spPr>
              <a:xfrm>
                <a:off x="3011400" y="29113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3006720" y="3335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3048120" y="12715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801720" y="890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6094080" y="41306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849200" y="1031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849200" y="2266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849200" y="349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6058800" y="2266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058800" y="349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7354800" y="10177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8370720" y="108576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7354800" y="188928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8370720" y="195912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7354800" y="27464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8370720" y="281448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7354800" y="3600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8370720" y="366552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3881520" y="934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3813480" y="211284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3807000" y="3336840"/>
              <a:ext cx="527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03760" y="981000"/>
              <a:ext cx="32688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03760" y="2219400"/>
              <a:ext cx="326880" cy="32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703760" y="3443400"/>
              <a:ext cx="32688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5913360" y="2219400"/>
              <a:ext cx="330120" cy="32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5913360" y="3443400"/>
              <a:ext cx="33012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7194600" y="987480"/>
              <a:ext cx="449280" cy="65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7643880" y="127620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7713720" y="131112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8255160" y="127620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6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8255160" y="2149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4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7643880" y="2149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4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7194600" y="1859040"/>
              <a:ext cx="449280" cy="64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7713720" y="218592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8255160" y="30067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4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7643880" y="30067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4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7194600" y="2716200"/>
              <a:ext cx="449280" cy="649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7713720" y="304308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8255160" y="385776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6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7643880" y="385776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7194600" y="3567240"/>
              <a:ext cx="449280" cy="65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7713720" y="3892680"/>
              <a:ext cx="54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6243480" y="3570120"/>
              <a:ext cx="69840" cy="684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21"/>
                  </a:moveTo>
                  <a:lnTo>
                    <a:pt x="38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8" y="37"/>
                  </a:lnTo>
                  <a:lnTo>
                    <a:pt x="45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5030640" y="35701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1"/>
                  </a:moveTo>
                  <a:lnTo>
                    <a:pt x="39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9" y="37"/>
                  </a:lnTo>
                  <a:lnTo>
                    <a:pt x="44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6243480" y="2346480"/>
              <a:ext cx="69840" cy="680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21"/>
                  </a:moveTo>
                  <a:lnTo>
                    <a:pt x="38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8" y="37"/>
                  </a:lnTo>
                  <a:lnTo>
                    <a:pt x="45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5030640" y="23464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1"/>
                  </a:moveTo>
                  <a:lnTo>
                    <a:pt x="39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9" y="37"/>
                  </a:lnTo>
                  <a:lnTo>
                    <a:pt x="44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635360" y="1090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8"/>
                  </a:lnTo>
                  <a:lnTo>
                    <a:pt x="23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 flipH="1">
              <a:off x="4242960" y="1127160"/>
              <a:ext cx="392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170240" y="1090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8"/>
                  </a:lnTo>
                  <a:lnTo>
                    <a:pt x="23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 flipH="1">
              <a:off x="4238640" y="2381400"/>
              <a:ext cx="465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165560" y="234648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 flipH="1">
              <a:off x="4238640" y="3605040"/>
              <a:ext cx="465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165560" y="357012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5100480" y="3603600"/>
              <a:ext cx="81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 flipV="1">
              <a:off x="5697360" y="1278000"/>
              <a:ext cx="1800" cy="23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5697360" y="1278000"/>
              <a:ext cx="1497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 flipH="1">
              <a:off x="5467320" y="1104840"/>
              <a:ext cx="1727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5467320" y="1104840"/>
              <a:ext cx="144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5467320" y="2967120"/>
              <a:ext cx="1727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 flipH="1">
              <a:off x="6965640" y="153360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6966000" y="1533600"/>
              <a:ext cx="1440" cy="21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6966000" y="368316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 flipH="1">
              <a:off x="6516360" y="4103640"/>
              <a:ext cx="677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6516720" y="3213000"/>
              <a:ext cx="1440" cy="89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6516720" y="3213000"/>
              <a:ext cx="677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H="1">
              <a:off x="6745320" y="3892680"/>
              <a:ext cx="449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 flipV="1">
              <a:off x="6745320" y="2377800"/>
              <a:ext cx="1440" cy="15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6313320" y="2378160"/>
              <a:ext cx="8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 flipH="1" flipV="1">
              <a:off x="5100480" y="2377800"/>
              <a:ext cx="8128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5030640" y="1146240"/>
              <a:ext cx="217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5248440" y="1146240"/>
              <a:ext cx="1440" cy="78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248440" y="1928880"/>
              <a:ext cx="19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 flipH="1">
              <a:off x="5697000" y="2097000"/>
              <a:ext cx="1497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6966000" y="19000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6966000" y="19000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6966000" y="18892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6966000" y="18892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6939000" y="18892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0" y="7"/>
                  </a:lnTo>
                  <a:lnTo>
                    <a:pt x="18" y="2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6939000" y="18892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0" y="7"/>
                  </a:lnTo>
                  <a:lnTo>
                    <a:pt x="18" y="25"/>
                  </a:lnTo>
                  <a:lnTo>
                    <a:pt x="1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6927840" y="1900080"/>
              <a:ext cx="3816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7" y="0"/>
                  </a:moveTo>
                  <a:lnTo>
                    <a:pt x="0" y="18"/>
                  </a:lnTo>
                  <a:lnTo>
                    <a:pt x="25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6927840" y="1900080"/>
              <a:ext cx="3816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7" y="0"/>
                  </a:moveTo>
                  <a:lnTo>
                    <a:pt x="0" y="18"/>
                  </a:lnTo>
                  <a:lnTo>
                    <a:pt x="25" y="18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6927840" y="1928880"/>
              <a:ext cx="381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7" y="18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6927840" y="1928880"/>
              <a:ext cx="381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7" y="18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6939000" y="19288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18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6939000" y="19288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18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6966000" y="19288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18" y="18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6966000" y="19288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18" y="18"/>
                  </a:lnTo>
                  <a:lnTo>
                    <a:pt x="0" y="0"/>
                  </a:lnTo>
                  <a:lnTo>
                    <a:pt x="0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6966000" y="192888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8" y="18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6966000" y="192888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8" y="18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5467320" y="2354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5467320" y="2354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5467320" y="2343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5467320" y="2343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5440320" y="2343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0" y="7"/>
                  </a:lnTo>
                  <a:lnTo>
                    <a:pt x="17" y="2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5440320" y="2343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0" y="7"/>
                  </a:lnTo>
                  <a:lnTo>
                    <a:pt x="17" y="25"/>
                  </a:lnTo>
                  <a:lnTo>
                    <a:pt x="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5429160" y="2354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7" y="0"/>
                  </a:moveTo>
                  <a:lnTo>
                    <a:pt x="0" y="18"/>
                  </a:lnTo>
                  <a:lnTo>
                    <a:pt x="24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5429160" y="2354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7" y="0"/>
                  </a:moveTo>
                  <a:lnTo>
                    <a:pt x="0" y="18"/>
                  </a:lnTo>
                  <a:lnTo>
                    <a:pt x="24" y="18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5429160" y="238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5429160" y="238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5440320" y="23814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40320" y="23814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67320" y="238140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7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67320" y="238140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7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67320" y="2381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67320" y="2381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6324480" y="3597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8381880" y="108252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8381880" y="1981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8381880" y="281952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8381880" y="367344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3849840" y="981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3" name=""/>
          <p:cNvSpPr/>
          <p:nvPr/>
        </p:nvSpPr>
        <p:spPr>
          <a:xfrm>
            <a:off x="914400" y="510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双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/4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线译码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5486400" y="50752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是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5" name=""/>
          <p:cNvGrpSpPr/>
          <p:nvPr/>
        </p:nvGrpSpPr>
        <p:grpSpPr>
          <a:xfrm>
            <a:off x="762120" y="5608440"/>
            <a:ext cx="2819160" cy="579600"/>
            <a:chOff x="762120" y="5608440"/>
            <a:chExt cx="2819160" cy="579600"/>
          </a:xfrm>
        </p:grpSpPr>
        <p:sp>
          <p:nvSpPr>
            <p:cNvPr id="7546" name=""/>
            <p:cNvSpPr/>
            <p:nvPr/>
          </p:nvSpPr>
          <p:spPr>
            <a:xfrm>
              <a:off x="762120" y="5608440"/>
              <a:ext cx="2819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~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是输出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990720" y="5714640"/>
              <a:ext cx="24444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1523880" y="5714640"/>
              <a:ext cx="24444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9" name=""/>
          <p:cNvGrpSpPr/>
          <p:nvPr/>
        </p:nvGrpSpPr>
        <p:grpSpPr>
          <a:xfrm>
            <a:off x="5105520" y="5652360"/>
            <a:ext cx="2286000" cy="520560"/>
            <a:chOff x="5105520" y="5652360"/>
            <a:chExt cx="2286000" cy="520560"/>
          </a:xfrm>
        </p:grpSpPr>
        <p:sp>
          <p:nvSpPr>
            <p:cNvPr id="7550" name=""/>
            <p:cNvSpPr/>
            <p:nvPr/>
          </p:nvSpPr>
          <p:spPr>
            <a:xfrm>
              <a:off x="5105520" y="56523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  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"/>
                </a:rPr>
                <a:t>S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是使能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562720" y="57672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2" name=""/>
          <p:cNvGrpSpPr/>
          <p:nvPr/>
        </p:nvGrpSpPr>
        <p:grpSpPr>
          <a:xfrm>
            <a:off x="685800" y="1295280"/>
            <a:ext cx="4316400" cy="4245120"/>
            <a:chOff x="685800" y="1295280"/>
            <a:chExt cx="4316400" cy="4245120"/>
          </a:xfrm>
        </p:grpSpPr>
        <p:sp>
          <p:nvSpPr>
            <p:cNvPr id="7553" name=""/>
            <p:cNvSpPr/>
            <p:nvPr/>
          </p:nvSpPr>
          <p:spPr>
            <a:xfrm>
              <a:off x="735120" y="1930320"/>
              <a:ext cx="4186080" cy="14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735120" y="2463840"/>
              <a:ext cx="4200480" cy="284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735120" y="5511600"/>
              <a:ext cx="4114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735120" y="1958760"/>
              <a:ext cx="0" cy="3581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735120" y="2997000"/>
              <a:ext cx="4186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2563920" y="1958760"/>
              <a:ext cx="0" cy="3581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685800" y="195876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2135160" y="1930320"/>
              <a:ext cx="28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970920" y="2463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963720" y="2539800"/>
              <a:ext cx="3049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1878120" y="246384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1431360" y="2463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252320" y="25066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952920" y="2997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4330800" y="301932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952920" y="3454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1486440" y="3454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019960" y="3454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952920" y="3911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1486440" y="3911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2019960" y="3911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1486440" y="436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019960" y="436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952920" y="436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1486440" y="48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2019960" y="48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952920" y="48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4316400" y="49021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4305960" y="4444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4305960" y="398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4305960" y="3530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1939320" y="129528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139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26240" y="1958760"/>
              <a:ext cx="0" cy="3581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1455840" y="2943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1914480" y="29494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316400" y="2568600"/>
              <a:ext cx="3049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3719160" y="24922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3783240" y="2554200"/>
              <a:ext cx="30456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3173400" y="250668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3249720" y="2568600"/>
              <a:ext cx="304920" cy="144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2700000" y="24922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2764080" y="2554200"/>
              <a:ext cx="30456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3772440" y="30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3783240" y="485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772440" y="43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772440" y="394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772440" y="348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315240" y="30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326040" y="485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3315240" y="43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3315240" y="394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3315240" y="348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2781720" y="3039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2792520" y="486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2781720" y="441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2781720" y="3954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2781720" y="3497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0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CT74LS139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型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1" name=""/>
          <p:cNvGrpSpPr/>
          <p:nvPr/>
        </p:nvGrpSpPr>
        <p:grpSpPr>
          <a:xfrm>
            <a:off x="5181480" y="1980360"/>
            <a:ext cx="3353040" cy="3492360"/>
            <a:chOff x="5181480" y="1980360"/>
            <a:chExt cx="3353040" cy="3492360"/>
          </a:xfrm>
        </p:grpSpPr>
        <p:grpSp>
          <p:nvGrpSpPr>
            <p:cNvPr id="7612" name=""/>
            <p:cNvGrpSpPr/>
            <p:nvPr/>
          </p:nvGrpSpPr>
          <p:grpSpPr>
            <a:xfrm>
              <a:off x="5181480" y="1980360"/>
              <a:ext cx="2971800" cy="2349360"/>
              <a:chOff x="5181480" y="1980360"/>
              <a:chExt cx="2971800" cy="2349360"/>
            </a:xfrm>
          </p:grpSpPr>
          <p:sp>
            <p:nvSpPr>
              <p:cNvPr id="7613" name=""/>
              <p:cNvSpPr/>
              <p:nvPr/>
            </p:nvSpPr>
            <p:spPr>
              <a:xfrm>
                <a:off x="5334120" y="198036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双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2/4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线译码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5257800" y="2484360"/>
                <a:ext cx="2895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r>
                  <a:rPr b="1" lang="zh-CN" sz="2800" spc="-1" strike="noStrike" baseline="-25000">
                    <a:solidFill>
                      <a:srgbClr val="000099"/>
                    </a:solidFill>
                    <a:latin typeface=""/>
                  </a:rPr>
                  <a:t>0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、</a:t>
                </a:r>
                <a:r>
                  <a:rPr b="1" i="1" lang="zh-CN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r>
                  <a:rPr b="1" lang="zh-CN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是输入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5" name=""/>
              <p:cNvGrpSpPr/>
              <p:nvPr/>
            </p:nvGrpSpPr>
            <p:grpSpPr>
              <a:xfrm>
                <a:off x="5181480" y="3093840"/>
                <a:ext cx="2819160" cy="579600"/>
                <a:chOff x="5181480" y="3093840"/>
                <a:chExt cx="2819160" cy="579600"/>
              </a:xfrm>
            </p:grpSpPr>
            <p:sp>
              <p:nvSpPr>
                <p:cNvPr id="7616" name=""/>
                <p:cNvSpPr/>
                <p:nvPr/>
              </p:nvSpPr>
              <p:spPr>
                <a:xfrm>
                  <a:off x="5181480" y="3093840"/>
                  <a:ext cx="28191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Y</a:t>
                  </a:r>
                  <a:r>
                    <a:rPr b="1" lang="zh-CN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~</a:t>
                  </a:r>
                  <a:r>
                    <a:rPr b="1" i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Y</a:t>
                  </a:r>
                  <a:r>
                    <a:rPr b="1" lang="zh-CN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3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是输出端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5410080" y="3200040"/>
                  <a:ext cx="244440" cy="1800"/>
                </a:xfrm>
                <a:prstGeom prst="line">
                  <a:avLst/>
                </a:prstGeom>
                <a:ln cap="sq"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5943240" y="3200040"/>
                  <a:ext cx="244440" cy="1800"/>
                </a:xfrm>
                <a:prstGeom prst="line">
                  <a:avLst/>
                </a:prstGeom>
                <a:ln cap="sq"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9" name=""/>
              <p:cNvGrpSpPr/>
              <p:nvPr/>
            </p:nvGrpSpPr>
            <p:grpSpPr>
              <a:xfrm>
                <a:off x="5334120" y="3809160"/>
                <a:ext cx="2286000" cy="520560"/>
                <a:chOff x="5334120" y="3809160"/>
                <a:chExt cx="2286000" cy="520560"/>
              </a:xfrm>
            </p:grpSpPr>
            <p:sp>
              <p:nvSpPr>
                <p:cNvPr id="7620" name=""/>
                <p:cNvSpPr/>
                <p:nvPr/>
              </p:nvSpPr>
              <p:spPr>
                <a:xfrm>
                  <a:off x="5334120" y="3809160"/>
                  <a:ext cx="2286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    </a:t>
                  </a:r>
                  <a:r>
                    <a:rPr b="1" i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S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是使能端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5791320" y="3924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22" name=""/>
            <p:cNvGrpSpPr/>
            <p:nvPr/>
          </p:nvGrpSpPr>
          <p:grpSpPr>
            <a:xfrm>
              <a:off x="5257800" y="4419000"/>
              <a:ext cx="3276720" cy="1053720"/>
              <a:chOff x="5257800" y="4419000"/>
              <a:chExt cx="3276720" cy="1053720"/>
            </a:xfrm>
          </p:grpSpPr>
          <p:sp>
            <p:nvSpPr>
              <p:cNvPr id="7623" name=""/>
              <p:cNvSpPr/>
              <p:nvPr/>
            </p:nvSpPr>
            <p:spPr>
              <a:xfrm>
                <a:off x="5257800" y="4419000"/>
                <a:ext cx="32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3300"/>
                    </a:solidFill>
                    <a:latin typeface=""/>
                  </a:rPr>
                  <a:t>S</a:t>
                </a:r>
                <a:r>
                  <a:rPr b="1" lang="zh-CN" sz="2800" spc="-1" strike="noStrike">
                    <a:solidFill>
                      <a:srgbClr val="cc3300"/>
                    </a:solidFill>
                    <a:latin typeface=""/>
                  </a:rPr>
                  <a:t> = 0</a:t>
                </a:r>
                <a:r>
                  <a:rPr b="1" lang="zh-CN" sz="2800" spc="-1" strike="noStrike">
                    <a:solidFill>
                      <a:srgbClr val="cc3300"/>
                    </a:solidFill>
                    <a:latin typeface=""/>
                  </a:rPr>
                  <a:t>时译码器工作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5257800" y="4952160"/>
                <a:ext cx="274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00"/>
                    </a:solidFill>
                    <a:latin typeface=""/>
                  </a:rPr>
                  <a:t>输出低电平有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5334120" y="4495680"/>
                <a:ext cx="2286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10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二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十进制显示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762120" y="125424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在数字电路中，常常需要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把运算结果用十进制 数显示出来，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这就要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显示译码器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8" name=""/>
          <p:cNvGrpSpPr/>
          <p:nvPr/>
        </p:nvGrpSpPr>
        <p:grpSpPr>
          <a:xfrm>
            <a:off x="1295280" y="2554200"/>
            <a:ext cx="6705360" cy="3080160"/>
            <a:chOff x="1295280" y="2554200"/>
            <a:chExt cx="6705360" cy="3080160"/>
          </a:xfrm>
        </p:grpSpPr>
        <p:sp>
          <p:nvSpPr>
            <p:cNvPr id="7629" name=""/>
            <p:cNvSpPr/>
            <p:nvPr/>
          </p:nvSpPr>
          <p:spPr>
            <a:xfrm>
              <a:off x="1295280" y="2554200"/>
              <a:ext cx="568440" cy="3080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十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1579320" y="3136320"/>
              <a:ext cx="0" cy="258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3197160" y="3311640"/>
              <a:ext cx="75060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2059200" y="3829320"/>
              <a:ext cx="1066320" cy="388080"/>
            </a:xfrm>
            <a:prstGeom prst="rightArrow">
              <a:avLst>
                <a:gd name="adj1" fmla="val 50000"/>
                <a:gd name="adj2" fmla="val 68692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5258880" y="3311640"/>
              <a:ext cx="75096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驱动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7250040" y="3311640"/>
              <a:ext cx="75060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显示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4121280" y="3829320"/>
              <a:ext cx="1066320" cy="388080"/>
            </a:xfrm>
            <a:prstGeom prst="rightArrow">
              <a:avLst>
                <a:gd name="adj1" fmla="val 50000"/>
                <a:gd name="adj2" fmla="val 68692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6112440" y="3829320"/>
              <a:ext cx="1066320" cy="388080"/>
            </a:xfrm>
            <a:prstGeom prst="rightArrow">
              <a:avLst>
                <a:gd name="adj1" fmla="val 50000"/>
                <a:gd name="adj2" fmla="val 68692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7" name=""/>
          <p:cNvGrpSpPr/>
          <p:nvPr/>
        </p:nvGrpSpPr>
        <p:grpSpPr>
          <a:xfrm>
            <a:off x="838080" y="1066680"/>
            <a:ext cx="5324760" cy="171360"/>
            <a:chOff x="838080" y="1066680"/>
            <a:chExt cx="5324760" cy="171360"/>
          </a:xfrm>
        </p:grpSpPr>
        <p:pic>
          <p:nvPicPr>
            <p:cNvPr id="7638" name="" descr=""/>
            <p:cNvPicPr/>
            <p:nvPr/>
          </p:nvPicPr>
          <p:blipFill>
            <a:blip r:embed="rId1"/>
            <a:stretch/>
          </p:blipFill>
          <p:spPr>
            <a:xfrm>
              <a:off x="1743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9" name="" descr=""/>
            <p:cNvPicPr/>
            <p:nvPr/>
          </p:nvPicPr>
          <p:blipFill>
            <a:blip r:embed="rId2"/>
            <a:stretch/>
          </p:blipFill>
          <p:spPr>
            <a:xfrm>
              <a:off x="1886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0" name="" descr=""/>
            <p:cNvPicPr/>
            <p:nvPr/>
          </p:nvPicPr>
          <p:blipFill>
            <a:blip r:embed="rId3"/>
            <a:stretch/>
          </p:blipFill>
          <p:spPr>
            <a:xfrm>
              <a:off x="2048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1" name="" descr=""/>
            <p:cNvPicPr/>
            <p:nvPr/>
          </p:nvPicPr>
          <p:blipFill>
            <a:blip r:embed="rId4"/>
            <a:stretch/>
          </p:blipFill>
          <p:spPr>
            <a:xfrm>
              <a:off x="2343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2" name="" descr=""/>
            <p:cNvPicPr/>
            <p:nvPr/>
          </p:nvPicPr>
          <p:blipFill>
            <a:blip r:embed="rId5"/>
            <a:stretch/>
          </p:blipFill>
          <p:spPr>
            <a:xfrm>
              <a:off x="2505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3" name="" descr=""/>
            <p:cNvPicPr/>
            <p:nvPr/>
          </p:nvPicPr>
          <p:blipFill>
            <a:blip r:embed="rId6"/>
            <a:stretch/>
          </p:blipFill>
          <p:spPr>
            <a:xfrm>
              <a:off x="2657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4" name="" descr=""/>
            <p:cNvPicPr/>
            <p:nvPr/>
          </p:nvPicPr>
          <p:blipFill>
            <a:blip r:embed="rId7"/>
            <a:stretch/>
          </p:blipFill>
          <p:spPr>
            <a:xfrm>
              <a:off x="2800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5" name="" descr=""/>
            <p:cNvPicPr/>
            <p:nvPr/>
          </p:nvPicPr>
          <p:blipFill>
            <a:blip r:embed="rId8"/>
            <a:stretch/>
          </p:blipFill>
          <p:spPr>
            <a:xfrm>
              <a:off x="2962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6" name="" descr=""/>
            <p:cNvPicPr/>
            <p:nvPr/>
          </p:nvPicPr>
          <p:blipFill>
            <a:blip r:embed="rId9"/>
            <a:stretch/>
          </p:blipFill>
          <p:spPr>
            <a:xfrm>
              <a:off x="3257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7" name="" descr=""/>
            <p:cNvPicPr/>
            <p:nvPr/>
          </p:nvPicPr>
          <p:blipFill>
            <a:blip r:embed="rId10"/>
            <a:stretch/>
          </p:blipFill>
          <p:spPr>
            <a:xfrm>
              <a:off x="3419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8" name="" descr=""/>
            <p:cNvPicPr/>
            <p:nvPr/>
          </p:nvPicPr>
          <p:blipFill>
            <a:blip r:embed="rId11"/>
            <a:stretch/>
          </p:blipFill>
          <p:spPr>
            <a:xfrm>
              <a:off x="3571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9" name="" descr=""/>
            <p:cNvPicPr/>
            <p:nvPr/>
          </p:nvPicPr>
          <p:blipFill>
            <a:blip r:embed="rId12"/>
            <a:stretch/>
          </p:blipFill>
          <p:spPr>
            <a:xfrm>
              <a:off x="3714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0" name="" descr=""/>
            <p:cNvPicPr/>
            <p:nvPr/>
          </p:nvPicPr>
          <p:blipFill>
            <a:blip r:embed="rId13"/>
            <a:stretch/>
          </p:blipFill>
          <p:spPr>
            <a:xfrm>
              <a:off x="2200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1" name="" descr=""/>
            <p:cNvPicPr/>
            <p:nvPr/>
          </p:nvPicPr>
          <p:blipFill>
            <a:blip r:embed="rId14"/>
            <a:stretch/>
          </p:blipFill>
          <p:spPr>
            <a:xfrm>
              <a:off x="3114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2" name="" descr=""/>
            <p:cNvPicPr/>
            <p:nvPr/>
          </p:nvPicPr>
          <p:blipFill>
            <a:blip r:embed="rId15"/>
            <a:stretch/>
          </p:blipFill>
          <p:spPr>
            <a:xfrm>
              <a:off x="3876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3" name="" descr=""/>
            <p:cNvPicPr/>
            <p:nvPr/>
          </p:nvPicPr>
          <p:blipFill>
            <a:blip r:embed="rId16"/>
            <a:stretch/>
          </p:blipFill>
          <p:spPr>
            <a:xfrm>
              <a:off x="4029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4" name="" descr=""/>
            <p:cNvPicPr/>
            <p:nvPr/>
          </p:nvPicPr>
          <p:blipFill>
            <a:blip r:embed="rId17"/>
            <a:stretch/>
          </p:blipFill>
          <p:spPr>
            <a:xfrm>
              <a:off x="4172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5" name="" descr=""/>
            <p:cNvPicPr/>
            <p:nvPr/>
          </p:nvPicPr>
          <p:blipFill>
            <a:blip r:embed="rId18"/>
            <a:stretch/>
          </p:blipFill>
          <p:spPr>
            <a:xfrm>
              <a:off x="4334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6" name="" descr=""/>
            <p:cNvPicPr/>
            <p:nvPr/>
          </p:nvPicPr>
          <p:blipFill>
            <a:blip r:embed="rId19"/>
            <a:stretch/>
          </p:blipFill>
          <p:spPr>
            <a:xfrm>
              <a:off x="4486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7" name="" descr=""/>
            <p:cNvPicPr/>
            <p:nvPr/>
          </p:nvPicPr>
          <p:blipFill>
            <a:blip r:embed="rId20"/>
            <a:stretch/>
          </p:blipFill>
          <p:spPr>
            <a:xfrm>
              <a:off x="4629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8" name="" descr=""/>
            <p:cNvPicPr/>
            <p:nvPr/>
          </p:nvPicPr>
          <p:blipFill>
            <a:blip r:embed="rId21"/>
            <a:stretch/>
          </p:blipFill>
          <p:spPr>
            <a:xfrm>
              <a:off x="4791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9" name="" descr=""/>
            <p:cNvPicPr/>
            <p:nvPr/>
          </p:nvPicPr>
          <p:blipFill>
            <a:blip r:embed="rId22"/>
            <a:stretch/>
          </p:blipFill>
          <p:spPr>
            <a:xfrm>
              <a:off x="5086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0" name="" descr=""/>
            <p:cNvPicPr/>
            <p:nvPr/>
          </p:nvPicPr>
          <p:blipFill>
            <a:blip r:embed="rId23"/>
            <a:stretch/>
          </p:blipFill>
          <p:spPr>
            <a:xfrm>
              <a:off x="5248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1" name="" descr=""/>
            <p:cNvPicPr/>
            <p:nvPr/>
          </p:nvPicPr>
          <p:blipFill>
            <a:blip r:embed="rId24"/>
            <a:stretch/>
          </p:blipFill>
          <p:spPr>
            <a:xfrm>
              <a:off x="5400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2" name="" descr=""/>
            <p:cNvPicPr/>
            <p:nvPr/>
          </p:nvPicPr>
          <p:blipFill>
            <a:blip r:embed="rId25"/>
            <a:stretch/>
          </p:blipFill>
          <p:spPr>
            <a:xfrm>
              <a:off x="5543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3" name="" descr=""/>
            <p:cNvPicPr/>
            <p:nvPr/>
          </p:nvPicPr>
          <p:blipFill>
            <a:blip r:embed="rId26"/>
            <a:stretch/>
          </p:blipFill>
          <p:spPr>
            <a:xfrm>
              <a:off x="5705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4" name="" descr=""/>
            <p:cNvPicPr/>
            <p:nvPr/>
          </p:nvPicPr>
          <p:blipFill>
            <a:blip r:embed="rId27"/>
            <a:stretch/>
          </p:blipFill>
          <p:spPr>
            <a:xfrm>
              <a:off x="6000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5" name="" descr=""/>
            <p:cNvPicPr/>
            <p:nvPr/>
          </p:nvPicPr>
          <p:blipFill>
            <a:blip r:embed="rId28"/>
            <a:stretch/>
          </p:blipFill>
          <p:spPr>
            <a:xfrm>
              <a:off x="4943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6" name="" descr=""/>
            <p:cNvPicPr/>
            <p:nvPr/>
          </p:nvPicPr>
          <p:blipFill>
            <a:blip r:embed="rId29"/>
            <a:stretch/>
          </p:blipFill>
          <p:spPr>
            <a:xfrm>
              <a:off x="5857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67" name=""/>
            <p:cNvGrpSpPr/>
            <p:nvPr/>
          </p:nvGrpSpPr>
          <p:grpSpPr>
            <a:xfrm>
              <a:off x="838080" y="1066680"/>
              <a:ext cx="923760" cy="162000"/>
              <a:chOff x="838080" y="1066680"/>
              <a:chExt cx="923760" cy="162000"/>
            </a:xfrm>
          </p:grpSpPr>
          <p:pic>
            <p:nvPicPr>
              <p:cNvPr id="766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981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6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1430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52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438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02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8380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4" name=""/>
          <p:cNvGrpSpPr/>
          <p:nvPr/>
        </p:nvGrpSpPr>
        <p:grpSpPr>
          <a:xfrm>
            <a:off x="5537880" y="914400"/>
            <a:ext cx="1637640" cy="2425680"/>
            <a:chOff x="5537880" y="914400"/>
            <a:chExt cx="1637640" cy="2425680"/>
          </a:xfrm>
        </p:grpSpPr>
        <p:grpSp>
          <p:nvGrpSpPr>
            <p:cNvPr id="7675" name=""/>
            <p:cNvGrpSpPr/>
            <p:nvPr/>
          </p:nvGrpSpPr>
          <p:grpSpPr>
            <a:xfrm>
              <a:off x="5867280" y="1422360"/>
              <a:ext cx="914400" cy="1447560"/>
              <a:chOff x="5867280" y="1422360"/>
              <a:chExt cx="914400" cy="1447560"/>
            </a:xfrm>
          </p:grpSpPr>
          <p:sp>
            <p:nvSpPr>
              <p:cNvPr id="7676" name=""/>
              <p:cNvSpPr/>
              <p:nvPr/>
            </p:nvSpPr>
            <p:spPr>
              <a:xfrm>
                <a:off x="5943240" y="1422360"/>
                <a:ext cx="7621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5943240" y="2108160"/>
                <a:ext cx="7621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5943240" y="2793960"/>
                <a:ext cx="7621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6705360" y="1498320"/>
                <a:ext cx="7632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5867280" y="2184120"/>
                <a:ext cx="7596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5867280" y="1498320"/>
                <a:ext cx="7596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6705360" y="2184120"/>
                <a:ext cx="7632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3" name=""/>
            <p:cNvSpPr/>
            <p:nvPr/>
          </p:nvSpPr>
          <p:spPr>
            <a:xfrm>
              <a:off x="6150960" y="16509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555520" y="1523880"/>
              <a:ext cx="3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5537880" y="220968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6161400" y="28195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6770520" y="218448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770880" y="14986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155280" y="9144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0" name=""/>
          <p:cNvGrpSpPr/>
          <p:nvPr/>
        </p:nvGrpSpPr>
        <p:grpSpPr>
          <a:xfrm>
            <a:off x="1204200" y="457200"/>
            <a:ext cx="6094080" cy="547560"/>
            <a:chOff x="1204200" y="457200"/>
            <a:chExt cx="6094080" cy="547560"/>
          </a:xfrm>
        </p:grpSpPr>
        <p:sp>
          <p:nvSpPr>
            <p:cNvPr id="7691" name=""/>
            <p:cNvSpPr/>
            <p:nvPr/>
          </p:nvSpPr>
          <p:spPr>
            <a:xfrm>
              <a:off x="1204200" y="457200"/>
              <a:ext cx="21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1.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半导体数码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4712760" y="484200"/>
              <a:ext cx="25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由七段发光二极管构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3" name=""/>
          <p:cNvGrpSpPr/>
          <p:nvPr/>
        </p:nvGrpSpPr>
        <p:grpSpPr>
          <a:xfrm>
            <a:off x="838080" y="990720"/>
            <a:ext cx="2142000" cy="520560"/>
            <a:chOff x="838080" y="990720"/>
            <a:chExt cx="2142000" cy="520560"/>
          </a:xfrm>
        </p:grpSpPr>
        <p:sp>
          <p:nvSpPr>
            <p:cNvPr id="7694" name=""/>
            <p:cNvSpPr/>
            <p:nvPr/>
          </p:nvSpPr>
          <p:spPr>
            <a:xfrm>
              <a:off x="838080" y="990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例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1732680" y="990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共阴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6" name=""/>
          <p:cNvGrpSpPr/>
          <p:nvPr/>
        </p:nvGrpSpPr>
        <p:grpSpPr>
          <a:xfrm>
            <a:off x="993600" y="1523880"/>
            <a:ext cx="3723120" cy="1114920"/>
            <a:chOff x="993600" y="1523880"/>
            <a:chExt cx="3723120" cy="1114920"/>
          </a:xfrm>
        </p:grpSpPr>
        <p:sp>
          <p:nvSpPr>
            <p:cNvPr id="7697" name=""/>
            <p:cNvSpPr/>
            <p:nvPr/>
          </p:nvSpPr>
          <p:spPr>
            <a:xfrm>
              <a:off x="993600" y="1523880"/>
              <a:ext cx="372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a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b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c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d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e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f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g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1007640" y="2057400"/>
              <a:ext cx="370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"/>
                </a:rPr>
                <a:t>0   1   1   0   0   0  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9" name=""/>
          <p:cNvSpPr/>
          <p:nvPr/>
        </p:nvSpPr>
        <p:spPr>
          <a:xfrm>
            <a:off x="1008000" y="251460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1   1   0   1   1   0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8305920" y="3352680"/>
            <a:ext cx="533160" cy="2653560"/>
          </a:xfrm>
          <a:prstGeom prst="rect">
            <a:avLst/>
          </a:pr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低电平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 flipH="1">
            <a:off x="227880" y="3200400"/>
            <a:ext cx="609480" cy="1373760"/>
          </a:xfrm>
          <a:prstGeom prst="rect">
            <a:avLst/>
          </a:prstGeom>
          <a:noFill/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高电平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2" name=""/>
          <p:cNvGrpSpPr/>
          <p:nvPr/>
        </p:nvGrpSpPr>
        <p:grpSpPr>
          <a:xfrm>
            <a:off x="4901760" y="3290760"/>
            <a:ext cx="3340080" cy="2806560"/>
            <a:chOff x="4901760" y="3290760"/>
            <a:chExt cx="3340080" cy="2806560"/>
          </a:xfrm>
        </p:grpSpPr>
        <p:sp>
          <p:nvSpPr>
            <p:cNvPr id="7703" name=""/>
            <p:cNvSpPr/>
            <p:nvPr/>
          </p:nvSpPr>
          <p:spPr>
            <a:xfrm>
              <a:off x="6034680" y="55767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"/>
                </a:rPr>
                <a:t>共阳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5278320" y="3976560"/>
              <a:ext cx="2754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5" name=""/>
            <p:cNvGrpSpPr/>
            <p:nvPr/>
          </p:nvGrpSpPr>
          <p:grpSpPr>
            <a:xfrm>
              <a:off x="5117760" y="3975120"/>
              <a:ext cx="482400" cy="1350720"/>
              <a:chOff x="5117760" y="3975120"/>
              <a:chExt cx="482400" cy="1350720"/>
            </a:xfrm>
          </p:grpSpPr>
          <p:sp>
            <p:nvSpPr>
              <p:cNvPr id="7706" name=""/>
              <p:cNvSpPr/>
              <p:nvPr/>
            </p:nvSpPr>
            <p:spPr>
              <a:xfrm flipV="1">
                <a:off x="5276520" y="397512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7" name=""/>
              <p:cNvGrpSpPr/>
              <p:nvPr/>
            </p:nvGrpSpPr>
            <p:grpSpPr>
              <a:xfrm>
                <a:off x="5133600" y="4433760"/>
                <a:ext cx="288720" cy="304920"/>
                <a:chOff x="5133600" y="4433760"/>
                <a:chExt cx="288720" cy="304920"/>
              </a:xfrm>
            </p:grpSpPr>
            <p:sp>
              <p:nvSpPr>
                <p:cNvPr id="7708" name=""/>
                <p:cNvSpPr/>
                <p:nvPr/>
              </p:nvSpPr>
              <p:spPr>
                <a:xfrm>
                  <a:off x="5133600" y="44337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 flipH="1">
                  <a:off x="5277600" y="443376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5133600" y="443376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1" name=""/>
              <p:cNvSpPr/>
              <p:nvPr/>
            </p:nvSpPr>
            <p:spPr>
              <a:xfrm>
                <a:off x="5117760" y="473868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2" name=""/>
              <p:cNvGrpSpPr/>
              <p:nvPr/>
            </p:nvGrpSpPr>
            <p:grpSpPr>
              <a:xfrm>
                <a:off x="5384160" y="4468680"/>
                <a:ext cx="216000" cy="228600"/>
                <a:chOff x="5384160" y="4468680"/>
                <a:chExt cx="216000" cy="228600"/>
              </a:xfrm>
            </p:grpSpPr>
            <p:sp>
              <p:nvSpPr>
                <p:cNvPr id="7713" name=""/>
                <p:cNvSpPr/>
                <p:nvPr/>
              </p:nvSpPr>
              <p:spPr>
                <a:xfrm flipH="1">
                  <a:off x="5384160" y="446868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>
                  <a:off x="5456160" y="454500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5" name=""/>
              <p:cNvSpPr/>
              <p:nvPr/>
            </p:nvSpPr>
            <p:spPr>
              <a:xfrm>
                <a:off x="5225760" y="519588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6" name=""/>
            <p:cNvGrpSpPr/>
            <p:nvPr/>
          </p:nvGrpSpPr>
          <p:grpSpPr>
            <a:xfrm>
              <a:off x="5136840" y="5246640"/>
              <a:ext cx="3105000" cy="484920"/>
              <a:chOff x="5136840" y="5246640"/>
              <a:chExt cx="3105000" cy="484920"/>
            </a:xfrm>
          </p:grpSpPr>
          <p:sp>
            <p:nvSpPr>
              <p:cNvPr id="7717" name=""/>
              <p:cNvSpPr/>
              <p:nvPr/>
            </p:nvSpPr>
            <p:spPr>
              <a:xfrm>
                <a:off x="513684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60304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6074640" y="525132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787968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6503400" y="52718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6961320" y="5246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425720" y="5246640"/>
                <a:ext cx="29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4" name=""/>
            <p:cNvSpPr/>
            <p:nvPr/>
          </p:nvSpPr>
          <p:spPr>
            <a:xfrm flipV="1">
              <a:off x="6671880" y="3747600"/>
              <a:ext cx="0" cy="265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6626160" y="3633840"/>
              <a:ext cx="95040" cy="1141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6" name=""/>
            <p:cNvGrpSpPr/>
            <p:nvPr/>
          </p:nvGrpSpPr>
          <p:grpSpPr>
            <a:xfrm>
              <a:off x="5594040" y="3976560"/>
              <a:ext cx="482400" cy="1350720"/>
              <a:chOff x="5594040" y="3976560"/>
              <a:chExt cx="482400" cy="1350720"/>
            </a:xfrm>
          </p:grpSpPr>
          <p:sp>
            <p:nvSpPr>
              <p:cNvPr id="7727" name=""/>
              <p:cNvSpPr/>
              <p:nvPr/>
            </p:nvSpPr>
            <p:spPr>
              <a:xfrm flipV="1">
                <a:off x="57528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8" name=""/>
              <p:cNvGrpSpPr/>
              <p:nvPr/>
            </p:nvGrpSpPr>
            <p:grpSpPr>
              <a:xfrm>
                <a:off x="5609880" y="4435200"/>
                <a:ext cx="288720" cy="304920"/>
                <a:chOff x="5609880" y="4435200"/>
                <a:chExt cx="288720" cy="304920"/>
              </a:xfrm>
            </p:grpSpPr>
            <p:sp>
              <p:nvSpPr>
                <p:cNvPr id="7729" name=""/>
                <p:cNvSpPr/>
                <p:nvPr/>
              </p:nvSpPr>
              <p:spPr>
                <a:xfrm>
                  <a:off x="56098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0" name=""/>
                <p:cNvSpPr/>
                <p:nvPr/>
              </p:nvSpPr>
              <p:spPr>
                <a:xfrm flipH="1">
                  <a:off x="57538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>
                  <a:off x="56098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2" name=""/>
              <p:cNvSpPr/>
              <p:nvPr/>
            </p:nvSpPr>
            <p:spPr>
              <a:xfrm>
                <a:off x="55940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3" name=""/>
              <p:cNvGrpSpPr/>
              <p:nvPr/>
            </p:nvGrpSpPr>
            <p:grpSpPr>
              <a:xfrm>
                <a:off x="5860440" y="4470120"/>
                <a:ext cx="216000" cy="228600"/>
                <a:chOff x="5860440" y="4470120"/>
                <a:chExt cx="216000" cy="228600"/>
              </a:xfrm>
            </p:grpSpPr>
            <p:sp>
              <p:nvSpPr>
                <p:cNvPr id="7734" name=""/>
                <p:cNvSpPr/>
                <p:nvPr/>
              </p:nvSpPr>
              <p:spPr>
                <a:xfrm flipH="1">
                  <a:off x="58604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 flipH="1">
                  <a:off x="59324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6" name=""/>
              <p:cNvSpPr/>
              <p:nvPr/>
            </p:nvSpPr>
            <p:spPr>
              <a:xfrm>
                <a:off x="57020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7" name=""/>
            <p:cNvGrpSpPr/>
            <p:nvPr/>
          </p:nvGrpSpPr>
          <p:grpSpPr>
            <a:xfrm>
              <a:off x="6051240" y="3976560"/>
              <a:ext cx="482400" cy="1350720"/>
              <a:chOff x="6051240" y="3976560"/>
              <a:chExt cx="482400" cy="1350720"/>
            </a:xfrm>
          </p:grpSpPr>
          <p:sp>
            <p:nvSpPr>
              <p:cNvPr id="7738" name=""/>
              <p:cNvSpPr/>
              <p:nvPr/>
            </p:nvSpPr>
            <p:spPr>
              <a:xfrm flipV="1">
                <a:off x="62100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9" name=""/>
              <p:cNvGrpSpPr/>
              <p:nvPr/>
            </p:nvGrpSpPr>
            <p:grpSpPr>
              <a:xfrm>
                <a:off x="6067080" y="4435200"/>
                <a:ext cx="288720" cy="304920"/>
                <a:chOff x="6067080" y="4435200"/>
                <a:chExt cx="288720" cy="304920"/>
              </a:xfrm>
            </p:grpSpPr>
            <p:sp>
              <p:nvSpPr>
                <p:cNvPr id="7740" name=""/>
                <p:cNvSpPr/>
                <p:nvPr/>
              </p:nvSpPr>
              <p:spPr>
                <a:xfrm>
                  <a:off x="60670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 flipH="1">
                  <a:off x="62110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>
                  <a:off x="60670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3" name=""/>
              <p:cNvSpPr/>
              <p:nvPr/>
            </p:nvSpPr>
            <p:spPr>
              <a:xfrm>
                <a:off x="60512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4" name=""/>
              <p:cNvGrpSpPr/>
              <p:nvPr/>
            </p:nvGrpSpPr>
            <p:grpSpPr>
              <a:xfrm>
                <a:off x="6317640" y="4470120"/>
                <a:ext cx="216000" cy="228600"/>
                <a:chOff x="6317640" y="4470120"/>
                <a:chExt cx="216000" cy="228600"/>
              </a:xfrm>
            </p:grpSpPr>
            <p:sp>
              <p:nvSpPr>
                <p:cNvPr id="7745" name=""/>
                <p:cNvSpPr/>
                <p:nvPr/>
              </p:nvSpPr>
              <p:spPr>
                <a:xfrm flipH="1">
                  <a:off x="63176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6" name=""/>
                <p:cNvSpPr/>
                <p:nvPr/>
              </p:nvSpPr>
              <p:spPr>
                <a:xfrm flipH="1">
                  <a:off x="63896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7" name=""/>
              <p:cNvSpPr/>
              <p:nvPr/>
            </p:nvSpPr>
            <p:spPr>
              <a:xfrm>
                <a:off x="61592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8" name=""/>
            <p:cNvGrpSpPr/>
            <p:nvPr/>
          </p:nvGrpSpPr>
          <p:grpSpPr>
            <a:xfrm>
              <a:off x="6508440" y="3976560"/>
              <a:ext cx="482400" cy="1350720"/>
              <a:chOff x="6508440" y="3976560"/>
              <a:chExt cx="482400" cy="1350720"/>
            </a:xfrm>
          </p:grpSpPr>
          <p:sp>
            <p:nvSpPr>
              <p:cNvPr id="7749" name=""/>
              <p:cNvSpPr/>
              <p:nvPr/>
            </p:nvSpPr>
            <p:spPr>
              <a:xfrm flipV="1">
                <a:off x="66672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0" name=""/>
              <p:cNvGrpSpPr/>
              <p:nvPr/>
            </p:nvGrpSpPr>
            <p:grpSpPr>
              <a:xfrm>
                <a:off x="6524280" y="4435200"/>
                <a:ext cx="288720" cy="304920"/>
                <a:chOff x="6524280" y="4435200"/>
                <a:chExt cx="288720" cy="304920"/>
              </a:xfrm>
            </p:grpSpPr>
            <p:sp>
              <p:nvSpPr>
                <p:cNvPr id="7751" name=""/>
                <p:cNvSpPr/>
                <p:nvPr/>
              </p:nvSpPr>
              <p:spPr>
                <a:xfrm>
                  <a:off x="65242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2" name=""/>
                <p:cNvSpPr/>
                <p:nvPr/>
              </p:nvSpPr>
              <p:spPr>
                <a:xfrm flipH="1">
                  <a:off x="66682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3" name=""/>
                <p:cNvSpPr/>
                <p:nvPr/>
              </p:nvSpPr>
              <p:spPr>
                <a:xfrm>
                  <a:off x="65242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4" name=""/>
              <p:cNvSpPr/>
              <p:nvPr/>
            </p:nvSpPr>
            <p:spPr>
              <a:xfrm>
                <a:off x="65084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5" name=""/>
              <p:cNvGrpSpPr/>
              <p:nvPr/>
            </p:nvGrpSpPr>
            <p:grpSpPr>
              <a:xfrm>
                <a:off x="6774840" y="4470120"/>
                <a:ext cx="216000" cy="228600"/>
                <a:chOff x="6774840" y="4470120"/>
                <a:chExt cx="216000" cy="228600"/>
              </a:xfrm>
            </p:grpSpPr>
            <p:sp>
              <p:nvSpPr>
                <p:cNvPr id="7756" name=""/>
                <p:cNvSpPr/>
                <p:nvPr/>
              </p:nvSpPr>
              <p:spPr>
                <a:xfrm flipH="1">
                  <a:off x="67748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7" name=""/>
                <p:cNvSpPr/>
                <p:nvPr/>
              </p:nvSpPr>
              <p:spPr>
                <a:xfrm flipH="1">
                  <a:off x="68468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8" name=""/>
              <p:cNvSpPr/>
              <p:nvPr/>
            </p:nvSpPr>
            <p:spPr>
              <a:xfrm>
                <a:off x="66164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9" name=""/>
            <p:cNvGrpSpPr/>
            <p:nvPr/>
          </p:nvGrpSpPr>
          <p:grpSpPr>
            <a:xfrm>
              <a:off x="6965640" y="3976560"/>
              <a:ext cx="482400" cy="1350720"/>
              <a:chOff x="6965640" y="3976560"/>
              <a:chExt cx="482400" cy="1350720"/>
            </a:xfrm>
          </p:grpSpPr>
          <p:sp>
            <p:nvSpPr>
              <p:cNvPr id="7760" name=""/>
              <p:cNvSpPr/>
              <p:nvPr/>
            </p:nvSpPr>
            <p:spPr>
              <a:xfrm flipV="1">
                <a:off x="71244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61" name=""/>
              <p:cNvGrpSpPr/>
              <p:nvPr/>
            </p:nvGrpSpPr>
            <p:grpSpPr>
              <a:xfrm>
                <a:off x="6981480" y="4435200"/>
                <a:ext cx="288720" cy="304920"/>
                <a:chOff x="6981480" y="4435200"/>
                <a:chExt cx="288720" cy="304920"/>
              </a:xfrm>
            </p:grpSpPr>
            <p:sp>
              <p:nvSpPr>
                <p:cNvPr id="7762" name=""/>
                <p:cNvSpPr/>
                <p:nvPr/>
              </p:nvSpPr>
              <p:spPr>
                <a:xfrm>
                  <a:off x="69814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3" name=""/>
                <p:cNvSpPr/>
                <p:nvPr/>
              </p:nvSpPr>
              <p:spPr>
                <a:xfrm flipH="1">
                  <a:off x="71254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4" name=""/>
                <p:cNvSpPr/>
                <p:nvPr/>
              </p:nvSpPr>
              <p:spPr>
                <a:xfrm>
                  <a:off x="69814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5" name=""/>
              <p:cNvSpPr/>
              <p:nvPr/>
            </p:nvSpPr>
            <p:spPr>
              <a:xfrm>
                <a:off x="69656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66" name=""/>
              <p:cNvGrpSpPr/>
              <p:nvPr/>
            </p:nvGrpSpPr>
            <p:grpSpPr>
              <a:xfrm>
                <a:off x="7232040" y="4470120"/>
                <a:ext cx="216000" cy="228600"/>
                <a:chOff x="7232040" y="4470120"/>
                <a:chExt cx="216000" cy="228600"/>
              </a:xfrm>
            </p:grpSpPr>
            <p:sp>
              <p:nvSpPr>
                <p:cNvPr id="7767" name=""/>
                <p:cNvSpPr/>
                <p:nvPr/>
              </p:nvSpPr>
              <p:spPr>
                <a:xfrm flipH="1">
                  <a:off x="72320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 flipH="1">
                  <a:off x="73040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9" name=""/>
              <p:cNvSpPr/>
              <p:nvPr/>
            </p:nvSpPr>
            <p:spPr>
              <a:xfrm>
                <a:off x="70736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0" name=""/>
            <p:cNvGrpSpPr/>
            <p:nvPr/>
          </p:nvGrpSpPr>
          <p:grpSpPr>
            <a:xfrm>
              <a:off x="7422840" y="3976560"/>
              <a:ext cx="482400" cy="1350720"/>
              <a:chOff x="7422840" y="3976560"/>
              <a:chExt cx="482400" cy="1350720"/>
            </a:xfrm>
          </p:grpSpPr>
          <p:sp>
            <p:nvSpPr>
              <p:cNvPr id="7771" name=""/>
              <p:cNvSpPr/>
              <p:nvPr/>
            </p:nvSpPr>
            <p:spPr>
              <a:xfrm flipV="1">
                <a:off x="75816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2" name=""/>
              <p:cNvGrpSpPr/>
              <p:nvPr/>
            </p:nvGrpSpPr>
            <p:grpSpPr>
              <a:xfrm>
                <a:off x="7438680" y="4435200"/>
                <a:ext cx="288720" cy="304920"/>
                <a:chOff x="7438680" y="4435200"/>
                <a:chExt cx="288720" cy="304920"/>
              </a:xfrm>
            </p:grpSpPr>
            <p:sp>
              <p:nvSpPr>
                <p:cNvPr id="7773" name=""/>
                <p:cNvSpPr/>
                <p:nvPr/>
              </p:nvSpPr>
              <p:spPr>
                <a:xfrm>
                  <a:off x="74386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4" name=""/>
                <p:cNvSpPr/>
                <p:nvPr/>
              </p:nvSpPr>
              <p:spPr>
                <a:xfrm flipH="1">
                  <a:off x="75826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5" name=""/>
                <p:cNvSpPr/>
                <p:nvPr/>
              </p:nvSpPr>
              <p:spPr>
                <a:xfrm>
                  <a:off x="74386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6" name=""/>
              <p:cNvSpPr/>
              <p:nvPr/>
            </p:nvSpPr>
            <p:spPr>
              <a:xfrm>
                <a:off x="74228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7" name=""/>
              <p:cNvGrpSpPr/>
              <p:nvPr/>
            </p:nvGrpSpPr>
            <p:grpSpPr>
              <a:xfrm>
                <a:off x="7689240" y="4470120"/>
                <a:ext cx="216000" cy="228600"/>
                <a:chOff x="7689240" y="4470120"/>
                <a:chExt cx="216000" cy="228600"/>
              </a:xfrm>
            </p:grpSpPr>
            <p:sp>
              <p:nvSpPr>
                <p:cNvPr id="7778" name=""/>
                <p:cNvSpPr/>
                <p:nvPr/>
              </p:nvSpPr>
              <p:spPr>
                <a:xfrm flipH="1">
                  <a:off x="76892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9" name=""/>
                <p:cNvSpPr/>
                <p:nvPr/>
              </p:nvSpPr>
              <p:spPr>
                <a:xfrm flipH="1">
                  <a:off x="77612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0" name=""/>
              <p:cNvSpPr/>
              <p:nvPr/>
            </p:nvSpPr>
            <p:spPr>
              <a:xfrm>
                <a:off x="75308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1" name=""/>
            <p:cNvSpPr/>
            <p:nvPr/>
          </p:nvSpPr>
          <p:spPr>
            <a:xfrm flipV="1">
              <a:off x="8038800" y="3976200"/>
              <a:ext cx="0" cy="1219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2" name=""/>
            <p:cNvGrpSpPr/>
            <p:nvPr/>
          </p:nvGrpSpPr>
          <p:grpSpPr>
            <a:xfrm>
              <a:off x="7895880" y="4435560"/>
              <a:ext cx="289080" cy="304560"/>
              <a:chOff x="7895880" y="4435560"/>
              <a:chExt cx="289080" cy="304560"/>
            </a:xfrm>
          </p:grpSpPr>
          <p:sp>
            <p:nvSpPr>
              <p:cNvPr id="7783" name=""/>
              <p:cNvSpPr/>
              <p:nvPr/>
            </p:nvSpPr>
            <p:spPr>
              <a:xfrm>
                <a:off x="7895880" y="4435560"/>
                <a:ext cx="2890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8039880" y="4435560"/>
                <a:ext cx="144360" cy="304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895880" y="4435560"/>
                <a:ext cx="144360" cy="304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6" name=""/>
            <p:cNvSpPr/>
            <p:nvPr/>
          </p:nvSpPr>
          <p:spPr>
            <a:xfrm>
              <a:off x="7880040" y="4740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7" name=""/>
            <p:cNvGrpSpPr/>
            <p:nvPr/>
          </p:nvGrpSpPr>
          <p:grpSpPr>
            <a:xfrm>
              <a:off x="4901760" y="4495680"/>
              <a:ext cx="216000" cy="228600"/>
              <a:chOff x="4901760" y="4495680"/>
              <a:chExt cx="216000" cy="228600"/>
            </a:xfrm>
          </p:grpSpPr>
          <p:sp>
            <p:nvSpPr>
              <p:cNvPr id="7788" name=""/>
              <p:cNvSpPr/>
              <p:nvPr/>
            </p:nvSpPr>
            <p:spPr>
              <a:xfrm flipH="1">
                <a:off x="4901760" y="4495680"/>
                <a:ext cx="143640" cy="1522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4973760" y="4572000"/>
                <a:ext cx="144000" cy="1522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0" name=""/>
            <p:cNvSpPr/>
            <p:nvPr/>
          </p:nvSpPr>
          <p:spPr>
            <a:xfrm>
              <a:off x="7988040" y="5197320"/>
              <a:ext cx="123840" cy="130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6661080" y="3290760"/>
              <a:ext cx="38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2" name=""/>
          <p:cNvGrpSpPr/>
          <p:nvPr/>
        </p:nvGrpSpPr>
        <p:grpSpPr>
          <a:xfrm>
            <a:off x="5537880" y="914400"/>
            <a:ext cx="1637640" cy="2425680"/>
            <a:chOff x="5537880" y="914400"/>
            <a:chExt cx="1637640" cy="2425680"/>
          </a:xfrm>
        </p:grpSpPr>
        <p:sp>
          <p:nvSpPr>
            <p:cNvPr id="7793" name=""/>
            <p:cNvSpPr/>
            <p:nvPr/>
          </p:nvSpPr>
          <p:spPr>
            <a:xfrm>
              <a:off x="6161400" y="28195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4" name=""/>
            <p:cNvGrpSpPr/>
            <p:nvPr/>
          </p:nvGrpSpPr>
          <p:grpSpPr>
            <a:xfrm>
              <a:off x="5537880" y="914400"/>
              <a:ext cx="1637640" cy="1955880"/>
              <a:chOff x="5537880" y="914400"/>
              <a:chExt cx="1637640" cy="1955880"/>
            </a:xfrm>
          </p:grpSpPr>
          <p:sp>
            <p:nvSpPr>
              <p:cNvPr id="7795" name=""/>
              <p:cNvSpPr/>
              <p:nvPr/>
            </p:nvSpPr>
            <p:spPr>
              <a:xfrm>
                <a:off x="5943600" y="1422360"/>
                <a:ext cx="7621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5943600" y="2108160"/>
                <a:ext cx="7621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5943600" y="2793960"/>
                <a:ext cx="7621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6705720" y="1498680"/>
                <a:ext cx="7596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5867280" y="2184480"/>
                <a:ext cx="763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5867280" y="1498680"/>
                <a:ext cx="763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6705720" y="2184480"/>
                <a:ext cx="7596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6150960" y="165096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5555520" y="1523880"/>
                <a:ext cx="31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5537880" y="220968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6770520" y="218448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6770880" y="149868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6155280" y="91440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8" name=""/>
          <p:cNvGrpSpPr/>
          <p:nvPr/>
        </p:nvGrpSpPr>
        <p:grpSpPr>
          <a:xfrm>
            <a:off x="5544000" y="914400"/>
            <a:ext cx="1598040" cy="2425320"/>
            <a:chOff x="5544000" y="914400"/>
            <a:chExt cx="1598040" cy="2425320"/>
          </a:xfrm>
        </p:grpSpPr>
        <p:sp>
          <p:nvSpPr>
            <p:cNvPr id="7809" name=""/>
            <p:cNvSpPr/>
            <p:nvPr/>
          </p:nvSpPr>
          <p:spPr>
            <a:xfrm>
              <a:off x="5943600" y="142236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5943600" y="210816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5943600" y="279396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6705720" y="1498320"/>
              <a:ext cx="75960" cy="609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5867280" y="2184120"/>
              <a:ext cx="76320" cy="609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5867280" y="1498320"/>
              <a:ext cx="76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6705720" y="2184120"/>
              <a:ext cx="7596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6150960" y="16509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5564520" y="15238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5544000" y="220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6157800" y="2819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6783480" y="21841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6783120" y="149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6173640" y="91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3" name=""/>
          <p:cNvGrpSpPr/>
          <p:nvPr/>
        </p:nvGrpSpPr>
        <p:grpSpPr>
          <a:xfrm>
            <a:off x="914040" y="3505320"/>
            <a:ext cx="3717000" cy="2516040"/>
            <a:chOff x="914040" y="3505320"/>
            <a:chExt cx="3717000" cy="2516040"/>
          </a:xfrm>
        </p:grpSpPr>
        <p:sp>
          <p:nvSpPr>
            <p:cNvPr id="7824" name=""/>
            <p:cNvSpPr/>
            <p:nvPr/>
          </p:nvSpPr>
          <p:spPr>
            <a:xfrm>
              <a:off x="2086920" y="5500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"/>
                </a:rPr>
                <a:t>共阴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5" name=""/>
            <p:cNvGrpSpPr/>
            <p:nvPr/>
          </p:nvGrpSpPr>
          <p:grpSpPr>
            <a:xfrm>
              <a:off x="914040" y="3505320"/>
              <a:ext cx="3717000" cy="1980720"/>
              <a:chOff x="914040" y="3505320"/>
              <a:chExt cx="3717000" cy="1980720"/>
            </a:xfrm>
          </p:grpSpPr>
          <p:grpSp>
            <p:nvGrpSpPr>
              <p:cNvPr id="7826" name=""/>
              <p:cNvGrpSpPr/>
              <p:nvPr/>
            </p:nvGrpSpPr>
            <p:grpSpPr>
              <a:xfrm>
                <a:off x="1206360" y="3505320"/>
                <a:ext cx="3424680" cy="459720"/>
                <a:chOff x="1206360" y="3505320"/>
                <a:chExt cx="3424680" cy="459720"/>
              </a:xfrm>
            </p:grpSpPr>
            <p:sp>
              <p:nvSpPr>
                <p:cNvPr id="7827" name=""/>
                <p:cNvSpPr/>
                <p:nvPr/>
              </p:nvSpPr>
              <p:spPr>
                <a:xfrm>
                  <a:off x="120636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8" name=""/>
                <p:cNvSpPr/>
                <p:nvPr/>
              </p:nvSpPr>
              <p:spPr>
                <a:xfrm>
                  <a:off x="171576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9" name=""/>
                <p:cNvSpPr/>
                <p:nvPr/>
              </p:nvSpPr>
              <p:spPr>
                <a:xfrm>
                  <a:off x="2244600" y="3505320"/>
                  <a:ext cx="32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0" name=""/>
                <p:cNvSpPr/>
                <p:nvPr/>
              </p:nvSpPr>
              <p:spPr>
                <a:xfrm>
                  <a:off x="273672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1" name=""/>
                <p:cNvSpPr/>
                <p:nvPr/>
              </p:nvSpPr>
              <p:spPr>
                <a:xfrm>
                  <a:off x="3255120" y="35053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2" name=""/>
                <p:cNvSpPr/>
                <p:nvPr/>
              </p:nvSpPr>
              <p:spPr>
                <a:xfrm>
                  <a:off x="3791160" y="350532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>
                  <a:off x="426888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4" name=""/>
              <p:cNvSpPr/>
              <p:nvPr/>
            </p:nvSpPr>
            <p:spPr>
              <a:xfrm>
                <a:off x="1292400" y="5290920"/>
                <a:ext cx="31334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5" name=""/>
              <p:cNvGrpSpPr/>
              <p:nvPr/>
            </p:nvGrpSpPr>
            <p:grpSpPr>
              <a:xfrm>
                <a:off x="2709720" y="5257800"/>
                <a:ext cx="149400" cy="228240"/>
                <a:chOff x="2709720" y="5257800"/>
                <a:chExt cx="149400" cy="228240"/>
              </a:xfrm>
            </p:grpSpPr>
            <p:sp>
              <p:nvSpPr>
                <p:cNvPr id="7836" name=""/>
                <p:cNvSpPr/>
                <p:nvPr/>
              </p:nvSpPr>
              <p:spPr>
                <a:xfrm>
                  <a:off x="2784240" y="5257800"/>
                  <a:ext cx="0" cy="2282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7" name=""/>
                <p:cNvSpPr/>
                <p:nvPr/>
              </p:nvSpPr>
              <p:spPr>
                <a:xfrm>
                  <a:off x="2709720" y="5486040"/>
                  <a:ext cx="1494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8" name=""/>
              <p:cNvGrpSpPr/>
              <p:nvPr/>
            </p:nvGrpSpPr>
            <p:grpSpPr>
              <a:xfrm>
                <a:off x="1143000" y="3962160"/>
                <a:ext cx="483480" cy="1326600"/>
                <a:chOff x="1143000" y="3962160"/>
                <a:chExt cx="483480" cy="1326600"/>
              </a:xfrm>
            </p:grpSpPr>
            <p:sp>
              <p:nvSpPr>
                <p:cNvPr id="7839" name=""/>
                <p:cNvSpPr/>
                <p:nvPr/>
              </p:nvSpPr>
              <p:spPr>
                <a:xfrm>
                  <a:off x="114300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0" name=""/>
                <p:cNvSpPr/>
                <p:nvPr/>
              </p:nvSpPr>
              <p:spPr>
                <a:xfrm flipH="1">
                  <a:off x="12920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41" name=""/>
                <p:cNvGrpSpPr/>
                <p:nvPr/>
              </p:nvGrpSpPr>
              <p:grpSpPr>
                <a:xfrm>
                  <a:off x="1402560" y="4495320"/>
                  <a:ext cx="223920" cy="227880"/>
                  <a:chOff x="1402560" y="4495320"/>
                  <a:chExt cx="223920" cy="227880"/>
                </a:xfrm>
              </p:grpSpPr>
              <p:sp>
                <p:nvSpPr>
                  <p:cNvPr id="7842" name=""/>
                  <p:cNvSpPr/>
                  <p:nvPr/>
                </p:nvSpPr>
                <p:spPr>
                  <a:xfrm flipH="1">
                    <a:off x="140256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3" name=""/>
                  <p:cNvSpPr/>
                  <p:nvPr/>
                </p:nvSpPr>
                <p:spPr>
                  <a:xfrm flipH="1">
                    <a:off x="147744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44" name=""/>
                <p:cNvSpPr/>
                <p:nvPr/>
              </p:nvSpPr>
              <p:spPr>
                <a:xfrm>
                  <a:off x="129204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5" name=""/>
                <p:cNvSpPr/>
                <p:nvPr/>
              </p:nvSpPr>
              <p:spPr>
                <a:xfrm>
                  <a:off x="11430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6" name=""/>
                <p:cNvSpPr/>
                <p:nvPr/>
              </p:nvSpPr>
              <p:spPr>
                <a:xfrm>
                  <a:off x="123300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7" name=""/>
                <p:cNvSpPr/>
                <p:nvPr/>
              </p:nvSpPr>
              <p:spPr>
                <a:xfrm>
                  <a:off x="114300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8" name=""/>
              <p:cNvGrpSpPr/>
              <p:nvPr/>
            </p:nvGrpSpPr>
            <p:grpSpPr>
              <a:xfrm>
                <a:off x="2635200" y="3962160"/>
                <a:ext cx="483480" cy="1326600"/>
                <a:chOff x="2635200" y="3962160"/>
                <a:chExt cx="483480" cy="1326600"/>
              </a:xfrm>
            </p:grpSpPr>
            <p:sp>
              <p:nvSpPr>
                <p:cNvPr id="7849" name=""/>
                <p:cNvSpPr/>
                <p:nvPr/>
              </p:nvSpPr>
              <p:spPr>
                <a:xfrm>
                  <a:off x="263520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0" name=""/>
                <p:cNvSpPr/>
                <p:nvPr/>
              </p:nvSpPr>
              <p:spPr>
                <a:xfrm flipH="1">
                  <a:off x="27842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1" name=""/>
                <p:cNvGrpSpPr/>
                <p:nvPr/>
              </p:nvGrpSpPr>
              <p:grpSpPr>
                <a:xfrm>
                  <a:off x="2894760" y="4495320"/>
                  <a:ext cx="223920" cy="227880"/>
                  <a:chOff x="2894760" y="4495320"/>
                  <a:chExt cx="223920" cy="227880"/>
                </a:xfrm>
              </p:grpSpPr>
              <p:sp>
                <p:nvSpPr>
                  <p:cNvPr id="7852" name=""/>
                  <p:cNvSpPr/>
                  <p:nvPr/>
                </p:nvSpPr>
                <p:spPr>
                  <a:xfrm flipH="1">
                    <a:off x="289476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3" name=""/>
                  <p:cNvSpPr/>
                  <p:nvPr/>
                </p:nvSpPr>
                <p:spPr>
                  <a:xfrm flipH="1">
                    <a:off x="296964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4" name=""/>
                <p:cNvSpPr/>
                <p:nvPr/>
              </p:nvSpPr>
              <p:spPr>
                <a:xfrm>
                  <a:off x="278424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5" name=""/>
                <p:cNvSpPr/>
                <p:nvPr/>
              </p:nvSpPr>
              <p:spPr>
                <a:xfrm>
                  <a:off x="26352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6" name=""/>
                <p:cNvSpPr/>
                <p:nvPr/>
              </p:nvSpPr>
              <p:spPr>
                <a:xfrm>
                  <a:off x="272520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7" name=""/>
                <p:cNvSpPr/>
                <p:nvPr/>
              </p:nvSpPr>
              <p:spPr>
                <a:xfrm>
                  <a:off x="263520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8" name=""/>
              <p:cNvGrpSpPr/>
              <p:nvPr/>
            </p:nvGrpSpPr>
            <p:grpSpPr>
              <a:xfrm>
                <a:off x="3157560" y="3962160"/>
                <a:ext cx="483480" cy="1326600"/>
                <a:chOff x="3157560" y="3962160"/>
                <a:chExt cx="483480" cy="1326600"/>
              </a:xfrm>
            </p:grpSpPr>
            <p:sp>
              <p:nvSpPr>
                <p:cNvPr id="7859" name=""/>
                <p:cNvSpPr/>
                <p:nvPr/>
              </p:nvSpPr>
              <p:spPr>
                <a:xfrm>
                  <a:off x="315756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>
                  <a:off x="33066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1" name=""/>
                <p:cNvGrpSpPr/>
                <p:nvPr/>
              </p:nvGrpSpPr>
              <p:grpSpPr>
                <a:xfrm>
                  <a:off x="3417120" y="4495320"/>
                  <a:ext cx="223920" cy="227880"/>
                  <a:chOff x="3417120" y="4495320"/>
                  <a:chExt cx="223920" cy="227880"/>
                </a:xfrm>
              </p:grpSpPr>
              <p:sp>
                <p:nvSpPr>
                  <p:cNvPr id="7862" name=""/>
                  <p:cNvSpPr/>
                  <p:nvPr/>
                </p:nvSpPr>
                <p:spPr>
                  <a:xfrm flipH="1">
                    <a:off x="341712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3" name=""/>
                  <p:cNvSpPr/>
                  <p:nvPr/>
                </p:nvSpPr>
                <p:spPr>
                  <a:xfrm flipH="1">
                    <a:off x="349200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64" name=""/>
                <p:cNvSpPr/>
                <p:nvPr/>
              </p:nvSpPr>
              <p:spPr>
                <a:xfrm>
                  <a:off x="330660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5" name=""/>
                <p:cNvSpPr/>
                <p:nvPr/>
              </p:nvSpPr>
              <p:spPr>
                <a:xfrm>
                  <a:off x="315756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6" name=""/>
                <p:cNvSpPr/>
                <p:nvPr/>
              </p:nvSpPr>
              <p:spPr>
                <a:xfrm>
                  <a:off x="324756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7" name=""/>
                <p:cNvSpPr/>
                <p:nvPr/>
              </p:nvSpPr>
              <p:spPr>
                <a:xfrm>
                  <a:off x="315756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8" name=""/>
              <p:cNvGrpSpPr/>
              <p:nvPr/>
            </p:nvGrpSpPr>
            <p:grpSpPr>
              <a:xfrm>
                <a:off x="3679920" y="3962160"/>
                <a:ext cx="483480" cy="1326600"/>
                <a:chOff x="3679920" y="3962160"/>
                <a:chExt cx="483480" cy="1326600"/>
              </a:xfrm>
            </p:grpSpPr>
            <p:sp>
              <p:nvSpPr>
                <p:cNvPr id="7869" name=""/>
                <p:cNvSpPr/>
                <p:nvPr/>
              </p:nvSpPr>
              <p:spPr>
                <a:xfrm>
                  <a:off x="367992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0" name=""/>
                <p:cNvSpPr/>
                <p:nvPr/>
              </p:nvSpPr>
              <p:spPr>
                <a:xfrm flipH="1">
                  <a:off x="382896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1" name=""/>
                <p:cNvGrpSpPr/>
                <p:nvPr/>
              </p:nvGrpSpPr>
              <p:grpSpPr>
                <a:xfrm>
                  <a:off x="3939480" y="4495320"/>
                  <a:ext cx="223920" cy="227880"/>
                  <a:chOff x="3939480" y="4495320"/>
                  <a:chExt cx="223920" cy="227880"/>
                </a:xfrm>
              </p:grpSpPr>
              <p:sp>
                <p:nvSpPr>
                  <p:cNvPr id="7872" name=""/>
                  <p:cNvSpPr/>
                  <p:nvPr/>
                </p:nvSpPr>
                <p:spPr>
                  <a:xfrm flipH="1">
                    <a:off x="393948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3" name=""/>
                  <p:cNvSpPr/>
                  <p:nvPr/>
                </p:nvSpPr>
                <p:spPr>
                  <a:xfrm flipH="1">
                    <a:off x="401436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4" name=""/>
                <p:cNvSpPr/>
                <p:nvPr/>
              </p:nvSpPr>
              <p:spPr>
                <a:xfrm>
                  <a:off x="382896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5" name=""/>
                <p:cNvSpPr/>
                <p:nvPr/>
              </p:nvSpPr>
              <p:spPr>
                <a:xfrm>
                  <a:off x="367992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376992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>
                  <a:off x="367992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8" name=""/>
              <p:cNvSpPr/>
              <p:nvPr/>
            </p:nvSpPr>
            <p:spPr>
              <a:xfrm>
                <a:off x="4276800" y="4451400"/>
                <a:ext cx="2984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 flipH="1">
                <a:off x="4425480" y="4451400"/>
                <a:ext cx="149400" cy="3042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425840" y="4070160"/>
                <a:ext cx="0" cy="12189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276800" y="4451400"/>
                <a:ext cx="149040" cy="3042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367160" y="3962160"/>
                <a:ext cx="111240" cy="1155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276800" y="4776840"/>
                <a:ext cx="29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4" name=""/>
              <p:cNvGrpSpPr/>
              <p:nvPr/>
            </p:nvGrpSpPr>
            <p:grpSpPr>
              <a:xfrm>
                <a:off x="2112840" y="3962160"/>
                <a:ext cx="483480" cy="1326600"/>
                <a:chOff x="2112840" y="3962160"/>
                <a:chExt cx="483480" cy="1326600"/>
              </a:xfrm>
            </p:grpSpPr>
            <p:sp>
              <p:nvSpPr>
                <p:cNvPr id="7885" name=""/>
                <p:cNvSpPr/>
                <p:nvPr/>
              </p:nvSpPr>
              <p:spPr>
                <a:xfrm>
                  <a:off x="211284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6" name=""/>
                <p:cNvSpPr/>
                <p:nvPr/>
              </p:nvSpPr>
              <p:spPr>
                <a:xfrm flipH="1">
                  <a:off x="226188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7" name=""/>
                <p:cNvGrpSpPr/>
                <p:nvPr/>
              </p:nvGrpSpPr>
              <p:grpSpPr>
                <a:xfrm>
                  <a:off x="2372400" y="4495320"/>
                  <a:ext cx="223920" cy="227880"/>
                  <a:chOff x="2372400" y="4495320"/>
                  <a:chExt cx="223920" cy="227880"/>
                </a:xfrm>
              </p:grpSpPr>
              <p:sp>
                <p:nvSpPr>
                  <p:cNvPr id="7888" name=""/>
                  <p:cNvSpPr/>
                  <p:nvPr/>
                </p:nvSpPr>
                <p:spPr>
                  <a:xfrm flipH="1">
                    <a:off x="237240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9" name=""/>
                  <p:cNvSpPr/>
                  <p:nvPr/>
                </p:nvSpPr>
                <p:spPr>
                  <a:xfrm flipH="1">
                    <a:off x="244728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90" name=""/>
                <p:cNvSpPr/>
                <p:nvPr/>
              </p:nvSpPr>
              <p:spPr>
                <a:xfrm>
                  <a:off x="226188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>
                  <a:off x="21128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2" name=""/>
                <p:cNvSpPr/>
                <p:nvPr/>
              </p:nvSpPr>
              <p:spPr>
                <a:xfrm>
                  <a:off x="220284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3" name=""/>
                <p:cNvSpPr/>
                <p:nvPr/>
              </p:nvSpPr>
              <p:spPr>
                <a:xfrm>
                  <a:off x="211284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4" name=""/>
              <p:cNvGrpSpPr/>
              <p:nvPr/>
            </p:nvGrpSpPr>
            <p:grpSpPr>
              <a:xfrm>
                <a:off x="1590840" y="3962160"/>
                <a:ext cx="483480" cy="1326600"/>
                <a:chOff x="1590840" y="3962160"/>
                <a:chExt cx="483480" cy="1326600"/>
              </a:xfrm>
            </p:grpSpPr>
            <p:sp>
              <p:nvSpPr>
                <p:cNvPr id="7895" name=""/>
                <p:cNvSpPr/>
                <p:nvPr/>
              </p:nvSpPr>
              <p:spPr>
                <a:xfrm>
                  <a:off x="159084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 flipH="1">
                  <a:off x="173988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97" name=""/>
                <p:cNvGrpSpPr/>
                <p:nvPr/>
              </p:nvGrpSpPr>
              <p:grpSpPr>
                <a:xfrm>
                  <a:off x="1850400" y="4495320"/>
                  <a:ext cx="223920" cy="227880"/>
                  <a:chOff x="1850400" y="4495320"/>
                  <a:chExt cx="223920" cy="227880"/>
                </a:xfrm>
              </p:grpSpPr>
              <p:sp>
                <p:nvSpPr>
                  <p:cNvPr id="7898" name=""/>
                  <p:cNvSpPr/>
                  <p:nvPr/>
                </p:nvSpPr>
                <p:spPr>
                  <a:xfrm flipH="1">
                    <a:off x="185040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9" name=""/>
                  <p:cNvSpPr/>
                  <p:nvPr/>
                </p:nvSpPr>
                <p:spPr>
                  <a:xfrm flipH="1">
                    <a:off x="192528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0" name=""/>
                <p:cNvSpPr/>
                <p:nvPr/>
              </p:nvSpPr>
              <p:spPr>
                <a:xfrm>
                  <a:off x="173988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1" name=""/>
                <p:cNvSpPr/>
                <p:nvPr/>
              </p:nvSpPr>
              <p:spPr>
                <a:xfrm>
                  <a:off x="15908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2" name=""/>
                <p:cNvSpPr/>
                <p:nvPr/>
              </p:nvSpPr>
              <p:spPr>
                <a:xfrm>
                  <a:off x="168084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3" name=""/>
                <p:cNvSpPr/>
                <p:nvPr/>
              </p:nvSpPr>
              <p:spPr>
                <a:xfrm>
                  <a:off x="159084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4" name=""/>
              <p:cNvGrpSpPr/>
              <p:nvPr/>
            </p:nvGrpSpPr>
            <p:grpSpPr>
              <a:xfrm>
                <a:off x="914040" y="4481280"/>
                <a:ext cx="223920" cy="227880"/>
                <a:chOff x="914040" y="4481280"/>
                <a:chExt cx="223920" cy="227880"/>
              </a:xfrm>
            </p:grpSpPr>
            <p:sp>
              <p:nvSpPr>
                <p:cNvPr id="7905" name=""/>
                <p:cNvSpPr/>
                <p:nvPr/>
              </p:nvSpPr>
              <p:spPr>
                <a:xfrm flipH="1">
                  <a:off x="914040" y="4481280"/>
                  <a:ext cx="149400" cy="152280"/>
                </a:xfrm>
                <a:prstGeom prst="line">
                  <a:avLst/>
                </a:prstGeom>
                <a:ln w="1908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 flipH="1">
                  <a:off x="988920" y="4557240"/>
                  <a:ext cx="149040" cy="151920"/>
                </a:xfrm>
                <a:prstGeom prst="line">
                  <a:avLst/>
                </a:prstGeom>
                <a:ln w="1908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7" name=""/>
          <p:cNvSpPr/>
          <p:nvPr/>
        </p:nvSpPr>
        <p:spPr>
          <a:xfrm>
            <a:off x="91440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七段译码显示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8" name=""/>
          <p:cNvGrpSpPr/>
          <p:nvPr/>
        </p:nvGrpSpPr>
        <p:grpSpPr>
          <a:xfrm>
            <a:off x="914400" y="1066680"/>
            <a:ext cx="3352320" cy="171360"/>
            <a:chOff x="914400" y="1066680"/>
            <a:chExt cx="3352320" cy="171360"/>
          </a:xfrm>
        </p:grpSpPr>
        <p:pic>
          <p:nvPicPr>
            <p:cNvPr id="7909" name="" descr=""/>
            <p:cNvPicPr/>
            <p:nvPr/>
          </p:nvPicPr>
          <p:blipFill>
            <a:blip r:embed="rId1"/>
            <a:stretch/>
          </p:blipFill>
          <p:spPr>
            <a:xfrm>
              <a:off x="18190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0" name="" descr=""/>
            <p:cNvPicPr/>
            <p:nvPr/>
          </p:nvPicPr>
          <p:blipFill>
            <a:blip r:embed="rId2"/>
            <a:stretch/>
          </p:blipFill>
          <p:spPr>
            <a:xfrm>
              <a:off x="19620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1" name="" descr=""/>
            <p:cNvPicPr/>
            <p:nvPr/>
          </p:nvPicPr>
          <p:blipFill>
            <a:blip r:embed="rId3"/>
            <a:stretch/>
          </p:blipFill>
          <p:spPr>
            <a:xfrm>
              <a:off x="21240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2" name="" descr=""/>
            <p:cNvPicPr/>
            <p:nvPr/>
          </p:nvPicPr>
          <p:blipFill>
            <a:blip r:embed="rId4"/>
            <a:stretch/>
          </p:blipFill>
          <p:spPr>
            <a:xfrm>
              <a:off x="24192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3" name="" descr=""/>
            <p:cNvPicPr/>
            <p:nvPr/>
          </p:nvPicPr>
          <p:blipFill>
            <a:blip r:embed="rId5"/>
            <a:stretch/>
          </p:blipFill>
          <p:spPr>
            <a:xfrm>
              <a:off x="25812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4" name="" descr=""/>
            <p:cNvPicPr/>
            <p:nvPr/>
          </p:nvPicPr>
          <p:blipFill>
            <a:blip r:embed="rId6"/>
            <a:stretch/>
          </p:blipFill>
          <p:spPr>
            <a:xfrm>
              <a:off x="27334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5" name="" descr=""/>
            <p:cNvPicPr/>
            <p:nvPr/>
          </p:nvPicPr>
          <p:blipFill>
            <a:blip r:embed="rId7"/>
            <a:stretch/>
          </p:blipFill>
          <p:spPr>
            <a:xfrm>
              <a:off x="28764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6" name="" descr=""/>
            <p:cNvPicPr/>
            <p:nvPr/>
          </p:nvPicPr>
          <p:blipFill>
            <a:blip r:embed="rId8"/>
            <a:stretch/>
          </p:blipFill>
          <p:spPr>
            <a:xfrm>
              <a:off x="30384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7" name="" descr=""/>
            <p:cNvPicPr/>
            <p:nvPr/>
          </p:nvPicPr>
          <p:blipFill>
            <a:blip r:embed="rId9"/>
            <a:stretch/>
          </p:blipFill>
          <p:spPr>
            <a:xfrm>
              <a:off x="33336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8" name="" descr=""/>
            <p:cNvPicPr/>
            <p:nvPr/>
          </p:nvPicPr>
          <p:blipFill>
            <a:blip r:embed="rId10"/>
            <a:stretch/>
          </p:blipFill>
          <p:spPr>
            <a:xfrm>
              <a:off x="34956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9" name="" descr=""/>
            <p:cNvPicPr/>
            <p:nvPr/>
          </p:nvPicPr>
          <p:blipFill>
            <a:blip r:embed="rId11"/>
            <a:stretch/>
          </p:blipFill>
          <p:spPr>
            <a:xfrm>
              <a:off x="36478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0" name="" descr=""/>
            <p:cNvPicPr/>
            <p:nvPr/>
          </p:nvPicPr>
          <p:blipFill>
            <a:blip r:embed="rId12"/>
            <a:stretch/>
          </p:blipFill>
          <p:spPr>
            <a:xfrm>
              <a:off x="37908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1" name="" descr=""/>
            <p:cNvPicPr/>
            <p:nvPr/>
          </p:nvPicPr>
          <p:blipFill>
            <a:blip r:embed="rId13"/>
            <a:stretch/>
          </p:blipFill>
          <p:spPr>
            <a:xfrm>
              <a:off x="22762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2" name="" descr=""/>
            <p:cNvPicPr/>
            <p:nvPr/>
          </p:nvPicPr>
          <p:blipFill>
            <a:blip r:embed="rId14"/>
            <a:stretch/>
          </p:blipFill>
          <p:spPr>
            <a:xfrm>
              <a:off x="31906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3" name="" descr=""/>
            <p:cNvPicPr/>
            <p:nvPr/>
          </p:nvPicPr>
          <p:blipFill>
            <a:blip r:embed="rId15"/>
            <a:stretch/>
          </p:blipFill>
          <p:spPr>
            <a:xfrm>
              <a:off x="39528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4" name="" descr=""/>
            <p:cNvPicPr/>
            <p:nvPr/>
          </p:nvPicPr>
          <p:blipFill>
            <a:blip r:embed="rId16"/>
            <a:stretch/>
          </p:blipFill>
          <p:spPr>
            <a:xfrm>
              <a:off x="41050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25" name=""/>
            <p:cNvGrpSpPr/>
            <p:nvPr/>
          </p:nvGrpSpPr>
          <p:grpSpPr>
            <a:xfrm>
              <a:off x="914400" y="1066680"/>
              <a:ext cx="923760" cy="162000"/>
              <a:chOff x="914400" y="1066680"/>
              <a:chExt cx="923760" cy="162000"/>
            </a:xfrm>
          </p:grpSpPr>
          <p:pic>
            <p:nvPicPr>
              <p:cNvPr id="79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57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193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71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145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0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765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1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914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32" name=""/>
          <p:cNvGrpSpPr/>
          <p:nvPr/>
        </p:nvGrpSpPr>
        <p:grpSpPr>
          <a:xfrm>
            <a:off x="990720" y="1828800"/>
            <a:ext cx="7467480" cy="3487680"/>
            <a:chOff x="990720" y="1828800"/>
            <a:chExt cx="7467480" cy="3487680"/>
          </a:xfrm>
        </p:grpSpPr>
        <p:sp>
          <p:nvSpPr>
            <p:cNvPr id="7933" name=""/>
            <p:cNvSpPr/>
            <p:nvPr/>
          </p:nvSpPr>
          <p:spPr>
            <a:xfrm>
              <a:off x="3886200" y="2355840"/>
              <a:ext cx="121932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200400" y="2889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0400" y="3270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00400" y="3651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200400" y="4032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2666880" y="37274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2669040" y="3346560"/>
              <a:ext cx="557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2666880" y="288936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2666880" y="25084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2590920" y="2738520"/>
              <a:ext cx="75960" cy="14479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5520" y="44150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105520" y="4110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5105520" y="3805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5105520" y="3500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5105520" y="3195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5105520" y="2890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5105520" y="2586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0" name=""/>
            <p:cNvGrpSpPr/>
            <p:nvPr/>
          </p:nvGrpSpPr>
          <p:grpSpPr>
            <a:xfrm>
              <a:off x="5776200" y="2129040"/>
              <a:ext cx="409680" cy="2501640"/>
              <a:chOff x="5776200" y="2129040"/>
              <a:chExt cx="409680" cy="2501640"/>
            </a:xfrm>
          </p:grpSpPr>
          <p:sp>
            <p:nvSpPr>
              <p:cNvPr id="7951" name=""/>
              <p:cNvSpPr/>
              <p:nvPr/>
            </p:nvSpPr>
            <p:spPr>
              <a:xfrm>
                <a:off x="5791320" y="212904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5776920" y="411012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5784480" y="3805200"/>
                <a:ext cx="33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00"/>
                    </a:solidFill>
                    <a:latin typeface="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5791320" y="342432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5776920" y="319572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5784120" y="28144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5776200" y="2608200"/>
                <a:ext cx="39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8" name=""/>
            <p:cNvSpPr/>
            <p:nvPr/>
          </p:nvSpPr>
          <p:spPr>
            <a:xfrm>
              <a:off x="6248520" y="2509920"/>
              <a:ext cx="75960" cy="20574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7238880" y="2509920"/>
              <a:ext cx="1219320" cy="1905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0" name=""/>
            <p:cNvGrpSpPr/>
            <p:nvPr/>
          </p:nvGrpSpPr>
          <p:grpSpPr>
            <a:xfrm>
              <a:off x="7391520" y="2738520"/>
              <a:ext cx="914400" cy="1447920"/>
              <a:chOff x="7391520" y="2738520"/>
              <a:chExt cx="914400" cy="1447920"/>
            </a:xfrm>
          </p:grpSpPr>
          <p:sp>
            <p:nvSpPr>
              <p:cNvPr id="7961" name=""/>
              <p:cNvSpPr/>
              <p:nvPr/>
            </p:nvSpPr>
            <p:spPr>
              <a:xfrm>
                <a:off x="7467840" y="27385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7467840" y="34243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7467840" y="41101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8229960" y="2814840"/>
                <a:ext cx="7596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7391520" y="3500640"/>
                <a:ext cx="7632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7391520" y="2814840"/>
                <a:ext cx="7632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8229960" y="3500640"/>
                <a:ext cx="7596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8" name=""/>
            <p:cNvSpPr/>
            <p:nvPr/>
          </p:nvSpPr>
          <p:spPr>
            <a:xfrm>
              <a:off x="4114800" y="266220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990720" y="1828800"/>
              <a:ext cx="609480" cy="22269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十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1219320" y="2438640"/>
              <a:ext cx="0" cy="3045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1828800" y="3310200"/>
              <a:ext cx="685800" cy="342720"/>
            </a:xfrm>
            <a:prstGeom prst="rightArrow">
              <a:avLst>
                <a:gd name="adj1" fmla="val 50000"/>
                <a:gd name="adj2" fmla="val 50026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cc0000"/>
                </a:gs>
              </a:gsLst>
              <a:lin ang="10800000"/>
            </a:gra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847320" y="4795920"/>
              <a:ext cx="12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共阴极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6400800" y="3272040"/>
              <a:ext cx="685800" cy="342720"/>
            </a:xfrm>
            <a:prstGeom prst="rightArrow">
              <a:avLst>
                <a:gd name="adj1" fmla="val 50000"/>
                <a:gd name="adj2" fmla="val 50026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cc0000"/>
                </a:gs>
              </a:gsLst>
              <a:lin ang="10800000"/>
            </a:gra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4" name=""/>
          <p:cNvGrpSpPr/>
          <p:nvPr/>
        </p:nvGrpSpPr>
        <p:grpSpPr>
          <a:xfrm>
            <a:off x="3493080" y="2438280"/>
            <a:ext cx="386640" cy="1663560"/>
            <a:chOff x="3493080" y="2438280"/>
            <a:chExt cx="386640" cy="1663560"/>
          </a:xfrm>
        </p:grpSpPr>
        <p:sp>
          <p:nvSpPr>
            <p:cNvPr id="7975" name=""/>
            <p:cNvSpPr/>
            <p:nvPr/>
          </p:nvSpPr>
          <p:spPr>
            <a:xfrm>
              <a:off x="3496320" y="2438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496320" y="284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496320" y="3200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493080" y="3581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9" name=""/>
          <p:cNvGrpSpPr/>
          <p:nvPr/>
        </p:nvGrpSpPr>
        <p:grpSpPr>
          <a:xfrm>
            <a:off x="5397840" y="2209680"/>
            <a:ext cx="383400" cy="2322360"/>
            <a:chOff x="5397840" y="2209680"/>
            <a:chExt cx="383400" cy="2322360"/>
          </a:xfrm>
        </p:grpSpPr>
        <p:sp>
          <p:nvSpPr>
            <p:cNvPr id="7980" name=""/>
            <p:cNvSpPr/>
            <p:nvPr/>
          </p:nvSpPr>
          <p:spPr>
            <a:xfrm>
              <a:off x="5397840" y="340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1" name=""/>
            <p:cNvGrpSpPr/>
            <p:nvPr/>
          </p:nvGrpSpPr>
          <p:grpSpPr>
            <a:xfrm>
              <a:off x="5397840" y="2209680"/>
              <a:ext cx="383400" cy="798480"/>
              <a:chOff x="5397840" y="2209680"/>
              <a:chExt cx="383400" cy="798480"/>
            </a:xfrm>
          </p:grpSpPr>
          <p:sp>
            <p:nvSpPr>
              <p:cNvPr id="7982" name=""/>
              <p:cNvSpPr/>
              <p:nvPr/>
            </p:nvSpPr>
            <p:spPr>
              <a:xfrm>
                <a:off x="5397840" y="2209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5397840" y="2487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4" name=""/>
            <p:cNvGrpSpPr/>
            <p:nvPr/>
          </p:nvGrpSpPr>
          <p:grpSpPr>
            <a:xfrm>
              <a:off x="5397840" y="2784600"/>
              <a:ext cx="383400" cy="798120"/>
              <a:chOff x="5397840" y="2784600"/>
              <a:chExt cx="383400" cy="798120"/>
            </a:xfrm>
          </p:grpSpPr>
          <p:sp>
            <p:nvSpPr>
              <p:cNvPr id="7985" name=""/>
              <p:cNvSpPr/>
              <p:nvPr/>
            </p:nvSpPr>
            <p:spPr>
              <a:xfrm>
                <a:off x="5397840" y="2784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5397840" y="306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7" name=""/>
            <p:cNvGrpSpPr/>
            <p:nvPr/>
          </p:nvGrpSpPr>
          <p:grpSpPr>
            <a:xfrm>
              <a:off x="5397840" y="3733920"/>
              <a:ext cx="383400" cy="798120"/>
              <a:chOff x="5397840" y="3733920"/>
              <a:chExt cx="383400" cy="798120"/>
            </a:xfrm>
          </p:grpSpPr>
          <p:sp>
            <p:nvSpPr>
              <p:cNvPr id="7988" name=""/>
              <p:cNvSpPr/>
              <p:nvPr/>
            </p:nvSpPr>
            <p:spPr>
              <a:xfrm>
                <a:off x="5397840" y="3733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5397840" y="4011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0" name=""/>
          <p:cNvGrpSpPr/>
          <p:nvPr/>
        </p:nvGrpSpPr>
        <p:grpSpPr>
          <a:xfrm>
            <a:off x="1889280" y="2765520"/>
            <a:ext cx="5254200" cy="588600"/>
            <a:chOff x="1889280" y="2765520"/>
            <a:chExt cx="5254200" cy="588600"/>
          </a:xfrm>
        </p:grpSpPr>
        <p:sp>
          <p:nvSpPr>
            <p:cNvPr id="7991" name=""/>
            <p:cNvSpPr/>
            <p:nvPr/>
          </p:nvSpPr>
          <p:spPr>
            <a:xfrm>
              <a:off x="6461280" y="276552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"/>
                </a:rPr>
                <a:t>7</a:t>
              </a: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1889280" y="283356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3" name=""/>
          <p:cNvGrpSpPr/>
          <p:nvPr/>
        </p:nvGrpSpPr>
        <p:grpSpPr>
          <a:xfrm>
            <a:off x="7467480" y="2743200"/>
            <a:ext cx="914400" cy="1447920"/>
            <a:chOff x="7467480" y="2743200"/>
            <a:chExt cx="914400" cy="1447920"/>
          </a:xfrm>
        </p:grpSpPr>
        <p:sp>
          <p:nvSpPr>
            <p:cNvPr id="7994" name=""/>
            <p:cNvSpPr/>
            <p:nvPr/>
          </p:nvSpPr>
          <p:spPr>
            <a:xfrm>
              <a:off x="7543800" y="27432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7543800" y="34290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7543800" y="41148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8305560" y="28195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7467480" y="3505320"/>
              <a:ext cx="763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7467480" y="28195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8305560" y="35053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1" name=""/>
          <p:cNvSpPr/>
          <p:nvPr/>
        </p:nvSpPr>
        <p:spPr>
          <a:xfrm>
            <a:off x="274320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七段显示译码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2" name=""/>
          <p:cNvGrpSpPr/>
          <p:nvPr/>
        </p:nvGrpSpPr>
        <p:grpSpPr>
          <a:xfrm>
            <a:off x="437040" y="1843200"/>
            <a:ext cx="1615320" cy="2425320"/>
            <a:chOff x="437040" y="1843200"/>
            <a:chExt cx="1615320" cy="2425320"/>
          </a:xfrm>
        </p:grpSpPr>
        <p:grpSp>
          <p:nvGrpSpPr>
            <p:cNvPr id="8003" name=""/>
            <p:cNvGrpSpPr/>
            <p:nvPr/>
          </p:nvGrpSpPr>
          <p:grpSpPr>
            <a:xfrm>
              <a:off x="760680" y="2351160"/>
              <a:ext cx="914400" cy="1447560"/>
              <a:chOff x="760680" y="2351160"/>
              <a:chExt cx="914400" cy="1447560"/>
            </a:xfrm>
          </p:grpSpPr>
          <p:sp>
            <p:nvSpPr>
              <p:cNvPr id="8004" name=""/>
              <p:cNvSpPr/>
              <p:nvPr/>
            </p:nvSpPr>
            <p:spPr>
              <a:xfrm>
                <a:off x="836640" y="2351160"/>
                <a:ext cx="7621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836640" y="3036960"/>
                <a:ext cx="7621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836640" y="3722760"/>
                <a:ext cx="7621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1598760" y="2427120"/>
                <a:ext cx="76320" cy="60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760680" y="3112920"/>
                <a:ext cx="75960" cy="60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760680" y="2427120"/>
                <a:ext cx="75960" cy="60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1598760" y="3112920"/>
                <a:ext cx="76320" cy="60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1" name=""/>
            <p:cNvSpPr/>
            <p:nvPr/>
          </p:nvSpPr>
          <p:spPr>
            <a:xfrm>
              <a:off x="1051200" y="25797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451080" y="2452680"/>
              <a:ext cx="31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37040" y="3138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1051200" y="37479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1669320" y="311292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1659960" y="2427120"/>
              <a:ext cx="39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1051200" y="184320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18" name="" descr=""/>
          <p:cNvPicPr/>
          <p:nvPr/>
        </p:nvPicPr>
        <p:blipFill>
          <a:blip r:embed="rId1"/>
          <a:stretch/>
        </p:blipFill>
        <p:spPr>
          <a:xfrm>
            <a:off x="228600" y="523080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8019" name=""/>
          <p:cNvSpPr/>
          <p:nvPr/>
        </p:nvSpPr>
        <p:spPr>
          <a:xfrm>
            <a:off x="1981080" y="4495680"/>
            <a:ext cx="6019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0" name=""/>
          <p:cNvGrpSpPr/>
          <p:nvPr/>
        </p:nvGrpSpPr>
        <p:grpSpPr>
          <a:xfrm>
            <a:off x="762120" y="2362320"/>
            <a:ext cx="914400" cy="1447200"/>
            <a:chOff x="762120" y="2362320"/>
            <a:chExt cx="914400" cy="1447200"/>
          </a:xfrm>
        </p:grpSpPr>
        <p:sp>
          <p:nvSpPr>
            <p:cNvPr id="8021" name=""/>
            <p:cNvSpPr/>
            <p:nvPr/>
          </p:nvSpPr>
          <p:spPr>
            <a:xfrm>
              <a:off x="838440" y="236232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838440" y="304776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838440" y="3733560"/>
              <a:ext cx="7621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762120" y="2438280"/>
              <a:ext cx="76320" cy="609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1600560" y="3124080"/>
              <a:ext cx="75960" cy="609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6" name=""/>
          <p:cNvGrpSpPr/>
          <p:nvPr/>
        </p:nvGrpSpPr>
        <p:grpSpPr>
          <a:xfrm>
            <a:off x="762120" y="2438280"/>
            <a:ext cx="914400" cy="1295280"/>
            <a:chOff x="762120" y="2438280"/>
            <a:chExt cx="914400" cy="1295280"/>
          </a:xfrm>
        </p:grpSpPr>
        <p:sp>
          <p:nvSpPr>
            <p:cNvPr id="8027" name=""/>
            <p:cNvSpPr/>
            <p:nvPr/>
          </p:nvSpPr>
          <p:spPr>
            <a:xfrm>
              <a:off x="838440" y="3047760"/>
              <a:ext cx="76212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1600560" y="2438280"/>
              <a:ext cx="7596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762120" y="243828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1600560" y="3124080"/>
              <a:ext cx="7596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1" name=""/>
          <p:cNvSpPr/>
          <p:nvPr/>
        </p:nvSpPr>
        <p:spPr>
          <a:xfrm>
            <a:off x="2057400" y="4114800"/>
            <a:ext cx="6019920" cy="1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2" name=""/>
          <p:cNvGrpSpPr/>
          <p:nvPr/>
        </p:nvGrpSpPr>
        <p:grpSpPr>
          <a:xfrm>
            <a:off x="1826640" y="1143000"/>
            <a:ext cx="6783840" cy="5092560"/>
            <a:chOff x="1826640" y="1143000"/>
            <a:chExt cx="6783840" cy="5092560"/>
          </a:xfrm>
        </p:grpSpPr>
        <p:sp>
          <p:nvSpPr>
            <p:cNvPr id="8033" name=""/>
            <p:cNvSpPr/>
            <p:nvPr/>
          </p:nvSpPr>
          <p:spPr>
            <a:xfrm>
              <a:off x="1905120" y="2124360"/>
              <a:ext cx="6476760" cy="93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962520" y="1143000"/>
              <a:ext cx="0" cy="5029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7391520" y="1143000"/>
              <a:ext cx="0" cy="5029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1981080" y="1617840"/>
              <a:ext cx="198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3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2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1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4044600" y="1648080"/>
              <a:ext cx="33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b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c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e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f   g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1826640" y="21337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   0   0   0       1   1   1   1   1   1   0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1826640" y="25146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"/>
                </a:rPr>
                <a:t>0   0   0   1       0   1   1   0   0   0   0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1826640" y="28958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"/>
                </a:rPr>
                <a:t>0   0   1   0       1   1   0   1   1   0   1      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1826640" y="32767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"/>
                </a:rPr>
                <a:t>0   0   1   1       1   1   1   1   0   0   1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1826640" y="36576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   1   0   0       0   1   1   0   0   1   1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1826640" y="40388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0   1   0   1       1   0   1   1   0   1   1      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1826640" y="44960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"/>
                </a:rPr>
                <a:t>0   1   1   0       1   0   1   1   1   1   1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1826640" y="48769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"/>
                </a:rPr>
                <a:t>0   1   1   1       1   1   1   0   0   0   0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1826640" y="52578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"/>
                </a:rPr>
                <a:t>1   0   0   0       1   1   1   1   1   1   1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1826640" y="57150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1   0   0   1       1   1   1   1   0   1   1   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581200" y="11430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输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5163840" y="1143000"/>
              <a:ext cx="116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输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7467480" y="1219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显示数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1981080" y="1600200"/>
              <a:ext cx="541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1981080" y="11430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1828800" y="61722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4" name=""/>
          <p:cNvGrpSpPr/>
          <p:nvPr/>
        </p:nvGrpSpPr>
        <p:grpSpPr>
          <a:xfrm>
            <a:off x="684360" y="561960"/>
            <a:ext cx="7839000" cy="5076000"/>
            <a:chOff x="684360" y="561960"/>
            <a:chExt cx="7839000" cy="5076000"/>
          </a:xfrm>
        </p:grpSpPr>
        <p:sp>
          <p:nvSpPr>
            <p:cNvPr id="8055" name=""/>
            <p:cNvSpPr/>
            <p:nvPr/>
          </p:nvSpPr>
          <p:spPr>
            <a:xfrm>
              <a:off x="7496640" y="4197600"/>
              <a:ext cx="82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S2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6" name=""/>
            <p:cNvGrpSpPr/>
            <p:nvPr/>
          </p:nvGrpSpPr>
          <p:grpSpPr>
            <a:xfrm>
              <a:off x="4500360" y="2098440"/>
              <a:ext cx="340560" cy="1810800"/>
              <a:chOff x="4500360" y="2098440"/>
              <a:chExt cx="340560" cy="1810800"/>
            </a:xfrm>
          </p:grpSpPr>
          <p:sp>
            <p:nvSpPr>
              <p:cNvPr id="8057" name=""/>
              <p:cNvSpPr/>
              <p:nvPr/>
            </p:nvSpPr>
            <p:spPr>
              <a:xfrm>
                <a:off x="4500360" y="3423240"/>
                <a:ext cx="3405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500360" y="2963880"/>
                <a:ext cx="3405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4500360" y="2540880"/>
                <a:ext cx="3405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4500360" y="2098440"/>
                <a:ext cx="3405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1" name=""/>
            <p:cNvSpPr/>
            <p:nvPr/>
          </p:nvSpPr>
          <p:spPr>
            <a:xfrm>
              <a:off x="5379120" y="2932920"/>
              <a:ext cx="105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宋体"/>
                </a:rPr>
                <a:t>CT74LS2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5669280" y="561960"/>
              <a:ext cx="54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3" name=""/>
            <p:cNvGrpSpPr/>
            <p:nvPr/>
          </p:nvGrpSpPr>
          <p:grpSpPr>
            <a:xfrm>
              <a:off x="4077000" y="1984320"/>
              <a:ext cx="190080" cy="1842840"/>
              <a:chOff x="4077000" y="1984320"/>
              <a:chExt cx="190080" cy="1842840"/>
            </a:xfrm>
          </p:grpSpPr>
          <p:sp>
            <p:nvSpPr>
              <p:cNvPr id="8064" name=""/>
              <p:cNvSpPr/>
              <p:nvPr/>
            </p:nvSpPr>
            <p:spPr>
              <a:xfrm>
                <a:off x="4080240" y="198432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00"/>
                    </a:solidFill>
                    <a:latin typeface="宋体"/>
                  </a:rPr>
                  <a:t>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4080240" y="231696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00"/>
                    </a:solidFill>
                    <a:latin typeface="宋体"/>
                  </a:rPr>
                  <a:t>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4080240" y="27118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00"/>
                    </a:solidFill>
                    <a:latin typeface="宋体"/>
                  </a:rPr>
                  <a:t>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4080240" y="309096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00"/>
                    </a:solidFill>
                    <a:latin typeface="宋体"/>
                  </a:rPr>
                  <a:t>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 rot="60000">
                <a:off x="4080240" y="345924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00"/>
                    </a:solidFill>
                    <a:latin typeface="宋体"/>
                  </a:rPr>
                  <a:t>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9" name=""/>
            <p:cNvSpPr/>
            <p:nvPr/>
          </p:nvSpPr>
          <p:spPr>
            <a:xfrm>
              <a:off x="5202360" y="5208840"/>
              <a:ext cx="2576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</a:rPr>
                <a:t>七段译码器和数码管的连接图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6408720" y="4671720"/>
              <a:ext cx="102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10Ω×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5360400" y="1505520"/>
              <a:ext cx="1139040" cy="312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7347600" y="1482120"/>
              <a:ext cx="1175760" cy="3146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5574240" y="1194480"/>
              <a:ext cx="2356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7929000" y="1194480"/>
              <a:ext cx="468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 flipV="1">
              <a:off x="5928120" y="1049400"/>
              <a:ext cx="180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 flipV="1">
              <a:off x="6244560" y="1278360"/>
              <a:ext cx="1440" cy="12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6499440" y="1676880"/>
              <a:ext cx="69120" cy="68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2"/>
                  </a:moveTo>
                  <a:lnTo>
                    <a:pt x="36" y="6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22"/>
                  </a:lnTo>
                  <a:lnTo>
                    <a:pt x="5" y="36"/>
                  </a:lnTo>
                  <a:lnTo>
                    <a:pt x="22" y="43"/>
                  </a:lnTo>
                  <a:lnTo>
                    <a:pt x="36" y="36"/>
                  </a:lnTo>
                  <a:lnTo>
                    <a:pt x="43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6568920" y="171288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6781320" y="1671480"/>
              <a:ext cx="264600" cy="93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7046280" y="171288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7046280" y="215424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6568920" y="215424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6499440" y="2121120"/>
              <a:ext cx="69120" cy="673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1"/>
                  </a:moveTo>
                  <a:lnTo>
                    <a:pt x="36" y="5"/>
                  </a:lnTo>
                  <a:lnTo>
                    <a:pt x="22" y="0"/>
                  </a:lnTo>
                  <a:lnTo>
                    <a:pt x="5" y="5"/>
                  </a:lnTo>
                  <a:lnTo>
                    <a:pt x="0" y="21"/>
                  </a:lnTo>
                  <a:lnTo>
                    <a:pt x="5" y="36"/>
                  </a:lnTo>
                  <a:lnTo>
                    <a:pt x="22" y="43"/>
                  </a:lnTo>
                  <a:lnTo>
                    <a:pt x="36" y="36"/>
                  </a:lnTo>
                  <a:lnTo>
                    <a:pt x="43" y="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6781320" y="2118240"/>
              <a:ext cx="264600" cy="8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7046280" y="260208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6568920" y="260208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6499440" y="2569320"/>
              <a:ext cx="69120" cy="673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1"/>
                  </a:moveTo>
                  <a:lnTo>
                    <a:pt x="36" y="7"/>
                  </a:lnTo>
                  <a:lnTo>
                    <a:pt x="22" y="0"/>
                  </a:lnTo>
                  <a:lnTo>
                    <a:pt x="5" y="7"/>
                  </a:lnTo>
                  <a:lnTo>
                    <a:pt x="0" y="21"/>
                  </a:lnTo>
                  <a:lnTo>
                    <a:pt x="5" y="37"/>
                  </a:lnTo>
                  <a:lnTo>
                    <a:pt x="22" y="43"/>
                  </a:lnTo>
                  <a:lnTo>
                    <a:pt x="36" y="37"/>
                  </a:lnTo>
                  <a:lnTo>
                    <a:pt x="43" y="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6781320" y="2565720"/>
              <a:ext cx="264600" cy="8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7046280" y="305640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6568920" y="305640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6499440" y="3020400"/>
              <a:ext cx="69120" cy="68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2"/>
                  </a:moveTo>
                  <a:lnTo>
                    <a:pt x="36" y="6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22"/>
                  </a:lnTo>
                  <a:lnTo>
                    <a:pt x="5" y="36"/>
                  </a:lnTo>
                  <a:lnTo>
                    <a:pt x="22" y="43"/>
                  </a:lnTo>
                  <a:lnTo>
                    <a:pt x="36" y="36"/>
                  </a:lnTo>
                  <a:lnTo>
                    <a:pt x="43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6781320" y="3018600"/>
              <a:ext cx="264600" cy="8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7046280" y="351288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6568920" y="351288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6499440" y="3477960"/>
              <a:ext cx="69120" cy="68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1"/>
                  </a:moveTo>
                  <a:lnTo>
                    <a:pt x="36" y="7"/>
                  </a:lnTo>
                  <a:lnTo>
                    <a:pt x="22" y="0"/>
                  </a:lnTo>
                  <a:lnTo>
                    <a:pt x="5" y="7"/>
                  </a:lnTo>
                  <a:lnTo>
                    <a:pt x="0" y="21"/>
                  </a:lnTo>
                  <a:lnTo>
                    <a:pt x="5" y="37"/>
                  </a:lnTo>
                  <a:lnTo>
                    <a:pt x="22" y="43"/>
                  </a:lnTo>
                  <a:lnTo>
                    <a:pt x="36" y="37"/>
                  </a:lnTo>
                  <a:lnTo>
                    <a:pt x="43" y="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6781320" y="3474720"/>
              <a:ext cx="264600" cy="93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7046280" y="396396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6568920" y="396396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6499440" y="3927600"/>
              <a:ext cx="69120" cy="705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2"/>
                  </a:moveTo>
                  <a:lnTo>
                    <a:pt x="36" y="8"/>
                  </a:lnTo>
                  <a:lnTo>
                    <a:pt x="22" y="0"/>
                  </a:lnTo>
                  <a:lnTo>
                    <a:pt x="5" y="8"/>
                  </a:lnTo>
                  <a:lnTo>
                    <a:pt x="0" y="22"/>
                  </a:lnTo>
                  <a:lnTo>
                    <a:pt x="5" y="36"/>
                  </a:lnTo>
                  <a:lnTo>
                    <a:pt x="22" y="44"/>
                  </a:lnTo>
                  <a:lnTo>
                    <a:pt x="36" y="36"/>
                  </a:lnTo>
                  <a:lnTo>
                    <a:pt x="43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6781320" y="3925800"/>
              <a:ext cx="264600" cy="8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7046280" y="4397040"/>
              <a:ext cx="301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6568920" y="4397040"/>
              <a:ext cx="21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6499440" y="4362120"/>
              <a:ext cx="69120" cy="68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2"/>
                  </a:moveTo>
                  <a:lnTo>
                    <a:pt x="36" y="7"/>
                  </a:lnTo>
                  <a:lnTo>
                    <a:pt x="22" y="0"/>
                  </a:lnTo>
                  <a:lnTo>
                    <a:pt x="5" y="7"/>
                  </a:lnTo>
                  <a:lnTo>
                    <a:pt x="0" y="22"/>
                  </a:lnTo>
                  <a:lnTo>
                    <a:pt x="5" y="38"/>
                  </a:lnTo>
                  <a:lnTo>
                    <a:pt x="22" y="44"/>
                  </a:lnTo>
                  <a:lnTo>
                    <a:pt x="36" y="38"/>
                  </a:lnTo>
                  <a:lnTo>
                    <a:pt x="43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6781320" y="4358880"/>
              <a:ext cx="264600" cy="8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5" name=""/>
            <p:cNvGrpSpPr/>
            <p:nvPr/>
          </p:nvGrpSpPr>
          <p:grpSpPr>
            <a:xfrm>
              <a:off x="5823000" y="4628880"/>
              <a:ext cx="215280" cy="228240"/>
              <a:chOff x="5823000" y="4628880"/>
              <a:chExt cx="215280" cy="228240"/>
            </a:xfrm>
          </p:grpSpPr>
          <p:sp>
            <p:nvSpPr>
              <p:cNvPr id="8106" name=""/>
              <p:cNvSpPr/>
              <p:nvPr/>
            </p:nvSpPr>
            <p:spPr>
              <a:xfrm>
                <a:off x="5928120" y="4628880"/>
                <a:ext cx="1440" cy="22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 flipH="1">
                <a:off x="5823000" y="4855680"/>
                <a:ext cx="215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8" name=""/>
            <p:cNvSpPr/>
            <p:nvPr/>
          </p:nvSpPr>
          <p:spPr>
            <a:xfrm>
              <a:off x="7643880" y="3729960"/>
              <a:ext cx="408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 flipV="1">
              <a:off x="8088840" y="3130560"/>
              <a:ext cx="78840" cy="48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V="1">
              <a:off x="7606440" y="3130560"/>
              <a:ext cx="80640" cy="48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7706880" y="3064680"/>
              <a:ext cx="4096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7817040" y="2378160"/>
              <a:ext cx="4082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 flipV="1">
              <a:off x="7715160" y="2444040"/>
              <a:ext cx="8208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 flipV="1">
              <a:off x="8197560" y="2444040"/>
              <a:ext cx="8064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 flipH="1">
              <a:off x="4956840" y="3733200"/>
              <a:ext cx="4032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4892760" y="3701880"/>
              <a:ext cx="64080" cy="64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5" y="5"/>
                  </a:lnTo>
                  <a:lnTo>
                    <a:pt x="20" y="0"/>
                  </a:lnTo>
                  <a:lnTo>
                    <a:pt x="6" y="5"/>
                  </a:lnTo>
                  <a:lnTo>
                    <a:pt x="0" y="20"/>
                  </a:lnTo>
                  <a:lnTo>
                    <a:pt x="6" y="34"/>
                  </a:lnTo>
                  <a:lnTo>
                    <a:pt x="20" y="41"/>
                  </a:lnTo>
                  <a:lnTo>
                    <a:pt x="35" y="34"/>
                  </a:lnTo>
                  <a:lnTo>
                    <a:pt x="40" y="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 flipH="1">
              <a:off x="4956840" y="3278520"/>
              <a:ext cx="4032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4892760" y="3245760"/>
              <a:ext cx="64080" cy="658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5" y="7"/>
                  </a:lnTo>
                  <a:lnTo>
                    <a:pt x="20" y="0"/>
                  </a:lnTo>
                  <a:lnTo>
                    <a:pt x="6" y="7"/>
                  </a:lnTo>
                  <a:lnTo>
                    <a:pt x="0" y="21"/>
                  </a:lnTo>
                  <a:lnTo>
                    <a:pt x="6" y="36"/>
                  </a:lnTo>
                  <a:lnTo>
                    <a:pt x="20" y="41"/>
                  </a:lnTo>
                  <a:lnTo>
                    <a:pt x="35" y="36"/>
                  </a:lnTo>
                  <a:lnTo>
                    <a:pt x="40" y="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 flipH="1">
              <a:off x="4956840" y="2855520"/>
              <a:ext cx="403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4892760" y="2819160"/>
              <a:ext cx="64080" cy="655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2"/>
                  </a:moveTo>
                  <a:lnTo>
                    <a:pt x="35" y="7"/>
                  </a:lnTo>
                  <a:lnTo>
                    <a:pt x="20" y="0"/>
                  </a:lnTo>
                  <a:lnTo>
                    <a:pt x="6" y="7"/>
                  </a:lnTo>
                  <a:lnTo>
                    <a:pt x="0" y="22"/>
                  </a:lnTo>
                  <a:lnTo>
                    <a:pt x="6" y="36"/>
                  </a:lnTo>
                  <a:lnTo>
                    <a:pt x="20" y="41"/>
                  </a:lnTo>
                  <a:lnTo>
                    <a:pt x="35" y="36"/>
                  </a:lnTo>
                  <a:lnTo>
                    <a:pt x="40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 flipH="1">
              <a:off x="4956840" y="2409480"/>
              <a:ext cx="403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4892760" y="2378160"/>
              <a:ext cx="64080" cy="658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19"/>
                  </a:moveTo>
                  <a:lnTo>
                    <a:pt x="35" y="5"/>
                  </a:lnTo>
                  <a:lnTo>
                    <a:pt x="20" y="0"/>
                  </a:lnTo>
                  <a:lnTo>
                    <a:pt x="6" y="5"/>
                  </a:lnTo>
                  <a:lnTo>
                    <a:pt x="0" y="19"/>
                  </a:lnTo>
                  <a:lnTo>
                    <a:pt x="6" y="34"/>
                  </a:lnTo>
                  <a:lnTo>
                    <a:pt x="20" y="41"/>
                  </a:lnTo>
                  <a:lnTo>
                    <a:pt x="35" y="34"/>
                  </a:lnTo>
                  <a:lnTo>
                    <a:pt x="40" y="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5510160" y="14083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52" y="9"/>
                  </a:lnTo>
                  <a:lnTo>
                    <a:pt x="31" y="0"/>
                  </a:lnTo>
                  <a:lnTo>
                    <a:pt x="9" y="9"/>
                  </a:lnTo>
                  <a:lnTo>
                    <a:pt x="0" y="30"/>
                  </a:lnTo>
                  <a:lnTo>
                    <a:pt x="9" y="52"/>
                  </a:lnTo>
                  <a:lnTo>
                    <a:pt x="31" y="61"/>
                  </a:lnTo>
                  <a:lnTo>
                    <a:pt x="52" y="52"/>
                  </a:lnTo>
                  <a:lnTo>
                    <a:pt x="61" y="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5880600" y="1408320"/>
              <a:ext cx="9720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52" y="9"/>
                  </a:lnTo>
                  <a:lnTo>
                    <a:pt x="30" y="0"/>
                  </a:lnTo>
                  <a:lnTo>
                    <a:pt x="9" y="9"/>
                  </a:lnTo>
                  <a:lnTo>
                    <a:pt x="0" y="30"/>
                  </a:lnTo>
                  <a:lnTo>
                    <a:pt x="9" y="52"/>
                  </a:lnTo>
                  <a:lnTo>
                    <a:pt x="30" y="61"/>
                  </a:lnTo>
                  <a:lnTo>
                    <a:pt x="52" y="52"/>
                  </a:lnTo>
                  <a:lnTo>
                    <a:pt x="61" y="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6196680" y="1408320"/>
              <a:ext cx="986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52" y="9"/>
                  </a:lnTo>
                  <a:lnTo>
                    <a:pt x="30" y="0"/>
                  </a:lnTo>
                  <a:lnTo>
                    <a:pt x="9" y="9"/>
                  </a:lnTo>
                  <a:lnTo>
                    <a:pt x="0" y="30"/>
                  </a:lnTo>
                  <a:lnTo>
                    <a:pt x="9" y="52"/>
                  </a:lnTo>
                  <a:lnTo>
                    <a:pt x="30" y="61"/>
                  </a:lnTo>
                  <a:lnTo>
                    <a:pt x="52" y="52"/>
                  </a:lnTo>
                  <a:lnTo>
                    <a:pt x="61" y="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5880600" y="950400"/>
              <a:ext cx="9720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52" y="9"/>
                  </a:lnTo>
                  <a:lnTo>
                    <a:pt x="30" y="0"/>
                  </a:lnTo>
                  <a:lnTo>
                    <a:pt x="9" y="9"/>
                  </a:lnTo>
                  <a:lnTo>
                    <a:pt x="0" y="31"/>
                  </a:lnTo>
                  <a:lnTo>
                    <a:pt x="9" y="53"/>
                  </a:lnTo>
                  <a:lnTo>
                    <a:pt x="30" y="62"/>
                  </a:lnTo>
                  <a:lnTo>
                    <a:pt x="52" y="53"/>
                  </a:lnTo>
                  <a:lnTo>
                    <a:pt x="61" y="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 flipV="1">
              <a:off x="5554440" y="1194480"/>
              <a:ext cx="0" cy="23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8" name=""/>
            <p:cNvGrpSpPr/>
            <p:nvPr/>
          </p:nvGrpSpPr>
          <p:grpSpPr>
            <a:xfrm>
              <a:off x="6546240" y="1389960"/>
              <a:ext cx="146520" cy="305280"/>
              <a:chOff x="6546240" y="1389960"/>
              <a:chExt cx="146520" cy="305280"/>
            </a:xfrm>
          </p:grpSpPr>
          <p:sp>
            <p:nvSpPr>
              <p:cNvPr id="8129" name=""/>
              <p:cNvSpPr/>
              <p:nvPr/>
            </p:nvSpPr>
            <p:spPr>
              <a:xfrm>
                <a:off x="6546240" y="1389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 flipH="1">
                <a:off x="6556320" y="146880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1" name=""/>
            <p:cNvGrpSpPr/>
            <p:nvPr/>
          </p:nvGrpSpPr>
          <p:grpSpPr>
            <a:xfrm>
              <a:off x="6529680" y="1829880"/>
              <a:ext cx="153360" cy="305280"/>
              <a:chOff x="6529680" y="1829880"/>
              <a:chExt cx="153360" cy="305280"/>
            </a:xfrm>
          </p:grpSpPr>
          <p:sp>
            <p:nvSpPr>
              <p:cNvPr id="8132" name=""/>
              <p:cNvSpPr/>
              <p:nvPr/>
            </p:nvSpPr>
            <p:spPr>
              <a:xfrm>
                <a:off x="6529680" y="1829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 flipH="1">
                <a:off x="6546600" y="186120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4" name=""/>
            <p:cNvGrpSpPr/>
            <p:nvPr/>
          </p:nvGrpSpPr>
          <p:grpSpPr>
            <a:xfrm>
              <a:off x="6533640" y="2244600"/>
              <a:ext cx="149760" cy="305280"/>
              <a:chOff x="6533640" y="2244600"/>
              <a:chExt cx="149760" cy="305280"/>
            </a:xfrm>
          </p:grpSpPr>
          <p:sp>
            <p:nvSpPr>
              <p:cNvPr id="8135" name=""/>
              <p:cNvSpPr/>
              <p:nvPr/>
            </p:nvSpPr>
            <p:spPr>
              <a:xfrm>
                <a:off x="6533640" y="2244600"/>
                <a:ext cx="11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 flipH="1">
                <a:off x="6547320" y="2334960"/>
                <a:ext cx="13608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7" name=""/>
            <p:cNvGrpSpPr/>
            <p:nvPr/>
          </p:nvGrpSpPr>
          <p:grpSpPr>
            <a:xfrm>
              <a:off x="6526440" y="2695680"/>
              <a:ext cx="156600" cy="305280"/>
              <a:chOff x="6526440" y="2695680"/>
              <a:chExt cx="156600" cy="305280"/>
            </a:xfrm>
          </p:grpSpPr>
          <p:sp>
            <p:nvSpPr>
              <p:cNvPr id="8138" name=""/>
              <p:cNvSpPr/>
              <p:nvPr/>
            </p:nvSpPr>
            <p:spPr>
              <a:xfrm>
                <a:off x="6526440" y="26956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 flipH="1">
                <a:off x="6546600" y="273024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0" name=""/>
            <p:cNvGrpSpPr/>
            <p:nvPr/>
          </p:nvGrpSpPr>
          <p:grpSpPr>
            <a:xfrm>
              <a:off x="6526800" y="3169800"/>
              <a:ext cx="156240" cy="305280"/>
              <a:chOff x="6526800" y="3169800"/>
              <a:chExt cx="156240" cy="305280"/>
            </a:xfrm>
          </p:grpSpPr>
          <p:sp>
            <p:nvSpPr>
              <p:cNvPr id="8141" name=""/>
              <p:cNvSpPr/>
              <p:nvPr/>
            </p:nvSpPr>
            <p:spPr>
              <a:xfrm>
                <a:off x="6526800" y="3169800"/>
                <a:ext cx="11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 flipH="1">
                <a:off x="6546600" y="330120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3" name=""/>
            <p:cNvGrpSpPr/>
            <p:nvPr/>
          </p:nvGrpSpPr>
          <p:grpSpPr>
            <a:xfrm>
              <a:off x="6526440" y="3607920"/>
              <a:ext cx="156600" cy="305280"/>
              <a:chOff x="6526440" y="3607920"/>
              <a:chExt cx="156600" cy="305280"/>
            </a:xfrm>
          </p:grpSpPr>
          <p:sp>
            <p:nvSpPr>
              <p:cNvPr id="8144" name=""/>
              <p:cNvSpPr/>
              <p:nvPr/>
            </p:nvSpPr>
            <p:spPr>
              <a:xfrm>
                <a:off x="6526440" y="360792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 flipH="1">
                <a:off x="6546600" y="364932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6" name=""/>
            <p:cNvGrpSpPr/>
            <p:nvPr/>
          </p:nvGrpSpPr>
          <p:grpSpPr>
            <a:xfrm>
              <a:off x="6526440" y="4039560"/>
              <a:ext cx="156600" cy="305280"/>
              <a:chOff x="6526440" y="4039560"/>
              <a:chExt cx="156600" cy="305280"/>
            </a:xfrm>
          </p:grpSpPr>
          <p:sp>
            <p:nvSpPr>
              <p:cNvPr id="8147" name=""/>
              <p:cNvSpPr/>
              <p:nvPr/>
            </p:nvSpPr>
            <p:spPr>
              <a:xfrm>
                <a:off x="6526440" y="40395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 flipH="1">
                <a:off x="6546600" y="4156200"/>
                <a:ext cx="136440" cy="14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9" name=""/>
            <p:cNvGrpSpPr/>
            <p:nvPr/>
          </p:nvGrpSpPr>
          <p:grpSpPr>
            <a:xfrm>
              <a:off x="5361480" y="1589400"/>
              <a:ext cx="438120" cy="305280"/>
              <a:chOff x="5361480" y="1589400"/>
              <a:chExt cx="438120" cy="305280"/>
            </a:xfrm>
          </p:grpSpPr>
          <p:sp>
            <p:nvSpPr>
              <p:cNvPr id="8150" name=""/>
              <p:cNvSpPr/>
              <p:nvPr/>
            </p:nvSpPr>
            <p:spPr>
              <a:xfrm>
                <a:off x="5361480" y="1589400"/>
                <a:ext cx="43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B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61840" y="1589400"/>
                <a:ext cx="39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2" name=""/>
            <p:cNvGrpSpPr/>
            <p:nvPr/>
          </p:nvGrpSpPr>
          <p:grpSpPr>
            <a:xfrm>
              <a:off x="5913720" y="1577880"/>
              <a:ext cx="333000" cy="305280"/>
              <a:chOff x="5913720" y="1577880"/>
              <a:chExt cx="333000" cy="305280"/>
            </a:xfrm>
          </p:grpSpPr>
          <p:sp>
            <p:nvSpPr>
              <p:cNvPr id="8153" name=""/>
              <p:cNvSpPr/>
              <p:nvPr/>
            </p:nvSpPr>
            <p:spPr>
              <a:xfrm>
                <a:off x="5913720" y="1577880"/>
                <a:ext cx="33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I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915160" y="1589400"/>
                <a:ext cx="236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5" name=""/>
            <p:cNvGrpSpPr/>
            <p:nvPr/>
          </p:nvGrpSpPr>
          <p:grpSpPr>
            <a:xfrm>
              <a:off x="5045760" y="1115280"/>
              <a:ext cx="453960" cy="305280"/>
              <a:chOff x="5045760" y="1115280"/>
              <a:chExt cx="453960" cy="305280"/>
            </a:xfrm>
          </p:grpSpPr>
          <p:sp>
            <p:nvSpPr>
              <p:cNvPr id="8156" name=""/>
              <p:cNvSpPr/>
              <p:nvPr/>
            </p:nvSpPr>
            <p:spPr>
              <a:xfrm>
                <a:off x="5045760" y="1115280"/>
                <a:ext cx="453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045760" y="1115280"/>
                <a:ext cx="316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8" name=""/>
            <p:cNvSpPr/>
            <p:nvPr/>
          </p:nvSpPr>
          <p:spPr>
            <a:xfrm>
              <a:off x="851400" y="109548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1645920" y="1115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851400" y="154152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1655640" y="1558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843120" y="19897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1654200" y="20091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846720" y="2415960"/>
              <a:ext cx="26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B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1659240" y="2435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771120" y="2876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RB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1654200" y="28951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851400" y="332172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1655640" y="3339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851400" y="374328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1654200" y="3759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684360" y="419760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G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1655640" y="4215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2426400" y="4215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2355480" y="3339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2346120" y="37594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2346120" y="28951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2346120" y="24357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2344680" y="20091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2346120" y="15580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2346120" y="11152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3009240" y="1115280"/>
              <a:ext cx="5785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 rot="16200000">
              <a:off x="1421280" y="2778120"/>
              <a:ext cx="136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CT 74LS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921600" y="4829760"/>
              <a:ext cx="237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CT74LS247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型译码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1298520" y="5241600"/>
              <a:ext cx="1585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器的外引线排列图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1545120" y="1036080"/>
              <a:ext cx="1130760" cy="3586320"/>
            </a:xfrm>
            <a:custGeom>
              <a:avLst/>
              <a:gdLst/>
              <a:ahLst/>
              <a:rect l="l" t="t" r="r" b="b"/>
              <a:pathLst>
                <a:path w="640" h="2028">
                  <a:moveTo>
                    <a:pt x="399" y="0"/>
                  </a:moveTo>
                  <a:lnTo>
                    <a:pt x="640" y="0"/>
                  </a:lnTo>
                  <a:lnTo>
                    <a:pt x="640" y="2028"/>
                  </a:lnTo>
                  <a:lnTo>
                    <a:pt x="0" y="2028"/>
                  </a:lnTo>
                  <a:lnTo>
                    <a:pt x="0" y="0"/>
                  </a:lnTo>
                  <a:lnTo>
                    <a:pt x="24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1294560" y="1177920"/>
              <a:ext cx="250200" cy="22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1294560" y="162396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1294560" y="207180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1294560" y="250020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1294560" y="295740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1294560" y="3404160"/>
              <a:ext cx="250200" cy="225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1294560" y="382536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1294560" y="4279680"/>
              <a:ext cx="2502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2676240" y="427968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2676240" y="3404160"/>
              <a:ext cx="248400" cy="225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2676240" y="382536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2676240" y="295740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2676240" y="250020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2676240" y="207180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2676240" y="1623960"/>
              <a:ext cx="2484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2676240" y="1177920"/>
              <a:ext cx="248400" cy="22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1971720" y="1036080"/>
              <a:ext cx="277920" cy="14184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0"/>
                  </a:moveTo>
                  <a:lnTo>
                    <a:pt x="10" y="40"/>
                  </a:lnTo>
                  <a:lnTo>
                    <a:pt x="40" y="70"/>
                  </a:lnTo>
                  <a:lnTo>
                    <a:pt x="80" y="80"/>
                  </a:lnTo>
                  <a:lnTo>
                    <a:pt x="118" y="70"/>
                  </a:lnTo>
                  <a:lnTo>
                    <a:pt x="148" y="40"/>
                  </a:lnTo>
                  <a:lnTo>
                    <a:pt x="15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4" name=""/>
            <p:cNvGrpSpPr/>
            <p:nvPr/>
          </p:nvGrpSpPr>
          <p:grpSpPr>
            <a:xfrm>
              <a:off x="3055680" y="1548360"/>
              <a:ext cx="165960" cy="2954160"/>
              <a:chOff x="3055680" y="1548360"/>
              <a:chExt cx="165960" cy="2954160"/>
            </a:xfrm>
          </p:grpSpPr>
          <p:grpSp>
            <p:nvGrpSpPr>
              <p:cNvPr id="8205" name=""/>
              <p:cNvGrpSpPr/>
              <p:nvPr/>
            </p:nvGrpSpPr>
            <p:grpSpPr>
              <a:xfrm>
                <a:off x="3075120" y="1548360"/>
                <a:ext cx="146520" cy="305280"/>
                <a:chOff x="3075120" y="1548360"/>
                <a:chExt cx="146520" cy="305280"/>
              </a:xfrm>
            </p:grpSpPr>
            <p:sp>
              <p:nvSpPr>
                <p:cNvPr id="8206" name=""/>
                <p:cNvSpPr/>
                <p:nvPr/>
              </p:nvSpPr>
              <p:spPr>
                <a:xfrm>
                  <a:off x="3075120" y="15483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 flipH="1">
                  <a:off x="3085200" y="162720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8" name=""/>
              <p:cNvGrpSpPr/>
              <p:nvPr/>
            </p:nvGrpSpPr>
            <p:grpSpPr>
              <a:xfrm>
                <a:off x="3058560" y="1987560"/>
                <a:ext cx="153000" cy="305280"/>
                <a:chOff x="3058560" y="1987560"/>
                <a:chExt cx="153000" cy="305280"/>
              </a:xfrm>
            </p:grpSpPr>
            <p:sp>
              <p:nvSpPr>
                <p:cNvPr id="8209" name=""/>
                <p:cNvSpPr/>
                <p:nvPr/>
              </p:nvSpPr>
              <p:spPr>
                <a:xfrm>
                  <a:off x="3058560" y="19875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0" name=""/>
                <p:cNvSpPr/>
                <p:nvPr/>
              </p:nvSpPr>
              <p:spPr>
                <a:xfrm flipH="1">
                  <a:off x="3075840" y="2018880"/>
                  <a:ext cx="1357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1" name=""/>
              <p:cNvGrpSpPr/>
              <p:nvPr/>
            </p:nvGrpSpPr>
            <p:grpSpPr>
              <a:xfrm>
                <a:off x="3062880" y="2400840"/>
                <a:ext cx="148680" cy="305280"/>
                <a:chOff x="3062880" y="2400840"/>
                <a:chExt cx="148680" cy="305280"/>
              </a:xfrm>
            </p:grpSpPr>
            <p:sp>
              <p:nvSpPr>
                <p:cNvPr id="8212" name=""/>
                <p:cNvSpPr/>
                <p:nvPr/>
              </p:nvSpPr>
              <p:spPr>
                <a:xfrm>
                  <a:off x="3062880" y="2400840"/>
                  <a:ext cx="113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3" name=""/>
                <p:cNvSpPr/>
                <p:nvPr/>
              </p:nvSpPr>
              <p:spPr>
                <a:xfrm flipH="1">
                  <a:off x="3075840" y="2493000"/>
                  <a:ext cx="1357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4" name=""/>
              <p:cNvGrpSpPr/>
              <p:nvPr/>
            </p:nvGrpSpPr>
            <p:grpSpPr>
              <a:xfrm>
                <a:off x="3056400" y="2853720"/>
                <a:ext cx="155880" cy="305280"/>
                <a:chOff x="3056400" y="2853720"/>
                <a:chExt cx="155880" cy="305280"/>
              </a:xfrm>
            </p:grpSpPr>
            <p:sp>
              <p:nvSpPr>
                <p:cNvPr id="8215" name=""/>
                <p:cNvSpPr/>
                <p:nvPr/>
              </p:nvSpPr>
              <p:spPr>
                <a:xfrm>
                  <a:off x="3056400" y="28537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6" name=""/>
                <p:cNvSpPr/>
                <p:nvPr/>
              </p:nvSpPr>
              <p:spPr>
                <a:xfrm flipH="1">
                  <a:off x="3076200" y="2888280"/>
                  <a:ext cx="136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7" name=""/>
              <p:cNvGrpSpPr/>
              <p:nvPr/>
            </p:nvGrpSpPr>
            <p:grpSpPr>
              <a:xfrm>
                <a:off x="3056760" y="3328200"/>
                <a:ext cx="155520" cy="305280"/>
                <a:chOff x="3056760" y="3328200"/>
                <a:chExt cx="155520" cy="305280"/>
              </a:xfrm>
            </p:grpSpPr>
            <p:sp>
              <p:nvSpPr>
                <p:cNvPr id="8218" name=""/>
                <p:cNvSpPr/>
                <p:nvPr/>
              </p:nvSpPr>
              <p:spPr>
                <a:xfrm>
                  <a:off x="3056760" y="3328200"/>
                  <a:ext cx="113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9" name=""/>
                <p:cNvSpPr/>
                <p:nvPr/>
              </p:nvSpPr>
              <p:spPr>
                <a:xfrm flipH="1">
                  <a:off x="3076200" y="3459600"/>
                  <a:ext cx="136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0" name=""/>
              <p:cNvGrpSpPr/>
              <p:nvPr/>
            </p:nvGrpSpPr>
            <p:grpSpPr>
              <a:xfrm>
                <a:off x="3055680" y="3765960"/>
                <a:ext cx="156600" cy="305280"/>
                <a:chOff x="3055680" y="3765960"/>
                <a:chExt cx="156600" cy="305280"/>
              </a:xfrm>
            </p:grpSpPr>
            <p:sp>
              <p:nvSpPr>
                <p:cNvPr id="8221" name=""/>
                <p:cNvSpPr/>
                <p:nvPr/>
              </p:nvSpPr>
              <p:spPr>
                <a:xfrm>
                  <a:off x="3055680" y="3765960"/>
                  <a:ext cx="86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2" name=""/>
                <p:cNvSpPr/>
                <p:nvPr/>
              </p:nvSpPr>
              <p:spPr>
                <a:xfrm flipH="1">
                  <a:off x="3076200" y="3807000"/>
                  <a:ext cx="136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3" name=""/>
              <p:cNvGrpSpPr/>
              <p:nvPr/>
            </p:nvGrpSpPr>
            <p:grpSpPr>
              <a:xfrm>
                <a:off x="3056400" y="4197240"/>
                <a:ext cx="155880" cy="305280"/>
                <a:chOff x="3056400" y="4197240"/>
                <a:chExt cx="155880" cy="305280"/>
              </a:xfrm>
            </p:grpSpPr>
            <p:sp>
              <p:nvSpPr>
                <p:cNvPr id="8224" name=""/>
                <p:cNvSpPr/>
                <p:nvPr/>
              </p:nvSpPr>
              <p:spPr>
                <a:xfrm>
                  <a:off x="3056400" y="41972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5" name=""/>
                <p:cNvSpPr/>
                <p:nvPr/>
              </p:nvSpPr>
              <p:spPr>
                <a:xfrm flipH="1">
                  <a:off x="3076200" y="4313880"/>
                  <a:ext cx="136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26" name=""/>
            <p:cNvSpPr/>
            <p:nvPr/>
          </p:nvSpPr>
          <p:spPr>
            <a:xfrm>
              <a:off x="843480" y="1984320"/>
              <a:ext cx="316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843480" y="2417400"/>
              <a:ext cx="316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803880" y="2854080"/>
              <a:ext cx="3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9" name="">
            <a:hlinkClick r:id="rId1"/>
          </p:cNvPr>
          <p:cNvSpPr/>
          <p:nvPr/>
        </p:nvSpPr>
        <p:spPr>
          <a:xfrm>
            <a:off x="3886200" y="47242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1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数据分配器和数据选择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>
            <a:off x="1996200" y="990720"/>
            <a:ext cx="50637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当需要进行远距离多路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传输时，为了减少传输线的数目，发送端常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一条公共传输线，用多路选择器分时发送数据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接收端，接收端利用多路分配器分时将数据分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给各路接收端，其原理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 flipH="1">
            <a:off x="6750000" y="29512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3429000" y="321156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2819520" y="321156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3352680" y="312408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2819520" y="32194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 flipH="1">
            <a:off x="6750000" y="287496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3429000" y="3135240"/>
            <a:ext cx="18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2819520" y="313524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819520" y="3143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3809880" y="5638680"/>
            <a:ext cx="1067040" cy="533520"/>
          </a:xfrm>
          <a:prstGeom prst="wedgeRoundRectCallout">
            <a:avLst>
              <a:gd name="adj1" fmla="val -109375"/>
              <a:gd name="adj2" fmla="val -29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使能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1087560" y="5638680"/>
            <a:ext cx="109512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多路选择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6954840" y="5638680"/>
            <a:ext cx="109512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多路分配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4" name=""/>
          <p:cNvGrpSpPr/>
          <p:nvPr/>
        </p:nvGrpSpPr>
        <p:grpSpPr>
          <a:xfrm>
            <a:off x="613800" y="3392640"/>
            <a:ext cx="7777800" cy="2809080"/>
            <a:chOff x="613800" y="3392640"/>
            <a:chExt cx="7777800" cy="2809080"/>
          </a:xfrm>
        </p:grpSpPr>
        <p:sp>
          <p:nvSpPr>
            <p:cNvPr id="8245" name=""/>
            <p:cNvSpPr/>
            <p:nvPr/>
          </p:nvSpPr>
          <p:spPr>
            <a:xfrm>
              <a:off x="613800" y="4077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发送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7784640" y="415332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接收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7" name=""/>
            <p:cNvGrpSpPr/>
            <p:nvPr/>
          </p:nvGrpSpPr>
          <p:grpSpPr>
            <a:xfrm>
              <a:off x="4800240" y="4495680"/>
              <a:ext cx="1454400" cy="455400"/>
              <a:chOff x="4800240" y="4495680"/>
              <a:chExt cx="1454400" cy="455400"/>
            </a:xfrm>
          </p:grpSpPr>
          <p:sp>
            <p:nvSpPr>
              <p:cNvPr id="8248" name=""/>
              <p:cNvSpPr/>
              <p:nvPr/>
            </p:nvSpPr>
            <p:spPr>
              <a:xfrm flipH="1">
                <a:off x="5672880" y="4821120"/>
                <a:ext cx="144360" cy="129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 flipH="1">
                <a:off x="4800240" y="4886280"/>
                <a:ext cx="8730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 flipV="1">
                <a:off x="5817960" y="4495680"/>
                <a:ext cx="436680" cy="32544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1" name=""/>
            <p:cNvSpPr/>
            <p:nvPr/>
          </p:nvSpPr>
          <p:spPr>
            <a:xfrm flipH="1">
              <a:off x="495216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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2209680" y="4282920"/>
              <a:ext cx="1143000" cy="127980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3" name=""/>
            <p:cNvGrpSpPr/>
            <p:nvPr/>
          </p:nvGrpSpPr>
          <p:grpSpPr>
            <a:xfrm>
              <a:off x="1600200" y="4419720"/>
              <a:ext cx="1069560" cy="990000"/>
              <a:chOff x="1600200" y="4419720"/>
              <a:chExt cx="1069560" cy="990000"/>
            </a:xfrm>
          </p:grpSpPr>
          <p:sp>
            <p:nvSpPr>
              <p:cNvPr id="8254" name=""/>
              <p:cNvSpPr/>
              <p:nvPr/>
            </p:nvSpPr>
            <p:spPr>
              <a:xfrm>
                <a:off x="1701000" y="447768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1701000" y="476928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1701000" y="506052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1701000" y="535176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1600200" y="4419720"/>
                <a:ext cx="100800" cy="11484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1600200" y="4710960"/>
                <a:ext cx="10080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1600200" y="5003280"/>
                <a:ext cx="100800" cy="1152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1600200" y="5293440"/>
                <a:ext cx="10080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2567520" y="4419720"/>
                <a:ext cx="102240" cy="11484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2567520" y="5293440"/>
                <a:ext cx="10224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2567520" y="5003280"/>
                <a:ext cx="102240" cy="1152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2567520" y="4710960"/>
                <a:ext cx="10224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6" name=""/>
            <p:cNvGrpSpPr/>
            <p:nvPr/>
          </p:nvGrpSpPr>
          <p:grpSpPr>
            <a:xfrm>
              <a:off x="2743200" y="5562720"/>
              <a:ext cx="144360" cy="387360"/>
              <a:chOff x="2743200" y="5562720"/>
              <a:chExt cx="144360" cy="387360"/>
            </a:xfrm>
          </p:grpSpPr>
          <p:sp>
            <p:nvSpPr>
              <p:cNvPr id="8267" name=""/>
              <p:cNvSpPr/>
              <p:nvPr/>
            </p:nvSpPr>
            <p:spPr>
              <a:xfrm>
                <a:off x="2814480" y="5562720"/>
                <a:ext cx="0" cy="257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2743200" y="5820120"/>
                <a:ext cx="144360" cy="129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9" name=""/>
            <p:cNvGrpSpPr/>
            <p:nvPr/>
          </p:nvGrpSpPr>
          <p:grpSpPr>
            <a:xfrm>
              <a:off x="2666520" y="4495320"/>
              <a:ext cx="1454400" cy="457560"/>
              <a:chOff x="2666520" y="4495320"/>
              <a:chExt cx="1454400" cy="457560"/>
            </a:xfrm>
          </p:grpSpPr>
          <p:sp>
            <p:nvSpPr>
              <p:cNvPr id="8270" name=""/>
              <p:cNvSpPr/>
              <p:nvPr/>
            </p:nvSpPr>
            <p:spPr>
              <a:xfrm>
                <a:off x="3103560" y="4822920"/>
                <a:ext cx="145800" cy="129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3249360" y="4887720"/>
                <a:ext cx="8715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 flipH="1" flipV="1">
                <a:off x="2666520" y="4495320"/>
                <a:ext cx="436680" cy="32724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3" name=""/>
            <p:cNvSpPr/>
            <p:nvPr/>
          </p:nvSpPr>
          <p:spPr>
            <a:xfrm>
              <a:off x="350532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1066680" y="5105520"/>
              <a:ext cx="58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1066680" y="4778280"/>
              <a:ext cx="58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1076400" y="45036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1076400" y="41781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2902680" y="56386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9" name=""/>
            <p:cNvGrpSpPr/>
            <p:nvPr/>
          </p:nvGrpSpPr>
          <p:grpSpPr>
            <a:xfrm>
              <a:off x="2294640" y="3392640"/>
              <a:ext cx="995040" cy="893160"/>
              <a:chOff x="2294640" y="3392640"/>
              <a:chExt cx="995040" cy="893160"/>
            </a:xfrm>
          </p:grpSpPr>
          <p:sp>
            <p:nvSpPr>
              <p:cNvPr id="8280" name=""/>
              <p:cNvSpPr/>
              <p:nvPr/>
            </p:nvSpPr>
            <p:spPr>
              <a:xfrm>
                <a:off x="2528640" y="4022640"/>
                <a:ext cx="0" cy="2631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3038400" y="4022640"/>
                <a:ext cx="0" cy="2631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2455560" y="3890880"/>
                <a:ext cx="145800" cy="1314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2965320" y="3890880"/>
                <a:ext cx="145440" cy="1314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2769120" y="34052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2294640" y="33926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6" name=""/>
            <p:cNvSpPr/>
            <p:nvPr/>
          </p:nvSpPr>
          <p:spPr>
            <a:xfrm>
              <a:off x="4114800" y="487692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99240" y="4952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传输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5410080" y="4343400"/>
              <a:ext cx="1143000" cy="12794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9" name=""/>
            <p:cNvGrpSpPr/>
            <p:nvPr/>
          </p:nvGrpSpPr>
          <p:grpSpPr>
            <a:xfrm>
              <a:off x="6286680" y="4454640"/>
              <a:ext cx="1069560" cy="990000"/>
              <a:chOff x="6286680" y="4454640"/>
              <a:chExt cx="1069560" cy="990000"/>
            </a:xfrm>
          </p:grpSpPr>
          <p:sp>
            <p:nvSpPr>
              <p:cNvPr id="8290" name=""/>
              <p:cNvSpPr/>
              <p:nvPr/>
            </p:nvSpPr>
            <p:spPr>
              <a:xfrm>
                <a:off x="6387480" y="451260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387480" y="480420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387480" y="509544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387480" y="5386680"/>
                <a:ext cx="8661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286680" y="4454640"/>
                <a:ext cx="100800" cy="11484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286680" y="4745880"/>
                <a:ext cx="10080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286680" y="5038200"/>
                <a:ext cx="100800" cy="1152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286680" y="5328360"/>
                <a:ext cx="10080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7254000" y="4454640"/>
                <a:ext cx="102240" cy="11484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7254000" y="5328360"/>
                <a:ext cx="10224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7254000" y="5038200"/>
                <a:ext cx="102240" cy="1152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7254000" y="4745880"/>
                <a:ext cx="102240" cy="116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2" name=""/>
            <p:cNvGrpSpPr/>
            <p:nvPr/>
          </p:nvGrpSpPr>
          <p:grpSpPr>
            <a:xfrm>
              <a:off x="5495040" y="3429000"/>
              <a:ext cx="995040" cy="893880"/>
              <a:chOff x="5495040" y="3429000"/>
              <a:chExt cx="995040" cy="893880"/>
            </a:xfrm>
          </p:grpSpPr>
          <p:sp>
            <p:nvSpPr>
              <p:cNvPr id="8303" name=""/>
              <p:cNvSpPr/>
              <p:nvPr/>
            </p:nvSpPr>
            <p:spPr>
              <a:xfrm>
                <a:off x="5729040" y="4059360"/>
                <a:ext cx="0" cy="26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238800" y="4059360"/>
                <a:ext cx="0" cy="26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655960" y="3927600"/>
                <a:ext cx="145800" cy="1317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165720" y="3927600"/>
                <a:ext cx="145440" cy="1317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969520" y="344196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495040" y="34290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9" name=""/>
            <p:cNvSpPr/>
            <p:nvPr/>
          </p:nvSpPr>
          <p:spPr>
            <a:xfrm>
              <a:off x="7315200" y="518148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7315200" y="48769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7324920" y="45720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7324920" y="426708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3" name=""/>
            <p:cNvGrpSpPr/>
            <p:nvPr/>
          </p:nvGrpSpPr>
          <p:grpSpPr>
            <a:xfrm>
              <a:off x="5867280" y="5638680"/>
              <a:ext cx="144360" cy="387360"/>
              <a:chOff x="5867280" y="5638680"/>
              <a:chExt cx="144360" cy="387360"/>
            </a:xfrm>
          </p:grpSpPr>
          <p:sp>
            <p:nvSpPr>
              <p:cNvPr id="8314" name=""/>
              <p:cNvSpPr/>
              <p:nvPr/>
            </p:nvSpPr>
            <p:spPr>
              <a:xfrm>
                <a:off x="5938560" y="5638680"/>
                <a:ext cx="0" cy="257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867280" y="5896080"/>
                <a:ext cx="144360" cy="129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6" name=""/>
            <p:cNvSpPr/>
            <p:nvPr/>
          </p:nvSpPr>
          <p:spPr>
            <a:xfrm>
              <a:off x="5493600" y="5638680"/>
              <a:ext cx="368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7" name=""/>
          <p:cNvGrpSpPr/>
          <p:nvPr/>
        </p:nvGrpSpPr>
        <p:grpSpPr>
          <a:xfrm>
            <a:off x="2209680" y="3543480"/>
            <a:ext cx="2743200" cy="952200"/>
            <a:chOff x="2209680" y="3543480"/>
            <a:chExt cx="2743200" cy="952200"/>
          </a:xfrm>
        </p:grpSpPr>
        <p:sp>
          <p:nvSpPr>
            <p:cNvPr id="8318" name=""/>
            <p:cNvSpPr/>
            <p:nvPr/>
          </p:nvSpPr>
          <p:spPr>
            <a:xfrm>
              <a:off x="2209680" y="3543480"/>
              <a:ext cx="121932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9" name=""/>
            <p:cNvGrpSpPr/>
            <p:nvPr/>
          </p:nvGrpSpPr>
          <p:grpSpPr>
            <a:xfrm>
              <a:off x="3733920" y="3581280"/>
              <a:ext cx="1218960" cy="914400"/>
              <a:chOff x="3733920" y="3581280"/>
              <a:chExt cx="1218960" cy="914400"/>
            </a:xfrm>
          </p:grpSpPr>
          <p:sp>
            <p:nvSpPr>
              <p:cNvPr id="8320" name=""/>
              <p:cNvSpPr/>
              <p:nvPr/>
            </p:nvSpPr>
            <p:spPr>
              <a:xfrm>
                <a:off x="3733920" y="3581280"/>
                <a:ext cx="1143000" cy="914400"/>
              </a:xfrm>
              <a:prstGeom prst="wedgeRoundRectCallout">
                <a:avLst>
                  <a:gd name="adj1" fmla="val -95000"/>
                  <a:gd name="adj2" fmla="val -39407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3733920" y="3581280"/>
                <a:ext cx="1218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数据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择控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2" name=""/>
          <p:cNvGrpSpPr/>
          <p:nvPr/>
        </p:nvGrpSpPr>
        <p:grpSpPr>
          <a:xfrm>
            <a:off x="5410080" y="3200400"/>
            <a:ext cx="2743200" cy="838080"/>
            <a:chOff x="5410080" y="3200400"/>
            <a:chExt cx="2743200" cy="838080"/>
          </a:xfrm>
        </p:grpSpPr>
        <p:sp>
          <p:nvSpPr>
            <p:cNvPr id="8323" name=""/>
            <p:cNvSpPr/>
            <p:nvPr/>
          </p:nvSpPr>
          <p:spPr>
            <a:xfrm>
              <a:off x="5410080" y="3543480"/>
              <a:ext cx="121932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4" name=""/>
            <p:cNvGrpSpPr/>
            <p:nvPr/>
          </p:nvGrpSpPr>
          <p:grpSpPr>
            <a:xfrm>
              <a:off x="6934320" y="3200400"/>
              <a:ext cx="1218960" cy="838080"/>
              <a:chOff x="6934320" y="3200400"/>
              <a:chExt cx="1218960" cy="838080"/>
            </a:xfrm>
          </p:grpSpPr>
          <p:sp>
            <p:nvSpPr>
              <p:cNvPr id="8325" name=""/>
              <p:cNvSpPr/>
              <p:nvPr/>
            </p:nvSpPr>
            <p:spPr>
              <a:xfrm>
                <a:off x="6934320" y="3200400"/>
                <a:ext cx="1143000" cy="838080"/>
              </a:xfrm>
              <a:prstGeom prst="wedgeRoundRectCallout">
                <a:avLst>
                  <a:gd name="adj1" fmla="val -99305"/>
                  <a:gd name="adj2" fmla="val 1324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934320" y="3200400"/>
                <a:ext cx="1218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数据分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配控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7" name="PlaceHolder 1"/>
          <p:cNvSpPr>
            <a:spLocks noGrp="1"/>
          </p:cNvSpPr>
          <p:nvPr>
            <p:ph type="subTitle"/>
          </p:nvPr>
        </p:nvSpPr>
        <p:spPr>
          <a:xfrm>
            <a:off x="990360" y="533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1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据选择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60948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多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中选择其中所需要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一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2082600" y="1752480"/>
            <a:ext cx="9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四选一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0" name=""/>
          <p:cNvGrpSpPr/>
          <p:nvPr/>
        </p:nvGrpSpPr>
        <p:grpSpPr>
          <a:xfrm>
            <a:off x="914400" y="3657600"/>
            <a:ext cx="990720" cy="1468440"/>
            <a:chOff x="914400" y="3657600"/>
            <a:chExt cx="990720" cy="1468440"/>
          </a:xfrm>
        </p:grpSpPr>
        <p:sp>
          <p:nvSpPr>
            <p:cNvPr id="8331" name=""/>
            <p:cNvSpPr/>
            <p:nvPr/>
          </p:nvSpPr>
          <p:spPr>
            <a:xfrm>
              <a:off x="1822680" y="3902040"/>
              <a:ext cx="82440" cy="1224000"/>
            </a:xfrm>
            <a:custGeom>
              <a:avLst/>
              <a:gdLst>
                <a:gd name="textAreaLeft" fmla="*/ 52560 w 82440"/>
                <a:gd name="textAreaRight" fmla="*/ 82800 w 82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914400" y="3657600"/>
              <a:ext cx="660600" cy="947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输入数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3" name=""/>
          <p:cNvSpPr/>
          <p:nvPr/>
        </p:nvSpPr>
        <p:spPr>
          <a:xfrm>
            <a:off x="6629400" y="3749040"/>
            <a:ext cx="1825560" cy="561600"/>
          </a:xfrm>
          <a:prstGeom prst="wedgeRoundRectCallout">
            <a:avLst>
              <a:gd name="adj1" fmla="val -85800"/>
              <a:gd name="adj2" fmla="val 7837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输出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5257800" y="5425200"/>
            <a:ext cx="1447920" cy="561600"/>
          </a:xfrm>
          <a:prstGeom prst="wedgeRoundRectCallout">
            <a:avLst>
              <a:gd name="adj1" fmla="val -112041"/>
              <a:gd name="adj2" fmla="val 8542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使能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5" name="" descr=""/>
          <p:cNvPicPr/>
          <p:nvPr/>
        </p:nvPicPr>
        <p:blipFill>
          <a:blip r:embed="rId3"/>
          <a:stretch/>
        </p:blipFill>
        <p:spPr>
          <a:xfrm>
            <a:off x="7086600" y="4724280"/>
            <a:ext cx="1147680" cy="1295640"/>
          </a:xfrm>
          <a:prstGeom prst="rect">
            <a:avLst/>
          </a:prstGeom>
          <a:ln w="0">
            <a:noFill/>
          </a:ln>
        </p:spPr>
      </p:pic>
      <p:grpSp>
        <p:nvGrpSpPr>
          <p:cNvPr id="8336" name=""/>
          <p:cNvGrpSpPr/>
          <p:nvPr/>
        </p:nvGrpSpPr>
        <p:grpSpPr>
          <a:xfrm>
            <a:off x="1905120" y="2362320"/>
            <a:ext cx="4267080" cy="4146120"/>
            <a:chOff x="1905120" y="2362320"/>
            <a:chExt cx="4267080" cy="4146120"/>
          </a:xfrm>
        </p:grpSpPr>
        <p:sp>
          <p:nvSpPr>
            <p:cNvPr id="8337" name=""/>
            <p:cNvSpPr/>
            <p:nvPr/>
          </p:nvSpPr>
          <p:spPr>
            <a:xfrm>
              <a:off x="1905120" y="47401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1905120" y="439056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916640" y="404316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916640" y="369540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1" name=""/>
            <p:cNvGrpSpPr/>
            <p:nvPr/>
          </p:nvGrpSpPr>
          <p:grpSpPr>
            <a:xfrm>
              <a:off x="2438280" y="2362320"/>
              <a:ext cx="3733920" cy="4146120"/>
              <a:chOff x="2438280" y="2362320"/>
              <a:chExt cx="3733920" cy="4146120"/>
            </a:xfrm>
          </p:grpSpPr>
          <p:sp>
            <p:nvSpPr>
              <p:cNvPr id="8342" name=""/>
              <p:cNvSpPr/>
              <p:nvPr/>
            </p:nvSpPr>
            <p:spPr>
              <a:xfrm>
                <a:off x="3505320" y="3557160"/>
                <a:ext cx="1447560" cy="18046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2590920" y="397332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2590920" y="432072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2590920" y="466848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2590920" y="501624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4038480" y="3071520"/>
                <a:ext cx="0" cy="4852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4572000" y="3071520"/>
                <a:ext cx="0" cy="4852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2438280" y="3904920"/>
                <a:ext cx="15264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2438280" y="425088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2438280" y="459864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2438280" y="4946400"/>
                <a:ext cx="152640" cy="1375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3886200" y="3904920"/>
                <a:ext cx="15228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4495680" y="4390560"/>
                <a:ext cx="15264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4648320" y="4460400"/>
                <a:ext cx="9144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3886200" y="4946400"/>
                <a:ext cx="152280" cy="1375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3886200" y="459864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3886200" y="425088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3962520" y="293184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4495680" y="293184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4267080" y="5362200"/>
                <a:ext cx="0" cy="487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4191120" y="5849640"/>
                <a:ext cx="15228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 flipH="1" flipV="1">
                <a:off x="4038480" y="4043160"/>
                <a:ext cx="457200" cy="34704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5562720" y="4252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4045680" y="598788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4312440" y="23760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3742560" y="23623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4156200" y="6059160"/>
                <a:ext cx="2156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9" name=""/>
          <p:cNvGrpSpPr/>
          <p:nvPr/>
        </p:nvGrpSpPr>
        <p:grpSpPr>
          <a:xfrm>
            <a:off x="3657600" y="2514600"/>
            <a:ext cx="3578400" cy="957600"/>
            <a:chOff x="3657600" y="2514600"/>
            <a:chExt cx="3578400" cy="957600"/>
          </a:xfrm>
        </p:grpSpPr>
        <p:sp>
          <p:nvSpPr>
            <p:cNvPr id="8370" name=""/>
            <p:cNvSpPr/>
            <p:nvPr/>
          </p:nvSpPr>
          <p:spPr>
            <a:xfrm>
              <a:off x="5410080" y="2910600"/>
              <a:ext cx="1825920" cy="561600"/>
            </a:xfrm>
            <a:prstGeom prst="wedgeRoundRectCallout">
              <a:avLst>
                <a:gd name="adj1" fmla="val -83212"/>
                <a:gd name="adj2" fmla="val -52240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cap="sq"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控制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657600" y="2514600"/>
              <a:ext cx="12952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2" name=""/>
          <p:cNvSpPr/>
          <p:nvPr/>
        </p:nvSpPr>
        <p:spPr>
          <a:xfrm>
            <a:off x="205740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3124080" y="457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 flipV="1">
            <a:off x="2971800" y="2362320"/>
            <a:ext cx="0" cy="358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2590920" y="83808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2590920" y="175248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4952880" y="4724280"/>
            <a:ext cx="685800" cy="8384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5029200" y="4789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1981080" y="14479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205740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2438280" y="167652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3048120" y="14479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>
            <a:off x="31240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3505320" y="167652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1981080" y="5335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2438280" y="76212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3048120" y="5335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3505320" y="76212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1981080" y="5638680"/>
            <a:ext cx="457200" cy="6098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20574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2438280" y="5867280"/>
            <a:ext cx="15264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1447920" y="83808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1447920" y="175248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4952880" y="3733920"/>
            <a:ext cx="685800" cy="8380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5029200" y="3798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5029200" y="2808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>
            <a:off x="4952880" y="1752480"/>
            <a:ext cx="685800" cy="8384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>
            <a:off x="5029200" y="1817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>
            <a:off x="1447920" y="2209680"/>
            <a:ext cx="3504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3657600" y="8380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495680" y="838080"/>
            <a:ext cx="0" cy="30481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4495680" y="190512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>
            <a:off x="4495680" y="38862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>
            <a:off x="1523880" y="419112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657600" y="1752480"/>
            <a:ext cx="3049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>
            <a:off x="3962520" y="1752480"/>
            <a:ext cx="0" cy="13716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>
            <a:off x="3962520" y="2057400"/>
            <a:ext cx="9903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1523880" y="327672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>
            <a:off x="2819520" y="83808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2819520" y="129528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4191120" y="1295280"/>
            <a:ext cx="0" cy="3581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4191120" y="297180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>
            <a:off x="4191120" y="487692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2819520" y="1752480"/>
            <a:ext cx="0" cy="838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2819520" y="259092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3581280" y="2590920"/>
            <a:ext cx="0" cy="2438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3581280" y="403848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3581280" y="502920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1523880" y="518148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2590920" y="59436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2971800" y="236232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2971800" y="434340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2971800" y="342900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2971800" y="533412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1371600" y="7984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 flipH="1">
            <a:off x="1523880" y="59436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6781680" y="3048120"/>
            <a:ext cx="685800" cy="99036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 flipV="1">
            <a:off x="6248520" y="365760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5638680" y="2209680"/>
            <a:ext cx="838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6477120" y="2209680"/>
            <a:ext cx="0" cy="990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6477120" y="3200400"/>
            <a:ext cx="3045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5638680" y="3124080"/>
            <a:ext cx="609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6248520" y="3124080"/>
            <a:ext cx="0" cy="3049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>
            <a:off x="6248520" y="342900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5638680" y="4114800"/>
            <a:ext cx="609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6248520" y="365760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5638680" y="5181480"/>
            <a:ext cx="838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 flipV="1">
            <a:off x="6477120" y="3886200"/>
            <a:ext cx="0" cy="1295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6477120" y="3886200"/>
            <a:ext cx="3045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7467480" y="350532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685800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 flipH="1">
            <a:off x="6933960" y="3429000"/>
            <a:ext cx="228600" cy="152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777240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914400" y="48769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914400" y="39625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925920" y="3048120"/>
            <a:ext cx="53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>
            <a:off x="914400" y="1981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924840" y="6094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762120" y="1447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2" name=""/>
          <p:cNvGrpSpPr/>
          <p:nvPr/>
        </p:nvGrpSpPr>
        <p:grpSpPr>
          <a:xfrm>
            <a:off x="997560" y="5715000"/>
            <a:ext cx="368280" cy="520560"/>
            <a:chOff x="997560" y="5715000"/>
            <a:chExt cx="368280" cy="520560"/>
          </a:xfrm>
        </p:grpSpPr>
        <p:sp>
          <p:nvSpPr>
            <p:cNvPr id="8453" name=""/>
            <p:cNvSpPr/>
            <p:nvPr/>
          </p:nvSpPr>
          <p:spPr>
            <a:xfrm>
              <a:off x="997560" y="57150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1066680" y="579132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5" name=""/>
          <p:cNvSpPr/>
          <p:nvPr/>
        </p:nvSpPr>
        <p:spPr>
          <a:xfrm>
            <a:off x="1523880" y="541008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2503800" y="541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772400" y="3505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8" name=""/>
          <p:cNvGrpSpPr/>
          <p:nvPr/>
        </p:nvGrpSpPr>
        <p:grpSpPr>
          <a:xfrm>
            <a:off x="5780520" y="1752480"/>
            <a:ext cx="383400" cy="3568320"/>
            <a:chOff x="5780520" y="1752480"/>
            <a:chExt cx="383400" cy="3568320"/>
          </a:xfrm>
        </p:grpSpPr>
        <p:sp>
          <p:nvSpPr>
            <p:cNvPr id="8459" name=""/>
            <p:cNvSpPr/>
            <p:nvPr/>
          </p:nvSpPr>
          <p:spPr>
            <a:xfrm>
              <a:off x="5780520" y="480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5780520" y="3733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5780520" y="2742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5780520" y="175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3" name=""/>
          <p:cNvSpPr/>
          <p:nvPr/>
        </p:nvSpPr>
        <p:spPr>
          <a:xfrm>
            <a:off x="5867280" y="838080"/>
            <a:ext cx="2210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与”门被封锁，选择器不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3316680" y="571500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CT74LS153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型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选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1371600" y="17128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>
            <a:off x="1371600" y="21700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409760" y="323856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409760" y="41482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>
            <a:off x="1409760" y="5124600"/>
            <a:ext cx="93600" cy="1155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>
            <a:off x="1409760" y="588024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7924680" y="3446640"/>
            <a:ext cx="9396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09480" y="4590360"/>
            <a:ext cx="7620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由电子电路实现逻辑运算时，它的输入和输出信号都是用电位（或称电平）的高低表示的。高电平和低电平都不是一个固定的数值，而是有一定的变化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523520" y="6094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3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分立元件逻辑门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1924200"/>
            <a:ext cx="7772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门电路是用以实现逻辑关系的电子电路，与前面所讲过的基本逻辑关系相对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289548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门电路主要有：与门、或门、非门、与非门、或非门、异或门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137160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门电路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2" name=""/>
          <p:cNvSpPr/>
          <p:nvPr/>
        </p:nvSpPr>
        <p:spPr>
          <a:xfrm>
            <a:off x="2300400" y="3049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3313080" y="30492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 flipV="1">
            <a:off x="3168720" y="2114280"/>
            <a:ext cx="0" cy="34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>
            <a:off x="2806560" y="666720"/>
            <a:ext cx="435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2806560" y="1535040"/>
            <a:ext cx="435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5049720" y="435780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>
            <a:off x="5122800" y="4419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>
            <a:off x="2228760" y="12463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2300400" y="11732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2662200" y="146196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>
            <a:off x="3241800" y="12463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3313080" y="11732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3675240" y="146196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2228760" y="37800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>
            <a:off x="2662200" y="59364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>
            <a:off x="3241800" y="37800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3675240" y="59364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>
            <a:off x="2228760" y="52261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2300400" y="51530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2662200" y="5442120"/>
            <a:ext cx="144360" cy="1458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1722600" y="666720"/>
            <a:ext cx="506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1722600" y="1535040"/>
            <a:ext cx="506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5049720" y="3416400"/>
            <a:ext cx="650880" cy="79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5122800" y="34783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5049720" y="247644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5122800" y="25369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5049720" y="153504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5122800" y="15969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1722600" y="1968480"/>
            <a:ext cx="3327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3819600" y="666720"/>
            <a:ext cx="7966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4616280" y="666720"/>
            <a:ext cx="0" cy="28940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4616280" y="1679400"/>
            <a:ext cx="433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>
            <a:off x="4616280" y="3560760"/>
            <a:ext cx="433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1793880" y="385128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6" name=""/>
          <p:cNvSpPr/>
          <p:nvPr/>
        </p:nvSpPr>
        <p:spPr>
          <a:xfrm>
            <a:off x="3819600" y="1535040"/>
            <a:ext cx="290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>
            <a:off x="4110120" y="1535040"/>
            <a:ext cx="0" cy="13017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8" name=""/>
          <p:cNvSpPr/>
          <p:nvPr/>
        </p:nvSpPr>
        <p:spPr>
          <a:xfrm>
            <a:off x="4110120" y="1824120"/>
            <a:ext cx="93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9" name=""/>
          <p:cNvSpPr/>
          <p:nvPr/>
        </p:nvSpPr>
        <p:spPr>
          <a:xfrm>
            <a:off x="4110120" y="2836800"/>
            <a:ext cx="93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0" name=""/>
          <p:cNvSpPr/>
          <p:nvPr/>
        </p:nvSpPr>
        <p:spPr>
          <a:xfrm>
            <a:off x="1793880" y="298296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1" name=""/>
          <p:cNvSpPr/>
          <p:nvPr/>
        </p:nvSpPr>
        <p:spPr>
          <a:xfrm>
            <a:off x="3024360" y="666720"/>
            <a:ext cx="0" cy="433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2" name=""/>
          <p:cNvSpPr/>
          <p:nvPr/>
        </p:nvSpPr>
        <p:spPr>
          <a:xfrm>
            <a:off x="3024360" y="1100160"/>
            <a:ext cx="1301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3" name=""/>
          <p:cNvSpPr/>
          <p:nvPr/>
        </p:nvSpPr>
        <p:spPr>
          <a:xfrm>
            <a:off x="4325760" y="1100160"/>
            <a:ext cx="0" cy="3402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4" name=""/>
          <p:cNvSpPr/>
          <p:nvPr/>
        </p:nvSpPr>
        <p:spPr>
          <a:xfrm>
            <a:off x="4325760" y="2692440"/>
            <a:ext cx="723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5" name=""/>
          <p:cNvSpPr/>
          <p:nvPr/>
        </p:nvSpPr>
        <p:spPr>
          <a:xfrm>
            <a:off x="4325760" y="4502160"/>
            <a:ext cx="723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>
            <a:off x="3024360" y="1535040"/>
            <a:ext cx="0" cy="7952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3024360" y="2330280"/>
            <a:ext cx="723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3747960" y="2330280"/>
            <a:ext cx="0" cy="23162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>
            <a:off x="3747960" y="3705120"/>
            <a:ext cx="130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3747960" y="4646520"/>
            <a:ext cx="130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>
            <a:off x="1793880" y="479124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2806560" y="5514840"/>
            <a:ext cx="362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3168720" y="21146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3168720" y="39956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>
            <a:off x="3168720" y="312732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>
            <a:off x="3168720" y="493560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649520" y="62856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793880" y="5514840"/>
            <a:ext cx="434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6786720" y="2765520"/>
            <a:ext cx="650880" cy="9396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 flipV="1">
            <a:off x="6280200" y="3344760"/>
            <a:ext cx="0" cy="433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>
            <a:off x="5700600" y="1968480"/>
            <a:ext cx="7970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6497640" y="1968480"/>
            <a:ext cx="0" cy="9414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6497640" y="2909880"/>
            <a:ext cx="289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>
            <a:off x="5700600" y="2836800"/>
            <a:ext cx="57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6280200" y="2836800"/>
            <a:ext cx="0" cy="2905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6280200" y="3127320"/>
            <a:ext cx="506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>
            <a:off x="5700600" y="3778200"/>
            <a:ext cx="57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6280200" y="3344760"/>
            <a:ext cx="506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5700600" y="4791240"/>
            <a:ext cx="7970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 flipV="1">
            <a:off x="6497640" y="3560760"/>
            <a:ext cx="0" cy="12304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6497640" y="3560760"/>
            <a:ext cx="289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7437600" y="3198960"/>
            <a:ext cx="434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6858000" y="283680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 flipH="1">
            <a:off x="6931080" y="3127320"/>
            <a:ext cx="217440" cy="1443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7726320" y="2692440"/>
            <a:ext cx="5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1216080" y="450216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1216080" y="363384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1227600" y="2765520"/>
            <a:ext cx="53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1216080" y="175248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1226520" y="4492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1143000" y="1246320"/>
            <a:ext cx="65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2" name=""/>
          <p:cNvGrpSpPr/>
          <p:nvPr/>
        </p:nvGrpSpPr>
        <p:grpSpPr>
          <a:xfrm>
            <a:off x="1294560" y="5297400"/>
            <a:ext cx="368280" cy="520560"/>
            <a:chOff x="1294560" y="5297400"/>
            <a:chExt cx="368280" cy="520560"/>
          </a:xfrm>
        </p:grpSpPr>
        <p:sp>
          <p:nvSpPr>
            <p:cNvPr id="8553" name=""/>
            <p:cNvSpPr/>
            <p:nvPr/>
          </p:nvSpPr>
          <p:spPr>
            <a:xfrm>
              <a:off x="1294560" y="52974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1359360" y="5369760"/>
              <a:ext cx="216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5" name=""/>
          <p:cNvSpPr/>
          <p:nvPr/>
        </p:nvSpPr>
        <p:spPr>
          <a:xfrm>
            <a:off x="1793880" y="500868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2724480" y="5008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7" name=""/>
          <p:cNvGrpSpPr/>
          <p:nvPr/>
        </p:nvGrpSpPr>
        <p:grpSpPr>
          <a:xfrm>
            <a:off x="5834160" y="1461960"/>
            <a:ext cx="507600" cy="3453480"/>
            <a:chOff x="5834160" y="1461960"/>
            <a:chExt cx="507600" cy="3453480"/>
          </a:xfrm>
        </p:grpSpPr>
        <p:sp>
          <p:nvSpPr>
            <p:cNvPr id="8558" name=""/>
            <p:cNvSpPr/>
            <p:nvPr/>
          </p:nvSpPr>
          <p:spPr>
            <a:xfrm>
              <a:off x="5854680" y="44053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?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5834160" y="3343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5834160" y="240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5834160" y="146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2" name=""/>
          <p:cNvSpPr/>
          <p:nvPr/>
        </p:nvSpPr>
        <p:spPr>
          <a:xfrm>
            <a:off x="6280200" y="4935600"/>
            <a:ext cx="18082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与”门打开，选择器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1649520" y="149688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649520" y="193212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685880" y="294624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1685880" y="380988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1685880" y="4737240"/>
            <a:ext cx="88920" cy="1094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685880" y="545472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7872480" y="314316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6005520" y="304920"/>
            <a:ext cx="26049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由控制端决定选择哪一路数据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>
            <a:off x="4110120" y="5297400"/>
            <a:ext cx="868320" cy="362160"/>
          </a:xfrm>
          <a:prstGeom prst="wedgeRoundRectCallout">
            <a:avLst>
              <a:gd name="adj1" fmla="val 75000"/>
              <a:gd name="adj2" fmla="val -150000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选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796160" y="3127320"/>
            <a:ext cx="487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?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3" name=""/>
          <p:cNvGrpSpPr/>
          <p:nvPr/>
        </p:nvGrpSpPr>
        <p:grpSpPr>
          <a:xfrm>
            <a:off x="1711800" y="155520"/>
            <a:ext cx="2481840" cy="1483200"/>
            <a:chOff x="1711800" y="155520"/>
            <a:chExt cx="2481840" cy="1483200"/>
          </a:xfrm>
        </p:grpSpPr>
        <p:grpSp>
          <p:nvGrpSpPr>
            <p:cNvPr id="8574" name=""/>
            <p:cNvGrpSpPr/>
            <p:nvPr/>
          </p:nvGrpSpPr>
          <p:grpSpPr>
            <a:xfrm>
              <a:off x="1711800" y="155520"/>
              <a:ext cx="2481840" cy="1483200"/>
              <a:chOff x="1711800" y="155520"/>
              <a:chExt cx="2481840" cy="1483200"/>
            </a:xfrm>
          </p:grpSpPr>
          <p:grpSp>
            <p:nvGrpSpPr>
              <p:cNvPr id="8575" name=""/>
              <p:cNvGrpSpPr/>
              <p:nvPr/>
            </p:nvGrpSpPr>
            <p:grpSpPr>
              <a:xfrm>
                <a:off x="1711800" y="177840"/>
                <a:ext cx="383400" cy="1388160"/>
                <a:chOff x="1711800" y="177840"/>
                <a:chExt cx="383400" cy="1388160"/>
              </a:xfrm>
            </p:grpSpPr>
            <p:sp>
              <p:nvSpPr>
                <p:cNvPr id="8576" name=""/>
                <p:cNvSpPr/>
                <p:nvPr/>
              </p:nvSpPr>
              <p:spPr>
                <a:xfrm>
                  <a:off x="1711800" y="17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7" name=""/>
                <p:cNvSpPr/>
                <p:nvPr/>
              </p:nvSpPr>
              <p:spPr>
                <a:xfrm>
                  <a:off x="1711800" y="10454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8" name=""/>
              <p:cNvSpPr/>
              <p:nvPr/>
            </p:nvSpPr>
            <p:spPr>
              <a:xfrm>
                <a:off x="2796480" y="177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2796480" y="1045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3966120" y="15552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3810240" y="1118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2" name=""/>
            <p:cNvSpPr/>
            <p:nvPr/>
          </p:nvSpPr>
          <p:spPr>
            <a:xfrm>
              <a:off x="3799440" y="22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3" name=""/>
          <p:cNvSpPr/>
          <p:nvPr/>
        </p:nvSpPr>
        <p:spPr>
          <a:xfrm>
            <a:off x="2173680" y="58816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CT74LS153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型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选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>
            <a:hlinkClick r:id="rId3"/>
          </p:cNvPr>
          <p:cNvSpPr/>
          <p:nvPr/>
        </p:nvSpPr>
        <p:spPr>
          <a:xfrm>
            <a:off x="4800600" y="5335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5" name=""/>
          <p:cNvSpPr/>
          <p:nvPr/>
        </p:nvSpPr>
        <p:spPr>
          <a:xfrm>
            <a:off x="1905120" y="12952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1487160" y="304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由逻辑图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7" name=""/>
              <p:cNvSpPr txBox="1"/>
              <p:nvPr/>
            </p:nvSpPr>
            <p:spPr>
              <a:xfrm>
                <a:off x="838080" y="838080"/>
                <a:ext cx="777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88" name=""/>
          <p:cNvGrpSpPr/>
          <p:nvPr/>
        </p:nvGrpSpPr>
        <p:grpSpPr>
          <a:xfrm>
            <a:off x="762120" y="1309680"/>
            <a:ext cx="3733200" cy="3796920"/>
            <a:chOff x="762120" y="1309680"/>
            <a:chExt cx="3733200" cy="3796920"/>
          </a:xfrm>
        </p:grpSpPr>
        <p:sp>
          <p:nvSpPr>
            <p:cNvPr id="8589" name=""/>
            <p:cNvSpPr/>
            <p:nvPr/>
          </p:nvSpPr>
          <p:spPr>
            <a:xfrm>
              <a:off x="1307880" y="1309680"/>
              <a:ext cx="274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CT74LS153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838080" y="2363760"/>
              <a:ext cx="3657240" cy="126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1752480" y="1868400"/>
              <a:ext cx="0" cy="31748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81280" y="1842840"/>
              <a:ext cx="0" cy="3200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762120" y="186840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使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2197800" y="19159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728160" y="187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1073520" y="2363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 flipV="1">
              <a:off x="1142640" y="2434680"/>
              <a:ext cx="228240" cy="17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2742840" y="237636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1991160" y="23637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744000" y="2392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1055880" y="285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722760" y="29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1055880" y="328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2046240" y="32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2808360" y="329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1055880" y="370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2046240" y="370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2808360" y="373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2046240" y="4133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2808360" y="41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1055880" y="4133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2046240" y="45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808360" y="4586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1055880" y="45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733560" y="458604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742920" y="412884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3366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742920" y="37479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742920" y="33192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2009160" y="27842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2772720" y="2817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838080" y="1842840"/>
              <a:ext cx="3657240" cy="12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838080" y="2909880"/>
              <a:ext cx="3657240" cy="126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838080" y="5043240"/>
              <a:ext cx="3657240" cy="12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4" name=""/>
          <p:cNvGrpSpPr/>
          <p:nvPr/>
        </p:nvGrpSpPr>
        <p:grpSpPr>
          <a:xfrm>
            <a:off x="4836960" y="1676520"/>
            <a:ext cx="3823200" cy="3619080"/>
            <a:chOff x="4836960" y="1676520"/>
            <a:chExt cx="3823200" cy="3619080"/>
          </a:xfrm>
        </p:grpSpPr>
        <p:sp>
          <p:nvSpPr>
            <p:cNvPr id="8625" name=""/>
            <p:cNvSpPr/>
            <p:nvPr/>
          </p:nvSpPr>
          <p:spPr>
            <a:xfrm>
              <a:off x="4836960" y="441972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5135400" y="44956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5362560" y="44197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5719680" y="4419720"/>
              <a:ext cx="658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6231600" y="44197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6672240" y="4419720"/>
              <a:ext cx="658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7109280" y="44197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7540560" y="441972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81255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4842000" y="2362320"/>
              <a:ext cx="380988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5746320" y="274320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CT74LS1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5933880" y="3200400"/>
              <a:ext cx="159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双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选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6212520" y="16765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6669720" y="16765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71280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75852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8032680" y="167652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5840280" y="1676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5370480" y="167652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 flipV="1">
              <a:off x="5715000" y="1752120"/>
              <a:ext cx="15228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4842000" y="16765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6" name=""/>
            <p:cNvGrpSpPr/>
            <p:nvPr/>
          </p:nvGrpSpPr>
          <p:grpSpPr>
            <a:xfrm>
              <a:off x="5357520" y="2057400"/>
              <a:ext cx="473400" cy="429120"/>
              <a:chOff x="5357520" y="2057400"/>
              <a:chExt cx="473400" cy="429120"/>
            </a:xfrm>
          </p:grpSpPr>
          <p:grpSp>
            <p:nvGrpSpPr>
              <p:cNvPr id="8647" name=""/>
              <p:cNvGrpSpPr/>
              <p:nvPr/>
            </p:nvGrpSpPr>
            <p:grpSpPr>
              <a:xfrm>
                <a:off x="5491080" y="2133720"/>
                <a:ext cx="270000" cy="228600"/>
                <a:chOff x="5491080" y="2133720"/>
                <a:chExt cx="270000" cy="228600"/>
              </a:xfrm>
            </p:grpSpPr>
            <p:sp>
              <p:nvSpPr>
                <p:cNvPr id="8648" name=""/>
                <p:cNvSpPr/>
                <p:nvPr/>
              </p:nvSpPr>
              <p:spPr>
                <a:xfrm>
                  <a:off x="54910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9" name=""/>
                <p:cNvSpPr/>
                <p:nvPr/>
              </p:nvSpPr>
              <p:spPr>
                <a:xfrm>
                  <a:off x="54910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0" name=""/>
                <p:cNvSpPr/>
                <p:nvPr/>
              </p:nvSpPr>
              <p:spPr>
                <a:xfrm>
                  <a:off x="57610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1" name=""/>
              <p:cNvSpPr/>
              <p:nvPr/>
            </p:nvSpPr>
            <p:spPr>
              <a:xfrm>
                <a:off x="53575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2" name=""/>
            <p:cNvGrpSpPr/>
            <p:nvPr/>
          </p:nvGrpSpPr>
          <p:grpSpPr>
            <a:xfrm>
              <a:off x="5814720" y="2057400"/>
              <a:ext cx="473400" cy="429120"/>
              <a:chOff x="5814720" y="2057400"/>
              <a:chExt cx="473400" cy="429120"/>
            </a:xfrm>
          </p:grpSpPr>
          <p:grpSp>
            <p:nvGrpSpPr>
              <p:cNvPr id="8653" name=""/>
              <p:cNvGrpSpPr/>
              <p:nvPr/>
            </p:nvGrpSpPr>
            <p:grpSpPr>
              <a:xfrm>
                <a:off x="5948280" y="2133720"/>
                <a:ext cx="270000" cy="228600"/>
                <a:chOff x="5948280" y="2133720"/>
                <a:chExt cx="270000" cy="228600"/>
              </a:xfrm>
            </p:grpSpPr>
            <p:sp>
              <p:nvSpPr>
                <p:cNvPr id="8654" name=""/>
                <p:cNvSpPr/>
                <p:nvPr/>
              </p:nvSpPr>
              <p:spPr>
                <a:xfrm>
                  <a:off x="59482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5" name=""/>
                <p:cNvSpPr/>
                <p:nvPr/>
              </p:nvSpPr>
              <p:spPr>
                <a:xfrm>
                  <a:off x="59482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6" name=""/>
                <p:cNvSpPr/>
                <p:nvPr/>
              </p:nvSpPr>
              <p:spPr>
                <a:xfrm>
                  <a:off x="62182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7" name=""/>
              <p:cNvSpPr/>
              <p:nvPr/>
            </p:nvSpPr>
            <p:spPr>
              <a:xfrm>
                <a:off x="58147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8" name=""/>
            <p:cNvGrpSpPr/>
            <p:nvPr/>
          </p:nvGrpSpPr>
          <p:grpSpPr>
            <a:xfrm>
              <a:off x="6271920" y="2057400"/>
              <a:ext cx="473400" cy="429120"/>
              <a:chOff x="6271920" y="2057400"/>
              <a:chExt cx="473400" cy="429120"/>
            </a:xfrm>
          </p:grpSpPr>
          <p:grpSp>
            <p:nvGrpSpPr>
              <p:cNvPr id="8659" name=""/>
              <p:cNvGrpSpPr/>
              <p:nvPr/>
            </p:nvGrpSpPr>
            <p:grpSpPr>
              <a:xfrm>
                <a:off x="6405480" y="2133720"/>
                <a:ext cx="270000" cy="228600"/>
                <a:chOff x="6405480" y="2133720"/>
                <a:chExt cx="270000" cy="228600"/>
              </a:xfrm>
            </p:grpSpPr>
            <p:sp>
              <p:nvSpPr>
                <p:cNvPr id="8660" name=""/>
                <p:cNvSpPr/>
                <p:nvPr/>
              </p:nvSpPr>
              <p:spPr>
                <a:xfrm>
                  <a:off x="64054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1" name=""/>
                <p:cNvSpPr/>
                <p:nvPr/>
              </p:nvSpPr>
              <p:spPr>
                <a:xfrm>
                  <a:off x="64054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2" name=""/>
                <p:cNvSpPr/>
                <p:nvPr/>
              </p:nvSpPr>
              <p:spPr>
                <a:xfrm>
                  <a:off x="66754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3" name=""/>
              <p:cNvSpPr/>
              <p:nvPr/>
            </p:nvSpPr>
            <p:spPr>
              <a:xfrm>
                <a:off x="62719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4" name=""/>
            <p:cNvGrpSpPr/>
            <p:nvPr/>
          </p:nvGrpSpPr>
          <p:grpSpPr>
            <a:xfrm>
              <a:off x="6729120" y="2057400"/>
              <a:ext cx="473400" cy="429120"/>
              <a:chOff x="6729120" y="2057400"/>
              <a:chExt cx="473400" cy="429120"/>
            </a:xfrm>
          </p:grpSpPr>
          <p:grpSp>
            <p:nvGrpSpPr>
              <p:cNvPr id="8665" name=""/>
              <p:cNvGrpSpPr/>
              <p:nvPr/>
            </p:nvGrpSpPr>
            <p:grpSpPr>
              <a:xfrm>
                <a:off x="6862680" y="2133720"/>
                <a:ext cx="270000" cy="228600"/>
                <a:chOff x="6862680" y="2133720"/>
                <a:chExt cx="270000" cy="228600"/>
              </a:xfrm>
            </p:grpSpPr>
            <p:sp>
              <p:nvSpPr>
                <p:cNvPr id="8666" name=""/>
                <p:cNvSpPr/>
                <p:nvPr/>
              </p:nvSpPr>
              <p:spPr>
                <a:xfrm>
                  <a:off x="68626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7" name=""/>
                <p:cNvSpPr/>
                <p:nvPr/>
              </p:nvSpPr>
              <p:spPr>
                <a:xfrm>
                  <a:off x="68626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8" name=""/>
                <p:cNvSpPr/>
                <p:nvPr/>
              </p:nvSpPr>
              <p:spPr>
                <a:xfrm>
                  <a:off x="71326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9" name=""/>
              <p:cNvSpPr/>
              <p:nvPr/>
            </p:nvSpPr>
            <p:spPr>
              <a:xfrm>
                <a:off x="67291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0" name=""/>
            <p:cNvGrpSpPr/>
            <p:nvPr/>
          </p:nvGrpSpPr>
          <p:grpSpPr>
            <a:xfrm>
              <a:off x="7186320" y="2057400"/>
              <a:ext cx="473400" cy="429120"/>
              <a:chOff x="7186320" y="2057400"/>
              <a:chExt cx="473400" cy="429120"/>
            </a:xfrm>
          </p:grpSpPr>
          <p:grpSp>
            <p:nvGrpSpPr>
              <p:cNvPr id="8671" name=""/>
              <p:cNvGrpSpPr/>
              <p:nvPr/>
            </p:nvGrpSpPr>
            <p:grpSpPr>
              <a:xfrm>
                <a:off x="7319880" y="2133720"/>
                <a:ext cx="270000" cy="228600"/>
                <a:chOff x="7319880" y="2133720"/>
                <a:chExt cx="270000" cy="228600"/>
              </a:xfrm>
            </p:grpSpPr>
            <p:sp>
              <p:nvSpPr>
                <p:cNvPr id="8672" name=""/>
                <p:cNvSpPr/>
                <p:nvPr/>
              </p:nvSpPr>
              <p:spPr>
                <a:xfrm>
                  <a:off x="73198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3" name=""/>
                <p:cNvSpPr/>
                <p:nvPr/>
              </p:nvSpPr>
              <p:spPr>
                <a:xfrm>
                  <a:off x="73198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4" name=""/>
                <p:cNvSpPr/>
                <p:nvPr/>
              </p:nvSpPr>
              <p:spPr>
                <a:xfrm>
                  <a:off x="75898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75" name=""/>
              <p:cNvSpPr/>
              <p:nvPr/>
            </p:nvSpPr>
            <p:spPr>
              <a:xfrm>
                <a:off x="71863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6" name=""/>
            <p:cNvGrpSpPr/>
            <p:nvPr/>
          </p:nvGrpSpPr>
          <p:grpSpPr>
            <a:xfrm>
              <a:off x="7643520" y="2057400"/>
              <a:ext cx="473400" cy="429120"/>
              <a:chOff x="7643520" y="2057400"/>
              <a:chExt cx="473400" cy="429120"/>
            </a:xfrm>
          </p:grpSpPr>
          <p:grpSp>
            <p:nvGrpSpPr>
              <p:cNvPr id="8677" name=""/>
              <p:cNvGrpSpPr/>
              <p:nvPr/>
            </p:nvGrpSpPr>
            <p:grpSpPr>
              <a:xfrm>
                <a:off x="7777080" y="2133720"/>
                <a:ext cx="270000" cy="228600"/>
                <a:chOff x="7777080" y="2133720"/>
                <a:chExt cx="270000" cy="228600"/>
              </a:xfrm>
            </p:grpSpPr>
            <p:sp>
              <p:nvSpPr>
                <p:cNvPr id="8678" name=""/>
                <p:cNvSpPr/>
                <p:nvPr/>
              </p:nvSpPr>
              <p:spPr>
                <a:xfrm>
                  <a:off x="77770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9" name=""/>
                <p:cNvSpPr/>
                <p:nvPr/>
              </p:nvSpPr>
              <p:spPr>
                <a:xfrm>
                  <a:off x="77770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0" name=""/>
                <p:cNvSpPr/>
                <p:nvPr/>
              </p:nvSpPr>
              <p:spPr>
                <a:xfrm>
                  <a:off x="80470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1" name=""/>
              <p:cNvSpPr/>
              <p:nvPr/>
            </p:nvSpPr>
            <p:spPr>
              <a:xfrm>
                <a:off x="76435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2" name=""/>
            <p:cNvGrpSpPr/>
            <p:nvPr/>
          </p:nvGrpSpPr>
          <p:grpSpPr>
            <a:xfrm>
              <a:off x="8174160" y="2057400"/>
              <a:ext cx="329760" cy="429120"/>
              <a:chOff x="8174160" y="2057400"/>
              <a:chExt cx="329760" cy="429120"/>
            </a:xfrm>
          </p:grpSpPr>
          <p:grpSp>
            <p:nvGrpSpPr>
              <p:cNvPr id="8683" name=""/>
              <p:cNvGrpSpPr/>
              <p:nvPr/>
            </p:nvGrpSpPr>
            <p:grpSpPr>
              <a:xfrm>
                <a:off x="8234280" y="2133720"/>
                <a:ext cx="269640" cy="228600"/>
                <a:chOff x="8234280" y="2133720"/>
                <a:chExt cx="269640" cy="228600"/>
              </a:xfrm>
            </p:grpSpPr>
            <p:sp>
              <p:nvSpPr>
                <p:cNvPr id="8684" name=""/>
                <p:cNvSpPr/>
                <p:nvPr/>
              </p:nvSpPr>
              <p:spPr>
                <a:xfrm>
                  <a:off x="82342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5" name=""/>
                <p:cNvSpPr/>
                <p:nvPr/>
              </p:nvSpPr>
              <p:spPr>
                <a:xfrm>
                  <a:off x="8234280" y="2133720"/>
                  <a:ext cx="269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6" name=""/>
                <p:cNvSpPr/>
                <p:nvPr/>
              </p:nvSpPr>
              <p:spPr>
                <a:xfrm>
                  <a:off x="850392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7" name=""/>
              <p:cNvSpPr/>
              <p:nvPr/>
            </p:nvSpPr>
            <p:spPr>
              <a:xfrm>
                <a:off x="8174160" y="2057400"/>
                <a:ext cx="326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8" name=""/>
            <p:cNvGrpSpPr/>
            <p:nvPr/>
          </p:nvGrpSpPr>
          <p:grpSpPr>
            <a:xfrm>
              <a:off x="4900320" y="2057400"/>
              <a:ext cx="473400" cy="429120"/>
              <a:chOff x="4900320" y="2057400"/>
              <a:chExt cx="473400" cy="429120"/>
            </a:xfrm>
          </p:grpSpPr>
          <p:grpSp>
            <p:nvGrpSpPr>
              <p:cNvPr id="8689" name=""/>
              <p:cNvGrpSpPr/>
              <p:nvPr/>
            </p:nvGrpSpPr>
            <p:grpSpPr>
              <a:xfrm>
                <a:off x="5033880" y="2133720"/>
                <a:ext cx="270000" cy="228600"/>
                <a:chOff x="5033880" y="2133720"/>
                <a:chExt cx="270000" cy="228600"/>
              </a:xfrm>
            </p:grpSpPr>
            <p:sp>
              <p:nvSpPr>
                <p:cNvPr id="8690" name=""/>
                <p:cNvSpPr/>
                <p:nvPr/>
              </p:nvSpPr>
              <p:spPr>
                <a:xfrm>
                  <a:off x="50338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>
                  <a:off x="5033880" y="2133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2" name=""/>
                <p:cNvSpPr/>
                <p:nvPr/>
              </p:nvSpPr>
              <p:spPr>
                <a:xfrm>
                  <a:off x="5303880" y="2133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3" name=""/>
              <p:cNvSpPr/>
              <p:nvPr/>
            </p:nvSpPr>
            <p:spPr>
              <a:xfrm>
                <a:off x="4900320" y="2057400"/>
                <a:ext cx="473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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4" name=""/>
            <p:cNvGrpSpPr/>
            <p:nvPr/>
          </p:nvGrpSpPr>
          <p:grpSpPr>
            <a:xfrm>
              <a:off x="4986360" y="4114800"/>
              <a:ext cx="326880" cy="398880"/>
              <a:chOff x="4986360" y="4114800"/>
              <a:chExt cx="326880" cy="398880"/>
            </a:xfrm>
          </p:grpSpPr>
          <p:sp>
            <p:nvSpPr>
              <p:cNvPr id="8695" name=""/>
              <p:cNvSpPr/>
              <p:nvPr/>
            </p:nvSpPr>
            <p:spPr>
              <a:xfrm>
                <a:off x="49863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6" name=""/>
              <p:cNvGrpSpPr/>
              <p:nvPr/>
            </p:nvGrpSpPr>
            <p:grpSpPr>
              <a:xfrm>
                <a:off x="4994280" y="4191120"/>
                <a:ext cx="270000" cy="228600"/>
                <a:chOff x="4994280" y="4191120"/>
                <a:chExt cx="270000" cy="228600"/>
              </a:xfrm>
            </p:grpSpPr>
            <p:sp>
              <p:nvSpPr>
                <p:cNvPr id="8697" name=""/>
                <p:cNvSpPr/>
                <p:nvPr/>
              </p:nvSpPr>
              <p:spPr>
                <a:xfrm>
                  <a:off x="49942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8" name=""/>
                <p:cNvSpPr/>
                <p:nvPr/>
              </p:nvSpPr>
              <p:spPr>
                <a:xfrm>
                  <a:off x="49942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9" name=""/>
                <p:cNvSpPr/>
                <p:nvPr/>
              </p:nvSpPr>
              <p:spPr>
                <a:xfrm>
                  <a:off x="52642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00" name=""/>
            <p:cNvGrpSpPr/>
            <p:nvPr/>
          </p:nvGrpSpPr>
          <p:grpSpPr>
            <a:xfrm>
              <a:off x="5900760" y="4114800"/>
              <a:ext cx="326880" cy="398880"/>
              <a:chOff x="5900760" y="4114800"/>
              <a:chExt cx="326880" cy="398880"/>
            </a:xfrm>
          </p:grpSpPr>
          <p:sp>
            <p:nvSpPr>
              <p:cNvPr id="8701" name=""/>
              <p:cNvSpPr/>
              <p:nvPr/>
            </p:nvSpPr>
            <p:spPr>
              <a:xfrm>
                <a:off x="59007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2" name=""/>
              <p:cNvGrpSpPr/>
              <p:nvPr/>
            </p:nvGrpSpPr>
            <p:grpSpPr>
              <a:xfrm>
                <a:off x="5908680" y="4191120"/>
                <a:ext cx="270000" cy="228600"/>
                <a:chOff x="5908680" y="4191120"/>
                <a:chExt cx="270000" cy="228600"/>
              </a:xfrm>
            </p:grpSpPr>
            <p:sp>
              <p:nvSpPr>
                <p:cNvPr id="8703" name=""/>
                <p:cNvSpPr/>
                <p:nvPr/>
              </p:nvSpPr>
              <p:spPr>
                <a:xfrm>
                  <a:off x="59086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4" name=""/>
                <p:cNvSpPr/>
                <p:nvPr/>
              </p:nvSpPr>
              <p:spPr>
                <a:xfrm>
                  <a:off x="59086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5" name=""/>
                <p:cNvSpPr/>
                <p:nvPr/>
              </p:nvSpPr>
              <p:spPr>
                <a:xfrm>
                  <a:off x="61786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06" name=""/>
            <p:cNvGrpSpPr/>
            <p:nvPr/>
          </p:nvGrpSpPr>
          <p:grpSpPr>
            <a:xfrm>
              <a:off x="5443560" y="4114800"/>
              <a:ext cx="326880" cy="398880"/>
              <a:chOff x="5443560" y="4114800"/>
              <a:chExt cx="326880" cy="398880"/>
            </a:xfrm>
          </p:grpSpPr>
          <p:sp>
            <p:nvSpPr>
              <p:cNvPr id="8707" name=""/>
              <p:cNvSpPr/>
              <p:nvPr/>
            </p:nvSpPr>
            <p:spPr>
              <a:xfrm>
                <a:off x="54435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8" name=""/>
              <p:cNvGrpSpPr/>
              <p:nvPr/>
            </p:nvGrpSpPr>
            <p:grpSpPr>
              <a:xfrm>
                <a:off x="5451480" y="4191120"/>
                <a:ext cx="270000" cy="228600"/>
                <a:chOff x="5451480" y="4191120"/>
                <a:chExt cx="270000" cy="228600"/>
              </a:xfrm>
            </p:grpSpPr>
            <p:sp>
              <p:nvSpPr>
                <p:cNvPr id="8709" name=""/>
                <p:cNvSpPr/>
                <p:nvPr/>
              </p:nvSpPr>
              <p:spPr>
                <a:xfrm>
                  <a:off x="54514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>
                  <a:off x="54514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1" name=""/>
                <p:cNvSpPr/>
                <p:nvPr/>
              </p:nvSpPr>
              <p:spPr>
                <a:xfrm>
                  <a:off x="57214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12" name=""/>
            <p:cNvGrpSpPr/>
            <p:nvPr/>
          </p:nvGrpSpPr>
          <p:grpSpPr>
            <a:xfrm>
              <a:off x="6357960" y="4114800"/>
              <a:ext cx="326880" cy="398880"/>
              <a:chOff x="6357960" y="4114800"/>
              <a:chExt cx="326880" cy="398880"/>
            </a:xfrm>
          </p:grpSpPr>
          <p:sp>
            <p:nvSpPr>
              <p:cNvPr id="8713" name=""/>
              <p:cNvSpPr/>
              <p:nvPr/>
            </p:nvSpPr>
            <p:spPr>
              <a:xfrm>
                <a:off x="63579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4" name=""/>
              <p:cNvGrpSpPr/>
              <p:nvPr/>
            </p:nvGrpSpPr>
            <p:grpSpPr>
              <a:xfrm>
                <a:off x="6365880" y="4191120"/>
                <a:ext cx="270000" cy="228600"/>
                <a:chOff x="6365880" y="4191120"/>
                <a:chExt cx="270000" cy="228600"/>
              </a:xfrm>
            </p:grpSpPr>
            <p:sp>
              <p:nvSpPr>
                <p:cNvPr id="8715" name=""/>
                <p:cNvSpPr/>
                <p:nvPr/>
              </p:nvSpPr>
              <p:spPr>
                <a:xfrm>
                  <a:off x="63658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6" name=""/>
                <p:cNvSpPr/>
                <p:nvPr/>
              </p:nvSpPr>
              <p:spPr>
                <a:xfrm>
                  <a:off x="63658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7" name=""/>
                <p:cNvSpPr/>
                <p:nvPr/>
              </p:nvSpPr>
              <p:spPr>
                <a:xfrm>
                  <a:off x="66358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18" name=""/>
            <p:cNvGrpSpPr/>
            <p:nvPr/>
          </p:nvGrpSpPr>
          <p:grpSpPr>
            <a:xfrm>
              <a:off x="6815160" y="4114800"/>
              <a:ext cx="326880" cy="398880"/>
              <a:chOff x="6815160" y="4114800"/>
              <a:chExt cx="326880" cy="398880"/>
            </a:xfrm>
          </p:grpSpPr>
          <p:sp>
            <p:nvSpPr>
              <p:cNvPr id="8719" name=""/>
              <p:cNvSpPr/>
              <p:nvPr/>
            </p:nvSpPr>
            <p:spPr>
              <a:xfrm>
                <a:off x="68151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0" name=""/>
              <p:cNvGrpSpPr/>
              <p:nvPr/>
            </p:nvGrpSpPr>
            <p:grpSpPr>
              <a:xfrm>
                <a:off x="6823080" y="4191120"/>
                <a:ext cx="270000" cy="228600"/>
                <a:chOff x="6823080" y="4191120"/>
                <a:chExt cx="270000" cy="228600"/>
              </a:xfrm>
            </p:grpSpPr>
            <p:sp>
              <p:nvSpPr>
                <p:cNvPr id="8721" name=""/>
                <p:cNvSpPr/>
                <p:nvPr/>
              </p:nvSpPr>
              <p:spPr>
                <a:xfrm>
                  <a:off x="68230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2" name=""/>
                <p:cNvSpPr/>
                <p:nvPr/>
              </p:nvSpPr>
              <p:spPr>
                <a:xfrm>
                  <a:off x="68230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3" name=""/>
                <p:cNvSpPr/>
                <p:nvPr/>
              </p:nvSpPr>
              <p:spPr>
                <a:xfrm>
                  <a:off x="70930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24" name=""/>
            <p:cNvGrpSpPr/>
            <p:nvPr/>
          </p:nvGrpSpPr>
          <p:grpSpPr>
            <a:xfrm>
              <a:off x="7272360" y="4114800"/>
              <a:ext cx="326880" cy="398880"/>
              <a:chOff x="7272360" y="4114800"/>
              <a:chExt cx="326880" cy="398880"/>
            </a:xfrm>
          </p:grpSpPr>
          <p:sp>
            <p:nvSpPr>
              <p:cNvPr id="8725" name=""/>
              <p:cNvSpPr/>
              <p:nvPr/>
            </p:nvSpPr>
            <p:spPr>
              <a:xfrm>
                <a:off x="72723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6" name=""/>
              <p:cNvGrpSpPr/>
              <p:nvPr/>
            </p:nvGrpSpPr>
            <p:grpSpPr>
              <a:xfrm>
                <a:off x="7280280" y="4191120"/>
                <a:ext cx="270000" cy="228600"/>
                <a:chOff x="7280280" y="4191120"/>
                <a:chExt cx="270000" cy="228600"/>
              </a:xfrm>
            </p:grpSpPr>
            <p:sp>
              <p:nvSpPr>
                <p:cNvPr id="8727" name=""/>
                <p:cNvSpPr/>
                <p:nvPr/>
              </p:nvSpPr>
              <p:spPr>
                <a:xfrm>
                  <a:off x="72802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8" name=""/>
                <p:cNvSpPr/>
                <p:nvPr/>
              </p:nvSpPr>
              <p:spPr>
                <a:xfrm>
                  <a:off x="72802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9" name=""/>
                <p:cNvSpPr/>
                <p:nvPr/>
              </p:nvSpPr>
              <p:spPr>
                <a:xfrm>
                  <a:off x="75502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30" name=""/>
            <p:cNvGrpSpPr/>
            <p:nvPr/>
          </p:nvGrpSpPr>
          <p:grpSpPr>
            <a:xfrm>
              <a:off x="7729560" y="4114800"/>
              <a:ext cx="326880" cy="398880"/>
              <a:chOff x="7729560" y="4114800"/>
              <a:chExt cx="326880" cy="398880"/>
            </a:xfrm>
          </p:grpSpPr>
          <p:sp>
            <p:nvSpPr>
              <p:cNvPr id="8731" name=""/>
              <p:cNvSpPr/>
              <p:nvPr/>
            </p:nvSpPr>
            <p:spPr>
              <a:xfrm>
                <a:off x="77295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32" name=""/>
              <p:cNvGrpSpPr/>
              <p:nvPr/>
            </p:nvGrpSpPr>
            <p:grpSpPr>
              <a:xfrm>
                <a:off x="7737480" y="4191120"/>
                <a:ext cx="270000" cy="228600"/>
                <a:chOff x="7737480" y="4191120"/>
                <a:chExt cx="270000" cy="228600"/>
              </a:xfrm>
            </p:grpSpPr>
            <p:sp>
              <p:nvSpPr>
                <p:cNvPr id="8733" name=""/>
                <p:cNvSpPr/>
                <p:nvPr/>
              </p:nvSpPr>
              <p:spPr>
                <a:xfrm>
                  <a:off x="77374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4" name=""/>
                <p:cNvSpPr/>
                <p:nvPr/>
              </p:nvSpPr>
              <p:spPr>
                <a:xfrm>
                  <a:off x="77374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5" name=""/>
                <p:cNvSpPr/>
                <p:nvPr/>
              </p:nvSpPr>
              <p:spPr>
                <a:xfrm>
                  <a:off x="80074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36" name=""/>
            <p:cNvGrpSpPr/>
            <p:nvPr/>
          </p:nvGrpSpPr>
          <p:grpSpPr>
            <a:xfrm>
              <a:off x="8186760" y="4114800"/>
              <a:ext cx="326880" cy="398880"/>
              <a:chOff x="8186760" y="4114800"/>
              <a:chExt cx="326880" cy="398880"/>
            </a:xfrm>
          </p:grpSpPr>
          <p:sp>
            <p:nvSpPr>
              <p:cNvPr id="8737" name=""/>
              <p:cNvSpPr/>
              <p:nvPr/>
            </p:nvSpPr>
            <p:spPr>
              <a:xfrm>
                <a:off x="8186760" y="411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38" name=""/>
              <p:cNvGrpSpPr/>
              <p:nvPr/>
            </p:nvGrpSpPr>
            <p:grpSpPr>
              <a:xfrm>
                <a:off x="8194680" y="4191120"/>
                <a:ext cx="270000" cy="228600"/>
                <a:chOff x="8194680" y="4191120"/>
                <a:chExt cx="270000" cy="228600"/>
              </a:xfrm>
            </p:grpSpPr>
            <p:sp>
              <p:nvSpPr>
                <p:cNvPr id="8739" name=""/>
                <p:cNvSpPr/>
                <p:nvPr/>
              </p:nvSpPr>
              <p:spPr>
                <a:xfrm>
                  <a:off x="81946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0" name=""/>
                <p:cNvSpPr/>
                <p:nvPr/>
              </p:nvSpPr>
              <p:spPr>
                <a:xfrm>
                  <a:off x="8194680" y="4419720"/>
                  <a:ext cx="27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1" name=""/>
                <p:cNvSpPr/>
                <p:nvPr/>
              </p:nvSpPr>
              <p:spPr>
                <a:xfrm>
                  <a:off x="8464680" y="4191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8742" name=""/>
              <p:cNvSpPr txBox="1"/>
              <p:nvPr/>
            </p:nvSpPr>
            <p:spPr>
              <a:xfrm>
                <a:off x="762120" y="5089680"/>
                <a:ext cx="77724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禁止选择；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正常工作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3" name=""/>
          <p:cNvSpPr/>
          <p:nvPr/>
        </p:nvSpPr>
        <p:spPr>
          <a:xfrm>
            <a:off x="685800" y="5530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多路选择器广泛应用于多路模拟量的采集及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A/D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转换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4" name=""/>
          <p:cNvSpPr/>
          <p:nvPr/>
        </p:nvSpPr>
        <p:spPr>
          <a:xfrm>
            <a:off x="1580400" y="45720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片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CT74LS15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多路选择器选择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路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5" name=""/>
              <p:cNvSpPr txBox="1"/>
              <p:nvPr/>
            </p:nvSpPr>
            <p:spPr>
              <a:xfrm>
                <a:off x="1044720" y="4572000"/>
                <a:ext cx="426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选通芯片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6" name=""/>
              <p:cNvSpPr txBox="1"/>
              <p:nvPr/>
            </p:nvSpPr>
            <p:spPr>
              <a:xfrm>
                <a:off x="1120680" y="5181480"/>
                <a:ext cx="4162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rPr>
                        <m:lit/>
                        <m:nor/>
                      </m:rPr>
                      <m:t xml:space="preserve">选通芯片</m:t>
                    </m:r>
                    <m:r>
                      <m:t xml:space="preserve">2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7" name=""/>
          <p:cNvSpPr/>
          <p:nvPr/>
        </p:nvSpPr>
        <p:spPr>
          <a:xfrm>
            <a:off x="1625040" y="5715000"/>
            <a:ext cx="56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01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输出选中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路的数据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1959120" y="1143000"/>
            <a:ext cx="0" cy="1752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1959120" y="1143000"/>
            <a:ext cx="13716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0" name=""/>
          <p:cNvGrpSpPr/>
          <p:nvPr/>
        </p:nvGrpSpPr>
        <p:grpSpPr>
          <a:xfrm>
            <a:off x="2563920" y="1143000"/>
            <a:ext cx="4271760" cy="2948400"/>
            <a:chOff x="2563920" y="1143000"/>
            <a:chExt cx="4271760" cy="2948400"/>
          </a:xfrm>
        </p:grpSpPr>
        <p:sp>
          <p:nvSpPr>
            <p:cNvPr id="8751" name=""/>
            <p:cNvSpPr/>
            <p:nvPr/>
          </p:nvSpPr>
          <p:spPr>
            <a:xfrm>
              <a:off x="2568600" y="1828800"/>
              <a:ext cx="380988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3473280" y="205740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CT74LS1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3661920" y="2514600"/>
              <a:ext cx="159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双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选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3939120" y="114300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396320" y="114300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854600" y="1143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5311800" y="1143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5759280" y="114300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3535200" y="1143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3097080" y="114300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3406680" y="1208160"/>
              <a:ext cx="152640" cy="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2568600" y="1143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3" name=""/>
            <p:cNvGrpSpPr/>
            <p:nvPr/>
          </p:nvGrpSpPr>
          <p:grpSpPr>
            <a:xfrm>
              <a:off x="3218040" y="1600200"/>
              <a:ext cx="269640" cy="228600"/>
              <a:chOff x="3218040" y="1600200"/>
              <a:chExt cx="269640" cy="228600"/>
            </a:xfrm>
          </p:grpSpPr>
          <p:sp>
            <p:nvSpPr>
              <p:cNvPr id="8764" name=""/>
              <p:cNvSpPr/>
              <p:nvPr/>
            </p:nvSpPr>
            <p:spPr>
              <a:xfrm>
                <a:off x="32180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2180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4876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7" name=""/>
            <p:cNvSpPr/>
            <p:nvPr/>
          </p:nvSpPr>
          <p:spPr>
            <a:xfrm>
              <a:off x="30844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8" name=""/>
            <p:cNvGrpSpPr/>
            <p:nvPr/>
          </p:nvGrpSpPr>
          <p:grpSpPr>
            <a:xfrm>
              <a:off x="3675240" y="1600200"/>
              <a:ext cx="269640" cy="228600"/>
              <a:chOff x="3675240" y="1600200"/>
              <a:chExt cx="269640" cy="228600"/>
            </a:xfrm>
          </p:grpSpPr>
          <p:sp>
            <p:nvSpPr>
              <p:cNvPr id="8769" name=""/>
              <p:cNvSpPr/>
              <p:nvPr/>
            </p:nvSpPr>
            <p:spPr>
              <a:xfrm>
                <a:off x="36752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6752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9448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2" name=""/>
            <p:cNvSpPr/>
            <p:nvPr/>
          </p:nvSpPr>
          <p:spPr>
            <a:xfrm>
              <a:off x="35416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3" name=""/>
            <p:cNvGrpSpPr/>
            <p:nvPr/>
          </p:nvGrpSpPr>
          <p:grpSpPr>
            <a:xfrm>
              <a:off x="4132440" y="1600200"/>
              <a:ext cx="269640" cy="228600"/>
              <a:chOff x="4132440" y="1600200"/>
              <a:chExt cx="269640" cy="228600"/>
            </a:xfrm>
          </p:grpSpPr>
          <p:sp>
            <p:nvSpPr>
              <p:cNvPr id="8774" name=""/>
              <p:cNvSpPr/>
              <p:nvPr/>
            </p:nvSpPr>
            <p:spPr>
              <a:xfrm>
                <a:off x="41324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41324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44020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7" name=""/>
            <p:cNvSpPr/>
            <p:nvPr/>
          </p:nvSpPr>
          <p:spPr>
            <a:xfrm>
              <a:off x="39988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8" name=""/>
            <p:cNvGrpSpPr/>
            <p:nvPr/>
          </p:nvGrpSpPr>
          <p:grpSpPr>
            <a:xfrm>
              <a:off x="4589640" y="1600200"/>
              <a:ext cx="269640" cy="228600"/>
              <a:chOff x="4589640" y="1600200"/>
              <a:chExt cx="269640" cy="228600"/>
            </a:xfrm>
          </p:grpSpPr>
          <p:sp>
            <p:nvSpPr>
              <p:cNvPr id="8779" name=""/>
              <p:cNvSpPr/>
              <p:nvPr/>
            </p:nvSpPr>
            <p:spPr>
              <a:xfrm>
                <a:off x="45896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45896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48592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2" name=""/>
            <p:cNvSpPr/>
            <p:nvPr/>
          </p:nvSpPr>
          <p:spPr>
            <a:xfrm>
              <a:off x="44560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3" name=""/>
            <p:cNvGrpSpPr/>
            <p:nvPr/>
          </p:nvGrpSpPr>
          <p:grpSpPr>
            <a:xfrm>
              <a:off x="5046840" y="1600200"/>
              <a:ext cx="269640" cy="228600"/>
              <a:chOff x="5046840" y="1600200"/>
              <a:chExt cx="269640" cy="228600"/>
            </a:xfrm>
          </p:grpSpPr>
          <p:sp>
            <p:nvSpPr>
              <p:cNvPr id="8784" name=""/>
              <p:cNvSpPr/>
              <p:nvPr/>
            </p:nvSpPr>
            <p:spPr>
              <a:xfrm>
                <a:off x="50468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0468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164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7" name=""/>
            <p:cNvSpPr/>
            <p:nvPr/>
          </p:nvSpPr>
          <p:spPr>
            <a:xfrm>
              <a:off x="49132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8" name=""/>
            <p:cNvGrpSpPr/>
            <p:nvPr/>
          </p:nvGrpSpPr>
          <p:grpSpPr>
            <a:xfrm>
              <a:off x="5504040" y="1600200"/>
              <a:ext cx="269640" cy="228600"/>
              <a:chOff x="5504040" y="1600200"/>
              <a:chExt cx="269640" cy="228600"/>
            </a:xfrm>
          </p:grpSpPr>
          <p:sp>
            <p:nvSpPr>
              <p:cNvPr id="8789" name=""/>
              <p:cNvSpPr/>
              <p:nvPr/>
            </p:nvSpPr>
            <p:spPr>
              <a:xfrm>
                <a:off x="55040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5040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7736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2" name=""/>
            <p:cNvSpPr/>
            <p:nvPr/>
          </p:nvSpPr>
          <p:spPr>
            <a:xfrm>
              <a:off x="53704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3" name=""/>
            <p:cNvGrpSpPr/>
            <p:nvPr/>
          </p:nvGrpSpPr>
          <p:grpSpPr>
            <a:xfrm>
              <a:off x="5961240" y="1600200"/>
              <a:ext cx="269640" cy="228600"/>
              <a:chOff x="5961240" y="1600200"/>
              <a:chExt cx="269640" cy="228600"/>
            </a:xfrm>
          </p:grpSpPr>
          <p:sp>
            <p:nvSpPr>
              <p:cNvPr id="8794" name=""/>
              <p:cNvSpPr/>
              <p:nvPr/>
            </p:nvSpPr>
            <p:spPr>
              <a:xfrm>
                <a:off x="59612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9612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62308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7" name=""/>
            <p:cNvSpPr/>
            <p:nvPr/>
          </p:nvSpPr>
          <p:spPr>
            <a:xfrm>
              <a:off x="5900760" y="1523880"/>
              <a:ext cx="32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8" name=""/>
            <p:cNvGrpSpPr/>
            <p:nvPr/>
          </p:nvGrpSpPr>
          <p:grpSpPr>
            <a:xfrm>
              <a:off x="2760840" y="1600200"/>
              <a:ext cx="269640" cy="228600"/>
              <a:chOff x="2760840" y="1600200"/>
              <a:chExt cx="269640" cy="228600"/>
            </a:xfrm>
          </p:grpSpPr>
          <p:sp>
            <p:nvSpPr>
              <p:cNvPr id="8799" name=""/>
              <p:cNvSpPr/>
              <p:nvPr/>
            </p:nvSpPr>
            <p:spPr>
              <a:xfrm>
                <a:off x="27608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27608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30304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2" name=""/>
            <p:cNvSpPr/>
            <p:nvPr/>
          </p:nvSpPr>
          <p:spPr>
            <a:xfrm>
              <a:off x="26272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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2563920" y="358128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2873520" y="36576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110040" y="358128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483000" y="3581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4015440" y="358128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4473720" y="3581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4929840" y="358128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5378400" y="358128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5909400" y="3581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27133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3" name=""/>
            <p:cNvGrpSpPr/>
            <p:nvPr/>
          </p:nvGrpSpPr>
          <p:grpSpPr>
            <a:xfrm>
              <a:off x="2720880" y="3352680"/>
              <a:ext cx="270000" cy="228600"/>
              <a:chOff x="2720880" y="3352680"/>
              <a:chExt cx="270000" cy="228600"/>
            </a:xfrm>
          </p:grpSpPr>
          <p:sp>
            <p:nvSpPr>
              <p:cNvPr id="8814" name=""/>
              <p:cNvSpPr/>
              <p:nvPr/>
            </p:nvSpPr>
            <p:spPr>
              <a:xfrm>
                <a:off x="2720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27208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2990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7" name=""/>
            <p:cNvSpPr/>
            <p:nvPr/>
          </p:nvSpPr>
          <p:spPr>
            <a:xfrm>
              <a:off x="36277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8" name=""/>
            <p:cNvGrpSpPr/>
            <p:nvPr/>
          </p:nvGrpSpPr>
          <p:grpSpPr>
            <a:xfrm>
              <a:off x="3635280" y="3352680"/>
              <a:ext cx="270000" cy="228600"/>
              <a:chOff x="3635280" y="3352680"/>
              <a:chExt cx="270000" cy="228600"/>
            </a:xfrm>
          </p:grpSpPr>
          <p:sp>
            <p:nvSpPr>
              <p:cNvPr id="8819" name=""/>
              <p:cNvSpPr/>
              <p:nvPr/>
            </p:nvSpPr>
            <p:spPr>
              <a:xfrm>
                <a:off x="3635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36352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3905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2" name=""/>
            <p:cNvSpPr/>
            <p:nvPr/>
          </p:nvSpPr>
          <p:spPr>
            <a:xfrm>
              <a:off x="31705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3" name=""/>
            <p:cNvGrpSpPr/>
            <p:nvPr/>
          </p:nvGrpSpPr>
          <p:grpSpPr>
            <a:xfrm>
              <a:off x="3178080" y="3352680"/>
              <a:ext cx="270000" cy="228600"/>
              <a:chOff x="3178080" y="3352680"/>
              <a:chExt cx="270000" cy="228600"/>
            </a:xfrm>
          </p:grpSpPr>
          <p:sp>
            <p:nvSpPr>
              <p:cNvPr id="8824" name=""/>
              <p:cNvSpPr/>
              <p:nvPr/>
            </p:nvSpPr>
            <p:spPr>
              <a:xfrm>
                <a:off x="3178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1780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448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7" name=""/>
            <p:cNvSpPr/>
            <p:nvPr/>
          </p:nvSpPr>
          <p:spPr>
            <a:xfrm>
              <a:off x="40849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8" name=""/>
            <p:cNvGrpSpPr/>
            <p:nvPr/>
          </p:nvGrpSpPr>
          <p:grpSpPr>
            <a:xfrm>
              <a:off x="4092480" y="3352680"/>
              <a:ext cx="270000" cy="228600"/>
              <a:chOff x="4092480" y="3352680"/>
              <a:chExt cx="270000" cy="228600"/>
            </a:xfrm>
          </p:grpSpPr>
          <p:sp>
            <p:nvSpPr>
              <p:cNvPr id="8829" name=""/>
              <p:cNvSpPr/>
              <p:nvPr/>
            </p:nvSpPr>
            <p:spPr>
              <a:xfrm>
                <a:off x="40924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40924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43624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2" name=""/>
            <p:cNvSpPr/>
            <p:nvPr/>
          </p:nvSpPr>
          <p:spPr>
            <a:xfrm>
              <a:off x="45421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3" name=""/>
            <p:cNvGrpSpPr/>
            <p:nvPr/>
          </p:nvGrpSpPr>
          <p:grpSpPr>
            <a:xfrm>
              <a:off x="4549680" y="3352680"/>
              <a:ext cx="270000" cy="228600"/>
              <a:chOff x="4549680" y="3352680"/>
              <a:chExt cx="270000" cy="228600"/>
            </a:xfrm>
          </p:grpSpPr>
          <p:sp>
            <p:nvSpPr>
              <p:cNvPr id="8834" name=""/>
              <p:cNvSpPr/>
              <p:nvPr/>
            </p:nvSpPr>
            <p:spPr>
              <a:xfrm>
                <a:off x="45496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45496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48196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7" name=""/>
            <p:cNvSpPr/>
            <p:nvPr/>
          </p:nvSpPr>
          <p:spPr>
            <a:xfrm>
              <a:off x="49993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8" name=""/>
            <p:cNvGrpSpPr/>
            <p:nvPr/>
          </p:nvGrpSpPr>
          <p:grpSpPr>
            <a:xfrm>
              <a:off x="5006880" y="3352680"/>
              <a:ext cx="270000" cy="228600"/>
              <a:chOff x="5006880" y="3352680"/>
              <a:chExt cx="270000" cy="228600"/>
            </a:xfrm>
          </p:grpSpPr>
          <p:sp>
            <p:nvSpPr>
              <p:cNvPr id="8839" name=""/>
              <p:cNvSpPr/>
              <p:nvPr/>
            </p:nvSpPr>
            <p:spPr>
              <a:xfrm>
                <a:off x="5006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50068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5276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2" name=""/>
            <p:cNvSpPr/>
            <p:nvPr/>
          </p:nvSpPr>
          <p:spPr>
            <a:xfrm>
              <a:off x="54565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3" name=""/>
            <p:cNvGrpSpPr/>
            <p:nvPr/>
          </p:nvGrpSpPr>
          <p:grpSpPr>
            <a:xfrm>
              <a:off x="5464080" y="3352680"/>
              <a:ext cx="270000" cy="228600"/>
              <a:chOff x="5464080" y="3352680"/>
              <a:chExt cx="270000" cy="228600"/>
            </a:xfrm>
          </p:grpSpPr>
          <p:sp>
            <p:nvSpPr>
              <p:cNvPr id="8844" name=""/>
              <p:cNvSpPr/>
              <p:nvPr/>
            </p:nvSpPr>
            <p:spPr>
              <a:xfrm>
                <a:off x="5464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54640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5734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7" name=""/>
            <p:cNvSpPr/>
            <p:nvPr/>
          </p:nvSpPr>
          <p:spPr>
            <a:xfrm>
              <a:off x="59137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8" name=""/>
            <p:cNvGrpSpPr/>
            <p:nvPr/>
          </p:nvGrpSpPr>
          <p:grpSpPr>
            <a:xfrm>
              <a:off x="5921280" y="3352680"/>
              <a:ext cx="270000" cy="228600"/>
              <a:chOff x="5921280" y="3352680"/>
              <a:chExt cx="270000" cy="228600"/>
            </a:xfrm>
          </p:grpSpPr>
          <p:sp>
            <p:nvSpPr>
              <p:cNvPr id="8849" name=""/>
              <p:cNvSpPr/>
              <p:nvPr/>
            </p:nvSpPr>
            <p:spPr>
              <a:xfrm>
                <a:off x="5921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59212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191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2" name=""/>
            <p:cNvSpPr/>
            <p:nvPr/>
          </p:nvSpPr>
          <p:spPr>
            <a:xfrm>
              <a:off x="3330720" y="1143000"/>
              <a:ext cx="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787920" y="1143000"/>
              <a:ext cx="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787920" y="1143000"/>
              <a:ext cx="3047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5" name=""/>
          <p:cNvSpPr/>
          <p:nvPr/>
        </p:nvSpPr>
        <p:spPr>
          <a:xfrm>
            <a:off x="66920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62348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57776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873520" y="3581280"/>
            <a:ext cx="0" cy="838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1959120" y="4419720"/>
            <a:ext cx="4114800" cy="11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3330720" y="3581280"/>
            <a:ext cx="0" cy="609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6835680" y="1143000"/>
            <a:ext cx="0" cy="3809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6413400" y="4952880"/>
            <a:ext cx="7632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>
            <a:off x="6794640" y="4952880"/>
            <a:ext cx="7596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6021360" y="4952880"/>
            <a:ext cx="7632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3330720" y="4191120"/>
            <a:ext cx="3124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6454800" y="4191120"/>
            <a:ext cx="0" cy="761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073920" y="4419720"/>
            <a:ext cx="0" cy="533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8" name=""/>
          <p:cNvGrpSpPr/>
          <p:nvPr/>
        </p:nvGrpSpPr>
        <p:grpSpPr>
          <a:xfrm>
            <a:off x="1654200" y="2895480"/>
            <a:ext cx="533520" cy="609480"/>
            <a:chOff x="1654200" y="2895480"/>
            <a:chExt cx="533520" cy="609480"/>
          </a:xfrm>
        </p:grpSpPr>
        <p:sp>
          <p:nvSpPr>
            <p:cNvPr id="8869" name=""/>
            <p:cNvSpPr/>
            <p:nvPr/>
          </p:nvSpPr>
          <p:spPr>
            <a:xfrm>
              <a:off x="1654200" y="3047760"/>
              <a:ext cx="533520" cy="4572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806480" y="297144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882800" y="28954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2" name=""/>
          <p:cNvSpPr/>
          <p:nvPr/>
        </p:nvSpPr>
        <p:spPr>
          <a:xfrm>
            <a:off x="1959120" y="35053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3" name=""/>
          <p:cNvGrpSpPr/>
          <p:nvPr/>
        </p:nvGrpSpPr>
        <p:grpSpPr>
          <a:xfrm>
            <a:off x="914400" y="914400"/>
            <a:ext cx="7921080" cy="5410080"/>
            <a:chOff x="914400" y="914400"/>
            <a:chExt cx="7921080" cy="5410080"/>
          </a:xfrm>
        </p:grpSpPr>
        <p:sp>
          <p:nvSpPr>
            <p:cNvPr id="8874" name=""/>
            <p:cNvSpPr/>
            <p:nvPr/>
          </p:nvSpPr>
          <p:spPr>
            <a:xfrm>
              <a:off x="5460840" y="4597560"/>
              <a:ext cx="563760" cy="564840"/>
            </a:xfrm>
            <a:prstGeom prst="rect">
              <a:avLst/>
            </a:prstGeom>
            <a:solidFill>
              <a:srgbClr val="ffe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7392960" y="914400"/>
              <a:ext cx="568080" cy="800280"/>
            </a:xfrm>
            <a:prstGeom prst="rect">
              <a:avLst/>
            </a:prstGeom>
            <a:solidFill>
              <a:srgbClr val="ecf8f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5992560" y="1866960"/>
              <a:ext cx="2225880" cy="1095480"/>
            </a:xfrm>
            <a:prstGeom prst="rect">
              <a:avLst/>
            </a:prstGeom>
            <a:solidFill>
              <a:srgbClr val="fcfe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2703240" y="1866960"/>
              <a:ext cx="2222640" cy="1095480"/>
            </a:xfrm>
            <a:prstGeom prst="rect">
              <a:avLst/>
            </a:prstGeom>
            <a:solidFill>
              <a:srgbClr val="fcfe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4007520" y="5897520"/>
              <a:ext cx="207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数据选择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720240" y="2235240"/>
              <a:ext cx="35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5499720" y="4721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2355840" y="1827360"/>
              <a:ext cx="350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2371680" y="20811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2371320" y="233856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533920" y="22953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5533920" y="201312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5533920" y="17319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7001640" y="2235240"/>
              <a:ext cx="35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7534080" y="977760"/>
              <a:ext cx="24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8618400" y="10159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553200" y="295416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84372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439272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468180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6738120" y="3011400"/>
              <a:ext cx="33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7134120" y="3017880"/>
              <a:ext cx="33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7731360" y="3032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8012520" y="3032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480800" y="30243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6640920" y="5497560"/>
              <a:ext cx="397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7067880" y="5502240"/>
              <a:ext cx="397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7397280" y="551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7743960" y="551016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8042400" y="551016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4078800" y="293040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460548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431316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999960" y="54738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72276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 flipH="1">
              <a:off x="3372480" y="5521320"/>
              <a:ext cx="466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6431760" y="301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129840" y="3011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933480" y="323676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914400" y="35845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928440" y="3914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971280" y="46465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839040" y="135396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6642720" y="137484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 flipH="1">
              <a:off x="1883880" y="2143080"/>
              <a:ext cx="819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 flipH="1">
              <a:off x="2165400" y="2416320"/>
              <a:ext cx="537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 flipH="1">
              <a:off x="2447640" y="2690640"/>
              <a:ext cx="25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 flipH="1">
              <a:off x="5735520" y="2690640"/>
              <a:ext cx="25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 flipH="1">
              <a:off x="5173200" y="2143080"/>
              <a:ext cx="819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 flipH="1">
              <a:off x="5457600" y="2416320"/>
              <a:ext cx="5349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7961040" y="1273320"/>
              <a:ext cx="49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8458200" y="1222200"/>
              <a:ext cx="99720" cy="1018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6"/>
                  </a:moveTo>
                  <a:lnTo>
                    <a:pt x="44" y="9"/>
                  </a:lnTo>
                  <a:lnTo>
                    <a:pt x="26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6" y="52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 flipH="1">
              <a:off x="3814560" y="1041480"/>
              <a:ext cx="3578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3814560" y="1041480"/>
              <a:ext cx="1800" cy="82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5173560" y="2143080"/>
              <a:ext cx="1440" cy="139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 flipH="1">
              <a:off x="1369800" y="3540240"/>
              <a:ext cx="3803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5457600" y="2416320"/>
              <a:ext cx="180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 flipH="1">
              <a:off x="1369440" y="3841920"/>
              <a:ext cx="4087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5735520" y="2690640"/>
              <a:ext cx="144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 flipH="1">
              <a:off x="1369440" y="4095720"/>
              <a:ext cx="4365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3988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489120" y="5419800"/>
              <a:ext cx="9864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814560" y="2962440"/>
              <a:ext cx="180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765600" y="5419800"/>
              <a:ext cx="982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8" y="7"/>
                  </a:lnTo>
                  <a:lnTo>
                    <a:pt x="0" y="25"/>
                  </a:lnTo>
                  <a:lnTo>
                    <a:pt x="8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4363920" y="2962440"/>
              <a:ext cx="14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464796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684828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714204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7745400" y="2962440"/>
              <a:ext cx="14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8026200" y="2962440"/>
              <a:ext cx="180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4313160" y="5419800"/>
              <a:ext cx="982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3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3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4601880" y="5419800"/>
              <a:ext cx="9864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6797520" y="541980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3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3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7091280" y="5419800"/>
              <a:ext cx="101520" cy="1015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25"/>
                  </a:moveTo>
                  <a:lnTo>
                    <a:pt x="45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5" y="44"/>
                  </a:lnTo>
                  <a:lnTo>
                    <a:pt x="52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7694640" y="5419800"/>
              <a:ext cx="10152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6" y="7"/>
                  </a:lnTo>
                  <a:lnTo>
                    <a:pt x="0" y="25"/>
                  </a:lnTo>
                  <a:lnTo>
                    <a:pt x="6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5357520" y="4830840"/>
              <a:ext cx="103320" cy="10152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26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8" y="7"/>
                  </a:lnTo>
                  <a:lnTo>
                    <a:pt x="0" y="26"/>
                  </a:lnTo>
                  <a:lnTo>
                    <a:pt x="8" y="43"/>
                  </a:lnTo>
                  <a:lnTo>
                    <a:pt x="25" y="52"/>
                  </a:lnTo>
                  <a:lnTo>
                    <a:pt x="44" y="43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7975440" y="541980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9" y="7"/>
                  </a:lnTo>
                  <a:lnTo>
                    <a:pt x="0" y="25"/>
                  </a:lnTo>
                  <a:lnTo>
                    <a:pt x="9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6257880" y="2962440"/>
              <a:ext cx="104760" cy="98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26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9" y="7"/>
                  </a:lnTo>
                  <a:lnTo>
                    <a:pt x="0" y="26"/>
                  </a:lnTo>
                  <a:lnTo>
                    <a:pt x="9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6308640" y="3060720"/>
              <a:ext cx="1440" cy="18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 flipH="1">
              <a:off x="6024240" y="4883040"/>
              <a:ext cx="28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 flipH="1">
              <a:off x="1369440" y="4883040"/>
              <a:ext cx="398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1269720" y="483084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6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6"/>
                  </a:lnTo>
                  <a:lnTo>
                    <a:pt x="7" y="43"/>
                  </a:lnTo>
                  <a:lnTo>
                    <a:pt x="25" y="52"/>
                  </a:lnTo>
                  <a:lnTo>
                    <a:pt x="44" y="43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1269720" y="404496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6"/>
                  </a:moveTo>
                  <a:lnTo>
                    <a:pt x="44" y="9"/>
                  </a:lnTo>
                  <a:lnTo>
                    <a:pt x="25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5" y="51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269720" y="3790800"/>
              <a:ext cx="100080" cy="10476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1" y="26"/>
                  </a:moveTo>
                  <a:lnTo>
                    <a:pt x="44" y="9"/>
                  </a:lnTo>
                  <a:lnTo>
                    <a:pt x="25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5" y="53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1269720" y="3490920"/>
              <a:ext cx="100080" cy="982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1884240" y="2143080"/>
              <a:ext cx="1440" cy="139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2165400" y="2416320"/>
              <a:ext cx="144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2447640" y="2690640"/>
              <a:ext cx="180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2973240" y="3060720"/>
              <a:ext cx="1440" cy="18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2919240" y="2962440"/>
              <a:ext cx="104760" cy="98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26"/>
                  </a:moveTo>
                  <a:lnTo>
                    <a:pt x="44" y="7"/>
                  </a:lnTo>
                  <a:lnTo>
                    <a:pt x="27" y="0"/>
                  </a:lnTo>
                  <a:lnTo>
                    <a:pt x="8" y="7"/>
                  </a:lnTo>
                  <a:lnTo>
                    <a:pt x="0" y="26"/>
                  </a:lnTo>
                  <a:lnTo>
                    <a:pt x="8" y="44"/>
                  </a:lnTo>
                  <a:lnTo>
                    <a:pt x="27" y="51"/>
                  </a:lnTo>
                  <a:lnTo>
                    <a:pt x="44" y="44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 flipH="1">
              <a:off x="7148160" y="1609560"/>
              <a:ext cx="24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7148520" y="1609560"/>
              <a:ext cx="2880" cy="2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957240" y="4643280"/>
              <a:ext cx="309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090600" y="3046320"/>
              <a:ext cx="2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6394320" y="304632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9" name=""/>
          <p:cNvSpPr/>
          <p:nvPr/>
        </p:nvSpPr>
        <p:spPr>
          <a:xfrm>
            <a:off x="228600" y="152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片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CT74LS15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据选择器构成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能的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0" name=""/>
              <p:cNvSpPr txBox="1"/>
              <p:nvPr/>
            </p:nvSpPr>
            <p:spPr>
              <a:xfrm>
                <a:off x="291960" y="5232240"/>
                <a:ext cx="3048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第一片工作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第二片工作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1" name=""/>
          <p:cNvSpPr/>
          <p:nvPr/>
        </p:nvSpPr>
        <p:spPr>
          <a:xfrm>
            <a:off x="2675160" y="45720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CT74LS151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2" name=""/>
          <p:cNvGrpSpPr/>
          <p:nvPr/>
        </p:nvGrpSpPr>
        <p:grpSpPr>
          <a:xfrm>
            <a:off x="2205000" y="1055520"/>
            <a:ext cx="3738600" cy="5093280"/>
            <a:chOff x="2205000" y="1055520"/>
            <a:chExt cx="3738600" cy="5093280"/>
          </a:xfrm>
        </p:grpSpPr>
        <p:sp>
          <p:nvSpPr>
            <p:cNvPr id="8973" name=""/>
            <p:cNvSpPr/>
            <p:nvPr/>
          </p:nvSpPr>
          <p:spPr>
            <a:xfrm>
              <a:off x="2205000" y="10666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2357280" y="1055520"/>
              <a:ext cx="3433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2357280" y="6095880"/>
              <a:ext cx="358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12408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 flipV="1">
              <a:off x="2357280" y="2057040"/>
              <a:ext cx="343368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95288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568320" y="106668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5098320" y="1066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2580120" y="1598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2604960" y="1660680"/>
              <a:ext cx="2872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4419360" y="1523880"/>
              <a:ext cx="7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21696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5191920" y="1600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2562480" y="207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5170680" y="2133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2562480" y="251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2562480" y="29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2562480" y="339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2578320" y="3828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5181480" y="38862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5191200" y="34290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5191200" y="29718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5191200" y="25909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82032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2578320" y="4265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5181480" y="43434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2572200" y="46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5235480" y="474336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2572200" y="5132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5257800" y="51814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2595960" y="551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5257800" y="56386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5" name=""/>
            <p:cNvGrpSpPr/>
            <p:nvPr/>
          </p:nvGrpSpPr>
          <p:grpSpPr>
            <a:xfrm>
              <a:off x="3228840" y="2008080"/>
              <a:ext cx="1716120" cy="4039920"/>
              <a:chOff x="3228840" y="2008080"/>
              <a:chExt cx="1716120" cy="4039920"/>
            </a:xfrm>
          </p:grpSpPr>
          <p:sp>
            <p:nvSpPr>
              <p:cNvPr id="9006" name=""/>
              <p:cNvSpPr/>
              <p:nvPr/>
            </p:nvSpPr>
            <p:spPr>
              <a:xfrm>
                <a:off x="326556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447696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326556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447696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326556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447696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3228840" y="203004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4441320" y="203652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3836520" y="200808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3898800" y="2501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3902760" y="2946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326556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447516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3898800" y="3389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3918600" y="3862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326556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447516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3918600" y="4298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3265560" y="467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447516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391860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3265560" y="5125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447516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391860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3284640" y="5513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446976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390708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3" name=""/>
            <p:cNvSpPr/>
            <p:nvPr/>
          </p:nvSpPr>
          <p:spPr>
            <a:xfrm>
              <a:off x="2361960" y="16002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5" name=""/>
          <p:cNvSpPr/>
          <p:nvPr/>
        </p:nvSpPr>
        <p:spPr>
          <a:xfrm>
            <a:off x="838080" y="83808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CT74LS15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型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数据选择器实现逻辑函数式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  <a:ea typeface="楷体_GB2312"/>
              </a:rPr>
              <a:t>Y=AB+BC+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6" name=""/>
          <p:cNvSpPr/>
          <p:nvPr/>
        </p:nvSpPr>
        <p:spPr>
          <a:xfrm>
            <a:off x="1781640" y="1905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解：将逻辑函数式用最小项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7" name=""/>
              <p:cNvSpPr txBox="1"/>
              <p:nvPr/>
            </p:nvSpPr>
            <p:spPr>
              <a:xfrm>
                <a:off x="1136520" y="2587680"/>
                <a:ext cx="61833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38" name=""/>
          <p:cNvSpPr/>
          <p:nvPr/>
        </p:nvSpPr>
        <p:spPr>
          <a:xfrm>
            <a:off x="609480" y="3581280"/>
            <a:ext cx="77724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输入变量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对应地接到数据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择器的选择端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  <a:ea typeface="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由状态表可知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将数据输入端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D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3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5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6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  <a:ea typeface="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  <a:ea typeface="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其余输入端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即可实现输出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，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9" name=""/>
          <p:cNvGrpSpPr/>
          <p:nvPr/>
        </p:nvGrpSpPr>
        <p:grpSpPr>
          <a:xfrm>
            <a:off x="762120" y="5867280"/>
            <a:ext cx="7324200" cy="171720"/>
            <a:chOff x="762120" y="5867280"/>
            <a:chExt cx="7324200" cy="171720"/>
          </a:xfrm>
        </p:grpSpPr>
        <p:grpSp>
          <p:nvGrpSpPr>
            <p:cNvPr id="9040" name=""/>
            <p:cNvGrpSpPr/>
            <p:nvPr/>
          </p:nvGrpSpPr>
          <p:grpSpPr>
            <a:xfrm>
              <a:off x="762120" y="5867280"/>
              <a:ext cx="3666600" cy="171720"/>
              <a:chOff x="762120" y="5867280"/>
              <a:chExt cx="3666600" cy="171720"/>
            </a:xfrm>
          </p:grpSpPr>
          <p:pic>
            <p:nvPicPr>
              <p:cNvPr id="90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6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97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717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69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89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812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41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8861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813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433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956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385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240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38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005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52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57" name=""/>
              <p:cNvGrpSpPr/>
              <p:nvPr/>
            </p:nvGrpSpPr>
            <p:grpSpPr>
              <a:xfrm>
                <a:off x="762120" y="5867280"/>
                <a:ext cx="923760" cy="162000"/>
                <a:chOff x="762120" y="5867280"/>
                <a:chExt cx="923760" cy="162000"/>
              </a:xfrm>
            </p:grpSpPr>
            <p:pic>
              <p:nvPicPr>
                <p:cNvPr id="905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050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670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2193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3622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5242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621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6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114800" y="586728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67080" y="5867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6" name=""/>
            <p:cNvGrpSpPr/>
            <p:nvPr/>
          </p:nvGrpSpPr>
          <p:grpSpPr>
            <a:xfrm>
              <a:off x="4419720" y="5867280"/>
              <a:ext cx="3666600" cy="171720"/>
              <a:chOff x="4419720" y="5867280"/>
              <a:chExt cx="3666600" cy="171720"/>
            </a:xfrm>
          </p:grpSpPr>
          <p:pic>
            <p:nvPicPr>
              <p:cNvPr id="906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324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4673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6293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245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865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238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3817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5437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8389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0009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1532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2961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7816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0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6960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1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4581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2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610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83" name=""/>
              <p:cNvGrpSpPr/>
              <p:nvPr/>
            </p:nvGrpSpPr>
            <p:grpSpPr>
              <a:xfrm>
                <a:off x="4419720" y="5867280"/>
                <a:ext cx="923760" cy="162000"/>
                <a:chOff x="4419720" y="5867280"/>
                <a:chExt cx="923760" cy="162000"/>
              </a:xfrm>
            </p:grpSpPr>
            <p:pic>
              <p:nvPicPr>
                <p:cNvPr id="9084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5626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5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47246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6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8769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7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50198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8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51818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9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4197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9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772400" y="586728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9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924680" y="5867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2" name=""/>
          <p:cNvSpPr/>
          <p:nvPr/>
        </p:nvSpPr>
        <p:spPr>
          <a:xfrm>
            <a:off x="4343400" y="507960"/>
            <a:ext cx="45720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输入变量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对应地接到数据选择器的选择端 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、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由状态表可知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将数据输入端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D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3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、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5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6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  <a:ea typeface="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接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1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其余输入端接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"/>
              </a:rPr>
              <a:t>0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即可实现输出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"/>
              </a:rPr>
              <a:t>如图所示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ffffcc"/>
                </a:solidFill>
                <a:latin typeface=""/>
                <a:ea typeface="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3" name=""/>
          <p:cNvSpPr/>
          <p:nvPr/>
        </p:nvSpPr>
        <p:spPr>
          <a:xfrm>
            <a:off x="1001160" y="45720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CT74LS15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4" name=""/>
          <p:cNvGrpSpPr/>
          <p:nvPr/>
        </p:nvGrpSpPr>
        <p:grpSpPr>
          <a:xfrm>
            <a:off x="533520" y="1055520"/>
            <a:ext cx="3738600" cy="5093280"/>
            <a:chOff x="533520" y="1055520"/>
            <a:chExt cx="3738600" cy="5093280"/>
          </a:xfrm>
        </p:grpSpPr>
        <p:sp>
          <p:nvSpPr>
            <p:cNvPr id="9095" name=""/>
            <p:cNvSpPr/>
            <p:nvPr/>
          </p:nvSpPr>
          <p:spPr>
            <a:xfrm>
              <a:off x="533520" y="10666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685800" y="1055520"/>
              <a:ext cx="3433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685800" y="6095880"/>
              <a:ext cx="358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145260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9" name=""/>
            <p:cNvSpPr/>
            <p:nvPr/>
          </p:nvSpPr>
          <p:spPr>
            <a:xfrm flipV="1">
              <a:off x="685800" y="2057040"/>
              <a:ext cx="343368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28140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1896840" y="106668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426840" y="1066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908640" y="1598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933480" y="1660680"/>
              <a:ext cx="2872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2747880" y="1523880"/>
              <a:ext cx="7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154548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0440" y="1600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891000" y="207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499200" y="2133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891000" y="251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891000" y="29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891000" y="339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906840" y="3828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10000" y="38862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19720" y="34290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19720" y="29718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19720" y="25909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214884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906840" y="4265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10000" y="43434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900720" y="46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64000" y="474336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900720" y="5132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86320" y="51814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924480" y="551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86320" y="56386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7" name=""/>
            <p:cNvGrpSpPr/>
            <p:nvPr/>
          </p:nvGrpSpPr>
          <p:grpSpPr>
            <a:xfrm>
              <a:off x="1557360" y="2008080"/>
              <a:ext cx="1716120" cy="4039920"/>
              <a:chOff x="1557360" y="2008080"/>
              <a:chExt cx="1716120" cy="4039920"/>
            </a:xfrm>
          </p:grpSpPr>
          <p:sp>
            <p:nvSpPr>
              <p:cNvPr id="9128" name=""/>
              <p:cNvSpPr/>
              <p:nvPr/>
            </p:nvSpPr>
            <p:spPr>
              <a:xfrm>
                <a:off x="159408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280548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159408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280548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159408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280548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1557360" y="203004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2769840" y="203652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2165040" y="200808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2227320" y="2501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2231280" y="2946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159408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280368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2227320" y="3389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2247120" y="3862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159408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280368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2247120" y="4298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1594080" y="467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280368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224712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1594080" y="5125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280368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224712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1613160" y="5513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279828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223560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5" name=""/>
            <p:cNvSpPr/>
            <p:nvPr/>
          </p:nvSpPr>
          <p:spPr>
            <a:xfrm>
              <a:off x="690480" y="16002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6" name=""/>
          <p:cNvGrpSpPr/>
          <p:nvPr/>
        </p:nvGrpSpPr>
        <p:grpSpPr>
          <a:xfrm>
            <a:off x="4122000" y="3505320"/>
            <a:ext cx="4352040" cy="2730240"/>
            <a:chOff x="4122000" y="3505320"/>
            <a:chExt cx="4352040" cy="2730240"/>
          </a:xfrm>
        </p:grpSpPr>
        <p:sp>
          <p:nvSpPr>
            <p:cNvPr id="9157" name=""/>
            <p:cNvSpPr/>
            <p:nvPr/>
          </p:nvSpPr>
          <p:spPr>
            <a:xfrm>
              <a:off x="4938840" y="4190760"/>
              <a:ext cx="3535200" cy="118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5564160" y="4341600"/>
              <a:ext cx="19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T74LS15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122000" y="4089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4123440" y="44956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4125240" y="4952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5181840" y="5371920"/>
              <a:ext cx="122040" cy="134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5121360" y="5776920"/>
              <a:ext cx="2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5608800" y="5371920"/>
              <a:ext cx="0" cy="60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597564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707256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743760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780444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816948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670572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634068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5608800" y="5641920"/>
              <a:ext cx="14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6705720" y="5911560"/>
              <a:ext cx="16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8352000" y="5776920"/>
              <a:ext cx="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662940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5034960" y="495288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5105520" y="4991040"/>
              <a:ext cx="182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5248440" y="489888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56185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599940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638028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67615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71377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751860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7910640" y="492264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5647680" y="571500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5243760" y="54864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4587840" y="5103720"/>
              <a:ext cx="35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4502160" y="50688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0" name=""/>
            <p:cNvGrpSpPr/>
            <p:nvPr/>
          </p:nvGrpSpPr>
          <p:grpSpPr>
            <a:xfrm>
              <a:off x="4496040" y="4724280"/>
              <a:ext cx="442800" cy="93240"/>
              <a:chOff x="4496040" y="4724280"/>
              <a:chExt cx="442800" cy="93240"/>
            </a:xfrm>
          </p:grpSpPr>
          <p:sp>
            <p:nvSpPr>
              <p:cNvPr id="9191" name=""/>
              <p:cNvSpPr/>
              <p:nvPr/>
            </p:nvSpPr>
            <p:spPr>
              <a:xfrm>
                <a:off x="4587840" y="4774320"/>
                <a:ext cx="35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4496040" y="4724280"/>
                <a:ext cx="93600" cy="93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3" name=""/>
            <p:cNvGrpSpPr/>
            <p:nvPr/>
          </p:nvGrpSpPr>
          <p:grpSpPr>
            <a:xfrm>
              <a:off x="4496040" y="4343400"/>
              <a:ext cx="442800" cy="93240"/>
              <a:chOff x="4496040" y="4343400"/>
              <a:chExt cx="442800" cy="93240"/>
            </a:xfrm>
          </p:grpSpPr>
          <p:sp>
            <p:nvSpPr>
              <p:cNvPr id="9194" name=""/>
              <p:cNvSpPr/>
              <p:nvPr/>
            </p:nvSpPr>
            <p:spPr>
              <a:xfrm>
                <a:off x="4587840" y="4407840"/>
                <a:ext cx="35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4496040" y="4343400"/>
                <a:ext cx="93600" cy="93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6" name=""/>
            <p:cNvSpPr/>
            <p:nvPr/>
          </p:nvSpPr>
          <p:spPr>
            <a:xfrm>
              <a:off x="5562720" y="59436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6669360" y="384948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8" name=""/>
            <p:cNvSpPr/>
            <p:nvPr/>
          </p:nvSpPr>
          <p:spPr>
            <a:xfrm flipV="1">
              <a:off x="6705720" y="39621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9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11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据分配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228600" y="2286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838080" y="1219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将一个数据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分时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分送到多个输出端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1066680" y="2895480"/>
            <a:ext cx="660600" cy="9471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3" name=""/>
          <p:cNvGrpSpPr/>
          <p:nvPr/>
        </p:nvGrpSpPr>
        <p:grpSpPr>
          <a:xfrm>
            <a:off x="2743200" y="1828800"/>
            <a:ext cx="3242880" cy="649080"/>
            <a:chOff x="2743200" y="1828800"/>
            <a:chExt cx="3242880" cy="649080"/>
          </a:xfrm>
        </p:grpSpPr>
        <p:sp>
          <p:nvSpPr>
            <p:cNvPr id="9204" name=""/>
            <p:cNvSpPr/>
            <p:nvPr/>
          </p:nvSpPr>
          <p:spPr>
            <a:xfrm>
              <a:off x="2743200" y="1828800"/>
              <a:ext cx="1219320" cy="533520"/>
            </a:xfrm>
            <a:prstGeom prst="ellipse">
              <a:avLst/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962520" y="2133720"/>
              <a:ext cx="609480" cy="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4951800" y="1957320"/>
              <a:ext cx="1034280" cy="5205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控制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7" name=""/>
          <p:cNvSpPr/>
          <p:nvPr/>
        </p:nvSpPr>
        <p:spPr>
          <a:xfrm>
            <a:off x="1447920" y="5181480"/>
            <a:ext cx="1447560" cy="533520"/>
          </a:xfrm>
          <a:prstGeom prst="wedgeRoundRectCallout">
            <a:avLst>
              <a:gd name="adj1" fmla="val 77958"/>
              <a:gd name="adj2" fmla="val 3065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使能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 flipH="1">
            <a:off x="2666880" y="2886120"/>
            <a:ext cx="1447920" cy="180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 flipH="1">
            <a:off x="3733920" y="3303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 flipH="1">
            <a:off x="3733920" y="3649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 flipH="1">
            <a:off x="3733920" y="39974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 flipH="1">
            <a:off x="3733920" y="43448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3581280" y="24004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3048120" y="24004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 flipH="1">
            <a:off x="5028480" y="3233880"/>
            <a:ext cx="152280" cy="137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 flipH="1">
            <a:off x="5028480" y="3581280"/>
            <a:ext cx="15228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 flipH="1">
            <a:off x="5028480" y="3929040"/>
            <a:ext cx="15228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 flipH="1">
            <a:off x="5028480" y="427500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 flipH="1">
            <a:off x="3581280" y="3233880"/>
            <a:ext cx="152640" cy="137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 flipH="1">
            <a:off x="2971080" y="371952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 flipH="1">
            <a:off x="2057400" y="3789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 flipH="1">
            <a:off x="3581280" y="4275000"/>
            <a:ext cx="15264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 flipH="1">
            <a:off x="3581280" y="3929040"/>
            <a:ext cx="15264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 flipH="1">
            <a:off x="3581280" y="3581280"/>
            <a:ext cx="15264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 flipH="1">
            <a:off x="3504600" y="2260440"/>
            <a:ext cx="152280" cy="14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>
            <a:off x="2971080" y="2260440"/>
            <a:ext cx="152280" cy="14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3352680" y="469260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 flipH="1">
            <a:off x="3276000" y="517860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V="1">
            <a:off x="3124080" y="3371760"/>
            <a:ext cx="457200" cy="34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H="1">
            <a:off x="1675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H="1">
            <a:off x="5181480" y="4067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 flipH="1">
            <a:off x="5181480" y="37195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H="1">
            <a:off x="5166000" y="3371760"/>
            <a:ext cx="497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5166000" y="3024360"/>
            <a:ext cx="497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 flipH="1">
            <a:off x="3206880" y="5318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6" name=""/>
          <p:cNvGrpSpPr/>
          <p:nvPr/>
        </p:nvGrpSpPr>
        <p:grpSpPr>
          <a:xfrm>
            <a:off x="2819160" y="1828800"/>
            <a:ext cx="1065600" cy="579600"/>
            <a:chOff x="2819160" y="1828800"/>
            <a:chExt cx="1065600" cy="579600"/>
          </a:xfrm>
        </p:grpSpPr>
        <p:sp>
          <p:nvSpPr>
            <p:cNvPr id="9237" name=""/>
            <p:cNvSpPr/>
            <p:nvPr/>
          </p:nvSpPr>
          <p:spPr>
            <a:xfrm flipH="1">
              <a:off x="2818800" y="18288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8" name=""/>
            <p:cNvSpPr/>
            <p:nvPr/>
          </p:nvSpPr>
          <p:spPr>
            <a:xfrm flipH="1">
              <a:off x="3364200" y="1828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9" name=""/>
          <p:cNvSpPr/>
          <p:nvPr/>
        </p:nvSpPr>
        <p:spPr>
          <a:xfrm>
            <a:off x="6166800" y="3557520"/>
            <a:ext cx="12474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4331520" y="5271120"/>
            <a:ext cx="18874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确定芯片是否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1" name=""/>
          <p:cNvGrpSpPr/>
          <p:nvPr/>
        </p:nvGrpSpPr>
        <p:grpSpPr>
          <a:xfrm>
            <a:off x="990720" y="990720"/>
            <a:ext cx="3666600" cy="171000"/>
            <a:chOff x="990720" y="990720"/>
            <a:chExt cx="3666600" cy="171000"/>
          </a:xfrm>
        </p:grpSpPr>
        <p:pic>
          <p:nvPicPr>
            <p:cNvPr id="9242" name="" descr=""/>
            <p:cNvPicPr/>
            <p:nvPr/>
          </p:nvPicPr>
          <p:blipFill>
            <a:blip r:embed="rId1"/>
            <a:stretch/>
          </p:blipFill>
          <p:spPr>
            <a:xfrm>
              <a:off x="18954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3" name="" descr=""/>
            <p:cNvPicPr/>
            <p:nvPr/>
          </p:nvPicPr>
          <p:blipFill>
            <a:blip r:embed="rId2"/>
            <a:stretch/>
          </p:blipFill>
          <p:spPr>
            <a:xfrm>
              <a:off x="20383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4" name="" descr=""/>
            <p:cNvPicPr/>
            <p:nvPr/>
          </p:nvPicPr>
          <p:blipFill>
            <a:blip r:embed="rId3"/>
            <a:stretch/>
          </p:blipFill>
          <p:spPr>
            <a:xfrm>
              <a:off x="22003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5" name="" descr=""/>
            <p:cNvPicPr/>
            <p:nvPr/>
          </p:nvPicPr>
          <p:blipFill>
            <a:blip r:embed="rId4"/>
            <a:stretch/>
          </p:blipFill>
          <p:spPr>
            <a:xfrm>
              <a:off x="24955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6" name="" descr=""/>
            <p:cNvPicPr/>
            <p:nvPr/>
          </p:nvPicPr>
          <p:blipFill>
            <a:blip r:embed="rId5"/>
            <a:stretch/>
          </p:blipFill>
          <p:spPr>
            <a:xfrm>
              <a:off x="26575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7" name="" descr=""/>
            <p:cNvPicPr/>
            <p:nvPr/>
          </p:nvPicPr>
          <p:blipFill>
            <a:blip r:embed="rId6"/>
            <a:stretch/>
          </p:blipFill>
          <p:spPr>
            <a:xfrm>
              <a:off x="28098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8" name="" descr=""/>
            <p:cNvPicPr/>
            <p:nvPr/>
          </p:nvPicPr>
          <p:blipFill>
            <a:blip r:embed="rId7"/>
            <a:stretch/>
          </p:blipFill>
          <p:spPr>
            <a:xfrm>
              <a:off x="29527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9" name="" descr=""/>
            <p:cNvPicPr/>
            <p:nvPr/>
          </p:nvPicPr>
          <p:blipFill>
            <a:blip r:embed="rId8"/>
            <a:stretch/>
          </p:blipFill>
          <p:spPr>
            <a:xfrm>
              <a:off x="31147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0" name="" descr=""/>
            <p:cNvPicPr/>
            <p:nvPr/>
          </p:nvPicPr>
          <p:blipFill>
            <a:blip r:embed="rId9"/>
            <a:stretch/>
          </p:blipFill>
          <p:spPr>
            <a:xfrm>
              <a:off x="34099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1" name="" descr=""/>
            <p:cNvPicPr/>
            <p:nvPr/>
          </p:nvPicPr>
          <p:blipFill>
            <a:blip r:embed="rId10"/>
            <a:stretch/>
          </p:blipFill>
          <p:spPr>
            <a:xfrm>
              <a:off x="35719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2" name="" descr=""/>
            <p:cNvPicPr/>
            <p:nvPr/>
          </p:nvPicPr>
          <p:blipFill>
            <a:blip r:embed="rId11"/>
            <a:stretch/>
          </p:blipFill>
          <p:spPr>
            <a:xfrm>
              <a:off x="37242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3" name="" descr=""/>
            <p:cNvPicPr/>
            <p:nvPr/>
          </p:nvPicPr>
          <p:blipFill>
            <a:blip r:embed="rId12"/>
            <a:stretch/>
          </p:blipFill>
          <p:spPr>
            <a:xfrm>
              <a:off x="38671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4" name="" descr=""/>
            <p:cNvPicPr/>
            <p:nvPr/>
          </p:nvPicPr>
          <p:blipFill>
            <a:blip r:embed="rId13"/>
            <a:stretch/>
          </p:blipFill>
          <p:spPr>
            <a:xfrm>
              <a:off x="23526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5" name="" descr=""/>
            <p:cNvPicPr/>
            <p:nvPr/>
          </p:nvPicPr>
          <p:blipFill>
            <a:blip r:embed="rId14"/>
            <a:stretch/>
          </p:blipFill>
          <p:spPr>
            <a:xfrm>
              <a:off x="32670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6" name="" descr=""/>
            <p:cNvPicPr/>
            <p:nvPr/>
          </p:nvPicPr>
          <p:blipFill>
            <a:blip r:embed="rId15"/>
            <a:stretch/>
          </p:blipFill>
          <p:spPr>
            <a:xfrm>
              <a:off x="40291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7" name="" descr=""/>
            <p:cNvPicPr/>
            <p:nvPr/>
          </p:nvPicPr>
          <p:blipFill>
            <a:blip r:embed="rId16"/>
            <a:stretch/>
          </p:blipFill>
          <p:spPr>
            <a:xfrm>
              <a:off x="41814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58" name=""/>
            <p:cNvGrpSpPr/>
            <p:nvPr/>
          </p:nvGrpSpPr>
          <p:grpSpPr>
            <a:xfrm>
              <a:off x="990720" y="990720"/>
              <a:ext cx="923760" cy="161640"/>
              <a:chOff x="990720" y="990720"/>
              <a:chExt cx="923760" cy="161640"/>
            </a:xfrm>
          </p:grpSpPr>
          <p:pic>
            <p:nvPicPr>
              <p:cNvPr id="925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364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5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79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9084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528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9907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65" name="" descr=""/>
            <p:cNvPicPr/>
            <p:nvPr/>
          </p:nvPicPr>
          <p:blipFill>
            <a:blip r:embed="rId23"/>
            <a:stretch/>
          </p:blipFill>
          <p:spPr>
            <a:xfrm>
              <a:off x="43434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6" name="" descr=""/>
            <p:cNvPicPr/>
            <p:nvPr/>
          </p:nvPicPr>
          <p:blipFill>
            <a:blip r:embed="rId24"/>
            <a:stretch/>
          </p:blipFill>
          <p:spPr>
            <a:xfrm>
              <a:off x="4495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7" name=""/>
          <p:cNvGrpSpPr/>
          <p:nvPr/>
        </p:nvGrpSpPr>
        <p:grpSpPr>
          <a:xfrm>
            <a:off x="6553080" y="1752480"/>
            <a:ext cx="1905120" cy="1447920"/>
            <a:chOff x="6553080" y="1752480"/>
            <a:chExt cx="1905120" cy="1447920"/>
          </a:xfrm>
        </p:grpSpPr>
        <p:sp>
          <p:nvSpPr>
            <p:cNvPr id="9268" name=""/>
            <p:cNvSpPr/>
            <p:nvPr/>
          </p:nvSpPr>
          <p:spPr>
            <a:xfrm>
              <a:off x="6553080" y="1752480"/>
              <a:ext cx="1752840" cy="1447920"/>
            </a:xfrm>
            <a:prstGeom prst="wedgeRoundRectCallout">
              <a:avLst>
                <a:gd name="adj1" fmla="val -66939"/>
                <a:gd name="adj2" fmla="val -5152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6553080" y="1965600"/>
              <a:ext cx="190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确定将信号送到哪个输出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0" name="">
            <a:hlinkClick r:id="" action="ppaction://hlinkshowjump?jump=previousslide"/>
          </p:cNvPr>
          <p:cNvSpPr/>
          <p:nvPr/>
        </p:nvSpPr>
        <p:spPr>
          <a:xfrm>
            <a:off x="6967440" y="64468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68" h="21600">
                <a:moveTo>
                  <a:pt x="11577" y="10800"/>
                </a:moveTo>
                <a:lnTo>
                  <a:pt x="25590" y="3794"/>
                </a:lnTo>
                <a:lnTo>
                  <a:pt x="25590" y="17806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9ca8a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d5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>
            <a:hlinkClick r:id="" action="ppaction://hlinkshowjump?jump=nextslide"/>
          </p:cNvPr>
          <p:cNvSpPr/>
          <p:nvPr/>
        </p:nvSpPr>
        <p:spPr>
          <a:xfrm>
            <a:off x="7572240" y="64468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68" h="21600">
                <a:moveTo>
                  <a:pt x="11577" y="3794"/>
                </a:moveTo>
                <a:lnTo>
                  <a:pt x="25590" y="10800"/>
                </a:lnTo>
                <a:lnTo>
                  <a:pt x="11577" y="17806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9ca8a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d5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>
            <a:hlinkClick r:id="" action="ppaction://hlinkshowjump?jump=firstslide"/>
          </p:cNvPr>
          <p:cNvSpPr/>
          <p:nvPr/>
        </p:nvSpPr>
        <p:spPr>
          <a:xfrm>
            <a:off x="8186760" y="64468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68" h="21600">
                <a:moveTo>
                  <a:pt x="18584" y="3837"/>
                </a:moveTo>
                <a:lnTo>
                  <a:pt x="21160" y="6448"/>
                </a:lnTo>
                <a:lnTo>
                  <a:pt x="21160" y="4707"/>
                </a:lnTo>
                <a:lnTo>
                  <a:pt x="22936" y="4707"/>
                </a:lnTo>
                <a:lnTo>
                  <a:pt x="22936" y="8224"/>
                </a:lnTo>
                <a:lnTo>
                  <a:pt x="25547" y="10800"/>
                </a:lnTo>
                <a:lnTo>
                  <a:pt x="23893" y="10800"/>
                </a:lnTo>
                <a:lnTo>
                  <a:pt x="23893" y="17989"/>
                </a:lnTo>
                <a:lnTo>
                  <a:pt x="13275" y="17989"/>
                </a:lnTo>
                <a:lnTo>
                  <a:pt x="13275" y="10800"/>
                </a:lnTo>
                <a:lnTo>
                  <a:pt x="11621" y="10800"/>
                </a:lnTo>
                <a:close/>
              </a:path>
              <a:path fill="darkenLess" w="37168" h="21600">
                <a:moveTo>
                  <a:pt x="21160" y="6448"/>
                </a:moveTo>
                <a:lnTo>
                  <a:pt x="21160" y="4707"/>
                </a:lnTo>
                <a:lnTo>
                  <a:pt x="22936" y="4707"/>
                </a:lnTo>
                <a:lnTo>
                  <a:pt x="22936" y="8224"/>
                </a:lnTo>
                <a:close/>
              </a:path>
              <a:path fill="darkenLess" w="37168" h="21600">
                <a:moveTo>
                  <a:pt x="17661" y="14299"/>
                </a:moveTo>
                <a:lnTo>
                  <a:pt x="19506" y="14299"/>
                </a:lnTo>
                <a:lnTo>
                  <a:pt x="19506" y="17989"/>
                </a:lnTo>
                <a:lnTo>
                  <a:pt x="23893" y="17989"/>
                </a:lnTo>
                <a:lnTo>
                  <a:pt x="23893" y="10800"/>
                </a:lnTo>
                <a:lnTo>
                  <a:pt x="13275" y="10800"/>
                </a:lnTo>
                <a:lnTo>
                  <a:pt x="13275" y="17989"/>
                </a:lnTo>
                <a:lnTo>
                  <a:pt x="17661" y="17989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9ca8a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d5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3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据分配器的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4572000" y="236232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3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2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1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5" name=""/>
          <p:cNvGrpSpPr/>
          <p:nvPr/>
        </p:nvGrpSpPr>
        <p:grpSpPr>
          <a:xfrm>
            <a:off x="1752480" y="1828800"/>
            <a:ext cx="5181840" cy="3581280"/>
            <a:chOff x="1752480" y="1828800"/>
            <a:chExt cx="5181840" cy="3581280"/>
          </a:xfrm>
        </p:grpSpPr>
        <p:sp>
          <p:nvSpPr>
            <p:cNvPr id="9276" name=""/>
            <p:cNvSpPr/>
            <p:nvPr/>
          </p:nvSpPr>
          <p:spPr>
            <a:xfrm>
              <a:off x="1828800" y="182880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1828800" y="236196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1828800" y="541008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2743200" y="18288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1828800" y="289548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419720" y="18288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1752480" y="18288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使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3187440" y="182880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控   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5236560" y="1828800"/>
              <a:ext cx="12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2064600" y="23619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2057400" y="24382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3657600" y="23619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2982240" y="2361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20466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752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204660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30373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379944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204660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303732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37994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30373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379944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204660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303732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379944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204660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4832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375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3752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375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3025800" y="2889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3693960" y="28699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517104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51814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5191200" y="42670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51710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517104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578052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579132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57805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5801040" y="38098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57805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631404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63244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631404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63140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6334200" y="33526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4" name="PlaceHolder 1"/>
          <p:cNvSpPr>
            <a:spLocks noGrp="1"/>
          </p:cNvSpPr>
          <p:nvPr>
            <p:ph type="subTitle"/>
          </p:nvPr>
        </p:nvSpPr>
        <p:spPr>
          <a:xfrm>
            <a:off x="2514240" y="45684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12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应用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1539360" y="1014480"/>
            <a:ext cx="4389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1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交通信号灯故障检测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>
            <a:off x="1897560" y="1660680"/>
            <a:ext cx="5375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信号灯在正常情况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红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亮——停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685800" y="2093760"/>
            <a:ext cx="74674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亮——准备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绿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亮——通行。正常时，只有一个灯亮。如果灯全不亮或全亮或两个灯同时亮，都是故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685800" y="3657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2306520" y="4267080"/>
            <a:ext cx="45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灯亮 —“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灯灭 —“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2306520" y="4800600"/>
            <a:ext cx="45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故障 —“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正常 —“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2290680" y="3733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入信号三个，输出信号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>
            <a:hlinkClick r:id="rId1"/>
          </p:cNvPr>
          <p:cNvSpPr/>
          <p:nvPr/>
        </p:nvSpPr>
        <p:spPr>
          <a:xfrm>
            <a:off x="6781680" y="114300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990720" y="1984320"/>
            <a:ext cx="3276360" cy="29685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平的高低一般用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两种状态区别，若规定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高电平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低电平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则称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正逻辑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反之则称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负逻辑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若无特殊说明，均采用正逻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24680" y="18288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41148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267080" y="4449600"/>
            <a:ext cx="3352680" cy="520560"/>
            <a:chOff x="4267080" y="4449600"/>
            <a:chExt cx="3352680" cy="520560"/>
          </a:xfrm>
        </p:grpSpPr>
        <p:sp>
          <p:nvSpPr>
            <p:cNvPr id="569" name=""/>
            <p:cNvSpPr/>
            <p:nvPr/>
          </p:nvSpPr>
          <p:spPr>
            <a:xfrm>
              <a:off x="4267080" y="4449600"/>
              <a:ext cx="104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52880" y="4724280"/>
              <a:ext cx="2666880" cy="0"/>
            </a:xfrm>
            <a:prstGeom prst="line">
              <a:avLst/>
            </a:prstGeom>
            <a:ln cap="sq"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952880" y="4038480"/>
            <a:ext cx="2666880" cy="682560"/>
            <a:chOff x="4952880" y="4038480"/>
            <a:chExt cx="2666880" cy="682560"/>
          </a:xfrm>
        </p:grpSpPr>
        <p:grpSp>
          <p:nvGrpSpPr>
            <p:cNvPr id="572" name=""/>
            <p:cNvGrpSpPr/>
            <p:nvPr/>
          </p:nvGrpSpPr>
          <p:grpSpPr>
            <a:xfrm>
              <a:off x="4979880" y="4038480"/>
              <a:ext cx="2639520" cy="682560"/>
              <a:chOff x="4979880" y="4038480"/>
              <a:chExt cx="2639520" cy="682560"/>
            </a:xfrm>
          </p:grpSpPr>
          <p:sp>
            <p:nvSpPr>
              <p:cNvPr id="573" name=""/>
              <p:cNvSpPr/>
              <p:nvPr/>
            </p:nvSpPr>
            <p:spPr>
              <a:xfrm>
                <a:off x="4979880" y="4721040"/>
                <a:ext cx="2639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79880" y="4038480"/>
                <a:ext cx="2639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79880" y="4062600"/>
                <a:ext cx="2617920" cy="633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4952880" y="4038480"/>
              <a:ext cx="2666880" cy="0"/>
            </a:xfrm>
            <a:prstGeom prst="line">
              <a:avLst/>
            </a:prstGeom>
            <a:ln cap="sq"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952880" y="1523880"/>
            <a:ext cx="2743200" cy="1218960"/>
            <a:chOff x="4952880" y="1523880"/>
            <a:chExt cx="2743200" cy="1218960"/>
          </a:xfrm>
        </p:grpSpPr>
        <p:grpSp>
          <p:nvGrpSpPr>
            <p:cNvPr id="578" name=""/>
            <p:cNvGrpSpPr/>
            <p:nvPr/>
          </p:nvGrpSpPr>
          <p:grpSpPr>
            <a:xfrm>
              <a:off x="4952880" y="1523880"/>
              <a:ext cx="2742840" cy="1218240"/>
              <a:chOff x="4952880" y="1523880"/>
              <a:chExt cx="2742840" cy="1218240"/>
            </a:xfrm>
          </p:grpSpPr>
          <p:sp>
            <p:nvSpPr>
              <p:cNvPr id="579" name=""/>
              <p:cNvSpPr/>
              <p:nvPr/>
            </p:nvSpPr>
            <p:spPr>
              <a:xfrm>
                <a:off x="4952880" y="1523880"/>
                <a:ext cx="2742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2880" y="2742120"/>
                <a:ext cx="2742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74840" y="1607760"/>
                <a:ext cx="2698200" cy="1091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952880" y="2742840"/>
              <a:ext cx="2743200" cy="0"/>
            </a:xfrm>
            <a:prstGeom prst="line">
              <a:avLst/>
            </a:prstGeom>
            <a:ln cap="sq"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286160" y="1214280"/>
            <a:ext cx="3352680" cy="560880"/>
            <a:chOff x="4286160" y="1214280"/>
            <a:chExt cx="3352680" cy="560880"/>
          </a:xfrm>
        </p:grpSpPr>
        <p:sp>
          <p:nvSpPr>
            <p:cNvPr id="584" name=""/>
            <p:cNvSpPr/>
            <p:nvPr/>
          </p:nvSpPr>
          <p:spPr>
            <a:xfrm>
              <a:off x="4286160" y="1214280"/>
              <a:ext cx="16063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71960" y="1564920"/>
              <a:ext cx="2666880" cy="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7696080" y="4038480"/>
            <a:ext cx="152640" cy="60984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96080" y="16002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44880" y="658080"/>
            <a:ext cx="886320" cy="561600"/>
          </a:xfrm>
          <a:prstGeom prst="wedgeRoundRectCallout">
            <a:avLst>
              <a:gd name="adj1" fmla="val -68310"/>
              <a:gd name="adj2" fmla="val 156083"/>
              <a:gd name="adj3" fmla="val 16667"/>
            </a:avLst>
          </a:prstGeom>
          <a:solidFill>
            <a:srgbClr val="ffffcc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高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1920" y="2944080"/>
            <a:ext cx="886320" cy="561600"/>
          </a:xfrm>
          <a:prstGeom prst="wedgeRoundRectCallout">
            <a:avLst>
              <a:gd name="adj1" fmla="val -68310"/>
              <a:gd name="adj2" fmla="val 156083"/>
              <a:gd name="adj3" fmla="val 16667"/>
            </a:avLst>
          </a:prstGeom>
          <a:solidFill>
            <a:srgbClr val="ffffcc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低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5638680" y="5181480"/>
            <a:ext cx="1447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3" name=""/>
          <p:cNvSpPr/>
          <p:nvPr/>
        </p:nvSpPr>
        <p:spPr>
          <a:xfrm>
            <a:off x="975960" y="83808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609480" y="129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5" name=""/>
              <p:cNvSpPr txBox="1"/>
              <p:nvPr/>
            </p:nvSpPr>
            <p:spPr>
              <a:xfrm>
                <a:off x="914400" y="1828800"/>
                <a:ext cx="42670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G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Y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Y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36" name=""/>
          <p:cNvGrpSpPr/>
          <p:nvPr/>
        </p:nvGrpSpPr>
        <p:grpSpPr>
          <a:xfrm>
            <a:off x="945000" y="2971800"/>
            <a:ext cx="4182480" cy="1143000"/>
            <a:chOff x="945000" y="2971800"/>
            <a:chExt cx="4182480" cy="1143000"/>
          </a:xfrm>
        </p:grpSpPr>
        <p:sp>
          <p:nvSpPr>
            <p:cNvPr id="9337" name=""/>
            <p:cNvSpPr/>
            <p:nvPr/>
          </p:nvSpPr>
          <p:spPr>
            <a:xfrm>
              <a:off x="945000" y="297180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(3)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化简可得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38" name=""/>
                <p:cNvSpPr txBox="1"/>
                <p:nvPr/>
              </p:nvSpPr>
              <p:spPr>
                <a:xfrm>
                  <a:off x="990720" y="3505320"/>
                  <a:ext cx="41367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YG</m:t>
                      </m:r>
                      <m:r>
                        <m:t xml:space="preserve">+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9" name=""/>
          <p:cNvGrpSpPr/>
          <p:nvPr/>
        </p:nvGrpSpPr>
        <p:grpSpPr>
          <a:xfrm>
            <a:off x="987480" y="4038480"/>
            <a:ext cx="4484520" cy="1905120"/>
            <a:chOff x="987480" y="4038480"/>
            <a:chExt cx="4484520" cy="1905120"/>
          </a:xfrm>
        </p:grpSpPr>
        <p:sp>
          <p:nvSpPr>
            <p:cNvPr id="9340" name=""/>
            <p:cNvSpPr/>
            <p:nvPr/>
          </p:nvSpPr>
          <p:spPr>
            <a:xfrm>
              <a:off x="1421640" y="4038480"/>
              <a:ext cx="341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为减少所用门数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将上式变换为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41" name=""/>
                <p:cNvSpPr txBox="1"/>
                <p:nvPr/>
              </p:nvSpPr>
              <p:spPr>
                <a:xfrm>
                  <a:off x="987480" y="4572000"/>
                  <a:ext cx="448452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bar>
                            <m:barPr>
                              <m:pos m:val="top"/>
                            </m:barP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</m:acc>
                                </m:e>
                              </m:bar>
                            </m:e>
                          </m:ba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RG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G</m:t>
                              </m:r>
                            </m:e>
                          </m:bar>
                          <m:r>
                            <m:t xml:space="preserve">+</m:t>
                          </m:r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Y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342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147680" cy="1295640"/>
          </a:xfrm>
          <a:prstGeom prst="rect">
            <a:avLst/>
          </a:prstGeom>
          <a:ln w="0">
            <a:noFill/>
          </a:ln>
        </p:spPr>
      </p:pic>
      <p:grpSp>
        <p:nvGrpSpPr>
          <p:cNvPr id="9343" name=""/>
          <p:cNvGrpSpPr/>
          <p:nvPr/>
        </p:nvGrpSpPr>
        <p:grpSpPr>
          <a:xfrm>
            <a:off x="5010840" y="1066680"/>
            <a:ext cx="3218760" cy="3445560"/>
            <a:chOff x="5010840" y="1066680"/>
            <a:chExt cx="3218760" cy="3445560"/>
          </a:xfrm>
        </p:grpSpPr>
        <p:grpSp>
          <p:nvGrpSpPr>
            <p:cNvPr id="9344" name=""/>
            <p:cNvGrpSpPr/>
            <p:nvPr/>
          </p:nvGrpSpPr>
          <p:grpSpPr>
            <a:xfrm>
              <a:off x="5010840" y="1066680"/>
              <a:ext cx="3218760" cy="3445560"/>
              <a:chOff x="5010840" y="1066680"/>
              <a:chExt cx="3218760" cy="3445560"/>
            </a:xfrm>
          </p:grpSpPr>
          <p:sp>
            <p:nvSpPr>
              <p:cNvPr id="9345" name=""/>
              <p:cNvSpPr/>
              <p:nvPr/>
            </p:nvSpPr>
            <p:spPr>
              <a:xfrm>
                <a:off x="5010840" y="15321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     0    0     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6" name=""/>
              <p:cNvGrpSpPr/>
              <p:nvPr/>
            </p:nvGrpSpPr>
            <p:grpSpPr>
              <a:xfrm>
                <a:off x="5423760" y="1066680"/>
                <a:ext cx="2805840" cy="3445560"/>
                <a:chOff x="5423760" y="1066680"/>
                <a:chExt cx="2805840" cy="3445560"/>
              </a:xfrm>
            </p:grpSpPr>
            <p:sp>
              <p:nvSpPr>
                <p:cNvPr id="9347" name=""/>
                <p:cNvSpPr/>
                <p:nvPr/>
              </p:nvSpPr>
              <p:spPr>
                <a:xfrm>
                  <a:off x="5639040" y="10666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>
                  <a:off x="5639040" y="148824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9" name=""/>
                <p:cNvSpPr/>
                <p:nvPr/>
              </p:nvSpPr>
              <p:spPr>
                <a:xfrm>
                  <a:off x="7467840" y="1066680"/>
                  <a:ext cx="0" cy="3303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0" name=""/>
                <p:cNvSpPr/>
                <p:nvPr/>
              </p:nvSpPr>
              <p:spPr>
                <a:xfrm>
                  <a:off x="5423760" y="1066680"/>
                  <a:ext cx="270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R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G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1" name=""/>
                <p:cNvSpPr/>
                <p:nvPr/>
              </p:nvSpPr>
              <p:spPr>
                <a:xfrm>
                  <a:off x="5556600" y="18835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0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2" name=""/>
                <p:cNvSpPr/>
                <p:nvPr/>
              </p:nvSpPr>
              <p:spPr>
                <a:xfrm>
                  <a:off x="5556600" y="22348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3" name=""/>
                <p:cNvSpPr/>
                <p:nvPr/>
              </p:nvSpPr>
              <p:spPr>
                <a:xfrm>
                  <a:off x="5556600" y="25862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4" name=""/>
                <p:cNvSpPr/>
                <p:nvPr/>
              </p:nvSpPr>
              <p:spPr>
                <a:xfrm>
                  <a:off x="5556600" y="293760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5" name=""/>
                <p:cNvSpPr/>
                <p:nvPr/>
              </p:nvSpPr>
              <p:spPr>
                <a:xfrm>
                  <a:off x="5556600" y="32907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6" name=""/>
                <p:cNvSpPr/>
                <p:nvPr/>
              </p:nvSpPr>
              <p:spPr>
                <a:xfrm>
                  <a:off x="5556600" y="36417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7" name=""/>
                <p:cNvSpPr/>
                <p:nvPr/>
              </p:nvSpPr>
              <p:spPr>
                <a:xfrm>
                  <a:off x="5556600" y="39916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58" name=""/>
            <p:cNvSpPr/>
            <p:nvPr/>
          </p:nvSpPr>
          <p:spPr>
            <a:xfrm>
              <a:off x="5715000" y="44197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9" name=""/>
          <p:cNvSpPr/>
          <p:nvPr/>
        </p:nvSpPr>
        <p:spPr>
          <a:xfrm>
            <a:off x="838440" y="700200"/>
            <a:ext cx="17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画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0" name=""/>
          <p:cNvGrpSpPr/>
          <p:nvPr/>
        </p:nvGrpSpPr>
        <p:grpSpPr>
          <a:xfrm>
            <a:off x="1066680" y="1143000"/>
            <a:ext cx="6782040" cy="3047760"/>
            <a:chOff x="1066680" y="1143000"/>
            <a:chExt cx="6782040" cy="3047760"/>
          </a:xfrm>
        </p:grpSpPr>
        <p:sp>
          <p:nvSpPr>
            <p:cNvPr id="9361" name=""/>
            <p:cNvSpPr/>
            <p:nvPr/>
          </p:nvSpPr>
          <p:spPr>
            <a:xfrm>
              <a:off x="601992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1066680" y="3657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1066680" y="2057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1066680" y="1143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7162920" y="3657600"/>
              <a:ext cx="1522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66" name=""/>
            <p:cNvGrpSpPr/>
            <p:nvPr/>
          </p:nvGrpSpPr>
          <p:grpSpPr>
            <a:xfrm>
              <a:off x="1600200" y="1295280"/>
              <a:ext cx="4571280" cy="2895480"/>
              <a:chOff x="1600200" y="1295280"/>
              <a:chExt cx="4571280" cy="2895480"/>
            </a:xfrm>
          </p:grpSpPr>
          <p:sp>
            <p:nvSpPr>
              <p:cNvPr id="9367" name=""/>
              <p:cNvSpPr/>
              <p:nvPr/>
            </p:nvSpPr>
            <p:spPr>
              <a:xfrm>
                <a:off x="1873080" y="2819520"/>
                <a:ext cx="40932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3033000" y="3276720"/>
                <a:ext cx="47772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9" name=""/>
              <p:cNvGrpSpPr/>
              <p:nvPr/>
            </p:nvGrpSpPr>
            <p:grpSpPr>
              <a:xfrm>
                <a:off x="3510720" y="1295280"/>
                <a:ext cx="545760" cy="838080"/>
                <a:chOff x="3510720" y="1295280"/>
                <a:chExt cx="545760" cy="838080"/>
              </a:xfrm>
            </p:grpSpPr>
            <p:sp>
              <p:nvSpPr>
                <p:cNvPr id="9370" name=""/>
                <p:cNvSpPr/>
                <p:nvPr/>
              </p:nvSpPr>
              <p:spPr>
                <a:xfrm>
                  <a:off x="3510720" y="1295280"/>
                  <a:ext cx="54576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1" name=""/>
                <p:cNvSpPr/>
                <p:nvPr/>
              </p:nvSpPr>
              <p:spPr>
                <a:xfrm>
                  <a:off x="3578400" y="129528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2" name=""/>
              <p:cNvSpPr/>
              <p:nvPr/>
            </p:nvSpPr>
            <p:spPr>
              <a:xfrm>
                <a:off x="1600200" y="1447920"/>
                <a:ext cx="191052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1600200" y="2362320"/>
                <a:ext cx="68220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3237840" y="1905120"/>
                <a:ext cx="2728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3237840" y="1905120"/>
                <a:ext cx="0" cy="99036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2828160" y="3809880"/>
                <a:ext cx="177372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2828160" y="2590920"/>
                <a:ext cx="40932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 flipV="1">
                <a:off x="2077920" y="2362320"/>
                <a:ext cx="0" cy="121896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2077920" y="3581280"/>
                <a:ext cx="2044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0" name=""/>
              <p:cNvGrpSpPr/>
              <p:nvPr/>
            </p:nvGrpSpPr>
            <p:grpSpPr>
              <a:xfrm>
                <a:off x="3510720" y="2590920"/>
                <a:ext cx="681480" cy="838080"/>
                <a:chOff x="3510720" y="2590920"/>
                <a:chExt cx="681480" cy="838080"/>
              </a:xfrm>
            </p:grpSpPr>
            <p:sp>
              <p:nvSpPr>
                <p:cNvPr id="9381" name=""/>
                <p:cNvSpPr/>
                <p:nvPr/>
              </p:nvSpPr>
              <p:spPr>
                <a:xfrm>
                  <a:off x="3510720" y="2590920"/>
                  <a:ext cx="54540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2" name=""/>
                <p:cNvSpPr/>
                <p:nvPr/>
              </p:nvSpPr>
              <p:spPr>
                <a:xfrm>
                  <a:off x="3578760" y="2590920"/>
                  <a:ext cx="61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3" name=""/>
                <p:cNvSpPr/>
                <p:nvPr/>
              </p:nvSpPr>
              <p:spPr>
                <a:xfrm>
                  <a:off x="4056120" y="2895480"/>
                  <a:ext cx="136080" cy="151920"/>
                </a:xfrm>
                <a:prstGeom prst="ellipse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4" name=""/>
                <p:cNvSpPr/>
                <p:nvPr/>
              </p:nvSpPr>
              <p:spPr>
                <a:xfrm flipH="1">
                  <a:off x="3714840" y="2895480"/>
                  <a:ext cx="13644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5" name=""/>
              <p:cNvGrpSpPr/>
              <p:nvPr/>
            </p:nvGrpSpPr>
            <p:grpSpPr>
              <a:xfrm>
                <a:off x="2282400" y="2133720"/>
                <a:ext cx="681480" cy="838080"/>
                <a:chOff x="2282400" y="2133720"/>
                <a:chExt cx="681480" cy="838080"/>
              </a:xfrm>
            </p:grpSpPr>
            <p:sp>
              <p:nvSpPr>
                <p:cNvPr id="9386" name=""/>
                <p:cNvSpPr/>
                <p:nvPr/>
              </p:nvSpPr>
              <p:spPr>
                <a:xfrm>
                  <a:off x="2282400" y="2133720"/>
                  <a:ext cx="54540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7" name=""/>
                <p:cNvSpPr/>
                <p:nvPr/>
              </p:nvSpPr>
              <p:spPr>
                <a:xfrm>
                  <a:off x="2350080" y="2133720"/>
                  <a:ext cx="61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8" name=""/>
                <p:cNvSpPr/>
                <p:nvPr/>
              </p:nvSpPr>
              <p:spPr>
                <a:xfrm flipH="1">
                  <a:off x="2486880" y="243828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9" name=""/>
              <p:cNvGrpSpPr/>
              <p:nvPr/>
            </p:nvGrpSpPr>
            <p:grpSpPr>
              <a:xfrm>
                <a:off x="2282400" y="3352680"/>
                <a:ext cx="545760" cy="838080"/>
                <a:chOff x="2282400" y="3352680"/>
                <a:chExt cx="545760" cy="838080"/>
              </a:xfrm>
            </p:grpSpPr>
            <p:sp>
              <p:nvSpPr>
                <p:cNvPr id="9390" name=""/>
                <p:cNvSpPr/>
                <p:nvPr/>
              </p:nvSpPr>
              <p:spPr>
                <a:xfrm>
                  <a:off x="2282400" y="3352680"/>
                  <a:ext cx="54576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1" name=""/>
                <p:cNvSpPr/>
                <p:nvPr/>
              </p:nvSpPr>
              <p:spPr>
                <a:xfrm>
                  <a:off x="2350080" y="335268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2" name=""/>
              <p:cNvSpPr/>
              <p:nvPr/>
            </p:nvSpPr>
            <p:spPr>
              <a:xfrm>
                <a:off x="1600200" y="3962520"/>
                <a:ext cx="68220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 flipV="1">
                <a:off x="1873080" y="2819160"/>
                <a:ext cx="0" cy="114300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3237840" y="2895480"/>
                <a:ext cx="2728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3033000" y="1447920"/>
                <a:ext cx="0" cy="182880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6" name=""/>
              <p:cNvGrpSpPr/>
              <p:nvPr/>
            </p:nvGrpSpPr>
            <p:grpSpPr>
              <a:xfrm>
                <a:off x="4602240" y="3124080"/>
                <a:ext cx="681840" cy="838080"/>
                <a:chOff x="4602240" y="3124080"/>
                <a:chExt cx="681840" cy="838080"/>
              </a:xfrm>
            </p:grpSpPr>
            <p:sp>
              <p:nvSpPr>
                <p:cNvPr id="9397" name=""/>
                <p:cNvSpPr/>
                <p:nvPr/>
              </p:nvSpPr>
              <p:spPr>
                <a:xfrm>
                  <a:off x="4602240" y="3124080"/>
                  <a:ext cx="54576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8" name=""/>
                <p:cNvSpPr/>
                <p:nvPr/>
              </p:nvSpPr>
              <p:spPr>
                <a:xfrm>
                  <a:off x="4669920" y="3124080"/>
                  <a:ext cx="61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9" name=""/>
                <p:cNvSpPr/>
                <p:nvPr/>
              </p:nvSpPr>
              <p:spPr>
                <a:xfrm flipH="1">
                  <a:off x="4806720" y="342864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0" name=""/>
              <p:cNvSpPr/>
              <p:nvPr/>
            </p:nvSpPr>
            <p:spPr>
              <a:xfrm>
                <a:off x="4192920" y="2971800"/>
                <a:ext cx="2044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 flipV="1">
                <a:off x="4397760" y="2971440"/>
                <a:ext cx="0" cy="30492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4397760" y="3276720"/>
                <a:ext cx="2044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3" name=""/>
              <p:cNvGrpSpPr/>
              <p:nvPr/>
            </p:nvGrpSpPr>
            <p:grpSpPr>
              <a:xfrm>
                <a:off x="5489640" y="2286000"/>
                <a:ext cx="681840" cy="838080"/>
                <a:chOff x="5489640" y="2286000"/>
                <a:chExt cx="681840" cy="838080"/>
              </a:xfrm>
            </p:grpSpPr>
            <p:sp>
              <p:nvSpPr>
                <p:cNvPr id="9404" name=""/>
                <p:cNvSpPr/>
                <p:nvPr/>
              </p:nvSpPr>
              <p:spPr>
                <a:xfrm>
                  <a:off x="5489640" y="2286000"/>
                  <a:ext cx="545760" cy="838080"/>
                </a:xfrm>
                <a:prstGeom prst="rect">
                  <a:avLst/>
                </a:prstGeom>
                <a:noFill/>
                <a:ln cap="sq"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5" name=""/>
                <p:cNvSpPr/>
                <p:nvPr/>
              </p:nvSpPr>
              <p:spPr>
                <a:xfrm>
                  <a:off x="5557320" y="2286000"/>
                  <a:ext cx="61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6" name=""/>
                <p:cNvSpPr/>
                <p:nvPr/>
              </p:nvSpPr>
              <p:spPr>
                <a:xfrm flipH="1">
                  <a:off x="5694120" y="259056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7" name=""/>
              <p:cNvSpPr/>
              <p:nvPr/>
            </p:nvSpPr>
            <p:spPr>
              <a:xfrm>
                <a:off x="5148360" y="3581280"/>
                <a:ext cx="2044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5353200" y="2971800"/>
                <a:ext cx="0" cy="60948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5353200" y="2971800"/>
                <a:ext cx="1360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4056480" y="1676520"/>
                <a:ext cx="129636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5353200" y="1676520"/>
                <a:ext cx="0" cy="76176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5353200" y="2438280"/>
                <a:ext cx="13608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3" name=""/>
            <p:cNvSpPr/>
            <p:nvPr/>
          </p:nvSpPr>
          <p:spPr>
            <a:xfrm>
              <a:off x="6019920" y="266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6324480" y="2590920"/>
              <a:ext cx="30492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662940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6934320" y="24382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 flipV="1">
              <a:off x="6934320" y="243828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6934320" y="2743200"/>
              <a:ext cx="304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723888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716292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1" name=""/>
            <p:cNvGrpSpPr/>
            <p:nvPr/>
          </p:nvGrpSpPr>
          <p:grpSpPr>
            <a:xfrm>
              <a:off x="6858000" y="1752480"/>
              <a:ext cx="609480" cy="457200"/>
              <a:chOff x="6858000" y="1752480"/>
              <a:chExt cx="609480" cy="457200"/>
            </a:xfrm>
          </p:grpSpPr>
          <p:sp>
            <p:nvSpPr>
              <p:cNvPr id="9422" name=""/>
              <p:cNvSpPr/>
              <p:nvPr/>
            </p:nvSpPr>
            <p:spPr>
              <a:xfrm>
                <a:off x="6925320" y="1752480"/>
                <a:ext cx="4060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6858000" y="181764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4" name=""/>
            <p:cNvSpPr/>
            <p:nvPr/>
          </p:nvSpPr>
          <p:spPr>
            <a:xfrm>
              <a:off x="7162920" y="1371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5" name=""/>
            <p:cNvGrpSpPr/>
            <p:nvPr/>
          </p:nvGrpSpPr>
          <p:grpSpPr>
            <a:xfrm>
              <a:off x="6553080" y="1523880"/>
              <a:ext cx="228600" cy="761760"/>
              <a:chOff x="6553080" y="1523880"/>
              <a:chExt cx="228600" cy="761760"/>
            </a:xfrm>
          </p:grpSpPr>
          <p:grpSp>
            <p:nvGrpSpPr>
              <p:cNvPr id="9426" name=""/>
              <p:cNvGrpSpPr/>
              <p:nvPr/>
            </p:nvGrpSpPr>
            <p:grpSpPr>
              <a:xfrm>
                <a:off x="6553080" y="1752480"/>
                <a:ext cx="228600" cy="228600"/>
                <a:chOff x="6553080" y="1752480"/>
                <a:chExt cx="228600" cy="228600"/>
              </a:xfrm>
            </p:grpSpPr>
            <p:sp>
              <p:nvSpPr>
                <p:cNvPr id="9427" name=""/>
                <p:cNvSpPr/>
                <p:nvPr/>
              </p:nvSpPr>
              <p:spPr>
                <a:xfrm>
                  <a:off x="6553080" y="1752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8" name=""/>
                <p:cNvSpPr/>
                <p:nvPr/>
              </p:nvSpPr>
              <p:spPr>
                <a:xfrm>
                  <a:off x="6553080" y="175248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9" name=""/>
              <p:cNvSpPr/>
              <p:nvPr/>
            </p:nvSpPr>
            <p:spPr>
              <a:xfrm>
                <a:off x="6669000" y="152388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0" name=""/>
            <p:cNvSpPr/>
            <p:nvPr/>
          </p:nvSpPr>
          <p:spPr>
            <a:xfrm>
              <a:off x="6665760" y="1523880"/>
              <a:ext cx="10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6669000" y="228600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7122960" y="1295280"/>
              <a:ext cx="9396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1486080" y="140652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1487520" y="23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1487520" y="390672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7696080" y="1523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 flipH="1">
              <a:off x="7696080" y="2133720"/>
              <a:ext cx="1526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769608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7583400" y="2895480"/>
              <a:ext cx="228600" cy="22860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7696080" y="3124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7238880" y="3352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7332840" y="198108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"/>
                </a:rPr>
                <a:t>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3" name=""/>
          <p:cNvSpPr/>
          <p:nvPr/>
        </p:nvSpPr>
        <p:spPr>
          <a:xfrm>
            <a:off x="838080" y="4495680"/>
            <a:ext cx="7315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发生故障时，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晶体管导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继电器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通电，其触点闭合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故障指示灯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与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3800" y="13716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1880" y="45100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92640" y="5715000"/>
            <a:ext cx="61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为高电平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Y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47200" y="5181480"/>
            <a:ext cx="57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不全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143000" y="2590920"/>
            <a:ext cx="609480" cy="1755000"/>
            <a:chOff x="1143000" y="2590920"/>
            <a:chExt cx="609480" cy="1755000"/>
          </a:xfrm>
        </p:grpSpPr>
        <p:sp>
          <p:nvSpPr>
            <p:cNvPr id="597" name=""/>
            <p:cNvSpPr/>
            <p:nvPr/>
          </p:nvSpPr>
          <p:spPr>
            <a:xfrm>
              <a:off x="114300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3000" y="2590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3000" y="3886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209680" y="1905120"/>
            <a:ext cx="1067040" cy="2286000"/>
            <a:chOff x="2209680" y="1905120"/>
            <a:chExt cx="1067040" cy="2286000"/>
          </a:xfrm>
        </p:grpSpPr>
        <p:sp>
          <p:nvSpPr>
            <p:cNvPr id="601" name=""/>
            <p:cNvSpPr/>
            <p:nvPr/>
          </p:nvSpPr>
          <p:spPr>
            <a:xfrm>
              <a:off x="3276720" y="1905120"/>
              <a:ext cx="0" cy="228600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209680" y="2895840"/>
              <a:ext cx="10670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209680" y="3505320"/>
              <a:ext cx="10670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209680" y="4191120"/>
              <a:ext cx="10670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43000" y="2514600"/>
            <a:ext cx="609480" cy="1831320"/>
            <a:chOff x="1143000" y="2514600"/>
            <a:chExt cx="609480" cy="1831320"/>
          </a:xfrm>
        </p:grpSpPr>
        <p:graphicFrame>
          <p:nvGraphicFramePr>
            <p:cNvPr id="606" name=""/>
            <p:cNvGraphicFramePr/>
            <p:nvPr/>
          </p:nvGraphicFramePr>
          <p:xfrm>
            <a:off x="1143000" y="2514600"/>
            <a:ext cx="457200" cy="17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514600"/>
                      <a:ext cx="457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08" name=""/>
            <p:cNvGrpSpPr/>
            <p:nvPr/>
          </p:nvGrpSpPr>
          <p:grpSpPr>
            <a:xfrm>
              <a:off x="1143000" y="2590920"/>
              <a:ext cx="609480" cy="1755000"/>
              <a:chOff x="1143000" y="2590920"/>
              <a:chExt cx="609480" cy="1755000"/>
            </a:xfrm>
          </p:grpSpPr>
          <p:sp>
            <p:nvSpPr>
              <p:cNvPr id="609" name=""/>
              <p:cNvSpPr/>
              <p:nvPr/>
            </p:nvSpPr>
            <p:spPr>
              <a:xfrm>
                <a:off x="11430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43000" y="2590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143000" y="3886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1600200" y="1447920"/>
            <a:ext cx="2948040" cy="2898000"/>
            <a:chOff x="1600200" y="1447920"/>
            <a:chExt cx="2948040" cy="2898000"/>
          </a:xfrm>
        </p:grpSpPr>
        <p:sp>
          <p:nvSpPr>
            <p:cNvPr id="613" name=""/>
            <p:cNvSpPr/>
            <p:nvPr/>
          </p:nvSpPr>
          <p:spPr>
            <a:xfrm>
              <a:off x="3309840" y="1854360"/>
              <a:ext cx="0" cy="2491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17760" y="2602080"/>
              <a:ext cx="0" cy="1558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76720" y="1447920"/>
              <a:ext cx="12715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0160" y="205740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38280" y="236232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38280" y="36576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6520" y="259092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25960" y="2103480"/>
              <a:ext cx="168120" cy="4986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09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11640" y="285264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2680" y="2895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0800" y="281772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43240" y="175248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62320" y="29718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00200" y="3886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057400" y="3979440"/>
              <a:ext cx="1290600" cy="306720"/>
              <a:chOff x="2057400" y="3979440"/>
              <a:chExt cx="1290600" cy="306720"/>
            </a:xfrm>
          </p:grpSpPr>
          <p:sp>
            <p:nvSpPr>
              <p:cNvPr id="630" name=""/>
              <p:cNvSpPr/>
              <p:nvPr/>
            </p:nvSpPr>
            <p:spPr>
              <a:xfrm>
                <a:off x="2162160" y="413892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57400" y="408132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2514240" y="3979440"/>
                <a:ext cx="306720" cy="306720"/>
                <a:chOff x="2514240" y="3979440"/>
                <a:chExt cx="306720" cy="306720"/>
              </a:xfrm>
            </p:grpSpPr>
            <p:sp>
              <p:nvSpPr>
                <p:cNvPr id="633" name=""/>
                <p:cNvSpPr/>
                <p:nvPr/>
              </p:nvSpPr>
              <p:spPr>
                <a:xfrm flipV="1">
                  <a:off x="2514240" y="3979440"/>
                  <a:ext cx="72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2516040" y="398124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516040" y="413388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20960" y="398124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" name=""/>
            <p:cNvGrpSpPr/>
            <p:nvPr/>
          </p:nvGrpSpPr>
          <p:grpSpPr>
            <a:xfrm>
              <a:off x="2057400" y="3352320"/>
              <a:ext cx="1290600" cy="306720"/>
              <a:chOff x="2057400" y="3352320"/>
              <a:chExt cx="1290600" cy="306720"/>
            </a:xfrm>
          </p:grpSpPr>
          <p:sp>
            <p:nvSpPr>
              <p:cNvPr id="638" name=""/>
              <p:cNvSpPr/>
              <p:nvPr/>
            </p:nvSpPr>
            <p:spPr>
              <a:xfrm>
                <a:off x="2162160" y="351180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57400" y="34542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2514240" y="3352320"/>
                <a:ext cx="306720" cy="306720"/>
                <a:chOff x="2514240" y="3352320"/>
                <a:chExt cx="306720" cy="306720"/>
              </a:xfrm>
            </p:grpSpPr>
            <p:sp>
              <p:nvSpPr>
                <p:cNvPr id="641" name=""/>
                <p:cNvSpPr/>
                <p:nvPr/>
              </p:nvSpPr>
              <p:spPr>
                <a:xfrm flipV="1">
                  <a:off x="2514240" y="3352320"/>
                  <a:ext cx="72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6040" y="335412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516040" y="350676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820960" y="335412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2057400" y="2742840"/>
              <a:ext cx="1290600" cy="306720"/>
              <a:chOff x="2057400" y="2742840"/>
              <a:chExt cx="1290600" cy="306720"/>
            </a:xfrm>
          </p:grpSpPr>
          <p:sp>
            <p:nvSpPr>
              <p:cNvPr id="646" name=""/>
              <p:cNvSpPr/>
              <p:nvPr/>
            </p:nvSpPr>
            <p:spPr>
              <a:xfrm>
                <a:off x="2162160" y="290232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057400" y="284472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2514240" y="2742840"/>
                <a:ext cx="306720" cy="306720"/>
                <a:chOff x="2514240" y="2742840"/>
                <a:chExt cx="306720" cy="306720"/>
              </a:xfrm>
            </p:grpSpPr>
            <p:sp>
              <p:nvSpPr>
                <p:cNvPr id="649" name=""/>
                <p:cNvSpPr/>
                <p:nvPr/>
              </p:nvSpPr>
              <p:spPr>
                <a:xfrm flipV="1">
                  <a:off x="2514240" y="2742840"/>
                  <a:ext cx="72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2516040" y="274464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516040" y="289728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820960" y="274464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3" name=""/>
          <p:cNvGrpSpPr/>
          <p:nvPr/>
        </p:nvGrpSpPr>
        <p:grpSpPr>
          <a:xfrm>
            <a:off x="1143000" y="2514600"/>
            <a:ext cx="609480" cy="1831320"/>
            <a:chOff x="1143000" y="2514600"/>
            <a:chExt cx="609480" cy="1831320"/>
          </a:xfrm>
        </p:grpSpPr>
        <p:graphicFrame>
          <p:nvGraphicFramePr>
            <p:cNvPr id="654" name=""/>
            <p:cNvGraphicFramePr/>
            <p:nvPr/>
          </p:nvGraphicFramePr>
          <p:xfrm>
            <a:off x="1143000" y="2514600"/>
            <a:ext cx="457200" cy="175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2514600"/>
                      <a:ext cx="457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56" name=""/>
            <p:cNvGrpSpPr/>
            <p:nvPr/>
          </p:nvGrpSpPr>
          <p:grpSpPr>
            <a:xfrm>
              <a:off x="1143000" y="2590920"/>
              <a:ext cx="609480" cy="1755000"/>
              <a:chOff x="1143000" y="2590920"/>
              <a:chExt cx="609480" cy="1755000"/>
            </a:xfrm>
          </p:grpSpPr>
          <p:sp>
            <p:nvSpPr>
              <p:cNvPr id="657" name=""/>
              <p:cNvSpPr/>
              <p:nvPr/>
            </p:nvSpPr>
            <p:spPr>
              <a:xfrm>
                <a:off x="11430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43000" y="2590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143000" y="3886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"/>
          <p:cNvSpPr/>
          <p:nvPr/>
        </p:nvSpPr>
        <p:spPr>
          <a:xfrm>
            <a:off x="38098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181480" y="1981080"/>
            <a:ext cx="2743200" cy="520560"/>
            <a:chOff x="5181480" y="1981080"/>
            <a:chExt cx="2743200" cy="520560"/>
          </a:xfrm>
        </p:grpSpPr>
        <p:grpSp>
          <p:nvGrpSpPr>
            <p:cNvPr id="662" name=""/>
            <p:cNvGrpSpPr/>
            <p:nvPr/>
          </p:nvGrpSpPr>
          <p:grpSpPr>
            <a:xfrm>
              <a:off x="5181480" y="1981080"/>
              <a:ext cx="2057400" cy="520560"/>
              <a:chOff x="5181480" y="1981080"/>
              <a:chExt cx="2057400" cy="520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181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4360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816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746748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81480" y="2362320"/>
            <a:ext cx="2743200" cy="520560"/>
            <a:chOff x="5181480" y="2362320"/>
            <a:chExt cx="2743200" cy="520560"/>
          </a:xfrm>
        </p:grpSpPr>
        <p:grpSp>
          <p:nvGrpSpPr>
            <p:cNvPr id="668" name=""/>
            <p:cNvGrpSpPr/>
            <p:nvPr/>
          </p:nvGrpSpPr>
          <p:grpSpPr>
            <a:xfrm>
              <a:off x="5181480" y="2362320"/>
              <a:ext cx="2057400" cy="520560"/>
              <a:chOff x="5181480" y="2362320"/>
              <a:chExt cx="2057400" cy="520560"/>
            </a:xfrm>
          </p:grpSpPr>
          <p:sp>
            <p:nvSpPr>
              <p:cNvPr id="669" name=""/>
              <p:cNvSpPr/>
              <p:nvPr/>
            </p:nvSpPr>
            <p:spPr>
              <a:xfrm>
                <a:off x="51814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4360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7816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46748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181480" y="2743200"/>
            <a:ext cx="2743200" cy="2044440"/>
            <a:chOff x="5181480" y="2743200"/>
            <a:chExt cx="2743200" cy="2044440"/>
          </a:xfrm>
        </p:grpSpPr>
        <p:grpSp>
          <p:nvGrpSpPr>
            <p:cNvPr id="674" name=""/>
            <p:cNvGrpSpPr/>
            <p:nvPr/>
          </p:nvGrpSpPr>
          <p:grpSpPr>
            <a:xfrm>
              <a:off x="5181480" y="3886200"/>
              <a:ext cx="2743200" cy="520560"/>
              <a:chOff x="5181480" y="3886200"/>
              <a:chExt cx="2743200" cy="5205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5181480" y="3886200"/>
                <a:ext cx="2057400" cy="520560"/>
                <a:chOff x="5181480" y="3886200"/>
                <a:chExt cx="2057400" cy="5205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1814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94360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7816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7467480" y="3886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181480" y="4267080"/>
              <a:ext cx="2743200" cy="520560"/>
              <a:chOff x="5181480" y="4267080"/>
              <a:chExt cx="2743200" cy="5205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5181480" y="4267080"/>
                <a:ext cx="2057400" cy="520560"/>
                <a:chOff x="5181480" y="4267080"/>
                <a:chExt cx="2057400" cy="5205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1814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9436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7816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746748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181480" y="3505320"/>
              <a:ext cx="2743200" cy="520560"/>
              <a:chOff x="5181480" y="3505320"/>
              <a:chExt cx="2743200" cy="52056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5181480" y="3505320"/>
                <a:ext cx="2057400" cy="520560"/>
                <a:chOff x="5181480" y="3505320"/>
                <a:chExt cx="2057400" cy="5205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1814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4360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7816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"/>
              <p:cNvSpPr/>
              <p:nvPr/>
            </p:nvSpPr>
            <p:spPr>
              <a:xfrm>
                <a:off x="7467480" y="3505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181480" y="3124080"/>
              <a:ext cx="2743200" cy="520560"/>
              <a:chOff x="5181480" y="3124080"/>
              <a:chExt cx="2743200" cy="5205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181480" y="3124080"/>
                <a:ext cx="2057400" cy="520560"/>
                <a:chOff x="5181480" y="3124080"/>
                <a:chExt cx="2057400" cy="52056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1814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94360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7816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7467480" y="3124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5181480" y="2743200"/>
              <a:ext cx="2743200" cy="520560"/>
              <a:chOff x="5181480" y="2743200"/>
              <a:chExt cx="2743200" cy="52056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5181480" y="2743200"/>
                <a:ext cx="2057400" cy="520560"/>
                <a:chOff x="5181480" y="2743200"/>
                <a:chExt cx="2057400" cy="52056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1814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9436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781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74674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181480" y="4648320"/>
            <a:ext cx="2743200" cy="520560"/>
            <a:chOff x="5181480" y="4648320"/>
            <a:chExt cx="2743200" cy="520560"/>
          </a:xfrm>
        </p:grpSpPr>
        <p:grpSp>
          <p:nvGrpSpPr>
            <p:cNvPr id="705" name=""/>
            <p:cNvGrpSpPr/>
            <p:nvPr/>
          </p:nvGrpSpPr>
          <p:grpSpPr>
            <a:xfrm>
              <a:off x="5181480" y="4648320"/>
              <a:ext cx="2057400" cy="520560"/>
              <a:chOff x="5181480" y="4648320"/>
              <a:chExt cx="2057400" cy="520560"/>
            </a:xfrm>
          </p:grpSpPr>
          <p:sp>
            <p:nvSpPr>
              <p:cNvPr id="706" name=""/>
              <p:cNvSpPr/>
              <p:nvPr/>
            </p:nvSpPr>
            <p:spPr>
              <a:xfrm>
                <a:off x="51814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4360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7816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74674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876920" y="914400"/>
            <a:ext cx="3047760" cy="4191120"/>
            <a:chOff x="4876920" y="914400"/>
            <a:chExt cx="3047760" cy="4191120"/>
          </a:xfrm>
        </p:grpSpPr>
        <p:sp>
          <p:nvSpPr>
            <p:cNvPr id="711" name=""/>
            <p:cNvSpPr/>
            <p:nvPr/>
          </p:nvSpPr>
          <p:spPr>
            <a:xfrm>
              <a:off x="5181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360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67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5308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1500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05520" y="1981080"/>
              <a:ext cx="2819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76920" y="510552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9152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816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05520" y="14479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30240" y="91440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与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133360" y="1828800"/>
            <a:ext cx="1143360" cy="1676520"/>
            <a:chOff x="2133360" y="1828800"/>
            <a:chExt cx="1143360" cy="1676520"/>
          </a:xfrm>
        </p:grpSpPr>
        <p:sp>
          <p:nvSpPr>
            <p:cNvPr id="723" name=""/>
            <p:cNvSpPr/>
            <p:nvPr/>
          </p:nvSpPr>
          <p:spPr>
            <a:xfrm>
              <a:off x="3276720" y="1828800"/>
              <a:ext cx="0" cy="1676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2133360" y="289548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2133360" y="3505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209680" y="1905120"/>
            <a:ext cx="1067040" cy="2286000"/>
            <a:chOff x="2209680" y="1905120"/>
            <a:chExt cx="1067040" cy="2286000"/>
          </a:xfrm>
        </p:grpSpPr>
        <p:sp>
          <p:nvSpPr>
            <p:cNvPr id="727" name=""/>
            <p:cNvSpPr/>
            <p:nvPr/>
          </p:nvSpPr>
          <p:spPr>
            <a:xfrm>
              <a:off x="3276720" y="1905120"/>
              <a:ext cx="0" cy="228600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209680" y="2895840"/>
              <a:ext cx="10670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2209680" y="3505320"/>
              <a:ext cx="10670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209680" y="4191120"/>
              <a:ext cx="10670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809880" y="2971800"/>
            <a:ext cx="609840" cy="459720"/>
            <a:chOff x="3809880" y="2971800"/>
            <a:chExt cx="609840" cy="459720"/>
          </a:xfrm>
        </p:grpSpPr>
        <p:graphicFrame>
          <p:nvGraphicFramePr>
            <p:cNvPr id="732" name=""/>
            <p:cNvGraphicFramePr/>
            <p:nvPr/>
          </p:nvGraphicFramePr>
          <p:xfrm>
            <a:off x="3886200" y="3048120"/>
            <a:ext cx="45720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304812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4" name=""/>
            <p:cNvSpPr/>
            <p:nvPr/>
          </p:nvSpPr>
          <p:spPr>
            <a:xfrm>
              <a:off x="3809880" y="29718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09880" y="2971800"/>
            <a:ext cx="609840" cy="459720"/>
            <a:chOff x="3809880" y="2971800"/>
            <a:chExt cx="609840" cy="459720"/>
          </a:xfrm>
        </p:grpSpPr>
        <p:graphicFrame>
          <p:nvGraphicFramePr>
            <p:cNvPr id="736" name=""/>
            <p:cNvGraphicFramePr/>
            <p:nvPr/>
          </p:nvGraphicFramePr>
          <p:xfrm>
            <a:off x="3886200" y="3048120"/>
            <a:ext cx="45720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304812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8" name=""/>
            <p:cNvSpPr/>
            <p:nvPr/>
          </p:nvSpPr>
          <p:spPr>
            <a:xfrm>
              <a:off x="3809880" y="29718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与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982080" y="1905120"/>
            <a:ext cx="3361320" cy="522000"/>
            <a:chOff x="982080" y="1905120"/>
            <a:chExt cx="3361320" cy="522000"/>
          </a:xfrm>
        </p:grpSpPr>
        <p:sp>
          <p:nvSpPr>
            <p:cNvPr id="741" name=""/>
            <p:cNvSpPr/>
            <p:nvPr/>
          </p:nvSpPr>
          <p:spPr>
            <a:xfrm>
              <a:off x="982080" y="190656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3.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逻辑关系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20480" y="190512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与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066680" y="2629080"/>
            <a:ext cx="3733920" cy="126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即：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838080" y="1273320"/>
            <a:ext cx="4062960" cy="581400"/>
            <a:chOff x="838080" y="1273320"/>
            <a:chExt cx="4062960" cy="581400"/>
          </a:xfrm>
        </p:grpSpPr>
        <p:sp>
          <p:nvSpPr>
            <p:cNvPr id="745" name=""/>
            <p:cNvSpPr/>
            <p:nvPr/>
          </p:nvSpPr>
          <p:spPr>
            <a:xfrm>
              <a:off x="3079080" y="1273320"/>
              <a:ext cx="182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A  B 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12970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表达式：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62520" y="1523880"/>
              <a:ext cx="7596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19720" y="1523880"/>
              <a:ext cx="7596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914400" y="4145040"/>
            <a:ext cx="3581280" cy="1828800"/>
            <a:chOff x="914400" y="4145040"/>
            <a:chExt cx="3581280" cy="1828800"/>
          </a:xfrm>
        </p:grpSpPr>
        <p:sp>
          <p:nvSpPr>
            <p:cNvPr id="750" name=""/>
            <p:cNvSpPr/>
            <p:nvPr/>
          </p:nvSpPr>
          <p:spPr>
            <a:xfrm>
              <a:off x="914400" y="4145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295280" y="4648320"/>
              <a:ext cx="3200400" cy="1325520"/>
              <a:chOff x="1295280" y="4648320"/>
              <a:chExt cx="3200400" cy="132552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4830840"/>
                <a:ext cx="838440" cy="1143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676520" y="53341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676520" y="56689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76720" y="54403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590920" y="4800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9528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5280" y="5029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62520" y="5211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76520" y="502920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95280" y="5410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4952880" y="1523880"/>
            <a:ext cx="3047760" cy="4254480"/>
            <a:chOff x="4952880" y="1523880"/>
            <a:chExt cx="3047760" cy="4254480"/>
          </a:xfrm>
        </p:grpSpPr>
        <p:grpSp>
          <p:nvGrpSpPr>
            <p:cNvPr id="763" name=""/>
            <p:cNvGrpSpPr/>
            <p:nvPr/>
          </p:nvGrpSpPr>
          <p:grpSpPr>
            <a:xfrm>
              <a:off x="5257440" y="2590560"/>
              <a:ext cx="2743200" cy="520560"/>
              <a:chOff x="5257440" y="2590560"/>
              <a:chExt cx="2743200" cy="5205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5257440" y="2590560"/>
                <a:ext cx="2057400" cy="520560"/>
                <a:chOff x="5257440" y="2590560"/>
                <a:chExt cx="2057400" cy="520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25744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01956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85764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7543440" y="25905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5257440" y="2971800"/>
              <a:ext cx="2743200" cy="520560"/>
              <a:chOff x="5257440" y="2971800"/>
              <a:chExt cx="2743200" cy="52056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5257440" y="2971800"/>
                <a:ext cx="2057400" cy="520560"/>
                <a:chOff x="5257440" y="2971800"/>
                <a:chExt cx="2057400" cy="52056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525744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01956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5764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7543440" y="2971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5257440" y="3352680"/>
              <a:ext cx="2743200" cy="2044440"/>
              <a:chOff x="5257440" y="3352680"/>
              <a:chExt cx="2743200" cy="204444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5257440" y="4495680"/>
                <a:ext cx="2743200" cy="520560"/>
                <a:chOff x="5257440" y="4495680"/>
                <a:chExt cx="2743200" cy="52056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5257440" y="4495680"/>
                  <a:ext cx="2057400" cy="520560"/>
                  <a:chOff x="5257440" y="4495680"/>
                  <a:chExt cx="2057400" cy="52056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525744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01956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85764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7543440" y="44956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257440" y="4876560"/>
                <a:ext cx="2743200" cy="520560"/>
                <a:chOff x="5257440" y="4876560"/>
                <a:chExt cx="2743200" cy="5205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257440" y="4876560"/>
                  <a:ext cx="2057400" cy="520560"/>
                  <a:chOff x="5257440" y="4876560"/>
                  <a:chExt cx="2057400" cy="5205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525744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01956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85764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" name=""/>
                <p:cNvSpPr/>
                <p:nvPr/>
              </p:nvSpPr>
              <p:spPr>
                <a:xfrm>
                  <a:off x="7543440" y="4876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257440" y="4114800"/>
                <a:ext cx="2743200" cy="520560"/>
                <a:chOff x="5257440" y="4114800"/>
                <a:chExt cx="2743200" cy="520560"/>
              </a:xfrm>
            </p:grpSpPr>
            <p:grpSp>
              <p:nvGrpSpPr>
                <p:cNvPr id="789" name=""/>
                <p:cNvGrpSpPr/>
                <p:nvPr/>
              </p:nvGrpSpPr>
              <p:grpSpPr>
                <a:xfrm>
                  <a:off x="5257440" y="4114800"/>
                  <a:ext cx="2057400" cy="520560"/>
                  <a:chOff x="5257440" y="4114800"/>
                  <a:chExt cx="2057400" cy="52056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525744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601956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85764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" name=""/>
                <p:cNvSpPr/>
                <p:nvPr/>
              </p:nvSpPr>
              <p:spPr>
                <a:xfrm>
                  <a:off x="7543440" y="4114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257440" y="3733560"/>
                <a:ext cx="2743200" cy="520560"/>
                <a:chOff x="5257440" y="3733560"/>
                <a:chExt cx="2743200" cy="520560"/>
              </a:xfrm>
            </p:grpSpPr>
            <p:grpSp>
              <p:nvGrpSpPr>
                <p:cNvPr id="795" name=""/>
                <p:cNvGrpSpPr/>
                <p:nvPr/>
              </p:nvGrpSpPr>
              <p:grpSpPr>
                <a:xfrm>
                  <a:off x="5257440" y="3733560"/>
                  <a:ext cx="2057400" cy="520560"/>
                  <a:chOff x="5257440" y="3733560"/>
                  <a:chExt cx="2057400" cy="52056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525744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601956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85764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9" name=""/>
                <p:cNvSpPr/>
                <p:nvPr/>
              </p:nvSpPr>
              <p:spPr>
                <a:xfrm>
                  <a:off x="7543440" y="3733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5257440" y="3352680"/>
                <a:ext cx="2743200" cy="520560"/>
                <a:chOff x="5257440" y="3352680"/>
                <a:chExt cx="2743200" cy="5205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5257440" y="3352680"/>
                  <a:ext cx="2057400" cy="520560"/>
                  <a:chOff x="5257440" y="3352680"/>
                  <a:chExt cx="2057400" cy="5205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525744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601956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685764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5" name=""/>
                <p:cNvSpPr/>
                <p:nvPr/>
              </p:nvSpPr>
              <p:spPr>
                <a:xfrm>
                  <a:off x="7543440" y="33526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6" name=""/>
            <p:cNvGrpSpPr/>
            <p:nvPr/>
          </p:nvGrpSpPr>
          <p:grpSpPr>
            <a:xfrm>
              <a:off x="5257440" y="5257800"/>
              <a:ext cx="2743200" cy="520560"/>
              <a:chOff x="5257440" y="5257800"/>
              <a:chExt cx="2743200" cy="52056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5257440" y="5257800"/>
                <a:ext cx="2057400" cy="520560"/>
                <a:chOff x="5257440" y="5257800"/>
                <a:chExt cx="2057400" cy="52056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525744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1956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85764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>
                <a:off x="7543440" y="5257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4952880" y="1523880"/>
              <a:ext cx="3047760" cy="4191120"/>
              <a:chOff x="4952880" y="1523880"/>
              <a:chExt cx="3047760" cy="4191120"/>
            </a:xfrm>
          </p:grpSpPr>
          <p:sp>
            <p:nvSpPr>
              <p:cNvPr id="813" name=""/>
              <p:cNvSpPr/>
              <p:nvPr/>
            </p:nvSpPr>
            <p:spPr>
              <a:xfrm>
                <a:off x="52574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1956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5434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62904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9096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81480" y="2590560"/>
                <a:ext cx="2819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952880" y="5715000"/>
                <a:ext cx="2971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46748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8576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181480" y="205740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514120" y="1523880"/>
                <a:ext cx="216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与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或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3800" y="11430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838080" y="1676520"/>
            <a:ext cx="609840" cy="1755000"/>
            <a:chOff x="838080" y="1676520"/>
            <a:chExt cx="609840" cy="1755000"/>
          </a:xfrm>
        </p:grpSpPr>
        <p:sp>
          <p:nvSpPr>
            <p:cNvPr id="827" name=""/>
            <p:cNvSpPr/>
            <p:nvPr/>
          </p:nvSpPr>
          <p:spPr>
            <a:xfrm>
              <a:off x="838080" y="2362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80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38080" y="29718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838080" y="1600200"/>
            <a:ext cx="609480" cy="1831320"/>
            <a:chOff x="838080" y="1600200"/>
            <a:chExt cx="609480" cy="1831320"/>
          </a:xfrm>
        </p:grpSpPr>
        <p:graphicFrame>
          <p:nvGraphicFramePr>
            <p:cNvPr id="831" name=""/>
            <p:cNvGraphicFramePr/>
            <p:nvPr/>
          </p:nvGraphicFramePr>
          <p:xfrm>
            <a:off x="838080" y="1600200"/>
            <a:ext cx="457200" cy="17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600200"/>
                      <a:ext cx="457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33" name=""/>
            <p:cNvGrpSpPr/>
            <p:nvPr/>
          </p:nvGrpSpPr>
          <p:grpSpPr>
            <a:xfrm>
              <a:off x="838080" y="1676520"/>
              <a:ext cx="609480" cy="1755000"/>
              <a:chOff x="838080" y="1676520"/>
              <a:chExt cx="609480" cy="1755000"/>
            </a:xfrm>
          </p:grpSpPr>
          <p:sp>
            <p:nvSpPr>
              <p:cNvPr id="834" name=""/>
              <p:cNvSpPr/>
              <p:nvPr/>
            </p:nvSpPr>
            <p:spPr>
              <a:xfrm>
                <a:off x="838080" y="2362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808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38080" y="2971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914400" y="1600200"/>
            <a:ext cx="609480" cy="1831320"/>
            <a:chOff x="914400" y="1600200"/>
            <a:chExt cx="609480" cy="1831320"/>
          </a:xfrm>
        </p:grpSpPr>
        <p:graphicFrame>
          <p:nvGraphicFramePr>
            <p:cNvPr id="838" name=""/>
            <p:cNvGraphicFramePr/>
            <p:nvPr/>
          </p:nvGraphicFramePr>
          <p:xfrm>
            <a:off x="914400" y="1600200"/>
            <a:ext cx="457200" cy="175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1600200"/>
                      <a:ext cx="457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40" name=""/>
            <p:cNvGrpSpPr/>
            <p:nvPr/>
          </p:nvGrpSpPr>
          <p:grpSpPr>
            <a:xfrm>
              <a:off x="914400" y="1676520"/>
              <a:ext cx="609480" cy="1755000"/>
              <a:chOff x="914400" y="1676520"/>
              <a:chExt cx="609480" cy="1755000"/>
            </a:xfrm>
          </p:grpSpPr>
          <p:sp>
            <p:nvSpPr>
              <p:cNvPr id="841" name=""/>
              <p:cNvSpPr/>
              <p:nvPr/>
            </p:nvSpPr>
            <p:spPr>
              <a:xfrm>
                <a:off x="914400" y="2362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91440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914400" y="2971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"/>
          <p:cNvSpPr/>
          <p:nvPr/>
        </p:nvSpPr>
        <p:spPr>
          <a:xfrm>
            <a:off x="350532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5181480" y="1981080"/>
            <a:ext cx="2743200" cy="520560"/>
            <a:chOff x="5181480" y="1981080"/>
            <a:chExt cx="2743200" cy="520560"/>
          </a:xfrm>
        </p:grpSpPr>
        <p:grpSp>
          <p:nvGrpSpPr>
            <p:cNvPr id="846" name=""/>
            <p:cNvGrpSpPr/>
            <p:nvPr/>
          </p:nvGrpSpPr>
          <p:grpSpPr>
            <a:xfrm>
              <a:off x="5181480" y="1981080"/>
              <a:ext cx="2057400" cy="520560"/>
              <a:chOff x="5181480" y="1981080"/>
              <a:chExt cx="2057400" cy="520560"/>
            </a:xfrm>
          </p:grpSpPr>
          <p:sp>
            <p:nvSpPr>
              <p:cNvPr id="847" name=""/>
              <p:cNvSpPr/>
              <p:nvPr/>
            </p:nvSpPr>
            <p:spPr>
              <a:xfrm>
                <a:off x="5181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4360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7816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746748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181480" y="2362320"/>
            <a:ext cx="2743200" cy="520560"/>
            <a:chOff x="5181480" y="2362320"/>
            <a:chExt cx="2743200" cy="520560"/>
          </a:xfrm>
        </p:grpSpPr>
        <p:grpSp>
          <p:nvGrpSpPr>
            <p:cNvPr id="852" name=""/>
            <p:cNvGrpSpPr/>
            <p:nvPr/>
          </p:nvGrpSpPr>
          <p:grpSpPr>
            <a:xfrm>
              <a:off x="5181480" y="2362320"/>
              <a:ext cx="2057400" cy="520560"/>
              <a:chOff x="5181480" y="2362320"/>
              <a:chExt cx="2057400" cy="520560"/>
            </a:xfrm>
          </p:grpSpPr>
          <p:sp>
            <p:nvSpPr>
              <p:cNvPr id="853" name=""/>
              <p:cNvSpPr/>
              <p:nvPr/>
            </p:nvSpPr>
            <p:spPr>
              <a:xfrm>
                <a:off x="51814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94360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46748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181480" y="2743200"/>
            <a:ext cx="2743200" cy="2044440"/>
            <a:chOff x="5181480" y="2743200"/>
            <a:chExt cx="2743200" cy="2044440"/>
          </a:xfrm>
        </p:grpSpPr>
        <p:grpSp>
          <p:nvGrpSpPr>
            <p:cNvPr id="858" name=""/>
            <p:cNvGrpSpPr/>
            <p:nvPr/>
          </p:nvGrpSpPr>
          <p:grpSpPr>
            <a:xfrm>
              <a:off x="5181480" y="3886200"/>
              <a:ext cx="2743200" cy="520560"/>
              <a:chOff x="5181480" y="3886200"/>
              <a:chExt cx="2743200" cy="520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5181480" y="3886200"/>
                <a:ext cx="2057400" cy="520560"/>
                <a:chOff x="5181480" y="3886200"/>
                <a:chExt cx="2057400" cy="5205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1814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94360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7816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7467480" y="3886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181480" y="4267080"/>
              <a:ext cx="2743200" cy="520560"/>
              <a:chOff x="5181480" y="4267080"/>
              <a:chExt cx="2743200" cy="52056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181480" y="4267080"/>
                <a:ext cx="2057400" cy="520560"/>
                <a:chOff x="5181480" y="4267080"/>
                <a:chExt cx="2057400" cy="5205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1814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9436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7816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"/>
              <p:cNvSpPr/>
              <p:nvPr/>
            </p:nvSpPr>
            <p:spPr>
              <a:xfrm>
                <a:off x="746748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5181480" y="3505320"/>
              <a:ext cx="2743200" cy="520560"/>
              <a:chOff x="5181480" y="3505320"/>
              <a:chExt cx="2743200" cy="5205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5181480" y="3505320"/>
                <a:ext cx="2057400" cy="520560"/>
                <a:chOff x="5181480" y="3505320"/>
                <a:chExt cx="2057400" cy="5205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1814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94360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7816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7467480" y="3505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5181480" y="3124080"/>
              <a:ext cx="2743200" cy="520560"/>
              <a:chOff x="5181480" y="3124080"/>
              <a:chExt cx="2743200" cy="52056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5181480" y="3124080"/>
                <a:ext cx="2057400" cy="520560"/>
                <a:chOff x="5181480" y="3124080"/>
                <a:chExt cx="2057400" cy="5205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1814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94360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7816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" name=""/>
              <p:cNvSpPr/>
              <p:nvPr/>
            </p:nvSpPr>
            <p:spPr>
              <a:xfrm>
                <a:off x="7467480" y="3124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181480" y="2743200"/>
              <a:ext cx="2743200" cy="520560"/>
              <a:chOff x="5181480" y="2743200"/>
              <a:chExt cx="2743200" cy="52056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5181480" y="2743200"/>
                <a:ext cx="2057400" cy="520560"/>
                <a:chOff x="5181480" y="2743200"/>
                <a:chExt cx="2057400" cy="52056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1814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9436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781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" name=""/>
              <p:cNvSpPr/>
              <p:nvPr/>
            </p:nvSpPr>
            <p:spPr>
              <a:xfrm>
                <a:off x="74674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8" name=""/>
          <p:cNvGrpSpPr/>
          <p:nvPr/>
        </p:nvGrpSpPr>
        <p:grpSpPr>
          <a:xfrm>
            <a:off x="5181480" y="4648320"/>
            <a:ext cx="2743200" cy="520560"/>
            <a:chOff x="5181480" y="4648320"/>
            <a:chExt cx="2743200" cy="520560"/>
          </a:xfrm>
        </p:grpSpPr>
        <p:grpSp>
          <p:nvGrpSpPr>
            <p:cNvPr id="889" name=""/>
            <p:cNvGrpSpPr/>
            <p:nvPr/>
          </p:nvGrpSpPr>
          <p:grpSpPr>
            <a:xfrm>
              <a:off x="5181480" y="4648320"/>
              <a:ext cx="2057400" cy="520560"/>
              <a:chOff x="5181480" y="4648320"/>
              <a:chExt cx="2057400" cy="520560"/>
            </a:xfrm>
          </p:grpSpPr>
          <p:sp>
            <p:nvSpPr>
              <p:cNvPr id="890" name=""/>
              <p:cNvSpPr/>
              <p:nvPr/>
            </p:nvSpPr>
            <p:spPr>
              <a:xfrm>
                <a:off x="51814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4360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16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74674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76920" y="914400"/>
            <a:ext cx="3047760" cy="4191120"/>
            <a:chOff x="4876920" y="914400"/>
            <a:chExt cx="3047760" cy="4191120"/>
          </a:xfrm>
        </p:grpSpPr>
        <p:sp>
          <p:nvSpPr>
            <p:cNvPr id="895" name=""/>
            <p:cNvSpPr/>
            <p:nvPr/>
          </p:nvSpPr>
          <p:spPr>
            <a:xfrm>
              <a:off x="5181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4360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67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5308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1500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05520" y="1981080"/>
              <a:ext cx="2819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76920" y="5105520"/>
              <a:ext cx="29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152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16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5520" y="14479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38160" y="91440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或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505320" y="3352680"/>
            <a:ext cx="609480" cy="459720"/>
            <a:chOff x="3505320" y="3352680"/>
            <a:chExt cx="609480" cy="459720"/>
          </a:xfrm>
        </p:grpSpPr>
        <p:graphicFrame>
          <p:nvGraphicFramePr>
            <p:cNvPr id="907" name=""/>
            <p:cNvGraphicFramePr/>
            <p:nvPr/>
          </p:nvGraphicFramePr>
          <p:xfrm>
            <a:off x="3581280" y="3429000"/>
            <a:ext cx="45684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3429000"/>
                      <a:ext cx="4568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9" name=""/>
            <p:cNvSpPr/>
            <p:nvPr/>
          </p:nvSpPr>
          <p:spPr>
            <a:xfrm>
              <a:off x="350532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352680"/>
            <a:ext cx="609480" cy="459720"/>
            <a:chOff x="3505320" y="3352680"/>
            <a:chExt cx="609480" cy="459720"/>
          </a:xfrm>
        </p:grpSpPr>
        <p:graphicFrame>
          <p:nvGraphicFramePr>
            <p:cNvPr id="911" name=""/>
            <p:cNvGraphicFramePr/>
            <p:nvPr/>
          </p:nvGraphicFramePr>
          <p:xfrm>
            <a:off x="3581280" y="3429000"/>
            <a:ext cx="45684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1280" y="3429000"/>
                      <a:ext cx="4568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50532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1295280" y="1447920"/>
            <a:ext cx="2743200" cy="3421440"/>
            <a:chOff x="1295280" y="1447920"/>
            <a:chExt cx="2743200" cy="3421440"/>
          </a:xfrm>
        </p:grpSpPr>
        <p:sp>
          <p:nvSpPr>
            <p:cNvPr id="915" name=""/>
            <p:cNvSpPr/>
            <p:nvPr/>
          </p:nvSpPr>
          <p:spPr>
            <a:xfrm>
              <a:off x="3047760" y="4038480"/>
              <a:ext cx="0" cy="2487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47760" y="1981080"/>
              <a:ext cx="0" cy="1558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47760" y="4190760"/>
              <a:ext cx="914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24080" y="358128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33360" y="1447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3360" y="281916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71240" y="167616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95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71440" y="3539880"/>
              <a:ext cx="168480" cy="4982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81280" y="3047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7760" y="32335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04960" y="3162240"/>
              <a:ext cx="115920" cy="11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84400" y="4267080"/>
              <a:ext cx="115920" cy="115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57040" y="213336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295280" y="2971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1752480" y="3049200"/>
              <a:ext cx="1311120" cy="340920"/>
              <a:chOff x="1752480" y="3049200"/>
              <a:chExt cx="1311120" cy="340920"/>
            </a:xfrm>
          </p:grpSpPr>
          <p:sp>
            <p:nvSpPr>
              <p:cNvPr id="931" name=""/>
              <p:cNvSpPr/>
              <p:nvPr/>
            </p:nvSpPr>
            <p:spPr>
              <a:xfrm>
                <a:off x="3012840" y="3199680"/>
                <a:ext cx="50760" cy="50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857240" y="322380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52480" y="316656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2212200" y="3049200"/>
                <a:ext cx="343080" cy="340920"/>
                <a:chOff x="2212200" y="3049200"/>
                <a:chExt cx="343080" cy="340920"/>
              </a:xfrm>
            </p:grpSpPr>
            <p:sp>
              <p:nvSpPr>
                <p:cNvPr id="935" name=""/>
                <p:cNvSpPr/>
                <p:nvPr/>
              </p:nvSpPr>
              <p:spPr>
                <a:xfrm rot="5400000">
                  <a:off x="2236680" y="3067200"/>
                  <a:ext cx="25596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555280" y="3049200"/>
                  <a:ext cx="0" cy="34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7" name=""/>
            <p:cNvGrpSpPr/>
            <p:nvPr/>
          </p:nvGrpSpPr>
          <p:grpSpPr>
            <a:xfrm>
              <a:off x="1752480" y="2438280"/>
              <a:ext cx="1290600" cy="340560"/>
              <a:chOff x="1752480" y="2438280"/>
              <a:chExt cx="1290600" cy="340560"/>
            </a:xfrm>
          </p:grpSpPr>
          <p:sp>
            <p:nvSpPr>
              <p:cNvPr id="938" name=""/>
              <p:cNvSpPr/>
              <p:nvPr/>
            </p:nvSpPr>
            <p:spPr>
              <a:xfrm>
                <a:off x="1857240" y="261252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52480" y="255528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2212200" y="2438280"/>
                <a:ext cx="343080" cy="340560"/>
                <a:chOff x="2212200" y="2438280"/>
                <a:chExt cx="343080" cy="340560"/>
              </a:xfrm>
            </p:grpSpPr>
            <p:sp>
              <p:nvSpPr>
                <p:cNvPr id="941" name=""/>
                <p:cNvSpPr/>
                <p:nvPr/>
              </p:nvSpPr>
              <p:spPr>
                <a:xfrm rot="5400000">
                  <a:off x="2236680" y="2455920"/>
                  <a:ext cx="25560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555280" y="2438280"/>
                  <a:ext cx="0" cy="340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3" name=""/>
            <p:cNvGrpSpPr/>
            <p:nvPr/>
          </p:nvGrpSpPr>
          <p:grpSpPr>
            <a:xfrm>
              <a:off x="1752480" y="1793520"/>
              <a:ext cx="1290600" cy="340560"/>
              <a:chOff x="1752480" y="1793520"/>
              <a:chExt cx="1290600" cy="340560"/>
            </a:xfrm>
          </p:grpSpPr>
          <p:sp>
            <p:nvSpPr>
              <p:cNvPr id="944" name=""/>
              <p:cNvSpPr/>
              <p:nvPr/>
            </p:nvSpPr>
            <p:spPr>
              <a:xfrm>
                <a:off x="1857240" y="1967760"/>
                <a:ext cx="118584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752480" y="19105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" name=""/>
              <p:cNvGrpSpPr/>
              <p:nvPr/>
            </p:nvGrpSpPr>
            <p:grpSpPr>
              <a:xfrm>
                <a:off x="2212200" y="1793520"/>
                <a:ext cx="343080" cy="340560"/>
                <a:chOff x="2212200" y="1793520"/>
                <a:chExt cx="343080" cy="340560"/>
              </a:xfrm>
            </p:grpSpPr>
            <p:sp>
              <p:nvSpPr>
                <p:cNvPr id="947" name=""/>
                <p:cNvSpPr/>
                <p:nvPr/>
              </p:nvSpPr>
              <p:spPr>
                <a:xfrm rot="5400000">
                  <a:off x="2236680" y="1811160"/>
                  <a:ext cx="25560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555280" y="1793520"/>
                  <a:ext cx="0" cy="340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9" name=""/>
          <p:cNvGrpSpPr/>
          <p:nvPr/>
        </p:nvGrpSpPr>
        <p:grpSpPr>
          <a:xfrm>
            <a:off x="1828800" y="1981080"/>
            <a:ext cx="1143000" cy="2362320"/>
            <a:chOff x="1828800" y="1981080"/>
            <a:chExt cx="1143000" cy="2362320"/>
          </a:xfrm>
        </p:grpSpPr>
        <p:sp>
          <p:nvSpPr>
            <p:cNvPr id="950" name=""/>
            <p:cNvSpPr/>
            <p:nvPr/>
          </p:nvSpPr>
          <p:spPr>
            <a:xfrm>
              <a:off x="1828800" y="198108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28800" y="259092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28800" y="320040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71800" y="1981080"/>
              <a:ext cx="0" cy="23623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905120" y="3276720"/>
            <a:ext cx="990360" cy="990360"/>
            <a:chOff x="1905120" y="3276720"/>
            <a:chExt cx="990360" cy="990360"/>
          </a:xfrm>
        </p:grpSpPr>
        <p:sp>
          <p:nvSpPr>
            <p:cNvPr id="955" name=""/>
            <p:cNvSpPr/>
            <p:nvPr/>
          </p:nvSpPr>
          <p:spPr>
            <a:xfrm>
              <a:off x="1905120" y="327672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95480" y="327672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828800" y="1981080"/>
            <a:ext cx="1143000" cy="2362320"/>
            <a:chOff x="1828800" y="1981080"/>
            <a:chExt cx="1143000" cy="2362320"/>
          </a:xfrm>
        </p:grpSpPr>
        <p:sp>
          <p:nvSpPr>
            <p:cNvPr id="958" name=""/>
            <p:cNvSpPr/>
            <p:nvPr/>
          </p:nvSpPr>
          <p:spPr>
            <a:xfrm>
              <a:off x="1828800" y="198108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8800" y="259092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28800" y="320040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71800" y="1981080"/>
              <a:ext cx="0" cy="2362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88200" y="44956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92640" y="5715000"/>
            <a:ext cx="61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为低电平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Y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69040" y="51814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有一个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3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或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981720" y="1905120"/>
            <a:ext cx="3361680" cy="522000"/>
            <a:chOff x="981720" y="1905120"/>
            <a:chExt cx="3361680" cy="522000"/>
          </a:xfrm>
        </p:grpSpPr>
        <p:sp>
          <p:nvSpPr>
            <p:cNvPr id="967" name=""/>
            <p:cNvSpPr/>
            <p:nvPr/>
          </p:nvSpPr>
          <p:spPr>
            <a:xfrm>
              <a:off x="981720" y="1906560"/>
              <a:ext cx="182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3.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逻辑关系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20480" y="190512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或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1066680" y="2629080"/>
            <a:ext cx="3733920" cy="126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即：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838080" y="1273320"/>
            <a:ext cx="4114440" cy="581400"/>
            <a:chOff x="838080" y="1273320"/>
            <a:chExt cx="4114440" cy="581400"/>
          </a:xfrm>
        </p:grpSpPr>
        <p:sp>
          <p:nvSpPr>
            <p:cNvPr id="971" name=""/>
            <p:cNvSpPr/>
            <p:nvPr/>
          </p:nvSpPr>
          <p:spPr>
            <a:xfrm>
              <a:off x="3084840" y="1273320"/>
              <a:ext cx="186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A+B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8080" y="12970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表达式：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914400" y="4145040"/>
            <a:ext cx="3581280" cy="1828800"/>
            <a:chOff x="914400" y="4145040"/>
            <a:chExt cx="3581280" cy="1828800"/>
          </a:xfrm>
        </p:grpSpPr>
        <p:sp>
          <p:nvSpPr>
            <p:cNvPr id="974" name=""/>
            <p:cNvSpPr/>
            <p:nvPr/>
          </p:nvSpPr>
          <p:spPr>
            <a:xfrm>
              <a:off x="914400" y="4145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38280" y="4830840"/>
              <a:ext cx="838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76520" y="5334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76520" y="5668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276720" y="5440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95280" y="46483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19320" y="5029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62520" y="5211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76520" y="50292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19320" y="5410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514600" y="4724280"/>
              <a:ext cx="914400" cy="581400"/>
              <a:chOff x="2514600" y="4724280"/>
              <a:chExt cx="914400" cy="581400"/>
            </a:xfrm>
          </p:grpSpPr>
          <p:sp>
            <p:nvSpPr>
              <p:cNvPr id="985" name=""/>
              <p:cNvSpPr/>
              <p:nvPr/>
            </p:nvSpPr>
            <p:spPr>
              <a:xfrm>
                <a:off x="2514600" y="472428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"/>
                  </a:rPr>
                  <a:t>&gt;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666520" y="5105520"/>
                <a:ext cx="22860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988" name="" descr=""/>
            <p:cNvPicPr/>
            <p:nvPr/>
          </p:nvPicPr>
          <p:blipFill>
            <a:blip r:embed="rId2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3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4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5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6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" descr=""/>
            <p:cNvPicPr/>
            <p:nvPr/>
          </p:nvPicPr>
          <p:blipFill>
            <a:blip r:embed="rId7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0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1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2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3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14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6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7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8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9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0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1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2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23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101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7" name="" descr=""/>
            <p:cNvPicPr/>
            <p:nvPr/>
          </p:nvPicPr>
          <p:blipFill>
            <a:blip r:embed="rId30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" descr=""/>
            <p:cNvPicPr/>
            <p:nvPr/>
          </p:nvPicPr>
          <p:blipFill>
            <a:blip r:embed="rId31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" descr=""/>
            <p:cNvPicPr/>
            <p:nvPr/>
          </p:nvPicPr>
          <p:blipFill>
            <a:blip r:embed="rId32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33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1" name=""/>
          <p:cNvGrpSpPr/>
          <p:nvPr/>
        </p:nvGrpSpPr>
        <p:grpSpPr>
          <a:xfrm>
            <a:off x="5264280" y="1371600"/>
            <a:ext cx="3047760" cy="4254480"/>
            <a:chOff x="5264280" y="1371600"/>
            <a:chExt cx="3047760" cy="4254480"/>
          </a:xfrm>
        </p:grpSpPr>
        <p:grpSp>
          <p:nvGrpSpPr>
            <p:cNvPr id="1022" name=""/>
            <p:cNvGrpSpPr/>
            <p:nvPr/>
          </p:nvGrpSpPr>
          <p:grpSpPr>
            <a:xfrm>
              <a:off x="5568840" y="2438280"/>
              <a:ext cx="2743200" cy="520560"/>
              <a:chOff x="5568840" y="2438280"/>
              <a:chExt cx="2743200" cy="52056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5568840" y="2438280"/>
                <a:ext cx="2057400" cy="520560"/>
                <a:chOff x="5568840" y="2438280"/>
                <a:chExt cx="2057400" cy="52056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556884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633096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16904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7" name=""/>
              <p:cNvSpPr/>
              <p:nvPr/>
            </p:nvSpPr>
            <p:spPr>
              <a:xfrm>
                <a:off x="7854840" y="2438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5568840" y="2819520"/>
              <a:ext cx="2743200" cy="520560"/>
              <a:chOff x="5568840" y="2819520"/>
              <a:chExt cx="2743200" cy="52056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5568840" y="2819520"/>
                <a:ext cx="2057400" cy="520560"/>
                <a:chOff x="5568840" y="2819520"/>
                <a:chExt cx="2057400" cy="52056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56884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33096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16904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" name=""/>
              <p:cNvSpPr/>
              <p:nvPr/>
            </p:nvSpPr>
            <p:spPr>
              <a:xfrm>
                <a:off x="7854840" y="2819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568840" y="3200400"/>
              <a:ext cx="2743200" cy="2044440"/>
              <a:chOff x="5568840" y="3200400"/>
              <a:chExt cx="2743200" cy="2044440"/>
            </a:xfrm>
          </p:grpSpPr>
          <p:grpSp>
            <p:nvGrpSpPr>
              <p:cNvPr id="1035" name=""/>
              <p:cNvGrpSpPr/>
              <p:nvPr/>
            </p:nvGrpSpPr>
            <p:grpSpPr>
              <a:xfrm>
                <a:off x="5568840" y="4343400"/>
                <a:ext cx="2743200" cy="520560"/>
                <a:chOff x="5568840" y="4343400"/>
                <a:chExt cx="2743200" cy="52056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5568840" y="4343400"/>
                  <a:ext cx="2057400" cy="520560"/>
                  <a:chOff x="5568840" y="4343400"/>
                  <a:chExt cx="2057400" cy="5205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556884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33096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16904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0" name=""/>
                <p:cNvSpPr/>
                <p:nvPr/>
              </p:nvSpPr>
              <p:spPr>
                <a:xfrm>
                  <a:off x="7854840" y="43434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568840" y="4724280"/>
                <a:ext cx="2743200" cy="520560"/>
                <a:chOff x="5568840" y="4724280"/>
                <a:chExt cx="2743200" cy="52056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5568840" y="4724280"/>
                  <a:ext cx="2057400" cy="520560"/>
                  <a:chOff x="5568840" y="4724280"/>
                  <a:chExt cx="2057400" cy="5205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556884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33096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16904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>
                  <a:off x="7854840" y="4724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568840" y="3962520"/>
                <a:ext cx="2743200" cy="520560"/>
                <a:chOff x="5568840" y="3962520"/>
                <a:chExt cx="2743200" cy="520560"/>
              </a:xfrm>
            </p:grpSpPr>
            <p:grpSp>
              <p:nvGrpSpPr>
                <p:cNvPr id="1048" name=""/>
                <p:cNvGrpSpPr/>
                <p:nvPr/>
              </p:nvGrpSpPr>
              <p:grpSpPr>
                <a:xfrm>
                  <a:off x="5568840" y="3962520"/>
                  <a:ext cx="2057400" cy="520560"/>
                  <a:chOff x="5568840" y="3962520"/>
                  <a:chExt cx="2057400" cy="5205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556884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33096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716904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2" name=""/>
                <p:cNvSpPr/>
                <p:nvPr/>
              </p:nvSpPr>
              <p:spPr>
                <a:xfrm>
                  <a:off x="7854840" y="3962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5568840" y="3581280"/>
                <a:ext cx="2743200" cy="520560"/>
                <a:chOff x="5568840" y="3581280"/>
                <a:chExt cx="2743200" cy="520560"/>
              </a:xfrm>
            </p:grpSpPr>
            <p:grpSp>
              <p:nvGrpSpPr>
                <p:cNvPr id="1054" name=""/>
                <p:cNvGrpSpPr/>
                <p:nvPr/>
              </p:nvGrpSpPr>
              <p:grpSpPr>
                <a:xfrm>
                  <a:off x="5568840" y="3581280"/>
                  <a:ext cx="2057400" cy="520560"/>
                  <a:chOff x="5568840" y="3581280"/>
                  <a:chExt cx="2057400" cy="52056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56884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33096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16904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85484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5568840" y="3200400"/>
                <a:ext cx="2743200" cy="520560"/>
                <a:chOff x="5568840" y="3200400"/>
                <a:chExt cx="2743200" cy="52056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5568840" y="3200400"/>
                  <a:ext cx="2057400" cy="520560"/>
                  <a:chOff x="5568840" y="3200400"/>
                  <a:chExt cx="2057400" cy="520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56884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33096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16904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7854840" y="32004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5" name=""/>
            <p:cNvGrpSpPr/>
            <p:nvPr/>
          </p:nvGrpSpPr>
          <p:grpSpPr>
            <a:xfrm>
              <a:off x="5568840" y="5105520"/>
              <a:ext cx="2743200" cy="520560"/>
              <a:chOff x="5568840" y="5105520"/>
              <a:chExt cx="2743200" cy="52056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5568840" y="5105520"/>
                <a:ext cx="2057400" cy="520560"/>
                <a:chOff x="5568840" y="5105520"/>
                <a:chExt cx="2057400" cy="52056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556884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33096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16904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7854840" y="5105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264280" y="1371600"/>
              <a:ext cx="3047760" cy="4191120"/>
              <a:chOff x="5264280" y="1371600"/>
              <a:chExt cx="3047760" cy="4191120"/>
            </a:xfrm>
          </p:grpSpPr>
          <p:sp>
            <p:nvSpPr>
              <p:cNvPr id="1072" name=""/>
              <p:cNvSpPr/>
              <p:nvPr/>
            </p:nvSpPr>
            <p:spPr>
              <a:xfrm>
                <a:off x="55688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3096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8548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4044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10236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492880" y="2438280"/>
                <a:ext cx="2819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64280" y="5562720"/>
                <a:ext cx="2971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77888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90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92880" y="190512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14360" y="1371600"/>
                <a:ext cx="216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或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4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极管“非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143000" y="1573920"/>
            <a:ext cx="3057840" cy="3405600"/>
            <a:chOff x="1143000" y="1573920"/>
            <a:chExt cx="3057840" cy="3405600"/>
          </a:xfrm>
        </p:grpSpPr>
        <p:sp>
          <p:nvSpPr>
            <p:cNvPr id="1085" name=""/>
            <p:cNvSpPr/>
            <p:nvPr/>
          </p:nvSpPr>
          <p:spPr>
            <a:xfrm>
              <a:off x="3228840" y="15739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+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34880" y="4469400"/>
              <a:ext cx="72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-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143000" y="312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59760" y="286920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52080" y="3707640"/>
              <a:ext cx="48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1523880" y="1828800"/>
              <a:ext cx="2438640" cy="2822040"/>
              <a:chOff x="1523880" y="1828800"/>
              <a:chExt cx="2438640" cy="2822040"/>
            </a:xfrm>
          </p:grpSpPr>
          <p:sp>
            <p:nvSpPr>
              <p:cNvPr id="1091" name=""/>
              <p:cNvSpPr/>
              <p:nvPr/>
            </p:nvSpPr>
            <p:spPr>
              <a:xfrm rot="5400000">
                <a:off x="3144600" y="1831680"/>
                <a:ext cx="107640" cy="1015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198600" y="1936440"/>
                <a:ext cx="0" cy="245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5400000">
                <a:off x="2998440" y="2309400"/>
                <a:ext cx="399960" cy="152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98600" y="2585880"/>
                <a:ext cx="0" cy="613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523880" y="3379320"/>
                <a:ext cx="108000" cy="1015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631880" y="3430440"/>
                <a:ext cx="2458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1000" y="3354120"/>
                <a:ext cx="399960" cy="15192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280960" y="3430440"/>
                <a:ext cx="614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6209000">
                <a:off x="2610720" y="4464000"/>
                <a:ext cx="109080" cy="1018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2665080" y="4217760"/>
                <a:ext cx="720" cy="242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6209000">
                <a:off x="2465280" y="3938040"/>
                <a:ext cx="399600" cy="152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2666520" y="3428280"/>
                <a:ext cx="720" cy="385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124080" y="4649400"/>
                <a:ext cx="15228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896920" y="3201840"/>
                <a:ext cx="0" cy="4568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896920" y="3201840"/>
                <a:ext cx="304920" cy="151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01840" y="3659040"/>
                <a:ext cx="0" cy="9900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896920" y="3506400"/>
                <a:ext cx="304920" cy="1522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0813800">
                <a:off x="3859200" y="2896560"/>
                <a:ext cx="102960" cy="759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 flipV="1">
                <a:off x="3201840" y="2931840"/>
                <a:ext cx="658800" cy="2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3298680" y="2107440"/>
              <a:ext cx="47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20320" y="28947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8840" y="3123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5779440" y="3199320"/>
            <a:ext cx="1503360" cy="459720"/>
            <a:chOff x="5779440" y="3199320"/>
            <a:chExt cx="1503360" cy="459720"/>
          </a:xfrm>
        </p:grpSpPr>
        <p:sp>
          <p:nvSpPr>
            <p:cNvPr id="1114" name=""/>
            <p:cNvSpPr/>
            <p:nvPr/>
          </p:nvSpPr>
          <p:spPr>
            <a:xfrm>
              <a:off x="5779440" y="31993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  </a:t>
              </a: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69800" y="31993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  </a:t>
              </a: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3962520" y="2057400"/>
            <a:ext cx="914400" cy="685800"/>
            <a:chOff x="3962520" y="2057400"/>
            <a:chExt cx="914400" cy="685800"/>
          </a:xfrm>
        </p:grpSpPr>
        <p:sp>
          <p:nvSpPr>
            <p:cNvPr id="1117" name=""/>
            <p:cNvSpPr/>
            <p:nvPr/>
          </p:nvSpPr>
          <p:spPr>
            <a:xfrm>
              <a:off x="3962520" y="2057400"/>
              <a:ext cx="914400" cy="685800"/>
            </a:xfrm>
            <a:prstGeom prst="wedgeEllipseCallout">
              <a:avLst>
                <a:gd name="adj1" fmla="val -135416"/>
                <a:gd name="adj2" fmla="val 158796"/>
              </a:avLst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6520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3962520" y="2057400"/>
            <a:ext cx="914400" cy="685800"/>
            <a:chOff x="3962520" y="2057400"/>
            <a:chExt cx="914400" cy="685800"/>
          </a:xfrm>
        </p:grpSpPr>
        <p:sp>
          <p:nvSpPr>
            <p:cNvPr id="1120" name=""/>
            <p:cNvSpPr/>
            <p:nvPr/>
          </p:nvSpPr>
          <p:spPr>
            <a:xfrm>
              <a:off x="3962520" y="2057400"/>
              <a:ext cx="914400" cy="685800"/>
            </a:xfrm>
            <a:prstGeom prst="wedgeEllipseCallout">
              <a:avLst>
                <a:gd name="adj1" fmla="val -135416"/>
                <a:gd name="adj2" fmla="val 158796"/>
              </a:avLst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16556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"/>
                </a:rPr>
                <a:t>饱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249200" y="5181480"/>
            <a:ext cx="2636640" cy="581400"/>
            <a:chOff x="1249200" y="5181480"/>
            <a:chExt cx="2636640" cy="581400"/>
          </a:xfrm>
        </p:grpSpPr>
        <p:sp>
          <p:nvSpPr>
            <p:cNvPr id="1123" name=""/>
            <p:cNvSpPr/>
            <p:nvPr/>
          </p:nvSpPr>
          <p:spPr>
            <a:xfrm>
              <a:off x="1249200" y="5181480"/>
              <a:ext cx="226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表达式：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57240" y="525924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617400" y="3275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934600" y="2818440"/>
            <a:ext cx="1345320" cy="459720"/>
            <a:chOff x="5934600" y="2818440"/>
            <a:chExt cx="1345320" cy="459720"/>
          </a:xfrm>
        </p:grpSpPr>
        <p:sp>
          <p:nvSpPr>
            <p:cNvPr id="1127" name=""/>
            <p:cNvSpPr/>
            <p:nvPr/>
          </p:nvSpPr>
          <p:spPr>
            <a:xfrm>
              <a:off x="6925320" y="281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34600" y="281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4277520" y="289476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121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4191120" y="2971800"/>
            <a:ext cx="914400" cy="459720"/>
            <a:chOff x="4191120" y="2971800"/>
            <a:chExt cx="914400" cy="459720"/>
          </a:xfrm>
        </p:grpSpPr>
        <p:graphicFrame>
          <p:nvGraphicFramePr>
            <p:cNvPr id="1132" name=""/>
            <p:cNvGraphicFramePr/>
            <p:nvPr/>
          </p:nvGraphicFramePr>
          <p:xfrm>
            <a:off x="4267440" y="2971800"/>
            <a:ext cx="609480" cy="42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440" y="2971800"/>
                      <a:ext cx="60948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4" name=""/>
            <p:cNvSpPr/>
            <p:nvPr/>
          </p:nvSpPr>
          <p:spPr>
            <a:xfrm>
              <a:off x="419112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33520" y="3276720"/>
            <a:ext cx="914400" cy="459720"/>
            <a:chOff x="533520" y="3276720"/>
            <a:chExt cx="914400" cy="459720"/>
          </a:xfrm>
        </p:grpSpPr>
        <p:graphicFrame>
          <p:nvGraphicFramePr>
            <p:cNvPr id="1136" name=""/>
            <p:cNvGraphicFramePr/>
            <p:nvPr/>
          </p:nvGraphicFramePr>
          <p:xfrm>
            <a:off x="609840" y="3276720"/>
            <a:ext cx="609480" cy="42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840" y="3276720"/>
                      <a:ext cx="60948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8" name=""/>
            <p:cNvSpPr/>
            <p:nvPr/>
          </p:nvSpPr>
          <p:spPr>
            <a:xfrm>
              <a:off x="53352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562720" y="1828080"/>
            <a:ext cx="2273400" cy="1829520"/>
            <a:chOff x="5562720" y="1828080"/>
            <a:chExt cx="2273400" cy="1829520"/>
          </a:xfrm>
        </p:grpSpPr>
        <p:grpSp>
          <p:nvGrpSpPr>
            <p:cNvPr id="1140" name=""/>
            <p:cNvGrpSpPr/>
            <p:nvPr/>
          </p:nvGrpSpPr>
          <p:grpSpPr>
            <a:xfrm>
              <a:off x="5562720" y="2361240"/>
              <a:ext cx="2209680" cy="1296360"/>
              <a:chOff x="5562720" y="2361240"/>
              <a:chExt cx="2209680" cy="1296360"/>
            </a:xfrm>
          </p:grpSpPr>
          <p:sp>
            <p:nvSpPr>
              <p:cNvPr id="1141" name=""/>
              <p:cNvSpPr/>
              <p:nvPr/>
            </p:nvSpPr>
            <p:spPr>
              <a:xfrm>
                <a:off x="5950800" y="236124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34320" y="2361240"/>
                <a:ext cx="29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5562720" y="2362320"/>
                <a:ext cx="2209680" cy="1295280"/>
                <a:chOff x="5562720" y="2362320"/>
                <a:chExt cx="2209680" cy="12952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5638680" y="23623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553080" y="2362320"/>
                  <a:ext cx="0" cy="129528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638680" y="28195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562720" y="3657600"/>
                  <a:ext cx="213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8" name=""/>
            <p:cNvSpPr/>
            <p:nvPr/>
          </p:nvSpPr>
          <p:spPr>
            <a:xfrm>
              <a:off x="5666760" y="18280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非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717080" y="4114080"/>
            <a:ext cx="2818800" cy="1600920"/>
            <a:chOff x="4717080" y="4114080"/>
            <a:chExt cx="2818800" cy="1600920"/>
          </a:xfrm>
        </p:grpSpPr>
        <p:sp>
          <p:nvSpPr>
            <p:cNvPr id="1150" name=""/>
            <p:cNvSpPr/>
            <p:nvPr/>
          </p:nvSpPr>
          <p:spPr>
            <a:xfrm>
              <a:off x="5169240" y="4114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83400" y="4876920"/>
              <a:ext cx="685800" cy="83808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97600" y="5257800"/>
              <a:ext cx="68580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26680" y="487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717080" y="49982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155000" y="5029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86560" y="525924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69200" y="51832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82880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掌握基本门电路的逻辑功能、逻辑符号、真值表和逻辑表达式。了解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门电路、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CMOS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门电路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73392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会分析和设计简单的组合逻辑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267080"/>
            <a:ext cx="8229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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理解加法器、编码器、译码器等常用组合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路的工作原理和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338800"/>
            <a:ext cx="571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5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学会数字集成电路的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5360" y="1143000"/>
            <a:ext cx="1400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本章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1000" y="3276720"/>
            <a:ext cx="11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会用逻辑代数的基本运算法则化简逻辑函数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35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门电路和组合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2895480" y="25146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05880" y="5554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与非” 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38080" y="5562720"/>
            <a:ext cx="4800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838080" y="1066680"/>
            <a:ext cx="2819520" cy="1892160"/>
            <a:chOff x="838080" y="1066680"/>
            <a:chExt cx="2819520" cy="1892160"/>
          </a:xfrm>
        </p:grpSpPr>
        <p:sp>
          <p:nvSpPr>
            <p:cNvPr id="1162" name=""/>
            <p:cNvSpPr/>
            <p:nvPr/>
          </p:nvSpPr>
          <p:spPr>
            <a:xfrm>
              <a:off x="1266840" y="24382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与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057400" y="1249200"/>
              <a:ext cx="83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95280" y="17524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20876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95480" y="18590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9680" y="12193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14400" y="1066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38080" y="1447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95280" y="1447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380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1447920" y="3124080"/>
            <a:ext cx="3200400" cy="1968480"/>
            <a:chOff x="1447920" y="3124080"/>
            <a:chExt cx="3200400" cy="1968480"/>
          </a:xfrm>
        </p:grpSpPr>
        <p:sp>
          <p:nvSpPr>
            <p:cNvPr id="1173" name=""/>
            <p:cNvSpPr/>
            <p:nvPr/>
          </p:nvSpPr>
          <p:spPr>
            <a:xfrm>
              <a:off x="41148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66880" y="3306600"/>
              <a:ext cx="838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05120" y="38098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905120" y="41450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19440" y="3886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19520" y="3276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23880" y="31240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47920" y="3505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505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479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05320" y="38098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330280" y="457200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与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5181480" y="1295280"/>
            <a:ext cx="3047760" cy="4254480"/>
            <a:chOff x="5181480" y="1295280"/>
            <a:chExt cx="3047760" cy="4254480"/>
          </a:xfrm>
        </p:grpSpPr>
        <p:grpSp>
          <p:nvGrpSpPr>
            <p:cNvPr id="1186" name=""/>
            <p:cNvGrpSpPr/>
            <p:nvPr/>
          </p:nvGrpSpPr>
          <p:grpSpPr>
            <a:xfrm>
              <a:off x="5486040" y="2361960"/>
              <a:ext cx="2743200" cy="520560"/>
              <a:chOff x="5486040" y="2361960"/>
              <a:chExt cx="2743200" cy="52056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5486040" y="2361960"/>
                <a:ext cx="2057400" cy="520560"/>
                <a:chOff x="5486040" y="2361960"/>
                <a:chExt cx="2057400" cy="52056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548604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24816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08624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"/>
              <p:cNvSpPr/>
              <p:nvPr/>
            </p:nvSpPr>
            <p:spPr>
              <a:xfrm>
                <a:off x="7772040" y="23619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5486040" y="2743200"/>
              <a:ext cx="2743200" cy="520560"/>
              <a:chOff x="5486040" y="2743200"/>
              <a:chExt cx="2743200" cy="52056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5486040" y="2743200"/>
                <a:ext cx="2057400" cy="520560"/>
                <a:chOff x="5486040" y="2743200"/>
                <a:chExt cx="2057400" cy="520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548604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24816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08624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777204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5486040" y="3124080"/>
              <a:ext cx="2743200" cy="2044440"/>
              <a:chOff x="5486040" y="3124080"/>
              <a:chExt cx="2743200" cy="204444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5486040" y="4267080"/>
                <a:ext cx="2743200" cy="520560"/>
                <a:chOff x="5486040" y="4267080"/>
                <a:chExt cx="2743200" cy="52056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5486040" y="4267080"/>
                  <a:ext cx="2057400" cy="520560"/>
                  <a:chOff x="5486040" y="4267080"/>
                  <a:chExt cx="2057400" cy="52056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548604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624816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08624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4" name=""/>
                <p:cNvSpPr/>
                <p:nvPr/>
              </p:nvSpPr>
              <p:spPr>
                <a:xfrm>
                  <a:off x="777204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5486040" y="4647960"/>
                <a:ext cx="2743200" cy="520560"/>
                <a:chOff x="5486040" y="4647960"/>
                <a:chExt cx="2743200" cy="52056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5486040" y="4647960"/>
                  <a:ext cx="2057400" cy="520560"/>
                  <a:chOff x="5486040" y="4647960"/>
                  <a:chExt cx="2057400" cy="52056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548604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624816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708624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0" name=""/>
                <p:cNvSpPr/>
                <p:nvPr/>
              </p:nvSpPr>
              <p:spPr>
                <a:xfrm>
                  <a:off x="7772040" y="4647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5486040" y="3886200"/>
                <a:ext cx="2743200" cy="520560"/>
                <a:chOff x="5486040" y="3886200"/>
                <a:chExt cx="2743200" cy="520560"/>
              </a:xfrm>
            </p:grpSpPr>
            <p:grpSp>
              <p:nvGrpSpPr>
                <p:cNvPr id="1212" name=""/>
                <p:cNvGrpSpPr/>
                <p:nvPr/>
              </p:nvGrpSpPr>
              <p:grpSpPr>
                <a:xfrm>
                  <a:off x="5486040" y="3886200"/>
                  <a:ext cx="2057400" cy="520560"/>
                  <a:chOff x="5486040" y="3886200"/>
                  <a:chExt cx="2057400" cy="52056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48604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24816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08624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77204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486040" y="3504960"/>
                <a:ext cx="2743200" cy="520560"/>
                <a:chOff x="5486040" y="3504960"/>
                <a:chExt cx="2743200" cy="520560"/>
              </a:xfrm>
            </p:grpSpPr>
            <p:grpSp>
              <p:nvGrpSpPr>
                <p:cNvPr id="1218" name=""/>
                <p:cNvGrpSpPr/>
                <p:nvPr/>
              </p:nvGrpSpPr>
              <p:grpSpPr>
                <a:xfrm>
                  <a:off x="5486040" y="3504960"/>
                  <a:ext cx="2057400" cy="520560"/>
                  <a:chOff x="5486040" y="3504960"/>
                  <a:chExt cx="2057400" cy="52056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548604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24816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708624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"/>
                <p:cNvSpPr/>
                <p:nvPr/>
              </p:nvSpPr>
              <p:spPr>
                <a:xfrm>
                  <a:off x="7772040" y="3504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5486040" y="3124080"/>
                <a:ext cx="2743200" cy="520560"/>
                <a:chOff x="5486040" y="3124080"/>
                <a:chExt cx="2743200" cy="520560"/>
              </a:xfrm>
            </p:grpSpPr>
            <p:grpSp>
              <p:nvGrpSpPr>
                <p:cNvPr id="1224" name=""/>
                <p:cNvGrpSpPr/>
                <p:nvPr/>
              </p:nvGrpSpPr>
              <p:grpSpPr>
                <a:xfrm>
                  <a:off x="5486040" y="3124080"/>
                  <a:ext cx="2057400" cy="520560"/>
                  <a:chOff x="5486040" y="3124080"/>
                  <a:chExt cx="2057400" cy="52056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48604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624816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708624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8" name=""/>
                <p:cNvSpPr/>
                <p:nvPr/>
              </p:nvSpPr>
              <p:spPr>
                <a:xfrm>
                  <a:off x="777204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9" name=""/>
            <p:cNvGrpSpPr/>
            <p:nvPr/>
          </p:nvGrpSpPr>
          <p:grpSpPr>
            <a:xfrm>
              <a:off x="5486040" y="5029200"/>
              <a:ext cx="2743200" cy="520560"/>
              <a:chOff x="5486040" y="5029200"/>
              <a:chExt cx="2743200" cy="52056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5486040" y="5029200"/>
                <a:ext cx="2057400" cy="520560"/>
                <a:chOff x="5486040" y="5029200"/>
                <a:chExt cx="2057400" cy="5205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48604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24816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8624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"/>
              <p:cNvSpPr/>
              <p:nvPr/>
            </p:nvSpPr>
            <p:spPr>
              <a:xfrm>
                <a:off x="7772040" y="5029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181480" y="1295280"/>
              <a:ext cx="3047760" cy="4191120"/>
              <a:chOff x="5181480" y="1295280"/>
              <a:chExt cx="3047760" cy="4191120"/>
            </a:xfrm>
          </p:grpSpPr>
          <p:sp>
            <p:nvSpPr>
              <p:cNvPr id="1236" name=""/>
              <p:cNvSpPr/>
              <p:nvPr/>
            </p:nvSpPr>
            <p:spPr>
              <a:xfrm>
                <a:off x="54860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4816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720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5764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01956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0080" y="2361960"/>
                <a:ext cx="2819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81480" y="5486400"/>
                <a:ext cx="2971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9608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862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10080" y="182880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15440" y="129528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与非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990720" y="4952880"/>
            <a:ext cx="4114800" cy="581400"/>
            <a:chOff x="990720" y="4952880"/>
            <a:chExt cx="4114800" cy="581400"/>
          </a:xfrm>
        </p:grpSpPr>
        <p:grpSp>
          <p:nvGrpSpPr>
            <p:cNvPr id="1248" name=""/>
            <p:cNvGrpSpPr/>
            <p:nvPr/>
          </p:nvGrpSpPr>
          <p:grpSpPr>
            <a:xfrm>
              <a:off x="990720" y="4952880"/>
              <a:ext cx="4062960" cy="581400"/>
              <a:chOff x="990720" y="4952880"/>
              <a:chExt cx="4062960" cy="581400"/>
            </a:xfrm>
          </p:grpSpPr>
          <p:sp>
            <p:nvSpPr>
              <p:cNvPr id="1249" name=""/>
              <p:cNvSpPr/>
              <p:nvPr/>
            </p:nvSpPr>
            <p:spPr>
              <a:xfrm>
                <a:off x="3231720" y="4952880"/>
                <a:ext cx="182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  B 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90720" y="497664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15160" y="520344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572360" y="520344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3886200" y="502884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3552840" y="1447920"/>
            <a:ext cx="1854360" cy="1434960"/>
            <a:chOff x="3552840" y="1447920"/>
            <a:chExt cx="1854360" cy="1434960"/>
          </a:xfrm>
        </p:grpSpPr>
        <p:sp>
          <p:nvSpPr>
            <p:cNvPr id="1255" name=""/>
            <p:cNvSpPr/>
            <p:nvPr/>
          </p:nvSpPr>
          <p:spPr>
            <a:xfrm>
              <a:off x="3654360" y="1447920"/>
              <a:ext cx="685800" cy="83808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000" y="144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25960" y="15710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457880" y="183024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40160" y="17542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52840" y="236232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2895480" y="25146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505880" y="5554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或非” 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38080" y="5562720"/>
            <a:ext cx="4800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479760" y="1371600"/>
            <a:ext cx="1854360" cy="1434960"/>
            <a:chOff x="3479760" y="1371600"/>
            <a:chExt cx="1854360" cy="1434960"/>
          </a:xfrm>
        </p:grpSpPr>
        <p:sp>
          <p:nvSpPr>
            <p:cNvPr id="1265" name=""/>
            <p:cNvSpPr/>
            <p:nvPr/>
          </p:nvSpPr>
          <p:spPr>
            <a:xfrm>
              <a:off x="3581280" y="1371600"/>
              <a:ext cx="685800" cy="83808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24920" y="1371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2880" y="1494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84800" y="175428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67080" y="167796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79760" y="228600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5181480" y="1295280"/>
            <a:ext cx="3047760" cy="4254480"/>
            <a:chOff x="5181480" y="1295280"/>
            <a:chExt cx="3047760" cy="4254480"/>
          </a:xfrm>
        </p:grpSpPr>
        <p:grpSp>
          <p:nvGrpSpPr>
            <p:cNvPr id="1272" name=""/>
            <p:cNvGrpSpPr/>
            <p:nvPr/>
          </p:nvGrpSpPr>
          <p:grpSpPr>
            <a:xfrm>
              <a:off x="5486040" y="2361960"/>
              <a:ext cx="2743200" cy="520560"/>
              <a:chOff x="5486040" y="2361960"/>
              <a:chExt cx="2743200" cy="52056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5486040" y="2361960"/>
                <a:ext cx="2057400" cy="520560"/>
                <a:chOff x="5486040" y="2361960"/>
                <a:chExt cx="2057400" cy="52056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24816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086240" y="2361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7" name=""/>
              <p:cNvSpPr/>
              <p:nvPr/>
            </p:nvSpPr>
            <p:spPr>
              <a:xfrm>
                <a:off x="7772040" y="23619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5486040" y="2743200"/>
              <a:ext cx="2743200" cy="520560"/>
              <a:chOff x="5486040" y="2743200"/>
              <a:chExt cx="2743200" cy="520560"/>
            </a:xfrm>
          </p:grpSpPr>
          <p:grpSp>
            <p:nvGrpSpPr>
              <p:cNvPr id="1279" name=""/>
              <p:cNvGrpSpPr/>
              <p:nvPr/>
            </p:nvGrpSpPr>
            <p:grpSpPr>
              <a:xfrm>
                <a:off x="5486040" y="2743200"/>
                <a:ext cx="2057400" cy="520560"/>
                <a:chOff x="5486040" y="2743200"/>
                <a:chExt cx="2057400" cy="52056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548604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24816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08624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3" name=""/>
              <p:cNvSpPr/>
              <p:nvPr/>
            </p:nvSpPr>
            <p:spPr>
              <a:xfrm>
                <a:off x="777204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486040" y="3124080"/>
              <a:ext cx="2743200" cy="2044440"/>
              <a:chOff x="5486040" y="3124080"/>
              <a:chExt cx="2743200" cy="204444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5486040" y="4267080"/>
                <a:ext cx="2743200" cy="520560"/>
                <a:chOff x="5486040" y="4267080"/>
                <a:chExt cx="2743200" cy="5205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5486040" y="4267080"/>
                  <a:ext cx="2057400" cy="520560"/>
                  <a:chOff x="5486040" y="4267080"/>
                  <a:chExt cx="2057400" cy="52056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548604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624816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708624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0" name=""/>
                <p:cNvSpPr/>
                <p:nvPr/>
              </p:nvSpPr>
              <p:spPr>
                <a:xfrm>
                  <a:off x="777204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5486040" y="4647960"/>
                <a:ext cx="2743200" cy="520560"/>
                <a:chOff x="5486040" y="4647960"/>
                <a:chExt cx="2743200" cy="520560"/>
              </a:xfrm>
            </p:grpSpPr>
            <p:grpSp>
              <p:nvGrpSpPr>
                <p:cNvPr id="1292" name=""/>
                <p:cNvGrpSpPr/>
                <p:nvPr/>
              </p:nvGrpSpPr>
              <p:grpSpPr>
                <a:xfrm>
                  <a:off x="5486040" y="4647960"/>
                  <a:ext cx="2057400" cy="520560"/>
                  <a:chOff x="5486040" y="4647960"/>
                  <a:chExt cx="2057400" cy="52056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548604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24816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708624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6" name=""/>
                <p:cNvSpPr/>
                <p:nvPr/>
              </p:nvSpPr>
              <p:spPr>
                <a:xfrm>
                  <a:off x="7772040" y="4647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5486040" y="3886200"/>
                <a:ext cx="2743200" cy="520560"/>
                <a:chOff x="5486040" y="3886200"/>
                <a:chExt cx="2743200" cy="520560"/>
              </a:xfrm>
            </p:grpSpPr>
            <p:grpSp>
              <p:nvGrpSpPr>
                <p:cNvPr id="1298" name=""/>
                <p:cNvGrpSpPr/>
                <p:nvPr/>
              </p:nvGrpSpPr>
              <p:grpSpPr>
                <a:xfrm>
                  <a:off x="5486040" y="3886200"/>
                  <a:ext cx="2057400" cy="520560"/>
                  <a:chOff x="5486040" y="3886200"/>
                  <a:chExt cx="2057400" cy="5205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548604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24816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08624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>
                  <a:off x="777204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5486040" y="3504960"/>
                <a:ext cx="2743200" cy="520560"/>
                <a:chOff x="5486040" y="3504960"/>
                <a:chExt cx="2743200" cy="52056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5486040" y="3504960"/>
                  <a:ext cx="2057400" cy="520560"/>
                  <a:chOff x="5486040" y="3504960"/>
                  <a:chExt cx="2057400" cy="52056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548604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624816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08624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7772040" y="3504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486040" y="3124080"/>
                <a:ext cx="2743200" cy="520560"/>
                <a:chOff x="5486040" y="3124080"/>
                <a:chExt cx="2743200" cy="520560"/>
              </a:xfrm>
            </p:grpSpPr>
            <p:grpSp>
              <p:nvGrpSpPr>
                <p:cNvPr id="1310" name=""/>
                <p:cNvGrpSpPr/>
                <p:nvPr/>
              </p:nvGrpSpPr>
              <p:grpSpPr>
                <a:xfrm>
                  <a:off x="5486040" y="3124080"/>
                  <a:ext cx="2057400" cy="520560"/>
                  <a:chOff x="5486040" y="3124080"/>
                  <a:chExt cx="2057400" cy="520560"/>
                </a:xfrm>
              </p:grpSpPr>
              <p:sp>
                <p:nvSpPr>
                  <p:cNvPr id="1311" name=""/>
                  <p:cNvSpPr/>
                  <p:nvPr/>
                </p:nvSpPr>
                <p:spPr>
                  <a:xfrm>
                    <a:off x="548604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624816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08624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4" name=""/>
                <p:cNvSpPr/>
                <p:nvPr/>
              </p:nvSpPr>
              <p:spPr>
                <a:xfrm>
                  <a:off x="777204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5" name=""/>
            <p:cNvGrpSpPr/>
            <p:nvPr/>
          </p:nvGrpSpPr>
          <p:grpSpPr>
            <a:xfrm>
              <a:off x="5486040" y="5029200"/>
              <a:ext cx="2743200" cy="520560"/>
              <a:chOff x="5486040" y="5029200"/>
              <a:chExt cx="2743200" cy="52056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5486040" y="5029200"/>
                <a:ext cx="2057400" cy="520560"/>
                <a:chOff x="5486040" y="5029200"/>
                <a:chExt cx="2057400" cy="5205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548604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24816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08624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7772040" y="5029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181480" y="1295280"/>
              <a:ext cx="3047760" cy="4191120"/>
              <a:chOff x="5181480" y="1295280"/>
              <a:chExt cx="3047760" cy="4191120"/>
            </a:xfrm>
          </p:grpSpPr>
          <p:sp>
            <p:nvSpPr>
              <p:cNvPr id="1322" name=""/>
              <p:cNvSpPr/>
              <p:nvPr/>
            </p:nvSpPr>
            <p:spPr>
              <a:xfrm>
                <a:off x="54860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24816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720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5764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01956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10080" y="2361960"/>
                <a:ext cx="2819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81480" y="5486400"/>
                <a:ext cx="2971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96080" y="18288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86240" y="1828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10080" y="182880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15440" y="129528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或非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838080" y="990720"/>
            <a:ext cx="2743200" cy="1892160"/>
            <a:chOff x="838080" y="990720"/>
            <a:chExt cx="2743200" cy="1892160"/>
          </a:xfrm>
        </p:grpSpPr>
        <p:sp>
          <p:nvSpPr>
            <p:cNvPr id="1334" name=""/>
            <p:cNvSpPr/>
            <p:nvPr/>
          </p:nvSpPr>
          <p:spPr>
            <a:xfrm>
              <a:off x="1724040" y="236232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或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38080" y="990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81080" y="1173240"/>
              <a:ext cx="838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19320" y="16765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19320" y="2011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9520" y="17827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1371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219320" y="13716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8080" y="17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2057400" y="1066680"/>
              <a:ext cx="914400" cy="581400"/>
              <a:chOff x="2057400" y="1066680"/>
              <a:chExt cx="914400" cy="581400"/>
            </a:xfrm>
          </p:grpSpPr>
          <p:sp>
            <p:nvSpPr>
              <p:cNvPr id="1344" name=""/>
              <p:cNvSpPr/>
              <p:nvPr/>
            </p:nvSpPr>
            <p:spPr>
              <a:xfrm>
                <a:off x="2057400" y="106668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"/>
                  </a:rPr>
                  <a:t>&gt;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209320" y="1447920"/>
                <a:ext cx="22860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1676520" y="3200400"/>
            <a:ext cx="3124080" cy="1815840"/>
            <a:chOff x="1676520" y="3200400"/>
            <a:chExt cx="3124080" cy="1815840"/>
          </a:xfrm>
        </p:grpSpPr>
        <p:sp>
          <p:nvSpPr>
            <p:cNvPr id="1347" name=""/>
            <p:cNvSpPr/>
            <p:nvPr/>
          </p:nvSpPr>
          <p:spPr>
            <a:xfrm>
              <a:off x="2482560" y="449568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或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708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72080" y="3962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657600" y="388620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76520" y="3200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19520" y="3382920"/>
              <a:ext cx="83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57400" y="38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57400" y="4221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676520" y="3581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57400" y="3581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3962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2895480" y="3276720"/>
              <a:ext cx="914400" cy="581400"/>
              <a:chOff x="2895480" y="3276720"/>
              <a:chExt cx="914400" cy="581400"/>
            </a:xfrm>
          </p:grpSpPr>
          <p:sp>
            <p:nvSpPr>
              <p:cNvPr id="1359" name=""/>
              <p:cNvSpPr/>
              <p:nvPr/>
            </p:nvSpPr>
            <p:spPr>
              <a:xfrm>
                <a:off x="2895480" y="327672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"/>
                  </a:rPr>
                  <a:t>&gt;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3047400" y="3657600"/>
                <a:ext cx="228600" cy="75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1" name=""/>
          <p:cNvGrpSpPr/>
          <p:nvPr/>
        </p:nvGrpSpPr>
        <p:grpSpPr>
          <a:xfrm>
            <a:off x="1066680" y="4952880"/>
            <a:ext cx="4114440" cy="581400"/>
            <a:chOff x="1066680" y="4952880"/>
            <a:chExt cx="4114440" cy="581400"/>
          </a:xfrm>
        </p:grpSpPr>
        <p:sp>
          <p:nvSpPr>
            <p:cNvPr id="1362" name=""/>
            <p:cNvSpPr/>
            <p:nvPr/>
          </p:nvSpPr>
          <p:spPr>
            <a:xfrm>
              <a:off x="3886200" y="502920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1066680" y="4952880"/>
              <a:ext cx="4114440" cy="581400"/>
              <a:chOff x="1066680" y="4952880"/>
              <a:chExt cx="4114440" cy="58140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13440" y="4952880"/>
                <a:ext cx="1867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+B+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66680" y="497664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53352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例：根据输入波形画出输出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75320" y="23623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076760" y="33526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1554120" y="2285640"/>
            <a:ext cx="5455080" cy="1409760"/>
            <a:chOff x="1554120" y="2285640"/>
            <a:chExt cx="5455080" cy="1409760"/>
          </a:xfrm>
        </p:grpSpPr>
        <p:sp>
          <p:nvSpPr>
            <p:cNvPr id="1370" name=""/>
            <p:cNvSpPr/>
            <p:nvPr/>
          </p:nvSpPr>
          <p:spPr>
            <a:xfrm>
              <a:off x="6018120" y="3192120"/>
              <a:ext cx="0" cy="503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1554120" y="2285640"/>
              <a:ext cx="5455080" cy="1408320"/>
              <a:chOff x="1554120" y="2285640"/>
              <a:chExt cx="5455080" cy="140832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1554120" y="2285640"/>
                <a:ext cx="5455080" cy="502920"/>
                <a:chOff x="1554120" y="2285640"/>
                <a:chExt cx="5455080" cy="502920"/>
              </a:xfrm>
            </p:grpSpPr>
            <p:grpSp>
              <p:nvGrpSpPr>
                <p:cNvPr id="1373" name=""/>
                <p:cNvGrpSpPr/>
                <p:nvPr/>
              </p:nvGrpSpPr>
              <p:grpSpPr>
                <a:xfrm>
                  <a:off x="1554120" y="2285640"/>
                  <a:ext cx="991080" cy="502560"/>
                  <a:chOff x="1554120" y="2285640"/>
                  <a:chExt cx="991080" cy="50256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>
                    <a:off x="1554120" y="2788200"/>
                    <a:ext cx="49500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flipV="1">
                    <a:off x="2049120" y="228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2049120" y="2286000"/>
                    <a:ext cx="49572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545200" y="22860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8" name=""/>
                <p:cNvGrpSpPr/>
                <p:nvPr/>
              </p:nvGrpSpPr>
              <p:grpSpPr>
                <a:xfrm>
                  <a:off x="2545560" y="2285640"/>
                  <a:ext cx="991080" cy="502560"/>
                  <a:chOff x="2545560" y="2285640"/>
                  <a:chExt cx="991080" cy="502560"/>
                </a:xfrm>
              </p:grpSpPr>
              <p:sp>
                <p:nvSpPr>
                  <p:cNvPr id="1379" name=""/>
                  <p:cNvSpPr/>
                  <p:nvPr/>
                </p:nvSpPr>
                <p:spPr>
                  <a:xfrm>
                    <a:off x="2545560" y="2788200"/>
                    <a:ext cx="49500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V="1">
                    <a:off x="3040560" y="228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040560" y="2286000"/>
                    <a:ext cx="49572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3536640" y="22860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3" name=""/>
                <p:cNvGrpSpPr/>
                <p:nvPr/>
              </p:nvGrpSpPr>
              <p:grpSpPr>
                <a:xfrm>
                  <a:off x="3537360" y="2285640"/>
                  <a:ext cx="991800" cy="502560"/>
                  <a:chOff x="3537360" y="2285640"/>
                  <a:chExt cx="991800" cy="50256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3537360" y="2788200"/>
                    <a:ext cx="49536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 flipV="1">
                    <a:off x="4032720" y="228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4032720" y="2286000"/>
                    <a:ext cx="49608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4529160" y="22860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4529520" y="2285640"/>
                  <a:ext cx="991080" cy="502560"/>
                  <a:chOff x="4529520" y="2285640"/>
                  <a:chExt cx="991080" cy="5025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>
                    <a:off x="4529520" y="2788200"/>
                    <a:ext cx="49500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5024520" y="228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5024520" y="2286000"/>
                    <a:ext cx="49572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5520600" y="22860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6513120" y="2788560"/>
                  <a:ext cx="496080" cy="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4" name=""/>
                <p:cNvGrpSpPr/>
                <p:nvPr/>
              </p:nvGrpSpPr>
              <p:grpSpPr>
                <a:xfrm>
                  <a:off x="5521320" y="2285640"/>
                  <a:ext cx="991080" cy="502560"/>
                  <a:chOff x="5521320" y="2285640"/>
                  <a:chExt cx="991080" cy="502560"/>
                </a:xfrm>
              </p:grpSpPr>
              <p:sp>
                <p:nvSpPr>
                  <p:cNvPr id="1395" name=""/>
                  <p:cNvSpPr/>
                  <p:nvPr/>
                </p:nvSpPr>
                <p:spPr>
                  <a:xfrm>
                    <a:off x="5521320" y="2788200"/>
                    <a:ext cx="49500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 flipV="1">
                    <a:off x="6016320" y="228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6016320" y="2286000"/>
                    <a:ext cx="49572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6512400" y="22860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9" name=""/>
              <p:cNvGrpSpPr/>
              <p:nvPr/>
            </p:nvGrpSpPr>
            <p:grpSpPr>
              <a:xfrm>
                <a:off x="1554120" y="3191400"/>
                <a:ext cx="5454720" cy="502560"/>
                <a:chOff x="1554120" y="3191400"/>
                <a:chExt cx="5454720" cy="502560"/>
              </a:xfrm>
            </p:grpSpPr>
            <p:grpSp>
              <p:nvGrpSpPr>
                <p:cNvPr id="1400" name=""/>
                <p:cNvGrpSpPr/>
                <p:nvPr/>
              </p:nvGrpSpPr>
              <p:grpSpPr>
                <a:xfrm>
                  <a:off x="1554120" y="3191400"/>
                  <a:ext cx="2478960" cy="502560"/>
                  <a:chOff x="1554120" y="3191400"/>
                  <a:chExt cx="2478960" cy="502560"/>
                </a:xfrm>
              </p:grpSpPr>
              <p:sp>
                <p:nvSpPr>
                  <p:cNvPr id="1401" name=""/>
                  <p:cNvSpPr/>
                  <p:nvPr/>
                </p:nvSpPr>
                <p:spPr>
                  <a:xfrm>
                    <a:off x="1554120" y="3693960"/>
                    <a:ext cx="49536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 flipV="1">
                    <a:off x="2049480" y="31914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049480" y="3191760"/>
                    <a:ext cx="99180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3041640" y="3693960"/>
                    <a:ext cx="99144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V="1">
                    <a:off x="3041640" y="31914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6" name=""/>
                <p:cNvSpPr/>
                <p:nvPr/>
              </p:nvSpPr>
              <p:spPr>
                <a:xfrm>
                  <a:off x="6017400" y="3191760"/>
                  <a:ext cx="991440" cy="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7" name=""/>
                <p:cNvGrpSpPr/>
                <p:nvPr/>
              </p:nvGrpSpPr>
              <p:grpSpPr>
                <a:xfrm>
                  <a:off x="4033440" y="3191400"/>
                  <a:ext cx="1983600" cy="502560"/>
                  <a:chOff x="4033440" y="3191400"/>
                  <a:chExt cx="1983600" cy="502560"/>
                </a:xfrm>
              </p:grpSpPr>
              <p:sp>
                <p:nvSpPr>
                  <p:cNvPr id="1408" name=""/>
                  <p:cNvSpPr/>
                  <p:nvPr/>
                </p:nvSpPr>
                <p:spPr>
                  <a:xfrm flipV="1">
                    <a:off x="4033440" y="31914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4033440" y="3191760"/>
                    <a:ext cx="99216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5025600" y="3693960"/>
                    <a:ext cx="991440" cy="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 flipV="1">
                    <a:off x="5025600" y="319140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412" name=""/>
          <p:cNvGrpSpPr/>
          <p:nvPr/>
        </p:nvGrpSpPr>
        <p:grpSpPr>
          <a:xfrm>
            <a:off x="1002600" y="3995280"/>
            <a:ext cx="6006960" cy="699120"/>
            <a:chOff x="1002600" y="3995280"/>
            <a:chExt cx="6006960" cy="699120"/>
          </a:xfrm>
        </p:grpSpPr>
        <p:grpSp>
          <p:nvGrpSpPr>
            <p:cNvPr id="1413" name=""/>
            <p:cNvGrpSpPr/>
            <p:nvPr/>
          </p:nvGrpSpPr>
          <p:grpSpPr>
            <a:xfrm>
              <a:off x="2049480" y="3995640"/>
              <a:ext cx="496440" cy="502920"/>
              <a:chOff x="2049480" y="3995640"/>
              <a:chExt cx="496440" cy="502920"/>
            </a:xfrm>
          </p:grpSpPr>
          <p:sp>
            <p:nvSpPr>
              <p:cNvPr id="1414" name=""/>
              <p:cNvSpPr/>
              <p:nvPr/>
            </p:nvSpPr>
            <p:spPr>
              <a:xfrm>
                <a:off x="2049480" y="3995640"/>
                <a:ext cx="0" cy="50292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049480" y="3995640"/>
                <a:ext cx="496440" cy="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546280" y="3995280"/>
              <a:ext cx="1487160" cy="503280"/>
              <a:chOff x="2546280" y="3995280"/>
              <a:chExt cx="1487160" cy="503280"/>
            </a:xfrm>
          </p:grpSpPr>
          <p:sp>
            <p:nvSpPr>
              <p:cNvPr id="1417" name=""/>
              <p:cNvSpPr/>
              <p:nvPr/>
            </p:nvSpPr>
            <p:spPr>
              <a:xfrm>
                <a:off x="2546280" y="4498560"/>
                <a:ext cx="1487160" cy="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2546280" y="3995280"/>
                <a:ext cx="0" cy="50292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1554120" y="4498920"/>
              <a:ext cx="4953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02600" y="411480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033800" y="3995280"/>
              <a:ext cx="2975760" cy="503280"/>
              <a:chOff x="4033800" y="3995280"/>
              <a:chExt cx="2975760" cy="5032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018120" y="3995640"/>
                <a:ext cx="0" cy="50292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4033800" y="3995280"/>
                <a:ext cx="2975760" cy="502920"/>
                <a:chOff x="4033800" y="3995280"/>
                <a:chExt cx="2975760" cy="502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6513480" y="3995640"/>
                  <a:ext cx="0" cy="502560"/>
                </a:xfrm>
                <a:prstGeom prst="line">
                  <a:avLst/>
                </a:prstGeom>
                <a:ln cap="sq"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6017760" y="3995640"/>
                  <a:ext cx="495360" cy="0"/>
                </a:xfrm>
                <a:prstGeom prst="line">
                  <a:avLst/>
                </a:prstGeom>
                <a:ln cap="sq"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6" name=""/>
                <p:cNvGrpSpPr/>
                <p:nvPr/>
              </p:nvGrpSpPr>
              <p:grpSpPr>
                <a:xfrm>
                  <a:off x="4033800" y="3995280"/>
                  <a:ext cx="1983600" cy="502560"/>
                  <a:chOff x="4033800" y="3995280"/>
                  <a:chExt cx="1983600" cy="50256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4033800" y="399564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4529880" y="4497840"/>
                    <a:ext cx="1487520" cy="0"/>
                  </a:xfrm>
                  <a:prstGeom prst="line">
                    <a:avLst/>
                  </a:prstGeom>
                  <a:ln cap="sq"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4529880" y="3995280"/>
                    <a:ext cx="0" cy="502200"/>
                  </a:xfrm>
                  <a:prstGeom prst="line">
                    <a:avLst/>
                  </a:prstGeom>
                  <a:ln cap="sq"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4033800" y="3995640"/>
                    <a:ext cx="496080" cy="0"/>
                  </a:xfrm>
                  <a:prstGeom prst="line">
                    <a:avLst/>
                  </a:prstGeom>
                  <a:ln cap="sq"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1" name=""/>
                <p:cNvSpPr/>
                <p:nvPr/>
              </p:nvSpPr>
              <p:spPr>
                <a:xfrm>
                  <a:off x="6513480" y="4498200"/>
                  <a:ext cx="496080" cy="0"/>
                </a:xfrm>
                <a:prstGeom prst="line">
                  <a:avLst/>
                </a:prstGeom>
                <a:ln cap="sq"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2" name=""/>
          <p:cNvGrpSpPr/>
          <p:nvPr/>
        </p:nvGrpSpPr>
        <p:grpSpPr>
          <a:xfrm>
            <a:off x="2049480" y="2789280"/>
            <a:ext cx="3968280" cy="2514240"/>
            <a:chOff x="2049480" y="2789280"/>
            <a:chExt cx="3968280" cy="2514240"/>
          </a:xfrm>
        </p:grpSpPr>
        <p:sp>
          <p:nvSpPr>
            <p:cNvPr id="1433" name=""/>
            <p:cNvSpPr/>
            <p:nvPr/>
          </p:nvSpPr>
          <p:spPr>
            <a:xfrm>
              <a:off x="204948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03344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3736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2168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1776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1066680" y="5410080"/>
            <a:ext cx="4876920" cy="58140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2049480" y="2789280"/>
            <a:ext cx="4467240" cy="1739880"/>
            <a:chOff x="2049480" y="2789280"/>
            <a:chExt cx="4467240" cy="1739880"/>
          </a:xfrm>
        </p:grpSpPr>
        <p:grpSp>
          <p:nvGrpSpPr>
            <p:cNvPr id="1440" name=""/>
            <p:cNvGrpSpPr/>
            <p:nvPr/>
          </p:nvGrpSpPr>
          <p:grpSpPr>
            <a:xfrm>
              <a:off x="2049480" y="2789280"/>
              <a:ext cx="2480760" cy="1709280"/>
              <a:chOff x="2049480" y="2789280"/>
              <a:chExt cx="2480760" cy="1709280"/>
            </a:xfrm>
          </p:grpSpPr>
          <p:sp>
            <p:nvSpPr>
              <p:cNvPr id="1441" name=""/>
              <p:cNvSpPr/>
              <p:nvPr/>
            </p:nvSpPr>
            <p:spPr>
              <a:xfrm>
                <a:off x="204948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54556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03380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53024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6019920" y="2819520"/>
              <a:ext cx="0" cy="1709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16720" y="2819520"/>
              <a:ext cx="0" cy="1709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1066680" y="5410080"/>
            <a:ext cx="4876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90920" y="1066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371600" y="1066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1371600" y="990720"/>
            <a:ext cx="3048120" cy="1143000"/>
            <a:chOff x="1371600" y="990720"/>
            <a:chExt cx="3048120" cy="1143000"/>
          </a:xfrm>
        </p:grpSpPr>
        <p:sp>
          <p:nvSpPr>
            <p:cNvPr id="1451" name=""/>
            <p:cNvSpPr/>
            <p:nvPr/>
          </p:nvSpPr>
          <p:spPr>
            <a:xfrm>
              <a:off x="2438280" y="990720"/>
              <a:ext cx="838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76520" y="13716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76520" y="18288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276720" y="16002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71600" y="1523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09880" y="1295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5638680" y="838080"/>
            <a:ext cx="914400" cy="581400"/>
            <a:chOff x="5638680" y="838080"/>
            <a:chExt cx="914400" cy="581400"/>
          </a:xfrm>
        </p:grpSpPr>
        <p:sp>
          <p:nvSpPr>
            <p:cNvPr id="1458" name=""/>
            <p:cNvSpPr/>
            <p:nvPr/>
          </p:nvSpPr>
          <p:spPr>
            <a:xfrm>
              <a:off x="5638680" y="838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"/>
                </a:rPr>
                <a:t>&gt; 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790600" y="121932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4419720" y="944640"/>
            <a:ext cx="3170160" cy="1143000"/>
            <a:chOff x="4419720" y="944640"/>
            <a:chExt cx="3170160" cy="1143000"/>
          </a:xfrm>
        </p:grpSpPr>
        <p:sp>
          <p:nvSpPr>
            <p:cNvPr id="1461" name=""/>
            <p:cNvSpPr/>
            <p:nvPr/>
          </p:nvSpPr>
          <p:spPr>
            <a:xfrm>
              <a:off x="5562720" y="944640"/>
              <a:ext cx="83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19720" y="990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00600" y="1782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00800" y="15541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19720" y="15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00600" y="1295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05680" y="1265040"/>
              <a:ext cx="48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1002600" y="4800600"/>
            <a:ext cx="6007680" cy="579600"/>
            <a:chOff x="1002600" y="4800600"/>
            <a:chExt cx="6007680" cy="579600"/>
          </a:xfrm>
        </p:grpSpPr>
        <p:sp>
          <p:nvSpPr>
            <p:cNvPr id="1469" name=""/>
            <p:cNvSpPr/>
            <p:nvPr/>
          </p:nvSpPr>
          <p:spPr>
            <a:xfrm>
              <a:off x="1002600" y="480060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33800" y="4800600"/>
              <a:ext cx="0" cy="5032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18120" y="4800600"/>
              <a:ext cx="0" cy="5032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54120" y="5303880"/>
              <a:ext cx="4953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49480" y="4800600"/>
              <a:ext cx="0" cy="5032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49480" y="4800600"/>
              <a:ext cx="14889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538440" y="4800600"/>
              <a:ext cx="0" cy="5032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538440" y="5303880"/>
              <a:ext cx="4953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33800" y="4800600"/>
              <a:ext cx="14889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522760" y="4800600"/>
              <a:ext cx="0" cy="5032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522760" y="5303880"/>
              <a:ext cx="4953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018120" y="4800600"/>
              <a:ext cx="99216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1.4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TTL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门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619360" y="1720080"/>
            <a:ext cx="32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极管—三极管逻辑门电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" y="3326760"/>
            <a:ext cx="784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门电路是双极型集成电路，与分立元件相比，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具有速度快、可靠性高和微型化等优点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目前分立元件电路已被集成电路替代。下面介绍集成 “与非”门电路的工作原理、特性和参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905040" y="1219320"/>
            <a:ext cx="7172280" cy="171000"/>
            <a:chOff x="905040" y="1219320"/>
            <a:chExt cx="7172280" cy="171000"/>
          </a:xfrm>
        </p:grpSpPr>
        <p:pic>
          <p:nvPicPr>
            <p:cNvPr id="1485" name="" descr=""/>
            <p:cNvPicPr/>
            <p:nvPr/>
          </p:nvPicPr>
          <p:blipFill>
            <a:blip r:embed="rId1"/>
            <a:stretch/>
          </p:blipFill>
          <p:spPr>
            <a:xfrm>
              <a:off x="1809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2"/>
            <a:stretch/>
          </p:blipFill>
          <p:spPr>
            <a:xfrm>
              <a:off x="1952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3"/>
            <a:stretch/>
          </p:blipFill>
          <p:spPr>
            <a:xfrm>
              <a:off x="2114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4"/>
            <a:stretch/>
          </p:blipFill>
          <p:spPr>
            <a:xfrm>
              <a:off x="2409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5"/>
            <a:stretch/>
          </p:blipFill>
          <p:spPr>
            <a:xfrm>
              <a:off x="2571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6"/>
            <a:stretch/>
          </p:blipFill>
          <p:spPr>
            <a:xfrm>
              <a:off x="2724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7"/>
            <a:stretch/>
          </p:blipFill>
          <p:spPr>
            <a:xfrm>
              <a:off x="2867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8"/>
            <a:stretch/>
          </p:blipFill>
          <p:spPr>
            <a:xfrm>
              <a:off x="3029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9"/>
            <a:stretch/>
          </p:blipFill>
          <p:spPr>
            <a:xfrm>
              <a:off x="3324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10"/>
            <a:stretch/>
          </p:blipFill>
          <p:spPr>
            <a:xfrm>
              <a:off x="3486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11"/>
            <a:stretch/>
          </p:blipFill>
          <p:spPr>
            <a:xfrm>
              <a:off x="36385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12"/>
            <a:stretch/>
          </p:blipFill>
          <p:spPr>
            <a:xfrm>
              <a:off x="3781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13"/>
            <a:stretch/>
          </p:blipFill>
          <p:spPr>
            <a:xfrm>
              <a:off x="2266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14"/>
            <a:stretch/>
          </p:blipFill>
          <p:spPr>
            <a:xfrm>
              <a:off x="31813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15"/>
            <a:stretch/>
          </p:blipFill>
          <p:spPr>
            <a:xfrm>
              <a:off x="3943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16"/>
            <a:stretch/>
          </p:blipFill>
          <p:spPr>
            <a:xfrm>
              <a:off x="4095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17"/>
            <a:stretch/>
          </p:blipFill>
          <p:spPr>
            <a:xfrm>
              <a:off x="4238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" descr=""/>
            <p:cNvPicPr/>
            <p:nvPr/>
          </p:nvPicPr>
          <p:blipFill>
            <a:blip r:embed="rId18"/>
            <a:stretch/>
          </p:blipFill>
          <p:spPr>
            <a:xfrm>
              <a:off x="4400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" descr=""/>
            <p:cNvPicPr/>
            <p:nvPr/>
          </p:nvPicPr>
          <p:blipFill>
            <a:blip r:embed="rId19"/>
            <a:stretch/>
          </p:blipFill>
          <p:spPr>
            <a:xfrm>
              <a:off x="4552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" descr=""/>
            <p:cNvPicPr/>
            <p:nvPr/>
          </p:nvPicPr>
          <p:blipFill>
            <a:blip r:embed="rId20"/>
            <a:stretch/>
          </p:blipFill>
          <p:spPr>
            <a:xfrm>
              <a:off x="4695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" descr=""/>
            <p:cNvPicPr/>
            <p:nvPr/>
          </p:nvPicPr>
          <p:blipFill>
            <a:blip r:embed="rId21"/>
            <a:stretch/>
          </p:blipFill>
          <p:spPr>
            <a:xfrm>
              <a:off x="4857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" descr=""/>
            <p:cNvPicPr/>
            <p:nvPr/>
          </p:nvPicPr>
          <p:blipFill>
            <a:blip r:embed="rId22"/>
            <a:stretch/>
          </p:blipFill>
          <p:spPr>
            <a:xfrm>
              <a:off x="5153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" descr=""/>
            <p:cNvPicPr/>
            <p:nvPr/>
          </p:nvPicPr>
          <p:blipFill>
            <a:blip r:embed="rId23"/>
            <a:stretch/>
          </p:blipFill>
          <p:spPr>
            <a:xfrm>
              <a:off x="5315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8" name="" descr=""/>
            <p:cNvPicPr/>
            <p:nvPr/>
          </p:nvPicPr>
          <p:blipFill>
            <a:blip r:embed="rId24"/>
            <a:stretch/>
          </p:blipFill>
          <p:spPr>
            <a:xfrm>
              <a:off x="54673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" descr=""/>
            <p:cNvPicPr/>
            <p:nvPr/>
          </p:nvPicPr>
          <p:blipFill>
            <a:blip r:embed="rId25"/>
            <a:stretch/>
          </p:blipFill>
          <p:spPr>
            <a:xfrm>
              <a:off x="5610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26"/>
            <a:stretch/>
          </p:blipFill>
          <p:spPr>
            <a:xfrm>
              <a:off x="5772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27"/>
            <a:stretch/>
          </p:blipFill>
          <p:spPr>
            <a:xfrm>
              <a:off x="6067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28"/>
            <a:stretch/>
          </p:blipFill>
          <p:spPr>
            <a:xfrm>
              <a:off x="6229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29"/>
            <a:stretch/>
          </p:blipFill>
          <p:spPr>
            <a:xfrm>
              <a:off x="6381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30"/>
            <a:stretch/>
          </p:blipFill>
          <p:spPr>
            <a:xfrm>
              <a:off x="6524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31"/>
            <a:stretch/>
          </p:blipFill>
          <p:spPr>
            <a:xfrm>
              <a:off x="5010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32"/>
            <a:stretch/>
          </p:blipFill>
          <p:spPr>
            <a:xfrm>
              <a:off x="59245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33"/>
            <a:stretch/>
          </p:blipFill>
          <p:spPr>
            <a:xfrm>
              <a:off x="6686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34"/>
            <a:stretch/>
          </p:blipFill>
          <p:spPr>
            <a:xfrm>
              <a:off x="6838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35"/>
            <a:stretch/>
          </p:blipFill>
          <p:spPr>
            <a:xfrm>
              <a:off x="6981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36"/>
            <a:stretch/>
          </p:blipFill>
          <p:spPr>
            <a:xfrm>
              <a:off x="7143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37"/>
            <a:stretch/>
          </p:blipFill>
          <p:spPr>
            <a:xfrm>
              <a:off x="7296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2" name=""/>
            <p:cNvGrpSpPr/>
            <p:nvPr/>
          </p:nvGrpSpPr>
          <p:grpSpPr>
            <a:xfrm>
              <a:off x="905040" y="1219320"/>
              <a:ext cx="923760" cy="161640"/>
              <a:chOff x="905040" y="1219320"/>
              <a:chExt cx="923760" cy="161640"/>
            </a:xfrm>
          </p:grpSpPr>
          <p:pic>
            <p:nvPicPr>
              <p:cNvPr id="1523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04796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209960" y="1219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36224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50516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1667160" y="1219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90504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9" name="" descr=""/>
            <p:cNvPicPr/>
            <p:nvPr/>
          </p:nvPicPr>
          <p:blipFill>
            <a:blip r:embed="rId44"/>
            <a:stretch/>
          </p:blipFill>
          <p:spPr>
            <a:xfrm>
              <a:off x="745812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45"/>
            <a:stretch/>
          </p:blipFill>
          <p:spPr>
            <a:xfrm>
              <a:off x="760104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46"/>
            <a:stretch/>
          </p:blipFill>
          <p:spPr>
            <a:xfrm>
              <a:off x="7763040" y="1219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47"/>
            <a:stretch/>
          </p:blipFill>
          <p:spPr>
            <a:xfrm>
              <a:off x="791532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3" name=""/>
          <p:cNvGrpSpPr/>
          <p:nvPr/>
        </p:nvGrpSpPr>
        <p:grpSpPr>
          <a:xfrm>
            <a:off x="3733920" y="1173240"/>
            <a:ext cx="1066680" cy="5333760"/>
            <a:chOff x="3733920" y="1173240"/>
            <a:chExt cx="1066680" cy="5333760"/>
          </a:xfrm>
        </p:grpSpPr>
        <p:sp>
          <p:nvSpPr>
            <p:cNvPr id="1534" name=""/>
            <p:cNvSpPr/>
            <p:nvPr/>
          </p:nvSpPr>
          <p:spPr>
            <a:xfrm>
              <a:off x="3733920" y="1173240"/>
              <a:ext cx="0" cy="5333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00600" y="1173240"/>
              <a:ext cx="0" cy="5333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2427120" y="5785560"/>
            <a:ext cx="3716640" cy="525600"/>
            <a:chOff x="2427120" y="5785560"/>
            <a:chExt cx="3716640" cy="525600"/>
          </a:xfrm>
        </p:grpSpPr>
        <p:sp>
          <p:nvSpPr>
            <p:cNvPr id="1537" name=""/>
            <p:cNvSpPr/>
            <p:nvPr/>
          </p:nvSpPr>
          <p:spPr>
            <a:xfrm>
              <a:off x="2427120" y="5785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入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76480" y="579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中间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22960" y="579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83772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4.1   TTL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非”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38080" y="1295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905120" y="2666880"/>
            <a:ext cx="1981080" cy="1752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914400" y="1096920"/>
            <a:ext cx="7696080" cy="4770360"/>
            <a:chOff x="914400" y="1096920"/>
            <a:chExt cx="7696080" cy="4770360"/>
          </a:xfrm>
        </p:grpSpPr>
        <p:sp>
          <p:nvSpPr>
            <p:cNvPr id="1544" name=""/>
            <p:cNvSpPr/>
            <p:nvPr/>
          </p:nvSpPr>
          <p:spPr>
            <a:xfrm>
              <a:off x="7300800" y="12193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914400" y="1096920"/>
              <a:ext cx="7696080" cy="4770360"/>
              <a:chOff x="914400" y="1096920"/>
              <a:chExt cx="7696080" cy="4770360"/>
            </a:xfrm>
          </p:grpSpPr>
          <p:sp>
            <p:nvSpPr>
              <p:cNvPr id="1546" name=""/>
              <p:cNvSpPr/>
              <p:nvPr/>
            </p:nvSpPr>
            <p:spPr>
              <a:xfrm>
                <a:off x="6337080" y="403848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80160" y="3459240"/>
                <a:ext cx="56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62520" y="4724280"/>
                <a:ext cx="911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791320" y="4648320"/>
                <a:ext cx="8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914400" y="3378240"/>
                <a:ext cx="56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921600" y="38098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924840" y="41911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34080" y="1706400"/>
                <a:ext cx="946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19720" y="1828800"/>
                <a:ext cx="55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276720" y="1828800"/>
                <a:ext cx="566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965480" y="251460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60760" y="281952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206600" y="3124080"/>
                <a:ext cx="45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86560" y="1096920"/>
                <a:ext cx="112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+5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286000" y="2438280"/>
                <a:ext cx="101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348080" y="5867280"/>
                <a:ext cx="37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732720" y="45720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629400" y="33526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27920" y="3886200"/>
                <a:ext cx="0" cy="70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6127920" y="3987720"/>
                <a:ext cx="48384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127920" y="4392720"/>
                <a:ext cx="60480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3149640" y="1286640"/>
                <a:ext cx="4170240" cy="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407200" y="2438280"/>
                <a:ext cx="11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9" name=""/>
              <p:cNvGrpSpPr/>
              <p:nvPr/>
            </p:nvGrpSpPr>
            <p:grpSpPr>
              <a:xfrm>
                <a:off x="2376000" y="2971440"/>
                <a:ext cx="1128960" cy="428760"/>
                <a:chOff x="2376000" y="2971440"/>
                <a:chExt cx="1128960" cy="428760"/>
              </a:xfrm>
            </p:grpSpPr>
            <p:sp>
              <p:nvSpPr>
                <p:cNvPr id="1570" name=""/>
                <p:cNvSpPr/>
                <p:nvPr/>
              </p:nvSpPr>
              <p:spPr>
                <a:xfrm flipH="1">
                  <a:off x="2488680" y="2971800"/>
                  <a:ext cx="101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H="1" flipV="1">
                  <a:off x="3279600" y="2971440"/>
                  <a:ext cx="225360" cy="426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>
                  <a:off x="2829600" y="2973240"/>
                  <a:ext cx="225720" cy="42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2602080" y="2971800"/>
                  <a:ext cx="225360" cy="426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>
                  <a:off x="2376000" y="2971800"/>
                  <a:ext cx="225720" cy="426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3513240" y="2895480"/>
                <a:ext cx="1040760" cy="901440"/>
                <a:chOff x="3513240" y="2895480"/>
                <a:chExt cx="1040760" cy="90144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3975480" y="2895480"/>
                  <a:ext cx="0" cy="90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3975120" y="3024360"/>
                  <a:ext cx="462600" cy="25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975480" y="3538800"/>
                  <a:ext cx="578520" cy="257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513240" y="3410640"/>
                  <a:ext cx="46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0" name=""/>
              <p:cNvSpPr/>
              <p:nvPr/>
            </p:nvSpPr>
            <p:spPr>
              <a:xfrm>
                <a:off x="6006960" y="25909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6006600" y="2743200"/>
                <a:ext cx="546120" cy="1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006960" y="3135240"/>
                <a:ext cx="63180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502240" y="30258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087720" y="1828800"/>
                <a:ext cx="160200" cy="43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182760" y="129528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413240" y="1295280"/>
                <a:ext cx="0" cy="61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4413240" y="2362320"/>
                <a:ext cx="6480" cy="68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508640" y="3733920"/>
                <a:ext cx="0" cy="9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38760" y="3048120"/>
                <a:ext cx="0" cy="154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561000" y="1295280"/>
                <a:ext cx="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61000" y="2147760"/>
                <a:ext cx="0" cy="59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495680" y="5638680"/>
                <a:ext cx="227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965840" y="22860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4965840" y="2395440"/>
                <a:ext cx="50472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965840" y="2830680"/>
                <a:ext cx="63000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38760" y="3657600"/>
                <a:ext cx="75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396200" y="3581280"/>
                <a:ext cx="1508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8" name=""/>
              <p:cNvGrpSpPr/>
              <p:nvPr/>
            </p:nvGrpSpPr>
            <p:grpSpPr>
              <a:xfrm>
                <a:off x="1523520" y="3352680"/>
                <a:ext cx="1325160" cy="990000"/>
                <a:chOff x="1523520" y="3352680"/>
                <a:chExt cx="1325160" cy="990000"/>
              </a:xfrm>
            </p:grpSpPr>
            <p:grpSp>
              <p:nvGrpSpPr>
                <p:cNvPr id="1599" name=""/>
                <p:cNvGrpSpPr/>
                <p:nvPr/>
              </p:nvGrpSpPr>
              <p:grpSpPr>
                <a:xfrm>
                  <a:off x="1523520" y="3352680"/>
                  <a:ext cx="851760" cy="380880"/>
                  <a:chOff x="1523520" y="3352680"/>
                  <a:chExt cx="851760" cy="38088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2375280" y="33526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1523520" y="3733560"/>
                    <a:ext cx="851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2" name=""/>
                <p:cNvGrpSpPr/>
                <p:nvPr/>
              </p:nvGrpSpPr>
              <p:grpSpPr>
                <a:xfrm>
                  <a:off x="1523880" y="3352680"/>
                  <a:ext cx="1135440" cy="685440"/>
                  <a:chOff x="1523880" y="3352680"/>
                  <a:chExt cx="1135440" cy="68544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2659320" y="3352680"/>
                    <a:ext cx="0" cy="685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H="1">
                    <a:off x="1523880" y="4038120"/>
                    <a:ext cx="1135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1523880" y="3352680"/>
                  <a:ext cx="1324800" cy="990000"/>
                  <a:chOff x="1523880" y="3352680"/>
                  <a:chExt cx="1324800" cy="990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848680" y="3352680"/>
                    <a:ext cx="0" cy="9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1523880" y="4342680"/>
                    <a:ext cx="132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08" name=""/>
              <p:cNvSpPr/>
              <p:nvPr/>
            </p:nvSpPr>
            <p:spPr>
              <a:xfrm>
                <a:off x="4503600" y="56386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371600" y="3657600"/>
                <a:ext cx="1508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371600" y="3962520"/>
                <a:ext cx="1508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71600" y="4267080"/>
                <a:ext cx="1508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383000" y="2705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530600" y="4303800"/>
                <a:ext cx="1600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95680" y="4267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19720" y="2743200"/>
                <a:ext cx="53316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3173400" y="228564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3400" y="1905120"/>
                <a:ext cx="160200" cy="436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419720" y="4648320"/>
                <a:ext cx="160200" cy="436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4505400" y="5105160"/>
                <a:ext cx="0" cy="533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656320" y="4572000"/>
                <a:ext cx="160200" cy="43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749920" y="5029200"/>
                <a:ext cx="0" cy="6094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477120" y="1712880"/>
                <a:ext cx="160200" cy="43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3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1624" name="" descr=""/>
            <p:cNvPicPr/>
            <p:nvPr/>
          </p:nvPicPr>
          <p:blipFill>
            <a:blip r:embed="rId1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2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3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4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5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6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7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8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9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10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11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12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13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14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15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16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17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18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19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20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21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22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6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164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3" name="" descr=""/>
            <p:cNvPicPr/>
            <p:nvPr/>
          </p:nvPicPr>
          <p:blipFill>
            <a:blip r:embed="rId29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30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31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32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7" name=""/>
          <p:cNvGrpSpPr/>
          <p:nvPr/>
        </p:nvGrpSpPr>
        <p:grpSpPr>
          <a:xfrm>
            <a:off x="5273640" y="3824280"/>
            <a:ext cx="2599560" cy="2119320"/>
            <a:chOff x="5273640" y="3824280"/>
            <a:chExt cx="2599560" cy="2119320"/>
          </a:xfrm>
        </p:grpSpPr>
        <p:grpSp>
          <p:nvGrpSpPr>
            <p:cNvPr id="1658" name=""/>
            <p:cNvGrpSpPr/>
            <p:nvPr/>
          </p:nvGrpSpPr>
          <p:grpSpPr>
            <a:xfrm>
              <a:off x="5273640" y="3824280"/>
              <a:ext cx="2581200" cy="2119320"/>
              <a:chOff x="5273640" y="3824280"/>
              <a:chExt cx="2581200" cy="2119320"/>
            </a:xfrm>
          </p:grpSpPr>
          <p:graphicFrame>
            <p:nvGraphicFramePr>
              <p:cNvPr id="1659" name=""/>
              <p:cNvGraphicFramePr/>
              <p:nvPr/>
            </p:nvGraphicFramePr>
            <p:xfrm>
              <a:off x="5273640" y="3886200"/>
              <a:ext cx="2581200" cy="205740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660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5273640" y="3886200"/>
                        <a:ext cx="2581200" cy="205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1" name=""/>
              <p:cNvSpPr/>
              <p:nvPr/>
            </p:nvSpPr>
            <p:spPr>
              <a:xfrm flipV="1">
                <a:off x="6651360" y="4277880"/>
                <a:ext cx="0" cy="89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51760" y="4419360"/>
                <a:ext cx="468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9680" y="4887720"/>
                <a:ext cx="468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40240" y="3976560"/>
                <a:ext cx="603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444720" y="38242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239160" y="52578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等效电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7" name=""/>
              <p:cNvGrpSpPr/>
              <p:nvPr/>
            </p:nvGrpSpPr>
            <p:grpSpPr>
              <a:xfrm>
                <a:off x="5832360" y="4986360"/>
                <a:ext cx="851040" cy="347400"/>
                <a:chOff x="5832360" y="4986360"/>
                <a:chExt cx="851040" cy="34740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5932440" y="517212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832360" y="5119560"/>
                  <a:ext cx="76320" cy="95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6134040" y="4986360"/>
                  <a:ext cx="232920" cy="347400"/>
                  <a:chOff x="6134040" y="4986360"/>
                  <a:chExt cx="232920" cy="3474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6137280" y="51814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>
                    <a:off x="6136920" y="49942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>
                    <a:off x="6361200" y="498636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6134040" y="49942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5" name=""/>
              <p:cNvGrpSpPr/>
              <p:nvPr/>
            </p:nvGrpSpPr>
            <p:grpSpPr>
              <a:xfrm>
                <a:off x="5797440" y="4529160"/>
                <a:ext cx="851040" cy="347400"/>
                <a:chOff x="5797440" y="4529160"/>
                <a:chExt cx="851040" cy="34740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5897520" y="471492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5797440" y="4662360"/>
                  <a:ext cx="76320" cy="95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8" name=""/>
                <p:cNvGrpSpPr/>
                <p:nvPr/>
              </p:nvGrpSpPr>
              <p:grpSpPr>
                <a:xfrm>
                  <a:off x="6099120" y="4529160"/>
                  <a:ext cx="232920" cy="347400"/>
                  <a:chOff x="6099120" y="4529160"/>
                  <a:chExt cx="232920" cy="34740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6102360" y="47242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H="1">
                    <a:off x="6102000" y="45370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flipH="1">
                    <a:off x="6326280" y="452916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6099120" y="45370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3" name=""/>
              <p:cNvGrpSpPr/>
              <p:nvPr/>
            </p:nvGrpSpPr>
            <p:grpSpPr>
              <a:xfrm>
                <a:off x="5797440" y="4114800"/>
                <a:ext cx="851040" cy="347400"/>
                <a:chOff x="5797440" y="4114800"/>
                <a:chExt cx="851040" cy="34740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897520" y="430056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797440" y="4248000"/>
                  <a:ext cx="76320" cy="95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6" name=""/>
                <p:cNvGrpSpPr/>
                <p:nvPr/>
              </p:nvGrpSpPr>
              <p:grpSpPr>
                <a:xfrm>
                  <a:off x="6099120" y="4114800"/>
                  <a:ext cx="232920" cy="347400"/>
                  <a:chOff x="6099120" y="4114800"/>
                  <a:chExt cx="232920" cy="347400"/>
                </a:xfrm>
              </p:grpSpPr>
              <p:sp>
                <p:nvSpPr>
                  <p:cNvPr id="1687" name=""/>
                  <p:cNvSpPr/>
                  <p:nvPr/>
                </p:nvSpPr>
                <p:spPr>
                  <a:xfrm>
                    <a:off x="6102360" y="43099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 flipH="1">
                    <a:off x="6102000" y="41227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flipH="1">
                    <a:off x="6326280" y="411480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6099120" y="4122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1" name=""/>
              <p:cNvGrpSpPr/>
              <p:nvPr/>
            </p:nvGrpSpPr>
            <p:grpSpPr>
              <a:xfrm>
                <a:off x="6622920" y="4114800"/>
                <a:ext cx="851040" cy="347400"/>
                <a:chOff x="6622920" y="4114800"/>
                <a:chExt cx="851040" cy="347400"/>
              </a:xfrm>
            </p:grpSpPr>
            <p:sp>
              <p:nvSpPr>
                <p:cNvPr id="1692" name=""/>
                <p:cNvSpPr/>
                <p:nvPr/>
              </p:nvSpPr>
              <p:spPr>
                <a:xfrm flipH="1">
                  <a:off x="6622920" y="430056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7397640" y="4248000"/>
                  <a:ext cx="76320" cy="95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4" name=""/>
                <p:cNvGrpSpPr/>
                <p:nvPr/>
              </p:nvGrpSpPr>
              <p:grpSpPr>
                <a:xfrm>
                  <a:off x="6939360" y="4114800"/>
                  <a:ext cx="232920" cy="347400"/>
                  <a:chOff x="6939360" y="4114800"/>
                  <a:chExt cx="232920" cy="34740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 flipH="1">
                    <a:off x="6940440" y="43099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6940800" y="41227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6939360" y="411480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7172280" y="4122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99" name=""/>
            <p:cNvSpPr/>
            <p:nvPr/>
          </p:nvSpPr>
          <p:spPr>
            <a:xfrm>
              <a:off x="7498800" y="40528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914400" y="5007960"/>
            <a:ext cx="1598760" cy="496440"/>
          </a:xfrm>
          <a:prstGeom prst="wedgeRoundRectCallout">
            <a:avLst>
              <a:gd name="adj1" fmla="val 69560"/>
              <a:gd name="adj2" fmla="val -290865"/>
              <a:gd name="adj3" fmla="val 16667"/>
            </a:avLst>
          </a:prstGeom>
          <a:blipFill rotWithShape="0">
            <a:blip r:embed="rId35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多发射极三极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1752480" y="1371600"/>
            <a:ext cx="6858000" cy="4267080"/>
            <a:chOff x="1752480" y="1371600"/>
            <a:chExt cx="6858000" cy="4267080"/>
          </a:xfrm>
        </p:grpSpPr>
        <p:sp>
          <p:nvSpPr>
            <p:cNvPr id="1702" name=""/>
            <p:cNvSpPr/>
            <p:nvPr/>
          </p:nvSpPr>
          <p:spPr>
            <a:xfrm>
              <a:off x="7443720" y="1481040"/>
              <a:ext cx="135000" cy="136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586200" y="400356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693200" y="34844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68680" y="4616280"/>
              <a:ext cx="81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99120" y="454644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752480" y="3411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59680" y="37987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62920" y="4138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850080" y="1916280"/>
              <a:ext cx="84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76920" y="2025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809880" y="2057400"/>
              <a:ext cx="56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64000" y="263988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518160" y="29131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687560" y="318456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608960" y="137160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975040" y="2571840"/>
              <a:ext cx="90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811760" y="56386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937200" y="4479840"/>
              <a:ext cx="0" cy="9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45400" y="338940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97560" y="3867120"/>
              <a:ext cx="0" cy="63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6397560" y="3957480"/>
              <a:ext cx="43200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97560" y="4319640"/>
              <a:ext cx="53964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3744720" y="1541160"/>
              <a:ext cx="371628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756400" y="2571840"/>
              <a:ext cx="101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"/>
            <p:cNvGrpSpPr/>
            <p:nvPr/>
          </p:nvGrpSpPr>
          <p:grpSpPr>
            <a:xfrm>
              <a:off x="3056040" y="3047760"/>
              <a:ext cx="1004040" cy="384120"/>
              <a:chOff x="3056040" y="3047760"/>
              <a:chExt cx="1004040" cy="384120"/>
            </a:xfrm>
          </p:grpSpPr>
          <p:sp>
            <p:nvSpPr>
              <p:cNvPr id="1727" name=""/>
              <p:cNvSpPr/>
              <p:nvPr/>
            </p:nvSpPr>
            <p:spPr>
              <a:xfrm flipH="1">
                <a:off x="3156120" y="3048120"/>
                <a:ext cx="90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flipV="1">
                <a:off x="3859560" y="304776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3459600" y="3049560"/>
                <a:ext cx="20088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3256560" y="304812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3056040" y="3048120"/>
                <a:ext cx="20088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4068720" y="2979720"/>
              <a:ext cx="926640" cy="807840"/>
              <a:chOff x="4068720" y="2979720"/>
              <a:chExt cx="926640" cy="807840"/>
            </a:xfrm>
          </p:grpSpPr>
          <p:sp>
            <p:nvSpPr>
              <p:cNvPr id="1733" name=""/>
              <p:cNvSpPr/>
              <p:nvPr/>
            </p:nvSpPr>
            <p:spPr>
              <a:xfrm>
                <a:off x="4480200" y="2979720"/>
                <a:ext cx="0" cy="80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4480200" y="3095280"/>
                <a:ext cx="411840" cy="2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480200" y="3556440"/>
                <a:ext cx="515160" cy="23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068720" y="3441240"/>
                <a:ext cx="41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6291360" y="270828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291000" y="2844720"/>
              <a:ext cx="48564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91360" y="319572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40280" y="3097080"/>
              <a:ext cx="4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689280" y="202572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773520" y="154944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870440" y="154944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4870440" y="2503440"/>
              <a:ext cx="648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954680" y="37306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051600" y="3116160"/>
              <a:ext cx="0" cy="138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784920" y="1549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84920" y="23115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43520" y="543384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362560" y="2435400"/>
              <a:ext cx="0" cy="68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5362560" y="2533680"/>
              <a:ext cx="449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362560" y="292248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853320" y="366228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27960" y="3594240"/>
              <a:ext cx="1350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5" name=""/>
            <p:cNvGrpSpPr/>
            <p:nvPr/>
          </p:nvGrpSpPr>
          <p:grpSpPr>
            <a:xfrm>
              <a:off x="2295000" y="3389400"/>
              <a:ext cx="1180800" cy="884880"/>
              <a:chOff x="2295000" y="3389400"/>
              <a:chExt cx="1180800" cy="884880"/>
            </a:xfrm>
          </p:grpSpPr>
          <p:grpSp>
            <p:nvGrpSpPr>
              <p:cNvPr id="1756" name=""/>
              <p:cNvGrpSpPr/>
              <p:nvPr/>
            </p:nvGrpSpPr>
            <p:grpSpPr>
              <a:xfrm>
                <a:off x="2295000" y="3389400"/>
                <a:ext cx="758880" cy="340200"/>
                <a:chOff x="2295000" y="3389400"/>
                <a:chExt cx="758880" cy="34020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3053880" y="3389400"/>
                  <a:ext cx="0" cy="34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>
                  <a:off x="2295000" y="3729600"/>
                  <a:ext cx="75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2295360" y="3389400"/>
                <a:ext cx="1011600" cy="612360"/>
                <a:chOff x="2295360" y="3389400"/>
                <a:chExt cx="1011600" cy="61236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3306960" y="3389400"/>
                  <a:ext cx="0" cy="61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>
                  <a:off x="2295360" y="4001760"/>
                  <a:ext cx="1011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2295000" y="3389400"/>
                <a:ext cx="1180800" cy="884880"/>
                <a:chOff x="2295000" y="3389400"/>
                <a:chExt cx="1180800" cy="88488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3475800" y="3389400"/>
                  <a:ext cx="0" cy="88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>
                  <a:off x="2295000" y="4274280"/>
                  <a:ext cx="118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5" name=""/>
            <p:cNvSpPr/>
            <p:nvPr/>
          </p:nvSpPr>
          <p:spPr>
            <a:xfrm>
              <a:off x="4951440" y="543384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160720" y="366228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160720" y="3935520"/>
              <a:ext cx="133200" cy="135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160720" y="420696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843440" y="280980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75200" y="4240080"/>
              <a:ext cx="14256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43520" y="4206960"/>
              <a:ext cx="46080" cy="46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876920" y="2844720"/>
              <a:ext cx="474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3765600" y="2435400"/>
              <a:ext cx="0" cy="612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08520" y="209376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876920" y="45482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4952880" y="4957920"/>
              <a:ext cx="0" cy="475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978520" y="44798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60960" y="4889520"/>
              <a:ext cx="0" cy="5443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708600" y="192240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514760" y="2575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92560" y="3429000"/>
            <a:ext cx="1185120" cy="1143000"/>
            <a:chOff x="592560" y="3429000"/>
            <a:chExt cx="1185120" cy="1143000"/>
          </a:xfrm>
        </p:grpSpPr>
        <p:sp>
          <p:nvSpPr>
            <p:cNvPr id="1782" name=""/>
            <p:cNvSpPr/>
            <p:nvPr/>
          </p:nvSpPr>
          <p:spPr>
            <a:xfrm>
              <a:off x="1625400" y="342900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34120" y="362664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92560" y="39762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(3.6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1281240" y="913680"/>
            <a:ext cx="42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入全为高电平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(3.6V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621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2514240" y="1600200"/>
            <a:ext cx="1219680" cy="2743200"/>
            <a:chOff x="2514240" y="1600200"/>
            <a:chExt cx="1219680" cy="2743200"/>
          </a:xfrm>
        </p:grpSpPr>
        <p:sp>
          <p:nvSpPr>
            <p:cNvPr id="1788" name=""/>
            <p:cNvSpPr/>
            <p:nvPr/>
          </p:nvSpPr>
          <p:spPr>
            <a:xfrm>
              <a:off x="3657600" y="1600200"/>
              <a:ext cx="0" cy="12952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581280" y="3429000"/>
              <a:ext cx="0" cy="9144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3581280" y="3048120"/>
              <a:ext cx="152640" cy="3808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2514240" y="4343400"/>
              <a:ext cx="106668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52680" y="3429000"/>
              <a:ext cx="0" cy="6858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352680" y="3048120"/>
              <a:ext cx="152640" cy="3808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2514600" y="4038480"/>
              <a:ext cx="83808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5" name=""/>
            <p:cNvGrpSpPr/>
            <p:nvPr/>
          </p:nvGrpSpPr>
          <p:grpSpPr>
            <a:xfrm>
              <a:off x="2514240" y="3048120"/>
              <a:ext cx="761760" cy="761760"/>
              <a:chOff x="2514240" y="3048120"/>
              <a:chExt cx="761760" cy="761760"/>
            </a:xfrm>
          </p:grpSpPr>
          <p:sp>
            <p:nvSpPr>
              <p:cNvPr id="1796" name=""/>
              <p:cNvSpPr/>
              <p:nvPr/>
            </p:nvSpPr>
            <p:spPr>
              <a:xfrm>
                <a:off x="3124080" y="3429000"/>
                <a:ext cx="0" cy="38088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123720" y="3048120"/>
                <a:ext cx="152280" cy="38088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2514240" y="3809880"/>
                <a:ext cx="609480" cy="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9" name=""/>
          <p:cNvSpPr/>
          <p:nvPr/>
        </p:nvSpPr>
        <p:spPr>
          <a:xfrm>
            <a:off x="1905120" y="1981080"/>
            <a:ext cx="1117440" cy="609840"/>
          </a:xfrm>
          <a:prstGeom prst="wedgeEllipseCallout">
            <a:avLst>
              <a:gd name="adj1" fmla="val 117046"/>
              <a:gd name="adj2" fmla="val 96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"/>
              </a:rPr>
              <a:t>4.3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648320" y="560844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饱和导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00200" y="1828800"/>
            <a:ext cx="1560600" cy="808200"/>
          </a:xfrm>
          <a:prstGeom prst="wedgeEllipseCallout">
            <a:avLst>
              <a:gd name="adj1" fmla="val 85810"/>
              <a:gd name="adj2" fmla="val 7043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钳位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2.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990720" y="2666160"/>
            <a:ext cx="1512720" cy="685800"/>
          </a:xfrm>
          <a:prstGeom prst="wedgeEllipseCallout">
            <a:avLst>
              <a:gd name="adj1" fmla="val 91342"/>
              <a:gd name="adj2" fmla="val -3055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结反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086600" y="2438280"/>
            <a:ext cx="990720" cy="609840"/>
          </a:xfrm>
          <a:prstGeom prst="wedgeEllipseCallout">
            <a:avLst>
              <a:gd name="adj1" fmla="val -112981"/>
              <a:gd name="adj2" fmla="val 70050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7210800" y="3763080"/>
            <a:ext cx="1157760" cy="871200"/>
            <a:chOff x="7210800" y="3763080"/>
            <a:chExt cx="1157760" cy="871200"/>
          </a:xfrm>
        </p:grpSpPr>
        <p:sp>
          <p:nvSpPr>
            <p:cNvPr id="1805" name=""/>
            <p:cNvSpPr/>
            <p:nvPr/>
          </p:nvSpPr>
          <p:spPr>
            <a:xfrm>
              <a:off x="7457040" y="376308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10800" y="411372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(0.3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 flipH="1">
            <a:off x="7010280" y="3809880"/>
            <a:ext cx="60984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10280" y="3809880"/>
            <a:ext cx="0" cy="14479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010280" y="4648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电流（灌电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143000" y="4952160"/>
            <a:ext cx="274320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入全高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,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出为低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1" name=""/>
          <p:cNvGraphicFramePr/>
          <p:nvPr/>
        </p:nvGraphicFramePr>
        <p:xfrm>
          <a:off x="6172200" y="2362320"/>
          <a:ext cx="213372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21337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3" name=""/>
          <p:cNvSpPr/>
          <p:nvPr/>
        </p:nvSpPr>
        <p:spPr>
          <a:xfrm>
            <a:off x="429624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"/>
          <p:cNvGrpSpPr/>
          <p:nvPr/>
        </p:nvGrpSpPr>
        <p:grpSpPr>
          <a:xfrm>
            <a:off x="1752480" y="1371600"/>
            <a:ext cx="6858000" cy="4267080"/>
            <a:chOff x="1752480" y="1371600"/>
            <a:chExt cx="6858000" cy="4267080"/>
          </a:xfrm>
        </p:grpSpPr>
        <p:sp>
          <p:nvSpPr>
            <p:cNvPr id="1815" name=""/>
            <p:cNvSpPr/>
            <p:nvPr/>
          </p:nvSpPr>
          <p:spPr>
            <a:xfrm>
              <a:off x="7443720" y="1481040"/>
              <a:ext cx="135000" cy="136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586200" y="400356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93200" y="34844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68680" y="4616280"/>
              <a:ext cx="81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099120" y="454644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52480" y="3411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9680" y="37987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62920" y="4138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850080" y="1916280"/>
              <a:ext cx="84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876920" y="2025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809880" y="2057400"/>
              <a:ext cx="56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364000" y="263988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18160" y="29131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87560" y="318456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08960" y="137160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975040" y="2571840"/>
              <a:ext cx="90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811760" y="56386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937200" y="4479840"/>
              <a:ext cx="0" cy="9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845400" y="338940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397560" y="3867120"/>
              <a:ext cx="0" cy="63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97560" y="3957480"/>
              <a:ext cx="43200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97560" y="4319640"/>
              <a:ext cx="53964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744720" y="1541160"/>
              <a:ext cx="371628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56400" y="2571840"/>
              <a:ext cx="101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3056040" y="3047760"/>
              <a:ext cx="1004040" cy="384120"/>
              <a:chOff x="3056040" y="3047760"/>
              <a:chExt cx="1004040" cy="384120"/>
            </a:xfrm>
          </p:grpSpPr>
          <p:sp>
            <p:nvSpPr>
              <p:cNvPr id="1840" name=""/>
              <p:cNvSpPr/>
              <p:nvPr/>
            </p:nvSpPr>
            <p:spPr>
              <a:xfrm flipH="1">
                <a:off x="3156120" y="3048120"/>
                <a:ext cx="90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 flipV="1">
                <a:off x="3859560" y="304776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3459600" y="3049560"/>
                <a:ext cx="20088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3256560" y="304812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3056040" y="3048120"/>
                <a:ext cx="20088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4068720" y="2979720"/>
              <a:ext cx="926640" cy="807840"/>
              <a:chOff x="4068720" y="2979720"/>
              <a:chExt cx="926640" cy="807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4480200" y="2979720"/>
                <a:ext cx="0" cy="80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480200" y="3095280"/>
                <a:ext cx="411840" cy="2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80200" y="3556440"/>
                <a:ext cx="515160" cy="23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068720" y="3441240"/>
                <a:ext cx="41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0" name=""/>
            <p:cNvSpPr/>
            <p:nvPr/>
          </p:nvSpPr>
          <p:spPr>
            <a:xfrm>
              <a:off x="6291360" y="270828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6291000" y="2844720"/>
              <a:ext cx="48564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291360" y="319572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40280" y="3097080"/>
              <a:ext cx="4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89280" y="202572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73520" y="154944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70440" y="154944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870440" y="2503440"/>
              <a:ext cx="648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54680" y="37306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051600" y="3116160"/>
              <a:ext cx="0" cy="138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784920" y="1549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784920" y="23115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943520" y="543384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62560" y="2435400"/>
              <a:ext cx="0" cy="68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5362560" y="2533680"/>
              <a:ext cx="449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362560" y="292248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53320" y="366228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527960" y="3594240"/>
              <a:ext cx="1350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2295000" y="3389400"/>
              <a:ext cx="1180800" cy="884880"/>
              <a:chOff x="2295000" y="3389400"/>
              <a:chExt cx="1180800" cy="884880"/>
            </a:xfrm>
          </p:grpSpPr>
          <p:grpSp>
            <p:nvGrpSpPr>
              <p:cNvPr id="1869" name=""/>
              <p:cNvGrpSpPr/>
              <p:nvPr/>
            </p:nvGrpSpPr>
            <p:grpSpPr>
              <a:xfrm>
                <a:off x="2295000" y="3389400"/>
                <a:ext cx="758880" cy="340200"/>
                <a:chOff x="2295000" y="3389400"/>
                <a:chExt cx="758880" cy="34020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3053880" y="3389400"/>
                  <a:ext cx="0" cy="34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>
                  <a:off x="2295000" y="3729600"/>
                  <a:ext cx="75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2" name=""/>
              <p:cNvGrpSpPr/>
              <p:nvPr/>
            </p:nvGrpSpPr>
            <p:grpSpPr>
              <a:xfrm>
                <a:off x="2295360" y="3389400"/>
                <a:ext cx="1011600" cy="612360"/>
                <a:chOff x="2295360" y="3389400"/>
                <a:chExt cx="1011600" cy="61236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306960" y="3389400"/>
                  <a:ext cx="0" cy="61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2295360" y="4001760"/>
                  <a:ext cx="1011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2295000" y="3389400"/>
                <a:ext cx="1180800" cy="884880"/>
                <a:chOff x="2295000" y="3389400"/>
                <a:chExt cx="1180800" cy="88488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3475800" y="3389400"/>
                  <a:ext cx="0" cy="88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>
                  <a:off x="2295000" y="4274280"/>
                  <a:ext cx="118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8" name=""/>
            <p:cNvSpPr/>
            <p:nvPr/>
          </p:nvSpPr>
          <p:spPr>
            <a:xfrm>
              <a:off x="4951440" y="543384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160720" y="366228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60720" y="3935520"/>
              <a:ext cx="133200" cy="135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160720" y="420696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43440" y="280980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75200" y="4240080"/>
              <a:ext cx="14256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43520" y="4206960"/>
              <a:ext cx="46080" cy="46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876920" y="2844720"/>
              <a:ext cx="474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765600" y="2435400"/>
              <a:ext cx="0" cy="612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808520" y="209376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876920" y="45482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4952880" y="4957920"/>
              <a:ext cx="0" cy="475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78520" y="44798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60960" y="4889520"/>
              <a:ext cx="0" cy="5443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708600" y="192240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14760" y="2575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7621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905120" y="1981080"/>
            <a:ext cx="1117440" cy="609840"/>
          </a:xfrm>
          <a:prstGeom prst="wedgeEllipseCallout">
            <a:avLst>
              <a:gd name="adj1" fmla="val 117046"/>
              <a:gd name="adj2" fmla="val 96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"/>
              </a:rPr>
              <a:t>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334120" y="553248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934320" y="24382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电流（拉电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002320" y="913680"/>
            <a:ext cx="28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入端有任一低电平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(0.3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821160" y="3505320"/>
            <a:ext cx="1157760" cy="1404000"/>
            <a:chOff x="821160" y="3505320"/>
            <a:chExt cx="1157760" cy="1404000"/>
          </a:xfrm>
        </p:grpSpPr>
        <p:sp>
          <p:nvSpPr>
            <p:cNvPr id="1900" name=""/>
            <p:cNvSpPr/>
            <p:nvPr/>
          </p:nvSpPr>
          <p:spPr>
            <a:xfrm>
              <a:off x="821160" y="438876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(0.3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592280" y="35053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953280" y="355068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29240" y="408384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2361960" y="1600200"/>
            <a:ext cx="1371960" cy="2743200"/>
            <a:chOff x="2361960" y="1600200"/>
            <a:chExt cx="1371960" cy="2743200"/>
          </a:xfrm>
        </p:grpSpPr>
        <p:sp>
          <p:nvSpPr>
            <p:cNvPr id="1905" name=""/>
            <p:cNvSpPr/>
            <p:nvPr/>
          </p:nvSpPr>
          <p:spPr>
            <a:xfrm>
              <a:off x="3733920" y="1600200"/>
              <a:ext cx="0" cy="144792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3428640" y="3048120"/>
              <a:ext cx="304920" cy="6094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429000" y="3657600"/>
              <a:ext cx="0" cy="6858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2361960" y="4343400"/>
              <a:ext cx="106668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6934320" y="1676520"/>
            <a:ext cx="0" cy="190476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934320" y="3581280"/>
            <a:ext cx="533160" cy="0"/>
          </a:xfrm>
          <a:prstGeom prst="line">
            <a:avLst/>
          </a:prstGeom>
          <a:ln cap="sq"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219320" y="4952880"/>
            <a:ext cx="24382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入有低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出为高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62120" y="1828800"/>
            <a:ext cx="251460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流过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结的电流为正向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4191120" y="3048120"/>
            <a:ext cx="3251160" cy="1980720"/>
            <a:chOff x="4191120" y="3048120"/>
            <a:chExt cx="3251160" cy="1980720"/>
          </a:xfrm>
        </p:grpSpPr>
        <p:graphicFrame>
          <p:nvGraphicFramePr>
            <p:cNvPr id="1914" name=""/>
            <p:cNvGraphicFramePr/>
            <p:nvPr/>
          </p:nvGraphicFramePr>
          <p:xfrm>
            <a:off x="6248520" y="3733560"/>
            <a:ext cx="1193760" cy="1295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3733560"/>
                      <a:ext cx="119376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6" name=""/>
            <p:cNvGraphicFramePr/>
            <p:nvPr/>
          </p:nvGraphicFramePr>
          <p:xfrm>
            <a:off x="4191120" y="3048120"/>
            <a:ext cx="1193760" cy="129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91120" y="3048120"/>
                      <a:ext cx="119376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18" name=""/>
          <p:cNvGrpSpPr/>
          <p:nvPr/>
        </p:nvGrpSpPr>
        <p:grpSpPr>
          <a:xfrm>
            <a:off x="6172200" y="3496680"/>
            <a:ext cx="2286000" cy="1122480"/>
            <a:chOff x="6172200" y="3496680"/>
            <a:chExt cx="2286000" cy="1122480"/>
          </a:xfrm>
        </p:grpSpPr>
        <p:sp>
          <p:nvSpPr>
            <p:cNvPr id="1919" name=""/>
            <p:cNvSpPr/>
            <p:nvPr/>
          </p:nvSpPr>
          <p:spPr>
            <a:xfrm>
              <a:off x="6172200" y="3496680"/>
              <a:ext cx="2286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V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5-0.7-0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303960" y="4037760"/>
              <a:ext cx="143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=3.6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952880" y="1600200"/>
            <a:ext cx="2286000" cy="2133360"/>
            <a:chOff x="4952880" y="1600200"/>
            <a:chExt cx="2286000" cy="2133360"/>
          </a:xfrm>
        </p:grpSpPr>
        <p:sp>
          <p:nvSpPr>
            <p:cNvPr id="1922" name=""/>
            <p:cNvSpPr/>
            <p:nvPr/>
          </p:nvSpPr>
          <p:spPr>
            <a:xfrm>
              <a:off x="670536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52880" y="160020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81480" y="2743200"/>
              <a:ext cx="60948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05360" y="373356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05360" y="167616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90960" y="304776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790600" y="251460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05360" y="266688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1" name=""/>
          <p:cNvSpPr/>
          <p:nvPr/>
        </p:nvSpPr>
        <p:spPr>
          <a:xfrm>
            <a:off x="432180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3886200" y="2743200"/>
            <a:ext cx="3047760" cy="2362320"/>
            <a:chOff x="3886200" y="2743200"/>
            <a:chExt cx="3047760" cy="2362320"/>
          </a:xfrm>
        </p:grpSpPr>
        <p:sp>
          <p:nvSpPr>
            <p:cNvPr id="1933" name=""/>
            <p:cNvSpPr/>
            <p:nvPr/>
          </p:nvSpPr>
          <p:spPr>
            <a:xfrm>
              <a:off x="3886200" y="2743200"/>
              <a:ext cx="98280" cy="2362320"/>
            </a:xfrm>
            <a:custGeom>
              <a:avLst/>
              <a:gdLst>
                <a:gd name="textAreaLeft" fmla="*/ 0 w 98280"/>
                <a:gd name="textAreaRight" fmla="*/ 35280 w 98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81040" y="3657600"/>
              <a:ext cx="275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有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3809880" y="5229360"/>
            <a:ext cx="2392560" cy="520560"/>
            <a:chOff x="3809880" y="5229360"/>
            <a:chExt cx="2392560" cy="520560"/>
          </a:xfrm>
        </p:grpSpPr>
        <p:sp>
          <p:nvSpPr>
            <p:cNvPr id="1936" name=""/>
            <p:cNvSpPr/>
            <p:nvPr/>
          </p:nvSpPr>
          <p:spPr>
            <a:xfrm flipH="1">
              <a:off x="3809880" y="545796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299840" y="5229360"/>
              <a:ext cx="19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全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172200" y="388620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248520" y="44337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与非”逻辑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838080" y="1447920"/>
            <a:ext cx="3047760" cy="4254120"/>
            <a:chOff x="838080" y="1447920"/>
            <a:chExt cx="3047760" cy="4254120"/>
          </a:xfrm>
        </p:grpSpPr>
        <p:grpSp>
          <p:nvGrpSpPr>
            <p:cNvPr id="1941" name=""/>
            <p:cNvGrpSpPr/>
            <p:nvPr/>
          </p:nvGrpSpPr>
          <p:grpSpPr>
            <a:xfrm>
              <a:off x="1142640" y="2514240"/>
              <a:ext cx="2743200" cy="520560"/>
              <a:chOff x="1142640" y="2514240"/>
              <a:chExt cx="2743200" cy="520560"/>
            </a:xfrm>
          </p:grpSpPr>
          <p:grpSp>
            <p:nvGrpSpPr>
              <p:cNvPr id="1942" name=""/>
              <p:cNvGrpSpPr/>
              <p:nvPr/>
            </p:nvGrpSpPr>
            <p:grpSpPr>
              <a:xfrm>
                <a:off x="1142640" y="2514240"/>
                <a:ext cx="2057400" cy="520560"/>
                <a:chOff x="1142640" y="2514240"/>
                <a:chExt cx="2057400" cy="52056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114264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90476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74284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6" name=""/>
              <p:cNvSpPr/>
              <p:nvPr/>
            </p:nvSpPr>
            <p:spPr>
              <a:xfrm>
                <a:off x="3428640" y="2514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1142640" y="2895480"/>
              <a:ext cx="2743200" cy="520560"/>
              <a:chOff x="1142640" y="2895480"/>
              <a:chExt cx="2743200" cy="520560"/>
            </a:xfrm>
          </p:grpSpPr>
          <p:grpSp>
            <p:nvGrpSpPr>
              <p:cNvPr id="1948" name=""/>
              <p:cNvGrpSpPr/>
              <p:nvPr/>
            </p:nvGrpSpPr>
            <p:grpSpPr>
              <a:xfrm>
                <a:off x="1142640" y="2895480"/>
                <a:ext cx="2057400" cy="520560"/>
                <a:chOff x="1142640" y="2895480"/>
                <a:chExt cx="2057400" cy="52056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114264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190476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74284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2" name=""/>
              <p:cNvSpPr/>
              <p:nvPr/>
            </p:nvSpPr>
            <p:spPr>
              <a:xfrm>
                <a:off x="3428640" y="28954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1142640" y="3276360"/>
              <a:ext cx="2743200" cy="2044080"/>
              <a:chOff x="1142640" y="3276360"/>
              <a:chExt cx="2743200" cy="2044080"/>
            </a:xfrm>
          </p:grpSpPr>
          <p:grpSp>
            <p:nvGrpSpPr>
              <p:cNvPr id="1954" name=""/>
              <p:cNvGrpSpPr/>
              <p:nvPr/>
            </p:nvGrpSpPr>
            <p:grpSpPr>
              <a:xfrm>
                <a:off x="1142640" y="4419000"/>
                <a:ext cx="2743200" cy="520560"/>
                <a:chOff x="1142640" y="4419000"/>
                <a:chExt cx="2743200" cy="520560"/>
              </a:xfrm>
            </p:grpSpPr>
            <p:grpSp>
              <p:nvGrpSpPr>
                <p:cNvPr id="1955" name=""/>
                <p:cNvGrpSpPr/>
                <p:nvPr/>
              </p:nvGrpSpPr>
              <p:grpSpPr>
                <a:xfrm>
                  <a:off x="1142640" y="4419000"/>
                  <a:ext cx="2057400" cy="520560"/>
                  <a:chOff x="1142640" y="4419000"/>
                  <a:chExt cx="2057400" cy="52056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114264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190476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274284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9" name=""/>
                <p:cNvSpPr/>
                <p:nvPr/>
              </p:nvSpPr>
              <p:spPr>
                <a:xfrm>
                  <a:off x="3428640" y="4419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1142640" y="4799880"/>
                <a:ext cx="2743200" cy="520560"/>
                <a:chOff x="1142640" y="4799880"/>
                <a:chExt cx="2743200" cy="520560"/>
              </a:xfrm>
            </p:grpSpPr>
            <p:grpSp>
              <p:nvGrpSpPr>
                <p:cNvPr id="1961" name=""/>
                <p:cNvGrpSpPr/>
                <p:nvPr/>
              </p:nvGrpSpPr>
              <p:grpSpPr>
                <a:xfrm>
                  <a:off x="1142640" y="4799880"/>
                  <a:ext cx="2057400" cy="520560"/>
                  <a:chOff x="1142640" y="4799880"/>
                  <a:chExt cx="2057400" cy="52056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114264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190476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274284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5" name=""/>
                <p:cNvSpPr/>
                <p:nvPr/>
              </p:nvSpPr>
              <p:spPr>
                <a:xfrm>
                  <a:off x="3428640" y="4799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1142640" y="4038120"/>
                <a:ext cx="2743200" cy="520560"/>
                <a:chOff x="1142640" y="4038120"/>
                <a:chExt cx="2743200" cy="520560"/>
              </a:xfrm>
            </p:grpSpPr>
            <p:grpSp>
              <p:nvGrpSpPr>
                <p:cNvPr id="1967" name=""/>
                <p:cNvGrpSpPr/>
                <p:nvPr/>
              </p:nvGrpSpPr>
              <p:grpSpPr>
                <a:xfrm>
                  <a:off x="1142640" y="4038120"/>
                  <a:ext cx="2057400" cy="520560"/>
                  <a:chOff x="1142640" y="4038120"/>
                  <a:chExt cx="2057400" cy="52056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114264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190476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274284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1" name=""/>
                <p:cNvSpPr/>
                <p:nvPr/>
              </p:nvSpPr>
              <p:spPr>
                <a:xfrm>
                  <a:off x="3428640" y="40381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1142640" y="3656880"/>
                <a:ext cx="2743200" cy="520560"/>
                <a:chOff x="1142640" y="3656880"/>
                <a:chExt cx="2743200" cy="520560"/>
              </a:xfrm>
            </p:grpSpPr>
            <p:grpSp>
              <p:nvGrpSpPr>
                <p:cNvPr id="1973" name=""/>
                <p:cNvGrpSpPr/>
                <p:nvPr/>
              </p:nvGrpSpPr>
              <p:grpSpPr>
                <a:xfrm>
                  <a:off x="1142640" y="3656880"/>
                  <a:ext cx="2057400" cy="520560"/>
                  <a:chOff x="1142640" y="3656880"/>
                  <a:chExt cx="2057400" cy="52056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114264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190476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274284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7" name=""/>
                <p:cNvSpPr/>
                <p:nvPr/>
              </p:nvSpPr>
              <p:spPr>
                <a:xfrm>
                  <a:off x="3428640" y="3656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1142640" y="3276360"/>
                <a:ext cx="2743200" cy="520560"/>
                <a:chOff x="1142640" y="3276360"/>
                <a:chExt cx="2743200" cy="520560"/>
              </a:xfrm>
            </p:grpSpPr>
            <p:grpSp>
              <p:nvGrpSpPr>
                <p:cNvPr id="1979" name=""/>
                <p:cNvGrpSpPr/>
                <p:nvPr/>
              </p:nvGrpSpPr>
              <p:grpSpPr>
                <a:xfrm>
                  <a:off x="1142640" y="3276360"/>
                  <a:ext cx="2057400" cy="520560"/>
                  <a:chOff x="1142640" y="3276360"/>
                  <a:chExt cx="2057400" cy="52056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>
                    <a:off x="114264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90476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74284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3" name=""/>
                <p:cNvSpPr/>
                <p:nvPr/>
              </p:nvSpPr>
              <p:spPr>
                <a:xfrm>
                  <a:off x="3428640" y="32763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4" name=""/>
            <p:cNvGrpSpPr/>
            <p:nvPr/>
          </p:nvGrpSpPr>
          <p:grpSpPr>
            <a:xfrm>
              <a:off x="1142640" y="5181480"/>
              <a:ext cx="2743200" cy="520560"/>
              <a:chOff x="1142640" y="5181480"/>
              <a:chExt cx="2743200" cy="52056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142640" y="5181480"/>
                <a:ext cx="2057400" cy="520560"/>
                <a:chOff x="1142640" y="5181480"/>
                <a:chExt cx="2057400" cy="5205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14264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90476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274284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9" name=""/>
              <p:cNvSpPr/>
              <p:nvPr/>
            </p:nvSpPr>
            <p:spPr>
              <a:xfrm>
                <a:off x="3428640" y="51814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838080" y="1447920"/>
              <a:ext cx="3047760" cy="4190760"/>
              <a:chOff x="838080" y="1447920"/>
              <a:chExt cx="3047760" cy="4190760"/>
            </a:xfrm>
          </p:grpSpPr>
          <p:sp>
            <p:nvSpPr>
              <p:cNvPr id="1991" name=""/>
              <p:cNvSpPr/>
              <p:nvPr/>
            </p:nvSpPr>
            <p:spPr>
              <a:xfrm>
                <a:off x="11426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90476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286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51424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67616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6680" y="2514240"/>
                <a:ext cx="2819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38080" y="5638680"/>
                <a:ext cx="2971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5268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7428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066680" y="198108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72040" y="144792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与非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2" name=""/>
          <p:cNvGrpSpPr/>
          <p:nvPr/>
        </p:nvGrpSpPr>
        <p:grpSpPr>
          <a:xfrm>
            <a:off x="914400" y="685800"/>
            <a:ext cx="4114800" cy="581400"/>
            <a:chOff x="914400" y="685800"/>
            <a:chExt cx="4114800" cy="581400"/>
          </a:xfrm>
        </p:grpSpPr>
        <p:grpSp>
          <p:nvGrpSpPr>
            <p:cNvPr id="2003" name=""/>
            <p:cNvGrpSpPr/>
            <p:nvPr/>
          </p:nvGrpSpPr>
          <p:grpSpPr>
            <a:xfrm>
              <a:off x="914400" y="685800"/>
              <a:ext cx="4062960" cy="581400"/>
              <a:chOff x="914400" y="685800"/>
              <a:chExt cx="4062960" cy="581400"/>
            </a:xfrm>
          </p:grpSpPr>
          <p:sp>
            <p:nvSpPr>
              <p:cNvPr id="2004" name=""/>
              <p:cNvSpPr/>
              <p:nvPr/>
            </p:nvSpPr>
            <p:spPr>
              <a:xfrm>
                <a:off x="3155400" y="685800"/>
                <a:ext cx="182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  B 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914400" y="70956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038840" y="9363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496040" y="9363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3809880" y="76176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800600" y="1523880"/>
            <a:ext cx="3200400" cy="1325520"/>
            <a:chOff x="4800600" y="1523880"/>
            <a:chExt cx="3200400" cy="1325520"/>
          </a:xfrm>
        </p:grpSpPr>
        <p:sp>
          <p:nvSpPr>
            <p:cNvPr id="2010" name=""/>
            <p:cNvSpPr/>
            <p:nvPr/>
          </p:nvSpPr>
          <p:spPr>
            <a:xfrm>
              <a:off x="74674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019920" y="1706400"/>
              <a:ext cx="83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257800" y="2209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57800" y="2544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73920" y="2286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17220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800600" y="1523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00600" y="1905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257800" y="19051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80060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58000" y="22096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1" name=""/>
          <p:cNvSpPr/>
          <p:nvPr/>
        </p:nvSpPr>
        <p:spPr>
          <a:xfrm>
            <a:off x="5680440" y="297180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与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762120" y="914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电压传输特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066680" y="1371600"/>
            <a:ext cx="563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电压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"/>
              </a:rPr>
              <a:t>O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与输入电压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5529240" y="3110040"/>
            <a:ext cx="790560" cy="1130040"/>
            <a:chOff x="5529240" y="3110040"/>
            <a:chExt cx="790560" cy="1130040"/>
          </a:xfrm>
        </p:grpSpPr>
        <p:sp>
          <p:nvSpPr>
            <p:cNvPr id="2025" name=""/>
            <p:cNvSpPr/>
            <p:nvPr/>
          </p:nvSpPr>
          <p:spPr>
            <a:xfrm>
              <a:off x="5529240" y="3110040"/>
              <a:ext cx="38088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921280" y="37195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5910120" y="4024440"/>
            <a:ext cx="1844280" cy="1003320"/>
            <a:chOff x="5910120" y="4024440"/>
            <a:chExt cx="1844280" cy="1003320"/>
          </a:xfrm>
        </p:grpSpPr>
        <p:grpSp>
          <p:nvGrpSpPr>
            <p:cNvPr id="2028" name=""/>
            <p:cNvGrpSpPr/>
            <p:nvPr/>
          </p:nvGrpSpPr>
          <p:grpSpPr>
            <a:xfrm>
              <a:off x="5910120" y="4024440"/>
              <a:ext cx="1676160" cy="1003320"/>
              <a:chOff x="5910120" y="4024440"/>
              <a:chExt cx="1676160" cy="1003320"/>
            </a:xfrm>
          </p:grpSpPr>
          <p:sp>
            <p:nvSpPr>
              <p:cNvPr id="2029" name=""/>
              <p:cNvSpPr/>
              <p:nvPr/>
            </p:nvSpPr>
            <p:spPr>
              <a:xfrm>
                <a:off x="5910120" y="4024440"/>
                <a:ext cx="228600" cy="1003320"/>
              </a:xfrm>
              <a:custGeom>
                <a:avLst/>
                <a:gdLst/>
                <a:ahLst/>
                <a:rect l="l" t="t" r="r" b="b"/>
                <a:pathLst>
                  <a:path w="144" h="632">
                    <a:moveTo>
                      <a:pt x="0" y="0"/>
                    </a:moveTo>
                    <a:cubicBezTo>
                      <a:pt x="12" y="212"/>
                      <a:pt x="24" y="424"/>
                      <a:pt x="48" y="528"/>
                    </a:cubicBezTo>
                    <a:cubicBezTo>
                      <a:pt x="72" y="632"/>
                      <a:pt x="108" y="628"/>
                      <a:pt x="144" y="6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38720" y="5014800"/>
                <a:ext cx="1447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1" name=""/>
            <p:cNvSpPr/>
            <p:nvPr/>
          </p:nvSpPr>
          <p:spPr>
            <a:xfrm>
              <a:off x="5996160" y="448164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81800" y="448164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 TTL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与非”门特性及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257800" y="54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压传输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209680" y="5715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测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4592520" y="1981080"/>
            <a:ext cx="4152960" cy="3685320"/>
            <a:chOff x="4592520" y="1981080"/>
            <a:chExt cx="4152960" cy="3685320"/>
          </a:xfrm>
        </p:grpSpPr>
        <p:grpSp>
          <p:nvGrpSpPr>
            <p:cNvPr id="2037" name=""/>
            <p:cNvGrpSpPr/>
            <p:nvPr/>
          </p:nvGrpSpPr>
          <p:grpSpPr>
            <a:xfrm>
              <a:off x="4994280" y="2665440"/>
              <a:ext cx="2728440" cy="2598120"/>
              <a:chOff x="4994280" y="2665440"/>
              <a:chExt cx="2728440" cy="2598120"/>
            </a:xfrm>
          </p:grpSpPr>
          <p:sp>
            <p:nvSpPr>
              <p:cNvPr id="2038" name=""/>
              <p:cNvSpPr/>
              <p:nvPr/>
            </p:nvSpPr>
            <p:spPr>
              <a:xfrm>
                <a:off x="4994280" y="46576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994280" y="39646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994280" y="32716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994280" y="266544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V="1">
                <a:off x="5871240" y="51768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6845760" y="51768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7722720" y="51768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"/>
            <p:cNvGrpSpPr/>
            <p:nvPr/>
          </p:nvGrpSpPr>
          <p:grpSpPr>
            <a:xfrm>
              <a:off x="4592520" y="2349360"/>
              <a:ext cx="3306240" cy="3287160"/>
              <a:chOff x="4592520" y="2349360"/>
              <a:chExt cx="3306240" cy="3287160"/>
            </a:xfrm>
          </p:grpSpPr>
          <p:sp>
            <p:nvSpPr>
              <p:cNvPr id="2046" name=""/>
              <p:cNvSpPr/>
              <p:nvPr/>
            </p:nvSpPr>
            <p:spPr>
              <a:xfrm>
                <a:off x="4592520" y="4944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63880" y="5115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38400" y="5115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515360" y="5115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592520" y="4338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592520" y="3646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592520" y="2955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592520" y="234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4994280" y="2076480"/>
              <a:ext cx="3158640" cy="3104640"/>
              <a:chOff x="4994280" y="2076480"/>
              <a:chExt cx="3158640" cy="3104640"/>
            </a:xfrm>
          </p:grpSpPr>
          <p:sp>
            <p:nvSpPr>
              <p:cNvPr id="2055" name=""/>
              <p:cNvSpPr/>
              <p:nvPr/>
            </p:nvSpPr>
            <p:spPr>
              <a:xfrm flipV="1">
                <a:off x="4994280" y="2076480"/>
                <a:ext cx="0" cy="310464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94280" y="5181120"/>
                <a:ext cx="315864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7" name=""/>
            <p:cNvSpPr/>
            <p:nvPr/>
          </p:nvSpPr>
          <p:spPr>
            <a:xfrm>
              <a:off x="7693200" y="5156280"/>
              <a:ext cx="105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18"/>
                  </a:solidFill>
                  <a:latin typeface=""/>
                </a:rPr>
                <a:t>   </a:t>
              </a:r>
              <a:r>
                <a:rPr b="1" i="1" lang="zh-CN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zh-CN" sz="2400" spc="-1" strike="noStrike" baseline="-25000">
                  <a:solidFill>
                    <a:srgbClr val="000018"/>
                  </a:solidFill>
                  <a:latin typeface=""/>
                </a:rPr>
                <a:t>i </a:t>
              </a: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035320" y="198108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838080" y="1981080"/>
            <a:ext cx="3905280" cy="3774960"/>
            <a:chOff x="838080" y="1981080"/>
            <a:chExt cx="3905280" cy="3774960"/>
          </a:xfrm>
        </p:grpSpPr>
        <p:sp>
          <p:nvSpPr>
            <p:cNvPr id="2060" name=""/>
            <p:cNvSpPr/>
            <p:nvPr/>
          </p:nvSpPr>
          <p:spPr>
            <a:xfrm>
              <a:off x="2800440" y="3089160"/>
              <a:ext cx="799920" cy="12780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19440" y="3641760"/>
              <a:ext cx="152280" cy="17136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952720" y="301284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95520" y="331776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495520" y="373680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495520" y="409896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52640" y="3717720"/>
              <a:ext cx="685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501640" y="3317760"/>
              <a:ext cx="0" cy="799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38080" y="3394080"/>
              <a:ext cx="209520" cy="6872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1047240" y="3738600"/>
              <a:ext cx="145404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181320" y="4365360"/>
              <a:ext cx="0" cy="1390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33480" y="4079880"/>
              <a:ext cx="0" cy="12571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923760" y="5308560"/>
              <a:ext cx="3511800" cy="93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933480" y="2526840"/>
              <a:ext cx="0" cy="857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181320" y="2250720"/>
              <a:ext cx="0" cy="8190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116160" y="211428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33480" y="2536560"/>
              <a:ext cx="2266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2194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42960" y="4251240"/>
              <a:ext cx="514440" cy="51444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085760" y="4267080"/>
              <a:ext cx="55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72040" y="4232160"/>
              <a:ext cx="514080" cy="51444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676680" y="4267080"/>
              <a:ext cx="65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1790640" y="3757320"/>
              <a:ext cx="0" cy="493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90640" y="4765680"/>
              <a:ext cx="0" cy="552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425840" y="4765680"/>
              <a:ext cx="0" cy="552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16480" y="3738600"/>
              <a:ext cx="0" cy="4842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479680" y="369396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581120" y="4235400"/>
              <a:ext cx="55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190760" y="423540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71560" y="369864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771560" y="525780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43160" y="529596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143160" y="251460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070080" y="5753160"/>
              <a:ext cx="2286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4622040" y="2819520"/>
            <a:ext cx="1316160" cy="545760"/>
            <a:chOff x="4622040" y="2819520"/>
            <a:chExt cx="1316160" cy="545760"/>
          </a:xfrm>
        </p:grpSpPr>
        <p:sp>
          <p:nvSpPr>
            <p:cNvPr id="2095" name=""/>
            <p:cNvSpPr/>
            <p:nvPr/>
          </p:nvSpPr>
          <p:spPr>
            <a:xfrm>
              <a:off x="4994280" y="312408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622040" y="28195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537880" y="28447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"/>
          <p:cNvGrpSpPr/>
          <p:nvPr/>
        </p:nvGrpSpPr>
        <p:grpSpPr>
          <a:xfrm>
            <a:off x="1119960" y="2652840"/>
            <a:ext cx="1315800" cy="545760"/>
            <a:chOff x="1119960" y="2652840"/>
            <a:chExt cx="1315800" cy="545760"/>
          </a:xfrm>
        </p:grpSpPr>
        <p:sp>
          <p:nvSpPr>
            <p:cNvPr id="2099" name=""/>
            <p:cNvSpPr/>
            <p:nvPr/>
          </p:nvSpPr>
          <p:spPr>
            <a:xfrm>
              <a:off x="1492200" y="2957400"/>
              <a:ext cx="532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119960" y="26528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035440" y="267804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2025720" y="2957400"/>
            <a:ext cx="38088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417760" y="35672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2406600" y="3871800"/>
            <a:ext cx="1676160" cy="1003320"/>
            <a:chOff x="2406600" y="3871800"/>
            <a:chExt cx="1676160" cy="1003320"/>
          </a:xfrm>
        </p:grpSpPr>
        <p:sp>
          <p:nvSpPr>
            <p:cNvPr id="2105" name=""/>
            <p:cNvSpPr/>
            <p:nvPr/>
          </p:nvSpPr>
          <p:spPr>
            <a:xfrm>
              <a:off x="2406600" y="3871800"/>
              <a:ext cx="228600" cy="1003320"/>
            </a:xfrm>
            <a:custGeom>
              <a:avLst/>
              <a:gdLst/>
              <a:ahLst/>
              <a:rect l="l" t="t" r="r" b="b"/>
              <a:pathLst>
                <a:path w="144" h="632">
                  <a:moveTo>
                    <a:pt x="0" y="0"/>
                  </a:moveTo>
                  <a:cubicBezTo>
                    <a:pt x="12" y="212"/>
                    <a:pt x="24" y="424"/>
                    <a:pt x="48" y="528"/>
                  </a:cubicBezTo>
                  <a:cubicBezTo>
                    <a:pt x="72" y="632"/>
                    <a:pt x="108" y="628"/>
                    <a:pt x="144" y="6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35200" y="4862160"/>
              <a:ext cx="1447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2492640" y="4329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78280" y="432900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990720" y="4572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TTL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非”门的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981080" y="54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压传输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191120" y="2514600"/>
            <a:ext cx="2361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典型值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3.6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4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177960" y="4495680"/>
            <a:ext cx="194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典型值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0.3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0.4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465200" y="2957400"/>
            <a:ext cx="6098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558880" y="4857840"/>
            <a:ext cx="1524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831400" y="1583640"/>
            <a:ext cx="2511000" cy="625680"/>
          </a:xfrm>
          <a:prstGeom prst="wedgeRoundRectCallout">
            <a:avLst>
              <a:gd name="adj1" fmla="val -85532"/>
              <a:gd name="adj2" fmla="val 154310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出高电平电压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445280" y="3717000"/>
            <a:ext cx="2466360" cy="625680"/>
          </a:xfrm>
          <a:prstGeom prst="wedgeRoundRectCallout">
            <a:avLst>
              <a:gd name="adj1" fmla="val -68138"/>
              <a:gd name="adj2" fmla="val 124064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出低电平电压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40040" y="990720"/>
            <a:ext cx="472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高电平电压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H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输出低电平电压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1055520" y="1828800"/>
            <a:ext cx="4919760" cy="3795840"/>
            <a:chOff x="1055520" y="1828800"/>
            <a:chExt cx="4919760" cy="3795840"/>
          </a:xfrm>
        </p:grpSpPr>
        <p:sp>
          <p:nvSpPr>
            <p:cNvPr id="2119" name=""/>
            <p:cNvSpPr/>
            <p:nvPr/>
          </p:nvSpPr>
          <p:spPr>
            <a:xfrm>
              <a:off x="1530000" y="182880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1457280" y="2570040"/>
              <a:ext cx="2728440" cy="2598120"/>
              <a:chOff x="1457280" y="2570040"/>
              <a:chExt cx="2728440" cy="2598120"/>
            </a:xfrm>
          </p:grpSpPr>
          <p:sp>
            <p:nvSpPr>
              <p:cNvPr id="2121" name=""/>
              <p:cNvSpPr/>
              <p:nvPr/>
            </p:nvSpPr>
            <p:spPr>
              <a:xfrm>
                <a:off x="1457280" y="45622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457280" y="38692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457280" y="317628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457280" y="2570040"/>
                <a:ext cx="9684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2334240" y="50814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3308760" y="50814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4185720" y="5081400"/>
                <a:ext cx="0" cy="8676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1055520" y="2254320"/>
              <a:ext cx="3306240" cy="3286800"/>
              <a:chOff x="1055520" y="2254320"/>
              <a:chExt cx="3306240" cy="3286800"/>
            </a:xfrm>
          </p:grpSpPr>
          <p:sp>
            <p:nvSpPr>
              <p:cNvPr id="2129" name=""/>
              <p:cNvSpPr/>
              <p:nvPr/>
            </p:nvSpPr>
            <p:spPr>
              <a:xfrm>
                <a:off x="1055520" y="4848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126880" y="5020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101400" y="5020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978360" y="5020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055520" y="4242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055520" y="3551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055520" y="2860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055520" y="2254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1457280" y="1981080"/>
              <a:ext cx="3700080" cy="3119040"/>
              <a:chOff x="1457280" y="1981080"/>
              <a:chExt cx="3700080" cy="3119040"/>
            </a:xfrm>
          </p:grpSpPr>
          <p:sp>
            <p:nvSpPr>
              <p:cNvPr id="2138" name=""/>
              <p:cNvSpPr/>
              <p:nvPr/>
            </p:nvSpPr>
            <p:spPr>
              <a:xfrm flipV="1">
                <a:off x="1457280" y="1981080"/>
                <a:ext cx="0" cy="311904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457280" y="5100120"/>
                <a:ext cx="370008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>
              <a:off x="4829400" y="5045040"/>
              <a:ext cx="114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18"/>
                  </a:solidFill>
                  <a:latin typeface=""/>
                </a:rPr>
                <a:t>   </a:t>
              </a:r>
              <a:r>
                <a:rPr b="1" i="1" lang="zh-CN" sz="28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zh-CN" sz="2800" spc="-1" strike="noStrike" baseline="-25000">
                  <a:solidFill>
                    <a:srgbClr val="000018"/>
                  </a:solidFill>
                  <a:latin typeface=""/>
                </a:rPr>
                <a:t>i </a:t>
              </a:r>
              <a:r>
                <a:rPr b="1" lang="zh-CN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71080" y="28195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模拟信号：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随时间连续变化的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脉冲信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91480" y="1629720"/>
            <a:ext cx="4584960" cy="1130040"/>
            <a:chOff x="1491480" y="1629720"/>
            <a:chExt cx="4584960" cy="1130040"/>
          </a:xfrm>
        </p:grpSpPr>
        <p:grpSp>
          <p:nvGrpSpPr>
            <p:cNvPr id="69" name=""/>
            <p:cNvGrpSpPr/>
            <p:nvPr/>
          </p:nvGrpSpPr>
          <p:grpSpPr>
            <a:xfrm>
              <a:off x="4419720" y="1629720"/>
              <a:ext cx="1656720" cy="1130040"/>
              <a:chOff x="4419720" y="1629720"/>
              <a:chExt cx="1656720" cy="1130040"/>
            </a:xfrm>
          </p:grpSpPr>
          <p:sp>
            <p:nvSpPr>
              <p:cNvPr id="70" name=""/>
              <p:cNvSpPr/>
              <p:nvPr/>
            </p:nvSpPr>
            <p:spPr>
              <a:xfrm>
                <a:off x="4419720" y="1752480"/>
                <a:ext cx="228600" cy="9903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65840" y="1629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"/>
                  </a:rPr>
                  <a:t>模拟信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42160" y="22392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"/>
                  </a:rPr>
                  <a:t>数字信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491480" y="191124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电子电路中的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模拟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400" y="3429000"/>
            <a:ext cx="5986440" cy="1447920"/>
            <a:chOff x="914400" y="3429000"/>
            <a:chExt cx="5986440" cy="1447920"/>
          </a:xfrm>
        </p:grpSpPr>
        <p:sp>
          <p:nvSpPr>
            <p:cNvPr id="76" name=""/>
            <p:cNvSpPr/>
            <p:nvPr/>
          </p:nvSpPr>
          <p:spPr>
            <a:xfrm>
              <a:off x="914400" y="3505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正弦波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276720" y="3429000"/>
              <a:ext cx="3624120" cy="1447920"/>
              <a:chOff x="3276720" y="3429000"/>
              <a:chExt cx="3624120" cy="144792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3284640" y="3783240"/>
                <a:ext cx="2630160" cy="1093680"/>
                <a:chOff x="3284640" y="3783240"/>
                <a:chExt cx="2630160" cy="1093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84640" y="3783240"/>
                  <a:ext cx="87948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4164120" y="4327560"/>
                  <a:ext cx="87912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035320" y="3783240"/>
                  <a:ext cx="87948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V="1">
                <a:off x="3276720" y="4343040"/>
                <a:ext cx="30560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332760" y="4038840"/>
                <a:ext cx="56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284640" y="342900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1275480" y="4723920"/>
            <a:ext cx="5259600" cy="1374480"/>
            <a:chOff x="1275480" y="4723920"/>
            <a:chExt cx="5259600" cy="1374480"/>
          </a:xfrm>
        </p:grpSpPr>
        <p:sp>
          <p:nvSpPr>
            <p:cNvPr id="86" name=""/>
            <p:cNvSpPr/>
            <p:nvPr/>
          </p:nvSpPr>
          <p:spPr>
            <a:xfrm>
              <a:off x="1275480" y="480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三角波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276720" y="4723920"/>
              <a:ext cx="3258360" cy="1374480"/>
              <a:chOff x="3276720" y="4723920"/>
              <a:chExt cx="3258360" cy="137448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76720" y="5333760"/>
                <a:ext cx="2590200" cy="525600"/>
                <a:chOff x="3276720" y="5333760"/>
                <a:chExt cx="2590200" cy="52560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3276720" y="5333760"/>
                  <a:ext cx="863280" cy="525600"/>
                  <a:chOff x="3276720" y="5333760"/>
                  <a:chExt cx="863280" cy="5256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V="1">
                    <a:off x="327672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31040" y="5333760"/>
                    <a:ext cx="40896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140360" y="5333760"/>
                  <a:ext cx="862920" cy="525600"/>
                  <a:chOff x="4140360" y="5333760"/>
                  <a:chExt cx="862920" cy="5256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V="1">
                    <a:off x="414036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594680" y="5333760"/>
                    <a:ext cx="40860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5003640" y="5333760"/>
                  <a:ext cx="863280" cy="525600"/>
                  <a:chOff x="5003640" y="5333760"/>
                  <a:chExt cx="863280" cy="5256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500364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457960" y="5333760"/>
                    <a:ext cx="40896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" name=""/>
              <p:cNvSpPr/>
              <p:nvPr/>
            </p:nvSpPr>
            <p:spPr>
              <a:xfrm flipV="1">
                <a:off x="3276720" y="4723920"/>
                <a:ext cx="0" cy="116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9440" y="563868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76720" y="5867280"/>
                <a:ext cx="29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1" name=""/>
          <p:cNvGrpSpPr/>
          <p:nvPr/>
        </p:nvGrpSpPr>
        <p:grpSpPr>
          <a:xfrm>
            <a:off x="1283040" y="1903320"/>
            <a:ext cx="1570320" cy="547200"/>
            <a:chOff x="1283040" y="1903320"/>
            <a:chExt cx="1570320" cy="547200"/>
          </a:xfrm>
        </p:grpSpPr>
        <p:sp>
          <p:nvSpPr>
            <p:cNvPr id="2142" name=""/>
            <p:cNvSpPr/>
            <p:nvPr/>
          </p:nvSpPr>
          <p:spPr>
            <a:xfrm>
              <a:off x="1761840" y="2249280"/>
              <a:ext cx="681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83040" y="19033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53040" y="192996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2286000" y="2209680"/>
            <a:ext cx="488880" cy="1127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2773440" y="3276720"/>
            <a:ext cx="1488960" cy="1144080"/>
            <a:chOff x="2773440" y="3276720"/>
            <a:chExt cx="1488960" cy="1144080"/>
          </a:xfrm>
        </p:grpSpPr>
        <p:sp>
          <p:nvSpPr>
            <p:cNvPr id="2147" name=""/>
            <p:cNvSpPr/>
            <p:nvPr/>
          </p:nvSpPr>
          <p:spPr>
            <a:xfrm>
              <a:off x="2773440" y="3276720"/>
              <a:ext cx="203040" cy="1144080"/>
            </a:xfrm>
            <a:custGeom>
              <a:avLst/>
              <a:gdLst/>
              <a:ahLst/>
              <a:rect l="l" t="t" r="r" b="b"/>
              <a:pathLst>
                <a:path w="144" h="632">
                  <a:moveTo>
                    <a:pt x="0" y="0"/>
                  </a:moveTo>
                  <a:cubicBezTo>
                    <a:pt x="12" y="212"/>
                    <a:pt x="24" y="424"/>
                    <a:pt x="48" y="528"/>
                  </a:cubicBezTo>
                  <a:cubicBezTo>
                    <a:pt x="72" y="632"/>
                    <a:pt x="108" y="628"/>
                    <a:pt x="144" y="6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976480" y="4406040"/>
              <a:ext cx="1285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2880000" y="37958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057920" y="388764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838160" y="4560840"/>
            <a:ext cx="5670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2362320" y="2437920"/>
            <a:ext cx="0" cy="20624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1828800" y="4571640"/>
            <a:ext cx="528480" cy="609480"/>
            <a:chOff x="1828800" y="4571640"/>
            <a:chExt cx="528480" cy="609480"/>
          </a:xfrm>
        </p:grpSpPr>
        <p:sp>
          <p:nvSpPr>
            <p:cNvPr id="2154" name=""/>
            <p:cNvSpPr/>
            <p:nvPr/>
          </p:nvSpPr>
          <p:spPr>
            <a:xfrm flipH="1">
              <a:off x="1828800" y="5126040"/>
              <a:ext cx="528480" cy="0"/>
            </a:xfrm>
            <a:prstGeom prst="line">
              <a:avLst/>
            </a:prstGeom>
            <a:ln cap="sq" w="28440">
              <a:solidFill>
                <a:srgbClr val="00001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2357280" y="45716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828800" y="45716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7" name=""/>
          <p:cNvSpPr/>
          <p:nvPr/>
        </p:nvSpPr>
        <p:spPr>
          <a:xfrm>
            <a:off x="5257800" y="762120"/>
            <a:ext cx="3200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低电平噪声容限电压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</a:rPr>
              <a:t>NL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保证输出高电平电压不低于额定值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90%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条件下所允许叠加在输入低电平电压上的最大噪声（或干扰）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</a:rPr>
              <a:t>NL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=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</a:rPr>
              <a:t>OFF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–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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057400" y="5562720"/>
            <a:ext cx="2438280" cy="533160"/>
          </a:xfrm>
          <a:prstGeom prst="wedgeEllipseCallout">
            <a:avLst>
              <a:gd name="adj1" fmla="val -41990"/>
              <a:gd name="adj2" fmla="val -12797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允许叠加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12160" y="6094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定量说明门电路抗干扰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33680" y="2246400"/>
            <a:ext cx="6858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928960" y="4408560"/>
            <a:ext cx="1409760" cy="1260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319480" y="2286000"/>
            <a:ext cx="115920" cy="2286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567880" y="4708080"/>
            <a:ext cx="783720" cy="550440"/>
          </a:xfrm>
          <a:prstGeom prst="wedgeRoundRectCallout">
            <a:avLst>
              <a:gd name="adj1" fmla="val -78967"/>
              <a:gd name="adj2" fmla="val -7973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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495680" y="4876920"/>
            <a:ext cx="4114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  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FF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保证输出为额定高电平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所对应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最大输入低电平电压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676520" y="251460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292560" y="1583640"/>
            <a:ext cx="1352160" cy="625680"/>
          </a:xfrm>
          <a:prstGeom prst="wedgeRoundRectCallout">
            <a:avLst>
              <a:gd name="adj1" fmla="val -118083"/>
              <a:gd name="adj2" fmla="val 9468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0.9</a:t>
            </a:r>
            <a:r>
              <a:rPr b="1" i="1" lang="en-US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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048120" y="2501640"/>
            <a:ext cx="1358640" cy="1340280"/>
          </a:xfrm>
          <a:prstGeom prst="wedgeRoundRectCallout">
            <a:avLst>
              <a:gd name="adj1" fmla="val -118208"/>
              <a:gd name="adj2" fmla="val 100425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低电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电压</a:t>
            </a:r>
            <a:r>
              <a:rPr b="1" i="1" lang="zh-CN" sz="24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1284480" y="1371600"/>
            <a:ext cx="4349520" cy="3727440"/>
            <a:chOff x="1284480" y="1371600"/>
            <a:chExt cx="4349520" cy="3727440"/>
          </a:xfrm>
        </p:grpSpPr>
        <p:grpSp>
          <p:nvGrpSpPr>
            <p:cNvPr id="2169" name=""/>
            <p:cNvGrpSpPr/>
            <p:nvPr/>
          </p:nvGrpSpPr>
          <p:grpSpPr>
            <a:xfrm>
              <a:off x="1284480" y="1518840"/>
              <a:ext cx="4349520" cy="3580200"/>
              <a:chOff x="1284480" y="1518840"/>
              <a:chExt cx="4349520" cy="3580200"/>
            </a:xfrm>
          </p:grpSpPr>
          <p:grpSp>
            <p:nvGrpSpPr>
              <p:cNvPr id="2170" name=""/>
              <p:cNvGrpSpPr/>
              <p:nvPr/>
            </p:nvGrpSpPr>
            <p:grpSpPr>
              <a:xfrm>
                <a:off x="1627200" y="2095560"/>
                <a:ext cx="2317320" cy="2544480"/>
                <a:chOff x="1627200" y="2095560"/>
                <a:chExt cx="2317320" cy="254448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1627200" y="40464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627200" y="33678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627200" y="26892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1627200" y="209556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237204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319968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394452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1284480" y="1785960"/>
                <a:ext cx="2866320" cy="3232800"/>
                <a:chOff x="1284480" y="1785960"/>
                <a:chExt cx="2866320" cy="323280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1284480" y="43264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19816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30222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37674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284480" y="3733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284480" y="305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284480" y="23781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284480" y="178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7" name=""/>
              <p:cNvGrpSpPr/>
              <p:nvPr/>
            </p:nvGrpSpPr>
            <p:grpSpPr>
              <a:xfrm>
                <a:off x="1627200" y="1518840"/>
                <a:ext cx="3142800" cy="3054240"/>
                <a:chOff x="1627200" y="1518840"/>
                <a:chExt cx="3142800" cy="3054240"/>
              </a:xfrm>
            </p:grpSpPr>
            <p:sp>
              <p:nvSpPr>
                <p:cNvPr id="2188" name=""/>
                <p:cNvSpPr/>
                <p:nvPr/>
              </p:nvSpPr>
              <p:spPr>
                <a:xfrm flipV="1">
                  <a:off x="1627200" y="1518840"/>
                  <a:ext cx="0" cy="305388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627200" y="4573080"/>
                  <a:ext cx="31428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0" name=""/>
              <p:cNvSpPr/>
              <p:nvPr/>
            </p:nvSpPr>
            <p:spPr>
              <a:xfrm>
                <a:off x="4488120" y="4519440"/>
                <a:ext cx="114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18"/>
                    </a:solidFill>
                    <a:latin typeface=""/>
                  </a:rPr>
                  <a:t>   </a:t>
                </a:r>
                <a:r>
                  <a:rPr b="1" i="1" lang="zh-CN" sz="2800" spc="-1" strike="noStrike">
                    <a:solidFill>
                      <a:srgbClr val="000018"/>
                    </a:solidFill>
                    <a:latin typeface="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0018"/>
                    </a:solidFill>
                    <a:latin typeface=""/>
                  </a:rPr>
                  <a:t>i 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"/>
                  </a:rPr>
                  <a:t>/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1" name=""/>
            <p:cNvSpPr/>
            <p:nvPr/>
          </p:nvSpPr>
          <p:spPr>
            <a:xfrm>
              <a:off x="1682640" y="137160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"/>
          <p:cNvSpPr/>
          <p:nvPr/>
        </p:nvSpPr>
        <p:spPr>
          <a:xfrm>
            <a:off x="3888720" y="1506960"/>
            <a:ext cx="1269360" cy="1547280"/>
          </a:xfrm>
          <a:prstGeom prst="wedgeRoundRectCallout">
            <a:avLst>
              <a:gd name="adj1" fmla="val -1208"/>
              <a:gd name="adj2" fmla="val 14069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高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电压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946440" y="1905120"/>
            <a:ext cx="1570320" cy="547200"/>
            <a:chOff x="946440" y="1905120"/>
            <a:chExt cx="1570320" cy="547200"/>
          </a:xfrm>
        </p:grpSpPr>
        <p:sp>
          <p:nvSpPr>
            <p:cNvPr id="2194" name=""/>
            <p:cNvSpPr/>
            <p:nvPr/>
          </p:nvSpPr>
          <p:spPr>
            <a:xfrm>
              <a:off x="1425240" y="2251080"/>
              <a:ext cx="681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946440" y="19051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116440" y="193176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7" name=""/>
          <p:cNvSpPr/>
          <p:nvPr/>
        </p:nvSpPr>
        <p:spPr>
          <a:xfrm>
            <a:off x="2101680" y="2209680"/>
            <a:ext cx="489240" cy="1127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2787480" y="4549680"/>
            <a:ext cx="17100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715000" y="668160"/>
            <a:ext cx="281952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高电平噪声容限电压</a:t>
            </a:r>
            <a:r>
              <a:rPr b="1" i="1" lang="zh-CN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"/>
              </a:rPr>
              <a:t>NH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保证输出低电平电压的条件下所允许叠加在输入高 电平电压上的最大噪声（或干扰）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"/>
              </a:rPr>
              <a:t>NH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=</a:t>
            </a:r>
            <a:r>
              <a:rPr b="1" i="1" lang="zh-CN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"/>
              </a:rPr>
              <a:t>IH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–</a:t>
            </a:r>
            <a:r>
              <a:rPr b="1" i="1" lang="zh-CN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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58880" y="3201840"/>
            <a:ext cx="2438640" cy="533520"/>
          </a:xfrm>
          <a:prstGeom prst="wedgeEllipseCallout">
            <a:avLst>
              <a:gd name="adj1" fmla="val -1888"/>
              <a:gd name="adj2" fmla="val 113393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允许叠加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636200" y="533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定量说明门电路抗干扰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415880" y="2246400"/>
            <a:ext cx="6858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432880" y="4785480"/>
            <a:ext cx="817560" cy="625680"/>
          </a:xfrm>
          <a:prstGeom prst="wedgeRoundRectCallout">
            <a:avLst>
              <a:gd name="adj1" fmla="val -10875"/>
              <a:gd name="adj2" fmla="val -87722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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962520" y="4952880"/>
            <a:ext cx="4114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  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保证输出为额定低电平时所对应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最小输入高电平电压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2787480" y="4040280"/>
            <a:ext cx="1752480" cy="533160"/>
            <a:chOff x="2787480" y="4040280"/>
            <a:chExt cx="1752480" cy="533160"/>
          </a:xfrm>
        </p:grpSpPr>
        <p:sp>
          <p:nvSpPr>
            <p:cNvPr id="2206" name=""/>
            <p:cNvSpPr/>
            <p:nvPr/>
          </p:nvSpPr>
          <p:spPr>
            <a:xfrm flipH="1">
              <a:off x="2787480" y="4088520"/>
              <a:ext cx="1752480" cy="0"/>
            </a:xfrm>
            <a:prstGeom prst="line">
              <a:avLst/>
            </a:prstGeom>
            <a:ln cap="sq" w="38160">
              <a:solidFill>
                <a:srgbClr val="3333cc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539960" y="404028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04028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9" name=""/>
          <p:cNvGrpSpPr/>
          <p:nvPr/>
        </p:nvGrpSpPr>
        <p:grpSpPr>
          <a:xfrm>
            <a:off x="2558880" y="3281400"/>
            <a:ext cx="2247840" cy="1139400"/>
            <a:chOff x="2558880" y="3281400"/>
            <a:chExt cx="2247840" cy="1139400"/>
          </a:xfrm>
        </p:grpSpPr>
        <p:grpSp>
          <p:nvGrpSpPr>
            <p:cNvPr id="2210" name=""/>
            <p:cNvGrpSpPr/>
            <p:nvPr/>
          </p:nvGrpSpPr>
          <p:grpSpPr>
            <a:xfrm>
              <a:off x="2558880" y="3281400"/>
              <a:ext cx="2142360" cy="1139400"/>
              <a:chOff x="2558880" y="3281400"/>
              <a:chExt cx="2142360" cy="1139400"/>
            </a:xfrm>
          </p:grpSpPr>
          <p:sp>
            <p:nvSpPr>
              <p:cNvPr id="2211" name=""/>
              <p:cNvSpPr/>
              <p:nvPr/>
            </p:nvSpPr>
            <p:spPr>
              <a:xfrm>
                <a:off x="2558880" y="3281400"/>
                <a:ext cx="291960" cy="1139400"/>
              </a:xfrm>
              <a:custGeom>
                <a:avLst/>
                <a:gdLst/>
                <a:ahLst/>
                <a:rect l="l" t="t" r="r" b="b"/>
                <a:pathLst>
                  <a:path w="144" h="632">
                    <a:moveTo>
                      <a:pt x="0" y="0"/>
                    </a:moveTo>
                    <a:cubicBezTo>
                      <a:pt x="12" y="212"/>
                      <a:pt x="24" y="424"/>
                      <a:pt x="48" y="528"/>
                    </a:cubicBezTo>
                    <a:cubicBezTo>
                      <a:pt x="72" y="632"/>
                      <a:pt x="108" y="628"/>
                      <a:pt x="144" y="624"/>
                    </a:cubicBezTo>
                  </a:path>
                </a:pathLst>
              </a:custGeom>
              <a:noFill/>
              <a:ln w="38160">
                <a:solidFill>
                  <a:srgbClr val="0000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850840" y="4406040"/>
                <a:ext cx="18504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"/>
            <p:cNvSpPr/>
            <p:nvPr/>
          </p:nvSpPr>
          <p:spPr>
            <a:xfrm>
              <a:off x="2665440" y="3800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34120" y="38005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5" name=""/>
          <p:cNvSpPr/>
          <p:nvPr/>
        </p:nvSpPr>
        <p:spPr>
          <a:xfrm>
            <a:off x="2749680" y="4408560"/>
            <a:ext cx="1981080" cy="0"/>
          </a:xfrm>
          <a:prstGeom prst="line">
            <a:avLst/>
          </a:prstGeom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055880" y="1371600"/>
            <a:ext cx="4349520" cy="3727440"/>
            <a:chOff x="1055880" y="1371600"/>
            <a:chExt cx="4349520" cy="3727440"/>
          </a:xfrm>
        </p:grpSpPr>
        <p:grpSp>
          <p:nvGrpSpPr>
            <p:cNvPr id="2217" name=""/>
            <p:cNvGrpSpPr/>
            <p:nvPr/>
          </p:nvGrpSpPr>
          <p:grpSpPr>
            <a:xfrm>
              <a:off x="1055880" y="1518840"/>
              <a:ext cx="4349520" cy="3580200"/>
              <a:chOff x="1055880" y="1518840"/>
              <a:chExt cx="4349520" cy="3580200"/>
            </a:xfrm>
          </p:grpSpPr>
          <p:grpSp>
            <p:nvGrpSpPr>
              <p:cNvPr id="2218" name=""/>
              <p:cNvGrpSpPr/>
              <p:nvPr/>
            </p:nvGrpSpPr>
            <p:grpSpPr>
              <a:xfrm>
                <a:off x="1398600" y="2095560"/>
                <a:ext cx="2317320" cy="2544480"/>
                <a:chOff x="1398600" y="2095560"/>
                <a:chExt cx="2317320" cy="254448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1398600" y="40464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398600" y="33678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398600" y="26892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398600" y="209556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V="1">
                  <a:off x="214344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V="1">
                  <a:off x="297108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V="1">
                  <a:off x="371592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1055880" y="1785960"/>
                <a:ext cx="2866320" cy="3232800"/>
                <a:chOff x="1055880" y="1785960"/>
                <a:chExt cx="2866320" cy="323280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055880" y="43264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96956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27936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35388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055880" y="3733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055880" y="305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055880" y="23781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055880" y="178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1398600" y="1518840"/>
                <a:ext cx="3142800" cy="3054240"/>
                <a:chOff x="1398600" y="1518840"/>
                <a:chExt cx="3142800" cy="3054240"/>
              </a:xfrm>
            </p:grpSpPr>
            <p:sp>
              <p:nvSpPr>
                <p:cNvPr id="2236" name=""/>
                <p:cNvSpPr/>
                <p:nvPr/>
              </p:nvSpPr>
              <p:spPr>
                <a:xfrm flipV="1">
                  <a:off x="1398600" y="1518840"/>
                  <a:ext cx="0" cy="305388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398600" y="4573080"/>
                  <a:ext cx="31428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8" name=""/>
              <p:cNvSpPr/>
              <p:nvPr/>
            </p:nvSpPr>
            <p:spPr>
              <a:xfrm>
                <a:off x="4259520" y="4519440"/>
                <a:ext cx="114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18"/>
                    </a:solidFill>
                    <a:latin typeface=""/>
                  </a:rPr>
                  <a:t>   </a:t>
                </a:r>
                <a:r>
                  <a:rPr b="1" i="1" lang="zh-CN" sz="2800" spc="-1" strike="noStrike">
                    <a:solidFill>
                      <a:srgbClr val="000018"/>
                    </a:solidFill>
                    <a:latin typeface="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0018"/>
                    </a:solidFill>
                    <a:latin typeface=""/>
                  </a:rPr>
                  <a:t>i </a:t>
                </a:r>
                <a:r>
                  <a:rPr b="1" lang="zh-CN" sz="2400" spc="-1" strike="noStrike">
                    <a:solidFill>
                      <a:srgbClr val="000018"/>
                    </a:solidFill>
                    <a:latin typeface=""/>
                  </a:rPr>
                  <a:t>/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9" name=""/>
            <p:cNvSpPr/>
            <p:nvPr/>
          </p:nvSpPr>
          <p:spPr>
            <a:xfrm>
              <a:off x="1454040" y="137160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685800" y="1177920"/>
            <a:ext cx="7696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指一个“与非”门能带同类门的最大数目，它表示带负载的能力。对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TTL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非”门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8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85800" y="220968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入高电平电流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IH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输入低电平电流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09480" y="2743200"/>
            <a:ext cx="7925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高电平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其余输入端接低电 平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流入该输入端的电流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称为高电平输入电流 </a:t>
            </a:r>
            <a:r>
              <a:rPr b="1" i="1" lang="zh-CN" sz="2800" spc="-1" strike="noStrike">
                <a:solidFill>
                  <a:srgbClr val="006600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"/>
              </a:rPr>
              <a:t>IH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09480" y="4191120"/>
            <a:ext cx="7772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低电平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其余输入端接高电平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流出该输入端的电流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称为低电平输入电流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mA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38880" y="669960"/>
            <a:ext cx="155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扇出系数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>
            <a:off x="5018400" y="685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961000" y="114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85800" y="41911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低电平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其余输入端接高电平时，流出该输入端的电流，称为低电平输入电流 </a:t>
            </a:r>
            <a:r>
              <a:rPr b="1" i="1" lang="zh-CN" sz="2800" spc="-1" strike="noStrike">
                <a:solidFill>
                  <a:srgbClr val="006600"/>
                </a:solidFill>
                <a:latin typeface=""/>
              </a:rPr>
              <a:t>I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"/>
              </a:rPr>
              <a:t>IL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mA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0880" y="3048120"/>
            <a:ext cx="8382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若要保证输出为高电平，则对电阻值有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R 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&lt;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3276720" y="1523880"/>
            <a:ext cx="1828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1066680" y="914400"/>
            <a:ext cx="7179480" cy="1891440"/>
            <a:chOff x="1066680" y="914400"/>
            <a:chExt cx="7179480" cy="1891440"/>
          </a:xfrm>
        </p:grpSpPr>
        <p:sp>
          <p:nvSpPr>
            <p:cNvPr id="2251" name=""/>
            <p:cNvSpPr/>
            <p:nvPr/>
          </p:nvSpPr>
          <p:spPr>
            <a:xfrm>
              <a:off x="1828800" y="91440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2" name=""/>
            <p:cNvGrpSpPr/>
            <p:nvPr/>
          </p:nvGrpSpPr>
          <p:grpSpPr>
            <a:xfrm>
              <a:off x="1219320" y="1295280"/>
              <a:ext cx="609480" cy="914400"/>
              <a:chOff x="1219320" y="1295280"/>
              <a:chExt cx="609480" cy="914400"/>
            </a:xfrm>
          </p:grpSpPr>
          <p:sp>
            <p:nvSpPr>
              <p:cNvPr id="2253" name=""/>
              <p:cNvSpPr/>
              <p:nvPr/>
            </p:nvSpPr>
            <p:spPr>
              <a:xfrm>
                <a:off x="121932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19320" y="1752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19320" y="22096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>
              <a:off x="1066680" y="1219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066680" y="16765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7180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124080" y="1752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133720" y="990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867280" y="91440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5257800" y="1295280"/>
              <a:ext cx="609480" cy="914400"/>
              <a:chOff x="5257800" y="1295280"/>
              <a:chExt cx="609480" cy="914400"/>
            </a:xfrm>
          </p:grpSpPr>
          <p:sp>
            <p:nvSpPr>
              <p:cNvPr id="2264" name=""/>
              <p:cNvSpPr/>
              <p:nvPr/>
            </p:nvSpPr>
            <p:spPr>
              <a:xfrm>
                <a:off x="52578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257800" y="1752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257800" y="22096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"/>
            <p:cNvSpPr/>
            <p:nvPr/>
          </p:nvSpPr>
          <p:spPr>
            <a:xfrm>
              <a:off x="5105520" y="1219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10552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105520" y="2133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010280" y="16765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162920" y="1752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172200" y="990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772400" y="1371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18"/>
                  </a:solidFill>
                  <a:latin typeface="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18400" y="228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832160" y="1767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733920" y="1636560"/>
              <a:ext cx="685800" cy="260640"/>
            </a:xfrm>
            <a:prstGeom prst="rect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906000" y="193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419720" y="1752480"/>
              <a:ext cx="914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685800" y="8380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平均传输延迟时间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1523880" y="1676160"/>
            <a:ext cx="3886200" cy="1067040"/>
            <a:chOff x="1523880" y="1676160"/>
            <a:chExt cx="3886200" cy="1067040"/>
          </a:xfrm>
        </p:grpSpPr>
        <p:sp>
          <p:nvSpPr>
            <p:cNvPr id="2281" name=""/>
            <p:cNvSpPr/>
            <p:nvPr/>
          </p:nvSpPr>
          <p:spPr>
            <a:xfrm>
              <a:off x="1523880" y="274320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2209680" y="1676160"/>
              <a:ext cx="38088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590560" y="1676520"/>
              <a:ext cx="1523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14440" y="1676520"/>
              <a:ext cx="38124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95680" y="27432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1599840" y="3353040"/>
            <a:ext cx="3886200" cy="1067040"/>
            <a:chOff x="1599840" y="3353040"/>
            <a:chExt cx="3886200" cy="1067040"/>
          </a:xfrm>
        </p:grpSpPr>
        <p:sp>
          <p:nvSpPr>
            <p:cNvPr id="2287" name=""/>
            <p:cNvSpPr/>
            <p:nvPr/>
          </p:nvSpPr>
          <p:spPr>
            <a:xfrm flipH="1">
              <a:off x="4800240" y="335304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4419360" y="3353400"/>
              <a:ext cx="38088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2895480" y="4419720"/>
              <a:ext cx="1523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 flipV="1">
              <a:off x="2514240" y="3353040"/>
              <a:ext cx="38124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1599840" y="335304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1828800" y="2133720"/>
            <a:ext cx="3352680" cy="1828800"/>
            <a:chOff x="1828800" y="2133720"/>
            <a:chExt cx="3352680" cy="1828800"/>
          </a:xfrm>
        </p:grpSpPr>
        <p:sp>
          <p:nvSpPr>
            <p:cNvPr id="2293" name=""/>
            <p:cNvSpPr/>
            <p:nvPr/>
          </p:nvSpPr>
          <p:spPr>
            <a:xfrm>
              <a:off x="1828800" y="2133720"/>
              <a:ext cx="327672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905120" y="3962520"/>
              <a:ext cx="32763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2438280" y="2133720"/>
            <a:ext cx="304920" cy="3200400"/>
            <a:chOff x="2438280" y="2133720"/>
            <a:chExt cx="304920" cy="3200400"/>
          </a:xfrm>
        </p:grpSpPr>
        <p:sp>
          <p:nvSpPr>
            <p:cNvPr id="2296" name=""/>
            <p:cNvSpPr/>
            <p:nvPr/>
          </p:nvSpPr>
          <p:spPr>
            <a:xfrm>
              <a:off x="2438280" y="2133720"/>
              <a:ext cx="0" cy="32004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743200" y="396252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4267080" y="2133720"/>
            <a:ext cx="304920" cy="3200400"/>
            <a:chOff x="4267080" y="2133720"/>
            <a:chExt cx="304920" cy="3200400"/>
          </a:xfrm>
        </p:grpSpPr>
        <p:sp>
          <p:nvSpPr>
            <p:cNvPr id="2299" name=""/>
            <p:cNvSpPr/>
            <p:nvPr/>
          </p:nvSpPr>
          <p:spPr>
            <a:xfrm>
              <a:off x="4267080" y="2133720"/>
              <a:ext cx="0" cy="32004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572000" y="396252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685800" y="1828800"/>
            <a:ext cx="990720" cy="2349360"/>
            <a:chOff x="685800" y="1828800"/>
            <a:chExt cx="990720" cy="2349360"/>
          </a:xfrm>
        </p:grpSpPr>
        <p:sp>
          <p:nvSpPr>
            <p:cNvPr id="2302" name=""/>
            <p:cNvSpPr/>
            <p:nvPr/>
          </p:nvSpPr>
          <p:spPr>
            <a:xfrm>
              <a:off x="685800" y="1828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6720" y="365760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2057400" y="5181480"/>
            <a:ext cx="1066680" cy="0"/>
            <a:chOff x="2057400" y="5181480"/>
            <a:chExt cx="1066680" cy="0"/>
          </a:xfrm>
        </p:grpSpPr>
        <p:sp>
          <p:nvSpPr>
            <p:cNvPr id="2305" name=""/>
            <p:cNvSpPr/>
            <p:nvPr/>
          </p:nvSpPr>
          <p:spPr>
            <a:xfrm>
              <a:off x="20574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27432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3886200" y="5181480"/>
            <a:ext cx="1066680" cy="0"/>
            <a:chOff x="3886200" y="5181480"/>
            <a:chExt cx="1066680" cy="0"/>
          </a:xfrm>
        </p:grpSpPr>
        <p:sp>
          <p:nvSpPr>
            <p:cNvPr id="2308" name=""/>
            <p:cNvSpPr/>
            <p:nvPr/>
          </p:nvSpPr>
          <p:spPr>
            <a:xfrm>
              <a:off x="38862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5720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0" name=""/>
          <p:cNvSpPr/>
          <p:nvPr/>
        </p:nvSpPr>
        <p:spPr>
          <a:xfrm>
            <a:off x="2209680" y="51814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"/>
              </a:rPr>
              <a:t>p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14800" y="51814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"/>
              </a:rPr>
              <a:t>p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4572000" y="685800"/>
                <a:ext cx="25146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t1</m:t>
                        </m:r>
                      </m:sub>
                    </m:sSub>
                    <m:f>
                      <m:num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t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3" name=""/>
          <p:cNvSpPr/>
          <p:nvPr/>
        </p:nvSpPr>
        <p:spPr>
          <a:xfrm>
            <a:off x="533520" y="5715000"/>
            <a:ext cx="71625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pd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约在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0ns ~ 40ns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此值愈小愈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562720" y="2104920"/>
            <a:ext cx="2286000" cy="57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输入波形</a:t>
            </a:r>
            <a:r>
              <a:rPr b="1" i="1" lang="zh-CN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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562720" y="3809880"/>
            <a:ext cx="2286000" cy="56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输出波形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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4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7" name=""/>
          <p:cNvGrpSpPr/>
          <p:nvPr/>
        </p:nvGrpSpPr>
        <p:grpSpPr>
          <a:xfrm>
            <a:off x="533520" y="2523240"/>
            <a:ext cx="2434680" cy="3006720"/>
            <a:chOff x="533520" y="2523240"/>
            <a:chExt cx="2434680" cy="3006720"/>
          </a:xfrm>
        </p:grpSpPr>
        <p:sp>
          <p:nvSpPr>
            <p:cNvPr id="2318" name=""/>
            <p:cNvSpPr/>
            <p:nvPr/>
          </p:nvSpPr>
          <p:spPr>
            <a:xfrm>
              <a:off x="533520" y="2523240"/>
              <a:ext cx="2434680" cy="300672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cap="sq"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当控制端为高电平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时，实现正常的“与非”逻辑关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  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Y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=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A•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24680" y="5262480"/>
              <a:ext cx="67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0" name=""/>
          <p:cNvSpPr/>
          <p:nvPr/>
        </p:nvSpPr>
        <p:spPr>
          <a:xfrm>
            <a:off x="3818520" y="464328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1" name=""/>
          <p:cNvGrpSpPr/>
          <p:nvPr/>
        </p:nvGrpSpPr>
        <p:grpSpPr>
          <a:xfrm>
            <a:off x="3505320" y="2357280"/>
            <a:ext cx="1904400" cy="3232080"/>
            <a:chOff x="3505320" y="2357280"/>
            <a:chExt cx="1904400" cy="3232080"/>
          </a:xfrm>
        </p:grpSpPr>
        <p:sp>
          <p:nvSpPr>
            <p:cNvPr id="2322" name=""/>
            <p:cNvSpPr/>
            <p:nvPr/>
          </p:nvSpPr>
          <p:spPr>
            <a:xfrm>
              <a:off x="3505320" y="50688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控制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3" name=""/>
            <p:cNvGrpSpPr/>
            <p:nvPr/>
          </p:nvGrpSpPr>
          <p:grpSpPr>
            <a:xfrm>
              <a:off x="3754800" y="2357280"/>
              <a:ext cx="1654920" cy="2440800"/>
              <a:chOff x="3754800" y="2357280"/>
              <a:chExt cx="1654920" cy="2440800"/>
            </a:xfrm>
          </p:grpSpPr>
          <p:sp>
            <p:nvSpPr>
              <p:cNvPr id="2324" name=""/>
              <p:cNvSpPr/>
              <p:nvPr/>
            </p:nvSpPr>
            <p:spPr>
              <a:xfrm>
                <a:off x="4097880" y="4109760"/>
                <a:ext cx="655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5" name=""/>
              <p:cNvGrpSpPr/>
              <p:nvPr/>
            </p:nvGrpSpPr>
            <p:grpSpPr>
              <a:xfrm>
                <a:off x="4753800" y="2662200"/>
                <a:ext cx="655920" cy="457200"/>
                <a:chOff x="4753800" y="2662200"/>
                <a:chExt cx="655920" cy="457200"/>
              </a:xfrm>
            </p:grpSpPr>
            <p:grpSp>
              <p:nvGrpSpPr>
                <p:cNvPr id="2326" name=""/>
                <p:cNvGrpSpPr/>
                <p:nvPr/>
              </p:nvGrpSpPr>
              <p:grpSpPr>
                <a:xfrm>
                  <a:off x="4899240" y="2662200"/>
                  <a:ext cx="291600" cy="457200"/>
                  <a:chOff x="4899240" y="2662200"/>
                  <a:chExt cx="291600" cy="45720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>
                    <a:off x="4899240" y="26622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V="1">
                    <a:off x="4899240" y="2727360"/>
                    <a:ext cx="291600" cy="19584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5190840" y="2727360"/>
                    <a:ext cx="0" cy="391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4899240" y="2923200"/>
                    <a:ext cx="291600" cy="19584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"/>
                <p:cNvSpPr/>
                <p:nvPr/>
              </p:nvSpPr>
              <p:spPr>
                <a:xfrm>
                  <a:off x="4753800" y="2923200"/>
                  <a:ext cx="6559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2" name=""/>
              <p:cNvSpPr/>
              <p:nvPr/>
            </p:nvSpPr>
            <p:spPr>
              <a:xfrm>
                <a:off x="4753800" y="2931840"/>
                <a:ext cx="0" cy="1181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750200" y="235728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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754800" y="4338360"/>
                <a:ext cx="34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5" name=""/>
          <p:cNvSpPr/>
          <p:nvPr/>
        </p:nvSpPr>
        <p:spPr>
          <a:xfrm>
            <a:off x="914400" y="13669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990720" y="1062000"/>
            <a:ext cx="4886280" cy="171360"/>
            <a:chOff x="990720" y="1062000"/>
            <a:chExt cx="4886280" cy="171360"/>
          </a:xfrm>
        </p:grpSpPr>
        <p:pic>
          <p:nvPicPr>
            <p:cNvPr id="2337" name="" descr=""/>
            <p:cNvPicPr/>
            <p:nvPr/>
          </p:nvPicPr>
          <p:blipFill>
            <a:blip r:embed="rId2"/>
            <a:stretch/>
          </p:blipFill>
          <p:spPr>
            <a:xfrm>
              <a:off x="18957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8" name="" descr=""/>
            <p:cNvPicPr/>
            <p:nvPr/>
          </p:nvPicPr>
          <p:blipFill>
            <a:blip r:embed="rId3"/>
            <a:stretch/>
          </p:blipFill>
          <p:spPr>
            <a:xfrm>
              <a:off x="20386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9" name="" descr=""/>
            <p:cNvPicPr/>
            <p:nvPr/>
          </p:nvPicPr>
          <p:blipFill>
            <a:blip r:embed="rId4"/>
            <a:stretch/>
          </p:blipFill>
          <p:spPr>
            <a:xfrm>
              <a:off x="22006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5"/>
            <a:stretch/>
          </p:blipFill>
          <p:spPr>
            <a:xfrm>
              <a:off x="24958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6"/>
            <a:stretch/>
          </p:blipFill>
          <p:spPr>
            <a:xfrm>
              <a:off x="26578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7"/>
            <a:stretch/>
          </p:blipFill>
          <p:spPr>
            <a:xfrm>
              <a:off x="28101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3" name="" descr=""/>
            <p:cNvPicPr/>
            <p:nvPr/>
          </p:nvPicPr>
          <p:blipFill>
            <a:blip r:embed="rId8"/>
            <a:stretch/>
          </p:blipFill>
          <p:spPr>
            <a:xfrm>
              <a:off x="29530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4" name="" descr=""/>
            <p:cNvPicPr/>
            <p:nvPr/>
          </p:nvPicPr>
          <p:blipFill>
            <a:blip r:embed="rId9"/>
            <a:stretch/>
          </p:blipFill>
          <p:spPr>
            <a:xfrm>
              <a:off x="31150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5" name="" descr=""/>
            <p:cNvPicPr/>
            <p:nvPr/>
          </p:nvPicPr>
          <p:blipFill>
            <a:blip r:embed="rId10"/>
            <a:stretch/>
          </p:blipFill>
          <p:spPr>
            <a:xfrm>
              <a:off x="34102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6" name="" descr=""/>
            <p:cNvPicPr/>
            <p:nvPr/>
          </p:nvPicPr>
          <p:blipFill>
            <a:blip r:embed="rId11"/>
            <a:stretch/>
          </p:blipFill>
          <p:spPr>
            <a:xfrm>
              <a:off x="35722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7" name="" descr=""/>
            <p:cNvPicPr/>
            <p:nvPr/>
          </p:nvPicPr>
          <p:blipFill>
            <a:blip r:embed="rId12"/>
            <a:stretch/>
          </p:blipFill>
          <p:spPr>
            <a:xfrm>
              <a:off x="37245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8" name="" descr=""/>
            <p:cNvPicPr/>
            <p:nvPr/>
          </p:nvPicPr>
          <p:blipFill>
            <a:blip r:embed="rId13"/>
            <a:stretch/>
          </p:blipFill>
          <p:spPr>
            <a:xfrm>
              <a:off x="38674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9" name="" descr=""/>
            <p:cNvPicPr/>
            <p:nvPr/>
          </p:nvPicPr>
          <p:blipFill>
            <a:blip r:embed="rId14"/>
            <a:stretch/>
          </p:blipFill>
          <p:spPr>
            <a:xfrm>
              <a:off x="23529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0" name="" descr=""/>
            <p:cNvPicPr/>
            <p:nvPr/>
          </p:nvPicPr>
          <p:blipFill>
            <a:blip r:embed="rId15"/>
            <a:stretch/>
          </p:blipFill>
          <p:spPr>
            <a:xfrm>
              <a:off x="32673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1" name="" descr=""/>
            <p:cNvPicPr/>
            <p:nvPr/>
          </p:nvPicPr>
          <p:blipFill>
            <a:blip r:embed="rId16"/>
            <a:stretch/>
          </p:blipFill>
          <p:spPr>
            <a:xfrm>
              <a:off x="40294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2" name="" descr=""/>
            <p:cNvPicPr/>
            <p:nvPr/>
          </p:nvPicPr>
          <p:blipFill>
            <a:blip r:embed="rId17"/>
            <a:stretch/>
          </p:blipFill>
          <p:spPr>
            <a:xfrm>
              <a:off x="41817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3" name="" descr=""/>
            <p:cNvPicPr/>
            <p:nvPr/>
          </p:nvPicPr>
          <p:blipFill>
            <a:blip r:embed="rId18"/>
            <a:stretch/>
          </p:blipFill>
          <p:spPr>
            <a:xfrm>
              <a:off x="43246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4" name="" descr=""/>
            <p:cNvPicPr/>
            <p:nvPr/>
          </p:nvPicPr>
          <p:blipFill>
            <a:blip r:embed="rId19"/>
            <a:stretch/>
          </p:blipFill>
          <p:spPr>
            <a:xfrm>
              <a:off x="44866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5" name="" descr=""/>
            <p:cNvPicPr/>
            <p:nvPr/>
          </p:nvPicPr>
          <p:blipFill>
            <a:blip r:embed="rId20"/>
            <a:stretch/>
          </p:blipFill>
          <p:spPr>
            <a:xfrm>
              <a:off x="46389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6" name="" descr=""/>
            <p:cNvPicPr/>
            <p:nvPr/>
          </p:nvPicPr>
          <p:blipFill>
            <a:blip r:embed="rId21"/>
            <a:stretch/>
          </p:blipFill>
          <p:spPr>
            <a:xfrm>
              <a:off x="47818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7" name="" descr=""/>
            <p:cNvPicPr/>
            <p:nvPr/>
          </p:nvPicPr>
          <p:blipFill>
            <a:blip r:embed="rId22"/>
            <a:stretch/>
          </p:blipFill>
          <p:spPr>
            <a:xfrm>
              <a:off x="49438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8" name="" descr=""/>
            <p:cNvPicPr/>
            <p:nvPr/>
          </p:nvPicPr>
          <p:blipFill>
            <a:blip r:embed="rId23"/>
            <a:stretch/>
          </p:blipFill>
          <p:spPr>
            <a:xfrm>
              <a:off x="50961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9" name=""/>
            <p:cNvGrpSpPr/>
            <p:nvPr/>
          </p:nvGrpSpPr>
          <p:grpSpPr>
            <a:xfrm>
              <a:off x="990720" y="1062000"/>
              <a:ext cx="923760" cy="161640"/>
              <a:chOff x="990720" y="1062000"/>
              <a:chExt cx="923760" cy="161640"/>
            </a:xfrm>
          </p:grpSpPr>
          <p:pic>
            <p:nvPicPr>
              <p:cNvPr id="236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13364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95640" y="10620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44792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9084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4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752840" y="10620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6" name="" descr=""/>
            <p:cNvPicPr/>
            <p:nvPr/>
          </p:nvPicPr>
          <p:blipFill>
            <a:blip r:embed="rId30"/>
            <a:stretch/>
          </p:blipFill>
          <p:spPr>
            <a:xfrm>
              <a:off x="525816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7" name="" descr=""/>
            <p:cNvPicPr/>
            <p:nvPr/>
          </p:nvPicPr>
          <p:blipFill>
            <a:blip r:embed="rId31"/>
            <a:stretch/>
          </p:blipFill>
          <p:spPr>
            <a:xfrm>
              <a:off x="540108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8" name="" descr=""/>
            <p:cNvPicPr/>
            <p:nvPr/>
          </p:nvPicPr>
          <p:blipFill>
            <a:blip r:embed="rId32"/>
            <a:stretch/>
          </p:blipFill>
          <p:spPr>
            <a:xfrm>
              <a:off x="5562720" y="10620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9" name="" descr=""/>
            <p:cNvPicPr/>
            <p:nvPr/>
          </p:nvPicPr>
          <p:blipFill>
            <a:blip r:embed="rId33"/>
            <a:stretch/>
          </p:blipFill>
          <p:spPr>
            <a:xfrm>
              <a:off x="571536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0" name=""/>
          <p:cNvGrpSpPr/>
          <p:nvPr/>
        </p:nvGrpSpPr>
        <p:grpSpPr>
          <a:xfrm>
            <a:off x="2666880" y="1442880"/>
            <a:ext cx="6248160" cy="4267080"/>
            <a:chOff x="2666880" y="1442880"/>
            <a:chExt cx="6248160" cy="4267080"/>
          </a:xfrm>
        </p:grpSpPr>
        <p:grpSp>
          <p:nvGrpSpPr>
            <p:cNvPr id="2371" name=""/>
            <p:cNvGrpSpPr/>
            <p:nvPr/>
          </p:nvGrpSpPr>
          <p:grpSpPr>
            <a:xfrm>
              <a:off x="2666880" y="1442880"/>
              <a:ext cx="6248160" cy="4267080"/>
              <a:chOff x="2666880" y="1442880"/>
              <a:chExt cx="6248160" cy="4267080"/>
            </a:xfrm>
          </p:grpSpPr>
          <p:sp>
            <p:nvSpPr>
              <p:cNvPr id="2372" name=""/>
              <p:cNvSpPr/>
              <p:nvPr/>
            </p:nvSpPr>
            <p:spPr>
              <a:xfrm>
                <a:off x="7815600" y="1552320"/>
                <a:ext cx="127080" cy="13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008120" y="407484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050320" y="3555720"/>
                <a:ext cx="47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011560" y="4687560"/>
                <a:ext cx="76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548040" y="4617720"/>
                <a:ext cx="714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666880" y="3500280"/>
                <a:ext cx="4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674080" y="38811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255800" y="1987560"/>
                <a:ext cx="794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395680" y="2097000"/>
                <a:ext cx="646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390560" y="2128680"/>
                <a:ext cx="52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56120" y="271116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942960" y="298440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218200" y="3255840"/>
                <a:ext cx="45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70760" y="1442880"/>
                <a:ext cx="94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5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603240" y="2643120"/>
                <a:ext cx="84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334840" y="5709960"/>
                <a:ext cx="31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38240" y="4551120"/>
                <a:ext cx="0" cy="95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251120" y="3460680"/>
                <a:ext cx="0" cy="61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829560" y="3938400"/>
                <a:ext cx="0" cy="63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6829560" y="4028760"/>
                <a:ext cx="4068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829560" y="4390920"/>
                <a:ext cx="50832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4328640" y="1612800"/>
                <a:ext cx="3502440" cy="1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24760" y="2643120"/>
                <a:ext cx="95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5" name=""/>
              <p:cNvGrpSpPr/>
              <p:nvPr/>
            </p:nvGrpSpPr>
            <p:grpSpPr>
              <a:xfrm>
                <a:off x="3679560" y="3119040"/>
                <a:ext cx="946440" cy="384120"/>
                <a:chOff x="3679560" y="3119040"/>
                <a:chExt cx="946440" cy="384120"/>
              </a:xfrm>
            </p:grpSpPr>
            <p:sp>
              <p:nvSpPr>
                <p:cNvPr id="2396" name=""/>
                <p:cNvSpPr/>
                <p:nvPr/>
              </p:nvSpPr>
              <p:spPr>
                <a:xfrm flipH="1">
                  <a:off x="3773880" y="3119400"/>
                  <a:ext cx="85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 flipV="1">
                  <a:off x="4437000" y="311904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>
                  <a:off x="4060080" y="3120840"/>
                  <a:ext cx="189360" cy="38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>
                  <a:off x="3868560" y="311940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>
                  <a:off x="3679560" y="3119400"/>
                  <a:ext cx="18936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4634280" y="3051000"/>
                <a:ext cx="873360" cy="807840"/>
                <a:chOff x="4634280" y="3051000"/>
                <a:chExt cx="873360" cy="80784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5022000" y="3051000"/>
                  <a:ext cx="0" cy="8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>
                  <a:off x="5022000" y="3166560"/>
                  <a:ext cx="38808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022000" y="3627720"/>
                  <a:ext cx="485640" cy="23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634280" y="3512520"/>
                  <a:ext cx="38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6" name=""/>
              <p:cNvSpPr/>
              <p:nvPr/>
            </p:nvSpPr>
            <p:spPr>
              <a:xfrm>
                <a:off x="6729120" y="2779560"/>
                <a:ext cx="0" cy="68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6729120" y="2916000"/>
                <a:ext cx="45792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729120" y="326700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4320" y="3168360"/>
                <a:ext cx="4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276800" y="209700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356000" y="16207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89920" y="162072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5389920" y="2574720"/>
                <a:ext cx="5760" cy="61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469120" y="380196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03400" y="3187440"/>
                <a:ext cx="0" cy="138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94600" y="1620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94600" y="2382840"/>
                <a:ext cx="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459040" y="5505120"/>
                <a:ext cx="190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853960" y="2506680"/>
                <a:ext cx="0" cy="68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H="1">
                <a:off x="5853960" y="2604960"/>
                <a:ext cx="4233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53960" y="299376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258680" y="3733560"/>
                <a:ext cx="63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894800" y="3665520"/>
                <a:ext cx="12672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4" name=""/>
              <p:cNvGrpSpPr/>
              <p:nvPr/>
            </p:nvGrpSpPr>
            <p:grpSpPr>
              <a:xfrm>
                <a:off x="3241080" y="3500280"/>
                <a:ext cx="437040" cy="301680"/>
                <a:chOff x="3241080" y="3500280"/>
                <a:chExt cx="437040" cy="30168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3678120" y="3500280"/>
                  <a:ext cx="0" cy="301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>
                  <a:off x="3241080" y="3801960"/>
                  <a:ext cx="437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3206880" y="3463920"/>
                <a:ext cx="676080" cy="572400"/>
                <a:chOff x="3206880" y="3463920"/>
                <a:chExt cx="676080" cy="57240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3882960" y="3463920"/>
                  <a:ext cx="0" cy="572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>
                  <a:off x="3206880" y="4036320"/>
                  <a:ext cx="67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0" name=""/>
              <p:cNvSpPr/>
              <p:nvPr/>
            </p:nvSpPr>
            <p:spPr>
              <a:xfrm>
                <a:off x="5466240" y="5505120"/>
                <a:ext cx="0" cy="2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3097800" y="372888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097800" y="3957480"/>
                <a:ext cx="12528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031280" y="449100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364720" y="2881080"/>
                <a:ext cx="6408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488920" y="4311360"/>
                <a:ext cx="1343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459040" y="4278240"/>
                <a:ext cx="42840" cy="46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395680" y="2916000"/>
                <a:ext cx="447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4348800" y="2506680"/>
                <a:ext cx="0" cy="612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331600" y="216504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395680" y="461952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467680" y="5029200"/>
                <a:ext cx="0" cy="475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434640" y="455112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512040" y="4960800"/>
                <a:ext cx="0" cy="5443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122600" y="199368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494680" y="2509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102920" y="3463920"/>
                <a:ext cx="0" cy="10270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7" name=""/>
            <p:cNvSpPr/>
            <p:nvPr/>
          </p:nvSpPr>
          <p:spPr>
            <a:xfrm>
              <a:off x="533412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3048120" y="2052720"/>
            <a:ext cx="838080" cy="533160"/>
          </a:xfrm>
          <a:prstGeom prst="wedgeEllipseCallout">
            <a:avLst>
              <a:gd name="adj1" fmla="val 191097"/>
              <a:gd name="adj2" fmla="val 86606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4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589920" y="457200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2438280" y="1371600"/>
            <a:ext cx="6248160" cy="4267080"/>
            <a:chOff x="2438280" y="1371600"/>
            <a:chExt cx="6248160" cy="4267080"/>
          </a:xfrm>
        </p:grpSpPr>
        <p:grpSp>
          <p:nvGrpSpPr>
            <p:cNvPr id="2452" name=""/>
            <p:cNvGrpSpPr/>
            <p:nvPr/>
          </p:nvGrpSpPr>
          <p:grpSpPr>
            <a:xfrm>
              <a:off x="3276720" y="2286000"/>
              <a:ext cx="1904400" cy="3232080"/>
              <a:chOff x="3276720" y="2286000"/>
              <a:chExt cx="1904400" cy="3232080"/>
            </a:xfrm>
          </p:grpSpPr>
          <p:sp>
            <p:nvSpPr>
              <p:cNvPr id="2453" name=""/>
              <p:cNvSpPr/>
              <p:nvPr/>
            </p:nvSpPr>
            <p:spPr>
              <a:xfrm>
                <a:off x="3276720" y="499752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控制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4" name=""/>
              <p:cNvGrpSpPr/>
              <p:nvPr/>
            </p:nvGrpSpPr>
            <p:grpSpPr>
              <a:xfrm>
                <a:off x="3526200" y="2286000"/>
                <a:ext cx="1654920" cy="2440800"/>
                <a:chOff x="3526200" y="2286000"/>
                <a:chExt cx="1654920" cy="244080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3869280" y="4038480"/>
                  <a:ext cx="6559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6" name=""/>
                <p:cNvGrpSpPr/>
                <p:nvPr/>
              </p:nvGrpSpPr>
              <p:grpSpPr>
                <a:xfrm>
                  <a:off x="4525200" y="2590920"/>
                  <a:ext cx="655920" cy="457200"/>
                  <a:chOff x="4525200" y="2590920"/>
                  <a:chExt cx="655920" cy="457200"/>
                </a:xfrm>
              </p:grpSpPr>
              <p:grpSp>
                <p:nvGrpSpPr>
                  <p:cNvPr id="2457" name=""/>
                  <p:cNvGrpSpPr/>
                  <p:nvPr/>
                </p:nvGrpSpPr>
                <p:grpSpPr>
                  <a:xfrm>
                    <a:off x="4670640" y="2590920"/>
                    <a:ext cx="291600" cy="457200"/>
                    <a:chOff x="4670640" y="2590920"/>
                    <a:chExt cx="291600" cy="457200"/>
                  </a:xfrm>
                </p:grpSpPr>
                <p:sp>
                  <p:nvSpPr>
                    <p:cNvPr id="2458" name=""/>
                    <p:cNvSpPr/>
                    <p:nvPr/>
                  </p:nvSpPr>
                  <p:spPr>
                    <a:xfrm>
                      <a:off x="4670640" y="2590920"/>
                      <a:ext cx="0" cy="45720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"/>
                    <p:cNvSpPr/>
                    <p:nvPr/>
                  </p:nvSpPr>
                  <p:spPr>
                    <a:xfrm flipV="1">
                      <a:off x="4670640" y="2656080"/>
                      <a:ext cx="291600" cy="195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"/>
                    <p:cNvSpPr/>
                    <p:nvPr/>
                  </p:nvSpPr>
                  <p:spPr>
                    <a:xfrm>
                      <a:off x="4962240" y="2656080"/>
                      <a:ext cx="0" cy="391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4670640" y="2851920"/>
                      <a:ext cx="291600" cy="195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2" name=""/>
                  <p:cNvSpPr/>
                  <p:nvPr/>
                </p:nvSpPr>
                <p:spPr>
                  <a:xfrm>
                    <a:off x="4525200" y="2851920"/>
                    <a:ext cx="6559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3" name=""/>
                <p:cNvSpPr/>
                <p:nvPr/>
              </p:nvSpPr>
              <p:spPr>
                <a:xfrm>
                  <a:off x="4525200" y="2860560"/>
                  <a:ext cx="0" cy="118116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521600" y="2286000"/>
                  <a:ext cx="56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  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3526200" y="4267080"/>
                  <a:ext cx="34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6" name=""/>
            <p:cNvGrpSpPr/>
            <p:nvPr/>
          </p:nvGrpSpPr>
          <p:grpSpPr>
            <a:xfrm>
              <a:off x="2438280" y="1371600"/>
              <a:ext cx="6248160" cy="4267080"/>
              <a:chOff x="2438280" y="1371600"/>
              <a:chExt cx="6248160" cy="4267080"/>
            </a:xfrm>
          </p:grpSpPr>
          <p:sp>
            <p:nvSpPr>
              <p:cNvPr id="2467" name=""/>
              <p:cNvSpPr/>
              <p:nvPr/>
            </p:nvSpPr>
            <p:spPr>
              <a:xfrm>
                <a:off x="7587000" y="1481040"/>
                <a:ext cx="127080" cy="13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79520" y="400356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821720" y="3484440"/>
                <a:ext cx="47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782960" y="4616280"/>
                <a:ext cx="76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19440" y="4546440"/>
                <a:ext cx="714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438280" y="3429000"/>
                <a:ext cx="4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445480" y="38098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027200" y="1916280"/>
                <a:ext cx="794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67080" y="2025720"/>
                <a:ext cx="646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161960" y="2057400"/>
                <a:ext cx="52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627520" y="263988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714360" y="291312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89600" y="3184560"/>
                <a:ext cx="45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742160" y="1371600"/>
                <a:ext cx="94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5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374640" y="2571840"/>
                <a:ext cx="84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06240" y="5638680"/>
                <a:ext cx="31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109640" y="4479840"/>
                <a:ext cx="0" cy="95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022520" y="3389400"/>
                <a:ext cx="0" cy="61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00960" y="3867120"/>
                <a:ext cx="0" cy="63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6600960" y="3957480"/>
                <a:ext cx="4068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600960" y="4319640"/>
                <a:ext cx="50832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4100040" y="1541520"/>
                <a:ext cx="3502440" cy="1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96160" y="2571840"/>
                <a:ext cx="95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0" name=""/>
              <p:cNvGrpSpPr/>
              <p:nvPr/>
            </p:nvGrpSpPr>
            <p:grpSpPr>
              <a:xfrm>
                <a:off x="3450960" y="3047760"/>
                <a:ext cx="946440" cy="384120"/>
                <a:chOff x="3450960" y="3047760"/>
                <a:chExt cx="946440" cy="384120"/>
              </a:xfrm>
            </p:grpSpPr>
            <p:sp>
              <p:nvSpPr>
                <p:cNvPr id="2491" name=""/>
                <p:cNvSpPr/>
                <p:nvPr/>
              </p:nvSpPr>
              <p:spPr>
                <a:xfrm flipH="1">
                  <a:off x="3545280" y="3048120"/>
                  <a:ext cx="85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 flipV="1">
                  <a:off x="4208400" y="304776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>
                  <a:off x="3831480" y="3049560"/>
                  <a:ext cx="189360" cy="38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>
                  <a:off x="3639960" y="304812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3450960" y="3048120"/>
                  <a:ext cx="18936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4405680" y="2979720"/>
                <a:ext cx="873360" cy="807840"/>
                <a:chOff x="4405680" y="2979720"/>
                <a:chExt cx="873360" cy="80784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4793400" y="2979720"/>
                  <a:ext cx="0" cy="8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>
                  <a:off x="4793400" y="3095280"/>
                  <a:ext cx="38808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793400" y="3556440"/>
                  <a:ext cx="485640" cy="23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4405680" y="3441240"/>
                  <a:ext cx="38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1" name=""/>
              <p:cNvSpPr/>
              <p:nvPr/>
            </p:nvSpPr>
            <p:spPr>
              <a:xfrm>
                <a:off x="6500520" y="2708280"/>
                <a:ext cx="0" cy="68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6500520" y="2844720"/>
                <a:ext cx="45792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500520" y="319572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075720" y="3097080"/>
                <a:ext cx="4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48200" y="202572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127400" y="154944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161320" y="154944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161320" y="2503440"/>
                <a:ext cx="5760" cy="61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40520" y="37306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274800" y="3116160"/>
                <a:ext cx="0" cy="138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66000" y="154944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966000" y="2311560"/>
                <a:ext cx="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230440" y="5433840"/>
                <a:ext cx="190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625360" y="2435400"/>
                <a:ext cx="0" cy="68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625360" y="2533680"/>
                <a:ext cx="4233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625360" y="292248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30080" y="3662280"/>
                <a:ext cx="63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666200" y="3594240"/>
                <a:ext cx="12672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9" name=""/>
              <p:cNvGrpSpPr/>
              <p:nvPr/>
            </p:nvGrpSpPr>
            <p:grpSpPr>
              <a:xfrm>
                <a:off x="3012480" y="3429000"/>
                <a:ext cx="437040" cy="301680"/>
                <a:chOff x="3012480" y="3429000"/>
                <a:chExt cx="437040" cy="30168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3449520" y="3429000"/>
                  <a:ext cx="0" cy="301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>
                  <a:off x="3012480" y="3730680"/>
                  <a:ext cx="437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2978280" y="3392640"/>
                <a:ext cx="676080" cy="572400"/>
                <a:chOff x="2978280" y="3392640"/>
                <a:chExt cx="676080" cy="57240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3654360" y="3392640"/>
                  <a:ext cx="0" cy="572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>
                  <a:off x="2978280" y="3965040"/>
                  <a:ext cx="67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5" name=""/>
              <p:cNvSpPr/>
              <p:nvPr/>
            </p:nvSpPr>
            <p:spPr>
              <a:xfrm>
                <a:off x="5237640" y="5433840"/>
                <a:ext cx="0" cy="2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869200" y="365760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869200" y="3886200"/>
                <a:ext cx="12528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802680" y="441972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6120" y="2809800"/>
                <a:ext cx="6408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60320" y="4240080"/>
                <a:ext cx="1343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30440" y="4206960"/>
                <a:ext cx="42840" cy="46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67080" y="2844720"/>
                <a:ext cx="447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4120200" y="2435400"/>
                <a:ext cx="0" cy="612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03000" y="209376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67080" y="454824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5239080" y="4957920"/>
                <a:ext cx="0" cy="475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206040" y="447984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283440" y="4889520"/>
                <a:ext cx="0" cy="5443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894000" y="192240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66080" y="24382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74320" y="3392640"/>
                <a:ext cx="0" cy="10270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2" name=""/>
          <p:cNvSpPr/>
          <p:nvPr/>
        </p:nvSpPr>
        <p:spPr>
          <a:xfrm>
            <a:off x="762120" y="1219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3962520" y="1600200"/>
            <a:ext cx="1218960" cy="2362320"/>
            <a:chOff x="3962520" y="1600200"/>
            <a:chExt cx="1218960" cy="2362320"/>
          </a:xfrm>
        </p:grpSpPr>
        <p:sp>
          <p:nvSpPr>
            <p:cNvPr id="2544" name=""/>
            <p:cNvSpPr/>
            <p:nvPr/>
          </p:nvSpPr>
          <p:spPr>
            <a:xfrm>
              <a:off x="4190760" y="1676520"/>
              <a:ext cx="0" cy="13716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3962520" y="3048120"/>
              <a:ext cx="228240" cy="4572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962520" y="3505320"/>
              <a:ext cx="0" cy="4572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181480" y="1600200"/>
              <a:ext cx="0" cy="121932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571640" y="2819520"/>
              <a:ext cx="60948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571640" y="2819520"/>
              <a:ext cx="0" cy="11430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0" name=""/>
          <p:cNvSpPr/>
          <p:nvPr/>
        </p:nvSpPr>
        <p:spPr>
          <a:xfrm>
            <a:off x="2819520" y="1981080"/>
            <a:ext cx="838080" cy="533520"/>
          </a:xfrm>
          <a:prstGeom prst="wedgeEllipseCallout">
            <a:avLst>
              <a:gd name="adj1" fmla="val 168370"/>
              <a:gd name="adj2" fmla="val 97319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4419720" y="2743200"/>
            <a:ext cx="1621800" cy="612000"/>
            <a:chOff x="4419720" y="2743200"/>
            <a:chExt cx="1621800" cy="612000"/>
          </a:xfrm>
        </p:grpSpPr>
        <p:sp>
          <p:nvSpPr>
            <p:cNvPr id="2552" name=""/>
            <p:cNvSpPr/>
            <p:nvPr/>
          </p:nvSpPr>
          <p:spPr>
            <a:xfrm>
              <a:off x="4419720" y="2895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88920" y="2743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7315200" y="2362320"/>
            <a:ext cx="1066680" cy="2669400"/>
            <a:chOff x="7315200" y="2362320"/>
            <a:chExt cx="1066680" cy="2669400"/>
          </a:xfrm>
        </p:grpSpPr>
        <p:sp>
          <p:nvSpPr>
            <p:cNvPr id="2555" name=""/>
            <p:cNvSpPr/>
            <p:nvPr/>
          </p:nvSpPr>
          <p:spPr>
            <a:xfrm>
              <a:off x="7315200" y="4572000"/>
              <a:ext cx="914400" cy="457200"/>
            </a:xfrm>
            <a:prstGeom prst="wedgeEllipseCallout">
              <a:avLst>
                <a:gd name="adj1" fmla="val -103125"/>
                <a:gd name="adj2" fmla="val -125000"/>
              </a:avLst>
            </a:prstGeom>
            <a:solidFill>
              <a:srgbClr val="ffcc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315200" y="2362320"/>
              <a:ext cx="1066680" cy="457200"/>
            </a:xfrm>
            <a:prstGeom prst="wedgeEllipseCallout">
              <a:avLst>
                <a:gd name="adj1" fmla="val -98958"/>
                <a:gd name="adj2" fmla="val 95486"/>
              </a:avLst>
            </a:prstGeom>
            <a:solidFill>
              <a:srgbClr val="ffcc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391520" y="4572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594200" y="2362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9" name=""/>
          <p:cNvSpPr/>
          <p:nvPr/>
        </p:nvSpPr>
        <p:spPr>
          <a:xfrm>
            <a:off x="228600" y="2617560"/>
            <a:ext cx="2511360" cy="23619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cap="sq"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当控制端为低电平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输出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处于开路状态，也称为高阻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2561" name="" descr=""/>
            <p:cNvPicPr/>
            <p:nvPr/>
          </p:nvPicPr>
          <p:blipFill>
            <a:blip r:embed="rId2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2" name="" descr=""/>
            <p:cNvPicPr/>
            <p:nvPr/>
          </p:nvPicPr>
          <p:blipFill>
            <a:blip r:embed="rId3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3" name="" descr=""/>
            <p:cNvPicPr/>
            <p:nvPr/>
          </p:nvPicPr>
          <p:blipFill>
            <a:blip r:embed="rId4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4" name="" descr=""/>
            <p:cNvPicPr/>
            <p:nvPr/>
          </p:nvPicPr>
          <p:blipFill>
            <a:blip r:embed="rId5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5" name="" descr=""/>
            <p:cNvPicPr/>
            <p:nvPr/>
          </p:nvPicPr>
          <p:blipFill>
            <a:blip r:embed="rId6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6" name="" descr=""/>
            <p:cNvPicPr/>
            <p:nvPr/>
          </p:nvPicPr>
          <p:blipFill>
            <a:blip r:embed="rId7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7" name="" descr=""/>
            <p:cNvPicPr/>
            <p:nvPr/>
          </p:nvPicPr>
          <p:blipFill>
            <a:blip r:embed="rId8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8" name="" descr=""/>
            <p:cNvPicPr/>
            <p:nvPr/>
          </p:nvPicPr>
          <p:blipFill>
            <a:blip r:embed="rId9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9" name="" descr=""/>
            <p:cNvPicPr/>
            <p:nvPr/>
          </p:nvPicPr>
          <p:blipFill>
            <a:blip r:embed="rId10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0" name="" descr=""/>
            <p:cNvPicPr/>
            <p:nvPr/>
          </p:nvPicPr>
          <p:blipFill>
            <a:blip r:embed="rId11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1" name="" descr=""/>
            <p:cNvPicPr/>
            <p:nvPr/>
          </p:nvPicPr>
          <p:blipFill>
            <a:blip r:embed="rId12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2" name="" descr=""/>
            <p:cNvPicPr/>
            <p:nvPr/>
          </p:nvPicPr>
          <p:blipFill>
            <a:blip r:embed="rId13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3" name="" descr=""/>
            <p:cNvPicPr/>
            <p:nvPr/>
          </p:nvPicPr>
          <p:blipFill>
            <a:blip r:embed="rId14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4" name="" descr=""/>
            <p:cNvPicPr/>
            <p:nvPr/>
          </p:nvPicPr>
          <p:blipFill>
            <a:blip r:embed="rId15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5" name="" descr=""/>
            <p:cNvPicPr/>
            <p:nvPr/>
          </p:nvPicPr>
          <p:blipFill>
            <a:blip r:embed="rId16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6" name="" descr=""/>
            <p:cNvPicPr/>
            <p:nvPr/>
          </p:nvPicPr>
          <p:blipFill>
            <a:blip r:embed="rId17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7" name="" descr=""/>
            <p:cNvPicPr/>
            <p:nvPr/>
          </p:nvPicPr>
          <p:blipFill>
            <a:blip r:embed="rId18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8" name="" descr=""/>
            <p:cNvPicPr/>
            <p:nvPr/>
          </p:nvPicPr>
          <p:blipFill>
            <a:blip r:embed="rId19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9" name="" descr=""/>
            <p:cNvPicPr/>
            <p:nvPr/>
          </p:nvPicPr>
          <p:blipFill>
            <a:blip r:embed="rId20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0" name="" descr=""/>
            <p:cNvPicPr/>
            <p:nvPr/>
          </p:nvPicPr>
          <p:blipFill>
            <a:blip r:embed="rId21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1" name="" descr=""/>
            <p:cNvPicPr/>
            <p:nvPr/>
          </p:nvPicPr>
          <p:blipFill>
            <a:blip r:embed="rId22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2" name="" descr=""/>
            <p:cNvPicPr/>
            <p:nvPr/>
          </p:nvPicPr>
          <p:blipFill>
            <a:blip r:embed="rId23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3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258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6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7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8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90" name="" descr=""/>
            <p:cNvPicPr/>
            <p:nvPr/>
          </p:nvPicPr>
          <p:blipFill>
            <a:blip r:embed="rId30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1" name="" descr=""/>
            <p:cNvPicPr/>
            <p:nvPr/>
          </p:nvPicPr>
          <p:blipFill>
            <a:blip r:embed="rId31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2" name="" descr=""/>
            <p:cNvPicPr/>
            <p:nvPr/>
          </p:nvPicPr>
          <p:blipFill>
            <a:blip r:embed="rId32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3" name="" descr=""/>
            <p:cNvPicPr/>
            <p:nvPr/>
          </p:nvPicPr>
          <p:blipFill>
            <a:blip r:embed="rId33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94" name=""/>
          <p:cNvGraphicFramePr/>
          <p:nvPr/>
        </p:nvGraphicFramePr>
        <p:xfrm>
          <a:off x="7620120" y="3124080"/>
          <a:ext cx="476280" cy="1209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9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620120" y="3124080"/>
                    <a:ext cx="4762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6" name=""/>
          <p:cNvGraphicFramePr/>
          <p:nvPr/>
        </p:nvGraphicFramePr>
        <p:xfrm>
          <a:off x="6477120" y="2514600"/>
          <a:ext cx="869760" cy="21337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97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477120" y="2514600"/>
                    <a:ext cx="8697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8" name=""/>
          <p:cNvGrpSpPr/>
          <p:nvPr/>
        </p:nvGrpSpPr>
        <p:grpSpPr>
          <a:xfrm>
            <a:off x="999360" y="1523880"/>
            <a:ext cx="3420360" cy="2044440"/>
            <a:chOff x="999360" y="1523880"/>
            <a:chExt cx="3420360" cy="2044440"/>
          </a:xfrm>
        </p:grpSpPr>
        <p:sp>
          <p:nvSpPr>
            <p:cNvPr id="2599" name=""/>
            <p:cNvSpPr/>
            <p:nvPr/>
          </p:nvSpPr>
          <p:spPr>
            <a:xfrm>
              <a:off x="2209680" y="152388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0" name=""/>
            <p:cNvGrpSpPr/>
            <p:nvPr/>
          </p:nvGrpSpPr>
          <p:grpSpPr>
            <a:xfrm>
              <a:off x="1600200" y="1904760"/>
              <a:ext cx="609480" cy="914400"/>
              <a:chOff x="1600200" y="1904760"/>
              <a:chExt cx="609480" cy="914400"/>
            </a:xfrm>
          </p:grpSpPr>
          <p:sp>
            <p:nvSpPr>
              <p:cNvPr id="2601" name=""/>
              <p:cNvSpPr/>
              <p:nvPr/>
            </p:nvSpPr>
            <p:spPr>
              <a:xfrm>
                <a:off x="1600200" y="1904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600200" y="23619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600200" y="2819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4" name=""/>
            <p:cNvSpPr/>
            <p:nvPr/>
          </p:nvSpPr>
          <p:spPr>
            <a:xfrm>
              <a:off x="144792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447920" y="2286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447920" y="27432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352680" y="2209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505320" y="2286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51460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96252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014480" y="25621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000800" y="21049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999360" y="16477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905120" y="30477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rot="10869000">
              <a:off x="2971080" y="21326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209680" y="25146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7" name=""/>
          <p:cNvSpPr/>
          <p:nvPr/>
        </p:nvSpPr>
        <p:spPr>
          <a:xfrm>
            <a:off x="5105520" y="2590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高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8" name=""/>
          <p:cNvGrpSpPr/>
          <p:nvPr/>
        </p:nvGrpSpPr>
        <p:grpSpPr>
          <a:xfrm>
            <a:off x="5095080" y="3124080"/>
            <a:ext cx="2757600" cy="1968480"/>
            <a:chOff x="5095080" y="3124080"/>
            <a:chExt cx="2757600" cy="1968480"/>
          </a:xfrm>
        </p:grpSpPr>
        <p:sp>
          <p:nvSpPr>
            <p:cNvPr id="2619" name=""/>
            <p:cNvSpPr/>
            <p:nvPr/>
          </p:nvSpPr>
          <p:spPr>
            <a:xfrm>
              <a:off x="5181480" y="312408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095080" y="3628800"/>
              <a:ext cx="27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       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096880" y="4086000"/>
              <a:ext cx="26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96880" y="4572000"/>
              <a:ext cx="26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zh-CN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1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3" name=""/>
          <p:cNvSpPr/>
          <p:nvPr/>
        </p:nvSpPr>
        <p:spPr>
          <a:xfrm>
            <a:off x="5173560" y="5440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任意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7621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4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4419720" y="1523880"/>
            <a:ext cx="4343400" cy="3660840"/>
            <a:chOff x="4419720" y="1523880"/>
            <a:chExt cx="4343400" cy="3660840"/>
          </a:xfrm>
        </p:grpSpPr>
        <p:sp>
          <p:nvSpPr>
            <p:cNvPr id="2626" name=""/>
            <p:cNvSpPr/>
            <p:nvPr/>
          </p:nvSpPr>
          <p:spPr>
            <a:xfrm flipH="1">
              <a:off x="5095440" y="2630160"/>
              <a:ext cx="25909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5103720" y="2055600"/>
              <a:ext cx="259236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4419720" y="1523880"/>
              <a:ext cx="4343400" cy="3660840"/>
              <a:chOff x="4419720" y="1523880"/>
              <a:chExt cx="4343400" cy="3660840"/>
            </a:xfrm>
          </p:grpSpPr>
          <p:sp>
            <p:nvSpPr>
              <p:cNvPr id="2629" name=""/>
              <p:cNvSpPr/>
              <p:nvPr/>
            </p:nvSpPr>
            <p:spPr>
              <a:xfrm>
                <a:off x="4419720" y="152388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三态输出“与非”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106240" y="207324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793480" y="207324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569280" y="207324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162920" y="2057400"/>
                <a:ext cx="51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5029200" y="5179680"/>
                <a:ext cx="259236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7150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0866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4008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8" name=""/>
          <p:cNvGrpSpPr/>
          <p:nvPr/>
        </p:nvGrpSpPr>
        <p:grpSpPr>
          <a:xfrm>
            <a:off x="914400" y="3581280"/>
            <a:ext cx="3809880" cy="2397240"/>
            <a:chOff x="914400" y="3581280"/>
            <a:chExt cx="3809880" cy="2397240"/>
          </a:xfrm>
        </p:grpSpPr>
        <p:sp>
          <p:nvSpPr>
            <p:cNvPr id="2639" name=""/>
            <p:cNvSpPr/>
            <p:nvPr/>
          </p:nvSpPr>
          <p:spPr>
            <a:xfrm>
              <a:off x="3338280" y="5334120"/>
              <a:ext cx="854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输出高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914400" y="5067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1" name=""/>
                <p:cNvSpPr txBox="1"/>
                <p:nvPr/>
              </p:nvSpPr>
              <p:spPr>
                <a:xfrm>
                  <a:off x="1523880" y="4419720"/>
                  <a:ext cx="91440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2" name=""/>
                <p:cNvSpPr txBox="1"/>
                <p:nvPr/>
              </p:nvSpPr>
              <p:spPr>
                <a:xfrm>
                  <a:off x="1371600" y="5334120"/>
                  <a:ext cx="106668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3" name=""/>
                <p:cNvSpPr txBox="1"/>
                <p:nvPr/>
              </p:nvSpPr>
              <p:spPr>
                <a:xfrm>
                  <a:off x="3063960" y="4287960"/>
                  <a:ext cx="135576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2644" name=""/>
            <p:cNvSpPr/>
            <p:nvPr/>
          </p:nvSpPr>
          <p:spPr>
            <a:xfrm>
              <a:off x="220968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914400" y="41529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2819520" y="4149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7" name=""/>
          <p:cNvGrpSpPr/>
          <p:nvPr/>
        </p:nvGrpSpPr>
        <p:grpSpPr>
          <a:xfrm>
            <a:off x="838080" y="533520"/>
            <a:ext cx="2514600" cy="520560"/>
            <a:chOff x="838080" y="533520"/>
            <a:chExt cx="2514600" cy="520560"/>
          </a:xfrm>
        </p:grpSpPr>
        <p:sp>
          <p:nvSpPr>
            <p:cNvPr id="2648" name=""/>
            <p:cNvSpPr/>
            <p:nvPr/>
          </p:nvSpPr>
          <p:spPr>
            <a:xfrm>
              <a:off x="1219320" y="5335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三态门应用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838080" y="609840"/>
              <a:ext cx="480960" cy="38088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0" name=""/>
          <p:cNvSpPr/>
          <p:nvPr/>
        </p:nvSpPr>
        <p:spPr>
          <a:xfrm>
            <a:off x="3429000" y="533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可实现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总线分时传送几个不同的数据或控制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1" name=""/>
          <p:cNvGrpSpPr/>
          <p:nvPr/>
        </p:nvGrpSpPr>
        <p:grpSpPr>
          <a:xfrm>
            <a:off x="2133720" y="2819520"/>
            <a:ext cx="761760" cy="3416040"/>
            <a:chOff x="2133720" y="2819520"/>
            <a:chExt cx="761760" cy="3416040"/>
          </a:xfrm>
        </p:grpSpPr>
        <p:sp>
          <p:nvSpPr>
            <p:cNvPr id="2652" name=""/>
            <p:cNvSpPr/>
            <p:nvPr/>
          </p:nvSpPr>
          <p:spPr>
            <a:xfrm>
              <a:off x="2133720" y="28195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42360" y="426708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42360" y="571500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7010280" y="5029200"/>
            <a:ext cx="1600200" cy="998640"/>
          </a:xfrm>
          <a:prstGeom prst="rect">
            <a:avLst/>
          </a:prstGeom>
          <a:ln w="0">
            <a:noFill/>
          </a:ln>
        </p:spPr>
      </p:pic>
      <p:grpSp>
        <p:nvGrpSpPr>
          <p:cNvPr id="2656" name=""/>
          <p:cNvGrpSpPr/>
          <p:nvPr/>
        </p:nvGrpSpPr>
        <p:grpSpPr>
          <a:xfrm>
            <a:off x="914400" y="1295280"/>
            <a:ext cx="5486400" cy="4999320"/>
            <a:chOff x="914400" y="1295280"/>
            <a:chExt cx="5486400" cy="4999320"/>
          </a:xfrm>
        </p:grpSpPr>
        <p:sp>
          <p:nvSpPr>
            <p:cNvPr id="2657" name=""/>
            <p:cNvSpPr/>
            <p:nvPr/>
          </p:nvSpPr>
          <p:spPr>
            <a:xfrm>
              <a:off x="914400" y="1295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图所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8" name=""/>
            <p:cNvGrpSpPr/>
            <p:nvPr/>
          </p:nvGrpSpPr>
          <p:grpSpPr>
            <a:xfrm>
              <a:off x="2905920" y="1676520"/>
              <a:ext cx="3494880" cy="4618080"/>
              <a:chOff x="2905920" y="1676520"/>
              <a:chExt cx="3494880" cy="4618080"/>
            </a:xfrm>
          </p:grpSpPr>
          <p:sp>
            <p:nvSpPr>
              <p:cNvPr id="2659" name=""/>
              <p:cNvSpPr/>
              <p:nvPr/>
            </p:nvSpPr>
            <p:spPr>
              <a:xfrm>
                <a:off x="5867280" y="1828800"/>
                <a:ext cx="0" cy="40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791320" y="16765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867280" y="2971800"/>
                <a:ext cx="533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总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2" name=""/>
              <p:cNvGrpSpPr/>
              <p:nvPr/>
            </p:nvGrpSpPr>
            <p:grpSpPr>
              <a:xfrm>
                <a:off x="2905920" y="1905120"/>
                <a:ext cx="2961360" cy="1494000"/>
                <a:chOff x="2905920" y="1905120"/>
                <a:chExt cx="2961360" cy="1494000"/>
              </a:xfrm>
            </p:grpSpPr>
            <p:grpSp>
              <p:nvGrpSpPr>
                <p:cNvPr id="2663" name=""/>
                <p:cNvGrpSpPr/>
                <p:nvPr/>
              </p:nvGrpSpPr>
              <p:grpSpPr>
                <a:xfrm>
                  <a:off x="3429000" y="1981080"/>
                  <a:ext cx="2438280" cy="1295640"/>
                  <a:chOff x="3429000" y="1981080"/>
                  <a:chExt cx="2438280" cy="1295640"/>
                </a:xfrm>
              </p:grpSpPr>
              <p:sp>
                <p:nvSpPr>
                  <p:cNvPr id="2664" name=""/>
                  <p:cNvSpPr/>
                  <p:nvPr/>
                </p:nvSpPr>
                <p:spPr>
                  <a:xfrm>
                    <a:off x="4191120" y="198108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3581280" y="2209680"/>
                    <a:ext cx="609480" cy="914400"/>
                    <a:chOff x="3581280" y="2209680"/>
                    <a:chExt cx="609480" cy="91440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3581280" y="22096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3581280" y="26668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3581280" y="31240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69" name=""/>
                  <p:cNvSpPr/>
                  <p:nvPr/>
                </p:nvSpPr>
                <p:spPr>
                  <a:xfrm>
                    <a:off x="3429000" y="21337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3429000" y="2590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3429000" y="30481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5105520" y="2590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5257800" y="266688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4" name=""/>
                <p:cNvSpPr/>
                <p:nvPr/>
              </p:nvSpPr>
              <p:spPr>
                <a:xfrm>
                  <a:off x="4267080" y="1981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0869000">
                  <a:off x="4800240" y="259020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2905920" y="190512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2907360" y="236232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2921040" y="281952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2905920" y="3352680"/>
                <a:ext cx="2961360" cy="1494000"/>
                <a:chOff x="2905920" y="3352680"/>
                <a:chExt cx="2961360" cy="1494000"/>
              </a:xfrm>
            </p:grpSpPr>
            <p:grpSp>
              <p:nvGrpSpPr>
                <p:cNvPr id="2680" name=""/>
                <p:cNvGrpSpPr/>
                <p:nvPr/>
              </p:nvGrpSpPr>
              <p:grpSpPr>
                <a:xfrm>
                  <a:off x="3429000" y="3428640"/>
                  <a:ext cx="2438280" cy="1295640"/>
                  <a:chOff x="3429000" y="3428640"/>
                  <a:chExt cx="2438280" cy="1295640"/>
                </a:xfrm>
              </p:grpSpPr>
              <p:sp>
                <p:nvSpPr>
                  <p:cNvPr id="2681" name=""/>
                  <p:cNvSpPr/>
                  <p:nvPr/>
                </p:nvSpPr>
                <p:spPr>
                  <a:xfrm>
                    <a:off x="4191120" y="342864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82" name=""/>
                  <p:cNvGrpSpPr/>
                  <p:nvPr/>
                </p:nvGrpSpPr>
                <p:grpSpPr>
                  <a:xfrm>
                    <a:off x="3581280" y="3657240"/>
                    <a:ext cx="609480" cy="914400"/>
                    <a:chOff x="3581280" y="3657240"/>
                    <a:chExt cx="609480" cy="914400"/>
                  </a:xfrm>
                </p:grpSpPr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3581280" y="36572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>
                      <a:off x="3581280" y="41144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>
                      <a:off x="3581280" y="45716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86" name=""/>
                  <p:cNvSpPr/>
                  <p:nvPr/>
                </p:nvSpPr>
                <p:spPr>
                  <a:xfrm>
                    <a:off x="3429000" y="35812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429000" y="40384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3429000" y="44956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5105520" y="40384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5257800" y="411444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1" name=""/>
                <p:cNvSpPr/>
                <p:nvPr/>
              </p:nvSpPr>
              <p:spPr>
                <a:xfrm>
                  <a:off x="4267080" y="34286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rot="10869000">
                  <a:off x="4800240" y="403776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2905920" y="335268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2907360" y="380988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921040" y="426708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2905920" y="4800600"/>
                <a:ext cx="2961360" cy="1494000"/>
                <a:chOff x="2905920" y="4800600"/>
                <a:chExt cx="2961360" cy="1494000"/>
              </a:xfrm>
            </p:grpSpPr>
            <p:grpSp>
              <p:nvGrpSpPr>
                <p:cNvPr id="2697" name=""/>
                <p:cNvGrpSpPr/>
                <p:nvPr/>
              </p:nvGrpSpPr>
              <p:grpSpPr>
                <a:xfrm>
                  <a:off x="3429000" y="4876560"/>
                  <a:ext cx="2438280" cy="1295640"/>
                  <a:chOff x="3429000" y="4876560"/>
                  <a:chExt cx="2438280" cy="1295640"/>
                </a:xfrm>
              </p:grpSpPr>
              <p:sp>
                <p:nvSpPr>
                  <p:cNvPr id="2698" name=""/>
                  <p:cNvSpPr/>
                  <p:nvPr/>
                </p:nvSpPr>
                <p:spPr>
                  <a:xfrm>
                    <a:off x="4191120" y="487656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9" name=""/>
                  <p:cNvGrpSpPr/>
                  <p:nvPr/>
                </p:nvGrpSpPr>
                <p:grpSpPr>
                  <a:xfrm>
                    <a:off x="3581280" y="5105160"/>
                    <a:ext cx="609480" cy="914400"/>
                    <a:chOff x="3581280" y="5105160"/>
                    <a:chExt cx="609480" cy="914400"/>
                  </a:xfrm>
                </p:grpSpPr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3581280" y="51051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3581280" y="55623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3581280" y="60195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03" name=""/>
                  <p:cNvSpPr/>
                  <p:nvPr/>
                </p:nvSpPr>
                <p:spPr>
                  <a:xfrm>
                    <a:off x="3429000" y="50292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3429000" y="54864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3429000" y="59436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5105520" y="54864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5257800" y="556236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8" name=""/>
                <p:cNvSpPr/>
                <p:nvPr/>
              </p:nvSpPr>
              <p:spPr>
                <a:xfrm>
                  <a:off x="4267080" y="4876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10869000">
                  <a:off x="4800240" y="548568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2905920" y="480060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907360" y="525780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2921040" y="571500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13" name=""/>
          <p:cNvGrpSpPr/>
          <p:nvPr/>
        </p:nvGrpSpPr>
        <p:grpSpPr>
          <a:xfrm>
            <a:off x="5029200" y="2209680"/>
            <a:ext cx="990720" cy="3505320"/>
            <a:chOff x="5029200" y="2209680"/>
            <a:chExt cx="990720" cy="3505320"/>
          </a:xfrm>
        </p:grpSpPr>
        <p:sp>
          <p:nvSpPr>
            <p:cNvPr id="2714" name=""/>
            <p:cNvSpPr/>
            <p:nvPr/>
          </p:nvSpPr>
          <p:spPr>
            <a:xfrm>
              <a:off x="5562720" y="5334120"/>
              <a:ext cx="1522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562720" y="3962520"/>
              <a:ext cx="1522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6" name=""/>
            <p:cNvGrpSpPr/>
            <p:nvPr/>
          </p:nvGrpSpPr>
          <p:grpSpPr>
            <a:xfrm>
              <a:off x="5029200" y="2209680"/>
              <a:ext cx="990720" cy="510120"/>
              <a:chOff x="5029200" y="2209680"/>
              <a:chExt cx="990720" cy="510120"/>
            </a:xfrm>
          </p:grpSpPr>
          <p:sp>
            <p:nvSpPr>
              <p:cNvPr id="2717" name=""/>
              <p:cNvSpPr/>
              <p:nvPr/>
            </p:nvSpPr>
            <p:spPr>
              <a:xfrm>
                <a:off x="5170320" y="2286000"/>
                <a:ext cx="566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029200" y="2209680"/>
                <a:ext cx="99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453640" y="2438280"/>
                <a:ext cx="46800" cy="50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"/>
          <p:cNvSpPr/>
          <p:nvPr/>
        </p:nvSpPr>
        <p:spPr>
          <a:xfrm>
            <a:off x="1012680" y="1295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1" name=""/>
          <p:cNvGrpSpPr/>
          <p:nvPr/>
        </p:nvGrpSpPr>
        <p:grpSpPr>
          <a:xfrm>
            <a:off x="6575400" y="1219320"/>
            <a:ext cx="1654200" cy="1904760"/>
            <a:chOff x="6575400" y="1219320"/>
            <a:chExt cx="1654200" cy="1904760"/>
          </a:xfrm>
        </p:grpSpPr>
        <p:sp>
          <p:nvSpPr>
            <p:cNvPr id="2722" name=""/>
            <p:cNvSpPr/>
            <p:nvPr/>
          </p:nvSpPr>
          <p:spPr>
            <a:xfrm>
              <a:off x="6575400" y="1219320"/>
              <a:ext cx="946080" cy="19047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521480" y="1721880"/>
              <a:ext cx="70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有源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1021320" y="4343400"/>
            <a:ext cx="3191760" cy="1739880"/>
            <a:chOff x="1021320" y="4343400"/>
            <a:chExt cx="3191760" cy="1739880"/>
          </a:xfrm>
        </p:grpSpPr>
        <p:sp>
          <p:nvSpPr>
            <p:cNvPr id="2725" name=""/>
            <p:cNvSpPr/>
            <p:nvPr/>
          </p:nvSpPr>
          <p:spPr>
            <a:xfrm>
              <a:off x="2155680" y="4419720"/>
              <a:ext cx="99072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6" name=""/>
            <p:cNvGrpSpPr/>
            <p:nvPr/>
          </p:nvGrpSpPr>
          <p:grpSpPr>
            <a:xfrm>
              <a:off x="1546200" y="4648320"/>
              <a:ext cx="609480" cy="914400"/>
              <a:chOff x="1546200" y="4648320"/>
              <a:chExt cx="609480" cy="914400"/>
            </a:xfrm>
          </p:grpSpPr>
          <p:sp>
            <p:nvSpPr>
              <p:cNvPr id="2727" name=""/>
              <p:cNvSpPr/>
              <p:nvPr/>
            </p:nvSpPr>
            <p:spPr>
              <a:xfrm>
                <a:off x="1546200" y="46483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546200" y="5105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546200" y="55627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0" name=""/>
            <p:cNvSpPr/>
            <p:nvPr/>
          </p:nvSpPr>
          <p:spPr>
            <a:xfrm>
              <a:off x="1393920" y="4572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393920" y="50292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39392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146400" y="4876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298680" y="4952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38428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7558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023840" y="52578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022760" y="48006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021320" y="43434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51120" y="5562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155680" y="52578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841480" y="4419720"/>
              <a:ext cx="304920" cy="304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1089000" y="1143000"/>
            <a:ext cx="6512040" cy="4343400"/>
            <a:chOff x="1089000" y="1143000"/>
            <a:chExt cx="6512040" cy="4343400"/>
          </a:xfrm>
        </p:grpSpPr>
        <p:sp>
          <p:nvSpPr>
            <p:cNvPr id="2744" name=""/>
            <p:cNvSpPr/>
            <p:nvPr/>
          </p:nvSpPr>
          <p:spPr>
            <a:xfrm>
              <a:off x="5813280" y="12193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798880" y="36576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32600" y="312408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37120" y="434340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089000" y="2997360"/>
              <a:ext cx="5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096200" y="342900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099440" y="3809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594320" y="1828800"/>
              <a:ext cx="55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375000" y="182880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381200" y="274320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89600" y="1143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841480" y="2743200"/>
              <a:ext cx="101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522680" y="548640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194520" y="41911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091200" y="3276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589720" y="3505320"/>
              <a:ext cx="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5589360" y="3606840"/>
              <a:ext cx="48420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589720" y="4011480"/>
              <a:ext cx="60480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3324240" y="1292040"/>
              <a:ext cx="2489040" cy="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2550600" y="2590920"/>
              <a:ext cx="1128960" cy="428040"/>
              <a:chOff x="2550600" y="2590920"/>
              <a:chExt cx="1128960" cy="428040"/>
            </a:xfrm>
          </p:grpSpPr>
          <p:sp>
            <p:nvSpPr>
              <p:cNvPr id="2764" name=""/>
              <p:cNvSpPr/>
              <p:nvPr/>
            </p:nvSpPr>
            <p:spPr>
              <a:xfrm flipH="1">
                <a:off x="2663280" y="2590920"/>
                <a:ext cx="101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H="1" flipV="1">
                <a:off x="3454200" y="2590920"/>
                <a:ext cx="22536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>
                <a:off x="3004200" y="2592360"/>
                <a:ext cx="22572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2776680" y="2590920"/>
                <a:ext cx="22536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H="1">
                <a:off x="2550600" y="2590920"/>
                <a:ext cx="22572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9" name=""/>
            <p:cNvGrpSpPr/>
            <p:nvPr/>
          </p:nvGrpSpPr>
          <p:grpSpPr>
            <a:xfrm>
              <a:off x="3687840" y="2514600"/>
              <a:ext cx="1040760" cy="901440"/>
              <a:chOff x="3687840" y="2514600"/>
              <a:chExt cx="1040760" cy="901440"/>
            </a:xfrm>
          </p:grpSpPr>
          <p:sp>
            <p:nvSpPr>
              <p:cNvPr id="2770" name=""/>
              <p:cNvSpPr/>
              <p:nvPr/>
            </p:nvSpPr>
            <p:spPr>
              <a:xfrm>
                <a:off x="4150080" y="2514600"/>
                <a:ext cx="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>
                <a:off x="4149720" y="2643480"/>
                <a:ext cx="462600" cy="25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150080" y="3157920"/>
                <a:ext cx="5785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687840" y="302976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4" name=""/>
            <p:cNvSpPr/>
            <p:nvPr/>
          </p:nvSpPr>
          <p:spPr>
            <a:xfrm>
              <a:off x="3262320" y="182880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357360" y="129528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8784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94320" y="2362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83240" y="3352680"/>
              <a:ext cx="0" cy="9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70280" y="52578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100560" y="3276720"/>
              <a:ext cx="7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1" name=""/>
            <p:cNvGrpSpPr/>
            <p:nvPr/>
          </p:nvGrpSpPr>
          <p:grpSpPr>
            <a:xfrm>
              <a:off x="1698120" y="2971800"/>
              <a:ext cx="1325160" cy="990000"/>
              <a:chOff x="1698120" y="2971800"/>
              <a:chExt cx="1325160" cy="990000"/>
            </a:xfrm>
          </p:grpSpPr>
          <p:grpSp>
            <p:nvGrpSpPr>
              <p:cNvPr id="2782" name=""/>
              <p:cNvGrpSpPr/>
              <p:nvPr/>
            </p:nvGrpSpPr>
            <p:grpSpPr>
              <a:xfrm>
                <a:off x="1698120" y="2971800"/>
                <a:ext cx="851760" cy="380880"/>
                <a:chOff x="1698120" y="2971800"/>
                <a:chExt cx="851760" cy="38088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2549880" y="2971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>
                  <a:off x="1698120" y="3352680"/>
                  <a:ext cx="85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5" name=""/>
              <p:cNvGrpSpPr/>
              <p:nvPr/>
            </p:nvGrpSpPr>
            <p:grpSpPr>
              <a:xfrm>
                <a:off x="1698480" y="2971800"/>
                <a:ext cx="1135440" cy="685440"/>
                <a:chOff x="1698480" y="2971800"/>
                <a:chExt cx="1135440" cy="68544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2833920" y="297180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>
                  <a:off x="1698480" y="3657240"/>
                  <a:ext cx="113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8" name=""/>
              <p:cNvGrpSpPr/>
              <p:nvPr/>
            </p:nvGrpSpPr>
            <p:grpSpPr>
              <a:xfrm>
                <a:off x="1698480" y="2971800"/>
                <a:ext cx="1324800" cy="990000"/>
                <a:chOff x="1698480" y="2971800"/>
                <a:chExt cx="1324800" cy="99000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3023280" y="2971800"/>
                  <a:ext cx="0" cy="99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1698480" y="3961800"/>
                  <a:ext cx="132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1" name=""/>
            <p:cNvSpPr/>
            <p:nvPr/>
          </p:nvSpPr>
          <p:spPr>
            <a:xfrm>
              <a:off x="467820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546200" y="32767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546200" y="35812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546200" y="388620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70280" y="3886200"/>
              <a:ext cx="50760" cy="50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18000" y="19051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94320" y="426708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4680000" y="472428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70280" y="3922560"/>
              <a:ext cx="914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838920" y="320040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336840" y="2286000"/>
              <a:ext cx="0" cy="304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956280" y="2133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842160" y="21337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6923160" y="1371240"/>
              <a:ext cx="0" cy="76212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846840" y="12952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977160" y="1295280"/>
              <a:ext cx="56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900840" y="259092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8" name=""/>
          <p:cNvSpPr/>
          <p:nvPr/>
        </p:nvSpPr>
        <p:spPr>
          <a:xfrm>
            <a:off x="838080" y="4572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4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集电极开路“与非”门电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(O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914400" y="609480"/>
            <a:ext cx="7543800" cy="956160"/>
            <a:chOff x="914400" y="609480"/>
            <a:chExt cx="7543800" cy="956160"/>
          </a:xfrm>
        </p:grpSpPr>
        <p:sp>
          <p:nvSpPr>
            <p:cNvPr id="102" name=""/>
            <p:cNvSpPr/>
            <p:nvPr/>
          </p:nvSpPr>
          <p:spPr>
            <a:xfrm>
              <a:off x="914400" y="609480"/>
              <a:ext cx="457200" cy="3812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1002600"/>
              <a:ext cx="7543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处理模拟信号的电路称为模拟电路</a:t>
              </a:r>
              <a:r>
                <a:rPr b="1" lang="zh-CN" sz="2800" spc="-1" strike="noStrike">
                  <a:solidFill>
                    <a:srgbClr val="3333cc"/>
                  </a:solidFill>
                  <a:latin typeface=""/>
                </a:rPr>
                <a:t>。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如整流电路、放大电路等，注重研究的是输入和输出信号间的大小及相位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62120" y="2133360"/>
            <a:ext cx="7696080" cy="712080"/>
            <a:chOff x="762120" y="2133360"/>
            <a:chExt cx="7696080" cy="712080"/>
          </a:xfrm>
        </p:grpSpPr>
        <p:sp>
          <p:nvSpPr>
            <p:cNvPr id="105" name=""/>
            <p:cNvSpPr/>
            <p:nvPr/>
          </p:nvSpPr>
          <p:spPr>
            <a:xfrm>
              <a:off x="914400" y="2133360"/>
              <a:ext cx="380520" cy="3812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2215440"/>
              <a:ext cx="7696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在模拟电路中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晶体管三极管通常工作在放大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73320" y="2971800"/>
            <a:ext cx="1887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脉冲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是一种跃变信号，并且持续时间短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447920" cy="9032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512720" y="3962160"/>
            <a:ext cx="4362120" cy="1374480"/>
            <a:chOff x="1512720" y="3962160"/>
            <a:chExt cx="4362120" cy="1374480"/>
          </a:xfrm>
        </p:grpSpPr>
        <p:sp>
          <p:nvSpPr>
            <p:cNvPr id="110" name=""/>
            <p:cNvSpPr/>
            <p:nvPr/>
          </p:nvSpPr>
          <p:spPr>
            <a:xfrm>
              <a:off x="1512720" y="4038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尖顶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819520" y="3962160"/>
              <a:ext cx="3055320" cy="1374480"/>
              <a:chOff x="2819520" y="3962160"/>
              <a:chExt cx="3055320" cy="1374480"/>
            </a:xfrm>
          </p:grpSpPr>
          <p:sp>
            <p:nvSpPr>
              <p:cNvPr id="112" name=""/>
              <p:cNvSpPr/>
              <p:nvPr/>
            </p:nvSpPr>
            <p:spPr>
              <a:xfrm flipV="1">
                <a:off x="2819520" y="3962160"/>
                <a:ext cx="0" cy="1145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114440" y="4730400"/>
                <a:ext cx="172440" cy="606240"/>
                <a:chOff x="4114440" y="4730400"/>
                <a:chExt cx="172440" cy="606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114440" y="4730400"/>
                  <a:ext cx="0" cy="606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114440" y="4730400"/>
                  <a:ext cx="172440" cy="606240"/>
                </a:xfrm>
                <a:custGeom>
                  <a:avLst/>
                  <a:gdLst/>
                  <a:ahLst/>
                  <a:rect l="l" t="t" r="r" b="b"/>
                  <a:pathLst>
                    <a:path w="96" h="432">
                      <a:moveTo>
                        <a:pt x="0" y="432"/>
                      </a:moveTo>
                      <a:cubicBezTo>
                        <a:pt x="40" y="252"/>
                        <a:pt x="80" y="72"/>
                        <a:pt x="96" y="0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 flipV="1">
                <a:off x="2819520" y="4727160"/>
                <a:ext cx="2768400" cy="2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9200" y="457488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3427200" y="4106520"/>
                <a:ext cx="221760" cy="622800"/>
                <a:chOff x="3427200" y="4106520"/>
                <a:chExt cx="221760" cy="62280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3428280" y="4123440"/>
                  <a:ext cx="0" cy="605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427200" y="4106520"/>
                  <a:ext cx="221760" cy="606240"/>
                </a:xfrm>
                <a:custGeom>
                  <a:avLst/>
                  <a:gdLst/>
                  <a:ahLst/>
                  <a:rect l="l" t="t" r="r" b="b"/>
                  <a:pathLst>
                    <a:path w="140" h="382">
                      <a:moveTo>
                        <a:pt x="0" y="0"/>
                      </a:moveTo>
                      <a:cubicBezTo>
                        <a:pt x="19" y="55"/>
                        <a:pt x="15" y="115"/>
                        <a:pt x="31" y="171"/>
                      </a:cubicBezTo>
                      <a:cubicBezTo>
                        <a:pt x="45" y="222"/>
                        <a:pt x="69" y="263"/>
                        <a:pt x="86" y="312"/>
                      </a:cubicBezTo>
                      <a:cubicBezTo>
                        <a:pt x="94" y="334"/>
                        <a:pt x="116" y="382"/>
                        <a:pt x="140" y="38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749480" y="4117680"/>
                <a:ext cx="222120" cy="622800"/>
                <a:chOff x="4749480" y="4117680"/>
                <a:chExt cx="222120" cy="62280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4750920" y="4134600"/>
                  <a:ext cx="0" cy="605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49480" y="4117680"/>
                  <a:ext cx="222120" cy="606240"/>
                </a:xfrm>
                <a:custGeom>
                  <a:avLst/>
                  <a:gdLst/>
                  <a:ahLst/>
                  <a:rect l="l" t="t" r="r" b="b"/>
                  <a:pathLst>
                    <a:path w="140" h="382">
                      <a:moveTo>
                        <a:pt x="0" y="0"/>
                      </a:moveTo>
                      <a:cubicBezTo>
                        <a:pt x="19" y="55"/>
                        <a:pt x="15" y="115"/>
                        <a:pt x="31" y="171"/>
                      </a:cubicBezTo>
                      <a:cubicBezTo>
                        <a:pt x="45" y="222"/>
                        <a:pt x="69" y="263"/>
                        <a:pt x="86" y="312"/>
                      </a:cubicBezTo>
                      <a:cubicBezTo>
                        <a:pt x="94" y="334"/>
                        <a:pt x="116" y="382"/>
                        <a:pt x="140" y="38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" name=""/>
          <p:cNvGrpSpPr/>
          <p:nvPr/>
        </p:nvGrpSpPr>
        <p:grpSpPr>
          <a:xfrm>
            <a:off x="1512720" y="5211720"/>
            <a:ext cx="4278600" cy="1191600"/>
            <a:chOff x="1512720" y="5211720"/>
            <a:chExt cx="4278600" cy="1191600"/>
          </a:xfrm>
        </p:grpSpPr>
        <p:sp>
          <p:nvSpPr>
            <p:cNvPr id="125" name=""/>
            <p:cNvSpPr/>
            <p:nvPr/>
          </p:nvSpPr>
          <p:spPr>
            <a:xfrm>
              <a:off x="1512720" y="5257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矩形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819520" y="5211720"/>
              <a:ext cx="2971800" cy="1191600"/>
              <a:chOff x="2819520" y="5211720"/>
              <a:chExt cx="2971800" cy="11916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2819520" y="5638680"/>
                <a:ext cx="457200" cy="609840"/>
                <a:chOff x="2819520" y="5638680"/>
                <a:chExt cx="457200" cy="6098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81952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7672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809880" y="5638680"/>
                <a:ext cx="457200" cy="609840"/>
                <a:chOff x="3809880" y="5638680"/>
                <a:chExt cx="457200" cy="6098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80988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80988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26708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V="1">
                <a:off x="2819520" y="5211720"/>
                <a:ext cx="0" cy="103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19520" y="6248520"/>
                <a:ext cx="274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400" y="59436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4800600" y="5638680"/>
                <a:ext cx="457200" cy="609840"/>
                <a:chOff x="4800600" y="5638680"/>
                <a:chExt cx="457200" cy="609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80060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80060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5780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"/>
          <p:cNvSpPr/>
          <p:nvPr/>
        </p:nvSpPr>
        <p:spPr>
          <a:xfrm>
            <a:off x="865080" y="62316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O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门的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11384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端可直接驱动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419720" y="1143000"/>
            <a:ext cx="0" cy="5105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2" name=""/>
          <p:cNvGrpSpPr/>
          <p:nvPr/>
        </p:nvGrpSpPr>
        <p:grpSpPr>
          <a:xfrm>
            <a:off x="465840" y="1523880"/>
            <a:ext cx="3644280" cy="4262400"/>
            <a:chOff x="465840" y="1523880"/>
            <a:chExt cx="3644280" cy="4262400"/>
          </a:xfrm>
        </p:grpSpPr>
        <p:sp>
          <p:nvSpPr>
            <p:cNvPr id="2813" name=""/>
            <p:cNvSpPr/>
            <p:nvPr/>
          </p:nvSpPr>
          <p:spPr>
            <a:xfrm>
              <a:off x="838080" y="1752480"/>
              <a:ext cx="914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4320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600200" y="2819520"/>
              <a:ext cx="99072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6" name=""/>
            <p:cNvGrpSpPr/>
            <p:nvPr/>
          </p:nvGrpSpPr>
          <p:grpSpPr>
            <a:xfrm>
              <a:off x="990720" y="3048120"/>
              <a:ext cx="609480" cy="914400"/>
              <a:chOff x="990720" y="3048120"/>
              <a:chExt cx="609480" cy="914400"/>
            </a:xfrm>
          </p:grpSpPr>
          <p:sp>
            <p:nvSpPr>
              <p:cNvPr id="2817" name=""/>
              <p:cNvSpPr/>
              <p:nvPr/>
            </p:nvSpPr>
            <p:spPr>
              <a:xfrm>
                <a:off x="990720" y="30481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990720" y="35053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99072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0" name=""/>
            <p:cNvSpPr/>
            <p:nvPr/>
          </p:nvSpPr>
          <p:spPr>
            <a:xfrm>
              <a:off x="838080" y="29718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080" y="3429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80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590920" y="3276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43200" y="33526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828800" y="2819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68360" y="36576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7280" y="3200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65840" y="2743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286000" y="2819520"/>
              <a:ext cx="304920" cy="304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0" name=""/>
            <p:cNvGrpSpPr/>
            <p:nvPr/>
          </p:nvGrpSpPr>
          <p:grpSpPr>
            <a:xfrm>
              <a:off x="2895480" y="2057400"/>
              <a:ext cx="380880" cy="990720"/>
              <a:chOff x="2895480" y="2057400"/>
              <a:chExt cx="380880" cy="990720"/>
            </a:xfrm>
          </p:grpSpPr>
          <p:sp>
            <p:nvSpPr>
              <p:cNvPr id="2831" name=""/>
              <p:cNvSpPr/>
              <p:nvPr/>
            </p:nvSpPr>
            <p:spPr>
              <a:xfrm>
                <a:off x="2935080" y="2362320"/>
                <a:ext cx="304920" cy="3808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2895480" y="2362320"/>
                <a:ext cx="3808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087360" y="2057400"/>
                <a:ext cx="0" cy="990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4" name=""/>
            <p:cNvSpPr/>
            <p:nvPr/>
          </p:nvSpPr>
          <p:spPr>
            <a:xfrm>
              <a:off x="3505320" y="2380320"/>
              <a:ext cx="60480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3809880" y="2819160"/>
              <a:ext cx="0" cy="533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084480" y="3048120"/>
              <a:ext cx="727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3809880" y="182880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087720" y="2057400"/>
              <a:ext cx="727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73392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8954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+24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1257840" y="4190040"/>
              <a:ext cx="2134440" cy="1596240"/>
              <a:chOff x="1257840" y="4190040"/>
              <a:chExt cx="2134440" cy="1596240"/>
            </a:xfrm>
          </p:grpSpPr>
          <p:sp>
            <p:nvSpPr>
              <p:cNvPr id="2842" name=""/>
              <p:cNvSpPr/>
              <p:nvPr/>
            </p:nvSpPr>
            <p:spPr>
              <a:xfrm>
                <a:off x="1752480" y="4648320"/>
                <a:ext cx="685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1600200" y="457200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2438280" y="4495680"/>
                <a:ext cx="304920" cy="152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2743200" y="4648320"/>
                <a:ext cx="45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011400" y="4952880"/>
                <a:ext cx="380880" cy="381240"/>
              </a:xfrm>
              <a:prstGeom prst="flowChartSummingJunction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200400" y="4648320"/>
                <a:ext cx="0" cy="304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200400" y="5334120"/>
                <a:ext cx="0" cy="380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1752480" y="5715000"/>
                <a:ext cx="14479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600200" y="563868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381760" y="4190040"/>
                <a:ext cx="52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57840" y="487584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~2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3" name=""/>
          <p:cNvSpPr/>
          <p:nvPr/>
        </p:nvSpPr>
        <p:spPr>
          <a:xfrm>
            <a:off x="515268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几个输出端可直接相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4959720" y="1827720"/>
            <a:ext cx="3418200" cy="3794400"/>
            <a:chOff x="4959720" y="1827720"/>
            <a:chExt cx="3418200" cy="3794400"/>
          </a:xfrm>
        </p:grpSpPr>
        <p:grpSp>
          <p:nvGrpSpPr>
            <p:cNvPr id="2855" name=""/>
            <p:cNvGrpSpPr/>
            <p:nvPr/>
          </p:nvGrpSpPr>
          <p:grpSpPr>
            <a:xfrm>
              <a:off x="4959720" y="1827720"/>
              <a:ext cx="3418200" cy="3794400"/>
              <a:chOff x="4959720" y="1827720"/>
              <a:chExt cx="3418200" cy="3794400"/>
            </a:xfrm>
          </p:grpSpPr>
          <p:sp>
            <p:nvSpPr>
              <p:cNvPr id="2856" name=""/>
              <p:cNvSpPr/>
              <p:nvPr/>
            </p:nvSpPr>
            <p:spPr>
              <a:xfrm>
                <a:off x="7162560" y="2666880"/>
                <a:ext cx="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772400" y="20574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943600" y="213336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9" name=""/>
              <p:cNvGrpSpPr/>
              <p:nvPr/>
            </p:nvGrpSpPr>
            <p:grpSpPr>
              <a:xfrm>
                <a:off x="5486400" y="2361960"/>
                <a:ext cx="457200" cy="533520"/>
                <a:chOff x="5486400" y="2361960"/>
                <a:chExt cx="457200" cy="53352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5486400" y="2361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5486400" y="2628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54864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3" name=""/>
              <p:cNvSpPr/>
              <p:nvPr/>
            </p:nvSpPr>
            <p:spPr>
              <a:xfrm>
                <a:off x="5370480" y="23032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78168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019560" y="2133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034960" y="213336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959720" y="243828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961160" y="274320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373720" y="255564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373720" y="28191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629400" y="259056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712560" y="22096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400800" y="213336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943600" y="335268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5" name=""/>
              <p:cNvGrpSpPr/>
              <p:nvPr/>
            </p:nvGrpSpPr>
            <p:grpSpPr>
              <a:xfrm>
                <a:off x="5486400" y="3581280"/>
                <a:ext cx="457200" cy="533520"/>
                <a:chOff x="5486400" y="3581280"/>
                <a:chExt cx="457200" cy="533520"/>
              </a:xfrm>
            </p:grpSpPr>
            <p:sp>
              <p:nvSpPr>
                <p:cNvPr id="2876" name=""/>
                <p:cNvSpPr/>
                <p:nvPr/>
              </p:nvSpPr>
              <p:spPr>
                <a:xfrm>
                  <a:off x="5486400" y="3581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5486400" y="38480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5486400" y="4114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9" name=""/>
              <p:cNvSpPr/>
              <p:nvPr/>
            </p:nvSpPr>
            <p:spPr>
              <a:xfrm>
                <a:off x="5370480" y="35226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781680" y="3886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01956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034960" y="335268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959720" y="365760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961160" y="396216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373720" y="37749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373720" y="40384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712560" y="342900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400800" y="335268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943600" y="4572000"/>
                <a:ext cx="68580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0" name=""/>
              <p:cNvGrpSpPr/>
              <p:nvPr/>
            </p:nvGrpSpPr>
            <p:grpSpPr>
              <a:xfrm>
                <a:off x="5486400" y="4800600"/>
                <a:ext cx="457200" cy="533160"/>
                <a:chOff x="5486400" y="4800600"/>
                <a:chExt cx="457200" cy="533160"/>
              </a:xfrm>
            </p:grpSpPr>
            <p:sp>
              <p:nvSpPr>
                <p:cNvPr id="2891" name=""/>
                <p:cNvSpPr/>
                <p:nvPr/>
              </p:nvSpPr>
              <p:spPr>
                <a:xfrm>
                  <a:off x="548640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5486400" y="5067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5486400" y="5333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4" name=""/>
              <p:cNvSpPr/>
              <p:nvPr/>
            </p:nvSpPr>
            <p:spPr>
              <a:xfrm>
                <a:off x="5370480" y="47419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81680" y="5105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019560" y="4572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034960" y="457200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959720" y="487656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961160" y="518148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73720" y="49942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373720" y="525780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712560" y="464796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400800" y="457200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62560" y="3886200"/>
                <a:ext cx="609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26200" y="3846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7848360" y="327636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629400" y="380988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629400" y="502920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772400" y="38098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7839000" y="215388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772400" y="281916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896600" y="1827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11000" y="2763000"/>
                <a:ext cx="46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4" name=""/>
            <p:cNvSpPr/>
            <p:nvPr/>
          </p:nvSpPr>
          <p:spPr>
            <a:xfrm>
              <a:off x="7646040" y="388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4343400" y="2362320"/>
            <a:ext cx="990720" cy="2744640"/>
            <a:chOff x="4343400" y="2362320"/>
            <a:chExt cx="990720" cy="2744640"/>
          </a:xfrm>
        </p:grpSpPr>
        <p:grpSp>
          <p:nvGrpSpPr>
            <p:cNvPr id="2916" name=""/>
            <p:cNvGrpSpPr/>
            <p:nvPr/>
          </p:nvGrpSpPr>
          <p:grpSpPr>
            <a:xfrm>
              <a:off x="4351320" y="2362320"/>
              <a:ext cx="677880" cy="761760"/>
              <a:chOff x="4351320" y="2362320"/>
              <a:chExt cx="677880" cy="761760"/>
            </a:xfrm>
          </p:grpSpPr>
          <p:sp>
            <p:nvSpPr>
              <p:cNvPr id="2917" name=""/>
              <p:cNvSpPr/>
              <p:nvPr/>
            </p:nvSpPr>
            <p:spPr>
              <a:xfrm>
                <a:off x="4876920" y="2362320"/>
                <a:ext cx="152280" cy="76176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351320" y="25135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“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1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9" name=""/>
            <p:cNvSpPr/>
            <p:nvPr/>
          </p:nvSpPr>
          <p:spPr>
            <a:xfrm>
              <a:off x="4343400" y="3427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343400" y="46472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7391520" y="426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7238880" y="2666880"/>
            <a:ext cx="457200" cy="1143000"/>
            <a:chOff x="7238880" y="2666880"/>
            <a:chExt cx="457200" cy="1143000"/>
          </a:xfrm>
        </p:grpSpPr>
        <p:sp>
          <p:nvSpPr>
            <p:cNvPr id="2923" name=""/>
            <p:cNvSpPr/>
            <p:nvPr/>
          </p:nvSpPr>
          <p:spPr>
            <a:xfrm>
              <a:off x="7696080" y="2666880"/>
              <a:ext cx="0" cy="990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7238880" y="380988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5" name=""/>
          <p:cNvSpPr/>
          <p:nvPr/>
        </p:nvSpPr>
        <p:spPr>
          <a:xfrm flipV="1">
            <a:off x="7238880" y="281952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6858000" y="3809880"/>
            <a:ext cx="228600" cy="1371600"/>
            <a:chOff x="6858000" y="3809880"/>
            <a:chExt cx="228600" cy="1371600"/>
          </a:xfrm>
        </p:grpSpPr>
        <p:sp>
          <p:nvSpPr>
            <p:cNvPr id="2927" name=""/>
            <p:cNvSpPr/>
            <p:nvPr/>
          </p:nvSpPr>
          <p:spPr>
            <a:xfrm>
              <a:off x="6858000" y="38098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934320" y="50292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6781680" y="2208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0" name=""/>
          <p:cNvGrpSpPr/>
          <p:nvPr/>
        </p:nvGrpSpPr>
        <p:grpSpPr>
          <a:xfrm>
            <a:off x="465840" y="532800"/>
            <a:ext cx="3953880" cy="5715720"/>
            <a:chOff x="465840" y="532800"/>
            <a:chExt cx="3953880" cy="5715720"/>
          </a:xfrm>
        </p:grpSpPr>
        <p:sp>
          <p:nvSpPr>
            <p:cNvPr id="2931" name=""/>
            <p:cNvSpPr/>
            <p:nvPr/>
          </p:nvSpPr>
          <p:spPr>
            <a:xfrm>
              <a:off x="1165680" y="5328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OC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门的特点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113840" y="1142280"/>
              <a:ext cx="270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端可直接驱动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19720" y="1143000"/>
              <a:ext cx="0" cy="510552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4" name=""/>
            <p:cNvGrpSpPr/>
            <p:nvPr/>
          </p:nvGrpSpPr>
          <p:grpSpPr>
            <a:xfrm>
              <a:off x="465840" y="1523880"/>
              <a:ext cx="3644280" cy="4262400"/>
              <a:chOff x="465840" y="1523880"/>
              <a:chExt cx="3644280" cy="4262400"/>
            </a:xfrm>
          </p:grpSpPr>
          <p:sp>
            <p:nvSpPr>
              <p:cNvPr id="2935" name=""/>
              <p:cNvSpPr/>
              <p:nvPr/>
            </p:nvSpPr>
            <p:spPr>
              <a:xfrm>
                <a:off x="838080" y="1752480"/>
                <a:ext cx="9144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如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4320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600200" y="2819520"/>
                <a:ext cx="99072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8" name=""/>
              <p:cNvGrpSpPr/>
              <p:nvPr/>
            </p:nvGrpSpPr>
            <p:grpSpPr>
              <a:xfrm>
                <a:off x="990720" y="3048120"/>
                <a:ext cx="609480" cy="914400"/>
                <a:chOff x="990720" y="3048120"/>
                <a:chExt cx="609480" cy="91440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990720" y="30481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990720" y="35053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990720" y="39625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2" name=""/>
              <p:cNvSpPr/>
              <p:nvPr/>
            </p:nvSpPr>
            <p:spPr>
              <a:xfrm>
                <a:off x="838080" y="29718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38080" y="34290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38080" y="38862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590920" y="32767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743200" y="33526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828800" y="2819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68360" y="365760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67280" y="320040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65840" y="274320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286000" y="2819520"/>
                <a:ext cx="304920" cy="304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2" name=""/>
              <p:cNvGrpSpPr/>
              <p:nvPr/>
            </p:nvGrpSpPr>
            <p:grpSpPr>
              <a:xfrm>
                <a:off x="2895480" y="2057400"/>
                <a:ext cx="380880" cy="990720"/>
                <a:chOff x="2895480" y="2057400"/>
                <a:chExt cx="380880" cy="9907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2935080" y="2362320"/>
                  <a:ext cx="304920" cy="380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2895480" y="23623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3087360" y="2057400"/>
                  <a:ext cx="0" cy="9907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6" name=""/>
              <p:cNvSpPr/>
              <p:nvPr/>
            </p:nvSpPr>
            <p:spPr>
              <a:xfrm>
                <a:off x="3505320" y="2380320"/>
                <a:ext cx="604800" cy="398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809880" y="2819160"/>
                <a:ext cx="0" cy="533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84480" y="3048120"/>
                <a:ext cx="72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809880" y="182880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87720" y="2057400"/>
                <a:ext cx="72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733920" y="16765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895480" y="15238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+24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3" name=""/>
              <p:cNvGrpSpPr/>
              <p:nvPr/>
            </p:nvGrpSpPr>
            <p:grpSpPr>
              <a:xfrm>
                <a:off x="1257840" y="4190040"/>
                <a:ext cx="2134440" cy="1596240"/>
                <a:chOff x="1257840" y="4190040"/>
                <a:chExt cx="2134440" cy="159624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1752480" y="46483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600200" y="4572000"/>
                  <a:ext cx="147600" cy="147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2438280" y="449568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2743200" y="46483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3011400" y="4952880"/>
                  <a:ext cx="380880" cy="381240"/>
                </a:xfrm>
                <a:prstGeom prst="flowChartSummingJunction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32004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3200400" y="533412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H="1">
                  <a:off x="1752480" y="5715000"/>
                  <a:ext cx="144792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600200" y="5638680"/>
                  <a:ext cx="147600" cy="147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2381760" y="4190040"/>
                  <a:ext cx="52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"/>
                    </a:rPr>
                    <a:t>K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1257840" y="4875840"/>
                  <a:ext cx="875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"/>
                    </a:rPr>
                    <a:t>~2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75" name=""/>
          <p:cNvSpPr/>
          <p:nvPr/>
        </p:nvSpPr>
        <p:spPr>
          <a:xfrm>
            <a:off x="515268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几个输出端可直接相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4959720" y="1827720"/>
            <a:ext cx="3418200" cy="3794400"/>
            <a:chOff x="4959720" y="1827720"/>
            <a:chExt cx="3418200" cy="3794400"/>
          </a:xfrm>
        </p:grpSpPr>
        <p:grpSp>
          <p:nvGrpSpPr>
            <p:cNvPr id="2977" name=""/>
            <p:cNvGrpSpPr/>
            <p:nvPr/>
          </p:nvGrpSpPr>
          <p:grpSpPr>
            <a:xfrm>
              <a:off x="4959720" y="1827720"/>
              <a:ext cx="3418200" cy="3794400"/>
              <a:chOff x="4959720" y="1827720"/>
              <a:chExt cx="3418200" cy="3794400"/>
            </a:xfrm>
          </p:grpSpPr>
          <p:sp>
            <p:nvSpPr>
              <p:cNvPr id="2978" name=""/>
              <p:cNvSpPr/>
              <p:nvPr/>
            </p:nvSpPr>
            <p:spPr>
              <a:xfrm>
                <a:off x="7162560" y="2666880"/>
                <a:ext cx="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772400" y="20574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943600" y="213336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1" name=""/>
              <p:cNvGrpSpPr/>
              <p:nvPr/>
            </p:nvGrpSpPr>
            <p:grpSpPr>
              <a:xfrm>
                <a:off x="5486400" y="2361960"/>
                <a:ext cx="457200" cy="533520"/>
                <a:chOff x="5486400" y="2361960"/>
                <a:chExt cx="457200" cy="533520"/>
              </a:xfrm>
            </p:grpSpPr>
            <p:sp>
              <p:nvSpPr>
                <p:cNvPr id="2982" name=""/>
                <p:cNvSpPr/>
                <p:nvPr/>
              </p:nvSpPr>
              <p:spPr>
                <a:xfrm>
                  <a:off x="5486400" y="2361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5486400" y="2628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54864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5" name=""/>
              <p:cNvSpPr/>
              <p:nvPr/>
            </p:nvSpPr>
            <p:spPr>
              <a:xfrm>
                <a:off x="5370480" y="23032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78168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019560" y="2133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034960" y="213336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959720" y="243828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961160" y="274320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373720" y="255564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373720" y="28191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629400" y="259056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712560" y="22096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400800" y="213336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943600" y="335268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7" name=""/>
              <p:cNvGrpSpPr/>
              <p:nvPr/>
            </p:nvGrpSpPr>
            <p:grpSpPr>
              <a:xfrm>
                <a:off x="5486400" y="3581280"/>
                <a:ext cx="457200" cy="533520"/>
                <a:chOff x="5486400" y="3581280"/>
                <a:chExt cx="457200" cy="5335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5486400" y="3581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5486400" y="38480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486400" y="4114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1" name=""/>
              <p:cNvSpPr/>
              <p:nvPr/>
            </p:nvSpPr>
            <p:spPr>
              <a:xfrm>
                <a:off x="5370480" y="35226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81680" y="3886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1956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034960" y="335268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959720" y="365760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1160" y="396216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373720" y="37749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373720" y="40384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12560" y="342900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00800" y="335268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943600" y="4572000"/>
                <a:ext cx="68580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2" name=""/>
              <p:cNvGrpSpPr/>
              <p:nvPr/>
            </p:nvGrpSpPr>
            <p:grpSpPr>
              <a:xfrm>
                <a:off x="5486400" y="4800600"/>
                <a:ext cx="457200" cy="533160"/>
                <a:chOff x="5486400" y="4800600"/>
                <a:chExt cx="457200" cy="53316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548640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5486400" y="5067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5486400" y="5333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6" name=""/>
              <p:cNvSpPr/>
              <p:nvPr/>
            </p:nvSpPr>
            <p:spPr>
              <a:xfrm>
                <a:off x="5370480" y="47419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781680" y="5105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019560" y="4572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034960" y="457200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959720" y="487656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961160" y="518148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373720" y="49942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373720" y="525780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712560" y="464796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400800" y="457200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162560" y="3886200"/>
                <a:ext cx="609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126200" y="3846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7848360" y="327636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629400" y="380988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629400" y="502920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772400" y="38098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7839000" y="215388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772400" y="281916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896600" y="1827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11000" y="2763000"/>
                <a:ext cx="46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6" name=""/>
            <p:cNvSpPr/>
            <p:nvPr/>
          </p:nvSpPr>
          <p:spPr>
            <a:xfrm>
              <a:off x="7646040" y="388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7" name=""/>
          <p:cNvGrpSpPr/>
          <p:nvPr/>
        </p:nvGrpSpPr>
        <p:grpSpPr>
          <a:xfrm>
            <a:off x="4343400" y="2362320"/>
            <a:ext cx="990720" cy="2744640"/>
            <a:chOff x="4343400" y="2362320"/>
            <a:chExt cx="990720" cy="2744640"/>
          </a:xfrm>
        </p:grpSpPr>
        <p:grpSp>
          <p:nvGrpSpPr>
            <p:cNvPr id="3038" name=""/>
            <p:cNvGrpSpPr/>
            <p:nvPr/>
          </p:nvGrpSpPr>
          <p:grpSpPr>
            <a:xfrm>
              <a:off x="4351320" y="2362320"/>
              <a:ext cx="677880" cy="761760"/>
              <a:chOff x="4351320" y="2362320"/>
              <a:chExt cx="677880" cy="761760"/>
            </a:xfrm>
          </p:grpSpPr>
          <p:sp>
            <p:nvSpPr>
              <p:cNvPr id="3039" name=""/>
              <p:cNvSpPr/>
              <p:nvPr/>
            </p:nvSpPr>
            <p:spPr>
              <a:xfrm>
                <a:off x="4876920" y="2362320"/>
                <a:ext cx="152280" cy="76176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351320" y="25135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“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"/>
                  </a:rPr>
                  <a:t>1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1" name=""/>
            <p:cNvSpPr/>
            <p:nvPr/>
          </p:nvSpPr>
          <p:spPr>
            <a:xfrm>
              <a:off x="4343400" y="3427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343400" y="46472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3" name=""/>
          <p:cNvSpPr/>
          <p:nvPr/>
        </p:nvSpPr>
        <p:spPr>
          <a:xfrm>
            <a:off x="7391520" y="426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619600" y="563796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线与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6858000" y="2590920"/>
            <a:ext cx="228600" cy="2590200"/>
            <a:chOff x="6858000" y="2590920"/>
            <a:chExt cx="228600" cy="2590200"/>
          </a:xfrm>
        </p:grpSpPr>
        <p:sp>
          <p:nvSpPr>
            <p:cNvPr id="3046" name=""/>
            <p:cNvSpPr/>
            <p:nvPr/>
          </p:nvSpPr>
          <p:spPr>
            <a:xfrm>
              <a:off x="6858000" y="259092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934320" y="380988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858000" y="495288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9" name=""/>
          <p:cNvGrpSpPr/>
          <p:nvPr/>
        </p:nvGrpSpPr>
        <p:grpSpPr>
          <a:xfrm>
            <a:off x="4486680" y="2438280"/>
            <a:ext cx="354600" cy="459720"/>
            <a:chOff x="4486680" y="2438280"/>
            <a:chExt cx="354600" cy="459720"/>
          </a:xfrm>
        </p:grpSpPr>
        <p:sp>
          <p:nvSpPr>
            <p:cNvPr id="3050" name=""/>
            <p:cNvSpPr/>
            <p:nvPr/>
          </p:nvSpPr>
          <p:spPr>
            <a:xfrm>
              <a:off x="4572000" y="2438280"/>
              <a:ext cx="152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86680" y="243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subTitle"/>
          </p:nvPr>
        </p:nvSpPr>
        <p:spPr>
          <a:xfrm>
            <a:off x="2361960" y="457200"/>
            <a:ext cx="4647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1.5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MOS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门电路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5.1 NMOS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门电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685800" y="18288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NMOS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非”门电路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805120" y="5559480"/>
            <a:ext cx="0" cy="29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321520" y="1798560"/>
            <a:ext cx="178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&gt;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5105520" y="2393640"/>
            <a:ext cx="2971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的导通电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&lt;&lt;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的导通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074600" y="5713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05320" y="4876920"/>
            <a:ext cx="838080" cy="609480"/>
          </a:xfrm>
          <a:prstGeom prst="wedgeEllipseCallout">
            <a:avLst>
              <a:gd name="adj1" fmla="val -133712"/>
              <a:gd name="adj2" fmla="val 13800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741480" y="434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1074600" y="5713920"/>
            <a:ext cx="625680" cy="534600"/>
            <a:chOff x="1074600" y="5713920"/>
            <a:chExt cx="625680" cy="534600"/>
          </a:xfrm>
        </p:grpSpPr>
        <p:graphicFrame>
          <p:nvGraphicFramePr>
            <p:cNvPr id="3062" name=""/>
            <p:cNvGraphicFramePr/>
            <p:nvPr/>
          </p:nvGraphicFramePr>
          <p:xfrm>
            <a:off x="1143000" y="5715000"/>
            <a:ext cx="53352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5715000"/>
                      <a:ext cx="5335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4" name=""/>
            <p:cNvSpPr/>
            <p:nvPr/>
          </p:nvSpPr>
          <p:spPr>
            <a:xfrm>
              <a:off x="1074600" y="5713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3741480" y="4342320"/>
            <a:ext cx="625680" cy="534600"/>
            <a:chOff x="3741480" y="4342320"/>
            <a:chExt cx="625680" cy="534600"/>
          </a:xfrm>
        </p:grpSpPr>
        <p:graphicFrame>
          <p:nvGraphicFramePr>
            <p:cNvPr id="3066" name=""/>
            <p:cNvGraphicFramePr/>
            <p:nvPr/>
          </p:nvGraphicFramePr>
          <p:xfrm>
            <a:off x="3809880" y="4343400"/>
            <a:ext cx="53316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4343400"/>
                      <a:ext cx="533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8" name=""/>
            <p:cNvSpPr/>
            <p:nvPr/>
          </p:nvSpPr>
          <p:spPr>
            <a:xfrm>
              <a:off x="3741480" y="43423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3505320" y="4876920"/>
            <a:ext cx="838080" cy="609480"/>
          </a:xfrm>
          <a:prstGeom prst="wedgeEllipseCallout">
            <a:avLst>
              <a:gd name="adj1" fmla="val -130300"/>
              <a:gd name="adj2" fmla="val 14583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5029200" y="3627000"/>
            <a:ext cx="3581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即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的导通管压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&lt;&lt;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的导通管压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1" name=""/>
          <p:cNvGrpSpPr/>
          <p:nvPr/>
        </p:nvGrpSpPr>
        <p:grpSpPr>
          <a:xfrm>
            <a:off x="914400" y="2514600"/>
            <a:ext cx="3886200" cy="3336840"/>
            <a:chOff x="914400" y="2514600"/>
            <a:chExt cx="3886200" cy="3336840"/>
          </a:xfrm>
        </p:grpSpPr>
        <p:sp>
          <p:nvSpPr>
            <p:cNvPr id="3072" name=""/>
            <p:cNvSpPr/>
            <p:nvPr/>
          </p:nvSpPr>
          <p:spPr>
            <a:xfrm>
              <a:off x="2764800" y="256464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990720" y="533304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437280" y="4342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438280" y="5029200"/>
              <a:ext cx="49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060640" y="415764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060640" y="3554280"/>
              <a:ext cx="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60640" y="384660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67040" y="3670200"/>
              <a:ext cx="0" cy="56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060640" y="3670200"/>
              <a:ext cx="74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060640" y="4254480"/>
              <a:ext cx="74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523880" y="422424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060640" y="547992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060640" y="487692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060640" y="516888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060280" y="526716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967040" y="499284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057400" y="4992840"/>
              <a:ext cx="74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060640" y="557676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2433240" y="3962520"/>
              <a:ext cx="4680" cy="16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712960" y="585144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500120" y="55594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384200" y="54864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43200" y="289548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2819520" y="4572000"/>
              <a:ext cx="4572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276720" y="449568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1523880" y="32763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523880" y="32767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819520" y="42498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2819520" y="300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438280" y="3733920"/>
              <a:ext cx="49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447920" y="2514600"/>
              <a:ext cx="1066680" cy="457200"/>
            </a:xfrm>
            <a:prstGeom prst="wedgeRoundRectCallout">
              <a:avLst>
                <a:gd name="adj1" fmla="val 57736"/>
                <a:gd name="adj2" fmla="val 239583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负载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914400" y="4343400"/>
              <a:ext cx="1066680" cy="457200"/>
            </a:xfrm>
            <a:prstGeom prst="wedgeRoundRectCallout">
              <a:avLst>
                <a:gd name="adj1" fmla="val 95685"/>
                <a:gd name="adj2" fmla="val 137847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驱动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276720" y="3352680"/>
              <a:ext cx="1523880" cy="609840"/>
            </a:xfrm>
            <a:prstGeom prst="wedgeEllipseCallout">
              <a:avLst>
                <a:gd name="adj1" fmla="val -84583"/>
                <a:gd name="adj2" fmla="val 48175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始终导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H="1">
              <a:off x="2057040" y="396252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"/>
          <p:cNvSpPr/>
          <p:nvPr/>
        </p:nvSpPr>
        <p:spPr>
          <a:xfrm>
            <a:off x="762120" y="5335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NMOS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与非”门电路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817800" y="35802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3817800" y="3656520"/>
            <a:ext cx="625680" cy="534600"/>
            <a:chOff x="3817800" y="3656520"/>
            <a:chExt cx="625680" cy="534600"/>
          </a:xfrm>
        </p:grpSpPr>
        <p:graphicFrame>
          <p:nvGraphicFramePr>
            <p:cNvPr id="3109" name=""/>
            <p:cNvGraphicFramePr/>
            <p:nvPr/>
          </p:nvGraphicFramePr>
          <p:xfrm>
            <a:off x="3886200" y="3657600"/>
            <a:ext cx="53352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657600"/>
                      <a:ext cx="5335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1" name=""/>
            <p:cNvSpPr/>
            <p:nvPr/>
          </p:nvSpPr>
          <p:spPr>
            <a:xfrm>
              <a:off x="3817800" y="36565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643320" y="4419720"/>
            <a:ext cx="1033200" cy="1218960"/>
            <a:chOff x="643320" y="4419720"/>
            <a:chExt cx="1033200" cy="1218960"/>
          </a:xfrm>
        </p:grpSpPr>
        <p:sp>
          <p:nvSpPr>
            <p:cNvPr id="3113" name=""/>
            <p:cNvSpPr/>
            <p:nvPr/>
          </p:nvSpPr>
          <p:spPr>
            <a:xfrm>
              <a:off x="643320" y="472320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有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00200" y="4419720"/>
              <a:ext cx="76320" cy="12189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611280" y="4648320"/>
            <a:ext cx="914400" cy="534240"/>
            <a:chOff x="611280" y="4648320"/>
            <a:chExt cx="914400" cy="534240"/>
          </a:xfrm>
        </p:grpSpPr>
        <p:graphicFrame>
          <p:nvGraphicFramePr>
            <p:cNvPr id="3116" name=""/>
            <p:cNvGraphicFramePr/>
            <p:nvPr/>
          </p:nvGraphicFramePr>
          <p:xfrm>
            <a:off x="611280" y="4648320"/>
            <a:ext cx="91440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280" y="4648320"/>
                      <a:ext cx="91440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8" name=""/>
            <p:cNvSpPr/>
            <p:nvPr/>
          </p:nvSpPr>
          <p:spPr>
            <a:xfrm>
              <a:off x="643320" y="47228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全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762120" y="990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NMOS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或非”门电路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0" name=""/>
          <p:cNvGrpSpPr/>
          <p:nvPr/>
        </p:nvGrpSpPr>
        <p:grpSpPr>
          <a:xfrm>
            <a:off x="4419720" y="4572000"/>
            <a:ext cx="1676160" cy="839520"/>
            <a:chOff x="4419720" y="4572000"/>
            <a:chExt cx="1676160" cy="839520"/>
          </a:xfrm>
        </p:grpSpPr>
        <p:sp>
          <p:nvSpPr>
            <p:cNvPr id="3121" name=""/>
            <p:cNvSpPr/>
            <p:nvPr/>
          </p:nvSpPr>
          <p:spPr>
            <a:xfrm rot="16200000">
              <a:off x="5067360" y="3924360"/>
              <a:ext cx="380880" cy="16761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34440" y="495180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有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3" name=""/>
          <p:cNvSpPr/>
          <p:nvPr/>
        </p:nvSpPr>
        <p:spPr>
          <a:xfrm>
            <a:off x="7704000" y="3427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4" name=""/>
          <p:cNvGrpSpPr/>
          <p:nvPr/>
        </p:nvGrpSpPr>
        <p:grpSpPr>
          <a:xfrm>
            <a:off x="4878720" y="4876920"/>
            <a:ext cx="914400" cy="534240"/>
            <a:chOff x="4878720" y="4876920"/>
            <a:chExt cx="914400" cy="534240"/>
          </a:xfrm>
        </p:grpSpPr>
        <p:graphicFrame>
          <p:nvGraphicFramePr>
            <p:cNvPr id="3125" name=""/>
            <p:cNvGraphicFramePr/>
            <p:nvPr/>
          </p:nvGraphicFramePr>
          <p:xfrm>
            <a:off x="4878720" y="4876920"/>
            <a:ext cx="91440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8720" y="4876920"/>
                      <a:ext cx="91440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7" name=""/>
            <p:cNvSpPr/>
            <p:nvPr/>
          </p:nvSpPr>
          <p:spPr>
            <a:xfrm>
              <a:off x="4910760" y="49514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全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8" name=""/>
          <p:cNvGrpSpPr/>
          <p:nvPr/>
        </p:nvGrpSpPr>
        <p:grpSpPr>
          <a:xfrm>
            <a:off x="7696080" y="3504240"/>
            <a:ext cx="709560" cy="459720"/>
            <a:chOff x="7696080" y="3504240"/>
            <a:chExt cx="709560" cy="459720"/>
          </a:xfrm>
        </p:grpSpPr>
        <p:graphicFrame>
          <p:nvGraphicFramePr>
            <p:cNvPr id="3129" name=""/>
            <p:cNvGraphicFramePr/>
            <p:nvPr/>
          </p:nvGraphicFramePr>
          <p:xfrm>
            <a:off x="7696080" y="3505320"/>
            <a:ext cx="60948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96080" y="3505320"/>
                      <a:ext cx="609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1" name=""/>
            <p:cNvSpPr/>
            <p:nvPr/>
          </p:nvSpPr>
          <p:spPr>
            <a:xfrm>
              <a:off x="7779960" y="35042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2" name=""/>
          <p:cNvGrpSpPr/>
          <p:nvPr/>
        </p:nvGrpSpPr>
        <p:grpSpPr>
          <a:xfrm>
            <a:off x="814320" y="3428280"/>
            <a:ext cx="1211040" cy="520560"/>
            <a:chOff x="814320" y="3428280"/>
            <a:chExt cx="1211040" cy="520560"/>
          </a:xfrm>
        </p:grpSpPr>
        <p:sp>
          <p:nvSpPr>
            <p:cNvPr id="3133" name=""/>
            <p:cNvSpPr/>
            <p:nvPr/>
          </p:nvSpPr>
          <p:spPr>
            <a:xfrm>
              <a:off x="814320" y="3428280"/>
              <a:ext cx="12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=A 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646280" y="3649680"/>
              <a:ext cx="54000" cy="54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382760" y="349740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6" name=""/>
          <p:cNvGrpSpPr/>
          <p:nvPr/>
        </p:nvGrpSpPr>
        <p:grpSpPr>
          <a:xfrm>
            <a:off x="6305040" y="5028480"/>
            <a:ext cx="1227600" cy="520560"/>
            <a:chOff x="6305040" y="5028480"/>
            <a:chExt cx="1227600" cy="520560"/>
          </a:xfrm>
        </p:grpSpPr>
        <p:sp>
          <p:nvSpPr>
            <p:cNvPr id="3137" name=""/>
            <p:cNvSpPr/>
            <p:nvPr/>
          </p:nvSpPr>
          <p:spPr>
            <a:xfrm>
              <a:off x="6305040" y="5028480"/>
              <a:ext cx="122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=A+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881760" y="509760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1600200" y="1497600"/>
            <a:ext cx="2802960" cy="4415760"/>
            <a:chOff x="1600200" y="1497600"/>
            <a:chExt cx="2802960" cy="4415760"/>
          </a:xfrm>
        </p:grpSpPr>
        <p:sp>
          <p:nvSpPr>
            <p:cNvPr id="3140" name=""/>
            <p:cNvSpPr/>
            <p:nvPr/>
          </p:nvSpPr>
          <p:spPr>
            <a:xfrm>
              <a:off x="1752480" y="1600200"/>
              <a:ext cx="1067040" cy="457200"/>
            </a:xfrm>
            <a:prstGeom prst="wedgeRoundRectCallout">
              <a:avLst>
                <a:gd name="adj1" fmla="val 57736"/>
                <a:gd name="adj2" fmla="val 239583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负载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377520" y="149760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603440" y="4266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050360" y="3275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051000" y="3962520"/>
              <a:ext cx="49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673360" y="309096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673360" y="248760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673360" y="277956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579760" y="260352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673360" y="260352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673360" y="318780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36600" y="315756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673360" y="441324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673360" y="3809880"/>
              <a:ext cx="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673360" y="410220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2673000" y="420048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579760" y="3925800"/>
              <a:ext cx="0" cy="56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670120" y="3925800"/>
              <a:ext cx="74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73360" y="451008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051000" y="28954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112840" y="449280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996920" y="441972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355920" y="18288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3432240" y="3505320"/>
              <a:ext cx="4572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889440" y="34290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2136600" y="22096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136600" y="22096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432240" y="31827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432240" y="1941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051000" y="2666880"/>
              <a:ext cx="49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600200" y="539496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048120" y="509112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670120" y="554184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670120" y="493884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670120" y="523080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2669760" y="532908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576520" y="505476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666880" y="5054760"/>
              <a:ext cx="74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670120" y="563868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414600" y="562140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22800" y="5913360"/>
              <a:ext cx="18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109960" y="56214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994040" y="554832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432240" y="4505400"/>
              <a:ext cx="0" cy="5680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666520" y="289548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4114800" y="1193040"/>
            <a:ext cx="3942720" cy="3531240"/>
            <a:chOff x="4114800" y="1193040"/>
            <a:chExt cx="3942720" cy="3531240"/>
          </a:xfrm>
        </p:grpSpPr>
        <p:sp>
          <p:nvSpPr>
            <p:cNvPr id="3186" name=""/>
            <p:cNvSpPr/>
            <p:nvPr/>
          </p:nvSpPr>
          <p:spPr>
            <a:xfrm>
              <a:off x="7704720" y="2894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4114800" y="1193040"/>
              <a:ext cx="3773520" cy="3531240"/>
              <a:chOff x="4114800" y="1193040"/>
              <a:chExt cx="3773520" cy="3531240"/>
            </a:xfrm>
          </p:grpSpPr>
          <p:sp>
            <p:nvSpPr>
              <p:cNvPr id="3188" name=""/>
              <p:cNvSpPr/>
              <p:nvPr/>
            </p:nvSpPr>
            <p:spPr>
              <a:xfrm>
                <a:off x="6730200" y="119304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026040" y="2786040"/>
                <a:ext cx="0" cy="21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026040" y="2182680"/>
                <a:ext cx="0" cy="19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026040" y="2475000"/>
                <a:ext cx="0" cy="21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932440" y="2298600"/>
                <a:ext cx="0" cy="56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026040" y="229860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026040" y="2882880"/>
                <a:ext cx="37476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489640" y="2852640"/>
                <a:ext cx="46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708600" y="15238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H="1">
                <a:off x="5562720" y="3429000"/>
                <a:ext cx="220968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772400" y="33526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5489640" y="19047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489640" y="190512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400800" y="28954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V="1">
                <a:off x="6784920" y="16362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404040" y="236232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4" name=""/>
              <p:cNvGrpSpPr/>
              <p:nvPr/>
            </p:nvGrpSpPr>
            <p:grpSpPr>
              <a:xfrm>
                <a:off x="4114800" y="3429000"/>
                <a:ext cx="1944720" cy="1295280"/>
                <a:chOff x="4114800" y="3429000"/>
                <a:chExt cx="1944720" cy="1295280"/>
              </a:xfrm>
            </p:grpSpPr>
            <p:grpSp>
              <p:nvGrpSpPr>
                <p:cNvPr id="3205" name=""/>
                <p:cNvGrpSpPr/>
                <p:nvPr/>
              </p:nvGrpSpPr>
              <p:grpSpPr>
                <a:xfrm>
                  <a:off x="4114800" y="3733920"/>
                  <a:ext cx="1944720" cy="990360"/>
                  <a:chOff x="4114800" y="3733920"/>
                  <a:chExt cx="1944720" cy="990360"/>
                </a:xfrm>
              </p:grpSpPr>
              <p:sp>
                <p:nvSpPr>
                  <p:cNvPr id="3206" name=""/>
                  <p:cNvSpPr/>
                  <p:nvPr/>
                </p:nvSpPr>
                <p:spPr>
                  <a:xfrm>
                    <a:off x="4114800" y="4189320"/>
                    <a:ext cx="495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3300"/>
                        </a:solidFill>
                        <a:latin typeface="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5562360" y="3885840"/>
                    <a:ext cx="4971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"/>
                      </a:rPr>
                      <a:t>T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5184720" y="4336920"/>
                    <a:ext cx="0" cy="212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5184720" y="3733920"/>
                    <a:ext cx="0" cy="194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5184720" y="4025520"/>
                    <a:ext cx="0" cy="214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flipH="1">
                    <a:off x="5184360" y="4124160"/>
                    <a:ext cx="382680" cy="10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5091120" y="3849480"/>
                    <a:ext cx="0" cy="566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V="1">
                    <a:off x="5184720" y="4419000"/>
                    <a:ext cx="377640" cy="14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5562360" y="4419360"/>
                    <a:ext cx="0" cy="291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5486400" y="4724280"/>
                    <a:ext cx="185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4624200" y="4416120"/>
                    <a:ext cx="466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4508280" y="4343040"/>
                    <a:ext cx="115920" cy="1155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5562360" y="41144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5181480" y="38098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0" name=""/>
                <p:cNvSpPr/>
                <p:nvPr/>
              </p:nvSpPr>
              <p:spPr>
                <a:xfrm>
                  <a:off x="5562720" y="34290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1" name=""/>
              <p:cNvGrpSpPr/>
              <p:nvPr/>
            </p:nvGrpSpPr>
            <p:grpSpPr>
              <a:xfrm>
                <a:off x="5791320" y="3429000"/>
                <a:ext cx="1944720" cy="1295280"/>
                <a:chOff x="5791320" y="3429000"/>
                <a:chExt cx="1944720" cy="1295280"/>
              </a:xfrm>
            </p:grpSpPr>
            <p:grpSp>
              <p:nvGrpSpPr>
                <p:cNvPr id="3222" name=""/>
                <p:cNvGrpSpPr/>
                <p:nvPr/>
              </p:nvGrpSpPr>
              <p:grpSpPr>
                <a:xfrm>
                  <a:off x="5791320" y="3733920"/>
                  <a:ext cx="1944720" cy="990360"/>
                  <a:chOff x="5791320" y="3733920"/>
                  <a:chExt cx="1944720" cy="99036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>
                    <a:off x="5791320" y="4189320"/>
                    <a:ext cx="495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3300"/>
                        </a:solidFill>
                        <a:latin typeface="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7238880" y="3885840"/>
                    <a:ext cx="4971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"/>
                      </a:rPr>
                      <a:t>T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6861240" y="4336920"/>
                    <a:ext cx="0" cy="212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6861240" y="3733920"/>
                    <a:ext cx="0" cy="194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861240" y="4025520"/>
                    <a:ext cx="0" cy="214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>
                    <a:off x="6860880" y="4124160"/>
                    <a:ext cx="382680" cy="10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767640" y="3849480"/>
                    <a:ext cx="0" cy="566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V="1">
                    <a:off x="6861240" y="4419000"/>
                    <a:ext cx="377640" cy="14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7238880" y="4419360"/>
                    <a:ext cx="0" cy="291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7162920" y="4724280"/>
                    <a:ext cx="185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6300720" y="4416120"/>
                    <a:ext cx="466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6184800" y="4343040"/>
                    <a:ext cx="115920" cy="1155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7238880" y="41144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6858000" y="38098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7" name=""/>
                <p:cNvSpPr/>
                <p:nvPr/>
              </p:nvSpPr>
              <p:spPr>
                <a:xfrm>
                  <a:off x="7239240" y="34290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8" name=""/>
              <p:cNvSpPr/>
              <p:nvPr/>
            </p:nvSpPr>
            <p:spPr>
              <a:xfrm>
                <a:off x="6400800" y="2514600"/>
                <a:ext cx="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267080" y="1752480"/>
                <a:ext cx="1067040" cy="457200"/>
              </a:xfrm>
              <a:prstGeom prst="wedgeRoundRectCallout">
                <a:avLst>
                  <a:gd name="adj1" fmla="val 122768"/>
                  <a:gd name="adj2" fmla="val 150347"/>
                  <a:gd name="adj3" fmla="val 16667"/>
                </a:avLst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负载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6019920" y="2590920"/>
                <a:ext cx="38232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ubTitle"/>
          </p:nvPr>
        </p:nvSpPr>
        <p:spPr>
          <a:xfrm>
            <a:off x="990720" y="4572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5.2  CMOS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门电路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917640" y="1370880"/>
            <a:ext cx="41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.CMOS“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非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3" name=""/>
          <p:cNvGrpSpPr/>
          <p:nvPr/>
        </p:nvGrpSpPr>
        <p:grpSpPr>
          <a:xfrm>
            <a:off x="1295280" y="1954800"/>
            <a:ext cx="3332880" cy="3457800"/>
            <a:chOff x="1295280" y="1954800"/>
            <a:chExt cx="3332880" cy="3457800"/>
          </a:xfrm>
        </p:grpSpPr>
        <p:sp>
          <p:nvSpPr>
            <p:cNvPr id="3244" name=""/>
            <p:cNvSpPr/>
            <p:nvPr/>
          </p:nvSpPr>
          <p:spPr>
            <a:xfrm>
              <a:off x="3047040" y="35812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126600" y="2666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371320" y="259092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050280" y="4952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047040" y="39625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85640" y="495288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602520" y="195480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295280" y="373284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275360" y="3732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276360" y="441972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898360" y="354816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98360" y="2944800"/>
              <a:ext cx="0" cy="19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98360" y="323676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898360" y="3352680"/>
              <a:ext cx="38268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804760" y="306072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898360" y="306072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898360" y="364500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61960" y="304812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898360" y="4870440"/>
              <a:ext cx="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898360" y="4267080"/>
              <a:ext cx="0" cy="1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898360" y="455940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2898000" y="4657680"/>
              <a:ext cx="38268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804760" y="4383000"/>
              <a:ext cx="0" cy="56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895480" y="4383000"/>
              <a:ext cx="74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898360" y="4967280"/>
              <a:ext cx="74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3271320" y="4648320"/>
              <a:ext cx="468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643200" y="495000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551040" y="52419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338200" y="49500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717560" y="396252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581280" y="22860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7240" y="3962520"/>
              <a:ext cx="4572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114440" y="38862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2361960" y="304776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657240" y="36399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3657240" y="239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276360" y="3124080"/>
              <a:ext cx="496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828440" y="4038480"/>
              <a:ext cx="5335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3276360" y="3048120"/>
              <a:ext cx="0" cy="304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657600" y="2971800"/>
            <a:ext cx="2089800" cy="520560"/>
            <a:chOff x="3657600" y="2971800"/>
            <a:chExt cx="2089800" cy="520560"/>
          </a:xfrm>
        </p:grpSpPr>
        <p:sp>
          <p:nvSpPr>
            <p:cNvPr id="3284" name=""/>
            <p:cNvSpPr/>
            <p:nvPr/>
          </p:nvSpPr>
          <p:spPr>
            <a:xfrm>
              <a:off x="4233240" y="2971800"/>
              <a:ext cx="151416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PMOS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657600" y="32767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3657600" y="4495680"/>
            <a:ext cx="2218320" cy="520560"/>
            <a:chOff x="3657600" y="4495680"/>
            <a:chExt cx="2218320" cy="520560"/>
          </a:xfrm>
        </p:grpSpPr>
        <p:sp>
          <p:nvSpPr>
            <p:cNvPr id="3287" name=""/>
            <p:cNvSpPr/>
            <p:nvPr/>
          </p:nvSpPr>
          <p:spPr>
            <a:xfrm>
              <a:off x="4296240" y="4495680"/>
              <a:ext cx="157968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NMOS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657600" y="4724280"/>
              <a:ext cx="520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6019920" y="3733920"/>
            <a:ext cx="1828800" cy="520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CMOS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rot="5400000">
            <a:off x="5029200" y="3581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153"/>
                </a:lnTo>
                <a:lnTo>
                  <a:pt x="12215" y="4153"/>
                </a:lnTo>
                <a:lnTo>
                  <a:pt x="12215" y="9385"/>
                </a:lnTo>
                <a:lnTo>
                  <a:pt x="17448" y="9385"/>
                </a:lnTo>
                <a:lnTo>
                  <a:pt x="17448" y="6500"/>
                </a:lnTo>
                <a:lnTo>
                  <a:pt x="21600" y="10800"/>
                </a:lnTo>
                <a:lnTo>
                  <a:pt x="17448" y="15100"/>
                </a:lnTo>
                <a:lnTo>
                  <a:pt x="17448" y="12215"/>
                </a:lnTo>
                <a:lnTo>
                  <a:pt x="4153" y="12215"/>
                </a:lnTo>
                <a:lnTo>
                  <a:pt x="4153" y="15100"/>
                </a:lnTo>
                <a:lnTo>
                  <a:pt x="0" y="10800"/>
                </a:lnTo>
                <a:lnTo>
                  <a:pt x="4153" y="6500"/>
                </a:lnTo>
                <a:lnTo>
                  <a:pt x="4153" y="9385"/>
                </a:lnTo>
                <a:lnTo>
                  <a:pt x="9385" y="9385"/>
                </a:lnTo>
                <a:lnTo>
                  <a:pt x="9385" y="4153"/>
                </a:lnTo>
                <a:lnTo>
                  <a:pt x="6500" y="415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81080" y="1905120"/>
            <a:ext cx="1067040" cy="457200"/>
          </a:xfrm>
          <a:prstGeom prst="wedgeRoundRectCallout">
            <a:avLst>
              <a:gd name="adj1" fmla="val 57736"/>
              <a:gd name="adj2" fmla="val 239583"/>
              <a:gd name="adj3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905120" y="5486400"/>
            <a:ext cx="1066680" cy="457200"/>
          </a:xfrm>
          <a:prstGeom prst="wedgeRoundRectCallout">
            <a:avLst>
              <a:gd name="adj1" fmla="val 68750"/>
              <a:gd name="adj2" fmla="val -180902"/>
              <a:gd name="adj3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驱动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9436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互补对称管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800600" y="1555200"/>
            <a:ext cx="3124080" cy="1065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“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导通，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截止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"/>
              </a:rPr>
              <a:t>=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572000" y="5136480"/>
            <a:ext cx="3124080" cy="1065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“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截止，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导通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"/>
              </a:rPr>
              <a:t>=“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838080" y="1905120"/>
            <a:ext cx="1066680" cy="520560"/>
            <a:chOff x="838080" y="1905120"/>
            <a:chExt cx="1066680" cy="520560"/>
          </a:xfrm>
        </p:grpSpPr>
        <p:sp>
          <p:nvSpPr>
            <p:cNvPr id="3297" name=""/>
            <p:cNvSpPr/>
            <p:nvPr/>
          </p:nvSpPr>
          <p:spPr>
            <a:xfrm>
              <a:off x="838080" y="1905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=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447560" y="198144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1066680" y="1143000"/>
            <a:ext cx="3810240" cy="171360"/>
            <a:chOff x="1066680" y="1143000"/>
            <a:chExt cx="3810240" cy="171360"/>
          </a:xfrm>
        </p:grpSpPr>
        <p:grpSp>
          <p:nvGrpSpPr>
            <p:cNvPr id="3300" name=""/>
            <p:cNvGrpSpPr/>
            <p:nvPr/>
          </p:nvGrpSpPr>
          <p:grpSpPr>
            <a:xfrm>
              <a:off x="1066680" y="1143000"/>
              <a:ext cx="3495600" cy="171360"/>
              <a:chOff x="1066680" y="1143000"/>
              <a:chExt cx="3495600" cy="171360"/>
            </a:xfrm>
          </p:grpSpPr>
          <p:pic>
            <p:nvPicPr>
              <p:cNvPr id="33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713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142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762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714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334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8857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906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858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478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001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430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285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429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050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5736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00280" y="11523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18" name=""/>
              <p:cNvGrpSpPr/>
              <p:nvPr/>
            </p:nvGrpSpPr>
            <p:grpSpPr>
              <a:xfrm>
                <a:off x="1066680" y="1143000"/>
                <a:ext cx="923760" cy="161640"/>
                <a:chOff x="1066680" y="1143000"/>
                <a:chExt cx="923760" cy="161640"/>
              </a:xfrm>
            </p:grpSpPr>
            <p:pic>
              <p:nvPicPr>
                <p:cNvPr id="33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209600" y="1143000"/>
                  <a:ext cx="1620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371600" y="1143000"/>
                  <a:ext cx="1616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523880" y="1143000"/>
                  <a:ext cx="1620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666800" y="1143000"/>
                  <a:ext cx="1620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828800" y="1143000"/>
                  <a:ext cx="1616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066680" y="1143000"/>
                  <a:ext cx="1620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325" name="" descr=""/>
            <p:cNvPicPr/>
            <p:nvPr/>
          </p:nvPicPr>
          <p:blipFill>
            <a:blip r:embed="rId25"/>
            <a:stretch/>
          </p:blipFill>
          <p:spPr>
            <a:xfrm>
              <a:off x="4714920" y="1143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6" name="" descr=""/>
            <p:cNvPicPr/>
            <p:nvPr/>
          </p:nvPicPr>
          <p:blipFill>
            <a:blip r:embed="rId26"/>
            <a:stretch/>
          </p:blipFill>
          <p:spPr>
            <a:xfrm>
              <a:off x="4572000" y="11430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"/>
          <p:cNvSpPr/>
          <p:nvPr/>
        </p:nvSpPr>
        <p:spPr>
          <a:xfrm>
            <a:off x="1232280" y="608760"/>
            <a:ext cx="26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CMOS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传输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1146240" y="1980000"/>
            <a:ext cx="3034080" cy="3584160"/>
            <a:chOff x="1146240" y="1980000"/>
            <a:chExt cx="3034080" cy="3584160"/>
          </a:xfrm>
        </p:grpSpPr>
        <p:sp>
          <p:nvSpPr>
            <p:cNvPr id="3329" name=""/>
            <p:cNvSpPr/>
            <p:nvPr/>
          </p:nvSpPr>
          <p:spPr>
            <a:xfrm>
              <a:off x="1981440" y="2133720"/>
              <a:ext cx="76212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829160" y="4876920"/>
              <a:ext cx="76176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1146240" y="2133720"/>
              <a:ext cx="3034080" cy="3202920"/>
              <a:chOff x="1146240" y="2133720"/>
              <a:chExt cx="3034080" cy="3202920"/>
            </a:xfrm>
          </p:grpSpPr>
          <p:sp>
            <p:nvSpPr>
              <p:cNvPr id="3332" name=""/>
              <p:cNvSpPr/>
              <p:nvPr/>
            </p:nvSpPr>
            <p:spPr>
              <a:xfrm>
                <a:off x="3527280" y="3098160"/>
                <a:ext cx="653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146240" y="352044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752840" y="426744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5" name=""/>
              <p:cNvGrpSpPr/>
              <p:nvPr/>
            </p:nvGrpSpPr>
            <p:grpSpPr>
              <a:xfrm>
                <a:off x="3467520" y="4114800"/>
                <a:ext cx="185400" cy="291960"/>
                <a:chOff x="3467520" y="4114800"/>
                <a:chExt cx="185400" cy="291960"/>
              </a:xfrm>
            </p:grpSpPr>
            <p:sp>
              <p:nvSpPr>
                <p:cNvPr id="3336" name=""/>
                <p:cNvSpPr/>
                <p:nvPr/>
              </p:nvSpPr>
              <p:spPr>
                <a:xfrm>
                  <a:off x="3559320" y="411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3467520" y="4406760"/>
                  <a:ext cx="18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8" name=""/>
              <p:cNvSpPr/>
              <p:nvPr/>
            </p:nvSpPr>
            <p:spPr>
              <a:xfrm>
                <a:off x="2590920" y="411480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1676520" y="38102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1559160" y="373392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V="1">
                <a:off x="2286360" y="304812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2" name=""/>
              <p:cNvGrpSpPr/>
              <p:nvPr/>
            </p:nvGrpSpPr>
            <p:grpSpPr>
              <a:xfrm>
                <a:off x="2205000" y="3047760"/>
                <a:ext cx="761760" cy="15120"/>
                <a:chOff x="2205000" y="3047760"/>
                <a:chExt cx="761760" cy="15120"/>
              </a:xfrm>
            </p:grpSpPr>
            <p:sp>
              <p:nvSpPr>
                <p:cNvPr id="3343" name=""/>
                <p:cNvSpPr/>
                <p:nvPr/>
              </p:nvSpPr>
              <p:spPr>
                <a:xfrm flipH="1">
                  <a:off x="2205000" y="3058560"/>
                  <a:ext cx="19836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 flipH="1">
                  <a:off x="2784240" y="3047760"/>
                  <a:ext cx="18252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 flipH="1">
                  <a:off x="2495520" y="3052440"/>
                  <a:ext cx="19836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6" name=""/>
              <p:cNvSpPr/>
              <p:nvPr/>
            </p:nvSpPr>
            <p:spPr>
              <a:xfrm flipH="1">
                <a:off x="2583720" y="3056040"/>
                <a:ext cx="2520" cy="38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2328840" y="2955240"/>
                <a:ext cx="53028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V="1">
                <a:off x="2325960" y="2590920"/>
                <a:ext cx="0" cy="380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9" name=""/>
              <p:cNvGrpSpPr/>
              <p:nvPr/>
            </p:nvGrpSpPr>
            <p:grpSpPr>
              <a:xfrm>
                <a:off x="2590920" y="3353040"/>
                <a:ext cx="954360" cy="115920"/>
                <a:chOff x="2590920" y="3353040"/>
                <a:chExt cx="954360" cy="115920"/>
              </a:xfrm>
            </p:grpSpPr>
            <p:sp>
              <p:nvSpPr>
                <p:cNvPr id="3350" name=""/>
                <p:cNvSpPr/>
                <p:nvPr/>
              </p:nvSpPr>
              <p:spPr>
                <a:xfrm>
                  <a:off x="3429360" y="3353040"/>
                  <a:ext cx="115920" cy="115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2590920" y="342900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2" name=""/>
              <p:cNvGrpSpPr/>
              <p:nvPr/>
            </p:nvGrpSpPr>
            <p:grpSpPr>
              <a:xfrm>
                <a:off x="2209680" y="4114800"/>
                <a:ext cx="761760" cy="838080"/>
                <a:chOff x="2209680" y="4114800"/>
                <a:chExt cx="761760" cy="838080"/>
              </a:xfrm>
            </p:grpSpPr>
            <p:grpSp>
              <p:nvGrpSpPr>
                <p:cNvPr id="3353" name=""/>
                <p:cNvGrpSpPr/>
                <p:nvPr/>
              </p:nvGrpSpPr>
              <p:grpSpPr>
                <a:xfrm>
                  <a:off x="2209680" y="4494240"/>
                  <a:ext cx="761760" cy="15120"/>
                  <a:chOff x="2209680" y="4494240"/>
                  <a:chExt cx="761760" cy="15120"/>
                </a:xfrm>
              </p:grpSpPr>
              <p:sp>
                <p:nvSpPr>
                  <p:cNvPr id="3354" name=""/>
                  <p:cNvSpPr/>
                  <p:nvPr/>
                </p:nvSpPr>
                <p:spPr>
                  <a:xfrm flipH="1">
                    <a:off x="2209680" y="4505040"/>
                    <a:ext cx="198360" cy="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>
                    <a:off x="2788920" y="4494240"/>
                    <a:ext cx="182520" cy="3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2500200" y="4498920"/>
                    <a:ext cx="198360" cy="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7" name=""/>
                <p:cNvSpPr/>
                <p:nvPr/>
              </p:nvSpPr>
              <p:spPr>
                <a:xfrm flipH="1">
                  <a:off x="2286000" y="4566600"/>
                  <a:ext cx="530280" cy="1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flipV="1">
                  <a:off x="2286360" y="457164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flipH="1">
                  <a:off x="2594880" y="4114800"/>
                  <a:ext cx="2520" cy="38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0" name=""/>
              <p:cNvSpPr/>
              <p:nvPr/>
            </p:nvSpPr>
            <p:spPr>
              <a:xfrm>
                <a:off x="3505320" y="373392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2895840" y="381024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V="1">
                <a:off x="2895840" y="304812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752840" y="304812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4" name=""/>
              <p:cNvGrpSpPr/>
              <p:nvPr/>
            </p:nvGrpSpPr>
            <p:grpSpPr>
              <a:xfrm>
                <a:off x="2144160" y="2133720"/>
                <a:ext cx="366480" cy="459720"/>
                <a:chOff x="2144160" y="2133720"/>
                <a:chExt cx="366480" cy="45972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2144160" y="213372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2210040" y="221004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7" name=""/>
              <p:cNvSpPr/>
              <p:nvPr/>
            </p:nvSpPr>
            <p:spPr>
              <a:xfrm>
                <a:off x="2068200" y="487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621960" y="355536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9" name=""/>
            <p:cNvSpPr/>
            <p:nvPr/>
          </p:nvSpPr>
          <p:spPr>
            <a:xfrm>
              <a:off x="2626920" y="5104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855520" y="1980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1" name=""/>
          <p:cNvSpPr/>
          <p:nvPr/>
        </p:nvSpPr>
        <p:spPr>
          <a:xfrm>
            <a:off x="877320" y="10659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）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83600" y="106596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）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3" name=""/>
          <p:cNvGrpSpPr/>
          <p:nvPr/>
        </p:nvGrpSpPr>
        <p:grpSpPr>
          <a:xfrm>
            <a:off x="4716000" y="1599480"/>
            <a:ext cx="1970640" cy="615240"/>
            <a:chOff x="4716000" y="1599480"/>
            <a:chExt cx="1970640" cy="615240"/>
          </a:xfrm>
        </p:grpSpPr>
        <p:sp>
          <p:nvSpPr>
            <p:cNvPr id="3374" name=""/>
            <p:cNvSpPr/>
            <p:nvPr/>
          </p:nvSpPr>
          <p:spPr>
            <a:xfrm>
              <a:off x="4716000" y="1599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设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5" name=""/>
                <p:cNvSpPr txBox="1"/>
                <p:nvPr/>
              </p:nvSpPr>
              <p:spPr>
                <a:xfrm>
                  <a:off x="5194440" y="1616040"/>
                  <a:ext cx="149220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6" name=""/>
          <p:cNvGrpSpPr/>
          <p:nvPr/>
        </p:nvGrpSpPr>
        <p:grpSpPr>
          <a:xfrm>
            <a:off x="2277720" y="2513520"/>
            <a:ext cx="726480" cy="2593440"/>
            <a:chOff x="2277720" y="2513520"/>
            <a:chExt cx="726480" cy="2593440"/>
          </a:xfrm>
        </p:grpSpPr>
        <p:sp>
          <p:nvSpPr>
            <p:cNvPr id="3377" name=""/>
            <p:cNvSpPr/>
            <p:nvPr/>
          </p:nvSpPr>
          <p:spPr>
            <a:xfrm>
              <a:off x="2277720" y="464724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1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440440" y="2513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9" name=""/>
          <p:cNvSpPr/>
          <p:nvPr/>
        </p:nvSpPr>
        <p:spPr>
          <a:xfrm>
            <a:off x="4724280" y="3065760"/>
            <a:ext cx="37339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0~10V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连续变化时，至少有一个管子导通，传输门打开，（相当于开关接通）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可传输到输出端，即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?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?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，所以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COMS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传输门可以传输模拟信号，也称为</a:t>
            </a:r>
            <a:r>
              <a:rPr b="1" lang="zh-CN" sz="2800" spc="-1" strike="noStrike">
                <a:solidFill>
                  <a:srgbClr val="cc0000"/>
                </a:solidFill>
                <a:latin typeface="?"/>
              </a:rPr>
              <a:t>模拟开关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721800" y="396144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0~7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29000" y="4724280"/>
            <a:ext cx="838080" cy="609840"/>
          </a:xfrm>
          <a:prstGeom prst="wedgeEllipseCallout">
            <a:avLst>
              <a:gd name="adj1" fmla="val -142046"/>
              <a:gd name="adj2" fmla="val -110416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635040" y="3275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3~10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429000" y="2514600"/>
            <a:ext cx="838080" cy="609480"/>
          </a:xfrm>
          <a:prstGeom prst="wedgeEllipseCallout">
            <a:avLst>
              <a:gd name="adj1" fmla="val -135416"/>
              <a:gd name="adj2" fmla="val 84634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"/>
          <p:cNvSpPr/>
          <p:nvPr/>
        </p:nvSpPr>
        <p:spPr>
          <a:xfrm>
            <a:off x="1232280" y="608760"/>
            <a:ext cx="26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CMOS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传输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612720" y="1370160"/>
            <a:ext cx="3034080" cy="3583800"/>
            <a:chOff x="612720" y="1370160"/>
            <a:chExt cx="3034080" cy="3583800"/>
          </a:xfrm>
        </p:grpSpPr>
        <p:sp>
          <p:nvSpPr>
            <p:cNvPr id="3386" name=""/>
            <p:cNvSpPr/>
            <p:nvPr/>
          </p:nvSpPr>
          <p:spPr>
            <a:xfrm>
              <a:off x="1447920" y="1523880"/>
              <a:ext cx="762120" cy="45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95640" y="4267080"/>
              <a:ext cx="761760" cy="45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8" name=""/>
            <p:cNvGrpSpPr/>
            <p:nvPr/>
          </p:nvGrpSpPr>
          <p:grpSpPr>
            <a:xfrm>
              <a:off x="612720" y="1523880"/>
              <a:ext cx="3034080" cy="3202560"/>
              <a:chOff x="612720" y="1523880"/>
              <a:chExt cx="3034080" cy="3202560"/>
            </a:xfrm>
          </p:grpSpPr>
          <p:sp>
            <p:nvSpPr>
              <p:cNvPr id="3389" name=""/>
              <p:cNvSpPr/>
              <p:nvPr/>
            </p:nvSpPr>
            <p:spPr>
              <a:xfrm>
                <a:off x="2993760" y="2487600"/>
                <a:ext cx="653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12720" y="291024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219320" y="365724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2" name=""/>
              <p:cNvGrpSpPr/>
              <p:nvPr/>
            </p:nvGrpSpPr>
            <p:grpSpPr>
              <a:xfrm>
                <a:off x="2934000" y="3504600"/>
                <a:ext cx="185400" cy="291960"/>
                <a:chOff x="2934000" y="3504600"/>
                <a:chExt cx="185400" cy="29196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3025800" y="3504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2934000" y="3796560"/>
                  <a:ext cx="18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5" name=""/>
              <p:cNvSpPr/>
              <p:nvPr/>
            </p:nvSpPr>
            <p:spPr>
              <a:xfrm>
                <a:off x="2057400" y="350460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H="1">
                <a:off x="1143000" y="32000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1025640" y="31237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1752840" y="243756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9" name=""/>
              <p:cNvGrpSpPr/>
              <p:nvPr/>
            </p:nvGrpSpPr>
            <p:grpSpPr>
              <a:xfrm>
                <a:off x="1671480" y="2437560"/>
                <a:ext cx="761760" cy="14760"/>
                <a:chOff x="1671480" y="2437560"/>
                <a:chExt cx="761760" cy="14760"/>
              </a:xfrm>
            </p:grpSpPr>
            <p:sp>
              <p:nvSpPr>
                <p:cNvPr id="3400" name=""/>
                <p:cNvSpPr/>
                <p:nvPr/>
              </p:nvSpPr>
              <p:spPr>
                <a:xfrm flipH="1">
                  <a:off x="1671480" y="2448000"/>
                  <a:ext cx="19836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H="1">
                  <a:off x="2250720" y="2437560"/>
                  <a:ext cx="18252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H="1">
                  <a:off x="1962000" y="2441880"/>
                  <a:ext cx="19836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3" name=""/>
              <p:cNvSpPr/>
              <p:nvPr/>
            </p:nvSpPr>
            <p:spPr>
              <a:xfrm flipH="1">
                <a:off x="2050200" y="2445840"/>
                <a:ext cx="2520" cy="38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>
                <a:off x="1795320" y="2345040"/>
                <a:ext cx="53028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1792440" y="1980360"/>
                <a:ext cx="0" cy="380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6" name=""/>
              <p:cNvGrpSpPr/>
              <p:nvPr/>
            </p:nvGrpSpPr>
            <p:grpSpPr>
              <a:xfrm>
                <a:off x="2057400" y="2742840"/>
                <a:ext cx="954360" cy="115560"/>
                <a:chOff x="2057400" y="2742840"/>
                <a:chExt cx="954360" cy="11556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2895840" y="2742840"/>
                  <a:ext cx="115920" cy="115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2057400" y="281844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9" name=""/>
              <p:cNvGrpSpPr/>
              <p:nvPr/>
            </p:nvGrpSpPr>
            <p:grpSpPr>
              <a:xfrm>
                <a:off x="1676160" y="3504600"/>
                <a:ext cx="761760" cy="837720"/>
                <a:chOff x="1676160" y="3504600"/>
                <a:chExt cx="761760" cy="837720"/>
              </a:xfrm>
            </p:grpSpPr>
            <p:grpSp>
              <p:nvGrpSpPr>
                <p:cNvPr id="3410" name=""/>
                <p:cNvGrpSpPr/>
                <p:nvPr/>
              </p:nvGrpSpPr>
              <p:grpSpPr>
                <a:xfrm>
                  <a:off x="1676160" y="3883680"/>
                  <a:ext cx="761760" cy="14760"/>
                  <a:chOff x="1676160" y="3883680"/>
                  <a:chExt cx="761760" cy="14760"/>
                </a:xfrm>
              </p:grpSpPr>
              <p:sp>
                <p:nvSpPr>
                  <p:cNvPr id="3411" name=""/>
                  <p:cNvSpPr/>
                  <p:nvPr/>
                </p:nvSpPr>
                <p:spPr>
                  <a:xfrm flipH="1">
                    <a:off x="1676160" y="3894120"/>
                    <a:ext cx="198360" cy="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 flipH="1">
                    <a:off x="2255400" y="3883680"/>
                    <a:ext cx="182520" cy="3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 flipH="1">
                    <a:off x="1966680" y="3888000"/>
                    <a:ext cx="198360" cy="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4" name=""/>
                <p:cNvSpPr/>
                <p:nvPr/>
              </p:nvSpPr>
              <p:spPr>
                <a:xfrm flipH="1">
                  <a:off x="1752480" y="3956040"/>
                  <a:ext cx="530280" cy="1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V="1">
                  <a:off x="1752840" y="396144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 flipH="1">
                  <a:off x="2061360" y="3504600"/>
                  <a:ext cx="2520" cy="387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7" name=""/>
              <p:cNvSpPr/>
              <p:nvPr/>
            </p:nvSpPr>
            <p:spPr>
              <a:xfrm>
                <a:off x="2971800" y="31237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2362320" y="320004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2362320" y="243756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219320" y="243792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1" name=""/>
              <p:cNvGrpSpPr/>
              <p:nvPr/>
            </p:nvGrpSpPr>
            <p:grpSpPr>
              <a:xfrm>
                <a:off x="1610640" y="1523880"/>
                <a:ext cx="366480" cy="459720"/>
                <a:chOff x="1610640" y="1523880"/>
                <a:chExt cx="366480" cy="45972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1610640" y="15238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1676520" y="159984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4" name=""/>
              <p:cNvSpPr/>
              <p:nvPr/>
            </p:nvSpPr>
            <p:spPr>
              <a:xfrm>
                <a:off x="1534680" y="4266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088440" y="294480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093400" y="4494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322000" y="1370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8" name=""/>
          <p:cNvGrpSpPr/>
          <p:nvPr/>
        </p:nvGrpSpPr>
        <p:grpSpPr>
          <a:xfrm>
            <a:off x="1820520" y="1903680"/>
            <a:ext cx="726480" cy="2593080"/>
            <a:chOff x="1820520" y="1903680"/>
            <a:chExt cx="726480" cy="2593080"/>
          </a:xfrm>
        </p:grpSpPr>
        <p:sp>
          <p:nvSpPr>
            <p:cNvPr id="3429" name=""/>
            <p:cNvSpPr/>
            <p:nvPr/>
          </p:nvSpPr>
          <p:spPr>
            <a:xfrm>
              <a:off x="1830960" y="40370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820520" y="19036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1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1" name=""/>
          <p:cNvSpPr/>
          <p:nvPr/>
        </p:nvSpPr>
        <p:spPr>
          <a:xfrm>
            <a:off x="4648320" y="2743920"/>
            <a:ext cx="37335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见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0~10V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连续变化时，两管子均截止，传输门关断，（相当于开关断开） 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不能传输到输出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406440" y="2742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0~10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3" name=""/>
          <p:cNvGrpSpPr/>
          <p:nvPr/>
        </p:nvGrpSpPr>
        <p:grpSpPr>
          <a:xfrm>
            <a:off x="2895480" y="1905120"/>
            <a:ext cx="838080" cy="2818800"/>
            <a:chOff x="2895480" y="1905120"/>
            <a:chExt cx="838080" cy="2818800"/>
          </a:xfrm>
        </p:grpSpPr>
        <p:sp>
          <p:nvSpPr>
            <p:cNvPr id="3434" name=""/>
            <p:cNvSpPr/>
            <p:nvPr/>
          </p:nvSpPr>
          <p:spPr>
            <a:xfrm>
              <a:off x="2895480" y="4114440"/>
              <a:ext cx="838080" cy="609480"/>
            </a:xfrm>
            <a:prstGeom prst="wedgeEllipseCallout">
              <a:avLst>
                <a:gd name="adj1" fmla="val -142046"/>
                <a:gd name="adj2" fmla="val -110416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895480" y="1905120"/>
              <a:ext cx="838080" cy="609120"/>
            </a:xfrm>
            <a:prstGeom prst="wedgeEllipseCallout">
              <a:avLst>
                <a:gd name="adj1" fmla="val -135416"/>
                <a:gd name="adj2" fmla="val 84634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838080" y="4952160"/>
            <a:ext cx="4893840" cy="1054080"/>
            <a:chOff x="838080" y="4952160"/>
            <a:chExt cx="4893840" cy="1054080"/>
          </a:xfrm>
        </p:grpSpPr>
        <p:sp>
          <p:nvSpPr>
            <p:cNvPr id="3437" name=""/>
            <p:cNvSpPr/>
            <p:nvPr/>
          </p:nvSpPr>
          <p:spPr>
            <a:xfrm>
              <a:off x="838080" y="4952160"/>
              <a:ext cx="12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?"/>
                </a:rPr>
                <a:t>结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997360" y="4952160"/>
              <a:ext cx="27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?"/>
                </a:rPr>
                <a:t>=“1”(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?"/>
                </a:rPr>
                <a:t>=“0”)</a:t>
              </a:r>
              <a:r>
                <a:rPr b="1" lang="zh-CN" sz="2800" spc="-1" strike="noStrike">
                  <a:solidFill>
                    <a:srgbClr val="000000"/>
                  </a:solidFill>
                  <a:latin typeface="?"/>
                </a:rPr>
                <a:t>时传输门开通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158640" y="548568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?"/>
                </a:rPr>
                <a:t>=“0”(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zh-CN" sz="2800" spc="-1" strike="noStrike">
                  <a:solidFill>
                    <a:srgbClr val="000099"/>
                  </a:solidFill>
                  <a:latin typeface="?"/>
                </a:rPr>
                <a:t>=“1”)</a:t>
              </a:r>
              <a:r>
                <a:rPr b="1" lang="zh-CN" sz="2800" spc="-1" strike="noStrike">
                  <a:solidFill>
                    <a:srgbClr val="000000"/>
                  </a:solidFill>
                  <a:latin typeface="?"/>
                </a:rPr>
                <a:t>时传输门关断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200400" y="556272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124080" y="50292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4683600" y="1065960"/>
            <a:ext cx="2003040" cy="1148760"/>
            <a:chOff x="4683600" y="1065960"/>
            <a:chExt cx="2003040" cy="1148760"/>
          </a:xfrm>
        </p:grpSpPr>
        <p:sp>
          <p:nvSpPr>
            <p:cNvPr id="3443" name=""/>
            <p:cNvSpPr/>
            <p:nvPr/>
          </p:nvSpPr>
          <p:spPr>
            <a:xfrm>
              <a:off x="4683600" y="1065960"/>
              <a:ext cx="183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工作原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4" name=""/>
            <p:cNvGrpSpPr/>
            <p:nvPr/>
          </p:nvGrpSpPr>
          <p:grpSpPr>
            <a:xfrm>
              <a:off x="4716000" y="1599480"/>
              <a:ext cx="1970640" cy="615240"/>
              <a:chOff x="4716000" y="1599480"/>
              <a:chExt cx="1970640" cy="615240"/>
            </a:xfrm>
          </p:grpSpPr>
          <p:sp>
            <p:nvSpPr>
              <p:cNvPr id="3445" name=""/>
              <p:cNvSpPr/>
              <p:nvPr/>
            </p:nvSpPr>
            <p:spPr>
              <a:xfrm>
                <a:off x="4716000" y="15994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设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46" name=""/>
                  <p:cNvSpPr txBox="1"/>
                  <p:nvPr/>
                </p:nvSpPr>
                <p:spPr>
                  <a:xfrm>
                    <a:off x="5194440" y="1616040"/>
                    <a:ext cx="1492200" cy="59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"/>
          <p:cNvSpPr/>
          <p:nvPr/>
        </p:nvSpPr>
        <p:spPr>
          <a:xfrm>
            <a:off x="1232280" y="608760"/>
            <a:ext cx="26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CMOS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传输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8" name=""/>
          <p:cNvGrpSpPr/>
          <p:nvPr/>
        </p:nvGrpSpPr>
        <p:grpSpPr>
          <a:xfrm>
            <a:off x="1069920" y="1141920"/>
            <a:ext cx="2839320" cy="3416400"/>
            <a:chOff x="1069920" y="1141920"/>
            <a:chExt cx="2839320" cy="3416400"/>
          </a:xfrm>
        </p:grpSpPr>
        <p:grpSp>
          <p:nvGrpSpPr>
            <p:cNvPr id="3449" name=""/>
            <p:cNvGrpSpPr/>
            <p:nvPr/>
          </p:nvGrpSpPr>
          <p:grpSpPr>
            <a:xfrm>
              <a:off x="1069920" y="1141920"/>
              <a:ext cx="2839320" cy="2898000"/>
              <a:chOff x="1069920" y="1141920"/>
              <a:chExt cx="2839320" cy="2898000"/>
            </a:xfrm>
          </p:grpSpPr>
          <p:sp>
            <p:nvSpPr>
              <p:cNvPr id="3450" name=""/>
              <p:cNvSpPr/>
              <p:nvPr/>
            </p:nvSpPr>
            <p:spPr>
              <a:xfrm>
                <a:off x="2057400" y="2209680"/>
                <a:ext cx="762120" cy="83844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2362320" y="20574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1447920" y="266688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819520" y="266688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2438640" y="1600200"/>
                <a:ext cx="0" cy="4572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2438640" y="3047760"/>
                <a:ext cx="0" cy="6094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2156400" y="243720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069920" y="230112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3404160" y="233604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228400" y="3580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228400" y="1141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286000" y="1219320"/>
                <a:ext cx="22860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2" name=""/>
            <p:cNvSpPr/>
            <p:nvPr/>
          </p:nvSpPr>
          <p:spPr>
            <a:xfrm>
              <a:off x="1968840" y="4037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3" name=""/>
          <p:cNvSpPr/>
          <p:nvPr/>
        </p:nvSpPr>
        <p:spPr>
          <a:xfrm>
            <a:off x="5927040" y="579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开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4" name=""/>
          <p:cNvGrpSpPr/>
          <p:nvPr/>
        </p:nvGrpSpPr>
        <p:grpSpPr>
          <a:xfrm>
            <a:off x="4498560" y="684720"/>
            <a:ext cx="2756160" cy="2608920"/>
            <a:chOff x="4498560" y="684720"/>
            <a:chExt cx="2756160" cy="2608920"/>
          </a:xfrm>
        </p:grpSpPr>
        <p:sp>
          <p:nvSpPr>
            <p:cNvPr id="3465" name=""/>
            <p:cNvSpPr/>
            <p:nvPr/>
          </p:nvSpPr>
          <p:spPr>
            <a:xfrm>
              <a:off x="5425920" y="1684440"/>
              <a:ext cx="703440" cy="76968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707080" y="1542960"/>
              <a:ext cx="141120" cy="14148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863960" y="210348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129360" y="2103480"/>
              <a:ext cx="563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5778360" y="1123920"/>
              <a:ext cx="0" cy="4190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5778360" y="2453760"/>
              <a:ext cx="0" cy="560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494680" y="18738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98560" y="17438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689520" y="17438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147280" y="2784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5569560" y="684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636880" y="772920"/>
              <a:ext cx="21132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7" name=""/>
            <p:cNvGrpSpPr/>
            <p:nvPr/>
          </p:nvGrpSpPr>
          <p:grpSpPr>
            <a:xfrm>
              <a:off x="5425560" y="2714760"/>
              <a:ext cx="1266840" cy="578880"/>
              <a:chOff x="5425560" y="2714760"/>
              <a:chExt cx="1266840" cy="578880"/>
            </a:xfrm>
          </p:grpSpPr>
          <p:sp>
            <p:nvSpPr>
              <p:cNvPr id="3478" name=""/>
              <p:cNvSpPr/>
              <p:nvPr/>
            </p:nvSpPr>
            <p:spPr>
              <a:xfrm>
                <a:off x="6059160" y="2733480"/>
                <a:ext cx="492120" cy="560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178680" y="271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551640" y="2943720"/>
                <a:ext cx="140760" cy="1396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flipH="1">
                <a:off x="5425560" y="3013560"/>
                <a:ext cx="6332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2" name=""/>
            <p:cNvSpPr/>
            <p:nvPr/>
          </p:nvSpPr>
          <p:spPr>
            <a:xfrm>
              <a:off x="6692760" y="301464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7254720" y="1123920"/>
              <a:ext cx="0" cy="1890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778360" y="1123920"/>
              <a:ext cx="14763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816440" y="25308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63800" y="1084320"/>
              <a:ext cx="762120" cy="457200"/>
            </a:xfrm>
            <a:prstGeom prst="wedgeRoundRectCallout">
              <a:avLst>
                <a:gd name="adj1" fmla="val 98541"/>
                <a:gd name="adj2" fmla="val 179861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开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4498560" y="3199320"/>
            <a:ext cx="2756160" cy="2608920"/>
            <a:chOff x="4498560" y="3199320"/>
            <a:chExt cx="2756160" cy="2608920"/>
          </a:xfrm>
        </p:grpSpPr>
        <p:sp>
          <p:nvSpPr>
            <p:cNvPr id="3488" name=""/>
            <p:cNvSpPr/>
            <p:nvPr/>
          </p:nvSpPr>
          <p:spPr>
            <a:xfrm>
              <a:off x="5425920" y="4199040"/>
              <a:ext cx="703440" cy="76968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707080" y="4057560"/>
              <a:ext cx="141120" cy="14148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863960" y="461808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129360" y="4618080"/>
              <a:ext cx="563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5778360" y="3638520"/>
              <a:ext cx="0" cy="4190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5778360" y="4968360"/>
              <a:ext cx="0" cy="560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494680" y="4388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98560" y="42584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689520" y="42584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147280" y="5299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569560" y="319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636880" y="3287520"/>
              <a:ext cx="21132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5425560" y="5229360"/>
              <a:ext cx="1266840" cy="578880"/>
              <a:chOff x="5425560" y="5229360"/>
              <a:chExt cx="1266840" cy="578880"/>
            </a:xfrm>
          </p:grpSpPr>
          <p:sp>
            <p:nvSpPr>
              <p:cNvPr id="3501" name=""/>
              <p:cNvSpPr/>
              <p:nvPr/>
            </p:nvSpPr>
            <p:spPr>
              <a:xfrm>
                <a:off x="6059160" y="5248080"/>
                <a:ext cx="492120" cy="560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178680" y="5229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551640" y="5458320"/>
                <a:ext cx="140760" cy="1396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5425560" y="5528160"/>
                <a:ext cx="6332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5" name=""/>
            <p:cNvSpPr/>
            <p:nvPr/>
          </p:nvSpPr>
          <p:spPr>
            <a:xfrm>
              <a:off x="6692760" y="552924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7254720" y="3638520"/>
              <a:ext cx="0" cy="1890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778360" y="3638520"/>
              <a:ext cx="14763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816440" y="50454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663800" y="3598920"/>
              <a:ext cx="762120" cy="457200"/>
            </a:xfrm>
            <a:prstGeom prst="wedgeRoundRectCallout">
              <a:avLst>
                <a:gd name="adj1" fmla="val 98541"/>
                <a:gd name="adj2" fmla="val 179861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关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0" name="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10429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533520" y="533520"/>
            <a:ext cx="533160" cy="457200"/>
          </a:xfrm>
          <a:prstGeom prst="star5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 txBox="1"/>
          <p:nvPr/>
        </p:nvSpPr>
        <p:spPr>
          <a:xfrm>
            <a:off x="1143000" y="60948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MOS</a:t>
            </a:r>
            <a:r>
              <a:rPr b="1" lang="zh-CN" sz="32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路优点</a:t>
            </a:r>
            <a:endParaRPr b="1" lang="en-US" sz="3200" spc="1" strike="noStrike">
              <a:ln w="1908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13" name=""/>
          <p:cNvSpPr/>
          <p:nvPr/>
        </p:nvSpPr>
        <p:spPr>
          <a:xfrm>
            <a:off x="533520" y="1371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静态功耗低（每门只有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0.01mW, 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每门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0m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33520" y="19051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抗干扰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33520" y="2376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扇出系数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33520" y="29098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允许电源电压范围宽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 3 ~ 18V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7" name=""/>
          <p:cNvGrpSpPr/>
          <p:nvPr/>
        </p:nvGrpSpPr>
        <p:grpSpPr>
          <a:xfrm>
            <a:off x="563400" y="3619440"/>
            <a:ext cx="2941560" cy="495360"/>
            <a:chOff x="563400" y="3619440"/>
            <a:chExt cx="2941560" cy="495360"/>
          </a:xfrm>
        </p:grpSpPr>
        <p:sp>
          <p:nvSpPr>
            <p:cNvPr id="3518" name=""/>
            <p:cNvSpPr/>
            <p:nvPr/>
          </p:nvSpPr>
          <p:spPr>
            <a:xfrm>
              <a:off x="563400" y="3619440"/>
              <a:ext cx="45720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 txBox="1"/>
            <p:nvPr/>
          </p:nvSpPr>
          <p:spPr>
            <a:xfrm>
              <a:off x="1249200" y="3619440"/>
              <a:ext cx="22557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TTL</a:t>
              </a:r>
              <a:r>
                <a:rPr b="1" lang="zh-CN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电路优点</a:t>
              </a:r>
              <a:endParaRPr b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520" name=""/>
          <p:cNvSpPr/>
          <p:nvPr/>
        </p:nvSpPr>
        <p:spPr>
          <a:xfrm>
            <a:off x="533520" y="41911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速度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33520" y="4724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抗干扰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335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带负载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6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逻辑代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685800" y="1842120"/>
            <a:ext cx="73915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代数</a:t>
            </a:r>
            <a:r>
              <a:rPr b="1" lang="zh-CN" sz="2800" spc="-1" strike="noStrike">
                <a:solidFill>
                  <a:srgbClr val="010000"/>
                </a:solidFill>
                <a:latin typeface=""/>
              </a:rPr>
              <a:t>（又称布尔代数）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它是分析设计逻辑电路的数学工具。虽然它和普通代数一样也用字母表示变量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但变量的取值只有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，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两种，分别称为逻辑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逻辑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这里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和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并不表示数量的大小，而是表示两种相互对立的逻辑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5" name=""/>
          <p:cNvGrpSpPr/>
          <p:nvPr/>
        </p:nvGrpSpPr>
        <p:grpSpPr>
          <a:xfrm>
            <a:off x="609480" y="4572000"/>
            <a:ext cx="7620120" cy="745200"/>
            <a:chOff x="609480" y="4572000"/>
            <a:chExt cx="7620120" cy="745200"/>
          </a:xfrm>
        </p:grpSpPr>
        <p:sp>
          <p:nvSpPr>
            <p:cNvPr id="3526" name=""/>
            <p:cNvSpPr/>
            <p:nvPr/>
          </p:nvSpPr>
          <p:spPr>
            <a:xfrm>
              <a:off x="609480" y="4687200"/>
              <a:ext cx="76201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"/>
                </a:rPr>
                <a:t>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代数所表示的是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逻辑关系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而不是数量关系。这是它与普通代数的本质区别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990720" y="4572000"/>
              <a:ext cx="380880" cy="380880"/>
            </a:xfrm>
            <a:prstGeom prst="star5">
              <a:avLst/>
            </a:pr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8" name=""/>
          <p:cNvSpPr/>
          <p:nvPr/>
        </p:nvSpPr>
        <p:spPr>
          <a:xfrm>
            <a:off x="4038480" y="2819520"/>
            <a:ext cx="34290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838080" y="3276720"/>
            <a:ext cx="129564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762120" y="3809880"/>
            <a:ext cx="723888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762120" y="4267080"/>
            <a:ext cx="34290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62120" y="691920"/>
            <a:ext cx="7551720" cy="793440"/>
            <a:chOff x="762120" y="691920"/>
            <a:chExt cx="7551720" cy="793440"/>
          </a:xfrm>
        </p:grpSpPr>
        <p:sp>
          <p:nvSpPr>
            <p:cNvPr id="142" name=""/>
            <p:cNvSpPr/>
            <p:nvPr/>
          </p:nvSpPr>
          <p:spPr>
            <a:xfrm>
              <a:off x="838440" y="879480"/>
              <a:ext cx="7475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处理数字信号的电路称为数字电路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，它注重研究的是输入、输出信号之间的逻辑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691920"/>
              <a:ext cx="457200" cy="46512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2120" y="1805040"/>
            <a:ext cx="7467480" cy="759240"/>
            <a:chOff x="762120" y="1805040"/>
            <a:chExt cx="7467480" cy="759240"/>
          </a:xfrm>
        </p:grpSpPr>
        <p:sp>
          <p:nvSpPr>
            <p:cNvPr id="145" name=""/>
            <p:cNvSpPr/>
            <p:nvPr/>
          </p:nvSpPr>
          <p:spPr>
            <a:xfrm>
              <a:off x="857520" y="2001240"/>
              <a:ext cx="7372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在数字电路中，晶体管一般工作在截止区和饱和区，起开关的作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1805040"/>
              <a:ext cx="45720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98920" y="2833560"/>
            <a:ext cx="6286320" cy="1054080"/>
            <a:chOff x="898920" y="2833560"/>
            <a:chExt cx="6286320" cy="1054080"/>
          </a:xfrm>
        </p:grpSpPr>
        <p:sp>
          <p:nvSpPr>
            <p:cNvPr id="148" name=""/>
            <p:cNvSpPr/>
            <p:nvPr/>
          </p:nvSpPr>
          <p:spPr>
            <a:xfrm>
              <a:off x="898920" y="298620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脉冲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2909880"/>
              <a:ext cx="76320" cy="9144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0640" y="283356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正脉冲：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脉冲跃变后的值比初始值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90640" y="336708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负脉冲：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脉冲跃变后的值比初始值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1336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3886200"/>
            <a:ext cx="4933080" cy="1145520"/>
            <a:chOff x="2209680" y="3886200"/>
            <a:chExt cx="4933080" cy="1145520"/>
          </a:xfrm>
        </p:grpSpPr>
        <p:grpSp>
          <p:nvGrpSpPr>
            <p:cNvPr id="154" name=""/>
            <p:cNvGrpSpPr/>
            <p:nvPr/>
          </p:nvGrpSpPr>
          <p:grpSpPr>
            <a:xfrm>
              <a:off x="2209680" y="3886200"/>
              <a:ext cx="1371600" cy="1145520"/>
              <a:chOff x="2209680" y="3886200"/>
              <a:chExt cx="1371600" cy="11455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514600" y="4190760"/>
                <a:ext cx="1066680" cy="685440"/>
                <a:chOff x="2514600" y="4190760"/>
                <a:chExt cx="1066680" cy="6854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514600" y="487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819520" y="41907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819520" y="4190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3276720" y="41907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76720" y="48762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209680" y="4572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09680" y="3886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+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038480" y="3962520"/>
              <a:ext cx="1676520" cy="1069200"/>
              <a:chOff x="4038480" y="3962520"/>
              <a:chExt cx="1676520" cy="10692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4648320" y="4191120"/>
                <a:ext cx="1066680" cy="685440"/>
                <a:chOff x="4648320" y="4191120"/>
                <a:chExt cx="1066680" cy="685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648320" y="48765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953240" y="4191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953240" y="41911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410440" y="4191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10440" y="487656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572000" y="3962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3848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-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6321960" y="4267080"/>
              <a:ext cx="82080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正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57400" y="5029200"/>
            <a:ext cx="5161680" cy="1145520"/>
            <a:chOff x="2057400" y="5029200"/>
            <a:chExt cx="5161680" cy="1145520"/>
          </a:xfrm>
        </p:grpSpPr>
        <p:grpSp>
          <p:nvGrpSpPr>
            <p:cNvPr id="174" name=""/>
            <p:cNvGrpSpPr/>
            <p:nvPr/>
          </p:nvGrpSpPr>
          <p:grpSpPr>
            <a:xfrm>
              <a:off x="2057400" y="5029200"/>
              <a:ext cx="1676520" cy="1145520"/>
              <a:chOff x="2057400" y="5029200"/>
              <a:chExt cx="1676520" cy="11455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667240" y="5334120"/>
                <a:ext cx="1066680" cy="685440"/>
                <a:chOff x="2667240" y="5334120"/>
                <a:chExt cx="1066680" cy="685440"/>
              </a:xfrm>
            </p:grpSpPr>
            <p:sp>
              <p:nvSpPr>
                <p:cNvPr id="176" name=""/>
                <p:cNvSpPr/>
                <p:nvPr/>
              </p:nvSpPr>
              <p:spPr>
                <a:xfrm flipH="1">
                  <a:off x="3429000" y="5334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29000" y="5334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971800" y="60195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971800" y="5334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667240" y="533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2362320" y="5715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7400" y="5029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+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114800" y="5105520"/>
              <a:ext cx="1599840" cy="1069200"/>
              <a:chOff x="4114800" y="5105520"/>
              <a:chExt cx="1599840" cy="10692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647960" y="5334120"/>
                <a:ext cx="1066680" cy="685440"/>
                <a:chOff x="4647960" y="5334120"/>
                <a:chExt cx="1066680" cy="685440"/>
              </a:xfrm>
            </p:grpSpPr>
            <p:sp>
              <p:nvSpPr>
                <p:cNvPr id="185" name=""/>
                <p:cNvSpPr/>
                <p:nvPr/>
              </p:nvSpPr>
              <p:spPr>
                <a:xfrm flipH="1">
                  <a:off x="5409720" y="5334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09720" y="5334480"/>
                  <a:ext cx="0" cy="68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4952520" y="6019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52520" y="5334480"/>
                  <a:ext cx="0" cy="68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647960" y="533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267440" y="51055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14800" y="5715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-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398280" y="5334120"/>
              <a:ext cx="82080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负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量与变量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76212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6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逻辑代数运算法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685800" y="472428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逻辑代数的基本运算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5" name=""/>
          <p:cNvGrpSpPr/>
          <p:nvPr/>
        </p:nvGrpSpPr>
        <p:grpSpPr>
          <a:xfrm>
            <a:off x="990720" y="1676520"/>
            <a:ext cx="5163840" cy="550800"/>
            <a:chOff x="990720" y="1676520"/>
            <a:chExt cx="5163840" cy="550800"/>
          </a:xfrm>
        </p:grpSpPr>
        <p:sp>
          <p:nvSpPr>
            <p:cNvPr id="3536" name=""/>
            <p:cNvSpPr/>
            <p:nvPr/>
          </p:nvSpPr>
          <p:spPr>
            <a:xfrm>
              <a:off x="990720" y="1676520"/>
              <a:ext cx="209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自等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7" name=""/>
                <p:cNvSpPr txBox="1"/>
                <p:nvPr/>
              </p:nvSpPr>
              <p:spPr>
                <a:xfrm>
                  <a:off x="2532240" y="1676520"/>
                  <a:ext cx="36223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8" name=""/>
          <p:cNvGrpSpPr/>
          <p:nvPr/>
        </p:nvGrpSpPr>
        <p:grpSpPr>
          <a:xfrm>
            <a:off x="1066680" y="2286000"/>
            <a:ext cx="4923000" cy="550800"/>
            <a:chOff x="1066680" y="2286000"/>
            <a:chExt cx="4923000" cy="550800"/>
          </a:xfrm>
        </p:grpSpPr>
        <p:sp>
          <p:nvSpPr>
            <p:cNvPr id="3539" name=""/>
            <p:cNvSpPr/>
            <p:nvPr/>
          </p:nvSpPr>
          <p:spPr>
            <a:xfrm>
              <a:off x="1066680" y="2286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-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0" name=""/>
                <p:cNvSpPr txBox="1"/>
                <p:nvPr/>
              </p:nvSpPr>
              <p:spPr>
                <a:xfrm>
                  <a:off x="2608200" y="2286000"/>
                  <a:ext cx="3381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41" name=""/>
          <p:cNvGrpSpPr/>
          <p:nvPr/>
        </p:nvGrpSpPr>
        <p:grpSpPr>
          <a:xfrm>
            <a:off x="990720" y="2895480"/>
            <a:ext cx="5437080" cy="551160"/>
            <a:chOff x="990720" y="2895480"/>
            <a:chExt cx="5437080" cy="551160"/>
          </a:xfrm>
        </p:grpSpPr>
        <p:sp>
          <p:nvSpPr>
            <p:cNvPr id="3542" name=""/>
            <p:cNvSpPr/>
            <p:nvPr/>
          </p:nvSpPr>
          <p:spPr>
            <a:xfrm>
              <a:off x="990720" y="28954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重叠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3" name=""/>
                <p:cNvSpPr txBox="1"/>
                <p:nvPr/>
              </p:nvSpPr>
              <p:spPr>
                <a:xfrm>
                  <a:off x="2562120" y="2895480"/>
                  <a:ext cx="386568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44" name=""/>
          <p:cNvGrpSpPr/>
          <p:nvPr/>
        </p:nvGrpSpPr>
        <p:grpSpPr>
          <a:xfrm>
            <a:off x="990720" y="3429000"/>
            <a:ext cx="3276360" cy="704880"/>
            <a:chOff x="990720" y="3429000"/>
            <a:chExt cx="3276360" cy="704880"/>
          </a:xfrm>
        </p:grpSpPr>
        <p:sp>
          <p:nvSpPr>
            <p:cNvPr id="3545" name=""/>
            <p:cNvSpPr/>
            <p:nvPr/>
          </p:nvSpPr>
          <p:spPr>
            <a:xfrm>
              <a:off x="990720" y="35053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还原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6" name=""/>
                <p:cNvSpPr txBox="1"/>
                <p:nvPr/>
              </p:nvSpPr>
              <p:spPr>
                <a:xfrm>
                  <a:off x="2514600" y="3429000"/>
                  <a:ext cx="175248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</m:acc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47" name=""/>
          <p:cNvGrpSpPr/>
          <p:nvPr/>
        </p:nvGrpSpPr>
        <p:grpSpPr>
          <a:xfrm>
            <a:off x="990720" y="4078440"/>
            <a:ext cx="5182920" cy="623880"/>
            <a:chOff x="990720" y="4078440"/>
            <a:chExt cx="5182920" cy="623880"/>
          </a:xfrm>
        </p:grpSpPr>
        <p:sp>
          <p:nvSpPr>
            <p:cNvPr id="3548" name=""/>
            <p:cNvSpPr/>
            <p:nvPr/>
          </p:nvSpPr>
          <p:spPr>
            <a:xfrm>
              <a:off x="990720" y="41148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互补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9" name=""/>
                <p:cNvSpPr txBox="1"/>
                <p:nvPr/>
              </p:nvSpPr>
              <p:spPr>
                <a:xfrm>
                  <a:off x="2482920" y="4078440"/>
                  <a:ext cx="369072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0" name=""/>
          <p:cNvGrpSpPr/>
          <p:nvPr/>
        </p:nvGrpSpPr>
        <p:grpSpPr>
          <a:xfrm>
            <a:off x="838080" y="5257800"/>
            <a:ext cx="5867280" cy="590040"/>
            <a:chOff x="838080" y="5257800"/>
            <a:chExt cx="5867280" cy="590040"/>
          </a:xfrm>
        </p:grpSpPr>
        <p:sp>
          <p:nvSpPr>
            <p:cNvPr id="3551" name=""/>
            <p:cNvSpPr/>
            <p:nvPr/>
          </p:nvSpPr>
          <p:spPr>
            <a:xfrm>
              <a:off x="838080" y="5257800"/>
              <a:ext cx="129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交换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2" name=""/>
                <p:cNvSpPr txBox="1"/>
                <p:nvPr/>
              </p:nvSpPr>
              <p:spPr>
                <a:xfrm>
                  <a:off x="1955880" y="5329080"/>
                  <a:ext cx="47494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3" name=""/>
          <p:cNvGrpSpPr/>
          <p:nvPr/>
        </p:nvGrpSpPr>
        <p:grpSpPr>
          <a:xfrm>
            <a:off x="1066680" y="990720"/>
            <a:ext cx="4572000" cy="171360"/>
            <a:chOff x="1066680" y="990720"/>
            <a:chExt cx="4572000" cy="171360"/>
          </a:xfrm>
        </p:grpSpPr>
        <p:pic>
          <p:nvPicPr>
            <p:cNvPr id="3554" name="" descr=""/>
            <p:cNvPicPr/>
            <p:nvPr/>
          </p:nvPicPr>
          <p:blipFill>
            <a:blip r:embed="rId1"/>
            <a:stretch/>
          </p:blipFill>
          <p:spPr>
            <a:xfrm>
              <a:off x="1971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5" name="" descr=""/>
            <p:cNvPicPr/>
            <p:nvPr/>
          </p:nvPicPr>
          <p:blipFill>
            <a:blip r:embed="rId2"/>
            <a:stretch/>
          </p:blipFill>
          <p:spPr>
            <a:xfrm>
              <a:off x="2114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6" name="" descr=""/>
            <p:cNvPicPr/>
            <p:nvPr/>
          </p:nvPicPr>
          <p:blipFill>
            <a:blip r:embed="rId3"/>
            <a:stretch/>
          </p:blipFill>
          <p:spPr>
            <a:xfrm>
              <a:off x="2276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7" name="" descr=""/>
            <p:cNvPicPr/>
            <p:nvPr/>
          </p:nvPicPr>
          <p:blipFill>
            <a:blip r:embed="rId4"/>
            <a:stretch/>
          </p:blipFill>
          <p:spPr>
            <a:xfrm>
              <a:off x="2571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8" name="" descr=""/>
            <p:cNvPicPr/>
            <p:nvPr/>
          </p:nvPicPr>
          <p:blipFill>
            <a:blip r:embed="rId5"/>
            <a:stretch/>
          </p:blipFill>
          <p:spPr>
            <a:xfrm>
              <a:off x="2733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" descr=""/>
            <p:cNvPicPr/>
            <p:nvPr/>
          </p:nvPicPr>
          <p:blipFill>
            <a:blip r:embed="rId6"/>
            <a:stretch/>
          </p:blipFill>
          <p:spPr>
            <a:xfrm>
              <a:off x="2886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" descr=""/>
            <p:cNvPicPr/>
            <p:nvPr/>
          </p:nvPicPr>
          <p:blipFill>
            <a:blip r:embed="rId7"/>
            <a:stretch/>
          </p:blipFill>
          <p:spPr>
            <a:xfrm>
              <a:off x="3029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" descr=""/>
            <p:cNvPicPr/>
            <p:nvPr/>
          </p:nvPicPr>
          <p:blipFill>
            <a:blip r:embed="rId8"/>
            <a:stretch/>
          </p:blipFill>
          <p:spPr>
            <a:xfrm>
              <a:off x="3191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2" name="" descr=""/>
            <p:cNvPicPr/>
            <p:nvPr/>
          </p:nvPicPr>
          <p:blipFill>
            <a:blip r:embed="rId9"/>
            <a:stretch/>
          </p:blipFill>
          <p:spPr>
            <a:xfrm>
              <a:off x="3486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3" name="" descr=""/>
            <p:cNvPicPr/>
            <p:nvPr/>
          </p:nvPicPr>
          <p:blipFill>
            <a:blip r:embed="rId10"/>
            <a:stretch/>
          </p:blipFill>
          <p:spPr>
            <a:xfrm>
              <a:off x="3648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4" name="" descr=""/>
            <p:cNvPicPr/>
            <p:nvPr/>
          </p:nvPicPr>
          <p:blipFill>
            <a:blip r:embed="rId11"/>
            <a:stretch/>
          </p:blipFill>
          <p:spPr>
            <a:xfrm>
              <a:off x="3800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5" name="" descr=""/>
            <p:cNvPicPr/>
            <p:nvPr/>
          </p:nvPicPr>
          <p:blipFill>
            <a:blip r:embed="rId12"/>
            <a:stretch/>
          </p:blipFill>
          <p:spPr>
            <a:xfrm>
              <a:off x="3943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6" name="" descr=""/>
            <p:cNvPicPr/>
            <p:nvPr/>
          </p:nvPicPr>
          <p:blipFill>
            <a:blip r:embed="rId13"/>
            <a:stretch/>
          </p:blipFill>
          <p:spPr>
            <a:xfrm>
              <a:off x="2428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7" name="" descr=""/>
            <p:cNvPicPr/>
            <p:nvPr/>
          </p:nvPicPr>
          <p:blipFill>
            <a:blip r:embed="rId14"/>
            <a:stretch/>
          </p:blipFill>
          <p:spPr>
            <a:xfrm>
              <a:off x="3343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8" name="" descr=""/>
            <p:cNvPicPr/>
            <p:nvPr/>
          </p:nvPicPr>
          <p:blipFill>
            <a:blip r:embed="rId15"/>
            <a:stretch/>
          </p:blipFill>
          <p:spPr>
            <a:xfrm>
              <a:off x="4114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9" name="" descr=""/>
            <p:cNvPicPr/>
            <p:nvPr/>
          </p:nvPicPr>
          <p:blipFill>
            <a:blip r:embed="rId16"/>
            <a:stretch/>
          </p:blipFill>
          <p:spPr>
            <a:xfrm>
              <a:off x="4257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0" name="" descr=""/>
            <p:cNvPicPr/>
            <p:nvPr/>
          </p:nvPicPr>
          <p:blipFill>
            <a:blip r:embed="rId17"/>
            <a:stretch/>
          </p:blipFill>
          <p:spPr>
            <a:xfrm>
              <a:off x="4400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1" name="" descr=""/>
            <p:cNvPicPr/>
            <p:nvPr/>
          </p:nvPicPr>
          <p:blipFill>
            <a:blip r:embed="rId18"/>
            <a:stretch/>
          </p:blipFill>
          <p:spPr>
            <a:xfrm>
              <a:off x="4562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2" name="" descr=""/>
            <p:cNvPicPr/>
            <p:nvPr/>
          </p:nvPicPr>
          <p:blipFill>
            <a:blip r:embed="rId19"/>
            <a:stretch/>
          </p:blipFill>
          <p:spPr>
            <a:xfrm>
              <a:off x="4714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3" name="" descr=""/>
            <p:cNvPicPr/>
            <p:nvPr/>
          </p:nvPicPr>
          <p:blipFill>
            <a:blip r:embed="rId20"/>
            <a:stretch/>
          </p:blipFill>
          <p:spPr>
            <a:xfrm>
              <a:off x="4857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4" name=""/>
            <p:cNvGrpSpPr/>
            <p:nvPr/>
          </p:nvGrpSpPr>
          <p:grpSpPr>
            <a:xfrm>
              <a:off x="1066680" y="990720"/>
              <a:ext cx="923760" cy="161640"/>
              <a:chOff x="1066680" y="990720"/>
              <a:chExt cx="923760" cy="161640"/>
            </a:xfrm>
          </p:grpSpPr>
          <p:pic>
            <p:nvPicPr>
              <p:cNvPr id="357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2096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16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238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668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8288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0666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81" name="" descr=""/>
            <p:cNvPicPr/>
            <p:nvPr/>
          </p:nvPicPr>
          <p:blipFill>
            <a:blip r:embed="rId27"/>
            <a:stretch/>
          </p:blipFill>
          <p:spPr>
            <a:xfrm>
              <a:off x="5019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2" name="" descr=""/>
            <p:cNvPicPr/>
            <p:nvPr/>
          </p:nvPicPr>
          <p:blipFill>
            <a:blip r:embed="rId28"/>
            <a:stretch/>
          </p:blipFill>
          <p:spPr>
            <a:xfrm>
              <a:off x="5181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3" name="" descr=""/>
            <p:cNvPicPr/>
            <p:nvPr/>
          </p:nvPicPr>
          <p:blipFill>
            <a:blip r:embed="rId29"/>
            <a:stretch/>
          </p:blipFill>
          <p:spPr>
            <a:xfrm>
              <a:off x="5334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4" name="" descr=""/>
            <p:cNvPicPr/>
            <p:nvPr/>
          </p:nvPicPr>
          <p:blipFill>
            <a:blip r:embed="rId30"/>
            <a:stretch/>
          </p:blipFill>
          <p:spPr>
            <a:xfrm>
              <a:off x="5477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/>
          <p:nvPr/>
        </p:nvSpPr>
        <p:spPr>
          <a:xfrm>
            <a:off x="914400" y="6094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逻辑代数的基本运算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6858000" y="1828800"/>
            <a:ext cx="1447920" cy="990720"/>
          </a:xfrm>
          <a:prstGeom prst="wedgeEllipseCallout">
            <a:avLst>
              <a:gd name="adj1" fmla="val -72805"/>
              <a:gd name="adj2" fmla="val 649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普通代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不适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990720" y="3429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证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8" name=""/>
              <p:cNvSpPr txBox="1"/>
              <p:nvPr/>
            </p:nvSpPr>
            <p:spPr>
              <a:xfrm>
                <a:off x="1658880" y="3962520"/>
                <a:ext cx="4989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9" name=""/>
          <p:cNvGrpSpPr/>
          <p:nvPr/>
        </p:nvGrpSpPr>
        <p:grpSpPr>
          <a:xfrm>
            <a:off x="990720" y="1143000"/>
            <a:ext cx="5564160" cy="1147680"/>
            <a:chOff x="990720" y="1143000"/>
            <a:chExt cx="5564160" cy="1147680"/>
          </a:xfrm>
        </p:grpSpPr>
        <p:sp>
          <p:nvSpPr>
            <p:cNvPr id="3590" name=""/>
            <p:cNvSpPr/>
            <p:nvPr/>
          </p:nvSpPr>
          <p:spPr>
            <a:xfrm>
              <a:off x="990720" y="11430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结合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1" name=""/>
                <p:cNvSpPr txBox="1"/>
                <p:nvPr/>
              </p:nvSpPr>
              <p:spPr>
                <a:xfrm>
                  <a:off x="2281320" y="1219320"/>
                  <a:ext cx="42735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2" name=""/>
                <p:cNvSpPr txBox="1"/>
                <p:nvPr/>
              </p:nvSpPr>
              <p:spPr>
                <a:xfrm>
                  <a:off x="2405160" y="1752480"/>
                  <a:ext cx="36496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3" name=""/>
          <p:cNvGrpSpPr/>
          <p:nvPr/>
        </p:nvGrpSpPr>
        <p:grpSpPr>
          <a:xfrm>
            <a:off x="990720" y="2247840"/>
            <a:ext cx="6325920" cy="1125720"/>
            <a:chOff x="990720" y="2247840"/>
            <a:chExt cx="6325920" cy="1125720"/>
          </a:xfrm>
        </p:grpSpPr>
        <p:sp>
          <p:nvSpPr>
            <p:cNvPr id="3594" name=""/>
            <p:cNvSpPr/>
            <p:nvPr/>
          </p:nvSpPr>
          <p:spPr>
            <a:xfrm>
              <a:off x="990720" y="22478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分配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5" name=""/>
                <p:cNvSpPr txBox="1"/>
                <p:nvPr/>
              </p:nvSpPr>
              <p:spPr>
                <a:xfrm>
                  <a:off x="2268360" y="2286000"/>
                  <a:ext cx="4302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6" name=""/>
                <p:cNvSpPr txBox="1"/>
                <p:nvPr/>
              </p:nvSpPr>
              <p:spPr>
                <a:xfrm>
                  <a:off x="2251080" y="2819520"/>
                  <a:ext cx="50655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1658880" y="3429000"/>
                <a:ext cx="2879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1641600" y="4495680"/>
                <a:ext cx="3733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1658880" y="5105520"/>
                <a:ext cx="36180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1676520" y="5638680"/>
                <a:ext cx="17524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1" name=""/>
          <p:cNvSpPr/>
          <p:nvPr/>
        </p:nvSpPr>
        <p:spPr>
          <a:xfrm>
            <a:off x="5638680" y="4419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+1=1</a:t>
            </a:r>
            <a:r>
              <a:rPr b="1" lang="en-US" sz="3200" spc="-1" strike="noStrike">
                <a:solidFill>
                  <a:srgbClr val="ffff00"/>
                </a:solidFill>
                <a:latin typeface="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2" name=""/>
          <p:cNvGrpSpPr/>
          <p:nvPr/>
        </p:nvGrpSpPr>
        <p:grpSpPr>
          <a:xfrm>
            <a:off x="6865560" y="3733920"/>
            <a:ext cx="1497600" cy="711360"/>
            <a:chOff x="6865560" y="3733920"/>
            <a:chExt cx="1497600" cy="711360"/>
          </a:xfrm>
        </p:grpSpPr>
        <p:sp>
          <p:nvSpPr>
            <p:cNvPr id="3603" name=""/>
            <p:cNvSpPr/>
            <p:nvPr/>
          </p:nvSpPr>
          <p:spPr>
            <a:xfrm>
              <a:off x="6865560" y="3863880"/>
              <a:ext cx="149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   A=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7298280" y="3733920"/>
              <a:ext cx="29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"/>
          <p:cNvSpPr/>
          <p:nvPr/>
        </p:nvSpPr>
        <p:spPr>
          <a:xfrm>
            <a:off x="7174080" y="460440"/>
            <a:ext cx="15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3888360" y="2544120"/>
            <a:ext cx="1678680" cy="520560"/>
            <a:chOff x="3888360" y="2544120"/>
            <a:chExt cx="1678680" cy="520560"/>
          </a:xfrm>
        </p:grpSpPr>
        <p:sp>
          <p:nvSpPr>
            <p:cNvPr id="3607" name=""/>
            <p:cNvSpPr/>
            <p:nvPr/>
          </p:nvSpPr>
          <p:spPr>
            <a:xfrm>
              <a:off x="3888360" y="254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83640" y="254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9" name=""/>
          <p:cNvGrpSpPr/>
          <p:nvPr/>
        </p:nvGrpSpPr>
        <p:grpSpPr>
          <a:xfrm>
            <a:off x="3875760" y="2894760"/>
            <a:ext cx="1678680" cy="520560"/>
            <a:chOff x="3875760" y="2894760"/>
            <a:chExt cx="1678680" cy="520560"/>
          </a:xfrm>
        </p:grpSpPr>
        <p:sp>
          <p:nvSpPr>
            <p:cNvPr id="3610" name=""/>
            <p:cNvSpPr/>
            <p:nvPr/>
          </p:nvSpPr>
          <p:spPr>
            <a:xfrm>
              <a:off x="3875760" y="289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71040" y="289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6324480" y="2513520"/>
            <a:ext cx="1555560" cy="1761120"/>
            <a:chOff x="6324480" y="2513520"/>
            <a:chExt cx="1555560" cy="1761120"/>
          </a:xfrm>
        </p:grpSpPr>
        <p:sp>
          <p:nvSpPr>
            <p:cNvPr id="3613" name=""/>
            <p:cNvSpPr/>
            <p:nvPr/>
          </p:nvSpPr>
          <p:spPr>
            <a:xfrm>
              <a:off x="6339240" y="2513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339240" y="2879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467480" y="287928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324480" y="331524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467480" y="251352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482240" y="3315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339240" y="375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467480" y="375408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838080" y="685800"/>
            <a:ext cx="6589800" cy="555480"/>
            <a:chOff x="838080" y="685800"/>
            <a:chExt cx="6589800" cy="555480"/>
          </a:xfrm>
        </p:grpSpPr>
        <p:sp>
          <p:nvSpPr>
            <p:cNvPr id="3622" name=""/>
            <p:cNvSpPr/>
            <p:nvPr/>
          </p:nvSpPr>
          <p:spPr>
            <a:xfrm>
              <a:off x="838080" y="706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反演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3" name=""/>
                <p:cNvSpPr txBox="1"/>
                <p:nvPr/>
              </p:nvSpPr>
              <p:spPr>
                <a:xfrm>
                  <a:off x="2362320" y="685800"/>
                  <a:ext cx="232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⋅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4" name=""/>
                <p:cNvSpPr txBox="1"/>
                <p:nvPr/>
              </p:nvSpPr>
              <p:spPr>
                <a:xfrm>
                  <a:off x="5105520" y="685800"/>
                  <a:ext cx="232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+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5" name=""/>
          <p:cNvSpPr/>
          <p:nvPr/>
        </p:nvSpPr>
        <p:spPr>
          <a:xfrm>
            <a:off x="1369440" y="129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列状态表证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685800" y="1903320"/>
            <a:ext cx="7620120" cy="2406600"/>
            <a:chOff x="685800" y="1903320"/>
            <a:chExt cx="7620120" cy="2406600"/>
          </a:xfrm>
        </p:grpSpPr>
        <p:grpSp>
          <p:nvGrpSpPr>
            <p:cNvPr id="3627" name=""/>
            <p:cNvGrpSpPr/>
            <p:nvPr/>
          </p:nvGrpSpPr>
          <p:grpSpPr>
            <a:xfrm>
              <a:off x="685800" y="1903320"/>
              <a:ext cx="7620120" cy="2406600"/>
              <a:chOff x="685800" y="1903320"/>
              <a:chExt cx="7620120" cy="2406600"/>
            </a:xfrm>
          </p:grpSpPr>
          <p:sp>
            <p:nvSpPr>
              <p:cNvPr id="3628" name=""/>
              <p:cNvSpPr/>
              <p:nvPr/>
            </p:nvSpPr>
            <p:spPr>
              <a:xfrm>
                <a:off x="685800" y="1903320"/>
                <a:ext cx="7620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9" name=""/>
              <p:cNvGrpSpPr/>
              <p:nvPr/>
            </p:nvGrpSpPr>
            <p:grpSpPr>
              <a:xfrm>
                <a:off x="685800" y="1903320"/>
                <a:ext cx="7619760" cy="2406600"/>
                <a:chOff x="685800" y="1903320"/>
                <a:chExt cx="7619760" cy="2406600"/>
              </a:xfrm>
            </p:grpSpPr>
            <p:sp>
              <p:nvSpPr>
                <p:cNvPr id="3630" name=""/>
                <p:cNvSpPr/>
                <p:nvPr/>
              </p:nvSpPr>
              <p:spPr>
                <a:xfrm>
                  <a:off x="685800" y="4309920"/>
                  <a:ext cx="76197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1" name=""/>
                <p:cNvGrpSpPr/>
                <p:nvPr/>
              </p:nvGrpSpPr>
              <p:grpSpPr>
                <a:xfrm>
                  <a:off x="685800" y="1903320"/>
                  <a:ext cx="7619760" cy="2406600"/>
                  <a:chOff x="685800" y="1903320"/>
                  <a:chExt cx="7619760" cy="2406600"/>
                </a:xfrm>
              </p:grpSpPr>
              <p:sp>
                <p:nvSpPr>
                  <p:cNvPr id="3632" name=""/>
                  <p:cNvSpPr/>
                  <p:nvPr/>
                </p:nvSpPr>
                <p:spPr>
                  <a:xfrm>
                    <a:off x="685800" y="2541240"/>
                    <a:ext cx="7619760" cy="18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33" name=""/>
                  <p:cNvGrpSpPr/>
                  <p:nvPr/>
                </p:nvGrpSpPr>
                <p:grpSpPr>
                  <a:xfrm>
                    <a:off x="685800" y="1903320"/>
                    <a:ext cx="7619760" cy="2406600"/>
                    <a:chOff x="685800" y="1903320"/>
                    <a:chExt cx="7619760" cy="2406600"/>
                  </a:xfrm>
                </p:grpSpPr>
                <p:sp>
                  <p:nvSpPr>
                    <p:cNvPr id="3634" name=""/>
                    <p:cNvSpPr/>
                    <p:nvPr/>
                  </p:nvSpPr>
                  <p:spPr>
                    <a:xfrm>
                      <a:off x="6858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5" name=""/>
                    <p:cNvSpPr/>
                    <p:nvPr/>
                  </p:nvSpPr>
                  <p:spPr>
                    <a:xfrm>
                      <a:off x="34290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6" name=""/>
                    <p:cNvSpPr/>
                    <p:nvPr/>
                  </p:nvSpPr>
                  <p:spPr>
                    <a:xfrm>
                      <a:off x="46479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7" name=""/>
                    <p:cNvSpPr/>
                    <p:nvPr/>
                  </p:nvSpPr>
                  <p:spPr>
                    <a:xfrm>
                      <a:off x="59436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8" name=""/>
                    <p:cNvSpPr/>
                    <p:nvPr/>
                  </p:nvSpPr>
                  <p:spPr>
                    <a:xfrm>
                      <a:off x="71625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9" name=""/>
                    <p:cNvSpPr/>
                    <p:nvPr/>
                  </p:nvSpPr>
                  <p:spPr>
                    <a:xfrm>
                      <a:off x="83055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0" name=""/>
                    <p:cNvSpPr/>
                    <p:nvPr/>
                  </p:nvSpPr>
                  <p:spPr>
                    <a:xfrm>
                      <a:off x="13716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1" name=""/>
                    <p:cNvSpPr/>
                    <p:nvPr/>
                  </p:nvSpPr>
                  <p:spPr>
                    <a:xfrm>
                      <a:off x="20574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2" name=""/>
                    <p:cNvSpPr/>
                    <p:nvPr/>
                  </p:nvSpPr>
                  <p:spPr>
                    <a:xfrm>
                      <a:off x="27432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643" name=""/>
            <p:cNvSpPr/>
            <p:nvPr/>
          </p:nvSpPr>
          <p:spPr>
            <a:xfrm>
              <a:off x="834120" y="19789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432440" y="19789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38080" y="2517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5386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8528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86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8528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5386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8528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5386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2244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9102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2244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9102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2244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895480" y="333468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2244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102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1" name=""/>
                <p:cNvSpPr txBox="1"/>
                <p:nvPr/>
              </p:nvSpPr>
              <p:spPr>
                <a:xfrm>
                  <a:off x="2209680" y="2027160"/>
                  <a:ext cx="4287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2" name=""/>
                <p:cNvSpPr txBox="1"/>
                <p:nvPr/>
              </p:nvSpPr>
              <p:spPr>
                <a:xfrm>
                  <a:off x="2881440" y="2027160"/>
                  <a:ext cx="366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3" name=""/>
                <p:cNvSpPr txBox="1"/>
                <p:nvPr/>
              </p:nvSpPr>
              <p:spPr>
                <a:xfrm>
                  <a:off x="3505320" y="2027160"/>
                  <a:ext cx="99036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4" name=""/>
                <p:cNvSpPr txBox="1"/>
                <p:nvPr/>
              </p:nvSpPr>
              <p:spPr>
                <a:xfrm>
                  <a:off x="4876920" y="2027160"/>
                  <a:ext cx="84276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⋅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5" name=""/>
                <p:cNvSpPr txBox="1"/>
                <p:nvPr/>
              </p:nvSpPr>
              <p:spPr>
                <a:xfrm>
                  <a:off x="6097680" y="2027160"/>
                  <a:ext cx="8348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6" name=""/>
                <p:cNvSpPr txBox="1"/>
                <p:nvPr/>
              </p:nvSpPr>
              <p:spPr>
                <a:xfrm>
                  <a:off x="7161120" y="2027160"/>
                  <a:ext cx="10000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+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7" name=""/>
          <p:cNvGrpSpPr/>
          <p:nvPr/>
        </p:nvGrpSpPr>
        <p:grpSpPr>
          <a:xfrm>
            <a:off x="3875760" y="3351960"/>
            <a:ext cx="1678680" cy="520560"/>
            <a:chOff x="3875760" y="3351960"/>
            <a:chExt cx="1678680" cy="520560"/>
          </a:xfrm>
        </p:grpSpPr>
        <p:sp>
          <p:nvSpPr>
            <p:cNvPr id="3668" name=""/>
            <p:cNvSpPr/>
            <p:nvPr/>
          </p:nvSpPr>
          <p:spPr>
            <a:xfrm>
              <a:off x="3875760" y="335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171040" y="335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3875760" y="3733200"/>
            <a:ext cx="1678680" cy="520560"/>
            <a:chOff x="3875760" y="3733200"/>
            <a:chExt cx="1678680" cy="520560"/>
          </a:xfrm>
        </p:grpSpPr>
        <p:sp>
          <p:nvSpPr>
            <p:cNvPr id="3671" name=""/>
            <p:cNvSpPr/>
            <p:nvPr/>
          </p:nvSpPr>
          <p:spPr>
            <a:xfrm>
              <a:off x="3875760" y="373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171040" y="373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488520" y="4419720"/>
            <a:ext cx="3191760" cy="1601280"/>
            <a:chOff x="488520" y="4419720"/>
            <a:chExt cx="3191760" cy="1601280"/>
          </a:xfrm>
        </p:grpSpPr>
        <p:sp>
          <p:nvSpPr>
            <p:cNvPr id="3674" name=""/>
            <p:cNvSpPr/>
            <p:nvPr/>
          </p:nvSpPr>
          <p:spPr>
            <a:xfrm>
              <a:off x="685800" y="441972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吸收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88520" y="4952160"/>
              <a:ext cx="319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1) 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AB =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2) 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 =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3733920" y="5029200"/>
            <a:ext cx="1454040" cy="762120"/>
            <a:chOff x="3733920" y="5029200"/>
            <a:chExt cx="1454040" cy="762120"/>
          </a:xfrm>
        </p:grpSpPr>
        <p:sp>
          <p:nvSpPr>
            <p:cNvPr id="3677" name=""/>
            <p:cNvSpPr/>
            <p:nvPr/>
          </p:nvSpPr>
          <p:spPr>
            <a:xfrm>
              <a:off x="3733920" y="502920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367160" y="5145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"/>
          <p:cNvSpPr/>
          <p:nvPr/>
        </p:nvSpPr>
        <p:spPr>
          <a:xfrm>
            <a:off x="838080" y="1112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对偶关系：</a:t>
            </a: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某逻辑表达式中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• 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换成或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+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或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+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换成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• 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得到一个新的逻辑表达式，即为原逻辑式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对偶式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若原逻辑恒等式成立，则其对偶式也成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85800" y="382104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2971800" y="4419720"/>
                <a:ext cx="42750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2" name=""/>
          <p:cNvSpPr/>
          <p:nvPr/>
        </p:nvSpPr>
        <p:spPr>
          <a:xfrm>
            <a:off x="6277680" y="38973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"/>
              </a:rPr>
              <a:t>A+AB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1844640" y="3886200"/>
                <a:ext cx="3878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84" name=""/>
          <p:cNvGrpSpPr/>
          <p:nvPr/>
        </p:nvGrpSpPr>
        <p:grpSpPr>
          <a:xfrm>
            <a:off x="1828800" y="3638520"/>
            <a:ext cx="3047760" cy="819000"/>
            <a:chOff x="1828800" y="3638520"/>
            <a:chExt cx="3047760" cy="819000"/>
          </a:xfrm>
        </p:grpSpPr>
        <p:sp>
          <p:nvSpPr>
            <p:cNvPr id="3685" name=""/>
            <p:cNvSpPr/>
            <p:nvPr/>
          </p:nvSpPr>
          <p:spPr>
            <a:xfrm>
              <a:off x="1828800" y="4004280"/>
              <a:ext cx="417240" cy="4532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36760" y="3638520"/>
              <a:ext cx="1614240" cy="295920"/>
            </a:xfrm>
            <a:custGeom>
              <a:avLst/>
              <a:gdLst>
                <a:gd name="textAreaLeft" fmla="*/ 282240 w 1614240"/>
                <a:gd name="textAreaRight" fmla="*/ 1170360 w 1614240"/>
                <a:gd name="textAreaTop" fmla="*/ 39600 h 295920"/>
                <a:gd name="textAreaBottom" fmla="*/ 256320 h 29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389040" y="3987000"/>
              <a:ext cx="1487520" cy="4705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8" name=""/>
          <p:cNvGrpSpPr/>
          <p:nvPr/>
        </p:nvGrpSpPr>
        <p:grpSpPr>
          <a:xfrm>
            <a:off x="727200" y="2514600"/>
            <a:ext cx="4033800" cy="1162080"/>
            <a:chOff x="727200" y="2514600"/>
            <a:chExt cx="4033800" cy="1162080"/>
          </a:xfrm>
        </p:grpSpPr>
        <mc:AlternateContent>
          <mc:Choice xmlns:a14="http://schemas.microsoft.com/office/drawing/2010/main" Requires="a14">
            <p:sp>
              <p:nvSpPr>
                <p:cNvPr id="3689" name=""/>
                <p:cNvSpPr txBox="1"/>
                <p:nvPr/>
              </p:nvSpPr>
              <p:spPr>
                <a:xfrm>
                  <a:off x="1490760" y="3048120"/>
                  <a:ext cx="277488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0" name=""/>
                <p:cNvSpPr txBox="1"/>
                <p:nvPr/>
              </p:nvSpPr>
              <p:spPr>
                <a:xfrm>
                  <a:off x="1432080" y="2514600"/>
                  <a:ext cx="33289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1" name=""/>
            <p:cNvSpPr/>
            <p:nvPr/>
          </p:nvSpPr>
          <p:spPr>
            <a:xfrm>
              <a:off x="735120" y="25902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27200" y="312336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3" name=""/>
          <p:cNvGrpSpPr/>
          <p:nvPr/>
        </p:nvGrpSpPr>
        <p:grpSpPr>
          <a:xfrm>
            <a:off x="4724280" y="2743200"/>
            <a:ext cx="1454040" cy="762120"/>
            <a:chOff x="4724280" y="2743200"/>
            <a:chExt cx="1454040" cy="762120"/>
          </a:xfrm>
        </p:grpSpPr>
        <p:sp>
          <p:nvSpPr>
            <p:cNvPr id="3694" name=""/>
            <p:cNvSpPr/>
            <p:nvPr/>
          </p:nvSpPr>
          <p:spPr>
            <a:xfrm>
              <a:off x="4724280" y="274320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357520" y="2859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6" name=""/>
          <p:cNvGrpSpPr/>
          <p:nvPr/>
        </p:nvGrpSpPr>
        <p:grpSpPr>
          <a:xfrm>
            <a:off x="803160" y="5029200"/>
            <a:ext cx="4273560" cy="1162080"/>
            <a:chOff x="803160" y="5029200"/>
            <a:chExt cx="4273560" cy="1162080"/>
          </a:xfrm>
        </p:grpSpPr>
        <mc:AlternateContent>
          <mc:Choice xmlns:a14="http://schemas.microsoft.com/office/drawing/2010/main" Requires="a14">
            <p:sp>
              <p:nvSpPr>
                <p:cNvPr id="3697" name=""/>
                <p:cNvSpPr txBox="1"/>
                <p:nvPr/>
              </p:nvSpPr>
              <p:spPr>
                <a:xfrm>
                  <a:off x="1643040" y="5562720"/>
                  <a:ext cx="343368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8" name=""/>
                <p:cNvSpPr txBox="1"/>
                <p:nvPr/>
              </p:nvSpPr>
              <p:spPr>
                <a:xfrm>
                  <a:off x="1662120" y="5029200"/>
                  <a:ext cx="273528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9" name=""/>
            <p:cNvSpPr/>
            <p:nvPr/>
          </p:nvSpPr>
          <p:spPr>
            <a:xfrm>
              <a:off x="803160" y="51048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803160" y="563796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5029200" y="5181480"/>
            <a:ext cx="1454040" cy="762120"/>
            <a:chOff x="5029200" y="5181480"/>
            <a:chExt cx="1454040" cy="762120"/>
          </a:xfrm>
        </p:grpSpPr>
        <p:sp>
          <p:nvSpPr>
            <p:cNvPr id="3702" name=""/>
            <p:cNvSpPr/>
            <p:nvPr/>
          </p:nvSpPr>
          <p:spPr>
            <a:xfrm>
              <a:off x="5029200" y="518148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662440" y="5298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4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1042920" cy="1177920"/>
          </a:xfrm>
          <a:prstGeom prst="rect">
            <a:avLst/>
          </a:prstGeom>
          <a:ln w="0">
            <a:noFill/>
          </a:ln>
        </p:spPr>
      </p:pic>
      <p:sp>
        <p:nvSpPr>
          <p:cNvPr id="3705" name=""/>
          <p:cNvSpPr/>
          <p:nvPr/>
        </p:nvSpPr>
        <p:spPr>
          <a:xfrm>
            <a:off x="8380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1.6.2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逻辑函数的表示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6" name=""/>
          <p:cNvGrpSpPr/>
          <p:nvPr/>
        </p:nvGrpSpPr>
        <p:grpSpPr>
          <a:xfrm>
            <a:off x="1054440" y="1294560"/>
            <a:ext cx="3224520" cy="1892160"/>
            <a:chOff x="1054440" y="1294560"/>
            <a:chExt cx="3224520" cy="1892160"/>
          </a:xfrm>
        </p:grpSpPr>
        <p:sp>
          <p:nvSpPr>
            <p:cNvPr id="3707" name=""/>
            <p:cNvSpPr/>
            <p:nvPr/>
          </p:nvSpPr>
          <p:spPr>
            <a:xfrm>
              <a:off x="1054440" y="1904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表示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514600" y="1447920"/>
              <a:ext cx="152280" cy="1600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886120" y="17517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031560" y="12945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886120" y="22089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886120" y="2666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卡诺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2948400" y="312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下面举例说明这四种表示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533520" y="428580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有一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形走廊，在相会处有一路灯，在进入走廊的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地各有控制开关，都能独立进行控制。任意闭合一个开关，灯亮；任意闭合两个开关，灯灭；三个开关同时闭合，灯亮。设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代表三个开关（输入变量）；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代表灯（输出变量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"/>
          <p:cNvSpPr/>
          <p:nvPr/>
        </p:nvSpPr>
        <p:spPr>
          <a:xfrm>
            <a:off x="1051920" y="167652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6" name=""/>
          <p:cNvGrpSpPr/>
          <p:nvPr/>
        </p:nvGrpSpPr>
        <p:grpSpPr>
          <a:xfrm>
            <a:off x="2149920" y="685080"/>
            <a:ext cx="4462920" cy="977760"/>
            <a:chOff x="2149920" y="685080"/>
            <a:chExt cx="4462920" cy="977760"/>
          </a:xfrm>
        </p:grpSpPr>
        <p:sp>
          <p:nvSpPr>
            <p:cNvPr id="3717" name=""/>
            <p:cNvSpPr/>
            <p:nvPr/>
          </p:nvSpPr>
          <p:spPr>
            <a:xfrm>
              <a:off x="2149920" y="685080"/>
              <a:ext cx="44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设：开关闭合其状态为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，断开为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568600" y="1142280"/>
              <a:ext cx="33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灯亮状态为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，灯灭为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9" name=""/>
          <p:cNvGrpSpPr/>
          <p:nvPr/>
        </p:nvGrpSpPr>
        <p:grpSpPr>
          <a:xfrm>
            <a:off x="914400" y="2209680"/>
            <a:ext cx="3657600" cy="2743200"/>
            <a:chOff x="914400" y="2209680"/>
            <a:chExt cx="3657600" cy="2743200"/>
          </a:xfrm>
        </p:grpSpPr>
        <p:sp>
          <p:nvSpPr>
            <p:cNvPr id="3720" name=""/>
            <p:cNvSpPr/>
            <p:nvPr/>
          </p:nvSpPr>
          <p:spPr>
            <a:xfrm>
              <a:off x="914400" y="2209680"/>
              <a:ext cx="3657600" cy="27432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371600" y="336744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用输入、输出变量的逻辑状态（“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或“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）以表格形式来表示逻辑函数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2" name=""/>
          <p:cNvGrpSpPr/>
          <p:nvPr/>
        </p:nvGrpSpPr>
        <p:grpSpPr>
          <a:xfrm>
            <a:off x="1434600" y="5028480"/>
            <a:ext cx="3112560" cy="1130040"/>
            <a:chOff x="1434600" y="5028480"/>
            <a:chExt cx="3112560" cy="1130040"/>
          </a:xfrm>
        </p:grpSpPr>
        <p:sp>
          <p:nvSpPr>
            <p:cNvPr id="3723" name=""/>
            <p:cNvSpPr/>
            <p:nvPr/>
          </p:nvSpPr>
          <p:spPr>
            <a:xfrm>
              <a:off x="1620360" y="50284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三输入变量有八种组合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434600" y="5637960"/>
              <a:ext cx="31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变量有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2</a:t>
              </a:r>
              <a:r>
                <a:rPr b="1" i="1" lang="zh-CN" sz="2800" spc="-1" strike="noStrike" baseline="30000">
                  <a:solidFill>
                    <a:srgbClr val="cc0000"/>
                  </a:solidFill>
                  <a:latin typeface="?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种组合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5" name=""/>
          <p:cNvGrpSpPr/>
          <p:nvPr/>
        </p:nvGrpSpPr>
        <p:grpSpPr>
          <a:xfrm>
            <a:off x="4705920" y="1752480"/>
            <a:ext cx="3218760" cy="3692520"/>
            <a:chOff x="4705920" y="1752480"/>
            <a:chExt cx="3218760" cy="3692520"/>
          </a:xfrm>
        </p:grpSpPr>
        <p:grpSp>
          <p:nvGrpSpPr>
            <p:cNvPr id="3726" name=""/>
            <p:cNvGrpSpPr/>
            <p:nvPr/>
          </p:nvGrpSpPr>
          <p:grpSpPr>
            <a:xfrm>
              <a:off x="4705920" y="1752480"/>
              <a:ext cx="3218760" cy="3692520"/>
              <a:chOff x="4705920" y="1752480"/>
              <a:chExt cx="3218760" cy="3692520"/>
            </a:xfrm>
          </p:grpSpPr>
          <p:sp>
            <p:nvSpPr>
              <p:cNvPr id="3727" name=""/>
              <p:cNvSpPr/>
              <p:nvPr/>
            </p:nvSpPr>
            <p:spPr>
              <a:xfrm>
                <a:off x="4705920" y="22575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8" name=""/>
              <p:cNvGrpSpPr/>
              <p:nvPr/>
            </p:nvGrpSpPr>
            <p:grpSpPr>
              <a:xfrm>
                <a:off x="5104080" y="1752480"/>
                <a:ext cx="2820600" cy="3692520"/>
                <a:chOff x="5104080" y="1752480"/>
                <a:chExt cx="2820600" cy="3692520"/>
              </a:xfrm>
            </p:grpSpPr>
            <p:sp>
              <p:nvSpPr>
                <p:cNvPr id="3729" name=""/>
                <p:cNvSpPr/>
                <p:nvPr/>
              </p:nvSpPr>
              <p:spPr>
                <a:xfrm>
                  <a:off x="5334120" y="17524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5334120" y="22096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7162920" y="1752480"/>
                  <a:ext cx="0" cy="3581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5104080" y="17524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5251680" y="2638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5251680" y="3019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5251680" y="3400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5251680" y="3781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251680" y="4162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5251680" y="4543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5251680" y="4924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0" name=""/>
            <p:cNvSpPr/>
            <p:nvPr/>
          </p:nvSpPr>
          <p:spPr>
            <a:xfrm>
              <a:off x="5372280" y="53690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"/>
          <p:cNvSpPr/>
          <p:nvPr/>
        </p:nvSpPr>
        <p:spPr>
          <a:xfrm>
            <a:off x="53352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975240" y="2438280"/>
            <a:ext cx="42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取 </a:t>
            </a:r>
            <a:r>
              <a:rPr b="1" i="1" lang="zh-CN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=“1”(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或</a:t>
            </a:r>
            <a:r>
              <a:rPr b="1" i="1" lang="zh-CN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=“0” )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列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3" name=""/>
          <p:cNvGrpSpPr/>
          <p:nvPr/>
        </p:nvGrpSpPr>
        <p:grpSpPr>
          <a:xfrm>
            <a:off x="838080" y="2895480"/>
            <a:ext cx="2103120" cy="520560"/>
            <a:chOff x="838080" y="2895480"/>
            <a:chExt cx="2103120" cy="520560"/>
          </a:xfrm>
        </p:grpSpPr>
        <p:sp>
          <p:nvSpPr>
            <p:cNvPr id="3744" name=""/>
            <p:cNvSpPr/>
            <p:nvPr/>
          </p:nvSpPr>
          <p:spPr>
            <a:xfrm>
              <a:off x="1260720" y="28954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取 </a:t>
              </a:r>
              <a:r>
                <a:rPr b="1" i="1" lang="zh-CN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 = “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838080" y="2923920"/>
              <a:ext cx="38124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6" name=""/>
          <p:cNvSpPr/>
          <p:nvPr/>
        </p:nvSpPr>
        <p:spPr>
          <a:xfrm>
            <a:off x="685800" y="838080"/>
            <a:ext cx="792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与”“或”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等运算来表达逻辑函数的表达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274400" y="182808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由逻辑状态表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609480" y="4578480"/>
            <a:ext cx="4953240" cy="1501200"/>
            <a:chOff x="609480" y="4578480"/>
            <a:chExt cx="4953240" cy="1501200"/>
          </a:xfrm>
        </p:grpSpPr>
        <p:sp>
          <p:nvSpPr>
            <p:cNvPr id="3749" name=""/>
            <p:cNvSpPr/>
            <p:nvPr/>
          </p:nvSpPr>
          <p:spPr>
            <a:xfrm>
              <a:off x="609480" y="4578480"/>
              <a:ext cx="495324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对应于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Y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=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若输入变量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，则取输入变量本身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"/>
                </a:rPr>
                <a:t>A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)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；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若输入变量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则取其反变量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)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639800" y="5943600"/>
              <a:ext cx="2286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1" name=""/>
          <p:cNvSpPr/>
          <p:nvPr/>
        </p:nvSpPr>
        <p:spPr>
          <a:xfrm>
            <a:off x="5791320" y="312408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2" name=""/>
          <p:cNvGrpSpPr/>
          <p:nvPr/>
        </p:nvGrpSpPr>
        <p:grpSpPr>
          <a:xfrm>
            <a:off x="1600200" y="3429000"/>
            <a:ext cx="3429000" cy="914400"/>
            <a:chOff x="1600200" y="3429000"/>
            <a:chExt cx="3429000" cy="914400"/>
          </a:xfrm>
        </p:grpSpPr>
        <p:sp>
          <p:nvSpPr>
            <p:cNvPr id="3753" name=""/>
            <p:cNvSpPr/>
            <p:nvPr/>
          </p:nvSpPr>
          <p:spPr>
            <a:xfrm>
              <a:off x="1600200" y="3429000"/>
              <a:ext cx="3352680" cy="914400"/>
            </a:xfrm>
            <a:prstGeom prst="wedgeRoundRectCallout">
              <a:avLst>
                <a:gd name="adj1" fmla="val 75333"/>
                <a:gd name="adj2" fmla="val -81425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600200" y="364176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一种组合中，输入变量之间是“与”关系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5010840" y="1752480"/>
            <a:ext cx="3218760" cy="3692520"/>
            <a:chOff x="5010840" y="1752480"/>
            <a:chExt cx="3218760" cy="3692520"/>
          </a:xfrm>
        </p:grpSpPr>
        <p:grpSp>
          <p:nvGrpSpPr>
            <p:cNvPr id="3756" name=""/>
            <p:cNvGrpSpPr/>
            <p:nvPr/>
          </p:nvGrpSpPr>
          <p:grpSpPr>
            <a:xfrm>
              <a:off x="5010840" y="1752480"/>
              <a:ext cx="3218760" cy="3692520"/>
              <a:chOff x="5010840" y="1752480"/>
              <a:chExt cx="3218760" cy="3692520"/>
            </a:xfrm>
          </p:grpSpPr>
          <p:sp>
            <p:nvSpPr>
              <p:cNvPr id="3757" name=""/>
              <p:cNvSpPr/>
              <p:nvPr/>
            </p:nvSpPr>
            <p:spPr>
              <a:xfrm>
                <a:off x="5010840" y="22575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8" name=""/>
              <p:cNvGrpSpPr/>
              <p:nvPr/>
            </p:nvGrpSpPr>
            <p:grpSpPr>
              <a:xfrm>
                <a:off x="5409000" y="1752480"/>
                <a:ext cx="2820600" cy="3692520"/>
                <a:chOff x="5409000" y="1752480"/>
                <a:chExt cx="2820600" cy="3692520"/>
              </a:xfrm>
            </p:grpSpPr>
            <p:sp>
              <p:nvSpPr>
                <p:cNvPr id="3759" name=""/>
                <p:cNvSpPr/>
                <p:nvPr/>
              </p:nvSpPr>
              <p:spPr>
                <a:xfrm>
                  <a:off x="5639040" y="17524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5639040" y="22096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7467840" y="1752480"/>
                  <a:ext cx="0" cy="3581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5409000" y="17524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5556600" y="2638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5556600" y="3019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5556600" y="3400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5556600" y="3781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5556600" y="4162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5556600" y="4543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5556600" y="4924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0" name=""/>
            <p:cNvSpPr/>
            <p:nvPr/>
          </p:nvSpPr>
          <p:spPr>
            <a:xfrm>
              <a:off x="5677200" y="53690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/>
          <p:nvPr/>
        </p:nvSpPr>
        <p:spPr>
          <a:xfrm>
            <a:off x="6248520" y="3276720"/>
            <a:ext cx="2057400" cy="1143000"/>
          </a:xfrm>
          <a:prstGeom prst="wedgeRoundRectCallout">
            <a:avLst>
              <a:gd name="adj1" fmla="val -72222"/>
              <a:gd name="adj2" fmla="val -41388"/>
              <a:gd name="adj3" fmla="val 16667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各组合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是“或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939960" y="990720"/>
                <a:ext cx="5742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3" name=""/>
          <p:cNvSpPr/>
          <p:nvPr/>
        </p:nvSpPr>
        <p:spPr>
          <a:xfrm>
            <a:off x="83808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4" name=""/>
          <p:cNvGrpSpPr/>
          <p:nvPr/>
        </p:nvGrpSpPr>
        <p:grpSpPr>
          <a:xfrm>
            <a:off x="5181480" y="2590920"/>
            <a:ext cx="685800" cy="2590560"/>
            <a:chOff x="5181480" y="2590920"/>
            <a:chExt cx="685800" cy="2590560"/>
          </a:xfrm>
        </p:grpSpPr>
        <p:sp>
          <p:nvSpPr>
            <p:cNvPr id="3775" name=""/>
            <p:cNvSpPr/>
            <p:nvPr/>
          </p:nvSpPr>
          <p:spPr>
            <a:xfrm>
              <a:off x="5638680" y="2590920"/>
              <a:ext cx="228600" cy="2590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81480" y="2743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81480" y="31240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81480" y="3886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81480" y="5029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914400" y="5409720"/>
            <a:ext cx="5791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反之，也可由逻辑式列出状态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1" name=""/>
          <p:cNvGrpSpPr/>
          <p:nvPr/>
        </p:nvGrpSpPr>
        <p:grpSpPr>
          <a:xfrm>
            <a:off x="2267640" y="1600200"/>
            <a:ext cx="3295080" cy="3692520"/>
            <a:chOff x="2267640" y="1600200"/>
            <a:chExt cx="3295080" cy="3692520"/>
          </a:xfrm>
        </p:grpSpPr>
        <p:grpSp>
          <p:nvGrpSpPr>
            <p:cNvPr id="3782" name=""/>
            <p:cNvGrpSpPr/>
            <p:nvPr/>
          </p:nvGrpSpPr>
          <p:grpSpPr>
            <a:xfrm>
              <a:off x="2267640" y="1600200"/>
              <a:ext cx="3218760" cy="3692520"/>
              <a:chOff x="2267640" y="1600200"/>
              <a:chExt cx="3218760" cy="3692520"/>
            </a:xfrm>
          </p:grpSpPr>
          <p:sp>
            <p:nvSpPr>
              <p:cNvPr id="3783" name=""/>
              <p:cNvSpPr/>
              <p:nvPr/>
            </p:nvSpPr>
            <p:spPr>
              <a:xfrm>
                <a:off x="2267640" y="210528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4" name=""/>
              <p:cNvGrpSpPr/>
              <p:nvPr/>
            </p:nvGrpSpPr>
            <p:grpSpPr>
              <a:xfrm>
                <a:off x="2665800" y="1600200"/>
                <a:ext cx="2820600" cy="3692520"/>
                <a:chOff x="2665800" y="1600200"/>
                <a:chExt cx="2820600" cy="3692520"/>
              </a:xfrm>
            </p:grpSpPr>
            <p:sp>
              <p:nvSpPr>
                <p:cNvPr id="3785" name=""/>
                <p:cNvSpPr/>
                <p:nvPr/>
              </p:nvSpPr>
              <p:spPr>
                <a:xfrm>
                  <a:off x="2895840" y="160020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2895840" y="205740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4724640" y="1600200"/>
                  <a:ext cx="0" cy="3581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2665800" y="160020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2813400" y="2486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2813400" y="2867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2813400" y="3248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2813400" y="3629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2813400" y="4010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2813400" y="4391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2813400" y="4772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6" name=""/>
            <p:cNvSpPr/>
            <p:nvPr/>
          </p:nvSpPr>
          <p:spPr>
            <a:xfrm>
              <a:off x="2819520" y="522144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671400" y="414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8" name=""/>
          <p:cNvGrpSpPr/>
          <p:nvPr/>
        </p:nvGrpSpPr>
        <p:grpSpPr>
          <a:xfrm>
            <a:off x="1447920" y="990360"/>
            <a:ext cx="7086600" cy="4876560"/>
            <a:chOff x="1447920" y="990360"/>
            <a:chExt cx="7086600" cy="4876560"/>
          </a:xfrm>
        </p:grpSpPr>
        <p:sp>
          <p:nvSpPr>
            <p:cNvPr id="3799" name=""/>
            <p:cNvSpPr/>
            <p:nvPr/>
          </p:nvSpPr>
          <p:spPr>
            <a:xfrm>
              <a:off x="7925040" y="3504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524240" y="44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47920" y="2819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47920" y="1218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105520" y="5410080"/>
              <a:ext cx="10666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172200" y="3504960"/>
              <a:ext cx="4572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438640" y="1143000"/>
              <a:ext cx="609480" cy="83772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514600" y="114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048120" y="1447560"/>
              <a:ext cx="152280" cy="15228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905120" y="1523880"/>
              <a:ext cx="53352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496040" y="5029200"/>
              <a:ext cx="609480" cy="83772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572000" y="5029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496040" y="1447560"/>
              <a:ext cx="60948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572000" y="1447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496040" y="3886200"/>
              <a:ext cx="609480" cy="83772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57200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496040" y="2666880"/>
              <a:ext cx="609480" cy="83772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5720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514600" y="2819160"/>
              <a:ext cx="60984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590920" y="2819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3124440" y="3124080"/>
              <a:ext cx="152280" cy="15192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981440" y="3200400"/>
              <a:ext cx="53316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514600" y="4419360"/>
              <a:ext cx="60984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590920" y="4419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3124440" y="4724280"/>
              <a:ext cx="152280" cy="15192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981440" y="4800600"/>
              <a:ext cx="53316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276720" y="4800600"/>
              <a:ext cx="609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V="1">
              <a:off x="3886200" y="2133360"/>
              <a:ext cx="0" cy="26668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886200" y="3276360"/>
              <a:ext cx="6098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3886200" y="2133360"/>
              <a:ext cx="6098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200400" y="1523880"/>
              <a:ext cx="5335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733920" y="1523880"/>
              <a:ext cx="0" cy="2514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733920" y="2819160"/>
              <a:ext cx="762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733920" y="4038480"/>
              <a:ext cx="762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276720" y="3200400"/>
              <a:ext cx="228600" cy="0"/>
            </a:xfrm>
            <a:prstGeom prst="line">
              <a:avLst/>
            </a:prstGeom>
            <a:ln cap="sq"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V="1">
              <a:off x="3505320" y="1600200"/>
              <a:ext cx="0" cy="2895120"/>
            </a:xfrm>
            <a:prstGeom prst="line">
              <a:avLst/>
            </a:prstGeom>
            <a:ln cap="sq"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505320" y="1600200"/>
              <a:ext cx="990720" cy="0"/>
            </a:xfrm>
            <a:prstGeom prst="line">
              <a:avLst/>
            </a:prstGeom>
            <a:ln cap="sq"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505320" y="4495680"/>
              <a:ext cx="990720" cy="0"/>
            </a:xfrm>
            <a:prstGeom prst="line">
              <a:avLst/>
            </a:prstGeom>
            <a:ln cap="sq"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962520" y="1828800"/>
              <a:ext cx="533520" cy="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2057400" y="990360"/>
              <a:ext cx="0" cy="53316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057400" y="990720"/>
              <a:ext cx="1905120" cy="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962520" y="990720"/>
              <a:ext cx="0" cy="83808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67440" y="1828800"/>
              <a:ext cx="0" cy="335232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67440" y="5181480"/>
              <a:ext cx="228600" cy="0"/>
            </a:xfrm>
            <a:prstGeom prst="line">
              <a:avLst/>
            </a:prstGeom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114800" y="5410080"/>
              <a:ext cx="38124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3962520" y="3047760"/>
              <a:ext cx="53352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 flipV="1">
              <a:off x="2210040" y="2590200"/>
              <a:ext cx="0" cy="60948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210040" y="2590560"/>
              <a:ext cx="137160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581640" y="2590560"/>
              <a:ext cx="0" cy="45684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581640" y="3047760"/>
              <a:ext cx="38088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114800" y="3047760"/>
              <a:ext cx="0" cy="236196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962520" y="4267080"/>
              <a:ext cx="5335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2210040" y="4266720"/>
              <a:ext cx="0" cy="5331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210040" y="4267080"/>
              <a:ext cx="1752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962520" y="4267080"/>
              <a:ext cx="0" cy="14475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962520" y="5715000"/>
              <a:ext cx="5335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29400" y="3200400"/>
              <a:ext cx="762120" cy="114264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705720" y="3200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V="1">
              <a:off x="5791320" y="3962160"/>
              <a:ext cx="0" cy="30456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105520" y="1828800"/>
              <a:ext cx="10666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172200" y="1828800"/>
              <a:ext cx="0" cy="167580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105520" y="3047760"/>
              <a:ext cx="6858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791320" y="3047760"/>
              <a:ext cx="0" cy="68544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91320" y="3733560"/>
              <a:ext cx="8380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105520" y="4267080"/>
              <a:ext cx="6858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91320" y="3962160"/>
              <a:ext cx="8380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6172200" y="4190760"/>
              <a:ext cx="0" cy="121896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172200" y="4190760"/>
              <a:ext cx="4572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1520" y="3809880"/>
              <a:ext cx="6094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8" name=""/>
            <p:cNvGrpSpPr/>
            <p:nvPr/>
          </p:nvGrpSpPr>
          <p:grpSpPr>
            <a:xfrm>
              <a:off x="3276720" y="4876560"/>
              <a:ext cx="609480" cy="520560"/>
              <a:chOff x="3276720" y="4876560"/>
              <a:chExt cx="609480" cy="520560"/>
            </a:xfrm>
          </p:grpSpPr>
          <p:sp>
            <p:nvSpPr>
              <p:cNvPr id="3869" name=""/>
              <p:cNvSpPr/>
              <p:nvPr/>
            </p:nvSpPr>
            <p:spPr>
              <a:xfrm>
                <a:off x="3276720" y="48765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352680" y="49525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1" name=""/>
            <p:cNvGrpSpPr/>
            <p:nvPr/>
          </p:nvGrpSpPr>
          <p:grpSpPr>
            <a:xfrm>
              <a:off x="3124440" y="3276360"/>
              <a:ext cx="609480" cy="520560"/>
              <a:chOff x="3124440" y="3276360"/>
              <a:chExt cx="609480" cy="520560"/>
            </a:xfrm>
          </p:grpSpPr>
          <p:sp>
            <p:nvSpPr>
              <p:cNvPr id="3872" name=""/>
              <p:cNvSpPr/>
              <p:nvPr/>
            </p:nvSpPr>
            <p:spPr>
              <a:xfrm>
                <a:off x="3124440" y="32763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3200400" y="33523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4" name=""/>
            <p:cNvGrpSpPr/>
            <p:nvPr/>
          </p:nvGrpSpPr>
          <p:grpSpPr>
            <a:xfrm>
              <a:off x="3124440" y="1600200"/>
              <a:ext cx="609480" cy="520560"/>
              <a:chOff x="3124440" y="1600200"/>
              <a:chExt cx="609480" cy="520560"/>
            </a:xfrm>
          </p:grpSpPr>
          <p:sp>
            <p:nvSpPr>
              <p:cNvPr id="3875" name=""/>
              <p:cNvSpPr/>
              <p:nvPr/>
            </p:nvSpPr>
            <p:spPr>
              <a:xfrm>
                <a:off x="3124440" y="16002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3200400" y="167616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7" name=""/>
            <p:cNvSpPr/>
            <p:nvPr/>
          </p:nvSpPr>
          <p:spPr>
            <a:xfrm flipH="1">
              <a:off x="6858000" y="3504960"/>
              <a:ext cx="1526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4419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1.6.3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逻辑函数的化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9" name=""/>
          <p:cNvGrpSpPr/>
          <p:nvPr/>
        </p:nvGrpSpPr>
        <p:grpSpPr>
          <a:xfrm>
            <a:off x="838080" y="1521000"/>
            <a:ext cx="7620120" cy="1660320"/>
            <a:chOff x="838080" y="1521000"/>
            <a:chExt cx="7620120" cy="1660320"/>
          </a:xfrm>
        </p:grpSpPr>
        <p:sp>
          <p:nvSpPr>
            <p:cNvPr id="3880" name=""/>
            <p:cNvSpPr/>
            <p:nvPr/>
          </p:nvSpPr>
          <p:spPr>
            <a:xfrm>
              <a:off x="838080" y="2149200"/>
              <a:ext cx="76201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状态表直接写出的逻辑式及由此画出的逻辑图，一般比较复杂；若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经过简化，则可使用较少的逻辑门实现同样的逻辑功能。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从而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可节省器件，降低成本，提高电路工作的可靠性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66680" y="1521000"/>
              <a:ext cx="457200" cy="380880"/>
            </a:xfrm>
            <a:prstGeom prst="star5">
              <a:avLst/>
            </a:pr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2" name="" descr=""/>
          <p:cNvPicPr/>
          <p:nvPr/>
        </p:nvPicPr>
        <p:blipFill>
          <a:blip r:embed="rId1"/>
          <a:stretch/>
        </p:blipFill>
        <p:spPr>
          <a:xfrm>
            <a:off x="633240" y="5105520"/>
            <a:ext cx="1043280" cy="1177920"/>
          </a:xfrm>
          <a:prstGeom prst="rect">
            <a:avLst/>
          </a:prstGeom>
          <a:ln w="0">
            <a:noFill/>
          </a:ln>
        </p:spPr>
      </p:pic>
      <p:grpSp>
        <p:nvGrpSpPr>
          <p:cNvPr id="3883" name=""/>
          <p:cNvGrpSpPr/>
          <p:nvPr/>
        </p:nvGrpSpPr>
        <p:grpSpPr>
          <a:xfrm>
            <a:off x="685800" y="3809880"/>
            <a:ext cx="7848720" cy="563040"/>
            <a:chOff x="685800" y="3809880"/>
            <a:chExt cx="7848720" cy="563040"/>
          </a:xfrm>
        </p:grpSpPr>
        <p:sp>
          <p:nvSpPr>
            <p:cNvPr id="3884" name=""/>
            <p:cNvSpPr/>
            <p:nvPr/>
          </p:nvSpPr>
          <p:spPr>
            <a:xfrm>
              <a:off x="685800" y="3809880"/>
              <a:ext cx="78487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利用逻辑代数变换，可用不同的门电路实现相同的逻辑功能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990720" y="3886200"/>
              <a:ext cx="457200" cy="3808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6" name=""/>
          <p:cNvGrpSpPr/>
          <p:nvPr/>
        </p:nvGrpSpPr>
        <p:grpSpPr>
          <a:xfrm>
            <a:off x="1968480" y="4876920"/>
            <a:ext cx="2863080" cy="1143000"/>
            <a:chOff x="1968480" y="4876920"/>
            <a:chExt cx="2863080" cy="1143000"/>
          </a:xfrm>
        </p:grpSpPr>
        <p:sp>
          <p:nvSpPr>
            <p:cNvPr id="3887" name=""/>
            <p:cNvSpPr/>
            <p:nvPr/>
          </p:nvSpPr>
          <p:spPr>
            <a:xfrm>
              <a:off x="1968480" y="510552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化简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3428640" y="4952880"/>
              <a:ext cx="76320" cy="10670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3800160" y="4876920"/>
              <a:ext cx="820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公式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797280" y="541008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卡诺图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1" name=""/>
          <p:cNvGrpSpPr/>
          <p:nvPr/>
        </p:nvGrpSpPr>
        <p:grpSpPr>
          <a:xfrm>
            <a:off x="762120" y="1200240"/>
            <a:ext cx="4276080" cy="171360"/>
            <a:chOff x="762120" y="1200240"/>
            <a:chExt cx="4276080" cy="171360"/>
          </a:xfrm>
        </p:grpSpPr>
        <p:pic>
          <p:nvPicPr>
            <p:cNvPr id="3892" name="" descr=""/>
            <p:cNvPicPr/>
            <p:nvPr/>
          </p:nvPicPr>
          <p:blipFill>
            <a:blip r:embed="rId2"/>
            <a:stretch/>
          </p:blipFill>
          <p:spPr>
            <a:xfrm>
              <a:off x="1666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3" name="" descr=""/>
            <p:cNvPicPr/>
            <p:nvPr/>
          </p:nvPicPr>
          <p:blipFill>
            <a:blip r:embed="rId3"/>
            <a:stretch/>
          </p:blipFill>
          <p:spPr>
            <a:xfrm>
              <a:off x="18097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4" name="" descr=""/>
            <p:cNvPicPr/>
            <p:nvPr/>
          </p:nvPicPr>
          <p:blipFill>
            <a:blip r:embed="rId4"/>
            <a:stretch/>
          </p:blipFill>
          <p:spPr>
            <a:xfrm>
              <a:off x="19717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5" name="" descr=""/>
            <p:cNvPicPr/>
            <p:nvPr/>
          </p:nvPicPr>
          <p:blipFill>
            <a:blip r:embed="rId5"/>
            <a:stretch/>
          </p:blipFill>
          <p:spPr>
            <a:xfrm>
              <a:off x="22669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6" name="" descr=""/>
            <p:cNvPicPr/>
            <p:nvPr/>
          </p:nvPicPr>
          <p:blipFill>
            <a:blip r:embed="rId6"/>
            <a:stretch/>
          </p:blipFill>
          <p:spPr>
            <a:xfrm>
              <a:off x="24289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7" name="" descr=""/>
            <p:cNvPicPr/>
            <p:nvPr/>
          </p:nvPicPr>
          <p:blipFill>
            <a:blip r:embed="rId7"/>
            <a:stretch/>
          </p:blipFill>
          <p:spPr>
            <a:xfrm>
              <a:off x="25812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8" name="" descr=""/>
            <p:cNvPicPr/>
            <p:nvPr/>
          </p:nvPicPr>
          <p:blipFill>
            <a:blip r:embed="rId8"/>
            <a:stretch/>
          </p:blipFill>
          <p:spPr>
            <a:xfrm>
              <a:off x="27241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9" name="" descr=""/>
            <p:cNvPicPr/>
            <p:nvPr/>
          </p:nvPicPr>
          <p:blipFill>
            <a:blip r:embed="rId9"/>
            <a:stretch/>
          </p:blipFill>
          <p:spPr>
            <a:xfrm>
              <a:off x="28861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0" name="" descr=""/>
            <p:cNvPicPr/>
            <p:nvPr/>
          </p:nvPicPr>
          <p:blipFill>
            <a:blip r:embed="rId10"/>
            <a:stretch/>
          </p:blipFill>
          <p:spPr>
            <a:xfrm>
              <a:off x="31813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1" name="" descr=""/>
            <p:cNvPicPr/>
            <p:nvPr/>
          </p:nvPicPr>
          <p:blipFill>
            <a:blip r:embed="rId11"/>
            <a:stretch/>
          </p:blipFill>
          <p:spPr>
            <a:xfrm>
              <a:off x="33433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2" name="" descr=""/>
            <p:cNvPicPr/>
            <p:nvPr/>
          </p:nvPicPr>
          <p:blipFill>
            <a:blip r:embed="rId12"/>
            <a:stretch/>
          </p:blipFill>
          <p:spPr>
            <a:xfrm>
              <a:off x="34956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3" name="" descr=""/>
            <p:cNvPicPr/>
            <p:nvPr/>
          </p:nvPicPr>
          <p:blipFill>
            <a:blip r:embed="rId13"/>
            <a:stretch/>
          </p:blipFill>
          <p:spPr>
            <a:xfrm>
              <a:off x="36385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4" name="" descr=""/>
            <p:cNvPicPr/>
            <p:nvPr/>
          </p:nvPicPr>
          <p:blipFill>
            <a:blip r:embed="rId14"/>
            <a:stretch/>
          </p:blipFill>
          <p:spPr>
            <a:xfrm>
              <a:off x="21240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5" name="" descr=""/>
            <p:cNvPicPr/>
            <p:nvPr/>
          </p:nvPicPr>
          <p:blipFill>
            <a:blip r:embed="rId15"/>
            <a:stretch/>
          </p:blipFill>
          <p:spPr>
            <a:xfrm>
              <a:off x="30384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6" name="" descr=""/>
            <p:cNvPicPr/>
            <p:nvPr/>
          </p:nvPicPr>
          <p:blipFill>
            <a:blip r:embed="rId16"/>
            <a:stretch/>
          </p:blipFill>
          <p:spPr>
            <a:xfrm>
              <a:off x="38005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7" name="" descr=""/>
            <p:cNvPicPr/>
            <p:nvPr/>
          </p:nvPicPr>
          <p:blipFill>
            <a:blip r:embed="rId17"/>
            <a:stretch/>
          </p:blipFill>
          <p:spPr>
            <a:xfrm>
              <a:off x="3952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8" name="" descr=""/>
            <p:cNvPicPr/>
            <p:nvPr/>
          </p:nvPicPr>
          <p:blipFill>
            <a:blip r:embed="rId18"/>
            <a:stretch/>
          </p:blipFill>
          <p:spPr>
            <a:xfrm>
              <a:off x="40957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9" name="" descr=""/>
            <p:cNvPicPr/>
            <p:nvPr/>
          </p:nvPicPr>
          <p:blipFill>
            <a:blip r:embed="rId19"/>
            <a:stretch/>
          </p:blipFill>
          <p:spPr>
            <a:xfrm>
              <a:off x="42577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0" name=""/>
            <p:cNvGrpSpPr/>
            <p:nvPr/>
          </p:nvGrpSpPr>
          <p:grpSpPr>
            <a:xfrm>
              <a:off x="762120" y="1200240"/>
              <a:ext cx="923760" cy="161640"/>
              <a:chOff x="762120" y="1200240"/>
              <a:chExt cx="923760" cy="161640"/>
            </a:xfrm>
          </p:grpSpPr>
          <p:pic>
            <p:nvPicPr>
              <p:cNvPr id="391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90504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06704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1932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36224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52424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6212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17" name="" descr=""/>
            <p:cNvPicPr/>
            <p:nvPr/>
          </p:nvPicPr>
          <p:blipFill>
            <a:blip r:embed="rId26"/>
            <a:stretch/>
          </p:blipFill>
          <p:spPr>
            <a:xfrm>
              <a:off x="4419360" y="1200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" descr=""/>
            <p:cNvPicPr/>
            <p:nvPr/>
          </p:nvPicPr>
          <p:blipFill>
            <a:blip r:embed="rId27"/>
            <a:stretch/>
          </p:blipFill>
          <p:spPr>
            <a:xfrm>
              <a:off x="4572000" y="1200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9" name="" descr=""/>
            <p:cNvPicPr/>
            <p:nvPr/>
          </p:nvPicPr>
          <p:blipFill>
            <a:blip r:embed="rId28"/>
            <a:stretch/>
          </p:blipFill>
          <p:spPr>
            <a:xfrm>
              <a:off x="4714920" y="1200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0" name="" descr=""/>
            <p:cNvPicPr/>
            <p:nvPr/>
          </p:nvPicPr>
          <p:blipFill>
            <a:blip r:embed="rId29"/>
            <a:stretch/>
          </p:blipFill>
          <p:spPr>
            <a:xfrm>
              <a:off x="4876560" y="120024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4267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幅度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8006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上升沿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周期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下降沿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41972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宽度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6858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脉冲信号的部分参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05120" y="1219320"/>
            <a:ext cx="5075280" cy="2882520"/>
            <a:chOff x="1905120" y="1219320"/>
            <a:chExt cx="5075280" cy="2882520"/>
          </a:xfrm>
        </p:grpSpPr>
        <p:grpSp>
          <p:nvGrpSpPr>
            <p:cNvPr id="200" name=""/>
            <p:cNvGrpSpPr/>
            <p:nvPr/>
          </p:nvGrpSpPr>
          <p:grpSpPr>
            <a:xfrm>
              <a:off x="2133720" y="1219320"/>
              <a:ext cx="4846680" cy="1613880"/>
              <a:chOff x="2133720" y="1219320"/>
              <a:chExt cx="4846680" cy="16138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2133720" y="1219320"/>
                <a:ext cx="3733560" cy="1545480"/>
                <a:chOff x="2133720" y="1219320"/>
                <a:chExt cx="3733560" cy="1545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133720" y="1219320"/>
                  <a:ext cx="1974600" cy="1539360"/>
                </a:xfrm>
                <a:custGeom>
                  <a:avLst/>
                  <a:gdLst/>
                  <a:ahLst/>
                  <a:rect l="l" t="t" r="r" b="b"/>
                  <a:pathLst>
                    <a:path w="1024" h="731">
                      <a:moveTo>
                        <a:pt x="0" y="723"/>
                      </a:moveTo>
                      <a:cubicBezTo>
                        <a:pt x="164" y="727"/>
                        <a:pt x="328" y="731"/>
                        <a:pt x="432" y="627"/>
                      </a:cubicBezTo>
                      <a:cubicBezTo>
                        <a:pt x="536" y="523"/>
                        <a:pt x="525" y="198"/>
                        <a:pt x="624" y="99"/>
                      </a:cubicBezTo>
                      <a:cubicBezTo>
                        <a:pt x="723" y="0"/>
                        <a:pt x="941" y="48"/>
                        <a:pt x="1024" y="35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3892320" y="1225440"/>
                  <a:ext cx="1974960" cy="1539360"/>
                </a:xfrm>
                <a:custGeom>
                  <a:avLst/>
                  <a:gdLst/>
                  <a:ahLst/>
                  <a:rect l="l" t="t" r="r" b="b"/>
                  <a:pathLst>
                    <a:path w="1024" h="731">
                      <a:moveTo>
                        <a:pt x="0" y="723"/>
                      </a:moveTo>
                      <a:cubicBezTo>
                        <a:pt x="164" y="727"/>
                        <a:pt x="328" y="731"/>
                        <a:pt x="432" y="627"/>
                      </a:cubicBezTo>
                      <a:cubicBezTo>
                        <a:pt x="536" y="523"/>
                        <a:pt x="525" y="198"/>
                        <a:pt x="624" y="99"/>
                      </a:cubicBezTo>
                      <a:cubicBezTo>
                        <a:pt x="723" y="0"/>
                        <a:pt x="941" y="48"/>
                        <a:pt x="1024" y="35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5789880" y="1382400"/>
                <a:ext cx="1190520" cy="1450800"/>
              </a:xfrm>
              <a:custGeom>
                <a:avLst/>
                <a:gdLst/>
                <a:ahLst/>
                <a:rect l="l" t="t" r="r" b="b"/>
                <a:pathLst>
                  <a:path w="750" h="914">
                    <a:moveTo>
                      <a:pt x="673" y="289"/>
                    </a:moveTo>
                    <a:cubicBezTo>
                      <a:pt x="681" y="256"/>
                      <a:pt x="750" y="0"/>
                      <a:pt x="719" y="82"/>
                    </a:cubicBezTo>
                    <a:cubicBezTo>
                      <a:pt x="688" y="164"/>
                      <a:pt x="606" y="651"/>
                      <a:pt x="486" y="783"/>
                    </a:cubicBezTo>
                    <a:cubicBezTo>
                      <a:pt x="366" y="914"/>
                      <a:pt x="101" y="850"/>
                      <a:pt x="0" y="8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962520" y="1295280"/>
              <a:ext cx="2057400" cy="1447560"/>
              <a:chOff x="3962520" y="1295280"/>
              <a:chExt cx="2057400" cy="1447560"/>
            </a:xfrm>
          </p:grpSpPr>
          <p:sp>
            <p:nvSpPr>
              <p:cNvPr id="206" name=""/>
              <p:cNvSpPr/>
              <p:nvPr/>
            </p:nvSpPr>
            <p:spPr>
              <a:xfrm>
                <a:off x="3962520" y="1295280"/>
                <a:ext cx="2057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5000" y="1295280"/>
                <a:ext cx="0" cy="1447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63868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666880" y="1523880"/>
              <a:ext cx="914040" cy="2286000"/>
              <a:chOff x="2666880" y="1523880"/>
              <a:chExt cx="914040" cy="228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895480" y="259056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76360" y="152388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666880" y="3124080"/>
                <a:ext cx="914040" cy="0"/>
                <a:chOff x="2666880" y="3124080"/>
                <a:chExt cx="914040" cy="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666880" y="3124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276000" y="312408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95480" y="3124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4495680" y="1523880"/>
              <a:ext cx="837720" cy="1981080"/>
              <a:chOff x="4495680" y="1523880"/>
              <a:chExt cx="837720" cy="1981080"/>
            </a:xfrm>
          </p:grpSpPr>
          <p:sp>
            <p:nvSpPr>
              <p:cNvPr id="217" name=""/>
              <p:cNvSpPr/>
              <p:nvPr/>
            </p:nvSpPr>
            <p:spPr>
              <a:xfrm>
                <a:off x="4724280" y="1523880"/>
                <a:ext cx="0" cy="1981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28840" y="2590560"/>
                <a:ext cx="0" cy="91440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4495680" y="3124080"/>
                <a:ext cx="837720" cy="0"/>
                <a:chOff x="4495680" y="3124080"/>
                <a:chExt cx="837720" cy="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95680" y="3124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5028480" y="312408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47960" y="3124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286000" y="1219320"/>
              <a:ext cx="2514600" cy="520560"/>
              <a:chOff x="2286000" y="1219320"/>
              <a:chExt cx="2514600" cy="520560"/>
            </a:xfrm>
          </p:grpSpPr>
          <p:sp>
            <p:nvSpPr>
              <p:cNvPr id="224" name=""/>
              <p:cNvSpPr/>
              <p:nvPr/>
            </p:nvSpPr>
            <p:spPr>
              <a:xfrm>
                <a:off x="3352680" y="1523880"/>
                <a:ext cx="14479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86000" y="1219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9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209680" y="1676520"/>
              <a:ext cx="2667240" cy="520560"/>
              <a:chOff x="2209680" y="1676520"/>
              <a:chExt cx="2667240" cy="5205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00400" y="2057400"/>
                <a:ext cx="1676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09680" y="16765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5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905120" y="2133720"/>
              <a:ext cx="4647600" cy="520560"/>
              <a:chOff x="1905120" y="2133720"/>
              <a:chExt cx="4647600" cy="520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895480" y="2590920"/>
                <a:ext cx="3657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05120" y="2133720"/>
                <a:ext cx="11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1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895480" y="2590920"/>
              <a:ext cx="3733560" cy="1218960"/>
              <a:chOff x="2895480" y="2590920"/>
              <a:chExt cx="3733560" cy="1218960"/>
            </a:xfrm>
          </p:grpSpPr>
          <p:sp>
            <p:nvSpPr>
              <p:cNvPr id="233" name=""/>
              <p:cNvSpPr/>
              <p:nvPr/>
            </p:nvSpPr>
            <p:spPr>
              <a:xfrm>
                <a:off x="6629040" y="259092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95480" y="3657240"/>
                <a:ext cx="373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159000" y="2057400"/>
              <a:ext cx="1677960" cy="304920"/>
              <a:chOff x="3159000" y="2057400"/>
              <a:chExt cx="1677960" cy="3049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59000" y="2057400"/>
                <a:ext cx="0" cy="30492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36960" y="2057400"/>
                <a:ext cx="0" cy="30492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3163320" y="2286000"/>
                <a:ext cx="60948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67080" y="2286000"/>
                <a:ext cx="56988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505320" y="1981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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26049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8320" y="26049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62520" y="3581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14600" y="3886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实际的矩形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用 “与非”门构成基本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09480" y="3581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“与非”门构成“或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458720" y="106668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“与非”门构成“与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4" name=""/>
          <p:cNvGrpSpPr/>
          <p:nvPr/>
        </p:nvGrpSpPr>
        <p:grpSpPr>
          <a:xfrm>
            <a:off x="1836000" y="2286000"/>
            <a:ext cx="4717080" cy="1074240"/>
            <a:chOff x="1836000" y="2286000"/>
            <a:chExt cx="4717080" cy="1074240"/>
          </a:xfrm>
        </p:grpSpPr>
        <p:sp>
          <p:nvSpPr>
            <p:cNvPr id="3925" name=""/>
            <p:cNvSpPr/>
            <p:nvPr/>
          </p:nvSpPr>
          <p:spPr>
            <a:xfrm>
              <a:off x="1836000" y="2286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617220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2347920"/>
              <a:ext cx="762120" cy="95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648320" y="2347920"/>
              <a:ext cx="761760" cy="95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9" name=""/>
            <p:cNvGrpSpPr/>
            <p:nvPr/>
          </p:nvGrpSpPr>
          <p:grpSpPr>
            <a:xfrm>
              <a:off x="4267080" y="2622600"/>
              <a:ext cx="381240" cy="409680"/>
              <a:chOff x="4267080" y="2622600"/>
              <a:chExt cx="381240" cy="409680"/>
            </a:xfrm>
          </p:grpSpPr>
          <p:sp>
            <p:nvSpPr>
              <p:cNvPr id="3930" name=""/>
              <p:cNvSpPr/>
              <p:nvPr/>
            </p:nvSpPr>
            <p:spPr>
              <a:xfrm>
                <a:off x="4267080" y="26226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4267080" y="262260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267080" y="3032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3" name=""/>
            <p:cNvSpPr/>
            <p:nvPr/>
          </p:nvSpPr>
          <p:spPr>
            <a:xfrm>
              <a:off x="2209680" y="2554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209680" y="31003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4817160" y="2286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37440" y="29005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3657600" y="2759040"/>
              <a:ext cx="152280" cy="13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3809880" y="2827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410080" y="2759040"/>
              <a:ext cx="152640" cy="13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562720" y="2827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064680" y="2286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2" name=""/>
          <p:cNvGrpSpPr/>
          <p:nvPr/>
        </p:nvGrpSpPr>
        <p:grpSpPr>
          <a:xfrm>
            <a:off x="4884120" y="4267080"/>
            <a:ext cx="3630600" cy="1752840"/>
            <a:chOff x="4884120" y="4267080"/>
            <a:chExt cx="3630600" cy="1752840"/>
          </a:xfrm>
        </p:grpSpPr>
        <p:sp>
          <p:nvSpPr>
            <p:cNvPr id="3943" name=""/>
            <p:cNvSpPr/>
            <p:nvPr/>
          </p:nvSpPr>
          <p:spPr>
            <a:xfrm>
              <a:off x="4885560" y="5459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884120" y="4476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161920" y="5029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946840" y="4267080"/>
              <a:ext cx="57132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7" name=""/>
            <p:cNvGrpSpPr/>
            <p:nvPr/>
          </p:nvGrpSpPr>
          <p:grpSpPr>
            <a:xfrm>
              <a:off x="5662440" y="4476600"/>
              <a:ext cx="284400" cy="420840"/>
              <a:chOff x="5662440" y="4476600"/>
              <a:chExt cx="284400" cy="420840"/>
            </a:xfrm>
          </p:grpSpPr>
          <p:sp>
            <p:nvSpPr>
              <p:cNvPr id="3948" name=""/>
              <p:cNvSpPr/>
              <p:nvPr/>
            </p:nvSpPr>
            <p:spPr>
              <a:xfrm>
                <a:off x="5662440" y="447660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5662440" y="4476600"/>
                <a:ext cx="0" cy="42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662440" y="489744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1" name=""/>
            <p:cNvSpPr/>
            <p:nvPr/>
          </p:nvSpPr>
          <p:spPr>
            <a:xfrm>
              <a:off x="5234040" y="468792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946840" y="5248440"/>
              <a:ext cx="57132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3" name=""/>
            <p:cNvGrpSpPr/>
            <p:nvPr/>
          </p:nvGrpSpPr>
          <p:grpSpPr>
            <a:xfrm>
              <a:off x="5662440" y="5459400"/>
              <a:ext cx="284400" cy="420840"/>
              <a:chOff x="5662440" y="5459400"/>
              <a:chExt cx="284400" cy="420840"/>
            </a:xfrm>
          </p:grpSpPr>
          <p:sp>
            <p:nvSpPr>
              <p:cNvPr id="3954" name=""/>
              <p:cNvSpPr/>
              <p:nvPr/>
            </p:nvSpPr>
            <p:spPr>
              <a:xfrm>
                <a:off x="5662440" y="545940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5662440" y="5459400"/>
                <a:ext cx="0" cy="42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62440" y="588024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7" name=""/>
            <p:cNvSpPr/>
            <p:nvPr/>
          </p:nvSpPr>
          <p:spPr>
            <a:xfrm>
              <a:off x="5234040" y="566892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6019920" y="426708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6946920" y="4687920"/>
              <a:ext cx="285840" cy="981000"/>
              <a:chOff x="6946920" y="4687920"/>
              <a:chExt cx="285840" cy="981000"/>
            </a:xfrm>
          </p:grpSpPr>
          <p:sp>
            <p:nvSpPr>
              <p:cNvPr id="3960" name=""/>
              <p:cNvSpPr/>
              <p:nvPr/>
            </p:nvSpPr>
            <p:spPr>
              <a:xfrm>
                <a:off x="6946920" y="4687920"/>
                <a:ext cx="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946920" y="5318640"/>
                <a:ext cx="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6946920" y="5318640"/>
                <a:ext cx="28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946920" y="5038200"/>
                <a:ext cx="28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4" name=""/>
            <p:cNvSpPr/>
            <p:nvPr/>
          </p:nvSpPr>
          <p:spPr>
            <a:xfrm>
              <a:off x="7232760" y="4827600"/>
              <a:ext cx="56988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7315200" y="4800600"/>
              <a:ext cx="4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518160" y="461808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518160" y="559908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802640" y="517860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661080" y="5668920"/>
              <a:ext cx="28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661080" y="4687920"/>
              <a:ext cx="28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7945560" y="52484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034320" y="5257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3" name=""/>
          <p:cNvGrpSpPr/>
          <p:nvPr/>
        </p:nvGrpSpPr>
        <p:grpSpPr>
          <a:xfrm>
            <a:off x="1306440" y="1600200"/>
            <a:ext cx="5326200" cy="604800"/>
            <a:chOff x="1306440" y="1600200"/>
            <a:chExt cx="5326200" cy="604800"/>
          </a:xfrm>
        </p:grpSpPr>
        <p:sp>
          <p:nvSpPr>
            <p:cNvPr id="3974" name=""/>
            <p:cNvSpPr/>
            <p:nvPr/>
          </p:nvSpPr>
          <p:spPr>
            <a:xfrm>
              <a:off x="1306440" y="16765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5" name=""/>
                <p:cNvSpPr txBox="1"/>
                <p:nvPr/>
              </p:nvSpPr>
              <p:spPr>
                <a:xfrm>
                  <a:off x="4191120" y="1600200"/>
                  <a:ext cx="2441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76" name=""/>
          <p:cNvGrpSpPr/>
          <p:nvPr/>
        </p:nvGrpSpPr>
        <p:grpSpPr>
          <a:xfrm>
            <a:off x="654120" y="4191120"/>
            <a:ext cx="4332240" cy="1385640"/>
            <a:chOff x="654120" y="4191120"/>
            <a:chExt cx="4332240" cy="1385640"/>
          </a:xfrm>
        </p:grpSpPr>
        <p:sp>
          <p:nvSpPr>
            <p:cNvPr id="3977" name=""/>
            <p:cNvSpPr/>
            <p:nvPr/>
          </p:nvSpPr>
          <p:spPr>
            <a:xfrm>
              <a:off x="1382760" y="4191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8" name=""/>
                <p:cNvSpPr txBox="1"/>
                <p:nvPr/>
              </p:nvSpPr>
              <p:spPr>
                <a:xfrm>
                  <a:off x="654120" y="4876920"/>
                  <a:ext cx="433224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ba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⋅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9" name=""/>
          <p:cNvGrpSpPr/>
          <p:nvPr/>
        </p:nvGrpSpPr>
        <p:grpSpPr>
          <a:xfrm>
            <a:off x="3283920" y="1295280"/>
            <a:ext cx="3477600" cy="1067040"/>
            <a:chOff x="3283920" y="1295280"/>
            <a:chExt cx="3477600" cy="1067040"/>
          </a:xfrm>
        </p:grpSpPr>
        <p:sp>
          <p:nvSpPr>
            <p:cNvPr id="3980" name=""/>
            <p:cNvSpPr/>
            <p:nvPr/>
          </p:nvSpPr>
          <p:spPr>
            <a:xfrm>
              <a:off x="4876560" y="12952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4495680" y="1600200"/>
              <a:ext cx="380520" cy="457200"/>
              <a:chOff x="4495680" y="1600200"/>
              <a:chExt cx="380520" cy="457200"/>
            </a:xfrm>
          </p:grpSpPr>
          <p:sp>
            <p:nvSpPr>
              <p:cNvPr id="3982" name=""/>
              <p:cNvSpPr/>
              <p:nvPr/>
            </p:nvSpPr>
            <p:spPr>
              <a:xfrm>
                <a:off x="4495680" y="16002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4495680" y="1600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495680" y="2057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5" name=""/>
            <p:cNvSpPr/>
            <p:nvPr/>
          </p:nvSpPr>
          <p:spPr>
            <a:xfrm>
              <a:off x="3657240" y="1828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028840" y="1295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408720" y="1574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283920" y="1574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638680" y="175248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790960" y="182880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1" name=""/>
          <p:cNvSpPr/>
          <p:nvPr/>
        </p:nvSpPr>
        <p:spPr>
          <a:xfrm>
            <a:off x="1535040" y="60948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“与非”门构成“非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1314720" y="2590920"/>
            <a:ext cx="33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用“与非”门构成“或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1378800" y="3962520"/>
            <a:ext cx="5307120" cy="1904760"/>
            <a:chOff x="1378800" y="3962520"/>
            <a:chExt cx="5307120" cy="1904760"/>
          </a:xfrm>
        </p:grpSpPr>
        <p:sp>
          <p:nvSpPr>
            <p:cNvPr id="3994" name=""/>
            <p:cNvSpPr/>
            <p:nvPr/>
          </p:nvSpPr>
          <p:spPr>
            <a:xfrm>
              <a:off x="4948200" y="478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6333120" y="48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380240" y="5257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78800" y="4191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514600" y="396252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2209680" y="4191120"/>
              <a:ext cx="304920" cy="457200"/>
              <a:chOff x="2209680" y="4191120"/>
              <a:chExt cx="304920" cy="457200"/>
            </a:xfrm>
          </p:grpSpPr>
          <p:sp>
            <p:nvSpPr>
              <p:cNvPr id="4000" name=""/>
              <p:cNvSpPr/>
              <p:nvPr/>
            </p:nvSpPr>
            <p:spPr>
              <a:xfrm>
                <a:off x="2209680" y="41911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209680" y="41911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209680" y="46483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3" name=""/>
            <p:cNvSpPr/>
            <p:nvPr/>
          </p:nvSpPr>
          <p:spPr>
            <a:xfrm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909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514600" y="50292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6" name=""/>
            <p:cNvGrpSpPr/>
            <p:nvPr/>
          </p:nvGrpSpPr>
          <p:grpSpPr>
            <a:xfrm>
              <a:off x="2209680" y="5257800"/>
              <a:ext cx="304920" cy="457200"/>
              <a:chOff x="2209680" y="5257800"/>
              <a:chExt cx="304920" cy="457200"/>
            </a:xfrm>
          </p:grpSpPr>
          <p:sp>
            <p:nvSpPr>
              <p:cNvPr id="4007" name=""/>
              <p:cNvSpPr/>
              <p:nvPr/>
            </p:nvSpPr>
            <p:spPr>
              <a:xfrm>
                <a:off x="2209680" y="52578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209680" y="52578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209680" y="57150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0" name=""/>
            <p:cNvSpPr/>
            <p:nvPr/>
          </p:nvSpPr>
          <p:spPr>
            <a:xfrm>
              <a:off x="1752480" y="5486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5909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2" name=""/>
            <p:cNvGrpSpPr/>
            <p:nvPr/>
          </p:nvGrpSpPr>
          <p:grpSpPr>
            <a:xfrm>
              <a:off x="3581280" y="4419720"/>
              <a:ext cx="304920" cy="1066680"/>
              <a:chOff x="3581280" y="4419720"/>
              <a:chExt cx="304920" cy="1066680"/>
            </a:xfrm>
          </p:grpSpPr>
          <p:sp>
            <p:nvSpPr>
              <p:cNvPr id="4013" name=""/>
              <p:cNvSpPr/>
              <p:nvPr/>
            </p:nvSpPr>
            <p:spPr>
              <a:xfrm>
                <a:off x="3581280" y="44197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581280" y="51055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581280" y="5105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581280" y="4800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7" name=""/>
            <p:cNvSpPr/>
            <p:nvPr/>
          </p:nvSpPr>
          <p:spPr>
            <a:xfrm>
              <a:off x="3886200" y="45720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96252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257800" y="45720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0" name=""/>
            <p:cNvGrpSpPr/>
            <p:nvPr/>
          </p:nvGrpSpPr>
          <p:grpSpPr>
            <a:xfrm>
              <a:off x="4952880" y="4800600"/>
              <a:ext cx="304920" cy="457200"/>
              <a:chOff x="4952880" y="4800600"/>
              <a:chExt cx="304920" cy="457200"/>
            </a:xfrm>
          </p:grpSpPr>
          <p:sp>
            <p:nvSpPr>
              <p:cNvPr id="4021" name=""/>
              <p:cNvSpPr/>
              <p:nvPr/>
            </p:nvSpPr>
            <p:spPr>
              <a:xfrm>
                <a:off x="4952880" y="4800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952880" y="4800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952880" y="52578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4" name=""/>
            <p:cNvSpPr/>
            <p:nvPr/>
          </p:nvSpPr>
          <p:spPr>
            <a:xfrm>
              <a:off x="533412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124080" y="5410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4495680" y="49528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67280" y="48769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276720" y="5486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276720" y="4419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4648320" y="5029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019920" y="4952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3" name=""/>
              <p:cNvSpPr txBox="1"/>
              <p:nvPr/>
            </p:nvSpPr>
            <p:spPr>
              <a:xfrm>
                <a:off x="1676520" y="1523880"/>
                <a:ext cx="1163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034" name=""/>
          <p:cNvGrpSpPr/>
          <p:nvPr/>
        </p:nvGrpSpPr>
        <p:grpSpPr>
          <a:xfrm>
            <a:off x="1414440" y="3124080"/>
            <a:ext cx="6647040" cy="738360"/>
            <a:chOff x="1414440" y="3124080"/>
            <a:chExt cx="6647040" cy="738360"/>
          </a:xfrm>
        </p:grpSpPr>
        <p:sp>
          <p:nvSpPr>
            <p:cNvPr id="4035" name=""/>
            <p:cNvSpPr/>
            <p:nvPr/>
          </p:nvSpPr>
          <p:spPr>
            <a:xfrm>
              <a:off x="1414440" y="32767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6" name=""/>
                <p:cNvSpPr txBox="1"/>
                <p:nvPr/>
              </p:nvSpPr>
              <p:spPr>
                <a:xfrm>
                  <a:off x="4159080" y="3124080"/>
                  <a:ext cx="390240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"/>
          <p:cNvSpPr/>
          <p:nvPr/>
        </p:nvSpPr>
        <p:spPr>
          <a:xfrm>
            <a:off x="762120" y="16002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8" name=""/>
          <p:cNvGrpSpPr/>
          <p:nvPr/>
        </p:nvGrpSpPr>
        <p:grpSpPr>
          <a:xfrm>
            <a:off x="3200400" y="1600200"/>
            <a:ext cx="2266920" cy="514440"/>
            <a:chOff x="3200400" y="1600200"/>
            <a:chExt cx="2266920" cy="514440"/>
          </a:xfrm>
        </p:grpSpPr>
        <p:sp>
          <p:nvSpPr>
            <p:cNvPr id="4039" name=""/>
            <p:cNvSpPr/>
            <p:nvPr/>
          </p:nvSpPr>
          <p:spPr>
            <a:xfrm>
              <a:off x="3200400" y="1600200"/>
              <a:ext cx="1062720" cy="5144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475880" y="1600200"/>
              <a:ext cx="991440" cy="5144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1" name=""/>
          <p:cNvSpPr/>
          <p:nvPr/>
        </p:nvSpPr>
        <p:spPr>
          <a:xfrm>
            <a:off x="16765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2" name=""/>
          <p:cNvGrpSpPr/>
          <p:nvPr/>
        </p:nvGrpSpPr>
        <p:grpSpPr>
          <a:xfrm>
            <a:off x="1600200" y="6019920"/>
            <a:ext cx="6552720" cy="171000"/>
            <a:chOff x="1600200" y="6019920"/>
            <a:chExt cx="6552720" cy="171000"/>
          </a:xfrm>
        </p:grpSpPr>
        <p:pic>
          <p:nvPicPr>
            <p:cNvPr id="4043" name="" descr=""/>
            <p:cNvPicPr/>
            <p:nvPr/>
          </p:nvPicPr>
          <p:blipFill>
            <a:blip r:embed="rId1"/>
            <a:stretch/>
          </p:blipFill>
          <p:spPr>
            <a:xfrm>
              <a:off x="2504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4" name="" descr=""/>
            <p:cNvPicPr/>
            <p:nvPr/>
          </p:nvPicPr>
          <p:blipFill>
            <a:blip r:embed="rId2"/>
            <a:stretch/>
          </p:blipFill>
          <p:spPr>
            <a:xfrm>
              <a:off x="2647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5" name="" descr=""/>
            <p:cNvPicPr/>
            <p:nvPr/>
          </p:nvPicPr>
          <p:blipFill>
            <a:blip r:embed="rId3"/>
            <a:stretch/>
          </p:blipFill>
          <p:spPr>
            <a:xfrm>
              <a:off x="2809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6" name="" descr=""/>
            <p:cNvPicPr/>
            <p:nvPr/>
          </p:nvPicPr>
          <p:blipFill>
            <a:blip r:embed="rId4"/>
            <a:stretch/>
          </p:blipFill>
          <p:spPr>
            <a:xfrm>
              <a:off x="3105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7" name="" descr=""/>
            <p:cNvPicPr/>
            <p:nvPr/>
          </p:nvPicPr>
          <p:blipFill>
            <a:blip r:embed="rId5"/>
            <a:stretch/>
          </p:blipFill>
          <p:spPr>
            <a:xfrm>
              <a:off x="3267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8" name="" descr=""/>
            <p:cNvPicPr/>
            <p:nvPr/>
          </p:nvPicPr>
          <p:blipFill>
            <a:blip r:embed="rId6"/>
            <a:stretch/>
          </p:blipFill>
          <p:spPr>
            <a:xfrm>
              <a:off x="3419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9" name="" descr=""/>
            <p:cNvPicPr/>
            <p:nvPr/>
          </p:nvPicPr>
          <p:blipFill>
            <a:blip r:embed="rId7"/>
            <a:stretch/>
          </p:blipFill>
          <p:spPr>
            <a:xfrm>
              <a:off x="35622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0" name="" descr=""/>
            <p:cNvPicPr/>
            <p:nvPr/>
          </p:nvPicPr>
          <p:blipFill>
            <a:blip r:embed="rId8"/>
            <a:stretch/>
          </p:blipFill>
          <p:spPr>
            <a:xfrm>
              <a:off x="37242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1" name="" descr=""/>
            <p:cNvPicPr/>
            <p:nvPr/>
          </p:nvPicPr>
          <p:blipFill>
            <a:blip r:embed="rId9"/>
            <a:stretch/>
          </p:blipFill>
          <p:spPr>
            <a:xfrm>
              <a:off x="40194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2" name="" descr=""/>
            <p:cNvPicPr/>
            <p:nvPr/>
          </p:nvPicPr>
          <p:blipFill>
            <a:blip r:embed="rId10"/>
            <a:stretch/>
          </p:blipFill>
          <p:spPr>
            <a:xfrm>
              <a:off x="41814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3" name="" descr=""/>
            <p:cNvPicPr/>
            <p:nvPr/>
          </p:nvPicPr>
          <p:blipFill>
            <a:blip r:embed="rId11"/>
            <a:stretch/>
          </p:blipFill>
          <p:spPr>
            <a:xfrm>
              <a:off x="43336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4" name="" descr=""/>
            <p:cNvPicPr/>
            <p:nvPr/>
          </p:nvPicPr>
          <p:blipFill>
            <a:blip r:embed="rId12"/>
            <a:stretch/>
          </p:blipFill>
          <p:spPr>
            <a:xfrm>
              <a:off x="44766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5" name="" descr=""/>
            <p:cNvPicPr/>
            <p:nvPr/>
          </p:nvPicPr>
          <p:blipFill>
            <a:blip r:embed="rId13"/>
            <a:stretch/>
          </p:blipFill>
          <p:spPr>
            <a:xfrm>
              <a:off x="2962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6" name="" descr=""/>
            <p:cNvPicPr/>
            <p:nvPr/>
          </p:nvPicPr>
          <p:blipFill>
            <a:blip r:embed="rId14"/>
            <a:stretch/>
          </p:blipFill>
          <p:spPr>
            <a:xfrm>
              <a:off x="38764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7" name="" descr=""/>
            <p:cNvPicPr/>
            <p:nvPr/>
          </p:nvPicPr>
          <p:blipFill>
            <a:blip r:embed="rId15"/>
            <a:stretch/>
          </p:blipFill>
          <p:spPr>
            <a:xfrm>
              <a:off x="46386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8" name="" descr=""/>
            <p:cNvPicPr/>
            <p:nvPr/>
          </p:nvPicPr>
          <p:blipFill>
            <a:blip r:embed="rId16"/>
            <a:stretch/>
          </p:blipFill>
          <p:spPr>
            <a:xfrm>
              <a:off x="4790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9" name="" descr=""/>
            <p:cNvPicPr/>
            <p:nvPr/>
          </p:nvPicPr>
          <p:blipFill>
            <a:blip r:embed="rId17"/>
            <a:stretch/>
          </p:blipFill>
          <p:spPr>
            <a:xfrm>
              <a:off x="4933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0" name="" descr=""/>
            <p:cNvPicPr/>
            <p:nvPr/>
          </p:nvPicPr>
          <p:blipFill>
            <a:blip r:embed="rId18"/>
            <a:stretch/>
          </p:blipFill>
          <p:spPr>
            <a:xfrm>
              <a:off x="5095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1" name="" descr=""/>
            <p:cNvPicPr/>
            <p:nvPr/>
          </p:nvPicPr>
          <p:blipFill>
            <a:blip r:embed="rId19"/>
            <a:stretch/>
          </p:blipFill>
          <p:spPr>
            <a:xfrm>
              <a:off x="5248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2" name="" descr=""/>
            <p:cNvPicPr/>
            <p:nvPr/>
          </p:nvPicPr>
          <p:blipFill>
            <a:blip r:embed="rId20"/>
            <a:stretch/>
          </p:blipFill>
          <p:spPr>
            <a:xfrm>
              <a:off x="5391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3" name="" descr=""/>
            <p:cNvPicPr/>
            <p:nvPr/>
          </p:nvPicPr>
          <p:blipFill>
            <a:blip r:embed="rId21"/>
            <a:stretch/>
          </p:blipFill>
          <p:spPr>
            <a:xfrm>
              <a:off x="5553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4" name="" descr=""/>
            <p:cNvPicPr/>
            <p:nvPr/>
          </p:nvPicPr>
          <p:blipFill>
            <a:blip r:embed="rId22"/>
            <a:stretch/>
          </p:blipFill>
          <p:spPr>
            <a:xfrm>
              <a:off x="58482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5" name="" descr=""/>
            <p:cNvPicPr/>
            <p:nvPr/>
          </p:nvPicPr>
          <p:blipFill>
            <a:blip r:embed="rId23"/>
            <a:stretch/>
          </p:blipFill>
          <p:spPr>
            <a:xfrm>
              <a:off x="60102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6" name="" descr=""/>
            <p:cNvPicPr/>
            <p:nvPr/>
          </p:nvPicPr>
          <p:blipFill>
            <a:blip r:embed="rId24"/>
            <a:stretch/>
          </p:blipFill>
          <p:spPr>
            <a:xfrm>
              <a:off x="61624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7" name="" descr=""/>
            <p:cNvPicPr/>
            <p:nvPr/>
          </p:nvPicPr>
          <p:blipFill>
            <a:blip r:embed="rId25"/>
            <a:stretch/>
          </p:blipFill>
          <p:spPr>
            <a:xfrm>
              <a:off x="63054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8" name="" descr=""/>
            <p:cNvPicPr/>
            <p:nvPr/>
          </p:nvPicPr>
          <p:blipFill>
            <a:blip r:embed="rId26"/>
            <a:stretch/>
          </p:blipFill>
          <p:spPr>
            <a:xfrm>
              <a:off x="64674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9" name="" descr=""/>
            <p:cNvPicPr/>
            <p:nvPr/>
          </p:nvPicPr>
          <p:blipFill>
            <a:blip r:embed="rId27"/>
            <a:stretch/>
          </p:blipFill>
          <p:spPr>
            <a:xfrm>
              <a:off x="67626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0" name="" descr=""/>
            <p:cNvPicPr/>
            <p:nvPr/>
          </p:nvPicPr>
          <p:blipFill>
            <a:blip r:embed="rId28"/>
            <a:stretch/>
          </p:blipFill>
          <p:spPr>
            <a:xfrm>
              <a:off x="69246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1" name="" descr=""/>
            <p:cNvPicPr/>
            <p:nvPr/>
          </p:nvPicPr>
          <p:blipFill>
            <a:blip r:embed="rId29"/>
            <a:stretch/>
          </p:blipFill>
          <p:spPr>
            <a:xfrm>
              <a:off x="7076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2" name="" descr=""/>
            <p:cNvPicPr/>
            <p:nvPr/>
          </p:nvPicPr>
          <p:blipFill>
            <a:blip r:embed="rId30"/>
            <a:stretch/>
          </p:blipFill>
          <p:spPr>
            <a:xfrm>
              <a:off x="7219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3" name="" descr=""/>
            <p:cNvPicPr/>
            <p:nvPr/>
          </p:nvPicPr>
          <p:blipFill>
            <a:blip r:embed="rId31"/>
            <a:stretch/>
          </p:blipFill>
          <p:spPr>
            <a:xfrm>
              <a:off x="5705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4" name="" descr=""/>
            <p:cNvPicPr/>
            <p:nvPr/>
          </p:nvPicPr>
          <p:blipFill>
            <a:blip r:embed="rId32"/>
            <a:stretch/>
          </p:blipFill>
          <p:spPr>
            <a:xfrm>
              <a:off x="66196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5" name="" descr=""/>
            <p:cNvPicPr/>
            <p:nvPr/>
          </p:nvPicPr>
          <p:blipFill>
            <a:blip r:embed="rId33"/>
            <a:stretch/>
          </p:blipFill>
          <p:spPr>
            <a:xfrm>
              <a:off x="7381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6" name="" descr=""/>
            <p:cNvPicPr/>
            <p:nvPr/>
          </p:nvPicPr>
          <p:blipFill>
            <a:blip r:embed="rId34"/>
            <a:stretch/>
          </p:blipFill>
          <p:spPr>
            <a:xfrm>
              <a:off x="7534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7" name="" descr=""/>
            <p:cNvPicPr/>
            <p:nvPr/>
          </p:nvPicPr>
          <p:blipFill>
            <a:blip r:embed="rId35"/>
            <a:stretch/>
          </p:blipFill>
          <p:spPr>
            <a:xfrm>
              <a:off x="7677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8" name="" descr=""/>
            <p:cNvPicPr/>
            <p:nvPr/>
          </p:nvPicPr>
          <p:blipFill>
            <a:blip r:embed="rId36"/>
            <a:stretch/>
          </p:blipFill>
          <p:spPr>
            <a:xfrm>
              <a:off x="7839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9" name="" descr=""/>
            <p:cNvPicPr/>
            <p:nvPr/>
          </p:nvPicPr>
          <p:blipFill>
            <a:blip r:embed="rId37"/>
            <a:stretch/>
          </p:blipFill>
          <p:spPr>
            <a:xfrm>
              <a:off x="7991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0" name=""/>
            <p:cNvGrpSpPr/>
            <p:nvPr/>
          </p:nvGrpSpPr>
          <p:grpSpPr>
            <a:xfrm>
              <a:off x="1600200" y="6019920"/>
              <a:ext cx="923760" cy="161640"/>
              <a:chOff x="1600200" y="6019920"/>
              <a:chExt cx="923760" cy="161640"/>
            </a:xfrm>
          </p:grpSpPr>
          <p:pic>
            <p:nvPicPr>
              <p:cNvPr id="4081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7431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9051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574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2003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3623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6002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87" name="" descr=""/>
          <p:cNvPicPr/>
          <p:nvPr/>
        </p:nvPicPr>
        <p:blipFill>
          <a:blip r:embed="rId44"/>
          <a:stretch/>
        </p:blipFill>
        <p:spPr>
          <a:xfrm>
            <a:off x="633240" y="5105520"/>
            <a:ext cx="1043280" cy="1177920"/>
          </a:xfrm>
          <a:prstGeom prst="rect">
            <a:avLst/>
          </a:prstGeom>
          <a:ln w="0">
            <a:noFill/>
          </a:ln>
        </p:spPr>
      </p:pic>
      <p:sp>
        <p:nvSpPr>
          <p:cNvPr id="4088" name=""/>
          <p:cNvSpPr/>
          <p:nvPr/>
        </p:nvSpPr>
        <p:spPr>
          <a:xfrm>
            <a:off x="990720" y="533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应用逻辑代数运算法则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028520" y="106668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并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0" name=""/>
              <p:cNvSpPr txBox="1"/>
              <p:nvPr/>
            </p:nvSpPr>
            <p:spPr>
              <a:xfrm>
                <a:off x="2465280" y="1600200"/>
                <a:ext cx="555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091" name=""/>
          <p:cNvGrpSpPr/>
          <p:nvPr/>
        </p:nvGrpSpPr>
        <p:grpSpPr>
          <a:xfrm>
            <a:off x="5638680" y="1600200"/>
            <a:ext cx="2266920" cy="514440"/>
            <a:chOff x="5638680" y="1600200"/>
            <a:chExt cx="2266920" cy="514440"/>
          </a:xfrm>
        </p:grpSpPr>
        <p:sp>
          <p:nvSpPr>
            <p:cNvPr id="4092" name=""/>
            <p:cNvSpPr/>
            <p:nvPr/>
          </p:nvSpPr>
          <p:spPr>
            <a:xfrm>
              <a:off x="5638680" y="1600200"/>
              <a:ext cx="1062720" cy="51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14160" y="1600200"/>
              <a:ext cx="991440" cy="51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4" name=""/>
              <p:cNvSpPr txBox="1"/>
              <p:nvPr/>
            </p:nvSpPr>
            <p:spPr>
              <a:xfrm>
                <a:off x="2770200" y="2209680"/>
                <a:ext cx="459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5" name=""/>
              <p:cNvSpPr txBox="1"/>
              <p:nvPr/>
            </p:nvSpPr>
            <p:spPr>
              <a:xfrm>
                <a:off x="2725560" y="2819520"/>
                <a:ext cx="2049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6" name=""/>
              <p:cNvSpPr txBox="1"/>
              <p:nvPr/>
            </p:nvSpPr>
            <p:spPr>
              <a:xfrm>
                <a:off x="4800600" y="2895480"/>
                <a:ext cx="72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97" name=""/>
          <p:cNvGrpSpPr/>
          <p:nvPr/>
        </p:nvGrpSpPr>
        <p:grpSpPr>
          <a:xfrm>
            <a:off x="1066680" y="3809880"/>
            <a:ext cx="5114880" cy="609840"/>
            <a:chOff x="1066680" y="3809880"/>
            <a:chExt cx="5114880" cy="609840"/>
          </a:xfrm>
        </p:grpSpPr>
        <p:sp>
          <p:nvSpPr>
            <p:cNvPr id="4098" name=""/>
            <p:cNvSpPr/>
            <p:nvPr/>
          </p:nvSpPr>
          <p:spPr>
            <a:xfrm>
              <a:off x="1066680" y="3809880"/>
              <a:ext cx="83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例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905120" y="3809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化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0" name=""/>
                <p:cNvSpPr txBox="1"/>
                <p:nvPr/>
              </p:nvSpPr>
              <p:spPr>
                <a:xfrm>
                  <a:off x="2711520" y="3809880"/>
                  <a:ext cx="34700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01" name=""/>
          <p:cNvSpPr/>
          <p:nvPr/>
        </p:nvSpPr>
        <p:spPr>
          <a:xfrm>
            <a:off x="952200" y="327672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配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2" name=""/>
              <p:cNvSpPr txBox="1"/>
              <p:nvPr/>
            </p:nvSpPr>
            <p:spPr>
              <a:xfrm>
                <a:off x="3075120" y="4343400"/>
                <a:ext cx="4332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3" name=""/>
              <p:cNvSpPr txBox="1"/>
              <p:nvPr/>
            </p:nvSpPr>
            <p:spPr>
              <a:xfrm>
                <a:off x="2998800" y="4876920"/>
                <a:ext cx="46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04" name=""/>
          <p:cNvSpPr/>
          <p:nvPr/>
        </p:nvSpPr>
        <p:spPr>
          <a:xfrm>
            <a:off x="3352680" y="533412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5562720" y="5334120"/>
            <a:ext cx="190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6" name=""/>
              <p:cNvSpPr txBox="1"/>
              <p:nvPr/>
            </p:nvSpPr>
            <p:spPr>
              <a:xfrm>
                <a:off x="3033720" y="5410080"/>
                <a:ext cx="2111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07" name=""/>
              <p:cNvSpPr txBox="1"/>
              <p:nvPr/>
            </p:nvSpPr>
            <p:spPr>
              <a:xfrm>
                <a:off x="5241960" y="5257800"/>
                <a:ext cx="27846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8" name=""/>
          <p:cNvGrpSpPr/>
          <p:nvPr/>
        </p:nvGrpSpPr>
        <p:grpSpPr>
          <a:xfrm>
            <a:off x="3352680" y="3886200"/>
            <a:ext cx="1524240" cy="1218960"/>
            <a:chOff x="3352680" y="3886200"/>
            <a:chExt cx="1524240" cy="1218960"/>
          </a:xfrm>
        </p:grpSpPr>
        <p:sp>
          <p:nvSpPr>
            <p:cNvPr id="4109" name=""/>
            <p:cNvSpPr/>
            <p:nvPr/>
          </p:nvSpPr>
          <p:spPr>
            <a:xfrm>
              <a:off x="3352680" y="3886200"/>
              <a:ext cx="1524240" cy="64980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632760" y="4536000"/>
              <a:ext cx="839880" cy="56916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1" name=""/>
          <p:cNvSpPr/>
          <p:nvPr/>
        </p:nvSpPr>
        <p:spPr>
          <a:xfrm>
            <a:off x="762120" y="11430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1600200" y="1143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3" name=""/>
              <p:cNvSpPr txBox="1"/>
              <p:nvPr/>
            </p:nvSpPr>
            <p:spPr>
              <a:xfrm>
                <a:off x="2590920" y="1143000"/>
                <a:ext cx="4263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4" name=""/>
          <p:cNvSpPr/>
          <p:nvPr/>
        </p:nvSpPr>
        <p:spPr>
          <a:xfrm>
            <a:off x="873000" y="53352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加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5" name=""/>
              <p:cNvSpPr txBox="1"/>
              <p:nvPr/>
            </p:nvSpPr>
            <p:spPr>
              <a:xfrm>
                <a:off x="2908440" y="1752480"/>
                <a:ext cx="5119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6" name=""/>
          <p:cNvGrpSpPr/>
          <p:nvPr/>
        </p:nvGrpSpPr>
        <p:grpSpPr>
          <a:xfrm>
            <a:off x="3276720" y="1752480"/>
            <a:ext cx="2209680" cy="533520"/>
            <a:chOff x="3276720" y="1752480"/>
            <a:chExt cx="2209680" cy="533520"/>
          </a:xfrm>
        </p:grpSpPr>
        <p:sp>
          <p:nvSpPr>
            <p:cNvPr id="4117" name=""/>
            <p:cNvSpPr/>
            <p:nvPr/>
          </p:nvSpPr>
          <p:spPr>
            <a:xfrm>
              <a:off x="3276720" y="1752480"/>
              <a:ext cx="99072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496040" y="1752480"/>
              <a:ext cx="9903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5791320" y="1752480"/>
            <a:ext cx="2209680" cy="533520"/>
            <a:chOff x="5791320" y="1752480"/>
            <a:chExt cx="2209680" cy="533520"/>
          </a:xfrm>
        </p:grpSpPr>
        <p:sp>
          <p:nvSpPr>
            <p:cNvPr id="4120" name=""/>
            <p:cNvSpPr/>
            <p:nvPr/>
          </p:nvSpPr>
          <p:spPr>
            <a:xfrm>
              <a:off x="5791320" y="1752480"/>
              <a:ext cx="99072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010640" y="1752480"/>
              <a:ext cx="99036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2" name=""/>
              <p:cNvSpPr txBox="1"/>
              <p:nvPr/>
            </p:nvSpPr>
            <p:spPr>
              <a:xfrm>
                <a:off x="2940120" y="2438280"/>
                <a:ext cx="1981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3" name=""/>
              <p:cNvSpPr txBox="1"/>
              <p:nvPr/>
            </p:nvSpPr>
            <p:spPr>
              <a:xfrm>
                <a:off x="2690640" y="3886200"/>
                <a:ext cx="3151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4" name=""/>
              <p:cNvSpPr txBox="1"/>
              <p:nvPr/>
            </p:nvSpPr>
            <p:spPr>
              <a:xfrm>
                <a:off x="2708280" y="4495680"/>
                <a:ext cx="268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5" name=""/>
              <p:cNvSpPr txBox="1"/>
              <p:nvPr/>
            </p:nvSpPr>
            <p:spPr>
              <a:xfrm>
                <a:off x="2743200" y="5181480"/>
                <a:ext cx="1805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26" name=""/>
          <p:cNvSpPr/>
          <p:nvPr/>
        </p:nvSpPr>
        <p:spPr>
          <a:xfrm>
            <a:off x="685800" y="2743200"/>
            <a:ext cx="215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吸收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828800" y="5105520"/>
            <a:ext cx="990720" cy="533160"/>
          </a:xfrm>
          <a:prstGeom prst="wedgeEllipseCallout">
            <a:avLst>
              <a:gd name="adj1" fmla="val 140703"/>
              <a:gd name="adj2" fmla="val -89583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8" name=""/>
              <p:cNvSpPr txBox="1"/>
              <p:nvPr/>
            </p:nvSpPr>
            <p:spPr>
              <a:xfrm>
                <a:off x="5697360" y="4572000"/>
                <a:ext cx="221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129" name=""/>
          <p:cNvGrpSpPr/>
          <p:nvPr/>
        </p:nvGrpSpPr>
        <p:grpSpPr>
          <a:xfrm>
            <a:off x="685800" y="3276720"/>
            <a:ext cx="5273640" cy="609480"/>
            <a:chOff x="685800" y="3276720"/>
            <a:chExt cx="5273640" cy="609480"/>
          </a:xfrm>
        </p:grpSpPr>
        <mc:AlternateContent>
          <mc:Choice xmlns:a14="http://schemas.microsoft.com/office/drawing/2010/main" Requires="a14">
            <p:sp>
              <p:nvSpPr>
                <p:cNvPr id="4130" name=""/>
                <p:cNvSpPr txBox="1"/>
                <p:nvPr/>
              </p:nvSpPr>
              <p:spPr>
                <a:xfrm>
                  <a:off x="2421000" y="3276720"/>
                  <a:ext cx="35384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131" name=""/>
            <p:cNvSpPr/>
            <p:nvPr/>
          </p:nvSpPr>
          <p:spPr>
            <a:xfrm>
              <a:off x="685800" y="327672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例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523880" y="3276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化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"/>
          <p:cNvSpPr/>
          <p:nvPr/>
        </p:nvSpPr>
        <p:spPr>
          <a:xfrm>
            <a:off x="990720" y="6094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1905120" y="609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5" name=""/>
              <p:cNvSpPr txBox="1"/>
              <p:nvPr/>
            </p:nvSpPr>
            <p:spPr>
              <a:xfrm>
                <a:off x="1154160" y="1066680"/>
                <a:ext cx="6113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136" name=""/>
          <p:cNvGrpSpPr/>
          <p:nvPr/>
        </p:nvGrpSpPr>
        <p:grpSpPr>
          <a:xfrm>
            <a:off x="3124080" y="1600200"/>
            <a:ext cx="4038840" cy="0"/>
            <a:chOff x="3124080" y="1600200"/>
            <a:chExt cx="4038840" cy="0"/>
          </a:xfrm>
        </p:grpSpPr>
        <p:sp>
          <p:nvSpPr>
            <p:cNvPr id="4137" name=""/>
            <p:cNvSpPr/>
            <p:nvPr/>
          </p:nvSpPr>
          <p:spPr>
            <a:xfrm>
              <a:off x="6553080" y="1600200"/>
              <a:ext cx="609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124080" y="1600200"/>
              <a:ext cx="9144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39" name=""/>
              <p:cNvSpPr txBox="1"/>
              <p:nvPr/>
            </p:nvSpPr>
            <p:spPr>
              <a:xfrm>
                <a:off x="1459080" y="2209680"/>
                <a:ext cx="5484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140" name=""/>
          <p:cNvGrpSpPr/>
          <p:nvPr/>
        </p:nvGrpSpPr>
        <p:grpSpPr>
          <a:xfrm>
            <a:off x="1828800" y="2743200"/>
            <a:ext cx="4114800" cy="0"/>
            <a:chOff x="1828800" y="2743200"/>
            <a:chExt cx="4114800" cy="0"/>
          </a:xfrm>
        </p:grpSpPr>
        <p:sp>
          <p:nvSpPr>
            <p:cNvPr id="4141" name=""/>
            <p:cNvSpPr/>
            <p:nvPr/>
          </p:nvSpPr>
          <p:spPr>
            <a:xfrm>
              <a:off x="1828800" y="2743200"/>
              <a:ext cx="914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334120" y="2743200"/>
              <a:ext cx="609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43" name=""/>
              <p:cNvSpPr txBox="1"/>
              <p:nvPr/>
            </p:nvSpPr>
            <p:spPr>
              <a:xfrm>
                <a:off x="1550880" y="2895480"/>
                <a:ext cx="4262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144" name=""/>
          <p:cNvGrpSpPr/>
          <p:nvPr/>
        </p:nvGrpSpPr>
        <p:grpSpPr>
          <a:xfrm>
            <a:off x="1905120" y="3429000"/>
            <a:ext cx="1981080" cy="0"/>
            <a:chOff x="1905120" y="3429000"/>
            <a:chExt cx="1981080" cy="0"/>
          </a:xfrm>
        </p:grpSpPr>
        <p:sp>
          <p:nvSpPr>
            <p:cNvPr id="4145" name=""/>
            <p:cNvSpPr/>
            <p:nvPr/>
          </p:nvSpPr>
          <p:spPr>
            <a:xfrm>
              <a:off x="1905120" y="3429000"/>
              <a:ext cx="609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3429000"/>
              <a:ext cx="10666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47" name=""/>
              <p:cNvSpPr txBox="1"/>
              <p:nvPr/>
            </p:nvSpPr>
            <p:spPr>
              <a:xfrm>
                <a:off x="1474920" y="3581280"/>
                <a:ext cx="3898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148" name=""/>
          <p:cNvGrpSpPr/>
          <p:nvPr/>
        </p:nvGrpSpPr>
        <p:grpSpPr>
          <a:xfrm>
            <a:off x="2819520" y="4114800"/>
            <a:ext cx="2485800" cy="0"/>
            <a:chOff x="2819520" y="4114800"/>
            <a:chExt cx="2485800" cy="0"/>
          </a:xfrm>
        </p:grpSpPr>
        <p:sp>
          <p:nvSpPr>
            <p:cNvPr id="4149" name=""/>
            <p:cNvSpPr/>
            <p:nvPr/>
          </p:nvSpPr>
          <p:spPr>
            <a:xfrm>
              <a:off x="2819520" y="411480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619520" y="411480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1" name=""/>
              <p:cNvSpPr txBox="1"/>
              <p:nvPr/>
            </p:nvSpPr>
            <p:spPr>
              <a:xfrm>
                <a:off x="1398600" y="4267080"/>
                <a:ext cx="386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2" name=""/>
              <p:cNvSpPr txBox="1"/>
              <p:nvPr/>
            </p:nvSpPr>
            <p:spPr>
              <a:xfrm>
                <a:off x="1523880" y="4876920"/>
                <a:ext cx="3106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3" name=""/>
              <p:cNvSpPr txBox="1"/>
              <p:nvPr/>
            </p:nvSpPr>
            <p:spPr>
              <a:xfrm>
                <a:off x="1425600" y="1600200"/>
                <a:ext cx="581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4" name=""/>
          <p:cNvSpPr/>
          <p:nvPr/>
        </p:nvSpPr>
        <p:spPr>
          <a:xfrm>
            <a:off x="6019920" y="1676520"/>
            <a:ext cx="304560" cy="457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7010280" y="2133720"/>
            <a:ext cx="838440" cy="380880"/>
          </a:xfrm>
          <a:prstGeom prst="wedgeEllipseCallout">
            <a:avLst>
              <a:gd name="adj1" fmla="val -131250"/>
              <a:gd name="adj2" fmla="val -80416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762120" y="2666880"/>
            <a:ext cx="838080" cy="457200"/>
          </a:xfrm>
          <a:prstGeom prst="wedgeEllipseCallout">
            <a:avLst>
              <a:gd name="adj1" fmla="val 120263"/>
              <a:gd name="adj2" fmla="val -3159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7" name=""/>
          <p:cNvGrpSpPr/>
          <p:nvPr/>
        </p:nvGrpSpPr>
        <p:grpSpPr>
          <a:xfrm>
            <a:off x="2743200" y="5410080"/>
            <a:ext cx="1828800" cy="0"/>
            <a:chOff x="2743200" y="5410080"/>
            <a:chExt cx="1828800" cy="0"/>
          </a:xfrm>
        </p:grpSpPr>
        <p:sp>
          <p:nvSpPr>
            <p:cNvPr id="4158" name=""/>
            <p:cNvSpPr/>
            <p:nvPr/>
          </p:nvSpPr>
          <p:spPr>
            <a:xfrm>
              <a:off x="2743200" y="541008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657600" y="5410080"/>
              <a:ext cx="9144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0" name=""/>
          <p:cNvSpPr/>
          <p:nvPr/>
        </p:nvSpPr>
        <p:spPr>
          <a:xfrm>
            <a:off x="3962520" y="480060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5334120" y="5105520"/>
            <a:ext cx="838080" cy="457200"/>
          </a:xfrm>
          <a:prstGeom prst="wedgeEllipseCallout">
            <a:avLst>
              <a:gd name="adj1" fmla="val -138824"/>
              <a:gd name="adj2" fmla="val -34375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2" name=""/>
              <p:cNvSpPr txBox="1"/>
              <p:nvPr/>
            </p:nvSpPr>
            <p:spPr>
              <a:xfrm>
                <a:off x="1584360" y="5562720"/>
                <a:ext cx="2546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3" name=""/>
              <p:cNvSpPr txBox="1"/>
              <p:nvPr/>
            </p:nvSpPr>
            <p:spPr>
              <a:xfrm>
                <a:off x="4267080" y="5562720"/>
                <a:ext cx="1616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4" name=""/>
          <p:cNvSpPr/>
          <p:nvPr/>
        </p:nvSpPr>
        <p:spPr>
          <a:xfrm>
            <a:off x="3200400" y="2971800"/>
            <a:ext cx="304920" cy="457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838080" y="3429000"/>
            <a:ext cx="838440" cy="457200"/>
          </a:xfrm>
          <a:prstGeom prst="wedgeEllipseCallout">
            <a:avLst>
              <a:gd name="adj1" fmla="val 244319"/>
              <a:gd name="adj2" fmla="val -61458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"/>
          <p:cNvSpPr/>
          <p:nvPr/>
        </p:nvSpPr>
        <p:spPr>
          <a:xfrm>
            <a:off x="533520" y="733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应用卡诺图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609480" y="120816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与变量的最小项对应的按一定规则排列的方格图，每一小方格填入一个最小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609480" y="272736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最小项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对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变量有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zh-CN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种组合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其相应的乘积项也有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zh-CN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个，则每一个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乘积项就称为一个最小项。其特点是每个输入变量均在其中以原变量和反变量形式出现一次，且仅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609480" y="435564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如：三个变量，有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种组合，最小项就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，卡诺图也相应有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小方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1941120" y="5076360"/>
            <a:ext cx="423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卡诺图的行和列分别标出变量及其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685800" y="685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2" name=""/>
          <p:cNvGrpSpPr/>
          <p:nvPr/>
        </p:nvGrpSpPr>
        <p:grpSpPr>
          <a:xfrm>
            <a:off x="609480" y="1065600"/>
            <a:ext cx="2086200" cy="2511720"/>
            <a:chOff x="609480" y="1065600"/>
            <a:chExt cx="2086200" cy="2511720"/>
          </a:xfrm>
        </p:grpSpPr>
        <p:sp>
          <p:nvSpPr>
            <p:cNvPr id="4173" name=""/>
            <p:cNvSpPr/>
            <p:nvPr/>
          </p:nvSpPr>
          <p:spPr>
            <a:xfrm>
              <a:off x="914400" y="10656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295280" y="17953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295280" y="24051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981080" y="17953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 flipV="1">
              <a:off x="914400" y="141444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9480" y="137052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371600" y="12942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762120" y="243720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62120" y="182772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133720" y="129420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3" name=""/>
                <p:cNvSpPr txBox="1"/>
                <p:nvPr/>
              </p:nvSpPr>
              <p:spPr>
                <a:xfrm>
                  <a:off x="1265400" y="1871640"/>
                  <a:ext cx="7603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4" name=""/>
                <p:cNvSpPr txBox="1"/>
                <p:nvPr/>
              </p:nvSpPr>
              <p:spPr>
                <a:xfrm>
                  <a:off x="1967040" y="1871640"/>
                  <a:ext cx="72864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5" name=""/>
                <p:cNvSpPr txBox="1"/>
                <p:nvPr/>
              </p:nvSpPr>
              <p:spPr>
                <a:xfrm>
                  <a:off x="1281240" y="2481120"/>
                  <a:ext cx="72864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6" name=""/>
                <p:cNvSpPr txBox="1"/>
                <p:nvPr/>
              </p:nvSpPr>
              <p:spPr>
                <a:xfrm>
                  <a:off x="1981080" y="2513160"/>
                  <a:ext cx="7002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87" name=""/>
            <p:cNvSpPr/>
            <p:nvPr/>
          </p:nvSpPr>
          <p:spPr>
            <a:xfrm>
              <a:off x="1219320" y="3014280"/>
              <a:ext cx="1447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变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62120" y="3504240"/>
            <a:ext cx="3429000" cy="2435040"/>
            <a:chOff x="762120" y="3504240"/>
            <a:chExt cx="3429000" cy="2435040"/>
          </a:xfrm>
        </p:grpSpPr>
        <p:sp>
          <p:nvSpPr>
            <p:cNvPr id="4189" name=""/>
            <p:cNvSpPr/>
            <p:nvPr/>
          </p:nvSpPr>
          <p:spPr>
            <a:xfrm>
              <a:off x="1066680" y="35042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0" name=""/>
            <p:cNvGrpSpPr/>
            <p:nvPr/>
          </p:nvGrpSpPr>
          <p:grpSpPr>
            <a:xfrm>
              <a:off x="762120" y="3699360"/>
              <a:ext cx="3429000" cy="2239920"/>
              <a:chOff x="762120" y="3699360"/>
              <a:chExt cx="3429000" cy="2239920"/>
            </a:xfrm>
          </p:grpSpPr>
          <p:sp>
            <p:nvSpPr>
              <p:cNvPr id="4191" name=""/>
              <p:cNvSpPr/>
              <p:nvPr/>
            </p:nvSpPr>
            <p:spPr>
              <a:xfrm>
                <a:off x="1447920" y="415764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1447920" y="4767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133720" y="415764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H="1" flipV="1">
                <a:off x="1066320" y="3776400"/>
                <a:ext cx="38124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62120" y="373248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1447920" y="373248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990720" y="476604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990720" y="423252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99" name=""/>
                  <p:cNvSpPr txBox="1"/>
                  <p:nvPr/>
                </p:nvSpPr>
                <p:spPr>
                  <a:xfrm>
                    <a:off x="1523880" y="4233960"/>
                    <a:ext cx="515880" cy="53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00" name=""/>
              <p:cNvSpPr/>
              <p:nvPr/>
            </p:nvSpPr>
            <p:spPr>
              <a:xfrm>
                <a:off x="2819520" y="415764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819520" y="4767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505320" y="415764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1337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8195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5053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418480" y="5376240"/>
                <a:ext cx="8208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三变量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07" name=""/>
                  <p:cNvSpPr txBox="1"/>
                  <p:nvPr/>
                </p:nvSpPr>
                <p:spPr>
                  <a:xfrm>
                    <a:off x="2209680" y="4233960"/>
                    <a:ext cx="51588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08" name=""/>
                  <p:cNvSpPr txBox="1"/>
                  <p:nvPr/>
                </p:nvSpPr>
                <p:spPr>
                  <a:xfrm>
                    <a:off x="2895480" y="4233960"/>
                    <a:ext cx="515880" cy="53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09" name=""/>
                  <p:cNvSpPr txBox="1"/>
                  <p:nvPr/>
                </p:nvSpPr>
                <p:spPr>
                  <a:xfrm>
                    <a:off x="3581280" y="4233960"/>
                    <a:ext cx="51588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0" name=""/>
                  <p:cNvSpPr txBox="1"/>
                  <p:nvPr/>
                </p:nvSpPr>
                <p:spPr>
                  <a:xfrm>
                    <a:off x="1523880" y="4767120"/>
                    <a:ext cx="51588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1" name=""/>
                  <p:cNvSpPr txBox="1"/>
                  <p:nvPr/>
                </p:nvSpPr>
                <p:spPr>
                  <a:xfrm>
                    <a:off x="2209680" y="4767120"/>
                    <a:ext cx="515880" cy="53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2" name=""/>
                  <p:cNvSpPr txBox="1"/>
                  <p:nvPr/>
                </p:nvSpPr>
                <p:spPr>
                  <a:xfrm>
                    <a:off x="2895480" y="4767120"/>
                    <a:ext cx="51588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3" name=""/>
                  <p:cNvSpPr txBox="1"/>
                  <p:nvPr/>
                </p:nvSpPr>
                <p:spPr>
                  <a:xfrm>
                    <a:off x="3581280" y="4767120"/>
                    <a:ext cx="515880" cy="53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214" name=""/>
          <p:cNvSpPr/>
          <p:nvPr/>
        </p:nvSpPr>
        <p:spPr>
          <a:xfrm>
            <a:off x="4724280" y="4419720"/>
            <a:ext cx="1752840" cy="1447560"/>
          </a:xfrm>
          <a:prstGeom prst="wedgeRoundRectCallout">
            <a:avLst>
              <a:gd name="adj1" fmla="val -90671"/>
              <a:gd name="adj2" fmla="val -43638"/>
              <a:gd name="adj3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二进制数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应的十进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数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5" name=""/>
          <p:cNvGrpSpPr/>
          <p:nvPr/>
        </p:nvGrpSpPr>
        <p:grpSpPr>
          <a:xfrm>
            <a:off x="4114800" y="761040"/>
            <a:ext cx="3581280" cy="3687840"/>
            <a:chOff x="4114800" y="761040"/>
            <a:chExt cx="3581280" cy="3687840"/>
          </a:xfrm>
        </p:grpSpPr>
        <p:sp>
          <p:nvSpPr>
            <p:cNvPr id="4216" name=""/>
            <p:cNvSpPr/>
            <p:nvPr/>
          </p:nvSpPr>
          <p:spPr>
            <a:xfrm>
              <a:off x="4952880" y="144792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952880" y="20574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638680" y="14479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 flipV="1">
              <a:off x="4572000" y="1066320"/>
              <a:ext cx="3808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4114800" y="10227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952880" y="10227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2" name=""/>
                <p:cNvSpPr txBox="1"/>
                <p:nvPr/>
              </p:nvSpPr>
              <p:spPr>
                <a:xfrm>
                  <a:off x="5029200" y="1523880"/>
                  <a:ext cx="51588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23" name=""/>
            <p:cNvSpPr/>
            <p:nvPr/>
          </p:nvSpPr>
          <p:spPr>
            <a:xfrm>
              <a:off x="6324480" y="144792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324480" y="20574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7010280" y="14479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6386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3244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70102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9" name=""/>
                <p:cNvSpPr txBox="1"/>
                <p:nvPr/>
              </p:nvSpPr>
              <p:spPr>
                <a:xfrm>
                  <a:off x="5715000" y="1523880"/>
                  <a:ext cx="5158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0" name=""/>
                <p:cNvSpPr txBox="1"/>
                <p:nvPr/>
              </p:nvSpPr>
              <p:spPr>
                <a:xfrm>
                  <a:off x="6400800" y="1523880"/>
                  <a:ext cx="51588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1" name=""/>
                <p:cNvSpPr txBox="1"/>
                <p:nvPr/>
              </p:nvSpPr>
              <p:spPr>
                <a:xfrm>
                  <a:off x="7086600" y="1523880"/>
                  <a:ext cx="5158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2" name=""/>
                <p:cNvSpPr txBox="1"/>
                <p:nvPr/>
              </p:nvSpPr>
              <p:spPr>
                <a:xfrm>
                  <a:off x="5029200" y="2057400"/>
                  <a:ext cx="5158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3" name=""/>
                <p:cNvSpPr txBox="1"/>
                <p:nvPr/>
              </p:nvSpPr>
              <p:spPr>
                <a:xfrm>
                  <a:off x="5715000" y="2057400"/>
                  <a:ext cx="51588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4" name=""/>
                <p:cNvSpPr txBox="1"/>
                <p:nvPr/>
              </p:nvSpPr>
              <p:spPr>
                <a:xfrm>
                  <a:off x="6400800" y="2057400"/>
                  <a:ext cx="5158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5" name=""/>
                <p:cNvSpPr txBox="1"/>
                <p:nvPr/>
              </p:nvSpPr>
              <p:spPr>
                <a:xfrm>
                  <a:off x="7086600" y="2057400"/>
                  <a:ext cx="51588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36" name=""/>
            <p:cNvSpPr/>
            <p:nvPr/>
          </p:nvSpPr>
          <p:spPr>
            <a:xfrm>
              <a:off x="4419720" y="76104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4343400" y="1522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4343400" y="2056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4343400" y="2665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343400" y="3275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850720" y="3885840"/>
              <a:ext cx="820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四变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52880" y="26668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4952880" y="3276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638680" y="26668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5" name=""/>
                <p:cNvSpPr txBox="1"/>
                <p:nvPr/>
              </p:nvSpPr>
              <p:spPr>
                <a:xfrm>
                  <a:off x="4983120" y="2759040"/>
                  <a:ext cx="6080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46" name=""/>
            <p:cNvSpPr/>
            <p:nvPr/>
          </p:nvSpPr>
          <p:spPr>
            <a:xfrm>
              <a:off x="6324480" y="26668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324480" y="3276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010280" y="26668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9" name=""/>
                <p:cNvSpPr txBox="1"/>
                <p:nvPr/>
              </p:nvSpPr>
              <p:spPr>
                <a:xfrm>
                  <a:off x="5668920" y="2743200"/>
                  <a:ext cx="6080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0" name=""/>
                <p:cNvSpPr txBox="1"/>
                <p:nvPr/>
              </p:nvSpPr>
              <p:spPr>
                <a:xfrm>
                  <a:off x="6354720" y="2743200"/>
                  <a:ext cx="60804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1" name=""/>
                <p:cNvSpPr txBox="1"/>
                <p:nvPr/>
              </p:nvSpPr>
              <p:spPr>
                <a:xfrm>
                  <a:off x="7042320" y="2743200"/>
                  <a:ext cx="6062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2" name=""/>
                <p:cNvSpPr txBox="1"/>
                <p:nvPr/>
              </p:nvSpPr>
              <p:spPr>
                <a:xfrm>
                  <a:off x="5029200" y="3260880"/>
                  <a:ext cx="51588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3" name=""/>
                <p:cNvSpPr txBox="1"/>
                <p:nvPr/>
              </p:nvSpPr>
              <p:spPr>
                <a:xfrm>
                  <a:off x="5715000" y="3276720"/>
                  <a:ext cx="51588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4" name=""/>
                <p:cNvSpPr txBox="1"/>
                <p:nvPr/>
              </p:nvSpPr>
              <p:spPr>
                <a:xfrm>
                  <a:off x="6354720" y="3276720"/>
                  <a:ext cx="6080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5" name=""/>
                <p:cNvSpPr txBox="1"/>
                <p:nvPr/>
              </p:nvSpPr>
              <p:spPr>
                <a:xfrm>
                  <a:off x="7042320" y="3276720"/>
                  <a:ext cx="60624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56" name=""/>
          <p:cNvGrpSpPr/>
          <p:nvPr/>
        </p:nvGrpSpPr>
        <p:grpSpPr>
          <a:xfrm>
            <a:off x="4343400" y="899280"/>
            <a:ext cx="3125160" cy="2758320"/>
            <a:chOff x="4343400" y="899280"/>
            <a:chExt cx="3125160" cy="2758320"/>
          </a:xfrm>
        </p:grpSpPr>
        <p:sp>
          <p:nvSpPr>
            <p:cNvPr id="4257" name=""/>
            <p:cNvSpPr/>
            <p:nvPr/>
          </p:nvSpPr>
          <p:spPr>
            <a:xfrm>
              <a:off x="4343400" y="1676520"/>
              <a:ext cx="152280" cy="1981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rot="5364000">
              <a:off x="6246720" y="-153720"/>
              <a:ext cx="155520" cy="22860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9" name=""/>
          <p:cNvGrpSpPr/>
          <p:nvPr/>
        </p:nvGrpSpPr>
        <p:grpSpPr>
          <a:xfrm>
            <a:off x="2743200" y="990720"/>
            <a:ext cx="1523880" cy="2514600"/>
            <a:chOff x="2743200" y="990720"/>
            <a:chExt cx="1523880" cy="2514600"/>
          </a:xfrm>
        </p:grpSpPr>
        <p:sp>
          <p:nvSpPr>
            <p:cNvPr id="4260" name=""/>
            <p:cNvSpPr/>
            <p:nvPr/>
          </p:nvSpPr>
          <p:spPr>
            <a:xfrm>
              <a:off x="2895480" y="1066680"/>
              <a:ext cx="1295640" cy="2438640"/>
            </a:xfrm>
            <a:prstGeom prst="wedgeRoundRectCallout">
              <a:avLst>
                <a:gd name="adj1" fmla="val 66300"/>
                <a:gd name="adj2" fmla="val 33009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743200" y="990720"/>
              <a:ext cx="1523880" cy="24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任意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个相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最小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之间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有一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变量改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2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307160" y="1166760"/>
            <a:ext cx="3033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a)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根据状态表画出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803160" y="1828800"/>
            <a:ext cx="579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如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5" name=""/>
          <p:cNvGrpSpPr/>
          <p:nvPr/>
        </p:nvGrpSpPr>
        <p:grpSpPr>
          <a:xfrm>
            <a:off x="4648320" y="1751400"/>
            <a:ext cx="3352680" cy="1872720"/>
            <a:chOff x="4648320" y="1751400"/>
            <a:chExt cx="3352680" cy="1872720"/>
          </a:xfrm>
        </p:grpSpPr>
        <p:sp>
          <p:nvSpPr>
            <p:cNvPr id="4266" name=""/>
            <p:cNvSpPr/>
            <p:nvPr/>
          </p:nvSpPr>
          <p:spPr>
            <a:xfrm flipH="1" flipV="1">
              <a:off x="4876920" y="2023560"/>
              <a:ext cx="3808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7" name=""/>
            <p:cNvGrpSpPr/>
            <p:nvPr/>
          </p:nvGrpSpPr>
          <p:grpSpPr>
            <a:xfrm>
              <a:off x="4648320" y="1751400"/>
              <a:ext cx="3352680" cy="1872720"/>
              <a:chOff x="4648320" y="1751400"/>
              <a:chExt cx="3352680" cy="1872720"/>
            </a:xfrm>
          </p:grpSpPr>
          <p:sp>
            <p:nvSpPr>
              <p:cNvPr id="4268" name=""/>
              <p:cNvSpPr/>
              <p:nvPr/>
            </p:nvSpPr>
            <p:spPr>
              <a:xfrm>
                <a:off x="4648320" y="198000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876920" y="17514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5257800" y="240516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5257800" y="30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943600" y="240516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5257800" y="19800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800600" y="304704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800600" y="248004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29400" y="240516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29400" y="30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315200" y="240516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943600" y="194688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29400" y="194688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315200" y="194688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086880" y="24382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458480" y="24382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401080" y="30481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849000" y="30481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6" name=""/>
          <p:cNvSpPr/>
          <p:nvPr/>
        </p:nvSpPr>
        <p:spPr>
          <a:xfrm>
            <a:off x="4191120" y="2819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4648320" y="3886200"/>
            <a:ext cx="3657600" cy="103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将输出变量为“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的填入对应的小方格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“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的可不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8" name=""/>
          <p:cNvGrpSpPr/>
          <p:nvPr/>
        </p:nvGrpSpPr>
        <p:grpSpPr>
          <a:xfrm>
            <a:off x="896040" y="1981080"/>
            <a:ext cx="3218760" cy="3692520"/>
            <a:chOff x="896040" y="1981080"/>
            <a:chExt cx="3218760" cy="3692520"/>
          </a:xfrm>
        </p:grpSpPr>
        <p:grpSp>
          <p:nvGrpSpPr>
            <p:cNvPr id="4289" name=""/>
            <p:cNvGrpSpPr/>
            <p:nvPr/>
          </p:nvGrpSpPr>
          <p:grpSpPr>
            <a:xfrm>
              <a:off x="896040" y="1981080"/>
              <a:ext cx="3218760" cy="3692520"/>
              <a:chOff x="896040" y="1981080"/>
              <a:chExt cx="3218760" cy="3692520"/>
            </a:xfrm>
          </p:grpSpPr>
          <p:sp>
            <p:nvSpPr>
              <p:cNvPr id="4290" name=""/>
              <p:cNvSpPr/>
              <p:nvPr/>
            </p:nvSpPr>
            <p:spPr>
              <a:xfrm>
                <a:off x="896040" y="24861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1" name=""/>
              <p:cNvGrpSpPr/>
              <p:nvPr/>
            </p:nvGrpSpPr>
            <p:grpSpPr>
              <a:xfrm>
                <a:off x="1294200" y="1981080"/>
                <a:ext cx="2820600" cy="3692520"/>
                <a:chOff x="1294200" y="1981080"/>
                <a:chExt cx="2820600" cy="3692520"/>
              </a:xfrm>
            </p:grpSpPr>
            <p:sp>
              <p:nvSpPr>
                <p:cNvPr id="4292" name=""/>
                <p:cNvSpPr/>
                <p:nvPr/>
              </p:nvSpPr>
              <p:spPr>
                <a:xfrm>
                  <a:off x="1524240" y="19810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1524240" y="24382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>
                  <a:off x="3353040" y="1981080"/>
                  <a:ext cx="0" cy="3581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1294200" y="19810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1441800" y="2867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1441800" y="32479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1441800" y="3629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1441800" y="4010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1441800" y="43909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1441800" y="4772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1441800" y="5153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3" name=""/>
            <p:cNvSpPr/>
            <p:nvPr/>
          </p:nvSpPr>
          <p:spPr>
            <a:xfrm>
              <a:off x="1447920" y="56023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"/>
          <p:cNvSpPr/>
          <p:nvPr/>
        </p:nvSpPr>
        <p:spPr>
          <a:xfrm>
            <a:off x="6094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2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1158840" y="1143000"/>
            <a:ext cx="304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b)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根据逻辑式画出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838080" y="2818440"/>
            <a:ext cx="3352680" cy="1872720"/>
            <a:chOff x="838080" y="2818440"/>
            <a:chExt cx="3352680" cy="1872720"/>
          </a:xfrm>
        </p:grpSpPr>
        <p:sp>
          <p:nvSpPr>
            <p:cNvPr id="4307" name=""/>
            <p:cNvSpPr/>
            <p:nvPr/>
          </p:nvSpPr>
          <p:spPr>
            <a:xfrm flipH="1" flipV="1">
              <a:off x="1066680" y="308952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838080" y="2818440"/>
              <a:ext cx="3352680" cy="1872720"/>
              <a:chOff x="838080" y="2818440"/>
              <a:chExt cx="3352680" cy="1872720"/>
            </a:xfrm>
          </p:grpSpPr>
          <p:sp>
            <p:nvSpPr>
              <p:cNvPr id="4309" name=""/>
              <p:cNvSpPr/>
              <p:nvPr/>
            </p:nvSpPr>
            <p:spPr>
              <a:xfrm>
                <a:off x="838080" y="304704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1066680" y="28184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1447560" y="347220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1447560" y="4081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2133360" y="347220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1447560" y="30470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990360" y="41140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990360" y="35470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2819160" y="347220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2819160" y="4081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504960" y="347220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21333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28191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5049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2276640" y="35053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648240" y="35053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1590840" y="41151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038760" y="41151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7" name=""/>
          <p:cNvSpPr/>
          <p:nvPr/>
        </p:nvSpPr>
        <p:spPr>
          <a:xfrm>
            <a:off x="4419720" y="2590920"/>
            <a:ext cx="3886200" cy="56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将逻辑式中的最小项分别用“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填入对应的小方格。如果逻辑式中最小项不全，可不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8" name=""/>
          <p:cNvGrpSpPr/>
          <p:nvPr/>
        </p:nvGrpSpPr>
        <p:grpSpPr>
          <a:xfrm>
            <a:off x="803160" y="1752480"/>
            <a:ext cx="6259680" cy="563040"/>
            <a:chOff x="803160" y="1752480"/>
            <a:chExt cx="6259680" cy="563040"/>
          </a:xfrm>
        </p:grpSpPr>
        <p:sp>
          <p:nvSpPr>
            <p:cNvPr id="4329" name=""/>
            <p:cNvSpPr/>
            <p:nvPr/>
          </p:nvSpPr>
          <p:spPr>
            <a:xfrm>
              <a:off x="803160" y="1752480"/>
              <a:ext cx="5799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0" name=""/>
                <p:cNvSpPr txBox="1"/>
                <p:nvPr/>
              </p:nvSpPr>
              <p:spPr>
                <a:xfrm>
                  <a:off x="1320840" y="1752480"/>
                  <a:ext cx="57420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C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1" name=""/>
          <p:cNvSpPr/>
          <p:nvPr/>
        </p:nvSpPr>
        <p:spPr>
          <a:xfrm>
            <a:off x="2590920" y="2438280"/>
            <a:ext cx="380880" cy="533520"/>
          </a:xfrm>
          <a:prstGeom prst="downArrow">
            <a:avLst>
              <a:gd name="adj1" fmla="val 50000"/>
              <a:gd name="adj2" fmla="val 187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762120" y="4800600"/>
            <a:ext cx="740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如果逻辑式不是由最小项构成，一般应先化为最小项，或按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方法填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"/>
          <p:cNvSpPr/>
          <p:nvPr/>
        </p:nvSpPr>
        <p:spPr>
          <a:xfrm>
            <a:off x="762120" y="623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3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4" name=""/>
          <p:cNvGrpSpPr/>
          <p:nvPr/>
        </p:nvGrpSpPr>
        <p:grpSpPr>
          <a:xfrm>
            <a:off x="1295280" y="4113720"/>
            <a:ext cx="3352680" cy="1872720"/>
            <a:chOff x="1295280" y="4113720"/>
            <a:chExt cx="3352680" cy="1872720"/>
          </a:xfrm>
        </p:grpSpPr>
        <p:sp>
          <p:nvSpPr>
            <p:cNvPr id="4335" name=""/>
            <p:cNvSpPr/>
            <p:nvPr/>
          </p:nvSpPr>
          <p:spPr>
            <a:xfrm flipH="1" flipV="1">
              <a:off x="1523880" y="438480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295280" y="434232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523880" y="4113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04760" y="47671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904760" y="53769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590560" y="47671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904760" y="4342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447560" y="54090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447560" y="484236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276360" y="47671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276360" y="53769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2160" y="47671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5905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2763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1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420000" y="4800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410580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81016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42000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851400" y="2743200"/>
            <a:ext cx="6413040" cy="1020240"/>
            <a:chOff x="851400" y="2743200"/>
            <a:chExt cx="6413040" cy="1020240"/>
          </a:xfrm>
        </p:grpSpPr>
        <p:sp>
          <p:nvSpPr>
            <p:cNvPr id="4355" name=""/>
            <p:cNvSpPr/>
            <p:nvPr/>
          </p:nvSpPr>
          <p:spPr>
            <a:xfrm>
              <a:off x="851400" y="2743200"/>
              <a:ext cx="7826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例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6" name=""/>
                <p:cNvSpPr txBox="1"/>
                <p:nvPr/>
              </p:nvSpPr>
              <p:spPr>
                <a:xfrm>
                  <a:off x="1625760" y="2743200"/>
                  <a:ext cx="56386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B {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7" name=""/>
            <p:cNvSpPr/>
            <p:nvPr/>
          </p:nvSpPr>
          <p:spPr>
            <a:xfrm>
              <a:off x="2775240" y="3200400"/>
              <a:ext cx="354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用卡诺图表示并化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935640" y="3602160"/>
            <a:ext cx="97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429000" y="4876920"/>
            <a:ext cx="380880" cy="99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2743200" y="5486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3352680" y="5486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5029200" y="342900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取值为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相邻小方格圈成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1899720" y="1066680"/>
            <a:ext cx="4445280" cy="1553760"/>
            <a:chOff x="1899720" y="1066680"/>
            <a:chExt cx="4445280" cy="1553760"/>
          </a:xfrm>
        </p:grpSpPr>
        <p:sp>
          <p:nvSpPr>
            <p:cNvPr id="4364" name=""/>
            <p:cNvSpPr/>
            <p:nvPr/>
          </p:nvSpPr>
          <p:spPr>
            <a:xfrm>
              <a:off x="1899720" y="1447920"/>
              <a:ext cx="6073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步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2666880" y="1219320"/>
              <a:ext cx="76320" cy="13716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901960" y="1066680"/>
              <a:ext cx="12092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卡诺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047400" y="1523880"/>
              <a:ext cx="1635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合并最小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538440" y="2057400"/>
              <a:ext cx="2806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写出最简“与或”逻辑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9" name=""/>
          <p:cNvSpPr/>
          <p:nvPr/>
        </p:nvSpPr>
        <p:spPr>
          <a:xfrm>
            <a:off x="5105520" y="4495680"/>
            <a:ext cx="35049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所圈取值为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相邻小方格的个数应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lang="zh-CN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0,1,2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5099040" y="4683240"/>
            <a:ext cx="2053440" cy="1108080"/>
            <a:chOff x="5099040" y="4683240"/>
            <a:chExt cx="2053440" cy="1108080"/>
          </a:xfrm>
        </p:grpSpPr>
        <p:sp>
          <p:nvSpPr>
            <p:cNvPr id="246" name=""/>
            <p:cNvSpPr/>
            <p:nvPr/>
          </p:nvSpPr>
          <p:spPr>
            <a:xfrm>
              <a:off x="6786000" y="4988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784840" y="4761000"/>
              <a:ext cx="35568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99040" y="5791320"/>
              <a:ext cx="16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7400" y="470376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65760" y="5023080"/>
              <a:ext cx="142920" cy="4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37400" y="5470560"/>
              <a:ext cx="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7520" y="4724640"/>
              <a:ext cx="56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100120" y="4724640"/>
              <a:ext cx="6858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1200" y="468324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晶体管的开关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4360" y="21258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二极管的开关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3798720"/>
            <a:ext cx="641160" cy="447840"/>
            <a:chOff x="914400" y="3798720"/>
            <a:chExt cx="641160" cy="447840"/>
          </a:xfrm>
        </p:grpSpPr>
        <p:sp>
          <p:nvSpPr>
            <p:cNvPr id="259" name=""/>
            <p:cNvSpPr/>
            <p:nvPr/>
          </p:nvSpPr>
          <p:spPr>
            <a:xfrm>
              <a:off x="914400" y="4246560"/>
              <a:ext cx="35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270800" y="3798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70800" y="3798720"/>
              <a:ext cx="28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581120" y="3798720"/>
            <a:ext cx="285840" cy="447840"/>
            <a:chOff x="1581120" y="3798720"/>
            <a:chExt cx="285840" cy="447840"/>
          </a:xfrm>
        </p:grpSpPr>
        <p:sp>
          <p:nvSpPr>
            <p:cNvPr id="263" name=""/>
            <p:cNvSpPr/>
            <p:nvPr/>
          </p:nvSpPr>
          <p:spPr>
            <a:xfrm>
              <a:off x="1581120" y="3798720"/>
              <a:ext cx="0" cy="447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81120" y="4246560"/>
              <a:ext cx="285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2661480"/>
            <a:ext cx="1297080" cy="520560"/>
            <a:chOff x="838080" y="2661480"/>
            <a:chExt cx="1297080" cy="520560"/>
          </a:xfrm>
        </p:grpSpPr>
        <p:sp>
          <p:nvSpPr>
            <p:cNvPr id="266" name=""/>
            <p:cNvSpPr/>
            <p:nvPr/>
          </p:nvSpPr>
          <p:spPr>
            <a:xfrm>
              <a:off x="838080" y="2738160"/>
              <a:ext cx="1297080" cy="443160"/>
            </a:xfrm>
            <a:prstGeom prst="wedgeEllipseCallout">
              <a:avLst>
                <a:gd name="adj1" fmla="val 81578"/>
                <a:gd name="adj2" fmla="val 98027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37600" y="2661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导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886200" y="3048120"/>
            <a:ext cx="925560" cy="320400"/>
          </a:xfrm>
          <a:prstGeom prst="rightArrow">
            <a:avLst>
              <a:gd name="adj1" fmla="val 50000"/>
              <a:gd name="adj2" fmla="val 72219"/>
            </a:avLst>
          </a:prstGeom>
          <a:gradFill rotWithShape="0">
            <a:gsLst>
              <a:gs pos="0">
                <a:srgbClr val="33ccff"/>
              </a:gs>
              <a:gs pos="100000">
                <a:srgbClr val="008080"/>
              </a:gs>
            </a:gsLst>
            <a:lin ang="10800000"/>
          </a:gra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5241960"/>
            <a:ext cx="996840" cy="320760"/>
          </a:xfrm>
          <a:prstGeom prst="rightArrow">
            <a:avLst>
              <a:gd name="adj1" fmla="val 50000"/>
              <a:gd name="adj2" fmla="val 77694"/>
            </a:avLst>
          </a:prstGeom>
          <a:gradFill rotWithShape="0">
            <a:gsLst>
              <a:gs pos="0">
                <a:srgbClr val="008080"/>
              </a:gs>
              <a:gs pos="100000">
                <a:srgbClr val="ffff66"/>
              </a:gs>
            </a:gsLst>
            <a:lin ang="10800000"/>
          </a:gra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38080" y="2661480"/>
            <a:ext cx="1371600" cy="524520"/>
            <a:chOff x="838080" y="2661480"/>
            <a:chExt cx="1371600" cy="524520"/>
          </a:xfrm>
        </p:grpSpPr>
        <p:sp>
          <p:nvSpPr>
            <p:cNvPr id="271" name=""/>
            <p:cNvSpPr/>
            <p:nvPr/>
          </p:nvSpPr>
          <p:spPr>
            <a:xfrm>
              <a:off x="838080" y="2738160"/>
              <a:ext cx="1371600" cy="447840"/>
            </a:xfrm>
            <a:prstGeom prst="wedgeEllipseCallout">
              <a:avLst>
                <a:gd name="adj1" fmla="val 78356"/>
                <a:gd name="adj2" fmla="val 100708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3920" y="2661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截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553080" y="3733920"/>
            <a:ext cx="1768680" cy="761760"/>
          </a:xfrm>
          <a:prstGeom prst="wedgeEllipseCallout">
            <a:avLst>
              <a:gd name="adj1" fmla="val -78995"/>
              <a:gd name="adj2" fmla="val 77708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相当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开关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1600200"/>
            <a:ext cx="1752480" cy="838080"/>
          </a:xfrm>
          <a:prstGeom prst="wedgeEllipseCallout">
            <a:avLst>
              <a:gd name="adj1" fmla="val -70018"/>
              <a:gd name="adj2" fmla="val 67990"/>
            </a:avLst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相当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开关闭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562720" y="4037760"/>
            <a:ext cx="761760" cy="915120"/>
            <a:chOff x="5562720" y="4037760"/>
            <a:chExt cx="761760" cy="915120"/>
          </a:xfrm>
        </p:grpSpPr>
        <p:sp>
          <p:nvSpPr>
            <p:cNvPr id="276" name=""/>
            <p:cNvSpPr/>
            <p:nvPr/>
          </p:nvSpPr>
          <p:spPr>
            <a:xfrm>
              <a:off x="5715000" y="40377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 rot="16200000">
              <a:off x="5715000" y="4343400"/>
              <a:ext cx="457200" cy="7617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149120" y="32767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3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5680" y="38098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638320" y="2056680"/>
            <a:ext cx="762120" cy="838800"/>
            <a:chOff x="5638320" y="2056680"/>
            <a:chExt cx="762120" cy="838800"/>
          </a:xfrm>
        </p:grpSpPr>
        <p:sp>
          <p:nvSpPr>
            <p:cNvPr id="281" name=""/>
            <p:cNvSpPr/>
            <p:nvPr/>
          </p:nvSpPr>
          <p:spPr>
            <a:xfrm>
              <a:off x="5867280" y="205668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 rot="16200000">
              <a:off x="5790240" y="2285640"/>
              <a:ext cx="457200" cy="762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105520" y="2662200"/>
            <a:ext cx="2053080" cy="1136520"/>
            <a:chOff x="5105520" y="2662200"/>
            <a:chExt cx="2053080" cy="1136520"/>
          </a:xfrm>
        </p:grpSpPr>
        <p:sp>
          <p:nvSpPr>
            <p:cNvPr id="284" name=""/>
            <p:cNvSpPr/>
            <p:nvPr/>
          </p:nvSpPr>
          <p:spPr>
            <a:xfrm>
              <a:off x="6792120" y="304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05520" y="3798720"/>
              <a:ext cx="16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3880" y="2711520"/>
              <a:ext cx="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72240" y="3030480"/>
              <a:ext cx="142920" cy="4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43880" y="3478320"/>
              <a:ext cx="0" cy="3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5440" y="2705040"/>
              <a:ext cx="56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105520" y="2705040"/>
              <a:ext cx="78408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2662200"/>
              <a:ext cx="35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2668680"/>
              <a:ext cx="79560" cy="7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5880" y="2666880"/>
              <a:ext cx="79560" cy="79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05120" y="2966040"/>
            <a:ext cx="2066040" cy="1681920"/>
            <a:chOff x="1905120" y="2966040"/>
            <a:chExt cx="2066040" cy="1681920"/>
          </a:xfrm>
        </p:grpSpPr>
        <p:sp>
          <p:nvSpPr>
            <p:cNvPr id="295" name=""/>
            <p:cNvSpPr/>
            <p:nvPr/>
          </p:nvSpPr>
          <p:spPr>
            <a:xfrm>
              <a:off x="3604680" y="3880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26480" y="29660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905120" y="3348000"/>
              <a:ext cx="1708200" cy="1299960"/>
              <a:chOff x="1905120" y="3348000"/>
              <a:chExt cx="1708200" cy="1299960"/>
            </a:xfrm>
          </p:grpSpPr>
          <p:sp>
            <p:nvSpPr>
              <p:cNvPr id="298" name=""/>
              <p:cNvSpPr/>
              <p:nvPr/>
            </p:nvSpPr>
            <p:spPr>
              <a:xfrm>
                <a:off x="1905120" y="3560760"/>
                <a:ext cx="163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5120" y="4647960"/>
                <a:ext cx="163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08440" y="3348000"/>
                <a:ext cx="0" cy="43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42040" y="3560760"/>
                <a:ext cx="0" cy="32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70400" y="3881160"/>
                <a:ext cx="142920" cy="4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2040" y="4329000"/>
                <a:ext cx="0" cy="3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382000">
                <a:off x="2603520" y="342396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3952800" y="268128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3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55680" y="481500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"/>
          <p:cNvSpPr/>
          <p:nvPr/>
        </p:nvSpPr>
        <p:spPr>
          <a:xfrm>
            <a:off x="533520" y="6094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( 3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1" name=""/>
          <p:cNvGrpSpPr/>
          <p:nvPr/>
        </p:nvGrpSpPr>
        <p:grpSpPr>
          <a:xfrm>
            <a:off x="1447920" y="1294200"/>
            <a:ext cx="3352680" cy="1872720"/>
            <a:chOff x="1447920" y="1294200"/>
            <a:chExt cx="3352680" cy="1872720"/>
          </a:xfrm>
        </p:grpSpPr>
        <p:sp>
          <p:nvSpPr>
            <p:cNvPr id="4372" name=""/>
            <p:cNvSpPr/>
            <p:nvPr/>
          </p:nvSpPr>
          <p:spPr>
            <a:xfrm flipH="1" flipV="1">
              <a:off x="1676520" y="15652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447920" y="15228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676520" y="1294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057400" y="194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057400" y="2557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743200" y="194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057400" y="1522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0200" y="258948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0200" y="202284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429000" y="194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429000" y="2557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114800" y="194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7432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4290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1148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572640" y="1981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25844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296280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57264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958320" y="129528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3581280" y="2057400"/>
            <a:ext cx="381240" cy="990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2895480" y="2666880"/>
            <a:ext cx="114300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3505320" y="2666880"/>
            <a:ext cx="114300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5601600" y="2133720"/>
            <a:ext cx="2314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个圈最小项分别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449320" y="1468440"/>
            <a:ext cx="170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合并最小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7" name=""/>
              <p:cNvSpPr txBox="1"/>
              <p:nvPr/>
            </p:nvSpPr>
            <p:spPr>
              <a:xfrm>
                <a:off x="4997520" y="3429000"/>
                <a:ext cx="23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8" name=""/>
              <p:cNvSpPr txBox="1"/>
              <p:nvPr/>
            </p:nvSpPr>
            <p:spPr>
              <a:xfrm>
                <a:off x="4997520" y="2743200"/>
                <a:ext cx="23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9" name=""/>
              <p:cNvSpPr txBox="1"/>
              <p:nvPr/>
            </p:nvSpPr>
            <p:spPr>
              <a:xfrm>
                <a:off x="5091120" y="4114800"/>
                <a:ext cx="23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0" name=""/>
              <p:cNvSpPr txBox="1"/>
              <p:nvPr/>
            </p:nvSpPr>
            <p:spPr>
              <a:xfrm>
                <a:off x="7148520" y="2819520"/>
                <a:ext cx="1063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1" name=""/>
              <p:cNvSpPr txBox="1"/>
              <p:nvPr/>
            </p:nvSpPr>
            <p:spPr>
              <a:xfrm>
                <a:off x="7162920" y="3505320"/>
                <a:ext cx="1063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2" name=""/>
              <p:cNvSpPr txBox="1"/>
              <p:nvPr/>
            </p:nvSpPr>
            <p:spPr>
              <a:xfrm>
                <a:off x="7300800" y="4114800"/>
                <a:ext cx="1063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3" name=""/>
          <p:cNvSpPr/>
          <p:nvPr/>
        </p:nvSpPr>
        <p:spPr>
          <a:xfrm>
            <a:off x="1093680" y="3373560"/>
            <a:ext cx="214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4" name=""/>
              <p:cNvSpPr txBox="1"/>
              <p:nvPr/>
            </p:nvSpPr>
            <p:spPr>
              <a:xfrm>
                <a:off x="880920" y="4038480"/>
                <a:ext cx="3403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5" name=""/>
          <p:cNvSpPr/>
          <p:nvPr/>
        </p:nvSpPr>
        <p:spPr>
          <a:xfrm>
            <a:off x="685800" y="4724280"/>
            <a:ext cx="7772400" cy="563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卡诺图化简法：保留一个圈内最小项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相同变量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而消去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相反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6" name=""/>
          <p:cNvGrpSpPr/>
          <p:nvPr/>
        </p:nvGrpSpPr>
        <p:grpSpPr>
          <a:xfrm>
            <a:off x="990720" y="2437200"/>
            <a:ext cx="3352680" cy="1829880"/>
            <a:chOff x="990720" y="2437200"/>
            <a:chExt cx="3352680" cy="1829880"/>
          </a:xfrm>
        </p:grpSpPr>
        <p:sp>
          <p:nvSpPr>
            <p:cNvPr id="4407" name=""/>
            <p:cNvSpPr/>
            <p:nvPr/>
          </p:nvSpPr>
          <p:spPr>
            <a:xfrm>
              <a:off x="1600200" y="3657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286000" y="3048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600200" y="2622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971800" y="3657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657600" y="3048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2" name=""/>
            <p:cNvGrpSpPr/>
            <p:nvPr/>
          </p:nvGrpSpPr>
          <p:grpSpPr>
            <a:xfrm>
              <a:off x="990720" y="2437200"/>
              <a:ext cx="3352680" cy="1829880"/>
              <a:chOff x="990720" y="2437200"/>
              <a:chExt cx="3352680" cy="1829880"/>
            </a:xfrm>
          </p:grpSpPr>
          <p:sp>
            <p:nvSpPr>
              <p:cNvPr id="4413" name=""/>
              <p:cNvSpPr/>
              <p:nvPr/>
            </p:nvSpPr>
            <p:spPr>
              <a:xfrm flipH="1" flipV="1">
                <a:off x="1219320" y="2665440"/>
                <a:ext cx="380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990720" y="262296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219320" y="24372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1600200" y="304812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1143000" y="36900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1143000" y="31230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2971800" y="304812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22860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29718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36576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7434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743480" y="36910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24292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1150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7" name=""/>
          <p:cNvSpPr/>
          <p:nvPr/>
        </p:nvSpPr>
        <p:spPr>
          <a:xfrm>
            <a:off x="604440" y="236232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1752480" y="3124080"/>
            <a:ext cx="381240" cy="990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1676520" y="3124080"/>
            <a:ext cx="1143000" cy="381240"/>
          </a:xfrm>
          <a:prstGeom prst="ellipse">
            <a:avLst/>
          </a:prstGeom>
          <a:noFill/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2362320" y="3200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1805760" y="4495680"/>
            <a:ext cx="167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2" name=""/>
              <p:cNvSpPr txBox="1"/>
              <p:nvPr/>
            </p:nvSpPr>
            <p:spPr>
              <a:xfrm>
                <a:off x="1338120" y="5257800"/>
                <a:ext cx="2579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3" name=""/>
          <p:cNvSpPr/>
          <p:nvPr/>
        </p:nvSpPr>
        <p:spPr>
          <a:xfrm>
            <a:off x="2895480" y="3733920"/>
            <a:ext cx="914400" cy="457200"/>
          </a:xfrm>
          <a:prstGeom prst="wedgeRoundRectCallout">
            <a:avLst>
              <a:gd name="adj1" fmla="val -117708"/>
              <a:gd name="adj2" fmla="val -126041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多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4" name=""/>
          <p:cNvGrpSpPr/>
          <p:nvPr/>
        </p:nvGrpSpPr>
        <p:grpSpPr>
          <a:xfrm>
            <a:off x="4572000" y="2208600"/>
            <a:ext cx="3581280" cy="3164400"/>
            <a:chOff x="4572000" y="2208600"/>
            <a:chExt cx="3581280" cy="3164400"/>
          </a:xfrm>
        </p:grpSpPr>
        <p:sp>
          <p:nvSpPr>
            <p:cNvPr id="4435" name=""/>
            <p:cNvSpPr/>
            <p:nvPr/>
          </p:nvSpPr>
          <p:spPr>
            <a:xfrm>
              <a:off x="5410080" y="28954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410080" y="35053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095880" y="28954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 flipV="1">
              <a:off x="5029200" y="251460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572000" y="24706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410080" y="24706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781680" y="28954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781680" y="35053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467480" y="28954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0958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7816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4674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4876920" y="220860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4800600" y="2970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4800600" y="35042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4800600" y="4113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4800600" y="4723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410080" y="41148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410080" y="47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095880" y="4114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781680" y="41148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781680" y="47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7467480" y="4114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477400" y="28954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7763400" y="28954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477400" y="48769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687080" y="4800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5410080" y="2895480"/>
            <a:ext cx="2743200" cy="2438640"/>
            <a:chOff x="5410080" y="2895480"/>
            <a:chExt cx="2743200" cy="2438640"/>
          </a:xfrm>
        </p:grpSpPr>
        <p:sp>
          <p:nvSpPr>
            <p:cNvPr id="4463" name=""/>
            <p:cNvSpPr/>
            <p:nvPr/>
          </p:nvSpPr>
          <p:spPr>
            <a:xfrm>
              <a:off x="5410080" y="4876920"/>
              <a:ext cx="533520" cy="4572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64" y="216"/>
                    <a:pt x="336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6201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56" y="0"/>
                  </a:moveTo>
                  <a:cubicBezTo>
                    <a:pt x="28" y="116"/>
                    <a:pt x="0" y="232"/>
                    <a:pt x="56" y="288"/>
                  </a:cubicBezTo>
                  <a:cubicBezTo>
                    <a:pt x="112" y="344"/>
                    <a:pt x="252" y="340"/>
                    <a:pt x="392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7696080" y="480060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288" y="48"/>
                  </a:moveTo>
                  <a:cubicBezTo>
                    <a:pt x="192" y="24"/>
                    <a:pt x="96" y="0"/>
                    <a:pt x="48" y="48"/>
                  </a:cubicBezTo>
                  <a:cubicBezTo>
                    <a:pt x="0" y="96"/>
                    <a:pt x="0" y="216"/>
                    <a:pt x="0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410080" y="2895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288" y="96"/>
                    <a:pt x="288" y="192"/>
                    <a:pt x="240" y="240"/>
                  </a:cubicBezTo>
                  <a:cubicBezTo>
                    <a:pt x="192" y="288"/>
                    <a:pt x="96" y="288"/>
                    <a:pt x="0" y="288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7" name=""/>
          <p:cNvGrpSpPr/>
          <p:nvPr/>
        </p:nvGrpSpPr>
        <p:grpSpPr>
          <a:xfrm>
            <a:off x="5649480" y="2841480"/>
            <a:ext cx="2232720" cy="2228040"/>
            <a:chOff x="5649480" y="2841480"/>
            <a:chExt cx="2232720" cy="2228040"/>
          </a:xfrm>
        </p:grpSpPr>
        <p:sp>
          <p:nvSpPr>
            <p:cNvPr id="4468" name=""/>
            <p:cNvSpPr/>
            <p:nvPr/>
          </p:nvSpPr>
          <p:spPr>
            <a:xfrm rot="2673000">
              <a:off x="5867280" y="3276720"/>
              <a:ext cx="1797120" cy="1357200"/>
            </a:xfrm>
            <a:custGeom>
              <a:avLst/>
              <a:gdLst>
                <a:gd name="textAreaLeft" fmla="*/ 319320 w 1797120"/>
                <a:gd name="textAreaRight" fmla="*/ 1477800 w 1797120"/>
                <a:gd name="textAreaTop" fmla="*/ 241200 h 1357200"/>
                <a:gd name="textAreaBottom" fmla="*/ 1116000 h 13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1" y="3841"/>
                  </a:moveTo>
                  <a:lnTo>
                    <a:pt x="9400" y="3841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3841"/>
                  </a:lnTo>
                  <a:lnTo>
                    <a:pt x="17759" y="3841"/>
                  </a:lnTo>
                  <a:lnTo>
                    <a:pt x="17759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7759" y="12200"/>
                  </a:lnTo>
                  <a:lnTo>
                    <a:pt x="17759" y="17759"/>
                  </a:lnTo>
                  <a:lnTo>
                    <a:pt x="12200" y="17759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7759"/>
                  </a:lnTo>
                  <a:lnTo>
                    <a:pt x="3841" y="17759"/>
                  </a:lnTo>
                  <a:lnTo>
                    <a:pt x="3841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3841" y="9400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248520" y="3657600"/>
              <a:ext cx="1066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相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70" name=""/>
              <p:cNvSpPr txBox="1"/>
              <p:nvPr/>
            </p:nvSpPr>
            <p:spPr>
              <a:xfrm>
                <a:off x="5378400" y="5486400"/>
                <a:ext cx="1579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71" name=""/>
          <p:cNvSpPr/>
          <p:nvPr/>
        </p:nvSpPr>
        <p:spPr>
          <a:xfrm>
            <a:off x="609480" y="533520"/>
            <a:ext cx="5639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2" name=""/>
          <p:cNvGrpSpPr/>
          <p:nvPr/>
        </p:nvGrpSpPr>
        <p:grpSpPr>
          <a:xfrm>
            <a:off x="685800" y="1066680"/>
            <a:ext cx="6499080" cy="604800"/>
            <a:chOff x="685800" y="1066680"/>
            <a:chExt cx="6499080" cy="604800"/>
          </a:xfrm>
        </p:grpSpPr>
        <mc:AlternateContent>
          <mc:Choice xmlns:a14="http://schemas.microsoft.com/office/drawing/2010/main" Requires="a14">
            <p:sp>
              <p:nvSpPr>
                <p:cNvPr id="4473" name=""/>
                <p:cNvSpPr txBox="1"/>
                <p:nvPr/>
              </p:nvSpPr>
              <p:spPr>
                <a:xfrm>
                  <a:off x="1133640" y="1066680"/>
                  <a:ext cx="60512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474" name=""/>
            <p:cNvSpPr/>
            <p:nvPr/>
          </p:nvSpPr>
          <p:spPr>
            <a:xfrm>
              <a:off x="685800" y="1066680"/>
              <a:ext cx="914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609480" y="1600200"/>
            <a:ext cx="8089920" cy="604800"/>
            <a:chOff x="609480" y="1600200"/>
            <a:chExt cx="8089920" cy="604800"/>
          </a:xfrm>
        </p:grpSpPr>
        <p:sp>
          <p:nvSpPr>
            <p:cNvPr id="4476" name=""/>
            <p:cNvSpPr/>
            <p:nvPr/>
          </p:nvSpPr>
          <p:spPr>
            <a:xfrm>
              <a:off x="609480" y="1600200"/>
              <a:ext cx="914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7" name=""/>
                <p:cNvSpPr txBox="1"/>
                <p:nvPr/>
              </p:nvSpPr>
              <p:spPr>
                <a:xfrm>
                  <a:off x="1066680" y="1600200"/>
                  <a:ext cx="76327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C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"/>
          <p:cNvSpPr/>
          <p:nvPr/>
        </p:nvSpPr>
        <p:spPr>
          <a:xfrm>
            <a:off x="833040" y="182880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1348560" y="5105520"/>
            <a:ext cx="167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0" name=""/>
              <p:cNvSpPr txBox="1"/>
              <p:nvPr/>
            </p:nvSpPr>
            <p:spPr>
              <a:xfrm>
                <a:off x="3259080" y="5638680"/>
                <a:ext cx="2166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481" name=""/>
          <p:cNvGrpSpPr/>
          <p:nvPr/>
        </p:nvGrpSpPr>
        <p:grpSpPr>
          <a:xfrm>
            <a:off x="1295280" y="1751400"/>
            <a:ext cx="3581640" cy="3125520"/>
            <a:chOff x="1295280" y="1751400"/>
            <a:chExt cx="3581640" cy="3125520"/>
          </a:xfrm>
        </p:grpSpPr>
        <p:sp>
          <p:nvSpPr>
            <p:cNvPr id="4482" name=""/>
            <p:cNvSpPr/>
            <p:nvPr/>
          </p:nvSpPr>
          <p:spPr>
            <a:xfrm>
              <a:off x="2133720" y="24382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133720" y="3048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819520" y="2438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H="1" flipV="1">
              <a:off x="1752120" y="20574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1295280" y="20134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133720" y="20134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505320" y="24382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505320" y="3048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191120" y="2438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8195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5053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1911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1600200" y="175140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23880" y="25135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523880" y="30470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523880" y="36565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1523880" y="4266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133720" y="365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133720" y="4267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819520" y="365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505320" y="365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505320" y="4267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191120" y="365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5" name=""/>
          <p:cNvSpPr/>
          <p:nvPr/>
        </p:nvSpPr>
        <p:spPr>
          <a:xfrm>
            <a:off x="4334400" y="3733920"/>
            <a:ext cx="35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762120" y="533520"/>
            <a:ext cx="5638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7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7" name=""/>
              <p:cNvSpPr txBox="1"/>
              <p:nvPr/>
            </p:nvSpPr>
            <p:spPr>
              <a:xfrm>
                <a:off x="1015920" y="1143000"/>
                <a:ext cx="4570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508" name=""/>
          <p:cNvGrpSpPr/>
          <p:nvPr/>
        </p:nvGrpSpPr>
        <p:grpSpPr>
          <a:xfrm>
            <a:off x="2277000" y="2514600"/>
            <a:ext cx="2412000" cy="1105560"/>
            <a:chOff x="2277000" y="2514600"/>
            <a:chExt cx="2412000" cy="1105560"/>
          </a:xfrm>
        </p:grpSpPr>
        <p:sp>
          <p:nvSpPr>
            <p:cNvPr id="4509" name=""/>
            <p:cNvSpPr/>
            <p:nvPr/>
          </p:nvSpPr>
          <p:spPr>
            <a:xfrm>
              <a:off x="43344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343400" y="2514600"/>
              <a:ext cx="336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9628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6486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2770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9628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6486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2770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7" name=""/>
          <p:cNvSpPr/>
          <p:nvPr/>
        </p:nvSpPr>
        <p:spPr>
          <a:xfrm>
            <a:off x="1676520" y="1066680"/>
            <a:ext cx="609480" cy="685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2133720" y="2438280"/>
            <a:ext cx="274320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3581280" y="167652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4800600" y="16765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2277000" y="3733920"/>
            <a:ext cx="35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2" name=""/>
          <p:cNvGrpSpPr/>
          <p:nvPr/>
        </p:nvGrpSpPr>
        <p:grpSpPr>
          <a:xfrm>
            <a:off x="5181480" y="1828800"/>
            <a:ext cx="2133720" cy="685800"/>
            <a:chOff x="5181480" y="1828800"/>
            <a:chExt cx="2133720" cy="685800"/>
          </a:xfrm>
        </p:grpSpPr>
        <p:sp>
          <p:nvSpPr>
            <p:cNvPr id="4523" name=""/>
            <p:cNvSpPr/>
            <p:nvPr/>
          </p:nvSpPr>
          <p:spPr>
            <a:xfrm>
              <a:off x="5181480" y="1828800"/>
              <a:ext cx="2133720" cy="685800"/>
            </a:xfrm>
            <a:prstGeom prst="wedgeRoundRectCallout">
              <a:avLst>
                <a:gd name="adj1" fmla="val -90699"/>
                <a:gd name="adj2" fmla="val 69444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含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均填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5562720" y="2052720"/>
              <a:ext cx="2286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257800" y="2514600"/>
            <a:ext cx="3711600" cy="2632320"/>
            <a:chOff x="5257800" y="2514600"/>
            <a:chExt cx="3711600" cy="2632320"/>
          </a:xfrm>
        </p:grpSpPr>
        <p:sp>
          <p:nvSpPr>
            <p:cNvPr id="4526" name=""/>
            <p:cNvSpPr/>
            <p:nvPr/>
          </p:nvSpPr>
          <p:spPr>
            <a:xfrm>
              <a:off x="5334120" y="2514600"/>
              <a:ext cx="14479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注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5783040" y="3048120"/>
              <a:ext cx="2062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圈的个数应最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5911560" y="3581280"/>
              <a:ext cx="2166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每个“圈”要最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5257800" y="4114800"/>
              <a:ext cx="37116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每个“圈”至少要包含一个未被圈过的最小项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0" name=""/>
          <p:cNvGrpSpPr/>
          <p:nvPr/>
        </p:nvGrpSpPr>
        <p:grpSpPr>
          <a:xfrm>
            <a:off x="2133720" y="3124080"/>
            <a:ext cx="2743200" cy="1143000"/>
            <a:chOff x="2133720" y="3124080"/>
            <a:chExt cx="2743200" cy="1143000"/>
          </a:xfrm>
        </p:grpSpPr>
        <p:sp>
          <p:nvSpPr>
            <p:cNvPr id="4531" name=""/>
            <p:cNvSpPr/>
            <p:nvPr/>
          </p:nvSpPr>
          <p:spPr>
            <a:xfrm>
              <a:off x="2133720" y="3124080"/>
              <a:ext cx="533160" cy="1143000"/>
            </a:xfrm>
            <a:custGeom>
              <a:avLst/>
              <a:gdLst/>
              <a:ahLst/>
              <a:rect l="l" t="t" r="r" b="b"/>
              <a:pathLst>
                <a:path w="440" h="832">
                  <a:moveTo>
                    <a:pt x="0" y="104"/>
                  </a:moveTo>
                  <a:cubicBezTo>
                    <a:pt x="164" y="52"/>
                    <a:pt x="328" y="0"/>
                    <a:pt x="384" y="104"/>
                  </a:cubicBezTo>
                  <a:cubicBezTo>
                    <a:pt x="440" y="208"/>
                    <a:pt x="400" y="624"/>
                    <a:pt x="336" y="728"/>
                  </a:cubicBezTo>
                  <a:cubicBezTo>
                    <a:pt x="272" y="832"/>
                    <a:pt x="56" y="728"/>
                    <a:pt x="0" y="72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67080" y="3124080"/>
              <a:ext cx="609840" cy="1143000"/>
            </a:xfrm>
            <a:custGeom>
              <a:avLst/>
              <a:gdLst/>
              <a:ahLst/>
              <a:rect l="l" t="t" r="r" b="b"/>
              <a:pathLst>
                <a:path w="384" h="816">
                  <a:moveTo>
                    <a:pt x="384" y="104"/>
                  </a:moveTo>
                  <a:cubicBezTo>
                    <a:pt x="240" y="52"/>
                    <a:pt x="96" y="0"/>
                    <a:pt x="48" y="104"/>
                  </a:cubicBezTo>
                  <a:cubicBezTo>
                    <a:pt x="0" y="208"/>
                    <a:pt x="40" y="640"/>
                    <a:pt x="96" y="728"/>
                  </a:cubicBezTo>
                  <a:cubicBezTo>
                    <a:pt x="152" y="816"/>
                    <a:pt x="268" y="724"/>
                    <a:pt x="384" y="6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1.7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组合逻辑电路的分析与综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4" name=""/>
          <p:cNvGrpSpPr/>
          <p:nvPr/>
        </p:nvGrpSpPr>
        <p:grpSpPr>
          <a:xfrm>
            <a:off x="1006560" y="1447920"/>
            <a:ext cx="7086600" cy="605880"/>
            <a:chOff x="1006560" y="1447920"/>
            <a:chExt cx="7086600" cy="605880"/>
          </a:xfrm>
        </p:grpSpPr>
        <p:sp>
          <p:nvSpPr>
            <p:cNvPr id="4535" name=""/>
            <p:cNvSpPr/>
            <p:nvPr/>
          </p:nvSpPr>
          <p:spPr>
            <a:xfrm>
              <a:off x="1006560" y="1447920"/>
              <a:ext cx="708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组合逻辑电路：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任何时刻电路的输出状态只取决于该时刻的输入状态，而与该时刻以前的电路状态无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235160" y="1447920"/>
              <a:ext cx="485640" cy="4568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7" name=""/>
          <p:cNvSpPr/>
          <p:nvPr/>
        </p:nvSpPr>
        <p:spPr>
          <a:xfrm>
            <a:off x="3488400" y="5195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组合逻辑电路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8" name=""/>
          <p:cNvGrpSpPr/>
          <p:nvPr/>
        </p:nvGrpSpPr>
        <p:grpSpPr>
          <a:xfrm>
            <a:off x="847080" y="3443400"/>
            <a:ext cx="7313040" cy="1652760"/>
            <a:chOff x="847080" y="3443400"/>
            <a:chExt cx="7313040" cy="1652760"/>
          </a:xfrm>
        </p:grpSpPr>
        <p:sp>
          <p:nvSpPr>
            <p:cNvPr id="4539" name=""/>
            <p:cNvSpPr/>
            <p:nvPr/>
          </p:nvSpPr>
          <p:spPr>
            <a:xfrm>
              <a:off x="2161080" y="344340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234880" y="4510080"/>
              <a:ext cx="48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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161080" y="382428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2" name=""/>
            <p:cNvGrpSpPr/>
            <p:nvPr/>
          </p:nvGrpSpPr>
          <p:grpSpPr>
            <a:xfrm>
              <a:off x="6492960" y="3519360"/>
              <a:ext cx="517320" cy="1576800"/>
              <a:chOff x="6492960" y="3519360"/>
              <a:chExt cx="517320" cy="1576800"/>
            </a:xfrm>
          </p:grpSpPr>
          <p:sp>
            <p:nvSpPr>
              <p:cNvPr id="4543" name=""/>
              <p:cNvSpPr/>
              <p:nvPr/>
            </p:nvSpPr>
            <p:spPr>
              <a:xfrm>
                <a:off x="6501960" y="3900240"/>
                <a:ext cx="45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501960" y="3519360"/>
                <a:ext cx="45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492960" y="458604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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6" name=""/>
            <p:cNvSpPr/>
            <p:nvPr/>
          </p:nvSpPr>
          <p:spPr>
            <a:xfrm>
              <a:off x="3382920" y="3519360"/>
              <a:ext cx="233352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682720" y="3780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682720" y="40338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682720" y="4815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730840" y="4815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716440" y="40338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716440" y="377676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rot="5400000">
              <a:off x="5576040" y="4128480"/>
              <a:ext cx="106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"/>
                </a:rPr>
                <a:t>. .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rot="5382600">
              <a:off x="2587320" y="4067640"/>
              <a:ext cx="95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"/>
                </a:rPr>
                <a:t>. .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801600" y="390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组合逻辑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844640" y="3551400"/>
              <a:ext cx="228600" cy="1295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rot="10800000">
              <a:off x="7102080" y="3627000"/>
              <a:ext cx="228600" cy="1295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847080" y="3908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7552800" y="3908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1.7.1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组合逻辑电路的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1782000" y="324792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由逻辑图写出输出端的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2480" y="388296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用逻辑代数化简或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1212840" y="449280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1212840" y="510696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1729080" y="1698480"/>
            <a:ext cx="16437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已知逻辑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3886200" y="202716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3434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6064200" y="1698480"/>
            <a:ext cx="115596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逻辑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109764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分析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0" name="" descr=""/>
          <p:cNvPicPr/>
          <p:nvPr/>
        </p:nvPicPr>
        <p:blipFill>
          <a:blip r:embed="rId3"/>
          <a:stretch/>
        </p:blipFill>
        <p:spPr>
          <a:xfrm>
            <a:off x="7162920" y="4495680"/>
            <a:ext cx="12459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571" name=""/>
          <p:cNvGrpSpPr/>
          <p:nvPr/>
        </p:nvGrpSpPr>
        <p:grpSpPr>
          <a:xfrm>
            <a:off x="762120" y="5791320"/>
            <a:ext cx="5781600" cy="171000"/>
            <a:chOff x="762120" y="5791320"/>
            <a:chExt cx="5781600" cy="171000"/>
          </a:xfrm>
        </p:grpSpPr>
        <p:pic>
          <p:nvPicPr>
            <p:cNvPr id="4572" name="" descr=""/>
            <p:cNvPicPr/>
            <p:nvPr/>
          </p:nvPicPr>
          <p:blipFill>
            <a:blip r:embed="rId4"/>
            <a:stretch/>
          </p:blipFill>
          <p:spPr>
            <a:xfrm>
              <a:off x="1667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3" name="" descr=""/>
            <p:cNvPicPr/>
            <p:nvPr/>
          </p:nvPicPr>
          <p:blipFill>
            <a:blip r:embed="rId5"/>
            <a:stretch/>
          </p:blipFill>
          <p:spPr>
            <a:xfrm>
              <a:off x="1809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4" name="" descr=""/>
            <p:cNvPicPr/>
            <p:nvPr/>
          </p:nvPicPr>
          <p:blipFill>
            <a:blip r:embed="rId6"/>
            <a:stretch/>
          </p:blipFill>
          <p:spPr>
            <a:xfrm>
              <a:off x="197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5" name="" descr=""/>
            <p:cNvPicPr/>
            <p:nvPr/>
          </p:nvPicPr>
          <p:blipFill>
            <a:blip r:embed="rId7"/>
            <a:stretch/>
          </p:blipFill>
          <p:spPr>
            <a:xfrm>
              <a:off x="2266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6" name="" descr=""/>
            <p:cNvPicPr/>
            <p:nvPr/>
          </p:nvPicPr>
          <p:blipFill>
            <a:blip r:embed="rId8"/>
            <a:stretch/>
          </p:blipFill>
          <p:spPr>
            <a:xfrm>
              <a:off x="2428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7" name="" descr=""/>
            <p:cNvPicPr/>
            <p:nvPr/>
          </p:nvPicPr>
          <p:blipFill>
            <a:blip r:embed="rId9"/>
            <a:stretch/>
          </p:blipFill>
          <p:spPr>
            <a:xfrm>
              <a:off x="2581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8" name="" descr=""/>
            <p:cNvPicPr/>
            <p:nvPr/>
          </p:nvPicPr>
          <p:blipFill>
            <a:blip r:embed="rId10"/>
            <a:stretch/>
          </p:blipFill>
          <p:spPr>
            <a:xfrm>
              <a:off x="2724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9" name="" descr=""/>
            <p:cNvPicPr/>
            <p:nvPr/>
          </p:nvPicPr>
          <p:blipFill>
            <a:blip r:embed="rId11"/>
            <a:stretch/>
          </p:blipFill>
          <p:spPr>
            <a:xfrm>
              <a:off x="2886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0" name="" descr=""/>
            <p:cNvPicPr/>
            <p:nvPr/>
          </p:nvPicPr>
          <p:blipFill>
            <a:blip r:embed="rId12"/>
            <a:stretch/>
          </p:blipFill>
          <p:spPr>
            <a:xfrm>
              <a:off x="3181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1" name="" descr=""/>
            <p:cNvPicPr/>
            <p:nvPr/>
          </p:nvPicPr>
          <p:blipFill>
            <a:blip r:embed="rId13"/>
            <a:stretch/>
          </p:blipFill>
          <p:spPr>
            <a:xfrm>
              <a:off x="3343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2" name="" descr=""/>
            <p:cNvPicPr/>
            <p:nvPr/>
          </p:nvPicPr>
          <p:blipFill>
            <a:blip r:embed="rId14"/>
            <a:stretch/>
          </p:blipFill>
          <p:spPr>
            <a:xfrm>
              <a:off x="3495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3" name="" descr=""/>
            <p:cNvPicPr/>
            <p:nvPr/>
          </p:nvPicPr>
          <p:blipFill>
            <a:blip r:embed="rId15"/>
            <a:stretch/>
          </p:blipFill>
          <p:spPr>
            <a:xfrm>
              <a:off x="3638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4" name="" descr=""/>
            <p:cNvPicPr/>
            <p:nvPr/>
          </p:nvPicPr>
          <p:blipFill>
            <a:blip r:embed="rId16"/>
            <a:stretch/>
          </p:blipFill>
          <p:spPr>
            <a:xfrm>
              <a:off x="2124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5" name="" descr=""/>
            <p:cNvPicPr/>
            <p:nvPr/>
          </p:nvPicPr>
          <p:blipFill>
            <a:blip r:embed="rId17"/>
            <a:stretch/>
          </p:blipFill>
          <p:spPr>
            <a:xfrm>
              <a:off x="3038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6" name="" descr=""/>
            <p:cNvPicPr/>
            <p:nvPr/>
          </p:nvPicPr>
          <p:blipFill>
            <a:blip r:embed="rId18"/>
            <a:stretch/>
          </p:blipFill>
          <p:spPr>
            <a:xfrm>
              <a:off x="3800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7" name="" descr=""/>
            <p:cNvPicPr/>
            <p:nvPr/>
          </p:nvPicPr>
          <p:blipFill>
            <a:blip r:embed="rId19"/>
            <a:stretch/>
          </p:blipFill>
          <p:spPr>
            <a:xfrm>
              <a:off x="3953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8" name="" descr=""/>
            <p:cNvPicPr/>
            <p:nvPr/>
          </p:nvPicPr>
          <p:blipFill>
            <a:blip r:embed="rId20"/>
            <a:stretch/>
          </p:blipFill>
          <p:spPr>
            <a:xfrm>
              <a:off x="4095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9" name="" descr=""/>
            <p:cNvPicPr/>
            <p:nvPr/>
          </p:nvPicPr>
          <p:blipFill>
            <a:blip r:embed="rId21"/>
            <a:stretch/>
          </p:blipFill>
          <p:spPr>
            <a:xfrm>
              <a:off x="4257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0" name="" descr=""/>
            <p:cNvPicPr/>
            <p:nvPr/>
          </p:nvPicPr>
          <p:blipFill>
            <a:blip r:embed="rId22"/>
            <a:stretch/>
          </p:blipFill>
          <p:spPr>
            <a:xfrm>
              <a:off x="4410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1" name="" descr=""/>
            <p:cNvPicPr/>
            <p:nvPr/>
          </p:nvPicPr>
          <p:blipFill>
            <a:blip r:embed="rId23"/>
            <a:stretch/>
          </p:blipFill>
          <p:spPr>
            <a:xfrm>
              <a:off x="4552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2" name="" descr=""/>
            <p:cNvPicPr/>
            <p:nvPr/>
          </p:nvPicPr>
          <p:blipFill>
            <a:blip r:embed="rId24"/>
            <a:stretch/>
          </p:blipFill>
          <p:spPr>
            <a:xfrm>
              <a:off x="4714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3" name="" descr=""/>
            <p:cNvPicPr/>
            <p:nvPr/>
          </p:nvPicPr>
          <p:blipFill>
            <a:blip r:embed="rId25"/>
            <a:stretch/>
          </p:blipFill>
          <p:spPr>
            <a:xfrm>
              <a:off x="5010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4" name="" descr=""/>
            <p:cNvPicPr/>
            <p:nvPr/>
          </p:nvPicPr>
          <p:blipFill>
            <a:blip r:embed="rId26"/>
            <a:stretch/>
          </p:blipFill>
          <p:spPr>
            <a:xfrm>
              <a:off x="5172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5" name="" descr=""/>
            <p:cNvPicPr/>
            <p:nvPr/>
          </p:nvPicPr>
          <p:blipFill>
            <a:blip r:embed="rId27"/>
            <a:stretch/>
          </p:blipFill>
          <p:spPr>
            <a:xfrm>
              <a:off x="5324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6" name="" descr=""/>
            <p:cNvPicPr/>
            <p:nvPr/>
          </p:nvPicPr>
          <p:blipFill>
            <a:blip r:embed="rId28"/>
            <a:stretch/>
          </p:blipFill>
          <p:spPr>
            <a:xfrm>
              <a:off x="5467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7" name="" descr=""/>
            <p:cNvPicPr/>
            <p:nvPr/>
          </p:nvPicPr>
          <p:blipFill>
            <a:blip r:embed="rId29"/>
            <a:stretch/>
          </p:blipFill>
          <p:spPr>
            <a:xfrm>
              <a:off x="4867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8" name="" descr=""/>
            <p:cNvPicPr/>
            <p:nvPr/>
          </p:nvPicPr>
          <p:blipFill>
            <a:blip r:embed="rId30"/>
            <a:stretch/>
          </p:blipFill>
          <p:spPr>
            <a:xfrm>
              <a:off x="5629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9" name="" descr=""/>
            <p:cNvPicPr/>
            <p:nvPr/>
          </p:nvPicPr>
          <p:blipFill>
            <a:blip r:embed="rId31"/>
            <a:stretch/>
          </p:blipFill>
          <p:spPr>
            <a:xfrm>
              <a:off x="5924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0" name="" descr=""/>
            <p:cNvPicPr/>
            <p:nvPr/>
          </p:nvPicPr>
          <p:blipFill>
            <a:blip r:embed="rId32"/>
            <a:stretch/>
          </p:blipFill>
          <p:spPr>
            <a:xfrm>
              <a:off x="6086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1" name="" descr=""/>
            <p:cNvPicPr/>
            <p:nvPr/>
          </p:nvPicPr>
          <p:blipFill>
            <a:blip r:embed="rId33"/>
            <a:stretch/>
          </p:blipFill>
          <p:spPr>
            <a:xfrm>
              <a:off x="6239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2" name="" descr=""/>
            <p:cNvPicPr/>
            <p:nvPr/>
          </p:nvPicPr>
          <p:blipFill>
            <a:blip r:embed="rId34"/>
            <a:stretch/>
          </p:blipFill>
          <p:spPr>
            <a:xfrm>
              <a:off x="638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3" name="" descr=""/>
            <p:cNvPicPr/>
            <p:nvPr/>
          </p:nvPicPr>
          <p:blipFill>
            <a:blip r:embed="rId35"/>
            <a:stretch/>
          </p:blipFill>
          <p:spPr>
            <a:xfrm>
              <a:off x="5781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4" name=""/>
            <p:cNvGrpSpPr/>
            <p:nvPr/>
          </p:nvGrpSpPr>
          <p:grpSpPr>
            <a:xfrm>
              <a:off x="762120" y="5791320"/>
              <a:ext cx="923760" cy="161640"/>
              <a:chOff x="762120" y="5791320"/>
              <a:chExt cx="923760" cy="161640"/>
            </a:xfrm>
          </p:grpSpPr>
          <p:pic>
            <p:nvPicPr>
              <p:cNvPr id="460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9050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0670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2193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3622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5242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621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"/>
          <p:cNvSpPr/>
          <p:nvPr/>
        </p:nvSpPr>
        <p:spPr>
          <a:xfrm>
            <a:off x="1454760" y="699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1136160" y="41904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3" name=""/>
          <p:cNvGrpSpPr/>
          <p:nvPr/>
        </p:nvGrpSpPr>
        <p:grpSpPr>
          <a:xfrm>
            <a:off x="1181160" y="5048280"/>
            <a:ext cx="2133720" cy="648720"/>
            <a:chOff x="1181160" y="5048280"/>
            <a:chExt cx="2133720" cy="648720"/>
          </a:xfrm>
        </p:grpSpPr>
        <p:sp>
          <p:nvSpPr>
            <p:cNvPr id="4614" name=""/>
            <p:cNvSpPr/>
            <p:nvPr/>
          </p:nvSpPr>
          <p:spPr>
            <a:xfrm>
              <a:off x="1181160" y="5048280"/>
              <a:ext cx="2133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99"/>
                  </a:solidFill>
                  <a:latin typeface=""/>
                </a:rPr>
                <a:t>2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943280" y="5124600"/>
              <a:ext cx="838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3009960" y="4896000"/>
            <a:ext cx="3276720" cy="810000"/>
            <a:chOff x="3009960" y="4896000"/>
            <a:chExt cx="3276720" cy="810000"/>
          </a:xfrm>
        </p:grpSpPr>
        <p:sp>
          <p:nvSpPr>
            <p:cNvPr id="4617" name=""/>
            <p:cNvSpPr/>
            <p:nvPr/>
          </p:nvSpPr>
          <p:spPr>
            <a:xfrm>
              <a:off x="3009960" y="51246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  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219640" y="4896000"/>
              <a:ext cx="381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3687120" y="48960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601520" y="48960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1" name=""/>
            <p:cNvGrpSpPr/>
            <p:nvPr/>
          </p:nvGrpSpPr>
          <p:grpSpPr>
            <a:xfrm>
              <a:off x="3543480" y="5048280"/>
              <a:ext cx="2438280" cy="152280"/>
              <a:chOff x="3543480" y="5048280"/>
              <a:chExt cx="2438280" cy="152280"/>
            </a:xfrm>
          </p:grpSpPr>
          <p:sp>
            <p:nvSpPr>
              <p:cNvPr id="4622" name=""/>
              <p:cNvSpPr/>
              <p:nvPr/>
            </p:nvSpPr>
            <p:spPr>
              <a:xfrm>
                <a:off x="4152960" y="5200560"/>
                <a:ext cx="4568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524560" y="5200560"/>
                <a:ext cx="4568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543480" y="5124600"/>
                <a:ext cx="1066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914720" y="5124600"/>
                <a:ext cx="1066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543480" y="5048280"/>
                <a:ext cx="2438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7" name=""/>
          <p:cNvGrpSpPr/>
          <p:nvPr/>
        </p:nvGrpSpPr>
        <p:grpSpPr>
          <a:xfrm>
            <a:off x="2971800" y="2514600"/>
            <a:ext cx="762120" cy="764280"/>
            <a:chOff x="2971800" y="2514600"/>
            <a:chExt cx="762120" cy="764280"/>
          </a:xfrm>
        </p:grpSpPr>
        <p:sp>
          <p:nvSpPr>
            <p:cNvPr id="4628" name=""/>
            <p:cNvSpPr/>
            <p:nvPr/>
          </p:nvSpPr>
          <p:spPr>
            <a:xfrm>
              <a:off x="2971800" y="2819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3200400" y="25146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3048120" y="2895480"/>
              <a:ext cx="6094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5416920" y="1066680"/>
            <a:ext cx="1477080" cy="797400"/>
            <a:chOff x="5416920" y="1066680"/>
            <a:chExt cx="1477080" cy="797400"/>
          </a:xfrm>
        </p:grpSpPr>
        <p:sp>
          <p:nvSpPr>
            <p:cNvPr id="4632" name=""/>
            <p:cNvSpPr/>
            <p:nvPr/>
          </p:nvSpPr>
          <p:spPr>
            <a:xfrm>
              <a:off x="5772960" y="10666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5966640" y="140436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6244920" y="1066680"/>
              <a:ext cx="37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152040" y="1488960"/>
              <a:ext cx="6494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416920" y="1404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502240" y="1404360"/>
              <a:ext cx="12988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8" name=""/>
          <p:cNvGrpSpPr/>
          <p:nvPr/>
        </p:nvGrpSpPr>
        <p:grpSpPr>
          <a:xfrm>
            <a:off x="5495040" y="3200400"/>
            <a:ext cx="1210680" cy="764280"/>
            <a:chOff x="5495040" y="3200400"/>
            <a:chExt cx="1210680" cy="764280"/>
          </a:xfrm>
        </p:grpSpPr>
        <p:sp>
          <p:nvSpPr>
            <p:cNvPr id="4639" name=""/>
            <p:cNvSpPr/>
            <p:nvPr/>
          </p:nvSpPr>
          <p:spPr>
            <a:xfrm>
              <a:off x="5782680" y="32004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172200" y="32004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1" name=""/>
            <p:cNvGrpSpPr/>
            <p:nvPr/>
          </p:nvGrpSpPr>
          <p:grpSpPr>
            <a:xfrm>
              <a:off x="5495040" y="3504960"/>
              <a:ext cx="1210680" cy="459720"/>
              <a:chOff x="5495040" y="3504960"/>
              <a:chExt cx="1210680" cy="459720"/>
            </a:xfrm>
          </p:grpSpPr>
          <p:sp>
            <p:nvSpPr>
              <p:cNvPr id="4642" name=""/>
              <p:cNvSpPr/>
              <p:nvPr/>
            </p:nvSpPr>
            <p:spPr>
              <a:xfrm>
                <a:off x="5943600" y="35049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A 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6095880" y="3581280"/>
                <a:ext cx="5335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95040" y="350496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562720" y="3504960"/>
                <a:ext cx="10666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646" name=""/>
          <p:cNvGraphicFramePr/>
          <p:nvPr/>
        </p:nvGraphicFramePr>
        <p:xfrm>
          <a:off x="6934320" y="4724280"/>
          <a:ext cx="173016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724280"/>
                    <a:ext cx="173016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48" name=""/>
          <p:cNvGrpSpPr/>
          <p:nvPr/>
        </p:nvGrpSpPr>
        <p:grpSpPr>
          <a:xfrm>
            <a:off x="1143000" y="1370160"/>
            <a:ext cx="6457320" cy="2535120"/>
            <a:chOff x="1143000" y="1370160"/>
            <a:chExt cx="6457320" cy="2535120"/>
          </a:xfrm>
        </p:grpSpPr>
        <p:sp>
          <p:nvSpPr>
            <p:cNvPr id="4649" name=""/>
            <p:cNvSpPr/>
            <p:nvPr/>
          </p:nvSpPr>
          <p:spPr>
            <a:xfrm>
              <a:off x="3141360" y="2152800"/>
              <a:ext cx="4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3505320" y="2152800"/>
              <a:ext cx="3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143000" y="2152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151640" y="26859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286000" y="21528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200400" y="270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600200" y="2457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600200" y="29145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114800" y="139068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5029200" y="1924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114800" y="28386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029200" y="3371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1" name=""/>
            <p:cNvGrpSpPr/>
            <p:nvPr/>
          </p:nvGrpSpPr>
          <p:grpSpPr>
            <a:xfrm>
              <a:off x="1981080" y="1695600"/>
              <a:ext cx="2133720" cy="1904760"/>
              <a:chOff x="1981080" y="1695600"/>
              <a:chExt cx="2133720" cy="1904760"/>
            </a:xfrm>
          </p:grpSpPr>
          <p:sp>
            <p:nvSpPr>
              <p:cNvPr id="4662" name=""/>
              <p:cNvSpPr/>
              <p:nvPr/>
            </p:nvSpPr>
            <p:spPr>
              <a:xfrm>
                <a:off x="3657600" y="215244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3657600" y="2152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1981080" y="169560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1981080" y="1695600"/>
                <a:ext cx="213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657600" y="31431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1981080" y="291456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1981080" y="3600360"/>
                <a:ext cx="213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9" name=""/>
            <p:cNvSpPr/>
            <p:nvPr/>
          </p:nvSpPr>
          <p:spPr>
            <a:xfrm>
              <a:off x="5867280" y="21528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781680" y="268596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1" name=""/>
            <p:cNvGrpSpPr/>
            <p:nvPr/>
          </p:nvGrpSpPr>
          <p:grpSpPr>
            <a:xfrm>
              <a:off x="5410080" y="1924200"/>
              <a:ext cx="457200" cy="1447200"/>
              <a:chOff x="5410080" y="1924200"/>
              <a:chExt cx="457200" cy="1447200"/>
            </a:xfrm>
          </p:grpSpPr>
          <p:sp>
            <p:nvSpPr>
              <p:cNvPr id="4672" name=""/>
              <p:cNvSpPr/>
              <p:nvPr/>
            </p:nvSpPr>
            <p:spPr>
              <a:xfrm>
                <a:off x="5410080" y="1924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410080" y="2457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410080" y="29145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410080" y="29145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6" name=""/>
            <p:cNvSpPr/>
            <p:nvPr/>
          </p:nvSpPr>
          <p:spPr>
            <a:xfrm>
              <a:off x="6019920" y="23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43828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26708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26708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47520" y="245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952880" y="337176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976280" y="1370160"/>
              <a:ext cx="45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28800" y="192420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828800" y="234792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048120" y="2610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876920" y="3295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876920" y="18478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6629400" y="2610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"/>
          <p:cNvSpPr/>
          <p:nvPr/>
        </p:nvSpPr>
        <p:spPr>
          <a:xfrm>
            <a:off x="106668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应用逻辑代数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0" name=""/>
          <p:cNvGrpSpPr/>
          <p:nvPr/>
        </p:nvGrpSpPr>
        <p:grpSpPr>
          <a:xfrm>
            <a:off x="1295280" y="1523880"/>
            <a:ext cx="3886200" cy="810000"/>
            <a:chOff x="1295280" y="1523880"/>
            <a:chExt cx="3886200" cy="810000"/>
          </a:xfrm>
        </p:grpSpPr>
        <p:sp>
          <p:nvSpPr>
            <p:cNvPr id="4691" name=""/>
            <p:cNvSpPr/>
            <p:nvPr/>
          </p:nvSpPr>
          <p:spPr>
            <a:xfrm>
              <a:off x="1295280" y="17524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  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2209680" y="1676520"/>
              <a:ext cx="2590560" cy="152280"/>
              <a:chOff x="2209680" y="1676520"/>
              <a:chExt cx="2590560" cy="152280"/>
            </a:xfrm>
          </p:grpSpPr>
          <p:sp>
            <p:nvSpPr>
              <p:cNvPr id="4693" name=""/>
              <p:cNvSpPr/>
              <p:nvPr/>
            </p:nvSpPr>
            <p:spPr>
              <a:xfrm>
                <a:off x="2819160" y="1828800"/>
                <a:ext cx="5335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2209680" y="1752480"/>
                <a:ext cx="114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267080" y="1828800"/>
                <a:ext cx="4572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581280" y="1752480"/>
                <a:ext cx="12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2209680" y="167652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8" name=""/>
            <p:cNvSpPr/>
            <p:nvPr/>
          </p:nvSpPr>
          <p:spPr>
            <a:xfrm>
              <a:off x="3276720" y="15238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430000" y="15238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3877920" y="15238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1" name=""/>
          <p:cNvGrpSpPr/>
          <p:nvPr/>
        </p:nvGrpSpPr>
        <p:grpSpPr>
          <a:xfrm>
            <a:off x="1371600" y="3322800"/>
            <a:ext cx="3886200" cy="810000"/>
            <a:chOff x="1371600" y="3322800"/>
            <a:chExt cx="3886200" cy="810000"/>
          </a:xfrm>
        </p:grpSpPr>
        <p:sp>
          <p:nvSpPr>
            <p:cNvPr id="4702" name=""/>
            <p:cNvSpPr/>
            <p:nvPr/>
          </p:nvSpPr>
          <p:spPr>
            <a:xfrm>
              <a:off x="1371600" y="35514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+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819520" y="362736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267080" y="3627360"/>
              <a:ext cx="457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430000" y="33228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877920" y="33228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7" name=""/>
          <p:cNvGrpSpPr/>
          <p:nvPr/>
        </p:nvGrpSpPr>
        <p:grpSpPr>
          <a:xfrm>
            <a:off x="1707120" y="5151600"/>
            <a:ext cx="1875600" cy="581400"/>
            <a:chOff x="1707120" y="5151600"/>
            <a:chExt cx="1875600" cy="581400"/>
          </a:xfrm>
        </p:grpSpPr>
        <p:sp>
          <p:nvSpPr>
            <p:cNvPr id="4708" name=""/>
            <p:cNvSpPr/>
            <p:nvPr/>
          </p:nvSpPr>
          <p:spPr>
            <a:xfrm>
              <a:off x="1707120" y="5151600"/>
              <a:ext cx="18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355840" y="5253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965320" y="5253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1" name=""/>
          <p:cNvSpPr/>
          <p:nvPr/>
        </p:nvSpPr>
        <p:spPr>
          <a:xfrm>
            <a:off x="4952880" y="2103480"/>
            <a:ext cx="304920" cy="914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5638680" y="2179800"/>
            <a:ext cx="1447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反演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3" name=""/>
          <p:cNvGrpSpPr/>
          <p:nvPr/>
        </p:nvGrpSpPr>
        <p:grpSpPr>
          <a:xfrm>
            <a:off x="1371600" y="4084560"/>
            <a:ext cx="5029200" cy="810000"/>
            <a:chOff x="1371600" y="4084560"/>
            <a:chExt cx="5029200" cy="810000"/>
          </a:xfrm>
        </p:grpSpPr>
        <p:sp>
          <p:nvSpPr>
            <p:cNvPr id="4714" name=""/>
            <p:cNvSpPr/>
            <p:nvPr/>
          </p:nvSpPr>
          <p:spPr>
            <a:xfrm>
              <a:off x="1371600" y="4313160"/>
              <a:ext cx="502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 A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 +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81952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353680" y="408456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335120" y="408456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335268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80060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33412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1" name=""/>
          <p:cNvSpPr/>
          <p:nvPr/>
        </p:nvSpPr>
        <p:spPr>
          <a:xfrm>
            <a:off x="5867280" y="3780000"/>
            <a:ext cx="304920" cy="914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6477120" y="3932280"/>
            <a:ext cx="144756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反演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3" name=""/>
          <p:cNvGrpSpPr/>
          <p:nvPr/>
        </p:nvGrpSpPr>
        <p:grpSpPr>
          <a:xfrm>
            <a:off x="1371600" y="2468520"/>
            <a:ext cx="3886200" cy="810000"/>
            <a:chOff x="1371600" y="2468520"/>
            <a:chExt cx="3886200" cy="810000"/>
          </a:xfrm>
        </p:grpSpPr>
        <p:sp>
          <p:nvSpPr>
            <p:cNvPr id="4724" name=""/>
            <p:cNvSpPr/>
            <p:nvPr/>
          </p:nvSpPr>
          <p:spPr>
            <a:xfrm>
              <a:off x="1371600" y="26971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+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819520" y="277344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209680" y="2697120"/>
              <a:ext cx="1143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267080" y="2773440"/>
              <a:ext cx="457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3581280" y="269712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209680" y="2620800"/>
              <a:ext cx="1143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430000" y="246852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3877920" y="246852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3581280" y="262080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"/>
          <p:cNvSpPr/>
          <p:nvPr/>
        </p:nvSpPr>
        <p:spPr>
          <a:xfrm>
            <a:off x="1210680" y="76212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4" name=""/>
          <p:cNvGrpSpPr/>
          <p:nvPr/>
        </p:nvGrpSpPr>
        <p:grpSpPr>
          <a:xfrm>
            <a:off x="1143000" y="1371600"/>
            <a:ext cx="2590920" cy="2425680"/>
            <a:chOff x="1143000" y="1371600"/>
            <a:chExt cx="2590920" cy="2425680"/>
          </a:xfrm>
        </p:grpSpPr>
        <p:sp>
          <p:nvSpPr>
            <p:cNvPr id="4735" name=""/>
            <p:cNvSpPr/>
            <p:nvPr/>
          </p:nvSpPr>
          <p:spPr>
            <a:xfrm>
              <a:off x="1143000" y="1371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143000" y="1905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895480" y="137160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905120" y="137160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2193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1337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3276720" y="13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295280" y="1908000"/>
              <a:ext cx="42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295280" y="2317680"/>
              <a:ext cx="42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282680" y="2806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284840" y="3276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209680" y="1935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209680" y="2773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209680" y="23162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3276720" y="2773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3276720" y="2316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3276720" y="1935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3265920" y="3276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2096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4241160" y="990720"/>
            <a:ext cx="2130120" cy="1145160"/>
            <a:chOff x="4241160" y="990720"/>
            <a:chExt cx="2130120" cy="1145160"/>
          </a:xfrm>
        </p:grpSpPr>
        <p:sp>
          <p:nvSpPr>
            <p:cNvPr id="4755" name=""/>
            <p:cNvSpPr/>
            <p:nvPr/>
          </p:nvSpPr>
          <p:spPr>
            <a:xfrm>
              <a:off x="4241160" y="990720"/>
              <a:ext cx="21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Y=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5181480" y="106704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5791320" y="10512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430520" y="1554480"/>
              <a:ext cx="134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 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029200" y="1706760"/>
              <a:ext cx="304920" cy="304920"/>
            </a:xfrm>
            <a:prstGeom prst="flowChartOr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0" name=""/>
          <p:cNvSpPr/>
          <p:nvPr/>
        </p:nvSpPr>
        <p:spPr>
          <a:xfrm>
            <a:off x="6705720" y="1828800"/>
            <a:ext cx="1731960" cy="806400"/>
          </a:xfrm>
          <a:prstGeom prst="cloudCallout">
            <a:avLst>
              <a:gd name="adj1" fmla="val -109393"/>
              <a:gd name="adj2" fmla="val -58462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1" name=""/>
          <p:cNvGrpSpPr/>
          <p:nvPr/>
        </p:nvGrpSpPr>
        <p:grpSpPr>
          <a:xfrm>
            <a:off x="609480" y="4114800"/>
            <a:ext cx="7315200" cy="1752480"/>
            <a:chOff x="609480" y="4114800"/>
            <a:chExt cx="7315200" cy="1752480"/>
          </a:xfrm>
        </p:grpSpPr>
        <p:sp>
          <p:nvSpPr>
            <p:cNvPr id="4762" name=""/>
            <p:cNvSpPr/>
            <p:nvPr/>
          </p:nvSpPr>
          <p:spPr>
            <a:xfrm>
              <a:off x="609480" y="4114800"/>
              <a:ext cx="7315200" cy="17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(4)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分析逻辑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入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相同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出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入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相异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出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称为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“异或”逻辑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关系。这种电路称“异或”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62120" y="5867280"/>
              <a:ext cx="69339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4" name=""/>
          <p:cNvGrpSpPr/>
          <p:nvPr/>
        </p:nvGrpSpPr>
        <p:grpSpPr>
          <a:xfrm>
            <a:off x="4275720" y="2438280"/>
            <a:ext cx="3278160" cy="1739880"/>
            <a:chOff x="4275720" y="2438280"/>
            <a:chExt cx="3278160" cy="1739880"/>
          </a:xfrm>
        </p:grpSpPr>
        <p:sp>
          <p:nvSpPr>
            <p:cNvPr id="4765" name=""/>
            <p:cNvSpPr/>
            <p:nvPr/>
          </p:nvSpPr>
          <p:spPr>
            <a:xfrm>
              <a:off x="5486400" y="2438280"/>
              <a:ext cx="9144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800600" y="28191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800600" y="3276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6400800" y="30477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5562720" y="24382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275720" y="25621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277160" y="30193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173360" y="2743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5181480" y="36576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 flipV="1">
              <a:off x="4724280" y="32457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 flipV="1">
              <a:off x="4724280" y="27885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 flipV="1">
              <a:off x="7086600" y="30171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"/>
          <p:cNvSpPr/>
          <p:nvPr/>
        </p:nvSpPr>
        <p:spPr>
          <a:xfrm>
            <a:off x="1180800" y="541008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463760" y="5047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2311560" y="99072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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0" name=""/>
          <p:cNvGrpSpPr/>
          <p:nvPr/>
        </p:nvGrpSpPr>
        <p:grpSpPr>
          <a:xfrm>
            <a:off x="3962520" y="990720"/>
            <a:ext cx="1143000" cy="825120"/>
            <a:chOff x="3962520" y="990720"/>
            <a:chExt cx="1143000" cy="825120"/>
          </a:xfrm>
        </p:grpSpPr>
        <p:sp>
          <p:nvSpPr>
            <p:cNvPr id="4781" name=""/>
            <p:cNvSpPr/>
            <p:nvPr/>
          </p:nvSpPr>
          <p:spPr>
            <a:xfrm>
              <a:off x="396252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 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 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2" name=""/>
            <p:cNvGrpSpPr/>
            <p:nvPr/>
          </p:nvGrpSpPr>
          <p:grpSpPr>
            <a:xfrm>
              <a:off x="4038840" y="990720"/>
              <a:ext cx="762120" cy="764280"/>
              <a:chOff x="4038840" y="990720"/>
              <a:chExt cx="762120" cy="764280"/>
            </a:xfrm>
          </p:grpSpPr>
          <p:sp>
            <p:nvSpPr>
              <p:cNvPr id="4783" name=""/>
              <p:cNvSpPr/>
              <p:nvPr/>
            </p:nvSpPr>
            <p:spPr>
              <a:xfrm>
                <a:off x="4267440" y="990720"/>
                <a:ext cx="30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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38840" y="137160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5" name=""/>
          <p:cNvGrpSpPr/>
          <p:nvPr/>
        </p:nvGrpSpPr>
        <p:grpSpPr>
          <a:xfrm>
            <a:off x="3352680" y="5043600"/>
            <a:ext cx="2971800" cy="933120"/>
            <a:chOff x="3352680" y="5043600"/>
            <a:chExt cx="2971800" cy="933120"/>
          </a:xfrm>
        </p:grpSpPr>
        <p:sp>
          <p:nvSpPr>
            <p:cNvPr id="4786" name=""/>
            <p:cNvSpPr/>
            <p:nvPr/>
          </p:nvSpPr>
          <p:spPr>
            <a:xfrm>
              <a:off x="3352680" y="533412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  AB</a:t>
              </a:r>
              <a:r>
                <a:rPr b="1" lang="en-US" sz="3600" spc="-1" strike="noStrike">
                  <a:solidFill>
                    <a:srgbClr val="000099"/>
                  </a:solidFill>
                  <a:latin typeface=""/>
                </a:rPr>
                <a:t>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7" name=""/>
            <p:cNvGrpSpPr/>
            <p:nvPr/>
          </p:nvGrpSpPr>
          <p:grpSpPr>
            <a:xfrm>
              <a:off x="4114800" y="5257800"/>
              <a:ext cx="1447560" cy="152280"/>
              <a:chOff x="4114800" y="5257800"/>
              <a:chExt cx="1447560" cy="152280"/>
            </a:xfrm>
          </p:grpSpPr>
          <p:sp>
            <p:nvSpPr>
              <p:cNvPr id="4788" name=""/>
              <p:cNvSpPr/>
              <p:nvPr/>
            </p:nvSpPr>
            <p:spPr>
              <a:xfrm>
                <a:off x="4114800" y="5410080"/>
                <a:ext cx="5331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029200" y="5333760"/>
                <a:ext cx="5331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5029200" y="54100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5333760" y="54100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114800" y="5257800"/>
                <a:ext cx="1447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3" name=""/>
            <p:cNvSpPr/>
            <p:nvPr/>
          </p:nvSpPr>
          <p:spPr>
            <a:xfrm>
              <a:off x="4648320" y="504360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4" name=""/>
          <p:cNvGrpSpPr/>
          <p:nvPr/>
        </p:nvGrpSpPr>
        <p:grpSpPr>
          <a:xfrm>
            <a:off x="5105520" y="3733920"/>
            <a:ext cx="1143000" cy="581400"/>
            <a:chOff x="5105520" y="3733920"/>
            <a:chExt cx="1143000" cy="581400"/>
          </a:xfrm>
        </p:grpSpPr>
        <p:sp>
          <p:nvSpPr>
            <p:cNvPr id="4795" name=""/>
            <p:cNvSpPr/>
            <p:nvPr/>
          </p:nvSpPr>
          <p:spPr>
            <a:xfrm>
              <a:off x="5105520" y="3733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</a:t>
              </a:r>
              <a:r>
                <a:rPr b="0" lang="en-US" sz="3200" spc="-1" strike="noStrike">
                  <a:solidFill>
                    <a:srgbClr val="ff3300"/>
                  </a:solidFill>
                  <a:latin typeface=""/>
                </a:rPr>
                <a:t>•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257800" y="373392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257800" y="38098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638680" y="38098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9" name=""/>
          <p:cNvSpPr/>
          <p:nvPr/>
        </p:nvSpPr>
        <p:spPr>
          <a:xfrm>
            <a:off x="6934320" y="4343400"/>
            <a:ext cx="1143000" cy="762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1397160" y="1219320"/>
            <a:ext cx="6232680" cy="3962160"/>
            <a:chOff x="1397160" y="1219320"/>
            <a:chExt cx="6232680" cy="3962160"/>
          </a:xfrm>
        </p:grpSpPr>
        <p:sp>
          <p:nvSpPr>
            <p:cNvPr id="4801" name=""/>
            <p:cNvSpPr/>
            <p:nvPr/>
          </p:nvSpPr>
          <p:spPr>
            <a:xfrm>
              <a:off x="3657600" y="1828800"/>
              <a:ext cx="18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768760" y="12952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895480" y="1219320"/>
              <a:ext cx="4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969160" y="26668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6883560" y="3200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444920" y="2895480"/>
              <a:ext cx="7621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359320" y="3429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648320" y="2819520"/>
              <a:ext cx="27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768760" y="4114800"/>
              <a:ext cx="76176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3724200" y="4648320"/>
              <a:ext cx="34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971800" y="4114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801880" y="2666880"/>
              <a:ext cx="7621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3759120" y="3200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971800" y="2666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5" name=""/>
            <p:cNvGrpSpPr/>
            <p:nvPr/>
          </p:nvGrpSpPr>
          <p:grpSpPr>
            <a:xfrm>
              <a:off x="1854360" y="1523880"/>
              <a:ext cx="4114800" cy="3124080"/>
              <a:chOff x="1854360" y="1523880"/>
              <a:chExt cx="4114800" cy="3124080"/>
            </a:xfrm>
          </p:grpSpPr>
          <p:sp>
            <p:nvSpPr>
              <p:cNvPr id="4816" name=""/>
              <p:cNvSpPr/>
              <p:nvPr/>
            </p:nvSpPr>
            <p:spPr>
              <a:xfrm>
                <a:off x="1854360" y="15238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1854360" y="20570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63840" y="1523880"/>
                <a:ext cx="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463840" y="32000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08296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082960" y="46479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064040" y="365724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064040" y="36572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511960" y="182844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511960" y="2971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6" name=""/>
            <p:cNvSpPr/>
            <p:nvPr/>
          </p:nvSpPr>
          <p:spPr>
            <a:xfrm>
              <a:off x="1930320" y="1523880"/>
              <a:ext cx="381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397160" y="1752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406520" y="121932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249320" y="2943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6112440" y="26384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581280" y="3124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54024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543480" y="4572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202360" y="3352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729480" y="3124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6" name=""/>
          <p:cNvGrpSpPr/>
          <p:nvPr/>
        </p:nvGrpSpPr>
        <p:grpSpPr>
          <a:xfrm>
            <a:off x="3581280" y="3276720"/>
            <a:ext cx="457200" cy="2927880"/>
            <a:chOff x="3581280" y="3276720"/>
            <a:chExt cx="457200" cy="2927880"/>
          </a:xfrm>
        </p:grpSpPr>
        <p:grpSp>
          <p:nvGrpSpPr>
            <p:cNvPr id="4837" name=""/>
            <p:cNvGrpSpPr/>
            <p:nvPr/>
          </p:nvGrpSpPr>
          <p:grpSpPr>
            <a:xfrm>
              <a:off x="3657600" y="3276720"/>
              <a:ext cx="380880" cy="1556280"/>
              <a:chOff x="3657600" y="3276720"/>
              <a:chExt cx="380880" cy="1556280"/>
            </a:xfrm>
          </p:grpSpPr>
          <p:sp>
            <p:nvSpPr>
              <p:cNvPr id="4838" name=""/>
              <p:cNvSpPr/>
              <p:nvPr/>
            </p:nvSpPr>
            <p:spPr>
              <a:xfrm>
                <a:off x="3657600" y="3276720"/>
                <a:ext cx="3808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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784680" y="33526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0" name=""/>
            <p:cNvGrpSpPr/>
            <p:nvPr/>
          </p:nvGrpSpPr>
          <p:grpSpPr>
            <a:xfrm>
              <a:off x="3581280" y="4648320"/>
              <a:ext cx="380880" cy="1556280"/>
              <a:chOff x="3581280" y="4648320"/>
              <a:chExt cx="380880" cy="1556280"/>
            </a:xfrm>
          </p:grpSpPr>
          <p:sp>
            <p:nvSpPr>
              <p:cNvPr id="4841" name=""/>
              <p:cNvSpPr/>
              <p:nvPr/>
            </p:nvSpPr>
            <p:spPr>
              <a:xfrm>
                <a:off x="3581280" y="4648320"/>
                <a:ext cx="3808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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733560" y="47242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43" name=""/>
          <p:cNvGrpSpPr/>
          <p:nvPr/>
        </p:nvGrpSpPr>
        <p:grpSpPr>
          <a:xfrm>
            <a:off x="5593320" y="5384880"/>
            <a:ext cx="1875600" cy="581400"/>
            <a:chOff x="5593320" y="5384880"/>
            <a:chExt cx="1875600" cy="581400"/>
          </a:xfrm>
        </p:grpSpPr>
        <p:sp>
          <p:nvSpPr>
            <p:cNvPr id="4844" name=""/>
            <p:cNvSpPr/>
            <p:nvPr/>
          </p:nvSpPr>
          <p:spPr>
            <a:xfrm>
              <a:off x="5593320" y="5384880"/>
              <a:ext cx="18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781680" y="54864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7162920" y="5486400"/>
              <a:ext cx="304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"/>
          <p:cNvSpPr/>
          <p:nvPr/>
        </p:nvSpPr>
        <p:spPr>
          <a:xfrm>
            <a:off x="904320" y="657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8" name=""/>
          <p:cNvGrpSpPr/>
          <p:nvPr/>
        </p:nvGrpSpPr>
        <p:grpSpPr>
          <a:xfrm>
            <a:off x="4230360" y="1066680"/>
            <a:ext cx="2170440" cy="581400"/>
            <a:chOff x="4230360" y="1066680"/>
            <a:chExt cx="2170440" cy="581400"/>
          </a:xfrm>
        </p:grpSpPr>
        <p:sp>
          <p:nvSpPr>
            <p:cNvPr id="4849" name=""/>
            <p:cNvSpPr/>
            <p:nvPr/>
          </p:nvSpPr>
          <p:spPr>
            <a:xfrm>
              <a:off x="4230360" y="106668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 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096240" y="1143000"/>
              <a:ext cx="304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791320" y="11430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2" name=""/>
          <p:cNvSpPr/>
          <p:nvPr/>
        </p:nvSpPr>
        <p:spPr>
          <a:xfrm>
            <a:off x="609480" y="3962520"/>
            <a:ext cx="784872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分析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出为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1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相异输出为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0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称为“判一致电路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(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同或门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用于判断各输入端的状态是否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3" name=""/>
          <p:cNvGrpSpPr/>
          <p:nvPr/>
        </p:nvGrpSpPr>
        <p:grpSpPr>
          <a:xfrm>
            <a:off x="4432320" y="1782720"/>
            <a:ext cx="1238400" cy="581400"/>
            <a:chOff x="4432320" y="1782720"/>
            <a:chExt cx="1238400" cy="581400"/>
          </a:xfrm>
        </p:grpSpPr>
        <p:sp>
          <p:nvSpPr>
            <p:cNvPr id="4854" name=""/>
            <p:cNvSpPr/>
            <p:nvPr/>
          </p:nvSpPr>
          <p:spPr>
            <a:xfrm>
              <a:off x="4432320" y="178272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5029200" y="1935360"/>
              <a:ext cx="304920" cy="304560"/>
            </a:xfrm>
            <a:prstGeom prst="flowChartOr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800600" y="1859040"/>
              <a:ext cx="762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7" name=""/>
          <p:cNvSpPr/>
          <p:nvPr/>
        </p:nvSpPr>
        <p:spPr>
          <a:xfrm>
            <a:off x="6629400" y="838080"/>
            <a:ext cx="1447920" cy="685800"/>
          </a:xfrm>
          <a:prstGeom prst="cloudCallout">
            <a:avLst>
              <a:gd name="adj1" fmla="val -52523"/>
              <a:gd name="adj2" fmla="val 10416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逻辑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8" name=""/>
          <p:cNvGrpSpPr/>
          <p:nvPr/>
        </p:nvGrpSpPr>
        <p:grpSpPr>
          <a:xfrm>
            <a:off x="4352040" y="2514600"/>
            <a:ext cx="3201480" cy="1785600"/>
            <a:chOff x="4352040" y="2514600"/>
            <a:chExt cx="3201480" cy="1785600"/>
          </a:xfrm>
        </p:grpSpPr>
        <p:sp>
          <p:nvSpPr>
            <p:cNvPr id="4859" name=""/>
            <p:cNvSpPr/>
            <p:nvPr/>
          </p:nvSpPr>
          <p:spPr>
            <a:xfrm>
              <a:off x="487656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6629400" y="3124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562360" y="2514600"/>
              <a:ext cx="9144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876560" y="3352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7162560" y="3095640"/>
              <a:ext cx="76320" cy="74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638680" y="2666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4352040" y="2608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4353480" y="3065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7173000" y="28368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257800" y="377964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6476760" y="3047760"/>
              <a:ext cx="1526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4800600" y="2865240"/>
              <a:ext cx="75960" cy="74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4800600" y="3322440"/>
              <a:ext cx="75960" cy="74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5727600" y="1782720"/>
            <a:ext cx="1238400" cy="581400"/>
            <a:chOff x="5727600" y="1782720"/>
            <a:chExt cx="1238400" cy="581400"/>
          </a:xfrm>
        </p:grpSpPr>
        <p:sp>
          <p:nvSpPr>
            <p:cNvPr id="4873" name=""/>
            <p:cNvSpPr/>
            <p:nvPr/>
          </p:nvSpPr>
          <p:spPr>
            <a:xfrm>
              <a:off x="5727600" y="178272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324480" y="193536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440400" y="2057400"/>
              <a:ext cx="7632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6" name=""/>
          <p:cNvGrpSpPr/>
          <p:nvPr/>
        </p:nvGrpSpPr>
        <p:grpSpPr>
          <a:xfrm>
            <a:off x="1143000" y="1295280"/>
            <a:ext cx="2590920" cy="2425680"/>
            <a:chOff x="1143000" y="1295280"/>
            <a:chExt cx="2590920" cy="2425680"/>
          </a:xfrm>
        </p:grpSpPr>
        <p:sp>
          <p:nvSpPr>
            <p:cNvPr id="4877" name=""/>
            <p:cNvSpPr/>
            <p:nvPr/>
          </p:nvSpPr>
          <p:spPr>
            <a:xfrm>
              <a:off x="1143000" y="12952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143000" y="18288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895480" y="129528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05120" y="129528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21932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13372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276720" y="1295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295280" y="1831680"/>
              <a:ext cx="42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295280" y="2241360"/>
              <a:ext cx="42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282680" y="27302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284840" y="32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209680" y="1858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209680" y="2697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209680" y="22399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276720" y="2697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276720" y="2239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76720" y="1858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265920" y="32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2096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09480" y="7617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极管的开关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70120" y="2362320"/>
            <a:ext cx="609480" cy="457200"/>
            <a:chOff x="870120" y="2362320"/>
            <a:chExt cx="609480" cy="457200"/>
          </a:xfrm>
        </p:grpSpPr>
        <p:sp>
          <p:nvSpPr>
            <p:cNvPr id="309" name=""/>
            <p:cNvSpPr/>
            <p:nvPr/>
          </p:nvSpPr>
          <p:spPr>
            <a:xfrm>
              <a:off x="870120" y="2819520"/>
              <a:ext cx="3045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174680" y="2362320"/>
              <a:ext cx="0" cy="4572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74680" y="236232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73120" y="2362320"/>
            <a:ext cx="304920" cy="457200"/>
            <a:chOff x="1473120" y="2362320"/>
            <a:chExt cx="304920" cy="457200"/>
          </a:xfrm>
        </p:grpSpPr>
        <p:sp>
          <p:nvSpPr>
            <p:cNvPr id="313" name=""/>
            <p:cNvSpPr/>
            <p:nvPr/>
          </p:nvSpPr>
          <p:spPr>
            <a:xfrm>
              <a:off x="1473120" y="236232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73120" y="281952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276720" y="3885120"/>
            <a:ext cx="1066680" cy="534600"/>
            <a:chOff x="3276720" y="3885120"/>
            <a:chExt cx="1066680" cy="534600"/>
          </a:xfrm>
        </p:grpSpPr>
        <p:sp>
          <p:nvSpPr>
            <p:cNvPr id="316" name=""/>
            <p:cNvSpPr/>
            <p:nvPr/>
          </p:nvSpPr>
          <p:spPr>
            <a:xfrm>
              <a:off x="3276720" y="3886200"/>
              <a:ext cx="1066680" cy="533520"/>
            </a:xfrm>
            <a:prstGeom prst="wedgeEllipseCallout">
              <a:avLst>
                <a:gd name="adj1" fmla="val -104462"/>
                <a:gd name="adj2" fmla="val -15625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55720" y="388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饱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24080" y="3885120"/>
            <a:ext cx="1295640" cy="509040"/>
            <a:chOff x="3124080" y="3885120"/>
            <a:chExt cx="1295640" cy="509040"/>
          </a:xfrm>
        </p:grpSpPr>
        <p:sp>
          <p:nvSpPr>
            <p:cNvPr id="319" name=""/>
            <p:cNvSpPr/>
            <p:nvPr/>
          </p:nvSpPr>
          <p:spPr>
            <a:xfrm>
              <a:off x="3124080" y="3886200"/>
              <a:ext cx="1295640" cy="507960"/>
            </a:xfrm>
            <a:prstGeom prst="wedgeEllipseCallout">
              <a:avLst>
                <a:gd name="adj1" fmla="val -83212"/>
                <a:gd name="adj2" fmla="val -161250"/>
              </a:avLst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6560" y="388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114800" y="2590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33ccff"/>
              </a:gs>
              <a:gs pos="100000">
                <a:srgbClr val="008080"/>
              </a:gs>
            </a:gsLst>
            <a:lin ang="10800000"/>
          </a:gra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5720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66"/>
              </a:gs>
              <a:gs pos="100000">
                <a:srgbClr val="006666"/>
              </a:gs>
            </a:gsLst>
            <a:lin ang="10800000"/>
          </a:gra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81480"/>
            <a:ext cx="457200" cy="7621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8840" y="1981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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50080" y="243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53400" y="2174760"/>
            <a:ext cx="120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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5410080"/>
            <a:ext cx="1768680" cy="838440"/>
          </a:xfrm>
          <a:prstGeom prst="wedgeEllipseCallout">
            <a:avLst>
              <a:gd name="adj1" fmla="val 88328"/>
              <a:gd name="adj2" fmla="val -38824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"/>
              </a:rPr>
              <a:t>相当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"/>
              </a:rPr>
              <a:t>开关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2590920"/>
            <a:ext cx="457200" cy="76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2895480"/>
            <a:ext cx="1676160" cy="838440"/>
          </a:xfrm>
          <a:prstGeom prst="wedgeEllipseCallout">
            <a:avLst>
              <a:gd name="adj1" fmla="val -90814"/>
              <a:gd name="adj2" fmla="val -375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"/>
              </a:rPr>
              <a:t>相当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"/>
              </a:rPr>
              <a:t>开关闭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35680" y="5164200"/>
            <a:ext cx="147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"/>
              </a:rPr>
              <a:t>O</a:t>
            </a: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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1497600"/>
            <a:ext cx="3147480" cy="3074400"/>
            <a:chOff x="838080" y="1497600"/>
            <a:chExt cx="3147480" cy="3074400"/>
          </a:xfrm>
        </p:grpSpPr>
        <p:sp>
          <p:nvSpPr>
            <p:cNvPr id="332" name=""/>
            <p:cNvSpPr/>
            <p:nvPr/>
          </p:nvSpPr>
          <p:spPr>
            <a:xfrm flipV="1">
              <a:off x="2440080" y="3122280"/>
              <a:ext cx="304560" cy="1522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40080" y="3427200"/>
              <a:ext cx="304560" cy="1526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2744640" y="2852640"/>
              <a:ext cx="658800" cy="2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838080" y="1497600"/>
              <a:ext cx="3147480" cy="3074400"/>
              <a:chOff x="838080" y="1497600"/>
              <a:chExt cx="3147480" cy="3074400"/>
            </a:xfrm>
          </p:grpSpPr>
          <p:sp>
            <p:nvSpPr>
              <p:cNvPr id="336" name=""/>
              <p:cNvSpPr/>
              <p:nvPr/>
            </p:nvSpPr>
            <p:spPr>
              <a:xfrm>
                <a:off x="2771640" y="1497600"/>
                <a:ext cx="79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8080" y="309780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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3880" y="27928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400000">
                <a:off x="2687040" y="1752120"/>
                <a:ext cx="108000" cy="1018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41760" y="1857240"/>
                <a:ext cx="0" cy="2462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5400000">
                <a:off x="2540880" y="2230200"/>
                <a:ext cx="400320" cy="152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741760" y="2506680"/>
                <a:ext cx="0" cy="614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1201680" y="3276360"/>
                <a:ext cx="757440" cy="152640"/>
                <a:chOff x="1201680" y="3276360"/>
                <a:chExt cx="757440" cy="1526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09680" y="3352680"/>
                  <a:ext cx="24624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01680" y="3301920"/>
                  <a:ext cx="108000" cy="10152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58800" y="3276360"/>
                  <a:ext cx="400320" cy="152640"/>
                </a:xfrm>
                <a:prstGeom prst="rect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 flipV="1">
                <a:off x="1981080" y="3351240"/>
                <a:ext cx="45720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66880" y="4570200"/>
                <a:ext cx="152640" cy="1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440080" y="3122640"/>
                <a:ext cx="0" cy="4572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44640" y="3579840"/>
                <a:ext cx="0" cy="9903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0813800">
                <a:off x="3401640" y="2817720"/>
                <a:ext cx="103320" cy="763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65520" y="2031120"/>
                <a:ext cx="479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18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80480" y="264060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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81640" y="304668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5714280" y="3783600"/>
            <a:ext cx="1272600" cy="2494800"/>
            <a:chOff x="5714280" y="3783600"/>
            <a:chExt cx="1272600" cy="2494800"/>
          </a:xfrm>
        </p:grpSpPr>
        <p:sp>
          <p:nvSpPr>
            <p:cNvPr id="356" name=""/>
            <p:cNvSpPr/>
            <p:nvPr/>
          </p:nvSpPr>
          <p:spPr>
            <a:xfrm>
              <a:off x="6451200" y="4779720"/>
              <a:ext cx="5356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95720" y="378360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91040" y="424080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60000"/>
                  </a:solidFill>
                  <a:latin typeface=""/>
                </a:rPr>
                <a:t>R</a:t>
              </a:r>
              <a:r>
                <a:rPr b="1" i="1" lang="en-US" sz="2400" spc="-1" strike="noStrike" baseline="-25000">
                  <a:solidFill>
                    <a:srgbClr val="06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82400" y="55616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000"/>
                  </a:solidFill>
                  <a:latin typeface="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4280" y="5334120"/>
              <a:ext cx="152280" cy="380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5864400" y="5083200"/>
              <a:ext cx="658800" cy="2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865840" y="475596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9080" y="5746680"/>
              <a:ext cx="0" cy="531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08600" y="3995640"/>
              <a:ext cx="108000" cy="10152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2600" y="4100400"/>
              <a:ext cx="0" cy="2462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662440" y="4473360"/>
              <a:ext cx="399960" cy="1526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5829480" y="5667480"/>
              <a:ext cx="79200" cy="7920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15000" y="627840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5180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0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715000" y="1193040"/>
            <a:ext cx="1271880" cy="2494800"/>
            <a:chOff x="5715000" y="1193040"/>
            <a:chExt cx="1271880" cy="2494800"/>
          </a:xfrm>
        </p:grpSpPr>
        <p:sp>
          <p:nvSpPr>
            <p:cNvPr id="371" name=""/>
            <p:cNvSpPr/>
            <p:nvPr/>
          </p:nvSpPr>
          <p:spPr>
            <a:xfrm>
              <a:off x="6451200" y="2188800"/>
              <a:ext cx="5356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95720" y="119304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9600" y="1650240"/>
              <a:ext cx="47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6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6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2400" y="29707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000"/>
                  </a:solidFill>
                  <a:latin typeface="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2743200"/>
              <a:ext cx="0" cy="461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864400" y="2492640"/>
              <a:ext cx="658800" cy="2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865840" y="21650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9080" y="3156120"/>
              <a:ext cx="0" cy="531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5808600" y="1405080"/>
              <a:ext cx="108000" cy="10152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2600" y="1509840"/>
              <a:ext cx="0" cy="2458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662440" y="1882440"/>
              <a:ext cx="399960" cy="1526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5829120" y="3076560"/>
              <a:ext cx="79560" cy="7920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000" y="368784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5829480" y="2730600"/>
              <a:ext cx="79200" cy="7920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80240" y="25898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0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169520" y="2286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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0268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"/>
          <p:cNvSpPr/>
          <p:nvPr/>
        </p:nvSpPr>
        <p:spPr>
          <a:xfrm>
            <a:off x="1304280" y="5335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6639840" y="3429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1523880" y="220968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2438280" y="19810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352680" y="2514600"/>
            <a:ext cx="1828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6668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5638680" y="33526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6553080" y="3886200"/>
            <a:ext cx="381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4114800" y="35812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5029200" y="4114800"/>
            <a:ext cx="6094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4343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2438280" y="33526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352680" y="3886200"/>
            <a:ext cx="762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266688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1523880" y="27432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1752480" y="3886200"/>
            <a:ext cx="685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1752480" y="27432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371600" y="5029200"/>
            <a:ext cx="23623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3733920" y="4343400"/>
            <a:ext cx="0" cy="6858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3733920" y="4343400"/>
            <a:ext cx="380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5181480" y="25146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5181480" y="36576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1600200" y="22096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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4800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1151640" y="1854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5805720" y="3505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1154160" y="24638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114300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3581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502920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6561720" y="39625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7" name=""/>
          <p:cNvGrpSpPr/>
          <p:nvPr/>
        </p:nvGrpSpPr>
        <p:grpSpPr>
          <a:xfrm>
            <a:off x="6629400" y="4114800"/>
            <a:ext cx="1905120" cy="380880"/>
            <a:chOff x="6629400" y="4114800"/>
            <a:chExt cx="1905120" cy="380880"/>
          </a:xfrm>
        </p:grpSpPr>
        <p:grpSp>
          <p:nvGrpSpPr>
            <p:cNvPr id="4928" name=""/>
            <p:cNvGrpSpPr/>
            <p:nvPr/>
          </p:nvGrpSpPr>
          <p:grpSpPr>
            <a:xfrm>
              <a:off x="6629400" y="4114800"/>
              <a:ext cx="533520" cy="380880"/>
              <a:chOff x="6629400" y="4114800"/>
              <a:chExt cx="533520" cy="380880"/>
            </a:xfrm>
          </p:grpSpPr>
          <p:sp>
            <p:nvSpPr>
              <p:cNvPr id="4929" name=""/>
              <p:cNvSpPr/>
              <p:nvPr/>
            </p:nvSpPr>
            <p:spPr>
              <a:xfrm>
                <a:off x="6934320" y="41148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0" name=""/>
              <p:cNvGrpSpPr/>
              <p:nvPr/>
            </p:nvGrpSpPr>
            <p:grpSpPr>
              <a:xfrm>
                <a:off x="6629400" y="4114800"/>
                <a:ext cx="533520" cy="380880"/>
                <a:chOff x="6629400" y="4114800"/>
                <a:chExt cx="533520" cy="380880"/>
              </a:xfrm>
            </p:grpSpPr>
            <p:sp>
              <p:nvSpPr>
                <p:cNvPr id="4931" name=""/>
                <p:cNvSpPr/>
                <p:nvPr/>
              </p:nvSpPr>
              <p:spPr>
                <a:xfrm>
                  <a:off x="662940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 flipV="1">
                  <a:off x="693432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716292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4" name=""/>
            <p:cNvGrpSpPr/>
            <p:nvPr/>
          </p:nvGrpSpPr>
          <p:grpSpPr>
            <a:xfrm>
              <a:off x="7162920" y="4114800"/>
              <a:ext cx="533160" cy="380880"/>
              <a:chOff x="7162920" y="4114800"/>
              <a:chExt cx="533160" cy="380880"/>
            </a:xfrm>
          </p:grpSpPr>
          <p:sp>
            <p:nvSpPr>
              <p:cNvPr id="4935" name=""/>
              <p:cNvSpPr/>
              <p:nvPr/>
            </p:nvSpPr>
            <p:spPr>
              <a:xfrm>
                <a:off x="7467480" y="4114800"/>
                <a:ext cx="228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6" name=""/>
              <p:cNvGrpSpPr/>
              <p:nvPr/>
            </p:nvGrpSpPr>
            <p:grpSpPr>
              <a:xfrm>
                <a:off x="7162920" y="4114800"/>
                <a:ext cx="533160" cy="380880"/>
                <a:chOff x="7162920" y="4114800"/>
                <a:chExt cx="533160" cy="380880"/>
              </a:xfrm>
            </p:grpSpPr>
            <p:sp>
              <p:nvSpPr>
                <p:cNvPr id="4937" name=""/>
                <p:cNvSpPr/>
                <p:nvPr/>
              </p:nvSpPr>
              <p:spPr>
                <a:xfrm>
                  <a:off x="7162920" y="4495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 flipV="1">
                  <a:off x="746748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769608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0" name=""/>
            <p:cNvGrpSpPr/>
            <p:nvPr/>
          </p:nvGrpSpPr>
          <p:grpSpPr>
            <a:xfrm>
              <a:off x="7696080" y="4114800"/>
              <a:ext cx="533520" cy="380880"/>
              <a:chOff x="7696080" y="4114800"/>
              <a:chExt cx="533520" cy="380880"/>
            </a:xfrm>
          </p:grpSpPr>
          <p:sp>
            <p:nvSpPr>
              <p:cNvPr id="4941" name=""/>
              <p:cNvSpPr/>
              <p:nvPr/>
            </p:nvSpPr>
            <p:spPr>
              <a:xfrm>
                <a:off x="8001000" y="41148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2" name=""/>
              <p:cNvGrpSpPr/>
              <p:nvPr/>
            </p:nvGrpSpPr>
            <p:grpSpPr>
              <a:xfrm>
                <a:off x="7696080" y="4114800"/>
                <a:ext cx="533520" cy="380880"/>
                <a:chOff x="7696080" y="4114800"/>
                <a:chExt cx="533520" cy="380880"/>
              </a:xfrm>
            </p:grpSpPr>
            <p:sp>
              <p:nvSpPr>
                <p:cNvPr id="4943" name=""/>
                <p:cNvSpPr/>
                <p:nvPr/>
              </p:nvSpPr>
              <p:spPr>
                <a:xfrm>
                  <a:off x="769608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 flipV="1">
                  <a:off x="800100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822960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6" name=""/>
            <p:cNvSpPr/>
            <p:nvPr/>
          </p:nvSpPr>
          <p:spPr>
            <a:xfrm>
              <a:off x="8229600" y="44956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456840" y="1295280"/>
            <a:ext cx="2057760" cy="3277440"/>
            <a:chOff x="456840" y="1295280"/>
            <a:chExt cx="2057760" cy="3277440"/>
          </a:xfrm>
        </p:grpSpPr>
        <p:grpSp>
          <p:nvGrpSpPr>
            <p:cNvPr id="4948" name=""/>
            <p:cNvGrpSpPr/>
            <p:nvPr/>
          </p:nvGrpSpPr>
          <p:grpSpPr>
            <a:xfrm>
              <a:off x="609480" y="1295280"/>
              <a:ext cx="1905120" cy="380880"/>
              <a:chOff x="609480" y="1295280"/>
              <a:chExt cx="1905120" cy="380880"/>
            </a:xfrm>
          </p:grpSpPr>
          <p:grpSp>
            <p:nvGrpSpPr>
              <p:cNvPr id="4949" name=""/>
              <p:cNvGrpSpPr/>
              <p:nvPr/>
            </p:nvGrpSpPr>
            <p:grpSpPr>
              <a:xfrm>
                <a:off x="609480" y="1295280"/>
                <a:ext cx="533520" cy="380880"/>
                <a:chOff x="609480" y="1295280"/>
                <a:chExt cx="533520" cy="380880"/>
              </a:xfrm>
            </p:grpSpPr>
            <p:sp>
              <p:nvSpPr>
                <p:cNvPr id="4950" name=""/>
                <p:cNvSpPr/>
                <p:nvPr/>
              </p:nvSpPr>
              <p:spPr>
                <a:xfrm>
                  <a:off x="914400" y="129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1" name=""/>
                <p:cNvGrpSpPr/>
                <p:nvPr/>
              </p:nvGrpSpPr>
              <p:grpSpPr>
                <a:xfrm>
                  <a:off x="609480" y="1295280"/>
                  <a:ext cx="533520" cy="380880"/>
                  <a:chOff x="609480" y="1295280"/>
                  <a:chExt cx="533520" cy="380880"/>
                </a:xfrm>
              </p:grpSpPr>
              <p:sp>
                <p:nvSpPr>
                  <p:cNvPr id="4952" name=""/>
                  <p:cNvSpPr/>
                  <p:nvPr/>
                </p:nvSpPr>
                <p:spPr>
                  <a:xfrm>
                    <a:off x="609480" y="16761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 flipV="1">
                    <a:off x="91440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>
                    <a:off x="114300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5" name=""/>
              <p:cNvGrpSpPr/>
              <p:nvPr/>
            </p:nvGrpSpPr>
            <p:grpSpPr>
              <a:xfrm>
                <a:off x="1143000" y="1295280"/>
                <a:ext cx="533160" cy="380880"/>
                <a:chOff x="1143000" y="1295280"/>
                <a:chExt cx="533160" cy="380880"/>
              </a:xfrm>
            </p:grpSpPr>
            <p:sp>
              <p:nvSpPr>
                <p:cNvPr id="4956" name=""/>
                <p:cNvSpPr/>
                <p:nvPr/>
              </p:nvSpPr>
              <p:spPr>
                <a:xfrm>
                  <a:off x="1447560" y="129528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7" name=""/>
                <p:cNvGrpSpPr/>
                <p:nvPr/>
              </p:nvGrpSpPr>
              <p:grpSpPr>
                <a:xfrm>
                  <a:off x="1143000" y="1295280"/>
                  <a:ext cx="533160" cy="380880"/>
                  <a:chOff x="1143000" y="1295280"/>
                  <a:chExt cx="533160" cy="380880"/>
                </a:xfrm>
              </p:grpSpPr>
              <p:sp>
                <p:nvSpPr>
                  <p:cNvPr id="4958" name=""/>
                  <p:cNvSpPr/>
                  <p:nvPr/>
                </p:nvSpPr>
                <p:spPr>
                  <a:xfrm>
                    <a:off x="1143000" y="16761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 flipV="1">
                    <a:off x="144756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"/>
                  <p:cNvSpPr/>
                  <p:nvPr/>
                </p:nvSpPr>
                <p:spPr>
                  <a:xfrm>
                    <a:off x="167616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1" name=""/>
              <p:cNvGrpSpPr/>
              <p:nvPr/>
            </p:nvGrpSpPr>
            <p:grpSpPr>
              <a:xfrm>
                <a:off x="1676160" y="1295280"/>
                <a:ext cx="533520" cy="380880"/>
                <a:chOff x="1676160" y="1295280"/>
                <a:chExt cx="533520" cy="380880"/>
              </a:xfrm>
            </p:grpSpPr>
            <p:sp>
              <p:nvSpPr>
                <p:cNvPr id="4962" name=""/>
                <p:cNvSpPr/>
                <p:nvPr/>
              </p:nvSpPr>
              <p:spPr>
                <a:xfrm>
                  <a:off x="1981080" y="129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3" name=""/>
                <p:cNvGrpSpPr/>
                <p:nvPr/>
              </p:nvGrpSpPr>
              <p:grpSpPr>
                <a:xfrm>
                  <a:off x="1676160" y="1295280"/>
                  <a:ext cx="533520" cy="380880"/>
                  <a:chOff x="1676160" y="1295280"/>
                  <a:chExt cx="533520" cy="380880"/>
                </a:xfrm>
              </p:grpSpPr>
              <p:sp>
                <p:nvSpPr>
                  <p:cNvPr id="4964" name=""/>
                  <p:cNvSpPr/>
                  <p:nvPr/>
                </p:nvSpPr>
                <p:spPr>
                  <a:xfrm>
                    <a:off x="1676160" y="16761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"/>
                  <p:cNvSpPr/>
                  <p:nvPr/>
                </p:nvSpPr>
                <p:spPr>
                  <a:xfrm flipV="1">
                    <a:off x="198108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/>
                  <p:nvPr/>
                </p:nvSpPr>
                <p:spPr>
                  <a:xfrm>
                    <a:off x="220968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7" name=""/>
              <p:cNvSpPr/>
              <p:nvPr/>
            </p:nvSpPr>
            <p:spPr>
              <a:xfrm>
                <a:off x="2209680" y="16761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8" name=""/>
            <p:cNvGrpSpPr/>
            <p:nvPr/>
          </p:nvGrpSpPr>
          <p:grpSpPr>
            <a:xfrm>
              <a:off x="456840" y="4188600"/>
              <a:ext cx="1905120" cy="384120"/>
              <a:chOff x="456840" y="4188600"/>
              <a:chExt cx="1905120" cy="384120"/>
            </a:xfrm>
          </p:grpSpPr>
          <p:grpSp>
            <p:nvGrpSpPr>
              <p:cNvPr id="4969" name=""/>
              <p:cNvGrpSpPr/>
              <p:nvPr/>
            </p:nvGrpSpPr>
            <p:grpSpPr>
              <a:xfrm>
                <a:off x="1828440" y="4188600"/>
                <a:ext cx="533520" cy="382320"/>
                <a:chOff x="1828440" y="4188600"/>
                <a:chExt cx="533520" cy="382320"/>
              </a:xfrm>
            </p:grpSpPr>
            <p:sp>
              <p:nvSpPr>
                <p:cNvPr id="4970" name=""/>
                <p:cNvSpPr/>
                <p:nvPr/>
              </p:nvSpPr>
              <p:spPr>
                <a:xfrm flipH="1">
                  <a:off x="1829160" y="4570560"/>
                  <a:ext cx="228600" cy="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1" name=""/>
                <p:cNvGrpSpPr/>
                <p:nvPr/>
              </p:nvGrpSpPr>
              <p:grpSpPr>
                <a:xfrm>
                  <a:off x="1828440" y="4188600"/>
                  <a:ext cx="533520" cy="382320"/>
                  <a:chOff x="1828440" y="4188600"/>
                  <a:chExt cx="533520" cy="382320"/>
                </a:xfrm>
              </p:grpSpPr>
              <p:sp>
                <p:nvSpPr>
                  <p:cNvPr id="4972" name=""/>
                  <p:cNvSpPr/>
                  <p:nvPr/>
                </p:nvSpPr>
                <p:spPr>
                  <a:xfrm flipH="1">
                    <a:off x="2057040" y="4188600"/>
                    <a:ext cx="304920" cy="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"/>
                  <p:cNvSpPr/>
                  <p:nvPr/>
                </p:nvSpPr>
                <p:spPr>
                  <a:xfrm>
                    <a:off x="2057040" y="418968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 flipH="1" flipV="1">
                    <a:off x="1828440" y="418968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5" name=""/>
              <p:cNvGrpSpPr/>
              <p:nvPr/>
            </p:nvGrpSpPr>
            <p:grpSpPr>
              <a:xfrm>
                <a:off x="1295280" y="4189680"/>
                <a:ext cx="533160" cy="382320"/>
                <a:chOff x="1295280" y="4189680"/>
                <a:chExt cx="533160" cy="382320"/>
              </a:xfrm>
            </p:grpSpPr>
            <p:sp>
              <p:nvSpPr>
                <p:cNvPr id="4976" name=""/>
                <p:cNvSpPr/>
                <p:nvPr/>
              </p:nvSpPr>
              <p:spPr>
                <a:xfrm flipH="1">
                  <a:off x="1296360" y="4571280"/>
                  <a:ext cx="228240" cy="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7" name=""/>
                <p:cNvGrpSpPr/>
                <p:nvPr/>
              </p:nvGrpSpPr>
              <p:grpSpPr>
                <a:xfrm>
                  <a:off x="1295280" y="4189680"/>
                  <a:ext cx="533160" cy="382320"/>
                  <a:chOff x="1295280" y="4189680"/>
                  <a:chExt cx="533160" cy="382320"/>
                </a:xfrm>
              </p:grpSpPr>
              <p:sp>
                <p:nvSpPr>
                  <p:cNvPr id="4978" name=""/>
                  <p:cNvSpPr/>
                  <p:nvPr/>
                </p:nvSpPr>
                <p:spPr>
                  <a:xfrm flipH="1">
                    <a:off x="1523880" y="4189680"/>
                    <a:ext cx="304560" cy="3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9" name=""/>
                  <p:cNvSpPr/>
                  <p:nvPr/>
                </p:nvSpPr>
                <p:spPr>
                  <a:xfrm>
                    <a:off x="1523880" y="419040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"/>
                  <p:cNvSpPr/>
                  <p:nvPr/>
                </p:nvSpPr>
                <p:spPr>
                  <a:xfrm flipH="1" flipV="1">
                    <a:off x="1295280" y="419076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1" name=""/>
              <p:cNvGrpSpPr/>
              <p:nvPr/>
            </p:nvGrpSpPr>
            <p:grpSpPr>
              <a:xfrm>
                <a:off x="761760" y="4190760"/>
                <a:ext cx="533520" cy="381960"/>
                <a:chOff x="761760" y="4190760"/>
                <a:chExt cx="533520" cy="381960"/>
              </a:xfrm>
            </p:grpSpPr>
            <p:sp>
              <p:nvSpPr>
                <p:cNvPr id="4982" name=""/>
                <p:cNvSpPr/>
                <p:nvPr/>
              </p:nvSpPr>
              <p:spPr>
                <a:xfrm flipH="1">
                  <a:off x="762480" y="4572360"/>
                  <a:ext cx="228600" cy="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3" name=""/>
                <p:cNvGrpSpPr/>
                <p:nvPr/>
              </p:nvGrpSpPr>
              <p:grpSpPr>
                <a:xfrm>
                  <a:off x="761760" y="4190760"/>
                  <a:ext cx="533520" cy="381960"/>
                  <a:chOff x="761760" y="4190760"/>
                  <a:chExt cx="533520" cy="381960"/>
                </a:xfrm>
              </p:grpSpPr>
              <p:sp>
                <p:nvSpPr>
                  <p:cNvPr id="4984" name=""/>
                  <p:cNvSpPr/>
                  <p:nvPr/>
                </p:nvSpPr>
                <p:spPr>
                  <a:xfrm flipH="1">
                    <a:off x="990360" y="4190760"/>
                    <a:ext cx="304920" cy="3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"/>
                  <p:cNvSpPr/>
                  <p:nvPr/>
                </p:nvSpPr>
                <p:spPr>
                  <a:xfrm>
                    <a:off x="990360" y="419148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"/>
                  <p:cNvSpPr/>
                  <p:nvPr/>
                </p:nvSpPr>
                <p:spPr>
                  <a:xfrm flipH="1" flipV="1">
                    <a:off x="761760" y="4191480"/>
                    <a:ext cx="72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87" name=""/>
              <p:cNvSpPr/>
              <p:nvPr/>
            </p:nvSpPr>
            <p:spPr>
              <a:xfrm flipH="1">
                <a:off x="456840" y="4191480"/>
                <a:ext cx="304920" cy="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8" name=""/>
          <p:cNvGrpSpPr/>
          <p:nvPr/>
        </p:nvGrpSpPr>
        <p:grpSpPr>
          <a:xfrm>
            <a:off x="3437640" y="1876320"/>
            <a:ext cx="2428920" cy="563040"/>
            <a:chOff x="3437640" y="1876320"/>
            <a:chExt cx="2428920" cy="563040"/>
          </a:xfrm>
        </p:grpSpPr>
        <p:sp>
          <p:nvSpPr>
            <p:cNvPr id="4989" name=""/>
            <p:cNvSpPr/>
            <p:nvPr/>
          </p:nvSpPr>
          <p:spPr>
            <a:xfrm>
              <a:off x="3437640" y="18763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0" name=""/>
            <p:cNvGrpSpPr/>
            <p:nvPr/>
          </p:nvGrpSpPr>
          <p:grpSpPr>
            <a:xfrm>
              <a:off x="3505320" y="1904760"/>
              <a:ext cx="2361240" cy="534600"/>
              <a:chOff x="3505320" y="1904760"/>
              <a:chExt cx="2361240" cy="534600"/>
            </a:xfrm>
          </p:grpSpPr>
          <p:sp>
            <p:nvSpPr>
              <p:cNvPr id="4991" name=""/>
              <p:cNvSpPr/>
              <p:nvPr/>
            </p:nvSpPr>
            <p:spPr>
              <a:xfrm>
                <a:off x="3505320" y="19047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2" name=""/>
              <p:cNvGrpSpPr/>
              <p:nvPr/>
            </p:nvGrpSpPr>
            <p:grpSpPr>
              <a:xfrm>
                <a:off x="3962160" y="2055600"/>
                <a:ext cx="1904400" cy="383760"/>
                <a:chOff x="3962160" y="2055600"/>
                <a:chExt cx="1904400" cy="383760"/>
              </a:xfrm>
            </p:grpSpPr>
            <p:grpSp>
              <p:nvGrpSpPr>
                <p:cNvPr id="4993" name=""/>
                <p:cNvGrpSpPr/>
                <p:nvPr/>
              </p:nvGrpSpPr>
              <p:grpSpPr>
                <a:xfrm>
                  <a:off x="5333400" y="2055600"/>
                  <a:ext cx="533160" cy="381960"/>
                  <a:chOff x="5333400" y="2055600"/>
                  <a:chExt cx="533160" cy="381960"/>
                </a:xfrm>
              </p:grpSpPr>
              <p:sp>
                <p:nvSpPr>
                  <p:cNvPr id="4994" name=""/>
                  <p:cNvSpPr/>
                  <p:nvPr/>
                </p:nvSpPr>
                <p:spPr>
                  <a:xfrm flipH="1">
                    <a:off x="5334480" y="2437200"/>
                    <a:ext cx="228240" cy="3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95" name=""/>
                  <p:cNvGrpSpPr/>
                  <p:nvPr/>
                </p:nvGrpSpPr>
                <p:grpSpPr>
                  <a:xfrm>
                    <a:off x="5333400" y="2055600"/>
                    <a:ext cx="533160" cy="381960"/>
                    <a:chOff x="5333400" y="2055600"/>
                    <a:chExt cx="533160" cy="381960"/>
                  </a:xfrm>
                </p:grpSpPr>
                <p:sp>
                  <p:nvSpPr>
                    <p:cNvPr id="4996" name=""/>
                    <p:cNvSpPr/>
                    <p:nvPr/>
                  </p:nvSpPr>
                  <p:spPr>
                    <a:xfrm flipH="1">
                      <a:off x="5562000" y="2055600"/>
                      <a:ext cx="304560" cy="72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5562000" y="205632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8" name=""/>
                    <p:cNvSpPr/>
                    <p:nvPr/>
                  </p:nvSpPr>
                  <p:spPr>
                    <a:xfrm flipH="1" flipV="1">
                      <a:off x="5333400" y="205668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99" name=""/>
                <p:cNvGrpSpPr/>
                <p:nvPr/>
              </p:nvGrpSpPr>
              <p:grpSpPr>
                <a:xfrm>
                  <a:off x="4800600" y="2056680"/>
                  <a:ext cx="532800" cy="381960"/>
                  <a:chOff x="4800600" y="2056680"/>
                  <a:chExt cx="532800" cy="381960"/>
                </a:xfrm>
              </p:grpSpPr>
              <p:sp>
                <p:nvSpPr>
                  <p:cNvPr id="5000" name=""/>
                  <p:cNvSpPr/>
                  <p:nvPr/>
                </p:nvSpPr>
                <p:spPr>
                  <a:xfrm flipH="1">
                    <a:off x="4801680" y="2437920"/>
                    <a:ext cx="228240" cy="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01" name=""/>
                  <p:cNvGrpSpPr/>
                  <p:nvPr/>
                </p:nvGrpSpPr>
                <p:grpSpPr>
                  <a:xfrm>
                    <a:off x="4800600" y="2056680"/>
                    <a:ext cx="532800" cy="381960"/>
                    <a:chOff x="4800600" y="2056680"/>
                    <a:chExt cx="532800" cy="381960"/>
                  </a:xfrm>
                </p:grpSpPr>
                <p:sp>
                  <p:nvSpPr>
                    <p:cNvPr id="5002" name=""/>
                    <p:cNvSpPr/>
                    <p:nvPr/>
                  </p:nvSpPr>
                  <p:spPr>
                    <a:xfrm flipH="1">
                      <a:off x="5029200" y="2056680"/>
                      <a:ext cx="304200" cy="36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3" name=""/>
                    <p:cNvSpPr/>
                    <p:nvPr/>
                  </p:nvSpPr>
                  <p:spPr>
                    <a:xfrm>
                      <a:off x="5029200" y="205704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4" name=""/>
                    <p:cNvSpPr/>
                    <p:nvPr/>
                  </p:nvSpPr>
                  <p:spPr>
                    <a:xfrm flipH="1" flipV="1">
                      <a:off x="4800600" y="205776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05" name=""/>
                <p:cNvGrpSpPr/>
                <p:nvPr/>
              </p:nvGrpSpPr>
              <p:grpSpPr>
                <a:xfrm>
                  <a:off x="4267080" y="2057760"/>
                  <a:ext cx="533160" cy="381600"/>
                  <a:chOff x="4267080" y="2057760"/>
                  <a:chExt cx="533160" cy="381600"/>
                </a:xfrm>
              </p:grpSpPr>
              <p:sp>
                <p:nvSpPr>
                  <p:cNvPr id="5006" name=""/>
                  <p:cNvSpPr/>
                  <p:nvPr/>
                </p:nvSpPr>
                <p:spPr>
                  <a:xfrm flipH="1">
                    <a:off x="4268160" y="2439000"/>
                    <a:ext cx="228240" cy="3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07" name=""/>
                  <p:cNvGrpSpPr/>
                  <p:nvPr/>
                </p:nvGrpSpPr>
                <p:grpSpPr>
                  <a:xfrm>
                    <a:off x="4267080" y="2057760"/>
                    <a:ext cx="533160" cy="381600"/>
                    <a:chOff x="4267080" y="2057760"/>
                    <a:chExt cx="533160" cy="381600"/>
                  </a:xfrm>
                </p:grpSpPr>
                <p:sp>
                  <p:nvSpPr>
                    <p:cNvPr id="5008" name=""/>
                    <p:cNvSpPr/>
                    <p:nvPr/>
                  </p:nvSpPr>
                  <p:spPr>
                    <a:xfrm flipH="1">
                      <a:off x="4495680" y="2057760"/>
                      <a:ext cx="304560" cy="36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9" name=""/>
                    <p:cNvSpPr/>
                    <p:nvPr/>
                  </p:nvSpPr>
                  <p:spPr>
                    <a:xfrm>
                      <a:off x="4495680" y="205812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0" name=""/>
                    <p:cNvSpPr/>
                    <p:nvPr/>
                  </p:nvSpPr>
                  <p:spPr>
                    <a:xfrm flipH="1" flipV="1">
                      <a:off x="4267080" y="2058480"/>
                      <a:ext cx="72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011" name=""/>
                <p:cNvSpPr/>
                <p:nvPr/>
              </p:nvSpPr>
              <p:spPr>
                <a:xfrm flipH="1">
                  <a:off x="3962160" y="2058480"/>
                  <a:ext cx="304560" cy="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12" name=""/>
          <p:cNvGrpSpPr/>
          <p:nvPr/>
        </p:nvGrpSpPr>
        <p:grpSpPr>
          <a:xfrm>
            <a:off x="1347480" y="5581800"/>
            <a:ext cx="6044040" cy="669600"/>
            <a:chOff x="1347480" y="5581800"/>
            <a:chExt cx="6044040" cy="669600"/>
          </a:xfrm>
        </p:grpSpPr>
        <p:sp>
          <p:nvSpPr>
            <p:cNvPr id="5013" name=""/>
            <p:cNvSpPr/>
            <p:nvPr/>
          </p:nvSpPr>
          <p:spPr>
            <a:xfrm>
              <a:off x="1347480" y="5646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写出逻辑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521400" y="5710320"/>
              <a:ext cx="320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013360" y="5608800"/>
              <a:ext cx="237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+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3600360" y="5710320"/>
              <a:ext cx="5144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4772160" y="5710320"/>
              <a:ext cx="25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3679920" y="5581800"/>
              <a:ext cx="1349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971800" y="5639040"/>
              <a:ext cx="250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• B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4514760" y="5646960"/>
              <a:ext cx="5144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1" name=""/>
          <p:cNvSpPr/>
          <p:nvPr/>
        </p:nvSpPr>
        <p:spPr>
          <a:xfrm>
            <a:off x="6443640" y="2209680"/>
            <a:ext cx="1315800" cy="520560"/>
          </a:xfrm>
          <a:prstGeom prst="rect">
            <a:avLst/>
          </a:prstGeom>
          <a:noFill/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设：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4191120" y="2743200"/>
            <a:ext cx="1066680" cy="533520"/>
          </a:xfrm>
          <a:prstGeom prst="wedgeRoundRectCallout">
            <a:avLst>
              <a:gd name="adj1" fmla="val -40027"/>
              <a:gd name="adj2" fmla="val 115180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3276720" y="1143000"/>
            <a:ext cx="990360" cy="457200"/>
          </a:xfrm>
          <a:prstGeom prst="wedgeRoundRectCallout">
            <a:avLst>
              <a:gd name="adj1" fmla="val -91828"/>
              <a:gd name="adj2" fmla="val 19583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5257800" y="4876920"/>
            <a:ext cx="1905120" cy="533160"/>
          </a:xfrm>
          <a:prstGeom prst="wedgeRoundRectCallout">
            <a:avLst>
              <a:gd name="adj1" fmla="val 60000"/>
              <a:gd name="adj2" fmla="val -13095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选通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3200400" y="24382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6400800" y="38098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"/>
          <p:cNvSpPr/>
          <p:nvPr/>
        </p:nvSpPr>
        <p:spPr>
          <a:xfrm>
            <a:off x="6639480" y="38671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0" name=""/>
          <p:cNvGrpSpPr/>
          <p:nvPr/>
        </p:nvGrpSpPr>
        <p:grpSpPr>
          <a:xfrm>
            <a:off x="533160" y="1447560"/>
            <a:ext cx="2057760" cy="3277440"/>
            <a:chOff x="533160" y="1447560"/>
            <a:chExt cx="2057760" cy="3277440"/>
          </a:xfrm>
        </p:grpSpPr>
        <p:grpSp>
          <p:nvGrpSpPr>
            <p:cNvPr id="5031" name=""/>
            <p:cNvGrpSpPr/>
            <p:nvPr/>
          </p:nvGrpSpPr>
          <p:grpSpPr>
            <a:xfrm>
              <a:off x="685800" y="1447560"/>
              <a:ext cx="1905120" cy="380880"/>
              <a:chOff x="685800" y="1447560"/>
              <a:chExt cx="1905120" cy="380880"/>
            </a:xfrm>
          </p:grpSpPr>
          <p:grpSp>
            <p:nvGrpSpPr>
              <p:cNvPr id="5032" name=""/>
              <p:cNvGrpSpPr/>
              <p:nvPr/>
            </p:nvGrpSpPr>
            <p:grpSpPr>
              <a:xfrm>
                <a:off x="685800" y="1447560"/>
                <a:ext cx="533520" cy="380880"/>
                <a:chOff x="685800" y="1447560"/>
                <a:chExt cx="533520" cy="380880"/>
              </a:xfrm>
            </p:grpSpPr>
            <p:sp>
              <p:nvSpPr>
                <p:cNvPr id="5033" name=""/>
                <p:cNvSpPr/>
                <p:nvPr/>
              </p:nvSpPr>
              <p:spPr>
                <a:xfrm>
                  <a:off x="990720" y="14479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4" name=""/>
                <p:cNvGrpSpPr/>
                <p:nvPr/>
              </p:nvGrpSpPr>
              <p:grpSpPr>
                <a:xfrm>
                  <a:off x="685800" y="1447560"/>
                  <a:ext cx="533520" cy="380880"/>
                  <a:chOff x="685800" y="1447560"/>
                  <a:chExt cx="533520" cy="380880"/>
                </a:xfrm>
              </p:grpSpPr>
              <p:sp>
                <p:nvSpPr>
                  <p:cNvPr id="5035" name=""/>
                  <p:cNvSpPr/>
                  <p:nvPr/>
                </p:nvSpPr>
                <p:spPr>
                  <a:xfrm>
                    <a:off x="685800" y="182844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 flipV="1">
                    <a:off x="99072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121932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8" name=""/>
              <p:cNvGrpSpPr/>
              <p:nvPr/>
            </p:nvGrpSpPr>
            <p:grpSpPr>
              <a:xfrm>
                <a:off x="1219320" y="1447560"/>
                <a:ext cx="533160" cy="380880"/>
                <a:chOff x="1219320" y="1447560"/>
                <a:chExt cx="533160" cy="380880"/>
              </a:xfrm>
            </p:grpSpPr>
            <p:sp>
              <p:nvSpPr>
                <p:cNvPr id="5039" name=""/>
                <p:cNvSpPr/>
                <p:nvPr/>
              </p:nvSpPr>
              <p:spPr>
                <a:xfrm>
                  <a:off x="1523880" y="14479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0" name=""/>
                <p:cNvGrpSpPr/>
                <p:nvPr/>
              </p:nvGrpSpPr>
              <p:grpSpPr>
                <a:xfrm>
                  <a:off x="1219320" y="1447560"/>
                  <a:ext cx="533160" cy="380880"/>
                  <a:chOff x="1219320" y="1447560"/>
                  <a:chExt cx="533160" cy="380880"/>
                </a:xfrm>
              </p:grpSpPr>
              <p:sp>
                <p:nvSpPr>
                  <p:cNvPr id="5041" name=""/>
                  <p:cNvSpPr/>
                  <p:nvPr/>
                </p:nvSpPr>
                <p:spPr>
                  <a:xfrm>
                    <a:off x="1219320" y="182844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 flipV="1">
                    <a:off x="152388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"/>
                  <p:cNvSpPr/>
                  <p:nvPr/>
                </p:nvSpPr>
                <p:spPr>
                  <a:xfrm>
                    <a:off x="175248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4" name=""/>
              <p:cNvGrpSpPr/>
              <p:nvPr/>
            </p:nvGrpSpPr>
            <p:grpSpPr>
              <a:xfrm>
                <a:off x="1752480" y="1447560"/>
                <a:ext cx="533520" cy="380880"/>
                <a:chOff x="1752480" y="1447560"/>
                <a:chExt cx="533520" cy="380880"/>
              </a:xfrm>
            </p:grpSpPr>
            <p:sp>
              <p:nvSpPr>
                <p:cNvPr id="5045" name=""/>
                <p:cNvSpPr/>
                <p:nvPr/>
              </p:nvSpPr>
              <p:spPr>
                <a:xfrm>
                  <a:off x="2057400" y="14479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6" name=""/>
                <p:cNvGrpSpPr/>
                <p:nvPr/>
              </p:nvGrpSpPr>
              <p:grpSpPr>
                <a:xfrm>
                  <a:off x="1752480" y="1447560"/>
                  <a:ext cx="533520" cy="380880"/>
                  <a:chOff x="1752480" y="1447560"/>
                  <a:chExt cx="533520" cy="380880"/>
                </a:xfrm>
              </p:grpSpPr>
              <p:sp>
                <p:nvSpPr>
                  <p:cNvPr id="5047" name=""/>
                  <p:cNvSpPr/>
                  <p:nvPr/>
                </p:nvSpPr>
                <p:spPr>
                  <a:xfrm>
                    <a:off x="1752480" y="182844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 flipV="1">
                    <a:off x="205740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228600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50" name=""/>
              <p:cNvSpPr/>
              <p:nvPr/>
            </p:nvSpPr>
            <p:spPr>
              <a:xfrm>
                <a:off x="2286000" y="182844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1" name=""/>
            <p:cNvGrpSpPr/>
            <p:nvPr/>
          </p:nvGrpSpPr>
          <p:grpSpPr>
            <a:xfrm>
              <a:off x="533160" y="4341240"/>
              <a:ext cx="1905120" cy="383760"/>
              <a:chOff x="533160" y="4341240"/>
              <a:chExt cx="1905120" cy="383760"/>
            </a:xfrm>
          </p:grpSpPr>
          <p:grpSp>
            <p:nvGrpSpPr>
              <p:cNvPr id="5052" name=""/>
              <p:cNvGrpSpPr/>
              <p:nvPr/>
            </p:nvGrpSpPr>
            <p:grpSpPr>
              <a:xfrm>
                <a:off x="1904760" y="4341240"/>
                <a:ext cx="533520" cy="381960"/>
                <a:chOff x="1904760" y="4341240"/>
                <a:chExt cx="533520" cy="381960"/>
              </a:xfrm>
            </p:grpSpPr>
            <p:sp>
              <p:nvSpPr>
                <p:cNvPr id="5053" name=""/>
                <p:cNvSpPr/>
                <p:nvPr/>
              </p:nvSpPr>
              <p:spPr>
                <a:xfrm flipH="1">
                  <a:off x="1905480" y="4722840"/>
                  <a:ext cx="22860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4" name=""/>
                <p:cNvGrpSpPr/>
                <p:nvPr/>
              </p:nvGrpSpPr>
              <p:grpSpPr>
                <a:xfrm>
                  <a:off x="1904760" y="4341240"/>
                  <a:ext cx="533520" cy="381960"/>
                  <a:chOff x="1904760" y="4341240"/>
                  <a:chExt cx="533520" cy="381960"/>
                </a:xfrm>
              </p:grpSpPr>
              <p:sp>
                <p:nvSpPr>
                  <p:cNvPr id="5055" name=""/>
                  <p:cNvSpPr/>
                  <p:nvPr/>
                </p:nvSpPr>
                <p:spPr>
                  <a:xfrm flipH="1">
                    <a:off x="2133360" y="4341240"/>
                    <a:ext cx="304920" cy="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2133360" y="434196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 flipH="1" flipV="1">
                    <a:off x="1904760" y="434232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8" name=""/>
              <p:cNvGrpSpPr/>
              <p:nvPr/>
            </p:nvGrpSpPr>
            <p:grpSpPr>
              <a:xfrm>
                <a:off x="1371600" y="4342320"/>
                <a:ext cx="533160" cy="381960"/>
                <a:chOff x="1371600" y="4342320"/>
                <a:chExt cx="533160" cy="381960"/>
              </a:xfrm>
            </p:grpSpPr>
            <p:sp>
              <p:nvSpPr>
                <p:cNvPr id="5059" name=""/>
                <p:cNvSpPr/>
                <p:nvPr/>
              </p:nvSpPr>
              <p:spPr>
                <a:xfrm flipH="1">
                  <a:off x="1372680" y="4723560"/>
                  <a:ext cx="228240" cy="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0" name=""/>
                <p:cNvGrpSpPr/>
                <p:nvPr/>
              </p:nvGrpSpPr>
              <p:grpSpPr>
                <a:xfrm>
                  <a:off x="1371600" y="4342320"/>
                  <a:ext cx="533160" cy="381960"/>
                  <a:chOff x="1371600" y="4342320"/>
                  <a:chExt cx="533160" cy="381960"/>
                </a:xfrm>
              </p:grpSpPr>
              <p:sp>
                <p:nvSpPr>
                  <p:cNvPr id="5061" name=""/>
                  <p:cNvSpPr/>
                  <p:nvPr/>
                </p:nvSpPr>
                <p:spPr>
                  <a:xfrm flipH="1">
                    <a:off x="1600200" y="43423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>
                    <a:off x="1600200" y="434268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 flipH="1" flipV="1">
                    <a:off x="1371600" y="434340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4" name=""/>
              <p:cNvGrpSpPr/>
              <p:nvPr/>
            </p:nvGrpSpPr>
            <p:grpSpPr>
              <a:xfrm>
                <a:off x="838080" y="4343400"/>
                <a:ext cx="533520" cy="381600"/>
                <a:chOff x="838080" y="4343400"/>
                <a:chExt cx="533520" cy="381600"/>
              </a:xfrm>
            </p:grpSpPr>
            <p:sp>
              <p:nvSpPr>
                <p:cNvPr id="5065" name=""/>
                <p:cNvSpPr/>
                <p:nvPr/>
              </p:nvSpPr>
              <p:spPr>
                <a:xfrm flipH="1">
                  <a:off x="838800" y="4724640"/>
                  <a:ext cx="22860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6" name=""/>
                <p:cNvGrpSpPr/>
                <p:nvPr/>
              </p:nvGrpSpPr>
              <p:grpSpPr>
                <a:xfrm>
                  <a:off x="838080" y="4343400"/>
                  <a:ext cx="533520" cy="381600"/>
                  <a:chOff x="838080" y="4343400"/>
                  <a:chExt cx="533520" cy="381600"/>
                </a:xfrm>
              </p:grpSpPr>
              <p:sp>
                <p:nvSpPr>
                  <p:cNvPr id="5067" name=""/>
                  <p:cNvSpPr/>
                  <p:nvPr/>
                </p:nvSpPr>
                <p:spPr>
                  <a:xfrm flipH="1">
                    <a:off x="1066680" y="4343400"/>
                    <a:ext cx="304920" cy="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8" name=""/>
                  <p:cNvSpPr/>
                  <p:nvPr/>
                </p:nvSpPr>
                <p:spPr>
                  <a:xfrm>
                    <a:off x="1066680" y="434376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"/>
                  <p:cNvSpPr/>
                  <p:nvPr/>
                </p:nvSpPr>
                <p:spPr>
                  <a:xfrm flipH="1" flipV="1">
                    <a:off x="838080" y="4344120"/>
                    <a:ext cx="72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70" name=""/>
              <p:cNvSpPr/>
              <p:nvPr/>
            </p:nvSpPr>
            <p:spPr>
              <a:xfrm flipH="1">
                <a:off x="533160" y="4344120"/>
                <a:ext cx="304920" cy="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1" name=""/>
          <p:cNvGrpSpPr/>
          <p:nvPr/>
        </p:nvGrpSpPr>
        <p:grpSpPr>
          <a:xfrm>
            <a:off x="6629040" y="4341600"/>
            <a:ext cx="1905120" cy="383760"/>
            <a:chOff x="6629040" y="4341600"/>
            <a:chExt cx="1905120" cy="383760"/>
          </a:xfrm>
        </p:grpSpPr>
        <p:grpSp>
          <p:nvGrpSpPr>
            <p:cNvPr id="5072" name=""/>
            <p:cNvGrpSpPr/>
            <p:nvPr/>
          </p:nvGrpSpPr>
          <p:grpSpPr>
            <a:xfrm>
              <a:off x="8000640" y="4341600"/>
              <a:ext cx="533520" cy="381960"/>
              <a:chOff x="8000640" y="4341600"/>
              <a:chExt cx="533520" cy="381960"/>
            </a:xfrm>
          </p:grpSpPr>
          <p:sp>
            <p:nvSpPr>
              <p:cNvPr id="5073" name=""/>
              <p:cNvSpPr/>
              <p:nvPr/>
            </p:nvSpPr>
            <p:spPr>
              <a:xfrm flipH="1">
                <a:off x="8001360" y="4723200"/>
                <a:ext cx="228600" cy="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4" name=""/>
              <p:cNvGrpSpPr/>
              <p:nvPr/>
            </p:nvGrpSpPr>
            <p:grpSpPr>
              <a:xfrm>
                <a:off x="8000640" y="4341600"/>
                <a:ext cx="533520" cy="381960"/>
                <a:chOff x="8000640" y="4341600"/>
                <a:chExt cx="533520" cy="381960"/>
              </a:xfrm>
            </p:grpSpPr>
            <p:sp>
              <p:nvSpPr>
                <p:cNvPr id="5075" name=""/>
                <p:cNvSpPr/>
                <p:nvPr/>
              </p:nvSpPr>
              <p:spPr>
                <a:xfrm flipH="1">
                  <a:off x="8229240" y="4341600"/>
                  <a:ext cx="304920" cy="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8229240" y="434232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 flipH="1" flipV="1">
                  <a:off x="8000640" y="434268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8" name=""/>
            <p:cNvGrpSpPr/>
            <p:nvPr/>
          </p:nvGrpSpPr>
          <p:grpSpPr>
            <a:xfrm>
              <a:off x="7467480" y="4342680"/>
              <a:ext cx="533160" cy="381960"/>
              <a:chOff x="7467480" y="4342680"/>
              <a:chExt cx="533160" cy="381960"/>
            </a:xfrm>
          </p:grpSpPr>
          <p:sp>
            <p:nvSpPr>
              <p:cNvPr id="5079" name=""/>
              <p:cNvSpPr/>
              <p:nvPr/>
            </p:nvSpPr>
            <p:spPr>
              <a:xfrm flipH="1">
                <a:off x="7468560" y="4723920"/>
                <a:ext cx="228240" cy="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0" name=""/>
              <p:cNvGrpSpPr/>
              <p:nvPr/>
            </p:nvGrpSpPr>
            <p:grpSpPr>
              <a:xfrm>
                <a:off x="7467480" y="4342680"/>
                <a:ext cx="533160" cy="381960"/>
                <a:chOff x="7467480" y="4342680"/>
                <a:chExt cx="533160" cy="381960"/>
              </a:xfrm>
            </p:grpSpPr>
            <p:sp>
              <p:nvSpPr>
                <p:cNvPr id="5081" name=""/>
                <p:cNvSpPr/>
                <p:nvPr/>
              </p:nvSpPr>
              <p:spPr>
                <a:xfrm flipH="1">
                  <a:off x="7696080" y="4342680"/>
                  <a:ext cx="30456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7696080" y="434304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 flipV="1">
                  <a:off x="7467480" y="434376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4" name=""/>
            <p:cNvGrpSpPr/>
            <p:nvPr/>
          </p:nvGrpSpPr>
          <p:grpSpPr>
            <a:xfrm>
              <a:off x="6933960" y="4343760"/>
              <a:ext cx="533520" cy="381600"/>
              <a:chOff x="6933960" y="4343760"/>
              <a:chExt cx="533520" cy="381600"/>
            </a:xfrm>
          </p:grpSpPr>
          <p:sp>
            <p:nvSpPr>
              <p:cNvPr id="5085" name=""/>
              <p:cNvSpPr/>
              <p:nvPr/>
            </p:nvSpPr>
            <p:spPr>
              <a:xfrm flipH="1">
                <a:off x="6934680" y="4725000"/>
                <a:ext cx="228600" cy="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6" name=""/>
              <p:cNvGrpSpPr/>
              <p:nvPr/>
            </p:nvGrpSpPr>
            <p:grpSpPr>
              <a:xfrm>
                <a:off x="6933960" y="4343760"/>
                <a:ext cx="533520" cy="381600"/>
                <a:chOff x="6933960" y="4343760"/>
                <a:chExt cx="533520" cy="381600"/>
              </a:xfrm>
            </p:grpSpPr>
            <p:sp>
              <p:nvSpPr>
                <p:cNvPr id="5087" name=""/>
                <p:cNvSpPr/>
                <p:nvPr/>
              </p:nvSpPr>
              <p:spPr>
                <a:xfrm flipH="1">
                  <a:off x="7162560" y="4343760"/>
                  <a:ext cx="30492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7162560" y="434412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 flipH="1" flipV="1">
                  <a:off x="6933960" y="4344480"/>
                  <a:ext cx="72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0" name=""/>
            <p:cNvSpPr/>
            <p:nvPr/>
          </p:nvSpPr>
          <p:spPr>
            <a:xfrm flipH="1">
              <a:off x="6629040" y="4344480"/>
              <a:ext cx="304920" cy="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1" name=""/>
          <p:cNvSpPr/>
          <p:nvPr/>
        </p:nvSpPr>
        <p:spPr>
          <a:xfrm>
            <a:off x="6792120" y="32479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600200" y="211464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2514600" y="18860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3429000" y="2419200"/>
            <a:ext cx="1828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2743200" y="196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5715000" y="32576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6629400" y="3790800"/>
            <a:ext cx="380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4191120" y="3486240"/>
            <a:ext cx="76176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5105520" y="4019400"/>
            <a:ext cx="6094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4419720" y="3714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2514600" y="32576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3429000" y="3790800"/>
            <a:ext cx="762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2743200" y="3409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1600200" y="26478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1828800" y="3790800"/>
            <a:ext cx="685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1828800" y="26478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1447920" y="4933800"/>
            <a:ext cx="2361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3809880" y="4248000"/>
            <a:ext cx="0" cy="6858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3809880" y="4248000"/>
            <a:ext cx="381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5257800" y="24192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5257800" y="35622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1676520" y="211464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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066680" y="4705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227960" y="175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5881680" y="3409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1230120" y="23684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219320" y="2724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3429000" y="241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3657600" y="333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5613480" y="1552680"/>
            <a:ext cx="1323720" cy="520560"/>
          </a:xfrm>
          <a:prstGeom prst="rect">
            <a:avLst/>
          </a:prstGeom>
          <a:noFill/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设：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C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3048120" y="1276200"/>
            <a:ext cx="1218960" cy="457200"/>
          </a:xfrm>
          <a:prstGeom prst="wedgeRoundRectCallout">
            <a:avLst>
              <a:gd name="adj1" fmla="val -48175"/>
              <a:gd name="adj2" fmla="val 109375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7010280" y="5410080"/>
            <a:ext cx="1758960" cy="460440"/>
          </a:xfrm>
          <a:prstGeom prst="wedgeRoundRectCallout">
            <a:avLst>
              <a:gd name="adj1" fmla="val -4152"/>
              <a:gd name="adj2" fmla="val -245861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选通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3276720" y="37148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276720" y="23432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4952880" y="394344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6477120" y="37148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4114800" y="2590920"/>
            <a:ext cx="990720" cy="457200"/>
          </a:xfrm>
          <a:prstGeom prst="wedgeRoundRectCallout">
            <a:avLst>
              <a:gd name="adj1" fmla="val -11055"/>
              <a:gd name="adj2" fmla="val 18333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1616040" y="5335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9" name=""/>
          <p:cNvGrpSpPr/>
          <p:nvPr/>
        </p:nvGrpSpPr>
        <p:grpSpPr>
          <a:xfrm>
            <a:off x="4648680" y="4191120"/>
            <a:ext cx="1904400" cy="916200"/>
            <a:chOff x="4648680" y="4191120"/>
            <a:chExt cx="1904400" cy="916200"/>
          </a:xfrm>
        </p:grpSpPr>
        <p:grpSp>
          <p:nvGrpSpPr>
            <p:cNvPr id="5130" name=""/>
            <p:cNvGrpSpPr/>
            <p:nvPr/>
          </p:nvGrpSpPr>
          <p:grpSpPr>
            <a:xfrm>
              <a:off x="5039280" y="4191120"/>
              <a:ext cx="400320" cy="520560"/>
              <a:chOff x="5039280" y="4191120"/>
              <a:chExt cx="400320" cy="520560"/>
            </a:xfrm>
          </p:grpSpPr>
          <p:sp>
            <p:nvSpPr>
              <p:cNvPr id="5131" name=""/>
              <p:cNvSpPr/>
              <p:nvPr/>
            </p:nvSpPr>
            <p:spPr>
              <a:xfrm>
                <a:off x="5039280" y="419112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181480" y="42480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3" name=""/>
            <p:cNvGrpSpPr/>
            <p:nvPr/>
          </p:nvGrpSpPr>
          <p:grpSpPr>
            <a:xfrm>
              <a:off x="4648680" y="4723200"/>
              <a:ext cx="1904400" cy="384120"/>
              <a:chOff x="4648680" y="4723200"/>
              <a:chExt cx="1904400" cy="384120"/>
            </a:xfrm>
          </p:grpSpPr>
          <p:grpSp>
            <p:nvGrpSpPr>
              <p:cNvPr id="5134" name=""/>
              <p:cNvGrpSpPr/>
              <p:nvPr/>
            </p:nvGrpSpPr>
            <p:grpSpPr>
              <a:xfrm>
                <a:off x="4648680" y="4725000"/>
                <a:ext cx="533160" cy="382320"/>
                <a:chOff x="4648680" y="4725000"/>
                <a:chExt cx="533160" cy="382320"/>
              </a:xfrm>
            </p:grpSpPr>
            <p:sp>
              <p:nvSpPr>
                <p:cNvPr id="5135" name=""/>
                <p:cNvSpPr/>
                <p:nvPr/>
              </p:nvSpPr>
              <p:spPr>
                <a:xfrm flipV="1">
                  <a:off x="4952520" y="4725000"/>
                  <a:ext cx="22824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6" name=""/>
                <p:cNvGrpSpPr/>
                <p:nvPr/>
              </p:nvGrpSpPr>
              <p:grpSpPr>
                <a:xfrm>
                  <a:off x="4648680" y="4725000"/>
                  <a:ext cx="533160" cy="382320"/>
                  <a:chOff x="4648680" y="4725000"/>
                  <a:chExt cx="533160" cy="382320"/>
                </a:xfrm>
              </p:grpSpPr>
              <p:sp>
                <p:nvSpPr>
                  <p:cNvPr id="5137" name=""/>
                  <p:cNvSpPr/>
                  <p:nvPr/>
                </p:nvSpPr>
                <p:spPr>
                  <a:xfrm flipV="1">
                    <a:off x="4648680" y="5106600"/>
                    <a:ext cx="304560" cy="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8" name=""/>
                  <p:cNvSpPr/>
                  <p:nvPr/>
                </p:nvSpPr>
                <p:spPr>
                  <a:xfrm flipH="1" flipV="1">
                    <a:off x="4952520" y="472500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9" name=""/>
                  <p:cNvSpPr/>
                  <p:nvPr/>
                </p:nvSpPr>
                <p:spPr>
                  <a:xfrm>
                    <a:off x="5181120" y="472500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0" name=""/>
              <p:cNvGrpSpPr/>
              <p:nvPr/>
            </p:nvGrpSpPr>
            <p:grpSpPr>
              <a:xfrm>
                <a:off x="5181840" y="4723920"/>
                <a:ext cx="532800" cy="382320"/>
                <a:chOff x="5181840" y="4723920"/>
                <a:chExt cx="532800" cy="382320"/>
              </a:xfrm>
            </p:grpSpPr>
            <p:sp>
              <p:nvSpPr>
                <p:cNvPr id="5141" name=""/>
                <p:cNvSpPr/>
                <p:nvPr/>
              </p:nvSpPr>
              <p:spPr>
                <a:xfrm flipV="1">
                  <a:off x="5485320" y="4723920"/>
                  <a:ext cx="228240" cy="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2" name=""/>
                <p:cNvGrpSpPr/>
                <p:nvPr/>
              </p:nvGrpSpPr>
              <p:grpSpPr>
                <a:xfrm>
                  <a:off x="5181840" y="4723920"/>
                  <a:ext cx="532800" cy="382320"/>
                  <a:chOff x="5181840" y="4723920"/>
                  <a:chExt cx="532800" cy="382320"/>
                </a:xfrm>
              </p:grpSpPr>
              <p:sp>
                <p:nvSpPr>
                  <p:cNvPr id="5143" name=""/>
                  <p:cNvSpPr/>
                  <p:nvPr/>
                </p:nvSpPr>
                <p:spPr>
                  <a:xfrm flipV="1">
                    <a:off x="5181840" y="5105880"/>
                    <a:ext cx="304200" cy="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4" name=""/>
                  <p:cNvSpPr/>
                  <p:nvPr/>
                </p:nvSpPr>
                <p:spPr>
                  <a:xfrm flipH="1" flipV="1">
                    <a:off x="5485320" y="472428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5" name=""/>
                  <p:cNvSpPr/>
                  <p:nvPr/>
                </p:nvSpPr>
                <p:spPr>
                  <a:xfrm>
                    <a:off x="5713920" y="472392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6" name=""/>
              <p:cNvGrpSpPr/>
              <p:nvPr/>
            </p:nvGrpSpPr>
            <p:grpSpPr>
              <a:xfrm>
                <a:off x="5715000" y="4723200"/>
                <a:ext cx="533160" cy="381960"/>
                <a:chOff x="5715000" y="4723200"/>
                <a:chExt cx="533160" cy="381960"/>
              </a:xfrm>
            </p:grpSpPr>
            <p:sp>
              <p:nvSpPr>
                <p:cNvPr id="5147" name=""/>
                <p:cNvSpPr/>
                <p:nvPr/>
              </p:nvSpPr>
              <p:spPr>
                <a:xfrm flipV="1">
                  <a:off x="6018840" y="4723200"/>
                  <a:ext cx="228240" cy="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8" name=""/>
                <p:cNvGrpSpPr/>
                <p:nvPr/>
              </p:nvGrpSpPr>
              <p:grpSpPr>
                <a:xfrm>
                  <a:off x="5715000" y="4723200"/>
                  <a:ext cx="533160" cy="381960"/>
                  <a:chOff x="5715000" y="4723200"/>
                  <a:chExt cx="533160" cy="381960"/>
                </a:xfrm>
              </p:grpSpPr>
              <p:sp>
                <p:nvSpPr>
                  <p:cNvPr id="5149" name=""/>
                  <p:cNvSpPr/>
                  <p:nvPr/>
                </p:nvSpPr>
                <p:spPr>
                  <a:xfrm flipV="1">
                    <a:off x="5715000" y="510480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"/>
                  <p:cNvSpPr/>
                  <p:nvPr/>
                </p:nvSpPr>
                <p:spPr>
                  <a:xfrm flipH="1" flipV="1">
                    <a:off x="6018840" y="472320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"/>
                  <p:cNvSpPr/>
                  <p:nvPr/>
                </p:nvSpPr>
                <p:spPr>
                  <a:xfrm>
                    <a:off x="6247440" y="4723200"/>
                    <a:ext cx="72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52" name=""/>
              <p:cNvSpPr/>
              <p:nvPr/>
            </p:nvSpPr>
            <p:spPr>
              <a:xfrm flipV="1">
                <a:off x="6248520" y="5103720"/>
                <a:ext cx="304560" cy="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53" name=""/>
          <p:cNvGrpSpPr/>
          <p:nvPr/>
        </p:nvGrpSpPr>
        <p:grpSpPr>
          <a:xfrm>
            <a:off x="1042560" y="5486400"/>
            <a:ext cx="6806160" cy="671760"/>
            <a:chOff x="1042560" y="5486400"/>
            <a:chExt cx="6806160" cy="671760"/>
          </a:xfrm>
        </p:grpSpPr>
        <p:sp>
          <p:nvSpPr>
            <p:cNvPr id="5154" name=""/>
            <p:cNvSpPr/>
            <p:nvPr/>
          </p:nvSpPr>
          <p:spPr>
            <a:xfrm>
              <a:off x="1042560" y="55627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写出逻辑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6477120" y="565308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029200" y="55767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+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3429000" y="5638680"/>
              <a:ext cx="609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572000" y="563868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429000" y="5486400"/>
              <a:ext cx="1600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743200" y="5562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• 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267080" y="556272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518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1.7.2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组合逻辑电路的综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3" name=""/>
          <p:cNvGrpSpPr/>
          <p:nvPr/>
        </p:nvGrpSpPr>
        <p:grpSpPr>
          <a:xfrm>
            <a:off x="1745640" y="1373040"/>
            <a:ext cx="5693400" cy="810000"/>
            <a:chOff x="1745640" y="1373040"/>
            <a:chExt cx="5693400" cy="810000"/>
          </a:xfrm>
        </p:grpSpPr>
        <p:sp>
          <p:nvSpPr>
            <p:cNvPr id="5164" name=""/>
            <p:cNvSpPr/>
            <p:nvPr/>
          </p:nvSpPr>
          <p:spPr>
            <a:xfrm>
              <a:off x="1745640" y="1525680"/>
              <a:ext cx="213156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"/>
                </a:rPr>
                <a:t>根据逻辑功能要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6283080" y="1601640"/>
              <a:ext cx="1155960" cy="581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"/>
                </a:rPr>
                <a:t>逻辑电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24280" y="198288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947840" y="137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设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8" name=""/>
          <p:cNvGrpSpPr/>
          <p:nvPr/>
        </p:nvGrpSpPr>
        <p:grpSpPr>
          <a:xfrm>
            <a:off x="950760" y="3002040"/>
            <a:ext cx="4825080" cy="2638440"/>
            <a:chOff x="950760" y="3002040"/>
            <a:chExt cx="4825080" cy="2638440"/>
          </a:xfrm>
        </p:grpSpPr>
        <p:sp>
          <p:nvSpPr>
            <p:cNvPr id="5169" name=""/>
            <p:cNvSpPr/>
            <p:nvPr/>
          </p:nvSpPr>
          <p:spPr>
            <a:xfrm>
              <a:off x="1607400" y="3002040"/>
              <a:ext cx="41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(1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由逻辑要求，列出逻辑状态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607400" y="3687480"/>
              <a:ext cx="41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(2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由逻辑状态表写出逻辑表达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361160" y="4373280"/>
              <a:ext cx="343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(3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简化和变换逻辑表达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950760" y="5059080"/>
              <a:ext cx="221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(4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画出逻辑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3" name=""/>
          <p:cNvSpPr/>
          <p:nvPr/>
        </p:nvSpPr>
        <p:spPr>
          <a:xfrm>
            <a:off x="1338120" y="2362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设计步骤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4" name="" descr=""/>
          <p:cNvPicPr/>
          <p:nvPr/>
        </p:nvPicPr>
        <p:blipFill>
          <a:blip r:embed="rId2"/>
          <a:stretch/>
        </p:blipFill>
        <p:spPr>
          <a:xfrm>
            <a:off x="7155000" y="4724280"/>
            <a:ext cx="94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175" name=""/>
          <p:cNvGrpSpPr/>
          <p:nvPr/>
        </p:nvGrpSpPr>
        <p:grpSpPr>
          <a:xfrm>
            <a:off x="762120" y="5791320"/>
            <a:ext cx="5781600" cy="171000"/>
            <a:chOff x="762120" y="5791320"/>
            <a:chExt cx="5781600" cy="171000"/>
          </a:xfrm>
        </p:grpSpPr>
        <p:pic>
          <p:nvPicPr>
            <p:cNvPr id="5176" name="" descr=""/>
            <p:cNvPicPr/>
            <p:nvPr/>
          </p:nvPicPr>
          <p:blipFill>
            <a:blip r:embed="rId3"/>
            <a:stretch/>
          </p:blipFill>
          <p:spPr>
            <a:xfrm>
              <a:off x="1667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7" name="" descr=""/>
            <p:cNvPicPr/>
            <p:nvPr/>
          </p:nvPicPr>
          <p:blipFill>
            <a:blip r:embed="rId4"/>
            <a:stretch/>
          </p:blipFill>
          <p:spPr>
            <a:xfrm>
              <a:off x="1809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8" name="" descr=""/>
            <p:cNvPicPr/>
            <p:nvPr/>
          </p:nvPicPr>
          <p:blipFill>
            <a:blip r:embed="rId5"/>
            <a:stretch/>
          </p:blipFill>
          <p:spPr>
            <a:xfrm>
              <a:off x="197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9" name="" descr=""/>
            <p:cNvPicPr/>
            <p:nvPr/>
          </p:nvPicPr>
          <p:blipFill>
            <a:blip r:embed="rId6"/>
            <a:stretch/>
          </p:blipFill>
          <p:spPr>
            <a:xfrm>
              <a:off x="2266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0" name="" descr=""/>
            <p:cNvPicPr/>
            <p:nvPr/>
          </p:nvPicPr>
          <p:blipFill>
            <a:blip r:embed="rId7"/>
            <a:stretch/>
          </p:blipFill>
          <p:spPr>
            <a:xfrm>
              <a:off x="2428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1" name="" descr=""/>
            <p:cNvPicPr/>
            <p:nvPr/>
          </p:nvPicPr>
          <p:blipFill>
            <a:blip r:embed="rId8"/>
            <a:stretch/>
          </p:blipFill>
          <p:spPr>
            <a:xfrm>
              <a:off x="2581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2" name="" descr=""/>
            <p:cNvPicPr/>
            <p:nvPr/>
          </p:nvPicPr>
          <p:blipFill>
            <a:blip r:embed="rId9"/>
            <a:stretch/>
          </p:blipFill>
          <p:spPr>
            <a:xfrm>
              <a:off x="2724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3" name="" descr=""/>
            <p:cNvPicPr/>
            <p:nvPr/>
          </p:nvPicPr>
          <p:blipFill>
            <a:blip r:embed="rId10"/>
            <a:stretch/>
          </p:blipFill>
          <p:spPr>
            <a:xfrm>
              <a:off x="2886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4" name="" descr=""/>
            <p:cNvPicPr/>
            <p:nvPr/>
          </p:nvPicPr>
          <p:blipFill>
            <a:blip r:embed="rId11"/>
            <a:stretch/>
          </p:blipFill>
          <p:spPr>
            <a:xfrm>
              <a:off x="3181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5" name="" descr=""/>
            <p:cNvPicPr/>
            <p:nvPr/>
          </p:nvPicPr>
          <p:blipFill>
            <a:blip r:embed="rId12"/>
            <a:stretch/>
          </p:blipFill>
          <p:spPr>
            <a:xfrm>
              <a:off x="3343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6" name="" descr=""/>
            <p:cNvPicPr/>
            <p:nvPr/>
          </p:nvPicPr>
          <p:blipFill>
            <a:blip r:embed="rId13"/>
            <a:stretch/>
          </p:blipFill>
          <p:spPr>
            <a:xfrm>
              <a:off x="3495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7" name="" descr=""/>
            <p:cNvPicPr/>
            <p:nvPr/>
          </p:nvPicPr>
          <p:blipFill>
            <a:blip r:embed="rId14"/>
            <a:stretch/>
          </p:blipFill>
          <p:spPr>
            <a:xfrm>
              <a:off x="3638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8" name="" descr=""/>
            <p:cNvPicPr/>
            <p:nvPr/>
          </p:nvPicPr>
          <p:blipFill>
            <a:blip r:embed="rId15"/>
            <a:stretch/>
          </p:blipFill>
          <p:spPr>
            <a:xfrm>
              <a:off x="2124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9" name="" descr=""/>
            <p:cNvPicPr/>
            <p:nvPr/>
          </p:nvPicPr>
          <p:blipFill>
            <a:blip r:embed="rId16"/>
            <a:stretch/>
          </p:blipFill>
          <p:spPr>
            <a:xfrm>
              <a:off x="3038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0" name="" descr=""/>
            <p:cNvPicPr/>
            <p:nvPr/>
          </p:nvPicPr>
          <p:blipFill>
            <a:blip r:embed="rId17"/>
            <a:stretch/>
          </p:blipFill>
          <p:spPr>
            <a:xfrm>
              <a:off x="3800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1" name="" descr=""/>
            <p:cNvPicPr/>
            <p:nvPr/>
          </p:nvPicPr>
          <p:blipFill>
            <a:blip r:embed="rId18"/>
            <a:stretch/>
          </p:blipFill>
          <p:spPr>
            <a:xfrm>
              <a:off x="3953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2" name="" descr=""/>
            <p:cNvPicPr/>
            <p:nvPr/>
          </p:nvPicPr>
          <p:blipFill>
            <a:blip r:embed="rId19"/>
            <a:stretch/>
          </p:blipFill>
          <p:spPr>
            <a:xfrm>
              <a:off x="4095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3" name="" descr=""/>
            <p:cNvPicPr/>
            <p:nvPr/>
          </p:nvPicPr>
          <p:blipFill>
            <a:blip r:embed="rId20"/>
            <a:stretch/>
          </p:blipFill>
          <p:spPr>
            <a:xfrm>
              <a:off x="4257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4" name="" descr=""/>
            <p:cNvPicPr/>
            <p:nvPr/>
          </p:nvPicPr>
          <p:blipFill>
            <a:blip r:embed="rId21"/>
            <a:stretch/>
          </p:blipFill>
          <p:spPr>
            <a:xfrm>
              <a:off x="4410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5" name="" descr=""/>
            <p:cNvPicPr/>
            <p:nvPr/>
          </p:nvPicPr>
          <p:blipFill>
            <a:blip r:embed="rId22"/>
            <a:stretch/>
          </p:blipFill>
          <p:spPr>
            <a:xfrm>
              <a:off x="4552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6" name="" descr=""/>
            <p:cNvPicPr/>
            <p:nvPr/>
          </p:nvPicPr>
          <p:blipFill>
            <a:blip r:embed="rId23"/>
            <a:stretch/>
          </p:blipFill>
          <p:spPr>
            <a:xfrm>
              <a:off x="4714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7" name="" descr=""/>
            <p:cNvPicPr/>
            <p:nvPr/>
          </p:nvPicPr>
          <p:blipFill>
            <a:blip r:embed="rId24"/>
            <a:stretch/>
          </p:blipFill>
          <p:spPr>
            <a:xfrm>
              <a:off x="5010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8" name="" descr=""/>
            <p:cNvPicPr/>
            <p:nvPr/>
          </p:nvPicPr>
          <p:blipFill>
            <a:blip r:embed="rId25"/>
            <a:stretch/>
          </p:blipFill>
          <p:spPr>
            <a:xfrm>
              <a:off x="5172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9" name="" descr=""/>
            <p:cNvPicPr/>
            <p:nvPr/>
          </p:nvPicPr>
          <p:blipFill>
            <a:blip r:embed="rId26"/>
            <a:stretch/>
          </p:blipFill>
          <p:spPr>
            <a:xfrm>
              <a:off x="5324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0" name="" descr=""/>
            <p:cNvPicPr/>
            <p:nvPr/>
          </p:nvPicPr>
          <p:blipFill>
            <a:blip r:embed="rId27"/>
            <a:stretch/>
          </p:blipFill>
          <p:spPr>
            <a:xfrm>
              <a:off x="5467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1" name="" descr=""/>
            <p:cNvPicPr/>
            <p:nvPr/>
          </p:nvPicPr>
          <p:blipFill>
            <a:blip r:embed="rId28"/>
            <a:stretch/>
          </p:blipFill>
          <p:spPr>
            <a:xfrm>
              <a:off x="4867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2" name="" descr=""/>
            <p:cNvPicPr/>
            <p:nvPr/>
          </p:nvPicPr>
          <p:blipFill>
            <a:blip r:embed="rId29"/>
            <a:stretch/>
          </p:blipFill>
          <p:spPr>
            <a:xfrm>
              <a:off x="5629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3" name="" descr=""/>
            <p:cNvPicPr/>
            <p:nvPr/>
          </p:nvPicPr>
          <p:blipFill>
            <a:blip r:embed="rId30"/>
            <a:stretch/>
          </p:blipFill>
          <p:spPr>
            <a:xfrm>
              <a:off x="5924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4" name="" descr=""/>
            <p:cNvPicPr/>
            <p:nvPr/>
          </p:nvPicPr>
          <p:blipFill>
            <a:blip r:embed="rId31"/>
            <a:stretch/>
          </p:blipFill>
          <p:spPr>
            <a:xfrm>
              <a:off x="6086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5" name="" descr=""/>
            <p:cNvPicPr/>
            <p:nvPr/>
          </p:nvPicPr>
          <p:blipFill>
            <a:blip r:embed="rId32"/>
            <a:stretch/>
          </p:blipFill>
          <p:spPr>
            <a:xfrm>
              <a:off x="6239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6" name="" descr=""/>
            <p:cNvPicPr/>
            <p:nvPr/>
          </p:nvPicPr>
          <p:blipFill>
            <a:blip r:embed="rId33"/>
            <a:stretch/>
          </p:blipFill>
          <p:spPr>
            <a:xfrm>
              <a:off x="638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7" name="" descr=""/>
            <p:cNvPicPr/>
            <p:nvPr/>
          </p:nvPicPr>
          <p:blipFill>
            <a:blip r:embed="rId34"/>
            <a:stretch/>
          </p:blipFill>
          <p:spPr>
            <a:xfrm>
              <a:off x="5781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8" name=""/>
            <p:cNvGrpSpPr/>
            <p:nvPr/>
          </p:nvGrpSpPr>
          <p:grpSpPr>
            <a:xfrm>
              <a:off x="762120" y="5791320"/>
              <a:ext cx="923760" cy="161640"/>
              <a:chOff x="762120" y="5791320"/>
              <a:chExt cx="923760" cy="161640"/>
            </a:xfrm>
          </p:grpSpPr>
          <p:pic>
            <p:nvPicPr>
              <p:cNvPr id="520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9050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0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0670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2193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3622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242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621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"/>
          <p:cNvSpPr/>
          <p:nvPr/>
        </p:nvSpPr>
        <p:spPr>
          <a:xfrm>
            <a:off x="457200" y="533520"/>
            <a:ext cx="78105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计一个三变量奇偶检验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要求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当输入变量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中有奇数个同时为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输出为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否则为 “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用“与非”门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1056600" y="2376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685800" y="2819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1094400" y="3290760"/>
            <a:ext cx="42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取 </a:t>
            </a:r>
            <a:r>
              <a:rPr b="1" i="1" lang="zh-CN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=“1”(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或</a:t>
            </a:r>
            <a:r>
              <a:rPr b="1" i="1" lang="zh-CN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=“0” )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列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9" name=""/>
          <p:cNvGrpSpPr/>
          <p:nvPr/>
        </p:nvGrpSpPr>
        <p:grpSpPr>
          <a:xfrm>
            <a:off x="685800" y="3809880"/>
            <a:ext cx="2103120" cy="520560"/>
            <a:chOff x="685800" y="3809880"/>
            <a:chExt cx="2103120" cy="520560"/>
          </a:xfrm>
        </p:grpSpPr>
        <p:sp>
          <p:nvSpPr>
            <p:cNvPr id="5220" name=""/>
            <p:cNvSpPr/>
            <p:nvPr/>
          </p:nvSpPr>
          <p:spPr>
            <a:xfrm>
              <a:off x="1108440" y="38098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取 </a:t>
              </a:r>
              <a:r>
                <a:rPr b="1" i="1" lang="zh-CN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 = “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685800" y="3838320"/>
              <a:ext cx="38124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2" name=""/>
          <p:cNvGrpSpPr/>
          <p:nvPr/>
        </p:nvGrpSpPr>
        <p:grpSpPr>
          <a:xfrm>
            <a:off x="609480" y="4511880"/>
            <a:ext cx="4953240" cy="1501200"/>
            <a:chOff x="609480" y="4511880"/>
            <a:chExt cx="4953240" cy="1501200"/>
          </a:xfrm>
        </p:grpSpPr>
        <p:sp>
          <p:nvSpPr>
            <p:cNvPr id="5223" name=""/>
            <p:cNvSpPr/>
            <p:nvPr/>
          </p:nvSpPr>
          <p:spPr>
            <a:xfrm>
              <a:off x="609480" y="4511880"/>
              <a:ext cx="495324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对应于</a:t>
              </a: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Y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=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若输入变量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则取输入变量本身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 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"/>
                </a:rPr>
                <a:t>A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；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若输入变量为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则取其反变量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 )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1639800" y="5877000"/>
              <a:ext cx="2286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5" name=""/>
          <p:cNvGrpSpPr/>
          <p:nvPr/>
        </p:nvGrpSpPr>
        <p:grpSpPr>
          <a:xfrm>
            <a:off x="5315400" y="2346480"/>
            <a:ext cx="3219120" cy="3445560"/>
            <a:chOff x="5315400" y="2346480"/>
            <a:chExt cx="3219120" cy="3445560"/>
          </a:xfrm>
        </p:grpSpPr>
        <p:grpSp>
          <p:nvGrpSpPr>
            <p:cNvPr id="5226" name=""/>
            <p:cNvGrpSpPr/>
            <p:nvPr/>
          </p:nvGrpSpPr>
          <p:grpSpPr>
            <a:xfrm>
              <a:off x="5315400" y="2346480"/>
              <a:ext cx="3218760" cy="3445560"/>
              <a:chOff x="5315400" y="2346480"/>
              <a:chExt cx="3218760" cy="3445560"/>
            </a:xfrm>
          </p:grpSpPr>
          <p:sp>
            <p:nvSpPr>
              <p:cNvPr id="5227" name=""/>
              <p:cNvSpPr/>
              <p:nvPr/>
            </p:nvSpPr>
            <p:spPr>
              <a:xfrm>
                <a:off x="5315400" y="28119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     0    0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28" name=""/>
              <p:cNvGrpSpPr/>
              <p:nvPr/>
            </p:nvGrpSpPr>
            <p:grpSpPr>
              <a:xfrm>
                <a:off x="5713560" y="2346480"/>
                <a:ext cx="2820600" cy="3445560"/>
                <a:chOff x="5713560" y="2346480"/>
                <a:chExt cx="2820600" cy="3445560"/>
              </a:xfrm>
            </p:grpSpPr>
            <p:sp>
              <p:nvSpPr>
                <p:cNvPr id="5229" name=""/>
                <p:cNvSpPr/>
                <p:nvPr/>
              </p:nvSpPr>
              <p:spPr>
                <a:xfrm>
                  <a:off x="5943600" y="23464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5943600" y="276804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7772400" y="2346480"/>
                  <a:ext cx="0" cy="3303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5713560" y="23464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5861160" y="3163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5861160" y="35146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5861160" y="3866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5861160" y="421740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5861160" y="4570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5861160" y="4921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5861160" y="52714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0" name=""/>
            <p:cNvSpPr/>
            <p:nvPr/>
          </p:nvSpPr>
          <p:spPr>
            <a:xfrm>
              <a:off x="6019920" y="5715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41" name=""/>
              <p:cNvSpPr txBox="1"/>
              <p:nvPr/>
            </p:nvSpPr>
            <p:spPr>
              <a:xfrm>
                <a:off x="685800" y="1752480"/>
                <a:ext cx="5021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42" name=""/>
          <p:cNvGrpSpPr/>
          <p:nvPr/>
        </p:nvGrpSpPr>
        <p:grpSpPr>
          <a:xfrm>
            <a:off x="1523880" y="4964040"/>
            <a:ext cx="5181480" cy="65160"/>
            <a:chOff x="1523880" y="4964040"/>
            <a:chExt cx="5181480" cy="65160"/>
          </a:xfrm>
        </p:grpSpPr>
        <p:sp>
          <p:nvSpPr>
            <p:cNvPr id="5243" name=""/>
            <p:cNvSpPr/>
            <p:nvPr/>
          </p:nvSpPr>
          <p:spPr>
            <a:xfrm>
              <a:off x="1523880" y="4964040"/>
              <a:ext cx="5181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523880" y="5029200"/>
              <a:ext cx="5181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5" name=""/>
              <p:cNvSpPr txBox="1"/>
              <p:nvPr/>
            </p:nvSpPr>
            <p:spPr>
              <a:xfrm>
                <a:off x="838080" y="5029200"/>
                <a:ext cx="5773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46" name=""/>
          <p:cNvGrpSpPr/>
          <p:nvPr/>
        </p:nvGrpSpPr>
        <p:grpSpPr>
          <a:xfrm>
            <a:off x="1182600" y="5645160"/>
            <a:ext cx="5141880" cy="624960"/>
            <a:chOff x="1182600" y="5645160"/>
            <a:chExt cx="5141880" cy="624960"/>
          </a:xfrm>
        </p:grpSpPr>
        <mc:AlternateContent>
          <mc:Choice xmlns:a14="http://schemas.microsoft.com/office/drawing/2010/main" Requires="a14">
            <p:sp>
              <p:nvSpPr>
                <p:cNvPr id="5247" name=""/>
                <p:cNvSpPr txBox="1"/>
                <p:nvPr/>
              </p:nvSpPr>
              <p:spPr>
                <a:xfrm>
                  <a:off x="1182600" y="5725800"/>
                  <a:ext cx="51195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C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8" name=""/>
            <p:cNvSpPr/>
            <p:nvPr/>
          </p:nvSpPr>
          <p:spPr>
            <a:xfrm>
              <a:off x="1599840" y="5645160"/>
              <a:ext cx="47246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1599840" y="5743440"/>
              <a:ext cx="9907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819160" y="5743440"/>
              <a:ext cx="9907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114440" y="5725800"/>
              <a:ext cx="9907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333760" y="5725800"/>
              <a:ext cx="9907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3" name=""/>
          <p:cNvSpPr/>
          <p:nvPr/>
        </p:nvSpPr>
        <p:spPr>
          <a:xfrm>
            <a:off x="533520" y="4419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用“与非”门构成逻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609480" y="609120"/>
            <a:ext cx="8001000" cy="563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在一种组合中，各输入变量之间是“与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533520" y="1218600"/>
            <a:ext cx="40384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各组合之间是“或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6" name=""/>
          <p:cNvGrpSpPr/>
          <p:nvPr/>
        </p:nvGrpSpPr>
        <p:grpSpPr>
          <a:xfrm>
            <a:off x="1371600" y="2680560"/>
            <a:ext cx="3123720" cy="1738800"/>
            <a:chOff x="1371600" y="2680560"/>
            <a:chExt cx="3123720" cy="1738800"/>
          </a:xfrm>
        </p:grpSpPr>
        <p:sp>
          <p:nvSpPr>
            <p:cNvPr id="5257" name=""/>
            <p:cNvSpPr/>
            <p:nvPr/>
          </p:nvSpPr>
          <p:spPr>
            <a:xfrm flipH="1" flipV="1">
              <a:off x="1584000" y="2949480"/>
              <a:ext cx="354600" cy="34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8" name=""/>
            <p:cNvGrpSpPr/>
            <p:nvPr/>
          </p:nvGrpSpPr>
          <p:grpSpPr>
            <a:xfrm>
              <a:off x="1371600" y="2680560"/>
              <a:ext cx="3123720" cy="1738800"/>
              <a:chOff x="1371600" y="2680560"/>
              <a:chExt cx="3123720" cy="1738800"/>
            </a:xfrm>
          </p:grpSpPr>
          <p:sp>
            <p:nvSpPr>
              <p:cNvPr id="5259" name=""/>
              <p:cNvSpPr/>
              <p:nvPr/>
            </p:nvSpPr>
            <p:spPr>
              <a:xfrm>
                <a:off x="1371600" y="2889360"/>
                <a:ext cx="496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1584360" y="2680560"/>
                <a:ext cx="6390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1939320" y="3299760"/>
                <a:ext cx="1278000" cy="1119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1939320" y="3859560"/>
                <a:ext cx="127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2578320" y="3299760"/>
                <a:ext cx="0" cy="111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1939320" y="2889360"/>
                <a:ext cx="6390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1513440" y="3869280"/>
                <a:ext cx="496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1513440" y="3348360"/>
                <a:ext cx="496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217320" y="3299760"/>
                <a:ext cx="1278000" cy="1119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217320" y="3859560"/>
                <a:ext cx="127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856320" y="3299760"/>
                <a:ext cx="0" cy="111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2578320" y="2859480"/>
                <a:ext cx="6390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217320" y="2859480"/>
                <a:ext cx="6390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856320" y="2859480"/>
                <a:ext cx="6390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2700360" y="333000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978720" y="333000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2061000" y="38905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409920" y="38905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7" name=""/>
          <p:cNvSpPr/>
          <p:nvPr/>
        </p:nvSpPr>
        <p:spPr>
          <a:xfrm>
            <a:off x="3128400" y="22240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由卡图诺可知，该函数不可化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8" name=""/>
          <p:cNvGrpSpPr/>
          <p:nvPr/>
        </p:nvGrpSpPr>
        <p:grpSpPr>
          <a:xfrm>
            <a:off x="5391720" y="1432080"/>
            <a:ext cx="3258720" cy="3445560"/>
            <a:chOff x="5391720" y="1432080"/>
            <a:chExt cx="3258720" cy="3445560"/>
          </a:xfrm>
        </p:grpSpPr>
        <p:grpSp>
          <p:nvGrpSpPr>
            <p:cNvPr id="5279" name=""/>
            <p:cNvGrpSpPr/>
            <p:nvPr/>
          </p:nvGrpSpPr>
          <p:grpSpPr>
            <a:xfrm>
              <a:off x="5391720" y="1432080"/>
              <a:ext cx="3218760" cy="3445560"/>
              <a:chOff x="5391720" y="1432080"/>
              <a:chExt cx="3218760" cy="3445560"/>
            </a:xfrm>
          </p:grpSpPr>
          <p:sp>
            <p:nvSpPr>
              <p:cNvPr id="5280" name=""/>
              <p:cNvSpPr/>
              <p:nvPr/>
            </p:nvSpPr>
            <p:spPr>
              <a:xfrm>
                <a:off x="5391720" y="18975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0     0    0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1" name=""/>
              <p:cNvGrpSpPr/>
              <p:nvPr/>
            </p:nvGrpSpPr>
            <p:grpSpPr>
              <a:xfrm>
                <a:off x="5789880" y="1432080"/>
                <a:ext cx="2820600" cy="3445560"/>
                <a:chOff x="5789880" y="1432080"/>
                <a:chExt cx="2820600" cy="3445560"/>
              </a:xfrm>
            </p:grpSpPr>
            <p:sp>
              <p:nvSpPr>
                <p:cNvPr id="5282" name=""/>
                <p:cNvSpPr/>
                <p:nvPr/>
              </p:nvSpPr>
              <p:spPr>
                <a:xfrm>
                  <a:off x="6019920" y="143208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6019920" y="1853640"/>
                  <a:ext cx="25905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7848720" y="1432080"/>
                  <a:ext cx="0" cy="3303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5789880" y="14320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5937480" y="22489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5937480" y="2600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5937480" y="29516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5937480" y="330300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5937480" y="3656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5937480" y="4007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5937480" y="43570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93" name=""/>
            <p:cNvSpPr/>
            <p:nvPr/>
          </p:nvSpPr>
          <p:spPr>
            <a:xfrm>
              <a:off x="6059520" y="4800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"/>
          <p:cNvSpPr/>
          <p:nvPr/>
        </p:nvSpPr>
        <p:spPr>
          <a:xfrm>
            <a:off x="673920" y="41436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(4) 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80773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1447920" y="44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13716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1371600" y="1295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9" name=""/>
          <p:cNvGrpSpPr/>
          <p:nvPr/>
        </p:nvGrpSpPr>
        <p:grpSpPr>
          <a:xfrm>
            <a:off x="1056240" y="1219320"/>
            <a:ext cx="459360" cy="3720960"/>
            <a:chOff x="1056240" y="1219320"/>
            <a:chExt cx="459360" cy="3720960"/>
          </a:xfrm>
        </p:grpSpPr>
        <p:sp>
          <p:nvSpPr>
            <p:cNvPr id="5300" name=""/>
            <p:cNvSpPr/>
            <p:nvPr/>
          </p:nvSpPr>
          <p:spPr>
            <a:xfrm>
              <a:off x="1056240" y="121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1132200" y="289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1132200" y="4419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961000" y="1066680"/>
            <a:ext cx="535680" cy="3873600"/>
            <a:chOff x="2961000" y="1066680"/>
            <a:chExt cx="535680" cy="3873600"/>
          </a:xfrm>
        </p:grpSpPr>
        <p:sp>
          <p:nvSpPr>
            <p:cNvPr id="5304" name=""/>
            <p:cNvSpPr/>
            <p:nvPr/>
          </p:nvSpPr>
          <p:spPr>
            <a:xfrm>
              <a:off x="3113280" y="4419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03732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961000" y="1066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7" name=""/>
          <p:cNvGrpSpPr/>
          <p:nvPr/>
        </p:nvGrpSpPr>
        <p:grpSpPr>
          <a:xfrm>
            <a:off x="5170680" y="1343160"/>
            <a:ext cx="459720" cy="4101840"/>
            <a:chOff x="5170680" y="1343160"/>
            <a:chExt cx="459720" cy="4101840"/>
          </a:xfrm>
        </p:grpSpPr>
        <p:sp>
          <p:nvSpPr>
            <p:cNvPr id="5308" name=""/>
            <p:cNvSpPr/>
            <p:nvPr/>
          </p:nvSpPr>
          <p:spPr>
            <a:xfrm>
              <a:off x="5170680" y="1343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247000" y="37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247000" y="25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247000" y="4924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2" name=""/>
          <p:cNvSpPr/>
          <p:nvPr/>
        </p:nvSpPr>
        <p:spPr>
          <a:xfrm>
            <a:off x="7609320" y="3400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3" name=""/>
          <p:cNvGrpSpPr/>
          <p:nvPr/>
        </p:nvGrpSpPr>
        <p:grpSpPr>
          <a:xfrm>
            <a:off x="1828800" y="1066680"/>
            <a:ext cx="6400800" cy="4876920"/>
            <a:chOff x="1828800" y="1066680"/>
            <a:chExt cx="6400800" cy="4876920"/>
          </a:xfrm>
        </p:grpSpPr>
        <p:sp>
          <p:nvSpPr>
            <p:cNvPr id="5314" name=""/>
            <p:cNvSpPr/>
            <p:nvPr/>
          </p:nvSpPr>
          <p:spPr>
            <a:xfrm>
              <a:off x="5181480" y="5486400"/>
              <a:ext cx="914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95880" y="3581280"/>
              <a:ext cx="4572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362320" y="1219320"/>
              <a:ext cx="60948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438280" y="1219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971800" y="15238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1828800" y="1600200"/>
              <a:ext cx="53352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419720" y="5105520"/>
              <a:ext cx="60948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495680" y="5105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029200" y="54100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419720" y="1523880"/>
              <a:ext cx="609480" cy="83844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49568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029200" y="1828800"/>
              <a:ext cx="152280" cy="15228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4419720" y="3962520"/>
              <a:ext cx="60948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49568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029200" y="42670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419720" y="2743200"/>
              <a:ext cx="609480" cy="83808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495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029200" y="3048120"/>
              <a:ext cx="152280" cy="15228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438280" y="2895480"/>
              <a:ext cx="609840" cy="83844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51460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048120" y="3200400"/>
              <a:ext cx="152280" cy="15228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1905120" y="3276720"/>
              <a:ext cx="53316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438280" y="4495680"/>
              <a:ext cx="609840" cy="83844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514600" y="4495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048120" y="4800600"/>
              <a:ext cx="152280" cy="15228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1905120" y="4876920"/>
              <a:ext cx="53316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200400" y="4876920"/>
              <a:ext cx="609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 flipV="1">
              <a:off x="3809880" y="2209320"/>
              <a:ext cx="0" cy="266724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809880" y="3352680"/>
              <a:ext cx="6098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809880" y="2209680"/>
              <a:ext cx="6098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124080" y="1600200"/>
              <a:ext cx="5335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657600" y="1600200"/>
              <a:ext cx="0" cy="251460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3657600" y="2895480"/>
              <a:ext cx="762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3657600" y="4114800"/>
              <a:ext cx="762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200400" y="3276720"/>
              <a:ext cx="228600" cy="0"/>
            </a:xfrm>
            <a:prstGeom prst="line">
              <a:avLst/>
            </a:prstGeom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V="1">
              <a:off x="3429000" y="1676160"/>
              <a:ext cx="0" cy="2895480"/>
            </a:xfrm>
            <a:prstGeom prst="line">
              <a:avLst/>
            </a:prstGeom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429000" y="1676520"/>
              <a:ext cx="990720" cy="0"/>
            </a:xfrm>
            <a:prstGeom prst="line">
              <a:avLst/>
            </a:prstGeom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3429000" y="4572000"/>
              <a:ext cx="990720" cy="0"/>
            </a:xfrm>
            <a:prstGeom prst="line">
              <a:avLst/>
            </a:prstGeom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3886200" y="1905120"/>
              <a:ext cx="533520" cy="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1981080" y="1066680"/>
              <a:ext cx="0" cy="53352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981080" y="1066680"/>
              <a:ext cx="1905120" cy="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886200" y="1066680"/>
              <a:ext cx="0" cy="83844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4191120" y="1905120"/>
              <a:ext cx="0" cy="335268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4191120" y="5257800"/>
              <a:ext cx="228600" cy="0"/>
            </a:xfrm>
            <a:prstGeom prst="line">
              <a:avLst/>
            </a:prstGeom>
            <a:ln cap="sq"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038480" y="5486400"/>
              <a:ext cx="38124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886200" y="3124080"/>
              <a:ext cx="53352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V="1">
              <a:off x="2133720" y="2666880"/>
              <a:ext cx="0" cy="60984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133720" y="2666880"/>
              <a:ext cx="137160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505320" y="2666880"/>
              <a:ext cx="0" cy="45720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505320" y="3124080"/>
              <a:ext cx="380880" cy="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038480" y="3124080"/>
              <a:ext cx="0" cy="2362320"/>
            </a:xfrm>
            <a:prstGeom prst="line">
              <a:avLst/>
            </a:prstGeom>
            <a:ln cap="sq"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3886200" y="4343400"/>
              <a:ext cx="5335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V="1">
              <a:off x="2133720" y="4343400"/>
              <a:ext cx="0" cy="53352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133720" y="4343400"/>
              <a:ext cx="1752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86200" y="4343400"/>
              <a:ext cx="0" cy="144792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3886200" y="5791320"/>
              <a:ext cx="53352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553080" y="3276720"/>
              <a:ext cx="838440" cy="1143000"/>
            </a:xfrm>
            <a:prstGeom prst="rect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781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V="1">
              <a:off x="5715000" y="4038120"/>
              <a:ext cx="0" cy="30492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181480" y="1905120"/>
              <a:ext cx="914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5880" y="1905120"/>
              <a:ext cx="0" cy="167616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181480" y="3124080"/>
              <a:ext cx="53352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715000" y="3124080"/>
              <a:ext cx="0" cy="68580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715000" y="3809880"/>
              <a:ext cx="8380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715000" y="4038480"/>
              <a:ext cx="83808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6095880" y="4266720"/>
              <a:ext cx="0" cy="121932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95880" y="4267080"/>
              <a:ext cx="4572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7543800" y="3886200"/>
              <a:ext cx="6858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4" name=""/>
          <p:cNvGrpSpPr/>
          <p:nvPr/>
        </p:nvGrpSpPr>
        <p:grpSpPr>
          <a:xfrm>
            <a:off x="3037320" y="2743200"/>
            <a:ext cx="383400" cy="563040"/>
            <a:chOff x="3037320" y="2743200"/>
            <a:chExt cx="383400" cy="563040"/>
          </a:xfrm>
        </p:grpSpPr>
        <p:graphicFrame>
          <p:nvGraphicFramePr>
            <p:cNvPr id="5385" name=""/>
            <p:cNvGraphicFramePr/>
            <p:nvPr/>
          </p:nvGraphicFramePr>
          <p:xfrm>
            <a:off x="3124080" y="2895480"/>
            <a:ext cx="236520" cy="295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895480"/>
                      <a:ext cx="2365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7" name=""/>
            <p:cNvSpPr/>
            <p:nvPr/>
          </p:nvSpPr>
          <p:spPr>
            <a:xfrm>
              <a:off x="3037320" y="27432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8" name=""/>
          <p:cNvGrpSpPr/>
          <p:nvPr/>
        </p:nvGrpSpPr>
        <p:grpSpPr>
          <a:xfrm>
            <a:off x="5247000" y="3733920"/>
            <a:ext cx="383400" cy="563040"/>
            <a:chOff x="5247000" y="3733920"/>
            <a:chExt cx="383400" cy="563040"/>
          </a:xfrm>
        </p:grpSpPr>
        <p:graphicFrame>
          <p:nvGraphicFramePr>
            <p:cNvPr id="5389" name=""/>
            <p:cNvGraphicFramePr/>
            <p:nvPr/>
          </p:nvGraphicFramePr>
          <p:xfrm>
            <a:off x="5333760" y="3886200"/>
            <a:ext cx="236520" cy="29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3760" y="3886200"/>
                      <a:ext cx="2365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1" name=""/>
            <p:cNvSpPr/>
            <p:nvPr/>
          </p:nvSpPr>
          <p:spPr>
            <a:xfrm>
              <a:off x="5247000" y="373392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609320" y="3352680"/>
            <a:ext cx="383400" cy="563040"/>
            <a:chOff x="7609320" y="3352680"/>
            <a:chExt cx="383400" cy="563040"/>
          </a:xfrm>
        </p:grpSpPr>
        <p:graphicFrame>
          <p:nvGraphicFramePr>
            <p:cNvPr id="5393" name=""/>
            <p:cNvGraphicFramePr/>
            <p:nvPr/>
          </p:nvGraphicFramePr>
          <p:xfrm>
            <a:off x="7696080" y="3504960"/>
            <a:ext cx="236520" cy="295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96080" y="3504960"/>
                      <a:ext cx="2365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5" name=""/>
            <p:cNvSpPr/>
            <p:nvPr/>
          </p:nvSpPr>
          <p:spPr>
            <a:xfrm>
              <a:off x="7609320" y="335268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6" name=""/>
          <p:cNvGrpSpPr/>
          <p:nvPr/>
        </p:nvGrpSpPr>
        <p:grpSpPr>
          <a:xfrm>
            <a:off x="1055880" y="2895480"/>
            <a:ext cx="383400" cy="563040"/>
            <a:chOff x="1055880" y="2895480"/>
            <a:chExt cx="383400" cy="563040"/>
          </a:xfrm>
        </p:grpSpPr>
        <p:graphicFrame>
          <p:nvGraphicFramePr>
            <p:cNvPr id="5397" name=""/>
            <p:cNvGraphicFramePr/>
            <p:nvPr/>
          </p:nvGraphicFramePr>
          <p:xfrm>
            <a:off x="1142640" y="3047760"/>
            <a:ext cx="236520" cy="295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2640" y="3047760"/>
                      <a:ext cx="2365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9" name=""/>
            <p:cNvSpPr/>
            <p:nvPr/>
          </p:nvSpPr>
          <p:spPr>
            <a:xfrm>
              <a:off x="1055880" y="289548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"/>
          <p:cNvSpPr/>
          <p:nvPr/>
        </p:nvSpPr>
        <p:spPr>
          <a:xfrm>
            <a:off x="762120" y="533520"/>
            <a:ext cx="7772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2: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某工厂有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个车间和一个自备电站，站内有两台发电机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容量是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两倍。如果一个车间开工，只需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即可满足要求；如果两个车间开工，只需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，如果三个车间同时开工，则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均需运行。试画出控制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的逻辑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609480" y="4800600"/>
            <a:ext cx="76964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：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表示三个车间的开工状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开工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不开工为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  </a:t>
            </a:r>
            <a:r>
              <a:rPr b="1" i="1" lang="zh-CN" sz="2800" spc="-1" strike="noStrike">
                <a:solidFill>
                  <a:srgbClr val="003366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3366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和</a:t>
            </a:r>
            <a:r>
              <a:rPr b="1" i="1" lang="zh-CN" sz="2800" spc="-1" strike="noStrike">
                <a:solidFill>
                  <a:srgbClr val="003366"/>
                </a:solidFill>
                <a:latin typeface=""/>
              </a:rPr>
              <a:t> </a:t>
            </a:r>
            <a:r>
              <a:rPr b="1" i="1" lang="zh-CN" sz="2800" spc="-1" strike="noStrike">
                <a:solidFill>
                  <a:srgbClr val="003366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3366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运行为“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，不运行为“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6858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根据逻辑要求列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85800" y="3886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首先假设逻辑变量、逻辑函数取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、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含义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"/>
          <p:cNvSpPr/>
          <p:nvPr/>
        </p:nvSpPr>
        <p:spPr>
          <a:xfrm>
            <a:off x="762120" y="1066680"/>
            <a:ext cx="426708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要求：如果一个车间开工，只需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即可满足要求；如果两个车间开工，只需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，如果三个车间同时开工，则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  <a:ea typeface="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均需运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75672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开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523880" y="45990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913760" y="432108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3076560" y="434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不开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4114800" y="45990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4504320" y="434340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68040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523880" y="5357880"/>
            <a:ext cx="3812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1913760" y="507996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96280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不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4114800" y="5357880"/>
            <a:ext cx="3808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4495680" y="50529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685800" y="623880"/>
            <a:ext cx="43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根据逻辑要求列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8" name=""/>
          <p:cNvGrpSpPr/>
          <p:nvPr/>
        </p:nvGrpSpPr>
        <p:grpSpPr>
          <a:xfrm>
            <a:off x="533520" y="5791320"/>
            <a:ext cx="4724280" cy="171360"/>
            <a:chOff x="533520" y="5791320"/>
            <a:chExt cx="4724280" cy="171360"/>
          </a:xfrm>
        </p:grpSpPr>
        <p:pic>
          <p:nvPicPr>
            <p:cNvPr id="5419" name="" descr=""/>
            <p:cNvPicPr/>
            <p:nvPr/>
          </p:nvPicPr>
          <p:blipFill>
            <a:blip r:embed="rId1"/>
            <a:stretch/>
          </p:blipFill>
          <p:spPr>
            <a:xfrm>
              <a:off x="14382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0" name="" descr=""/>
            <p:cNvPicPr/>
            <p:nvPr/>
          </p:nvPicPr>
          <p:blipFill>
            <a:blip r:embed="rId2"/>
            <a:stretch/>
          </p:blipFill>
          <p:spPr>
            <a:xfrm>
              <a:off x="1581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1" name="" descr=""/>
            <p:cNvPicPr/>
            <p:nvPr/>
          </p:nvPicPr>
          <p:blipFill>
            <a:blip r:embed="rId3"/>
            <a:stretch/>
          </p:blipFill>
          <p:spPr>
            <a:xfrm>
              <a:off x="1743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2" name="" descr=""/>
            <p:cNvPicPr/>
            <p:nvPr/>
          </p:nvPicPr>
          <p:blipFill>
            <a:blip r:embed="rId4"/>
            <a:stretch/>
          </p:blipFill>
          <p:spPr>
            <a:xfrm>
              <a:off x="2038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3" name="" descr=""/>
            <p:cNvPicPr/>
            <p:nvPr/>
          </p:nvPicPr>
          <p:blipFill>
            <a:blip r:embed="rId5"/>
            <a:stretch/>
          </p:blipFill>
          <p:spPr>
            <a:xfrm>
              <a:off x="2200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4" name="" descr=""/>
            <p:cNvPicPr/>
            <p:nvPr/>
          </p:nvPicPr>
          <p:blipFill>
            <a:blip r:embed="rId6"/>
            <a:stretch/>
          </p:blipFill>
          <p:spPr>
            <a:xfrm>
              <a:off x="23526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5" name="" descr=""/>
            <p:cNvPicPr/>
            <p:nvPr/>
          </p:nvPicPr>
          <p:blipFill>
            <a:blip r:embed="rId7"/>
            <a:stretch/>
          </p:blipFill>
          <p:spPr>
            <a:xfrm>
              <a:off x="2495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6" name="" descr=""/>
            <p:cNvPicPr/>
            <p:nvPr/>
          </p:nvPicPr>
          <p:blipFill>
            <a:blip r:embed="rId8"/>
            <a:stretch/>
          </p:blipFill>
          <p:spPr>
            <a:xfrm>
              <a:off x="2657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7" name="" descr=""/>
            <p:cNvPicPr/>
            <p:nvPr/>
          </p:nvPicPr>
          <p:blipFill>
            <a:blip r:embed="rId9"/>
            <a:stretch/>
          </p:blipFill>
          <p:spPr>
            <a:xfrm>
              <a:off x="29527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8" name="" descr=""/>
            <p:cNvPicPr/>
            <p:nvPr/>
          </p:nvPicPr>
          <p:blipFill>
            <a:blip r:embed="rId10"/>
            <a:stretch/>
          </p:blipFill>
          <p:spPr>
            <a:xfrm>
              <a:off x="31147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9" name="" descr=""/>
            <p:cNvPicPr/>
            <p:nvPr/>
          </p:nvPicPr>
          <p:blipFill>
            <a:blip r:embed="rId11"/>
            <a:stretch/>
          </p:blipFill>
          <p:spPr>
            <a:xfrm>
              <a:off x="32670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0" name="" descr=""/>
            <p:cNvPicPr/>
            <p:nvPr/>
          </p:nvPicPr>
          <p:blipFill>
            <a:blip r:embed="rId12"/>
            <a:stretch/>
          </p:blipFill>
          <p:spPr>
            <a:xfrm>
              <a:off x="34099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1" name="" descr=""/>
            <p:cNvPicPr/>
            <p:nvPr/>
          </p:nvPicPr>
          <p:blipFill>
            <a:blip r:embed="rId13"/>
            <a:stretch/>
          </p:blipFill>
          <p:spPr>
            <a:xfrm>
              <a:off x="18954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2" name="" descr=""/>
            <p:cNvPicPr/>
            <p:nvPr/>
          </p:nvPicPr>
          <p:blipFill>
            <a:blip r:embed="rId14"/>
            <a:stretch/>
          </p:blipFill>
          <p:spPr>
            <a:xfrm>
              <a:off x="28098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3" name="" descr=""/>
            <p:cNvPicPr/>
            <p:nvPr/>
          </p:nvPicPr>
          <p:blipFill>
            <a:blip r:embed="rId15"/>
            <a:stretch/>
          </p:blipFill>
          <p:spPr>
            <a:xfrm>
              <a:off x="35719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4" name="" descr=""/>
            <p:cNvPicPr/>
            <p:nvPr/>
          </p:nvPicPr>
          <p:blipFill>
            <a:blip r:embed="rId16"/>
            <a:stretch/>
          </p:blipFill>
          <p:spPr>
            <a:xfrm>
              <a:off x="37242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5" name="" descr=""/>
            <p:cNvPicPr/>
            <p:nvPr/>
          </p:nvPicPr>
          <p:blipFill>
            <a:blip r:embed="rId17"/>
            <a:stretch/>
          </p:blipFill>
          <p:spPr>
            <a:xfrm>
              <a:off x="3867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6" name="" descr=""/>
            <p:cNvPicPr/>
            <p:nvPr/>
          </p:nvPicPr>
          <p:blipFill>
            <a:blip r:embed="rId18"/>
            <a:stretch/>
          </p:blipFill>
          <p:spPr>
            <a:xfrm>
              <a:off x="4029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7" name="" descr=""/>
            <p:cNvPicPr/>
            <p:nvPr/>
          </p:nvPicPr>
          <p:blipFill>
            <a:blip r:embed="rId19"/>
            <a:stretch/>
          </p:blipFill>
          <p:spPr>
            <a:xfrm>
              <a:off x="41814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8" name="" descr=""/>
            <p:cNvPicPr/>
            <p:nvPr/>
          </p:nvPicPr>
          <p:blipFill>
            <a:blip r:embed="rId20"/>
            <a:stretch/>
          </p:blipFill>
          <p:spPr>
            <a:xfrm>
              <a:off x="4324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9" name="" descr=""/>
            <p:cNvPicPr/>
            <p:nvPr/>
          </p:nvPicPr>
          <p:blipFill>
            <a:blip r:embed="rId21"/>
            <a:stretch/>
          </p:blipFill>
          <p:spPr>
            <a:xfrm>
              <a:off x="4486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0" name="" descr=""/>
            <p:cNvPicPr/>
            <p:nvPr/>
          </p:nvPicPr>
          <p:blipFill>
            <a:blip r:embed="rId22"/>
            <a:stretch/>
          </p:blipFill>
          <p:spPr>
            <a:xfrm>
              <a:off x="4781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1" name="" descr=""/>
            <p:cNvPicPr/>
            <p:nvPr/>
          </p:nvPicPr>
          <p:blipFill>
            <a:blip r:embed="rId23"/>
            <a:stretch/>
          </p:blipFill>
          <p:spPr>
            <a:xfrm>
              <a:off x="4943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2" name="" descr=""/>
            <p:cNvPicPr/>
            <p:nvPr/>
          </p:nvPicPr>
          <p:blipFill>
            <a:blip r:embed="rId24"/>
            <a:stretch/>
          </p:blipFill>
          <p:spPr>
            <a:xfrm>
              <a:off x="50958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3" name="" descr=""/>
            <p:cNvPicPr/>
            <p:nvPr/>
          </p:nvPicPr>
          <p:blipFill>
            <a:blip r:embed="rId25"/>
            <a:stretch/>
          </p:blipFill>
          <p:spPr>
            <a:xfrm>
              <a:off x="46386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4" name=""/>
            <p:cNvGrpSpPr/>
            <p:nvPr/>
          </p:nvGrpSpPr>
          <p:grpSpPr>
            <a:xfrm>
              <a:off x="533520" y="5791320"/>
              <a:ext cx="923760" cy="161640"/>
              <a:chOff x="533520" y="5791320"/>
              <a:chExt cx="923760" cy="161640"/>
            </a:xfrm>
          </p:grpSpPr>
          <p:pic>
            <p:nvPicPr>
              <p:cNvPr id="544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764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384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9907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1336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56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0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35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51" name=""/>
          <p:cNvGrpSpPr/>
          <p:nvPr/>
        </p:nvGrpSpPr>
        <p:grpSpPr>
          <a:xfrm>
            <a:off x="6997680" y="1905120"/>
            <a:ext cx="476280" cy="3341520"/>
            <a:chOff x="6997680" y="1905120"/>
            <a:chExt cx="476280" cy="3341520"/>
          </a:xfrm>
        </p:grpSpPr>
        <p:sp>
          <p:nvSpPr>
            <p:cNvPr id="5452" name=""/>
            <p:cNvSpPr/>
            <p:nvPr/>
          </p:nvSpPr>
          <p:spPr>
            <a:xfrm>
              <a:off x="707580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069320" y="3964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069320" y="4345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69320" y="472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997680" y="22863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997680" y="2743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997680" y="31244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997680" y="35816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7683480" y="1905120"/>
            <a:ext cx="523440" cy="3371760"/>
            <a:chOff x="7683480" y="1905120"/>
            <a:chExt cx="523440" cy="3371760"/>
          </a:xfrm>
        </p:grpSpPr>
        <p:sp>
          <p:nvSpPr>
            <p:cNvPr id="5461" name=""/>
            <p:cNvSpPr/>
            <p:nvPr/>
          </p:nvSpPr>
          <p:spPr>
            <a:xfrm>
              <a:off x="7683480" y="2286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776160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7799760" y="3994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7799760" y="437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7823520" y="4756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7793640" y="2746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7721640" y="315612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7720200" y="358128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9" name=""/>
          <p:cNvGrpSpPr/>
          <p:nvPr/>
        </p:nvGrpSpPr>
        <p:grpSpPr>
          <a:xfrm>
            <a:off x="5334120" y="1295280"/>
            <a:ext cx="3200400" cy="3949560"/>
            <a:chOff x="5334120" y="1295280"/>
            <a:chExt cx="3200400" cy="3949560"/>
          </a:xfrm>
        </p:grpSpPr>
        <p:grpSp>
          <p:nvGrpSpPr>
            <p:cNvPr id="5470" name=""/>
            <p:cNvGrpSpPr/>
            <p:nvPr/>
          </p:nvGrpSpPr>
          <p:grpSpPr>
            <a:xfrm>
              <a:off x="5334120" y="1295280"/>
              <a:ext cx="3200400" cy="3949560"/>
              <a:chOff x="5334120" y="1295280"/>
              <a:chExt cx="3200400" cy="3949560"/>
            </a:xfrm>
          </p:grpSpPr>
          <p:sp>
            <p:nvSpPr>
              <p:cNvPr id="5471" name=""/>
              <p:cNvSpPr/>
              <p:nvPr/>
            </p:nvSpPr>
            <p:spPr>
              <a:xfrm>
                <a:off x="5438520" y="39625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436720" y="228600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436720" y="271296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0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436720" y="312408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434560" y="3551400"/>
                <a:ext cx="153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0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438520" y="434340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438520" y="472428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438520" y="19051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010280" y="1295280"/>
                <a:ext cx="0" cy="385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5410080" y="129528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410080" y="190512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5334120" y="1371600"/>
                <a:ext cx="320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   B   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"/>
                  </a:rPr>
                  <a:t>1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620120" y="1295280"/>
                <a:ext cx="0" cy="38862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4" name=""/>
            <p:cNvSpPr/>
            <p:nvPr/>
          </p:nvSpPr>
          <p:spPr>
            <a:xfrm>
              <a:off x="5562720" y="51847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5" name=""/>
          <p:cNvSpPr/>
          <p:nvPr/>
        </p:nvSpPr>
        <p:spPr>
          <a:xfrm>
            <a:off x="533520" y="642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由状态表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6" name=""/>
              <p:cNvSpPr txBox="1"/>
              <p:nvPr/>
            </p:nvSpPr>
            <p:spPr>
              <a:xfrm>
                <a:off x="652320" y="1252440"/>
                <a:ext cx="4599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7" name=""/>
              <p:cNvSpPr txBox="1"/>
              <p:nvPr/>
            </p:nvSpPr>
            <p:spPr>
              <a:xfrm>
                <a:off x="665280" y="1862280"/>
                <a:ext cx="49449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88" name=""/>
          <p:cNvGrpSpPr/>
          <p:nvPr/>
        </p:nvGrpSpPr>
        <p:grpSpPr>
          <a:xfrm>
            <a:off x="5715000" y="2776680"/>
            <a:ext cx="1371600" cy="2438280"/>
            <a:chOff x="5715000" y="2776680"/>
            <a:chExt cx="1371600" cy="2438280"/>
          </a:xfrm>
        </p:grpSpPr>
        <p:sp>
          <p:nvSpPr>
            <p:cNvPr id="5489" name=""/>
            <p:cNvSpPr/>
            <p:nvPr/>
          </p:nvSpPr>
          <p:spPr>
            <a:xfrm>
              <a:off x="5791320" y="2776680"/>
              <a:ext cx="1295280" cy="0"/>
            </a:xfrm>
            <a:prstGeom prst="line">
              <a:avLst/>
            </a:prstGeom>
            <a:ln cap="sq"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5791320" y="3220920"/>
              <a:ext cx="1295280" cy="12600"/>
            </a:xfrm>
            <a:prstGeom prst="line">
              <a:avLst/>
            </a:prstGeom>
            <a:ln cap="sq"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5791320" y="4071960"/>
              <a:ext cx="1295280" cy="0"/>
            </a:xfrm>
            <a:prstGeom prst="line">
              <a:avLst/>
            </a:prstGeom>
            <a:ln cap="sq"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5715000" y="5214960"/>
              <a:ext cx="1371600" cy="0"/>
            </a:xfrm>
            <a:prstGeom prst="line">
              <a:avLst/>
            </a:prstGeom>
            <a:ln cap="sq"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5715000" y="3614760"/>
            <a:ext cx="1981080" cy="1600200"/>
            <a:chOff x="5715000" y="3614760"/>
            <a:chExt cx="1981080" cy="1600200"/>
          </a:xfrm>
        </p:grpSpPr>
        <p:sp>
          <p:nvSpPr>
            <p:cNvPr id="5494" name=""/>
            <p:cNvSpPr/>
            <p:nvPr/>
          </p:nvSpPr>
          <p:spPr>
            <a:xfrm>
              <a:off x="5715000" y="3614760"/>
              <a:ext cx="1981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715000" y="4453200"/>
              <a:ext cx="1981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5715000" y="4834080"/>
              <a:ext cx="1981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5715000" y="5214960"/>
              <a:ext cx="1981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1066680" y="4147200"/>
            <a:ext cx="3352680" cy="1872720"/>
            <a:chOff x="1066680" y="4147200"/>
            <a:chExt cx="3352680" cy="1872720"/>
          </a:xfrm>
        </p:grpSpPr>
        <p:grpSp>
          <p:nvGrpSpPr>
            <p:cNvPr id="5499" name=""/>
            <p:cNvGrpSpPr/>
            <p:nvPr/>
          </p:nvGrpSpPr>
          <p:grpSpPr>
            <a:xfrm>
              <a:off x="1066680" y="4147200"/>
              <a:ext cx="3352680" cy="1872720"/>
              <a:chOff x="1066680" y="4147200"/>
              <a:chExt cx="3352680" cy="1872720"/>
            </a:xfrm>
          </p:grpSpPr>
          <p:sp>
            <p:nvSpPr>
              <p:cNvPr id="5500" name=""/>
              <p:cNvSpPr/>
              <p:nvPr/>
            </p:nvSpPr>
            <p:spPr>
              <a:xfrm flipH="1" flipV="1">
                <a:off x="1295280" y="4418280"/>
                <a:ext cx="380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1066680" y="43758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95280" y="41472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676160" y="4800600"/>
                <a:ext cx="1371600" cy="121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676160" y="54104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361960" y="480060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676160" y="43758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218960" y="54424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218960" y="487584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047760" y="4800600"/>
                <a:ext cx="1371600" cy="121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047760" y="54104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733560" y="480060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3619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0477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7335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191400" y="48340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87720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58156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19140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9" name=""/>
            <p:cNvSpPr/>
            <p:nvPr/>
          </p:nvSpPr>
          <p:spPr>
            <a:xfrm>
              <a:off x="3200400" y="4910400"/>
              <a:ext cx="380880" cy="9903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514600" y="5519880"/>
              <a:ext cx="1143000" cy="3808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24080" y="5519880"/>
              <a:ext cx="1143000" cy="3808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2" name=""/>
          <p:cNvSpPr/>
          <p:nvPr/>
        </p:nvSpPr>
        <p:spPr>
          <a:xfrm>
            <a:off x="1326240" y="3538440"/>
            <a:ext cx="2527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或由卡图诺可得相同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3" name=""/>
              <p:cNvSpPr txBox="1"/>
              <p:nvPr/>
            </p:nvSpPr>
            <p:spPr>
              <a:xfrm>
                <a:off x="762120" y="3005280"/>
                <a:ext cx="3470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4" name=""/>
          <p:cNvSpPr/>
          <p:nvPr/>
        </p:nvSpPr>
        <p:spPr>
          <a:xfrm>
            <a:off x="457200" y="2471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3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化简逻辑式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5" name=""/>
          <p:cNvGrpSpPr/>
          <p:nvPr/>
        </p:nvGrpSpPr>
        <p:grpSpPr>
          <a:xfrm>
            <a:off x="5638680" y="1328760"/>
            <a:ext cx="3200400" cy="3980880"/>
            <a:chOff x="5638680" y="1328760"/>
            <a:chExt cx="3200400" cy="3980880"/>
          </a:xfrm>
        </p:grpSpPr>
        <p:grpSp>
          <p:nvGrpSpPr>
            <p:cNvPr id="5526" name=""/>
            <p:cNvGrpSpPr/>
            <p:nvPr/>
          </p:nvGrpSpPr>
          <p:grpSpPr>
            <a:xfrm>
              <a:off x="5638680" y="1328760"/>
              <a:ext cx="3200400" cy="3980880"/>
              <a:chOff x="5638680" y="1328760"/>
              <a:chExt cx="3200400" cy="3980880"/>
            </a:xfrm>
          </p:grpSpPr>
          <p:sp>
            <p:nvSpPr>
              <p:cNvPr id="5527" name=""/>
              <p:cNvSpPr/>
              <p:nvPr/>
            </p:nvSpPr>
            <p:spPr>
              <a:xfrm>
                <a:off x="5743080" y="399564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741280" y="231912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741280" y="274608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0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5741280" y="315720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5739120" y="3584520"/>
                <a:ext cx="153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0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5743080" y="43765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5743080" y="475740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5743080" y="193824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5" name=""/>
              <p:cNvGrpSpPr/>
              <p:nvPr/>
            </p:nvGrpSpPr>
            <p:grpSpPr>
              <a:xfrm>
                <a:off x="7302240" y="1938240"/>
                <a:ext cx="476280" cy="3341160"/>
                <a:chOff x="7302240" y="1938240"/>
                <a:chExt cx="476280" cy="3341160"/>
              </a:xfrm>
            </p:grpSpPr>
            <p:sp>
              <p:nvSpPr>
                <p:cNvPr id="5536" name=""/>
                <p:cNvSpPr/>
                <p:nvPr/>
              </p:nvSpPr>
              <p:spPr>
                <a:xfrm>
                  <a:off x="7380360" y="193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7373880" y="3997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8" name=""/>
                <p:cNvSpPr/>
                <p:nvPr/>
              </p:nvSpPr>
              <p:spPr>
                <a:xfrm>
                  <a:off x="7373880" y="4377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>
                  <a:off x="7373880" y="4758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>
                  <a:off x="7302240" y="23191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>
                  <a:off x="7302240" y="27763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>
                  <a:off x="7302240" y="31572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7302240" y="36144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4" name=""/>
              <p:cNvSpPr/>
              <p:nvPr/>
            </p:nvSpPr>
            <p:spPr>
              <a:xfrm>
                <a:off x="7314840" y="1328760"/>
                <a:ext cx="0" cy="385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5714640" y="132876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714640" y="193824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638680" y="1404720"/>
                <a:ext cx="320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   B   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"/>
                  </a:rPr>
                  <a:t>1  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"/>
                    <a:ea typeface="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924680" y="1328760"/>
                <a:ext cx="0" cy="3885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9" name=""/>
              <p:cNvGrpSpPr/>
              <p:nvPr/>
            </p:nvGrpSpPr>
            <p:grpSpPr>
              <a:xfrm>
                <a:off x="7988040" y="1938240"/>
                <a:ext cx="523440" cy="3371400"/>
                <a:chOff x="7988040" y="1938240"/>
                <a:chExt cx="523440" cy="3371400"/>
              </a:xfrm>
            </p:grpSpPr>
            <p:sp>
              <p:nvSpPr>
                <p:cNvPr id="5550" name=""/>
                <p:cNvSpPr/>
                <p:nvPr/>
              </p:nvSpPr>
              <p:spPr>
                <a:xfrm>
                  <a:off x="7988040" y="231876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>
                  <a:off x="8066160" y="193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>
                  <a:off x="8104320" y="4026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>
                  <a:off x="8104320" y="440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4" name=""/>
                <p:cNvSpPr/>
                <p:nvPr/>
              </p:nvSpPr>
              <p:spPr>
                <a:xfrm>
                  <a:off x="8128080" y="4789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5" name=""/>
                <p:cNvSpPr/>
                <p:nvPr/>
              </p:nvSpPr>
              <p:spPr>
                <a:xfrm>
                  <a:off x="8098200" y="2779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>
                  <a:off x="8026200" y="318888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8024760" y="361404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8" name=""/>
            <p:cNvSpPr/>
            <p:nvPr/>
          </p:nvSpPr>
          <p:spPr>
            <a:xfrm>
              <a:off x="5715000" y="52578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762120" y="3367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用“与非”门构成逻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0" name=""/>
              <p:cNvSpPr txBox="1"/>
              <p:nvPr/>
            </p:nvSpPr>
            <p:spPr>
              <a:xfrm>
                <a:off x="1116000" y="4137120"/>
                <a:ext cx="3470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1" name=""/>
          <p:cNvSpPr/>
          <p:nvPr/>
        </p:nvSpPr>
        <p:spPr>
          <a:xfrm>
            <a:off x="2030400" y="4114800"/>
            <a:ext cx="2438280" cy="1440"/>
          </a:xfrm>
          <a:prstGeom prst="line">
            <a:avLst/>
          </a:prstGeom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030400" y="4038480"/>
            <a:ext cx="2438280" cy="1800"/>
          </a:xfrm>
          <a:prstGeom prst="line">
            <a:avLst/>
          </a:prstGeom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3" name=""/>
          <p:cNvGrpSpPr/>
          <p:nvPr/>
        </p:nvGrpSpPr>
        <p:grpSpPr>
          <a:xfrm>
            <a:off x="4648320" y="4038480"/>
            <a:ext cx="2639520" cy="533160"/>
            <a:chOff x="4648320" y="4038480"/>
            <a:chExt cx="2639520" cy="533160"/>
          </a:xfrm>
        </p:grpSpPr>
        <mc:AlternateContent>
          <mc:Choice xmlns:a14="http://schemas.microsoft.com/office/drawing/2010/main" Requires="a14">
            <p:sp>
              <p:nvSpPr>
                <p:cNvPr id="5564" name=""/>
                <p:cNvSpPr txBox="1"/>
                <p:nvPr/>
              </p:nvSpPr>
              <p:spPr>
                <a:xfrm>
                  <a:off x="4648320" y="4125960"/>
                  <a:ext cx="261756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65" name=""/>
            <p:cNvGrpSpPr/>
            <p:nvPr/>
          </p:nvGrpSpPr>
          <p:grpSpPr>
            <a:xfrm>
              <a:off x="5002200" y="4038480"/>
              <a:ext cx="2285640" cy="66600"/>
              <a:chOff x="5002200" y="4038480"/>
              <a:chExt cx="2285640" cy="66600"/>
            </a:xfrm>
          </p:grpSpPr>
          <p:sp>
            <p:nvSpPr>
              <p:cNvPr id="5566" name=""/>
              <p:cNvSpPr/>
              <p:nvPr/>
            </p:nvSpPr>
            <p:spPr>
              <a:xfrm>
                <a:off x="5002200" y="4038480"/>
                <a:ext cx="2285640" cy="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7" name=""/>
              <p:cNvGrpSpPr/>
              <p:nvPr/>
            </p:nvGrpSpPr>
            <p:grpSpPr>
              <a:xfrm>
                <a:off x="5077800" y="4105080"/>
                <a:ext cx="2133000" cy="0"/>
                <a:chOff x="5077800" y="4105080"/>
                <a:chExt cx="2133000" cy="0"/>
              </a:xfrm>
            </p:grpSpPr>
            <p:sp>
              <p:nvSpPr>
                <p:cNvPr id="5568" name=""/>
                <p:cNvSpPr/>
                <p:nvPr/>
              </p:nvSpPr>
              <p:spPr>
                <a:xfrm>
                  <a:off x="5077800" y="4105080"/>
                  <a:ext cx="609480" cy="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5839560" y="4105080"/>
                  <a:ext cx="609120" cy="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6601680" y="4105080"/>
                  <a:ext cx="609120" cy="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71" name=""/>
          <p:cNvGrpSpPr/>
          <p:nvPr/>
        </p:nvGrpSpPr>
        <p:grpSpPr>
          <a:xfrm>
            <a:off x="1089000" y="4724280"/>
            <a:ext cx="5463720" cy="658440"/>
            <a:chOff x="1089000" y="4724280"/>
            <a:chExt cx="5463720" cy="658440"/>
          </a:xfrm>
        </p:grpSpPr>
        <mc:AlternateContent>
          <mc:Choice xmlns:a14="http://schemas.microsoft.com/office/drawing/2010/main" Requires="a14">
            <p:sp>
              <p:nvSpPr>
                <p:cNvPr id="5572" name=""/>
                <p:cNvSpPr txBox="1"/>
                <p:nvPr/>
              </p:nvSpPr>
              <p:spPr>
                <a:xfrm>
                  <a:off x="1089000" y="4788000"/>
                  <a:ext cx="539064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C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73" name=""/>
            <p:cNvGrpSpPr/>
            <p:nvPr/>
          </p:nvGrpSpPr>
          <p:grpSpPr>
            <a:xfrm>
              <a:off x="2018160" y="4724280"/>
              <a:ext cx="4534560" cy="63720"/>
              <a:chOff x="2018160" y="4724280"/>
              <a:chExt cx="4534560" cy="63720"/>
            </a:xfrm>
          </p:grpSpPr>
          <p:sp>
            <p:nvSpPr>
              <p:cNvPr id="5574" name=""/>
              <p:cNvSpPr/>
              <p:nvPr/>
            </p:nvSpPr>
            <p:spPr>
              <a:xfrm>
                <a:off x="2018160" y="4724280"/>
                <a:ext cx="45345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018160" y="4788000"/>
                <a:ext cx="950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188160" y="4788000"/>
                <a:ext cx="95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4431600" y="4788000"/>
                <a:ext cx="950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5601600" y="4788000"/>
                <a:ext cx="95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579" name=""/>
              <p:cNvSpPr txBox="1"/>
              <p:nvPr/>
            </p:nvSpPr>
            <p:spPr>
              <a:xfrm>
                <a:off x="838080" y="888840"/>
                <a:ext cx="4953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0" name=""/>
          <p:cNvGrpSpPr/>
          <p:nvPr/>
        </p:nvGrpSpPr>
        <p:grpSpPr>
          <a:xfrm>
            <a:off x="1066680" y="1411560"/>
            <a:ext cx="7619400" cy="2169000"/>
            <a:chOff x="1066680" y="1411560"/>
            <a:chExt cx="7619400" cy="2169000"/>
          </a:xfrm>
        </p:grpSpPr>
        <p:sp>
          <p:nvSpPr>
            <p:cNvPr id="5581" name=""/>
            <p:cNvSpPr/>
            <p:nvPr/>
          </p:nvSpPr>
          <p:spPr>
            <a:xfrm>
              <a:off x="1066680" y="1739880"/>
              <a:ext cx="3616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由逻辑表达式画出卡诺图，由卡图诺可知，该函数不可化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2" name=""/>
            <p:cNvGrpSpPr/>
            <p:nvPr/>
          </p:nvGrpSpPr>
          <p:grpSpPr>
            <a:xfrm>
              <a:off x="4987800" y="1411560"/>
              <a:ext cx="3698280" cy="2169000"/>
              <a:chOff x="4987800" y="1411560"/>
              <a:chExt cx="3698280" cy="2169000"/>
            </a:xfrm>
          </p:grpSpPr>
          <p:sp>
            <p:nvSpPr>
              <p:cNvPr id="5583" name=""/>
              <p:cNvSpPr/>
              <p:nvPr/>
            </p:nvSpPr>
            <p:spPr>
              <a:xfrm flipH="1" flipV="1">
                <a:off x="5239440" y="1689840"/>
                <a:ext cx="420120" cy="45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4" name=""/>
              <p:cNvGrpSpPr/>
              <p:nvPr/>
            </p:nvGrpSpPr>
            <p:grpSpPr>
              <a:xfrm>
                <a:off x="4987800" y="1411560"/>
                <a:ext cx="3698280" cy="2169000"/>
                <a:chOff x="4987800" y="1411560"/>
                <a:chExt cx="3698280" cy="2169000"/>
              </a:xfrm>
            </p:grpSpPr>
            <p:sp>
              <p:nvSpPr>
                <p:cNvPr id="5585" name=""/>
                <p:cNvSpPr/>
                <p:nvPr/>
              </p:nvSpPr>
              <p:spPr>
                <a:xfrm>
                  <a:off x="4987800" y="1685160"/>
                  <a:ext cx="59004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5241240" y="1411560"/>
                  <a:ext cx="754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5659920" y="2140560"/>
                  <a:ext cx="1513080" cy="1440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5659920" y="2860560"/>
                  <a:ext cx="151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6416640" y="2140560"/>
                  <a:ext cx="0" cy="144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5661720" y="1683000"/>
                  <a:ext cx="7531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5157360" y="2943720"/>
                  <a:ext cx="58824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5157360" y="2272320"/>
                  <a:ext cx="58824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7173000" y="2140560"/>
                  <a:ext cx="1513080" cy="1440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7173000" y="2860560"/>
                  <a:ext cx="151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>
                  <a:off x="7929720" y="2140560"/>
                  <a:ext cx="0" cy="144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>
                  <a:off x="6414840" y="1644120"/>
                  <a:ext cx="7578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7173000" y="1644120"/>
                  <a:ext cx="7563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7929720" y="1644120"/>
                  <a:ext cx="7563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6591600" y="2179800"/>
                  <a:ext cx="3546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8106120" y="2179800"/>
                  <a:ext cx="3546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5834880" y="2900160"/>
                  <a:ext cx="3546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7433640" y="2900160"/>
                  <a:ext cx="3546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33360" y="5335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分立元件门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828800"/>
            <a:ext cx="8153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门电路是数字电路中最基本的逻辑元件。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所谓门就是一种开关，它能按照一定的条件去控制信号的通过或不通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门电路的输入和输出之间存在一定的逻辑关系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因果关系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)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，所以门电路又称为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门电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3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门电路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4419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基本逻辑关系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与”、“或”、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4952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下面通过例子说明逻辑电路的概念及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与”、“或”、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"/>
          <p:cNvSpPr/>
          <p:nvPr/>
        </p:nvSpPr>
        <p:spPr>
          <a:xfrm>
            <a:off x="825480" y="609480"/>
            <a:ext cx="4203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(5) 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4" name=""/>
          <p:cNvGrpSpPr/>
          <p:nvPr/>
        </p:nvGrpSpPr>
        <p:grpSpPr>
          <a:xfrm>
            <a:off x="838080" y="1066680"/>
            <a:ext cx="7315200" cy="5287680"/>
            <a:chOff x="838080" y="1066680"/>
            <a:chExt cx="7315200" cy="5287680"/>
          </a:xfrm>
        </p:grpSpPr>
        <p:sp>
          <p:nvSpPr>
            <p:cNvPr id="5605" name=""/>
            <p:cNvSpPr/>
            <p:nvPr/>
          </p:nvSpPr>
          <p:spPr>
            <a:xfrm>
              <a:off x="83808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29528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28600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8" name=""/>
            <p:cNvGrpSpPr/>
            <p:nvPr/>
          </p:nvGrpSpPr>
          <p:grpSpPr>
            <a:xfrm>
              <a:off x="3886200" y="5715000"/>
              <a:ext cx="457200" cy="563040"/>
              <a:chOff x="3886200" y="5715000"/>
              <a:chExt cx="457200" cy="563040"/>
            </a:xfrm>
          </p:grpSpPr>
          <p:sp>
            <p:nvSpPr>
              <p:cNvPr id="5609" name=""/>
              <p:cNvSpPr/>
              <p:nvPr/>
            </p:nvSpPr>
            <p:spPr>
              <a:xfrm>
                <a:off x="3886200" y="571500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997440" y="5867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1" name=""/>
            <p:cNvGrpSpPr/>
            <p:nvPr/>
          </p:nvGrpSpPr>
          <p:grpSpPr>
            <a:xfrm>
              <a:off x="4267080" y="5715000"/>
              <a:ext cx="457200" cy="563040"/>
              <a:chOff x="4267080" y="5715000"/>
              <a:chExt cx="457200" cy="563040"/>
            </a:xfrm>
          </p:grpSpPr>
          <p:sp>
            <p:nvSpPr>
              <p:cNvPr id="5612" name=""/>
              <p:cNvSpPr/>
              <p:nvPr/>
            </p:nvSpPr>
            <p:spPr>
              <a:xfrm>
                <a:off x="4267080" y="571500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4378320" y="5867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4" name=""/>
            <p:cNvGrpSpPr/>
            <p:nvPr/>
          </p:nvGrpSpPr>
          <p:grpSpPr>
            <a:xfrm>
              <a:off x="5638680" y="5791320"/>
              <a:ext cx="457200" cy="563040"/>
              <a:chOff x="5638680" y="5791320"/>
              <a:chExt cx="457200" cy="563040"/>
            </a:xfrm>
          </p:grpSpPr>
          <p:sp>
            <p:nvSpPr>
              <p:cNvPr id="5615" name=""/>
              <p:cNvSpPr/>
              <p:nvPr/>
            </p:nvSpPr>
            <p:spPr>
              <a:xfrm>
                <a:off x="5638680" y="579132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749920" y="59439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7" name=""/>
            <p:cNvGrpSpPr/>
            <p:nvPr/>
          </p:nvGrpSpPr>
          <p:grpSpPr>
            <a:xfrm>
              <a:off x="4038480" y="3314520"/>
              <a:ext cx="914400" cy="647640"/>
              <a:chOff x="4038480" y="3314520"/>
              <a:chExt cx="914400" cy="647640"/>
            </a:xfrm>
          </p:grpSpPr>
          <p:sp>
            <p:nvSpPr>
              <p:cNvPr id="5618" name=""/>
              <p:cNvSpPr/>
              <p:nvPr/>
            </p:nvSpPr>
            <p:spPr>
              <a:xfrm rot="16200000">
                <a:off x="4257360" y="3266640"/>
                <a:ext cx="476280" cy="91440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rot="16200000">
                <a:off x="4419720" y="3314520"/>
                <a:ext cx="152280" cy="15228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432144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1" name=""/>
            <p:cNvGrpSpPr/>
            <p:nvPr/>
          </p:nvGrpSpPr>
          <p:grpSpPr>
            <a:xfrm>
              <a:off x="990720" y="3352320"/>
              <a:ext cx="687240" cy="611280"/>
              <a:chOff x="990720" y="3352320"/>
              <a:chExt cx="687240" cy="611280"/>
            </a:xfrm>
          </p:grpSpPr>
          <p:sp>
            <p:nvSpPr>
              <p:cNvPr id="5622" name=""/>
              <p:cNvSpPr/>
              <p:nvPr/>
            </p:nvSpPr>
            <p:spPr>
              <a:xfrm rot="16200000">
                <a:off x="1104840" y="3390480"/>
                <a:ext cx="459000" cy="68724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rot="16200000">
                <a:off x="1294920" y="3352320"/>
                <a:ext cx="152280" cy="15192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114444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5" name=""/>
            <p:cNvSpPr/>
            <p:nvPr/>
          </p:nvSpPr>
          <p:spPr>
            <a:xfrm>
              <a:off x="114300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52388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7" name=""/>
            <p:cNvGrpSpPr/>
            <p:nvPr/>
          </p:nvGrpSpPr>
          <p:grpSpPr>
            <a:xfrm>
              <a:off x="2057400" y="3352320"/>
              <a:ext cx="687240" cy="611280"/>
              <a:chOff x="2057400" y="3352320"/>
              <a:chExt cx="687240" cy="611280"/>
            </a:xfrm>
          </p:grpSpPr>
          <p:sp>
            <p:nvSpPr>
              <p:cNvPr id="5628" name=""/>
              <p:cNvSpPr/>
              <p:nvPr/>
            </p:nvSpPr>
            <p:spPr>
              <a:xfrm rot="16200000">
                <a:off x="2171520" y="3390480"/>
                <a:ext cx="459000" cy="68724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rot="16200000">
                <a:off x="2361600" y="3352320"/>
                <a:ext cx="152280" cy="15192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221112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1" name=""/>
            <p:cNvSpPr/>
            <p:nvPr/>
          </p:nvSpPr>
          <p:spPr>
            <a:xfrm>
              <a:off x="259092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2" name=""/>
            <p:cNvGrpSpPr/>
            <p:nvPr/>
          </p:nvGrpSpPr>
          <p:grpSpPr>
            <a:xfrm>
              <a:off x="3048120" y="3352320"/>
              <a:ext cx="687240" cy="611280"/>
              <a:chOff x="3048120" y="3352320"/>
              <a:chExt cx="687240" cy="611280"/>
            </a:xfrm>
          </p:grpSpPr>
          <p:sp>
            <p:nvSpPr>
              <p:cNvPr id="5633" name=""/>
              <p:cNvSpPr/>
              <p:nvPr/>
            </p:nvSpPr>
            <p:spPr>
              <a:xfrm rot="16200000">
                <a:off x="3162240" y="3390480"/>
                <a:ext cx="459000" cy="68724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rot="16200000">
                <a:off x="3352320" y="3352320"/>
                <a:ext cx="152280" cy="15192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20184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6" name=""/>
            <p:cNvSpPr/>
            <p:nvPr/>
          </p:nvSpPr>
          <p:spPr>
            <a:xfrm rot="16200000">
              <a:off x="5715000" y="1752480"/>
              <a:ext cx="533520" cy="990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770800" y="1905120"/>
              <a:ext cx="409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flipV="1">
              <a:off x="13716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43828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 flipV="1">
              <a:off x="34290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371600" y="2971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 flipV="1">
              <a:off x="213372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743200" y="2971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 flipV="1">
              <a:off x="27432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4495680" y="274284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 flipV="1">
              <a:off x="5562720" y="304776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V="1">
              <a:off x="7696080" y="274284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4495680" y="2743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V="1">
              <a:off x="563868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324480" y="2743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 flipV="1">
              <a:off x="632448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2" name=""/>
            <p:cNvGrpSpPr/>
            <p:nvPr/>
          </p:nvGrpSpPr>
          <p:grpSpPr>
            <a:xfrm>
              <a:off x="5105520" y="3314520"/>
              <a:ext cx="914400" cy="647640"/>
              <a:chOff x="5105520" y="3314520"/>
              <a:chExt cx="914400" cy="647640"/>
            </a:xfrm>
          </p:grpSpPr>
          <p:sp>
            <p:nvSpPr>
              <p:cNvPr id="5653" name=""/>
              <p:cNvSpPr/>
              <p:nvPr/>
            </p:nvSpPr>
            <p:spPr>
              <a:xfrm rot="16200000">
                <a:off x="5324400" y="3266640"/>
                <a:ext cx="476280" cy="91440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rot="16200000">
                <a:off x="5486760" y="3314520"/>
                <a:ext cx="152280" cy="15228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38848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6" name=""/>
            <p:cNvGrpSpPr/>
            <p:nvPr/>
          </p:nvGrpSpPr>
          <p:grpSpPr>
            <a:xfrm>
              <a:off x="6172200" y="3314520"/>
              <a:ext cx="914400" cy="647640"/>
              <a:chOff x="6172200" y="3314520"/>
              <a:chExt cx="914400" cy="647640"/>
            </a:xfrm>
          </p:grpSpPr>
          <p:sp>
            <p:nvSpPr>
              <p:cNvPr id="5657" name=""/>
              <p:cNvSpPr/>
              <p:nvPr/>
            </p:nvSpPr>
            <p:spPr>
              <a:xfrm rot="16200000">
                <a:off x="6391080" y="3266640"/>
                <a:ext cx="476280" cy="91440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 rot="16200000">
                <a:off x="6553440" y="3314520"/>
                <a:ext cx="152280" cy="15228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45516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7238880" y="3314520"/>
              <a:ext cx="914400" cy="647640"/>
              <a:chOff x="7238880" y="3314520"/>
              <a:chExt cx="914400" cy="647640"/>
            </a:xfrm>
          </p:grpSpPr>
          <p:sp>
            <p:nvSpPr>
              <p:cNvPr id="5661" name=""/>
              <p:cNvSpPr/>
              <p:nvPr/>
            </p:nvSpPr>
            <p:spPr>
              <a:xfrm rot="16200000">
                <a:off x="7457760" y="3266640"/>
                <a:ext cx="476280" cy="91440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rot="16200000">
                <a:off x="7620120" y="3314520"/>
                <a:ext cx="152280" cy="15228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52184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4" name=""/>
            <p:cNvSpPr/>
            <p:nvPr/>
          </p:nvSpPr>
          <p:spPr>
            <a:xfrm>
              <a:off x="5562720" y="3048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5867280" y="2514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V="1">
              <a:off x="6629400" y="304776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095880" y="3048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V="1">
              <a:off x="6095880" y="2514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9" name=""/>
            <p:cNvGrpSpPr/>
            <p:nvPr/>
          </p:nvGrpSpPr>
          <p:grpSpPr>
            <a:xfrm>
              <a:off x="1981080" y="1793520"/>
              <a:ext cx="914400" cy="647640"/>
              <a:chOff x="1981080" y="1793520"/>
              <a:chExt cx="914400" cy="647640"/>
            </a:xfrm>
          </p:grpSpPr>
          <p:sp>
            <p:nvSpPr>
              <p:cNvPr id="5670" name=""/>
              <p:cNvSpPr/>
              <p:nvPr/>
            </p:nvSpPr>
            <p:spPr>
              <a:xfrm rot="16200000">
                <a:off x="2199960" y="1745640"/>
                <a:ext cx="476280" cy="914400"/>
              </a:xfrm>
              <a:prstGeom prst="rect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rot="16200000">
                <a:off x="2362320" y="1793520"/>
                <a:ext cx="152280" cy="152280"/>
              </a:xfrm>
              <a:prstGeom prst="ellipse">
                <a:avLst/>
              </a:pr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264040" y="1908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3" name=""/>
            <p:cNvSpPr/>
            <p:nvPr/>
          </p:nvSpPr>
          <p:spPr>
            <a:xfrm>
              <a:off x="411480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49568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867280" y="3962520"/>
              <a:ext cx="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V="1">
              <a:off x="2438280" y="1295280"/>
              <a:ext cx="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V="1">
              <a:off x="5943600" y="1328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 rot="16200000">
              <a:off x="5867280" y="18280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1143000" y="4267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V="1">
              <a:off x="220968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V="1">
              <a:off x="632448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V="1">
              <a:off x="739152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523880" y="4572000"/>
              <a:ext cx="617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20040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25780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69608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590920" y="4876920"/>
              <a:ext cx="5410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58128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80060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800100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114800" y="51055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V="1">
              <a:off x="5562720" y="39621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495680" y="533412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V="1">
              <a:off x="6629400" y="39625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867280" y="56386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V="1">
              <a:off x="6934320" y="396252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438280" y="1066680"/>
              <a:ext cx="7621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?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867280" y="1066680"/>
              <a:ext cx="7621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?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1.8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0" name=""/>
          <p:cNvGrpSpPr/>
          <p:nvPr/>
        </p:nvGrpSpPr>
        <p:grpSpPr>
          <a:xfrm>
            <a:off x="838080" y="2971800"/>
            <a:ext cx="2743200" cy="171360"/>
            <a:chOff x="838080" y="2971800"/>
            <a:chExt cx="2743200" cy="171360"/>
          </a:xfrm>
        </p:grpSpPr>
        <p:pic>
          <p:nvPicPr>
            <p:cNvPr id="5701" name="" descr=""/>
            <p:cNvPicPr/>
            <p:nvPr/>
          </p:nvPicPr>
          <p:blipFill>
            <a:blip r:embed="rId1"/>
            <a:stretch/>
          </p:blipFill>
          <p:spPr>
            <a:xfrm>
              <a:off x="17431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2" name="" descr=""/>
            <p:cNvPicPr/>
            <p:nvPr/>
          </p:nvPicPr>
          <p:blipFill>
            <a:blip r:embed="rId2"/>
            <a:stretch/>
          </p:blipFill>
          <p:spPr>
            <a:xfrm>
              <a:off x="18856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3" name="" descr=""/>
            <p:cNvPicPr/>
            <p:nvPr/>
          </p:nvPicPr>
          <p:blipFill>
            <a:blip r:embed="rId3"/>
            <a:stretch/>
          </p:blipFill>
          <p:spPr>
            <a:xfrm>
              <a:off x="20476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4" name="" descr=""/>
            <p:cNvPicPr/>
            <p:nvPr/>
          </p:nvPicPr>
          <p:blipFill>
            <a:blip r:embed="rId4"/>
            <a:stretch/>
          </p:blipFill>
          <p:spPr>
            <a:xfrm>
              <a:off x="23428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5" name="" descr=""/>
            <p:cNvPicPr/>
            <p:nvPr/>
          </p:nvPicPr>
          <p:blipFill>
            <a:blip r:embed="rId5"/>
            <a:stretch/>
          </p:blipFill>
          <p:spPr>
            <a:xfrm>
              <a:off x="25048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6" name="" descr=""/>
            <p:cNvPicPr/>
            <p:nvPr/>
          </p:nvPicPr>
          <p:blipFill>
            <a:blip r:embed="rId6"/>
            <a:stretch/>
          </p:blipFill>
          <p:spPr>
            <a:xfrm>
              <a:off x="26575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7" name="" descr=""/>
            <p:cNvPicPr/>
            <p:nvPr/>
          </p:nvPicPr>
          <p:blipFill>
            <a:blip r:embed="rId7"/>
            <a:stretch/>
          </p:blipFill>
          <p:spPr>
            <a:xfrm>
              <a:off x="28000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8" name="" descr=""/>
            <p:cNvPicPr/>
            <p:nvPr/>
          </p:nvPicPr>
          <p:blipFill>
            <a:blip r:embed="rId8"/>
            <a:stretch/>
          </p:blipFill>
          <p:spPr>
            <a:xfrm>
              <a:off x="29620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9" name="" descr=""/>
            <p:cNvPicPr/>
            <p:nvPr/>
          </p:nvPicPr>
          <p:blipFill>
            <a:blip r:embed="rId9"/>
            <a:stretch/>
          </p:blipFill>
          <p:spPr>
            <a:xfrm>
              <a:off x="32572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0" name="" descr=""/>
            <p:cNvPicPr/>
            <p:nvPr/>
          </p:nvPicPr>
          <p:blipFill>
            <a:blip r:embed="rId10"/>
            <a:stretch/>
          </p:blipFill>
          <p:spPr>
            <a:xfrm>
              <a:off x="34192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1" name="" descr=""/>
            <p:cNvPicPr/>
            <p:nvPr/>
          </p:nvPicPr>
          <p:blipFill>
            <a:blip r:embed="rId11"/>
            <a:stretch/>
          </p:blipFill>
          <p:spPr>
            <a:xfrm>
              <a:off x="22003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2" name="" descr=""/>
            <p:cNvPicPr/>
            <p:nvPr/>
          </p:nvPicPr>
          <p:blipFill>
            <a:blip r:embed="rId12"/>
            <a:stretch/>
          </p:blipFill>
          <p:spPr>
            <a:xfrm>
              <a:off x="31147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13" name=""/>
            <p:cNvGrpSpPr/>
            <p:nvPr/>
          </p:nvGrpSpPr>
          <p:grpSpPr>
            <a:xfrm>
              <a:off x="838080" y="2971800"/>
              <a:ext cx="923760" cy="162000"/>
              <a:chOff x="838080" y="2971800"/>
              <a:chExt cx="923760" cy="162000"/>
            </a:xfrm>
          </p:grpSpPr>
          <p:pic>
            <p:nvPicPr>
              <p:cNvPr id="571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98100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43000" y="29718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528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43820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00200" y="29718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808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20" name=""/>
          <p:cNvSpPr/>
          <p:nvPr/>
        </p:nvSpPr>
        <p:spPr>
          <a:xfrm>
            <a:off x="762120" y="32004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8.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进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1864800" y="3809880"/>
            <a:ext cx="4263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十进制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0~9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十个数码，“逢十进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685800" y="457200"/>
            <a:ext cx="7467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常用的组合电路有加法器、编码器、译码器、数据分配器和多路选择器等。下面几节分别介绍这几种典型组合逻辑电路的基本结构、工作原理和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685800" y="4343400"/>
            <a:ext cx="784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为了把电路的两个状态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“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态和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态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与数码对应起来，采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二进制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2395440" y="5410080"/>
            <a:ext cx="322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二进制：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两个数码，“逢二进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.8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1686240" y="1114560"/>
            <a:ext cx="38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加法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实现二进制加法运算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85800" y="405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3581280" y="2805120"/>
            <a:ext cx="381240" cy="1143000"/>
          </a:xfrm>
          <a:prstGeom prst="ellipse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971800" y="2805120"/>
            <a:ext cx="457200" cy="17524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0" name=""/>
          <p:cNvGrpSpPr/>
          <p:nvPr/>
        </p:nvGrpSpPr>
        <p:grpSpPr>
          <a:xfrm>
            <a:off x="1212120" y="2011320"/>
            <a:ext cx="3283560" cy="2614680"/>
            <a:chOff x="1212120" y="2011320"/>
            <a:chExt cx="3283560" cy="2614680"/>
          </a:xfrm>
        </p:grpSpPr>
        <p:sp>
          <p:nvSpPr>
            <p:cNvPr id="5731" name=""/>
            <p:cNvSpPr/>
            <p:nvPr/>
          </p:nvSpPr>
          <p:spPr>
            <a:xfrm>
              <a:off x="1212120" y="2011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098080" y="2797200"/>
              <a:ext cx="106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099880" y="3483000"/>
              <a:ext cx="96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3567960" y="280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3567960" y="3490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1676160" y="4626000"/>
              <a:ext cx="2819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1600200" y="34066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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3034440" y="3483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3034440" y="2797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0" name=""/>
          <p:cNvGrpSpPr/>
          <p:nvPr/>
        </p:nvGrpSpPr>
        <p:grpSpPr>
          <a:xfrm>
            <a:off x="3034800" y="3948120"/>
            <a:ext cx="947160" cy="1267200"/>
            <a:chOff x="3034800" y="3948120"/>
            <a:chExt cx="947160" cy="1267200"/>
          </a:xfrm>
        </p:grpSpPr>
        <p:sp>
          <p:nvSpPr>
            <p:cNvPr id="5741" name=""/>
            <p:cNvSpPr/>
            <p:nvPr/>
          </p:nvSpPr>
          <p:spPr>
            <a:xfrm>
              <a:off x="3034800" y="394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356796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3" name=""/>
          <p:cNvGrpSpPr/>
          <p:nvPr/>
        </p:nvGrpSpPr>
        <p:grpSpPr>
          <a:xfrm>
            <a:off x="2501280" y="3948120"/>
            <a:ext cx="947160" cy="1267200"/>
            <a:chOff x="2501280" y="3948120"/>
            <a:chExt cx="947160" cy="1267200"/>
          </a:xfrm>
        </p:grpSpPr>
        <p:sp>
          <p:nvSpPr>
            <p:cNvPr id="5744" name=""/>
            <p:cNvSpPr/>
            <p:nvPr/>
          </p:nvSpPr>
          <p:spPr>
            <a:xfrm>
              <a:off x="2501280" y="394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03444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6" name=""/>
          <p:cNvGrpSpPr/>
          <p:nvPr/>
        </p:nvGrpSpPr>
        <p:grpSpPr>
          <a:xfrm>
            <a:off x="2196360" y="4633920"/>
            <a:ext cx="795240" cy="581400"/>
            <a:chOff x="2196360" y="4633920"/>
            <a:chExt cx="795240" cy="581400"/>
          </a:xfrm>
        </p:grpSpPr>
        <p:sp>
          <p:nvSpPr>
            <p:cNvPr id="5747" name=""/>
            <p:cNvSpPr/>
            <p:nvPr/>
          </p:nvSpPr>
          <p:spPr>
            <a:xfrm>
              <a:off x="257760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19636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9" name=""/>
          <p:cNvSpPr/>
          <p:nvPr/>
        </p:nvSpPr>
        <p:spPr>
          <a:xfrm>
            <a:off x="4648320" y="4329000"/>
            <a:ext cx="2057400" cy="922320"/>
          </a:xfrm>
          <a:prstGeom prst="wedgeRoundRectCallout">
            <a:avLst>
              <a:gd name="adj1" fmla="val -86421"/>
              <a:gd name="adj2" fmla="val -10043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不考虑低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来的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0" name=""/>
          <p:cNvGrpSpPr/>
          <p:nvPr/>
        </p:nvGrpSpPr>
        <p:grpSpPr>
          <a:xfrm>
            <a:off x="5562720" y="5319720"/>
            <a:ext cx="2514600" cy="672840"/>
            <a:chOff x="5562720" y="5319720"/>
            <a:chExt cx="2514600" cy="672840"/>
          </a:xfrm>
        </p:grpSpPr>
        <p:sp>
          <p:nvSpPr>
            <p:cNvPr id="5751" name=""/>
            <p:cNvSpPr/>
            <p:nvPr/>
          </p:nvSpPr>
          <p:spPr>
            <a:xfrm>
              <a:off x="6019920" y="5472000"/>
              <a:ext cx="20574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半加器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562720" y="5884920"/>
              <a:ext cx="381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562720" y="5319720"/>
              <a:ext cx="0" cy="53316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4" name=""/>
          <p:cNvSpPr/>
          <p:nvPr/>
        </p:nvSpPr>
        <p:spPr>
          <a:xfrm>
            <a:off x="4114800" y="1828800"/>
            <a:ext cx="2209680" cy="914400"/>
          </a:xfrm>
          <a:prstGeom prst="wedgeRoundRectCallout">
            <a:avLst>
              <a:gd name="adj1" fmla="val -93606"/>
              <a:gd name="adj2" fmla="val 5000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要考虑低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来的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5" name=""/>
          <p:cNvGrpSpPr/>
          <p:nvPr/>
        </p:nvGrpSpPr>
        <p:grpSpPr>
          <a:xfrm>
            <a:off x="5257800" y="2819520"/>
            <a:ext cx="2514600" cy="672840"/>
            <a:chOff x="5257800" y="2819520"/>
            <a:chExt cx="2514600" cy="672840"/>
          </a:xfrm>
        </p:grpSpPr>
        <p:sp>
          <p:nvSpPr>
            <p:cNvPr id="5756" name=""/>
            <p:cNvSpPr/>
            <p:nvPr/>
          </p:nvSpPr>
          <p:spPr>
            <a:xfrm>
              <a:off x="5703840" y="2971800"/>
              <a:ext cx="20685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全加器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257800" y="3384720"/>
              <a:ext cx="371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257800" y="2819520"/>
              <a:ext cx="0" cy="53316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9" name=""/>
          <p:cNvSpPr/>
          <p:nvPr/>
        </p:nvSpPr>
        <p:spPr>
          <a:xfrm>
            <a:off x="2438280" y="2805120"/>
            <a:ext cx="457200" cy="17524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3581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8.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半加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62120" y="91440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半加：实现两个一位二进制数相加，不考虑来自低位的进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2" name=""/>
          <p:cNvGrpSpPr/>
          <p:nvPr/>
        </p:nvGrpSpPr>
        <p:grpSpPr>
          <a:xfrm>
            <a:off x="1203480" y="2286000"/>
            <a:ext cx="5032080" cy="1054080"/>
            <a:chOff x="1203480" y="2286000"/>
            <a:chExt cx="5032080" cy="1054080"/>
          </a:xfrm>
        </p:grpSpPr>
        <p:sp>
          <p:nvSpPr>
            <p:cNvPr id="5763" name=""/>
            <p:cNvSpPr/>
            <p:nvPr/>
          </p:nvSpPr>
          <p:spPr>
            <a:xfrm>
              <a:off x="2751840" y="22860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753280" y="28195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1203480" y="2666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两个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590920" y="2438280"/>
              <a:ext cx="152280" cy="838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921120" y="25909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两个同位相加的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8" name=""/>
          <p:cNvGrpSpPr/>
          <p:nvPr/>
        </p:nvGrpSpPr>
        <p:grpSpPr>
          <a:xfrm>
            <a:off x="1203480" y="3581280"/>
            <a:ext cx="4920480" cy="1058760"/>
            <a:chOff x="1203480" y="3581280"/>
            <a:chExt cx="4920480" cy="1058760"/>
          </a:xfrm>
        </p:grpSpPr>
        <p:sp>
          <p:nvSpPr>
            <p:cNvPr id="5769" name=""/>
            <p:cNvSpPr/>
            <p:nvPr/>
          </p:nvSpPr>
          <p:spPr>
            <a:xfrm>
              <a:off x="1203480" y="373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两个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590560" y="3662280"/>
              <a:ext cx="151920" cy="83808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749680" y="35812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677680" y="41148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200040" y="3838320"/>
              <a:ext cx="3808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200040" y="4371840"/>
              <a:ext cx="3808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942360" y="35859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表示半加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4236480" y="41194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表示向高位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7" name=""/>
          <p:cNvSpPr/>
          <p:nvPr/>
        </p:nvSpPr>
        <p:spPr>
          <a:xfrm>
            <a:off x="1275480" y="480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符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11264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半加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9" name=""/>
          <p:cNvGrpSpPr/>
          <p:nvPr/>
        </p:nvGrpSpPr>
        <p:grpSpPr>
          <a:xfrm>
            <a:off x="3209040" y="4724280"/>
            <a:ext cx="2915640" cy="1295640"/>
            <a:chOff x="3209040" y="4724280"/>
            <a:chExt cx="2915640" cy="1295640"/>
          </a:xfrm>
        </p:grpSpPr>
        <p:sp>
          <p:nvSpPr>
            <p:cNvPr id="5780" name=""/>
            <p:cNvSpPr/>
            <p:nvPr/>
          </p:nvSpPr>
          <p:spPr>
            <a:xfrm>
              <a:off x="4191120" y="4724280"/>
              <a:ext cx="990360" cy="129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73392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73392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18148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18148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657600" y="5599080"/>
              <a:ext cx="7920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510440" y="5410080"/>
              <a:ext cx="68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209040" y="48006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210480" y="53341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22200" y="48006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26160" y="541008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495680" y="4800600"/>
              <a:ext cx="609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657600" y="5062680"/>
              <a:ext cx="7920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638680" y="5070600"/>
              <a:ext cx="7956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635800" y="5602320"/>
              <a:ext cx="7920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"/>
          <p:cNvSpPr/>
          <p:nvPr/>
        </p:nvSpPr>
        <p:spPr>
          <a:xfrm>
            <a:off x="990720" y="7621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半加器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6" name=""/>
          <p:cNvGrpSpPr/>
          <p:nvPr/>
        </p:nvGrpSpPr>
        <p:grpSpPr>
          <a:xfrm>
            <a:off x="1295280" y="1447920"/>
            <a:ext cx="2514600" cy="2465280"/>
            <a:chOff x="1295280" y="1447920"/>
            <a:chExt cx="2514600" cy="2465280"/>
          </a:xfrm>
        </p:grpSpPr>
        <p:sp>
          <p:nvSpPr>
            <p:cNvPr id="5797" name=""/>
            <p:cNvSpPr/>
            <p:nvPr/>
          </p:nvSpPr>
          <p:spPr>
            <a:xfrm>
              <a:off x="1371600" y="144792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590560" y="1447920"/>
              <a:ext cx="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1371600" y="198144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1379160" y="1447920"/>
              <a:ext cx="21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B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S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1295280" y="196236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1295280" y="243864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 1 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1295280" y="291492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 0 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1295280" y="339264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 1     0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5" name=""/>
          <p:cNvSpPr/>
          <p:nvPr/>
        </p:nvSpPr>
        <p:spPr>
          <a:xfrm>
            <a:off x="1428120" y="411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6" name=""/>
              <p:cNvSpPr txBox="1"/>
              <p:nvPr/>
            </p:nvSpPr>
            <p:spPr>
              <a:xfrm>
                <a:off x="1255680" y="4724280"/>
                <a:ext cx="3925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7" name=""/>
              <p:cNvSpPr txBox="1"/>
              <p:nvPr/>
            </p:nvSpPr>
            <p:spPr>
              <a:xfrm>
                <a:off x="1143000" y="5638680"/>
                <a:ext cx="1600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8" name=""/>
          <p:cNvGrpSpPr/>
          <p:nvPr/>
        </p:nvGrpSpPr>
        <p:grpSpPr>
          <a:xfrm>
            <a:off x="4428360" y="990720"/>
            <a:ext cx="3414600" cy="3568320"/>
            <a:chOff x="4428360" y="990720"/>
            <a:chExt cx="3414600" cy="3568320"/>
          </a:xfrm>
        </p:grpSpPr>
        <p:sp>
          <p:nvSpPr>
            <p:cNvPr id="5809" name=""/>
            <p:cNvSpPr/>
            <p:nvPr/>
          </p:nvSpPr>
          <p:spPr>
            <a:xfrm>
              <a:off x="5703840" y="4038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562720" y="1600200"/>
              <a:ext cx="0" cy="144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334120" y="2057400"/>
              <a:ext cx="0" cy="144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7280" y="1295280"/>
              <a:ext cx="762120" cy="1066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666880"/>
              <a:ext cx="762120" cy="1066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036480" y="27907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933160" y="1419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4952880" y="1600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4952880" y="20574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62940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629400" y="3200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562720" y="3047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334120" y="3504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181480" y="152388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401800" y="10666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4428360" y="129528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4429800" y="18288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7474680" y="16002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7402320" y="289548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105520" y="990720"/>
              <a:ext cx="1904760" cy="2971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7391520" y="179208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867200" y="201924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7343640" y="3159000"/>
              <a:ext cx="9396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867200" y="15588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1203480" y="5410080"/>
                <a:ext cx="14414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34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8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全加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6" name=""/>
          <p:cNvGrpSpPr/>
          <p:nvPr/>
        </p:nvGrpSpPr>
        <p:grpSpPr>
          <a:xfrm>
            <a:off x="1288440" y="1981080"/>
            <a:ext cx="5252040" cy="1646640"/>
            <a:chOff x="1288440" y="1981080"/>
            <a:chExt cx="5252040" cy="1646640"/>
          </a:xfrm>
        </p:grpSpPr>
        <p:sp>
          <p:nvSpPr>
            <p:cNvPr id="5837" name=""/>
            <p:cNvSpPr/>
            <p:nvPr/>
          </p:nvSpPr>
          <p:spPr>
            <a:xfrm>
              <a:off x="3048120" y="2162160"/>
              <a:ext cx="76320" cy="6858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1288440" y="2367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210040" y="21621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525400" y="198108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4226040" y="229068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两个同位相加的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526840" y="25146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460960" y="304812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4082400" y="30528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低位来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3200400" y="330516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3200400" y="254304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1288440" y="3657600"/>
            <a:ext cx="4605120" cy="1189080"/>
            <a:chOff x="1288440" y="3657600"/>
            <a:chExt cx="4605120" cy="1189080"/>
          </a:xfrm>
        </p:grpSpPr>
        <p:sp>
          <p:nvSpPr>
            <p:cNvPr id="5848" name=""/>
            <p:cNvSpPr/>
            <p:nvPr/>
          </p:nvSpPr>
          <p:spPr>
            <a:xfrm>
              <a:off x="1288440" y="3890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209680" y="380844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971800" y="399096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971800" y="452448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3714120" y="3738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本位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4006080" y="42721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向高位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75280" y="426708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C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71320" y="365760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6" name=""/>
          <p:cNvSpPr/>
          <p:nvPr/>
        </p:nvSpPr>
        <p:spPr>
          <a:xfrm>
            <a:off x="762120" y="91440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全加：实现两个一位二进制数相加，且考虑来自低位的进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428120" y="480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符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457200" y="1905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加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9" name=""/>
          <p:cNvGrpSpPr/>
          <p:nvPr/>
        </p:nvGrpSpPr>
        <p:grpSpPr>
          <a:xfrm>
            <a:off x="3146400" y="4800600"/>
            <a:ext cx="3118680" cy="1417680"/>
            <a:chOff x="3146400" y="4800600"/>
            <a:chExt cx="3118680" cy="1417680"/>
          </a:xfrm>
        </p:grpSpPr>
        <p:sp>
          <p:nvSpPr>
            <p:cNvPr id="5860" name=""/>
            <p:cNvSpPr/>
            <p:nvPr/>
          </p:nvSpPr>
          <p:spPr>
            <a:xfrm>
              <a:off x="3287160" y="480060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3288600" y="52578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3146400" y="563868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5799960" y="495288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803920" y="556272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4267080" y="4876920"/>
              <a:ext cx="990360" cy="12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25744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5257440" y="5257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8" name=""/>
            <p:cNvGrpSpPr/>
            <p:nvPr/>
          </p:nvGrpSpPr>
          <p:grpSpPr>
            <a:xfrm>
              <a:off x="3733560" y="5486400"/>
              <a:ext cx="533520" cy="79200"/>
              <a:chOff x="3733560" y="5486400"/>
              <a:chExt cx="533520" cy="79200"/>
            </a:xfrm>
          </p:grpSpPr>
          <p:sp>
            <p:nvSpPr>
              <p:cNvPr id="5869" name=""/>
              <p:cNvSpPr/>
              <p:nvPr/>
            </p:nvSpPr>
            <p:spPr>
              <a:xfrm>
                <a:off x="3809880" y="55260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733560" y="54864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4647960" y="5562720"/>
              <a:ext cx="6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571640" y="4952880"/>
              <a:ext cx="609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5714640" y="5222880"/>
              <a:ext cx="7956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5711760" y="5754600"/>
              <a:ext cx="7920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5" name=""/>
            <p:cNvGrpSpPr/>
            <p:nvPr/>
          </p:nvGrpSpPr>
          <p:grpSpPr>
            <a:xfrm>
              <a:off x="3733560" y="5943600"/>
              <a:ext cx="533520" cy="79200"/>
              <a:chOff x="3733560" y="5943600"/>
              <a:chExt cx="533520" cy="79200"/>
            </a:xfrm>
          </p:grpSpPr>
          <p:sp>
            <p:nvSpPr>
              <p:cNvPr id="5876" name=""/>
              <p:cNvSpPr/>
              <p:nvPr/>
            </p:nvSpPr>
            <p:spPr>
              <a:xfrm>
                <a:off x="3809880" y="59832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3733560" y="59436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8" name=""/>
            <p:cNvGrpSpPr/>
            <p:nvPr/>
          </p:nvGrpSpPr>
          <p:grpSpPr>
            <a:xfrm>
              <a:off x="3733560" y="5029200"/>
              <a:ext cx="533520" cy="79200"/>
              <a:chOff x="3733560" y="5029200"/>
              <a:chExt cx="533520" cy="79200"/>
            </a:xfrm>
          </p:grpSpPr>
          <p:sp>
            <p:nvSpPr>
              <p:cNvPr id="5879" name=""/>
              <p:cNvSpPr/>
              <p:nvPr/>
            </p:nvSpPr>
            <p:spPr>
              <a:xfrm>
                <a:off x="3809880" y="50688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3733560" y="50292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1" name=""/>
            <p:cNvSpPr/>
            <p:nvPr/>
          </p:nvSpPr>
          <p:spPr>
            <a:xfrm>
              <a:off x="4190760" y="5715000"/>
              <a:ext cx="6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"/>
          <p:cNvSpPr/>
          <p:nvPr/>
        </p:nvSpPr>
        <p:spPr>
          <a:xfrm>
            <a:off x="685800" y="533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986760" y="350532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4" name=""/>
              <p:cNvSpPr txBox="1"/>
              <p:nvPr/>
            </p:nvSpPr>
            <p:spPr>
              <a:xfrm>
                <a:off x="939960" y="4114800"/>
                <a:ext cx="6527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5" name=""/>
              <p:cNvSpPr txBox="1"/>
              <p:nvPr/>
            </p:nvSpPr>
            <p:spPr>
              <a:xfrm>
                <a:off x="838080" y="5181480"/>
                <a:ext cx="7185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6" name=""/>
              <p:cNvSpPr txBox="1"/>
              <p:nvPr/>
            </p:nvSpPr>
            <p:spPr>
              <a:xfrm>
                <a:off x="1258920" y="5791320"/>
                <a:ext cx="4227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7" name=""/>
              <p:cNvSpPr txBox="1"/>
              <p:nvPr/>
            </p:nvSpPr>
            <p:spPr>
              <a:xfrm>
                <a:off x="1316160" y="4648320"/>
                <a:ext cx="295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88" name=""/>
          <p:cNvGrpSpPr/>
          <p:nvPr/>
        </p:nvGrpSpPr>
        <p:grpSpPr>
          <a:xfrm>
            <a:off x="4468680" y="457200"/>
            <a:ext cx="3303720" cy="3692160"/>
            <a:chOff x="4468680" y="457200"/>
            <a:chExt cx="3303720" cy="3692160"/>
          </a:xfrm>
        </p:grpSpPr>
        <p:grpSp>
          <p:nvGrpSpPr>
            <p:cNvPr id="5889" name=""/>
            <p:cNvGrpSpPr/>
            <p:nvPr/>
          </p:nvGrpSpPr>
          <p:grpSpPr>
            <a:xfrm>
              <a:off x="4468680" y="457200"/>
              <a:ext cx="3303720" cy="3692160"/>
              <a:chOff x="4468680" y="457200"/>
              <a:chExt cx="3303720" cy="3692160"/>
            </a:xfrm>
          </p:grpSpPr>
          <p:sp>
            <p:nvSpPr>
              <p:cNvPr id="5890" name=""/>
              <p:cNvSpPr/>
              <p:nvPr/>
            </p:nvSpPr>
            <p:spPr>
              <a:xfrm>
                <a:off x="6476760" y="533160"/>
                <a:ext cx="0" cy="350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95680" y="4572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"/>
                  </a:rPr>
                  <a:t>i-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"/>
                  </a:rPr>
                  <a:t>S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"/>
                  </a:rPr>
                  <a:t>i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68680" y="961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  0     0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68680" y="1342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  1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68680" y="172404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1 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68680" y="2104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1      1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68680" y="2485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0 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68680" y="286704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0      1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68680" y="3247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1      0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68680" y="3628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1      1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572000" y="99036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572000" y="53316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2" name=""/>
            <p:cNvSpPr/>
            <p:nvPr/>
          </p:nvSpPr>
          <p:spPr>
            <a:xfrm>
              <a:off x="4572000" y="40766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03" name=""/>
              <p:cNvSpPr txBox="1"/>
              <p:nvPr/>
            </p:nvSpPr>
            <p:spPr>
              <a:xfrm>
                <a:off x="3446640" y="954000"/>
                <a:ext cx="4260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4" name=""/>
              <p:cNvSpPr txBox="1"/>
              <p:nvPr/>
            </p:nvSpPr>
            <p:spPr>
              <a:xfrm>
                <a:off x="3444840" y="457200"/>
                <a:ext cx="3057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905" name=""/>
          <p:cNvGrpSpPr/>
          <p:nvPr/>
        </p:nvGrpSpPr>
        <p:grpSpPr>
          <a:xfrm>
            <a:off x="685800" y="457200"/>
            <a:ext cx="3826800" cy="5754600"/>
            <a:chOff x="685800" y="457200"/>
            <a:chExt cx="3826800" cy="5754600"/>
          </a:xfrm>
        </p:grpSpPr>
        <p:sp>
          <p:nvSpPr>
            <p:cNvPr id="5906" name=""/>
            <p:cNvSpPr/>
            <p:nvPr/>
          </p:nvSpPr>
          <p:spPr>
            <a:xfrm>
              <a:off x="1969920" y="569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048120" y="4800600"/>
              <a:ext cx="685800" cy="8794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8" name=""/>
            <p:cNvGrpSpPr/>
            <p:nvPr/>
          </p:nvGrpSpPr>
          <p:grpSpPr>
            <a:xfrm>
              <a:off x="1819440" y="1295280"/>
              <a:ext cx="618840" cy="914400"/>
              <a:chOff x="1819440" y="1295280"/>
              <a:chExt cx="618840" cy="914400"/>
            </a:xfrm>
          </p:grpSpPr>
          <p:sp>
            <p:nvSpPr>
              <p:cNvPr id="5909" name=""/>
              <p:cNvSpPr/>
              <p:nvPr/>
            </p:nvSpPr>
            <p:spPr>
              <a:xfrm>
                <a:off x="1819440" y="1330200"/>
                <a:ext cx="61884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1904760" y="1295280"/>
                <a:ext cx="39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1" name=""/>
            <p:cNvSpPr/>
            <p:nvPr/>
          </p:nvSpPr>
          <p:spPr>
            <a:xfrm>
              <a:off x="3124080" y="4876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219320" y="1066680"/>
              <a:ext cx="0" cy="41911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914400" y="1066680"/>
              <a:ext cx="0" cy="44956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38280" y="1828800"/>
              <a:ext cx="228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666880" y="2666880"/>
              <a:ext cx="381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38280" y="3047760"/>
              <a:ext cx="6098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2666880" y="3352680"/>
              <a:ext cx="381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733920" y="525780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1474920" y="9572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048120" y="2590560"/>
              <a:ext cx="685800" cy="91440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12408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H="1">
              <a:off x="3200040" y="297180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733920" y="304776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4038480" y="300672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685800" y="45720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4051440" y="281916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4047480" y="495288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S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1393920" y="45720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1002600" y="4572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0" name=""/>
            <p:cNvGrpSpPr/>
            <p:nvPr/>
          </p:nvGrpSpPr>
          <p:grpSpPr>
            <a:xfrm>
              <a:off x="1828800" y="2590560"/>
              <a:ext cx="619200" cy="914400"/>
              <a:chOff x="1828800" y="2590560"/>
              <a:chExt cx="619200" cy="914400"/>
            </a:xfrm>
          </p:grpSpPr>
          <p:sp>
            <p:nvSpPr>
              <p:cNvPr id="5931" name=""/>
              <p:cNvSpPr/>
              <p:nvPr/>
            </p:nvSpPr>
            <p:spPr>
              <a:xfrm>
                <a:off x="1828800" y="2625480"/>
                <a:ext cx="61920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914480" y="2590560"/>
                <a:ext cx="39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3" name=""/>
            <p:cNvGrpSpPr/>
            <p:nvPr/>
          </p:nvGrpSpPr>
          <p:grpSpPr>
            <a:xfrm>
              <a:off x="1828800" y="3809880"/>
              <a:ext cx="619200" cy="914400"/>
              <a:chOff x="1828800" y="3809880"/>
              <a:chExt cx="619200" cy="914400"/>
            </a:xfrm>
          </p:grpSpPr>
          <p:sp>
            <p:nvSpPr>
              <p:cNvPr id="5934" name=""/>
              <p:cNvSpPr/>
              <p:nvPr/>
            </p:nvSpPr>
            <p:spPr>
              <a:xfrm>
                <a:off x="1828800" y="3844800"/>
                <a:ext cx="61920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914480" y="3809880"/>
                <a:ext cx="39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6" name=""/>
            <p:cNvSpPr/>
            <p:nvPr/>
          </p:nvSpPr>
          <p:spPr>
            <a:xfrm>
              <a:off x="2666880" y="18288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666880" y="335268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438280" y="43034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1523880" y="495288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1219320" y="52578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914400" y="55623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flipV="1">
              <a:off x="1523880" y="106632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1523520" y="1600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1481040" y="1565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1523880" y="4038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1488960" y="4000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1219320" y="2819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1182600" y="2781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1219320" y="2057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1179360" y="2022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914400" y="4572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876240" y="4533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914400" y="33526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876240" y="3317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1179360" y="952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873000" y="952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038480" y="522108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4430160" y="1752480"/>
            <a:ext cx="3934440" cy="4254480"/>
            <a:chOff x="4430160" y="1752480"/>
            <a:chExt cx="3934440" cy="4254480"/>
          </a:xfrm>
        </p:grpSpPr>
        <p:sp>
          <p:nvSpPr>
            <p:cNvPr id="5959" name=""/>
            <p:cNvSpPr/>
            <p:nvPr/>
          </p:nvSpPr>
          <p:spPr>
            <a:xfrm>
              <a:off x="5601960" y="54864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半加器构成的全加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0" name=""/>
                <p:cNvSpPr txBox="1"/>
                <p:nvPr/>
              </p:nvSpPr>
              <p:spPr>
                <a:xfrm>
                  <a:off x="4937040" y="353844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961" name=""/>
            <p:cNvSpPr/>
            <p:nvPr/>
          </p:nvSpPr>
          <p:spPr>
            <a:xfrm>
              <a:off x="6195960" y="3822840"/>
              <a:ext cx="793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467480" y="2743200"/>
              <a:ext cx="187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916760" y="216540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6724800" y="4092480"/>
              <a:ext cx="795240" cy="608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6858000" y="41608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6" name=""/>
            <p:cNvGrpSpPr/>
            <p:nvPr/>
          </p:nvGrpSpPr>
          <p:grpSpPr>
            <a:xfrm>
              <a:off x="6159600" y="2666880"/>
              <a:ext cx="545760" cy="614160"/>
              <a:chOff x="6159600" y="2666880"/>
              <a:chExt cx="545760" cy="614160"/>
            </a:xfrm>
          </p:grpSpPr>
          <p:sp>
            <p:nvSpPr>
              <p:cNvPr id="5967" name=""/>
              <p:cNvSpPr/>
              <p:nvPr/>
            </p:nvSpPr>
            <p:spPr>
              <a:xfrm>
                <a:off x="6470640" y="2666880"/>
                <a:ext cx="23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6159600" y="3281040"/>
                <a:ext cx="31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 flipV="1">
                <a:off x="6472800" y="2666880"/>
                <a:ext cx="0" cy="61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0" name=""/>
            <p:cNvSpPr/>
            <p:nvPr/>
          </p:nvSpPr>
          <p:spPr>
            <a:xfrm>
              <a:off x="6989760" y="3822840"/>
              <a:ext cx="0" cy="269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651800" y="2739960"/>
              <a:ext cx="0" cy="1082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54720" y="3822840"/>
              <a:ext cx="397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254720" y="3822840"/>
              <a:ext cx="0" cy="269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21520" y="4700520"/>
              <a:ext cx="0" cy="33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21520" y="5038560"/>
              <a:ext cx="728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7467480" y="2198160"/>
              <a:ext cx="449280" cy="11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4431600" y="36576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4430160" y="312408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442040" y="198108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933680" y="190512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S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861680" y="480060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V="1">
              <a:off x="6994440" y="4530600"/>
              <a:ext cx="187560" cy="763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276880" y="1752480"/>
              <a:ext cx="2514600" cy="35816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410080" y="3048120"/>
              <a:ext cx="762120" cy="1068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4952880" y="3352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570280" y="3581280"/>
              <a:ext cx="6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562720" y="3048120"/>
              <a:ext cx="609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495288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9" name=""/>
            <p:cNvGrpSpPr/>
            <p:nvPr/>
          </p:nvGrpSpPr>
          <p:grpSpPr>
            <a:xfrm>
              <a:off x="6705720" y="1905120"/>
              <a:ext cx="823320" cy="1068120"/>
              <a:chOff x="6705720" y="1905120"/>
              <a:chExt cx="823320" cy="1068120"/>
            </a:xfrm>
          </p:grpSpPr>
          <p:sp>
            <p:nvSpPr>
              <p:cNvPr id="5990" name=""/>
              <p:cNvSpPr/>
              <p:nvPr/>
            </p:nvSpPr>
            <p:spPr>
              <a:xfrm>
                <a:off x="6705720" y="1905120"/>
                <a:ext cx="764640" cy="1068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6920280" y="2438280"/>
                <a:ext cx="60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6914160" y="1905120"/>
                <a:ext cx="556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3" name=""/>
            <p:cNvSpPr/>
            <p:nvPr/>
          </p:nvSpPr>
          <p:spPr>
            <a:xfrm flipH="1">
              <a:off x="4952520" y="22096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848720" y="4987800"/>
              <a:ext cx="93600" cy="939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876920" y="38289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876920" y="33098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4876920" y="217332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subTitle"/>
          </p:nvPr>
        </p:nvSpPr>
        <p:spPr>
          <a:xfrm>
            <a:off x="2895120" y="457200"/>
            <a:ext cx="30574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1.9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编码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762120" y="1508040"/>
            <a:ext cx="76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把二进制码按一定规律编排，使每组代码具有一特定的含义，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称为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具有编码功能的逻辑电路称为编码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838080" y="31845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        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ff0066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位二进制代码有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zh-CN" sz="28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2800" spc="-1" strike="noStrike" baseline="30000">
                <a:solidFill>
                  <a:srgbClr val="ff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种组合，可以表示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zh-CN" sz="28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2800" spc="-1" strike="noStrike" baseline="30000">
                <a:solidFill>
                  <a:srgbClr val="ff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个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914400" y="4327560"/>
            <a:ext cx="739152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要表示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个信息所需的二进制代码应满足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zh-CN" sz="32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zh-CN" sz="3200" spc="-1" strike="noStrike">
                <a:solidFill>
                  <a:srgbClr val="ff0000"/>
                </a:solidFill>
                <a:latin typeface="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2" name="" descr=""/>
          <p:cNvPicPr/>
          <p:nvPr/>
        </p:nvPicPr>
        <p:blipFill>
          <a:blip r:embed="rId1"/>
          <a:stretch/>
        </p:blipFill>
        <p:spPr>
          <a:xfrm>
            <a:off x="7719840" y="4994280"/>
            <a:ext cx="1043280" cy="1177920"/>
          </a:xfrm>
          <a:prstGeom prst="rect">
            <a:avLst/>
          </a:prstGeom>
          <a:ln w="0">
            <a:noFill/>
          </a:ln>
        </p:spPr>
      </p:pic>
      <p:grpSp>
        <p:nvGrpSpPr>
          <p:cNvPr id="6003" name=""/>
          <p:cNvGrpSpPr/>
          <p:nvPr/>
        </p:nvGrpSpPr>
        <p:grpSpPr>
          <a:xfrm>
            <a:off x="2209680" y="1200240"/>
            <a:ext cx="4419000" cy="171360"/>
            <a:chOff x="2209680" y="1200240"/>
            <a:chExt cx="4419000" cy="171360"/>
          </a:xfrm>
        </p:grpSpPr>
        <p:pic>
          <p:nvPicPr>
            <p:cNvPr id="6004" name="" descr=""/>
            <p:cNvPicPr/>
            <p:nvPr/>
          </p:nvPicPr>
          <p:blipFill>
            <a:blip r:embed="rId2"/>
            <a:stretch/>
          </p:blipFill>
          <p:spPr>
            <a:xfrm>
              <a:off x="31143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5" name="" descr=""/>
            <p:cNvPicPr/>
            <p:nvPr/>
          </p:nvPicPr>
          <p:blipFill>
            <a:blip r:embed="rId3"/>
            <a:stretch/>
          </p:blipFill>
          <p:spPr>
            <a:xfrm>
              <a:off x="32572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6" name="" descr=""/>
            <p:cNvPicPr/>
            <p:nvPr/>
          </p:nvPicPr>
          <p:blipFill>
            <a:blip r:embed="rId4"/>
            <a:stretch/>
          </p:blipFill>
          <p:spPr>
            <a:xfrm>
              <a:off x="34192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7" name="" descr=""/>
            <p:cNvPicPr/>
            <p:nvPr/>
          </p:nvPicPr>
          <p:blipFill>
            <a:blip r:embed="rId5"/>
            <a:stretch/>
          </p:blipFill>
          <p:spPr>
            <a:xfrm>
              <a:off x="37144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8" name="" descr=""/>
            <p:cNvPicPr/>
            <p:nvPr/>
          </p:nvPicPr>
          <p:blipFill>
            <a:blip r:embed="rId6"/>
            <a:stretch/>
          </p:blipFill>
          <p:spPr>
            <a:xfrm>
              <a:off x="38764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9" name="" descr=""/>
            <p:cNvPicPr/>
            <p:nvPr/>
          </p:nvPicPr>
          <p:blipFill>
            <a:blip r:embed="rId7"/>
            <a:stretch/>
          </p:blipFill>
          <p:spPr>
            <a:xfrm>
              <a:off x="40287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0" name="" descr=""/>
            <p:cNvPicPr/>
            <p:nvPr/>
          </p:nvPicPr>
          <p:blipFill>
            <a:blip r:embed="rId8"/>
            <a:stretch/>
          </p:blipFill>
          <p:spPr>
            <a:xfrm>
              <a:off x="35715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11" name=""/>
            <p:cNvGrpSpPr/>
            <p:nvPr/>
          </p:nvGrpSpPr>
          <p:grpSpPr>
            <a:xfrm>
              <a:off x="4171680" y="1209600"/>
              <a:ext cx="1238400" cy="162000"/>
              <a:chOff x="4171680" y="1209600"/>
              <a:chExt cx="1238400" cy="162000"/>
            </a:xfrm>
          </p:grpSpPr>
          <p:pic>
            <p:nvPicPr>
              <p:cNvPr id="601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716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336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288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908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3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860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85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480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20" name=""/>
            <p:cNvGrpSpPr/>
            <p:nvPr/>
          </p:nvGrpSpPr>
          <p:grpSpPr>
            <a:xfrm>
              <a:off x="2209680" y="1200240"/>
              <a:ext cx="923760" cy="162000"/>
              <a:chOff x="2209680" y="1200240"/>
              <a:chExt cx="923760" cy="162000"/>
            </a:xfrm>
          </p:grpSpPr>
          <p:pic>
            <p:nvPicPr>
              <p:cNvPr id="60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35260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46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66688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80980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9718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20968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27" name=""/>
            <p:cNvGrpSpPr/>
            <p:nvPr/>
          </p:nvGrpSpPr>
          <p:grpSpPr>
            <a:xfrm>
              <a:off x="5391000" y="1200240"/>
              <a:ext cx="1237680" cy="162000"/>
              <a:chOff x="5391000" y="1200240"/>
              <a:chExt cx="1237680" cy="162000"/>
            </a:xfrm>
          </p:grpSpPr>
          <p:pic>
            <p:nvPicPr>
              <p:cNvPr id="602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910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5526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478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0098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16212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3050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70492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4670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"/>
          <p:cNvSpPr/>
          <p:nvPr/>
        </p:nvSpPr>
        <p:spPr>
          <a:xfrm>
            <a:off x="762120" y="533520"/>
            <a:ext cx="396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1.9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进制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762120" y="1523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将输入信号编成二进制代码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2461680" y="311472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5966280" y="3114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0" name=""/>
          <p:cNvGrpSpPr/>
          <p:nvPr/>
        </p:nvGrpSpPr>
        <p:grpSpPr>
          <a:xfrm>
            <a:off x="838080" y="1143000"/>
            <a:ext cx="3952800" cy="171360"/>
            <a:chOff x="838080" y="1143000"/>
            <a:chExt cx="3952800" cy="171360"/>
          </a:xfrm>
        </p:grpSpPr>
        <p:pic>
          <p:nvPicPr>
            <p:cNvPr id="6041" name="" descr=""/>
            <p:cNvPicPr/>
            <p:nvPr/>
          </p:nvPicPr>
          <p:blipFill>
            <a:blip r:embed="rId1"/>
            <a:stretch/>
          </p:blipFill>
          <p:spPr>
            <a:xfrm>
              <a:off x="17431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2" name="" descr=""/>
            <p:cNvPicPr/>
            <p:nvPr/>
          </p:nvPicPr>
          <p:blipFill>
            <a:blip r:embed="rId2"/>
            <a:stretch/>
          </p:blipFill>
          <p:spPr>
            <a:xfrm>
              <a:off x="1885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3" name="" descr=""/>
            <p:cNvPicPr/>
            <p:nvPr/>
          </p:nvPicPr>
          <p:blipFill>
            <a:blip r:embed="rId3"/>
            <a:stretch/>
          </p:blipFill>
          <p:spPr>
            <a:xfrm>
              <a:off x="2047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4" name="" descr=""/>
            <p:cNvPicPr/>
            <p:nvPr/>
          </p:nvPicPr>
          <p:blipFill>
            <a:blip r:embed="rId4"/>
            <a:stretch/>
          </p:blipFill>
          <p:spPr>
            <a:xfrm>
              <a:off x="2342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5" name="" descr=""/>
            <p:cNvPicPr/>
            <p:nvPr/>
          </p:nvPicPr>
          <p:blipFill>
            <a:blip r:embed="rId5"/>
            <a:stretch/>
          </p:blipFill>
          <p:spPr>
            <a:xfrm>
              <a:off x="2504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6" name="" descr=""/>
            <p:cNvPicPr/>
            <p:nvPr/>
          </p:nvPicPr>
          <p:blipFill>
            <a:blip r:embed="rId6"/>
            <a:stretch/>
          </p:blipFill>
          <p:spPr>
            <a:xfrm>
              <a:off x="26575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7" name="" descr=""/>
            <p:cNvPicPr/>
            <p:nvPr/>
          </p:nvPicPr>
          <p:blipFill>
            <a:blip r:embed="rId7"/>
            <a:stretch/>
          </p:blipFill>
          <p:spPr>
            <a:xfrm>
              <a:off x="28000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8" name="" descr=""/>
            <p:cNvPicPr/>
            <p:nvPr/>
          </p:nvPicPr>
          <p:blipFill>
            <a:blip r:embed="rId8"/>
            <a:stretch/>
          </p:blipFill>
          <p:spPr>
            <a:xfrm>
              <a:off x="29620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9" name="" descr=""/>
            <p:cNvPicPr/>
            <p:nvPr/>
          </p:nvPicPr>
          <p:blipFill>
            <a:blip r:embed="rId9"/>
            <a:stretch/>
          </p:blipFill>
          <p:spPr>
            <a:xfrm>
              <a:off x="32572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0" name="" descr=""/>
            <p:cNvPicPr/>
            <p:nvPr/>
          </p:nvPicPr>
          <p:blipFill>
            <a:blip r:embed="rId10"/>
            <a:stretch/>
          </p:blipFill>
          <p:spPr>
            <a:xfrm>
              <a:off x="34192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1" name="" descr=""/>
            <p:cNvPicPr/>
            <p:nvPr/>
          </p:nvPicPr>
          <p:blipFill>
            <a:blip r:embed="rId11"/>
            <a:stretch/>
          </p:blipFill>
          <p:spPr>
            <a:xfrm>
              <a:off x="35719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2" name="" descr=""/>
            <p:cNvPicPr/>
            <p:nvPr/>
          </p:nvPicPr>
          <p:blipFill>
            <a:blip r:embed="rId12"/>
            <a:stretch/>
          </p:blipFill>
          <p:spPr>
            <a:xfrm>
              <a:off x="37144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3" name="" descr=""/>
            <p:cNvPicPr/>
            <p:nvPr/>
          </p:nvPicPr>
          <p:blipFill>
            <a:blip r:embed="rId13"/>
            <a:stretch/>
          </p:blipFill>
          <p:spPr>
            <a:xfrm>
              <a:off x="22003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4" name="" descr=""/>
            <p:cNvPicPr/>
            <p:nvPr/>
          </p:nvPicPr>
          <p:blipFill>
            <a:blip r:embed="rId14"/>
            <a:stretch/>
          </p:blipFill>
          <p:spPr>
            <a:xfrm>
              <a:off x="31147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5" name="" descr=""/>
            <p:cNvPicPr/>
            <p:nvPr/>
          </p:nvPicPr>
          <p:blipFill>
            <a:blip r:embed="rId15"/>
            <a:stretch/>
          </p:blipFill>
          <p:spPr>
            <a:xfrm>
              <a:off x="38764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6" name="" descr=""/>
            <p:cNvPicPr/>
            <p:nvPr/>
          </p:nvPicPr>
          <p:blipFill>
            <a:blip r:embed="rId16"/>
            <a:stretch/>
          </p:blipFill>
          <p:spPr>
            <a:xfrm>
              <a:off x="40291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7" name="" descr=""/>
            <p:cNvPicPr/>
            <p:nvPr/>
          </p:nvPicPr>
          <p:blipFill>
            <a:blip r:embed="rId17"/>
            <a:stretch/>
          </p:blipFill>
          <p:spPr>
            <a:xfrm>
              <a:off x="4171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8" name="" descr=""/>
            <p:cNvPicPr/>
            <p:nvPr/>
          </p:nvPicPr>
          <p:blipFill>
            <a:blip r:embed="rId18"/>
            <a:stretch/>
          </p:blipFill>
          <p:spPr>
            <a:xfrm>
              <a:off x="4333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9" name="" descr=""/>
            <p:cNvPicPr/>
            <p:nvPr/>
          </p:nvPicPr>
          <p:blipFill>
            <a:blip r:embed="rId19"/>
            <a:stretch/>
          </p:blipFill>
          <p:spPr>
            <a:xfrm>
              <a:off x="44863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0" name="" descr=""/>
            <p:cNvPicPr/>
            <p:nvPr/>
          </p:nvPicPr>
          <p:blipFill>
            <a:blip r:embed="rId20"/>
            <a:stretch/>
          </p:blipFill>
          <p:spPr>
            <a:xfrm>
              <a:off x="4628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1" name=""/>
            <p:cNvGrpSpPr/>
            <p:nvPr/>
          </p:nvGrpSpPr>
          <p:grpSpPr>
            <a:xfrm>
              <a:off x="838080" y="1143000"/>
              <a:ext cx="923760" cy="162000"/>
              <a:chOff x="838080" y="1143000"/>
              <a:chExt cx="923760" cy="162000"/>
            </a:xfrm>
          </p:grpSpPr>
          <p:pic>
            <p:nvPicPr>
              <p:cNvPr id="606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98100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143000" y="1143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29528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3820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600200" y="1143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3808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068" name=""/>
          <p:cNvGrpSpPr/>
          <p:nvPr/>
        </p:nvGrpSpPr>
        <p:grpSpPr>
          <a:xfrm>
            <a:off x="1600200" y="2365200"/>
            <a:ext cx="6019560" cy="1906560"/>
            <a:chOff x="1600200" y="2365200"/>
            <a:chExt cx="6019560" cy="1906560"/>
          </a:xfrm>
        </p:grpSpPr>
        <p:sp>
          <p:nvSpPr>
            <p:cNvPr id="6069" name=""/>
            <p:cNvSpPr/>
            <p:nvPr/>
          </p:nvSpPr>
          <p:spPr>
            <a:xfrm>
              <a:off x="5943600" y="32050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438280" y="31730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657600" y="3433680"/>
              <a:ext cx="1904760" cy="83808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809880" y="358596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编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1600200" y="236520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010280" y="244296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5867280" y="366228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438280" y="366228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6:39:55Z</dcterms:created>
  <dc:creator>王香婷</dc:creator>
  <dc:description/>
  <dc:language>en-US</dc:language>
  <cp:lastModifiedBy>xtw</cp:lastModifiedBy>
  <dcterms:modified xsi:type="dcterms:W3CDTF">2003-08-04T14:34:23Z</dcterms:modified>
  <cp:revision>100</cp:revision>
  <dc:subject/>
  <dc:title>PowerPoint 演示文稿</dc:title>
</cp:coreProperties>
</file>