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10.gif" ContentType="image/gif"/>
  <Override PartName="/ppt/media/image9.png" ContentType="image/png"/>
  <Override PartName="/ppt/media/image14.png" ContentType="image/png"/>
  <Override PartName="/ppt/media/image8.png" ContentType="image/png"/>
  <Override PartName="/ppt/media/CARBRAKE.WAV" ContentType="audio/x-wav"/>
  <Override PartName="/ppt/media/image13.gif" ContentType="image/gif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2.wmf" ContentType="image/x-wmf"/>
  <Override PartName="/ppt/media/LASER.WAV" ContentType="audio/x-wav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2.xml"/><Relationship Id="rId3" Type="http://schemas.openxmlformats.org/officeDocument/2006/relationships/slide" Target="slide26.xml"/><Relationship Id="rId4" Type="http://schemas.openxmlformats.org/officeDocument/2006/relationships/slide" Target="slide39.xml"/><Relationship Id="rId5" Type="http://schemas.openxmlformats.org/officeDocument/2006/relationships/slide" Target="slide62.xml"/><Relationship Id="rId6" Type="http://schemas.openxmlformats.org/officeDocument/2006/relationships/slide" Target="slide65.xml"/><Relationship Id="rId7" Type="http://schemas.openxmlformats.org/officeDocument/2006/relationships/slide" Target="slide47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3.wmf"/><Relationship Id="rId4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路的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062000" y="1447920"/>
            <a:ext cx="80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1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电阻串并联联接的等效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027080" y="1967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2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电阻星型联结与三角型联结的等效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65240" y="2463840"/>
            <a:ext cx="60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3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电压源与电流源及其等效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62000" y="29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4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支路电流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62000" y="341316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结点电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2000" y="38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6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叠加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2000" y="4405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7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戴维宁定理与诺顿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65240" y="493884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8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受控源电路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2000" y="5472000"/>
            <a:ext cx="53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9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非线性电阻电路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457200" y="114480"/>
            <a:ext cx="1135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16920" y="152280"/>
            <a:ext cx="266688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图示电路求总电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70440" y="685800"/>
            <a:ext cx="2820960" cy="2079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22360" y="816120"/>
            <a:ext cx="2674800" cy="1449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16960" y="2062080"/>
            <a:ext cx="685800" cy="314280"/>
          </a:xfrm>
          <a:prstGeom prst="leftArrow">
            <a:avLst>
              <a:gd name="adj1" fmla="val 50000"/>
              <a:gd name="adj2" fmla="val 54553"/>
            </a:avLst>
          </a:prstGeom>
          <a:gradFill rotWithShape="0">
            <a:gsLst>
              <a:gs pos="0">
                <a:srgbClr val="004600"/>
              </a:gs>
              <a:gs pos="100000">
                <a:srgbClr val="cc0000"/>
              </a:gs>
            </a:gsLst>
            <a:lin ang="10800000"/>
          </a:gradFill>
          <a:ln w="2844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6240" y="1628640"/>
            <a:ext cx="577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50520" y="1175760"/>
            <a:ext cx="585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93360" y="802800"/>
            <a:ext cx="3502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0040" y="2941200"/>
            <a:ext cx="3502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66800" y="1175760"/>
            <a:ext cx="585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50520" y="2420280"/>
            <a:ext cx="585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22160" y="1537920"/>
            <a:ext cx="585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66800" y="2504520"/>
            <a:ext cx="585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50520" y="3193560"/>
            <a:ext cx="585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30040" y="4556520"/>
            <a:ext cx="1740240" cy="1193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.68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283640" y="1989000"/>
            <a:ext cx="1277280" cy="584640"/>
            <a:chOff x="4283640" y="1989000"/>
            <a:chExt cx="1277280" cy="584640"/>
          </a:xfrm>
        </p:grpSpPr>
        <p:sp>
          <p:nvSpPr>
            <p:cNvPr id="658" name=""/>
            <p:cNvSpPr/>
            <p:nvPr/>
          </p:nvSpPr>
          <p:spPr>
            <a:xfrm flipH="1">
              <a:off x="4876920" y="2141640"/>
              <a:ext cx="684000" cy="312480"/>
            </a:xfrm>
            <a:prstGeom prst="leftArrow">
              <a:avLst>
                <a:gd name="adj1" fmla="val 50000"/>
                <a:gd name="adj2" fmla="val 54724"/>
              </a:avLst>
            </a:prstGeom>
            <a:gradFill rotWithShape="0">
              <a:gsLst>
                <a:gs pos="0">
                  <a:srgbClr val="004600"/>
                </a:gs>
                <a:gs pos="100000">
                  <a:srgbClr val="cc0000"/>
                </a:gs>
              </a:gsLst>
              <a:lin ang="10800000"/>
            </a:gradFill>
            <a:ln w="2844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83640" y="1989000"/>
              <a:ext cx="64152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500120" y="1718640"/>
            <a:ext cx="417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479680" y="1001880"/>
            <a:ext cx="341280" cy="39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820960" y="2689200"/>
            <a:ext cx="371520" cy="40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5560" y="2079720"/>
            <a:ext cx="393840" cy="39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1036800"/>
            <a:ext cx="349200" cy="35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25560" y="207972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69920" y="1036800"/>
            <a:ext cx="171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97200" y="1634760"/>
            <a:ext cx="417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41680" y="1994040"/>
            <a:ext cx="371520" cy="18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13490400">
            <a:off x="2252160" y="1323720"/>
            <a:ext cx="189000" cy="41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8089800">
            <a:off x="3208680" y="1329120"/>
            <a:ext cx="192240" cy="40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8089800">
            <a:off x="2271600" y="2411280"/>
            <a:ext cx="191880" cy="40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3490400">
            <a:off x="3228480" y="2346120"/>
            <a:ext cx="189000" cy="41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1819440" y="2043000"/>
            <a:ext cx="79200" cy="82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754440" y="2043000"/>
            <a:ext cx="79200" cy="82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786040" y="1001880"/>
            <a:ext cx="79560" cy="80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784600" y="3075840"/>
            <a:ext cx="79200" cy="81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32240" y="1673280"/>
            <a:ext cx="349200" cy="35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866960" y="1690560"/>
            <a:ext cx="341280" cy="38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16080" y="208764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474720" y="2108160"/>
            <a:ext cx="30636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79680" y="2762280"/>
            <a:ext cx="374760" cy="37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43080" y="3133800"/>
            <a:ext cx="68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82640" y="3056040"/>
            <a:ext cx="462240" cy="158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3600" y="313380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385960" y="712440"/>
            <a:ext cx="3300480" cy="3445560"/>
            <a:chOff x="5385960" y="712440"/>
            <a:chExt cx="3300480" cy="3445560"/>
          </a:xfrm>
        </p:grpSpPr>
        <p:sp>
          <p:nvSpPr>
            <p:cNvPr id="686" name=""/>
            <p:cNvSpPr/>
            <p:nvPr/>
          </p:nvSpPr>
          <p:spPr>
            <a:xfrm>
              <a:off x="5385960" y="712440"/>
              <a:ext cx="3502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7000" y="931320"/>
              <a:ext cx="157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3640" y="2937600"/>
              <a:ext cx="7322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79400" y="3693240"/>
              <a:ext cx="7322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78520" y="3023280"/>
              <a:ext cx="7322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54240" y="1847880"/>
              <a:ext cx="10692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0.4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16880" y="1847880"/>
              <a:ext cx="10695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0.4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08000" y="1177560"/>
              <a:ext cx="10695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0.8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85960" y="3359160"/>
              <a:ext cx="3502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42120" y="950760"/>
              <a:ext cx="0" cy="2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9400" y="1249920"/>
              <a:ext cx="160200" cy="354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3600" y="1809720"/>
              <a:ext cx="374040" cy="36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8089800">
              <a:off x="7589880" y="2130840"/>
              <a:ext cx="172800" cy="356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917760" y="1888200"/>
              <a:ext cx="286920" cy="29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689800">
              <a:off x="6710760" y="2104920"/>
              <a:ext cx="161640" cy="384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210080" y="1809720"/>
              <a:ext cx="79200" cy="82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33880" y="364500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354360" y="2732760"/>
              <a:ext cx="256680" cy="26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7250760" y="3342240"/>
              <a:ext cx="275040" cy="28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210080" y="3615120"/>
              <a:ext cx="79200" cy="82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8089800">
              <a:off x="6678720" y="2949480"/>
              <a:ext cx="17316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689800">
              <a:off x="7581240" y="2986920"/>
              <a:ext cx="162000" cy="384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250760" y="1582200"/>
              <a:ext cx="0" cy="2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354360" y="2425320"/>
              <a:ext cx="31716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15600" y="2436120"/>
              <a:ext cx="298800" cy="31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809120" y="2754000"/>
              <a:ext cx="305280" cy="31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89320" y="3230280"/>
              <a:ext cx="382680" cy="3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74880" y="3536280"/>
              <a:ext cx="459000" cy="15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839560" y="3616560"/>
              <a:ext cx="53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39280" y="4608360"/>
            <a:ext cx="685800" cy="765360"/>
            <a:chOff x="539280" y="4608360"/>
            <a:chExt cx="685800" cy="765360"/>
          </a:xfrm>
        </p:grpSpPr>
        <p:sp>
          <p:nvSpPr>
            <p:cNvPr id="716" name=""/>
            <p:cNvSpPr/>
            <p:nvPr/>
          </p:nvSpPr>
          <p:spPr>
            <a:xfrm>
              <a:off x="565920" y="4608360"/>
              <a:ext cx="577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8920" y="5060880"/>
              <a:ext cx="685800" cy="312840"/>
            </a:xfrm>
            <a:prstGeom prst="leftArrow">
              <a:avLst>
                <a:gd name="adj1" fmla="val 50000"/>
                <a:gd name="adj2" fmla="val 54804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ff0000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926640" y="3580920"/>
            <a:ext cx="2959560" cy="3066840"/>
            <a:chOff x="926640" y="3580920"/>
            <a:chExt cx="2959560" cy="3066840"/>
          </a:xfrm>
        </p:grpSpPr>
        <p:sp>
          <p:nvSpPr>
            <p:cNvPr id="719" name=""/>
            <p:cNvSpPr/>
            <p:nvPr/>
          </p:nvSpPr>
          <p:spPr>
            <a:xfrm>
              <a:off x="926640" y="3580920"/>
              <a:ext cx="3502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65480" y="3982680"/>
              <a:ext cx="10699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0.8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01840" y="3789360"/>
              <a:ext cx="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22640" y="4087800"/>
              <a:ext cx="16020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263680" y="4647600"/>
              <a:ext cx="79560" cy="82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743120" y="4676760"/>
              <a:ext cx="144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79400" y="4975200"/>
              <a:ext cx="16056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6280" y="467676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36720" y="5006880"/>
              <a:ext cx="160560" cy="354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7160" y="621504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22640" y="5846760"/>
              <a:ext cx="160200" cy="35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38440" y="4678200"/>
              <a:ext cx="109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38440" y="5573880"/>
              <a:ext cx="109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254320" y="5539680"/>
              <a:ext cx="7920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11400" y="6464160"/>
              <a:ext cx="10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22200" y="3800520"/>
              <a:ext cx="109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44560" y="4899240"/>
              <a:ext cx="10717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2.4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16280" y="4906440"/>
              <a:ext cx="10699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1.4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54240" y="5847840"/>
              <a:ext cx="10033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26640" y="6183000"/>
              <a:ext cx="3502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7160" y="4440240"/>
              <a:ext cx="144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16280" y="5335560"/>
              <a:ext cx="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43120" y="5322960"/>
              <a:ext cx="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97160" y="558324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733560" y="3982680"/>
            <a:ext cx="2413800" cy="2495160"/>
            <a:chOff x="3733560" y="3982680"/>
            <a:chExt cx="2413800" cy="2495160"/>
          </a:xfrm>
        </p:grpSpPr>
        <p:sp>
          <p:nvSpPr>
            <p:cNvPr id="744" name=""/>
            <p:cNvSpPr/>
            <p:nvPr/>
          </p:nvSpPr>
          <p:spPr>
            <a:xfrm>
              <a:off x="4989600" y="4224240"/>
              <a:ext cx="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10040" y="5025960"/>
              <a:ext cx="16056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262400" y="4224240"/>
              <a:ext cx="7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262400" y="6237360"/>
              <a:ext cx="7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76200" y="3982680"/>
              <a:ext cx="3502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54240" y="6013080"/>
              <a:ext cx="3502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28840" y="4998600"/>
              <a:ext cx="11185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2.684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7800" y="54100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733200" y="5173560"/>
              <a:ext cx="685800" cy="312840"/>
            </a:xfrm>
            <a:prstGeom prst="leftArrow">
              <a:avLst>
                <a:gd name="adj1" fmla="val 50000"/>
                <a:gd name="adj2" fmla="val 54804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ff0000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82600" y="189000"/>
            <a:ext cx="310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图电路中的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457560" y="532800"/>
            <a:ext cx="2819160" cy="3659400"/>
            <a:chOff x="457560" y="532800"/>
            <a:chExt cx="2819160" cy="3659400"/>
          </a:xfrm>
        </p:grpSpPr>
        <p:sp>
          <p:nvSpPr>
            <p:cNvPr id="756" name=""/>
            <p:cNvSpPr/>
            <p:nvPr/>
          </p:nvSpPr>
          <p:spPr>
            <a:xfrm>
              <a:off x="1090800" y="7621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15560" y="320040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3840" y="327672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14480" y="205740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3160" y="2044800"/>
              <a:ext cx="0" cy="153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1779120" y="2047680"/>
              <a:ext cx="986040" cy="985680"/>
              <a:chOff x="1779120" y="2047680"/>
              <a:chExt cx="986040" cy="985680"/>
            </a:xfrm>
          </p:grpSpPr>
          <p:sp>
            <p:nvSpPr>
              <p:cNvPr id="762" name=""/>
              <p:cNvSpPr/>
              <p:nvPr/>
            </p:nvSpPr>
            <p:spPr>
              <a:xfrm flipV="1">
                <a:off x="2387160" y="2047680"/>
                <a:ext cx="37800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1779120" y="2666160"/>
                <a:ext cx="363960" cy="36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rot="2700000">
                <a:off x="2200320" y="235404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2765520" y="202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55720" y="1054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0040" y="2025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1655280" y="3427200"/>
              <a:ext cx="311040" cy="311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802800" y="3581280"/>
              <a:ext cx="201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802800" y="1069920"/>
              <a:ext cx="986040" cy="987480"/>
              <a:chOff x="802800" y="1069920"/>
              <a:chExt cx="986040" cy="98748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1410840" y="106992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802800" y="1689480"/>
                <a:ext cx="363960" cy="36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rot="2700000">
                <a:off x="1224000" y="137628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802800" y="2057760"/>
              <a:ext cx="984240" cy="985680"/>
              <a:chOff x="802800" y="2057760"/>
              <a:chExt cx="984240" cy="985680"/>
            </a:xfrm>
          </p:grpSpPr>
          <p:sp>
            <p:nvSpPr>
              <p:cNvPr id="775" name=""/>
              <p:cNvSpPr/>
              <p:nvPr/>
            </p:nvSpPr>
            <p:spPr>
              <a:xfrm flipH="1" flipV="1">
                <a:off x="802800" y="205776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20560" y="267948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 rot="18900000">
                <a:off x="1236240" y="238500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1828440" y="1080720"/>
              <a:ext cx="985680" cy="987480"/>
              <a:chOff x="1828440" y="1080720"/>
              <a:chExt cx="985680" cy="987480"/>
            </a:xfrm>
          </p:grpSpPr>
          <p:sp>
            <p:nvSpPr>
              <p:cNvPr id="779" name=""/>
              <p:cNvSpPr/>
              <p:nvPr/>
            </p:nvSpPr>
            <p:spPr>
              <a:xfrm flipH="1" flipV="1">
                <a:off x="1828440" y="1080720"/>
                <a:ext cx="374760" cy="37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46920" y="1703880"/>
                <a:ext cx="36720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 rot="18900000">
                <a:off x="2262960" y="140904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1768320" y="300204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5800" y="121932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120" y="24382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62320" y="121932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33720" y="2514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716120" y="1143000"/>
              <a:ext cx="152280" cy="1905120"/>
              <a:chOff x="1716120" y="1143000"/>
              <a:chExt cx="152280" cy="1905120"/>
            </a:xfrm>
          </p:grpSpPr>
          <p:sp>
            <p:nvSpPr>
              <p:cNvPr id="788" name=""/>
              <p:cNvSpPr/>
              <p:nvPr/>
            </p:nvSpPr>
            <p:spPr>
              <a:xfrm>
                <a:off x="1792080" y="1143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16120" y="1752480"/>
                <a:ext cx="15228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92080" y="2209680"/>
                <a:ext cx="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828800" y="17524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1371600" y="990720"/>
              <a:ext cx="3808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447920" y="373392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32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52840" y="2985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30680" y="17517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560" y="1766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28600" y="41904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将联成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形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电阻变换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形联结的等效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71760" y="1828800"/>
            <a:ext cx="743040" cy="457200"/>
          </a:xfrm>
          <a:custGeom>
            <a:avLst/>
            <a:gdLst>
              <a:gd name="textAreaLeft" fmla="*/ 92880 w 743040"/>
              <a:gd name="textAreaRight" fmla="*/ 650160 w 74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3f4c4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4267440" y="456480"/>
            <a:ext cx="3733560" cy="3659400"/>
            <a:chOff x="4267440" y="456480"/>
            <a:chExt cx="3733560" cy="3659400"/>
          </a:xfrm>
        </p:grpSpPr>
        <p:sp>
          <p:nvSpPr>
            <p:cNvPr id="801" name=""/>
            <p:cNvSpPr/>
            <p:nvPr/>
          </p:nvSpPr>
          <p:spPr>
            <a:xfrm>
              <a:off x="4901040" y="6858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35280" y="31240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14280" y="31622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20120" y="19810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13400" y="1968480"/>
              <a:ext cx="0" cy="153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5589360" y="1971360"/>
              <a:ext cx="985680" cy="985680"/>
              <a:chOff x="5589360" y="1971360"/>
              <a:chExt cx="985680" cy="985680"/>
            </a:xfrm>
          </p:grpSpPr>
          <p:sp>
            <p:nvSpPr>
              <p:cNvPr id="807" name=""/>
              <p:cNvSpPr/>
              <p:nvPr/>
            </p:nvSpPr>
            <p:spPr>
              <a:xfrm flipV="1">
                <a:off x="6197040" y="1971360"/>
                <a:ext cx="378000" cy="374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5589360" y="2589840"/>
                <a:ext cx="363960" cy="36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2700000">
                <a:off x="6010560" y="227772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575400" y="194940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65960" y="9777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79920" y="194940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5400000">
              <a:off x="6075000" y="3350880"/>
              <a:ext cx="311040" cy="311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613400" y="3505320"/>
              <a:ext cx="300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4613040" y="993600"/>
              <a:ext cx="985680" cy="987480"/>
              <a:chOff x="4613040" y="993600"/>
              <a:chExt cx="985680" cy="987480"/>
            </a:xfrm>
          </p:grpSpPr>
          <p:sp>
            <p:nvSpPr>
              <p:cNvPr id="816" name=""/>
              <p:cNvSpPr/>
              <p:nvPr/>
            </p:nvSpPr>
            <p:spPr>
              <a:xfrm flipV="1">
                <a:off x="5220720" y="99360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4613040" y="1613160"/>
                <a:ext cx="363960" cy="36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2700000">
                <a:off x="5033520" y="129996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613040" y="1981080"/>
              <a:ext cx="984240" cy="986040"/>
              <a:chOff x="4613040" y="1981080"/>
              <a:chExt cx="984240" cy="986040"/>
            </a:xfrm>
          </p:grpSpPr>
          <p:sp>
            <p:nvSpPr>
              <p:cNvPr id="820" name=""/>
              <p:cNvSpPr/>
              <p:nvPr/>
            </p:nvSpPr>
            <p:spPr>
              <a:xfrm flipH="1" flipV="1">
                <a:off x="4613040" y="198108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230800" y="260316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8900000">
                <a:off x="5046480" y="230868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5638680" y="1004400"/>
              <a:ext cx="985680" cy="987480"/>
              <a:chOff x="5638680" y="1004400"/>
              <a:chExt cx="985680" cy="987480"/>
            </a:xfrm>
          </p:grpSpPr>
          <p:sp>
            <p:nvSpPr>
              <p:cNvPr id="824" name=""/>
              <p:cNvSpPr/>
              <p:nvPr/>
            </p:nvSpPr>
            <p:spPr>
              <a:xfrm flipH="1" flipV="1">
                <a:off x="5638680" y="1004400"/>
                <a:ext cx="374760" cy="3787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57160" y="1627560"/>
                <a:ext cx="367200" cy="364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8900000">
                <a:off x="6073200" y="133272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578560" y="292572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96040" y="11430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572000" y="236232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72200" y="1143000"/>
              <a:ext cx="914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3600" y="2438280"/>
              <a:ext cx="914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627960" y="1901520"/>
              <a:ext cx="992160" cy="152280"/>
              <a:chOff x="6627960" y="1901520"/>
              <a:chExt cx="992160" cy="152280"/>
            </a:xfrm>
          </p:grpSpPr>
          <p:sp>
            <p:nvSpPr>
              <p:cNvPr id="833" name=""/>
              <p:cNvSpPr/>
              <p:nvPr/>
            </p:nvSpPr>
            <p:spPr>
              <a:xfrm>
                <a:off x="6627960" y="1979640"/>
                <a:ext cx="306360" cy="1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6200000">
                <a:off x="7032600" y="1802880"/>
                <a:ext cx="152280" cy="3492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315200" y="19810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782040" y="1447920"/>
              <a:ext cx="914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5181840" y="914400"/>
              <a:ext cx="3808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67640" y="365760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8784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63080" y="290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91520" y="1537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7440" y="168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712880" y="1057320"/>
            <a:ext cx="1122480" cy="2020320"/>
            <a:chOff x="1712880" y="1057320"/>
            <a:chExt cx="1122480" cy="2020320"/>
          </a:xfrm>
        </p:grpSpPr>
        <p:grpSp>
          <p:nvGrpSpPr>
            <p:cNvPr id="844" name=""/>
            <p:cNvGrpSpPr/>
            <p:nvPr/>
          </p:nvGrpSpPr>
          <p:grpSpPr>
            <a:xfrm>
              <a:off x="1776240" y="2050920"/>
              <a:ext cx="985680" cy="984960"/>
              <a:chOff x="1776240" y="2050920"/>
              <a:chExt cx="985680" cy="98496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2383920" y="2050920"/>
                <a:ext cx="378000" cy="37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1776240" y="2669040"/>
                <a:ext cx="363960" cy="366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rot="2700000">
                <a:off x="2197080" y="2356560"/>
                <a:ext cx="109080" cy="3654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2762280" y="20286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2840" y="105732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1825200" y="1084320"/>
              <a:ext cx="986040" cy="986760"/>
              <a:chOff x="1825200" y="1084320"/>
              <a:chExt cx="986040" cy="986760"/>
            </a:xfrm>
          </p:grpSpPr>
          <p:sp>
            <p:nvSpPr>
              <p:cNvPr id="851" name=""/>
              <p:cNvSpPr/>
              <p:nvPr/>
            </p:nvSpPr>
            <p:spPr>
              <a:xfrm flipH="1" flipV="1">
                <a:off x="1825200" y="1084320"/>
                <a:ext cx="374760" cy="3783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44040" y="1706760"/>
                <a:ext cx="367200" cy="364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 rot="18900000">
                <a:off x="2259720" y="141228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1765440" y="3004920"/>
              <a:ext cx="712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712880" y="1145880"/>
              <a:ext cx="152640" cy="1904400"/>
              <a:chOff x="1712880" y="1145880"/>
              <a:chExt cx="152640" cy="1904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789200" y="1145880"/>
                <a:ext cx="0" cy="609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12880" y="1755000"/>
                <a:ext cx="152640" cy="45684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789200" y="2212200"/>
                <a:ext cx="0" cy="838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987480" y="4648320"/>
                <a:ext cx="5794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990720" y="5640480"/>
                <a:ext cx="31226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381560" y="5624640"/>
                <a:ext cx="330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438920" y="360360"/>
            <a:ext cx="387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图电路中的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067040" y="731160"/>
            <a:ext cx="2819160" cy="3659400"/>
            <a:chOff x="1067040" y="731160"/>
            <a:chExt cx="2819160" cy="3659400"/>
          </a:xfrm>
        </p:grpSpPr>
        <p:sp>
          <p:nvSpPr>
            <p:cNvPr id="864" name=""/>
            <p:cNvSpPr/>
            <p:nvPr/>
          </p:nvSpPr>
          <p:spPr>
            <a:xfrm>
              <a:off x="1700280" y="9604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25040" y="3398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04040" y="347508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23960" y="22557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12640" y="2243160"/>
              <a:ext cx="0" cy="153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2388600" y="2246040"/>
              <a:ext cx="986040" cy="985680"/>
              <a:chOff x="2388600" y="2246040"/>
              <a:chExt cx="986040" cy="985680"/>
            </a:xfrm>
          </p:grpSpPr>
          <p:sp>
            <p:nvSpPr>
              <p:cNvPr id="870" name=""/>
              <p:cNvSpPr/>
              <p:nvPr/>
            </p:nvSpPr>
            <p:spPr>
              <a:xfrm flipV="1">
                <a:off x="2996640" y="2246040"/>
                <a:ext cx="37800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2388600" y="2864520"/>
                <a:ext cx="363960" cy="36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rot="2700000">
                <a:off x="2809800" y="255240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3375000" y="222408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65200" y="1252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79520" y="22240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5400000">
              <a:off x="2264760" y="3625560"/>
              <a:ext cx="311040" cy="311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412280" y="3779640"/>
              <a:ext cx="201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1412280" y="1268280"/>
              <a:ext cx="986040" cy="987480"/>
              <a:chOff x="1412280" y="1268280"/>
              <a:chExt cx="986040" cy="9874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2020320" y="126828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1412280" y="1887840"/>
                <a:ext cx="363960" cy="36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rot="2700000">
                <a:off x="1833480" y="157464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412280" y="2256120"/>
              <a:ext cx="984240" cy="985680"/>
              <a:chOff x="1412280" y="2256120"/>
              <a:chExt cx="984240" cy="985680"/>
            </a:xfrm>
          </p:grpSpPr>
          <p:sp>
            <p:nvSpPr>
              <p:cNvPr id="883" name=""/>
              <p:cNvSpPr/>
              <p:nvPr/>
            </p:nvSpPr>
            <p:spPr>
              <a:xfrm flipH="1" flipV="1">
                <a:off x="1412280" y="225612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30040" y="287784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rot="18900000">
                <a:off x="1845720" y="258336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2437920" y="1279080"/>
              <a:ext cx="985680" cy="987480"/>
              <a:chOff x="2437920" y="1279080"/>
              <a:chExt cx="985680" cy="987480"/>
            </a:xfrm>
          </p:grpSpPr>
          <p:sp>
            <p:nvSpPr>
              <p:cNvPr id="887" name=""/>
              <p:cNvSpPr/>
              <p:nvPr/>
            </p:nvSpPr>
            <p:spPr>
              <a:xfrm flipH="1" flipV="1">
                <a:off x="2437920" y="1279080"/>
                <a:ext cx="374760" cy="37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056400" y="1902240"/>
                <a:ext cx="36720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rot="18900000">
                <a:off x="2872440" y="160740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377800" y="320040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95280" y="1417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71600" y="263664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1800" y="1417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43200" y="271296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2325600" y="1341360"/>
              <a:ext cx="152280" cy="1905120"/>
              <a:chOff x="2325600" y="1341360"/>
              <a:chExt cx="152280" cy="1905120"/>
            </a:xfrm>
          </p:grpSpPr>
          <p:sp>
            <p:nvSpPr>
              <p:cNvPr id="896" name=""/>
              <p:cNvSpPr/>
              <p:nvPr/>
            </p:nvSpPr>
            <p:spPr>
              <a:xfrm>
                <a:off x="2401560" y="13413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25600" y="1950840"/>
                <a:ext cx="15228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401560" y="2408040"/>
                <a:ext cx="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2438280" y="195084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1981080" y="1189080"/>
              <a:ext cx="3808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57400" y="393228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87440" y="731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232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40160" y="19501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67040" y="1964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09480" y="4419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81600" y="2027160"/>
            <a:ext cx="742680" cy="457200"/>
          </a:xfrm>
          <a:custGeom>
            <a:avLst/>
            <a:gdLst>
              <a:gd name="textAreaLeft" fmla="*/ 92880 w 742680"/>
              <a:gd name="textAreaRight" fmla="*/ 650160 w 742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3f4c4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876920" y="654840"/>
            <a:ext cx="3733560" cy="3659400"/>
            <a:chOff x="4876920" y="654840"/>
            <a:chExt cx="3733560" cy="3659400"/>
          </a:xfrm>
        </p:grpSpPr>
        <p:sp>
          <p:nvSpPr>
            <p:cNvPr id="909" name=""/>
            <p:cNvSpPr/>
            <p:nvPr/>
          </p:nvSpPr>
          <p:spPr>
            <a:xfrm>
              <a:off x="5510520" y="8841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44760" y="33224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23760" y="33606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29600" y="217944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22880" y="2166840"/>
              <a:ext cx="0" cy="153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6198840" y="2169720"/>
              <a:ext cx="985680" cy="985680"/>
              <a:chOff x="6198840" y="2169720"/>
              <a:chExt cx="985680" cy="985680"/>
            </a:xfrm>
          </p:grpSpPr>
          <p:sp>
            <p:nvSpPr>
              <p:cNvPr id="915" name=""/>
              <p:cNvSpPr/>
              <p:nvPr/>
            </p:nvSpPr>
            <p:spPr>
              <a:xfrm flipV="1">
                <a:off x="6806520" y="2169720"/>
                <a:ext cx="378000" cy="374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198840" y="2788200"/>
                <a:ext cx="363960" cy="36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 rot="2700000">
                <a:off x="6620040" y="247608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7184880" y="21477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75080" y="11761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89400" y="214776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5400000">
              <a:off x="6684840" y="354960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222880" y="3703680"/>
              <a:ext cx="300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5222520" y="1191960"/>
              <a:ext cx="985680" cy="987480"/>
              <a:chOff x="5222520" y="1191960"/>
              <a:chExt cx="985680" cy="987480"/>
            </a:xfrm>
          </p:grpSpPr>
          <p:sp>
            <p:nvSpPr>
              <p:cNvPr id="924" name=""/>
              <p:cNvSpPr/>
              <p:nvPr/>
            </p:nvSpPr>
            <p:spPr>
              <a:xfrm flipV="1">
                <a:off x="5830200" y="119196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5222520" y="1811520"/>
                <a:ext cx="363960" cy="36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rot="2700000">
                <a:off x="5643000" y="149832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5222520" y="2179440"/>
              <a:ext cx="984240" cy="986040"/>
              <a:chOff x="5222520" y="2179440"/>
              <a:chExt cx="984240" cy="986040"/>
            </a:xfrm>
          </p:grpSpPr>
          <p:sp>
            <p:nvSpPr>
              <p:cNvPr id="928" name=""/>
              <p:cNvSpPr/>
              <p:nvPr/>
            </p:nvSpPr>
            <p:spPr>
              <a:xfrm flipH="1" flipV="1">
                <a:off x="5222520" y="217944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40280" y="280152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rot="18900000">
                <a:off x="5655960" y="250704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6247800" y="1202760"/>
              <a:ext cx="986040" cy="987480"/>
              <a:chOff x="6247800" y="1202760"/>
              <a:chExt cx="986040" cy="987480"/>
            </a:xfrm>
          </p:grpSpPr>
          <p:sp>
            <p:nvSpPr>
              <p:cNvPr id="932" name=""/>
              <p:cNvSpPr/>
              <p:nvPr/>
            </p:nvSpPr>
            <p:spPr>
              <a:xfrm flipH="1" flipV="1">
                <a:off x="6247800" y="1202760"/>
                <a:ext cx="374760" cy="3787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66640" y="1825920"/>
                <a:ext cx="367200" cy="364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 rot="18900000">
                <a:off x="6682320" y="153108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6188040" y="312408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05160" y="134136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181480" y="2560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05360" y="1036440"/>
              <a:ext cx="914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76760" y="2514600"/>
              <a:ext cx="914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7237440" y="2099880"/>
              <a:ext cx="992160" cy="152280"/>
              <a:chOff x="7237440" y="2099880"/>
              <a:chExt cx="992160" cy="152280"/>
            </a:xfrm>
          </p:grpSpPr>
          <p:sp>
            <p:nvSpPr>
              <p:cNvPr id="941" name=""/>
              <p:cNvSpPr/>
              <p:nvPr/>
            </p:nvSpPr>
            <p:spPr>
              <a:xfrm>
                <a:off x="7237440" y="2178000"/>
                <a:ext cx="306360" cy="1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6200000">
                <a:off x="7642080" y="2001240"/>
                <a:ext cx="152280" cy="3492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924680" y="217944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7315200" y="2209680"/>
              <a:ext cx="914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5790960" y="1112760"/>
              <a:ext cx="3812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76760" y="385596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97320" y="654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172200" y="3107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001000" y="1735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76920" y="1888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322360" y="1255680"/>
            <a:ext cx="1122480" cy="2021040"/>
            <a:chOff x="2322360" y="1255680"/>
            <a:chExt cx="1122480" cy="2021040"/>
          </a:xfrm>
        </p:grpSpPr>
        <p:grpSp>
          <p:nvGrpSpPr>
            <p:cNvPr id="952" name=""/>
            <p:cNvGrpSpPr/>
            <p:nvPr/>
          </p:nvGrpSpPr>
          <p:grpSpPr>
            <a:xfrm>
              <a:off x="2385720" y="2249280"/>
              <a:ext cx="985680" cy="985680"/>
              <a:chOff x="2385720" y="2249280"/>
              <a:chExt cx="985680" cy="985680"/>
            </a:xfrm>
          </p:grpSpPr>
          <p:sp>
            <p:nvSpPr>
              <p:cNvPr id="953" name=""/>
              <p:cNvSpPr/>
              <p:nvPr/>
            </p:nvSpPr>
            <p:spPr>
              <a:xfrm flipV="1">
                <a:off x="2993400" y="2249280"/>
                <a:ext cx="378000" cy="374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2385720" y="2867760"/>
                <a:ext cx="363960" cy="36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rot="2700000">
                <a:off x="2806920" y="255564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3371760" y="222732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62320" y="12556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2434680" y="1282320"/>
              <a:ext cx="986040" cy="987480"/>
              <a:chOff x="2434680" y="1282320"/>
              <a:chExt cx="986040" cy="987480"/>
            </a:xfrm>
          </p:grpSpPr>
          <p:sp>
            <p:nvSpPr>
              <p:cNvPr id="959" name=""/>
              <p:cNvSpPr/>
              <p:nvPr/>
            </p:nvSpPr>
            <p:spPr>
              <a:xfrm flipH="1" flipV="1">
                <a:off x="2434680" y="1282320"/>
                <a:ext cx="374760" cy="3787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53520" y="1905480"/>
                <a:ext cx="367200" cy="364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rot="18900000">
                <a:off x="2869200" y="161064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2374920" y="320364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2322360" y="1344600"/>
              <a:ext cx="152640" cy="1905120"/>
              <a:chOff x="2322360" y="1344600"/>
              <a:chExt cx="152640" cy="1905120"/>
            </a:xfrm>
          </p:grpSpPr>
          <p:sp>
            <p:nvSpPr>
              <p:cNvPr id="964" name=""/>
              <p:cNvSpPr/>
              <p:nvPr/>
            </p:nvSpPr>
            <p:spPr>
              <a:xfrm>
                <a:off x="2398680" y="1344600"/>
                <a:ext cx="0" cy="60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322360" y="1954080"/>
                <a:ext cx="152640" cy="4572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398680" y="2411280"/>
                <a:ext cx="0" cy="838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19320" y="4351320"/>
                <a:ext cx="5105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1295280" y="5356080"/>
                <a:ext cx="44960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压源与电流源及其等效变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3.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压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58040" y="2895480"/>
            <a:ext cx="15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压源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97320" y="3432240"/>
            <a:ext cx="341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上图电路可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E – I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81480" y="4281480"/>
            <a:ext cx="232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800600" y="4724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压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92120" y="3400560"/>
            <a:ext cx="23623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90680" y="3414600"/>
            <a:ext cx="2168640" cy="1319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46320" y="3209760"/>
            <a:ext cx="106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81440" y="1135080"/>
            <a:ext cx="1514520" cy="1760400"/>
          </a:xfrm>
          <a:prstGeom prst="rect">
            <a:avLst/>
          </a:prstGeom>
          <a:noFill/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48080" y="5562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的外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357920" y="2743200"/>
            <a:ext cx="2984040" cy="2170080"/>
            <a:chOff x="1357920" y="2743200"/>
            <a:chExt cx="2984040" cy="2170080"/>
          </a:xfrm>
        </p:grpSpPr>
        <p:sp>
          <p:nvSpPr>
            <p:cNvPr id="981" name=""/>
            <p:cNvSpPr/>
            <p:nvPr/>
          </p:nvSpPr>
          <p:spPr>
            <a:xfrm>
              <a:off x="1368360" y="4691160"/>
              <a:ext cx="25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1368360" y="3068280"/>
              <a:ext cx="0" cy="162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22640" y="43927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57920" y="2743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010280" y="699480"/>
            <a:ext cx="719280" cy="520560"/>
            <a:chOff x="7010280" y="699480"/>
            <a:chExt cx="719280" cy="520560"/>
          </a:xfrm>
        </p:grpSpPr>
        <p:sp>
          <p:nvSpPr>
            <p:cNvPr id="986" name=""/>
            <p:cNvSpPr/>
            <p:nvPr/>
          </p:nvSpPr>
          <p:spPr>
            <a:xfrm>
              <a:off x="7170480" y="6994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10280" y="11430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886440" y="1236600"/>
            <a:ext cx="1793160" cy="1559160"/>
            <a:chOff x="6886440" y="1236600"/>
            <a:chExt cx="1793160" cy="1559160"/>
          </a:xfrm>
        </p:grpSpPr>
        <p:sp>
          <p:nvSpPr>
            <p:cNvPr id="989" name=""/>
            <p:cNvSpPr/>
            <p:nvPr/>
          </p:nvSpPr>
          <p:spPr>
            <a:xfrm>
              <a:off x="8125560" y="175104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6886440" y="1236600"/>
              <a:ext cx="1265400" cy="1559160"/>
              <a:chOff x="6886440" y="1236600"/>
              <a:chExt cx="1265400" cy="1559160"/>
            </a:xfrm>
          </p:grpSpPr>
          <p:sp>
            <p:nvSpPr>
              <p:cNvPr id="991" name=""/>
              <p:cNvSpPr/>
              <p:nvPr/>
            </p:nvSpPr>
            <p:spPr>
              <a:xfrm>
                <a:off x="6886440" y="1236600"/>
                <a:ext cx="1190880" cy="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953480" y="1855800"/>
                <a:ext cx="198360" cy="341280"/>
              </a:xfrm>
              <a:prstGeom prst="rect">
                <a:avLst/>
              </a:prstGeom>
              <a:noFill/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53560" y="2197080"/>
                <a:ext cx="0" cy="59868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053560" y="1257480"/>
                <a:ext cx="0" cy="59832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12000" y="2774880"/>
                <a:ext cx="1165320" cy="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4979160" y="1060560"/>
            <a:ext cx="2316960" cy="1826640"/>
            <a:chOff x="4979160" y="1060560"/>
            <a:chExt cx="2316960" cy="1826640"/>
          </a:xfrm>
        </p:grpSpPr>
        <p:sp>
          <p:nvSpPr>
            <p:cNvPr id="997" name=""/>
            <p:cNvSpPr/>
            <p:nvPr/>
          </p:nvSpPr>
          <p:spPr>
            <a:xfrm>
              <a:off x="4979160" y="2033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173560" y="1060560"/>
              <a:ext cx="595440" cy="1751040"/>
              <a:chOff x="5173560" y="1060560"/>
              <a:chExt cx="595440" cy="1751040"/>
            </a:xfrm>
          </p:grpSpPr>
          <p:sp>
            <p:nvSpPr>
              <p:cNvPr id="999" name=""/>
              <p:cNvSpPr/>
              <p:nvPr/>
            </p:nvSpPr>
            <p:spPr>
              <a:xfrm>
                <a:off x="5273640" y="185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371920" y="1507320"/>
                <a:ext cx="397080" cy="348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570640" y="1246320"/>
                <a:ext cx="0" cy="86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472000" y="2115360"/>
                <a:ext cx="198360" cy="348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570640" y="2463480"/>
                <a:ext cx="0" cy="3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173560" y="1060560"/>
                <a:ext cx="3970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4988160" y="1424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688800" y="1806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565600" y="1246320"/>
              <a:ext cx="123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72080" y="2790360"/>
              <a:ext cx="123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05440" y="1182240"/>
              <a:ext cx="104760" cy="105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05440" y="2706120"/>
              <a:ext cx="104760" cy="105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67480" y="1271880"/>
              <a:ext cx="72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86640" y="2366640"/>
              <a:ext cx="4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457200" y="1295280"/>
            <a:ext cx="4114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是由电动势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内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的电源的电路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949480" y="4703760"/>
                <a:ext cx="1189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/>
          <p:nvPr/>
        </p:nvSpPr>
        <p:spPr>
          <a:xfrm>
            <a:off x="4419720" y="5181480"/>
            <a:ext cx="4495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&lt;&lt;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近似认为是理想电压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59040" y="2971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理想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83160" y="4465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09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理想电压源（恒压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304560" y="4876560"/>
            <a:ext cx="1447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447920" y="3413160"/>
            <a:ext cx="67053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电压是一定值，恒等于电动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直流电压，有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447920" y="4357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压源中的电流由外电路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39560" y="290988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特点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47920" y="2909880"/>
            <a:ext cx="364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757080" y="696960"/>
            <a:ext cx="2346840" cy="2122560"/>
            <a:chOff x="757080" y="696960"/>
            <a:chExt cx="2346840" cy="2122560"/>
          </a:xfrm>
        </p:grpSpPr>
        <p:sp>
          <p:nvSpPr>
            <p:cNvPr id="1026" name=""/>
            <p:cNvSpPr/>
            <p:nvPr/>
          </p:nvSpPr>
          <p:spPr>
            <a:xfrm>
              <a:off x="1977840" y="6969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7080" y="184788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38320" y="1845000"/>
              <a:ext cx="412560" cy="43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44600" y="1293840"/>
              <a:ext cx="0" cy="147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09320" y="1505160"/>
              <a:ext cx="424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28040" y="20005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28760" y="2772000"/>
              <a:ext cx="148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64360" y="1778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28760" y="1293840"/>
              <a:ext cx="148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14480" y="1249560"/>
              <a:ext cx="114480" cy="95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14480" y="2686320"/>
              <a:ext cx="114480" cy="13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31960" y="1154160"/>
              <a:ext cx="6890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79480" y="1249560"/>
              <a:ext cx="424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61480" y="20415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1066680" y="487692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设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= 10 V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接上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后，恒压源对外输出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2890800" y="1280880"/>
            <a:ext cx="1411920" cy="1538640"/>
            <a:chOff x="2890800" y="1280880"/>
            <a:chExt cx="1411920" cy="1538640"/>
          </a:xfrm>
        </p:grpSpPr>
        <p:sp>
          <p:nvSpPr>
            <p:cNvPr id="1042" name=""/>
            <p:cNvSpPr/>
            <p:nvPr/>
          </p:nvSpPr>
          <p:spPr>
            <a:xfrm>
              <a:off x="3748680" y="177480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2890800" y="1280880"/>
              <a:ext cx="884160" cy="1538640"/>
              <a:chOff x="2890800" y="1280880"/>
              <a:chExt cx="884160" cy="1538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967120" y="1295280"/>
                <a:ext cx="685800" cy="0"/>
              </a:xfrm>
              <a:prstGeom prst="line">
                <a:avLst/>
              </a:prstGeom>
              <a:ln w="38160">
                <a:solidFill>
                  <a:srgbClr val="004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5" name=""/>
              <p:cNvGrpSpPr/>
              <p:nvPr/>
            </p:nvGrpSpPr>
            <p:grpSpPr>
              <a:xfrm>
                <a:off x="3576600" y="1280880"/>
                <a:ext cx="198360" cy="1538640"/>
                <a:chOff x="3576600" y="1280880"/>
                <a:chExt cx="198360" cy="153864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3576600" y="1879200"/>
                  <a:ext cx="198360" cy="342000"/>
                </a:xfrm>
                <a:prstGeom prst="rect">
                  <a:avLst/>
                </a:prstGeom>
                <a:noFill/>
                <a:ln w="38160">
                  <a:solidFill>
                    <a:srgbClr val="004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76320" y="2221560"/>
                  <a:ext cx="0" cy="597960"/>
                </a:xfrm>
                <a:prstGeom prst="line">
                  <a:avLst/>
                </a:prstGeom>
                <a:ln w="38160">
                  <a:solidFill>
                    <a:srgbClr val="004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3676320" y="1280880"/>
                  <a:ext cx="0" cy="597960"/>
                </a:xfrm>
                <a:prstGeom prst="line">
                  <a:avLst/>
                </a:prstGeom>
                <a:ln w="38160">
                  <a:solidFill>
                    <a:srgbClr val="004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2890800" y="2773440"/>
                <a:ext cx="809640" cy="0"/>
              </a:xfrm>
              <a:prstGeom prst="line">
                <a:avLst/>
              </a:prstGeom>
              <a:ln w="38160">
                <a:solidFill>
                  <a:srgbClr val="004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"/>
          <p:cNvSpPr/>
          <p:nvPr/>
        </p:nvSpPr>
        <p:spPr>
          <a:xfrm>
            <a:off x="295200" y="5334120"/>
            <a:ext cx="6257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1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0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1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535640" y="971640"/>
            <a:ext cx="3230280" cy="2306520"/>
            <a:chOff x="4535640" y="971640"/>
            <a:chExt cx="3230280" cy="2306520"/>
          </a:xfrm>
        </p:grpSpPr>
        <p:sp>
          <p:nvSpPr>
            <p:cNvPr id="1052" name=""/>
            <p:cNvSpPr/>
            <p:nvPr/>
          </p:nvSpPr>
          <p:spPr>
            <a:xfrm>
              <a:off x="5592600" y="2757600"/>
              <a:ext cx="14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外特性曲线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984560" y="1175040"/>
              <a:ext cx="0" cy="13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984560" y="254016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84560" y="1700280"/>
              <a:ext cx="2143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46600" y="22863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2640" y="971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35640" y="1393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24920" y="2418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6400800" y="53020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压恒定，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流随负载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3.2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流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5489640" y="3870360"/>
                <a:ext cx="17492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63" name=""/>
          <p:cNvGrpSpPr/>
          <p:nvPr/>
        </p:nvGrpSpPr>
        <p:grpSpPr>
          <a:xfrm>
            <a:off x="7219800" y="457200"/>
            <a:ext cx="931320" cy="520560"/>
            <a:chOff x="7219800" y="457200"/>
            <a:chExt cx="931320" cy="520560"/>
          </a:xfrm>
        </p:grpSpPr>
        <p:sp>
          <p:nvSpPr>
            <p:cNvPr id="1064" name=""/>
            <p:cNvSpPr/>
            <p:nvPr/>
          </p:nvSpPr>
          <p:spPr>
            <a:xfrm>
              <a:off x="7219800" y="686520"/>
              <a:ext cx="563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831800" y="4572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4913280" y="609480"/>
            <a:ext cx="2249640" cy="213372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7494480" y="842760"/>
            <a:ext cx="1254600" cy="1737000"/>
            <a:chOff x="7494480" y="842760"/>
            <a:chExt cx="1254600" cy="1737000"/>
          </a:xfrm>
        </p:grpSpPr>
        <p:sp>
          <p:nvSpPr>
            <p:cNvPr id="1068" name=""/>
            <p:cNvSpPr/>
            <p:nvPr/>
          </p:nvSpPr>
          <p:spPr>
            <a:xfrm>
              <a:off x="8195040" y="146376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028360" y="842760"/>
              <a:ext cx="194040" cy="1736640"/>
              <a:chOff x="8028360" y="842760"/>
              <a:chExt cx="194040" cy="1736640"/>
            </a:xfrm>
          </p:grpSpPr>
          <p:sp>
            <p:nvSpPr>
              <p:cNvPr id="1070" name=""/>
              <p:cNvSpPr/>
              <p:nvPr/>
            </p:nvSpPr>
            <p:spPr>
              <a:xfrm>
                <a:off x="8028360" y="1518120"/>
                <a:ext cx="194040" cy="385920"/>
              </a:xfrm>
              <a:prstGeom prst="rect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125200" y="1904040"/>
                <a:ext cx="0" cy="6753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8125200" y="842760"/>
                <a:ext cx="0" cy="6750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7522200" y="2579760"/>
              <a:ext cx="6278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494480" y="843120"/>
              <a:ext cx="6555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3733920" y="2438280"/>
            <a:ext cx="0" cy="1828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65360" y="3033720"/>
            <a:ext cx="2168280" cy="1319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8480" y="2590920"/>
            <a:ext cx="142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953000" y="4876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源的外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632600" y="2362320"/>
            <a:ext cx="2984040" cy="2169720"/>
            <a:chOff x="1632600" y="2362320"/>
            <a:chExt cx="2984040" cy="2169720"/>
          </a:xfrm>
        </p:grpSpPr>
        <p:sp>
          <p:nvSpPr>
            <p:cNvPr id="1080" name=""/>
            <p:cNvSpPr/>
            <p:nvPr/>
          </p:nvSpPr>
          <p:spPr>
            <a:xfrm>
              <a:off x="1643040" y="4309920"/>
              <a:ext cx="25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1643040" y="2687400"/>
              <a:ext cx="0" cy="162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97320" y="40114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632600" y="2362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809880" y="236232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理想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257840" y="408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86600" y="4329000"/>
            <a:ext cx="4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3520" y="836640"/>
            <a:ext cx="3962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源是由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内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的电源的电路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59920" y="3432240"/>
            <a:ext cx="19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上图电路可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4120" y="4829040"/>
            <a:ext cx="23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43480" y="5334120"/>
            <a:ext cx="34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流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52280" y="580536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&gt;&gt;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可近似认为是理想电流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860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4894560" y="770040"/>
            <a:ext cx="2794320" cy="2584080"/>
            <a:chOff x="4894560" y="770040"/>
            <a:chExt cx="2794320" cy="2584080"/>
          </a:xfrm>
        </p:grpSpPr>
        <p:grpSp>
          <p:nvGrpSpPr>
            <p:cNvPr id="1094" name=""/>
            <p:cNvGrpSpPr/>
            <p:nvPr/>
          </p:nvGrpSpPr>
          <p:grpSpPr>
            <a:xfrm>
              <a:off x="4894560" y="770040"/>
              <a:ext cx="2794320" cy="2584080"/>
              <a:chOff x="4894560" y="770040"/>
              <a:chExt cx="2794320" cy="2584080"/>
            </a:xfrm>
          </p:grpSpPr>
          <p:sp>
            <p:nvSpPr>
              <p:cNvPr id="1095" name=""/>
              <p:cNvSpPr/>
              <p:nvPr/>
            </p:nvSpPr>
            <p:spPr>
              <a:xfrm>
                <a:off x="5542920" y="283356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电流源模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6" name=""/>
              <p:cNvGrpSpPr/>
              <p:nvPr/>
            </p:nvGrpSpPr>
            <p:grpSpPr>
              <a:xfrm>
                <a:off x="5464080" y="866880"/>
                <a:ext cx="388440" cy="1736280"/>
                <a:chOff x="5464080" y="866880"/>
                <a:chExt cx="388440" cy="173628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5464080" y="1542600"/>
                  <a:ext cx="388440" cy="385560"/>
                  <a:chOff x="5464080" y="1542600"/>
                  <a:chExt cx="388440" cy="385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 flipV="1">
                    <a:off x="5464080" y="1542240"/>
                    <a:ext cx="388440" cy="3855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464080" y="1735560"/>
                    <a:ext cx="38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" name=""/>
                <p:cNvSpPr/>
                <p:nvPr/>
              </p:nvSpPr>
              <p:spPr>
                <a:xfrm>
                  <a:off x="5658120" y="1928160"/>
                  <a:ext cx="0" cy="67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658120" y="866880"/>
                  <a:ext cx="0" cy="67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5659560" y="843120"/>
                <a:ext cx="176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72160" y="2579760"/>
                <a:ext cx="174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4" name=""/>
              <p:cNvGrpSpPr/>
              <p:nvPr/>
            </p:nvGrpSpPr>
            <p:grpSpPr>
              <a:xfrm>
                <a:off x="6377040" y="842760"/>
                <a:ext cx="193680" cy="1736640"/>
                <a:chOff x="6377040" y="842760"/>
                <a:chExt cx="193680" cy="173664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77040" y="1518120"/>
                  <a:ext cx="193680" cy="385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474600" y="1904400"/>
                  <a:ext cx="0" cy="67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6474600" y="842760"/>
                  <a:ext cx="0" cy="67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8" name=""/>
              <p:cNvSpPr/>
              <p:nvPr/>
            </p:nvSpPr>
            <p:spPr>
              <a:xfrm>
                <a:off x="5874480" y="14382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52200" y="1459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691320" y="1498680"/>
                <a:ext cx="0" cy="519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705000" y="15811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723720" y="1218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797520" y="1673280"/>
                <a:ext cx="28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396200" y="770040"/>
                <a:ext cx="98280" cy="12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421400" y="2530440"/>
                <a:ext cx="96840" cy="12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5343480" y="1498680"/>
                <a:ext cx="0" cy="51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894560" y="152064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329600" y="884160"/>
                <a:ext cx="26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329600" y="2103480"/>
                <a:ext cx="26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423120" y="7984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26360" y="25290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理想电流源（恒流源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304920" y="4495680"/>
            <a:ext cx="1218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18160" y="3398760"/>
            <a:ext cx="2032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电流是一定值，恒等于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73920" y="3930480"/>
            <a:ext cx="46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流源两端的电压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外电路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9560" y="289548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特点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23880" y="2895480"/>
            <a:ext cx="364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138320" y="4495680"/>
            <a:ext cx="800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设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= 10 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接上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后，恒流源对外输出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2890800" y="1280880"/>
            <a:ext cx="1411920" cy="1538640"/>
            <a:chOff x="2890800" y="1280880"/>
            <a:chExt cx="1411920" cy="1538640"/>
          </a:xfrm>
        </p:grpSpPr>
        <p:sp>
          <p:nvSpPr>
            <p:cNvPr id="1130" name=""/>
            <p:cNvSpPr/>
            <p:nvPr/>
          </p:nvSpPr>
          <p:spPr>
            <a:xfrm>
              <a:off x="2967120" y="1295280"/>
              <a:ext cx="6858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48680" y="177480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3576600" y="1280880"/>
              <a:ext cx="198360" cy="1538640"/>
              <a:chOff x="3576600" y="1280880"/>
              <a:chExt cx="198360" cy="1538640"/>
            </a:xfrm>
          </p:grpSpPr>
          <p:sp>
            <p:nvSpPr>
              <p:cNvPr id="1133" name=""/>
              <p:cNvSpPr/>
              <p:nvPr/>
            </p:nvSpPr>
            <p:spPr>
              <a:xfrm>
                <a:off x="3576600" y="1879200"/>
                <a:ext cx="198360" cy="342000"/>
              </a:xfrm>
              <a:prstGeom prst="rect">
                <a:avLst/>
              </a:pr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676320" y="2221560"/>
                <a:ext cx="0" cy="5979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3676320" y="1280880"/>
                <a:ext cx="0" cy="5979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890800" y="2773440"/>
              <a:ext cx="8096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1143000" y="4952880"/>
            <a:ext cx="6486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1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0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92960" y="275760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外特性曲线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984920" y="945720"/>
            <a:ext cx="0" cy="136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84920" y="231156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6553080" y="609120"/>
            <a:ext cx="0" cy="1685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446960" y="20574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02640" y="743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362640" y="228600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59120" y="2250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18840" y="696960"/>
            <a:ext cx="2485080" cy="2122560"/>
            <a:chOff x="618840" y="696960"/>
            <a:chExt cx="2485080" cy="2122560"/>
          </a:xfrm>
        </p:grpSpPr>
        <p:sp>
          <p:nvSpPr>
            <p:cNvPr id="1147" name=""/>
            <p:cNvSpPr/>
            <p:nvPr/>
          </p:nvSpPr>
          <p:spPr>
            <a:xfrm>
              <a:off x="1977840" y="6969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8840" y="1828800"/>
              <a:ext cx="438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100160" y="1844640"/>
              <a:ext cx="412560" cy="433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95280" y="228600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12920" y="2781360"/>
              <a:ext cx="148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64360" y="1778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16160" y="1293840"/>
              <a:ext cx="148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814480" y="1249200"/>
              <a:ext cx="114480" cy="95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14480" y="2685960"/>
              <a:ext cx="114480" cy="133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31960" y="1154160"/>
              <a:ext cx="6890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79480" y="1249200"/>
              <a:ext cx="424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61840" y="20415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43000" y="2057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95280" y="1295280"/>
              <a:ext cx="0" cy="56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1066680" y="17524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1143000" y="5791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流恒定，电压随负载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3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压源与电流源的等效变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02800" y="3809880"/>
            <a:ext cx="2096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562720" y="380988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731880" y="1002600"/>
            <a:ext cx="3262680" cy="2641320"/>
            <a:chOff x="731880" y="1002600"/>
            <a:chExt cx="3262680" cy="2641320"/>
          </a:xfrm>
        </p:grpSpPr>
        <p:sp>
          <p:nvSpPr>
            <p:cNvPr id="1167" name=""/>
            <p:cNvSpPr/>
            <p:nvPr/>
          </p:nvSpPr>
          <p:spPr>
            <a:xfrm>
              <a:off x="2717640" y="1002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440520" y="200484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365280" y="2133720"/>
              <a:ext cx="155880" cy="29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443040" y="2428920"/>
              <a:ext cx="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3443040" y="1563840"/>
              <a:ext cx="0" cy="56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27280" y="1433520"/>
              <a:ext cx="563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30440" y="1560600"/>
              <a:ext cx="93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50960" y="292572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29520" y="2235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49200" y="2112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8760" y="1805040"/>
              <a:ext cx="317520" cy="307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487520" y="1574640"/>
              <a:ext cx="0" cy="76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407960" y="2343240"/>
              <a:ext cx="158760" cy="307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87520" y="2651040"/>
              <a:ext cx="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170000" y="1343520"/>
              <a:ext cx="317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81360" y="1702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38920" y="2037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482480" y="1576440"/>
              <a:ext cx="99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488960" y="2938320"/>
              <a:ext cx="99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75000" y="1519200"/>
              <a:ext cx="83880" cy="92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75000" y="2865600"/>
              <a:ext cx="83880" cy="9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82760" y="159696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332080" y="242424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72880" y="312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电压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31880" y="1357200"/>
              <a:ext cx="1523880" cy="175284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3398760" y="3249720"/>
            <a:ext cx="1981440" cy="533160"/>
          </a:xfrm>
          <a:custGeom>
            <a:avLst/>
            <a:gdLst>
              <a:gd name="textAreaLeft" fmla="*/ 342000 w 1981440"/>
              <a:gd name="textAreaRight" fmla="*/ 1422000 w 1981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-2659637"/>
                <a:lnTo>
                  <a:pt x="21173" y="7200"/>
                </a:lnTo>
                <a:lnTo>
                  <a:pt x="17074" y="0"/>
                </a:lnTo>
                <a:lnTo>
                  <a:pt x="12121" y="7200"/>
                </a:lnTo>
                <a:lnTo>
                  <a:pt x="14492" y="7200"/>
                </a:lnTo>
                <a:arcTo wR="7460" hR="21600" stAng="2740363" swAng="2302672"/>
                <a:lnTo>
                  <a:pt x="9615" y="20679"/>
                </a:lnTo>
                <a:arcTo wR="7460" hR="21600" stAng="5756966" swAng="5043034"/>
                <a:close/>
              </a:path>
              <a:path fill="darkenLess"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356966"/>
                <a:lnTo>
                  <a:pt x="9615" y="20679"/>
                </a:lnTo>
                <a:arcTo wR="7460" hR="21600" stAng="5756966" swAng="5043034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305000" y="4724280"/>
            <a:ext cx="4410000" cy="1735200"/>
            <a:chOff x="1305000" y="4724280"/>
            <a:chExt cx="4410000" cy="1735200"/>
          </a:xfrm>
        </p:grpSpPr>
        <p:sp>
          <p:nvSpPr>
            <p:cNvPr id="1194" name=""/>
            <p:cNvSpPr/>
            <p:nvPr/>
          </p:nvSpPr>
          <p:spPr>
            <a:xfrm>
              <a:off x="1305000" y="518148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等效变换条件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57600" y="4724280"/>
              <a:ext cx="2057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=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3733920" y="5384880"/>
                  <a:ext cx="129528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7" name=""/>
            <p:cNvSpPr/>
            <p:nvPr/>
          </p:nvSpPr>
          <p:spPr>
            <a:xfrm>
              <a:off x="3429000" y="50292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 flipH="1">
            <a:off x="3199680" y="3276720"/>
            <a:ext cx="1981080" cy="533160"/>
          </a:xfrm>
          <a:custGeom>
            <a:avLst/>
            <a:gdLst>
              <a:gd name="textAreaLeft" fmla="*/ 342000 w 1981080"/>
              <a:gd name="textAreaRight" fmla="*/ 1421640 w 1981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-2659637"/>
                <a:lnTo>
                  <a:pt x="21173" y="7200"/>
                </a:lnTo>
                <a:lnTo>
                  <a:pt x="17074" y="0"/>
                </a:lnTo>
                <a:lnTo>
                  <a:pt x="12121" y="7200"/>
                </a:lnTo>
                <a:lnTo>
                  <a:pt x="14492" y="7200"/>
                </a:lnTo>
                <a:arcTo wR="7460" hR="21600" stAng="2740363" swAng="2302672"/>
                <a:lnTo>
                  <a:pt x="9615" y="20679"/>
                </a:lnTo>
                <a:arcTo wR="7460" hR="21600" stAng="5756966" swAng="5043034"/>
                <a:close/>
              </a:path>
              <a:path fill="darkenLess"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356966"/>
                <a:lnTo>
                  <a:pt x="9615" y="20679"/>
                </a:lnTo>
                <a:arcTo wR="7460" hR="21600" stAng="5756966" swAng="5043034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5086800" y="990000"/>
            <a:ext cx="3586320" cy="2730240"/>
            <a:chOff x="5086800" y="990000"/>
            <a:chExt cx="3586320" cy="2730240"/>
          </a:xfrm>
        </p:grpSpPr>
        <p:grpSp>
          <p:nvGrpSpPr>
            <p:cNvPr id="1200" name=""/>
            <p:cNvGrpSpPr/>
            <p:nvPr/>
          </p:nvGrpSpPr>
          <p:grpSpPr>
            <a:xfrm>
              <a:off x="5086800" y="990000"/>
              <a:ext cx="3586320" cy="2730240"/>
              <a:chOff x="5086800" y="990000"/>
              <a:chExt cx="3586320" cy="2730240"/>
            </a:xfrm>
          </p:grpSpPr>
          <p:grpSp>
            <p:nvGrpSpPr>
              <p:cNvPr id="1201" name=""/>
              <p:cNvGrpSpPr/>
              <p:nvPr/>
            </p:nvGrpSpPr>
            <p:grpSpPr>
              <a:xfrm>
                <a:off x="5642280" y="1565280"/>
                <a:ext cx="359640" cy="1427040"/>
                <a:chOff x="5642280" y="1565280"/>
                <a:chExt cx="359640" cy="1427040"/>
              </a:xfrm>
            </p:grpSpPr>
            <p:grpSp>
              <p:nvGrpSpPr>
                <p:cNvPr id="1202" name=""/>
                <p:cNvGrpSpPr/>
                <p:nvPr/>
              </p:nvGrpSpPr>
              <p:grpSpPr>
                <a:xfrm>
                  <a:off x="5642280" y="2120400"/>
                  <a:ext cx="359640" cy="316800"/>
                  <a:chOff x="5642280" y="2120400"/>
                  <a:chExt cx="359640" cy="3168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V="1">
                    <a:off x="5642280" y="2120400"/>
                    <a:ext cx="359640" cy="3168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642280" y="2279160"/>
                    <a:ext cx="35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5" name=""/>
                <p:cNvSpPr/>
                <p:nvPr/>
              </p:nvSpPr>
              <p:spPr>
                <a:xfrm>
                  <a:off x="5821920" y="2437560"/>
                  <a:ext cx="0" cy="55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821920" y="1565280"/>
                  <a:ext cx="0" cy="55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" name=""/>
              <p:cNvSpPr/>
              <p:nvPr/>
            </p:nvSpPr>
            <p:spPr>
              <a:xfrm>
                <a:off x="8119080" y="2001960"/>
                <a:ext cx="55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986960" y="2109960"/>
                <a:ext cx="180720" cy="317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079120" y="2427480"/>
                <a:ext cx="0" cy="55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8079120" y="1554120"/>
                <a:ext cx="0" cy="5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99240" y="1546200"/>
                <a:ext cx="157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799240" y="2971800"/>
                <a:ext cx="16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129800" y="1433520"/>
                <a:ext cx="653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53360" y="2102040"/>
                <a:ext cx="179280" cy="315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543720" y="241776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543720" y="1546200"/>
                <a:ext cx="0" cy="5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971680" y="198288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303320" y="2042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675480" y="1619280"/>
                <a:ext cx="0" cy="50004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0" name=""/>
              <p:cNvGrpSpPr/>
              <p:nvPr/>
            </p:nvGrpSpPr>
            <p:grpSpPr>
              <a:xfrm>
                <a:off x="6762240" y="1504440"/>
                <a:ext cx="520560" cy="950040"/>
                <a:chOff x="6762240" y="1504440"/>
                <a:chExt cx="520560" cy="95004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6762240" y="187488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774840" y="1504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U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7401240" y="1487520"/>
                <a:ext cx="90360" cy="98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423200" y="2932200"/>
                <a:ext cx="9072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13920" y="29797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491600" y="1546200"/>
                <a:ext cx="60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5532480" y="1966680"/>
                <a:ext cx="0" cy="5698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086800" y="193680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292880" y="99000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253280" y="1524240"/>
                <a:ext cx="56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207560" y="2525760"/>
                <a:ext cx="56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11960" y="319968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电流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151600" y="1357560"/>
                <a:ext cx="1676520" cy="1752480"/>
              </a:xfrm>
              <a:prstGeom prst="rect">
                <a:avLst/>
              </a:prstGeom>
              <a:noFill/>
              <a:ln w="3816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6494400" y="149220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88280" y="29113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变换时，两电源的参考方向要一一对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4952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压源与理想电流源之间无等效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04920" y="838080"/>
            <a:ext cx="89154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和电流源的等效关系只对外电路而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电源内部则是不等效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5200" y="152280"/>
            <a:ext cx="1752840" cy="685800"/>
          </a:xfrm>
          <a:prstGeom prst="cloudCallout">
            <a:avLst>
              <a:gd name="adj1" fmla="val 86143"/>
              <a:gd name="adj2" fmla="val 5833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38080" y="1700280"/>
            <a:ext cx="83059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当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的内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不损耗功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电流源的内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则损耗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0880" y="5410080"/>
            <a:ext cx="83822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一个电动势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某个电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的电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可化为一个电流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这个电阻并联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717840" y="2971080"/>
            <a:ext cx="3930480" cy="1968120"/>
            <a:chOff x="717840" y="2971080"/>
            <a:chExt cx="3930480" cy="1968120"/>
          </a:xfrm>
        </p:grpSpPr>
        <p:grpSp>
          <p:nvGrpSpPr>
            <p:cNvPr id="1243" name=""/>
            <p:cNvGrpSpPr/>
            <p:nvPr/>
          </p:nvGrpSpPr>
          <p:grpSpPr>
            <a:xfrm>
              <a:off x="717840" y="2971080"/>
              <a:ext cx="3930480" cy="1968120"/>
              <a:chOff x="717840" y="2971080"/>
              <a:chExt cx="3930480" cy="196812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717840" y="2971080"/>
                <a:ext cx="1782360" cy="1892160"/>
                <a:chOff x="717840" y="2971080"/>
                <a:chExt cx="1782360" cy="189216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726120" y="394632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109520" y="3803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1131840" y="3495600"/>
                  <a:ext cx="309600" cy="307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1299960" y="3265200"/>
                  <a:ext cx="0" cy="76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236600" y="4033800"/>
                  <a:ext cx="127080" cy="307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299960" y="4341600"/>
                  <a:ext cx="0" cy="30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046160" y="3034080"/>
                  <a:ext cx="25380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717840" y="33933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297080" y="3267000"/>
                  <a:ext cx="793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1301760" y="4628880"/>
                  <a:ext cx="795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090520" y="3209760"/>
                  <a:ext cx="68400" cy="92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090520" y="4556160"/>
                  <a:ext cx="68400" cy="91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141280" y="29710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116440" y="43426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163600" y="2971080"/>
                <a:ext cx="2484720" cy="1968120"/>
                <a:chOff x="2163600" y="2971080"/>
                <a:chExt cx="2484720" cy="19681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163600" y="3682800"/>
                  <a:ext cx="685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1" name=""/>
                <p:cNvGrpSpPr/>
                <p:nvPr/>
              </p:nvGrpSpPr>
              <p:grpSpPr>
                <a:xfrm>
                  <a:off x="2784600" y="3278160"/>
                  <a:ext cx="308520" cy="1426680"/>
                  <a:chOff x="2784600" y="3278160"/>
                  <a:chExt cx="308520" cy="1426680"/>
                </a:xfrm>
              </p:grpSpPr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2784600" y="3832920"/>
                    <a:ext cx="308520" cy="316800"/>
                    <a:chOff x="2784600" y="3832920"/>
                    <a:chExt cx="308520" cy="31680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 flipV="1">
                      <a:off x="2784600" y="3832920"/>
                      <a:ext cx="308520" cy="31680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2784600" y="3991680"/>
                      <a:ext cx="3085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5" name=""/>
                  <p:cNvSpPr/>
                  <p:nvPr/>
                </p:nvSpPr>
                <p:spPr>
                  <a:xfrm>
                    <a:off x="2938680" y="4150440"/>
                    <a:ext cx="0" cy="554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2938680" y="3278160"/>
                    <a:ext cx="0" cy="554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7" name=""/>
                <p:cNvSpPr/>
                <p:nvPr/>
              </p:nvSpPr>
              <p:spPr>
                <a:xfrm>
                  <a:off x="2909880" y="3259080"/>
                  <a:ext cx="126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09880" y="4684680"/>
                  <a:ext cx="129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433680" y="3814560"/>
                  <a:ext cx="142920" cy="316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506760" y="4130640"/>
                  <a:ext cx="0" cy="55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3506760" y="3258720"/>
                  <a:ext cx="0" cy="555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551040" y="3690720"/>
                  <a:ext cx="609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192560" y="3200400"/>
                  <a:ext cx="71280" cy="98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209840" y="4645080"/>
                  <a:ext cx="73080" cy="99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V="1">
                  <a:off x="2697120" y="3679200"/>
                  <a:ext cx="0" cy="569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221000" y="2971080"/>
                  <a:ext cx="42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282920" y="4418640"/>
                  <a:ext cx="365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8" name=""/>
            <p:cNvSpPr/>
            <p:nvPr/>
          </p:nvSpPr>
          <p:spPr>
            <a:xfrm>
              <a:off x="3446640" y="32194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446640" y="46339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4908600" y="3061440"/>
            <a:ext cx="3930120" cy="1968480"/>
            <a:chOff x="4908600" y="3061440"/>
            <a:chExt cx="3930120" cy="1968480"/>
          </a:xfrm>
        </p:grpSpPr>
        <p:grpSp>
          <p:nvGrpSpPr>
            <p:cNvPr id="1281" name=""/>
            <p:cNvGrpSpPr/>
            <p:nvPr/>
          </p:nvGrpSpPr>
          <p:grpSpPr>
            <a:xfrm>
              <a:off x="4908600" y="3061440"/>
              <a:ext cx="3930120" cy="1968480"/>
              <a:chOff x="4908600" y="3061440"/>
              <a:chExt cx="3930120" cy="196848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4908600" y="3061440"/>
                <a:ext cx="1758960" cy="1892160"/>
                <a:chOff x="4908600" y="3061440"/>
                <a:chExt cx="1758960" cy="189216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4917240" y="402264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276880" y="3894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324400" y="3585960"/>
                  <a:ext cx="309600" cy="308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7320" y="3355920"/>
                  <a:ext cx="0" cy="76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03960" y="4124160"/>
                  <a:ext cx="126720" cy="308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467320" y="4432320"/>
                  <a:ext cx="0" cy="30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211720" y="3119760"/>
                  <a:ext cx="25416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908600" y="348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64080" y="3357360"/>
                  <a:ext cx="793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68760" y="4719600"/>
                  <a:ext cx="795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257880" y="3300120"/>
                  <a:ext cx="68400" cy="92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257880" y="4646520"/>
                  <a:ext cx="68400" cy="92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6308640" y="30614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283440" y="44330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6354720" y="3061440"/>
                <a:ext cx="2484000" cy="1968480"/>
                <a:chOff x="6354720" y="3061440"/>
                <a:chExt cx="2484000" cy="19684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6354720" y="3773160"/>
                  <a:ext cx="685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9" name=""/>
                <p:cNvGrpSpPr/>
                <p:nvPr/>
              </p:nvGrpSpPr>
              <p:grpSpPr>
                <a:xfrm>
                  <a:off x="6938640" y="3368520"/>
                  <a:ext cx="308520" cy="1426680"/>
                  <a:chOff x="6938640" y="3368520"/>
                  <a:chExt cx="308520" cy="1426680"/>
                </a:xfrm>
              </p:grpSpPr>
              <p:grpSp>
                <p:nvGrpSpPr>
                  <p:cNvPr id="1300" name=""/>
                  <p:cNvGrpSpPr/>
                  <p:nvPr/>
                </p:nvGrpSpPr>
                <p:grpSpPr>
                  <a:xfrm>
                    <a:off x="6938640" y="3923280"/>
                    <a:ext cx="308520" cy="316800"/>
                    <a:chOff x="6938640" y="3923280"/>
                    <a:chExt cx="308520" cy="316800"/>
                  </a:xfrm>
                </p:grpSpPr>
                <p:sp>
                  <p:nvSpPr>
                    <p:cNvPr id="1301" name=""/>
                    <p:cNvSpPr/>
                    <p:nvPr/>
                  </p:nvSpPr>
                  <p:spPr>
                    <a:xfrm flipV="1">
                      <a:off x="6938640" y="3923280"/>
                      <a:ext cx="308520" cy="31680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6938640" y="4082040"/>
                      <a:ext cx="3085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3" name=""/>
                  <p:cNvSpPr/>
                  <p:nvPr/>
                </p:nvSpPr>
                <p:spPr>
                  <a:xfrm>
                    <a:off x="7092720" y="4240800"/>
                    <a:ext cx="0" cy="554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2720" y="3368520"/>
                    <a:ext cx="0" cy="554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100640" y="3349440"/>
                  <a:ext cx="126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100640" y="4775040"/>
                  <a:ext cx="129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7624440" y="3905280"/>
                  <a:ext cx="142560" cy="3157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697520" y="4221000"/>
                  <a:ext cx="0" cy="55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V="1">
                  <a:off x="7697520" y="3349440"/>
                  <a:ext cx="0" cy="55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742160" y="3781080"/>
                  <a:ext cx="609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383320" y="3290760"/>
                  <a:ext cx="71280" cy="98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400960" y="4735440"/>
                  <a:ext cx="72360" cy="1000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887880" y="3849480"/>
                  <a:ext cx="0" cy="569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411760" y="3061440"/>
                  <a:ext cx="426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473680" y="4509360"/>
                  <a:ext cx="36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6" name=""/>
            <p:cNvSpPr/>
            <p:nvPr/>
          </p:nvSpPr>
          <p:spPr>
            <a:xfrm>
              <a:off x="7653240" y="330660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53240" y="472428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1920" y="447480"/>
            <a:ext cx="1219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935720" y="4478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列各电路的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11840" y="33717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652320" y="3702960"/>
            <a:ext cx="2317680" cy="2317680"/>
            <a:chOff x="652320" y="3702960"/>
            <a:chExt cx="2317680" cy="2317680"/>
          </a:xfrm>
        </p:grpSpPr>
        <p:sp>
          <p:nvSpPr>
            <p:cNvPr id="1322" name=""/>
            <p:cNvSpPr/>
            <p:nvPr/>
          </p:nvSpPr>
          <p:spPr>
            <a:xfrm flipV="1">
              <a:off x="652320" y="4938120"/>
              <a:ext cx="379800" cy="35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842400" y="4668120"/>
              <a:ext cx="0" cy="89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746280" y="4309560"/>
              <a:ext cx="190080" cy="358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842400" y="3972960"/>
              <a:ext cx="0" cy="33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36720" y="4499280"/>
              <a:ext cx="379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42400" y="3973320"/>
              <a:ext cx="16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57000" y="3929400"/>
              <a:ext cx="11592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11080" y="3702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42400" y="5542560"/>
              <a:ext cx="16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32880" y="5498280"/>
              <a:ext cx="11664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574720" y="5273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246760" y="4464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72640" y="424296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95040" y="488304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374120" y="550008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325600" y="3943440"/>
              <a:ext cx="4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25600" y="5109480"/>
              <a:ext cx="4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6434280" y="3657240"/>
            <a:ext cx="2124720" cy="2439000"/>
            <a:chOff x="6434280" y="3657240"/>
            <a:chExt cx="2124720" cy="2439000"/>
          </a:xfrm>
        </p:grpSpPr>
        <p:sp>
          <p:nvSpPr>
            <p:cNvPr id="1340" name=""/>
            <p:cNvSpPr/>
            <p:nvPr/>
          </p:nvSpPr>
          <p:spPr>
            <a:xfrm>
              <a:off x="6434280" y="4593960"/>
              <a:ext cx="347400" cy="37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607440" y="3928680"/>
              <a:ext cx="0" cy="170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89080" y="4168440"/>
              <a:ext cx="3477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07440" y="3928680"/>
              <a:ext cx="147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062200" y="3881520"/>
              <a:ext cx="106560" cy="115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184960" y="3657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07440" y="5613120"/>
              <a:ext cx="145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062200" y="5565960"/>
              <a:ext cx="105120" cy="116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80280" y="5339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908840" y="4492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700680" y="453492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10440" y="55756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51320" y="3897360"/>
              <a:ext cx="44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950240" y="5191920"/>
              <a:ext cx="44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468000" y="980280"/>
            <a:ext cx="8368920" cy="2449440"/>
            <a:chOff x="468000" y="980280"/>
            <a:chExt cx="8368920" cy="2449440"/>
          </a:xfrm>
        </p:grpSpPr>
        <p:grpSp>
          <p:nvGrpSpPr>
            <p:cNvPr id="1355" name=""/>
            <p:cNvGrpSpPr/>
            <p:nvPr/>
          </p:nvGrpSpPr>
          <p:grpSpPr>
            <a:xfrm>
              <a:off x="6231240" y="980280"/>
              <a:ext cx="2605680" cy="2387520"/>
              <a:chOff x="6231240" y="980280"/>
              <a:chExt cx="2605680" cy="2387520"/>
            </a:xfrm>
          </p:grpSpPr>
          <p:grpSp>
            <p:nvGrpSpPr>
              <p:cNvPr id="1356" name=""/>
              <p:cNvGrpSpPr/>
              <p:nvPr/>
            </p:nvGrpSpPr>
            <p:grpSpPr>
              <a:xfrm>
                <a:off x="6918120" y="980280"/>
                <a:ext cx="1907640" cy="520560"/>
                <a:chOff x="6918120" y="980280"/>
                <a:chExt cx="1907640" cy="520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918120" y="1249560"/>
                  <a:ext cx="1410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349840" y="1205280"/>
                  <a:ext cx="103320" cy="1083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466840" y="9802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7635600" y="1866960"/>
                <a:ext cx="380520" cy="353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826040" y="1249200"/>
                <a:ext cx="0" cy="158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65680" y="1610280"/>
                <a:ext cx="380880" cy="8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231240" y="219312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113600" y="178056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231400" y="1842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86280" y="2243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6744960" y="2243160"/>
                <a:ext cx="361800" cy="3477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6938640" y="1977840"/>
                <a:ext cx="0" cy="88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6854760" y="1625040"/>
                <a:ext cx="167760" cy="352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938640" y="1271520"/>
                <a:ext cx="0" cy="35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27600" y="1839240"/>
                <a:ext cx="337680" cy="10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918120" y="2860560"/>
                <a:ext cx="141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51640" y="2816280"/>
                <a:ext cx="102960" cy="109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458200" y="2591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47800" y="149940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97720" y="284724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c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246880" y="1197000"/>
                <a:ext cx="50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177040" y="2362320"/>
                <a:ext cx="50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9" name=""/>
            <p:cNvSpPr/>
            <p:nvPr/>
          </p:nvSpPr>
          <p:spPr>
            <a:xfrm>
              <a:off x="4484880" y="290916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81440" y="1004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3559680" y="2301120"/>
              <a:ext cx="410760" cy="372600"/>
              <a:chOff x="3559680" y="2301120"/>
              <a:chExt cx="410760" cy="372600"/>
            </a:xfrm>
          </p:grpSpPr>
          <p:sp>
            <p:nvSpPr>
              <p:cNvPr id="1382" name=""/>
              <p:cNvSpPr/>
              <p:nvPr/>
            </p:nvSpPr>
            <p:spPr>
              <a:xfrm flipV="1" rot="10800000">
                <a:off x="3559680" y="2300760"/>
                <a:ext cx="410760" cy="372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3559680" y="2487240"/>
                <a:ext cx="41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 rot="10800000">
              <a:off x="3661920" y="1647360"/>
              <a:ext cx="204840" cy="37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3765600" y="1273320"/>
              <a:ext cx="0" cy="37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65600" y="202248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741840" y="2683800"/>
              <a:ext cx="0" cy="2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38080" y="176292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18160" y="1919160"/>
              <a:ext cx="20628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821120" y="2287440"/>
              <a:ext cx="0" cy="64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4821120" y="127476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3503520" y="2209320"/>
              <a:ext cx="0" cy="58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72160" y="220896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22560" y="161388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37040" y="19044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65600" y="1274760"/>
              <a:ext cx="17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489640" y="1228680"/>
              <a:ext cx="127080" cy="11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53000" y="2908440"/>
              <a:ext cx="17366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89640" y="2867040"/>
              <a:ext cx="127080" cy="11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39040" y="2664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78400" y="1197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61120" y="23623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96960" y="288072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35120" y="990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51040" y="2303640"/>
              <a:ext cx="376200" cy="35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0040" y="2055960"/>
              <a:ext cx="0" cy="82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9560" y="2051640"/>
              <a:ext cx="31932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95480" y="1482840"/>
              <a:ext cx="152280" cy="355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171440" y="18381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1171440" y="1269720"/>
              <a:ext cx="0" cy="19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95480" y="2327400"/>
              <a:ext cx="152280" cy="35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71440" y="268128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1171440" y="197172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190520" y="2055960"/>
              <a:ext cx="7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152360" y="2881440"/>
              <a:ext cx="127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221120" y="222336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68000" y="223452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8000" y="14472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409840" y="2814480"/>
              <a:ext cx="9360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52360" y="1260360"/>
              <a:ext cx="131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48000" y="1216080"/>
              <a:ext cx="93600" cy="10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221560" y="1828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293920" y="11826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293920" y="24066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33640" y="19969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905120" y="2819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761000" y="12445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786200" y="288144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72400" y="11970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72400" y="2819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2921040" y="3688560"/>
            <a:ext cx="3020400" cy="2408040"/>
            <a:chOff x="2921040" y="3688560"/>
            <a:chExt cx="3020400" cy="2408040"/>
          </a:xfrm>
        </p:grpSpPr>
        <p:grpSp>
          <p:nvGrpSpPr>
            <p:cNvPr id="1432" name=""/>
            <p:cNvGrpSpPr/>
            <p:nvPr/>
          </p:nvGrpSpPr>
          <p:grpSpPr>
            <a:xfrm>
              <a:off x="2921040" y="3688560"/>
              <a:ext cx="3020400" cy="2408040"/>
              <a:chOff x="2921040" y="3688560"/>
              <a:chExt cx="3020400" cy="2408040"/>
            </a:xfrm>
          </p:grpSpPr>
          <p:sp>
            <p:nvSpPr>
              <p:cNvPr id="1433" name=""/>
              <p:cNvSpPr/>
              <p:nvPr/>
            </p:nvSpPr>
            <p:spPr>
              <a:xfrm>
                <a:off x="3735360" y="3958920"/>
                <a:ext cx="167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05400" y="3911400"/>
                <a:ext cx="12240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68840" y="3688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6" name=""/>
              <p:cNvGrpSpPr/>
              <p:nvPr/>
            </p:nvGrpSpPr>
            <p:grpSpPr>
              <a:xfrm>
                <a:off x="4513320" y="3958920"/>
                <a:ext cx="193680" cy="1679400"/>
                <a:chOff x="4513320" y="3958920"/>
                <a:chExt cx="193680" cy="167940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513320" y="4611960"/>
                  <a:ext cx="193680" cy="3729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610160" y="4985280"/>
                  <a:ext cx="0" cy="65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4610160" y="3958920"/>
                  <a:ext cx="0" cy="65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0" name=""/>
              <p:cNvSpPr/>
              <p:nvPr/>
            </p:nvSpPr>
            <p:spPr>
              <a:xfrm>
                <a:off x="2921040" y="454572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1" name=""/>
              <p:cNvGrpSpPr/>
              <p:nvPr/>
            </p:nvGrpSpPr>
            <p:grpSpPr>
              <a:xfrm>
                <a:off x="3541680" y="3958920"/>
                <a:ext cx="388800" cy="1679400"/>
                <a:chOff x="3541680" y="3958920"/>
                <a:chExt cx="388800" cy="1679400"/>
              </a:xfrm>
            </p:grpSpPr>
            <p:grpSp>
              <p:nvGrpSpPr>
                <p:cNvPr id="1442" name=""/>
                <p:cNvGrpSpPr/>
                <p:nvPr/>
              </p:nvGrpSpPr>
              <p:grpSpPr>
                <a:xfrm>
                  <a:off x="3541680" y="4611960"/>
                  <a:ext cx="388800" cy="372960"/>
                  <a:chOff x="3541680" y="4611960"/>
                  <a:chExt cx="388800" cy="372960"/>
                </a:xfrm>
              </p:grpSpPr>
              <p:sp>
                <p:nvSpPr>
                  <p:cNvPr id="1443" name=""/>
                  <p:cNvSpPr/>
                  <p:nvPr/>
                </p:nvSpPr>
                <p:spPr>
                  <a:xfrm flipV="1">
                    <a:off x="3541680" y="4611960"/>
                    <a:ext cx="388800" cy="3729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3541680" y="4799160"/>
                    <a:ext cx="388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5" name=""/>
                <p:cNvSpPr/>
                <p:nvPr/>
              </p:nvSpPr>
              <p:spPr>
                <a:xfrm>
                  <a:off x="3735720" y="4985280"/>
                  <a:ext cx="0" cy="65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735720" y="3958920"/>
                  <a:ext cx="0" cy="65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3759120" y="5614920"/>
                <a:ext cx="167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413320" y="5567040"/>
                <a:ext cx="11916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562720" y="5342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3498840" y="4555800"/>
                <a:ext cx="0" cy="496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207400" y="4558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86200" y="4534560"/>
                <a:ext cx="76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348440" y="5576040"/>
                <a:ext cx="61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307120" y="3928680"/>
                <a:ext cx="455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57800" y="5105160"/>
                <a:ext cx="45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4572000" y="392256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72000" y="55627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57644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掌握支路电流法、叠加原理和戴维宁定理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电路的基本分析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了解实际电源的两种模型及其等效变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了解非线性电阻元件的伏安特性及静态电阻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动态电阻的概念，以及简单非线性电阻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的图解分析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371600"/>
            <a:ext cx="7029360" cy="171360"/>
            <a:chOff x="990720" y="1371600"/>
            <a:chExt cx="7029360" cy="1713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505240" y="1371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371600"/>
              <a:ext cx="171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819520" y="1371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2962440" y="1371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990720" y="1371600"/>
              <a:ext cx="1390320" cy="171360"/>
              <a:chOff x="990720" y="1371600"/>
              <a:chExt cx="1390320" cy="171360"/>
            </a:xfrm>
          </p:grpSpPr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90720" y="1371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33280" y="1371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95280" y="1371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90480" y="1371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752480" y="1371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05120" y="1371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47680" y="137160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09680" y="1371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47920" y="137160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4"/>
            <a:stretch/>
          </p:blipFill>
          <p:spPr>
            <a:xfrm>
              <a:off x="2362320" y="137160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5"/>
            <a:stretch/>
          </p:blipFill>
          <p:spPr>
            <a:xfrm>
              <a:off x="31240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6"/>
            <a:stretch/>
          </p:blipFill>
          <p:spPr>
            <a:xfrm>
              <a:off x="32767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7"/>
            <a:stretch/>
          </p:blipFill>
          <p:spPr>
            <a:xfrm>
              <a:off x="34196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8"/>
            <a:stretch/>
          </p:blipFill>
          <p:spPr>
            <a:xfrm>
              <a:off x="35812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9"/>
            <a:stretch/>
          </p:blipFill>
          <p:spPr>
            <a:xfrm>
              <a:off x="37339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0"/>
            <a:stretch/>
          </p:blipFill>
          <p:spPr>
            <a:xfrm>
              <a:off x="38768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1"/>
            <a:stretch/>
          </p:blipFill>
          <p:spPr>
            <a:xfrm>
              <a:off x="40384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2"/>
            <a:stretch/>
          </p:blipFill>
          <p:spPr>
            <a:xfrm>
              <a:off x="43340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3"/>
            <a:stretch/>
          </p:blipFill>
          <p:spPr>
            <a:xfrm>
              <a:off x="44956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4"/>
            <a:stretch/>
          </p:blipFill>
          <p:spPr>
            <a:xfrm>
              <a:off x="46483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5"/>
            <a:stretch/>
          </p:blipFill>
          <p:spPr>
            <a:xfrm>
              <a:off x="47912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49528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7"/>
            <a:stretch/>
          </p:blipFill>
          <p:spPr>
            <a:xfrm>
              <a:off x="52484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8"/>
            <a:stretch/>
          </p:blipFill>
          <p:spPr>
            <a:xfrm>
              <a:off x="54100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9"/>
            <a:stretch/>
          </p:blipFill>
          <p:spPr>
            <a:xfrm>
              <a:off x="55627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0"/>
            <a:stretch/>
          </p:blipFill>
          <p:spPr>
            <a:xfrm>
              <a:off x="57056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1"/>
            <a:stretch/>
          </p:blipFill>
          <p:spPr>
            <a:xfrm>
              <a:off x="41911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2"/>
            <a:stretch/>
          </p:blipFill>
          <p:spPr>
            <a:xfrm>
              <a:off x="51055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3"/>
            <a:stretch/>
          </p:blipFill>
          <p:spPr>
            <a:xfrm>
              <a:off x="58672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4"/>
            <a:stretch/>
          </p:blipFill>
          <p:spPr>
            <a:xfrm>
              <a:off x="60199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5"/>
            <a:stretch/>
          </p:blipFill>
          <p:spPr>
            <a:xfrm>
              <a:off x="61628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6"/>
            <a:stretch/>
          </p:blipFill>
          <p:spPr>
            <a:xfrm>
              <a:off x="63244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7"/>
            <a:stretch/>
          </p:blipFill>
          <p:spPr>
            <a:xfrm>
              <a:off x="64771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8"/>
            <a:stretch/>
          </p:blipFill>
          <p:spPr>
            <a:xfrm>
              <a:off x="66200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9"/>
            <a:stretch/>
          </p:blipFill>
          <p:spPr>
            <a:xfrm>
              <a:off x="67816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0"/>
            <a:stretch/>
          </p:blipFill>
          <p:spPr>
            <a:xfrm>
              <a:off x="70772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1"/>
            <a:stretch/>
          </p:blipFill>
          <p:spPr>
            <a:xfrm>
              <a:off x="72388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2"/>
            <a:stretch/>
          </p:blipFill>
          <p:spPr>
            <a:xfrm>
              <a:off x="73915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3"/>
            <a:stretch/>
          </p:blipFill>
          <p:spPr>
            <a:xfrm>
              <a:off x="753444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4"/>
            <a:stretch/>
          </p:blipFill>
          <p:spPr>
            <a:xfrm>
              <a:off x="7696080" y="1371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5"/>
            <a:stretch/>
          </p:blipFill>
          <p:spPr>
            <a:xfrm>
              <a:off x="6934320" y="1371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6"/>
            <a:stretch/>
          </p:blipFill>
          <p:spPr>
            <a:xfrm>
              <a:off x="7848720" y="137160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47"/>
          <a:stretch/>
        </p:blipFill>
        <p:spPr>
          <a:xfrm>
            <a:off x="6934320" y="4952880"/>
            <a:ext cx="1295280" cy="1069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路的分析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106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143000" y="2728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用电压源与电流源等效变换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中的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193500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228600" y="4933800"/>
                <a:ext cx="298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3962520" y="1477800"/>
            <a:ext cx="7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rot="5400000">
            <a:off x="7361280" y="3535560"/>
            <a:ext cx="426960" cy="366480"/>
          </a:xfrm>
          <a:custGeom>
            <a:avLst/>
            <a:gdLst>
              <a:gd name="textAreaLeft" fmla="*/ 53280 w 426960"/>
              <a:gd name="textAreaRight" fmla="*/ 373680 w 426960"/>
              <a:gd name="textAreaTop" fmla="*/ 91440 h 366480"/>
              <a:gd name="textAreaBottom" fmla="*/ 2750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276720" y="3885120"/>
            <a:ext cx="2874960" cy="2517120"/>
            <a:chOff x="3276720" y="3885120"/>
            <a:chExt cx="2874960" cy="2517120"/>
          </a:xfrm>
        </p:grpSpPr>
        <p:sp>
          <p:nvSpPr>
            <p:cNvPr id="1465" name=""/>
            <p:cNvSpPr/>
            <p:nvPr/>
          </p:nvSpPr>
          <p:spPr>
            <a:xfrm>
              <a:off x="4856040" y="388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791520" y="53330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083200" y="4975200"/>
              <a:ext cx="18576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176800" y="5330880"/>
              <a:ext cx="0" cy="62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5176800" y="43524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276720" y="5334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3370320" y="5334120"/>
              <a:ext cx="371520" cy="35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3556080" y="5065200"/>
              <a:ext cx="0" cy="89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3462480" y="4708440"/>
              <a:ext cx="185760" cy="357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3556080" y="4351320"/>
              <a:ext cx="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568680" y="5024520"/>
              <a:ext cx="3729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476960" y="48758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75880" y="44964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 rot="16200000">
              <a:off x="4563720" y="4169520"/>
              <a:ext cx="358920" cy="365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4286160" y="4352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 rot="16200000">
              <a:off x="4012920" y="4169520"/>
              <a:ext cx="181080" cy="365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3556080" y="435276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16200000">
              <a:off x="4299120" y="39402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829320" y="4418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33840" y="4923000"/>
              <a:ext cx="0" cy="5634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457960" y="48758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556080" y="5934240"/>
              <a:ext cx="164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78080" y="594252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67360" y="53164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638880" y="472320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 flipH="1">
            <a:off x="5562720" y="449568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57200" y="4194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由图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(d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8480" y="1325520"/>
            <a:ext cx="4256280" cy="2523960"/>
            <a:chOff x="78480" y="1325520"/>
            <a:chExt cx="4256280" cy="2523960"/>
          </a:xfrm>
        </p:grpSpPr>
        <p:grpSp>
          <p:nvGrpSpPr>
            <p:cNvPr id="1493" name=""/>
            <p:cNvGrpSpPr/>
            <p:nvPr/>
          </p:nvGrpSpPr>
          <p:grpSpPr>
            <a:xfrm>
              <a:off x="78480" y="1325520"/>
              <a:ext cx="4256280" cy="2523960"/>
              <a:chOff x="78480" y="1325520"/>
              <a:chExt cx="4256280" cy="2523960"/>
            </a:xfrm>
          </p:grpSpPr>
          <p:sp>
            <p:nvSpPr>
              <p:cNvPr id="1494" name=""/>
              <p:cNvSpPr/>
              <p:nvPr/>
            </p:nvSpPr>
            <p:spPr>
              <a:xfrm>
                <a:off x="78480" y="2716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45800" y="212760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6" name=""/>
              <p:cNvGrpSpPr/>
              <p:nvPr/>
            </p:nvGrpSpPr>
            <p:grpSpPr>
              <a:xfrm>
                <a:off x="2484000" y="1379520"/>
                <a:ext cx="1015560" cy="352080"/>
                <a:chOff x="2484000" y="1379520"/>
                <a:chExt cx="1015560" cy="3520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2878560" y="1379520"/>
                  <a:ext cx="330840" cy="352080"/>
                  <a:chOff x="2878560" y="1379520"/>
                  <a:chExt cx="330840" cy="3520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 flipV="1" rot="16200000">
                    <a:off x="2867760" y="1389960"/>
                    <a:ext cx="352080" cy="3308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V="1">
                    <a:off x="3044160" y="1379520"/>
                    <a:ext cx="0" cy="352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0" name=""/>
                <p:cNvSpPr/>
                <p:nvPr/>
              </p:nvSpPr>
              <p:spPr>
                <a:xfrm>
                  <a:off x="3209760" y="1577160"/>
                  <a:ext cx="289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flipV="1">
                  <a:off x="2484000" y="1555200"/>
                  <a:ext cx="414360" cy="1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" name=""/>
              <p:cNvSpPr/>
              <p:nvPr/>
            </p:nvSpPr>
            <p:spPr>
              <a:xfrm>
                <a:off x="520560" y="2784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03000" y="2783520"/>
                <a:ext cx="331200" cy="351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769680" y="2522520"/>
                <a:ext cx="0" cy="87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685440" y="2169360"/>
                <a:ext cx="166320" cy="352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769680" y="1817280"/>
                <a:ext cx="0" cy="35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29840" y="2539440"/>
                <a:ext cx="331560" cy="79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88880" y="2784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1472760" y="2783520"/>
                <a:ext cx="330120" cy="351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1636560" y="2522520"/>
                <a:ext cx="0" cy="87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1555560" y="2169360"/>
                <a:ext cx="163080" cy="352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1636560" y="1817280"/>
                <a:ext cx="0" cy="35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311120" y="2577600"/>
                <a:ext cx="326520" cy="79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765440" y="271332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959200" y="16722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69840" y="212760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6200000">
                <a:off x="2897280" y="1980000"/>
                <a:ext cx="173160" cy="345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53960" y="215244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2464920" y="2152440"/>
                <a:ext cx="34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6200000">
                <a:off x="1924920" y="1653840"/>
                <a:ext cx="174600" cy="329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176200" y="181620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769320" y="1816200"/>
                <a:ext cx="1076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500280" y="1839960"/>
                <a:ext cx="31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2820600" y="1325520"/>
                <a:ext cx="4046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87240" y="1544400"/>
                <a:ext cx="0" cy="60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481200" y="1566720"/>
                <a:ext cx="0" cy="60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706560" y="2440080"/>
                <a:ext cx="166320" cy="350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790800" y="27907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790800" y="183024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769320" y="3376440"/>
                <a:ext cx="302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15760" y="134172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545920" y="2219760"/>
                <a:ext cx="83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093840" y="2534040"/>
                <a:ext cx="68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985920" y="2409840"/>
                <a:ext cx="0" cy="5061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35240" y="23468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597680" y="33897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7" name=""/>
            <p:cNvSpPr/>
            <p:nvPr/>
          </p:nvSpPr>
          <p:spPr>
            <a:xfrm>
              <a:off x="1585800" y="176220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600200" y="332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38280" y="175248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429000" y="179856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4572000" y="1202040"/>
            <a:ext cx="4408200" cy="2486880"/>
            <a:chOff x="4572000" y="1202040"/>
            <a:chExt cx="4408200" cy="2486880"/>
          </a:xfrm>
        </p:grpSpPr>
        <p:grpSp>
          <p:nvGrpSpPr>
            <p:cNvPr id="1542" name=""/>
            <p:cNvGrpSpPr/>
            <p:nvPr/>
          </p:nvGrpSpPr>
          <p:grpSpPr>
            <a:xfrm>
              <a:off x="4572000" y="1202040"/>
              <a:ext cx="4408200" cy="2486880"/>
              <a:chOff x="4572000" y="1202040"/>
              <a:chExt cx="4408200" cy="2486880"/>
            </a:xfrm>
          </p:grpSpPr>
          <p:sp>
            <p:nvSpPr>
              <p:cNvPr id="1543" name=""/>
              <p:cNvSpPr/>
              <p:nvPr/>
            </p:nvSpPr>
            <p:spPr>
              <a:xfrm rot="16200000">
                <a:off x="7435800" y="1440720"/>
                <a:ext cx="183960" cy="355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713720" y="1628640"/>
                <a:ext cx="7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4734000" y="1609560"/>
                <a:ext cx="21081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50240" y="1893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75760" y="2262240"/>
                <a:ext cx="177840" cy="369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464680" y="2631960"/>
                <a:ext cx="0" cy="64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8464680" y="1617480"/>
                <a:ext cx="0" cy="64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4572000" y="1619280"/>
                <a:ext cx="353160" cy="1656720"/>
                <a:chOff x="4572000" y="1619280"/>
                <a:chExt cx="353160" cy="1656720"/>
              </a:xfrm>
            </p:grpSpPr>
            <p:grpSp>
              <p:nvGrpSpPr>
                <p:cNvPr id="1551" name=""/>
                <p:cNvGrpSpPr/>
                <p:nvPr/>
              </p:nvGrpSpPr>
              <p:grpSpPr>
                <a:xfrm>
                  <a:off x="4572000" y="2263680"/>
                  <a:ext cx="353160" cy="367920"/>
                  <a:chOff x="4572000" y="2263680"/>
                  <a:chExt cx="353160" cy="367920"/>
                </a:xfrm>
              </p:grpSpPr>
              <p:sp>
                <p:nvSpPr>
                  <p:cNvPr id="1552" name=""/>
                  <p:cNvSpPr/>
                  <p:nvPr/>
                </p:nvSpPr>
                <p:spPr>
                  <a:xfrm flipV="1">
                    <a:off x="4572000" y="2263680"/>
                    <a:ext cx="353160" cy="367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4572000" y="2448000"/>
                    <a:ext cx="35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4" name=""/>
                <p:cNvSpPr/>
                <p:nvPr/>
              </p:nvSpPr>
              <p:spPr>
                <a:xfrm>
                  <a:off x="4748400" y="2631960"/>
                  <a:ext cx="0" cy="64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4748400" y="1619280"/>
                  <a:ext cx="0" cy="64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6" name=""/>
              <p:cNvSpPr/>
              <p:nvPr/>
            </p:nvSpPr>
            <p:spPr>
              <a:xfrm>
                <a:off x="4756680" y="26672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181480" y="2263680"/>
                <a:ext cx="177840" cy="36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270400" y="2631960"/>
                <a:ext cx="0" cy="64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5270400" y="1618920"/>
                <a:ext cx="0" cy="64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flipV="1">
                <a:off x="5013360" y="2163600"/>
                <a:ext cx="1440" cy="56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335920" y="227016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240680" y="170496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788600" y="227484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798320" y="17686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V="1" rot="16200000">
                <a:off x="7944120" y="1439640"/>
                <a:ext cx="367920" cy="355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0800000">
                <a:off x="7660800" y="1233360"/>
                <a:ext cx="3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271000" y="12020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8668800" y="2163600"/>
                <a:ext cx="17640" cy="63792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8680680" y="22971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24280" y="3259080"/>
                <a:ext cx="375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1" name=""/>
              <p:cNvGrpSpPr/>
              <p:nvPr/>
            </p:nvGrpSpPr>
            <p:grpSpPr>
              <a:xfrm>
                <a:off x="5867280" y="1630440"/>
                <a:ext cx="353520" cy="1656360"/>
                <a:chOff x="5867280" y="1630440"/>
                <a:chExt cx="353520" cy="1656360"/>
              </a:xfrm>
            </p:grpSpPr>
            <p:grpSp>
              <p:nvGrpSpPr>
                <p:cNvPr id="1572" name=""/>
                <p:cNvGrpSpPr/>
                <p:nvPr/>
              </p:nvGrpSpPr>
              <p:grpSpPr>
                <a:xfrm>
                  <a:off x="5867280" y="2274480"/>
                  <a:ext cx="353520" cy="367920"/>
                  <a:chOff x="5867280" y="2274480"/>
                  <a:chExt cx="353520" cy="36792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V="1">
                    <a:off x="5867280" y="2274480"/>
                    <a:ext cx="353520" cy="367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5867280" y="2458800"/>
                    <a:ext cx="35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5" name=""/>
                <p:cNvSpPr/>
                <p:nvPr/>
              </p:nvSpPr>
              <p:spPr>
                <a:xfrm>
                  <a:off x="6044040" y="2643120"/>
                  <a:ext cx="0" cy="643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044040" y="1630440"/>
                  <a:ext cx="0" cy="64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7" name=""/>
              <p:cNvSpPr/>
              <p:nvPr/>
            </p:nvSpPr>
            <p:spPr>
              <a:xfrm>
                <a:off x="6051960" y="26780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477120" y="2274840"/>
                <a:ext cx="177840" cy="36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566040" y="2643120"/>
                <a:ext cx="0" cy="64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6566040" y="1630080"/>
                <a:ext cx="0" cy="64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 flipV="1">
                <a:off x="6308280" y="2174760"/>
                <a:ext cx="1800" cy="56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31200" y="228132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6200000">
                <a:off x="6893280" y="1436400"/>
                <a:ext cx="183600" cy="355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162920" y="163044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707520" y="170496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402240" y="3229200"/>
                <a:ext cx="5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5227560" y="156852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224320" y="320184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05520" y="15652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05520" y="321300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19960" y="15652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519960" y="32194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6014880" y="3808800"/>
            <a:ext cx="2965320" cy="2580480"/>
            <a:chOff x="6014880" y="3808800"/>
            <a:chExt cx="2965320" cy="2580480"/>
          </a:xfrm>
        </p:grpSpPr>
        <p:grpSp>
          <p:nvGrpSpPr>
            <p:cNvPr id="1594" name=""/>
            <p:cNvGrpSpPr/>
            <p:nvPr/>
          </p:nvGrpSpPr>
          <p:grpSpPr>
            <a:xfrm>
              <a:off x="6014880" y="3808800"/>
              <a:ext cx="2965320" cy="2580480"/>
              <a:chOff x="6014880" y="3808800"/>
              <a:chExt cx="2965320" cy="2580480"/>
            </a:xfrm>
          </p:grpSpPr>
          <p:grpSp>
            <p:nvGrpSpPr>
              <p:cNvPr id="1595" name=""/>
              <p:cNvGrpSpPr/>
              <p:nvPr/>
            </p:nvGrpSpPr>
            <p:grpSpPr>
              <a:xfrm>
                <a:off x="6014880" y="4273200"/>
                <a:ext cx="353520" cy="1657080"/>
                <a:chOff x="6014880" y="4273200"/>
                <a:chExt cx="353520" cy="1657080"/>
              </a:xfrm>
            </p:grpSpPr>
            <p:grpSp>
              <p:nvGrpSpPr>
                <p:cNvPr id="1596" name=""/>
                <p:cNvGrpSpPr/>
                <p:nvPr/>
              </p:nvGrpSpPr>
              <p:grpSpPr>
                <a:xfrm>
                  <a:off x="6014880" y="4917600"/>
                  <a:ext cx="353520" cy="367920"/>
                  <a:chOff x="6014880" y="4917600"/>
                  <a:chExt cx="353520" cy="367920"/>
                </a:xfrm>
              </p:grpSpPr>
              <p:sp>
                <p:nvSpPr>
                  <p:cNvPr id="1597" name=""/>
                  <p:cNvSpPr/>
                  <p:nvPr/>
                </p:nvSpPr>
                <p:spPr>
                  <a:xfrm flipV="1">
                    <a:off x="6014880" y="4917600"/>
                    <a:ext cx="353520" cy="367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6014880" y="5101920"/>
                    <a:ext cx="35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9" name=""/>
                <p:cNvSpPr/>
                <p:nvPr/>
              </p:nvSpPr>
              <p:spPr>
                <a:xfrm>
                  <a:off x="6191640" y="5286240"/>
                  <a:ext cx="0" cy="64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191640" y="4273200"/>
                  <a:ext cx="0" cy="64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326640" y="53215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6200000">
                <a:off x="7208640" y="4095360"/>
                <a:ext cx="184320" cy="355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473960" y="4275000"/>
                <a:ext cx="99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6192720" y="4271760"/>
                <a:ext cx="928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856560" y="4917960"/>
                <a:ext cx="17748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945480" y="5286240"/>
                <a:ext cx="0" cy="64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6945480" y="4272840"/>
                <a:ext cx="0" cy="64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 flipV="1">
                <a:off x="6455880" y="4817520"/>
                <a:ext cx="1800" cy="5619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864560" y="4547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375760" y="4916160"/>
                <a:ext cx="177840" cy="370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464680" y="5286240"/>
                <a:ext cx="0" cy="64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8464680" y="4271760"/>
                <a:ext cx="0" cy="64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37640" y="492480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004160" y="433080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788600" y="492948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798320" y="44229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 rot="16200000">
                <a:off x="7858080" y="4092840"/>
                <a:ext cx="368280" cy="355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16200000">
                <a:off x="7532640" y="38876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177040" y="380880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669160" y="4846320"/>
                <a:ext cx="0" cy="6858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680680" y="495180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27640" y="5913000"/>
                <a:ext cx="224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63640" y="592956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6894360" y="422748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908760" y="58672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2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138240" y="279360"/>
            <a:ext cx="1492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52280" y="3276720"/>
            <a:ext cx="4259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电源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28880" y="307800"/>
            <a:ext cx="77342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用电压源与电流源等效变换的方法计算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中的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876920" y="4970520"/>
            <a:ext cx="563400" cy="311040"/>
          </a:xfrm>
          <a:custGeom>
            <a:avLst/>
            <a:gdLst>
              <a:gd name="textAreaLeft" fmla="*/ 70200 w 563400"/>
              <a:gd name="textAreaRight" fmla="*/ 493200 w 5634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2437920" y="899640"/>
            <a:ext cx="5356440" cy="2410200"/>
            <a:chOff x="2437920" y="899640"/>
            <a:chExt cx="5356440" cy="2410200"/>
          </a:xfrm>
        </p:grpSpPr>
        <p:grpSp>
          <p:nvGrpSpPr>
            <p:cNvPr id="1631" name=""/>
            <p:cNvGrpSpPr/>
            <p:nvPr/>
          </p:nvGrpSpPr>
          <p:grpSpPr>
            <a:xfrm>
              <a:off x="2437920" y="899640"/>
              <a:ext cx="5356440" cy="2376360"/>
              <a:chOff x="2437920" y="899640"/>
              <a:chExt cx="5356440" cy="2376360"/>
            </a:xfrm>
          </p:grpSpPr>
          <p:sp>
            <p:nvSpPr>
              <p:cNvPr id="1632" name=""/>
              <p:cNvSpPr/>
              <p:nvPr/>
            </p:nvSpPr>
            <p:spPr>
              <a:xfrm>
                <a:off x="5323680" y="899640"/>
                <a:ext cx="66132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"/>
              <p:cNvGrpSpPr/>
              <p:nvPr/>
            </p:nvGrpSpPr>
            <p:grpSpPr>
              <a:xfrm>
                <a:off x="2437920" y="1433520"/>
                <a:ext cx="5356440" cy="1842480"/>
                <a:chOff x="2437920" y="1433520"/>
                <a:chExt cx="5356440" cy="1842480"/>
              </a:xfrm>
            </p:grpSpPr>
            <p:sp>
              <p:nvSpPr>
                <p:cNvPr id="1634" name=""/>
                <p:cNvSpPr/>
                <p:nvPr/>
              </p:nvSpPr>
              <p:spPr>
                <a:xfrm>
                  <a:off x="3099240" y="2209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185640" y="1822680"/>
                  <a:ext cx="345600" cy="38664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359160" y="1529640"/>
                  <a:ext cx="0" cy="97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273120" y="2500200"/>
                  <a:ext cx="172080" cy="388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359160" y="2889000"/>
                  <a:ext cx="0" cy="387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038400" y="1558080"/>
                  <a:ext cx="34092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4177800" y="2208600"/>
                  <a:ext cx="344160" cy="3870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177800" y="2404080"/>
                  <a:ext cx="3441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4349880" y="2596680"/>
                  <a:ext cx="0" cy="67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349880" y="1529640"/>
                  <a:ext cx="0" cy="67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040000" y="2198880"/>
                  <a:ext cx="172080" cy="383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126040" y="2582280"/>
                  <a:ext cx="0" cy="66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V="1">
                  <a:off x="5126040" y="1529640"/>
                  <a:ext cx="0" cy="66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6200000">
                  <a:off x="5590800" y="1358280"/>
                  <a:ext cx="194040" cy="344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858640" y="1528200"/>
                  <a:ext cx="1425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3359160" y="1528200"/>
                  <a:ext cx="21549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246720" y="2209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6332760" y="1822680"/>
                  <a:ext cx="345600" cy="38664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6504840" y="1529640"/>
                  <a:ext cx="0" cy="97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6418800" y="2500200"/>
                  <a:ext cx="172080" cy="388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6504840" y="2889000"/>
                  <a:ext cx="0" cy="387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6158880" y="1648440"/>
                  <a:ext cx="345600" cy="76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lnSpc>
                      <a:spcPct val="65000"/>
                    </a:lnSpc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5000"/>
                    </a:lnSpc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7173000" y="2209320"/>
                  <a:ext cx="172080" cy="3870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7259040" y="2596680"/>
                  <a:ext cx="0" cy="67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V="1">
                  <a:off x="7259040" y="1529280"/>
                  <a:ext cx="0" cy="67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337560" y="3251520"/>
                  <a:ext cx="3921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581200" y="1771200"/>
                  <a:ext cx="569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6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817960" y="1721520"/>
                  <a:ext cx="569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4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V="1">
                  <a:off x="4113360" y="1822680"/>
                  <a:ext cx="0" cy="593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7477560" y="1578600"/>
                  <a:ext cx="3168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3779280" y="2451600"/>
                  <a:ext cx="569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7475400" y="1627920"/>
                  <a:ext cx="0" cy="63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437920" y="2473560"/>
                  <a:ext cx="8136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</a:rPr>
                    <a:t>3 </a:t>
                  </a:r>
                  <a:r>
                    <a:rPr b="1" lang="zh-CN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540040" y="2520000"/>
                  <a:ext cx="8136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</a:rPr>
                    <a:t>4 </a:t>
                  </a:r>
                  <a:r>
                    <a:rPr b="1" lang="zh-CN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4333680" y="2566440"/>
                  <a:ext cx="8136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</a:rPr>
                    <a:t>6 </a:t>
                  </a:r>
                  <a:r>
                    <a:rPr b="1" lang="zh-CN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593760" y="2473560"/>
                  <a:ext cx="6613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r>
                    <a:rPr b="1" lang="en-US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0" name=""/>
            <p:cNvSpPr/>
            <p:nvPr/>
          </p:nvSpPr>
          <p:spPr>
            <a:xfrm>
              <a:off x="4303800" y="14828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303800" y="32194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81760" y="14828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91120" y="321300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462720" y="14828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62720" y="321300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-9360" y="3687120"/>
            <a:ext cx="4973760" cy="2196000"/>
            <a:chOff x="-9360" y="3687120"/>
            <a:chExt cx="4973760" cy="2196000"/>
          </a:xfrm>
        </p:grpSpPr>
        <p:sp>
          <p:nvSpPr>
            <p:cNvPr id="1677" name=""/>
            <p:cNvSpPr/>
            <p:nvPr/>
          </p:nvSpPr>
          <p:spPr>
            <a:xfrm>
              <a:off x="2316240" y="4863960"/>
              <a:ext cx="15876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395440" y="5219640"/>
              <a:ext cx="0" cy="62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2395440" y="4238280"/>
              <a:ext cx="0" cy="62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1846440" y="4886280"/>
              <a:ext cx="313920" cy="357120"/>
              <a:chOff x="1846440" y="4886280"/>
              <a:chExt cx="313920" cy="357120"/>
            </a:xfrm>
          </p:grpSpPr>
          <p:sp>
            <p:nvSpPr>
              <p:cNvPr id="1681" name=""/>
              <p:cNvSpPr/>
              <p:nvPr/>
            </p:nvSpPr>
            <p:spPr>
              <a:xfrm flipV="1">
                <a:off x="1846440" y="4886280"/>
                <a:ext cx="313920" cy="3571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846440" y="5065560"/>
                <a:ext cx="31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3" name=""/>
            <p:cNvSpPr/>
            <p:nvPr/>
          </p:nvSpPr>
          <p:spPr>
            <a:xfrm>
              <a:off x="2003400" y="524340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03400" y="426240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1731960" y="485604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413000" y="5223960"/>
              <a:ext cx="5698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8960" y="4565160"/>
              <a:ext cx="5850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25320" y="4453920"/>
              <a:ext cx="5850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157400" y="4863960"/>
              <a:ext cx="15552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35160" y="5219640"/>
              <a:ext cx="0" cy="62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1235160" y="4238280"/>
              <a:ext cx="0" cy="62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2" name=""/>
            <p:cNvGrpSpPr/>
            <p:nvPr/>
          </p:nvGrpSpPr>
          <p:grpSpPr>
            <a:xfrm>
              <a:off x="587520" y="4886280"/>
              <a:ext cx="313920" cy="357120"/>
              <a:chOff x="587520" y="4886280"/>
              <a:chExt cx="313920" cy="357120"/>
            </a:xfrm>
          </p:grpSpPr>
          <p:sp>
            <p:nvSpPr>
              <p:cNvPr id="1693" name=""/>
              <p:cNvSpPr/>
              <p:nvPr/>
            </p:nvSpPr>
            <p:spPr>
              <a:xfrm flipV="1">
                <a:off x="587520" y="4886280"/>
                <a:ext cx="313920" cy="3571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87520" y="5065560"/>
                <a:ext cx="31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746280" y="524340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46280" y="426240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515880" y="4820760"/>
              <a:ext cx="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-9360" y="4876200"/>
              <a:ext cx="5698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rot="16200000">
              <a:off x="2739960" y="4103640"/>
              <a:ext cx="177840" cy="31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 anchorCtr="1" vert="eaVert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986200" y="4260960"/>
              <a:ext cx="31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354040" y="426096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46280" y="4253040"/>
              <a:ext cx="184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241800" y="4262400"/>
              <a:ext cx="11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60960" y="4871880"/>
              <a:ext cx="190440" cy="362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356000" y="5234040"/>
              <a:ext cx="0" cy="63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4356000" y="4238280"/>
              <a:ext cx="0" cy="63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63560" y="5837400"/>
              <a:ext cx="360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19080" y="5023800"/>
              <a:ext cx="316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518000" y="5065560"/>
              <a:ext cx="0" cy="58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677760" y="4453920"/>
              <a:ext cx="5850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87320" y="3687120"/>
              <a:ext cx="5850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379400" y="4420800"/>
              <a:ext cx="5850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613320" y="4863960"/>
              <a:ext cx="15876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692520" y="5219640"/>
              <a:ext cx="0" cy="62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3692520" y="4238280"/>
              <a:ext cx="0" cy="62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3122640" y="4238640"/>
              <a:ext cx="312480" cy="1606320"/>
              <a:chOff x="3122640" y="4238640"/>
              <a:chExt cx="312480" cy="1606320"/>
            </a:xfrm>
          </p:grpSpPr>
          <p:grpSp>
            <p:nvGrpSpPr>
              <p:cNvPr id="1717" name=""/>
              <p:cNvGrpSpPr/>
              <p:nvPr/>
            </p:nvGrpSpPr>
            <p:grpSpPr>
              <a:xfrm>
                <a:off x="3122640" y="4863600"/>
                <a:ext cx="312480" cy="355320"/>
                <a:chOff x="3122640" y="4863600"/>
                <a:chExt cx="312480" cy="355320"/>
              </a:xfrm>
            </p:grpSpPr>
            <p:sp>
              <p:nvSpPr>
                <p:cNvPr id="1718" name=""/>
                <p:cNvSpPr/>
                <p:nvPr/>
              </p:nvSpPr>
              <p:spPr>
                <a:xfrm flipV="1">
                  <a:off x="3122640" y="4863240"/>
                  <a:ext cx="312480" cy="35532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 rot="10800000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122640" y="5042160"/>
                  <a:ext cx="3124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>
                <a:off x="3279600" y="5219640"/>
                <a:ext cx="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279600" y="4238640"/>
                <a:ext cx="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2" name=""/>
            <p:cNvSpPr/>
            <p:nvPr/>
          </p:nvSpPr>
          <p:spPr>
            <a:xfrm flipV="1">
              <a:off x="3016080" y="4788000"/>
              <a:ext cx="0" cy="43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765520" y="5179680"/>
              <a:ext cx="5698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179360" y="421020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187280" y="578628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960560" y="42102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362320" y="42102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963800" y="57913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347920" y="57913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235320" y="42102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238560" y="57927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641760" y="42130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43200" y="579132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5562720" y="3730320"/>
            <a:ext cx="3501000" cy="2151360"/>
            <a:chOff x="5562720" y="3730320"/>
            <a:chExt cx="3501000" cy="2151360"/>
          </a:xfrm>
        </p:grpSpPr>
        <p:grpSp>
          <p:nvGrpSpPr>
            <p:cNvPr id="1735" name=""/>
            <p:cNvGrpSpPr/>
            <p:nvPr/>
          </p:nvGrpSpPr>
          <p:grpSpPr>
            <a:xfrm>
              <a:off x="5562720" y="3730320"/>
              <a:ext cx="3501000" cy="2136240"/>
              <a:chOff x="5562720" y="3730320"/>
              <a:chExt cx="3501000" cy="2136240"/>
            </a:xfrm>
          </p:grpSpPr>
          <p:grpSp>
            <p:nvGrpSpPr>
              <p:cNvPr id="1736" name=""/>
              <p:cNvGrpSpPr/>
              <p:nvPr/>
            </p:nvGrpSpPr>
            <p:grpSpPr>
              <a:xfrm>
                <a:off x="5562720" y="3730320"/>
                <a:ext cx="3501000" cy="2136240"/>
                <a:chOff x="5562720" y="3730320"/>
                <a:chExt cx="3501000" cy="2136240"/>
              </a:xfrm>
            </p:grpSpPr>
            <p:sp>
              <p:nvSpPr>
                <p:cNvPr id="1737" name=""/>
                <p:cNvSpPr/>
                <p:nvPr/>
              </p:nvSpPr>
              <p:spPr>
                <a:xfrm rot="16200000">
                  <a:off x="6774120" y="4158000"/>
                  <a:ext cx="171360" cy="3240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V="1">
                  <a:off x="7020000" y="4300920"/>
                  <a:ext cx="1413000" cy="1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>
                  <a:off x="5824800" y="4316760"/>
                  <a:ext cx="869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0" name=""/>
                <p:cNvGrpSpPr/>
                <p:nvPr/>
              </p:nvGrpSpPr>
              <p:grpSpPr>
                <a:xfrm>
                  <a:off x="8336160" y="4297320"/>
                  <a:ext cx="161640" cy="1548360"/>
                  <a:chOff x="8336160" y="4297320"/>
                  <a:chExt cx="161640" cy="1548360"/>
                </a:xfrm>
              </p:grpSpPr>
              <p:sp>
                <p:nvSpPr>
                  <p:cNvPr id="1741" name=""/>
                  <p:cNvSpPr/>
                  <p:nvPr/>
                </p:nvSpPr>
                <p:spPr>
                  <a:xfrm>
                    <a:off x="8336160" y="4899240"/>
                    <a:ext cx="161640" cy="3448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8640" rIns="98640" tIns="49320" bIns="49320" anchor="ctr">
                    <a:noAutofit/>
                  </a:bodyPr>
                  <a:p>
                    <a:pPr algn="ctr"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8417160" y="5244120"/>
                    <a:ext cx="0" cy="601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 flipV="1">
                    <a:off x="8417160" y="4297320"/>
                    <a:ext cx="0" cy="601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4" name=""/>
                <p:cNvSpPr/>
                <p:nvPr/>
              </p:nvSpPr>
              <p:spPr>
                <a:xfrm>
                  <a:off x="5824800" y="5846400"/>
                  <a:ext cx="2608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613720" y="4278960"/>
                  <a:ext cx="3168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618760" y="4318560"/>
                  <a:ext cx="0" cy="55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7750080" y="4433400"/>
                  <a:ext cx="5850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562440" y="3730320"/>
                  <a:ext cx="5850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8478720" y="4834440"/>
                  <a:ext cx="5850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0" name=""/>
                <p:cNvGrpSpPr/>
                <p:nvPr/>
              </p:nvGrpSpPr>
              <p:grpSpPr>
                <a:xfrm>
                  <a:off x="7667640" y="4297320"/>
                  <a:ext cx="161640" cy="1548360"/>
                  <a:chOff x="7667640" y="4297320"/>
                  <a:chExt cx="161640" cy="154836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>
                    <a:off x="7667640" y="4899240"/>
                    <a:ext cx="161640" cy="3448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8640" rIns="98640" tIns="49320" bIns="49320" anchor="ctr">
                    <a:noAutofit/>
                  </a:bodyPr>
                  <a:p>
                    <a:pPr algn="ctr"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7748280" y="5244120"/>
                    <a:ext cx="0" cy="601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7748280" y="4297320"/>
                    <a:ext cx="0" cy="601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7161480" y="4297680"/>
                  <a:ext cx="322920" cy="1548000"/>
                  <a:chOff x="7161480" y="4297680"/>
                  <a:chExt cx="322920" cy="1548000"/>
                </a:xfrm>
              </p:grpSpPr>
              <p:grpSp>
                <p:nvGrpSpPr>
                  <p:cNvPr id="1755" name=""/>
                  <p:cNvGrpSpPr/>
                  <p:nvPr/>
                </p:nvGrpSpPr>
                <p:grpSpPr>
                  <a:xfrm>
                    <a:off x="7161480" y="4899600"/>
                    <a:ext cx="322920" cy="344520"/>
                    <a:chOff x="7161480" y="4899600"/>
                    <a:chExt cx="322920" cy="344520"/>
                  </a:xfrm>
                </p:grpSpPr>
                <p:sp>
                  <p:nvSpPr>
                    <p:cNvPr id="1756" name=""/>
                    <p:cNvSpPr/>
                    <p:nvPr/>
                  </p:nvSpPr>
                  <p:spPr>
                    <a:xfrm flipV="1">
                      <a:off x="7161480" y="4899240"/>
                      <a:ext cx="322920" cy="34452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7" name=""/>
                    <p:cNvSpPr/>
                    <p:nvPr/>
                  </p:nvSpPr>
                  <p:spPr>
                    <a:xfrm>
                      <a:off x="7161480" y="5072040"/>
                      <a:ext cx="322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8" name=""/>
                  <p:cNvSpPr/>
                  <p:nvPr/>
                </p:nvSpPr>
                <p:spPr>
                  <a:xfrm>
                    <a:off x="7322760" y="5244120"/>
                    <a:ext cx="0" cy="601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7322760" y="4297680"/>
                    <a:ext cx="0" cy="601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0" name=""/>
                <p:cNvSpPr/>
                <p:nvPr/>
              </p:nvSpPr>
              <p:spPr>
                <a:xfrm flipV="1">
                  <a:off x="7074000" y="4827960"/>
                  <a:ext cx="0" cy="41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723360" y="5192280"/>
                  <a:ext cx="569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5662800" y="4318560"/>
                  <a:ext cx="322920" cy="1548000"/>
                  <a:chOff x="5662800" y="4318560"/>
                  <a:chExt cx="322920" cy="1548000"/>
                </a:xfrm>
              </p:grpSpPr>
              <p:grpSp>
                <p:nvGrpSpPr>
                  <p:cNvPr id="1763" name=""/>
                  <p:cNvGrpSpPr/>
                  <p:nvPr/>
                </p:nvGrpSpPr>
                <p:grpSpPr>
                  <a:xfrm>
                    <a:off x="5662800" y="4919760"/>
                    <a:ext cx="322920" cy="344880"/>
                    <a:chOff x="5662800" y="4919760"/>
                    <a:chExt cx="322920" cy="344880"/>
                  </a:xfrm>
                </p:grpSpPr>
                <p:sp>
                  <p:nvSpPr>
                    <p:cNvPr id="1764" name=""/>
                    <p:cNvSpPr/>
                    <p:nvPr/>
                  </p:nvSpPr>
                  <p:spPr>
                    <a:xfrm flipV="1">
                      <a:off x="5662800" y="4919760"/>
                      <a:ext cx="322920" cy="3448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5662800" y="5092560"/>
                      <a:ext cx="322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6" name=""/>
                  <p:cNvSpPr/>
                  <p:nvPr/>
                </p:nvSpPr>
                <p:spPr>
                  <a:xfrm>
                    <a:off x="5824080" y="5265360"/>
                    <a:ext cx="0" cy="601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5824080" y="4318560"/>
                    <a:ext cx="0" cy="601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8" name=""/>
                <p:cNvSpPr/>
                <p:nvPr/>
              </p:nvSpPr>
              <p:spPr>
                <a:xfrm flipV="1">
                  <a:off x="5562720" y="4860360"/>
                  <a:ext cx="0" cy="41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6289920" y="4316760"/>
                  <a:ext cx="161280" cy="1548360"/>
                  <a:chOff x="6289920" y="4316760"/>
                  <a:chExt cx="161280" cy="154836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6289920" y="4917960"/>
                    <a:ext cx="161280" cy="34560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8640" rIns="98640" tIns="49320" bIns="49320" anchor="ctr">
                    <a:noAutofit/>
                  </a:bodyPr>
                  <a:p>
                    <a:pPr algn="ctr"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6370560" y="5263920"/>
                    <a:ext cx="0" cy="601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 flipV="1">
                    <a:off x="6370560" y="4316760"/>
                    <a:ext cx="0" cy="601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6394320" y="4433400"/>
                  <a:ext cx="5850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4" name=""/>
              <p:cNvSpPr/>
              <p:nvPr/>
            </p:nvSpPr>
            <p:spPr>
              <a:xfrm>
                <a:off x="5737320" y="518112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6310440" y="42670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326280" y="57913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280280" y="42642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280280" y="57913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82040" y="42530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93200" y="57913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3124080" y="5319720"/>
                <a:ext cx="32482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2" name=""/>
          <p:cNvSpPr/>
          <p:nvPr/>
        </p:nvSpPr>
        <p:spPr>
          <a:xfrm>
            <a:off x="4572000" y="1905120"/>
            <a:ext cx="563400" cy="311040"/>
          </a:xfrm>
          <a:custGeom>
            <a:avLst/>
            <a:gdLst>
              <a:gd name="textAreaLeft" fmla="*/ 70200 w 563400"/>
              <a:gd name="textAreaRight" fmla="*/ 493200 w 5634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0880" y="4645080"/>
            <a:ext cx="563760" cy="311040"/>
          </a:xfrm>
          <a:custGeom>
            <a:avLst/>
            <a:gdLst>
              <a:gd name="textAreaLeft" fmla="*/ 70200 w 563760"/>
              <a:gd name="textAreaRight" fmla="*/ 493560 w 56376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029200" y="4114800"/>
            <a:ext cx="563400" cy="311040"/>
          </a:xfrm>
          <a:custGeom>
            <a:avLst/>
            <a:gdLst>
              <a:gd name="textAreaLeft" fmla="*/ 70200 w 563400"/>
              <a:gd name="textAreaRight" fmla="*/ 493200 w 5634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380880" y="457200"/>
            <a:ext cx="4032720" cy="2452680"/>
            <a:chOff x="380880" y="457200"/>
            <a:chExt cx="4032720" cy="2452680"/>
          </a:xfrm>
        </p:grpSpPr>
        <p:sp>
          <p:nvSpPr>
            <p:cNvPr id="1786" name=""/>
            <p:cNvSpPr/>
            <p:nvPr/>
          </p:nvSpPr>
          <p:spPr>
            <a:xfrm>
              <a:off x="380880" y="457200"/>
              <a:ext cx="12826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387360" y="532800"/>
              <a:ext cx="4026240" cy="2342520"/>
              <a:chOff x="387360" y="532800"/>
              <a:chExt cx="4026240" cy="2342520"/>
            </a:xfrm>
          </p:grpSpPr>
          <p:sp>
            <p:nvSpPr>
              <p:cNvPr id="1788" name=""/>
              <p:cNvSpPr/>
              <p:nvPr/>
            </p:nvSpPr>
            <p:spPr>
              <a:xfrm rot="16200000">
                <a:off x="1980360" y="986760"/>
                <a:ext cx="189720" cy="347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 anchorCtr="1" vert="eaVert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2247480" y="1139400"/>
                <a:ext cx="1512720" cy="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969120" y="1157400"/>
                <a:ext cx="9306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3654720" y="1136160"/>
                <a:ext cx="173880" cy="1716840"/>
                <a:chOff x="3654720" y="1136160"/>
                <a:chExt cx="173880" cy="1716840"/>
              </a:xfrm>
            </p:grpSpPr>
            <p:sp>
              <p:nvSpPr>
                <p:cNvPr id="1792" name=""/>
                <p:cNvSpPr/>
                <p:nvPr/>
              </p:nvSpPr>
              <p:spPr>
                <a:xfrm>
                  <a:off x="3654720" y="1802880"/>
                  <a:ext cx="173880" cy="383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741840" y="2186280"/>
                  <a:ext cx="0" cy="66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3741840" y="1136160"/>
                  <a:ext cx="0" cy="66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5" name=""/>
              <p:cNvSpPr/>
              <p:nvPr/>
            </p:nvSpPr>
            <p:spPr>
              <a:xfrm>
                <a:off x="969480" y="2853720"/>
                <a:ext cx="27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996360" y="1139040"/>
                <a:ext cx="31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958560" y="1159200"/>
                <a:ext cx="0" cy="619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048840" y="131580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76960" y="53280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828600" y="175824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1" name=""/>
              <p:cNvGrpSpPr/>
              <p:nvPr/>
            </p:nvGrpSpPr>
            <p:grpSpPr>
              <a:xfrm>
                <a:off x="2940120" y="1136160"/>
                <a:ext cx="172080" cy="1716840"/>
                <a:chOff x="2940120" y="1136160"/>
                <a:chExt cx="172080" cy="171684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2940120" y="1802880"/>
                  <a:ext cx="172080" cy="383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3025800" y="2186280"/>
                  <a:ext cx="0" cy="66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>
                  <a:off x="3025800" y="1136160"/>
                  <a:ext cx="0" cy="66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5" name=""/>
              <p:cNvGrpSpPr/>
              <p:nvPr/>
            </p:nvGrpSpPr>
            <p:grpSpPr>
              <a:xfrm>
                <a:off x="2280960" y="1136160"/>
                <a:ext cx="463320" cy="1716480"/>
                <a:chOff x="2280960" y="1136160"/>
                <a:chExt cx="463320" cy="1716480"/>
              </a:xfrm>
            </p:grpSpPr>
            <p:grpSp>
              <p:nvGrpSpPr>
                <p:cNvPr id="1806" name=""/>
                <p:cNvGrpSpPr/>
                <p:nvPr/>
              </p:nvGrpSpPr>
              <p:grpSpPr>
                <a:xfrm>
                  <a:off x="2398320" y="1136160"/>
                  <a:ext cx="345960" cy="1716480"/>
                  <a:chOff x="2398320" y="1136160"/>
                  <a:chExt cx="345960" cy="1716480"/>
                </a:xfrm>
              </p:grpSpPr>
              <p:grpSp>
                <p:nvGrpSpPr>
                  <p:cNvPr id="1807" name=""/>
                  <p:cNvGrpSpPr/>
                  <p:nvPr/>
                </p:nvGrpSpPr>
                <p:grpSpPr>
                  <a:xfrm>
                    <a:off x="2398320" y="1803240"/>
                    <a:ext cx="345960" cy="382680"/>
                    <a:chOff x="2398320" y="1803240"/>
                    <a:chExt cx="345960" cy="382680"/>
                  </a:xfrm>
                </p:grpSpPr>
                <p:sp>
                  <p:nvSpPr>
                    <p:cNvPr id="1808" name=""/>
                    <p:cNvSpPr/>
                    <p:nvPr/>
                  </p:nvSpPr>
                  <p:spPr>
                    <a:xfrm flipV="1">
                      <a:off x="2398320" y="1802880"/>
                      <a:ext cx="345960" cy="3826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>
                      <a:off x="2398320" y="1994760"/>
                      <a:ext cx="3459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0" name=""/>
                  <p:cNvSpPr/>
                  <p:nvPr/>
                </p:nvSpPr>
                <p:spPr>
                  <a:xfrm>
                    <a:off x="2571120" y="2185920"/>
                    <a:ext cx="0" cy="66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2571120" y="1136160"/>
                    <a:ext cx="0" cy="66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2" name=""/>
                <p:cNvSpPr/>
                <p:nvPr/>
              </p:nvSpPr>
              <p:spPr>
                <a:xfrm flipV="1">
                  <a:off x="2280960" y="1728720"/>
                  <a:ext cx="0" cy="46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"/>
              <p:cNvSpPr/>
              <p:nvPr/>
            </p:nvSpPr>
            <p:spPr>
              <a:xfrm>
                <a:off x="1983960" y="216972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82200" y="1159200"/>
                <a:ext cx="458640" cy="1716120"/>
                <a:chOff x="682200" y="1159200"/>
                <a:chExt cx="458640" cy="1716120"/>
              </a:xfrm>
            </p:grpSpPr>
            <p:grpSp>
              <p:nvGrpSpPr>
                <p:cNvPr id="1815" name=""/>
                <p:cNvGrpSpPr/>
                <p:nvPr/>
              </p:nvGrpSpPr>
              <p:grpSpPr>
                <a:xfrm>
                  <a:off x="795960" y="1159200"/>
                  <a:ext cx="344880" cy="1716120"/>
                  <a:chOff x="795960" y="1159200"/>
                  <a:chExt cx="344880" cy="1716120"/>
                </a:xfrm>
              </p:grpSpPr>
              <p:grpSp>
                <p:nvGrpSpPr>
                  <p:cNvPr id="1816" name=""/>
                  <p:cNvGrpSpPr/>
                  <p:nvPr/>
                </p:nvGrpSpPr>
                <p:grpSpPr>
                  <a:xfrm>
                    <a:off x="795960" y="1825920"/>
                    <a:ext cx="344880" cy="382680"/>
                    <a:chOff x="795960" y="1825920"/>
                    <a:chExt cx="344880" cy="382680"/>
                  </a:xfrm>
                </p:grpSpPr>
                <p:sp>
                  <p:nvSpPr>
                    <p:cNvPr id="1817" name=""/>
                    <p:cNvSpPr/>
                    <p:nvPr/>
                  </p:nvSpPr>
                  <p:spPr>
                    <a:xfrm flipV="1">
                      <a:off x="795960" y="1825560"/>
                      <a:ext cx="344880" cy="3826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8" name=""/>
                    <p:cNvSpPr/>
                    <p:nvPr/>
                  </p:nvSpPr>
                  <p:spPr>
                    <a:xfrm>
                      <a:off x="795960" y="2017440"/>
                      <a:ext cx="3448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9" name=""/>
                  <p:cNvSpPr/>
                  <p:nvPr/>
                </p:nvSpPr>
                <p:spPr>
                  <a:xfrm>
                    <a:off x="968400" y="2208960"/>
                    <a:ext cx="0" cy="666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968400" y="1159200"/>
                    <a:ext cx="0" cy="666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1" name=""/>
                <p:cNvSpPr/>
                <p:nvPr/>
              </p:nvSpPr>
              <p:spPr>
                <a:xfrm flipV="1">
                  <a:off x="682200" y="1728720"/>
                  <a:ext cx="0" cy="46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67360" y="1157400"/>
                <a:ext cx="172080" cy="1716840"/>
                <a:chOff x="1467360" y="1157400"/>
                <a:chExt cx="172080" cy="17168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467360" y="1824120"/>
                  <a:ext cx="172080" cy="383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53400" y="2207520"/>
                  <a:ext cx="0" cy="66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V="1">
                  <a:off x="1553400" y="1157400"/>
                  <a:ext cx="0" cy="66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6" name=""/>
              <p:cNvSpPr/>
              <p:nvPr/>
            </p:nvSpPr>
            <p:spPr>
              <a:xfrm>
                <a:off x="1599480" y="131256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7360" y="215136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>
              <a:off x="1509840" y="11080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509840" y="2819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514600" y="11001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29000" y="2819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971800" y="11145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86200" y="2819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5054400" y="533160"/>
            <a:ext cx="3785040" cy="2410200"/>
            <a:chOff x="5054400" y="533160"/>
            <a:chExt cx="3785040" cy="2410200"/>
          </a:xfrm>
        </p:grpSpPr>
        <p:grpSp>
          <p:nvGrpSpPr>
            <p:cNvPr id="1835" name=""/>
            <p:cNvGrpSpPr/>
            <p:nvPr/>
          </p:nvGrpSpPr>
          <p:grpSpPr>
            <a:xfrm>
              <a:off x="5054400" y="533160"/>
              <a:ext cx="3785040" cy="2355840"/>
              <a:chOff x="5054400" y="533160"/>
              <a:chExt cx="3785040" cy="2355840"/>
            </a:xfrm>
          </p:grpSpPr>
          <p:sp>
            <p:nvSpPr>
              <p:cNvPr id="1836" name=""/>
              <p:cNvSpPr/>
              <p:nvPr/>
            </p:nvSpPr>
            <p:spPr>
              <a:xfrm>
                <a:off x="8254440" y="184392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5771520" y="1017360"/>
                <a:ext cx="1118160" cy="197640"/>
                <a:chOff x="5771520" y="1017360"/>
                <a:chExt cx="1118160" cy="197640"/>
              </a:xfrm>
            </p:grpSpPr>
            <p:sp>
              <p:nvSpPr>
                <p:cNvPr id="1838" name=""/>
                <p:cNvSpPr/>
                <p:nvPr/>
              </p:nvSpPr>
              <p:spPr>
                <a:xfrm rot="16200000">
                  <a:off x="6233760" y="929880"/>
                  <a:ext cx="197640" cy="372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517080" y="1114560"/>
                  <a:ext cx="372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>
                  <a:off x="5771520" y="1114560"/>
                  <a:ext cx="372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1" name=""/>
              <p:cNvSpPr/>
              <p:nvPr/>
            </p:nvSpPr>
            <p:spPr>
              <a:xfrm>
                <a:off x="6820560" y="1117440"/>
                <a:ext cx="13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8022600" y="1117080"/>
                <a:ext cx="185400" cy="1771560"/>
                <a:chOff x="8022600" y="1117080"/>
                <a:chExt cx="185400" cy="177156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8022600" y="1806120"/>
                  <a:ext cx="185400" cy="3934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8116200" y="2199600"/>
                  <a:ext cx="0" cy="68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V="1">
                  <a:off x="8116200" y="1117080"/>
                  <a:ext cx="0" cy="688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5771880" y="2889000"/>
                <a:ext cx="237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374680" y="1167840"/>
                <a:ext cx="31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357760" y="1117440"/>
                <a:ext cx="0" cy="64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399080" y="133236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095880" y="53316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1" name=""/>
              <p:cNvGrpSpPr/>
              <p:nvPr/>
            </p:nvGrpSpPr>
            <p:grpSpPr>
              <a:xfrm>
                <a:off x="7263720" y="1117080"/>
                <a:ext cx="185400" cy="1771560"/>
                <a:chOff x="7263720" y="1117080"/>
                <a:chExt cx="185400" cy="177156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7263720" y="1806120"/>
                  <a:ext cx="185400" cy="3934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357320" y="2199600"/>
                  <a:ext cx="0" cy="68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V="1">
                  <a:off x="7357320" y="1117080"/>
                  <a:ext cx="0" cy="688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6608520" y="1117440"/>
                <a:ext cx="443160" cy="1770480"/>
                <a:chOff x="6608520" y="1117440"/>
                <a:chExt cx="443160" cy="1770480"/>
              </a:xfrm>
            </p:grpSpPr>
            <p:grpSp>
              <p:nvGrpSpPr>
                <p:cNvPr id="1856" name=""/>
                <p:cNvGrpSpPr/>
                <p:nvPr/>
              </p:nvGrpSpPr>
              <p:grpSpPr>
                <a:xfrm>
                  <a:off x="6679440" y="1117440"/>
                  <a:ext cx="372240" cy="1770480"/>
                  <a:chOff x="6679440" y="1117440"/>
                  <a:chExt cx="372240" cy="1770480"/>
                </a:xfrm>
              </p:grpSpPr>
              <p:grpSp>
                <p:nvGrpSpPr>
                  <p:cNvPr id="1857" name=""/>
                  <p:cNvGrpSpPr/>
                  <p:nvPr/>
                </p:nvGrpSpPr>
                <p:grpSpPr>
                  <a:xfrm>
                    <a:off x="6679440" y="1805760"/>
                    <a:ext cx="372240" cy="393120"/>
                    <a:chOff x="6679440" y="1805760"/>
                    <a:chExt cx="372240" cy="393120"/>
                  </a:xfrm>
                </p:grpSpPr>
                <p:sp>
                  <p:nvSpPr>
                    <p:cNvPr id="1858" name=""/>
                    <p:cNvSpPr/>
                    <p:nvPr/>
                  </p:nvSpPr>
                  <p:spPr>
                    <a:xfrm flipV="1">
                      <a:off x="6679440" y="1805760"/>
                      <a:ext cx="372240" cy="39312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6679440" y="2002680"/>
                      <a:ext cx="372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0" name=""/>
                  <p:cNvSpPr/>
                  <p:nvPr/>
                </p:nvSpPr>
                <p:spPr>
                  <a:xfrm>
                    <a:off x="6865920" y="2199240"/>
                    <a:ext cx="0" cy="68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6865920" y="1117440"/>
                    <a:ext cx="0" cy="688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2" name=""/>
                <p:cNvSpPr/>
                <p:nvPr/>
              </p:nvSpPr>
              <p:spPr>
                <a:xfrm flipV="1">
                  <a:off x="6608520" y="1740240"/>
                  <a:ext cx="0" cy="479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3" name=""/>
              <p:cNvSpPr/>
              <p:nvPr/>
            </p:nvSpPr>
            <p:spPr>
              <a:xfrm>
                <a:off x="6083280" y="173268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925240" y="220608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054400" y="134208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6" name=""/>
              <p:cNvGrpSpPr/>
              <p:nvPr/>
            </p:nvGrpSpPr>
            <p:grpSpPr>
              <a:xfrm>
                <a:off x="5419440" y="1060920"/>
                <a:ext cx="562320" cy="1827360"/>
                <a:chOff x="5419440" y="1060920"/>
                <a:chExt cx="562320" cy="182736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5515560" y="1805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608080" y="1411560"/>
                  <a:ext cx="373680" cy="3938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5794920" y="1116720"/>
                  <a:ext cx="0" cy="98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702760" y="2100960"/>
                  <a:ext cx="186840" cy="3934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794920" y="2494440"/>
                  <a:ext cx="0" cy="39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419440" y="1060920"/>
                  <a:ext cx="374040" cy="10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3" name=""/>
            <p:cNvSpPr/>
            <p:nvPr/>
          </p:nvSpPr>
          <p:spPr>
            <a:xfrm>
              <a:off x="6815160" y="10666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29560" y="284940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315200" y="10666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300800" y="285264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437760" y="3235320"/>
            <a:ext cx="4545000" cy="1903320"/>
            <a:chOff x="437760" y="3235320"/>
            <a:chExt cx="4545000" cy="1903320"/>
          </a:xfrm>
        </p:grpSpPr>
        <p:grpSp>
          <p:nvGrpSpPr>
            <p:cNvPr id="1878" name=""/>
            <p:cNvGrpSpPr/>
            <p:nvPr/>
          </p:nvGrpSpPr>
          <p:grpSpPr>
            <a:xfrm>
              <a:off x="437760" y="3276360"/>
              <a:ext cx="4545000" cy="1852200"/>
              <a:chOff x="437760" y="3276360"/>
              <a:chExt cx="4545000" cy="1852200"/>
            </a:xfrm>
          </p:grpSpPr>
          <p:sp>
            <p:nvSpPr>
              <p:cNvPr id="1879" name=""/>
              <p:cNvSpPr/>
              <p:nvPr/>
            </p:nvSpPr>
            <p:spPr>
              <a:xfrm>
                <a:off x="1302840" y="3276720"/>
                <a:ext cx="3020040" cy="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4209120" y="3301200"/>
                <a:ext cx="181440" cy="1827360"/>
                <a:chOff x="4209120" y="3301200"/>
                <a:chExt cx="181440" cy="182736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4209120" y="4011840"/>
                  <a:ext cx="181440" cy="406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4299840" y="4417920"/>
                  <a:ext cx="0" cy="71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4299840" y="3301200"/>
                  <a:ext cx="0" cy="71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1302840" y="5104080"/>
                <a:ext cx="302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495320" y="3359880"/>
                <a:ext cx="31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505040" y="3327840"/>
                <a:ext cx="0" cy="659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299760" y="435060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321440" y="4005720"/>
                <a:ext cx="66132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9" name=""/>
              <p:cNvGrpSpPr/>
              <p:nvPr/>
            </p:nvGrpSpPr>
            <p:grpSpPr>
              <a:xfrm>
                <a:off x="3214080" y="3276360"/>
                <a:ext cx="181440" cy="1827000"/>
                <a:chOff x="3214080" y="3276360"/>
                <a:chExt cx="181440" cy="182700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3214080" y="3987000"/>
                  <a:ext cx="181440" cy="406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304800" y="4393080"/>
                  <a:ext cx="0" cy="71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V="1">
                  <a:off x="3304800" y="3276360"/>
                  <a:ext cx="0" cy="71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2666520" y="3276720"/>
                <a:ext cx="364680" cy="1827000"/>
                <a:chOff x="2666520" y="3276720"/>
                <a:chExt cx="364680" cy="1827000"/>
              </a:xfrm>
            </p:grpSpPr>
            <p:grpSp>
              <p:nvGrpSpPr>
                <p:cNvPr id="1894" name=""/>
                <p:cNvGrpSpPr/>
                <p:nvPr/>
              </p:nvGrpSpPr>
              <p:grpSpPr>
                <a:xfrm>
                  <a:off x="2666520" y="3987000"/>
                  <a:ext cx="364680" cy="405720"/>
                  <a:chOff x="2666520" y="3987000"/>
                  <a:chExt cx="364680" cy="405720"/>
                </a:xfrm>
              </p:grpSpPr>
              <p:sp>
                <p:nvSpPr>
                  <p:cNvPr id="1895" name=""/>
                  <p:cNvSpPr/>
                  <p:nvPr/>
                </p:nvSpPr>
                <p:spPr>
                  <a:xfrm flipV="1">
                    <a:off x="2666520" y="3986640"/>
                    <a:ext cx="364680" cy="405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2666520" y="4190040"/>
                    <a:ext cx="364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7" name=""/>
                <p:cNvSpPr/>
                <p:nvPr/>
              </p:nvSpPr>
              <p:spPr>
                <a:xfrm>
                  <a:off x="2849040" y="4393080"/>
                  <a:ext cx="0" cy="71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849040" y="3276720"/>
                  <a:ext cx="0" cy="709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9" name=""/>
              <p:cNvSpPr/>
              <p:nvPr/>
            </p:nvSpPr>
            <p:spPr>
              <a:xfrm flipV="1">
                <a:off x="2588040" y="3906000"/>
                <a:ext cx="0" cy="49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23200" y="392652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1120680" y="3301200"/>
                <a:ext cx="362880" cy="1827000"/>
                <a:chOff x="1120680" y="3301200"/>
                <a:chExt cx="362880" cy="1827000"/>
              </a:xfrm>
            </p:grpSpPr>
            <p:grpSp>
              <p:nvGrpSpPr>
                <p:cNvPr id="1902" name=""/>
                <p:cNvGrpSpPr/>
                <p:nvPr/>
              </p:nvGrpSpPr>
              <p:grpSpPr>
                <a:xfrm>
                  <a:off x="1120680" y="4011840"/>
                  <a:ext cx="362880" cy="405720"/>
                  <a:chOff x="1120680" y="4011840"/>
                  <a:chExt cx="362880" cy="40572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 flipV="1">
                    <a:off x="1120680" y="4011480"/>
                    <a:ext cx="362880" cy="405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1120680" y="4214880"/>
                    <a:ext cx="362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5" name=""/>
                <p:cNvSpPr/>
                <p:nvPr/>
              </p:nvSpPr>
              <p:spPr>
                <a:xfrm>
                  <a:off x="1302120" y="4417560"/>
                  <a:ext cx="0" cy="71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1302120" y="3301200"/>
                  <a:ext cx="0" cy="71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7" name=""/>
              <p:cNvSpPr/>
              <p:nvPr/>
            </p:nvSpPr>
            <p:spPr>
              <a:xfrm flipV="1">
                <a:off x="1010520" y="3906000"/>
                <a:ext cx="0" cy="49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8" name=""/>
              <p:cNvGrpSpPr/>
              <p:nvPr/>
            </p:nvGrpSpPr>
            <p:grpSpPr>
              <a:xfrm>
                <a:off x="1757160" y="3276360"/>
                <a:ext cx="181440" cy="1827000"/>
                <a:chOff x="1757160" y="3276360"/>
                <a:chExt cx="181440" cy="182700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1757160" y="3987000"/>
                  <a:ext cx="181440" cy="406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847520" y="4393080"/>
                  <a:ext cx="0" cy="71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V="1">
                  <a:off x="1847520" y="3276360"/>
                  <a:ext cx="0" cy="71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>
                <a:off x="1843920" y="432036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37760" y="396468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4" name=""/>
            <p:cNvSpPr/>
            <p:nvPr/>
          </p:nvSpPr>
          <p:spPr>
            <a:xfrm>
              <a:off x="1798560" y="323532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798560" y="504828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05120" y="32623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805120" y="50482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262320" y="32497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62320" y="50482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5678640" y="3321000"/>
            <a:ext cx="3084480" cy="1860480"/>
            <a:chOff x="5678640" y="3321000"/>
            <a:chExt cx="3084480" cy="1860480"/>
          </a:xfrm>
        </p:grpSpPr>
        <p:grpSp>
          <p:nvGrpSpPr>
            <p:cNvPr id="1921" name=""/>
            <p:cNvGrpSpPr/>
            <p:nvPr/>
          </p:nvGrpSpPr>
          <p:grpSpPr>
            <a:xfrm>
              <a:off x="5678640" y="3352320"/>
              <a:ext cx="3084480" cy="1819080"/>
              <a:chOff x="5678640" y="3352320"/>
              <a:chExt cx="3084480" cy="1819080"/>
            </a:xfrm>
          </p:grpSpPr>
          <p:sp>
            <p:nvSpPr>
              <p:cNvPr id="1922" name=""/>
              <p:cNvSpPr/>
              <p:nvPr/>
            </p:nvSpPr>
            <p:spPr>
              <a:xfrm>
                <a:off x="6538320" y="3376080"/>
                <a:ext cx="161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3" name=""/>
              <p:cNvGrpSpPr/>
              <p:nvPr/>
            </p:nvGrpSpPr>
            <p:grpSpPr>
              <a:xfrm>
                <a:off x="8033760" y="3375720"/>
                <a:ext cx="187920" cy="1795320"/>
                <a:chOff x="8033760" y="3375720"/>
                <a:chExt cx="187920" cy="179532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8033760" y="4073400"/>
                  <a:ext cx="187920" cy="4003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28440" y="4473720"/>
                  <a:ext cx="0" cy="69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V="1">
                  <a:off x="8128440" y="3375720"/>
                  <a:ext cx="0" cy="69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7" name=""/>
              <p:cNvSpPr/>
              <p:nvPr/>
            </p:nvSpPr>
            <p:spPr>
              <a:xfrm>
                <a:off x="6544800" y="5148000"/>
                <a:ext cx="160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336880" y="3357360"/>
                <a:ext cx="31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8342640" y="3399840"/>
                <a:ext cx="0" cy="65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341840" y="443808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8178120" y="4455000"/>
                <a:ext cx="585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2" name=""/>
              <p:cNvGrpSpPr/>
              <p:nvPr/>
            </p:nvGrpSpPr>
            <p:grpSpPr>
              <a:xfrm>
                <a:off x="7216560" y="3352320"/>
                <a:ext cx="190800" cy="1795320"/>
                <a:chOff x="7216560" y="3352320"/>
                <a:chExt cx="190800" cy="1795320"/>
              </a:xfrm>
            </p:grpSpPr>
            <p:sp>
              <p:nvSpPr>
                <p:cNvPr id="1933" name=""/>
                <p:cNvSpPr/>
                <p:nvPr/>
              </p:nvSpPr>
              <p:spPr>
                <a:xfrm>
                  <a:off x="7216560" y="4050000"/>
                  <a:ext cx="190800" cy="4003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311960" y="4450680"/>
                  <a:ext cx="0" cy="69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V="1">
                  <a:off x="7311960" y="3352320"/>
                  <a:ext cx="0" cy="69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6348240" y="3352680"/>
                <a:ext cx="380520" cy="1818720"/>
                <a:chOff x="6348240" y="3352680"/>
                <a:chExt cx="380520" cy="1818720"/>
              </a:xfrm>
            </p:grpSpPr>
            <p:grpSp>
              <p:nvGrpSpPr>
                <p:cNvPr id="1937" name=""/>
                <p:cNvGrpSpPr/>
                <p:nvPr/>
              </p:nvGrpSpPr>
              <p:grpSpPr>
                <a:xfrm>
                  <a:off x="6348240" y="4059720"/>
                  <a:ext cx="380520" cy="403920"/>
                  <a:chOff x="6348240" y="4059720"/>
                  <a:chExt cx="380520" cy="403920"/>
                </a:xfrm>
              </p:grpSpPr>
              <p:sp>
                <p:nvSpPr>
                  <p:cNvPr id="1938" name=""/>
                  <p:cNvSpPr/>
                  <p:nvPr/>
                </p:nvSpPr>
                <p:spPr>
                  <a:xfrm flipV="1">
                    <a:off x="6348240" y="4059720"/>
                    <a:ext cx="380520" cy="403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6348240" y="426204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0" name=""/>
                <p:cNvSpPr/>
                <p:nvPr/>
              </p:nvSpPr>
              <p:spPr>
                <a:xfrm>
                  <a:off x="6538680" y="4464000"/>
                  <a:ext cx="0" cy="70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538680" y="3352680"/>
                  <a:ext cx="0" cy="70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2" name=""/>
              <p:cNvSpPr/>
              <p:nvPr/>
            </p:nvSpPr>
            <p:spPr>
              <a:xfrm flipV="1">
                <a:off x="6229440" y="3982320"/>
                <a:ext cx="0" cy="49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678640" y="4002480"/>
                <a:ext cx="569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7261200" y="33210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269120" y="50911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/>
          <p:nvPr/>
        </p:nvSpPr>
        <p:spPr>
          <a:xfrm>
            <a:off x="219240" y="228600"/>
            <a:ext cx="10760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93840" y="307800"/>
            <a:ext cx="875016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理想电压源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理想电流源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端的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功率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33360" y="496728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电源的性质及电源的等效变换可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946080" y="5410080"/>
                <a:ext cx="34736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24560" y="5410080"/>
                <a:ext cx="42908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1" name=""/>
          <p:cNvSpPr/>
          <p:nvPr/>
        </p:nvSpPr>
        <p:spPr>
          <a:xfrm>
            <a:off x="4397400" y="4740120"/>
            <a:ext cx="81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242120" y="4681440"/>
            <a:ext cx="80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6400800" y="2382840"/>
            <a:ext cx="2664360" cy="2573640"/>
            <a:chOff x="6400800" y="2382840"/>
            <a:chExt cx="2664360" cy="2573640"/>
          </a:xfrm>
        </p:grpSpPr>
        <p:sp>
          <p:nvSpPr>
            <p:cNvPr id="1954" name=""/>
            <p:cNvSpPr/>
            <p:nvPr/>
          </p:nvSpPr>
          <p:spPr>
            <a:xfrm>
              <a:off x="8561520" y="23828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585120" y="2887560"/>
              <a:ext cx="15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8520120" y="2881080"/>
              <a:ext cx="164880" cy="1611360"/>
              <a:chOff x="8520120" y="2881080"/>
              <a:chExt cx="164880" cy="1611360"/>
            </a:xfrm>
          </p:grpSpPr>
          <p:sp>
            <p:nvSpPr>
              <p:cNvPr id="1957" name=""/>
              <p:cNvSpPr/>
              <p:nvPr/>
            </p:nvSpPr>
            <p:spPr>
              <a:xfrm>
                <a:off x="8520120" y="3507480"/>
                <a:ext cx="164880" cy="35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8602920" y="386640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8602920" y="288108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0" name=""/>
            <p:cNvSpPr/>
            <p:nvPr/>
          </p:nvSpPr>
          <p:spPr>
            <a:xfrm>
              <a:off x="6585120" y="4481640"/>
              <a:ext cx="160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712000" y="2845800"/>
              <a:ext cx="316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715240" y="2876400"/>
              <a:ext cx="0" cy="58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664480" y="3438000"/>
              <a:ext cx="4006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8123400" y="3026880"/>
              <a:ext cx="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83640" y="3344400"/>
              <a:ext cx="4158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72360" y="2835360"/>
              <a:ext cx="92160" cy="8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191440" y="4438800"/>
              <a:ext cx="9216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264520" y="2887560"/>
              <a:ext cx="32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300880" y="4492800"/>
              <a:ext cx="32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007480" y="44226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7132680" y="2903040"/>
              <a:ext cx="163080" cy="1611360"/>
              <a:chOff x="7132680" y="2903040"/>
              <a:chExt cx="163080" cy="1611360"/>
            </a:xfrm>
          </p:grpSpPr>
          <p:sp>
            <p:nvSpPr>
              <p:cNvPr id="1972" name=""/>
              <p:cNvSpPr/>
              <p:nvPr/>
            </p:nvSpPr>
            <p:spPr>
              <a:xfrm>
                <a:off x="7132680" y="3529440"/>
                <a:ext cx="163080" cy="35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214400" y="388836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7214400" y="290304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6400800" y="3449520"/>
              <a:ext cx="328320" cy="358560"/>
              <a:chOff x="6400800" y="3449520"/>
              <a:chExt cx="328320" cy="358560"/>
            </a:xfrm>
          </p:grpSpPr>
          <p:sp>
            <p:nvSpPr>
              <p:cNvPr id="1976" name=""/>
              <p:cNvSpPr/>
              <p:nvPr/>
            </p:nvSpPr>
            <p:spPr>
              <a:xfrm flipV="1">
                <a:off x="6400800" y="3449520"/>
                <a:ext cx="328320" cy="358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400800" y="3629160"/>
                <a:ext cx="32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8" name=""/>
            <p:cNvSpPr/>
            <p:nvPr/>
          </p:nvSpPr>
          <p:spPr>
            <a:xfrm>
              <a:off x="6585120" y="3808440"/>
              <a:ext cx="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546960" y="2867040"/>
              <a:ext cx="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804000" y="3390840"/>
              <a:ext cx="0" cy="43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555960" y="3708000"/>
              <a:ext cx="405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251480" y="3431880"/>
              <a:ext cx="489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345440" y="43750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7696080" y="2895480"/>
              <a:ext cx="333000" cy="1602000"/>
              <a:chOff x="7696080" y="2895480"/>
              <a:chExt cx="333000" cy="160200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7696080" y="3152880"/>
                <a:ext cx="333000" cy="360000"/>
                <a:chOff x="7696080" y="3152880"/>
                <a:chExt cx="333000" cy="360000"/>
              </a:xfrm>
            </p:grpSpPr>
            <p:sp>
              <p:nvSpPr>
                <p:cNvPr id="1986" name=""/>
                <p:cNvSpPr/>
                <p:nvPr/>
              </p:nvSpPr>
              <p:spPr>
                <a:xfrm flipV="1">
                  <a:off x="7696080" y="3152880"/>
                  <a:ext cx="333000" cy="360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7696080" y="3333240"/>
                  <a:ext cx="33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8" name=""/>
              <p:cNvSpPr/>
              <p:nvPr/>
            </p:nvSpPr>
            <p:spPr>
              <a:xfrm>
                <a:off x="7851600" y="2895480"/>
                <a:ext cx="82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866000" y="3513240"/>
                <a:ext cx="0" cy="9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0" name=""/>
          <p:cNvGrpSpPr/>
          <p:nvPr/>
        </p:nvGrpSpPr>
        <p:grpSpPr>
          <a:xfrm>
            <a:off x="6120" y="2133360"/>
            <a:ext cx="3664440" cy="2808360"/>
            <a:chOff x="6120" y="2133360"/>
            <a:chExt cx="3664440" cy="2808360"/>
          </a:xfrm>
        </p:grpSpPr>
        <p:sp>
          <p:nvSpPr>
            <p:cNvPr id="1991" name=""/>
            <p:cNvSpPr/>
            <p:nvPr/>
          </p:nvSpPr>
          <p:spPr>
            <a:xfrm>
              <a:off x="1321560" y="2133360"/>
              <a:ext cx="533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170000" y="2879640"/>
              <a:ext cx="0" cy="158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rot="16200000">
              <a:off x="1504800" y="2655720"/>
              <a:ext cx="1555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 anchorCtr="1" vert="eaVert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798560" y="2879640"/>
              <a:ext cx="97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512280" y="2881440"/>
              <a:ext cx="870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6" name=""/>
            <p:cNvGrpSpPr/>
            <p:nvPr/>
          </p:nvGrpSpPr>
          <p:grpSpPr>
            <a:xfrm>
              <a:off x="3130560" y="2873520"/>
              <a:ext cx="161640" cy="1610640"/>
              <a:chOff x="3130560" y="2873520"/>
              <a:chExt cx="161640" cy="1610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3130560" y="3499200"/>
                <a:ext cx="161640" cy="35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211560" y="3858480"/>
                <a:ext cx="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3211560" y="2873520"/>
                <a:ext cx="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512640" y="4471920"/>
              <a:ext cx="22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317400" y="2837160"/>
              <a:ext cx="316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322800" y="2868480"/>
              <a:ext cx="0" cy="58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96720" y="2852280"/>
              <a:ext cx="489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269880" y="3430800"/>
              <a:ext cx="4006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5" name=""/>
            <p:cNvGrpSpPr/>
            <p:nvPr/>
          </p:nvGrpSpPr>
          <p:grpSpPr>
            <a:xfrm>
              <a:off x="2209680" y="3089160"/>
              <a:ext cx="323640" cy="358560"/>
              <a:chOff x="2209680" y="3089160"/>
              <a:chExt cx="323640" cy="358560"/>
            </a:xfrm>
          </p:grpSpPr>
          <p:sp>
            <p:nvSpPr>
              <p:cNvPr id="2006" name=""/>
              <p:cNvSpPr/>
              <p:nvPr/>
            </p:nvSpPr>
            <p:spPr>
              <a:xfrm flipV="1">
                <a:off x="2209680" y="3089160"/>
                <a:ext cx="323640" cy="358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9680" y="3268800"/>
                <a:ext cx="32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>
              <a:off x="2362320" y="4100400"/>
              <a:ext cx="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362320" y="28605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V="1">
              <a:off x="2625840" y="3018960"/>
              <a:ext cx="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386080" y="3336480"/>
              <a:ext cx="4158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1006560" y="3471120"/>
              <a:ext cx="32364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1041480" y="2949120"/>
              <a:ext cx="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447840" y="2879640"/>
              <a:ext cx="161280" cy="1611000"/>
              <a:chOff x="447840" y="2879640"/>
              <a:chExt cx="161280" cy="1611000"/>
            </a:xfrm>
          </p:grpSpPr>
          <p:sp>
            <p:nvSpPr>
              <p:cNvPr id="2015" name=""/>
              <p:cNvSpPr/>
              <p:nvPr/>
            </p:nvSpPr>
            <p:spPr>
              <a:xfrm>
                <a:off x="447840" y="3505320"/>
                <a:ext cx="161280" cy="359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28480" y="3864960"/>
                <a:ext cx="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528480" y="2879640"/>
                <a:ext cx="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8" name=""/>
            <p:cNvSpPr/>
            <p:nvPr/>
          </p:nvSpPr>
          <p:spPr>
            <a:xfrm>
              <a:off x="6120" y="3409560"/>
              <a:ext cx="489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284560" y="3740040"/>
              <a:ext cx="16164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74920" y="3436920"/>
              <a:ext cx="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787480" y="2827440"/>
              <a:ext cx="90720" cy="8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806560" y="4430880"/>
              <a:ext cx="90720" cy="8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878200" y="287964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914560" y="448452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625840" y="28098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662200" y="39258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92920" y="2952360"/>
              <a:ext cx="533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978200" y="2765520"/>
              <a:ext cx="36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+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582560" y="2970360"/>
              <a:ext cx="72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662200" y="35416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1366920" y="2670120"/>
              <a:ext cx="395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39600" y="3619080"/>
              <a:ext cx="489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185840" y="3089160"/>
              <a:ext cx="36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+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185840" y="3387600"/>
              <a:ext cx="72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590920" y="237636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625840" y="441468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474920" y="4421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128600" y="284148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128600" y="441972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320920" y="28414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313000" y="442584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657600" y="2376360"/>
            <a:ext cx="2734200" cy="2641680"/>
            <a:chOff x="3657600" y="2376360"/>
            <a:chExt cx="2734200" cy="2641680"/>
          </a:xfrm>
        </p:grpSpPr>
        <p:grpSp>
          <p:nvGrpSpPr>
            <p:cNvPr id="2043" name=""/>
            <p:cNvGrpSpPr/>
            <p:nvPr/>
          </p:nvGrpSpPr>
          <p:grpSpPr>
            <a:xfrm>
              <a:off x="3657600" y="2376360"/>
              <a:ext cx="2734200" cy="2641680"/>
              <a:chOff x="3657600" y="2376360"/>
              <a:chExt cx="2734200" cy="2641680"/>
            </a:xfrm>
          </p:grpSpPr>
          <p:sp>
            <p:nvSpPr>
              <p:cNvPr id="2044" name=""/>
              <p:cNvSpPr/>
              <p:nvPr/>
            </p:nvSpPr>
            <p:spPr>
              <a:xfrm>
                <a:off x="5372280" y="2376360"/>
                <a:ext cx="48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814920" y="2905200"/>
                <a:ext cx="0" cy="158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6200000">
                <a:off x="4172760" y="2677320"/>
                <a:ext cx="155520" cy="442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 anchorCtr="1" vert="eaVert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471920" y="2905200"/>
                <a:ext cx="1000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>
                <a:off x="3806640" y="29066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9" name=""/>
              <p:cNvGrpSpPr/>
              <p:nvPr/>
            </p:nvGrpSpPr>
            <p:grpSpPr>
              <a:xfrm>
                <a:off x="5842080" y="2898360"/>
                <a:ext cx="166320" cy="1611360"/>
                <a:chOff x="5842080" y="2898360"/>
                <a:chExt cx="166320" cy="161136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5842080" y="3524760"/>
                  <a:ext cx="166320" cy="358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5925600" y="3883680"/>
                  <a:ext cx="0" cy="62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5925600" y="2898360"/>
                  <a:ext cx="0" cy="62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3" name=""/>
              <p:cNvSpPr/>
              <p:nvPr/>
            </p:nvSpPr>
            <p:spPr>
              <a:xfrm>
                <a:off x="3807000" y="4498920"/>
                <a:ext cx="170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38640" y="2863440"/>
                <a:ext cx="31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40440" y="2894040"/>
                <a:ext cx="0" cy="58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03560" y="2877840"/>
                <a:ext cx="48924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991120" y="3457080"/>
                <a:ext cx="4006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322960" y="3044880"/>
                <a:ext cx="0" cy="434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081760" y="3362040"/>
                <a:ext cx="4158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3657600" y="3496680"/>
                <a:ext cx="33336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1" name=""/>
              <p:cNvGrpSpPr/>
              <p:nvPr/>
            </p:nvGrpSpPr>
            <p:grpSpPr>
              <a:xfrm>
                <a:off x="4896000" y="2887560"/>
                <a:ext cx="333000" cy="1602000"/>
                <a:chOff x="4896000" y="2887560"/>
                <a:chExt cx="333000" cy="1602000"/>
              </a:xfrm>
            </p:grpSpPr>
            <p:grpSp>
              <p:nvGrpSpPr>
                <p:cNvPr id="2062" name=""/>
                <p:cNvGrpSpPr/>
                <p:nvPr/>
              </p:nvGrpSpPr>
              <p:grpSpPr>
                <a:xfrm>
                  <a:off x="4896000" y="3144960"/>
                  <a:ext cx="333000" cy="360000"/>
                  <a:chOff x="4896000" y="3144960"/>
                  <a:chExt cx="333000" cy="360000"/>
                </a:xfrm>
              </p:grpSpPr>
              <p:sp>
                <p:nvSpPr>
                  <p:cNvPr id="2063" name=""/>
                  <p:cNvSpPr/>
                  <p:nvPr/>
                </p:nvSpPr>
                <p:spPr>
                  <a:xfrm flipV="1">
                    <a:off x="4896000" y="3144960"/>
                    <a:ext cx="333000" cy="360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4896000" y="3325320"/>
                    <a:ext cx="333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5" name=""/>
                <p:cNvSpPr/>
                <p:nvPr/>
              </p:nvSpPr>
              <p:spPr>
                <a:xfrm>
                  <a:off x="5051520" y="2887560"/>
                  <a:ext cx="0" cy="28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5065560" y="3505320"/>
                  <a:ext cx="0" cy="98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7" name=""/>
              <p:cNvSpPr/>
              <p:nvPr/>
            </p:nvSpPr>
            <p:spPr>
              <a:xfrm>
                <a:off x="5489640" y="2852640"/>
                <a:ext cx="93600" cy="8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510160" y="4456080"/>
                <a:ext cx="92160" cy="8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83240" y="290520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619600" y="451008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841920" y="3114720"/>
                <a:ext cx="371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+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841920" y="3414600"/>
                <a:ext cx="741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322960" y="4440240"/>
                <a:ext cx="48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529160" y="44974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5014800" y="285264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030640" y="443700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/>
          <p:nvPr/>
        </p:nvSpPr>
        <p:spPr>
          <a:xfrm>
            <a:off x="438120" y="21528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图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a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1219320" y="2732040"/>
                <a:ext cx="4363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－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－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－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1143000" y="3257640"/>
                <a:ext cx="3254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0" name=""/>
          <p:cNvSpPr/>
          <p:nvPr/>
        </p:nvSpPr>
        <p:spPr>
          <a:xfrm>
            <a:off x="471600" y="41688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理想电压源中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1066680" y="4684680"/>
                <a:ext cx="51087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3</m:t>
                        </m:r>
                      </m:sub>
                    </m:sSub>
                    <m:r>
                      <m:t xml:space="preserve">－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－</m:t>
                    </m:r>
                    <m:r>
                      <m:t xml:space="preserve">(</m:t>
                    </m:r>
                    <m:r>
                      <m:t xml:space="preserve">－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636480" y="52704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理想电流源两端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1096920" y="5813280"/>
                <a:ext cx="7209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4" name=""/>
          <p:cNvGrpSpPr/>
          <p:nvPr/>
        </p:nvGrpSpPr>
        <p:grpSpPr>
          <a:xfrm>
            <a:off x="6400800" y="82440"/>
            <a:ext cx="2664360" cy="2573640"/>
            <a:chOff x="6400800" y="82440"/>
            <a:chExt cx="2664360" cy="2573640"/>
          </a:xfrm>
        </p:grpSpPr>
        <p:sp>
          <p:nvSpPr>
            <p:cNvPr id="2085" name=""/>
            <p:cNvSpPr/>
            <p:nvPr/>
          </p:nvSpPr>
          <p:spPr>
            <a:xfrm>
              <a:off x="8561520" y="824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85120" y="587160"/>
              <a:ext cx="15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8520120" y="580680"/>
              <a:ext cx="164880" cy="1611360"/>
              <a:chOff x="8520120" y="580680"/>
              <a:chExt cx="164880" cy="1611360"/>
            </a:xfrm>
          </p:grpSpPr>
          <p:sp>
            <p:nvSpPr>
              <p:cNvPr id="2088" name=""/>
              <p:cNvSpPr/>
              <p:nvPr/>
            </p:nvSpPr>
            <p:spPr>
              <a:xfrm>
                <a:off x="8520120" y="1207080"/>
                <a:ext cx="164880" cy="35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8602920" y="156600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8602920" y="58068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1" name=""/>
            <p:cNvSpPr/>
            <p:nvPr/>
          </p:nvSpPr>
          <p:spPr>
            <a:xfrm>
              <a:off x="6585120" y="2181240"/>
              <a:ext cx="160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712000" y="545400"/>
              <a:ext cx="316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715240" y="576000"/>
              <a:ext cx="0" cy="58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664480" y="1137600"/>
              <a:ext cx="4006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8123400" y="726480"/>
              <a:ext cx="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883640" y="1044000"/>
              <a:ext cx="4158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172360" y="534960"/>
              <a:ext cx="92160" cy="87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191440" y="2138400"/>
              <a:ext cx="9216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264520" y="587160"/>
              <a:ext cx="32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300880" y="2192400"/>
              <a:ext cx="32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007480" y="21222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7132680" y="602640"/>
              <a:ext cx="163080" cy="1611360"/>
              <a:chOff x="7132680" y="602640"/>
              <a:chExt cx="163080" cy="1611360"/>
            </a:xfrm>
          </p:grpSpPr>
          <p:sp>
            <p:nvSpPr>
              <p:cNvPr id="2103" name=""/>
              <p:cNvSpPr/>
              <p:nvPr/>
            </p:nvSpPr>
            <p:spPr>
              <a:xfrm>
                <a:off x="7132680" y="1229040"/>
                <a:ext cx="163080" cy="35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214400" y="158796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7214400" y="602640"/>
                <a:ext cx="0" cy="626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6400800" y="1149120"/>
              <a:ext cx="328320" cy="358560"/>
              <a:chOff x="6400800" y="1149120"/>
              <a:chExt cx="328320" cy="358560"/>
            </a:xfrm>
          </p:grpSpPr>
          <p:sp>
            <p:nvSpPr>
              <p:cNvPr id="2107" name=""/>
              <p:cNvSpPr/>
              <p:nvPr/>
            </p:nvSpPr>
            <p:spPr>
              <a:xfrm flipV="1">
                <a:off x="6400800" y="1149120"/>
                <a:ext cx="328320" cy="358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400800" y="1328760"/>
                <a:ext cx="32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6585120" y="1508040"/>
              <a:ext cx="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546960" y="566640"/>
              <a:ext cx="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6804000" y="1090440"/>
              <a:ext cx="0" cy="43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555960" y="1407600"/>
              <a:ext cx="405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51480" y="1131480"/>
              <a:ext cx="489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345440" y="20746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5" name=""/>
            <p:cNvGrpSpPr/>
            <p:nvPr/>
          </p:nvGrpSpPr>
          <p:grpSpPr>
            <a:xfrm>
              <a:off x="7696080" y="595080"/>
              <a:ext cx="333000" cy="1602000"/>
              <a:chOff x="7696080" y="595080"/>
              <a:chExt cx="333000" cy="1602000"/>
            </a:xfrm>
          </p:grpSpPr>
          <p:grpSp>
            <p:nvGrpSpPr>
              <p:cNvPr id="2116" name=""/>
              <p:cNvGrpSpPr/>
              <p:nvPr/>
            </p:nvGrpSpPr>
            <p:grpSpPr>
              <a:xfrm>
                <a:off x="7696080" y="852480"/>
                <a:ext cx="333000" cy="360000"/>
                <a:chOff x="7696080" y="852480"/>
                <a:chExt cx="333000" cy="360000"/>
              </a:xfrm>
            </p:grpSpPr>
            <p:sp>
              <p:nvSpPr>
                <p:cNvPr id="2117" name=""/>
                <p:cNvSpPr/>
                <p:nvPr/>
              </p:nvSpPr>
              <p:spPr>
                <a:xfrm flipV="1">
                  <a:off x="7696080" y="852480"/>
                  <a:ext cx="333000" cy="360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7696080" y="1032840"/>
                  <a:ext cx="33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9" name=""/>
              <p:cNvSpPr/>
              <p:nvPr/>
            </p:nvSpPr>
            <p:spPr>
              <a:xfrm>
                <a:off x="7851600" y="595080"/>
                <a:ext cx="82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66000" y="1212840"/>
                <a:ext cx="0" cy="9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1" name=""/>
          <p:cNvGrpSpPr/>
          <p:nvPr/>
        </p:nvGrpSpPr>
        <p:grpSpPr>
          <a:xfrm>
            <a:off x="3429000" y="76320"/>
            <a:ext cx="2734200" cy="2641320"/>
            <a:chOff x="3429000" y="76320"/>
            <a:chExt cx="2734200" cy="2641320"/>
          </a:xfrm>
        </p:grpSpPr>
        <p:grpSp>
          <p:nvGrpSpPr>
            <p:cNvPr id="2122" name=""/>
            <p:cNvGrpSpPr/>
            <p:nvPr/>
          </p:nvGrpSpPr>
          <p:grpSpPr>
            <a:xfrm>
              <a:off x="3429000" y="76320"/>
              <a:ext cx="2734200" cy="2641320"/>
              <a:chOff x="3429000" y="76320"/>
              <a:chExt cx="2734200" cy="2641320"/>
            </a:xfrm>
          </p:grpSpPr>
          <p:sp>
            <p:nvSpPr>
              <p:cNvPr id="2123" name=""/>
              <p:cNvSpPr/>
              <p:nvPr/>
            </p:nvSpPr>
            <p:spPr>
              <a:xfrm>
                <a:off x="5143680" y="76320"/>
                <a:ext cx="48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586320" y="604800"/>
                <a:ext cx="0" cy="158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3944160" y="376200"/>
                <a:ext cx="155160" cy="442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 anchorCtr="1" vert="eaVert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243320" y="604800"/>
                <a:ext cx="1000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3578040" y="6062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8" name=""/>
              <p:cNvGrpSpPr/>
              <p:nvPr/>
            </p:nvGrpSpPr>
            <p:grpSpPr>
              <a:xfrm>
                <a:off x="5613480" y="598320"/>
                <a:ext cx="166320" cy="1610640"/>
                <a:chOff x="5613480" y="598320"/>
                <a:chExt cx="166320" cy="161064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5613480" y="1224000"/>
                  <a:ext cx="166320" cy="358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697000" y="1583280"/>
                  <a:ext cx="0" cy="62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V="1">
                  <a:off x="5697000" y="598320"/>
                  <a:ext cx="0" cy="62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2" name=""/>
              <p:cNvSpPr/>
              <p:nvPr/>
            </p:nvSpPr>
            <p:spPr>
              <a:xfrm>
                <a:off x="3578400" y="2198520"/>
                <a:ext cx="170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810040" y="562680"/>
                <a:ext cx="31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811840" y="593640"/>
                <a:ext cx="0" cy="58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774960" y="577080"/>
                <a:ext cx="48924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762520" y="1156320"/>
                <a:ext cx="4006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5094360" y="744120"/>
                <a:ext cx="0" cy="434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853160" y="1061280"/>
                <a:ext cx="4158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3429000" y="1197000"/>
                <a:ext cx="333360" cy="360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0" name=""/>
              <p:cNvGrpSpPr/>
              <p:nvPr/>
            </p:nvGrpSpPr>
            <p:grpSpPr>
              <a:xfrm>
                <a:off x="4667400" y="587160"/>
                <a:ext cx="333000" cy="1601280"/>
                <a:chOff x="4667400" y="587160"/>
                <a:chExt cx="333000" cy="1601280"/>
              </a:xfrm>
            </p:grpSpPr>
            <p:grpSp>
              <p:nvGrpSpPr>
                <p:cNvPr id="2141" name=""/>
                <p:cNvGrpSpPr/>
                <p:nvPr/>
              </p:nvGrpSpPr>
              <p:grpSpPr>
                <a:xfrm>
                  <a:off x="4667400" y="844560"/>
                  <a:ext cx="333000" cy="359640"/>
                  <a:chOff x="4667400" y="844560"/>
                  <a:chExt cx="333000" cy="35964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 flipV="1">
                    <a:off x="4667400" y="844200"/>
                    <a:ext cx="333000" cy="359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4667400" y="1024560"/>
                    <a:ext cx="333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4" name=""/>
                <p:cNvSpPr/>
                <p:nvPr/>
              </p:nvSpPr>
              <p:spPr>
                <a:xfrm>
                  <a:off x="4822920" y="587160"/>
                  <a:ext cx="0" cy="286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4836960" y="1204560"/>
                  <a:ext cx="0" cy="98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6" name=""/>
              <p:cNvSpPr/>
              <p:nvPr/>
            </p:nvSpPr>
            <p:spPr>
              <a:xfrm>
                <a:off x="5261040" y="552240"/>
                <a:ext cx="93600" cy="88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281560" y="2155680"/>
                <a:ext cx="92160" cy="88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354640" y="60480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391000" y="220968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613320" y="814320"/>
                <a:ext cx="371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+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613320" y="1114200"/>
                <a:ext cx="741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094360" y="2139840"/>
                <a:ext cx="48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300560" y="2197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4" name=""/>
            <p:cNvSpPr/>
            <p:nvPr/>
          </p:nvSpPr>
          <p:spPr>
            <a:xfrm>
              <a:off x="4786200" y="55224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802040" y="213660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496800" y="2278080"/>
            <a:ext cx="5599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各个电阻所消耗的功率分别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7" name=""/>
              <p:cNvSpPr txBox="1"/>
              <p:nvPr/>
            </p:nvSpPr>
            <p:spPr>
              <a:xfrm>
                <a:off x="1612800" y="2805120"/>
                <a:ext cx="3649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8" name=""/>
              <p:cNvSpPr txBox="1"/>
              <p:nvPr/>
            </p:nvSpPr>
            <p:spPr>
              <a:xfrm>
                <a:off x="1573200" y="3371760"/>
                <a:ext cx="4648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（－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576440" y="3951360"/>
                <a:ext cx="3924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1557360" y="4562640"/>
                <a:ext cx="4268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t xml:space="preserve">R</m:t>
                            </m:r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1" name=""/>
          <p:cNvSpPr/>
          <p:nvPr/>
        </p:nvSpPr>
        <p:spPr>
          <a:xfrm>
            <a:off x="460440" y="50436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者平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855800" y="54687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0+20)W=(36+16+8+20)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371600" y="5958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W=80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20840" y="304920"/>
            <a:ext cx="8723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计算可知，本例中理想电压源与理想电流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都是电源，发出的功率分别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993600" y="1387440"/>
                <a:ext cx="4062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1023840" y="1844640"/>
                <a:ext cx="40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2209680" y="313920"/>
            <a:ext cx="50292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4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支路电流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19200" y="10699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支路电流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支路电流为未知量、应用基尔霍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列方程组求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066680" y="4467240"/>
            <a:ext cx="746784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上图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支路数：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3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点数：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2362320" y="895320"/>
            <a:ext cx="4863600" cy="171360"/>
            <a:chOff x="2362320" y="895320"/>
            <a:chExt cx="4863600" cy="171360"/>
          </a:xfrm>
        </p:grpSpPr>
        <p:pic>
          <p:nvPicPr>
            <p:cNvPr id="2171" name="" descr=""/>
            <p:cNvPicPr/>
            <p:nvPr/>
          </p:nvPicPr>
          <p:blipFill>
            <a:blip r:embed="rId1"/>
            <a:stretch/>
          </p:blipFill>
          <p:spPr>
            <a:xfrm>
              <a:off x="3876480" y="8953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" descr=""/>
            <p:cNvPicPr/>
            <p:nvPr/>
          </p:nvPicPr>
          <p:blipFill>
            <a:blip r:embed="rId2"/>
            <a:stretch/>
          </p:blipFill>
          <p:spPr>
            <a:xfrm>
              <a:off x="4038480" y="8953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" descr=""/>
            <p:cNvPicPr/>
            <p:nvPr/>
          </p:nvPicPr>
          <p:blipFill>
            <a:blip r:embed="rId3"/>
            <a:stretch/>
          </p:blipFill>
          <p:spPr>
            <a:xfrm>
              <a:off x="4190760" y="8953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" descr=""/>
            <p:cNvPicPr/>
            <p:nvPr/>
          </p:nvPicPr>
          <p:blipFill>
            <a:blip r:embed="rId4"/>
            <a:stretch/>
          </p:blipFill>
          <p:spPr>
            <a:xfrm>
              <a:off x="4333680" y="8953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5" name=""/>
            <p:cNvGrpSpPr/>
            <p:nvPr/>
          </p:nvGrpSpPr>
          <p:grpSpPr>
            <a:xfrm>
              <a:off x="2362320" y="895320"/>
              <a:ext cx="1390320" cy="171360"/>
              <a:chOff x="2362320" y="895320"/>
              <a:chExt cx="1390320" cy="171360"/>
            </a:xfrm>
          </p:grpSpPr>
          <p:pic>
            <p:nvPicPr>
              <p:cNvPr id="21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6232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4880" y="8953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6688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962080" y="8953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7672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19280" y="89532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8128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19520" y="89532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85" name="" descr=""/>
            <p:cNvPicPr/>
            <p:nvPr/>
          </p:nvPicPr>
          <p:blipFill>
            <a:blip r:embed="rId14"/>
            <a:stretch/>
          </p:blipFill>
          <p:spPr>
            <a:xfrm>
              <a:off x="3733560" y="895320"/>
              <a:ext cx="1710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15"/>
            <a:stretch/>
          </p:blipFill>
          <p:spPr>
            <a:xfrm>
              <a:off x="44956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16"/>
            <a:stretch/>
          </p:blipFill>
          <p:spPr>
            <a:xfrm>
              <a:off x="464796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8" name="" descr=""/>
            <p:cNvPicPr/>
            <p:nvPr/>
          </p:nvPicPr>
          <p:blipFill>
            <a:blip r:embed="rId17"/>
            <a:stretch/>
          </p:blipFill>
          <p:spPr>
            <a:xfrm>
              <a:off x="47908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9" name="" descr=""/>
            <p:cNvPicPr/>
            <p:nvPr/>
          </p:nvPicPr>
          <p:blipFill>
            <a:blip r:embed="rId18"/>
            <a:stretch/>
          </p:blipFill>
          <p:spPr>
            <a:xfrm>
              <a:off x="49528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19"/>
            <a:stretch/>
          </p:blipFill>
          <p:spPr>
            <a:xfrm>
              <a:off x="510516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20"/>
            <a:stretch/>
          </p:blipFill>
          <p:spPr>
            <a:xfrm>
              <a:off x="52480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21"/>
            <a:stretch/>
          </p:blipFill>
          <p:spPr>
            <a:xfrm>
              <a:off x="54100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22"/>
            <a:stretch/>
          </p:blipFill>
          <p:spPr>
            <a:xfrm>
              <a:off x="57052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23"/>
            <a:stretch/>
          </p:blipFill>
          <p:spPr>
            <a:xfrm>
              <a:off x="58672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24"/>
            <a:stretch/>
          </p:blipFill>
          <p:spPr>
            <a:xfrm>
              <a:off x="601956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25"/>
            <a:stretch/>
          </p:blipFill>
          <p:spPr>
            <a:xfrm>
              <a:off x="61624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26"/>
            <a:stretch/>
          </p:blipFill>
          <p:spPr>
            <a:xfrm>
              <a:off x="63244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27"/>
            <a:stretch/>
          </p:blipFill>
          <p:spPr>
            <a:xfrm>
              <a:off x="556236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28"/>
            <a:stretch/>
          </p:blipFill>
          <p:spPr>
            <a:xfrm>
              <a:off x="647676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29"/>
            <a:stretch/>
          </p:blipFill>
          <p:spPr>
            <a:xfrm>
              <a:off x="6292800" y="89532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1" name="" descr=""/>
            <p:cNvPicPr/>
            <p:nvPr/>
          </p:nvPicPr>
          <p:blipFill>
            <a:blip r:embed="rId30"/>
            <a:stretch/>
          </p:blipFill>
          <p:spPr>
            <a:xfrm>
              <a:off x="645444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2" name="" descr=""/>
            <p:cNvPicPr/>
            <p:nvPr/>
          </p:nvPicPr>
          <p:blipFill>
            <a:blip r:embed="rId31"/>
            <a:stretch/>
          </p:blipFill>
          <p:spPr>
            <a:xfrm>
              <a:off x="66070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3" name="" descr=""/>
            <p:cNvPicPr/>
            <p:nvPr/>
          </p:nvPicPr>
          <p:blipFill>
            <a:blip r:embed="rId32"/>
            <a:stretch/>
          </p:blipFill>
          <p:spPr>
            <a:xfrm>
              <a:off x="6750000" y="89532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4" name="" descr=""/>
            <p:cNvPicPr/>
            <p:nvPr/>
          </p:nvPicPr>
          <p:blipFill>
            <a:blip r:embed="rId33"/>
            <a:stretch/>
          </p:blipFill>
          <p:spPr>
            <a:xfrm>
              <a:off x="691164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5" name="" descr=""/>
            <p:cNvPicPr/>
            <p:nvPr/>
          </p:nvPicPr>
          <p:blipFill>
            <a:blip r:embed="rId34"/>
            <a:stretch/>
          </p:blipFill>
          <p:spPr>
            <a:xfrm>
              <a:off x="7064280" y="89532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6" name=""/>
          <p:cNvGrpSpPr/>
          <p:nvPr/>
        </p:nvGrpSpPr>
        <p:grpSpPr>
          <a:xfrm>
            <a:off x="3124080" y="3352680"/>
            <a:ext cx="766800" cy="819360"/>
            <a:chOff x="3124080" y="3352680"/>
            <a:chExt cx="766800" cy="819360"/>
          </a:xfrm>
        </p:grpSpPr>
        <p:sp>
          <p:nvSpPr>
            <p:cNvPr id="2207" name=""/>
            <p:cNvSpPr/>
            <p:nvPr/>
          </p:nvSpPr>
          <p:spPr>
            <a:xfrm flipH="1">
              <a:off x="3124080" y="3352680"/>
              <a:ext cx="76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890880" y="3352680"/>
              <a:ext cx="0" cy="81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124080" y="3352680"/>
              <a:ext cx="0" cy="42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347280" y="3488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5181480" y="3276720"/>
            <a:ext cx="766800" cy="819000"/>
            <a:chOff x="5181480" y="3276720"/>
            <a:chExt cx="766800" cy="819000"/>
          </a:xfrm>
        </p:grpSpPr>
        <p:sp>
          <p:nvSpPr>
            <p:cNvPr id="2212" name=""/>
            <p:cNvSpPr/>
            <p:nvPr/>
          </p:nvSpPr>
          <p:spPr>
            <a:xfrm flipH="1">
              <a:off x="5181480" y="3276720"/>
              <a:ext cx="76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48280" y="3276720"/>
              <a:ext cx="0" cy="819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181480" y="3276720"/>
              <a:ext cx="0" cy="42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366520" y="343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152280" y="34920"/>
            <a:ext cx="1676520" cy="1184400"/>
            <a:chOff x="152280" y="34920"/>
            <a:chExt cx="1676520" cy="1184400"/>
          </a:xfrm>
        </p:grpSpPr>
        <p:sp>
          <p:nvSpPr>
            <p:cNvPr id="2217" name=""/>
            <p:cNvSpPr/>
            <p:nvPr/>
          </p:nvSpPr>
          <p:spPr>
            <a:xfrm>
              <a:off x="152280" y="349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6680" y="4572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1981080" y="1981080"/>
            <a:ext cx="5224680" cy="2897640"/>
            <a:chOff x="1981080" y="1981080"/>
            <a:chExt cx="5224680" cy="2897640"/>
          </a:xfrm>
        </p:grpSpPr>
        <p:sp>
          <p:nvSpPr>
            <p:cNvPr id="2220" name=""/>
            <p:cNvSpPr/>
            <p:nvPr/>
          </p:nvSpPr>
          <p:spPr>
            <a:xfrm>
              <a:off x="4421520" y="4486320"/>
              <a:ext cx="378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421160" y="2209680"/>
              <a:ext cx="3589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400800" y="2819160"/>
              <a:ext cx="44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252960" y="28288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46200" y="3314520"/>
              <a:ext cx="503280" cy="474840"/>
            </a:xfrm>
            <a:prstGeom prst="ellipse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221520" y="3268440"/>
              <a:ext cx="503280" cy="474840"/>
            </a:xfrm>
            <a:prstGeom prst="ellipse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886200" y="2666880"/>
              <a:ext cx="137160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77120" y="2666880"/>
              <a:ext cx="0" cy="17524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666880" y="4419360"/>
              <a:ext cx="381024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714760" y="2673360"/>
              <a:ext cx="1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66880" y="2647800"/>
              <a:ext cx="0" cy="1790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267080" y="3189240"/>
              <a:ext cx="3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11960" y="3657600"/>
              <a:ext cx="3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781680" y="3279600"/>
              <a:ext cx="424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626160" y="3348000"/>
              <a:ext cx="417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151600" y="2790720"/>
              <a:ext cx="6714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286000" y="2895480"/>
              <a:ext cx="36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282760" y="3189240"/>
              <a:ext cx="362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279880" y="3657600"/>
              <a:ext cx="29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4540320" y="2590560"/>
              <a:ext cx="1094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4554360" y="4343400"/>
              <a:ext cx="1098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rot="5400000">
              <a:off x="5368320" y="2441160"/>
              <a:ext cx="223920" cy="4748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5400000">
              <a:off x="3509640" y="2441520"/>
              <a:ext cx="222120" cy="4762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753440" y="3314520"/>
              <a:ext cx="3405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238560" y="2828880"/>
              <a:ext cx="823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589640" y="2673360"/>
              <a:ext cx="0" cy="603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476600" y="3268440"/>
              <a:ext cx="223920" cy="4748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81080" y="3314520"/>
              <a:ext cx="424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322800" y="1981080"/>
              <a:ext cx="6094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852720" y="3241440"/>
              <a:ext cx="5065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270400" y="1981080"/>
              <a:ext cx="5526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52680" y="2477880"/>
              <a:ext cx="49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5213160" y="2477880"/>
              <a:ext cx="50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63920" y="3243240"/>
              <a:ext cx="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89640" y="37335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15000" y="26668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666880" y="266688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2971800" y="2833560"/>
            <a:ext cx="3276720" cy="1433520"/>
            <a:chOff x="2971800" y="2833560"/>
            <a:chExt cx="3276720" cy="1433520"/>
          </a:xfrm>
        </p:grpSpPr>
        <p:sp>
          <p:nvSpPr>
            <p:cNvPr id="2258" name=""/>
            <p:cNvSpPr/>
            <p:nvPr/>
          </p:nvSpPr>
          <p:spPr>
            <a:xfrm flipH="1">
              <a:off x="2971800" y="2914560"/>
              <a:ext cx="3276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48520" y="2914560"/>
              <a:ext cx="0" cy="1352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971800" y="2914560"/>
              <a:ext cx="0" cy="698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792760" y="283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1066680" y="5381640"/>
            <a:ext cx="74678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回路数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3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孔回路（网孔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990720" y="5838840"/>
            <a:ext cx="7467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用支路电流法求各支路电流应列出三个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0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/>
          <p:nvPr/>
        </p:nvSpPr>
        <p:spPr>
          <a:xfrm>
            <a:off x="345960" y="644400"/>
            <a:ext cx="8398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图中标出各支路电流的参考方向，对选定的回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出回路循行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58920" y="1558800"/>
            <a:ext cx="832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CL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列出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(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独立的结点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80880" y="2514600"/>
            <a:ext cx="8531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VL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列出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(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 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独立的回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方程（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通常可取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网孔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531880" y="344340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立求解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方程，求出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533520" y="3886200"/>
            <a:ext cx="5223960" cy="2897640"/>
            <a:chOff x="533520" y="3886200"/>
            <a:chExt cx="5223960" cy="2897640"/>
          </a:xfrm>
        </p:grpSpPr>
        <p:sp>
          <p:nvSpPr>
            <p:cNvPr id="2269" name=""/>
            <p:cNvSpPr/>
            <p:nvPr/>
          </p:nvSpPr>
          <p:spPr>
            <a:xfrm>
              <a:off x="2973240" y="6391440"/>
              <a:ext cx="378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972880" y="4114800"/>
              <a:ext cx="3589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952880" y="4724280"/>
              <a:ext cx="44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805040" y="47340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98280" y="5219640"/>
              <a:ext cx="502920" cy="474840"/>
            </a:xfrm>
            <a:prstGeom prst="ellipse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773600" y="5173560"/>
              <a:ext cx="502920" cy="474840"/>
            </a:xfrm>
            <a:prstGeom prst="ellipse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38280" y="4572000"/>
              <a:ext cx="137124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029200" y="4572000"/>
              <a:ext cx="0" cy="17524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218960" y="6324480"/>
              <a:ext cx="380988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266840" y="4578480"/>
              <a:ext cx="10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218960" y="4552920"/>
              <a:ext cx="0" cy="1790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819160" y="5094360"/>
              <a:ext cx="39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964040" y="5562720"/>
              <a:ext cx="369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333760" y="5184720"/>
              <a:ext cx="4237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178240" y="5253120"/>
              <a:ext cx="417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03680" y="4695840"/>
              <a:ext cx="6710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38080" y="4800600"/>
              <a:ext cx="364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34840" y="5094360"/>
              <a:ext cx="361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31960" y="5562720"/>
              <a:ext cx="29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3092400" y="4495680"/>
              <a:ext cx="10908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3106440" y="6248520"/>
              <a:ext cx="1094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rot="5400000">
              <a:off x="3920760" y="4346640"/>
              <a:ext cx="223920" cy="4744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rot="5400000">
              <a:off x="2061720" y="4346640"/>
              <a:ext cx="222120" cy="4759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05160" y="5219640"/>
              <a:ext cx="3405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790640" y="4734000"/>
              <a:ext cx="8233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141720" y="4578480"/>
              <a:ext cx="0" cy="603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028680" y="5173560"/>
              <a:ext cx="223560" cy="4748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33520" y="5219640"/>
              <a:ext cx="4237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874880" y="3886200"/>
              <a:ext cx="609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404800" y="5146560"/>
              <a:ext cx="5061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822480" y="3886200"/>
              <a:ext cx="5522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904760" y="4383000"/>
              <a:ext cx="49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>
              <a:off x="3765600" y="4383000"/>
              <a:ext cx="502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916000" y="5148360"/>
              <a:ext cx="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141720" y="56386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267080" y="4572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218960" y="4572000"/>
              <a:ext cx="72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6" name=""/>
          <p:cNvSpPr/>
          <p:nvPr/>
        </p:nvSpPr>
        <p:spPr>
          <a:xfrm>
            <a:off x="5859360" y="388620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45920" y="3962520"/>
            <a:ext cx="10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1600200" y="5257800"/>
            <a:ext cx="766800" cy="819000"/>
            <a:chOff x="1600200" y="5257800"/>
            <a:chExt cx="766800" cy="819000"/>
          </a:xfrm>
        </p:grpSpPr>
        <p:sp>
          <p:nvSpPr>
            <p:cNvPr id="2309" name=""/>
            <p:cNvSpPr/>
            <p:nvPr/>
          </p:nvSpPr>
          <p:spPr>
            <a:xfrm flipH="1">
              <a:off x="1600200" y="5257800"/>
              <a:ext cx="76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367000" y="5257800"/>
              <a:ext cx="0" cy="819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600200" y="5257800"/>
              <a:ext cx="0" cy="42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23400" y="5393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728880" y="5200560"/>
            <a:ext cx="766800" cy="819360"/>
            <a:chOff x="3728880" y="5200560"/>
            <a:chExt cx="766800" cy="819360"/>
          </a:xfrm>
        </p:grpSpPr>
        <p:sp>
          <p:nvSpPr>
            <p:cNvPr id="2314" name=""/>
            <p:cNvSpPr/>
            <p:nvPr/>
          </p:nvSpPr>
          <p:spPr>
            <a:xfrm flipH="1">
              <a:off x="3728880" y="5200560"/>
              <a:ext cx="76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95680" y="5200560"/>
              <a:ext cx="0" cy="81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728880" y="5200560"/>
              <a:ext cx="0" cy="42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913920" y="535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"/>
          <p:cNvSpPr/>
          <p:nvPr/>
        </p:nvSpPr>
        <p:spPr>
          <a:xfrm>
            <a:off x="6960600" y="4191120"/>
            <a:ext cx="166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874480" y="46483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74480" y="54864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534360" y="5043600"/>
            <a:ext cx="224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530040" y="5881680"/>
            <a:ext cx="219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1059120" y="2286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支路电流法的解题步骤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3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/>
          <p:nvPr/>
        </p:nvSpPr>
        <p:spPr>
          <a:xfrm>
            <a:off x="3124080" y="457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列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-1)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个结点电流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28600" y="51055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支路数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6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要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990720" y="1281240"/>
            <a:ext cx="533160" cy="925560"/>
          </a:xfrm>
          <a:custGeom>
            <a:avLst/>
            <a:gdLst/>
            <a:ahLst/>
            <a:rect l="l" t="t" r="r" b="b"/>
            <a:pathLst>
              <a:path w="402" h="679">
                <a:moveTo>
                  <a:pt x="12" y="248"/>
                </a:moveTo>
                <a:cubicBezTo>
                  <a:pt x="28" y="214"/>
                  <a:pt x="57" y="64"/>
                  <a:pt x="108" y="32"/>
                </a:cubicBezTo>
                <a:cubicBezTo>
                  <a:pt x="159" y="0"/>
                  <a:pt x="273" y="14"/>
                  <a:pt x="321" y="56"/>
                </a:cubicBezTo>
                <a:cubicBezTo>
                  <a:pt x="369" y="98"/>
                  <a:pt x="390" y="204"/>
                  <a:pt x="396" y="284"/>
                </a:cubicBezTo>
                <a:cubicBezTo>
                  <a:pt x="402" y="364"/>
                  <a:pt x="388" y="473"/>
                  <a:pt x="360" y="536"/>
                </a:cubicBezTo>
                <a:cubicBezTo>
                  <a:pt x="332" y="599"/>
                  <a:pt x="273" y="645"/>
                  <a:pt x="230" y="662"/>
                </a:cubicBezTo>
                <a:cubicBezTo>
                  <a:pt x="187" y="679"/>
                  <a:pt x="131" y="649"/>
                  <a:pt x="103" y="636"/>
                </a:cubicBezTo>
                <a:cubicBezTo>
                  <a:pt x="75" y="623"/>
                  <a:pt x="77" y="611"/>
                  <a:pt x="60" y="584"/>
                </a:cubicBezTo>
                <a:cubicBezTo>
                  <a:pt x="43" y="557"/>
                  <a:pt x="12" y="498"/>
                  <a:pt x="0" y="47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124080" y="2209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选网孔列回路电压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41292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联立解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124080" y="4637160"/>
            <a:ext cx="5943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支路电流法是电路分析中最基本的方法之一，但当支路数较多时，所需方程的个数较多，求解不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31" name=""/>
          <p:cNvSpPr/>
          <p:nvPr/>
        </p:nvSpPr>
        <p:spPr>
          <a:xfrm>
            <a:off x="288360" y="1666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2" name=""/>
          <p:cNvGrpSpPr/>
          <p:nvPr/>
        </p:nvGrpSpPr>
        <p:grpSpPr>
          <a:xfrm>
            <a:off x="151200" y="47520"/>
            <a:ext cx="3244320" cy="4281480"/>
            <a:chOff x="151200" y="47520"/>
            <a:chExt cx="3244320" cy="4281480"/>
          </a:xfrm>
        </p:grpSpPr>
        <p:sp>
          <p:nvSpPr>
            <p:cNvPr id="2333" name=""/>
            <p:cNvSpPr/>
            <p:nvPr/>
          </p:nvSpPr>
          <p:spPr>
            <a:xfrm>
              <a:off x="1753920" y="4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1200" y="1647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802160" y="283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057840" y="15397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23880" y="380988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23480" y="35812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320120" y="365724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143000" y="144756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rot="21233400">
              <a:off x="688680" y="2285280"/>
              <a:ext cx="582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rot="30000">
              <a:off x="2369520" y="2209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rot="371400">
              <a:off x="614520" y="6228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rot="21584400">
              <a:off x="2446560" y="6994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1787400" y="53316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787400" y="19047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048120" y="175248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905120" y="790200"/>
              <a:ext cx="0" cy="505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119680" y="3189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067120" y="25905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867680" y="83808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33520" y="1736640"/>
              <a:ext cx="0" cy="19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762120" y="3504960"/>
              <a:ext cx="495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000440" y="3045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074600" y="2590560"/>
              <a:ext cx="407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947880" y="306216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1753920" y="1740960"/>
              <a:ext cx="1233720" cy="1232280"/>
              <a:chOff x="1753920" y="1740960"/>
              <a:chExt cx="1233720" cy="1232280"/>
            </a:xfrm>
          </p:grpSpPr>
          <p:sp>
            <p:nvSpPr>
              <p:cNvPr id="2358" name=""/>
              <p:cNvSpPr/>
              <p:nvPr/>
            </p:nvSpPr>
            <p:spPr>
              <a:xfrm flipV="1">
                <a:off x="2514600" y="1740960"/>
                <a:ext cx="4730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1753920" y="2514240"/>
                <a:ext cx="45540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rot="2700000">
                <a:off x="2280960" y="212400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1" name=""/>
            <p:cNvSpPr/>
            <p:nvPr/>
          </p:nvSpPr>
          <p:spPr>
            <a:xfrm>
              <a:off x="1981080" y="53316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1905120" y="2590200"/>
              <a:ext cx="342720" cy="34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295280" y="2666880"/>
              <a:ext cx="330480" cy="328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295280" y="536400"/>
              <a:ext cx="301680" cy="301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987640" y="17125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725480" y="49968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2120" y="17125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rot="5400000">
              <a:off x="1600200" y="3465360"/>
              <a:ext cx="388800" cy="38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33160" y="3657240"/>
              <a:ext cx="252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0" name=""/>
            <p:cNvGrpSpPr/>
            <p:nvPr/>
          </p:nvGrpSpPr>
          <p:grpSpPr>
            <a:xfrm>
              <a:off x="533160" y="520200"/>
              <a:ext cx="1233720" cy="1232280"/>
              <a:chOff x="533160" y="520200"/>
              <a:chExt cx="1233720" cy="1232280"/>
            </a:xfrm>
          </p:grpSpPr>
          <p:sp>
            <p:nvSpPr>
              <p:cNvPr id="2371" name=""/>
              <p:cNvSpPr/>
              <p:nvPr/>
            </p:nvSpPr>
            <p:spPr>
              <a:xfrm flipV="1">
                <a:off x="1293840" y="520200"/>
                <a:ext cx="4730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H="1">
                <a:off x="533160" y="1293480"/>
                <a:ext cx="45540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 rot="2700000">
                <a:off x="1060200" y="90324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533160" y="1752480"/>
              <a:ext cx="1232280" cy="1233720"/>
              <a:chOff x="533160" y="1752480"/>
              <a:chExt cx="1232280" cy="1233720"/>
            </a:xfrm>
          </p:grpSpPr>
          <p:sp>
            <p:nvSpPr>
              <p:cNvPr id="2375" name=""/>
              <p:cNvSpPr/>
              <p:nvPr/>
            </p:nvSpPr>
            <p:spPr>
              <a:xfrm flipH="1" flipV="1">
                <a:off x="533160" y="1752480"/>
                <a:ext cx="468360" cy="4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306440" y="2530800"/>
                <a:ext cx="459000" cy="45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rot="18900000">
                <a:off x="1076400" y="216216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1815840" y="533160"/>
              <a:ext cx="1232280" cy="1233720"/>
              <a:chOff x="1815840" y="533160"/>
              <a:chExt cx="1232280" cy="1233720"/>
            </a:xfrm>
          </p:grpSpPr>
          <p:sp>
            <p:nvSpPr>
              <p:cNvPr id="2379" name=""/>
              <p:cNvSpPr/>
              <p:nvPr/>
            </p:nvSpPr>
            <p:spPr>
              <a:xfrm flipH="1" flipV="1">
                <a:off x="1815840" y="533160"/>
                <a:ext cx="468360" cy="4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589120" y="1311480"/>
                <a:ext cx="459000" cy="45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rot="18900000">
                <a:off x="2359080" y="94284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2" name=""/>
            <p:cNvSpPr/>
            <p:nvPr/>
          </p:nvSpPr>
          <p:spPr>
            <a:xfrm rot="5400000">
              <a:off x="1600200" y="1523880"/>
              <a:ext cx="388800" cy="38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739880" y="29336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787400" y="1587240"/>
              <a:ext cx="0" cy="30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1981080" y="1281240"/>
            <a:ext cx="533520" cy="925560"/>
          </a:xfrm>
          <a:custGeom>
            <a:avLst/>
            <a:gdLst/>
            <a:ahLst/>
            <a:rect l="l" t="t" r="r" b="b"/>
            <a:pathLst>
              <a:path w="402" h="679">
                <a:moveTo>
                  <a:pt x="12" y="248"/>
                </a:moveTo>
                <a:cubicBezTo>
                  <a:pt x="28" y="214"/>
                  <a:pt x="57" y="64"/>
                  <a:pt x="108" y="32"/>
                </a:cubicBezTo>
                <a:cubicBezTo>
                  <a:pt x="159" y="0"/>
                  <a:pt x="273" y="14"/>
                  <a:pt x="321" y="56"/>
                </a:cubicBezTo>
                <a:cubicBezTo>
                  <a:pt x="369" y="98"/>
                  <a:pt x="390" y="204"/>
                  <a:pt x="396" y="284"/>
                </a:cubicBezTo>
                <a:cubicBezTo>
                  <a:pt x="402" y="364"/>
                  <a:pt x="388" y="473"/>
                  <a:pt x="360" y="536"/>
                </a:cubicBezTo>
                <a:cubicBezTo>
                  <a:pt x="332" y="599"/>
                  <a:pt x="273" y="645"/>
                  <a:pt x="230" y="662"/>
                </a:cubicBezTo>
                <a:cubicBezTo>
                  <a:pt x="187" y="679"/>
                  <a:pt x="131" y="649"/>
                  <a:pt x="103" y="636"/>
                </a:cubicBezTo>
                <a:cubicBezTo>
                  <a:pt x="75" y="623"/>
                  <a:pt x="77" y="611"/>
                  <a:pt x="60" y="584"/>
                </a:cubicBezTo>
                <a:cubicBezTo>
                  <a:pt x="43" y="557"/>
                  <a:pt x="12" y="498"/>
                  <a:pt x="0" y="47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77960" y="2881440"/>
            <a:ext cx="2063520" cy="685800"/>
          </a:xfrm>
          <a:custGeom>
            <a:avLst/>
            <a:gdLst/>
            <a:ahLst/>
            <a:rect l="l" t="t" r="r" b="b"/>
            <a:pathLst>
              <a:path w="1300" h="637">
                <a:moveTo>
                  <a:pt x="902" y="302"/>
                </a:moveTo>
                <a:cubicBezTo>
                  <a:pt x="930" y="272"/>
                  <a:pt x="1006" y="164"/>
                  <a:pt x="1070" y="122"/>
                </a:cubicBezTo>
                <a:cubicBezTo>
                  <a:pt x="1134" y="80"/>
                  <a:pt x="1272" y="0"/>
                  <a:pt x="1286" y="50"/>
                </a:cubicBezTo>
                <a:cubicBezTo>
                  <a:pt x="1300" y="100"/>
                  <a:pt x="1243" y="329"/>
                  <a:pt x="1154" y="422"/>
                </a:cubicBezTo>
                <a:cubicBezTo>
                  <a:pt x="1065" y="515"/>
                  <a:pt x="893" y="581"/>
                  <a:pt x="755" y="609"/>
                </a:cubicBezTo>
                <a:cubicBezTo>
                  <a:pt x="617" y="637"/>
                  <a:pt x="432" y="613"/>
                  <a:pt x="328" y="588"/>
                </a:cubicBezTo>
                <a:cubicBezTo>
                  <a:pt x="224" y="563"/>
                  <a:pt x="182" y="506"/>
                  <a:pt x="134" y="458"/>
                </a:cubicBezTo>
                <a:cubicBezTo>
                  <a:pt x="86" y="410"/>
                  <a:pt x="56" y="362"/>
                  <a:pt x="38" y="302"/>
                </a:cubicBezTo>
                <a:cubicBezTo>
                  <a:pt x="20" y="242"/>
                  <a:pt x="0" y="128"/>
                  <a:pt x="26" y="98"/>
                </a:cubicBezTo>
                <a:cubicBezTo>
                  <a:pt x="52" y="68"/>
                  <a:pt x="136" y="94"/>
                  <a:pt x="194" y="122"/>
                </a:cubicBezTo>
                <a:cubicBezTo>
                  <a:pt x="252" y="150"/>
                  <a:pt x="335" y="224"/>
                  <a:pt x="374" y="266"/>
                </a:cubicBezTo>
                <a:cubicBezTo>
                  <a:pt x="413" y="308"/>
                  <a:pt x="418" y="351"/>
                  <a:pt x="429" y="373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676680" y="838080"/>
            <a:ext cx="440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276720" y="26668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b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676680" y="1295280"/>
            <a:ext cx="440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657600" y="1752480"/>
            <a:ext cx="440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276720" y="31384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c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76720" y="35956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c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4920" y="4140360"/>
            <a:ext cx="2590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检流计中的电流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22040" y="1447920"/>
            <a:ext cx="5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8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8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8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"/>
          <p:cNvSpPr/>
          <p:nvPr/>
        </p:nvSpPr>
        <p:spPr>
          <a:xfrm>
            <a:off x="4952880" y="140004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路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但恒流源支路的电流已知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则未知电流只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能否只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方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1924200" y="57452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228600" y="243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228600" y="532800"/>
            <a:ext cx="4776120" cy="2868480"/>
            <a:chOff x="228600" y="532800"/>
            <a:chExt cx="4776120" cy="2868480"/>
          </a:xfrm>
        </p:grpSpPr>
        <p:sp>
          <p:nvSpPr>
            <p:cNvPr id="2399" name=""/>
            <p:cNvSpPr/>
            <p:nvPr/>
          </p:nvSpPr>
          <p:spPr>
            <a:xfrm>
              <a:off x="2068560" y="288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077920" y="532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3267000" y="1740600"/>
              <a:ext cx="424080" cy="39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3267000" y="1938240"/>
              <a:ext cx="42408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335480" y="1741320"/>
              <a:ext cx="210960" cy="397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427640" y="2138400"/>
              <a:ext cx="144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 flipV="1">
              <a:off x="4419720" y="975960"/>
              <a:ext cx="79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2362320" y="10522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3200400" y="166176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495680" y="1066680"/>
              <a:ext cx="0" cy="595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495600" y="2138400"/>
              <a:ext cx="0" cy="7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133720" y="1677960"/>
              <a:ext cx="21096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35240" y="204300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2235240" y="1052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3495600" y="1019160"/>
              <a:ext cx="0" cy="72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372040" y="11127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81720" y="1036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001880" y="1343160"/>
              <a:ext cx="422280" cy="398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096920" y="2038320"/>
              <a:ext cx="211320" cy="397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200240" y="2435400"/>
              <a:ext cx="324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1219320" y="990360"/>
              <a:ext cx="0" cy="103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1384200" y="2008080"/>
              <a:ext cx="3240" cy="59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30400" y="135648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2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1720" y="921240"/>
              <a:ext cx="423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395720" y="20271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28600" y="198036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463920" y="96696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463920" y="280512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200240" y="283680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200240" y="99360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184480" y="96696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176560" y="280512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371600" y="159948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438280" y="1737720"/>
              <a:ext cx="9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81280" y="1661400"/>
              <a:ext cx="9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364200" y="5328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345120" y="2818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1447920" y="1143000"/>
            <a:ext cx="685800" cy="1519200"/>
          </a:xfrm>
          <a:custGeom>
            <a:avLst/>
            <a:gdLst/>
            <a:ahLst/>
            <a:rect l="l" t="t" r="r" b="b"/>
            <a:pathLst>
              <a:path w="432" h="957">
                <a:moveTo>
                  <a:pt x="13" y="368"/>
                </a:moveTo>
                <a:cubicBezTo>
                  <a:pt x="30" y="318"/>
                  <a:pt x="61" y="95"/>
                  <a:pt x="116" y="48"/>
                </a:cubicBezTo>
                <a:cubicBezTo>
                  <a:pt x="171" y="0"/>
                  <a:pt x="293" y="21"/>
                  <a:pt x="345" y="83"/>
                </a:cubicBezTo>
                <a:cubicBezTo>
                  <a:pt x="397" y="145"/>
                  <a:pt x="419" y="303"/>
                  <a:pt x="426" y="422"/>
                </a:cubicBezTo>
                <a:cubicBezTo>
                  <a:pt x="432" y="540"/>
                  <a:pt x="418" y="711"/>
                  <a:pt x="387" y="796"/>
                </a:cubicBezTo>
                <a:cubicBezTo>
                  <a:pt x="356" y="881"/>
                  <a:pt x="285" y="911"/>
                  <a:pt x="239" y="934"/>
                </a:cubicBezTo>
                <a:cubicBezTo>
                  <a:pt x="193" y="957"/>
                  <a:pt x="139" y="945"/>
                  <a:pt x="110" y="934"/>
                </a:cubicBezTo>
                <a:cubicBezTo>
                  <a:pt x="81" y="923"/>
                  <a:pt x="82" y="905"/>
                  <a:pt x="64" y="867"/>
                </a:cubicBezTo>
                <a:cubicBezTo>
                  <a:pt x="46" y="829"/>
                  <a:pt x="13" y="739"/>
                  <a:pt x="0" y="70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600200" y="1309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2552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806560" y="1147680"/>
            <a:ext cx="1231920" cy="1443240"/>
          </a:xfrm>
          <a:custGeom>
            <a:avLst/>
            <a:gdLst/>
            <a:ahLst/>
            <a:rect l="l" t="t" r="r" b="b"/>
            <a:pathLst>
              <a:path w="776" h="909">
                <a:moveTo>
                  <a:pt x="0" y="314"/>
                </a:moveTo>
                <a:cubicBezTo>
                  <a:pt x="33" y="268"/>
                  <a:pt x="110" y="80"/>
                  <a:pt x="214" y="40"/>
                </a:cubicBezTo>
                <a:cubicBezTo>
                  <a:pt x="318" y="0"/>
                  <a:pt x="530" y="16"/>
                  <a:pt x="621" y="72"/>
                </a:cubicBezTo>
                <a:cubicBezTo>
                  <a:pt x="713" y="129"/>
                  <a:pt x="753" y="271"/>
                  <a:pt x="765" y="378"/>
                </a:cubicBezTo>
                <a:cubicBezTo>
                  <a:pt x="776" y="486"/>
                  <a:pt x="749" y="632"/>
                  <a:pt x="696" y="717"/>
                </a:cubicBezTo>
                <a:cubicBezTo>
                  <a:pt x="642" y="802"/>
                  <a:pt x="530" y="863"/>
                  <a:pt x="447" y="886"/>
                </a:cubicBezTo>
                <a:cubicBezTo>
                  <a:pt x="365" y="909"/>
                  <a:pt x="258" y="869"/>
                  <a:pt x="205" y="851"/>
                </a:cubicBezTo>
                <a:cubicBezTo>
                  <a:pt x="151" y="834"/>
                  <a:pt x="155" y="818"/>
                  <a:pt x="123" y="781"/>
                </a:cubicBezTo>
                <a:cubicBezTo>
                  <a:pt x="90" y="745"/>
                  <a:pt x="31" y="666"/>
                  <a:pt x="8" y="6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257800" y="609480"/>
            <a:ext cx="3276720" cy="609840"/>
          </a:xfrm>
          <a:prstGeom prst="wedgeRoundRectCallout">
            <a:avLst>
              <a:gd name="adj1" fmla="val -103199"/>
              <a:gd name="adj2" fmla="val 154166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支路中含有恒流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84872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57200" y="290844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支路中含有恒流源时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若在列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方程时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选回路中不包含恒流源支路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这时，电路中有几条支路含有恒流源，则可少列几个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57200" y="4646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所选回路中包含恒流源支路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则因恒流源两端的电压未知，所以，有一个恒流源就出现一个未知电压，因此，在此种情况下不可少列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5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5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3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阻串并联联接的等效变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60948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.1.1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电阻的串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1066680"/>
            <a:ext cx="58676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特点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阻一个接一个地顺序相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1169280" y="3783960"/>
            <a:ext cx="604800" cy="504720"/>
          </a:xfrm>
          <a:custGeom>
            <a:avLst/>
            <a:gdLst>
              <a:gd name="textAreaLeft" fmla="*/ 75600 w 604800"/>
              <a:gd name="textAreaRight" fmla="*/ 529200 w 6048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886200"/>
            <a:ext cx="5289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电阻串联时的分压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71800" y="4460760"/>
                <a:ext cx="2336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460760"/>
                <a:ext cx="24382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965320" y="2895480"/>
            <a:ext cx="35877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514600"/>
            <a:ext cx="566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阻等于各电阻之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4290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电阻上电压的分配与电阻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030320"/>
            <a:ext cx="2293920" cy="2705040"/>
            <a:chOff x="380880" y="1030320"/>
            <a:chExt cx="2293920" cy="2705040"/>
          </a:xfrm>
        </p:grpSpPr>
        <p:sp>
          <p:nvSpPr>
            <p:cNvPr id="118" name=""/>
            <p:cNvSpPr/>
            <p:nvPr/>
          </p:nvSpPr>
          <p:spPr>
            <a:xfrm>
              <a:off x="838080" y="3672000"/>
              <a:ext cx="124488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1625760"/>
              <a:ext cx="0" cy="3711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2760" y="1995480"/>
              <a:ext cx="3405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1960200" y="1995120"/>
              <a:ext cx="173160" cy="36036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5720" y="18684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17720" y="1523880"/>
              <a:ext cx="49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837720" y="1614600"/>
              <a:ext cx="121932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7880" y="2401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2909880"/>
              <a:ext cx="54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56920" y="2782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3800" y="10303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5760" y="1614600"/>
              <a:ext cx="8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222408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1614600"/>
              <a:ext cx="8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55760" y="2529000"/>
              <a:ext cx="8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321480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13848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7400" y="3290760"/>
              <a:ext cx="0" cy="371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7400" y="2376360"/>
              <a:ext cx="0" cy="533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160164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363060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1960200" y="2930040"/>
              <a:ext cx="173160" cy="36036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80880" y="4267080"/>
            <a:ext cx="2210040" cy="2095200"/>
            <a:chOff x="380880" y="4267080"/>
            <a:chExt cx="2210040" cy="2095200"/>
          </a:xfrm>
        </p:grpSpPr>
        <p:sp>
          <p:nvSpPr>
            <p:cNvPr id="141" name=""/>
            <p:cNvSpPr/>
            <p:nvPr/>
          </p:nvSpPr>
          <p:spPr>
            <a:xfrm>
              <a:off x="838080" y="6298920"/>
              <a:ext cx="124488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08160" y="5435280"/>
              <a:ext cx="482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1960200" y="5419080"/>
              <a:ext cx="173160" cy="36036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17720" y="4760640"/>
              <a:ext cx="49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37720" y="4851000"/>
              <a:ext cx="121932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880" y="536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53800" y="42670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4851000"/>
              <a:ext cx="8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58417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400" y="5757480"/>
              <a:ext cx="0" cy="533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480024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625752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7400" y="4848120"/>
              <a:ext cx="0" cy="571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666880" y="20574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阻中通过同一电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334120"/>
            <a:ext cx="5715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压、限流、调节电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"/>
          <p:cNvSpPr/>
          <p:nvPr/>
        </p:nvSpPr>
        <p:spPr>
          <a:xfrm>
            <a:off x="304920" y="3657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列结点电流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05520" y="4572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路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但恒流源支路的电流已知，则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未知电流只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，所以可只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80880" y="4586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列回路电压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04920" y="594360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联立解得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–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6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924200" y="56689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49" name=""/>
          <p:cNvSpPr/>
          <p:nvPr/>
        </p:nvSpPr>
        <p:spPr>
          <a:xfrm>
            <a:off x="228600" y="166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85800" y="41148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–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85800" y="501480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85800" y="548640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3" name=""/>
          <p:cNvGrpSpPr/>
          <p:nvPr/>
        </p:nvGrpSpPr>
        <p:grpSpPr>
          <a:xfrm>
            <a:off x="228600" y="456480"/>
            <a:ext cx="4775760" cy="2868480"/>
            <a:chOff x="228600" y="456480"/>
            <a:chExt cx="4775760" cy="2868480"/>
          </a:xfrm>
        </p:grpSpPr>
        <p:sp>
          <p:nvSpPr>
            <p:cNvPr id="2454" name=""/>
            <p:cNvSpPr/>
            <p:nvPr/>
          </p:nvSpPr>
          <p:spPr>
            <a:xfrm>
              <a:off x="2068560" y="2804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07756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3267000" y="1664280"/>
              <a:ext cx="423360" cy="39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3267000" y="1861920"/>
              <a:ext cx="42336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335120" y="1665000"/>
              <a:ext cx="210960" cy="397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427280" y="2062080"/>
              <a:ext cx="108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 flipV="1">
              <a:off x="4419000" y="899640"/>
              <a:ext cx="756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2361960" y="97596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3200040" y="15854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495680" y="990360"/>
              <a:ext cx="0" cy="595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495600" y="2062080"/>
              <a:ext cx="0" cy="7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133360" y="1601640"/>
              <a:ext cx="21060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234880" y="1966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2234880" y="975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3495600" y="942840"/>
              <a:ext cx="0" cy="72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371680" y="1036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81360" y="9601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001520" y="1266840"/>
              <a:ext cx="421920" cy="398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096560" y="1962000"/>
              <a:ext cx="210960" cy="397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199880" y="2359080"/>
              <a:ext cx="288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1199880" y="917280"/>
              <a:ext cx="0" cy="10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1384200" y="1931760"/>
              <a:ext cx="2520" cy="59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0040" y="128016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2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01360" y="844920"/>
              <a:ext cx="423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395360" y="19508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28600" y="190404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463560" y="890640"/>
              <a:ext cx="8532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463560" y="2728800"/>
              <a:ext cx="8532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199880" y="2760480"/>
              <a:ext cx="32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199880" y="917640"/>
              <a:ext cx="32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184120" y="890640"/>
              <a:ext cx="8532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176200" y="2728800"/>
              <a:ext cx="8532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71240" y="152316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438280" y="1661400"/>
              <a:ext cx="9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581280" y="1585080"/>
              <a:ext cx="9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363480" y="456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344760" y="2742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1" name=""/>
          <p:cNvSpPr/>
          <p:nvPr/>
        </p:nvSpPr>
        <p:spPr>
          <a:xfrm>
            <a:off x="5029200" y="2209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当不需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间的电流时，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)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b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可分别看成一个结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219320" y="31384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支路中含有恒流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447920" y="1066680"/>
            <a:ext cx="685800" cy="1519200"/>
          </a:xfrm>
          <a:custGeom>
            <a:avLst/>
            <a:gdLst/>
            <a:ahLst/>
            <a:rect l="l" t="t" r="r" b="b"/>
            <a:pathLst>
              <a:path w="432" h="957">
                <a:moveTo>
                  <a:pt x="13" y="368"/>
                </a:moveTo>
                <a:cubicBezTo>
                  <a:pt x="30" y="318"/>
                  <a:pt x="61" y="95"/>
                  <a:pt x="116" y="48"/>
                </a:cubicBezTo>
                <a:cubicBezTo>
                  <a:pt x="171" y="0"/>
                  <a:pt x="293" y="21"/>
                  <a:pt x="345" y="83"/>
                </a:cubicBezTo>
                <a:cubicBezTo>
                  <a:pt x="397" y="145"/>
                  <a:pt x="419" y="303"/>
                  <a:pt x="426" y="422"/>
                </a:cubicBezTo>
                <a:cubicBezTo>
                  <a:pt x="432" y="540"/>
                  <a:pt x="418" y="711"/>
                  <a:pt x="387" y="796"/>
                </a:cubicBezTo>
                <a:cubicBezTo>
                  <a:pt x="356" y="881"/>
                  <a:pt x="285" y="911"/>
                  <a:pt x="239" y="934"/>
                </a:cubicBezTo>
                <a:cubicBezTo>
                  <a:pt x="193" y="957"/>
                  <a:pt x="139" y="945"/>
                  <a:pt x="110" y="934"/>
                </a:cubicBezTo>
                <a:cubicBezTo>
                  <a:pt x="81" y="923"/>
                  <a:pt x="82" y="905"/>
                  <a:pt x="64" y="867"/>
                </a:cubicBezTo>
                <a:cubicBezTo>
                  <a:pt x="46" y="829"/>
                  <a:pt x="13" y="739"/>
                  <a:pt x="0" y="70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00200" y="1233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12552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806560" y="1071720"/>
            <a:ext cx="1231920" cy="1442880"/>
          </a:xfrm>
          <a:custGeom>
            <a:avLst/>
            <a:gdLst/>
            <a:ahLst/>
            <a:rect l="l" t="t" r="r" b="b"/>
            <a:pathLst>
              <a:path w="776" h="909">
                <a:moveTo>
                  <a:pt x="0" y="314"/>
                </a:moveTo>
                <a:cubicBezTo>
                  <a:pt x="33" y="268"/>
                  <a:pt x="110" y="80"/>
                  <a:pt x="214" y="40"/>
                </a:cubicBezTo>
                <a:cubicBezTo>
                  <a:pt x="318" y="0"/>
                  <a:pt x="530" y="16"/>
                  <a:pt x="621" y="72"/>
                </a:cubicBezTo>
                <a:cubicBezTo>
                  <a:pt x="713" y="129"/>
                  <a:pt x="753" y="271"/>
                  <a:pt x="765" y="378"/>
                </a:cubicBezTo>
                <a:cubicBezTo>
                  <a:pt x="776" y="486"/>
                  <a:pt x="749" y="632"/>
                  <a:pt x="696" y="717"/>
                </a:cubicBezTo>
                <a:cubicBezTo>
                  <a:pt x="642" y="802"/>
                  <a:pt x="530" y="863"/>
                  <a:pt x="447" y="886"/>
                </a:cubicBezTo>
                <a:cubicBezTo>
                  <a:pt x="365" y="909"/>
                  <a:pt x="258" y="869"/>
                  <a:pt x="205" y="851"/>
                </a:cubicBezTo>
                <a:cubicBezTo>
                  <a:pt x="151" y="834"/>
                  <a:pt x="155" y="818"/>
                  <a:pt x="123" y="781"/>
                </a:cubicBezTo>
                <a:cubicBezTo>
                  <a:pt x="90" y="745"/>
                  <a:pt x="31" y="666"/>
                  <a:pt x="8" y="6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81480" y="414324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所选回路不包含恒流源支路，所以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网孔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0" dur="5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5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2" dur="5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0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/>
          <p:nvPr/>
        </p:nvSpPr>
        <p:spPr>
          <a:xfrm>
            <a:off x="304920" y="32004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列结点电流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105520" y="457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路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恒流源支路的电流已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80880" y="4129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列回路电压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80880" y="594360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立解得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–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6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1924200" y="5211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3" name=""/>
          <p:cNvSpPr/>
          <p:nvPr/>
        </p:nvSpPr>
        <p:spPr>
          <a:xfrm>
            <a:off x="228600" y="166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试求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85800" y="36576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–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85800" y="455760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85800" y="502920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228600" y="456480"/>
            <a:ext cx="5110200" cy="2868480"/>
            <a:chOff x="228600" y="456480"/>
            <a:chExt cx="5110200" cy="2868480"/>
          </a:xfrm>
        </p:grpSpPr>
        <p:sp>
          <p:nvSpPr>
            <p:cNvPr id="2508" name=""/>
            <p:cNvSpPr/>
            <p:nvPr/>
          </p:nvSpPr>
          <p:spPr>
            <a:xfrm>
              <a:off x="2068560" y="2804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07792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3267000" y="1665360"/>
              <a:ext cx="424080" cy="39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3267000" y="1861920"/>
              <a:ext cx="42408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335480" y="1665360"/>
              <a:ext cx="210960" cy="39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427640" y="2062080"/>
              <a:ext cx="144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 flipV="1">
              <a:off x="4419720" y="900000"/>
              <a:ext cx="7920" cy="76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2362320" y="97596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V="1">
              <a:off x="3200400" y="158580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495680" y="990000"/>
              <a:ext cx="0" cy="59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495600" y="2062080"/>
              <a:ext cx="0" cy="7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133720" y="1601640"/>
              <a:ext cx="21096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35240" y="19670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2235240" y="975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3495600" y="942480"/>
              <a:ext cx="0" cy="72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372040" y="1036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581720" y="9604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001880" y="1266840"/>
              <a:ext cx="422280" cy="398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096920" y="1962000"/>
              <a:ext cx="211320" cy="397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200240" y="2359080"/>
              <a:ext cx="324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1200240" y="917640"/>
              <a:ext cx="0" cy="101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1384200" y="1931760"/>
              <a:ext cx="3240" cy="59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30400" y="128052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2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01720" y="844920"/>
              <a:ext cx="423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395720" y="19508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28600" y="190440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463920" y="89064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63920" y="272880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200240" y="276084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200240" y="91764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184480" y="89064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76560" y="272880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371600" y="152316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438280" y="1661400"/>
              <a:ext cx="9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419720" y="159948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4200" y="456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45120" y="2742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1447920" y="1066680"/>
            <a:ext cx="685800" cy="1519200"/>
          </a:xfrm>
          <a:custGeom>
            <a:avLst/>
            <a:gdLst/>
            <a:ahLst/>
            <a:rect l="l" t="t" r="r" b="b"/>
            <a:pathLst>
              <a:path w="432" h="957">
                <a:moveTo>
                  <a:pt x="13" y="368"/>
                </a:moveTo>
                <a:cubicBezTo>
                  <a:pt x="30" y="318"/>
                  <a:pt x="61" y="95"/>
                  <a:pt x="116" y="48"/>
                </a:cubicBezTo>
                <a:cubicBezTo>
                  <a:pt x="171" y="0"/>
                  <a:pt x="293" y="21"/>
                  <a:pt x="345" y="83"/>
                </a:cubicBezTo>
                <a:cubicBezTo>
                  <a:pt x="397" y="145"/>
                  <a:pt x="419" y="303"/>
                  <a:pt x="426" y="422"/>
                </a:cubicBezTo>
                <a:cubicBezTo>
                  <a:pt x="432" y="540"/>
                  <a:pt x="418" y="711"/>
                  <a:pt x="387" y="796"/>
                </a:cubicBezTo>
                <a:cubicBezTo>
                  <a:pt x="356" y="881"/>
                  <a:pt x="285" y="911"/>
                  <a:pt x="239" y="934"/>
                </a:cubicBezTo>
                <a:cubicBezTo>
                  <a:pt x="193" y="957"/>
                  <a:pt x="139" y="945"/>
                  <a:pt x="110" y="934"/>
                </a:cubicBezTo>
                <a:cubicBezTo>
                  <a:pt x="81" y="923"/>
                  <a:pt x="82" y="905"/>
                  <a:pt x="64" y="867"/>
                </a:cubicBezTo>
                <a:cubicBezTo>
                  <a:pt x="46" y="829"/>
                  <a:pt x="13" y="739"/>
                  <a:pt x="0" y="70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600200" y="1066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372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514600" y="1066680"/>
            <a:ext cx="762120" cy="1443240"/>
          </a:xfrm>
          <a:custGeom>
            <a:avLst/>
            <a:gdLst/>
            <a:ahLst/>
            <a:rect l="l" t="t" r="r" b="b"/>
            <a:pathLst>
              <a:path w="776" h="909">
                <a:moveTo>
                  <a:pt x="0" y="314"/>
                </a:moveTo>
                <a:cubicBezTo>
                  <a:pt x="33" y="268"/>
                  <a:pt x="110" y="80"/>
                  <a:pt x="214" y="40"/>
                </a:cubicBezTo>
                <a:cubicBezTo>
                  <a:pt x="318" y="0"/>
                  <a:pt x="530" y="16"/>
                  <a:pt x="621" y="72"/>
                </a:cubicBezTo>
                <a:cubicBezTo>
                  <a:pt x="713" y="129"/>
                  <a:pt x="753" y="271"/>
                  <a:pt x="765" y="378"/>
                </a:cubicBezTo>
                <a:cubicBezTo>
                  <a:pt x="776" y="486"/>
                  <a:pt x="749" y="632"/>
                  <a:pt x="696" y="717"/>
                </a:cubicBezTo>
                <a:cubicBezTo>
                  <a:pt x="642" y="802"/>
                  <a:pt x="530" y="863"/>
                  <a:pt x="447" y="886"/>
                </a:cubicBezTo>
                <a:cubicBezTo>
                  <a:pt x="365" y="909"/>
                  <a:pt x="258" y="869"/>
                  <a:pt x="205" y="851"/>
                </a:cubicBezTo>
                <a:cubicBezTo>
                  <a:pt x="151" y="834"/>
                  <a:pt x="155" y="818"/>
                  <a:pt x="123" y="781"/>
                </a:cubicBezTo>
                <a:cubicBezTo>
                  <a:pt x="90" y="745"/>
                  <a:pt x="31" y="666"/>
                  <a:pt x="8" y="6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105520" y="327672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所选回路中包含恒流源支路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而恒流源两端的电压未知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网孔则要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603600" y="1092240"/>
            <a:ext cx="663480" cy="1359000"/>
          </a:xfrm>
          <a:custGeom>
            <a:avLst/>
            <a:gdLst/>
            <a:ahLst/>
            <a:rect l="l" t="t" r="r" b="b"/>
            <a:pathLst>
              <a:path w="418" h="856">
                <a:moveTo>
                  <a:pt x="34" y="188"/>
                </a:moveTo>
                <a:cubicBezTo>
                  <a:pt x="54" y="161"/>
                  <a:pt x="89" y="46"/>
                  <a:pt x="140" y="24"/>
                </a:cubicBezTo>
                <a:cubicBezTo>
                  <a:pt x="191" y="2"/>
                  <a:pt x="296" y="0"/>
                  <a:pt x="341" y="56"/>
                </a:cubicBezTo>
                <a:cubicBezTo>
                  <a:pt x="387" y="113"/>
                  <a:pt x="407" y="255"/>
                  <a:pt x="413" y="362"/>
                </a:cubicBezTo>
                <a:cubicBezTo>
                  <a:pt x="418" y="470"/>
                  <a:pt x="398" y="625"/>
                  <a:pt x="378" y="701"/>
                </a:cubicBezTo>
                <a:cubicBezTo>
                  <a:pt x="358" y="777"/>
                  <a:pt x="312" y="795"/>
                  <a:pt x="292" y="820"/>
                </a:cubicBezTo>
                <a:cubicBezTo>
                  <a:pt x="272" y="845"/>
                  <a:pt x="295" y="850"/>
                  <a:pt x="260" y="853"/>
                </a:cubicBezTo>
                <a:cubicBezTo>
                  <a:pt x="225" y="856"/>
                  <a:pt x="125" y="853"/>
                  <a:pt x="82" y="837"/>
                </a:cubicBezTo>
                <a:cubicBezTo>
                  <a:pt x="39" y="821"/>
                  <a:pt x="17" y="773"/>
                  <a:pt x="0" y="7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1132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657600" y="1450800"/>
            <a:ext cx="83808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550080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7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4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1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981080" y="1980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 5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结点电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036440" y="685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点电压的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0880" y="11415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选电路中某一结点为零电位参考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他各结点对参考点的电压，称为结点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点电压的参考方向从结点指向参考结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341440" y="3657600"/>
            <a:ext cx="5087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点电压法适用于支路数较多，结点数较少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57200" y="2452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点电压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结点电压为未知量，列方程求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0880" y="3152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求出结点电压后，可应用基尔霍夫定律或欧姆定律求出各支路的电流或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609480" y="4101480"/>
            <a:ext cx="4623840" cy="2758680"/>
            <a:chOff x="609480" y="4101480"/>
            <a:chExt cx="4623840" cy="2758680"/>
          </a:xfrm>
        </p:grpSpPr>
        <p:sp>
          <p:nvSpPr>
            <p:cNvPr id="2561" name=""/>
            <p:cNvSpPr/>
            <p:nvPr/>
          </p:nvSpPr>
          <p:spPr>
            <a:xfrm>
              <a:off x="2297160" y="633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306520" y="4101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3495600" y="5265720"/>
              <a:ext cx="424080" cy="37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3495600" y="5452920"/>
              <a:ext cx="42408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564080" y="5265720"/>
              <a:ext cx="21096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656240" y="5643720"/>
              <a:ext cx="1440" cy="66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H="1" flipV="1">
              <a:off x="4648320" y="4537080"/>
              <a:ext cx="792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2590920" y="4608360"/>
              <a:ext cx="0" cy="581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3429000" y="5189040"/>
              <a:ext cx="0" cy="58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24280" y="4622760"/>
              <a:ext cx="0" cy="566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724200" y="564372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362320" y="5205240"/>
              <a:ext cx="21096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463840" y="5553000"/>
              <a:ext cx="0" cy="80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2463840" y="4608360"/>
              <a:ext cx="0" cy="58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3724200" y="4576680"/>
              <a:ext cx="0" cy="68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600640" y="46530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810320" y="45799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230480" y="4886280"/>
              <a:ext cx="422280" cy="37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325520" y="5548320"/>
              <a:ext cx="211320" cy="379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428840" y="5927760"/>
              <a:ext cx="3240" cy="3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1428840" y="45529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1612800" y="5519880"/>
              <a:ext cx="3240" cy="566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62120" y="479988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030320" y="4458240"/>
              <a:ext cx="423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624320" y="55260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9480" y="5452920"/>
              <a:ext cx="919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692520" y="4527720"/>
              <a:ext cx="85680" cy="80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692520" y="628020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428840" y="631044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428840" y="455292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413080" y="4527720"/>
              <a:ext cx="85680" cy="80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405160" y="628020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671480" y="5089320"/>
              <a:ext cx="919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814480" y="5135400"/>
              <a:ext cx="919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881520" y="514836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6" name=""/>
          <p:cNvSpPr/>
          <p:nvPr/>
        </p:nvSpPr>
        <p:spPr>
          <a:xfrm>
            <a:off x="5257800" y="434340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左图电路中只含有两个结点，若设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参考结点，则电路中只有一个未知的结点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2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2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结点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点电压方程的推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57200" y="685800"/>
            <a:ext cx="36576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点电压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考方向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向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9" name=""/>
              <p:cNvSpPr txBox="1"/>
              <p:nvPr/>
            </p:nvSpPr>
            <p:spPr>
              <a:xfrm>
                <a:off x="4038480" y="4191120"/>
                <a:ext cx="26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0" name=""/>
              <p:cNvSpPr txBox="1"/>
              <p:nvPr/>
            </p:nvSpPr>
            <p:spPr>
              <a:xfrm>
                <a:off x="4038480" y="4743360"/>
                <a:ext cx="21574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1" name=""/>
          <p:cNvSpPr/>
          <p:nvPr/>
        </p:nvSpPr>
        <p:spPr>
          <a:xfrm>
            <a:off x="1182600" y="3305160"/>
            <a:ext cx="3487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欧姆定律求各支路电流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2" name=""/>
              <p:cNvSpPr txBox="1"/>
              <p:nvPr/>
            </p:nvSpPr>
            <p:spPr>
              <a:xfrm>
                <a:off x="914400" y="3979800"/>
                <a:ext cx="1362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3" name=""/>
              <p:cNvSpPr txBox="1"/>
              <p:nvPr/>
            </p:nvSpPr>
            <p:spPr>
              <a:xfrm>
                <a:off x="835200" y="5248440"/>
                <a:ext cx="16351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2971800" y="5151600"/>
                <a:ext cx="9777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5" name=""/>
          <p:cNvSpPr/>
          <p:nvPr/>
        </p:nvSpPr>
        <p:spPr>
          <a:xfrm>
            <a:off x="640440" y="2133720"/>
            <a:ext cx="3797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结点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列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6" name=""/>
          <p:cNvGrpSpPr/>
          <p:nvPr/>
        </p:nvGrpSpPr>
        <p:grpSpPr>
          <a:xfrm>
            <a:off x="6783840" y="3946680"/>
            <a:ext cx="1818000" cy="2225520"/>
            <a:chOff x="6783840" y="3946680"/>
            <a:chExt cx="1818000" cy="2225520"/>
          </a:xfrm>
        </p:grpSpPr>
        <p:grpSp>
          <p:nvGrpSpPr>
            <p:cNvPr id="2607" name=""/>
            <p:cNvGrpSpPr/>
            <p:nvPr/>
          </p:nvGrpSpPr>
          <p:grpSpPr>
            <a:xfrm>
              <a:off x="6783840" y="3998880"/>
              <a:ext cx="1818000" cy="2135880"/>
              <a:chOff x="6783840" y="3998880"/>
              <a:chExt cx="1818000" cy="2135880"/>
            </a:xfrm>
          </p:grpSpPr>
          <p:sp>
            <p:nvSpPr>
              <p:cNvPr id="2608" name=""/>
              <p:cNvSpPr/>
              <p:nvPr/>
            </p:nvSpPr>
            <p:spPr>
              <a:xfrm>
                <a:off x="7241760" y="4319640"/>
                <a:ext cx="463680" cy="484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356240" y="5167440"/>
                <a:ext cx="233280" cy="482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72160" y="5650200"/>
                <a:ext cx="1440" cy="48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7472160" y="3998880"/>
                <a:ext cx="0" cy="116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7238880" y="5178600"/>
                <a:ext cx="0" cy="53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783840" y="42372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011720" y="4033440"/>
                <a:ext cx="465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881760" y="5165640"/>
                <a:ext cx="42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545960" y="51516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472160" y="39988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472160" y="6132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137800" y="48016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155080" y="399888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77400" y="55533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>
              <a:off x="8386560" y="3946680"/>
              <a:ext cx="93600" cy="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364240" y="6078600"/>
              <a:ext cx="93600" cy="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4" name=""/>
          <p:cNvGrpSpPr/>
          <p:nvPr/>
        </p:nvGrpSpPr>
        <p:grpSpPr>
          <a:xfrm>
            <a:off x="4353840" y="304200"/>
            <a:ext cx="4661640" cy="2897280"/>
            <a:chOff x="4353840" y="304200"/>
            <a:chExt cx="4661640" cy="2897280"/>
          </a:xfrm>
        </p:grpSpPr>
        <p:sp>
          <p:nvSpPr>
            <p:cNvPr id="2625" name=""/>
            <p:cNvSpPr/>
            <p:nvPr/>
          </p:nvSpPr>
          <p:spPr>
            <a:xfrm>
              <a:off x="6687000" y="2470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629400" y="304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7294680" y="1760040"/>
              <a:ext cx="360360" cy="36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7274160" y="1923840"/>
              <a:ext cx="4032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237520" y="1760040"/>
              <a:ext cx="2178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347320" y="2088720"/>
              <a:ext cx="144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V="1">
              <a:off x="8347320" y="1188720"/>
              <a:ext cx="1440" cy="57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5942160" y="2006280"/>
              <a:ext cx="1440" cy="49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7237440" y="1715400"/>
              <a:ext cx="1800" cy="4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229600" y="1267920"/>
              <a:ext cx="0" cy="49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04000" y="2641320"/>
              <a:ext cx="1776240" cy="32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466040" y="2088720"/>
              <a:ext cx="180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455440" y="1325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8" name=""/>
            <p:cNvGrpSpPr/>
            <p:nvPr/>
          </p:nvGrpSpPr>
          <p:grpSpPr>
            <a:xfrm>
              <a:off x="5923080" y="1188720"/>
              <a:ext cx="360360" cy="734760"/>
              <a:chOff x="5923080" y="1188720"/>
              <a:chExt cx="360360" cy="734760"/>
            </a:xfrm>
          </p:grpSpPr>
          <p:sp>
            <p:nvSpPr>
              <p:cNvPr id="2639" name=""/>
              <p:cNvSpPr/>
              <p:nvPr/>
            </p:nvSpPr>
            <p:spPr>
              <a:xfrm>
                <a:off x="5923080" y="1432800"/>
                <a:ext cx="360360" cy="360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097680" y="1188720"/>
                <a:ext cx="0" cy="73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1" name=""/>
            <p:cNvGrpSpPr/>
            <p:nvPr/>
          </p:nvGrpSpPr>
          <p:grpSpPr>
            <a:xfrm>
              <a:off x="5988240" y="1677600"/>
              <a:ext cx="218880" cy="983520"/>
              <a:chOff x="5988240" y="1677600"/>
              <a:chExt cx="218880" cy="983520"/>
            </a:xfrm>
          </p:grpSpPr>
          <p:sp>
            <p:nvSpPr>
              <p:cNvPr id="2642" name=""/>
              <p:cNvSpPr/>
              <p:nvPr/>
            </p:nvSpPr>
            <p:spPr>
              <a:xfrm>
                <a:off x="5988240" y="2005920"/>
                <a:ext cx="218880" cy="326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097680" y="2332800"/>
                <a:ext cx="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6097680" y="1677600"/>
                <a:ext cx="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5639040" y="990720"/>
              <a:ext cx="441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5004000" y="819000"/>
              <a:ext cx="1676160" cy="36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7466040" y="1162800"/>
              <a:ext cx="0" cy="59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586840" y="19555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69520" y="165060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58440" y="1117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822920" y="1431720"/>
              <a:ext cx="360360" cy="36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894560" y="2006280"/>
              <a:ext cx="201600" cy="32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004000" y="2334960"/>
              <a:ext cx="1440" cy="32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5004000" y="1188720"/>
              <a:ext cx="1440" cy="81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4800600" y="2005920"/>
              <a:ext cx="0" cy="51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353840" y="1325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69120" y="979560"/>
              <a:ext cx="4381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443840" y="20016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047560" y="1914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165360" y="1914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82840" y="16506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680160" y="757080"/>
              <a:ext cx="136800" cy="101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88160" y="2927160"/>
              <a:ext cx="135000" cy="102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816960" y="819000"/>
              <a:ext cx="1530360" cy="38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6896160" y="2661840"/>
              <a:ext cx="145116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6097680" y="837720"/>
              <a:ext cx="58248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H="1">
              <a:off x="6895800" y="2634840"/>
              <a:ext cx="56988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6816600" y="840960"/>
              <a:ext cx="649080" cy="32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097680" y="2641320"/>
              <a:ext cx="717480" cy="30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0" name=""/>
            <p:cNvGrpSpPr/>
            <p:nvPr/>
          </p:nvGrpSpPr>
          <p:grpSpPr>
            <a:xfrm>
              <a:off x="6629400" y="3018960"/>
              <a:ext cx="457200" cy="182520"/>
              <a:chOff x="6629400" y="3018960"/>
              <a:chExt cx="457200" cy="182520"/>
            </a:xfrm>
          </p:grpSpPr>
          <p:sp>
            <p:nvSpPr>
              <p:cNvPr id="2671" name=""/>
              <p:cNvSpPr/>
              <p:nvPr/>
            </p:nvSpPr>
            <p:spPr>
              <a:xfrm>
                <a:off x="6858000" y="3018960"/>
                <a:ext cx="0" cy="182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629400" y="32014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3" name=""/>
            <p:cNvSpPr/>
            <p:nvPr/>
          </p:nvSpPr>
          <p:spPr>
            <a:xfrm>
              <a:off x="8458200" y="9694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8458200" y="233496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530200" y="1714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2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2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2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2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7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"/>
          <p:cNvSpPr/>
          <p:nvPr/>
        </p:nvSpPr>
        <p:spPr>
          <a:xfrm>
            <a:off x="624240" y="83808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将各电流代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方程则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7" name=""/>
              <p:cNvSpPr txBox="1"/>
              <p:nvPr/>
            </p:nvSpPr>
            <p:spPr>
              <a:xfrm>
                <a:off x="2819520" y="838080"/>
                <a:ext cx="5105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8" name=""/>
          <p:cNvSpPr/>
          <p:nvPr/>
        </p:nvSpPr>
        <p:spPr>
          <a:xfrm>
            <a:off x="594000" y="1905120"/>
            <a:ext cx="1034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整理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990720" y="1828800"/>
                <a:ext cx="3165480" cy="21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5105520" y="2209680"/>
                <a:ext cx="29336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81" name="" descr=""/>
          <p:cNvPicPr/>
          <p:nvPr/>
        </p:nvPicPr>
        <p:blipFill>
          <a:blip r:embed="rId1"/>
          <a:stretch/>
        </p:blipFill>
        <p:spPr>
          <a:xfrm>
            <a:off x="7643880" y="3886200"/>
            <a:ext cx="890640" cy="1133640"/>
          </a:xfrm>
          <a:prstGeom prst="rect">
            <a:avLst/>
          </a:prstGeom>
          <a:ln w="0">
            <a:noFill/>
          </a:ln>
        </p:spPr>
      </p:pic>
      <p:sp>
        <p:nvSpPr>
          <p:cNvPr id="2682" name=""/>
          <p:cNvSpPr/>
          <p:nvPr/>
        </p:nvSpPr>
        <p:spPr>
          <a:xfrm>
            <a:off x="2829960" y="3429000"/>
            <a:ext cx="103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上式仅适用于两个结点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57200" y="4295880"/>
            <a:ext cx="86868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分母是各支路电导之和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恒为正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分子中各项可以为正，也可以可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结点电压的参考方向相反时取正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同时则取负号。而与各支路电流的参考方向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317960" y="39456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结点的结点电压方程的推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149080" y="1600200"/>
            <a:ext cx="1887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即结点电压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2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2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2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2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2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2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28600" y="789840"/>
            <a:ext cx="4776120" cy="2868480"/>
            <a:chOff x="228600" y="789840"/>
            <a:chExt cx="4776120" cy="2868480"/>
          </a:xfrm>
        </p:grpSpPr>
        <p:sp>
          <p:nvSpPr>
            <p:cNvPr id="2688" name=""/>
            <p:cNvSpPr/>
            <p:nvPr/>
          </p:nvSpPr>
          <p:spPr>
            <a:xfrm>
              <a:off x="2068560" y="3137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077920" y="7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3267000" y="1998720"/>
              <a:ext cx="424080" cy="39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V="1">
              <a:off x="3267000" y="2195280"/>
              <a:ext cx="42408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335480" y="1998720"/>
              <a:ext cx="210960" cy="39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27640" y="2395440"/>
              <a:ext cx="144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 flipV="1">
              <a:off x="4419720" y="1233360"/>
              <a:ext cx="7920" cy="76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2362320" y="130932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3200400" y="191916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495680" y="1323360"/>
              <a:ext cx="0" cy="59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495600" y="2395440"/>
              <a:ext cx="0" cy="7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33720" y="1935000"/>
              <a:ext cx="210960" cy="3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235240" y="23004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235240" y="13093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3495600" y="1275840"/>
              <a:ext cx="0" cy="72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372040" y="13698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81720" y="12938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001880" y="1600200"/>
              <a:ext cx="422280" cy="398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096920" y="2295360"/>
              <a:ext cx="211320" cy="397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200240" y="2692440"/>
              <a:ext cx="324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V="1">
              <a:off x="1200240" y="1251000"/>
              <a:ext cx="0" cy="103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84200" y="2265120"/>
              <a:ext cx="3240" cy="59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30400" y="161388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2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1720" y="1178280"/>
              <a:ext cx="423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395720" y="22842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28600" y="223776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463920" y="122400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463920" y="306216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200240" y="309420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200240" y="125100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184480" y="122400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176560" y="306216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371600" y="1856520"/>
              <a:ext cx="91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438280" y="1994760"/>
              <a:ext cx="9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581280" y="1918440"/>
              <a:ext cx="9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440160" y="7905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441600" y="30765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5" name=""/>
          <p:cNvSpPr/>
          <p:nvPr/>
        </p:nvSpPr>
        <p:spPr>
          <a:xfrm>
            <a:off x="1786680" y="380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952880" y="7318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①求结点电压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5715000" y="1143000"/>
                <a:ext cx="301464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6389640" y="2711520"/>
                <a:ext cx="260208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V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1128600" y="4191120"/>
                <a:ext cx="34815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093680" y="5229360"/>
                <a:ext cx="3516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5181480" y="5214960"/>
                <a:ext cx="24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2" name=""/>
          <p:cNvSpPr/>
          <p:nvPr/>
        </p:nvSpPr>
        <p:spPr>
          <a:xfrm>
            <a:off x="609480" y="3462480"/>
            <a:ext cx="46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②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欧姆定律求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2" dur="5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1214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219320" y="411120"/>
            <a:ext cx="24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30120" y="914400"/>
            <a:ext cx="500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已知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7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82680" y="2209680"/>
            <a:ext cx="42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：各电源元件的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19040" y="2743200"/>
            <a:ext cx="651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结点电压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685800" y="3251160"/>
                <a:ext cx="42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39" name="" descr=""/>
          <p:cNvPicPr/>
          <p:nvPr/>
        </p:nvPicPr>
        <p:blipFill>
          <a:blip r:embed="rId1"/>
          <a:stretch/>
        </p:blipFill>
        <p:spPr>
          <a:xfrm>
            <a:off x="7184880" y="4800600"/>
            <a:ext cx="173052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800600" y="3456000"/>
                <a:ext cx="388620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1" name=""/>
          <p:cNvSpPr/>
          <p:nvPr/>
        </p:nvSpPr>
        <p:spPr>
          <a:xfrm>
            <a:off x="1757160" y="5140440"/>
            <a:ext cx="4318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恒流源支路的电阻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应出现在分母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2" name=""/>
          <p:cNvGrpSpPr/>
          <p:nvPr/>
        </p:nvGrpSpPr>
        <p:grpSpPr>
          <a:xfrm>
            <a:off x="4811040" y="304200"/>
            <a:ext cx="3659760" cy="2595240"/>
            <a:chOff x="4811040" y="304200"/>
            <a:chExt cx="3659760" cy="2595240"/>
          </a:xfrm>
        </p:grpSpPr>
        <p:grpSp>
          <p:nvGrpSpPr>
            <p:cNvPr id="2743" name=""/>
            <p:cNvGrpSpPr/>
            <p:nvPr/>
          </p:nvGrpSpPr>
          <p:grpSpPr>
            <a:xfrm>
              <a:off x="4811040" y="304200"/>
              <a:ext cx="3659760" cy="2595240"/>
              <a:chOff x="4811040" y="304200"/>
              <a:chExt cx="3659760" cy="2595240"/>
            </a:xfrm>
          </p:grpSpPr>
          <p:sp>
            <p:nvSpPr>
              <p:cNvPr id="2744" name=""/>
              <p:cNvSpPr/>
              <p:nvPr/>
            </p:nvSpPr>
            <p:spPr>
              <a:xfrm>
                <a:off x="7161480" y="2378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6080040" y="1401120"/>
                <a:ext cx="35892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080040" y="1582560"/>
                <a:ext cx="35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186520" y="1401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276880" y="1011240"/>
                <a:ext cx="357120" cy="355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454720" y="814320"/>
                <a:ext cx="0" cy="88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365800" y="1695600"/>
                <a:ext cx="179280" cy="392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454720" y="2087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048280" y="628920"/>
                <a:ext cx="3556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906080" y="16398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811040" y="9018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066080" y="1401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155000" y="1011240"/>
                <a:ext cx="35856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334280" y="814320"/>
                <a:ext cx="0" cy="88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245360" y="1695600"/>
                <a:ext cx="179280" cy="392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334280" y="2087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953400" y="637200"/>
                <a:ext cx="35712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803280" y="161748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688800" y="95868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112240" y="1110600"/>
                <a:ext cx="35856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112240" y="129240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201160" y="1798560"/>
                <a:ext cx="179280" cy="392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291520" y="2190600"/>
                <a:ext cx="0" cy="29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V="1">
                <a:off x="8291520" y="1468440"/>
                <a:ext cx="0" cy="33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V="1">
                <a:off x="8291520" y="81612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725600" y="16938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454720" y="816120"/>
                <a:ext cx="286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454720" y="2478240"/>
                <a:ext cx="286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50320" y="1111320"/>
                <a:ext cx="0" cy="4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545080" y="1555560"/>
                <a:ext cx="722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538760" y="931680"/>
                <a:ext cx="53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259680" y="1773360"/>
                <a:ext cx="0" cy="70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 flipV="1">
                <a:off x="6259680" y="815760"/>
                <a:ext cx="0" cy="58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V="1">
                <a:off x="5991120" y="1307880"/>
                <a:ext cx="0" cy="48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886440" y="24782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796080" y="2673360"/>
                <a:ext cx="17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149960" y="304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955200" y="1281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959520" y="476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5581800" y="202896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429160" y="1936800"/>
                <a:ext cx="722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486560" y="2028960"/>
                <a:ext cx="0" cy="4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496640" y="1922400"/>
                <a:ext cx="42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6307200" y="1143000"/>
              <a:ext cx="83808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210360" y="7732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07120" y="242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286760" y="7621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286760" y="242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843600" y="242424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2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2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"/>
          <p:cNvSpPr/>
          <p:nvPr/>
        </p:nvSpPr>
        <p:spPr>
          <a:xfrm>
            <a:off x="228600" y="152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欧姆定律求各电压源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152280" y="609480"/>
                <a:ext cx="1838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1989000" y="609480"/>
                <a:ext cx="267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  A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52280" y="1654200"/>
                <a:ext cx="4846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 A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7" name=""/>
          <p:cNvSpPr/>
          <p:nvPr/>
        </p:nvSpPr>
        <p:spPr>
          <a:xfrm>
            <a:off x="304920" y="26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各电源元件的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62120" y="36720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因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流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所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发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181480" y="411480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发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561000" y="4648320"/>
            <a:ext cx="23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发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85800" y="57294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因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I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”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流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所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取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09480" y="320040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3 W= 65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09480" y="411480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8W = 54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09480" y="4662360"/>
            <a:ext cx="67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2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7 W= 168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09480" y="51958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1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2 W= 28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8325000" y="841320"/>
            <a:ext cx="83808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4811040" y="304200"/>
            <a:ext cx="3659760" cy="2595240"/>
            <a:chOff x="4811040" y="304200"/>
            <a:chExt cx="3659760" cy="2595240"/>
          </a:xfrm>
        </p:grpSpPr>
        <p:grpSp>
          <p:nvGrpSpPr>
            <p:cNvPr id="2808" name=""/>
            <p:cNvGrpSpPr/>
            <p:nvPr/>
          </p:nvGrpSpPr>
          <p:grpSpPr>
            <a:xfrm>
              <a:off x="4811040" y="304200"/>
              <a:ext cx="3659760" cy="2595240"/>
              <a:chOff x="4811040" y="304200"/>
              <a:chExt cx="3659760" cy="2595240"/>
            </a:xfrm>
          </p:grpSpPr>
          <p:sp>
            <p:nvSpPr>
              <p:cNvPr id="2809" name=""/>
              <p:cNvSpPr/>
              <p:nvPr/>
            </p:nvSpPr>
            <p:spPr>
              <a:xfrm>
                <a:off x="7161480" y="2378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6080040" y="1401120"/>
                <a:ext cx="35892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080040" y="1582560"/>
                <a:ext cx="35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186520" y="1401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76880" y="1011240"/>
                <a:ext cx="357120" cy="355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454720" y="814320"/>
                <a:ext cx="0" cy="88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365800" y="1695600"/>
                <a:ext cx="179280" cy="392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454720" y="2087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048280" y="628920"/>
                <a:ext cx="3556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906080" y="16398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11040" y="9018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066080" y="1401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155000" y="1011240"/>
                <a:ext cx="35856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334280" y="814320"/>
                <a:ext cx="0" cy="88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245360" y="1695600"/>
                <a:ext cx="179280" cy="392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334280" y="2087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6953400" y="637200"/>
                <a:ext cx="35712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6803280" y="161748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6688800" y="95868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8112240" y="1110600"/>
                <a:ext cx="358560" cy="36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112240" y="129240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201160" y="1798560"/>
                <a:ext cx="179280" cy="392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291520" y="2190600"/>
                <a:ext cx="0" cy="29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8291520" y="1468440"/>
                <a:ext cx="0" cy="33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8291520" y="81612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725600" y="16938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454720" y="816120"/>
                <a:ext cx="286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454720" y="2478240"/>
                <a:ext cx="286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050320" y="1111320"/>
                <a:ext cx="0" cy="4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545080" y="1555560"/>
                <a:ext cx="722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538760" y="931680"/>
                <a:ext cx="53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259680" y="1773360"/>
                <a:ext cx="0" cy="70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6259680" y="815760"/>
                <a:ext cx="0" cy="58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5991120" y="1307880"/>
                <a:ext cx="0" cy="48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886440" y="24782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796080" y="2673360"/>
                <a:ext cx="17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149960" y="304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955200" y="1281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959520" y="476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5581800" y="202896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29160" y="1936800"/>
                <a:ext cx="722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486560" y="2028960"/>
                <a:ext cx="0" cy="4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496640" y="1922400"/>
                <a:ext cx="42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2" name=""/>
            <p:cNvSpPr/>
            <p:nvPr/>
          </p:nvSpPr>
          <p:spPr>
            <a:xfrm>
              <a:off x="6307200" y="1143000"/>
              <a:ext cx="83808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210360" y="7732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207120" y="242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286760" y="7621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286760" y="242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843600" y="242424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990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24080" y="532800"/>
            <a:ext cx="53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算电路中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点的电位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点为参考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328680" y="685800"/>
            <a:ext cx="4926960" cy="2900160"/>
            <a:chOff x="328680" y="685800"/>
            <a:chExt cx="4926960" cy="2900160"/>
          </a:xfrm>
        </p:grpSpPr>
        <p:sp>
          <p:nvSpPr>
            <p:cNvPr id="2861" name=""/>
            <p:cNvSpPr/>
            <p:nvPr/>
          </p:nvSpPr>
          <p:spPr>
            <a:xfrm>
              <a:off x="2281320" y="685800"/>
              <a:ext cx="423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582560" y="914400"/>
              <a:ext cx="6271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28680" y="1371600"/>
              <a:ext cx="423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992320" y="914400"/>
              <a:ext cx="416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88600" y="2673360"/>
              <a:ext cx="381240" cy="34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80840" y="1523880"/>
              <a:ext cx="0" cy="18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84000" y="1981080"/>
              <a:ext cx="171360" cy="395280"/>
            </a:xfrm>
            <a:prstGeom prst="rect">
              <a:avLst/>
            </a:prstGeom>
            <a:solidFill>
              <a:srgbClr val="e8fcd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61760" y="152388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807920" y="1523880"/>
              <a:ext cx="0" cy="18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730160" y="2349360"/>
              <a:ext cx="171360" cy="393840"/>
            </a:xfrm>
            <a:prstGeom prst="rect">
              <a:avLst/>
            </a:prstGeom>
            <a:solidFill>
              <a:srgbClr val="e8fcd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rot="16200000">
              <a:off x="2405520" y="1313280"/>
              <a:ext cx="154080" cy="438120"/>
            </a:xfrm>
            <a:prstGeom prst="rect">
              <a:avLst/>
            </a:prstGeom>
            <a:solidFill>
              <a:srgbClr val="f1fd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303440" y="1523880"/>
              <a:ext cx="0" cy="18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225680" y="1987560"/>
              <a:ext cx="171360" cy="395280"/>
            </a:xfrm>
            <a:prstGeom prst="rect">
              <a:avLst/>
            </a:prstGeom>
            <a:solidFill>
              <a:srgbClr val="f1fd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179520" y="1523880"/>
              <a:ext cx="0" cy="18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101760" y="2297160"/>
              <a:ext cx="171360" cy="393480"/>
            </a:xfrm>
            <a:prstGeom prst="rect">
              <a:avLst/>
            </a:prstGeom>
            <a:solidFill>
              <a:srgbClr val="e8fcd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1760" y="3352680"/>
              <a:ext cx="354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1769760" y="3312360"/>
              <a:ext cx="74520" cy="68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3141360" y="3312360"/>
              <a:ext cx="74520" cy="68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3141360" y="1491480"/>
              <a:ext cx="74520" cy="66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1769760" y="1509480"/>
              <a:ext cx="74520" cy="66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38080" y="1919160"/>
              <a:ext cx="93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828440" y="2452680"/>
              <a:ext cx="99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24040" y="2228760"/>
              <a:ext cx="3834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21880" y="2666880"/>
              <a:ext cx="3589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928440" y="2681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057040" y="1523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207600" y="2265120"/>
              <a:ext cx="81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384080" y="1919160"/>
              <a:ext cx="81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957480" y="2133360"/>
              <a:ext cx="3834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965400" y="2619360"/>
              <a:ext cx="299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462200" y="266040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661680" y="1526760"/>
              <a:ext cx="0" cy="39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714320" y="1593720"/>
              <a:ext cx="0" cy="411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2209680" y="137160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4190760" y="1593720"/>
              <a:ext cx="0" cy="41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295280" y="1400040"/>
              <a:ext cx="474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557440" y="2046240"/>
              <a:ext cx="423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823920" y="1371600"/>
              <a:ext cx="519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182760" y="3352680"/>
              <a:ext cx="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971440" y="3581280"/>
              <a:ext cx="38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126240" y="2771640"/>
              <a:ext cx="436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00400" y="2695320"/>
              <a:ext cx="380880" cy="34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990520" y="2306520"/>
              <a:ext cx="0" cy="41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1143000" y="4038480"/>
            <a:ext cx="2971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52280" y="3581280"/>
            <a:ext cx="65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列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572000" y="1066680"/>
            <a:ext cx="46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欧姆定律求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7" name=""/>
              <p:cNvSpPr txBox="1"/>
              <p:nvPr/>
            </p:nvSpPr>
            <p:spPr>
              <a:xfrm>
                <a:off x="5611680" y="1654200"/>
                <a:ext cx="15512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8" name=""/>
              <p:cNvSpPr txBox="1"/>
              <p:nvPr/>
            </p:nvSpPr>
            <p:spPr>
              <a:xfrm>
                <a:off x="7620120" y="1598760"/>
                <a:ext cx="10238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9" name=""/>
              <p:cNvSpPr txBox="1"/>
              <p:nvPr/>
            </p:nvSpPr>
            <p:spPr>
              <a:xfrm>
                <a:off x="5638680" y="2543040"/>
                <a:ext cx="16131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0" name=""/>
              <p:cNvSpPr txBox="1"/>
              <p:nvPr/>
            </p:nvSpPr>
            <p:spPr>
              <a:xfrm>
                <a:off x="7705800" y="2590920"/>
                <a:ext cx="968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7326360" y="3595680"/>
                <a:ext cx="1589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2" name=""/>
          <p:cNvSpPr/>
          <p:nvPr/>
        </p:nvSpPr>
        <p:spPr>
          <a:xfrm>
            <a:off x="952560" y="4923000"/>
            <a:ext cx="65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将各电流代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，整理后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143000" y="5334120"/>
            <a:ext cx="2971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1066680" y="42228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066680" y="55180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267080" y="5334120"/>
            <a:ext cx="2971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2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2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2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6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叠加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407880" y="1217520"/>
            <a:ext cx="8659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叠加原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性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任何一条支路的电流，都可以看成是由电路中各个电源（电压源或电流源）分别作用时，在此支路中所产生的电流的代数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9" name=""/>
          <p:cNvGrpSpPr/>
          <p:nvPr/>
        </p:nvGrpSpPr>
        <p:grpSpPr>
          <a:xfrm>
            <a:off x="147960" y="2907000"/>
            <a:ext cx="3042000" cy="2793600"/>
            <a:chOff x="147960" y="2907000"/>
            <a:chExt cx="3042000" cy="2793600"/>
          </a:xfrm>
        </p:grpSpPr>
        <p:sp>
          <p:nvSpPr>
            <p:cNvPr id="2920" name=""/>
            <p:cNvSpPr/>
            <p:nvPr/>
          </p:nvSpPr>
          <p:spPr>
            <a:xfrm>
              <a:off x="1311120" y="4966920"/>
              <a:ext cx="820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34880" y="369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31720" y="3346200"/>
              <a:ext cx="385920" cy="352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5400" y="3081240"/>
              <a:ext cx="0" cy="88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27120" y="3965400"/>
              <a:ext cx="195120" cy="35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25400" y="4319280"/>
              <a:ext cx="0" cy="35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66840" y="2907000"/>
              <a:ext cx="3873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1593720" y="3671640"/>
              <a:ext cx="384120" cy="352080"/>
              <a:chOff x="1593720" y="3671640"/>
              <a:chExt cx="384120" cy="352080"/>
            </a:xfrm>
          </p:grpSpPr>
          <p:sp>
            <p:nvSpPr>
              <p:cNvPr id="2928" name=""/>
              <p:cNvSpPr/>
              <p:nvPr/>
            </p:nvSpPr>
            <p:spPr>
              <a:xfrm flipV="1">
                <a:off x="1593720" y="3671640"/>
                <a:ext cx="384120" cy="352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593720" y="3847680"/>
                <a:ext cx="3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0" name=""/>
            <p:cNvSpPr/>
            <p:nvPr/>
          </p:nvSpPr>
          <p:spPr>
            <a:xfrm>
              <a:off x="1785960" y="405252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785960" y="3081240"/>
              <a:ext cx="0" cy="61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3960" y="3081240"/>
              <a:ext cx="193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557440" y="3700080"/>
              <a:ext cx="193680" cy="352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654280" y="405252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2654280" y="3081240"/>
              <a:ext cx="0" cy="61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3960" y="4671720"/>
              <a:ext cx="193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47960" y="330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54800" y="3889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669400" y="3946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1495440" y="359532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430360" y="3671640"/>
              <a:ext cx="0" cy="4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365120" y="467568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V="1">
              <a:off x="917640" y="3900240"/>
              <a:ext cx="0" cy="43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070280" y="348912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930600" y="39463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983240" y="35794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5872320" y="3080880"/>
            <a:ext cx="3108960" cy="2632320"/>
            <a:chOff x="5872320" y="3080880"/>
            <a:chExt cx="3108960" cy="2632320"/>
          </a:xfrm>
        </p:grpSpPr>
        <p:sp>
          <p:nvSpPr>
            <p:cNvPr id="2948" name=""/>
            <p:cNvSpPr/>
            <p:nvPr/>
          </p:nvSpPr>
          <p:spPr>
            <a:xfrm>
              <a:off x="6767640" y="5133600"/>
              <a:ext cx="199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独作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9" name=""/>
            <p:cNvGrpSpPr/>
            <p:nvPr/>
          </p:nvGrpSpPr>
          <p:grpSpPr>
            <a:xfrm>
              <a:off x="7478640" y="3699720"/>
              <a:ext cx="382320" cy="352440"/>
              <a:chOff x="7478640" y="3699720"/>
              <a:chExt cx="382320" cy="352440"/>
            </a:xfrm>
          </p:grpSpPr>
          <p:sp>
            <p:nvSpPr>
              <p:cNvPr id="2950" name=""/>
              <p:cNvSpPr/>
              <p:nvPr/>
            </p:nvSpPr>
            <p:spPr>
              <a:xfrm flipV="1">
                <a:off x="7478640" y="3699360"/>
                <a:ext cx="382320" cy="35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78640" y="3876480"/>
                <a:ext cx="38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2" name=""/>
            <p:cNvSpPr/>
            <p:nvPr/>
          </p:nvSpPr>
          <p:spPr>
            <a:xfrm>
              <a:off x="7670880" y="405252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670880" y="30812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618240" y="3081240"/>
              <a:ext cx="19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434440" y="3671640"/>
              <a:ext cx="19044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529480" y="405252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8529480" y="308088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618240" y="4671720"/>
              <a:ext cx="19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033240" y="3870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460720" y="3935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423560" y="458532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792480" y="406692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859160" y="360972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872320" y="344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603840" y="3092040"/>
              <a:ext cx="0" cy="88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12040" y="3976560"/>
              <a:ext cx="18576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603840" y="4329000"/>
              <a:ext cx="0" cy="35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V="1">
              <a:off x="6773760" y="3899880"/>
              <a:ext cx="0" cy="453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373960" y="3671640"/>
              <a:ext cx="0" cy="43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7439040" y="367164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013880" y="356508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610320" y="3176280"/>
              <a:ext cx="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2891160" y="2950200"/>
            <a:ext cx="3194280" cy="2779200"/>
            <a:chOff x="2891160" y="2950200"/>
            <a:chExt cx="3194280" cy="2779200"/>
          </a:xfrm>
        </p:grpSpPr>
        <p:sp>
          <p:nvSpPr>
            <p:cNvPr id="2974" name=""/>
            <p:cNvSpPr/>
            <p:nvPr/>
          </p:nvSpPr>
          <p:spPr>
            <a:xfrm>
              <a:off x="3505320" y="5121360"/>
              <a:ext cx="2447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独作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891160" y="3443400"/>
              <a:ext cx="3834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411360" y="3700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503520" y="3346560"/>
              <a:ext cx="371520" cy="353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689280" y="30816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597120" y="3965760"/>
              <a:ext cx="18576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689280" y="4318200"/>
              <a:ext cx="0" cy="35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316320" y="2950200"/>
              <a:ext cx="3729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689280" y="3081600"/>
              <a:ext cx="185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452920" y="3700440"/>
              <a:ext cx="18576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546880" y="40528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V="1">
              <a:off x="5546880" y="30812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689280" y="4672080"/>
              <a:ext cx="185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125880" y="330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160080" y="38084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564880" y="38703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V="1">
              <a:off x="3884760" y="3903480"/>
              <a:ext cx="0" cy="453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368960" y="46620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332320" y="3694320"/>
              <a:ext cx="0" cy="43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886200" y="3884760"/>
              <a:ext cx="52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76920" y="3565440"/>
              <a:ext cx="52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572000" y="4067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72000" y="309240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7" name=""/>
          <p:cNvSpPr/>
          <p:nvPr/>
        </p:nvSpPr>
        <p:spPr>
          <a:xfrm flipV="1" rot="5400000">
            <a:off x="5981400" y="470052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975200" y="572940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叠加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9" name=""/>
          <p:cNvGrpSpPr/>
          <p:nvPr/>
        </p:nvGrpSpPr>
        <p:grpSpPr>
          <a:xfrm>
            <a:off x="2362320" y="914400"/>
            <a:ext cx="4498200" cy="144360"/>
            <a:chOff x="2362320" y="914400"/>
            <a:chExt cx="4498200" cy="144360"/>
          </a:xfrm>
        </p:grpSpPr>
        <p:pic>
          <p:nvPicPr>
            <p:cNvPr id="3000" name="" descr=""/>
            <p:cNvPicPr/>
            <p:nvPr/>
          </p:nvPicPr>
          <p:blipFill>
            <a:blip r:embed="rId1"/>
            <a:stretch/>
          </p:blipFill>
          <p:spPr>
            <a:xfrm>
              <a:off x="2362320" y="914400"/>
              <a:ext cx="1634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1" name="" descr=""/>
            <p:cNvPicPr/>
            <p:nvPr/>
          </p:nvPicPr>
          <p:blipFill>
            <a:blip r:embed="rId2"/>
            <a:stretch/>
          </p:blipFill>
          <p:spPr>
            <a:xfrm>
              <a:off x="252576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2" name="" descr=""/>
            <p:cNvPicPr/>
            <p:nvPr/>
          </p:nvPicPr>
          <p:blipFill>
            <a:blip r:embed="rId3"/>
            <a:stretch/>
          </p:blipFill>
          <p:spPr>
            <a:xfrm>
              <a:off x="2679480" y="914400"/>
              <a:ext cx="1634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3" name="" descr=""/>
            <p:cNvPicPr/>
            <p:nvPr/>
          </p:nvPicPr>
          <p:blipFill>
            <a:blip r:embed="rId4"/>
            <a:stretch/>
          </p:blipFill>
          <p:spPr>
            <a:xfrm>
              <a:off x="282420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4" name="" descr=""/>
            <p:cNvPicPr/>
            <p:nvPr/>
          </p:nvPicPr>
          <p:blipFill>
            <a:blip r:embed="rId5"/>
            <a:stretch/>
          </p:blipFill>
          <p:spPr>
            <a:xfrm>
              <a:off x="2987640" y="914400"/>
              <a:ext cx="1645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5" name="" descr=""/>
            <p:cNvPicPr/>
            <p:nvPr/>
          </p:nvPicPr>
          <p:blipFill>
            <a:blip r:embed="rId6"/>
            <a:stretch/>
          </p:blipFill>
          <p:spPr>
            <a:xfrm>
              <a:off x="328752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6" name="" descr=""/>
            <p:cNvPicPr/>
            <p:nvPr/>
          </p:nvPicPr>
          <p:blipFill>
            <a:blip r:embed="rId7"/>
            <a:stretch/>
          </p:blipFill>
          <p:spPr>
            <a:xfrm>
              <a:off x="3450960" y="914400"/>
              <a:ext cx="1634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7" name="" descr=""/>
            <p:cNvPicPr/>
            <p:nvPr/>
          </p:nvPicPr>
          <p:blipFill>
            <a:blip r:embed="rId8"/>
            <a:stretch/>
          </p:blipFill>
          <p:spPr>
            <a:xfrm>
              <a:off x="360504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8" name="" descr=""/>
            <p:cNvPicPr/>
            <p:nvPr/>
          </p:nvPicPr>
          <p:blipFill>
            <a:blip r:embed="rId9"/>
            <a:stretch/>
          </p:blipFill>
          <p:spPr>
            <a:xfrm>
              <a:off x="374976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9" name="" descr=""/>
            <p:cNvPicPr/>
            <p:nvPr/>
          </p:nvPicPr>
          <p:blipFill>
            <a:blip r:embed="rId10"/>
            <a:stretch/>
          </p:blipFill>
          <p:spPr>
            <a:xfrm>
              <a:off x="314316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0" name="" descr=""/>
            <p:cNvPicPr/>
            <p:nvPr/>
          </p:nvPicPr>
          <p:blipFill>
            <a:blip r:embed="rId11"/>
            <a:stretch/>
          </p:blipFill>
          <p:spPr>
            <a:xfrm>
              <a:off x="3913200" y="914400"/>
              <a:ext cx="163080" cy="14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11" name=""/>
            <p:cNvGrpSpPr/>
            <p:nvPr/>
          </p:nvGrpSpPr>
          <p:grpSpPr>
            <a:xfrm>
              <a:off x="4066920" y="914400"/>
              <a:ext cx="1396440" cy="144360"/>
              <a:chOff x="4066920" y="914400"/>
              <a:chExt cx="1396440" cy="144360"/>
            </a:xfrm>
          </p:grpSpPr>
          <p:pic>
            <p:nvPicPr>
              <p:cNvPr id="30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6692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11280" y="914400"/>
                <a:ext cx="16452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37616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3024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7460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3840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13684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0028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9212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1" name=""/>
            <p:cNvGrpSpPr/>
            <p:nvPr/>
          </p:nvGrpSpPr>
          <p:grpSpPr>
            <a:xfrm>
              <a:off x="5464080" y="914400"/>
              <a:ext cx="1396440" cy="144360"/>
              <a:chOff x="5464080" y="914400"/>
              <a:chExt cx="1396440" cy="144360"/>
            </a:xfrm>
          </p:grpSpPr>
          <p:pic>
            <p:nvPicPr>
              <p:cNvPr id="302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46408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08440" y="914400"/>
                <a:ext cx="16452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77332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2740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07176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23556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53400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697440" y="9144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389280" y="914400"/>
                <a:ext cx="163440" cy="1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5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500"/>
                            </p:stCondLst>
                            <p:childTnLst>
                              <p:par>
                                <p:cTn id="1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464796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.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阻的并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851280"/>
            <a:ext cx="51195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电阻并联时的分流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71800" y="4495680"/>
                <a:ext cx="23004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4572000"/>
                <a:ext cx="23306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033800" y="2587680"/>
                <a:ext cx="2043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590920" y="1981080"/>
            <a:ext cx="6705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阻的倒数等于各电阻倒数之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3305160"/>
            <a:ext cx="66294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电阻上电流的分配与电阻成反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533520"/>
            <a:ext cx="6248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特点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阻联接在两个公共的结点之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880" y="4029120"/>
            <a:ext cx="2210040" cy="2095200"/>
            <a:chOff x="380880" y="4029120"/>
            <a:chExt cx="2210040" cy="2095200"/>
          </a:xfrm>
        </p:grpSpPr>
        <p:sp>
          <p:nvSpPr>
            <p:cNvPr id="165" name=""/>
            <p:cNvSpPr/>
            <p:nvPr/>
          </p:nvSpPr>
          <p:spPr>
            <a:xfrm>
              <a:off x="838080" y="6060960"/>
              <a:ext cx="124488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08160" y="5197320"/>
              <a:ext cx="482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1960200" y="5181120"/>
              <a:ext cx="173160" cy="36036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7720" y="4495680"/>
              <a:ext cx="49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837720" y="4613400"/>
              <a:ext cx="121932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7880" y="5130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53800" y="40291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4613400"/>
              <a:ext cx="8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480" y="560376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7400" y="5519880"/>
              <a:ext cx="0" cy="5331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120" y="456264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601992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4610160"/>
              <a:ext cx="0" cy="571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 rot="16200000">
            <a:off x="1169280" y="3483720"/>
            <a:ext cx="604800" cy="504720"/>
          </a:xfrm>
          <a:custGeom>
            <a:avLst/>
            <a:gdLst>
              <a:gd name="textAreaLeft" fmla="*/ 75600 w 604800"/>
              <a:gd name="textAreaRight" fmla="*/ 529200 w 6048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80880" y="635040"/>
            <a:ext cx="2293920" cy="2705040"/>
            <a:chOff x="380880" y="635040"/>
            <a:chExt cx="2293920" cy="2705040"/>
          </a:xfrm>
        </p:grpSpPr>
        <p:sp>
          <p:nvSpPr>
            <p:cNvPr id="180" name=""/>
            <p:cNvSpPr/>
            <p:nvPr/>
          </p:nvSpPr>
          <p:spPr>
            <a:xfrm>
              <a:off x="862200" y="12952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33960" y="12952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5280" y="1370880"/>
              <a:ext cx="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1080" y="1370880"/>
              <a:ext cx="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3276720"/>
              <a:ext cx="124488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1600" y="1981080"/>
              <a:ext cx="6858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1294920" y="1980720"/>
              <a:ext cx="173160" cy="36036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7360" y="1066680"/>
              <a:ext cx="49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37720" y="1219320"/>
              <a:ext cx="121932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7880" y="2006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33720" y="1981080"/>
              <a:ext cx="54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5840" y="6350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1219320"/>
              <a:ext cx="8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480" y="28195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7400" y="2362320"/>
              <a:ext cx="0" cy="900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7400" y="1219320"/>
              <a:ext cx="0" cy="7617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12063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323532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1980720" y="2001600"/>
              <a:ext cx="173160" cy="36036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92120" y="2362320"/>
              <a:ext cx="0" cy="900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2120" y="1219320"/>
              <a:ext cx="0" cy="7617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590920" y="167652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阻两端的电压相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548640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流、调节电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1" name=""/>
              <p:cNvSpPr txBox="1"/>
              <p:nvPr/>
            </p:nvSpPr>
            <p:spPr>
              <a:xfrm>
                <a:off x="882720" y="3352680"/>
                <a:ext cx="2089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2" name=""/>
          <p:cNvSpPr/>
          <p:nvPr/>
        </p:nvSpPr>
        <p:spPr>
          <a:xfrm>
            <a:off x="4319640" y="2895480"/>
            <a:ext cx="45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图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c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当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独作用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3" name=""/>
              <p:cNvSpPr txBox="1"/>
              <p:nvPr/>
            </p:nvSpPr>
            <p:spPr>
              <a:xfrm>
                <a:off x="4191120" y="3352680"/>
                <a:ext cx="2520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-  {  {R rSub { size 8{2} } }  over  {R rSub { size 8{1} } +R rSub { size 8{2} } } } I rSub { size 8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4" name=""/>
              <p:cNvSpPr txBox="1"/>
              <p:nvPr/>
            </p:nvSpPr>
            <p:spPr>
              <a:xfrm>
                <a:off x="2895480" y="4448160"/>
                <a:ext cx="44197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E}  over  {R rSub { size 8{1} } +R rSub { size 8{2} } } }  -  {  {R rSub { size 8{2} } }  over  {R rSub { size 8{1} } +R rSub { size 8{2} } } } I rSub { size 8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35" name=""/>
          <p:cNvSpPr/>
          <p:nvPr/>
        </p:nvSpPr>
        <p:spPr>
          <a:xfrm>
            <a:off x="533520" y="56466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同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 baseline="30000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 baseline="30000">
                <a:solidFill>
                  <a:srgbClr val="000000"/>
                </a:solidFill>
                <a:latin typeface="Times New Roman"/>
              </a:rPr>
              <a:t>'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4171680" y="2895480"/>
            <a:ext cx="19080" cy="152424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-31680" y="2895480"/>
            <a:ext cx="90234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0" y="289548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图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b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当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独作用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299880" y="149760"/>
            <a:ext cx="3042000" cy="2793600"/>
            <a:chOff x="299880" y="149760"/>
            <a:chExt cx="3042000" cy="2793600"/>
          </a:xfrm>
        </p:grpSpPr>
        <p:sp>
          <p:nvSpPr>
            <p:cNvPr id="3040" name=""/>
            <p:cNvSpPr/>
            <p:nvPr/>
          </p:nvSpPr>
          <p:spPr>
            <a:xfrm>
              <a:off x="1463040" y="2209680"/>
              <a:ext cx="820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87160" y="941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4000" y="588960"/>
              <a:ext cx="385560" cy="352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77680" y="3240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79400" y="1208160"/>
              <a:ext cx="194760" cy="35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77680" y="156204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19120" y="149760"/>
              <a:ext cx="3870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7" name=""/>
            <p:cNvGrpSpPr/>
            <p:nvPr/>
          </p:nvGrpSpPr>
          <p:grpSpPr>
            <a:xfrm>
              <a:off x="1746000" y="914040"/>
              <a:ext cx="384120" cy="352440"/>
              <a:chOff x="1746000" y="914040"/>
              <a:chExt cx="384120" cy="352440"/>
            </a:xfrm>
          </p:grpSpPr>
          <p:sp>
            <p:nvSpPr>
              <p:cNvPr id="3048" name=""/>
              <p:cNvSpPr/>
              <p:nvPr/>
            </p:nvSpPr>
            <p:spPr>
              <a:xfrm flipV="1">
                <a:off x="1746000" y="913680"/>
                <a:ext cx="384120" cy="35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746000" y="1090800"/>
                <a:ext cx="3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0" name=""/>
            <p:cNvSpPr/>
            <p:nvPr/>
          </p:nvSpPr>
          <p:spPr>
            <a:xfrm>
              <a:off x="193824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1938240" y="32400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76240" y="324000"/>
              <a:ext cx="192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709720" y="942840"/>
              <a:ext cx="19332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80656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2806560" y="3236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76240" y="1914480"/>
              <a:ext cx="192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99880" y="546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07080" y="11318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821320" y="1189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1647720" y="8377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582640" y="914400"/>
              <a:ext cx="0" cy="4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517400" y="191844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1069920" y="114264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222560" y="73188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082880" y="1189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35160" y="8222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7" name=""/>
          <p:cNvGrpSpPr/>
          <p:nvPr/>
        </p:nvGrpSpPr>
        <p:grpSpPr>
          <a:xfrm>
            <a:off x="6024600" y="323640"/>
            <a:ext cx="3108960" cy="2632320"/>
            <a:chOff x="6024600" y="323640"/>
            <a:chExt cx="3108960" cy="2632320"/>
          </a:xfrm>
        </p:grpSpPr>
        <p:sp>
          <p:nvSpPr>
            <p:cNvPr id="3068" name=""/>
            <p:cNvSpPr/>
            <p:nvPr/>
          </p:nvSpPr>
          <p:spPr>
            <a:xfrm>
              <a:off x="6919920" y="2376360"/>
              <a:ext cx="199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独作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9" name=""/>
            <p:cNvGrpSpPr/>
            <p:nvPr/>
          </p:nvGrpSpPr>
          <p:grpSpPr>
            <a:xfrm>
              <a:off x="7630920" y="942480"/>
              <a:ext cx="382320" cy="352440"/>
              <a:chOff x="7630920" y="942480"/>
              <a:chExt cx="382320" cy="352440"/>
            </a:xfrm>
          </p:grpSpPr>
          <p:sp>
            <p:nvSpPr>
              <p:cNvPr id="3070" name=""/>
              <p:cNvSpPr/>
              <p:nvPr/>
            </p:nvSpPr>
            <p:spPr>
              <a:xfrm flipV="1">
                <a:off x="7630920" y="942120"/>
                <a:ext cx="382320" cy="35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630920" y="1119240"/>
                <a:ext cx="38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2" name=""/>
            <p:cNvSpPr/>
            <p:nvPr/>
          </p:nvSpPr>
          <p:spPr>
            <a:xfrm>
              <a:off x="782316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823160" y="32400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770520" y="324000"/>
              <a:ext cx="19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86720" y="914400"/>
              <a:ext cx="19044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68176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8681760" y="3236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770520" y="1914480"/>
              <a:ext cx="19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85520" y="11127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613000" y="11779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75840" y="18280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944760" y="130968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011440" y="85248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024600" y="68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756120" y="334800"/>
              <a:ext cx="0" cy="88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664320" y="1219320"/>
              <a:ext cx="18576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756120" y="1571760"/>
              <a:ext cx="0" cy="35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6926040" y="1142640"/>
              <a:ext cx="0" cy="453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526240" y="914400"/>
              <a:ext cx="0" cy="43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7591320" y="91440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166160" y="80784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762600" y="419040"/>
              <a:ext cx="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3" name=""/>
          <p:cNvGrpSpPr/>
          <p:nvPr/>
        </p:nvGrpSpPr>
        <p:grpSpPr>
          <a:xfrm>
            <a:off x="3043440" y="192600"/>
            <a:ext cx="3194280" cy="2779200"/>
            <a:chOff x="3043440" y="192600"/>
            <a:chExt cx="3194280" cy="2779200"/>
          </a:xfrm>
        </p:grpSpPr>
        <p:sp>
          <p:nvSpPr>
            <p:cNvPr id="3094" name=""/>
            <p:cNvSpPr/>
            <p:nvPr/>
          </p:nvSpPr>
          <p:spPr>
            <a:xfrm>
              <a:off x="3657600" y="2363760"/>
              <a:ext cx="2447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独作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043440" y="685800"/>
              <a:ext cx="3834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563640" y="942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655800" y="588960"/>
              <a:ext cx="371520" cy="353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841560" y="3240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749400" y="1208160"/>
              <a:ext cx="18576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841560" y="1560600"/>
              <a:ext cx="0" cy="35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3468600" y="192600"/>
              <a:ext cx="3729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3841560" y="324000"/>
              <a:ext cx="185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605200" y="942840"/>
              <a:ext cx="18576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69916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5699160" y="3236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841560" y="1914480"/>
              <a:ext cx="185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278160" y="546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312360" y="10508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17160" y="11127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4037040" y="1145880"/>
              <a:ext cx="0" cy="453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521240" y="19044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484600" y="936720"/>
              <a:ext cx="0" cy="43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014720" y="1127160"/>
              <a:ext cx="5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'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005440" y="807840"/>
              <a:ext cx="5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'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724280" y="13096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724280" y="33480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6883560" y="3352680"/>
                <a:ext cx="22604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R rSub { size 8{1} } }  over  {R rSub { size 8{1} } +R rSub { size 8{2} } } } I rSub { size 8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3581280" y="5410080"/>
                <a:ext cx="2860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4572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根据叠加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76320" y="4419720"/>
            <a:ext cx="90234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5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4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9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4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8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1" name=""/>
              <p:cNvSpPr txBox="1"/>
              <p:nvPr/>
            </p:nvSpPr>
            <p:spPr>
              <a:xfrm>
                <a:off x="4556160" y="620640"/>
                <a:ext cx="25462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2" name=""/>
          <p:cNvSpPr/>
          <p:nvPr/>
        </p:nvSpPr>
        <p:spPr>
          <a:xfrm>
            <a:off x="4745520" y="16765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方程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3" name=""/>
              <p:cNvSpPr txBox="1"/>
              <p:nvPr/>
            </p:nvSpPr>
            <p:spPr>
              <a:xfrm>
                <a:off x="4538520" y="2133720"/>
                <a:ext cx="32338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24" name=""/>
          <p:cNvGrpSpPr/>
          <p:nvPr/>
        </p:nvGrpSpPr>
        <p:grpSpPr>
          <a:xfrm>
            <a:off x="457200" y="6019920"/>
            <a:ext cx="8067600" cy="161640"/>
            <a:chOff x="457200" y="6019920"/>
            <a:chExt cx="8067600" cy="161640"/>
          </a:xfrm>
        </p:grpSpPr>
        <p:pic>
          <p:nvPicPr>
            <p:cNvPr id="3125" name="" descr=""/>
            <p:cNvPicPr/>
            <p:nvPr/>
          </p:nvPicPr>
          <p:blipFill>
            <a:blip r:embed="rId1"/>
            <a:stretch/>
          </p:blipFill>
          <p:spPr>
            <a:xfrm>
              <a:off x="4572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6" name="" descr=""/>
            <p:cNvPicPr/>
            <p:nvPr/>
          </p:nvPicPr>
          <p:blipFill>
            <a:blip r:embed="rId2"/>
            <a:stretch/>
          </p:blipFill>
          <p:spPr>
            <a:xfrm>
              <a:off x="6001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7" name="" descr=""/>
            <p:cNvPicPr/>
            <p:nvPr/>
          </p:nvPicPr>
          <p:blipFill>
            <a:blip r:embed="rId3"/>
            <a:stretch/>
          </p:blipFill>
          <p:spPr>
            <a:xfrm>
              <a:off x="7617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8" name="" descr=""/>
            <p:cNvPicPr/>
            <p:nvPr/>
          </p:nvPicPr>
          <p:blipFill>
            <a:blip r:embed="rId4"/>
            <a:stretch/>
          </p:blipFill>
          <p:spPr>
            <a:xfrm>
              <a:off x="10573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9" name="" descr=""/>
            <p:cNvPicPr/>
            <p:nvPr/>
          </p:nvPicPr>
          <p:blipFill>
            <a:blip r:embed="rId5"/>
            <a:stretch/>
          </p:blipFill>
          <p:spPr>
            <a:xfrm>
              <a:off x="12189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0" name="" descr=""/>
            <p:cNvPicPr/>
            <p:nvPr/>
          </p:nvPicPr>
          <p:blipFill>
            <a:blip r:embed="rId6"/>
            <a:stretch/>
          </p:blipFill>
          <p:spPr>
            <a:xfrm>
              <a:off x="13716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1" name="" descr=""/>
            <p:cNvPicPr/>
            <p:nvPr/>
          </p:nvPicPr>
          <p:blipFill>
            <a:blip r:embed="rId7"/>
            <a:stretch/>
          </p:blipFill>
          <p:spPr>
            <a:xfrm>
              <a:off x="15145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2" name="" descr=""/>
            <p:cNvPicPr/>
            <p:nvPr/>
          </p:nvPicPr>
          <p:blipFill>
            <a:blip r:embed="rId8"/>
            <a:stretch/>
          </p:blipFill>
          <p:spPr>
            <a:xfrm>
              <a:off x="16761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3" name="" descr=""/>
            <p:cNvPicPr/>
            <p:nvPr/>
          </p:nvPicPr>
          <p:blipFill>
            <a:blip r:embed="rId9"/>
            <a:stretch/>
          </p:blipFill>
          <p:spPr>
            <a:xfrm>
              <a:off x="19717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4" name="" descr=""/>
            <p:cNvPicPr/>
            <p:nvPr/>
          </p:nvPicPr>
          <p:blipFill>
            <a:blip r:embed="rId10"/>
            <a:stretch/>
          </p:blipFill>
          <p:spPr>
            <a:xfrm>
              <a:off x="21333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5" name="" descr=""/>
            <p:cNvPicPr/>
            <p:nvPr/>
          </p:nvPicPr>
          <p:blipFill>
            <a:blip r:embed="rId11"/>
            <a:stretch/>
          </p:blipFill>
          <p:spPr>
            <a:xfrm>
              <a:off x="22860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6" name="" descr=""/>
            <p:cNvPicPr/>
            <p:nvPr/>
          </p:nvPicPr>
          <p:blipFill>
            <a:blip r:embed="rId12"/>
            <a:stretch/>
          </p:blipFill>
          <p:spPr>
            <a:xfrm>
              <a:off x="24289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7" name="" descr=""/>
            <p:cNvPicPr/>
            <p:nvPr/>
          </p:nvPicPr>
          <p:blipFill>
            <a:blip r:embed="rId13"/>
            <a:stretch/>
          </p:blipFill>
          <p:spPr>
            <a:xfrm>
              <a:off x="9144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8" name="" descr=""/>
            <p:cNvPicPr/>
            <p:nvPr/>
          </p:nvPicPr>
          <p:blipFill>
            <a:blip r:embed="rId14"/>
            <a:stretch/>
          </p:blipFill>
          <p:spPr>
            <a:xfrm>
              <a:off x="18288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9" name="" descr=""/>
            <p:cNvPicPr/>
            <p:nvPr/>
          </p:nvPicPr>
          <p:blipFill>
            <a:blip r:embed="rId15"/>
            <a:stretch/>
          </p:blipFill>
          <p:spPr>
            <a:xfrm>
              <a:off x="25905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0" name="" descr=""/>
            <p:cNvPicPr/>
            <p:nvPr/>
          </p:nvPicPr>
          <p:blipFill>
            <a:blip r:embed="rId16"/>
            <a:stretch/>
          </p:blipFill>
          <p:spPr>
            <a:xfrm>
              <a:off x="27432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1" name="" descr=""/>
            <p:cNvPicPr/>
            <p:nvPr/>
          </p:nvPicPr>
          <p:blipFill>
            <a:blip r:embed="rId17"/>
            <a:stretch/>
          </p:blipFill>
          <p:spPr>
            <a:xfrm>
              <a:off x="28861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2" name="" descr=""/>
            <p:cNvPicPr/>
            <p:nvPr/>
          </p:nvPicPr>
          <p:blipFill>
            <a:blip r:embed="rId18"/>
            <a:stretch/>
          </p:blipFill>
          <p:spPr>
            <a:xfrm>
              <a:off x="30477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3" name="" descr=""/>
            <p:cNvPicPr/>
            <p:nvPr/>
          </p:nvPicPr>
          <p:blipFill>
            <a:blip r:embed="rId19"/>
            <a:stretch/>
          </p:blipFill>
          <p:spPr>
            <a:xfrm>
              <a:off x="32004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4" name="" descr=""/>
            <p:cNvPicPr/>
            <p:nvPr/>
          </p:nvPicPr>
          <p:blipFill>
            <a:blip r:embed="rId20"/>
            <a:stretch/>
          </p:blipFill>
          <p:spPr>
            <a:xfrm>
              <a:off x="33433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5" name="" descr=""/>
            <p:cNvPicPr/>
            <p:nvPr/>
          </p:nvPicPr>
          <p:blipFill>
            <a:blip r:embed="rId21"/>
            <a:stretch/>
          </p:blipFill>
          <p:spPr>
            <a:xfrm>
              <a:off x="35049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6" name="" descr=""/>
            <p:cNvPicPr/>
            <p:nvPr/>
          </p:nvPicPr>
          <p:blipFill>
            <a:blip r:embed="rId22"/>
            <a:stretch/>
          </p:blipFill>
          <p:spPr>
            <a:xfrm>
              <a:off x="38005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7" name="" descr=""/>
            <p:cNvPicPr/>
            <p:nvPr/>
          </p:nvPicPr>
          <p:blipFill>
            <a:blip r:embed="rId23"/>
            <a:stretch/>
          </p:blipFill>
          <p:spPr>
            <a:xfrm>
              <a:off x="39621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8" name="" descr=""/>
            <p:cNvPicPr/>
            <p:nvPr/>
          </p:nvPicPr>
          <p:blipFill>
            <a:blip r:embed="rId24"/>
            <a:stretch/>
          </p:blipFill>
          <p:spPr>
            <a:xfrm>
              <a:off x="41148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9" name="" descr=""/>
            <p:cNvPicPr/>
            <p:nvPr/>
          </p:nvPicPr>
          <p:blipFill>
            <a:blip r:embed="rId25"/>
            <a:stretch/>
          </p:blipFill>
          <p:spPr>
            <a:xfrm>
              <a:off x="42577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0" name="" descr=""/>
            <p:cNvPicPr/>
            <p:nvPr/>
          </p:nvPicPr>
          <p:blipFill>
            <a:blip r:embed="rId26"/>
            <a:stretch/>
          </p:blipFill>
          <p:spPr>
            <a:xfrm>
              <a:off x="44193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1" name="" descr=""/>
            <p:cNvPicPr/>
            <p:nvPr/>
          </p:nvPicPr>
          <p:blipFill>
            <a:blip r:embed="rId27"/>
            <a:stretch/>
          </p:blipFill>
          <p:spPr>
            <a:xfrm>
              <a:off x="47149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2" name="" descr=""/>
            <p:cNvPicPr/>
            <p:nvPr/>
          </p:nvPicPr>
          <p:blipFill>
            <a:blip r:embed="rId28"/>
            <a:stretch/>
          </p:blipFill>
          <p:spPr>
            <a:xfrm>
              <a:off x="48765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3" name="" descr=""/>
            <p:cNvPicPr/>
            <p:nvPr/>
          </p:nvPicPr>
          <p:blipFill>
            <a:blip r:embed="rId29"/>
            <a:stretch/>
          </p:blipFill>
          <p:spPr>
            <a:xfrm>
              <a:off x="50292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4" name="" descr=""/>
            <p:cNvPicPr/>
            <p:nvPr/>
          </p:nvPicPr>
          <p:blipFill>
            <a:blip r:embed="rId30"/>
            <a:stretch/>
          </p:blipFill>
          <p:spPr>
            <a:xfrm>
              <a:off x="517212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5" name="" descr=""/>
            <p:cNvPicPr/>
            <p:nvPr/>
          </p:nvPicPr>
          <p:blipFill>
            <a:blip r:embed="rId31"/>
            <a:stretch/>
          </p:blipFill>
          <p:spPr>
            <a:xfrm>
              <a:off x="36576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6" name="" descr=""/>
            <p:cNvPicPr/>
            <p:nvPr/>
          </p:nvPicPr>
          <p:blipFill>
            <a:blip r:embed="rId32"/>
            <a:stretch/>
          </p:blipFill>
          <p:spPr>
            <a:xfrm>
              <a:off x="4572000" y="60199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7" name="" descr=""/>
            <p:cNvPicPr/>
            <p:nvPr/>
          </p:nvPicPr>
          <p:blipFill>
            <a:blip r:embed="rId33"/>
            <a:stretch/>
          </p:blipFill>
          <p:spPr>
            <a:xfrm>
              <a:off x="533376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8" name=""/>
            <p:cNvGrpSpPr/>
            <p:nvPr/>
          </p:nvGrpSpPr>
          <p:grpSpPr>
            <a:xfrm>
              <a:off x="5486400" y="6019920"/>
              <a:ext cx="1838160" cy="161640"/>
              <a:chOff x="5486400" y="6019920"/>
              <a:chExt cx="1838160" cy="161640"/>
            </a:xfrm>
          </p:grpSpPr>
          <p:pic>
            <p:nvPicPr>
              <p:cNvPr id="315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4864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0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6293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7913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2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9436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3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0865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485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5437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7057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8580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0009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1629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4008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71" name="" descr=""/>
            <p:cNvPicPr/>
            <p:nvPr/>
          </p:nvPicPr>
          <p:blipFill>
            <a:blip r:embed="rId46"/>
            <a:stretch/>
          </p:blipFill>
          <p:spPr>
            <a:xfrm>
              <a:off x="730548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2" name="" descr=""/>
            <p:cNvPicPr/>
            <p:nvPr/>
          </p:nvPicPr>
          <p:blipFill>
            <a:blip r:embed="rId47"/>
            <a:stretch/>
          </p:blipFill>
          <p:spPr>
            <a:xfrm>
              <a:off x="744840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3" name="" descr=""/>
            <p:cNvPicPr/>
            <p:nvPr/>
          </p:nvPicPr>
          <p:blipFill>
            <a:blip r:embed="rId48"/>
            <a:stretch/>
          </p:blipFill>
          <p:spPr>
            <a:xfrm>
              <a:off x="761040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4" name="" descr=""/>
            <p:cNvPicPr/>
            <p:nvPr/>
          </p:nvPicPr>
          <p:blipFill>
            <a:blip r:embed="rId49"/>
            <a:stretch/>
          </p:blipFill>
          <p:spPr>
            <a:xfrm>
              <a:off x="776268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5" name="" descr=""/>
            <p:cNvPicPr/>
            <p:nvPr/>
          </p:nvPicPr>
          <p:blipFill>
            <a:blip r:embed="rId50"/>
            <a:stretch/>
          </p:blipFill>
          <p:spPr>
            <a:xfrm>
              <a:off x="790560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6" name="" descr=""/>
            <p:cNvPicPr/>
            <p:nvPr/>
          </p:nvPicPr>
          <p:blipFill>
            <a:blip r:embed="rId51"/>
            <a:stretch/>
          </p:blipFill>
          <p:spPr>
            <a:xfrm>
              <a:off x="806760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7" name="" descr=""/>
            <p:cNvPicPr/>
            <p:nvPr/>
          </p:nvPicPr>
          <p:blipFill>
            <a:blip r:embed="rId52"/>
            <a:stretch/>
          </p:blipFill>
          <p:spPr>
            <a:xfrm>
              <a:off x="836280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8" name="" descr=""/>
            <p:cNvPicPr/>
            <p:nvPr/>
          </p:nvPicPr>
          <p:blipFill>
            <a:blip r:embed="rId53"/>
            <a:stretch/>
          </p:blipFill>
          <p:spPr>
            <a:xfrm>
              <a:off x="8219880" y="60199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支路电流法证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0" name=""/>
          <p:cNvGrpSpPr/>
          <p:nvPr/>
        </p:nvGrpSpPr>
        <p:grpSpPr>
          <a:xfrm>
            <a:off x="605160" y="1168920"/>
            <a:ext cx="3042000" cy="2793600"/>
            <a:chOff x="605160" y="1168920"/>
            <a:chExt cx="3042000" cy="2793600"/>
          </a:xfrm>
        </p:grpSpPr>
        <p:sp>
          <p:nvSpPr>
            <p:cNvPr id="3181" name=""/>
            <p:cNvSpPr/>
            <p:nvPr/>
          </p:nvSpPr>
          <p:spPr>
            <a:xfrm>
              <a:off x="1768320" y="3228840"/>
              <a:ext cx="820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92080" y="196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988920" y="1608120"/>
              <a:ext cx="385920" cy="352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182600" y="134316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084320" y="2227320"/>
              <a:ext cx="195120" cy="35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182600" y="258120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24040" y="1168920"/>
              <a:ext cx="3873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8" name=""/>
            <p:cNvGrpSpPr/>
            <p:nvPr/>
          </p:nvGrpSpPr>
          <p:grpSpPr>
            <a:xfrm>
              <a:off x="2050920" y="1933200"/>
              <a:ext cx="384120" cy="352440"/>
              <a:chOff x="2050920" y="1933200"/>
              <a:chExt cx="384120" cy="352440"/>
            </a:xfrm>
          </p:grpSpPr>
          <p:sp>
            <p:nvSpPr>
              <p:cNvPr id="3189" name=""/>
              <p:cNvSpPr/>
              <p:nvPr/>
            </p:nvSpPr>
            <p:spPr>
              <a:xfrm flipV="1">
                <a:off x="2050920" y="1932840"/>
                <a:ext cx="384120" cy="35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050920" y="2109960"/>
                <a:ext cx="3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1" name=""/>
            <p:cNvSpPr/>
            <p:nvPr/>
          </p:nvSpPr>
          <p:spPr>
            <a:xfrm>
              <a:off x="2243160" y="231444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43160" y="134316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181160" y="1343160"/>
              <a:ext cx="193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014640" y="1962000"/>
              <a:ext cx="193680" cy="35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111480" y="231444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3111480" y="134280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181160" y="2933640"/>
              <a:ext cx="193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05160" y="1566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12000" y="2151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126600" y="220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1952640" y="185688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887560" y="1933560"/>
              <a:ext cx="0" cy="4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22320" y="29376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1374840" y="216180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527480" y="175104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387800" y="22082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40440" y="18414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4343400" y="22860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列方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064120" y="2133720"/>
            <a:ext cx="1066680" cy="12189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248520" y="1981080"/>
            <a:ext cx="167616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5867280" y="3505320"/>
            <a:ext cx="762120" cy="457200"/>
          </a:xfrm>
          <a:prstGeom prst="wedgeRoundRectCallout">
            <a:avLst>
              <a:gd name="adj1" fmla="val -70625"/>
              <a:gd name="adj2" fmla="val -131944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7848720" y="3429000"/>
            <a:ext cx="761760" cy="457200"/>
          </a:xfrm>
          <a:prstGeom prst="wedgeRoundRectCallout">
            <a:avLst>
              <a:gd name="adj1" fmla="val -94375"/>
              <a:gd name="adj2" fmla="val -131944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'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4419720" y="4114800"/>
                <a:ext cx="33987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14" name=""/>
          <p:cNvSpPr/>
          <p:nvPr/>
        </p:nvSpPr>
        <p:spPr>
          <a:xfrm>
            <a:off x="5068800" y="4114800"/>
            <a:ext cx="1067040" cy="12193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6248520" y="3962520"/>
            <a:ext cx="167616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867280" y="5486400"/>
            <a:ext cx="762120" cy="457200"/>
          </a:xfrm>
          <a:prstGeom prst="wedgeRoundRectCallout">
            <a:avLst>
              <a:gd name="adj1" fmla="val -80625"/>
              <a:gd name="adj2" fmla="val -131944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7848720" y="5410080"/>
            <a:ext cx="761760" cy="457200"/>
          </a:xfrm>
          <a:prstGeom prst="wedgeRoundRectCallout">
            <a:avLst>
              <a:gd name="adj1" fmla="val -104375"/>
              <a:gd name="adj2" fmla="val -131944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'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457200" y="4267080"/>
            <a:ext cx="43434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即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'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2800" spc="-1" strike="noStrike" baseline="30000">
                <a:solidFill>
                  <a:srgbClr val="000099"/>
                </a:solidFill>
                <a:latin typeface="Times New Roman"/>
              </a:rPr>
              <a:t>''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E1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+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1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'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zh-CN" sz="2800" spc="-1" strike="noStrike" baseline="30000">
                <a:solidFill>
                  <a:srgbClr val="000099"/>
                </a:solidFill>
                <a:latin typeface="Times New Roman"/>
              </a:rPr>
              <a:t>''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E2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+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2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2" dur="500"/>
                                        <p:tgtEl>
                                          <p:spTgt spid="3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500"/>
                                        <p:tgtEl>
                                          <p:spTgt spid="3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3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3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500"/>
                                        <p:tgtEl>
                                          <p:spTgt spid="3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/>
          <p:nvPr/>
        </p:nvSpPr>
        <p:spPr>
          <a:xfrm>
            <a:off x="380880" y="9144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叠加原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只适用于线性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380880" y="2822400"/>
            <a:ext cx="83059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作用电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处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将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将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开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97840" y="1320840"/>
            <a:ext cx="5019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电路的电流或电压均可用叠加原理计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功率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能用叠加原理计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95200" y="152280"/>
            <a:ext cx="1752840" cy="685800"/>
          </a:xfrm>
          <a:prstGeom prst="cloudCallout">
            <a:avLst>
              <a:gd name="adj1" fmla="val 2356"/>
              <a:gd name="adj2" fmla="val 3194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3" name=""/>
          <p:cNvGrpSpPr/>
          <p:nvPr/>
        </p:nvGrpSpPr>
        <p:grpSpPr>
          <a:xfrm>
            <a:off x="6315120" y="239760"/>
            <a:ext cx="1685520" cy="1207800"/>
            <a:chOff x="6315120" y="239760"/>
            <a:chExt cx="1685520" cy="1207800"/>
          </a:xfrm>
        </p:grpSpPr>
        <p:sp>
          <p:nvSpPr>
            <p:cNvPr id="3224" name=""/>
            <p:cNvSpPr/>
            <p:nvPr/>
          </p:nvSpPr>
          <p:spPr>
            <a:xfrm>
              <a:off x="6315120" y="239760"/>
              <a:ext cx="963000" cy="939600"/>
            </a:xfrm>
            <a:custGeom>
              <a:avLst/>
              <a:gdLst>
                <a:gd name="textAreaLeft" fmla="*/ 396720 w 963000"/>
                <a:gd name="textAreaRight" fmla="*/ 566280 w 963000"/>
                <a:gd name="textAreaTop" fmla="*/ 387000 h 939600"/>
                <a:gd name="textAreaBottom" fmla="*/ 55260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197840" y="776880"/>
              <a:ext cx="802800" cy="670680"/>
            </a:xfrm>
            <a:custGeom>
              <a:avLst/>
              <a:gdLst>
                <a:gd name="textAreaLeft" fmla="*/ 330840 w 802800"/>
                <a:gd name="textAreaRight" fmla="*/ 471960 w 802800"/>
                <a:gd name="textAreaTop" fmla="*/ 276480 h 670680"/>
                <a:gd name="textAreaBottom" fmla="*/ 394200 h 67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990720" y="2286000"/>
                <a:ext cx="579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7" name=""/>
          <p:cNvSpPr/>
          <p:nvPr/>
        </p:nvSpPr>
        <p:spPr>
          <a:xfrm>
            <a:off x="365040" y="5181480"/>
            <a:ext cx="87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叠加原理时可把电源分组求解 ，即每个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电源个数可以多于一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365040" y="380844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题时要标明各支路电流、电压的参考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分电流、分电压与原电路中电流、电压的参考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反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叠加时相应项前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带负号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500"/>
                            </p:stCondLst>
                            <p:childTnLst>
                              <p:par>
                                <p:cTn id="18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5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0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5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0" dur="5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5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0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304920" y="3556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4097160" y="541440"/>
            <a:ext cx="490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1000080" y="324000"/>
            <a:ext cx="76104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叠加原理求流过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理想电流源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的电压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3674160" y="3708360"/>
            <a:ext cx="188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独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将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6347160" y="3678480"/>
            <a:ext cx="1866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独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将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短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544320" y="477504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由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5" name=""/>
              <p:cNvSpPr txBox="1"/>
              <p:nvPr/>
            </p:nvSpPr>
            <p:spPr>
              <a:xfrm>
                <a:off x="2362320" y="4602240"/>
                <a:ext cx="42670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36" name=""/>
          <p:cNvGrpSpPr/>
          <p:nvPr/>
        </p:nvGrpSpPr>
        <p:grpSpPr>
          <a:xfrm>
            <a:off x="0" y="1595520"/>
            <a:ext cx="3313080" cy="2683440"/>
            <a:chOff x="0" y="1595520"/>
            <a:chExt cx="3313080" cy="2683440"/>
          </a:xfrm>
        </p:grpSpPr>
        <p:sp>
          <p:nvSpPr>
            <p:cNvPr id="3237" name=""/>
            <p:cNvSpPr/>
            <p:nvPr/>
          </p:nvSpPr>
          <p:spPr>
            <a:xfrm>
              <a:off x="1255680" y="37584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07800" y="311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95280" y="2759040"/>
              <a:ext cx="360360" cy="36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68440" y="2178000"/>
              <a:ext cx="0" cy="15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23920" y="2351160"/>
              <a:ext cx="3477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2" name=""/>
            <p:cNvGrpSpPr/>
            <p:nvPr/>
          </p:nvGrpSpPr>
          <p:grpSpPr>
            <a:xfrm>
              <a:off x="2540160" y="2813400"/>
              <a:ext cx="345600" cy="351720"/>
              <a:chOff x="2540160" y="2813400"/>
              <a:chExt cx="345600" cy="351720"/>
            </a:xfrm>
          </p:grpSpPr>
          <p:sp>
            <p:nvSpPr>
              <p:cNvPr id="3243" name=""/>
              <p:cNvSpPr/>
              <p:nvPr/>
            </p:nvSpPr>
            <p:spPr>
              <a:xfrm flipV="1">
                <a:off x="2540160" y="2813040"/>
                <a:ext cx="345600" cy="351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2540160" y="298944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5" name=""/>
            <p:cNvSpPr/>
            <p:nvPr/>
          </p:nvSpPr>
          <p:spPr>
            <a:xfrm>
              <a:off x="2712960" y="316548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712960" y="21938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66640" y="218268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144440" y="2779560"/>
              <a:ext cx="14616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222200" y="3211560"/>
              <a:ext cx="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1231920" y="216000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V="1">
              <a:off x="568440" y="3744360"/>
              <a:ext cx="216360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0" y="269172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392120" y="2752560"/>
              <a:ext cx="65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15880" y="2373120"/>
              <a:ext cx="4240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254240" y="1595520"/>
              <a:ext cx="86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68360" y="2752560"/>
              <a:ext cx="9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2494080" y="2754000"/>
              <a:ext cx="0" cy="5108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908000" y="2779560"/>
              <a:ext cx="14616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986120" y="3211560"/>
              <a:ext cx="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V="1">
              <a:off x="1995480" y="216000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rot="16200000">
              <a:off x="1564560" y="1998720"/>
              <a:ext cx="161640" cy="389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870200" y="2182680"/>
              <a:ext cx="87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103840" y="273816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1438560" y="22809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817720" y="2383200"/>
              <a:ext cx="3477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61920" y="27525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3200400" y="1519200"/>
            <a:ext cx="2770200" cy="2310120"/>
            <a:chOff x="3200400" y="1519200"/>
            <a:chExt cx="2770200" cy="2310120"/>
          </a:xfrm>
        </p:grpSpPr>
        <p:sp>
          <p:nvSpPr>
            <p:cNvPr id="3268" name=""/>
            <p:cNvSpPr/>
            <p:nvPr/>
          </p:nvSpPr>
          <p:spPr>
            <a:xfrm>
              <a:off x="3492360" y="3035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579480" y="2683080"/>
              <a:ext cx="36000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754080" y="2084400"/>
              <a:ext cx="1080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408120" y="2275200"/>
              <a:ext cx="3488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751200" y="2106720"/>
              <a:ext cx="88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330440" y="2703600"/>
              <a:ext cx="14580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406760" y="3135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4417920" y="208440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V="1">
              <a:off x="3752640" y="3668760"/>
              <a:ext cx="174420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200400" y="260136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578120" y="2676600"/>
              <a:ext cx="6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601880" y="2297160"/>
              <a:ext cx="4237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438440" y="1519200"/>
              <a:ext cx="86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652560" y="2676600"/>
              <a:ext cx="96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094000" y="2703600"/>
              <a:ext cx="14580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171760" y="3135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V="1">
              <a:off x="5181480" y="208440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rot="16200000">
              <a:off x="4750200" y="1923480"/>
              <a:ext cx="162000" cy="38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055840" y="210672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592160" y="224316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27360" y="2011320"/>
              <a:ext cx="3488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355360" y="2647800"/>
              <a:ext cx="615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0" name=""/>
          <p:cNvGrpSpPr/>
          <p:nvPr/>
        </p:nvGrpSpPr>
        <p:grpSpPr>
          <a:xfrm>
            <a:off x="5867280" y="1493640"/>
            <a:ext cx="3248280" cy="2189160"/>
            <a:chOff x="5867280" y="1493640"/>
            <a:chExt cx="3248280" cy="2189160"/>
          </a:xfrm>
        </p:grpSpPr>
        <p:sp>
          <p:nvSpPr>
            <p:cNvPr id="3291" name=""/>
            <p:cNvSpPr/>
            <p:nvPr/>
          </p:nvSpPr>
          <p:spPr>
            <a:xfrm>
              <a:off x="5867280" y="3009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6127920" y="2058840"/>
              <a:ext cx="1440" cy="135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129360" y="329724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4" name=""/>
            <p:cNvGrpSpPr/>
            <p:nvPr/>
          </p:nvGrpSpPr>
          <p:grpSpPr>
            <a:xfrm>
              <a:off x="8101080" y="2711520"/>
              <a:ext cx="345600" cy="352080"/>
              <a:chOff x="8101080" y="2711520"/>
              <a:chExt cx="345600" cy="352080"/>
            </a:xfrm>
          </p:grpSpPr>
          <p:sp>
            <p:nvSpPr>
              <p:cNvPr id="3295" name=""/>
              <p:cNvSpPr/>
              <p:nvPr/>
            </p:nvSpPr>
            <p:spPr>
              <a:xfrm flipV="1">
                <a:off x="8101080" y="2711520"/>
                <a:ext cx="345600" cy="352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8101080" y="28879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7" name=""/>
            <p:cNvSpPr/>
            <p:nvPr/>
          </p:nvSpPr>
          <p:spPr>
            <a:xfrm>
              <a:off x="8273880" y="306396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273880" y="209232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126120" y="208116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705720" y="2678040"/>
              <a:ext cx="14580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781680" y="31096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V="1">
              <a:off x="6792840" y="205884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127920" y="3643200"/>
              <a:ext cx="216360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953400" y="2651040"/>
              <a:ext cx="6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>
              <a:off x="6976800" y="2271600"/>
              <a:ext cx="4222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813720" y="1493640"/>
              <a:ext cx="86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027840" y="2651040"/>
              <a:ext cx="9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8051760" y="2652480"/>
              <a:ext cx="0" cy="511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469280" y="2678040"/>
              <a:ext cx="14436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545240" y="31096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7556400" y="205884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rot="16200000">
              <a:off x="7123680" y="1897560"/>
              <a:ext cx="162000" cy="389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29680" y="2081160"/>
              <a:ext cx="87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663320" y="263664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954840" y="220500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77200" y="2281680"/>
              <a:ext cx="349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081640" y="2651040"/>
              <a:ext cx="103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8" name=""/>
              <p:cNvSpPr txBox="1"/>
              <p:nvPr/>
            </p:nvSpPr>
            <p:spPr>
              <a:xfrm>
                <a:off x="2382840" y="5641920"/>
                <a:ext cx="3941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"/>
          <p:cNvSpPr/>
          <p:nvPr/>
        </p:nvSpPr>
        <p:spPr>
          <a:xfrm>
            <a:off x="4097160" y="414360"/>
            <a:ext cx="490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152280" y="196920"/>
            <a:ext cx="83059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叠加原理求流过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理想电流源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的电压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3675600" y="336708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独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6352200" y="3322440"/>
            <a:ext cx="185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独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3" name=""/>
              <p:cNvSpPr txBox="1"/>
              <p:nvPr/>
            </p:nvSpPr>
            <p:spPr>
              <a:xfrm>
                <a:off x="1523880" y="5335560"/>
                <a:ext cx="5791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4" name=""/>
          <p:cNvGrpSpPr/>
          <p:nvPr/>
        </p:nvGrpSpPr>
        <p:grpSpPr>
          <a:xfrm>
            <a:off x="0" y="1418040"/>
            <a:ext cx="3313080" cy="2468520"/>
            <a:chOff x="0" y="1418040"/>
            <a:chExt cx="3313080" cy="2468520"/>
          </a:xfrm>
        </p:grpSpPr>
        <p:sp>
          <p:nvSpPr>
            <p:cNvPr id="3325" name=""/>
            <p:cNvSpPr/>
            <p:nvPr/>
          </p:nvSpPr>
          <p:spPr>
            <a:xfrm>
              <a:off x="1255680" y="3366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07800" y="280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95280" y="2492640"/>
              <a:ext cx="360360" cy="324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68440" y="1970280"/>
              <a:ext cx="0" cy="143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23920" y="2067120"/>
              <a:ext cx="3477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0" name=""/>
            <p:cNvGrpSpPr/>
            <p:nvPr/>
          </p:nvGrpSpPr>
          <p:grpSpPr>
            <a:xfrm>
              <a:off x="2540160" y="2541600"/>
              <a:ext cx="345600" cy="316440"/>
              <a:chOff x="2540160" y="2541600"/>
              <a:chExt cx="345600" cy="316440"/>
            </a:xfrm>
          </p:grpSpPr>
          <p:sp>
            <p:nvSpPr>
              <p:cNvPr id="3331" name=""/>
              <p:cNvSpPr/>
              <p:nvPr/>
            </p:nvSpPr>
            <p:spPr>
              <a:xfrm flipV="1">
                <a:off x="2540160" y="2541240"/>
                <a:ext cx="345600" cy="31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2540160" y="270000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3" name=""/>
            <p:cNvSpPr/>
            <p:nvPr/>
          </p:nvSpPr>
          <p:spPr>
            <a:xfrm>
              <a:off x="2712960" y="2858400"/>
              <a:ext cx="0" cy="55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12960" y="1984320"/>
              <a:ext cx="0" cy="55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66640" y="197460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144440" y="2511360"/>
              <a:ext cx="146160" cy="388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222200" y="2899800"/>
              <a:ext cx="0" cy="47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1231920" y="1954440"/>
              <a:ext cx="0" cy="55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568440" y="3378960"/>
              <a:ext cx="216360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0" y="240588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392120" y="2458800"/>
              <a:ext cx="65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415880" y="2145600"/>
              <a:ext cx="4240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1254240" y="1418040"/>
              <a:ext cx="86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68360" y="2459160"/>
              <a:ext cx="9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2494080" y="2488680"/>
              <a:ext cx="0" cy="45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908000" y="2511360"/>
              <a:ext cx="146160" cy="388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986120" y="2899800"/>
              <a:ext cx="0" cy="47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V="1">
              <a:off x="1995480" y="1954440"/>
              <a:ext cx="0" cy="55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rot="16200000">
              <a:off x="1572480" y="1789560"/>
              <a:ext cx="145440" cy="389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870200" y="1974600"/>
              <a:ext cx="87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103840" y="244620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438560" y="2035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817720" y="2095560"/>
              <a:ext cx="3477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61920" y="24591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3200400" y="1392120"/>
            <a:ext cx="2770560" cy="2154960"/>
            <a:chOff x="3200400" y="1392120"/>
            <a:chExt cx="2770560" cy="2154960"/>
          </a:xfrm>
        </p:grpSpPr>
        <p:sp>
          <p:nvSpPr>
            <p:cNvPr id="3356" name=""/>
            <p:cNvSpPr/>
            <p:nvPr/>
          </p:nvSpPr>
          <p:spPr>
            <a:xfrm>
              <a:off x="3492360" y="2786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3579840" y="2468520"/>
              <a:ext cx="360360" cy="324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3754440" y="1930320"/>
              <a:ext cx="11160" cy="14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408480" y="2043720"/>
              <a:ext cx="349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3751200" y="194940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330800" y="2487600"/>
              <a:ext cx="145800" cy="387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406760" y="2874960"/>
              <a:ext cx="0" cy="4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4417920" y="193032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3753000" y="3355560"/>
              <a:ext cx="174456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200400" y="236952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578480" y="2433600"/>
              <a:ext cx="6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602240" y="2120760"/>
              <a:ext cx="4237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38800" y="1392120"/>
              <a:ext cx="86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652920" y="2433600"/>
              <a:ext cx="9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094360" y="2487600"/>
              <a:ext cx="145800" cy="387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172120" y="2874960"/>
              <a:ext cx="0" cy="4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5181480" y="193032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rot="16200000">
              <a:off x="4759200" y="1764720"/>
              <a:ext cx="144360" cy="38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056200" y="194940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592880" y="204300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427720" y="1817640"/>
              <a:ext cx="349200" cy="17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355720" y="2408040"/>
              <a:ext cx="615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5867280" y="1366920"/>
            <a:ext cx="3248280" cy="1998720"/>
            <a:chOff x="5867280" y="1366920"/>
            <a:chExt cx="3248280" cy="1998720"/>
          </a:xfrm>
        </p:grpSpPr>
        <p:sp>
          <p:nvSpPr>
            <p:cNvPr id="3379" name=""/>
            <p:cNvSpPr/>
            <p:nvPr/>
          </p:nvSpPr>
          <p:spPr>
            <a:xfrm>
              <a:off x="5867280" y="2759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6127920" y="1903320"/>
              <a:ext cx="144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129360" y="30178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2" name=""/>
            <p:cNvGrpSpPr/>
            <p:nvPr/>
          </p:nvGrpSpPr>
          <p:grpSpPr>
            <a:xfrm>
              <a:off x="8101080" y="2491200"/>
              <a:ext cx="345600" cy="317160"/>
              <a:chOff x="8101080" y="2491200"/>
              <a:chExt cx="345600" cy="317160"/>
            </a:xfrm>
          </p:grpSpPr>
          <p:sp>
            <p:nvSpPr>
              <p:cNvPr id="3383" name=""/>
              <p:cNvSpPr/>
              <p:nvPr/>
            </p:nvSpPr>
            <p:spPr>
              <a:xfrm flipV="1">
                <a:off x="8101080" y="2490840"/>
                <a:ext cx="345600" cy="317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101080" y="264996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5" name=""/>
            <p:cNvSpPr/>
            <p:nvPr/>
          </p:nvSpPr>
          <p:spPr>
            <a:xfrm>
              <a:off x="8273880" y="280836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273880" y="193356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126120" y="192420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705720" y="2460600"/>
              <a:ext cx="145800" cy="38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781680" y="284940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6792840" y="190332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6127920" y="3330360"/>
              <a:ext cx="21636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953400" y="2408040"/>
              <a:ext cx="6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>
              <a:off x="6976800" y="2095560"/>
              <a:ext cx="4222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813720" y="1366920"/>
              <a:ext cx="86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027840" y="2408040"/>
              <a:ext cx="9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V="1">
              <a:off x="8051760" y="2437920"/>
              <a:ext cx="0" cy="4604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469280" y="2460600"/>
              <a:ext cx="144360" cy="38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545240" y="284940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V="1">
              <a:off x="7556400" y="190332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rot="16200000">
              <a:off x="7131600" y="1738800"/>
              <a:ext cx="146160" cy="389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429680" y="1924200"/>
              <a:ext cx="87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663320" y="239544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954840" y="202716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377200" y="2046600"/>
              <a:ext cx="349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081640" y="2408040"/>
              <a:ext cx="103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6" name=""/>
          <p:cNvSpPr/>
          <p:nvPr/>
        </p:nvSpPr>
        <p:spPr>
          <a:xfrm>
            <a:off x="685080" y="40021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由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7" name=""/>
              <p:cNvSpPr txBox="1"/>
              <p:nvPr/>
            </p:nvSpPr>
            <p:spPr>
              <a:xfrm>
                <a:off x="2362320" y="3809880"/>
                <a:ext cx="5078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8" name=""/>
              <p:cNvSpPr txBox="1"/>
              <p:nvPr/>
            </p:nvSpPr>
            <p:spPr>
              <a:xfrm>
                <a:off x="2357280" y="4724280"/>
                <a:ext cx="44848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9" name=""/>
              <p:cNvSpPr txBox="1"/>
              <p:nvPr/>
            </p:nvSpPr>
            <p:spPr>
              <a:xfrm>
                <a:off x="2390760" y="5880240"/>
                <a:ext cx="541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V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4" dur="5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3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4" dur="5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4172760" y="262080"/>
            <a:ext cx="44496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345960" y="2681280"/>
            <a:ext cx="8264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电路中有两个电源作用，根据叠加原理可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+ 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75280" y="3886200"/>
            <a:ext cx="3852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457200" y="3429000"/>
            <a:ext cx="4197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A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848720" y="3657600"/>
            <a:ext cx="304560" cy="762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33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7" name=""/>
          <p:cNvGrpSpPr/>
          <p:nvPr/>
        </p:nvGrpSpPr>
        <p:grpSpPr>
          <a:xfrm>
            <a:off x="533520" y="152280"/>
            <a:ext cx="3624120" cy="2300400"/>
            <a:chOff x="533520" y="152280"/>
            <a:chExt cx="3624120" cy="2300400"/>
          </a:xfrm>
        </p:grpSpPr>
        <p:sp>
          <p:nvSpPr>
            <p:cNvPr id="3418" name=""/>
            <p:cNvSpPr/>
            <p:nvPr/>
          </p:nvSpPr>
          <p:spPr>
            <a:xfrm>
              <a:off x="1993680" y="388800"/>
              <a:ext cx="5511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057400" y="152280"/>
              <a:ext cx="403200" cy="40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600200" y="1047600"/>
              <a:ext cx="1333440" cy="133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线性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源网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81200" y="1219320"/>
              <a:ext cx="81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62120" y="22287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1790640" y="380880"/>
              <a:ext cx="0" cy="66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2724120" y="380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790640" y="3808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933640" y="1409760"/>
              <a:ext cx="5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933640" y="2076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429000" y="1371600"/>
              <a:ext cx="745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409920" y="2052720"/>
              <a:ext cx="745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49440" y="1317600"/>
              <a:ext cx="540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62120" y="199692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33520" y="1562040"/>
              <a:ext cx="403200" cy="40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71680" y="17794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V="1">
              <a:off x="990720" y="1477800"/>
              <a:ext cx="0" cy="571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002240" y="1393920"/>
              <a:ext cx="433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81200" y="1219320"/>
              <a:ext cx="288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209680" y="31104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595520" y="31104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390840" y="106668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301920" y="193212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1" name=""/>
          <p:cNvGraphicFramePr/>
          <p:nvPr/>
        </p:nvGraphicFramePr>
        <p:xfrm>
          <a:off x="6858000" y="4876920"/>
          <a:ext cx="182880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18288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3" name=""/>
          <p:cNvSpPr/>
          <p:nvPr/>
        </p:nvSpPr>
        <p:spPr>
          <a:xfrm>
            <a:off x="3962520" y="3581280"/>
            <a:ext cx="3921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得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1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+ 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3962520" y="40528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得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10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+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380880" y="4495680"/>
            <a:ext cx="5988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立两式解得：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– 0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457200" y="5181480"/>
            <a:ext cx="6248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+ 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0.1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0 +(– 0.1 )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10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–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1" dur="500"/>
                                        <p:tgtEl>
                                          <p:spTgt spid="3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3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500"/>
                            </p:stCondLst>
                            <p:childTnLst>
                              <p:par>
                                <p:cTn id="1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500"/>
                                        <p:tgtEl>
                                          <p:spTgt spid="3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228600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齐性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304920" y="1066680"/>
            <a:ext cx="8847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只有一个电源作用的线性电路中，各支路的电压或电流和电源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如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971640" y="5029200"/>
            <a:ext cx="68007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加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各电流也会增加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370080" y="4495680"/>
            <a:ext cx="11091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1" name="" descr=""/>
          <p:cNvPicPr/>
          <p:nvPr/>
        </p:nvPicPr>
        <p:blipFill>
          <a:blip r:embed="rId1"/>
          <a:stretch/>
        </p:blipFill>
        <p:spPr>
          <a:xfrm>
            <a:off x="7620120" y="3962520"/>
            <a:ext cx="1177920" cy="1890720"/>
          </a:xfrm>
          <a:prstGeom prst="rect">
            <a:avLst/>
          </a:prstGeom>
          <a:ln w="0">
            <a:noFill/>
          </a:ln>
        </p:spPr>
      </p:pic>
      <p:grpSp>
        <p:nvGrpSpPr>
          <p:cNvPr id="3452" name=""/>
          <p:cNvGrpSpPr/>
          <p:nvPr/>
        </p:nvGrpSpPr>
        <p:grpSpPr>
          <a:xfrm>
            <a:off x="2952360" y="2057400"/>
            <a:ext cx="3786120" cy="2601720"/>
            <a:chOff x="2952360" y="2057400"/>
            <a:chExt cx="3786120" cy="2601720"/>
          </a:xfrm>
        </p:grpSpPr>
        <p:sp>
          <p:nvSpPr>
            <p:cNvPr id="3453" name=""/>
            <p:cNvSpPr/>
            <p:nvPr/>
          </p:nvSpPr>
          <p:spPr>
            <a:xfrm>
              <a:off x="4743720" y="3548160"/>
              <a:ext cx="3240" cy="102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654440" y="3134880"/>
              <a:ext cx="185400" cy="44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717720" y="4596120"/>
              <a:ext cx="20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17720" y="2433240"/>
              <a:ext cx="20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450960" y="3715920"/>
              <a:ext cx="532800" cy="495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717720" y="3231360"/>
              <a:ext cx="0" cy="13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624840" y="2814840"/>
              <a:ext cx="189000" cy="43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776920" y="331020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680440" y="2874240"/>
              <a:ext cx="189000" cy="43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133520" y="2652120"/>
              <a:ext cx="53784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909320" y="3707280"/>
              <a:ext cx="0" cy="74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H="1">
              <a:off x="4685760" y="2370240"/>
              <a:ext cx="101160" cy="10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4685760" y="4554360"/>
              <a:ext cx="101160" cy="104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298680" y="3133440"/>
              <a:ext cx="40068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365640" y="3850920"/>
              <a:ext cx="3153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952360" y="3463920"/>
              <a:ext cx="53784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5875560" y="2758680"/>
              <a:ext cx="53784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916160" y="3569040"/>
              <a:ext cx="78948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942160" y="3581640"/>
              <a:ext cx="0" cy="74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948640" y="3611160"/>
              <a:ext cx="78984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020760" y="2695680"/>
              <a:ext cx="53784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815640" y="2286720"/>
              <a:ext cx="566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255120" y="2057400"/>
              <a:ext cx="78984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743720" y="2436840"/>
              <a:ext cx="144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774760" y="2436840"/>
              <a:ext cx="1800" cy="43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710880" y="2436840"/>
              <a:ext cx="1800" cy="3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8" dur="indefinite" restart="never" nodeType="tmRoot">
          <p:childTnLst>
            <p:seq>
              <p:cTn id="1999" dur="indefinite" nodeType="mainSeq">
                <p:childTnLst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9" dur="5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3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3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663480" y="151920"/>
            <a:ext cx="77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7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戴维宁定理与诺顿定理</a:t>
            </a:r>
            <a:r>
              <a:rPr b="0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380880" y="2819520"/>
            <a:ext cx="2438640" cy="220320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438120" y="762120"/>
            <a:ext cx="779148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端网络的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端网络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两个出线端的部分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源二端网络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端网络中没有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端网络中含有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724280" y="2855880"/>
            <a:ext cx="3048120" cy="224964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3" name=""/>
          <p:cNvGrpSpPr/>
          <p:nvPr/>
        </p:nvGrpSpPr>
        <p:grpSpPr>
          <a:xfrm>
            <a:off x="4419720" y="2666160"/>
            <a:ext cx="4190400" cy="2653920"/>
            <a:chOff x="4419720" y="2666160"/>
            <a:chExt cx="4190400" cy="2653920"/>
          </a:xfrm>
        </p:grpSpPr>
        <p:sp>
          <p:nvSpPr>
            <p:cNvPr id="3484" name=""/>
            <p:cNvSpPr/>
            <p:nvPr/>
          </p:nvSpPr>
          <p:spPr>
            <a:xfrm>
              <a:off x="7926120" y="4799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8368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7305480" y="3830400"/>
              <a:ext cx="423360" cy="37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7305480" y="4017600"/>
              <a:ext cx="42336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373960" y="3830400"/>
              <a:ext cx="21060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65760" y="4208400"/>
              <a:ext cx="1440" cy="66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H="1" flipV="1">
              <a:off x="8457480" y="3101760"/>
              <a:ext cx="756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V="1">
              <a:off x="7238880" y="3753720"/>
              <a:ext cx="0" cy="58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534080" y="42084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171840" y="3769920"/>
              <a:ext cx="21096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273720" y="4117680"/>
              <a:ext cx="0" cy="80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6273720" y="3173040"/>
              <a:ext cx="0" cy="58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V="1">
              <a:off x="7534080" y="3141360"/>
              <a:ext cx="0" cy="68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040000" y="3450960"/>
              <a:ext cx="421920" cy="37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135400" y="4113000"/>
              <a:ext cx="210600" cy="379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238360" y="4492440"/>
              <a:ext cx="2880" cy="3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V="1">
              <a:off x="5238360" y="3117600"/>
              <a:ext cx="0" cy="9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571640" y="336456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840200" y="3022920"/>
              <a:ext cx="423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19720" y="4017600"/>
              <a:ext cx="91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502400" y="3092040"/>
              <a:ext cx="8532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502400" y="4844880"/>
              <a:ext cx="8532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238360" y="4875120"/>
              <a:ext cx="32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238360" y="3117600"/>
              <a:ext cx="32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222600" y="309204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214680" y="484488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481360" y="3654000"/>
              <a:ext cx="91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624360" y="3700080"/>
              <a:ext cx="91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691040" y="371268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76320" y="2666160"/>
            <a:ext cx="4267080" cy="2806560"/>
            <a:chOff x="76320" y="2666160"/>
            <a:chExt cx="4267080" cy="2806560"/>
          </a:xfrm>
        </p:grpSpPr>
        <p:sp>
          <p:nvSpPr>
            <p:cNvPr id="3514" name=""/>
            <p:cNvSpPr/>
            <p:nvPr/>
          </p:nvSpPr>
          <p:spPr>
            <a:xfrm>
              <a:off x="3048480" y="4952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300528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 flipV="1">
              <a:off x="2962440" y="3830400"/>
              <a:ext cx="423720" cy="37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V="1">
              <a:off x="2962440" y="4017600"/>
              <a:ext cx="42372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030920" y="4117680"/>
              <a:ext cx="21096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114800" y="4495680"/>
              <a:ext cx="9720" cy="37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V="1">
              <a:off x="4114800" y="3101400"/>
              <a:ext cx="0" cy="10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V="1">
              <a:off x="2895840" y="3753720"/>
              <a:ext cx="0" cy="58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191040" y="42084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667160" y="3769920"/>
              <a:ext cx="21096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768680" y="4117680"/>
              <a:ext cx="0" cy="80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1768680" y="3173040"/>
              <a:ext cx="0" cy="58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3191040" y="3141360"/>
              <a:ext cx="0" cy="68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921120" y="3354120"/>
              <a:ext cx="422280" cy="37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827280" y="3722400"/>
              <a:ext cx="210960" cy="44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914400" y="4190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914400" y="3123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29000" y="327564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657600" y="2967120"/>
              <a:ext cx="42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6320" y="362700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159360" y="309204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159360" y="484488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895320" y="4875120"/>
              <a:ext cx="32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914400" y="3117600"/>
              <a:ext cx="32083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717920" y="309204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710000" y="4844880"/>
              <a:ext cx="85680" cy="81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990720" y="365400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281320" y="370008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76720" y="402228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rot="5400000">
              <a:off x="2329200" y="2893680"/>
              <a:ext cx="210960" cy="449280"/>
            </a:xfrm>
            <a:prstGeom prst="rect">
              <a:avLst/>
            </a:prstGeom>
            <a:solidFill>
              <a:srgbClr val="f6fae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1981440" y="3169800"/>
              <a:ext cx="91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5" name=""/>
          <p:cNvSpPr/>
          <p:nvPr/>
        </p:nvSpPr>
        <p:spPr>
          <a:xfrm>
            <a:off x="1066680" y="5638680"/>
            <a:ext cx="2286000" cy="533520"/>
          </a:xfrm>
          <a:prstGeom prst="wedgeRoundRectCallout">
            <a:avLst>
              <a:gd name="adj1" fmla="val 5347"/>
              <a:gd name="adj2" fmla="val -274106"/>
              <a:gd name="adj3" fmla="val 16667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无源二端网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334120" y="5562720"/>
            <a:ext cx="2286000" cy="533160"/>
          </a:xfrm>
          <a:prstGeom prst="wedgeRoundRectCallout">
            <a:avLst>
              <a:gd name="adj1" fmla="val 5347"/>
              <a:gd name="adj2" fmla="val -274106"/>
              <a:gd name="adj3" fmla="val 16667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有源二端网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3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3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5" dur="500"/>
                                        <p:tgtEl>
                                          <p:spTgt spid="3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3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3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6" dur="500"/>
                                        <p:tgtEl>
                                          <p:spTgt spid="3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3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2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7" name=""/>
          <p:cNvGrpSpPr/>
          <p:nvPr/>
        </p:nvGrpSpPr>
        <p:grpSpPr>
          <a:xfrm>
            <a:off x="3809520" y="227880"/>
            <a:ext cx="1266840" cy="1892160"/>
            <a:chOff x="3809520" y="227880"/>
            <a:chExt cx="1266840" cy="1892160"/>
          </a:xfrm>
        </p:grpSpPr>
        <p:sp>
          <p:nvSpPr>
            <p:cNvPr id="3548" name=""/>
            <p:cNvSpPr/>
            <p:nvPr/>
          </p:nvSpPr>
          <p:spPr>
            <a:xfrm>
              <a:off x="4697280" y="22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9" name=""/>
            <p:cNvGrpSpPr/>
            <p:nvPr/>
          </p:nvGrpSpPr>
          <p:grpSpPr>
            <a:xfrm>
              <a:off x="3809520" y="457200"/>
              <a:ext cx="800280" cy="1447920"/>
              <a:chOff x="3809520" y="457200"/>
              <a:chExt cx="800280" cy="1447920"/>
            </a:xfrm>
          </p:grpSpPr>
          <p:sp>
            <p:nvSpPr>
              <p:cNvPr id="3550" name=""/>
              <p:cNvSpPr/>
              <p:nvPr/>
            </p:nvSpPr>
            <p:spPr>
              <a:xfrm flipH="1">
                <a:off x="3809160" y="1028880"/>
                <a:ext cx="152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885840" y="13338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 flipV="1">
                <a:off x="3885840" y="49536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 flipH="1">
                <a:off x="4514040" y="1809720"/>
                <a:ext cx="95400" cy="9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flipH="1">
                <a:off x="3885840" y="18478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H="1">
                <a:off x="4494960" y="457200"/>
                <a:ext cx="95400" cy="9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flipH="1">
                <a:off x="3866760" y="49536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7" name=""/>
            <p:cNvSpPr/>
            <p:nvPr/>
          </p:nvSpPr>
          <p:spPr>
            <a:xfrm>
              <a:off x="469764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021200" y="928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62120" y="457200"/>
            <a:ext cx="2207520" cy="1434240"/>
            <a:chOff x="762120" y="457200"/>
            <a:chExt cx="2207520" cy="1434240"/>
          </a:xfrm>
        </p:grpSpPr>
        <p:grpSp>
          <p:nvGrpSpPr>
            <p:cNvPr id="3560" name=""/>
            <p:cNvGrpSpPr/>
            <p:nvPr/>
          </p:nvGrpSpPr>
          <p:grpSpPr>
            <a:xfrm>
              <a:off x="1828440" y="738000"/>
              <a:ext cx="723960" cy="95400"/>
              <a:chOff x="1828440" y="738000"/>
              <a:chExt cx="723960" cy="95400"/>
            </a:xfrm>
          </p:grpSpPr>
          <p:sp>
            <p:nvSpPr>
              <p:cNvPr id="3561" name=""/>
              <p:cNvSpPr/>
              <p:nvPr/>
            </p:nvSpPr>
            <p:spPr>
              <a:xfrm flipH="1">
                <a:off x="2456640" y="738000"/>
                <a:ext cx="95400" cy="9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 flipH="1">
                <a:off x="1828440" y="77616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3" name=""/>
            <p:cNvGrpSpPr/>
            <p:nvPr/>
          </p:nvGrpSpPr>
          <p:grpSpPr>
            <a:xfrm>
              <a:off x="1828440" y="1538280"/>
              <a:ext cx="723960" cy="95040"/>
              <a:chOff x="1828440" y="1538280"/>
              <a:chExt cx="723960" cy="95040"/>
            </a:xfrm>
          </p:grpSpPr>
          <p:sp>
            <p:nvSpPr>
              <p:cNvPr id="3564" name=""/>
              <p:cNvSpPr/>
              <p:nvPr/>
            </p:nvSpPr>
            <p:spPr>
              <a:xfrm flipH="1">
                <a:off x="2456640" y="1538280"/>
                <a:ext cx="95400" cy="95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 flipH="1">
                <a:off x="1828440" y="15760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2592360" y="532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590920" y="1370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62120" y="457200"/>
              <a:ext cx="1066680" cy="947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无源二端网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9" name=""/>
          <p:cNvSpPr/>
          <p:nvPr/>
        </p:nvSpPr>
        <p:spPr>
          <a:xfrm flipH="1">
            <a:off x="4876920" y="3124080"/>
            <a:ext cx="304560" cy="2210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0" name=""/>
          <p:cNvGrpSpPr/>
          <p:nvPr/>
        </p:nvGrpSpPr>
        <p:grpSpPr>
          <a:xfrm>
            <a:off x="2797200" y="2056680"/>
            <a:ext cx="2040840" cy="2242800"/>
            <a:chOff x="2797200" y="2056680"/>
            <a:chExt cx="2040840" cy="2242800"/>
          </a:xfrm>
        </p:grpSpPr>
        <p:grpSp>
          <p:nvGrpSpPr>
            <p:cNvPr id="3571" name=""/>
            <p:cNvGrpSpPr/>
            <p:nvPr/>
          </p:nvGrpSpPr>
          <p:grpSpPr>
            <a:xfrm>
              <a:off x="3074040" y="2255760"/>
              <a:ext cx="1331640" cy="123480"/>
              <a:chOff x="3074040" y="2255760"/>
              <a:chExt cx="1331640" cy="123480"/>
            </a:xfrm>
          </p:grpSpPr>
          <p:sp>
            <p:nvSpPr>
              <p:cNvPr id="3572" name=""/>
              <p:cNvSpPr/>
              <p:nvPr/>
            </p:nvSpPr>
            <p:spPr>
              <a:xfrm>
                <a:off x="3074040" y="231768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285800" y="2255760"/>
                <a:ext cx="119880" cy="123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>
              <a:off x="2797200" y="2993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892960" y="2600280"/>
              <a:ext cx="384120" cy="393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085200" y="230472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989080" y="3288960"/>
              <a:ext cx="191880" cy="39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085200" y="3682800"/>
              <a:ext cx="0" cy="39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085200" y="2211840"/>
              <a:ext cx="38376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0" name=""/>
            <p:cNvGrpSpPr/>
            <p:nvPr/>
          </p:nvGrpSpPr>
          <p:grpSpPr>
            <a:xfrm>
              <a:off x="3074040" y="4003560"/>
              <a:ext cx="1331640" cy="121680"/>
              <a:chOff x="3074040" y="4003560"/>
              <a:chExt cx="1331640" cy="121680"/>
            </a:xfrm>
          </p:grpSpPr>
          <p:sp>
            <p:nvSpPr>
              <p:cNvPr id="3581" name=""/>
              <p:cNvSpPr/>
              <p:nvPr/>
            </p:nvSpPr>
            <p:spPr>
              <a:xfrm>
                <a:off x="3074040" y="406476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285800" y="4003560"/>
                <a:ext cx="119880" cy="121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3" name=""/>
            <p:cNvSpPr/>
            <p:nvPr/>
          </p:nvSpPr>
          <p:spPr>
            <a:xfrm>
              <a:off x="3045600" y="25596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080880" y="3195360"/>
              <a:ext cx="75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444560" y="2056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459320" y="3778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7" name=""/>
          <p:cNvSpPr/>
          <p:nvPr/>
        </p:nvSpPr>
        <p:spPr>
          <a:xfrm>
            <a:off x="5715000" y="2666880"/>
            <a:ext cx="3014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电压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戴维宁定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181480" y="538812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6319440" y="5076720"/>
            <a:ext cx="14608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电流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诺顿定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0" name=""/>
          <p:cNvGrpSpPr/>
          <p:nvPr/>
        </p:nvGrpSpPr>
        <p:grpSpPr>
          <a:xfrm>
            <a:off x="457200" y="3505320"/>
            <a:ext cx="2207520" cy="1434240"/>
            <a:chOff x="457200" y="3505320"/>
            <a:chExt cx="2207520" cy="1434240"/>
          </a:xfrm>
        </p:grpSpPr>
        <p:grpSp>
          <p:nvGrpSpPr>
            <p:cNvPr id="3591" name=""/>
            <p:cNvGrpSpPr/>
            <p:nvPr/>
          </p:nvGrpSpPr>
          <p:grpSpPr>
            <a:xfrm>
              <a:off x="1523520" y="3786120"/>
              <a:ext cx="723960" cy="95400"/>
              <a:chOff x="1523520" y="3786120"/>
              <a:chExt cx="723960" cy="95400"/>
            </a:xfrm>
          </p:grpSpPr>
          <p:sp>
            <p:nvSpPr>
              <p:cNvPr id="3592" name=""/>
              <p:cNvSpPr/>
              <p:nvPr/>
            </p:nvSpPr>
            <p:spPr>
              <a:xfrm flipH="1">
                <a:off x="2151720" y="3786120"/>
                <a:ext cx="95400" cy="9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flipH="1">
                <a:off x="1523520" y="38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4" name=""/>
            <p:cNvGrpSpPr/>
            <p:nvPr/>
          </p:nvGrpSpPr>
          <p:grpSpPr>
            <a:xfrm>
              <a:off x="1523520" y="4586400"/>
              <a:ext cx="723960" cy="95040"/>
              <a:chOff x="1523520" y="4586400"/>
              <a:chExt cx="723960" cy="95040"/>
            </a:xfrm>
          </p:grpSpPr>
          <p:sp>
            <p:nvSpPr>
              <p:cNvPr id="3595" name=""/>
              <p:cNvSpPr/>
              <p:nvPr/>
            </p:nvSpPr>
            <p:spPr>
              <a:xfrm flipH="1">
                <a:off x="2151720" y="4586400"/>
                <a:ext cx="95400" cy="95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 flipH="1">
                <a:off x="1523520" y="46242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7" name=""/>
            <p:cNvSpPr/>
            <p:nvPr/>
          </p:nvSpPr>
          <p:spPr>
            <a:xfrm>
              <a:off x="2287440" y="358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286000" y="4419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57200" y="3505320"/>
              <a:ext cx="1066680" cy="947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有源二端网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0" name=""/>
          <p:cNvSpPr/>
          <p:nvPr/>
        </p:nvSpPr>
        <p:spPr>
          <a:xfrm>
            <a:off x="2438280" y="4038480"/>
            <a:ext cx="533520" cy="40032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400320"/>
              <a:gd name="textAreaBottom" fmla="*/ 300240 h 400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105520" y="2895480"/>
            <a:ext cx="533160" cy="40032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400320"/>
              <a:gd name="textAreaBottom" fmla="*/ 300240 h 400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2971800" y="95724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3" name=""/>
          <p:cNvGrpSpPr/>
          <p:nvPr/>
        </p:nvGrpSpPr>
        <p:grpSpPr>
          <a:xfrm>
            <a:off x="2843280" y="4114080"/>
            <a:ext cx="2183760" cy="2268360"/>
            <a:chOff x="2843280" y="4114080"/>
            <a:chExt cx="2183760" cy="2268360"/>
          </a:xfrm>
        </p:grpSpPr>
        <p:grpSp>
          <p:nvGrpSpPr>
            <p:cNvPr id="3604" name=""/>
            <p:cNvGrpSpPr/>
            <p:nvPr/>
          </p:nvGrpSpPr>
          <p:grpSpPr>
            <a:xfrm>
              <a:off x="2843280" y="4413240"/>
              <a:ext cx="429840" cy="1749240"/>
              <a:chOff x="2843280" y="4413240"/>
              <a:chExt cx="429840" cy="1749240"/>
            </a:xfrm>
          </p:grpSpPr>
          <p:grpSp>
            <p:nvGrpSpPr>
              <p:cNvPr id="3605" name=""/>
              <p:cNvGrpSpPr/>
              <p:nvPr/>
            </p:nvGrpSpPr>
            <p:grpSpPr>
              <a:xfrm>
                <a:off x="2843280" y="5094000"/>
                <a:ext cx="429840" cy="388440"/>
                <a:chOff x="2843280" y="5094000"/>
                <a:chExt cx="429840" cy="388440"/>
              </a:xfrm>
            </p:grpSpPr>
            <p:sp>
              <p:nvSpPr>
                <p:cNvPr id="3606" name=""/>
                <p:cNvSpPr/>
                <p:nvPr/>
              </p:nvSpPr>
              <p:spPr>
                <a:xfrm flipV="1">
                  <a:off x="2843280" y="5093640"/>
                  <a:ext cx="429840" cy="3884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2843280" y="5288400"/>
                  <a:ext cx="42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8" name=""/>
              <p:cNvSpPr/>
              <p:nvPr/>
            </p:nvSpPr>
            <p:spPr>
              <a:xfrm>
                <a:off x="3058200" y="5482440"/>
                <a:ext cx="0" cy="68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3058200" y="4413240"/>
                <a:ext cx="0" cy="68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0" name=""/>
            <p:cNvGrpSpPr/>
            <p:nvPr/>
          </p:nvGrpSpPr>
          <p:grpSpPr>
            <a:xfrm>
              <a:off x="3840120" y="4389120"/>
              <a:ext cx="215640" cy="1747800"/>
              <a:chOff x="3840120" y="4389120"/>
              <a:chExt cx="215640" cy="1747800"/>
            </a:xfrm>
          </p:grpSpPr>
          <p:sp>
            <p:nvSpPr>
              <p:cNvPr id="3611" name=""/>
              <p:cNvSpPr/>
              <p:nvPr/>
            </p:nvSpPr>
            <p:spPr>
              <a:xfrm>
                <a:off x="3840120" y="5068800"/>
                <a:ext cx="215640" cy="388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947760" y="5457240"/>
                <a:ext cx="0" cy="67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>
                <a:off x="3947760" y="4389120"/>
                <a:ext cx="0" cy="67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"/>
            <p:cNvGrpSpPr/>
            <p:nvPr/>
          </p:nvGrpSpPr>
          <p:grpSpPr>
            <a:xfrm>
              <a:off x="3045240" y="6064200"/>
              <a:ext cx="1494720" cy="122040"/>
              <a:chOff x="3045240" y="6064200"/>
              <a:chExt cx="1494720" cy="122040"/>
            </a:xfrm>
          </p:grpSpPr>
          <p:sp>
            <p:nvSpPr>
              <p:cNvPr id="3615" name=""/>
              <p:cNvSpPr/>
              <p:nvPr/>
            </p:nvSpPr>
            <p:spPr>
              <a:xfrm>
                <a:off x="3045240" y="6125400"/>
                <a:ext cx="14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405320" y="6064200"/>
                <a:ext cx="13464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7" name=""/>
            <p:cNvGrpSpPr/>
            <p:nvPr/>
          </p:nvGrpSpPr>
          <p:grpSpPr>
            <a:xfrm>
              <a:off x="3045240" y="4340160"/>
              <a:ext cx="1494720" cy="122040"/>
              <a:chOff x="3045240" y="4340160"/>
              <a:chExt cx="1494720" cy="122040"/>
            </a:xfrm>
          </p:grpSpPr>
          <p:sp>
            <p:nvSpPr>
              <p:cNvPr id="3618" name=""/>
              <p:cNvSpPr/>
              <p:nvPr/>
            </p:nvSpPr>
            <p:spPr>
              <a:xfrm>
                <a:off x="3045240" y="4401360"/>
                <a:ext cx="14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405320" y="4340160"/>
                <a:ext cx="13464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0" name=""/>
            <p:cNvSpPr/>
            <p:nvPr/>
          </p:nvSpPr>
          <p:spPr>
            <a:xfrm>
              <a:off x="4575960" y="411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648320" y="5861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V="1">
              <a:off x="3321720" y="5010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179520" y="5056200"/>
              <a:ext cx="75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924720" y="4979880"/>
              <a:ext cx="75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5" name=""/>
          <p:cNvSpPr/>
          <p:nvPr/>
        </p:nvSpPr>
        <p:spPr>
          <a:xfrm>
            <a:off x="5562720" y="777960"/>
            <a:ext cx="3014640" cy="947160"/>
          </a:xfrm>
          <a:prstGeom prst="rect">
            <a:avLst/>
          </a:prstGeom>
          <a:solidFill>
            <a:srgbClr val="f3f4c4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源二端网络可化简为一个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5748480" y="3886200"/>
            <a:ext cx="3014640" cy="947160"/>
          </a:xfrm>
          <a:prstGeom prst="rect">
            <a:avLst/>
          </a:prstGeom>
          <a:solidFill>
            <a:srgbClr val="f3f4c4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可化简为一个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3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8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3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8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500"/>
                                        <p:tgtEl>
                                          <p:spTgt spid="3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8" dur="5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500"/>
                                        <p:tgtEl>
                                          <p:spTgt spid="3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"/>
                            </p:stCondLst>
                            <p:childTnLst>
                              <p:par>
                                <p:cTn id="2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2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500"/>
                            </p:stCondLst>
                            <p:childTnLst>
                              <p:par>
                                <p:cTn id="2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1" dur="5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500"/>
                            </p:stCondLst>
                            <p:childTnLst>
                              <p:par>
                                <p:cTn id="2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0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7.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戴维宁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4952880" y="1828800"/>
            <a:ext cx="1589040" cy="198108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533520" y="803160"/>
            <a:ext cx="8229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一个有源二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都可以用一个电动势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想电压源和内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的电源来等效代替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4191120" y="259092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1" name=""/>
          <p:cNvGrpSpPr/>
          <p:nvPr/>
        </p:nvGrpSpPr>
        <p:grpSpPr>
          <a:xfrm>
            <a:off x="1344600" y="1676520"/>
            <a:ext cx="2832840" cy="2179440"/>
            <a:chOff x="1344600" y="1676520"/>
            <a:chExt cx="2832840" cy="2179440"/>
          </a:xfrm>
        </p:grpSpPr>
        <p:sp>
          <p:nvSpPr>
            <p:cNvPr id="3632" name=""/>
            <p:cNvSpPr/>
            <p:nvPr/>
          </p:nvSpPr>
          <p:spPr>
            <a:xfrm>
              <a:off x="1344600" y="2057400"/>
              <a:ext cx="10414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有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二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网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405160" y="2209680"/>
              <a:ext cx="11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411280" y="33354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554280" y="2986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456000" y="2514600"/>
              <a:ext cx="174600" cy="46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23400" y="253836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55428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717640" y="1676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868480" y="2168640"/>
              <a:ext cx="10008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844720" y="3276720"/>
              <a:ext cx="10008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708640" y="333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669040" y="2244600"/>
              <a:ext cx="4366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048120" y="2133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108240" y="16905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5257800" y="1447920"/>
            <a:ext cx="3081960" cy="2730240"/>
            <a:chOff x="5257800" y="1447920"/>
            <a:chExt cx="3081960" cy="2730240"/>
          </a:xfrm>
        </p:grpSpPr>
        <p:sp>
          <p:nvSpPr>
            <p:cNvPr id="3647" name=""/>
            <p:cNvSpPr/>
            <p:nvPr/>
          </p:nvSpPr>
          <p:spPr>
            <a:xfrm>
              <a:off x="5667480" y="2986200"/>
              <a:ext cx="426960" cy="412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867280" y="1981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880240" y="3657600"/>
              <a:ext cx="181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867280" y="27432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764320" y="2300400"/>
              <a:ext cx="198360" cy="43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284800" y="29098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257800" y="220176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869080" y="260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86872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696080" y="2971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618320" y="2514600"/>
              <a:ext cx="174600" cy="46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785720" y="245268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69608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630840" y="14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781680" y="194148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815160" y="36147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707520" y="3657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631560" y="1905120"/>
              <a:ext cx="4366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162920" y="1905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164360" y="14479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867280" y="1981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8" name=""/>
          <p:cNvSpPr/>
          <p:nvPr/>
        </p:nvSpPr>
        <p:spPr>
          <a:xfrm>
            <a:off x="533520" y="49528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等效电源的内阻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有源二端网络中所有电源均除去（理想电压源短路，理想电流源开路）后所得到的无源二端网络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两端之间的等效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33520" y="4114800"/>
            <a:ext cx="8076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的电动势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有源二端网络的开路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断开后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端之间的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3276720" y="3505320"/>
            <a:ext cx="1981080" cy="533160"/>
          </a:xfrm>
          <a:prstGeom prst="wedgeRoundRectCallout">
            <a:avLst>
              <a:gd name="adj1" fmla="val 43671"/>
              <a:gd name="adj2" fmla="val -144046"/>
              <a:gd name="adj3" fmla="val 16667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7" dur="500"/>
                                        <p:tgtEl>
                                          <p:spTgt spid="3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500"/>
                                        <p:tgtEl>
                                          <p:spTgt spid="3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7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00"/>
                                        <p:tgtEl>
                                          <p:spTgt spid="3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7" dur="500"/>
                                        <p:tgtEl>
                                          <p:spTgt spid="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2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2.2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星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联结与三角形联结的等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066680"/>
            <a:ext cx="2516400" cy="1538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20120" y="1884240"/>
            <a:ext cx="1099800" cy="560880"/>
            <a:chOff x="7620120" y="1884240"/>
            <a:chExt cx="1099800" cy="560880"/>
          </a:xfrm>
        </p:grpSpPr>
        <p:sp>
          <p:nvSpPr>
            <p:cNvPr id="206" name=""/>
            <p:cNvSpPr/>
            <p:nvPr/>
          </p:nvSpPr>
          <p:spPr>
            <a:xfrm>
              <a:off x="7620120" y="2055960"/>
              <a:ext cx="533160" cy="284040"/>
            </a:xfrm>
            <a:prstGeom prst="leftArrow">
              <a:avLst>
                <a:gd name="adj1" fmla="val 50000"/>
                <a:gd name="adj2" fmla="val 46926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81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65880" y="1884240"/>
              <a:ext cx="5540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103720" y="925560"/>
            <a:ext cx="2374920" cy="181296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964040"/>
            <a:ext cx="1447920" cy="293760"/>
          </a:xfrm>
          <a:prstGeom prst="leftRightArrow">
            <a:avLst>
              <a:gd name="adj1" fmla="val 50000"/>
              <a:gd name="adj2" fmla="val 98122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4680" y="600696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电阻</a:t>
            </a:r>
            <a:r>
              <a:rPr b="1" lang="zh-CN" sz="28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形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52280" y="4410000"/>
            <a:ext cx="17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Y-</a:t>
            </a:r>
            <a:r>
              <a:rPr b="1" lang="zh-CN" sz="28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等效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49640" y="599760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形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52680" y="1822320"/>
            <a:ext cx="1100160" cy="560880"/>
            <a:chOff x="3352680" y="1822320"/>
            <a:chExt cx="1100160" cy="560880"/>
          </a:xfrm>
        </p:grpSpPr>
        <p:sp>
          <p:nvSpPr>
            <p:cNvPr id="216" name=""/>
            <p:cNvSpPr/>
            <p:nvPr/>
          </p:nvSpPr>
          <p:spPr>
            <a:xfrm>
              <a:off x="3898800" y="1822320"/>
              <a:ext cx="5540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2680" y="2001960"/>
              <a:ext cx="533520" cy="284040"/>
            </a:xfrm>
            <a:prstGeom prst="leftArrow">
              <a:avLst>
                <a:gd name="adj1" fmla="val 50000"/>
                <a:gd name="adj2" fmla="val 46958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81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90120" y="1019520"/>
            <a:ext cx="3159000" cy="2277720"/>
            <a:chOff x="690120" y="1019520"/>
            <a:chExt cx="3159000" cy="2277720"/>
          </a:xfrm>
        </p:grpSpPr>
        <p:sp>
          <p:nvSpPr>
            <p:cNvPr id="219" name=""/>
            <p:cNvSpPr/>
            <p:nvPr/>
          </p:nvSpPr>
          <p:spPr>
            <a:xfrm>
              <a:off x="690120" y="18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87480" y="1019520"/>
              <a:ext cx="2861640" cy="2277720"/>
              <a:chOff x="987480" y="1019520"/>
              <a:chExt cx="2861640" cy="227772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992160" y="1236600"/>
                <a:ext cx="907920" cy="94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900080" y="2182680"/>
                <a:ext cx="903600" cy="9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92160" y="2182680"/>
                <a:ext cx="907920" cy="91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00080" y="1266840"/>
                <a:ext cx="903600" cy="9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92160" y="2182680"/>
                <a:ext cx="181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40160" y="2837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48800" y="1019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19160" y="1266840"/>
                <a:ext cx="156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91360" y="1769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36640" y="2108160"/>
                <a:ext cx="338400" cy="166680"/>
              </a:xfrm>
              <a:prstGeom prst="rect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3490400">
                <a:off x="1380240" y="1518840"/>
                <a:ext cx="173160" cy="363600"/>
              </a:xfrm>
              <a:prstGeom prst="rect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8089800">
                <a:off x="2254320" y="1516680"/>
                <a:ext cx="169920" cy="368280"/>
              </a:xfrm>
              <a:prstGeom prst="rect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8089800">
                <a:off x="1401840" y="2468880"/>
                <a:ext cx="168120" cy="366840"/>
              </a:xfrm>
              <a:prstGeom prst="rect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3490400">
                <a:off x="2271240" y="2417040"/>
                <a:ext cx="171720" cy="361800"/>
              </a:xfrm>
              <a:prstGeom prst="rect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987480" y="2150280"/>
                <a:ext cx="73080" cy="73080"/>
              </a:xfrm>
              <a:prstGeom prst="ellipse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749680" y="2150280"/>
                <a:ext cx="72720" cy="73080"/>
              </a:xfrm>
              <a:prstGeom prst="ellipse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866960" y="1236600"/>
                <a:ext cx="73080" cy="69840"/>
              </a:xfrm>
              <a:prstGeom prst="ellipse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65160" y="3100320"/>
                <a:ext cx="16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1865160" y="3059280"/>
                <a:ext cx="73080" cy="69840"/>
              </a:xfrm>
              <a:prstGeom prst="ellipse">
                <a:avLst/>
              </a:prstGeom>
              <a:solidFill>
                <a:srgbClr val="33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29000" y="1219320"/>
                <a:ext cx="82440" cy="82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29000" y="3048120"/>
                <a:ext cx="82440" cy="82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5107680" y="822960"/>
            <a:ext cx="3049920" cy="2759760"/>
            <a:chOff x="5107680" y="822960"/>
            <a:chExt cx="3049920" cy="2759760"/>
          </a:xfrm>
        </p:grpSpPr>
        <p:sp>
          <p:nvSpPr>
            <p:cNvPr id="243" name=""/>
            <p:cNvSpPr/>
            <p:nvPr/>
          </p:nvSpPr>
          <p:spPr>
            <a:xfrm>
              <a:off x="5107680" y="232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46120" y="82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02520" y="1033560"/>
              <a:ext cx="142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65000" y="228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00720" y="104472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27640" y="1305000"/>
              <a:ext cx="146160" cy="309600"/>
            </a:xfrm>
            <a:prstGeom prst="rect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59680" y="1817640"/>
              <a:ext cx="811080" cy="81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8089800">
              <a:off x="6611760" y="2068200"/>
              <a:ext cx="150840" cy="322560"/>
            </a:xfrm>
            <a:prstGeom prst="rect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495760" y="1822320"/>
              <a:ext cx="787680" cy="78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689800">
              <a:off x="5812920" y="2050920"/>
              <a:ext cx="146160" cy="336600"/>
            </a:xfrm>
            <a:prstGeom prst="rect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264360" y="1793880"/>
              <a:ext cx="73080" cy="71280"/>
            </a:xfrm>
            <a:prstGeom prst="ellipse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4200" y="3123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05400" y="3403440"/>
              <a:ext cx="143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495760" y="2590920"/>
              <a:ext cx="804960" cy="80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00720" y="2610000"/>
              <a:ext cx="7700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264360" y="3367800"/>
              <a:ext cx="73080" cy="71640"/>
            </a:xfrm>
            <a:prstGeom prst="ellipse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8089800">
              <a:off x="5785920" y="2782800"/>
              <a:ext cx="152280" cy="320400"/>
            </a:xfrm>
            <a:prstGeom prst="rect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689800">
              <a:off x="6600600" y="2820960"/>
              <a:ext cx="145800" cy="335160"/>
            </a:xfrm>
            <a:prstGeom prst="rect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6840" y="3352680"/>
              <a:ext cx="82800" cy="82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6080" y="990720"/>
              <a:ext cx="82800" cy="82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20880" y="3483000"/>
            <a:ext cx="2887200" cy="2536920"/>
            <a:chOff x="920880" y="3483000"/>
            <a:chExt cx="2887200" cy="2536920"/>
          </a:xfrm>
        </p:grpSpPr>
        <p:sp>
          <p:nvSpPr>
            <p:cNvPr id="264" name=""/>
            <p:cNvSpPr/>
            <p:nvPr/>
          </p:nvSpPr>
          <p:spPr>
            <a:xfrm>
              <a:off x="1100880" y="4016520"/>
              <a:ext cx="49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90800" y="34830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8200" y="4791240"/>
              <a:ext cx="507600" cy="579600"/>
              <a:chOff x="1078200" y="4791240"/>
              <a:chExt cx="507600" cy="579600"/>
            </a:xfrm>
          </p:grpSpPr>
          <p:sp>
            <p:nvSpPr>
              <p:cNvPr id="267" name=""/>
              <p:cNvSpPr/>
              <p:nvPr/>
            </p:nvSpPr>
            <p:spPr>
              <a:xfrm>
                <a:off x="1087560" y="5324400"/>
                <a:ext cx="498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8200" y="479124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087560" y="5921280"/>
              <a:ext cx="49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75680" y="5410080"/>
              <a:ext cx="41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2000" y="535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70400" y="51951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2417400" y="4352400"/>
              <a:ext cx="173160" cy="389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7498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514600" y="411624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547704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97200" y="4244760"/>
              <a:ext cx="61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90720" y="41338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03320" y="5997600"/>
              <a:ext cx="243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0880" y="5923080"/>
              <a:ext cx="11088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20880" y="5464080"/>
              <a:ext cx="110880" cy="9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55800" y="4092480"/>
              <a:ext cx="110880" cy="9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95480" y="4589280"/>
              <a:ext cx="61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7400" y="5091120"/>
              <a:ext cx="61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4524800">
              <a:off x="2036520" y="4981320"/>
              <a:ext cx="18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600200" y="5264280"/>
              <a:ext cx="38088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286000" y="493056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7411800">
              <a:off x="2832480" y="4962600"/>
              <a:ext cx="173160" cy="42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24080" y="5288040"/>
              <a:ext cx="30492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514240" y="493056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25640" y="55087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90560" y="3900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63840" y="49039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500800" y="3522600"/>
            <a:ext cx="3038040" cy="3017880"/>
            <a:chOff x="5500800" y="3522600"/>
            <a:chExt cx="3038040" cy="3017880"/>
          </a:xfrm>
        </p:grpSpPr>
        <p:grpSp>
          <p:nvGrpSpPr>
            <p:cNvPr id="295" name=""/>
            <p:cNvGrpSpPr/>
            <p:nvPr/>
          </p:nvGrpSpPr>
          <p:grpSpPr>
            <a:xfrm>
              <a:off x="5500800" y="3522600"/>
              <a:ext cx="3038040" cy="3017880"/>
              <a:chOff x="5500800" y="3522600"/>
              <a:chExt cx="3038040" cy="3017880"/>
            </a:xfrm>
          </p:grpSpPr>
          <p:sp>
            <p:nvSpPr>
              <p:cNvPr id="296" name=""/>
              <p:cNvSpPr/>
              <p:nvPr/>
            </p:nvSpPr>
            <p:spPr>
              <a:xfrm rot="5400000">
                <a:off x="7247880" y="5393520"/>
                <a:ext cx="179280" cy="355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5568480" y="5554440"/>
                <a:ext cx="160020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15360" y="555768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8767800">
                <a:off x="7679520" y="4681440"/>
                <a:ext cx="179640" cy="35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7296840" y="4124880"/>
                <a:ext cx="384480" cy="59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49800" y="4975560"/>
                <a:ext cx="361800" cy="58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2759600">
                <a:off x="6792480" y="4681080"/>
                <a:ext cx="177840" cy="357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966360" y="4127040"/>
                <a:ext cx="343080" cy="57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402960" y="5022720"/>
                <a:ext cx="355320" cy="55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196120" y="5575320"/>
                <a:ext cx="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622480" y="6033960"/>
                <a:ext cx="259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5535720" y="4094280"/>
                <a:ext cx="1763280" cy="87120"/>
                <a:chOff x="5535720" y="4094280"/>
                <a:chExt cx="1763280" cy="8712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5622480" y="4147920"/>
                  <a:ext cx="167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35720" y="4094280"/>
                  <a:ext cx="87120" cy="87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500800" y="5994360"/>
                <a:ext cx="87120" cy="87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00800" y="5506920"/>
                <a:ext cx="87120" cy="87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23120" y="3840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201160" y="528804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32760" y="5503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7480" y="4844880"/>
                <a:ext cx="61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07680" y="4983120"/>
                <a:ext cx="622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70680" y="4540320"/>
                <a:ext cx="634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73760" y="602136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654160" y="3522600"/>
                <a:ext cx="510120" cy="2448360"/>
                <a:chOff x="5654160" y="3522600"/>
                <a:chExt cx="510120" cy="24483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5655240" y="3522600"/>
                  <a:ext cx="509040" cy="579600"/>
                  <a:chOff x="5655240" y="3522600"/>
                  <a:chExt cx="509040" cy="5796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666040" y="405576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655240" y="3522600"/>
                    <a:ext cx="4230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5656680" y="4894200"/>
                  <a:ext cx="507600" cy="579600"/>
                  <a:chOff x="5656680" y="4894200"/>
                  <a:chExt cx="507600" cy="5796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5666040" y="542736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656680" y="4894200"/>
                    <a:ext cx="4338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5654160" y="5391360"/>
                  <a:ext cx="510120" cy="579600"/>
                  <a:chOff x="5654160" y="5391360"/>
                  <a:chExt cx="510120" cy="5796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5666040" y="592452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654160" y="5391360"/>
                    <a:ext cx="4107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9" name=""/>
            <p:cNvSpPr/>
            <p:nvPr/>
          </p:nvSpPr>
          <p:spPr>
            <a:xfrm>
              <a:off x="6386400" y="550548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38880" y="411480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53280" y="548640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-76320" y="380520"/>
            <a:ext cx="1587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304920" y="339840"/>
            <a:ext cx="853416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502560" y="1484280"/>
            <a:ext cx="3830760" cy="1830240"/>
            <a:chOff x="502560" y="1484280"/>
            <a:chExt cx="3830760" cy="1830240"/>
          </a:xfrm>
        </p:grpSpPr>
        <p:sp>
          <p:nvSpPr>
            <p:cNvPr id="3674" name=""/>
            <p:cNvSpPr/>
            <p:nvPr/>
          </p:nvSpPr>
          <p:spPr>
            <a:xfrm>
              <a:off x="502560" y="1696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9160" y="24843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392200" y="1600200"/>
              <a:ext cx="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287440" y="2536560"/>
              <a:ext cx="2080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392200" y="291312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1755000" y="1711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V="1">
              <a:off x="2184480" y="250308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1806840" y="24746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505960" y="2493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913200" y="2176200"/>
              <a:ext cx="0" cy="62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606840" y="2214360"/>
              <a:ext cx="22680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718080" y="2616120"/>
              <a:ext cx="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V="1">
              <a:off x="3714840" y="160020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910320" y="2179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147120" y="2100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246320" y="3289320"/>
              <a:ext cx="245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1246320" y="1600200"/>
              <a:ext cx="246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049400" y="192384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1246320" y="1600200"/>
              <a:ext cx="0" cy="9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141560" y="2579400"/>
              <a:ext cx="20772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914400" y="1560240"/>
              <a:ext cx="417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246320" y="295596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297800" y="2493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flipV="1">
              <a:off x="1036800" y="255060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209680" y="182880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021040" y="1484280"/>
              <a:ext cx="417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4952880" y="1523880"/>
            <a:ext cx="1589040" cy="198144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5257800" y="1143000"/>
            <a:ext cx="3114000" cy="2730240"/>
            <a:chOff x="5257800" y="1143000"/>
            <a:chExt cx="3114000" cy="2730240"/>
          </a:xfrm>
        </p:grpSpPr>
        <p:sp>
          <p:nvSpPr>
            <p:cNvPr id="3702" name=""/>
            <p:cNvSpPr/>
            <p:nvPr/>
          </p:nvSpPr>
          <p:spPr>
            <a:xfrm>
              <a:off x="5667480" y="2681280"/>
              <a:ext cx="426960" cy="41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867280" y="16765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880240" y="3352680"/>
              <a:ext cx="181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867280" y="2438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764320" y="1995480"/>
              <a:ext cx="198360" cy="43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284800" y="260496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257800" y="189720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869080" y="230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868720" y="275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69608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618320" y="2209680"/>
              <a:ext cx="174600" cy="466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097040" y="2133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96080" y="1676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63084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781680" y="16365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815160" y="330984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707520" y="3352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4680" y="2286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48800" y="2224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867280" y="16765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2" name=""/>
          <p:cNvSpPr/>
          <p:nvPr/>
        </p:nvSpPr>
        <p:spPr>
          <a:xfrm>
            <a:off x="533520" y="1447920"/>
            <a:ext cx="2438280" cy="197460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14460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12444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2971800" y="1539720"/>
            <a:ext cx="176040" cy="1795680"/>
            <a:chOff x="2971800" y="1539720"/>
            <a:chExt cx="176040" cy="1795680"/>
          </a:xfrm>
        </p:grpSpPr>
        <p:sp>
          <p:nvSpPr>
            <p:cNvPr id="3726" name=""/>
            <p:cNvSpPr/>
            <p:nvPr/>
          </p:nvSpPr>
          <p:spPr>
            <a:xfrm>
              <a:off x="2971800" y="1539720"/>
              <a:ext cx="11124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048120" y="3224160"/>
              <a:ext cx="99720" cy="11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8" name=""/>
          <p:cNvSpPr/>
          <p:nvPr/>
        </p:nvSpPr>
        <p:spPr>
          <a:xfrm>
            <a:off x="2414880" y="472428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“等效”是指对端口外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914400" y="5184720"/>
            <a:ext cx="74674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用等效电源替代原来的二端网络后，待求支路的电压、电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762120" y="3657600"/>
            <a:ext cx="2428920" cy="828720"/>
          </a:xfrm>
          <a:prstGeom prst="wedgeEllipseCallout">
            <a:avLst>
              <a:gd name="adj1" fmla="val 1763"/>
              <a:gd name="adj2" fmla="val -113412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源二端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4648320" y="3733920"/>
            <a:ext cx="1981080" cy="828720"/>
          </a:xfrm>
          <a:prstGeom prst="wedgeEllipseCallout">
            <a:avLst>
              <a:gd name="adj1" fmla="val 1921"/>
              <a:gd name="adj2" fmla="val -113412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4267080" y="225108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9" dur="500"/>
                                        <p:tgtEl>
                                          <p:spTgt spid="3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500"/>
                            </p:stCondLst>
                            <p:childTnLst>
                              <p:par>
                                <p:cTn id="2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3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2" dur="500"/>
                                        <p:tgtEl>
                                          <p:spTgt spid="3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6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1" dur="5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"/>
          <p:cNvSpPr/>
          <p:nvPr/>
        </p:nvSpPr>
        <p:spPr>
          <a:xfrm>
            <a:off x="228600" y="3581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开待求支路求等效电源的电动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04920" y="228600"/>
            <a:ext cx="853416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731160" y="1449360"/>
            <a:ext cx="3830760" cy="1830240"/>
            <a:chOff x="731160" y="1449360"/>
            <a:chExt cx="3830760" cy="1830240"/>
          </a:xfrm>
        </p:grpSpPr>
        <p:sp>
          <p:nvSpPr>
            <p:cNvPr id="3736" name=""/>
            <p:cNvSpPr/>
            <p:nvPr/>
          </p:nvSpPr>
          <p:spPr>
            <a:xfrm>
              <a:off x="731160" y="16617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87760" y="2449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620800" y="1565280"/>
              <a:ext cx="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516040" y="2501640"/>
              <a:ext cx="2080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620800" y="287820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983600" y="1676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V="1">
              <a:off x="2413080" y="246816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035440" y="24397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34560" y="24588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141800" y="2141280"/>
              <a:ext cx="0" cy="62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835440" y="2179440"/>
              <a:ext cx="22680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946680" y="2581200"/>
              <a:ext cx="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3943440" y="156528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138920" y="21445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375720" y="2065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474920" y="3254400"/>
              <a:ext cx="245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474920" y="1565280"/>
              <a:ext cx="246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278000" y="188892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474920" y="1565280"/>
              <a:ext cx="0" cy="9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370160" y="2544480"/>
              <a:ext cx="20772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43000" y="1525320"/>
              <a:ext cx="417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474920" y="292104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526400" y="24588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1265400" y="251568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438280" y="179388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249640" y="1449360"/>
              <a:ext cx="417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2" name=""/>
          <p:cNvGrpSpPr/>
          <p:nvPr/>
        </p:nvGrpSpPr>
        <p:grpSpPr>
          <a:xfrm>
            <a:off x="762120" y="1108080"/>
            <a:ext cx="2970000" cy="2653920"/>
            <a:chOff x="762120" y="1108080"/>
            <a:chExt cx="2970000" cy="2653920"/>
          </a:xfrm>
        </p:grpSpPr>
        <p:sp>
          <p:nvSpPr>
            <p:cNvPr id="3763" name=""/>
            <p:cNvSpPr/>
            <p:nvPr/>
          </p:nvSpPr>
          <p:spPr>
            <a:xfrm>
              <a:off x="762120" y="1412640"/>
              <a:ext cx="2438280" cy="19749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3373200" y="1108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353040" y="3241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3276720" y="150948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3276720" y="322560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4648320" y="225108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1353960" y="4016520"/>
                <a:ext cx="40719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70" name=""/>
          <p:cNvGrpSpPr/>
          <p:nvPr/>
        </p:nvGrpSpPr>
        <p:grpSpPr>
          <a:xfrm>
            <a:off x="5039640" y="1274760"/>
            <a:ext cx="3340440" cy="2258640"/>
            <a:chOff x="5039640" y="1274760"/>
            <a:chExt cx="3340440" cy="2258640"/>
          </a:xfrm>
        </p:grpSpPr>
        <p:sp>
          <p:nvSpPr>
            <p:cNvPr id="3771" name=""/>
            <p:cNvSpPr/>
            <p:nvPr/>
          </p:nvSpPr>
          <p:spPr>
            <a:xfrm>
              <a:off x="7043040" y="24224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791320" y="3241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791320" y="15652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039640" y="1658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19920" y="217404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929280" y="1562040"/>
              <a:ext cx="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824520" y="2498760"/>
              <a:ext cx="2080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6929280" y="287496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6292080" y="16729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586480" y="188568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783400" y="1562040"/>
              <a:ext cx="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678640" y="2541600"/>
              <a:ext cx="20772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451480" y="1522440"/>
              <a:ext cx="417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783400" y="291780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184000" y="24634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746760" y="179064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558120" y="1446120"/>
              <a:ext cx="417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926120" y="127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8001360" y="3012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808760" y="15033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7772400" y="319860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570440" y="1565280"/>
              <a:ext cx="540360" cy="18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019920" y="1869840"/>
              <a:ext cx="533160" cy="1138320"/>
            </a:xfrm>
            <a:custGeom>
              <a:avLst/>
              <a:gdLst/>
              <a:ahLst/>
              <a:rect l="l" t="t" r="r" b="b"/>
              <a:pathLst>
                <a:path w="432" h="957">
                  <a:moveTo>
                    <a:pt x="13" y="368"/>
                  </a:moveTo>
                  <a:cubicBezTo>
                    <a:pt x="30" y="318"/>
                    <a:pt x="61" y="95"/>
                    <a:pt x="116" y="48"/>
                  </a:cubicBezTo>
                  <a:cubicBezTo>
                    <a:pt x="171" y="0"/>
                    <a:pt x="293" y="21"/>
                    <a:pt x="345" y="83"/>
                  </a:cubicBezTo>
                  <a:cubicBezTo>
                    <a:pt x="397" y="145"/>
                    <a:pt x="419" y="303"/>
                    <a:pt x="426" y="422"/>
                  </a:cubicBezTo>
                  <a:cubicBezTo>
                    <a:pt x="432" y="540"/>
                    <a:pt x="418" y="711"/>
                    <a:pt x="387" y="796"/>
                  </a:cubicBezTo>
                  <a:cubicBezTo>
                    <a:pt x="356" y="881"/>
                    <a:pt x="285" y="911"/>
                    <a:pt x="239" y="934"/>
                  </a:cubicBezTo>
                  <a:cubicBezTo>
                    <a:pt x="193" y="957"/>
                    <a:pt x="139" y="945"/>
                    <a:pt x="110" y="934"/>
                  </a:cubicBezTo>
                  <a:cubicBezTo>
                    <a:pt x="81" y="923"/>
                    <a:pt x="82" y="905"/>
                    <a:pt x="64" y="867"/>
                  </a:cubicBezTo>
                  <a:cubicBezTo>
                    <a:pt x="46" y="829"/>
                    <a:pt x="13" y="739"/>
                    <a:pt x="0" y="707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4" name=""/>
          <p:cNvSpPr/>
          <p:nvPr/>
        </p:nvSpPr>
        <p:spPr>
          <a:xfrm>
            <a:off x="685800" y="58053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也可用结点电压法、叠加原理等其它方法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1143000" y="487692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20V +2.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= 3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457200" y="533412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40V –2.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3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7" dur="indefinite" restart="never" nodeType="tmRoot">
          <p:childTnLst>
            <p:seq>
              <p:cTn id="2228" dur="indefinite" nodeType="mainSeq">
                <p:childTnLst>
                  <p:par>
                    <p:cTn id="2229" fill="hold">
                      <p:stCondLst>
                        <p:cond delay="0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500"/>
                                        <p:tgtEl>
                                          <p:spTgt spid="3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8" dur="500"/>
                                        <p:tgtEl>
                                          <p:spTgt spid="3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3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7" dur="5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228600" y="3657600"/>
            <a:ext cx="9296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等效电源的内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除去所有电源（理想电压源短路，理想电流源开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304920" y="339840"/>
            <a:ext cx="853416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9" name=""/>
          <p:cNvGrpSpPr/>
          <p:nvPr/>
        </p:nvGrpSpPr>
        <p:grpSpPr>
          <a:xfrm>
            <a:off x="731160" y="1484280"/>
            <a:ext cx="3830760" cy="1830240"/>
            <a:chOff x="731160" y="1484280"/>
            <a:chExt cx="3830760" cy="1830240"/>
          </a:xfrm>
        </p:grpSpPr>
        <p:sp>
          <p:nvSpPr>
            <p:cNvPr id="3800" name=""/>
            <p:cNvSpPr/>
            <p:nvPr/>
          </p:nvSpPr>
          <p:spPr>
            <a:xfrm>
              <a:off x="731160" y="1696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887760" y="24843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620800" y="1600200"/>
              <a:ext cx="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516040" y="2536560"/>
              <a:ext cx="2080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620800" y="291312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983600" y="1711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V="1">
              <a:off x="2413080" y="250308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035440" y="24746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34560" y="2493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141800" y="2176200"/>
              <a:ext cx="0" cy="62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835440" y="2214360"/>
              <a:ext cx="22680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946680" y="2616120"/>
              <a:ext cx="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3943440" y="160020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138920" y="2179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3375720" y="2100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474920" y="3289320"/>
              <a:ext cx="245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474920" y="1600200"/>
              <a:ext cx="246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278000" y="192384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474920" y="1600200"/>
              <a:ext cx="0" cy="9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370160" y="2579400"/>
              <a:ext cx="20772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143000" y="1560240"/>
              <a:ext cx="417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474920" y="295596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526400" y="2493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1265400" y="255060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438280" y="182880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249640" y="1484280"/>
              <a:ext cx="417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6" name=""/>
          <p:cNvGrpSpPr/>
          <p:nvPr/>
        </p:nvGrpSpPr>
        <p:grpSpPr>
          <a:xfrm>
            <a:off x="762120" y="1143000"/>
            <a:ext cx="2970000" cy="2653920"/>
            <a:chOff x="762120" y="1143000"/>
            <a:chExt cx="2970000" cy="2653920"/>
          </a:xfrm>
        </p:grpSpPr>
        <p:sp>
          <p:nvSpPr>
            <p:cNvPr id="3827" name=""/>
            <p:cNvSpPr/>
            <p:nvPr/>
          </p:nvSpPr>
          <p:spPr>
            <a:xfrm>
              <a:off x="762120" y="1447560"/>
              <a:ext cx="2438280" cy="19749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337320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353040" y="3276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276720" y="154440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276720" y="326052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2" name=""/>
          <p:cNvSpPr/>
          <p:nvPr/>
        </p:nvSpPr>
        <p:spPr>
          <a:xfrm>
            <a:off x="4648320" y="228600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3" name=""/>
          <p:cNvGrpSpPr/>
          <p:nvPr/>
        </p:nvGrpSpPr>
        <p:grpSpPr>
          <a:xfrm>
            <a:off x="5184000" y="1309680"/>
            <a:ext cx="3196080" cy="2258640"/>
            <a:chOff x="5184000" y="1309680"/>
            <a:chExt cx="3196080" cy="2258640"/>
          </a:xfrm>
        </p:grpSpPr>
        <p:sp>
          <p:nvSpPr>
            <p:cNvPr id="3834" name=""/>
            <p:cNvSpPr/>
            <p:nvPr/>
          </p:nvSpPr>
          <p:spPr>
            <a:xfrm>
              <a:off x="7043040" y="24573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791320" y="327636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791320" y="1600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6929280" y="1596960"/>
              <a:ext cx="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824520" y="2533680"/>
              <a:ext cx="2080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929280" y="290988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783400" y="1596960"/>
              <a:ext cx="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78640" y="2576520"/>
              <a:ext cx="20772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83400" y="295272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184000" y="24984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926120" y="13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8001360" y="3047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808760" y="153828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772400" y="323352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791320" y="190476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934320" y="190476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7772400" y="2133360"/>
              <a:ext cx="533520" cy="40032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00080 h 400320"/>
                <a:gd name="textAreaBottom" fmla="*/ 30024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10800000"/>
            </a:gra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858800" y="2438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2" name=""/>
          <p:cNvSpPr/>
          <p:nvPr/>
        </p:nvSpPr>
        <p:spPr>
          <a:xfrm>
            <a:off x="838080" y="4510080"/>
            <a:ext cx="70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看进去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762120" y="57592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内阻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关键要弄清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端看进去时各电阻之间的串并联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4" name=""/>
              <p:cNvSpPr txBox="1"/>
              <p:nvPr/>
            </p:nvSpPr>
            <p:spPr>
              <a:xfrm>
                <a:off x="914400" y="4876920"/>
                <a:ext cx="38098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3" dur="indefinite" restart="never" nodeType="tmRoot">
          <p:childTnLst>
            <p:seq>
              <p:cTn id="2264" dur="indefinite" nodeType="mainSeq">
                <p:childTnLst>
                  <p:par>
                    <p:cTn id="2265" fill="hold">
                      <p:stCondLst>
                        <p:cond delay="0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500"/>
                                        <p:tgtEl>
                                          <p:spTgt spid="3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3" dur="500"/>
                                        <p:tgtEl>
                                          <p:spTgt spid="3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500"/>
                                        <p:tgtEl>
                                          <p:spTgt spid="3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3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3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"/>
          <p:cNvSpPr/>
          <p:nvPr/>
        </p:nvSpPr>
        <p:spPr>
          <a:xfrm>
            <a:off x="380880" y="4052880"/>
            <a:ext cx="579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出等效电路求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80880" y="522360"/>
            <a:ext cx="85345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7" name=""/>
          <p:cNvGrpSpPr/>
          <p:nvPr/>
        </p:nvGrpSpPr>
        <p:grpSpPr>
          <a:xfrm>
            <a:off x="807480" y="1743120"/>
            <a:ext cx="3830760" cy="1830240"/>
            <a:chOff x="807480" y="1743120"/>
            <a:chExt cx="3830760" cy="1830240"/>
          </a:xfrm>
        </p:grpSpPr>
        <p:sp>
          <p:nvSpPr>
            <p:cNvPr id="3858" name=""/>
            <p:cNvSpPr/>
            <p:nvPr/>
          </p:nvSpPr>
          <p:spPr>
            <a:xfrm>
              <a:off x="807480" y="1955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964080" y="27432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697120" y="1859040"/>
              <a:ext cx="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592360" y="2795400"/>
              <a:ext cx="20808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697120" y="317196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059920" y="19699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2489400" y="276192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111760" y="27334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810880" y="27525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4218120" y="2435040"/>
              <a:ext cx="0" cy="62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3911760" y="2473200"/>
              <a:ext cx="22680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023000" y="2874960"/>
              <a:ext cx="0" cy="69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V="1">
              <a:off x="4019760" y="185904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4215240" y="24382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3452040" y="2359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551240" y="3548160"/>
              <a:ext cx="245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551240" y="1859040"/>
              <a:ext cx="246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354320" y="218268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551240" y="1859040"/>
              <a:ext cx="0" cy="9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446480" y="2838240"/>
              <a:ext cx="207720" cy="37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219320" y="1819080"/>
              <a:ext cx="417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551240" y="321480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602720" y="27525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V="1">
              <a:off x="1341720" y="2809440"/>
              <a:ext cx="0" cy="5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514600" y="2087640"/>
              <a:ext cx="36036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325960" y="1743120"/>
              <a:ext cx="417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838080" y="1401840"/>
            <a:ext cx="2970000" cy="2653920"/>
            <a:chOff x="838080" y="1401840"/>
            <a:chExt cx="2970000" cy="2653920"/>
          </a:xfrm>
        </p:grpSpPr>
        <p:sp>
          <p:nvSpPr>
            <p:cNvPr id="3885" name=""/>
            <p:cNvSpPr/>
            <p:nvPr/>
          </p:nvSpPr>
          <p:spPr>
            <a:xfrm>
              <a:off x="838080" y="1706400"/>
              <a:ext cx="2438280" cy="19749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3449160" y="140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3429000" y="3535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3352680" y="180324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3352680" y="351936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0" name=""/>
          <p:cNvSpPr/>
          <p:nvPr/>
        </p:nvSpPr>
        <p:spPr>
          <a:xfrm>
            <a:off x="4724280" y="254484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5334120" y="1325520"/>
            <a:ext cx="3114000" cy="2730240"/>
            <a:chOff x="5334120" y="1325520"/>
            <a:chExt cx="3114000" cy="2730240"/>
          </a:xfrm>
        </p:grpSpPr>
        <p:sp>
          <p:nvSpPr>
            <p:cNvPr id="3892" name=""/>
            <p:cNvSpPr/>
            <p:nvPr/>
          </p:nvSpPr>
          <p:spPr>
            <a:xfrm>
              <a:off x="5743800" y="2863800"/>
              <a:ext cx="426960" cy="412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943600" y="18586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975640" y="3535200"/>
              <a:ext cx="179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943600" y="2620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840640" y="2178000"/>
              <a:ext cx="198360" cy="43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361120" y="27874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334120" y="207936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945400" y="2482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945040" y="2939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772400" y="2849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7694640" y="2392200"/>
              <a:ext cx="174600" cy="46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7173360" y="2315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772400" y="18586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707160" y="1325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858000" y="181908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6891480" y="34923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6783840" y="3535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8001000" y="24685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8025120" y="240660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943600" y="1858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2" name=""/>
              <p:cNvSpPr txBox="1"/>
              <p:nvPr/>
            </p:nvSpPr>
            <p:spPr>
              <a:xfrm>
                <a:off x="1544760" y="4572000"/>
                <a:ext cx="46274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0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3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500"/>
                            </p:stCondLst>
                            <p:childTnLst>
                              <p:par>
                                <p:cTn id="2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500"/>
                                        <p:tgtEl>
                                          <p:spTgt spid="3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500"/>
                                        <p:tgtEl>
                                          <p:spTgt spid="3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"/>
          <p:cNvSpPr/>
          <p:nvPr/>
        </p:nvSpPr>
        <p:spPr>
          <a:xfrm>
            <a:off x="4680" y="1295280"/>
            <a:ext cx="3060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戴维宁定理证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532080" y="173160"/>
            <a:ext cx="2108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实验法求等效电阻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50160" y="770040"/>
            <a:ext cx="159984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1343160" y="3733560"/>
            <a:ext cx="5252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48520" y="5172120"/>
            <a:ext cx="585720" cy="390600"/>
          </a:xfrm>
          <a:custGeom>
            <a:avLst/>
            <a:gdLst>
              <a:gd name="textAreaLeft" fmla="*/ 73080 w 585720"/>
              <a:gd name="textAreaRight" fmla="*/ 512640 w 58572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3e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7610400" y="2666880"/>
            <a:ext cx="619200" cy="390600"/>
          </a:xfrm>
          <a:custGeom>
            <a:avLst/>
            <a:gdLst>
              <a:gd name="textAreaLeft" fmla="*/ 77400 w 619200"/>
              <a:gd name="textAreaRight" fmla="*/ 541800 w 6192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3e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2743200" y="2833560"/>
            <a:ext cx="617400" cy="390600"/>
          </a:xfrm>
          <a:custGeom>
            <a:avLst/>
            <a:gdLst>
              <a:gd name="textAreaLeft" fmla="*/ 77040 w 617400"/>
              <a:gd name="textAreaRight" fmla="*/ 540360 w 617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0033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0" name=""/>
          <p:cNvGrpSpPr/>
          <p:nvPr/>
        </p:nvGrpSpPr>
        <p:grpSpPr>
          <a:xfrm>
            <a:off x="380520" y="1904760"/>
            <a:ext cx="2319480" cy="1922040"/>
            <a:chOff x="380520" y="1904760"/>
            <a:chExt cx="2319480" cy="1922040"/>
          </a:xfrm>
        </p:grpSpPr>
        <p:grpSp>
          <p:nvGrpSpPr>
            <p:cNvPr id="3921" name=""/>
            <p:cNvGrpSpPr/>
            <p:nvPr/>
          </p:nvGrpSpPr>
          <p:grpSpPr>
            <a:xfrm>
              <a:off x="380520" y="2335680"/>
              <a:ext cx="1538640" cy="1491120"/>
              <a:chOff x="380520" y="2335680"/>
              <a:chExt cx="1538640" cy="1491120"/>
            </a:xfrm>
          </p:grpSpPr>
          <p:sp>
            <p:nvSpPr>
              <p:cNvPr id="3922" name=""/>
              <p:cNvSpPr/>
              <p:nvPr/>
            </p:nvSpPr>
            <p:spPr>
              <a:xfrm flipH="1">
                <a:off x="380160" y="2335680"/>
                <a:ext cx="749160" cy="149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3" name=""/>
              <p:cNvGrpSpPr/>
              <p:nvPr/>
            </p:nvGrpSpPr>
            <p:grpSpPr>
              <a:xfrm>
                <a:off x="1150200" y="2377440"/>
                <a:ext cx="768960" cy="104400"/>
                <a:chOff x="1150200" y="2377440"/>
                <a:chExt cx="768960" cy="104400"/>
              </a:xfrm>
            </p:grpSpPr>
            <p:sp>
              <p:nvSpPr>
                <p:cNvPr id="3924" name=""/>
                <p:cNvSpPr/>
                <p:nvPr/>
              </p:nvSpPr>
              <p:spPr>
                <a:xfrm flipH="1">
                  <a:off x="1817640" y="2377440"/>
                  <a:ext cx="101160" cy="104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 flipH="1">
                  <a:off x="1150200" y="2419200"/>
                  <a:ext cx="68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6" name=""/>
              <p:cNvGrpSpPr/>
              <p:nvPr/>
            </p:nvGrpSpPr>
            <p:grpSpPr>
              <a:xfrm>
                <a:off x="1109520" y="3722040"/>
                <a:ext cx="768960" cy="104400"/>
                <a:chOff x="1109520" y="3722040"/>
                <a:chExt cx="768960" cy="104400"/>
              </a:xfrm>
            </p:grpSpPr>
            <p:sp>
              <p:nvSpPr>
                <p:cNvPr id="3927" name=""/>
                <p:cNvSpPr/>
                <p:nvPr/>
              </p:nvSpPr>
              <p:spPr>
                <a:xfrm flipH="1">
                  <a:off x="1776960" y="3722040"/>
                  <a:ext cx="101160" cy="104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H="1">
                  <a:off x="1109520" y="3763800"/>
                  <a:ext cx="68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9" name=""/>
              <p:cNvSpPr/>
              <p:nvPr/>
            </p:nvSpPr>
            <p:spPr>
              <a:xfrm flipH="1">
                <a:off x="427320" y="2814840"/>
                <a:ext cx="6915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"/>
            <p:cNvGrpSpPr/>
            <p:nvPr/>
          </p:nvGrpSpPr>
          <p:grpSpPr>
            <a:xfrm>
              <a:off x="1859400" y="2419920"/>
              <a:ext cx="840600" cy="1384920"/>
              <a:chOff x="1859400" y="2419920"/>
              <a:chExt cx="840600" cy="1384920"/>
            </a:xfrm>
          </p:grpSpPr>
          <p:sp>
            <p:nvSpPr>
              <p:cNvPr id="3931" name=""/>
              <p:cNvSpPr/>
              <p:nvPr/>
            </p:nvSpPr>
            <p:spPr>
              <a:xfrm flipH="1">
                <a:off x="2298960" y="2915280"/>
                <a:ext cx="4006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2" name=""/>
              <p:cNvGrpSpPr/>
              <p:nvPr/>
            </p:nvGrpSpPr>
            <p:grpSpPr>
              <a:xfrm>
                <a:off x="1859400" y="2419920"/>
                <a:ext cx="464760" cy="1384920"/>
                <a:chOff x="1859400" y="2419920"/>
                <a:chExt cx="464760" cy="1384920"/>
              </a:xfrm>
            </p:grpSpPr>
            <p:grpSp>
              <p:nvGrpSpPr>
                <p:cNvPr id="3933" name=""/>
                <p:cNvGrpSpPr/>
                <p:nvPr/>
              </p:nvGrpSpPr>
              <p:grpSpPr>
                <a:xfrm>
                  <a:off x="2162520" y="2440800"/>
                  <a:ext cx="161640" cy="1364040"/>
                  <a:chOff x="2162520" y="2440800"/>
                  <a:chExt cx="161640" cy="1364040"/>
                </a:xfrm>
              </p:grpSpPr>
              <p:sp>
                <p:nvSpPr>
                  <p:cNvPr id="3934" name=""/>
                  <p:cNvSpPr/>
                  <p:nvPr/>
                </p:nvSpPr>
                <p:spPr>
                  <a:xfrm>
                    <a:off x="2162520" y="2965680"/>
                    <a:ext cx="161640" cy="33552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8640" rIns="98640" tIns="49320" bIns="49320" anchor="ctr">
                    <a:noAutofit/>
                  </a:bodyPr>
                  <a:p>
                    <a:pPr algn="ctr"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>
                    <a:off x="2243520" y="3301200"/>
                    <a:ext cx="0" cy="503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 flipV="1">
                    <a:off x="2243520" y="2440800"/>
                    <a:ext cx="0" cy="52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7" name=""/>
                <p:cNvSpPr/>
                <p:nvPr/>
              </p:nvSpPr>
              <p:spPr>
                <a:xfrm>
                  <a:off x="1879200" y="2419920"/>
                  <a:ext cx="38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1859400" y="3785040"/>
                  <a:ext cx="384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9" name=""/>
            <p:cNvSpPr/>
            <p:nvPr/>
          </p:nvSpPr>
          <p:spPr>
            <a:xfrm flipH="1">
              <a:off x="1497240" y="1904760"/>
              <a:ext cx="3168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312560" y="2273040"/>
              <a:ext cx="81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>
              <a:off x="1641240" y="2957040"/>
              <a:ext cx="4176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369800" y="2398680"/>
              <a:ext cx="10310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369800" y="3223440"/>
              <a:ext cx="10310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4" name=""/>
          <p:cNvSpPr/>
          <p:nvPr/>
        </p:nvSpPr>
        <p:spPr>
          <a:xfrm>
            <a:off x="2965320" y="5057640"/>
            <a:ext cx="84456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5" name=""/>
          <p:cNvGrpSpPr/>
          <p:nvPr/>
        </p:nvGrpSpPr>
        <p:grpSpPr>
          <a:xfrm>
            <a:off x="390240" y="4061880"/>
            <a:ext cx="2663280" cy="2590920"/>
            <a:chOff x="390240" y="4061880"/>
            <a:chExt cx="2663280" cy="2590920"/>
          </a:xfrm>
        </p:grpSpPr>
        <p:grpSp>
          <p:nvGrpSpPr>
            <p:cNvPr id="3946" name=""/>
            <p:cNvGrpSpPr/>
            <p:nvPr/>
          </p:nvGrpSpPr>
          <p:grpSpPr>
            <a:xfrm>
              <a:off x="1767960" y="4659480"/>
              <a:ext cx="465120" cy="104400"/>
              <a:chOff x="1767960" y="4659480"/>
              <a:chExt cx="465120" cy="104400"/>
            </a:xfrm>
          </p:grpSpPr>
          <p:sp>
            <p:nvSpPr>
              <p:cNvPr id="3947" name=""/>
              <p:cNvSpPr/>
              <p:nvPr/>
            </p:nvSpPr>
            <p:spPr>
              <a:xfrm flipH="1">
                <a:off x="2132280" y="4659480"/>
                <a:ext cx="100800" cy="104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 flipH="1">
                <a:off x="1767960" y="4701240"/>
                <a:ext cx="3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9" name=""/>
            <p:cNvSpPr/>
            <p:nvPr/>
          </p:nvSpPr>
          <p:spPr>
            <a:xfrm flipH="1">
              <a:off x="2122560" y="6035760"/>
              <a:ext cx="10152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143000" y="6068880"/>
              <a:ext cx="143820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378080" y="5822280"/>
              <a:ext cx="52704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2" name=""/>
            <p:cNvGrpSpPr/>
            <p:nvPr/>
          </p:nvGrpSpPr>
          <p:grpSpPr>
            <a:xfrm>
              <a:off x="2212920" y="4711680"/>
              <a:ext cx="840600" cy="1386360"/>
              <a:chOff x="2212920" y="4711680"/>
              <a:chExt cx="840600" cy="1386360"/>
            </a:xfrm>
          </p:grpSpPr>
          <p:sp>
            <p:nvSpPr>
              <p:cNvPr id="3953" name=""/>
              <p:cNvSpPr/>
              <p:nvPr/>
            </p:nvSpPr>
            <p:spPr>
              <a:xfrm flipH="1">
                <a:off x="2652480" y="5205960"/>
                <a:ext cx="4006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4" name=""/>
              <p:cNvGrpSpPr/>
              <p:nvPr/>
            </p:nvGrpSpPr>
            <p:grpSpPr>
              <a:xfrm>
                <a:off x="2212920" y="4711680"/>
                <a:ext cx="465480" cy="1386360"/>
                <a:chOff x="2212920" y="4711680"/>
                <a:chExt cx="465480" cy="1386360"/>
              </a:xfrm>
            </p:grpSpPr>
            <p:grpSp>
              <p:nvGrpSpPr>
                <p:cNvPr id="3955" name=""/>
                <p:cNvGrpSpPr/>
                <p:nvPr/>
              </p:nvGrpSpPr>
              <p:grpSpPr>
                <a:xfrm>
                  <a:off x="2516760" y="4732200"/>
                  <a:ext cx="161640" cy="1365840"/>
                  <a:chOff x="2516760" y="4732200"/>
                  <a:chExt cx="161640" cy="1365840"/>
                </a:xfrm>
              </p:grpSpPr>
              <p:sp>
                <p:nvSpPr>
                  <p:cNvPr id="3956" name=""/>
                  <p:cNvSpPr/>
                  <p:nvPr/>
                </p:nvSpPr>
                <p:spPr>
                  <a:xfrm>
                    <a:off x="2516760" y="5257800"/>
                    <a:ext cx="161640" cy="3358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8640" rIns="98640" tIns="49320" bIns="49320" anchor="ctr">
                    <a:noAutofit/>
                  </a:bodyPr>
                  <a:p>
                    <a:pPr algn="ctr"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2597760" y="5593680"/>
                    <a:ext cx="0" cy="504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 flipV="1">
                    <a:off x="2597760" y="4732200"/>
                    <a:ext cx="0" cy="525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9" name=""/>
                <p:cNvSpPr/>
                <p:nvPr/>
              </p:nvSpPr>
              <p:spPr>
                <a:xfrm>
                  <a:off x="2233080" y="4711680"/>
                  <a:ext cx="384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2212920" y="6077520"/>
                  <a:ext cx="385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1" name=""/>
            <p:cNvGrpSpPr/>
            <p:nvPr/>
          </p:nvGrpSpPr>
          <p:grpSpPr>
            <a:xfrm>
              <a:off x="1208160" y="4111920"/>
              <a:ext cx="849960" cy="754560"/>
              <a:chOff x="1208160" y="4111920"/>
              <a:chExt cx="849960" cy="754560"/>
            </a:xfrm>
          </p:grpSpPr>
          <p:grpSp>
            <p:nvGrpSpPr>
              <p:cNvPr id="3962" name=""/>
              <p:cNvGrpSpPr/>
              <p:nvPr/>
            </p:nvGrpSpPr>
            <p:grpSpPr>
              <a:xfrm>
                <a:off x="1208160" y="4338720"/>
                <a:ext cx="849960" cy="527760"/>
                <a:chOff x="1208160" y="4338720"/>
                <a:chExt cx="849960" cy="527760"/>
              </a:xfrm>
            </p:grpSpPr>
            <p:sp>
              <p:nvSpPr>
                <p:cNvPr id="3963" name=""/>
                <p:cNvSpPr/>
                <p:nvPr/>
              </p:nvSpPr>
              <p:spPr>
                <a:xfrm flipH="1" rot="16200000">
                  <a:off x="1475280" y="4537080"/>
                  <a:ext cx="335520" cy="323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1298880" y="4698360"/>
                  <a:ext cx="668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1208160" y="4338720"/>
                  <a:ext cx="849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    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6" name=""/>
              <p:cNvSpPr/>
              <p:nvPr/>
            </p:nvSpPr>
            <p:spPr>
              <a:xfrm flipH="1">
                <a:off x="1450080" y="4111920"/>
                <a:ext cx="4006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7" name=""/>
            <p:cNvSpPr/>
            <p:nvPr/>
          </p:nvSpPr>
          <p:spPr>
            <a:xfrm flipH="1">
              <a:off x="1889280" y="5088240"/>
              <a:ext cx="5029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H="1">
              <a:off x="389880" y="4638600"/>
              <a:ext cx="74916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H="1">
              <a:off x="1118880" y="470232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H="1">
              <a:off x="437400" y="5119560"/>
              <a:ext cx="6922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131920" y="4511520"/>
              <a:ext cx="425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H="1">
              <a:off x="2089080" y="4061880"/>
              <a:ext cx="5428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969920" y="4638600"/>
              <a:ext cx="3715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814400" y="5478480"/>
              <a:ext cx="6890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5" name=""/>
          <p:cNvSpPr/>
          <p:nvPr/>
        </p:nvSpPr>
        <p:spPr>
          <a:xfrm>
            <a:off x="4975200" y="2860560"/>
            <a:ext cx="1214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6" name=""/>
              <p:cNvSpPr txBox="1"/>
              <p:nvPr/>
            </p:nvSpPr>
            <p:spPr>
              <a:xfrm>
                <a:off x="2652840" y="4114800"/>
                <a:ext cx="89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7" name=""/>
              <p:cNvSpPr txBox="1"/>
              <p:nvPr/>
            </p:nvSpPr>
            <p:spPr>
              <a:xfrm>
                <a:off x="6324480" y="4114800"/>
                <a:ext cx="984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8" name=""/>
          <p:cNvSpPr/>
          <p:nvPr/>
        </p:nvSpPr>
        <p:spPr>
          <a:xfrm>
            <a:off x="6934320" y="2819520"/>
            <a:ext cx="2106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叠加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492360" y="-77040"/>
            <a:ext cx="4686120" cy="2283840"/>
            <a:chOff x="3492360" y="-77040"/>
            <a:chExt cx="4686120" cy="2283840"/>
          </a:xfrm>
        </p:grpSpPr>
        <p:sp>
          <p:nvSpPr>
            <p:cNvPr id="3980" name=""/>
            <p:cNvSpPr/>
            <p:nvPr/>
          </p:nvSpPr>
          <p:spPr>
            <a:xfrm flipH="1">
              <a:off x="3492360" y="298080"/>
              <a:ext cx="83160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4346640" y="528480"/>
              <a:ext cx="853560" cy="104400"/>
              <a:chOff x="4346640" y="528480"/>
              <a:chExt cx="853560" cy="104400"/>
            </a:xfrm>
          </p:grpSpPr>
          <p:sp>
            <p:nvSpPr>
              <p:cNvPr id="3982" name=""/>
              <p:cNvSpPr/>
              <p:nvPr/>
            </p:nvSpPr>
            <p:spPr>
              <a:xfrm flipH="1">
                <a:off x="5087880" y="528480"/>
                <a:ext cx="112320" cy="104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H="1">
                <a:off x="4346640" y="570240"/>
                <a:ext cx="763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4346640" y="1411200"/>
              <a:ext cx="853560" cy="104400"/>
              <a:chOff x="4346640" y="1411200"/>
              <a:chExt cx="853560" cy="104400"/>
            </a:xfrm>
          </p:grpSpPr>
          <p:sp>
            <p:nvSpPr>
              <p:cNvPr id="3985" name=""/>
              <p:cNvSpPr/>
              <p:nvPr/>
            </p:nvSpPr>
            <p:spPr>
              <a:xfrm flipH="1">
                <a:off x="5087880" y="1411200"/>
                <a:ext cx="112320" cy="104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H="1">
                <a:off x="4346640" y="1452960"/>
                <a:ext cx="763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7" name=""/>
            <p:cNvSpPr/>
            <p:nvPr/>
          </p:nvSpPr>
          <p:spPr>
            <a:xfrm flipH="1">
              <a:off x="4992480" y="131040"/>
              <a:ext cx="306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flipH="1">
              <a:off x="4992840" y="1520280"/>
              <a:ext cx="35964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200" spc="-1" strike="noStrike" baseline="30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flipH="1">
              <a:off x="3544560" y="779040"/>
              <a:ext cx="76824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0" name=""/>
            <p:cNvGrpSpPr/>
            <p:nvPr/>
          </p:nvGrpSpPr>
          <p:grpSpPr>
            <a:xfrm>
              <a:off x="5179680" y="599760"/>
              <a:ext cx="0" cy="798120"/>
              <a:chOff x="5179680" y="599760"/>
              <a:chExt cx="0" cy="798120"/>
            </a:xfrm>
          </p:grpSpPr>
          <p:sp>
            <p:nvSpPr>
              <p:cNvPr id="3991" name=""/>
              <p:cNvSpPr/>
              <p:nvPr/>
            </p:nvSpPr>
            <p:spPr>
              <a:xfrm>
                <a:off x="5179680" y="599760"/>
                <a:ext cx="0" cy="3992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179680" y="789120"/>
                <a:ext cx="0" cy="6087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3" name=""/>
            <p:cNvSpPr/>
            <p:nvPr/>
          </p:nvSpPr>
          <p:spPr>
            <a:xfrm>
              <a:off x="5154480" y="879120"/>
              <a:ext cx="647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4" name=""/>
            <p:cNvGrpSpPr/>
            <p:nvPr/>
          </p:nvGrpSpPr>
          <p:grpSpPr>
            <a:xfrm>
              <a:off x="6341760" y="-77040"/>
              <a:ext cx="1432080" cy="2283840"/>
              <a:chOff x="6341760" y="-77040"/>
              <a:chExt cx="1432080" cy="2283840"/>
            </a:xfrm>
          </p:grpSpPr>
          <p:sp>
            <p:nvSpPr>
              <p:cNvPr id="3995" name=""/>
              <p:cNvSpPr/>
              <p:nvPr/>
            </p:nvSpPr>
            <p:spPr>
              <a:xfrm>
                <a:off x="6341760" y="909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422760" y="573120"/>
                <a:ext cx="324000" cy="335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584760" y="320760"/>
                <a:ext cx="0" cy="83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503760" y="1161000"/>
                <a:ext cx="161640" cy="3362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noAutofit/>
              </a:bodyPr>
              <a:p>
                <a:pPr algn="ctr"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584760" y="1497240"/>
                <a:ext cx="0" cy="33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6524280" y="289440"/>
                <a:ext cx="323640" cy="75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63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_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H="1">
                <a:off x="7376040" y="-77040"/>
                <a:ext cx="3063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1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H="1">
                <a:off x="7413840" y="1772640"/>
                <a:ext cx="3596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zh-CN" sz="1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665760" y="494640"/>
                <a:ext cx="54684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604920" y="1104120"/>
                <a:ext cx="54684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5" name=""/>
              <p:cNvGrpSpPr/>
              <p:nvPr/>
            </p:nvGrpSpPr>
            <p:grpSpPr>
              <a:xfrm>
                <a:off x="6563880" y="1780560"/>
                <a:ext cx="931680" cy="104760"/>
                <a:chOff x="6563880" y="1780560"/>
                <a:chExt cx="931680" cy="104760"/>
              </a:xfrm>
            </p:grpSpPr>
            <p:sp>
              <p:nvSpPr>
                <p:cNvPr id="4006" name=""/>
                <p:cNvSpPr/>
                <p:nvPr/>
              </p:nvSpPr>
              <p:spPr>
                <a:xfrm flipH="1">
                  <a:off x="7394040" y="1780560"/>
                  <a:ext cx="101160" cy="104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 flipH="1">
                  <a:off x="6563880" y="1822320"/>
                  <a:ext cx="850680" cy="1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8" name=""/>
              <p:cNvGrpSpPr/>
              <p:nvPr/>
            </p:nvGrpSpPr>
            <p:grpSpPr>
              <a:xfrm>
                <a:off x="6563880" y="257760"/>
                <a:ext cx="931680" cy="104760"/>
                <a:chOff x="6563880" y="257760"/>
                <a:chExt cx="931680" cy="104760"/>
              </a:xfrm>
            </p:grpSpPr>
            <p:sp>
              <p:nvSpPr>
                <p:cNvPr id="4009" name=""/>
                <p:cNvSpPr/>
                <p:nvPr/>
              </p:nvSpPr>
              <p:spPr>
                <a:xfrm flipH="1">
                  <a:off x="7394040" y="257760"/>
                  <a:ext cx="101160" cy="104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flipH="1">
                  <a:off x="6563880" y="299520"/>
                  <a:ext cx="850680" cy="1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11" name=""/>
            <p:cNvGrpSpPr/>
            <p:nvPr/>
          </p:nvGrpSpPr>
          <p:grpSpPr>
            <a:xfrm>
              <a:off x="7461000" y="384120"/>
              <a:ext cx="717480" cy="1448640"/>
              <a:chOff x="7461000" y="384120"/>
              <a:chExt cx="717480" cy="1448640"/>
            </a:xfrm>
          </p:grpSpPr>
          <p:grpSp>
            <p:nvGrpSpPr>
              <p:cNvPr id="4012" name=""/>
              <p:cNvGrpSpPr/>
              <p:nvPr/>
            </p:nvGrpSpPr>
            <p:grpSpPr>
              <a:xfrm>
                <a:off x="7461000" y="384120"/>
                <a:ext cx="0" cy="1448640"/>
                <a:chOff x="7461000" y="384120"/>
                <a:chExt cx="0" cy="144864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7461000" y="384120"/>
                  <a:ext cx="0" cy="7246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7461000" y="727560"/>
                  <a:ext cx="0" cy="11052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5" name=""/>
              <p:cNvSpPr/>
              <p:nvPr/>
            </p:nvSpPr>
            <p:spPr>
              <a:xfrm>
                <a:off x="7461000" y="775800"/>
                <a:ext cx="7174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>
              <a:off x="4655880" y="753480"/>
              <a:ext cx="506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694040" y="420480"/>
              <a:ext cx="479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4533480" y="1015920"/>
              <a:ext cx="800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622480" y="730080"/>
              <a:ext cx="684360" cy="468360"/>
            </a:xfrm>
            <a:prstGeom prst="rightArrow">
              <a:avLst>
                <a:gd name="adj1" fmla="val 50000"/>
                <a:gd name="adj2" fmla="val 3653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0" name=""/>
          <p:cNvGrpSpPr/>
          <p:nvPr/>
        </p:nvGrpSpPr>
        <p:grpSpPr>
          <a:xfrm>
            <a:off x="3809880" y="1770480"/>
            <a:ext cx="3412440" cy="2496240"/>
            <a:chOff x="3809880" y="1770480"/>
            <a:chExt cx="3412440" cy="2496240"/>
          </a:xfrm>
        </p:grpSpPr>
        <p:grpSp>
          <p:nvGrpSpPr>
            <p:cNvPr id="4021" name=""/>
            <p:cNvGrpSpPr/>
            <p:nvPr/>
          </p:nvGrpSpPr>
          <p:grpSpPr>
            <a:xfrm>
              <a:off x="3809880" y="1770480"/>
              <a:ext cx="3412440" cy="2496240"/>
              <a:chOff x="3809880" y="1770480"/>
              <a:chExt cx="3412440" cy="2496240"/>
            </a:xfrm>
          </p:grpSpPr>
          <p:grpSp>
            <p:nvGrpSpPr>
              <p:cNvPr id="4022" name=""/>
              <p:cNvGrpSpPr/>
              <p:nvPr/>
            </p:nvGrpSpPr>
            <p:grpSpPr>
              <a:xfrm>
                <a:off x="5653440" y="2307600"/>
                <a:ext cx="769320" cy="104400"/>
                <a:chOff x="5653440" y="2307600"/>
                <a:chExt cx="769320" cy="104400"/>
              </a:xfrm>
            </p:grpSpPr>
            <p:sp>
              <p:nvSpPr>
                <p:cNvPr id="4023" name=""/>
                <p:cNvSpPr/>
                <p:nvPr/>
              </p:nvSpPr>
              <p:spPr>
                <a:xfrm flipH="1">
                  <a:off x="6321240" y="2307600"/>
                  <a:ext cx="101160" cy="104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 flipH="1">
                  <a:off x="5653440" y="2349360"/>
                  <a:ext cx="688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5" name=""/>
              <p:cNvSpPr/>
              <p:nvPr/>
            </p:nvSpPr>
            <p:spPr>
              <a:xfrm flipH="1">
                <a:off x="6281280" y="3663000"/>
                <a:ext cx="100800" cy="1047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flipH="1">
                <a:off x="4559040" y="3715200"/>
                <a:ext cx="1721880" cy="1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7" name=""/>
              <p:cNvGrpSpPr/>
              <p:nvPr/>
            </p:nvGrpSpPr>
            <p:grpSpPr>
              <a:xfrm>
                <a:off x="4699440" y="1988280"/>
                <a:ext cx="1052640" cy="526680"/>
                <a:chOff x="4699440" y="1988280"/>
                <a:chExt cx="1052640" cy="526680"/>
              </a:xfrm>
            </p:grpSpPr>
            <p:sp>
              <p:nvSpPr>
                <p:cNvPr id="4028" name=""/>
                <p:cNvSpPr/>
                <p:nvPr/>
              </p:nvSpPr>
              <p:spPr>
                <a:xfrm rot="5400000">
                  <a:off x="4987080" y="2185200"/>
                  <a:ext cx="335520" cy="324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4830840" y="2347200"/>
                  <a:ext cx="668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 flipH="1">
                  <a:off x="4699440" y="1988280"/>
                  <a:ext cx="1052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–</a:t>
                  </a:r>
                  <a:r>
                    <a:rPr b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1" name=""/>
              <p:cNvSpPr/>
              <p:nvPr/>
            </p:nvSpPr>
            <p:spPr>
              <a:xfrm>
                <a:off x="5499360" y="2347560"/>
                <a:ext cx="66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2" name=""/>
              <p:cNvGrpSpPr/>
              <p:nvPr/>
            </p:nvGrpSpPr>
            <p:grpSpPr>
              <a:xfrm>
                <a:off x="6382080" y="2338920"/>
                <a:ext cx="840240" cy="1385640"/>
                <a:chOff x="6382080" y="2338920"/>
                <a:chExt cx="840240" cy="1385640"/>
              </a:xfrm>
            </p:grpSpPr>
            <p:sp>
              <p:nvSpPr>
                <p:cNvPr id="4033" name=""/>
                <p:cNvSpPr/>
                <p:nvPr/>
              </p:nvSpPr>
              <p:spPr>
                <a:xfrm flipH="1">
                  <a:off x="6821280" y="2834640"/>
                  <a:ext cx="4006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4" name=""/>
                <p:cNvGrpSpPr/>
                <p:nvPr/>
              </p:nvGrpSpPr>
              <p:grpSpPr>
                <a:xfrm>
                  <a:off x="6382080" y="2338920"/>
                  <a:ext cx="464760" cy="1385640"/>
                  <a:chOff x="6382080" y="2338920"/>
                  <a:chExt cx="464760" cy="1385640"/>
                </a:xfrm>
              </p:grpSpPr>
              <p:grpSp>
                <p:nvGrpSpPr>
                  <p:cNvPr id="4035" name=""/>
                  <p:cNvGrpSpPr/>
                  <p:nvPr/>
                </p:nvGrpSpPr>
                <p:grpSpPr>
                  <a:xfrm>
                    <a:off x="6685560" y="2359800"/>
                    <a:ext cx="161280" cy="1364760"/>
                    <a:chOff x="6685560" y="2359800"/>
                    <a:chExt cx="161280" cy="1364760"/>
                  </a:xfrm>
                </p:grpSpPr>
                <p:sp>
                  <p:nvSpPr>
                    <p:cNvPr id="4036" name=""/>
                    <p:cNvSpPr/>
                    <p:nvPr/>
                  </p:nvSpPr>
                  <p:spPr>
                    <a:xfrm>
                      <a:off x="6685560" y="2884680"/>
                      <a:ext cx="161280" cy="33552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8640" rIns="98640" tIns="49320" bIns="49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7" name=""/>
                    <p:cNvSpPr/>
                    <p:nvPr/>
                  </p:nvSpPr>
                  <p:spPr>
                    <a:xfrm>
                      <a:off x="6766560" y="3220560"/>
                      <a:ext cx="0" cy="504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8" name=""/>
                    <p:cNvSpPr/>
                    <p:nvPr/>
                  </p:nvSpPr>
                  <p:spPr>
                    <a:xfrm flipV="1">
                      <a:off x="6766560" y="2359800"/>
                      <a:ext cx="0" cy="524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39" name=""/>
                  <p:cNvSpPr/>
                  <p:nvPr/>
                </p:nvSpPr>
                <p:spPr>
                  <a:xfrm>
                    <a:off x="6402240" y="2338920"/>
                    <a:ext cx="384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>
                    <a:off x="6382080" y="3704040"/>
                    <a:ext cx="384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41" name=""/>
              <p:cNvSpPr/>
              <p:nvPr/>
            </p:nvSpPr>
            <p:spPr>
              <a:xfrm flipH="1">
                <a:off x="3809880" y="2275560"/>
                <a:ext cx="749520" cy="1491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flipH="1">
                <a:off x="3856680" y="2740320"/>
                <a:ext cx="69192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flipH="1" flipV="1">
                <a:off x="4533480" y="2338920"/>
                <a:ext cx="318960" cy="1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4" name=""/>
              <p:cNvGrpSpPr/>
              <p:nvPr/>
            </p:nvGrpSpPr>
            <p:grpSpPr>
              <a:xfrm>
                <a:off x="5438520" y="1781640"/>
                <a:ext cx="850320" cy="732960"/>
                <a:chOff x="5438520" y="1781640"/>
                <a:chExt cx="850320" cy="732960"/>
              </a:xfrm>
            </p:grpSpPr>
            <p:sp>
              <p:nvSpPr>
                <p:cNvPr id="4045" name=""/>
                <p:cNvSpPr/>
                <p:nvPr/>
              </p:nvSpPr>
              <p:spPr>
                <a:xfrm flipH="1" rot="16200000">
                  <a:off x="5675400" y="2184840"/>
                  <a:ext cx="335520" cy="324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5438520" y="1976400"/>
                  <a:ext cx="8503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    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670720" y="1781640"/>
                  <a:ext cx="4006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8" name=""/>
              <p:cNvSpPr/>
              <p:nvPr/>
            </p:nvSpPr>
            <p:spPr>
              <a:xfrm flipH="1">
                <a:off x="4961520" y="1781640"/>
                <a:ext cx="4006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281280" y="2170800"/>
                <a:ext cx="42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H="1">
                <a:off x="6236280" y="1770480"/>
                <a:ext cx="3610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 flipH="1">
                <a:off x="6149880" y="2825280"/>
                <a:ext cx="4176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5136480" y="3834360"/>
                <a:ext cx="52668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167880" y="2333520"/>
                <a:ext cx="43056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30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046560" y="3158640"/>
                <a:ext cx="68004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30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5" name=""/>
            <p:cNvSpPr/>
            <p:nvPr/>
          </p:nvSpPr>
          <p:spPr>
            <a:xfrm>
              <a:off x="5336640" y="3676680"/>
              <a:ext cx="52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3657600" y="4167000"/>
            <a:ext cx="2594160" cy="2554560"/>
            <a:chOff x="3657600" y="4167000"/>
            <a:chExt cx="2594160" cy="2554560"/>
          </a:xfrm>
        </p:grpSpPr>
        <p:grpSp>
          <p:nvGrpSpPr>
            <p:cNvPr id="4057" name=""/>
            <p:cNvGrpSpPr/>
            <p:nvPr/>
          </p:nvGrpSpPr>
          <p:grpSpPr>
            <a:xfrm>
              <a:off x="3657600" y="4167000"/>
              <a:ext cx="2594160" cy="2554560"/>
              <a:chOff x="3657600" y="4167000"/>
              <a:chExt cx="2594160" cy="2554560"/>
            </a:xfrm>
          </p:grpSpPr>
          <p:sp>
            <p:nvSpPr>
              <p:cNvPr id="4058" name=""/>
              <p:cNvSpPr/>
              <p:nvPr/>
            </p:nvSpPr>
            <p:spPr>
              <a:xfrm flipH="1">
                <a:off x="4533840" y="4743720"/>
                <a:ext cx="83016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643280" y="6257880"/>
                <a:ext cx="52704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0" name=""/>
              <p:cNvGrpSpPr/>
              <p:nvPr/>
            </p:nvGrpSpPr>
            <p:grpSpPr>
              <a:xfrm>
                <a:off x="4545000" y="4188960"/>
                <a:ext cx="1053360" cy="734760"/>
                <a:chOff x="4545000" y="4188960"/>
                <a:chExt cx="1053360" cy="734760"/>
              </a:xfrm>
            </p:grpSpPr>
            <p:sp>
              <p:nvSpPr>
                <p:cNvPr id="4061" name=""/>
                <p:cNvSpPr/>
                <p:nvPr/>
              </p:nvSpPr>
              <p:spPr>
                <a:xfrm flipH="1">
                  <a:off x="4785480" y="4188960"/>
                  <a:ext cx="4006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2" name=""/>
                <p:cNvGrpSpPr/>
                <p:nvPr/>
              </p:nvGrpSpPr>
              <p:grpSpPr>
                <a:xfrm>
                  <a:off x="4545000" y="4395960"/>
                  <a:ext cx="1053360" cy="527760"/>
                  <a:chOff x="4545000" y="4395960"/>
                  <a:chExt cx="1053360" cy="527760"/>
                </a:xfrm>
              </p:grpSpPr>
              <p:sp>
                <p:nvSpPr>
                  <p:cNvPr id="4063" name=""/>
                  <p:cNvSpPr/>
                  <p:nvPr/>
                </p:nvSpPr>
                <p:spPr>
                  <a:xfrm rot="5400000">
                    <a:off x="4831200" y="4593960"/>
                    <a:ext cx="335520" cy="324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 flipH="1">
                    <a:off x="4674960" y="4755600"/>
                    <a:ext cx="668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 flipH="1">
                    <a:off x="4545000" y="4395960"/>
                    <a:ext cx="1053360" cy="46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8640" rIns="98640" tIns="49320" bIns="49320" anchor="ctr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–   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66" name=""/>
              <p:cNvSpPr/>
              <p:nvPr/>
            </p:nvSpPr>
            <p:spPr>
              <a:xfrm flipH="1">
                <a:off x="5311800" y="6067440"/>
                <a:ext cx="101520" cy="106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 flipH="1">
                <a:off x="4541760" y="6110280"/>
                <a:ext cx="7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 flipH="1">
                <a:off x="5127840" y="5175000"/>
                <a:ext cx="5868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"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 flipH="1">
                <a:off x="5254560" y="4167000"/>
                <a:ext cx="5889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"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0" name=""/>
              <p:cNvGrpSpPr/>
              <p:nvPr/>
            </p:nvGrpSpPr>
            <p:grpSpPr>
              <a:xfrm>
                <a:off x="5413320" y="4754520"/>
                <a:ext cx="838440" cy="1386720"/>
                <a:chOff x="5413320" y="4754520"/>
                <a:chExt cx="838440" cy="1386720"/>
              </a:xfrm>
            </p:grpSpPr>
            <p:sp>
              <p:nvSpPr>
                <p:cNvPr id="4071" name=""/>
                <p:cNvSpPr/>
                <p:nvPr/>
              </p:nvSpPr>
              <p:spPr>
                <a:xfrm flipH="1">
                  <a:off x="5850720" y="5249160"/>
                  <a:ext cx="4006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2" name=""/>
                <p:cNvGrpSpPr/>
                <p:nvPr/>
              </p:nvGrpSpPr>
              <p:grpSpPr>
                <a:xfrm>
                  <a:off x="5413320" y="4754520"/>
                  <a:ext cx="464760" cy="1386720"/>
                  <a:chOff x="5413320" y="4754520"/>
                  <a:chExt cx="464760" cy="1386720"/>
                </a:xfrm>
              </p:grpSpPr>
              <p:grpSp>
                <p:nvGrpSpPr>
                  <p:cNvPr id="4073" name=""/>
                  <p:cNvGrpSpPr/>
                  <p:nvPr/>
                </p:nvGrpSpPr>
                <p:grpSpPr>
                  <a:xfrm>
                    <a:off x="5716440" y="4775040"/>
                    <a:ext cx="161640" cy="1366200"/>
                    <a:chOff x="5716440" y="4775040"/>
                    <a:chExt cx="161640" cy="1366200"/>
                  </a:xfrm>
                </p:grpSpPr>
                <p:sp>
                  <p:nvSpPr>
                    <p:cNvPr id="4074" name=""/>
                    <p:cNvSpPr/>
                    <p:nvPr/>
                  </p:nvSpPr>
                  <p:spPr>
                    <a:xfrm>
                      <a:off x="5716440" y="5300640"/>
                      <a:ext cx="161640" cy="33588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8640" rIns="98640" tIns="49320" bIns="49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5" name=""/>
                    <p:cNvSpPr/>
                    <p:nvPr/>
                  </p:nvSpPr>
                  <p:spPr>
                    <a:xfrm>
                      <a:off x="5797080" y="5636880"/>
                      <a:ext cx="0" cy="50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6" name=""/>
                    <p:cNvSpPr/>
                    <p:nvPr/>
                  </p:nvSpPr>
                  <p:spPr>
                    <a:xfrm flipV="1">
                      <a:off x="5797080" y="4775040"/>
                      <a:ext cx="0" cy="525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77" name=""/>
                  <p:cNvSpPr/>
                  <p:nvPr/>
                </p:nvSpPr>
                <p:spPr>
                  <a:xfrm>
                    <a:off x="5433480" y="4754520"/>
                    <a:ext cx="384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5413320" y="6120720"/>
                    <a:ext cx="384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9" name=""/>
              <p:cNvGrpSpPr/>
              <p:nvPr/>
            </p:nvGrpSpPr>
            <p:grpSpPr>
              <a:xfrm>
                <a:off x="3657600" y="4692600"/>
                <a:ext cx="883440" cy="1490400"/>
                <a:chOff x="3657600" y="4692600"/>
                <a:chExt cx="883440" cy="1490400"/>
              </a:xfrm>
            </p:grpSpPr>
            <p:sp>
              <p:nvSpPr>
                <p:cNvPr id="4080" name=""/>
                <p:cNvSpPr/>
                <p:nvPr/>
              </p:nvSpPr>
              <p:spPr>
                <a:xfrm flipH="1">
                  <a:off x="3761280" y="4692600"/>
                  <a:ext cx="779400" cy="14904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 flipH="1">
                  <a:off x="3657600" y="4824000"/>
                  <a:ext cx="69192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2" name=""/>
              <p:cNvSpPr/>
              <p:nvPr/>
            </p:nvSpPr>
            <p:spPr>
              <a:xfrm flipH="1">
                <a:off x="5321160" y="4702320"/>
                <a:ext cx="101520" cy="1047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5381640" y="4586400"/>
                <a:ext cx="406440" cy="1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4" name=""/>
              <p:cNvGrpSpPr/>
              <p:nvPr/>
            </p:nvGrpSpPr>
            <p:grpSpPr>
              <a:xfrm>
                <a:off x="3842280" y="4722840"/>
                <a:ext cx="708120" cy="1428120"/>
                <a:chOff x="3842280" y="4722840"/>
                <a:chExt cx="708120" cy="1428120"/>
              </a:xfrm>
            </p:grpSpPr>
            <p:sp>
              <p:nvSpPr>
                <p:cNvPr id="4085" name=""/>
                <p:cNvSpPr/>
                <p:nvPr/>
              </p:nvSpPr>
              <p:spPr>
                <a:xfrm flipH="1">
                  <a:off x="3841920" y="5476320"/>
                  <a:ext cx="48924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6" name=""/>
                <p:cNvGrpSpPr/>
                <p:nvPr/>
              </p:nvGrpSpPr>
              <p:grpSpPr>
                <a:xfrm>
                  <a:off x="4227480" y="4722840"/>
                  <a:ext cx="322920" cy="1428120"/>
                  <a:chOff x="4227480" y="4722840"/>
                  <a:chExt cx="322920" cy="1428120"/>
                </a:xfrm>
              </p:grpSpPr>
              <p:sp>
                <p:nvSpPr>
                  <p:cNvPr id="4087" name=""/>
                  <p:cNvSpPr/>
                  <p:nvPr/>
                </p:nvSpPr>
                <p:spPr>
                  <a:xfrm flipH="1">
                    <a:off x="4317840" y="475452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 flipH="1">
                    <a:off x="4348440" y="609840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4227480" y="5310720"/>
                    <a:ext cx="161280" cy="335880"/>
                  </a:xfrm>
                  <a:prstGeom prst="rect">
                    <a:avLst/>
                  </a:prstGeom>
                  <a:noFill/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8640" rIns="98640" tIns="49320" bIns="49320" anchor="ctr">
                    <a:noAutofit/>
                  </a:bodyPr>
                  <a:p>
                    <a:pPr algn="ctr"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4308480" y="5646960"/>
                    <a:ext cx="0" cy="50400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1" name=""/>
                  <p:cNvSpPr/>
                  <p:nvPr/>
                </p:nvSpPr>
                <p:spPr>
                  <a:xfrm flipV="1">
                    <a:off x="4308480" y="4722840"/>
                    <a:ext cx="0" cy="556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2" name=""/>
              <p:cNvSpPr/>
              <p:nvPr/>
            </p:nvSpPr>
            <p:spPr>
              <a:xfrm>
                <a:off x="5068800" y="4672080"/>
                <a:ext cx="55872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 flipV="1">
                <a:off x="5068800" y="5802480"/>
                <a:ext cx="6094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4" name=""/>
            <p:cNvSpPr/>
            <p:nvPr/>
          </p:nvSpPr>
          <p:spPr>
            <a:xfrm>
              <a:off x="4717800" y="6026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6400800" y="4209480"/>
            <a:ext cx="2538000" cy="2647800"/>
            <a:chOff x="6400800" y="4209480"/>
            <a:chExt cx="2538000" cy="2647800"/>
          </a:xfrm>
        </p:grpSpPr>
        <p:grpSp>
          <p:nvGrpSpPr>
            <p:cNvPr id="4096" name=""/>
            <p:cNvGrpSpPr/>
            <p:nvPr/>
          </p:nvGrpSpPr>
          <p:grpSpPr>
            <a:xfrm>
              <a:off x="6900840" y="4209480"/>
              <a:ext cx="2037960" cy="2647800"/>
              <a:chOff x="6900840" y="4209480"/>
              <a:chExt cx="2037960" cy="2647800"/>
            </a:xfrm>
          </p:grpSpPr>
          <p:sp>
            <p:nvSpPr>
              <p:cNvPr id="4097" name=""/>
              <p:cNvSpPr/>
              <p:nvPr/>
            </p:nvSpPr>
            <p:spPr>
              <a:xfrm flipH="1">
                <a:off x="7616880" y="4209480"/>
                <a:ext cx="4071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8" name=""/>
              <p:cNvGrpSpPr/>
              <p:nvPr/>
            </p:nvGrpSpPr>
            <p:grpSpPr>
              <a:xfrm>
                <a:off x="6900840" y="4442760"/>
                <a:ext cx="2037960" cy="2414520"/>
                <a:chOff x="6900840" y="4442760"/>
                <a:chExt cx="2037960" cy="2414520"/>
              </a:xfrm>
            </p:grpSpPr>
            <p:grpSp>
              <p:nvGrpSpPr>
                <p:cNvPr id="4099" name=""/>
                <p:cNvGrpSpPr/>
                <p:nvPr/>
              </p:nvGrpSpPr>
              <p:grpSpPr>
                <a:xfrm>
                  <a:off x="7151400" y="4573080"/>
                  <a:ext cx="866160" cy="117360"/>
                  <a:chOff x="7151400" y="4573080"/>
                  <a:chExt cx="866160" cy="117360"/>
                </a:xfrm>
              </p:grpSpPr>
              <p:sp>
                <p:nvSpPr>
                  <p:cNvPr id="4100" name=""/>
                  <p:cNvSpPr/>
                  <p:nvPr/>
                </p:nvSpPr>
                <p:spPr>
                  <a:xfrm flipH="1">
                    <a:off x="7903080" y="4573080"/>
                    <a:ext cx="114120" cy="1173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 flipH="1">
                    <a:off x="7151400" y="4619880"/>
                    <a:ext cx="775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02" name=""/>
                <p:cNvSpPr/>
                <p:nvPr/>
              </p:nvSpPr>
              <p:spPr>
                <a:xfrm flipH="1">
                  <a:off x="8537760" y="5264640"/>
                  <a:ext cx="4006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8368200" y="5283000"/>
                  <a:ext cx="182160" cy="3776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8459280" y="5660640"/>
                  <a:ext cx="0" cy="6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 flipV="1">
                  <a:off x="8459280" y="4606920"/>
                  <a:ext cx="0" cy="67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>
                  <a:off x="8014320" y="4632120"/>
                  <a:ext cx="43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>
                  <a:off x="8026920" y="6276240"/>
                  <a:ext cx="43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7653240" y="6424560"/>
                  <a:ext cx="59328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9" name=""/>
                <p:cNvGrpSpPr/>
                <p:nvPr/>
              </p:nvGrpSpPr>
              <p:grpSpPr>
                <a:xfrm>
                  <a:off x="7151400" y="6229440"/>
                  <a:ext cx="866160" cy="117360"/>
                  <a:chOff x="7151400" y="6229440"/>
                  <a:chExt cx="866160" cy="117360"/>
                </a:xfrm>
              </p:grpSpPr>
              <p:sp>
                <p:nvSpPr>
                  <p:cNvPr id="4110" name=""/>
                  <p:cNvSpPr/>
                  <p:nvPr/>
                </p:nvSpPr>
                <p:spPr>
                  <a:xfrm flipH="1">
                    <a:off x="7903080" y="6229440"/>
                    <a:ext cx="114120" cy="1173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 flipH="1">
                    <a:off x="7151400" y="6276240"/>
                    <a:ext cx="775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2" name=""/>
                <p:cNvSpPr/>
                <p:nvPr/>
              </p:nvSpPr>
              <p:spPr>
                <a:xfrm>
                  <a:off x="6900840" y="5258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6991920" y="4880520"/>
                  <a:ext cx="364320" cy="377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7173720" y="4596480"/>
                  <a:ext cx="0" cy="94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7082640" y="5542560"/>
                  <a:ext cx="182160" cy="379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8640" rIns="98640" tIns="49320" bIns="4932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6" name=""/>
                <p:cNvSpPr/>
                <p:nvPr/>
              </p:nvSpPr>
              <p:spPr>
                <a:xfrm>
                  <a:off x="7173720" y="5922000"/>
                  <a:ext cx="0" cy="376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7129440" y="4530600"/>
                  <a:ext cx="364680" cy="8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_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 flipH="1">
                  <a:off x="7287840" y="4862160"/>
                  <a:ext cx="403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 flipH="1">
                  <a:off x="7011360" y="5463000"/>
                  <a:ext cx="84168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7892640" y="4442760"/>
                  <a:ext cx="559440" cy="10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 flipH="1">
                  <a:off x="7697520" y="5218200"/>
                  <a:ext cx="4075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8640" rIns="98640" tIns="49320" bIns="4932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>
                  <a:off x="7737120" y="4558680"/>
                  <a:ext cx="444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7737120" y="5789160"/>
                  <a:ext cx="444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24" name=""/>
            <p:cNvSpPr/>
            <p:nvPr/>
          </p:nvSpPr>
          <p:spPr>
            <a:xfrm>
              <a:off x="6400800" y="6002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4" dur="500"/>
                                        <p:tgtEl>
                                          <p:spTgt spid="3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9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3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9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7" dur="500"/>
                                        <p:tgtEl>
                                          <p:spTgt spid="3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2" dur="500"/>
                                        <p:tgtEl>
                                          <p:spTgt spid="4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7" dur="500"/>
                                        <p:tgtEl>
                                          <p:spTgt spid="3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500"/>
                            </p:stCondLst>
                            <p:childTnLst>
                              <p:par>
                                <p:cTn id="2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1" dur="500"/>
                                        <p:tgtEl>
                                          <p:spTgt spid="3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500"/>
                            </p:stCondLst>
                            <p:childTnLst>
                              <p:par>
                                <p:cTn id="2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"/>
                            </p:stCondLst>
                            <p:childTnLst>
                              <p:par>
                                <p:cTn id="23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9" dur="500"/>
                                        <p:tgtEl>
                                          <p:spTgt spid="3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9" dur="500"/>
                                        <p:tgtEl>
                                          <p:spTgt spid="3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190440" y="3962520"/>
            <a:ext cx="438156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2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用戴维宁定理求检流计中的电流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4572000" y="304920"/>
            <a:ext cx="0" cy="6095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4800600" y="990720"/>
            <a:ext cx="2705040" cy="380988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5800680" y="5114880"/>
            <a:ext cx="2428920" cy="828720"/>
          </a:xfrm>
          <a:prstGeom prst="wedgeEllipseCallout">
            <a:avLst>
              <a:gd name="adj1" fmla="val 1763"/>
              <a:gd name="adj2" fmla="val -11341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905040" y="228600"/>
            <a:ext cx="2585880" cy="3828960"/>
            <a:chOff x="905040" y="228600"/>
            <a:chExt cx="2585880" cy="3828960"/>
          </a:xfrm>
        </p:grpSpPr>
        <p:sp>
          <p:nvSpPr>
            <p:cNvPr id="4131" name=""/>
            <p:cNvSpPr/>
            <p:nvPr/>
          </p:nvSpPr>
          <p:spPr>
            <a:xfrm>
              <a:off x="1936800" y="353844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336400" y="3309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732680" y="338616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555560" y="117648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rot="21233400">
              <a:off x="1101600" y="2014200"/>
              <a:ext cx="582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rot="30000">
              <a:off x="2782440" y="19378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rot="371400">
              <a:off x="1027440" y="3517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rot="21584400">
              <a:off x="2859480" y="4284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2200320" y="2617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200320" y="163368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460680" y="148104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317680" y="5191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280240" y="56664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946080" y="1465200"/>
              <a:ext cx="0" cy="19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5" name=""/>
            <p:cNvGrpSpPr/>
            <p:nvPr/>
          </p:nvGrpSpPr>
          <p:grpSpPr>
            <a:xfrm>
              <a:off x="2166480" y="1469520"/>
              <a:ext cx="1233720" cy="1232280"/>
              <a:chOff x="2166480" y="1469520"/>
              <a:chExt cx="1233720" cy="1232280"/>
            </a:xfrm>
          </p:grpSpPr>
          <p:sp>
            <p:nvSpPr>
              <p:cNvPr id="4146" name=""/>
              <p:cNvSpPr/>
              <p:nvPr/>
            </p:nvSpPr>
            <p:spPr>
              <a:xfrm flipV="1">
                <a:off x="2927160" y="1469520"/>
                <a:ext cx="4730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H="1">
                <a:off x="2166480" y="2242800"/>
                <a:ext cx="45540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H="1" rot="2700000">
                <a:off x="2693520" y="185256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9" name=""/>
            <p:cNvSpPr/>
            <p:nvPr/>
          </p:nvSpPr>
          <p:spPr>
            <a:xfrm>
              <a:off x="3400560" y="14414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138400" y="2286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905040" y="14414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rot="5400000">
              <a:off x="2012760" y="3193920"/>
              <a:ext cx="389160" cy="38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 flipH="1">
              <a:off x="945720" y="3386160"/>
              <a:ext cx="252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4" name=""/>
            <p:cNvGrpSpPr/>
            <p:nvPr/>
          </p:nvGrpSpPr>
          <p:grpSpPr>
            <a:xfrm>
              <a:off x="945720" y="248760"/>
              <a:ext cx="1233720" cy="1232280"/>
              <a:chOff x="945720" y="248760"/>
              <a:chExt cx="1233720" cy="1232280"/>
            </a:xfrm>
          </p:grpSpPr>
          <p:sp>
            <p:nvSpPr>
              <p:cNvPr id="4155" name=""/>
              <p:cNvSpPr/>
              <p:nvPr/>
            </p:nvSpPr>
            <p:spPr>
              <a:xfrm flipV="1">
                <a:off x="1706400" y="248760"/>
                <a:ext cx="4730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H="1">
                <a:off x="945720" y="1022040"/>
                <a:ext cx="45540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H="1" rot="2700000">
                <a:off x="1472760" y="63180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8" name=""/>
            <p:cNvGrpSpPr/>
            <p:nvPr/>
          </p:nvGrpSpPr>
          <p:grpSpPr>
            <a:xfrm>
              <a:off x="945720" y="1481040"/>
              <a:ext cx="1232280" cy="1233720"/>
              <a:chOff x="945720" y="1481040"/>
              <a:chExt cx="1232280" cy="1233720"/>
            </a:xfrm>
          </p:grpSpPr>
          <p:sp>
            <p:nvSpPr>
              <p:cNvPr id="4159" name=""/>
              <p:cNvSpPr/>
              <p:nvPr/>
            </p:nvSpPr>
            <p:spPr>
              <a:xfrm flipH="1" flipV="1">
                <a:off x="945720" y="1481040"/>
                <a:ext cx="468360" cy="4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1719000" y="2259360"/>
                <a:ext cx="459000" cy="45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H="1" rot="18900000">
                <a:off x="1488960" y="189072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2" name=""/>
            <p:cNvGrpSpPr/>
            <p:nvPr/>
          </p:nvGrpSpPr>
          <p:grpSpPr>
            <a:xfrm>
              <a:off x="2228400" y="262080"/>
              <a:ext cx="1232280" cy="1233720"/>
              <a:chOff x="2228400" y="262080"/>
              <a:chExt cx="1232280" cy="1233720"/>
            </a:xfrm>
          </p:grpSpPr>
          <p:sp>
            <p:nvSpPr>
              <p:cNvPr id="4163" name=""/>
              <p:cNvSpPr/>
              <p:nvPr/>
            </p:nvSpPr>
            <p:spPr>
              <a:xfrm flipH="1" flipV="1">
                <a:off x="2228400" y="262080"/>
                <a:ext cx="468360" cy="4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001680" y="1040400"/>
                <a:ext cx="459000" cy="45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H="1" rot="18900000">
                <a:off x="2771640" y="67176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6" name=""/>
            <p:cNvSpPr/>
            <p:nvPr/>
          </p:nvSpPr>
          <p:spPr>
            <a:xfrm rot="5400000">
              <a:off x="2012760" y="1252440"/>
              <a:ext cx="389160" cy="38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152800" y="266220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200320" y="1316160"/>
              <a:ext cx="0" cy="30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9" name=""/>
          <p:cNvSpPr/>
          <p:nvPr/>
        </p:nvSpPr>
        <p:spPr>
          <a:xfrm>
            <a:off x="2226960" y="1495440"/>
            <a:ext cx="5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0" name=""/>
          <p:cNvGrpSpPr/>
          <p:nvPr/>
        </p:nvGrpSpPr>
        <p:grpSpPr>
          <a:xfrm>
            <a:off x="5067360" y="762120"/>
            <a:ext cx="3924720" cy="4038480"/>
            <a:chOff x="5067360" y="762120"/>
            <a:chExt cx="3924720" cy="4038480"/>
          </a:xfrm>
        </p:grpSpPr>
        <p:sp>
          <p:nvSpPr>
            <p:cNvPr id="4171" name=""/>
            <p:cNvSpPr/>
            <p:nvPr/>
          </p:nvSpPr>
          <p:spPr>
            <a:xfrm>
              <a:off x="7716600" y="762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774200" y="3436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996160" y="4281480"/>
              <a:ext cx="547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355800" y="40114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637960" y="407988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8531280" y="205740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rot="21233400">
              <a:off x="5184720" y="2835000"/>
              <a:ext cx="6843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 rot="30000">
              <a:off x="6757560" y="2776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 rot="371400">
              <a:off x="5110200" y="13518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rot="21584400">
              <a:off x="6826320" y="1417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V="1">
              <a:off x="8358120" y="1268280"/>
              <a:ext cx="0" cy="89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358120" y="2502000"/>
              <a:ext cx="0" cy="96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367760" y="2365200"/>
              <a:ext cx="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8462880" y="1498680"/>
              <a:ext cx="0" cy="455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8430120" y="154152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103720" y="2351160"/>
              <a:ext cx="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7" name=""/>
            <p:cNvGrpSpPr/>
            <p:nvPr/>
          </p:nvGrpSpPr>
          <p:grpSpPr>
            <a:xfrm>
              <a:off x="6202440" y="2355840"/>
              <a:ext cx="1109160" cy="1107720"/>
              <a:chOff x="6202440" y="2355840"/>
              <a:chExt cx="1109160" cy="1107720"/>
            </a:xfrm>
          </p:grpSpPr>
          <p:sp>
            <p:nvSpPr>
              <p:cNvPr id="4188" name=""/>
              <p:cNvSpPr/>
              <p:nvPr/>
            </p:nvSpPr>
            <p:spPr>
              <a:xfrm flipV="1">
                <a:off x="6886080" y="2355840"/>
                <a:ext cx="42552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 flipH="1">
                <a:off x="6202440" y="3051000"/>
                <a:ext cx="409680" cy="41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 flipH="1" rot="2700000">
                <a:off x="6676560" y="2699640"/>
                <a:ext cx="122040" cy="41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1" name=""/>
            <p:cNvSpPr/>
            <p:nvPr/>
          </p:nvSpPr>
          <p:spPr>
            <a:xfrm>
              <a:off x="7311960" y="2328840"/>
              <a:ext cx="8244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176880" y="1238400"/>
              <a:ext cx="810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067360" y="2328840"/>
              <a:ext cx="8100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rot="5400000">
              <a:off x="5977800" y="3868560"/>
              <a:ext cx="43200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5103720" y="4079880"/>
              <a:ext cx="227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6" name=""/>
            <p:cNvGrpSpPr/>
            <p:nvPr/>
          </p:nvGrpSpPr>
          <p:grpSpPr>
            <a:xfrm>
              <a:off x="5103360" y="1255320"/>
              <a:ext cx="1111680" cy="1109520"/>
              <a:chOff x="5103360" y="1255320"/>
              <a:chExt cx="1111680" cy="1109520"/>
            </a:xfrm>
          </p:grpSpPr>
          <p:sp>
            <p:nvSpPr>
              <p:cNvPr id="4197" name=""/>
              <p:cNvSpPr/>
              <p:nvPr/>
            </p:nvSpPr>
            <p:spPr>
              <a:xfrm flipV="1">
                <a:off x="5788800" y="1255320"/>
                <a:ext cx="426240" cy="42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H="1">
                <a:off x="5103360" y="1951560"/>
                <a:ext cx="410040" cy="41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H="1" rot="2700000">
                <a:off x="5577840" y="1599840"/>
                <a:ext cx="122760" cy="411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0" name=""/>
            <p:cNvGrpSpPr/>
            <p:nvPr/>
          </p:nvGrpSpPr>
          <p:grpSpPr>
            <a:xfrm>
              <a:off x="5103720" y="2365200"/>
              <a:ext cx="1109520" cy="1109520"/>
              <a:chOff x="5103720" y="2365200"/>
              <a:chExt cx="1109520" cy="1109520"/>
            </a:xfrm>
          </p:grpSpPr>
          <p:sp>
            <p:nvSpPr>
              <p:cNvPr id="4201" name=""/>
              <p:cNvSpPr/>
              <p:nvPr/>
            </p:nvSpPr>
            <p:spPr>
              <a:xfrm flipH="1" flipV="1">
                <a:off x="5103720" y="2365200"/>
                <a:ext cx="42192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5799960" y="3065040"/>
                <a:ext cx="413280" cy="4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 flipH="1" rot="18900000">
                <a:off x="5592600" y="2733480"/>
                <a:ext cx="122760" cy="411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4" name=""/>
            <p:cNvSpPr/>
            <p:nvPr/>
          </p:nvSpPr>
          <p:spPr>
            <a:xfrm flipH="1" flipV="1">
              <a:off x="6256080" y="1268280"/>
              <a:ext cx="42228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953400" y="1968480"/>
              <a:ext cx="41256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H="1" rot="18900000">
              <a:off x="6746040" y="1634400"/>
              <a:ext cx="122040" cy="41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 rot="5400000">
              <a:off x="8187840" y="2158920"/>
              <a:ext cx="351000" cy="35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189840" y="3429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8358120" y="2216160"/>
              <a:ext cx="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267600" y="1255680"/>
              <a:ext cx="21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 flipV="1">
              <a:off x="6199200" y="3429000"/>
              <a:ext cx="21826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8322840" y="2438280"/>
              <a:ext cx="57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7848720" y="1219320"/>
              <a:ext cx="9972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848720" y="336708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6" dur="500"/>
                                        <p:tgtEl>
                                          <p:spTgt spid="4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5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500"/>
                            </p:stCondLst>
                            <p:childTnLst>
                              <p:par>
                                <p:cTn id="2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4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"/>
          <p:cNvSpPr/>
          <p:nvPr/>
        </p:nvSpPr>
        <p:spPr>
          <a:xfrm>
            <a:off x="618840" y="181080"/>
            <a:ext cx="301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 (1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开路电压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569960" y="3429000"/>
            <a:ext cx="48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7" name=""/>
          <p:cNvGrpSpPr/>
          <p:nvPr/>
        </p:nvGrpSpPr>
        <p:grpSpPr>
          <a:xfrm>
            <a:off x="737280" y="609480"/>
            <a:ext cx="3299400" cy="3155400"/>
            <a:chOff x="737280" y="609480"/>
            <a:chExt cx="3299400" cy="3155400"/>
          </a:xfrm>
        </p:grpSpPr>
        <p:sp>
          <p:nvSpPr>
            <p:cNvPr id="4218" name=""/>
            <p:cNvSpPr/>
            <p:nvPr/>
          </p:nvSpPr>
          <p:spPr>
            <a:xfrm>
              <a:off x="3258720" y="15098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124080" y="747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124080" y="2347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60180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657960" y="2576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915560" y="32446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294560" y="330660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 rot="21233400">
              <a:off x="840960" y="2193480"/>
              <a:ext cx="731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rot="30000">
              <a:off x="2272680" y="21474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rot="371400">
              <a:off x="766800" y="823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rot="21584400">
              <a:off x="2335320" y="9396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814480" y="178272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803160" y="1770120"/>
              <a:ext cx="0" cy="153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609920" y="12193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608120" y="1738440"/>
              <a:ext cx="407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3" name=""/>
            <p:cNvGrpSpPr/>
            <p:nvPr/>
          </p:nvGrpSpPr>
          <p:grpSpPr>
            <a:xfrm>
              <a:off x="1779120" y="1773000"/>
              <a:ext cx="986040" cy="985680"/>
              <a:chOff x="1779120" y="1773000"/>
              <a:chExt cx="986040" cy="985680"/>
            </a:xfrm>
          </p:grpSpPr>
          <p:sp>
            <p:nvSpPr>
              <p:cNvPr id="4234" name=""/>
              <p:cNvSpPr/>
              <p:nvPr/>
            </p:nvSpPr>
            <p:spPr>
              <a:xfrm flipV="1">
                <a:off x="2387160" y="1773000"/>
                <a:ext cx="37800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 flipH="1">
                <a:off x="1779120" y="2391480"/>
                <a:ext cx="363960" cy="36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 flipH="1" rot="2700000">
                <a:off x="2200320" y="207936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7" name=""/>
            <p:cNvSpPr/>
            <p:nvPr/>
          </p:nvSpPr>
          <p:spPr>
            <a:xfrm>
              <a:off x="2765520" y="175104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755720" y="7794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70040" y="1751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 rot="5400000">
              <a:off x="1655280" y="3152520"/>
              <a:ext cx="311040" cy="311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 flipH="1">
              <a:off x="802800" y="3306600"/>
              <a:ext cx="201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2" name=""/>
            <p:cNvGrpSpPr/>
            <p:nvPr/>
          </p:nvGrpSpPr>
          <p:grpSpPr>
            <a:xfrm>
              <a:off x="802800" y="795240"/>
              <a:ext cx="986040" cy="987480"/>
              <a:chOff x="802800" y="795240"/>
              <a:chExt cx="986040" cy="987480"/>
            </a:xfrm>
          </p:grpSpPr>
          <p:sp>
            <p:nvSpPr>
              <p:cNvPr id="4243" name=""/>
              <p:cNvSpPr/>
              <p:nvPr/>
            </p:nvSpPr>
            <p:spPr>
              <a:xfrm flipV="1">
                <a:off x="1410840" y="79524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802800" y="1414800"/>
                <a:ext cx="363960" cy="36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 rot="2700000">
                <a:off x="1224000" y="110160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6" name=""/>
            <p:cNvGrpSpPr/>
            <p:nvPr/>
          </p:nvGrpSpPr>
          <p:grpSpPr>
            <a:xfrm>
              <a:off x="802800" y="1782720"/>
              <a:ext cx="984240" cy="986040"/>
              <a:chOff x="802800" y="1782720"/>
              <a:chExt cx="984240" cy="986040"/>
            </a:xfrm>
          </p:grpSpPr>
          <p:sp>
            <p:nvSpPr>
              <p:cNvPr id="4247" name=""/>
              <p:cNvSpPr/>
              <p:nvPr/>
            </p:nvSpPr>
            <p:spPr>
              <a:xfrm flipH="1" flipV="1">
                <a:off x="802800" y="178272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1420560" y="240480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 rot="18900000">
                <a:off x="1236240" y="211032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0" name=""/>
            <p:cNvGrpSpPr/>
            <p:nvPr/>
          </p:nvGrpSpPr>
          <p:grpSpPr>
            <a:xfrm>
              <a:off x="1828440" y="806040"/>
              <a:ext cx="985680" cy="987480"/>
              <a:chOff x="1828440" y="806040"/>
              <a:chExt cx="985680" cy="987480"/>
            </a:xfrm>
          </p:grpSpPr>
          <p:sp>
            <p:nvSpPr>
              <p:cNvPr id="4251" name=""/>
              <p:cNvSpPr/>
              <p:nvPr/>
            </p:nvSpPr>
            <p:spPr>
              <a:xfrm flipH="1" flipV="1">
                <a:off x="1828440" y="806040"/>
                <a:ext cx="374760" cy="37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2446920" y="1429200"/>
                <a:ext cx="36720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 rot="18900000">
                <a:off x="2262960" y="113436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4" name=""/>
            <p:cNvSpPr/>
            <p:nvPr/>
          </p:nvSpPr>
          <p:spPr>
            <a:xfrm>
              <a:off x="1768320" y="272736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752480" y="82404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828800" y="28051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505320" y="277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505320" y="79200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273320" y="1281240"/>
              <a:ext cx="1089000" cy="306360"/>
            </a:xfrm>
            <a:custGeom>
              <a:avLst/>
              <a:gdLst/>
              <a:ahLst/>
              <a:rect l="l" t="t" r="r" b="b"/>
              <a:pathLst>
                <a:path w="686" h="193">
                  <a:moveTo>
                    <a:pt x="0" y="172"/>
                  </a:moveTo>
                  <a:cubicBezTo>
                    <a:pt x="1" y="166"/>
                    <a:pt x="4" y="145"/>
                    <a:pt x="9" y="135"/>
                  </a:cubicBezTo>
                  <a:cubicBezTo>
                    <a:pt x="14" y="125"/>
                    <a:pt x="18" y="122"/>
                    <a:pt x="28" y="110"/>
                  </a:cubicBezTo>
                  <a:cubicBezTo>
                    <a:pt x="38" y="98"/>
                    <a:pt x="52" y="79"/>
                    <a:pt x="70" y="65"/>
                  </a:cubicBezTo>
                  <a:cubicBezTo>
                    <a:pt x="88" y="51"/>
                    <a:pt x="114" y="36"/>
                    <a:pt x="134" y="28"/>
                  </a:cubicBezTo>
                  <a:cubicBezTo>
                    <a:pt x="154" y="20"/>
                    <a:pt x="173" y="22"/>
                    <a:pt x="188" y="19"/>
                  </a:cubicBezTo>
                  <a:cubicBezTo>
                    <a:pt x="203" y="16"/>
                    <a:pt x="211" y="13"/>
                    <a:pt x="225" y="10"/>
                  </a:cubicBezTo>
                  <a:cubicBezTo>
                    <a:pt x="239" y="7"/>
                    <a:pt x="255" y="2"/>
                    <a:pt x="270" y="1"/>
                  </a:cubicBezTo>
                  <a:cubicBezTo>
                    <a:pt x="285" y="0"/>
                    <a:pt x="301" y="1"/>
                    <a:pt x="316" y="1"/>
                  </a:cubicBezTo>
                  <a:cubicBezTo>
                    <a:pt x="331" y="1"/>
                    <a:pt x="346" y="1"/>
                    <a:pt x="361" y="1"/>
                  </a:cubicBezTo>
                  <a:cubicBezTo>
                    <a:pt x="376" y="1"/>
                    <a:pt x="391" y="0"/>
                    <a:pt x="406" y="1"/>
                  </a:cubicBezTo>
                  <a:cubicBezTo>
                    <a:pt x="421" y="2"/>
                    <a:pt x="435" y="7"/>
                    <a:pt x="452" y="10"/>
                  </a:cubicBezTo>
                  <a:cubicBezTo>
                    <a:pt x="469" y="13"/>
                    <a:pt x="492" y="13"/>
                    <a:pt x="506" y="19"/>
                  </a:cubicBezTo>
                  <a:cubicBezTo>
                    <a:pt x="520" y="25"/>
                    <a:pt x="520" y="36"/>
                    <a:pt x="534" y="46"/>
                  </a:cubicBezTo>
                  <a:cubicBezTo>
                    <a:pt x="548" y="56"/>
                    <a:pt x="566" y="57"/>
                    <a:pt x="591" y="81"/>
                  </a:cubicBezTo>
                  <a:cubicBezTo>
                    <a:pt x="616" y="105"/>
                    <a:pt x="686" y="193"/>
                    <a:pt x="681" y="190"/>
                  </a:cubicBezTo>
                  <a:cubicBezTo>
                    <a:pt x="676" y="187"/>
                    <a:pt x="563" y="63"/>
                    <a:pt x="563" y="63"/>
                  </a:cubicBezTo>
                  <a:cubicBezTo>
                    <a:pt x="563" y="63"/>
                    <a:pt x="656" y="163"/>
                    <a:pt x="681" y="19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V="1">
              <a:off x="1219320" y="1964520"/>
              <a:ext cx="1089000" cy="306360"/>
            </a:xfrm>
            <a:custGeom>
              <a:avLst/>
              <a:gdLst/>
              <a:ahLst/>
              <a:rect l="l" t="t" r="r" b="b"/>
              <a:pathLst>
                <a:path w="686" h="193">
                  <a:moveTo>
                    <a:pt x="0" y="172"/>
                  </a:moveTo>
                  <a:cubicBezTo>
                    <a:pt x="1" y="166"/>
                    <a:pt x="4" y="145"/>
                    <a:pt x="9" y="135"/>
                  </a:cubicBezTo>
                  <a:cubicBezTo>
                    <a:pt x="14" y="125"/>
                    <a:pt x="18" y="122"/>
                    <a:pt x="28" y="110"/>
                  </a:cubicBezTo>
                  <a:cubicBezTo>
                    <a:pt x="38" y="98"/>
                    <a:pt x="52" y="79"/>
                    <a:pt x="70" y="65"/>
                  </a:cubicBezTo>
                  <a:cubicBezTo>
                    <a:pt x="88" y="51"/>
                    <a:pt x="114" y="36"/>
                    <a:pt x="134" y="28"/>
                  </a:cubicBezTo>
                  <a:cubicBezTo>
                    <a:pt x="154" y="20"/>
                    <a:pt x="173" y="22"/>
                    <a:pt x="188" y="19"/>
                  </a:cubicBezTo>
                  <a:cubicBezTo>
                    <a:pt x="203" y="16"/>
                    <a:pt x="211" y="13"/>
                    <a:pt x="225" y="10"/>
                  </a:cubicBezTo>
                  <a:cubicBezTo>
                    <a:pt x="239" y="7"/>
                    <a:pt x="255" y="2"/>
                    <a:pt x="270" y="1"/>
                  </a:cubicBezTo>
                  <a:cubicBezTo>
                    <a:pt x="285" y="0"/>
                    <a:pt x="301" y="1"/>
                    <a:pt x="316" y="1"/>
                  </a:cubicBezTo>
                  <a:cubicBezTo>
                    <a:pt x="331" y="1"/>
                    <a:pt x="346" y="1"/>
                    <a:pt x="361" y="1"/>
                  </a:cubicBezTo>
                  <a:cubicBezTo>
                    <a:pt x="376" y="1"/>
                    <a:pt x="391" y="0"/>
                    <a:pt x="406" y="1"/>
                  </a:cubicBezTo>
                  <a:cubicBezTo>
                    <a:pt x="421" y="2"/>
                    <a:pt x="435" y="7"/>
                    <a:pt x="452" y="10"/>
                  </a:cubicBezTo>
                  <a:cubicBezTo>
                    <a:pt x="469" y="13"/>
                    <a:pt x="492" y="13"/>
                    <a:pt x="506" y="19"/>
                  </a:cubicBezTo>
                  <a:cubicBezTo>
                    <a:pt x="520" y="25"/>
                    <a:pt x="520" y="36"/>
                    <a:pt x="534" y="46"/>
                  </a:cubicBezTo>
                  <a:cubicBezTo>
                    <a:pt x="548" y="56"/>
                    <a:pt x="566" y="57"/>
                    <a:pt x="591" y="81"/>
                  </a:cubicBezTo>
                  <a:cubicBezTo>
                    <a:pt x="616" y="105"/>
                    <a:pt x="686" y="193"/>
                    <a:pt x="681" y="190"/>
                  </a:cubicBezTo>
                  <a:cubicBezTo>
                    <a:pt x="676" y="187"/>
                    <a:pt x="563" y="63"/>
                    <a:pt x="563" y="63"/>
                  </a:cubicBezTo>
                  <a:cubicBezTo>
                    <a:pt x="563" y="63"/>
                    <a:pt x="656" y="163"/>
                    <a:pt x="681" y="19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1" name=""/>
              <p:cNvSpPr txBox="1"/>
              <p:nvPr/>
            </p:nvSpPr>
            <p:spPr>
              <a:xfrm>
                <a:off x="4413240" y="360360"/>
                <a:ext cx="3740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2" name=""/>
              <p:cNvSpPr txBox="1"/>
              <p:nvPr/>
            </p:nvSpPr>
            <p:spPr>
              <a:xfrm>
                <a:off x="4386240" y="1295280"/>
                <a:ext cx="39956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3" name=""/>
          <p:cNvSpPr/>
          <p:nvPr/>
        </p:nvSpPr>
        <p:spPr>
          <a:xfrm>
            <a:off x="4343400" y="2286000"/>
            <a:ext cx="4800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'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.2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5V–0.8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5 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3809880" y="3200400"/>
            <a:ext cx="5181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'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.8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0V–1.2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380880" y="38098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等效电源的内阻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 flipH="1">
            <a:off x="879120" y="688824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7" name=""/>
          <p:cNvGrpSpPr/>
          <p:nvPr/>
        </p:nvGrpSpPr>
        <p:grpSpPr>
          <a:xfrm>
            <a:off x="813600" y="4191120"/>
            <a:ext cx="3299040" cy="2487240"/>
            <a:chOff x="813600" y="4191120"/>
            <a:chExt cx="3299040" cy="2487240"/>
          </a:xfrm>
        </p:grpSpPr>
        <p:sp>
          <p:nvSpPr>
            <p:cNvPr id="4268" name=""/>
            <p:cNvSpPr/>
            <p:nvPr/>
          </p:nvSpPr>
          <p:spPr>
            <a:xfrm>
              <a:off x="3431520" y="5334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678120" y="4191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733920" y="61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rot="21233400">
              <a:off x="917280" y="5775120"/>
              <a:ext cx="731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rot="30000">
              <a:off x="2349000" y="572904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 rot="371400">
              <a:off x="843120" y="44046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rot="21584400">
              <a:off x="2411640" y="45208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5" name=""/>
            <p:cNvGrpSpPr/>
            <p:nvPr/>
          </p:nvGrpSpPr>
          <p:grpSpPr>
            <a:xfrm>
              <a:off x="1855440" y="5354280"/>
              <a:ext cx="985680" cy="985680"/>
              <a:chOff x="1855440" y="5354280"/>
              <a:chExt cx="985680" cy="985680"/>
            </a:xfrm>
          </p:grpSpPr>
          <p:sp>
            <p:nvSpPr>
              <p:cNvPr id="4276" name=""/>
              <p:cNvSpPr/>
              <p:nvPr/>
            </p:nvSpPr>
            <p:spPr>
              <a:xfrm flipV="1">
                <a:off x="2463120" y="5354280"/>
                <a:ext cx="37800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>
                <a:off x="1855440" y="5972760"/>
                <a:ext cx="363960" cy="36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flipH="1" rot="2700000">
                <a:off x="2276640" y="566064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9" name=""/>
            <p:cNvSpPr/>
            <p:nvPr/>
          </p:nvSpPr>
          <p:spPr>
            <a:xfrm>
              <a:off x="2841480" y="533232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832040" y="43610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846000" y="533232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2" name=""/>
            <p:cNvGrpSpPr/>
            <p:nvPr/>
          </p:nvGrpSpPr>
          <p:grpSpPr>
            <a:xfrm>
              <a:off x="879120" y="4376880"/>
              <a:ext cx="985680" cy="986760"/>
              <a:chOff x="879120" y="4376880"/>
              <a:chExt cx="985680" cy="986760"/>
            </a:xfrm>
          </p:grpSpPr>
          <p:sp>
            <p:nvSpPr>
              <p:cNvPr id="4283" name=""/>
              <p:cNvSpPr/>
              <p:nvPr/>
            </p:nvSpPr>
            <p:spPr>
              <a:xfrm flipV="1">
                <a:off x="1486800" y="437688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H="1">
                <a:off x="879120" y="4996080"/>
                <a:ext cx="363960" cy="36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 rot="2700000">
                <a:off x="1299960" y="468288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6" name=""/>
            <p:cNvGrpSpPr/>
            <p:nvPr/>
          </p:nvGrpSpPr>
          <p:grpSpPr>
            <a:xfrm>
              <a:off x="879120" y="5364000"/>
              <a:ext cx="984240" cy="986040"/>
              <a:chOff x="879120" y="5364000"/>
              <a:chExt cx="984240" cy="986040"/>
            </a:xfrm>
          </p:grpSpPr>
          <p:sp>
            <p:nvSpPr>
              <p:cNvPr id="4287" name=""/>
              <p:cNvSpPr/>
              <p:nvPr/>
            </p:nvSpPr>
            <p:spPr>
              <a:xfrm flipH="1" flipV="1">
                <a:off x="879120" y="536400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1496880" y="598608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H="1" rot="18900000">
                <a:off x="1312560" y="569160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0" name=""/>
            <p:cNvGrpSpPr/>
            <p:nvPr/>
          </p:nvGrpSpPr>
          <p:grpSpPr>
            <a:xfrm>
              <a:off x="1904760" y="4387320"/>
              <a:ext cx="985680" cy="987480"/>
              <a:chOff x="1904760" y="4387320"/>
              <a:chExt cx="985680" cy="987480"/>
            </a:xfrm>
          </p:grpSpPr>
          <p:sp>
            <p:nvSpPr>
              <p:cNvPr id="4291" name=""/>
              <p:cNvSpPr/>
              <p:nvPr/>
            </p:nvSpPr>
            <p:spPr>
              <a:xfrm flipH="1" flipV="1">
                <a:off x="1904760" y="4387320"/>
                <a:ext cx="374760" cy="37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2523240" y="5010480"/>
                <a:ext cx="36720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 flipH="1" rot="18900000">
                <a:off x="2339280" y="471564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4" name=""/>
            <p:cNvSpPr/>
            <p:nvPr/>
          </p:nvSpPr>
          <p:spPr>
            <a:xfrm>
              <a:off x="1844640" y="630864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28800" y="44053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905120" y="638640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581280" y="635472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581280" y="43736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914400" y="5334120"/>
              <a:ext cx="198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H="1">
              <a:off x="3352680" y="5029200"/>
              <a:ext cx="533520" cy="39996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00080 h 399960"/>
                <a:gd name="textAreaBottom" fmla="*/ 30024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10800000"/>
            </a:gra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1" name=""/>
          <p:cNvSpPr/>
          <p:nvPr/>
        </p:nvSpPr>
        <p:spPr>
          <a:xfrm>
            <a:off x="4267080" y="4191120"/>
            <a:ext cx="4953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看进去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并联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并联，然后再串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2" name=""/>
              <p:cNvSpPr txBox="1"/>
              <p:nvPr/>
            </p:nvSpPr>
            <p:spPr>
              <a:xfrm>
                <a:off x="4254480" y="5070600"/>
                <a:ext cx="46609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所以</m:t>
                        </m:r>
                        <m:r>
                          <m:t xml:space="preserve">，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0" dur="indefinite" restart="never" nodeType="tmRoot">
          <p:childTnLst>
            <p:seq>
              <p:cTn id="2421" dur="indefinite" nodeType="mainSeq">
                <p:childTnLst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4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4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500"/>
                                        <p:tgtEl>
                                          <p:spTgt spid="4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1" dur="5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4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1" dur="500"/>
                                        <p:tgtEl>
                                          <p:spTgt spid="4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"/>
          <p:cNvSpPr/>
          <p:nvPr/>
        </p:nvSpPr>
        <p:spPr>
          <a:xfrm>
            <a:off x="457200" y="443376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画出等效电路求检流计中的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5029200" y="167652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5" name=""/>
              <p:cNvSpPr txBox="1"/>
              <p:nvPr/>
            </p:nvSpPr>
            <p:spPr>
              <a:xfrm>
                <a:off x="1565280" y="4932360"/>
                <a:ext cx="4979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6" name=""/>
          <p:cNvGrpSpPr/>
          <p:nvPr/>
        </p:nvGrpSpPr>
        <p:grpSpPr>
          <a:xfrm>
            <a:off x="5562720" y="471600"/>
            <a:ext cx="3413880" cy="2730240"/>
            <a:chOff x="5562720" y="471600"/>
            <a:chExt cx="3413880" cy="2730240"/>
          </a:xfrm>
        </p:grpSpPr>
        <p:sp>
          <p:nvSpPr>
            <p:cNvPr id="4307" name=""/>
            <p:cNvSpPr/>
            <p:nvPr/>
          </p:nvSpPr>
          <p:spPr>
            <a:xfrm>
              <a:off x="6048720" y="2009880"/>
              <a:ext cx="426960" cy="41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248520" y="1005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80560" y="2681280"/>
              <a:ext cx="179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248520" y="1766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145560" y="1324080"/>
              <a:ext cx="198360" cy="43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5562720" y="20098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639040" y="122580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250320" y="1629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249960" y="2086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8077320" y="19954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54720" y="1462320"/>
              <a:ext cx="57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8077320" y="1005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012080" y="47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162920" y="9651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7196400" y="263844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7088760" y="26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8425080" y="1600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8497080" y="146232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248520" y="1005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7848720" y="1538280"/>
              <a:ext cx="449280" cy="449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8075880" y="1603440"/>
              <a:ext cx="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8" name=""/>
          <p:cNvSpPr/>
          <p:nvPr/>
        </p:nvSpPr>
        <p:spPr>
          <a:xfrm>
            <a:off x="723960" y="457200"/>
            <a:ext cx="2705040" cy="380988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9" name=""/>
          <p:cNvGrpSpPr/>
          <p:nvPr/>
        </p:nvGrpSpPr>
        <p:grpSpPr>
          <a:xfrm>
            <a:off x="914400" y="182520"/>
            <a:ext cx="3924720" cy="4038480"/>
            <a:chOff x="914400" y="182520"/>
            <a:chExt cx="3924720" cy="4038480"/>
          </a:xfrm>
        </p:grpSpPr>
        <p:sp>
          <p:nvSpPr>
            <p:cNvPr id="4330" name=""/>
            <p:cNvSpPr/>
            <p:nvPr/>
          </p:nvSpPr>
          <p:spPr>
            <a:xfrm>
              <a:off x="3563640" y="18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621240" y="2857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843200" y="3701880"/>
              <a:ext cx="547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202840" y="3431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485000" y="350028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378320" y="147780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rot="21233400">
              <a:off x="1031760" y="2255400"/>
              <a:ext cx="6843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rot="30000">
              <a:off x="2604600" y="21967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rot="371400">
              <a:off x="957240" y="7722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rot="21584400">
              <a:off x="2673360" y="8377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4205160" y="688680"/>
              <a:ext cx="0" cy="89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205160" y="1922400"/>
              <a:ext cx="0" cy="96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214800" y="1785600"/>
              <a:ext cx="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4309920" y="919080"/>
              <a:ext cx="0" cy="455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4277160" y="96192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950760" y="1771560"/>
              <a:ext cx="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6" name=""/>
            <p:cNvGrpSpPr/>
            <p:nvPr/>
          </p:nvGrpSpPr>
          <p:grpSpPr>
            <a:xfrm>
              <a:off x="2049480" y="1776240"/>
              <a:ext cx="1109160" cy="1107720"/>
              <a:chOff x="2049480" y="1776240"/>
              <a:chExt cx="1109160" cy="1107720"/>
            </a:xfrm>
          </p:grpSpPr>
          <p:sp>
            <p:nvSpPr>
              <p:cNvPr id="4347" name=""/>
              <p:cNvSpPr/>
              <p:nvPr/>
            </p:nvSpPr>
            <p:spPr>
              <a:xfrm flipV="1">
                <a:off x="2733120" y="1776240"/>
                <a:ext cx="42552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>
                <a:off x="2049480" y="2471400"/>
                <a:ext cx="409680" cy="41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H="1" rot="2700000">
                <a:off x="2523600" y="2120040"/>
                <a:ext cx="122040" cy="41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0" name=""/>
            <p:cNvSpPr/>
            <p:nvPr/>
          </p:nvSpPr>
          <p:spPr>
            <a:xfrm>
              <a:off x="3159000" y="1749240"/>
              <a:ext cx="8244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023920" y="658800"/>
              <a:ext cx="810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914400" y="1749240"/>
              <a:ext cx="8100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rot="5400000">
              <a:off x="1824840" y="3288960"/>
              <a:ext cx="43200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 flipH="1">
              <a:off x="950760" y="3500280"/>
              <a:ext cx="227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5" name=""/>
            <p:cNvGrpSpPr/>
            <p:nvPr/>
          </p:nvGrpSpPr>
          <p:grpSpPr>
            <a:xfrm>
              <a:off x="950400" y="675720"/>
              <a:ext cx="1111680" cy="1109520"/>
              <a:chOff x="950400" y="675720"/>
              <a:chExt cx="1111680" cy="1109520"/>
            </a:xfrm>
          </p:grpSpPr>
          <p:sp>
            <p:nvSpPr>
              <p:cNvPr id="4356" name=""/>
              <p:cNvSpPr/>
              <p:nvPr/>
            </p:nvSpPr>
            <p:spPr>
              <a:xfrm flipV="1">
                <a:off x="1635840" y="675720"/>
                <a:ext cx="426240" cy="42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H="1">
                <a:off x="950400" y="1371960"/>
                <a:ext cx="410040" cy="41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H="1" rot="2700000">
                <a:off x="1424880" y="1020240"/>
                <a:ext cx="122760" cy="411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9" name=""/>
            <p:cNvGrpSpPr/>
            <p:nvPr/>
          </p:nvGrpSpPr>
          <p:grpSpPr>
            <a:xfrm>
              <a:off x="950760" y="1785600"/>
              <a:ext cx="1109520" cy="1109520"/>
              <a:chOff x="950760" y="1785600"/>
              <a:chExt cx="1109520" cy="1109520"/>
            </a:xfrm>
          </p:grpSpPr>
          <p:sp>
            <p:nvSpPr>
              <p:cNvPr id="4360" name=""/>
              <p:cNvSpPr/>
              <p:nvPr/>
            </p:nvSpPr>
            <p:spPr>
              <a:xfrm flipH="1" flipV="1">
                <a:off x="950760" y="1785600"/>
                <a:ext cx="42192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1647000" y="2485440"/>
                <a:ext cx="413280" cy="4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H="1" rot="18900000">
                <a:off x="1439640" y="2153880"/>
                <a:ext cx="122760" cy="411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3" name=""/>
            <p:cNvSpPr/>
            <p:nvPr/>
          </p:nvSpPr>
          <p:spPr>
            <a:xfrm flipH="1" flipV="1">
              <a:off x="2103120" y="688680"/>
              <a:ext cx="42228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2800440" y="1388880"/>
              <a:ext cx="41256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 rot="18900000">
              <a:off x="2593080" y="1054800"/>
              <a:ext cx="122040" cy="41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rot="5400000">
              <a:off x="4034880" y="1579320"/>
              <a:ext cx="351000" cy="35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036880" y="2849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4205160" y="1636560"/>
              <a:ext cx="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2114640" y="676080"/>
              <a:ext cx="21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2046240" y="2849400"/>
              <a:ext cx="21826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169880" y="1858680"/>
              <a:ext cx="57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695760" y="639720"/>
              <a:ext cx="9972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695760" y="278748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"/>
          <p:cNvSpPr/>
          <p:nvPr/>
        </p:nvSpPr>
        <p:spPr>
          <a:xfrm>
            <a:off x="5649840" y="838080"/>
            <a:ext cx="1284480" cy="198144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8" dur="500"/>
                                        <p:tgtEl>
                                          <p:spTgt spid="4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3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500"/>
                            </p:stCondLst>
                            <p:childTnLst>
                              <p:par>
                                <p:cTn id="2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4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1" dur="500"/>
                                        <p:tgtEl>
                                          <p:spTgt spid="4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6" dur="500"/>
                                        <p:tgtEl>
                                          <p:spTgt spid="4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7.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诺顿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4876920" y="1828800"/>
            <a:ext cx="1817640" cy="198108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457200" y="728280"/>
            <a:ext cx="8229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一个有源二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都可以用一个电流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想电流源和内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的电源来等效代替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4191120" y="259092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33520" y="49528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等效电源的内阻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有源二端网络中所有电源均除去（理想电压源短路，理想电流源开路）后所得到的无源二端网络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之间的等效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533520" y="4114800"/>
            <a:ext cx="830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的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有源二端网络的短路电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端短接后其中的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276720" y="3581280"/>
            <a:ext cx="1981080" cy="533520"/>
          </a:xfrm>
          <a:prstGeom prst="wedgeRoundRectCallout">
            <a:avLst>
              <a:gd name="adj1" fmla="val 43671"/>
              <a:gd name="adj2" fmla="val -144046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4812120" y="1447920"/>
            <a:ext cx="3527640" cy="2730240"/>
            <a:chOff x="4812120" y="1447920"/>
            <a:chExt cx="3527640" cy="2730240"/>
          </a:xfrm>
        </p:grpSpPr>
        <p:sp>
          <p:nvSpPr>
            <p:cNvPr id="4383" name=""/>
            <p:cNvSpPr/>
            <p:nvPr/>
          </p:nvSpPr>
          <p:spPr>
            <a:xfrm>
              <a:off x="5334120" y="2590920"/>
              <a:ext cx="426960" cy="412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5562720" y="19810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5562720" y="3657600"/>
              <a:ext cx="21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477120" y="3048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369120" y="2608200"/>
              <a:ext cx="198360" cy="43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5835600" y="251460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696080" y="2971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618320" y="2514600"/>
              <a:ext cx="174600" cy="46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785720" y="245268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9608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858000" y="14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008840" y="194148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042320" y="361476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934320" y="3657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858720" y="1905120"/>
              <a:ext cx="4366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162920" y="1905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7164360" y="14479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562720" y="19810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77120" y="19810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562720" y="301320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334120" y="2819520"/>
              <a:ext cx="41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812120" y="243828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V="1">
              <a:off x="5257800" y="25909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6" name=""/>
          <p:cNvGrpSpPr/>
          <p:nvPr/>
        </p:nvGrpSpPr>
        <p:grpSpPr>
          <a:xfrm>
            <a:off x="1344600" y="1676520"/>
            <a:ext cx="2832840" cy="2179440"/>
            <a:chOff x="1344600" y="1676520"/>
            <a:chExt cx="2832840" cy="2179440"/>
          </a:xfrm>
        </p:grpSpPr>
        <p:sp>
          <p:nvSpPr>
            <p:cNvPr id="4407" name=""/>
            <p:cNvSpPr/>
            <p:nvPr/>
          </p:nvSpPr>
          <p:spPr>
            <a:xfrm>
              <a:off x="1344600" y="2057400"/>
              <a:ext cx="10414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有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二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网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405160" y="2209680"/>
              <a:ext cx="11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2411280" y="33354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54280" y="2986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456000" y="2514600"/>
              <a:ext cx="174600" cy="466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623400" y="253836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55428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2717640" y="1676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2868480" y="2168640"/>
              <a:ext cx="10008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2844720" y="3276720"/>
              <a:ext cx="10008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2708640" y="333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669040" y="2244600"/>
              <a:ext cx="4366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048120" y="2133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108240" y="16905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7" dur="indefinite" restart="never" nodeType="tmRoot">
          <p:childTnLst>
            <p:seq>
              <p:cTn id="2488" dur="indefinite" nodeType="mainSeq">
                <p:childTnLst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3" dur="500"/>
                                        <p:tgtEl>
                                          <p:spTgt spid="4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8" dur="500"/>
                                        <p:tgtEl>
                                          <p:spTgt spid="4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3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7" dur="500"/>
                                        <p:tgtEl>
                                          <p:spTgt spid="4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2" dur="500"/>
                                        <p:tgtEl>
                                          <p:spTgt spid="4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7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2" dur="5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7" dur="500"/>
                                        <p:tgtEl>
                                          <p:spTgt spid="4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3080" y="3962520"/>
            <a:ext cx="43812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2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用诺顿定理求检流计中的电流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cap="rnd" w="3816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4800600" y="990720"/>
            <a:ext cx="2705040" cy="380988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5800680" y="5114880"/>
            <a:ext cx="2428920" cy="828720"/>
          </a:xfrm>
          <a:prstGeom prst="wedgeEllipseCallout">
            <a:avLst>
              <a:gd name="adj1" fmla="val 1763"/>
              <a:gd name="adj2" fmla="val -113412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6" name=""/>
          <p:cNvGrpSpPr/>
          <p:nvPr/>
        </p:nvGrpSpPr>
        <p:grpSpPr>
          <a:xfrm>
            <a:off x="1300320" y="228600"/>
            <a:ext cx="2585880" cy="3828960"/>
            <a:chOff x="1300320" y="228600"/>
            <a:chExt cx="2585880" cy="3828960"/>
          </a:xfrm>
        </p:grpSpPr>
        <p:sp>
          <p:nvSpPr>
            <p:cNvPr id="4427" name=""/>
            <p:cNvSpPr/>
            <p:nvPr/>
          </p:nvSpPr>
          <p:spPr>
            <a:xfrm>
              <a:off x="2332080" y="353844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2731680" y="3309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2127240" y="338616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950840" y="117648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rot="21233400">
              <a:off x="1496880" y="2014200"/>
              <a:ext cx="582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rot="30000">
              <a:off x="3177720" y="19378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rot="371400">
              <a:off x="1422720" y="3517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rot="21584400">
              <a:off x="3254760" y="4284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V="1">
              <a:off x="2595600" y="2617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2595600" y="163368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855960" y="148104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2712960" y="519120"/>
              <a:ext cx="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675520" y="56664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341360" y="1465200"/>
              <a:ext cx="0" cy="19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1" name=""/>
            <p:cNvGrpSpPr/>
            <p:nvPr/>
          </p:nvGrpSpPr>
          <p:grpSpPr>
            <a:xfrm>
              <a:off x="2561760" y="1469520"/>
              <a:ext cx="1233720" cy="1232280"/>
              <a:chOff x="2561760" y="1469520"/>
              <a:chExt cx="1233720" cy="1232280"/>
            </a:xfrm>
          </p:grpSpPr>
          <p:sp>
            <p:nvSpPr>
              <p:cNvPr id="4442" name=""/>
              <p:cNvSpPr/>
              <p:nvPr/>
            </p:nvSpPr>
            <p:spPr>
              <a:xfrm flipV="1">
                <a:off x="3322440" y="1469520"/>
                <a:ext cx="4730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H="1">
                <a:off x="2561760" y="2242800"/>
                <a:ext cx="45540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 rot="2700000">
                <a:off x="3088800" y="185256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5" name=""/>
            <p:cNvSpPr/>
            <p:nvPr/>
          </p:nvSpPr>
          <p:spPr>
            <a:xfrm>
              <a:off x="3795840" y="14414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533680" y="2286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300320" y="14414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rot="5400000">
              <a:off x="2408040" y="3193920"/>
              <a:ext cx="389160" cy="38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>
              <a:off x="1341000" y="3386160"/>
              <a:ext cx="252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0" name=""/>
            <p:cNvGrpSpPr/>
            <p:nvPr/>
          </p:nvGrpSpPr>
          <p:grpSpPr>
            <a:xfrm>
              <a:off x="1341000" y="248760"/>
              <a:ext cx="1233720" cy="1232280"/>
              <a:chOff x="1341000" y="248760"/>
              <a:chExt cx="1233720" cy="1232280"/>
            </a:xfrm>
          </p:grpSpPr>
          <p:sp>
            <p:nvSpPr>
              <p:cNvPr id="4451" name=""/>
              <p:cNvSpPr/>
              <p:nvPr/>
            </p:nvSpPr>
            <p:spPr>
              <a:xfrm flipV="1">
                <a:off x="2101680" y="248760"/>
                <a:ext cx="4730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1341000" y="1022040"/>
                <a:ext cx="45540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 rot="2700000">
                <a:off x="1868040" y="63180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4" name=""/>
            <p:cNvGrpSpPr/>
            <p:nvPr/>
          </p:nvGrpSpPr>
          <p:grpSpPr>
            <a:xfrm>
              <a:off x="1341000" y="1481040"/>
              <a:ext cx="1232280" cy="1233720"/>
              <a:chOff x="1341000" y="1481040"/>
              <a:chExt cx="1232280" cy="1233720"/>
            </a:xfrm>
          </p:grpSpPr>
          <p:sp>
            <p:nvSpPr>
              <p:cNvPr id="4455" name=""/>
              <p:cNvSpPr/>
              <p:nvPr/>
            </p:nvSpPr>
            <p:spPr>
              <a:xfrm flipH="1" flipV="1">
                <a:off x="1341000" y="1481040"/>
                <a:ext cx="468360" cy="4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2114280" y="2259360"/>
                <a:ext cx="459000" cy="45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 rot="18900000">
                <a:off x="1884240" y="189072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8" name=""/>
            <p:cNvGrpSpPr/>
            <p:nvPr/>
          </p:nvGrpSpPr>
          <p:grpSpPr>
            <a:xfrm>
              <a:off x="2623680" y="262080"/>
              <a:ext cx="1232280" cy="1233720"/>
              <a:chOff x="2623680" y="262080"/>
              <a:chExt cx="1232280" cy="1233720"/>
            </a:xfrm>
          </p:grpSpPr>
          <p:sp>
            <p:nvSpPr>
              <p:cNvPr id="4459" name=""/>
              <p:cNvSpPr/>
              <p:nvPr/>
            </p:nvSpPr>
            <p:spPr>
              <a:xfrm flipH="1" flipV="1">
                <a:off x="2623680" y="262080"/>
                <a:ext cx="468360" cy="4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3396960" y="1040400"/>
                <a:ext cx="459000" cy="45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 rot="18900000">
                <a:off x="3166920" y="671760"/>
                <a:ext cx="13644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2" name=""/>
            <p:cNvSpPr/>
            <p:nvPr/>
          </p:nvSpPr>
          <p:spPr>
            <a:xfrm rot="5400000">
              <a:off x="2408040" y="1252440"/>
              <a:ext cx="389160" cy="38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548080" y="266220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595600" y="1316160"/>
              <a:ext cx="0" cy="30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5" name=""/>
          <p:cNvSpPr/>
          <p:nvPr/>
        </p:nvSpPr>
        <p:spPr>
          <a:xfrm>
            <a:off x="2622240" y="1495440"/>
            <a:ext cx="5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6" name=""/>
          <p:cNvGrpSpPr/>
          <p:nvPr/>
        </p:nvGrpSpPr>
        <p:grpSpPr>
          <a:xfrm>
            <a:off x="5067360" y="762120"/>
            <a:ext cx="3924720" cy="4038480"/>
            <a:chOff x="5067360" y="762120"/>
            <a:chExt cx="3924720" cy="4038480"/>
          </a:xfrm>
        </p:grpSpPr>
        <p:sp>
          <p:nvSpPr>
            <p:cNvPr id="4467" name=""/>
            <p:cNvSpPr/>
            <p:nvPr/>
          </p:nvSpPr>
          <p:spPr>
            <a:xfrm>
              <a:off x="7716600" y="762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774200" y="3436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5996160" y="4281480"/>
              <a:ext cx="547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355800" y="40114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5637240" y="407988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8531280" y="205740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rot="21233400">
              <a:off x="5184720" y="2835000"/>
              <a:ext cx="6843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 rot="30000">
              <a:off x="6757560" y="2776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 rot="371400">
              <a:off x="5110200" y="13518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rot="21584400">
              <a:off x="6826320" y="1417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8358120" y="1268280"/>
              <a:ext cx="0" cy="89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8358120" y="2502000"/>
              <a:ext cx="0" cy="96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367760" y="2365200"/>
              <a:ext cx="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8462880" y="1498680"/>
              <a:ext cx="0" cy="455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8430120" y="154152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5103720" y="2351160"/>
              <a:ext cx="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3" name=""/>
            <p:cNvGrpSpPr/>
            <p:nvPr/>
          </p:nvGrpSpPr>
          <p:grpSpPr>
            <a:xfrm>
              <a:off x="6202440" y="2355840"/>
              <a:ext cx="1109160" cy="1107720"/>
              <a:chOff x="6202440" y="2355840"/>
              <a:chExt cx="1109160" cy="1107720"/>
            </a:xfrm>
          </p:grpSpPr>
          <p:sp>
            <p:nvSpPr>
              <p:cNvPr id="4484" name=""/>
              <p:cNvSpPr/>
              <p:nvPr/>
            </p:nvSpPr>
            <p:spPr>
              <a:xfrm flipV="1">
                <a:off x="6886080" y="2355840"/>
                <a:ext cx="42552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>
                <a:off x="6202440" y="3051000"/>
                <a:ext cx="409680" cy="41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H="1" rot="2700000">
                <a:off x="6676560" y="2699640"/>
                <a:ext cx="122040" cy="41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7" name=""/>
            <p:cNvSpPr/>
            <p:nvPr/>
          </p:nvSpPr>
          <p:spPr>
            <a:xfrm>
              <a:off x="7311960" y="2328840"/>
              <a:ext cx="8244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6176880" y="1238400"/>
              <a:ext cx="810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067360" y="2328840"/>
              <a:ext cx="8100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rot="5400000">
              <a:off x="5977800" y="3868560"/>
              <a:ext cx="43200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flipH="1">
              <a:off x="5103720" y="4079880"/>
              <a:ext cx="227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2" name=""/>
            <p:cNvGrpSpPr/>
            <p:nvPr/>
          </p:nvGrpSpPr>
          <p:grpSpPr>
            <a:xfrm>
              <a:off x="5103360" y="1255320"/>
              <a:ext cx="1111680" cy="1109520"/>
              <a:chOff x="5103360" y="1255320"/>
              <a:chExt cx="1111680" cy="1109520"/>
            </a:xfrm>
          </p:grpSpPr>
          <p:sp>
            <p:nvSpPr>
              <p:cNvPr id="4493" name=""/>
              <p:cNvSpPr/>
              <p:nvPr/>
            </p:nvSpPr>
            <p:spPr>
              <a:xfrm flipV="1">
                <a:off x="5788800" y="1255320"/>
                <a:ext cx="426240" cy="42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>
                <a:off x="5103360" y="1951560"/>
                <a:ext cx="410040" cy="41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rot="2700000">
                <a:off x="5577840" y="1599840"/>
                <a:ext cx="122760" cy="411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6" name=""/>
            <p:cNvGrpSpPr/>
            <p:nvPr/>
          </p:nvGrpSpPr>
          <p:grpSpPr>
            <a:xfrm>
              <a:off x="5103720" y="2365200"/>
              <a:ext cx="1109520" cy="1109520"/>
              <a:chOff x="5103720" y="2365200"/>
              <a:chExt cx="1109520" cy="1109520"/>
            </a:xfrm>
          </p:grpSpPr>
          <p:sp>
            <p:nvSpPr>
              <p:cNvPr id="4497" name=""/>
              <p:cNvSpPr/>
              <p:nvPr/>
            </p:nvSpPr>
            <p:spPr>
              <a:xfrm flipH="1" flipV="1">
                <a:off x="5103720" y="2365200"/>
                <a:ext cx="42192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799960" y="3065040"/>
                <a:ext cx="413280" cy="4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H="1" rot="18900000">
                <a:off x="5592600" y="2733480"/>
                <a:ext cx="122760" cy="411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0" name=""/>
            <p:cNvSpPr/>
            <p:nvPr/>
          </p:nvSpPr>
          <p:spPr>
            <a:xfrm flipH="1" flipV="1">
              <a:off x="6256080" y="1268280"/>
              <a:ext cx="42228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6953400" y="1968480"/>
              <a:ext cx="41256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 rot="18900000">
              <a:off x="6746040" y="1634400"/>
              <a:ext cx="122040" cy="41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 rot="5400000">
              <a:off x="8187840" y="2158920"/>
              <a:ext cx="351000" cy="35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189840" y="3429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8358120" y="2216160"/>
              <a:ext cx="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267600" y="1255680"/>
              <a:ext cx="21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 flipV="1">
              <a:off x="6199200" y="3429000"/>
              <a:ext cx="21826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8322840" y="2438280"/>
              <a:ext cx="57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848720" y="1219320"/>
              <a:ext cx="99720" cy="99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848720" y="336708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4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3" dur="500"/>
                                        <p:tgtEl>
                                          <p:spTgt spid="4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7" dur="500"/>
                                        <p:tgtEl>
                                          <p:spTgt spid="4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2860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2.2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星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联结与三角形联结的等效变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4051440"/>
            <a:ext cx="845820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等效变换的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对应端流入或流出的电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一相等，对应端间的电压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也一一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53392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00"/>
                </a:solidFill>
                <a:latin typeface="宋体"/>
              </a:rPr>
              <a:t>经等效变换后，不影响其它部分的电压和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86200" y="914400"/>
            <a:ext cx="4785480" cy="3035160"/>
            <a:chOff x="3886200" y="914400"/>
            <a:chExt cx="4785480" cy="3035160"/>
          </a:xfrm>
        </p:grpSpPr>
        <p:grpSp>
          <p:nvGrpSpPr>
            <p:cNvPr id="336" name=""/>
            <p:cNvGrpSpPr/>
            <p:nvPr/>
          </p:nvGrpSpPr>
          <p:grpSpPr>
            <a:xfrm>
              <a:off x="3886200" y="914400"/>
              <a:ext cx="4785480" cy="3035160"/>
              <a:chOff x="3886200" y="914400"/>
              <a:chExt cx="4785480" cy="3035160"/>
            </a:xfrm>
          </p:grpSpPr>
          <p:sp>
            <p:nvSpPr>
              <p:cNvPr id="337" name=""/>
              <p:cNvSpPr/>
              <p:nvPr/>
            </p:nvSpPr>
            <p:spPr>
              <a:xfrm>
                <a:off x="3886200" y="2220840"/>
                <a:ext cx="1447920" cy="293760"/>
              </a:xfrm>
              <a:prstGeom prst="leftRightArrow">
                <a:avLst>
                  <a:gd name="adj1" fmla="val 50000"/>
                  <a:gd name="adj2" fmla="val 9812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ffff"/>
                  </a:gs>
                  <a:gs pos="100000">
                    <a:srgbClr val="ff3300"/>
                  </a:gs>
                </a:gsLst>
                <a:lin ang="8100000"/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87280" y="1728720"/>
                <a:ext cx="133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99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3399"/>
                    </a:solidFill>
                    <a:latin typeface="楷体_GB2312"/>
                    <a:ea typeface="楷体_GB2312"/>
                  </a:rPr>
                  <a:t>等效变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570640" y="914400"/>
                <a:ext cx="3101040" cy="3035160"/>
                <a:chOff x="5570640" y="914400"/>
                <a:chExt cx="3101040" cy="3035160"/>
              </a:xfrm>
            </p:grpSpPr>
            <p:sp>
              <p:nvSpPr>
                <p:cNvPr id="340" name=""/>
                <p:cNvSpPr/>
                <p:nvPr/>
              </p:nvSpPr>
              <p:spPr>
                <a:xfrm rot="5400000">
                  <a:off x="7317720" y="2785320"/>
                  <a:ext cx="179280" cy="3556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638320" y="2946240"/>
                  <a:ext cx="160020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85200" y="2949480"/>
                  <a:ext cx="72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8767800">
                  <a:off x="7749360" y="2073240"/>
                  <a:ext cx="179640" cy="357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7366680" y="1516680"/>
                  <a:ext cx="384480" cy="59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919640" y="2367360"/>
                  <a:ext cx="361800" cy="58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rot="12759600">
                  <a:off x="6862320" y="2072880"/>
                  <a:ext cx="177840" cy="3574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7036200" y="1518840"/>
                  <a:ext cx="343080" cy="573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6472800" y="2414520"/>
                  <a:ext cx="355320" cy="55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265960" y="2967120"/>
                  <a:ext cx="0" cy="49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5692320" y="3425760"/>
                  <a:ext cx="259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5605560" y="1486080"/>
                  <a:ext cx="1763280" cy="87120"/>
                  <a:chOff x="5605560" y="1486080"/>
                  <a:chExt cx="1763280" cy="871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>
                    <a:off x="5692320" y="1539720"/>
                    <a:ext cx="1676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605560" y="1486080"/>
                    <a:ext cx="87120" cy="871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"/>
                <p:cNvSpPr/>
                <p:nvPr/>
              </p:nvSpPr>
              <p:spPr>
                <a:xfrm>
                  <a:off x="5570640" y="3386160"/>
                  <a:ext cx="87120" cy="87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70640" y="2898720"/>
                  <a:ext cx="87120" cy="87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392960" y="12319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71360" y="27306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402600" y="28954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47320" y="2236680"/>
                  <a:ext cx="6120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7520" y="2374920"/>
                  <a:ext cx="622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40520" y="1932120"/>
                  <a:ext cx="634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4680" y="3429000"/>
                  <a:ext cx="146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宋体"/>
                    </a:rPr>
                    <a:t>电阻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宋体"/>
                    </a:rPr>
                    <a:t>形联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5724000" y="914400"/>
                  <a:ext cx="510120" cy="2448360"/>
                  <a:chOff x="5724000" y="914400"/>
                  <a:chExt cx="510120" cy="2448360"/>
                </a:xfrm>
              </p:grpSpPr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725080" y="914400"/>
                    <a:ext cx="509040" cy="579600"/>
                    <a:chOff x="5725080" y="914400"/>
                    <a:chExt cx="509040" cy="5796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735880" y="1447560"/>
                      <a:ext cx="498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725080" y="914400"/>
                      <a:ext cx="4230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726520" y="2286000"/>
                    <a:ext cx="507600" cy="579600"/>
                    <a:chOff x="5726520" y="2286000"/>
                    <a:chExt cx="507600" cy="57960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5735880" y="2819160"/>
                      <a:ext cx="498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5726520" y="2286000"/>
                      <a:ext cx="4338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724000" y="2783160"/>
                    <a:ext cx="510120" cy="579600"/>
                    <a:chOff x="5724000" y="2783160"/>
                    <a:chExt cx="510120" cy="57960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735880" y="3316320"/>
                      <a:ext cx="498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5724000" y="2783160"/>
                      <a:ext cx="4107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73" name=""/>
            <p:cNvSpPr/>
            <p:nvPr/>
          </p:nvSpPr>
          <p:spPr>
            <a:xfrm>
              <a:off x="7315200" y="15098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29600" y="28814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2720" y="28954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990720" y="762120"/>
            <a:ext cx="2918520" cy="3125520"/>
            <a:chOff x="990720" y="762120"/>
            <a:chExt cx="2918520" cy="3125520"/>
          </a:xfrm>
        </p:grpSpPr>
        <p:grpSp>
          <p:nvGrpSpPr>
            <p:cNvPr id="377" name=""/>
            <p:cNvGrpSpPr/>
            <p:nvPr/>
          </p:nvGrpSpPr>
          <p:grpSpPr>
            <a:xfrm>
              <a:off x="990720" y="762120"/>
              <a:ext cx="2918520" cy="3125520"/>
              <a:chOff x="990720" y="762120"/>
              <a:chExt cx="2918520" cy="3125520"/>
            </a:xfrm>
          </p:grpSpPr>
          <p:sp>
            <p:nvSpPr>
              <p:cNvPr id="378" name=""/>
              <p:cNvSpPr/>
              <p:nvPr/>
            </p:nvSpPr>
            <p:spPr>
              <a:xfrm>
                <a:off x="1419480" y="3367080"/>
                <a:ext cx="167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宋体"/>
                  </a:rPr>
                  <a:t>电阻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宋体"/>
                  </a:rPr>
                  <a:t>形联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0720" y="1295280"/>
                <a:ext cx="49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60640" y="762120"/>
                <a:ext cx="42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148040" y="2070000"/>
                <a:ext cx="507600" cy="579600"/>
                <a:chOff x="1148040" y="2070000"/>
                <a:chExt cx="507600" cy="579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157400" y="2603160"/>
                  <a:ext cx="498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148040" y="207000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157400" y="3200400"/>
                <a:ext cx="498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5520" y="2681280"/>
                <a:ext cx="410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71840" y="2636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8920" y="2504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0800000">
                <a:off x="2487240" y="1631520"/>
                <a:ext cx="173160" cy="389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584440" y="202572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584440" y="139536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498840" y="2755800"/>
                <a:ext cx="0" cy="54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7040" y="1523880"/>
                <a:ext cx="617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60560" y="141300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073160" y="3276720"/>
                <a:ext cx="243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990720" y="3201840"/>
                <a:ext cx="110880" cy="90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2743200"/>
                <a:ext cx="110880" cy="9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25640" y="1371600"/>
                <a:ext cx="110880" cy="9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965320" y="1868400"/>
                <a:ext cx="617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27240" y="2370240"/>
                <a:ext cx="617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524800">
                <a:off x="2106000" y="2260080"/>
                <a:ext cx="18756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1670040" y="2543040"/>
                <a:ext cx="380880" cy="23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355840" y="22096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7411800">
                <a:off x="2902680" y="2242080"/>
                <a:ext cx="172800" cy="428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93920" y="2567160"/>
                <a:ext cx="304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584080" y="22096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95480" y="27874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548080" y="216540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592360" y="1219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"/>
          <p:cNvSpPr/>
          <p:nvPr/>
        </p:nvSpPr>
        <p:spPr>
          <a:xfrm>
            <a:off x="673560" y="380880"/>
            <a:ext cx="289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(1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短路电流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2" name=""/>
              <p:cNvSpPr txBox="1"/>
              <p:nvPr/>
            </p:nvSpPr>
            <p:spPr>
              <a:xfrm>
                <a:off x="4624560" y="3048120"/>
                <a:ext cx="29955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3" name=""/>
              <p:cNvSpPr txBox="1"/>
              <p:nvPr/>
            </p:nvSpPr>
            <p:spPr>
              <a:xfrm>
                <a:off x="533520" y="4230720"/>
                <a:ext cx="4803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4" name=""/>
          <p:cNvSpPr/>
          <p:nvPr/>
        </p:nvSpPr>
        <p:spPr>
          <a:xfrm flipH="1">
            <a:off x="874440" y="688824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4572000" y="2092320"/>
            <a:ext cx="3662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(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. 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4267080" y="457200"/>
            <a:ext cx="4648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因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两点短接，所以对电源 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而言，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并联，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并联，然后再串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7" name=""/>
          <p:cNvGrpSpPr/>
          <p:nvPr/>
        </p:nvGrpSpPr>
        <p:grpSpPr>
          <a:xfrm>
            <a:off x="851400" y="928800"/>
            <a:ext cx="3405240" cy="3338280"/>
            <a:chOff x="851400" y="928800"/>
            <a:chExt cx="3405240" cy="3338280"/>
          </a:xfrm>
        </p:grpSpPr>
        <p:sp>
          <p:nvSpPr>
            <p:cNvPr id="4518" name=""/>
            <p:cNvSpPr/>
            <p:nvPr/>
          </p:nvSpPr>
          <p:spPr>
            <a:xfrm>
              <a:off x="1684080" y="3747960"/>
              <a:ext cx="487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715560" y="92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771720" y="2895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029320" y="35636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407600" y="362556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rot="21233400">
              <a:off x="955080" y="2512440"/>
              <a:ext cx="731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rot="30000">
              <a:off x="2386440" y="246636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rot="371400">
              <a:off x="880920" y="11422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rot="21584400">
              <a:off x="2449080" y="125856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928600" y="2101680"/>
              <a:ext cx="0" cy="152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917280" y="2089080"/>
              <a:ext cx="0" cy="153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652400" y="13096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642680" y="2376360"/>
              <a:ext cx="9140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1" name=""/>
            <p:cNvGrpSpPr/>
            <p:nvPr/>
          </p:nvGrpSpPr>
          <p:grpSpPr>
            <a:xfrm>
              <a:off x="1893240" y="2092320"/>
              <a:ext cx="985680" cy="984960"/>
              <a:chOff x="1893240" y="2092320"/>
              <a:chExt cx="985680" cy="984960"/>
            </a:xfrm>
          </p:grpSpPr>
          <p:sp>
            <p:nvSpPr>
              <p:cNvPr id="4532" name=""/>
              <p:cNvSpPr/>
              <p:nvPr/>
            </p:nvSpPr>
            <p:spPr>
              <a:xfrm flipV="1">
                <a:off x="2500920" y="2092320"/>
                <a:ext cx="378000" cy="37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H="1">
                <a:off x="1893240" y="2710440"/>
                <a:ext cx="363960" cy="3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H="1" rot="2700000">
                <a:off x="2314080" y="2397960"/>
                <a:ext cx="109080" cy="365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5" name=""/>
            <p:cNvSpPr/>
            <p:nvPr/>
          </p:nvSpPr>
          <p:spPr>
            <a:xfrm>
              <a:off x="2879640" y="2070000"/>
              <a:ext cx="7236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869840" y="109836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883800" y="2070000"/>
              <a:ext cx="7128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rot="5400000">
              <a:off x="1769400" y="3471840"/>
              <a:ext cx="310680" cy="310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>
              <a:off x="917280" y="3625560"/>
              <a:ext cx="20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0" name=""/>
            <p:cNvGrpSpPr/>
            <p:nvPr/>
          </p:nvGrpSpPr>
          <p:grpSpPr>
            <a:xfrm>
              <a:off x="916920" y="1114200"/>
              <a:ext cx="985680" cy="986760"/>
              <a:chOff x="916920" y="1114200"/>
              <a:chExt cx="985680" cy="986760"/>
            </a:xfrm>
          </p:grpSpPr>
          <p:sp>
            <p:nvSpPr>
              <p:cNvPr id="4541" name=""/>
              <p:cNvSpPr/>
              <p:nvPr/>
            </p:nvSpPr>
            <p:spPr>
              <a:xfrm flipV="1">
                <a:off x="1524600" y="1114200"/>
                <a:ext cx="37800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H="1">
                <a:off x="916920" y="1733400"/>
                <a:ext cx="363960" cy="36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H="1" rot="2700000">
                <a:off x="1337760" y="142020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4" name=""/>
            <p:cNvGrpSpPr/>
            <p:nvPr/>
          </p:nvGrpSpPr>
          <p:grpSpPr>
            <a:xfrm>
              <a:off x="916920" y="2102040"/>
              <a:ext cx="983880" cy="985680"/>
              <a:chOff x="916920" y="2102040"/>
              <a:chExt cx="983880" cy="985680"/>
            </a:xfrm>
          </p:grpSpPr>
          <p:sp>
            <p:nvSpPr>
              <p:cNvPr id="4545" name=""/>
              <p:cNvSpPr/>
              <p:nvPr/>
            </p:nvSpPr>
            <p:spPr>
              <a:xfrm flipH="1" flipV="1">
                <a:off x="916920" y="210204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534320" y="272376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 rot="18900000">
                <a:off x="1350360" y="242928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1942920" y="1125720"/>
              <a:ext cx="984960" cy="986760"/>
              <a:chOff x="1942920" y="1125720"/>
              <a:chExt cx="984960" cy="986760"/>
            </a:xfrm>
          </p:grpSpPr>
          <p:sp>
            <p:nvSpPr>
              <p:cNvPr id="4549" name=""/>
              <p:cNvSpPr/>
              <p:nvPr/>
            </p:nvSpPr>
            <p:spPr>
              <a:xfrm flipH="1" flipV="1">
                <a:off x="1942920" y="1125720"/>
                <a:ext cx="374400" cy="37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561040" y="1748160"/>
                <a:ext cx="36684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H="1" rot="18900000">
                <a:off x="2376720" y="1453320"/>
                <a:ext cx="109080" cy="365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2" name=""/>
            <p:cNvSpPr/>
            <p:nvPr/>
          </p:nvSpPr>
          <p:spPr>
            <a:xfrm>
              <a:off x="1882440" y="3046320"/>
              <a:ext cx="712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1866600" y="114300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871280" y="3085920"/>
              <a:ext cx="17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593880" y="30207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619080" y="11109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681000" y="1168200"/>
              <a:ext cx="0" cy="191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776400" y="184284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786480" y="1873080"/>
              <a:ext cx="470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 flipV="1">
              <a:off x="1642680" y="1233360"/>
              <a:ext cx="3045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109520" y="2071440"/>
              <a:ext cx="3042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481120" y="1842840"/>
              <a:ext cx="3042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1193400" y="1766880"/>
              <a:ext cx="407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260080" y="1766880"/>
              <a:ext cx="407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V="1">
              <a:off x="1871280" y="2680920"/>
              <a:ext cx="30456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956880" y="2985840"/>
              <a:ext cx="4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V="1">
              <a:off x="1033200" y="2985480"/>
              <a:ext cx="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8" name=""/>
              <p:cNvSpPr txBox="1"/>
              <p:nvPr/>
            </p:nvSpPr>
            <p:spPr>
              <a:xfrm>
                <a:off x="622440" y="5268960"/>
                <a:ext cx="2895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5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9" name=""/>
          <p:cNvSpPr/>
          <p:nvPr/>
        </p:nvSpPr>
        <p:spPr>
          <a:xfrm>
            <a:off x="4343400" y="5073480"/>
            <a:ext cx="4724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– 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1. 38 A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035A=0. 345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4191120" y="595800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：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4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– 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4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4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9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4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500"/>
                                        <p:tgtEl>
                                          <p:spTgt spid="4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4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"/>
          <p:cNvSpPr/>
          <p:nvPr/>
        </p:nvSpPr>
        <p:spPr>
          <a:xfrm>
            <a:off x="376200" y="31896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等效电源的内阻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 flipH="1">
            <a:off x="874440" y="688824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3" name=""/>
          <p:cNvGrpSpPr/>
          <p:nvPr/>
        </p:nvGrpSpPr>
        <p:grpSpPr>
          <a:xfrm>
            <a:off x="656280" y="790560"/>
            <a:ext cx="3299040" cy="2487240"/>
            <a:chOff x="656280" y="790560"/>
            <a:chExt cx="3299040" cy="2487240"/>
          </a:xfrm>
        </p:grpSpPr>
        <p:sp>
          <p:nvSpPr>
            <p:cNvPr id="4574" name=""/>
            <p:cNvSpPr/>
            <p:nvPr/>
          </p:nvSpPr>
          <p:spPr>
            <a:xfrm>
              <a:off x="3273840" y="19335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520440" y="79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3576600" y="2757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rot="21233400">
              <a:off x="759960" y="2374560"/>
              <a:ext cx="731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rot="30000">
              <a:off x="2191320" y="23284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rot="371400">
              <a:off x="685800" y="100404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 rot="21584400">
              <a:off x="2253960" y="11203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1" name=""/>
            <p:cNvGrpSpPr/>
            <p:nvPr/>
          </p:nvGrpSpPr>
          <p:grpSpPr>
            <a:xfrm>
              <a:off x="1698480" y="1953720"/>
              <a:ext cx="984960" cy="985680"/>
              <a:chOff x="1698480" y="1953720"/>
              <a:chExt cx="984960" cy="985680"/>
            </a:xfrm>
          </p:grpSpPr>
          <p:sp>
            <p:nvSpPr>
              <p:cNvPr id="4582" name=""/>
              <p:cNvSpPr/>
              <p:nvPr/>
            </p:nvSpPr>
            <p:spPr>
              <a:xfrm flipV="1">
                <a:off x="2305800" y="1953720"/>
                <a:ext cx="37764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H="1">
                <a:off x="1698480" y="2572200"/>
                <a:ext cx="363600" cy="36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H="1" rot="2700000">
                <a:off x="2118960" y="2260080"/>
                <a:ext cx="109080" cy="365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5" name=""/>
            <p:cNvSpPr/>
            <p:nvPr/>
          </p:nvSpPr>
          <p:spPr>
            <a:xfrm>
              <a:off x="2684160" y="1931760"/>
              <a:ext cx="727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674720" y="96048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688680" y="193176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8" name=""/>
            <p:cNvGrpSpPr/>
            <p:nvPr/>
          </p:nvGrpSpPr>
          <p:grpSpPr>
            <a:xfrm>
              <a:off x="722160" y="976320"/>
              <a:ext cx="984960" cy="986760"/>
              <a:chOff x="722160" y="976320"/>
              <a:chExt cx="984960" cy="986760"/>
            </a:xfrm>
          </p:grpSpPr>
          <p:sp>
            <p:nvSpPr>
              <p:cNvPr id="4589" name=""/>
              <p:cNvSpPr/>
              <p:nvPr/>
            </p:nvSpPr>
            <p:spPr>
              <a:xfrm flipV="1">
                <a:off x="1329480" y="976320"/>
                <a:ext cx="377640" cy="37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H="1">
                <a:off x="722160" y="1595520"/>
                <a:ext cx="363600" cy="36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H="1" rot="2700000">
                <a:off x="1142280" y="1282320"/>
                <a:ext cx="109080" cy="36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2" name=""/>
            <p:cNvGrpSpPr/>
            <p:nvPr/>
          </p:nvGrpSpPr>
          <p:grpSpPr>
            <a:xfrm>
              <a:off x="721800" y="1963440"/>
              <a:ext cx="983880" cy="986040"/>
              <a:chOff x="721800" y="1963440"/>
              <a:chExt cx="983880" cy="986040"/>
            </a:xfrm>
          </p:grpSpPr>
          <p:sp>
            <p:nvSpPr>
              <p:cNvPr id="4593" name=""/>
              <p:cNvSpPr/>
              <p:nvPr/>
            </p:nvSpPr>
            <p:spPr>
              <a:xfrm flipH="1" flipV="1">
                <a:off x="721800" y="1963440"/>
                <a:ext cx="37404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339200" y="2585520"/>
                <a:ext cx="3664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H="1" rot="18900000">
                <a:off x="1155240" y="2291040"/>
                <a:ext cx="109080" cy="365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6" name=""/>
            <p:cNvGrpSpPr/>
            <p:nvPr/>
          </p:nvGrpSpPr>
          <p:grpSpPr>
            <a:xfrm>
              <a:off x="1747800" y="986760"/>
              <a:ext cx="984960" cy="987480"/>
              <a:chOff x="1747800" y="986760"/>
              <a:chExt cx="984960" cy="987480"/>
            </a:xfrm>
          </p:grpSpPr>
          <p:sp>
            <p:nvSpPr>
              <p:cNvPr id="4597" name=""/>
              <p:cNvSpPr/>
              <p:nvPr/>
            </p:nvSpPr>
            <p:spPr>
              <a:xfrm flipH="1" flipV="1">
                <a:off x="1747800" y="986760"/>
                <a:ext cx="374400" cy="37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365920" y="1609920"/>
                <a:ext cx="36684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H="1" rot="18900000">
                <a:off x="2181600" y="1314720"/>
                <a:ext cx="109080" cy="365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0" name=""/>
            <p:cNvSpPr/>
            <p:nvPr/>
          </p:nvSpPr>
          <p:spPr>
            <a:xfrm>
              <a:off x="1687320" y="290808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671480" y="100476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747800" y="2985840"/>
              <a:ext cx="167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423960" y="2954160"/>
              <a:ext cx="107640" cy="10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423960" y="973080"/>
              <a:ext cx="107640" cy="10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757080" y="1933560"/>
              <a:ext cx="198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 flipH="1">
              <a:off x="3194640" y="1628640"/>
              <a:ext cx="533160" cy="399960"/>
            </a:xfrm>
            <a:custGeom>
              <a:avLst/>
              <a:gdLst>
                <a:gd name="textAreaLeft" fmla="*/ 66600 w 533160"/>
                <a:gd name="textAreaRight" fmla="*/ 466560 w 533160"/>
                <a:gd name="textAreaTop" fmla="*/ 100080 h 399960"/>
                <a:gd name="textAreaBottom" fmla="*/ 30024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10800000"/>
            </a:gra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7" name=""/>
          <p:cNvSpPr/>
          <p:nvPr/>
        </p:nvSpPr>
        <p:spPr>
          <a:xfrm>
            <a:off x="3805200" y="1065240"/>
            <a:ext cx="4653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+(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5. 8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452520" y="31240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画出等效电路求检流计中的电流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9" name=""/>
              <p:cNvSpPr txBox="1"/>
              <p:nvPr/>
            </p:nvSpPr>
            <p:spPr>
              <a:xfrm>
                <a:off x="4879800" y="3651120"/>
                <a:ext cx="3426120" cy="253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10" name=""/>
          <p:cNvGrpSpPr/>
          <p:nvPr/>
        </p:nvGrpSpPr>
        <p:grpSpPr>
          <a:xfrm>
            <a:off x="921240" y="3672000"/>
            <a:ext cx="3754800" cy="2730240"/>
            <a:chOff x="921240" y="3672000"/>
            <a:chExt cx="3754800" cy="2730240"/>
          </a:xfrm>
        </p:grpSpPr>
        <p:sp>
          <p:nvSpPr>
            <p:cNvPr id="4611" name=""/>
            <p:cNvSpPr/>
            <p:nvPr/>
          </p:nvSpPr>
          <p:spPr>
            <a:xfrm>
              <a:off x="1443240" y="4815000"/>
              <a:ext cx="426960" cy="41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671840" y="420552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671840" y="5881680"/>
              <a:ext cx="21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586240" y="5272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478240" y="4832640"/>
              <a:ext cx="198360" cy="43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944720" y="473868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3805200" y="5195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3805200" y="4205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967120" y="367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3117960" y="41655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151440" y="583884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3043440" y="5881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671840" y="42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586240" y="42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671840" y="523728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443240" y="5043600"/>
              <a:ext cx="41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921240" y="466272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V="1">
              <a:off x="1366920" y="4815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54160" y="4662720"/>
              <a:ext cx="57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124520" y="4800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196520" y="466272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548160" y="4738680"/>
              <a:ext cx="449280" cy="449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775320" y="4803840"/>
              <a:ext cx="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4" name=""/>
          <p:cNvSpPr/>
          <p:nvPr/>
        </p:nvSpPr>
        <p:spPr>
          <a:xfrm>
            <a:off x="1138320" y="4038480"/>
            <a:ext cx="1817640" cy="1981440"/>
          </a:xfrm>
          <a:prstGeom prst="rect">
            <a:avLst/>
          </a:prstGeom>
          <a:noFill/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1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6" dur="500"/>
                                        <p:tgtEl>
                                          <p:spTgt spid="4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500"/>
                            </p:stCondLst>
                            <p:childTnLst>
                              <p:par>
                                <p:cTn id="2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5" dur="500"/>
                                        <p:tgtEl>
                                          <p:spTgt spid="4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500"/>
                            </p:stCondLst>
                            <p:childTnLst>
                              <p:par>
                                <p:cTn id="26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9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879120" y="358920"/>
            <a:ext cx="68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.8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受控源电路的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457200" y="1241280"/>
            <a:ext cx="784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独立电源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电压源的电压或电流源的电流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电路的控制而独立存在的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7" name=""/>
          <p:cNvGrpSpPr/>
          <p:nvPr/>
        </p:nvGrpSpPr>
        <p:grpSpPr>
          <a:xfrm>
            <a:off x="1743120" y="990720"/>
            <a:ext cx="5190840" cy="171360"/>
            <a:chOff x="1743120" y="990720"/>
            <a:chExt cx="5190840" cy="171360"/>
          </a:xfrm>
        </p:grpSpPr>
        <p:pic>
          <p:nvPicPr>
            <p:cNvPr id="4638" name="" descr=""/>
            <p:cNvPicPr/>
            <p:nvPr/>
          </p:nvPicPr>
          <p:blipFill>
            <a:blip r:embed="rId1"/>
            <a:stretch/>
          </p:blipFill>
          <p:spPr>
            <a:xfrm>
              <a:off x="234324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9" name="" descr=""/>
            <p:cNvPicPr/>
            <p:nvPr/>
          </p:nvPicPr>
          <p:blipFill>
            <a:blip r:embed="rId2"/>
            <a:stretch/>
          </p:blipFill>
          <p:spPr>
            <a:xfrm>
              <a:off x="2504880" y="990720"/>
              <a:ext cx="171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0" name="" descr=""/>
            <p:cNvPicPr/>
            <p:nvPr/>
          </p:nvPicPr>
          <p:blipFill>
            <a:blip r:embed="rId3"/>
            <a:stretch/>
          </p:blipFill>
          <p:spPr>
            <a:xfrm>
              <a:off x="265752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1" name="" descr=""/>
            <p:cNvPicPr/>
            <p:nvPr/>
          </p:nvPicPr>
          <p:blipFill>
            <a:blip r:embed="rId4"/>
            <a:stretch/>
          </p:blipFill>
          <p:spPr>
            <a:xfrm>
              <a:off x="280044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2" name="" descr=""/>
            <p:cNvPicPr/>
            <p:nvPr/>
          </p:nvPicPr>
          <p:blipFill>
            <a:blip r:embed="rId5"/>
            <a:stretch/>
          </p:blipFill>
          <p:spPr>
            <a:xfrm>
              <a:off x="174312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3" name="" descr=""/>
            <p:cNvPicPr/>
            <p:nvPr/>
          </p:nvPicPr>
          <p:blipFill>
            <a:blip r:embed="rId6"/>
            <a:stretch/>
          </p:blipFill>
          <p:spPr>
            <a:xfrm>
              <a:off x="188604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4" name="" descr=""/>
            <p:cNvPicPr/>
            <p:nvPr/>
          </p:nvPicPr>
          <p:blipFill>
            <a:blip r:embed="rId7"/>
            <a:stretch/>
          </p:blipFill>
          <p:spPr>
            <a:xfrm>
              <a:off x="2047680" y="990720"/>
              <a:ext cx="171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5" name="" descr=""/>
            <p:cNvPicPr/>
            <p:nvPr/>
          </p:nvPicPr>
          <p:blipFill>
            <a:blip r:embed="rId8"/>
            <a:stretch/>
          </p:blipFill>
          <p:spPr>
            <a:xfrm>
              <a:off x="2200320" y="99072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6" name="" descr=""/>
            <p:cNvPicPr/>
            <p:nvPr/>
          </p:nvPicPr>
          <p:blipFill>
            <a:blip r:embed="rId9"/>
            <a:stretch/>
          </p:blipFill>
          <p:spPr>
            <a:xfrm>
              <a:off x="2962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7" name="" descr=""/>
            <p:cNvPicPr/>
            <p:nvPr/>
          </p:nvPicPr>
          <p:blipFill>
            <a:blip r:embed="rId10"/>
            <a:stretch/>
          </p:blipFill>
          <p:spPr>
            <a:xfrm>
              <a:off x="3114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" descr=""/>
            <p:cNvPicPr/>
            <p:nvPr/>
          </p:nvPicPr>
          <p:blipFill>
            <a:blip r:embed="rId11"/>
            <a:stretch/>
          </p:blipFill>
          <p:spPr>
            <a:xfrm>
              <a:off x="3257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" descr=""/>
            <p:cNvPicPr/>
            <p:nvPr/>
          </p:nvPicPr>
          <p:blipFill>
            <a:blip r:embed="rId12"/>
            <a:stretch/>
          </p:blipFill>
          <p:spPr>
            <a:xfrm>
              <a:off x="3419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" descr=""/>
            <p:cNvPicPr/>
            <p:nvPr/>
          </p:nvPicPr>
          <p:blipFill>
            <a:blip r:embed="rId13"/>
            <a:stretch/>
          </p:blipFill>
          <p:spPr>
            <a:xfrm>
              <a:off x="3571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" descr=""/>
            <p:cNvPicPr/>
            <p:nvPr/>
          </p:nvPicPr>
          <p:blipFill>
            <a:blip r:embed="rId14"/>
            <a:stretch/>
          </p:blipFill>
          <p:spPr>
            <a:xfrm>
              <a:off x="3714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" descr=""/>
            <p:cNvPicPr/>
            <p:nvPr/>
          </p:nvPicPr>
          <p:blipFill>
            <a:blip r:embed="rId15"/>
            <a:stretch/>
          </p:blipFill>
          <p:spPr>
            <a:xfrm>
              <a:off x="3876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" descr=""/>
            <p:cNvPicPr/>
            <p:nvPr/>
          </p:nvPicPr>
          <p:blipFill>
            <a:blip r:embed="rId16"/>
            <a:stretch/>
          </p:blipFill>
          <p:spPr>
            <a:xfrm>
              <a:off x="4172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" descr=""/>
            <p:cNvPicPr/>
            <p:nvPr/>
          </p:nvPicPr>
          <p:blipFill>
            <a:blip r:embed="rId17"/>
            <a:stretch/>
          </p:blipFill>
          <p:spPr>
            <a:xfrm>
              <a:off x="4333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" descr=""/>
            <p:cNvPicPr/>
            <p:nvPr/>
          </p:nvPicPr>
          <p:blipFill>
            <a:blip r:embed="rId18"/>
            <a:stretch/>
          </p:blipFill>
          <p:spPr>
            <a:xfrm>
              <a:off x="4486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" descr=""/>
            <p:cNvPicPr/>
            <p:nvPr/>
          </p:nvPicPr>
          <p:blipFill>
            <a:blip r:embed="rId19"/>
            <a:stretch/>
          </p:blipFill>
          <p:spPr>
            <a:xfrm>
              <a:off x="46292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" descr=""/>
            <p:cNvPicPr/>
            <p:nvPr/>
          </p:nvPicPr>
          <p:blipFill>
            <a:blip r:embed="rId20"/>
            <a:stretch/>
          </p:blipFill>
          <p:spPr>
            <a:xfrm>
              <a:off x="47908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" descr=""/>
            <p:cNvPicPr/>
            <p:nvPr/>
          </p:nvPicPr>
          <p:blipFill>
            <a:blip r:embed="rId21"/>
            <a:stretch/>
          </p:blipFill>
          <p:spPr>
            <a:xfrm>
              <a:off x="5086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" descr=""/>
            <p:cNvPicPr/>
            <p:nvPr/>
          </p:nvPicPr>
          <p:blipFill>
            <a:blip r:embed="rId22"/>
            <a:stretch/>
          </p:blipFill>
          <p:spPr>
            <a:xfrm>
              <a:off x="5248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" descr=""/>
            <p:cNvPicPr/>
            <p:nvPr/>
          </p:nvPicPr>
          <p:blipFill>
            <a:blip r:embed="rId23"/>
            <a:stretch/>
          </p:blipFill>
          <p:spPr>
            <a:xfrm>
              <a:off x="5400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1" name="" descr=""/>
            <p:cNvPicPr/>
            <p:nvPr/>
          </p:nvPicPr>
          <p:blipFill>
            <a:blip r:embed="rId24"/>
            <a:stretch/>
          </p:blipFill>
          <p:spPr>
            <a:xfrm>
              <a:off x="55436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2" name="" descr=""/>
            <p:cNvPicPr/>
            <p:nvPr/>
          </p:nvPicPr>
          <p:blipFill>
            <a:blip r:embed="rId25"/>
            <a:stretch/>
          </p:blipFill>
          <p:spPr>
            <a:xfrm>
              <a:off x="4029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3" name="" descr=""/>
            <p:cNvPicPr/>
            <p:nvPr/>
          </p:nvPicPr>
          <p:blipFill>
            <a:blip r:embed="rId26"/>
            <a:stretch/>
          </p:blipFill>
          <p:spPr>
            <a:xfrm>
              <a:off x="4943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4" name="" descr=""/>
            <p:cNvPicPr/>
            <p:nvPr/>
          </p:nvPicPr>
          <p:blipFill>
            <a:blip r:embed="rId27"/>
            <a:stretch/>
          </p:blipFill>
          <p:spPr>
            <a:xfrm>
              <a:off x="57052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5" name="" descr=""/>
            <p:cNvPicPr/>
            <p:nvPr/>
          </p:nvPicPr>
          <p:blipFill>
            <a:blip r:embed="rId28"/>
            <a:stretch/>
          </p:blipFill>
          <p:spPr>
            <a:xfrm>
              <a:off x="5857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6" name="" descr=""/>
            <p:cNvPicPr/>
            <p:nvPr/>
          </p:nvPicPr>
          <p:blipFill>
            <a:blip r:embed="rId29"/>
            <a:stretch/>
          </p:blipFill>
          <p:spPr>
            <a:xfrm>
              <a:off x="6000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7" name="" descr=""/>
            <p:cNvPicPr/>
            <p:nvPr/>
          </p:nvPicPr>
          <p:blipFill>
            <a:blip r:embed="rId30"/>
            <a:stretch/>
          </p:blipFill>
          <p:spPr>
            <a:xfrm>
              <a:off x="6162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8" name="" descr=""/>
            <p:cNvPicPr/>
            <p:nvPr/>
          </p:nvPicPr>
          <p:blipFill>
            <a:blip r:embed="rId31"/>
            <a:stretch/>
          </p:blipFill>
          <p:spPr>
            <a:xfrm>
              <a:off x="6315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9" name="" descr=""/>
            <p:cNvPicPr/>
            <p:nvPr/>
          </p:nvPicPr>
          <p:blipFill>
            <a:blip r:embed="rId32"/>
            <a:stretch/>
          </p:blipFill>
          <p:spPr>
            <a:xfrm>
              <a:off x="6458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0" name="" descr=""/>
            <p:cNvPicPr/>
            <p:nvPr/>
          </p:nvPicPr>
          <p:blipFill>
            <a:blip r:embed="rId33"/>
            <a:stretch/>
          </p:blipFill>
          <p:spPr>
            <a:xfrm>
              <a:off x="66196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1" name="" descr=""/>
            <p:cNvPicPr/>
            <p:nvPr/>
          </p:nvPicPr>
          <p:blipFill>
            <a:blip r:embed="rId34"/>
            <a:stretch/>
          </p:blipFill>
          <p:spPr>
            <a:xfrm>
              <a:off x="67723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2" name=""/>
          <p:cNvSpPr/>
          <p:nvPr/>
        </p:nvSpPr>
        <p:spPr>
          <a:xfrm>
            <a:off x="304920" y="3073320"/>
            <a:ext cx="8534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受控源的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控制电压或电流消失或等于零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控源的电压或电流也将为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380880" y="2155680"/>
            <a:ext cx="883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受控电源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指电压源的电压或电流源的电流受电路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其它部分的电流或电压控制的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609480" y="4114800"/>
            <a:ext cx="7772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对含有受控源的线性电路，可用前几节所讲的电路分析方法进行分析和计算 ，但要考虑受控的特性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679320" y="570708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：用于晶体管电路的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6" dur="500"/>
                                        <p:tgtEl>
                                          <p:spTgt spid="4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1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6" dur="500"/>
                                        <p:tgtEl>
                                          <p:spTgt spid="4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1" dur="500"/>
                                        <p:tgtEl>
                                          <p:spTgt spid="4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6" dur="500"/>
                                        <p:tgtEl>
                                          <p:spTgt spid="4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6" name=""/>
          <p:cNvGrpSpPr/>
          <p:nvPr/>
        </p:nvGrpSpPr>
        <p:grpSpPr>
          <a:xfrm>
            <a:off x="848880" y="503280"/>
            <a:ext cx="3418200" cy="2927880"/>
            <a:chOff x="848880" y="503280"/>
            <a:chExt cx="3418200" cy="2927880"/>
          </a:xfrm>
        </p:grpSpPr>
        <p:sp>
          <p:nvSpPr>
            <p:cNvPr id="4677" name=""/>
            <p:cNvSpPr/>
            <p:nvPr/>
          </p:nvSpPr>
          <p:spPr>
            <a:xfrm>
              <a:off x="2625480" y="199188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8" name=""/>
            <p:cNvGrpSpPr/>
            <p:nvPr/>
          </p:nvGrpSpPr>
          <p:grpSpPr>
            <a:xfrm>
              <a:off x="2571120" y="1338120"/>
              <a:ext cx="1375200" cy="107640"/>
              <a:chOff x="2571120" y="1338120"/>
              <a:chExt cx="1375200" cy="107640"/>
            </a:xfrm>
          </p:grpSpPr>
          <p:sp>
            <p:nvSpPr>
              <p:cNvPr id="4679" name=""/>
              <p:cNvSpPr/>
              <p:nvPr/>
            </p:nvSpPr>
            <p:spPr>
              <a:xfrm>
                <a:off x="3838320" y="1338120"/>
                <a:ext cx="108000" cy="10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H="1">
                <a:off x="2571120" y="1356840"/>
                <a:ext cx="12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1" name=""/>
            <p:cNvGrpSpPr/>
            <p:nvPr/>
          </p:nvGrpSpPr>
          <p:grpSpPr>
            <a:xfrm>
              <a:off x="1066680" y="2599920"/>
              <a:ext cx="1092240" cy="117000"/>
              <a:chOff x="1066680" y="2599920"/>
              <a:chExt cx="1092240" cy="117000"/>
            </a:xfrm>
          </p:grpSpPr>
          <p:sp>
            <p:nvSpPr>
              <p:cNvPr id="4682" name=""/>
              <p:cNvSpPr/>
              <p:nvPr/>
            </p:nvSpPr>
            <p:spPr>
              <a:xfrm>
                <a:off x="1066680" y="2599920"/>
                <a:ext cx="10008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2058840" y="2623680"/>
                <a:ext cx="100080" cy="93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>
                <a:off x="1127160" y="2679120"/>
                <a:ext cx="93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5" name=""/>
            <p:cNvGrpSpPr/>
            <p:nvPr/>
          </p:nvGrpSpPr>
          <p:grpSpPr>
            <a:xfrm>
              <a:off x="2229120" y="1366560"/>
              <a:ext cx="533160" cy="1371240"/>
              <a:chOff x="2229120" y="1366560"/>
              <a:chExt cx="533160" cy="1371240"/>
            </a:xfrm>
          </p:grpSpPr>
          <p:grpSp>
            <p:nvGrpSpPr>
              <p:cNvPr id="4686" name=""/>
              <p:cNvGrpSpPr/>
              <p:nvPr/>
            </p:nvGrpSpPr>
            <p:grpSpPr>
              <a:xfrm>
                <a:off x="2367000" y="1366560"/>
                <a:ext cx="395280" cy="1371240"/>
                <a:chOff x="2367000" y="1366560"/>
                <a:chExt cx="395280" cy="1371240"/>
              </a:xfrm>
            </p:grpSpPr>
            <p:sp>
              <p:nvSpPr>
                <p:cNvPr id="4687" name=""/>
                <p:cNvSpPr/>
                <p:nvPr/>
              </p:nvSpPr>
              <p:spPr>
                <a:xfrm>
                  <a:off x="2571840" y="1366560"/>
                  <a:ext cx="0" cy="137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 rot="16200000">
                  <a:off x="2241000" y="1844640"/>
                  <a:ext cx="647280" cy="395280"/>
                </a:xfrm>
                <a:prstGeom prst="flowChartDecision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9" name=""/>
              <p:cNvSpPr/>
              <p:nvPr/>
            </p:nvSpPr>
            <p:spPr>
              <a:xfrm>
                <a:off x="2229120" y="1479600"/>
                <a:ext cx="383400" cy="9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0" name=""/>
            <p:cNvSpPr/>
            <p:nvPr/>
          </p:nvSpPr>
          <p:spPr>
            <a:xfrm>
              <a:off x="848880" y="16380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557520" y="1685520"/>
              <a:ext cx="70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1066680" y="1137960"/>
              <a:ext cx="552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 flipH="1">
              <a:off x="3485520" y="1137960"/>
              <a:ext cx="476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370320" y="503280"/>
              <a:ext cx="66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914400" y="550440"/>
              <a:ext cx="105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670040" y="2910600"/>
              <a:ext cx="18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a)VCV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990360" y="1260360"/>
              <a:ext cx="2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8" name=""/>
            <p:cNvGrpSpPr/>
            <p:nvPr/>
          </p:nvGrpSpPr>
          <p:grpSpPr>
            <a:xfrm>
              <a:off x="1028520" y="1282320"/>
              <a:ext cx="1114560" cy="117000"/>
              <a:chOff x="1028520" y="1282320"/>
              <a:chExt cx="1114560" cy="117000"/>
            </a:xfrm>
          </p:grpSpPr>
          <p:sp>
            <p:nvSpPr>
              <p:cNvPr id="4699" name=""/>
              <p:cNvSpPr/>
              <p:nvPr/>
            </p:nvSpPr>
            <p:spPr>
              <a:xfrm>
                <a:off x="1028520" y="1282320"/>
                <a:ext cx="1015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041560" y="1306080"/>
                <a:ext cx="101520" cy="93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H="1">
                <a:off x="1089000" y="1361520"/>
                <a:ext cx="95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2" name=""/>
            <p:cNvSpPr/>
            <p:nvPr/>
          </p:nvSpPr>
          <p:spPr>
            <a:xfrm>
              <a:off x="990360" y="2084040"/>
              <a:ext cx="2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3762360" y="133632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3762360" y="216036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1726920" y="863280"/>
              <a:ext cx="1654200" cy="20476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6" name=""/>
            <p:cNvGrpSpPr/>
            <p:nvPr/>
          </p:nvGrpSpPr>
          <p:grpSpPr>
            <a:xfrm>
              <a:off x="2587680" y="2679480"/>
              <a:ext cx="1374480" cy="107640"/>
              <a:chOff x="2587680" y="2679480"/>
              <a:chExt cx="1374480" cy="107640"/>
            </a:xfrm>
          </p:grpSpPr>
          <p:sp>
            <p:nvSpPr>
              <p:cNvPr id="4707" name=""/>
              <p:cNvSpPr/>
              <p:nvPr/>
            </p:nvSpPr>
            <p:spPr>
              <a:xfrm>
                <a:off x="3854160" y="2679480"/>
                <a:ext cx="108000" cy="10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>
                <a:off x="2587680" y="2698200"/>
                <a:ext cx="12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9" name=""/>
          <p:cNvGrpSpPr/>
          <p:nvPr/>
        </p:nvGrpSpPr>
        <p:grpSpPr>
          <a:xfrm>
            <a:off x="5268600" y="426960"/>
            <a:ext cx="3372120" cy="2977200"/>
            <a:chOff x="5268600" y="426960"/>
            <a:chExt cx="3372120" cy="2977200"/>
          </a:xfrm>
        </p:grpSpPr>
        <p:sp>
          <p:nvSpPr>
            <p:cNvPr id="4710" name=""/>
            <p:cNvSpPr/>
            <p:nvPr/>
          </p:nvSpPr>
          <p:spPr>
            <a:xfrm>
              <a:off x="6810120" y="2054160"/>
              <a:ext cx="115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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5972040" y="2883600"/>
              <a:ext cx="172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b)CCV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2" name=""/>
            <p:cNvGrpSpPr/>
            <p:nvPr/>
          </p:nvGrpSpPr>
          <p:grpSpPr>
            <a:xfrm>
              <a:off x="6944760" y="1261800"/>
              <a:ext cx="1375200" cy="108000"/>
              <a:chOff x="6944760" y="1261800"/>
              <a:chExt cx="1375200" cy="108000"/>
            </a:xfrm>
          </p:grpSpPr>
          <p:sp>
            <p:nvSpPr>
              <p:cNvPr id="4713" name=""/>
              <p:cNvSpPr/>
              <p:nvPr/>
            </p:nvSpPr>
            <p:spPr>
              <a:xfrm>
                <a:off x="8211960" y="1261800"/>
                <a:ext cx="108000" cy="108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>
                <a:off x="6944760" y="1280880"/>
                <a:ext cx="12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5" name=""/>
            <p:cNvSpPr/>
            <p:nvPr/>
          </p:nvSpPr>
          <p:spPr>
            <a:xfrm>
              <a:off x="5440320" y="2523960"/>
              <a:ext cx="10008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 flipH="1">
              <a:off x="5500080" y="2603520"/>
              <a:ext cx="9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7" name=""/>
            <p:cNvGrpSpPr/>
            <p:nvPr/>
          </p:nvGrpSpPr>
          <p:grpSpPr>
            <a:xfrm>
              <a:off x="6602400" y="1290600"/>
              <a:ext cx="533160" cy="1371600"/>
              <a:chOff x="6602400" y="1290600"/>
              <a:chExt cx="533160" cy="1371600"/>
            </a:xfrm>
          </p:grpSpPr>
          <p:grpSp>
            <p:nvGrpSpPr>
              <p:cNvPr id="4718" name=""/>
              <p:cNvGrpSpPr/>
              <p:nvPr/>
            </p:nvGrpSpPr>
            <p:grpSpPr>
              <a:xfrm>
                <a:off x="6740280" y="1290600"/>
                <a:ext cx="395280" cy="1371600"/>
                <a:chOff x="6740280" y="1290600"/>
                <a:chExt cx="395280" cy="1371600"/>
              </a:xfrm>
            </p:grpSpPr>
            <p:sp>
              <p:nvSpPr>
                <p:cNvPr id="4719" name=""/>
                <p:cNvSpPr/>
                <p:nvPr/>
              </p:nvSpPr>
              <p:spPr>
                <a:xfrm>
                  <a:off x="6945120" y="129060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 rot="16200000">
                  <a:off x="6613920" y="1768680"/>
                  <a:ext cx="647640" cy="395280"/>
                </a:xfrm>
                <a:prstGeom prst="flowChartDecision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1" name=""/>
              <p:cNvSpPr/>
              <p:nvPr/>
            </p:nvSpPr>
            <p:spPr>
              <a:xfrm>
                <a:off x="6602400" y="1404360"/>
                <a:ext cx="383400" cy="9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2" name=""/>
            <p:cNvSpPr/>
            <p:nvPr/>
          </p:nvSpPr>
          <p:spPr>
            <a:xfrm>
              <a:off x="5268600" y="1584000"/>
              <a:ext cx="92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931160" y="1609560"/>
              <a:ext cx="70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5440320" y="1062000"/>
              <a:ext cx="552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 flipH="1">
              <a:off x="7859160" y="1062000"/>
              <a:ext cx="476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743600" y="426960"/>
              <a:ext cx="66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5451480" y="474480"/>
              <a:ext cx="105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5364000" y="118404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5402160" y="1206360"/>
              <a:ext cx="10152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H="1">
              <a:off x="5462280" y="1285920"/>
              <a:ext cx="95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5364000" y="200808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8135640" y="1260360"/>
              <a:ext cx="2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8135640" y="2084400"/>
              <a:ext cx="2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6200640" y="787320"/>
              <a:ext cx="1554120" cy="20476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6960600" y="2603520"/>
              <a:ext cx="1375200" cy="107640"/>
              <a:chOff x="6960600" y="2603520"/>
              <a:chExt cx="1375200" cy="107640"/>
            </a:xfrm>
          </p:grpSpPr>
          <p:sp>
            <p:nvSpPr>
              <p:cNvPr id="4736" name=""/>
              <p:cNvSpPr/>
              <p:nvPr/>
            </p:nvSpPr>
            <p:spPr>
              <a:xfrm>
                <a:off x="8227800" y="2603520"/>
                <a:ext cx="108000" cy="10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H="1">
                <a:off x="6960600" y="2622600"/>
                <a:ext cx="12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8" name=""/>
            <p:cNvSpPr/>
            <p:nvPr/>
          </p:nvSpPr>
          <p:spPr>
            <a:xfrm>
              <a:off x="6432480" y="1285920"/>
              <a:ext cx="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四种理想受控电源的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0" name=""/>
          <p:cNvGrpSpPr/>
          <p:nvPr/>
        </p:nvGrpSpPr>
        <p:grpSpPr>
          <a:xfrm>
            <a:off x="879120" y="3371760"/>
            <a:ext cx="3418200" cy="3018600"/>
            <a:chOff x="879120" y="3371760"/>
            <a:chExt cx="3418200" cy="3018600"/>
          </a:xfrm>
        </p:grpSpPr>
        <p:sp>
          <p:nvSpPr>
            <p:cNvPr id="4741" name=""/>
            <p:cNvSpPr/>
            <p:nvPr/>
          </p:nvSpPr>
          <p:spPr>
            <a:xfrm>
              <a:off x="1533600" y="5869800"/>
              <a:ext cx="23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c) VC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2802960" y="462600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3" name=""/>
            <p:cNvGrpSpPr/>
            <p:nvPr/>
          </p:nvGrpSpPr>
          <p:grpSpPr>
            <a:xfrm>
              <a:off x="2602080" y="4206960"/>
              <a:ext cx="1374120" cy="108000"/>
              <a:chOff x="2602080" y="4206960"/>
              <a:chExt cx="1374120" cy="108000"/>
            </a:xfrm>
          </p:grpSpPr>
          <p:sp>
            <p:nvSpPr>
              <p:cNvPr id="4744" name=""/>
              <p:cNvSpPr/>
              <p:nvPr/>
            </p:nvSpPr>
            <p:spPr>
              <a:xfrm>
                <a:off x="3868560" y="4206960"/>
                <a:ext cx="107640" cy="108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H="1">
                <a:off x="2602080" y="4226040"/>
                <a:ext cx="12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6" name=""/>
            <p:cNvGrpSpPr/>
            <p:nvPr/>
          </p:nvGrpSpPr>
          <p:grpSpPr>
            <a:xfrm>
              <a:off x="1096920" y="5468760"/>
              <a:ext cx="1092240" cy="117360"/>
              <a:chOff x="1096920" y="5468760"/>
              <a:chExt cx="1092240" cy="117360"/>
            </a:xfrm>
          </p:grpSpPr>
          <p:sp>
            <p:nvSpPr>
              <p:cNvPr id="4747" name=""/>
              <p:cNvSpPr/>
              <p:nvPr/>
            </p:nvSpPr>
            <p:spPr>
              <a:xfrm>
                <a:off x="1096920" y="5468760"/>
                <a:ext cx="997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2089080" y="5492520"/>
                <a:ext cx="10008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H="1">
                <a:off x="1156680" y="5548320"/>
                <a:ext cx="93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0" name=""/>
            <p:cNvSpPr/>
            <p:nvPr/>
          </p:nvSpPr>
          <p:spPr>
            <a:xfrm>
              <a:off x="879120" y="45068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3587760" y="4554360"/>
              <a:ext cx="70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096920" y="4006800"/>
              <a:ext cx="552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H="1">
              <a:off x="3516480" y="4006800"/>
              <a:ext cx="475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3400560" y="3371760"/>
              <a:ext cx="66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944640" y="3419280"/>
              <a:ext cx="105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020600" y="4129200"/>
              <a:ext cx="2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7" name=""/>
            <p:cNvGrpSpPr/>
            <p:nvPr/>
          </p:nvGrpSpPr>
          <p:grpSpPr>
            <a:xfrm>
              <a:off x="1058760" y="4151160"/>
              <a:ext cx="1114200" cy="117360"/>
              <a:chOff x="1058760" y="4151160"/>
              <a:chExt cx="1114200" cy="117360"/>
            </a:xfrm>
          </p:grpSpPr>
          <p:sp>
            <p:nvSpPr>
              <p:cNvPr id="4758" name=""/>
              <p:cNvSpPr/>
              <p:nvPr/>
            </p:nvSpPr>
            <p:spPr>
              <a:xfrm>
                <a:off x="1058760" y="4151160"/>
                <a:ext cx="1015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2071440" y="4174920"/>
                <a:ext cx="1015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H="1">
                <a:off x="1118880" y="4230720"/>
                <a:ext cx="95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1" name=""/>
            <p:cNvSpPr/>
            <p:nvPr/>
          </p:nvSpPr>
          <p:spPr>
            <a:xfrm>
              <a:off x="1020600" y="4952880"/>
              <a:ext cx="27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3792600" y="420516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3792600" y="5029200"/>
              <a:ext cx="27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757520" y="3732120"/>
              <a:ext cx="1758960" cy="2048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5" name=""/>
            <p:cNvGrpSpPr/>
            <p:nvPr/>
          </p:nvGrpSpPr>
          <p:grpSpPr>
            <a:xfrm>
              <a:off x="2617920" y="5548320"/>
              <a:ext cx="1374120" cy="107640"/>
              <a:chOff x="2617920" y="5548320"/>
              <a:chExt cx="1374120" cy="107640"/>
            </a:xfrm>
          </p:grpSpPr>
          <p:sp>
            <p:nvSpPr>
              <p:cNvPr id="4766" name=""/>
              <p:cNvSpPr/>
              <p:nvPr/>
            </p:nvSpPr>
            <p:spPr>
              <a:xfrm>
                <a:off x="3884400" y="5548320"/>
                <a:ext cx="107640" cy="10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H="1">
                <a:off x="2617920" y="5567400"/>
                <a:ext cx="12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8" name=""/>
            <p:cNvGrpSpPr/>
            <p:nvPr/>
          </p:nvGrpSpPr>
          <p:grpSpPr>
            <a:xfrm>
              <a:off x="2352600" y="4235400"/>
              <a:ext cx="476280" cy="1371600"/>
              <a:chOff x="2352600" y="4235400"/>
              <a:chExt cx="476280" cy="1371600"/>
            </a:xfrm>
          </p:grpSpPr>
          <p:sp>
            <p:nvSpPr>
              <p:cNvPr id="4769" name=""/>
              <p:cNvSpPr/>
              <p:nvPr/>
            </p:nvSpPr>
            <p:spPr>
              <a:xfrm>
                <a:off x="2601720" y="423540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rot="16200000">
                <a:off x="2270520" y="4713480"/>
                <a:ext cx="647640" cy="395280"/>
              </a:xfrm>
              <a:prstGeom prst="flowChartDecision">
                <a:avLst/>
              </a:prstGeom>
              <a:solidFill>
                <a:srgbClr val="f6fae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396880" y="490356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352600" y="4649760"/>
                <a:ext cx="0" cy="585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3" name=""/>
          <p:cNvGrpSpPr/>
          <p:nvPr/>
        </p:nvGrpSpPr>
        <p:grpSpPr>
          <a:xfrm>
            <a:off x="5314680" y="3246480"/>
            <a:ext cx="3372120" cy="3143880"/>
            <a:chOff x="5314680" y="3246480"/>
            <a:chExt cx="3372120" cy="3143880"/>
          </a:xfrm>
        </p:grpSpPr>
        <p:sp>
          <p:nvSpPr>
            <p:cNvPr id="4774" name=""/>
            <p:cNvSpPr/>
            <p:nvPr/>
          </p:nvSpPr>
          <p:spPr>
            <a:xfrm>
              <a:off x="6183360" y="5869800"/>
              <a:ext cx="20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d) CC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913440" y="4435560"/>
              <a:ext cx="115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6" name=""/>
            <p:cNvGrpSpPr/>
            <p:nvPr/>
          </p:nvGrpSpPr>
          <p:grpSpPr>
            <a:xfrm>
              <a:off x="6990840" y="4081320"/>
              <a:ext cx="1375200" cy="108000"/>
              <a:chOff x="6990840" y="4081320"/>
              <a:chExt cx="1375200" cy="108000"/>
            </a:xfrm>
          </p:grpSpPr>
          <p:sp>
            <p:nvSpPr>
              <p:cNvPr id="4777" name=""/>
              <p:cNvSpPr/>
              <p:nvPr/>
            </p:nvSpPr>
            <p:spPr>
              <a:xfrm>
                <a:off x="8258040" y="4081320"/>
                <a:ext cx="108000" cy="108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H="1">
                <a:off x="6990840" y="4100400"/>
                <a:ext cx="12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9" name=""/>
            <p:cNvSpPr/>
            <p:nvPr/>
          </p:nvSpPr>
          <p:spPr>
            <a:xfrm>
              <a:off x="5486400" y="5343480"/>
              <a:ext cx="10008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 flipH="1">
              <a:off x="5546880" y="5423040"/>
              <a:ext cx="93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5314680" y="4403520"/>
              <a:ext cx="92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977240" y="4429080"/>
              <a:ext cx="70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5486400" y="3881520"/>
              <a:ext cx="552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 flipH="1">
              <a:off x="7905240" y="3881520"/>
              <a:ext cx="476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790040" y="3246480"/>
              <a:ext cx="66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497560" y="3294000"/>
              <a:ext cx="105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5410080" y="4003560"/>
              <a:ext cx="2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5448240" y="4025880"/>
              <a:ext cx="10152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flipH="1">
              <a:off x="5508720" y="41054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5410080" y="4827600"/>
              <a:ext cx="27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8182080" y="407988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8182080" y="4903920"/>
              <a:ext cx="27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6246720" y="3606840"/>
              <a:ext cx="1554120" cy="20476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4" name=""/>
            <p:cNvGrpSpPr/>
            <p:nvPr/>
          </p:nvGrpSpPr>
          <p:grpSpPr>
            <a:xfrm>
              <a:off x="7007400" y="5423040"/>
              <a:ext cx="1374120" cy="107640"/>
              <a:chOff x="7007400" y="5423040"/>
              <a:chExt cx="1374120" cy="107640"/>
            </a:xfrm>
          </p:grpSpPr>
          <p:sp>
            <p:nvSpPr>
              <p:cNvPr id="4795" name=""/>
              <p:cNvSpPr/>
              <p:nvPr/>
            </p:nvSpPr>
            <p:spPr>
              <a:xfrm>
                <a:off x="8273880" y="5423040"/>
                <a:ext cx="107640" cy="10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H="1">
                <a:off x="7007400" y="5441760"/>
                <a:ext cx="12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7" name=""/>
            <p:cNvSpPr/>
            <p:nvPr/>
          </p:nvSpPr>
          <p:spPr>
            <a:xfrm>
              <a:off x="6478560" y="4105440"/>
              <a:ext cx="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8" name=""/>
            <p:cNvGrpSpPr/>
            <p:nvPr/>
          </p:nvGrpSpPr>
          <p:grpSpPr>
            <a:xfrm>
              <a:off x="6789600" y="4113360"/>
              <a:ext cx="476280" cy="1371600"/>
              <a:chOff x="6789600" y="4113360"/>
              <a:chExt cx="476280" cy="1371600"/>
            </a:xfrm>
          </p:grpSpPr>
          <p:sp>
            <p:nvSpPr>
              <p:cNvPr id="4799" name=""/>
              <p:cNvSpPr/>
              <p:nvPr/>
            </p:nvSpPr>
            <p:spPr>
              <a:xfrm>
                <a:off x="7038720" y="411336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rot="16200000">
                <a:off x="6707520" y="4591440"/>
                <a:ext cx="647640" cy="395280"/>
              </a:xfrm>
              <a:prstGeom prst="flowChartDecision">
                <a:avLst/>
              </a:prstGeom>
              <a:solidFill>
                <a:srgbClr val="f6fae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6833880" y="47818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789600" y="4527720"/>
                <a:ext cx="0" cy="585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4648320" y="685800"/>
            <a:ext cx="0" cy="57913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304920" y="731880"/>
            <a:ext cx="625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200"/>
                </a:solidFill>
                <a:latin typeface="Times New Roman"/>
              </a:rPr>
              <a:t>电压控制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4724280" y="685800"/>
            <a:ext cx="625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200"/>
                </a:solidFill>
                <a:latin typeface="Times New Roman"/>
              </a:rPr>
              <a:t>电流控制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289080" y="3505320"/>
            <a:ext cx="625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200"/>
                </a:solidFill>
                <a:latin typeface="Times New Roman"/>
              </a:rPr>
              <a:t>电压控制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4800600" y="3505320"/>
            <a:ext cx="625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200"/>
                </a:solidFill>
                <a:latin typeface="Times New Roman"/>
              </a:rPr>
              <a:t>电流控制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3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8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2" dur="500"/>
                                        <p:tgtEl>
                                          <p:spTgt spid="4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6" dur="500"/>
                                        <p:tgtEl>
                                          <p:spTgt spid="4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1" dur="500"/>
                                        <p:tgtEl>
                                          <p:spTgt spid="4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6" dur="500"/>
                                        <p:tgtEl>
                                          <p:spTgt spid="4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1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6" dur="5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1" dur="500"/>
                                        <p:tgtEl>
                                          <p:spTgt spid="4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6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15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1185840" y="198360"/>
            <a:ext cx="384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4230720" y="318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解法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：用支路电流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4847400" y="130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大回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5409720" y="1766880"/>
            <a:ext cx="236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. 4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6174720" y="1309680"/>
            <a:ext cx="262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5" name=""/>
          <p:cNvGrpSpPr/>
          <p:nvPr/>
        </p:nvGrpSpPr>
        <p:grpSpPr>
          <a:xfrm>
            <a:off x="533520" y="579240"/>
            <a:ext cx="4304880" cy="2011320"/>
            <a:chOff x="533520" y="579240"/>
            <a:chExt cx="4304880" cy="2011320"/>
          </a:xfrm>
        </p:grpSpPr>
        <p:sp>
          <p:nvSpPr>
            <p:cNvPr id="4816" name=""/>
            <p:cNvSpPr/>
            <p:nvPr/>
          </p:nvSpPr>
          <p:spPr>
            <a:xfrm>
              <a:off x="3682800" y="1569960"/>
              <a:ext cx="115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 flipH="1">
              <a:off x="723600" y="2577960"/>
              <a:ext cx="308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8" name=""/>
            <p:cNvGrpSpPr/>
            <p:nvPr/>
          </p:nvGrpSpPr>
          <p:grpSpPr>
            <a:xfrm>
              <a:off x="3432240" y="1206360"/>
              <a:ext cx="532440" cy="1371600"/>
              <a:chOff x="3432240" y="1206360"/>
              <a:chExt cx="532440" cy="1371600"/>
            </a:xfrm>
          </p:grpSpPr>
          <p:grpSp>
            <p:nvGrpSpPr>
              <p:cNvPr id="4819" name=""/>
              <p:cNvGrpSpPr/>
              <p:nvPr/>
            </p:nvGrpSpPr>
            <p:grpSpPr>
              <a:xfrm>
                <a:off x="3569760" y="1206360"/>
                <a:ext cx="394920" cy="1371600"/>
                <a:chOff x="3569760" y="1206360"/>
                <a:chExt cx="394920" cy="1371600"/>
              </a:xfrm>
            </p:grpSpPr>
            <p:sp>
              <p:nvSpPr>
                <p:cNvPr id="4820" name=""/>
                <p:cNvSpPr/>
                <p:nvPr/>
              </p:nvSpPr>
              <p:spPr>
                <a:xfrm>
                  <a:off x="3774600" y="120636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rot="16200000">
                  <a:off x="3443400" y="1684800"/>
                  <a:ext cx="647640" cy="394920"/>
                </a:xfrm>
                <a:prstGeom prst="flowChartDecision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2" name=""/>
              <p:cNvSpPr/>
              <p:nvPr/>
            </p:nvSpPr>
            <p:spPr>
              <a:xfrm>
                <a:off x="3432240" y="1320120"/>
                <a:ext cx="383400" cy="9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3" name=""/>
            <p:cNvSpPr/>
            <p:nvPr/>
          </p:nvSpPr>
          <p:spPr>
            <a:xfrm>
              <a:off x="723960" y="168984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34760" y="1143000"/>
              <a:ext cx="446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2512800" y="1580760"/>
              <a:ext cx="0" cy="476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36560" y="579240"/>
              <a:ext cx="105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H="1">
              <a:off x="723600" y="12189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23960" y="1371600"/>
              <a:ext cx="27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647640" y="19191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23960" y="1260360"/>
              <a:ext cx="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181160" y="1155600"/>
              <a:ext cx="50256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714320" y="12189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2811240" y="1143000"/>
              <a:ext cx="502920" cy="21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314520" y="12189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33520" y="1773000"/>
              <a:ext cx="36000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2247840" y="1218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2073240" y="1676160"/>
              <a:ext cx="360000" cy="36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2247840" y="20574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2095560" y="1865160"/>
              <a:ext cx="36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2247840" y="161352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876240" y="62316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552760" y="69912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H="1">
              <a:off x="3429000" y="1143000"/>
              <a:ext cx="445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517920" y="593640"/>
              <a:ext cx="105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077560" y="775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6" name=""/>
          <p:cNvSpPr/>
          <p:nvPr/>
        </p:nvSpPr>
        <p:spPr>
          <a:xfrm>
            <a:off x="4535640" y="838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–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343400" y="2224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解法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：用叠加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8" name=""/>
          <p:cNvGrpSpPr/>
          <p:nvPr/>
        </p:nvGrpSpPr>
        <p:grpSpPr>
          <a:xfrm>
            <a:off x="685800" y="3017880"/>
            <a:ext cx="3924360" cy="1825560"/>
            <a:chOff x="685800" y="3017880"/>
            <a:chExt cx="3924360" cy="1825560"/>
          </a:xfrm>
        </p:grpSpPr>
        <p:sp>
          <p:nvSpPr>
            <p:cNvPr id="4849" name=""/>
            <p:cNvSpPr/>
            <p:nvPr/>
          </p:nvSpPr>
          <p:spPr>
            <a:xfrm>
              <a:off x="3570480" y="3908160"/>
              <a:ext cx="103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'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>
              <a:off x="857160" y="4843440"/>
              <a:ext cx="277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1" name=""/>
            <p:cNvGrpSpPr/>
            <p:nvPr/>
          </p:nvGrpSpPr>
          <p:grpSpPr>
            <a:xfrm>
              <a:off x="3273840" y="3609720"/>
              <a:ext cx="497880" cy="1233360"/>
              <a:chOff x="3273840" y="3609720"/>
              <a:chExt cx="497880" cy="1233360"/>
            </a:xfrm>
          </p:grpSpPr>
          <p:grpSp>
            <p:nvGrpSpPr>
              <p:cNvPr id="4852" name=""/>
              <p:cNvGrpSpPr/>
              <p:nvPr/>
            </p:nvGrpSpPr>
            <p:grpSpPr>
              <a:xfrm>
                <a:off x="3417120" y="3609720"/>
                <a:ext cx="354600" cy="1233360"/>
                <a:chOff x="3417120" y="3609720"/>
                <a:chExt cx="354600" cy="1233360"/>
              </a:xfrm>
            </p:grpSpPr>
            <p:sp>
              <p:nvSpPr>
                <p:cNvPr id="4853" name=""/>
                <p:cNvSpPr/>
                <p:nvPr/>
              </p:nvSpPr>
              <p:spPr>
                <a:xfrm>
                  <a:off x="3601080" y="3609720"/>
                  <a:ext cx="0" cy="123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4" name=""/>
                <p:cNvSpPr/>
                <p:nvPr/>
              </p:nvSpPr>
              <p:spPr>
                <a:xfrm rot="16200000">
                  <a:off x="3303360" y="4039920"/>
                  <a:ext cx="582120" cy="354600"/>
                </a:xfrm>
                <a:prstGeom prst="flowChartDecision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5" name=""/>
              <p:cNvSpPr/>
              <p:nvPr/>
            </p:nvSpPr>
            <p:spPr>
              <a:xfrm>
                <a:off x="3273840" y="3664080"/>
                <a:ext cx="383400" cy="9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6" name=""/>
            <p:cNvSpPr/>
            <p:nvPr/>
          </p:nvSpPr>
          <p:spPr>
            <a:xfrm>
              <a:off x="857160" y="4018680"/>
              <a:ext cx="95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866880" y="3552840"/>
              <a:ext cx="40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68320" y="3017880"/>
              <a:ext cx="9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H="1">
              <a:off x="856800" y="3620880"/>
              <a:ext cx="41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857160" y="3759120"/>
              <a:ext cx="24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789120" y="4251240"/>
              <a:ext cx="47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857160" y="3659040"/>
              <a:ext cx="0" cy="118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268640" y="3564000"/>
              <a:ext cx="452160" cy="19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747800" y="3620880"/>
              <a:ext cx="95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735280" y="3552840"/>
              <a:ext cx="452520" cy="19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3187800" y="362088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685800" y="4119480"/>
              <a:ext cx="324000" cy="323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058760" y="3162960"/>
              <a:ext cx="96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502000" y="3128040"/>
              <a:ext cx="9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0" name=""/>
          <p:cNvGrpSpPr/>
          <p:nvPr/>
        </p:nvGrpSpPr>
        <p:grpSpPr>
          <a:xfrm>
            <a:off x="4571640" y="3017880"/>
            <a:ext cx="3809880" cy="1839960"/>
            <a:chOff x="4571640" y="3017880"/>
            <a:chExt cx="3809880" cy="1839960"/>
          </a:xfrm>
        </p:grpSpPr>
        <p:sp>
          <p:nvSpPr>
            <p:cNvPr id="4871" name=""/>
            <p:cNvSpPr/>
            <p:nvPr/>
          </p:nvSpPr>
          <p:spPr>
            <a:xfrm>
              <a:off x="7341840" y="3909960"/>
              <a:ext cx="103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 flipH="1">
              <a:off x="4572000" y="4846680"/>
              <a:ext cx="27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3" name=""/>
            <p:cNvGrpSpPr/>
            <p:nvPr/>
          </p:nvGrpSpPr>
          <p:grpSpPr>
            <a:xfrm>
              <a:off x="6991200" y="3611880"/>
              <a:ext cx="497520" cy="1234800"/>
              <a:chOff x="6991200" y="3611880"/>
              <a:chExt cx="497520" cy="1234800"/>
            </a:xfrm>
          </p:grpSpPr>
          <p:grpSp>
            <p:nvGrpSpPr>
              <p:cNvPr id="4874" name=""/>
              <p:cNvGrpSpPr/>
              <p:nvPr/>
            </p:nvGrpSpPr>
            <p:grpSpPr>
              <a:xfrm>
                <a:off x="7133400" y="3611880"/>
                <a:ext cx="355320" cy="1234800"/>
                <a:chOff x="7133400" y="3611880"/>
                <a:chExt cx="355320" cy="1234800"/>
              </a:xfrm>
            </p:grpSpPr>
            <p:sp>
              <p:nvSpPr>
                <p:cNvPr id="4875" name=""/>
                <p:cNvSpPr/>
                <p:nvPr/>
              </p:nvSpPr>
              <p:spPr>
                <a:xfrm>
                  <a:off x="7317720" y="3611880"/>
                  <a:ext cx="0" cy="1234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 rot="16200000">
                  <a:off x="7019640" y="4042440"/>
                  <a:ext cx="582840" cy="355320"/>
                </a:xfrm>
                <a:prstGeom prst="flowChartDecision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7" name=""/>
              <p:cNvSpPr/>
              <p:nvPr/>
            </p:nvSpPr>
            <p:spPr>
              <a:xfrm>
                <a:off x="6991200" y="3666240"/>
                <a:ext cx="383400" cy="9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8" name=""/>
            <p:cNvSpPr/>
            <p:nvPr/>
          </p:nvSpPr>
          <p:spPr>
            <a:xfrm>
              <a:off x="4581360" y="3554640"/>
              <a:ext cx="401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6181560" y="3947760"/>
              <a:ext cx="0" cy="428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582800" y="3017880"/>
              <a:ext cx="94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H="1">
              <a:off x="4571640" y="3622680"/>
              <a:ext cx="41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4572000" y="3659400"/>
              <a:ext cx="0" cy="11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82760" y="3565800"/>
              <a:ext cx="45396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5464080" y="3622680"/>
              <a:ext cx="95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451200" y="3554640"/>
              <a:ext cx="45216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903720" y="3622680"/>
              <a:ext cx="41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5943240" y="3622680"/>
              <a:ext cx="0" cy="41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5786280" y="4034160"/>
              <a:ext cx="323280" cy="32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5943240" y="4376880"/>
              <a:ext cx="0" cy="4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5806800" y="420372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5943240" y="3952440"/>
              <a:ext cx="9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4830480" y="3087000"/>
              <a:ext cx="9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217920" y="3128400"/>
              <a:ext cx="9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609480" y="2590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压源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914400" y="4876920"/>
            <a:ext cx="3316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449568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源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4883760" y="48909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大回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4888440" y="5334120"/>
            <a:ext cx="3731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+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561600" y="5791320"/>
            <a:ext cx="404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= 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'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+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"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.6=1. 4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500"/>
                                        <p:tgtEl>
                                          <p:spTgt spid="4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3" dur="500"/>
                                        <p:tgtEl>
                                          <p:spTgt spid="4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3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4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3" dur="500"/>
                                        <p:tgtEl>
                                          <p:spTgt spid="4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8" dur="500"/>
                                        <p:tgtEl>
                                          <p:spTgt spid="4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3" dur="500"/>
                                        <p:tgtEl>
                                          <p:spTgt spid="4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8" dur="500"/>
                                        <p:tgtEl>
                                          <p:spTgt spid="4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500"/>
                                        <p:tgtEl>
                                          <p:spTgt spid="4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8" dur="500"/>
                                        <p:tgtEl>
                                          <p:spTgt spid="4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500"/>
                                        <p:tgtEl>
                                          <p:spTgt spid="4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8" dur="500"/>
                                        <p:tgtEl>
                                          <p:spTgt spid="4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4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8" dur="500"/>
                                        <p:tgtEl>
                                          <p:spTgt spid="4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"/>
          <p:cNvSpPr/>
          <p:nvPr/>
        </p:nvSpPr>
        <p:spPr>
          <a:xfrm>
            <a:off x="1077840" y="639720"/>
            <a:ext cx="24163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非线性电阻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609480" y="1219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线性电阻：电阻两端的电压与通过的电流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电阻值为一常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2" name=""/>
          <p:cNvGrpSpPr/>
          <p:nvPr/>
        </p:nvGrpSpPr>
        <p:grpSpPr>
          <a:xfrm>
            <a:off x="1447920" y="2084400"/>
            <a:ext cx="2645280" cy="2289960"/>
            <a:chOff x="1447920" y="2084400"/>
            <a:chExt cx="2645280" cy="2289960"/>
          </a:xfrm>
        </p:grpSpPr>
        <p:sp>
          <p:nvSpPr>
            <p:cNvPr id="4903" name=""/>
            <p:cNvSpPr/>
            <p:nvPr/>
          </p:nvSpPr>
          <p:spPr>
            <a:xfrm>
              <a:off x="1447920" y="3311280"/>
              <a:ext cx="250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2700360" y="2299680"/>
              <a:ext cx="0" cy="20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3656520" y="320184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2741400" y="2084400"/>
              <a:ext cx="3193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2664360" y="315108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8" name=""/>
          <p:cNvSpPr/>
          <p:nvPr/>
        </p:nvSpPr>
        <p:spPr>
          <a:xfrm flipV="1">
            <a:off x="1819440" y="2462040"/>
            <a:ext cx="1914480" cy="160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9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非线性电阻电路的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80880" y="5283360"/>
            <a:ext cx="8763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非线性电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阻两端的电压与通过的电流不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线性电阻值不是常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1" name=""/>
          <p:cNvGrpSpPr/>
          <p:nvPr/>
        </p:nvGrpSpPr>
        <p:grpSpPr>
          <a:xfrm>
            <a:off x="5931000" y="1797120"/>
            <a:ext cx="2905560" cy="2824200"/>
            <a:chOff x="5931000" y="1797120"/>
            <a:chExt cx="2905560" cy="2824200"/>
          </a:xfrm>
        </p:grpSpPr>
        <p:sp>
          <p:nvSpPr>
            <p:cNvPr id="4912" name=""/>
            <p:cNvSpPr/>
            <p:nvPr/>
          </p:nvSpPr>
          <p:spPr>
            <a:xfrm>
              <a:off x="5931000" y="3310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 flipV="1">
              <a:off x="7356600" y="2063880"/>
              <a:ext cx="0" cy="25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8399880" y="317520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7400880" y="1797120"/>
              <a:ext cx="3193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7012440" y="311328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7" name=""/>
          <p:cNvSpPr/>
          <p:nvPr/>
        </p:nvSpPr>
        <p:spPr>
          <a:xfrm>
            <a:off x="6303960" y="2131920"/>
            <a:ext cx="2073240" cy="2413080"/>
          </a:xfrm>
          <a:custGeom>
            <a:avLst/>
            <a:gdLst/>
            <a:ahLst/>
            <a:rect l="l" t="t" r="r" b="b"/>
            <a:pathLst>
              <a:path w="1474" h="1766">
                <a:moveTo>
                  <a:pt x="0" y="1766"/>
                </a:moveTo>
                <a:cubicBezTo>
                  <a:pt x="6" y="1712"/>
                  <a:pt x="22" y="1536"/>
                  <a:pt x="38" y="1440"/>
                </a:cubicBezTo>
                <a:cubicBezTo>
                  <a:pt x="54" y="1344"/>
                  <a:pt x="71" y="1265"/>
                  <a:pt x="96" y="1190"/>
                </a:cubicBezTo>
                <a:cubicBezTo>
                  <a:pt x="121" y="1115"/>
                  <a:pt x="145" y="1040"/>
                  <a:pt x="187" y="988"/>
                </a:cubicBezTo>
                <a:cubicBezTo>
                  <a:pt x="229" y="936"/>
                  <a:pt x="286" y="899"/>
                  <a:pt x="350" y="878"/>
                </a:cubicBezTo>
                <a:cubicBezTo>
                  <a:pt x="414" y="857"/>
                  <a:pt x="472" y="864"/>
                  <a:pt x="571" y="859"/>
                </a:cubicBezTo>
                <a:cubicBezTo>
                  <a:pt x="670" y="854"/>
                  <a:pt x="858" y="855"/>
                  <a:pt x="946" y="849"/>
                </a:cubicBezTo>
                <a:cubicBezTo>
                  <a:pt x="1034" y="843"/>
                  <a:pt x="1058" y="832"/>
                  <a:pt x="1099" y="820"/>
                </a:cubicBezTo>
                <a:cubicBezTo>
                  <a:pt x="1140" y="808"/>
                  <a:pt x="1163" y="798"/>
                  <a:pt x="1195" y="777"/>
                </a:cubicBezTo>
                <a:cubicBezTo>
                  <a:pt x="1227" y="756"/>
                  <a:pt x="1266" y="723"/>
                  <a:pt x="1291" y="696"/>
                </a:cubicBezTo>
                <a:cubicBezTo>
                  <a:pt x="1316" y="669"/>
                  <a:pt x="1326" y="651"/>
                  <a:pt x="1344" y="614"/>
                </a:cubicBezTo>
                <a:cubicBezTo>
                  <a:pt x="1362" y="577"/>
                  <a:pt x="1383" y="516"/>
                  <a:pt x="1397" y="470"/>
                </a:cubicBezTo>
                <a:cubicBezTo>
                  <a:pt x="1411" y="424"/>
                  <a:pt x="1418" y="384"/>
                  <a:pt x="1426" y="340"/>
                </a:cubicBezTo>
                <a:cubicBezTo>
                  <a:pt x="1434" y="296"/>
                  <a:pt x="1439" y="247"/>
                  <a:pt x="1445" y="206"/>
                </a:cubicBezTo>
                <a:cubicBezTo>
                  <a:pt x="1451" y="165"/>
                  <a:pt x="1459" y="125"/>
                  <a:pt x="1464" y="91"/>
                </a:cubicBezTo>
                <a:cubicBezTo>
                  <a:pt x="1469" y="57"/>
                  <a:pt x="1472" y="19"/>
                  <a:pt x="14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2064600" y="4311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线性电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伏安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6380280" y="43876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半导体二极管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伏安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5" dur="500"/>
                                        <p:tgtEl>
                                          <p:spTgt spid="4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0" dur="500"/>
                                        <p:tgtEl>
                                          <p:spTgt spid="4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5" dur="500"/>
                                        <p:tgtEl>
                                          <p:spTgt spid="4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4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4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5" dur="500"/>
                                        <p:tgtEl>
                                          <p:spTgt spid="4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0" dur="500"/>
                                        <p:tgtEl>
                                          <p:spTgt spid="4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5" dur="500"/>
                                        <p:tgtEl>
                                          <p:spTgt spid="4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5" dur="500"/>
                                        <p:tgtEl>
                                          <p:spTgt spid="4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"/>
          <p:cNvSpPr/>
          <p:nvPr/>
        </p:nvSpPr>
        <p:spPr>
          <a:xfrm>
            <a:off x="1243440" y="0"/>
            <a:ext cx="3167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非线性电阻元件的电阻表示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1478520" y="461880"/>
            <a:ext cx="4236480" cy="1062000"/>
            <a:chOff x="1478520" y="461880"/>
            <a:chExt cx="4236480" cy="1062000"/>
          </a:xfrm>
        </p:grpSpPr>
        <p:sp>
          <p:nvSpPr>
            <p:cNvPr id="4922" name=""/>
            <p:cNvSpPr/>
            <p:nvPr/>
          </p:nvSpPr>
          <p:spPr>
            <a:xfrm>
              <a:off x="1478520" y="593640"/>
              <a:ext cx="25279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静态电阻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直流电阻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3" name=""/>
                <p:cNvSpPr txBox="1"/>
                <p:nvPr/>
              </p:nvSpPr>
              <p:spPr>
                <a:xfrm>
                  <a:off x="4529160" y="461880"/>
                  <a:ext cx="118584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4" name=""/>
          <p:cNvGrpSpPr/>
          <p:nvPr/>
        </p:nvGrpSpPr>
        <p:grpSpPr>
          <a:xfrm>
            <a:off x="1406520" y="1778040"/>
            <a:ext cx="5527800" cy="1041480"/>
            <a:chOff x="1406520" y="1778040"/>
            <a:chExt cx="5527800" cy="1041480"/>
          </a:xfrm>
        </p:grpSpPr>
        <p:sp>
          <p:nvSpPr>
            <p:cNvPr id="4925" name=""/>
            <p:cNvSpPr/>
            <p:nvPr/>
          </p:nvSpPr>
          <p:spPr>
            <a:xfrm>
              <a:off x="1406520" y="1903320"/>
              <a:ext cx="2314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动态电阻（交流电阻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6" name=""/>
                <p:cNvSpPr txBox="1"/>
                <p:nvPr/>
              </p:nvSpPr>
              <p:spPr>
                <a:xfrm>
                  <a:off x="4282920" y="1778040"/>
                  <a:ext cx="26514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Δ  </m:t>
                          </m:r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r>
                            <m:t xml:space="preserve">ΔU</m:t>
                          </m:r>
                        </m:num>
                        <m:den>
                          <m:r>
                            <m:t xml:space="preserve">Δ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dU</m:t>
                          </m:r>
                        </m:num>
                        <m:den>
                          <m:r>
                            <m:t xml:space="preserve">d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27" name=""/>
          <p:cNvSpPr/>
          <p:nvPr/>
        </p:nvSpPr>
        <p:spPr>
          <a:xfrm>
            <a:off x="1876320" y="3600360"/>
            <a:ext cx="12477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 flipV="1">
            <a:off x="3124080" y="3600000"/>
            <a:ext cx="0" cy="12193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1876320" y="4437000"/>
            <a:ext cx="236520" cy="77760"/>
          </a:xfrm>
          <a:custGeom>
            <a:avLst/>
            <a:gdLst/>
            <a:ahLst/>
            <a:rect l="l" t="t" r="r" b="b"/>
            <a:pathLst>
              <a:path w="149" h="49">
                <a:moveTo>
                  <a:pt x="0" y="5"/>
                </a:moveTo>
                <a:cubicBezTo>
                  <a:pt x="8" y="4"/>
                  <a:pt x="34" y="0"/>
                  <a:pt x="48" y="1"/>
                </a:cubicBezTo>
                <a:cubicBezTo>
                  <a:pt x="62" y="2"/>
                  <a:pt x="69" y="5"/>
                  <a:pt x="82" y="10"/>
                </a:cubicBezTo>
                <a:cubicBezTo>
                  <a:pt x="95" y="15"/>
                  <a:pt x="114" y="23"/>
                  <a:pt x="125" y="29"/>
                </a:cubicBezTo>
                <a:cubicBezTo>
                  <a:pt x="136" y="35"/>
                  <a:pt x="144" y="45"/>
                  <a:pt x="149" y="4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2684880" y="2971800"/>
            <a:ext cx="4366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1" name=""/>
              <p:cNvSpPr txBox="1"/>
              <p:nvPr/>
            </p:nvSpPr>
            <p:spPr>
              <a:xfrm>
                <a:off x="1943280" y="4191120"/>
                <a:ext cx="2473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2" name=""/>
          <p:cNvSpPr/>
          <p:nvPr/>
        </p:nvSpPr>
        <p:spPr>
          <a:xfrm>
            <a:off x="5315760" y="3733920"/>
            <a:ext cx="11271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符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1550520" y="5715000"/>
            <a:ext cx="2741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静态电阻与动态电阻的图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1469160" y="2438280"/>
            <a:ext cx="2871720" cy="3733560"/>
            <a:chOff x="1469160" y="2438280"/>
            <a:chExt cx="2871720" cy="3733560"/>
          </a:xfrm>
        </p:grpSpPr>
        <p:sp>
          <p:nvSpPr>
            <p:cNvPr id="4935" name=""/>
            <p:cNvSpPr/>
            <p:nvPr/>
          </p:nvSpPr>
          <p:spPr>
            <a:xfrm flipV="1">
              <a:off x="1868400" y="2666520"/>
              <a:ext cx="0" cy="350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868400" y="4815000"/>
              <a:ext cx="236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876320" y="2843280"/>
              <a:ext cx="1357560" cy="1963800"/>
            </a:xfrm>
            <a:custGeom>
              <a:avLst/>
              <a:gdLst/>
              <a:ahLst/>
              <a:rect l="l" t="t" r="r" b="b"/>
              <a:pathLst>
                <a:path w="1152" h="1301">
                  <a:moveTo>
                    <a:pt x="0" y="1301"/>
                  </a:moveTo>
                  <a:cubicBezTo>
                    <a:pt x="17" y="1299"/>
                    <a:pt x="70" y="1297"/>
                    <a:pt x="105" y="1292"/>
                  </a:cubicBezTo>
                  <a:cubicBezTo>
                    <a:pt x="140" y="1287"/>
                    <a:pt x="172" y="1278"/>
                    <a:pt x="211" y="1268"/>
                  </a:cubicBezTo>
                  <a:cubicBezTo>
                    <a:pt x="250" y="1258"/>
                    <a:pt x="297" y="1247"/>
                    <a:pt x="341" y="1229"/>
                  </a:cubicBezTo>
                  <a:cubicBezTo>
                    <a:pt x="385" y="1211"/>
                    <a:pt x="428" y="1186"/>
                    <a:pt x="475" y="1157"/>
                  </a:cubicBezTo>
                  <a:cubicBezTo>
                    <a:pt x="522" y="1128"/>
                    <a:pt x="571" y="1102"/>
                    <a:pt x="624" y="1056"/>
                  </a:cubicBezTo>
                  <a:cubicBezTo>
                    <a:pt x="677" y="1010"/>
                    <a:pt x="739" y="944"/>
                    <a:pt x="792" y="879"/>
                  </a:cubicBezTo>
                  <a:cubicBezTo>
                    <a:pt x="845" y="814"/>
                    <a:pt x="902" y="726"/>
                    <a:pt x="941" y="663"/>
                  </a:cubicBezTo>
                  <a:cubicBezTo>
                    <a:pt x="980" y="600"/>
                    <a:pt x="1001" y="561"/>
                    <a:pt x="1027" y="504"/>
                  </a:cubicBezTo>
                  <a:cubicBezTo>
                    <a:pt x="1053" y="447"/>
                    <a:pt x="1081" y="382"/>
                    <a:pt x="1099" y="322"/>
                  </a:cubicBezTo>
                  <a:cubicBezTo>
                    <a:pt x="1117" y="262"/>
                    <a:pt x="1124" y="198"/>
                    <a:pt x="1133" y="144"/>
                  </a:cubicBezTo>
                  <a:cubicBezTo>
                    <a:pt x="1142" y="90"/>
                    <a:pt x="1148" y="3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930320" y="2438280"/>
              <a:ext cx="3193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904200" y="471960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469160" y="4586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2801880" y="480060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1525680" y="3429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380880" y="1143000"/>
            <a:ext cx="228600" cy="919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9080"/>
              <a:gd name="textAreaBottom" fmla="*/ 895320 h 9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V="1">
            <a:off x="1860480" y="3657240"/>
            <a:ext cx="1187640" cy="114948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3238560" y="3124080"/>
            <a:ext cx="0" cy="9144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2913120" y="4038480"/>
            <a:ext cx="3636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876320" y="5411880"/>
            <a:ext cx="236520" cy="77760"/>
          </a:xfrm>
          <a:custGeom>
            <a:avLst/>
            <a:gdLst/>
            <a:ahLst/>
            <a:rect l="l" t="t" r="r" b="b"/>
            <a:pathLst>
              <a:path w="149" h="49">
                <a:moveTo>
                  <a:pt x="0" y="5"/>
                </a:moveTo>
                <a:cubicBezTo>
                  <a:pt x="8" y="4"/>
                  <a:pt x="34" y="0"/>
                  <a:pt x="48" y="1"/>
                </a:cubicBezTo>
                <a:cubicBezTo>
                  <a:pt x="62" y="2"/>
                  <a:pt x="69" y="5"/>
                  <a:pt x="82" y="10"/>
                </a:cubicBezTo>
                <a:cubicBezTo>
                  <a:pt x="95" y="15"/>
                  <a:pt x="114" y="23"/>
                  <a:pt x="125" y="29"/>
                </a:cubicBezTo>
                <a:cubicBezTo>
                  <a:pt x="136" y="35"/>
                  <a:pt x="144" y="45"/>
                  <a:pt x="149" y="49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8" name=""/>
              <p:cNvSpPr txBox="1"/>
              <p:nvPr/>
            </p:nvSpPr>
            <p:spPr>
              <a:xfrm>
                <a:off x="1905120" y="5108400"/>
                <a:ext cx="190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9" name=""/>
              <p:cNvSpPr txBox="1"/>
              <p:nvPr/>
            </p:nvSpPr>
            <p:spPr>
              <a:xfrm>
                <a:off x="5791320" y="762120"/>
                <a:ext cx="1371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0" name=""/>
              <p:cNvSpPr txBox="1"/>
              <p:nvPr/>
            </p:nvSpPr>
            <p:spPr>
              <a:xfrm>
                <a:off x="6934320" y="2084400"/>
                <a:ext cx="12952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1" name=""/>
          <p:cNvSpPr/>
          <p:nvPr/>
        </p:nvSpPr>
        <p:spPr>
          <a:xfrm>
            <a:off x="3202920" y="3276720"/>
            <a:ext cx="561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2822400" y="388620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048120" y="3581280"/>
            <a:ext cx="9360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 flipV="1">
            <a:off x="1875960" y="3589200"/>
            <a:ext cx="1277280" cy="2235600"/>
          </a:xfrm>
          <a:prstGeom prst="line">
            <a:avLst/>
          </a:prstGeom>
          <a:ln w="3816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5" name=""/>
          <p:cNvGrpSpPr/>
          <p:nvPr/>
        </p:nvGrpSpPr>
        <p:grpSpPr>
          <a:xfrm>
            <a:off x="6553080" y="3897000"/>
            <a:ext cx="1253880" cy="2122920"/>
            <a:chOff x="6553080" y="3897000"/>
            <a:chExt cx="1253880" cy="2122920"/>
          </a:xfrm>
        </p:grpSpPr>
        <p:sp>
          <p:nvSpPr>
            <p:cNvPr id="4956" name=""/>
            <p:cNvSpPr/>
            <p:nvPr/>
          </p:nvSpPr>
          <p:spPr>
            <a:xfrm>
              <a:off x="7390080" y="473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7218360" y="5192640"/>
              <a:ext cx="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086600" y="4678560"/>
              <a:ext cx="261720" cy="48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6553080" y="5181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V="1">
              <a:off x="6858000" y="4622760"/>
              <a:ext cx="76176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 flipV="1">
              <a:off x="7235640" y="38970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2" name=""/>
          <p:cNvSpPr/>
          <p:nvPr/>
        </p:nvSpPr>
        <p:spPr>
          <a:xfrm>
            <a:off x="2117520" y="1219320"/>
            <a:ext cx="4661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工作点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电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4267080" y="2819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工作点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附近电压、电流微变量之比的极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6" dur="indefinite" restart="never" nodeType="tmRoot">
          <p:childTnLst>
            <p:seq>
              <p:cTn id="2827" dur="indefinite" nodeType="mainSeq">
                <p:childTnLst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2" dur="500"/>
                                        <p:tgtEl>
                                          <p:spTgt spid="4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7" dur="500"/>
                                        <p:tgtEl>
                                          <p:spTgt spid="4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fill="hold">
                            <p:stCondLst>
                              <p:cond delay="500"/>
                            </p:stCondLst>
                            <p:childTnLst>
                              <p:par>
                                <p:cTn id="2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1" dur="500"/>
                                        <p:tgtEl>
                                          <p:spTgt spid="4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5" dur="500"/>
                                        <p:tgtEl>
                                          <p:spTgt spid="4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3" dur="500"/>
                                        <p:tgtEl>
                                          <p:spTgt spid="4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7" dur="5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1" dur="500"/>
                                        <p:tgtEl>
                                          <p:spTgt spid="4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5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0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5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9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7" dur="5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2" dur="5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7" dur="500"/>
                                        <p:tgtEl>
                                          <p:spTgt spid="4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2" dur="500"/>
                                        <p:tgtEl>
                                          <p:spTgt spid="4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500"/>
                            </p:stCondLst>
                            <p:childTnLst>
                              <p:par>
                                <p:cTn id="2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6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0" dur="5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4" dur="500"/>
                                        <p:tgtEl>
                                          <p:spTgt spid="4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4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4" dur="500"/>
                                        <p:tgtEl>
                                          <p:spTgt spid="4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500"/>
                            </p:stCondLst>
                            <p:childTnLst>
                              <p:par>
                                <p:cTn id="2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8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6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1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6" dur="500"/>
                                        <p:tgtEl>
                                          <p:spTgt spid="4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"/>
          <p:cNvSpPr/>
          <p:nvPr/>
        </p:nvSpPr>
        <p:spPr>
          <a:xfrm>
            <a:off x="1239480" y="304560"/>
            <a:ext cx="3056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非线性电阻电路的图解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906480" y="838080"/>
            <a:ext cx="66373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条件：具备非线性电阻的伏安特性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565560" y="1366560"/>
            <a:ext cx="1238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题步骤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685800" y="3454560"/>
            <a:ext cx="2281320" cy="2336760"/>
          </a:xfrm>
          <a:prstGeom prst="rect">
            <a:avLst/>
          </a:prstGeom>
          <a:noFill/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1753560" y="1905120"/>
            <a:ext cx="498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作用于非线性电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有源二端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虚线框内的电路）的负载线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4865760" y="3519360"/>
            <a:ext cx="366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–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0" name=""/>
              <p:cNvSpPr txBox="1"/>
              <p:nvPr/>
            </p:nvSpPr>
            <p:spPr>
              <a:xfrm>
                <a:off x="5183280" y="4267080"/>
                <a:ext cx="28940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71" name="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965160" cy="1089000"/>
          </a:xfrm>
          <a:prstGeom prst="rect">
            <a:avLst/>
          </a:prstGeom>
          <a:ln w="0">
            <a:noFill/>
          </a:ln>
        </p:spPr>
      </p:pic>
      <p:grpSp>
        <p:nvGrpSpPr>
          <p:cNvPr id="4972" name=""/>
          <p:cNvGrpSpPr/>
          <p:nvPr/>
        </p:nvGrpSpPr>
        <p:grpSpPr>
          <a:xfrm>
            <a:off x="838080" y="3200040"/>
            <a:ext cx="3655800" cy="2440440"/>
            <a:chOff x="838080" y="3200040"/>
            <a:chExt cx="3655800" cy="2440440"/>
          </a:xfrm>
        </p:grpSpPr>
        <p:sp>
          <p:nvSpPr>
            <p:cNvPr id="4973" name=""/>
            <p:cNvSpPr/>
            <p:nvPr/>
          </p:nvSpPr>
          <p:spPr>
            <a:xfrm>
              <a:off x="3284640" y="3200040"/>
              <a:ext cx="4492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4" name=""/>
            <p:cNvGrpSpPr/>
            <p:nvPr/>
          </p:nvGrpSpPr>
          <p:grpSpPr>
            <a:xfrm>
              <a:off x="838080" y="3657600"/>
              <a:ext cx="3655800" cy="1982880"/>
              <a:chOff x="838080" y="3657600"/>
              <a:chExt cx="3655800" cy="1982880"/>
            </a:xfrm>
          </p:grpSpPr>
          <p:sp>
            <p:nvSpPr>
              <p:cNvPr id="4975" name=""/>
              <p:cNvSpPr/>
              <p:nvPr/>
            </p:nvSpPr>
            <p:spPr>
              <a:xfrm>
                <a:off x="1355760" y="4954680"/>
                <a:ext cx="318960" cy="312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523880" y="449604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392120" y="4114800"/>
                <a:ext cx="219240" cy="39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501920" y="3810240"/>
                <a:ext cx="25066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501920" y="5639040"/>
                <a:ext cx="2506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486080" y="4605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503360" y="4967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838080" y="4052880"/>
                <a:ext cx="849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077000" y="45856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272400" y="4496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Ｕ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819520" y="3657600"/>
                <a:ext cx="446040" cy="3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614760" y="502632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430800" y="3886200"/>
                <a:ext cx="38340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373200" y="4719600"/>
                <a:ext cx="35892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952560" y="48769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687320" y="41245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500480" y="3783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525320" y="4129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962520" y="5040360"/>
                <a:ext cx="0" cy="59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852720" y="4525920"/>
                <a:ext cx="216000" cy="4892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flipV="1">
                <a:off x="3733920" y="4419360"/>
                <a:ext cx="460080" cy="61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3962520" y="3810240"/>
                <a:ext cx="0" cy="69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23880" y="38102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3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8" dur="500"/>
                                        <p:tgtEl>
                                          <p:spTgt spid="4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3" dur="500"/>
                                        <p:tgtEl>
                                          <p:spTgt spid="4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8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3" dur="500"/>
                                        <p:tgtEl>
                                          <p:spTgt spid="4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8" dur="500"/>
                                        <p:tgtEl>
                                          <p:spTgt spid="4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3" dur="500"/>
                                        <p:tgtEl>
                                          <p:spTgt spid="4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"/>
          <p:cNvSpPr/>
          <p:nvPr/>
        </p:nvSpPr>
        <p:spPr>
          <a:xfrm>
            <a:off x="380880" y="379800"/>
            <a:ext cx="84582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负载线方程在非线性电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伏安特性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画出有源二端网络的负载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1581120" y="2390760"/>
            <a:ext cx="1984320" cy="1639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386520" y="3881160"/>
            <a:ext cx="416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2243880" y="402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1223640" y="29098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3" name=""/>
          <p:cNvGrpSpPr/>
          <p:nvPr/>
        </p:nvGrpSpPr>
        <p:grpSpPr>
          <a:xfrm>
            <a:off x="1544760" y="3147840"/>
            <a:ext cx="949320" cy="874800"/>
            <a:chOff x="1544760" y="3147840"/>
            <a:chExt cx="949320" cy="874800"/>
          </a:xfrm>
        </p:grpSpPr>
        <p:sp>
          <p:nvSpPr>
            <p:cNvPr id="5004" name=""/>
            <p:cNvSpPr/>
            <p:nvPr/>
          </p:nvSpPr>
          <p:spPr>
            <a:xfrm>
              <a:off x="2494080" y="3182760"/>
              <a:ext cx="0" cy="83988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1544760" y="3147840"/>
              <a:ext cx="94932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6" name=""/>
          <p:cNvSpPr/>
          <p:nvPr/>
        </p:nvSpPr>
        <p:spPr>
          <a:xfrm>
            <a:off x="2624760" y="2674800"/>
            <a:ext cx="4366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7" name=""/>
          <p:cNvGrpSpPr/>
          <p:nvPr/>
        </p:nvGrpSpPr>
        <p:grpSpPr>
          <a:xfrm>
            <a:off x="1257840" y="1676160"/>
            <a:ext cx="2900520" cy="2730600"/>
            <a:chOff x="1257840" y="1676160"/>
            <a:chExt cx="2900520" cy="2730600"/>
          </a:xfrm>
        </p:grpSpPr>
        <p:sp>
          <p:nvSpPr>
            <p:cNvPr id="5008" name=""/>
            <p:cNvSpPr/>
            <p:nvPr/>
          </p:nvSpPr>
          <p:spPr>
            <a:xfrm>
              <a:off x="1577880" y="4041720"/>
              <a:ext cx="240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V="1">
              <a:off x="1577880" y="2019240"/>
              <a:ext cx="0" cy="202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579680" y="2293920"/>
              <a:ext cx="1181160" cy="1741680"/>
            </a:xfrm>
            <a:custGeom>
              <a:avLst/>
              <a:gdLst/>
              <a:ahLst/>
              <a:rect l="l" t="t" r="r" b="b"/>
              <a:pathLst>
                <a:path w="1341" h="1530">
                  <a:moveTo>
                    <a:pt x="0" y="1530"/>
                  </a:moveTo>
                  <a:cubicBezTo>
                    <a:pt x="24" y="1528"/>
                    <a:pt x="92" y="1526"/>
                    <a:pt x="141" y="1517"/>
                  </a:cubicBezTo>
                  <a:cubicBezTo>
                    <a:pt x="190" y="1508"/>
                    <a:pt x="239" y="1499"/>
                    <a:pt x="295" y="1478"/>
                  </a:cubicBezTo>
                  <a:cubicBezTo>
                    <a:pt x="351" y="1457"/>
                    <a:pt x="423" y="1422"/>
                    <a:pt x="477" y="1392"/>
                  </a:cubicBezTo>
                  <a:cubicBezTo>
                    <a:pt x="531" y="1362"/>
                    <a:pt x="568" y="1341"/>
                    <a:pt x="621" y="1296"/>
                  </a:cubicBezTo>
                  <a:cubicBezTo>
                    <a:pt x="674" y="1251"/>
                    <a:pt x="746" y="1176"/>
                    <a:pt x="794" y="1120"/>
                  </a:cubicBezTo>
                  <a:cubicBezTo>
                    <a:pt x="842" y="1064"/>
                    <a:pt x="866" y="1023"/>
                    <a:pt x="909" y="960"/>
                  </a:cubicBezTo>
                  <a:cubicBezTo>
                    <a:pt x="952" y="897"/>
                    <a:pt x="1008" y="813"/>
                    <a:pt x="1050" y="742"/>
                  </a:cubicBezTo>
                  <a:cubicBezTo>
                    <a:pt x="1092" y="671"/>
                    <a:pt x="1125" y="609"/>
                    <a:pt x="1159" y="531"/>
                  </a:cubicBezTo>
                  <a:cubicBezTo>
                    <a:pt x="1193" y="453"/>
                    <a:pt x="1225" y="363"/>
                    <a:pt x="1255" y="275"/>
                  </a:cubicBezTo>
                  <a:cubicBezTo>
                    <a:pt x="1285" y="187"/>
                    <a:pt x="1323" y="57"/>
                    <a:pt x="134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3721680" y="345240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577880" y="1676160"/>
              <a:ext cx="2574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257840" y="3886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14" name=""/>
              <p:cNvSpPr txBox="1"/>
              <p:nvPr/>
            </p:nvSpPr>
            <p:spPr>
              <a:xfrm>
                <a:off x="990720" y="1773360"/>
                <a:ext cx="5396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5" name=""/>
              <p:cNvSpPr txBox="1"/>
              <p:nvPr/>
            </p:nvSpPr>
            <p:spPr>
              <a:xfrm>
                <a:off x="3429000" y="3527280"/>
                <a:ext cx="37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6" name=""/>
          <p:cNvSpPr/>
          <p:nvPr/>
        </p:nvSpPr>
        <p:spPr>
          <a:xfrm>
            <a:off x="457200" y="5178960"/>
            <a:ext cx="86104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出非线性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伏安特性曲线与有源二端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线交点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坐标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5189400" y="4586400"/>
            <a:ext cx="36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应不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5724360" y="1989000"/>
            <a:ext cx="2428920" cy="1998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9" name=""/>
          <p:cNvGrpSpPr/>
          <p:nvPr/>
        </p:nvGrpSpPr>
        <p:grpSpPr>
          <a:xfrm>
            <a:off x="5181480" y="1619280"/>
            <a:ext cx="2524320" cy="2386080"/>
            <a:chOff x="5181480" y="1619280"/>
            <a:chExt cx="2524320" cy="2386080"/>
          </a:xfrm>
        </p:grpSpPr>
        <p:sp>
          <p:nvSpPr>
            <p:cNvPr id="5020" name=""/>
            <p:cNvSpPr/>
            <p:nvPr/>
          </p:nvSpPr>
          <p:spPr>
            <a:xfrm>
              <a:off x="5715000" y="2286000"/>
              <a:ext cx="1990800" cy="17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1" name=""/>
                <p:cNvSpPr txBox="1"/>
                <p:nvPr/>
              </p:nvSpPr>
              <p:spPr>
                <a:xfrm>
                  <a:off x="5181480" y="1619280"/>
                  <a:ext cx="54000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22" name=""/>
          <p:cNvGrpSpPr/>
          <p:nvPr/>
        </p:nvGrpSpPr>
        <p:grpSpPr>
          <a:xfrm>
            <a:off x="5537160" y="2416320"/>
            <a:ext cx="1666800" cy="1593720"/>
            <a:chOff x="5537160" y="2416320"/>
            <a:chExt cx="1666800" cy="1593720"/>
          </a:xfrm>
        </p:grpSpPr>
        <p:sp>
          <p:nvSpPr>
            <p:cNvPr id="5023" name=""/>
            <p:cNvSpPr/>
            <p:nvPr/>
          </p:nvSpPr>
          <p:spPr>
            <a:xfrm>
              <a:off x="5684760" y="2743200"/>
              <a:ext cx="1519200" cy="12668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537160" y="2416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5402880" y="1447560"/>
            <a:ext cx="3470400" cy="3099240"/>
            <a:chOff x="5402880" y="1447560"/>
            <a:chExt cx="3470400" cy="3099240"/>
          </a:xfrm>
        </p:grpSpPr>
        <p:grpSp>
          <p:nvGrpSpPr>
            <p:cNvPr id="5026" name=""/>
            <p:cNvGrpSpPr/>
            <p:nvPr/>
          </p:nvGrpSpPr>
          <p:grpSpPr>
            <a:xfrm>
              <a:off x="5402880" y="1447560"/>
              <a:ext cx="3215520" cy="3099240"/>
              <a:chOff x="5402880" y="1447560"/>
              <a:chExt cx="3215520" cy="3099240"/>
            </a:xfrm>
          </p:grpSpPr>
          <p:sp>
            <p:nvSpPr>
              <p:cNvPr id="5027" name=""/>
              <p:cNvSpPr/>
              <p:nvPr/>
            </p:nvSpPr>
            <p:spPr>
              <a:xfrm>
                <a:off x="7526520" y="3855600"/>
                <a:ext cx="41688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6510240" y="397512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721480" y="4005360"/>
                <a:ext cx="267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5715000" y="1752480"/>
                <a:ext cx="0" cy="225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724360" y="2257560"/>
                <a:ext cx="1181160" cy="1739880"/>
              </a:xfrm>
              <a:custGeom>
                <a:avLst/>
                <a:gdLst/>
                <a:ahLst/>
                <a:rect l="l" t="t" r="r" b="b"/>
                <a:pathLst>
                  <a:path w="1341" h="1530">
                    <a:moveTo>
                      <a:pt x="0" y="1530"/>
                    </a:moveTo>
                    <a:cubicBezTo>
                      <a:pt x="24" y="1528"/>
                      <a:pt x="92" y="1526"/>
                      <a:pt x="141" y="1517"/>
                    </a:cubicBezTo>
                    <a:cubicBezTo>
                      <a:pt x="190" y="1508"/>
                      <a:pt x="239" y="1499"/>
                      <a:pt x="295" y="1478"/>
                    </a:cubicBezTo>
                    <a:cubicBezTo>
                      <a:pt x="351" y="1457"/>
                      <a:pt x="423" y="1422"/>
                      <a:pt x="477" y="1392"/>
                    </a:cubicBezTo>
                    <a:cubicBezTo>
                      <a:pt x="531" y="1362"/>
                      <a:pt x="568" y="1341"/>
                      <a:pt x="621" y="1296"/>
                    </a:cubicBezTo>
                    <a:cubicBezTo>
                      <a:pt x="674" y="1251"/>
                      <a:pt x="746" y="1176"/>
                      <a:pt x="794" y="1120"/>
                    </a:cubicBezTo>
                    <a:cubicBezTo>
                      <a:pt x="842" y="1064"/>
                      <a:pt x="866" y="1023"/>
                      <a:pt x="909" y="960"/>
                    </a:cubicBezTo>
                    <a:cubicBezTo>
                      <a:pt x="952" y="897"/>
                      <a:pt x="1008" y="813"/>
                      <a:pt x="1050" y="742"/>
                    </a:cubicBezTo>
                    <a:cubicBezTo>
                      <a:pt x="1092" y="671"/>
                      <a:pt x="1125" y="609"/>
                      <a:pt x="1159" y="531"/>
                    </a:cubicBezTo>
                    <a:cubicBezTo>
                      <a:pt x="1193" y="453"/>
                      <a:pt x="1225" y="363"/>
                      <a:pt x="1255" y="275"/>
                    </a:cubicBezTo>
                    <a:cubicBezTo>
                      <a:pt x="1285" y="187"/>
                      <a:pt x="1323" y="57"/>
                      <a:pt x="134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802480" y="1447560"/>
                <a:ext cx="25704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402880" y="38498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8434440" y="3581280"/>
                <a:ext cx="18396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5" name=""/>
            <p:cNvSpPr/>
            <p:nvPr/>
          </p:nvSpPr>
          <p:spPr>
            <a:xfrm>
              <a:off x="8436600" y="358128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6" name=""/>
              <p:cNvSpPr txBox="1"/>
              <p:nvPr/>
            </p:nvSpPr>
            <p:spPr>
              <a:xfrm>
                <a:off x="7010280" y="4051440"/>
                <a:ext cx="457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37" name=""/>
          <p:cNvSpPr/>
          <p:nvPr/>
        </p:nvSpPr>
        <p:spPr>
          <a:xfrm>
            <a:off x="609480" y="45100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非线性电阻电路的图解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 flipH="1" flipV="1">
            <a:off x="5684760" y="3147840"/>
            <a:ext cx="2021040" cy="849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 flipH="1" flipV="1">
            <a:off x="6372000" y="2057400"/>
            <a:ext cx="1323720" cy="1954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0" name=""/>
              <p:cNvSpPr txBox="1"/>
              <p:nvPr/>
            </p:nvSpPr>
            <p:spPr>
              <a:xfrm>
                <a:off x="6553080" y="1924200"/>
                <a:ext cx="4809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1" name=""/>
              <p:cNvSpPr txBox="1"/>
              <p:nvPr/>
            </p:nvSpPr>
            <p:spPr>
              <a:xfrm>
                <a:off x="5292720" y="2852640"/>
                <a:ext cx="426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2" name=""/>
          <p:cNvSpPr/>
          <p:nvPr/>
        </p:nvSpPr>
        <p:spPr>
          <a:xfrm>
            <a:off x="2438280" y="3124080"/>
            <a:ext cx="9396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2286000" y="16002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线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3429000" y="2590920"/>
            <a:ext cx="1143000" cy="457200"/>
          </a:xfrm>
          <a:prstGeom prst="wedgeRoundRectCallout">
            <a:avLst>
              <a:gd name="adj1" fmla="val -98472"/>
              <a:gd name="adj2" fmla="val 13993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1523880" y="2362320"/>
            <a:ext cx="9396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3487680" y="4008600"/>
            <a:ext cx="9360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3429000" y="386064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6"/>
                </a:moveTo>
                <a:cubicBezTo>
                  <a:pt x="56" y="8"/>
                  <a:pt x="112" y="0"/>
                  <a:pt x="144" y="16"/>
                </a:cubicBezTo>
                <a:cubicBezTo>
                  <a:pt x="176" y="32"/>
                  <a:pt x="184" y="72"/>
                  <a:pt x="192" y="112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8" name=""/>
              <p:cNvSpPr txBox="1"/>
              <p:nvPr/>
            </p:nvSpPr>
            <p:spPr>
              <a:xfrm>
                <a:off x="7893000" y="4065480"/>
                <a:ext cx="488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9" name=""/>
              <p:cNvSpPr txBox="1"/>
              <p:nvPr/>
            </p:nvSpPr>
            <p:spPr>
              <a:xfrm>
                <a:off x="7226280" y="2008080"/>
                <a:ext cx="1841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0" name=""/>
              <p:cNvSpPr txBox="1"/>
              <p:nvPr/>
            </p:nvSpPr>
            <p:spPr>
              <a:xfrm>
                <a:off x="7211880" y="2422440"/>
                <a:ext cx="1870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4" dur="indefinite" restart="never" nodeType="tmRoot">
          <p:childTnLst>
            <p:seq>
              <p:cTn id="2985" dur="indefinite" nodeType="mainSeq">
                <p:childTnLst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0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8" dur="500"/>
                                        <p:tgtEl>
                                          <p:spTgt spid="5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500"/>
                            </p:stCondLst>
                            <p:childTnLst>
                              <p:par>
                                <p:cTn id="3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5" dur="500"/>
                                        <p:tgtEl>
                                          <p:spTgt spid="5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3" dur="500"/>
                                        <p:tgtEl>
                                          <p:spTgt spid="4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500"/>
                            </p:stCondLst>
                            <p:childTnLst>
                              <p:par>
                                <p:cTn id="30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7" dur="500"/>
                                        <p:tgtEl>
                                          <p:spTgt spid="5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2" dur="500"/>
                                        <p:tgtEl>
                                          <p:spTgt spid="5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500"/>
                            </p:stCondLst>
                            <p:childTnLst>
                              <p:par>
                                <p:cTn id="3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6" dur="500"/>
                                        <p:tgtEl>
                                          <p:spTgt spid="5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1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00"/>
                            </p:stCondLst>
                            <p:childTnLst>
                              <p:par>
                                <p:cTn id="30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9" dur="500"/>
                                        <p:tgtEl>
                                          <p:spTgt spid="5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54" dur="500"/>
                                        <p:tgtEl>
                                          <p:spTgt spid="5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500"/>
                            </p:stCondLst>
                            <p:childTnLst>
                              <p:par>
                                <p:cTn id="3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8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2" dur="500"/>
                                        <p:tgtEl>
                                          <p:spTgt spid="5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7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500"/>
                            </p:stCondLst>
                            <p:childTnLst>
                              <p:par>
                                <p:cTn id="3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1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6" dur="500"/>
                                        <p:tgtEl>
                                          <p:spTgt spid="5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1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fill="hold">
                            <p:stCondLst>
                              <p:cond delay="500"/>
                            </p:stCondLst>
                            <p:childTnLst>
                              <p:par>
                                <p:cTn id="3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5" dur="500"/>
                                        <p:tgtEl>
                                          <p:spTgt spid="5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0" dur="500"/>
                                        <p:tgtEl>
                                          <p:spTgt spid="5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5" dur="500"/>
                                        <p:tgtEl>
                                          <p:spTgt spid="5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0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5" dur="500"/>
                                        <p:tgtEl>
                                          <p:spTgt spid="5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9" dur="500"/>
                                        <p:tgtEl>
                                          <p:spTgt spid="5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4" dur="500"/>
                                        <p:tgtEl>
                                          <p:spTgt spid="5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8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3" dur="500"/>
                                        <p:tgtEl>
                                          <p:spTgt spid="5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"/>
          <p:cNvSpPr/>
          <p:nvPr/>
        </p:nvSpPr>
        <p:spPr>
          <a:xfrm>
            <a:off x="1427400" y="228240"/>
            <a:ext cx="3269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复杂非线性电阻电路的求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4419720" y="1895400"/>
            <a:ext cx="909360" cy="496800"/>
          </a:xfrm>
          <a:prstGeom prst="rightArrow">
            <a:avLst>
              <a:gd name="adj1" fmla="val 50000"/>
              <a:gd name="adj2" fmla="val 45761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533520" y="1150920"/>
            <a:ext cx="2520720" cy="2448000"/>
          </a:xfrm>
          <a:prstGeom prst="rect">
            <a:avLst/>
          </a:prstGeom>
          <a:noFill/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4" name=""/>
          <p:cNvGrpSpPr/>
          <p:nvPr/>
        </p:nvGrpSpPr>
        <p:grpSpPr>
          <a:xfrm>
            <a:off x="713520" y="769680"/>
            <a:ext cx="3724560" cy="2514960"/>
            <a:chOff x="713520" y="769680"/>
            <a:chExt cx="3724560" cy="2514960"/>
          </a:xfrm>
        </p:grpSpPr>
        <p:sp>
          <p:nvSpPr>
            <p:cNvPr id="5055" name=""/>
            <p:cNvSpPr/>
            <p:nvPr/>
          </p:nvSpPr>
          <p:spPr>
            <a:xfrm>
              <a:off x="1214280" y="2674800"/>
              <a:ext cx="32400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371600" y="2293920"/>
              <a:ext cx="0" cy="9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260360" y="1913040"/>
              <a:ext cx="222480" cy="390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371600" y="1515960"/>
              <a:ext cx="114300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371600" y="3281400"/>
              <a:ext cx="25909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354320" y="2268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373040" y="2662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713520" y="2513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66800" y="1819080"/>
              <a:ext cx="75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962520" y="25988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814920" y="2141640"/>
              <a:ext cx="223560" cy="46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021200" y="2204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344400" y="214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173400" y="1379520"/>
              <a:ext cx="453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195720" y="769680"/>
              <a:ext cx="4618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498840" y="2614680"/>
              <a:ext cx="19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flipV="1">
              <a:off x="3692520" y="2235240"/>
              <a:ext cx="455760" cy="37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507120" y="1603080"/>
              <a:ext cx="3834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506760" y="2293560"/>
              <a:ext cx="3589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 rot="16200000">
              <a:off x="2600280" y="1296720"/>
              <a:ext cx="209520" cy="416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5" name=""/>
            <p:cNvGrpSpPr/>
            <p:nvPr/>
          </p:nvGrpSpPr>
          <p:grpSpPr>
            <a:xfrm>
              <a:off x="1969920" y="2305080"/>
              <a:ext cx="325440" cy="306360"/>
              <a:chOff x="1969920" y="2305080"/>
              <a:chExt cx="325440" cy="306360"/>
            </a:xfrm>
          </p:grpSpPr>
          <p:sp>
            <p:nvSpPr>
              <p:cNvPr id="5076" name=""/>
              <p:cNvSpPr/>
              <p:nvPr/>
            </p:nvSpPr>
            <p:spPr>
              <a:xfrm>
                <a:off x="1969920" y="2305080"/>
                <a:ext cx="325440" cy="306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1969920" y="2459160"/>
                <a:ext cx="32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8" name=""/>
            <p:cNvSpPr/>
            <p:nvPr/>
          </p:nvSpPr>
          <p:spPr>
            <a:xfrm>
              <a:off x="2133720" y="2598840"/>
              <a:ext cx="0" cy="68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 flipV="1">
              <a:off x="2133720" y="151272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 flipV="1">
              <a:off x="2362320" y="2217240"/>
              <a:ext cx="0" cy="406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2373840" y="218736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2486880" y="14922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2895480" y="15318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371600" y="15318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962520" y="15318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6" name=""/>
          <p:cNvGrpSpPr/>
          <p:nvPr/>
        </p:nvGrpSpPr>
        <p:grpSpPr>
          <a:xfrm>
            <a:off x="5622840" y="769680"/>
            <a:ext cx="2728440" cy="2514960"/>
            <a:chOff x="5622840" y="769680"/>
            <a:chExt cx="2728440" cy="2514960"/>
          </a:xfrm>
        </p:grpSpPr>
        <p:sp>
          <p:nvSpPr>
            <p:cNvPr id="5087" name=""/>
            <p:cNvSpPr/>
            <p:nvPr/>
          </p:nvSpPr>
          <p:spPr>
            <a:xfrm>
              <a:off x="6070680" y="2674800"/>
              <a:ext cx="32364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6227640" y="2293920"/>
              <a:ext cx="0" cy="9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6116760" y="1913040"/>
              <a:ext cx="222120" cy="390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6227640" y="1515960"/>
              <a:ext cx="162108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6227640" y="3281400"/>
              <a:ext cx="16210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6210360" y="2268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6229080" y="2662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677200" y="259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622840" y="1819080"/>
              <a:ext cx="75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848720" y="25988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728120" y="2141640"/>
              <a:ext cx="223560" cy="46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7934400" y="2204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57600" y="214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7086600" y="1379520"/>
              <a:ext cx="453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7108920" y="769680"/>
              <a:ext cx="4618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412040" y="2614680"/>
              <a:ext cx="19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 flipV="1">
              <a:off x="7605720" y="2235240"/>
              <a:ext cx="455760" cy="37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420320" y="1603080"/>
              <a:ext cx="3834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419960" y="2293560"/>
              <a:ext cx="3589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6227640" y="15318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7848720" y="15318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8" name=""/>
          <p:cNvSpPr/>
          <p:nvPr/>
        </p:nvSpPr>
        <p:spPr>
          <a:xfrm>
            <a:off x="5562720" y="1150920"/>
            <a:ext cx="1371600" cy="2448000"/>
          </a:xfrm>
          <a:prstGeom prst="rect">
            <a:avLst/>
          </a:prstGeom>
          <a:noFill/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762120" y="3894120"/>
            <a:ext cx="2428920" cy="828720"/>
          </a:xfrm>
          <a:prstGeom prst="wedgeEllipseCallout">
            <a:avLst>
              <a:gd name="adj1" fmla="val 1763"/>
              <a:gd name="adj2" fmla="val -113412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5029200" y="3817800"/>
            <a:ext cx="1981080" cy="828720"/>
          </a:xfrm>
          <a:prstGeom prst="wedgeEllipseCallout">
            <a:avLst>
              <a:gd name="adj1" fmla="val 1921"/>
              <a:gd name="adj2" fmla="val -113412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380880" y="4959720"/>
            <a:ext cx="84582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非线性电阻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外的有源二端网络应用戴维宁定理化成一个等效电源，再用图解法求非线性元件中的电流及其两端的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0" dur="500" fill="hold"/>
                                        <p:tgtEl>
                                          <p:spTgt spid="5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500" fill="hold"/>
                                        <p:tgtEl>
                                          <p:spTgt spid="5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5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0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500"/>
                            </p:stCondLst>
                            <p:childTnLst>
                              <p:par>
                                <p:cTn id="3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4" dur="500"/>
                                        <p:tgtEl>
                                          <p:spTgt spid="5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5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5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3" dur="500"/>
                                        <p:tgtEl>
                                          <p:spTgt spid="5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8" dur="500"/>
                                        <p:tgtEl>
                                          <p:spTgt spid="5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286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2.2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星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联结与三角形联结的等效变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33680" y="5562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据此可推出两者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79920" y="3962520"/>
            <a:ext cx="5671800" cy="1627200"/>
            <a:chOff x="979920" y="3962520"/>
            <a:chExt cx="5671800" cy="1627200"/>
          </a:xfrm>
        </p:grpSpPr>
        <p:sp>
          <p:nvSpPr>
            <p:cNvPr id="412" name=""/>
            <p:cNvSpPr/>
            <p:nvPr/>
          </p:nvSpPr>
          <p:spPr>
            <a:xfrm>
              <a:off x="1371600" y="4125960"/>
              <a:ext cx="219240" cy="128448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33480 h 1284480"/>
                <a:gd name="textAreaBottom" fmla="*/ 1251000 h 12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1600200" y="3962520"/>
                  <a:ext cx="5051520" cy="16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14" name=""/>
            <p:cNvSpPr/>
            <p:nvPr/>
          </p:nvSpPr>
          <p:spPr>
            <a:xfrm>
              <a:off x="979920" y="3962520"/>
              <a:ext cx="394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990720" y="762120"/>
            <a:ext cx="7680960" cy="3187440"/>
            <a:chOff x="990720" y="762120"/>
            <a:chExt cx="7680960" cy="3187440"/>
          </a:xfrm>
        </p:grpSpPr>
        <p:grpSp>
          <p:nvGrpSpPr>
            <p:cNvPr id="416" name=""/>
            <p:cNvGrpSpPr/>
            <p:nvPr/>
          </p:nvGrpSpPr>
          <p:grpSpPr>
            <a:xfrm>
              <a:off x="990720" y="762120"/>
              <a:ext cx="7680960" cy="3187440"/>
              <a:chOff x="990720" y="762120"/>
              <a:chExt cx="7680960" cy="318744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886200" y="914400"/>
                <a:ext cx="4785480" cy="3035160"/>
                <a:chOff x="3886200" y="914400"/>
                <a:chExt cx="4785480" cy="30351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886200" y="2220840"/>
                  <a:ext cx="1447920" cy="293760"/>
                </a:xfrm>
                <a:prstGeom prst="leftRightArrow">
                  <a:avLst>
                    <a:gd name="adj1" fmla="val 50000"/>
                    <a:gd name="adj2" fmla="val 98122"/>
                  </a:avLst>
                </a:prstGeom>
                <a:gradFill rotWithShape="0">
                  <a:gsLst>
                    <a:gs pos="0">
                      <a:srgbClr val="ff3300"/>
                    </a:gs>
                    <a:gs pos="50000">
                      <a:srgbClr val="ffffff"/>
                    </a:gs>
                    <a:gs pos="100000">
                      <a:srgbClr val="ff3300"/>
                    </a:gs>
                  </a:gsLst>
                  <a:lin ang="8100000"/>
                </a:gra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887280" y="1728720"/>
                  <a:ext cx="1333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3399"/>
                      </a:solidFill>
                      <a:latin typeface="楷体_GB2312"/>
                      <a:ea typeface="楷体_GB2312"/>
                    </a:rPr>
                    <a:t> </a:t>
                  </a:r>
                  <a:r>
                    <a:rPr b="1" lang="zh-CN" sz="2800" spc="-1" strike="noStrike">
                      <a:solidFill>
                        <a:srgbClr val="003399"/>
                      </a:solidFill>
                      <a:latin typeface="楷体_GB2312"/>
                      <a:ea typeface="楷体_GB2312"/>
                    </a:rPr>
                    <a:t>等效变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5570640" y="914400"/>
                  <a:ext cx="3101040" cy="3035160"/>
                  <a:chOff x="5570640" y="914400"/>
                  <a:chExt cx="3101040" cy="303516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5400000">
                    <a:off x="7317720" y="2785320"/>
                    <a:ext cx="179280" cy="3556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5638320" y="2946240"/>
                    <a:ext cx="1600200" cy="6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585200" y="2949480"/>
                    <a:ext cx="720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8767800">
                    <a:off x="7749360" y="2073240"/>
                    <a:ext cx="179640" cy="35712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7366680" y="1516680"/>
                    <a:ext cx="384480" cy="59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919640" y="2367360"/>
                    <a:ext cx="361800" cy="586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2759600">
                    <a:off x="6862320" y="2072880"/>
                    <a:ext cx="177840" cy="3574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>
                    <a:off x="7036200" y="1518840"/>
                    <a:ext cx="343080" cy="573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>
                    <a:off x="6472800" y="2414520"/>
                    <a:ext cx="355320" cy="550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265960" y="2967120"/>
                    <a:ext cx="0" cy="492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>
                    <a:off x="5692320" y="3425760"/>
                    <a:ext cx="259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5605560" y="1486080"/>
                    <a:ext cx="1763280" cy="87120"/>
                    <a:chOff x="5605560" y="1486080"/>
                    <a:chExt cx="1763280" cy="871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692320" y="1539720"/>
                      <a:ext cx="16765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5605560" y="1486080"/>
                      <a:ext cx="87120" cy="8712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5570640" y="3386160"/>
                    <a:ext cx="87120" cy="871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570640" y="2898720"/>
                    <a:ext cx="87120" cy="87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392960" y="12319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271360" y="273060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402600" y="28954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447320" y="2236680"/>
                    <a:ext cx="6120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lang="zh-CN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c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977520" y="2374920"/>
                    <a:ext cx="6228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lang="zh-CN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b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040520" y="1932120"/>
                    <a:ext cx="6346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lang="zh-CN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a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304680" y="3429000"/>
                    <a:ext cx="1465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99"/>
                        </a:solidFill>
                        <a:latin typeface="宋体"/>
                      </a:rPr>
                      <a:t>电阻</a:t>
                    </a:r>
                    <a:r>
                      <a:rPr b="1" lang="zh-CN" sz="28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</a:t>
                    </a:r>
                    <a:r>
                      <a:rPr b="1" lang="zh-CN" sz="2800" spc="-1" strike="noStrike">
                        <a:solidFill>
                          <a:srgbClr val="000099"/>
                        </a:solidFill>
                        <a:latin typeface="宋体"/>
                      </a:rPr>
                      <a:t>形联结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724000" y="914400"/>
                    <a:ext cx="510120" cy="2448360"/>
                    <a:chOff x="5724000" y="914400"/>
                    <a:chExt cx="510120" cy="2448360"/>
                  </a:xfrm>
                </p:grpSpPr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5725080" y="914400"/>
                      <a:ext cx="509040" cy="579600"/>
                      <a:chOff x="5725080" y="914400"/>
                      <a:chExt cx="509040" cy="579600"/>
                    </a:xfrm>
                  </p:grpSpPr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5735880" y="1447560"/>
                        <a:ext cx="498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  <a:tailEnd len="med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5725080" y="914400"/>
                        <a:ext cx="423000" cy="579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zh-CN" sz="2800" spc="-1" strike="noStrike">
                            <a:solidFill>
                              <a:srgbClr val="cc0000"/>
                            </a:solidFill>
                            <a:latin typeface="Times New Roman"/>
                          </a:rPr>
                          <a:t>I</a:t>
                        </a:r>
                        <a:r>
                          <a:rPr b="1" lang="zh-CN" sz="2800" spc="-1" strike="noStrike" baseline="-25000">
                            <a:solidFill>
                              <a:srgbClr val="cc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8" name=""/>
                    <p:cNvGrpSpPr/>
                    <p:nvPr/>
                  </p:nvGrpSpPr>
                  <p:grpSpPr>
                    <a:xfrm>
                      <a:off x="5726520" y="2286000"/>
                      <a:ext cx="507600" cy="579600"/>
                      <a:chOff x="5726520" y="2286000"/>
                      <a:chExt cx="507600" cy="579600"/>
                    </a:xfrm>
                  </p:grpSpPr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5735880" y="2819160"/>
                        <a:ext cx="498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  <a:tailEnd len="med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5726520" y="2286000"/>
                        <a:ext cx="433800" cy="579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zh-CN" sz="2800" spc="-1" strike="noStrike">
                            <a:solidFill>
                              <a:srgbClr val="cc0000"/>
                            </a:solidFill>
                            <a:latin typeface="Times New Roman"/>
                          </a:rPr>
                          <a:t>I</a:t>
                        </a:r>
                        <a:r>
                          <a:rPr b="1" lang="zh-CN" sz="2800" spc="-1" strike="noStrike" baseline="-25000">
                            <a:solidFill>
                              <a:srgbClr val="cc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1" name=""/>
                    <p:cNvGrpSpPr/>
                    <p:nvPr/>
                  </p:nvGrpSpPr>
                  <p:grpSpPr>
                    <a:xfrm>
                      <a:off x="5724000" y="2783160"/>
                      <a:ext cx="510120" cy="579600"/>
                      <a:chOff x="5724000" y="2783160"/>
                      <a:chExt cx="510120" cy="579600"/>
                    </a:xfrm>
                  </p:grpSpPr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5735880" y="3316320"/>
                        <a:ext cx="498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  <a:tailEnd len="med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5724000" y="2783160"/>
                        <a:ext cx="410760" cy="579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zh-CN" sz="2800" spc="-1" strike="noStrike">
                            <a:solidFill>
                              <a:srgbClr val="cc0000"/>
                            </a:solidFill>
                            <a:latin typeface="Times New Roman"/>
                          </a:rPr>
                          <a:t>I</a:t>
                        </a:r>
                        <a:r>
                          <a:rPr b="1" lang="zh-CN" sz="2800" spc="-1" strike="noStrike" baseline="-25000">
                            <a:solidFill>
                              <a:srgbClr val="cc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990720" y="762120"/>
                <a:ext cx="2918520" cy="3125520"/>
                <a:chOff x="990720" y="762120"/>
                <a:chExt cx="2918520" cy="31255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419480" y="3367080"/>
                  <a:ext cx="1674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宋体"/>
                    </a:rPr>
                    <a:t>电阻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Y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宋体"/>
                    </a:rPr>
                    <a:t>形联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990720" y="762120"/>
                  <a:ext cx="2918520" cy="2575080"/>
                  <a:chOff x="990720" y="762120"/>
                  <a:chExt cx="2918520" cy="257508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1160640" y="762120"/>
                    <a:ext cx="508680" cy="579600"/>
                    <a:chOff x="1160640" y="762120"/>
                    <a:chExt cx="508680" cy="5796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1170720" y="1295280"/>
                      <a:ext cx="4986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1160640" y="762120"/>
                      <a:ext cx="4230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990720" y="1371600"/>
                    <a:ext cx="2918520" cy="1965600"/>
                    <a:chOff x="990720" y="1371600"/>
                    <a:chExt cx="2918520" cy="196560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1148040" y="2070000"/>
                      <a:ext cx="507600" cy="579600"/>
                      <a:chOff x="1148040" y="2070000"/>
                      <a:chExt cx="507600" cy="579600"/>
                    </a:xfrm>
                  </p:grpSpPr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1157400" y="2603160"/>
                        <a:ext cx="498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  <a:tailEnd len="med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1148040" y="2070000"/>
                        <a:ext cx="433800" cy="579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zh-CN" sz="2800" spc="-1" strike="noStrike">
                            <a:solidFill>
                              <a:srgbClr val="cc0000"/>
                            </a:solidFill>
                            <a:latin typeface="Times New Roman"/>
                          </a:rPr>
                          <a:t>I</a:t>
                        </a:r>
                        <a:r>
                          <a:rPr b="1" lang="zh-CN" sz="2800" spc="-1" strike="noStrike" baseline="-25000">
                            <a:solidFill>
                              <a:srgbClr val="cc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1157400" y="3200400"/>
                      <a:ext cx="498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1145520" y="2757600"/>
                      <a:ext cx="4107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1671840" y="263628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508920" y="2504160"/>
                      <a:ext cx="400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10800000">
                      <a:off x="2487240" y="1650960"/>
                      <a:ext cx="173160" cy="38880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2584440" y="2043000"/>
                      <a:ext cx="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584440" y="1395360"/>
                      <a:ext cx="0" cy="2620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498840" y="2755800"/>
                      <a:ext cx="0" cy="542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1967040" y="1523880"/>
                      <a:ext cx="6174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1060560" y="1413000"/>
                      <a:ext cx="15238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1073160" y="3276720"/>
                      <a:ext cx="24350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990720" y="3201840"/>
                      <a:ext cx="110880" cy="9072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990720" y="2743200"/>
                      <a:ext cx="110880" cy="903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1025640" y="1371600"/>
                      <a:ext cx="110880" cy="903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2965320" y="1868400"/>
                      <a:ext cx="6177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zh-CN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2127240" y="2370240"/>
                      <a:ext cx="6174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zh-CN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4524800">
                      <a:off x="2106000" y="2260080"/>
                      <a:ext cx="187560" cy="38088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>
                      <a:off x="1670040" y="2543040"/>
                      <a:ext cx="380880" cy="238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355840" y="2209680"/>
                      <a:ext cx="228600" cy="152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7411800">
                      <a:off x="2902680" y="2242080"/>
                      <a:ext cx="172800" cy="42876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3193920" y="2567160"/>
                      <a:ext cx="304920" cy="190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H="1" flipV="1">
                      <a:off x="2584080" y="2209680"/>
                      <a:ext cx="228600" cy="152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1095480" y="27874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87" name=""/>
              <p:cNvSpPr/>
              <p:nvPr/>
            </p:nvSpPr>
            <p:spPr>
              <a:xfrm>
                <a:off x="2536920" y="215892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15200" y="150984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229600" y="289548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62720" y="289548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592360" y="115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52280" y="2286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2.2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星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联结与三角形联结的等效变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380880" y="3720960"/>
                <a:ext cx="4496040" cy="26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029200" y="3722760"/>
                <a:ext cx="38862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95" name=""/>
          <p:cNvGrpSpPr/>
          <p:nvPr/>
        </p:nvGrpSpPr>
        <p:grpSpPr>
          <a:xfrm>
            <a:off x="1149480" y="609480"/>
            <a:ext cx="7603920" cy="3049560"/>
            <a:chOff x="1149480" y="609480"/>
            <a:chExt cx="7603920" cy="3049560"/>
          </a:xfrm>
        </p:grpSpPr>
        <p:sp>
          <p:nvSpPr>
            <p:cNvPr id="496" name=""/>
            <p:cNvSpPr/>
            <p:nvPr/>
          </p:nvSpPr>
          <p:spPr>
            <a:xfrm>
              <a:off x="1970640" y="3138480"/>
              <a:ext cx="111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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34640" y="313848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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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Y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98800" y="1916280"/>
              <a:ext cx="1447920" cy="293400"/>
            </a:xfrm>
            <a:prstGeom prst="leftRightArrow">
              <a:avLst>
                <a:gd name="adj1" fmla="val 50000"/>
                <a:gd name="adj2" fmla="val 98242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81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6040" y="77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76640" y="1371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楷体_GB2312"/>
                  <a:ea typeface="楷体_GB2312"/>
                </a:rPr>
                <a:t>等效变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462080" y="2480400"/>
              <a:ext cx="179280" cy="355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3040" y="2641680"/>
              <a:ext cx="160020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29560" y="264492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8767800">
              <a:off x="7894440" y="1767960"/>
              <a:ext cx="179280" cy="35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7511040" y="1211760"/>
              <a:ext cx="384480" cy="5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64360" y="2062440"/>
              <a:ext cx="361800" cy="58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rot="12759600">
              <a:off x="7006320" y="1767960"/>
              <a:ext cx="177480" cy="35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180560" y="1213560"/>
              <a:ext cx="34344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617880" y="2108880"/>
              <a:ext cx="354960" cy="55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10680" y="266220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837400" y="312120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49920" y="1181160"/>
              <a:ext cx="1763280" cy="87120"/>
              <a:chOff x="5749920" y="1181160"/>
              <a:chExt cx="1763280" cy="87120"/>
            </a:xfrm>
          </p:grpSpPr>
          <p:sp>
            <p:nvSpPr>
              <p:cNvPr id="513" name=""/>
              <p:cNvSpPr/>
              <p:nvPr/>
            </p:nvSpPr>
            <p:spPr>
              <a:xfrm flipH="1">
                <a:off x="5836680" y="123480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49920" y="1181160"/>
                <a:ext cx="87120" cy="87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5715000" y="3081240"/>
              <a:ext cx="87480" cy="87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2593800"/>
              <a:ext cx="87480" cy="87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37320" y="92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15720" y="23749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46960" y="2590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91680" y="1932120"/>
              <a:ext cx="61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21880" y="2070000"/>
              <a:ext cx="62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85240" y="1627200"/>
              <a:ext cx="63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87960" y="31082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5868360" y="609480"/>
              <a:ext cx="510120" cy="2448360"/>
              <a:chOff x="5868360" y="609480"/>
              <a:chExt cx="510120" cy="244836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5869440" y="609480"/>
                <a:ext cx="509040" cy="579600"/>
                <a:chOff x="5869440" y="609480"/>
                <a:chExt cx="509040" cy="5796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880240" y="1142640"/>
                  <a:ext cx="498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869440" y="609480"/>
                  <a:ext cx="4230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870880" y="1981080"/>
                <a:ext cx="507600" cy="579600"/>
                <a:chOff x="5870880" y="1981080"/>
                <a:chExt cx="507600" cy="5796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880240" y="2514240"/>
                  <a:ext cx="498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70880" y="198108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5868360" y="2478240"/>
                <a:ext cx="510120" cy="579600"/>
                <a:chOff x="5868360" y="2478240"/>
                <a:chExt cx="510120" cy="5796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880240" y="3011400"/>
                  <a:ext cx="498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868360" y="2478240"/>
                  <a:ext cx="410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1" lang="zh-CN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"/>
            <p:cNvGrpSpPr/>
            <p:nvPr/>
          </p:nvGrpSpPr>
          <p:grpSpPr>
            <a:xfrm>
              <a:off x="1319760" y="663480"/>
              <a:ext cx="509040" cy="579600"/>
              <a:chOff x="1319760" y="663480"/>
              <a:chExt cx="509040" cy="579600"/>
            </a:xfrm>
          </p:grpSpPr>
          <p:sp>
            <p:nvSpPr>
              <p:cNvPr id="535" name=""/>
              <p:cNvSpPr/>
              <p:nvPr/>
            </p:nvSpPr>
            <p:spPr>
              <a:xfrm>
                <a:off x="1330560" y="1196640"/>
                <a:ext cx="498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19760" y="663480"/>
                <a:ext cx="42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306800" y="1971720"/>
              <a:ext cx="507600" cy="579600"/>
              <a:chOff x="1306800" y="1971720"/>
              <a:chExt cx="507600" cy="579600"/>
            </a:xfrm>
          </p:grpSpPr>
          <p:sp>
            <p:nvSpPr>
              <p:cNvPr id="538" name=""/>
              <p:cNvSpPr/>
              <p:nvPr/>
            </p:nvSpPr>
            <p:spPr>
              <a:xfrm>
                <a:off x="1316160" y="2504880"/>
                <a:ext cx="498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6800" y="197172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1316160" y="3102120"/>
              <a:ext cx="49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04280" y="2658960"/>
              <a:ext cx="41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30600" y="2537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99000" y="2375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0800000">
              <a:off x="2646000" y="1557360"/>
              <a:ext cx="173160" cy="38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43200" y="1944720"/>
              <a:ext cx="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743200" y="1296720"/>
              <a:ext cx="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600" y="265752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25800" y="1425600"/>
              <a:ext cx="61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19320" y="13143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31920" y="3178080"/>
              <a:ext cx="243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49480" y="3103560"/>
              <a:ext cx="11088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9480" y="2644920"/>
              <a:ext cx="11088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84400" y="1273320"/>
              <a:ext cx="11088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4080" y="1770120"/>
              <a:ext cx="61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86000" y="2271600"/>
              <a:ext cx="61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4524800">
              <a:off x="2265120" y="2161800"/>
              <a:ext cx="18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828800" y="2444760"/>
              <a:ext cx="38088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514600" y="211104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rot="7411800">
              <a:off x="3061080" y="2143080"/>
              <a:ext cx="173160" cy="42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52680" y="2468520"/>
              <a:ext cx="30492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2742840" y="211104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54240" y="2689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93880" y="208296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29400" y="25909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67840" y="2576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67480" y="1219320"/>
              <a:ext cx="907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33520" y="3530520"/>
            <a:ext cx="8076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形联接等效变换为</a:t>
            </a:r>
            <a:r>
              <a:rPr b="1" lang="zh-CN" sz="2800" spc="-1" strike="noStrike">
                <a:solidFill>
                  <a:srgbClr val="0046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形联结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若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时，有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= 3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4673520"/>
            <a:ext cx="8153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46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形联接等效变换为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形联结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若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时，有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=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2.2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阻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星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联结与三角形联结的等效变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90720" y="914400"/>
            <a:ext cx="7617960" cy="2575080"/>
            <a:chOff x="990720" y="914400"/>
            <a:chExt cx="7617960" cy="2575080"/>
          </a:xfrm>
        </p:grpSpPr>
        <p:grpSp>
          <p:nvGrpSpPr>
            <p:cNvPr id="571" name=""/>
            <p:cNvGrpSpPr/>
            <p:nvPr/>
          </p:nvGrpSpPr>
          <p:grpSpPr>
            <a:xfrm>
              <a:off x="990720" y="914400"/>
              <a:ext cx="7617960" cy="2575080"/>
              <a:chOff x="990720" y="914400"/>
              <a:chExt cx="7617960" cy="2575080"/>
            </a:xfrm>
          </p:grpSpPr>
          <p:sp>
            <p:nvSpPr>
              <p:cNvPr id="572" name=""/>
              <p:cNvSpPr/>
              <p:nvPr/>
            </p:nvSpPr>
            <p:spPr>
              <a:xfrm>
                <a:off x="3886200" y="2373120"/>
                <a:ext cx="1447920" cy="293760"/>
              </a:xfrm>
              <a:prstGeom prst="leftRightArrow">
                <a:avLst>
                  <a:gd name="adj1" fmla="val 50000"/>
                  <a:gd name="adj2" fmla="val 9812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ffff"/>
                  </a:gs>
                  <a:gs pos="100000">
                    <a:srgbClr val="ff3300"/>
                  </a:gs>
                </a:gsLst>
                <a:lin ang="8100000"/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87280" y="1881000"/>
                <a:ext cx="133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99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3399"/>
                    </a:solidFill>
                    <a:latin typeface="楷体_GB2312"/>
                    <a:ea typeface="楷体_GB2312"/>
                  </a:rPr>
                  <a:t>等效变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5400000">
                <a:off x="7317360" y="2784960"/>
                <a:ext cx="179640" cy="355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5638320" y="2946240"/>
                <a:ext cx="160020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85200" y="294948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8767800">
                <a:off x="7749360" y="2073240"/>
                <a:ext cx="179640" cy="35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7366680" y="1516320"/>
                <a:ext cx="384120" cy="59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19640" y="2367000"/>
                <a:ext cx="361800" cy="58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rot="12759600">
                <a:off x="6862320" y="2072880"/>
                <a:ext cx="177840" cy="357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036200" y="1518120"/>
                <a:ext cx="343440" cy="57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472800" y="2414160"/>
                <a:ext cx="355320" cy="55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65960" y="2966760"/>
                <a:ext cx="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5692320" y="3425760"/>
                <a:ext cx="259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5605560" y="1485720"/>
                <a:ext cx="1763280" cy="87480"/>
                <a:chOff x="5605560" y="1485720"/>
                <a:chExt cx="1763280" cy="87480"/>
              </a:xfrm>
            </p:grpSpPr>
            <p:sp>
              <p:nvSpPr>
                <p:cNvPr id="586" name=""/>
                <p:cNvSpPr/>
                <p:nvPr/>
              </p:nvSpPr>
              <p:spPr>
                <a:xfrm flipH="1">
                  <a:off x="5692320" y="1539720"/>
                  <a:ext cx="167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605560" y="1485720"/>
                  <a:ext cx="87120" cy="87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5570640" y="3386160"/>
                <a:ext cx="87120" cy="87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70640" y="2898720"/>
                <a:ext cx="87120" cy="87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92960" y="1231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271000" y="26794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02600" y="2895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447320" y="2236680"/>
                <a:ext cx="61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77520" y="2374920"/>
                <a:ext cx="622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0520" y="1931760"/>
                <a:ext cx="634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5724000" y="914400"/>
                <a:ext cx="510120" cy="2448360"/>
                <a:chOff x="5724000" y="914400"/>
                <a:chExt cx="510120" cy="244836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5725080" y="914400"/>
                  <a:ext cx="509040" cy="579600"/>
                  <a:chOff x="5725080" y="914400"/>
                  <a:chExt cx="509040" cy="5796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5735880" y="144756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725080" y="914400"/>
                    <a:ext cx="4230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5726520" y="2286000"/>
                  <a:ext cx="507600" cy="579600"/>
                  <a:chOff x="5726520" y="2286000"/>
                  <a:chExt cx="507600" cy="5796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5735880" y="281916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726520" y="2286000"/>
                    <a:ext cx="4338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5724000" y="2783160"/>
                  <a:ext cx="510120" cy="579600"/>
                  <a:chOff x="5724000" y="2783160"/>
                  <a:chExt cx="510120" cy="5796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5735880" y="331632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5724000" y="2783160"/>
                    <a:ext cx="4107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6" name=""/>
              <p:cNvGrpSpPr/>
              <p:nvPr/>
            </p:nvGrpSpPr>
            <p:grpSpPr>
              <a:xfrm>
                <a:off x="990720" y="914400"/>
                <a:ext cx="2887200" cy="2575080"/>
                <a:chOff x="990720" y="914400"/>
                <a:chExt cx="2887200" cy="257508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1160640" y="914400"/>
                  <a:ext cx="508680" cy="579600"/>
                  <a:chOff x="1160640" y="914400"/>
                  <a:chExt cx="508680" cy="57960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1170720" y="1447560"/>
                    <a:ext cx="4986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1160640" y="914400"/>
                    <a:ext cx="4230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990720" y="1523880"/>
                  <a:ext cx="2887200" cy="1965600"/>
                  <a:chOff x="990720" y="1523880"/>
                  <a:chExt cx="2887200" cy="1965600"/>
                </a:xfrm>
              </p:grpSpPr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1148040" y="2222280"/>
                    <a:ext cx="507600" cy="579600"/>
                    <a:chOff x="1148040" y="2222280"/>
                    <a:chExt cx="507600" cy="57960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1157400" y="2755440"/>
                      <a:ext cx="498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148040" y="2222280"/>
                      <a:ext cx="4338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zh-CN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4" name=""/>
                  <p:cNvSpPr/>
                  <p:nvPr/>
                </p:nvSpPr>
                <p:spPr>
                  <a:xfrm>
                    <a:off x="1157400" y="3352680"/>
                    <a:ext cx="4982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145520" y="2909880"/>
                    <a:ext cx="4107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r>
                      <a:rPr b="1" lang="zh-CN" sz="2800" spc="-1" strike="noStrike" baseline="-25000">
                        <a:solidFill>
                          <a:srgbClr val="cc00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671840" y="27885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540240" y="2626560"/>
                    <a:ext cx="337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0800000">
                    <a:off x="2487240" y="1803240"/>
                    <a:ext cx="173160" cy="38880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584440" y="2195280"/>
                    <a:ext cx="0" cy="163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>
                    <a:off x="2584440" y="1547640"/>
                    <a:ext cx="0" cy="262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3498840" y="2908080"/>
                    <a:ext cx="0" cy="542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967040" y="1676160"/>
                    <a:ext cx="6174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060560" y="1565280"/>
                    <a:ext cx="1523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073160" y="3429000"/>
                    <a:ext cx="2435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990720" y="3354120"/>
                    <a:ext cx="110880" cy="90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990720" y="2895480"/>
                    <a:ext cx="110880" cy="903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025640" y="1523880"/>
                    <a:ext cx="110880" cy="903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965320" y="2020680"/>
                    <a:ext cx="6177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lang="zh-CN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127240" y="2522520"/>
                    <a:ext cx="6174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zh-CN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lang="zh-CN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rot="14524800">
                    <a:off x="2106000" y="2412360"/>
                    <a:ext cx="187560" cy="38088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1670040" y="2695320"/>
                    <a:ext cx="380880" cy="238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V="1">
                    <a:off x="2355840" y="2361960"/>
                    <a:ext cx="228600" cy="152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7411800">
                    <a:off x="2902680" y="2394360"/>
                    <a:ext cx="172800" cy="4287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193920" y="2719440"/>
                    <a:ext cx="304920" cy="190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flipV="1">
                    <a:off x="2584080" y="2361960"/>
                    <a:ext cx="228600" cy="152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095480" y="293976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7" name=""/>
              <p:cNvSpPr/>
              <p:nvPr/>
            </p:nvSpPr>
            <p:spPr>
              <a:xfrm>
                <a:off x="2536920" y="231120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15200" y="150948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229600" y="289548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462720" y="289548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668320" y="13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3:21:07Z</dcterms:created>
  <dc:creator>xtw</dc:creator>
  <dc:description/>
  <dc:language>en-US</dc:language>
  <cp:lastModifiedBy>ZJR</cp:lastModifiedBy>
  <dcterms:modified xsi:type="dcterms:W3CDTF">2007-04-26T12:53:36Z</dcterms:modified>
  <cp:revision>19</cp:revision>
  <dc:subject/>
  <dc:title>PowerPoint 演示文稿</dc:title>
</cp:coreProperties>
</file>