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CAMERA.WAV" ContentType="audio/x-wav"/>
  <Override PartName="/ppt/media/image7.png" ContentType="image/png"/>
  <Override PartName="/ppt/media/image1.jpeg" ContentType="image/jpeg"/>
  <Override PartName="/ppt/media/image2.jpeg" ContentType="image/jpeg"/>
  <Override PartName="/ppt/media/%E6%8F%90%E7%A4%BA%E6%97%B6%E5%A5%8F%E5%B9%BB%E6%83%B3%E7%A9%BA%E9%97%B4.wav" ContentType="audio/x-wav"/>
  <Override PartName="/ppt/media/image11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&#30005;&#23376;&#25216;&#2641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电子技术_bg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372520" y="6335640"/>
            <a:ext cx="500040" cy="29232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36930" h="21600">
                <a:moveTo>
                  <a:pt x="0" y="0"/>
                </a:moveTo>
                <a:lnTo>
                  <a:pt x="36930" y="0"/>
                </a:lnTo>
                <a:lnTo>
                  <a:pt x="36930" y="21600"/>
                </a:lnTo>
                <a:lnTo>
                  <a:pt x="0" y="21600"/>
                </a:lnTo>
                <a:close/>
              </a:path>
              <a:path fill="lightenLess" w="36930" h="21600">
                <a:moveTo>
                  <a:pt x="0" y="0"/>
                </a:moveTo>
                <a:lnTo>
                  <a:pt x="36930" y="0"/>
                </a:lnTo>
                <a:lnTo>
                  <a:pt x="35530" y="1400"/>
                </a:lnTo>
                <a:lnTo>
                  <a:pt x="1400" y="1400"/>
                </a:lnTo>
                <a:close/>
              </a:path>
              <a:path fill="darken" w="36930" h="21600">
                <a:moveTo>
                  <a:pt x="36930" y="0"/>
                </a:moveTo>
                <a:lnTo>
                  <a:pt x="36930" y="21600"/>
                </a:lnTo>
                <a:lnTo>
                  <a:pt x="35530" y="20200"/>
                </a:lnTo>
                <a:lnTo>
                  <a:pt x="35530" y="1400"/>
                </a:lnTo>
                <a:close/>
              </a:path>
              <a:path fill="darkenLess" w="36930" h="21600">
                <a:moveTo>
                  <a:pt x="36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30" y="20200"/>
                </a:lnTo>
                <a:close/>
              </a:path>
              <a:path fill="lighten" w="36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677880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30728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842240" y="633744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cfdfe"/>
              </a:gs>
              <a:gs pos="100000">
                <a:srgbClr val="aab6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3"/>
          </p:cNvPr>
          <p:cNvSpPr/>
          <p:nvPr/>
        </p:nvSpPr>
        <p:spPr>
          <a:xfrm>
            <a:off x="6248520" y="6324480"/>
            <a:ext cx="457200" cy="30636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9.xml"/><Relationship Id="rId5" Type="http://schemas.openxmlformats.org/officeDocument/2006/relationships/slide" Target="slide33.xml"/><Relationship Id="rId6" Type="http://schemas.openxmlformats.org/officeDocument/2006/relationships/slide" Target="slide47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jzg1.exe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&#25552;&#31034;&#26102;&#22863;&#24187;&#24819;&#31354;&#38388;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jzg2.exe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jzg3.exe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jzg4.exe" TargetMode="External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5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6.png"/><Relationship Id="rId9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13.png"/><Relationship Id="rId40" Type="http://schemas.openxmlformats.org/officeDocument/2006/relationships/image" Target="../media/image13.png"/><Relationship Id="rId4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15.png"/><Relationship Id="rId7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457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晶闸管及其应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43120" y="1913040"/>
            <a:ext cx="603072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911240" y="1809720"/>
            <a:ext cx="33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晶闸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884240" y="2583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可控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905120" y="3341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3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晶闸管的保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882800" y="411480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4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单结晶体管触发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882800" y="4800600"/>
            <a:ext cx="375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5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应用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08040" y="457200"/>
            <a:ext cx="3125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20.1.4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主要参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6040" y="893880"/>
            <a:ext cx="102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FR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33480" y="893880"/>
            <a:ext cx="65484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正向重复峰值电压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耐压值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极开路且正向阻断情况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允许重复加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端的正向峰值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%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普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300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2120" y="3200400"/>
            <a:ext cx="8381880" cy="2645280"/>
            <a:chOff x="762120" y="3200400"/>
            <a:chExt cx="8381880" cy="2645280"/>
          </a:xfrm>
        </p:grpSpPr>
        <p:sp>
          <p:nvSpPr>
            <p:cNvPr id="532" name=""/>
            <p:cNvSpPr/>
            <p:nvPr/>
          </p:nvSpPr>
          <p:spPr>
            <a:xfrm>
              <a:off x="1843200" y="3276720"/>
              <a:ext cx="7300800" cy="25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反向重复峰值电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控制极开路时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允许重复作用在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晶闸管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元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件上的反向峰值电压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一般取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RRM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80%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普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晶闸管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RRM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0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000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62120" y="3200400"/>
              <a:ext cx="137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RRM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479600" y="5958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55920" y="6338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74680" y="6186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1989000" y="2778120"/>
                <a:ext cx="50882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td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488880" y="120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870480" y="304920"/>
            <a:ext cx="7455960" cy="1151640"/>
            <a:chOff x="870480" y="304920"/>
            <a:chExt cx="7455960" cy="1151640"/>
          </a:xfrm>
        </p:grpSpPr>
        <p:sp>
          <p:nvSpPr>
            <p:cNvPr id="540" name=""/>
            <p:cNvSpPr/>
            <p:nvPr/>
          </p:nvSpPr>
          <p:spPr>
            <a:xfrm>
              <a:off x="1523880" y="304920"/>
              <a:ext cx="6802560" cy="11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正向平均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环境温度为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40</a:t>
              </a:r>
              <a:r>
                <a:rPr b="1" lang="zh-CN" sz="28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及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标准散热条件下，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晶闸管处于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全导通时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可以连续通过的工频正弦半波电流的平均值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70480" y="347760"/>
              <a:ext cx="911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32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F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749680" y="4357800"/>
            <a:ext cx="3041280" cy="834840"/>
            <a:chOff x="2749680" y="4357800"/>
            <a:chExt cx="3041280" cy="834840"/>
          </a:xfrm>
        </p:grpSpPr>
        <p:sp>
          <p:nvSpPr>
            <p:cNvPr id="543" name=""/>
            <p:cNvSpPr/>
            <p:nvPr/>
          </p:nvSpPr>
          <p:spPr>
            <a:xfrm>
              <a:off x="2749680" y="4357800"/>
              <a:ext cx="1520640" cy="834840"/>
            </a:xfrm>
            <a:custGeom>
              <a:avLst/>
              <a:gdLst/>
              <a:ahLst/>
              <a:rect l="l" t="t" r="r" b="b"/>
              <a:pathLst>
                <a:path w="1488" h="337">
                  <a:moveTo>
                    <a:pt x="0" y="336"/>
                  </a:moveTo>
                  <a:lnTo>
                    <a:pt x="124" y="244"/>
                  </a:lnTo>
                  <a:lnTo>
                    <a:pt x="248" y="164"/>
                  </a:lnTo>
                  <a:lnTo>
                    <a:pt x="376" y="97"/>
                  </a:lnTo>
                  <a:lnTo>
                    <a:pt x="501" y="39"/>
                  </a:lnTo>
                  <a:lnTo>
                    <a:pt x="606" y="10"/>
                  </a:lnTo>
                  <a:lnTo>
                    <a:pt x="731" y="0"/>
                  </a:lnTo>
                  <a:lnTo>
                    <a:pt x="859" y="10"/>
                  </a:lnTo>
                  <a:lnTo>
                    <a:pt x="983" y="39"/>
                  </a:lnTo>
                  <a:lnTo>
                    <a:pt x="1107" y="97"/>
                  </a:lnTo>
                  <a:lnTo>
                    <a:pt x="1235" y="164"/>
                  </a:lnTo>
                  <a:lnTo>
                    <a:pt x="1359" y="249"/>
                  </a:lnTo>
                  <a:lnTo>
                    <a:pt x="1487" y="33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70320" y="5192640"/>
              <a:ext cx="1520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743200" y="4384800"/>
            <a:ext cx="3589920" cy="648720"/>
            <a:chOff x="2743200" y="4384800"/>
            <a:chExt cx="3589920" cy="648720"/>
          </a:xfrm>
        </p:grpSpPr>
        <p:sp>
          <p:nvSpPr>
            <p:cNvPr id="546" name=""/>
            <p:cNvSpPr/>
            <p:nvPr/>
          </p:nvSpPr>
          <p:spPr>
            <a:xfrm>
              <a:off x="2743200" y="4827960"/>
              <a:ext cx="304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50720" y="4384800"/>
              <a:ext cx="482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886280" y="5334120"/>
                <a:ext cx="96840" cy="1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4886280" y="5334120"/>
                <a:ext cx="96840" cy="1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50" name=""/>
          <p:cNvGrpSpPr/>
          <p:nvPr/>
        </p:nvGrpSpPr>
        <p:grpSpPr>
          <a:xfrm>
            <a:off x="2362320" y="3824280"/>
            <a:ext cx="5043960" cy="1892880"/>
            <a:chOff x="2362320" y="3824280"/>
            <a:chExt cx="5043960" cy="1892880"/>
          </a:xfrm>
        </p:grpSpPr>
        <p:sp>
          <p:nvSpPr>
            <p:cNvPr id="551" name=""/>
            <p:cNvSpPr/>
            <p:nvPr/>
          </p:nvSpPr>
          <p:spPr>
            <a:xfrm>
              <a:off x="2362320" y="5221080"/>
              <a:ext cx="440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33880" y="4924440"/>
              <a:ext cx="5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7960" y="51782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08000" y="5196600"/>
              <a:ext cx="69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827440" y="3824280"/>
                  <a:ext cx="205560" cy="36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 flipV="1">
              <a:off x="2735280" y="3840120"/>
              <a:ext cx="0" cy="186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838080" y="2362320"/>
            <a:ext cx="617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正弦半波电流的最大值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197000" y="5653080"/>
            <a:ext cx="421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普通晶闸管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A — 1000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533520" y="2286000"/>
            <a:ext cx="81532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通态平均电压（管压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规定的条件下，通过正弦半波平均电流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闸管阳、阴极间的电压平均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9320" y="477720"/>
            <a:ext cx="808380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维持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规定的环境和控制极断路时，晶闸管维持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状态所必须的最小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几十 </a:t>
            </a:r>
            <a:r>
              <a:rPr b="1" lang="zh-CN" sz="4400" spc="-1" strike="noStrike" baseline="-25000">
                <a:solidFill>
                  <a:srgbClr val="000000"/>
                </a:solidFill>
                <a:latin typeface="宋体"/>
                <a:ea typeface="Times New Roman"/>
              </a:rPr>
              <a:t>~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百多毫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4267080"/>
            <a:ext cx="549756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控制极触发电压和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温下，阳极电压为直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使晶闸管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导通所必须的最小控制极直流电压、电流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几十到几百毫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80880" y="3049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晶闸管型号及其含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200400" y="1295280"/>
            <a:ext cx="533520" cy="304920"/>
            <a:chOff x="3200400" y="1295280"/>
            <a:chExt cx="533520" cy="304920"/>
          </a:xfrm>
        </p:grpSpPr>
        <p:sp>
          <p:nvSpPr>
            <p:cNvPr id="564" name=""/>
            <p:cNvSpPr/>
            <p:nvPr/>
          </p:nvSpPr>
          <p:spPr>
            <a:xfrm>
              <a:off x="32004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1600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657600" y="1274760"/>
            <a:ext cx="5410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通时平均电压组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九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字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~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4~1.2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26000" y="2182680"/>
            <a:ext cx="511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额定电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百位或千位数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RR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小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14600" y="1295280"/>
            <a:ext cx="1219320" cy="1269720"/>
            <a:chOff x="2514600" y="1295280"/>
            <a:chExt cx="1219320" cy="1269720"/>
          </a:xfrm>
        </p:grpSpPr>
        <p:sp>
          <p:nvSpPr>
            <p:cNvPr id="569" name=""/>
            <p:cNvSpPr/>
            <p:nvPr/>
          </p:nvSpPr>
          <p:spPr>
            <a:xfrm>
              <a:off x="2514600" y="1295280"/>
              <a:ext cx="0" cy="126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14600" y="25542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733920" y="3124080"/>
            <a:ext cx="457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额定正向平均电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676520" y="1258920"/>
            <a:ext cx="2133360" cy="2187720"/>
            <a:chOff x="1676520" y="1258920"/>
            <a:chExt cx="2133360" cy="2187720"/>
          </a:xfrm>
        </p:grpSpPr>
        <p:sp>
          <p:nvSpPr>
            <p:cNvPr id="573" name=""/>
            <p:cNvSpPr/>
            <p:nvPr/>
          </p:nvSpPr>
          <p:spPr>
            <a:xfrm>
              <a:off x="1676520" y="342900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76520" y="1258920"/>
              <a:ext cx="0" cy="218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952880" y="3581280"/>
            <a:ext cx="3581640" cy="1982880"/>
            <a:chOff x="4952880" y="3581280"/>
            <a:chExt cx="3581640" cy="1982880"/>
          </a:xfrm>
        </p:grpSpPr>
        <p:sp>
          <p:nvSpPr>
            <p:cNvPr id="576" name=""/>
            <p:cNvSpPr/>
            <p:nvPr/>
          </p:nvSpPr>
          <p:spPr>
            <a:xfrm>
              <a:off x="5181480" y="3581280"/>
              <a:ext cx="335304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宋体"/>
                </a:rPr>
                <a:t>（晶闸管类型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</a:rPr>
                <a:t>P</a:t>
              </a:r>
              <a:r>
                <a:rPr b="1" lang="zh-CN" sz="3200" spc="-1" strike="noStrike">
                  <a:solidFill>
                    <a:srgbClr val="006600"/>
                  </a:solidFill>
                  <a:latin typeface="宋体"/>
                </a:rPr>
                <a:t>--</a:t>
              </a:r>
              <a:r>
                <a:rPr b="1" lang="zh-CN" sz="2800" spc="-1" strike="noStrike">
                  <a:solidFill>
                    <a:srgbClr val="006600"/>
                  </a:solidFill>
                  <a:latin typeface="宋体"/>
                </a:rPr>
                <a:t>普通晶闸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</a:rPr>
                <a:t>K</a:t>
              </a:r>
              <a:r>
                <a:rPr b="1" lang="zh-CN" sz="3200" spc="-1" strike="noStrike">
                  <a:solidFill>
                    <a:srgbClr val="006600"/>
                  </a:solidFill>
                  <a:latin typeface="宋体"/>
                </a:rPr>
                <a:t>--</a:t>
              </a:r>
              <a:r>
                <a:rPr b="1" lang="zh-CN" sz="2800" spc="-1" strike="noStrike">
                  <a:solidFill>
                    <a:srgbClr val="006600"/>
                  </a:solidFill>
                  <a:latin typeface="宋体"/>
                </a:rPr>
                <a:t>快速晶闸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</a:rPr>
                <a:t>S </a:t>
              </a:r>
              <a:r>
                <a:rPr b="1" lang="zh-CN" sz="3200" spc="-1" strike="noStrike">
                  <a:solidFill>
                    <a:srgbClr val="006600"/>
                  </a:solidFill>
                  <a:latin typeface="宋体"/>
                </a:rPr>
                <a:t>--</a:t>
              </a:r>
              <a:r>
                <a:rPr b="1" lang="zh-CN" sz="2800" spc="-1" strike="noStrike">
                  <a:solidFill>
                    <a:srgbClr val="006600"/>
                  </a:solidFill>
                  <a:latin typeface="宋体"/>
                </a:rPr>
                <a:t>双向晶闸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52880" y="434340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93720" y="1219320"/>
            <a:ext cx="4118040" cy="4559040"/>
            <a:chOff x="693720" y="1219320"/>
            <a:chExt cx="4118040" cy="4559040"/>
          </a:xfrm>
        </p:grpSpPr>
        <p:sp>
          <p:nvSpPr>
            <p:cNvPr id="579" name=""/>
            <p:cNvSpPr/>
            <p:nvPr/>
          </p:nvSpPr>
          <p:spPr>
            <a:xfrm>
              <a:off x="693720" y="1219320"/>
              <a:ext cx="0" cy="441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693720" y="5257800"/>
              <a:ext cx="4118040" cy="520560"/>
              <a:chOff x="693720" y="5257800"/>
              <a:chExt cx="4118040" cy="520560"/>
            </a:xfrm>
          </p:grpSpPr>
          <p:sp>
            <p:nvSpPr>
              <p:cNvPr id="581" name=""/>
              <p:cNvSpPr/>
              <p:nvPr/>
            </p:nvSpPr>
            <p:spPr>
              <a:xfrm>
                <a:off x="3990960" y="52578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晶闸管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3720" y="5634000"/>
                <a:ext cx="311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3" name=""/>
          <p:cNvGrpSpPr/>
          <p:nvPr/>
        </p:nvGrpSpPr>
        <p:grpSpPr>
          <a:xfrm>
            <a:off x="455760" y="762120"/>
            <a:ext cx="2896920" cy="520560"/>
            <a:chOff x="455760" y="762120"/>
            <a:chExt cx="2896920" cy="520560"/>
          </a:xfrm>
        </p:grpSpPr>
        <p:sp>
          <p:nvSpPr>
            <p:cNvPr id="584" name=""/>
            <p:cNvSpPr/>
            <p:nvPr/>
          </p:nvSpPr>
          <p:spPr>
            <a:xfrm>
              <a:off x="455760" y="7621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1079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23880" y="90504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62320" y="906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48120" y="90504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72000" y="7621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143000" y="1219320"/>
            <a:ext cx="3629160" cy="2906280"/>
            <a:chOff x="1143000" y="1219320"/>
            <a:chExt cx="3629160" cy="2906280"/>
          </a:xfrm>
        </p:grpSpPr>
        <p:grpSp>
          <p:nvGrpSpPr>
            <p:cNvPr id="591" name=""/>
            <p:cNvGrpSpPr/>
            <p:nvPr/>
          </p:nvGrpSpPr>
          <p:grpSpPr>
            <a:xfrm>
              <a:off x="1143000" y="1219320"/>
              <a:ext cx="2666880" cy="2743200"/>
              <a:chOff x="1143000" y="1219320"/>
              <a:chExt cx="2666880" cy="2743200"/>
            </a:xfrm>
          </p:grpSpPr>
          <p:sp>
            <p:nvSpPr>
              <p:cNvPr id="592" name=""/>
              <p:cNvSpPr/>
              <p:nvPr/>
            </p:nvSpPr>
            <p:spPr>
              <a:xfrm>
                <a:off x="1143000" y="3962520"/>
                <a:ext cx="266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43000" y="121932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3951360" y="3605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普通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152280" y="58053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P5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额定正向平均电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额定电压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00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2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可控整流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396360" y="1233360"/>
            <a:ext cx="5394600" cy="13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2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单相半波可控整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阻性负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3360" y="230832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3293280"/>
            <a:ext cx="8483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&gt; 0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导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818240" y="3683160"/>
                <a:ext cx="29844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2344680" y="4724280"/>
                <a:ext cx="3389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658800" y="5113440"/>
            <a:ext cx="77994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&lt; 0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承受反向电压不导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= 0,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宋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故称可控整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19320" y="426636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控制极加触发信号，晶闸管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承受正向电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导 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484160" y="1295280"/>
            <a:ext cx="4344120" cy="2362320"/>
            <a:chOff x="4484160" y="1295280"/>
            <a:chExt cx="4344120" cy="2362320"/>
          </a:xfrm>
        </p:grpSpPr>
        <p:grpSp>
          <p:nvGrpSpPr>
            <p:cNvPr id="605" name=""/>
            <p:cNvGrpSpPr/>
            <p:nvPr/>
          </p:nvGrpSpPr>
          <p:grpSpPr>
            <a:xfrm>
              <a:off x="4484160" y="1461240"/>
              <a:ext cx="4344120" cy="2196360"/>
              <a:chOff x="4484160" y="1461240"/>
              <a:chExt cx="4344120" cy="2196360"/>
            </a:xfrm>
          </p:grpSpPr>
          <p:sp>
            <p:nvSpPr>
              <p:cNvPr id="606" name=""/>
              <p:cNvSpPr/>
              <p:nvPr/>
            </p:nvSpPr>
            <p:spPr>
              <a:xfrm>
                <a:off x="5744880" y="3624120"/>
                <a:ext cx="2552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676920" y="1693800"/>
                <a:ext cx="0" cy="48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671880" y="1693800"/>
                <a:ext cx="27612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48360" y="1693800"/>
                <a:ext cx="0" cy="55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6948360" y="1625760"/>
                <a:ext cx="27396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6681600" y="1875960"/>
                <a:ext cx="282240" cy="28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744880" y="194472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3480" y="1944720"/>
                <a:ext cx="850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183160" y="2494080"/>
                <a:ext cx="147240" cy="40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248320" y="1944720"/>
                <a:ext cx="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264160" y="2876400"/>
                <a:ext cx="0" cy="78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4678200" y="1884240"/>
                <a:ext cx="727920" cy="71280"/>
                <a:chOff x="4678200" y="1884240"/>
                <a:chExt cx="727920" cy="712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754160" y="1939680"/>
                  <a:ext cx="651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flipV="1">
                  <a:off x="4678200" y="1884240"/>
                  <a:ext cx="71280" cy="71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 flipV="1">
                <a:off x="7181640" y="1595520"/>
                <a:ext cx="82080" cy="79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484160" y="252900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49920" y="2438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345880" y="236232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zh-CN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87000" y="2376360"/>
                <a:ext cx="55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748120" y="1980360"/>
                <a:ext cx="30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44880" y="2894760"/>
                <a:ext cx="36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199000" y="2077200"/>
                <a:ext cx="30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6379920" y="2020320"/>
                <a:ext cx="1100880" cy="631080"/>
                <a:chOff x="6379920" y="2020320"/>
                <a:chExt cx="1100880" cy="63108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89880" y="2071800"/>
                  <a:ext cx="515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379920" y="206316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116120" y="2020320"/>
                  <a:ext cx="364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219880" y="2666160"/>
                <a:ext cx="36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25760" y="1461240"/>
                <a:ext cx="75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667840" y="1938240"/>
                <a:ext cx="834120" cy="1697040"/>
                <a:chOff x="5667840" y="1938240"/>
                <a:chExt cx="834120" cy="1697040"/>
              </a:xfrm>
            </p:grpSpPr>
            <p:grpSp>
              <p:nvGrpSpPr>
                <p:cNvPr id="635" name=""/>
                <p:cNvGrpSpPr/>
                <p:nvPr/>
              </p:nvGrpSpPr>
              <p:grpSpPr>
                <a:xfrm>
                  <a:off x="5667840" y="2304000"/>
                  <a:ext cx="834120" cy="930600"/>
                  <a:chOff x="5667840" y="2304000"/>
                  <a:chExt cx="834120" cy="9306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flipH="1" rot="16200000">
                    <a:off x="5871600" y="2099880"/>
                    <a:ext cx="425880" cy="83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 rot="16200000">
                    <a:off x="5871600" y="2352240"/>
                    <a:ext cx="425880" cy="83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16200000">
                    <a:off x="5871600" y="2604600"/>
                    <a:ext cx="425880" cy="83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9" name=""/>
                <p:cNvSpPr/>
                <p:nvPr/>
              </p:nvSpPr>
              <p:spPr>
                <a:xfrm>
                  <a:off x="5744520" y="1938240"/>
                  <a:ext cx="0" cy="50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10212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4642560" y="1935000"/>
                <a:ext cx="834120" cy="1697040"/>
                <a:chOff x="4642560" y="1935000"/>
                <a:chExt cx="834120" cy="1697040"/>
              </a:xfrm>
            </p:grpSpPr>
            <p:grpSp>
              <p:nvGrpSpPr>
                <p:cNvPr id="642" name=""/>
                <p:cNvGrpSpPr/>
                <p:nvPr/>
              </p:nvGrpSpPr>
              <p:grpSpPr>
                <a:xfrm>
                  <a:off x="4642560" y="2300760"/>
                  <a:ext cx="834120" cy="930600"/>
                  <a:chOff x="4642560" y="2300760"/>
                  <a:chExt cx="834120" cy="93060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rot="5400000">
                    <a:off x="4846680" y="2096640"/>
                    <a:ext cx="425880" cy="83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5400000">
                    <a:off x="4846680" y="2349000"/>
                    <a:ext cx="425880" cy="83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rot="5400000">
                    <a:off x="4846680" y="2601360"/>
                    <a:ext cx="425880" cy="83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6" name=""/>
                <p:cNvSpPr/>
                <p:nvPr/>
              </p:nvSpPr>
              <p:spPr>
                <a:xfrm>
                  <a:off x="5400000" y="1935000"/>
                  <a:ext cx="0" cy="50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400000" y="309888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4678200" y="3559320"/>
                <a:ext cx="727920" cy="71280"/>
                <a:chOff x="4678200" y="3559320"/>
                <a:chExt cx="727920" cy="7128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754160" y="3614760"/>
                  <a:ext cx="651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 flipV="1">
                  <a:off x="4678200" y="3559320"/>
                  <a:ext cx="71280" cy="71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574960" y="23623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421400" y="1828800"/>
                <a:ext cx="609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7378920" y="129528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23986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86800" y="1427040"/>
            <a:ext cx="62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29000" y="608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040200" y="1085400"/>
            <a:ext cx="3727440" cy="1011240"/>
            <a:chOff x="3040200" y="1085400"/>
            <a:chExt cx="3727440" cy="1011240"/>
          </a:xfrm>
        </p:grpSpPr>
        <p:sp>
          <p:nvSpPr>
            <p:cNvPr id="658" name=""/>
            <p:cNvSpPr/>
            <p:nvPr/>
          </p:nvSpPr>
          <p:spPr>
            <a:xfrm flipV="1">
              <a:off x="5526360" y="1085760"/>
              <a:ext cx="1241280" cy="50616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3040200" y="1085400"/>
              <a:ext cx="2919240" cy="1011240"/>
              <a:chOff x="3040200" y="1085400"/>
              <a:chExt cx="2919240" cy="101124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3040200" y="1085400"/>
                <a:ext cx="2484000" cy="1011240"/>
                <a:chOff x="3040200" y="1085400"/>
                <a:chExt cx="2484000" cy="1011240"/>
              </a:xfrm>
            </p:grpSpPr>
            <p:sp>
              <p:nvSpPr>
                <p:cNvPr id="661" name=""/>
                <p:cNvSpPr/>
                <p:nvPr/>
              </p:nvSpPr>
              <p:spPr>
                <a:xfrm flipV="1">
                  <a:off x="3040200" y="1085400"/>
                  <a:ext cx="1241280" cy="506160"/>
                </a:xfrm>
                <a:custGeom>
                  <a:avLst/>
                  <a:gdLst/>
                  <a:ahLst/>
                  <a:rect l="l" t="t" r="r" b="b"/>
                  <a:pathLst>
                    <a:path w="782" h="433">
                      <a:moveTo>
                        <a:pt x="0" y="0"/>
                      </a:moveTo>
                      <a:lnTo>
                        <a:pt x="66" y="118"/>
                      </a:lnTo>
                      <a:lnTo>
                        <a:pt x="132" y="220"/>
                      </a:lnTo>
                      <a:lnTo>
                        <a:pt x="198" y="308"/>
                      </a:lnTo>
                      <a:lnTo>
                        <a:pt x="264" y="381"/>
                      </a:lnTo>
                      <a:lnTo>
                        <a:pt x="319" y="418"/>
                      </a:lnTo>
                      <a:lnTo>
                        <a:pt x="385" y="432"/>
                      </a:lnTo>
                      <a:lnTo>
                        <a:pt x="451" y="418"/>
                      </a:lnTo>
                      <a:lnTo>
                        <a:pt x="517" y="381"/>
                      </a:lnTo>
                      <a:lnTo>
                        <a:pt x="583" y="308"/>
                      </a:lnTo>
                      <a:lnTo>
                        <a:pt x="649" y="220"/>
                      </a:lnTo>
                      <a:lnTo>
                        <a:pt x="715" y="110"/>
                      </a:lnTo>
                      <a:lnTo>
                        <a:pt x="781" y="0"/>
                      </a:lnTo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4279680" y="1590480"/>
                  <a:ext cx="1244520" cy="506160"/>
                </a:xfrm>
                <a:custGeom>
                  <a:avLst/>
                  <a:gdLst/>
                  <a:ahLst/>
                  <a:rect l="l" t="t" r="r" b="b"/>
                  <a:pathLst>
                    <a:path w="784" h="433">
                      <a:moveTo>
                        <a:pt x="783" y="432"/>
                      </a:moveTo>
                      <a:lnTo>
                        <a:pt x="716" y="315"/>
                      </a:lnTo>
                      <a:lnTo>
                        <a:pt x="650" y="213"/>
                      </a:lnTo>
                      <a:lnTo>
                        <a:pt x="584" y="125"/>
                      </a:lnTo>
                      <a:lnTo>
                        <a:pt x="518" y="52"/>
                      </a:lnTo>
                      <a:lnTo>
                        <a:pt x="463" y="15"/>
                      </a:lnTo>
                      <a:lnTo>
                        <a:pt x="397" y="0"/>
                      </a:lnTo>
                      <a:lnTo>
                        <a:pt x="330" y="15"/>
                      </a:lnTo>
                      <a:lnTo>
                        <a:pt x="264" y="52"/>
                      </a:lnTo>
                      <a:lnTo>
                        <a:pt x="198" y="125"/>
                      </a:lnTo>
                      <a:lnTo>
                        <a:pt x="132" y="213"/>
                      </a:lnTo>
                      <a:lnTo>
                        <a:pt x="66" y="323"/>
                      </a:lnTo>
                      <a:lnTo>
                        <a:pt x="0" y="432"/>
                      </a:lnTo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" name=""/>
              <p:cNvSpPr/>
              <p:nvPr/>
            </p:nvSpPr>
            <p:spPr>
              <a:xfrm>
                <a:off x="3044880" y="143964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018320" y="144756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405400" y="1487160"/>
                <a:ext cx="55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6" name=""/>
          <p:cNvSpPr/>
          <p:nvPr/>
        </p:nvSpPr>
        <p:spPr>
          <a:xfrm>
            <a:off x="635040" y="5195880"/>
            <a:ext cx="750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0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控硅承受反向电压不导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158920" y="5638680"/>
                <a:ext cx="2554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>
            <a:off x="5297040" y="5653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即：晶闸管反向阻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60240" y="4156200"/>
            <a:ext cx="8242560" cy="644400"/>
            <a:chOff x="660240" y="4156200"/>
            <a:chExt cx="8242560" cy="644400"/>
          </a:xfrm>
        </p:grpSpPr>
        <mc:AlternateContent>
          <mc:Choice xmlns:a14="http://schemas.microsoft.com/office/drawing/2010/main" Requires="a14">
            <p:sp>
              <p:nvSpPr>
                <p:cNvPr id="670" name=""/>
                <p:cNvSpPr txBox="1"/>
                <p:nvPr/>
              </p:nvSpPr>
              <p:spPr>
                <a:xfrm>
                  <a:off x="660240" y="4156200"/>
                  <a:ext cx="116856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1" name=""/>
            <p:cNvSpPr/>
            <p:nvPr/>
          </p:nvSpPr>
          <p:spPr>
            <a:xfrm>
              <a:off x="1523880" y="4246560"/>
              <a:ext cx="737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加触发信号，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晶闸管承受正向电压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导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119320" y="4648320"/>
                <a:ext cx="3595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3" name=""/>
          <p:cNvGrpSpPr/>
          <p:nvPr/>
        </p:nvGrpSpPr>
        <p:grpSpPr>
          <a:xfrm>
            <a:off x="2660760" y="533520"/>
            <a:ext cx="5338080" cy="1348560"/>
            <a:chOff x="2660760" y="533520"/>
            <a:chExt cx="5338080" cy="1348560"/>
          </a:xfrm>
        </p:grpSpPr>
        <p:grpSp>
          <p:nvGrpSpPr>
            <p:cNvPr id="674" name=""/>
            <p:cNvGrpSpPr/>
            <p:nvPr/>
          </p:nvGrpSpPr>
          <p:grpSpPr>
            <a:xfrm>
              <a:off x="2660760" y="533520"/>
              <a:ext cx="5338080" cy="1282680"/>
              <a:chOff x="2660760" y="533520"/>
              <a:chExt cx="5338080" cy="1282680"/>
            </a:xfrm>
          </p:grpSpPr>
          <p:sp>
            <p:nvSpPr>
              <p:cNvPr id="675" name=""/>
              <p:cNvSpPr/>
              <p:nvPr/>
            </p:nvSpPr>
            <p:spPr>
              <a:xfrm>
                <a:off x="7386840" y="1295640"/>
                <a:ext cx="61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6" name=""/>
                  <p:cNvSpPr txBox="1"/>
                  <p:nvPr/>
                </p:nvSpPr>
                <p:spPr>
                  <a:xfrm>
                    <a:off x="2660760" y="533520"/>
                    <a:ext cx="30600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77" name=""/>
              <p:cNvSpPr/>
              <p:nvPr/>
            </p:nvSpPr>
            <p:spPr>
              <a:xfrm>
                <a:off x="3041640" y="1600200"/>
                <a:ext cx="441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3041640" y="60948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2662920" y="142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31800" y="3276720"/>
            <a:ext cx="7521120" cy="1073160"/>
            <a:chOff x="631800" y="3276720"/>
            <a:chExt cx="7521120" cy="1073160"/>
          </a:xfrm>
        </p:grpSpPr>
        <p:sp>
          <p:nvSpPr>
            <p:cNvPr id="681" name=""/>
            <p:cNvSpPr/>
            <p:nvPr/>
          </p:nvSpPr>
          <p:spPr>
            <a:xfrm>
              <a:off x="631800" y="3284640"/>
              <a:ext cx="1829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gt; 0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时</a:t>
              </a:r>
              <a:r>
                <a:rPr b="1" lang="en-US" sz="2800" spc="-1" strike="noStrike">
                  <a:solidFill>
                    <a:srgbClr val="000099"/>
                  </a:solidFill>
                  <a:latin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2054160" y="3276720"/>
                  <a:ext cx="60987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>
                        <m:e>
                          <m:r>
                            <m:t xml:space="preserve">ω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晶闸管不导通。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2165040" y="3740040"/>
                  <a:ext cx="3042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2593800" y="1760400"/>
            <a:ext cx="5398560" cy="1472760"/>
            <a:chOff x="2593800" y="1760400"/>
            <a:chExt cx="5398560" cy="147276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2593800" y="1760400"/>
                  <a:ext cx="42732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686" name=""/>
            <p:cNvGrpSpPr/>
            <p:nvPr/>
          </p:nvGrpSpPr>
          <p:grpSpPr>
            <a:xfrm>
              <a:off x="2656440" y="1960560"/>
              <a:ext cx="5335920" cy="1272600"/>
              <a:chOff x="2656440" y="1960560"/>
              <a:chExt cx="5335920" cy="1272600"/>
            </a:xfrm>
          </p:grpSpPr>
          <p:sp>
            <p:nvSpPr>
              <p:cNvPr id="687" name=""/>
              <p:cNvSpPr/>
              <p:nvPr/>
            </p:nvSpPr>
            <p:spPr>
              <a:xfrm>
                <a:off x="7380360" y="2646360"/>
                <a:ext cx="61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35160" y="2951280"/>
                <a:ext cx="441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3035160" y="1960560"/>
                <a:ext cx="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56440" y="2773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3048120" y="2325600"/>
                <a:ext cx="3744360" cy="626040"/>
                <a:chOff x="3048120" y="2325600"/>
                <a:chExt cx="3744360" cy="62604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3274560" y="2325600"/>
                  <a:ext cx="491760" cy="625680"/>
                  <a:chOff x="3274560" y="2325600"/>
                  <a:chExt cx="491760" cy="62568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3428640" y="2341440"/>
                    <a:ext cx="0" cy="6098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rot="8797800">
                    <a:off x="3435480" y="2319480"/>
                    <a:ext cx="169560" cy="63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32">
                        <a:moveTo>
                          <a:pt x="32" y="0"/>
                        </a:moveTo>
                        <a:cubicBezTo>
                          <a:pt x="16" y="72"/>
                          <a:pt x="0" y="144"/>
                          <a:pt x="20" y="216"/>
                        </a:cubicBezTo>
                        <a:cubicBezTo>
                          <a:pt x="40" y="288"/>
                          <a:pt x="134" y="400"/>
                          <a:pt x="152" y="43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5" name=""/>
                <p:cNvSpPr/>
                <p:nvPr/>
              </p:nvSpPr>
              <p:spPr>
                <a:xfrm>
                  <a:off x="5905440" y="234180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 rot="8797800">
                  <a:off x="5942160" y="2319120"/>
                  <a:ext cx="139320" cy="647280"/>
                </a:xfrm>
                <a:custGeom>
                  <a:avLst/>
                  <a:gdLst/>
                  <a:ahLst/>
                  <a:rect l="l" t="t" r="r" b="b"/>
                  <a:pathLst>
                    <a:path w="152" h="432">
                      <a:moveTo>
                        <a:pt x="32" y="0"/>
                      </a:moveTo>
                      <a:cubicBezTo>
                        <a:pt x="16" y="72"/>
                        <a:pt x="0" y="144"/>
                        <a:pt x="20" y="216"/>
                      </a:cubicBezTo>
                      <a:cubicBezTo>
                        <a:pt x="40" y="288"/>
                        <a:pt x="134" y="400"/>
                        <a:pt x="152" y="432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48120" y="2951280"/>
                  <a:ext cx="3805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676320" y="2951280"/>
                  <a:ext cx="22096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125760" y="2951280"/>
                  <a:ext cx="6667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0" name=""/>
          <p:cNvGrpSpPr/>
          <p:nvPr/>
        </p:nvGrpSpPr>
        <p:grpSpPr>
          <a:xfrm>
            <a:off x="3429000" y="1143000"/>
            <a:ext cx="3352680" cy="1859040"/>
            <a:chOff x="3429000" y="1143000"/>
            <a:chExt cx="3352680" cy="1859040"/>
          </a:xfrm>
        </p:grpSpPr>
        <p:sp>
          <p:nvSpPr>
            <p:cNvPr id="701" name=""/>
            <p:cNvSpPr/>
            <p:nvPr/>
          </p:nvSpPr>
          <p:spPr>
            <a:xfrm>
              <a:off x="6775560" y="1600200"/>
              <a:ext cx="6120" cy="1371600"/>
            </a:xfrm>
            <a:prstGeom prst="line">
              <a:avLst/>
            </a:prstGeom>
            <a:ln w="1908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3429000" y="1143000"/>
              <a:ext cx="0" cy="18288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67080" y="16002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27800" y="16002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900760" y="1173240"/>
              <a:ext cx="0" cy="18288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1523880" y="2463840"/>
            <a:ext cx="6516720" cy="1346040"/>
            <a:chOff x="1523880" y="2463840"/>
            <a:chExt cx="6516720" cy="1346040"/>
          </a:xfrm>
        </p:grpSpPr>
        <p:sp>
          <p:nvSpPr>
            <p:cNvPr id="707" name=""/>
            <p:cNvSpPr/>
            <p:nvPr/>
          </p:nvSpPr>
          <p:spPr>
            <a:xfrm>
              <a:off x="7162560" y="3289320"/>
              <a:ext cx="8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1523880" y="2463840"/>
                  <a:ext cx="52380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09" name=""/>
            <p:cNvSpPr/>
            <p:nvPr/>
          </p:nvSpPr>
          <p:spPr>
            <a:xfrm>
              <a:off x="2017440" y="3582720"/>
              <a:ext cx="51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2017440" y="263340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1602360" y="33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3520" y="5257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电阻负载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相半波可控整流电路电压、电流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676520" y="4848120"/>
            <a:ext cx="1499760" cy="596880"/>
            <a:chOff x="1676520" y="4848120"/>
            <a:chExt cx="1499760" cy="596880"/>
          </a:xfrm>
        </p:grpSpPr>
        <p:sp>
          <p:nvSpPr>
            <p:cNvPr id="714" name=""/>
            <p:cNvSpPr/>
            <p:nvPr/>
          </p:nvSpPr>
          <p:spPr>
            <a:xfrm>
              <a:off x="2685960" y="4951440"/>
              <a:ext cx="490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03880" y="4924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05560" y="48481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76520" y="4948200"/>
              <a:ext cx="37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396520" y="4948200"/>
              <a:ext cx="518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>
            <a:hlinkClick r:id="rId1"/>
          </p:cNvPr>
          <p:cNvSpPr/>
          <p:nvPr/>
        </p:nvSpPr>
        <p:spPr>
          <a:xfrm>
            <a:off x="685800" y="4419720"/>
            <a:ext cx="69048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5181480"/>
            <a:ext cx="1434960" cy="449280"/>
          </a:xfrm>
          <a:prstGeom prst="wedgeRoundRectCallout">
            <a:avLst>
              <a:gd name="adj1" fmla="val 65486"/>
              <a:gd name="adj2" fmla="val -96643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控制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4151160" y="2838600"/>
                <a:ext cx="1047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>
            <a:off x="2307240" y="1130400"/>
            <a:ext cx="65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33600" y="396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025720" y="808200"/>
            <a:ext cx="4614480" cy="950400"/>
            <a:chOff x="2025720" y="808200"/>
            <a:chExt cx="4614480" cy="950400"/>
          </a:xfrm>
        </p:grpSpPr>
        <p:sp>
          <p:nvSpPr>
            <p:cNvPr id="725" name=""/>
            <p:cNvSpPr/>
            <p:nvPr/>
          </p:nvSpPr>
          <p:spPr>
            <a:xfrm flipV="1">
              <a:off x="2025720" y="808200"/>
              <a:ext cx="1152360" cy="4680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4333680" y="808200"/>
              <a:ext cx="1152360" cy="4680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93920" y="1278000"/>
              <a:ext cx="1153800" cy="46764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1290600"/>
              <a:ext cx="1153800" cy="4680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02360" y="290520"/>
            <a:ext cx="6438240" cy="1452960"/>
            <a:chOff x="1602360" y="290520"/>
            <a:chExt cx="6438240" cy="1452960"/>
          </a:xfrm>
        </p:grpSpPr>
        <p:sp>
          <p:nvSpPr>
            <p:cNvPr id="730" name=""/>
            <p:cNvSpPr/>
            <p:nvPr/>
          </p:nvSpPr>
          <p:spPr>
            <a:xfrm>
              <a:off x="2892240" y="11620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90920" y="11602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602360" y="290520"/>
              <a:ext cx="6438240" cy="1223640"/>
              <a:chOff x="1602360" y="290520"/>
              <a:chExt cx="6438240" cy="1223640"/>
            </a:xfrm>
          </p:grpSpPr>
          <p:sp>
            <p:nvSpPr>
              <p:cNvPr id="733" name=""/>
              <p:cNvSpPr/>
              <p:nvPr/>
            </p:nvSpPr>
            <p:spPr>
              <a:xfrm>
                <a:off x="7162560" y="993600"/>
                <a:ext cx="87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4" name=""/>
                  <p:cNvSpPr txBox="1"/>
                  <p:nvPr/>
                </p:nvSpPr>
                <p:spPr>
                  <a:xfrm>
                    <a:off x="1631880" y="290520"/>
                    <a:ext cx="349200" cy="38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5" name=""/>
              <p:cNvSpPr/>
              <p:nvPr/>
            </p:nvSpPr>
            <p:spPr>
              <a:xfrm>
                <a:off x="2017440" y="1287360"/>
                <a:ext cx="518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2017440" y="33804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02360" y="1023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2362320" y="871560"/>
            <a:ext cx="4279680" cy="4614840"/>
            <a:chOff x="2362320" y="871560"/>
            <a:chExt cx="4279680" cy="4614840"/>
          </a:xfrm>
        </p:grpSpPr>
        <p:sp>
          <p:nvSpPr>
            <p:cNvPr id="739" name=""/>
            <p:cNvSpPr/>
            <p:nvPr/>
          </p:nvSpPr>
          <p:spPr>
            <a:xfrm>
              <a:off x="3197160" y="1287360"/>
              <a:ext cx="0" cy="415620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30440" y="1278000"/>
              <a:ext cx="0" cy="332712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94320" y="1282680"/>
              <a:ext cx="0" cy="33224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362320" y="871560"/>
              <a:ext cx="26640" cy="46148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55880" y="957240"/>
              <a:ext cx="0" cy="364788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42000" y="1290600"/>
              <a:ext cx="0" cy="33908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1541520" y="1397160"/>
            <a:ext cx="6499080" cy="1363320"/>
            <a:chOff x="1541520" y="1397160"/>
            <a:chExt cx="6499080" cy="1363320"/>
          </a:xfrm>
        </p:grpSpPr>
        <p:sp>
          <p:nvSpPr>
            <p:cNvPr id="746" name=""/>
            <p:cNvSpPr/>
            <p:nvPr/>
          </p:nvSpPr>
          <p:spPr>
            <a:xfrm>
              <a:off x="7162920" y="2239920"/>
              <a:ext cx="87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1541520" y="1397160"/>
                  <a:ext cx="48888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8" name=""/>
            <p:cNvSpPr/>
            <p:nvPr/>
          </p:nvSpPr>
          <p:spPr>
            <a:xfrm>
              <a:off x="2017800" y="253368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017800" y="158436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02360" y="2270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004840" y="1962360"/>
            <a:ext cx="4624560" cy="580680"/>
            <a:chOff x="2004840" y="1962360"/>
            <a:chExt cx="4624560" cy="580680"/>
          </a:xfrm>
        </p:grpSpPr>
        <p:grpSp>
          <p:nvGrpSpPr>
            <p:cNvPr id="752" name=""/>
            <p:cNvGrpSpPr/>
            <p:nvPr/>
          </p:nvGrpSpPr>
          <p:grpSpPr>
            <a:xfrm>
              <a:off x="2230920" y="1962360"/>
              <a:ext cx="456480" cy="580680"/>
              <a:chOff x="2230920" y="1962360"/>
              <a:chExt cx="456480" cy="580680"/>
            </a:xfrm>
          </p:grpSpPr>
          <p:sp>
            <p:nvSpPr>
              <p:cNvPr id="753" name=""/>
              <p:cNvSpPr/>
              <p:nvPr/>
            </p:nvSpPr>
            <p:spPr>
              <a:xfrm>
                <a:off x="2373120" y="1977480"/>
                <a:ext cx="0" cy="56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rot="8797800">
                <a:off x="2380320" y="1956960"/>
                <a:ext cx="157680" cy="5904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4510440" y="1962720"/>
              <a:ext cx="455760" cy="580320"/>
              <a:chOff x="4510440" y="1962720"/>
              <a:chExt cx="455760" cy="580320"/>
            </a:xfrm>
          </p:grpSpPr>
          <p:sp>
            <p:nvSpPr>
              <p:cNvPr id="756" name=""/>
              <p:cNvSpPr/>
              <p:nvPr/>
            </p:nvSpPr>
            <p:spPr>
              <a:xfrm>
                <a:off x="4653000" y="1977480"/>
                <a:ext cx="0" cy="56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 rot="8797800">
                <a:off x="4659480" y="1956960"/>
                <a:ext cx="157320" cy="5904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004840" y="2527200"/>
              <a:ext cx="352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90560" y="2527200"/>
              <a:ext cx="2044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46680" y="2527200"/>
              <a:ext cx="1782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4582080" y="1100160"/>
            <a:ext cx="65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11320" y="79524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3529080"/>
            <a:ext cx="6516720" cy="1914480"/>
            <a:chOff x="1523880" y="3529080"/>
            <a:chExt cx="6516720" cy="191448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3529080"/>
              <a:ext cx="6516720" cy="1328400"/>
              <a:chOff x="1523880" y="3529080"/>
              <a:chExt cx="6516720" cy="1328400"/>
            </a:xfrm>
          </p:grpSpPr>
          <p:sp>
            <p:nvSpPr>
              <p:cNvPr id="765" name=""/>
              <p:cNvSpPr/>
              <p:nvPr/>
            </p:nvSpPr>
            <p:spPr>
              <a:xfrm>
                <a:off x="7162560" y="4336920"/>
                <a:ext cx="87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6" name=""/>
                  <p:cNvSpPr txBox="1"/>
                  <p:nvPr/>
                </p:nvSpPr>
                <p:spPr>
                  <a:xfrm>
                    <a:off x="1523880" y="3529080"/>
                    <a:ext cx="523800" cy="59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7" name=""/>
              <p:cNvSpPr/>
              <p:nvPr/>
            </p:nvSpPr>
            <p:spPr>
              <a:xfrm>
                <a:off x="2017440" y="4630680"/>
                <a:ext cx="518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2017440" y="368136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02360" y="4367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2017440" y="46051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971360" y="4129200"/>
            <a:ext cx="4657320" cy="966600"/>
            <a:chOff x="1971360" y="4129200"/>
            <a:chExt cx="4657320" cy="966600"/>
          </a:xfrm>
        </p:grpSpPr>
        <p:sp>
          <p:nvSpPr>
            <p:cNvPr id="772" name=""/>
            <p:cNvSpPr/>
            <p:nvPr/>
          </p:nvSpPr>
          <p:spPr>
            <a:xfrm flipH="1">
              <a:off x="5803920" y="4640040"/>
              <a:ext cx="183600" cy="316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5943600" y="4640040"/>
              <a:ext cx="236160" cy="43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6171840" y="4605120"/>
              <a:ext cx="239400" cy="48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1971360" y="4129200"/>
              <a:ext cx="4657320" cy="966600"/>
              <a:chOff x="1971360" y="4129200"/>
              <a:chExt cx="4657320" cy="966600"/>
            </a:xfrm>
          </p:grpSpPr>
          <p:sp>
            <p:nvSpPr>
              <p:cNvPr id="776" name=""/>
              <p:cNvSpPr/>
              <p:nvPr/>
            </p:nvSpPr>
            <p:spPr>
              <a:xfrm flipH="1">
                <a:off x="5645160" y="4640040"/>
                <a:ext cx="137520" cy="21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4659120" y="4630680"/>
                <a:ext cx="1969560" cy="465120"/>
                <a:chOff x="4659120" y="4630680"/>
                <a:chExt cx="1969560" cy="465120"/>
              </a:xfrm>
            </p:grpSpPr>
            <p:sp>
              <p:nvSpPr>
                <p:cNvPr id="778" name=""/>
                <p:cNvSpPr/>
                <p:nvPr/>
              </p:nvSpPr>
              <p:spPr>
                <a:xfrm flipV="1">
                  <a:off x="4659120" y="4630680"/>
                  <a:ext cx="851400" cy="5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5512320" y="4630680"/>
                  <a:ext cx="1116360" cy="465120"/>
                </a:xfrm>
                <a:custGeom>
                  <a:avLst/>
                  <a:gdLst/>
                  <a:ahLst/>
                  <a:rect l="l" t="t" r="r" b="b"/>
                  <a:pathLst>
                    <a:path w="1488" h="337">
                      <a:moveTo>
                        <a:pt x="0" y="336"/>
                      </a:moveTo>
                      <a:lnTo>
                        <a:pt x="124" y="244"/>
                      </a:lnTo>
                      <a:lnTo>
                        <a:pt x="248" y="164"/>
                      </a:lnTo>
                      <a:lnTo>
                        <a:pt x="376" y="97"/>
                      </a:lnTo>
                      <a:lnTo>
                        <a:pt x="501" y="39"/>
                      </a:lnTo>
                      <a:lnTo>
                        <a:pt x="606" y="10"/>
                      </a:lnTo>
                      <a:lnTo>
                        <a:pt x="731" y="0"/>
                      </a:lnTo>
                      <a:lnTo>
                        <a:pt x="859" y="10"/>
                      </a:lnTo>
                      <a:lnTo>
                        <a:pt x="983" y="39"/>
                      </a:lnTo>
                      <a:lnTo>
                        <a:pt x="1107" y="97"/>
                      </a:lnTo>
                      <a:lnTo>
                        <a:pt x="1235" y="164"/>
                      </a:lnTo>
                      <a:lnTo>
                        <a:pt x="1359" y="249"/>
                      </a:lnTo>
                      <a:lnTo>
                        <a:pt x="1487" y="336"/>
                      </a:lnTo>
                    </a:path>
                  </a:pathLst>
                </a:custGeom>
                <a:noFill/>
                <a:ln cap="rnd"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 flipH="1">
                <a:off x="3517920" y="4618080"/>
                <a:ext cx="198000" cy="344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3673080" y="4608360"/>
                <a:ext cx="239400" cy="45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3897000" y="4603680"/>
                <a:ext cx="219960" cy="41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3200400" y="4618080"/>
                <a:ext cx="1164600" cy="444240"/>
              </a:xfrm>
              <a:custGeom>
                <a:avLst/>
                <a:gdLst/>
                <a:ahLst/>
                <a:rect l="l" t="t" r="r" b="b"/>
                <a:pathLst>
                  <a:path w="1488" h="337">
                    <a:moveTo>
                      <a:pt x="0" y="336"/>
                    </a:moveTo>
                    <a:lnTo>
                      <a:pt x="124" y="244"/>
                    </a:lnTo>
                    <a:lnTo>
                      <a:pt x="248" y="164"/>
                    </a:lnTo>
                    <a:lnTo>
                      <a:pt x="376" y="97"/>
                    </a:lnTo>
                    <a:lnTo>
                      <a:pt x="501" y="39"/>
                    </a:lnTo>
                    <a:lnTo>
                      <a:pt x="606" y="10"/>
                    </a:lnTo>
                    <a:lnTo>
                      <a:pt x="731" y="0"/>
                    </a:lnTo>
                    <a:lnTo>
                      <a:pt x="859" y="10"/>
                    </a:lnTo>
                    <a:lnTo>
                      <a:pt x="983" y="39"/>
                    </a:lnTo>
                    <a:lnTo>
                      <a:pt x="1107" y="97"/>
                    </a:lnTo>
                    <a:lnTo>
                      <a:pt x="1235" y="164"/>
                    </a:lnTo>
                    <a:lnTo>
                      <a:pt x="1359" y="249"/>
                    </a:lnTo>
                    <a:lnTo>
                      <a:pt x="1487" y="336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533480" y="4386240"/>
                <a:ext cx="16452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3333600" y="4600440"/>
                <a:ext cx="144000" cy="230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2193840" y="4376520"/>
                <a:ext cx="188640" cy="257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371680" y="4147920"/>
                <a:ext cx="0" cy="482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8761400">
                <a:off x="1898640" y="4341600"/>
                <a:ext cx="609480" cy="69480"/>
              </a:xfrm>
              <a:custGeom>
                <a:avLst/>
                <a:gdLst/>
                <a:ahLst/>
                <a:rect l="l" t="t" r="r" b="b"/>
                <a:pathLst>
                  <a:path w="276" h="72">
                    <a:moveTo>
                      <a:pt x="0" y="72"/>
                    </a:moveTo>
                    <a:cubicBezTo>
                      <a:pt x="31" y="48"/>
                      <a:pt x="62" y="24"/>
                      <a:pt x="108" y="12"/>
                    </a:cubicBezTo>
                    <a:cubicBezTo>
                      <a:pt x="154" y="0"/>
                      <a:pt x="215" y="0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8761400">
                <a:off x="4226400" y="4345560"/>
                <a:ext cx="593640" cy="77400"/>
              </a:xfrm>
              <a:custGeom>
                <a:avLst/>
                <a:gdLst/>
                <a:ahLst/>
                <a:rect l="l" t="t" r="r" b="b"/>
                <a:pathLst>
                  <a:path w="276" h="72">
                    <a:moveTo>
                      <a:pt x="0" y="72"/>
                    </a:moveTo>
                    <a:cubicBezTo>
                      <a:pt x="31" y="48"/>
                      <a:pt x="62" y="24"/>
                      <a:pt x="108" y="12"/>
                    </a:cubicBezTo>
                    <a:cubicBezTo>
                      <a:pt x="154" y="0"/>
                      <a:pt x="215" y="0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682880" y="4173480"/>
                <a:ext cx="0" cy="46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361960" y="4622760"/>
                <a:ext cx="849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2" name=""/>
          <p:cNvSpPr/>
          <p:nvPr/>
        </p:nvSpPr>
        <p:spPr>
          <a:xfrm>
            <a:off x="2971800" y="3767040"/>
            <a:ext cx="1305000" cy="482760"/>
          </a:xfrm>
          <a:prstGeom prst="wedgeRoundRectCallout">
            <a:avLst>
              <a:gd name="adj1" fmla="val -57175"/>
              <a:gd name="adj2" fmla="val 231578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导通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00400" y="3579840"/>
            <a:ext cx="1463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33640" y="3586320"/>
            <a:ext cx="334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373120" y="3139920"/>
            <a:ext cx="838080" cy="463320"/>
            <a:chOff x="2373120" y="3139920"/>
            <a:chExt cx="838080" cy="463320"/>
          </a:xfrm>
        </p:grpSpPr>
        <p:sp>
          <p:nvSpPr>
            <p:cNvPr id="796" name=""/>
            <p:cNvSpPr/>
            <p:nvPr/>
          </p:nvSpPr>
          <p:spPr>
            <a:xfrm>
              <a:off x="2884680" y="3286440"/>
              <a:ext cx="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80320" y="3139920"/>
              <a:ext cx="830880" cy="45360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73480" y="3245040"/>
              <a:ext cx="11880" cy="358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2373120" y="3189600"/>
              <a:ext cx="371880" cy="2955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2512080" y="3262320"/>
              <a:ext cx="380520" cy="3340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2807640" y="3418560"/>
              <a:ext cx="272520" cy="1846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4640040" y="3092400"/>
            <a:ext cx="2089440" cy="509400"/>
            <a:chOff x="4640040" y="3092400"/>
            <a:chExt cx="2089440" cy="509400"/>
          </a:xfrm>
        </p:grpSpPr>
        <p:sp>
          <p:nvSpPr>
            <p:cNvPr id="803" name=""/>
            <p:cNvSpPr/>
            <p:nvPr/>
          </p:nvSpPr>
          <p:spPr>
            <a:xfrm>
              <a:off x="4672080" y="3092400"/>
              <a:ext cx="814680" cy="49860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46880" y="3190680"/>
              <a:ext cx="12600" cy="4111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57960" y="3574800"/>
              <a:ext cx="1271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640040" y="3130560"/>
              <a:ext cx="335160" cy="3286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4810320" y="3211560"/>
              <a:ext cx="347760" cy="372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054760" y="3324240"/>
              <a:ext cx="214560" cy="268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3218400" y="174600"/>
            <a:ext cx="15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432080" y="1111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189160" y="914400"/>
                <a:ext cx="3144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udω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865600" y="2063880"/>
                <a:ext cx="44672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d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362320" y="4178160"/>
                <a:ext cx="50292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859120" y="3192480"/>
                <a:ext cx="32511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U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1376280" y="4302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整流输出电压及电流的平均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06360" y="5796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" y="49068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由公式可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53960" y="5405760"/>
            <a:ext cx="445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改变控制角</a:t>
            </a: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，可改变输出电压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326240" y="411120"/>
            <a:ext cx="33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5c00"/>
                </a:solidFill>
                <a:latin typeface="宋体"/>
              </a:rPr>
              <a:t>电感性负载与续流二极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4760" y="9507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4937040"/>
            <a:ext cx="82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电压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过零后，由于电感反电动势的存在，晶闸管在一段时间内仍 维持导通，失去单向导电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852640" y="990000"/>
            <a:ext cx="4775400" cy="2308320"/>
            <a:chOff x="2852640" y="990000"/>
            <a:chExt cx="4775400" cy="2308320"/>
          </a:xfrm>
        </p:grpSpPr>
        <p:sp>
          <p:nvSpPr>
            <p:cNvPr id="824" name=""/>
            <p:cNvSpPr/>
            <p:nvPr/>
          </p:nvSpPr>
          <p:spPr>
            <a:xfrm>
              <a:off x="4113000" y="327636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45040" y="1222200"/>
              <a:ext cx="0" cy="48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40360" y="1222200"/>
              <a:ext cx="276120" cy="27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16480" y="129816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5316480" y="1153800"/>
              <a:ext cx="27468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5049720" y="1404720"/>
              <a:ext cx="282600" cy="28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12640" y="147312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81600" y="1473120"/>
              <a:ext cx="85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51640" y="2570040"/>
              <a:ext cx="147600" cy="401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16440" y="1447560"/>
              <a:ext cx="11160" cy="27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32640" y="22856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3045960" y="1412280"/>
              <a:ext cx="729000" cy="70920"/>
              <a:chOff x="3045960" y="1412280"/>
              <a:chExt cx="729000" cy="70920"/>
            </a:xfrm>
          </p:grpSpPr>
          <p:sp>
            <p:nvSpPr>
              <p:cNvPr id="836" name=""/>
              <p:cNvSpPr/>
              <p:nvPr/>
            </p:nvSpPr>
            <p:spPr>
              <a:xfrm>
                <a:off x="3122640" y="1467720"/>
                <a:ext cx="65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 flipV="1">
                <a:off x="3045600" y="1411920"/>
                <a:ext cx="71640" cy="70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 flipV="1">
              <a:off x="5549760" y="1123560"/>
              <a:ext cx="82440" cy="79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852640" y="21333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18040" y="2043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04880" y="198108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05720" y="2452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16240" y="1585080"/>
              <a:ext cx="3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13000" y="2499480"/>
              <a:ext cx="3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70400" y="1370520"/>
              <a:ext cx="3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4748040" y="1548360"/>
              <a:ext cx="1101600" cy="630720"/>
              <a:chOff x="4748040" y="1548360"/>
              <a:chExt cx="1101600" cy="630720"/>
            </a:xfrm>
          </p:grpSpPr>
          <p:sp>
            <p:nvSpPr>
              <p:cNvPr id="847" name=""/>
              <p:cNvSpPr/>
              <p:nvPr/>
            </p:nvSpPr>
            <p:spPr>
              <a:xfrm>
                <a:off x="5058360" y="1599480"/>
                <a:ext cx="515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748040" y="1590840"/>
                <a:ext cx="299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4600" y="154836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6110280" y="275652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94240" y="990000"/>
              <a:ext cx="75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4036320" y="1908360"/>
              <a:ext cx="834120" cy="930600"/>
              <a:chOff x="4036320" y="1908360"/>
              <a:chExt cx="834120" cy="930600"/>
            </a:xfrm>
          </p:grpSpPr>
          <p:sp>
            <p:nvSpPr>
              <p:cNvPr id="853" name=""/>
              <p:cNvSpPr/>
              <p:nvPr/>
            </p:nvSpPr>
            <p:spPr>
              <a:xfrm flipH="1" rot="16200000">
                <a:off x="4240080" y="1704240"/>
                <a:ext cx="425880" cy="83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 rot="16200000">
                <a:off x="4240080" y="1956600"/>
                <a:ext cx="425880" cy="83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rot="16200000">
                <a:off x="4240080" y="2208960"/>
                <a:ext cx="425880" cy="83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4113000" y="1458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13000" y="2728800"/>
              <a:ext cx="0" cy="56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010680" y="1905120"/>
              <a:ext cx="834840" cy="930600"/>
              <a:chOff x="3010680" y="1905120"/>
              <a:chExt cx="834840" cy="930600"/>
            </a:xfrm>
          </p:grpSpPr>
          <p:sp>
            <p:nvSpPr>
              <p:cNvPr id="859" name=""/>
              <p:cNvSpPr/>
              <p:nvPr/>
            </p:nvSpPr>
            <p:spPr>
              <a:xfrm rot="5400000">
                <a:off x="3215160" y="1700640"/>
                <a:ext cx="425880" cy="83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5400000">
                <a:off x="3215160" y="1953000"/>
                <a:ext cx="425880" cy="83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5400000">
                <a:off x="3215160" y="2205360"/>
                <a:ext cx="425880" cy="83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768480" y="1447560"/>
              <a:ext cx="0" cy="59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68480" y="2703240"/>
              <a:ext cx="0" cy="57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3045960" y="3219120"/>
              <a:ext cx="729000" cy="71280"/>
              <a:chOff x="3045960" y="3219120"/>
              <a:chExt cx="729000" cy="71280"/>
            </a:xfrm>
          </p:grpSpPr>
          <p:sp>
            <p:nvSpPr>
              <p:cNvPr id="865" name=""/>
              <p:cNvSpPr/>
              <p:nvPr/>
            </p:nvSpPr>
            <p:spPr>
              <a:xfrm>
                <a:off x="3122640" y="3274560"/>
                <a:ext cx="65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 flipV="1">
                <a:off x="3045600" y="3219120"/>
                <a:ext cx="71640" cy="71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3943080" y="19666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89520" y="135720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5943240" y="1616760"/>
              <a:ext cx="761400" cy="743400"/>
              <a:chOff x="5943240" y="1616760"/>
              <a:chExt cx="761400" cy="743400"/>
            </a:xfrm>
          </p:grpSpPr>
          <p:sp>
            <p:nvSpPr>
              <p:cNvPr id="870" name=""/>
              <p:cNvSpPr/>
              <p:nvPr/>
            </p:nvSpPr>
            <p:spPr>
              <a:xfrm rot="5400000">
                <a:off x="6153840" y="1405800"/>
                <a:ext cx="3398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400000">
                <a:off x="6153840" y="1607400"/>
                <a:ext cx="3398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5400000">
                <a:off x="6153840" y="1809360"/>
                <a:ext cx="3398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6632640" y="2971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627600" y="1466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627600" y="24382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93280" y="13712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123680" y="2035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043400" y="1371240"/>
              <a:ext cx="584640" cy="398880"/>
              <a:chOff x="7043400" y="1371240"/>
              <a:chExt cx="584640" cy="398880"/>
            </a:xfrm>
          </p:grpSpPr>
          <p:sp>
            <p:nvSpPr>
              <p:cNvPr id="879" name=""/>
              <p:cNvSpPr/>
              <p:nvPr/>
            </p:nvSpPr>
            <p:spPr>
              <a:xfrm>
                <a:off x="7043400" y="1371240"/>
                <a:ext cx="58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Arial Unicode MS"/>
                  </a:rPr>
                  <a:t>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73800" y="159660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6716520" y="1752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17840" y="1638000"/>
              <a:ext cx="42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zh-CN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6814800" y="2057040"/>
              <a:ext cx="584640" cy="398880"/>
              <a:chOff x="6814800" y="2057040"/>
              <a:chExt cx="584640" cy="398880"/>
            </a:xfrm>
          </p:grpSpPr>
          <p:sp>
            <p:nvSpPr>
              <p:cNvPr id="884" name=""/>
              <p:cNvSpPr/>
              <p:nvPr/>
            </p:nvSpPr>
            <p:spPr>
              <a:xfrm>
                <a:off x="6814800" y="2057040"/>
                <a:ext cx="58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Arial Unicode MS"/>
                  </a:rPr>
                  <a:t>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45200" y="228240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517680" y="3375000"/>
            <a:ext cx="82454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电感性负载中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晶闸管刚触发导通时，电感元件上产生阻碍电流变化的感应电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性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电流不能跃变，将由零逐渐上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1" action="ppaction://hlinksldjump"/>
              </a:rPr>
              <a:t>见波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"/>
          <p:cNvGrpSpPr/>
          <p:nvPr/>
        </p:nvGrpSpPr>
        <p:grpSpPr>
          <a:xfrm>
            <a:off x="1541520" y="2046240"/>
            <a:ext cx="6499080" cy="1363680"/>
            <a:chOff x="1541520" y="2046240"/>
            <a:chExt cx="6499080" cy="1363680"/>
          </a:xfrm>
        </p:grpSpPr>
        <p:sp>
          <p:nvSpPr>
            <p:cNvPr id="888" name=""/>
            <p:cNvSpPr/>
            <p:nvPr/>
          </p:nvSpPr>
          <p:spPr>
            <a:xfrm>
              <a:off x="7162920" y="2889360"/>
              <a:ext cx="87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1541520" y="2046240"/>
                  <a:ext cx="48888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90" name=""/>
            <p:cNvSpPr/>
            <p:nvPr/>
          </p:nvSpPr>
          <p:spPr>
            <a:xfrm>
              <a:off x="2017800" y="318276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2017800" y="22334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02360" y="2919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441440" y="4167360"/>
            <a:ext cx="6599160" cy="1914480"/>
            <a:chOff x="1441440" y="4167360"/>
            <a:chExt cx="6599160" cy="1914480"/>
          </a:xfrm>
        </p:grpSpPr>
        <p:sp>
          <p:nvSpPr>
            <p:cNvPr id="894" name=""/>
            <p:cNvSpPr/>
            <p:nvPr/>
          </p:nvSpPr>
          <p:spPr>
            <a:xfrm>
              <a:off x="7162920" y="4975200"/>
              <a:ext cx="87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5" name=""/>
                <p:cNvSpPr txBox="1"/>
                <p:nvPr/>
              </p:nvSpPr>
              <p:spPr>
                <a:xfrm>
                  <a:off x="1441440" y="4167360"/>
                  <a:ext cx="52380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96" name=""/>
            <p:cNvSpPr/>
            <p:nvPr/>
          </p:nvSpPr>
          <p:spPr>
            <a:xfrm>
              <a:off x="2017800" y="526896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017800" y="43196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02360" y="5005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17800" y="524340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523880" y="3112920"/>
            <a:ext cx="6516720" cy="1346040"/>
            <a:chOff x="1523880" y="3112920"/>
            <a:chExt cx="6516720" cy="1346040"/>
          </a:xfrm>
        </p:grpSpPr>
        <p:sp>
          <p:nvSpPr>
            <p:cNvPr id="901" name=""/>
            <p:cNvSpPr/>
            <p:nvPr/>
          </p:nvSpPr>
          <p:spPr>
            <a:xfrm>
              <a:off x="7162560" y="3938400"/>
              <a:ext cx="8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1523880" y="3112920"/>
                  <a:ext cx="52380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03" name=""/>
            <p:cNvSpPr/>
            <p:nvPr/>
          </p:nvSpPr>
          <p:spPr>
            <a:xfrm>
              <a:off x="2017440" y="4231800"/>
              <a:ext cx="51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2017440" y="328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02360" y="396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151160" y="3487680"/>
                <a:ext cx="1047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2307240" y="1779480"/>
            <a:ext cx="65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33600" y="1046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025720" y="1456920"/>
            <a:ext cx="4614480" cy="951480"/>
            <a:chOff x="2025720" y="1456920"/>
            <a:chExt cx="4614480" cy="951480"/>
          </a:xfrm>
        </p:grpSpPr>
        <p:sp>
          <p:nvSpPr>
            <p:cNvPr id="910" name=""/>
            <p:cNvSpPr/>
            <p:nvPr/>
          </p:nvSpPr>
          <p:spPr>
            <a:xfrm flipV="1">
              <a:off x="2025720" y="1456560"/>
              <a:ext cx="1152360" cy="46836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333680" y="1456560"/>
              <a:ext cx="1152360" cy="46836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1927440"/>
              <a:ext cx="1153800" cy="4680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86400" y="1940040"/>
              <a:ext cx="1153800" cy="46836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1602360" y="939960"/>
            <a:ext cx="6438240" cy="1452600"/>
            <a:chOff x="1602360" y="939960"/>
            <a:chExt cx="6438240" cy="1452600"/>
          </a:xfrm>
        </p:grpSpPr>
        <p:sp>
          <p:nvSpPr>
            <p:cNvPr id="915" name=""/>
            <p:cNvSpPr/>
            <p:nvPr/>
          </p:nvSpPr>
          <p:spPr>
            <a:xfrm>
              <a:off x="2892240" y="1811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90920" y="18093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602360" y="939960"/>
              <a:ext cx="6438240" cy="1223280"/>
              <a:chOff x="1602360" y="939960"/>
              <a:chExt cx="6438240" cy="1223280"/>
            </a:xfrm>
          </p:grpSpPr>
          <p:sp>
            <p:nvSpPr>
              <p:cNvPr id="918" name=""/>
              <p:cNvSpPr/>
              <p:nvPr/>
            </p:nvSpPr>
            <p:spPr>
              <a:xfrm>
                <a:off x="7162560" y="1642680"/>
                <a:ext cx="87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9" name=""/>
                  <p:cNvSpPr txBox="1"/>
                  <p:nvPr/>
                </p:nvSpPr>
                <p:spPr>
                  <a:xfrm>
                    <a:off x="1631880" y="939960"/>
                    <a:ext cx="349200" cy="38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20" name=""/>
              <p:cNvSpPr/>
              <p:nvPr/>
            </p:nvSpPr>
            <p:spPr>
              <a:xfrm>
                <a:off x="2017440" y="1936440"/>
                <a:ext cx="518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017440" y="98676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602360" y="1672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2362320" y="1521000"/>
            <a:ext cx="4279680" cy="4614840"/>
            <a:chOff x="2362320" y="1521000"/>
            <a:chExt cx="4279680" cy="4614840"/>
          </a:xfrm>
        </p:grpSpPr>
        <p:sp>
          <p:nvSpPr>
            <p:cNvPr id="924" name=""/>
            <p:cNvSpPr/>
            <p:nvPr/>
          </p:nvSpPr>
          <p:spPr>
            <a:xfrm>
              <a:off x="3197160" y="1936800"/>
              <a:ext cx="0" cy="415620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30440" y="1927440"/>
              <a:ext cx="0" cy="332712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94320" y="1932120"/>
              <a:ext cx="0" cy="33224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1521000"/>
              <a:ext cx="26640" cy="46148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55880" y="1606680"/>
              <a:ext cx="0" cy="364788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42000" y="1940040"/>
              <a:ext cx="0" cy="33908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2004840" y="2611800"/>
            <a:ext cx="4624560" cy="580680"/>
            <a:chOff x="2004840" y="2611800"/>
            <a:chExt cx="4624560" cy="580680"/>
          </a:xfrm>
        </p:grpSpPr>
        <p:grpSp>
          <p:nvGrpSpPr>
            <p:cNvPr id="931" name=""/>
            <p:cNvGrpSpPr/>
            <p:nvPr/>
          </p:nvGrpSpPr>
          <p:grpSpPr>
            <a:xfrm>
              <a:off x="2230920" y="2611800"/>
              <a:ext cx="456480" cy="580680"/>
              <a:chOff x="2230920" y="2611800"/>
              <a:chExt cx="456480" cy="580680"/>
            </a:xfrm>
          </p:grpSpPr>
          <p:sp>
            <p:nvSpPr>
              <p:cNvPr id="932" name=""/>
              <p:cNvSpPr/>
              <p:nvPr/>
            </p:nvSpPr>
            <p:spPr>
              <a:xfrm>
                <a:off x="2373120" y="2626920"/>
                <a:ext cx="0" cy="56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rot="8797800">
                <a:off x="2380320" y="2606400"/>
                <a:ext cx="157680" cy="5904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4510440" y="2612160"/>
              <a:ext cx="455760" cy="580320"/>
              <a:chOff x="4510440" y="2612160"/>
              <a:chExt cx="455760" cy="580320"/>
            </a:xfrm>
          </p:grpSpPr>
          <p:sp>
            <p:nvSpPr>
              <p:cNvPr id="935" name=""/>
              <p:cNvSpPr/>
              <p:nvPr/>
            </p:nvSpPr>
            <p:spPr>
              <a:xfrm>
                <a:off x="4653000" y="2626920"/>
                <a:ext cx="0" cy="56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rot="8797800">
                <a:off x="4659480" y="2606400"/>
                <a:ext cx="157320" cy="5904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004840" y="3176640"/>
              <a:ext cx="352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90560" y="3176640"/>
              <a:ext cx="2044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846680" y="3176640"/>
              <a:ext cx="1782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4582080" y="1749600"/>
            <a:ext cx="65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11320" y="144468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506760" y="4281480"/>
            <a:ext cx="2490840" cy="2118960"/>
            <a:chOff x="3506760" y="4281480"/>
            <a:chExt cx="2490840" cy="2118960"/>
          </a:xfrm>
        </p:grpSpPr>
        <p:sp>
          <p:nvSpPr>
            <p:cNvPr id="943" name=""/>
            <p:cNvSpPr/>
            <p:nvPr/>
          </p:nvSpPr>
          <p:spPr>
            <a:xfrm>
              <a:off x="3506760" y="4326480"/>
              <a:ext cx="0" cy="202392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94360" y="4281480"/>
              <a:ext cx="3240" cy="211896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1956960" y="4740120"/>
            <a:ext cx="4977000" cy="1147680"/>
            <a:chOff x="1956960" y="4740120"/>
            <a:chExt cx="4977000" cy="1147680"/>
          </a:xfrm>
        </p:grpSpPr>
        <p:sp>
          <p:nvSpPr>
            <p:cNvPr id="946" name=""/>
            <p:cNvSpPr/>
            <p:nvPr/>
          </p:nvSpPr>
          <p:spPr>
            <a:xfrm rot="18913200">
              <a:off x="4347360" y="4960440"/>
              <a:ext cx="570600" cy="7452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18833400">
              <a:off x="1889280" y="4949640"/>
              <a:ext cx="612720" cy="7380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89680" y="4746600"/>
              <a:ext cx="1440" cy="51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33360" y="4763880"/>
              <a:ext cx="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82480" y="5259240"/>
              <a:ext cx="1138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833360" y="5240160"/>
              <a:ext cx="1173240" cy="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546720" y="5245920"/>
              <a:ext cx="908280" cy="58428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6006960" y="5189400"/>
              <a:ext cx="927000" cy="69840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06960" y="5240160"/>
              <a:ext cx="0" cy="514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32320" y="5265720"/>
              <a:ext cx="0" cy="46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1978200" y="4254480"/>
            <a:ext cx="3999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2320560" y="3691080"/>
            <a:ext cx="2572200" cy="550440"/>
            <a:chOff x="2320560" y="3691080"/>
            <a:chExt cx="2572200" cy="550440"/>
          </a:xfrm>
        </p:grpSpPr>
        <p:grpSp>
          <p:nvGrpSpPr>
            <p:cNvPr id="958" name=""/>
            <p:cNvGrpSpPr/>
            <p:nvPr/>
          </p:nvGrpSpPr>
          <p:grpSpPr>
            <a:xfrm>
              <a:off x="2340000" y="3691080"/>
              <a:ext cx="2552760" cy="545760"/>
              <a:chOff x="2340000" y="3691080"/>
              <a:chExt cx="2552760" cy="54576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2340000" y="3691080"/>
                <a:ext cx="819000" cy="545760"/>
                <a:chOff x="2340000" y="3691080"/>
                <a:chExt cx="819000" cy="54576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2359080" y="3817800"/>
                  <a:ext cx="0" cy="4186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340000" y="3691080"/>
                  <a:ext cx="819000" cy="545760"/>
                </a:xfrm>
                <a:custGeom>
                  <a:avLst/>
                  <a:gdLst/>
                  <a:ahLst/>
                  <a:rect l="l" t="t" r="r" b="b"/>
                  <a:pathLst>
                    <a:path w="444" h="368">
                      <a:moveTo>
                        <a:pt x="0" y="80"/>
                      </a:moveTo>
                      <a:cubicBezTo>
                        <a:pt x="22" y="58"/>
                        <a:pt x="44" y="36"/>
                        <a:pt x="84" y="32"/>
                      </a:cubicBezTo>
                      <a:cubicBezTo>
                        <a:pt x="124" y="28"/>
                        <a:pt x="180" y="0"/>
                        <a:pt x="240" y="56"/>
                      </a:cubicBezTo>
                      <a:cubicBezTo>
                        <a:pt x="300" y="112"/>
                        <a:pt x="408" y="314"/>
                        <a:pt x="444" y="368"/>
                      </a:cubicBezTo>
                    </a:path>
                  </a:pathLst>
                </a:custGeom>
                <a:noFill/>
                <a:ln w="381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2" name=""/>
              <p:cNvSpPr/>
              <p:nvPr/>
            </p:nvSpPr>
            <p:spPr>
              <a:xfrm>
                <a:off x="3139920" y="4236840"/>
                <a:ext cx="175284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 flipH="1">
              <a:off x="2320560" y="3727440"/>
              <a:ext cx="361800" cy="495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2568240" y="3841560"/>
              <a:ext cx="266760" cy="380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2816280" y="4013280"/>
              <a:ext cx="171360" cy="2282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120840" y="4199040"/>
            <a:ext cx="1694880" cy="514080"/>
            <a:chOff x="3120840" y="4199040"/>
            <a:chExt cx="1694880" cy="514080"/>
          </a:xfrm>
        </p:grpSpPr>
        <p:grpSp>
          <p:nvGrpSpPr>
            <p:cNvPr id="967" name=""/>
            <p:cNvGrpSpPr/>
            <p:nvPr/>
          </p:nvGrpSpPr>
          <p:grpSpPr>
            <a:xfrm>
              <a:off x="3120840" y="4199040"/>
              <a:ext cx="1694880" cy="514080"/>
              <a:chOff x="3120840" y="4199040"/>
              <a:chExt cx="1694880" cy="51408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3120840" y="4199040"/>
                <a:ext cx="1694880" cy="514080"/>
                <a:chOff x="3120840" y="4199040"/>
                <a:chExt cx="1694880" cy="5140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3520800" y="4236840"/>
                  <a:ext cx="129492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V="1" rot="2833800">
                  <a:off x="3058560" y="4417920"/>
                  <a:ext cx="558720" cy="75240"/>
                </a:xfrm>
                <a:custGeom>
                  <a:avLst/>
                  <a:gdLst/>
                  <a:ahLst/>
                  <a:rect l="l" t="t" r="r" b="b"/>
                  <a:pathLst>
                    <a:path w="276" h="72">
                      <a:moveTo>
                        <a:pt x="0" y="72"/>
                      </a:moveTo>
                      <a:cubicBezTo>
                        <a:pt x="31" y="48"/>
                        <a:pt x="62" y="24"/>
                        <a:pt x="108" y="12"/>
                      </a:cubicBezTo>
                      <a:cubicBezTo>
                        <a:pt x="154" y="0"/>
                        <a:pt x="215" y="0"/>
                        <a:pt x="276" y="0"/>
                      </a:cubicBezTo>
                    </a:path>
                  </a:pathLst>
                </a:custGeom>
                <a:noFill/>
                <a:ln w="381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501720" y="4199040"/>
                  <a:ext cx="0" cy="5140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121200" y="4236840"/>
                <a:ext cx="39996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 flipH="1">
              <a:off x="3273120" y="4222800"/>
              <a:ext cx="209160" cy="2476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340000" y="3973680"/>
            <a:ext cx="3603600" cy="286920"/>
            <a:chOff x="2340000" y="3973680"/>
            <a:chExt cx="3603600" cy="286920"/>
          </a:xfrm>
        </p:grpSpPr>
        <p:sp>
          <p:nvSpPr>
            <p:cNvPr id="975" name=""/>
            <p:cNvSpPr/>
            <p:nvPr/>
          </p:nvSpPr>
          <p:spPr>
            <a:xfrm>
              <a:off x="2340000" y="4002120"/>
              <a:ext cx="1158840" cy="258480"/>
            </a:xfrm>
            <a:custGeom>
              <a:avLst/>
              <a:gdLst/>
              <a:ahLst/>
              <a:rect l="l" t="t" r="r" b="b"/>
              <a:pathLst>
                <a:path w="730" h="163">
                  <a:moveTo>
                    <a:pt x="0" y="163"/>
                  </a:moveTo>
                  <a:cubicBezTo>
                    <a:pt x="69" y="81"/>
                    <a:pt x="138" y="0"/>
                    <a:pt x="260" y="0"/>
                  </a:cubicBezTo>
                  <a:cubicBezTo>
                    <a:pt x="382" y="0"/>
                    <a:pt x="652" y="136"/>
                    <a:pt x="730" y="163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84760" y="3973680"/>
              <a:ext cx="1158840" cy="258480"/>
            </a:xfrm>
            <a:custGeom>
              <a:avLst/>
              <a:gdLst/>
              <a:ahLst/>
              <a:rect l="l" t="t" r="r" b="b"/>
              <a:pathLst>
                <a:path w="730" h="163">
                  <a:moveTo>
                    <a:pt x="0" y="163"/>
                  </a:moveTo>
                  <a:cubicBezTo>
                    <a:pt x="69" y="81"/>
                    <a:pt x="138" y="0"/>
                    <a:pt x="260" y="0"/>
                  </a:cubicBezTo>
                  <a:cubicBezTo>
                    <a:pt x="382" y="0"/>
                    <a:pt x="652" y="136"/>
                    <a:pt x="730" y="163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476880" y="4240080"/>
              <a:ext cx="13716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4613040" y="3708360"/>
            <a:ext cx="2248200" cy="1014840"/>
            <a:chOff x="4613040" y="3708360"/>
            <a:chExt cx="2248200" cy="1014840"/>
          </a:xfrm>
        </p:grpSpPr>
        <p:grpSp>
          <p:nvGrpSpPr>
            <p:cNvPr id="979" name=""/>
            <p:cNvGrpSpPr/>
            <p:nvPr/>
          </p:nvGrpSpPr>
          <p:grpSpPr>
            <a:xfrm>
              <a:off x="4613040" y="3708360"/>
              <a:ext cx="2248200" cy="1014840"/>
              <a:chOff x="4613040" y="3708360"/>
              <a:chExt cx="2248200" cy="101484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4651560" y="3708360"/>
                <a:ext cx="2209680" cy="1014840"/>
                <a:chOff x="4651560" y="3708360"/>
                <a:chExt cx="2209680" cy="101484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4651560" y="3835080"/>
                  <a:ext cx="0" cy="4194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4651560" y="3708360"/>
                  <a:ext cx="819000" cy="546120"/>
                </a:xfrm>
                <a:custGeom>
                  <a:avLst/>
                  <a:gdLst/>
                  <a:ahLst/>
                  <a:rect l="l" t="t" r="r" b="b"/>
                  <a:pathLst>
                    <a:path w="444" h="368">
                      <a:moveTo>
                        <a:pt x="0" y="80"/>
                      </a:moveTo>
                      <a:cubicBezTo>
                        <a:pt x="22" y="58"/>
                        <a:pt x="44" y="36"/>
                        <a:pt x="84" y="32"/>
                      </a:cubicBezTo>
                      <a:cubicBezTo>
                        <a:pt x="124" y="28"/>
                        <a:pt x="180" y="0"/>
                        <a:pt x="240" y="56"/>
                      </a:cubicBezTo>
                      <a:cubicBezTo>
                        <a:pt x="300" y="112"/>
                        <a:pt x="408" y="314"/>
                        <a:pt x="444" y="368"/>
                      </a:cubicBezTo>
                    </a:path>
                  </a:pathLst>
                </a:custGeom>
                <a:noFill/>
                <a:ln w="381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794560" y="425448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 rot="2833800">
                  <a:off x="5370480" y="4454280"/>
                  <a:ext cx="558720" cy="75960"/>
                </a:xfrm>
                <a:custGeom>
                  <a:avLst/>
                  <a:gdLst/>
                  <a:ahLst/>
                  <a:rect l="l" t="t" r="r" b="b"/>
                  <a:pathLst>
                    <a:path w="276" h="72">
                      <a:moveTo>
                        <a:pt x="0" y="72"/>
                      </a:moveTo>
                      <a:cubicBezTo>
                        <a:pt x="31" y="48"/>
                        <a:pt x="62" y="24"/>
                        <a:pt x="108" y="12"/>
                      </a:cubicBezTo>
                      <a:cubicBezTo>
                        <a:pt x="154" y="0"/>
                        <a:pt x="215" y="0"/>
                        <a:pt x="276" y="0"/>
                      </a:cubicBezTo>
                    </a:path>
                  </a:pathLst>
                </a:custGeom>
                <a:noFill/>
                <a:ln w="381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813640" y="4235400"/>
                  <a:ext cx="0" cy="4762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" name=""/>
              <p:cNvSpPr/>
              <p:nvPr/>
            </p:nvSpPr>
            <p:spPr>
              <a:xfrm flipH="1">
                <a:off x="4613040" y="3763800"/>
                <a:ext cx="361800" cy="49536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4880160" y="3840120"/>
                <a:ext cx="304560" cy="419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5127840" y="4030560"/>
                <a:ext cx="171360" cy="2286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 flipH="1">
              <a:off x="5604120" y="4259160"/>
              <a:ext cx="171360" cy="2667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>
            <a:hlinkClick r:id="" action="ppaction://hlinkshowjump?jump=previousslide"/>
          </p:cNvPr>
          <p:cNvSpPr/>
          <p:nvPr/>
        </p:nvSpPr>
        <p:spPr>
          <a:xfrm>
            <a:off x="914400" y="3911760"/>
            <a:ext cx="576360" cy="32364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8448" h="21600">
                <a:moveTo>
                  <a:pt x="0" y="0"/>
                </a:moveTo>
                <a:lnTo>
                  <a:pt x="38448" y="0"/>
                </a:lnTo>
                <a:lnTo>
                  <a:pt x="38448" y="21600"/>
                </a:lnTo>
                <a:lnTo>
                  <a:pt x="0" y="21600"/>
                </a:lnTo>
                <a:close/>
              </a:path>
              <a:path fill="lightenLess" w="38448" h="21600">
                <a:moveTo>
                  <a:pt x="0" y="0"/>
                </a:moveTo>
                <a:lnTo>
                  <a:pt x="38448" y="0"/>
                </a:lnTo>
                <a:lnTo>
                  <a:pt x="37048" y="1400"/>
                </a:lnTo>
                <a:lnTo>
                  <a:pt x="1400" y="1400"/>
                </a:lnTo>
                <a:close/>
              </a:path>
              <a:path fill="darken" w="38448" h="21600">
                <a:moveTo>
                  <a:pt x="38448" y="0"/>
                </a:moveTo>
                <a:lnTo>
                  <a:pt x="38448" y="21600"/>
                </a:lnTo>
                <a:lnTo>
                  <a:pt x="37048" y="20200"/>
                </a:lnTo>
                <a:lnTo>
                  <a:pt x="37048" y="1400"/>
                </a:lnTo>
                <a:close/>
              </a:path>
              <a:path fill="darkenLess" w="38448" h="21600">
                <a:moveTo>
                  <a:pt x="3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48" y="20200"/>
                </a:lnTo>
                <a:close/>
              </a:path>
              <a:path fill="lighten" w="3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48" h="21600">
                <a:moveTo>
                  <a:pt x="12218" y="7493"/>
                </a:moveTo>
                <a:lnTo>
                  <a:pt x="15725" y="7493"/>
                </a:lnTo>
                <a:lnTo>
                  <a:pt x="15725" y="12828"/>
                </a:lnTo>
                <a:cubicBezTo>
                  <a:pt x="15725" y="13751"/>
                  <a:pt x="16526" y="14482"/>
                  <a:pt x="17562" y="14482"/>
                </a:cubicBezTo>
                <a:lnTo>
                  <a:pt x="19224" y="14482"/>
                </a:lnTo>
                <a:cubicBezTo>
                  <a:pt x="20260" y="14482"/>
                  <a:pt x="21060" y="13751"/>
                  <a:pt x="21060" y="12828"/>
                </a:cubicBezTo>
                <a:lnTo>
                  <a:pt x="21060" y="7493"/>
                </a:lnTo>
                <a:lnTo>
                  <a:pt x="19224" y="7493"/>
                </a:lnTo>
                <a:lnTo>
                  <a:pt x="22732" y="3985"/>
                </a:lnTo>
                <a:lnTo>
                  <a:pt x="26405" y="7493"/>
                </a:lnTo>
                <a:lnTo>
                  <a:pt x="24568" y="7493"/>
                </a:lnTo>
                <a:lnTo>
                  <a:pt x="24568" y="12828"/>
                </a:lnTo>
                <a:cubicBezTo>
                  <a:pt x="24568" y="15596"/>
                  <a:pt x="21992" y="18155"/>
                  <a:pt x="19224" y="18155"/>
                </a:cubicBezTo>
                <a:lnTo>
                  <a:pt x="17562" y="18155"/>
                </a:lnTo>
                <a:cubicBezTo>
                  <a:pt x="14794" y="18155"/>
                  <a:pt x="12218" y="15596"/>
                  <a:pt x="12218" y="12828"/>
                </a:cubicBezTo>
                <a:close/>
              </a:path>
            </a:pathLst>
          </a:custGeom>
          <a:gradFill rotWithShape="0">
            <a:gsLst>
              <a:gs pos="0">
                <a:srgbClr val="cbfdd3"/>
              </a:gs>
              <a:gs pos="100000">
                <a:srgbClr val="92b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523880" y="5191920"/>
            <a:ext cx="2035080" cy="702000"/>
            <a:chOff x="1523880" y="5191920"/>
            <a:chExt cx="2035080" cy="702000"/>
          </a:xfrm>
        </p:grpSpPr>
        <p:sp>
          <p:nvSpPr>
            <p:cNvPr id="992" name=""/>
            <p:cNvSpPr/>
            <p:nvPr/>
          </p:nvSpPr>
          <p:spPr>
            <a:xfrm>
              <a:off x="2059200" y="531252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27880" y="519192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523880" y="5695920"/>
              <a:ext cx="5014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526840" y="5700600"/>
              <a:ext cx="539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57480" y="5703840"/>
              <a:ext cx="5014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1114920" y="380880"/>
            <a:ext cx="36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工作波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</a:t>
            </a:r>
            <a:r>
              <a:rPr b="1" lang="zh-CN" sz="2800" spc="-1" strike="noStrike">
                <a:solidFill>
                  <a:srgbClr val="005c00"/>
                </a:solidFill>
                <a:latin typeface="楷体_GB2312"/>
              </a:rPr>
              <a:t>加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续流二极管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1153800" y="1440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本章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890640" y="2119320"/>
            <a:ext cx="7796160" cy="32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解晶闸管的基本结构、工作原理、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和主要参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可控整流电路的工作原理、掌握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平均值与控制角的关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解单结晶体管及其触发电路的工作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65360" y="108000"/>
            <a:ext cx="61833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晶闸管及其应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55480" y="1127160"/>
            <a:ext cx="7953480" cy="171360"/>
            <a:chOff x="555480" y="1127160"/>
            <a:chExt cx="7953480" cy="17136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2070000" y="112716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2232000" y="112716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384280" y="112716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2527200" y="112716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"/>
            <p:cNvGrpSpPr/>
            <p:nvPr/>
          </p:nvGrpSpPr>
          <p:grpSpPr>
            <a:xfrm>
              <a:off x="555480" y="1127160"/>
              <a:ext cx="1390320" cy="171360"/>
              <a:chOff x="555480" y="1127160"/>
              <a:chExt cx="1390320" cy="171360"/>
            </a:xfrm>
          </p:grpSpPr>
          <p:pic>
            <p:nvPicPr>
              <p:cNvPr id="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5480" y="11271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8040" y="112716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60040" y="11271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55240" y="112716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240" y="11271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69880" y="11271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12440" y="112716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74440" y="11271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012680" y="11271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1" name="" descr=""/>
            <p:cNvPicPr/>
            <p:nvPr/>
          </p:nvPicPr>
          <p:blipFill>
            <a:blip r:embed="rId16"/>
            <a:stretch/>
          </p:blipFill>
          <p:spPr>
            <a:xfrm>
              <a:off x="1927080" y="112716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7"/>
            <a:stretch/>
          </p:blipFill>
          <p:spPr>
            <a:xfrm>
              <a:off x="26892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8"/>
            <a:stretch/>
          </p:blipFill>
          <p:spPr>
            <a:xfrm>
              <a:off x="28414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9"/>
            <a:stretch/>
          </p:blipFill>
          <p:spPr>
            <a:xfrm>
              <a:off x="29844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0"/>
            <a:stretch/>
          </p:blipFill>
          <p:spPr>
            <a:xfrm>
              <a:off x="31464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1"/>
            <a:stretch/>
          </p:blipFill>
          <p:spPr>
            <a:xfrm>
              <a:off x="32986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2"/>
            <a:stretch/>
          </p:blipFill>
          <p:spPr>
            <a:xfrm>
              <a:off x="34416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3"/>
            <a:stretch/>
          </p:blipFill>
          <p:spPr>
            <a:xfrm>
              <a:off x="36036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4"/>
            <a:stretch/>
          </p:blipFill>
          <p:spPr>
            <a:xfrm>
              <a:off x="38988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5"/>
            <a:stretch/>
          </p:blipFill>
          <p:spPr>
            <a:xfrm>
              <a:off x="40608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6"/>
            <a:stretch/>
          </p:blipFill>
          <p:spPr>
            <a:xfrm>
              <a:off x="42130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7"/>
            <a:stretch/>
          </p:blipFill>
          <p:spPr>
            <a:xfrm>
              <a:off x="43560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8"/>
            <a:stretch/>
          </p:blipFill>
          <p:spPr>
            <a:xfrm>
              <a:off x="45180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9"/>
            <a:stretch/>
          </p:blipFill>
          <p:spPr>
            <a:xfrm>
              <a:off x="48132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0"/>
            <a:stretch/>
          </p:blipFill>
          <p:spPr>
            <a:xfrm>
              <a:off x="49752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1"/>
            <a:stretch/>
          </p:blipFill>
          <p:spPr>
            <a:xfrm>
              <a:off x="51274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2"/>
            <a:stretch/>
          </p:blipFill>
          <p:spPr>
            <a:xfrm>
              <a:off x="52704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3"/>
            <a:stretch/>
          </p:blipFill>
          <p:spPr>
            <a:xfrm>
              <a:off x="37558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4"/>
            <a:stretch/>
          </p:blipFill>
          <p:spPr>
            <a:xfrm>
              <a:off x="46702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5"/>
            <a:stretch/>
          </p:blipFill>
          <p:spPr>
            <a:xfrm>
              <a:off x="54324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6"/>
            <a:stretch/>
          </p:blipFill>
          <p:spPr>
            <a:xfrm>
              <a:off x="55846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7"/>
            <a:stretch/>
          </p:blipFill>
          <p:spPr>
            <a:xfrm>
              <a:off x="57276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8"/>
            <a:stretch/>
          </p:blipFill>
          <p:spPr>
            <a:xfrm>
              <a:off x="58896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9"/>
            <a:stretch/>
          </p:blipFill>
          <p:spPr>
            <a:xfrm>
              <a:off x="60418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0"/>
            <a:stretch/>
          </p:blipFill>
          <p:spPr>
            <a:xfrm>
              <a:off x="61848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1"/>
            <a:stretch/>
          </p:blipFill>
          <p:spPr>
            <a:xfrm>
              <a:off x="63468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2"/>
            <a:stretch/>
          </p:blipFill>
          <p:spPr>
            <a:xfrm>
              <a:off x="66420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3"/>
            <a:stretch/>
          </p:blipFill>
          <p:spPr>
            <a:xfrm>
              <a:off x="68040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4"/>
            <a:stretch/>
          </p:blipFill>
          <p:spPr>
            <a:xfrm>
              <a:off x="69562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5"/>
            <a:stretch/>
          </p:blipFill>
          <p:spPr>
            <a:xfrm>
              <a:off x="709920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6"/>
            <a:stretch/>
          </p:blipFill>
          <p:spPr>
            <a:xfrm>
              <a:off x="7261200" y="1127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7"/>
            <a:stretch/>
          </p:blipFill>
          <p:spPr>
            <a:xfrm>
              <a:off x="649908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8"/>
            <a:stretch/>
          </p:blipFill>
          <p:spPr>
            <a:xfrm>
              <a:off x="7413480" y="112716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9"/>
            <a:stretch/>
          </p:blipFill>
          <p:spPr>
            <a:xfrm>
              <a:off x="756576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0"/>
            <a:stretch/>
          </p:blipFill>
          <p:spPr>
            <a:xfrm>
              <a:off x="772776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1"/>
            <a:stretch/>
          </p:blipFill>
          <p:spPr>
            <a:xfrm>
              <a:off x="788004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2"/>
            <a:stretch/>
          </p:blipFill>
          <p:spPr>
            <a:xfrm>
              <a:off x="802296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3"/>
            <a:stretch/>
          </p:blipFill>
          <p:spPr>
            <a:xfrm>
              <a:off x="8184960" y="1127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54"/>
            <a:stretch/>
          </p:blipFill>
          <p:spPr>
            <a:xfrm>
              <a:off x="8337240" y="112716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"/>
          <p:cNvGrpSpPr/>
          <p:nvPr/>
        </p:nvGrpSpPr>
        <p:grpSpPr>
          <a:xfrm>
            <a:off x="3921120" y="914040"/>
            <a:ext cx="4680720" cy="2471760"/>
            <a:chOff x="3921120" y="914040"/>
            <a:chExt cx="4680720" cy="2471760"/>
          </a:xfrm>
        </p:grpSpPr>
        <p:sp>
          <p:nvSpPr>
            <p:cNvPr id="999" name=""/>
            <p:cNvSpPr/>
            <p:nvPr/>
          </p:nvSpPr>
          <p:spPr>
            <a:xfrm>
              <a:off x="5181840" y="335304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181840" y="154944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50080" y="1549440"/>
              <a:ext cx="85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20120" y="2646360"/>
              <a:ext cx="147600" cy="401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85280" y="1524240"/>
              <a:ext cx="1116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701120" y="23623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4114440" y="1489320"/>
              <a:ext cx="729000" cy="71280"/>
              <a:chOff x="4114440" y="1489320"/>
              <a:chExt cx="729000" cy="71280"/>
            </a:xfrm>
          </p:grpSpPr>
          <p:sp>
            <p:nvSpPr>
              <p:cNvPr id="1006" name=""/>
              <p:cNvSpPr/>
              <p:nvPr/>
            </p:nvSpPr>
            <p:spPr>
              <a:xfrm>
                <a:off x="4191120" y="1544760"/>
                <a:ext cx="65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 flipV="1">
                <a:off x="4114080" y="1489320"/>
                <a:ext cx="71640" cy="71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3921120" y="22100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86520" y="2119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19440" y="205740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74200" y="252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84720" y="1661400"/>
              <a:ext cx="3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81840" y="25758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185320" y="1447200"/>
              <a:ext cx="3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5488200" y="1599480"/>
              <a:ext cx="1101600" cy="631080"/>
              <a:chOff x="5488200" y="1599480"/>
              <a:chExt cx="1101600" cy="6310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798520" y="1650960"/>
                <a:ext cx="515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488200" y="1642320"/>
                <a:ext cx="299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224760" y="15994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8124840" y="2833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104800" y="1985040"/>
              <a:ext cx="834840" cy="930600"/>
              <a:chOff x="5104800" y="1985040"/>
              <a:chExt cx="834840" cy="930600"/>
            </a:xfrm>
          </p:grpSpPr>
          <p:sp>
            <p:nvSpPr>
              <p:cNvPr id="1021" name=""/>
              <p:cNvSpPr/>
              <p:nvPr/>
            </p:nvSpPr>
            <p:spPr>
              <a:xfrm flipH="1" rot="16200000">
                <a:off x="5308920" y="1780560"/>
                <a:ext cx="425880" cy="83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 rot="16200000">
                <a:off x="5308920" y="2032920"/>
                <a:ext cx="425880" cy="83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 rot="16200000">
                <a:off x="5308920" y="2285280"/>
                <a:ext cx="425880" cy="83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>
              <a:off x="5181840" y="15354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181840" y="2805120"/>
              <a:ext cx="0" cy="56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4079520" y="1981800"/>
              <a:ext cx="834120" cy="930600"/>
              <a:chOff x="4079520" y="1981800"/>
              <a:chExt cx="834120" cy="930600"/>
            </a:xfrm>
          </p:grpSpPr>
          <p:sp>
            <p:nvSpPr>
              <p:cNvPr id="1027" name=""/>
              <p:cNvSpPr/>
              <p:nvPr/>
            </p:nvSpPr>
            <p:spPr>
              <a:xfrm rot="5400000">
                <a:off x="4283640" y="1777680"/>
                <a:ext cx="425880" cy="83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5400000">
                <a:off x="4283640" y="2030040"/>
                <a:ext cx="425880" cy="83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5400000">
                <a:off x="4283640" y="2282400"/>
                <a:ext cx="425880" cy="83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4837320" y="1524240"/>
              <a:ext cx="0" cy="59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837320" y="2779920"/>
              <a:ext cx="0" cy="57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4114440" y="3295800"/>
              <a:ext cx="729000" cy="71280"/>
              <a:chOff x="4114440" y="3295800"/>
              <a:chExt cx="729000" cy="71280"/>
            </a:xfrm>
          </p:grpSpPr>
          <p:sp>
            <p:nvSpPr>
              <p:cNvPr id="1033" name=""/>
              <p:cNvSpPr/>
              <p:nvPr/>
            </p:nvSpPr>
            <p:spPr>
              <a:xfrm>
                <a:off x="4191120" y="3351240"/>
                <a:ext cx="65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 flipV="1">
                <a:off x="4114080" y="3295800"/>
                <a:ext cx="71640" cy="71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>
              <a:off x="5011920" y="20433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58000" y="1433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7011720" y="1692720"/>
              <a:ext cx="761400" cy="744120"/>
              <a:chOff x="7011720" y="1692720"/>
              <a:chExt cx="761400" cy="744120"/>
            </a:xfrm>
          </p:grpSpPr>
          <p:sp>
            <p:nvSpPr>
              <p:cNvPr id="1038" name=""/>
              <p:cNvSpPr/>
              <p:nvPr/>
            </p:nvSpPr>
            <p:spPr>
              <a:xfrm rot="5400000">
                <a:off x="7221960" y="1482120"/>
                <a:ext cx="34056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5400000">
                <a:off x="7221960" y="1683720"/>
                <a:ext cx="34056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400000">
                <a:off x="7221960" y="1885680"/>
                <a:ext cx="34056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7701120" y="30481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96440" y="1543320"/>
              <a:ext cx="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360" y="1828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5335560" y="914040"/>
              <a:ext cx="1138320" cy="932400"/>
              <a:chOff x="5335560" y="914040"/>
              <a:chExt cx="1138320" cy="932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886360" y="1298520"/>
                <a:ext cx="0" cy="48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81680" y="1298520"/>
                <a:ext cx="276120" cy="27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57800" y="1295640"/>
                <a:ext cx="0" cy="55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6157800" y="1230120"/>
                <a:ext cx="2746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5891040" y="1481040"/>
                <a:ext cx="282600" cy="28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6391080" y="913680"/>
                <a:ext cx="82800" cy="79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35560" y="1066320"/>
                <a:ext cx="75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440400" y="1011240"/>
                <a:ext cx="0" cy="26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6164280" y="1524240"/>
              <a:ext cx="771480" cy="1861560"/>
              <a:chOff x="6164280" y="1524240"/>
              <a:chExt cx="771480" cy="1861560"/>
            </a:xfrm>
          </p:grpSpPr>
          <p:sp>
            <p:nvSpPr>
              <p:cNvPr id="1054" name=""/>
              <p:cNvSpPr/>
              <p:nvPr/>
            </p:nvSpPr>
            <p:spPr>
              <a:xfrm>
                <a:off x="6496200" y="2351160"/>
                <a:ext cx="439560" cy="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6556320" y="2335320"/>
                <a:ext cx="182880" cy="30168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556320" y="2637000"/>
                <a:ext cx="349560" cy="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55040" y="2351160"/>
                <a:ext cx="144360" cy="28584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739200" y="2138400"/>
                <a:ext cx="0" cy="66348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164280" y="244152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739200" y="1524240"/>
                <a:ext cx="0" cy="182088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6708960" y="332028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 flipH="1" flipV="1">
              <a:off x="6707160" y="1523520"/>
              <a:ext cx="684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869520" y="91440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38200" y="2286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09120" y="213372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402600" y="221004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722160" y="3200400"/>
            <a:ext cx="7723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&gt;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向截止，不影响整流电路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685800" y="4191120"/>
            <a:ext cx="8119800" cy="1477800"/>
            <a:chOff x="685800" y="4191120"/>
            <a:chExt cx="8119800" cy="1477800"/>
          </a:xfrm>
        </p:grpSpPr>
        <p:sp>
          <p:nvSpPr>
            <p:cNvPr id="1069" name=""/>
            <p:cNvSpPr/>
            <p:nvPr/>
          </p:nvSpPr>
          <p:spPr>
            <a:xfrm>
              <a:off x="793440" y="4191120"/>
              <a:ext cx="141192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&lt; 0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时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85800" y="4572000"/>
              <a:ext cx="81198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正向导通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晶闸管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承受反向电压关断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感元件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释放能量形成的电流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构成回路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续流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)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负载电压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波形与电阻性负载相同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见波形图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550800" y="433440"/>
            <a:ext cx="5697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电感性负载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</a:rPr>
              <a:t>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续流二极管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22800" y="1490040"/>
            <a:ext cx="3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62320" y="2875680"/>
            <a:ext cx="3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12800" y="106668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2220840" y="1390320"/>
            <a:ext cx="4970520" cy="1011240"/>
            <a:chOff x="2220840" y="1390320"/>
            <a:chExt cx="4970520" cy="1011240"/>
          </a:xfrm>
        </p:grpSpPr>
        <p:grpSp>
          <p:nvGrpSpPr>
            <p:cNvPr id="1076" name=""/>
            <p:cNvGrpSpPr/>
            <p:nvPr/>
          </p:nvGrpSpPr>
          <p:grpSpPr>
            <a:xfrm>
              <a:off x="2220840" y="1390320"/>
              <a:ext cx="2484000" cy="1011240"/>
              <a:chOff x="2220840" y="1390320"/>
              <a:chExt cx="2484000" cy="1011240"/>
            </a:xfrm>
          </p:grpSpPr>
          <p:sp>
            <p:nvSpPr>
              <p:cNvPr id="1077" name=""/>
              <p:cNvSpPr/>
              <p:nvPr/>
            </p:nvSpPr>
            <p:spPr>
              <a:xfrm flipV="1">
                <a:off x="2220840" y="1390320"/>
                <a:ext cx="1241280" cy="50616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0"/>
                    </a:moveTo>
                    <a:lnTo>
                      <a:pt x="66" y="118"/>
                    </a:lnTo>
                    <a:lnTo>
                      <a:pt x="132" y="220"/>
                    </a:lnTo>
                    <a:lnTo>
                      <a:pt x="198" y="308"/>
                    </a:lnTo>
                    <a:lnTo>
                      <a:pt x="264" y="381"/>
                    </a:lnTo>
                    <a:lnTo>
                      <a:pt x="319" y="418"/>
                    </a:lnTo>
                    <a:lnTo>
                      <a:pt x="385" y="432"/>
                    </a:lnTo>
                    <a:lnTo>
                      <a:pt x="451" y="418"/>
                    </a:lnTo>
                    <a:lnTo>
                      <a:pt x="517" y="381"/>
                    </a:lnTo>
                    <a:lnTo>
                      <a:pt x="583" y="308"/>
                    </a:lnTo>
                    <a:lnTo>
                      <a:pt x="649" y="220"/>
                    </a:lnTo>
                    <a:lnTo>
                      <a:pt x="715" y="110"/>
                    </a:lnTo>
                    <a:lnTo>
                      <a:pt x="781" y="0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3460320" y="1895400"/>
                <a:ext cx="1244520" cy="50616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432"/>
                    </a:moveTo>
                    <a:lnTo>
                      <a:pt x="716" y="315"/>
                    </a:lnTo>
                    <a:lnTo>
                      <a:pt x="650" y="213"/>
                    </a:lnTo>
                    <a:lnTo>
                      <a:pt x="584" y="125"/>
                    </a:lnTo>
                    <a:lnTo>
                      <a:pt x="518" y="52"/>
                    </a:lnTo>
                    <a:lnTo>
                      <a:pt x="463" y="15"/>
                    </a:lnTo>
                    <a:lnTo>
                      <a:pt x="397" y="0"/>
                    </a:lnTo>
                    <a:lnTo>
                      <a:pt x="330" y="15"/>
                    </a:lnTo>
                    <a:lnTo>
                      <a:pt x="264" y="52"/>
                    </a:lnTo>
                    <a:lnTo>
                      <a:pt x="198" y="125"/>
                    </a:lnTo>
                    <a:lnTo>
                      <a:pt x="132" y="213"/>
                    </a:lnTo>
                    <a:lnTo>
                      <a:pt x="66" y="323"/>
                    </a:lnTo>
                    <a:lnTo>
                      <a:pt x="0" y="432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4707000" y="1390320"/>
              <a:ext cx="2484360" cy="1011240"/>
              <a:chOff x="4707000" y="1390320"/>
              <a:chExt cx="2484360" cy="1011240"/>
            </a:xfrm>
          </p:grpSpPr>
          <p:sp>
            <p:nvSpPr>
              <p:cNvPr id="1080" name=""/>
              <p:cNvSpPr/>
              <p:nvPr/>
            </p:nvSpPr>
            <p:spPr>
              <a:xfrm flipV="1">
                <a:off x="4707000" y="1390320"/>
                <a:ext cx="1241280" cy="506160"/>
              </a:xfrm>
              <a:custGeom>
                <a:avLst/>
                <a:gdLst/>
                <a:ahLst/>
                <a:rect l="l" t="t" r="r" b="b"/>
                <a:pathLst>
                  <a:path w="782" h="433">
                    <a:moveTo>
                      <a:pt x="0" y="0"/>
                    </a:moveTo>
                    <a:lnTo>
                      <a:pt x="66" y="118"/>
                    </a:lnTo>
                    <a:lnTo>
                      <a:pt x="132" y="220"/>
                    </a:lnTo>
                    <a:lnTo>
                      <a:pt x="198" y="308"/>
                    </a:lnTo>
                    <a:lnTo>
                      <a:pt x="264" y="381"/>
                    </a:lnTo>
                    <a:lnTo>
                      <a:pt x="319" y="418"/>
                    </a:lnTo>
                    <a:lnTo>
                      <a:pt x="385" y="432"/>
                    </a:lnTo>
                    <a:lnTo>
                      <a:pt x="451" y="418"/>
                    </a:lnTo>
                    <a:lnTo>
                      <a:pt x="517" y="381"/>
                    </a:lnTo>
                    <a:lnTo>
                      <a:pt x="583" y="308"/>
                    </a:lnTo>
                    <a:lnTo>
                      <a:pt x="649" y="220"/>
                    </a:lnTo>
                    <a:lnTo>
                      <a:pt x="715" y="110"/>
                    </a:lnTo>
                    <a:lnTo>
                      <a:pt x="781" y="0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5946840" y="1895400"/>
                <a:ext cx="1244520" cy="506160"/>
              </a:xfrm>
              <a:custGeom>
                <a:avLst/>
                <a:gdLst/>
                <a:ahLst/>
                <a:rect l="l" t="t" r="r" b="b"/>
                <a:pathLst>
                  <a:path w="784" h="433">
                    <a:moveTo>
                      <a:pt x="783" y="432"/>
                    </a:moveTo>
                    <a:lnTo>
                      <a:pt x="716" y="315"/>
                    </a:lnTo>
                    <a:lnTo>
                      <a:pt x="650" y="213"/>
                    </a:lnTo>
                    <a:lnTo>
                      <a:pt x="584" y="125"/>
                    </a:lnTo>
                    <a:lnTo>
                      <a:pt x="518" y="52"/>
                    </a:lnTo>
                    <a:lnTo>
                      <a:pt x="463" y="15"/>
                    </a:lnTo>
                    <a:lnTo>
                      <a:pt x="397" y="0"/>
                    </a:lnTo>
                    <a:lnTo>
                      <a:pt x="330" y="15"/>
                    </a:lnTo>
                    <a:lnTo>
                      <a:pt x="264" y="52"/>
                    </a:lnTo>
                    <a:lnTo>
                      <a:pt x="198" y="125"/>
                    </a:lnTo>
                    <a:lnTo>
                      <a:pt x="132" y="213"/>
                    </a:lnTo>
                    <a:lnTo>
                      <a:pt x="66" y="323"/>
                    </a:lnTo>
                    <a:lnTo>
                      <a:pt x="0" y="432"/>
                    </a:lnTo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1123560" y="376200"/>
            <a:ext cx="33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工作波形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加续流二极管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2571840" y="1523880"/>
            <a:ext cx="4591080" cy="5029200"/>
            <a:chOff x="2571840" y="1523880"/>
            <a:chExt cx="4591080" cy="5029200"/>
          </a:xfrm>
        </p:grpSpPr>
        <p:sp>
          <p:nvSpPr>
            <p:cNvPr id="1084" name=""/>
            <p:cNvSpPr/>
            <p:nvPr/>
          </p:nvSpPr>
          <p:spPr>
            <a:xfrm>
              <a:off x="2610000" y="1523880"/>
              <a:ext cx="0" cy="11239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086440" y="1542960"/>
              <a:ext cx="0" cy="11620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09920" y="1866960"/>
              <a:ext cx="0" cy="46483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705200" y="1943280"/>
              <a:ext cx="0" cy="42480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24520" y="1866960"/>
              <a:ext cx="0" cy="43243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2571840" y="3390840"/>
              <a:ext cx="38160" cy="3162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86440" y="3371760"/>
              <a:ext cx="0" cy="27241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62920" y="1905120"/>
              <a:ext cx="0" cy="41529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2228760" y="2651040"/>
            <a:ext cx="4953240" cy="663480"/>
            <a:chOff x="2228760" y="2651040"/>
            <a:chExt cx="4953240" cy="663480"/>
          </a:xfrm>
        </p:grpSpPr>
        <p:grpSp>
          <p:nvGrpSpPr>
            <p:cNvPr id="1093" name=""/>
            <p:cNvGrpSpPr/>
            <p:nvPr/>
          </p:nvGrpSpPr>
          <p:grpSpPr>
            <a:xfrm>
              <a:off x="2475000" y="2651040"/>
              <a:ext cx="491760" cy="625680"/>
              <a:chOff x="2475000" y="2651040"/>
              <a:chExt cx="491760" cy="625680"/>
            </a:xfrm>
          </p:grpSpPr>
          <p:sp>
            <p:nvSpPr>
              <p:cNvPr id="1094" name=""/>
              <p:cNvSpPr/>
              <p:nvPr/>
            </p:nvSpPr>
            <p:spPr>
              <a:xfrm>
                <a:off x="2629080" y="2666880"/>
                <a:ext cx="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8797800">
                <a:off x="2635920" y="2644920"/>
                <a:ext cx="169560" cy="63648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228760" y="32767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57680" y="3276720"/>
              <a:ext cx="2209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95960" y="3276720"/>
              <a:ext cx="1886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4913280" y="2688840"/>
              <a:ext cx="491760" cy="625680"/>
              <a:chOff x="4913280" y="2688840"/>
              <a:chExt cx="491760" cy="625680"/>
            </a:xfrm>
          </p:grpSpPr>
          <p:sp>
            <p:nvSpPr>
              <p:cNvPr id="1100" name=""/>
              <p:cNvSpPr/>
              <p:nvPr/>
            </p:nvSpPr>
            <p:spPr>
              <a:xfrm>
                <a:off x="5067360" y="2704680"/>
                <a:ext cx="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 rot="8797800">
                <a:off x="5074200" y="2682720"/>
                <a:ext cx="169560" cy="63648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2" name=""/>
          <p:cNvGrpSpPr/>
          <p:nvPr/>
        </p:nvGrpSpPr>
        <p:grpSpPr>
          <a:xfrm>
            <a:off x="2161080" y="4905360"/>
            <a:ext cx="4969800" cy="1079640"/>
            <a:chOff x="2161080" y="4905360"/>
            <a:chExt cx="4969800" cy="1079640"/>
          </a:xfrm>
        </p:grpSpPr>
        <p:sp>
          <p:nvSpPr>
            <p:cNvPr id="1103" name=""/>
            <p:cNvSpPr/>
            <p:nvPr/>
          </p:nvSpPr>
          <p:spPr>
            <a:xfrm rot="18991800">
              <a:off x="2111400" y="5111280"/>
              <a:ext cx="601560" cy="9540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8907800">
              <a:off x="4592520" y="5121000"/>
              <a:ext cx="596880" cy="7452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81200" y="4938840"/>
              <a:ext cx="0" cy="51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86440" y="4905360"/>
              <a:ext cx="0" cy="523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3403440" y="5410080"/>
              <a:ext cx="1305000" cy="503280"/>
            </a:xfrm>
            <a:custGeom>
              <a:avLst/>
              <a:gdLst/>
              <a:ahLst/>
              <a:rect l="l" t="t" r="r" b="b"/>
              <a:pathLst>
                <a:path w="1488" h="337">
                  <a:moveTo>
                    <a:pt x="0" y="336"/>
                  </a:moveTo>
                  <a:lnTo>
                    <a:pt x="124" y="244"/>
                  </a:lnTo>
                  <a:lnTo>
                    <a:pt x="248" y="164"/>
                  </a:lnTo>
                  <a:lnTo>
                    <a:pt x="376" y="97"/>
                  </a:lnTo>
                  <a:lnTo>
                    <a:pt x="501" y="39"/>
                  </a:lnTo>
                  <a:lnTo>
                    <a:pt x="606" y="10"/>
                  </a:lnTo>
                  <a:lnTo>
                    <a:pt x="731" y="0"/>
                  </a:lnTo>
                  <a:lnTo>
                    <a:pt x="859" y="10"/>
                  </a:lnTo>
                  <a:lnTo>
                    <a:pt x="983" y="39"/>
                  </a:lnTo>
                  <a:lnTo>
                    <a:pt x="1107" y="97"/>
                  </a:lnTo>
                  <a:lnTo>
                    <a:pt x="1235" y="164"/>
                  </a:lnTo>
                  <a:lnTo>
                    <a:pt x="1359" y="249"/>
                  </a:lnTo>
                  <a:lnTo>
                    <a:pt x="1487" y="33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90920" y="5429160"/>
              <a:ext cx="79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086440" y="5410080"/>
              <a:ext cx="895320" cy="1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5940360" y="5437080"/>
              <a:ext cx="1190520" cy="547920"/>
            </a:xfrm>
            <a:custGeom>
              <a:avLst/>
              <a:gdLst/>
              <a:ahLst/>
              <a:rect l="l" t="t" r="r" b="b"/>
              <a:pathLst>
                <a:path w="1488" h="337">
                  <a:moveTo>
                    <a:pt x="0" y="336"/>
                  </a:moveTo>
                  <a:lnTo>
                    <a:pt x="124" y="244"/>
                  </a:lnTo>
                  <a:lnTo>
                    <a:pt x="248" y="164"/>
                  </a:lnTo>
                  <a:lnTo>
                    <a:pt x="376" y="97"/>
                  </a:lnTo>
                  <a:lnTo>
                    <a:pt x="501" y="39"/>
                  </a:lnTo>
                  <a:lnTo>
                    <a:pt x="606" y="10"/>
                  </a:lnTo>
                  <a:lnTo>
                    <a:pt x="731" y="0"/>
                  </a:lnTo>
                  <a:lnTo>
                    <a:pt x="859" y="10"/>
                  </a:lnTo>
                  <a:lnTo>
                    <a:pt x="983" y="39"/>
                  </a:lnTo>
                  <a:lnTo>
                    <a:pt x="1107" y="97"/>
                  </a:lnTo>
                  <a:lnTo>
                    <a:pt x="1235" y="164"/>
                  </a:lnTo>
                  <a:lnTo>
                    <a:pt x="1359" y="249"/>
                  </a:lnTo>
                  <a:lnTo>
                    <a:pt x="1487" y="33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2247840" y="3892680"/>
            <a:ext cx="5067360" cy="565200"/>
            <a:chOff x="2247840" y="3892680"/>
            <a:chExt cx="5067360" cy="565200"/>
          </a:xfrm>
        </p:grpSpPr>
        <p:sp>
          <p:nvSpPr>
            <p:cNvPr id="1112" name=""/>
            <p:cNvSpPr/>
            <p:nvPr/>
          </p:nvSpPr>
          <p:spPr>
            <a:xfrm>
              <a:off x="2610000" y="4038480"/>
              <a:ext cx="0" cy="4194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086440" y="4019760"/>
              <a:ext cx="0" cy="4190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2247840" y="3892680"/>
              <a:ext cx="5067360" cy="565200"/>
              <a:chOff x="2247840" y="3892680"/>
              <a:chExt cx="5067360" cy="565200"/>
            </a:xfrm>
          </p:grpSpPr>
          <p:sp>
            <p:nvSpPr>
              <p:cNvPr id="1115" name=""/>
              <p:cNvSpPr/>
              <p:nvPr/>
            </p:nvSpPr>
            <p:spPr>
              <a:xfrm>
                <a:off x="5105520" y="3892680"/>
                <a:ext cx="819000" cy="54612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610000" y="3911760"/>
                <a:ext cx="819000" cy="54612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247840" y="4438800"/>
                <a:ext cx="36216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409920" y="4457880"/>
                <a:ext cx="16765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943600" y="4438800"/>
                <a:ext cx="13716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"/>
          <p:cNvGrpSpPr/>
          <p:nvPr/>
        </p:nvGrpSpPr>
        <p:grpSpPr>
          <a:xfrm>
            <a:off x="2209680" y="4148280"/>
            <a:ext cx="5334120" cy="312120"/>
            <a:chOff x="2209680" y="4148280"/>
            <a:chExt cx="5334120" cy="312120"/>
          </a:xfrm>
        </p:grpSpPr>
        <p:sp>
          <p:nvSpPr>
            <p:cNvPr id="1121" name=""/>
            <p:cNvSpPr/>
            <p:nvPr/>
          </p:nvSpPr>
          <p:spPr>
            <a:xfrm>
              <a:off x="2209680" y="4433760"/>
              <a:ext cx="393840" cy="2484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067360" y="4148280"/>
              <a:ext cx="2476440" cy="299520"/>
            </a:xfrm>
            <a:custGeom>
              <a:avLst/>
              <a:gdLst/>
              <a:ahLst/>
              <a:rect l="l" t="t" r="r" b="b"/>
              <a:pathLst>
                <a:path w="1560" h="169">
                  <a:moveTo>
                    <a:pt x="0" y="161"/>
                  </a:moveTo>
                  <a:cubicBezTo>
                    <a:pt x="21" y="142"/>
                    <a:pt x="97" y="73"/>
                    <a:pt x="128" y="49"/>
                  </a:cubicBezTo>
                  <a:cubicBezTo>
                    <a:pt x="159" y="25"/>
                    <a:pt x="164" y="25"/>
                    <a:pt x="184" y="17"/>
                  </a:cubicBezTo>
                  <a:cubicBezTo>
                    <a:pt x="204" y="9"/>
                    <a:pt x="221" y="0"/>
                    <a:pt x="248" y="1"/>
                  </a:cubicBezTo>
                  <a:cubicBezTo>
                    <a:pt x="275" y="2"/>
                    <a:pt x="307" y="10"/>
                    <a:pt x="344" y="25"/>
                  </a:cubicBezTo>
                  <a:cubicBezTo>
                    <a:pt x="381" y="40"/>
                    <a:pt x="435" y="73"/>
                    <a:pt x="472" y="89"/>
                  </a:cubicBezTo>
                  <a:cubicBezTo>
                    <a:pt x="509" y="105"/>
                    <a:pt x="540" y="113"/>
                    <a:pt x="568" y="121"/>
                  </a:cubicBezTo>
                  <a:cubicBezTo>
                    <a:pt x="596" y="129"/>
                    <a:pt x="601" y="130"/>
                    <a:pt x="640" y="137"/>
                  </a:cubicBezTo>
                  <a:cubicBezTo>
                    <a:pt x="679" y="144"/>
                    <a:pt x="721" y="157"/>
                    <a:pt x="800" y="161"/>
                  </a:cubicBezTo>
                  <a:cubicBezTo>
                    <a:pt x="879" y="165"/>
                    <a:pt x="1029" y="161"/>
                    <a:pt x="1112" y="161"/>
                  </a:cubicBezTo>
                  <a:cubicBezTo>
                    <a:pt x="1195" y="161"/>
                    <a:pt x="1239" y="161"/>
                    <a:pt x="1296" y="161"/>
                  </a:cubicBezTo>
                  <a:cubicBezTo>
                    <a:pt x="1353" y="161"/>
                    <a:pt x="1412" y="160"/>
                    <a:pt x="1456" y="161"/>
                  </a:cubicBezTo>
                  <a:cubicBezTo>
                    <a:pt x="1500" y="162"/>
                    <a:pt x="1538" y="167"/>
                    <a:pt x="1560" y="169"/>
                  </a:cubicBezTo>
                </a:path>
              </a:pathLst>
            </a:custGeom>
            <a:noFill/>
            <a:ln w="38160">
              <a:solidFill>
                <a:srgbClr val="005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17920" y="4160520"/>
              <a:ext cx="2476440" cy="299880"/>
            </a:xfrm>
            <a:custGeom>
              <a:avLst/>
              <a:gdLst/>
              <a:ahLst/>
              <a:rect l="l" t="t" r="r" b="b"/>
              <a:pathLst>
                <a:path w="1560" h="169">
                  <a:moveTo>
                    <a:pt x="0" y="161"/>
                  </a:moveTo>
                  <a:cubicBezTo>
                    <a:pt x="21" y="142"/>
                    <a:pt x="97" y="73"/>
                    <a:pt x="128" y="49"/>
                  </a:cubicBezTo>
                  <a:cubicBezTo>
                    <a:pt x="159" y="25"/>
                    <a:pt x="164" y="25"/>
                    <a:pt x="184" y="17"/>
                  </a:cubicBezTo>
                  <a:cubicBezTo>
                    <a:pt x="204" y="9"/>
                    <a:pt x="221" y="0"/>
                    <a:pt x="248" y="1"/>
                  </a:cubicBezTo>
                  <a:cubicBezTo>
                    <a:pt x="275" y="2"/>
                    <a:pt x="307" y="10"/>
                    <a:pt x="344" y="25"/>
                  </a:cubicBezTo>
                  <a:cubicBezTo>
                    <a:pt x="381" y="40"/>
                    <a:pt x="435" y="73"/>
                    <a:pt x="472" y="89"/>
                  </a:cubicBezTo>
                  <a:cubicBezTo>
                    <a:pt x="509" y="105"/>
                    <a:pt x="540" y="113"/>
                    <a:pt x="568" y="121"/>
                  </a:cubicBezTo>
                  <a:cubicBezTo>
                    <a:pt x="596" y="129"/>
                    <a:pt x="601" y="130"/>
                    <a:pt x="640" y="137"/>
                  </a:cubicBezTo>
                  <a:cubicBezTo>
                    <a:pt x="679" y="144"/>
                    <a:pt x="721" y="157"/>
                    <a:pt x="800" y="161"/>
                  </a:cubicBezTo>
                  <a:cubicBezTo>
                    <a:pt x="879" y="165"/>
                    <a:pt x="1029" y="161"/>
                    <a:pt x="1112" y="161"/>
                  </a:cubicBezTo>
                  <a:cubicBezTo>
                    <a:pt x="1195" y="161"/>
                    <a:pt x="1239" y="161"/>
                    <a:pt x="1296" y="161"/>
                  </a:cubicBezTo>
                  <a:cubicBezTo>
                    <a:pt x="1353" y="161"/>
                    <a:pt x="1412" y="160"/>
                    <a:pt x="1456" y="161"/>
                  </a:cubicBezTo>
                  <a:cubicBezTo>
                    <a:pt x="1500" y="162"/>
                    <a:pt x="1538" y="167"/>
                    <a:pt x="1560" y="169"/>
                  </a:cubicBezTo>
                </a:path>
              </a:pathLst>
            </a:custGeom>
            <a:noFill/>
            <a:ln w="38160">
              <a:solidFill>
                <a:srgbClr val="005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2237040" y="335268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5c00"/>
                </a:solidFill>
                <a:latin typeface="Times New Roman"/>
                <a:ea typeface="楷体_GB2312"/>
              </a:rPr>
              <a:t>i</a:t>
            </a:r>
            <a:r>
              <a:rPr b="1" lang="zh-CN" sz="2800" spc="-1" strike="noStrike" baseline="-25000">
                <a:solidFill>
                  <a:srgbClr val="005c00"/>
                </a:solidFill>
                <a:latin typeface="Times New Roman"/>
                <a:ea typeface="楷体_GB2312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1712880" y="3344760"/>
            <a:ext cx="6897240" cy="1346040"/>
            <a:chOff x="1712880" y="3344760"/>
            <a:chExt cx="6897240" cy="1346040"/>
          </a:xfrm>
        </p:grpSpPr>
        <p:sp>
          <p:nvSpPr>
            <p:cNvPr id="1126" name=""/>
            <p:cNvSpPr/>
            <p:nvPr/>
          </p:nvSpPr>
          <p:spPr>
            <a:xfrm>
              <a:off x="7680960" y="417024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7" name=""/>
                <p:cNvSpPr txBox="1"/>
                <p:nvPr/>
              </p:nvSpPr>
              <p:spPr>
                <a:xfrm>
                  <a:off x="1712880" y="3344760"/>
                  <a:ext cx="55440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8" name=""/>
            <p:cNvSpPr/>
            <p:nvPr/>
          </p:nvSpPr>
          <p:spPr>
            <a:xfrm>
              <a:off x="2235240" y="4463640"/>
              <a:ext cx="548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2235240" y="351432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1792800" y="914400"/>
            <a:ext cx="6814080" cy="1452960"/>
            <a:chOff x="1792800" y="914400"/>
            <a:chExt cx="6814080" cy="1452960"/>
          </a:xfrm>
        </p:grpSpPr>
        <p:sp>
          <p:nvSpPr>
            <p:cNvPr id="1131" name=""/>
            <p:cNvSpPr/>
            <p:nvPr/>
          </p:nvSpPr>
          <p:spPr>
            <a:xfrm>
              <a:off x="3169800" y="17859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49120" y="1784160"/>
              <a:ext cx="18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1792800" y="914400"/>
              <a:ext cx="6814080" cy="1223640"/>
              <a:chOff x="1792800" y="914400"/>
              <a:chExt cx="6814080" cy="1223640"/>
            </a:xfrm>
          </p:grpSpPr>
          <p:sp>
            <p:nvSpPr>
              <p:cNvPr id="1134" name=""/>
              <p:cNvSpPr/>
              <p:nvPr/>
            </p:nvSpPr>
            <p:spPr>
              <a:xfrm>
                <a:off x="7677720" y="1617480"/>
                <a:ext cx="92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5" name=""/>
                  <p:cNvSpPr txBox="1"/>
                  <p:nvPr/>
                </p:nvSpPr>
                <p:spPr>
                  <a:xfrm>
                    <a:off x="1824120" y="914400"/>
                    <a:ext cx="369360" cy="38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36" name=""/>
              <p:cNvSpPr/>
              <p:nvPr/>
            </p:nvSpPr>
            <p:spPr>
              <a:xfrm>
                <a:off x="2232000" y="1911240"/>
                <a:ext cx="548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232000" y="96192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792800" y="1647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9" name=""/>
          <p:cNvGrpSpPr/>
          <p:nvPr/>
        </p:nvGrpSpPr>
        <p:grpSpPr>
          <a:xfrm>
            <a:off x="1712880" y="4343400"/>
            <a:ext cx="6896880" cy="1914480"/>
            <a:chOff x="1712880" y="4343400"/>
            <a:chExt cx="6896880" cy="1914480"/>
          </a:xfrm>
        </p:grpSpPr>
        <p:grpSp>
          <p:nvGrpSpPr>
            <p:cNvPr id="1140" name=""/>
            <p:cNvGrpSpPr/>
            <p:nvPr/>
          </p:nvGrpSpPr>
          <p:grpSpPr>
            <a:xfrm>
              <a:off x="1712880" y="4343400"/>
              <a:ext cx="6896880" cy="1328400"/>
              <a:chOff x="1712880" y="4343400"/>
              <a:chExt cx="6896880" cy="1328400"/>
            </a:xfrm>
          </p:grpSpPr>
          <p:sp>
            <p:nvSpPr>
              <p:cNvPr id="1141" name=""/>
              <p:cNvSpPr/>
              <p:nvPr/>
            </p:nvSpPr>
            <p:spPr>
              <a:xfrm>
                <a:off x="7680600" y="5151240"/>
                <a:ext cx="92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42" name=""/>
                  <p:cNvSpPr txBox="1"/>
                  <p:nvPr/>
                </p:nvSpPr>
                <p:spPr>
                  <a:xfrm>
                    <a:off x="1712880" y="4343400"/>
                    <a:ext cx="554040" cy="59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3" name=""/>
              <p:cNvSpPr/>
              <p:nvPr/>
            </p:nvSpPr>
            <p:spPr>
              <a:xfrm>
                <a:off x="2235240" y="5445000"/>
                <a:ext cx="548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2235240" y="449568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795680" y="5181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2235240" y="541944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1778040" y="5425200"/>
            <a:ext cx="1650960" cy="671400"/>
            <a:chOff x="1778040" y="5425200"/>
            <a:chExt cx="1650960" cy="671400"/>
          </a:xfrm>
        </p:grpSpPr>
        <p:sp>
          <p:nvSpPr>
            <p:cNvPr id="1148" name=""/>
            <p:cNvSpPr/>
            <p:nvPr/>
          </p:nvSpPr>
          <p:spPr>
            <a:xfrm>
              <a:off x="2184480" y="557604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69200" y="542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2540160" y="5904000"/>
              <a:ext cx="465120" cy="0"/>
            </a:xfrm>
            <a:prstGeom prst="line">
              <a:avLst/>
            </a:prstGeom>
            <a:ln w="28440">
              <a:solidFill>
                <a:srgbClr val="005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1778040" y="5899320"/>
              <a:ext cx="1650960" cy="7920"/>
              <a:chOff x="1778040" y="5899320"/>
              <a:chExt cx="1650960" cy="7920"/>
            </a:xfrm>
          </p:grpSpPr>
          <p:sp>
            <p:nvSpPr>
              <p:cNvPr id="1152" name=""/>
              <p:cNvSpPr/>
              <p:nvPr/>
            </p:nvSpPr>
            <p:spPr>
              <a:xfrm>
                <a:off x="1778040" y="5899320"/>
                <a:ext cx="431640" cy="0"/>
              </a:xfrm>
              <a:prstGeom prst="line">
                <a:avLst/>
              </a:prstGeom>
              <a:ln w="28440">
                <a:solidFill>
                  <a:srgbClr val="005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997360" y="5907240"/>
                <a:ext cx="431640" cy="0"/>
              </a:xfrm>
              <a:prstGeom prst="line">
                <a:avLst/>
              </a:prstGeom>
              <a:ln w="28440">
                <a:solidFill>
                  <a:srgbClr val="005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4" name=""/>
          <p:cNvSpPr/>
          <p:nvPr/>
        </p:nvSpPr>
        <p:spPr>
          <a:xfrm>
            <a:off x="4725720" y="175248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1730520" y="2133720"/>
            <a:ext cx="6879960" cy="1363320"/>
            <a:chOff x="1730520" y="2133720"/>
            <a:chExt cx="6879960" cy="1363320"/>
          </a:xfrm>
        </p:grpSpPr>
        <p:sp>
          <p:nvSpPr>
            <p:cNvPr id="1156" name=""/>
            <p:cNvSpPr/>
            <p:nvPr/>
          </p:nvSpPr>
          <p:spPr>
            <a:xfrm>
              <a:off x="7682040" y="2976480"/>
              <a:ext cx="9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7" name=""/>
                <p:cNvSpPr txBox="1"/>
                <p:nvPr/>
              </p:nvSpPr>
              <p:spPr>
                <a:xfrm>
                  <a:off x="1730520" y="2133720"/>
                  <a:ext cx="51732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8" name=""/>
            <p:cNvSpPr/>
            <p:nvPr/>
          </p:nvSpPr>
          <p:spPr>
            <a:xfrm>
              <a:off x="2235240" y="3270240"/>
              <a:ext cx="548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235240" y="232092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96040" y="3006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1459800" y="487440"/>
            <a:ext cx="39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2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单相半控桥式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77880" y="115668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45360" y="16138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860560" y="4137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9480" y="2414160"/>
            <a:ext cx="381024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受正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极加触发电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的通路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5486400" y="4236840"/>
            <a:ext cx="3114720" cy="1036800"/>
            <a:chOff x="5486400" y="4236840"/>
            <a:chExt cx="3114720" cy="1036800"/>
          </a:xfrm>
        </p:grpSpPr>
        <p:sp>
          <p:nvSpPr>
            <p:cNvPr id="1167" name=""/>
            <p:cNvSpPr/>
            <p:nvPr/>
          </p:nvSpPr>
          <p:spPr>
            <a:xfrm>
              <a:off x="5514840" y="4236840"/>
              <a:ext cx="300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005c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005c00"/>
                  </a:solidFill>
                  <a:latin typeface="Times New Roman"/>
                </a:rPr>
                <a:t>2 </a:t>
              </a:r>
              <a:r>
                <a:rPr b="1" lang="zh-CN" sz="2800" spc="-1" strike="noStrike">
                  <a:solidFill>
                    <a:srgbClr val="005c00"/>
                  </a:solidFill>
                  <a:latin typeface="Symbol"/>
                  <a:ea typeface="Symbol"/>
                </a:rPr>
                <a:t></a:t>
              </a:r>
              <a:r>
                <a:rPr b="1" lang="zh-CN" sz="2800" spc="-1" strike="noStrike">
                  <a:solidFill>
                    <a:srgbClr val="005c00"/>
                  </a:solidFill>
                  <a:latin typeface="宋体"/>
                </a:rPr>
                <a:t>晶闸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486400" y="4694040"/>
              <a:ext cx="311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晶体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 flipV="1">
            <a:off x="6553080" y="1599840"/>
            <a:ext cx="0" cy="1019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907240" y="2635200"/>
            <a:ext cx="7221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562720" y="194472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854680" y="1976400"/>
            <a:ext cx="0" cy="59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6969240" y="2987640"/>
            <a:ext cx="637560" cy="898560"/>
            <a:chOff x="6969240" y="2987640"/>
            <a:chExt cx="637560" cy="898560"/>
          </a:xfrm>
        </p:grpSpPr>
        <p:sp>
          <p:nvSpPr>
            <p:cNvPr id="1174" name=""/>
            <p:cNvSpPr/>
            <p:nvPr/>
          </p:nvSpPr>
          <p:spPr>
            <a:xfrm>
              <a:off x="7603560" y="2987640"/>
              <a:ext cx="3240" cy="898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69240" y="2987640"/>
              <a:ext cx="618480" cy="17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889600" y="2971800"/>
            <a:ext cx="1131840" cy="15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7280" y="2994120"/>
            <a:ext cx="0" cy="739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562720" y="37339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620120" y="3962520"/>
            <a:ext cx="7729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480" y="47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2087640" y="4708440"/>
            <a:ext cx="1175400" cy="579600"/>
            <a:chOff x="2087640" y="4708440"/>
            <a:chExt cx="1175400" cy="579600"/>
          </a:xfrm>
        </p:grpSpPr>
        <p:sp>
          <p:nvSpPr>
            <p:cNvPr id="1182" name=""/>
            <p:cNvSpPr/>
            <p:nvPr/>
          </p:nvSpPr>
          <p:spPr>
            <a:xfrm>
              <a:off x="2709000" y="470844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087640" y="4953240"/>
              <a:ext cx="625320" cy="210960"/>
            </a:xfrm>
            <a:prstGeom prst="rightArrow">
              <a:avLst>
                <a:gd name="adj1" fmla="val 50000"/>
                <a:gd name="adj2" fmla="val 74104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3198960" y="4708440"/>
            <a:ext cx="1160640" cy="579600"/>
            <a:chOff x="3198960" y="4708440"/>
            <a:chExt cx="1160640" cy="579600"/>
          </a:xfrm>
        </p:grpSpPr>
        <p:sp>
          <p:nvSpPr>
            <p:cNvPr id="1185" name=""/>
            <p:cNvSpPr/>
            <p:nvPr/>
          </p:nvSpPr>
          <p:spPr>
            <a:xfrm>
              <a:off x="3819240" y="47084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198960" y="4953240"/>
              <a:ext cx="625320" cy="210960"/>
            </a:xfrm>
            <a:prstGeom prst="rightArrow">
              <a:avLst>
                <a:gd name="adj1" fmla="val 50000"/>
                <a:gd name="adj2" fmla="val 74104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988920" y="4708440"/>
            <a:ext cx="1134360" cy="579600"/>
            <a:chOff x="988920" y="4708440"/>
            <a:chExt cx="1134360" cy="579600"/>
          </a:xfrm>
        </p:grpSpPr>
        <p:sp>
          <p:nvSpPr>
            <p:cNvPr id="1188" name=""/>
            <p:cNvSpPr/>
            <p:nvPr/>
          </p:nvSpPr>
          <p:spPr>
            <a:xfrm>
              <a:off x="1602720" y="47084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988920" y="4953240"/>
              <a:ext cx="625680" cy="210960"/>
            </a:xfrm>
            <a:prstGeom prst="rightArrow">
              <a:avLst>
                <a:gd name="adj1" fmla="val 50000"/>
                <a:gd name="adj2" fmla="val 74147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4417920" y="4737960"/>
            <a:ext cx="990360" cy="520560"/>
            <a:chOff x="4417920" y="4737960"/>
            <a:chExt cx="990360" cy="520560"/>
          </a:xfrm>
        </p:grpSpPr>
        <p:sp>
          <p:nvSpPr>
            <p:cNvPr id="1191" name=""/>
            <p:cNvSpPr/>
            <p:nvPr/>
          </p:nvSpPr>
          <p:spPr>
            <a:xfrm>
              <a:off x="5029560" y="4737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417920" y="4953240"/>
              <a:ext cx="625680" cy="210960"/>
            </a:xfrm>
            <a:prstGeom prst="rightArrow">
              <a:avLst>
                <a:gd name="adj1" fmla="val 50000"/>
                <a:gd name="adj2" fmla="val 74147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986760" y="1986120"/>
            <a:ext cx="263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压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正半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6553080" y="1571760"/>
            <a:ext cx="1866960" cy="9360"/>
            <a:chOff x="6553080" y="1571760"/>
            <a:chExt cx="1866960" cy="9360"/>
          </a:xfrm>
        </p:grpSpPr>
        <p:sp>
          <p:nvSpPr>
            <p:cNvPr id="1195" name=""/>
            <p:cNvSpPr/>
            <p:nvPr/>
          </p:nvSpPr>
          <p:spPr>
            <a:xfrm>
              <a:off x="7764480" y="1581120"/>
              <a:ext cx="6555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53080" y="157176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8381880" y="1600200"/>
            <a:ext cx="12960" cy="2362320"/>
            <a:chOff x="8381880" y="1600200"/>
            <a:chExt cx="12960" cy="2362320"/>
          </a:xfrm>
        </p:grpSpPr>
        <p:sp>
          <p:nvSpPr>
            <p:cNvPr id="1198" name=""/>
            <p:cNvSpPr/>
            <p:nvPr/>
          </p:nvSpPr>
          <p:spPr>
            <a:xfrm>
              <a:off x="8394840" y="1600200"/>
              <a:ext cx="0" cy="1069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381880" y="2666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4073400" y="838080"/>
            <a:ext cx="5055120" cy="3430080"/>
            <a:chOff x="4073400" y="838080"/>
            <a:chExt cx="5055120" cy="3430080"/>
          </a:xfrm>
        </p:grpSpPr>
        <p:sp>
          <p:nvSpPr>
            <p:cNvPr id="1201" name=""/>
            <p:cNvSpPr/>
            <p:nvPr/>
          </p:nvSpPr>
          <p:spPr>
            <a:xfrm>
              <a:off x="7467480" y="13716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607520" y="83808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3" name=""/>
            <p:cNvGrpSpPr/>
            <p:nvPr/>
          </p:nvGrpSpPr>
          <p:grpSpPr>
            <a:xfrm>
              <a:off x="4073400" y="1386000"/>
              <a:ext cx="5055120" cy="2882160"/>
              <a:chOff x="4073400" y="1386000"/>
              <a:chExt cx="5055120" cy="288216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4073400" y="1386000"/>
                <a:ext cx="5055120" cy="2882160"/>
                <a:chOff x="4073400" y="1386000"/>
                <a:chExt cx="5055120" cy="2882160"/>
              </a:xfrm>
            </p:grpSpPr>
            <p:grpSp>
              <p:nvGrpSpPr>
                <p:cNvPr id="1205" name=""/>
                <p:cNvGrpSpPr/>
                <p:nvPr/>
              </p:nvGrpSpPr>
              <p:grpSpPr>
                <a:xfrm>
                  <a:off x="8534160" y="1919520"/>
                  <a:ext cx="468360" cy="1755360"/>
                  <a:chOff x="8534160" y="1919520"/>
                  <a:chExt cx="468360" cy="1755360"/>
                </a:xfrm>
              </p:grpSpPr>
              <p:grpSp>
                <p:nvGrpSpPr>
                  <p:cNvPr id="1206" name=""/>
                  <p:cNvGrpSpPr/>
                  <p:nvPr/>
                </p:nvGrpSpPr>
                <p:grpSpPr>
                  <a:xfrm>
                    <a:off x="8534160" y="2146320"/>
                    <a:ext cx="458280" cy="1528560"/>
                    <a:chOff x="8534160" y="2146320"/>
                    <a:chExt cx="458280" cy="1528560"/>
                  </a:xfrm>
                </p:grpSpPr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8585640" y="2146320"/>
                      <a:ext cx="4068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楷体_GB2312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8534160" y="3093480"/>
                      <a:ext cx="43524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楷体_GB2312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9" name=""/>
                  <p:cNvSpPr/>
                  <p:nvPr/>
                </p:nvSpPr>
                <p:spPr>
                  <a:xfrm>
                    <a:off x="8569080" y="1919520"/>
                    <a:ext cx="4093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0000"/>
                        </a:solidFill>
                        <a:latin typeface="Times New Roman"/>
                        <a:ea typeface="楷体_GB2312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8567280" y="2817720"/>
                    <a:ext cx="4352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0000"/>
                        </a:solidFill>
                        <a:latin typeface="Times New Roman"/>
                        <a:ea typeface="楷体_GB2312"/>
                      </a:rPr>
                      <a:t>–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1" name=""/>
                <p:cNvGrpSpPr/>
                <p:nvPr/>
              </p:nvGrpSpPr>
              <p:grpSpPr>
                <a:xfrm>
                  <a:off x="4073400" y="1386000"/>
                  <a:ext cx="5055120" cy="2882160"/>
                  <a:chOff x="4073400" y="1386000"/>
                  <a:chExt cx="5055120" cy="288216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7372080" y="2487240"/>
                    <a:ext cx="0" cy="1599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362640" y="2574720"/>
                    <a:ext cx="0" cy="491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362640" y="1447560"/>
                    <a:ext cx="0" cy="518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flipV="1">
                    <a:off x="7372080" y="1456560"/>
                    <a:ext cx="0" cy="361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16" name=""/>
                  <p:cNvGrpSpPr/>
                  <p:nvPr/>
                </p:nvGrpSpPr>
                <p:grpSpPr>
                  <a:xfrm>
                    <a:off x="6080040" y="1796760"/>
                    <a:ext cx="919800" cy="777240"/>
                    <a:chOff x="6080040" y="1796760"/>
                    <a:chExt cx="919800" cy="777240"/>
                  </a:xfrm>
                </p:grpSpPr>
                <p:sp>
                  <p:nvSpPr>
                    <p:cNvPr id="1217" name=""/>
                    <p:cNvSpPr/>
                    <p:nvPr/>
                  </p:nvSpPr>
                  <p:spPr>
                    <a:xfrm>
                      <a:off x="6479280" y="1807560"/>
                      <a:ext cx="52056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T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6080040" y="2080440"/>
                      <a:ext cx="512640" cy="0"/>
                    </a:xfrm>
                    <a:prstGeom prst="line">
                      <a:avLst/>
                    </a:prstGeom>
                    <a:ln w="38160">
                      <a:solidFill>
                        <a:srgbClr val="005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 flipH="1">
                      <a:off x="6150960" y="2063160"/>
                      <a:ext cx="211320" cy="329760"/>
                    </a:xfrm>
                    <a:prstGeom prst="line">
                      <a:avLst/>
                    </a:prstGeom>
                    <a:ln w="38160">
                      <a:solidFill>
                        <a:srgbClr val="005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6151320" y="2393280"/>
                      <a:ext cx="406440" cy="0"/>
                    </a:xfrm>
                    <a:prstGeom prst="line">
                      <a:avLst/>
                    </a:prstGeom>
                    <a:ln w="38160">
                      <a:solidFill>
                        <a:srgbClr val="005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>
                      <a:off x="6379920" y="2080440"/>
                      <a:ext cx="169920" cy="312480"/>
                    </a:xfrm>
                    <a:prstGeom prst="line">
                      <a:avLst/>
                    </a:prstGeom>
                    <a:ln w="38160">
                      <a:solidFill>
                        <a:srgbClr val="005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6362640" y="1850400"/>
                      <a:ext cx="0" cy="723600"/>
                    </a:xfrm>
                    <a:prstGeom prst="line">
                      <a:avLst/>
                    </a:prstGeom>
                    <a:ln w="38160">
                      <a:solidFill>
                        <a:srgbClr val="005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23" name=""/>
                    <p:cNvGrpSpPr/>
                    <p:nvPr/>
                  </p:nvGrpSpPr>
                  <p:grpSpPr>
                    <a:xfrm>
                      <a:off x="6324480" y="1796760"/>
                      <a:ext cx="550800" cy="335880"/>
                      <a:chOff x="6324480" y="1796760"/>
                      <a:chExt cx="550800" cy="335880"/>
                    </a:xfrm>
                  </p:grpSpPr>
                  <p:grpSp>
                    <p:nvGrpSpPr>
                      <p:cNvPr id="1224" name=""/>
                      <p:cNvGrpSpPr/>
                      <p:nvPr/>
                    </p:nvGrpSpPr>
                    <p:grpSpPr>
                      <a:xfrm>
                        <a:off x="6553080" y="1796760"/>
                        <a:ext cx="322200" cy="96480"/>
                        <a:chOff x="6553080" y="1796760"/>
                        <a:chExt cx="322200" cy="96480"/>
                      </a:xfrm>
                    </p:grpSpPr>
                    <p:sp>
                      <p:nvSpPr>
                        <p:cNvPr id="1225" name=""/>
                        <p:cNvSpPr/>
                        <p:nvPr/>
                      </p:nvSpPr>
                      <p:spPr>
                        <a:xfrm flipV="1">
                          <a:off x="6778440" y="1796760"/>
                          <a:ext cx="96840" cy="96480"/>
                        </a:xfrm>
                        <a:prstGeom prst="ellipse">
                          <a:avLst/>
                        </a:prstGeom>
                        <a:noFill/>
                        <a:ln w="28440">
                          <a:solidFill>
                            <a:srgbClr val="005c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600" bIns="21600" anchor="ctr" rot="10800000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6" name=""/>
                        <p:cNvSpPr/>
                        <p:nvPr/>
                      </p:nvSpPr>
                      <p:spPr>
                        <a:xfrm>
                          <a:off x="6553080" y="1863000"/>
                          <a:ext cx="2286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5c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27" name=""/>
                      <p:cNvSpPr/>
                      <p:nvPr/>
                    </p:nvSpPr>
                    <p:spPr>
                      <a:xfrm flipV="1">
                        <a:off x="6324480" y="1828080"/>
                        <a:ext cx="228600" cy="304560"/>
                      </a:xfrm>
                      <a:prstGeom prst="line">
                        <a:avLst/>
                      </a:prstGeom>
                      <a:ln w="38160">
                        <a:solidFill>
                          <a:srgbClr val="005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7086600" y="1787400"/>
                    <a:ext cx="980640" cy="751680"/>
                    <a:chOff x="7086600" y="1787400"/>
                    <a:chExt cx="980640" cy="75168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7546680" y="1804320"/>
                      <a:ext cx="52056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T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30" name=""/>
                    <p:cNvGrpSpPr/>
                    <p:nvPr/>
                  </p:nvGrpSpPr>
                  <p:grpSpPr>
                    <a:xfrm>
                      <a:off x="7086600" y="1787400"/>
                      <a:ext cx="779400" cy="751680"/>
                      <a:chOff x="7086600" y="1787400"/>
                      <a:chExt cx="779400" cy="751680"/>
                    </a:xfrm>
                  </p:grpSpPr>
                  <p:sp>
                    <p:nvSpPr>
                      <p:cNvPr id="1231" name=""/>
                      <p:cNvSpPr/>
                      <p:nvPr/>
                    </p:nvSpPr>
                    <p:spPr>
                      <a:xfrm>
                        <a:off x="7086600" y="2045520"/>
                        <a:ext cx="5126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5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2" name=""/>
                      <p:cNvSpPr/>
                      <p:nvPr/>
                    </p:nvSpPr>
                    <p:spPr>
                      <a:xfrm flipH="1">
                        <a:off x="7157520" y="2028240"/>
                        <a:ext cx="211320" cy="329760"/>
                      </a:xfrm>
                      <a:prstGeom prst="line">
                        <a:avLst/>
                      </a:prstGeom>
                      <a:ln w="38160">
                        <a:solidFill>
                          <a:srgbClr val="005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7157880" y="2358360"/>
                        <a:ext cx="4064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5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7386480" y="2045520"/>
                        <a:ext cx="169920" cy="312480"/>
                      </a:xfrm>
                      <a:prstGeom prst="line">
                        <a:avLst/>
                      </a:prstGeom>
                      <a:ln w="38160">
                        <a:solidFill>
                          <a:srgbClr val="005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5" name=""/>
                      <p:cNvSpPr/>
                      <p:nvPr/>
                    </p:nvSpPr>
                    <p:spPr>
                      <a:xfrm>
                        <a:off x="7369200" y="1815480"/>
                        <a:ext cx="0" cy="723600"/>
                      </a:xfrm>
                      <a:prstGeom prst="line">
                        <a:avLst/>
                      </a:prstGeom>
                      <a:ln w="38160">
                        <a:solidFill>
                          <a:srgbClr val="005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36" name=""/>
                      <p:cNvGrpSpPr/>
                      <p:nvPr/>
                    </p:nvGrpSpPr>
                    <p:grpSpPr>
                      <a:xfrm>
                        <a:off x="7315200" y="1787400"/>
                        <a:ext cx="550800" cy="335880"/>
                        <a:chOff x="7315200" y="1787400"/>
                        <a:chExt cx="550800" cy="335880"/>
                      </a:xfrm>
                    </p:grpSpPr>
                    <p:grpSp>
                      <p:nvGrpSpPr>
                        <p:cNvPr id="1237" name=""/>
                        <p:cNvGrpSpPr/>
                        <p:nvPr/>
                      </p:nvGrpSpPr>
                      <p:grpSpPr>
                        <a:xfrm>
                          <a:off x="7543800" y="1787400"/>
                          <a:ext cx="322200" cy="96480"/>
                          <a:chOff x="7543800" y="1787400"/>
                          <a:chExt cx="322200" cy="96480"/>
                        </a:xfrm>
                      </p:grpSpPr>
                      <p:sp>
                        <p:nvSpPr>
                          <p:cNvPr id="1238" name=""/>
                          <p:cNvSpPr/>
                          <p:nvPr/>
                        </p:nvSpPr>
                        <p:spPr>
                          <a:xfrm flipV="1">
                            <a:off x="7769160" y="1787400"/>
                            <a:ext cx="96840" cy="96480"/>
                          </a:xfrm>
                          <a:prstGeom prst="ellipse">
                            <a:avLst/>
                          </a:prstGeom>
                          <a:noFill/>
                          <a:ln w="28440">
                            <a:solidFill>
                              <a:srgbClr val="005c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 rot="10800000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39" name=""/>
                          <p:cNvSpPr/>
                          <p:nvPr/>
                        </p:nvSpPr>
                        <p:spPr>
                          <a:xfrm>
                            <a:off x="7543800" y="1853640"/>
                            <a:ext cx="22860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5c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40" name=""/>
                        <p:cNvSpPr/>
                        <p:nvPr/>
                      </p:nvSpPr>
                      <p:spPr>
                        <a:xfrm flipV="1">
                          <a:off x="7315200" y="1818720"/>
                          <a:ext cx="228600" cy="3045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5c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4073400" y="1386000"/>
                    <a:ext cx="5055120" cy="2882160"/>
                    <a:chOff x="4073400" y="1386000"/>
                    <a:chExt cx="5055120" cy="2882160"/>
                  </a:xfrm>
                </p:grpSpPr>
                <p:sp>
                  <p:nvSpPr>
                    <p:cNvPr id="1242" name=""/>
                    <p:cNvSpPr/>
                    <p:nvPr/>
                  </p:nvSpPr>
                  <p:spPr>
                    <a:xfrm flipV="1">
                      <a:off x="6362640" y="1463040"/>
                      <a:ext cx="2176560" cy="7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>
                      <a:off x="8393040" y="2452320"/>
                      <a:ext cx="217440" cy="51876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 flipV="1">
                      <a:off x="8521560" y="1470960"/>
                      <a:ext cx="0" cy="9666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8521560" y="2971440"/>
                      <a:ext cx="0" cy="1115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7819200" y="2502720"/>
                      <a:ext cx="515880" cy="542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R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8593920" y="2351520"/>
                      <a:ext cx="5346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u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48" name=""/>
                    <p:cNvGrpSpPr/>
                    <p:nvPr/>
                  </p:nvGrpSpPr>
                  <p:grpSpPr>
                    <a:xfrm>
                      <a:off x="4073400" y="1386000"/>
                      <a:ext cx="4465800" cy="2882160"/>
                      <a:chOff x="4073400" y="1386000"/>
                      <a:chExt cx="4465800" cy="2882160"/>
                    </a:xfrm>
                  </p:grpSpPr>
                  <p:grpSp>
                    <p:nvGrpSpPr>
                      <p:cNvPr id="1249" name=""/>
                      <p:cNvGrpSpPr/>
                      <p:nvPr/>
                    </p:nvGrpSpPr>
                    <p:grpSpPr>
                      <a:xfrm>
                        <a:off x="6080040" y="3066840"/>
                        <a:ext cx="2459160" cy="1037520"/>
                        <a:chOff x="6080040" y="3066840"/>
                        <a:chExt cx="2459160" cy="1037520"/>
                      </a:xfrm>
                    </p:grpSpPr>
                    <p:sp>
                      <p:nvSpPr>
                        <p:cNvPr id="1250" name=""/>
                        <p:cNvSpPr/>
                        <p:nvPr/>
                      </p:nvSpPr>
                      <p:spPr>
                        <a:xfrm>
                          <a:off x="6080040" y="3296520"/>
                          <a:ext cx="5126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1" name=""/>
                        <p:cNvSpPr/>
                        <p:nvPr/>
                      </p:nvSpPr>
                      <p:spPr>
                        <a:xfrm flipH="1">
                          <a:off x="6150960" y="3280680"/>
                          <a:ext cx="211320" cy="3283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2" name=""/>
                        <p:cNvSpPr/>
                        <p:nvPr/>
                      </p:nvSpPr>
                      <p:spPr>
                        <a:xfrm>
                          <a:off x="6151320" y="3609360"/>
                          <a:ext cx="4064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3" name=""/>
                        <p:cNvSpPr/>
                        <p:nvPr/>
                      </p:nvSpPr>
                      <p:spPr>
                        <a:xfrm>
                          <a:off x="6379920" y="3296520"/>
                          <a:ext cx="169920" cy="312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4" name=""/>
                        <p:cNvSpPr/>
                        <p:nvPr/>
                      </p:nvSpPr>
                      <p:spPr>
                        <a:xfrm>
                          <a:off x="6362640" y="3066840"/>
                          <a:ext cx="0" cy="723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55" name=""/>
                        <p:cNvGrpSpPr/>
                        <p:nvPr/>
                      </p:nvGrpSpPr>
                      <p:grpSpPr>
                        <a:xfrm>
                          <a:off x="7124760" y="3296520"/>
                          <a:ext cx="514080" cy="330120"/>
                          <a:chOff x="7124760" y="3296520"/>
                          <a:chExt cx="514080" cy="330120"/>
                        </a:xfrm>
                      </p:grpSpPr>
                      <p:sp>
                        <p:nvSpPr>
                          <p:cNvPr id="1256" name=""/>
                          <p:cNvSpPr/>
                          <p:nvPr/>
                        </p:nvSpPr>
                        <p:spPr>
                          <a:xfrm>
                            <a:off x="7124760" y="3313800"/>
                            <a:ext cx="5140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7" name=""/>
                          <p:cNvSpPr/>
                          <p:nvPr/>
                        </p:nvSpPr>
                        <p:spPr>
                          <a:xfrm flipH="1">
                            <a:off x="7178400" y="3296520"/>
                            <a:ext cx="212400" cy="330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8" name=""/>
                          <p:cNvSpPr/>
                          <p:nvPr/>
                        </p:nvSpPr>
                        <p:spPr>
                          <a:xfrm>
                            <a:off x="7178400" y="3626640"/>
                            <a:ext cx="4060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9" name=""/>
                          <p:cNvSpPr/>
                          <p:nvPr/>
                        </p:nvSpPr>
                        <p:spPr>
                          <a:xfrm>
                            <a:off x="7391160" y="3313800"/>
                            <a:ext cx="168120" cy="3128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60" name=""/>
                        <p:cNvSpPr/>
                        <p:nvPr/>
                      </p:nvSpPr>
                      <p:spPr>
                        <a:xfrm>
                          <a:off x="6362640" y="3791880"/>
                          <a:ext cx="0" cy="312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1" name=""/>
                        <p:cNvSpPr/>
                        <p:nvPr/>
                      </p:nvSpPr>
                      <p:spPr>
                        <a:xfrm>
                          <a:off x="6372000" y="4087080"/>
                          <a:ext cx="21672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2" name=""/>
                        <p:cNvSpPr/>
                        <p:nvPr/>
                      </p:nvSpPr>
                      <p:spPr>
                        <a:xfrm>
                          <a:off x="6490440" y="3203280"/>
                          <a:ext cx="488880" cy="510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楷体_GB2312"/>
                            </a:rPr>
                            <a:t>D</a:t>
                          </a:r>
                          <a:r>
                            <a:rPr b="1" lang="en-US" sz="24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  <a:ea typeface="楷体_GB2312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3" name=""/>
                        <p:cNvSpPr/>
                        <p:nvPr/>
                      </p:nvSpPr>
                      <p:spPr>
                        <a:xfrm>
                          <a:off x="7579440" y="3217680"/>
                          <a:ext cx="488880" cy="510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楷体_GB2312"/>
                            </a:rPr>
                            <a:t>D</a:t>
                          </a:r>
                          <a:r>
                            <a:rPr b="1" lang="en-US" sz="24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  <a:ea typeface="楷体_GB2312"/>
                            </a:rPr>
                            <a:t>2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4" name=""/>
                      <p:cNvGrpSpPr/>
                      <p:nvPr/>
                    </p:nvGrpSpPr>
                    <p:grpSpPr>
                      <a:xfrm>
                        <a:off x="4073400" y="1386000"/>
                        <a:ext cx="3281400" cy="2882160"/>
                        <a:chOff x="4073400" y="1386000"/>
                        <a:chExt cx="3281400" cy="2882160"/>
                      </a:xfrm>
                    </p:grpSpPr>
                    <p:sp>
                      <p:nvSpPr>
                        <p:cNvPr id="1265" name=""/>
                        <p:cNvSpPr/>
                        <p:nvPr/>
                      </p:nvSpPr>
                      <p:spPr>
                        <a:xfrm flipH="1">
                          <a:off x="5943600" y="3100320"/>
                          <a:ext cx="14112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>
                          <a:off x="5943600" y="1866600"/>
                          <a:ext cx="0" cy="723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>
                          <a:off x="5943600" y="3073320"/>
                          <a:ext cx="0" cy="739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 flipH="1">
                          <a:off x="5297400" y="1866600"/>
                          <a:ext cx="65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5297400" y="3833640"/>
                          <a:ext cx="6620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 flipH="1">
                          <a:off x="5943240" y="2572920"/>
                          <a:ext cx="4251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1" name=""/>
                        <p:cNvSpPr/>
                        <p:nvPr/>
                      </p:nvSpPr>
                      <p:spPr>
                        <a:xfrm>
                          <a:off x="5222520" y="1386000"/>
                          <a:ext cx="35892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a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72" name=""/>
                        <p:cNvGrpSpPr/>
                        <p:nvPr/>
                      </p:nvGrpSpPr>
                      <p:grpSpPr>
                        <a:xfrm>
                          <a:off x="4073400" y="1821960"/>
                          <a:ext cx="2017800" cy="2446200"/>
                          <a:chOff x="4073400" y="1821960"/>
                          <a:chExt cx="2017800" cy="2446200"/>
                        </a:xfrm>
                      </p:grpSpPr>
                      <p:sp>
                        <p:nvSpPr>
                          <p:cNvPr id="1273" name=""/>
                          <p:cNvSpPr/>
                          <p:nvPr/>
                        </p:nvSpPr>
                        <p:spPr>
                          <a:xfrm>
                            <a:off x="5316480" y="1861560"/>
                            <a:ext cx="0" cy="609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74" name=""/>
                          <p:cNvSpPr/>
                          <p:nvPr/>
                        </p:nvSpPr>
                        <p:spPr>
                          <a:xfrm>
                            <a:off x="5316480" y="3164760"/>
                            <a:ext cx="0" cy="6696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75" name=""/>
                          <p:cNvGrpSpPr/>
                          <p:nvPr/>
                        </p:nvGrpSpPr>
                        <p:grpSpPr>
                          <a:xfrm>
                            <a:off x="4249440" y="1821960"/>
                            <a:ext cx="761760" cy="73800"/>
                            <a:chOff x="4249440" y="1821960"/>
                            <a:chExt cx="761760" cy="73800"/>
                          </a:xfrm>
                        </p:grpSpPr>
                        <p:sp>
                          <p:nvSpPr>
                            <p:cNvPr id="1276" name=""/>
                            <p:cNvSpPr/>
                            <p:nvPr/>
                          </p:nvSpPr>
                          <p:spPr>
                            <a:xfrm>
                              <a:off x="4329000" y="1879920"/>
                              <a:ext cx="68220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77" name=""/>
                            <p:cNvSpPr/>
                            <p:nvPr/>
                          </p:nvSpPr>
                          <p:spPr>
                            <a:xfrm flipH="1" flipV="1">
                              <a:off x="4249440" y="1821600"/>
                              <a:ext cx="74880" cy="73800"/>
                            </a:xfrm>
                            <a:prstGeom prst="ellipse">
                              <a:avLst/>
                            </a:pr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5400" bIns="54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78" name=""/>
                          <p:cNvSpPr/>
                          <p:nvPr/>
                        </p:nvSpPr>
                        <p:spPr>
                          <a:xfrm>
                            <a:off x="4073400" y="2625120"/>
                            <a:ext cx="46260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800" spc="-1" strike="noStrike">
                                <a:solidFill>
                                  <a:srgbClr val="ff0000"/>
                                </a:solidFill>
                                <a:latin typeface="Symbol"/>
                                <a:ea typeface="Symbol"/>
                              </a:rPr>
                              <a:t></a:t>
                            </a: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79" name=""/>
                          <p:cNvGrpSpPr/>
                          <p:nvPr/>
                        </p:nvGrpSpPr>
                        <p:grpSpPr>
                          <a:xfrm>
                            <a:off x="4231440" y="2396880"/>
                            <a:ext cx="834840" cy="930600"/>
                            <a:chOff x="4231440" y="2396880"/>
                            <a:chExt cx="834840" cy="930600"/>
                          </a:xfrm>
                        </p:grpSpPr>
                        <p:sp>
                          <p:nvSpPr>
                            <p:cNvPr id="1280" name=""/>
                            <p:cNvSpPr/>
                            <p:nvPr/>
                          </p:nvSpPr>
                          <p:spPr>
                            <a:xfrm rot="5400000">
                              <a:off x="4435920" y="2192400"/>
                              <a:ext cx="425880" cy="83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1" name=""/>
                            <p:cNvSpPr/>
                            <p:nvPr/>
                          </p:nvSpPr>
                          <p:spPr>
                            <a:xfrm rot="5400000">
                              <a:off x="4435920" y="2444760"/>
                              <a:ext cx="425880" cy="83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2" name=""/>
                            <p:cNvSpPr/>
                            <p:nvPr/>
                          </p:nvSpPr>
                          <p:spPr>
                            <a:xfrm rot="5400000">
                              <a:off x="4435920" y="2697120"/>
                              <a:ext cx="425880" cy="83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83" name=""/>
                          <p:cNvSpPr/>
                          <p:nvPr/>
                        </p:nvSpPr>
                        <p:spPr>
                          <a:xfrm>
                            <a:off x="4989240" y="1869480"/>
                            <a:ext cx="0" cy="626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84" name=""/>
                          <p:cNvSpPr/>
                          <p:nvPr/>
                        </p:nvSpPr>
                        <p:spPr>
                          <a:xfrm>
                            <a:off x="4989240" y="3229920"/>
                            <a:ext cx="0" cy="6141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85" name=""/>
                          <p:cNvGrpSpPr/>
                          <p:nvPr/>
                        </p:nvGrpSpPr>
                        <p:grpSpPr>
                          <a:xfrm>
                            <a:off x="4266720" y="3772800"/>
                            <a:ext cx="729000" cy="71280"/>
                            <a:chOff x="4266720" y="3772800"/>
                            <a:chExt cx="729000" cy="71280"/>
                          </a:xfrm>
                        </p:grpSpPr>
                        <p:sp>
                          <p:nvSpPr>
                            <p:cNvPr id="1286" name=""/>
                            <p:cNvSpPr/>
                            <p:nvPr/>
                          </p:nvSpPr>
                          <p:spPr>
                            <a:xfrm>
                              <a:off x="4343400" y="3828240"/>
                              <a:ext cx="65232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7" name=""/>
                            <p:cNvSpPr/>
                            <p:nvPr/>
                          </p:nvSpPr>
                          <p:spPr>
                            <a:xfrm flipH="1" flipV="1">
                              <a:off x="4266360" y="3772800"/>
                              <a:ext cx="71640" cy="71280"/>
                            </a:xfrm>
                            <a:prstGeom prst="ellipse">
                              <a:avLst/>
                            </a:pr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00" bIns="36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88" name=""/>
                          <p:cNvSpPr/>
                          <p:nvPr/>
                        </p:nvSpPr>
                        <p:spPr>
                          <a:xfrm>
                            <a:off x="5163840" y="2458440"/>
                            <a:ext cx="0" cy="761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89" name=""/>
                          <p:cNvGrpSpPr/>
                          <p:nvPr/>
                        </p:nvGrpSpPr>
                        <p:grpSpPr>
                          <a:xfrm>
                            <a:off x="5257080" y="2362680"/>
                            <a:ext cx="834120" cy="929880"/>
                            <a:chOff x="5257080" y="2362680"/>
                            <a:chExt cx="834120" cy="929880"/>
                          </a:xfrm>
                        </p:grpSpPr>
                        <p:sp>
                          <p:nvSpPr>
                            <p:cNvPr id="1290" name=""/>
                            <p:cNvSpPr/>
                            <p:nvPr/>
                          </p:nvSpPr>
                          <p:spPr>
                            <a:xfrm flipH="1" rot="16200000">
                              <a:off x="5460840" y="2158200"/>
                              <a:ext cx="425520" cy="83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1" name=""/>
                            <p:cNvSpPr/>
                            <p:nvPr/>
                          </p:nvSpPr>
                          <p:spPr>
                            <a:xfrm flipH="1" rot="16200000">
                              <a:off x="5460840" y="2410200"/>
                              <a:ext cx="425520" cy="83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2" name=""/>
                            <p:cNvSpPr/>
                            <p:nvPr/>
                          </p:nvSpPr>
                          <p:spPr>
                            <a:xfrm flipH="1" rot="16200000">
                              <a:off x="5460840" y="2662560"/>
                              <a:ext cx="425520" cy="83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3799" y="2576"/>
                                  </a:moveTo>
                                  <a:arcTo wR="10800" hR="10800" stAng="-7824396" swAng="4455715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93" name=""/>
                          <p:cNvSpPr/>
                          <p:nvPr/>
                        </p:nvSpPr>
                        <p:spPr>
                          <a:xfrm>
                            <a:off x="5334120" y="2437920"/>
                            <a:ext cx="37872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i="1" lang="en-US" sz="2800" spc="-1" strike="noStrike">
                                <a:solidFill>
                                  <a:srgbClr val="ff0000"/>
                                </a:solidFill>
                                <a:latin typeface="Times New Roman"/>
                                <a:ea typeface="楷体_GB2312"/>
                              </a:rPr>
                              <a:t>u</a:t>
                            </a: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4" name=""/>
                          <p:cNvSpPr/>
                          <p:nvPr/>
                        </p:nvSpPr>
                        <p:spPr>
                          <a:xfrm>
                            <a:off x="5300640" y="2056680"/>
                            <a:ext cx="41220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ff0000"/>
                                </a:solidFill>
                                <a:latin typeface="Times New Roman"/>
                                <a:ea typeface="楷体_GB2312"/>
                              </a:rPr>
                              <a:t>+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5" name=""/>
                          <p:cNvSpPr/>
                          <p:nvPr/>
                        </p:nvSpPr>
                        <p:spPr>
                          <a:xfrm>
                            <a:off x="5312880" y="2818800"/>
                            <a:ext cx="38484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ff0000"/>
                                </a:solidFill>
                                <a:latin typeface="Times New Roman"/>
                                <a:ea typeface="楷体_GB2312"/>
                              </a:rPr>
                              <a:t>–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6" name=""/>
                          <p:cNvSpPr/>
                          <p:nvPr/>
                        </p:nvSpPr>
                        <p:spPr>
                          <a:xfrm>
                            <a:off x="5257800" y="3747600"/>
                            <a:ext cx="37872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b</a:t>
                            </a: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sp>
            <p:nvSpPr>
              <p:cNvPr id="1297" name=""/>
              <p:cNvSpPr/>
              <p:nvPr/>
            </p:nvSpPr>
            <p:spPr>
              <a:xfrm flipV="1">
                <a:off x="7315200" y="30474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6324480" y="2514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7315200" y="4038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7315200" y="1409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1" name=""/>
          <p:cNvSpPr/>
          <p:nvPr/>
        </p:nvSpPr>
        <p:spPr>
          <a:xfrm>
            <a:off x="609480" y="5457960"/>
            <a:ext cx="815364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承受反向电压而截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"/>
          <p:cNvGrpSpPr/>
          <p:nvPr/>
        </p:nvGrpSpPr>
        <p:grpSpPr>
          <a:xfrm>
            <a:off x="4073400" y="838080"/>
            <a:ext cx="5055120" cy="3430440"/>
            <a:chOff x="4073400" y="838080"/>
            <a:chExt cx="5055120" cy="3430440"/>
          </a:xfrm>
        </p:grpSpPr>
        <p:sp>
          <p:nvSpPr>
            <p:cNvPr id="1303" name=""/>
            <p:cNvSpPr/>
            <p:nvPr/>
          </p:nvSpPr>
          <p:spPr>
            <a:xfrm>
              <a:off x="7467480" y="13716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07520" y="83808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586720" y="214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  <a:ea typeface="楷体_GB2312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534520" y="3094920"/>
              <a:ext cx="43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  <a:ea typeface="楷体_GB2312"/>
                </a:rPr>
                <a:t>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569440" y="191988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567640" y="281844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372440" y="2487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62640" y="257508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62640" y="1447920"/>
              <a:ext cx="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7372440" y="145728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79280" y="18079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80040" y="2081160"/>
              <a:ext cx="51300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6151680" y="2063880"/>
              <a:ext cx="210960" cy="3301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151680" y="2394000"/>
              <a:ext cx="40644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80280" y="2081160"/>
              <a:ext cx="169920" cy="31284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62640" y="1851120"/>
              <a:ext cx="0" cy="72396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553080" y="1796760"/>
              <a:ext cx="322200" cy="96840"/>
              <a:chOff x="6553080" y="1796760"/>
              <a:chExt cx="322200" cy="9684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778440" y="1796400"/>
                <a:ext cx="96840" cy="96840"/>
              </a:xfrm>
              <a:prstGeom prst="ellipse">
                <a:avLst/>
              </a:prstGeom>
              <a:noFill/>
              <a:ln w="2844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553080" y="1863720"/>
                <a:ext cx="228600" cy="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 flipV="1">
              <a:off x="6324480" y="1828440"/>
              <a:ext cx="228600" cy="3049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547040" y="18050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086600" y="2046240"/>
              <a:ext cx="51264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7157520" y="2028960"/>
              <a:ext cx="211320" cy="3301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157880" y="2359080"/>
              <a:ext cx="40644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86480" y="2046240"/>
              <a:ext cx="169920" cy="31284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9200" y="1816200"/>
              <a:ext cx="0" cy="72396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9" name=""/>
            <p:cNvGrpSpPr/>
            <p:nvPr/>
          </p:nvGrpSpPr>
          <p:grpSpPr>
            <a:xfrm>
              <a:off x="7315200" y="1787040"/>
              <a:ext cx="550800" cy="336600"/>
              <a:chOff x="7315200" y="1787040"/>
              <a:chExt cx="550800" cy="336600"/>
            </a:xfrm>
          </p:grpSpPr>
          <p:grpSp>
            <p:nvGrpSpPr>
              <p:cNvPr id="1330" name=""/>
              <p:cNvGrpSpPr/>
              <p:nvPr/>
            </p:nvGrpSpPr>
            <p:grpSpPr>
              <a:xfrm>
                <a:off x="7543800" y="1787040"/>
                <a:ext cx="322200" cy="96840"/>
                <a:chOff x="7543800" y="1787040"/>
                <a:chExt cx="322200" cy="96840"/>
              </a:xfrm>
            </p:grpSpPr>
            <p:sp>
              <p:nvSpPr>
                <p:cNvPr id="1331" name=""/>
                <p:cNvSpPr/>
                <p:nvPr/>
              </p:nvSpPr>
              <p:spPr>
                <a:xfrm flipV="1">
                  <a:off x="7769160" y="1786680"/>
                  <a:ext cx="96840" cy="96840"/>
                </a:xfrm>
                <a:prstGeom prst="ellipse">
                  <a:avLst/>
                </a:prstGeom>
                <a:noFill/>
                <a:ln w="2844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543800" y="1854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V="1">
                <a:off x="7315200" y="1818720"/>
                <a:ext cx="228600" cy="30492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4" name=""/>
            <p:cNvSpPr/>
            <p:nvPr/>
          </p:nvSpPr>
          <p:spPr>
            <a:xfrm flipV="1">
              <a:off x="6362640" y="1463760"/>
              <a:ext cx="217656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393040" y="2452680"/>
              <a:ext cx="217440" cy="519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8521560" y="1471320"/>
              <a:ext cx="0" cy="96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521560" y="2971800"/>
              <a:ext cx="0" cy="11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819200" y="2503080"/>
              <a:ext cx="51588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593920" y="2351880"/>
              <a:ext cx="53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6080040" y="3067200"/>
              <a:ext cx="2459160" cy="1038240"/>
              <a:chOff x="6080040" y="3067200"/>
              <a:chExt cx="2459160" cy="1038240"/>
            </a:xfrm>
          </p:grpSpPr>
          <p:sp>
            <p:nvSpPr>
              <p:cNvPr id="1341" name=""/>
              <p:cNvSpPr/>
              <p:nvPr/>
            </p:nvSpPr>
            <p:spPr>
              <a:xfrm>
                <a:off x="6080040" y="3297240"/>
                <a:ext cx="51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150960" y="3281400"/>
                <a:ext cx="211320" cy="32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51320" y="3610080"/>
                <a:ext cx="406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379920" y="3297240"/>
                <a:ext cx="169920" cy="31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362640" y="3067200"/>
                <a:ext cx="0" cy="72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6" name=""/>
              <p:cNvGrpSpPr/>
              <p:nvPr/>
            </p:nvGrpSpPr>
            <p:grpSpPr>
              <a:xfrm>
                <a:off x="7124760" y="3297240"/>
                <a:ext cx="514080" cy="330120"/>
                <a:chOff x="7124760" y="3297240"/>
                <a:chExt cx="514080" cy="33012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7124760" y="3314520"/>
                  <a:ext cx="514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>
                  <a:off x="7178400" y="3297240"/>
                  <a:ext cx="212400" cy="33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7178400" y="3627360"/>
                  <a:ext cx="406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391160" y="3314520"/>
                  <a:ext cx="168120" cy="31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>
                <a:off x="6362640" y="3792600"/>
                <a:ext cx="0" cy="31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372000" y="4087800"/>
                <a:ext cx="216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490440" y="320436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579440" y="321876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 flipH="1">
              <a:off x="5943600" y="3100320"/>
              <a:ext cx="14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43600" y="1866960"/>
              <a:ext cx="0" cy="7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43600" y="3108240"/>
              <a:ext cx="0" cy="7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5297400" y="1866960"/>
              <a:ext cx="6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297400" y="3833640"/>
              <a:ext cx="66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943600" y="257328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222880" y="13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73400" y="1822320"/>
              <a:ext cx="2017800" cy="2446200"/>
              <a:chOff x="4073400" y="1822320"/>
              <a:chExt cx="2017800" cy="2446200"/>
            </a:xfrm>
          </p:grpSpPr>
          <p:sp>
            <p:nvSpPr>
              <p:cNvPr id="1363" name=""/>
              <p:cNvSpPr/>
              <p:nvPr/>
            </p:nvSpPr>
            <p:spPr>
              <a:xfrm>
                <a:off x="5316480" y="18619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316480" y="3165120"/>
                <a:ext cx="0" cy="66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5" name=""/>
              <p:cNvGrpSpPr/>
              <p:nvPr/>
            </p:nvGrpSpPr>
            <p:grpSpPr>
              <a:xfrm>
                <a:off x="4249440" y="1822320"/>
                <a:ext cx="761760" cy="74160"/>
                <a:chOff x="4249440" y="1822320"/>
                <a:chExt cx="761760" cy="7416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4329000" y="1879920"/>
                  <a:ext cx="682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H="1" flipV="1">
                  <a:off x="4249440" y="1822320"/>
                  <a:ext cx="74880" cy="74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8" name=""/>
              <p:cNvSpPr/>
              <p:nvPr/>
            </p:nvSpPr>
            <p:spPr>
              <a:xfrm>
                <a:off x="4073400" y="26254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4231440" y="2397240"/>
                <a:ext cx="834840" cy="930600"/>
                <a:chOff x="4231440" y="2397240"/>
                <a:chExt cx="834840" cy="930600"/>
              </a:xfrm>
            </p:grpSpPr>
            <p:sp>
              <p:nvSpPr>
                <p:cNvPr id="1370" name=""/>
                <p:cNvSpPr/>
                <p:nvPr/>
              </p:nvSpPr>
              <p:spPr>
                <a:xfrm rot="5400000">
                  <a:off x="4435920" y="2192760"/>
                  <a:ext cx="425880" cy="83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rot="5400000">
                  <a:off x="4435920" y="2445120"/>
                  <a:ext cx="425880" cy="83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rot="5400000">
                  <a:off x="4435920" y="2697480"/>
                  <a:ext cx="425880" cy="83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3" name=""/>
              <p:cNvSpPr/>
              <p:nvPr/>
            </p:nvSpPr>
            <p:spPr>
              <a:xfrm>
                <a:off x="4989240" y="1869840"/>
                <a:ext cx="0" cy="627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989240" y="3230280"/>
                <a:ext cx="0" cy="61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5" name=""/>
              <p:cNvGrpSpPr/>
              <p:nvPr/>
            </p:nvGrpSpPr>
            <p:grpSpPr>
              <a:xfrm>
                <a:off x="4266720" y="3773160"/>
                <a:ext cx="729000" cy="71280"/>
                <a:chOff x="4266720" y="3773160"/>
                <a:chExt cx="729000" cy="7128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343400" y="3828600"/>
                  <a:ext cx="65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H="1" flipV="1">
                  <a:off x="4266360" y="3773160"/>
                  <a:ext cx="71640" cy="71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5163840" y="24588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9" name=""/>
              <p:cNvGrpSpPr/>
              <p:nvPr/>
            </p:nvGrpSpPr>
            <p:grpSpPr>
              <a:xfrm>
                <a:off x="5257080" y="2364120"/>
                <a:ext cx="834120" cy="930600"/>
                <a:chOff x="5257080" y="2364120"/>
                <a:chExt cx="834120" cy="930600"/>
              </a:xfrm>
            </p:grpSpPr>
            <p:sp>
              <p:nvSpPr>
                <p:cNvPr id="1380" name=""/>
                <p:cNvSpPr/>
                <p:nvPr/>
              </p:nvSpPr>
              <p:spPr>
                <a:xfrm flipH="1" rot="16200000">
                  <a:off x="5460840" y="2160000"/>
                  <a:ext cx="425880" cy="83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H="1" rot="16200000">
                  <a:off x="5460840" y="2412360"/>
                  <a:ext cx="425880" cy="83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 rot="16200000">
                  <a:off x="5460840" y="2664720"/>
                  <a:ext cx="425880" cy="83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"/>
              <p:cNvSpPr/>
              <p:nvPr/>
            </p:nvSpPr>
            <p:spPr>
              <a:xfrm>
                <a:off x="5334120" y="2438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300640" y="20570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312880" y="28191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257800" y="37479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7" name=""/>
          <p:cNvGrpSpPr/>
          <p:nvPr/>
        </p:nvGrpSpPr>
        <p:grpSpPr>
          <a:xfrm>
            <a:off x="5568840" y="1601640"/>
            <a:ext cx="2717640" cy="2058840"/>
            <a:chOff x="5568840" y="1601640"/>
            <a:chExt cx="2717640" cy="2058840"/>
          </a:xfrm>
        </p:grpSpPr>
        <p:sp>
          <p:nvSpPr>
            <p:cNvPr id="1388" name=""/>
            <p:cNvSpPr/>
            <p:nvPr/>
          </p:nvSpPr>
          <p:spPr>
            <a:xfrm flipH="1">
              <a:off x="7514280" y="1601640"/>
              <a:ext cx="369720" cy="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9" name=""/>
            <p:cNvGrpSpPr/>
            <p:nvPr/>
          </p:nvGrpSpPr>
          <p:grpSpPr>
            <a:xfrm>
              <a:off x="5568840" y="1601640"/>
              <a:ext cx="2717640" cy="2058840"/>
              <a:chOff x="5568840" y="1601640"/>
              <a:chExt cx="2717640" cy="2058840"/>
            </a:xfrm>
          </p:grpSpPr>
          <p:sp>
            <p:nvSpPr>
              <p:cNvPr id="1390" name=""/>
              <p:cNvSpPr/>
              <p:nvPr/>
            </p:nvSpPr>
            <p:spPr>
              <a:xfrm flipH="1" flipV="1">
                <a:off x="7884720" y="1601640"/>
                <a:ext cx="401760" cy="1584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530840" y="1649880"/>
                <a:ext cx="0" cy="86868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2" name=""/>
              <p:cNvGrpSpPr/>
              <p:nvPr/>
            </p:nvGrpSpPr>
            <p:grpSpPr>
              <a:xfrm>
                <a:off x="5874480" y="2470320"/>
                <a:ext cx="1688040" cy="482400"/>
                <a:chOff x="5874480" y="2470320"/>
                <a:chExt cx="1688040" cy="48240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5874480" y="2936520"/>
                  <a:ext cx="2566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204960" y="2952720"/>
                  <a:ext cx="67896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6920280" y="2936520"/>
                  <a:ext cx="64224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>
                  <a:off x="7526160" y="2470320"/>
                  <a:ext cx="4320" cy="4500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568840" y="3033360"/>
                <a:ext cx="192960" cy="627120"/>
                <a:chOff x="5568840" y="3033360"/>
                <a:chExt cx="192960" cy="62712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5568840" y="3660480"/>
                  <a:ext cx="1285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5761800" y="3033360"/>
                  <a:ext cx="0" cy="610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00" name=""/>
          <p:cNvGrpSpPr/>
          <p:nvPr/>
        </p:nvGrpSpPr>
        <p:grpSpPr>
          <a:xfrm>
            <a:off x="6222600" y="1614600"/>
            <a:ext cx="2158920" cy="2576160"/>
            <a:chOff x="6222600" y="1614600"/>
            <a:chExt cx="2158920" cy="2576160"/>
          </a:xfrm>
        </p:grpSpPr>
        <p:sp>
          <p:nvSpPr>
            <p:cNvPr id="1401" name=""/>
            <p:cNvSpPr/>
            <p:nvPr/>
          </p:nvSpPr>
          <p:spPr>
            <a:xfrm>
              <a:off x="8375040" y="1614600"/>
              <a:ext cx="6480" cy="93564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2" name=""/>
            <p:cNvGrpSpPr/>
            <p:nvPr/>
          </p:nvGrpSpPr>
          <p:grpSpPr>
            <a:xfrm>
              <a:off x="6222600" y="4177440"/>
              <a:ext cx="2138400" cy="10440"/>
              <a:chOff x="6222600" y="4177440"/>
              <a:chExt cx="2138400" cy="10440"/>
            </a:xfrm>
          </p:grpSpPr>
          <p:sp>
            <p:nvSpPr>
              <p:cNvPr id="1403" name=""/>
              <p:cNvSpPr/>
              <p:nvPr/>
            </p:nvSpPr>
            <p:spPr>
              <a:xfrm>
                <a:off x="6995880" y="4177440"/>
                <a:ext cx="13651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6222600" y="4187880"/>
                <a:ext cx="657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8353440" y="2633040"/>
              <a:ext cx="6480" cy="155772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5491080" y="1982520"/>
            <a:ext cx="715680" cy="2173680"/>
            <a:chOff x="5491080" y="1982520"/>
            <a:chExt cx="715680" cy="2173680"/>
          </a:xfrm>
        </p:grpSpPr>
        <p:grpSp>
          <p:nvGrpSpPr>
            <p:cNvPr id="1407" name=""/>
            <p:cNvGrpSpPr/>
            <p:nvPr/>
          </p:nvGrpSpPr>
          <p:grpSpPr>
            <a:xfrm>
              <a:off x="5908680" y="2657880"/>
              <a:ext cx="298080" cy="1498320"/>
              <a:chOff x="5908680" y="2657880"/>
              <a:chExt cx="298080" cy="1498320"/>
            </a:xfrm>
          </p:grpSpPr>
          <p:sp>
            <p:nvSpPr>
              <p:cNvPr id="1408" name=""/>
              <p:cNvSpPr/>
              <p:nvPr/>
            </p:nvSpPr>
            <p:spPr>
              <a:xfrm>
                <a:off x="6206760" y="2657880"/>
                <a:ext cx="0" cy="21960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9" name=""/>
              <p:cNvGrpSpPr/>
              <p:nvPr/>
            </p:nvGrpSpPr>
            <p:grpSpPr>
              <a:xfrm>
                <a:off x="5908680" y="2657880"/>
                <a:ext cx="297720" cy="1498320"/>
                <a:chOff x="5908680" y="2657880"/>
                <a:chExt cx="297720" cy="1498320"/>
              </a:xfrm>
            </p:grpSpPr>
            <p:sp>
              <p:nvSpPr>
                <p:cNvPr id="1410" name=""/>
                <p:cNvSpPr/>
                <p:nvPr/>
              </p:nvSpPr>
              <p:spPr>
                <a:xfrm flipV="1">
                  <a:off x="6191640" y="2857320"/>
                  <a:ext cx="0" cy="12988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>
                  <a:off x="5908680" y="2657880"/>
                  <a:ext cx="297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2" name=""/>
            <p:cNvGrpSpPr/>
            <p:nvPr/>
          </p:nvGrpSpPr>
          <p:grpSpPr>
            <a:xfrm>
              <a:off x="5491080" y="1982520"/>
              <a:ext cx="305640" cy="578520"/>
              <a:chOff x="5491080" y="1982520"/>
              <a:chExt cx="305640" cy="578520"/>
            </a:xfrm>
          </p:grpSpPr>
          <p:sp>
            <p:nvSpPr>
              <p:cNvPr id="1413" name=""/>
              <p:cNvSpPr/>
              <p:nvPr/>
            </p:nvSpPr>
            <p:spPr>
              <a:xfrm flipV="1">
                <a:off x="5796720" y="1982520"/>
                <a:ext cx="0" cy="57852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5491080" y="1982880"/>
                <a:ext cx="2088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5" name=""/>
          <p:cNvSpPr/>
          <p:nvPr/>
        </p:nvSpPr>
        <p:spPr>
          <a:xfrm>
            <a:off x="533520" y="1790280"/>
            <a:ext cx="380988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受正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极加触发电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的通路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910800" y="1362240"/>
            <a:ext cx="263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压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负半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09840" y="419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2087640" y="4160880"/>
            <a:ext cx="1175400" cy="579600"/>
            <a:chOff x="2087640" y="4160880"/>
            <a:chExt cx="1175400" cy="579600"/>
          </a:xfrm>
        </p:grpSpPr>
        <p:sp>
          <p:nvSpPr>
            <p:cNvPr id="1419" name=""/>
            <p:cNvSpPr/>
            <p:nvPr/>
          </p:nvSpPr>
          <p:spPr>
            <a:xfrm>
              <a:off x="2709000" y="416088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087640" y="4405680"/>
              <a:ext cx="625320" cy="210960"/>
            </a:xfrm>
            <a:prstGeom prst="rightArrow">
              <a:avLst>
                <a:gd name="adj1" fmla="val 50000"/>
                <a:gd name="adj2" fmla="val 74104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3198960" y="4160880"/>
            <a:ext cx="1160640" cy="579600"/>
            <a:chOff x="3198960" y="4160880"/>
            <a:chExt cx="1160640" cy="579600"/>
          </a:xfrm>
        </p:grpSpPr>
        <p:sp>
          <p:nvSpPr>
            <p:cNvPr id="1422" name=""/>
            <p:cNvSpPr/>
            <p:nvPr/>
          </p:nvSpPr>
          <p:spPr>
            <a:xfrm>
              <a:off x="3819240" y="41608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198960" y="4405680"/>
              <a:ext cx="625320" cy="210960"/>
            </a:xfrm>
            <a:prstGeom prst="rightArrow">
              <a:avLst>
                <a:gd name="adj1" fmla="val 50000"/>
                <a:gd name="adj2" fmla="val 74104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988920" y="4160880"/>
            <a:ext cx="1134360" cy="579600"/>
            <a:chOff x="988920" y="4160880"/>
            <a:chExt cx="1134360" cy="579600"/>
          </a:xfrm>
        </p:grpSpPr>
        <p:sp>
          <p:nvSpPr>
            <p:cNvPr id="1425" name=""/>
            <p:cNvSpPr/>
            <p:nvPr/>
          </p:nvSpPr>
          <p:spPr>
            <a:xfrm>
              <a:off x="1602720" y="4160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988920" y="4405680"/>
              <a:ext cx="625680" cy="210960"/>
            </a:xfrm>
            <a:prstGeom prst="rightArrow">
              <a:avLst>
                <a:gd name="adj1" fmla="val 50000"/>
                <a:gd name="adj2" fmla="val 74147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4417920" y="4190400"/>
            <a:ext cx="979560" cy="520560"/>
            <a:chOff x="4417920" y="4190400"/>
            <a:chExt cx="979560" cy="520560"/>
          </a:xfrm>
        </p:grpSpPr>
        <p:sp>
          <p:nvSpPr>
            <p:cNvPr id="1428" name=""/>
            <p:cNvSpPr/>
            <p:nvPr/>
          </p:nvSpPr>
          <p:spPr>
            <a:xfrm>
              <a:off x="503856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17920" y="4405680"/>
              <a:ext cx="625680" cy="210960"/>
            </a:xfrm>
            <a:prstGeom prst="rightArrow">
              <a:avLst>
                <a:gd name="adj1" fmla="val 50000"/>
                <a:gd name="adj2" fmla="val 74147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4910040"/>
            <a:ext cx="815364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承受反向电压而截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"/>
          <p:cNvGrpSpPr/>
          <p:nvPr/>
        </p:nvGrpSpPr>
        <p:grpSpPr>
          <a:xfrm>
            <a:off x="1712880" y="3232080"/>
            <a:ext cx="6897240" cy="1346040"/>
            <a:chOff x="1712880" y="3232080"/>
            <a:chExt cx="6897240" cy="1346040"/>
          </a:xfrm>
        </p:grpSpPr>
        <p:sp>
          <p:nvSpPr>
            <p:cNvPr id="1432" name=""/>
            <p:cNvSpPr/>
            <p:nvPr/>
          </p:nvSpPr>
          <p:spPr>
            <a:xfrm>
              <a:off x="7680960" y="40575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3" name=""/>
                <p:cNvSpPr txBox="1"/>
                <p:nvPr/>
              </p:nvSpPr>
              <p:spPr>
                <a:xfrm>
                  <a:off x="1712880" y="3232080"/>
                  <a:ext cx="55440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4" name=""/>
            <p:cNvSpPr/>
            <p:nvPr/>
          </p:nvSpPr>
          <p:spPr>
            <a:xfrm>
              <a:off x="2235240" y="4350960"/>
              <a:ext cx="548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2235240" y="34016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1830600" y="801720"/>
            <a:ext cx="6814080" cy="1452960"/>
            <a:chOff x="1830600" y="801720"/>
            <a:chExt cx="6814080" cy="1452960"/>
          </a:xfrm>
        </p:grpSpPr>
        <p:sp>
          <p:nvSpPr>
            <p:cNvPr id="1437" name=""/>
            <p:cNvSpPr/>
            <p:nvPr/>
          </p:nvSpPr>
          <p:spPr>
            <a:xfrm>
              <a:off x="3207960" y="1673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87280" y="1671480"/>
              <a:ext cx="18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1830600" y="801720"/>
              <a:ext cx="6814080" cy="1223640"/>
              <a:chOff x="1830600" y="801720"/>
              <a:chExt cx="6814080" cy="1223640"/>
            </a:xfrm>
          </p:grpSpPr>
          <p:sp>
            <p:nvSpPr>
              <p:cNvPr id="1440" name=""/>
              <p:cNvSpPr/>
              <p:nvPr/>
            </p:nvSpPr>
            <p:spPr>
              <a:xfrm>
                <a:off x="7715520" y="1504800"/>
                <a:ext cx="92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41" name=""/>
                  <p:cNvSpPr txBox="1"/>
                  <p:nvPr/>
                </p:nvSpPr>
                <p:spPr>
                  <a:xfrm>
                    <a:off x="1862280" y="801720"/>
                    <a:ext cx="369360" cy="38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42" name=""/>
              <p:cNvSpPr/>
              <p:nvPr/>
            </p:nvSpPr>
            <p:spPr>
              <a:xfrm>
                <a:off x="2270160" y="1798560"/>
                <a:ext cx="548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2270160" y="84924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830600" y="1535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5" name=""/>
          <p:cNvGrpSpPr/>
          <p:nvPr/>
        </p:nvGrpSpPr>
        <p:grpSpPr>
          <a:xfrm>
            <a:off x="1600200" y="4343400"/>
            <a:ext cx="7010280" cy="1981080"/>
            <a:chOff x="1600200" y="4343400"/>
            <a:chExt cx="7010280" cy="1981080"/>
          </a:xfrm>
        </p:grpSpPr>
        <p:sp>
          <p:nvSpPr>
            <p:cNvPr id="1446" name=""/>
            <p:cNvSpPr/>
            <p:nvPr/>
          </p:nvSpPr>
          <p:spPr>
            <a:xfrm>
              <a:off x="7682040" y="5218200"/>
              <a:ext cx="9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7" name=""/>
                <p:cNvSpPr txBox="1"/>
                <p:nvPr/>
              </p:nvSpPr>
              <p:spPr>
                <a:xfrm>
                  <a:off x="1600200" y="4343400"/>
                  <a:ext cx="66528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48" name=""/>
            <p:cNvSpPr/>
            <p:nvPr/>
          </p:nvSpPr>
          <p:spPr>
            <a:xfrm>
              <a:off x="2235240" y="5511960"/>
              <a:ext cx="548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235240" y="45622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96040" y="5248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235240" y="54864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2249640" y="1239480"/>
            <a:ext cx="4913280" cy="1049760"/>
            <a:chOff x="2249640" y="1239480"/>
            <a:chExt cx="4913280" cy="1049760"/>
          </a:xfrm>
        </p:grpSpPr>
        <p:sp>
          <p:nvSpPr>
            <p:cNvPr id="1453" name=""/>
            <p:cNvSpPr/>
            <p:nvPr/>
          </p:nvSpPr>
          <p:spPr>
            <a:xfrm flipV="1">
              <a:off x="2249640" y="1277280"/>
              <a:ext cx="1241640" cy="50652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489480" y="1782000"/>
              <a:ext cx="1187640" cy="50652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4697640" y="1239120"/>
              <a:ext cx="1298520" cy="54468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5994720" y="1801800"/>
              <a:ext cx="1168200" cy="48744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666880" y="1316160"/>
            <a:ext cx="4495680" cy="4228920"/>
            <a:chOff x="2666880" y="1316160"/>
            <a:chExt cx="4495680" cy="4228920"/>
          </a:xfrm>
        </p:grpSpPr>
        <p:sp>
          <p:nvSpPr>
            <p:cNvPr id="1458" name=""/>
            <p:cNvSpPr/>
            <p:nvPr/>
          </p:nvSpPr>
          <p:spPr>
            <a:xfrm>
              <a:off x="2666880" y="1411200"/>
              <a:ext cx="0" cy="405792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124240" y="1316160"/>
              <a:ext cx="0" cy="41720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3447360" y="1792440"/>
              <a:ext cx="19080" cy="367668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724280" y="1830600"/>
              <a:ext cx="0" cy="365760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81400" y="1754280"/>
              <a:ext cx="0" cy="377172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162560" y="1792440"/>
              <a:ext cx="0" cy="37526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828960" y="2173320"/>
              <a:ext cx="0" cy="32576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343560" y="2249640"/>
              <a:ext cx="0" cy="321948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1125000" y="33408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2176560" y="4952880"/>
            <a:ext cx="5024520" cy="1176120"/>
            <a:chOff x="2176560" y="4952880"/>
            <a:chExt cx="5024520" cy="1176120"/>
          </a:xfrm>
        </p:grpSpPr>
        <p:sp>
          <p:nvSpPr>
            <p:cNvPr id="1468" name=""/>
            <p:cNvSpPr/>
            <p:nvPr/>
          </p:nvSpPr>
          <p:spPr>
            <a:xfrm rot="18761400">
              <a:off x="2091600" y="5234400"/>
              <a:ext cx="698400" cy="7488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005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rot="18761400">
              <a:off x="4585320" y="5232960"/>
              <a:ext cx="703080" cy="9216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005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66880" y="4952880"/>
              <a:ext cx="0" cy="5731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647800" y="5522760"/>
              <a:ext cx="121932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3848040" y="5519880"/>
              <a:ext cx="895320" cy="609120"/>
              <a:chOff x="3848040" y="5519880"/>
              <a:chExt cx="895320" cy="609120"/>
            </a:xfrm>
          </p:grpSpPr>
          <p:sp>
            <p:nvSpPr>
              <p:cNvPr id="1473" name=""/>
              <p:cNvSpPr/>
              <p:nvPr/>
            </p:nvSpPr>
            <p:spPr>
              <a:xfrm flipV="1">
                <a:off x="3848040" y="5544360"/>
                <a:ext cx="895320" cy="58428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848040" y="5519880"/>
                <a:ext cx="0" cy="51444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6362640" y="5487840"/>
              <a:ext cx="838440" cy="590040"/>
              <a:chOff x="6362640" y="5487840"/>
              <a:chExt cx="838440" cy="590040"/>
            </a:xfrm>
          </p:grpSpPr>
          <p:sp>
            <p:nvSpPr>
              <p:cNvPr id="1476" name=""/>
              <p:cNvSpPr/>
              <p:nvPr/>
            </p:nvSpPr>
            <p:spPr>
              <a:xfrm flipV="1">
                <a:off x="6362640" y="5511240"/>
                <a:ext cx="838440" cy="56628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362640" y="5487840"/>
                <a:ext cx="0" cy="49860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"/>
            <p:cNvSpPr/>
            <p:nvPr/>
          </p:nvSpPr>
          <p:spPr>
            <a:xfrm>
              <a:off x="5105520" y="5519880"/>
              <a:ext cx="129528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105520" y="5029200"/>
              <a:ext cx="0" cy="5335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2244600" y="3759120"/>
            <a:ext cx="4898880" cy="590760"/>
            <a:chOff x="2244600" y="3759120"/>
            <a:chExt cx="4898880" cy="590760"/>
          </a:xfrm>
        </p:grpSpPr>
        <p:sp>
          <p:nvSpPr>
            <p:cNvPr id="1481" name=""/>
            <p:cNvSpPr/>
            <p:nvPr/>
          </p:nvSpPr>
          <p:spPr>
            <a:xfrm>
              <a:off x="2647800" y="3797280"/>
              <a:ext cx="819360" cy="54612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66880" y="3924360"/>
              <a:ext cx="0" cy="4190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5124600" y="3759120"/>
              <a:ext cx="856800" cy="564840"/>
              <a:chOff x="5124600" y="3759120"/>
              <a:chExt cx="856800" cy="564840"/>
            </a:xfrm>
          </p:grpSpPr>
          <p:sp>
            <p:nvSpPr>
              <p:cNvPr id="1484" name=""/>
              <p:cNvSpPr/>
              <p:nvPr/>
            </p:nvSpPr>
            <p:spPr>
              <a:xfrm>
                <a:off x="5124600" y="3759120"/>
                <a:ext cx="856800" cy="56484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124600" y="3890520"/>
                <a:ext cx="0" cy="4334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2244600" y="4324320"/>
              <a:ext cx="4381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848040" y="3797280"/>
              <a:ext cx="857160" cy="54612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848040" y="3924360"/>
              <a:ext cx="0" cy="4190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9" name=""/>
            <p:cNvGrpSpPr/>
            <p:nvPr/>
          </p:nvGrpSpPr>
          <p:grpSpPr>
            <a:xfrm>
              <a:off x="6324480" y="3803760"/>
              <a:ext cx="819000" cy="546120"/>
              <a:chOff x="6324480" y="3803760"/>
              <a:chExt cx="819000" cy="546120"/>
            </a:xfrm>
          </p:grpSpPr>
          <p:sp>
            <p:nvSpPr>
              <p:cNvPr id="1490" name=""/>
              <p:cNvSpPr/>
              <p:nvPr/>
            </p:nvSpPr>
            <p:spPr>
              <a:xfrm>
                <a:off x="6324480" y="3803760"/>
                <a:ext cx="819000" cy="54612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324480" y="3930840"/>
                <a:ext cx="0" cy="419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2" name=""/>
            <p:cNvSpPr/>
            <p:nvPr/>
          </p:nvSpPr>
          <p:spPr>
            <a:xfrm>
              <a:off x="3429000" y="4343400"/>
              <a:ext cx="457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724280" y="4343400"/>
              <a:ext cx="457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43600" y="4343400"/>
              <a:ext cx="457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2286000" y="2472120"/>
            <a:ext cx="4911840" cy="728640"/>
            <a:chOff x="2286000" y="2472120"/>
            <a:chExt cx="4911840" cy="728640"/>
          </a:xfrm>
        </p:grpSpPr>
        <p:grpSp>
          <p:nvGrpSpPr>
            <p:cNvPr id="1496" name=""/>
            <p:cNvGrpSpPr/>
            <p:nvPr/>
          </p:nvGrpSpPr>
          <p:grpSpPr>
            <a:xfrm>
              <a:off x="2490120" y="2491920"/>
              <a:ext cx="538920" cy="679320"/>
              <a:chOff x="2490120" y="2491920"/>
              <a:chExt cx="538920" cy="679320"/>
            </a:xfrm>
          </p:grpSpPr>
          <p:sp>
            <p:nvSpPr>
              <p:cNvPr id="1497" name=""/>
              <p:cNvSpPr/>
              <p:nvPr/>
            </p:nvSpPr>
            <p:spPr>
              <a:xfrm>
                <a:off x="2654280" y="2512440"/>
                <a:ext cx="0" cy="65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 rot="8797800">
                <a:off x="2661840" y="2488320"/>
                <a:ext cx="194040" cy="6858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9" name=""/>
            <p:cNvSpPr/>
            <p:nvPr/>
          </p:nvSpPr>
          <p:spPr>
            <a:xfrm>
              <a:off x="5124600" y="2538360"/>
              <a:ext cx="0" cy="64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rot="8797800">
              <a:off x="5179680" y="2540160"/>
              <a:ext cx="166680" cy="661680"/>
            </a:xfrm>
            <a:custGeom>
              <a:avLst/>
              <a:gdLst/>
              <a:ahLst/>
              <a:rect l="l" t="t" r="r" b="b"/>
              <a:pathLst>
                <a:path w="152" h="432">
                  <a:moveTo>
                    <a:pt x="32" y="0"/>
                  </a:moveTo>
                  <a:cubicBezTo>
                    <a:pt x="16" y="72"/>
                    <a:pt x="0" y="144"/>
                    <a:pt x="20" y="216"/>
                  </a:cubicBezTo>
                  <a:cubicBezTo>
                    <a:pt x="40" y="288"/>
                    <a:pt x="134" y="400"/>
                    <a:pt x="152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86000" y="31449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3661920" y="2472120"/>
              <a:ext cx="545760" cy="689760"/>
              <a:chOff x="3661920" y="2472120"/>
              <a:chExt cx="545760" cy="6897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828960" y="2492280"/>
                <a:ext cx="0" cy="668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rot="8797800">
                <a:off x="3837600" y="2467800"/>
                <a:ext cx="194040" cy="69804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>
              <a:off x="2889360" y="3144960"/>
              <a:ext cx="939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057560" y="3144960"/>
              <a:ext cx="10731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24480" y="2525760"/>
              <a:ext cx="12960" cy="64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 rot="8797800">
              <a:off x="6370200" y="2536560"/>
              <a:ext cx="169920" cy="672840"/>
            </a:xfrm>
            <a:custGeom>
              <a:avLst/>
              <a:gdLst/>
              <a:ahLst/>
              <a:rect l="l" t="t" r="r" b="b"/>
              <a:pathLst>
                <a:path w="152" h="432">
                  <a:moveTo>
                    <a:pt x="32" y="0"/>
                  </a:moveTo>
                  <a:cubicBezTo>
                    <a:pt x="16" y="72"/>
                    <a:pt x="0" y="144"/>
                    <a:pt x="20" y="216"/>
                  </a:cubicBezTo>
                  <a:cubicBezTo>
                    <a:pt x="40" y="288"/>
                    <a:pt x="134" y="400"/>
                    <a:pt x="152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410080" y="3162240"/>
              <a:ext cx="9972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588000" y="316224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4673520" y="167652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>
            <a:hlinkClick r:id="rId1"/>
          </p:cNvPr>
          <p:cNvSpPr/>
          <p:nvPr/>
        </p:nvSpPr>
        <p:spPr>
          <a:xfrm>
            <a:off x="685800" y="4419720"/>
            <a:ext cx="69048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1730520" y="2021040"/>
            <a:ext cx="6879960" cy="1363320"/>
            <a:chOff x="1730520" y="2021040"/>
            <a:chExt cx="6879960" cy="1363320"/>
          </a:xfrm>
        </p:grpSpPr>
        <p:sp>
          <p:nvSpPr>
            <p:cNvPr id="1514" name=""/>
            <p:cNvSpPr/>
            <p:nvPr/>
          </p:nvSpPr>
          <p:spPr>
            <a:xfrm>
              <a:off x="7682040" y="2863800"/>
              <a:ext cx="9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5" name=""/>
                <p:cNvSpPr txBox="1"/>
                <p:nvPr/>
              </p:nvSpPr>
              <p:spPr>
                <a:xfrm>
                  <a:off x="1730520" y="2021040"/>
                  <a:ext cx="51732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16" name=""/>
            <p:cNvSpPr/>
            <p:nvPr/>
          </p:nvSpPr>
          <p:spPr>
            <a:xfrm>
              <a:off x="2235240" y="3157560"/>
              <a:ext cx="548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2235240" y="22082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796040" y="2894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/>
          <p:nvPr/>
        </p:nvSpPr>
        <p:spPr>
          <a:xfrm>
            <a:off x="1542600" y="495360"/>
            <a:ext cx="29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输出电压及电流的平均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6680160" y="4572000"/>
          <a:ext cx="223524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0160" y="4572000"/>
                    <a:ext cx="223524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1371600" y="1049400"/>
                <a:ext cx="28861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udω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1371600" y="2198520"/>
                <a:ext cx="48402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d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1550880" y="4344840"/>
                <a:ext cx="50785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ο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2062080" y="3327480"/>
                <a:ext cx="30434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U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1381320" y="481320"/>
            <a:ext cx="26190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种常用可控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223280" y="4763520"/>
            <a:ext cx="60732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127240" y="4452840"/>
            <a:ext cx="57182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电路只用一只晶闸管，且其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反向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053160" y="542376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和负载上的电流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15680" y="1339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11360" y="1111320"/>
            <a:ext cx="5347080" cy="3292560"/>
            <a:chOff x="2511360" y="1111320"/>
            <a:chExt cx="5347080" cy="3292560"/>
          </a:xfrm>
        </p:grpSpPr>
        <p:sp>
          <p:nvSpPr>
            <p:cNvPr id="1532" name=""/>
            <p:cNvSpPr/>
            <p:nvPr/>
          </p:nvSpPr>
          <p:spPr>
            <a:xfrm>
              <a:off x="2511360" y="25520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32280" y="1447920"/>
              <a:ext cx="0" cy="182556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495600" y="3494160"/>
              <a:ext cx="53028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568320" y="3475080"/>
              <a:ext cx="219240" cy="3682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68680" y="3843360"/>
              <a:ext cx="42084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807000" y="3494160"/>
              <a:ext cx="174600" cy="34920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787920" y="2647800"/>
              <a:ext cx="0" cy="175284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538520" y="3511440"/>
              <a:ext cx="53028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4611240" y="3494160"/>
              <a:ext cx="220680" cy="3664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11600" y="3860640"/>
              <a:ext cx="42084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849920" y="3511440"/>
              <a:ext cx="174600" cy="34920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832280" y="3238560"/>
              <a:ext cx="0" cy="11653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95600" y="2133720"/>
              <a:ext cx="53028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68320" y="2114640"/>
              <a:ext cx="219240" cy="3682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568680" y="2482920"/>
              <a:ext cx="42084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07000" y="2133720"/>
              <a:ext cx="174600" cy="34920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787920" y="1447920"/>
              <a:ext cx="0" cy="123660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94040" y="4375080"/>
              <a:ext cx="344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3311640" y="268452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3251160" y="3273480"/>
              <a:ext cx="158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292560" y="1893960"/>
              <a:ext cx="0" cy="8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2762280" y="189396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17720" y="408132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2689200" y="1856520"/>
              <a:ext cx="71640" cy="7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2762280" y="4025160"/>
              <a:ext cx="73080" cy="7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5950080" y="1230480"/>
              <a:ext cx="0" cy="52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5600520" y="1467720"/>
              <a:ext cx="3682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5600880" y="1265040"/>
              <a:ext cx="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flipV="1">
              <a:off x="5600880" y="1274400"/>
              <a:ext cx="349200" cy="17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5398560" y="1468440"/>
              <a:ext cx="808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5950080" y="1174320"/>
              <a:ext cx="288720" cy="27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16200000">
              <a:off x="6215760" y="1103760"/>
              <a:ext cx="95040" cy="109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602680" y="1672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055840" y="22064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025520" y="22064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27400" y="36766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319520" y="2637000"/>
              <a:ext cx="5389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72200" y="1471680"/>
              <a:ext cx="10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572160" y="288612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93080" y="2646360"/>
              <a:ext cx="198360" cy="568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202520" y="3200400"/>
              <a:ext cx="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202520" y="1471680"/>
              <a:ext cx="0" cy="121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267000" y="3278160"/>
              <a:ext cx="0" cy="82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35640" y="2133720"/>
              <a:ext cx="53316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4609800" y="2114640"/>
              <a:ext cx="220680" cy="3682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10160" y="2482920"/>
              <a:ext cx="42228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48120" y="2133720"/>
              <a:ext cx="176400" cy="34920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997080" y="36766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532240" y="1892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575440" y="339336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359840" y="19836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394760" y="34297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767040" y="146376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771120" y="3542760"/>
            <a:ext cx="6073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676520" y="3322440"/>
            <a:ext cx="6933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该电路接入电感性负载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续流二极管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14160" y="497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92200" y="5433840"/>
            <a:ext cx="6450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0.2.3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半波可控整流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>
            <a:hlinkClick r:id="rId2"/>
          </p:cNvPr>
          <p:cNvSpPr/>
          <p:nvPr/>
        </p:nvSpPr>
        <p:spPr>
          <a:xfrm>
            <a:off x="5638680" y="5638680"/>
            <a:ext cx="69084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2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676520" y="4384440"/>
            <a:ext cx="6662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阳极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阴极相连，两管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极必须加独立的触发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388960" y="558720"/>
            <a:ext cx="4723560" cy="2718000"/>
            <a:chOff x="2388960" y="558720"/>
            <a:chExt cx="4723560" cy="2718000"/>
          </a:xfrm>
        </p:grpSpPr>
        <p:grpSp>
          <p:nvGrpSpPr>
            <p:cNvPr id="1592" name=""/>
            <p:cNvGrpSpPr/>
            <p:nvPr/>
          </p:nvGrpSpPr>
          <p:grpSpPr>
            <a:xfrm>
              <a:off x="2388960" y="558720"/>
              <a:ext cx="4723560" cy="2718000"/>
              <a:chOff x="2388960" y="558720"/>
              <a:chExt cx="4723560" cy="2718000"/>
            </a:xfrm>
          </p:grpSpPr>
          <p:sp>
            <p:nvSpPr>
              <p:cNvPr id="1593" name=""/>
              <p:cNvSpPr/>
              <p:nvPr/>
            </p:nvSpPr>
            <p:spPr>
              <a:xfrm>
                <a:off x="3911400" y="1600200"/>
                <a:ext cx="0" cy="52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11400" y="565200"/>
                <a:ext cx="0" cy="35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5" name=""/>
              <p:cNvGrpSpPr/>
              <p:nvPr/>
            </p:nvGrpSpPr>
            <p:grpSpPr>
              <a:xfrm>
                <a:off x="4641840" y="950760"/>
                <a:ext cx="506520" cy="743040"/>
                <a:chOff x="4641840" y="950760"/>
                <a:chExt cx="506520" cy="74304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4641840" y="1186920"/>
                  <a:ext cx="506520" cy="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4694040" y="1170360"/>
                  <a:ext cx="209520" cy="33768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4694040" y="1508040"/>
                  <a:ext cx="401400" cy="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903560" y="1186920"/>
                  <a:ext cx="167040" cy="32076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4903560" y="950760"/>
                  <a:ext cx="0" cy="74304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1" name=""/>
              <p:cNvSpPr/>
              <p:nvPr/>
            </p:nvSpPr>
            <p:spPr>
              <a:xfrm>
                <a:off x="4624200" y="2452680"/>
                <a:ext cx="506520" cy="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4693680" y="2435400"/>
                <a:ext cx="209880" cy="33624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694040" y="2771640"/>
                <a:ext cx="401760" cy="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921200" y="2452680"/>
                <a:ext cx="166680" cy="31896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903920" y="1600200"/>
                <a:ext cx="0" cy="167652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632040" y="1187280"/>
                <a:ext cx="50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H="1">
                <a:off x="3701880" y="1171440"/>
                <a:ext cx="209520" cy="336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701880" y="1508040"/>
                <a:ext cx="40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29040" y="1187280"/>
                <a:ext cx="166680" cy="320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911400" y="917640"/>
                <a:ext cx="0" cy="74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911400" y="2924280"/>
                <a:ext cx="0" cy="32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V="1">
                <a:off x="4903920" y="582120"/>
                <a:ext cx="0" cy="36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632040" y="2419200"/>
                <a:ext cx="50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3701880" y="2401920"/>
                <a:ext cx="209520" cy="336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701880" y="2738520"/>
                <a:ext cx="40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929040" y="2419200"/>
                <a:ext cx="166680" cy="3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V="1">
                <a:off x="3944880" y="906480"/>
                <a:ext cx="273240" cy="264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892680" y="3244680"/>
                <a:ext cx="2509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3424320" y="1693800"/>
                <a:ext cx="51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3424320" y="2233440"/>
                <a:ext cx="150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40160" y="968400"/>
                <a:ext cx="0" cy="74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24320" y="2227320"/>
                <a:ext cx="0" cy="78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987640" y="2975040"/>
                <a:ext cx="45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2854440" y="912960"/>
                <a:ext cx="102960" cy="87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943440" y="1038240"/>
                <a:ext cx="928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095000" y="23256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125680" y="107460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087520" y="230328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388960" y="1607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540120" y="1611360"/>
                <a:ext cx="57240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6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852520" y="14810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2" name=""/>
              <p:cNvGrpSpPr/>
              <p:nvPr/>
            </p:nvGrpSpPr>
            <p:grpSpPr>
              <a:xfrm>
                <a:off x="5603400" y="1865880"/>
                <a:ext cx="838440" cy="882360"/>
                <a:chOff x="5603400" y="1865880"/>
                <a:chExt cx="838440" cy="882360"/>
              </a:xfrm>
            </p:grpSpPr>
            <p:sp>
              <p:nvSpPr>
                <p:cNvPr id="1633" name=""/>
                <p:cNvSpPr/>
                <p:nvPr/>
              </p:nvSpPr>
              <p:spPr>
                <a:xfrm rot="5400000">
                  <a:off x="5863320" y="2169720"/>
                  <a:ext cx="318600" cy="83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5400000">
                  <a:off x="5862240" y="1607040"/>
                  <a:ext cx="320760" cy="83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rot="5400000">
                  <a:off x="5863320" y="1796040"/>
                  <a:ext cx="318600" cy="83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rot="5400000">
                  <a:off x="5863320" y="1984320"/>
                  <a:ext cx="318600" cy="83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7" name=""/>
              <p:cNvSpPr/>
              <p:nvPr/>
            </p:nvSpPr>
            <p:spPr>
              <a:xfrm>
                <a:off x="6284880" y="1154160"/>
                <a:ext cx="182520" cy="512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389640" y="2670120"/>
                <a:ext cx="0" cy="59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V="1">
                <a:off x="6372360" y="16668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354720" y="571680"/>
                <a:ext cx="0" cy="58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924160" y="21812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2913120" y="2935440"/>
                <a:ext cx="90360" cy="87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911400" y="2114640"/>
                <a:ext cx="0" cy="80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3929040" y="2142720"/>
                <a:ext cx="295200" cy="276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V="1">
                <a:off x="4201920" y="845280"/>
                <a:ext cx="90720" cy="874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4211640" y="2056680"/>
                <a:ext cx="92160" cy="9036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892680" y="558720"/>
                <a:ext cx="248580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550200" y="8150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552720" y="2434680"/>
                <a:ext cx="349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428920" y="71208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459520" y="2498040"/>
                <a:ext cx="349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2" name=""/>
            <p:cNvSpPr/>
            <p:nvPr/>
          </p:nvSpPr>
          <p:spPr>
            <a:xfrm flipH="1">
              <a:off x="2945880" y="957240"/>
              <a:ext cx="52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73416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2.4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相桥式半控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791320" y="4814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09480" y="8517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rId1"/>
          </p:cNvPr>
          <p:cNvSpPr/>
          <p:nvPr/>
        </p:nvSpPr>
        <p:spPr>
          <a:xfrm>
            <a:off x="7772400" y="4876920"/>
            <a:ext cx="69048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3b3b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cc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216000" y="3199680"/>
            <a:ext cx="5193720" cy="3080520"/>
            <a:chOff x="216000" y="3199680"/>
            <a:chExt cx="5193720" cy="3080520"/>
          </a:xfrm>
        </p:grpSpPr>
        <p:grpSp>
          <p:nvGrpSpPr>
            <p:cNvPr id="1658" name=""/>
            <p:cNvGrpSpPr/>
            <p:nvPr/>
          </p:nvGrpSpPr>
          <p:grpSpPr>
            <a:xfrm>
              <a:off x="216000" y="3199680"/>
              <a:ext cx="5193720" cy="3080520"/>
              <a:chOff x="216000" y="3199680"/>
              <a:chExt cx="5193720" cy="3080520"/>
            </a:xfrm>
          </p:grpSpPr>
          <p:sp>
            <p:nvSpPr>
              <p:cNvPr id="1659" name=""/>
              <p:cNvSpPr/>
              <p:nvPr/>
            </p:nvSpPr>
            <p:spPr>
              <a:xfrm flipV="1">
                <a:off x="4249800" y="3916080"/>
                <a:ext cx="115992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00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1156680" y="3916080"/>
                <a:ext cx="115992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1929960" y="3916080"/>
                <a:ext cx="115992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00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863160" y="4968720"/>
                <a:ext cx="115992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620720" y="3396960"/>
                <a:ext cx="77328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99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3200" spc="-1" strike="noStrike" baseline="-25000">
                    <a:solidFill>
                      <a:srgbClr val="ff9900"/>
                    </a:solidFill>
                    <a:latin typeface="Times New Roman"/>
                    <a:ea typeface="楷体_GB2312"/>
                  </a:rPr>
                  <a:t>2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2703240" y="3901320"/>
                <a:ext cx="1159920" cy="106668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3476520" y="3916080"/>
                <a:ext cx="115992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316600" y="4968720"/>
                <a:ext cx="1159920" cy="106668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89880" y="4968720"/>
                <a:ext cx="1159920" cy="106668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00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542960" y="4968720"/>
                <a:ext cx="1159920" cy="105264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399120" y="4876560"/>
                <a:ext cx="46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19480" y="4876560"/>
                <a:ext cx="3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471040" y="3413160"/>
                <a:ext cx="77328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9933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3200" spc="-1" strike="noStrike" baseline="-25000">
                    <a:solidFill>
                      <a:srgbClr val="339933"/>
                    </a:solidFill>
                    <a:latin typeface="Times New Roman"/>
                    <a:ea typeface="楷体_GB2312"/>
                  </a:rPr>
                  <a:t>2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244680" y="3444840"/>
                <a:ext cx="77328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32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2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3" name=""/>
              <p:cNvGrpSpPr/>
              <p:nvPr/>
            </p:nvGrpSpPr>
            <p:grpSpPr>
              <a:xfrm>
                <a:off x="1156680" y="4451400"/>
                <a:ext cx="772920" cy="1600200"/>
                <a:chOff x="1156680" y="4451400"/>
                <a:chExt cx="772920" cy="160020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1350000" y="4451400"/>
                  <a:ext cx="0" cy="16002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1156680" y="4984920"/>
                  <a:ext cx="7729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6" name=""/>
              <p:cNvSpPr/>
              <p:nvPr/>
            </p:nvSpPr>
            <p:spPr>
              <a:xfrm>
                <a:off x="4636440" y="3886200"/>
                <a:ext cx="773280" cy="20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7" name=""/>
              <p:cNvGrpSpPr/>
              <p:nvPr/>
            </p:nvGrpSpPr>
            <p:grpSpPr>
              <a:xfrm>
                <a:off x="216000" y="3199680"/>
                <a:ext cx="5038200" cy="3080520"/>
                <a:chOff x="216000" y="3199680"/>
                <a:chExt cx="5038200" cy="3080520"/>
              </a:xfrm>
            </p:grpSpPr>
            <p:sp>
              <p:nvSpPr>
                <p:cNvPr id="1678" name=""/>
                <p:cNvSpPr/>
                <p:nvPr/>
              </p:nvSpPr>
              <p:spPr>
                <a:xfrm>
                  <a:off x="724680" y="4968720"/>
                  <a:ext cx="1204920" cy="1052640"/>
                </a:xfrm>
                <a:custGeom>
                  <a:avLst/>
                  <a:gdLst/>
                  <a:ahLst/>
                  <a:rect l="l" t="t" r="r" b="b"/>
                  <a:pathLst>
                    <a:path w="864" h="480">
                      <a:moveTo>
                        <a:pt x="0" y="0"/>
                      </a:moveTo>
                      <a:cubicBezTo>
                        <a:pt x="144" y="240"/>
                        <a:pt x="288" y="480"/>
                        <a:pt x="432" y="480"/>
                      </a:cubicBezTo>
                      <a:cubicBezTo>
                        <a:pt x="576" y="480"/>
                        <a:pt x="720" y="240"/>
                        <a:pt x="864" y="0"/>
                      </a:cubicBezTo>
                    </a:path>
                  </a:pathLst>
                </a:custGeom>
                <a:noFill/>
                <a:ln w="38160">
                  <a:solidFill>
                    <a:srgbClr val="33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V="1">
                  <a:off x="306000" y="3916080"/>
                  <a:ext cx="1236960" cy="1052640"/>
                </a:xfrm>
                <a:custGeom>
                  <a:avLst/>
                  <a:gdLst/>
                  <a:ahLst/>
                  <a:rect l="l" t="t" r="r" b="b"/>
                  <a:pathLst>
                    <a:path w="864" h="480">
                      <a:moveTo>
                        <a:pt x="0" y="0"/>
                      </a:moveTo>
                      <a:cubicBezTo>
                        <a:pt x="144" y="240"/>
                        <a:pt x="288" y="480"/>
                        <a:pt x="432" y="480"/>
                      </a:cubicBezTo>
                      <a:cubicBezTo>
                        <a:pt x="576" y="480"/>
                        <a:pt x="720" y="240"/>
                        <a:pt x="864" y="0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1620360" y="3917880"/>
                  <a:ext cx="772920" cy="2057400"/>
                  <a:chOff x="1620360" y="3917880"/>
                  <a:chExt cx="772920" cy="205740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>
                    <a:off x="1732680" y="3917880"/>
                    <a:ext cx="41760" cy="205740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1620360" y="4451400"/>
                    <a:ext cx="77292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楷体_GB2312"/>
                      </a:rPr>
                      <a:t>t</a:t>
                    </a:r>
                    <a:r>
                      <a:rPr b="0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  <a:ea typeface="楷体_GB2312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3" name=""/>
                <p:cNvGrpSpPr/>
                <p:nvPr/>
              </p:nvGrpSpPr>
              <p:grpSpPr>
                <a:xfrm>
                  <a:off x="216000" y="3199680"/>
                  <a:ext cx="5038200" cy="3080520"/>
                  <a:chOff x="216000" y="3199680"/>
                  <a:chExt cx="5038200" cy="3080520"/>
                </a:xfrm>
              </p:grpSpPr>
              <p:grpSp>
                <p:nvGrpSpPr>
                  <p:cNvPr id="1684" name=""/>
                  <p:cNvGrpSpPr/>
                  <p:nvPr/>
                </p:nvGrpSpPr>
                <p:grpSpPr>
                  <a:xfrm>
                    <a:off x="216000" y="3199680"/>
                    <a:ext cx="1379880" cy="3080520"/>
                    <a:chOff x="216000" y="3199680"/>
                    <a:chExt cx="1379880" cy="3080520"/>
                  </a:xfrm>
                </p:grpSpPr>
                <p:sp>
                  <p:nvSpPr>
                    <p:cNvPr id="1685" name=""/>
                    <p:cNvSpPr/>
                    <p:nvPr/>
                  </p:nvSpPr>
                  <p:spPr>
                    <a:xfrm>
                      <a:off x="1160640" y="3199680"/>
                      <a:ext cx="43524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86" name=""/>
                    <p:cNvGrpSpPr/>
                    <p:nvPr/>
                  </p:nvGrpSpPr>
                  <p:grpSpPr>
                    <a:xfrm>
                      <a:off x="216000" y="3460680"/>
                      <a:ext cx="939960" cy="2819520"/>
                      <a:chOff x="216000" y="3460680"/>
                      <a:chExt cx="939960" cy="2819520"/>
                    </a:xfrm>
                  </p:grpSpPr>
                  <p:sp>
                    <p:nvSpPr>
                      <p:cNvPr id="1687" name=""/>
                      <p:cNvSpPr/>
                      <p:nvPr/>
                    </p:nvSpPr>
                    <p:spPr>
                      <a:xfrm flipV="1">
                        <a:off x="1155960" y="3460680"/>
                        <a:ext cx="0" cy="28195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arrow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216000" y="3886200"/>
                        <a:ext cx="927360" cy="20574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89" name=""/>
                  <p:cNvSpPr/>
                  <p:nvPr/>
                </p:nvSpPr>
                <p:spPr>
                  <a:xfrm>
                    <a:off x="1156320" y="4984560"/>
                    <a:ext cx="4097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1690" name=""/>
                  <p:cNvSpPr txBox="1"/>
                  <p:nvPr/>
                </p:nvSpPr>
                <p:spPr>
                  <a:xfrm>
                    <a:off x="4762080" y="4984560"/>
                    <a:ext cx="570240" cy="417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91" name=""/>
            <p:cNvSpPr/>
            <p:nvPr/>
          </p:nvSpPr>
          <p:spPr>
            <a:xfrm>
              <a:off x="762120" y="4662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1800360" y="911160"/>
            <a:ext cx="7115040" cy="3355920"/>
            <a:chOff x="1800360" y="911160"/>
            <a:chExt cx="7115040" cy="3355920"/>
          </a:xfrm>
        </p:grpSpPr>
        <p:sp>
          <p:nvSpPr>
            <p:cNvPr id="1693" name=""/>
            <p:cNvSpPr/>
            <p:nvPr/>
          </p:nvSpPr>
          <p:spPr>
            <a:xfrm>
              <a:off x="2219400" y="342756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838160" y="197964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8245080" y="988920"/>
              <a:ext cx="3240" cy="13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821400" y="1382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05640" y="911160"/>
              <a:ext cx="6951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599240" y="2359080"/>
              <a:ext cx="70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129520" y="2355840"/>
              <a:ext cx="185760" cy="61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353440" y="2282760"/>
              <a:ext cx="5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32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 rot="10800000">
              <a:off x="5422680" y="1366920"/>
              <a:ext cx="422280" cy="3045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5416560" y="134460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17880" y="2975040"/>
              <a:ext cx="25884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28880" y="309240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516480" y="297504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327480" y="3092400"/>
              <a:ext cx="5331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281400" y="297036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092400" y="308772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017880" y="244152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828880" y="255888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516480" y="244152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327480" y="2558880"/>
              <a:ext cx="5331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281400" y="243684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092400" y="255420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052800" y="190800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863800" y="202572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551400" y="190800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362400" y="2025720"/>
              <a:ext cx="5331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316320" y="190332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127320" y="202104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914480" y="20192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876320" y="25480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71640" y="3084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800360" y="251316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800360" y="304632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782880" y="201924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743280" y="25480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743280" y="3084480"/>
              <a:ext cx="15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2620440" y="2025720"/>
              <a:ext cx="1295640" cy="49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2593800" y="2529000"/>
              <a:ext cx="1292400" cy="55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219400" y="198756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895560" y="3081240"/>
              <a:ext cx="0" cy="34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78000" y="197964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48200" y="182736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424400" y="190800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35400" y="202572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23000" y="190800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734000" y="2025720"/>
              <a:ext cx="5331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87920" y="190332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498920" y="202104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424400" y="247176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235400" y="258912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23000" y="247176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734000" y="2589120"/>
              <a:ext cx="5331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687920" y="246708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498920" y="2584440"/>
              <a:ext cx="5335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00480" y="2016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151600" y="203976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00480" y="2589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00480" y="19796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149800" y="25876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114880" y="312264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 rot="10800000">
              <a:off x="6109920" y="3524400"/>
              <a:ext cx="422280" cy="3045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6103800" y="350208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 rot="10800000">
              <a:off x="6109920" y="1366920"/>
              <a:ext cx="422280" cy="3045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6103800" y="134460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 rot="10800000">
              <a:off x="6795720" y="1367280"/>
              <a:ext cx="422280" cy="3049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6789600" y="134604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 rot="10800000">
              <a:off x="6795720" y="3501000"/>
              <a:ext cx="422280" cy="3049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6789600" y="347976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 rot="10800000">
              <a:off x="5424120" y="3524400"/>
              <a:ext cx="422280" cy="3045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5418000" y="350208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6334200" y="987480"/>
              <a:ext cx="0" cy="327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648400" y="988920"/>
              <a:ext cx="0" cy="327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7020000" y="988920"/>
              <a:ext cx="0" cy="327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648400" y="988920"/>
              <a:ext cx="258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48400" y="426564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020000" y="3730680"/>
              <a:ext cx="69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248520" y="1216080"/>
              <a:ext cx="69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153200" y="1216080"/>
              <a:ext cx="69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334200" y="3730680"/>
              <a:ext cx="69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562720" y="3730680"/>
              <a:ext cx="69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086680" y="121752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667640" y="987480"/>
              <a:ext cx="5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i</a:t>
              </a:r>
              <a:r>
                <a:rPr b="1" lang="zh-CN" sz="32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886800" y="282996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326280" y="2282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640120" y="1748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619520" y="1398600"/>
              <a:ext cx="5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277120" y="1978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924440" y="1521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277120" y="285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62320" y="1481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5639040" y="1063800"/>
              <a:ext cx="533160" cy="304200"/>
              <a:chOff x="5639040" y="1063800"/>
              <a:chExt cx="533160" cy="304200"/>
            </a:xfrm>
          </p:grpSpPr>
          <p:sp>
            <p:nvSpPr>
              <p:cNvPr id="1784" name=""/>
              <p:cNvSpPr/>
              <p:nvPr/>
            </p:nvSpPr>
            <p:spPr>
              <a:xfrm flipV="1">
                <a:off x="5639040" y="11394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862960" y="1139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6095880" y="1063800"/>
                <a:ext cx="76320" cy="101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7" name=""/>
            <p:cNvSpPr/>
            <p:nvPr/>
          </p:nvSpPr>
          <p:spPr>
            <a:xfrm>
              <a:off x="4183200" y="3122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8" name=""/>
            <p:cNvGrpSpPr/>
            <p:nvPr/>
          </p:nvGrpSpPr>
          <p:grpSpPr>
            <a:xfrm>
              <a:off x="4191120" y="2968560"/>
              <a:ext cx="948960" cy="385920"/>
              <a:chOff x="4191120" y="2968560"/>
              <a:chExt cx="948960" cy="385920"/>
            </a:xfrm>
          </p:grpSpPr>
          <p:grpSp>
            <p:nvGrpSpPr>
              <p:cNvPr id="1789" name=""/>
              <p:cNvGrpSpPr/>
              <p:nvPr/>
            </p:nvGrpSpPr>
            <p:grpSpPr>
              <a:xfrm>
                <a:off x="4235400" y="2968560"/>
                <a:ext cx="904680" cy="385920"/>
                <a:chOff x="4235400" y="2968560"/>
                <a:chExt cx="904680" cy="38592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4389480" y="2973600"/>
                  <a:ext cx="228600" cy="228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648320" y="2968560"/>
                  <a:ext cx="228600" cy="228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888080" y="2968560"/>
                  <a:ext cx="228600" cy="265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3" name=""/>
                <p:cNvGrpSpPr/>
                <p:nvPr/>
              </p:nvGrpSpPr>
              <p:grpSpPr>
                <a:xfrm>
                  <a:off x="4235400" y="3121200"/>
                  <a:ext cx="904680" cy="233280"/>
                  <a:chOff x="4235400" y="3121200"/>
                  <a:chExt cx="904680" cy="23328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4235400" y="3125880"/>
                    <a:ext cx="4676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4466160" y="3121200"/>
                    <a:ext cx="4676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4672440" y="3125880"/>
                    <a:ext cx="4676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97" name=""/>
              <p:cNvSpPr/>
              <p:nvPr/>
            </p:nvSpPr>
            <p:spPr>
              <a:xfrm>
                <a:off x="4191120" y="3121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8" name=""/>
            <p:cNvSpPr/>
            <p:nvPr/>
          </p:nvSpPr>
          <p:spPr>
            <a:xfrm flipH="1">
              <a:off x="8229240" y="2968560"/>
              <a:ext cx="324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9" name=""/>
            <p:cNvGrpSpPr/>
            <p:nvPr/>
          </p:nvGrpSpPr>
          <p:grpSpPr>
            <a:xfrm>
              <a:off x="6324840" y="1063800"/>
              <a:ext cx="533160" cy="304200"/>
              <a:chOff x="6324840" y="1063800"/>
              <a:chExt cx="533160" cy="304200"/>
            </a:xfrm>
          </p:grpSpPr>
          <p:sp>
            <p:nvSpPr>
              <p:cNvPr id="1800" name=""/>
              <p:cNvSpPr/>
              <p:nvPr/>
            </p:nvSpPr>
            <p:spPr>
              <a:xfrm flipV="1">
                <a:off x="6324840" y="11394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548760" y="1139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6781680" y="1063800"/>
                <a:ext cx="76320" cy="101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7010640" y="1063800"/>
              <a:ext cx="533160" cy="304200"/>
              <a:chOff x="7010640" y="1063800"/>
              <a:chExt cx="533160" cy="304200"/>
            </a:xfrm>
          </p:grpSpPr>
          <p:sp>
            <p:nvSpPr>
              <p:cNvPr id="1804" name=""/>
              <p:cNvSpPr/>
              <p:nvPr/>
            </p:nvSpPr>
            <p:spPr>
              <a:xfrm flipV="1">
                <a:off x="7010640" y="11394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234560" y="1139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7467480" y="1063800"/>
                <a:ext cx="76320" cy="101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411200" y="533520"/>
            <a:ext cx="63612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3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晶闸管的保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57200" y="2721600"/>
            <a:ext cx="83059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晶闸管承受过电压、过电流的能力很差，这是它的主要缺点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晶闸管的热容量很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一旦发生过电流时，温度急剧上升，可能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烧坏，造成元件内部短路或开路。例如一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电流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0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仅允许持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否则将因过热而损坏；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晶闸管耐受过电压的能力极差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压超过其反向击穿电压时，即使时间极短，也容易损坏。若正向电压超过转折电压时，则晶闸管误导通，导通后的电流较大，使器件受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1809720" y="1285920"/>
            <a:ext cx="5810400" cy="162000"/>
            <a:chOff x="1809720" y="1285920"/>
            <a:chExt cx="5810400" cy="162000"/>
          </a:xfrm>
        </p:grpSpPr>
        <p:pic>
          <p:nvPicPr>
            <p:cNvPr id="1810" name="" descr=""/>
            <p:cNvPicPr/>
            <p:nvPr/>
          </p:nvPicPr>
          <p:blipFill>
            <a:blip r:embed="rId1"/>
            <a:stretch/>
          </p:blipFill>
          <p:spPr>
            <a:xfrm>
              <a:off x="18097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2"/>
            <a:stretch/>
          </p:blipFill>
          <p:spPr>
            <a:xfrm>
              <a:off x="19717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3"/>
            <a:stretch/>
          </p:blipFill>
          <p:spPr>
            <a:xfrm>
              <a:off x="22669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" descr=""/>
            <p:cNvPicPr/>
            <p:nvPr/>
          </p:nvPicPr>
          <p:blipFill>
            <a:blip r:embed="rId4"/>
            <a:stretch/>
          </p:blipFill>
          <p:spPr>
            <a:xfrm>
              <a:off x="24289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" descr=""/>
            <p:cNvPicPr/>
            <p:nvPr/>
          </p:nvPicPr>
          <p:blipFill>
            <a:blip r:embed="rId5"/>
            <a:stretch/>
          </p:blipFill>
          <p:spPr>
            <a:xfrm>
              <a:off x="25812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5" name="" descr=""/>
            <p:cNvPicPr/>
            <p:nvPr/>
          </p:nvPicPr>
          <p:blipFill>
            <a:blip r:embed="rId6"/>
            <a:stretch/>
          </p:blipFill>
          <p:spPr>
            <a:xfrm>
              <a:off x="27241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" descr=""/>
            <p:cNvPicPr/>
            <p:nvPr/>
          </p:nvPicPr>
          <p:blipFill>
            <a:blip r:embed="rId7"/>
            <a:stretch/>
          </p:blipFill>
          <p:spPr>
            <a:xfrm>
              <a:off x="21240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7" name="" descr=""/>
            <p:cNvPicPr/>
            <p:nvPr/>
          </p:nvPicPr>
          <p:blipFill>
            <a:blip r:embed="rId8"/>
            <a:stretch/>
          </p:blipFill>
          <p:spPr>
            <a:xfrm>
              <a:off x="28861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8" name="" descr=""/>
            <p:cNvPicPr/>
            <p:nvPr/>
          </p:nvPicPr>
          <p:blipFill>
            <a:blip r:embed="rId9"/>
            <a:stretch/>
          </p:blipFill>
          <p:spPr>
            <a:xfrm>
              <a:off x="30384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9" name="" descr=""/>
            <p:cNvPicPr/>
            <p:nvPr/>
          </p:nvPicPr>
          <p:blipFill>
            <a:blip r:embed="rId10"/>
            <a:stretch/>
          </p:blipFill>
          <p:spPr>
            <a:xfrm>
              <a:off x="31813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0" name="" descr=""/>
            <p:cNvPicPr/>
            <p:nvPr/>
          </p:nvPicPr>
          <p:blipFill>
            <a:blip r:embed="rId11"/>
            <a:stretch/>
          </p:blipFill>
          <p:spPr>
            <a:xfrm>
              <a:off x="33433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1" name="" descr=""/>
            <p:cNvPicPr/>
            <p:nvPr/>
          </p:nvPicPr>
          <p:blipFill>
            <a:blip r:embed="rId12"/>
            <a:stretch/>
          </p:blipFill>
          <p:spPr>
            <a:xfrm>
              <a:off x="34956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" descr=""/>
            <p:cNvPicPr/>
            <p:nvPr/>
          </p:nvPicPr>
          <p:blipFill>
            <a:blip r:embed="rId13"/>
            <a:stretch/>
          </p:blipFill>
          <p:spPr>
            <a:xfrm>
              <a:off x="36385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4"/>
            <a:stretch/>
          </p:blipFill>
          <p:spPr>
            <a:xfrm>
              <a:off x="38005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5"/>
            <a:stretch/>
          </p:blipFill>
          <p:spPr>
            <a:xfrm>
              <a:off x="40957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6"/>
            <a:stretch/>
          </p:blipFill>
          <p:spPr>
            <a:xfrm>
              <a:off x="42577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" descr=""/>
            <p:cNvPicPr/>
            <p:nvPr/>
          </p:nvPicPr>
          <p:blipFill>
            <a:blip r:embed="rId17"/>
            <a:stretch/>
          </p:blipFill>
          <p:spPr>
            <a:xfrm>
              <a:off x="44100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" descr=""/>
            <p:cNvPicPr/>
            <p:nvPr/>
          </p:nvPicPr>
          <p:blipFill>
            <a:blip r:embed="rId18"/>
            <a:stretch/>
          </p:blipFill>
          <p:spPr>
            <a:xfrm>
              <a:off x="45529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19"/>
            <a:stretch/>
          </p:blipFill>
          <p:spPr>
            <a:xfrm>
              <a:off x="47149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20"/>
            <a:stretch/>
          </p:blipFill>
          <p:spPr>
            <a:xfrm>
              <a:off x="50101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21"/>
            <a:stretch/>
          </p:blipFill>
          <p:spPr>
            <a:xfrm>
              <a:off x="51721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" descr=""/>
            <p:cNvPicPr/>
            <p:nvPr/>
          </p:nvPicPr>
          <p:blipFill>
            <a:blip r:embed="rId22"/>
            <a:stretch/>
          </p:blipFill>
          <p:spPr>
            <a:xfrm>
              <a:off x="53244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2" name="" descr=""/>
            <p:cNvPicPr/>
            <p:nvPr/>
          </p:nvPicPr>
          <p:blipFill>
            <a:blip r:embed="rId23"/>
            <a:stretch/>
          </p:blipFill>
          <p:spPr>
            <a:xfrm>
              <a:off x="54673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3" name="" descr=""/>
            <p:cNvPicPr/>
            <p:nvPr/>
          </p:nvPicPr>
          <p:blipFill>
            <a:blip r:embed="rId24"/>
            <a:stretch/>
          </p:blipFill>
          <p:spPr>
            <a:xfrm>
              <a:off x="39528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4" name="" descr=""/>
            <p:cNvPicPr/>
            <p:nvPr/>
          </p:nvPicPr>
          <p:blipFill>
            <a:blip r:embed="rId25"/>
            <a:stretch/>
          </p:blipFill>
          <p:spPr>
            <a:xfrm>
              <a:off x="48672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5" name="" descr=""/>
            <p:cNvPicPr/>
            <p:nvPr/>
          </p:nvPicPr>
          <p:blipFill>
            <a:blip r:embed="rId26"/>
            <a:stretch/>
          </p:blipFill>
          <p:spPr>
            <a:xfrm>
              <a:off x="56293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6" name="" descr=""/>
            <p:cNvPicPr/>
            <p:nvPr/>
          </p:nvPicPr>
          <p:blipFill>
            <a:blip r:embed="rId27"/>
            <a:stretch/>
          </p:blipFill>
          <p:spPr>
            <a:xfrm>
              <a:off x="57816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7" name="" descr=""/>
            <p:cNvPicPr/>
            <p:nvPr/>
          </p:nvPicPr>
          <p:blipFill>
            <a:blip r:embed="rId28"/>
            <a:stretch/>
          </p:blipFill>
          <p:spPr>
            <a:xfrm>
              <a:off x="59245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8" name="" descr=""/>
            <p:cNvPicPr/>
            <p:nvPr/>
          </p:nvPicPr>
          <p:blipFill>
            <a:blip r:embed="rId29"/>
            <a:stretch/>
          </p:blipFill>
          <p:spPr>
            <a:xfrm>
              <a:off x="60865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9" name="" descr=""/>
            <p:cNvPicPr/>
            <p:nvPr/>
          </p:nvPicPr>
          <p:blipFill>
            <a:blip r:embed="rId30"/>
            <a:stretch/>
          </p:blipFill>
          <p:spPr>
            <a:xfrm>
              <a:off x="62388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" descr=""/>
            <p:cNvPicPr/>
            <p:nvPr/>
          </p:nvPicPr>
          <p:blipFill>
            <a:blip r:embed="rId31"/>
            <a:stretch/>
          </p:blipFill>
          <p:spPr>
            <a:xfrm>
              <a:off x="63817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32"/>
            <a:stretch/>
          </p:blipFill>
          <p:spPr>
            <a:xfrm>
              <a:off x="65437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" descr=""/>
            <p:cNvPicPr/>
            <p:nvPr/>
          </p:nvPicPr>
          <p:blipFill>
            <a:blip r:embed="rId33"/>
            <a:stretch/>
          </p:blipFill>
          <p:spPr>
            <a:xfrm>
              <a:off x="68389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34"/>
            <a:stretch/>
          </p:blipFill>
          <p:spPr>
            <a:xfrm>
              <a:off x="70009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5"/>
            <a:stretch/>
          </p:blipFill>
          <p:spPr>
            <a:xfrm>
              <a:off x="71532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36"/>
            <a:stretch/>
          </p:blipFill>
          <p:spPr>
            <a:xfrm>
              <a:off x="72961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" descr=""/>
            <p:cNvPicPr/>
            <p:nvPr/>
          </p:nvPicPr>
          <p:blipFill>
            <a:blip r:embed="rId37"/>
            <a:stretch/>
          </p:blipFill>
          <p:spPr>
            <a:xfrm>
              <a:off x="745812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38"/>
            <a:stretch/>
          </p:blipFill>
          <p:spPr>
            <a:xfrm>
              <a:off x="6696000" y="128592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415800"/>
            <a:ext cx="860904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晶闸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lic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trolled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ctifi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闸管是在晶体管基础上发展起来的一种大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率半导体器件。它的出现使半导体器件由弱电领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扩展到强电领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闸管也像半导体二极管那样具有单向导电性，但它的导通时间是可控的，主要用于整流、逆变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压及开关等方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648320"/>
            <a:ext cx="8175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体积小、重量轻、效率高、动作迅速、维修简单、操作方便、寿命长、 容量大（正向平均电流达千安、正向耐压达数千伏）。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5320" y="4191120"/>
            <a:ext cx="1052280" cy="526680"/>
            <a:chOff x="535320" y="4191120"/>
            <a:chExt cx="1052280" cy="526680"/>
          </a:xfrm>
        </p:grpSpPr>
        <p:sp>
          <p:nvSpPr>
            <p:cNvPr id="113" name=""/>
            <p:cNvSpPr/>
            <p:nvPr/>
          </p:nvSpPr>
          <p:spPr>
            <a:xfrm>
              <a:off x="535320" y="419112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800" y="4197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优点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3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晶闸管的过流保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650880" y="914040"/>
            <a:ext cx="55260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快速熔断器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76160" y="1295280"/>
            <a:ext cx="7986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路中加快速熔断器。当电路发生过流故障时，它能在晶闸管过热损坏之前熔断，切断电流通路，以保证晶闸管的安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019920" y="4800600"/>
            <a:ext cx="1120680" cy="914400"/>
          </a:xfrm>
          <a:prstGeom prst="wedgeRoundRectCallout">
            <a:avLst>
              <a:gd name="adj1" fmla="val -126060"/>
              <a:gd name="adj2" fmla="val -68578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与晶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管串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143000" y="4572000"/>
            <a:ext cx="1523880" cy="846000"/>
          </a:xfrm>
          <a:prstGeom prst="wedgeEllipseCallout">
            <a:avLst>
              <a:gd name="adj1" fmla="val 92500"/>
              <a:gd name="adj2" fmla="val -76078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接在输入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2057400" y="3344760"/>
            <a:ext cx="4572000" cy="2751120"/>
            <a:chOff x="2057400" y="3344760"/>
            <a:chExt cx="4572000" cy="2751120"/>
          </a:xfrm>
        </p:grpSpPr>
        <p:sp>
          <p:nvSpPr>
            <p:cNvPr id="1854" name=""/>
            <p:cNvSpPr/>
            <p:nvPr/>
          </p:nvSpPr>
          <p:spPr>
            <a:xfrm rot="16200000">
              <a:off x="4062960" y="4483440"/>
              <a:ext cx="436680" cy="1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819160" y="582768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4240080" y="6033960"/>
              <a:ext cx="54000" cy="61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4041720" y="5526000"/>
              <a:ext cx="1247760" cy="333360"/>
              <a:chOff x="4041720" y="5526000"/>
              <a:chExt cx="1247760" cy="333360"/>
            </a:xfrm>
          </p:grpSpPr>
          <p:grpSp>
            <p:nvGrpSpPr>
              <p:cNvPr id="1858" name=""/>
              <p:cNvGrpSpPr/>
              <p:nvPr/>
            </p:nvGrpSpPr>
            <p:grpSpPr>
              <a:xfrm>
                <a:off x="4041720" y="5543640"/>
                <a:ext cx="407880" cy="315720"/>
                <a:chOff x="4041720" y="5543640"/>
                <a:chExt cx="407880" cy="315720"/>
              </a:xfrm>
            </p:grpSpPr>
            <p:sp>
              <p:nvSpPr>
                <p:cNvPr id="1859" name=""/>
                <p:cNvSpPr/>
                <p:nvPr/>
              </p:nvSpPr>
              <p:spPr>
                <a:xfrm>
                  <a:off x="4041720" y="5559120"/>
                  <a:ext cx="407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H="1">
                  <a:off x="4097160" y="5543640"/>
                  <a:ext cx="169920" cy="31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4097160" y="5859360"/>
                  <a:ext cx="324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4279680" y="5559120"/>
                  <a:ext cx="135000" cy="299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3" name=""/>
              <p:cNvGrpSpPr/>
              <p:nvPr/>
            </p:nvGrpSpPr>
            <p:grpSpPr>
              <a:xfrm>
                <a:off x="4881600" y="5526000"/>
                <a:ext cx="407880" cy="315720"/>
                <a:chOff x="4881600" y="5526000"/>
                <a:chExt cx="407880" cy="315720"/>
              </a:xfrm>
            </p:grpSpPr>
            <p:sp>
              <p:nvSpPr>
                <p:cNvPr id="1864" name=""/>
                <p:cNvSpPr/>
                <p:nvPr/>
              </p:nvSpPr>
              <p:spPr>
                <a:xfrm>
                  <a:off x="4881600" y="5541840"/>
                  <a:ext cx="407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>
                  <a:off x="4902120" y="5526000"/>
                  <a:ext cx="171360" cy="31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4902120" y="5841720"/>
                  <a:ext cx="323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086080" y="5541840"/>
                  <a:ext cx="135000" cy="299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8" name=""/>
            <p:cNvSpPr/>
            <p:nvPr/>
          </p:nvSpPr>
          <p:spPr>
            <a:xfrm>
              <a:off x="5073480" y="5113080"/>
              <a:ext cx="0" cy="76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5035320" y="5263920"/>
              <a:ext cx="55800" cy="59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073480" y="5838840"/>
              <a:ext cx="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251240" y="6076800"/>
              <a:ext cx="23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3886200" y="5021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3871800" y="5311800"/>
              <a:ext cx="12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879720" y="5325840"/>
              <a:ext cx="0" cy="5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5038560" y="5242680"/>
              <a:ext cx="5868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902040" y="4244760"/>
              <a:ext cx="0" cy="7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271760" y="3421080"/>
              <a:ext cx="0" cy="266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707920" y="472968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659200" y="3344760"/>
              <a:ext cx="436680" cy="1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0" name=""/>
            <p:cNvGrpSpPr/>
            <p:nvPr/>
          </p:nvGrpSpPr>
          <p:grpSpPr>
            <a:xfrm>
              <a:off x="4029120" y="3573000"/>
              <a:ext cx="711000" cy="570240"/>
              <a:chOff x="4029120" y="3573000"/>
              <a:chExt cx="711000" cy="570240"/>
            </a:xfrm>
          </p:grpSpPr>
          <p:sp>
            <p:nvSpPr>
              <p:cNvPr id="1881" name=""/>
              <p:cNvSpPr/>
              <p:nvPr/>
            </p:nvSpPr>
            <p:spPr>
              <a:xfrm>
                <a:off x="4029120" y="3839760"/>
                <a:ext cx="40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4073400" y="3823920"/>
                <a:ext cx="171360" cy="3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082760" y="4143240"/>
                <a:ext cx="32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257720" y="3839760"/>
                <a:ext cx="134640" cy="30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5" name=""/>
              <p:cNvGrpSpPr/>
              <p:nvPr/>
            </p:nvGrpSpPr>
            <p:grpSpPr>
              <a:xfrm>
                <a:off x="4475160" y="3573000"/>
                <a:ext cx="264960" cy="75960"/>
                <a:chOff x="4475160" y="3573000"/>
                <a:chExt cx="264960" cy="75960"/>
              </a:xfrm>
            </p:grpSpPr>
            <p:sp>
              <p:nvSpPr>
                <p:cNvPr id="1886" name=""/>
                <p:cNvSpPr/>
                <p:nvPr/>
              </p:nvSpPr>
              <p:spPr>
                <a:xfrm>
                  <a:off x="4475160" y="36129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V="1">
                  <a:off x="4664160" y="3572640"/>
                  <a:ext cx="759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8" name=""/>
              <p:cNvSpPr/>
              <p:nvPr/>
            </p:nvSpPr>
            <p:spPr>
              <a:xfrm flipV="1">
                <a:off x="4267080" y="36093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9" name=""/>
            <p:cNvSpPr/>
            <p:nvPr/>
          </p:nvSpPr>
          <p:spPr>
            <a:xfrm>
              <a:off x="4851360" y="3840120"/>
              <a:ext cx="40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4895280" y="3824280"/>
              <a:ext cx="17172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905360" y="4143240"/>
              <a:ext cx="32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079960" y="3840120"/>
              <a:ext cx="135000" cy="30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97400" y="3612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5486400" y="35733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5089320" y="36093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16200000">
              <a:off x="4836240" y="4483440"/>
              <a:ext cx="436680" cy="1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073480" y="3421080"/>
              <a:ext cx="0" cy="170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4227480" y="4949640"/>
              <a:ext cx="5868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267080" y="342108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553080" y="338112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124080" y="4182840"/>
              <a:ext cx="436680" cy="1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 flipV="1">
              <a:off x="2819160" y="4244760"/>
              <a:ext cx="109080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6553080" y="601164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2743200" y="422208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2743200" y="578304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057400" y="3587760"/>
              <a:ext cx="2301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5029200" y="6011640"/>
              <a:ext cx="5868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6477120" y="3733920"/>
            <a:ext cx="1523880" cy="838080"/>
          </a:xfrm>
          <a:prstGeom prst="wedgeEllipseCallout">
            <a:avLst>
              <a:gd name="adj1" fmla="val -83750"/>
              <a:gd name="adj2" fmla="val -79546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接在输出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511000" y="27432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快速熔断器接入方式有三种，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335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过流继电器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95440" y="2590920"/>
            <a:ext cx="36716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过流截止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95360" y="1204920"/>
            <a:ext cx="826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输出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流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输入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流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入过电流继电器，当电路发生过流故障时，继电器动作，使电路自动切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82480" y="3048120"/>
            <a:ext cx="83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交流侧设置电流检测电路，利用过电流信号控制触发电路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电路发生过流故障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检测电路控制触发脉冲迅速后移或停止产生触发脉冲，从而使晶闸管导通角减小或立即关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"/>
          <p:cNvSpPr/>
          <p:nvPr/>
        </p:nvSpPr>
        <p:spPr>
          <a:xfrm>
            <a:off x="1051920" y="557676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硒堆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06600" y="283680"/>
            <a:ext cx="6403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3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晶闸管的过压保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 type="subTitle"/>
          </p:nvPr>
        </p:nvSpPr>
        <p:spPr>
          <a:xfrm>
            <a:off x="701640" y="111132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阻容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1179720" y="3138120"/>
            <a:ext cx="685440" cy="2348280"/>
            <a:chOff x="1179720" y="3138120"/>
            <a:chExt cx="685440" cy="2348280"/>
          </a:xfrm>
        </p:grpSpPr>
        <p:sp>
          <p:nvSpPr>
            <p:cNvPr id="1918" name=""/>
            <p:cNvSpPr/>
            <p:nvPr/>
          </p:nvSpPr>
          <p:spPr>
            <a:xfrm>
              <a:off x="1731960" y="3198960"/>
              <a:ext cx="0" cy="6300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731960" y="4705200"/>
              <a:ext cx="0" cy="781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598760" y="3843360"/>
              <a:ext cx="2664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598760" y="3954600"/>
              <a:ext cx="2664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639800" y="4438800"/>
              <a:ext cx="155520" cy="43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731960" y="3960720"/>
              <a:ext cx="0" cy="4971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5560" y="365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179720" y="4417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1697040" y="31377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1697040" y="5385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8" name=""/>
          <p:cNvSpPr/>
          <p:nvPr/>
        </p:nvSpPr>
        <p:spPr>
          <a:xfrm>
            <a:off x="434880" y="1494000"/>
            <a:ext cx="848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利用电容吸收过压。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其实质就是将造成过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的能量变成电场能量储存到电容中，然后释放到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阻中消耗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311040" y="906480"/>
            <a:ext cx="6705720" cy="171360"/>
            <a:chOff x="311040" y="906480"/>
            <a:chExt cx="6705720" cy="171360"/>
          </a:xfrm>
        </p:grpSpPr>
        <p:pic>
          <p:nvPicPr>
            <p:cNvPr id="1930" name="" descr=""/>
            <p:cNvPicPr/>
            <p:nvPr/>
          </p:nvPicPr>
          <p:blipFill>
            <a:blip r:embed="rId1"/>
            <a:stretch/>
          </p:blipFill>
          <p:spPr>
            <a:xfrm>
              <a:off x="3110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1" name="" descr=""/>
            <p:cNvPicPr/>
            <p:nvPr/>
          </p:nvPicPr>
          <p:blipFill>
            <a:blip r:embed="rId2"/>
            <a:stretch/>
          </p:blipFill>
          <p:spPr>
            <a:xfrm>
              <a:off x="4730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2" name="" descr=""/>
            <p:cNvPicPr/>
            <p:nvPr/>
          </p:nvPicPr>
          <p:blipFill>
            <a:blip r:embed="rId3"/>
            <a:stretch/>
          </p:blipFill>
          <p:spPr>
            <a:xfrm>
              <a:off x="7682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3" name="" descr=""/>
            <p:cNvPicPr/>
            <p:nvPr/>
          </p:nvPicPr>
          <p:blipFill>
            <a:blip r:embed="rId4"/>
            <a:stretch/>
          </p:blipFill>
          <p:spPr>
            <a:xfrm>
              <a:off x="9302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4" name="" descr=""/>
            <p:cNvPicPr/>
            <p:nvPr/>
          </p:nvPicPr>
          <p:blipFill>
            <a:blip r:embed="rId5"/>
            <a:stretch/>
          </p:blipFill>
          <p:spPr>
            <a:xfrm>
              <a:off x="10828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5" name="" descr=""/>
            <p:cNvPicPr/>
            <p:nvPr/>
          </p:nvPicPr>
          <p:blipFill>
            <a:blip r:embed="rId6"/>
            <a:stretch/>
          </p:blipFill>
          <p:spPr>
            <a:xfrm>
              <a:off x="12254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6" name="" descr=""/>
            <p:cNvPicPr/>
            <p:nvPr/>
          </p:nvPicPr>
          <p:blipFill>
            <a:blip r:embed="rId7"/>
            <a:stretch/>
          </p:blipFill>
          <p:spPr>
            <a:xfrm>
              <a:off x="6256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7" name="" descr=""/>
            <p:cNvPicPr/>
            <p:nvPr/>
          </p:nvPicPr>
          <p:blipFill>
            <a:blip r:embed="rId8"/>
            <a:stretch/>
          </p:blipFill>
          <p:spPr>
            <a:xfrm>
              <a:off x="13874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" descr=""/>
            <p:cNvPicPr/>
            <p:nvPr/>
          </p:nvPicPr>
          <p:blipFill>
            <a:blip r:embed="rId9"/>
            <a:stretch/>
          </p:blipFill>
          <p:spPr>
            <a:xfrm>
              <a:off x="15400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" descr=""/>
            <p:cNvPicPr/>
            <p:nvPr/>
          </p:nvPicPr>
          <p:blipFill>
            <a:blip r:embed="rId10"/>
            <a:stretch/>
          </p:blipFill>
          <p:spPr>
            <a:xfrm>
              <a:off x="16826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" descr=""/>
            <p:cNvPicPr/>
            <p:nvPr/>
          </p:nvPicPr>
          <p:blipFill>
            <a:blip r:embed="rId11"/>
            <a:stretch/>
          </p:blipFill>
          <p:spPr>
            <a:xfrm>
              <a:off x="18446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" descr=""/>
            <p:cNvPicPr/>
            <p:nvPr/>
          </p:nvPicPr>
          <p:blipFill>
            <a:blip r:embed="rId12"/>
            <a:stretch/>
          </p:blipFill>
          <p:spPr>
            <a:xfrm>
              <a:off x="19972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2" name="" descr=""/>
            <p:cNvPicPr/>
            <p:nvPr/>
          </p:nvPicPr>
          <p:blipFill>
            <a:blip r:embed="rId13"/>
            <a:stretch/>
          </p:blipFill>
          <p:spPr>
            <a:xfrm>
              <a:off x="21398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3" name="" descr=""/>
            <p:cNvPicPr/>
            <p:nvPr/>
          </p:nvPicPr>
          <p:blipFill>
            <a:blip r:embed="rId14"/>
            <a:stretch/>
          </p:blipFill>
          <p:spPr>
            <a:xfrm>
              <a:off x="23018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4" name="" descr=""/>
            <p:cNvPicPr/>
            <p:nvPr/>
          </p:nvPicPr>
          <p:blipFill>
            <a:blip r:embed="rId15"/>
            <a:stretch/>
          </p:blipFill>
          <p:spPr>
            <a:xfrm>
              <a:off x="25970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5" name="" descr=""/>
            <p:cNvPicPr/>
            <p:nvPr/>
          </p:nvPicPr>
          <p:blipFill>
            <a:blip r:embed="rId16"/>
            <a:stretch/>
          </p:blipFill>
          <p:spPr>
            <a:xfrm>
              <a:off x="27590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6" name="" descr=""/>
            <p:cNvPicPr/>
            <p:nvPr/>
          </p:nvPicPr>
          <p:blipFill>
            <a:blip r:embed="rId17"/>
            <a:stretch/>
          </p:blipFill>
          <p:spPr>
            <a:xfrm>
              <a:off x="29116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7" name="" descr=""/>
            <p:cNvPicPr/>
            <p:nvPr/>
          </p:nvPicPr>
          <p:blipFill>
            <a:blip r:embed="rId18"/>
            <a:stretch/>
          </p:blipFill>
          <p:spPr>
            <a:xfrm>
              <a:off x="30542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8" name="" descr=""/>
            <p:cNvPicPr/>
            <p:nvPr/>
          </p:nvPicPr>
          <p:blipFill>
            <a:blip r:embed="rId19"/>
            <a:stretch/>
          </p:blipFill>
          <p:spPr>
            <a:xfrm>
              <a:off x="32162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9" name="" descr=""/>
            <p:cNvPicPr/>
            <p:nvPr/>
          </p:nvPicPr>
          <p:blipFill>
            <a:blip r:embed="rId20"/>
            <a:stretch/>
          </p:blipFill>
          <p:spPr>
            <a:xfrm>
              <a:off x="35114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0" name="" descr=""/>
            <p:cNvPicPr/>
            <p:nvPr/>
          </p:nvPicPr>
          <p:blipFill>
            <a:blip r:embed="rId21"/>
            <a:stretch/>
          </p:blipFill>
          <p:spPr>
            <a:xfrm>
              <a:off x="36734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1" name="" descr=""/>
            <p:cNvPicPr/>
            <p:nvPr/>
          </p:nvPicPr>
          <p:blipFill>
            <a:blip r:embed="rId22"/>
            <a:stretch/>
          </p:blipFill>
          <p:spPr>
            <a:xfrm>
              <a:off x="38260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2" name="" descr=""/>
            <p:cNvPicPr/>
            <p:nvPr/>
          </p:nvPicPr>
          <p:blipFill>
            <a:blip r:embed="rId23"/>
            <a:stretch/>
          </p:blipFill>
          <p:spPr>
            <a:xfrm>
              <a:off x="39686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3" name="" descr=""/>
            <p:cNvPicPr/>
            <p:nvPr/>
          </p:nvPicPr>
          <p:blipFill>
            <a:blip r:embed="rId24"/>
            <a:stretch/>
          </p:blipFill>
          <p:spPr>
            <a:xfrm>
              <a:off x="24544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4" name="" descr=""/>
            <p:cNvPicPr/>
            <p:nvPr/>
          </p:nvPicPr>
          <p:blipFill>
            <a:blip r:embed="rId25"/>
            <a:stretch/>
          </p:blipFill>
          <p:spPr>
            <a:xfrm>
              <a:off x="33688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5" name="" descr=""/>
            <p:cNvPicPr/>
            <p:nvPr/>
          </p:nvPicPr>
          <p:blipFill>
            <a:blip r:embed="rId26"/>
            <a:stretch/>
          </p:blipFill>
          <p:spPr>
            <a:xfrm>
              <a:off x="41306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6" name="" descr=""/>
            <p:cNvPicPr/>
            <p:nvPr/>
          </p:nvPicPr>
          <p:blipFill>
            <a:blip r:embed="rId27"/>
            <a:stretch/>
          </p:blipFill>
          <p:spPr>
            <a:xfrm>
              <a:off x="42832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7" name="" descr=""/>
            <p:cNvPicPr/>
            <p:nvPr/>
          </p:nvPicPr>
          <p:blipFill>
            <a:blip r:embed="rId28"/>
            <a:stretch/>
          </p:blipFill>
          <p:spPr>
            <a:xfrm>
              <a:off x="44258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8" name="" descr=""/>
            <p:cNvPicPr/>
            <p:nvPr/>
          </p:nvPicPr>
          <p:blipFill>
            <a:blip r:embed="rId29"/>
            <a:stretch/>
          </p:blipFill>
          <p:spPr>
            <a:xfrm>
              <a:off x="45878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" descr=""/>
            <p:cNvPicPr/>
            <p:nvPr/>
          </p:nvPicPr>
          <p:blipFill>
            <a:blip r:embed="rId30"/>
            <a:stretch/>
          </p:blipFill>
          <p:spPr>
            <a:xfrm>
              <a:off x="47404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0" name="" descr=""/>
            <p:cNvPicPr/>
            <p:nvPr/>
          </p:nvPicPr>
          <p:blipFill>
            <a:blip r:embed="rId31"/>
            <a:stretch/>
          </p:blipFill>
          <p:spPr>
            <a:xfrm>
              <a:off x="48830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1" name="" descr=""/>
            <p:cNvPicPr/>
            <p:nvPr/>
          </p:nvPicPr>
          <p:blipFill>
            <a:blip r:embed="rId32"/>
            <a:stretch/>
          </p:blipFill>
          <p:spPr>
            <a:xfrm>
              <a:off x="50450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2" name="" descr=""/>
            <p:cNvPicPr/>
            <p:nvPr/>
          </p:nvPicPr>
          <p:blipFill>
            <a:blip r:embed="rId33"/>
            <a:stretch/>
          </p:blipFill>
          <p:spPr>
            <a:xfrm>
              <a:off x="53402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3" name="" descr=""/>
            <p:cNvPicPr/>
            <p:nvPr/>
          </p:nvPicPr>
          <p:blipFill>
            <a:blip r:embed="rId34"/>
            <a:stretch/>
          </p:blipFill>
          <p:spPr>
            <a:xfrm>
              <a:off x="55022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4" name="" descr=""/>
            <p:cNvPicPr/>
            <p:nvPr/>
          </p:nvPicPr>
          <p:blipFill>
            <a:blip r:embed="rId35"/>
            <a:stretch/>
          </p:blipFill>
          <p:spPr>
            <a:xfrm>
              <a:off x="56548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5" name="" descr=""/>
            <p:cNvPicPr/>
            <p:nvPr/>
          </p:nvPicPr>
          <p:blipFill>
            <a:blip r:embed="rId36"/>
            <a:stretch/>
          </p:blipFill>
          <p:spPr>
            <a:xfrm>
              <a:off x="57974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" descr=""/>
            <p:cNvPicPr/>
            <p:nvPr/>
          </p:nvPicPr>
          <p:blipFill>
            <a:blip r:embed="rId37"/>
            <a:stretch/>
          </p:blipFill>
          <p:spPr>
            <a:xfrm>
              <a:off x="5959440" y="9064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" descr=""/>
            <p:cNvPicPr/>
            <p:nvPr/>
          </p:nvPicPr>
          <p:blipFill>
            <a:blip r:embed="rId38"/>
            <a:stretch/>
          </p:blipFill>
          <p:spPr>
            <a:xfrm>
              <a:off x="5197680" y="906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8" name="" descr=""/>
            <p:cNvPicPr/>
            <p:nvPr/>
          </p:nvPicPr>
          <p:blipFill>
            <a:blip r:embed="rId39"/>
            <a:stretch/>
          </p:blipFill>
          <p:spPr>
            <a:xfrm>
              <a:off x="6235920" y="915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9" name="" descr=""/>
            <p:cNvPicPr/>
            <p:nvPr/>
          </p:nvPicPr>
          <p:blipFill>
            <a:blip r:embed="rId40"/>
            <a:stretch/>
          </p:blipFill>
          <p:spPr>
            <a:xfrm>
              <a:off x="6397560" y="915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0" name="" descr=""/>
            <p:cNvPicPr/>
            <p:nvPr/>
          </p:nvPicPr>
          <p:blipFill>
            <a:blip r:embed="rId41"/>
            <a:stretch/>
          </p:blipFill>
          <p:spPr>
            <a:xfrm>
              <a:off x="6550200" y="915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1" name="" descr=""/>
            <p:cNvPicPr/>
            <p:nvPr/>
          </p:nvPicPr>
          <p:blipFill>
            <a:blip r:embed="rId42"/>
            <a:stretch/>
          </p:blipFill>
          <p:spPr>
            <a:xfrm>
              <a:off x="6693120" y="915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2" name="" descr=""/>
            <p:cNvPicPr/>
            <p:nvPr/>
          </p:nvPicPr>
          <p:blipFill>
            <a:blip r:embed="rId43"/>
            <a:stretch/>
          </p:blipFill>
          <p:spPr>
            <a:xfrm>
              <a:off x="6854760" y="915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3" name="" descr=""/>
            <p:cNvPicPr/>
            <p:nvPr/>
          </p:nvPicPr>
          <p:blipFill>
            <a:blip r:embed="rId44"/>
            <a:stretch/>
          </p:blipFill>
          <p:spPr>
            <a:xfrm>
              <a:off x="6093000" y="915840"/>
              <a:ext cx="16164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4" name=""/>
          <p:cNvGrpSpPr/>
          <p:nvPr/>
        </p:nvGrpSpPr>
        <p:grpSpPr>
          <a:xfrm>
            <a:off x="3119400" y="3119040"/>
            <a:ext cx="310680" cy="2303280"/>
            <a:chOff x="3119400" y="3119040"/>
            <a:chExt cx="310680" cy="2303280"/>
          </a:xfrm>
        </p:grpSpPr>
        <p:sp>
          <p:nvSpPr>
            <p:cNvPr id="1975" name=""/>
            <p:cNvSpPr/>
            <p:nvPr/>
          </p:nvSpPr>
          <p:spPr>
            <a:xfrm flipV="1">
              <a:off x="3240000" y="5347440"/>
              <a:ext cx="74160" cy="745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240000" y="3118680"/>
              <a:ext cx="74160" cy="745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73120" y="312264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122280" y="3579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119400" y="357984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3269520" y="357984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122280" y="38084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119400" y="380844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3269520" y="380844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122280" y="4037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119400" y="403704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269520" y="403704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3119400" y="4265280"/>
              <a:ext cx="310680" cy="685800"/>
              <a:chOff x="3119400" y="4265280"/>
              <a:chExt cx="310680" cy="685800"/>
            </a:xfrm>
          </p:grpSpPr>
          <p:sp>
            <p:nvSpPr>
              <p:cNvPr id="1988" name=""/>
              <p:cNvSpPr/>
              <p:nvPr/>
            </p:nvSpPr>
            <p:spPr>
              <a:xfrm>
                <a:off x="3122280" y="49510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3119400" y="472248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 flipV="1">
                <a:off x="3269520" y="472248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125520" y="47224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122280" y="449388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 flipV="1">
                <a:off x="3272760" y="449388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125520" y="44938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3122280" y="426528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3272760" y="426528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7" name=""/>
            <p:cNvSpPr/>
            <p:nvPr/>
          </p:nvSpPr>
          <p:spPr>
            <a:xfrm>
              <a:off x="3122280" y="42656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4689360" y="2921760"/>
            <a:ext cx="2552400" cy="1067760"/>
            <a:chOff x="4689360" y="2921760"/>
            <a:chExt cx="2552400" cy="1067760"/>
          </a:xfrm>
        </p:grpSpPr>
        <p:grpSp>
          <p:nvGrpSpPr>
            <p:cNvPr id="1999" name=""/>
            <p:cNvGrpSpPr/>
            <p:nvPr/>
          </p:nvGrpSpPr>
          <p:grpSpPr>
            <a:xfrm>
              <a:off x="6613560" y="2990880"/>
              <a:ext cx="266400" cy="998280"/>
              <a:chOff x="6613560" y="2990880"/>
              <a:chExt cx="266400" cy="998280"/>
            </a:xfrm>
          </p:grpSpPr>
          <p:grpSp>
            <p:nvGrpSpPr>
              <p:cNvPr id="2000" name=""/>
              <p:cNvGrpSpPr/>
              <p:nvPr/>
            </p:nvGrpSpPr>
            <p:grpSpPr>
              <a:xfrm>
                <a:off x="6613560" y="2990880"/>
                <a:ext cx="266400" cy="729000"/>
                <a:chOff x="6613560" y="2990880"/>
                <a:chExt cx="266400" cy="729000"/>
              </a:xfrm>
            </p:grpSpPr>
            <p:grpSp>
              <p:nvGrpSpPr>
                <p:cNvPr id="2001" name=""/>
                <p:cNvGrpSpPr/>
                <p:nvPr/>
              </p:nvGrpSpPr>
              <p:grpSpPr>
                <a:xfrm>
                  <a:off x="6613560" y="3201840"/>
                  <a:ext cx="266400" cy="76680"/>
                  <a:chOff x="6613560" y="3201840"/>
                  <a:chExt cx="266400" cy="7668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6613560" y="3201840"/>
                    <a:ext cx="26640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6613560" y="3278520"/>
                    <a:ext cx="26640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4" name=""/>
                <p:cNvSpPr/>
                <p:nvPr/>
              </p:nvSpPr>
              <p:spPr>
                <a:xfrm>
                  <a:off x="6708600" y="3451320"/>
                  <a:ext cx="95400" cy="2685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6746760" y="2990880"/>
                  <a:ext cx="0" cy="23004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6746760" y="3259440"/>
                  <a:ext cx="0" cy="1915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7" name=""/>
              <p:cNvSpPr/>
              <p:nvPr/>
            </p:nvSpPr>
            <p:spPr>
              <a:xfrm>
                <a:off x="6765840" y="3739680"/>
                <a:ext cx="0" cy="2494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"/>
            <p:cNvSpPr/>
            <p:nvPr/>
          </p:nvSpPr>
          <p:spPr>
            <a:xfrm>
              <a:off x="6785280" y="3378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824880" y="2921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0" name=""/>
            <p:cNvGrpSpPr/>
            <p:nvPr/>
          </p:nvGrpSpPr>
          <p:grpSpPr>
            <a:xfrm>
              <a:off x="5129280" y="2998800"/>
              <a:ext cx="266400" cy="990360"/>
              <a:chOff x="5129280" y="2998800"/>
              <a:chExt cx="266400" cy="990360"/>
            </a:xfrm>
          </p:grpSpPr>
          <p:grpSp>
            <p:nvGrpSpPr>
              <p:cNvPr id="2011" name=""/>
              <p:cNvGrpSpPr/>
              <p:nvPr/>
            </p:nvGrpSpPr>
            <p:grpSpPr>
              <a:xfrm>
                <a:off x="5129280" y="2998800"/>
                <a:ext cx="266400" cy="723240"/>
                <a:chOff x="5129280" y="2998800"/>
                <a:chExt cx="266400" cy="723240"/>
              </a:xfrm>
            </p:grpSpPr>
            <p:grpSp>
              <p:nvGrpSpPr>
                <p:cNvPr id="2012" name=""/>
                <p:cNvGrpSpPr/>
                <p:nvPr/>
              </p:nvGrpSpPr>
              <p:grpSpPr>
                <a:xfrm>
                  <a:off x="5129280" y="3207960"/>
                  <a:ext cx="266400" cy="75960"/>
                  <a:chOff x="5129280" y="3207960"/>
                  <a:chExt cx="266400" cy="7596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>
                    <a:off x="5129280" y="3207960"/>
                    <a:ext cx="26640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5129280" y="3283920"/>
                    <a:ext cx="26640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5" name=""/>
                <p:cNvSpPr/>
                <p:nvPr/>
              </p:nvSpPr>
              <p:spPr>
                <a:xfrm>
                  <a:off x="5224320" y="3455640"/>
                  <a:ext cx="95400" cy="2664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62480" y="299880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262480" y="3265200"/>
                  <a:ext cx="0" cy="1900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8" name=""/>
              <p:cNvSpPr/>
              <p:nvPr/>
            </p:nvSpPr>
            <p:spPr>
              <a:xfrm>
                <a:off x="5281560" y="3741480"/>
                <a:ext cx="0" cy="2476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9" name=""/>
            <p:cNvSpPr/>
            <p:nvPr/>
          </p:nvSpPr>
          <p:spPr>
            <a:xfrm>
              <a:off x="5318280" y="3303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375520" y="2923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173640" y="39844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2" name=""/>
            <p:cNvGrpSpPr/>
            <p:nvPr/>
          </p:nvGrpSpPr>
          <p:grpSpPr>
            <a:xfrm>
              <a:off x="5221440" y="2928600"/>
              <a:ext cx="1560240" cy="74520"/>
              <a:chOff x="5221440" y="2928600"/>
              <a:chExt cx="1560240" cy="74520"/>
            </a:xfrm>
          </p:grpSpPr>
          <p:sp>
            <p:nvSpPr>
              <p:cNvPr id="2023" name=""/>
              <p:cNvSpPr/>
              <p:nvPr/>
            </p:nvSpPr>
            <p:spPr>
              <a:xfrm flipV="1">
                <a:off x="6707160" y="292824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5221440" y="292824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5" name=""/>
            <p:cNvSpPr/>
            <p:nvPr/>
          </p:nvSpPr>
          <p:spPr>
            <a:xfrm>
              <a:off x="4689360" y="3989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"/>
          <p:cNvSpPr/>
          <p:nvPr/>
        </p:nvSpPr>
        <p:spPr>
          <a:xfrm>
            <a:off x="3733920" y="5410080"/>
            <a:ext cx="2112840" cy="858960"/>
          </a:xfrm>
          <a:prstGeom prst="wedgeRoundRectCallout">
            <a:avLst>
              <a:gd name="adj1" fmla="val -43990"/>
              <a:gd name="adj2" fmla="val -126708"/>
              <a:gd name="adj3" fmla="val 16667"/>
            </a:avLst>
          </a:prstGeom>
          <a:blipFill rotWithShape="0">
            <a:blip r:embed="rId45"/>
            <a:srcRect/>
            <a:tile tx="0" ty="0" sx="100000" sy="100000" algn="ctr"/>
          </a:blipFill>
          <a:ln w="3816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硒堆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硒整流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6937560" y="2922480"/>
            <a:ext cx="649080" cy="2396880"/>
            <a:chOff x="6937560" y="2922480"/>
            <a:chExt cx="649080" cy="2396880"/>
          </a:xfrm>
        </p:grpSpPr>
        <p:sp>
          <p:nvSpPr>
            <p:cNvPr id="2028" name=""/>
            <p:cNvSpPr/>
            <p:nvPr/>
          </p:nvSpPr>
          <p:spPr>
            <a:xfrm>
              <a:off x="7319880" y="3684600"/>
              <a:ext cx="2667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9" name=""/>
            <p:cNvGrpSpPr/>
            <p:nvPr/>
          </p:nvGrpSpPr>
          <p:grpSpPr>
            <a:xfrm>
              <a:off x="6937560" y="2922480"/>
              <a:ext cx="649080" cy="2396880"/>
              <a:chOff x="6937560" y="2922480"/>
              <a:chExt cx="649080" cy="2396880"/>
            </a:xfrm>
          </p:grpSpPr>
          <p:sp>
            <p:nvSpPr>
              <p:cNvPr id="2030" name=""/>
              <p:cNvSpPr/>
              <p:nvPr/>
            </p:nvSpPr>
            <p:spPr>
              <a:xfrm>
                <a:off x="7453440" y="2982960"/>
                <a:ext cx="0" cy="7016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453440" y="4503600"/>
                <a:ext cx="0" cy="781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319880" y="3795840"/>
                <a:ext cx="2667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361280" y="4294080"/>
                <a:ext cx="155520" cy="436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453440" y="3797280"/>
                <a:ext cx="0" cy="4968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971040" y="3683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5c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937560" y="42174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5c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7418520" y="292248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7418520" y="52444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9" name=""/>
          <p:cNvGrpSpPr/>
          <p:nvPr/>
        </p:nvGrpSpPr>
        <p:grpSpPr>
          <a:xfrm>
            <a:off x="1071720" y="927000"/>
            <a:ext cx="6705000" cy="171360"/>
            <a:chOff x="1071720" y="927000"/>
            <a:chExt cx="6705000" cy="171360"/>
          </a:xfrm>
        </p:grpSpPr>
        <p:pic>
          <p:nvPicPr>
            <p:cNvPr id="2040" name="" descr=""/>
            <p:cNvPicPr/>
            <p:nvPr/>
          </p:nvPicPr>
          <p:blipFill>
            <a:blip r:embed="rId46"/>
            <a:stretch/>
          </p:blipFill>
          <p:spPr>
            <a:xfrm>
              <a:off x="107172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1" name="" descr=""/>
            <p:cNvPicPr/>
            <p:nvPr/>
          </p:nvPicPr>
          <p:blipFill>
            <a:blip r:embed="rId47"/>
            <a:stretch/>
          </p:blipFill>
          <p:spPr>
            <a:xfrm>
              <a:off x="12333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2" name="" descr=""/>
            <p:cNvPicPr/>
            <p:nvPr/>
          </p:nvPicPr>
          <p:blipFill>
            <a:blip r:embed="rId48"/>
            <a:stretch/>
          </p:blipFill>
          <p:spPr>
            <a:xfrm>
              <a:off x="15285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49"/>
            <a:stretch/>
          </p:blipFill>
          <p:spPr>
            <a:xfrm>
              <a:off x="16905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" descr=""/>
            <p:cNvPicPr/>
            <p:nvPr/>
          </p:nvPicPr>
          <p:blipFill>
            <a:blip r:embed="rId50"/>
            <a:stretch/>
          </p:blipFill>
          <p:spPr>
            <a:xfrm>
              <a:off x="18432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" descr=""/>
            <p:cNvPicPr/>
            <p:nvPr/>
          </p:nvPicPr>
          <p:blipFill>
            <a:blip r:embed="rId51"/>
            <a:stretch/>
          </p:blipFill>
          <p:spPr>
            <a:xfrm>
              <a:off x="19857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" descr=""/>
            <p:cNvPicPr/>
            <p:nvPr/>
          </p:nvPicPr>
          <p:blipFill>
            <a:blip r:embed="rId52"/>
            <a:stretch/>
          </p:blipFill>
          <p:spPr>
            <a:xfrm>
              <a:off x="13860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" descr=""/>
            <p:cNvPicPr/>
            <p:nvPr/>
          </p:nvPicPr>
          <p:blipFill>
            <a:blip r:embed="rId53"/>
            <a:stretch/>
          </p:blipFill>
          <p:spPr>
            <a:xfrm>
              <a:off x="21477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" descr=""/>
            <p:cNvPicPr/>
            <p:nvPr/>
          </p:nvPicPr>
          <p:blipFill>
            <a:blip r:embed="rId54"/>
            <a:stretch/>
          </p:blipFill>
          <p:spPr>
            <a:xfrm>
              <a:off x="23004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9" name="" descr=""/>
            <p:cNvPicPr/>
            <p:nvPr/>
          </p:nvPicPr>
          <p:blipFill>
            <a:blip r:embed="rId55"/>
            <a:stretch/>
          </p:blipFill>
          <p:spPr>
            <a:xfrm>
              <a:off x="24429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0" name="" descr=""/>
            <p:cNvPicPr/>
            <p:nvPr/>
          </p:nvPicPr>
          <p:blipFill>
            <a:blip r:embed="rId56"/>
            <a:stretch/>
          </p:blipFill>
          <p:spPr>
            <a:xfrm>
              <a:off x="26049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1" name="" descr=""/>
            <p:cNvPicPr/>
            <p:nvPr/>
          </p:nvPicPr>
          <p:blipFill>
            <a:blip r:embed="rId57"/>
            <a:stretch/>
          </p:blipFill>
          <p:spPr>
            <a:xfrm>
              <a:off x="27576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2" name="" descr=""/>
            <p:cNvPicPr/>
            <p:nvPr/>
          </p:nvPicPr>
          <p:blipFill>
            <a:blip r:embed="rId58"/>
            <a:stretch/>
          </p:blipFill>
          <p:spPr>
            <a:xfrm>
              <a:off x="29001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3" name="" descr=""/>
            <p:cNvPicPr/>
            <p:nvPr/>
          </p:nvPicPr>
          <p:blipFill>
            <a:blip r:embed="rId59"/>
            <a:stretch/>
          </p:blipFill>
          <p:spPr>
            <a:xfrm>
              <a:off x="30621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4" name="" descr=""/>
            <p:cNvPicPr/>
            <p:nvPr/>
          </p:nvPicPr>
          <p:blipFill>
            <a:blip r:embed="rId60"/>
            <a:stretch/>
          </p:blipFill>
          <p:spPr>
            <a:xfrm>
              <a:off x="33573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61"/>
            <a:stretch/>
          </p:blipFill>
          <p:spPr>
            <a:xfrm>
              <a:off x="35193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6" name="" descr=""/>
            <p:cNvPicPr/>
            <p:nvPr/>
          </p:nvPicPr>
          <p:blipFill>
            <a:blip r:embed="rId62"/>
            <a:stretch/>
          </p:blipFill>
          <p:spPr>
            <a:xfrm>
              <a:off x="36720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7" name="" descr=""/>
            <p:cNvPicPr/>
            <p:nvPr/>
          </p:nvPicPr>
          <p:blipFill>
            <a:blip r:embed="rId63"/>
            <a:stretch/>
          </p:blipFill>
          <p:spPr>
            <a:xfrm>
              <a:off x="38145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8" name="" descr=""/>
            <p:cNvPicPr/>
            <p:nvPr/>
          </p:nvPicPr>
          <p:blipFill>
            <a:blip r:embed="rId64"/>
            <a:stretch/>
          </p:blipFill>
          <p:spPr>
            <a:xfrm>
              <a:off x="39765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9" name="" descr=""/>
            <p:cNvPicPr/>
            <p:nvPr/>
          </p:nvPicPr>
          <p:blipFill>
            <a:blip r:embed="rId65"/>
            <a:stretch/>
          </p:blipFill>
          <p:spPr>
            <a:xfrm>
              <a:off x="42717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0" name="" descr=""/>
            <p:cNvPicPr/>
            <p:nvPr/>
          </p:nvPicPr>
          <p:blipFill>
            <a:blip r:embed="rId66"/>
            <a:stretch/>
          </p:blipFill>
          <p:spPr>
            <a:xfrm>
              <a:off x="44337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1" name="" descr=""/>
            <p:cNvPicPr/>
            <p:nvPr/>
          </p:nvPicPr>
          <p:blipFill>
            <a:blip r:embed="rId67"/>
            <a:stretch/>
          </p:blipFill>
          <p:spPr>
            <a:xfrm>
              <a:off x="45864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2" name="" descr=""/>
            <p:cNvPicPr/>
            <p:nvPr/>
          </p:nvPicPr>
          <p:blipFill>
            <a:blip r:embed="rId68"/>
            <a:stretch/>
          </p:blipFill>
          <p:spPr>
            <a:xfrm>
              <a:off x="47289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3" name="" descr=""/>
            <p:cNvPicPr/>
            <p:nvPr/>
          </p:nvPicPr>
          <p:blipFill>
            <a:blip r:embed="rId69"/>
            <a:stretch/>
          </p:blipFill>
          <p:spPr>
            <a:xfrm>
              <a:off x="32148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4" name="" descr=""/>
            <p:cNvPicPr/>
            <p:nvPr/>
          </p:nvPicPr>
          <p:blipFill>
            <a:blip r:embed="rId70"/>
            <a:stretch/>
          </p:blipFill>
          <p:spPr>
            <a:xfrm>
              <a:off x="41292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5" name="" descr=""/>
            <p:cNvPicPr/>
            <p:nvPr/>
          </p:nvPicPr>
          <p:blipFill>
            <a:blip r:embed="rId71"/>
            <a:stretch/>
          </p:blipFill>
          <p:spPr>
            <a:xfrm>
              <a:off x="48909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6" name="" descr=""/>
            <p:cNvPicPr/>
            <p:nvPr/>
          </p:nvPicPr>
          <p:blipFill>
            <a:blip r:embed="rId72"/>
            <a:stretch/>
          </p:blipFill>
          <p:spPr>
            <a:xfrm>
              <a:off x="50436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7" name="" descr=""/>
            <p:cNvPicPr/>
            <p:nvPr/>
          </p:nvPicPr>
          <p:blipFill>
            <a:blip r:embed="rId73"/>
            <a:stretch/>
          </p:blipFill>
          <p:spPr>
            <a:xfrm>
              <a:off x="51861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8" name="" descr=""/>
            <p:cNvPicPr/>
            <p:nvPr/>
          </p:nvPicPr>
          <p:blipFill>
            <a:blip r:embed="rId74"/>
            <a:stretch/>
          </p:blipFill>
          <p:spPr>
            <a:xfrm>
              <a:off x="53481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9" name="" descr=""/>
            <p:cNvPicPr/>
            <p:nvPr/>
          </p:nvPicPr>
          <p:blipFill>
            <a:blip r:embed="rId75"/>
            <a:stretch/>
          </p:blipFill>
          <p:spPr>
            <a:xfrm>
              <a:off x="55008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0" name="" descr=""/>
            <p:cNvPicPr/>
            <p:nvPr/>
          </p:nvPicPr>
          <p:blipFill>
            <a:blip r:embed="rId76"/>
            <a:stretch/>
          </p:blipFill>
          <p:spPr>
            <a:xfrm>
              <a:off x="56433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1" name="" descr=""/>
            <p:cNvPicPr/>
            <p:nvPr/>
          </p:nvPicPr>
          <p:blipFill>
            <a:blip r:embed="rId77"/>
            <a:stretch/>
          </p:blipFill>
          <p:spPr>
            <a:xfrm>
              <a:off x="58053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2" name="" descr=""/>
            <p:cNvPicPr/>
            <p:nvPr/>
          </p:nvPicPr>
          <p:blipFill>
            <a:blip r:embed="rId78"/>
            <a:stretch/>
          </p:blipFill>
          <p:spPr>
            <a:xfrm>
              <a:off x="61005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3" name="" descr=""/>
            <p:cNvPicPr/>
            <p:nvPr/>
          </p:nvPicPr>
          <p:blipFill>
            <a:blip r:embed="rId79"/>
            <a:stretch/>
          </p:blipFill>
          <p:spPr>
            <a:xfrm>
              <a:off x="62625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4" name="" descr=""/>
            <p:cNvPicPr/>
            <p:nvPr/>
          </p:nvPicPr>
          <p:blipFill>
            <a:blip r:embed="rId80"/>
            <a:stretch/>
          </p:blipFill>
          <p:spPr>
            <a:xfrm>
              <a:off x="64152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5" name="" descr=""/>
            <p:cNvPicPr/>
            <p:nvPr/>
          </p:nvPicPr>
          <p:blipFill>
            <a:blip r:embed="rId81"/>
            <a:stretch/>
          </p:blipFill>
          <p:spPr>
            <a:xfrm>
              <a:off x="65577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6" name="" descr=""/>
            <p:cNvPicPr/>
            <p:nvPr/>
          </p:nvPicPr>
          <p:blipFill>
            <a:blip r:embed="rId82"/>
            <a:stretch/>
          </p:blipFill>
          <p:spPr>
            <a:xfrm>
              <a:off x="6719760" y="927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" descr=""/>
            <p:cNvPicPr/>
            <p:nvPr/>
          </p:nvPicPr>
          <p:blipFill>
            <a:blip r:embed="rId83"/>
            <a:stretch/>
          </p:blipFill>
          <p:spPr>
            <a:xfrm>
              <a:off x="5958000" y="9270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8" name="" descr=""/>
            <p:cNvPicPr/>
            <p:nvPr/>
          </p:nvPicPr>
          <p:blipFill>
            <a:blip r:embed="rId84"/>
            <a:stretch/>
          </p:blipFill>
          <p:spPr>
            <a:xfrm>
              <a:off x="6996240" y="9363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" descr=""/>
            <p:cNvPicPr/>
            <p:nvPr/>
          </p:nvPicPr>
          <p:blipFill>
            <a:blip r:embed="rId85"/>
            <a:stretch/>
          </p:blipFill>
          <p:spPr>
            <a:xfrm>
              <a:off x="7157880" y="936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0" name="" descr=""/>
            <p:cNvPicPr/>
            <p:nvPr/>
          </p:nvPicPr>
          <p:blipFill>
            <a:blip r:embed="rId86"/>
            <a:stretch/>
          </p:blipFill>
          <p:spPr>
            <a:xfrm>
              <a:off x="7310520" y="9363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1" name="" descr=""/>
            <p:cNvPicPr/>
            <p:nvPr/>
          </p:nvPicPr>
          <p:blipFill>
            <a:blip r:embed="rId87"/>
            <a:stretch/>
          </p:blipFill>
          <p:spPr>
            <a:xfrm>
              <a:off x="7453440" y="9363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2" name="" descr=""/>
            <p:cNvPicPr/>
            <p:nvPr/>
          </p:nvPicPr>
          <p:blipFill>
            <a:blip r:embed="rId88"/>
            <a:stretch/>
          </p:blipFill>
          <p:spPr>
            <a:xfrm>
              <a:off x="7615080" y="936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3" name="" descr=""/>
            <p:cNvPicPr/>
            <p:nvPr/>
          </p:nvPicPr>
          <p:blipFill>
            <a:blip r:embed="rId89"/>
            <a:stretch/>
          </p:blipFill>
          <p:spPr>
            <a:xfrm>
              <a:off x="6853320" y="936360"/>
              <a:ext cx="161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4" name=""/>
          <p:cNvGrpSpPr/>
          <p:nvPr/>
        </p:nvGrpSpPr>
        <p:grpSpPr>
          <a:xfrm>
            <a:off x="916200" y="2928600"/>
            <a:ext cx="7383240" cy="2514960"/>
            <a:chOff x="916200" y="2928600"/>
            <a:chExt cx="7383240" cy="2514960"/>
          </a:xfrm>
        </p:grpSpPr>
        <p:grpSp>
          <p:nvGrpSpPr>
            <p:cNvPr id="2085" name=""/>
            <p:cNvGrpSpPr/>
            <p:nvPr/>
          </p:nvGrpSpPr>
          <p:grpSpPr>
            <a:xfrm>
              <a:off x="916200" y="2928600"/>
              <a:ext cx="7383240" cy="2514960"/>
              <a:chOff x="916200" y="2928600"/>
              <a:chExt cx="7383240" cy="2514960"/>
            </a:xfrm>
          </p:grpSpPr>
          <p:grpSp>
            <p:nvGrpSpPr>
              <p:cNvPr id="2086" name=""/>
              <p:cNvGrpSpPr/>
              <p:nvPr/>
            </p:nvGrpSpPr>
            <p:grpSpPr>
              <a:xfrm>
                <a:off x="916200" y="2928600"/>
                <a:ext cx="6364080" cy="2514960"/>
                <a:chOff x="916200" y="2928600"/>
                <a:chExt cx="6364080" cy="251496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2668680" y="5408640"/>
                  <a:ext cx="1226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flipV="1">
                  <a:off x="2725560" y="3173040"/>
                  <a:ext cx="1161720" cy="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9" name=""/>
                <p:cNvGrpSpPr/>
                <p:nvPr/>
              </p:nvGrpSpPr>
              <p:grpSpPr>
                <a:xfrm>
                  <a:off x="4460760" y="4738680"/>
                  <a:ext cx="385560" cy="219240"/>
                  <a:chOff x="4460760" y="4738680"/>
                  <a:chExt cx="385560" cy="21924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4460760" y="4749840"/>
                    <a:ext cx="385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4512960" y="4738680"/>
                    <a:ext cx="160560" cy="219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4512960" y="4957920"/>
                    <a:ext cx="306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4686120" y="4749840"/>
                    <a:ext cx="127080" cy="20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4" name=""/>
                <p:cNvSpPr/>
                <p:nvPr/>
              </p:nvSpPr>
              <p:spPr>
                <a:xfrm>
                  <a:off x="4678200" y="5295960"/>
                  <a:ext cx="2490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>
                  <a:off x="3862080" y="4503600"/>
                  <a:ext cx="2343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3889440" y="4492800"/>
                  <a:ext cx="0" cy="931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881520" y="3192480"/>
                  <a:ext cx="0" cy="79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8" name=""/>
                <p:cNvGrpSpPr/>
                <p:nvPr/>
              </p:nvGrpSpPr>
              <p:grpSpPr>
                <a:xfrm>
                  <a:off x="4468680" y="3155760"/>
                  <a:ext cx="419400" cy="376560"/>
                  <a:chOff x="4468680" y="3155760"/>
                  <a:chExt cx="419400" cy="376560"/>
                </a:xfrm>
              </p:grpSpPr>
              <p:sp>
                <p:nvSpPr>
                  <p:cNvPr id="2099" name=""/>
                  <p:cNvSpPr/>
                  <p:nvPr/>
                </p:nvSpPr>
                <p:spPr>
                  <a:xfrm>
                    <a:off x="4468680" y="3321000"/>
                    <a:ext cx="385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 flipH="1">
                    <a:off x="4510080" y="3309840"/>
                    <a:ext cx="162000" cy="222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4519440" y="3532320"/>
                    <a:ext cx="306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4684680" y="3321000"/>
                    <a:ext cx="127080" cy="211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 flipV="1">
                    <a:off x="4735440" y="3155760"/>
                    <a:ext cx="15264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"/>
                <p:cNvGrpSpPr/>
                <p:nvPr/>
              </p:nvGrpSpPr>
              <p:grpSpPr>
                <a:xfrm>
                  <a:off x="5983200" y="3281040"/>
                  <a:ext cx="419040" cy="495720"/>
                  <a:chOff x="5983200" y="3281040"/>
                  <a:chExt cx="419040" cy="495720"/>
                </a:xfrm>
              </p:grpSpPr>
              <p:sp>
                <p:nvSpPr>
                  <p:cNvPr id="2105" name=""/>
                  <p:cNvSpPr/>
                  <p:nvPr/>
                </p:nvSpPr>
                <p:spPr>
                  <a:xfrm>
                    <a:off x="5983200" y="3446640"/>
                    <a:ext cx="385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 flipH="1">
                    <a:off x="6024240" y="3435480"/>
                    <a:ext cx="161640" cy="222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6033960" y="3657600"/>
                    <a:ext cx="306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6199200" y="3446640"/>
                    <a:ext cx="127080" cy="210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6195960" y="3292560"/>
                    <a:ext cx="0" cy="484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 flipV="1">
                    <a:off x="6249960" y="3281040"/>
                    <a:ext cx="15228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1" name=""/>
                <p:cNvSpPr/>
                <p:nvPr/>
              </p:nvSpPr>
              <p:spPr>
                <a:xfrm>
                  <a:off x="4687920" y="2962440"/>
                  <a:ext cx="0" cy="2311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192720" y="3691080"/>
                  <a:ext cx="0" cy="161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flipH="1">
                  <a:off x="3851280" y="3989520"/>
                  <a:ext cx="8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4" name=""/>
                <p:cNvGrpSpPr/>
                <p:nvPr/>
              </p:nvGrpSpPr>
              <p:grpSpPr>
                <a:xfrm>
                  <a:off x="5965920" y="4795920"/>
                  <a:ext cx="385560" cy="218880"/>
                  <a:chOff x="5965920" y="4795920"/>
                  <a:chExt cx="385560" cy="218880"/>
                </a:xfrm>
              </p:grpSpPr>
              <p:sp>
                <p:nvSpPr>
                  <p:cNvPr id="2115" name=""/>
                  <p:cNvSpPr/>
                  <p:nvPr/>
                </p:nvSpPr>
                <p:spPr>
                  <a:xfrm>
                    <a:off x="5965920" y="4806720"/>
                    <a:ext cx="385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 flipH="1">
                    <a:off x="6018120" y="4795920"/>
                    <a:ext cx="160560" cy="218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6018120" y="5014800"/>
                    <a:ext cx="306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>
                    <a:off x="6191280" y="4806720"/>
                    <a:ext cx="127080" cy="20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9" name=""/>
                <p:cNvSpPr/>
                <p:nvPr/>
              </p:nvSpPr>
              <p:spPr>
                <a:xfrm flipV="1">
                  <a:off x="6192720" y="2986200"/>
                  <a:ext cx="0" cy="34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V="1">
                  <a:off x="6154920" y="4471200"/>
                  <a:ext cx="745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V="1">
                  <a:off x="6154920" y="3938040"/>
                  <a:ext cx="745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V="1">
                  <a:off x="6154920" y="2928240"/>
                  <a:ext cx="745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V="1">
                  <a:off x="6135840" y="5233320"/>
                  <a:ext cx="745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4" name=""/>
                <p:cNvGrpSpPr/>
                <p:nvPr/>
              </p:nvGrpSpPr>
              <p:grpSpPr>
                <a:xfrm>
                  <a:off x="1100520" y="3503520"/>
                  <a:ext cx="1332360" cy="1316160"/>
                  <a:chOff x="1100520" y="3503520"/>
                  <a:chExt cx="1332360" cy="1316160"/>
                </a:xfrm>
              </p:grpSpPr>
              <p:sp>
                <p:nvSpPr>
                  <p:cNvPr id="2125" name=""/>
                  <p:cNvSpPr/>
                  <p:nvPr/>
                </p:nvSpPr>
                <p:spPr>
                  <a:xfrm rot="5400000">
                    <a:off x="1528920" y="3915720"/>
                    <a:ext cx="475560" cy="133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 rot="5400000">
                    <a:off x="1527480" y="3076560"/>
                    <a:ext cx="478440" cy="133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 rot="5400000">
                    <a:off x="1528920" y="3358440"/>
                    <a:ext cx="475560" cy="133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 rot="5400000">
                    <a:off x="1528920" y="3639240"/>
                    <a:ext cx="475560" cy="133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9" name=""/>
                <p:cNvGrpSpPr/>
                <p:nvPr/>
              </p:nvGrpSpPr>
              <p:grpSpPr>
                <a:xfrm>
                  <a:off x="2567880" y="3484440"/>
                  <a:ext cx="1332360" cy="1316160"/>
                  <a:chOff x="2567880" y="3484440"/>
                  <a:chExt cx="1332360" cy="1316160"/>
                </a:xfrm>
              </p:grpSpPr>
              <p:sp>
                <p:nvSpPr>
                  <p:cNvPr id="2130" name=""/>
                  <p:cNvSpPr/>
                  <p:nvPr/>
                </p:nvSpPr>
                <p:spPr>
                  <a:xfrm flipH="1" rot="16200000">
                    <a:off x="2995920" y="3896640"/>
                    <a:ext cx="475560" cy="133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 rot="16200000">
                    <a:off x="2994480" y="3057480"/>
                    <a:ext cx="478440" cy="133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 flipH="1" rot="16200000">
                    <a:off x="2995920" y="3339360"/>
                    <a:ext cx="475560" cy="133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H="1" rot="16200000">
                    <a:off x="2995920" y="3620160"/>
                    <a:ext cx="475560" cy="133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4" name=""/>
                <p:cNvSpPr/>
                <p:nvPr/>
              </p:nvSpPr>
              <p:spPr>
                <a:xfrm>
                  <a:off x="2744640" y="3176640"/>
                  <a:ext cx="0" cy="43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687760" y="4681440"/>
                  <a:ext cx="0" cy="743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325600" y="4700520"/>
                  <a:ext cx="0" cy="743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306520" y="3176640"/>
                  <a:ext cx="0" cy="43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>
                  <a:off x="1220760" y="3176640"/>
                  <a:ext cx="108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>
                  <a:off x="1239840" y="5424480"/>
                  <a:ext cx="108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916200" y="3999960"/>
                  <a:ext cx="418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~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V="1">
                  <a:off x="1220760" y="3137760"/>
                  <a:ext cx="745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1182600" y="5367240"/>
                  <a:ext cx="7488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4649760" y="3949560"/>
                  <a:ext cx="7452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4689360" y="2959200"/>
                  <a:ext cx="2590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5" name=""/>
              <p:cNvSpPr/>
              <p:nvPr/>
            </p:nvSpPr>
            <p:spPr>
              <a:xfrm>
                <a:off x="7240680" y="295920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161120" y="5294160"/>
                <a:ext cx="106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7" name=""/>
              <p:cNvGrpSpPr/>
              <p:nvPr/>
            </p:nvGrpSpPr>
            <p:grpSpPr>
              <a:xfrm>
                <a:off x="8143920" y="2973240"/>
                <a:ext cx="155520" cy="2302200"/>
                <a:chOff x="8143920" y="2973240"/>
                <a:chExt cx="155520" cy="2302200"/>
              </a:xfrm>
            </p:grpSpPr>
            <p:sp>
              <p:nvSpPr>
                <p:cNvPr id="2148" name=""/>
                <p:cNvSpPr/>
                <p:nvPr/>
              </p:nvSpPr>
              <p:spPr>
                <a:xfrm>
                  <a:off x="8213760" y="2973240"/>
                  <a:ext cx="0" cy="40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213760" y="4494240"/>
                  <a:ext cx="0" cy="781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8143920" y="4390920"/>
                  <a:ext cx="155520" cy="436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8213760" y="3975120"/>
                  <a:ext cx="0" cy="39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2" name=""/>
              <p:cNvGrpSpPr/>
              <p:nvPr/>
            </p:nvGrpSpPr>
            <p:grpSpPr>
              <a:xfrm>
                <a:off x="7263000" y="3319560"/>
                <a:ext cx="1028160" cy="745200"/>
                <a:chOff x="7263000" y="3319560"/>
                <a:chExt cx="1028160" cy="745200"/>
              </a:xfrm>
            </p:grpSpPr>
            <p:sp>
              <p:nvSpPr>
                <p:cNvPr id="2153" name=""/>
                <p:cNvSpPr/>
                <p:nvPr/>
              </p:nvSpPr>
              <p:spPr>
                <a:xfrm rot="5400000">
                  <a:off x="7605360" y="2976840"/>
                  <a:ext cx="343080" cy="102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rot="5400000">
                  <a:off x="7606800" y="3178440"/>
                  <a:ext cx="340560" cy="102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rot="5400000">
                  <a:off x="7606440" y="3380040"/>
                  <a:ext cx="341280" cy="102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6" name=""/>
            <p:cNvSpPr/>
            <p:nvPr/>
          </p:nvSpPr>
          <p:spPr>
            <a:xfrm>
              <a:off x="7739280" y="438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749000" y="3455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6324480" y="5389560"/>
            <a:ext cx="2113200" cy="858960"/>
          </a:xfrm>
          <a:prstGeom prst="wedgeRoundRectCallout">
            <a:avLst>
              <a:gd name="adj1" fmla="val -47745"/>
              <a:gd name="adj2" fmla="val -229666"/>
              <a:gd name="adj3" fmla="val 16667"/>
            </a:avLst>
          </a:prstGeom>
          <a:blipFill rotWithShape="0">
            <a:blip r:embed="rId90"/>
            <a:srcRect/>
            <a:tile tx="0" ty="0" sx="100000" sy="100000" algn="ctr"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晶闸管元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阻容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单结晶体管触发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00200" y="154080"/>
            <a:ext cx="589284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69498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4.1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单结晶体管结构及工作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2" name=""/>
          <p:cNvGrpSpPr/>
          <p:nvPr/>
        </p:nvGrpSpPr>
        <p:grpSpPr>
          <a:xfrm>
            <a:off x="1504800" y="990720"/>
            <a:ext cx="5810400" cy="161640"/>
            <a:chOff x="1504800" y="990720"/>
            <a:chExt cx="5810400" cy="161640"/>
          </a:xfrm>
        </p:grpSpPr>
        <p:pic>
          <p:nvPicPr>
            <p:cNvPr id="2163" name="" descr=""/>
            <p:cNvPicPr/>
            <p:nvPr/>
          </p:nvPicPr>
          <p:blipFill>
            <a:blip r:embed="rId1"/>
            <a:stretch/>
          </p:blipFill>
          <p:spPr>
            <a:xfrm>
              <a:off x="1504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4" name="" descr=""/>
            <p:cNvPicPr/>
            <p:nvPr/>
          </p:nvPicPr>
          <p:blipFill>
            <a:blip r:embed="rId2"/>
            <a:stretch/>
          </p:blipFill>
          <p:spPr>
            <a:xfrm>
              <a:off x="1666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5" name="" descr=""/>
            <p:cNvPicPr/>
            <p:nvPr/>
          </p:nvPicPr>
          <p:blipFill>
            <a:blip r:embed="rId3"/>
            <a:stretch/>
          </p:blipFill>
          <p:spPr>
            <a:xfrm>
              <a:off x="1962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6" name="" descr=""/>
            <p:cNvPicPr/>
            <p:nvPr/>
          </p:nvPicPr>
          <p:blipFill>
            <a:blip r:embed="rId4"/>
            <a:stretch/>
          </p:blipFill>
          <p:spPr>
            <a:xfrm>
              <a:off x="2124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7" name="" descr=""/>
            <p:cNvPicPr/>
            <p:nvPr/>
          </p:nvPicPr>
          <p:blipFill>
            <a:blip r:embed="rId5"/>
            <a:stretch/>
          </p:blipFill>
          <p:spPr>
            <a:xfrm>
              <a:off x="2276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8" name="" descr=""/>
            <p:cNvPicPr/>
            <p:nvPr/>
          </p:nvPicPr>
          <p:blipFill>
            <a:blip r:embed="rId6"/>
            <a:stretch/>
          </p:blipFill>
          <p:spPr>
            <a:xfrm>
              <a:off x="2419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9" name="" descr=""/>
            <p:cNvPicPr/>
            <p:nvPr/>
          </p:nvPicPr>
          <p:blipFill>
            <a:blip r:embed="rId7"/>
            <a:stretch/>
          </p:blipFill>
          <p:spPr>
            <a:xfrm>
              <a:off x="1819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0" name="" descr=""/>
            <p:cNvPicPr/>
            <p:nvPr/>
          </p:nvPicPr>
          <p:blipFill>
            <a:blip r:embed="rId8"/>
            <a:stretch/>
          </p:blipFill>
          <p:spPr>
            <a:xfrm>
              <a:off x="2581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1" name="" descr=""/>
            <p:cNvPicPr/>
            <p:nvPr/>
          </p:nvPicPr>
          <p:blipFill>
            <a:blip r:embed="rId9"/>
            <a:stretch/>
          </p:blipFill>
          <p:spPr>
            <a:xfrm>
              <a:off x="2733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2" name="" descr=""/>
            <p:cNvPicPr/>
            <p:nvPr/>
          </p:nvPicPr>
          <p:blipFill>
            <a:blip r:embed="rId10"/>
            <a:stretch/>
          </p:blipFill>
          <p:spPr>
            <a:xfrm>
              <a:off x="28764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3" name="" descr=""/>
            <p:cNvPicPr/>
            <p:nvPr/>
          </p:nvPicPr>
          <p:blipFill>
            <a:blip r:embed="rId11"/>
            <a:stretch/>
          </p:blipFill>
          <p:spPr>
            <a:xfrm>
              <a:off x="30384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4" name="" descr=""/>
            <p:cNvPicPr/>
            <p:nvPr/>
          </p:nvPicPr>
          <p:blipFill>
            <a:blip r:embed="rId12"/>
            <a:stretch/>
          </p:blipFill>
          <p:spPr>
            <a:xfrm>
              <a:off x="3190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5" name="" descr=""/>
            <p:cNvPicPr/>
            <p:nvPr/>
          </p:nvPicPr>
          <p:blipFill>
            <a:blip r:embed="rId13"/>
            <a:stretch/>
          </p:blipFill>
          <p:spPr>
            <a:xfrm>
              <a:off x="33336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6" name="" descr=""/>
            <p:cNvPicPr/>
            <p:nvPr/>
          </p:nvPicPr>
          <p:blipFill>
            <a:blip r:embed="rId14"/>
            <a:stretch/>
          </p:blipFill>
          <p:spPr>
            <a:xfrm>
              <a:off x="34956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7" name="" descr=""/>
            <p:cNvPicPr/>
            <p:nvPr/>
          </p:nvPicPr>
          <p:blipFill>
            <a:blip r:embed="rId15"/>
            <a:stretch/>
          </p:blipFill>
          <p:spPr>
            <a:xfrm>
              <a:off x="3790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8" name="" descr=""/>
            <p:cNvPicPr/>
            <p:nvPr/>
          </p:nvPicPr>
          <p:blipFill>
            <a:blip r:embed="rId16"/>
            <a:stretch/>
          </p:blipFill>
          <p:spPr>
            <a:xfrm>
              <a:off x="3952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9" name="" descr=""/>
            <p:cNvPicPr/>
            <p:nvPr/>
          </p:nvPicPr>
          <p:blipFill>
            <a:blip r:embed="rId17"/>
            <a:stretch/>
          </p:blipFill>
          <p:spPr>
            <a:xfrm>
              <a:off x="4105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0" name="" descr=""/>
            <p:cNvPicPr/>
            <p:nvPr/>
          </p:nvPicPr>
          <p:blipFill>
            <a:blip r:embed="rId18"/>
            <a:stretch/>
          </p:blipFill>
          <p:spPr>
            <a:xfrm>
              <a:off x="4248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1" name="" descr=""/>
            <p:cNvPicPr/>
            <p:nvPr/>
          </p:nvPicPr>
          <p:blipFill>
            <a:blip r:embed="rId19"/>
            <a:stretch/>
          </p:blipFill>
          <p:spPr>
            <a:xfrm>
              <a:off x="4410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2" name="" descr=""/>
            <p:cNvPicPr/>
            <p:nvPr/>
          </p:nvPicPr>
          <p:blipFill>
            <a:blip r:embed="rId20"/>
            <a:stretch/>
          </p:blipFill>
          <p:spPr>
            <a:xfrm>
              <a:off x="4705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3" name="" descr=""/>
            <p:cNvPicPr/>
            <p:nvPr/>
          </p:nvPicPr>
          <p:blipFill>
            <a:blip r:embed="rId21"/>
            <a:stretch/>
          </p:blipFill>
          <p:spPr>
            <a:xfrm>
              <a:off x="4867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4" name="" descr=""/>
            <p:cNvPicPr/>
            <p:nvPr/>
          </p:nvPicPr>
          <p:blipFill>
            <a:blip r:embed="rId22"/>
            <a:stretch/>
          </p:blipFill>
          <p:spPr>
            <a:xfrm>
              <a:off x="5019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5" name="" descr=""/>
            <p:cNvPicPr/>
            <p:nvPr/>
          </p:nvPicPr>
          <p:blipFill>
            <a:blip r:embed="rId23"/>
            <a:stretch/>
          </p:blipFill>
          <p:spPr>
            <a:xfrm>
              <a:off x="51624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6" name="" descr=""/>
            <p:cNvPicPr/>
            <p:nvPr/>
          </p:nvPicPr>
          <p:blipFill>
            <a:blip r:embed="rId24"/>
            <a:stretch/>
          </p:blipFill>
          <p:spPr>
            <a:xfrm>
              <a:off x="3647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7" name="" descr=""/>
            <p:cNvPicPr/>
            <p:nvPr/>
          </p:nvPicPr>
          <p:blipFill>
            <a:blip r:embed="rId25"/>
            <a:stretch/>
          </p:blipFill>
          <p:spPr>
            <a:xfrm>
              <a:off x="4562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8" name="" descr=""/>
            <p:cNvPicPr/>
            <p:nvPr/>
          </p:nvPicPr>
          <p:blipFill>
            <a:blip r:embed="rId26"/>
            <a:stretch/>
          </p:blipFill>
          <p:spPr>
            <a:xfrm>
              <a:off x="53244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9" name="" descr=""/>
            <p:cNvPicPr/>
            <p:nvPr/>
          </p:nvPicPr>
          <p:blipFill>
            <a:blip r:embed="rId27"/>
            <a:stretch/>
          </p:blipFill>
          <p:spPr>
            <a:xfrm>
              <a:off x="5476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0" name="" descr=""/>
            <p:cNvPicPr/>
            <p:nvPr/>
          </p:nvPicPr>
          <p:blipFill>
            <a:blip r:embed="rId28"/>
            <a:stretch/>
          </p:blipFill>
          <p:spPr>
            <a:xfrm>
              <a:off x="56196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" descr=""/>
            <p:cNvPicPr/>
            <p:nvPr/>
          </p:nvPicPr>
          <p:blipFill>
            <a:blip r:embed="rId29"/>
            <a:stretch/>
          </p:blipFill>
          <p:spPr>
            <a:xfrm>
              <a:off x="57816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" descr=""/>
            <p:cNvPicPr/>
            <p:nvPr/>
          </p:nvPicPr>
          <p:blipFill>
            <a:blip r:embed="rId30"/>
            <a:stretch/>
          </p:blipFill>
          <p:spPr>
            <a:xfrm>
              <a:off x="5933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3" name="" descr=""/>
            <p:cNvPicPr/>
            <p:nvPr/>
          </p:nvPicPr>
          <p:blipFill>
            <a:blip r:embed="rId31"/>
            <a:stretch/>
          </p:blipFill>
          <p:spPr>
            <a:xfrm>
              <a:off x="6076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" descr=""/>
            <p:cNvPicPr/>
            <p:nvPr/>
          </p:nvPicPr>
          <p:blipFill>
            <a:blip r:embed="rId32"/>
            <a:stretch/>
          </p:blipFill>
          <p:spPr>
            <a:xfrm>
              <a:off x="6238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5" name="" descr=""/>
            <p:cNvPicPr/>
            <p:nvPr/>
          </p:nvPicPr>
          <p:blipFill>
            <a:blip r:embed="rId33"/>
            <a:stretch/>
          </p:blipFill>
          <p:spPr>
            <a:xfrm>
              <a:off x="6534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6" name="" descr=""/>
            <p:cNvPicPr/>
            <p:nvPr/>
          </p:nvPicPr>
          <p:blipFill>
            <a:blip r:embed="rId34"/>
            <a:stretch/>
          </p:blipFill>
          <p:spPr>
            <a:xfrm>
              <a:off x="6696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7" name="" descr=""/>
            <p:cNvPicPr/>
            <p:nvPr/>
          </p:nvPicPr>
          <p:blipFill>
            <a:blip r:embed="rId35"/>
            <a:stretch/>
          </p:blipFill>
          <p:spPr>
            <a:xfrm>
              <a:off x="6848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8" name="" descr=""/>
            <p:cNvPicPr/>
            <p:nvPr/>
          </p:nvPicPr>
          <p:blipFill>
            <a:blip r:embed="rId36"/>
            <a:stretch/>
          </p:blipFill>
          <p:spPr>
            <a:xfrm>
              <a:off x="6991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9" name="" descr=""/>
            <p:cNvPicPr/>
            <p:nvPr/>
          </p:nvPicPr>
          <p:blipFill>
            <a:blip r:embed="rId37"/>
            <a:stretch/>
          </p:blipFill>
          <p:spPr>
            <a:xfrm>
              <a:off x="7153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" descr=""/>
            <p:cNvPicPr/>
            <p:nvPr/>
          </p:nvPicPr>
          <p:blipFill>
            <a:blip r:embed="rId38"/>
            <a:stretch/>
          </p:blipFill>
          <p:spPr>
            <a:xfrm>
              <a:off x="6391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1" name=""/>
          <p:cNvGrpSpPr/>
          <p:nvPr/>
        </p:nvGrpSpPr>
        <p:grpSpPr>
          <a:xfrm>
            <a:off x="1053720" y="1726200"/>
            <a:ext cx="5118480" cy="3558240"/>
            <a:chOff x="1053720" y="1726200"/>
            <a:chExt cx="5118480" cy="3558240"/>
          </a:xfrm>
        </p:grpSpPr>
        <p:sp>
          <p:nvSpPr>
            <p:cNvPr id="2202" name=""/>
            <p:cNvSpPr/>
            <p:nvPr/>
          </p:nvSpPr>
          <p:spPr>
            <a:xfrm>
              <a:off x="3405600" y="172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1053720" y="2284920"/>
              <a:ext cx="5118480" cy="2999520"/>
              <a:chOff x="1053720" y="2284920"/>
              <a:chExt cx="5118480" cy="29995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134960" y="22849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宋体"/>
                  </a:rPr>
                  <a:t>第二基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513600" y="47743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597120" y="2286000"/>
                <a:ext cx="152640" cy="55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597120" y="4302360"/>
                <a:ext cx="152640" cy="552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200400" y="3809160"/>
                <a:ext cx="527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124080" y="2514600"/>
                <a:ext cx="457200" cy="2019600"/>
              </a:xfrm>
              <a:prstGeom prst="rect">
                <a:avLst/>
              </a:prstGeom>
              <a:solidFill>
                <a:srgbClr val="99ff33"/>
              </a:solidFill>
              <a:ln w="1908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 flipV="1">
                <a:off x="3811680" y="2667240"/>
                <a:ext cx="925200" cy="10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H="1">
                <a:off x="3809880" y="3697560"/>
                <a:ext cx="876240" cy="77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724280" y="3276720"/>
                <a:ext cx="144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5c00"/>
                    </a:solidFill>
                    <a:latin typeface="Times New Roman"/>
                  </a:rPr>
                  <a:t>欧姆接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5c00"/>
                    </a:solidFill>
                    <a:latin typeface="Times New Roman"/>
                  </a:rPr>
                  <a:t>接触电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 rot="430800">
                <a:off x="3138480" y="3012480"/>
                <a:ext cx="138240" cy="339840"/>
              </a:xfrm>
              <a:custGeom>
                <a:avLst/>
                <a:gdLst/>
                <a:ahLst/>
                <a:rect l="l" t="t" r="r" b="b"/>
                <a:pathLst>
                  <a:path w="298" h="552">
                    <a:moveTo>
                      <a:pt x="60" y="0"/>
                    </a:moveTo>
                    <a:cubicBezTo>
                      <a:pt x="179" y="110"/>
                      <a:pt x="298" y="220"/>
                      <a:pt x="288" y="312"/>
                    </a:cubicBezTo>
                    <a:cubicBezTo>
                      <a:pt x="278" y="404"/>
                      <a:pt x="46" y="512"/>
                      <a:pt x="0" y="552"/>
                    </a:cubicBezTo>
                  </a:path>
                </a:pathLst>
              </a:custGeom>
              <a:solidFill>
                <a:srgbClr val="cc0000"/>
              </a:solidFill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170080" y="3027600"/>
                <a:ext cx="971640" cy="304560"/>
              </a:xfrm>
              <a:prstGeom prst="rect">
                <a:avLst/>
              </a:prstGeom>
              <a:solidFill>
                <a:srgbClr val="ffff66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151080" y="3017880"/>
                <a:ext cx="0" cy="3333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477160" y="28951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581280" y="2514600"/>
                <a:ext cx="7632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581280" y="4302360"/>
                <a:ext cx="76320" cy="304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053720" y="2930760"/>
                <a:ext cx="10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宋体"/>
                  </a:rPr>
                  <a:t>发射极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348080" y="44197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宋体"/>
                  </a:rPr>
                  <a:t>第一基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1" name=""/>
          <p:cNvSpPr/>
          <p:nvPr/>
        </p:nvSpPr>
        <p:spPr>
          <a:xfrm>
            <a:off x="1665360" y="3733920"/>
            <a:ext cx="1058760" cy="533160"/>
          </a:xfrm>
          <a:prstGeom prst="wedgeEllipseCallout">
            <a:avLst>
              <a:gd name="adj1" fmla="val 91379"/>
              <a:gd name="adj2" fmla="val -127083"/>
            </a:avLst>
          </a:prstGeom>
          <a:blipFill rotWithShape="0">
            <a:blip r:embed="rId39"/>
            <a:srcRect/>
            <a:tile tx="0" ty="0" sx="100000" sy="100000" algn="ctr"/>
          </a:blipFill>
          <a:ln w="2844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673280" y="4648320"/>
            <a:ext cx="1363680" cy="609480"/>
          </a:xfrm>
          <a:prstGeom prst="wedgeEllipseCallout">
            <a:avLst>
              <a:gd name="adj1" fmla="val 77939"/>
              <a:gd name="adj2" fmla="val -123699"/>
            </a:avLst>
          </a:prstGeom>
          <a:blipFill rotWithShape="0">
            <a:blip r:embed="rId40"/>
            <a:srcRect/>
            <a:tile tx="0" ty="0" sx="100000" sy="100000" algn="ctr"/>
          </a:blipFill>
          <a:ln w="2844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型硅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285000" y="518148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294720" y="56674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结晶体管结构示意图及其表示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5" name=""/>
          <p:cNvGrpSpPr/>
          <p:nvPr/>
        </p:nvGrpSpPr>
        <p:grpSpPr>
          <a:xfrm>
            <a:off x="6478920" y="2526120"/>
            <a:ext cx="1978920" cy="3039120"/>
            <a:chOff x="6478920" y="2526120"/>
            <a:chExt cx="1978920" cy="3039120"/>
          </a:xfrm>
        </p:grpSpPr>
        <p:sp>
          <p:nvSpPr>
            <p:cNvPr id="2226" name=""/>
            <p:cNvSpPr/>
            <p:nvPr/>
          </p:nvSpPr>
          <p:spPr>
            <a:xfrm>
              <a:off x="6629400" y="5105520"/>
              <a:ext cx="124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符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7" name=""/>
            <p:cNvGrpSpPr/>
            <p:nvPr/>
          </p:nvGrpSpPr>
          <p:grpSpPr>
            <a:xfrm>
              <a:off x="6478920" y="2526120"/>
              <a:ext cx="1978920" cy="2428200"/>
              <a:chOff x="6478920" y="2526120"/>
              <a:chExt cx="1978920" cy="2428200"/>
            </a:xfrm>
          </p:grpSpPr>
          <p:sp>
            <p:nvSpPr>
              <p:cNvPr id="2228" name=""/>
              <p:cNvSpPr/>
              <p:nvPr/>
            </p:nvSpPr>
            <p:spPr>
              <a:xfrm>
                <a:off x="7876440" y="2526120"/>
                <a:ext cx="51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B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499160" y="3386160"/>
                <a:ext cx="0" cy="77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7491240" y="3560400"/>
                <a:ext cx="33156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499160" y="3994200"/>
                <a:ext cx="318600" cy="2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818120" y="2859120"/>
                <a:ext cx="0" cy="70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818120" y="4014720"/>
                <a:ext cx="0" cy="70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78920" y="3593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946280" y="4494600"/>
                <a:ext cx="51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B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7777080" y="2755080"/>
                <a:ext cx="82080" cy="79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7777080" y="4723560"/>
                <a:ext cx="82080" cy="79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8" name=""/>
              <p:cNvGrpSpPr/>
              <p:nvPr/>
            </p:nvGrpSpPr>
            <p:grpSpPr>
              <a:xfrm>
                <a:off x="6588000" y="3746160"/>
                <a:ext cx="915120" cy="338040"/>
                <a:chOff x="6588000" y="3746160"/>
                <a:chExt cx="915120" cy="33804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6679440" y="4044600"/>
                  <a:ext cx="552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6588000" y="4005000"/>
                  <a:ext cx="82080" cy="792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V="1">
                  <a:off x="7203600" y="3746160"/>
                  <a:ext cx="299520" cy="299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380880" y="328680"/>
            <a:ext cx="277992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876920" y="1143000"/>
            <a:ext cx="36576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4" name=""/>
          <p:cNvGrpSpPr/>
          <p:nvPr/>
        </p:nvGrpSpPr>
        <p:grpSpPr>
          <a:xfrm>
            <a:off x="5029200" y="900000"/>
            <a:ext cx="3733560" cy="1549080"/>
            <a:chOff x="5029200" y="900000"/>
            <a:chExt cx="3733560" cy="1549080"/>
          </a:xfrm>
        </p:grpSpPr>
        <mc:AlternateContent>
          <mc:Choice xmlns:a14="http://schemas.microsoft.com/office/drawing/2010/main" Requires="a14">
            <p:sp>
              <p:nvSpPr>
                <p:cNvPr id="2245" name=""/>
                <p:cNvSpPr txBox="1"/>
                <p:nvPr/>
              </p:nvSpPr>
              <p:spPr>
                <a:xfrm>
                  <a:off x="5029200" y="900000"/>
                  <a:ext cx="313488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B1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BB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rPr>
                              <m:lit/>
                              <m:nor/>
                            </m:rPr>
                            <m:t xml:space="preserve">B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rPr>
                              <m:lit/>
                              <m:nor/>
                            </m:rPr>
                            <m:t xml:space="preserve">B1</m:t>
                          </m:r>
                          <m:r>
                            <m:t xml:space="preserve">+</m:t>
                          </m:r>
                          <m:r>
                            <m:t xml:space="preserve">R</m:t>
                          </m:r>
                          <m:r>
                            <m:rPr>
                              <m:lit/>
                              <m:nor/>
                            </m:rPr>
                            <m:t xml:space="preserve">B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6" name=""/>
                <p:cNvSpPr txBox="1"/>
                <p:nvPr/>
              </p:nvSpPr>
              <p:spPr>
                <a:xfrm>
                  <a:off x="5697360" y="1482840"/>
                  <a:ext cx="3065400" cy="96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B</m:t>
                              </m:r>
                            </m:sub>
                          </m:sSub>
                        </m:den>
                      </m:f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BB</m:t>
                      </m:r>
                      <m:r>
                        <m:t xml:space="preserve">=</m:t>
                      </m:r>
                      <m:r>
                        <m:t xml:space="preserve">ηU</m:t>
                      </m:r>
                      <m:r>
                        <m:rPr>
                          <m:lit/>
                          <m:nor/>
                        </m:rPr>
                        <m:t xml:space="preserve">B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7" name=""/>
          <p:cNvSpPr/>
          <p:nvPr/>
        </p:nvSpPr>
        <p:spPr>
          <a:xfrm>
            <a:off x="4851360" y="2941560"/>
            <a:ext cx="388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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E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BB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+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P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390280" y="3443760"/>
            <a:ext cx="267840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反偏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968720" y="4614480"/>
            <a:ext cx="3870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正向导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迅速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0" name=""/>
          <p:cNvGrpSpPr/>
          <p:nvPr/>
        </p:nvGrpSpPr>
        <p:grpSpPr>
          <a:xfrm>
            <a:off x="4798080" y="3890880"/>
            <a:ext cx="2127600" cy="630360"/>
            <a:chOff x="4798080" y="3890880"/>
            <a:chExt cx="2127600" cy="630360"/>
          </a:xfrm>
        </p:grpSpPr>
        <p:sp>
          <p:nvSpPr>
            <p:cNvPr id="2251" name=""/>
            <p:cNvSpPr/>
            <p:nvPr/>
          </p:nvSpPr>
          <p:spPr>
            <a:xfrm>
              <a:off x="5195160" y="3890880"/>
              <a:ext cx="173052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E </a:t>
              </a:r>
              <a:r>
                <a:rPr b="1" lang="en-US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</a:t>
              </a: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P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798080" y="3915360"/>
              <a:ext cx="4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3" name=""/>
          <p:cNvSpPr/>
          <p:nvPr/>
        </p:nvSpPr>
        <p:spPr>
          <a:xfrm>
            <a:off x="5044320" y="2514240"/>
            <a:ext cx="30668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–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分压比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.5~ 0.9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4" name=""/>
          <p:cNvGrpSpPr/>
          <p:nvPr/>
        </p:nvGrpSpPr>
        <p:grpSpPr>
          <a:xfrm>
            <a:off x="4997160" y="5241960"/>
            <a:ext cx="4038480" cy="1115640"/>
            <a:chOff x="4997160" y="5241960"/>
            <a:chExt cx="4038480" cy="1115640"/>
          </a:xfrm>
        </p:grpSpPr>
        <p:sp>
          <p:nvSpPr>
            <p:cNvPr id="2255" name=""/>
            <p:cNvSpPr/>
            <p:nvPr/>
          </p:nvSpPr>
          <p:spPr>
            <a:xfrm>
              <a:off x="5254920" y="5241960"/>
              <a:ext cx="1860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P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–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峰点电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997160" y="5566320"/>
              <a:ext cx="4038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D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–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PN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结正向导通压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7902720" y="4861080"/>
            <a:ext cx="247680" cy="952200"/>
          </a:xfrm>
          <a:custGeom>
            <a:avLst/>
            <a:gdLst>
              <a:gd name="textAreaLeft" fmla="*/ 158400 w 247680"/>
              <a:gd name="textAreaRight" fmla="*/ 248040 w 247680"/>
              <a:gd name="textAreaTop" fmla="*/ 24840 h 952200"/>
              <a:gd name="textAreaBottom" fmla="*/ 927360 h 95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8" name=""/>
          <p:cNvGrpSpPr/>
          <p:nvPr/>
        </p:nvGrpSpPr>
        <p:grpSpPr>
          <a:xfrm>
            <a:off x="2541600" y="3906720"/>
            <a:ext cx="1127160" cy="1497240"/>
            <a:chOff x="2541600" y="3906720"/>
            <a:chExt cx="1127160" cy="1497240"/>
          </a:xfrm>
        </p:grpSpPr>
        <p:sp>
          <p:nvSpPr>
            <p:cNvPr id="2259" name=""/>
            <p:cNvSpPr/>
            <p:nvPr/>
          </p:nvSpPr>
          <p:spPr>
            <a:xfrm>
              <a:off x="2554560" y="5371920"/>
              <a:ext cx="107928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541600" y="3927600"/>
              <a:ext cx="112716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656160" y="3946320"/>
              <a:ext cx="0" cy="145764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541600" y="3906720"/>
              <a:ext cx="0" cy="145728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3" name=""/>
          <p:cNvGrpSpPr/>
          <p:nvPr/>
        </p:nvGrpSpPr>
        <p:grpSpPr>
          <a:xfrm>
            <a:off x="414360" y="533520"/>
            <a:ext cx="4314960" cy="2341440"/>
            <a:chOff x="414360" y="533520"/>
            <a:chExt cx="4314960" cy="2341440"/>
          </a:xfrm>
        </p:grpSpPr>
        <p:sp>
          <p:nvSpPr>
            <p:cNvPr id="2264" name=""/>
            <p:cNvSpPr/>
            <p:nvPr/>
          </p:nvSpPr>
          <p:spPr>
            <a:xfrm>
              <a:off x="2325960" y="1725480"/>
              <a:ext cx="37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097800" y="8118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123360" y="21834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140280" y="558720"/>
              <a:ext cx="0" cy="11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114720" y="533520"/>
              <a:ext cx="130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252240" y="1573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316160" y="1738440"/>
              <a:ext cx="101520" cy="307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370160" y="2046240"/>
              <a:ext cx="0" cy="8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370160" y="968400"/>
              <a:ext cx="0" cy="78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H="1">
              <a:off x="701640" y="98424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11360" y="1963800"/>
              <a:ext cx="0" cy="90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06680" y="9763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60520" y="1865160"/>
              <a:ext cx="31896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06600" y="1957320"/>
              <a:ext cx="20304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1347840" y="2814480"/>
              <a:ext cx="66960" cy="59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252880" y="1309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181240" y="204624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3079800" y="2814480"/>
              <a:ext cx="66960" cy="59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146760" y="20574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388040" y="182880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388040" y="549360"/>
              <a:ext cx="0" cy="9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254320" y="1654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254320" y="2305080"/>
              <a:ext cx="36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76520" y="1066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76160" y="167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 flipV="1" rot="5400000">
              <a:off x="2133360" y="1575000"/>
              <a:ext cx="103320" cy="307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11520" y="1725480"/>
              <a:ext cx="22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11520" y="1711440"/>
              <a:ext cx="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H="1">
              <a:off x="1442880" y="1898640"/>
              <a:ext cx="36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06680" y="2855880"/>
              <a:ext cx="367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379160" y="138420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14360" y="1457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14720" y="1762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649600" y="1717560"/>
              <a:ext cx="30492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27520" y="1676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27520" y="1752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2752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311640" y="1295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35556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299120" y="1836720"/>
              <a:ext cx="217440" cy="9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283280" y="1630440"/>
              <a:ext cx="217440" cy="9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183200" y="1523880"/>
              <a:ext cx="417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186440" y="1752480"/>
              <a:ext cx="417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2698920" y="914400"/>
            <a:ext cx="1218600" cy="1904400"/>
            <a:chOff x="2698920" y="914400"/>
            <a:chExt cx="1218600" cy="1904400"/>
          </a:xfrm>
        </p:grpSpPr>
        <p:sp>
          <p:nvSpPr>
            <p:cNvPr id="2308" name=""/>
            <p:cNvSpPr/>
            <p:nvPr/>
          </p:nvSpPr>
          <p:spPr>
            <a:xfrm>
              <a:off x="2712600" y="2778480"/>
              <a:ext cx="116712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698920" y="940680"/>
              <a:ext cx="121860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904200" y="964440"/>
              <a:ext cx="0" cy="18543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698920" y="914400"/>
              <a:ext cx="0" cy="18540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"/>
          <p:cNvSpPr/>
          <p:nvPr/>
        </p:nvSpPr>
        <p:spPr>
          <a:xfrm rot="5400000">
            <a:off x="2012400" y="3047760"/>
            <a:ext cx="457200" cy="304920"/>
          </a:xfrm>
          <a:custGeom>
            <a:avLst/>
            <a:gdLst>
              <a:gd name="textAreaLeft" fmla="*/ 568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3" name=""/>
          <p:cNvGrpSpPr/>
          <p:nvPr/>
        </p:nvGrpSpPr>
        <p:grpSpPr>
          <a:xfrm>
            <a:off x="488880" y="3200400"/>
            <a:ext cx="2285280" cy="1143000"/>
            <a:chOff x="488880" y="3200400"/>
            <a:chExt cx="2285280" cy="1143000"/>
          </a:xfrm>
        </p:grpSpPr>
        <p:sp>
          <p:nvSpPr>
            <p:cNvPr id="2314" name=""/>
            <p:cNvSpPr/>
            <p:nvPr/>
          </p:nvSpPr>
          <p:spPr>
            <a:xfrm>
              <a:off x="661320" y="320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效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5" name=""/>
            <p:cNvGrpSpPr/>
            <p:nvPr/>
          </p:nvGrpSpPr>
          <p:grpSpPr>
            <a:xfrm>
              <a:off x="488880" y="3657600"/>
              <a:ext cx="2285280" cy="685800"/>
              <a:chOff x="488880" y="3657600"/>
              <a:chExt cx="2285280" cy="685800"/>
            </a:xfrm>
          </p:grpSpPr>
          <p:sp>
            <p:nvSpPr>
              <p:cNvPr id="2316" name=""/>
              <p:cNvSpPr/>
              <p:nvPr/>
            </p:nvSpPr>
            <p:spPr>
              <a:xfrm>
                <a:off x="488880" y="3657600"/>
                <a:ext cx="129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1783800" y="3657600"/>
                <a:ext cx="99036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8" name=""/>
          <p:cNvGrpSpPr/>
          <p:nvPr/>
        </p:nvGrpSpPr>
        <p:grpSpPr>
          <a:xfrm>
            <a:off x="414360" y="2895480"/>
            <a:ext cx="4314960" cy="3301920"/>
            <a:chOff x="414360" y="2895480"/>
            <a:chExt cx="4314960" cy="3301920"/>
          </a:xfrm>
        </p:grpSpPr>
        <p:grpSp>
          <p:nvGrpSpPr>
            <p:cNvPr id="2319" name=""/>
            <p:cNvGrpSpPr/>
            <p:nvPr/>
          </p:nvGrpSpPr>
          <p:grpSpPr>
            <a:xfrm>
              <a:off x="414360" y="2895480"/>
              <a:ext cx="4314960" cy="3301920"/>
              <a:chOff x="414360" y="2895480"/>
              <a:chExt cx="4314960" cy="3301920"/>
            </a:xfrm>
          </p:grpSpPr>
          <p:sp>
            <p:nvSpPr>
              <p:cNvPr id="2320" name=""/>
              <p:cNvSpPr/>
              <p:nvPr/>
            </p:nvSpPr>
            <p:spPr>
              <a:xfrm>
                <a:off x="3076920" y="289548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1" name=""/>
              <p:cNvGrpSpPr/>
              <p:nvPr/>
            </p:nvGrpSpPr>
            <p:grpSpPr>
              <a:xfrm>
                <a:off x="414360" y="3452760"/>
                <a:ext cx="4314960" cy="2744640"/>
                <a:chOff x="414360" y="3452760"/>
                <a:chExt cx="4314960" cy="274464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2325960" y="4629240"/>
                  <a:ext cx="736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2990880" y="4051080"/>
                  <a:ext cx="103320" cy="3081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2990880" y="4892760"/>
                  <a:ext cx="103320" cy="3063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043440" y="4359240"/>
                  <a:ext cx="0" cy="53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6" name=""/>
                <p:cNvGrpSpPr/>
                <p:nvPr/>
              </p:nvGrpSpPr>
              <p:grpSpPr>
                <a:xfrm>
                  <a:off x="2664000" y="4432320"/>
                  <a:ext cx="222120" cy="369360"/>
                  <a:chOff x="2664000" y="4432320"/>
                  <a:chExt cx="222120" cy="369360"/>
                </a:xfrm>
              </p:grpSpPr>
              <p:sp>
                <p:nvSpPr>
                  <p:cNvPr id="2327" name=""/>
                  <p:cNvSpPr/>
                  <p:nvPr/>
                </p:nvSpPr>
                <p:spPr>
                  <a:xfrm>
                    <a:off x="2679480" y="4432320"/>
                    <a:ext cx="0" cy="355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2664000" y="4432320"/>
                    <a:ext cx="222120" cy="198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V="1">
                    <a:off x="2679480" y="4616280"/>
                    <a:ext cx="190800" cy="171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2877480" y="4439160"/>
                    <a:ext cx="0" cy="362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1" name=""/>
                <p:cNvSpPr/>
                <p:nvPr/>
              </p:nvSpPr>
              <p:spPr>
                <a:xfrm>
                  <a:off x="3043440" y="3790800"/>
                  <a:ext cx="0" cy="25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flipV="1">
                  <a:off x="3005280" y="4589280"/>
                  <a:ext cx="65160" cy="619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3120840" y="4890240"/>
                  <a:ext cx="58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B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3120840" y="3873240"/>
                  <a:ext cx="58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B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3002040" y="5678280"/>
                  <a:ext cx="1843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3061440" y="4361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  <a:ea typeface="楷体_GB2312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3035520" y="3462120"/>
                  <a:ext cx="0" cy="33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043440" y="551808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3043440" y="3452760"/>
                  <a:ext cx="134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709440" y="3883680"/>
                  <a:ext cx="63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400" spc="-1" strike="noStrike" baseline="-25000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B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1316160" y="4641840"/>
                  <a:ext cx="101520" cy="307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1370160" y="4949640"/>
                  <a:ext cx="0" cy="80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1370160" y="3871800"/>
                  <a:ext cx="0" cy="784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H="1">
                  <a:off x="701640" y="3887640"/>
                  <a:ext cx="69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711360" y="4867200"/>
                  <a:ext cx="0" cy="90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706680" y="3879720"/>
                  <a:ext cx="0" cy="908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60520" y="4768920"/>
                  <a:ext cx="318960" cy="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606600" y="4860720"/>
                  <a:ext cx="203040" cy="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flipV="1">
                  <a:off x="1347840" y="5717520"/>
                  <a:ext cx="66960" cy="586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252880" y="4213080"/>
                  <a:ext cx="40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181240" y="4949640"/>
                  <a:ext cx="517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i="1" lang="en-US" sz="2400" spc="-1" strike="noStrike" baseline="-25000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 flipV="1">
                  <a:off x="3011760" y="5717520"/>
                  <a:ext cx="66600" cy="586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3043440" y="5210280"/>
                  <a:ext cx="0" cy="33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flipV="1">
                  <a:off x="3008520" y="5481720"/>
                  <a:ext cx="66600" cy="619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4388040" y="4748040"/>
                  <a:ext cx="0" cy="1030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4375440" y="3452760"/>
                  <a:ext cx="0" cy="99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254320" y="45576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254320" y="5208480"/>
                  <a:ext cx="365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flipH="1" flipV="1" rot="5400000">
                  <a:off x="2133360" y="4478400"/>
                  <a:ext cx="103320" cy="307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1811520" y="4629240"/>
                  <a:ext cx="220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1811520" y="4614840"/>
                  <a:ext cx="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H="1">
                  <a:off x="1442880" y="4802040"/>
                  <a:ext cx="36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706680" y="5759280"/>
                  <a:ext cx="3679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1379160" y="4287960"/>
                  <a:ext cx="4917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414360" y="436068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414720" y="4665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4143600" y="4425840"/>
                  <a:ext cx="417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4146840" y="4654440"/>
                  <a:ext cx="4172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4259520" y="4535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4262760" y="478476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4376520" y="390996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4376160" y="4519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3" name=""/>
            <p:cNvSpPr/>
            <p:nvPr/>
          </p:nvSpPr>
          <p:spPr>
            <a:xfrm>
              <a:off x="3014280" y="342900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014280" y="533412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5" name=""/>
          <p:cNvSpPr/>
          <p:nvPr/>
        </p:nvSpPr>
        <p:spPr>
          <a:xfrm>
            <a:off x="1307880" y="5811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单结晶体管的实验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5161680" y="380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可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"/>
          <p:cNvSpPr/>
          <p:nvPr/>
        </p:nvSpPr>
        <p:spPr>
          <a:xfrm>
            <a:off x="395280" y="248400"/>
            <a:ext cx="62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3 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单结晶体管的伏安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8" name=""/>
          <p:cNvGrpSpPr/>
          <p:nvPr/>
        </p:nvGrpSpPr>
        <p:grpSpPr>
          <a:xfrm>
            <a:off x="4016520" y="5076720"/>
            <a:ext cx="5127480" cy="1477080"/>
            <a:chOff x="4016520" y="5076720"/>
            <a:chExt cx="5127480" cy="1477080"/>
          </a:xfrm>
        </p:grpSpPr>
        <p:sp>
          <p:nvSpPr>
            <p:cNvPr id="2379" name=""/>
            <p:cNvSpPr/>
            <p:nvPr/>
          </p:nvSpPr>
          <p:spPr>
            <a:xfrm>
              <a:off x="5584680" y="5076720"/>
              <a:ext cx="1879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、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谷点电压、电流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016520" y="5606640"/>
              <a:ext cx="512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维持单结管导通的最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压、电流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966600" y="4799880"/>
            <a:ext cx="3039840" cy="1778400"/>
            <a:chOff x="966600" y="4799880"/>
            <a:chExt cx="3039840" cy="1778400"/>
          </a:xfrm>
        </p:grpSpPr>
        <p:sp>
          <p:nvSpPr>
            <p:cNvPr id="2382" name=""/>
            <p:cNvSpPr/>
            <p:nvPr/>
          </p:nvSpPr>
          <p:spPr>
            <a:xfrm>
              <a:off x="1875960" y="4799880"/>
              <a:ext cx="27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宋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966600" y="5145480"/>
              <a:ext cx="303984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峰点电压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)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宋体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结管由截止变导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所需发射极电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4" name=""/>
          <p:cNvSpPr/>
          <p:nvPr/>
        </p:nvSpPr>
        <p:spPr>
          <a:xfrm>
            <a:off x="3434040" y="3932280"/>
            <a:ext cx="4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113800" y="3978360"/>
            <a:ext cx="4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6" name=""/>
          <p:cNvGrpSpPr/>
          <p:nvPr/>
        </p:nvGrpSpPr>
        <p:grpSpPr>
          <a:xfrm>
            <a:off x="3047760" y="4013280"/>
            <a:ext cx="2038680" cy="519120"/>
            <a:chOff x="3047760" y="4013280"/>
            <a:chExt cx="2038680" cy="519120"/>
          </a:xfrm>
        </p:grpSpPr>
        <p:sp>
          <p:nvSpPr>
            <p:cNvPr id="2387" name=""/>
            <p:cNvSpPr/>
            <p:nvPr/>
          </p:nvSpPr>
          <p:spPr>
            <a:xfrm>
              <a:off x="5086440" y="4040280"/>
              <a:ext cx="0" cy="49212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3047760" y="4013280"/>
              <a:ext cx="2011320" cy="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9" name=""/>
          <p:cNvGrpSpPr/>
          <p:nvPr/>
        </p:nvGrpSpPr>
        <p:grpSpPr>
          <a:xfrm>
            <a:off x="2430360" y="655560"/>
            <a:ext cx="4948200" cy="4239360"/>
            <a:chOff x="2430360" y="655560"/>
            <a:chExt cx="4948200" cy="4239360"/>
          </a:xfrm>
        </p:grpSpPr>
        <p:sp>
          <p:nvSpPr>
            <p:cNvPr id="2390" name=""/>
            <p:cNvSpPr/>
            <p:nvPr/>
          </p:nvSpPr>
          <p:spPr>
            <a:xfrm>
              <a:off x="2890440" y="4313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858000" y="4206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084480" y="946440"/>
              <a:ext cx="6480" cy="359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438280" y="4530960"/>
              <a:ext cx="4408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430360" y="655560"/>
              <a:ext cx="69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5" name=""/>
          <p:cNvGrpSpPr/>
          <p:nvPr/>
        </p:nvGrpSpPr>
        <p:grpSpPr>
          <a:xfrm>
            <a:off x="1404360" y="1068480"/>
            <a:ext cx="1630080" cy="579600"/>
            <a:chOff x="1404360" y="1068480"/>
            <a:chExt cx="1630080" cy="579600"/>
          </a:xfrm>
        </p:grpSpPr>
        <p:sp>
          <p:nvSpPr>
            <p:cNvPr id="2396" name=""/>
            <p:cNvSpPr/>
            <p:nvPr/>
          </p:nvSpPr>
          <p:spPr>
            <a:xfrm>
              <a:off x="2472840" y="1068480"/>
              <a:ext cx="56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1404360" y="1127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峰点电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3059280" y="1341360"/>
            <a:ext cx="446040" cy="3193920"/>
            <a:chOff x="3059280" y="1341360"/>
            <a:chExt cx="446040" cy="3193920"/>
          </a:xfrm>
        </p:grpSpPr>
        <p:sp>
          <p:nvSpPr>
            <p:cNvPr id="2399" name=""/>
            <p:cNvSpPr/>
            <p:nvPr/>
          </p:nvSpPr>
          <p:spPr>
            <a:xfrm>
              <a:off x="3059280" y="1341360"/>
              <a:ext cx="44604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429000" y="1366200"/>
              <a:ext cx="0" cy="316908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1" name=""/>
          <p:cNvGrpSpPr/>
          <p:nvPr/>
        </p:nvGrpSpPr>
        <p:grpSpPr>
          <a:xfrm>
            <a:off x="3543480" y="1541520"/>
            <a:ext cx="2323440" cy="2447640"/>
            <a:chOff x="3543480" y="1541520"/>
            <a:chExt cx="2323440" cy="2447640"/>
          </a:xfrm>
        </p:grpSpPr>
        <p:sp>
          <p:nvSpPr>
            <p:cNvPr id="2402" name=""/>
            <p:cNvSpPr/>
            <p:nvPr/>
          </p:nvSpPr>
          <p:spPr>
            <a:xfrm>
              <a:off x="3562200" y="1620360"/>
              <a:ext cx="2304720" cy="2368800"/>
            </a:xfrm>
            <a:custGeom>
              <a:avLst/>
              <a:gdLst/>
              <a:ahLst/>
              <a:rect l="l" t="t" r="r" b="b"/>
              <a:pathLst>
                <a:path w="1452" h="1440">
                  <a:moveTo>
                    <a:pt x="0" y="0"/>
                  </a:moveTo>
                  <a:cubicBezTo>
                    <a:pt x="55" y="36"/>
                    <a:pt x="42" y="47"/>
                    <a:pt x="60" y="108"/>
                  </a:cubicBezTo>
                  <a:cubicBezTo>
                    <a:pt x="87" y="203"/>
                    <a:pt x="113" y="302"/>
                    <a:pt x="144" y="396"/>
                  </a:cubicBezTo>
                  <a:cubicBezTo>
                    <a:pt x="161" y="447"/>
                    <a:pt x="179" y="500"/>
                    <a:pt x="192" y="552"/>
                  </a:cubicBezTo>
                  <a:cubicBezTo>
                    <a:pt x="205" y="604"/>
                    <a:pt x="210" y="674"/>
                    <a:pt x="240" y="720"/>
                  </a:cubicBezTo>
                  <a:cubicBezTo>
                    <a:pt x="258" y="748"/>
                    <a:pt x="274" y="807"/>
                    <a:pt x="288" y="828"/>
                  </a:cubicBezTo>
                  <a:cubicBezTo>
                    <a:pt x="311" y="862"/>
                    <a:pt x="330" y="900"/>
                    <a:pt x="348" y="936"/>
                  </a:cubicBezTo>
                  <a:cubicBezTo>
                    <a:pt x="385" y="1010"/>
                    <a:pt x="421" y="1093"/>
                    <a:pt x="492" y="1140"/>
                  </a:cubicBezTo>
                  <a:cubicBezTo>
                    <a:pt x="517" y="1216"/>
                    <a:pt x="583" y="1265"/>
                    <a:pt x="648" y="1308"/>
                  </a:cubicBezTo>
                  <a:cubicBezTo>
                    <a:pt x="678" y="1353"/>
                    <a:pt x="698" y="1357"/>
                    <a:pt x="744" y="1380"/>
                  </a:cubicBezTo>
                  <a:cubicBezTo>
                    <a:pt x="819" y="1418"/>
                    <a:pt x="843" y="1426"/>
                    <a:pt x="924" y="1440"/>
                  </a:cubicBezTo>
                  <a:cubicBezTo>
                    <a:pt x="974" y="1436"/>
                    <a:pt x="1080" y="1431"/>
                    <a:pt x="1140" y="1416"/>
                  </a:cubicBezTo>
                  <a:cubicBezTo>
                    <a:pt x="1255" y="1387"/>
                    <a:pt x="1349" y="1336"/>
                    <a:pt x="1452" y="128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543480" y="1541520"/>
              <a:ext cx="56880" cy="19728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0" y="0"/>
                  </a:moveTo>
                  <a:cubicBezTo>
                    <a:pt x="11" y="32"/>
                    <a:pt x="36" y="82"/>
                    <a:pt x="36" y="12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4" name=""/>
          <p:cNvGrpSpPr/>
          <p:nvPr/>
        </p:nvGrpSpPr>
        <p:grpSpPr>
          <a:xfrm>
            <a:off x="1277280" y="3675240"/>
            <a:ext cx="1635840" cy="579600"/>
            <a:chOff x="1277280" y="3675240"/>
            <a:chExt cx="1635840" cy="579600"/>
          </a:xfrm>
        </p:grpSpPr>
        <p:sp>
          <p:nvSpPr>
            <p:cNvPr id="2405" name=""/>
            <p:cNvSpPr/>
            <p:nvPr/>
          </p:nvSpPr>
          <p:spPr>
            <a:xfrm>
              <a:off x="2328480" y="3675240"/>
              <a:ext cx="58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277280" y="3703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谷点电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2895480" y="1341360"/>
            <a:ext cx="723960" cy="3200400"/>
            <a:chOff x="2895480" y="1341360"/>
            <a:chExt cx="723960" cy="3200400"/>
          </a:xfrm>
        </p:grpSpPr>
        <p:grpSp>
          <p:nvGrpSpPr>
            <p:cNvPr id="2408" name=""/>
            <p:cNvGrpSpPr/>
            <p:nvPr/>
          </p:nvGrpSpPr>
          <p:grpSpPr>
            <a:xfrm>
              <a:off x="2895480" y="1341360"/>
              <a:ext cx="723960" cy="3200400"/>
              <a:chOff x="2895480" y="1341360"/>
              <a:chExt cx="723960" cy="3200400"/>
            </a:xfrm>
          </p:grpSpPr>
          <p:grpSp>
            <p:nvGrpSpPr>
              <p:cNvPr id="2409" name=""/>
              <p:cNvGrpSpPr/>
              <p:nvPr/>
            </p:nvGrpSpPr>
            <p:grpSpPr>
              <a:xfrm>
                <a:off x="2895480" y="1341360"/>
                <a:ext cx="723960" cy="3200400"/>
                <a:chOff x="2895480" y="1341360"/>
                <a:chExt cx="723960" cy="320040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3200400" y="1341360"/>
                  <a:ext cx="419040" cy="358560"/>
                </a:xfrm>
                <a:custGeom>
                  <a:avLst/>
                  <a:gdLst/>
                  <a:ahLst/>
                  <a:rect l="l" t="t" r="r" b="b"/>
                  <a:pathLst>
                    <a:path w="264" h="218">
                      <a:moveTo>
                        <a:pt x="0" y="218"/>
                      </a:moveTo>
                      <a:cubicBezTo>
                        <a:pt x="22" y="131"/>
                        <a:pt x="16" y="55"/>
                        <a:pt x="96" y="2"/>
                      </a:cubicBezTo>
                      <a:cubicBezTo>
                        <a:pt x="120" y="6"/>
                        <a:pt x="148" y="0"/>
                        <a:pt x="168" y="14"/>
                      </a:cubicBezTo>
                      <a:cubicBezTo>
                        <a:pt x="202" y="38"/>
                        <a:pt x="264" y="160"/>
                        <a:pt x="264" y="206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V="1">
                  <a:off x="2895480" y="1699920"/>
                  <a:ext cx="304920" cy="2841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2" name=""/>
              <p:cNvSpPr/>
              <p:nvPr/>
            </p:nvSpPr>
            <p:spPr>
              <a:xfrm>
                <a:off x="3514680" y="1493640"/>
                <a:ext cx="76320" cy="285840"/>
              </a:xfrm>
              <a:custGeom>
                <a:avLst/>
                <a:gdLst/>
                <a:ahLst/>
                <a:rect l="l" t="t" r="r" b="b"/>
                <a:pathLst>
                  <a:path w="48" h="180">
                    <a:moveTo>
                      <a:pt x="0" y="0"/>
                    </a:moveTo>
                    <a:cubicBezTo>
                      <a:pt x="15" y="45"/>
                      <a:pt x="48" y="134"/>
                      <a:pt x="48" y="180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3511440" y="1474560"/>
              <a:ext cx="95400" cy="266760"/>
            </a:xfrm>
            <a:custGeom>
              <a:avLst/>
              <a:gdLst/>
              <a:ahLst/>
              <a:rect l="l" t="t" r="r" b="b"/>
              <a:pathLst>
                <a:path w="60" h="168">
                  <a:moveTo>
                    <a:pt x="0" y="0"/>
                  </a:moveTo>
                  <a:cubicBezTo>
                    <a:pt x="19" y="56"/>
                    <a:pt x="34" y="115"/>
                    <a:pt x="60" y="168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4" name=""/>
          <p:cNvGrpSpPr/>
          <p:nvPr/>
        </p:nvGrpSpPr>
        <p:grpSpPr>
          <a:xfrm>
            <a:off x="4921560" y="3511440"/>
            <a:ext cx="416880" cy="520560"/>
            <a:chOff x="4921560" y="3511440"/>
            <a:chExt cx="416880" cy="520560"/>
          </a:xfrm>
        </p:grpSpPr>
        <p:sp>
          <p:nvSpPr>
            <p:cNvPr id="2415" name=""/>
            <p:cNvSpPr/>
            <p:nvPr/>
          </p:nvSpPr>
          <p:spPr>
            <a:xfrm>
              <a:off x="4921560" y="3511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5062680" y="39330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7" name=""/>
          <p:cNvSpPr/>
          <p:nvPr/>
        </p:nvSpPr>
        <p:spPr>
          <a:xfrm>
            <a:off x="3467160" y="1332000"/>
            <a:ext cx="1657440" cy="2666880"/>
          </a:xfrm>
          <a:custGeom>
            <a:avLst/>
            <a:gdLst/>
            <a:ahLst/>
            <a:rect l="l" t="t" r="r" b="b"/>
            <a:pathLst>
              <a:path w="1044" h="1680">
                <a:moveTo>
                  <a:pt x="0" y="0"/>
                </a:moveTo>
                <a:cubicBezTo>
                  <a:pt x="63" y="42"/>
                  <a:pt x="73" y="98"/>
                  <a:pt x="96" y="168"/>
                </a:cubicBezTo>
                <a:cubicBezTo>
                  <a:pt x="131" y="272"/>
                  <a:pt x="147" y="373"/>
                  <a:pt x="168" y="480"/>
                </a:cubicBezTo>
                <a:cubicBezTo>
                  <a:pt x="190" y="590"/>
                  <a:pt x="229" y="698"/>
                  <a:pt x="264" y="804"/>
                </a:cubicBezTo>
                <a:cubicBezTo>
                  <a:pt x="285" y="867"/>
                  <a:pt x="303" y="932"/>
                  <a:pt x="324" y="996"/>
                </a:cubicBezTo>
                <a:cubicBezTo>
                  <a:pt x="329" y="1010"/>
                  <a:pt x="342" y="1019"/>
                  <a:pt x="348" y="1032"/>
                </a:cubicBezTo>
                <a:cubicBezTo>
                  <a:pt x="358" y="1055"/>
                  <a:pt x="358" y="1083"/>
                  <a:pt x="372" y="1104"/>
                </a:cubicBezTo>
                <a:cubicBezTo>
                  <a:pt x="412" y="1164"/>
                  <a:pt x="452" y="1224"/>
                  <a:pt x="492" y="1284"/>
                </a:cubicBezTo>
                <a:cubicBezTo>
                  <a:pt x="545" y="1363"/>
                  <a:pt x="592" y="1471"/>
                  <a:pt x="672" y="1524"/>
                </a:cubicBezTo>
                <a:cubicBezTo>
                  <a:pt x="707" y="1576"/>
                  <a:pt x="750" y="1581"/>
                  <a:pt x="804" y="1608"/>
                </a:cubicBezTo>
                <a:cubicBezTo>
                  <a:pt x="879" y="1646"/>
                  <a:pt x="958" y="1680"/>
                  <a:pt x="1044" y="1680"/>
                </a:cubicBezTo>
              </a:path>
            </a:pathLst>
          </a:custGeom>
          <a:noFill/>
          <a:ln w="38160">
            <a:solidFill>
              <a:srgbClr val="005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3920760" y="4541760"/>
            <a:ext cx="1184760" cy="459720"/>
            <a:chOff x="3920760" y="4541760"/>
            <a:chExt cx="1184760" cy="459720"/>
          </a:xfrm>
        </p:grpSpPr>
        <p:sp>
          <p:nvSpPr>
            <p:cNvPr id="2419" name=""/>
            <p:cNvSpPr/>
            <p:nvPr/>
          </p:nvSpPr>
          <p:spPr>
            <a:xfrm>
              <a:off x="5087880" y="45417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0" name=""/>
            <p:cNvGrpSpPr/>
            <p:nvPr/>
          </p:nvGrpSpPr>
          <p:grpSpPr>
            <a:xfrm>
              <a:off x="3920760" y="4541760"/>
              <a:ext cx="1184760" cy="459720"/>
              <a:chOff x="3920760" y="4541760"/>
              <a:chExt cx="1184760" cy="459720"/>
            </a:xfrm>
          </p:grpSpPr>
          <p:sp>
            <p:nvSpPr>
              <p:cNvPr id="2421" name=""/>
              <p:cNvSpPr/>
              <p:nvPr/>
            </p:nvSpPr>
            <p:spPr>
              <a:xfrm>
                <a:off x="4648320" y="4770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920760" y="45417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5c00"/>
                    </a:solidFill>
                    <a:latin typeface="宋体"/>
                  </a:rPr>
                  <a:t>负阻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3" name=""/>
          <p:cNvGrpSpPr/>
          <p:nvPr/>
        </p:nvGrpSpPr>
        <p:grpSpPr>
          <a:xfrm>
            <a:off x="2438280" y="4541760"/>
            <a:ext cx="1447920" cy="688320"/>
            <a:chOff x="2438280" y="4541760"/>
            <a:chExt cx="1447920" cy="688320"/>
          </a:xfrm>
        </p:grpSpPr>
        <p:sp>
          <p:nvSpPr>
            <p:cNvPr id="2424" name=""/>
            <p:cNvSpPr/>
            <p:nvPr/>
          </p:nvSpPr>
          <p:spPr>
            <a:xfrm>
              <a:off x="2895480" y="45417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429000" y="45417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2438280" y="4770360"/>
              <a:ext cx="1447920" cy="459720"/>
              <a:chOff x="2438280" y="4770360"/>
              <a:chExt cx="1447920" cy="459720"/>
            </a:xfrm>
          </p:grpSpPr>
          <p:sp>
            <p:nvSpPr>
              <p:cNvPr id="2427" name=""/>
              <p:cNvSpPr/>
              <p:nvPr/>
            </p:nvSpPr>
            <p:spPr>
              <a:xfrm>
                <a:off x="2438280" y="4770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H="1">
                <a:off x="3429000" y="4770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2777760" y="4770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5c00"/>
                    </a:solidFill>
                    <a:latin typeface="Times New Roman"/>
                  </a:rPr>
                  <a:t>截止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0" name=""/>
          <p:cNvGrpSpPr/>
          <p:nvPr/>
        </p:nvGrpSpPr>
        <p:grpSpPr>
          <a:xfrm>
            <a:off x="5105520" y="4541760"/>
            <a:ext cx="1297080" cy="459720"/>
            <a:chOff x="5105520" y="4541760"/>
            <a:chExt cx="1297080" cy="459720"/>
          </a:xfrm>
        </p:grpSpPr>
        <p:sp>
          <p:nvSpPr>
            <p:cNvPr id="2431" name=""/>
            <p:cNvSpPr/>
            <p:nvPr/>
          </p:nvSpPr>
          <p:spPr>
            <a:xfrm flipH="1">
              <a:off x="5105520" y="47703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673240" y="4541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5c00"/>
                  </a:solidFill>
                  <a:latin typeface="宋体"/>
                </a:rPr>
                <a:t>饱和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3" name=""/>
          <p:cNvSpPr/>
          <p:nvPr/>
        </p:nvSpPr>
        <p:spPr>
          <a:xfrm>
            <a:off x="5486400" y="1219320"/>
            <a:ext cx="32767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负阻区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空穴注入基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使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下降，出现负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4" name=""/>
          <p:cNvGrpSpPr/>
          <p:nvPr/>
        </p:nvGrpSpPr>
        <p:grpSpPr>
          <a:xfrm>
            <a:off x="3378240" y="1036800"/>
            <a:ext cx="602280" cy="520560"/>
            <a:chOff x="3378240" y="1036800"/>
            <a:chExt cx="602280" cy="520560"/>
          </a:xfrm>
        </p:grpSpPr>
        <p:sp>
          <p:nvSpPr>
            <p:cNvPr id="2435" name=""/>
            <p:cNvSpPr/>
            <p:nvPr/>
          </p:nvSpPr>
          <p:spPr>
            <a:xfrm>
              <a:off x="3583440" y="1036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V="1">
              <a:off x="3378240" y="1306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>
            <a:off x="1270440" y="807840"/>
            <a:ext cx="335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&lt;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单结管截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704960" y="1230480"/>
            <a:ext cx="29131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&gt;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单结管导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&lt;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恢复截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186560" y="380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单结晶体管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6248520" y="608400"/>
            <a:ext cx="1979640" cy="2428200"/>
            <a:chOff x="6248520" y="608400"/>
            <a:chExt cx="1979640" cy="2428200"/>
          </a:xfrm>
        </p:grpSpPr>
        <p:sp>
          <p:nvSpPr>
            <p:cNvPr id="2441" name=""/>
            <p:cNvSpPr/>
            <p:nvPr/>
          </p:nvSpPr>
          <p:spPr>
            <a:xfrm>
              <a:off x="7646760" y="60840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269120" y="1468440"/>
              <a:ext cx="0" cy="7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7261200" y="1642680"/>
              <a:ext cx="33192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269120" y="2076480"/>
              <a:ext cx="318960" cy="2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588080" y="941400"/>
              <a:ext cx="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588080" y="2097000"/>
              <a:ext cx="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248520" y="1675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716600" y="257688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7547040" y="837360"/>
              <a:ext cx="82440" cy="79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7547040" y="2805840"/>
              <a:ext cx="82440" cy="79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1" name=""/>
            <p:cNvGrpSpPr/>
            <p:nvPr/>
          </p:nvGrpSpPr>
          <p:grpSpPr>
            <a:xfrm>
              <a:off x="6357960" y="1828440"/>
              <a:ext cx="915840" cy="338040"/>
              <a:chOff x="6357960" y="1828440"/>
              <a:chExt cx="915840" cy="338040"/>
            </a:xfrm>
          </p:grpSpPr>
          <p:sp>
            <p:nvSpPr>
              <p:cNvPr id="2452" name=""/>
              <p:cNvSpPr/>
              <p:nvPr/>
            </p:nvSpPr>
            <p:spPr>
              <a:xfrm>
                <a:off x="6449760" y="2126880"/>
                <a:ext cx="55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357960" y="2087280"/>
                <a:ext cx="82440" cy="79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973920" y="1828440"/>
                <a:ext cx="299880" cy="29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5" name=""/>
          <p:cNvSpPr/>
          <p:nvPr/>
        </p:nvSpPr>
        <p:spPr>
          <a:xfrm>
            <a:off x="762120" y="2362320"/>
            <a:ext cx="838188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单结晶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管的峰点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加固定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B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分压比</a:t>
            </a:r>
            <a:r>
              <a:rPr b="1" i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关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加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B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压比</a:t>
            </a:r>
            <a:r>
              <a:rPr b="1" i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，则峰点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62120" y="4276800"/>
            <a:ext cx="792468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单结晶体管的谷点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谷点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一样。谷点电压大约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~ 5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。常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稍大一些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稍小的单结晶体管，以增大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脉冲幅度和移相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019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4.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单结晶体管触发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subTitle"/>
          </p:nvPr>
        </p:nvSpPr>
        <p:spPr>
          <a:xfrm>
            <a:off x="533160" y="1260000"/>
            <a:ext cx="23619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振荡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476280" y="914400"/>
            <a:ext cx="5810400" cy="162000"/>
            <a:chOff x="476280" y="914400"/>
            <a:chExt cx="5810400" cy="162000"/>
          </a:xfrm>
        </p:grpSpPr>
        <p:pic>
          <p:nvPicPr>
            <p:cNvPr id="2460" name="" descr=""/>
            <p:cNvPicPr/>
            <p:nvPr/>
          </p:nvPicPr>
          <p:blipFill>
            <a:blip r:embed="rId1"/>
            <a:stretch/>
          </p:blipFill>
          <p:spPr>
            <a:xfrm>
              <a:off x="476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1" name="" descr=""/>
            <p:cNvPicPr/>
            <p:nvPr/>
          </p:nvPicPr>
          <p:blipFill>
            <a:blip r:embed="rId2"/>
            <a:stretch/>
          </p:blipFill>
          <p:spPr>
            <a:xfrm>
              <a:off x="638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2" name="" descr=""/>
            <p:cNvPicPr/>
            <p:nvPr/>
          </p:nvPicPr>
          <p:blipFill>
            <a:blip r:embed="rId3"/>
            <a:stretch/>
          </p:blipFill>
          <p:spPr>
            <a:xfrm>
              <a:off x="933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3" name="" descr=""/>
            <p:cNvPicPr/>
            <p:nvPr/>
          </p:nvPicPr>
          <p:blipFill>
            <a:blip r:embed="rId4"/>
            <a:stretch/>
          </p:blipFill>
          <p:spPr>
            <a:xfrm>
              <a:off x="1095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4" name="" descr=""/>
            <p:cNvPicPr/>
            <p:nvPr/>
          </p:nvPicPr>
          <p:blipFill>
            <a:blip r:embed="rId5"/>
            <a:stretch/>
          </p:blipFill>
          <p:spPr>
            <a:xfrm>
              <a:off x="12477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5" name="" descr=""/>
            <p:cNvPicPr/>
            <p:nvPr/>
          </p:nvPicPr>
          <p:blipFill>
            <a:blip r:embed="rId6"/>
            <a:stretch/>
          </p:blipFill>
          <p:spPr>
            <a:xfrm>
              <a:off x="1390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6" name="" descr=""/>
            <p:cNvPicPr/>
            <p:nvPr/>
          </p:nvPicPr>
          <p:blipFill>
            <a:blip r:embed="rId7"/>
            <a:stretch/>
          </p:blipFill>
          <p:spPr>
            <a:xfrm>
              <a:off x="7905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7" name="" descr=""/>
            <p:cNvPicPr/>
            <p:nvPr/>
          </p:nvPicPr>
          <p:blipFill>
            <a:blip r:embed="rId8"/>
            <a:stretch/>
          </p:blipFill>
          <p:spPr>
            <a:xfrm>
              <a:off x="1552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8" name="" descr=""/>
            <p:cNvPicPr/>
            <p:nvPr/>
          </p:nvPicPr>
          <p:blipFill>
            <a:blip r:embed="rId9"/>
            <a:stretch/>
          </p:blipFill>
          <p:spPr>
            <a:xfrm>
              <a:off x="17049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9" name="" descr=""/>
            <p:cNvPicPr/>
            <p:nvPr/>
          </p:nvPicPr>
          <p:blipFill>
            <a:blip r:embed="rId10"/>
            <a:stretch/>
          </p:blipFill>
          <p:spPr>
            <a:xfrm>
              <a:off x="18478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0" name="" descr=""/>
            <p:cNvPicPr/>
            <p:nvPr/>
          </p:nvPicPr>
          <p:blipFill>
            <a:blip r:embed="rId11"/>
            <a:stretch/>
          </p:blipFill>
          <p:spPr>
            <a:xfrm>
              <a:off x="20098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1" name="" descr=""/>
            <p:cNvPicPr/>
            <p:nvPr/>
          </p:nvPicPr>
          <p:blipFill>
            <a:blip r:embed="rId12"/>
            <a:stretch/>
          </p:blipFill>
          <p:spPr>
            <a:xfrm>
              <a:off x="21621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2" name="" descr=""/>
            <p:cNvPicPr/>
            <p:nvPr/>
          </p:nvPicPr>
          <p:blipFill>
            <a:blip r:embed="rId13"/>
            <a:stretch/>
          </p:blipFill>
          <p:spPr>
            <a:xfrm>
              <a:off x="23050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3" name="" descr=""/>
            <p:cNvPicPr/>
            <p:nvPr/>
          </p:nvPicPr>
          <p:blipFill>
            <a:blip r:embed="rId14"/>
            <a:stretch/>
          </p:blipFill>
          <p:spPr>
            <a:xfrm>
              <a:off x="24670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4" name="" descr=""/>
            <p:cNvPicPr/>
            <p:nvPr/>
          </p:nvPicPr>
          <p:blipFill>
            <a:blip r:embed="rId15"/>
            <a:stretch/>
          </p:blipFill>
          <p:spPr>
            <a:xfrm>
              <a:off x="2762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5" name="" descr=""/>
            <p:cNvPicPr/>
            <p:nvPr/>
          </p:nvPicPr>
          <p:blipFill>
            <a:blip r:embed="rId16"/>
            <a:stretch/>
          </p:blipFill>
          <p:spPr>
            <a:xfrm>
              <a:off x="2924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6" name="" descr=""/>
            <p:cNvPicPr/>
            <p:nvPr/>
          </p:nvPicPr>
          <p:blipFill>
            <a:blip r:embed="rId17"/>
            <a:stretch/>
          </p:blipFill>
          <p:spPr>
            <a:xfrm>
              <a:off x="30765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7" name="" descr=""/>
            <p:cNvPicPr/>
            <p:nvPr/>
          </p:nvPicPr>
          <p:blipFill>
            <a:blip r:embed="rId18"/>
            <a:stretch/>
          </p:blipFill>
          <p:spPr>
            <a:xfrm>
              <a:off x="3219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8" name="" descr=""/>
            <p:cNvPicPr/>
            <p:nvPr/>
          </p:nvPicPr>
          <p:blipFill>
            <a:blip r:embed="rId19"/>
            <a:stretch/>
          </p:blipFill>
          <p:spPr>
            <a:xfrm>
              <a:off x="3381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9" name="" descr=""/>
            <p:cNvPicPr/>
            <p:nvPr/>
          </p:nvPicPr>
          <p:blipFill>
            <a:blip r:embed="rId20"/>
            <a:stretch/>
          </p:blipFill>
          <p:spPr>
            <a:xfrm>
              <a:off x="3676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0" name="" descr=""/>
            <p:cNvPicPr/>
            <p:nvPr/>
          </p:nvPicPr>
          <p:blipFill>
            <a:blip r:embed="rId21"/>
            <a:stretch/>
          </p:blipFill>
          <p:spPr>
            <a:xfrm>
              <a:off x="3838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1" name="" descr=""/>
            <p:cNvPicPr/>
            <p:nvPr/>
          </p:nvPicPr>
          <p:blipFill>
            <a:blip r:embed="rId22"/>
            <a:stretch/>
          </p:blipFill>
          <p:spPr>
            <a:xfrm>
              <a:off x="39909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2" name="" descr=""/>
            <p:cNvPicPr/>
            <p:nvPr/>
          </p:nvPicPr>
          <p:blipFill>
            <a:blip r:embed="rId23"/>
            <a:stretch/>
          </p:blipFill>
          <p:spPr>
            <a:xfrm>
              <a:off x="41338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3" name="" descr=""/>
            <p:cNvPicPr/>
            <p:nvPr/>
          </p:nvPicPr>
          <p:blipFill>
            <a:blip r:embed="rId24"/>
            <a:stretch/>
          </p:blipFill>
          <p:spPr>
            <a:xfrm>
              <a:off x="26193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4" name="" descr=""/>
            <p:cNvPicPr/>
            <p:nvPr/>
          </p:nvPicPr>
          <p:blipFill>
            <a:blip r:embed="rId25"/>
            <a:stretch/>
          </p:blipFill>
          <p:spPr>
            <a:xfrm>
              <a:off x="35337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5" name="" descr=""/>
            <p:cNvPicPr/>
            <p:nvPr/>
          </p:nvPicPr>
          <p:blipFill>
            <a:blip r:embed="rId26"/>
            <a:stretch/>
          </p:blipFill>
          <p:spPr>
            <a:xfrm>
              <a:off x="42958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6" name="" descr=""/>
            <p:cNvPicPr/>
            <p:nvPr/>
          </p:nvPicPr>
          <p:blipFill>
            <a:blip r:embed="rId27"/>
            <a:stretch/>
          </p:blipFill>
          <p:spPr>
            <a:xfrm>
              <a:off x="44481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7" name="" descr=""/>
            <p:cNvPicPr/>
            <p:nvPr/>
          </p:nvPicPr>
          <p:blipFill>
            <a:blip r:embed="rId28"/>
            <a:stretch/>
          </p:blipFill>
          <p:spPr>
            <a:xfrm>
              <a:off x="45910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8" name="" descr=""/>
            <p:cNvPicPr/>
            <p:nvPr/>
          </p:nvPicPr>
          <p:blipFill>
            <a:blip r:embed="rId29"/>
            <a:stretch/>
          </p:blipFill>
          <p:spPr>
            <a:xfrm>
              <a:off x="47530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9" name="" descr=""/>
            <p:cNvPicPr/>
            <p:nvPr/>
          </p:nvPicPr>
          <p:blipFill>
            <a:blip r:embed="rId30"/>
            <a:stretch/>
          </p:blipFill>
          <p:spPr>
            <a:xfrm>
              <a:off x="49053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0" name="" descr=""/>
            <p:cNvPicPr/>
            <p:nvPr/>
          </p:nvPicPr>
          <p:blipFill>
            <a:blip r:embed="rId31"/>
            <a:stretch/>
          </p:blipFill>
          <p:spPr>
            <a:xfrm>
              <a:off x="5048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1" name="" descr=""/>
            <p:cNvPicPr/>
            <p:nvPr/>
          </p:nvPicPr>
          <p:blipFill>
            <a:blip r:embed="rId32"/>
            <a:stretch/>
          </p:blipFill>
          <p:spPr>
            <a:xfrm>
              <a:off x="5210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2" name="" descr=""/>
            <p:cNvPicPr/>
            <p:nvPr/>
          </p:nvPicPr>
          <p:blipFill>
            <a:blip r:embed="rId33"/>
            <a:stretch/>
          </p:blipFill>
          <p:spPr>
            <a:xfrm>
              <a:off x="5505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3" name="" descr=""/>
            <p:cNvPicPr/>
            <p:nvPr/>
          </p:nvPicPr>
          <p:blipFill>
            <a:blip r:embed="rId34"/>
            <a:stretch/>
          </p:blipFill>
          <p:spPr>
            <a:xfrm>
              <a:off x="5667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4" name="" descr=""/>
            <p:cNvPicPr/>
            <p:nvPr/>
          </p:nvPicPr>
          <p:blipFill>
            <a:blip r:embed="rId35"/>
            <a:stretch/>
          </p:blipFill>
          <p:spPr>
            <a:xfrm>
              <a:off x="58197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5" name="" descr=""/>
            <p:cNvPicPr/>
            <p:nvPr/>
          </p:nvPicPr>
          <p:blipFill>
            <a:blip r:embed="rId36"/>
            <a:stretch/>
          </p:blipFill>
          <p:spPr>
            <a:xfrm>
              <a:off x="5962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6" name="" descr=""/>
            <p:cNvPicPr/>
            <p:nvPr/>
          </p:nvPicPr>
          <p:blipFill>
            <a:blip r:embed="rId37"/>
            <a:stretch/>
          </p:blipFill>
          <p:spPr>
            <a:xfrm>
              <a:off x="6124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7" name="" descr=""/>
            <p:cNvPicPr/>
            <p:nvPr/>
          </p:nvPicPr>
          <p:blipFill>
            <a:blip r:embed="rId38"/>
            <a:stretch/>
          </p:blipFill>
          <p:spPr>
            <a:xfrm>
              <a:off x="53625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8" name=""/>
          <p:cNvSpPr/>
          <p:nvPr/>
        </p:nvSpPr>
        <p:spPr>
          <a:xfrm>
            <a:off x="1671480" y="53341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结晶体管弛张振荡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216400" y="2022480"/>
            <a:ext cx="253044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结晶体管弛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振荡电路利用单结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负阻特性及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充放电特性组成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率可调的振荡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0" name=""/>
          <p:cNvGrpSpPr/>
          <p:nvPr/>
        </p:nvGrpSpPr>
        <p:grpSpPr>
          <a:xfrm>
            <a:off x="228600" y="1981080"/>
            <a:ext cx="4021200" cy="3200400"/>
            <a:chOff x="228600" y="1981080"/>
            <a:chExt cx="4021200" cy="3200400"/>
          </a:xfrm>
        </p:grpSpPr>
        <p:sp>
          <p:nvSpPr>
            <p:cNvPr id="2501" name=""/>
            <p:cNvSpPr/>
            <p:nvPr/>
          </p:nvSpPr>
          <p:spPr>
            <a:xfrm>
              <a:off x="2758680" y="4119120"/>
              <a:ext cx="47340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1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744280" y="2113920"/>
              <a:ext cx="54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138040" y="4004640"/>
              <a:ext cx="54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06520" y="2004840"/>
              <a:ext cx="0" cy="63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5" name=""/>
            <p:cNvGrpSpPr/>
            <p:nvPr/>
          </p:nvGrpSpPr>
          <p:grpSpPr>
            <a:xfrm>
              <a:off x="1320840" y="2638440"/>
              <a:ext cx="165240" cy="941040"/>
              <a:chOff x="1320840" y="2638440"/>
              <a:chExt cx="165240" cy="941040"/>
            </a:xfrm>
          </p:grpSpPr>
          <p:sp>
            <p:nvSpPr>
              <p:cNvPr id="2506" name=""/>
              <p:cNvSpPr/>
              <p:nvPr/>
            </p:nvSpPr>
            <p:spPr>
              <a:xfrm>
                <a:off x="1320840" y="2638440"/>
                <a:ext cx="165240" cy="43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13000" y="3071160"/>
                <a:ext cx="0" cy="50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8" name=""/>
            <p:cNvSpPr/>
            <p:nvPr/>
          </p:nvSpPr>
          <p:spPr>
            <a:xfrm>
              <a:off x="1474920" y="22741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189960" y="3305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593720" y="400284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2519280" y="318600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944720" y="3578400"/>
              <a:ext cx="218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V="1">
              <a:off x="2712960" y="3595320"/>
              <a:ext cx="0" cy="6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V="1">
              <a:off x="2712960" y="2862000"/>
              <a:ext cx="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838520" y="3072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397160" y="199692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08280" y="467028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835440" y="2852640"/>
              <a:ext cx="4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1392120" y="3573360"/>
              <a:ext cx="62568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24160" y="3589200"/>
              <a:ext cx="0" cy="71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252440" y="430704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252440" y="445284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24160" y="4452840"/>
              <a:ext cx="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916200" y="4077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395360" y="3652920"/>
              <a:ext cx="4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395360" y="4307040"/>
              <a:ext cx="4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782880" y="3579840"/>
              <a:ext cx="4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762280" y="3798720"/>
              <a:ext cx="4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790720" y="4438800"/>
              <a:ext cx="4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633760" y="2421000"/>
              <a:ext cx="1648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705040" y="1981080"/>
              <a:ext cx="0" cy="4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633760" y="4233960"/>
              <a:ext cx="164880" cy="43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2163600" y="3362400"/>
              <a:ext cx="36360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436760" y="5170320"/>
              <a:ext cx="23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040120" y="45867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835440" y="1981080"/>
              <a:ext cx="0" cy="13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835440" y="3798720"/>
              <a:ext cx="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8" name=""/>
            <p:cNvGrpSpPr/>
            <p:nvPr/>
          </p:nvGrpSpPr>
          <p:grpSpPr>
            <a:xfrm>
              <a:off x="3616200" y="3362400"/>
              <a:ext cx="436680" cy="398520"/>
              <a:chOff x="3616200" y="3362400"/>
              <a:chExt cx="436680" cy="398520"/>
            </a:xfrm>
          </p:grpSpPr>
          <p:sp>
            <p:nvSpPr>
              <p:cNvPr id="2539" name=""/>
              <p:cNvSpPr/>
              <p:nvPr/>
            </p:nvSpPr>
            <p:spPr>
              <a:xfrm>
                <a:off x="3616200" y="336240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616200" y="361224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688920" y="3484800"/>
                <a:ext cx="29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688920" y="3760920"/>
                <a:ext cx="29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3" name=""/>
            <p:cNvSpPr/>
            <p:nvPr/>
          </p:nvSpPr>
          <p:spPr>
            <a:xfrm>
              <a:off x="1396080" y="270828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776680" y="248904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28600" y="44406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. 47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511360" y="329724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514600" y="36021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8" name=""/>
          <p:cNvGrpSpPr/>
          <p:nvPr/>
        </p:nvGrpSpPr>
        <p:grpSpPr>
          <a:xfrm>
            <a:off x="4818240" y="1752480"/>
            <a:ext cx="4020480" cy="3200400"/>
            <a:chOff x="4818240" y="1752480"/>
            <a:chExt cx="4020480" cy="3200400"/>
          </a:xfrm>
        </p:grpSpPr>
        <p:sp>
          <p:nvSpPr>
            <p:cNvPr id="2549" name=""/>
            <p:cNvSpPr/>
            <p:nvPr/>
          </p:nvSpPr>
          <p:spPr>
            <a:xfrm>
              <a:off x="7347960" y="3890520"/>
              <a:ext cx="47340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1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333560" y="1885320"/>
              <a:ext cx="54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726960" y="3776040"/>
              <a:ext cx="54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995800" y="1776240"/>
              <a:ext cx="0" cy="63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3" name=""/>
            <p:cNvGrpSpPr/>
            <p:nvPr/>
          </p:nvGrpSpPr>
          <p:grpSpPr>
            <a:xfrm>
              <a:off x="5910120" y="2409840"/>
              <a:ext cx="164880" cy="941040"/>
              <a:chOff x="5910120" y="2409840"/>
              <a:chExt cx="164880" cy="941040"/>
            </a:xfrm>
          </p:grpSpPr>
          <p:sp>
            <p:nvSpPr>
              <p:cNvPr id="2554" name=""/>
              <p:cNvSpPr/>
              <p:nvPr/>
            </p:nvSpPr>
            <p:spPr>
              <a:xfrm>
                <a:off x="5910120" y="2409840"/>
                <a:ext cx="164880" cy="43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002280" y="2842560"/>
                <a:ext cx="0" cy="50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6" name=""/>
            <p:cNvSpPr/>
            <p:nvPr/>
          </p:nvSpPr>
          <p:spPr>
            <a:xfrm>
              <a:off x="6064200" y="2045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779240" y="307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180480" y="3759120"/>
              <a:ext cx="5238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zh-CN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7108560" y="295740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534000" y="3349800"/>
              <a:ext cx="21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7302240" y="3366720"/>
              <a:ext cx="0" cy="6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7302240" y="2633400"/>
              <a:ext cx="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427800" y="2844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986440" y="1768320"/>
              <a:ext cx="243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297560" y="444168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424720" y="2624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H="1">
              <a:off x="5981040" y="3344760"/>
              <a:ext cx="62532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13440" y="3360600"/>
              <a:ext cx="0" cy="71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841720" y="407844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841720" y="422424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013440" y="4224240"/>
              <a:ext cx="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505480" y="384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984640" y="342432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984640" y="407844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372160" y="3351240"/>
              <a:ext cx="4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351560" y="357012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380000" y="42102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223040" y="2192400"/>
              <a:ext cx="1645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94320" y="1752480"/>
              <a:ext cx="0" cy="4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23040" y="4005360"/>
              <a:ext cx="164520" cy="43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6752880" y="3133800"/>
              <a:ext cx="36324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026040" y="4941720"/>
              <a:ext cx="239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629040" y="43581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424720" y="1752480"/>
              <a:ext cx="0" cy="13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8424720" y="3570120"/>
              <a:ext cx="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6" name=""/>
            <p:cNvGrpSpPr/>
            <p:nvPr/>
          </p:nvGrpSpPr>
          <p:grpSpPr>
            <a:xfrm>
              <a:off x="8205480" y="3133800"/>
              <a:ext cx="436320" cy="398520"/>
              <a:chOff x="8205480" y="3133800"/>
              <a:chExt cx="436320" cy="398520"/>
            </a:xfrm>
          </p:grpSpPr>
          <p:sp>
            <p:nvSpPr>
              <p:cNvPr id="2587" name=""/>
              <p:cNvSpPr/>
              <p:nvPr/>
            </p:nvSpPr>
            <p:spPr>
              <a:xfrm>
                <a:off x="8205480" y="313380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205480" y="338364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278200" y="3256200"/>
                <a:ext cx="29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278200" y="3532320"/>
                <a:ext cx="29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1" name=""/>
            <p:cNvSpPr/>
            <p:nvPr/>
          </p:nvSpPr>
          <p:spPr>
            <a:xfrm>
              <a:off x="5985000" y="247968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365600" y="226044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818240" y="421200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. 47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100640" y="3068640"/>
              <a:ext cx="22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103880" y="3373560"/>
              <a:ext cx="22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振荡过程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1317240" y="762120"/>
            <a:ext cx="209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通电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457200" y="1187280"/>
            <a:ext cx="4952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通电源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电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电。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容电压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99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逐渐升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440" y="2372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57200" y="1921680"/>
            <a:ext cx="5361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单结管导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容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放电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,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上得到一脉冲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 rot="21468000">
            <a:off x="1962000" y="3265200"/>
            <a:ext cx="928800" cy="588960"/>
          </a:xfrm>
          <a:custGeom>
            <a:avLst/>
            <a:gdLst/>
            <a:ahLst/>
            <a:rect l="l" t="t" r="r" b="b"/>
            <a:pathLst>
              <a:path w="276" h="72">
                <a:moveTo>
                  <a:pt x="0" y="72"/>
                </a:moveTo>
                <a:cubicBezTo>
                  <a:pt x="31" y="48"/>
                  <a:pt x="62" y="24"/>
                  <a:pt x="108" y="12"/>
                </a:cubicBezTo>
                <a:cubicBezTo>
                  <a:pt x="154" y="0"/>
                  <a:pt x="215" y="0"/>
                  <a:pt x="27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851200" y="3211560"/>
            <a:ext cx="484200" cy="64440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0"/>
                </a:moveTo>
                <a:cubicBezTo>
                  <a:pt x="23" y="36"/>
                  <a:pt x="46" y="72"/>
                  <a:pt x="84" y="96"/>
                </a:cubicBezTo>
                <a:cubicBezTo>
                  <a:pt x="122" y="120"/>
                  <a:pt x="208" y="138"/>
                  <a:pt x="228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3" name=""/>
          <p:cNvGrpSpPr/>
          <p:nvPr/>
        </p:nvGrpSpPr>
        <p:grpSpPr>
          <a:xfrm>
            <a:off x="2817720" y="3390840"/>
            <a:ext cx="459000" cy="1999800"/>
            <a:chOff x="2817720" y="3390840"/>
            <a:chExt cx="459000" cy="1999800"/>
          </a:xfrm>
        </p:grpSpPr>
        <p:sp>
          <p:nvSpPr>
            <p:cNvPr id="2604" name=""/>
            <p:cNvSpPr/>
            <p:nvPr/>
          </p:nvSpPr>
          <p:spPr>
            <a:xfrm>
              <a:off x="2817720" y="3390840"/>
              <a:ext cx="0" cy="199980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276720" y="3944160"/>
              <a:ext cx="0" cy="137304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6" name=""/>
          <p:cNvGrpSpPr/>
          <p:nvPr/>
        </p:nvGrpSpPr>
        <p:grpSpPr>
          <a:xfrm>
            <a:off x="2817720" y="4781520"/>
            <a:ext cx="484200" cy="611280"/>
            <a:chOff x="2817720" y="4781520"/>
            <a:chExt cx="484200" cy="611280"/>
          </a:xfrm>
        </p:grpSpPr>
        <p:sp>
          <p:nvSpPr>
            <p:cNvPr id="2607" name=""/>
            <p:cNvSpPr/>
            <p:nvPr/>
          </p:nvSpPr>
          <p:spPr>
            <a:xfrm>
              <a:off x="2817720" y="4781520"/>
              <a:ext cx="484200" cy="58752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16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819520" y="4805280"/>
              <a:ext cx="0" cy="587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1935000" y="2789280"/>
            <a:ext cx="2620080" cy="1319040"/>
            <a:chOff x="1935000" y="2789280"/>
            <a:chExt cx="2620080" cy="1319040"/>
          </a:xfrm>
        </p:grpSpPr>
        <p:sp>
          <p:nvSpPr>
            <p:cNvPr id="2610" name=""/>
            <p:cNvSpPr/>
            <p:nvPr/>
          </p:nvSpPr>
          <p:spPr>
            <a:xfrm>
              <a:off x="1935000" y="3211560"/>
              <a:ext cx="2286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973160" y="3840120"/>
              <a:ext cx="2286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003560" y="278928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001040" y="34596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32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2039760" y="4313160"/>
            <a:ext cx="2431080" cy="579600"/>
            <a:chOff x="2039760" y="4313160"/>
            <a:chExt cx="2431080" cy="579600"/>
          </a:xfrm>
        </p:grpSpPr>
        <p:sp>
          <p:nvSpPr>
            <p:cNvPr id="2615" name=""/>
            <p:cNvSpPr/>
            <p:nvPr/>
          </p:nvSpPr>
          <p:spPr>
            <a:xfrm>
              <a:off x="2039760" y="4811760"/>
              <a:ext cx="2000520" cy="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396960" y="4313160"/>
              <a:ext cx="107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-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1441800" y="2641320"/>
            <a:ext cx="3510720" cy="1856160"/>
            <a:chOff x="1441800" y="2641320"/>
            <a:chExt cx="3510720" cy="1856160"/>
          </a:xfrm>
        </p:grpSpPr>
        <p:sp>
          <p:nvSpPr>
            <p:cNvPr id="2618" name=""/>
            <p:cNvSpPr/>
            <p:nvPr/>
          </p:nvSpPr>
          <p:spPr>
            <a:xfrm>
              <a:off x="1441800" y="2641320"/>
              <a:ext cx="5436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9" name=""/>
            <p:cNvGrpSpPr/>
            <p:nvPr/>
          </p:nvGrpSpPr>
          <p:grpSpPr>
            <a:xfrm>
              <a:off x="1982880" y="2925000"/>
              <a:ext cx="2895840" cy="1143360"/>
              <a:chOff x="1982880" y="2925000"/>
              <a:chExt cx="2895840" cy="1143360"/>
            </a:xfrm>
          </p:grpSpPr>
          <p:sp>
            <p:nvSpPr>
              <p:cNvPr id="2620" name=""/>
              <p:cNvSpPr/>
              <p:nvPr/>
            </p:nvSpPr>
            <p:spPr>
              <a:xfrm flipV="1">
                <a:off x="1982880" y="2925000"/>
                <a:ext cx="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982880" y="4068360"/>
                <a:ext cx="289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"/>
            <p:cNvSpPr/>
            <p:nvPr/>
          </p:nvSpPr>
          <p:spPr>
            <a:xfrm>
              <a:off x="4415400" y="3916080"/>
              <a:ext cx="53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1458000" y="3992400"/>
            <a:ext cx="3492720" cy="1800720"/>
            <a:chOff x="1458000" y="3992400"/>
            <a:chExt cx="3492720" cy="1800720"/>
          </a:xfrm>
        </p:grpSpPr>
        <p:grpSp>
          <p:nvGrpSpPr>
            <p:cNvPr id="2624" name=""/>
            <p:cNvGrpSpPr/>
            <p:nvPr/>
          </p:nvGrpSpPr>
          <p:grpSpPr>
            <a:xfrm>
              <a:off x="1458000" y="3992400"/>
              <a:ext cx="3418920" cy="1371600"/>
              <a:chOff x="1458000" y="3992400"/>
              <a:chExt cx="3418920" cy="1371600"/>
            </a:xfrm>
          </p:grpSpPr>
          <p:sp>
            <p:nvSpPr>
              <p:cNvPr id="2625" name=""/>
              <p:cNvSpPr/>
              <p:nvPr/>
            </p:nvSpPr>
            <p:spPr>
              <a:xfrm>
                <a:off x="1458000" y="3992400"/>
                <a:ext cx="51012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zh-CN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6" name=""/>
              <p:cNvGrpSpPr/>
              <p:nvPr/>
            </p:nvGrpSpPr>
            <p:grpSpPr>
              <a:xfrm>
                <a:off x="1981080" y="4220640"/>
                <a:ext cx="2895840" cy="1143360"/>
                <a:chOff x="1981080" y="4220640"/>
                <a:chExt cx="2895840" cy="1143360"/>
              </a:xfrm>
            </p:grpSpPr>
            <p:sp>
              <p:nvSpPr>
                <p:cNvPr id="2627" name=""/>
                <p:cNvSpPr/>
                <p:nvPr/>
              </p:nvSpPr>
              <p:spPr>
                <a:xfrm flipV="1">
                  <a:off x="1981080" y="422064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1981080" y="5364000"/>
                  <a:ext cx="289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9" name=""/>
            <p:cNvSpPr/>
            <p:nvPr/>
          </p:nvSpPr>
          <p:spPr>
            <a:xfrm>
              <a:off x="4413600" y="5211720"/>
              <a:ext cx="53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6400800" y="2992320"/>
            <a:ext cx="501480" cy="703080"/>
            <a:chOff x="6400800" y="2992320"/>
            <a:chExt cx="501480" cy="703080"/>
          </a:xfrm>
        </p:grpSpPr>
        <p:sp>
          <p:nvSpPr>
            <p:cNvPr id="2631" name=""/>
            <p:cNvSpPr/>
            <p:nvPr/>
          </p:nvSpPr>
          <p:spPr>
            <a:xfrm>
              <a:off x="6400800" y="3031920"/>
              <a:ext cx="501480" cy="6634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>
              <a:off x="6400800" y="2992320"/>
              <a:ext cx="421920" cy="6951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5791320" y="1599840"/>
            <a:ext cx="609480" cy="2134080"/>
            <a:chOff x="5791320" y="1599840"/>
            <a:chExt cx="609480" cy="2134080"/>
          </a:xfrm>
        </p:grpSpPr>
        <p:sp>
          <p:nvSpPr>
            <p:cNvPr id="2634" name=""/>
            <p:cNvSpPr/>
            <p:nvPr/>
          </p:nvSpPr>
          <p:spPr>
            <a:xfrm flipV="1">
              <a:off x="5791320" y="1599840"/>
              <a:ext cx="609480" cy="190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791320" y="1619280"/>
              <a:ext cx="0" cy="211464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6" name=""/>
          <p:cNvGrpSpPr/>
          <p:nvPr/>
        </p:nvGrpSpPr>
        <p:grpSpPr>
          <a:xfrm>
            <a:off x="6248520" y="3485880"/>
            <a:ext cx="876240" cy="647640"/>
            <a:chOff x="6248520" y="3485880"/>
            <a:chExt cx="876240" cy="647640"/>
          </a:xfrm>
        </p:grpSpPr>
        <p:sp>
          <p:nvSpPr>
            <p:cNvPr id="2637" name=""/>
            <p:cNvSpPr/>
            <p:nvPr/>
          </p:nvSpPr>
          <p:spPr>
            <a:xfrm flipV="1">
              <a:off x="6248520" y="3485880"/>
              <a:ext cx="0" cy="647640"/>
            </a:xfrm>
            <a:prstGeom prst="line">
              <a:avLst/>
            </a:prstGeom>
            <a:ln w="38160">
              <a:solidFill>
                <a:srgbClr val="005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305400" y="3486240"/>
              <a:ext cx="819360" cy="0"/>
            </a:xfrm>
            <a:prstGeom prst="line">
              <a:avLst/>
            </a:prstGeom>
            <a:ln w="38160">
              <a:solidFill>
                <a:srgbClr val="005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9" name=""/>
          <p:cNvSpPr/>
          <p:nvPr/>
        </p:nvSpPr>
        <p:spPr>
          <a:xfrm>
            <a:off x="7086600" y="3562200"/>
            <a:ext cx="0" cy="1009800"/>
          </a:xfrm>
          <a:prstGeom prst="line">
            <a:avLst/>
          </a:prstGeom>
          <a:ln w="38160">
            <a:solidFill>
              <a:srgbClr val="005c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57200" y="568476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容放电至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zh-CN" sz="24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宋体"/>
              </a:rPr>
              <a:t>v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时，单结管重新关断，使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011360" y="5029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2820960" y="5334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"/>
          <p:cNvSpPr/>
          <p:nvPr/>
        </p:nvSpPr>
        <p:spPr>
          <a:xfrm>
            <a:off x="5583240" y="2048040"/>
            <a:ext cx="0" cy="28796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499080" y="2071800"/>
            <a:ext cx="0" cy="284472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843600" y="2678040"/>
            <a:ext cx="0" cy="22636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7419960" y="2055960"/>
            <a:ext cx="0" cy="287316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7743960" y="2670120"/>
            <a:ext cx="0" cy="217656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739800" y="2470680"/>
            <a:ext cx="308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注意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值不能选的太小，否则单结管不能关断，电路亦不能振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9" name=""/>
          <p:cNvGrpSpPr/>
          <p:nvPr/>
        </p:nvGrpSpPr>
        <p:grpSpPr>
          <a:xfrm>
            <a:off x="666720" y="304920"/>
            <a:ext cx="1752120" cy="1561680"/>
            <a:chOff x="666720" y="304920"/>
            <a:chExt cx="1752120" cy="1561680"/>
          </a:xfrm>
        </p:grpSpPr>
        <p:sp>
          <p:nvSpPr>
            <p:cNvPr id="2650" name=""/>
            <p:cNvSpPr/>
            <p:nvPr/>
          </p:nvSpPr>
          <p:spPr>
            <a:xfrm>
              <a:off x="1542960" y="999000"/>
              <a:ext cx="875880" cy="867600"/>
            </a:xfrm>
            <a:custGeom>
              <a:avLst/>
              <a:gdLst>
                <a:gd name="textAreaLeft" fmla="*/ 360720 w 875880"/>
                <a:gd name="textAreaRight" fmla="*/ 515160 w 875880"/>
                <a:gd name="textAreaTop" fmla="*/ 357480 h 867600"/>
                <a:gd name="textAreaBottom" fmla="*/ 510120 h 86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66720" y="304920"/>
              <a:ext cx="1051200" cy="1214640"/>
            </a:xfrm>
            <a:custGeom>
              <a:avLst/>
              <a:gdLst>
                <a:gd name="textAreaLeft" fmla="*/ 433080 w 1051200"/>
                <a:gd name="textAreaRight" fmla="*/ 618120 w 1051200"/>
                <a:gd name="textAreaTop" fmla="*/ 500400 h 1214640"/>
                <a:gd name="textAreaBottom" fmla="*/ 714240 h 121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2" name=""/>
          <p:cNvGrpSpPr/>
          <p:nvPr/>
        </p:nvGrpSpPr>
        <p:grpSpPr>
          <a:xfrm>
            <a:off x="5023440" y="2022480"/>
            <a:ext cx="615960" cy="2908440"/>
            <a:chOff x="5023440" y="2022480"/>
            <a:chExt cx="615960" cy="2908440"/>
          </a:xfrm>
        </p:grpSpPr>
        <p:sp>
          <p:nvSpPr>
            <p:cNvPr id="2653" name=""/>
            <p:cNvSpPr/>
            <p:nvPr/>
          </p:nvSpPr>
          <p:spPr>
            <a:xfrm flipV="1">
              <a:off x="5054760" y="4917960"/>
              <a:ext cx="54612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rot="21468000">
              <a:off x="5035320" y="2033280"/>
              <a:ext cx="591840" cy="64296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5" name=""/>
          <p:cNvGrpSpPr/>
          <p:nvPr/>
        </p:nvGrpSpPr>
        <p:grpSpPr>
          <a:xfrm>
            <a:off x="4511160" y="1686600"/>
            <a:ext cx="3555000" cy="581400"/>
            <a:chOff x="4511160" y="1686600"/>
            <a:chExt cx="3555000" cy="581400"/>
          </a:xfrm>
        </p:grpSpPr>
        <p:sp>
          <p:nvSpPr>
            <p:cNvPr id="2656" name=""/>
            <p:cNvSpPr/>
            <p:nvPr/>
          </p:nvSpPr>
          <p:spPr>
            <a:xfrm>
              <a:off x="4998960" y="2027160"/>
              <a:ext cx="3067200" cy="0"/>
            </a:xfrm>
            <a:prstGeom prst="line">
              <a:avLst/>
            </a:prstGeom>
            <a:ln w="2844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511160" y="1686600"/>
              <a:ext cx="54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8" name=""/>
          <p:cNvGrpSpPr/>
          <p:nvPr/>
        </p:nvGrpSpPr>
        <p:grpSpPr>
          <a:xfrm>
            <a:off x="5573880" y="2033640"/>
            <a:ext cx="398160" cy="2897280"/>
            <a:chOff x="5573880" y="2033640"/>
            <a:chExt cx="398160" cy="2897280"/>
          </a:xfrm>
        </p:grpSpPr>
        <p:sp>
          <p:nvSpPr>
            <p:cNvPr id="2659" name=""/>
            <p:cNvSpPr/>
            <p:nvPr/>
          </p:nvSpPr>
          <p:spPr>
            <a:xfrm>
              <a:off x="5573880" y="42354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0" name=""/>
            <p:cNvGrpSpPr/>
            <p:nvPr/>
          </p:nvGrpSpPr>
          <p:grpSpPr>
            <a:xfrm>
              <a:off x="5573880" y="2033640"/>
              <a:ext cx="398160" cy="2897280"/>
              <a:chOff x="5573880" y="2033640"/>
              <a:chExt cx="398160" cy="2897280"/>
            </a:xfrm>
          </p:grpSpPr>
          <p:sp>
            <p:nvSpPr>
              <p:cNvPr id="2661" name=""/>
              <p:cNvSpPr/>
              <p:nvPr/>
            </p:nvSpPr>
            <p:spPr>
              <a:xfrm>
                <a:off x="5573880" y="4295880"/>
                <a:ext cx="398160" cy="635040"/>
              </a:xfrm>
              <a:custGeom>
                <a:avLst/>
                <a:gdLst/>
                <a:ahLst/>
                <a:rect l="l" t="t" r="r" b="b"/>
                <a:pathLst>
                  <a:path w="228" h="144">
                    <a:moveTo>
                      <a:pt x="0" y="0"/>
                    </a:moveTo>
                    <a:cubicBezTo>
                      <a:pt x="23" y="36"/>
                      <a:pt x="46" y="72"/>
                      <a:pt x="84" y="96"/>
                    </a:cubicBezTo>
                    <a:cubicBezTo>
                      <a:pt x="122" y="120"/>
                      <a:pt x="208" y="138"/>
                      <a:pt x="228" y="144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616720" y="2033640"/>
                <a:ext cx="322200" cy="647640"/>
              </a:xfrm>
              <a:custGeom>
                <a:avLst/>
                <a:gdLst/>
                <a:ahLst/>
                <a:rect l="l" t="t" r="r" b="b"/>
                <a:pathLst>
                  <a:path w="228" h="144">
                    <a:moveTo>
                      <a:pt x="0" y="0"/>
                    </a:moveTo>
                    <a:cubicBezTo>
                      <a:pt x="23" y="36"/>
                      <a:pt x="46" y="72"/>
                      <a:pt x="84" y="96"/>
                    </a:cubicBezTo>
                    <a:cubicBezTo>
                      <a:pt x="122" y="120"/>
                      <a:pt x="208" y="138"/>
                      <a:pt x="228" y="1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3" name=""/>
          <p:cNvGrpSpPr/>
          <p:nvPr/>
        </p:nvGrpSpPr>
        <p:grpSpPr>
          <a:xfrm>
            <a:off x="5912640" y="2035080"/>
            <a:ext cx="601560" cy="2882880"/>
            <a:chOff x="5912640" y="2035080"/>
            <a:chExt cx="601560" cy="2882880"/>
          </a:xfrm>
        </p:grpSpPr>
        <p:sp>
          <p:nvSpPr>
            <p:cNvPr id="2664" name=""/>
            <p:cNvSpPr/>
            <p:nvPr/>
          </p:nvSpPr>
          <p:spPr>
            <a:xfrm>
              <a:off x="5918040" y="4917960"/>
              <a:ext cx="5716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rot="21468000">
              <a:off x="5924520" y="2045880"/>
              <a:ext cx="577800" cy="63180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6" name=""/>
          <p:cNvGrpSpPr/>
          <p:nvPr/>
        </p:nvGrpSpPr>
        <p:grpSpPr>
          <a:xfrm>
            <a:off x="4524120" y="2277360"/>
            <a:ext cx="3681720" cy="2675520"/>
            <a:chOff x="4524120" y="2277360"/>
            <a:chExt cx="3681720" cy="2675520"/>
          </a:xfrm>
        </p:grpSpPr>
        <p:sp>
          <p:nvSpPr>
            <p:cNvPr id="2667" name=""/>
            <p:cNvSpPr/>
            <p:nvPr/>
          </p:nvSpPr>
          <p:spPr>
            <a:xfrm>
              <a:off x="5940360" y="2690640"/>
              <a:ext cx="0" cy="2262240"/>
            </a:xfrm>
            <a:prstGeom prst="line">
              <a:avLst/>
            </a:prstGeom>
            <a:ln w="2844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062680" y="2700360"/>
              <a:ext cx="3143160" cy="0"/>
            </a:xfrm>
            <a:prstGeom prst="line">
              <a:avLst/>
            </a:prstGeom>
            <a:ln w="2844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524120" y="227736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0" name=""/>
          <p:cNvGrpSpPr/>
          <p:nvPr/>
        </p:nvGrpSpPr>
        <p:grpSpPr>
          <a:xfrm>
            <a:off x="6500880" y="2021040"/>
            <a:ext cx="398520" cy="2922480"/>
            <a:chOff x="6500880" y="2021040"/>
            <a:chExt cx="398520" cy="2922480"/>
          </a:xfrm>
        </p:grpSpPr>
        <p:sp>
          <p:nvSpPr>
            <p:cNvPr id="2671" name=""/>
            <p:cNvSpPr/>
            <p:nvPr/>
          </p:nvSpPr>
          <p:spPr>
            <a:xfrm>
              <a:off x="6500880" y="424800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500880" y="4308480"/>
              <a:ext cx="398520" cy="63504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505560" y="2021040"/>
              <a:ext cx="334800" cy="66024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6834960" y="2030760"/>
            <a:ext cx="603360" cy="2900160"/>
            <a:chOff x="6834960" y="2030760"/>
            <a:chExt cx="603360" cy="2900160"/>
          </a:xfrm>
        </p:grpSpPr>
        <p:sp>
          <p:nvSpPr>
            <p:cNvPr id="2675" name=""/>
            <p:cNvSpPr/>
            <p:nvPr/>
          </p:nvSpPr>
          <p:spPr>
            <a:xfrm>
              <a:off x="6845400" y="4930920"/>
              <a:ext cx="571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rot="21468000">
              <a:off x="6846840" y="2041560"/>
              <a:ext cx="579600" cy="63036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7415280" y="2033640"/>
            <a:ext cx="347760" cy="2927160"/>
            <a:chOff x="7415280" y="2033640"/>
            <a:chExt cx="347760" cy="2927160"/>
          </a:xfrm>
        </p:grpSpPr>
        <p:sp>
          <p:nvSpPr>
            <p:cNvPr id="2678" name=""/>
            <p:cNvSpPr/>
            <p:nvPr/>
          </p:nvSpPr>
          <p:spPr>
            <a:xfrm>
              <a:off x="7415280" y="427032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415280" y="4295880"/>
              <a:ext cx="347760" cy="63504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419960" y="2033640"/>
              <a:ext cx="322200" cy="64764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1" name=""/>
          <p:cNvSpPr/>
          <p:nvPr/>
        </p:nvSpPr>
        <p:spPr>
          <a:xfrm>
            <a:off x="6002280" y="5257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压波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2" name=""/>
          <p:cNvGrpSpPr/>
          <p:nvPr/>
        </p:nvGrpSpPr>
        <p:grpSpPr>
          <a:xfrm>
            <a:off x="4474440" y="914400"/>
            <a:ext cx="4400640" cy="5346720"/>
            <a:chOff x="4474440" y="914400"/>
            <a:chExt cx="4400640" cy="5346720"/>
          </a:xfrm>
        </p:grpSpPr>
        <p:grpSp>
          <p:nvGrpSpPr>
            <p:cNvPr id="2683" name=""/>
            <p:cNvGrpSpPr/>
            <p:nvPr/>
          </p:nvGrpSpPr>
          <p:grpSpPr>
            <a:xfrm>
              <a:off x="4474440" y="914400"/>
              <a:ext cx="4400640" cy="5346720"/>
              <a:chOff x="4474440" y="914400"/>
              <a:chExt cx="4400640" cy="5346720"/>
            </a:xfrm>
          </p:grpSpPr>
          <p:sp>
            <p:nvSpPr>
              <p:cNvPr id="2684" name=""/>
              <p:cNvSpPr/>
              <p:nvPr/>
            </p:nvSpPr>
            <p:spPr>
              <a:xfrm>
                <a:off x="6593040" y="5681520"/>
                <a:ext cx="183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474440" y="914400"/>
                <a:ext cx="5238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i="1" lang="zh-CN" sz="24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5045040" y="1284120"/>
                <a:ext cx="0" cy="196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844880" y="2887560"/>
                <a:ext cx="362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318880" y="2373840"/>
                <a:ext cx="53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8337960" y="4371120"/>
                <a:ext cx="53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045040" y="3706920"/>
                <a:ext cx="0" cy="160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884840" y="4944960"/>
                <a:ext cx="370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4500360" y="3443760"/>
                <a:ext cx="523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zh-CN" sz="32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3" name=""/>
            <p:cNvSpPr/>
            <p:nvPr/>
          </p:nvSpPr>
          <p:spPr>
            <a:xfrm>
              <a:off x="4650480" y="281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650480" y="4876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6810480" y="3719520"/>
            <a:ext cx="1753560" cy="907560"/>
            <a:chOff x="6810480" y="3719520"/>
            <a:chExt cx="1753560" cy="907560"/>
          </a:xfrm>
        </p:grpSpPr>
        <p:grpSp>
          <p:nvGrpSpPr>
            <p:cNvPr id="116" name=""/>
            <p:cNvGrpSpPr/>
            <p:nvPr/>
          </p:nvGrpSpPr>
          <p:grpSpPr>
            <a:xfrm>
              <a:off x="6810480" y="3719520"/>
              <a:ext cx="1753560" cy="907560"/>
              <a:chOff x="6810480" y="3719520"/>
              <a:chExt cx="1753560" cy="9075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810480" y="3927240"/>
                <a:ext cx="1361520" cy="135000"/>
                <a:chOff x="6810480" y="3927240"/>
                <a:chExt cx="1361520" cy="135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810480" y="3995640"/>
                  <a:ext cx="1218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029440" y="3927240"/>
                  <a:ext cx="142560" cy="135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724880" y="3719520"/>
                <a:ext cx="839160" cy="907560"/>
                <a:chOff x="7724880" y="3719520"/>
                <a:chExt cx="839160" cy="9075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24880" y="4047840"/>
                  <a:ext cx="18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107560" y="371952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>
              <a:off x="7608960" y="4052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控制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晶闸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699840"/>
            <a:ext cx="3276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1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基本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93000" y="5014800"/>
            <a:ext cx="1267920" cy="672840"/>
            <a:chOff x="6093000" y="5014800"/>
            <a:chExt cx="1267920" cy="672840"/>
          </a:xfrm>
        </p:grpSpPr>
        <p:grpSp>
          <p:nvGrpSpPr>
            <p:cNvPr id="127" name=""/>
            <p:cNvGrpSpPr/>
            <p:nvPr/>
          </p:nvGrpSpPr>
          <p:grpSpPr>
            <a:xfrm>
              <a:off x="6093000" y="5014800"/>
              <a:ext cx="142560" cy="639720"/>
              <a:chOff x="6093000" y="5014800"/>
              <a:chExt cx="142560" cy="639720"/>
            </a:xfrm>
          </p:grpSpPr>
          <p:sp>
            <p:nvSpPr>
              <p:cNvPr id="128" name=""/>
              <p:cNvSpPr/>
              <p:nvPr/>
            </p:nvSpPr>
            <p:spPr>
              <a:xfrm>
                <a:off x="6160680" y="5014800"/>
                <a:ext cx="0" cy="52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093000" y="5519880"/>
                <a:ext cx="142560" cy="134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6303960" y="5167080"/>
              <a:ext cx="105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阴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8492760" y="35438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3840" y="761400"/>
            <a:ext cx="1284840" cy="1280880"/>
            <a:chOff x="5793840" y="761400"/>
            <a:chExt cx="1284840" cy="1280880"/>
          </a:xfrm>
        </p:grpSpPr>
        <p:grpSp>
          <p:nvGrpSpPr>
            <p:cNvPr id="133" name=""/>
            <p:cNvGrpSpPr/>
            <p:nvPr/>
          </p:nvGrpSpPr>
          <p:grpSpPr>
            <a:xfrm>
              <a:off x="6108840" y="1407960"/>
              <a:ext cx="168120" cy="634320"/>
              <a:chOff x="6108840" y="1407960"/>
              <a:chExt cx="168120" cy="63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6108840" y="1407960"/>
                <a:ext cx="168120" cy="133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03880" y="1512360"/>
                <a:ext cx="0" cy="52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793840" y="761400"/>
              <a:ext cx="1284840" cy="582120"/>
              <a:chOff x="5793840" y="761400"/>
              <a:chExt cx="1284840" cy="582120"/>
            </a:xfrm>
          </p:grpSpPr>
          <p:sp>
            <p:nvSpPr>
              <p:cNvPr id="137" name=""/>
              <p:cNvSpPr/>
              <p:nvPr/>
            </p:nvSpPr>
            <p:spPr>
              <a:xfrm>
                <a:off x="6471360" y="7614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阳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93840" y="822960"/>
                <a:ext cx="6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905360" y="1905120"/>
            <a:ext cx="1931760" cy="4063680"/>
            <a:chOff x="4905360" y="1905120"/>
            <a:chExt cx="1931760" cy="4063680"/>
          </a:xfrm>
        </p:grpSpPr>
        <p:grpSp>
          <p:nvGrpSpPr>
            <p:cNvPr id="140" name=""/>
            <p:cNvGrpSpPr/>
            <p:nvPr/>
          </p:nvGrpSpPr>
          <p:grpSpPr>
            <a:xfrm>
              <a:off x="5495400" y="1905120"/>
              <a:ext cx="1341720" cy="3182400"/>
              <a:chOff x="5495400" y="1905120"/>
              <a:chExt cx="1341720" cy="3182400"/>
            </a:xfrm>
          </p:grpSpPr>
          <p:sp>
            <p:nvSpPr>
              <p:cNvPr id="141" name=""/>
              <p:cNvSpPr/>
              <p:nvPr/>
            </p:nvSpPr>
            <p:spPr>
              <a:xfrm>
                <a:off x="5495400" y="4324680"/>
                <a:ext cx="1341720" cy="762840"/>
              </a:xfrm>
              <a:prstGeom prst="rect">
                <a:avLst/>
              </a:prstGeom>
              <a:solidFill>
                <a:srgbClr val="00ffff"/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95400" y="2732400"/>
                <a:ext cx="1341720" cy="827280"/>
              </a:xfrm>
              <a:prstGeom prst="rect">
                <a:avLst/>
              </a:prstGeom>
              <a:solidFill>
                <a:srgbClr val="00ffff"/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95400" y="3559680"/>
                <a:ext cx="1341720" cy="7650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95400" y="1905120"/>
                <a:ext cx="1341720" cy="82728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30560" y="2032920"/>
                <a:ext cx="671040" cy="581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P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31280" y="3729600"/>
                <a:ext cx="633240" cy="581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P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31640" y="290232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N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95400" y="3559680"/>
                <a:ext cx="1341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95400" y="4324680"/>
                <a:ext cx="1341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95400" y="2732400"/>
                <a:ext cx="1341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31640" y="449316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N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05360" y="5389200"/>
              <a:ext cx="18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96920" y="2257200"/>
            <a:ext cx="1717920" cy="2833920"/>
            <a:chOff x="3796920" y="2257200"/>
            <a:chExt cx="1717920" cy="2833920"/>
          </a:xfrm>
        </p:grpSpPr>
        <p:sp>
          <p:nvSpPr>
            <p:cNvPr id="154" name=""/>
            <p:cNvSpPr/>
            <p:nvPr/>
          </p:nvSpPr>
          <p:spPr>
            <a:xfrm>
              <a:off x="4797360" y="3292560"/>
              <a:ext cx="7174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96920" y="2536920"/>
              <a:ext cx="103356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四 层 半 导 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705920" y="2257200"/>
              <a:ext cx="795600" cy="53964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71800" y="4057920"/>
              <a:ext cx="7174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71800" y="4534200"/>
              <a:ext cx="717480" cy="477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520" y="1157400"/>
            <a:ext cx="396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是具有三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的四层结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外形、结构及符号如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64400" y="53341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(c)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40080" y="2818800"/>
            <a:ext cx="1509840" cy="2975040"/>
            <a:chOff x="2440080" y="2818800"/>
            <a:chExt cx="1509840" cy="2975040"/>
          </a:xfrm>
        </p:grpSpPr>
        <p:grpSp>
          <p:nvGrpSpPr>
            <p:cNvPr id="162" name=""/>
            <p:cNvGrpSpPr/>
            <p:nvPr/>
          </p:nvGrpSpPr>
          <p:grpSpPr>
            <a:xfrm>
              <a:off x="2440080" y="2818800"/>
              <a:ext cx="1486440" cy="2502000"/>
              <a:chOff x="2440080" y="2818800"/>
              <a:chExt cx="1486440" cy="2502000"/>
            </a:xfrm>
          </p:grpSpPr>
          <p:sp>
            <p:nvSpPr>
              <p:cNvPr id="163" name=""/>
              <p:cNvSpPr/>
              <p:nvPr/>
            </p:nvSpPr>
            <p:spPr>
              <a:xfrm>
                <a:off x="2908440" y="4408920"/>
                <a:ext cx="9180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81400" y="36990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81400" y="3699000"/>
                <a:ext cx="252360" cy="42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3533760" y="3698640"/>
                <a:ext cx="252360" cy="42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81400" y="412632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33760" y="3365640"/>
                <a:ext cx="0" cy="147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240000" y="4126320"/>
                <a:ext cx="209520" cy="33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92360" y="3286440"/>
                <a:ext cx="82800" cy="95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92360" y="4812120"/>
                <a:ext cx="82800" cy="95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98800" y="4469040"/>
                <a:ext cx="2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93280" y="4800240"/>
                <a:ext cx="63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K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40080" y="418248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51960" y="28188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880720" y="5334120"/>
              <a:ext cx="106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(b) </a:t>
              </a: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符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878040" y="2971800"/>
            <a:ext cx="1484280" cy="2821680"/>
            <a:chOff x="878040" y="2971800"/>
            <a:chExt cx="1484280" cy="28216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878040" y="2971800"/>
              <a:ext cx="14842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086840" y="533376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(a) </a:t>
              </a: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外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146120" y="57913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晶闸管的外形、结构及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691320" y="1662120"/>
            <a:ext cx="1536840" cy="2647800"/>
            <a:chOff x="6691320" y="1662120"/>
            <a:chExt cx="1536840" cy="2647800"/>
          </a:xfrm>
        </p:grpSpPr>
        <p:sp>
          <p:nvSpPr>
            <p:cNvPr id="182" name=""/>
            <p:cNvSpPr/>
            <p:nvPr/>
          </p:nvSpPr>
          <p:spPr>
            <a:xfrm flipV="1">
              <a:off x="6743880" y="1995120"/>
              <a:ext cx="800280" cy="63828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762960" y="2836440"/>
              <a:ext cx="809640" cy="66060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691320" y="3649680"/>
              <a:ext cx="804960" cy="6602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19960" y="1662120"/>
              <a:ext cx="808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三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个</a:t>
              </a:r>
              <a:br>
                <a:rPr sz="3200"/>
              </a:b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PN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br>
                <a:rPr sz="3200"/>
              </a:b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5" name=""/>
          <p:cNvGrpSpPr/>
          <p:nvPr/>
        </p:nvGrpSpPr>
        <p:grpSpPr>
          <a:xfrm>
            <a:off x="4935600" y="2495520"/>
            <a:ext cx="2133720" cy="609480"/>
            <a:chOff x="4935600" y="2495520"/>
            <a:chExt cx="2133720" cy="609480"/>
          </a:xfrm>
        </p:grpSpPr>
        <p:sp>
          <p:nvSpPr>
            <p:cNvPr id="2696" name=""/>
            <p:cNvSpPr/>
            <p:nvPr/>
          </p:nvSpPr>
          <p:spPr>
            <a:xfrm>
              <a:off x="6067440" y="2571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主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4935600" y="2495520"/>
              <a:ext cx="2133720" cy="609480"/>
              <a:chOff x="4935600" y="2495520"/>
              <a:chExt cx="2133720" cy="609480"/>
            </a:xfrm>
          </p:grpSpPr>
          <p:sp>
            <p:nvSpPr>
              <p:cNvPr id="2698" name=""/>
              <p:cNvSpPr/>
              <p:nvPr/>
            </p:nvSpPr>
            <p:spPr>
              <a:xfrm>
                <a:off x="4935600" y="2495520"/>
                <a:ext cx="106668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002280" y="310500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0" name=""/>
          <p:cNvGrpSpPr/>
          <p:nvPr/>
        </p:nvGrpSpPr>
        <p:grpSpPr>
          <a:xfrm>
            <a:off x="3886200" y="5345280"/>
            <a:ext cx="2743200" cy="1056960"/>
            <a:chOff x="3886200" y="5345280"/>
            <a:chExt cx="2743200" cy="1056960"/>
          </a:xfrm>
        </p:grpSpPr>
        <p:sp>
          <p:nvSpPr>
            <p:cNvPr id="2701" name=""/>
            <p:cNvSpPr/>
            <p:nvPr/>
          </p:nvSpPr>
          <p:spPr>
            <a:xfrm>
              <a:off x="3886200" y="638172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H="1">
              <a:off x="5334120" y="5345280"/>
              <a:ext cx="1295280" cy="10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086360" y="5881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触发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4" name=""/>
          <p:cNvGrpSpPr/>
          <p:nvPr/>
        </p:nvGrpSpPr>
        <p:grpSpPr>
          <a:xfrm>
            <a:off x="245880" y="895320"/>
            <a:ext cx="8364600" cy="5181120"/>
            <a:chOff x="245880" y="895320"/>
            <a:chExt cx="8364600" cy="5181120"/>
          </a:xfrm>
        </p:grpSpPr>
        <p:grpSp>
          <p:nvGrpSpPr>
            <p:cNvPr id="2705" name=""/>
            <p:cNvGrpSpPr/>
            <p:nvPr/>
          </p:nvGrpSpPr>
          <p:grpSpPr>
            <a:xfrm>
              <a:off x="1863720" y="1428480"/>
              <a:ext cx="489960" cy="1218960"/>
              <a:chOff x="1863720" y="1428480"/>
              <a:chExt cx="489960" cy="1218960"/>
            </a:xfrm>
          </p:grpSpPr>
          <p:sp>
            <p:nvSpPr>
              <p:cNvPr id="2706" name=""/>
              <p:cNvSpPr/>
              <p:nvPr/>
            </p:nvSpPr>
            <p:spPr>
              <a:xfrm>
                <a:off x="1886400" y="1818360"/>
                <a:ext cx="46728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863720" y="14284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926000" y="2647440"/>
                <a:ext cx="156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9" name=""/>
            <p:cNvSpPr/>
            <p:nvPr/>
          </p:nvSpPr>
          <p:spPr>
            <a:xfrm flipH="1">
              <a:off x="1882440" y="1349280"/>
              <a:ext cx="101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808280" y="2962080"/>
              <a:ext cx="108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871640" y="1336320"/>
              <a:ext cx="0" cy="45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835280" y="2538000"/>
              <a:ext cx="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3" name=""/>
            <p:cNvGrpSpPr/>
            <p:nvPr/>
          </p:nvGrpSpPr>
          <p:grpSpPr>
            <a:xfrm>
              <a:off x="1767600" y="1679040"/>
              <a:ext cx="958680" cy="987480"/>
              <a:chOff x="1767600" y="1679040"/>
              <a:chExt cx="958680" cy="987480"/>
            </a:xfrm>
          </p:grpSpPr>
          <p:sp>
            <p:nvSpPr>
              <p:cNvPr id="2714" name=""/>
              <p:cNvSpPr/>
              <p:nvPr/>
            </p:nvSpPr>
            <p:spPr>
              <a:xfrm flipH="1" rot="16200000">
                <a:off x="2019600" y="1960200"/>
                <a:ext cx="453600" cy="9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H="1" rot="16200000">
                <a:off x="2019600" y="1426320"/>
                <a:ext cx="453600" cy="9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H="1" rot="16200000">
                <a:off x="2019600" y="1695600"/>
                <a:ext cx="453600" cy="9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7" name=""/>
            <p:cNvSpPr/>
            <p:nvPr/>
          </p:nvSpPr>
          <p:spPr>
            <a:xfrm>
              <a:off x="4792680" y="1733400"/>
              <a:ext cx="92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7130880" y="5144400"/>
              <a:ext cx="489240" cy="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627600" y="5313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620120" y="1088640"/>
              <a:ext cx="1440" cy="407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188120" y="3525480"/>
              <a:ext cx="0" cy="48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569280" y="3640680"/>
              <a:ext cx="56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6051600" y="5874480"/>
              <a:ext cx="824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558040" y="356544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582160" y="508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>
              <a:off x="1841400" y="3530160"/>
              <a:ext cx="113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H="1">
              <a:off x="1820520" y="569736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V="1">
              <a:off x="2435400" y="4558320"/>
              <a:ext cx="72720" cy="5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746600" y="4184280"/>
              <a:ext cx="0" cy="95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V="1">
              <a:off x="4708440" y="5865480"/>
              <a:ext cx="73080" cy="72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4689360" y="3493800"/>
              <a:ext cx="74880" cy="72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V="1">
              <a:off x="4746600" y="3512520"/>
              <a:ext cx="0" cy="72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746600" y="5043240"/>
              <a:ext cx="0" cy="89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rot="16200000">
              <a:off x="4068720" y="3310920"/>
              <a:ext cx="172800" cy="446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468520" y="4576320"/>
              <a:ext cx="552600" cy="56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V="1">
              <a:off x="2487600" y="4109760"/>
              <a:ext cx="477720" cy="48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2630520" y="4404960"/>
              <a:ext cx="745920" cy="421920"/>
              <a:chOff x="2630520" y="4404960"/>
              <a:chExt cx="745920" cy="421920"/>
            </a:xfrm>
          </p:grpSpPr>
          <p:sp>
            <p:nvSpPr>
              <p:cNvPr id="2738" name=""/>
              <p:cNvSpPr/>
              <p:nvPr/>
            </p:nvSpPr>
            <p:spPr>
              <a:xfrm>
                <a:off x="3101760" y="4404960"/>
                <a:ext cx="0" cy="42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 flipV="1">
                <a:off x="2899800" y="4407480"/>
                <a:ext cx="211320" cy="20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901960" y="4407840"/>
                <a:ext cx="0" cy="38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H="1">
                <a:off x="2630520" y="4609440"/>
                <a:ext cx="74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>
                <a:off x="2887560" y="4609440"/>
                <a:ext cx="200160" cy="20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3" name=""/>
            <p:cNvSpPr/>
            <p:nvPr/>
          </p:nvSpPr>
          <p:spPr>
            <a:xfrm flipH="1">
              <a:off x="3525480" y="3546360"/>
              <a:ext cx="37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535200" y="3543120"/>
              <a:ext cx="0" cy="112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468520" y="4595400"/>
              <a:ext cx="0" cy="13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V="1">
              <a:off x="2990880" y="3512880"/>
              <a:ext cx="0" cy="61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029040" y="5117760"/>
              <a:ext cx="0" cy="57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2973240" y="50734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897360" y="3540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107040" y="5466960"/>
              <a:ext cx="0" cy="45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449440" y="5902200"/>
              <a:ext cx="229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737240" y="5911560"/>
              <a:ext cx="34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3972960" y="4241160"/>
              <a:ext cx="4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230720" y="921960"/>
              <a:ext cx="0" cy="21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341520" y="3087360"/>
              <a:ext cx="20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>
              <a:off x="2874600" y="1903320"/>
              <a:ext cx="47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H="1">
              <a:off x="2876040" y="2266560"/>
              <a:ext cx="13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889360" y="1349280"/>
              <a:ext cx="0" cy="56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3513600" y="1173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3513960" y="2392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379040" y="2392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349800" y="921960"/>
              <a:ext cx="48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868480" y="226656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511440" y="1096560"/>
              <a:ext cx="410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V="1">
              <a:off x="4230720" y="1096200"/>
              <a:ext cx="15228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428000" y="1173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349800" y="921960"/>
              <a:ext cx="0" cy="214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8" name=""/>
            <p:cNvGrpSpPr/>
            <p:nvPr/>
          </p:nvGrpSpPr>
          <p:grpSpPr>
            <a:xfrm>
              <a:off x="3097080" y="1096200"/>
              <a:ext cx="455760" cy="512640"/>
              <a:chOff x="3097080" y="1096200"/>
              <a:chExt cx="455760" cy="512640"/>
            </a:xfrm>
          </p:grpSpPr>
          <p:grpSp>
            <p:nvGrpSpPr>
              <p:cNvPr id="2769" name=""/>
              <p:cNvGrpSpPr/>
              <p:nvPr/>
            </p:nvGrpSpPr>
            <p:grpSpPr>
              <a:xfrm>
                <a:off x="3097080" y="1354680"/>
                <a:ext cx="455760" cy="254160"/>
                <a:chOff x="3097080" y="1354680"/>
                <a:chExt cx="455760" cy="254160"/>
              </a:xfrm>
            </p:grpSpPr>
            <p:sp>
              <p:nvSpPr>
                <p:cNvPr id="2770" name=""/>
                <p:cNvSpPr/>
                <p:nvPr/>
              </p:nvSpPr>
              <p:spPr>
                <a:xfrm>
                  <a:off x="3097080" y="1367640"/>
                  <a:ext cx="45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>
                  <a:off x="3160080" y="1354680"/>
                  <a:ext cx="187200" cy="254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3160080" y="1608840"/>
                  <a:ext cx="36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3363840" y="1367640"/>
                  <a:ext cx="149760" cy="240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4" name=""/>
              <p:cNvSpPr/>
              <p:nvPr/>
            </p:nvSpPr>
            <p:spPr>
              <a:xfrm flipV="1">
                <a:off x="3385440" y="1096200"/>
                <a:ext cx="150840" cy="24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3986280" y="1325160"/>
              <a:ext cx="453960" cy="252360"/>
              <a:chOff x="3986280" y="1325160"/>
              <a:chExt cx="453960" cy="252360"/>
            </a:xfrm>
          </p:grpSpPr>
          <p:sp>
            <p:nvSpPr>
              <p:cNvPr id="2776" name=""/>
              <p:cNvSpPr/>
              <p:nvPr/>
            </p:nvSpPr>
            <p:spPr>
              <a:xfrm>
                <a:off x="3986280" y="1338120"/>
                <a:ext cx="45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>
                <a:off x="4049280" y="1325160"/>
                <a:ext cx="186480" cy="2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049280" y="1577520"/>
                <a:ext cx="3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251960" y="1338120"/>
                <a:ext cx="14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0" name=""/>
            <p:cNvGrpSpPr/>
            <p:nvPr/>
          </p:nvGrpSpPr>
          <p:grpSpPr>
            <a:xfrm>
              <a:off x="3097080" y="2506320"/>
              <a:ext cx="455760" cy="253800"/>
              <a:chOff x="3097080" y="2506320"/>
              <a:chExt cx="455760" cy="253800"/>
            </a:xfrm>
          </p:grpSpPr>
          <p:sp>
            <p:nvSpPr>
              <p:cNvPr id="2781" name=""/>
              <p:cNvSpPr/>
              <p:nvPr/>
            </p:nvSpPr>
            <p:spPr>
              <a:xfrm>
                <a:off x="3097080" y="2518200"/>
                <a:ext cx="45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>
                <a:off x="3160080" y="2506320"/>
                <a:ext cx="187200" cy="25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160080" y="2760120"/>
                <a:ext cx="36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363840" y="2518200"/>
                <a:ext cx="149760" cy="24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5" name=""/>
            <p:cNvGrpSpPr/>
            <p:nvPr/>
          </p:nvGrpSpPr>
          <p:grpSpPr>
            <a:xfrm>
              <a:off x="3989520" y="2496960"/>
              <a:ext cx="455400" cy="253440"/>
              <a:chOff x="3989520" y="2496960"/>
              <a:chExt cx="455400" cy="253440"/>
            </a:xfrm>
          </p:grpSpPr>
          <p:sp>
            <p:nvSpPr>
              <p:cNvPr id="2786" name=""/>
              <p:cNvSpPr/>
              <p:nvPr/>
            </p:nvSpPr>
            <p:spPr>
              <a:xfrm>
                <a:off x="3989520" y="2508840"/>
                <a:ext cx="455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H="1">
                <a:off x="4051080" y="2496960"/>
                <a:ext cx="189720" cy="25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051440" y="2750400"/>
                <a:ext cx="3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255920" y="2508840"/>
                <a:ext cx="150840" cy="24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0" name=""/>
            <p:cNvSpPr/>
            <p:nvPr/>
          </p:nvSpPr>
          <p:spPr>
            <a:xfrm flipV="1">
              <a:off x="3468600" y="45939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946240" y="4064760"/>
              <a:ext cx="88920" cy="88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V="1">
              <a:off x="2441520" y="4554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H="1">
              <a:off x="3003120" y="4630320"/>
              <a:ext cx="522360" cy="52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003480" y="4106520"/>
              <a:ext cx="522360" cy="52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5" name=""/>
            <p:cNvGrpSpPr/>
            <p:nvPr/>
          </p:nvGrpSpPr>
          <p:grpSpPr>
            <a:xfrm>
              <a:off x="1742400" y="3530160"/>
              <a:ext cx="957240" cy="2166480"/>
              <a:chOff x="1742400" y="3530160"/>
              <a:chExt cx="957240" cy="2166480"/>
            </a:xfrm>
          </p:grpSpPr>
          <p:sp>
            <p:nvSpPr>
              <p:cNvPr id="2796" name=""/>
              <p:cNvSpPr/>
              <p:nvPr/>
            </p:nvSpPr>
            <p:spPr>
              <a:xfrm>
                <a:off x="1870200" y="425052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1863000" y="3530160"/>
                <a:ext cx="0" cy="72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1825560" y="5002920"/>
                <a:ext cx="0" cy="69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9" name=""/>
              <p:cNvGrpSpPr/>
              <p:nvPr/>
            </p:nvGrpSpPr>
            <p:grpSpPr>
              <a:xfrm>
                <a:off x="1742400" y="4137120"/>
                <a:ext cx="957240" cy="987120"/>
                <a:chOff x="1742400" y="4137120"/>
                <a:chExt cx="957240" cy="987120"/>
              </a:xfrm>
            </p:grpSpPr>
            <p:sp>
              <p:nvSpPr>
                <p:cNvPr id="2800" name=""/>
                <p:cNvSpPr/>
                <p:nvPr/>
              </p:nvSpPr>
              <p:spPr>
                <a:xfrm flipH="1" rot="16200000">
                  <a:off x="1993680" y="4418640"/>
                  <a:ext cx="45360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 rot="16200000">
                  <a:off x="1993680" y="3885120"/>
                  <a:ext cx="45360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 rot="16200000">
                  <a:off x="1993680" y="4154040"/>
                  <a:ext cx="45360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3" name=""/>
              <p:cNvSpPr/>
              <p:nvPr/>
            </p:nvSpPr>
            <p:spPr>
              <a:xfrm>
                <a:off x="1857960" y="388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1842120" y="4853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5" name=""/>
            <p:cNvGrpSpPr/>
            <p:nvPr/>
          </p:nvGrpSpPr>
          <p:grpSpPr>
            <a:xfrm>
              <a:off x="628920" y="1792080"/>
              <a:ext cx="1029960" cy="2837880"/>
              <a:chOff x="628920" y="1792080"/>
              <a:chExt cx="1029960" cy="2837880"/>
            </a:xfrm>
          </p:grpSpPr>
          <p:sp>
            <p:nvSpPr>
              <p:cNvPr id="2806" name=""/>
              <p:cNvSpPr/>
              <p:nvPr/>
            </p:nvSpPr>
            <p:spPr>
              <a:xfrm>
                <a:off x="1658880" y="1792080"/>
                <a:ext cx="0" cy="283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7" name=""/>
              <p:cNvGrpSpPr/>
              <p:nvPr/>
            </p:nvGrpSpPr>
            <p:grpSpPr>
              <a:xfrm>
                <a:off x="628920" y="2090880"/>
                <a:ext cx="956520" cy="2314440"/>
                <a:chOff x="628920" y="2090880"/>
                <a:chExt cx="956520" cy="231444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1465920" y="2165040"/>
                  <a:ext cx="0" cy="72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1503000" y="3637080"/>
                  <a:ext cx="0" cy="69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0" name=""/>
                <p:cNvGrpSpPr/>
                <p:nvPr/>
              </p:nvGrpSpPr>
              <p:grpSpPr>
                <a:xfrm>
                  <a:off x="628920" y="2771640"/>
                  <a:ext cx="956520" cy="987120"/>
                  <a:chOff x="628920" y="2771640"/>
                  <a:chExt cx="956520" cy="987120"/>
                </a:xfrm>
              </p:grpSpPr>
              <p:sp>
                <p:nvSpPr>
                  <p:cNvPr id="2811" name=""/>
                  <p:cNvSpPr/>
                  <p:nvPr/>
                </p:nvSpPr>
                <p:spPr>
                  <a:xfrm rot="5400000">
                    <a:off x="880200" y="3053520"/>
                    <a:ext cx="4536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 rot="5400000">
                    <a:off x="880200" y="2520000"/>
                    <a:ext cx="4536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rot="5400000">
                    <a:off x="880200" y="2788920"/>
                    <a:ext cx="4536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4" name=""/>
                <p:cNvSpPr/>
                <p:nvPr/>
              </p:nvSpPr>
              <p:spPr>
                <a:xfrm>
                  <a:off x="894960" y="2165040"/>
                  <a:ext cx="596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910440" y="4331160"/>
                  <a:ext cx="596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820800" y="2972880"/>
                  <a:ext cx="183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820800" y="2090880"/>
                  <a:ext cx="119160" cy="1195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820800" y="4285800"/>
                  <a:ext cx="119160" cy="1195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9" name=""/>
            <p:cNvSpPr/>
            <p:nvPr/>
          </p:nvSpPr>
          <p:spPr>
            <a:xfrm>
              <a:off x="4400640" y="3520800"/>
              <a:ext cx="281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0" name=""/>
            <p:cNvGrpSpPr/>
            <p:nvPr/>
          </p:nvGrpSpPr>
          <p:grpSpPr>
            <a:xfrm>
              <a:off x="5943600" y="5332320"/>
              <a:ext cx="304920" cy="134280"/>
              <a:chOff x="5943600" y="5332320"/>
              <a:chExt cx="304920" cy="134280"/>
            </a:xfrm>
          </p:grpSpPr>
          <p:sp>
            <p:nvSpPr>
              <p:cNvPr id="2821" name=""/>
              <p:cNvSpPr/>
              <p:nvPr/>
            </p:nvSpPr>
            <p:spPr>
              <a:xfrm>
                <a:off x="5943600" y="53323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943600" y="54666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3" name=""/>
            <p:cNvSpPr/>
            <p:nvPr/>
          </p:nvSpPr>
          <p:spPr>
            <a:xfrm>
              <a:off x="6103800" y="464796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4" name=""/>
            <p:cNvGrpSpPr/>
            <p:nvPr/>
          </p:nvGrpSpPr>
          <p:grpSpPr>
            <a:xfrm>
              <a:off x="6182280" y="4857480"/>
              <a:ext cx="523800" cy="837720"/>
              <a:chOff x="6182280" y="4857480"/>
              <a:chExt cx="523800" cy="837720"/>
            </a:xfrm>
          </p:grpSpPr>
          <p:sp>
            <p:nvSpPr>
              <p:cNvPr id="2825" name=""/>
              <p:cNvSpPr/>
              <p:nvPr/>
            </p:nvSpPr>
            <p:spPr>
              <a:xfrm>
                <a:off x="6182280" y="5023440"/>
                <a:ext cx="5238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i="1" lang="zh-CN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6198840" y="48574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6281640" y="5695200"/>
                <a:ext cx="157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8" name=""/>
            <p:cNvSpPr/>
            <p:nvPr/>
          </p:nvSpPr>
          <p:spPr>
            <a:xfrm>
              <a:off x="4368240" y="4095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345200" y="470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0" name=""/>
            <p:cNvGrpSpPr/>
            <p:nvPr/>
          </p:nvGrpSpPr>
          <p:grpSpPr>
            <a:xfrm>
              <a:off x="4497480" y="4539960"/>
              <a:ext cx="549360" cy="316800"/>
              <a:chOff x="4497480" y="4539960"/>
              <a:chExt cx="549360" cy="316800"/>
            </a:xfrm>
          </p:grpSpPr>
          <p:sp>
            <p:nvSpPr>
              <p:cNvPr id="2831" name=""/>
              <p:cNvSpPr/>
              <p:nvPr/>
            </p:nvSpPr>
            <p:spPr>
              <a:xfrm>
                <a:off x="4497480" y="4555440"/>
                <a:ext cx="44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>
                <a:off x="4557960" y="4539960"/>
                <a:ext cx="18432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557960" y="4844160"/>
                <a:ext cx="35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910400" y="4539960"/>
                <a:ext cx="136440" cy="13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724640" y="4552200"/>
                <a:ext cx="184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6" name=""/>
            <p:cNvSpPr/>
            <p:nvPr/>
          </p:nvSpPr>
          <p:spPr>
            <a:xfrm>
              <a:off x="7102440" y="5391000"/>
              <a:ext cx="125280" cy="34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62920" y="5730480"/>
              <a:ext cx="0" cy="19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162920" y="493380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040440" y="4306680"/>
              <a:ext cx="125280" cy="34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040440" y="3711240"/>
              <a:ext cx="125280" cy="34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095880" y="35035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095880" y="4054320"/>
              <a:ext cx="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400800" y="3525480"/>
              <a:ext cx="0" cy="34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H="1">
              <a:off x="6171840" y="38667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640480" y="4248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121520" y="3981240"/>
              <a:ext cx="125280" cy="34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196040" y="4316040"/>
              <a:ext cx="0" cy="38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8" name=""/>
            <p:cNvGrpSpPr/>
            <p:nvPr/>
          </p:nvGrpSpPr>
          <p:grpSpPr>
            <a:xfrm>
              <a:off x="6788160" y="4628520"/>
              <a:ext cx="398520" cy="387000"/>
              <a:chOff x="6788160" y="4628520"/>
              <a:chExt cx="398520" cy="387000"/>
            </a:xfrm>
          </p:grpSpPr>
          <p:sp>
            <p:nvSpPr>
              <p:cNvPr id="2849" name=""/>
              <p:cNvSpPr/>
              <p:nvPr/>
            </p:nvSpPr>
            <p:spPr>
              <a:xfrm flipV="1">
                <a:off x="6994800" y="4628520"/>
                <a:ext cx="0" cy="38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6788160" y="4760640"/>
                <a:ext cx="20664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V="1">
                <a:off x="6981840" y="4933440"/>
                <a:ext cx="192240" cy="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V="1">
                <a:off x="6994800" y="4700160"/>
                <a:ext cx="191880" cy="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3" name=""/>
            <p:cNvSpPr/>
            <p:nvPr/>
          </p:nvSpPr>
          <p:spPr>
            <a:xfrm>
              <a:off x="6059520" y="48970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V="1">
              <a:off x="6059520" y="34858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5" name=""/>
            <p:cNvGrpSpPr/>
            <p:nvPr/>
          </p:nvGrpSpPr>
          <p:grpSpPr>
            <a:xfrm>
              <a:off x="5292720" y="895320"/>
              <a:ext cx="673560" cy="2209320"/>
              <a:chOff x="5292720" y="895320"/>
              <a:chExt cx="673560" cy="2209320"/>
            </a:xfrm>
          </p:grpSpPr>
          <p:sp>
            <p:nvSpPr>
              <p:cNvPr id="2856" name=""/>
              <p:cNvSpPr/>
              <p:nvPr/>
            </p:nvSpPr>
            <p:spPr>
              <a:xfrm>
                <a:off x="5292720" y="1869840"/>
                <a:ext cx="187200" cy="3963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389560" y="2247480"/>
                <a:ext cx="0" cy="85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389560" y="895320"/>
                <a:ext cx="0" cy="948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9" name=""/>
              <p:cNvGrpSpPr/>
              <p:nvPr/>
            </p:nvGrpSpPr>
            <p:grpSpPr>
              <a:xfrm>
                <a:off x="5442480" y="1428480"/>
                <a:ext cx="523800" cy="914040"/>
                <a:chOff x="5442480" y="1428480"/>
                <a:chExt cx="523800" cy="914040"/>
              </a:xfrm>
            </p:grpSpPr>
            <p:sp>
              <p:nvSpPr>
                <p:cNvPr id="2860" name=""/>
                <p:cNvSpPr/>
                <p:nvPr/>
              </p:nvSpPr>
              <p:spPr>
                <a:xfrm>
                  <a:off x="5442480" y="1640520"/>
                  <a:ext cx="52380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3200" spc="-1" strike="noStrike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zh-CN" sz="2400" spc="-1" strike="noStrike" baseline="-25000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5446440" y="142848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5573520" y="2342520"/>
                  <a:ext cx="157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3" name=""/>
            <p:cNvSpPr/>
            <p:nvPr/>
          </p:nvSpPr>
          <p:spPr>
            <a:xfrm>
              <a:off x="7186680" y="5222160"/>
              <a:ext cx="495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176960" y="5086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304040" y="5848200"/>
              <a:ext cx="1573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229600" y="895320"/>
              <a:ext cx="0" cy="502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V="1">
              <a:off x="7121520" y="51256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7121520" y="5881320"/>
              <a:ext cx="824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676520" y="3257280"/>
              <a:ext cx="693396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078600" y="4933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1" name=""/>
            <p:cNvGrpSpPr/>
            <p:nvPr/>
          </p:nvGrpSpPr>
          <p:grpSpPr>
            <a:xfrm>
              <a:off x="245880" y="2190600"/>
              <a:ext cx="812520" cy="1904400"/>
              <a:chOff x="245880" y="2190600"/>
              <a:chExt cx="812520" cy="1904400"/>
            </a:xfrm>
          </p:grpSpPr>
          <p:sp>
            <p:nvSpPr>
              <p:cNvPr id="2872" name=""/>
              <p:cNvSpPr/>
              <p:nvPr/>
            </p:nvSpPr>
            <p:spPr>
              <a:xfrm>
                <a:off x="679680" y="2981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95160" y="21906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44480" y="4095000"/>
                <a:ext cx="157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45880" y="304272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5638680" y="3409560"/>
              <a:ext cx="2133720" cy="2666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5369040" y="898200"/>
              <a:ext cx="745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V="1">
              <a:off x="5372280" y="3028680"/>
              <a:ext cx="745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9" name=""/>
          <p:cNvSpPr/>
          <p:nvPr/>
        </p:nvSpPr>
        <p:spPr>
          <a:xfrm>
            <a:off x="533520" y="223920"/>
            <a:ext cx="8153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4.3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单结管触发的半控桥式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696960" y="8287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66720" y="533160"/>
            <a:ext cx="2533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763920" y="1034280"/>
            <a:ext cx="15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整流削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3" name=""/>
          <p:cNvGrpSpPr/>
          <p:nvPr/>
        </p:nvGrpSpPr>
        <p:grpSpPr>
          <a:xfrm>
            <a:off x="4248360" y="2909880"/>
            <a:ext cx="1314360" cy="579600"/>
            <a:chOff x="4248360" y="2909880"/>
            <a:chExt cx="1314360" cy="579600"/>
          </a:xfrm>
        </p:grpSpPr>
        <p:sp>
          <p:nvSpPr>
            <p:cNvPr id="2884" name=""/>
            <p:cNvSpPr/>
            <p:nvPr/>
          </p:nvSpPr>
          <p:spPr>
            <a:xfrm flipV="1">
              <a:off x="4952880" y="3244680"/>
              <a:ext cx="60984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248360" y="2909880"/>
              <a:ext cx="73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2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6262560" y="542376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削 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4309200" y="4820400"/>
            <a:ext cx="1482120" cy="520560"/>
            <a:chOff x="4309200" y="4820400"/>
            <a:chExt cx="1482120" cy="520560"/>
          </a:xfrm>
        </p:grpSpPr>
        <p:sp>
          <p:nvSpPr>
            <p:cNvPr id="2888" name=""/>
            <p:cNvSpPr/>
            <p:nvPr/>
          </p:nvSpPr>
          <p:spPr>
            <a:xfrm flipV="1">
              <a:off x="4941720" y="5109480"/>
              <a:ext cx="84960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309200" y="4820400"/>
              <a:ext cx="5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0" name=""/>
          <p:cNvGrpSpPr/>
          <p:nvPr/>
        </p:nvGrpSpPr>
        <p:grpSpPr>
          <a:xfrm>
            <a:off x="6056280" y="2168640"/>
            <a:ext cx="2206800" cy="3286080"/>
            <a:chOff x="6056280" y="2168640"/>
            <a:chExt cx="2206800" cy="3286080"/>
          </a:xfrm>
        </p:grpSpPr>
        <p:sp>
          <p:nvSpPr>
            <p:cNvPr id="2891" name=""/>
            <p:cNvSpPr/>
            <p:nvPr/>
          </p:nvSpPr>
          <p:spPr>
            <a:xfrm>
              <a:off x="6056280" y="2195280"/>
              <a:ext cx="0" cy="325944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159320" y="2181960"/>
              <a:ext cx="0" cy="325944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263080" y="2168640"/>
              <a:ext cx="0" cy="325944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4956120" y="3240000"/>
            <a:ext cx="3316320" cy="572760"/>
            <a:chOff x="4956120" y="3240000"/>
            <a:chExt cx="3316320" cy="572760"/>
          </a:xfrm>
        </p:grpSpPr>
        <p:sp>
          <p:nvSpPr>
            <p:cNvPr id="2895" name=""/>
            <p:cNvSpPr/>
            <p:nvPr/>
          </p:nvSpPr>
          <p:spPr>
            <a:xfrm>
              <a:off x="7163280" y="3240000"/>
              <a:ext cx="1109160" cy="5490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956120" y="3240000"/>
              <a:ext cx="1109160" cy="5490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056640" y="3263760"/>
              <a:ext cx="1109160" cy="5490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8" name=""/>
          <p:cNvGrpSpPr/>
          <p:nvPr/>
        </p:nvGrpSpPr>
        <p:grpSpPr>
          <a:xfrm>
            <a:off x="304200" y="2057040"/>
            <a:ext cx="3810600" cy="2492640"/>
            <a:chOff x="304200" y="2057040"/>
            <a:chExt cx="3810600" cy="2492640"/>
          </a:xfrm>
        </p:grpSpPr>
        <p:sp>
          <p:nvSpPr>
            <p:cNvPr id="2899" name=""/>
            <p:cNvSpPr/>
            <p:nvPr/>
          </p:nvSpPr>
          <p:spPr>
            <a:xfrm>
              <a:off x="2962440" y="2130480"/>
              <a:ext cx="10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438120" y="2139840"/>
              <a:ext cx="113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382680" y="430704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996840" y="3168720"/>
              <a:ext cx="7308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08400" y="2793960"/>
              <a:ext cx="0" cy="9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3308400" y="2122200"/>
              <a:ext cx="0" cy="72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08400" y="3652920"/>
              <a:ext cx="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rot="16200000">
              <a:off x="2630520" y="1920600"/>
              <a:ext cx="173160" cy="446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030320" y="3186000"/>
              <a:ext cx="552240" cy="56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1049400" y="2719080"/>
              <a:ext cx="477720" cy="48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9" name=""/>
            <p:cNvGrpSpPr/>
            <p:nvPr/>
          </p:nvGrpSpPr>
          <p:grpSpPr>
            <a:xfrm>
              <a:off x="1192320" y="3014640"/>
              <a:ext cx="745920" cy="422280"/>
              <a:chOff x="1192320" y="3014640"/>
              <a:chExt cx="745920" cy="422280"/>
            </a:xfrm>
          </p:grpSpPr>
          <p:sp>
            <p:nvSpPr>
              <p:cNvPr id="2910" name=""/>
              <p:cNvSpPr/>
              <p:nvPr/>
            </p:nvSpPr>
            <p:spPr>
              <a:xfrm>
                <a:off x="1663560" y="30146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H="1" flipV="1">
                <a:off x="1461600" y="3017880"/>
                <a:ext cx="211320" cy="20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1463760" y="3017880"/>
                <a:ext cx="0" cy="38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>
                <a:off x="1192320" y="3219480"/>
                <a:ext cx="74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>
                <a:off x="1449360" y="3219480"/>
                <a:ext cx="20016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5" name=""/>
            <p:cNvSpPr/>
            <p:nvPr/>
          </p:nvSpPr>
          <p:spPr>
            <a:xfrm flipH="1">
              <a:off x="2087640" y="215568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097000" y="2152800"/>
              <a:ext cx="0" cy="112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030320" y="3205080"/>
              <a:ext cx="0" cy="13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V="1">
              <a:off x="1552680" y="2122200"/>
              <a:ext cx="0" cy="61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590840" y="3727440"/>
              <a:ext cx="0" cy="57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1535040" y="3682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459160" y="2150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011240" y="45115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2030400" y="3202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V="1">
              <a:off x="1508040" y="267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V="1">
              <a:off x="1003320" y="3163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H="1">
              <a:off x="1564920" y="3240000"/>
              <a:ext cx="52236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1565280" y="2716200"/>
              <a:ext cx="52236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8" name=""/>
            <p:cNvGrpSpPr/>
            <p:nvPr/>
          </p:nvGrpSpPr>
          <p:grpSpPr>
            <a:xfrm>
              <a:off x="304200" y="2139840"/>
              <a:ext cx="957240" cy="2166840"/>
              <a:chOff x="304200" y="2139840"/>
              <a:chExt cx="957240" cy="2166840"/>
            </a:xfrm>
          </p:grpSpPr>
          <p:sp>
            <p:nvSpPr>
              <p:cNvPr id="2929" name=""/>
              <p:cNvSpPr/>
              <p:nvPr/>
            </p:nvSpPr>
            <p:spPr>
              <a:xfrm>
                <a:off x="432000" y="286056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24800" y="2139840"/>
                <a:ext cx="0" cy="72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87360" y="3612600"/>
                <a:ext cx="0" cy="69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2" name=""/>
              <p:cNvGrpSpPr/>
              <p:nvPr/>
            </p:nvGrpSpPr>
            <p:grpSpPr>
              <a:xfrm>
                <a:off x="304200" y="2746800"/>
                <a:ext cx="957240" cy="987480"/>
                <a:chOff x="304200" y="2746800"/>
                <a:chExt cx="957240" cy="987480"/>
              </a:xfrm>
            </p:grpSpPr>
            <p:sp>
              <p:nvSpPr>
                <p:cNvPr id="2933" name=""/>
                <p:cNvSpPr/>
                <p:nvPr/>
              </p:nvSpPr>
              <p:spPr>
                <a:xfrm flipH="1" rot="16200000">
                  <a:off x="555480" y="3028680"/>
                  <a:ext cx="45360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flipH="1" rot="16200000">
                  <a:off x="555480" y="2494800"/>
                  <a:ext cx="45360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flipH="1" rot="16200000">
                  <a:off x="555480" y="2764080"/>
                  <a:ext cx="45360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6" name=""/>
              <p:cNvSpPr/>
              <p:nvPr/>
            </p:nvSpPr>
            <p:spPr>
              <a:xfrm>
                <a:off x="419760" y="2491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03920" y="346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8" name=""/>
            <p:cNvSpPr/>
            <p:nvPr/>
          </p:nvSpPr>
          <p:spPr>
            <a:xfrm>
              <a:off x="3354120" y="2514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3544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0" name=""/>
            <p:cNvGrpSpPr/>
            <p:nvPr/>
          </p:nvGrpSpPr>
          <p:grpSpPr>
            <a:xfrm>
              <a:off x="3059280" y="3149640"/>
              <a:ext cx="548640" cy="317520"/>
              <a:chOff x="3059280" y="3149640"/>
              <a:chExt cx="548640" cy="317520"/>
            </a:xfrm>
          </p:grpSpPr>
          <p:sp>
            <p:nvSpPr>
              <p:cNvPr id="2941" name=""/>
              <p:cNvSpPr/>
              <p:nvPr/>
            </p:nvSpPr>
            <p:spPr>
              <a:xfrm>
                <a:off x="3059280" y="3165480"/>
                <a:ext cx="44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H="1">
                <a:off x="3119040" y="3149640"/>
                <a:ext cx="18396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119400" y="3454200"/>
                <a:ext cx="35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471840" y="3149640"/>
                <a:ext cx="13608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286080" y="3162240"/>
                <a:ext cx="183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 flipV="1">
              <a:off x="3962520" y="445716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4038480" y="209376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8" name=""/>
            <p:cNvGrpSpPr/>
            <p:nvPr/>
          </p:nvGrpSpPr>
          <p:grpSpPr>
            <a:xfrm>
              <a:off x="2098080" y="2133720"/>
              <a:ext cx="482400" cy="2364480"/>
              <a:chOff x="2098080" y="2133720"/>
              <a:chExt cx="482400" cy="2364480"/>
            </a:xfrm>
          </p:grpSpPr>
          <p:sp>
            <p:nvSpPr>
              <p:cNvPr id="2949" name=""/>
              <p:cNvSpPr/>
              <p:nvPr/>
            </p:nvSpPr>
            <p:spPr>
              <a:xfrm>
                <a:off x="2098080" y="287964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zh-CN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2106360" y="2133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127600" y="403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2" name=""/>
            <p:cNvSpPr/>
            <p:nvPr/>
          </p:nvSpPr>
          <p:spPr>
            <a:xfrm>
              <a:off x="3607920" y="2874600"/>
              <a:ext cx="4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3" name=""/>
          <p:cNvSpPr/>
          <p:nvPr/>
        </p:nvSpPr>
        <p:spPr>
          <a:xfrm>
            <a:off x="6241320" y="380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整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4" name=""/>
          <p:cNvGrpSpPr/>
          <p:nvPr/>
        </p:nvGrpSpPr>
        <p:grpSpPr>
          <a:xfrm>
            <a:off x="4959360" y="5097600"/>
            <a:ext cx="3258720" cy="357120"/>
            <a:chOff x="4959360" y="5097600"/>
            <a:chExt cx="3258720" cy="357120"/>
          </a:xfrm>
        </p:grpSpPr>
        <p:grpSp>
          <p:nvGrpSpPr>
            <p:cNvPr id="2955" name=""/>
            <p:cNvGrpSpPr/>
            <p:nvPr/>
          </p:nvGrpSpPr>
          <p:grpSpPr>
            <a:xfrm>
              <a:off x="4959360" y="5115240"/>
              <a:ext cx="1135800" cy="339480"/>
              <a:chOff x="4959360" y="5115240"/>
              <a:chExt cx="1135800" cy="339480"/>
            </a:xfrm>
          </p:grpSpPr>
          <p:sp>
            <p:nvSpPr>
              <p:cNvPr id="2956" name=""/>
              <p:cNvSpPr/>
              <p:nvPr/>
            </p:nvSpPr>
            <p:spPr>
              <a:xfrm>
                <a:off x="5186520" y="5132880"/>
                <a:ext cx="64692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>
                <a:off x="5833080" y="5115240"/>
                <a:ext cx="261720" cy="33948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4959360" y="5115240"/>
                <a:ext cx="262080" cy="33948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9" name=""/>
            <p:cNvGrpSpPr/>
            <p:nvPr/>
          </p:nvGrpSpPr>
          <p:grpSpPr>
            <a:xfrm>
              <a:off x="7165800" y="5097600"/>
              <a:ext cx="1052280" cy="338040"/>
              <a:chOff x="7165800" y="5097600"/>
              <a:chExt cx="1052280" cy="338040"/>
            </a:xfrm>
          </p:grpSpPr>
          <p:sp>
            <p:nvSpPr>
              <p:cNvPr id="2960" name=""/>
              <p:cNvSpPr/>
              <p:nvPr/>
            </p:nvSpPr>
            <p:spPr>
              <a:xfrm>
                <a:off x="7376400" y="5115240"/>
                <a:ext cx="59904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H="1">
                <a:off x="7975440" y="5097600"/>
                <a:ext cx="242640" cy="3380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165800" y="5097600"/>
                <a:ext cx="243000" cy="3380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3" name=""/>
            <p:cNvGrpSpPr/>
            <p:nvPr/>
          </p:nvGrpSpPr>
          <p:grpSpPr>
            <a:xfrm>
              <a:off x="6095880" y="5116680"/>
              <a:ext cx="1052280" cy="338040"/>
              <a:chOff x="6095880" y="5116680"/>
              <a:chExt cx="1052280" cy="338040"/>
            </a:xfrm>
          </p:grpSpPr>
          <p:sp>
            <p:nvSpPr>
              <p:cNvPr id="2964" name=""/>
              <p:cNvSpPr/>
              <p:nvPr/>
            </p:nvSpPr>
            <p:spPr>
              <a:xfrm>
                <a:off x="6306480" y="5134320"/>
                <a:ext cx="59904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6905520" y="5116680"/>
                <a:ext cx="242640" cy="3380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095880" y="5116680"/>
                <a:ext cx="243000" cy="3380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7" name=""/>
          <p:cNvGrpSpPr/>
          <p:nvPr/>
        </p:nvGrpSpPr>
        <p:grpSpPr>
          <a:xfrm>
            <a:off x="4230720" y="1035000"/>
            <a:ext cx="4524120" cy="1674360"/>
            <a:chOff x="4230720" y="1035000"/>
            <a:chExt cx="4524120" cy="1674360"/>
          </a:xfrm>
        </p:grpSpPr>
        <p:grpSp>
          <p:nvGrpSpPr>
            <p:cNvPr id="2968" name=""/>
            <p:cNvGrpSpPr/>
            <p:nvPr/>
          </p:nvGrpSpPr>
          <p:grpSpPr>
            <a:xfrm>
              <a:off x="4230720" y="1035000"/>
              <a:ext cx="4524120" cy="1674360"/>
              <a:chOff x="4230720" y="1035000"/>
              <a:chExt cx="4524120" cy="1674360"/>
            </a:xfrm>
          </p:grpSpPr>
          <p:grpSp>
            <p:nvGrpSpPr>
              <p:cNvPr id="2969" name=""/>
              <p:cNvGrpSpPr/>
              <p:nvPr/>
            </p:nvGrpSpPr>
            <p:grpSpPr>
              <a:xfrm>
                <a:off x="4230720" y="1035000"/>
                <a:ext cx="4524120" cy="1674360"/>
                <a:chOff x="4230720" y="1035000"/>
                <a:chExt cx="4524120" cy="1674360"/>
              </a:xfrm>
            </p:grpSpPr>
            <p:grpSp>
              <p:nvGrpSpPr>
                <p:cNvPr id="2970" name=""/>
                <p:cNvGrpSpPr/>
                <p:nvPr/>
              </p:nvGrpSpPr>
              <p:grpSpPr>
                <a:xfrm>
                  <a:off x="4230720" y="1399320"/>
                  <a:ext cx="4491000" cy="1310040"/>
                  <a:chOff x="4230720" y="1399320"/>
                  <a:chExt cx="4491000" cy="1310040"/>
                </a:xfrm>
              </p:grpSpPr>
              <p:grpSp>
                <p:nvGrpSpPr>
                  <p:cNvPr id="2971" name=""/>
                  <p:cNvGrpSpPr/>
                  <p:nvPr/>
                </p:nvGrpSpPr>
                <p:grpSpPr>
                  <a:xfrm>
                    <a:off x="4971960" y="1616040"/>
                    <a:ext cx="3312720" cy="1093320"/>
                    <a:chOff x="4971960" y="1616040"/>
                    <a:chExt cx="3312720" cy="1093320"/>
                  </a:xfrm>
                </p:grpSpPr>
                <p:sp>
                  <p:nvSpPr>
                    <p:cNvPr id="2972" name=""/>
                    <p:cNvSpPr/>
                    <p:nvPr/>
                  </p:nvSpPr>
                  <p:spPr>
                    <a:xfrm flipV="1">
                      <a:off x="4971960" y="1635120"/>
                      <a:ext cx="1106280" cy="54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433">
                          <a:moveTo>
                            <a:pt x="0" y="0"/>
                          </a:moveTo>
                          <a:lnTo>
                            <a:pt x="66" y="118"/>
                          </a:lnTo>
                          <a:lnTo>
                            <a:pt x="132" y="220"/>
                          </a:lnTo>
                          <a:lnTo>
                            <a:pt x="198" y="308"/>
                          </a:lnTo>
                          <a:lnTo>
                            <a:pt x="264" y="381"/>
                          </a:lnTo>
                          <a:lnTo>
                            <a:pt x="319" y="418"/>
                          </a:lnTo>
                          <a:lnTo>
                            <a:pt x="385" y="432"/>
                          </a:lnTo>
                          <a:lnTo>
                            <a:pt x="451" y="418"/>
                          </a:lnTo>
                          <a:lnTo>
                            <a:pt x="517" y="381"/>
                          </a:lnTo>
                          <a:lnTo>
                            <a:pt x="583" y="308"/>
                          </a:lnTo>
                          <a:lnTo>
                            <a:pt x="649" y="220"/>
                          </a:lnTo>
                          <a:lnTo>
                            <a:pt x="715" y="110"/>
                          </a:lnTo>
                          <a:lnTo>
                            <a:pt x="781" y="0"/>
                          </a:lnTo>
                        </a:path>
                      </a:pathLst>
                    </a:custGeom>
                    <a:noFill/>
                    <a:ln cap="rnd"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3" name=""/>
                    <p:cNvSpPr/>
                    <p:nvPr/>
                  </p:nvSpPr>
                  <p:spPr>
                    <a:xfrm flipV="1">
                      <a:off x="6059520" y="2160720"/>
                      <a:ext cx="1109160" cy="54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4" h="433">
                          <a:moveTo>
                            <a:pt x="783" y="432"/>
                          </a:moveTo>
                          <a:lnTo>
                            <a:pt x="716" y="315"/>
                          </a:lnTo>
                          <a:lnTo>
                            <a:pt x="650" y="213"/>
                          </a:lnTo>
                          <a:lnTo>
                            <a:pt x="584" y="125"/>
                          </a:lnTo>
                          <a:lnTo>
                            <a:pt x="518" y="52"/>
                          </a:lnTo>
                          <a:lnTo>
                            <a:pt x="463" y="15"/>
                          </a:lnTo>
                          <a:lnTo>
                            <a:pt x="397" y="0"/>
                          </a:lnTo>
                          <a:lnTo>
                            <a:pt x="330" y="15"/>
                          </a:lnTo>
                          <a:lnTo>
                            <a:pt x="264" y="52"/>
                          </a:lnTo>
                          <a:lnTo>
                            <a:pt x="198" y="125"/>
                          </a:lnTo>
                          <a:lnTo>
                            <a:pt x="132" y="213"/>
                          </a:lnTo>
                          <a:lnTo>
                            <a:pt x="66" y="323"/>
                          </a:lnTo>
                          <a:lnTo>
                            <a:pt x="0" y="432"/>
                          </a:lnTo>
                        </a:path>
                      </a:pathLst>
                    </a:custGeom>
                    <a:noFill/>
                    <a:ln cap="rnd"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4" name=""/>
                    <p:cNvSpPr/>
                    <p:nvPr/>
                  </p:nvSpPr>
                  <p:spPr>
                    <a:xfrm flipV="1">
                      <a:off x="7178760" y="1616040"/>
                      <a:ext cx="1105920" cy="54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433">
                          <a:moveTo>
                            <a:pt x="0" y="0"/>
                          </a:moveTo>
                          <a:lnTo>
                            <a:pt x="66" y="118"/>
                          </a:lnTo>
                          <a:lnTo>
                            <a:pt x="132" y="220"/>
                          </a:lnTo>
                          <a:lnTo>
                            <a:pt x="198" y="308"/>
                          </a:lnTo>
                          <a:lnTo>
                            <a:pt x="264" y="381"/>
                          </a:lnTo>
                          <a:lnTo>
                            <a:pt x="319" y="418"/>
                          </a:lnTo>
                          <a:lnTo>
                            <a:pt x="385" y="432"/>
                          </a:lnTo>
                          <a:lnTo>
                            <a:pt x="451" y="418"/>
                          </a:lnTo>
                          <a:lnTo>
                            <a:pt x="517" y="381"/>
                          </a:lnTo>
                          <a:lnTo>
                            <a:pt x="583" y="308"/>
                          </a:lnTo>
                          <a:lnTo>
                            <a:pt x="649" y="220"/>
                          </a:lnTo>
                          <a:lnTo>
                            <a:pt x="715" y="110"/>
                          </a:lnTo>
                          <a:lnTo>
                            <a:pt x="781" y="0"/>
                          </a:lnTo>
                        </a:path>
                      </a:pathLst>
                    </a:custGeom>
                    <a:noFill/>
                    <a:ln cap="rnd"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75" name=""/>
                  <p:cNvGrpSpPr/>
                  <p:nvPr/>
                </p:nvGrpSpPr>
                <p:grpSpPr>
                  <a:xfrm>
                    <a:off x="4230720" y="1399320"/>
                    <a:ext cx="4491000" cy="520560"/>
                    <a:chOff x="4230720" y="1399320"/>
                    <a:chExt cx="4491000" cy="520560"/>
                  </a:xfrm>
                </p:grpSpPr>
                <p:sp>
                  <p:nvSpPr>
                    <p:cNvPr id="2976" name=""/>
                    <p:cNvSpPr/>
                    <p:nvPr/>
                  </p:nvSpPr>
                  <p:spPr>
                    <a:xfrm flipV="1">
                      <a:off x="4970520" y="1607400"/>
                      <a:ext cx="3751200" cy="16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7" name=""/>
                    <p:cNvSpPr/>
                    <p:nvPr/>
                  </p:nvSpPr>
                  <p:spPr>
                    <a:xfrm>
                      <a:off x="4230720" y="1399320"/>
                      <a:ext cx="7675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楷体_GB2312"/>
                        </a:rPr>
                        <a:t>U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楷体_GB2312"/>
                        </a:rPr>
                        <a:t>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978" name=""/>
                <p:cNvGrpSpPr/>
                <p:nvPr/>
              </p:nvGrpSpPr>
              <p:grpSpPr>
                <a:xfrm>
                  <a:off x="4952880" y="1035000"/>
                  <a:ext cx="3801960" cy="1587240"/>
                  <a:chOff x="4952880" y="1035000"/>
                  <a:chExt cx="3801960" cy="1587240"/>
                </a:xfrm>
              </p:grpSpPr>
              <p:sp>
                <p:nvSpPr>
                  <p:cNvPr id="2979" name=""/>
                  <p:cNvSpPr/>
                  <p:nvPr/>
                </p:nvSpPr>
                <p:spPr>
                  <a:xfrm>
                    <a:off x="8231400" y="2101680"/>
                    <a:ext cx="523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t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980" name=""/>
                      <p:cNvSpPr txBox="1"/>
                      <p:nvPr/>
                    </p:nvSpPr>
                    <p:spPr>
                      <a:xfrm>
                        <a:off x="4952880" y="1035000"/>
                        <a:ext cx="331920" cy="3664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u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2981" name=""/>
                  <p:cNvSpPr/>
                  <p:nvPr/>
                </p:nvSpPr>
                <p:spPr>
                  <a:xfrm>
                    <a:off x="4952880" y="2178000"/>
                    <a:ext cx="3733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V="1">
                    <a:off x="4952880" y="1110960"/>
                    <a:ext cx="0" cy="1074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83" name=""/>
              <p:cNvSpPr/>
              <p:nvPr/>
            </p:nvSpPr>
            <p:spPr>
              <a:xfrm>
                <a:off x="4574160" y="1949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4" name=""/>
            <p:cNvSpPr/>
            <p:nvPr/>
          </p:nvSpPr>
          <p:spPr>
            <a:xfrm>
              <a:off x="5107320" y="113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5" name=""/>
          <p:cNvGrpSpPr/>
          <p:nvPr/>
        </p:nvGrpSpPr>
        <p:grpSpPr>
          <a:xfrm>
            <a:off x="4572000" y="2635200"/>
            <a:ext cx="4189320" cy="1663560"/>
            <a:chOff x="4572000" y="2635200"/>
            <a:chExt cx="4189320" cy="1663560"/>
          </a:xfrm>
        </p:grpSpPr>
        <p:grpSp>
          <p:nvGrpSpPr>
            <p:cNvPr id="2986" name=""/>
            <p:cNvGrpSpPr/>
            <p:nvPr/>
          </p:nvGrpSpPr>
          <p:grpSpPr>
            <a:xfrm>
              <a:off x="4959360" y="2635200"/>
              <a:ext cx="3801960" cy="1663560"/>
              <a:chOff x="4959360" y="2635200"/>
              <a:chExt cx="3801960" cy="1663560"/>
            </a:xfrm>
          </p:grpSpPr>
          <p:sp>
            <p:nvSpPr>
              <p:cNvPr id="2987" name=""/>
              <p:cNvSpPr/>
              <p:nvPr/>
            </p:nvSpPr>
            <p:spPr>
              <a:xfrm>
                <a:off x="8237880" y="3778200"/>
                <a:ext cx="5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959360" y="3854520"/>
                <a:ext cx="373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959360" y="2787480"/>
                <a:ext cx="0" cy="107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0" name=""/>
                  <p:cNvSpPr txBox="1"/>
                  <p:nvPr/>
                </p:nvSpPr>
                <p:spPr>
                  <a:xfrm>
                    <a:off x="5013360" y="2635200"/>
                    <a:ext cx="498600" cy="60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991" name=""/>
            <p:cNvSpPr/>
            <p:nvPr/>
          </p:nvSpPr>
          <p:spPr>
            <a:xfrm>
              <a:off x="4572000" y="35812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2" name=""/>
          <p:cNvGrpSpPr/>
          <p:nvPr/>
        </p:nvGrpSpPr>
        <p:grpSpPr>
          <a:xfrm>
            <a:off x="4574160" y="4251240"/>
            <a:ext cx="4187160" cy="1647720"/>
            <a:chOff x="4574160" y="4251240"/>
            <a:chExt cx="4187160" cy="1647720"/>
          </a:xfrm>
        </p:grpSpPr>
        <p:grpSp>
          <p:nvGrpSpPr>
            <p:cNvPr id="2993" name=""/>
            <p:cNvGrpSpPr/>
            <p:nvPr/>
          </p:nvGrpSpPr>
          <p:grpSpPr>
            <a:xfrm>
              <a:off x="4959360" y="4251240"/>
              <a:ext cx="3801960" cy="1647720"/>
              <a:chOff x="4959360" y="4251240"/>
              <a:chExt cx="3801960" cy="1647720"/>
            </a:xfrm>
          </p:grpSpPr>
          <mc:AlternateContent>
            <mc:Choice xmlns:a14="http://schemas.microsoft.com/office/drawing/2010/main" Requires="a14">
              <p:sp>
                <p:nvSpPr>
                  <p:cNvPr id="2994" name=""/>
                  <p:cNvSpPr txBox="1"/>
                  <p:nvPr/>
                </p:nvSpPr>
                <p:spPr>
                  <a:xfrm>
                    <a:off x="5029200" y="4251240"/>
                    <a:ext cx="465120" cy="56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995" name=""/>
              <p:cNvGrpSpPr/>
              <p:nvPr/>
            </p:nvGrpSpPr>
            <p:grpSpPr>
              <a:xfrm>
                <a:off x="4959360" y="4387320"/>
                <a:ext cx="3801960" cy="1511640"/>
                <a:chOff x="4959360" y="4387320"/>
                <a:chExt cx="3801960" cy="1511640"/>
              </a:xfrm>
            </p:grpSpPr>
            <p:sp>
              <p:nvSpPr>
                <p:cNvPr id="2996" name=""/>
                <p:cNvSpPr/>
                <p:nvPr/>
              </p:nvSpPr>
              <p:spPr>
                <a:xfrm>
                  <a:off x="8237880" y="5378400"/>
                  <a:ext cx="523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4959360" y="5454360"/>
                  <a:ext cx="3733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 flipV="1">
                  <a:off x="4959360" y="4387320"/>
                  <a:ext cx="0" cy="1074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99" name=""/>
            <p:cNvSpPr/>
            <p:nvPr/>
          </p:nvSpPr>
          <p:spPr>
            <a:xfrm>
              <a:off x="4574160" y="5257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457200" y="242280"/>
            <a:ext cx="31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触发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181480" y="2362320"/>
            <a:ext cx="228600" cy="2057400"/>
            <a:chOff x="5181480" y="2362320"/>
            <a:chExt cx="228600" cy="2057400"/>
          </a:xfrm>
        </p:grpSpPr>
        <p:sp>
          <p:nvSpPr>
            <p:cNvPr id="3002" name=""/>
            <p:cNvSpPr/>
            <p:nvPr/>
          </p:nvSpPr>
          <p:spPr>
            <a:xfrm>
              <a:off x="5181480" y="2362320"/>
              <a:ext cx="0" cy="196200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410080" y="2934360"/>
              <a:ext cx="0" cy="148536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4" name=""/>
          <p:cNvGrpSpPr/>
          <p:nvPr/>
        </p:nvGrpSpPr>
        <p:grpSpPr>
          <a:xfrm>
            <a:off x="5780160" y="2362320"/>
            <a:ext cx="239760" cy="2057040"/>
            <a:chOff x="5780160" y="2362320"/>
            <a:chExt cx="239760" cy="2057040"/>
          </a:xfrm>
        </p:grpSpPr>
        <p:sp>
          <p:nvSpPr>
            <p:cNvPr id="3005" name=""/>
            <p:cNvSpPr/>
            <p:nvPr/>
          </p:nvSpPr>
          <p:spPr>
            <a:xfrm>
              <a:off x="5780160" y="2362320"/>
              <a:ext cx="0" cy="203076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019920" y="2860920"/>
              <a:ext cx="0" cy="155844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7" name=""/>
          <p:cNvGrpSpPr/>
          <p:nvPr/>
        </p:nvGrpSpPr>
        <p:grpSpPr>
          <a:xfrm>
            <a:off x="5791320" y="3903840"/>
            <a:ext cx="239400" cy="531720"/>
            <a:chOff x="5791320" y="3903840"/>
            <a:chExt cx="239400" cy="531720"/>
          </a:xfrm>
        </p:grpSpPr>
        <p:sp>
          <p:nvSpPr>
            <p:cNvPr id="3008" name=""/>
            <p:cNvSpPr/>
            <p:nvPr/>
          </p:nvSpPr>
          <p:spPr>
            <a:xfrm>
              <a:off x="5791320" y="3920760"/>
              <a:ext cx="0" cy="514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15080" y="3903840"/>
              <a:ext cx="215640" cy="53172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0" name=""/>
          <p:cNvGrpSpPr/>
          <p:nvPr/>
        </p:nvGrpSpPr>
        <p:grpSpPr>
          <a:xfrm>
            <a:off x="3833280" y="3544560"/>
            <a:ext cx="4624920" cy="560880"/>
            <a:chOff x="3833280" y="3544560"/>
            <a:chExt cx="4624920" cy="560880"/>
          </a:xfrm>
        </p:grpSpPr>
        <p:sp>
          <p:nvSpPr>
            <p:cNvPr id="3011" name=""/>
            <p:cNvSpPr/>
            <p:nvPr/>
          </p:nvSpPr>
          <p:spPr>
            <a:xfrm>
              <a:off x="4764240" y="3900240"/>
              <a:ext cx="3693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833280" y="3544560"/>
              <a:ext cx="10263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3" name=""/>
          <p:cNvGrpSpPr/>
          <p:nvPr/>
        </p:nvGrpSpPr>
        <p:grpSpPr>
          <a:xfrm>
            <a:off x="763200" y="883800"/>
            <a:ext cx="3123000" cy="2697120"/>
            <a:chOff x="763200" y="883800"/>
            <a:chExt cx="3123000" cy="2697120"/>
          </a:xfrm>
        </p:grpSpPr>
        <p:sp>
          <p:nvSpPr>
            <p:cNvPr id="3014" name=""/>
            <p:cNvSpPr/>
            <p:nvPr/>
          </p:nvSpPr>
          <p:spPr>
            <a:xfrm>
              <a:off x="2562120" y="2891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019320" y="944640"/>
              <a:ext cx="0" cy="52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376720" y="1107360"/>
              <a:ext cx="56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1287720" y="10263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307160" y="2657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859040" y="3051000"/>
              <a:ext cx="0" cy="4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0" name=""/>
            <p:cNvGrpSpPr/>
            <p:nvPr/>
          </p:nvGrpSpPr>
          <p:grpSpPr>
            <a:xfrm>
              <a:off x="1682640" y="2905200"/>
              <a:ext cx="328680" cy="145800"/>
              <a:chOff x="1682640" y="2905200"/>
              <a:chExt cx="328680" cy="145800"/>
            </a:xfrm>
          </p:grpSpPr>
          <p:sp>
            <p:nvSpPr>
              <p:cNvPr id="3021" name=""/>
              <p:cNvSpPr/>
              <p:nvPr/>
            </p:nvSpPr>
            <p:spPr>
              <a:xfrm>
                <a:off x="1682640" y="2905200"/>
                <a:ext cx="328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1682640" y="3051000"/>
                <a:ext cx="328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>
              <a:off x="1855800" y="2198520"/>
              <a:ext cx="0" cy="68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4" name=""/>
            <p:cNvGrpSpPr/>
            <p:nvPr/>
          </p:nvGrpSpPr>
          <p:grpSpPr>
            <a:xfrm>
              <a:off x="1957320" y="2394000"/>
              <a:ext cx="523800" cy="901440"/>
              <a:chOff x="1957320" y="2394000"/>
              <a:chExt cx="523800" cy="901440"/>
            </a:xfrm>
          </p:grpSpPr>
          <p:sp>
            <p:nvSpPr>
              <p:cNvPr id="3025" name=""/>
              <p:cNvSpPr/>
              <p:nvPr/>
            </p:nvSpPr>
            <p:spPr>
              <a:xfrm>
                <a:off x="1962000" y="261036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1957320" y="2394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046600" y="3295440"/>
                <a:ext cx="1695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8" name=""/>
            <p:cNvSpPr/>
            <p:nvPr/>
          </p:nvSpPr>
          <p:spPr>
            <a:xfrm>
              <a:off x="2960640" y="2968560"/>
              <a:ext cx="135000" cy="366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3025800" y="3333600"/>
              <a:ext cx="0" cy="20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3025800" y="2478240"/>
              <a:ext cx="0" cy="49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846440" y="939960"/>
              <a:ext cx="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863720" y="1558800"/>
              <a:ext cx="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174760" y="92088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1928520" y="1330200"/>
              <a:ext cx="24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1355760" y="1739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949480" y="1452600"/>
              <a:ext cx="135000" cy="366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3029040" y="1814400"/>
              <a:ext cx="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V="1">
              <a:off x="2811600" y="2149200"/>
              <a:ext cx="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2590920" y="2290320"/>
              <a:ext cx="22068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070080" y="2809800"/>
              <a:ext cx="495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041280" y="2641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3178080" y="3460680"/>
              <a:ext cx="1684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827360" y="2478240"/>
              <a:ext cx="77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974880" y="3537000"/>
              <a:ext cx="283680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974880" y="93816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1785960" y="1832040"/>
              <a:ext cx="135000" cy="366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1785960" y="1193760"/>
              <a:ext cx="135000" cy="365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72560" y="1914480"/>
              <a:ext cx="4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V="1">
              <a:off x="903240" y="883440"/>
              <a:ext cx="7452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942840" y="3506040"/>
              <a:ext cx="7308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3811680" y="2693880"/>
              <a:ext cx="74520" cy="74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3811680" y="3506040"/>
              <a:ext cx="7452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63200" y="920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903240" y="3403440"/>
              <a:ext cx="1684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819520" y="2232000"/>
              <a:ext cx="223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819520" y="247824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032280" y="2728800"/>
              <a:ext cx="77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8" name=""/>
          <p:cNvGrpSpPr/>
          <p:nvPr/>
        </p:nvGrpSpPr>
        <p:grpSpPr>
          <a:xfrm>
            <a:off x="6248520" y="2666880"/>
            <a:ext cx="177840" cy="1752480"/>
            <a:chOff x="6248520" y="2666880"/>
            <a:chExt cx="177840" cy="1752480"/>
          </a:xfrm>
        </p:grpSpPr>
        <p:sp>
          <p:nvSpPr>
            <p:cNvPr id="3059" name=""/>
            <p:cNvSpPr/>
            <p:nvPr/>
          </p:nvSpPr>
          <p:spPr>
            <a:xfrm>
              <a:off x="6426360" y="2877120"/>
              <a:ext cx="0" cy="154224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248520" y="2666880"/>
              <a:ext cx="0" cy="166788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1" name=""/>
          <p:cNvSpPr/>
          <p:nvPr/>
        </p:nvSpPr>
        <p:spPr>
          <a:xfrm>
            <a:off x="8472600" y="5772240"/>
            <a:ext cx="190440" cy="1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4857840" y="4495680"/>
                <a:ext cx="552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4853160" y="3200400"/>
                <a:ext cx="514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064" name=""/>
          <p:cNvGrpSpPr/>
          <p:nvPr/>
        </p:nvGrpSpPr>
        <p:grpSpPr>
          <a:xfrm>
            <a:off x="4778280" y="3368160"/>
            <a:ext cx="4135320" cy="1511640"/>
            <a:chOff x="4778280" y="3368160"/>
            <a:chExt cx="4135320" cy="1511640"/>
          </a:xfrm>
        </p:grpSpPr>
        <p:sp>
          <p:nvSpPr>
            <p:cNvPr id="3065" name=""/>
            <p:cNvSpPr/>
            <p:nvPr/>
          </p:nvSpPr>
          <p:spPr>
            <a:xfrm>
              <a:off x="8390160" y="435924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778280" y="4435200"/>
              <a:ext cx="411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V="1">
              <a:off x="4778280" y="3368160"/>
              <a:ext cx="0" cy="10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8" name=""/>
          <p:cNvSpPr/>
          <p:nvPr/>
        </p:nvSpPr>
        <p:spPr>
          <a:xfrm>
            <a:off x="8412480" y="571356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4800600" y="5789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 flipV="1">
            <a:off x="4800600" y="4722480"/>
            <a:ext cx="0" cy="107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5181480" y="2338560"/>
            <a:ext cx="235080" cy="579240"/>
          </a:xfrm>
          <a:custGeom>
            <a:avLst/>
            <a:gdLst/>
            <a:ahLst/>
            <a:rect l="l" t="t" r="r" b="b"/>
            <a:pathLst>
              <a:path w="180" h="336">
                <a:moveTo>
                  <a:pt x="0" y="0"/>
                </a:moveTo>
                <a:cubicBezTo>
                  <a:pt x="9" y="44"/>
                  <a:pt x="18" y="88"/>
                  <a:pt x="48" y="144"/>
                </a:cubicBezTo>
                <a:cubicBezTo>
                  <a:pt x="78" y="200"/>
                  <a:pt x="154" y="306"/>
                  <a:pt x="180" y="33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 flipV="1">
            <a:off x="5410080" y="2344680"/>
            <a:ext cx="408240" cy="55080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0"/>
                </a:moveTo>
                <a:cubicBezTo>
                  <a:pt x="23" y="36"/>
                  <a:pt x="46" y="72"/>
                  <a:pt x="84" y="96"/>
                </a:cubicBezTo>
                <a:cubicBezTo>
                  <a:pt x="122" y="120"/>
                  <a:pt x="208" y="138"/>
                  <a:pt x="228" y="1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5791320" y="2340000"/>
            <a:ext cx="239760" cy="542880"/>
          </a:xfrm>
          <a:custGeom>
            <a:avLst/>
            <a:gdLst/>
            <a:ahLst/>
            <a:rect l="l" t="t" r="r" b="b"/>
            <a:pathLst>
              <a:path w="180" h="336">
                <a:moveTo>
                  <a:pt x="0" y="0"/>
                </a:moveTo>
                <a:cubicBezTo>
                  <a:pt x="9" y="44"/>
                  <a:pt x="18" y="88"/>
                  <a:pt x="48" y="144"/>
                </a:cubicBezTo>
                <a:cubicBezTo>
                  <a:pt x="78" y="200"/>
                  <a:pt x="154" y="306"/>
                  <a:pt x="180" y="33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835520" y="1752480"/>
                <a:ext cx="550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075" name=""/>
          <p:cNvGrpSpPr/>
          <p:nvPr/>
        </p:nvGrpSpPr>
        <p:grpSpPr>
          <a:xfrm>
            <a:off x="4269240" y="2513880"/>
            <a:ext cx="4112640" cy="520560"/>
            <a:chOff x="4269240" y="2513880"/>
            <a:chExt cx="4112640" cy="520560"/>
          </a:xfrm>
        </p:grpSpPr>
        <p:sp>
          <p:nvSpPr>
            <p:cNvPr id="3076" name=""/>
            <p:cNvSpPr/>
            <p:nvPr/>
          </p:nvSpPr>
          <p:spPr>
            <a:xfrm flipV="1">
              <a:off x="4809960" y="2895120"/>
              <a:ext cx="3571920" cy="17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269240" y="2513880"/>
              <a:ext cx="55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8" name=""/>
          <p:cNvGrpSpPr/>
          <p:nvPr/>
        </p:nvGrpSpPr>
        <p:grpSpPr>
          <a:xfrm>
            <a:off x="4767120" y="2209680"/>
            <a:ext cx="3335040" cy="772920"/>
            <a:chOff x="4767120" y="2209680"/>
            <a:chExt cx="3335040" cy="772920"/>
          </a:xfrm>
        </p:grpSpPr>
        <p:sp>
          <p:nvSpPr>
            <p:cNvPr id="3079" name=""/>
            <p:cNvSpPr/>
            <p:nvPr/>
          </p:nvSpPr>
          <p:spPr>
            <a:xfrm flipH="1">
              <a:off x="6046200" y="2229120"/>
              <a:ext cx="384120" cy="753480"/>
            </a:xfrm>
            <a:custGeom>
              <a:avLst/>
              <a:gdLst/>
              <a:ahLst/>
              <a:rect l="l" t="t" r="r" b="b"/>
              <a:pathLst>
                <a:path w="156" h="228">
                  <a:moveTo>
                    <a:pt x="0" y="228"/>
                  </a:moveTo>
                  <a:cubicBezTo>
                    <a:pt x="5" y="211"/>
                    <a:pt x="10" y="194"/>
                    <a:pt x="36" y="156"/>
                  </a:cubicBezTo>
                  <a:cubicBezTo>
                    <a:pt x="62" y="118"/>
                    <a:pt x="136" y="28"/>
                    <a:pt x="15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100480" y="2250000"/>
              <a:ext cx="946440" cy="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767120" y="2209680"/>
              <a:ext cx="384480" cy="753480"/>
            </a:xfrm>
            <a:custGeom>
              <a:avLst/>
              <a:gdLst/>
              <a:ahLst/>
              <a:rect l="l" t="t" r="r" b="b"/>
              <a:pathLst>
                <a:path w="156" h="228">
                  <a:moveTo>
                    <a:pt x="0" y="228"/>
                  </a:moveTo>
                  <a:cubicBezTo>
                    <a:pt x="5" y="211"/>
                    <a:pt x="10" y="194"/>
                    <a:pt x="36" y="156"/>
                  </a:cubicBezTo>
                  <a:cubicBezTo>
                    <a:pt x="62" y="118"/>
                    <a:pt x="136" y="28"/>
                    <a:pt x="15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2" name=""/>
            <p:cNvGrpSpPr/>
            <p:nvPr/>
          </p:nvGrpSpPr>
          <p:grpSpPr>
            <a:xfrm>
              <a:off x="6437160" y="2212920"/>
              <a:ext cx="1665000" cy="756720"/>
              <a:chOff x="6437160" y="2212920"/>
              <a:chExt cx="1665000" cy="756720"/>
            </a:xfrm>
          </p:grpSpPr>
          <p:sp>
            <p:nvSpPr>
              <p:cNvPr id="3083" name=""/>
              <p:cNvSpPr/>
              <p:nvPr/>
            </p:nvSpPr>
            <p:spPr>
              <a:xfrm flipH="1">
                <a:off x="7718400" y="2231640"/>
                <a:ext cx="383760" cy="73800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770160" y="2252160"/>
                <a:ext cx="9478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437160" y="2212920"/>
                <a:ext cx="384120" cy="73800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6" name=""/>
          <p:cNvGrpSpPr/>
          <p:nvPr/>
        </p:nvGrpSpPr>
        <p:grpSpPr>
          <a:xfrm>
            <a:off x="6259680" y="4102200"/>
            <a:ext cx="161640" cy="333360"/>
            <a:chOff x="6259680" y="4102200"/>
            <a:chExt cx="161640" cy="333360"/>
          </a:xfrm>
        </p:grpSpPr>
        <p:sp>
          <p:nvSpPr>
            <p:cNvPr id="3087" name=""/>
            <p:cNvSpPr/>
            <p:nvPr/>
          </p:nvSpPr>
          <p:spPr>
            <a:xfrm>
              <a:off x="6275880" y="4102200"/>
              <a:ext cx="145440" cy="33336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259680" y="4112640"/>
              <a:ext cx="0" cy="3225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9" name=""/>
          <p:cNvGrpSpPr/>
          <p:nvPr/>
        </p:nvGrpSpPr>
        <p:grpSpPr>
          <a:xfrm>
            <a:off x="6832440" y="2362320"/>
            <a:ext cx="1298880" cy="2056680"/>
            <a:chOff x="6832440" y="2362320"/>
            <a:chExt cx="1298880" cy="2056680"/>
          </a:xfrm>
        </p:grpSpPr>
        <p:grpSp>
          <p:nvGrpSpPr>
            <p:cNvPr id="3090" name=""/>
            <p:cNvGrpSpPr/>
            <p:nvPr/>
          </p:nvGrpSpPr>
          <p:grpSpPr>
            <a:xfrm>
              <a:off x="6832440" y="2362320"/>
              <a:ext cx="238320" cy="2040480"/>
              <a:chOff x="6832440" y="2362320"/>
              <a:chExt cx="238320" cy="2040480"/>
            </a:xfrm>
          </p:grpSpPr>
          <p:sp>
            <p:nvSpPr>
              <p:cNvPr id="3091" name=""/>
              <p:cNvSpPr/>
              <p:nvPr/>
            </p:nvSpPr>
            <p:spPr>
              <a:xfrm>
                <a:off x="6832440" y="2362320"/>
                <a:ext cx="0" cy="194616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070760" y="2929680"/>
                <a:ext cx="0" cy="147312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3" name=""/>
            <p:cNvGrpSpPr/>
            <p:nvPr/>
          </p:nvGrpSpPr>
          <p:grpSpPr>
            <a:xfrm>
              <a:off x="7456320" y="2362320"/>
              <a:ext cx="239760" cy="2046600"/>
              <a:chOff x="7456320" y="2362320"/>
              <a:chExt cx="239760" cy="2046600"/>
            </a:xfrm>
          </p:grpSpPr>
          <p:sp>
            <p:nvSpPr>
              <p:cNvPr id="3094" name=""/>
              <p:cNvSpPr/>
              <p:nvPr/>
            </p:nvSpPr>
            <p:spPr>
              <a:xfrm>
                <a:off x="7456320" y="2362320"/>
                <a:ext cx="0" cy="202032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696080" y="2858400"/>
                <a:ext cx="0" cy="155052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7953480" y="2645640"/>
              <a:ext cx="177840" cy="1773360"/>
              <a:chOff x="7953480" y="2645640"/>
              <a:chExt cx="177840" cy="1773360"/>
            </a:xfrm>
          </p:grpSpPr>
          <p:sp>
            <p:nvSpPr>
              <p:cNvPr id="3097" name=""/>
              <p:cNvSpPr/>
              <p:nvPr/>
            </p:nvSpPr>
            <p:spPr>
              <a:xfrm>
                <a:off x="8131320" y="2858400"/>
                <a:ext cx="0" cy="156060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953480" y="2645640"/>
                <a:ext cx="0" cy="168768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9" name=""/>
          <p:cNvGrpSpPr/>
          <p:nvPr/>
        </p:nvGrpSpPr>
        <p:grpSpPr>
          <a:xfrm>
            <a:off x="6442200" y="2328840"/>
            <a:ext cx="1671120" cy="642960"/>
            <a:chOff x="6442200" y="2328840"/>
            <a:chExt cx="1671120" cy="642960"/>
          </a:xfrm>
        </p:grpSpPr>
        <p:sp>
          <p:nvSpPr>
            <p:cNvPr id="3100" name=""/>
            <p:cNvSpPr/>
            <p:nvPr/>
          </p:nvSpPr>
          <p:spPr>
            <a:xfrm>
              <a:off x="6858000" y="2328840"/>
              <a:ext cx="235080" cy="57960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7086600" y="2335320"/>
              <a:ext cx="407880" cy="55080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467480" y="2330280"/>
              <a:ext cx="239760" cy="54324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442200" y="2352600"/>
              <a:ext cx="415800" cy="61920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4" name=""/>
            <p:cNvGrpSpPr/>
            <p:nvPr/>
          </p:nvGrpSpPr>
          <p:grpSpPr>
            <a:xfrm>
              <a:off x="7696080" y="2666880"/>
              <a:ext cx="417240" cy="268200"/>
              <a:chOff x="7696080" y="2666880"/>
              <a:chExt cx="417240" cy="268200"/>
            </a:xfrm>
          </p:grpSpPr>
          <p:sp>
            <p:nvSpPr>
              <p:cNvPr id="3105" name=""/>
              <p:cNvSpPr/>
              <p:nvPr/>
            </p:nvSpPr>
            <p:spPr>
              <a:xfrm flipV="1">
                <a:off x="7696080" y="2667600"/>
                <a:ext cx="304560" cy="228600"/>
              </a:xfrm>
              <a:custGeom>
                <a:avLst/>
                <a:gdLst/>
                <a:ahLst/>
                <a:rect l="l" t="t" r="r" b="b"/>
                <a:pathLst>
                  <a:path w="228" h="144">
                    <a:moveTo>
                      <a:pt x="0" y="0"/>
                    </a:moveTo>
                    <a:cubicBezTo>
                      <a:pt x="23" y="36"/>
                      <a:pt x="46" y="72"/>
                      <a:pt x="84" y="96"/>
                    </a:cubicBezTo>
                    <a:cubicBezTo>
                      <a:pt x="122" y="120"/>
                      <a:pt x="208" y="138"/>
                      <a:pt x="228" y="144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973640" y="2666880"/>
                <a:ext cx="139680" cy="268200"/>
              </a:xfrm>
              <a:custGeom>
                <a:avLst/>
                <a:gdLst/>
                <a:ahLst/>
                <a:rect l="l" t="t" r="r" b="b"/>
                <a:pathLst>
                  <a:path w="180" h="336">
                    <a:moveTo>
                      <a:pt x="0" y="0"/>
                    </a:moveTo>
                    <a:cubicBezTo>
                      <a:pt x="9" y="44"/>
                      <a:pt x="18" y="88"/>
                      <a:pt x="48" y="144"/>
                    </a:cubicBezTo>
                    <a:cubicBezTo>
                      <a:pt x="78" y="200"/>
                      <a:pt x="154" y="306"/>
                      <a:pt x="180" y="336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7" name=""/>
          <p:cNvGrpSpPr/>
          <p:nvPr/>
        </p:nvGrpSpPr>
        <p:grpSpPr>
          <a:xfrm>
            <a:off x="4269600" y="2058120"/>
            <a:ext cx="4112280" cy="520560"/>
            <a:chOff x="4269600" y="2058120"/>
            <a:chExt cx="4112280" cy="520560"/>
          </a:xfrm>
        </p:grpSpPr>
        <p:sp>
          <p:nvSpPr>
            <p:cNvPr id="3108" name=""/>
            <p:cNvSpPr/>
            <p:nvPr/>
          </p:nvSpPr>
          <p:spPr>
            <a:xfrm>
              <a:off x="4862520" y="2335320"/>
              <a:ext cx="3519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269600" y="2058120"/>
              <a:ext cx="56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0" name=""/>
          <p:cNvSpPr/>
          <p:nvPr/>
        </p:nvSpPr>
        <p:spPr>
          <a:xfrm flipV="1">
            <a:off x="4800600" y="2361600"/>
            <a:ext cx="380880" cy="61884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0"/>
                </a:moveTo>
                <a:cubicBezTo>
                  <a:pt x="23" y="36"/>
                  <a:pt x="46" y="72"/>
                  <a:pt x="84" y="96"/>
                </a:cubicBezTo>
                <a:cubicBezTo>
                  <a:pt x="122" y="120"/>
                  <a:pt x="208" y="138"/>
                  <a:pt x="228" y="1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6019920" y="2666160"/>
            <a:ext cx="304560" cy="22860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0"/>
                </a:moveTo>
                <a:cubicBezTo>
                  <a:pt x="23" y="36"/>
                  <a:pt x="46" y="72"/>
                  <a:pt x="84" y="96"/>
                </a:cubicBezTo>
                <a:cubicBezTo>
                  <a:pt x="122" y="120"/>
                  <a:pt x="208" y="138"/>
                  <a:pt x="228" y="1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6297480" y="2665440"/>
            <a:ext cx="139680" cy="268200"/>
          </a:xfrm>
          <a:custGeom>
            <a:avLst/>
            <a:gdLst/>
            <a:ahLst/>
            <a:rect l="l" t="t" r="r" b="b"/>
            <a:pathLst>
              <a:path w="180" h="336">
                <a:moveTo>
                  <a:pt x="0" y="0"/>
                </a:moveTo>
                <a:cubicBezTo>
                  <a:pt x="9" y="44"/>
                  <a:pt x="18" y="88"/>
                  <a:pt x="48" y="144"/>
                </a:cubicBezTo>
                <a:cubicBezTo>
                  <a:pt x="78" y="200"/>
                  <a:pt x="154" y="306"/>
                  <a:pt x="180" y="33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3" name=""/>
          <p:cNvGrpSpPr/>
          <p:nvPr/>
        </p:nvGrpSpPr>
        <p:grpSpPr>
          <a:xfrm>
            <a:off x="5194440" y="3902040"/>
            <a:ext cx="228240" cy="531720"/>
            <a:chOff x="5194440" y="3902040"/>
            <a:chExt cx="228240" cy="531720"/>
          </a:xfrm>
        </p:grpSpPr>
        <p:sp>
          <p:nvSpPr>
            <p:cNvPr id="3114" name=""/>
            <p:cNvSpPr/>
            <p:nvPr/>
          </p:nvSpPr>
          <p:spPr>
            <a:xfrm>
              <a:off x="5194440" y="3918960"/>
              <a:ext cx="0" cy="514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217120" y="3902040"/>
              <a:ext cx="205560" cy="53172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6" name=""/>
          <p:cNvGrpSpPr/>
          <p:nvPr/>
        </p:nvGrpSpPr>
        <p:grpSpPr>
          <a:xfrm>
            <a:off x="6850080" y="3905280"/>
            <a:ext cx="1227240" cy="533160"/>
            <a:chOff x="6850080" y="3905280"/>
            <a:chExt cx="1227240" cy="533160"/>
          </a:xfrm>
        </p:grpSpPr>
        <p:grpSp>
          <p:nvGrpSpPr>
            <p:cNvPr id="3117" name=""/>
            <p:cNvGrpSpPr/>
            <p:nvPr/>
          </p:nvGrpSpPr>
          <p:grpSpPr>
            <a:xfrm>
              <a:off x="7458120" y="3906720"/>
              <a:ext cx="228240" cy="531720"/>
              <a:chOff x="7458120" y="3906720"/>
              <a:chExt cx="228240" cy="531720"/>
            </a:xfrm>
          </p:grpSpPr>
          <p:sp>
            <p:nvSpPr>
              <p:cNvPr id="3118" name=""/>
              <p:cNvSpPr/>
              <p:nvPr/>
            </p:nvSpPr>
            <p:spPr>
              <a:xfrm>
                <a:off x="7458120" y="3923640"/>
                <a:ext cx="0" cy="5144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80800" y="3906720"/>
                <a:ext cx="205560" cy="531720"/>
              </a:xfrm>
              <a:custGeom>
                <a:avLst/>
                <a:gdLst/>
                <a:ahLst/>
                <a:rect l="l" t="t" r="r" b="b"/>
                <a:pathLst>
                  <a:path w="180" h="336">
                    <a:moveTo>
                      <a:pt x="0" y="0"/>
                    </a:moveTo>
                    <a:cubicBezTo>
                      <a:pt x="9" y="44"/>
                      <a:pt x="18" y="88"/>
                      <a:pt x="48" y="144"/>
                    </a:cubicBezTo>
                    <a:cubicBezTo>
                      <a:pt x="78" y="200"/>
                      <a:pt x="154" y="306"/>
                      <a:pt x="180" y="33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0" name=""/>
            <p:cNvGrpSpPr/>
            <p:nvPr/>
          </p:nvGrpSpPr>
          <p:grpSpPr>
            <a:xfrm>
              <a:off x="6850080" y="3905280"/>
              <a:ext cx="228240" cy="531720"/>
              <a:chOff x="6850080" y="3905280"/>
              <a:chExt cx="228240" cy="531720"/>
            </a:xfrm>
          </p:grpSpPr>
          <p:sp>
            <p:nvSpPr>
              <p:cNvPr id="3121" name=""/>
              <p:cNvSpPr/>
              <p:nvPr/>
            </p:nvSpPr>
            <p:spPr>
              <a:xfrm>
                <a:off x="6850080" y="3922200"/>
                <a:ext cx="0" cy="5144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872760" y="3905280"/>
                <a:ext cx="205560" cy="531720"/>
              </a:xfrm>
              <a:custGeom>
                <a:avLst/>
                <a:gdLst/>
                <a:ahLst/>
                <a:rect l="l" t="t" r="r" b="b"/>
                <a:pathLst>
                  <a:path w="180" h="336">
                    <a:moveTo>
                      <a:pt x="0" y="0"/>
                    </a:moveTo>
                    <a:cubicBezTo>
                      <a:pt x="9" y="44"/>
                      <a:pt x="18" y="88"/>
                      <a:pt x="48" y="144"/>
                    </a:cubicBezTo>
                    <a:cubicBezTo>
                      <a:pt x="78" y="200"/>
                      <a:pt x="154" y="306"/>
                      <a:pt x="180" y="33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3" name=""/>
            <p:cNvGrpSpPr/>
            <p:nvPr/>
          </p:nvGrpSpPr>
          <p:grpSpPr>
            <a:xfrm>
              <a:off x="7915320" y="4105080"/>
              <a:ext cx="162000" cy="333360"/>
              <a:chOff x="7915320" y="4105080"/>
              <a:chExt cx="162000" cy="333360"/>
            </a:xfrm>
          </p:grpSpPr>
          <p:sp>
            <p:nvSpPr>
              <p:cNvPr id="3124" name=""/>
              <p:cNvSpPr/>
              <p:nvPr/>
            </p:nvSpPr>
            <p:spPr>
              <a:xfrm>
                <a:off x="7931520" y="4105080"/>
                <a:ext cx="145800" cy="333360"/>
              </a:xfrm>
              <a:custGeom>
                <a:avLst/>
                <a:gdLst/>
                <a:ahLst/>
                <a:rect l="l" t="t" r="r" b="b"/>
                <a:pathLst>
                  <a:path w="180" h="336">
                    <a:moveTo>
                      <a:pt x="0" y="0"/>
                    </a:moveTo>
                    <a:cubicBezTo>
                      <a:pt x="9" y="44"/>
                      <a:pt x="18" y="88"/>
                      <a:pt x="48" y="144"/>
                    </a:cubicBezTo>
                    <a:cubicBezTo>
                      <a:pt x="78" y="200"/>
                      <a:pt x="154" y="306"/>
                      <a:pt x="180" y="33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915320" y="4115520"/>
                <a:ext cx="0" cy="3225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6" name=""/>
          <p:cNvGrpSpPr/>
          <p:nvPr/>
        </p:nvGrpSpPr>
        <p:grpSpPr>
          <a:xfrm>
            <a:off x="5181480" y="914400"/>
            <a:ext cx="2943360" cy="4876560"/>
            <a:chOff x="5181480" y="914400"/>
            <a:chExt cx="2943360" cy="4876560"/>
          </a:xfrm>
        </p:grpSpPr>
        <p:sp>
          <p:nvSpPr>
            <p:cNvPr id="3127" name=""/>
            <p:cNvSpPr/>
            <p:nvPr/>
          </p:nvSpPr>
          <p:spPr>
            <a:xfrm>
              <a:off x="6400800" y="1514520"/>
              <a:ext cx="30240" cy="4276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124840" y="1514520"/>
              <a:ext cx="0" cy="4276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9" name=""/>
            <p:cNvGrpSpPr/>
            <p:nvPr/>
          </p:nvGrpSpPr>
          <p:grpSpPr>
            <a:xfrm>
              <a:off x="5181480" y="914400"/>
              <a:ext cx="0" cy="4876560"/>
              <a:chOff x="5181480" y="914400"/>
              <a:chExt cx="0" cy="4876560"/>
            </a:xfrm>
          </p:grpSpPr>
          <p:sp>
            <p:nvSpPr>
              <p:cNvPr id="3130" name=""/>
              <p:cNvSpPr/>
              <p:nvPr/>
            </p:nvSpPr>
            <p:spPr>
              <a:xfrm>
                <a:off x="5181480" y="914400"/>
                <a:ext cx="0" cy="187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5181480" y="3915720"/>
                <a:ext cx="0" cy="187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2" name=""/>
            <p:cNvGrpSpPr/>
            <p:nvPr/>
          </p:nvGrpSpPr>
          <p:grpSpPr>
            <a:xfrm>
              <a:off x="6823080" y="914400"/>
              <a:ext cx="0" cy="4876560"/>
              <a:chOff x="6823080" y="914400"/>
              <a:chExt cx="0" cy="4876560"/>
            </a:xfrm>
          </p:grpSpPr>
          <p:sp>
            <p:nvSpPr>
              <p:cNvPr id="3133" name=""/>
              <p:cNvSpPr/>
              <p:nvPr/>
            </p:nvSpPr>
            <p:spPr>
              <a:xfrm>
                <a:off x="6823080" y="914400"/>
                <a:ext cx="0" cy="187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823080" y="3915720"/>
                <a:ext cx="0" cy="187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5" name=""/>
          <p:cNvGrpSpPr/>
          <p:nvPr/>
        </p:nvGrpSpPr>
        <p:grpSpPr>
          <a:xfrm>
            <a:off x="456480" y="4114440"/>
            <a:ext cx="3429360" cy="2211480"/>
            <a:chOff x="456480" y="4114440"/>
            <a:chExt cx="3429360" cy="2211480"/>
          </a:xfrm>
        </p:grpSpPr>
        <p:sp>
          <p:nvSpPr>
            <p:cNvPr id="3136" name=""/>
            <p:cNvSpPr/>
            <p:nvPr/>
          </p:nvSpPr>
          <p:spPr>
            <a:xfrm>
              <a:off x="1505880" y="4446360"/>
              <a:ext cx="233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705040" y="5042160"/>
              <a:ext cx="86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207240" y="5169960"/>
              <a:ext cx="174960" cy="3715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3297600" y="5523840"/>
              <a:ext cx="0" cy="802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3297600" y="4186080"/>
              <a:ext cx="0" cy="992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79080" y="4186080"/>
              <a:ext cx="0" cy="212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346760" y="6309720"/>
              <a:ext cx="193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>
              <a:off x="909720" y="5201280"/>
              <a:ext cx="44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H="1">
              <a:off x="911160" y="5541480"/>
              <a:ext cx="127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491840" y="45025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492200" y="564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301840" y="564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>
              <a:off x="551880" y="4682520"/>
              <a:ext cx="37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95360" y="6192360"/>
              <a:ext cx="4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35680" y="4670640"/>
              <a:ext cx="0" cy="42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09040" y="5795640"/>
              <a:ext cx="0" cy="41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2" name=""/>
            <p:cNvGrpSpPr/>
            <p:nvPr/>
          </p:nvGrpSpPr>
          <p:grpSpPr>
            <a:xfrm>
              <a:off x="456480" y="4991400"/>
              <a:ext cx="700200" cy="923760"/>
              <a:chOff x="456480" y="4991400"/>
              <a:chExt cx="700200" cy="923760"/>
            </a:xfrm>
          </p:grpSpPr>
          <p:sp>
            <p:nvSpPr>
              <p:cNvPr id="3153" name=""/>
              <p:cNvSpPr/>
              <p:nvPr/>
            </p:nvSpPr>
            <p:spPr>
              <a:xfrm flipH="1" rot="16200000">
                <a:off x="594000" y="5352840"/>
                <a:ext cx="424080" cy="7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H="1" rot="16200000">
                <a:off x="594000" y="4853160"/>
                <a:ext cx="424080" cy="7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H="1" rot="16200000">
                <a:off x="594000" y="5105160"/>
                <a:ext cx="424080" cy="7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6" name=""/>
            <p:cNvSpPr/>
            <p:nvPr/>
          </p:nvSpPr>
          <p:spPr>
            <a:xfrm>
              <a:off x="925200" y="4682520"/>
              <a:ext cx="0" cy="53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910080" y="5541480"/>
              <a:ext cx="0" cy="64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2179080" y="4446000"/>
              <a:ext cx="142200" cy="23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347920" y="45025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354320" y="4186080"/>
              <a:ext cx="0" cy="21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1" name=""/>
            <p:cNvGrpSpPr/>
            <p:nvPr/>
          </p:nvGrpSpPr>
          <p:grpSpPr>
            <a:xfrm>
              <a:off x="1118160" y="4446000"/>
              <a:ext cx="426240" cy="479880"/>
              <a:chOff x="1118160" y="4446000"/>
              <a:chExt cx="426240" cy="479880"/>
            </a:xfrm>
          </p:grpSpPr>
          <p:grpSp>
            <p:nvGrpSpPr>
              <p:cNvPr id="3162" name=""/>
              <p:cNvGrpSpPr/>
              <p:nvPr/>
            </p:nvGrpSpPr>
            <p:grpSpPr>
              <a:xfrm>
                <a:off x="1118160" y="4687920"/>
                <a:ext cx="426240" cy="237960"/>
                <a:chOff x="1118160" y="4687920"/>
                <a:chExt cx="426240" cy="237960"/>
              </a:xfrm>
            </p:grpSpPr>
            <p:sp>
              <p:nvSpPr>
                <p:cNvPr id="3163" name=""/>
                <p:cNvSpPr/>
                <p:nvPr/>
              </p:nvSpPr>
              <p:spPr>
                <a:xfrm>
                  <a:off x="1118160" y="4700160"/>
                  <a:ext cx="42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 flipH="1">
                  <a:off x="1177200" y="4687920"/>
                  <a:ext cx="174960" cy="23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1177200" y="4925880"/>
                  <a:ext cx="336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1367640" y="4700160"/>
                  <a:ext cx="14004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7" name=""/>
              <p:cNvSpPr/>
              <p:nvPr/>
            </p:nvSpPr>
            <p:spPr>
              <a:xfrm flipV="1">
                <a:off x="1387800" y="4446000"/>
                <a:ext cx="141120" cy="23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8" name=""/>
            <p:cNvGrpSpPr/>
            <p:nvPr/>
          </p:nvGrpSpPr>
          <p:grpSpPr>
            <a:xfrm>
              <a:off x="1950120" y="4660200"/>
              <a:ext cx="425160" cy="236160"/>
              <a:chOff x="1950120" y="4660200"/>
              <a:chExt cx="425160" cy="236160"/>
            </a:xfrm>
          </p:grpSpPr>
          <p:sp>
            <p:nvSpPr>
              <p:cNvPr id="3169" name=""/>
              <p:cNvSpPr/>
              <p:nvPr/>
            </p:nvSpPr>
            <p:spPr>
              <a:xfrm>
                <a:off x="1950120" y="4672440"/>
                <a:ext cx="42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H="1">
                <a:off x="2008440" y="4660200"/>
                <a:ext cx="174600" cy="23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2008800" y="4896360"/>
                <a:ext cx="33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2198880" y="4672440"/>
                <a:ext cx="139680" cy="22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3" name=""/>
            <p:cNvGrpSpPr/>
            <p:nvPr/>
          </p:nvGrpSpPr>
          <p:grpSpPr>
            <a:xfrm>
              <a:off x="1118160" y="5766120"/>
              <a:ext cx="426240" cy="237240"/>
              <a:chOff x="1118160" y="5766120"/>
              <a:chExt cx="426240" cy="237240"/>
            </a:xfrm>
          </p:grpSpPr>
          <p:sp>
            <p:nvSpPr>
              <p:cNvPr id="3174" name=""/>
              <p:cNvSpPr/>
              <p:nvPr/>
            </p:nvSpPr>
            <p:spPr>
              <a:xfrm>
                <a:off x="1118160" y="5777280"/>
                <a:ext cx="42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1177200" y="5766120"/>
                <a:ext cx="174960" cy="23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177200" y="6003360"/>
                <a:ext cx="336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367640" y="5777280"/>
                <a:ext cx="140040" cy="22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8" name=""/>
            <p:cNvGrpSpPr/>
            <p:nvPr/>
          </p:nvGrpSpPr>
          <p:grpSpPr>
            <a:xfrm>
              <a:off x="1953000" y="5756760"/>
              <a:ext cx="426240" cy="237600"/>
              <a:chOff x="1953000" y="5756760"/>
              <a:chExt cx="426240" cy="237600"/>
            </a:xfrm>
          </p:grpSpPr>
          <p:sp>
            <p:nvSpPr>
              <p:cNvPr id="3179" name=""/>
              <p:cNvSpPr/>
              <p:nvPr/>
            </p:nvSpPr>
            <p:spPr>
              <a:xfrm>
                <a:off x="1953000" y="5767920"/>
                <a:ext cx="42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H="1">
                <a:off x="2010960" y="5756760"/>
                <a:ext cx="177840" cy="23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2010960" y="5994360"/>
                <a:ext cx="33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2202480" y="5767920"/>
                <a:ext cx="141120" cy="22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3" name=""/>
            <p:cNvGrpSpPr/>
            <p:nvPr/>
          </p:nvGrpSpPr>
          <p:grpSpPr>
            <a:xfrm>
              <a:off x="3331440" y="4756680"/>
              <a:ext cx="523800" cy="855720"/>
              <a:chOff x="3331440" y="4756680"/>
              <a:chExt cx="523800" cy="855720"/>
            </a:xfrm>
          </p:grpSpPr>
          <p:sp>
            <p:nvSpPr>
              <p:cNvPr id="3184" name=""/>
              <p:cNvSpPr/>
              <p:nvPr/>
            </p:nvSpPr>
            <p:spPr>
              <a:xfrm>
                <a:off x="3331440" y="4936320"/>
                <a:ext cx="5238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3350880" y="4756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3470040" y="5612400"/>
                <a:ext cx="1468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7" name=""/>
            <p:cNvSpPr/>
            <p:nvPr/>
          </p:nvSpPr>
          <p:spPr>
            <a:xfrm flipV="1">
              <a:off x="3808800" y="4399920"/>
              <a:ext cx="77040" cy="77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8" name=""/>
            <p:cNvGrpSpPr/>
            <p:nvPr/>
          </p:nvGrpSpPr>
          <p:grpSpPr>
            <a:xfrm>
              <a:off x="1354320" y="4114440"/>
              <a:ext cx="2531160" cy="77400"/>
              <a:chOff x="1354320" y="4114440"/>
              <a:chExt cx="2531160" cy="77400"/>
            </a:xfrm>
          </p:grpSpPr>
          <p:sp>
            <p:nvSpPr>
              <p:cNvPr id="3189" name=""/>
              <p:cNvSpPr/>
              <p:nvPr/>
            </p:nvSpPr>
            <p:spPr>
              <a:xfrm>
                <a:off x="1354320" y="4180320"/>
                <a:ext cx="249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3808440" y="4114080"/>
                <a:ext cx="77040" cy="77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1" name=""/>
          <p:cNvSpPr/>
          <p:nvPr/>
        </p:nvSpPr>
        <p:spPr>
          <a:xfrm>
            <a:off x="457200" y="3565440"/>
            <a:ext cx="319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输出电压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2" name=""/>
          <p:cNvGrpSpPr/>
          <p:nvPr/>
        </p:nvGrpSpPr>
        <p:grpSpPr>
          <a:xfrm>
            <a:off x="4800600" y="5089680"/>
            <a:ext cx="3309840" cy="723600"/>
            <a:chOff x="4800600" y="5089680"/>
            <a:chExt cx="3309840" cy="723600"/>
          </a:xfrm>
        </p:grpSpPr>
        <p:sp>
          <p:nvSpPr>
            <p:cNvPr id="3193" name=""/>
            <p:cNvSpPr/>
            <p:nvPr/>
          </p:nvSpPr>
          <p:spPr>
            <a:xfrm>
              <a:off x="5170320" y="5241960"/>
              <a:ext cx="0" cy="571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4" name=""/>
            <p:cNvGrpSpPr/>
            <p:nvPr/>
          </p:nvGrpSpPr>
          <p:grpSpPr>
            <a:xfrm>
              <a:off x="4800600" y="5089680"/>
              <a:ext cx="3309840" cy="723600"/>
              <a:chOff x="4800600" y="5089680"/>
              <a:chExt cx="3309840" cy="723600"/>
            </a:xfrm>
          </p:grpSpPr>
          <p:sp>
            <p:nvSpPr>
              <p:cNvPr id="3195" name=""/>
              <p:cNvSpPr/>
              <p:nvPr/>
            </p:nvSpPr>
            <p:spPr>
              <a:xfrm flipV="1">
                <a:off x="6477120" y="5776920"/>
                <a:ext cx="380880" cy="1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800600" y="5775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7" name=""/>
              <p:cNvGrpSpPr/>
              <p:nvPr/>
            </p:nvGrpSpPr>
            <p:grpSpPr>
              <a:xfrm>
                <a:off x="6857640" y="5105520"/>
                <a:ext cx="1219680" cy="685800"/>
                <a:chOff x="6857640" y="5105520"/>
                <a:chExt cx="1219680" cy="685800"/>
              </a:xfrm>
            </p:grpSpPr>
            <p:sp>
              <p:nvSpPr>
                <p:cNvPr id="3198" name=""/>
                <p:cNvSpPr/>
                <p:nvPr/>
              </p:nvSpPr>
              <p:spPr>
                <a:xfrm flipH="1">
                  <a:off x="6857640" y="5181480"/>
                  <a:ext cx="228600" cy="2286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 flipH="1">
                  <a:off x="6858000" y="5105520"/>
                  <a:ext cx="457200" cy="45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 flipH="1">
                  <a:off x="6858000" y="5181480"/>
                  <a:ext cx="533520" cy="5335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 flipH="1">
                  <a:off x="6933960" y="5181480"/>
                  <a:ext cx="609480" cy="6098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 flipH="1">
                  <a:off x="7086600" y="5257800"/>
                  <a:ext cx="533520" cy="5335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 flipH="1">
                  <a:off x="7239240" y="5334120"/>
                  <a:ext cx="457200" cy="45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 flipH="1">
                  <a:off x="7391520" y="5410080"/>
                  <a:ext cx="380880" cy="3812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 flipH="1">
                  <a:off x="7543440" y="5486400"/>
                  <a:ext cx="304920" cy="3049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 flipH="1">
                  <a:off x="7696080" y="5562720"/>
                  <a:ext cx="228600" cy="2286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 flipH="1">
                  <a:off x="7848360" y="5638680"/>
                  <a:ext cx="152280" cy="1526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 flipH="1">
                  <a:off x="8001000" y="5715000"/>
                  <a:ext cx="76320" cy="763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9" name=""/>
              <p:cNvSpPr/>
              <p:nvPr/>
            </p:nvSpPr>
            <p:spPr>
              <a:xfrm>
                <a:off x="6815160" y="5089680"/>
                <a:ext cx="1295280" cy="72360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840360" y="5241960"/>
                <a:ext cx="0" cy="571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1" name=""/>
              <p:cNvGrpSpPr/>
              <p:nvPr/>
            </p:nvGrpSpPr>
            <p:grpSpPr>
              <a:xfrm>
                <a:off x="5181120" y="5105520"/>
                <a:ext cx="1219680" cy="685800"/>
                <a:chOff x="5181120" y="5105520"/>
                <a:chExt cx="1219680" cy="685800"/>
              </a:xfrm>
            </p:grpSpPr>
            <p:sp>
              <p:nvSpPr>
                <p:cNvPr id="3212" name=""/>
                <p:cNvSpPr/>
                <p:nvPr/>
              </p:nvSpPr>
              <p:spPr>
                <a:xfrm flipH="1">
                  <a:off x="5181120" y="5181480"/>
                  <a:ext cx="228600" cy="2286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 flipH="1">
                  <a:off x="5181480" y="5105520"/>
                  <a:ext cx="457200" cy="45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 flipH="1">
                  <a:off x="5181480" y="5181480"/>
                  <a:ext cx="533520" cy="5335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 flipH="1">
                  <a:off x="5257440" y="5181480"/>
                  <a:ext cx="609480" cy="6098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 flipH="1">
                  <a:off x="5410080" y="5257800"/>
                  <a:ext cx="533520" cy="5335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 flipH="1">
                  <a:off x="5562720" y="5334120"/>
                  <a:ext cx="457200" cy="45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 flipH="1">
                  <a:off x="5715000" y="5410080"/>
                  <a:ext cx="380880" cy="3812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 flipH="1">
                  <a:off x="5866920" y="5486400"/>
                  <a:ext cx="304920" cy="3049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 flipH="1">
                  <a:off x="6019560" y="5562720"/>
                  <a:ext cx="228600" cy="2286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 flipH="1">
                  <a:off x="6171840" y="5638680"/>
                  <a:ext cx="152280" cy="1526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 flipH="1">
                  <a:off x="6324480" y="5715000"/>
                  <a:ext cx="76320" cy="763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3" name=""/>
              <p:cNvSpPr/>
              <p:nvPr/>
            </p:nvSpPr>
            <p:spPr>
              <a:xfrm>
                <a:off x="5181480" y="5089680"/>
                <a:ext cx="1295640" cy="72360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4" name=""/>
          <p:cNvSpPr/>
          <p:nvPr/>
        </p:nvSpPr>
        <p:spPr>
          <a:xfrm>
            <a:off x="442188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442188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6" name=""/>
          <p:cNvGrpSpPr/>
          <p:nvPr/>
        </p:nvGrpSpPr>
        <p:grpSpPr>
          <a:xfrm>
            <a:off x="4222800" y="304920"/>
            <a:ext cx="4657680" cy="1663560"/>
            <a:chOff x="4222800" y="304920"/>
            <a:chExt cx="4657680" cy="1663560"/>
          </a:xfrm>
        </p:grpSpPr>
        <p:sp>
          <p:nvSpPr>
            <p:cNvPr id="3227" name=""/>
            <p:cNvSpPr/>
            <p:nvPr/>
          </p:nvSpPr>
          <p:spPr>
            <a:xfrm flipV="1">
              <a:off x="4819680" y="837720"/>
              <a:ext cx="3409920" cy="17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222800" y="526680"/>
              <a:ext cx="5540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9" name=""/>
            <p:cNvGrpSpPr/>
            <p:nvPr/>
          </p:nvGrpSpPr>
          <p:grpSpPr>
            <a:xfrm>
              <a:off x="4800600" y="865080"/>
              <a:ext cx="1600200" cy="666720"/>
              <a:chOff x="4800600" y="865080"/>
              <a:chExt cx="1600200" cy="666720"/>
            </a:xfrm>
          </p:grpSpPr>
          <p:sp>
            <p:nvSpPr>
              <p:cNvPr id="3230" name=""/>
              <p:cNvSpPr/>
              <p:nvPr/>
            </p:nvSpPr>
            <p:spPr>
              <a:xfrm>
                <a:off x="5167440" y="874800"/>
                <a:ext cx="87444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4800600" y="873000"/>
                <a:ext cx="380880" cy="65880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>
                <a:off x="6019920" y="865080"/>
                <a:ext cx="380880" cy="65880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3" name=""/>
            <p:cNvGrpSpPr/>
            <p:nvPr/>
          </p:nvGrpSpPr>
          <p:grpSpPr>
            <a:xfrm>
              <a:off x="6437160" y="838080"/>
              <a:ext cx="1639800" cy="682560"/>
              <a:chOff x="6437160" y="838080"/>
              <a:chExt cx="1639800" cy="682560"/>
            </a:xfrm>
          </p:grpSpPr>
          <p:sp>
            <p:nvSpPr>
              <p:cNvPr id="3234" name=""/>
              <p:cNvSpPr/>
              <p:nvPr/>
            </p:nvSpPr>
            <p:spPr>
              <a:xfrm>
                <a:off x="6813000" y="847800"/>
                <a:ext cx="89604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37160" y="846000"/>
                <a:ext cx="390240" cy="6746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H="1">
                <a:off x="7686720" y="838080"/>
                <a:ext cx="390240" cy="6746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7" name=""/>
            <p:cNvGrpSpPr/>
            <p:nvPr/>
          </p:nvGrpSpPr>
          <p:grpSpPr>
            <a:xfrm>
              <a:off x="4474080" y="304920"/>
              <a:ext cx="4406400" cy="1663560"/>
              <a:chOff x="4474080" y="304920"/>
              <a:chExt cx="4406400" cy="1663560"/>
            </a:xfrm>
          </p:grpSpPr>
          <p:grpSp>
            <p:nvGrpSpPr>
              <p:cNvPr id="3238" name=""/>
              <p:cNvGrpSpPr/>
              <p:nvPr/>
            </p:nvGrpSpPr>
            <p:grpSpPr>
              <a:xfrm>
                <a:off x="4800600" y="304920"/>
                <a:ext cx="4079880" cy="1663560"/>
                <a:chOff x="4800600" y="304920"/>
                <a:chExt cx="4079880" cy="16635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239" name=""/>
                    <p:cNvSpPr txBox="1"/>
                    <p:nvPr/>
                  </p:nvSpPr>
                  <p:spPr>
                    <a:xfrm>
                      <a:off x="4876200" y="304920"/>
                      <a:ext cx="504360" cy="60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ο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3240" name=""/>
                <p:cNvGrpSpPr/>
                <p:nvPr/>
              </p:nvGrpSpPr>
              <p:grpSpPr>
                <a:xfrm>
                  <a:off x="4800600" y="456840"/>
                  <a:ext cx="4079880" cy="1511640"/>
                  <a:chOff x="4800600" y="456840"/>
                  <a:chExt cx="4079880" cy="1511640"/>
                </a:xfrm>
              </p:grpSpPr>
              <p:sp>
                <p:nvSpPr>
                  <p:cNvPr id="3241" name=""/>
                  <p:cNvSpPr/>
                  <p:nvPr/>
                </p:nvSpPr>
                <p:spPr>
                  <a:xfrm>
                    <a:off x="8357040" y="1447920"/>
                    <a:ext cx="523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t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>
                    <a:off x="4800600" y="1523880"/>
                    <a:ext cx="4050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 flipV="1">
                    <a:off x="4800600" y="456840"/>
                    <a:ext cx="0" cy="1074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4" name=""/>
              <p:cNvSpPr/>
              <p:nvPr/>
            </p:nvSpPr>
            <p:spPr>
              <a:xfrm>
                <a:off x="4474080" y="1295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5" name=""/>
          <p:cNvGrpSpPr/>
          <p:nvPr/>
        </p:nvGrpSpPr>
        <p:grpSpPr>
          <a:xfrm>
            <a:off x="4398120" y="1905120"/>
            <a:ext cx="4515480" cy="1510920"/>
            <a:chOff x="4398120" y="1905120"/>
            <a:chExt cx="4515480" cy="1510920"/>
          </a:xfrm>
        </p:grpSpPr>
        <p:grpSp>
          <p:nvGrpSpPr>
            <p:cNvPr id="3246" name=""/>
            <p:cNvGrpSpPr/>
            <p:nvPr/>
          </p:nvGrpSpPr>
          <p:grpSpPr>
            <a:xfrm>
              <a:off x="4778280" y="1905120"/>
              <a:ext cx="4135320" cy="1510920"/>
              <a:chOff x="4778280" y="1905120"/>
              <a:chExt cx="4135320" cy="1510920"/>
            </a:xfrm>
          </p:grpSpPr>
          <p:sp>
            <p:nvSpPr>
              <p:cNvPr id="3247" name=""/>
              <p:cNvSpPr/>
              <p:nvPr/>
            </p:nvSpPr>
            <p:spPr>
              <a:xfrm>
                <a:off x="8390160" y="2895480"/>
                <a:ext cx="5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78280" y="2971440"/>
                <a:ext cx="41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V="1">
                <a:off x="4778280" y="1905120"/>
                <a:ext cx="0" cy="107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4398120" y="281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"/>
          <p:cNvSpPr/>
          <p:nvPr/>
        </p:nvSpPr>
        <p:spPr>
          <a:xfrm>
            <a:off x="3051000" y="196200"/>
            <a:ext cx="23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问 题 讨 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533520" y="728640"/>
            <a:ext cx="7924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单结管触发的可控整流电路中，主电路和触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路为什么接在同一个变压器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533520" y="2146320"/>
            <a:ext cx="8188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目的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主电路和触发电路的电源电压同时过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两者同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电容在每半个周期均从零开始充电，从而保证每半个周期的第一个触发脉冲出现的时刻相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一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使输出平均电压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1809000" y="35805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触发电路中，整流后为什么加稳压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533520" y="4273560"/>
            <a:ext cx="85341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稳压管的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将整流后的电压变成梯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削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单结管两端电压稳定在稳压管的稳压值上，从而保证单结管产生的脉冲幅度和每半个周期产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脉冲的时间，不受交流电源电压变化的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"/>
          <p:cNvSpPr/>
          <p:nvPr/>
        </p:nvSpPr>
        <p:spPr>
          <a:xfrm>
            <a:off x="649440" y="723960"/>
            <a:ext cx="80373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一系列触发脉冲中，为什么只有第一个起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如何改变控制角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609480" y="2456640"/>
            <a:ext cx="8153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晶闸管的特性，它一旦触发导通，在阳极电压足够大的条件下，即使去掉触发信号，仍能维持导通状态。因此，每半个周期中只有第一个触发脉冲起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2115720" y="3657600"/>
            <a:ext cx="3818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变充电时间常数即可改变控制角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控制角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变化的范围称为移相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928440" y="464760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压的调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0" name=""/>
          <p:cNvGrpSpPr/>
          <p:nvPr/>
        </p:nvGrpSpPr>
        <p:grpSpPr>
          <a:xfrm>
            <a:off x="1465200" y="5070960"/>
            <a:ext cx="6383160" cy="703440"/>
            <a:chOff x="1465200" y="5070960"/>
            <a:chExt cx="6383160" cy="703440"/>
          </a:xfrm>
        </p:grpSpPr>
        <p:sp>
          <p:nvSpPr>
            <p:cNvPr id="3261" name=""/>
            <p:cNvSpPr/>
            <p:nvPr/>
          </p:nvSpPr>
          <p:spPr>
            <a:xfrm>
              <a:off x="1465200" y="5253840"/>
              <a:ext cx="66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028600" y="5246640"/>
              <a:ext cx="0" cy="4377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209680" y="5457600"/>
              <a:ext cx="419040" cy="74160"/>
            </a:xfrm>
            <a:prstGeom prst="rightArrow">
              <a:avLst>
                <a:gd name="adj1" fmla="val 50000"/>
                <a:gd name="adj2" fmla="val 141262"/>
              </a:avLst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015720" y="5234760"/>
              <a:ext cx="206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容充电速度变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638680" y="5456160"/>
              <a:ext cx="419040" cy="74160"/>
            </a:xfrm>
            <a:prstGeom prst="rightArrow">
              <a:avLst>
                <a:gd name="adj1" fmla="val 50000"/>
                <a:gd name="adj2" fmla="val 141262"/>
              </a:avLst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097320" y="51649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629040" y="5227560"/>
              <a:ext cx="0" cy="4377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241400" y="5070960"/>
              <a:ext cx="53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33cc"/>
                  </a:solidFill>
                  <a:latin typeface="宋体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848360" y="5170320"/>
              <a:ext cx="0" cy="4377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6781680" y="5456160"/>
              <a:ext cx="419040" cy="74160"/>
            </a:xfrm>
            <a:prstGeom prst="rightArrow">
              <a:avLst>
                <a:gd name="adj1" fmla="val 50000"/>
                <a:gd name="adj2" fmla="val 141262"/>
              </a:avLst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"/>
          <p:cNvSpPr/>
          <p:nvPr/>
        </p:nvSpPr>
        <p:spPr>
          <a:xfrm>
            <a:off x="3657960" y="3597120"/>
            <a:ext cx="164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c00"/>
                </a:solidFill>
                <a:latin typeface="宋体"/>
              </a:rPr>
              <a:t>单结晶体管触发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2" name=""/>
          <p:cNvGrpSpPr/>
          <p:nvPr/>
        </p:nvGrpSpPr>
        <p:grpSpPr>
          <a:xfrm>
            <a:off x="609480" y="457200"/>
            <a:ext cx="8202600" cy="2976480"/>
            <a:chOff x="609480" y="457200"/>
            <a:chExt cx="8202600" cy="2976480"/>
          </a:xfrm>
        </p:grpSpPr>
        <p:sp>
          <p:nvSpPr>
            <p:cNvPr id="3273" name=""/>
            <p:cNvSpPr/>
            <p:nvPr/>
          </p:nvSpPr>
          <p:spPr>
            <a:xfrm>
              <a:off x="8474040" y="1357200"/>
              <a:ext cx="1800" cy="20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 flipH="1">
              <a:off x="7302240" y="3432240"/>
              <a:ext cx="1197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7316640" y="3123720"/>
              <a:ext cx="1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316640" y="2468520"/>
              <a:ext cx="104472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1837800" y="3429000"/>
              <a:ext cx="5226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1838160" y="2168640"/>
              <a:ext cx="1800" cy="12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2943360" y="847440"/>
              <a:ext cx="1440" cy="132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943360" y="847800"/>
              <a:ext cx="379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064280" y="847800"/>
              <a:ext cx="180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027320" y="847800"/>
              <a:ext cx="1800" cy="25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372280" y="836640"/>
              <a:ext cx="468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V="1">
              <a:off x="6226200" y="297180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90760" y="2720880"/>
              <a:ext cx="1440" cy="4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H="1">
              <a:off x="1550520" y="3130560"/>
              <a:ext cx="839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V="1">
              <a:off x="1550880" y="2406240"/>
              <a:ext cx="1800" cy="7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550880" y="1290600"/>
              <a:ext cx="839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390760" y="1290600"/>
              <a:ext cx="144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1838160" y="1616040"/>
              <a:ext cx="1105200" cy="1104840"/>
            </a:xfrm>
            <a:custGeom>
              <a:avLst/>
              <a:gdLst/>
              <a:ahLst/>
              <a:rect l="l" t="t" r="r" b="b"/>
              <a:pathLst>
                <a:path w="699" h="700">
                  <a:moveTo>
                    <a:pt x="349" y="0"/>
                  </a:moveTo>
                  <a:lnTo>
                    <a:pt x="0" y="350"/>
                  </a:lnTo>
                  <a:lnTo>
                    <a:pt x="349" y="700"/>
                  </a:lnTo>
                  <a:lnTo>
                    <a:pt x="699" y="350"/>
                  </a:lnTo>
                  <a:lnTo>
                    <a:pt x="34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85800" y="3130560"/>
              <a:ext cx="600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V="1">
              <a:off x="1285920" y="2406240"/>
              <a:ext cx="1440" cy="7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H="1">
              <a:off x="685440" y="1290600"/>
              <a:ext cx="600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1285920" y="1930320"/>
              <a:ext cx="79200" cy="1587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0" y="101"/>
                  </a:moveTo>
                  <a:lnTo>
                    <a:pt x="35" y="85"/>
                  </a:lnTo>
                  <a:lnTo>
                    <a:pt x="50" y="50"/>
                  </a:lnTo>
                  <a:lnTo>
                    <a:pt x="35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1285920" y="2089080"/>
              <a:ext cx="79200" cy="158760"/>
            </a:xfrm>
            <a:custGeom>
              <a:avLst/>
              <a:gdLst/>
              <a:ahLst/>
              <a:rect l="l" t="t" r="r" b="b"/>
              <a:pathLst>
                <a:path w="50" h="100">
                  <a:moveTo>
                    <a:pt x="0" y="100"/>
                  </a:moveTo>
                  <a:lnTo>
                    <a:pt x="35" y="85"/>
                  </a:lnTo>
                  <a:lnTo>
                    <a:pt x="50" y="50"/>
                  </a:lnTo>
                  <a:lnTo>
                    <a:pt x="35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285920" y="2247840"/>
              <a:ext cx="79200" cy="1587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0" y="101"/>
                  </a:moveTo>
                  <a:lnTo>
                    <a:pt x="35" y="86"/>
                  </a:lnTo>
                  <a:lnTo>
                    <a:pt x="50" y="51"/>
                  </a:lnTo>
                  <a:lnTo>
                    <a:pt x="35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1285920" y="1290240"/>
              <a:ext cx="144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V="1">
              <a:off x="1419120" y="1839960"/>
              <a:ext cx="1800" cy="59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471680" y="2247840"/>
              <a:ext cx="79200" cy="1587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50" y="0"/>
                  </a:moveTo>
                  <a:lnTo>
                    <a:pt x="15" y="14"/>
                  </a:lnTo>
                  <a:lnTo>
                    <a:pt x="0" y="51"/>
                  </a:lnTo>
                  <a:lnTo>
                    <a:pt x="15" y="86"/>
                  </a:lnTo>
                  <a:lnTo>
                    <a:pt x="50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471680" y="1930320"/>
              <a:ext cx="79200" cy="1587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50" y="0"/>
                  </a:moveTo>
                  <a:lnTo>
                    <a:pt x="15" y="13"/>
                  </a:lnTo>
                  <a:lnTo>
                    <a:pt x="0" y="50"/>
                  </a:lnTo>
                  <a:lnTo>
                    <a:pt x="15" y="85"/>
                  </a:lnTo>
                  <a:lnTo>
                    <a:pt x="50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471680" y="2089080"/>
              <a:ext cx="79200" cy="158760"/>
            </a:xfrm>
            <a:custGeom>
              <a:avLst/>
              <a:gdLst/>
              <a:ahLst/>
              <a:rect l="l" t="t" r="r" b="b"/>
              <a:pathLst>
                <a:path w="50" h="100">
                  <a:moveTo>
                    <a:pt x="50" y="0"/>
                  </a:moveTo>
                  <a:lnTo>
                    <a:pt x="15" y="13"/>
                  </a:lnTo>
                  <a:lnTo>
                    <a:pt x="0" y="50"/>
                  </a:lnTo>
                  <a:lnTo>
                    <a:pt x="15" y="85"/>
                  </a:lnTo>
                  <a:lnTo>
                    <a:pt x="50" y="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 flipV="1">
              <a:off x="1550880" y="1290240"/>
              <a:ext cx="180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7189920" y="2666880"/>
              <a:ext cx="1440" cy="51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064280" y="2685960"/>
              <a:ext cx="79560" cy="1587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0" y="101"/>
                  </a:moveTo>
                  <a:lnTo>
                    <a:pt x="35" y="87"/>
                  </a:lnTo>
                  <a:lnTo>
                    <a:pt x="50" y="50"/>
                  </a:lnTo>
                  <a:lnTo>
                    <a:pt x="35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064280" y="2844720"/>
              <a:ext cx="79560" cy="1605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0" y="101"/>
                  </a:moveTo>
                  <a:lnTo>
                    <a:pt x="35" y="87"/>
                  </a:lnTo>
                  <a:lnTo>
                    <a:pt x="50" y="50"/>
                  </a:lnTo>
                  <a:lnTo>
                    <a:pt x="35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237440" y="2685960"/>
              <a:ext cx="79200" cy="1587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50" y="0"/>
                  </a:moveTo>
                  <a:lnTo>
                    <a:pt x="15" y="15"/>
                  </a:lnTo>
                  <a:lnTo>
                    <a:pt x="0" y="50"/>
                  </a:lnTo>
                  <a:lnTo>
                    <a:pt x="15" y="86"/>
                  </a:lnTo>
                  <a:lnTo>
                    <a:pt x="50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237440" y="2844720"/>
              <a:ext cx="79200" cy="1605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50" y="0"/>
                  </a:moveTo>
                  <a:lnTo>
                    <a:pt x="15" y="15"/>
                  </a:lnTo>
                  <a:lnTo>
                    <a:pt x="0" y="50"/>
                  </a:lnTo>
                  <a:lnTo>
                    <a:pt x="15" y="86"/>
                  </a:lnTo>
                  <a:lnTo>
                    <a:pt x="50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066080" y="3124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7316640" y="2468160"/>
              <a:ext cx="1800" cy="19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103720" y="1935000"/>
              <a:ext cx="180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V="1">
              <a:off x="5103720" y="1906560"/>
              <a:ext cx="27000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103720" y="2214720"/>
              <a:ext cx="27000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 flipV="1">
              <a:off x="5103720" y="2136240"/>
              <a:ext cx="180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175360" y="2235240"/>
              <a:ext cx="198360" cy="135000"/>
            </a:xfrm>
            <a:custGeom>
              <a:avLst/>
              <a:gdLst/>
              <a:ahLst/>
              <a:rect l="l" t="t" r="r" b="b"/>
              <a:pathLst>
                <a:path w="126" h="86">
                  <a:moveTo>
                    <a:pt x="22" y="0"/>
                  </a:moveTo>
                  <a:lnTo>
                    <a:pt x="126" y="86"/>
                  </a:lnTo>
                  <a:lnTo>
                    <a:pt x="0" y="3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175360" y="2235240"/>
              <a:ext cx="198360" cy="135000"/>
            </a:xfrm>
            <a:custGeom>
              <a:avLst/>
              <a:gdLst/>
              <a:ahLst/>
              <a:rect l="l" t="t" r="r" b="b"/>
              <a:pathLst>
                <a:path w="126" h="86">
                  <a:moveTo>
                    <a:pt x="22" y="0"/>
                  </a:moveTo>
                  <a:lnTo>
                    <a:pt x="126" y="86"/>
                  </a:lnTo>
                  <a:lnTo>
                    <a:pt x="0" y="39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716360" y="173844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444200" y="22622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405680" y="266688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871160" y="2666880"/>
              <a:ext cx="40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452120" y="30243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373720" y="2370240"/>
              <a:ext cx="144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H="1">
              <a:off x="4532040" y="2136600"/>
              <a:ext cx="57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322960" y="2703600"/>
              <a:ext cx="101520" cy="345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373720" y="3048120"/>
              <a:ext cx="14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440240" y="209088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29"/>
                  </a:moveTo>
                  <a:lnTo>
                    <a:pt x="48" y="9"/>
                  </a:lnTo>
                  <a:lnTo>
                    <a:pt x="28" y="0"/>
                  </a:lnTo>
                  <a:lnTo>
                    <a:pt x="8" y="9"/>
                  </a:lnTo>
                  <a:lnTo>
                    <a:pt x="0" y="29"/>
                  </a:lnTo>
                  <a:lnTo>
                    <a:pt x="8" y="51"/>
                  </a:lnTo>
                  <a:lnTo>
                    <a:pt x="28" y="59"/>
                  </a:lnTo>
                  <a:lnTo>
                    <a:pt x="48" y="51"/>
                  </a:lnTo>
                  <a:lnTo>
                    <a:pt x="58" y="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818320" y="26463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V="1">
              <a:off x="6226200" y="1947960"/>
              <a:ext cx="1440" cy="9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H="1">
              <a:off x="5384520" y="1714680"/>
              <a:ext cx="569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954760" y="1790640"/>
              <a:ext cx="271440" cy="15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954760" y="1501920"/>
              <a:ext cx="201600" cy="136440"/>
            </a:xfrm>
            <a:custGeom>
              <a:avLst/>
              <a:gdLst/>
              <a:ahLst/>
              <a:rect l="l" t="t" r="r" b="b"/>
              <a:pathLst>
                <a:path w="128" h="87">
                  <a:moveTo>
                    <a:pt x="128" y="39"/>
                  </a:moveTo>
                  <a:lnTo>
                    <a:pt x="0" y="87"/>
                  </a:lnTo>
                  <a:lnTo>
                    <a:pt x="106" y="0"/>
                  </a:lnTo>
                  <a:lnTo>
                    <a:pt x="128" y="3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954760" y="1501920"/>
              <a:ext cx="201600" cy="136440"/>
            </a:xfrm>
            <a:custGeom>
              <a:avLst/>
              <a:gdLst/>
              <a:ahLst/>
              <a:rect l="l" t="t" r="r" b="b"/>
              <a:pathLst>
                <a:path w="128" h="87">
                  <a:moveTo>
                    <a:pt x="128" y="39"/>
                  </a:moveTo>
                  <a:lnTo>
                    <a:pt x="0" y="87"/>
                  </a:lnTo>
                  <a:lnTo>
                    <a:pt x="106" y="0"/>
                  </a:lnTo>
                  <a:lnTo>
                    <a:pt x="128" y="39"/>
                  </a:lnTo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5621400" y="133200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884480" y="1054080"/>
              <a:ext cx="419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363360" y="1019160"/>
              <a:ext cx="40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188120" y="128268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H="1">
              <a:off x="5954760" y="1481040"/>
              <a:ext cx="271440" cy="15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5954760" y="1714680"/>
              <a:ext cx="1440" cy="20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954760" y="1512720"/>
              <a:ext cx="1440" cy="2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322960" y="1104840"/>
              <a:ext cx="101520" cy="343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413320" y="847800"/>
              <a:ext cx="16509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373720" y="1433520"/>
              <a:ext cx="144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175440" y="1033560"/>
              <a:ext cx="102960" cy="34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V="1">
              <a:off x="6226200" y="847800"/>
              <a:ext cx="144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015320" y="1284120"/>
              <a:ext cx="99720" cy="33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064280" y="1600200"/>
              <a:ext cx="1800" cy="49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 flipV="1">
              <a:off x="6226200" y="1375920"/>
              <a:ext cx="144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843600" y="1987560"/>
              <a:ext cx="180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6843600" y="2362320"/>
              <a:ext cx="220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843600" y="2077920"/>
              <a:ext cx="220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653160" y="2152800"/>
              <a:ext cx="190440" cy="15372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0" y="62"/>
                  </a:moveTo>
                  <a:lnTo>
                    <a:pt x="121" y="0"/>
                  </a:lnTo>
                  <a:lnTo>
                    <a:pt x="27" y="98"/>
                  </a:lnTo>
                  <a:lnTo>
                    <a:pt x="0" y="62"/>
                  </a:lnTo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072200" y="201924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520120" y="160488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523280" y="1844640"/>
              <a:ext cx="471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063280" y="268272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H="1">
              <a:off x="6475320" y="2279520"/>
              <a:ext cx="2001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6226200" y="2424240"/>
              <a:ext cx="249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7064280" y="2362320"/>
              <a:ext cx="1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8" name=""/>
            <p:cNvGrpSpPr/>
            <p:nvPr/>
          </p:nvGrpSpPr>
          <p:grpSpPr>
            <a:xfrm>
              <a:off x="7521480" y="2308320"/>
              <a:ext cx="179280" cy="286920"/>
              <a:chOff x="7521480" y="2308320"/>
              <a:chExt cx="179280" cy="286920"/>
            </a:xfrm>
          </p:grpSpPr>
          <p:sp>
            <p:nvSpPr>
              <p:cNvPr id="3359" name=""/>
              <p:cNvSpPr/>
              <p:nvPr/>
            </p:nvSpPr>
            <p:spPr>
              <a:xfrm>
                <a:off x="7698960" y="2308320"/>
                <a:ext cx="1800" cy="2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521480" y="2344680"/>
                <a:ext cx="177480" cy="219240"/>
              </a:xfrm>
              <a:custGeom>
                <a:avLst/>
                <a:gdLst/>
                <a:ahLst/>
                <a:rect l="l" t="t" r="r" b="b"/>
                <a:pathLst>
                  <a:path w="97" h="120">
                    <a:moveTo>
                      <a:pt x="0" y="0"/>
                    </a:moveTo>
                    <a:lnTo>
                      <a:pt x="0" y="120"/>
                    </a:lnTo>
                    <a:lnTo>
                      <a:pt x="97" y="59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1" name=""/>
            <p:cNvSpPr/>
            <p:nvPr/>
          </p:nvSpPr>
          <p:spPr>
            <a:xfrm flipV="1">
              <a:off x="7897680" y="2438280"/>
              <a:ext cx="18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2" name=""/>
            <p:cNvGrpSpPr/>
            <p:nvPr/>
          </p:nvGrpSpPr>
          <p:grpSpPr>
            <a:xfrm>
              <a:off x="7765920" y="2844720"/>
              <a:ext cx="253800" cy="203040"/>
              <a:chOff x="7765920" y="2844720"/>
              <a:chExt cx="253800" cy="203040"/>
            </a:xfrm>
          </p:grpSpPr>
          <p:sp>
            <p:nvSpPr>
              <p:cNvPr id="3363" name=""/>
              <p:cNvSpPr/>
              <p:nvPr/>
            </p:nvSpPr>
            <p:spPr>
              <a:xfrm>
                <a:off x="7774560" y="2844720"/>
                <a:ext cx="239040" cy="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765920" y="2844720"/>
                <a:ext cx="253800" cy="203040"/>
              </a:xfrm>
              <a:custGeom>
                <a:avLst/>
                <a:gdLst/>
                <a:ahLst/>
                <a:rect l="l" t="t" r="r" b="b"/>
                <a:pathLst>
                  <a:path w="121" h="97">
                    <a:moveTo>
                      <a:pt x="0" y="97"/>
                    </a:moveTo>
                    <a:lnTo>
                      <a:pt x="121" y="97"/>
                    </a:lnTo>
                    <a:lnTo>
                      <a:pt x="61" y="0"/>
                    </a:lnTo>
                    <a:lnTo>
                      <a:pt x="0" y="9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5" name=""/>
            <p:cNvSpPr/>
            <p:nvPr/>
          </p:nvSpPr>
          <p:spPr>
            <a:xfrm>
              <a:off x="8317080" y="2192400"/>
              <a:ext cx="272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332920" y="1962000"/>
              <a:ext cx="284040" cy="230400"/>
            </a:xfrm>
            <a:custGeom>
              <a:avLst/>
              <a:gdLst/>
              <a:ahLst/>
              <a:rect l="l" t="t" r="r" b="b"/>
              <a:pathLst>
                <a:path w="180" h="145">
                  <a:moveTo>
                    <a:pt x="0" y="0"/>
                  </a:moveTo>
                  <a:lnTo>
                    <a:pt x="180" y="0"/>
                  </a:lnTo>
                  <a:lnTo>
                    <a:pt x="89" y="14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7" name=""/>
            <p:cNvGrpSpPr/>
            <p:nvPr/>
          </p:nvGrpSpPr>
          <p:grpSpPr>
            <a:xfrm>
              <a:off x="6929280" y="2657520"/>
              <a:ext cx="86040" cy="85680"/>
              <a:chOff x="6929280" y="2657520"/>
              <a:chExt cx="86040" cy="85680"/>
            </a:xfrm>
          </p:grpSpPr>
          <p:sp>
            <p:nvSpPr>
              <p:cNvPr id="3368" name=""/>
              <p:cNvSpPr/>
              <p:nvPr/>
            </p:nvSpPr>
            <p:spPr>
              <a:xfrm>
                <a:off x="6972480" y="267192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18"/>
                    </a:moveTo>
                    <a:lnTo>
                      <a:pt x="18" y="0"/>
                    </a:lnTo>
                    <a:lnTo>
                      <a:pt x="0" y="18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972480" y="267192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18"/>
                    </a:moveTo>
                    <a:lnTo>
                      <a:pt x="18" y="0"/>
                    </a:lnTo>
                    <a:lnTo>
                      <a:pt x="0" y="18"/>
                    </a:lnTo>
                    <a:lnTo>
                      <a:pt x="27" y="18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972480" y="265752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9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972480" y="265752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9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8" y="9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942240" y="265752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9" y="0"/>
                    </a:moveTo>
                    <a:lnTo>
                      <a:pt x="0" y="9"/>
                    </a:lnTo>
                    <a:lnTo>
                      <a:pt x="19" y="2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942240" y="265752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9" y="0"/>
                    </a:moveTo>
                    <a:lnTo>
                      <a:pt x="0" y="9"/>
                    </a:lnTo>
                    <a:lnTo>
                      <a:pt x="19" y="2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929280" y="2671920"/>
                <a:ext cx="4320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8" y="0"/>
                    </a:moveTo>
                    <a:lnTo>
                      <a:pt x="0" y="18"/>
                    </a:lnTo>
                    <a:lnTo>
                      <a:pt x="27" y="1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929280" y="2671920"/>
                <a:ext cx="4320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8" y="0"/>
                    </a:moveTo>
                    <a:lnTo>
                      <a:pt x="0" y="18"/>
                    </a:lnTo>
                    <a:lnTo>
                      <a:pt x="27" y="1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929280" y="2700360"/>
                <a:ext cx="4320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8" y="19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929280" y="2700360"/>
                <a:ext cx="4320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8" y="19"/>
                    </a:ln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942240" y="270036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19"/>
                    </a:moveTo>
                    <a:lnTo>
                      <a:pt x="19" y="27"/>
                    </a:lnTo>
                    <a:lnTo>
                      <a:pt x="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942240" y="270036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19"/>
                    </a:moveTo>
                    <a:lnTo>
                      <a:pt x="19" y="27"/>
                    </a:lnTo>
                    <a:lnTo>
                      <a:pt x="19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972480" y="270036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7"/>
                    </a:moveTo>
                    <a:lnTo>
                      <a:pt x="18" y="19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972480" y="270036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7"/>
                    </a:moveTo>
                    <a:lnTo>
                      <a:pt x="18" y="19"/>
                    </a:lnTo>
                    <a:lnTo>
                      <a:pt x="0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972480" y="270036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18" y="19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972480" y="270036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18" y="19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8" y="19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7362720" y="2657520"/>
              <a:ext cx="83880" cy="85680"/>
              <a:chOff x="7362720" y="2657520"/>
              <a:chExt cx="83880" cy="85680"/>
            </a:xfrm>
          </p:grpSpPr>
          <p:sp>
            <p:nvSpPr>
              <p:cNvPr id="3385" name=""/>
              <p:cNvSpPr/>
              <p:nvPr/>
            </p:nvSpPr>
            <p:spPr>
              <a:xfrm>
                <a:off x="7403760" y="267192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18"/>
                    </a:moveTo>
                    <a:lnTo>
                      <a:pt x="20" y="0"/>
                    </a:lnTo>
                    <a:lnTo>
                      <a:pt x="0" y="18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403760" y="267192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18"/>
                    </a:moveTo>
                    <a:lnTo>
                      <a:pt x="20" y="0"/>
                    </a:lnTo>
                    <a:lnTo>
                      <a:pt x="0" y="18"/>
                    </a:lnTo>
                    <a:lnTo>
                      <a:pt x="27" y="18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403760" y="265752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9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403760" y="265752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9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375320" y="265752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9" y="0"/>
                    </a:moveTo>
                    <a:lnTo>
                      <a:pt x="0" y="9"/>
                    </a:lnTo>
                    <a:lnTo>
                      <a:pt x="19" y="2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375320" y="265752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9" y="0"/>
                    </a:moveTo>
                    <a:lnTo>
                      <a:pt x="0" y="9"/>
                    </a:lnTo>
                    <a:lnTo>
                      <a:pt x="19" y="2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362720" y="2671920"/>
                <a:ext cx="410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8" y="0"/>
                    </a:moveTo>
                    <a:lnTo>
                      <a:pt x="0" y="18"/>
                    </a:lnTo>
                    <a:lnTo>
                      <a:pt x="27" y="1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362720" y="2671920"/>
                <a:ext cx="410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8" y="0"/>
                    </a:moveTo>
                    <a:lnTo>
                      <a:pt x="0" y="18"/>
                    </a:lnTo>
                    <a:lnTo>
                      <a:pt x="27" y="1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362720" y="27003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8" y="19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375320" y="270036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19"/>
                    </a:moveTo>
                    <a:lnTo>
                      <a:pt x="19" y="27"/>
                    </a:lnTo>
                    <a:lnTo>
                      <a:pt x="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375320" y="270036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19"/>
                    </a:moveTo>
                    <a:lnTo>
                      <a:pt x="19" y="27"/>
                    </a:lnTo>
                    <a:lnTo>
                      <a:pt x="19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403760" y="27003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7"/>
                    </a:moveTo>
                    <a:lnTo>
                      <a:pt x="20" y="19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403760" y="27003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7"/>
                    </a:moveTo>
                    <a:lnTo>
                      <a:pt x="20" y="19"/>
                    </a:lnTo>
                    <a:lnTo>
                      <a:pt x="0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3503160" y="1943280"/>
              <a:ext cx="337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92640" y="4572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895560" y="2031840"/>
              <a:ext cx="268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887640" y="2031840"/>
              <a:ext cx="284400" cy="231840"/>
            </a:xfrm>
            <a:custGeom>
              <a:avLst/>
              <a:gdLst/>
              <a:ahLst/>
              <a:rect l="l" t="t" r="r" b="b"/>
              <a:pathLst>
                <a:path w="180" h="146">
                  <a:moveTo>
                    <a:pt x="0" y="146"/>
                  </a:moveTo>
                  <a:lnTo>
                    <a:pt x="180" y="146"/>
                  </a:lnTo>
                  <a:lnTo>
                    <a:pt x="89" y="0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509920" y="2031840"/>
              <a:ext cx="1440" cy="2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279520" y="2023920"/>
              <a:ext cx="230400" cy="287640"/>
            </a:xfrm>
            <a:custGeom>
              <a:avLst/>
              <a:gdLst/>
              <a:ahLst/>
              <a:rect l="l" t="t" r="r" b="b"/>
              <a:pathLst>
                <a:path w="146" h="182">
                  <a:moveTo>
                    <a:pt x="0" y="0"/>
                  </a:moveTo>
                  <a:lnTo>
                    <a:pt x="0" y="182"/>
                  </a:lnTo>
                  <a:lnTo>
                    <a:pt x="146" y="9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164120" y="2031840"/>
              <a:ext cx="1440" cy="6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H="1">
              <a:off x="2066760" y="2168640"/>
              <a:ext cx="709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322800" y="798480"/>
              <a:ext cx="341280" cy="100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664080" y="847800"/>
              <a:ext cx="1774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095880" y="2895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6095880" y="2971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09480" y="12556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609480" y="30844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423280" y="12952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066080" y="2997360"/>
              <a:ext cx="79200" cy="16020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0" y="101"/>
                  </a:moveTo>
                  <a:lnTo>
                    <a:pt x="35" y="87"/>
                  </a:lnTo>
                  <a:lnTo>
                    <a:pt x="50" y="50"/>
                  </a:lnTo>
                  <a:lnTo>
                    <a:pt x="35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238880" y="2997360"/>
              <a:ext cx="79560" cy="16020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50" y="0"/>
                  </a:moveTo>
                  <a:lnTo>
                    <a:pt x="15" y="15"/>
                  </a:lnTo>
                  <a:lnTo>
                    <a:pt x="0" y="50"/>
                  </a:lnTo>
                  <a:lnTo>
                    <a:pt x="15" y="86"/>
                  </a:lnTo>
                  <a:lnTo>
                    <a:pt x="50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H="1">
              <a:off x="8326440" y="2220840"/>
              <a:ext cx="13176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6" name=""/>
          <p:cNvSpPr/>
          <p:nvPr/>
        </p:nvSpPr>
        <p:spPr>
          <a:xfrm>
            <a:off x="1824120" y="3962520"/>
            <a:ext cx="580068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脉冲可以直接从电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前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也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脉冲变压器输出。由于晶闸管控制极与阴极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允许的反向电压很小，为了防止反向击穿，在脉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副边串联二极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将反向电压隔开，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将反向电压短路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使用脉冲变压器的触发电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76312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1573200" y="228240"/>
            <a:ext cx="5284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0.5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应用举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565200" y="837720"/>
            <a:ext cx="39304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瓶充电机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2" name=""/>
          <p:cNvGrpSpPr/>
          <p:nvPr/>
        </p:nvGrpSpPr>
        <p:grpSpPr>
          <a:xfrm>
            <a:off x="-42480" y="879840"/>
            <a:ext cx="8800920" cy="4417200"/>
            <a:chOff x="-42480" y="879840"/>
            <a:chExt cx="8800920" cy="4417200"/>
          </a:xfrm>
        </p:grpSpPr>
        <p:sp>
          <p:nvSpPr>
            <p:cNvPr id="3423" name=""/>
            <p:cNvSpPr/>
            <p:nvPr/>
          </p:nvSpPr>
          <p:spPr>
            <a:xfrm>
              <a:off x="1582920" y="1506600"/>
              <a:ext cx="504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3287880" y="1972800"/>
              <a:ext cx="3012840" cy="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697720" y="3991680"/>
              <a:ext cx="0" cy="47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667320" y="2957760"/>
              <a:ext cx="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319800" y="1508400"/>
              <a:ext cx="7920" cy="316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937520" y="2047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284560" y="38613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2324160" y="3845880"/>
              <a:ext cx="179280" cy="29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324160" y="414072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519280" y="3861360"/>
              <a:ext cx="142920" cy="27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H="1">
              <a:off x="1627200" y="2058840"/>
              <a:ext cx="8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 flipH="1">
              <a:off x="4380120" y="3849120"/>
              <a:ext cx="115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3284640" y="2003760"/>
              <a:ext cx="0" cy="192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 flipH="1">
              <a:off x="2471400" y="347796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881600" y="2022120"/>
              <a:ext cx="0" cy="264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V="1">
              <a:off x="2492640" y="2040480"/>
              <a:ext cx="0" cy="262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546200" y="4674240"/>
              <a:ext cx="404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0" name=""/>
            <p:cNvGrpSpPr/>
            <p:nvPr/>
          </p:nvGrpSpPr>
          <p:grpSpPr>
            <a:xfrm>
              <a:off x="4719960" y="3908160"/>
              <a:ext cx="914040" cy="712080"/>
              <a:chOff x="4719960" y="3908160"/>
              <a:chExt cx="914040" cy="712080"/>
            </a:xfrm>
          </p:grpSpPr>
          <p:sp>
            <p:nvSpPr>
              <p:cNvPr id="3441" name=""/>
              <p:cNvSpPr/>
              <p:nvPr/>
            </p:nvSpPr>
            <p:spPr>
              <a:xfrm rot="5400000">
                <a:off x="5048280" y="4034520"/>
                <a:ext cx="2570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rot="5400000">
                <a:off x="5047560" y="3580560"/>
                <a:ext cx="2588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rot="5400000">
                <a:off x="5048280" y="3732840"/>
                <a:ext cx="2570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rot="5400000">
                <a:off x="5048280" y="3884760"/>
                <a:ext cx="2570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5" name=""/>
            <p:cNvSpPr/>
            <p:nvPr/>
          </p:nvSpPr>
          <p:spPr>
            <a:xfrm>
              <a:off x="5602320" y="454536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5386320" y="3982320"/>
              <a:ext cx="7488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907240" y="456840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926320" y="4674240"/>
              <a:ext cx="39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919840" y="1752120"/>
              <a:ext cx="6480" cy="219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5862600" y="1710720"/>
              <a:ext cx="74880" cy="7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5977080" y="3969360"/>
              <a:ext cx="745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2" name=""/>
            <p:cNvGrpSpPr/>
            <p:nvPr/>
          </p:nvGrpSpPr>
          <p:grpSpPr>
            <a:xfrm>
              <a:off x="5805720" y="3908160"/>
              <a:ext cx="914040" cy="712080"/>
              <a:chOff x="5805720" y="3908160"/>
              <a:chExt cx="914040" cy="712080"/>
            </a:xfrm>
          </p:grpSpPr>
          <p:sp>
            <p:nvSpPr>
              <p:cNvPr id="3453" name=""/>
              <p:cNvSpPr/>
              <p:nvPr/>
            </p:nvSpPr>
            <p:spPr>
              <a:xfrm flipH="1" rot="16200000">
                <a:off x="6133680" y="4034520"/>
                <a:ext cx="2570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H="1" rot="16200000">
                <a:off x="6132960" y="3580560"/>
                <a:ext cx="2588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H="1" rot="16200000">
                <a:off x="6133680" y="3732840"/>
                <a:ext cx="2570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flipH="1" rot="16200000">
                <a:off x="6133680" y="3884760"/>
                <a:ext cx="2570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7" name=""/>
            <p:cNvGrpSpPr/>
            <p:nvPr/>
          </p:nvGrpSpPr>
          <p:grpSpPr>
            <a:xfrm>
              <a:off x="3996000" y="3322800"/>
              <a:ext cx="407880" cy="489240"/>
              <a:chOff x="3996000" y="3322800"/>
              <a:chExt cx="407880" cy="489240"/>
            </a:xfrm>
          </p:grpSpPr>
          <p:sp>
            <p:nvSpPr>
              <p:cNvPr id="3458" name=""/>
              <p:cNvSpPr/>
              <p:nvPr/>
            </p:nvSpPr>
            <p:spPr>
              <a:xfrm>
                <a:off x="4202280" y="3322800"/>
                <a:ext cx="0" cy="489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3996000" y="3465360"/>
                <a:ext cx="206280" cy="19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4202280" y="3715200"/>
                <a:ext cx="201600" cy="1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4211640" y="3420720"/>
                <a:ext cx="19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2" name=""/>
            <p:cNvSpPr/>
            <p:nvPr/>
          </p:nvSpPr>
          <p:spPr>
            <a:xfrm>
              <a:off x="4402080" y="2970000"/>
              <a:ext cx="0" cy="45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4383360" y="375228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4" name=""/>
            <p:cNvGrpSpPr/>
            <p:nvPr/>
          </p:nvGrpSpPr>
          <p:grpSpPr>
            <a:xfrm>
              <a:off x="1443960" y="2430000"/>
              <a:ext cx="1332360" cy="1271520"/>
              <a:chOff x="1443960" y="2430000"/>
              <a:chExt cx="1332360" cy="1271520"/>
            </a:xfrm>
          </p:grpSpPr>
          <p:sp>
            <p:nvSpPr>
              <p:cNvPr id="3465" name=""/>
              <p:cNvSpPr/>
              <p:nvPr/>
            </p:nvSpPr>
            <p:spPr>
              <a:xfrm flipH="1" rot="16200000">
                <a:off x="1879920" y="2805480"/>
                <a:ext cx="45936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 flipH="1" rot="16200000">
                <a:off x="1878480" y="1994760"/>
                <a:ext cx="46224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flipH="1" rot="16200000">
                <a:off x="1879920" y="2266920"/>
                <a:ext cx="45936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flipH="1" rot="16200000">
                <a:off x="1879920" y="2538360"/>
                <a:ext cx="45936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9" name=""/>
            <p:cNvSpPr/>
            <p:nvPr/>
          </p:nvSpPr>
          <p:spPr>
            <a:xfrm>
              <a:off x="1602000" y="1506600"/>
              <a:ext cx="0" cy="101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563840" y="3586680"/>
              <a:ext cx="0" cy="169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374840" y="2603520"/>
              <a:ext cx="0" cy="93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2" name=""/>
            <p:cNvGrpSpPr/>
            <p:nvPr/>
          </p:nvGrpSpPr>
          <p:grpSpPr>
            <a:xfrm>
              <a:off x="-42480" y="2411640"/>
              <a:ext cx="1332360" cy="1270800"/>
              <a:chOff x="-42480" y="2411640"/>
              <a:chExt cx="1332360" cy="1270800"/>
            </a:xfrm>
          </p:grpSpPr>
          <p:sp>
            <p:nvSpPr>
              <p:cNvPr id="3473" name=""/>
              <p:cNvSpPr/>
              <p:nvPr/>
            </p:nvSpPr>
            <p:spPr>
              <a:xfrm rot="5400000">
                <a:off x="394200" y="2786760"/>
                <a:ext cx="45900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rot="5400000">
                <a:off x="392400" y="1976400"/>
                <a:ext cx="46224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rot="5400000">
                <a:off x="394200" y="2248560"/>
                <a:ext cx="45900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rot="5400000">
                <a:off x="394200" y="2519640"/>
                <a:ext cx="45900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7" name=""/>
            <p:cNvSpPr/>
            <p:nvPr/>
          </p:nvSpPr>
          <p:spPr>
            <a:xfrm>
              <a:off x="1144800" y="2040480"/>
              <a:ext cx="0" cy="47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1163880" y="3568320"/>
              <a:ext cx="0" cy="5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57200" y="2022120"/>
              <a:ext cx="687600" cy="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57200" y="4122000"/>
              <a:ext cx="706680" cy="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rot="16200000">
              <a:off x="2311920" y="2268000"/>
              <a:ext cx="38628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00120" y="2634480"/>
              <a:ext cx="44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278160" y="4085280"/>
              <a:ext cx="0" cy="58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050240" y="150840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5" name=""/>
            <p:cNvGrpSpPr/>
            <p:nvPr/>
          </p:nvGrpSpPr>
          <p:grpSpPr>
            <a:xfrm>
              <a:off x="2264040" y="2764440"/>
              <a:ext cx="431640" cy="331200"/>
              <a:chOff x="2264040" y="2764440"/>
              <a:chExt cx="431640" cy="331200"/>
            </a:xfrm>
          </p:grpSpPr>
          <p:sp>
            <p:nvSpPr>
              <p:cNvPr id="3486" name=""/>
              <p:cNvSpPr/>
              <p:nvPr/>
            </p:nvSpPr>
            <p:spPr>
              <a:xfrm>
                <a:off x="2264040" y="278064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flipH="1">
                <a:off x="2322360" y="2764440"/>
                <a:ext cx="179280" cy="33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2322360" y="3095640"/>
                <a:ext cx="34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517840" y="2780640"/>
                <a:ext cx="142560" cy="31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0" name=""/>
            <p:cNvSpPr/>
            <p:nvPr/>
          </p:nvSpPr>
          <p:spPr>
            <a:xfrm flipV="1">
              <a:off x="1519200" y="4617360"/>
              <a:ext cx="889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V="1">
              <a:off x="2433600" y="3402720"/>
              <a:ext cx="889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 rot="16200000">
              <a:off x="3074040" y="2304720"/>
              <a:ext cx="386280" cy="209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rot="16200000">
              <a:off x="3092760" y="2875320"/>
              <a:ext cx="38628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3392640" y="2936160"/>
              <a:ext cx="2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V="1">
              <a:off x="3614760" y="3420720"/>
              <a:ext cx="889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V="1">
              <a:off x="3233880" y="3420720"/>
              <a:ext cx="889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7" name=""/>
            <p:cNvGrpSpPr/>
            <p:nvPr/>
          </p:nvGrpSpPr>
          <p:grpSpPr>
            <a:xfrm>
              <a:off x="3087720" y="3948480"/>
              <a:ext cx="381240" cy="147240"/>
              <a:chOff x="3087720" y="3948480"/>
              <a:chExt cx="381240" cy="147240"/>
            </a:xfrm>
          </p:grpSpPr>
          <p:sp>
            <p:nvSpPr>
              <p:cNvPr id="3498" name=""/>
              <p:cNvSpPr/>
              <p:nvPr/>
            </p:nvSpPr>
            <p:spPr>
              <a:xfrm>
                <a:off x="3087720" y="39484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3087720" y="40957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0" name=""/>
            <p:cNvSpPr/>
            <p:nvPr/>
          </p:nvSpPr>
          <p:spPr>
            <a:xfrm flipV="1">
              <a:off x="4834080" y="4636080"/>
              <a:ext cx="889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V="1">
              <a:off x="4815000" y="1948320"/>
              <a:ext cx="889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 flipV="1">
              <a:off x="3233880" y="4620600"/>
              <a:ext cx="889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402080" y="297324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rot="16200000">
              <a:off x="4692960" y="4200480"/>
              <a:ext cx="38628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rot="16200000">
              <a:off x="4692960" y="2857680"/>
              <a:ext cx="38664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687760" y="384444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526360" y="3862800"/>
              <a:ext cx="0" cy="12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670720" y="1520640"/>
              <a:ext cx="249120" cy="22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9" name=""/>
            <p:cNvGrpSpPr/>
            <p:nvPr/>
          </p:nvGrpSpPr>
          <p:grpSpPr>
            <a:xfrm>
              <a:off x="5356440" y="1262520"/>
              <a:ext cx="342720" cy="416880"/>
              <a:chOff x="5356440" y="1262520"/>
              <a:chExt cx="342720" cy="416880"/>
            </a:xfrm>
          </p:grpSpPr>
          <p:sp>
            <p:nvSpPr>
              <p:cNvPr id="3510" name=""/>
              <p:cNvSpPr/>
              <p:nvPr/>
            </p:nvSpPr>
            <p:spPr>
              <a:xfrm>
                <a:off x="5682600" y="1262520"/>
                <a:ext cx="0" cy="41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 flipV="1">
                <a:off x="5356440" y="1318680"/>
                <a:ext cx="342720" cy="17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5356440" y="1319040"/>
                <a:ext cx="0" cy="33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 flipH="1">
                <a:off x="5356800" y="1507680"/>
                <a:ext cx="325800" cy="13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4" name=""/>
            <p:cNvGrpSpPr/>
            <p:nvPr/>
          </p:nvGrpSpPr>
          <p:grpSpPr>
            <a:xfrm>
              <a:off x="6669360" y="1261080"/>
              <a:ext cx="438120" cy="461160"/>
              <a:chOff x="6669360" y="1261080"/>
              <a:chExt cx="438120" cy="461160"/>
            </a:xfrm>
          </p:grpSpPr>
          <p:sp>
            <p:nvSpPr>
              <p:cNvPr id="3515" name=""/>
              <p:cNvSpPr/>
              <p:nvPr/>
            </p:nvSpPr>
            <p:spPr>
              <a:xfrm>
                <a:off x="6669360" y="1297800"/>
                <a:ext cx="438120" cy="424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6689160" y="1261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7" name=""/>
            <p:cNvSpPr/>
            <p:nvPr/>
          </p:nvSpPr>
          <p:spPr>
            <a:xfrm>
              <a:off x="1582920" y="5261760"/>
              <a:ext cx="5937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 flipV="1">
              <a:off x="6282000" y="1469520"/>
              <a:ext cx="8856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 flipV="1">
              <a:off x="2452680" y="4617360"/>
              <a:ext cx="889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V="1">
              <a:off x="6282000" y="1966680"/>
              <a:ext cx="8856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 flipV="1">
              <a:off x="7520040" y="1451160"/>
              <a:ext cx="88920" cy="7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V="1">
              <a:off x="7520040" y="5225040"/>
              <a:ext cx="88920" cy="7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253280" y="1526400"/>
              <a:ext cx="7920" cy="373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4" name=""/>
            <p:cNvGrpSpPr/>
            <p:nvPr/>
          </p:nvGrpSpPr>
          <p:grpSpPr>
            <a:xfrm>
              <a:off x="7024680" y="2997720"/>
              <a:ext cx="438120" cy="461160"/>
              <a:chOff x="7024680" y="2997720"/>
              <a:chExt cx="438120" cy="461160"/>
            </a:xfrm>
          </p:grpSpPr>
          <p:sp>
            <p:nvSpPr>
              <p:cNvPr id="3525" name=""/>
              <p:cNvSpPr/>
              <p:nvPr/>
            </p:nvSpPr>
            <p:spPr>
              <a:xfrm>
                <a:off x="7024680" y="3034440"/>
                <a:ext cx="438120" cy="424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7044480" y="2997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7" name=""/>
            <p:cNvSpPr/>
            <p:nvPr/>
          </p:nvSpPr>
          <p:spPr>
            <a:xfrm flipV="1">
              <a:off x="7196400" y="5206320"/>
              <a:ext cx="8856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V="1">
              <a:off x="7196400" y="1469520"/>
              <a:ext cx="8856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8186760" y="1471320"/>
              <a:ext cx="7920" cy="164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H="1">
              <a:off x="7710120" y="14821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H="1">
              <a:off x="7710120" y="525564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2" name=""/>
            <p:cNvGrpSpPr/>
            <p:nvPr/>
          </p:nvGrpSpPr>
          <p:grpSpPr>
            <a:xfrm>
              <a:off x="8002800" y="3120120"/>
              <a:ext cx="361800" cy="339120"/>
              <a:chOff x="8002800" y="3120120"/>
              <a:chExt cx="361800" cy="339120"/>
            </a:xfrm>
          </p:grpSpPr>
          <p:sp>
            <p:nvSpPr>
              <p:cNvPr id="3533" name=""/>
              <p:cNvSpPr/>
              <p:nvPr/>
            </p:nvSpPr>
            <p:spPr>
              <a:xfrm>
                <a:off x="8002800" y="312012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8002800" y="334836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8097840" y="3238200"/>
                <a:ext cx="19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8097840" y="3459240"/>
                <a:ext cx="19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7" name=""/>
            <p:cNvSpPr/>
            <p:nvPr/>
          </p:nvSpPr>
          <p:spPr>
            <a:xfrm>
              <a:off x="8167680" y="3440880"/>
              <a:ext cx="7920" cy="18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396600" y="21067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280760" y="40165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985640" y="2636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651760" y="2672640"/>
              <a:ext cx="541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1834200" y="2689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1740960" y="3685680"/>
              <a:ext cx="573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280480" y="879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473640" y="376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377480" y="1396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391520" y="463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8364240" y="2377080"/>
              <a:ext cx="394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1568520" y="1995840"/>
              <a:ext cx="889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809160" y="27921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1" name=""/>
          <p:cNvSpPr/>
          <p:nvPr/>
        </p:nvSpPr>
        <p:spPr>
          <a:xfrm>
            <a:off x="353880" y="528588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电瓶充电机电路使用元件较少，线路简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过充电保护、短路保护和电瓶短接保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552240" y="304920"/>
            <a:ext cx="2647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582480" y="725760"/>
            <a:ext cx="8120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构成了单结晶体管触发电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2909880" y="2109960"/>
            <a:ext cx="2651040" cy="291132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457200" y="5622840"/>
            <a:ext cx="82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待充电电瓶接入电路后，触发电路获得所需电源电压开始工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6" name=""/>
          <p:cNvGrpSpPr/>
          <p:nvPr/>
        </p:nvGrpSpPr>
        <p:grpSpPr>
          <a:xfrm>
            <a:off x="32040" y="1142280"/>
            <a:ext cx="8800920" cy="4326480"/>
            <a:chOff x="32040" y="1142280"/>
            <a:chExt cx="8800920" cy="4326480"/>
          </a:xfrm>
        </p:grpSpPr>
        <p:sp>
          <p:nvSpPr>
            <p:cNvPr id="3557" name=""/>
            <p:cNvSpPr/>
            <p:nvPr/>
          </p:nvSpPr>
          <p:spPr>
            <a:xfrm>
              <a:off x="1657440" y="1833480"/>
              <a:ext cx="5048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 flipV="1">
              <a:off x="3362400" y="2281320"/>
              <a:ext cx="3012840" cy="1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772240" y="4216320"/>
              <a:ext cx="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741840" y="3225960"/>
              <a:ext cx="0" cy="48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394320" y="1835280"/>
              <a:ext cx="7920" cy="303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012040" y="23400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359080" y="4092480"/>
              <a:ext cx="431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H="1">
              <a:off x="2398680" y="4076640"/>
              <a:ext cx="179280" cy="282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398680" y="4359240"/>
              <a:ext cx="343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593800" y="4092480"/>
              <a:ext cx="142920" cy="266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>
              <a:off x="1701720" y="2363760"/>
              <a:ext cx="8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flipH="1">
              <a:off x="4454640" y="4079880"/>
              <a:ext cx="115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359160" y="2311560"/>
              <a:ext cx="0" cy="18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H="1">
              <a:off x="2545920" y="372420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4956120" y="2328840"/>
              <a:ext cx="0" cy="253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2567160" y="2346120"/>
              <a:ext cx="0" cy="25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620720" y="4871880"/>
              <a:ext cx="404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rot="5400000">
              <a:off x="5127840" y="4239360"/>
              <a:ext cx="247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rot="5400000">
              <a:off x="5126400" y="3803760"/>
              <a:ext cx="2498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rot="5400000">
              <a:off x="5128200" y="3950640"/>
              <a:ext cx="246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rot="5400000">
              <a:off x="5129280" y="4096080"/>
              <a:ext cx="244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676840" y="4748040"/>
              <a:ext cx="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V="1">
              <a:off x="5460840" y="4207680"/>
              <a:ext cx="7488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981760" y="4770360"/>
              <a:ext cx="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000840" y="4871880"/>
              <a:ext cx="39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994360" y="2070000"/>
              <a:ext cx="6480" cy="21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5937120" y="2030400"/>
              <a:ext cx="74880" cy="68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6051600" y="4197240"/>
              <a:ext cx="745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H="1" rot="16200000">
              <a:off x="6212520" y="4239720"/>
              <a:ext cx="247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H="1" rot="16200000">
              <a:off x="6211080" y="3803400"/>
              <a:ext cx="2498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H="1" rot="16200000">
              <a:off x="6212880" y="3951360"/>
              <a:ext cx="246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H="1" rot="16200000">
              <a:off x="6213960" y="4096440"/>
              <a:ext cx="244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4276800" y="3576600"/>
              <a:ext cx="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070520" y="3713040"/>
              <a:ext cx="20628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276800" y="3952800"/>
              <a:ext cx="2016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4286160" y="367020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476600" y="32367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4457880" y="3987720"/>
              <a:ext cx="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H="1" rot="16200000">
              <a:off x="1962000" y="305172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H="1" rot="16200000">
              <a:off x="1960920" y="2274840"/>
              <a:ext cx="44460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H="1" rot="16200000">
              <a:off x="1962360" y="2535840"/>
              <a:ext cx="44136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H="1" rot="16200000">
              <a:off x="1962000" y="279612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676520" y="1833480"/>
              <a:ext cx="0" cy="9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638360" y="3828960"/>
              <a:ext cx="0" cy="16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449360" y="2886120"/>
              <a:ext cx="0" cy="9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 rot="5400000">
              <a:off x="477360" y="303408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 rot="5400000">
              <a:off x="475920" y="2257200"/>
              <a:ext cx="44496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 rot="5400000">
              <a:off x="477360" y="251820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 rot="5400000">
              <a:off x="477360" y="277848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1219320" y="2346480"/>
              <a:ext cx="0" cy="45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1238400" y="3811680"/>
              <a:ext cx="0" cy="54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31720" y="2328840"/>
              <a:ext cx="687600" cy="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31720" y="4341960"/>
              <a:ext cx="706680" cy="1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 rot="16200000">
              <a:off x="2394000" y="2560680"/>
              <a:ext cx="37152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4640" y="2901240"/>
              <a:ext cx="44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352680" y="4307040"/>
              <a:ext cx="0" cy="56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124760" y="183528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338560" y="3056040"/>
              <a:ext cx="431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H="1">
              <a:off x="2397240" y="3040200"/>
              <a:ext cx="179280" cy="317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397240" y="3357720"/>
              <a:ext cx="34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592360" y="3056040"/>
              <a:ext cx="142920" cy="301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1593720" y="4817520"/>
              <a:ext cx="8892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V="1">
              <a:off x="2508120" y="3652200"/>
              <a:ext cx="8892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rot="16200000">
              <a:off x="3155760" y="2595240"/>
              <a:ext cx="371520" cy="209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rot="16200000">
              <a:off x="3174840" y="3143160"/>
              <a:ext cx="37152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H="1">
              <a:off x="3467160" y="3205080"/>
              <a:ext cx="2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V="1">
              <a:off x="3689280" y="3670200"/>
              <a:ext cx="8892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V="1">
              <a:off x="3308400" y="3670200"/>
              <a:ext cx="8892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162240" y="41767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162240" y="43164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908600" y="4835520"/>
              <a:ext cx="8892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4889520" y="2257560"/>
              <a:ext cx="889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3308400" y="4819680"/>
              <a:ext cx="889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4476600" y="324000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rot="16200000">
              <a:off x="4775760" y="4413600"/>
              <a:ext cx="36972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rot="16200000">
              <a:off x="4775040" y="3125880"/>
              <a:ext cx="37152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762280" y="4076640"/>
              <a:ext cx="0" cy="122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600880" y="4094280"/>
              <a:ext cx="0" cy="1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745240" y="1847880"/>
              <a:ext cx="24912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754600" y="1598760"/>
              <a:ext cx="0" cy="399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H="1" flipV="1">
              <a:off x="5428800" y="1652400"/>
              <a:ext cx="343080" cy="1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5429160" y="1652760"/>
              <a:ext cx="0" cy="317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H="1">
              <a:off x="5427720" y="1833480"/>
              <a:ext cx="325440" cy="133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743880" y="1635120"/>
              <a:ext cx="438120" cy="406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763320" y="1591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1657440" y="5435640"/>
              <a:ext cx="5937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V="1">
              <a:off x="6356520" y="1798560"/>
              <a:ext cx="885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V="1">
              <a:off x="2527200" y="4817520"/>
              <a:ext cx="8892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flipV="1">
              <a:off x="6356520" y="2274840"/>
              <a:ext cx="885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 flipV="1">
              <a:off x="7594560" y="1781280"/>
              <a:ext cx="8892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 flipV="1">
              <a:off x="7594560" y="5398920"/>
              <a:ext cx="8892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327800" y="1852560"/>
              <a:ext cx="7920" cy="358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099200" y="3298680"/>
              <a:ext cx="438120" cy="408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7119000" y="3256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V="1">
              <a:off x="7270920" y="5381640"/>
              <a:ext cx="885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V="1">
              <a:off x="7270920" y="1798560"/>
              <a:ext cx="885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8261280" y="1800360"/>
              <a:ext cx="7920" cy="15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H="1">
              <a:off x="7784640" y="181116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7784640" y="542916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8077320" y="338148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8077320" y="360036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8172360" y="349416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8172360" y="370692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8242200" y="3689280"/>
              <a:ext cx="7920" cy="17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338280" y="239688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4355280" y="42274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060160" y="29052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726280" y="2940120"/>
              <a:ext cx="541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4440" y="295668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1727280" y="3909960"/>
              <a:ext cx="75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388120" y="1142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548160" y="3993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7452000" y="1715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7466040" y="4822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8438760" y="2631960"/>
              <a:ext cx="394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1643040" y="2303640"/>
              <a:ext cx="889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795480" y="3054240"/>
              <a:ext cx="697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"/>
          <p:cNvSpPr/>
          <p:nvPr/>
        </p:nvSpPr>
        <p:spPr>
          <a:xfrm>
            <a:off x="490680" y="1146600"/>
            <a:ext cx="811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电瓶电压充到一定数值时，使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结晶体管的峰点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于稳压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稳定电压，单结晶体管不能导通，触发电路不再产生触发脉冲，充电机停止充电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2909880" y="2813040"/>
            <a:ext cx="2651040" cy="291132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6" name=""/>
          <p:cNvGrpSpPr/>
          <p:nvPr/>
        </p:nvGrpSpPr>
        <p:grpSpPr>
          <a:xfrm>
            <a:off x="32040" y="1751760"/>
            <a:ext cx="8800920" cy="4326480"/>
            <a:chOff x="32040" y="1751760"/>
            <a:chExt cx="8800920" cy="4326480"/>
          </a:xfrm>
        </p:grpSpPr>
        <p:sp>
          <p:nvSpPr>
            <p:cNvPr id="3677" name=""/>
            <p:cNvSpPr/>
            <p:nvPr/>
          </p:nvSpPr>
          <p:spPr>
            <a:xfrm>
              <a:off x="1657440" y="2442960"/>
              <a:ext cx="5048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 flipV="1">
              <a:off x="3362400" y="2890800"/>
              <a:ext cx="3012840" cy="1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772240" y="4825800"/>
              <a:ext cx="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741840" y="3835440"/>
              <a:ext cx="0" cy="48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394320" y="2444760"/>
              <a:ext cx="7920" cy="303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012040" y="29494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359080" y="4701960"/>
              <a:ext cx="431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H="1">
              <a:off x="2398680" y="4686120"/>
              <a:ext cx="179280" cy="282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398680" y="4968720"/>
              <a:ext cx="343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593800" y="4701960"/>
              <a:ext cx="142920" cy="266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H="1">
              <a:off x="1701720" y="2973240"/>
              <a:ext cx="8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4454640" y="4689360"/>
              <a:ext cx="115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359160" y="2921040"/>
              <a:ext cx="0" cy="18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flipH="1">
              <a:off x="2545920" y="433368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956120" y="2938320"/>
              <a:ext cx="0" cy="253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 flipV="1">
              <a:off x="2567160" y="2955600"/>
              <a:ext cx="0" cy="25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620720" y="5481360"/>
              <a:ext cx="404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 rot="5400000">
              <a:off x="5127840" y="4848840"/>
              <a:ext cx="247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rot="5400000">
              <a:off x="5126400" y="4413240"/>
              <a:ext cx="2498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rot="5400000">
              <a:off x="5128200" y="4560120"/>
              <a:ext cx="246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rot="5400000">
              <a:off x="5129280" y="4705560"/>
              <a:ext cx="244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676840" y="5357520"/>
              <a:ext cx="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flipV="1">
              <a:off x="5460840" y="4817160"/>
              <a:ext cx="7488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81760" y="5379840"/>
              <a:ext cx="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6000840" y="5481360"/>
              <a:ext cx="39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994360" y="2679480"/>
              <a:ext cx="6480" cy="21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5937120" y="2639880"/>
              <a:ext cx="74880" cy="68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flipV="1">
              <a:off x="6051600" y="4806720"/>
              <a:ext cx="745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 flipH="1" rot="16200000">
              <a:off x="6212520" y="4849200"/>
              <a:ext cx="247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 flipH="1" rot="16200000">
              <a:off x="6211080" y="4412880"/>
              <a:ext cx="2498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H="1" rot="16200000">
              <a:off x="6212880" y="4560840"/>
              <a:ext cx="246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H="1" rot="16200000">
              <a:off x="6213960" y="4705920"/>
              <a:ext cx="244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276800" y="4186080"/>
              <a:ext cx="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070520" y="4322520"/>
              <a:ext cx="20628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276800" y="4562280"/>
              <a:ext cx="2016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286160" y="427968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476600" y="384624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457880" y="4597200"/>
              <a:ext cx="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H="1" rot="16200000">
              <a:off x="1962000" y="366120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 flipH="1" rot="16200000">
              <a:off x="1960920" y="2884320"/>
              <a:ext cx="44460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 flipH="1" rot="16200000">
              <a:off x="1962360" y="3145320"/>
              <a:ext cx="44136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 flipH="1" rot="16200000">
              <a:off x="1962000" y="340560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676520" y="2442960"/>
              <a:ext cx="0" cy="9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638360" y="4438440"/>
              <a:ext cx="0" cy="16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449360" y="3495600"/>
              <a:ext cx="0" cy="9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rot="5400000">
              <a:off x="477360" y="364356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rot="5400000">
              <a:off x="475920" y="2866680"/>
              <a:ext cx="44496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rot="5400000">
              <a:off x="477360" y="312768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rot="5400000">
              <a:off x="477360" y="3387960"/>
              <a:ext cx="44208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6"/>
                  </a:moveTo>
                  <a:arcTo wR="10800" hR="10800" stAng="-7824396" swAng="4455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6"/>
                  </a:moveTo>
                  <a:arcTo wR="10800" hR="10800" stAng="-7824396" swAng="44557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219320" y="2955960"/>
              <a:ext cx="0" cy="45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238400" y="4421160"/>
              <a:ext cx="0" cy="54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531720" y="2938320"/>
              <a:ext cx="687600" cy="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531720" y="4951440"/>
              <a:ext cx="706680" cy="1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 rot="16200000">
              <a:off x="2394000" y="3170160"/>
              <a:ext cx="37152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74640" y="3510720"/>
              <a:ext cx="44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3352680" y="4916520"/>
              <a:ext cx="0" cy="56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124760" y="244476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338560" y="3665520"/>
              <a:ext cx="431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H="1">
              <a:off x="2397240" y="3649680"/>
              <a:ext cx="179280" cy="317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397240" y="3967200"/>
              <a:ext cx="34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592360" y="3665520"/>
              <a:ext cx="142920" cy="301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V="1">
              <a:off x="1593720" y="5427000"/>
              <a:ext cx="8892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2508120" y="4261680"/>
              <a:ext cx="8892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rot="16200000">
              <a:off x="3155760" y="3204720"/>
              <a:ext cx="371520" cy="209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rot="16200000">
              <a:off x="3174840" y="3752640"/>
              <a:ext cx="37152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>
              <a:off x="3467160" y="3814560"/>
              <a:ext cx="2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3689280" y="4279680"/>
              <a:ext cx="8892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V="1">
              <a:off x="3308400" y="4279680"/>
              <a:ext cx="8892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162240" y="4786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162240" y="49258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 flipV="1">
              <a:off x="4908600" y="5445000"/>
              <a:ext cx="8892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4889520" y="2867040"/>
              <a:ext cx="889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3308400" y="5429160"/>
              <a:ext cx="889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476600" y="384948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rot="16200000">
              <a:off x="4775760" y="5023080"/>
              <a:ext cx="36972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rot="16200000">
              <a:off x="4775040" y="3735360"/>
              <a:ext cx="37152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762280" y="4686120"/>
              <a:ext cx="0" cy="122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600880" y="4703760"/>
              <a:ext cx="0" cy="1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745240" y="2457360"/>
              <a:ext cx="24912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754600" y="2208240"/>
              <a:ext cx="0" cy="399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H="1" flipV="1">
              <a:off x="5428800" y="2261880"/>
              <a:ext cx="343080" cy="1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429160" y="2262240"/>
              <a:ext cx="0" cy="317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H="1">
              <a:off x="5427720" y="2442960"/>
              <a:ext cx="325440" cy="133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6743880" y="2244600"/>
              <a:ext cx="438120" cy="406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6763320" y="220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657440" y="6045120"/>
              <a:ext cx="5937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V="1">
              <a:off x="6356520" y="2408040"/>
              <a:ext cx="885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V="1">
              <a:off x="2527200" y="5427000"/>
              <a:ext cx="8892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 flipV="1">
              <a:off x="6356520" y="2884320"/>
              <a:ext cx="885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7594560" y="2390760"/>
              <a:ext cx="8892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7594560" y="6008400"/>
              <a:ext cx="8892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7327800" y="2462040"/>
              <a:ext cx="7920" cy="358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099200" y="3908160"/>
              <a:ext cx="438120" cy="408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7119000" y="3866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7270920" y="5991120"/>
              <a:ext cx="885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flipV="1">
              <a:off x="7270920" y="2408040"/>
              <a:ext cx="885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8261280" y="2409840"/>
              <a:ext cx="7920" cy="15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 flipH="1">
              <a:off x="7784640" y="242064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H="1">
              <a:off x="7784640" y="603864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8077320" y="399096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8077320" y="420984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8172360" y="410364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8172360" y="431640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8242200" y="4298760"/>
              <a:ext cx="7920" cy="17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338280" y="30063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355280" y="4836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060160" y="3514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726280" y="3549600"/>
              <a:ext cx="541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864440" y="356616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727280" y="4519440"/>
              <a:ext cx="75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388120" y="1751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548160" y="4602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7452000" y="2324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466040" y="5431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8438760" y="3241440"/>
              <a:ext cx="394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 flipV="1">
              <a:off x="1643040" y="2913120"/>
              <a:ext cx="889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795480" y="3663720"/>
              <a:ext cx="697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800" y="304200"/>
            <a:ext cx="2401560" cy="5155200"/>
            <a:chOff x="1800" y="304200"/>
            <a:chExt cx="2401560" cy="5155200"/>
          </a:xfrm>
        </p:grpSpPr>
        <p:sp>
          <p:nvSpPr>
            <p:cNvPr id="187" name=""/>
            <p:cNvSpPr/>
            <p:nvPr/>
          </p:nvSpPr>
          <p:spPr>
            <a:xfrm>
              <a:off x="2190600" y="3211560"/>
              <a:ext cx="13680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119240" y="1332000"/>
              <a:ext cx="1284120" cy="3047400"/>
              <a:chOff x="1119240" y="1332000"/>
              <a:chExt cx="1284120" cy="3047400"/>
            </a:xfrm>
          </p:grpSpPr>
          <p:sp>
            <p:nvSpPr>
              <p:cNvPr id="189" name=""/>
              <p:cNvSpPr/>
              <p:nvPr/>
            </p:nvSpPr>
            <p:spPr>
              <a:xfrm>
                <a:off x="1119240" y="3648960"/>
                <a:ext cx="1284120" cy="730440"/>
              </a:xfrm>
              <a:prstGeom prst="rect">
                <a:avLst/>
              </a:prstGeom>
              <a:solidFill>
                <a:srgbClr val="00ffff"/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19240" y="2124000"/>
                <a:ext cx="1284120" cy="792000"/>
              </a:xfrm>
              <a:prstGeom prst="rect">
                <a:avLst/>
              </a:prstGeom>
              <a:solidFill>
                <a:srgbClr val="00ffff"/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19240" y="2916360"/>
                <a:ext cx="1284120" cy="7326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19240" y="1332000"/>
                <a:ext cx="1284120" cy="7920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37120" y="1451520"/>
                <a:ext cx="645120" cy="520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39640" y="3127680"/>
                <a:ext cx="575280" cy="520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38920" y="233532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19240" y="2916360"/>
                <a:ext cx="12841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119240" y="3648960"/>
                <a:ext cx="12841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19240" y="2124000"/>
                <a:ext cx="12841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38920" y="385704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57560" y="3232080"/>
              <a:ext cx="658440" cy="106560"/>
              <a:chOff x="457560" y="3232080"/>
              <a:chExt cx="658440" cy="10656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536040" y="3289680"/>
                <a:ext cx="579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57560" y="3232080"/>
                <a:ext cx="112320" cy="106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727280" y="4481640"/>
              <a:ext cx="128520" cy="574560"/>
              <a:chOff x="1727280" y="4481640"/>
              <a:chExt cx="128520" cy="574560"/>
            </a:xfrm>
          </p:grpSpPr>
          <p:sp>
            <p:nvSpPr>
              <p:cNvPr id="204" name=""/>
              <p:cNvSpPr/>
              <p:nvPr/>
            </p:nvSpPr>
            <p:spPr>
              <a:xfrm>
                <a:off x="1788840" y="4481640"/>
                <a:ext cx="0" cy="468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27280" y="4935600"/>
                <a:ext cx="128520" cy="120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02000" y="49388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0960" y="750960"/>
              <a:ext cx="144360" cy="11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28720" y="84456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816560" y="412920"/>
              <a:ext cx="545400" cy="896400"/>
              <a:chOff x="1816560" y="412920"/>
              <a:chExt cx="545400" cy="896400"/>
            </a:xfrm>
          </p:grpSpPr>
          <p:sp>
            <p:nvSpPr>
              <p:cNvPr id="210" name=""/>
              <p:cNvSpPr/>
              <p:nvPr/>
            </p:nvSpPr>
            <p:spPr>
              <a:xfrm>
                <a:off x="2178000" y="790560"/>
                <a:ext cx="1839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16560" y="412920"/>
                <a:ext cx="35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800" y="29718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3880" y="304200"/>
              <a:ext cx="46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57360" y="4405320"/>
              <a:ext cx="4572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1241280"/>
              <a:ext cx="4572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514600" y="838080"/>
            <a:ext cx="1214280" cy="352440"/>
          </a:xfrm>
          <a:custGeom>
            <a:avLst/>
            <a:gdLst>
              <a:gd name="textAreaLeft" fmla="*/ 207720 w 1214280"/>
              <a:gd name="textAreaRight" fmla="*/ 885240 w 1214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91" hR="21600" stAng="10800000" swAng="5400000"/>
                <a:lnTo>
                  <a:pt x="12050" y="0"/>
                </a:lnTo>
                <a:arcTo wR="7391" hR="21600" stAng="-5400000" swAng="2643670"/>
                <a:lnTo>
                  <a:pt x="21177" y="14400"/>
                </a:lnTo>
                <a:lnTo>
                  <a:pt x="17111" y="21600"/>
                </a:lnTo>
                <a:lnTo>
                  <a:pt x="12198" y="14400"/>
                </a:lnTo>
                <a:lnTo>
                  <a:pt x="14358" y="14400"/>
                </a:lnTo>
                <a:arcTo wR="7391" hR="21600" stAng="-2756330" swAng="-2254673"/>
                <a:lnTo>
                  <a:pt x="9720" y="1101"/>
                </a:lnTo>
                <a:arcTo wR="7391" hR="21600" stAng="-5788997" swAng="-5011003"/>
                <a:close/>
              </a:path>
              <a:path fill="darkenLess" w="21600" h="21600">
                <a:moveTo>
                  <a:pt x="0" y="21600"/>
                </a:moveTo>
                <a:arcTo wR="7391" hR="21600" stAng="10800000" swAng="5400000"/>
                <a:lnTo>
                  <a:pt x="7391" y="0"/>
                </a:lnTo>
                <a:arcTo wR="7391" hR="21600" stAng="-5400000" swAng="388997"/>
                <a:lnTo>
                  <a:pt x="9720" y="1101"/>
                </a:lnTo>
                <a:arcTo wR="7391" hR="21600" stAng="-5788997" swAng="-5011003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00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866880"/>
            <a:ext cx="1214280" cy="352440"/>
          </a:xfrm>
          <a:custGeom>
            <a:avLst/>
            <a:gdLst>
              <a:gd name="textAreaLeft" fmla="*/ 207720 w 1214280"/>
              <a:gd name="textAreaRight" fmla="*/ 885240 w 1214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91" hR="21600" stAng="10800000" swAng="5400000"/>
                <a:lnTo>
                  <a:pt x="12050" y="0"/>
                </a:lnTo>
                <a:arcTo wR="7391" hR="21600" stAng="-5400000" swAng="2643670"/>
                <a:lnTo>
                  <a:pt x="21177" y="14400"/>
                </a:lnTo>
                <a:lnTo>
                  <a:pt x="17111" y="21600"/>
                </a:lnTo>
                <a:lnTo>
                  <a:pt x="12198" y="14400"/>
                </a:lnTo>
                <a:lnTo>
                  <a:pt x="14358" y="14400"/>
                </a:lnTo>
                <a:arcTo wR="7391" hR="21600" stAng="-2756330" swAng="-2254673"/>
                <a:lnTo>
                  <a:pt x="9720" y="1101"/>
                </a:lnTo>
                <a:arcTo wR="7391" hR="21600" stAng="-5788997" swAng="-5011003"/>
                <a:close/>
              </a:path>
              <a:path fill="darkenLess" w="21600" h="21600">
                <a:moveTo>
                  <a:pt x="0" y="21600"/>
                </a:moveTo>
                <a:arcTo wR="7391" hR="21600" stAng="10800000" swAng="5400000"/>
                <a:lnTo>
                  <a:pt x="7391" y="0"/>
                </a:lnTo>
                <a:arcTo wR="7391" hR="21600" stAng="-5400000" swAng="388997"/>
                <a:lnTo>
                  <a:pt x="9720" y="1101"/>
                </a:lnTo>
                <a:arcTo wR="7391" hR="21600" stAng="-5788997" swAng="-5011003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00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44560" y="5776920"/>
            <a:ext cx="546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晶闸管相当于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PNP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NPN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型两个晶体管的组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125360" y="2082960"/>
            <a:ext cx="1312200" cy="1568160"/>
            <a:chOff x="1125360" y="2082960"/>
            <a:chExt cx="1312200" cy="1568160"/>
          </a:xfrm>
        </p:grpSpPr>
        <p:sp>
          <p:nvSpPr>
            <p:cNvPr id="220" name=""/>
            <p:cNvSpPr/>
            <p:nvPr/>
          </p:nvSpPr>
          <p:spPr>
            <a:xfrm flipH="1">
              <a:off x="1856160" y="2106360"/>
              <a:ext cx="581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125360" y="3647880"/>
              <a:ext cx="72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0960" y="2082960"/>
              <a:ext cx="1440" cy="1568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508720" y="2843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88200" y="595440"/>
            <a:ext cx="3260160" cy="4621320"/>
            <a:chOff x="5488200" y="595440"/>
            <a:chExt cx="3260160" cy="4621320"/>
          </a:xfrm>
        </p:grpSpPr>
        <p:sp>
          <p:nvSpPr>
            <p:cNvPr id="225" name=""/>
            <p:cNvSpPr/>
            <p:nvPr/>
          </p:nvSpPr>
          <p:spPr>
            <a:xfrm>
              <a:off x="6923160" y="595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41040" y="46958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627600" y="2828880"/>
              <a:ext cx="54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88880" y="3290760"/>
              <a:ext cx="104760" cy="109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629400" y="3789360"/>
              <a:ext cx="110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50040" y="871560"/>
              <a:ext cx="54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599160" y="3298680"/>
              <a:ext cx="68400" cy="79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713720" y="3446640"/>
              <a:ext cx="38880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13720" y="3486240"/>
              <a:ext cx="0" cy="62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13720" y="3776760"/>
              <a:ext cx="388800" cy="33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64360" y="2176560"/>
              <a:ext cx="38880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3160" y="2176560"/>
              <a:ext cx="0" cy="6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164360" y="2508120"/>
              <a:ext cx="388800" cy="33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3800" y="2471760"/>
              <a:ext cx="5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5920" y="3352680"/>
              <a:ext cx="74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74040" y="3408480"/>
              <a:ext cx="112212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 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69040" y="2649600"/>
              <a:ext cx="95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38760" y="2832120"/>
              <a:ext cx="0" cy="94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78760" y="2467080"/>
              <a:ext cx="0" cy="103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82000" y="120636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104960" y="1098720"/>
              <a:ext cx="104760" cy="109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77320" y="4057560"/>
              <a:ext cx="0" cy="9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012880" y="4952880"/>
              <a:ext cx="103320" cy="109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63840" y="463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18000" y="3205080"/>
              <a:ext cx="5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54640" y="2890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38680" y="39416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41880" y="346248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6680" y="338616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072200" y="132876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0320" y="1252440"/>
              <a:ext cx="508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62520" y="1709640"/>
              <a:ext cx="5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8120" y="19382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81240" y="2319480"/>
              <a:ext cx="5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8175600" y="4071960"/>
              <a:ext cx="572760" cy="655560"/>
              <a:chOff x="8175600" y="4071960"/>
              <a:chExt cx="572760" cy="655560"/>
            </a:xfrm>
          </p:grpSpPr>
          <p:sp>
            <p:nvSpPr>
              <p:cNvPr id="260" name=""/>
              <p:cNvSpPr/>
              <p:nvPr/>
            </p:nvSpPr>
            <p:spPr>
              <a:xfrm>
                <a:off x="8175600" y="4194000"/>
                <a:ext cx="0" cy="53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226360" y="4071960"/>
                <a:ext cx="5220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I</a:t>
                </a:r>
                <a:r>
                  <a:rPr b="1" lang="en-US" sz="32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5488200" y="30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16400" y="304920"/>
            <a:ext cx="2855880" cy="5397120"/>
            <a:chOff x="2516400" y="304920"/>
            <a:chExt cx="2855880" cy="5397120"/>
          </a:xfrm>
        </p:grpSpPr>
        <p:grpSp>
          <p:nvGrpSpPr>
            <p:cNvPr id="264" name=""/>
            <p:cNvGrpSpPr/>
            <p:nvPr/>
          </p:nvGrpSpPr>
          <p:grpSpPr>
            <a:xfrm>
              <a:off x="2516400" y="304920"/>
              <a:ext cx="2855880" cy="5397120"/>
              <a:chOff x="2516400" y="304920"/>
              <a:chExt cx="2855880" cy="5397120"/>
            </a:xfrm>
          </p:grpSpPr>
          <p:sp>
            <p:nvSpPr>
              <p:cNvPr id="265" name=""/>
              <p:cNvSpPr/>
              <p:nvPr/>
            </p:nvSpPr>
            <p:spPr>
              <a:xfrm>
                <a:off x="3568680" y="2235240"/>
                <a:ext cx="1803600" cy="868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68680" y="3103560"/>
                <a:ext cx="1803600" cy="801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68680" y="1366920"/>
                <a:ext cx="868320" cy="868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568680" y="3103560"/>
                <a:ext cx="180360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68680" y="2235240"/>
                <a:ext cx="915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437000" y="3905280"/>
                <a:ext cx="935280" cy="8017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52840" y="3905280"/>
                <a:ext cx="9194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35440" y="1500120"/>
                <a:ext cx="601560" cy="520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32920" y="3333600"/>
                <a:ext cx="397080" cy="520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86840" y="2465280"/>
                <a:ext cx="436680" cy="5205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05920" y="4135320"/>
                <a:ext cx="436680" cy="5205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37000" y="2168640"/>
                <a:ext cx="0" cy="173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05920" y="2465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05920" y="3333600"/>
                <a:ext cx="397080" cy="5205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3968640" y="864720"/>
                <a:ext cx="0" cy="452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03920" y="4724280"/>
                <a:ext cx="0" cy="424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36960" y="5126040"/>
                <a:ext cx="133560" cy="133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971800" y="3440160"/>
                <a:ext cx="133200" cy="135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36080" y="304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16400" y="321480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6080" y="518148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13200" y="762120"/>
                <a:ext cx="125280" cy="11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24080" y="350532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48320" y="4687920"/>
                <a:ext cx="45720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33920" y="1295280"/>
                <a:ext cx="45720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432320" y="2173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4" name=""/>
          <p:cNvGrpSpPr/>
          <p:nvPr/>
        </p:nvGrpSpPr>
        <p:grpSpPr>
          <a:xfrm>
            <a:off x="32040" y="2208960"/>
            <a:ext cx="8800920" cy="4246920"/>
            <a:chOff x="32040" y="2208960"/>
            <a:chExt cx="8800920" cy="4246920"/>
          </a:xfrm>
        </p:grpSpPr>
        <p:sp>
          <p:nvSpPr>
            <p:cNvPr id="3795" name=""/>
            <p:cNvSpPr/>
            <p:nvPr/>
          </p:nvSpPr>
          <p:spPr>
            <a:xfrm>
              <a:off x="1657440" y="2821320"/>
              <a:ext cx="504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 flipV="1">
              <a:off x="3362400" y="3268080"/>
              <a:ext cx="3012840" cy="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772240" y="5204160"/>
              <a:ext cx="0" cy="45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741840" y="4212720"/>
              <a:ext cx="0" cy="48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6394320" y="2822760"/>
              <a:ext cx="7920" cy="303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012040" y="33264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359080" y="50792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 flipH="1">
              <a:off x="2398680" y="5064480"/>
              <a:ext cx="179280" cy="28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398680" y="534708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593800" y="5079240"/>
              <a:ext cx="142920" cy="26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H="1">
              <a:off x="1701720" y="3350880"/>
              <a:ext cx="8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H="1">
              <a:off x="4454640" y="5067360"/>
              <a:ext cx="115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359160" y="3297960"/>
              <a:ext cx="0" cy="18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 flipH="1">
              <a:off x="2545920" y="471168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956120" y="3315600"/>
              <a:ext cx="0" cy="253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V="1">
              <a:off x="2567160" y="3333240"/>
              <a:ext cx="0" cy="251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620720" y="5858640"/>
              <a:ext cx="404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4794480" y="5123880"/>
              <a:ext cx="914040" cy="683280"/>
              <a:chOff x="4794480" y="5123880"/>
              <a:chExt cx="914040" cy="683280"/>
            </a:xfrm>
          </p:grpSpPr>
          <p:sp>
            <p:nvSpPr>
              <p:cNvPr id="3813" name=""/>
              <p:cNvSpPr/>
              <p:nvPr/>
            </p:nvSpPr>
            <p:spPr>
              <a:xfrm rot="5400000">
                <a:off x="5128200" y="5226840"/>
                <a:ext cx="2466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rot="5400000">
                <a:off x="5127480" y="4790880"/>
                <a:ext cx="2480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 rot="5400000">
                <a:off x="5128200" y="4937040"/>
                <a:ext cx="2466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 rot="5400000">
                <a:off x="5128200" y="5083200"/>
                <a:ext cx="2466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7" name=""/>
            <p:cNvSpPr/>
            <p:nvPr/>
          </p:nvSpPr>
          <p:spPr>
            <a:xfrm>
              <a:off x="5676840" y="5735160"/>
              <a:ext cx="0" cy="12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5460840" y="5194440"/>
              <a:ext cx="748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981760" y="5757120"/>
              <a:ext cx="0" cy="12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00840" y="5858640"/>
              <a:ext cx="39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994360" y="3056760"/>
              <a:ext cx="6480" cy="21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 flipV="1">
              <a:off x="5937120" y="3016440"/>
              <a:ext cx="74880" cy="6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6051600" y="5183640"/>
              <a:ext cx="7452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4" name=""/>
            <p:cNvGrpSpPr/>
            <p:nvPr/>
          </p:nvGrpSpPr>
          <p:grpSpPr>
            <a:xfrm>
              <a:off x="5880240" y="5123880"/>
              <a:ext cx="914040" cy="683280"/>
              <a:chOff x="5880240" y="5123880"/>
              <a:chExt cx="914040" cy="683280"/>
            </a:xfrm>
          </p:grpSpPr>
          <p:sp>
            <p:nvSpPr>
              <p:cNvPr id="3825" name=""/>
              <p:cNvSpPr/>
              <p:nvPr/>
            </p:nvSpPr>
            <p:spPr>
              <a:xfrm flipH="1" rot="16200000">
                <a:off x="6213600" y="5226840"/>
                <a:ext cx="2466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H="1" rot="16200000">
                <a:off x="6212880" y="4790880"/>
                <a:ext cx="2480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 rot="16200000">
                <a:off x="6213600" y="4937040"/>
                <a:ext cx="2466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H="1" rot="16200000">
                <a:off x="6213600" y="5083200"/>
                <a:ext cx="2466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9" name=""/>
            <p:cNvGrpSpPr/>
            <p:nvPr/>
          </p:nvGrpSpPr>
          <p:grpSpPr>
            <a:xfrm>
              <a:off x="4070520" y="4562640"/>
              <a:ext cx="407880" cy="469080"/>
              <a:chOff x="4070520" y="4562640"/>
              <a:chExt cx="407880" cy="469080"/>
            </a:xfrm>
          </p:grpSpPr>
          <p:sp>
            <p:nvSpPr>
              <p:cNvPr id="3830" name=""/>
              <p:cNvSpPr/>
              <p:nvPr/>
            </p:nvSpPr>
            <p:spPr>
              <a:xfrm>
                <a:off x="4276800" y="4562640"/>
                <a:ext cx="0" cy="46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4070520" y="4699080"/>
                <a:ext cx="206280" cy="18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276800" y="4938840"/>
                <a:ext cx="201600" cy="1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286160" y="4656600"/>
                <a:ext cx="19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4" name=""/>
            <p:cNvSpPr/>
            <p:nvPr/>
          </p:nvSpPr>
          <p:spPr>
            <a:xfrm>
              <a:off x="4476600" y="42246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457880" y="4974840"/>
              <a:ext cx="0" cy="12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6" name=""/>
            <p:cNvGrpSpPr/>
            <p:nvPr/>
          </p:nvGrpSpPr>
          <p:grpSpPr>
            <a:xfrm>
              <a:off x="1518480" y="3706920"/>
              <a:ext cx="1332360" cy="1218960"/>
              <a:chOff x="1518480" y="3706920"/>
              <a:chExt cx="1332360" cy="1218960"/>
            </a:xfrm>
          </p:grpSpPr>
          <p:sp>
            <p:nvSpPr>
              <p:cNvPr id="3837" name=""/>
              <p:cNvSpPr/>
              <p:nvPr/>
            </p:nvSpPr>
            <p:spPr>
              <a:xfrm flipH="1" rot="16200000">
                <a:off x="1964160" y="4039560"/>
                <a:ext cx="44028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 flipH="1" rot="16200000">
                <a:off x="1962720" y="3262320"/>
                <a:ext cx="44316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 rot="16200000">
                <a:off x="1964160" y="3522960"/>
                <a:ext cx="44028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 flipH="1" rot="16200000">
                <a:off x="1964160" y="3783240"/>
                <a:ext cx="44028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1" name=""/>
            <p:cNvSpPr/>
            <p:nvPr/>
          </p:nvSpPr>
          <p:spPr>
            <a:xfrm>
              <a:off x="1676520" y="2821320"/>
              <a:ext cx="0" cy="97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638360" y="4816080"/>
              <a:ext cx="0" cy="162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449360" y="3872880"/>
              <a:ext cx="0" cy="9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4" name=""/>
            <p:cNvGrpSpPr/>
            <p:nvPr/>
          </p:nvGrpSpPr>
          <p:grpSpPr>
            <a:xfrm>
              <a:off x="32040" y="3689640"/>
              <a:ext cx="1332360" cy="1218600"/>
              <a:chOff x="32040" y="3689640"/>
              <a:chExt cx="1332360" cy="1218600"/>
            </a:xfrm>
          </p:grpSpPr>
          <p:sp>
            <p:nvSpPr>
              <p:cNvPr id="3845" name=""/>
              <p:cNvSpPr/>
              <p:nvPr/>
            </p:nvSpPr>
            <p:spPr>
              <a:xfrm rot="5400000">
                <a:off x="478080" y="4021920"/>
                <a:ext cx="44028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rot="5400000">
                <a:off x="476640" y="3245040"/>
                <a:ext cx="44316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 rot="5400000">
                <a:off x="478080" y="3505680"/>
                <a:ext cx="44028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rot="5400000">
                <a:off x="478080" y="3765600"/>
                <a:ext cx="440280" cy="13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9" name=""/>
            <p:cNvSpPr/>
            <p:nvPr/>
          </p:nvSpPr>
          <p:spPr>
            <a:xfrm>
              <a:off x="1219320" y="3333240"/>
              <a:ext cx="0" cy="45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238400" y="4798440"/>
              <a:ext cx="0" cy="54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31720" y="3315600"/>
              <a:ext cx="687600" cy="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31720" y="5329440"/>
              <a:ext cx="706680" cy="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 rot="16200000">
              <a:off x="2394360" y="3547080"/>
              <a:ext cx="37044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74640" y="3888360"/>
              <a:ext cx="44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3352680" y="5293800"/>
              <a:ext cx="0" cy="56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124760" y="282276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7" name=""/>
            <p:cNvGrpSpPr/>
            <p:nvPr/>
          </p:nvGrpSpPr>
          <p:grpSpPr>
            <a:xfrm>
              <a:off x="2338560" y="4027320"/>
              <a:ext cx="431640" cy="317880"/>
              <a:chOff x="2338560" y="4027320"/>
              <a:chExt cx="431640" cy="317880"/>
            </a:xfrm>
          </p:grpSpPr>
          <p:sp>
            <p:nvSpPr>
              <p:cNvPr id="3858" name=""/>
              <p:cNvSpPr/>
              <p:nvPr/>
            </p:nvSpPr>
            <p:spPr>
              <a:xfrm>
                <a:off x="2338560" y="404280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flipH="1">
                <a:off x="2396880" y="4027320"/>
                <a:ext cx="179280" cy="31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396880" y="4345200"/>
                <a:ext cx="34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592360" y="4042800"/>
                <a:ext cx="142560" cy="30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2" name=""/>
            <p:cNvSpPr/>
            <p:nvPr/>
          </p:nvSpPr>
          <p:spPr>
            <a:xfrm flipV="1">
              <a:off x="1593720" y="5803560"/>
              <a:ext cx="8892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V="1">
              <a:off x="2508120" y="4638960"/>
              <a:ext cx="8892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rot="16200000">
              <a:off x="3156480" y="3582360"/>
              <a:ext cx="370440" cy="209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rot="16200000">
              <a:off x="3175200" y="4129200"/>
              <a:ext cx="37044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flipH="1">
              <a:off x="3467160" y="4192200"/>
              <a:ext cx="2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flipV="1">
              <a:off x="3689280" y="4656960"/>
              <a:ext cx="8892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flipV="1">
              <a:off x="3308400" y="4656960"/>
              <a:ext cx="8892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9" name=""/>
            <p:cNvGrpSpPr/>
            <p:nvPr/>
          </p:nvGrpSpPr>
          <p:grpSpPr>
            <a:xfrm>
              <a:off x="3162240" y="5162760"/>
              <a:ext cx="381240" cy="141120"/>
              <a:chOff x="3162240" y="5162760"/>
              <a:chExt cx="381240" cy="141120"/>
            </a:xfrm>
          </p:grpSpPr>
          <p:sp>
            <p:nvSpPr>
              <p:cNvPr id="3870" name=""/>
              <p:cNvSpPr/>
              <p:nvPr/>
            </p:nvSpPr>
            <p:spPr>
              <a:xfrm>
                <a:off x="3162240" y="516276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3162240" y="53038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2" name=""/>
            <p:cNvSpPr/>
            <p:nvPr/>
          </p:nvSpPr>
          <p:spPr>
            <a:xfrm flipV="1">
              <a:off x="4908600" y="5821200"/>
              <a:ext cx="8892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V="1">
              <a:off x="4889520" y="3244320"/>
              <a:ext cx="8892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 flipV="1">
              <a:off x="3308400" y="5806440"/>
              <a:ext cx="8892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476600" y="422748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rot="16200000">
              <a:off x="4775400" y="5400360"/>
              <a:ext cx="37044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 rot="16200000">
              <a:off x="4775400" y="4112280"/>
              <a:ext cx="370800" cy="20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762280" y="5063040"/>
              <a:ext cx="0" cy="12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600880" y="5080320"/>
              <a:ext cx="0" cy="12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745240" y="2834640"/>
              <a:ext cx="249120" cy="22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1" name=""/>
            <p:cNvGrpSpPr/>
            <p:nvPr/>
          </p:nvGrpSpPr>
          <p:grpSpPr>
            <a:xfrm>
              <a:off x="5430960" y="2587320"/>
              <a:ext cx="342720" cy="399600"/>
              <a:chOff x="5430960" y="2587320"/>
              <a:chExt cx="342720" cy="399600"/>
            </a:xfrm>
          </p:grpSpPr>
          <p:sp>
            <p:nvSpPr>
              <p:cNvPr id="3882" name=""/>
              <p:cNvSpPr/>
              <p:nvPr/>
            </p:nvSpPr>
            <p:spPr>
              <a:xfrm>
                <a:off x="5757120" y="2587320"/>
                <a:ext cx="0" cy="39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 flipH="1" flipV="1">
                <a:off x="5430960" y="2640960"/>
                <a:ext cx="342720" cy="16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430960" y="2641320"/>
                <a:ext cx="0" cy="31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flipH="1">
                <a:off x="5431320" y="2822400"/>
                <a:ext cx="325800" cy="13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6" name=""/>
            <p:cNvGrpSpPr/>
            <p:nvPr/>
          </p:nvGrpSpPr>
          <p:grpSpPr>
            <a:xfrm>
              <a:off x="6743880" y="2577600"/>
              <a:ext cx="438120" cy="459720"/>
              <a:chOff x="6743880" y="2577600"/>
              <a:chExt cx="438120" cy="459720"/>
            </a:xfrm>
          </p:grpSpPr>
          <p:sp>
            <p:nvSpPr>
              <p:cNvPr id="3887" name=""/>
              <p:cNvSpPr/>
              <p:nvPr/>
            </p:nvSpPr>
            <p:spPr>
              <a:xfrm>
                <a:off x="6743880" y="2621160"/>
                <a:ext cx="438120" cy="4071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763680" y="257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9" name=""/>
            <p:cNvSpPr/>
            <p:nvPr/>
          </p:nvSpPr>
          <p:spPr>
            <a:xfrm>
              <a:off x="1657440" y="6422040"/>
              <a:ext cx="5937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6356520" y="2786040"/>
              <a:ext cx="8856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V="1">
              <a:off x="2527200" y="5803560"/>
              <a:ext cx="8892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V="1">
              <a:off x="6356520" y="3261960"/>
              <a:ext cx="8856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 flipV="1">
              <a:off x="7594560" y="2768040"/>
              <a:ext cx="88920" cy="6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 flipV="1">
              <a:off x="7594560" y="6386760"/>
              <a:ext cx="88920" cy="6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7327800" y="2840400"/>
              <a:ext cx="7920" cy="358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6" name=""/>
            <p:cNvGrpSpPr/>
            <p:nvPr/>
          </p:nvGrpSpPr>
          <p:grpSpPr>
            <a:xfrm>
              <a:off x="7099200" y="4243320"/>
              <a:ext cx="438120" cy="459720"/>
              <a:chOff x="7099200" y="4243320"/>
              <a:chExt cx="438120" cy="459720"/>
            </a:xfrm>
          </p:grpSpPr>
          <p:sp>
            <p:nvSpPr>
              <p:cNvPr id="3897" name=""/>
              <p:cNvSpPr/>
              <p:nvPr/>
            </p:nvSpPr>
            <p:spPr>
              <a:xfrm>
                <a:off x="7099200" y="4286160"/>
                <a:ext cx="438120" cy="406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119000" y="4243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9" name=""/>
            <p:cNvSpPr/>
            <p:nvPr/>
          </p:nvSpPr>
          <p:spPr>
            <a:xfrm flipV="1">
              <a:off x="7270920" y="6369120"/>
              <a:ext cx="8856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V="1">
              <a:off x="7270920" y="2786040"/>
              <a:ext cx="8856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8261280" y="2787480"/>
              <a:ext cx="7920" cy="158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>
              <a:off x="7784640" y="27979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H="1">
              <a:off x="7784640" y="64159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4" name=""/>
            <p:cNvGrpSpPr/>
            <p:nvPr/>
          </p:nvGrpSpPr>
          <p:grpSpPr>
            <a:xfrm>
              <a:off x="8077320" y="4368600"/>
              <a:ext cx="361800" cy="325080"/>
              <a:chOff x="8077320" y="4368600"/>
              <a:chExt cx="361800" cy="325080"/>
            </a:xfrm>
          </p:grpSpPr>
          <p:sp>
            <p:nvSpPr>
              <p:cNvPr id="3905" name=""/>
              <p:cNvSpPr/>
              <p:nvPr/>
            </p:nvSpPr>
            <p:spPr>
              <a:xfrm>
                <a:off x="8077320" y="436860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8077320" y="458748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8172360" y="4481640"/>
                <a:ext cx="19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8172360" y="4693680"/>
                <a:ext cx="19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9" name=""/>
            <p:cNvSpPr/>
            <p:nvPr/>
          </p:nvSpPr>
          <p:spPr>
            <a:xfrm>
              <a:off x="8242200" y="4676040"/>
              <a:ext cx="7920" cy="173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3338280" y="338364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355280" y="5214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060160" y="3891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726280" y="3926520"/>
              <a:ext cx="541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1820520" y="3944160"/>
              <a:ext cx="6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815480" y="4897440"/>
              <a:ext cx="573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355000" y="2208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548160" y="4979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7452000" y="270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466040" y="58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8438760" y="3618360"/>
              <a:ext cx="394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V="1">
              <a:off x="1643040" y="3289680"/>
              <a:ext cx="8892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839400" y="4041360"/>
              <a:ext cx="609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3" name=""/>
          <p:cNvSpPr/>
          <p:nvPr/>
        </p:nvSpPr>
        <p:spPr>
          <a:xfrm>
            <a:off x="479520" y="400680"/>
            <a:ext cx="835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发电路和可控整流电路的同步是由二极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来完成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2987640" y="3124080"/>
            <a:ext cx="2651040" cy="291168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531720" y="1095120"/>
            <a:ext cx="861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交流电压过零变负后，电容通过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迅速放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496800" y="1462320"/>
            <a:ext cx="86122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流电压过零变正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，电瓶电压通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充电。改变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值，可设定电瓶的初始充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。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1725480" y="4016520"/>
            <a:ext cx="0" cy="105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"/>
          <p:cNvSpPr/>
          <p:nvPr/>
        </p:nvSpPr>
        <p:spPr>
          <a:xfrm>
            <a:off x="1428480" y="6994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双向晶闸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1210320" y="1689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1996920" y="1870200"/>
            <a:ext cx="623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当于两个晶闸管反向并联，两者共用一个控制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1210320" y="275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符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2" name=""/>
          <p:cNvGrpSpPr/>
          <p:nvPr/>
        </p:nvGrpSpPr>
        <p:grpSpPr>
          <a:xfrm>
            <a:off x="2294280" y="2730240"/>
            <a:ext cx="4267440" cy="2666160"/>
            <a:chOff x="2294280" y="2730240"/>
            <a:chExt cx="4267440" cy="2666160"/>
          </a:xfrm>
        </p:grpSpPr>
        <p:sp>
          <p:nvSpPr>
            <p:cNvPr id="3933" name=""/>
            <p:cNvSpPr/>
            <p:nvPr/>
          </p:nvSpPr>
          <p:spPr>
            <a:xfrm>
              <a:off x="4093920" y="44020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843360" y="3681360"/>
              <a:ext cx="118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814560" y="3682800"/>
              <a:ext cx="36360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3857760" y="4144680"/>
              <a:ext cx="118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4184640" y="3026520"/>
              <a:ext cx="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H="1">
              <a:off x="4186080" y="3679560"/>
              <a:ext cx="349200" cy="4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H="1">
              <a:off x="4295520" y="3698640"/>
              <a:ext cx="347400" cy="4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V="1">
              <a:off x="4559400" y="3202920"/>
              <a:ext cx="23148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775040" y="3195360"/>
              <a:ext cx="30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2" name=""/>
            <p:cNvGrpSpPr/>
            <p:nvPr/>
          </p:nvGrpSpPr>
          <p:grpSpPr>
            <a:xfrm>
              <a:off x="4622760" y="3674880"/>
              <a:ext cx="106200" cy="1182600"/>
              <a:chOff x="4622760" y="3674880"/>
              <a:chExt cx="106200" cy="1182600"/>
            </a:xfrm>
          </p:grpSpPr>
          <p:sp>
            <p:nvSpPr>
              <p:cNvPr id="3943" name=""/>
              <p:cNvSpPr/>
              <p:nvPr/>
            </p:nvSpPr>
            <p:spPr>
              <a:xfrm>
                <a:off x="4686120" y="3674880"/>
                <a:ext cx="0" cy="109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4622760" y="4736880"/>
                <a:ext cx="106200" cy="120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5" name=""/>
            <p:cNvSpPr/>
            <p:nvPr/>
          </p:nvSpPr>
          <p:spPr>
            <a:xfrm>
              <a:off x="5046480" y="3106440"/>
              <a:ext cx="114480" cy="132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133880" y="2952720"/>
              <a:ext cx="117360" cy="129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3628800" y="27302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108760" y="27424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4654440" y="3682800"/>
              <a:ext cx="36504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740920" y="2742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控制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4397760" y="48758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第一电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94280" y="2756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第二电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3" name=""/>
          <p:cNvGrpSpPr/>
          <p:nvPr/>
        </p:nvGrpSpPr>
        <p:grpSpPr>
          <a:xfrm>
            <a:off x="493560" y="1370160"/>
            <a:ext cx="5810400" cy="161640"/>
            <a:chOff x="493560" y="1370160"/>
            <a:chExt cx="5810400" cy="161640"/>
          </a:xfrm>
        </p:grpSpPr>
        <p:pic>
          <p:nvPicPr>
            <p:cNvPr id="3954" name="" descr=""/>
            <p:cNvPicPr/>
            <p:nvPr/>
          </p:nvPicPr>
          <p:blipFill>
            <a:blip r:embed="rId1"/>
            <a:stretch/>
          </p:blipFill>
          <p:spPr>
            <a:xfrm>
              <a:off x="4935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5" name="" descr=""/>
            <p:cNvPicPr/>
            <p:nvPr/>
          </p:nvPicPr>
          <p:blipFill>
            <a:blip r:embed="rId2"/>
            <a:stretch/>
          </p:blipFill>
          <p:spPr>
            <a:xfrm>
              <a:off x="6555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6" name="" descr=""/>
            <p:cNvPicPr/>
            <p:nvPr/>
          </p:nvPicPr>
          <p:blipFill>
            <a:blip r:embed="rId3"/>
            <a:stretch/>
          </p:blipFill>
          <p:spPr>
            <a:xfrm>
              <a:off x="9507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7" name="" descr=""/>
            <p:cNvPicPr/>
            <p:nvPr/>
          </p:nvPicPr>
          <p:blipFill>
            <a:blip r:embed="rId4"/>
            <a:stretch/>
          </p:blipFill>
          <p:spPr>
            <a:xfrm>
              <a:off x="11127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8" name="" descr=""/>
            <p:cNvPicPr/>
            <p:nvPr/>
          </p:nvPicPr>
          <p:blipFill>
            <a:blip r:embed="rId5"/>
            <a:stretch/>
          </p:blipFill>
          <p:spPr>
            <a:xfrm>
              <a:off x="12650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9" name="" descr=""/>
            <p:cNvPicPr/>
            <p:nvPr/>
          </p:nvPicPr>
          <p:blipFill>
            <a:blip r:embed="rId6"/>
            <a:stretch/>
          </p:blipFill>
          <p:spPr>
            <a:xfrm>
              <a:off x="14079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0" name="" descr=""/>
            <p:cNvPicPr/>
            <p:nvPr/>
          </p:nvPicPr>
          <p:blipFill>
            <a:blip r:embed="rId7"/>
            <a:stretch/>
          </p:blipFill>
          <p:spPr>
            <a:xfrm>
              <a:off x="8078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1" name="" descr=""/>
            <p:cNvPicPr/>
            <p:nvPr/>
          </p:nvPicPr>
          <p:blipFill>
            <a:blip r:embed="rId8"/>
            <a:stretch/>
          </p:blipFill>
          <p:spPr>
            <a:xfrm>
              <a:off x="15699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2" name="" descr=""/>
            <p:cNvPicPr/>
            <p:nvPr/>
          </p:nvPicPr>
          <p:blipFill>
            <a:blip r:embed="rId9"/>
            <a:stretch/>
          </p:blipFill>
          <p:spPr>
            <a:xfrm>
              <a:off x="17222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3" name="" descr=""/>
            <p:cNvPicPr/>
            <p:nvPr/>
          </p:nvPicPr>
          <p:blipFill>
            <a:blip r:embed="rId10"/>
            <a:stretch/>
          </p:blipFill>
          <p:spPr>
            <a:xfrm>
              <a:off x="18651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4" name="" descr=""/>
            <p:cNvPicPr/>
            <p:nvPr/>
          </p:nvPicPr>
          <p:blipFill>
            <a:blip r:embed="rId11"/>
            <a:stretch/>
          </p:blipFill>
          <p:spPr>
            <a:xfrm>
              <a:off x="20271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5" name="" descr=""/>
            <p:cNvPicPr/>
            <p:nvPr/>
          </p:nvPicPr>
          <p:blipFill>
            <a:blip r:embed="rId12"/>
            <a:stretch/>
          </p:blipFill>
          <p:spPr>
            <a:xfrm>
              <a:off x="21794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6" name="" descr=""/>
            <p:cNvPicPr/>
            <p:nvPr/>
          </p:nvPicPr>
          <p:blipFill>
            <a:blip r:embed="rId13"/>
            <a:stretch/>
          </p:blipFill>
          <p:spPr>
            <a:xfrm>
              <a:off x="23223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7" name="" descr=""/>
            <p:cNvPicPr/>
            <p:nvPr/>
          </p:nvPicPr>
          <p:blipFill>
            <a:blip r:embed="rId14"/>
            <a:stretch/>
          </p:blipFill>
          <p:spPr>
            <a:xfrm>
              <a:off x="24843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8" name="" descr=""/>
            <p:cNvPicPr/>
            <p:nvPr/>
          </p:nvPicPr>
          <p:blipFill>
            <a:blip r:embed="rId15"/>
            <a:stretch/>
          </p:blipFill>
          <p:spPr>
            <a:xfrm>
              <a:off x="27795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9" name="" descr=""/>
            <p:cNvPicPr/>
            <p:nvPr/>
          </p:nvPicPr>
          <p:blipFill>
            <a:blip r:embed="rId16"/>
            <a:stretch/>
          </p:blipFill>
          <p:spPr>
            <a:xfrm>
              <a:off x="29415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0" name="" descr=""/>
            <p:cNvPicPr/>
            <p:nvPr/>
          </p:nvPicPr>
          <p:blipFill>
            <a:blip r:embed="rId17"/>
            <a:stretch/>
          </p:blipFill>
          <p:spPr>
            <a:xfrm>
              <a:off x="30938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" descr=""/>
            <p:cNvPicPr/>
            <p:nvPr/>
          </p:nvPicPr>
          <p:blipFill>
            <a:blip r:embed="rId18"/>
            <a:stretch/>
          </p:blipFill>
          <p:spPr>
            <a:xfrm>
              <a:off x="32367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2" name="" descr=""/>
            <p:cNvPicPr/>
            <p:nvPr/>
          </p:nvPicPr>
          <p:blipFill>
            <a:blip r:embed="rId19"/>
            <a:stretch/>
          </p:blipFill>
          <p:spPr>
            <a:xfrm>
              <a:off x="33987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3" name="" descr=""/>
            <p:cNvPicPr/>
            <p:nvPr/>
          </p:nvPicPr>
          <p:blipFill>
            <a:blip r:embed="rId20"/>
            <a:stretch/>
          </p:blipFill>
          <p:spPr>
            <a:xfrm>
              <a:off x="36939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4" name="" descr=""/>
            <p:cNvPicPr/>
            <p:nvPr/>
          </p:nvPicPr>
          <p:blipFill>
            <a:blip r:embed="rId21"/>
            <a:stretch/>
          </p:blipFill>
          <p:spPr>
            <a:xfrm>
              <a:off x="38559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5" name="" descr=""/>
            <p:cNvPicPr/>
            <p:nvPr/>
          </p:nvPicPr>
          <p:blipFill>
            <a:blip r:embed="rId22"/>
            <a:stretch/>
          </p:blipFill>
          <p:spPr>
            <a:xfrm>
              <a:off x="40082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6" name="" descr=""/>
            <p:cNvPicPr/>
            <p:nvPr/>
          </p:nvPicPr>
          <p:blipFill>
            <a:blip r:embed="rId23"/>
            <a:stretch/>
          </p:blipFill>
          <p:spPr>
            <a:xfrm>
              <a:off x="41511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7" name="" descr=""/>
            <p:cNvPicPr/>
            <p:nvPr/>
          </p:nvPicPr>
          <p:blipFill>
            <a:blip r:embed="rId24"/>
            <a:stretch/>
          </p:blipFill>
          <p:spPr>
            <a:xfrm>
              <a:off x="26366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8" name="" descr=""/>
            <p:cNvPicPr/>
            <p:nvPr/>
          </p:nvPicPr>
          <p:blipFill>
            <a:blip r:embed="rId25"/>
            <a:stretch/>
          </p:blipFill>
          <p:spPr>
            <a:xfrm>
              <a:off x="35510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9" name="" descr=""/>
            <p:cNvPicPr/>
            <p:nvPr/>
          </p:nvPicPr>
          <p:blipFill>
            <a:blip r:embed="rId26"/>
            <a:stretch/>
          </p:blipFill>
          <p:spPr>
            <a:xfrm>
              <a:off x="43131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0" name="" descr=""/>
            <p:cNvPicPr/>
            <p:nvPr/>
          </p:nvPicPr>
          <p:blipFill>
            <a:blip r:embed="rId27"/>
            <a:stretch/>
          </p:blipFill>
          <p:spPr>
            <a:xfrm>
              <a:off x="44654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1" name="" descr=""/>
            <p:cNvPicPr/>
            <p:nvPr/>
          </p:nvPicPr>
          <p:blipFill>
            <a:blip r:embed="rId28"/>
            <a:stretch/>
          </p:blipFill>
          <p:spPr>
            <a:xfrm>
              <a:off x="46083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2" name="" descr=""/>
            <p:cNvPicPr/>
            <p:nvPr/>
          </p:nvPicPr>
          <p:blipFill>
            <a:blip r:embed="rId29"/>
            <a:stretch/>
          </p:blipFill>
          <p:spPr>
            <a:xfrm>
              <a:off x="47703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3" name="" descr=""/>
            <p:cNvPicPr/>
            <p:nvPr/>
          </p:nvPicPr>
          <p:blipFill>
            <a:blip r:embed="rId30"/>
            <a:stretch/>
          </p:blipFill>
          <p:spPr>
            <a:xfrm>
              <a:off x="49226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4" name="" descr=""/>
            <p:cNvPicPr/>
            <p:nvPr/>
          </p:nvPicPr>
          <p:blipFill>
            <a:blip r:embed="rId31"/>
            <a:stretch/>
          </p:blipFill>
          <p:spPr>
            <a:xfrm>
              <a:off x="50655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5" name="" descr=""/>
            <p:cNvPicPr/>
            <p:nvPr/>
          </p:nvPicPr>
          <p:blipFill>
            <a:blip r:embed="rId32"/>
            <a:stretch/>
          </p:blipFill>
          <p:spPr>
            <a:xfrm>
              <a:off x="52275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6" name="" descr=""/>
            <p:cNvPicPr/>
            <p:nvPr/>
          </p:nvPicPr>
          <p:blipFill>
            <a:blip r:embed="rId33"/>
            <a:stretch/>
          </p:blipFill>
          <p:spPr>
            <a:xfrm>
              <a:off x="55227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7" name="" descr=""/>
            <p:cNvPicPr/>
            <p:nvPr/>
          </p:nvPicPr>
          <p:blipFill>
            <a:blip r:embed="rId34"/>
            <a:stretch/>
          </p:blipFill>
          <p:spPr>
            <a:xfrm>
              <a:off x="56847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8" name="" descr=""/>
            <p:cNvPicPr/>
            <p:nvPr/>
          </p:nvPicPr>
          <p:blipFill>
            <a:blip r:embed="rId35"/>
            <a:stretch/>
          </p:blipFill>
          <p:spPr>
            <a:xfrm>
              <a:off x="58370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9" name="" descr=""/>
            <p:cNvPicPr/>
            <p:nvPr/>
          </p:nvPicPr>
          <p:blipFill>
            <a:blip r:embed="rId36"/>
            <a:stretch/>
          </p:blipFill>
          <p:spPr>
            <a:xfrm>
              <a:off x="59799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0" name="" descr=""/>
            <p:cNvPicPr/>
            <p:nvPr/>
          </p:nvPicPr>
          <p:blipFill>
            <a:blip r:embed="rId37"/>
            <a:stretch/>
          </p:blipFill>
          <p:spPr>
            <a:xfrm>
              <a:off x="614196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1" name="" descr=""/>
            <p:cNvPicPr/>
            <p:nvPr/>
          </p:nvPicPr>
          <p:blipFill>
            <a:blip r:embed="rId38"/>
            <a:stretch/>
          </p:blipFill>
          <p:spPr>
            <a:xfrm>
              <a:off x="5379840" y="137016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2" name=""/>
          <p:cNvSpPr/>
          <p:nvPr/>
        </p:nvSpPr>
        <p:spPr>
          <a:xfrm>
            <a:off x="2192760" y="55864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控制电压的控制可实现双向导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3" name=""/>
          <p:cNvGrpSpPr/>
          <p:nvPr/>
        </p:nvGrpSpPr>
        <p:grpSpPr>
          <a:xfrm>
            <a:off x="828720" y="435960"/>
            <a:ext cx="1888560" cy="520560"/>
            <a:chOff x="828720" y="435960"/>
            <a:chExt cx="1888560" cy="520560"/>
          </a:xfrm>
        </p:grpSpPr>
        <p:sp>
          <p:nvSpPr>
            <p:cNvPr id="3994" name=""/>
            <p:cNvSpPr/>
            <p:nvPr/>
          </p:nvSpPr>
          <p:spPr>
            <a:xfrm>
              <a:off x="828720" y="438120"/>
              <a:ext cx="380880" cy="380880"/>
            </a:xfrm>
            <a:prstGeom prst="star5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683000" y="435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工作原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6" name=""/>
          <p:cNvSpPr/>
          <p:nvPr/>
        </p:nvSpPr>
        <p:spPr>
          <a:xfrm>
            <a:off x="933480" y="1495440"/>
            <a:ext cx="171360" cy="15228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1257480" y="1104840"/>
            <a:ext cx="75769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对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正脉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向导通，电流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314360" y="2476440"/>
            <a:ext cx="75772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极相对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负脉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向导通，电流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971640" y="2819520"/>
            <a:ext cx="171360" cy="15228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0" name=""/>
          <p:cNvGraphicFramePr/>
          <p:nvPr/>
        </p:nvGraphicFramePr>
        <p:xfrm>
          <a:off x="666720" y="4557600"/>
          <a:ext cx="249552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4557600"/>
                    <a:ext cx="24955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02" name=""/>
          <p:cNvGrpSpPr/>
          <p:nvPr/>
        </p:nvGrpSpPr>
        <p:grpSpPr>
          <a:xfrm>
            <a:off x="363600" y="1022400"/>
            <a:ext cx="5809680" cy="162000"/>
            <a:chOff x="363600" y="1022400"/>
            <a:chExt cx="5809680" cy="162000"/>
          </a:xfrm>
        </p:grpSpPr>
        <p:pic>
          <p:nvPicPr>
            <p:cNvPr id="4003" name="" descr=""/>
            <p:cNvPicPr/>
            <p:nvPr/>
          </p:nvPicPr>
          <p:blipFill>
            <a:blip r:embed="rId3"/>
            <a:stretch/>
          </p:blipFill>
          <p:spPr>
            <a:xfrm>
              <a:off x="36360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4" name="" descr=""/>
            <p:cNvPicPr/>
            <p:nvPr/>
          </p:nvPicPr>
          <p:blipFill>
            <a:blip r:embed="rId4"/>
            <a:stretch/>
          </p:blipFill>
          <p:spPr>
            <a:xfrm>
              <a:off x="5252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5" name="" descr=""/>
            <p:cNvPicPr/>
            <p:nvPr/>
          </p:nvPicPr>
          <p:blipFill>
            <a:blip r:embed="rId5"/>
            <a:stretch/>
          </p:blipFill>
          <p:spPr>
            <a:xfrm>
              <a:off x="8204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6" name="" descr=""/>
            <p:cNvPicPr/>
            <p:nvPr/>
          </p:nvPicPr>
          <p:blipFill>
            <a:blip r:embed="rId6"/>
            <a:stretch/>
          </p:blipFill>
          <p:spPr>
            <a:xfrm>
              <a:off x="9824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7" name="" descr=""/>
            <p:cNvPicPr/>
            <p:nvPr/>
          </p:nvPicPr>
          <p:blipFill>
            <a:blip r:embed="rId7"/>
            <a:stretch/>
          </p:blipFill>
          <p:spPr>
            <a:xfrm>
              <a:off x="11347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8" name="" descr=""/>
            <p:cNvPicPr/>
            <p:nvPr/>
          </p:nvPicPr>
          <p:blipFill>
            <a:blip r:embed="rId8"/>
            <a:stretch/>
          </p:blipFill>
          <p:spPr>
            <a:xfrm>
              <a:off x="12776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9" name="" descr=""/>
            <p:cNvPicPr/>
            <p:nvPr/>
          </p:nvPicPr>
          <p:blipFill>
            <a:blip r:embed="rId9"/>
            <a:stretch/>
          </p:blipFill>
          <p:spPr>
            <a:xfrm>
              <a:off x="6775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0" name="" descr=""/>
            <p:cNvPicPr/>
            <p:nvPr/>
          </p:nvPicPr>
          <p:blipFill>
            <a:blip r:embed="rId10"/>
            <a:stretch/>
          </p:blipFill>
          <p:spPr>
            <a:xfrm>
              <a:off x="14396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1" name="" descr=""/>
            <p:cNvPicPr/>
            <p:nvPr/>
          </p:nvPicPr>
          <p:blipFill>
            <a:blip r:embed="rId11"/>
            <a:stretch/>
          </p:blipFill>
          <p:spPr>
            <a:xfrm>
              <a:off x="15919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2" name="" descr=""/>
            <p:cNvPicPr/>
            <p:nvPr/>
          </p:nvPicPr>
          <p:blipFill>
            <a:blip r:embed="rId12"/>
            <a:stretch/>
          </p:blipFill>
          <p:spPr>
            <a:xfrm>
              <a:off x="17348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3" name="" descr=""/>
            <p:cNvPicPr/>
            <p:nvPr/>
          </p:nvPicPr>
          <p:blipFill>
            <a:blip r:embed="rId13"/>
            <a:stretch/>
          </p:blipFill>
          <p:spPr>
            <a:xfrm>
              <a:off x="18968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4" name="" descr=""/>
            <p:cNvPicPr/>
            <p:nvPr/>
          </p:nvPicPr>
          <p:blipFill>
            <a:blip r:embed="rId14"/>
            <a:stretch/>
          </p:blipFill>
          <p:spPr>
            <a:xfrm>
              <a:off x="20491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5" name="" descr=""/>
            <p:cNvPicPr/>
            <p:nvPr/>
          </p:nvPicPr>
          <p:blipFill>
            <a:blip r:embed="rId15"/>
            <a:stretch/>
          </p:blipFill>
          <p:spPr>
            <a:xfrm>
              <a:off x="21920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6" name="" descr=""/>
            <p:cNvPicPr/>
            <p:nvPr/>
          </p:nvPicPr>
          <p:blipFill>
            <a:blip r:embed="rId16"/>
            <a:stretch/>
          </p:blipFill>
          <p:spPr>
            <a:xfrm>
              <a:off x="23540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7" name="" descr=""/>
            <p:cNvPicPr/>
            <p:nvPr/>
          </p:nvPicPr>
          <p:blipFill>
            <a:blip r:embed="rId17"/>
            <a:stretch/>
          </p:blipFill>
          <p:spPr>
            <a:xfrm>
              <a:off x="26492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8" name="" descr=""/>
            <p:cNvPicPr/>
            <p:nvPr/>
          </p:nvPicPr>
          <p:blipFill>
            <a:blip r:embed="rId18"/>
            <a:stretch/>
          </p:blipFill>
          <p:spPr>
            <a:xfrm>
              <a:off x="28112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9" name="" descr=""/>
            <p:cNvPicPr/>
            <p:nvPr/>
          </p:nvPicPr>
          <p:blipFill>
            <a:blip r:embed="rId19"/>
            <a:stretch/>
          </p:blipFill>
          <p:spPr>
            <a:xfrm>
              <a:off x="29635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0" name="" descr=""/>
            <p:cNvPicPr/>
            <p:nvPr/>
          </p:nvPicPr>
          <p:blipFill>
            <a:blip r:embed="rId20"/>
            <a:stretch/>
          </p:blipFill>
          <p:spPr>
            <a:xfrm>
              <a:off x="31064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1" name="" descr=""/>
            <p:cNvPicPr/>
            <p:nvPr/>
          </p:nvPicPr>
          <p:blipFill>
            <a:blip r:embed="rId21"/>
            <a:stretch/>
          </p:blipFill>
          <p:spPr>
            <a:xfrm>
              <a:off x="32684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2" name="" descr=""/>
            <p:cNvPicPr/>
            <p:nvPr/>
          </p:nvPicPr>
          <p:blipFill>
            <a:blip r:embed="rId22"/>
            <a:stretch/>
          </p:blipFill>
          <p:spPr>
            <a:xfrm>
              <a:off x="35636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3" name="" descr=""/>
            <p:cNvPicPr/>
            <p:nvPr/>
          </p:nvPicPr>
          <p:blipFill>
            <a:blip r:embed="rId23"/>
            <a:stretch/>
          </p:blipFill>
          <p:spPr>
            <a:xfrm>
              <a:off x="37256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4" name="" descr=""/>
            <p:cNvPicPr/>
            <p:nvPr/>
          </p:nvPicPr>
          <p:blipFill>
            <a:blip r:embed="rId24"/>
            <a:stretch/>
          </p:blipFill>
          <p:spPr>
            <a:xfrm>
              <a:off x="38779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5" name="" descr=""/>
            <p:cNvPicPr/>
            <p:nvPr/>
          </p:nvPicPr>
          <p:blipFill>
            <a:blip r:embed="rId25"/>
            <a:stretch/>
          </p:blipFill>
          <p:spPr>
            <a:xfrm>
              <a:off x="40208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" descr=""/>
            <p:cNvPicPr/>
            <p:nvPr/>
          </p:nvPicPr>
          <p:blipFill>
            <a:blip r:embed="rId26"/>
            <a:stretch/>
          </p:blipFill>
          <p:spPr>
            <a:xfrm>
              <a:off x="25063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7" name="" descr=""/>
            <p:cNvPicPr/>
            <p:nvPr/>
          </p:nvPicPr>
          <p:blipFill>
            <a:blip r:embed="rId27"/>
            <a:stretch/>
          </p:blipFill>
          <p:spPr>
            <a:xfrm>
              <a:off x="34207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8" name="" descr=""/>
            <p:cNvPicPr/>
            <p:nvPr/>
          </p:nvPicPr>
          <p:blipFill>
            <a:blip r:embed="rId28"/>
            <a:stretch/>
          </p:blipFill>
          <p:spPr>
            <a:xfrm>
              <a:off x="41828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9" name="" descr=""/>
            <p:cNvPicPr/>
            <p:nvPr/>
          </p:nvPicPr>
          <p:blipFill>
            <a:blip r:embed="rId29"/>
            <a:stretch/>
          </p:blipFill>
          <p:spPr>
            <a:xfrm>
              <a:off x="43351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0" name="" descr=""/>
            <p:cNvPicPr/>
            <p:nvPr/>
          </p:nvPicPr>
          <p:blipFill>
            <a:blip r:embed="rId30"/>
            <a:stretch/>
          </p:blipFill>
          <p:spPr>
            <a:xfrm>
              <a:off x="44780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1" name="" descr=""/>
            <p:cNvPicPr/>
            <p:nvPr/>
          </p:nvPicPr>
          <p:blipFill>
            <a:blip r:embed="rId31"/>
            <a:stretch/>
          </p:blipFill>
          <p:spPr>
            <a:xfrm>
              <a:off x="46400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2" name="" descr=""/>
            <p:cNvPicPr/>
            <p:nvPr/>
          </p:nvPicPr>
          <p:blipFill>
            <a:blip r:embed="rId32"/>
            <a:stretch/>
          </p:blipFill>
          <p:spPr>
            <a:xfrm>
              <a:off x="47923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3" name="" descr=""/>
            <p:cNvPicPr/>
            <p:nvPr/>
          </p:nvPicPr>
          <p:blipFill>
            <a:blip r:embed="rId33"/>
            <a:stretch/>
          </p:blipFill>
          <p:spPr>
            <a:xfrm>
              <a:off x="49352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4" name="" descr=""/>
            <p:cNvPicPr/>
            <p:nvPr/>
          </p:nvPicPr>
          <p:blipFill>
            <a:blip r:embed="rId34"/>
            <a:stretch/>
          </p:blipFill>
          <p:spPr>
            <a:xfrm>
              <a:off x="50972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5" name="" descr=""/>
            <p:cNvPicPr/>
            <p:nvPr/>
          </p:nvPicPr>
          <p:blipFill>
            <a:blip r:embed="rId35"/>
            <a:stretch/>
          </p:blipFill>
          <p:spPr>
            <a:xfrm>
              <a:off x="53924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6" name="" descr=""/>
            <p:cNvPicPr/>
            <p:nvPr/>
          </p:nvPicPr>
          <p:blipFill>
            <a:blip r:embed="rId36"/>
            <a:stretch/>
          </p:blipFill>
          <p:spPr>
            <a:xfrm>
              <a:off x="55544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7" name="" descr=""/>
            <p:cNvPicPr/>
            <p:nvPr/>
          </p:nvPicPr>
          <p:blipFill>
            <a:blip r:embed="rId37"/>
            <a:stretch/>
          </p:blipFill>
          <p:spPr>
            <a:xfrm>
              <a:off x="57067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8" name="" descr=""/>
            <p:cNvPicPr/>
            <p:nvPr/>
          </p:nvPicPr>
          <p:blipFill>
            <a:blip r:embed="rId38"/>
            <a:stretch/>
          </p:blipFill>
          <p:spPr>
            <a:xfrm>
              <a:off x="58496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9" name="" descr=""/>
            <p:cNvPicPr/>
            <p:nvPr/>
          </p:nvPicPr>
          <p:blipFill>
            <a:blip r:embed="rId39"/>
            <a:stretch/>
          </p:blipFill>
          <p:spPr>
            <a:xfrm>
              <a:off x="601164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0" name="" descr=""/>
            <p:cNvPicPr/>
            <p:nvPr/>
          </p:nvPicPr>
          <p:blipFill>
            <a:blip r:embed="rId40"/>
            <a:stretch/>
          </p:blipFill>
          <p:spPr>
            <a:xfrm>
              <a:off x="5249520" y="1022400"/>
              <a:ext cx="16164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41" name=""/>
          <p:cNvGrpSpPr/>
          <p:nvPr/>
        </p:nvGrpSpPr>
        <p:grpSpPr>
          <a:xfrm>
            <a:off x="5681520" y="3722760"/>
            <a:ext cx="1936800" cy="2251080"/>
            <a:chOff x="5681520" y="3722760"/>
            <a:chExt cx="1936800" cy="2251080"/>
          </a:xfrm>
        </p:grpSpPr>
        <p:sp>
          <p:nvSpPr>
            <p:cNvPr id="4042" name=""/>
            <p:cNvSpPr/>
            <p:nvPr/>
          </p:nvSpPr>
          <p:spPr>
            <a:xfrm>
              <a:off x="6146640" y="53942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896440" y="4673520"/>
              <a:ext cx="118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867640" y="4674600"/>
              <a:ext cx="363600" cy="44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910480" y="5137200"/>
              <a:ext cx="118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6237720" y="4018680"/>
              <a:ext cx="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>
              <a:off x="6239160" y="4672080"/>
              <a:ext cx="34920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>
              <a:off x="6348600" y="4691160"/>
              <a:ext cx="34776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V="1">
              <a:off x="6612120" y="4195800"/>
              <a:ext cx="231840" cy="48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828120" y="4187880"/>
              <a:ext cx="30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1" name=""/>
            <p:cNvGrpSpPr/>
            <p:nvPr/>
          </p:nvGrpSpPr>
          <p:grpSpPr>
            <a:xfrm>
              <a:off x="6675840" y="4667400"/>
              <a:ext cx="106200" cy="1182600"/>
              <a:chOff x="6675840" y="4667400"/>
              <a:chExt cx="106200" cy="1182600"/>
            </a:xfrm>
          </p:grpSpPr>
          <p:sp>
            <p:nvSpPr>
              <p:cNvPr id="4052" name=""/>
              <p:cNvSpPr/>
              <p:nvPr/>
            </p:nvSpPr>
            <p:spPr>
              <a:xfrm>
                <a:off x="6739200" y="4667400"/>
                <a:ext cx="0" cy="109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675840" y="5729400"/>
                <a:ext cx="106200" cy="120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4" name=""/>
            <p:cNvSpPr/>
            <p:nvPr/>
          </p:nvSpPr>
          <p:spPr>
            <a:xfrm>
              <a:off x="7099560" y="4098960"/>
              <a:ext cx="11448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186600" y="3944880"/>
              <a:ext cx="117720" cy="1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681520" y="372276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161840" y="3734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707520" y="4674600"/>
              <a:ext cx="365040" cy="44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subTitle"/>
          </p:nvPr>
        </p:nvSpPr>
        <p:spPr>
          <a:xfrm>
            <a:off x="641520" y="457200"/>
            <a:ext cx="39304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交流调压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5886360" y="1844640"/>
            <a:ext cx="29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双向二极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只要在其两端加上一定数值的正或负电压即可使其导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1" name=""/>
          <p:cNvGraphicFramePr/>
          <p:nvPr/>
        </p:nvGraphicFramePr>
        <p:xfrm>
          <a:off x="6208560" y="4702320"/>
          <a:ext cx="2495880" cy="16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8560" y="4702320"/>
                    <a:ext cx="249588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63" name=""/>
          <p:cNvGrpSpPr/>
          <p:nvPr/>
        </p:nvGrpSpPr>
        <p:grpSpPr>
          <a:xfrm>
            <a:off x="444600" y="5815080"/>
            <a:ext cx="5494320" cy="187200"/>
            <a:chOff x="444600" y="5815080"/>
            <a:chExt cx="5494320" cy="187200"/>
          </a:xfrm>
        </p:grpSpPr>
        <p:grpSp>
          <p:nvGrpSpPr>
            <p:cNvPr id="4064" name=""/>
            <p:cNvGrpSpPr/>
            <p:nvPr/>
          </p:nvGrpSpPr>
          <p:grpSpPr>
            <a:xfrm>
              <a:off x="444600" y="5830920"/>
              <a:ext cx="1390320" cy="171360"/>
              <a:chOff x="444600" y="5830920"/>
              <a:chExt cx="1390320" cy="171360"/>
            </a:xfrm>
          </p:grpSpPr>
          <p:pic>
            <p:nvPicPr>
              <p:cNvPr id="40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460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7160" y="58309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916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4360" y="58309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0636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35900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501560" y="58309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6356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90180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74" name="" descr=""/>
            <p:cNvPicPr/>
            <p:nvPr/>
          </p:nvPicPr>
          <p:blipFill>
            <a:blip r:embed="rId12"/>
            <a:stretch/>
          </p:blipFill>
          <p:spPr>
            <a:xfrm>
              <a:off x="1816200" y="58309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5" name=""/>
            <p:cNvGrpSpPr/>
            <p:nvPr/>
          </p:nvGrpSpPr>
          <p:grpSpPr>
            <a:xfrm>
              <a:off x="1959120" y="5830920"/>
              <a:ext cx="1990800" cy="171360"/>
              <a:chOff x="1959120" y="5830920"/>
              <a:chExt cx="1990800" cy="171360"/>
            </a:xfrm>
          </p:grpSpPr>
          <p:pic>
            <p:nvPicPr>
              <p:cNvPr id="407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95912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2112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27340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416320" y="58309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578320" y="5830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30600" y="5830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873520" y="5830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520" y="5830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4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187800" y="5830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5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330720" y="5830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6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492720" y="5830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787920" y="5830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645000" y="5830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89" name=""/>
            <p:cNvGrpSpPr/>
            <p:nvPr/>
          </p:nvGrpSpPr>
          <p:grpSpPr>
            <a:xfrm>
              <a:off x="3948120" y="5815080"/>
              <a:ext cx="1990800" cy="171360"/>
              <a:chOff x="3948120" y="5815080"/>
              <a:chExt cx="1990800" cy="171360"/>
            </a:xfrm>
          </p:grpSpPr>
          <p:pic>
            <p:nvPicPr>
              <p:cNvPr id="409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948120" y="581508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110120" y="581508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2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262400" y="581508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05320" y="581508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4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567320" y="5815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719600" y="5815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6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862520" y="5815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7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024520" y="5815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8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176800" y="5815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9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319720" y="5815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0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481720" y="5815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1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776920" y="5815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2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634000" y="581508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03" name=""/>
          <p:cNvGrpSpPr/>
          <p:nvPr/>
        </p:nvGrpSpPr>
        <p:grpSpPr>
          <a:xfrm>
            <a:off x="504720" y="1112760"/>
            <a:ext cx="5494320" cy="187200"/>
            <a:chOff x="504720" y="1112760"/>
            <a:chExt cx="5494320" cy="187200"/>
          </a:xfrm>
        </p:grpSpPr>
        <p:grpSp>
          <p:nvGrpSpPr>
            <p:cNvPr id="4104" name=""/>
            <p:cNvGrpSpPr/>
            <p:nvPr/>
          </p:nvGrpSpPr>
          <p:grpSpPr>
            <a:xfrm>
              <a:off x="504720" y="1128600"/>
              <a:ext cx="1390320" cy="171360"/>
              <a:chOff x="504720" y="1128600"/>
              <a:chExt cx="1390320" cy="171360"/>
            </a:xfrm>
          </p:grpSpPr>
          <p:pic>
            <p:nvPicPr>
              <p:cNvPr id="410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50472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47280" y="11286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80928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1104480" y="11286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26648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141912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1561680" y="11286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2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172368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96192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14" name="" descr=""/>
            <p:cNvPicPr/>
            <p:nvPr/>
          </p:nvPicPr>
          <p:blipFill>
            <a:blip r:embed="rId48"/>
            <a:stretch/>
          </p:blipFill>
          <p:spPr>
            <a:xfrm>
              <a:off x="1876320" y="1128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15" name=""/>
            <p:cNvGrpSpPr/>
            <p:nvPr/>
          </p:nvGrpSpPr>
          <p:grpSpPr>
            <a:xfrm>
              <a:off x="2019240" y="1128600"/>
              <a:ext cx="1990800" cy="171360"/>
              <a:chOff x="2019240" y="1128600"/>
              <a:chExt cx="1990800" cy="171360"/>
            </a:xfrm>
          </p:grpSpPr>
          <p:pic>
            <p:nvPicPr>
              <p:cNvPr id="4116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01924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7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18124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8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233352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9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2476440" y="1128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0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2638440" y="11286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1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2790720" y="11286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2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2933640" y="11286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3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3095640" y="11286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4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3247920" y="11286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5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3390840" y="11286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6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3552840" y="11286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7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3848040" y="11286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8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3705120" y="11286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29" name=""/>
            <p:cNvGrpSpPr/>
            <p:nvPr/>
          </p:nvGrpSpPr>
          <p:grpSpPr>
            <a:xfrm>
              <a:off x="4008240" y="1112760"/>
              <a:ext cx="1990800" cy="171360"/>
              <a:chOff x="4008240" y="1112760"/>
              <a:chExt cx="1990800" cy="171360"/>
            </a:xfrm>
          </p:grpSpPr>
          <p:pic>
            <p:nvPicPr>
              <p:cNvPr id="4130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4008240" y="11127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1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4170240" y="11127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2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4322520" y="11127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3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4465440" y="111276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4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4627440" y="1112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5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4779720" y="1112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6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4922640" y="1112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7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084640" y="1112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8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236920" y="1112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9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5379840" y="1112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0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5541840" y="1112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1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5837040" y="1112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2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694120" y="1112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43" name=""/>
          <p:cNvGrpSpPr/>
          <p:nvPr/>
        </p:nvGrpSpPr>
        <p:grpSpPr>
          <a:xfrm>
            <a:off x="885960" y="1328760"/>
            <a:ext cx="4529520" cy="3472920"/>
            <a:chOff x="885960" y="1328760"/>
            <a:chExt cx="4529520" cy="3472920"/>
          </a:xfrm>
        </p:grpSpPr>
        <p:grpSp>
          <p:nvGrpSpPr>
            <p:cNvPr id="4144" name=""/>
            <p:cNvGrpSpPr/>
            <p:nvPr/>
          </p:nvGrpSpPr>
          <p:grpSpPr>
            <a:xfrm>
              <a:off x="885960" y="1328760"/>
              <a:ext cx="4529520" cy="3472920"/>
              <a:chOff x="885960" y="1328760"/>
              <a:chExt cx="4529520" cy="3472920"/>
            </a:xfrm>
          </p:grpSpPr>
          <p:sp>
            <p:nvSpPr>
              <p:cNvPr id="4145" name=""/>
              <p:cNvSpPr/>
              <p:nvPr/>
            </p:nvSpPr>
            <p:spPr>
              <a:xfrm>
                <a:off x="1585800" y="1328760"/>
                <a:ext cx="51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6" name=""/>
              <p:cNvGrpSpPr/>
              <p:nvPr/>
            </p:nvGrpSpPr>
            <p:grpSpPr>
              <a:xfrm>
                <a:off x="885960" y="1712880"/>
                <a:ext cx="4529520" cy="3088800"/>
                <a:chOff x="885960" y="1712880"/>
                <a:chExt cx="4529520" cy="3088800"/>
              </a:xfrm>
            </p:grpSpPr>
            <p:grpSp>
              <p:nvGrpSpPr>
                <p:cNvPr id="4147" name=""/>
                <p:cNvGrpSpPr/>
                <p:nvPr/>
              </p:nvGrpSpPr>
              <p:grpSpPr>
                <a:xfrm>
                  <a:off x="4519800" y="2018160"/>
                  <a:ext cx="895680" cy="1306080"/>
                  <a:chOff x="4519800" y="2018160"/>
                  <a:chExt cx="895680" cy="1306080"/>
                </a:xfrm>
              </p:grpSpPr>
              <p:sp>
                <p:nvSpPr>
                  <p:cNvPr id="4148" name=""/>
                  <p:cNvSpPr/>
                  <p:nvPr/>
                </p:nvSpPr>
                <p:spPr>
                  <a:xfrm>
                    <a:off x="4519800" y="2488680"/>
                    <a:ext cx="864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 flipH="1">
                    <a:off x="4530240" y="2833920"/>
                    <a:ext cx="864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0" name=""/>
                  <p:cNvSpPr/>
                  <p:nvPr/>
                </p:nvSpPr>
                <p:spPr>
                  <a:xfrm flipH="1" flipV="1">
                    <a:off x="5150160" y="2502720"/>
                    <a:ext cx="265320" cy="329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 flipV="1">
                    <a:off x="5146560" y="2513880"/>
                    <a:ext cx="0" cy="81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 flipV="1">
                    <a:off x="4889520" y="2517840"/>
                    <a:ext cx="255600" cy="31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 flipV="1">
                    <a:off x="4809960" y="2502720"/>
                    <a:ext cx="254160" cy="31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 flipV="1">
                    <a:off x="4804560" y="2018160"/>
                    <a:ext cx="0" cy="821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5" name=""/>
                  <p:cNvSpPr/>
                  <p:nvPr/>
                </p:nvSpPr>
                <p:spPr>
                  <a:xfrm flipH="1">
                    <a:off x="4703040" y="2831040"/>
                    <a:ext cx="167760" cy="361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"/>
                  <p:cNvSpPr/>
                  <p:nvPr/>
                </p:nvSpPr>
                <p:spPr>
                  <a:xfrm flipH="1" flipV="1">
                    <a:off x="4536000" y="2502720"/>
                    <a:ext cx="265320" cy="329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7" name=""/>
                <p:cNvGrpSpPr/>
                <p:nvPr/>
              </p:nvGrpSpPr>
              <p:grpSpPr>
                <a:xfrm>
                  <a:off x="2951640" y="3061800"/>
                  <a:ext cx="1569960" cy="756000"/>
                  <a:chOff x="2951640" y="3061800"/>
                  <a:chExt cx="1569960" cy="756000"/>
                </a:xfrm>
              </p:grpSpPr>
              <p:sp>
                <p:nvSpPr>
                  <p:cNvPr id="4158" name=""/>
                  <p:cNvSpPr/>
                  <p:nvPr/>
                </p:nvSpPr>
                <p:spPr>
                  <a:xfrm flipV="1">
                    <a:off x="3589920" y="3089880"/>
                    <a:ext cx="0" cy="72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>
                    <a:off x="3867840" y="3080160"/>
                    <a:ext cx="0" cy="72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 flipH="1">
                    <a:off x="3601080" y="3061800"/>
                    <a:ext cx="26532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 flipH="1">
                    <a:off x="3869640" y="3498120"/>
                    <a:ext cx="651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 flipH="1" flipV="1">
                    <a:off x="3614040" y="3290760"/>
                    <a:ext cx="254880" cy="215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 flipH="1" flipV="1">
                    <a:off x="3601080" y="3357720"/>
                    <a:ext cx="255960" cy="213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 flipH="1">
                    <a:off x="2951640" y="3462840"/>
                    <a:ext cx="660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 flipH="1">
                    <a:off x="3601080" y="3578760"/>
                    <a:ext cx="26532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6" name=""/>
                <p:cNvSpPr/>
                <p:nvPr/>
              </p:nvSpPr>
              <p:spPr>
                <a:xfrm flipH="1">
                  <a:off x="4516560" y="3120120"/>
                  <a:ext cx="202680" cy="392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>
                  <a:off x="5148000" y="3282120"/>
                  <a:ext cx="0" cy="1499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"/>
                <p:cNvSpPr/>
                <p:nvPr/>
              </p:nvSpPr>
              <p:spPr>
                <a:xfrm flipH="1">
                  <a:off x="1991160" y="1712880"/>
                  <a:ext cx="286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9" name=""/>
                <p:cNvSpPr/>
                <p:nvPr/>
              </p:nvSpPr>
              <p:spPr>
                <a:xfrm>
                  <a:off x="2959920" y="1712880"/>
                  <a:ext cx="0" cy="237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>
                  <a:off x="4807800" y="1713960"/>
                  <a:ext cx="0" cy="39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1" name=""/>
                <p:cNvSpPr/>
                <p:nvPr/>
              </p:nvSpPr>
              <p:spPr>
                <a:xfrm>
                  <a:off x="2758320" y="4065480"/>
                  <a:ext cx="404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2" name=""/>
                <p:cNvSpPr/>
                <p:nvPr/>
              </p:nvSpPr>
              <p:spPr>
                <a:xfrm>
                  <a:off x="2758320" y="4201920"/>
                  <a:ext cx="404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2961000" y="4201920"/>
                  <a:ext cx="0" cy="599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4" name=""/>
                <p:cNvSpPr/>
                <p:nvPr/>
              </p:nvSpPr>
              <p:spPr>
                <a:xfrm>
                  <a:off x="885960" y="4758120"/>
                  <a:ext cx="428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5" name=""/>
                <p:cNvSpPr/>
                <p:nvPr/>
              </p:nvSpPr>
              <p:spPr>
                <a:xfrm>
                  <a:off x="2847240" y="1967040"/>
                  <a:ext cx="202680" cy="507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2847240" y="2797560"/>
                  <a:ext cx="180360" cy="5299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>
                  <a:off x="2667960" y="2246040"/>
                  <a:ext cx="271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 flipH="1">
                  <a:off x="2666520" y="1829520"/>
                  <a:ext cx="1080" cy="41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2666880" y="1829520"/>
                  <a:ext cx="294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 flipH="1">
                  <a:off x="885960" y="1713960"/>
                  <a:ext cx="83520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81" name=""/>
            <p:cNvSpPr/>
            <p:nvPr/>
          </p:nvSpPr>
          <p:spPr>
            <a:xfrm>
              <a:off x="2200320" y="2279520"/>
              <a:ext cx="5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070000" y="38768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772080" y="2408400"/>
              <a:ext cx="102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941400" y="29732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144440" y="2438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128960" y="347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7" name=""/>
          <p:cNvSpPr/>
          <p:nvPr/>
        </p:nvSpPr>
        <p:spPr>
          <a:xfrm>
            <a:off x="3962520" y="4572000"/>
            <a:ext cx="2084400" cy="566640"/>
          </a:xfrm>
          <a:prstGeom prst="wedgeRoundRectCallout">
            <a:avLst>
              <a:gd name="adj1" fmla="val -53425"/>
              <a:gd name="adj2" fmla="val -188935"/>
              <a:gd name="adj3" fmla="val 16667"/>
            </a:avLst>
          </a:prstGeom>
          <a:blipFill rotWithShape="0">
            <a:blip r:embed="rId75"/>
            <a:srcRect/>
            <a:tile tx="0" ty="0" sx="100000" sy="100000" algn="ctr"/>
          </a:blipFill>
          <a:ln w="2844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双向二极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69960" y="1185840"/>
            <a:ext cx="3610080" cy="4071960"/>
            <a:chOff x="669960" y="1185840"/>
            <a:chExt cx="3610080" cy="4071960"/>
          </a:xfrm>
        </p:grpSpPr>
        <p:sp>
          <p:nvSpPr>
            <p:cNvPr id="292" name=""/>
            <p:cNvSpPr/>
            <p:nvPr/>
          </p:nvSpPr>
          <p:spPr>
            <a:xfrm>
              <a:off x="2970360" y="3970440"/>
              <a:ext cx="0" cy="12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78000" y="2259000"/>
              <a:ext cx="857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1600" y="3406680"/>
              <a:ext cx="72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698120" y="3701880"/>
              <a:ext cx="95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37000" y="3352680"/>
              <a:ext cx="35064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37000" y="343044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37000" y="3753000"/>
              <a:ext cx="3506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66800" y="2286000"/>
              <a:ext cx="351000" cy="2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17800" y="2316240"/>
              <a:ext cx="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666440" y="2685960"/>
              <a:ext cx="3510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7960" y="1228680"/>
              <a:ext cx="0" cy="11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70360" y="2565360"/>
              <a:ext cx="0" cy="78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84440" y="2906640"/>
              <a:ext cx="0" cy="8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69960" y="3662280"/>
              <a:ext cx="1028160" cy="68400"/>
              <a:chOff x="669960" y="3662280"/>
              <a:chExt cx="1028160" cy="6840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669960" y="3662280"/>
                <a:ext cx="61920" cy="68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1880" y="3693960"/>
                <a:ext cx="96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 flipH="1">
              <a:off x="4210200" y="1185840"/>
              <a:ext cx="69840" cy="74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944800" y="5159520"/>
              <a:ext cx="61920" cy="680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643040" y="3651120"/>
              <a:ext cx="61920" cy="669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81040" y="1698480"/>
              <a:ext cx="1776600" cy="247500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77960" y="1230480"/>
              <a:ext cx="253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6280" y="5191200"/>
              <a:ext cx="346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11320" y="2592360"/>
              <a:ext cx="1000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210200" y="5124600"/>
              <a:ext cx="69840" cy="74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2560" y="464760"/>
            <a:ext cx="3904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1.2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工作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2240" y="11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1371600"/>
            <a:ext cx="768240" cy="299880"/>
          </a:xfrm>
          <a:prstGeom prst="rightArrow">
            <a:avLst>
              <a:gd name="adj1" fmla="val 50000"/>
              <a:gd name="adj2" fmla="val 64046"/>
            </a:avLst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62720" y="1162080"/>
                <a:ext cx="1601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359320" y="1882800"/>
                <a:ext cx="30448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257800" y="4151160"/>
            <a:ext cx="3532320" cy="60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极短时间内使两个三极管均饱和导通，此过程称触发导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437160" y="2535120"/>
                <a:ext cx="19828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5638680" y="2743200"/>
            <a:ext cx="782640" cy="304920"/>
          </a:xfrm>
          <a:prstGeom prst="rightArrow">
            <a:avLst>
              <a:gd name="adj1" fmla="val 50000"/>
              <a:gd name="adj2" fmla="val 64168"/>
            </a:avLst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927760" y="3200400"/>
                <a:ext cx="2419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5415120" y="685800"/>
            <a:ext cx="31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形成正反馈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8080" y="5119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160" y="34052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557676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9520" y="3726000"/>
            <a:ext cx="458640" cy="1472760"/>
            <a:chOff x="479520" y="3726000"/>
            <a:chExt cx="458640" cy="1472760"/>
          </a:xfrm>
        </p:grpSpPr>
        <p:sp>
          <p:nvSpPr>
            <p:cNvPr id="330" name=""/>
            <p:cNvSpPr/>
            <p:nvPr/>
          </p:nvSpPr>
          <p:spPr>
            <a:xfrm>
              <a:off x="479520" y="442656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76000" y="3726000"/>
              <a:ext cx="250920" cy="1472760"/>
              <a:chOff x="576000" y="3726000"/>
              <a:chExt cx="250920" cy="1472760"/>
            </a:xfrm>
          </p:grpSpPr>
          <p:sp>
            <p:nvSpPr>
              <p:cNvPr id="332" name=""/>
              <p:cNvSpPr/>
              <p:nvPr/>
            </p:nvSpPr>
            <p:spPr>
              <a:xfrm>
                <a:off x="700560" y="3726000"/>
                <a:ext cx="0" cy="70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1120" y="4568040"/>
                <a:ext cx="0" cy="55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6000" y="4561200"/>
                <a:ext cx="25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42240" y="5124240"/>
                <a:ext cx="69120" cy="745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762120" y="4160880"/>
            <a:ext cx="93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E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200400" y="1257480"/>
            <a:ext cx="1295280" cy="3941640"/>
            <a:chOff x="3200400" y="1257480"/>
            <a:chExt cx="1295280" cy="3941640"/>
          </a:xfrm>
        </p:grpSpPr>
        <p:sp>
          <p:nvSpPr>
            <p:cNvPr id="338" name=""/>
            <p:cNvSpPr/>
            <p:nvPr/>
          </p:nvSpPr>
          <p:spPr>
            <a:xfrm>
              <a:off x="4251240" y="1257480"/>
              <a:ext cx="0" cy="76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21000" y="3890880"/>
              <a:ext cx="0" cy="130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970440" y="3592440"/>
              <a:ext cx="525240" cy="306360"/>
              <a:chOff x="3970440" y="3592440"/>
              <a:chExt cx="525240" cy="306360"/>
            </a:xfrm>
          </p:grpSpPr>
          <p:sp>
            <p:nvSpPr>
              <p:cNvPr id="341" name=""/>
              <p:cNvSpPr/>
              <p:nvPr/>
            </p:nvSpPr>
            <p:spPr>
              <a:xfrm>
                <a:off x="3970440" y="3592440"/>
                <a:ext cx="52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70440" y="3787560"/>
                <a:ext cx="52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096440" y="3681360"/>
                <a:ext cx="2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096440" y="3898800"/>
                <a:ext cx="2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4143240" y="2022480"/>
              <a:ext cx="220680" cy="569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46560" y="2592360"/>
              <a:ext cx="0" cy="100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00400" y="3330360"/>
              <a:ext cx="8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9440" y="3125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49120" y="3633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45080" y="205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803160" y="2925720"/>
            <a:ext cx="520920" cy="628560"/>
            <a:chOff x="803160" y="2925720"/>
            <a:chExt cx="520920" cy="628560"/>
          </a:xfrm>
        </p:grpSpPr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867960" y="2925720"/>
                  <a:ext cx="36864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3" name=""/>
            <p:cNvSpPr/>
            <p:nvPr/>
          </p:nvSpPr>
          <p:spPr>
            <a:xfrm>
              <a:off x="803160" y="3552840"/>
              <a:ext cx="520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765440" y="3089160"/>
            <a:ext cx="519120" cy="503280"/>
            <a:chOff x="1765440" y="3089160"/>
            <a:chExt cx="519120" cy="503280"/>
          </a:xfrm>
        </p:grpSpPr>
        <p:sp>
          <p:nvSpPr>
            <p:cNvPr id="355" name=""/>
            <p:cNvSpPr/>
            <p:nvPr/>
          </p:nvSpPr>
          <p:spPr>
            <a:xfrm>
              <a:off x="1765440" y="3592440"/>
              <a:ext cx="519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1766880" y="3089160"/>
                  <a:ext cx="47484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527040" y="1660680"/>
            <a:ext cx="1047600" cy="556920"/>
            <a:chOff x="527040" y="1660680"/>
            <a:chExt cx="1047600" cy="556920"/>
          </a:xfrm>
        </p:grpSpPr>
        <p:sp>
          <p:nvSpPr>
            <p:cNvPr id="358" name=""/>
            <p:cNvSpPr/>
            <p:nvPr/>
          </p:nvSpPr>
          <p:spPr>
            <a:xfrm>
              <a:off x="1574640" y="1660680"/>
              <a:ext cx="0" cy="51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27040" y="1692360"/>
                  <a:ext cx="10018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3073320" y="2625840"/>
            <a:ext cx="736560" cy="699840"/>
            <a:chOff x="3073320" y="2625840"/>
            <a:chExt cx="736560" cy="699840"/>
          </a:xfrm>
        </p:grpSpPr>
        <p:sp>
          <p:nvSpPr>
            <p:cNvPr id="361" name=""/>
            <p:cNvSpPr/>
            <p:nvPr/>
          </p:nvSpPr>
          <p:spPr>
            <a:xfrm>
              <a:off x="3073320" y="2625840"/>
              <a:ext cx="0" cy="69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3083040" y="2701800"/>
                  <a:ext cx="7268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100480" y="4075200"/>
            <a:ext cx="3532320" cy="118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晶闸管导通后，去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E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依靠正反馈，仍可维持导通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7040" y="438120"/>
            <a:ext cx="23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2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工作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0400" y="33526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5800" y="5104800"/>
            <a:ext cx="68400" cy="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556272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5000" y="51814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27040" y="1119240"/>
            <a:ext cx="4196520" cy="4138560"/>
            <a:chOff x="527040" y="1119240"/>
            <a:chExt cx="4196520" cy="4138560"/>
          </a:xfrm>
        </p:grpSpPr>
        <p:grpSp>
          <p:nvGrpSpPr>
            <p:cNvPr id="370" name=""/>
            <p:cNvGrpSpPr/>
            <p:nvPr/>
          </p:nvGrpSpPr>
          <p:grpSpPr>
            <a:xfrm>
              <a:off x="3646080" y="1257480"/>
              <a:ext cx="1077480" cy="3941280"/>
              <a:chOff x="3646080" y="1257480"/>
              <a:chExt cx="1077480" cy="394128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3646080" y="1257480"/>
                <a:ext cx="1077480" cy="3941280"/>
                <a:chOff x="3646080" y="1257480"/>
                <a:chExt cx="1077480" cy="39412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465440" y="1257480"/>
                  <a:ext cx="0" cy="767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33040" y="3890160"/>
                  <a:ext cx="0" cy="130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4167000" y="3591720"/>
                  <a:ext cx="556560" cy="306720"/>
                  <a:chOff x="4167000" y="3591720"/>
                  <a:chExt cx="556560" cy="3067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4167000" y="3591720"/>
                    <a:ext cx="556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167000" y="3787200"/>
                    <a:ext cx="556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300560" y="3680640"/>
                    <a:ext cx="267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300560" y="3898440"/>
                    <a:ext cx="267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4350600" y="2022120"/>
                  <a:ext cx="233280" cy="5702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59680" y="2592360"/>
                  <a:ext cx="0" cy="999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646080" y="3331080"/>
                  <a:ext cx="600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E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093560" y="3125520"/>
                  <a:ext cx="412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049280" y="36334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_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3929760" y="205956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27040" y="1185840"/>
              <a:ext cx="3968280" cy="4071960"/>
              <a:chOff x="527040" y="1185840"/>
              <a:chExt cx="3968280" cy="4071960"/>
            </a:xfrm>
          </p:grpSpPr>
          <p:sp>
            <p:nvSpPr>
              <p:cNvPr id="386" name=""/>
              <p:cNvSpPr/>
              <p:nvPr/>
            </p:nvSpPr>
            <p:spPr>
              <a:xfrm>
                <a:off x="3110760" y="3970440"/>
                <a:ext cx="0" cy="1287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21200" y="2259000"/>
                <a:ext cx="906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000" y="3406680"/>
                <a:ext cx="76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1765440" y="3701880"/>
                <a:ext cx="100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758320" y="3397320"/>
                <a:ext cx="370800" cy="25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758320" y="3430440"/>
                <a:ext cx="0" cy="5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758320" y="3684600"/>
                <a:ext cx="37080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1731960" y="2316240"/>
                <a:ext cx="371520" cy="570960"/>
                <a:chOff x="1731960" y="2316240"/>
                <a:chExt cx="371520" cy="5709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732320" y="2316240"/>
                  <a:ext cx="371160" cy="251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103480" y="2316240"/>
                  <a:ext cx="0" cy="538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1731960" y="2601720"/>
                  <a:ext cx="371160" cy="285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1743840" y="1228680"/>
                <a:ext cx="0" cy="113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0760" y="2584440"/>
                <a:ext cx="0" cy="87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51040" y="2906640"/>
                <a:ext cx="0" cy="83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677880" y="3662280"/>
                <a:ext cx="1087200" cy="68400"/>
                <a:chOff x="677880" y="3662280"/>
                <a:chExt cx="1087200" cy="68400"/>
              </a:xfrm>
            </p:grpSpPr>
            <p:sp>
              <p:nvSpPr>
                <p:cNvPr id="401" name=""/>
                <p:cNvSpPr/>
                <p:nvPr/>
              </p:nvSpPr>
              <p:spPr>
                <a:xfrm flipH="1">
                  <a:off x="677880" y="3662280"/>
                  <a:ext cx="65520" cy="68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43400" y="3693960"/>
                  <a:ext cx="1021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 flipH="1">
                <a:off x="4421160" y="1185840"/>
                <a:ext cx="73800" cy="745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083040" y="5159520"/>
                <a:ext cx="65160" cy="6804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1706400" y="3651120"/>
                <a:ext cx="65160" cy="6696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35760" y="1698480"/>
                <a:ext cx="1878840" cy="2475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819000" y="2925720"/>
                <a:ext cx="550800" cy="628560"/>
                <a:chOff x="819000" y="2925720"/>
                <a:chExt cx="550800" cy="6285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08" name=""/>
                    <p:cNvSpPr txBox="1"/>
                    <p:nvPr/>
                  </p:nvSpPr>
                  <p:spPr>
                    <a:xfrm>
                      <a:off x="887400" y="2925720"/>
                      <a:ext cx="389880" cy="628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09" name=""/>
                <p:cNvSpPr/>
                <p:nvPr/>
              </p:nvSpPr>
              <p:spPr>
                <a:xfrm>
                  <a:off x="819000" y="3552840"/>
                  <a:ext cx="550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1822680" y="3089160"/>
                <a:ext cx="562680" cy="503280"/>
                <a:chOff x="1822680" y="3089160"/>
                <a:chExt cx="562680" cy="5032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1836360" y="3592440"/>
                  <a:ext cx="549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2" name=""/>
                    <p:cNvSpPr txBox="1"/>
                    <p:nvPr/>
                  </p:nvSpPr>
                  <p:spPr>
                    <a:xfrm>
                      <a:off x="1822680" y="3089160"/>
                      <a:ext cx="533880" cy="484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413" name=""/>
              <p:cNvGrpSpPr/>
              <p:nvPr/>
            </p:nvGrpSpPr>
            <p:grpSpPr>
              <a:xfrm>
                <a:off x="527040" y="1660680"/>
                <a:ext cx="1107720" cy="556560"/>
                <a:chOff x="527040" y="1660680"/>
                <a:chExt cx="1107720" cy="5565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634760" y="1660680"/>
                  <a:ext cx="0" cy="513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5" name=""/>
                    <p:cNvSpPr txBox="1"/>
                    <p:nvPr/>
                  </p:nvSpPr>
                  <p:spPr>
                    <a:xfrm>
                      <a:off x="527040" y="1692360"/>
                      <a:ext cx="1059120" cy="524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416" name=""/>
              <p:cNvGrpSpPr/>
              <p:nvPr/>
            </p:nvGrpSpPr>
            <p:grpSpPr>
              <a:xfrm>
                <a:off x="3193200" y="2625840"/>
                <a:ext cx="735120" cy="699840"/>
                <a:chOff x="3193200" y="2625840"/>
                <a:chExt cx="735120" cy="69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218760" y="2625840"/>
                  <a:ext cx="0" cy="699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8" name=""/>
                    <p:cNvSpPr txBox="1"/>
                    <p:nvPr/>
                  </p:nvSpPr>
                  <p:spPr>
                    <a:xfrm>
                      <a:off x="3193200" y="2702160"/>
                      <a:ext cx="735120" cy="52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19" name=""/>
              <p:cNvSpPr/>
              <p:nvPr/>
            </p:nvSpPr>
            <p:spPr>
              <a:xfrm>
                <a:off x="829080" y="4264560"/>
                <a:ext cx="597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E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43840" y="1230480"/>
                <a:ext cx="267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58880" y="5191200"/>
                <a:ext cx="366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096640" y="2592360"/>
                <a:ext cx="1057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21160" y="5124600"/>
                <a:ext cx="73800" cy="745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314720" y="1119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28600" y="3048120"/>
            <a:ext cx="1227240" cy="1981080"/>
            <a:chOff x="228600" y="3048120"/>
            <a:chExt cx="1227240" cy="1981080"/>
          </a:xfrm>
        </p:grpSpPr>
        <p:sp>
          <p:nvSpPr>
            <p:cNvPr id="426" name=""/>
            <p:cNvSpPr/>
            <p:nvPr/>
          </p:nvSpPr>
          <p:spPr>
            <a:xfrm>
              <a:off x="666720" y="3048120"/>
              <a:ext cx="789120" cy="61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" y="3746520"/>
              <a:ext cx="1133640" cy="12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59320" y="685800"/>
            <a:ext cx="3251160" cy="3164040"/>
            <a:chOff x="5359320" y="685800"/>
            <a:chExt cx="3251160" cy="3164040"/>
          </a:xfrm>
        </p:grpSpPr>
        <p:sp>
          <p:nvSpPr>
            <p:cNvPr id="429" name=""/>
            <p:cNvSpPr/>
            <p:nvPr/>
          </p:nvSpPr>
          <p:spPr>
            <a:xfrm>
              <a:off x="7391520" y="1371600"/>
              <a:ext cx="768240" cy="299880"/>
            </a:xfrm>
            <a:prstGeom prst="rightArrow">
              <a:avLst>
                <a:gd name="adj1" fmla="val 50000"/>
                <a:gd name="adj2" fmla="val 64046"/>
              </a:avLst>
            </a:prstGeom>
            <a:gradFill rotWithShape="0">
              <a:gsLst>
                <a:gs pos="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5562720" y="1162080"/>
                  <a:ext cx="1601640" cy="74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5359320" y="1882800"/>
                  <a:ext cx="304488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6437160" y="2535120"/>
                  <a:ext cx="198288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33" name=""/>
            <p:cNvSpPr/>
            <p:nvPr/>
          </p:nvSpPr>
          <p:spPr>
            <a:xfrm>
              <a:off x="5638680" y="2743200"/>
              <a:ext cx="782640" cy="304920"/>
            </a:xfrm>
            <a:prstGeom prst="rightArrow">
              <a:avLst>
                <a:gd name="adj1" fmla="val 50000"/>
                <a:gd name="adj2" fmla="val 64168"/>
              </a:avLst>
            </a:prstGeom>
            <a:gradFill rotWithShape="0">
              <a:gsLst>
                <a:gs pos="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5927760" y="3200400"/>
                  <a:ext cx="241920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35" name=""/>
            <p:cNvSpPr/>
            <p:nvPr/>
          </p:nvSpPr>
          <p:spPr>
            <a:xfrm>
              <a:off x="5415120" y="685800"/>
              <a:ext cx="319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形成正反馈过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182240" y="304920"/>
            <a:ext cx="2100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晶闸管导通的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7560" y="762120"/>
            <a:ext cx="8139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阳极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极与阴极之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施加正向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控制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极与阴极之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正向电压或正向脉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向触发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2666880"/>
            <a:ext cx="8229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晶闸管导通后，控制极便失去作用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依靠正反馈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晶闸管仍可维持导通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82240" y="3657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晶闸管关断的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4114800"/>
            <a:ext cx="82296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须使可控硅阳极电流减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到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正反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效应不能维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阳极电源断开或者在晶闸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极和阴极间加反相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2832120" y="3781440"/>
            <a:ext cx="1933560" cy="1835280"/>
            <a:chOff x="2832120" y="3781440"/>
            <a:chExt cx="1933560" cy="1835280"/>
          </a:xfrm>
        </p:grpSpPr>
        <p:sp>
          <p:nvSpPr>
            <p:cNvPr id="442" name=""/>
            <p:cNvSpPr/>
            <p:nvPr/>
          </p:nvSpPr>
          <p:spPr>
            <a:xfrm>
              <a:off x="3457440" y="3781440"/>
              <a:ext cx="1308240" cy="66600"/>
            </a:xfrm>
            <a:custGeom>
              <a:avLst/>
              <a:gdLst/>
              <a:ahLst/>
              <a:rect l="l" t="t" r="r" b="b"/>
              <a:pathLst>
                <a:path w="657" h="40">
                  <a:moveTo>
                    <a:pt x="657" y="0"/>
                  </a:moveTo>
                  <a:lnTo>
                    <a:pt x="652" y="2"/>
                  </a:lnTo>
                  <a:lnTo>
                    <a:pt x="649" y="5"/>
                  </a:lnTo>
                  <a:lnTo>
                    <a:pt x="645" y="7"/>
                  </a:lnTo>
                  <a:lnTo>
                    <a:pt x="642" y="10"/>
                  </a:lnTo>
                  <a:lnTo>
                    <a:pt x="637" y="11"/>
                  </a:lnTo>
                  <a:lnTo>
                    <a:pt x="634" y="12"/>
                  </a:lnTo>
                  <a:lnTo>
                    <a:pt x="630" y="14"/>
                  </a:lnTo>
                  <a:lnTo>
                    <a:pt x="627" y="14"/>
                  </a:lnTo>
                  <a:lnTo>
                    <a:pt x="622" y="15"/>
                  </a:lnTo>
                  <a:lnTo>
                    <a:pt x="619" y="17"/>
                  </a:lnTo>
                  <a:lnTo>
                    <a:pt x="615" y="17"/>
                  </a:lnTo>
                  <a:lnTo>
                    <a:pt x="612" y="17"/>
                  </a:lnTo>
                  <a:lnTo>
                    <a:pt x="607" y="18"/>
                  </a:lnTo>
                  <a:lnTo>
                    <a:pt x="604" y="18"/>
                  </a:lnTo>
                  <a:lnTo>
                    <a:pt x="599" y="18"/>
                  </a:lnTo>
                  <a:lnTo>
                    <a:pt x="595" y="20"/>
                  </a:lnTo>
                  <a:lnTo>
                    <a:pt x="569" y="21"/>
                  </a:lnTo>
                  <a:lnTo>
                    <a:pt x="541" y="22"/>
                  </a:lnTo>
                  <a:lnTo>
                    <a:pt x="508" y="24"/>
                  </a:lnTo>
                  <a:lnTo>
                    <a:pt x="471" y="24"/>
                  </a:lnTo>
                  <a:lnTo>
                    <a:pt x="434" y="25"/>
                  </a:lnTo>
                  <a:lnTo>
                    <a:pt x="393" y="27"/>
                  </a:lnTo>
                  <a:lnTo>
                    <a:pt x="352" y="28"/>
                  </a:lnTo>
                  <a:lnTo>
                    <a:pt x="310" y="30"/>
                  </a:lnTo>
                  <a:lnTo>
                    <a:pt x="266" y="30"/>
                  </a:lnTo>
                  <a:lnTo>
                    <a:pt x="224" y="31"/>
                  </a:lnTo>
                  <a:lnTo>
                    <a:pt x="182" y="32"/>
                  </a:lnTo>
                  <a:lnTo>
                    <a:pt x="141" y="34"/>
                  </a:lnTo>
                  <a:lnTo>
                    <a:pt x="102" y="35"/>
                  </a:lnTo>
                  <a:lnTo>
                    <a:pt x="66" y="37"/>
                  </a:lnTo>
                  <a:lnTo>
                    <a:pt x="31" y="38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33640" y="3848040"/>
              <a:ext cx="523800" cy="208080"/>
            </a:xfrm>
            <a:custGeom>
              <a:avLst/>
              <a:gdLst/>
              <a:ahLst/>
              <a:rect l="l" t="t" r="r" b="b"/>
              <a:pathLst>
                <a:path w="263" h="122">
                  <a:moveTo>
                    <a:pt x="263" y="0"/>
                  </a:moveTo>
                  <a:lnTo>
                    <a:pt x="240" y="1"/>
                  </a:lnTo>
                  <a:lnTo>
                    <a:pt x="216" y="2"/>
                  </a:lnTo>
                  <a:lnTo>
                    <a:pt x="190" y="4"/>
                  </a:lnTo>
                  <a:lnTo>
                    <a:pt x="165" y="8"/>
                  </a:lnTo>
                  <a:lnTo>
                    <a:pt x="137" y="12"/>
                  </a:lnTo>
                  <a:lnTo>
                    <a:pt x="113" y="20"/>
                  </a:lnTo>
                  <a:lnTo>
                    <a:pt x="89" y="28"/>
                  </a:lnTo>
                  <a:lnTo>
                    <a:pt x="67" y="38"/>
                  </a:lnTo>
                  <a:lnTo>
                    <a:pt x="45" y="50"/>
                  </a:lnTo>
                  <a:lnTo>
                    <a:pt x="29" y="64"/>
                  </a:lnTo>
                  <a:lnTo>
                    <a:pt x="15" y="81"/>
                  </a:lnTo>
                  <a:lnTo>
                    <a:pt x="5" y="100"/>
                  </a:lnTo>
                  <a:lnTo>
                    <a:pt x="0" y="1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32120" y="4056120"/>
              <a:ext cx="101520" cy="1560600"/>
            </a:xfrm>
            <a:custGeom>
              <a:avLst/>
              <a:gdLst/>
              <a:ahLst/>
              <a:rect l="l" t="t" r="r" b="b"/>
              <a:pathLst>
                <a:path w="51" h="920">
                  <a:moveTo>
                    <a:pt x="51" y="0"/>
                  </a:moveTo>
                  <a:lnTo>
                    <a:pt x="41" y="69"/>
                  </a:lnTo>
                  <a:lnTo>
                    <a:pt x="33" y="139"/>
                  </a:lnTo>
                  <a:lnTo>
                    <a:pt x="27" y="213"/>
                  </a:lnTo>
                  <a:lnTo>
                    <a:pt x="23" y="288"/>
                  </a:lnTo>
                  <a:lnTo>
                    <a:pt x="18" y="363"/>
                  </a:lnTo>
                  <a:lnTo>
                    <a:pt x="17" y="439"/>
                  </a:lnTo>
                  <a:lnTo>
                    <a:pt x="14" y="515"/>
                  </a:lnTo>
                  <a:lnTo>
                    <a:pt x="12" y="589"/>
                  </a:lnTo>
                  <a:lnTo>
                    <a:pt x="11" y="662"/>
                  </a:lnTo>
                  <a:lnTo>
                    <a:pt x="9" y="732"/>
                  </a:lnTo>
                  <a:lnTo>
                    <a:pt x="6" y="799"/>
                  </a:lnTo>
                  <a:lnTo>
                    <a:pt x="3" y="862"/>
                  </a:lnTo>
                  <a:lnTo>
                    <a:pt x="0" y="9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029200" y="35924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5080" y="1496880"/>
            <a:ext cx="358560" cy="2119320"/>
          </a:xfrm>
          <a:custGeom>
            <a:avLst/>
            <a:gdLst/>
            <a:ahLst/>
            <a:rect l="l" t="t" r="r" b="b"/>
            <a:pathLst>
              <a:path w="352" h="928">
                <a:moveTo>
                  <a:pt x="160" y="912"/>
                </a:moveTo>
                <a:cubicBezTo>
                  <a:pt x="80" y="920"/>
                  <a:pt x="0" y="928"/>
                  <a:pt x="16" y="864"/>
                </a:cubicBezTo>
                <a:cubicBezTo>
                  <a:pt x="32" y="800"/>
                  <a:pt x="200" y="672"/>
                  <a:pt x="256" y="528"/>
                </a:cubicBezTo>
                <a:cubicBezTo>
                  <a:pt x="312" y="384"/>
                  <a:pt x="336" y="88"/>
                  <a:pt x="3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784760" y="3597120"/>
            <a:ext cx="2049480" cy="185760"/>
          </a:xfrm>
          <a:custGeom>
            <a:avLst/>
            <a:gdLst/>
            <a:ahLst/>
            <a:rect l="l" t="t" r="r" b="b"/>
            <a:pathLst>
              <a:path w="1029" h="109">
                <a:moveTo>
                  <a:pt x="0" y="109"/>
                </a:moveTo>
                <a:lnTo>
                  <a:pt x="16" y="103"/>
                </a:lnTo>
                <a:lnTo>
                  <a:pt x="37" y="97"/>
                </a:lnTo>
                <a:lnTo>
                  <a:pt x="63" y="94"/>
                </a:lnTo>
                <a:lnTo>
                  <a:pt x="93" y="90"/>
                </a:lnTo>
                <a:lnTo>
                  <a:pt x="125" y="87"/>
                </a:lnTo>
                <a:lnTo>
                  <a:pt x="158" y="86"/>
                </a:lnTo>
                <a:lnTo>
                  <a:pt x="193" y="84"/>
                </a:lnTo>
                <a:lnTo>
                  <a:pt x="227" y="83"/>
                </a:lnTo>
                <a:lnTo>
                  <a:pt x="261" y="83"/>
                </a:lnTo>
                <a:lnTo>
                  <a:pt x="294" y="81"/>
                </a:lnTo>
                <a:lnTo>
                  <a:pt x="324" y="81"/>
                </a:lnTo>
                <a:lnTo>
                  <a:pt x="349" y="81"/>
                </a:lnTo>
                <a:lnTo>
                  <a:pt x="372" y="81"/>
                </a:lnTo>
                <a:lnTo>
                  <a:pt x="444" y="80"/>
                </a:lnTo>
                <a:lnTo>
                  <a:pt x="509" y="79"/>
                </a:lnTo>
                <a:lnTo>
                  <a:pt x="567" y="77"/>
                </a:lnTo>
                <a:lnTo>
                  <a:pt x="619" y="76"/>
                </a:lnTo>
                <a:lnTo>
                  <a:pt x="669" y="74"/>
                </a:lnTo>
                <a:lnTo>
                  <a:pt x="716" y="73"/>
                </a:lnTo>
                <a:lnTo>
                  <a:pt x="760" y="70"/>
                </a:lnTo>
                <a:lnTo>
                  <a:pt x="803" y="66"/>
                </a:lnTo>
                <a:lnTo>
                  <a:pt x="847" y="61"/>
                </a:lnTo>
                <a:lnTo>
                  <a:pt x="862" y="60"/>
                </a:lnTo>
                <a:lnTo>
                  <a:pt x="879" y="57"/>
                </a:lnTo>
                <a:lnTo>
                  <a:pt x="894" y="56"/>
                </a:lnTo>
                <a:lnTo>
                  <a:pt x="909" y="53"/>
                </a:lnTo>
                <a:lnTo>
                  <a:pt x="924" y="50"/>
                </a:lnTo>
                <a:lnTo>
                  <a:pt x="937" y="47"/>
                </a:lnTo>
                <a:lnTo>
                  <a:pt x="951" y="44"/>
                </a:lnTo>
                <a:lnTo>
                  <a:pt x="965" y="41"/>
                </a:lnTo>
                <a:lnTo>
                  <a:pt x="977" y="39"/>
                </a:lnTo>
                <a:lnTo>
                  <a:pt x="987" y="34"/>
                </a:lnTo>
                <a:lnTo>
                  <a:pt x="998" y="31"/>
                </a:lnTo>
                <a:lnTo>
                  <a:pt x="1007" y="27"/>
                </a:lnTo>
                <a:lnTo>
                  <a:pt x="1013" y="23"/>
                </a:lnTo>
                <a:lnTo>
                  <a:pt x="1019" y="19"/>
                </a:lnTo>
                <a:lnTo>
                  <a:pt x="1019" y="19"/>
                </a:lnTo>
                <a:lnTo>
                  <a:pt x="1020" y="17"/>
                </a:lnTo>
                <a:lnTo>
                  <a:pt x="1020" y="17"/>
                </a:lnTo>
                <a:lnTo>
                  <a:pt x="1022" y="16"/>
                </a:lnTo>
                <a:lnTo>
                  <a:pt x="1022" y="16"/>
                </a:lnTo>
                <a:lnTo>
                  <a:pt x="1022" y="14"/>
                </a:lnTo>
                <a:lnTo>
                  <a:pt x="1023" y="13"/>
                </a:lnTo>
                <a:lnTo>
                  <a:pt x="1023" y="13"/>
                </a:lnTo>
                <a:lnTo>
                  <a:pt x="1025" y="11"/>
                </a:lnTo>
                <a:lnTo>
                  <a:pt x="1025" y="9"/>
                </a:lnTo>
                <a:lnTo>
                  <a:pt x="1026" y="7"/>
                </a:lnTo>
                <a:lnTo>
                  <a:pt x="1026" y="6"/>
                </a:lnTo>
                <a:lnTo>
                  <a:pt x="1028" y="3"/>
                </a:lnTo>
                <a:lnTo>
                  <a:pt x="102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15080" y="1479600"/>
            <a:ext cx="358560" cy="2119320"/>
          </a:xfrm>
          <a:custGeom>
            <a:avLst/>
            <a:gdLst/>
            <a:ahLst/>
            <a:rect l="l" t="t" r="r" b="b"/>
            <a:pathLst>
              <a:path w="352" h="928">
                <a:moveTo>
                  <a:pt x="160" y="912"/>
                </a:moveTo>
                <a:cubicBezTo>
                  <a:pt x="80" y="920"/>
                  <a:pt x="0" y="928"/>
                  <a:pt x="16" y="864"/>
                </a:cubicBezTo>
                <a:cubicBezTo>
                  <a:pt x="32" y="800"/>
                  <a:pt x="200" y="672"/>
                  <a:pt x="256" y="528"/>
                </a:cubicBezTo>
                <a:cubicBezTo>
                  <a:pt x="312" y="384"/>
                  <a:pt x="336" y="88"/>
                  <a:pt x="352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3573360"/>
            <a:ext cx="1222200" cy="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3586320"/>
            <a:ext cx="10587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1479600"/>
            <a:ext cx="358560" cy="2119320"/>
          </a:xfrm>
          <a:custGeom>
            <a:avLst/>
            <a:gdLst/>
            <a:ahLst/>
            <a:rect l="l" t="t" r="r" b="b"/>
            <a:pathLst>
              <a:path w="352" h="928">
                <a:moveTo>
                  <a:pt x="160" y="912"/>
                </a:moveTo>
                <a:cubicBezTo>
                  <a:pt x="80" y="920"/>
                  <a:pt x="0" y="928"/>
                  <a:pt x="16" y="864"/>
                </a:cubicBezTo>
                <a:cubicBezTo>
                  <a:pt x="32" y="800"/>
                  <a:pt x="200" y="672"/>
                  <a:pt x="256" y="528"/>
                </a:cubicBezTo>
                <a:cubicBezTo>
                  <a:pt x="312" y="384"/>
                  <a:pt x="336" y="88"/>
                  <a:pt x="352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49280" y="517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向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72840" y="5181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向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081240" y="3276720"/>
            <a:ext cx="822600" cy="609480"/>
            <a:chOff x="3081240" y="3276720"/>
            <a:chExt cx="822600" cy="609480"/>
          </a:xfrm>
        </p:grpSpPr>
        <p:sp>
          <p:nvSpPr>
            <p:cNvPr id="455" name=""/>
            <p:cNvSpPr/>
            <p:nvPr/>
          </p:nvSpPr>
          <p:spPr>
            <a:xfrm>
              <a:off x="3268440" y="3757680"/>
              <a:ext cx="0" cy="12852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81240" y="3276720"/>
              <a:ext cx="82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R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012000" y="3581280"/>
            <a:ext cx="802800" cy="662760"/>
            <a:chOff x="6012000" y="3581280"/>
            <a:chExt cx="802800" cy="662760"/>
          </a:xfrm>
        </p:grpSpPr>
        <p:sp>
          <p:nvSpPr>
            <p:cNvPr id="458" name=""/>
            <p:cNvSpPr/>
            <p:nvPr/>
          </p:nvSpPr>
          <p:spPr>
            <a:xfrm>
              <a:off x="6400800" y="3581280"/>
              <a:ext cx="0" cy="22860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12000" y="3733920"/>
              <a:ext cx="80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F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746680" y="290844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67520" y="2514600"/>
            <a:ext cx="184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G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G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G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494800" y="3276720"/>
            <a:ext cx="645840" cy="1569960"/>
            <a:chOff x="2494800" y="3276720"/>
            <a:chExt cx="645840" cy="1569960"/>
          </a:xfrm>
        </p:grpSpPr>
        <p:sp>
          <p:nvSpPr>
            <p:cNvPr id="463" name=""/>
            <p:cNvSpPr/>
            <p:nvPr/>
          </p:nvSpPr>
          <p:spPr>
            <a:xfrm>
              <a:off x="2494800" y="327672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83240" y="3859200"/>
              <a:ext cx="0" cy="987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279680" y="1447920"/>
            <a:ext cx="1041480" cy="579600"/>
            <a:chOff x="4279680" y="1447920"/>
            <a:chExt cx="1041480" cy="579600"/>
          </a:xfrm>
        </p:grpSpPr>
        <p:sp>
          <p:nvSpPr>
            <p:cNvPr id="466" name=""/>
            <p:cNvSpPr/>
            <p:nvPr/>
          </p:nvSpPr>
          <p:spPr>
            <a:xfrm>
              <a:off x="4279680" y="1447920"/>
              <a:ext cx="44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36880" y="1784520"/>
              <a:ext cx="58428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714720" y="3595680"/>
            <a:ext cx="654840" cy="648360"/>
            <a:chOff x="6714720" y="3595680"/>
            <a:chExt cx="654840" cy="648360"/>
          </a:xfrm>
        </p:grpSpPr>
        <p:sp>
          <p:nvSpPr>
            <p:cNvPr id="469" name=""/>
            <p:cNvSpPr/>
            <p:nvPr/>
          </p:nvSpPr>
          <p:spPr>
            <a:xfrm>
              <a:off x="6714720" y="37339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B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58000" y="3595680"/>
              <a:ext cx="0" cy="21420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943600" y="4572000"/>
            <a:ext cx="2362320" cy="457200"/>
          </a:xfrm>
          <a:prstGeom prst="wedgeEllipseCallout">
            <a:avLst>
              <a:gd name="adj1" fmla="val -1814"/>
              <a:gd name="adj2" fmla="val -14409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正向转折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305960" y="2971800"/>
            <a:ext cx="710280" cy="579600"/>
            <a:chOff x="4305960" y="2971800"/>
            <a:chExt cx="710280" cy="579600"/>
          </a:xfrm>
        </p:grpSpPr>
        <p:sp>
          <p:nvSpPr>
            <p:cNvPr id="473" name=""/>
            <p:cNvSpPr/>
            <p:nvPr/>
          </p:nvSpPr>
          <p:spPr>
            <a:xfrm>
              <a:off x="4305960" y="297180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87640" y="3349800"/>
              <a:ext cx="22860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666880" y="990720"/>
            <a:ext cx="5103360" cy="4723920"/>
            <a:chOff x="2666880" y="990720"/>
            <a:chExt cx="5103360" cy="4723920"/>
          </a:xfrm>
        </p:grpSpPr>
        <p:grpSp>
          <p:nvGrpSpPr>
            <p:cNvPr id="476" name=""/>
            <p:cNvGrpSpPr/>
            <p:nvPr/>
          </p:nvGrpSpPr>
          <p:grpSpPr>
            <a:xfrm>
              <a:off x="2666880" y="1294920"/>
              <a:ext cx="5103360" cy="4419720"/>
              <a:chOff x="2666880" y="1294920"/>
              <a:chExt cx="5103360" cy="4419720"/>
            </a:xfrm>
          </p:grpSpPr>
          <p:sp>
            <p:nvSpPr>
              <p:cNvPr id="477" name=""/>
              <p:cNvSpPr/>
              <p:nvPr/>
            </p:nvSpPr>
            <p:spPr>
              <a:xfrm>
                <a:off x="4506480" y="37609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666880" y="3795840"/>
                <a:ext cx="502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4764240" y="1294920"/>
                <a:ext cx="0" cy="441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69920" y="3768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4802040" y="99072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857640" y="2895480"/>
            <a:ext cx="621000" cy="685800"/>
            <a:chOff x="6857640" y="2895480"/>
            <a:chExt cx="621000" cy="685800"/>
          </a:xfrm>
        </p:grpSpPr>
        <p:sp>
          <p:nvSpPr>
            <p:cNvPr id="483" name=""/>
            <p:cNvSpPr/>
            <p:nvPr/>
          </p:nvSpPr>
          <p:spPr>
            <a:xfrm>
              <a:off x="6953400" y="2895480"/>
              <a:ext cx="52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857640" y="3276720"/>
              <a:ext cx="2286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324120" y="2895480"/>
            <a:ext cx="667080" cy="685800"/>
            <a:chOff x="6324120" y="2895480"/>
            <a:chExt cx="667080" cy="685800"/>
          </a:xfrm>
        </p:grpSpPr>
        <p:sp>
          <p:nvSpPr>
            <p:cNvPr id="486" name=""/>
            <p:cNvSpPr/>
            <p:nvPr/>
          </p:nvSpPr>
          <p:spPr>
            <a:xfrm>
              <a:off x="6465960" y="2895480"/>
              <a:ext cx="52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324120" y="3276720"/>
              <a:ext cx="304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019920" y="2895480"/>
            <a:ext cx="544320" cy="685800"/>
            <a:chOff x="6019920" y="2895480"/>
            <a:chExt cx="544320" cy="685800"/>
          </a:xfrm>
        </p:grpSpPr>
        <p:sp>
          <p:nvSpPr>
            <p:cNvPr id="489" name=""/>
            <p:cNvSpPr/>
            <p:nvPr/>
          </p:nvSpPr>
          <p:spPr>
            <a:xfrm>
              <a:off x="6039000" y="2895480"/>
              <a:ext cx="52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019920" y="3276720"/>
              <a:ext cx="22824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638680" y="1584360"/>
            <a:ext cx="914400" cy="649080"/>
            <a:chOff x="5638680" y="1584360"/>
            <a:chExt cx="914400" cy="649080"/>
          </a:xfrm>
        </p:grpSpPr>
        <p:grpSp>
          <p:nvGrpSpPr>
            <p:cNvPr id="492" name=""/>
            <p:cNvGrpSpPr/>
            <p:nvPr/>
          </p:nvGrpSpPr>
          <p:grpSpPr>
            <a:xfrm>
              <a:off x="5638680" y="1752480"/>
              <a:ext cx="914400" cy="304920"/>
              <a:chOff x="5638680" y="1752480"/>
              <a:chExt cx="914400" cy="304920"/>
            </a:xfrm>
          </p:grpSpPr>
          <p:sp>
            <p:nvSpPr>
              <p:cNvPr id="493" name=""/>
              <p:cNvSpPr/>
              <p:nvPr/>
            </p:nvSpPr>
            <p:spPr>
              <a:xfrm>
                <a:off x="6019560" y="17524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19560" y="1752480"/>
                <a:ext cx="15264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019560" y="190476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72200" y="17524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638680" y="19051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flipV="1">
              <a:off x="6172200" y="1752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24480" y="16178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00960" y="17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73640" y="1584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352680" y="4419720"/>
            <a:ext cx="918720" cy="672840"/>
            <a:chOff x="3352680" y="4419720"/>
            <a:chExt cx="918720" cy="672840"/>
          </a:xfrm>
        </p:grpSpPr>
        <p:grpSp>
          <p:nvGrpSpPr>
            <p:cNvPr id="503" name=""/>
            <p:cNvGrpSpPr/>
            <p:nvPr/>
          </p:nvGrpSpPr>
          <p:grpSpPr>
            <a:xfrm>
              <a:off x="3352680" y="4587840"/>
              <a:ext cx="914400" cy="304920"/>
              <a:chOff x="3352680" y="4587840"/>
              <a:chExt cx="914400" cy="304920"/>
            </a:xfrm>
          </p:grpSpPr>
          <p:sp>
            <p:nvSpPr>
              <p:cNvPr id="504" name=""/>
              <p:cNvSpPr/>
              <p:nvPr/>
            </p:nvSpPr>
            <p:spPr>
              <a:xfrm>
                <a:off x="3733560" y="45878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33560" y="4587840"/>
                <a:ext cx="15264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733560" y="47401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86200" y="45878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52680" y="474048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3886200" y="458748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8480" y="445284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88000" y="4572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4120" y="44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304920" y="4191120"/>
            <a:ext cx="2558880" cy="637920"/>
          </a:xfrm>
          <a:prstGeom prst="wedgeEllipseCallout">
            <a:avLst>
              <a:gd name="adj1" fmla="val 49009"/>
              <a:gd name="adj2" fmla="val -105972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反向转折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1795320"/>
            <a:ext cx="2133720" cy="567000"/>
          </a:xfrm>
          <a:prstGeom prst="wedgeEllipseCallout">
            <a:avLst>
              <a:gd name="adj1" fmla="val 61680"/>
              <a:gd name="adj2" fmla="val -6540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向平均电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2438280"/>
            <a:ext cx="2023920" cy="561960"/>
          </a:xfrm>
          <a:prstGeom prst="wedgeEllipseCallout">
            <a:avLst>
              <a:gd name="adj1" fmla="val 69527"/>
              <a:gd name="adj2" fmla="val 95481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维持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57800" y="1752480"/>
            <a:ext cx="0" cy="26672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343400" y="3962520"/>
            <a:ext cx="1295280" cy="459720"/>
            <a:chOff x="4343400" y="3962520"/>
            <a:chExt cx="1295280" cy="459720"/>
          </a:xfrm>
        </p:grpSpPr>
        <p:sp>
          <p:nvSpPr>
            <p:cNvPr id="518" name=""/>
            <p:cNvSpPr/>
            <p:nvPr/>
          </p:nvSpPr>
          <p:spPr>
            <a:xfrm>
              <a:off x="4343400" y="4267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57800" y="4267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48320" y="3962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Wingdings 3"/>
                  <a:ea typeface="Wingdings 3"/>
                </a:rPr>
                <a:t></a:t>
              </a: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495360" y="304920"/>
            <a:ext cx="36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1.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伏安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84760" y="3597120"/>
            <a:ext cx="1520640" cy="152640"/>
          </a:xfrm>
          <a:custGeom>
            <a:avLst/>
            <a:gdLst/>
            <a:ahLst/>
            <a:rect l="l" t="t" r="r" b="b"/>
            <a:pathLst>
              <a:path w="896" h="90">
                <a:moveTo>
                  <a:pt x="0" y="90"/>
                </a:moveTo>
                <a:cubicBezTo>
                  <a:pt x="44" y="81"/>
                  <a:pt x="88" y="81"/>
                  <a:pt x="132" y="72"/>
                </a:cubicBezTo>
                <a:cubicBezTo>
                  <a:pt x="318" y="74"/>
                  <a:pt x="504" y="78"/>
                  <a:pt x="690" y="78"/>
                </a:cubicBezTo>
                <a:cubicBezTo>
                  <a:pt x="748" y="78"/>
                  <a:pt x="831" y="76"/>
                  <a:pt x="882" y="42"/>
                </a:cubicBezTo>
                <a:cubicBezTo>
                  <a:pt x="886" y="30"/>
                  <a:pt x="890" y="18"/>
                  <a:pt x="894" y="6"/>
                </a:cubicBezTo>
                <a:cubicBezTo>
                  <a:pt x="896" y="0"/>
                  <a:pt x="890" y="18"/>
                  <a:pt x="888" y="24"/>
                </a:cubicBezTo>
                <a:cubicBezTo>
                  <a:pt x="887" y="28"/>
                  <a:pt x="884" y="16"/>
                  <a:pt x="882" y="12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784760" y="3597120"/>
            <a:ext cx="1255320" cy="163440"/>
            <a:chOff x="4784760" y="3597120"/>
            <a:chExt cx="1255320" cy="163440"/>
          </a:xfrm>
        </p:grpSpPr>
        <p:sp>
          <p:nvSpPr>
            <p:cNvPr id="524" name=""/>
            <p:cNvSpPr/>
            <p:nvPr/>
          </p:nvSpPr>
          <p:spPr>
            <a:xfrm>
              <a:off x="4784760" y="3740040"/>
              <a:ext cx="417240" cy="20520"/>
            </a:xfrm>
            <a:custGeom>
              <a:avLst/>
              <a:gdLst/>
              <a:ahLst/>
              <a:rect l="l" t="t" r="r" b="b"/>
              <a:pathLst>
                <a:path w="246" h="12">
                  <a:moveTo>
                    <a:pt x="0" y="12"/>
                  </a:moveTo>
                  <a:cubicBezTo>
                    <a:pt x="95" y="3"/>
                    <a:pt x="133" y="0"/>
                    <a:pt x="246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91920" y="3721680"/>
              <a:ext cx="753120" cy="18360"/>
            </a:xfrm>
            <a:custGeom>
              <a:avLst/>
              <a:gdLst/>
              <a:ahLst/>
              <a:rect l="l" t="t" r="r" b="b"/>
              <a:pathLst>
                <a:path w="444" h="11">
                  <a:moveTo>
                    <a:pt x="0" y="11"/>
                  </a:moveTo>
                  <a:cubicBezTo>
                    <a:pt x="147" y="0"/>
                    <a:pt x="297" y="5"/>
                    <a:pt x="444" y="5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24880" y="3597120"/>
              <a:ext cx="115200" cy="11916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0" y="0"/>
                  </a:moveTo>
                  <a:lnTo>
                    <a:pt x="22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2" y="41"/>
                  </a:lnTo>
                  <a:lnTo>
                    <a:pt x="10" y="43"/>
                  </a:lnTo>
                  <a:lnTo>
                    <a:pt x="7" y="45"/>
                  </a:lnTo>
                  <a:lnTo>
                    <a:pt x="4" y="48"/>
                  </a:lnTo>
                  <a:lnTo>
                    <a:pt x="2" y="49"/>
                  </a:lnTo>
                  <a:lnTo>
                    <a:pt x="0" y="5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3505320" y="380880"/>
                <a:ext cx="25588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曲线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6:37:31Z</dcterms:created>
  <dc:creator>王香婷</dc:creator>
  <dc:description/>
  <dc:language>en-US</dc:language>
  <cp:lastModifiedBy>xtw</cp:lastModifiedBy>
  <dcterms:modified xsi:type="dcterms:W3CDTF">2003-08-04T14:28:30Z</dcterms:modified>
  <cp:revision>16</cp:revision>
  <dc:subject/>
  <dc:title>PowerPoint 演示文稿</dc:title>
</cp:coreProperties>
</file>