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file:///&#30005;&#24037;&#25216;&#26415;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电工技术(无图标)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">
            <a:hlinkClick r:id="" action="ppaction://hlinkshowjump?jump=nextslide"/>
          </p:cNvPr>
          <p:cNvSpPr/>
          <p:nvPr/>
        </p:nvSpPr>
        <p:spPr>
          <a:xfrm>
            <a:off x="8448840" y="648828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5fede"/>
              </a:gs>
              <a:gs pos="100000">
                <a:srgbClr val="dbe3c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a9c06"/>
                </a:solidFill>
                <a:latin typeface="Times New Roman"/>
              </a:rPr>
              <a:t>下一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32448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5fede"/>
              </a:gs>
              <a:gs pos="100000">
                <a:srgbClr val="dbe3c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a9c06"/>
                </a:solidFill>
                <a:latin typeface="Times New Roman"/>
              </a:rPr>
              <a:t>总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firstslide"/>
          </p:cNvPr>
          <p:cNvSpPr/>
          <p:nvPr/>
        </p:nvSpPr>
        <p:spPr>
          <a:xfrm>
            <a:off x="685476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5fede"/>
              </a:gs>
              <a:gs pos="100000">
                <a:srgbClr val="dbe3c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a9c06"/>
                </a:solidFill>
                <a:latin typeface="Times New Roman"/>
              </a:rPr>
              <a:t>章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>
            <a:off x="738360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5fede"/>
              </a:gs>
              <a:gs pos="100000">
                <a:srgbClr val="dbe3c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a9c06"/>
                </a:solidFill>
                <a:latin typeface="Times New Roman"/>
              </a:rPr>
              <a:t>返回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791856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5fede"/>
              </a:gs>
              <a:gs pos="100000">
                <a:srgbClr val="dbe3c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a9c06"/>
                </a:solidFill>
                <a:latin typeface="Times New Roman"/>
              </a:rPr>
              <a:t>上一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rId3"/>
          </p:cNvPr>
          <p:cNvSpPr/>
          <p:nvPr/>
        </p:nvSpPr>
        <p:spPr>
          <a:xfrm>
            <a:off x="6324480" y="6477120"/>
            <a:ext cx="500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 txBox="1"/>
          <p:nvPr/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10.xml"/><Relationship Id="rId4" Type="http://schemas.openxmlformats.org/officeDocument/2006/relationships/oleObject" Target="../embeddings/oleObject1.bin"/><Relationship Id="rId5" Type="http://schemas.openxmlformats.org/officeDocument/2006/relationships/image" Target="../media/image2.wmf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第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13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章 工业企业供电及安全用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" action="ppaction://hlinksldjump"/>
          </p:cNvPr>
          <p:cNvSpPr/>
          <p:nvPr/>
        </p:nvSpPr>
        <p:spPr>
          <a:xfrm>
            <a:off x="1963800" y="2084400"/>
            <a:ext cx="55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力系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1930320" y="2914560"/>
            <a:ext cx="55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.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工业企业配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3" action="ppaction://hlinksldjump"/>
          </p:cNvPr>
          <p:cNvSpPr/>
          <p:nvPr/>
        </p:nvSpPr>
        <p:spPr>
          <a:xfrm>
            <a:off x="1928880" y="3668760"/>
            <a:ext cx="497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.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安全用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324480" y="4419720"/>
          <a:ext cx="2286000" cy="1519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24480" y="4419720"/>
                    <a:ext cx="228600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3" name=""/>
          <p:cNvGrpSpPr/>
          <p:nvPr/>
        </p:nvGrpSpPr>
        <p:grpSpPr>
          <a:xfrm>
            <a:off x="1219320" y="5257800"/>
            <a:ext cx="4876200" cy="161640"/>
            <a:chOff x="1219320" y="5257800"/>
            <a:chExt cx="4876200" cy="161640"/>
          </a:xfrm>
        </p:grpSpPr>
        <p:pic>
          <p:nvPicPr>
            <p:cNvPr id="54" name="" descr=""/>
            <p:cNvPicPr/>
            <p:nvPr/>
          </p:nvPicPr>
          <p:blipFill>
            <a:blip r:embed="rId6"/>
            <a:stretch/>
          </p:blipFill>
          <p:spPr>
            <a:xfrm>
              <a:off x="1219320" y="52578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7"/>
            <a:stretch/>
          </p:blipFill>
          <p:spPr>
            <a:xfrm>
              <a:off x="1361880" y="52578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8"/>
            <a:stretch/>
          </p:blipFill>
          <p:spPr>
            <a:xfrm>
              <a:off x="1523880" y="525780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9"/>
            <a:stretch/>
          </p:blipFill>
          <p:spPr>
            <a:xfrm>
              <a:off x="1819080" y="52578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10"/>
            <a:stretch/>
          </p:blipFill>
          <p:spPr>
            <a:xfrm>
              <a:off x="1981080" y="525780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11"/>
            <a:stretch/>
          </p:blipFill>
          <p:spPr>
            <a:xfrm>
              <a:off x="2133360" y="52578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12"/>
            <a:stretch/>
          </p:blipFill>
          <p:spPr>
            <a:xfrm>
              <a:off x="2276280" y="52578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13"/>
            <a:stretch/>
          </p:blipFill>
          <p:spPr>
            <a:xfrm>
              <a:off x="2438280" y="525780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14"/>
            <a:stretch/>
          </p:blipFill>
          <p:spPr>
            <a:xfrm>
              <a:off x="2733480" y="52578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15"/>
            <a:stretch/>
          </p:blipFill>
          <p:spPr>
            <a:xfrm>
              <a:off x="2895480" y="525780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16"/>
            <a:stretch/>
          </p:blipFill>
          <p:spPr>
            <a:xfrm>
              <a:off x="3047760" y="52578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17"/>
            <a:stretch/>
          </p:blipFill>
          <p:spPr>
            <a:xfrm>
              <a:off x="3190680" y="52578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18"/>
            <a:stretch/>
          </p:blipFill>
          <p:spPr>
            <a:xfrm>
              <a:off x="1676160" y="52578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19"/>
            <a:stretch/>
          </p:blipFill>
          <p:spPr>
            <a:xfrm>
              <a:off x="2590560" y="52578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20"/>
            <a:stretch/>
          </p:blipFill>
          <p:spPr>
            <a:xfrm>
              <a:off x="3352680" y="525780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21"/>
            <a:stretch/>
          </p:blipFill>
          <p:spPr>
            <a:xfrm>
              <a:off x="3504960" y="52578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2"/>
            <a:stretch/>
          </p:blipFill>
          <p:spPr>
            <a:xfrm>
              <a:off x="3647880" y="52578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23"/>
            <a:stretch/>
          </p:blipFill>
          <p:spPr>
            <a:xfrm>
              <a:off x="3809880" y="525780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4"/>
            <a:stretch/>
          </p:blipFill>
          <p:spPr>
            <a:xfrm>
              <a:off x="3962160" y="52578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25"/>
            <a:stretch/>
          </p:blipFill>
          <p:spPr>
            <a:xfrm>
              <a:off x="4105080" y="52578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26"/>
            <a:stretch/>
          </p:blipFill>
          <p:spPr>
            <a:xfrm>
              <a:off x="4267080" y="525780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7"/>
            <a:stretch/>
          </p:blipFill>
          <p:spPr>
            <a:xfrm>
              <a:off x="4562280" y="52578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28"/>
            <a:stretch/>
          </p:blipFill>
          <p:spPr>
            <a:xfrm>
              <a:off x="4724280" y="525780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29"/>
            <a:stretch/>
          </p:blipFill>
          <p:spPr>
            <a:xfrm>
              <a:off x="4876560" y="52578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30"/>
            <a:stretch/>
          </p:blipFill>
          <p:spPr>
            <a:xfrm>
              <a:off x="5019480" y="52578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31"/>
            <a:stretch/>
          </p:blipFill>
          <p:spPr>
            <a:xfrm>
              <a:off x="5181480" y="525780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2"/>
            <a:stretch/>
          </p:blipFill>
          <p:spPr>
            <a:xfrm>
              <a:off x="5476680" y="52578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33"/>
            <a:stretch/>
          </p:blipFill>
          <p:spPr>
            <a:xfrm>
              <a:off x="5638680" y="525780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34"/>
            <a:stretch/>
          </p:blipFill>
          <p:spPr>
            <a:xfrm>
              <a:off x="5790960" y="52578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35"/>
            <a:stretch/>
          </p:blipFill>
          <p:spPr>
            <a:xfrm>
              <a:off x="5933880" y="52578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36"/>
            <a:stretch/>
          </p:blipFill>
          <p:spPr>
            <a:xfrm>
              <a:off x="4419360" y="52578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37"/>
            <a:stretch/>
          </p:blipFill>
          <p:spPr>
            <a:xfrm>
              <a:off x="5333760" y="5257800"/>
              <a:ext cx="161640" cy="161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5105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13.3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安全用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28600" y="762120"/>
            <a:ext cx="3505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13.3.1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触电事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072080" y="1258920"/>
            <a:ext cx="21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电气事故的原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09480" y="167796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1)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违章操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55760" y="2141640"/>
            <a:ext cx="85708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违反“停电检修安全工作制度”，因误合闸造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修人员触电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57200" y="3046320"/>
            <a:ext cx="81532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违反“带电检修安全操作规程”，使操作人员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及电器的带电部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57200" y="40021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带电移动电器设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57200" y="453564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水冲洗或用湿布擦拭电气设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57200" y="55306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6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有高压电容的线路检修时未进行放电处理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触电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519360" y="4992840"/>
            <a:ext cx="147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5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违章救护他人触电，造成救护者一起触电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12440" y="475920"/>
            <a:ext cx="3048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2)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施工不规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14520" y="1009800"/>
            <a:ext cx="809928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误将电源保护接地与零线相接，且插座火线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零线位置接反使机壳带电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221000" y="2027160"/>
            <a:ext cx="10371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插头接线不合理，造成电源线外露，导致触电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14520" y="2610000"/>
            <a:ext cx="775620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照明电路的中线接触不良或安装保险，造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线断开，导致家电损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96880" y="4286160"/>
            <a:ext cx="784872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5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意加大保险丝的规格，失去短路保护作用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导致电器损坏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08040" y="3676680"/>
            <a:ext cx="76849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照明线路敷射不合规范造成搭接物带电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683880" y="5284800"/>
            <a:ext cx="9442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6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施工中未对电气设备进行接地保护处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3657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3)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产品质量不合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84360" y="685800"/>
            <a:ext cx="80010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气设备缺少保护设施造成电器在正常情况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损坏和触电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85800" y="1600200"/>
            <a:ext cx="82296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带电作业时，使用不合理的工具或绝缘设施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成维修人员触电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84360" y="2584440"/>
            <a:ext cx="80769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产品使用劣质材料，使绝缘等级、抗老化能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很低，容易造成触电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71400" y="3517920"/>
            <a:ext cx="4203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产工艺粗制滥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699640" y="4010040"/>
            <a:ext cx="944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5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热器具使用塑料电源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006920" y="4467240"/>
            <a:ext cx="1505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4)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偶然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60320" y="4898880"/>
            <a:ext cx="79250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力线突然断裂使行人触电；狂风吹断树枝将电线砸断；雨水进入家用电器使机壳漏电等偶然事件均会造成触电事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13.3.2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电流对人体的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153880" y="1120680"/>
            <a:ext cx="469188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体触电时，电流对人体会造成两种伤害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击和电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838080" y="2127240"/>
            <a:ext cx="78487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电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指电流通过人体，影响呼吸系统、心脏和神经系统，造成人体内部组织的破坏乃至死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838080" y="3200400"/>
            <a:ext cx="7543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电伤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指在电弧作用下或熔断丝熔断时，对人体外部的伤害，如烧伤、金属溅伤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62120" y="4194000"/>
            <a:ext cx="79246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调查表明，绝大部分的触电事故都是由电击造成的。电击伤害的程度取决于通过人体电流的大小、持续时间、电流的频率以及电流通过人体的途径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28640" y="380520"/>
            <a:ext cx="5562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人体电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28640" y="795240"/>
            <a:ext cx="807732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体电阻因人而异，通常为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0</a:t>
            </a:r>
            <a:r>
              <a:rPr b="1" lang="zh-CN" sz="2800" spc="-1" strike="noStrike" baseline="30000">
                <a:solidFill>
                  <a:srgbClr val="cc0000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~ 10</a:t>
            </a:r>
            <a:r>
              <a:rPr b="1" lang="zh-CN" sz="2800" spc="-1" strike="noStrike" baseline="30000">
                <a:solidFill>
                  <a:srgbClr val="cc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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当角质外层破坏时，则降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00~1000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60240" y="1782720"/>
            <a:ext cx="4335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电流强度对人的伤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645200" y="2270160"/>
            <a:ext cx="381672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体允许的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安全工频电流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:  30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工频危险电流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:  50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71400" y="3687840"/>
            <a:ext cx="813456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电流频率在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40Hz ~ 60Hz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对人体的伤害最大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实践证明，直流电对血液有分解作用，而高频电流不仅没有危害还可以用于医疗保健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89040" y="3230640"/>
            <a:ext cx="46879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电流频率对人体的伤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60240" y="5165640"/>
            <a:ext cx="6697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电流持续时间与路径对人体的伤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09480" y="5665680"/>
            <a:ext cx="81201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流通过人体的时间愈长，则伤害愈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5.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电压对人体的伤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95440" y="555480"/>
            <a:ext cx="79390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流的路径通过心脏会导致神经失常、心跳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止、血液循环中断，危险性最大。其中电流的流经从右手到左脚的路径是最危险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900000" y="2666880"/>
            <a:ext cx="75582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触电电压越高，通过人体的电流越大就越危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33520" y="3298680"/>
            <a:ext cx="80150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因此，把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6 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下的电压定为安全电压。工厂进行设备检修使用的手灯及机床照明都采用安全电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7620120" y="4648320"/>
            <a:ext cx="1008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39720" y="637920"/>
            <a:ext cx="3581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13.3.3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触电方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095840" y="1171440"/>
            <a:ext cx="21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接触正常带电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279800" y="1704960"/>
            <a:ext cx="350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(1)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电源中性点接地的单相触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6869520" y="3494160"/>
            <a:ext cx="995760" cy="1480680"/>
            <a:chOff x="6869520" y="3494160"/>
            <a:chExt cx="995760" cy="1480680"/>
          </a:xfrm>
        </p:grpSpPr>
        <p:sp>
          <p:nvSpPr>
            <p:cNvPr id="584" name=""/>
            <p:cNvSpPr/>
            <p:nvPr/>
          </p:nvSpPr>
          <p:spPr>
            <a:xfrm flipH="1">
              <a:off x="7260120" y="3740040"/>
              <a:ext cx="376200" cy="25992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7034040" y="3494160"/>
              <a:ext cx="333360" cy="579240"/>
            </a:xfrm>
            <a:custGeom>
              <a:avLst/>
              <a:gdLst/>
              <a:ahLst/>
              <a:rect l="l" t="t" r="r" b="b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 rot="20013000">
              <a:off x="7488000" y="4036320"/>
              <a:ext cx="301680" cy="41076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7242840" y="4003560"/>
              <a:ext cx="282600" cy="42984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7395120" y="4362120"/>
              <a:ext cx="214200" cy="61272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 rot="1122000">
              <a:off x="6963840" y="4298760"/>
              <a:ext cx="301320" cy="63936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 flipH="1">
            <a:off x="6211440" y="5018040"/>
            <a:ext cx="981000" cy="26676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5973840" y="3798360"/>
            <a:ext cx="1440" cy="12193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16640" y="2717640"/>
            <a:ext cx="3047400" cy="3021120"/>
            <a:chOff x="5516640" y="2717640"/>
            <a:chExt cx="3047400" cy="3021120"/>
          </a:xfrm>
        </p:grpSpPr>
        <p:sp>
          <p:nvSpPr>
            <p:cNvPr id="593" name=""/>
            <p:cNvSpPr/>
            <p:nvPr/>
          </p:nvSpPr>
          <p:spPr>
            <a:xfrm>
              <a:off x="5821200" y="5159160"/>
              <a:ext cx="837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226360" y="3225960"/>
              <a:ext cx="3376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5" name=""/>
            <p:cNvGrpSpPr/>
            <p:nvPr/>
          </p:nvGrpSpPr>
          <p:grpSpPr>
            <a:xfrm>
              <a:off x="5516640" y="2717640"/>
              <a:ext cx="3047400" cy="2827800"/>
              <a:chOff x="5516640" y="2717640"/>
              <a:chExt cx="3047400" cy="2827800"/>
            </a:xfrm>
          </p:grpSpPr>
          <p:sp>
            <p:nvSpPr>
              <p:cNvPr id="596" name=""/>
              <p:cNvSpPr/>
              <p:nvPr/>
            </p:nvSpPr>
            <p:spPr>
              <a:xfrm>
                <a:off x="5762160" y="5404680"/>
                <a:ext cx="34920" cy="140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808600" y="2950920"/>
                <a:ext cx="0" cy="2190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216640" y="2717640"/>
                <a:ext cx="2998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16200000">
                <a:off x="6396480" y="3091680"/>
                <a:ext cx="108000" cy="188640"/>
              </a:xfrm>
              <a:custGeom>
                <a:avLst/>
                <a:gdLst/>
                <a:ahLst/>
                <a:rect l="l" t="t" r="r" b="b"/>
                <a:pathLst>
                  <a:path w="140" h="198">
                    <a:moveTo>
                      <a:pt x="0" y="0"/>
                    </a:moveTo>
                    <a:cubicBezTo>
                      <a:pt x="50" y="18"/>
                      <a:pt x="100" y="36"/>
                      <a:pt x="120" y="60"/>
                    </a:cubicBezTo>
                    <a:cubicBezTo>
                      <a:pt x="140" y="84"/>
                      <a:pt x="140" y="121"/>
                      <a:pt x="120" y="144"/>
                    </a:cubicBezTo>
                    <a:cubicBezTo>
                      <a:pt x="100" y="167"/>
                      <a:pt x="20" y="189"/>
                      <a:pt x="0" y="19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16200000">
                <a:off x="6584400" y="3092400"/>
                <a:ext cx="108000" cy="186840"/>
              </a:xfrm>
              <a:custGeom>
                <a:avLst/>
                <a:gdLst/>
                <a:ahLst/>
                <a:rect l="l" t="t" r="r" b="b"/>
                <a:pathLst>
                  <a:path w="140" h="198">
                    <a:moveTo>
                      <a:pt x="0" y="0"/>
                    </a:moveTo>
                    <a:cubicBezTo>
                      <a:pt x="50" y="18"/>
                      <a:pt x="100" y="36"/>
                      <a:pt x="120" y="60"/>
                    </a:cubicBezTo>
                    <a:cubicBezTo>
                      <a:pt x="140" y="84"/>
                      <a:pt x="140" y="121"/>
                      <a:pt x="120" y="144"/>
                    </a:cubicBezTo>
                    <a:cubicBezTo>
                      <a:pt x="100" y="167"/>
                      <a:pt x="20" y="189"/>
                      <a:pt x="0" y="19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16200000">
                <a:off x="6772680" y="3091680"/>
                <a:ext cx="108000" cy="188640"/>
              </a:xfrm>
              <a:custGeom>
                <a:avLst/>
                <a:gdLst/>
                <a:ahLst/>
                <a:rect l="l" t="t" r="r" b="b"/>
                <a:pathLst>
                  <a:path w="140" h="198">
                    <a:moveTo>
                      <a:pt x="0" y="0"/>
                    </a:moveTo>
                    <a:cubicBezTo>
                      <a:pt x="50" y="18"/>
                      <a:pt x="100" y="36"/>
                      <a:pt x="120" y="60"/>
                    </a:cubicBezTo>
                    <a:cubicBezTo>
                      <a:pt x="140" y="84"/>
                      <a:pt x="140" y="121"/>
                      <a:pt x="120" y="144"/>
                    </a:cubicBezTo>
                    <a:cubicBezTo>
                      <a:pt x="100" y="167"/>
                      <a:pt x="20" y="189"/>
                      <a:pt x="0" y="19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913440" y="3232080"/>
                <a:ext cx="1279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832360" y="3232080"/>
                <a:ext cx="356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16200000">
                <a:off x="6217920" y="3092400"/>
                <a:ext cx="108000" cy="187200"/>
              </a:xfrm>
              <a:custGeom>
                <a:avLst/>
                <a:gdLst/>
                <a:ahLst/>
                <a:rect l="l" t="t" r="r" b="b"/>
                <a:pathLst>
                  <a:path w="140" h="198">
                    <a:moveTo>
                      <a:pt x="0" y="0"/>
                    </a:moveTo>
                    <a:cubicBezTo>
                      <a:pt x="50" y="18"/>
                      <a:pt x="100" y="36"/>
                      <a:pt x="120" y="60"/>
                    </a:cubicBezTo>
                    <a:cubicBezTo>
                      <a:pt x="140" y="84"/>
                      <a:pt x="140" y="121"/>
                      <a:pt x="120" y="144"/>
                    </a:cubicBezTo>
                    <a:cubicBezTo>
                      <a:pt x="100" y="167"/>
                      <a:pt x="20" y="189"/>
                      <a:pt x="0" y="19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16200000">
                <a:off x="6378120" y="2825640"/>
                <a:ext cx="108000" cy="186840"/>
              </a:xfrm>
              <a:custGeom>
                <a:avLst/>
                <a:gdLst/>
                <a:ahLst/>
                <a:rect l="l" t="t" r="r" b="b"/>
                <a:pathLst>
                  <a:path w="140" h="198">
                    <a:moveTo>
                      <a:pt x="0" y="0"/>
                    </a:moveTo>
                    <a:cubicBezTo>
                      <a:pt x="50" y="18"/>
                      <a:pt x="100" y="36"/>
                      <a:pt x="120" y="60"/>
                    </a:cubicBezTo>
                    <a:cubicBezTo>
                      <a:pt x="140" y="84"/>
                      <a:pt x="140" y="121"/>
                      <a:pt x="120" y="144"/>
                    </a:cubicBezTo>
                    <a:cubicBezTo>
                      <a:pt x="100" y="167"/>
                      <a:pt x="20" y="189"/>
                      <a:pt x="0" y="19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16200000">
                <a:off x="6566400" y="2824920"/>
                <a:ext cx="108000" cy="188640"/>
              </a:xfrm>
              <a:custGeom>
                <a:avLst/>
                <a:gdLst/>
                <a:ahLst/>
                <a:rect l="l" t="t" r="r" b="b"/>
                <a:pathLst>
                  <a:path w="140" h="198">
                    <a:moveTo>
                      <a:pt x="0" y="0"/>
                    </a:moveTo>
                    <a:cubicBezTo>
                      <a:pt x="50" y="18"/>
                      <a:pt x="100" y="36"/>
                      <a:pt x="120" y="60"/>
                    </a:cubicBezTo>
                    <a:cubicBezTo>
                      <a:pt x="140" y="84"/>
                      <a:pt x="140" y="121"/>
                      <a:pt x="120" y="144"/>
                    </a:cubicBezTo>
                    <a:cubicBezTo>
                      <a:pt x="100" y="167"/>
                      <a:pt x="20" y="189"/>
                      <a:pt x="0" y="19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16200000">
                <a:off x="6754320" y="2825640"/>
                <a:ext cx="108000" cy="186840"/>
              </a:xfrm>
              <a:custGeom>
                <a:avLst/>
                <a:gdLst/>
                <a:ahLst/>
                <a:rect l="l" t="t" r="r" b="b"/>
                <a:pathLst>
                  <a:path w="140" h="198">
                    <a:moveTo>
                      <a:pt x="0" y="0"/>
                    </a:moveTo>
                    <a:cubicBezTo>
                      <a:pt x="50" y="18"/>
                      <a:pt x="100" y="36"/>
                      <a:pt x="120" y="60"/>
                    </a:cubicBezTo>
                    <a:cubicBezTo>
                      <a:pt x="140" y="84"/>
                      <a:pt x="140" y="121"/>
                      <a:pt x="120" y="144"/>
                    </a:cubicBezTo>
                    <a:cubicBezTo>
                      <a:pt x="100" y="167"/>
                      <a:pt x="20" y="189"/>
                      <a:pt x="0" y="19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V="1">
                <a:off x="6894360" y="2955240"/>
                <a:ext cx="1307880" cy="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813280" y="2965320"/>
                <a:ext cx="356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16200000">
                <a:off x="6198840" y="2825640"/>
                <a:ext cx="108000" cy="187200"/>
              </a:xfrm>
              <a:custGeom>
                <a:avLst/>
                <a:gdLst/>
                <a:ahLst/>
                <a:rect l="l" t="t" r="r" b="b"/>
                <a:pathLst>
                  <a:path w="140" h="198">
                    <a:moveTo>
                      <a:pt x="0" y="0"/>
                    </a:moveTo>
                    <a:cubicBezTo>
                      <a:pt x="50" y="18"/>
                      <a:pt x="100" y="36"/>
                      <a:pt x="120" y="60"/>
                    </a:cubicBezTo>
                    <a:cubicBezTo>
                      <a:pt x="140" y="84"/>
                      <a:pt x="140" y="121"/>
                      <a:pt x="120" y="144"/>
                    </a:cubicBezTo>
                    <a:cubicBezTo>
                      <a:pt x="100" y="167"/>
                      <a:pt x="20" y="189"/>
                      <a:pt x="0" y="19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16200000">
                <a:off x="6396480" y="3339360"/>
                <a:ext cx="108000" cy="188640"/>
              </a:xfrm>
              <a:custGeom>
                <a:avLst/>
                <a:gdLst/>
                <a:ahLst/>
                <a:rect l="l" t="t" r="r" b="b"/>
                <a:pathLst>
                  <a:path w="140" h="198">
                    <a:moveTo>
                      <a:pt x="0" y="0"/>
                    </a:moveTo>
                    <a:cubicBezTo>
                      <a:pt x="50" y="18"/>
                      <a:pt x="100" y="36"/>
                      <a:pt x="120" y="60"/>
                    </a:cubicBezTo>
                    <a:cubicBezTo>
                      <a:pt x="140" y="84"/>
                      <a:pt x="140" y="121"/>
                      <a:pt x="120" y="144"/>
                    </a:cubicBezTo>
                    <a:cubicBezTo>
                      <a:pt x="100" y="167"/>
                      <a:pt x="20" y="189"/>
                      <a:pt x="0" y="19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16200000">
                <a:off x="6584400" y="3340080"/>
                <a:ext cx="108000" cy="186840"/>
              </a:xfrm>
              <a:custGeom>
                <a:avLst/>
                <a:gdLst/>
                <a:ahLst/>
                <a:rect l="l" t="t" r="r" b="b"/>
                <a:pathLst>
                  <a:path w="140" h="198">
                    <a:moveTo>
                      <a:pt x="0" y="0"/>
                    </a:moveTo>
                    <a:cubicBezTo>
                      <a:pt x="50" y="18"/>
                      <a:pt x="100" y="36"/>
                      <a:pt x="120" y="60"/>
                    </a:cubicBezTo>
                    <a:cubicBezTo>
                      <a:pt x="140" y="84"/>
                      <a:pt x="140" y="121"/>
                      <a:pt x="120" y="144"/>
                    </a:cubicBezTo>
                    <a:cubicBezTo>
                      <a:pt x="100" y="167"/>
                      <a:pt x="20" y="189"/>
                      <a:pt x="0" y="19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16200000">
                <a:off x="6772680" y="3339360"/>
                <a:ext cx="108000" cy="188640"/>
              </a:xfrm>
              <a:custGeom>
                <a:avLst/>
                <a:gdLst/>
                <a:ahLst/>
                <a:rect l="l" t="t" r="r" b="b"/>
                <a:pathLst>
                  <a:path w="140" h="198">
                    <a:moveTo>
                      <a:pt x="0" y="0"/>
                    </a:moveTo>
                    <a:cubicBezTo>
                      <a:pt x="50" y="18"/>
                      <a:pt x="100" y="36"/>
                      <a:pt x="120" y="60"/>
                    </a:cubicBezTo>
                    <a:cubicBezTo>
                      <a:pt x="140" y="84"/>
                      <a:pt x="140" y="121"/>
                      <a:pt x="120" y="144"/>
                    </a:cubicBezTo>
                    <a:cubicBezTo>
                      <a:pt x="100" y="167"/>
                      <a:pt x="20" y="189"/>
                      <a:pt x="0" y="19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913440" y="3489120"/>
                <a:ext cx="1279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832360" y="3479760"/>
                <a:ext cx="356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6200000">
                <a:off x="6217920" y="3340080"/>
                <a:ext cx="108000" cy="187200"/>
              </a:xfrm>
              <a:custGeom>
                <a:avLst/>
                <a:gdLst/>
                <a:ahLst/>
                <a:rect l="l" t="t" r="r" b="b"/>
                <a:pathLst>
                  <a:path w="140" h="198">
                    <a:moveTo>
                      <a:pt x="0" y="0"/>
                    </a:moveTo>
                    <a:cubicBezTo>
                      <a:pt x="50" y="18"/>
                      <a:pt x="100" y="36"/>
                      <a:pt x="120" y="60"/>
                    </a:cubicBezTo>
                    <a:cubicBezTo>
                      <a:pt x="140" y="84"/>
                      <a:pt x="140" y="121"/>
                      <a:pt x="120" y="144"/>
                    </a:cubicBezTo>
                    <a:cubicBezTo>
                      <a:pt x="100" y="167"/>
                      <a:pt x="20" y="189"/>
                      <a:pt x="0" y="19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516640" y="4979880"/>
                <a:ext cx="3000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760720" y="5151240"/>
                <a:ext cx="72720" cy="2667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5797080" y="5405400"/>
                <a:ext cx="39240" cy="139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6956280" y="4998960"/>
                <a:ext cx="102960" cy="123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7586640" y="4998960"/>
                <a:ext cx="112320" cy="123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6654600" y="4998960"/>
                <a:ext cx="112320" cy="123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7905600" y="4998960"/>
                <a:ext cx="112320" cy="123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6081480" y="4989240"/>
                <a:ext cx="112320" cy="123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7284960" y="4979880"/>
                <a:ext cx="112320" cy="123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5808600" y="4998960"/>
                <a:ext cx="112320" cy="123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8253360" y="4989240"/>
                <a:ext cx="113760" cy="123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>
                <a:off x="6343560" y="4998960"/>
                <a:ext cx="113760" cy="123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5573520" y="4998960"/>
                <a:ext cx="112320" cy="123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8178480" y="2922480"/>
                <a:ext cx="72720" cy="745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8226360" y="2949480"/>
                <a:ext cx="3376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169120" y="3189240"/>
                <a:ext cx="74160" cy="745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3" name=""/>
            <p:cNvSpPr/>
            <p:nvPr/>
          </p:nvSpPr>
          <p:spPr>
            <a:xfrm>
              <a:off x="8178480" y="3456000"/>
              <a:ext cx="72720" cy="74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6126120" y="3570120"/>
            <a:ext cx="990720" cy="180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 rot="20523000">
            <a:off x="6700320" y="2969280"/>
            <a:ext cx="612360" cy="1982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999" y="226"/>
                </a:moveTo>
                <a:arcTo wR="10800" hR="10800" stAng="-4695009" swAng="5493683"/>
                <a:lnTo>
                  <a:pt x="10800" y="10800"/>
                </a:lnTo>
                <a:close/>
              </a:path>
              <a:path fill="none" w="21600" h="21600">
                <a:moveTo>
                  <a:pt x="12999" y="226"/>
                </a:moveTo>
                <a:arcTo wR="10800" hR="10800" stAng="-4695009" swAng="5493683"/>
              </a:path>
            </a:pathLst>
          </a:custGeom>
          <a:noFill/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39720" y="284796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通过人体电流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701640" y="3362400"/>
                <a:ext cx="466236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9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8" name=""/>
          <p:cNvSpPr/>
          <p:nvPr/>
        </p:nvSpPr>
        <p:spPr>
          <a:xfrm>
            <a:off x="836640" y="4371840"/>
            <a:ext cx="357048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式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源相电压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220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接地电阻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体电阻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786480" y="2162160"/>
            <a:ext cx="53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时人体处于相电压下，危险较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电源中性点不接地系统的单相触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2373480" y="1011240"/>
            <a:ext cx="3256920" cy="1837800"/>
            <a:chOff x="2373480" y="1011240"/>
            <a:chExt cx="3256920" cy="1837800"/>
          </a:xfrm>
        </p:grpSpPr>
        <p:sp>
          <p:nvSpPr>
            <p:cNvPr id="642" name=""/>
            <p:cNvSpPr/>
            <p:nvPr/>
          </p:nvSpPr>
          <p:spPr>
            <a:xfrm>
              <a:off x="4659120" y="2306520"/>
              <a:ext cx="0" cy="400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4659120" y="139212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4354200" y="162036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759120" y="1378080"/>
              <a:ext cx="14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639880" y="1096920"/>
              <a:ext cx="0" cy="55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16200000">
              <a:off x="3236400" y="1236960"/>
              <a:ext cx="108000" cy="190080"/>
            </a:xfrm>
            <a:custGeom>
              <a:avLst/>
              <a:gdLst/>
              <a:ahLst/>
              <a:rect l="l" t="t" r="r" b="b"/>
              <a:pathLst>
                <a:path w="140" h="198">
                  <a:moveTo>
                    <a:pt x="0" y="0"/>
                  </a:moveTo>
                  <a:cubicBezTo>
                    <a:pt x="50" y="18"/>
                    <a:pt x="100" y="36"/>
                    <a:pt x="120" y="60"/>
                  </a:cubicBezTo>
                  <a:cubicBezTo>
                    <a:pt x="140" y="84"/>
                    <a:pt x="140" y="121"/>
                    <a:pt x="120" y="144"/>
                  </a:cubicBezTo>
                  <a:cubicBezTo>
                    <a:pt x="100" y="167"/>
                    <a:pt x="20" y="189"/>
                    <a:pt x="0" y="19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16200000">
              <a:off x="3426840" y="1236960"/>
              <a:ext cx="108000" cy="190080"/>
            </a:xfrm>
            <a:custGeom>
              <a:avLst/>
              <a:gdLst/>
              <a:ahLst/>
              <a:rect l="l" t="t" r="r" b="b"/>
              <a:pathLst>
                <a:path w="140" h="198">
                  <a:moveTo>
                    <a:pt x="0" y="0"/>
                  </a:moveTo>
                  <a:cubicBezTo>
                    <a:pt x="50" y="18"/>
                    <a:pt x="100" y="36"/>
                    <a:pt x="120" y="60"/>
                  </a:cubicBezTo>
                  <a:cubicBezTo>
                    <a:pt x="140" y="84"/>
                    <a:pt x="140" y="121"/>
                    <a:pt x="120" y="144"/>
                  </a:cubicBezTo>
                  <a:cubicBezTo>
                    <a:pt x="100" y="167"/>
                    <a:pt x="20" y="189"/>
                    <a:pt x="0" y="19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16200000">
              <a:off x="3617280" y="1236600"/>
              <a:ext cx="108000" cy="190440"/>
            </a:xfrm>
            <a:custGeom>
              <a:avLst/>
              <a:gdLst/>
              <a:ahLst/>
              <a:rect l="l" t="t" r="r" b="b"/>
              <a:pathLst>
                <a:path w="140" h="198">
                  <a:moveTo>
                    <a:pt x="0" y="0"/>
                  </a:moveTo>
                  <a:cubicBezTo>
                    <a:pt x="50" y="18"/>
                    <a:pt x="100" y="36"/>
                    <a:pt x="120" y="60"/>
                  </a:cubicBezTo>
                  <a:cubicBezTo>
                    <a:pt x="140" y="84"/>
                    <a:pt x="140" y="121"/>
                    <a:pt x="120" y="144"/>
                  </a:cubicBezTo>
                  <a:cubicBezTo>
                    <a:pt x="100" y="167"/>
                    <a:pt x="20" y="189"/>
                    <a:pt x="0" y="19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16200000">
              <a:off x="3055320" y="1236600"/>
              <a:ext cx="108000" cy="190440"/>
            </a:xfrm>
            <a:custGeom>
              <a:avLst/>
              <a:gdLst/>
              <a:ahLst/>
              <a:rect l="l" t="t" r="r" b="b"/>
              <a:pathLst>
                <a:path w="140" h="198">
                  <a:moveTo>
                    <a:pt x="0" y="0"/>
                  </a:moveTo>
                  <a:cubicBezTo>
                    <a:pt x="50" y="18"/>
                    <a:pt x="100" y="36"/>
                    <a:pt x="120" y="60"/>
                  </a:cubicBezTo>
                  <a:cubicBezTo>
                    <a:pt x="140" y="84"/>
                    <a:pt x="140" y="121"/>
                    <a:pt x="120" y="144"/>
                  </a:cubicBezTo>
                  <a:cubicBezTo>
                    <a:pt x="100" y="167"/>
                    <a:pt x="20" y="189"/>
                    <a:pt x="0" y="19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16200000">
              <a:off x="3217320" y="970200"/>
              <a:ext cx="108000" cy="190080"/>
            </a:xfrm>
            <a:custGeom>
              <a:avLst/>
              <a:gdLst/>
              <a:ahLst/>
              <a:rect l="l" t="t" r="r" b="b"/>
              <a:pathLst>
                <a:path w="140" h="198">
                  <a:moveTo>
                    <a:pt x="0" y="0"/>
                  </a:moveTo>
                  <a:cubicBezTo>
                    <a:pt x="50" y="18"/>
                    <a:pt x="100" y="36"/>
                    <a:pt x="120" y="60"/>
                  </a:cubicBezTo>
                  <a:cubicBezTo>
                    <a:pt x="140" y="84"/>
                    <a:pt x="140" y="121"/>
                    <a:pt x="120" y="144"/>
                  </a:cubicBezTo>
                  <a:cubicBezTo>
                    <a:pt x="100" y="167"/>
                    <a:pt x="20" y="189"/>
                    <a:pt x="0" y="19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16200000">
              <a:off x="3407760" y="969840"/>
              <a:ext cx="108000" cy="190440"/>
            </a:xfrm>
            <a:custGeom>
              <a:avLst/>
              <a:gdLst/>
              <a:ahLst/>
              <a:rect l="l" t="t" r="r" b="b"/>
              <a:pathLst>
                <a:path w="140" h="198">
                  <a:moveTo>
                    <a:pt x="0" y="0"/>
                  </a:moveTo>
                  <a:cubicBezTo>
                    <a:pt x="50" y="18"/>
                    <a:pt x="100" y="36"/>
                    <a:pt x="120" y="60"/>
                  </a:cubicBezTo>
                  <a:cubicBezTo>
                    <a:pt x="140" y="84"/>
                    <a:pt x="140" y="121"/>
                    <a:pt x="120" y="144"/>
                  </a:cubicBezTo>
                  <a:cubicBezTo>
                    <a:pt x="100" y="167"/>
                    <a:pt x="20" y="189"/>
                    <a:pt x="0" y="19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16200000">
              <a:off x="3598560" y="970200"/>
              <a:ext cx="108000" cy="190080"/>
            </a:xfrm>
            <a:custGeom>
              <a:avLst/>
              <a:gdLst/>
              <a:ahLst/>
              <a:rect l="l" t="t" r="r" b="b"/>
              <a:pathLst>
                <a:path w="140" h="198">
                  <a:moveTo>
                    <a:pt x="0" y="0"/>
                  </a:moveTo>
                  <a:cubicBezTo>
                    <a:pt x="50" y="18"/>
                    <a:pt x="100" y="36"/>
                    <a:pt x="120" y="60"/>
                  </a:cubicBezTo>
                  <a:cubicBezTo>
                    <a:pt x="140" y="84"/>
                    <a:pt x="140" y="121"/>
                    <a:pt x="120" y="144"/>
                  </a:cubicBezTo>
                  <a:cubicBezTo>
                    <a:pt x="100" y="167"/>
                    <a:pt x="20" y="189"/>
                    <a:pt x="0" y="19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644560" y="1111320"/>
              <a:ext cx="36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16200000">
              <a:off x="3036600" y="970200"/>
              <a:ext cx="108000" cy="190080"/>
            </a:xfrm>
            <a:custGeom>
              <a:avLst/>
              <a:gdLst/>
              <a:ahLst/>
              <a:rect l="l" t="t" r="r" b="b"/>
              <a:pathLst>
                <a:path w="140" h="198">
                  <a:moveTo>
                    <a:pt x="0" y="0"/>
                  </a:moveTo>
                  <a:cubicBezTo>
                    <a:pt x="50" y="18"/>
                    <a:pt x="100" y="36"/>
                    <a:pt x="120" y="60"/>
                  </a:cubicBezTo>
                  <a:cubicBezTo>
                    <a:pt x="140" y="84"/>
                    <a:pt x="140" y="121"/>
                    <a:pt x="120" y="144"/>
                  </a:cubicBezTo>
                  <a:cubicBezTo>
                    <a:pt x="100" y="167"/>
                    <a:pt x="20" y="189"/>
                    <a:pt x="0" y="19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16200000">
              <a:off x="3236400" y="1484640"/>
              <a:ext cx="108000" cy="190080"/>
            </a:xfrm>
            <a:custGeom>
              <a:avLst/>
              <a:gdLst/>
              <a:ahLst/>
              <a:rect l="l" t="t" r="r" b="b"/>
              <a:pathLst>
                <a:path w="140" h="198">
                  <a:moveTo>
                    <a:pt x="0" y="0"/>
                  </a:moveTo>
                  <a:cubicBezTo>
                    <a:pt x="50" y="18"/>
                    <a:pt x="100" y="36"/>
                    <a:pt x="120" y="60"/>
                  </a:cubicBezTo>
                  <a:cubicBezTo>
                    <a:pt x="140" y="84"/>
                    <a:pt x="140" y="121"/>
                    <a:pt x="120" y="144"/>
                  </a:cubicBezTo>
                  <a:cubicBezTo>
                    <a:pt x="100" y="167"/>
                    <a:pt x="20" y="189"/>
                    <a:pt x="0" y="19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rot="16200000">
              <a:off x="3426840" y="1484640"/>
              <a:ext cx="108000" cy="190080"/>
            </a:xfrm>
            <a:custGeom>
              <a:avLst/>
              <a:gdLst/>
              <a:ahLst/>
              <a:rect l="l" t="t" r="r" b="b"/>
              <a:pathLst>
                <a:path w="140" h="198">
                  <a:moveTo>
                    <a:pt x="0" y="0"/>
                  </a:moveTo>
                  <a:cubicBezTo>
                    <a:pt x="50" y="18"/>
                    <a:pt x="100" y="36"/>
                    <a:pt x="120" y="60"/>
                  </a:cubicBezTo>
                  <a:cubicBezTo>
                    <a:pt x="140" y="84"/>
                    <a:pt x="140" y="121"/>
                    <a:pt x="120" y="144"/>
                  </a:cubicBezTo>
                  <a:cubicBezTo>
                    <a:pt x="100" y="167"/>
                    <a:pt x="20" y="189"/>
                    <a:pt x="0" y="19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rot="16200000">
              <a:off x="3617280" y="1484280"/>
              <a:ext cx="108000" cy="190440"/>
            </a:xfrm>
            <a:custGeom>
              <a:avLst/>
              <a:gdLst/>
              <a:ahLst/>
              <a:rect l="l" t="t" r="r" b="b"/>
              <a:pathLst>
                <a:path w="140" h="198">
                  <a:moveTo>
                    <a:pt x="0" y="0"/>
                  </a:moveTo>
                  <a:cubicBezTo>
                    <a:pt x="50" y="18"/>
                    <a:pt x="100" y="36"/>
                    <a:pt x="120" y="60"/>
                  </a:cubicBezTo>
                  <a:cubicBezTo>
                    <a:pt x="140" y="84"/>
                    <a:pt x="140" y="121"/>
                    <a:pt x="120" y="144"/>
                  </a:cubicBezTo>
                  <a:cubicBezTo>
                    <a:pt x="100" y="167"/>
                    <a:pt x="20" y="189"/>
                    <a:pt x="0" y="19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759120" y="1635120"/>
              <a:ext cx="1409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663640" y="1625760"/>
              <a:ext cx="36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16200000">
              <a:off x="3055320" y="1484280"/>
              <a:ext cx="108000" cy="190440"/>
            </a:xfrm>
            <a:custGeom>
              <a:avLst/>
              <a:gdLst/>
              <a:ahLst/>
              <a:rect l="l" t="t" r="r" b="b"/>
              <a:pathLst>
                <a:path w="140" h="198">
                  <a:moveTo>
                    <a:pt x="0" y="0"/>
                  </a:moveTo>
                  <a:cubicBezTo>
                    <a:pt x="50" y="18"/>
                    <a:pt x="100" y="36"/>
                    <a:pt x="120" y="60"/>
                  </a:cubicBezTo>
                  <a:cubicBezTo>
                    <a:pt x="140" y="84"/>
                    <a:pt x="140" y="121"/>
                    <a:pt x="120" y="144"/>
                  </a:cubicBezTo>
                  <a:cubicBezTo>
                    <a:pt x="100" y="167"/>
                    <a:pt x="20" y="189"/>
                    <a:pt x="0" y="19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2" name=""/>
            <p:cNvGrpSpPr/>
            <p:nvPr/>
          </p:nvGrpSpPr>
          <p:grpSpPr>
            <a:xfrm>
              <a:off x="2373480" y="1378080"/>
              <a:ext cx="3038040" cy="1470960"/>
              <a:chOff x="2373480" y="1378080"/>
              <a:chExt cx="3038040" cy="1470960"/>
            </a:xfrm>
          </p:grpSpPr>
          <p:sp>
            <p:nvSpPr>
              <p:cNvPr id="663" name=""/>
              <p:cNvSpPr/>
              <p:nvPr/>
            </p:nvSpPr>
            <p:spPr>
              <a:xfrm>
                <a:off x="2663640" y="1378080"/>
                <a:ext cx="361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373480" y="2706480"/>
                <a:ext cx="303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>
                <a:off x="3830400" y="2725560"/>
                <a:ext cx="104400" cy="123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>
                <a:off x="4468680" y="2725560"/>
                <a:ext cx="113760" cy="123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3525120" y="2725560"/>
                <a:ext cx="114120" cy="123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H="1">
                <a:off x="4791960" y="2725560"/>
                <a:ext cx="114120" cy="123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H="1">
                <a:off x="2944080" y="2715840"/>
                <a:ext cx="114120" cy="123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H="1">
                <a:off x="4163760" y="2706480"/>
                <a:ext cx="113760" cy="123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H="1">
                <a:off x="2668320" y="2725560"/>
                <a:ext cx="113760" cy="123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>
                <a:off x="5144400" y="2715840"/>
                <a:ext cx="114120" cy="123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>
                <a:off x="3210840" y="2725560"/>
                <a:ext cx="114120" cy="123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2429640" y="2725560"/>
                <a:ext cx="114120" cy="123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5" name=""/>
            <p:cNvSpPr/>
            <p:nvPr/>
          </p:nvSpPr>
          <p:spPr>
            <a:xfrm>
              <a:off x="5154480" y="1601640"/>
              <a:ext cx="74160" cy="74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278240" y="2001960"/>
              <a:ext cx="151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354200" y="2306520"/>
              <a:ext cx="0" cy="400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582800" y="2001960"/>
              <a:ext cx="15228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887720" y="2001960"/>
              <a:ext cx="151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964040" y="230652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4964040" y="1115640"/>
              <a:ext cx="0" cy="88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154480" y="1344600"/>
              <a:ext cx="74160" cy="74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3740040" y="1120320"/>
              <a:ext cx="1428120" cy="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154480" y="1087560"/>
              <a:ext cx="74160" cy="74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916160" y="1068480"/>
              <a:ext cx="74520" cy="7452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620960" y="1344600"/>
              <a:ext cx="74160" cy="7452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306680" y="1611360"/>
              <a:ext cx="74160" cy="7452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044680" y="1613880"/>
              <a:ext cx="58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5510160" y="1863720"/>
            <a:ext cx="8208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地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缘电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3573360" y="1066680"/>
            <a:ext cx="1599480" cy="2048040"/>
            <a:chOff x="3573360" y="1066680"/>
            <a:chExt cx="1599480" cy="2048040"/>
          </a:xfrm>
        </p:grpSpPr>
        <p:sp>
          <p:nvSpPr>
            <p:cNvPr id="691" name=""/>
            <p:cNvSpPr/>
            <p:nvPr/>
          </p:nvSpPr>
          <p:spPr>
            <a:xfrm>
              <a:off x="3573360" y="2091960"/>
              <a:ext cx="582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1" i="1" lang="zh-CN" sz="2800" spc="-1" strike="noStrike" baseline="-25000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>
              <a:off x="3705120" y="1676160"/>
              <a:ext cx="184680" cy="5907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4736880" y="1675800"/>
              <a:ext cx="0" cy="2955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 flipV="1">
              <a:off x="5159520" y="1675800"/>
              <a:ext cx="13320" cy="314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4022640" y="1066680"/>
              <a:ext cx="5022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4048920" y="1295280"/>
              <a:ext cx="475560" cy="28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758400" y="2771640"/>
              <a:ext cx="409680" cy="190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>
              <a:off x="4221360" y="2800080"/>
              <a:ext cx="409680" cy="1238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4274280" y="2837880"/>
              <a:ext cx="700560" cy="22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599640" y="2847960"/>
              <a:ext cx="542160" cy="2667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1" name=""/>
          <p:cNvSpPr/>
          <p:nvPr/>
        </p:nvSpPr>
        <p:spPr>
          <a:xfrm>
            <a:off x="533520" y="3200400"/>
            <a:ext cx="7848360" cy="16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体接触某一相时，通过人体的电流取决于人体电阻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输电线对地绝缘电阻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大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若输电线绝缘良好，绝缘电阻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较大，对人体的危害性就减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33520" y="5105520"/>
            <a:ext cx="78483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但导线与地面间的绝缘可能不良（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较小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甚至有一相接地，这时人体中就有电流通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3056040" y="1584360"/>
            <a:ext cx="728640" cy="1153440"/>
            <a:chOff x="3056040" y="1584360"/>
            <a:chExt cx="728640" cy="1153440"/>
          </a:xfrm>
        </p:grpSpPr>
        <p:sp>
          <p:nvSpPr>
            <p:cNvPr id="704" name=""/>
            <p:cNvSpPr/>
            <p:nvPr/>
          </p:nvSpPr>
          <p:spPr>
            <a:xfrm>
              <a:off x="3225960" y="1765440"/>
              <a:ext cx="275040" cy="20304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422520" y="1584360"/>
              <a:ext cx="241920" cy="439920"/>
            </a:xfrm>
            <a:custGeom>
              <a:avLst/>
              <a:gdLst/>
              <a:ahLst/>
              <a:rect l="l" t="t" r="r" b="b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rot="1587000">
              <a:off x="3115800" y="1997280"/>
              <a:ext cx="218160" cy="31968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307680" y="1970280"/>
              <a:ext cx="205920" cy="33516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246480" y="2249640"/>
              <a:ext cx="155520" cy="47736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20725800">
              <a:off x="3507480" y="2220480"/>
              <a:ext cx="218160" cy="4975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第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13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章 工业企业供电及安全用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10480" y="16444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本章要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85840" y="2482920"/>
            <a:ext cx="59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了解工业企业供配电的基本知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68560" y="3276720"/>
            <a:ext cx="59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了解安全用电的基本常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14400" y="5562720"/>
            <a:ext cx="25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发电机组发出的电压一般为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6 ~ 10 KV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61960" y="304560"/>
            <a:ext cx="3886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BatangChe"/>
              </a:rPr>
              <a:t>13.1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电力系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66600" y="860400"/>
            <a:ext cx="25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3.1.1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电力系统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366920"/>
            <a:ext cx="82296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力是现代工业的主要动力，在各行各业中都得到了广泛的应用。电力系统是发电厂、输电线、变电所及用电设备的总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89120" y="3519360"/>
            <a:ext cx="104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发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3932280"/>
            <a:ext cx="83059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发电是将水力、火力、风力、核能和沼气等非电能转换成电能的过程。我国以水利和火力发电为主，近几年也在发展核能发电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52640" y="298620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电力系统由发电、输电和配电系统组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1676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输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133640"/>
            <a:ext cx="8305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输电就是将电能输送到用电地区或直接输送到大型用电户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输电网是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5K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及以上的输电线路与其相连接的变电所组成，它是电力系统的主要网络。输电是联系发电厂和用户的中间环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3267000"/>
            <a:ext cx="82296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输电过程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般将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发电机组发出的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6~10KV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压经升压变压器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变为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35~500KV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高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通过输电线可远距离将电能传送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到各用户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再利用降压变压器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5K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高压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变为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6~10KV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高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配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685800"/>
            <a:ext cx="1676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731880"/>
            <a:ext cx="80769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配电是由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0KV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级以下的配电线路和配电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降压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变压器所组成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它的作用是将电能降为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80/220V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低压再分配到各个用户的用电设备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86560" y="23623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电力网的电压等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72760" y="2895480"/>
            <a:ext cx="404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高压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KV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及以上的电压称为高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8160" y="344016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, 3, 6, 10, 35, 110, 330, 550K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66640" y="4019400"/>
            <a:ext cx="404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低压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KV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及以下的电压称为低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6800" y="4552920"/>
            <a:ext cx="248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80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37920" y="5043600"/>
            <a:ext cx="41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安全电压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36V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以下的电压称为低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556272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国规定的安全电压等级有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2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4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6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057040" y="152280"/>
            <a:ext cx="4724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电力系统的示意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40200" y="1100160"/>
            <a:ext cx="759960" cy="1183680"/>
            <a:chOff x="340200" y="1100160"/>
            <a:chExt cx="759960" cy="1183680"/>
          </a:xfrm>
        </p:grpSpPr>
        <p:grpSp>
          <p:nvGrpSpPr>
            <p:cNvPr id="112" name=""/>
            <p:cNvGrpSpPr/>
            <p:nvPr/>
          </p:nvGrpSpPr>
          <p:grpSpPr>
            <a:xfrm>
              <a:off x="642960" y="1100160"/>
              <a:ext cx="457200" cy="520560"/>
              <a:chOff x="642960" y="1100160"/>
              <a:chExt cx="457200" cy="520560"/>
            </a:xfrm>
          </p:grpSpPr>
          <p:sp>
            <p:nvSpPr>
              <p:cNvPr id="113" name=""/>
              <p:cNvSpPr/>
              <p:nvPr/>
            </p:nvSpPr>
            <p:spPr>
              <a:xfrm>
                <a:off x="649440" y="1203480"/>
                <a:ext cx="360360" cy="352440"/>
              </a:xfrm>
              <a:prstGeom prst="ellipse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42960" y="110016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~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340200" y="1531800"/>
              <a:ext cx="7293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水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发电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172200" y="666720"/>
            <a:ext cx="2133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升压变电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97800" y="241308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220k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68640" y="2809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地区枢纽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17120" y="16509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10k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123720" y="1219320"/>
            <a:ext cx="2896200" cy="1828800"/>
            <a:chOff x="3123720" y="1219320"/>
            <a:chExt cx="2896200" cy="1828800"/>
          </a:xfrm>
        </p:grpSpPr>
        <p:grpSp>
          <p:nvGrpSpPr>
            <p:cNvPr id="121" name=""/>
            <p:cNvGrpSpPr/>
            <p:nvPr/>
          </p:nvGrpSpPr>
          <p:grpSpPr>
            <a:xfrm>
              <a:off x="5033880" y="2400480"/>
              <a:ext cx="604440" cy="342360"/>
              <a:chOff x="5033880" y="2400480"/>
              <a:chExt cx="604440" cy="342360"/>
            </a:xfrm>
          </p:grpSpPr>
          <p:sp>
            <p:nvSpPr>
              <p:cNvPr id="122" name=""/>
              <p:cNvSpPr/>
              <p:nvPr/>
            </p:nvSpPr>
            <p:spPr>
              <a:xfrm>
                <a:off x="5033880" y="2400480"/>
                <a:ext cx="345600" cy="342360"/>
              </a:xfrm>
              <a:prstGeom prst="ellipse">
                <a:avLst/>
              </a:prstGeom>
              <a:noFill/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292720" y="2400480"/>
                <a:ext cx="345600" cy="342360"/>
              </a:xfrm>
              <a:prstGeom prst="ellipse">
                <a:avLst/>
              </a:prstGeom>
              <a:noFill/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114800" y="1219320"/>
              <a:ext cx="914400" cy="1336680"/>
              <a:chOff x="4114800" y="1219320"/>
              <a:chExt cx="914400" cy="133668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4389480" y="1219320"/>
                <a:ext cx="388440" cy="955080"/>
                <a:chOff x="4389480" y="1219320"/>
                <a:chExt cx="388440" cy="95508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4572000" y="12193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7" name=""/>
                <p:cNvGrpSpPr/>
                <p:nvPr/>
              </p:nvGrpSpPr>
              <p:grpSpPr>
                <a:xfrm>
                  <a:off x="4389480" y="1488960"/>
                  <a:ext cx="388440" cy="685440"/>
                  <a:chOff x="4389480" y="1488960"/>
                  <a:chExt cx="388440" cy="68544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 rot="16200000">
                    <a:off x="4387680" y="1784160"/>
                    <a:ext cx="391680" cy="388440"/>
                  </a:xfrm>
                  <a:prstGeom prst="ellipse">
                    <a:avLst/>
                  </a:prstGeom>
                  <a:noFill/>
                  <a:ln w="2844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rot="16200000">
                    <a:off x="4387680" y="1490400"/>
                    <a:ext cx="391680" cy="388440"/>
                  </a:xfrm>
                  <a:prstGeom prst="ellipse">
                    <a:avLst/>
                  </a:prstGeom>
                  <a:noFill/>
                  <a:ln w="2844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30" name=""/>
              <p:cNvSpPr/>
              <p:nvPr/>
            </p:nvSpPr>
            <p:spPr>
              <a:xfrm flipH="1">
                <a:off x="4346280" y="232560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4114800" y="2174760"/>
                <a:ext cx="914400" cy="381240"/>
                <a:chOff x="4114800" y="2174760"/>
                <a:chExt cx="914400" cy="3812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76680" y="2174760"/>
                  <a:ext cx="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579920" y="2327400"/>
                  <a:ext cx="0" cy="228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724280" y="2327400"/>
                  <a:ext cx="0" cy="228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724280" y="2556000"/>
                  <a:ext cx="304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419360" y="2327400"/>
                  <a:ext cx="0" cy="228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flipH="1">
                  <a:off x="4114800" y="2556000"/>
                  <a:ext cx="304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3505680" y="2400480"/>
              <a:ext cx="604440" cy="342360"/>
              <a:chOff x="3505680" y="2400480"/>
              <a:chExt cx="604440" cy="342360"/>
            </a:xfrm>
          </p:grpSpPr>
          <p:sp>
            <p:nvSpPr>
              <p:cNvPr id="139" name=""/>
              <p:cNvSpPr/>
              <p:nvPr/>
            </p:nvSpPr>
            <p:spPr>
              <a:xfrm flipH="1">
                <a:off x="3764520" y="2400480"/>
                <a:ext cx="345600" cy="342360"/>
              </a:xfrm>
              <a:prstGeom prst="ellipse">
                <a:avLst/>
              </a:prstGeom>
              <a:noFill/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3505680" y="2400480"/>
                <a:ext cx="345600" cy="342360"/>
              </a:xfrm>
              <a:prstGeom prst="ellipse">
                <a:avLst/>
              </a:prstGeom>
              <a:noFill/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5638680" y="2133720"/>
              <a:ext cx="381240" cy="914400"/>
              <a:chOff x="5638680" y="2133720"/>
              <a:chExt cx="381240" cy="914400"/>
            </a:xfrm>
          </p:grpSpPr>
          <p:sp>
            <p:nvSpPr>
              <p:cNvPr id="142" name=""/>
              <p:cNvSpPr/>
              <p:nvPr/>
            </p:nvSpPr>
            <p:spPr>
              <a:xfrm flipV="1">
                <a:off x="5789520" y="23652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" name=""/>
              <p:cNvGrpSpPr/>
              <p:nvPr/>
            </p:nvGrpSpPr>
            <p:grpSpPr>
              <a:xfrm>
                <a:off x="5638680" y="2133720"/>
                <a:ext cx="381240" cy="914400"/>
                <a:chOff x="5638680" y="2133720"/>
                <a:chExt cx="381240" cy="91440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5638680" y="2595600"/>
                  <a:ext cx="152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791320" y="259884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274320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19920" y="274320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791320" y="243828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V="1">
                  <a:off x="6019920" y="21337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0" name=""/>
            <p:cNvGrpSpPr/>
            <p:nvPr/>
          </p:nvGrpSpPr>
          <p:grpSpPr>
            <a:xfrm>
              <a:off x="3123720" y="2133720"/>
              <a:ext cx="381240" cy="914400"/>
              <a:chOff x="3123720" y="2133720"/>
              <a:chExt cx="381240" cy="914400"/>
            </a:xfrm>
          </p:grpSpPr>
          <p:sp>
            <p:nvSpPr>
              <p:cNvPr id="151" name=""/>
              <p:cNvSpPr/>
              <p:nvPr/>
            </p:nvSpPr>
            <p:spPr>
              <a:xfrm flipV="1">
                <a:off x="3354120" y="23652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" name=""/>
              <p:cNvGrpSpPr/>
              <p:nvPr/>
            </p:nvGrpSpPr>
            <p:grpSpPr>
              <a:xfrm>
                <a:off x="3123720" y="2133720"/>
                <a:ext cx="381240" cy="914400"/>
                <a:chOff x="3123720" y="2133720"/>
                <a:chExt cx="381240" cy="914400"/>
              </a:xfrm>
            </p:grpSpPr>
            <p:sp>
              <p:nvSpPr>
                <p:cNvPr id="153" name=""/>
                <p:cNvSpPr/>
                <p:nvPr/>
              </p:nvSpPr>
              <p:spPr>
                <a:xfrm flipH="1">
                  <a:off x="3352320" y="2595600"/>
                  <a:ext cx="152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H="1">
                  <a:off x="3123720" y="259884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H="1">
                  <a:off x="3123720" y="274320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123720" y="274320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H="1">
                  <a:off x="3123720" y="243828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V="1">
                  <a:off x="3123720" y="21337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9" name=""/>
          <p:cNvSpPr/>
          <p:nvPr/>
        </p:nvSpPr>
        <p:spPr>
          <a:xfrm>
            <a:off x="2527200" y="1880640"/>
            <a:ext cx="54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至用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56200" y="1810800"/>
            <a:ext cx="54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配电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60320" y="190512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10k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997040" y="7365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10k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06880" y="1549440"/>
            <a:ext cx="729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升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变电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654200">
            <a:off x="2868840" y="351756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220k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7863800">
            <a:off x="5064120" y="36997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220k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64840" y="8269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220k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49400" y="752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输电线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04600" y="463716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220k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914400" y="1143000"/>
            <a:ext cx="7619760" cy="5554080"/>
            <a:chOff x="914400" y="1143000"/>
            <a:chExt cx="7619760" cy="5554080"/>
          </a:xfrm>
        </p:grpSpPr>
        <p:grpSp>
          <p:nvGrpSpPr>
            <p:cNvPr id="170" name=""/>
            <p:cNvGrpSpPr/>
            <p:nvPr/>
          </p:nvGrpSpPr>
          <p:grpSpPr>
            <a:xfrm>
              <a:off x="914400" y="2971440"/>
              <a:ext cx="5488920" cy="3725640"/>
              <a:chOff x="914400" y="2971440"/>
              <a:chExt cx="5488920" cy="3725640"/>
            </a:xfrm>
          </p:grpSpPr>
          <p:sp>
            <p:nvSpPr>
              <p:cNvPr id="171" name=""/>
              <p:cNvSpPr/>
              <p:nvPr/>
            </p:nvSpPr>
            <p:spPr>
              <a:xfrm flipH="1">
                <a:off x="4723920" y="624852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334120" y="624852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" name=""/>
              <p:cNvGrpSpPr/>
              <p:nvPr/>
            </p:nvGrpSpPr>
            <p:grpSpPr>
              <a:xfrm>
                <a:off x="914400" y="2971440"/>
                <a:ext cx="5488920" cy="3725640"/>
                <a:chOff x="914400" y="2971440"/>
                <a:chExt cx="5488920" cy="372564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2057400" y="342900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5" name=""/>
                <p:cNvGrpSpPr/>
                <p:nvPr/>
              </p:nvGrpSpPr>
              <p:grpSpPr>
                <a:xfrm>
                  <a:off x="914400" y="3200400"/>
                  <a:ext cx="457200" cy="457200"/>
                  <a:chOff x="914400" y="3200400"/>
                  <a:chExt cx="457200" cy="457200"/>
                </a:xfrm>
              </p:grpSpPr>
              <p:grpSp>
                <p:nvGrpSpPr>
                  <p:cNvPr id="176" name=""/>
                  <p:cNvGrpSpPr/>
                  <p:nvPr/>
                </p:nvGrpSpPr>
                <p:grpSpPr>
                  <a:xfrm>
                    <a:off x="1143000" y="3200400"/>
                    <a:ext cx="228600" cy="457200"/>
                    <a:chOff x="1143000" y="3200400"/>
                    <a:chExt cx="228600" cy="457200"/>
                  </a:xfrm>
                </p:grpSpPr>
                <p:sp>
                  <p:nvSpPr>
                    <p:cNvPr id="177" name=""/>
                    <p:cNvSpPr/>
                    <p:nvPr/>
                  </p:nvSpPr>
                  <p:spPr>
                    <a:xfrm flipH="1">
                      <a:off x="1143000" y="3429000"/>
                      <a:ext cx="2286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1143000" y="3200400"/>
                      <a:ext cx="0" cy="4572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9" name=""/>
                  <p:cNvSpPr/>
                  <p:nvPr/>
                </p:nvSpPr>
                <p:spPr>
                  <a:xfrm flipH="1">
                    <a:off x="914400" y="3581640"/>
                    <a:ext cx="2286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 flipH="1">
                    <a:off x="914400" y="3276720"/>
                    <a:ext cx="2286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1371600" y="3200400"/>
                  <a:ext cx="685440" cy="388440"/>
                  <a:chOff x="1371600" y="3200400"/>
                  <a:chExt cx="685440" cy="38844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1371600" y="3200400"/>
                    <a:ext cx="391680" cy="388440"/>
                  </a:xfrm>
                  <a:prstGeom prst="ellipse">
                    <a:avLst/>
                  </a:prstGeom>
                  <a:noFill/>
                  <a:ln w="2844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1665360" y="3200400"/>
                    <a:ext cx="391680" cy="388440"/>
                  </a:xfrm>
                  <a:prstGeom prst="ellipse">
                    <a:avLst/>
                  </a:prstGeom>
                  <a:noFill/>
                  <a:ln w="2844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4" name=""/>
                <p:cNvSpPr/>
                <p:nvPr/>
              </p:nvSpPr>
              <p:spPr>
                <a:xfrm flipV="1">
                  <a:off x="914400" y="297144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914400" y="3581280"/>
                  <a:ext cx="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6" name=""/>
                <p:cNvGrpSpPr/>
                <p:nvPr/>
              </p:nvGrpSpPr>
              <p:grpSpPr>
                <a:xfrm>
                  <a:off x="4952880" y="5238720"/>
                  <a:ext cx="457200" cy="1009080"/>
                  <a:chOff x="4952880" y="5238720"/>
                  <a:chExt cx="457200" cy="1009080"/>
                </a:xfrm>
              </p:grpSpPr>
              <p:grpSp>
                <p:nvGrpSpPr>
                  <p:cNvPr id="187" name=""/>
                  <p:cNvGrpSpPr/>
                  <p:nvPr/>
                </p:nvGrpSpPr>
                <p:grpSpPr>
                  <a:xfrm>
                    <a:off x="4952880" y="5890680"/>
                    <a:ext cx="457200" cy="357120"/>
                    <a:chOff x="4952880" y="5890680"/>
                    <a:chExt cx="457200" cy="357120"/>
                  </a:xfrm>
                </p:grpSpPr>
                <p:grpSp>
                  <p:nvGrpSpPr>
                    <p:cNvPr id="188" name=""/>
                    <p:cNvGrpSpPr/>
                    <p:nvPr/>
                  </p:nvGrpSpPr>
                  <p:grpSpPr>
                    <a:xfrm>
                      <a:off x="4952880" y="5890680"/>
                      <a:ext cx="457200" cy="178560"/>
                      <a:chOff x="4952880" y="5890680"/>
                      <a:chExt cx="457200" cy="178560"/>
                    </a:xfrm>
                  </p:grpSpPr>
                  <p:sp>
                    <p:nvSpPr>
                      <p:cNvPr id="189" name=""/>
                      <p:cNvSpPr/>
                      <p:nvPr/>
                    </p:nvSpPr>
                    <p:spPr>
                      <a:xfrm>
                        <a:off x="5181480" y="5890680"/>
                        <a:ext cx="0" cy="17856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0" name=""/>
                      <p:cNvSpPr/>
                      <p:nvPr/>
                    </p:nvSpPr>
                    <p:spPr>
                      <a:xfrm>
                        <a:off x="4952880" y="6069240"/>
                        <a:ext cx="45720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334120" y="6069240"/>
                      <a:ext cx="0" cy="1785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5029200" y="6069240"/>
                      <a:ext cx="0" cy="1785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952880" y="5238720"/>
                    <a:ext cx="388800" cy="648720"/>
                    <a:chOff x="4952880" y="5238720"/>
                    <a:chExt cx="388800" cy="64872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 rot="16200000">
                      <a:off x="4961880" y="5507640"/>
                      <a:ext cx="370800" cy="38880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 rot="16200000">
                      <a:off x="4961880" y="5229720"/>
                      <a:ext cx="370800" cy="38880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96" name=""/>
                <p:cNvGrpSpPr/>
                <p:nvPr/>
              </p:nvGrpSpPr>
              <p:grpSpPr>
                <a:xfrm>
                  <a:off x="2849760" y="4212000"/>
                  <a:ext cx="888120" cy="1107000"/>
                  <a:chOff x="2849760" y="4212000"/>
                  <a:chExt cx="888120" cy="110700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 flipH="1">
                    <a:off x="3543120" y="4212000"/>
                    <a:ext cx="152640" cy="1864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2849760" y="4236480"/>
                    <a:ext cx="888120" cy="1082520"/>
                    <a:chOff x="2849760" y="4236480"/>
                    <a:chExt cx="888120" cy="1082520"/>
                  </a:xfrm>
                </p:grpSpPr>
                <p:grpSp>
                  <p:nvGrpSpPr>
                    <p:cNvPr id="199" name=""/>
                    <p:cNvGrpSpPr/>
                    <p:nvPr/>
                  </p:nvGrpSpPr>
                  <p:grpSpPr>
                    <a:xfrm>
                      <a:off x="2849760" y="4925520"/>
                      <a:ext cx="417960" cy="393480"/>
                      <a:chOff x="2849760" y="4925520"/>
                      <a:chExt cx="417960" cy="393480"/>
                    </a:xfrm>
                  </p:grpSpPr>
                  <p:grpSp>
                    <p:nvGrpSpPr>
                      <p:cNvPr id="200" name=""/>
                      <p:cNvGrpSpPr/>
                      <p:nvPr/>
                    </p:nvGrpSpPr>
                    <p:grpSpPr>
                      <a:xfrm>
                        <a:off x="2901600" y="4925520"/>
                        <a:ext cx="366120" cy="288000"/>
                        <a:chOff x="2901600" y="4925520"/>
                        <a:chExt cx="366120" cy="288000"/>
                      </a:xfrm>
                    </p:grpSpPr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 flipH="1">
                          <a:off x="3084480" y="4925520"/>
                          <a:ext cx="113040" cy="15120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901600" y="4939920"/>
                          <a:ext cx="366120" cy="27360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03" name=""/>
                      <p:cNvSpPr/>
                      <p:nvPr/>
                    </p:nvSpPr>
                    <p:spPr>
                      <a:xfrm flipH="1">
                        <a:off x="3093840" y="5167800"/>
                        <a:ext cx="113040" cy="15120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4" name=""/>
                      <p:cNvSpPr/>
                      <p:nvPr/>
                    </p:nvSpPr>
                    <p:spPr>
                      <a:xfrm flipH="1">
                        <a:off x="2849760" y="4985640"/>
                        <a:ext cx="112680" cy="15084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5" name=""/>
                    <p:cNvGrpSpPr/>
                    <p:nvPr/>
                  </p:nvGrpSpPr>
                  <p:grpSpPr>
                    <a:xfrm>
                      <a:off x="3016440" y="4236480"/>
                      <a:ext cx="721440" cy="781920"/>
                      <a:chOff x="3016440" y="4236480"/>
                      <a:chExt cx="721440" cy="781920"/>
                    </a:xfrm>
                  </p:grpSpPr>
                  <p:sp>
                    <p:nvSpPr>
                      <p:cNvPr id="206" name=""/>
                      <p:cNvSpPr/>
                      <p:nvPr/>
                    </p:nvSpPr>
                    <p:spPr>
                      <a:xfrm rot="18405600">
                        <a:off x="3093480" y="4550760"/>
                        <a:ext cx="391680" cy="388800"/>
                      </a:xfrm>
                      <a:prstGeom prst="ellipse">
                        <a:avLst/>
                      </a:prstGeom>
                      <a:noFill/>
                      <a:ln w="381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 anchorCtr="1" vert="eaVer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7" name=""/>
                      <p:cNvSpPr/>
                      <p:nvPr/>
                    </p:nvSpPr>
                    <p:spPr>
                      <a:xfrm rot="18405600">
                        <a:off x="3269160" y="4315320"/>
                        <a:ext cx="391680" cy="388800"/>
                      </a:xfrm>
                      <a:prstGeom prst="ellipse">
                        <a:avLst/>
                      </a:prstGeom>
                      <a:noFill/>
                      <a:ln w="381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 anchorCtr="1" vert="eaVer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208" name=""/>
                <p:cNvSpPr/>
                <p:nvPr/>
              </p:nvSpPr>
              <p:spPr>
                <a:xfrm>
                  <a:off x="922320" y="4044960"/>
                  <a:ext cx="1959480" cy="1091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358360" y="5232240"/>
                  <a:ext cx="874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3300"/>
                      </a:solidFill>
                      <a:latin typeface="Times New Roman"/>
                    </a:rPr>
                    <a:t>35kV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221840" y="3556080"/>
                  <a:ext cx="874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3300"/>
                      </a:solidFill>
                      <a:latin typeface="Times New Roman"/>
                    </a:rPr>
                    <a:t>35kV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673960" y="5229360"/>
                  <a:ext cx="729360" cy="75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3300"/>
                      </a:solidFill>
                      <a:latin typeface="Times New Roman"/>
                    </a:rPr>
                    <a:t>负荷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3300"/>
                      </a:solidFill>
                      <a:latin typeface="Times New Roman"/>
                    </a:rPr>
                    <a:t>变电所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650840" y="6237360"/>
                  <a:ext cx="874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3300"/>
                      </a:solidFill>
                      <a:latin typeface="Times New Roman"/>
                    </a:rPr>
                    <a:t>35kV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V="1">
                  <a:off x="5145120" y="5055840"/>
                  <a:ext cx="0" cy="181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990720" y="1143000"/>
              <a:ext cx="7543440" cy="3912840"/>
              <a:chOff x="990720" y="1143000"/>
              <a:chExt cx="7543440" cy="3912840"/>
            </a:xfrm>
          </p:grpSpPr>
          <p:sp>
            <p:nvSpPr>
              <p:cNvPr id="215" name=""/>
              <p:cNvSpPr/>
              <p:nvPr/>
            </p:nvSpPr>
            <p:spPr>
              <a:xfrm>
                <a:off x="2286000" y="35812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990720" y="1143000"/>
                <a:ext cx="7543440" cy="3912840"/>
                <a:chOff x="990720" y="1143000"/>
                <a:chExt cx="7543440" cy="39128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2286000" y="152388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8" name=""/>
                <p:cNvGrpSpPr/>
                <p:nvPr/>
              </p:nvGrpSpPr>
              <p:grpSpPr>
                <a:xfrm>
                  <a:off x="990720" y="1143000"/>
                  <a:ext cx="7543440" cy="3912840"/>
                  <a:chOff x="990720" y="1143000"/>
                  <a:chExt cx="7543440" cy="391284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>
                    <a:off x="7010280" y="1523880"/>
                    <a:ext cx="2286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4915080" y="5054760"/>
                    <a:ext cx="4572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 flipV="1">
                    <a:off x="5297400" y="4874760"/>
                    <a:ext cx="0" cy="1810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flipV="1">
                    <a:off x="4992840" y="4874760"/>
                    <a:ext cx="0" cy="1810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2286000" y="3200400"/>
                    <a:ext cx="0" cy="457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2286000" y="3276720"/>
                    <a:ext cx="2286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2286000" y="1219320"/>
                    <a:ext cx="49528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2097000" y="1371600"/>
                    <a:ext cx="1890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2286000" y="1143000"/>
                    <a:ext cx="0" cy="457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2514600" y="1523880"/>
                    <a:ext cx="0" cy="17528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2514600" y="3581280"/>
                    <a:ext cx="2514600" cy="12956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1411200" y="1143000"/>
                    <a:ext cx="392040" cy="3888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1704960" y="1143000"/>
                    <a:ext cx="392040" cy="3888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990720" y="1371600"/>
                    <a:ext cx="420480" cy="190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1182600" y="125424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flipH="1">
                    <a:off x="5257800" y="1523880"/>
                    <a:ext cx="1752480" cy="33530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flipH="1">
                    <a:off x="7720920" y="1150920"/>
                    <a:ext cx="392040" cy="3888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 flipH="1">
                    <a:off x="7427160" y="1150920"/>
                    <a:ext cx="392040" cy="3888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flipH="1">
                    <a:off x="8113320" y="1371600"/>
                    <a:ext cx="420840" cy="270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8307360" y="126216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 flipH="1">
                    <a:off x="7238520" y="1371600"/>
                    <a:ext cx="1890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7238880" y="1143000"/>
                    <a:ext cx="0" cy="457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41" name=""/>
          <p:cNvGrpSpPr/>
          <p:nvPr/>
        </p:nvGrpSpPr>
        <p:grpSpPr>
          <a:xfrm>
            <a:off x="7772400" y="1096920"/>
            <a:ext cx="1371600" cy="1179000"/>
            <a:chOff x="7772400" y="1096920"/>
            <a:chExt cx="1371600" cy="1179000"/>
          </a:xfrm>
        </p:grpSpPr>
        <p:grpSp>
          <p:nvGrpSpPr>
            <p:cNvPr id="242" name=""/>
            <p:cNvGrpSpPr/>
            <p:nvPr/>
          </p:nvGrpSpPr>
          <p:grpSpPr>
            <a:xfrm>
              <a:off x="8513640" y="1096920"/>
              <a:ext cx="457200" cy="520560"/>
              <a:chOff x="8513640" y="1096920"/>
              <a:chExt cx="457200" cy="520560"/>
            </a:xfrm>
          </p:grpSpPr>
          <p:sp>
            <p:nvSpPr>
              <p:cNvPr id="243" name=""/>
              <p:cNvSpPr/>
              <p:nvPr/>
            </p:nvSpPr>
            <p:spPr>
              <a:xfrm flipH="1">
                <a:off x="8514720" y="1211400"/>
                <a:ext cx="360360" cy="352440"/>
              </a:xfrm>
              <a:prstGeom prst="ellipse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8513640" y="10969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~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7772400" y="1523880"/>
              <a:ext cx="13716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火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发电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307440" y="7365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10k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81680" y="25146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保证供电的可靠性和安全连续性，电力系统将各地区、各种类型的发电机变压器、输电线、配电和用电设备等连成一个环形整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437920" y="380880"/>
            <a:ext cx="5334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13.2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工业企业配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45960" y="942840"/>
            <a:ext cx="369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13.2.1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低压配电线路的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9480" y="15238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低压配电线路是由配电室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配电箱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、低压线路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用电线路组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22240" y="2025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3520" y="2438280"/>
            <a:ext cx="8153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常一个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低压配电线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容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几十千伏安到几百千伏安的范围，负责几十个用户的供电。为了合理地分配电能，有效的管理线路，提高线路的可靠性，一般都采用分级供电的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4029120"/>
            <a:ext cx="8153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即按照用户地域或空间的分布，将用户划分成供电区和片，通过干线、支线向片、区供电。整个供电线路形成一个分级的网状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13.2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工业企业配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87200" y="83808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3.2.1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低压配电线路的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12560" y="1295280"/>
            <a:ext cx="452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低压配电线路是由配电室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配电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低压线路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电线路组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低压配电线路的联接方式主要是放射式和树干式两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639720" y="3340080"/>
            <a:ext cx="3551400" cy="2206440"/>
            <a:chOff x="639720" y="3340080"/>
            <a:chExt cx="3551400" cy="2206440"/>
          </a:xfrm>
        </p:grpSpPr>
        <p:grpSp>
          <p:nvGrpSpPr>
            <p:cNvPr id="259" name=""/>
            <p:cNvGrpSpPr/>
            <p:nvPr/>
          </p:nvGrpSpPr>
          <p:grpSpPr>
            <a:xfrm>
              <a:off x="2501640" y="3402000"/>
              <a:ext cx="482400" cy="504360"/>
              <a:chOff x="2501640" y="3402000"/>
              <a:chExt cx="482400" cy="504360"/>
            </a:xfrm>
          </p:grpSpPr>
          <p:sp>
            <p:nvSpPr>
              <p:cNvPr id="260" name=""/>
              <p:cNvSpPr/>
              <p:nvPr/>
            </p:nvSpPr>
            <p:spPr>
              <a:xfrm>
                <a:off x="2502000" y="3402000"/>
                <a:ext cx="482040" cy="5043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2501640" y="3402000"/>
                <a:ext cx="240840" cy="336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2583360" y="3442320"/>
                <a:ext cx="321480" cy="420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2742480" y="3570480"/>
                <a:ext cx="240840" cy="33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2971800" y="3762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514600" y="3762360"/>
              <a:ext cx="0" cy="23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662200" y="3906720"/>
              <a:ext cx="0" cy="254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24200" y="3906720"/>
              <a:ext cx="0" cy="254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617840" y="3992400"/>
              <a:ext cx="88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1295280" y="4413240"/>
              <a:ext cx="563400" cy="167760"/>
              <a:chOff x="1295280" y="4413240"/>
              <a:chExt cx="563400" cy="167760"/>
            </a:xfrm>
          </p:grpSpPr>
          <p:sp>
            <p:nvSpPr>
              <p:cNvPr id="270" name=""/>
              <p:cNvSpPr/>
              <p:nvPr/>
            </p:nvSpPr>
            <p:spPr>
              <a:xfrm>
                <a:off x="1295280" y="4413240"/>
                <a:ext cx="563400" cy="167760"/>
              </a:xfrm>
              <a:prstGeom prst="rect">
                <a:avLst/>
              </a:prstGeom>
              <a:solidFill>
                <a:srgbClr val="00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295280" y="4413240"/>
                <a:ext cx="563400" cy="83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1617840" y="3992400"/>
              <a:ext cx="0" cy="42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2865600" y="4413240"/>
              <a:ext cx="563040" cy="167760"/>
              <a:chOff x="2865600" y="4413240"/>
              <a:chExt cx="563040" cy="167760"/>
            </a:xfrm>
          </p:grpSpPr>
          <p:sp>
            <p:nvSpPr>
              <p:cNvPr id="274" name=""/>
              <p:cNvSpPr/>
              <p:nvPr/>
            </p:nvSpPr>
            <p:spPr>
              <a:xfrm>
                <a:off x="2865600" y="4413240"/>
                <a:ext cx="563040" cy="167760"/>
              </a:xfrm>
              <a:prstGeom prst="rect">
                <a:avLst/>
              </a:prstGeom>
              <a:solidFill>
                <a:srgbClr val="00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865600" y="4413240"/>
                <a:ext cx="563040" cy="83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2806560" y="4160880"/>
              <a:ext cx="40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187800" y="4160880"/>
              <a:ext cx="0" cy="25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flipV="1">
              <a:off x="2332080" y="4160520"/>
              <a:ext cx="33480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341440" y="4160880"/>
              <a:ext cx="0" cy="25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019240" y="4413240"/>
              <a:ext cx="563760" cy="1681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019240" y="4413240"/>
              <a:ext cx="563760" cy="84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2954160" y="3992400"/>
              <a:ext cx="9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3627720" y="4413240"/>
              <a:ext cx="563400" cy="167760"/>
              <a:chOff x="3627720" y="4413240"/>
              <a:chExt cx="563400" cy="167760"/>
            </a:xfrm>
          </p:grpSpPr>
          <p:sp>
            <p:nvSpPr>
              <p:cNvPr id="284" name=""/>
              <p:cNvSpPr/>
              <p:nvPr/>
            </p:nvSpPr>
            <p:spPr>
              <a:xfrm flipH="1">
                <a:off x="3627360" y="4413240"/>
                <a:ext cx="563400" cy="167760"/>
              </a:xfrm>
              <a:prstGeom prst="rect">
                <a:avLst/>
              </a:prstGeom>
              <a:solidFill>
                <a:srgbClr val="00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3627360" y="4413240"/>
                <a:ext cx="563400" cy="83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3868560" y="3992400"/>
              <a:ext cx="0" cy="42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1376280" y="4581360"/>
              <a:ext cx="401400" cy="420480"/>
              <a:chOff x="1376280" y="4581360"/>
              <a:chExt cx="401400" cy="420480"/>
            </a:xfrm>
          </p:grpSpPr>
          <p:sp>
            <p:nvSpPr>
              <p:cNvPr id="288" name=""/>
              <p:cNvSpPr/>
              <p:nvPr/>
            </p:nvSpPr>
            <p:spPr>
              <a:xfrm>
                <a:off x="1376280" y="4581360"/>
                <a:ext cx="0" cy="4204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576800" y="4581360"/>
                <a:ext cx="0" cy="4204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777680" y="4581360"/>
                <a:ext cx="0" cy="4204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2100240" y="4581360"/>
              <a:ext cx="401400" cy="420480"/>
              <a:chOff x="2100240" y="4581360"/>
              <a:chExt cx="401400" cy="420480"/>
            </a:xfrm>
          </p:grpSpPr>
          <p:sp>
            <p:nvSpPr>
              <p:cNvPr id="292" name=""/>
              <p:cNvSpPr/>
              <p:nvPr/>
            </p:nvSpPr>
            <p:spPr>
              <a:xfrm>
                <a:off x="2100240" y="4581360"/>
                <a:ext cx="0" cy="4204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300760" y="4581360"/>
                <a:ext cx="0" cy="4204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501640" y="4581360"/>
                <a:ext cx="0" cy="4204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2944800" y="4581360"/>
              <a:ext cx="401400" cy="420480"/>
              <a:chOff x="2944800" y="4581360"/>
              <a:chExt cx="401400" cy="420480"/>
            </a:xfrm>
          </p:grpSpPr>
          <p:sp>
            <p:nvSpPr>
              <p:cNvPr id="296" name=""/>
              <p:cNvSpPr/>
              <p:nvPr/>
            </p:nvSpPr>
            <p:spPr>
              <a:xfrm>
                <a:off x="2944800" y="4581360"/>
                <a:ext cx="0" cy="4204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145320" y="4581360"/>
                <a:ext cx="0" cy="4204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346200" y="4581360"/>
                <a:ext cx="0" cy="4204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3708360" y="4581360"/>
              <a:ext cx="401400" cy="420480"/>
              <a:chOff x="3708360" y="4581360"/>
              <a:chExt cx="401400" cy="420480"/>
            </a:xfrm>
          </p:grpSpPr>
          <p:sp>
            <p:nvSpPr>
              <p:cNvPr id="300" name=""/>
              <p:cNvSpPr/>
              <p:nvPr/>
            </p:nvSpPr>
            <p:spPr>
              <a:xfrm>
                <a:off x="3708360" y="4581360"/>
                <a:ext cx="0" cy="4204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908880" y="4581360"/>
                <a:ext cx="0" cy="4204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109760" y="4581360"/>
                <a:ext cx="0" cy="4204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1431000" y="33400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变电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39720" y="38592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配电室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38600" y="502596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放射式配电线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4403160" y="3044880"/>
            <a:ext cx="3485520" cy="3111120"/>
            <a:chOff x="4403160" y="3044880"/>
            <a:chExt cx="3485520" cy="3111120"/>
          </a:xfrm>
        </p:grpSpPr>
        <p:grpSp>
          <p:nvGrpSpPr>
            <p:cNvPr id="307" name=""/>
            <p:cNvGrpSpPr/>
            <p:nvPr/>
          </p:nvGrpSpPr>
          <p:grpSpPr>
            <a:xfrm>
              <a:off x="5432400" y="3106440"/>
              <a:ext cx="482400" cy="504000"/>
              <a:chOff x="5432400" y="3106440"/>
              <a:chExt cx="482400" cy="504000"/>
            </a:xfrm>
          </p:grpSpPr>
          <p:sp>
            <p:nvSpPr>
              <p:cNvPr id="308" name=""/>
              <p:cNvSpPr/>
              <p:nvPr/>
            </p:nvSpPr>
            <p:spPr>
              <a:xfrm>
                <a:off x="5432760" y="3106440"/>
                <a:ext cx="482040" cy="504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5432400" y="3106440"/>
                <a:ext cx="240840" cy="336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5514120" y="3146760"/>
                <a:ext cx="321480" cy="420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5673240" y="3274560"/>
                <a:ext cx="240840" cy="33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5862960" y="3563640"/>
              <a:ext cx="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521680" y="3563640"/>
              <a:ext cx="0" cy="121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403160" y="30448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变电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829400" y="48067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配电室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5867640" y="371592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620120" y="37159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159600" y="3715920"/>
              <a:ext cx="0" cy="25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5837400" y="3968280"/>
              <a:ext cx="563400" cy="167760"/>
              <a:chOff x="5837400" y="3968280"/>
              <a:chExt cx="563400" cy="167760"/>
            </a:xfrm>
          </p:grpSpPr>
          <p:sp>
            <p:nvSpPr>
              <p:cNvPr id="320" name=""/>
              <p:cNvSpPr/>
              <p:nvPr/>
            </p:nvSpPr>
            <p:spPr>
              <a:xfrm>
                <a:off x="5837400" y="3968280"/>
                <a:ext cx="563400" cy="167760"/>
              </a:xfrm>
              <a:prstGeom prst="rect">
                <a:avLst/>
              </a:prstGeom>
              <a:solidFill>
                <a:srgbClr val="00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837400" y="3968280"/>
                <a:ext cx="563400" cy="83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5918400" y="4136760"/>
              <a:ext cx="401400" cy="419760"/>
              <a:chOff x="5918400" y="4136760"/>
              <a:chExt cx="401400" cy="419760"/>
            </a:xfrm>
          </p:grpSpPr>
          <p:sp>
            <p:nvSpPr>
              <p:cNvPr id="323" name=""/>
              <p:cNvSpPr/>
              <p:nvPr/>
            </p:nvSpPr>
            <p:spPr>
              <a:xfrm>
                <a:off x="5918400" y="4136760"/>
                <a:ext cx="0" cy="4197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118920" y="4136760"/>
                <a:ext cx="0" cy="4197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319800" y="4136760"/>
                <a:ext cx="0" cy="4197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6599520" y="3968280"/>
              <a:ext cx="563040" cy="167760"/>
              <a:chOff x="6599520" y="3968280"/>
              <a:chExt cx="563040" cy="167760"/>
            </a:xfrm>
          </p:grpSpPr>
          <p:sp>
            <p:nvSpPr>
              <p:cNvPr id="327" name=""/>
              <p:cNvSpPr/>
              <p:nvPr/>
            </p:nvSpPr>
            <p:spPr>
              <a:xfrm>
                <a:off x="6599520" y="3968280"/>
                <a:ext cx="563040" cy="167760"/>
              </a:xfrm>
              <a:prstGeom prst="rect">
                <a:avLst/>
              </a:prstGeom>
              <a:solidFill>
                <a:srgbClr val="00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599520" y="3968280"/>
                <a:ext cx="563040" cy="83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6921720" y="3715920"/>
              <a:ext cx="0" cy="25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6694560" y="4136760"/>
              <a:ext cx="401400" cy="419760"/>
              <a:chOff x="6694560" y="4136760"/>
              <a:chExt cx="401400" cy="419760"/>
            </a:xfrm>
          </p:grpSpPr>
          <p:sp>
            <p:nvSpPr>
              <p:cNvPr id="331" name=""/>
              <p:cNvSpPr/>
              <p:nvPr/>
            </p:nvSpPr>
            <p:spPr>
              <a:xfrm>
                <a:off x="6694560" y="4136760"/>
                <a:ext cx="0" cy="4197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895080" y="4136760"/>
                <a:ext cx="0" cy="4197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095960" y="4136760"/>
                <a:ext cx="0" cy="4197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7407360" y="4136760"/>
              <a:ext cx="401400" cy="419760"/>
              <a:chOff x="7407360" y="4136760"/>
              <a:chExt cx="401400" cy="419760"/>
            </a:xfrm>
          </p:grpSpPr>
          <p:sp>
            <p:nvSpPr>
              <p:cNvPr id="335" name=""/>
              <p:cNvSpPr/>
              <p:nvPr/>
            </p:nvSpPr>
            <p:spPr>
              <a:xfrm>
                <a:off x="7407360" y="4136760"/>
                <a:ext cx="0" cy="4197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607880" y="4136760"/>
                <a:ext cx="0" cy="4197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808760" y="4136760"/>
                <a:ext cx="0" cy="4197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 flipH="1">
              <a:off x="7324920" y="3968280"/>
              <a:ext cx="563760" cy="1681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7324920" y="3968280"/>
              <a:ext cx="563760" cy="8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5510520" y="4782960"/>
              <a:ext cx="212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610760" y="478296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150240" y="4782960"/>
              <a:ext cx="0" cy="25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5828040" y="5035320"/>
              <a:ext cx="563040" cy="167400"/>
              <a:chOff x="5828040" y="5035320"/>
              <a:chExt cx="563040" cy="167400"/>
            </a:xfrm>
          </p:grpSpPr>
          <p:sp>
            <p:nvSpPr>
              <p:cNvPr id="344" name=""/>
              <p:cNvSpPr/>
              <p:nvPr/>
            </p:nvSpPr>
            <p:spPr>
              <a:xfrm>
                <a:off x="5828040" y="5035320"/>
                <a:ext cx="563040" cy="167400"/>
              </a:xfrm>
              <a:prstGeom prst="rect">
                <a:avLst/>
              </a:prstGeom>
              <a:solidFill>
                <a:srgbClr val="00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828040" y="5035320"/>
                <a:ext cx="563040" cy="83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5909040" y="5203440"/>
              <a:ext cx="401040" cy="420120"/>
              <a:chOff x="5909040" y="5203440"/>
              <a:chExt cx="401040" cy="420120"/>
            </a:xfrm>
          </p:grpSpPr>
          <p:sp>
            <p:nvSpPr>
              <p:cNvPr id="347" name=""/>
              <p:cNvSpPr/>
              <p:nvPr/>
            </p:nvSpPr>
            <p:spPr>
              <a:xfrm>
                <a:off x="5909040" y="5203440"/>
                <a:ext cx="0" cy="420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109560" y="5203440"/>
                <a:ext cx="0" cy="420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310080" y="5203440"/>
                <a:ext cx="0" cy="420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6589800" y="5035320"/>
              <a:ext cx="563400" cy="167400"/>
              <a:chOff x="6589800" y="5035320"/>
              <a:chExt cx="563400" cy="167400"/>
            </a:xfrm>
          </p:grpSpPr>
          <p:sp>
            <p:nvSpPr>
              <p:cNvPr id="351" name=""/>
              <p:cNvSpPr/>
              <p:nvPr/>
            </p:nvSpPr>
            <p:spPr>
              <a:xfrm>
                <a:off x="6589800" y="5035320"/>
                <a:ext cx="563400" cy="167400"/>
              </a:xfrm>
              <a:prstGeom prst="rect">
                <a:avLst/>
              </a:prstGeom>
              <a:solidFill>
                <a:srgbClr val="00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589800" y="5035320"/>
                <a:ext cx="563400" cy="83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" name=""/>
            <p:cNvSpPr/>
            <p:nvPr/>
          </p:nvSpPr>
          <p:spPr>
            <a:xfrm>
              <a:off x="6912360" y="4782960"/>
              <a:ext cx="0" cy="25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6685200" y="5203440"/>
              <a:ext cx="401400" cy="420120"/>
              <a:chOff x="6685200" y="5203440"/>
              <a:chExt cx="401400" cy="420120"/>
            </a:xfrm>
          </p:grpSpPr>
          <p:sp>
            <p:nvSpPr>
              <p:cNvPr id="355" name=""/>
              <p:cNvSpPr/>
              <p:nvPr/>
            </p:nvSpPr>
            <p:spPr>
              <a:xfrm>
                <a:off x="6685200" y="5203440"/>
                <a:ext cx="0" cy="420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885720" y="5203440"/>
                <a:ext cx="0" cy="420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086600" y="5203440"/>
                <a:ext cx="0" cy="420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7398000" y="5203440"/>
              <a:ext cx="401400" cy="420120"/>
              <a:chOff x="7398000" y="5203440"/>
              <a:chExt cx="401400" cy="420120"/>
            </a:xfrm>
          </p:grpSpPr>
          <p:sp>
            <p:nvSpPr>
              <p:cNvPr id="359" name=""/>
              <p:cNvSpPr/>
              <p:nvPr/>
            </p:nvSpPr>
            <p:spPr>
              <a:xfrm>
                <a:off x="7398000" y="5203440"/>
                <a:ext cx="0" cy="420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598520" y="5203440"/>
                <a:ext cx="0" cy="420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799400" y="5203440"/>
                <a:ext cx="0" cy="420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7315560" y="5035320"/>
              <a:ext cx="563040" cy="167400"/>
              <a:chOff x="7315560" y="5035320"/>
              <a:chExt cx="563040" cy="167400"/>
            </a:xfrm>
          </p:grpSpPr>
          <p:sp>
            <p:nvSpPr>
              <p:cNvPr id="363" name=""/>
              <p:cNvSpPr/>
              <p:nvPr/>
            </p:nvSpPr>
            <p:spPr>
              <a:xfrm flipH="1">
                <a:off x="7315560" y="5035320"/>
                <a:ext cx="563040" cy="167400"/>
              </a:xfrm>
              <a:prstGeom prst="rect">
                <a:avLst/>
              </a:prstGeom>
              <a:solidFill>
                <a:srgbClr val="00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7315560" y="5035320"/>
                <a:ext cx="563040" cy="83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5993280" y="563544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树干式配电线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6019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某校实验楼树形供电线路示意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290480" y="2077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去教学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227840" y="380988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去宿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食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742840" y="1371600"/>
            <a:ext cx="4115160" cy="4572000"/>
            <a:chOff x="2742840" y="1371600"/>
            <a:chExt cx="4115160" cy="4572000"/>
          </a:xfrm>
        </p:grpSpPr>
        <p:grpSp>
          <p:nvGrpSpPr>
            <p:cNvPr id="370" name=""/>
            <p:cNvGrpSpPr/>
            <p:nvPr/>
          </p:nvGrpSpPr>
          <p:grpSpPr>
            <a:xfrm>
              <a:off x="2742840" y="1371600"/>
              <a:ext cx="4037400" cy="4572000"/>
              <a:chOff x="2742840" y="1371600"/>
              <a:chExt cx="4037400" cy="4572000"/>
            </a:xfrm>
          </p:grpSpPr>
          <p:sp>
            <p:nvSpPr>
              <p:cNvPr id="371" name=""/>
              <p:cNvSpPr/>
              <p:nvPr/>
            </p:nvSpPr>
            <p:spPr>
              <a:xfrm>
                <a:off x="4143240" y="477684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3300"/>
                    </a:solidFill>
                    <a:latin typeface="Times New Roman"/>
                  </a:rPr>
                  <a:t>干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2" name=""/>
              <p:cNvGrpSpPr/>
              <p:nvPr/>
            </p:nvGrpSpPr>
            <p:grpSpPr>
              <a:xfrm>
                <a:off x="4154400" y="5181840"/>
                <a:ext cx="2625840" cy="268200"/>
                <a:chOff x="4154400" y="5181840"/>
                <a:chExt cx="2625840" cy="268200"/>
              </a:xfrm>
            </p:grpSpPr>
            <p:grpSp>
              <p:nvGrpSpPr>
                <p:cNvPr id="373" name=""/>
                <p:cNvGrpSpPr/>
                <p:nvPr/>
              </p:nvGrpSpPr>
              <p:grpSpPr>
                <a:xfrm>
                  <a:off x="4154400" y="5257800"/>
                  <a:ext cx="2625840" cy="192240"/>
                  <a:chOff x="4154400" y="5257800"/>
                  <a:chExt cx="2625840" cy="19224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>
                    <a:off x="4154400" y="5257800"/>
                    <a:ext cx="26258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4154400" y="5450040"/>
                    <a:ext cx="26258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6" name=""/>
                <p:cNvGrpSpPr/>
                <p:nvPr/>
              </p:nvGrpSpPr>
              <p:grpSpPr>
                <a:xfrm>
                  <a:off x="4266720" y="5181840"/>
                  <a:ext cx="304560" cy="152280"/>
                  <a:chOff x="4266720" y="5181840"/>
                  <a:chExt cx="304560" cy="15228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 flipH="1">
                    <a:off x="4266720" y="518184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 flipH="1">
                    <a:off x="4343040" y="5181840"/>
                    <a:ext cx="152640" cy="152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 flipH="1">
                    <a:off x="4419000" y="518184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0" name=""/>
              <p:cNvGrpSpPr/>
              <p:nvPr/>
            </p:nvGrpSpPr>
            <p:grpSpPr>
              <a:xfrm>
                <a:off x="2742840" y="1371600"/>
                <a:ext cx="2057760" cy="4572000"/>
                <a:chOff x="2742840" y="1371600"/>
                <a:chExt cx="2057760" cy="4572000"/>
              </a:xfrm>
            </p:grpSpPr>
            <p:grpSp>
              <p:nvGrpSpPr>
                <p:cNvPr id="381" name=""/>
                <p:cNvGrpSpPr/>
                <p:nvPr/>
              </p:nvGrpSpPr>
              <p:grpSpPr>
                <a:xfrm>
                  <a:off x="4143240" y="3100680"/>
                  <a:ext cx="657360" cy="785520"/>
                  <a:chOff x="4143240" y="3100680"/>
                  <a:chExt cx="657360" cy="785520"/>
                </a:xfrm>
              </p:grpSpPr>
              <p:grpSp>
                <p:nvGrpSpPr>
                  <p:cNvPr id="382" name=""/>
                  <p:cNvGrpSpPr/>
                  <p:nvPr/>
                </p:nvGrpSpPr>
                <p:grpSpPr>
                  <a:xfrm>
                    <a:off x="4154400" y="3579840"/>
                    <a:ext cx="533520" cy="193680"/>
                    <a:chOff x="4154400" y="3579840"/>
                    <a:chExt cx="533520" cy="193680"/>
                  </a:xfrm>
                </p:grpSpPr>
                <p:sp>
                  <p:nvSpPr>
                    <p:cNvPr id="383" name=""/>
                    <p:cNvSpPr/>
                    <p:nvPr/>
                  </p:nvSpPr>
                  <p:spPr>
                    <a:xfrm>
                      <a:off x="4154400" y="3579840"/>
                      <a:ext cx="53352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4" name=""/>
                    <p:cNvSpPr/>
                    <p:nvPr/>
                  </p:nvSpPr>
                  <p:spPr>
                    <a:xfrm>
                      <a:off x="4154400" y="3773520"/>
                      <a:ext cx="53352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5" name=""/>
                  <p:cNvGrpSpPr/>
                  <p:nvPr/>
                </p:nvGrpSpPr>
                <p:grpSpPr>
                  <a:xfrm>
                    <a:off x="4571640" y="3429000"/>
                    <a:ext cx="228960" cy="457200"/>
                    <a:chOff x="4571640" y="3429000"/>
                    <a:chExt cx="228960" cy="457200"/>
                  </a:xfrm>
                </p:grpSpPr>
                <p:sp>
                  <p:nvSpPr>
                    <p:cNvPr id="386" name=""/>
                    <p:cNvSpPr/>
                    <p:nvPr/>
                  </p:nvSpPr>
                  <p:spPr>
                    <a:xfrm>
                      <a:off x="4572000" y="3429000"/>
                      <a:ext cx="22860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7" name=""/>
                    <p:cNvSpPr/>
                    <p:nvPr/>
                  </p:nvSpPr>
                  <p:spPr>
                    <a:xfrm flipH="1">
                      <a:off x="4571640" y="3657600"/>
                      <a:ext cx="22860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88" name=""/>
                  <p:cNvSpPr/>
                  <p:nvPr/>
                </p:nvSpPr>
                <p:spPr>
                  <a:xfrm>
                    <a:off x="4143240" y="3100680"/>
                    <a:ext cx="4856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0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干线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4266720" y="3505320"/>
                    <a:ext cx="304560" cy="152280"/>
                    <a:chOff x="4266720" y="3505320"/>
                    <a:chExt cx="304560" cy="1522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 flipH="1">
                      <a:off x="4266720" y="350532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 flipH="1">
                      <a:off x="4343040" y="3505320"/>
                      <a:ext cx="15264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2" name=""/>
                    <p:cNvSpPr/>
                    <p:nvPr/>
                  </p:nvSpPr>
                  <p:spPr>
                    <a:xfrm flipH="1">
                      <a:off x="4419000" y="350532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2742840" y="1371600"/>
                  <a:ext cx="2057760" cy="4572000"/>
                  <a:chOff x="2742840" y="1371600"/>
                  <a:chExt cx="2057760" cy="4572000"/>
                </a:xfrm>
              </p:grpSpPr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3124080" y="1424160"/>
                    <a:ext cx="1676520" cy="785880"/>
                    <a:chOff x="3124080" y="1424160"/>
                    <a:chExt cx="1676520" cy="78588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3124080" y="2057400"/>
                      <a:ext cx="22860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96" name=""/>
                    <p:cNvGrpSpPr/>
                    <p:nvPr/>
                  </p:nvGrpSpPr>
                  <p:grpSpPr>
                    <a:xfrm>
                      <a:off x="4154400" y="1752840"/>
                      <a:ext cx="646200" cy="457200"/>
                      <a:chOff x="4154400" y="1752840"/>
                      <a:chExt cx="646200" cy="457200"/>
                    </a:xfrm>
                  </p:grpSpPr>
                  <p:grpSp>
                    <p:nvGrpSpPr>
                      <p:cNvPr id="397" name=""/>
                      <p:cNvGrpSpPr/>
                      <p:nvPr/>
                    </p:nvGrpSpPr>
                    <p:grpSpPr>
                      <a:xfrm>
                        <a:off x="4154400" y="1903680"/>
                        <a:ext cx="533520" cy="193680"/>
                        <a:chOff x="4154400" y="1903680"/>
                        <a:chExt cx="533520" cy="193680"/>
                      </a:xfrm>
                    </p:grpSpPr>
                    <p:sp>
                      <p:nvSpPr>
                        <p:cNvPr id="398" name=""/>
                        <p:cNvSpPr/>
                        <p:nvPr/>
                      </p:nvSpPr>
                      <p:spPr>
                        <a:xfrm>
                          <a:off x="4154400" y="1903680"/>
                          <a:ext cx="533520" cy="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9" name=""/>
                        <p:cNvSpPr/>
                        <p:nvPr/>
                      </p:nvSpPr>
                      <p:spPr>
                        <a:xfrm>
                          <a:off x="4154400" y="2097360"/>
                          <a:ext cx="533520" cy="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0000"/>
                          </a:solidFill>
                          <a:prstDash val="sysDot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00" name=""/>
                      <p:cNvSpPr/>
                      <p:nvPr/>
                    </p:nvSpPr>
                    <p:spPr>
                      <a:xfrm>
                        <a:off x="4572000" y="1752840"/>
                        <a:ext cx="228600" cy="22860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1" name=""/>
                      <p:cNvSpPr/>
                      <p:nvPr/>
                    </p:nvSpPr>
                    <p:spPr>
                      <a:xfrm flipH="1">
                        <a:off x="4571640" y="1981440"/>
                        <a:ext cx="228600" cy="22860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4143240" y="1424160"/>
                      <a:ext cx="48564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干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03" name=""/>
                    <p:cNvGrpSpPr/>
                    <p:nvPr/>
                  </p:nvGrpSpPr>
                  <p:grpSpPr>
                    <a:xfrm>
                      <a:off x="4190760" y="1828800"/>
                      <a:ext cx="304560" cy="152280"/>
                      <a:chOff x="4190760" y="1828800"/>
                      <a:chExt cx="304560" cy="152280"/>
                    </a:xfrm>
                  </p:grpSpPr>
                  <p:sp>
                    <p:nvSpPr>
                      <p:cNvPr id="404" name=""/>
                      <p:cNvSpPr/>
                      <p:nvPr/>
                    </p:nvSpPr>
                    <p:spPr>
                      <a:xfrm flipH="1">
                        <a:off x="4190760" y="182880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5" name=""/>
                      <p:cNvSpPr/>
                      <p:nvPr/>
                    </p:nvSpPr>
                    <p:spPr>
                      <a:xfrm flipH="1">
                        <a:off x="4267080" y="1828800"/>
                        <a:ext cx="15264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6" name=""/>
                      <p:cNvSpPr/>
                      <p:nvPr/>
                    </p:nvSpPr>
                    <p:spPr>
                      <a:xfrm flipH="1">
                        <a:off x="4343040" y="182880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2742840" y="1371600"/>
                    <a:ext cx="1600560" cy="4572000"/>
                    <a:chOff x="2742840" y="1371600"/>
                    <a:chExt cx="1600560" cy="457200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 flipH="1">
                      <a:off x="2895480" y="3581640"/>
                      <a:ext cx="15264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3124080" y="2057400"/>
                      <a:ext cx="0" cy="33530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10" name=""/>
                    <p:cNvGrpSpPr/>
                    <p:nvPr/>
                  </p:nvGrpSpPr>
                  <p:grpSpPr>
                    <a:xfrm>
                      <a:off x="2742840" y="1371600"/>
                      <a:ext cx="1600560" cy="4572000"/>
                      <a:chOff x="2742840" y="1371600"/>
                      <a:chExt cx="1600560" cy="4572000"/>
                    </a:xfrm>
                  </p:grpSpPr>
                  <p:sp>
                    <p:nvSpPr>
                      <p:cNvPr id="411" name=""/>
                      <p:cNvSpPr/>
                      <p:nvPr/>
                    </p:nvSpPr>
                    <p:spPr>
                      <a:xfrm>
                        <a:off x="2743200" y="3657600"/>
                        <a:ext cx="60948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2" name=""/>
                      <p:cNvSpPr/>
                      <p:nvPr/>
                    </p:nvSpPr>
                    <p:spPr>
                      <a:xfrm flipH="1">
                        <a:off x="2742840" y="358164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3" name=""/>
                      <p:cNvSpPr/>
                      <p:nvPr/>
                    </p:nvSpPr>
                    <p:spPr>
                      <a:xfrm flipH="1">
                        <a:off x="2819160" y="358164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4" name=""/>
                      <p:cNvSpPr/>
                      <p:nvPr/>
                    </p:nvSpPr>
                    <p:spPr>
                      <a:xfrm>
                        <a:off x="3373560" y="3048120"/>
                        <a:ext cx="756720" cy="1191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000" spc="-1" strike="noStrike">
                            <a:solidFill>
                              <a:srgbClr val="0033cc"/>
                            </a:solidFill>
                            <a:latin typeface="Times New Roman"/>
                          </a:rPr>
                          <a:t>   </a:t>
                        </a:r>
                        <a:r>
                          <a:rPr b="1" lang="zh-CN" sz="2000" spc="-1" strike="noStrike">
                            <a:solidFill>
                              <a:srgbClr val="0033cc"/>
                            </a:solidFill>
                            <a:latin typeface="Times New Roman"/>
                          </a:rPr>
                          <a:t>2  #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lnSpc>
                            <a:spcPct val="12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000" spc="-1" strike="noStrike">
                            <a:solidFill>
                              <a:srgbClr val="0033cc"/>
                            </a:solidFill>
                            <a:latin typeface="Times New Roman"/>
                          </a:rPr>
                          <a:t>生活区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lnSpc>
                            <a:spcPct val="12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000" spc="-1" strike="noStrike">
                            <a:solidFill>
                              <a:srgbClr val="0033cc"/>
                            </a:solidFill>
                            <a:latin typeface="Times New Roman"/>
                          </a:rPr>
                          <a:t>配电柜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5" name=""/>
                      <p:cNvSpPr/>
                      <p:nvPr/>
                    </p:nvSpPr>
                    <p:spPr>
                      <a:xfrm>
                        <a:off x="3352680" y="3124440"/>
                        <a:ext cx="795600" cy="11430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6" name=""/>
                      <p:cNvSpPr/>
                      <p:nvPr/>
                    </p:nvSpPr>
                    <p:spPr>
                      <a:xfrm>
                        <a:off x="3352680" y="1447920"/>
                        <a:ext cx="795600" cy="11430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7" name=""/>
                      <p:cNvSpPr/>
                      <p:nvPr/>
                    </p:nvSpPr>
                    <p:spPr>
                      <a:xfrm>
                        <a:off x="3368520" y="4800600"/>
                        <a:ext cx="795600" cy="11430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8" name=""/>
                      <p:cNvSpPr/>
                      <p:nvPr/>
                    </p:nvSpPr>
                    <p:spPr>
                      <a:xfrm>
                        <a:off x="3276720" y="1371600"/>
                        <a:ext cx="1066680" cy="1191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000" spc="-1" strike="noStrike">
                            <a:solidFill>
                              <a:srgbClr val="0033cc"/>
                            </a:solidFill>
                            <a:latin typeface="Times New Roman"/>
                          </a:rPr>
                          <a:t>   </a:t>
                        </a:r>
                        <a:r>
                          <a:rPr b="1" lang="zh-CN" sz="2000" spc="-1" strike="noStrike">
                            <a:solidFill>
                              <a:srgbClr val="0033cc"/>
                            </a:solidFill>
                            <a:latin typeface="Times New Roman"/>
                          </a:rPr>
                          <a:t>1  #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lnSpc>
                            <a:spcPct val="12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000" spc="-1" strike="noStrike">
                            <a:solidFill>
                              <a:srgbClr val="0033cc"/>
                            </a:solidFill>
                            <a:latin typeface="Times New Roman"/>
                          </a:rPr>
                          <a:t>教学区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lnSpc>
                            <a:spcPct val="12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000" spc="-1" strike="noStrike">
                            <a:solidFill>
                              <a:srgbClr val="0033cc"/>
                            </a:solidFill>
                            <a:latin typeface="Times New Roman"/>
                          </a:rPr>
                          <a:t>配电柜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9" name=""/>
                      <p:cNvSpPr/>
                      <p:nvPr/>
                    </p:nvSpPr>
                    <p:spPr>
                      <a:xfrm>
                        <a:off x="3313080" y="4724640"/>
                        <a:ext cx="990720" cy="1191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000" spc="-1" strike="noStrike">
                            <a:solidFill>
                              <a:srgbClr val="0033cc"/>
                            </a:solidFill>
                            <a:latin typeface="Times New Roman"/>
                          </a:rPr>
                          <a:t>  </a:t>
                        </a:r>
                        <a:r>
                          <a:rPr b="1" lang="zh-CN" sz="2000" spc="-1" strike="noStrike">
                            <a:solidFill>
                              <a:srgbClr val="0033cc"/>
                            </a:solidFill>
                            <a:latin typeface="Times New Roman"/>
                          </a:rPr>
                          <a:t>3  #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lnSpc>
                            <a:spcPct val="12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000" spc="-1" strike="noStrike">
                            <a:solidFill>
                              <a:srgbClr val="0033cc"/>
                            </a:solidFill>
                            <a:latin typeface="Times New Roman"/>
                          </a:rPr>
                          <a:t>实验区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lnSpc>
                            <a:spcPct val="12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000" spc="-1" strike="noStrike">
                            <a:solidFill>
                              <a:srgbClr val="0033cc"/>
                            </a:solidFill>
                            <a:latin typeface="Times New Roman"/>
                          </a:rPr>
                          <a:t>配电柜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0" name=""/>
                      <p:cNvSpPr/>
                      <p:nvPr/>
                    </p:nvSpPr>
                    <p:spPr>
                      <a:xfrm>
                        <a:off x="3124080" y="5410440"/>
                        <a:ext cx="2286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1" name=""/>
                      <p:cNvSpPr/>
                      <p:nvPr/>
                    </p:nvSpPr>
                    <p:spPr>
                      <a:xfrm flipH="1">
                        <a:off x="3082320" y="3616560"/>
                        <a:ext cx="75960" cy="759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6840" bIns="68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  <p:grpSp>
          <p:nvGrpSpPr>
            <p:cNvPr id="422" name=""/>
            <p:cNvGrpSpPr/>
            <p:nvPr/>
          </p:nvGrpSpPr>
          <p:grpSpPr>
            <a:xfrm>
              <a:off x="6629040" y="5139000"/>
              <a:ext cx="228960" cy="457200"/>
              <a:chOff x="6629040" y="5139000"/>
              <a:chExt cx="228960" cy="457200"/>
            </a:xfrm>
          </p:grpSpPr>
          <p:sp>
            <p:nvSpPr>
              <p:cNvPr id="423" name=""/>
              <p:cNvSpPr/>
              <p:nvPr/>
            </p:nvSpPr>
            <p:spPr>
              <a:xfrm>
                <a:off x="6629400" y="5139000"/>
                <a:ext cx="22860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6629040" y="5367600"/>
                <a:ext cx="22860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5" name=""/>
          <p:cNvGrpSpPr/>
          <p:nvPr/>
        </p:nvGrpSpPr>
        <p:grpSpPr>
          <a:xfrm>
            <a:off x="5562720" y="983880"/>
            <a:ext cx="3276360" cy="4502160"/>
            <a:chOff x="5562720" y="983880"/>
            <a:chExt cx="3276360" cy="4502160"/>
          </a:xfrm>
        </p:grpSpPr>
        <p:grpSp>
          <p:nvGrpSpPr>
            <p:cNvPr id="426" name=""/>
            <p:cNvGrpSpPr/>
            <p:nvPr/>
          </p:nvGrpSpPr>
          <p:grpSpPr>
            <a:xfrm>
              <a:off x="5562720" y="983880"/>
              <a:ext cx="3276360" cy="4502160"/>
              <a:chOff x="5562720" y="983880"/>
              <a:chExt cx="3276360" cy="4502160"/>
            </a:xfrm>
          </p:grpSpPr>
          <p:sp>
            <p:nvSpPr>
              <p:cNvPr id="427" name=""/>
              <p:cNvSpPr/>
              <p:nvPr/>
            </p:nvSpPr>
            <p:spPr>
              <a:xfrm>
                <a:off x="5791320" y="1523880"/>
                <a:ext cx="0" cy="396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8" name=""/>
              <p:cNvGrpSpPr/>
              <p:nvPr/>
            </p:nvGrpSpPr>
            <p:grpSpPr>
              <a:xfrm>
                <a:off x="5562720" y="983880"/>
                <a:ext cx="3276360" cy="4352040"/>
                <a:chOff x="5562720" y="983880"/>
                <a:chExt cx="3276360" cy="435204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5791320" y="3124080"/>
                  <a:ext cx="2361960" cy="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5791320" y="1523880"/>
                  <a:ext cx="2361960" cy="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5715000" y="1447560"/>
                  <a:ext cx="0" cy="3809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2" name=""/>
                <p:cNvGrpSpPr/>
                <p:nvPr/>
              </p:nvGrpSpPr>
              <p:grpSpPr>
                <a:xfrm>
                  <a:off x="5715000" y="2584080"/>
                  <a:ext cx="2438280" cy="622800"/>
                  <a:chOff x="5715000" y="2584080"/>
                  <a:chExt cx="2438280" cy="62280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6553080" y="3047760"/>
                    <a:ext cx="16002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34" name=""/>
                  <p:cNvGrpSpPr/>
                  <p:nvPr/>
                </p:nvGrpSpPr>
                <p:grpSpPr>
                  <a:xfrm>
                    <a:off x="5837760" y="2584080"/>
                    <a:ext cx="743400" cy="622800"/>
                    <a:chOff x="5837760" y="2584080"/>
                    <a:chExt cx="743400" cy="622800"/>
                  </a:xfrm>
                </p:grpSpPr>
                <p:sp>
                  <p:nvSpPr>
                    <p:cNvPr id="435" name=""/>
                    <p:cNvSpPr/>
                    <p:nvPr/>
                  </p:nvSpPr>
                  <p:spPr>
                    <a:xfrm flipH="1" flipV="1">
                      <a:off x="6019200" y="2894760"/>
                      <a:ext cx="533160" cy="3049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6" name=""/>
                    <p:cNvSpPr/>
                    <p:nvPr/>
                  </p:nvSpPr>
                  <p:spPr>
                    <a:xfrm flipH="1" flipV="1" rot="19673400">
                      <a:off x="5865840" y="2742840"/>
                      <a:ext cx="686160" cy="304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7" name=""/>
                    <p:cNvSpPr/>
                    <p:nvPr/>
                  </p:nvSpPr>
                  <p:spPr>
                    <a:xfrm flipH="1">
                      <a:off x="6019560" y="2895480"/>
                      <a:ext cx="533160" cy="3049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" name=""/>
                    <p:cNvSpPr/>
                    <p:nvPr/>
                  </p:nvSpPr>
                  <p:spPr>
                    <a:xfrm flipH="1">
                      <a:off x="6019560" y="2895120"/>
                      <a:ext cx="53316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9" name=""/>
                    <p:cNvSpPr/>
                    <p:nvPr/>
                  </p:nvSpPr>
                  <p:spPr>
                    <a:xfrm flipV="1">
                      <a:off x="6019560" y="2895120"/>
                      <a:ext cx="0" cy="3049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40" name=""/>
                  <p:cNvSpPr/>
                  <p:nvPr/>
                </p:nvSpPr>
                <p:spPr>
                  <a:xfrm>
                    <a:off x="5715000" y="3047760"/>
                    <a:ext cx="304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1" name=""/>
                <p:cNvGrpSpPr/>
                <p:nvPr/>
              </p:nvGrpSpPr>
              <p:grpSpPr>
                <a:xfrm>
                  <a:off x="5715000" y="983880"/>
                  <a:ext cx="2438280" cy="622800"/>
                  <a:chOff x="5715000" y="983880"/>
                  <a:chExt cx="2438280" cy="62280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6553080" y="1447560"/>
                    <a:ext cx="16002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43" name=""/>
                  <p:cNvGrpSpPr/>
                  <p:nvPr/>
                </p:nvGrpSpPr>
                <p:grpSpPr>
                  <a:xfrm>
                    <a:off x="5837760" y="983880"/>
                    <a:ext cx="743400" cy="622800"/>
                    <a:chOff x="5837760" y="983880"/>
                    <a:chExt cx="743400" cy="622800"/>
                  </a:xfrm>
                </p:grpSpPr>
                <p:sp>
                  <p:nvSpPr>
                    <p:cNvPr id="444" name=""/>
                    <p:cNvSpPr/>
                    <p:nvPr/>
                  </p:nvSpPr>
                  <p:spPr>
                    <a:xfrm flipH="1" flipV="1">
                      <a:off x="6019200" y="1294560"/>
                      <a:ext cx="533160" cy="3049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5" name=""/>
                    <p:cNvSpPr/>
                    <p:nvPr/>
                  </p:nvSpPr>
                  <p:spPr>
                    <a:xfrm flipH="1" flipV="1" rot="19673400">
                      <a:off x="5865840" y="1142640"/>
                      <a:ext cx="686160" cy="304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6" name=""/>
                    <p:cNvSpPr/>
                    <p:nvPr/>
                  </p:nvSpPr>
                  <p:spPr>
                    <a:xfrm flipH="1">
                      <a:off x="6019560" y="1295280"/>
                      <a:ext cx="533160" cy="3049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 flipH="1">
                      <a:off x="6019560" y="1294920"/>
                      <a:ext cx="53316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8" name=""/>
                    <p:cNvSpPr/>
                    <p:nvPr/>
                  </p:nvSpPr>
                  <p:spPr>
                    <a:xfrm flipV="1">
                      <a:off x="6019560" y="1294920"/>
                      <a:ext cx="0" cy="3049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49" name=""/>
                  <p:cNvSpPr/>
                  <p:nvPr/>
                </p:nvSpPr>
                <p:spPr>
                  <a:xfrm>
                    <a:off x="5715000" y="1447560"/>
                    <a:ext cx="304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0" name=""/>
                <p:cNvSpPr/>
                <p:nvPr/>
              </p:nvSpPr>
              <p:spPr>
                <a:xfrm flipH="1">
                  <a:off x="5677920" y="30081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1" name=""/>
                <p:cNvGrpSpPr/>
                <p:nvPr/>
              </p:nvGrpSpPr>
              <p:grpSpPr>
                <a:xfrm>
                  <a:off x="5562720" y="4571640"/>
                  <a:ext cx="380880" cy="228600"/>
                  <a:chOff x="5562720" y="4571640"/>
                  <a:chExt cx="380880" cy="228600"/>
                </a:xfrm>
              </p:grpSpPr>
              <p:sp>
                <p:nvSpPr>
                  <p:cNvPr id="452" name=""/>
                  <p:cNvSpPr/>
                  <p:nvPr/>
                </p:nvSpPr>
                <p:spPr>
                  <a:xfrm>
                    <a:off x="5562720" y="4571640"/>
                    <a:ext cx="380880" cy="228600"/>
                  </a:xfrm>
                  <a:prstGeom prst="rect">
                    <a:avLst/>
                  </a:prstGeom>
                  <a:solidFill>
                    <a:srgbClr val="0066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5562720" y="4571640"/>
                    <a:ext cx="380880" cy="108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4" name=""/>
                <p:cNvSpPr/>
                <p:nvPr/>
              </p:nvSpPr>
              <p:spPr>
                <a:xfrm>
                  <a:off x="5715000" y="4724280"/>
                  <a:ext cx="12193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33cc"/>
                      </a:solidFill>
                      <a:latin typeface="Times New Roman"/>
                    </a:rPr>
                    <a:t>实验楼总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33cc"/>
                      </a:solidFill>
                      <a:latin typeface="Times New Roman"/>
                    </a:rPr>
                    <a:t>  </a:t>
                  </a:r>
                  <a:r>
                    <a:rPr b="1" lang="zh-CN" sz="2000" spc="-1" strike="noStrike">
                      <a:solidFill>
                        <a:srgbClr val="0033cc"/>
                      </a:solidFill>
                      <a:latin typeface="Times New Roman"/>
                    </a:rPr>
                    <a:t>配电箱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5" name=""/>
                <p:cNvGrpSpPr/>
                <p:nvPr/>
              </p:nvGrpSpPr>
              <p:grpSpPr>
                <a:xfrm>
                  <a:off x="5715000" y="3498480"/>
                  <a:ext cx="2701800" cy="997200"/>
                  <a:chOff x="5715000" y="3498480"/>
                  <a:chExt cx="2701800" cy="99720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>
                    <a:off x="5791320" y="4038480"/>
                    <a:ext cx="2514600" cy="0"/>
                  </a:xfrm>
                  <a:prstGeom prst="line">
                    <a:avLst/>
                  </a:prstGeom>
                  <a:ln cap="rnd" w="2844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5715000" y="3498480"/>
                    <a:ext cx="2438280" cy="622800"/>
                    <a:chOff x="5715000" y="3498480"/>
                    <a:chExt cx="2438280" cy="62280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6553080" y="3962160"/>
                      <a:ext cx="160020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59" name=""/>
                    <p:cNvGrpSpPr/>
                    <p:nvPr/>
                  </p:nvGrpSpPr>
                  <p:grpSpPr>
                    <a:xfrm>
                      <a:off x="5837760" y="3498480"/>
                      <a:ext cx="743400" cy="622800"/>
                      <a:chOff x="5837760" y="3498480"/>
                      <a:chExt cx="743400" cy="622800"/>
                    </a:xfrm>
                  </p:grpSpPr>
                  <p:sp>
                    <p:nvSpPr>
                      <p:cNvPr id="460" name=""/>
                      <p:cNvSpPr/>
                      <p:nvPr/>
                    </p:nvSpPr>
                    <p:spPr>
                      <a:xfrm flipH="1" flipV="1">
                        <a:off x="6019200" y="3809160"/>
                        <a:ext cx="533160" cy="30492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1" name=""/>
                      <p:cNvSpPr/>
                      <p:nvPr/>
                    </p:nvSpPr>
                    <p:spPr>
                      <a:xfrm flipH="1" flipV="1" rot="19673400">
                        <a:off x="5865840" y="3657240"/>
                        <a:ext cx="686160" cy="3049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2" name=""/>
                      <p:cNvSpPr/>
                      <p:nvPr/>
                    </p:nvSpPr>
                    <p:spPr>
                      <a:xfrm flipH="1">
                        <a:off x="6019560" y="3809880"/>
                        <a:ext cx="533160" cy="30492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3" name=""/>
                      <p:cNvSpPr/>
                      <p:nvPr/>
                    </p:nvSpPr>
                    <p:spPr>
                      <a:xfrm flipH="1">
                        <a:off x="6019560" y="3809520"/>
                        <a:ext cx="53316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4" name=""/>
                      <p:cNvSpPr/>
                      <p:nvPr/>
                    </p:nvSpPr>
                    <p:spPr>
                      <a:xfrm flipV="1">
                        <a:off x="6019560" y="3809520"/>
                        <a:ext cx="0" cy="30492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5715000" y="3962160"/>
                      <a:ext cx="30492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66" name=""/>
                  <p:cNvSpPr/>
                  <p:nvPr/>
                </p:nvSpPr>
                <p:spPr>
                  <a:xfrm>
                    <a:off x="6858000" y="3962160"/>
                    <a:ext cx="0" cy="304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7010280" y="403848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6740640" y="4267080"/>
                    <a:ext cx="380880" cy="228600"/>
                  </a:xfrm>
                  <a:prstGeom prst="rect">
                    <a:avLst/>
                  </a:prstGeom>
                  <a:solidFill>
                    <a:srgbClr val="0066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69" name=""/>
                  <p:cNvGrpSpPr/>
                  <p:nvPr/>
                </p:nvGrpSpPr>
                <p:grpSpPr>
                  <a:xfrm>
                    <a:off x="8153280" y="3962160"/>
                    <a:ext cx="152640" cy="304920"/>
                    <a:chOff x="8153280" y="3962160"/>
                    <a:chExt cx="152640" cy="304920"/>
                  </a:xfrm>
                </p:grpSpPr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8153280" y="3962160"/>
                      <a:ext cx="0" cy="3049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1" name=""/>
                    <p:cNvSpPr/>
                    <p:nvPr/>
                  </p:nvSpPr>
                  <p:spPr>
                    <a:xfrm>
                      <a:off x="8305920" y="4038480"/>
                      <a:ext cx="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2" name=""/>
                  <p:cNvSpPr/>
                  <p:nvPr/>
                </p:nvSpPr>
                <p:spPr>
                  <a:xfrm>
                    <a:off x="8035920" y="4267080"/>
                    <a:ext cx="380880" cy="228600"/>
                  </a:xfrm>
                  <a:prstGeom prst="rect">
                    <a:avLst/>
                  </a:prstGeom>
                  <a:solidFill>
                    <a:srgbClr val="0066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7224840" y="3927240"/>
                    <a:ext cx="790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……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4" name=""/>
                <p:cNvSpPr/>
                <p:nvPr/>
              </p:nvSpPr>
              <p:spPr>
                <a:xfrm>
                  <a:off x="6858000" y="4495680"/>
                  <a:ext cx="9907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6600"/>
                      </a:solidFill>
                      <a:latin typeface="Times New Roman"/>
                    </a:rPr>
                    <a:t>X</a:t>
                  </a:r>
                  <a:r>
                    <a:rPr b="1" lang="zh-CN" sz="2000" spc="-1" strike="noStrike">
                      <a:solidFill>
                        <a:srgbClr val="006600"/>
                      </a:solidFill>
                      <a:latin typeface="Times New Roman"/>
                    </a:rPr>
                    <a:t>房间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6600"/>
                      </a:solidFill>
                      <a:latin typeface="Times New Roman"/>
                    </a:rPr>
                    <a:t>配电箱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7848720" y="4495680"/>
                  <a:ext cx="99036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6600"/>
                      </a:solidFill>
                      <a:latin typeface="Times New Roman"/>
                    </a:rPr>
                    <a:t>X</a:t>
                  </a:r>
                  <a:r>
                    <a:rPr b="1" lang="zh-CN" sz="2000" spc="-1" strike="noStrike">
                      <a:solidFill>
                        <a:srgbClr val="006600"/>
                      </a:solidFill>
                      <a:latin typeface="Times New Roman"/>
                    </a:rPr>
                    <a:t>房间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6600"/>
                      </a:solidFill>
                      <a:latin typeface="Times New Roman"/>
                    </a:rPr>
                    <a:t>配电箱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6" name=""/>
            <p:cNvSpPr/>
            <p:nvPr/>
          </p:nvSpPr>
          <p:spPr>
            <a:xfrm>
              <a:off x="7547760" y="10508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分支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547760" y="26510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分支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520760" y="35654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分支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791320" y="25146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Times New Roman"/>
              </a:rPr>
              <a:t>层配电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715000" y="9144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Times New Roman"/>
              </a:rPr>
              <a:t>11</a:t>
            </a:r>
            <a:r>
              <a:rPr b="1" lang="zh-CN" sz="2000" spc="-1" strike="noStrike">
                <a:solidFill>
                  <a:srgbClr val="0033cc"/>
                </a:solidFill>
                <a:latin typeface="Times New Roman"/>
              </a:rPr>
              <a:t>层配电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764320" y="34290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Times New Roman"/>
              </a:rPr>
              <a:t>层配电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51720" y="1295280"/>
            <a:ext cx="2371320" cy="2819520"/>
            <a:chOff x="351720" y="1295280"/>
            <a:chExt cx="2371320" cy="2819520"/>
          </a:xfrm>
        </p:grpSpPr>
        <p:grpSp>
          <p:nvGrpSpPr>
            <p:cNvPr id="483" name=""/>
            <p:cNvGrpSpPr/>
            <p:nvPr/>
          </p:nvGrpSpPr>
          <p:grpSpPr>
            <a:xfrm>
              <a:off x="2090520" y="3048120"/>
              <a:ext cx="632520" cy="1066680"/>
              <a:chOff x="2090520" y="3048120"/>
              <a:chExt cx="632520" cy="1066680"/>
            </a:xfrm>
          </p:grpSpPr>
          <p:sp>
            <p:nvSpPr>
              <p:cNvPr id="484" name=""/>
              <p:cNvSpPr/>
              <p:nvPr/>
            </p:nvSpPr>
            <p:spPr>
              <a:xfrm>
                <a:off x="2090520" y="3068640"/>
                <a:ext cx="62892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3300"/>
                    </a:solidFill>
                    <a:latin typeface="Times New Roman"/>
                  </a:rPr>
                  <a:t> </a:t>
                </a:r>
                <a:r>
                  <a:rPr b="1" lang="zh-CN" sz="2000" spc="-1" strike="noStrike">
                    <a:solidFill>
                      <a:srgbClr val="ff3300"/>
                    </a:solidFill>
                    <a:latin typeface="Times New Roman"/>
                  </a:rPr>
                  <a:t>1  #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3300"/>
                    </a:solidFill>
                    <a:latin typeface="Times New Roman"/>
                  </a:rPr>
                  <a:t>主配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3300"/>
                    </a:solidFill>
                    <a:latin typeface="Times New Roman"/>
                  </a:rPr>
                  <a:t>电柜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123640" y="3048120"/>
                <a:ext cx="599400" cy="1066680"/>
              </a:xfrm>
              <a:prstGeom prst="rect">
                <a:avLst/>
              </a:prstGeom>
              <a:noFill/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351720" y="1295280"/>
              <a:ext cx="1782000" cy="2514240"/>
              <a:chOff x="351720" y="1295280"/>
              <a:chExt cx="1782000" cy="2514240"/>
            </a:xfrm>
          </p:grpSpPr>
          <p:sp>
            <p:nvSpPr>
              <p:cNvPr id="487" name=""/>
              <p:cNvSpPr/>
              <p:nvPr/>
            </p:nvSpPr>
            <p:spPr>
              <a:xfrm>
                <a:off x="457200" y="182880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62120" y="18288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85800" y="205740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0" name=""/>
              <p:cNvGrpSpPr/>
              <p:nvPr/>
            </p:nvGrpSpPr>
            <p:grpSpPr>
              <a:xfrm>
                <a:off x="609480" y="2133720"/>
                <a:ext cx="152280" cy="685440"/>
                <a:chOff x="609480" y="2133720"/>
                <a:chExt cx="152280" cy="68544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609480" y="2133720"/>
                  <a:ext cx="152280" cy="391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761760" y="2525400"/>
                  <a:ext cx="0" cy="293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" name=""/>
              <p:cNvGrpSpPr/>
              <p:nvPr/>
            </p:nvGrpSpPr>
            <p:grpSpPr>
              <a:xfrm>
                <a:off x="685440" y="2743200"/>
                <a:ext cx="152640" cy="152280"/>
                <a:chOff x="685440" y="2743200"/>
                <a:chExt cx="152640" cy="15228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685800" y="274320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H="1">
                  <a:off x="685440" y="274320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6" name=""/>
              <p:cNvGrpSpPr/>
              <p:nvPr/>
            </p:nvGrpSpPr>
            <p:grpSpPr>
              <a:xfrm>
                <a:off x="609480" y="2971800"/>
                <a:ext cx="152280" cy="685440"/>
                <a:chOff x="609480" y="2971800"/>
                <a:chExt cx="152280" cy="68544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609480" y="2971800"/>
                  <a:ext cx="152280" cy="391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761760" y="3363480"/>
                  <a:ext cx="0" cy="293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761760" y="3581280"/>
                <a:ext cx="381240" cy="152640"/>
                <a:chOff x="761760" y="3581280"/>
                <a:chExt cx="381240" cy="15264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762120" y="365760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flipH="1">
                  <a:off x="761760" y="3581280"/>
                  <a:ext cx="152280" cy="152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flipH="1">
                  <a:off x="838080" y="3581280"/>
                  <a:ext cx="152280" cy="152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flipH="1">
                  <a:off x="914400" y="3581280"/>
                  <a:ext cx="152640" cy="152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1143360" y="3467160"/>
                <a:ext cx="579240" cy="342360"/>
                <a:chOff x="1143360" y="3467160"/>
                <a:chExt cx="579240" cy="342360"/>
              </a:xfrm>
            </p:grpSpPr>
            <p:sp>
              <p:nvSpPr>
                <p:cNvPr id="505" name=""/>
                <p:cNvSpPr/>
                <p:nvPr/>
              </p:nvSpPr>
              <p:spPr>
                <a:xfrm flipH="1">
                  <a:off x="1391400" y="3467160"/>
                  <a:ext cx="331200" cy="342360"/>
                </a:xfrm>
                <a:prstGeom prst="ellipse">
                  <a:avLst/>
                </a:prstGeom>
                <a:noFill/>
                <a:ln w="284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 flipH="1">
                  <a:off x="1143360" y="3467160"/>
                  <a:ext cx="331200" cy="342360"/>
                </a:xfrm>
                <a:prstGeom prst="ellipse">
                  <a:avLst/>
                </a:prstGeom>
                <a:noFill/>
                <a:ln w="284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7" name=""/>
              <p:cNvSpPr/>
              <p:nvPr/>
            </p:nvSpPr>
            <p:spPr>
              <a:xfrm>
                <a:off x="1716120" y="3657600"/>
                <a:ext cx="417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8" name=""/>
              <p:cNvGrpSpPr/>
              <p:nvPr/>
            </p:nvGrpSpPr>
            <p:grpSpPr>
              <a:xfrm>
                <a:off x="1715760" y="3581280"/>
                <a:ext cx="305280" cy="152640"/>
                <a:chOff x="1715760" y="3581280"/>
                <a:chExt cx="305280" cy="152640"/>
              </a:xfrm>
            </p:grpSpPr>
            <p:grpSp>
              <p:nvGrpSpPr>
                <p:cNvPr id="509" name=""/>
                <p:cNvGrpSpPr/>
                <p:nvPr/>
              </p:nvGrpSpPr>
              <p:grpSpPr>
                <a:xfrm>
                  <a:off x="1715760" y="3581280"/>
                  <a:ext cx="304560" cy="152280"/>
                  <a:chOff x="1715760" y="3581280"/>
                  <a:chExt cx="304560" cy="152280"/>
                </a:xfrm>
              </p:grpSpPr>
              <p:sp>
                <p:nvSpPr>
                  <p:cNvPr id="510" name=""/>
                  <p:cNvSpPr/>
                  <p:nvPr/>
                </p:nvSpPr>
                <p:spPr>
                  <a:xfrm flipH="1">
                    <a:off x="1715760" y="358128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flipH="1">
                    <a:off x="1792080" y="3581280"/>
                    <a:ext cx="152640" cy="152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 flipH="1">
                    <a:off x="1868040" y="358128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3" name=""/>
                <p:cNvSpPr/>
                <p:nvPr/>
              </p:nvSpPr>
              <p:spPr>
                <a:xfrm flipH="1">
                  <a:off x="1792080" y="3581280"/>
                  <a:ext cx="152280" cy="152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flipH="1">
                  <a:off x="1868400" y="3581280"/>
                  <a:ext cx="152640" cy="152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456840" y="1752480"/>
                <a:ext cx="305280" cy="152640"/>
                <a:chOff x="456840" y="1752480"/>
                <a:chExt cx="305280" cy="152640"/>
              </a:xfrm>
            </p:grpSpPr>
            <p:grpSp>
              <p:nvGrpSpPr>
                <p:cNvPr id="516" name=""/>
                <p:cNvGrpSpPr/>
                <p:nvPr/>
              </p:nvGrpSpPr>
              <p:grpSpPr>
                <a:xfrm>
                  <a:off x="456840" y="1752480"/>
                  <a:ext cx="304560" cy="152280"/>
                  <a:chOff x="456840" y="1752480"/>
                  <a:chExt cx="304560" cy="152280"/>
                </a:xfrm>
              </p:grpSpPr>
              <p:sp>
                <p:nvSpPr>
                  <p:cNvPr id="517" name=""/>
                  <p:cNvSpPr/>
                  <p:nvPr/>
                </p:nvSpPr>
                <p:spPr>
                  <a:xfrm flipH="1">
                    <a:off x="456840" y="175248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flipH="1">
                    <a:off x="533160" y="1752480"/>
                    <a:ext cx="152640" cy="152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H="1">
                    <a:off x="609120" y="175248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20" name=""/>
                <p:cNvSpPr/>
                <p:nvPr/>
              </p:nvSpPr>
              <p:spPr>
                <a:xfrm flipH="1">
                  <a:off x="533160" y="1752480"/>
                  <a:ext cx="152280" cy="152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 flipH="1">
                  <a:off x="609480" y="1752480"/>
                  <a:ext cx="152640" cy="152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2" name=""/>
              <p:cNvSpPr/>
              <p:nvPr/>
            </p:nvSpPr>
            <p:spPr>
              <a:xfrm>
                <a:off x="351720" y="1295280"/>
                <a:ext cx="87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</a:rPr>
                  <a:t>10k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3" name=""/>
          <p:cNvSpPr/>
          <p:nvPr/>
        </p:nvSpPr>
        <p:spPr>
          <a:xfrm>
            <a:off x="7033680" y="5105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去报告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5409360" y="990720"/>
            <a:ext cx="3581640" cy="5105160"/>
            <a:chOff x="5409360" y="990720"/>
            <a:chExt cx="3581640" cy="5105160"/>
          </a:xfrm>
        </p:grpSpPr>
        <p:sp>
          <p:nvSpPr>
            <p:cNvPr id="525" name=""/>
            <p:cNvSpPr/>
            <p:nvPr/>
          </p:nvSpPr>
          <p:spPr>
            <a:xfrm>
              <a:off x="5410080" y="990720"/>
              <a:ext cx="0" cy="510516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409360" y="6095880"/>
              <a:ext cx="3581640" cy="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6849000" y="54928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实验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942840" y="30481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Times New Roman"/>
              </a:rPr>
              <a:t>配电变压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1066680" y="1219320"/>
            <a:ext cx="3200400" cy="4876560"/>
            <a:chOff x="1066680" y="1219320"/>
            <a:chExt cx="3200400" cy="4876560"/>
          </a:xfrm>
        </p:grpSpPr>
        <p:sp>
          <p:nvSpPr>
            <p:cNvPr id="530" name=""/>
            <p:cNvSpPr/>
            <p:nvPr/>
          </p:nvSpPr>
          <p:spPr>
            <a:xfrm>
              <a:off x="1066680" y="2057400"/>
              <a:ext cx="0" cy="403848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066680" y="6095880"/>
              <a:ext cx="3200400" cy="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1066680" y="1219320"/>
              <a:ext cx="990720" cy="83808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057400" y="1219320"/>
              <a:ext cx="2209680" cy="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267080" y="1219320"/>
              <a:ext cx="0" cy="487656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1815840" y="5500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配电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5T00:22:50Z</dcterms:created>
  <dc:creator>王香婷</dc:creator>
  <dc:description/>
  <dc:language>en-US</dc:language>
  <cp:lastModifiedBy>王香婷</cp:lastModifiedBy>
  <dcterms:modified xsi:type="dcterms:W3CDTF">2003-07-31T20:45:32Z</dcterms:modified>
  <cp:revision>7</cp:revision>
  <dc:subject/>
  <dc:title>PowerPoint 演示文稿</dc:title>
</cp:coreProperties>
</file>