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  <p:custShowLst>
    <p:custShow name="自定义放映 1" id="0">
      <p:sldLst>
        <p:sld r:id="rId2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49E0C0D-F622-46BA-9ACA-0710D13F02CB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68360" y="620280"/>
            <a:ext cx="4608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20ab"/>
                </a:solidFill>
                <a:latin typeface="Calibri"/>
                <a:ea typeface="黑体"/>
              </a:rPr>
              <a:t>大学生创新创业训练计划</a:t>
            </a:r>
            <a:br>
              <a:rPr sz="2800"/>
            </a:br>
            <a:r>
              <a:rPr b="1" lang="zh-CN" sz="2800" spc="-1" strike="noStrike">
                <a:solidFill>
                  <a:srgbClr val="be20ab"/>
                </a:solidFill>
                <a:latin typeface="Calibri"/>
                <a:ea typeface="黑体"/>
              </a:rPr>
              <a:t>创新训练项目申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476360" y="2421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Arial"/>
              </a:rPr>
              <a:t>项目名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771640" y="48690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宋体"/>
              </a:rPr>
              <a:t>申请人：</a:t>
            </a:r>
            <a:r>
              <a:rPr b="1" lang="en-US" sz="2400" spc="-1" strike="noStrike">
                <a:solidFill>
                  <a:srgbClr val="00cc99"/>
                </a:solidFill>
                <a:latin typeface="宋体"/>
              </a:rPr>
              <a:t>*** 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cc99"/>
                </a:solidFill>
                <a:latin typeface="宋体"/>
              </a:rPr>
              <a:t>*** 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9800" y="190080"/>
            <a:ext cx="45230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项目的创新点和特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2852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771280" y="981000"/>
            <a:ext cx="459756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250920" y="333360"/>
            <a:ext cx="3889440" cy="1511280"/>
          </a:xfrm>
          <a:prstGeom prst="cloudCallout">
            <a:avLst>
              <a:gd name="adj1" fmla="val 81796"/>
              <a:gd name="adj2" fmla="val 104412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技术路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116000" y="620640"/>
            <a:ext cx="1152360" cy="5763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771640" y="692280"/>
            <a:ext cx="3322080" cy="505440"/>
            <a:chOff x="2771640" y="692280"/>
            <a:chExt cx="3322080" cy="505440"/>
          </a:xfrm>
        </p:grpSpPr>
        <p:sp>
          <p:nvSpPr>
            <p:cNvPr id="188" name="Rectangle 5"/>
            <p:cNvSpPr/>
            <p:nvPr/>
          </p:nvSpPr>
          <p:spPr>
            <a:xfrm>
              <a:off x="5364360" y="692280"/>
              <a:ext cx="729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>
              <a:off x="2771640" y="692280"/>
              <a:ext cx="1008000" cy="360360"/>
            </a:xfrm>
            <a:prstGeom prst="rightArrow">
              <a:avLst>
                <a:gd name="adj1" fmla="val 50000"/>
                <a:gd name="adj2" fmla="val 69930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"/>
          <p:cNvGrpSpPr/>
          <p:nvPr/>
        </p:nvGrpSpPr>
        <p:grpSpPr>
          <a:xfrm>
            <a:off x="2556000" y="1773360"/>
            <a:ext cx="4249080" cy="575640"/>
            <a:chOff x="2556000" y="1773360"/>
            <a:chExt cx="4249080" cy="575640"/>
          </a:xfrm>
        </p:grpSpPr>
        <p:sp>
          <p:nvSpPr>
            <p:cNvPr id="191" name="AutoShape 8"/>
            <p:cNvSpPr/>
            <p:nvPr/>
          </p:nvSpPr>
          <p:spPr>
            <a:xfrm>
              <a:off x="2556000" y="1844280"/>
              <a:ext cx="1728360" cy="504720"/>
            </a:xfrm>
            <a:prstGeom prst="rightArrow">
              <a:avLst>
                <a:gd name="adj1" fmla="val 40657"/>
                <a:gd name="adj2" fmla="val 87274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4500360" y="1773360"/>
              <a:ext cx="2304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2556000" y="1628640"/>
            <a:ext cx="1224000" cy="883440"/>
            <a:chOff x="2556000" y="1628640"/>
            <a:chExt cx="1224000" cy="883440"/>
          </a:xfrm>
        </p:grpSpPr>
        <p:sp>
          <p:nvSpPr>
            <p:cNvPr id="194" name="Rectangle 11"/>
            <p:cNvSpPr/>
            <p:nvPr/>
          </p:nvSpPr>
          <p:spPr>
            <a:xfrm>
              <a:off x="2556000" y="162864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机械搅拌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2770920" y="22050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超声波共混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3"/>
          <p:cNvGrpSpPr/>
          <p:nvPr/>
        </p:nvGrpSpPr>
        <p:grpSpPr>
          <a:xfrm>
            <a:off x="1116000" y="2492280"/>
            <a:ext cx="1152360" cy="1081080"/>
            <a:chOff x="1116000" y="2492280"/>
            <a:chExt cx="1152360" cy="1081080"/>
          </a:xfrm>
        </p:grpSpPr>
        <p:sp>
          <p:nvSpPr>
            <p:cNvPr id="197" name="AutoShape 14"/>
            <p:cNvSpPr/>
            <p:nvPr/>
          </p:nvSpPr>
          <p:spPr>
            <a:xfrm>
              <a:off x="1547640" y="2492280"/>
              <a:ext cx="287640" cy="431640"/>
            </a:xfrm>
            <a:prstGeom prst="downArrow">
              <a:avLst>
                <a:gd name="adj1" fmla="val 50000"/>
                <a:gd name="adj2" fmla="val 3751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>
              <a:off x="1116000" y="2997000"/>
              <a:ext cx="1152360" cy="57636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6"/>
          <p:cNvGrpSpPr/>
          <p:nvPr/>
        </p:nvGrpSpPr>
        <p:grpSpPr>
          <a:xfrm>
            <a:off x="2627280" y="2852640"/>
            <a:ext cx="1657440" cy="647640"/>
            <a:chOff x="2627280" y="2852640"/>
            <a:chExt cx="1657440" cy="647640"/>
          </a:xfrm>
        </p:grpSpPr>
        <p:sp>
          <p:nvSpPr>
            <p:cNvPr id="200" name="AutoShape 17"/>
            <p:cNvSpPr/>
            <p:nvPr/>
          </p:nvSpPr>
          <p:spPr>
            <a:xfrm>
              <a:off x="2627280" y="3068640"/>
              <a:ext cx="1657440" cy="431640"/>
            </a:xfrm>
            <a:prstGeom prst="rightArrow">
              <a:avLst>
                <a:gd name="adj1" fmla="val 50000"/>
                <a:gd name="adj2" fmla="val 95997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8"/>
            <p:cNvSpPr/>
            <p:nvPr/>
          </p:nvSpPr>
          <p:spPr>
            <a:xfrm>
              <a:off x="2786400" y="2852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不同温度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9"/>
          <p:cNvGrpSpPr/>
          <p:nvPr/>
        </p:nvGrpSpPr>
        <p:grpSpPr>
          <a:xfrm>
            <a:off x="4500720" y="2565360"/>
            <a:ext cx="2507760" cy="1585080"/>
            <a:chOff x="4500720" y="2565360"/>
            <a:chExt cx="2507760" cy="1585080"/>
          </a:xfrm>
        </p:grpSpPr>
        <p:sp>
          <p:nvSpPr>
            <p:cNvPr id="203" name="AutoShape 20"/>
            <p:cNvSpPr/>
            <p:nvPr/>
          </p:nvSpPr>
          <p:spPr>
            <a:xfrm>
              <a:off x="4500720" y="2636640"/>
              <a:ext cx="142920" cy="129708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>
              <a:off x="6279120" y="2565360"/>
              <a:ext cx="729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5128200" y="3068640"/>
              <a:ext cx="729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3"/>
            <p:cNvSpPr/>
            <p:nvPr/>
          </p:nvSpPr>
          <p:spPr>
            <a:xfrm>
              <a:off x="4898160" y="3645000"/>
              <a:ext cx="729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24"/>
          <p:cNvSpPr/>
          <p:nvPr/>
        </p:nvSpPr>
        <p:spPr>
          <a:xfrm>
            <a:off x="5148720" y="422100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5"/>
          <p:cNvGrpSpPr/>
          <p:nvPr/>
        </p:nvGrpSpPr>
        <p:grpSpPr>
          <a:xfrm>
            <a:off x="2556000" y="5229360"/>
            <a:ext cx="2016000" cy="575640"/>
            <a:chOff x="2556000" y="5229360"/>
            <a:chExt cx="2016000" cy="575640"/>
          </a:xfrm>
        </p:grpSpPr>
        <p:sp>
          <p:nvSpPr>
            <p:cNvPr id="209" name="AutoShape 26"/>
            <p:cNvSpPr/>
            <p:nvPr/>
          </p:nvSpPr>
          <p:spPr>
            <a:xfrm>
              <a:off x="2556000" y="5373360"/>
              <a:ext cx="2016000" cy="431640"/>
            </a:xfrm>
            <a:prstGeom prst="rightArrow">
              <a:avLst>
                <a:gd name="adj1" fmla="val 36769"/>
                <a:gd name="adj2" fmla="val 116569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2842200" y="52293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动态光散射粒径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8"/>
          <p:cNvGrpSpPr/>
          <p:nvPr/>
        </p:nvGrpSpPr>
        <p:grpSpPr>
          <a:xfrm>
            <a:off x="4643280" y="4797360"/>
            <a:ext cx="3889440" cy="1657800"/>
            <a:chOff x="4643280" y="4797360"/>
            <a:chExt cx="3889440" cy="1657800"/>
          </a:xfrm>
        </p:grpSpPr>
        <p:sp>
          <p:nvSpPr>
            <p:cNvPr id="212" name="Rectangle 29"/>
            <p:cNvSpPr/>
            <p:nvPr/>
          </p:nvSpPr>
          <p:spPr>
            <a:xfrm>
              <a:off x="5731200" y="4797360"/>
              <a:ext cx="729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0"/>
            <p:cNvSpPr/>
            <p:nvPr/>
          </p:nvSpPr>
          <p:spPr>
            <a:xfrm>
              <a:off x="5156640" y="5373720"/>
              <a:ext cx="729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1"/>
            <p:cNvSpPr/>
            <p:nvPr/>
          </p:nvSpPr>
          <p:spPr>
            <a:xfrm>
              <a:off x="4859280" y="5949720"/>
              <a:ext cx="367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32"/>
            <p:cNvSpPr/>
            <p:nvPr/>
          </p:nvSpPr>
          <p:spPr>
            <a:xfrm>
              <a:off x="4643280" y="4868640"/>
              <a:ext cx="142920" cy="14400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33"/>
          <p:cNvGrpSpPr/>
          <p:nvPr/>
        </p:nvGrpSpPr>
        <p:grpSpPr>
          <a:xfrm>
            <a:off x="1116000" y="3645000"/>
            <a:ext cx="1152360" cy="1081080"/>
            <a:chOff x="1116000" y="3645000"/>
            <a:chExt cx="1152360" cy="1081080"/>
          </a:xfrm>
        </p:grpSpPr>
        <p:sp>
          <p:nvSpPr>
            <p:cNvPr id="217" name="Rectangle 34"/>
            <p:cNvSpPr/>
            <p:nvPr/>
          </p:nvSpPr>
          <p:spPr>
            <a:xfrm>
              <a:off x="1116000" y="4149720"/>
              <a:ext cx="1152360" cy="57636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35"/>
            <p:cNvSpPr/>
            <p:nvPr/>
          </p:nvSpPr>
          <p:spPr>
            <a:xfrm>
              <a:off x="1547640" y="3645000"/>
              <a:ext cx="287640" cy="431640"/>
            </a:xfrm>
            <a:prstGeom prst="downArrow">
              <a:avLst>
                <a:gd name="adj1" fmla="val 50000"/>
                <a:gd name="adj2" fmla="val 3751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6"/>
          <p:cNvGrpSpPr/>
          <p:nvPr/>
        </p:nvGrpSpPr>
        <p:grpSpPr>
          <a:xfrm>
            <a:off x="1116000" y="4797360"/>
            <a:ext cx="1152360" cy="1079640"/>
            <a:chOff x="1116000" y="4797360"/>
            <a:chExt cx="1152360" cy="1079640"/>
          </a:xfrm>
        </p:grpSpPr>
        <p:sp>
          <p:nvSpPr>
            <p:cNvPr id="220" name="Rectangle 37"/>
            <p:cNvSpPr/>
            <p:nvPr/>
          </p:nvSpPr>
          <p:spPr>
            <a:xfrm>
              <a:off x="1116000" y="5300640"/>
              <a:ext cx="1152360" cy="57636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8"/>
            <p:cNvSpPr/>
            <p:nvPr/>
          </p:nvSpPr>
          <p:spPr>
            <a:xfrm>
              <a:off x="1547640" y="4797360"/>
              <a:ext cx="287640" cy="431640"/>
            </a:xfrm>
            <a:prstGeom prst="downArrow">
              <a:avLst>
                <a:gd name="adj1" fmla="val 50000"/>
                <a:gd name="adj2" fmla="val 3751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9"/>
          <p:cNvGrpSpPr/>
          <p:nvPr/>
        </p:nvGrpSpPr>
        <p:grpSpPr>
          <a:xfrm>
            <a:off x="1025640" y="1268280"/>
            <a:ext cx="1152360" cy="1152360"/>
            <a:chOff x="1025640" y="1268280"/>
            <a:chExt cx="1152360" cy="1152360"/>
          </a:xfrm>
        </p:grpSpPr>
        <p:sp>
          <p:nvSpPr>
            <p:cNvPr id="223" name="AutoShape 40"/>
            <p:cNvSpPr/>
            <p:nvPr/>
          </p:nvSpPr>
          <p:spPr>
            <a:xfrm>
              <a:off x="1025640" y="1773000"/>
              <a:ext cx="1152360" cy="647640"/>
            </a:xfrm>
            <a:prstGeom prst="flowChartProcess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添加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41"/>
            <p:cNvSpPr/>
            <p:nvPr/>
          </p:nvSpPr>
          <p:spPr>
            <a:xfrm>
              <a:off x="1457280" y="1268280"/>
              <a:ext cx="287640" cy="431640"/>
            </a:xfrm>
            <a:prstGeom prst="downArrow">
              <a:avLst>
                <a:gd name="adj1" fmla="val 50000"/>
                <a:gd name="adj2" fmla="val 3751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2"/>
          <p:cNvGrpSpPr/>
          <p:nvPr/>
        </p:nvGrpSpPr>
        <p:grpSpPr>
          <a:xfrm>
            <a:off x="2556000" y="4004640"/>
            <a:ext cx="1871640" cy="648360"/>
            <a:chOff x="2556000" y="4004640"/>
            <a:chExt cx="1871640" cy="648360"/>
          </a:xfrm>
        </p:grpSpPr>
        <p:sp>
          <p:nvSpPr>
            <p:cNvPr id="226" name="AutoShape 43"/>
            <p:cNvSpPr/>
            <p:nvPr/>
          </p:nvSpPr>
          <p:spPr>
            <a:xfrm>
              <a:off x="2556000" y="4221360"/>
              <a:ext cx="1871640" cy="431640"/>
            </a:xfrm>
            <a:prstGeom prst="rightArrow">
              <a:avLst>
                <a:gd name="adj1" fmla="val 50000"/>
                <a:gd name="adj2" fmla="val 108403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2886840" y="400464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红外谱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45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771640" y="764640"/>
            <a:ext cx="345600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9800" y="190080"/>
            <a:ext cx="3162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拟解决的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2781360"/>
            <a:ext cx="79819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41720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拟解决的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2374560"/>
            <a:ext cx="8207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4997160" y="4854960"/>
            <a:ext cx="246240" cy="39888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cc"/>
                </a:solidFill>
                <a:latin typeface="华文细黑"/>
                <a:ea typeface="华文细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626920" y="764640"/>
            <a:ext cx="459756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4305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预期成果、提交方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072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842920" y="764640"/>
            <a:ext cx="360036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9800" y="190080"/>
            <a:ext cx="424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项目研究进度安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95280" y="1700280"/>
          <a:ext cx="8424720" cy="3698640"/>
        </p:xfrm>
        <a:graphic>
          <a:graphicData uri="http://schemas.openxmlformats.org/drawingml/2006/table">
            <a:tbl>
              <a:tblPr/>
              <a:tblGrid>
                <a:gridCol w="2664000"/>
                <a:gridCol w="576072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进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Picture 26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71640" y="1267920"/>
            <a:ext cx="34480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项目研究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203640" y="549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内容提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987280" y="764640"/>
            <a:ext cx="459756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9800" y="190080"/>
            <a:ext cx="3594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已有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95280" y="2060640"/>
          <a:ext cx="8435880" cy="2382840"/>
        </p:xfrm>
        <a:graphic>
          <a:graphicData uri="http://schemas.openxmlformats.org/drawingml/2006/table">
            <a:tbl>
              <a:tblPr/>
              <a:tblGrid>
                <a:gridCol w="1028880"/>
                <a:gridCol w="1645920"/>
                <a:gridCol w="576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专业班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特长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252" name="Picture 60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59280" y="764640"/>
            <a:ext cx="459720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2079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经费预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68280" y="1681200"/>
          <a:ext cx="6678720" cy="4251240"/>
        </p:xfrm>
        <a:graphic>
          <a:graphicData uri="http://schemas.openxmlformats.org/drawingml/2006/table">
            <a:tbl>
              <a:tblPr/>
              <a:tblGrid>
                <a:gridCol w="1463760"/>
                <a:gridCol w="1368360"/>
                <a:gridCol w="38466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开支科目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金费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要用途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经费总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AutoShape 67"/>
          <p:cNvSpPr/>
          <p:nvPr/>
        </p:nvSpPr>
        <p:spPr>
          <a:xfrm>
            <a:off x="250920" y="260280"/>
            <a:ext cx="3598920" cy="151308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8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682560" y="1989000"/>
            <a:ext cx="7821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请各位老师批评指正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60" name="WordArt 3"/>
          <p:cNvSpPr txBox="1"/>
          <p:nvPr/>
        </p:nvSpPr>
        <p:spPr>
          <a:xfrm>
            <a:off x="5435640" y="4221000"/>
            <a:ext cx="235116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255"/>
                <a:gd name="adj2" fmla="val 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谢谢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3452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项目研究的目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272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43280" y="907560"/>
            <a:ext cx="459576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6520" y="-87480"/>
            <a:ext cx="2806920" cy="12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主要研究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-301680" y="1628640"/>
            <a:ext cx="154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6400" y="2036880"/>
            <a:ext cx="842508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280" y="2276280"/>
            <a:ext cx="820764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36720" y="492120"/>
            <a:ext cx="30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9640" y="4777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主要研究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916360" y="692280"/>
            <a:ext cx="459576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6172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研究现状和发展动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39640" y="2205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添加内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00360" y="692280"/>
            <a:ext cx="459576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研究现状和发展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项目的创新点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预期成果、提交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项目研究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已有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经费预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未命名"/>
          <p:cNvPicPr/>
          <p:nvPr/>
        </p:nvPicPr>
        <p:blipFill>
          <a:blip r:embed="rId1"/>
          <a:stretch/>
        </p:blipFill>
        <p:spPr>
          <a:xfrm>
            <a:off x="6588000" y="189000"/>
            <a:ext cx="2411640" cy="5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20:05:25Z</dcterms:created>
  <dc:creator>UPC</dc:creator>
  <dc:description/>
  <cp:keywords/>
  <dc:language>en-US</dc:language>
  <cp:lastModifiedBy>DMT</cp:lastModifiedBy>
  <cp:lastPrinted>1899-12-30T00:00:00Z</cp:lastPrinted>
  <dcterms:modified xsi:type="dcterms:W3CDTF">2012-05-24T11:30:03Z</dcterms:modified>
  <cp:revision>8</cp:revision>
  <dc:subject/>
  <dc:title>大学生创新创业训练计划 创新训练项目申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