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D5D-1D7B-456B-A8B0-6E7837D7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BB11-1CFF-4121-AF94-288F9A36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9C5D-1B46-4FA9-9ED3-E8FDB83E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6DF-5331-4E49-95EE-F1F30622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78C5-2244-4E42-85EF-77C34D3B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F0AD-D630-4D04-9277-E4AFEF7C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F68C-D118-4F9E-824D-A3ED9142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0816-4B21-462A-8F87-082E2F3D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9DD1-B8B4-410B-9265-02250F8B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12D2-37C3-4619-A9AE-5A4B9C36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445B-E066-4861-9373-BFFE41AB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172F-6D0B-4E3C-8324-720CAB20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82B2-EE6C-44C5-BF9C-6C8C4C4C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2C67-E704-4FC7-B421-EB0D56BC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CCC3-1971-47CA-B2F8-9524225E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0356-0DAB-4D81-9C74-7DBDE500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0E05-E47A-43AE-B937-EFA235C4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88D1-396A-470F-8CB5-4E2946CF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EFC-FA4F-45A3-A85A-594B1D51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C26-F179-47CC-9F0A-D3DB77B5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FA9C-C506-4DA9-B8B4-F7C522A6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6AF-9B6A-41EA-9AEF-A392CA63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1DA4-FD4E-4B37-A10A-F1A212F3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DD5-44BF-408C-89F6-97383F18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BA22-1DF5-4294-8B38-6AC0ED3C0B91}" type="slidenum">
              <a:rPr b="1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39" name="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宋体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F9BB-3051-4870-ACE8-88F455483B2C}" type="slidenum">
              <a:rPr b="1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3640" y="4317840"/>
            <a:ext cx="982440" cy="1161000"/>
            <a:chOff x="7793640" y="4317840"/>
            <a:chExt cx="982440" cy="1161000"/>
          </a:xfrm>
        </p:grpSpPr>
        <p:sp>
          <p:nvSpPr>
            <p:cNvPr id="103" name="未知"/>
            <p:cNvSpPr/>
            <p:nvPr/>
          </p:nvSpPr>
          <p:spPr>
            <a:xfrm rot="7320000">
              <a:off x="7788240" y="465588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7320000">
              <a:off x="7931520" y="461880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3640" y="4317840"/>
              <a:ext cx="982440" cy="1161000"/>
              <a:chOff x="7793640" y="4317840"/>
              <a:chExt cx="982440" cy="1161000"/>
            </a:xfrm>
          </p:grpSpPr>
          <p:sp>
            <p:nvSpPr>
              <p:cNvPr id="107" name="未知"/>
              <p:cNvSpPr/>
              <p:nvPr/>
            </p:nvSpPr>
            <p:spPr>
              <a:xfrm rot="7320000">
                <a:off x="7916760" y="505908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 rot="7320000">
                <a:off x="7755480" y="4649760"/>
                <a:ext cx="1058760" cy="4968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 rot="7320000">
                <a:off x="8038800" y="4757040"/>
                <a:ext cx="749160" cy="280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 rot="7320000">
                <a:off x="8513640" y="4556520"/>
                <a:ext cx="100080" cy="188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 rot="7320000">
                <a:off x="8151120" y="475632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</p:grpSp>
      <p:sp>
        <p:nvSpPr>
          <p:cNvPr id="112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val 2"/>
          <p:cNvSpPr/>
          <p:nvPr/>
        </p:nvSpPr>
        <p:spPr>
          <a:xfrm>
            <a:off x="1295280" y="60199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ef66"/>
              </a:gs>
              <a:gs pos="100000">
                <a:srgbClr val="004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Oval 3"/>
          <p:cNvSpPr/>
          <p:nvPr/>
        </p:nvSpPr>
        <p:spPr>
          <a:xfrm>
            <a:off x="2514600" y="60958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ef66"/>
              </a:gs>
              <a:gs pos="100000">
                <a:srgbClr val="004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2" name="Oval 4"/>
          <p:cNvSpPr/>
          <p:nvPr/>
        </p:nvSpPr>
        <p:spPr>
          <a:xfrm>
            <a:off x="2916360" y="436572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ef66"/>
              </a:gs>
              <a:gs pos="100000">
                <a:srgbClr val="004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4038480" y="6095880"/>
            <a:ext cx="400320" cy="400320"/>
          </a:xfrm>
          <a:prstGeom prst="ellipse">
            <a:avLst/>
          </a:prstGeom>
          <a:gradFill rotWithShape="0">
            <a:gsLst>
              <a:gs pos="0">
                <a:srgbClr val="ffef66"/>
              </a:gs>
              <a:gs pos="100000">
                <a:srgbClr val="004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001000" cy="2286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b8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宋体"/>
              </a:rPr>
              <a:t>肺癌病人的护理</a:t>
            </a:r>
            <a:br>
              <a:rPr sz="6000"/>
            </a:br>
            <a:r>
              <a:rPr b="1" lang="en-US" sz="6000" spc="-1" strike="noStrike">
                <a:solidFill>
                  <a:srgbClr val="ff6600"/>
                </a:solidFill>
                <a:latin typeface="宋体"/>
              </a:rPr>
              <a:t>lung cancer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7" descr="logo_kf_t"/>
          <p:cNvPicPr/>
          <p:nvPr/>
        </p:nvPicPr>
        <p:blipFill>
          <a:blip r:embed="rId1"/>
          <a:stretch/>
        </p:blipFill>
        <p:spPr>
          <a:xfrm>
            <a:off x="8153280" y="52560"/>
            <a:ext cx="851040" cy="1014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477120" y="2286000"/>
            <a:ext cx="2361960" cy="2522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143000" y="518148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外科急救护理教研室  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肺解剖生理概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左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右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581280" y="1600200"/>
            <a:ext cx="4953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560" y="8377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左侧气管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右侧气管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5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右侧气管陡而粗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导致气管异物易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进入右侧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86200" y="1371600"/>
            <a:ext cx="4957920" cy="53341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肺解剖生理概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4724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支气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一级：左、右支气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二级：肺叶支气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三级：肺段支气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0" y="1295280"/>
            <a:ext cx="4138560" cy="50292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肺解剖生理概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肺癌解剖学分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心型</a:t>
            </a:r>
            <a:r>
              <a:rPr b="1" lang="zh-CN" sz="3600" spc="-1" strike="noStrike">
                <a:solidFill>
                  <a:srgbClr val="00b200"/>
                </a:solidFill>
                <a:latin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0%-70%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895920" cy="4724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57200" y="2514600"/>
            <a:ext cx="33526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长在主支气管或叶支气管近肺门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肺癌解剖学分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周围型</a:t>
            </a:r>
            <a:r>
              <a:rPr b="1" lang="zh-CN" sz="3600" spc="-1" strike="noStrike">
                <a:solidFill>
                  <a:srgbClr val="00b200"/>
                </a:solidFill>
                <a:latin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%-40%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386244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2666880"/>
            <a:ext cx="3591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长在段支气管及其分支以下者位于肺周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肺 癌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病 理 分 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630396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99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4608360" y="31291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9" y="0"/>
                </a:moveTo>
                <a:arcTo wR="2969" hR="2969" stAng="16200000" swAng="-5400000"/>
                <a:lnTo>
                  <a:pt x="0" y="33732"/>
                </a:lnTo>
                <a:arcTo wR="2969" hR="2969" stAng="10800000" swAng="-5400000"/>
                <a:lnTo>
                  <a:pt x="18631" y="367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99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2925720" y="3129120"/>
            <a:ext cx="1563840" cy="273816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16">
                <a:moveTo>
                  <a:pt x="2969" y="0"/>
                </a:moveTo>
                <a:arcTo wR="2969" hR="2969" stAng="16200000" swAng="-5400000"/>
                <a:lnTo>
                  <a:pt x="0" y="34847"/>
                </a:lnTo>
                <a:arcTo wR="2969" hR="2969" stAng="10800000" swAng="-5400000"/>
                <a:lnTo>
                  <a:pt x="18631" y="378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99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1143000" y="3200400"/>
            <a:ext cx="1697040" cy="2662200"/>
          </a:xfrm>
          <a:custGeom>
            <a:avLst/>
            <a:gdLst>
              <a:gd name="textAreaLeft" fmla="*/ 68040 w 1697040"/>
              <a:gd name="textAreaRight" fmla="*/ 1629000 w 1697040"/>
              <a:gd name="textAreaTop" fmla="*/ 68040 h 2662200"/>
              <a:gd name="textAreaBottom" fmla="*/ 2594160 h 2662200"/>
            </a:gdLst>
            <a:ahLst/>
            <a:rect l="textAreaLeft" t="textAreaTop" r="textAreaRight" b="textAreaBottom"/>
            <a:pathLst>
              <a:path w="21600" h="33882">
                <a:moveTo>
                  <a:pt x="2969" y="0"/>
                </a:moveTo>
                <a:arcTo wR="2969" hR="2969" stAng="16200000" swAng="-5400000"/>
                <a:lnTo>
                  <a:pt x="0" y="30913"/>
                </a:lnTo>
                <a:arcTo wR="2969" hR="2969" stAng="10800000" swAng="-5400000"/>
                <a:lnTo>
                  <a:pt x="18631" y="3388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99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274040" y="1562760"/>
            <a:ext cx="6234840" cy="1369800"/>
            <a:chOff x="1274040" y="1562760"/>
            <a:chExt cx="6234840" cy="1369800"/>
          </a:xfrm>
        </p:grpSpPr>
        <p:sp>
          <p:nvSpPr>
            <p:cNvPr id="201" name="Rectangle 8"/>
            <p:cNvSpPr/>
            <p:nvPr/>
          </p:nvSpPr>
          <p:spPr>
            <a:xfrm rot="3418800">
              <a:off x="1469880" y="1795680"/>
              <a:ext cx="924480" cy="96948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765e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buClr>
                  <a:srgbClr val="99ffcc"/>
                </a:buClr>
                <a:buSzPct val="7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2417400" y="1950480"/>
              <a:ext cx="900000" cy="131400"/>
              <a:chOff x="2417400" y="1950480"/>
              <a:chExt cx="900000" cy="131400"/>
            </a:xfrm>
          </p:grpSpPr>
          <p:sp>
            <p:nvSpPr>
              <p:cNvPr id="203" name="Oval 10"/>
              <p:cNvSpPr/>
              <p:nvPr/>
            </p:nvSpPr>
            <p:spPr>
              <a:xfrm>
                <a:off x="2417400" y="1950480"/>
                <a:ext cx="151560" cy="1303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buClr>
                    <a:srgbClr val="99ffcc"/>
                  </a:buClr>
                  <a:buSzPct val="70000"/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04" name="Rectangle 11"/>
              <p:cNvSpPr/>
              <p:nvPr/>
            </p:nvSpPr>
            <p:spPr>
              <a:xfrm>
                <a:off x="2503440" y="1951920"/>
                <a:ext cx="746280" cy="129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buClr>
                    <a:srgbClr val="99ffcc"/>
                  </a:buClr>
                  <a:buSzPct val="70000"/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05" name="Oval 12"/>
              <p:cNvSpPr/>
              <p:nvPr/>
            </p:nvSpPr>
            <p:spPr>
              <a:xfrm>
                <a:off x="3180960" y="1951920"/>
                <a:ext cx="136440" cy="1274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ffffff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buClr>
                    <a:srgbClr val="99ffcc"/>
                  </a:buClr>
                  <a:buSzPct val="70000"/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06" name="Oval 13"/>
              <p:cNvSpPr/>
              <p:nvPr/>
            </p:nvSpPr>
            <p:spPr>
              <a:xfrm>
                <a:off x="3253680" y="1993320"/>
                <a:ext cx="38160" cy="3780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ffffff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buClr>
                    <a:srgbClr val="99ffcc"/>
                  </a:buClr>
                  <a:buSzPct val="70000"/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207" name="Rectangle 14"/>
            <p:cNvSpPr/>
            <p:nvPr/>
          </p:nvSpPr>
          <p:spPr>
            <a:xfrm rot="3418800">
              <a:off x="3132000" y="1729800"/>
              <a:ext cx="924480" cy="96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buClr>
                  <a:srgbClr val="99ffcc"/>
                </a:buClr>
                <a:buSzPct val="7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4079880" y="1950480"/>
              <a:ext cx="900000" cy="131400"/>
              <a:chOff x="4079880" y="1950480"/>
              <a:chExt cx="900000" cy="131400"/>
            </a:xfrm>
          </p:grpSpPr>
          <p:sp>
            <p:nvSpPr>
              <p:cNvPr id="209" name="Oval 16"/>
              <p:cNvSpPr/>
              <p:nvPr/>
            </p:nvSpPr>
            <p:spPr>
              <a:xfrm>
                <a:off x="4079880" y="1950480"/>
                <a:ext cx="151560" cy="1303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buClr>
                    <a:srgbClr val="99ffcc"/>
                  </a:buClr>
                  <a:buSzPct val="70000"/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0" name="Rectangle 17"/>
              <p:cNvSpPr/>
              <p:nvPr/>
            </p:nvSpPr>
            <p:spPr>
              <a:xfrm>
                <a:off x="4165920" y="1951920"/>
                <a:ext cx="746280" cy="129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buClr>
                    <a:srgbClr val="99ffcc"/>
                  </a:buClr>
                  <a:buSzPct val="70000"/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1" name="Oval 18"/>
              <p:cNvSpPr/>
              <p:nvPr/>
            </p:nvSpPr>
            <p:spPr>
              <a:xfrm>
                <a:off x="4843440" y="1951920"/>
                <a:ext cx="136440" cy="1274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ffffff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buClr>
                    <a:srgbClr val="99ffcc"/>
                  </a:buClr>
                  <a:buSzPct val="70000"/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2" name="Oval 19"/>
              <p:cNvSpPr/>
              <p:nvPr/>
            </p:nvSpPr>
            <p:spPr>
              <a:xfrm>
                <a:off x="4916160" y="1993320"/>
                <a:ext cx="38160" cy="3780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ffffff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buClr>
                    <a:srgbClr val="99ffcc"/>
                  </a:buClr>
                  <a:buSzPct val="70000"/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213" name="Rectangle 20"/>
            <p:cNvSpPr/>
            <p:nvPr/>
          </p:nvSpPr>
          <p:spPr>
            <a:xfrm rot="3418800">
              <a:off x="4725720" y="1729440"/>
              <a:ext cx="924480" cy="969840"/>
            </a:xfrm>
            <a:prstGeom prst="rect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765e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buClr>
                  <a:srgbClr val="99ffcc"/>
                </a:buClr>
                <a:buSzPct val="7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5742360" y="1950480"/>
              <a:ext cx="1176840" cy="131400"/>
              <a:chOff x="5742360" y="1950480"/>
              <a:chExt cx="1176840" cy="131400"/>
            </a:xfrm>
          </p:grpSpPr>
          <p:sp>
            <p:nvSpPr>
              <p:cNvPr id="215" name="Oval 22"/>
              <p:cNvSpPr/>
              <p:nvPr/>
            </p:nvSpPr>
            <p:spPr>
              <a:xfrm>
                <a:off x="5742360" y="1950480"/>
                <a:ext cx="198360" cy="1303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buClr>
                    <a:srgbClr val="99ffcc"/>
                  </a:buClr>
                  <a:buSzPct val="70000"/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6" name="Rectangle 23"/>
              <p:cNvSpPr/>
              <p:nvPr/>
            </p:nvSpPr>
            <p:spPr>
              <a:xfrm>
                <a:off x="5855040" y="1951920"/>
                <a:ext cx="978840" cy="12996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buClr>
                    <a:srgbClr val="99ffcc"/>
                  </a:buClr>
                  <a:buSzPct val="70000"/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7" name="Oval 24"/>
              <p:cNvSpPr/>
              <p:nvPr/>
            </p:nvSpPr>
            <p:spPr>
              <a:xfrm>
                <a:off x="6741000" y="1951920"/>
                <a:ext cx="178200" cy="1274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ffffff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buClr>
                    <a:srgbClr val="99ffcc"/>
                  </a:buClr>
                  <a:buSzPct val="70000"/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  <p:sp>
            <p:nvSpPr>
              <p:cNvPr id="218" name="Oval 25"/>
              <p:cNvSpPr/>
              <p:nvPr/>
            </p:nvSpPr>
            <p:spPr>
              <a:xfrm>
                <a:off x="6836400" y="1993320"/>
                <a:ext cx="50040" cy="3780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ffffff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799"/>
                  </a:spcBef>
                  <a:buClr>
                    <a:srgbClr val="99ffcc"/>
                  </a:buClr>
                  <a:buSzPct val="70000"/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宋体"/>
                </a:endParaRPr>
              </a:p>
            </p:txBody>
          </p:sp>
        </p:grpSp>
        <p:sp>
          <p:nvSpPr>
            <p:cNvPr id="219" name="Rectangle 26"/>
            <p:cNvSpPr/>
            <p:nvPr/>
          </p:nvSpPr>
          <p:spPr>
            <a:xfrm rot="3418800">
              <a:off x="6388200" y="1729440"/>
              <a:ext cx="924480" cy="96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buClr>
                  <a:srgbClr val="99ffcc"/>
                </a:buClr>
                <a:buSzPct val="7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  <p:sp>
        <p:nvSpPr>
          <p:cNvPr id="220" name="Rectangle 27"/>
          <p:cNvSpPr/>
          <p:nvPr/>
        </p:nvSpPr>
        <p:spPr>
          <a:xfrm>
            <a:off x="1593720" y="1857240"/>
            <a:ext cx="114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鳞癌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3124080" y="1828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腺癌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4419720" y="1905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细胞癌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6628320" y="190512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细胞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Rectangle 31"/>
          <p:cNvSpPr/>
          <p:nvPr/>
        </p:nvSpPr>
        <p:spPr>
          <a:xfrm>
            <a:off x="1295280" y="3124080"/>
            <a:ext cx="15242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5%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/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央型 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男性多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通常先淋巴转移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放、化疗敏感次之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预后稍好 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36"/>
          <p:cNvSpPr/>
          <p:nvPr/>
        </p:nvSpPr>
        <p:spPr>
          <a:xfrm>
            <a:off x="2895480" y="3124080"/>
            <a:ext cx="152424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0%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/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周围型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女性多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血行播散及胸水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放疗效果最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预后差 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6" name="Rectangle 37"/>
          <p:cNvSpPr/>
          <p:nvPr/>
        </p:nvSpPr>
        <p:spPr>
          <a:xfrm>
            <a:off x="4648320" y="3124080"/>
            <a:ext cx="152388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5%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/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央型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青状年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血行转移较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放、化疗最敏感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预后最差 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39"/>
          <p:cNvSpPr/>
          <p:nvPr/>
        </p:nvSpPr>
        <p:spPr>
          <a:xfrm>
            <a:off x="6324480" y="3124080"/>
            <a:ext cx="152424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%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多为中央型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青状年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血行、淋巴转移较快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放、化疗较敏感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预后很差 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肺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转移途径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655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直接扩散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淋巴转移：常见途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血行转移：多见于晚期，常见部位肝、骨骼、脑、肾上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肺癌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肺癌症状取决于发生部位、大小、是否压迫临近器官及有无转移。早期可无症状，而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线体检时发现。中央型出现症状早，周围型较晚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87060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肺癌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3914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宋体"/>
              </a:rPr>
              <a:t>早期：</a:t>
            </a:r>
            <a:r>
              <a:rPr b="1" lang="en-US" sz="3200" spc="-1" strike="noStrike">
                <a:solidFill>
                  <a:srgbClr val="00b2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b200"/>
                </a:solidFill>
                <a:latin typeface="宋体"/>
              </a:rPr>
              <a:t>咳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宋体"/>
              </a:rPr>
              <a:t>（最常见症状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出现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刺激性咳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大多有阵发性干咳，仅有少量白色泡沫样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炎无效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肿瘤增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阻塞支气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部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可有脓痰、痰量增多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010360" cy="3124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b2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b200"/>
                </a:solidFill>
                <a:latin typeface="宋体"/>
              </a:rPr>
              <a:t>咯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通常为痰中带血点、血丝或少量咳血，大量咳血很少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99072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肺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1219320" y="228600"/>
            <a:ext cx="687060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肺癌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临床表现</a:t>
            </a:r>
            <a:endParaRPr b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Comic Sans MS"/>
              </a:rPr>
              <a:t>肺癌护理教学目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71280" y="2136240"/>
            <a:ext cx="7124760" cy="3326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了解肺癌的病因病理、分类、主要辅助检查方法及处理原则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熟悉肺癌的临床表现及护理评估、护理诊断及护理问题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掌握肺癌的术前指导、术后护理要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7526520" cy="3413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b200"/>
                </a:solidFill>
                <a:latin typeface="宋体"/>
              </a:rPr>
              <a:t>胸痛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为轻度钝痛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癌肿侵犯胸膜时尖锐胸痛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侵及肋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固定压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肺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990720" y="228600"/>
            <a:ext cx="687060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肺癌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临床表现</a:t>
            </a:r>
            <a:endParaRPr b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7645680" cy="3810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b200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00b200"/>
                </a:solidFill>
                <a:latin typeface="宋体"/>
              </a:rPr>
              <a:t>胸闷、气急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Arial"/>
              </a:rPr>
              <a:t>肿瘤造成较大支气管狭窄、阻塞、呼吸面积减少所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肺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990720" y="228600"/>
            <a:ext cx="687060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肺癌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临床表现</a:t>
            </a:r>
            <a:endParaRPr b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7543800" cy="4525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宋体"/>
              </a:rPr>
              <a:t>5.</a:t>
            </a:r>
            <a:r>
              <a:rPr b="1" lang="zh-CN" sz="4000" spc="-1" strike="noStrike">
                <a:solidFill>
                  <a:srgbClr val="00b200"/>
                </a:solidFill>
                <a:latin typeface="宋体"/>
              </a:rPr>
              <a:t>发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癌肿坏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癌性发热，不受抗菌素治疗的影响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4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癌肿阻塞支气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阻塞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肺癌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990720" y="228600"/>
            <a:ext cx="687060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肺癌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临床表现</a:t>
            </a:r>
            <a:endParaRPr b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肺癌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41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：全身表现恶病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b200"/>
                </a:solidFill>
                <a:latin typeface="宋体"/>
              </a:rPr>
              <a:t>侵犯、压迫症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嘶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压迫喉返神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膈肌麻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同侧膈神经受压，呼吸受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压增高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腔静脉受压综合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咽困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肿瘤压迫或侵犯食道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990720" y="228600"/>
            <a:ext cx="687060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肺癌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临床表现</a:t>
            </a:r>
            <a:endParaRPr b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648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：全身表现恶病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b200"/>
                </a:solidFill>
                <a:latin typeface="宋体"/>
              </a:rPr>
              <a:t>侵犯、压迫症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交感神经综合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迫颈交感神经，同侧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瞳孔缩小，上睑下垂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球内陷，额部少汗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性胸腔积液、胸痛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Picture 4" descr="image01"/>
          <p:cNvPicPr/>
          <p:nvPr/>
        </p:nvPicPr>
        <p:blipFill>
          <a:blip r:embed="rId1"/>
          <a:stretch/>
        </p:blipFill>
        <p:spPr>
          <a:xfrm>
            <a:off x="5638680" y="1752480"/>
            <a:ext cx="2948040" cy="4343400"/>
          </a:xfrm>
          <a:prstGeom prst="rect">
            <a:avLst/>
          </a:prstGeom>
          <a:ln w="0">
            <a:noFill/>
          </a:ln>
        </p:spPr>
      </p:pic>
      <p:sp>
        <p:nvSpPr>
          <p:cNvPr id="251" name="Line 5"/>
          <p:cNvSpPr/>
          <p:nvPr/>
        </p:nvSpPr>
        <p:spPr>
          <a:xfrm>
            <a:off x="4495680" y="2895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286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肺癌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临床表现</a:t>
            </a:r>
            <a:endParaRPr b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990720" y="228600"/>
            <a:ext cx="687060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肺癌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临床表现</a:t>
            </a:r>
            <a:endParaRPr b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肺癌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191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00b2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b200"/>
                </a:solidFill>
                <a:latin typeface="宋体"/>
              </a:rPr>
              <a:t>内分泌症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病综合征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多见于鳞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男性乳腺增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多见于小细胞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5" descr="杵状指"/>
          <p:cNvPicPr/>
          <p:nvPr/>
        </p:nvPicPr>
        <p:blipFill>
          <a:blip r:embed="rId1"/>
          <a:stretch/>
        </p:blipFill>
        <p:spPr>
          <a:xfrm>
            <a:off x="5029200" y="1371600"/>
            <a:ext cx="3352680" cy="2449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1256"/>
          <p:cNvPicPr/>
          <p:nvPr/>
        </p:nvPicPr>
        <p:blipFill>
          <a:blip r:embed="rId2"/>
          <a:stretch/>
        </p:blipFill>
        <p:spPr>
          <a:xfrm>
            <a:off x="5257800" y="3886200"/>
            <a:ext cx="3048120" cy="2633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58" name="Rectangle 2"/>
          <p:cNvSpPr/>
          <p:nvPr/>
        </p:nvSpPr>
        <p:spPr>
          <a:xfrm>
            <a:off x="990720" y="228600"/>
            <a:ext cx="687060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肺癌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临床表现</a:t>
            </a:r>
            <a:endParaRPr b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肺癌辅助检查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4754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像学检查：包括胸片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磁共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脱落细胞学检查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纤支镜检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央型阳性率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%-90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胸壁肺穿刺检查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剖胸探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无法确诊高度可疑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23888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毛刺征                   分叶状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2057400" y="18288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99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6477120" y="18288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99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64" name="Picture 5" descr="周围型肺癌CT片"/>
          <p:cNvPicPr/>
          <p:nvPr/>
        </p:nvPicPr>
        <p:blipFill>
          <a:blip r:embed="rId1"/>
          <a:stretch/>
        </p:blipFill>
        <p:spPr>
          <a:xfrm>
            <a:off x="609480" y="2209680"/>
            <a:ext cx="3635640" cy="4114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分叶状"/>
          <p:cNvPicPr/>
          <p:nvPr/>
        </p:nvPicPr>
        <p:blipFill>
          <a:blip r:embed="rId2"/>
          <a:stretch/>
        </p:blipFill>
        <p:spPr>
          <a:xfrm>
            <a:off x="4800600" y="22860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2629800" y="260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f66"/>
                </a:solidFill>
                <a:latin typeface="Times New Roman"/>
                <a:ea typeface="楷体_GB2312"/>
              </a:rPr>
              <a:t>周围型肺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67" name="Picture 3" descr="右上肺癌（空泡征及毛刺征）1c"/>
          <p:cNvPicPr/>
          <p:nvPr/>
        </p:nvPicPr>
        <p:blipFill>
          <a:blip r:embed="rId1">
            <a:lum bright="18000"/>
          </a:blip>
          <a:srcRect l="40846" t="67557" r="36345" b="0"/>
          <a:stretch/>
        </p:blipFill>
        <p:spPr>
          <a:xfrm>
            <a:off x="3581280" y="1066680"/>
            <a:ext cx="3248280" cy="3657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68" name="Picture 4" descr="右上肺癌（空泡征及毛刺征）1c"/>
          <p:cNvPicPr/>
          <p:nvPr/>
        </p:nvPicPr>
        <p:blipFill>
          <a:blip r:embed="rId2">
            <a:lum bright="12000"/>
          </a:blip>
          <a:srcRect l="9724" t="36849" r="76665" b="34906"/>
          <a:stretch/>
        </p:blipFill>
        <p:spPr>
          <a:xfrm>
            <a:off x="380880" y="1066680"/>
            <a:ext cx="3154320" cy="5181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69" name="Picture 5" descr="右上肺癌（空泡征及毛刺征）1c"/>
          <p:cNvPicPr/>
          <p:nvPr/>
        </p:nvPicPr>
        <p:blipFill>
          <a:blip r:embed="rId3">
            <a:lum bright="6000"/>
          </a:blip>
          <a:srcRect l="75855" t="68785" r="3728" b="4198"/>
          <a:stretch/>
        </p:blipFill>
        <p:spPr>
          <a:xfrm>
            <a:off x="6019920" y="3429000"/>
            <a:ext cx="2692440" cy="2819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870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诊断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纤维支气管镜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7696080" cy="3657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ff"/>
                </a:solidFill>
                <a:latin typeface="Comic Sans MS"/>
              </a:rPr>
              <a:t>中心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直接窥视、活检、刷检；阳性率可达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0-90%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，表现为管腔阻塞、隆突增宽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ff"/>
                </a:solidFill>
                <a:latin typeface="Comic Sans MS"/>
              </a:rPr>
              <a:t>周围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无法窥视，可行经纤支镜肺活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" name="Picture 4" descr="17-small"/>
          <p:cNvPicPr/>
          <p:nvPr/>
        </p:nvPicPr>
        <p:blipFill>
          <a:blip r:embed="rId1"/>
          <a:stretch/>
        </p:blipFill>
        <p:spPr>
          <a:xfrm>
            <a:off x="2016000" y="4648320"/>
            <a:ext cx="7128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球肺癌发病率（男性）居癌症发生的榜首，男女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~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近年女性发病明显增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总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生存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Comic Sans MS"/>
              </a:rPr>
              <a:t>概   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3516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129564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宋体"/>
              </a:rPr>
              <a:t>纤支镜检查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Picture 4" descr="肺癌内镜图-2"/>
          <p:cNvPicPr/>
          <p:nvPr/>
        </p:nvPicPr>
        <p:blipFill>
          <a:blip r:embed="rId1"/>
          <a:stretch/>
        </p:blipFill>
        <p:spPr>
          <a:xfrm>
            <a:off x="2362320" y="457200"/>
            <a:ext cx="6387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019920" y="3809880"/>
            <a:ext cx="3124080" cy="28386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7467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宋体"/>
              </a:rPr>
              <a:t>肺 癌 治 疗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2362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手术治疗仍是肺癌最重要和最有效的治疗手段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必须进行综合治疗以提高治疗效果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870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宋体"/>
              </a:rPr>
              <a:t>肺 癌 治 疗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80520" y="1519200"/>
            <a:ext cx="8090640" cy="5225760"/>
            <a:chOff x="380520" y="1519200"/>
            <a:chExt cx="8090640" cy="5225760"/>
          </a:xfrm>
        </p:grpSpPr>
        <p:sp>
          <p:nvSpPr>
            <p:cNvPr id="280" name="Freeform 4"/>
            <p:cNvSpPr/>
            <p:nvPr/>
          </p:nvSpPr>
          <p:spPr>
            <a:xfrm rot="20241600">
              <a:off x="1001160" y="2729880"/>
              <a:ext cx="6853320" cy="2803680"/>
            </a:xfrm>
            <a:prstGeom prst="pie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ae7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buClr>
                  <a:srgbClr val="99ffcc"/>
                </a:buClr>
                <a:buSzPct val="7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81" name="Oval 5"/>
            <p:cNvSpPr/>
            <p:nvPr/>
          </p:nvSpPr>
          <p:spPr>
            <a:xfrm rot="20056200">
              <a:off x="4495320" y="2630160"/>
              <a:ext cx="1066680" cy="30456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buClr>
                  <a:srgbClr val="99ffcc"/>
                </a:buClr>
                <a:buSzPct val="7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82" name="Oval 6"/>
            <p:cNvSpPr/>
            <p:nvPr/>
          </p:nvSpPr>
          <p:spPr>
            <a:xfrm rot="20056200">
              <a:off x="7390800" y="2858760"/>
              <a:ext cx="1067040" cy="30456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buClr>
                  <a:srgbClr val="99ffcc"/>
                </a:buClr>
                <a:buSzPct val="7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83" name="Oval 7"/>
            <p:cNvSpPr/>
            <p:nvPr/>
          </p:nvSpPr>
          <p:spPr>
            <a:xfrm rot="20056200">
              <a:off x="2895120" y="5830560"/>
              <a:ext cx="1066680" cy="30456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buClr>
                  <a:srgbClr val="99ffcc"/>
                </a:buClr>
                <a:buSzPct val="7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84" name="Oval 8"/>
            <p:cNvSpPr/>
            <p:nvPr/>
          </p:nvSpPr>
          <p:spPr>
            <a:xfrm rot="20056200">
              <a:off x="5638320" y="5220720"/>
              <a:ext cx="1066680" cy="30492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buClr>
                  <a:srgbClr val="99ffcc"/>
                </a:buClr>
                <a:buSzPct val="7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85" name="Oval 9"/>
            <p:cNvSpPr/>
            <p:nvPr/>
          </p:nvSpPr>
          <p:spPr>
            <a:xfrm rot="20056200">
              <a:off x="2057040" y="4154040"/>
              <a:ext cx="1066680" cy="30492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buClr>
                  <a:srgbClr val="99ffcc"/>
                </a:buClr>
                <a:buSzPct val="7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86" name="Oval 10"/>
            <p:cNvSpPr/>
            <p:nvPr/>
          </p:nvSpPr>
          <p:spPr>
            <a:xfrm>
              <a:off x="3733560" y="18684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58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87" name="Oval 11"/>
            <p:cNvSpPr/>
            <p:nvPr/>
          </p:nvSpPr>
          <p:spPr>
            <a:xfrm>
              <a:off x="1218960" y="33922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ffef66"/>
                </a:gs>
                <a:gs pos="100000">
                  <a:srgbClr val="003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88" name="Oval 12"/>
            <p:cNvSpPr/>
            <p:nvPr/>
          </p:nvSpPr>
          <p:spPr>
            <a:xfrm>
              <a:off x="4876560" y="44593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c6c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89" name="Oval 13"/>
            <p:cNvSpPr/>
            <p:nvPr/>
          </p:nvSpPr>
          <p:spPr>
            <a:xfrm>
              <a:off x="6705360" y="209700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703dff"/>
                </a:gs>
                <a:gs pos="100000">
                  <a:srgbClr val="5858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90" name="Text Box 14"/>
            <p:cNvSpPr/>
            <p:nvPr/>
          </p:nvSpPr>
          <p:spPr>
            <a:xfrm>
              <a:off x="1849320" y="36576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ffff"/>
                  </a:solidFill>
                  <a:latin typeface="宋体"/>
                </a:rPr>
                <a:t>免疫治疗</a:t>
              </a: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91" name="Text Box 15"/>
            <p:cNvSpPr/>
            <p:nvPr/>
          </p:nvSpPr>
          <p:spPr>
            <a:xfrm>
              <a:off x="4038480" y="2133360"/>
              <a:ext cx="222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ffff"/>
                  </a:solidFill>
                  <a:latin typeface="宋体"/>
                </a:rPr>
                <a:t>放射线治疗</a:t>
              </a: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92" name="Text Box 16"/>
            <p:cNvSpPr/>
            <p:nvPr/>
          </p:nvSpPr>
          <p:spPr>
            <a:xfrm>
              <a:off x="7299000" y="24112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ffff"/>
                  </a:solidFill>
                  <a:latin typeface="宋体"/>
                </a:rPr>
                <a:t>手术治疗</a:t>
              </a: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93" name="Text Box 17"/>
            <p:cNvSpPr/>
            <p:nvPr/>
          </p:nvSpPr>
          <p:spPr>
            <a:xfrm>
              <a:off x="5670720" y="4724280"/>
              <a:ext cx="1643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ffff"/>
                  </a:solidFill>
                  <a:latin typeface="宋体"/>
                </a:rPr>
                <a:t>化学药物治疗</a:t>
              </a: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94" name="Text Box 18"/>
            <p:cNvSpPr/>
            <p:nvPr/>
          </p:nvSpPr>
          <p:spPr>
            <a:xfrm>
              <a:off x="3352680" y="3854160"/>
              <a:ext cx="2590920" cy="7275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03dff"/>
                  </a:solidFill>
                  <a:latin typeface="宋体"/>
                </a:rPr>
                <a:t>肺癌治疗</a:t>
              </a: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95" name="Line 19"/>
            <p:cNvSpPr/>
            <p:nvPr/>
          </p:nvSpPr>
          <p:spPr>
            <a:xfrm>
              <a:off x="2396880" y="2155680"/>
              <a:ext cx="1793880" cy="16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cxnSp>
          <p:nvCxnSpPr>
            <p:cNvPr id="296" name="AutoShape 20"/>
            <p:cNvCxnSpPr/>
            <p:nvPr/>
          </p:nvCxnSpPr>
          <p:spPr>
            <a:xfrm flipH="1">
              <a:off x="380520" y="215532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7" name="Text Box 21"/>
            <p:cNvSpPr/>
            <p:nvPr/>
          </p:nvSpPr>
          <p:spPr>
            <a:xfrm>
              <a:off x="723600" y="1523880"/>
              <a:ext cx="1155960" cy="581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03dff"/>
                  </a:solidFill>
                  <a:latin typeface="宋体"/>
                </a:rPr>
                <a:t>综合治疗</a:t>
              </a: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98" name="Oval 22"/>
            <p:cNvSpPr/>
            <p:nvPr/>
          </p:nvSpPr>
          <p:spPr>
            <a:xfrm>
              <a:off x="2101680" y="508932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c3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2849760" y="534816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ffff"/>
                  </a:solidFill>
                  <a:latin typeface="宋体"/>
                </a:rPr>
                <a:t>中医中药治疗</a:t>
              </a:r>
              <a:endParaRPr b="1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6600" spc="-1" strike="noStrike">
                <a:solidFill>
                  <a:srgbClr val="ff6600"/>
                </a:solidFill>
                <a:latin typeface="Comic Sans MS"/>
              </a:rPr>
              <a:t>肺 癌 的 </a:t>
            </a:r>
            <a:r>
              <a:rPr b="1" lang="zh-CN" sz="6600" spc="-1" strike="noStrike">
                <a:solidFill>
                  <a:srgbClr val="ff6600"/>
                </a:solidFill>
                <a:latin typeface="宋体"/>
              </a:rPr>
              <a:t>护 理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护理问题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气体交换受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清理呼吸道无效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营养失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焦虑与恐惧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潜在并发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2767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784836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Comic Sans MS"/>
              </a:rPr>
              <a:t>肺癌术前护理措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69339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善肺泡通气与换气功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戒烟，术前两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保持呼吸道通畅：有大量分泌物时行体位引流，痰液粘稠时行雾化吸入，必要时纤支镜灌洗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保持口腔卫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遵医嘱给抗生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22960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Comic Sans MS"/>
              </a:rPr>
              <a:t>肺癌术前护理措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69343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前指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导病人练习深呼吸（腹式呼吸），有效咳嗽与翻身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导病人正确床上活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、小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介绍胸腔引流设备及各种管道及注意事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Comic Sans MS"/>
              </a:rPr>
              <a:t>肺癌术后护理措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5627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合适体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维持生命体征稳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维持呼吸道通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减轻疼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维持体液平衡，补充营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活动与休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胸腔闭式引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73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Comic Sans MS"/>
              </a:rPr>
              <a:t>肺癌术后护理措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3152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适体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未恢复，头偏于一侧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稳定后，半坐卧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肺叶切除或者楔形切除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半卧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左或右侧卧位，建议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健侧卧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促进患侧肺复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全肺切除，平卧，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1/4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侧卧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血痰或支气管瘘管者，患侧卧位并通知医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Comic Sans MS"/>
              </a:rPr>
              <a:t>肺癌术后护理措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80720" y="1980720"/>
            <a:ext cx="5715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维持生命体征稳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、心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：注意有无呼吸窘迫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血氧饱和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3962520" cy="5333760"/>
          </a:xfrm>
          <a:prstGeom prst="rect">
            <a:avLst/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ffb800"/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1.</a:t>
            </a:r>
            <a:r>
              <a:rPr b="1" lang="zh-CN" sz="3600" spc="-1" strike="noStrike">
                <a:solidFill>
                  <a:srgbClr val="00b200"/>
                </a:solidFill>
                <a:latin typeface="Comic Sans MS"/>
              </a:rPr>
              <a:t>吸烟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Wingdings"/>
                <a:ea typeface="Wingdings"/>
              </a:rPr>
              <a:t>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是公认的肺癌危险因素。烟雾中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多种致癌物（苯并芘）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吸烟者肺癌发生率比非吸烟者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-2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倍，死亡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-3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倍（被动吸烟者危险性增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肺 癌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病 因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857840" y="91440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1173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Comic Sans MS"/>
              </a:rPr>
              <a:t>肺癌术后护理措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39116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呼吸频率，幅度及节律，呼吸音；有无发绀、气促及缺氧等症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宋体"/>
              </a:rPr>
              <a:t>鼓励病人深呼吸，有效咳嗽，咳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，必要时行叩背排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稀释痰液，可行雾化吸入等，必要时行纤支镜灌洗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Comic Sans MS"/>
              </a:rPr>
              <a:t>肺癌术后护理措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54280" y="2198520"/>
            <a:ext cx="6556320" cy="351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与休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鼓励早期下床活动，预防肺不张，改善肺功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手与关节的活动，防止废用性萎缩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Comic Sans MS"/>
              </a:rPr>
              <a:t>肺癌术后护理措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32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703dff"/>
                </a:solidFill>
                <a:latin typeface="宋体"/>
              </a:rPr>
              <a:t>胸腔闭式引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胸腔闭式引流常规护理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引流液量、色和性状，当引流出多量血液（每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-2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，应考虑有活动性出血，需立即通知医师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一侧全肺切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管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续夹闭，间断开放，以保证术后患侧胸腔内有一定的渗液，减轻或纠正明显的纵隔移位。每次放液量不宜超                             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速度宜慢，避免快速多量放液引起纵膈突然移位，导致心脏骤停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Comic Sans MS"/>
              </a:rPr>
              <a:t>肺癌术后并发症预防及护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26960" y="2444760"/>
            <a:ext cx="612756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肺不张，肺部感染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急性肺水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支气管胸膜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687096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急性肺水肿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3657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控制补液的量与速度，防止负荷过重导致肺水肿：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全肺切除术后应控制钠盐摄入量，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小时补液量宜控制在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内，速度以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20-30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/min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为宜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入量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麻醉苏醒后适量饮水与进食：流食－半流食－普食。要求高蛋白，高热量，丰富维生素饮食，保证营养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6168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Comic Sans MS"/>
              </a:rPr>
              <a:t>肺癌健康教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362320" y="159984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早期诊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鼓励戒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院指导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与深呼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与活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口腔卫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补充营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跟踪化疗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期复查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Comic Sans MS"/>
              </a:rPr>
              <a:t>思考题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癌的术前指导有哪些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张力性气胸的急救措施是（   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闭式胸膜腔引流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粗针头刺入胸膜腔排气减压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使用抗生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开胸探查、修补损伤裂口   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注射破伤风抗毒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6643440" y="423720"/>
            <a:ext cx="69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宋体"/>
              </a:rPr>
              <a:t>B</a:t>
            </a:r>
            <a:endParaRPr b="1" lang="en-US" sz="6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最易发生骨折的肋骨是（   ）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第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肋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第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肋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第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肋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第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第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肋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6199200" y="609480"/>
            <a:ext cx="6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宋体"/>
              </a:rPr>
              <a:t>C</a:t>
            </a:r>
            <a:endParaRPr b="1" lang="en-US" sz="6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当闻及胸壁伤口处有气体出入的声音时是以下哪种损伤 （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多处肋骨骨折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闭合性气胸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开放性气胸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张力性气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损伤性血胸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5666040" y="1143000"/>
            <a:ext cx="6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宋体"/>
              </a:rPr>
              <a:t>C</a:t>
            </a:r>
            <a:endParaRPr b="1" lang="en-US" sz="6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长期大量吸烟：重要致病因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01956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肺癌最常见的早期症状是（   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刺激性咳嗽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咯血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脓痰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胸背疼痛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胸闷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6331680" y="68580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宋体"/>
              </a:rPr>
              <a:t>A</a:t>
            </a:r>
            <a:endParaRPr b="1" lang="en-US" sz="6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肺癌手术后的护理重点是（    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营养支持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呼吸道管理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维持循环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预防感染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．镇静止痛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6414840" y="609480"/>
            <a:ext cx="69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宋体"/>
              </a:rPr>
              <a:t>B</a:t>
            </a:r>
            <a:endParaRPr b="1" lang="en-US" sz="6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张先生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岁。因胸部操作放置胸腔闭式引流管，睡眠时翻身不慎将胸腔闭式引流管自胸壁伤口拉出。首要的措施是（    ）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报告医师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送手术室处理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给病人吸氧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用手指捏紧引流口周围皮肤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将脱落的引流管重新插入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1205640" y="152388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宋体"/>
              </a:rPr>
              <a:t>D</a:t>
            </a:r>
            <a:endParaRPr b="1" lang="en-US" sz="6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1600200" y="2895480"/>
            <a:ext cx="698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WordArt 3"/>
          <p:cNvSpPr txBox="1"/>
          <p:nvPr/>
        </p:nvSpPr>
        <p:spPr>
          <a:xfrm>
            <a:off x="1447920" y="1066680"/>
            <a:ext cx="601956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99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 YOU</a:t>
            </a:r>
            <a:endParaRPr b="1" lang="en-US" sz="32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342" name="Object 4" descr=""/>
          <p:cNvPicPr/>
          <p:nvPr/>
        </p:nvPicPr>
        <p:blipFill>
          <a:blip r:embed="rId1"/>
          <a:stretch/>
        </p:blipFill>
        <p:spPr>
          <a:xfrm>
            <a:off x="3733920" y="365760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肺 癌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病 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029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某些化学、放射性物质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2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石棉、煤焦油、沥青、石油、无机烟草加热产物、铬、镍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芥子气等与肺癌有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1-39"/>
          <p:cNvPicPr/>
          <p:nvPr/>
        </p:nvPicPr>
        <p:blipFill>
          <a:blip r:embed="rId1"/>
          <a:stretch/>
        </p:blipFill>
        <p:spPr>
          <a:xfrm>
            <a:off x="5562720" y="1219320"/>
            <a:ext cx="3047760" cy="5181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肺 癌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病 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6019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大气污染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煤、石油燃烧废气、公路沥青、厨房油烟气（含苯并芘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城市居民较农村发病率高 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肺 癌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病 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电离辐射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自然界、医疗、工矿产生的辐射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体内在因素：如免疫因素，代谢活动，遗传因素等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它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肺癌解剖学分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右肺多于左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叶多于下叶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央型：起源于主支气管、肺叶支气管，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位置靠近肺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-70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围型：起源于肺段支气管以下，在肺的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围部分，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0-40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5T01:42:44Z</dcterms:created>
  <dc:creator/>
  <dc:description/>
  <dc:language>en-US</dc:language>
  <cp:lastModifiedBy>Microsoft</cp:lastModifiedBy>
  <dcterms:modified xsi:type="dcterms:W3CDTF">2014-03-13T01:35:19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3</vt:lpwstr>
  </property>
  <property fmtid="{D5CDD505-2E9C-101B-9397-08002B2CF9AE}" pid="3" name="Version">
    <vt:r8>1</vt:r8>
  </property>
</Properties>
</file>