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A7C-9B4C-4CE2-AC21-9119919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859-67A6-48C3-AF8F-B8B389DE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551-18B1-4EC5-9833-981345EF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F71-2F44-4634-BA05-7DC819BF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D85-60B2-4807-8454-DF13EA5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6362-71C9-4EDD-9D61-0E78BB43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1DDA-627C-4655-80CB-5EB3029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543-D756-450E-A27B-762FC2E0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08D-77C2-4125-B8D5-51449DA2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5F51-FAF0-4A14-831F-694BDCDE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816-E734-4A53-AD66-23B9C24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AF48-971D-43D8-AE92-6EFCF314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2613-E599-4AFC-9B4C-518B124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3091-B871-490F-8FEC-041BCFDE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632-FD85-47A6-8614-55C6A45D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89C9-2B68-41E4-B39B-41C2F2B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1101-C53C-4B00-8BD5-35FF9456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30AC-1B58-42A4-8475-936B83F4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EED9-92AE-4D54-9041-EE4D2636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08C6-9D95-4BC0-8AB3-CB32E42A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F10C-378D-4A98-83D5-15AB95F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A96-4540-4650-9AE4-BF3FFCAC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91C0-F36C-4B41-9B92-95C8CFF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31DF-E1B4-4039-9EE1-0F1DB006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8183-6F62-41DB-8185-F75481E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95F5-D4A5-455B-AA76-E6004D26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E30E-6C16-4415-B0FC-F5E4BD2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B6A9-D0D0-48D5-B228-8D961FFF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C7C4-C3E7-4AC8-A64F-248C77A8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A491-BE7B-4B73-ABE6-48CFEB10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4667-FF33-4F70-B80A-FE15163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ABCF-85F9-44B4-800F-C199A0D8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B13-3F4B-44A6-91F7-8908820D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1855-5393-4C9F-911F-E2CCA0AE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BA17-AC29-42D6-8B9E-DDAF172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138D-CE63-4966-BBA7-8A7B2CB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B615-075B-47BD-8508-2DF905ED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FD52-86EC-4213-BA04-44585838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CAD8-7DD3-4D23-9E98-A71B6B2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A7AB-3C03-465A-833A-FCB6888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AB14-FA90-4A96-A935-B3A3B6F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51D7-3BEC-4681-83AE-BF9F88B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7A568-116C-4E04-903C-BF5C4AD7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D24-F8E8-4810-B4AA-12B5A9B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7612-F060-4C5E-B51C-890A12A4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BFC5-CD63-47E4-BFB8-5186CD24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FB4F-0FE5-4D23-BF86-476177E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C39D-E774-415B-AEFB-9713D9C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24D73-E104-4925-847D-EDBB70D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9893E-CC51-4427-8469-C22FC1C9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5310-CCCE-48DC-910A-39A254CB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A3FD-1C71-4BBC-B285-7D56DD4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88A8-2770-4FF5-8B4C-F049B18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444C-161B-46DC-9817-4ADAB06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0F0-E69C-478E-BD52-8DFFC78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AE6C1-4F52-4CF4-B6B7-8E310FC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01C7-98F4-4EE6-B098-41068B2B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BA56-56C7-4CBD-8A81-C5006C4A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71D51-4888-4F6C-98A2-FFDFCD4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ADEB-689A-437D-8EB8-73D6CA3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3EDCF-FD2E-4259-830F-82251C1C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A6183-9CF5-4EB1-A5CB-31584B97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32C9-E237-4DDB-9CB1-A556DC7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95000" y="-360"/>
            <a:ext cx="89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6604-21B7-42EB-8DCB-AFD9BEA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7CD7-0D7B-4D85-90B8-DC29CBA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91E-E86D-411E-8061-A226639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0841-B5A4-48E3-8871-724A6F1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96D0-02DB-435D-A0C1-9A9DC91D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8D01-130F-447B-BCC0-CD45376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07760" y="3800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1FED-92D1-42DD-B0C0-3A3F45DC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5400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668640" y="1037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3936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5400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668640" y="3800880"/>
            <a:ext cx="287064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70484-9CC4-414E-BB51-66528A5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7760" y="1037880"/>
            <a:ext cx="43506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360" y="3800880"/>
            <a:ext cx="891540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E9F-4A2F-4769-92A3-F3E5DB1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DSPD3736"/>
          <p:cNvPicPr/>
          <p:nvPr/>
        </p:nvPicPr>
        <p:blipFill>
          <a:blip r:embed="rId2"/>
          <a:stretch/>
        </p:blipFill>
        <p:spPr>
          <a:xfrm>
            <a:off x="0" y="5921280"/>
            <a:ext cx="362736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2768760" y="5516640"/>
            <a:ext cx="934920" cy="1342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0"/>
            <a:ext cx="990612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260280"/>
            <a:ext cx="990612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404640"/>
            <a:ext cx="990612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CF97-50E0-4D5D-AD33-8808695D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院徽"/>
          <p:cNvPicPr/>
          <p:nvPr/>
        </p:nvPicPr>
        <p:blipFill>
          <a:blip r:embed="rId3"/>
          <a:stretch/>
        </p:blipFill>
        <p:spPr>
          <a:xfrm>
            <a:off x="0" y="0"/>
            <a:ext cx="1900080" cy="107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e686f5f5917143f8f3d38536"/>
          <p:cNvPicPr/>
          <p:nvPr/>
        </p:nvPicPr>
        <p:blipFill>
          <a:blip r:embed="rId2"/>
          <a:stretch/>
        </p:blipFill>
        <p:spPr>
          <a:xfrm>
            <a:off x="0" y="0"/>
            <a:ext cx="3159000" cy="39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e686f5f5917143f8f3d38536"/>
          <p:cNvPicPr/>
          <p:nvPr/>
        </p:nvPicPr>
        <p:blipFill>
          <a:blip r:embed="rId3"/>
          <a:stretch/>
        </p:blipFill>
        <p:spPr>
          <a:xfrm>
            <a:off x="3159000" y="3168720"/>
            <a:ext cx="3071880" cy="36892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"/>
          <p:cNvGrpSpPr/>
          <p:nvPr/>
        </p:nvGrpSpPr>
        <p:grpSpPr>
          <a:xfrm>
            <a:off x="0" y="3168720"/>
            <a:ext cx="9905760" cy="765000"/>
            <a:chOff x="0" y="3168720"/>
            <a:chExt cx="9905760" cy="765000"/>
          </a:xfrm>
        </p:grpSpPr>
        <p:sp>
          <p:nvSpPr>
            <p:cNvPr id="50" name="Rectangle 25"/>
            <p:cNvSpPr/>
            <p:nvPr/>
          </p:nvSpPr>
          <p:spPr>
            <a:xfrm>
              <a:off x="0" y="3168720"/>
              <a:ext cx="9905760" cy="765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26"/>
            <p:cNvSpPr/>
            <p:nvPr/>
          </p:nvSpPr>
          <p:spPr>
            <a:xfrm>
              <a:off x="0" y="3429000"/>
              <a:ext cx="9905760" cy="2890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7"/>
            <p:cNvSpPr/>
            <p:nvPr/>
          </p:nvSpPr>
          <p:spPr>
            <a:xfrm>
              <a:off x="0" y="3573360"/>
              <a:ext cx="9905760" cy="289080"/>
            </a:xfrm>
            <a:prstGeom prst="rect">
              <a:avLst/>
            </a:prstGeom>
            <a:solidFill>
              <a:srgbClr val="ffffff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29"/>
          <p:cNvSpPr/>
          <p:nvPr/>
        </p:nvSpPr>
        <p:spPr>
          <a:xfrm>
            <a:off x="0" y="3933720"/>
            <a:ext cx="3159000" cy="2924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520" y="756720"/>
            <a:ext cx="89154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3040" y="263016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DSPD3736"/>
          <p:cNvPicPr/>
          <p:nvPr/>
        </p:nvPicPr>
        <p:blipFill>
          <a:blip r:embed="rId2"/>
          <a:stretch/>
        </p:blipFill>
        <p:spPr>
          <a:xfrm>
            <a:off x="0" y="5921280"/>
            <a:ext cx="3627360" cy="963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2768760" y="5516640"/>
            <a:ext cx="934920" cy="1342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90612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260280"/>
            <a:ext cx="990612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404640"/>
            <a:ext cx="990612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46FA-09B5-40FD-AE37-9A6FA465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DSPD3736"/>
          <p:cNvPicPr/>
          <p:nvPr/>
        </p:nvPicPr>
        <p:blipFill>
          <a:blip r:embed="rId2"/>
          <a:stretch/>
        </p:blipFill>
        <p:spPr>
          <a:xfrm>
            <a:off x="0" y="5921280"/>
            <a:ext cx="3627360" cy="96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2768760" y="5516640"/>
            <a:ext cx="934920" cy="1342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0"/>
            <a:ext cx="990612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260280"/>
            <a:ext cx="990612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404640"/>
            <a:ext cx="990612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5881-2FBE-4445-B640-3DC48BEC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DSPD3736"/>
          <p:cNvPicPr/>
          <p:nvPr/>
        </p:nvPicPr>
        <p:blipFill>
          <a:blip r:embed="rId2"/>
          <a:stretch/>
        </p:blipFill>
        <p:spPr>
          <a:xfrm>
            <a:off x="0" y="5921280"/>
            <a:ext cx="3627360" cy="963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2768760" y="5516640"/>
            <a:ext cx="934920" cy="1342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0"/>
            <a:ext cx="990612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0" y="260280"/>
            <a:ext cx="9906120" cy="289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0" y="404640"/>
            <a:ext cx="9906120" cy="28908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67C-FAA3-4B72-8882-FCDC00D7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63480" y="1397160"/>
            <a:ext cx="88329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60240" y="157320"/>
            <a:ext cx="883296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464646"/>
              </a:solidFill>
              <a:latin typeface="黑体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6603840" y="62485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660240" y="6248520"/>
            <a:ext cx="587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-360" y="6248520"/>
            <a:ext cx="57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0516-9897-4A64-A2E4-D7C5725CC8C1}" type="slidenum">
              <a:rPr b="1" lang="en-US" sz="14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7950-DAB9-4F63-A399-37082551DC8F}" type="slidenum">
              <a:rPr b="0" lang="zh-CN" sz="1400" spc="-1" strike="noStrike">
                <a:solidFill>
                  <a:srgbClr val="33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45240" y="4869000"/>
            <a:ext cx="35272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5-03-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8"/>
          <p:cNvSpPr txBox="1"/>
          <p:nvPr/>
        </p:nvSpPr>
        <p:spPr>
          <a:xfrm>
            <a:off x="1136520" y="1773360"/>
            <a:ext cx="7991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31680">
                  <a:solidFill>
                    <a:srgbClr val="eaeaea"/>
                  </a:solidFill>
                  <a:miter/>
                </a:ln>
                <a:solidFill>
                  <a:srgbClr val="040100"/>
                </a:solidFill>
                <a:latin typeface="黑体"/>
              </a:rPr>
              <a:t>肺炎护理查房</a:t>
            </a:r>
            <a:endParaRPr b="1" lang="en-US" sz="7200" spc="1" strike="noStrike">
              <a:ln w="31680">
                <a:solidFill>
                  <a:srgbClr val="eaeaea"/>
                </a:solidFill>
                <a:miter/>
              </a:ln>
              <a:solidFill>
                <a:srgbClr val="040100"/>
              </a:solidFill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护理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环境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病人提供安静、整洁、舒适的病房，保持室内空气新鲜、洁净，注意通风。维持室温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~20℃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和湿度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~6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饮食护理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慢性咳嗽者，能量消耗增加，应与高蛋白、高维生素、足够热量的饮食。注意饮食习惯，避免油腻、辛辣刺激食物，影响呼吸道防御能力。每天饮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，足够的水分可保证呼吸道黏膜的湿润和病变黏膜的修复，利于痰液稀释和排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情观察：密切观察 咳嗽、咳痰情况，详细记录痰液的色、量、质。正确收集痰标本，及时送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护理措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7600" y="1357200"/>
            <a:ext cx="8915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持病房安静、整洁。给予足够热量的饮食。注意饮食习惯，避免油腻、辛辣刺激食物，影响呼吸道防御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促进有效排痰：指导病人掌握有效咳嗽的正确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患者卧床休息抬高床头有利于呼吸。遵医嘱给予低流量吸氧，鼓励患者有意识地使用呼吸技术（包括缩拢嘴唇呼吸和用膈肌呼吸）以增加肺活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效咳嗽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病人尽可能采用坐位，先进行深而慢的腹式呼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~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后深呼吸至膈肌完全下降，屏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继而缩唇（撅嘴），缓慢地通过口腔将肺内气体呼出，再深呼吸一口气后屏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~5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身体前倾从胸腔进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短促有力的咳嗽，咳嗽同时收缩腹肌，或用手按压上腹部，帮助痰液咳出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常变换体位有利于痰液咳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措施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遵医嘱使用消炎化痰药物，以减少和稀释痰液。并密切观察 咳嗽、咳痰情况，详细记录痰液的色、量、质。加强巡视，出现呼吸异常立即报告医生，并准医嘱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效果评价：患者咳嗽咳痰症状好转，住院期间未发生呼吸困难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营养失调：低于机体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期目标：患者住院期间营养足够，不继续消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s_6df12a4452d2967f28b0563d094e0cf1149384"/>
          <p:cNvPicPr/>
          <p:nvPr/>
        </p:nvPicPr>
        <p:blipFill>
          <a:blip r:embed="rId1"/>
          <a:stretch/>
        </p:blipFill>
        <p:spPr>
          <a:xfrm>
            <a:off x="6356520" y="3789360"/>
            <a:ext cx="3549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指导病人进食低盐低脂、易消化的优质蛋白，新鲜水果蔬菜，以补充维生素类；也可适当加食蘑菇，黑木耳，银耳，百合等增强免疫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进食前后漱口，保持口腔湿润，清洁，以增进食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防止餐前发生不愉快或痛苦的事件；提供良好的就餐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效果评价：患者住院期间未出现进一步营养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知识缺乏：缺乏疾病预防和保健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期目标：患者了解肺炎疾病预防和保健相关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措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向病人及其家属讲解肺炎的病因和诱因，注意保暖，预防感冒。不去人多的场合，注意自我保护。卧床休息，适当活动但应限制活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适当饮水，配合呼吸运动，促进痰液排出，减少并发症。教会患者有效咳嗽及腹式呼吸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指导患者遵医嘱按时服药，配合吸氧，了解各项治疗用药的作用、不良反应。严格控制输液速度，发现问题及时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预防跌倒坠床，遵循起床三部曲，睡觉时上床栏，下床活动应有人陪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66360" y="57132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效果评价：患者了解肺炎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防和保健相关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img20101214115628483"/>
          <p:cNvPicPr/>
          <p:nvPr/>
        </p:nvPicPr>
        <p:blipFill>
          <a:blip r:embed="rId1"/>
          <a:stretch/>
        </p:blipFill>
        <p:spPr>
          <a:xfrm>
            <a:off x="6621480" y="981000"/>
            <a:ext cx="3284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潜在并发症  新发感染  与肺部炎症及白细胞减低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期目标：患者住院期间无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u=2649227069,700140169&amp;fm=0&amp;gp=0"/>
          <p:cNvPicPr/>
          <p:nvPr/>
        </p:nvPicPr>
        <p:blipFill>
          <a:blip r:embed="rId1"/>
          <a:stretch/>
        </p:blipFill>
        <p:spPr>
          <a:xfrm>
            <a:off x="6524640" y="2786040"/>
            <a:ext cx="3119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701640" y="132840"/>
            <a:ext cx="88329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0100"/>
                </a:solidFill>
                <a:latin typeface="华文细黑"/>
                <a:ea typeface="华文细黑"/>
              </a:rPr>
              <a:t>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肺炎是指包括终末气道，肺泡腔及肺间质等在内的肺实质炎症，以感染最常见，多种因素可引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措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住院期间，尽量减少探视，告知病人天气变化时要及时添加衣服，避免受凉和过度劳累引起的免疫力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指导病人加强营养，增强机体抵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遵医嘱使用升白细胞、抗炎等药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密切监测患者生命体征、发现问题及时报告医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效果评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住院期间无新发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6"/>
          <p:cNvSpPr txBox="1"/>
          <p:nvPr/>
        </p:nvSpPr>
        <p:spPr>
          <a:xfrm>
            <a:off x="1857240" y="2205000"/>
            <a:ext cx="662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谢谢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41240" y="1413000"/>
            <a:ext cx="8420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肺炎的症状变化较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症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咳嗽、咳痰，或原有呼吸道症状加重，并出现脓性痰或血痰，伴或不伴胸痛。病变范围大者可呼吸困难，呼吸窘迫。大多数患者有发热。早期肺部无明显异常，重症患者可有呼吸频率增快、鼻翼扇动、发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体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典型时有肺实变，如叩诊浊音、触觉语颤增强和支气管呼吸音等，也可闻及湿性罗音。并发胸腔积液者，患侧胸部叩诊浊音，触觉语颤减弱，呼吸音减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350640" y="549360"/>
            <a:ext cx="9251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治疗要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肺炎球菌肺炎的治疗原则   为积极控制感染、对症治疗及处理并发症。肺炎球菌肺炎首选青霉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抗菌治疗的标准疗程一般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-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。并发感染性休克时，除早期使用足量、有效的抗菌药物之外，尚需采取补充血容量、纠正酸中毒、应用血管活性药物和糖皮质激素等多项抗休克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90583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案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：徐选炳：男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3216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患者因反复咳嗽咳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入院。患者自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前无明显诱因下开始出现畏寒，疲倦，乏力，轻微咳嗽，随后开始发热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9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服用莲花清瘟胶囊两天后症状未缓解，仍反复发热，咳嗽加重，咳较多白色粘稠痰，无痰中带血、无头晕、头痛、气紧、心悸。夜间阵发性呼吸困难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到江滨医院就诊，肺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示：两肺陈旧性病变，肺气肿。给予头孢类抗生素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，咳嗽逐渐好转，痰量减少。未进一步治疗转入我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院查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者男性，发育正常，体型消瘦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:36.4C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6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4/58mmHg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双肺扣诊呈清音，呼吸音弱，双下肺可闻及哮鸣音，心律齐，偶有早搏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血常规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白细胞计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37*10E9/L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医嘱下书面病危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复查白细胞计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12*10E9/L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患者一般情况科，仍有轻度咳嗽，咳白色粘稠痰，病情重，心功能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常规：白细胞计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37*10E9/L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粒细胞比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2.3%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淋巴细胞比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0.9%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单核粒细胞比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6.8%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嗜酸性粒细胞比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.0%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小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E9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生化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LT60U/L,GOT73U/L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淀粉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43U/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脂肪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5.3U/L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肾功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UN6.9mmol,CR5.3U/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D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聚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45UG/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冠心病  冠脉支架植入术后 心功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白细胞减少查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肝功能异常查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胆囊结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肾囊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右肾萎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下肢动脉周样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低蛋白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陈旧性肺结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颈动脉硬化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126227223834_t"/>
          <p:cNvPicPr/>
          <p:nvPr/>
        </p:nvPicPr>
        <p:blipFill>
          <a:blip r:embed="rId1"/>
          <a:stretch/>
        </p:blipFill>
        <p:spPr>
          <a:xfrm>
            <a:off x="6238800" y="2143080"/>
            <a:ext cx="29163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-360"/>
            <a:ext cx="8915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护理诊断及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360" y="1037880"/>
            <a:ext cx="8915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清理呼吸道低效   与呼吸道分泌物过多、粘稠导致痰液不易咳出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期目标：有效咳痰，住院期间无呼吸困难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图片 3" descr="bk_d4994cc8b0ec9323ee850d8165d70d08_qqFYzi.jpg"/>
          <p:cNvPicPr/>
          <p:nvPr/>
        </p:nvPicPr>
        <p:blipFill>
          <a:blip r:embed="rId1"/>
          <a:stretch/>
        </p:blipFill>
        <p:spPr>
          <a:xfrm>
            <a:off x="4238640" y="4214880"/>
            <a:ext cx="40003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3:54:39Z</dcterms:created>
  <dc:creator>猪猪猫.CN</dc:creator>
  <dc:description/>
  <dc:language>en-US</dc:language>
  <cp:lastModifiedBy>himumu</cp:lastModifiedBy>
  <dcterms:modified xsi:type="dcterms:W3CDTF">2015-03-18T13:34:33Z</dcterms:modified>
  <cp:revision>32</cp:revision>
  <dc:subject/>
  <dc:title>2008年8月护理查房</dc:title>
</cp:coreProperties>
</file>