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6.gif" ContentType="image/gif"/>
  <Override PartName="/ppt/media/image10.jpeg" ContentType="image/jpeg"/>
  <Override PartName="/ppt/media/image25.gif" ContentType="image/gif"/>
  <Override PartName="/ppt/media/image5.jpeg" ContentType="image/jpeg"/>
  <Override PartName="/ppt/media/image11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image15.png" ContentType="image/png"/>
  <Override PartName="/ppt/media/image22.gif" ContentType="image/gif"/>
  <Override PartName="/ppt/media/image19.png" ContentType="image/png"/>
  <Override PartName="/ppt/media/image18.gif" ContentType="image/gif"/>
  <Override PartName="/ppt/media/image2.jpeg" ContentType="image/jpeg"/>
  <Override PartName="/ppt/media/image27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EB9-50ED-4E60-84F4-508F25C7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427-9DD5-4A99-B430-022AE84C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DFB-A45F-432B-87DC-E9613EBE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DBB-32A3-43FF-9141-91A0EF6C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EAA-7A07-421C-AD21-92D97092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250-87DA-456D-855B-1F0BBF1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64B-41BF-4F39-8A16-B196941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9E6-A628-4BB3-8F82-6EF4887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1FF-DD11-48CA-8A96-910E224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5F1-B2D9-4F4D-A60A-B4DA6F3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546-F48B-400A-8ACF-1CA0C09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908-5990-48BE-9865-33CC8D96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F6A5-255F-4E36-A5ED-532B94D07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1035000" y="50209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骨科 张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1582560" y="2816280"/>
            <a:ext cx="5048280" cy="51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华文隶书"/>
              </a:rPr>
              <a:t>骨盆骨折病人护理查房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2876760" cy="23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07D-9AB0-4931-97C1-A879C6EDE5B5}" type="slidenum">
              <a:t>1</a:t>
            </a:fld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骨盆“翻书样”损伤"/>
          <p:cNvPicPr/>
          <p:nvPr/>
        </p:nvPicPr>
        <p:blipFill>
          <a:blip r:embed="rId2"/>
          <a:stretch/>
        </p:blipFill>
        <p:spPr>
          <a:xfrm>
            <a:off x="2050920" y="1268280"/>
            <a:ext cx="5329440" cy="4916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87280" y="333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骨盆环单侧骨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D28-DF55-4C78-8005-9486D9087339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76240" y="790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0360" y="2421000"/>
            <a:ext cx="46976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绝大多数有强大暴力外伤史，主要是车祸、高空坠落和工业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常常是严重全身多发性损伤，易伴有低血压和休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发现下列专有体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骨盆挤压分离试验阳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肢体长度不对称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阴部的瘀斑是耻骨和坐骨骨折的特有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四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影像学检查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光片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BE3-6DD1-49EA-AAF8-B59FDA397FB8}" type="slidenum">
              <a:t>11</a:t>
            </a:fld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发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腹膜后血肿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常引起失血性休克和麻痹性肠梗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尿道或膀胱损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直肠损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经损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腹腔内脏损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42000" y="2205000"/>
            <a:ext cx="340200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899-91D3-4929-A396-41B3913BC0A8}" type="slidenum">
              <a:t>12</a:t>
            </a:fld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骨盆骨折处理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骨盆边缘性骨折。只需卧床休息。髂前上棘骨折病人置于屈髋位；坐骨结节骨折置于伸髋位。卧床休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骨盆单环骨折有分离时，可用骨盆兜带悬吊牵引固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骨盆双环骨折有纵向错位时，可在麻醉下行手法复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500-0A44-45AB-A578-9EC756777009}" type="slidenum">
              <a:t>13</a:t>
            </a:fld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408720" cy="4852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333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骨盆兜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A78-481E-48B5-BBBE-5B6BCD96B0D0}" type="slidenum">
              <a:t>14</a:t>
            </a:fld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4360" y="765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病史介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1" name=""/>
          <p:cNvSpPr/>
          <p:nvPr/>
        </p:nvSpPr>
        <p:spPr>
          <a:xfrm>
            <a:off x="1188720" y="1628640"/>
            <a:ext cx="679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床  李向阳 患者 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 因外伤致右髋部疼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受限一小时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入院，入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.P.R.BP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均正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线示右骨盆骨折，遗嘱给予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肿消炎支持对症治疗，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在腰硬联合麻醉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骨盆骨折切开复位内固定术，术后安返，遗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予止血，消肿，等对症治疗。患者目前处于恢复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4C2-4CA6-48D4-8822-CBC739E7283C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26920" y="476280"/>
            <a:ext cx="1638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护理体检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1125360"/>
            <a:ext cx="59788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：清楚，配合治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生命体征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T36.6℃ P80 R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P101/62mmH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面部：面色红润，口唇甲床微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未见紫绀，口腔黏膜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营养与体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体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动体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0" y="3629160"/>
          <a:ext cx="38088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62916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77120" y="3629160"/>
          <a:ext cx="380880" cy="46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362916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611280" y="1413000"/>
            <a:ext cx="1584360" cy="145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62-AFEA-46B0-941D-F671086A8839}" type="slidenum">
              <a:t>16</a:t>
            </a:fld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既往史：无        过敏史：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吸烟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       饮酒：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饮食：正常         忌食：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眠：正常         药物辅助：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理：部分依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：改变需要他人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护理体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F50-B7A1-4D02-BF5E-A7215D7D25D7}" type="slidenum">
              <a:t>17</a:t>
            </a:fld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望：右髋部肿胀，皮肤擦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触：右髋部叩压痛阳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：右下肢拒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殊检查：骨盆分离挤压试验阳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19280" y="692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专科情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FB2-8F19-43CC-84C7-FAEFC72144D2}" type="slidenum">
              <a:t>18</a:t>
            </a:fld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260280"/>
            <a:ext cx="11239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护理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02444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68F-0727-4569-862C-BEC1E9A8BBC9}" type="slidenum">
              <a:t>19</a:t>
            </a:fld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24000" y="404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2960" y="1471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相关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13372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病史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8526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护理体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50028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护理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4080" y="429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护理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538-0318-46E4-B676-2CCF6DD11FA3}" type="slidenum">
              <a:t>2</a:t>
            </a:fld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1970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术前护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疼痛 恐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缺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眠形态的紊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4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在并发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5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躯体移动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6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皮肤完整性受损的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自理缺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8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发生失血性休克的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F0A-EE96-4F7D-9F02-07C60B130416}" type="slidenum">
              <a:t>20</a:t>
            </a:fld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疼痛 恐惧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合理应用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药物性止痛措施，分散注意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心理护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尊重并接受病人对疼痛的反应，建立良好的护患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协助患者取舒适体位，减轻病人疼痛，为病人创造适宜的环境，避免过于噪杂或是寂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患者心理压力大，害怕自己不能恢复正常。护理人员应关心体贴患者，多与之沟通，使其在短时间内尽快接受护理指导，积极配合治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 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疼痛缓解，患者能接受护理指导，并积极配合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5E6-3E3D-472C-82B0-161D39945768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缺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向病人及家属介绍疾病的相关知识，及术前后的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经常和患者交流，增加患者的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: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患者进行相应的功能锻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及家属对该疾病有初步的认识，并能配合进行正确的功能锻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CC9-6A45-46FF-9C52-C81C9BC598E0}" type="slidenum">
              <a:t>22</a:t>
            </a:fld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睡眠形态的紊乱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除紧张的情绪，安抚患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营造安逸舒适的睡眠环境，促进患者入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减轻患者疼痛等不适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患者睡眠情况尚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4C2-519A-46EB-97CB-5DAF6607889A}" type="slidenum">
              <a:t>23</a:t>
            </a:fld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在并发症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根据医嘱正确使用抗生素。及时换药，操作遵循无菌原则，保持单位的清洁干燥，加强营养，增强抵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指导患者进食清淡易消化饮食，多食粗纤维食物。指导腹部环形按摩。指导床上活动，促进肠蠕动。必要时给予缓泻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指导患者多饮水防止泌尿系统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指导使用床头手拉棒，做扩胸运动，防止肺部并发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未出现潜在并发症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C56-A3F1-4F92-9E20-FBB64AFBA640}" type="slidenum">
              <a:t>24</a:t>
            </a:fld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5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躯体移动障碍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协助卧床病人洗漱、进食、排泄及个人卫生活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2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移动病人躯体时，动作稳、准、轻，以免加重肢体损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3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病人疾病康复过程，使病人心中有数，增强自理信心，并逐渐增加自理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4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并鼓励病人做力所能及的自理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5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并协助病人进行功能锻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在帮助下可以进行部分独立进行躯体活动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7FD-8AF2-4F2C-BC05-9E792FD38947}" type="slidenum">
              <a:t>25</a:t>
            </a:fld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P6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有皮肤完整性受损的危险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制定翻身表，一种姿势不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小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避免局部长期受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2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翻身避免托、拉、拽等动作，防止皮肤擦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避免局部刺激，保持床铺平整、清洁，干燥、无皱褶、无渣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3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使用压力缓解工具：质量好的泡沫褥垫，水褥垫，气垫床等。 骨隆突部位可垫气圈或海绵垫。每次更换体位时应观察容易发生褥疮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4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放取便盆时避免推、拉动作，以免损伤皮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5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保持功能体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I6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鼓励摄入充足的营养物质和水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病情允许鼓励下床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O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患者皮肤完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(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043-0382-47AB-B4DB-F7635EE4F2FF}" type="slidenum">
              <a:t>26</a:t>
            </a:fld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生活自理缺陷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协助病人做好生活护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了解病人的生活习惯，尽可能满足日常生活所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生活已部分自理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B70-7D93-4D48-94F4-4BF6355EF7F1}" type="slidenum">
              <a:t>27</a:t>
            </a:fld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8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发生失血性休克的可能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密切观察生命体征，听取病人的主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严密监测病人的血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尿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未有发生休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464-17DB-448D-B1D5-FE574150B567}" type="slidenum">
              <a:t>28</a:t>
            </a:fld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疼痛 恐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缺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眠形态的紊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4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在并发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5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躯体移动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6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皮肤完整性受损的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自理缺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术后护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DA2-68A7-4280-8783-F8C3D4608E30}" type="slidenum">
              <a:t>29</a:t>
            </a:fld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8244000" cy="574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6680" y="11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关知识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01C-215C-43F4-8869-CCAA3A4C5E43}" type="slidenum">
              <a:t>3</a:t>
            </a:fld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P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疼痛 恐惧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合理应用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药物性止痛措施，分散注意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心理护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尊重并接受病人对疼痛的反应，建立良好的护患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3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协助患者取舒适体位，减轻病人疼痛，为病人创造适宜的环境，避免过于噪杂或是寂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患者心理压力大，害怕自己不能恢复正常。护理人员应关心体贴患者，多与之沟通，使其在短时间内尽快接受护理指导，积极配合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 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疼痛缓解，患者能接受护理指导，并积极配合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B40-D611-446B-A7CC-3EBA623FD890}" type="slidenum">
              <a:t>30</a:t>
            </a:fld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缺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向病人及家属介绍疾病的相关知识，及术前后的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经常和患者交流，增加患者的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: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患者进行相应的功能锻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及家属对该疾病有初步的认识，并能配合进行正确的功能锻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D63-7E17-4F5B-BE70-163A1C32968A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睡眠形态的紊乱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除紧张的情绪，安抚患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营造安逸舒适的睡眠环境，促进患者入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减轻患者疼痛等不适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患者睡眠情况尚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1AE-E42A-46AE-B569-61F216AA12E8}" type="slidenum">
              <a:t>32</a:t>
            </a:fld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4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潜在并发症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根据医嘱正确使用抗生素。及时换药，操作遵循无菌原则，保持单位的清洁干燥，加强营养，增强抵抗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指导患者进食清淡易消化饮食，多食粗纤维食物。指导腹部环形按摩。指导床上活动，促进肠蠕动。必要时给予缓泻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指导患者多饮水防止泌尿系统感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指导使用床头手拉棒，做扩胸运动，防止肺部并发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患者复查血常规正常，未出现感染迹象。患者未出现潜在并发症。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9AC-E9B9-423D-ADB1-66A781BF7D94}" type="slidenum">
              <a:t>33</a:t>
            </a:fld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5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躯体移动障碍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协助卧床病人洗漱、进食、排泄及个人卫生活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2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移动病人躯体时，动作稳、准、轻，以免加重肢体损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3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病人疾病康复过程，使病人心中有数，增强自理信心，并逐渐增加自理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4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并鼓励病人做力所能及的自理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5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并协助病人进行功能锻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在帮助下可以进行部分独立进行躯体活动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996-2745-4D2C-BCC0-9D1561B6F40A}" type="slidenum">
              <a:t>34</a:t>
            </a:fld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P6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有皮肤完整性受损的危险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1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制定翻身表，一种姿势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小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避免局部长期受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2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翻身避免托、拉、拽等动作，防止皮肤擦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避免局部刺激，保持床铺平整、清洁，干燥、无皱褶、无渣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3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使用压力缓解工具：质量好的泡沫褥垫，水褥垫，气垫床等。 骨隆突部位可垫气圈或海绵垫。每次更换体位时应观察容易发生褥疮的部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4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放取便盆时避免推、拉动作，以免损伤皮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5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保持功能体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I6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鼓励摄入充足的营养物质和水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病情允许鼓励下床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O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患者皮肤完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2D6-8E84-4540-BA33-27BC9016BE61}" type="slidenum">
              <a:t>35</a:t>
            </a:fld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生活自理缺陷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协助病人做好生活护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了解病人的生活习惯，尽可能满足日常生活所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生活已部分自理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A5B-E8F1-4080-AEF2-9922A7ECC7DF}" type="slidenum">
              <a:t>36</a:t>
            </a:fld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2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影响骨盆环完整的骨折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开始锻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踝泵练习：用力、缓慢、全范围反复屈伸踝关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股四头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腿前侧肌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长练习：在不增加疼痛的前提下尽可能多做，可尽量避免肌肉萎缩，同时促进下肢血液循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腘绳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腿后侧肌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长练习：在不增加疼痛的前提下尽可能多做，可尽避免量肌肉萎缩，同时促进下肢血液循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床外股四头肌肌力练习：将原坐位改为仰卧位。于双膝下垫枕以使髋微屈，双小腿悬于床外，踝部以沙袋、皮筋等作为负荷，踢腿至膝伸直位，缓慢落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时强化上肢肌力，以维持基本身体素质，为体位转移和下地扶拐行走等做准备。但必须在床上进行，必须确保练习时骨盆无受力和移动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584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79856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C85-0440-4456-9C38-FE56504785BA}" type="slidenum">
              <a:t>37</a:t>
            </a:fld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4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伤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必须医生确定骨折开始愈合后，方可开始练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始轻柔的髋关节活动度练习：但必须是在床上仰卧进行，同时必须保证轻柔缓慢主动动作。不可勉强进行，更不能由非专业人员帮助暴力推拿。整个练习过程控制在无或微痛范围内。。先练习髋关节屈伸，再练习内外旋，最后练习外展内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始直抬腿练习；尽量伸直膝关节后直腿抬高至足跟离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，保持至力竭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始后抬腿练习：尽量伸直膝关节后直腿抬高至足尖离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，保持至力竭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C73-27DE-4FA9-9464-F6757C596496}" type="slidenum">
              <a:t>38</a:t>
            </a:fld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916360" y="5734080"/>
            <a:ext cx="132372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19640" y="5734080"/>
            <a:ext cx="132408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2057400" cy="14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640-E38E-4830-AB24-F23B8D517915}" type="slidenum">
              <a:t>39</a:t>
            </a:fld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3960" y="12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关知识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6554880" cy="58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35C-4E4D-4480-BEE7-076D3545097E}" type="slidenum">
              <a:t>4</a:t>
            </a:fld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876400" cy="23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ED7-6531-4F2C-A767-26BECA6C9A12}" type="slidenum">
              <a:t>40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2320" y="5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关知识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404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948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13720" y="4364640"/>
            <a:ext cx="310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传递躯体重量，支持脊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护盆腔内脏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2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422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341360"/>
            <a:ext cx="102240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定义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1809000" y="206064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外伤致局部疼痛、肿胀，会阴部、腹股沟部或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可出现皮下瘀斑，下肢活动和翻身困难，患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肢可有短缩畸形为主要表现，发生在包括骶骨、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骨、髋骨、耻骨、坐骨等部位的骨折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4292640"/>
            <a:ext cx="10224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6944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骨盆骨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27B-0CDA-4094-8D52-0F3D83D3DEBD}" type="slidenum">
              <a:t>5</a:t>
            </a:fld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因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为直接暴力、挤压暴力及高处坠落冲撞所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骨折位置与数量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骨盆边缘撕脱性骨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骶尾骨骨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骨盆环单处骨折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骨盆环是一个骨性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由后方正中的骶尾骨与两侧各一块的髋骨组成，髋骨由骼骨、趾骨和坐骨三部分组成，三骨交汇处形成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骨盆环双处骨折伴骨盆变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907-3F1D-4298-A9A6-C896E1104CA0}" type="slidenum">
              <a:t>6</a:t>
            </a:fld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32000" y="189000"/>
            <a:ext cx="4114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骨盆边缘撕脱性骨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624720" cy="45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E4A-FD89-433A-B35E-B93ABE195149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47628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骶骨骨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178440" cy="403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3095640" cy="39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810-9E1C-4094-A9ED-1952D5307506}" type="slidenum">
              <a:t>8</a:t>
            </a:fld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7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骨盆双侧不稳定，多为侧方挤压性损伤"/>
          <p:cNvPicPr/>
          <p:nvPr/>
        </p:nvPicPr>
        <p:blipFill>
          <a:blip r:embed="rId2"/>
          <a:stretch/>
        </p:blipFill>
        <p:spPr>
          <a:xfrm>
            <a:off x="1619280" y="1341360"/>
            <a:ext cx="5689440" cy="5035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258920" y="333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骨盆环双侧骨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医学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1AB-A29E-493E-93E5-08569A595104}" type="slidenum">
              <a:t>9</a:t>
            </a:fld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2:55:36Z</dcterms:created>
  <dc:creator>User</dc:creator>
  <dc:description/>
  <dc:language>en-US</dc:language>
  <cp:lastModifiedBy>SDWM</cp:lastModifiedBy>
  <dcterms:modified xsi:type="dcterms:W3CDTF">2013-10-11T06:15:30Z</dcterms:modified>
  <cp:revision>10</cp:revision>
  <dc:subject/>
  <dc:title>幻灯片 1</dc:title>
</cp:coreProperties>
</file>