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B94-DBBE-4F0D-982A-059AB1D6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B6C-7052-4A4E-AA4D-C317FED6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39C56-C7A3-4B66-A139-EC8F7E81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04249-E71F-49D7-BA22-4ACB5209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AB8D9-395E-4619-BE0E-86082B10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72873-65D1-444E-8EB4-9BDA419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A18AD-BFD0-4790-A792-25ABFE1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29991-8ED0-47EA-B01C-0144A231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BA460-BE1C-409E-962C-D9B6D281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D347D8-8437-45CD-B784-C581299B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9DBA9-96B2-48F4-8CE2-80124624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91F0C0-63CE-4937-ACAC-45872E42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331-1293-44F5-BA72-97512CEC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F1ADB-2BB5-40D4-89F1-56649B4F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FCB40-4DDD-4A54-89BF-795AB20B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E9D03-1289-4F4E-971A-FF9AB7F9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27979-3C68-45DB-9CB7-2B324B9D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6F8DC-3F0A-4D0F-9CE4-10AF17C2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4BFC1-ADCE-456C-B582-CCE9A4F9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A5E85D-9412-486C-A685-58DDD67C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43E85-57F2-4C3F-A4B9-EA70888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033AB-3592-4862-A302-80FC0E9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9F58A6-C1EE-4AEC-AADA-EE465F88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9FF-5429-455C-81CE-11239C48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3BD67-7CEE-4DC5-A445-D43F14EE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A061F-631D-41B9-A602-A5659C39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6D087-5997-4778-B5B2-389FAC30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07B0E-689B-4B7C-8187-51F97D2E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D51E7-A336-4606-9AD4-81ABC3C8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F03B8-B4ED-4DB3-ACA2-0B00CFCC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83B0-A4BA-4C5C-BB0B-B77F89C7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A2DD0-0AAE-4648-9DC0-A6A85C3E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2CF5-ED0C-4B91-8DBE-FF9CDD2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795EC-900D-492C-A042-3A312810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8BF8-7C9D-43CB-9E2F-54ADDFD3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7D146-46D3-432F-B51B-7F766D89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9BAA-F144-4BFB-B643-7E14EED1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9B34C-D270-4841-86D1-48ED671D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90FAB-832E-4133-9CC4-244B9047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DC9963-AEA3-4851-AA25-6B3C5A9C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42C45-A203-41B3-8CEC-C22222BD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D3724-97E3-48AF-8BDA-8437FC02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A668C-3DD6-47FA-959E-2B368086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2E297-7708-4CE3-92E8-9ED48772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1CCC7-85E8-4C65-8D21-42CFB4E5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08A6-70D0-4863-9B2E-93DE45B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00A61-BE68-47AF-A09F-E6E9F2B8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AC46D-9FA5-4690-8F22-24ABBA2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AF2BE-0139-47C8-870F-6F3A964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1B6CA-0A7F-4B53-B144-33CD97B5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328D3-5A26-4546-BC32-CD4605EA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4914-0EB7-4226-B6B9-06A57925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C231-9B95-47AD-A87B-9C28125F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45E8-924F-47D6-A417-111A1862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6528-4603-454B-AF7D-AFD203E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9999-592F-4EC1-B5D3-6A9EFBF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C94-D11D-42ED-8336-C3D71E30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BE3C-5AD2-432C-AB6D-B4942719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2D77-5489-480F-AE95-7E2AAC8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698F-687B-4F2A-B9B4-105F529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6691-63FB-492F-B446-A8FD9EBE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36D5-0D27-4CA6-9C1B-4CB6C1FE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1806-2B55-4FDE-8925-D1612F38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FFBB8-C451-4A3C-9810-4AE440A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35DB3-2D1C-410F-B1E6-8CD5A36C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8CE9-FF80-4EF6-A2F8-E8C35D42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B1B0-8852-4828-A631-1698E76E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CED-8789-4FAB-8861-E1E1ACD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085CC-1D8E-4E29-A3E1-9467810D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846FA-3D3C-4DC1-90F0-EE1299A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AF42-2BBB-4DD8-9869-B3069AC1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767F2-A212-470F-98C6-6E9FEFC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426E-D384-4229-9829-B9FC378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F814-F09C-44EE-B0B7-CF5B0AE5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3FC6-62A2-43EA-8625-989420A5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D576E-A239-44CB-8DF8-65A78F3E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FBCD-FBED-41E6-89BE-85E009C6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E711E-0E30-4C18-8BB7-D462101A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A36-C56B-497D-A1FB-06838B08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4E50D-0CE8-4069-BD5C-2D7667E7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41F2C-C910-4E39-AB81-C91BAB4E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55C3B-66D2-4BA0-9A11-58C3650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0244-4C85-44E8-A7F5-43B41ABA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EBAB-BDD6-40F9-A332-7DE76461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2742-AC99-4312-B869-3DF984C9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2B4D-C360-498A-BFF7-E23E268A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BD9F5-1385-4597-9505-9412F5D5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B977F-8D4A-4113-B003-B86F72F0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F65C-CAB9-49DA-B628-B2901350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B53-58ED-47A1-B738-AE3C1806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1915-02F7-4488-BFDC-A9C54F7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B85D0-6290-4E03-820A-64F0C7D8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6CE6-7FC8-4596-87D1-B48F1931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6D68-3393-4BAB-A60A-F73808C1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63EB4-B111-4916-9A9A-02405E66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C78B0-5EFB-429C-AA3A-B5226A49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B7908-1F16-41A2-90DC-355D4EE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AFD6B-3709-4881-9136-6D80E500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10F64-D834-45FA-B64E-7ED7D255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21FA-2BDD-4085-B970-7C887F15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3A1-46AD-4EC5-9425-EF03938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8F47-DCAA-4C48-A689-B2BC59B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F4A2-4F97-4985-8D9D-CA83B518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511D-21CB-4070-AE13-4C9AD85D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DE74B-43FD-4E79-B9B3-BD16C27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38E0-245A-4E11-93F2-1B80CF9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7FBE5-DD91-4365-92CB-599525DC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841C1-D81A-4D1C-94AE-2D3E8BB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25CA9-CB36-4B44-A10F-443BFD49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546D-1837-4A1A-B373-928426A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40897-4374-4B5F-B0EB-7922C24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BCE-B468-449A-B61F-51EFBC2D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1EF6D-E772-4556-BA5B-87D72FA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B85E-2608-4B39-9A7B-38B63E1C1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6C09B-8EF7-40E5-8429-ACA60382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29B8E-692E-4B0D-B4AB-661951B0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837A-0501-431A-A7BD-F9F555E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DB82-5C78-46C7-A37D-8C59A349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A3B6-9979-4495-9521-CEC46EA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C462-DB22-4FDD-8B1E-EEF358E3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E94D5-963A-43D7-9E79-1C08ED55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C4644-C9D5-4078-9265-92C64A2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DB85-7A75-40E8-B8F0-F5594B9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654A0-2C09-4CDE-8AEB-AC85EE46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CF5A-CBFE-4322-A175-C23A788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1C2B6-C805-42A5-9154-6A0FA1E7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8C673-4534-4BD5-9837-BBD60BE2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5D0D6-BDBA-4D30-8A96-74CF869F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994D9-330A-4576-847D-ED5FE7C4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21A1-8F27-44A6-A08D-AC3ECE80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9A48-9E4A-4D68-B9AC-9DE7067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2AE5D-C3C5-4426-887D-9BCD07DA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D808E-4CFD-431B-BEFC-F161002F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C6B-D709-4035-81D5-C414C590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6C2F1-EF47-4F3B-BEC9-52BC607C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B2F28-58ED-4FC4-8DC4-FB1F905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10FD-0A4A-49AF-8322-1545C6EF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0AD1-79DE-4943-9E07-9890BB5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78904-BEFA-4DBB-A978-2375DE5B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FBFEB-B9A6-4101-9219-88C64574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D4CD-637A-4075-97ED-B3858CC4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08DD0-9368-4B46-BA2F-12F29140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0BD9B-3CF1-4EDA-95CD-78A72E3C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73A7F-66BF-4967-B391-263067D3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92BB-486F-4963-8237-FD73CC172B08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接连接符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矩形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矩形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矩形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矩形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矩形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矩形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椭圆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椭圆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矩形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597-70DF-4D91-BE9F-BC6CCED8F216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861A-46F3-4FB2-8A11-9439166622AD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矩形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矩形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矩形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矩形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直接连接符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椭圆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椭圆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0A1E-1889-45DE-A03A-29DF7771BDC8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矩形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矩形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矩形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矩形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直接连接符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矩形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椭圆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A711-18B4-46D8-AB85-D0B54E91C17B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9E0D-27AB-44E6-AAD6-11BA60D9D28E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矩形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矩形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矩形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矩形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直接连接符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椭圆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椭圆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A2C0-DAB4-4F96-B7F0-5FC378DBD794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直接连接符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1B0-2192-417B-A6B2-DBADDE296EF5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接连接符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575f6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直接连接符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矩形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椭圆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椭圆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B4E3-FB21-499B-B583-32EB147CFFF0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矩形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矩形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矩形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矩形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直接连接符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椭圆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椭圆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FCA3-DE3F-4CEB-9C7F-73087DA9CE47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矩形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矩形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矩形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矩形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矩形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6381-BF38-4255-8DDE-850744F19B6E}" type="slidenum"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矩形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矩形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矩形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矩形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矩形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矩形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直接连接符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d251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椭圆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椭圆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d25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矩形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32c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7598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251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1E46-C15C-47DF-90D3-E999C2EF3B84}" type="slidenum">
              <a:rPr b="0" lang="zh-CN" sz="1600" spc="-1" strike="noStrike">
                <a:solidFill>
                  <a:srgbClr val="9d25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Georgia"/>
              </a:rPr>
              <a:t>冠心病护理查房</a:t>
            </a:r>
            <a:endParaRPr b="0" lang="en-US" sz="80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468360" y="3428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Georgia"/>
              </a:rPr>
              <a:t>谢谢观看！！！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1979640" y="836640"/>
            <a:ext cx="762120" cy="665280"/>
            <a:chOff x="1979640" y="836640"/>
            <a:chExt cx="762120" cy="665280"/>
          </a:xfrm>
        </p:grpSpPr>
        <p:sp>
          <p:nvSpPr>
            <p:cNvPr id="608" name="AutoShape 5"/>
            <p:cNvSpPr/>
            <p:nvPr/>
          </p:nvSpPr>
          <p:spPr>
            <a:xfrm>
              <a:off x="1985760" y="847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9" name="AutoShape 6"/>
            <p:cNvSpPr/>
            <p:nvPr/>
          </p:nvSpPr>
          <p:spPr>
            <a:xfrm>
              <a:off x="1979640" y="836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0" name="AutoShape 7"/>
            <p:cNvSpPr/>
            <p:nvPr/>
          </p:nvSpPr>
          <p:spPr>
            <a:xfrm>
              <a:off x="2023920" y="8758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12d0d"/>
                </a:gs>
                <a:gs pos="100000">
                  <a:srgbClr val="d2611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1" name="Line 8"/>
          <p:cNvSpPr/>
          <p:nvPr/>
        </p:nvSpPr>
        <p:spPr>
          <a:xfrm>
            <a:off x="2589120" y="1446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3634200" y="858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冠心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2110680" y="934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14" name="Group 12"/>
          <p:cNvGrpSpPr/>
          <p:nvPr/>
        </p:nvGrpSpPr>
        <p:grpSpPr>
          <a:xfrm>
            <a:off x="1979640" y="1751040"/>
            <a:ext cx="762120" cy="665280"/>
            <a:chOff x="1979640" y="1751040"/>
            <a:chExt cx="762120" cy="665280"/>
          </a:xfrm>
        </p:grpSpPr>
        <p:sp>
          <p:nvSpPr>
            <p:cNvPr id="615" name="AutoShape 13"/>
            <p:cNvSpPr/>
            <p:nvPr/>
          </p:nvSpPr>
          <p:spPr>
            <a:xfrm>
              <a:off x="1985760" y="17622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6" name="AutoShape 14"/>
            <p:cNvSpPr/>
            <p:nvPr/>
          </p:nvSpPr>
          <p:spPr>
            <a:xfrm>
              <a:off x="1979640" y="1751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17" name="AutoShape 15"/>
            <p:cNvSpPr/>
            <p:nvPr/>
          </p:nvSpPr>
          <p:spPr>
            <a:xfrm>
              <a:off x="2023920" y="17902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63e19"/>
                </a:gs>
                <a:gs pos="100000">
                  <a:srgbClr val="fe863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8" name="Line 16"/>
          <p:cNvSpPr/>
          <p:nvPr/>
        </p:nvSpPr>
        <p:spPr>
          <a:xfrm>
            <a:off x="2589120" y="23605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Text Box 17"/>
          <p:cNvSpPr/>
          <p:nvPr/>
        </p:nvSpPr>
        <p:spPr>
          <a:xfrm>
            <a:off x="354060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病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Text Box 18"/>
          <p:cNvSpPr/>
          <p:nvPr/>
        </p:nvSpPr>
        <p:spPr>
          <a:xfrm>
            <a:off x="2171520" y="184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1" name="Group 20"/>
          <p:cNvGrpSpPr/>
          <p:nvPr/>
        </p:nvGrpSpPr>
        <p:grpSpPr>
          <a:xfrm>
            <a:off x="1979640" y="2643120"/>
            <a:ext cx="762120" cy="665280"/>
            <a:chOff x="1979640" y="2643120"/>
            <a:chExt cx="762120" cy="665280"/>
          </a:xfrm>
        </p:grpSpPr>
        <p:sp>
          <p:nvSpPr>
            <p:cNvPr id="622" name="AutoShape 21"/>
            <p:cNvSpPr/>
            <p:nvPr/>
          </p:nvSpPr>
          <p:spPr>
            <a:xfrm>
              <a:off x="1985760" y="2654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3" name="AutoShape 22"/>
            <p:cNvSpPr/>
            <p:nvPr/>
          </p:nvSpPr>
          <p:spPr>
            <a:xfrm>
              <a:off x="1979640" y="26431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24" name="AutoShape 23"/>
            <p:cNvSpPr/>
            <p:nvPr/>
          </p:nvSpPr>
          <p:spPr>
            <a:xfrm>
              <a:off x="2023920" y="26823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12d0d"/>
                </a:gs>
                <a:gs pos="100000">
                  <a:srgbClr val="d2611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25" name="Line 24"/>
          <p:cNvSpPr/>
          <p:nvPr/>
        </p:nvSpPr>
        <p:spPr>
          <a:xfrm>
            <a:off x="2589120" y="32529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Text Box 25"/>
          <p:cNvSpPr/>
          <p:nvPr/>
        </p:nvSpPr>
        <p:spPr>
          <a:xfrm>
            <a:off x="3915000" y="26654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入院体格检查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Text Box 26"/>
          <p:cNvSpPr/>
          <p:nvPr/>
        </p:nvSpPr>
        <p:spPr>
          <a:xfrm>
            <a:off x="2171520" y="274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8" name="Group 28"/>
          <p:cNvGrpSpPr/>
          <p:nvPr/>
        </p:nvGrpSpPr>
        <p:grpSpPr>
          <a:xfrm>
            <a:off x="1979640" y="3557520"/>
            <a:ext cx="762120" cy="665280"/>
            <a:chOff x="1979640" y="3557520"/>
            <a:chExt cx="762120" cy="665280"/>
          </a:xfrm>
        </p:grpSpPr>
        <p:sp>
          <p:nvSpPr>
            <p:cNvPr id="629" name="AutoShape 29"/>
            <p:cNvSpPr/>
            <p:nvPr/>
          </p:nvSpPr>
          <p:spPr>
            <a:xfrm>
              <a:off x="1985760" y="35686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0" name="AutoShape 30"/>
            <p:cNvSpPr/>
            <p:nvPr/>
          </p:nvSpPr>
          <p:spPr>
            <a:xfrm>
              <a:off x="1979640" y="35575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1" name="AutoShape 31"/>
            <p:cNvSpPr/>
            <p:nvPr/>
          </p:nvSpPr>
          <p:spPr>
            <a:xfrm>
              <a:off x="2023920" y="35967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63e19"/>
                </a:gs>
                <a:gs pos="100000">
                  <a:srgbClr val="fe863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32" name="Line 32"/>
          <p:cNvSpPr/>
          <p:nvPr/>
        </p:nvSpPr>
        <p:spPr>
          <a:xfrm>
            <a:off x="2589120" y="41673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Text Box 33"/>
          <p:cNvSpPr/>
          <p:nvPr/>
        </p:nvSpPr>
        <p:spPr>
          <a:xfrm>
            <a:off x="3728160" y="3579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诊断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Text Box 34"/>
          <p:cNvSpPr/>
          <p:nvPr/>
        </p:nvSpPr>
        <p:spPr>
          <a:xfrm>
            <a:off x="2171520" y="365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35" name="Group 20"/>
          <p:cNvGrpSpPr/>
          <p:nvPr/>
        </p:nvGrpSpPr>
        <p:grpSpPr>
          <a:xfrm>
            <a:off x="2050920" y="4437000"/>
            <a:ext cx="762120" cy="665280"/>
            <a:chOff x="2050920" y="4437000"/>
            <a:chExt cx="762120" cy="665280"/>
          </a:xfrm>
        </p:grpSpPr>
        <p:sp>
          <p:nvSpPr>
            <p:cNvPr id="636" name="AutoShape 21"/>
            <p:cNvSpPr/>
            <p:nvPr/>
          </p:nvSpPr>
          <p:spPr>
            <a:xfrm>
              <a:off x="2057040" y="44481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7" name="AutoShape 22"/>
            <p:cNvSpPr/>
            <p:nvPr/>
          </p:nvSpPr>
          <p:spPr>
            <a:xfrm>
              <a:off x="2050920" y="4437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8" name="AutoShape 23"/>
            <p:cNvSpPr/>
            <p:nvPr/>
          </p:nvSpPr>
          <p:spPr>
            <a:xfrm>
              <a:off x="2095200" y="44762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12d0d"/>
                </a:gs>
                <a:gs pos="100000">
                  <a:srgbClr val="d2611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39" name="Line 24"/>
          <p:cNvSpPr/>
          <p:nvPr/>
        </p:nvSpPr>
        <p:spPr>
          <a:xfrm>
            <a:off x="2660760" y="50468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3799440" y="4459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2243880" y="4535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42" name="Group 28"/>
          <p:cNvGrpSpPr/>
          <p:nvPr/>
        </p:nvGrpSpPr>
        <p:grpSpPr>
          <a:xfrm>
            <a:off x="2050920" y="5351400"/>
            <a:ext cx="762120" cy="665280"/>
            <a:chOff x="2050920" y="5351400"/>
            <a:chExt cx="762120" cy="665280"/>
          </a:xfrm>
        </p:grpSpPr>
        <p:sp>
          <p:nvSpPr>
            <p:cNvPr id="643" name="AutoShape 29"/>
            <p:cNvSpPr/>
            <p:nvPr/>
          </p:nvSpPr>
          <p:spPr>
            <a:xfrm>
              <a:off x="2057040" y="5362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4" name="AutoShape 30"/>
            <p:cNvSpPr/>
            <p:nvPr/>
          </p:nvSpPr>
          <p:spPr>
            <a:xfrm>
              <a:off x="2050920" y="53514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5" name="AutoShape 31"/>
            <p:cNvSpPr/>
            <p:nvPr/>
          </p:nvSpPr>
          <p:spPr>
            <a:xfrm>
              <a:off x="2095200" y="539064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763e19"/>
                </a:gs>
                <a:gs pos="100000">
                  <a:srgbClr val="fe863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46" name="Line 32"/>
          <p:cNvSpPr/>
          <p:nvPr/>
        </p:nvSpPr>
        <p:spPr>
          <a:xfrm>
            <a:off x="2660760" y="596124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Text Box 33"/>
          <p:cNvSpPr/>
          <p:nvPr/>
        </p:nvSpPr>
        <p:spPr>
          <a:xfrm>
            <a:off x="3799440" y="537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2243880" y="5450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宋体"/>
              </a:rPr>
              <a:t>六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、冠心病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50560" y="1773000"/>
            <a:ext cx="491940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冠心病定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冠状动脉粥样硬化性心脏病的简称，是冠状动脉粥样硬化使血管腔狭窄、阻塞，或因冠状动脉功能性改变，导致心肌缺血、缺氧，甚至坏死引起的心脏病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1" name="内容占位符 4" descr="01300000466621126431412893287.jpg"/>
          <p:cNvPicPr/>
          <p:nvPr/>
        </p:nvPicPr>
        <p:blipFill>
          <a:blip r:embed="rId1"/>
          <a:stretch/>
        </p:blipFill>
        <p:spPr>
          <a:xfrm>
            <a:off x="5867280" y="2349360"/>
            <a:ext cx="254016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冠心病诱因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pic>
        <p:nvPicPr>
          <p:cNvPr id="653" name="内容占位符 4" descr="1.jpg"/>
          <p:cNvPicPr/>
          <p:nvPr/>
        </p:nvPicPr>
        <p:blipFill>
          <a:blip r:embed="rId1"/>
          <a:stretch/>
        </p:blipFill>
        <p:spPr>
          <a:xfrm>
            <a:off x="468360" y="2060640"/>
            <a:ext cx="3809880" cy="3632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5"/>
          <p:cNvSpPr/>
          <p:nvPr/>
        </p:nvSpPr>
        <p:spPr>
          <a:xfrm>
            <a:off x="5076720" y="2637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、性别 、肥胖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二、病史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诉：患者主诉胸闷，胸疼，出汗伴恶心，无呕吐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现病史：患者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前五明显诱因下开始出现胸闷、胸部不适，位于心前区，呈针刺痛、闷痛，伴出汗，有向背部、腋下放射痛，持续时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-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不等，休息或舌下含服速效救心丸后症状缓解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既往史：有高血压病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自诉有冠心病病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有慢性肾功能不全病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，否认糖尿病史，否认肝炎及其他传染病史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1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行胆囊切除术，否认输血及外伤史，否认药物过敏史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三、入院体格检查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T 36.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 5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p140/80mmH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未见明显异常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彩超示右肾囊肿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颈动脉彩超示右颈动脉斑块形成，左颈动脉未见异常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脏彩超示左房扩大，左室舒张功能减退，少量二、三尖瓣返流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四、护理诊断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疼痛：与心肌缺血缺氧有关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心输出量减少</a:t>
            </a: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与心功能下降有关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紧张、恐惧：与疾病的反复发作有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知识缺乏：对疾病不了解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心脏骤停、各种栓塞、心律失常等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五、护理措施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：合理安排工作与生活，保持充足的睡眠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除病人紧张恐惧的心里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：低盐、低脂、清淡易消化饮食。少食多餐，不要过饱，禁辛辣刺激的食物。禁烟酒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严格服药，教会患者观察药物的不良反应，如出先立即停药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各种诱发冠心病的诱因，预防并发症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监测患者的生命体征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六、健康教育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、要劳逸结合，进行适量的运动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、保持良好的心情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、用药时不可随意增减药量，要遵医嘱用药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、随身携带保健盒，以防意外发生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、定期复查。如出现恶心、呕吐、胸痛、头晕等症状要立即就医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04:45:06Z</dcterms:created>
  <dc:creator>微软用户</dc:creator>
  <dc:description/>
  <dc:language>en-US</dc:language>
  <cp:lastModifiedBy>微软用户</cp:lastModifiedBy>
  <dcterms:modified xsi:type="dcterms:W3CDTF">2013-11-09T08:56:15Z</dcterms:modified>
  <cp:revision>30</cp:revision>
  <dc:subject/>
  <dc:title>冠心病护理查房</dc:title>
</cp:coreProperties>
</file>