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6A8-8E06-4AA7-9B89-32B422A1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F4D-883B-4726-B57E-AB102BFA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865-58BC-44BA-86E5-26449D6C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7364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79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6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7364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79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80A-2CD2-4292-A47B-0D7CA860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EA0E-6677-47F1-8A99-E35FB63E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D28A-8DF6-4237-831C-6258D8DA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978F-79CB-41D8-8D63-32A510A4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3AB8-BF50-4B3F-A380-CBA111F4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9338-0724-4B98-9AA8-B54E6E31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057040" y="22856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C7C3-0113-468C-8984-802CAC1C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6383-5DE3-4517-9419-38B9C51E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FC6-0E1C-4199-A9DE-B121E1F2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9D0B-66D5-44FB-BEDC-FC77F5A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5B0C-BF6F-49C5-B8D4-24B0ED0C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5622-E470-4EC5-A633-DC1FBFAC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EFBB-CCA5-4B29-92C0-91C40321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7364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379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096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7364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379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EFDA-65D9-4BC9-9C84-5313C9A6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56F-8E25-4986-8F46-E153DE71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F61-9253-4083-8234-F231ACEE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1EA-E608-457D-8C52-4E882ABB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040" y="22856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6C5-FF73-45D9-9AF6-8E927464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5FF-F07F-4548-B1A7-1D9F4865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698-4301-41F6-B4D4-0CE4DDAA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F20-6E3B-467E-9E91-6480C410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0932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E49B-20C9-40C9-8C79-68CE3869E0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48BC-DEAE-4B6D-AA95-B71E896DFD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48Z</dcterms:modified>
  <cp:revision>48</cp:revision>
  <dc:subject/>
  <dc:title>幻灯片 1</dc:title>
</cp:coreProperties>
</file>