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BD21-2132-417A-B562-56F48674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2DC8-0189-4138-B7CD-189BC14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6AE5-043B-41F6-AE5F-596921AA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4ADD-843B-4118-AAB7-F9C19B37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E7B0-AACD-41E6-87DA-8497A36C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8A8A-DAA1-425A-8B8C-D4E65C0A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CCA-5765-4325-8FEB-CD1548B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431C-4DBB-4604-9450-DC74B03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974A-E924-4D08-A45E-545D74CE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5457-69A5-4754-9CE4-00D6AE3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8916-6B7C-40EB-9310-4CA0545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7A39-4AB4-4EF2-8884-AFBA0EC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F70A-1638-4A97-B0D9-B6E99D5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A612-88B3-41D6-AD8E-6291AEE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03D-4F64-43E2-B5BE-28C544A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D5DA-CB0F-4B21-A991-71E6B2D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B3DC-07DB-449E-BF71-5C4E9563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D937-7A7E-4169-BA08-4287E1F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D748-8698-42A2-8E15-0EDF816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88DB-4F62-4CC0-9082-17D6393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0BB-C838-4A57-84C8-7471355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5AEF-7AF3-490C-B3CC-730E93F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83F0-0039-4CA4-A4E0-7455BB2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81C6-2DDF-4A16-8B76-61B4305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32B-4F93-48A0-BA29-5E64126A1129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2840" cy="1638360"/>
            <a:chOff x="0" y="0"/>
            <a:chExt cx="9132840" cy="1638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32840" cy="1542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638360"/>
              <a:ext cx="91328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3284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342900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60" y="3543480"/>
            <a:ext cx="9133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247-05DB-4A1C-9C19-9727D93CD9C4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2Z</dcterms:modified>
  <cp:revision>5</cp:revision>
  <dc:subject/>
  <dc:title>幻灯片 1</dc:title>
</cp:coreProperties>
</file>