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7490-2958-4B71-ADAD-F46A379C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4495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33920" y="4116240"/>
            <a:ext cx="4495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BDC-DD7C-4062-AB61-334D224B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33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37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CE20-90AC-44E1-A5AE-8A95610B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53840" y="320040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3760" y="320040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33920" y="411624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253840" y="411624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3760" y="411624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6AB-2BB7-4FCE-B9DC-F4B1D8FA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EA51-692B-47A3-83FE-FFC40D0A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733920" y="320040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2156-253D-4539-9056-CC518B51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0457-4B17-4000-A30D-905F9C7D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E5D0-B9FD-46DE-B8AF-D7BAEA7E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F60D-27CD-44DC-9CD3-67F67169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428640" y="304920"/>
            <a:ext cx="441972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B0CF-74D4-44CE-93B0-D0EEE041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733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A0F2-5F47-4CB6-AC41-F3BA8544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33920" y="320040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00E-60AB-475B-91E0-C27AD4E8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7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A75F-9FD9-48E2-8A86-7B9441D5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733920" y="4116240"/>
            <a:ext cx="4495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69CA-C816-4F44-AE2D-AD793AE6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4495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733920" y="4116240"/>
            <a:ext cx="4495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DD0D-7048-434E-9541-DBD58061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733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37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16B4-F4CD-43BD-924A-54641752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3840" y="320040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73760" y="320040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733920" y="411624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5253840" y="411624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73760" y="411624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A888-E18F-44E0-959D-99C5A7BA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13C9-AB2C-4BC5-A308-5FD419F0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959E-2DC9-4CD2-B81D-4B2B941A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2A6-8F99-49F0-90BA-A96CACFF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8640" y="304920"/>
            <a:ext cx="441972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421-053B-46EF-9AB1-87501226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33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92B0-2CFD-40F8-8F22-96E5A6DF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37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25C6-69A8-4C6C-B6F3-8E9808BE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33920" y="4116240"/>
            <a:ext cx="4495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92F-6C99-4591-B334-2698706C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21896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5AD0-DF48-442F-85BE-2C9C57FF24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BAD9-59CD-42B7-B732-BCF2ED8801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733920" y="320040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0:06Z</dcterms:modified>
  <cp:revision>53</cp:revision>
  <dc:subject/>
  <dc:title>幻灯片 1</dc:title>
</cp:coreProperties>
</file>