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CD7-C7B8-4A65-AD02-8649A55E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993-BE0C-4341-9E6F-30C00B68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DDF-B7EE-4C72-B909-A5ECCD4C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0A3-1850-4994-93C0-D29E6B82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B253-62A1-405E-8B2C-B03B601E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8D98-6172-4155-AA8A-3B9F8603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E264-FE65-449A-BC6B-B71F8041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443F-5D35-4EA8-9D88-CF2008AC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3EC4-B706-4359-AF52-CC67F5D5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B6E5-E304-418F-80E4-C1EA8968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A15D-0AF7-4E19-AB5E-1C15165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D60-C203-4962-A3D0-ABD5AF63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6E5A-D181-4F2A-A239-F35D1D95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462D-1427-4078-AC3B-886399C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BED3-232E-4A12-B9F3-0D505CBE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E370-873D-40FA-BEFD-A9E1195B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9A5E-F890-4D12-AA24-1C8AB6BA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E04A-3217-4749-B4A5-E415E38E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5F4-3504-4EFD-B909-C0185EC7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560-E432-4C5F-A12F-0E237D6B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7B9-91A6-4453-BBD8-839999B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551-47F9-45AB-B60D-D5D0881C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D18-E23C-4B8A-9ABD-F1237FB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6C8-673D-46AC-A800-10ED9A8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066680" y="5783400"/>
            <a:ext cx="8077320" cy="1074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4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D7DD-ECFF-48FB-8993-DC154725B07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1522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2460-479E-4E1A-8ED6-B65FF46EBB0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31Z</dcterms:modified>
  <cp:revision>32</cp:revision>
  <dc:subject/>
  <dc:title>幻灯片 1</dc:title>
</cp:coreProperties>
</file>