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F683-3A5B-481D-B2AE-049837BA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43A3-6920-44A8-9FD7-0F7B407C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4A90-4F9B-4087-8F14-6DBA3E4E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16C5-F407-45D4-88C9-DF270AF0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CB2C-F4B8-4B13-82C6-908C6C90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7CA1-2D2B-4F08-A77A-D577A169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F87B-B2CF-4A26-B9CD-D9A89AC9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EA8F-F3F2-4A61-A6D8-86D4B958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7A3F-EC75-45E9-8306-72537055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67AD-48A6-422E-A2B3-1E6D5F09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2865-E500-4D04-BB65-C0F8C8B7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EA97-938F-4E4F-BAA0-C8F5381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6B43-0411-48CB-AABC-CEA42784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B30C-6620-4F2C-84C2-7F16757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71F4-AD53-4A00-8E37-C7EB3A2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AAAB-5A4A-4FB9-A8E3-C0F5ED7A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DC24-0405-4E63-9C8B-3B8F6315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5C7A-18D4-4701-BEA0-52A74C3C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9C44-2B8F-48E7-953A-3C0B76EA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820A-C27E-4B94-84D7-643D5EA3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AB66-DDDC-42BD-9AC8-93BDD09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3558-6B37-42FF-A385-AA0CD1F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9899-19CA-41DE-8A40-D28237A7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8C70-53B9-439B-9D99-63683F51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9545-9A6B-4046-85A4-947C55BD2E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8F83-A82A-49F3-89E2-2D0383AF51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59Z</dcterms:modified>
  <cp:revision>29</cp:revision>
  <dc:subject/>
  <dc:title>幻灯片 1</dc:title>
</cp:coreProperties>
</file>