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A59-55A9-4E5F-9EF1-6A21D45E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8C5-18F3-4DD4-86C9-DEC077BB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E24-F329-4D44-B115-8D03EA4B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4DE-B47C-4D7E-B6CE-12B4C07E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6EF5-6E85-4BAE-BB05-C79FB452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E6DF-37F8-4E98-B830-2B07A97D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F154-6A6F-4924-AA7F-0232189F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2006-B4F6-46FF-877D-A12805E9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5AF2-2AD2-46AC-A639-5754DFD1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D41C-E18A-4DFD-BED8-986D2D3C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4404-0106-4167-B10C-6012A656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6FA-139F-4D9A-B592-10FFE745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8234-B864-4ACA-B3D2-D8C62EDB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303E-5838-49F5-81E2-FEE00308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7BC4-1077-4BE7-B0E4-216EB65E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65C7-48CC-4131-948E-E8A6A365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9679-E420-4657-8042-49125E35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CF7-0DCA-4215-AE17-618E5BC3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9DF-B935-442B-BBEF-7F445383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573-1266-45DB-80A4-BDBB6D11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FA2-2234-4A4E-B6ED-92A786C8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310-6171-478F-BACC-95856B1D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2D2-24C7-4297-A8E8-0F89D457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263-17FB-4F3F-BB84-1348945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ACC2-CA74-4B33-AE88-C62D0F65DA5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689D-BA59-49E0-ADAB-811EBA285F8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42Z</dcterms:modified>
  <cp:revision>20</cp:revision>
  <dc:subject/>
  <dc:title>幻灯片 1</dc:title>
</cp:coreProperties>
</file>