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3B8-BFC8-4841-A302-BAD5AFF4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310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6D5-468A-493B-9A83-113A47ED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D72-053C-4C81-81F9-D59AB964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78C-D1A7-4800-A640-4434C751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C4FC-CCFE-4824-A96A-15FF32D4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0235-AB18-4BA2-8ED2-84066A1C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D849-8D56-4B9C-8BA1-690A5FE9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08A0-5963-4B11-B77B-BC292C52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1402-407E-43EA-B691-1A95A982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1907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7947-C53E-4469-A224-C89B5EB0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E6A7-4661-452B-8CC8-1C11FBB6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B27-F97F-4AE5-9556-1D54A03F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9C48-C64C-4EAB-82A5-3432D0DC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6ABB-97D5-4712-AA97-1C9F126B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310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3D06-3D42-4218-9D03-C471F360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E8F5-E0CD-4DB5-999A-2937399D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BC0F-9514-4D9F-B4B3-E50A50A2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378-D487-435D-AE50-037DCC68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ACF-D0FF-423B-9AD3-D4EEF475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264-4280-4740-AD67-3686DE5C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1907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5E6-3882-44BD-8FE3-96261544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807-F000-4359-B521-710AC285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38B-7DB5-4BD6-8DF5-21B7C9B4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755-D143-4A76-8A33-E1F2DFF6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EBF9-EB69-4F69-9006-D4B02981354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E07D-8490-4E1E-8C4B-F9A3970808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720" y="65008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5:21Z</dcterms:modified>
  <cp:revision>31</cp:revision>
  <dc:subject/>
  <dc:title>幻灯片 1</dc:title>
</cp:coreProperties>
</file>