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ACDB-E1A4-401B-AF4D-CED39573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168-0521-41E4-BA5C-955C44F7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8CFC-D454-4131-9D39-4476B2DA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7A0B-041D-4F1B-8D99-C8B74981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E13C-E80B-4E01-81D3-D0D05D07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3B7B-1A63-4200-90A6-D87B0EB1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1F43-41D2-4009-AD93-DFF6CEF9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3664-9B88-493D-83CF-D4806C7E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9F10-79FA-47D4-8DD9-62E20584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C46A-6A2F-4C83-B98C-EAC95A3B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9C6A-B3A5-4FD7-98D2-684B5173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6D58-1062-4F04-B7C1-5B0EEC14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EAC7-66E3-4C65-BCC1-1EBCBA5A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AB86-618E-4F25-9F2C-45333A44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8BF1-48DB-4996-89D3-7B9A5E77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885B-C16F-4E73-949E-EA79CB91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C628-797D-4F77-B1A9-3A01074B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B82-3B2C-4FCE-8E2C-AB28FB78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F58-9C74-4153-B5F9-7D23FBBF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50A2-4797-49B1-AC9A-0814B500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608-C17D-4D28-AAB8-99295FD2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BA66-AB14-494F-8665-7BFDFC1D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72C6-76F4-4E82-9D21-B1EEFA70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6664-374D-43B0-B386-C8E27111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4640" cy="6845400"/>
            <a:chOff x="0" y="0"/>
            <a:chExt cx="91346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15920"/>
              <a:ext cx="9134640" cy="6613560"/>
            </a:xfrm>
            <a:custGeom>
              <a:avLst/>
              <a:gdLst/>
              <a:ahLst/>
              <a:rect l="l" t="t" r="r" b="b"/>
              <a:pathLst>
                <a:path w="5754" h="4166">
                  <a:moveTo>
                    <a:pt x="5753" y="3889"/>
                  </a:moveTo>
                  <a:lnTo>
                    <a:pt x="1" y="3888"/>
                  </a:lnTo>
                  <a:lnTo>
                    <a:pt x="1" y="3948"/>
                  </a:lnTo>
                  <a:lnTo>
                    <a:pt x="5753" y="3948"/>
                  </a:lnTo>
                  <a:lnTo>
                    <a:pt x="5753" y="3996"/>
                  </a:lnTo>
                  <a:lnTo>
                    <a:pt x="1" y="3997"/>
                  </a:lnTo>
                  <a:lnTo>
                    <a:pt x="1" y="4056"/>
                  </a:lnTo>
                  <a:lnTo>
                    <a:pt x="5753" y="4056"/>
                  </a:lnTo>
                  <a:lnTo>
                    <a:pt x="5753" y="4105"/>
                  </a:lnTo>
                  <a:lnTo>
                    <a:pt x="1" y="4104"/>
                  </a:lnTo>
                  <a:lnTo>
                    <a:pt x="1" y="4165"/>
                  </a:lnTo>
                  <a:lnTo>
                    <a:pt x="5753" y="4165"/>
                  </a:lnTo>
                  <a:lnTo>
                    <a:pt x="5753" y="0"/>
                  </a:lnTo>
                  <a:lnTo>
                    <a:pt x="1" y="0"/>
                  </a:lnTo>
                  <a:lnTo>
                    <a:pt x="1" y="61"/>
                  </a:lnTo>
                  <a:lnTo>
                    <a:pt x="5753" y="60"/>
                  </a:lnTo>
                  <a:lnTo>
                    <a:pt x="5753" y="108"/>
                  </a:lnTo>
                  <a:lnTo>
                    <a:pt x="1" y="108"/>
                  </a:lnTo>
                  <a:lnTo>
                    <a:pt x="1" y="168"/>
                  </a:lnTo>
                  <a:lnTo>
                    <a:pt x="5753" y="169"/>
                  </a:lnTo>
                  <a:lnTo>
                    <a:pt x="5753" y="216"/>
                  </a:lnTo>
                  <a:lnTo>
                    <a:pt x="1" y="216"/>
                  </a:lnTo>
                  <a:lnTo>
                    <a:pt x="1" y="276"/>
                  </a:lnTo>
                  <a:lnTo>
                    <a:pt x="5753" y="277"/>
                  </a:lnTo>
                  <a:lnTo>
                    <a:pt x="5753" y="324"/>
                  </a:lnTo>
                  <a:lnTo>
                    <a:pt x="1" y="324"/>
                  </a:lnTo>
                  <a:lnTo>
                    <a:pt x="1" y="384"/>
                  </a:lnTo>
                  <a:lnTo>
                    <a:pt x="5753" y="384"/>
                  </a:lnTo>
                  <a:lnTo>
                    <a:pt x="5753" y="432"/>
                  </a:lnTo>
                  <a:lnTo>
                    <a:pt x="1" y="432"/>
                  </a:lnTo>
                  <a:lnTo>
                    <a:pt x="1" y="492"/>
                  </a:lnTo>
                  <a:lnTo>
                    <a:pt x="5753" y="493"/>
                  </a:lnTo>
                  <a:lnTo>
                    <a:pt x="5753" y="540"/>
                  </a:lnTo>
                  <a:lnTo>
                    <a:pt x="1" y="540"/>
                  </a:lnTo>
                  <a:lnTo>
                    <a:pt x="1" y="600"/>
                  </a:lnTo>
                  <a:lnTo>
                    <a:pt x="5753" y="600"/>
                  </a:lnTo>
                  <a:lnTo>
                    <a:pt x="5753" y="648"/>
                  </a:lnTo>
                  <a:lnTo>
                    <a:pt x="1" y="648"/>
                  </a:lnTo>
                  <a:lnTo>
                    <a:pt x="1" y="708"/>
                  </a:lnTo>
                  <a:lnTo>
                    <a:pt x="5753" y="709"/>
                  </a:lnTo>
                  <a:lnTo>
                    <a:pt x="5753" y="756"/>
                  </a:lnTo>
                  <a:lnTo>
                    <a:pt x="1" y="756"/>
                  </a:lnTo>
                  <a:lnTo>
                    <a:pt x="1" y="816"/>
                  </a:lnTo>
                  <a:lnTo>
                    <a:pt x="5753" y="817"/>
                  </a:lnTo>
                  <a:lnTo>
                    <a:pt x="5753" y="865"/>
                  </a:lnTo>
                  <a:lnTo>
                    <a:pt x="1" y="864"/>
                  </a:lnTo>
                  <a:lnTo>
                    <a:pt x="1" y="925"/>
                  </a:lnTo>
                  <a:lnTo>
                    <a:pt x="5753" y="925"/>
                  </a:lnTo>
                  <a:lnTo>
                    <a:pt x="5753" y="973"/>
                  </a:lnTo>
                  <a:lnTo>
                    <a:pt x="1" y="972"/>
                  </a:lnTo>
                  <a:lnTo>
                    <a:pt x="1" y="1032"/>
                  </a:lnTo>
                  <a:lnTo>
                    <a:pt x="5753" y="1033"/>
                  </a:lnTo>
                  <a:lnTo>
                    <a:pt x="5753" y="1080"/>
                  </a:lnTo>
                  <a:lnTo>
                    <a:pt x="1" y="1080"/>
                  </a:lnTo>
                  <a:lnTo>
                    <a:pt x="1" y="1140"/>
                  </a:lnTo>
                  <a:lnTo>
                    <a:pt x="5753" y="1140"/>
                  </a:lnTo>
                  <a:lnTo>
                    <a:pt x="5753" y="1188"/>
                  </a:lnTo>
                  <a:lnTo>
                    <a:pt x="1" y="1188"/>
                  </a:lnTo>
                  <a:lnTo>
                    <a:pt x="1" y="1248"/>
                  </a:lnTo>
                  <a:lnTo>
                    <a:pt x="5753" y="1248"/>
                  </a:lnTo>
                  <a:lnTo>
                    <a:pt x="5753" y="1296"/>
                  </a:lnTo>
                  <a:lnTo>
                    <a:pt x="1" y="1297"/>
                  </a:lnTo>
                  <a:lnTo>
                    <a:pt x="1" y="1357"/>
                  </a:lnTo>
                  <a:lnTo>
                    <a:pt x="5753" y="1356"/>
                  </a:lnTo>
                  <a:lnTo>
                    <a:pt x="5753" y="1404"/>
                  </a:lnTo>
                  <a:lnTo>
                    <a:pt x="1" y="1404"/>
                  </a:lnTo>
                  <a:lnTo>
                    <a:pt x="1" y="1465"/>
                  </a:lnTo>
                  <a:lnTo>
                    <a:pt x="5753" y="1464"/>
                  </a:lnTo>
                  <a:lnTo>
                    <a:pt x="5753" y="1512"/>
                  </a:lnTo>
                  <a:lnTo>
                    <a:pt x="1" y="1512"/>
                  </a:lnTo>
                  <a:lnTo>
                    <a:pt x="1" y="1572"/>
                  </a:lnTo>
                  <a:lnTo>
                    <a:pt x="5753" y="1572"/>
                  </a:lnTo>
                  <a:lnTo>
                    <a:pt x="5753" y="1620"/>
                  </a:lnTo>
                  <a:lnTo>
                    <a:pt x="1" y="1620"/>
                  </a:lnTo>
                  <a:lnTo>
                    <a:pt x="1" y="1680"/>
                  </a:lnTo>
                  <a:lnTo>
                    <a:pt x="5753" y="1681"/>
                  </a:lnTo>
                  <a:lnTo>
                    <a:pt x="5753" y="1728"/>
                  </a:lnTo>
                  <a:lnTo>
                    <a:pt x="1" y="1728"/>
                  </a:lnTo>
                  <a:lnTo>
                    <a:pt x="1" y="1789"/>
                  </a:lnTo>
                  <a:lnTo>
                    <a:pt x="5753" y="1789"/>
                  </a:lnTo>
                  <a:lnTo>
                    <a:pt x="5753" y="1836"/>
                  </a:lnTo>
                  <a:lnTo>
                    <a:pt x="1" y="1836"/>
                  </a:lnTo>
                  <a:lnTo>
                    <a:pt x="1" y="1896"/>
                  </a:lnTo>
                  <a:lnTo>
                    <a:pt x="5753" y="1896"/>
                  </a:lnTo>
                  <a:lnTo>
                    <a:pt x="5753" y="1944"/>
                  </a:lnTo>
                  <a:lnTo>
                    <a:pt x="1" y="1944"/>
                  </a:lnTo>
                  <a:lnTo>
                    <a:pt x="1" y="2005"/>
                  </a:lnTo>
                  <a:lnTo>
                    <a:pt x="5753" y="2004"/>
                  </a:lnTo>
                  <a:lnTo>
                    <a:pt x="5753" y="2052"/>
                  </a:lnTo>
                  <a:lnTo>
                    <a:pt x="1" y="2052"/>
                  </a:lnTo>
                  <a:lnTo>
                    <a:pt x="1" y="2113"/>
                  </a:lnTo>
                  <a:lnTo>
                    <a:pt x="5753" y="2112"/>
                  </a:lnTo>
                  <a:lnTo>
                    <a:pt x="5753" y="2161"/>
                  </a:lnTo>
                  <a:lnTo>
                    <a:pt x="1" y="2160"/>
                  </a:lnTo>
                  <a:lnTo>
                    <a:pt x="1" y="2220"/>
                  </a:lnTo>
                  <a:lnTo>
                    <a:pt x="5753" y="2220"/>
                  </a:lnTo>
                  <a:lnTo>
                    <a:pt x="5753" y="2268"/>
                  </a:lnTo>
                  <a:lnTo>
                    <a:pt x="1" y="2268"/>
                  </a:lnTo>
                  <a:lnTo>
                    <a:pt x="1" y="2328"/>
                  </a:lnTo>
                  <a:lnTo>
                    <a:pt x="5753" y="2328"/>
                  </a:lnTo>
                  <a:lnTo>
                    <a:pt x="5753" y="2376"/>
                  </a:lnTo>
                  <a:lnTo>
                    <a:pt x="1" y="2376"/>
                  </a:lnTo>
                  <a:lnTo>
                    <a:pt x="1" y="2437"/>
                  </a:lnTo>
                  <a:lnTo>
                    <a:pt x="5753" y="2436"/>
                  </a:lnTo>
                  <a:lnTo>
                    <a:pt x="5753" y="2484"/>
                  </a:lnTo>
                  <a:lnTo>
                    <a:pt x="1" y="2484"/>
                  </a:lnTo>
                  <a:lnTo>
                    <a:pt x="1" y="2545"/>
                  </a:lnTo>
                  <a:lnTo>
                    <a:pt x="5753" y="2545"/>
                  </a:lnTo>
                  <a:lnTo>
                    <a:pt x="5753" y="2592"/>
                  </a:lnTo>
                  <a:lnTo>
                    <a:pt x="1" y="2592"/>
                  </a:lnTo>
                  <a:lnTo>
                    <a:pt x="1" y="2652"/>
                  </a:lnTo>
                  <a:lnTo>
                    <a:pt x="5753" y="2652"/>
                  </a:lnTo>
                  <a:lnTo>
                    <a:pt x="5753" y="2700"/>
                  </a:lnTo>
                  <a:lnTo>
                    <a:pt x="1" y="2700"/>
                  </a:lnTo>
                  <a:lnTo>
                    <a:pt x="1" y="2761"/>
                  </a:lnTo>
                  <a:lnTo>
                    <a:pt x="5753" y="2760"/>
                  </a:lnTo>
                  <a:lnTo>
                    <a:pt x="5753" y="2808"/>
                  </a:lnTo>
                  <a:lnTo>
                    <a:pt x="1" y="2808"/>
                  </a:lnTo>
                  <a:lnTo>
                    <a:pt x="1" y="2868"/>
                  </a:lnTo>
                  <a:lnTo>
                    <a:pt x="5753" y="2868"/>
                  </a:lnTo>
                  <a:lnTo>
                    <a:pt x="5753" y="2917"/>
                  </a:lnTo>
                  <a:lnTo>
                    <a:pt x="0" y="2917"/>
                  </a:lnTo>
                  <a:lnTo>
                    <a:pt x="1" y="2977"/>
                  </a:lnTo>
                  <a:lnTo>
                    <a:pt x="5753" y="2976"/>
                  </a:lnTo>
                  <a:lnTo>
                    <a:pt x="5753" y="3024"/>
                  </a:lnTo>
                  <a:lnTo>
                    <a:pt x="1" y="3024"/>
                  </a:lnTo>
                  <a:lnTo>
                    <a:pt x="1" y="3084"/>
                  </a:lnTo>
                  <a:lnTo>
                    <a:pt x="5753" y="3084"/>
                  </a:lnTo>
                  <a:lnTo>
                    <a:pt x="5753" y="3132"/>
                  </a:lnTo>
                  <a:lnTo>
                    <a:pt x="1" y="3132"/>
                  </a:lnTo>
                  <a:lnTo>
                    <a:pt x="1" y="3192"/>
                  </a:lnTo>
                  <a:lnTo>
                    <a:pt x="5753" y="3192"/>
                  </a:lnTo>
                  <a:lnTo>
                    <a:pt x="5753" y="3240"/>
                  </a:lnTo>
                  <a:lnTo>
                    <a:pt x="1" y="3240"/>
                  </a:lnTo>
                  <a:lnTo>
                    <a:pt x="1" y="3301"/>
                  </a:lnTo>
                  <a:lnTo>
                    <a:pt x="5753" y="3300"/>
                  </a:lnTo>
                  <a:lnTo>
                    <a:pt x="5753" y="3348"/>
                  </a:lnTo>
                  <a:lnTo>
                    <a:pt x="1" y="3348"/>
                  </a:lnTo>
                  <a:lnTo>
                    <a:pt x="1" y="3408"/>
                  </a:lnTo>
                  <a:lnTo>
                    <a:pt x="5753" y="3409"/>
                  </a:lnTo>
                  <a:lnTo>
                    <a:pt x="5753" y="3457"/>
                  </a:lnTo>
                  <a:lnTo>
                    <a:pt x="1" y="3456"/>
                  </a:lnTo>
                  <a:lnTo>
                    <a:pt x="1" y="3517"/>
                  </a:lnTo>
                  <a:lnTo>
                    <a:pt x="5753" y="3516"/>
                  </a:lnTo>
                  <a:lnTo>
                    <a:pt x="5753" y="3565"/>
                  </a:lnTo>
                  <a:lnTo>
                    <a:pt x="1" y="3565"/>
                  </a:lnTo>
                  <a:lnTo>
                    <a:pt x="1" y="3624"/>
                  </a:lnTo>
                  <a:lnTo>
                    <a:pt x="5753" y="3625"/>
                  </a:lnTo>
                  <a:lnTo>
                    <a:pt x="5753" y="3673"/>
                  </a:lnTo>
                  <a:lnTo>
                    <a:pt x="1" y="3672"/>
                  </a:lnTo>
                  <a:lnTo>
                    <a:pt x="1" y="3733"/>
                  </a:lnTo>
                  <a:lnTo>
                    <a:pt x="5753" y="3733"/>
                  </a:lnTo>
                  <a:lnTo>
                    <a:pt x="5753" y="3781"/>
                  </a:lnTo>
                  <a:lnTo>
                    <a:pt x="1" y="3781"/>
                  </a:lnTo>
                  <a:lnTo>
                    <a:pt x="1" y="3841"/>
                  </a:lnTo>
                  <a:lnTo>
                    <a:pt x="5753" y="3841"/>
                  </a:lnTo>
                  <a:lnTo>
                    <a:pt x="5753" y="38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B9D3-5410-4113-8183-6DF21EE3F4B0}" type="slidenum">
              <a:rPr b="0" lang="zh-CN" sz="1400" spc="-1" strike="noStrike">
                <a:solidFill>
                  <a:srgbClr val="cc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34640" cy="6845400"/>
            <a:chOff x="0" y="0"/>
            <a:chExt cx="9134640" cy="68454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15920"/>
              <a:ext cx="9134640" cy="6613560"/>
            </a:xfrm>
            <a:custGeom>
              <a:avLst/>
              <a:gdLst/>
              <a:ahLst/>
              <a:rect l="l" t="t" r="r" b="b"/>
              <a:pathLst>
                <a:path w="5754" h="4166">
                  <a:moveTo>
                    <a:pt x="5753" y="3889"/>
                  </a:moveTo>
                  <a:lnTo>
                    <a:pt x="1" y="3888"/>
                  </a:lnTo>
                  <a:lnTo>
                    <a:pt x="1" y="3948"/>
                  </a:lnTo>
                  <a:lnTo>
                    <a:pt x="5753" y="3948"/>
                  </a:lnTo>
                  <a:lnTo>
                    <a:pt x="5753" y="3996"/>
                  </a:lnTo>
                  <a:lnTo>
                    <a:pt x="1" y="3997"/>
                  </a:lnTo>
                  <a:lnTo>
                    <a:pt x="1" y="4056"/>
                  </a:lnTo>
                  <a:lnTo>
                    <a:pt x="5753" y="4056"/>
                  </a:lnTo>
                  <a:lnTo>
                    <a:pt x="5753" y="4105"/>
                  </a:lnTo>
                  <a:lnTo>
                    <a:pt x="1" y="4104"/>
                  </a:lnTo>
                  <a:lnTo>
                    <a:pt x="1" y="4165"/>
                  </a:lnTo>
                  <a:lnTo>
                    <a:pt x="5753" y="4165"/>
                  </a:lnTo>
                  <a:lnTo>
                    <a:pt x="5753" y="0"/>
                  </a:lnTo>
                  <a:lnTo>
                    <a:pt x="1" y="0"/>
                  </a:lnTo>
                  <a:lnTo>
                    <a:pt x="1" y="61"/>
                  </a:lnTo>
                  <a:lnTo>
                    <a:pt x="5753" y="60"/>
                  </a:lnTo>
                  <a:lnTo>
                    <a:pt x="5753" y="108"/>
                  </a:lnTo>
                  <a:lnTo>
                    <a:pt x="1" y="108"/>
                  </a:lnTo>
                  <a:lnTo>
                    <a:pt x="1" y="168"/>
                  </a:lnTo>
                  <a:lnTo>
                    <a:pt x="5753" y="169"/>
                  </a:lnTo>
                  <a:lnTo>
                    <a:pt x="5753" y="216"/>
                  </a:lnTo>
                  <a:lnTo>
                    <a:pt x="1" y="216"/>
                  </a:lnTo>
                  <a:lnTo>
                    <a:pt x="1" y="276"/>
                  </a:lnTo>
                  <a:lnTo>
                    <a:pt x="5753" y="277"/>
                  </a:lnTo>
                  <a:lnTo>
                    <a:pt x="5753" y="324"/>
                  </a:lnTo>
                  <a:lnTo>
                    <a:pt x="1" y="324"/>
                  </a:lnTo>
                  <a:lnTo>
                    <a:pt x="1" y="384"/>
                  </a:lnTo>
                  <a:lnTo>
                    <a:pt x="5753" y="384"/>
                  </a:lnTo>
                  <a:lnTo>
                    <a:pt x="5753" y="432"/>
                  </a:lnTo>
                  <a:lnTo>
                    <a:pt x="1" y="432"/>
                  </a:lnTo>
                  <a:lnTo>
                    <a:pt x="1" y="492"/>
                  </a:lnTo>
                  <a:lnTo>
                    <a:pt x="5753" y="493"/>
                  </a:lnTo>
                  <a:lnTo>
                    <a:pt x="5753" y="540"/>
                  </a:lnTo>
                  <a:lnTo>
                    <a:pt x="1" y="540"/>
                  </a:lnTo>
                  <a:lnTo>
                    <a:pt x="1" y="600"/>
                  </a:lnTo>
                  <a:lnTo>
                    <a:pt x="5753" y="600"/>
                  </a:lnTo>
                  <a:lnTo>
                    <a:pt x="5753" y="648"/>
                  </a:lnTo>
                  <a:lnTo>
                    <a:pt x="1" y="648"/>
                  </a:lnTo>
                  <a:lnTo>
                    <a:pt x="1" y="708"/>
                  </a:lnTo>
                  <a:lnTo>
                    <a:pt x="5753" y="709"/>
                  </a:lnTo>
                  <a:lnTo>
                    <a:pt x="5753" y="756"/>
                  </a:lnTo>
                  <a:lnTo>
                    <a:pt x="1" y="756"/>
                  </a:lnTo>
                  <a:lnTo>
                    <a:pt x="1" y="816"/>
                  </a:lnTo>
                  <a:lnTo>
                    <a:pt x="5753" y="817"/>
                  </a:lnTo>
                  <a:lnTo>
                    <a:pt x="5753" y="865"/>
                  </a:lnTo>
                  <a:lnTo>
                    <a:pt x="1" y="864"/>
                  </a:lnTo>
                  <a:lnTo>
                    <a:pt x="1" y="925"/>
                  </a:lnTo>
                  <a:lnTo>
                    <a:pt x="5753" y="925"/>
                  </a:lnTo>
                  <a:lnTo>
                    <a:pt x="5753" y="973"/>
                  </a:lnTo>
                  <a:lnTo>
                    <a:pt x="1" y="972"/>
                  </a:lnTo>
                  <a:lnTo>
                    <a:pt x="1" y="1032"/>
                  </a:lnTo>
                  <a:lnTo>
                    <a:pt x="5753" y="1033"/>
                  </a:lnTo>
                  <a:lnTo>
                    <a:pt x="5753" y="1080"/>
                  </a:lnTo>
                  <a:lnTo>
                    <a:pt x="1" y="1080"/>
                  </a:lnTo>
                  <a:lnTo>
                    <a:pt x="1" y="1140"/>
                  </a:lnTo>
                  <a:lnTo>
                    <a:pt x="5753" y="1140"/>
                  </a:lnTo>
                  <a:lnTo>
                    <a:pt x="5753" y="1188"/>
                  </a:lnTo>
                  <a:lnTo>
                    <a:pt x="1" y="1188"/>
                  </a:lnTo>
                  <a:lnTo>
                    <a:pt x="1" y="1248"/>
                  </a:lnTo>
                  <a:lnTo>
                    <a:pt x="5753" y="1248"/>
                  </a:lnTo>
                  <a:lnTo>
                    <a:pt x="5753" y="1296"/>
                  </a:lnTo>
                  <a:lnTo>
                    <a:pt x="1" y="1297"/>
                  </a:lnTo>
                  <a:lnTo>
                    <a:pt x="1" y="1357"/>
                  </a:lnTo>
                  <a:lnTo>
                    <a:pt x="5753" y="1356"/>
                  </a:lnTo>
                  <a:lnTo>
                    <a:pt x="5753" y="1404"/>
                  </a:lnTo>
                  <a:lnTo>
                    <a:pt x="1" y="1404"/>
                  </a:lnTo>
                  <a:lnTo>
                    <a:pt x="1" y="1465"/>
                  </a:lnTo>
                  <a:lnTo>
                    <a:pt x="5753" y="1464"/>
                  </a:lnTo>
                  <a:lnTo>
                    <a:pt x="5753" y="1512"/>
                  </a:lnTo>
                  <a:lnTo>
                    <a:pt x="1" y="1512"/>
                  </a:lnTo>
                  <a:lnTo>
                    <a:pt x="1" y="1572"/>
                  </a:lnTo>
                  <a:lnTo>
                    <a:pt x="5753" y="1572"/>
                  </a:lnTo>
                  <a:lnTo>
                    <a:pt x="5753" y="1620"/>
                  </a:lnTo>
                  <a:lnTo>
                    <a:pt x="1" y="1620"/>
                  </a:lnTo>
                  <a:lnTo>
                    <a:pt x="1" y="1680"/>
                  </a:lnTo>
                  <a:lnTo>
                    <a:pt x="5753" y="1681"/>
                  </a:lnTo>
                  <a:lnTo>
                    <a:pt x="5753" y="1728"/>
                  </a:lnTo>
                  <a:lnTo>
                    <a:pt x="1" y="1728"/>
                  </a:lnTo>
                  <a:lnTo>
                    <a:pt x="1" y="1789"/>
                  </a:lnTo>
                  <a:lnTo>
                    <a:pt x="5753" y="1789"/>
                  </a:lnTo>
                  <a:lnTo>
                    <a:pt x="5753" y="1836"/>
                  </a:lnTo>
                  <a:lnTo>
                    <a:pt x="1" y="1836"/>
                  </a:lnTo>
                  <a:lnTo>
                    <a:pt x="1" y="1896"/>
                  </a:lnTo>
                  <a:lnTo>
                    <a:pt x="5753" y="1896"/>
                  </a:lnTo>
                  <a:lnTo>
                    <a:pt x="5753" y="1944"/>
                  </a:lnTo>
                  <a:lnTo>
                    <a:pt x="1" y="1944"/>
                  </a:lnTo>
                  <a:lnTo>
                    <a:pt x="1" y="2005"/>
                  </a:lnTo>
                  <a:lnTo>
                    <a:pt x="5753" y="2004"/>
                  </a:lnTo>
                  <a:lnTo>
                    <a:pt x="5753" y="2052"/>
                  </a:lnTo>
                  <a:lnTo>
                    <a:pt x="1" y="2052"/>
                  </a:lnTo>
                  <a:lnTo>
                    <a:pt x="1" y="2113"/>
                  </a:lnTo>
                  <a:lnTo>
                    <a:pt x="5753" y="2112"/>
                  </a:lnTo>
                  <a:lnTo>
                    <a:pt x="5753" y="2161"/>
                  </a:lnTo>
                  <a:lnTo>
                    <a:pt x="1" y="2160"/>
                  </a:lnTo>
                  <a:lnTo>
                    <a:pt x="1" y="2220"/>
                  </a:lnTo>
                  <a:lnTo>
                    <a:pt x="5753" y="2220"/>
                  </a:lnTo>
                  <a:lnTo>
                    <a:pt x="5753" y="2268"/>
                  </a:lnTo>
                  <a:lnTo>
                    <a:pt x="1" y="2268"/>
                  </a:lnTo>
                  <a:lnTo>
                    <a:pt x="1" y="2328"/>
                  </a:lnTo>
                  <a:lnTo>
                    <a:pt x="5753" y="2328"/>
                  </a:lnTo>
                  <a:lnTo>
                    <a:pt x="5753" y="2376"/>
                  </a:lnTo>
                  <a:lnTo>
                    <a:pt x="1" y="2376"/>
                  </a:lnTo>
                  <a:lnTo>
                    <a:pt x="1" y="2437"/>
                  </a:lnTo>
                  <a:lnTo>
                    <a:pt x="5753" y="2436"/>
                  </a:lnTo>
                  <a:lnTo>
                    <a:pt x="5753" y="2484"/>
                  </a:lnTo>
                  <a:lnTo>
                    <a:pt x="1" y="2484"/>
                  </a:lnTo>
                  <a:lnTo>
                    <a:pt x="1" y="2545"/>
                  </a:lnTo>
                  <a:lnTo>
                    <a:pt x="5753" y="2545"/>
                  </a:lnTo>
                  <a:lnTo>
                    <a:pt x="5753" y="2592"/>
                  </a:lnTo>
                  <a:lnTo>
                    <a:pt x="1" y="2592"/>
                  </a:lnTo>
                  <a:lnTo>
                    <a:pt x="1" y="2652"/>
                  </a:lnTo>
                  <a:lnTo>
                    <a:pt x="5753" y="2652"/>
                  </a:lnTo>
                  <a:lnTo>
                    <a:pt x="5753" y="2700"/>
                  </a:lnTo>
                  <a:lnTo>
                    <a:pt x="1" y="2700"/>
                  </a:lnTo>
                  <a:lnTo>
                    <a:pt x="1" y="2761"/>
                  </a:lnTo>
                  <a:lnTo>
                    <a:pt x="5753" y="2760"/>
                  </a:lnTo>
                  <a:lnTo>
                    <a:pt x="5753" y="2808"/>
                  </a:lnTo>
                  <a:lnTo>
                    <a:pt x="1" y="2808"/>
                  </a:lnTo>
                  <a:lnTo>
                    <a:pt x="1" y="2868"/>
                  </a:lnTo>
                  <a:lnTo>
                    <a:pt x="5753" y="2868"/>
                  </a:lnTo>
                  <a:lnTo>
                    <a:pt x="5753" y="2917"/>
                  </a:lnTo>
                  <a:lnTo>
                    <a:pt x="0" y="2917"/>
                  </a:lnTo>
                  <a:lnTo>
                    <a:pt x="1" y="2977"/>
                  </a:lnTo>
                  <a:lnTo>
                    <a:pt x="5753" y="2976"/>
                  </a:lnTo>
                  <a:lnTo>
                    <a:pt x="5753" y="3024"/>
                  </a:lnTo>
                  <a:lnTo>
                    <a:pt x="1" y="3024"/>
                  </a:lnTo>
                  <a:lnTo>
                    <a:pt x="1" y="3084"/>
                  </a:lnTo>
                  <a:lnTo>
                    <a:pt x="5753" y="3084"/>
                  </a:lnTo>
                  <a:lnTo>
                    <a:pt x="5753" y="3132"/>
                  </a:lnTo>
                  <a:lnTo>
                    <a:pt x="1" y="3132"/>
                  </a:lnTo>
                  <a:lnTo>
                    <a:pt x="1" y="3192"/>
                  </a:lnTo>
                  <a:lnTo>
                    <a:pt x="5753" y="3192"/>
                  </a:lnTo>
                  <a:lnTo>
                    <a:pt x="5753" y="3240"/>
                  </a:lnTo>
                  <a:lnTo>
                    <a:pt x="1" y="3240"/>
                  </a:lnTo>
                  <a:lnTo>
                    <a:pt x="1" y="3301"/>
                  </a:lnTo>
                  <a:lnTo>
                    <a:pt x="5753" y="3300"/>
                  </a:lnTo>
                  <a:lnTo>
                    <a:pt x="5753" y="3348"/>
                  </a:lnTo>
                  <a:lnTo>
                    <a:pt x="1" y="3348"/>
                  </a:lnTo>
                  <a:lnTo>
                    <a:pt x="1" y="3408"/>
                  </a:lnTo>
                  <a:lnTo>
                    <a:pt x="5753" y="3409"/>
                  </a:lnTo>
                  <a:lnTo>
                    <a:pt x="5753" y="3457"/>
                  </a:lnTo>
                  <a:lnTo>
                    <a:pt x="1" y="3456"/>
                  </a:lnTo>
                  <a:lnTo>
                    <a:pt x="1" y="3517"/>
                  </a:lnTo>
                  <a:lnTo>
                    <a:pt x="5753" y="3516"/>
                  </a:lnTo>
                  <a:lnTo>
                    <a:pt x="5753" y="3565"/>
                  </a:lnTo>
                  <a:lnTo>
                    <a:pt x="1" y="3565"/>
                  </a:lnTo>
                  <a:lnTo>
                    <a:pt x="1" y="3624"/>
                  </a:lnTo>
                  <a:lnTo>
                    <a:pt x="5753" y="3625"/>
                  </a:lnTo>
                  <a:lnTo>
                    <a:pt x="5753" y="3673"/>
                  </a:lnTo>
                  <a:lnTo>
                    <a:pt x="1" y="3672"/>
                  </a:lnTo>
                  <a:lnTo>
                    <a:pt x="1" y="3733"/>
                  </a:lnTo>
                  <a:lnTo>
                    <a:pt x="5753" y="3733"/>
                  </a:lnTo>
                  <a:lnTo>
                    <a:pt x="5753" y="3781"/>
                  </a:lnTo>
                  <a:lnTo>
                    <a:pt x="1" y="3781"/>
                  </a:lnTo>
                  <a:lnTo>
                    <a:pt x="1" y="3841"/>
                  </a:lnTo>
                  <a:lnTo>
                    <a:pt x="5753" y="3841"/>
                  </a:lnTo>
                  <a:lnTo>
                    <a:pt x="5753" y="38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60EF-4AF9-40E3-854D-8E0946C5B252}" type="slidenum">
              <a:rPr b="0" lang="zh-CN" sz="1400" spc="-1" strike="noStrike">
                <a:solidFill>
                  <a:srgbClr val="cc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2:04Z</dcterms:modified>
  <cp:revision>9</cp:revision>
  <dc:subject/>
  <dc:title>幻灯片 1</dc:title>
</cp:coreProperties>
</file>