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428-85B3-49CC-95E7-B2A3C16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41B-8F05-4CF8-B50D-642C93D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3DD-CD7B-431C-8B30-A42799F8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FB1-0F6E-48F5-8CDE-1D858909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92EB-5B14-47AC-A6BE-AAD3076B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60CE-9B76-40EB-ABE2-407884D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D402-9E15-4417-843C-8DFF40C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A69-EA6B-4AAB-A76D-DA72B88E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19C-F48D-4F59-8748-582FD72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0C22-5BE5-4F9D-BECD-1DDC8B3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A56F-15E8-41F6-B990-659078D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7BC-3A31-46D1-8459-1E7BBE9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7FC5-1769-4F28-88C5-A35033B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7B90-5534-4B87-A513-0BB4FA4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5553-95BE-49F6-BFB0-BCD1447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872-65EE-4FC3-A2FF-3C150F81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CFA-DF53-4776-9291-C8F48E6E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9CB-4144-4318-AA7A-9C81A13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D1E-3849-42A2-9D0A-90B3658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EAD-E06E-4893-921F-D404411E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C11-FC67-4756-9CA7-48040E34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25B-4C5B-4A50-8D79-333EA2F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DF5-5A35-40FA-8C0C-C3D0CE4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BFF-A60F-42AA-AC49-A6FEAE4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91CC-BAE3-4A90-AAD2-A5FCDA6D5E7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9C0-504B-481A-82B9-8F0A8B52C09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15Z</dcterms:modified>
  <cp:revision>45</cp:revision>
  <dc:subject/>
  <dc:title>幻灯片 1</dc:title>
</cp:coreProperties>
</file>