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851-38AF-43CD-8720-6836703B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A84-07E6-4BA4-A94A-3B3FB94D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BB6-DE04-4E7E-B2B4-18C9AB25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A22-368A-4A1A-9A32-27477CEE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F508-FA42-49F0-8DC1-7BD0570E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749-27DD-4C9D-8F11-932405C1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347-F3BC-420A-9C6B-B9F1EEF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62B-E457-4501-B59B-F9073D3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739D-C165-4A49-BC21-DD39FA4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D76-FB3F-4802-9F3B-18D3A8D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0E6-003C-46F5-A6E7-532B583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8C2-2C90-4559-857B-0D62C780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8C90-2497-4C76-8288-05EE190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DB7C-1681-4A27-AD86-1ACC666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B14B-8545-43B4-9E4E-E9B96DC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71BB-61FC-4017-B4AA-962C4400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3FBF-8190-4F9C-8134-27B7227F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D47-6C64-4228-9925-73DB746E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256-FEFF-40A0-8745-D558488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CB3-672A-4285-9BD2-5A71BFB3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966-545F-44FD-B1EC-CB76DC1A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912-C7DE-4A14-977E-B44E21F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FA9-0F20-4A3C-9B03-41C2780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AFE-0C17-4B5C-8532-2903F5E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6A4D-0C9D-45C7-A1FC-1DA91057E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13CC-218E-4111-B432-6B6E16487A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35Z</dcterms:modified>
  <cp:revision>19</cp:revision>
  <dc:subject/>
  <dc:title>幻灯片 1</dc:title>
</cp:coreProperties>
</file>