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1CE-64FA-440E-858E-96E58828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B29-70F5-47CC-9ED8-D3ED2F89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EA8-2257-4304-85D2-95CF4E7A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804-73CB-4554-A31E-28B21B74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C657-B842-4C39-997A-A4EB9417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5C58-AE55-47D2-B7D5-0532B4C1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8977-F5D8-487B-9D25-8719E076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ACBA-17BF-4C33-A1CD-60CB825D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A263-D8F5-4ABB-B60E-2053C26D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2A45-56CF-47E8-9E14-7CD92B75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350F-1774-411C-92E8-3B81D62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942-00E5-4320-84BE-0CB9980A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3A6E-C660-472B-8B1D-12C2C7B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AE82-B451-4468-968A-8289D999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B664-892C-44FE-B776-7B6422E0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BC98-0201-4197-9C53-790D3B56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C2BD-DAAD-4415-8B6C-981FD9D4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897-C031-46A8-8EE7-F6ED93FB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1D3-F882-4028-B7A0-6913EA87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693-63DF-4E88-AD49-D2C98EA7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141-AD9B-4D56-A8B2-1CBA59B3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287-CA6F-4F46-9A93-D665A59D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77A-C1A4-4033-A885-265876EC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BD5-A45A-4197-A76B-245261B9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D435-B9E0-4461-BEBC-216374F1E00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E2CD-3233-4093-9C5F-ADCE5E7B2CE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9" name="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42Z</dcterms:modified>
  <cp:revision>13</cp:revision>
  <dc:subject/>
  <dc:title>幻灯片 1</dc:title>
</cp:coreProperties>
</file>