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6BC6B-6253-4F44-9551-7D786381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3B9D-BDF2-474C-AFC0-098660FA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3B617-6A0B-4C4B-85C8-265495C1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078A-31B8-41A8-9C96-1963A3AA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F48D-7373-4C6A-80B5-96632925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D3A1-21F5-4FC5-8209-7E4FAC77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82D2-855A-43EA-BCF6-6A21E5BA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CE2A-1025-4808-A9CB-C0F389E0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8B55-9915-4533-9015-1354F931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33EA-0C57-401B-9E9B-16B80400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2DF2-C5D3-43E1-9FAF-21B1BDB0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EA88E-620F-45EB-B12E-63561347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E34C-047B-4181-9584-59E5C1B0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8E7A-9B23-492D-AB0A-573C9C54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81D9-C761-43C9-AFAE-890907FF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B345-3182-4FB5-9890-EB257EB8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AE77-C4AE-467A-91CF-010C1D25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06B6-5BFC-42E2-8869-ACC7145B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EC90-873C-429E-A489-91CFB424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F692-F8BA-4170-AE4C-27FD99FE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2C08-3422-460B-B588-5BC91166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173AE-049D-4B3F-9900-BF86F49A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D954D-1923-4AB2-A48C-49E1948D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DE85-93A1-492D-AF51-112F8951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35560"/>
            <a:ext cx="2449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24760"/>
            <a:ext cx="242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500040"/>
            <a:ext cx="142920" cy="1573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06440" y="50652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0" y="0"/>
                </a:moveTo>
                <a:lnTo>
                  <a:pt x="0" y="98"/>
                </a:lnTo>
                <a:lnTo>
                  <a:pt x="17" y="98"/>
                </a:lnTo>
                <a:lnTo>
                  <a:pt x="36" y="102"/>
                </a:lnTo>
                <a:lnTo>
                  <a:pt x="51" y="116"/>
                </a:lnTo>
                <a:lnTo>
                  <a:pt x="58" y="133"/>
                </a:lnTo>
                <a:lnTo>
                  <a:pt x="58" y="150"/>
                </a:lnTo>
                <a:lnTo>
                  <a:pt x="152" y="149"/>
                </a:lnTo>
                <a:lnTo>
                  <a:pt x="152" y="131"/>
                </a:lnTo>
                <a:lnTo>
                  <a:pt x="150" y="114"/>
                </a:lnTo>
                <a:lnTo>
                  <a:pt x="147" y="100"/>
                </a:lnTo>
                <a:lnTo>
                  <a:pt x="143" y="88"/>
                </a:lnTo>
                <a:lnTo>
                  <a:pt x="138" y="70"/>
                </a:lnTo>
                <a:lnTo>
                  <a:pt x="133" y="57"/>
                </a:lnTo>
                <a:lnTo>
                  <a:pt x="125" y="47"/>
                </a:lnTo>
                <a:lnTo>
                  <a:pt x="116" y="35"/>
                </a:lnTo>
                <a:lnTo>
                  <a:pt x="102" y="24"/>
                </a:lnTo>
                <a:lnTo>
                  <a:pt x="88" y="15"/>
                </a:lnTo>
                <a:lnTo>
                  <a:pt x="66" y="7"/>
                </a:lnTo>
                <a:lnTo>
                  <a:pt x="39" y="1"/>
                </a:lnTo>
                <a:lnTo>
                  <a:pt x="21" y="0"/>
                </a:lnTo>
                <a:lnTo>
                  <a:pt x="0" y="0"/>
                </a:lnTo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10800" y="456840"/>
            <a:ext cx="295200" cy="250920"/>
          </a:xfrm>
          <a:prstGeom prst="triangle">
            <a:avLst>
              <a:gd name="adj" fmla="val 49995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99880" y="68400"/>
            <a:ext cx="289080" cy="272880"/>
          </a:xfrm>
          <a:prstGeom prst="triangle">
            <a:avLst>
              <a:gd name="adj" fmla="val 4999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76120" y="341280"/>
            <a:ext cx="642600" cy="6516720"/>
            <a:chOff x="276120" y="341280"/>
            <a:chExt cx="642600" cy="6516720"/>
          </a:xfrm>
        </p:grpSpPr>
        <p:sp>
          <p:nvSpPr>
            <p:cNvPr id="10" name=""/>
            <p:cNvSpPr/>
            <p:nvPr/>
          </p:nvSpPr>
          <p:spPr>
            <a:xfrm>
              <a:off x="500040" y="744480"/>
              <a:ext cx="149400" cy="61135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" name=""/>
            <p:cNvGrpSpPr/>
            <p:nvPr/>
          </p:nvGrpSpPr>
          <p:grpSpPr>
            <a:xfrm>
              <a:off x="276120" y="743040"/>
              <a:ext cx="642600" cy="6114960"/>
              <a:chOff x="276120" y="743040"/>
              <a:chExt cx="642600" cy="6114960"/>
            </a:xfrm>
          </p:grpSpPr>
          <p:grpSp>
            <p:nvGrpSpPr>
              <p:cNvPr id="12" name=""/>
              <p:cNvGrpSpPr/>
              <p:nvPr/>
            </p:nvGrpSpPr>
            <p:grpSpPr>
              <a:xfrm>
                <a:off x="277920" y="743040"/>
                <a:ext cx="640800" cy="307800"/>
                <a:chOff x="277920" y="743040"/>
                <a:chExt cx="640800" cy="307800"/>
              </a:xfrm>
            </p:grpSpPr>
            <p:sp>
              <p:nvSpPr>
                <p:cNvPr id="13" name=""/>
                <p:cNvSpPr/>
                <p:nvPr/>
              </p:nvSpPr>
              <p:spPr>
                <a:xfrm>
                  <a:off x="277920" y="814320"/>
                  <a:ext cx="245880" cy="236520"/>
                </a:xfrm>
                <a:custGeom>
                  <a:avLst/>
                  <a:gdLst/>
                  <a:ahLst/>
                  <a:rect l="l" t="t" r="r" b="b"/>
                  <a:pathLst>
                    <a:path w="155" h="149">
                      <a:moveTo>
                        <a:pt x="154" y="0"/>
                      </a:moveTo>
                      <a:lnTo>
                        <a:pt x="154" y="97"/>
                      </a:lnTo>
                      <a:lnTo>
                        <a:pt x="136" y="97"/>
                      </a:lnTo>
                      <a:lnTo>
                        <a:pt x="117" y="101"/>
                      </a:lnTo>
                      <a:lnTo>
                        <a:pt x="102" y="115"/>
                      </a:lnTo>
                      <a:lnTo>
                        <a:pt x="94" y="132"/>
                      </a:lnTo>
                      <a:lnTo>
                        <a:pt x="94" y="148"/>
                      </a:lnTo>
                      <a:lnTo>
                        <a:pt x="0" y="148"/>
                      </a:lnTo>
                      <a:lnTo>
                        <a:pt x="0" y="129"/>
                      </a:lnTo>
                      <a:lnTo>
                        <a:pt x="1" y="112"/>
                      </a:lnTo>
                      <a:lnTo>
                        <a:pt x="4" y="99"/>
                      </a:lnTo>
                      <a:lnTo>
                        <a:pt x="8" y="87"/>
                      </a:lnTo>
                      <a:lnTo>
                        <a:pt x="13" y="70"/>
                      </a:lnTo>
                      <a:lnTo>
                        <a:pt x="18" y="57"/>
                      </a:lnTo>
                      <a:lnTo>
                        <a:pt x="26" y="47"/>
                      </a:lnTo>
                      <a:lnTo>
                        <a:pt x="36" y="35"/>
                      </a:lnTo>
                      <a:lnTo>
                        <a:pt x="49" y="24"/>
                      </a:lnTo>
                      <a:lnTo>
                        <a:pt x="64" y="15"/>
                      </a:lnTo>
                      <a:lnTo>
                        <a:pt x="86" y="7"/>
                      </a:lnTo>
                      <a:lnTo>
                        <a:pt x="113" y="1"/>
                      </a:lnTo>
                      <a:lnTo>
                        <a:pt x="131" y="0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flipH="1" rot="5400000">
                  <a:off x="643680" y="763560"/>
                  <a:ext cx="295200" cy="253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522360" y="814320"/>
                  <a:ext cx="142920" cy="15552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" name=""/>
              <p:cNvSpPr/>
              <p:nvPr/>
            </p:nvSpPr>
            <p:spPr>
              <a:xfrm>
                <a:off x="276120" y="1042920"/>
                <a:ext cx="142920" cy="581508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385920" y="341280"/>
              <a:ext cx="144360" cy="65167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344160" y="6035760"/>
            <a:ext cx="2475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2895480" y="603576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629400" y="6035760"/>
            <a:ext cx="21700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-6480"/>
            <a:ext cx="9142560" cy="6856560"/>
            <a:chOff x="0" y="-6480"/>
            <a:chExt cx="9142560" cy="6856560"/>
          </a:xfrm>
        </p:grpSpPr>
        <p:grpSp>
          <p:nvGrpSpPr>
            <p:cNvPr id="58" name=""/>
            <p:cNvGrpSpPr/>
            <p:nvPr/>
          </p:nvGrpSpPr>
          <p:grpSpPr>
            <a:xfrm>
              <a:off x="52560" y="-6480"/>
              <a:ext cx="520560" cy="6235920"/>
              <a:chOff x="52560" y="-6480"/>
              <a:chExt cx="520560" cy="6235920"/>
            </a:xfrm>
          </p:grpSpPr>
          <p:sp>
            <p:nvSpPr>
              <p:cNvPr id="59" name=""/>
              <p:cNvSpPr/>
              <p:nvPr/>
            </p:nvSpPr>
            <p:spPr>
              <a:xfrm>
                <a:off x="52560" y="174600"/>
                <a:ext cx="168120" cy="605484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65160" y="-6480"/>
                <a:ext cx="507960" cy="325440"/>
                <a:chOff x="65160" y="-6480"/>
                <a:chExt cx="507960" cy="3254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65160" y="76320"/>
                  <a:ext cx="179280" cy="169920"/>
                </a:xfrm>
                <a:prstGeom prst="ellipse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65240" y="-6480"/>
                  <a:ext cx="407880" cy="325440"/>
                </a:xfrm>
                <a:prstGeom prst="rightArrow">
                  <a:avLst>
                    <a:gd name="adj1" fmla="val 50000"/>
                    <a:gd name="adj2" fmla="val 62671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" name=""/>
            <p:cNvGrpSpPr/>
            <p:nvPr/>
          </p:nvGrpSpPr>
          <p:grpSpPr>
            <a:xfrm>
              <a:off x="652320" y="69840"/>
              <a:ext cx="8490240" cy="511200"/>
              <a:chOff x="652320" y="69840"/>
              <a:chExt cx="8490240" cy="511200"/>
            </a:xfrm>
          </p:grpSpPr>
          <p:sp>
            <p:nvSpPr>
              <p:cNvPr id="64" name=""/>
              <p:cNvSpPr/>
              <p:nvPr/>
            </p:nvSpPr>
            <p:spPr>
              <a:xfrm>
                <a:off x="652320" y="69840"/>
                <a:ext cx="8344080" cy="1634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00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8831160" y="71280"/>
                <a:ext cx="311400" cy="509760"/>
                <a:chOff x="8831160" y="71280"/>
                <a:chExt cx="311400" cy="5097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8901000" y="71280"/>
                  <a:ext cx="165240" cy="1796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831160" y="169920"/>
                  <a:ext cx="311400" cy="411120"/>
                </a:xfrm>
                <a:prstGeom prst="downArrow">
                  <a:avLst>
                    <a:gd name="adj1" fmla="val 50000"/>
                    <a:gd name="adj2" fmla="val 66018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" name=""/>
            <p:cNvGrpSpPr/>
            <p:nvPr/>
          </p:nvGrpSpPr>
          <p:grpSpPr>
            <a:xfrm>
              <a:off x="0" y="6283440"/>
              <a:ext cx="8488440" cy="512640"/>
              <a:chOff x="0" y="6283440"/>
              <a:chExt cx="8488440" cy="512640"/>
            </a:xfrm>
          </p:grpSpPr>
          <p:sp>
            <p:nvSpPr>
              <p:cNvPr id="69" name=""/>
              <p:cNvSpPr/>
              <p:nvPr/>
            </p:nvSpPr>
            <p:spPr>
              <a:xfrm>
                <a:off x="149400" y="6632640"/>
                <a:ext cx="8339040" cy="1634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00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0" y="6283440"/>
                <a:ext cx="309600" cy="511200"/>
                <a:chOff x="0" y="6283440"/>
                <a:chExt cx="309600" cy="5112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76320" y="6613560"/>
                  <a:ext cx="164880" cy="181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0" y="6283440"/>
                  <a:ext cx="309600" cy="411120"/>
                </a:xfrm>
                <a:prstGeom prst="upArrow">
                  <a:avLst>
                    <a:gd name="adj1" fmla="val 50000"/>
                    <a:gd name="adj2" fmla="val 66389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" name=""/>
            <p:cNvGrpSpPr/>
            <p:nvPr/>
          </p:nvGrpSpPr>
          <p:grpSpPr>
            <a:xfrm>
              <a:off x="8569440" y="636480"/>
              <a:ext cx="507960" cy="6213600"/>
              <a:chOff x="8569440" y="636480"/>
              <a:chExt cx="507960" cy="6213600"/>
            </a:xfrm>
          </p:grpSpPr>
          <p:sp>
            <p:nvSpPr>
              <p:cNvPr id="74" name=""/>
              <p:cNvSpPr/>
              <p:nvPr/>
            </p:nvSpPr>
            <p:spPr>
              <a:xfrm>
                <a:off x="8908920" y="636480"/>
                <a:ext cx="168480" cy="60325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8569440" y="6526080"/>
                <a:ext cx="507960" cy="324000"/>
                <a:chOff x="8569440" y="6526080"/>
                <a:chExt cx="507960" cy="3240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8897760" y="6599160"/>
                  <a:ext cx="179640" cy="1684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569440" y="6526080"/>
                  <a:ext cx="407880" cy="324000"/>
                </a:xfrm>
                <a:prstGeom prst="leftArrow">
                  <a:avLst>
                    <a:gd name="adj1" fmla="val 50000"/>
                    <a:gd name="adj2" fmla="val 62938"/>
                  </a:avLst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12Z</dcterms:modified>
  <cp:revision>3</cp:revision>
  <dc:subject/>
  <dc:title>幻灯片 1</dc:title>
</cp:coreProperties>
</file>