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F6E-9739-4418-B820-001026A9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311-D2BA-43F2-BE9D-822AC547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BCF-A0F8-49DA-9F24-5BCCDE43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5D3-E47C-44F7-90B8-67FB825D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8F9D-C08B-4EE9-9D25-E10F41CB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BEB2-F90A-48F2-89B8-1FE7C2A4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4FF6-0A70-4C5A-8528-66EC05BB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34D-32ED-4C0A-8A86-3D3CCA1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28A5-7B66-4581-AD20-0D75AAE8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6F67-4123-4EDE-8043-DC93F13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5CB6-E2FE-4E3C-856F-60A71692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5BF-535A-4037-BDC7-590DD2CC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8F53-295C-4729-8CCB-7E6DCF1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0298-31D4-4B29-8218-6BA4A59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B355-DFFD-4276-9570-372A8EB1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5250-065C-4D95-ADB1-DDA278AD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E053-452D-483A-AD6A-FB370138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BE1-04DD-41AE-9D65-102197F3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0EF-26E7-46D0-8079-79402ACE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866-CB13-4D70-9E31-56A2A593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9C7-2BCA-40CF-9F14-01758D8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692-E85B-4F79-9B71-4291701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AC7-294C-4447-8BB0-1D285F82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0CD-9912-4ECB-A25B-174178CC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7442-40C9-432E-8D87-40A39465EAE6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4AAE-53D4-43A8-975D-0AE8108BDB3F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48Z</dcterms:modified>
  <cp:revision>14</cp:revision>
  <dc:subject/>
  <dc:title>幻灯片 1</dc:title>
</cp:coreProperties>
</file>