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2BD-DF43-4FE5-8017-5AE6D03D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1ED-D926-4D2C-820B-6F559BF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B6E-0A15-40FC-98E7-6EBFC6EF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122-D8E1-4852-913E-3F7D2731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1E94-FD82-4B5F-975F-8D88CC94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84D5-7B83-4AA8-AF14-F574ABB4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A10-DD1A-4FFC-A4C3-CE913E60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17D-4B8F-401F-909D-5DBFE806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F08-A143-4236-B784-4C0CF93C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BE31-7C39-4CED-8FE7-29F9D6D7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8C16-5AB2-43D7-8FE2-10A4597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FAE-74FE-48CA-8CB9-2B3423CD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D7E-9956-4A94-A5A2-E7750BA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787B-CC6F-4663-B19E-AA3EE86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CCC1-7321-4744-AAAD-B6F59DAD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53DE-B0FC-4ADC-9241-72840408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5E6C-67CF-428D-AA67-4CED9502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4F5-21C9-443A-A620-524E174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16E-8AAF-4740-994F-664CDB24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F3B-4FF3-4C00-8578-9B9D705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B3C-A834-4D6F-B503-AF9E139A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D2F-3A02-4C6B-9CC0-7E01C4A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98C-9945-467E-B9EE-4325905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8B8-D181-4810-9EC0-B9416B9D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"/>
            <p:cNvSpPr/>
            <p:nvPr/>
          </p:nvSpPr>
          <p:spPr>
            <a:xfrm>
              <a:off x="111240" y="5702400"/>
              <a:ext cx="8997840" cy="928440"/>
            </a:xfrm>
            <a:custGeom>
              <a:avLst/>
              <a:gdLst/>
              <a:ahLst/>
              <a:rect l="l" t="t" r="r" b="b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2600" y="5743440"/>
              <a:ext cx="9175680" cy="1130400"/>
            </a:xfrm>
            <a:custGeom>
              <a:avLst/>
              <a:gdLst/>
              <a:ahLst/>
              <a:rect l="l" t="t" r="r" b="b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3CED-12E0-4D96-A104-FFC97541D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/>
              <a:ahLst/>
              <a:rect l="l" t="t" r="r" b="b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/>
              <a:ahLst/>
              <a:rect l="l" t="t" r="r" b="b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051E-93F7-4693-9668-10DFE8238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04Z</dcterms:modified>
  <cp:revision>15</cp:revision>
  <dc:subject/>
  <dc:title>幻灯片 1</dc:title>
</cp:coreProperties>
</file>