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090-90D0-40EA-BE2C-F3BEFB7F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F33E-137A-4D6B-B376-0920D11B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DB4-721D-4EDA-949A-A8087D84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F8D-C309-433E-89D0-4F77D332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AB2B-C82A-4BCC-8397-D1736D96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C242-70F0-4C74-A9AC-7CA41105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DF41-1B3C-41D1-8EEA-1A42B0CC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363A-03AA-4FDB-AF40-35361E3D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5084-E3EB-4832-B5A0-A5374AFB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2495-3EAD-4A75-B46E-0C0ED629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219B-B79A-43C6-B184-91C146BB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47B-6702-4BE2-A1C6-7E4048D5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C7F4-D21E-4D56-AA58-8F6D78AF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B3D4-5BD0-4278-8C47-887DEA1B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D7E7-222B-4FE8-BC9F-560D2698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449A-2EBE-487F-8511-81975715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F3C0-1FFD-4063-849F-174F3116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9D1-B92F-4D3D-B60C-1BD946AA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828-5069-4E9A-9031-984084FD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697-A5EF-48B9-BC3F-D81DC98E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0C4-AD7F-4CE1-9C6C-8BB846DE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ECC-3AE5-444B-A9F9-24CE2DE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21F-1D43-449C-BF61-E92D594B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D5D-F9B1-4F55-8F81-BBA44446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" name="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55Z</dcterms:modified>
  <cp:revision>22</cp:revision>
  <dc:subject/>
  <dc:title>幻灯片 1</dc:title>
</cp:coreProperties>
</file>