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3B2C-0293-4EAE-97FF-924F042655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E572-9AB1-4427-B1E9-BFAA6F4D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3B58-B721-43B9-BE4F-572434DE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1BA5-2467-40E2-8CA1-CB713B3A99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C006-4DAB-4C60-830D-1BE9806E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3A51-7F38-492D-B9DE-EE2DCA38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B195D-DF8E-4FB7-BBF9-A2C28FAB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38E9-18B3-42E6-B76A-C303710D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D45E-9CBE-426B-85A4-DF1B9E15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47F3-56C1-4B4F-8A33-DF91D677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43B0-EB54-4BAE-BD2F-E1B078D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4687-0BF8-4806-933A-E9914D1E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BF13-C578-49CC-8766-094875D84E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15Z</dcterms:modified>
  <cp:revision>54</cp:revision>
  <dc:subject/>
  <dc:title>幻灯片 1</dc:title>
</cp:coreProperties>
</file>