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059-A2A4-462D-83D1-4FE48A8E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9C4-E4E1-4BD7-BC41-D7A57FE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2E6-C6F2-4D30-9866-8F874419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818-5661-4BEC-ABD7-82043E4C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1E5-6D52-423C-AD42-FB79EF68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2EA2-7BC7-40B7-AB55-B2B58776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176-D9FE-4B90-B303-80144B9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8215-38C3-451E-9622-ECF0EAC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A9F-03D7-4133-90ED-D13EB41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09B-7BEF-48DD-BC7B-EBE678E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216-7D89-4163-853C-8FBB9E6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1F8-462A-4B33-9ED2-E03DCD64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53B0-CD5D-4C4A-ACE8-25B1E53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149-EADC-4C27-9BF6-E82351E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9B64-5D54-4FB3-BCF7-E5D86B7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5660-CF8F-4E8D-A5C7-91E3D8E0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65F-D690-4015-8487-EC371E95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412-4016-43F4-BA36-7558F62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3B2-A811-455A-A827-46D26B4D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B7B-13AA-4FF4-8E30-45FED3B0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A68-8703-4BDA-B3A3-6528E3F7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6FA-41C0-4D75-BEDD-24EAFEB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1B3-5D83-4E34-AB74-EA101BA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A63-5478-4069-9F16-E59C32F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357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EF33-4711-4C6A-9200-BA73C77053C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A16-6F80-4501-AD2A-C182DB4CAAE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8720" y="658008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40Z</dcterms:modified>
  <cp:revision>56</cp:revision>
  <dc:subject/>
  <dc:title>幻灯片 1</dc:title>
</cp:coreProperties>
</file>