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986-B6DE-4589-A859-D4CBBDCF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DEF-0844-4E08-9613-163BBF45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D6D-6C7C-4B02-8205-45BCC607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986-288D-4004-813A-765C938B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CE1B-100A-4569-9B75-AAACD4AC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A88E-F973-46F6-9541-FAF73B9F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0B43-43F4-4EB4-A1A9-5D2E6F35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0687-1255-4355-87F4-3AFC8740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A91C-06B5-4DEB-BF9D-6B5102A2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CD63-94EB-4073-8245-06926F59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2D5E-BF5C-42E1-8063-BD2E7723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17F-D20D-4B6A-BC2B-4A345429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114A-C3A9-40AC-B552-A115C053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09DB-4D50-4A41-B8AF-A0780D73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DC44-42DB-4060-AC9C-AF5585F7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9AE1-1246-4899-8BF0-1DAB1DC4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BDE5-262C-451A-A5BE-E62B4BE0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95F-99A6-4C99-9CE3-ECCE5B83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6E5-375F-48CA-B2E8-400E8A80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2B3-BB33-42C6-8266-8936DDAB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A3B-33A3-47F1-9C7A-CC0EE294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36B-48FA-4590-A7DF-9D3EA505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F0C-E226-4065-A49F-5B5EBC71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5F9-A62D-4544-9AD0-929F8F01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FBCA-7693-480C-B672-5A3140B8961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9E98-90FD-47D1-89CB-7B4F015FC7C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07Z</dcterms:modified>
  <cp:revision>44</cp:revision>
  <dc:subject/>
  <dc:title>幻灯片 1</dc:title>
</cp:coreProperties>
</file>