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06C-FD28-41A3-A249-B252DF06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745-B51D-4042-91B8-9DAEAF3A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D68-E3C7-4FD7-AB2F-F0597E6A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4048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480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7652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4048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480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EEB-1C86-4A21-B3C6-A5AECCA0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CA32-7203-4421-929C-3BFEC52A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14A6-0BE3-4684-86C0-11C538D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04B3-1492-4347-BA16-6D669F57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D14-0B31-4088-B3BC-F3AC0892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02B-EA79-4150-8CFC-CA23F667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1DC-857C-408F-9626-23B2959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82D8-9A33-4E21-8891-CA46D0D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50F-6150-4B38-AE1B-79612785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58A2-DC04-446F-B9E6-5F95E5C6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7D70-1B98-4060-8DC3-D573AC7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BF4-5D77-417F-969B-E01E00FD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A8A1-F7D9-48F5-A7C0-A45DCD0F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048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0480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67652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4048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0480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7725-C094-4A2A-9864-D2F8B394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ABA-8CFC-4775-873E-0C514146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42E-BDF5-4C5A-B704-48DE391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140-058A-4EAC-967F-CF3C4A15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720-B509-49F2-92C0-1638685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20D-7370-4C61-A85D-0B876A6C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189-D621-47D3-9E8A-1C088CD6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A44-8056-41B8-83D6-7676FA1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2240" y="-25560"/>
            <a:ext cx="10686240" cy="7440120"/>
            <a:chOff x="-1542240" y="-25560"/>
            <a:chExt cx="10686240" cy="7440120"/>
          </a:xfrm>
        </p:grpSpPr>
        <p:grpSp>
          <p:nvGrpSpPr>
            <p:cNvPr id="1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2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0" y="6280200"/>
              <a:ext cx="9144000" cy="605880"/>
              <a:chOff x="0" y="6280200"/>
              <a:chExt cx="9144000" cy="605880"/>
            </a:xfrm>
          </p:grpSpPr>
          <p:sp>
            <p:nvSpPr>
              <p:cNvPr id="18" name=""/>
              <p:cNvSpPr/>
              <p:nvPr/>
            </p:nvSpPr>
            <p:spPr>
              <a:xfrm>
                <a:off x="2590920" y="6280200"/>
                <a:ext cx="2757240" cy="60588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280200"/>
                <a:ext cx="2757600" cy="605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943600" y="6280560"/>
                <a:ext cx="2760840" cy="60552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8120" y="6280560"/>
                <a:ext cx="3301920" cy="60480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676520" y="6283080"/>
                <a:ext cx="1981080" cy="603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280920"/>
                <a:ext cx="1981440" cy="6048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V="1">
                <a:off x="7162920" y="6281280"/>
                <a:ext cx="1981080" cy="60408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00400" y="62197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8897000">
              <a:off x="2358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8897000">
              <a:off x="1215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18897000">
              <a:off x="47160" y="61189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flipV="1">
              <a:off x="913680" y="62064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flipV="1">
              <a:off x="38052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flipV="1">
              <a:off x="4819680" y="62827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flipV="1">
              <a:off x="632448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5486400" y="62064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62406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CB3-477E-49AA-8484-96E60B485C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542240" y="-25560"/>
            <a:ext cx="10686240" cy="6897960"/>
            <a:chOff x="-1542240" y="-25560"/>
            <a:chExt cx="10686240" cy="6897960"/>
          </a:xfrm>
        </p:grpSpPr>
        <p:grpSp>
          <p:nvGrpSpPr>
            <p:cNvPr id="78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79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3319560"/>
              <a:ext cx="9144000" cy="1762920"/>
              <a:chOff x="0" y="3319560"/>
              <a:chExt cx="9144000" cy="176292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0" y="3948120"/>
                <a:ext cx="9144000" cy="605880"/>
                <a:chOff x="0" y="3948120"/>
                <a:chExt cx="9144000" cy="605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0920" y="3948120"/>
                  <a:ext cx="2757240" cy="60588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0" y="3948120"/>
                  <a:ext cx="2757600" cy="60552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943600" y="3948480"/>
                  <a:ext cx="2760840" cy="605520"/>
                </a:xfrm>
                <a:custGeom>
                  <a:avLst/>
                  <a:gdLst/>
                  <a:ahLst/>
                  <a:rect l="l" t="t" r="r" b="b"/>
                  <a:pathLst>
                    <a:path w="1739" h="4420">
                      <a:moveTo>
                        <a:pt x="494" y="4415"/>
                      </a:moveTo>
                      <a:lnTo>
                        <a:pt x="1739" y="44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4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48120" y="3948480"/>
                  <a:ext cx="3301920" cy="604800"/>
                </a:xfrm>
                <a:custGeom>
                  <a:avLst/>
                  <a:gdLst/>
                  <a:ahLst/>
                  <a:rect l="l" t="t" r="r" b="b"/>
                  <a:pathLst>
                    <a:path w="2080" h="4338">
                      <a:moveTo>
                        <a:pt x="0" y="7"/>
                      </a:moveTo>
                      <a:lnTo>
                        <a:pt x="1870" y="4338"/>
                      </a:lnTo>
                      <a:lnTo>
                        <a:pt x="2080" y="4338"/>
                      </a:lnTo>
                      <a:lnTo>
                        <a:pt x="103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676520" y="3951000"/>
                  <a:ext cx="1981080" cy="6030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952880" y="3948840"/>
                  <a:ext cx="1981440" cy="6048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7162920" y="3949200"/>
                  <a:ext cx="1981080" cy="60408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solidFill>
                <a:srgbClr val="0000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00400" y="3887640"/>
                <a:ext cx="1644840" cy="666720"/>
              </a:xfrm>
              <a:custGeom>
                <a:avLst/>
                <a:gdLst/>
                <a:ahLst/>
                <a:rect l="l" t="t" r="r" b="b"/>
                <a:pathLst>
                  <a:path w="1036" h="420">
                    <a:moveTo>
                      <a:pt x="1027" y="0"/>
                    </a:moveTo>
                    <a:cubicBezTo>
                      <a:pt x="508" y="159"/>
                      <a:pt x="167" y="347"/>
                      <a:pt x="0" y="417"/>
                    </a:cubicBezTo>
                    <a:cubicBezTo>
                      <a:pt x="0" y="417"/>
                      <a:pt x="12" y="418"/>
                      <a:pt x="24" y="420"/>
                    </a:cubicBezTo>
                    <a:cubicBezTo>
                      <a:pt x="237" y="321"/>
                      <a:pt x="708" y="105"/>
                      <a:pt x="1036" y="16"/>
                    </a:cubicBezTo>
                    <a:cubicBezTo>
                      <a:pt x="1036" y="16"/>
                      <a:pt x="1027" y="0"/>
                      <a:pt x="10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897000">
                <a:off x="2358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8897000">
                <a:off x="1215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18897000">
                <a:off x="47160" y="3786840"/>
                <a:ext cx="1641600" cy="77292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913680" y="3874320"/>
                <a:ext cx="563868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38052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4819680" y="3950640"/>
                <a:ext cx="2114640" cy="60804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632448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486400" y="3874320"/>
                <a:ext cx="365760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908520"/>
                <a:ext cx="9144000" cy="2196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50000">
                    <a:srgbClr val="9ce157"/>
                  </a:gs>
                  <a:gs pos="100000">
                    <a:srgbClr val="0000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219320" y="2590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8B33-AEBB-4884-BCBF-60BEC85E993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54Z</dcterms:modified>
  <cp:revision>8</cp:revision>
  <dc:subject/>
  <dc:title>幻灯片 1</dc:title>
</cp:coreProperties>
</file>