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213-7B90-41E8-88B2-0030AA21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12C-BF29-4E60-B590-A9487AB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002-8E4E-4DD5-9ACB-81D339FA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C36-46FF-4CFA-A5D6-0CBC751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12E-869B-4998-8AB9-6F4A5FF8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AD0-0AE3-4D03-87A3-2BE130B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8B1-3AE3-4A4C-AFBD-38AD85B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4F4-C57C-4567-8336-B62998F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412-A188-40BE-9DF7-48FF399D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359-B811-4176-BDD0-BFF0C72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552-BA26-4BC8-8C04-CEA88D3D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7E4-9468-4DD1-8F22-9006B5CF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658008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83A2-5112-4D79-8B02-37BF96856F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30Z</dcterms:modified>
  <cp:revision>55</cp:revision>
  <dc:subject/>
  <dc:title>幻灯片 1</dc:title>
</cp:coreProperties>
</file>