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C05-CFC6-4A2E-BFA0-478902AA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1DC-E70D-4D99-9B09-A592EE2F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C8D-76FB-4382-9EAF-F7468804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07A-25D6-437B-9D7C-28B9592E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83AE-0873-499D-AFE0-5BBE3DA9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1E4B-2E62-45C5-A634-9E70CE0F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2BAC-1DAD-40BB-972A-CBA28DC0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AFDE-3CF9-4197-A979-74FC3B1E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D4EE-20CA-4560-96EA-0579D0E9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E740-80B2-4245-872E-B8A34D7A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2B8C-3F6C-4D55-9698-6AE9C72A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918-1AF7-48A9-825E-823A4B19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6EA5-C394-4430-B460-1328E9DB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7235-2A72-4FF9-ACB0-26CB092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EA9C-0F4C-4B4E-9BC3-9F48B217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D669-F674-4E19-9C33-DE8A35A4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B4F0-D554-49B1-9E9E-F2A4F84B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69B-0C3B-4BFB-9D60-EA6E23B1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477-4D97-407E-8E06-C551D356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E18-1AA4-4BB2-A4AA-349F1C8E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CDD-8D93-47C1-AF87-34454A2E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C11-8D05-4D7E-8177-DC4E8869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30B-398E-4828-9455-A7CDC371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5A8-53E4-4B5A-A702-83CBD55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1960" y="624852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10720" y="141120"/>
            <a:ext cx="54000" cy="540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90440" y="138240"/>
            <a:ext cx="381240" cy="380880"/>
            <a:chOff x="190440" y="138240"/>
            <a:chExt cx="381240" cy="380880"/>
          </a:xfrm>
        </p:grpSpPr>
        <p:sp>
          <p:nvSpPr>
            <p:cNvPr id="7" name=""/>
            <p:cNvSpPr/>
            <p:nvPr/>
          </p:nvSpPr>
          <p:spPr>
            <a:xfrm>
              <a:off x="190440" y="1382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1000" y="16344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19240" y="365040"/>
              <a:ext cx="210960" cy="14148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648640" y="163440"/>
            <a:ext cx="381240" cy="381240"/>
            <a:chOff x="8648640" y="163440"/>
            <a:chExt cx="381240" cy="381240"/>
          </a:xfrm>
        </p:grpSpPr>
        <p:sp>
          <p:nvSpPr>
            <p:cNvPr id="11" name=""/>
            <p:cNvSpPr/>
            <p:nvPr/>
          </p:nvSpPr>
          <p:spPr>
            <a:xfrm>
              <a:off x="8648640" y="1634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09200" y="18900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77440" y="390600"/>
              <a:ext cx="210960" cy="14112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8661240" y="6310440"/>
            <a:ext cx="381240" cy="380880"/>
            <a:chOff x="8661240" y="6310440"/>
            <a:chExt cx="381240" cy="380880"/>
          </a:xfrm>
        </p:grpSpPr>
        <p:sp>
          <p:nvSpPr>
            <p:cNvPr id="15" name=""/>
            <p:cNvSpPr/>
            <p:nvPr/>
          </p:nvSpPr>
          <p:spPr>
            <a:xfrm>
              <a:off x="8661240" y="63104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1800" y="633564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0040" y="6537240"/>
              <a:ext cx="210960" cy="14148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177840" y="6335640"/>
            <a:ext cx="380880" cy="381240"/>
            <a:chOff x="177840" y="6335640"/>
            <a:chExt cx="380880" cy="381240"/>
          </a:xfrm>
        </p:grpSpPr>
        <p:sp>
          <p:nvSpPr>
            <p:cNvPr id="19" name=""/>
            <p:cNvSpPr/>
            <p:nvPr/>
          </p:nvSpPr>
          <p:spPr>
            <a:xfrm>
              <a:off x="177840" y="6335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38040" y="6361200"/>
              <a:ext cx="19548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280" y="6562800"/>
              <a:ext cx="211320" cy="14112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711000" y="6264360"/>
            <a:ext cx="2463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3314520" y="6251040"/>
            <a:ext cx="26413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6108480" y="6251040"/>
            <a:ext cx="23749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77840" y="152280"/>
            <a:ext cx="507960" cy="470160"/>
            <a:chOff x="177840" y="152280"/>
            <a:chExt cx="507960" cy="470160"/>
          </a:xfrm>
        </p:grpSpPr>
        <p:sp>
          <p:nvSpPr>
            <p:cNvPr id="62" name=""/>
            <p:cNvSpPr/>
            <p:nvPr/>
          </p:nvSpPr>
          <p:spPr>
            <a:xfrm>
              <a:off x="177840" y="1522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5520" y="16020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440" y="3697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95480" y="101520"/>
            <a:ext cx="507960" cy="470160"/>
            <a:chOff x="2895480" y="101520"/>
            <a:chExt cx="507960" cy="470160"/>
          </a:xfrm>
        </p:grpSpPr>
        <p:sp>
          <p:nvSpPr>
            <p:cNvPr id="66" name=""/>
            <p:cNvSpPr/>
            <p:nvPr/>
          </p:nvSpPr>
          <p:spPr>
            <a:xfrm>
              <a:off x="2895480" y="10152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3160" y="109440"/>
              <a:ext cx="25416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08440" y="318960"/>
              <a:ext cx="25056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88920" y="6299280"/>
            <a:ext cx="507960" cy="469800"/>
            <a:chOff x="88920" y="6299280"/>
            <a:chExt cx="507960" cy="469800"/>
          </a:xfrm>
        </p:grpSpPr>
        <p:sp>
          <p:nvSpPr>
            <p:cNvPr id="70" name=""/>
            <p:cNvSpPr/>
            <p:nvPr/>
          </p:nvSpPr>
          <p:spPr>
            <a:xfrm>
              <a:off x="88920" y="62992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6600" y="6307200"/>
              <a:ext cx="25380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1520" y="65167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8483760" y="139680"/>
            <a:ext cx="507960" cy="469800"/>
            <a:chOff x="8483760" y="139680"/>
            <a:chExt cx="507960" cy="469800"/>
          </a:xfrm>
        </p:grpSpPr>
        <p:sp>
          <p:nvSpPr>
            <p:cNvPr id="74" name=""/>
            <p:cNvSpPr/>
            <p:nvPr/>
          </p:nvSpPr>
          <p:spPr>
            <a:xfrm>
              <a:off x="8483760" y="1396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31080" y="147600"/>
              <a:ext cx="25416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6360" y="3571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585280" y="6324480"/>
            <a:ext cx="507960" cy="470160"/>
            <a:chOff x="8585280" y="6324480"/>
            <a:chExt cx="507960" cy="470160"/>
          </a:xfrm>
        </p:grpSpPr>
        <p:sp>
          <p:nvSpPr>
            <p:cNvPr id="78" name=""/>
            <p:cNvSpPr/>
            <p:nvPr/>
          </p:nvSpPr>
          <p:spPr>
            <a:xfrm>
              <a:off x="8585280" y="63244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832960" y="633240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97880" y="65419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080" y="114480"/>
            <a:ext cx="507960" cy="469800"/>
            <a:chOff x="5626080" y="114480"/>
            <a:chExt cx="507960" cy="469800"/>
          </a:xfrm>
        </p:grpSpPr>
        <p:sp>
          <p:nvSpPr>
            <p:cNvPr id="82" name=""/>
            <p:cNvSpPr/>
            <p:nvPr/>
          </p:nvSpPr>
          <p:spPr>
            <a:xfrm>
              <a:off x="5626080" y="114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73760" y="122400"/>
              <a:ext cx="25416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38680" y="3319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88920" y="3200400"/>
            <a:ext cx="507960" cy="469800"/>
            <a:chOff x="88920" y="3200400"/>
            <a:chExt cx="507960" cy="469800"/>
          </a:xfrm>
        </p:grpSpPr>
        <p:sp>
          <p:nvSpPr>
            <p:cNvPr id="86" name=""/>
            <p:cNvSpPr/>
            <p:nvPr/>
          </p:nvSpPr>
          <p:spPr>
            <a:xfrm>
              <a:off x="88920" y="320040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6600" y="320832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520" y="341784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8559720" y="3327480"/>
            <a:ext cx="507960" cy="469800"/>
            <a:chOff x="8559720" y="3327480"/>
            <a:chExt cx="507960" cy="469800"/>
          </a:xfrm>
        </p:grpSpPr>
        <p:sp>
          <p:nvSpPr>
            <p:cNvPr id="90" name=""/>
            <p:cNvSpPr/>
            <p:nvPr/>
          </p:nvSpPr>
          <p:spPr>
            <a:xfrm>
              <a:off x="8559720" y="3327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07400" y="3335400"/>
              <a:ext cx="25416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72680" y="3544920"/>
              <a:ext cx="25056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18Z</dcterms:modified>
  <cp:revision>17</cp:revision>
  <dc:subject/>
  <dc:title>幻灯片 1</dc:title>
</cp:coreProperties>
</file>