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A9B-DD43-4A36-84C3-18C7EF12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99D-D6BB-41CB-A052-29CBA6E0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1DA-ADB6-458C-876E-EB8DCFA2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47C-8D37-404F-A7A9-DDE0025F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75BC-3BAD-4BFE-BC53-0D482BED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3E55-DA6D-45DC-AEAB-BFB42B5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442D-8B42-4CAE-BC1C-1F0E26F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84A3-CAFD-4A7C-800F-91D970C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5DB0-6FE8-4F0A-B726-4952434A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2999-39B6-438E-A355-9019B97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5468-4C50-4A02-B561-E1D9B75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200-5544-47B1-8EF8-A29C20E7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AB4-A990-4A6C-9A12-246E939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6F49-39AD-4F11-88DD-A6E154F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954D-9CA4-4613-9CA3-423D09F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73BE-CD33-430F-931A-0F9AA9B1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3960-88E6-460A-B2E5-60524F82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D0B-878B-4F02-B3AF-2A577E82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D48-A0FE-4F3E-B348-9D6B972F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06A-DA75-4E5E-B372-A4F94729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80D-EE2C-47FE-AD6C-208D1A7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60B-2075-4BB7-8F85-D61FA20C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9FF-9C77-4FCE-BE52-4E3E35FF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DBF-23D8-44E4-B700-07DCBBA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906-F96F-4471-8312-C4062C1A83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E277-5149-4DBE-9019-2B05077E739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2:16Z</dcterms:modified>
  <cp:revision>62</cp:revision>
  <dc:subject/>
  <dc:title>幻灯片 1</dc:title>
</cp:coreProperties>
</file>