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DF7-46E8-47E6-9623-1C94D4EC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B78-1AA3-4D66-BA15-0171404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5AC-186F-4F14-AD8C-41755486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958-E753-4FE3-A809-06AAD8A2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ABD5-674C-41AB-A6B2-F0DE58B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660-D78E-4F56-91C6-2E409481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6A45-CCFD-414B-9488-5CDBBAB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B97-C287-497D-835D-2B9A033E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CE2D-1118-4B28-9CD8-7764AEF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25D-94DE-4410-AE45-86CEABBA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C479-F9E7-4471-8AAA-98AB07B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35C-5F43-43D5-B36E-D0ADC42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0DC8-06E6-4583-9BBD-3A101F1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E18F-479E-4725-B104-FA9F64D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F2AD-2DB1-4514-AC82-CB34024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2345-8ADC-471D-8A41-8ACE7C4D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52D6-0935-4C42-B75E-E13194FE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2E3-2466-4CE4-84C2-9E411CCD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55C-1AE9-4799-B033-04105AE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CD7-3300-4521-A6E4-0E8FF05F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8D4-3B6D-4A15-B960-E1F7C21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23F-4BE2-41A6-9947-04BD1D3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A8E-0640-4ADB-8E8C-59A80DE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F5D-6A90-44D3-8D6F-6B0845A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79E4-CBF3-4B31-822A-EEC4D70FA953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075-67EB-4834-81E8-FF8949718128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0:31Z</dcterms:modified>
  <cp:revision>1</cp:revision>
  <dc:subject/>
  <dc:title>幻灯片 1</dc:title>
</cp:coreProperties>
</file>