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462-C554-4A6D-8FA6-EAA07AE7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693-702C-4825-AA5F-0D61759A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8A8-C06D-4F98-BE6D-2C84E25C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2C0-DEDB-4EF1-B14E-CA4C590B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D9E-796F-4204-824E-7C6C053C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63F-A321-429F-B25B-AACEBE14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D46-5228-40EA-B66D-E5208C4B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B17-A614-48E3-B152-6A60A3F5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202-6CE2-4EA7-A9CE-438D08F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7CB-6C96-41BE-9D07-0ACEC647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35F-998D-4BDE-A3EF-B42A203E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897-D177-46EB-9234-C52D377F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743200" y="647712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6356-A465-404D-8038-F3FC6C57E6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2436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6:24Z</dcterms:modified>
  <cp:revision>35</cp:revision>
  <dc:subject/>
  <dc:title>幻灯片 1</dc:title>
</cp:coreProperties>
</file>