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C62-A3F2-46FB-8629-67CEDE26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BE2-A040-4DBB-AB4D-CA329080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68F-0DC0-4BF0-9F8C-6511ABD8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ABE-80D5-4909-AAC1-94895D4B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BF95-209A-4193-A6A8-43CDD833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C918-5456-435C-A770-016901B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4E46-B1E2-455F-96A5-3E86EA89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F06C-912F-4C03-B0BF-967E9D5D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8A37-CF11-477F-AD77-E4F652FB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ED8-260C-4AC4-A443-CB707D51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D5D3-934A-447E-AC47-7273663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46B-A1C4-470F-8E16-095B354E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C695-162C-4E20-8577-15AF113E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7E05-318E-43AA-9DB7-568DBA4A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DBCC-2654-4787-9F0A-5A6A52AD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9A4D-28BF-4132-9710-3350AFCD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4CFD-42CA-49D4-96D0-CEF54290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126-63E7-4601-A0F7-E4F80359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31E-EF0A-4F14-B635-DF191A62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B76-7466-4089-90D5-91967365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1BB-8CC3-41F3-9F73-B25CBD55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7AB-B2D3-44DA-924E-21EEBF25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24C-3D87-4C95-AF38-3DE48F6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34D-7969-4D5C-99AC-BC2706C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AC2B-6579-4C1B-B50E-7C883505D7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DDF6-95D4-4A86-ABC1-C6F139DCA7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21Z</dcterms:modified>
  <cp:revision>25</cp:revision>
  <dc:subject/>
  <dc:title>幻灯片 1</dc:title>
</cp:coreProperties>
</file>