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11F-95C3-4B12-B034-26242207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E06-DF4A-436A-A1DC-C8230C5F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582-302E-4530-A361-40005D37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688-6174-4761-803A-A4B48AED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8B61-CD75-42EB-A95A-149D3398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2E57-4278-4289-890D-2903C903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2DF1-F5E9-4274-BA30-C86E59D3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5E99-E8EA-4784-BF1A-C9D797C1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CAB3-6775-45FA-AE11-4718FDD1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F033-A566-4074-910E-79324348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32C1-E223-4F23-8C99-98D9A5B2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B64-10E3-4215-B70C-3762817F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E8CB-7121-4EA3-A0E0-575E471D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3CBD-1102-45C5-8BF6-B5EE10C6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AA40-922F-4D65-84CF-DF7297D2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7734-1AD2-4858-9B02-66521735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38D8-3656-4F76-9717-F10377B7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643-C156-4DB3-B7EA-E0C1B464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15E-E127-46FD-8E2A-E3430B83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E39-FE4E-44D1-9A27-FB6D6BE4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C49-498E-449F-9367-D86905D9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DAF-E98F-4C70-8C95-5080CA1D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785-9E37-42BD-8B5C-742E2A5B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1F2-E54F-4616-B36E-3353F498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5E79-6F50-475F-B96C-9245AFB2FFF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097D-2589-4F3D-B1BD-03D44BAF7F3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25Z</dcterms:modified>
  <cp:revision>4</cp:revision>
  <dc:subject/>
  <dc:title>幻灯片 1</dc:title>
</cp:coreProperties>
</file>