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5A8-50E6-43A9-BA0E-7A73AFD1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3DA-B87B-473C-896A-8E61791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92F-9D85-4485-8A99-6A4667BD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480-A9EE-4C5B-B66B-4FB9E273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D31-8122-4BD7-9E5B-4B58383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1DF-2E41-4166-BECE-858E96D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A72-C344-4B23-A119-DD590A1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E32-12D9-4667-BAA0-58D1D72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43D-2F29-44F2-80D2-1A21F2B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142-03E3-46F5-AB61-3E86E6D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B47-AAF4-418D-A373-A50A632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CCB-6EF6-4DCA-BA89-8E0A921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44D9-54C7-433C-84CC-93412289740F}" type="slidenum">
              <a:rPr b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56Z</dcterms:modified>
  <cp:revision>38</cp:revision>
  <dc:subject/>
  <dc:title>幻灯片 1</dc:title>
</cp:coreProperties>
</file>