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B9F-C641-482B-9E1C-3F0F46A4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2AE-1760-43EC-85A4-1792B613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3D0-8A0E-4056-B8C3-DE3890BB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692-6CA3-436C-AFDF-A014CF68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C6AF-406A-4444-A302-D58F75F9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6812-ACE9-4EF0-B94E-5BECEC6A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6FD8-B148-4A09-9E63-00D1141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D0FD-D34D-4542-B040-F97AE4A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A43C-C275-4CE9-8B8E-9A4F4568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133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59E-994E-4A8B-B072-AF602854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9EB9-9BBA-4901-8125-72DBEE1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148-48A0-4635-890C-29EE3049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AE3-ADAA-4561-AB26-AC11C60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1DC9-61DF-4FCB-A704-F296559F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343D-B637-4E6A-AD8A-6601E3C5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C2DD-9773-48D8-94D4-7A5F24BE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0EA-E696-4D14-9843-F91DAE55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36E-9A96-4E83-8B91-49A5E88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915-E5CA-486B-B077-5726B5E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6BB-BD1C-4F73-9167-154E177B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33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AA4-2E3B-4738-9A5D-E606A81A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F99-475A-42B6-84AD-1B16442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870-BA27-456D-85EC-53E8CAC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B09-E5C6-415C-8B04-E24245D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3AE-37B7-464A-92ED-9A337AC9838E}" type="slidenum"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EE09-F906-407D-B458-7950D42308BE}" type="slidenum"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07Z</dcterms:modified>
  <cp:revision>23</cp:revision>
  <dc:subject/>
  <dc:title>幻灯片 1</dc:title>
</cp:coreProperties>
</file>