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FDC-8D34-461E-B03E-BD6634C5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C00-B48F-4151-897E-FD5546F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1C9-9D86-4AA8-AFDB-A14A310C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788-F011-4A3E-BC10-8E32731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1727-E27F-4AE7-AC4E-4E46E15D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BD3E7-F3DC-4AF2-856E-5F888974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5936-1A45-4381-A55F-BC88559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47938-427C-480E-B6F9-97D57E6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C9377-A33C-4599-9D20-7100260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467F2-E30A-4B8F-BF89-E53ECA9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F5ED1-CD5D-44E2-B880-07E5364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B58-81DC-45F5-B852-97DF15F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411F-656C-41EE-A6F7-D5992D94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14002-589B-42B8-A7FE-EA9EE45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2EA3B-2791-4A20-95EB-95A9348B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C1940-9512-401E-AED7-1619ABD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E983-FE2B-4B77-84C6-7884E81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EC6-2002-4231-8D4B-04F9D5E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6B6-76F0-41FF-9565-A0DC2E15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EC1-EAD6-4E62-A82D-6064634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24C-2DCE-47BF-8D2C-DA7E7077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0B5-FB67-49C2-8BD6-E2DA506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D23-B189-4360-8734-6BDAAC8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B5F-BB07-4205-94B0-FDBA168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BECE-FA65-46C5-AE52-E4D6FF1818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9A0A-2C0F-484E-8574-47C32083B7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0Z</dcterms:modified>
  <cp:revision>59</cp:revision>
  <dc:subject/>
  <dc:title>幻灯片 1</dc:title>
</cp:coreProperties>
</file>