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C49-4758-4961-8D4A-5FE87C67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276-5B86-4D3A-A7F3-B348A300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270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4ACD-F800-4EE9-A7EF-B78F871F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54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190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54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3190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3FD-A9AB-46D8-9D4F-5A588218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262B-14FB-4553-AC2A-FD12F26D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DF15-96F5-43AB-8B82-409BA0C2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BF35-8E13-45C0-8A71-5EDEC8E0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6A28-1E47-4320-BF74-40FCB957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2042-F3C8-4793-85C3-11F9287E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1CC5-0B60-471A-828B-C88C9594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1BD2-BEEE-4A62-AEF2-DAA99AF9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197-819E-4CB2-B16C-D4AC3C44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270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554B-B296-41F5-A114-3C973BB8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16AC-7C66-468E-90DA-DACD8318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9907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EA6E-762D-4061-9E42-F14DA015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70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1BBE-2CEB-4075-92C4-677FC45D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154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3190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99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154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3190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2085-CD36-4B93-8C2C-F1DE01F6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4A0-DC39-4F07-9484-D70A24F0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8A2-6546-4FD8-AF34-381A04CC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8B5-5EE7-410D-AD88-03950E72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D89-81CA-4CE3-83C9-D8B340DF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6BB-3C6D-4B2C-8FFB-579EBD0F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270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8C3-10BD-4F8D-814E-9B18324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B1E-ECEC-4C4B-8A2B-2CF14587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9029EFD6-EAC3-410C-812B-5A894EFC2959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4360" y="2845080"/>
              <a:ext cx="6355800" cy="2690280"/>
              <a:chOff x="414360" y="2845080"/>
              <a:chExt cx="6355800" cy="26902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6200000">
                <a:off x="479160" y="31147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45800" y="3000240"/>
                <a:ext cx="476280" cy="47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15" y="6518"/>
                    </a:moveTo>
                    <a:arcTo wR="10800" hR="10800" stAng="-1401335" swAng="98614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15" y="6518"/>
                    </a:moveTo>
                    <a:arcTo wR="10800" hR="10800" stAng="-1401335" swAng="986146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324080" y="3081600"/>
                <a:ext cx="914040" cy="912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98" y="20209"/>
                    </a:moveTo>
                    <a:arcTo wR="10800" hR="10800" stAng="7164193" swAng="4498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98" y="20209"/>
                    </a:moveTo>
                    <a:arcTo wR="10800" hR="10800" stAng="7164193" swAng="4498063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3092040"/>
                <a:ext cx="914040" cy="91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15" y="8333"/>
                    </a:moveTo>
                    <a:arcTo wR="10800" hR="10800" stAng="-792138" swAng="47472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15" y="8333"/>
                    </a:moveTo>
                    <a:arcTo wR="10800" hR="10800" stAng="-792138" swAng="474729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4135680" y="2902320"/>
                <a:ext cx="2634480" cy="263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10" y="18858"/>
                    </a:moveTo>
                    <a:arcTo wR="10800" hR="10800" stAng="7904515" swAng="11638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10" y="18858"/>
                    </a:moveTo>
                    <a:arcTo wR="10800" hR="10800" stAng="7904515" swAng="1163815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80520" y="2845080"/>
                <a:ext cx="680760" cy="68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71" y="12467"/>
                    </a:moveTo>
                    <a:arcTo wR="10800" hR="10800" stAng="532687" swAng="9836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71" y="12467"/>
                    </a:moveTo>
                    <a:arcTo wR="10800" hR="10800" stAng="532687" swAng="9836051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5461560" y="3368160"/>
                <a:ext cx="4575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9" y="11474"/>
                    </a:moveTo>
                    <a:arcTo wR="10800" hR="10800" stAng="214610" swAng="104078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9" y="11474"/>
                    </a:moveTo>
                    <a:arcTo wR="10800" hR="10800" stAng="214610" swAng="10407819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4357080" y="3381480"/>
                <a:ext cx="318600" cy="31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14" y="7598"/>
                    </a:moveTo>
                    <a:arcTo wR="10800" hR="10800" stAng="-1034896" swAng="127520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14" y="7598"/>
                    </a:moveTo>
                    <a:arcTo wR="10800" hR="10800" stAng="-1034896" swAng="1275208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2CD0E8F3-0BBE-41E7-B38F-17A732611A8D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89f7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2:33Z</dcterms:modified>
  <cp:revision>12</cp:revision>
  <dc:subject/>
  <dc:title>幻灯片 1</dc:title>
</cp:coreProperties>
</file>