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4A0C-C74D-4F39-9136-249EB3F71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0572-7C89-48AD-A4C0-778714AB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3C7F-B41F-46FD-B9FC-271F3336C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71DF-9CB5-4FE9-BCDF-09A594ED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9DAD-5A77-418B-AFB0-EA922CCD0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AF9C-B269-44D6-B14E-C096962F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874A-9B0E-41E4-ABD4-DB4BFE59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E73A-4B3D-4D4C-85AF-765919DB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8C02-12EA-47BD-9E48-1AA4A6F9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64E7-F824-491D-BA2D-7B97F6E8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FE80-7C57-4657-8AA7-DFA87361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2B51-DF9C-43D4-9FB1-88E12CD6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3248-7A56-4B75-92E5-7A58F531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256B-D0C0-4927-8487-5B7B2492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031F-EC44-463E-8BC7-3CED3B31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6B9C-4748-4E99-B99F-AE2ABC3ED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0B5C-E171-4D79-BBA6-FA33F95EE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615F-82CF-4FE5-9A77-B33C8A19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8E0B-DD4C-4B19-98E3-23003F13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275E-3331-4BE0-AB3D-50D7897B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984C-1A30-4A0F-BB69-DE97F199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4428-8CA0-483B-8DE2-03B225D5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5312-37F4-4FE0-BDFA-F9209732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3F7C-2F13-4681-B590-9BA2DAFB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0760" cy="142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33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6633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617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43200" y="6324120"/>
            <a:ext cx="4648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671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ACF4-00D9-42FC-B735-3FD5BA653D1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A966-87EE-4F31-BE53-F1FB7839060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cccc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33cccc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33cccc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33cccc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7:13Z</dcterms:modified>
  <cp:revision>39</cp:revision>
  <dc:subject/>
  <dc:title>幻灯片 1</dc:title>
</cp:coreProperties>
</file>