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1BC7-8724-4BDB-B76A-3A71C9B5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36E-9760-47B8-B36C-0E0077FC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8CD-DBC1-4061-AB72-AC7F1052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DC1-4340-446A-9D79-A71E66CE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8AC2-46E7-4260-BFA5-12B787A8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F04B-0E61-4034-A5D7-52265994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5D6B-373A-4066-BA0A-81758A46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5010-F2D1-4D8B-8370-0DBC8828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6B17-F5A7-4B9D-BB8D-1BDC0B85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E2CD-D94A-4343-A649-DEF8C55E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7BEA-CCE4-4760-AC5E-E1C202C1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79F7-B7E0-4E0B-998C-04DE7BC6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2771-F76C-43A0-8A20-4061EC38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D231-B15E-459E-8645-7686573E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DAB6-EB62-4980-BC5C-04D8E8A6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23E4-1960-47C3-BEC9-9BFDA8A1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0486-283B-459B-909F-9629D065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BEF-4610-4F76-A688-DF37C169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68F-E3C0-4068-9F2A-2DB12FDE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EDD-BF04-4D6A-80F8-75B0649E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F8A-226D-4CC5-94F0-785D21D0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97F-D2BB-4240-862E-2760DD91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CE2-2B39-4F63-9AFA-34AAC921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84E5-DD22-4FFC-B914-26A0AEC5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40DA-5DBE-482E-80CA-3D2A1CDF2030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BC62-679E-4211-ABAA-A8BEB33C9064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29Z</dcterms:modified>
  <cp:revision>46</cp:revision>
  <dc:subject/>
  <dc:title>幻灯片 1</dc:title>
</cp:coreProperties>
</file>