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F09-5D14-4F86-8F20-6E225AF0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29528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EB47-C56C-4940-82B6-502A1B61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524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DA2-628F-4CCD-A1F6-E398BD40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5924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23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2952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5924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23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F12-AFC6-442F-9020-015CC162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84E8-124A-4816-8655-169E0B6F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8AC9-CFE8-4963-B1CD-0524568C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11B1-4B68-4374-B497-C6742454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21EB-FE09-489E-A438-BB32ABC0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01C6-879D-4268-AB59-8F8F8961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4B87-EEAE-4BE9-9A87-FE19732C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A04F-3900-45B4-B35C-1453CF14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8C8-3562-48DA-B39F-7141183A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524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F695-7F91-4C91-9FD1-56752452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4641-BE66-4989-9FB6-42A4EE5E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9528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1B1F-2518-4C1A-88EF-6E61C9ED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524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CBF6-C33C-4346-A559-8F95A079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5924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623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952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5924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623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4654-3140-4E4A-9D39-F2A93291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DF8-1C86-455D-9BF1-05644A44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DFA-C6F6-4BA4-BA40-7913851B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C9B-4622-4FA7-835D-5D87A267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B0D-F710-47B4-ACD4-0AA357B3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63C-6822-4483-A37B-D11371F8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524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962-B48C-4ADC-83D6-92847ECF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3AA-9530-47A7-9DB7-784103ED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480" y="5760"/>
            <a:ext cx="9129600" cy="6843960"/>
            <a:chOff x="6480" y="5760"/>
            <a:chExt cx="9129600" cy="6843960"/>
          </a:xfrm>
        </p:grpSpPr>
        <p:sp>
          <p:nvSpPr>
            <p:cNvPr id="1" name=""/>
            <p:cNvSpPr/>
            <p:nvPr/>
          </p:nvSpPr>
          <p:spPr>
            <a:xfrm>
              <a:off x="6480" y="6480"/>
              <a:ext cx="314280" cy="6842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817120" y="6480"/>
              <a:ext cx="318960" cy="6842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6480" y="5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26480" y="228600"/>
              <a:ext cx="31680" cy="6391440"/>
            </a:xfrm>
            <a:prstGeom prst="rect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57040" y="276120"/>
              <a:ext cx="61920" cy="637704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480" y="6557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7040" y="243000"/>
              <a:ext cx="8587080" cy="5220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290520" y="6566760"/>
              <a:ext cx="8553600" cy="25560"/>
            </a:xfrm>
            <a:custGeom>
              <a:avLst/>
              <a:gdLst>
                <a:gd name="textAreaLeft" fmla="*/ 718560 w 8553600"/>
                <a:gd name="textAreaRight" fmla="*/ 7835040 w 8553600"/>
                <a:gd name="textAreaTop" fmla="*/ 2160 h 25560"/>
                <a:gd name="textAreaBottom" fmla="*/ 2340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483" y="21600"/>
                  </a:lnTo>
                  <a:lnTo>
                    <a:pt x="117" y="21600"/>
                  </a:lnTo>
                  <a:close/>
                </a:path>
              </a:pathLst>
            </a:cu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4840" bIns="-248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09A1-46D1-4985-BF16-4080440389F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6560" y="971640"/>
            <a:ext cx="7878960" cy="4662360"/>
          </a:xfrm>
          <a:custGeom>
            <a:avLst/>
            <a:gdLst/>
            <a:ahLst/>
            <a:rect l="l" t="t" r="r" b="b"/>
            <a:pathLst>
              <a:path w="4963" h="2937">
                <a:moveTo>
                  <a:pt x="2452" y="267"/>
                </a:moveTo>
                <a:lnTo>
                  <a:pt x="1468" y="233"/>
                </a:lnTo>
                <a:lnTo>
                  <a:pt x="683" y="155"/>
                </a:lnTo>
                <a:lnTo>
                  <a:pt x="178" y="47"/>
                </a:lnTo>
                <a:lnTo>
                  <a:pt x="7" y="2602"/>
                </a:lnTo>
                <a:lnTo>
                  <a:pt x="0" y="2804"/>
                </a:lnTo>
                <a:lnTo>
                  <a:pt x="244" y="2863"/>
                </a:lnTo>
                <a:lnTo>
                  <a:pt x="2358" y="2936"/>
                </a:lnTo>
                <a:lnTo>
                  <a:pt x="4962" y="304"/>
                </a:lnTo>
                <a:lnTo>
                  <a:pt x="4923" y="0"/>
                </a:lnTo>
                <a:lnTo>
                  <a:pt x="4328" y="131"/>
                </a:lnTo>
                <a:lnTo>
                  <a:pt x="3388" y="249"/>
                </a:lnTo>
                <a:lnTo>
                  <a:pt x="2402" y="265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3480" y="1190520"/>
            <a:ext cx="7820280" cy="4480200"/>
          </a:xfrm>
          <a:custGeom>
            <a:avLst/>
            <a:gdLst/>
            <a:ahLst/>
            <a:rect l="l" t="t" r="r" b="b"/>
            <a:pathLst>
              <a:path w="4926" h="2822">
                <a:moveTo>
                  <a:pt x="4925" y="188"/>
                </a:moveTo>
                <a:lnTo>
                  <a:pt x="4056" y="208"/>
                </a:lnTo>
                <a:lnTo>
                  <a:pt x="3401" y="214"/>
                </a:lnTo>
                <a:lnTo>
                  <a:pt x="2557" y="203"/>
                </a:lnTo>
                <a:lnTo>
                  <a:pt x="1820" y="171"/>
                </a:lnTo>
                <a:lnTo>
                  <a:pt x="1379" y="142"/>
                </a:lnTo>
                <a:lnTo>
                  <a:pt x="791" y="102"/>
                </a:lnTo>
                <a:lnTo>
                  <a:pt x="27" y="0"/>
                </a:lnTo>
                <a:lnTo>
                  <a:pt x="0" y="2633"/>
                </a:lnTo>
                <a:lnTo>
                  <a:pt x="365" y="2686"/>
                </a:lnTo>
                <a:lnTo>
                  <a:pt x="1280" y="2760"/>
                </a:lnTo>
                <a:lnTo>
                  <a:pt x="3635" y="2821"/>
                </a:lnTo>
                <a:lnTo>
                  <a:pt x="4504" y="2801"/>
                </a:lnTo>
                <a:lnTo>
                  <a:pt x="4849" y="1885"/>
                </a:lnTo>
                <a:lnTo>
                  <a:pt x="4850" y="1884"/>
                </a:lnTo>
                <a:lnTo>
                  <a:pt x="4925" y="188"/>
                </a:lnTo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480" y="5760"/>
            <a:ext cx="9129600" cy="6843960"/>
            <a:chOff x="6480" y="5760"/>
            <a:chExt cx="9129600" cy="6843960"/>
          </a:xfrm>
        </p:grpSpPr>
        <p:sp>
          <p:nvSpPr>
            <p:cNvPr id="53" name=""/>
            <p:cNvSpPr/>
            <p:nvPr/>
          </p:nvSpPr>
          <p:spPr>
            <a:xfrm>
              <a:off x="6480" y="6480"/>
              <a:ext cx="314280" cy="6842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817120" y="6480"/>
              <a:ext cx="318960" cy="6842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 rot="10800000">
              <a:off x="6480" y="5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26480" y="228600"/>
              <a:ext cx="31680" cy="6391440"/>
            </a:xfrm>
            <a:prstGeom prst="rect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7040" y="276120"/>
              <a:ext cx="61920" cy="637704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480" y="6557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7040" y="243000"/>
              <a:ext cx="8587080" cy="5220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90520" y="6566760"/>
              <a:ext cx="8553600" cy="25560"/>
            </a:xfrm>
            <a:custGeom>
              <a:avLst/>
              <a:gdLst>
                <a:gd name="textAreaLeft" fmla="*/ 718560 w 8553600"/>
                <a:gd name="textAreaRight" fmla="*/ 7835040 w 8553600"/>
                <a:gd name="textAreaTop" fmla="*/ 2160 h 25560"/>
                <a:gd name="textAreaBottom" fmla="*/ 2340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483" y="21600"/>
                  </a:lnTo>
                  <a:lnTo>
                    <a:pt x="117" y="21600"/>
                  </a:lnTo>
                  <a:close/>
                </a:path>
              </a:pathLst>
            </a:cu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4840" bIns="-248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780320" y="4352760"/>
            <a:ext cx="534960" cy="1425600"/>
          </a:xfrm>
          <a:custGeom>
            <a:avLst/>
            <a:gdLst/>
            <a:ahLst/>
            <a:rect l="l" t="t" r="r" b="b"/>
            <a:pathLst>
              <a:path w="337" h="898">
                <a:moveTo>
                  <a:pt x="336" y="0"/>
                </a:moveTo>
                <a:lnTo>
                  <a:pt x="11" y="897"/>
                </a:lnTo>
                <a:lnTo>
                  <a:pt x="29" y="809"/>
                </a:lnTo>
                <a:lnTo>
                  <a:pt x="33" y="761"/>
                </a:lnTo>
                <a:lnTo>
                  <a:pt x="38" y="680"/>
                </a:lnTo>
                <a:lnTo>
                  <a:pt x="32" y="556"/>
                </a:lnTo>
                <a:lnTo>
                  <a:pt x="15" y="462"/>
                </a:lnTo>
                <a:lnTo>
                  <a:pt x="0" y="367"/>
                </a:lnTo>
                <a:lnTo>
                  <a:pt x="250" y="144"/>
                </a:lnTo>
                <a:lnTo>
                  <a:pt x="336" y="0"/>
                </a:lnTo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24F8-46E1-4354-839D-0B0687B9221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30Z</dcterms:modified>
  <cp:revision>26</cp:revision>
  <dc:subject/>
  <dc:title>幻灯片 1</dc:title>
</cp:coreProperties>
</file>