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E72-162A-4E6A-B42F-C04D0B00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2E4-C635-4F77-A8F8-BE78F8F9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FCE-D3DD-4E25-8372-60DB8EEF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D5B-9930-494E-BB97-6E7D93D0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BB2D-3825-49DB-BC33-267360D2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FFC-3A44-4BD1-A221-85A13E9B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3AC7-DA66-442E-ACA2-5EDBAAFF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CB24-0D3E-438F-B380-F31A428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4025-F290-4C7D-A3A0-89BA2686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7F37-A980-46B1-BDEC-A8581F5D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8810-FA69-42AE-90BC-9BB4846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A36-DC79-4D91-ADCF-CDB5BE7F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7681-2128-4BA2-8984-C6F2F3D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4760-B111-4FB5-9EB6-9264A05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D797-BD4C-4D1E-BDC8-793B7677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63D-B209-48DD-90AA-27A11AC5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C5F-BD3F-4F3E-9F1E-6BEF9449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9E7-13AA-4BF5-95B8-84787206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8DF-5E3F-411D-AAF5-1AE6711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D2E-1B01-43A5-9921-E7FE4EB6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F9B-CA67-4DE3-90B9-4BFB82EC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01C-EF04-4DAC-8A8A-B0C00B1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BCB-0FD8-48BC-81FD-82C90A7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42F-968D-4BD6-887F-101C7CE1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CAE3-398A-4E69-BD2D-6063E267C24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E15-4695-4394-84CC-A8E331E79B4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43Z</dcterms:modified>
  <cp:revision>41</cp:revision>
  <dc:subject/>
  <dc:title>幻灯片 1</dc:title>
</cp:coreProperties>
</file>