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E6C-7D69-402E-A461-00E05B1C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044-D618-4B65-A8E4-8A4E7483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4E7-9D29-4EEB-B4B5-C58A4975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C77-828F-4C38-9B3B-A7970E14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495-DA96-4954-8E99-EE96567E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5EF-9E93-45A5-A88A-0C71314C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16B-170F-496A-A611-C69F30EF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1BD-D693-4571-BB68-D35F2101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2F4-9D97-4670-B40E-E99FC072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C7A-0A56-4499-A803-62038254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2A7-F271-4FC0-8BDD-F84F5C6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235-7BC9-4A6F-8870-08AED65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C3A9-29C7-423A-9208-27EE0717FA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08000" y="658008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9:43Z</dcterms:modified>
  <cp:revision>51</cp:revision>
  <dc:subject/>
  <dc:title>幻灯片 1</dc:title>
</cp:coreProperties>
</file>