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E2A6-F657-4872-A91D-31EF1ABAA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0574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AB80-626B-4C1E-8055-7BB8D580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0574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73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E86F-1B11-446D-B0A4-F69575E61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213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85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0574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213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85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1F50-2C7B-420B-B83C-547C8A212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DEFA-11A8-4B00-B1C9-BA67515A0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3007-A6F6-4CB2-98A2-22BD1E52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3C39-4232-4E6B-8C16-AF7CA75B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AA28-014A-4D62-AACB-F23FDE12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801A-0A9C-4590-8144-D7AED6D1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925E-7B72-46D6-B935-42E8A4A6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0574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B10C-8565-42A9-AD18-9EEF4427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21A2-5835-4029-BF37-AEB801DB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73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81D1-EDC8-4597-96EF-9DC90681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0574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1B40A-9EF2-40D5-9EA4-1A9D58DF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0574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7911-668D-4DF9-A4A3-6BAFA971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0574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73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3950-3FD1-4513-BA75-8E284A04B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213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85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0574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2213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85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6A1E-E92B-4CAB-A12E-BC3C45545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05E9-08F8-461E-BCB5-1C81CA95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4B6C-E86C-44CF-BB60-96D4043D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0725-D95D-4F08-9BB6-43A385AA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E87B-D636-44D1-A03B-7EB0AC6A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574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757A-1B77-4996-AE04-337CE29D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73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2A02-2BF4-4BB2-BF9D-72ADE737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574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0681-A4F6-4B8A-8695-EF74AC5B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2857-117E-4062-844B-D379498B5ACE}" type="slidenum">
              <a:rPr b="0" lang="zh-CN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5FC6-4CD2-4038-827B-12DBA661255F}" type="slidenum">
              <a:rPr b="0" lang="zh-CN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1:03Z</dcterms:modified>
  <cp:revision>2</cp:revision>
  <dc:subject/>
  <dc:title>幻灯片 1</dc:title>
</cp:coreProperties>
</file>