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36AD-200D-4471-83DA-95353C5CF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F969-F2FE-4E08-B76B-B788F7A61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1553-1ED9-42F5-9DA2-282FF0CCB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4406-F5B0-445B-BEB1-97121F173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D76C3-F8B9-4C57-8114-E5ED68817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4A4F1-61E0-42F1-9559-1317188C6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314AA-B676-4219-9546-91D182B44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DD1F1-7D68-4035-8674-96E36D700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93275-4FEC-43D8-82F5-7AE159D70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200b5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CF7EA-7574-436F-BFDB-8D5EAB53F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14FA4-DC28-480F-AD2E-32866295E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3737-D9B5-40F2-8AF4-1A58E3CFE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FFE6A-A3D8-4E81-A9C2-5AEF8A5F6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9D0BD-9ED9-4554-9B6A-501692D27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71697-DFDE-4FF4-8DF1-5C43B6974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6D355-4D70-42C9-BD23-337A661A0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B5A3A-7E05-4D26-B22C-6B6A912B0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7338-1851-4CAB-83EE-40BAF14C8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EBF0-52E0-4068-AF33-15E16C80F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3F34-C1DF-4A9E-B26A-308B67651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200b5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42BD-B776-4019-AD1D-D23DA59D7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5FBF-0801-4BE4-971D-82F168B01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1B27-0736-4891-B841-2E9F23C26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FB0D-FC38-40F5-A664-5B363641C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5410080"/>
            <a:ext cx="9144000" cy="14479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3384720" y="5410080"/>
            <a:ext cx="5759280" cy="1219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A1241-6AE0-428D-8C8E-33193DE1ECFC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b5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200b5b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5002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b5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200b5b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a5002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b5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200b5b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a5002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b5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200b5b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a5002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b5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200b5b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b5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200b5b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b5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200b5b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250920" y="6427800"/>
            <a:ext cx="84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http://www.zzone.cn</a:t>
            </a:r>
            <a:r>
              <a:rPr b="1" lang="zh-CN" sz="24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　中国</a:t>
            </a:r>
            <a:r>
              <a:rPr b="1" lang="zh-CN" sz="24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.</a:t>
            </a:r>
            <a:r>
              <a:rPr b="1" lang="zh-CN" sz="24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中学政治教学网崇尚互联共享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79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914400" y="2590920"/>
            <a:ext cx="8229600" cy="19810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0134F-BECD-4C46-8EE0-188D79A028FF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9640" y="6453360"/>
            <a:ext cx="84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http://www.zzone.cn</a:t>
            </a:r>
            <a:r>
              <a:rPr b="1" lang="zh-CN" sz="24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　中国</a:t>
            </a:r>
            <a:r>
              <a:rPr b="1" lang="zh-CN" sz="24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.</a:t>
            </a:r>
            <a:r>
              <a:rPr b="1" lang="zh-CN" sz="24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中学政治教学网崇尚互联共享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b5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200b5b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200b5b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a50021"/>
              </a:buClr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200b5b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a50021"/>
              </a:buClr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00b5b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200b5b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a50021"/>
              </a:buClr>
              <a:buFont typeface="Wingdings" charset="2"/>
              <a:buChar char="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00b5b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200b5b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00b5b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200b5b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00b5b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200b5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200b5b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08:17:37Z</dcterms:created>
  <dc:creator>黄华林</dc:creator>
  <dc:description/>
  <dc:language>en-US</dc:language>
  <cp:lastModifiedBy>黄华林</cp:lastModifiedBy>
  <dcterms:modified xsi:type="dcterms:W3CDTF">2005-10-06T08:27:22Z</dcterms:modified>
  <cp:revision>40</cp:revision>
  <dc:subject/>
  <dc:title>幻灯片 1</dc:title>
</cp:coreProperties>
</file>