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A215-97C2-482B-90F7-3FFAB040A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7524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7042-5C59-4C0A-8A4D-46A6A48B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752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4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17E8-F19E-4812-BA1E-36A6B0C5B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164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80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7524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164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80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4CAC-F985-4440-9BDF-6C02A929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2B0C-1397-44A2-8692-0C48221F5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1CFE-C6FA-4D6F-AB64-8463B294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A39A-0F15-4C8F-917D-2BF1ECD7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35B3-3E0E-4A89-88C4-0336ED5C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F3B2-642A-4845-BBB7-8CF24BCA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6668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B08D-6553-45C1-90CF-61D0C9B5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752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2F5B-602A-48D8-804F-8EDCD468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71F4-3811-403B-BE9C-721ED39F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4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9250-027E-40F0-BB98-450DE5F1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7524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941B-2358-4E2F-B231-8604EC35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7524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7148-89DE-4028-B11E-E69A9440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752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324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EF7F-533A-4B6F-B9BF-13D4714E5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164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80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7524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164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80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1B1E-F753-4FCA-BDED-6C390B27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58F1-9079-4318-9E3F-892A9B6D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E963-731D-432F-9DDB-F838B832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C13C-C2A2-4B81-87B3-8DEC2647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888A-89A8-492A-B95B-86140CD5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52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C7BE-B474-4126-93D9-8958C76A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324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BB18-E336-462D-AED0-6A7916B7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524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0EE0-4860-4329-95A3-3AFF0B5F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6684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525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6305400"/>
              <a:ext cx="9148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A117-1144-4A86-921C-E272454BFB3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66840"/>
              <a:ext cx="914400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452520"/>
              <a:ext cx="9148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3054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E26E-5EC7-42B9-A006-7359F79E552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1:47Z</dcterms:modified>
  <cp:revision>7</cp:revision>
  <dc:subject/>
  <dc:title>幻灯片 1</dc:title>
</cp:coreProperties>
</file>