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B10-46F4-4176-BA8C-B23F9D9D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4E3-6A65-4833-87BA-6198986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637-6E8B-4D77-8F0D-98D4F5BE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83C-2AAE-4DE3-8590-A3CD280A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CF9A-BF84-4535-BE4D-BCE97099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3644-5C8A-4675-86D3-651B2E0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0688-684F-4766-A6E0-EA0B306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2B0-8D1C-4383-9942-5D167433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5AB-6E5F-41BB-9110-281BBF4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EED-82B0-493F-B8E4-00EEF4D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52B-521E-4284-BB97-405D83B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6C8-EE30-4866-AC11-3E6B7CD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5E42-E2FA-445C-87BB-4860806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7F20-CF96-4C89-BE0F-A75A01D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2F07-07F6-4106-B126-A56D945E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FCED-D5DD-414E-8BF4-08907A51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3A1-9891-4B3A-9119-DB97A915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ACB-FA97-4BDC-9625-C251B66E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A94-F9CC-4093-B6A6-6E57DC0E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E7F-4ECB-4F74-ACF4-6B28D780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3C9-5C6D-40FE-B1A1-75DCA1F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EE3-94DD-4EC3-9573-C8D5E79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29F-7F24-40CA-8DBB-2E0A359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319-5A32-4A93-9E46-12958FF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860-3D74-4A12-8D41-5B6C01571779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98F-6606-4D7E-AC43-311A0B27DFF3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8Z</dcterms:modified>
  <cp:revision>21</cp:revision>
  <dc:subject/>
  <dc:title>幻灯片 1</dc:title>
</cp:coreProperties>
</file>