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B8F-80EC-428E-81DE-DEFE968D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CED-FE67-400A-BF9E-92FD0FE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DB8-F37A-49E5-B190-7F8DE5F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BEF-07A5-4314-A9BF-EC4F2A5A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967-716F-41CB-B564-87BA6DE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24C-BEC4-479C-A887-EA4592C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41C8-48B7-4A6B-839B-17CCEFE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E12-573D-4E76-BB41-D69214A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C17-7C64-498C-874A-CD6869F2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8893-9853-455A-A03C-0A074CF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23B-923C-474A-9264-D4AE3EF2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133-B760-4863-B531-96D72FE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44A-BBCE-402D-9527-DED85EC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9CE7-74D7-434B-B68C-9ADE602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833-B905-4467-8D3A-46FADDC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428-48BD-47B7-9399-18F954A8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BD73-48D0-4B3B-8B15-83F0E5E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471-AC15-4F22-A958-53CCFC08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A38-AF84-4F3B-9251-88EE3631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FCE-3A9C-40A9-B2A0-74DFE5B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F8C-CC6D-4C0F-A983-B1A383B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B3D-FA00-4AEC-9501-FFB8E80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B75-185C-4079-8B5D-D5FEAF1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B37-055B-48B9-98F5-0CA7C62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97F5-8315-42ED-B129-17FB0C4D2D1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95D-29B4-48EF-B022-3AF512F8CB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1Z</dcterms:modified>
  <cp:revision>16</cp:revision>
  <dc:subject/>
  <dc:title>幻灯片 1</dc:title>
</cp:coreProperties>
</file>