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21BB-6CE8-4388-A7D3-A038D8E5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3A1DB-22C5-4C12-AD79-013F7960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5A10-5061-433A-AD83-E95BF3C0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2A13-6DC4-4621-88FA-6B6B0315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D6E5-A888-4778-A0E4-E998CB3E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B406-3067-4BE0-A641-BBEC752E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BE00-AD70-43C2-8FDF-7376FFE8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8CE6-E2D4-4B22-B04B-3E1BD654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1700-8B8E-4385-BAD6-F03BCFBF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02FE-98B7-4784-B66B-A7A94C8A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AC1A-C65E-4468-A381-5D128181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437E6-62C3-4E23-B039-DCF54906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8CA3-BCDD-4FD5-ACEC-BC63759C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85C4-9E14-47D8-874F-EBC65681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1B81-0AC3-4E2E-A42A-E82A5843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2B86-3BC3-4B2D-89E0-F5AF9308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7789-0C06-415D-B594-88CFF910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BDF9-676F-4244-A0F9-B96F3173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5127-3391-44F6-B6CD-6C0B79A6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43BC6-D2C2-4448-AC3D-1A22DDC0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AA54D-265F-4B79-A823-1351A468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F0C5-6577-454D-AC75-19C3D2FD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7296-D0B7-468D-91C7-C8408511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BF8B-1EE1-4FC2-90CA-20E8756C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982C-2B6B-4FB1-B164-AEA8CDC86A3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1CA6-D4B2-45F2-9F64-0ADF11D2D36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1:58Z</dcterms:modified>
  <cp:revision>61</cp:revision>
  <dc:subject/>
  <dc:title>幻灯片 1</dc:title>
</cp:coreProperties>
</file>