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68D-DF31-4913-93AC-D07F5120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D3A-9908-4E03-92FC-6097DE1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740-A5D4-48E5-8474-A8088BCD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A50-CC95-4DE6-8C95-E6BAA67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5A18-B272-42BC-B7FC-2FF35D91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85CD-EE9C-4A75-B65A-0CBF5F23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2E4-4127-469B-B8AD-15A952DA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35C3-7643-43D1-973A-CE854088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C2E0-494C-4088-9F12-AE4C255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3643-C7D3-4778-9418-2AB781F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323C-360D-445E-BFEC-B9EC5E3D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0B2-2529-41B3-8DDC-144C430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B1CB-4ABF-44C8-9E79-33A2BF8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C86-D14B-4A1C-AAAD-42C6DEAA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1FB-28F0-48AD-82EE-763FA6D7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B036-D68F-4259-B49F-B98DB4F3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93A-BF27-4EEF-A5DD-BCCC982F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C9-BA59-4767-BC08-C0EDCAC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B4E-A65F-4DB2-A729-C6DA583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37D-6D77-4FAB-A6C1-B993452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07E-B0D6-44DF-8C59-626037CB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B22-524F-4776-9261-2539B1F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FE7-F1D2-4CD8-B621-EE9BB74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062-CE92-4F38-9DD9-0593AF1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DF25-13AD-4EFE-B1E5-984465B30D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769-4D0A-419C-AC07-ADF816843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37Z</dcterms:modified>
  <cp:revision>37</cp:revision>
  <dc:subject/>
  <dc:title>幻灯片 1</dc:title>
</cp:coreProperties>
</file>