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63E-75B9-4039-AB5E-EBF9AEC1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26F-EA3C-4B80-A7F9-6A1D1A4C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BBB-1A02-4FDA-B85E-0E60D1AE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44D-2A57-4EFE-BB0F-279C5CEF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7CA6-F2E8-493E-AB79-2219E25F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1C09-1326-4334-BB69-489375EC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FF40-E092-4B09-A610-325108EC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FD18-8E13-4DC6-BBE6-EDD28230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5F03-2060-4F5E-9262-BFD85BA6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1791-AF56-4014-A4C2-3CF043EB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0BCF-BDAF-4859-ABA6-FE88D2E1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C77-2E83-429F-9710-C30A2863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BD8D-4F79-43DB-A753-8B95AEC5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7691-9037-4B8C-92E1-4A3F5BDB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9B68-39D0-483D-AF1F-A2D27303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E261-8C8C-4888-ABA7-7C81160F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87A3-6CA4-4A94-998F-1196AC7F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E9B-B526-4671-A9CA-21758601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DFC-C747-4332-8A02-E478C8BF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5F8-1C56-4560-84F6-CF80BB05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F26-5A16-41D7-B0EB-65AAEFAF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527-510D-4555-810F-01053D49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9D1-B6A9-4702-A9F4-49840622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5BB9-3FDF-431B-A9B4-684DFCFE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F48F-0241-4A89-A5E5-7FEE1814B7D7}" type="slidenum"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99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66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c9ddf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Click to edit the title text format</a:t>
            </a: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16A1-2725-4333-B48E-FC59D7B30AB8}" type="slidenum"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227160" algn="ctr">
              <a:spcBef>
                <a:spcPts val="601"/>
              </a:spcBef>
              <a:buClr>
                <a:srgbClr val="c9ddf1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1:19Z</dcterms:modified>
  <cp:revision>57</cp:revision>
  <dc:subject/>
  <dc:title>幻灯片 1</dc:title>
</cp:coreProperties>
</file>