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4875B-2DE8-47F0-9A9F-2CA500C946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447920" y="46425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77D39-BEEC-44EF-9CBC-C61EBFBAE8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47920" y="46425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27880" y="46425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6F54F-A00C-4CAB-8A7C-310A547CDA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11880" y="38862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76200" y="38862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447920" y="46425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11880" y="46425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776200" y="46425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BD401-F44C-4EB9-9880-3BCCA1F6ED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1143000"/>
            <a:ext cx="7772400" cy="9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447920" y="46425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CA780-31AE-4CF6-809C-694D269865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27880" y="46425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47920" y="46425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447920" y="46425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47920" y="46425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27880" y="46425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11880" y="38862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776200" y="38862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447920" y="46425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611880" y="46425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776200" y="46425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972C2-ACA8-437A-9F89-973A233AEB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06583-0A7C-4417-B9BB-F09C3844A0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2BC47-26DD-4AB4-9921-2D4F6BF272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38080" y="1143000"/>
            <a:ext cx="7772400" cy="9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AD3EA-0696-4A5D-8E9B-1326205BCA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447920" y="46425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3A3A8-3D49-4F2F-B844-CF2F31C868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27880" y="46425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27D0A-64B2-49E0-AD88-E49971BF0F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47920" y="46425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F8969-9B57-4080-84D7-78F73DB020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76960" y="6629040"/>
            <a:ext cx="1066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95280" y="6597720"/>
            <a:ext cx="849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 中国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395280" y="6597720"/>
            <a:ext cx="849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1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　  中国</a:t>
            </a:r>
            <a:r>
              <a:rPr b="1" lang="zh-CN" sz="1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.</a:t>
            </a:r>
            <a:r>
              <a:rPr b="1" lang="zh-CN" sz="1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9:55Z</dcterms:modified>
  <cp:revision>52</cp:revision>
  <dc:subject/>
  <dc:title>幻灯片 1</dc:title>
</cp:coreProperties>
</file>