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5CD-759B-484C-BD0B-1F32BED1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20C-2F46-48E5-971E-09475616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18B-27E7-4D68-88A6-5C6F7FC6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0AD-1BEC-4BA9-8646-E8F10CF8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779E-A9D1-48FE-9A7D-AB5EC585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94F5-B481-414F-AF84-19FF6ED5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399-2E88-4804-8266-BF83DECD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CDB9-DA8D-4E7E-B086-382FB17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F951-D311-4542-8251-F16ED386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52D3-93F2-4957-AC77-22C28D0C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2F55-3AC2-4018-8B1A-ECD43FF4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0B3-387E-4B7A-9749-050312BA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0DB3-BF86-446B-BF20-77DCFB29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1344-23F7-4514-BA86-DD487858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1636-10B3-44B2-A628-D3FA5B11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4D73-4F35-4132-8172-02AB826D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3B8A-83FC-4A9B-B997-1D57D1AE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A73-E57E-4115-AD33-F9C1F6F0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CD8-4060-4053-ADC5-43BE56EA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4D6-983B-4EAA-9701-0C40CF3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950-B71B-4047-B803-E48CB3BB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16B-B244-4D6A-B151-D93A7E58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558-1FBC-475B-B14E-C80C0D1F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05A-60BB-4F27-9D3B-E82DBA9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078-7B2D-4945-B715-7C0C3C3C0E9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D07C-1552-44BA-8C86-6E57444EDA7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01Z</dcterms:modified>
  <cp:revision>43</cp:revision>
  <dc:subject/>
  <dc:title>幻灯片 1</dc:title>
</cp:coreProperties>
</file>