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DC74-725F-4C33-A0F4-ADE107D01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5333-409E-458E-9EC8-094570AA6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79E3-16CF-4456-A621-80110937D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3289-2FD8-41E2-9BD4-308F9C2FE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C06AF-E620-45A7-92A6-5D95436E1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1E6C4-0B9B-441C-8E91-1A8B252C9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ACCA4-E340-4B4A-90A7-C49DED299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CEAA3-38D2-4D6C-A4AB-33973F9F8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C260A-E3A4-464D-A51E-4A740D6CE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700FF-8022-4BF3-9CB7-C778927AB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1BAB2-D651-44A7-B2C7-FB2A7DE30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BF83-609A-478F-A881-0D52C3BDB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17170-644E-4800-95F8-89A2D3EBF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71986-A53D-4591-9D0B-686FA15C1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4DF64-3EA5-46A4-A994-BD03156A2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1F259-DAEE-47E7-BCC0-EDC1C9899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3214F-6128-4359-B4A3-917A2E912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1183-4C52-4C45-9CFA-CBDAEC251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A8D7-7E48-4A58-AA63-5E8316264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3BAD-A573-434C-B029-CA81630EF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0DA2-CEAD-4644-AED5-FD4EBD841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9934-8410-4614-9215-B61E6EA55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A3AC-2890-4010-9974-8B632CB24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8D25-5952-4164-880D-093EC06CE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4280" y="0"/>
            <a:ext cx="3252960" cy="6845400"/>
            <a:chOff x="44280" y="0"/>
            <a:chExt cx="3252960" cy="6845400"/>
          </a:xfrm>
        </p:grpSpPr>
        <p:grpSp>
          <p:nvGrpSpPr>
            <p:cNvPr id="1" name=""/>
            <p:cNvGrpSpPr/>
            <p:nvPr/>
          </p:nvGrpSpPr>
          <p:grpSpPr>
            <a:xfrm>
              <a:off x="108000" y="9360"/>
              <a:ext cx="3189240" cy="6836040"/>
              <a:chOff x="108000" y="9360"/>
              <a:chExt cx="3189240" cy="6836040"/>
            </a:xfrm>
          </p:grpSpPr>
          <p:sp>
            <p:nvSpPr>
              <p:cNvPr id="2" name=""/>
              <p:cNvSpPr/>
              <p:nvPr/>
            </p:nvSpPr>
            <p:spPr>
              <a:xfrm>
                <a:off x="1330200" y="1378080"/>
                <a:ext cx="85680" cy="95040"/>
              </a:xfrm>
              <a:prstGeom prst="diamond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779480" y="996840"/>
                <a:ext cx="22320" cy="255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218040" y="9360"/>
                <a:ext cx="79200" cy="93960"/>
              </a:xfrm>
              <a:prstGeom prst="diamond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569960" y="6734160"/>
                <a:ext cx="87480" cy="666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762280" y="460440"/>
                <a:ext cx="73080" cy="824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108000" y="289080"/>
                <a:ext cx="88920" cy="63360"/>
              </a:xfrm>
              <a:prstGeom prst="diamond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57360" y="123840"/>
                <a:ext cx="88920" cy="633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225440" y="44280"/>
                <a:ext cx="84240" cy="954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995400" y="6676920"/>
                <a:ext cx="85680" cy="669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2259000" y="6781680"/>
                <a:ext cx="88920" cy="63720"/>
              </a:xfrm>
              <a:prstGeom prst="diamond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33200" y="6781680"/>
                <a:ext cx="88920" cy="63720"/>
              </a:xfrm>
              <a:prstGeom prst="diamond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2382840" y="6676920"/>
                <a:ext cx="87480" cy="669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" name=""/>
            <p:cNvGrpSpPr/>
            <p:nvPr/>
          </p:nvGrpSpPr>
          <p:grpSpPr>
            <a:xfrm>
              <a:off x="69840" y="0"/>
              <a:ext cx="2976480" cy="6845400"/>
              <a:chOff x="69840" y="0"/>
              <a:chExt cx="2976480" cy="6845400"/>
            </a:xfrm>
          </p:grpSpPr>
          <p:sp>
            <p:nvSpPr>
              <p:cNvPr id="15" name=""/>
              <p:cNvSpPr/>
              <p:nvPr/>
            </p:nvSpPr>
            <p:spPr>
              <a:xfrm>
                <a:off x="1725480" y="1600200"/>
                <a:ext cx="81000" cy="93600"/>
              </a:xfrm>
              <a:prstGeom prst="diamond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017720" y="1168560"/>
                <a:ext cx="83880" cy="9504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2965320" y="307800"/>
                <a:ext cx="81000" cy="9396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036800" y="1623960"/>
                <a:ext cx="85680" cy="68400"/>
              </a:xfrm>
              <a:prstGeom prst="diamond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627120" y="6426360"/>
                <a:ext cx="85680" cy="6804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463680" y="1695600"/>
                <a:ext cx="87120" cy="6804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277920" y="1449360"/>
                <a:ext cx="21960" cy="6516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004760" y="246240"/>
                <a:ext cx="88920" cy="64800"/>
              </a:xfrm>
              <a:prstGeom prst="diamond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69920" y="673200"/>
                <a:ext cx="88920" cy="6516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60440" y="0"/>
                <a:ext cx="88920" cy="6516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2021040" y="120600"/>
                <a:ext cx="83880" cy="95400"/>
              </a:xfrm>
              <a:prstGeom prst="diamond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770120" y="596880"/>
                <a:ext cx="84240" cy="9540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252440" y="6635880"/>
                <a:ext cx="87480" cy="6804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506600" y="6654960"/>
                <a:ext cx="87120" cy="6804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452520" y="6777000"/>
                <a:ext cx="87120" cy="68400"/>
              </a:xfrm>
              <a:prstGeom prst="diamond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69840" y="3595680"/>
                <a:ext cx="49320" cy="6840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2641680" y="6635880"/>
                <a:ext cx="85680" cy="6804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" name=""/>
            <p:cNvGrpSpPr/>
            <p:nvPr/>
          </p:nvGrpSpPr>
          <p:grpSpPr>
            <a:xfrm>
              <a:off x="44280" y="73080"/>
              <a:ext cx="2789280" cy="6772320"/>
              <a:chOff x="44280" y="73080"/>
              <a:chExt cx="2789280" cy="6772320"/>
            </a:xfrm>
          </p:grpSpPr>
          <p:sp>
            <p:nvSpPr>
              <p:cNvPr id="33" name=""/>
              <p:cNvSpPr/>
              <p:nvPr/>
            </p:nvSpPr>
            <p:spPr>
              <a:xfrm>
                <a:off x="1924200" y="1204920"/>
                <a:ext cx="85680" cy="684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2498760" y="969840"/>
                <a:ext cx="88920" cy="66960"/>
              </a:xfrm>
              <a:prstGeom prst="rect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1965240" y="787320"/>
                <a:ext cx="34920" cy="38160"/>
              </a:xfrm>
              <a:prstGeom prst="rect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525680" y="1092240"/>
                <a:ext cx="83880" cy="9504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453960" y="2516040"/>
                <a:ext cx="82440" cy="9216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374840" y="174600"/>
                <a:ext cx="79200" cy="936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12880" y="1825560"/>
                <a:ext cx="83880" cy="6984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284040" y="387360"/>
                <a:ext cx="88920" cy="65160"/>
              </a:xfrm>
              <a:prstGeom prst="rect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704880" y="390600"/>
                <a:ext cx="38160" cy="27000"/>
              </a:xfrm>
              <a:prstGeom prst="rect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1644480" y="6321600"/>
                <a:ext cx="88920" cy="666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336600" y="142920"/>
                <a:ext cx="88920" cy="666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906480" y="73080"/>
                <a:ext cx="88920" cy="666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93800" y="1249200"/>
                <a:ext cx="87120" cy="6516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546120" y="1427040"/>
                <a:ext cx="88920" cy="6372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54000" y="627120"/>
                <a:ext cx="87120" cy="666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2155680" y="463680"/>
                <a:ext cx="34920" cy="37800"/>
              </a:xfrm>
              <a:prstGeom prst="rect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478240" y="311040"/>
                <a:ext cx="83880" cy="95400"/>
              </a:xfrm>
              <a:prstGeom prst="rect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495440" y="311040"/>
                <a:ext cx="85680" cy="954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766880" y="349200"/>
                <a:ext cx="84240" cy="954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49160" y="5969160"/>
                <a:ext cx="84240" cy="9504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089000" y="6711840"/>
                <a:ext cx="85680" cy="954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360440" y="6750000"/>
                <a:ext cx="84240" cy="954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4280" y="6754680"/>
                <a:ext cx="88920" cy="6696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19000" y="6673680"/>
                <a:ext cx="84240" cy="954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690560" y="6734160"/>
                <a:ext cx="115920" cy="11124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2640" y="6750000"/>
                <a:ext cx="85680" cy="954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898640" y="6556320"/>
                <a:ext cx="81000" cy="936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41280" y="6599160"/>
                <a:ext cx="114480" cy="936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478240" y="6711840"/>
                <a:ext cx="83880" cy="954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749680" y="6750000"/>
                <a:ext cx="83880" cy="954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206800" y="6673680"/>
                <a:ext cx="85680" cy="954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5440" y="1368360"/>
                <a:ext cx="85680" cy="6984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139680" y="25560"/>
              <a:ext cx="2305080" cy="6791040"/>
              <a:chOff x="139680" y="25560"/>
              <a:chExt cx="2305080" cy="6791040"/>
            </a:xfrm>
          </p:grpSpPr>
          <p:sp>
            <p:nvSpPr>
              <p:cNvPr id="66" name=""/>
              <p:cNvSpPr/>
              <p:nvPr/>
            </p:nvSpPr>
            <p:spPr>
              <a:xfrm>
                <a:off x="787320" y="1492200"/>
                <a:ext cx="84240" cy="9540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152800" y="939960"/>
                <a:ext cx="83880" cy="9504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635040" y="2852640"/>
                <a:ext cx="81000" cy="93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22120" y="3059280"/>
                <a:ext cx="81000" cy="9360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39680" y="2046240"/>
                <a:ext cx="84240" cy="66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987560" y="317520"/>
                <a:ext cx="87480" cy="6660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19120" y="701640"/>
                <a:ext cx="87480" cy="6336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14440" y="249120"/>
                <a:ext cx="87120" cy="6516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657360" y="971640"/>
                <a:ext cx="88920" cy="6660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378080" y="615960"/>
                <a:ext cx="83880" cy="9540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343240" y="615960"/>
                <a:ext cx="83880" cy="9540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365120" y="6019920"/>
                <a:ext cx="81000" cy="9180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89040" y="6743880"/>
                <a:ext cx="79200" cy="7272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16080" y="5486400"/>
                <a:ext cx="80640" cy="9216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2376360" y="25560"/>
                <a:ext cx="68400" cy="7596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47680" y="6334200"/>
                <a:ext cx="81000" cy="9216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111400" y="6496200"/>
                <a:ext cx="79200" cy="9180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857160" y="6591240"/>
                <a:ext cx="81000" cy="9216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4" name=""/>
            <p:cNvGrpSpPr/>
            <p:nvPr/>
          </p:nvGrpSpPr>
          <p:grpSpPr>
            <a:xfrm>
              <a:off x="133200" y="82440"/>
              <a:ext cx="2856240" cy="6762960"/>
              <a:chOff x="133200" y="82440"/>
              <a:chExt cx="2856240" cy="6762960"/>
            </a:xfrm>
          </p:grpSpPr>
          <p:grpSp>
            <p:nvGrpSpPr>
              <p:cNvPr id="85" name=""/>
              <p:cNvGrpSpPr/>
              <p:nvPr/>
            </p:nvGrpSpPr>
            <p:grpSpPr>
              <a:xfrm>
                <a:off x="141120" y="82440"/>
                <a:ext cx="2725920" cy="6697800"/>
                <a:chOff x="141120" y="82440"/>
                <a:chExt cx="2725920" cy="669780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565200" y="3606840"/>
                  <a:ext cx="81000" cy="93600"/>
                </a:xfrm>
                <a:prstGeom prst="diamond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458640" y="4427640"/>
                  <a:ext cx="86040" cy="66600"/>
                </a:xfrm>
                <a:prstGeom prst="diamond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849240" y="784080"/>
                  <a:ext cx="88920" cy="6516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141120" y="993600"/>
                  <a:ext cx="88920" cy="63720"/>
                </a:xfrm>
                <a:prstGeom prst="diamond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1174680" y="349200"/>
                  <a:ext cx="84240" cy="9540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2749680" y="82440"/>
                  <a:ext cx="83880" cy="95400"/>
                </a:xfrm>
                <a:prstGeom prst="diamond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1393920" y="6445080"/>
                  <a:ext cx="85680" cy="95400"/>
                </a:xfrm>
                <a:prstGeom prst="diamond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2101680" y="6713640"/>
                  <a:ext cx="86040" cy="66600"/>
                </a:xfrm>
                <a:prstGeom prst="diamond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149400" y="6642000"/>
                  <a:ext cx="52200" cy="104760"/>
                </a:xfrm>
                <a:prstGeom prst="diamond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2782800" y="6445080"/>
                  <a:ext cx="84240" cy="95400"/>
                </a:xfrm>
                <a:prstGeom prst="diamond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" name=""/>
              <p:cNvSpPr/>
              <p:nvPr/>
            </p:nvSpPr>
            <p:spPr>
              <a:xfrm>
                <a:off x="1158840" y="6311880"/>
                <a:ext cx="85680" cy="6840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06440" y="1149480"/>
                <a:ext cx="88920" cy="666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95360" y="536400"/>
                <a:ext cx="88920" cy="6516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512720" y="120600"/>
                <a:ext cx="51120" cy="572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428840" y="6692760"/>
                <a:ext cx="87120" cy="6840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995400" y="6751800"/>
                <a:ext cx="79200" cy="9360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63680" y="6678720"/>
                <a:ext cx="87120" cy="6804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60280" y="5935680"/>
                <a:ext cx="87480" cy="6840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33200" y="6492960"/>
                <a:ext cx="87480" cy="6804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901960" y="6777000"/>
                <a:ext cx="87480" cy="6840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382840" y="6751800"/>
                <a:ext cx="81000" cy="9360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54000" y="25560"/>
              <a:ext cx="2625840" cy="6781680"/>
              <a:chOff x="54000" y="25560"/>
              <a:chExt cx="2625840" cy="6781680"/>
            </a:xfrm>
          </p:grpSpPr>
          <p:sp>
            <p:nvSpPr>
              <p:cNvPr id="108" name=""/>
              <p:cNvSpPr/>
              <p:nvPr/>
            </p:nvSpPr>
            <p:spPr>
              <a:xfrm>
                <a:off x="2133720" y="1546200"/>
                <a:ext cx="73080" cy="824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30080" y="4192560"/>
                <a:ext cx="39960" cy="446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293920" y="326880"/>
                <a:ext cx="87480" cy="69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247760" y="1825560"/>
                <a:ext cx="87480" cy="68400"/>
              </a:xfrm>
              <a:prstGeom prst="diamond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079640" y="654120"/>
                <a:ext cx="88920" cy="66600"/>
              </a:xfrm>
              <a:prstGeom prst="diamond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201680" y="6702480"/>
                <a:ext cx="88920" cy="633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4000" y="61920"/>
                <a:ext cx="87120" cy="651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903240" y="406440"/>
                <a:ext cx="84240" cy="950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766880" y="25560"/>
                <a:ext cx="84240" cy="95040"/>
              </a:xfrm>
              <a:prstGeom prst="diamond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008000" y="6527880"/>
                <a:ext cx="55800" cy="666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30240" y="6735600"/>
                <a:ext cx="84240" cy="68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12840" y="6759720"/>
                <a:ext cx="74520" cy="475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06200" y="6264360"/>
                <a:ext cx="33480" cy="96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973160" y="6064200"/>
                <a:ext cx="22320" cy="73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590920" y="6702480"/>
                <a:ext cx="88920" cy="633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395440" y="6527880"/>
                <a:ext cx="57240" cy="666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246320" y="993600"/>
                <a:ext cx="68040" cy="702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34CB9-CDE3-4AAA-A4B6-7665D99A10DE}" type="slidenum">
              <a:rPr b="0" i="1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44280" y="0"/>
            <a:ext cx="9098280" cy="6856560"/>
            <a:chOff x="44280" y="0"/>
            <a:chExt cx="9098280" cy="6856560"/>
          </a:xfrm>
        </p:grpSpPr>
        <p:sp>
          <p:nvSpPr>
            <p:cNvPr id="167" name=""/>
            <p:cNvSpPr/>
            <p:nvPr/>
          </p:nvSpPr>
          <p:spPr>
            <a:xfrm>
              <a:off x="1330200" y="1378080"/>
              <a:ext cx="85680" cy="95040"/>
            </a:xfrm>
            <a:prstGeom prst="diamond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779480" y="996840"/>
              <a:ext cx="25560" cy="25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218040" y="9360"/>
              <a:ext cx="79200" cy="93960"/>
            </a:xfrm>
            <a:prstGeom prst="diamond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762280" y="460440"/>
              <a:ext cx="73080" cy="824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08000" y="289080"/>
              <a:ext cx="88920" cy="63360"/>
            </a:xfrm>
            <a:prstGeom prst="diamond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57360" y="123840"/>
              <a:ext cx="88920" cy="63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225440" y="44280"/>
              <a:ext cx="84240" cy="954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725480" y="1600200"/>
              <a:ext cx="81000" cy="93600"/>
            </a:xfrm>
            <a:prstGeom prst="diamond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17720" y="1168560"/>
              <a:ext cx="83880" cy="9504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965320" y="307800"/>
              <a:ext cx="81000" cy="9396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036800" y="1623960"/>
              <a:ext cx="85680" cy="68400"/>
            </a:xfrm>
            <a:prstGeom prst="diamond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63680" y="1695600"/>
              <a:ext cx="87120" cy="6804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77920" y="1449360"/>
              <a:ext cx="25200" cy="6516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004760" y="246240"/>
              <a:ext cx="88920" cy="64800"/>
            </a:xfrm>
            <a:prstGeom prst="diamond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69920" y="673200"/>
              <a:ext cx="88920" cy="6516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60440" y="0"/>
              <a:ext cx="88920" cy="6516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021040" y="120600"/>
              <a:ext cx="83880" cy="95400"/>
            </a:xfrm>
            <a:prstGeom prst="diamond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770120" y="596880"/>
              <a:ext cx="84240" cy="9540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840" y="3595680"/>
              <a:ext cx="49320" cy="6840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924200" y="1204920"/>
              <a:ext cx="85680" cy="6840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498760" y="969840"/>
              <a:ext cx="88920" cy="66960"/>
            </a:xfrm>
            <a:prstGeom prst="rect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965240" y="787320"/>
              <a:ext cx="34920" cy="38160"/>
            </a:xfrm>
            <a:prstGeom prst="rect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525680" y="1092240"/>
              <a:ext cx="83880" cy="9504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53960" y="2516040"/>
              <a:ext cx="82440" cy="9216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374840" y="174600"/>
              <a:ext cx="79200" cy="9360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12880" y="1825560"/>
              <a:ext cx="83880" cy="6984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84040" y="387360"/>
              <a:ext cx="88920" cy="65160"/>
            </a:xfrm>
            <a:prstGeom prst="rect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4880" y="390600"/>
              <a:ext cx="38160" cy="27000"/>
            </a:xfrm>
            <a:prstGeom prst="rect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644480" y="6321600"/>
              <a:ext cx="88920" cy="6660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36600" y="142920"/>
              <a:ext cx="88920" cy="6660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906480" y="73080"/>
              <a:ext cx="88920" cy="6660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3800" y="1249200"/>
              <a:ext cx="87120" cy="6516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46120" y="1427040"/>
              <a:ext cx="88920" cy="6372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4000" y="627120"/>
              <a:ext cx="87120" cy="6660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155680" y="463680"/>
              <a:ext cx="34920" cy="37800"/>
            </a:xfrm>
            <a:prstGeom prst="rect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478240" y="311040"/>
              <a:ext cx="83880" cy="95400"/>
            </a:xfrm>
            <a:prstGeom prst="rect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495440" y="311040"/>
              <a:ext cx="85680" cy="9540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66880" y="349200"/>
              <a:ext cx="84240" cy="9540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49160" y="5969160"/>
              <a:ext cx="84240" cy="9504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5440" y="1368360"/>
              <a:ext cx="85680" cy="6984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87320" y="1492200"/>
              <a:ext cx="84240" cy="9540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152800" y="939960"/>
              <a:ext cx="83880" cy="9504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35040" y="2852640"/>
              <a:ext cx="81000" cy="936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2120" y="3059280"/>
              <a:ext cx="81000" cy="9360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39680" y="2046240"/>
              <a:ext cx="84240" cy="666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987560" y="317520"/>
              <a:ext cx="87480" cy="6660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19120" y="701640"/>
              <a:ext cx="87480" cy="633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14440" y="249120"/>
              <a:ext cx="87120" cy="6516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57360" y="971640"/>
              <a:ext cx="88920" cy="6660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378080" y="615960"/>
              <a:ext cx="83880" cy="9540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343240" y="615960"/>
              <a:ext cx="83880" cy="9540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365120" y="6019920"/>
              <a:ext cx="81000" cy="9180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16080" y="5486400"/>
              <a:ext cx="80640" cy="9216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376360" y="25560"/>
              <a:ext cx="68400" cy="7596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5200" y="3606840"/>
              <a:ext cx="81000" cy="93600"/>
            </a:xfrm>
            <a:prstGeom prst="diamond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8640" y="4427640"/>
              <a:ext cx="86040" cy="66600"/>
            </a:xfrm>
            <a:prstGeom prst="diamond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49240" y="784080"/>
              <a:ext cx="88920" cy="6516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41120" y="993600"/>
              <a:ext cx="88920" cy="63720"/>
            </a:xfrm>
            <a:prstGeom prst="diamond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174680" y="349200"/>
              <a:ext cx="84240" cy="954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749680" y="82440"/>
              <a:ext cx="83880" cy="95400"/>
            </a:xfrm>
            <a:prstGeom prst="diamond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158840" y="6311880"/>
              <a:ext cx="85680" cy="68400"/>
            </a:xfrm>
            <a:prstGeom prst="diamond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06440" y="1149480"/>
              <a:ext cx="88920" cy="66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95360" y="536400"/>
              <a:ext cx="88920" cy="65160"/>
            </a:xfrm>
            <a:prstGeom prst="diamond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512720" y="120600"/>
              <a:ext cx="51120" cy="572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60280" y="5935680"/>
              <a:ext cx="87480" cy="68400"/>
            </a:xfrm>
            <a:prstGeom prst="diamond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133720" y="1546200"/>
              <a:ext cx="73080" cy="824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30080" y="4192560"/>
              <a:ext cx="39960" cy="44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293920" y="326880"/>
              <a:ext cx="87480" cy="69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247760" y="1825560"/>
              <a:ext cx="87480" cy="68400"/>
            </a:xfrm>
            <a:prstGeom prst="diamond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079640" y="654120"/>
              <a:ext cx="88920" cy="66600"/>
            </a:xfrm>
            <a:prstGeom prst="diamond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4000" y="61920"/>
              <a:ext cx="87120" cy="651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903240" y="406440"/>
              <a:ext cx="84240" cy="95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766880" y="25560"/>
              <a:ext cx="84240" cy="95040"/>
            </a:xfrm>
            <a:prstGeom prst="diamond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06200" y="6264360"/>
              <a:ext cx="33480" cy="96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973160" y="6064200"/>
              <a:ext cx="22320" cy="73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44280" y="6334200"/>
              <a:ext cx="2945160" cy="511200"/>
              <a:chOff x="44280" y="6334200"/>
              <a:chExt cx="2945160" cy="511200"/>
            </a:xfrm>
          </p:grpSpPr>
          <p:sp>
            <p:nvSpPr>
              <p:cNvPr id="243" name=""/>
              <p:cNvSpPr/>
              <p:nvPr/>
            </p:nvSpPr>
            <p:spPr>
              <a:xfrm>
                <a:off x="1569960" y="6734160"/>
                <a:ext cx="87480" cy="666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995400" y="6676920"/>
                <a:ext cx="85680" cy="669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259000" y="6781680"/>
                <a:ext cx="88920" cy="63720"/>
              </a:xfrm>
              <a:prstGeom prst="diamond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33200" y="6781680"/>
                <a:ext cx="88920" cy="63720"/>
              </a:xfrm>
              <a:prstGeom prst="diamond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382840" y="6676920"/>
                <a:ext cx="87480" cy="669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27120" y="6426360"/>
                <a:ext cx="85680" cy="6804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252440" y="6635880"/>
                <a:ext cx="87480" cy="6804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506600" y="6654960"/>
                <a:ext cx="87120" cy="6804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52520" y="6777000"/>
                <a:ext cx="87120" cy="68400"/>
              </a:xfrm>
              <a:prstGeom prst="diamond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641680" y="6635880"/>
                <a:ext cx="85680" cy="6804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089000" y="6711840"/>
                <a:ext cx="85680" cy="954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360440" y="6750000"/>
                <a:ext cx="84240" cy="954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4280" y="6754680"/>
                <a:ext cx="88920" cy="6696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819000" y="6673680"/>
                <a:ext cx="84240" cy="954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690560" y="6734160"/>
                <a:ext cx="115920" cy="11124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952640" y="6750000"/>
                <a:ext cx="85680" cy="954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898640" y="6556320"/>
                <a:ext cx="81000" cy="936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41280" y="6599160"/>
                <a:ext cx="114480" cy="936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478240" y="6711840"/>
                <a:ext cx="83880" cy="954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749680" y="6750000"/>
                <a:ext cx="83880" cy="954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206800" y="6673680"/>
                <a:ext cx="85680" cy="954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89040" y="6743880"/>
                <a:ext cx="79200" cy="7272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47680" y="6334200"/>
                <a:ext cx="81000" cy="9216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111400" y="6496200"/>
                <a:ext cx="79200" cy="9180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857160" y="6591240"/>
                <a:ext cx="81000" cy="9216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393920" y="6445080"/>
                <a:ext cx="85680" cy="95400"/>
              </a:xfrm>
              <a:prstGeom prst="diamond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101680" y="6713640"/>
                <a:ext cx="86040" cy="66600"/>
              </a:xfrm>
              <a:prstGeom prst="diamond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49400" y="6642000"/>
                <a:ext cx="52200" cy="104760"/>
              </a:xfrm>
              <a:prstGeom prst="diamond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782800" y="6445080"/>
                <a:ext cx="84240" cy="95400"/>
              </a:xfrm>
              <a:prstGeom prst="diamond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428840" y="6692760"/>
                <a:ext cx="87120" cy="6840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995400" y="6751800"/>
                <a:ext cx="79200" cy="9360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63680" y="6678720"/>
                <a:ext cx="87120" cy="6804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33200" y="6492960"/>
                <a:ext cx="87480" cy="6804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901960" y="6777000"/>
                <a:ext cx="87480" cy="6840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382840" y="6751800"/>
                <a:ext cx="81000" cy="9360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201680" y="6702480"/>
                <a:ext cx="88920" cy="633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008000" y="6527880"/>
                <a:ext cx="55800" cy="666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830240" y="6735600"/>
                <a:ext cx="84240" cy="68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12840" y="6759720"/>
                <a:ext cx="74520" cy="475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590920" y="6702480"/>
                <a:ext cx="88920" cy="633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395440" y="6527880"/>
                <a:ext cx="57240" cy="666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4" name=""/>
            <p:cNvSpPr/>
            <p:nvPr/>
          </p:nvSpPr>
          <p:spPr>
            <a:xfrm>
              <a:off x="1246320" y="993600"/>
              <a:ext cx="68040" cy="702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530600" y="1378080"/>
              <a:ext cx="85680" cy="95040"/>
            </a:xfrm>
            <a:prstGeom prst="diamond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979880" y="996840"/>
              <a:ext cx="25560" cy="25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308400" y="289080"/>
              <a:ext cx="88920" cy="63360"/>
            </a:xfrm>
            <a:prstGeom prst="diamond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925880" y="1600200"/>
              <a:ext cx="81000" cy="93600"/>
            </a:xfrm>
            <a:prstGeom prst="diamond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218120" y="1168560"/>
              <a:ext cx="83880" cy="9504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37200" y="1623960"/>
              <a:ext cx="85680" cy="68400"/>
            </a:xfrm>
            <a:prstGeom prst="diamond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664080" y="1695600"/>
              <a:ext cx="87120" cy="6804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478320" y="1449360"/>
              <a:ext cx="25200" cy="6516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370320" y="673200"/>
              <a:ext cx="88920" cy="6516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970520" y="596880"/>
              <a:ext cx="84240" cy="9540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726080" y="1092240"/>
              <a:ext cx="83880" cy="9504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484440" y="387360"/>
              <a:ext cx="88920" cy="65160"/>
            </a:xfrm>
            <a:prstGeom prst="rect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905280" y="390600"/>
              <a:ext cx="38160" cy="27000"/>
            </a:xfrm>
            <a:prstGeom prst="rect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994200" y="1249200"/>
              <a:ext cx="87120" cy="6516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746520" y="1427040"/>
              <a:ext cx="88920" cy="6372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254400" y="627120"/>
              <a:ext cx="87120" cy="6660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95840" y="311040"/>
              <a:ext cx="85680" cy="9540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967280" y="349200"/>
              <a:ext cx="84240" cy="9540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255840" y="1368360"/>
              <a:ext cx="85680" cy="6984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987720" y="1492200"/>
              <a:ext cx="84240" cy="9540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719520" y="701640"/>
              <a:ext cx="87480" cy="633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857760" y="971640"/>
              <a:ext cx="88920" cy="6660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578480" y="615960"/>
              <a:ext cx="83880" cy="9540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049640" y="784080"/>
              <a:ext cx="88920" cy="6516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341520" y="993600"/>
              <a:ext cx="88920" cy="63720"/>
            </a:xfrm>
            <a:prstGeom prst="diamond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375080" y="349200"/>
              <a:ext cx="84240" cy="954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606840" y="1149480"/>
              <a:ext cx="88920" cy="66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695760" y="536400"/>
              <a:ext cx="88920" cy="65160"/>
            </a:xfrm>
            <a:prstGeom prst="diamond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280040" y="654120"/>
              <a:ext cx="88920" cy="66600"/>
            </a:xfrm>
            <a:prstGeom prst="diamond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103640" y="406440"/>
              <a:ext cx="84240" cy="95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446720" y="993600"/>
              <a:ext cx="68040" cy="702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478240" y="1263600"/>
              <a:ext cx="83880" cy="95400"/>
            </a:xfrm>
            <a:prstGeom prst="diamond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612880" y="1606680"/>
              <a:ext cx="34920" cy="37800"/>
            </a:xfrm>
            <a:prstGeom prst="rect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935440" y="1454040"/>
              <a:ext cx="83880" cy="95400"/>
            </a:xfrm>
            <a:prstGeom prst="rect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444760" y="1460520"/>
              <a:ext cx="87480" cy="6660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800440" y="1758960"/>
              <a:ext cx="83880" cy="9540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833560" y="1168560"/>
              <a:ext cx="68400" cy="7596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751120" y="1469880"/>
              <a:ext cx="87480" cy="69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927520" y="806400"/>
              <a:ext cx="83880" cy="954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892680" y="19080"/>
              <a:ext cx="83880" cy="954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672000" y="220680"/>
              <a:ext cx="88920" cy="65160"/>
            </a:xfrm>
            <a:prstGeom prst="diamond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687920" y="95400"/>
              <a:ext cx="84240" cy="95040"/>
            </a:xfrm>
            <a:prstGeom prst="diamond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41720" y="149400"/>
              <a:ext cx="79560" cy="9360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573360" y="47520"/>
              <a:ext cx="88920" cy="6696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179960" y="95400"/>
              <a:ext cx="50760" cy="56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433760" y="0"/>
              <a:ext cx="84240" cy="95400"/>
            </a:xfrm>
            <a:prstGeom prst="diamond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284800" y="996840"/>
              <a:ext cx="25560" cy="25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723000" y="9360"/>
              <a:ext cx="79560" cy="93960"/>
            </a:xfrm>
            <a:prstGeom prst="diamond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267600" y="460440"/>
              <a:ext cx="72720" cy="824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230800" y="1600200"/>
              <a:ext cx="81000" cy="93600"/>
            </a:xfrm>
            <a:prstGeom prst="diamond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470640" y="307800"/>
              <a:ext cx="81000" cy="9396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526000" y="120600"/>
              <a:ext cx="84240" cy="95400"/>
            </a:xfrm>
            <a:prstGeom prst="diamond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275440" y="596880"/>
              <a:ext cx="83880" cy="9540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429160" y="1204920"/>
              <a:ext cx="85680" cy="6840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004080" y="969840"/>
              <a:ext cx="88920" cy="66960"/>
            </a:xfrm>
            <a:prstGeom prst="rect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470560" y="787320"/>
              <a:ext cx="34920" cy="38160"/>
            </a:xfrm>
            <a:prstGeom prst="rect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661000" y="463680"/>
              <a:ext cx="34920" cy="37800"/>
            </a:xfrm>
            <a:prstGeom prst="rect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983200" y="311040"/>
              <a:ext cx="84240" cy="95400"/>
            </a:xfrm>
            <a:prstGeom prst="rect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272200" y="349200"/>
              <a:ext cx="83880" cy="9540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657760" y="939960"/>
              <a:ext cx="84240" cy="9504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492880" y="317520"/>
              <a:ext cx="87120" cy="6660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848200" y="615960"/>
              <a:ext cx="84240" cy="9540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881680" y="25560"/>
              <a:ext cx="68400" cy="7596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254640" y="82440"/>
              <a:ext cx="84240" cy="95400"/>
            </a:xfrm>
            <a:prstGeom prst="diamond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638680" y="1546200"/>
              <a:ext cx="73080" cy="824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799240" y="326880"/>
              <a:ext cx="87120" cy="69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272200" y="25560"/>
              <a:ext cx="83880" cy="95040"/>
            </a:xfrm>
            <a:prstGeom prst="diamond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035920" y="1378080"/>
              <a:ext cx="85680" cy="95040"/>
            </a:xfrm>
            <a:prstGeom prst="diamond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866080" y="2292480"/>
              <a:ext cx="25560" cy="25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813720" y="289080"/>
              <a:ext cx="88560" cy="63360"/>
            </a:xfrm>
            <a:prstGeom prst="diamond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431200" y="1600200"/>
              <a:ext cx="81000" cy="93600"/>
            </a:xfrm>
            <a:prstGeom prst="diamond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723080" y="1168560"/>
              <a:ext cx="84240" cy="9504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742160" y="1623960"/>
              <a:ext cx="85680" cy="68400"/>
            </a:xfrm>
            <a:prstGeom prst="diamond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169040" y="1695600"/>
              <a:ext cx="87480" cy="6804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83280" y="1449360"/>
              <a:ext cx="25560" cy="6516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75640" y="673200"/>
              <a:ext cx="88560" cy="6516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856720" y="1892160"/>
              <a:ext cx="84240" cy="9540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231040" y="1092240"/>
              <a:ext cx="84240" cy="9504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989760" y="387360"/>
              <a:ext cx="88920" cy="65160"/>
            </a:xfrm>
            <a:prstGeom prst="rect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410600" y="390600"/>
              <a:ext cx="37800" cy="27000"/>
            </a:xfrm>
            <a:prstGeom prst="rect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499520" y="1249200"/>
              <a:ext cx="87120" cy="6516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251840" y="1427040"/>
              <a:ext cx="88920" cy="6372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759720" y="627120"/>
              <a:ext cx="87120" cy="6660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201160" y="311040"/>
              <a:ext cx="85680" cy="9540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9005760" y="2101680"/>
              <a:ext cx="84240" cy="9540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761160" y="1368360"/>
              <a:ext cx="85680" cy="6984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493040" y="1492200"/>
              <a:ext cx="84240" cy="9540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224840" y="701640"/>
              <a:ext cx="87120" cy="633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362720" y="971640"/>
              <a:ext cx="88920" cy="6660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083440" y="615960"/>
              <a:ext cx="84240" cy="9540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554960" y="784080"/>
              <a:ext cx="88920" cy="6516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846840" y="993600"/>
              <a:ext cx="88920" cy="63720"/>
            </a:xfrm>
            <a:prstGeom prst="diamond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880400" y="349200"/>
              <a:ext cx="84240" cy="954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112160" y="1149480"/>
              <a:ext cx="88920" cy="66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201080" y="536400"/>
              <a:ext cx="88560" cy="65160"/>
            </a:xfrm>
            <a:prstGeom prst="diamond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785000" y="654120"/>
              <a:ext cx="88920" cy="66600"/>
            </a:xfrm>
            <a:prstGeom prst="diamond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608960" y="406440"/>
              <a:ext cx="84240" cy="95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951680" y="993600"/>
              <a:ext cx="68400" cy="702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983200" y="1263600"/>
              <a:ext cx="84240" cy="95400"/>
            </a:xfrm>
            <a:prstGeom prst="diamond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18200" y="1606680"/>
              <a:ext cx="34920" cy="37800"/>
            </a:xfrm>
            <a:prstGeom prst="rect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440400" y="1454040"/>
              <a:ext cx="84240" cy="95400"/>
            </a:xfrm>
            <a:prstGeom prst="rect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950080" y="1460520"/>
              <a:ext cx="87120" cy="6660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305400" y="1758960"/>
              <a:ext cx="84240" cy="9540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338880" y="1168560"/>
              <a:ext cx="68400" cy="7596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256440" y="1469880"/>
              <a:ext cx="87120" cy="69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432480" y="806400"/>
              <a:ext cx="84240" cy="954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397640" y="19080"/>
              <a:ext cx="84240" cy="954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176960" y="220680"/>
              <a:ext cx="88920" cy="65160"/>
            </a:xfrm>
            <a:prstGeom prst="diamond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193240" y="95400"/>
              <a:ext cx="83880" cy="95040"/>
            </a:xfrm>
            <a:prstGeom prst="diamond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547040" y="149400"/>
              <a:ext cx="79200" cy="9360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078680" y="47520"/>
              <a:ext cx="88920" cy="6696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684920" y="95400"/>
              <a:ext cx="51120" cy="56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939080" y="0"/>
              <a:ext cx="84240" cy="95400"/>
            </a:xfrm>
            <a:prstGeom prst="diamond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901000" y="85680"/>
              <a:ext cx="79560" cy="93600"/>
            </a:xfrm>
            <a:prstGeom prst="diamond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445600" y="536400"/>
              <a:ext cx="73080" cy="828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648640" y="384120"/>
              <a:ext cx="81000" cy="9360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432640" y="158760"/>
              <a:ext cx="84240" cy="95400"/>
            </a:xfrm>
            <a:prstGeom prst="diamond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8991720" y="365040"/>
              <a:ext cx="88920" cy="63720"/>
            </a:xfrm>
            <a:prstGeom prst="diamond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9053640" y="749160"/>
              <a:ext cx="88920" cy="6516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937720" y="703440"/>
              <a:ext cx="87120" cy="6660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8939160" y="1444680"/>
              <a:ext cx="85680" cy="6984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9024840" y="1069920"/>
              <a:ext cx="88920" cy="63720"/>
            </a:xfrm>
            <a:prstGeom prst="diamond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8296200" y="1682640"/>
              <a:ext cx="34920" cy="38160"/>
            </a:xfrm>
            <a:prstGeom prst="rect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618400" y="1530360"/>
              <a:ext cx="84240" cy="95400"/>
            </a:xfrm>
            <a:prstGeom prst="rect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8483760" y="1835280"/>
              <a:ext cx="83880" cy="9504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8516880" y="1244520"/>
              <a:ext cx="68400" cy="7632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8815320" y="2841480"/>
              <a:ext cx="87480" cy="69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610480" y="882720"/>
              <a:ext cx="84240" cy="9504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675640" y="1222200"/>
              <a:ext cx="88920" cy="63720"/>
            </a:xfrm>
            <a:prstGeom prst="diamond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8599320" y="2136600"/>
              <a:ext cx="88920" cy="63720"/>
            </a:xfrm>
            <a:prstGeom prst="diamond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147160" y="4129200"/>
              <a:ext cx="48960" cy="6804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531280" y="3049560"/>
              <a:ext cx="82440" cy="9216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8712360" y="3386160"/>
              <a:ext cx="80640" cy="936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299440" y="3592440"/>
              <a:ext cx="81000" cy="9360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642520" y="4140360"/>
              <a:ext cx="80640" cy="93600"/>
            </a:xfrm>
            <a:prstGeom prst="diamond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8535960" y="4960800"/>
              <a:ext cx="85680" cy="66960"/>
            </a:xfrm>
            <a:prstGeom prst="diamond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807400" y="4726080"/>
              <a:ext cx="39600" cy="442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2" name=""/>
            <p:cNvGrpSpPr/>
            <p:nvPr/>
          </p:nvGrpSpPr>
          <p:grpSpPr>
            <a:xfrm>
              <a:off x="6138720" y="6334200"/>
              <a:ext cx="2944800" cy="511200"/>
              <a:chOff x="6138720" y="6334200"/>
              <a:chExt cx="2944800" cy="511200"/>
            </a:xfrm>
          </p:grpSpPr>
          <p:sp>
            <p:nvSpPr>
              <p:cNvPr id="423" name=""/>
              <p:cNvSpPr/>
              <p:nvPr/>
            </p:nvSpPr>
            <p:spPr>
              <a:xfrm>
                <a:off x="7470720" y="6734160"/>
                <a:ext cx="87480" cy="666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8047080" y="6676920"/>
                <a:ext cx="85680" cy="669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780240" y="6781680"/>
                <a:ext cx="88920" cy="63720"/>
              </a:xfrm>
              <a:prstGeom prst="diamond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8906040" y="6781680"/>
                <a:ext cx="88560" cy="63720"/>
              </a:xfrm>
              <a:prstGeom prst="diamond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657840" y="6676920"/>
                <a:ext cx="87480" cy="669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8415360" y="6426360"/>
                <a:ext cx="85680" cy="6804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788240" y="6635880"/>
                <a:ext cx="87480" cy="6804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534440" y="6654960"/>
                <a:ext cx="87120" cy="6804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8588520" y="6777000"/>
                <a:ext cx="87120" cy="68400"/>
              </a:xfrm>
              <a:prstGeom prst="diamond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400800" y="6635880"/>
                <a:ext cx="85680" cy="6804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7953480" y="6711840"/>
                <a:ext cx="85680" cy="954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83480" y="6750000"/>
                <a:ext cx="84240" cy="954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8994600" y="6754680"/>
                <a:ext cx="88920" cy="6696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8224920" y="6673680"/>
                <a:ext cx="83880" cy="954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321680" y="6734160"/>
                <a:ext cx="115920" cy="11124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089840" y="6750000"/>
                <a:ext cx="85680" cy="954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7148520" y="6556320"/>
                <a:ext cx="81000" cy="936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8672400" y="6599160"/>
                <a:ext cx="114480" cy="936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6566040" y="6711840"/>
                <a:ext cx="83880" cy="954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6294600" y="6750000"/>
                <a:ext cx="83880" cy="954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835680" y="6673680"/>
                <a:ext cx="85680" cy="954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8359920" y="6743880"/>
                <a:ext cx="79200" cy="7272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8799480" y="6334200"/>
                <a:ext cx="81000" cy="9216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6937200" y="6496200"/>
                <a:ext cx="79560" cy="9180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8190000" y="6591240"/>
                <a:ext cx="81000" cy="9216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7648560" y="6445080"/>
                <a:ext cx="85680" cy="95400"/>
              </a:xfrm>
              <a:prstGeom prst="diamond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6940440" y="6713640"/>
                <a:ext cx="85680" cy="66600"/>
              </a:xfrm>
              <a:prstGeom prst="diamond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8926560" y="6642000"/>
                <a:ext cx="52200" cy="104760"/>
              </a:xfrm>
              <a:prstGeom prst="diamond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6261120" y="6445080"/>
                <a:ext cx="84240" cy="95400"/>
              </a:xfrm>
              <a:prstGeom prst="diamond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7612200" y="6692760"/>
                <a:ext cx="87120" cy="6840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8053560" y="6751800"/>
                <a:ext cx="79200" cy="9360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8577360" y="6678720"/>
                <a:ext cx="87120" cy="6804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8907480" y="6492960"/>
                <a:ext cx="87120" cy="6804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138720" y="6777000"/>
                <a:ext cx="87480" cy="6840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664320" y="6751800"/>
                <a:ext cx="81000" cy="9360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7837560" y="6702480"/>
                <a:ext cx="88920" cy="633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8064360" y="6527880"/>
                <a:ext cx="55800" cy="666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213680" y="6735600"/>
                <a:ext cx="83880" cy="68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8740800" y="6759720"/>
                <a:ext cx="74520" cy="475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448320" y="6702480"/>
                <a:ext cx="88920" cy="633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675480" y="6527880"/>
                <a:ext cx="57240" cy="666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64" name=""/>
            <p:cNvSpPr/>
            <p:nvPr/>
          </p:nvSpPr>
          <p:spPr>
            <a:xfrm>
              <a:off x="5002200" y="6692760"/>
              <a:ext cx="81000" cy="93960"/>
            </a:xfrm>
            <a:prstGeom prst="diamond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313160" y="6716880"/>
              <a:ext cx="85680" cy="68040"/>
            </a:xfrm>
            <a:prstGeom prst="diamond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740040" y="6788160"/>
              <a:ext cx="87480" cy="6840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554280" y="6541920"/>
              <a:ext cx="25560" cy="6516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822840" y="6519960"/>
              <a:ext cx="88920" cy="6336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064040" y="6585120"/>
              <a:ext cx="84240" cy="9504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011400" y="6546960"/>
              <a:ext cx="84240" cy="95040"/>
            </a:xfrm>
            <a:prstGeom prst="rect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307120" y="6692760"/>
              <a:ext cx="81000" cy="93960"/>
            </a:xfrm>
            <a:prstGeom prst="diamond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715000" y="6638760"/>
              <a:ext cx="73080" cy="828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026040" y="6553080"/>
              <a:ext cx="87480" cy="6696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475840" y="4581360"/>
              <a:ext cx="79200" cy="93960"/>
            </a:xfrm>
            <a:prstGeom prst="diamond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628120" y="5473800"/>
              <a:ext cx="88920" cy="6516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742240" y="5187960"/>
              <a:ext cx="88920" cy="65160"/>
            </a:xfrm>
            <a:prstGeom prst="rect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512200" y="5427720"/>
              <a:ext cx="87120" cy="6660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599320" y="5794200"/>
              <a:ext cx="88920" cy="63720"/>
            </a:xfrm>
            <a:prstGeom prst="diamond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864640" y="5950080"/>
              <a:ext cx="88920" cy="66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091360" y="5969160"/>
              <a:ext cx="68400" cy="7596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185320" y="5607000"/>
              <a:ext cx="83880" cy="954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89E95-C6FD-4D95-8C9A-D1A03A061957}" type="slidenum">
              <a:rPr b="0" i="1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5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00"/>
              </a:buClr>
              <a:buSzPct val="65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zh-CN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zh-CN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24:14Z</dcterms:modified>
  <cp:revision>24</cp:revision>
  <dc:subject/>
  <dc:title>幻灯片 1</dc:title>
</cp:coreProperties>
</file>