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052-260B-424B-89CD-9738ED9E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B22-7FB9-4217-839A-46FFB3C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DFA-9B43-4A70-97BF-63B9A48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173-8B4C-4531-9492-37CF0516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06E7-B0FC-4234-A163-81932B8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A623-C49C-45DB-A16F-07A8578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607B-8762-4853-B3ED-3C438E8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FCFA-2F92-4969-AF38-884C309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2C1-2F7F-40E7-AADE-2B18B40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8FA-E934-4D9B-932C-C26803F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F62F-CF8B-49B0-BAB3-CC5E26B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1E8-B732-46E9-BCF5-47484F25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9FD1-FE08-49A6-A65B-BCBEB3C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C877-4881-4695-B6C7-A300D64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A27-BEB0-46DB-AA55-29BDB87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6D7A-C1E8-438C-9568-A03BEE91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B69E-6572-41BD-83DE-62DEF8F7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CC8-A85A-4B15-865D-51B0CDF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B4F-30F2-4F38-850A-87A7095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BEA-7009-4540-BFF9-E809018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189-CDD2-4E85-9E83-EA51420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0A4-B411-44FF-BE6B-D3D9F7C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906-4D81-4CAA-8322-06DD6D9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3F1-C694-4A25-911B-E8291E0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CB8-F4E3-48FA-A84C-B2D60499151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359D-9820-4CA9-9912-29355E8B0B3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52Z</dcterms:modified>
  <cp:revision>42</cp:revision>
  <dc:subject/>
  <dc:title>幻灯片 1</dc:title>
</cp:coreProperties>
</file>