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B3D-2839-4E2B-BBB5-324D10EE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E5-8F7E-4717-A6A1-982BB88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43C-63EE-455D-864D-12FE62EC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08C-C60E-4D6D-900A-6E2FE2A3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363-2116-407C-A2A9-3AD2BA5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837-77F8-40FE-8A0A-FFC9557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B49-EC92-4612-82BE-DF945073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8F7-96D9-467C-BCD6-56E8300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276-8A97-4186-B339-010F2D6F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759-8FB8-4B89-A4DC-ED1A020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77A-F439-4919-A980-AD737CC3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538-572A-4940-8B1D-156E7A5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02BB-3EA7-4F54-A2C7-AB9FF6EB2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12Z</dcterms:modified>
  <cp:revision>30</cp:revision>
  <dc:subject/>
  <dc:title>幻灯片 1</dc:title>
</cp:coreProperties>
</file>