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3B4-0993-48D5-A1F5-BF88514A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E549-FF01-4C49-BD2C-C34C5FCF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0FF-054E-4CDF-A9B1-486EA604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ACE-3E30-4642-B753-F109D51A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2BC8-4BA0-41E2-B341-073EF9CE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6E02-F8F8-44DB-B2BD-C7F369E5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CC63-ADC1-4755-B79C-077C2CE9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56F4-A55C-4FE0-896C-9D981FE1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39EA-81B3-4D0A-8934-B2BCFE36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3279-1728-4D3D-B88B-A1B8BE5C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D7EB-B317-4B7D-8E67-42D88EEE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C3D8-52BA-4CC2-91B2-49DC475F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3FD9-DB72-47AC-BF46-E879FCE3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15A1-9F73-4896-B1F5-751352DE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4201-0C23-4820-86E8-0E59A62E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073B-C93A-41B9-B3F8-9F0B2182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A1B5-AC3F-4806-97A6-E1807F4B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B86-519C-42D5-9833-DD65A6F2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95C8-28AA-42A6-BF40-7339F57A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BAC1-CD8C-4149-9965-FC7ACF9C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997-D795-4213-8EC1-F8D82E93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4A9-1080-4F7E-B462-0A8450E8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E386-8068-4A98-A401-C2D0BC60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88F2-6B86-4EB1-BD61-7AC45AFA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5CDA-EB76-4A34-ACF4-20FADD7E664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21B5-F5A1-4450-A9FF-D829F006EF6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1:46Z</dcterms:modified>
  <cp:revision>60</cp:revision>
  <dc:subject/>
  <dc:title>幻灯片 1</dc:title>
</cp:coreProperties>
</file>