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AFD-A1A9-40D6-A36B-D558DEDB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E29-0946-4688-9BBC-945580CD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5EC-A1C7-492A-B2F6-A8AD7899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5924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6580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5268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25924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6580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590-1624-4B9A-A3B5-182DDF14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BCC5-7CB9-4343-8EE8-06DAF283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912-E77A-4556-8FD0-63D9FCC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22B-2416-4C20-8C5A-8FA7BF80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990-9EDA-47C4-89EE-A7985AF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761E-EAEE-49BF-AA2A-AEC534D2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0A9B-93A8-4F61-B5B0-C4D240A8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5C26-8664-460A-926E-6EFE01E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9A5-7D6F-460D-AA64-F3F7B4D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5D54-43E3-4258-8AED-5741CAF6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0BF3-20DD-48A7-BD9E-AD771E8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80CE-A3D8-4829-81D5-AF730AB2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B3A7-3B7F-4457-BCEC-1A1A300B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924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6580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5268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25924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6580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261E-3F4C-4801-9DFE-E1D63C8C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BDE-C2B2-4E74-AA31-D45F139B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075-2BDA-4486-A714-23371FE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959-023F-4B86-B4E4-871AB26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B53-159F-4FFB-AD4C-DF51C1F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36A-5864-41F7-97A1-2B9333C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19C-58C1-4C69-816F-33530C6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CAE-05E7-4466-9189-44FD614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4a0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77760"/>
            <a:ext cx="9131400" cy="58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9000" y="16002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403-18BE-4F02-A198-270054FC1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977760"/>
            <a:ext cx="9131400" cy="586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3140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4a0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6A2-1963-4FC1-B355-CE863B279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55Z</dcterms:modified>
  <cp:revision>49</cp:revision>
  <dc:subject/>
  <dc:title>幻灯片 1</dc:title>
</cp:coreProperties>
</file>