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B574-158B-49AD-9715-370040A4C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5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765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4284-4E20-41DA-AD0C-7FD3C8F0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765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6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6765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6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8236-0703-40FF-BA64-804BC222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5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404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04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6765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404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04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2416-C3EB-46B8-A1CA-1890EE2E5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A71A-1246-44F0-A6F9-E3294A97C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6765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7B31-203D-42A7-8E3E-C6367B7E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765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4730-7C66-4956-835B-E72946F8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765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56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FE8E-69F0-46CF-A026-13BA6CE5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44B9-045C-49FB-ACA7-CA570BEF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DC61-893F-4F92-BC5B-C4B3B54B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765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56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6765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84A4-2299-4026-8035-457BBF5B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6765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F1B6-72DA-4B1A-8166-C037B957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765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56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6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AFC3-65BD-40AF-B484-1A8D5877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765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6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6765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A5D7-E6A8-4CA6-A72D-51F7C6FB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765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6765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3DBE-B53B-4FBF-B8BC-A0F2A949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765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56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6765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56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CA60-713B-48F0-A606-004720785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5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404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04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6765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404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04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0FD4-0CAF-47DE-9913-933E8DBF6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765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65D6-BF6D-47A0-BFB0-BE7A4216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765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56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24B7-1A8E-4074-BF13-6DE70173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C1F0-F2B7-4AA5-98EB-5E8E644E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72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4FE4-2B18-4399-8269-129231D7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765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56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6765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E642-9ADD-40FE-BC59-2CADAF8B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765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56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6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1058-D08C-4494-8CCE-9E2B065D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5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6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6765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7F40-81DC-4A64-BFCD-43C1ABEC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12800" cy="6846840"/>
            <a:chOff x="0" y="0"/>
            <a:chExt cx="712800" cy="68468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11360" cy="68454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12800" cy="6846840"/>
            </a:xfrm>
            <a:custGeom>
              <a:avLst/>
              <a:gdLst/>
              <a:ahLst/>
              <a:rect l="l" t="t" r="r" b="b"/>
              <a:pathLst>
                <a:path w="449" h="4313">
                  <a:moveTo>
                    <a:pt x="0" y="0"/>
                  </a:moveTo>
                  <a:lnTo>
                    <a:pt x="0" y="4312"/>
                  </a:lnTo>
                  <a:lnTo>
                    <a:pt x="149" y="4312"/>
                  </a:lnTo>
                  <a:lnTo>
                    <a:pt x="149" y="0"/>
                  </a:lnTo>
                  <a:lnTo>
                    <a:pt x="299" y="0"/>
                  </a:lnTo>
                  <a:lnTo>
                    <a:pt x="299" y="4312"/>
                  </a:lnTo>
                  <a:lnTo>
                    <a:pt x="448" y="4312"/>
                  </a:lnTo>
                  <a:lnTo>
                    <a:pt x="448" y="0"/>
                  </a:lnTo>
                  <a:lnTo>
                    <a:pt x="448" y="149"/>
                  </a:lnTo>
                  <a:lnTo>
                    <a:pt x="0" y="149"/>
                  </a:lnTo>
                  <a:lnTo>
                    <a:pt x="0" y="297"/>
                  </a:lnTo>
                  <a:lnTo>
                    <a:pt x="448" y="297"/>
                  </a:lnTo>
                  <a:lnTo>
                    <a:pt x="448" y="446"/>
                  </a:lnTo>
                  <a:lnTo>
                    <a:pt x="0" y="446"/>
                  </a:lnTo>
                  <a:lnTo>
                    <a:pt x="0" y="595"/>
                  </a:lnTo>
                  <a:lnTo>
                    <a:pt x="448" y="595"/>
                  </a:lnTo>
                  <a:lnTo>
                    <a:pt x="448" y="743"/>
                  </a:lnTo>
                  <a:lnTo>
                    <a:pt x="0" y="743"/>
                  </a:lnTo>
                  <a:lnTo>
                    <a:pt x="0" y="892"/>
                  </a:lnTo>
                  <a:lnTo>
                    <a:pt x="448" y="892"/>
                  </a:lnTo>
                  <a:lnTo>
                    <a:pt x="448" y="1041"/>
                  </a:lnTo>
                  <a:lnTo>
                    <a:pt x="0" y="1041"/>
                  </a:lnTo>
                  <a:lnTo>
                    <a:pt x="0" y="1190"/>
                  </a:lnTo>
                  <a:lnTo>
                    <a:pt x="448" y="1190"/>
                  </a:lnTo>
                  <a:lnTo>
                    <a:pt x="448" y="1338"/>
                  </a:lnTo>
                  <a:lnTo>
                    <a:pt x="0" y="1338"/>
                  </a:lnTo>
                  <a:lnTo>
                    <a:pt x="0" y="1487"/>
                  </a:lnTo>
                  <a:lnTo>
                    <a:pt x="448" y="1487"/>
                  </a:lnTo>
                  <a:lnTo>
                    <a:pt x="448" y="1636"/>
                  </a:lnTo>
                  <a:lnTo>
                    <a:pt x="0" y="1636"/>
                  </a:lnTo>
                  <a:lnTo>
                    <a:pt x="0" y="1784"/>
                  </a:lnTo>
                  <a:lnTo>
                    <a:pt x="448" y="1784"/>
                  </a:lnTo>
                  <a:lnTo>
                    <a:pt x="448" y="1933"/>
                  </a:lnTo>
                  <a:lnTo>
                    <a:pt x="0" y="1933"/>
                  </a:lnTo>
                  <a:lnTo>
                    <a:pt x="0" y="2082"/>
                  </a:lnTo>
                  <a:lnTo>
                    <a:pt x="448" y="2082"/>
                  </a:lnTo>
                  <a:lnTo>
                    <a:pt x="448" y="2230"/>
                  </a:lnTo>
                  <a:lnTo>
                    <a:pt x="0" y="2230"/>
                  </a:lnTo>
                  <a:lnTo>
                    <a:pt x="0" y="2379"/>
                  </a:lnTo>
                  <a:lnTo>
                    <a:pt x="448" y="2379"/>
                  </a:lnTo>
                  <a:lnTo>
                    <a:pt x="448" y="2528"/>
                  </a:lnTo>
                  <a:lnTo>
                    <a:pt x="0" y="2528"/>
                  </a:lnTo>
                  <a:lnTo>
                    <a:pt x="0" y="2676"/>
                  </a:lnTo>
                  <a:lnTo>
                    <a:pt x="448" y="2676"/>
                  </a:lnTo>
                  <a:lnTo>
                    <a:pt x="448" y="2825"/>
                  </a:lnTo>
                  <a:lnTo>
                    <a:pt x="0" y="2825"/>
                  </a:lnTo>
                  <a:lnTo>
                    <a:pt x="0" y="2974"/>
                  </a:lnTo>
                  <a:lnTo>
                    <a:pt x="448" y="2974"/>
                  </a:lnTo>
                  <a:lnTo>
                    <a:pt x="448" y="3122"/>
                  </a:lnTo>
                  <a:lnTo>
                    <a:pt x="0" y="3122"/>
                  </a:lnTo>
                  <a:lnTo>
                    <a:pt x="0" y="3271"/>
                  </a:lnTo>
                  <a:lnTo>
                    <a:pt x="448" y="3271"/>
                  </a:lnTo>
                  <a:lnTo>
                    <a:pt x="448" y="3420"/>
                  </a:lnTo>
                  <a:lnTo>
                    <a:pt x="0" y="3420"/>
                  </a:lnTo>
                  <a:lnTo>
                    <a:pt x="0" y="3569"/>
                  </a:lnTo>
                  <a:lnTo>
                    <a:pt x="448" y="3569"/>
                  </a:lnTo>
                  <a:lnTo>
                    <a:pt x="448" y="3717"/>
                  </a:lnTo>
                  <a:lnTo>
                    <a:pt x="0" y="3717"/>
                  </a:lnTo>
                  <a:lnTo>
                    <a:pt x="0" y="3866"/>
                  </a:lnTo>
                  <a:lnTo>
                    <a:pt x="448" y="3866"/>
                  </a:lnTo>
                  <a:lnTo>
                    <a:pt x="448" y="4015"/>
                  </a:lnTo>
                  <a:lnTo>
                    <a:pt x="0" y="4015"/>
                  </a:lnTo>
                  <a:lnTo>
                    <a:pt x="0" y="4163"/>
                  </a:lnTo>
                  <a:lnTo>
                    <a:pt x="448" y="4163"/>
                  </a:lnTo>
                  <a:lnTo>
                    <a:pt x="448" y="4312"/>
                  </a:lnTo>
                  <a:lnTo>
                    <a:pt x="0" y="4312"/>
                  </a:lnTo>
                  <a:lnTo>
                    <a:pt x="0" y="4312"/>
                  </a:lnTo>
                  <a:lnTo>
                    <a:pt x="448" y="4312"/>
                  </a:lnTo>
                  <a:lnTo>
                    <a:pt x="448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9999"/>
              </a:solidFill>
              <a:round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72956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BCE1-EB6E-4E36-87D7-D4A19A9E715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712800" cy="6846840"/>
            <a:chOff x="0" y="0"/>
            <a:chExt cx="712800" cy="6846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711360" cy="68454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712800" cy="6846840"/>
            </a:xfrm>
            <a:custGeom>
              <a:avLst/>
              <a:gdLst/>
              <a:ahLst/>
              <a:rect l="l" t="t" r="r" b="b"/>
              <a:pathLst>
                <a:path w="449" h="4313">
                  <a:moveTo>
                    <a:pt x="0" y="0"/>
                  </a:moveTo>
                  <a:lnTo>
                    <a:pt x="0" y="4312"/>
                  </a:lnTo>
                  <a:lnTo>
                    <a:pt x="149" y="4312"/>
                  </a:lnTo>
                  <a:lnTo>
                    <a:pt x="149" y="0"/>
                  </a:lnTo>
                  <a:lnTo>
                    <a:pt x="299" y="0"/>
                  </a:lnTo>
                  <a:lnTo>
                    <a:pt x="299" y="4312"/>
                  </a:lnTo>
                  <a:lnTo>
                    <a:pt x="448" y="4312"/>
                  </a:lnTo>
                  <a:lnTo>
                    <a:pt x="448" y="0"/>
                  </a:lnTo>
                  <a:lnTo>
                    <a:pt x="448" y="149"/>
                  </a:lnTo>
                  <a:lnTo>
                    <a:pt x="0" y="149"/>
                  </a:lnTo>
                  <a:lnTo>
                    <a:pt x="0" y="297"/>
                  </a:lnTo>
                  <a:lnTo>
                    <a:pt x="448" y="297"/>
                  </a:lnTo>
                  <a:lnTo>
                    <a:pt x="448" y="446"/>
                  </a:lnTo>
                  <a:lnTo>
                    <a:pt x="0" y="446"/>
                  </a:lnTo>
                  <a:lnTo>
                    <a:pt x="0" y="595"/>
                  </a:lnTo>
                  <a:lnTo>
                    <a:pt x="448" y="595"/>
                  </a:lnTo>
                  <a:lnTo>
                    <a:pt x="448" y="743"/>
                  </a:lnTo>
                  <a:lnTo>
                    <a:pt x="0" y="743"/>
                  </a:lnTo>
                  <a:lnTo>
                    <a:pt x="0" y="892"/>
                  </a:lnTo>
                  <a:lnTo>
                    <a:pt x="448" y="892"/>
                  </a:lnTo>
                  <a:lnTo>
                    <a:pt x="448" y="1041"/>
                  </a:lnTo>
                  <a:lnTo>
                    <a:pt x="0" y="1041"/>
                  </a:lnTo>
                  <a:lnTo>
                    <a:pt x="0" y="1190"/>
                  </a:lnTo>
                  <a:lnTo>
                    <a:pt x="448" y="1190"/>
                  </a:lnTo>
                  <a:lnTo>
                    <a:pt x="448" y="1338"/>
                  </a:lnTo>
                  <a:lnTo>
                    <a:pt x="0" y="1338"/>
                  </a:lnTo>
                  <a:lnTo>
                    <a:pt x="0" y="1487"/>
                  </a:lnTo>
                  <a:lnTo>
                    <a:pt x="448" y="1487"/>
                  </a:lnTo>
                  <a:lnTo>
                    <a:pt x="448" y="1636"/>
                  </a:lnTo>
                  <a:lnTo>
                    <a:pt x="0" y="1636"/>
                  </a:lnTo>
                  <a:lnTo>
                    <a:pt x="0" y="1784"/>
                  </a:lnTo>
                  <a:lnTo>
                    <a:pt x="448" y="1784"/>
                  </a:lnTo>
                  <a:lnTo>
                    <a:pt x="448" y="1933"/>
                  </a:lnTo>
                  <a:lnTo>
                    <a:pt x="0" y="1933"/>
                  </a:lnTo>
                  <a:lnTo>
                    <a:pt x="0" y="2082"/>
                  </a:lnTo>
                  <a:lnTo>
                    <a:pt x="448" y="2082"/>
                  </a:lnTo>
                  <a:lnTo>
                    <a:pt x="448" y="2230"/>
                  </a:lnTo>
                  <a:lnTo>
                    <a:pt x="0" y="2230"/>
                  </a:lnTo>
                  <a:lnTo>
                    <a:pt x="0" y="2379"/>
                  </a:lnTo>
                  <a:lnTo>
                    <a:pt x="448" y="2379"/>
                  </a:lnTo>
                  <a:lnTo>
                    <a:pt x="448" y="2528"/>
                  </a:lnTo>
                  <a:lnTo>
                    <a:pt x="0" y="2528"/>
                  </a:lnTo>
                  <a:lnTo>
                    <a:pt x="0" y="2676"/>
                  </a:lnTo>
                  <a:lnTo>
                    <a:pt x="448" y="2676"/>
                  </a:lnTo>
                  <a:lnTo>
                    <a:pt x="448" y="2825"/>
                  </a:lnTo>
                  <a:lnTo>
                    <a:pt x="0" y="2825"/>
                  </a:lnTo>
                  <a:lnTo>
                    <a:pt x="0" y="2974"/>
                  </a:lnTo>
                  <a:lnTo>
                    <a:pt x="448" y="2974"/>
                  </a:lnTo>
                  <a:lnTo>
                    <a:pt x="448" y="3122"/>
                  </a:lnTo>
                  <a:lnTo>
                    <a:pt x="0" y="3122"/>
                  </a:lnTo>
                  <a:lnTo>
                    <a:pt x="0" y="3271"/>
                  </a:lnTo>
                  <a:lnTo>
                    <a:pt x="448" y="3271"/>
                  </a:lnTo>
                  <a:lnTo>
                    <a:pt x="448" y="3420"/>
                  </a:lnTo>
                  <a:lnTo>
                    <a:pt x="0" y="3420"/>
                  </a:lnTo>
                  <a:lnTo>
                    <a:pt x="0" y="3569"/>
                  </a:lnTo>
                  <a:lnTo>
                    <a:pt x="448" y="3569"/>
                  </a:lnTo>
                  <a:lnTo>
                    <a:pt x="448" y="3717"/>
                  </a:lnTo>
                  <a:lnTo>
                    <a:pt x="0" y="3717"/>
                  </a:lnTo>
                  <a:lnTo>
                    <a:pt x="0" y="3866"/>
                  </a:lnTo>
                  <a:lnTo>
                    <a:pt x="448" y="3866"/>
                  </a:lnTo>
                  <a:lnTo>
                    <a:pt x="448" y="4015"/>
                  </a:lnTo>
                  <a:lnTo>
                    <a:pt x="0" y="4015"/>
                  </a:lnTo>
                  <a:lnTo>
                    <a:pt x="0" y="4163"/>
                  </a:lnTo>
                  <a:lnTo>
                    <a:pt x="448" y="4163"/>
                  </a:lnTo>
                  <a:lnTo>
                    <a:pt x="448" y="4312"/>
                  </a:lnTo>
                  <a:lnTo>
                    <a:pt x="0" y="4312"/>
                  </a:lnTo>
                  <a:lnTo>
                    <a:pt x="0" y="4312"/>
                  </a:lnTo>
                  <a:lnTo>
                    <a:pt x="448" y="4312"/>
                  </a:lnTo>
                  <a:lnTo>
                    <a:pt x="448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9999"/>
              </a:solidFill>
              <a:round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D953-8A58-4A58-ABF9-4D58648382F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6765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3:28Z</dcterms:modified>
  <cp:revision>18</cp:revision>
  <dc:subject/>
  <dc:title>幻灯片 1</dc:title>
</cp:coreProperties>
</file>