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BD22-D7F6-454C-BBA2-C2493A4B2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8626-A531-4266-9F1B-05F5A10C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F600-D1A3-493F-95FE-21CBE7D8E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7957-0E0C-46EA-961B-29ADDC6B8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D26C-9CCE-4433-BEF5-CD5B11C55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5E1C-E8F2-4B69-A4BC-C7466A8B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5C56-095B-4E68-BC1A-83C18519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DE3E-C9BE-4E08-8E20-8DFE1F6A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A37F-E8C2-4C1F-BF18-26150D8F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7915-4D1A-429D-B2A4-F50825C6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3D64-5E4E-4B58-BFC4-E92AD5FD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79C6-ACA5-48F3-9E3F-23FD482F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D276-5CC3-482B-AA3A-CA674BE2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3288-2F2A-4B1B-BC8C-BB847D0A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B7BA-DE90-413C-B1B8-103A4C7E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880F-A242-458F-B159-FB6C46A20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BA4D-EC28-4314-81A6-15B67EF6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8287E-DD53-4CA9-B4AD-394A6AAC9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44AC1-263A-42C5-B3D5-1AA257C5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61663-F7E1-441F-85EB-58D4DAA3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FFD18-0E81-4C06-960B-780204EA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58A65-65EA-4889-9947-BFA61E30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4B59-0E7A-4645-8A3E-ECCF1900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DBF07-CA26-4E5B-AE22-05ACED1F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E6A43-DD46-44AD-9A96-34D00ED4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DBB85-81D9-4D98-A6C6-CDADCE4B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BE9A1-7662-4A23-9590-B12AF22B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DFAA9-F514-4C55-B03D-8B9ABC0E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DA120-616C-412E-8F27-115A0A03C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97A63-60CB-4677-B245-A06F24083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4FA93-2CD3-4DF0-90F5-960279B48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67252-FCBD-4D3B-835B-5A25788C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75AF0-F60F-4CD7-AAC3-833786A2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9ADB-C7CA-4729-AD96-A49801D2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BBFF8-5E0A-4608-9EFA-C45CFCC6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F8F1C-0B94-4BAD-A994-59AC6460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E3CC2-471E-4BEA-B5CE-902C618D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7B607-95CF-4E19-8644-7126DFBC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8A623-C928-47A5-84AA-B23EA591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1A212-02A0-4419-99A6-B914885D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89A32-D415-42F3-9EA6-F0BDB1E7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0CBF4-5F9B-45A8-83F5-85BD9605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BAF52-9534-4DB4-AE6C-7B0ADE0BB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8EF59-C33C-4A00-8589-CEE468B72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A63E-93E7-440E-B3E2-35F93937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9ABA0-0217-43EE-83CD-DD2B6CB8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7ABA9-0BB7-4D0F-973E-9E60156D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7F752-87B0-4870-87D2-FFB121DA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4BEDA-AD5A-4526-8873-20D783A8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25B51-2881-48E3-BE09-D61520AF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485C6-B55F-41EB-8515-A1097176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07A6F-3328-4C30-99AC-24B84067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C9197-AE87-4E6D-83C4-50DB54B1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1DBCD-BCF0-4F53-B6DC-9BC9FAC8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75AC7-9163-4F4F-87F3-4BA39F982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78C0-E3A5-4C59-8D02-7CA6AA5B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139CE-F55F-44E4-9B76-43D544CFE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AF54-7B67-4261-AE72-83F2C35D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2C94-A20B-4B2A-A403-FBB3A7D1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C58C-E886-45DA-BBD0-69AA963E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6680" y="63306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318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2C56-94AF-44C7-9C19-03E5D7C91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3A7B-9F93-4485-9428-59EF09219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7508-7A50-47CC-82FF-712A2B1E2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10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1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2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D13C-7F76-45A9-A9F3-A909F57A35F6}" type="slidenum">
              <a:rPr b="0" lang="en-US" sz="1400" spc="-1" strike="noStrike">
                <a:solidFill>
                  <a:srgbClr val="0033cc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3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14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5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E483-7E04-4CEA-B314-B60B08AB5B8C}" type="slidenum">
              <a:rPr b="0" lang="en-US" sz="1400" spc="-1" strike="noStrike">
                <a:solidFill>
                  <a:srgbClr val="0033cc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急性肾盂肾炎护理查房</a:t>
            </a:r>
            <a:br>
              <a:rPr sz="4400"/>
            </a:b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                      </a:t>
            </a:r>
            <a:br>
              <a:rPr sz="4400"/>
            </a:b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                        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374508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【护理措施】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105264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1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体温过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8440" y="2007720"/>
            <a:ext cx="8447400" cy="36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保持病房内空气新鲜，每日通风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次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卧床休息每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4h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测量体温一次，观察体温变化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鼓励病人多饮水，勤排尿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给予病人清淡易消化饮食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遵医嘱用药，并观察效果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5508720" y="3860640"/>
            <a:ext cx="3333600" cy="24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539640" y="1125000"/>
            <a:ext cx="8407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2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疼痛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）卧床休息，必要时采取屈膝仰卧位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）鼓励病人多饮水，勤排尿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）遵医嘱用药，观察效果及不良反应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）加强与病人的沟通，鼓励安慰病人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300720" y="4508640"/>
            <a:ext cx="244800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3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排尿障碍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1)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卧床休息，减少不必要的活动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2)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鼓励病人多饮水；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3)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加强病人个人卫生，排便后清洗会阴，并每日更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换内裤。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7308720" y="4508640"/>
            <a:ext cx="151128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0920" y="836280"/>
            <a:ext cx="8610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4 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焦虑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1)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主动与病人沟通，鼓励病人说出自己的感受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）与病人建立良好的护患关系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）耐心向病人解释病情，消除心理紧张和顾虑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）经常巡视病房，了解病人的需要，帮助病人解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问题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6877080" y="4365720"/>
            <a:ext cx="1835280" cy="20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78920" y="83664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知识缺乏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）通过交谈确认病人对疾病的顾虑，针对病人的顾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虑给予解释和指导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）提供病人所需的学习材料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）予疾病健康相关知识指导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）指导出院后定期门诊随访。尤其注意新婚期、产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褥期、月经期的个人卫生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435640" y="4292640"/>
            <a:ext cx="333360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456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【护理评价】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17733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1547640" y="4854600"/>
            <a:ext cx="6553440" cy="20034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45240" cy="36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1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病人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日内体温恢复正常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2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病人一周内疼痛减轻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3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病人一周内恢复正常的排尿型态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4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病人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日内焦虑程度减轻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5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病人一周内能了解疾病相关知识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076200" y="2127240"/>
            <a:ext cx="5164200" cy="29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  <a:ea typeface="黑体"/>
              </a:rPr>
              <a:t>谢谢大家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4360" y="743040"/>
            <a:ext cx="8285400" cy="108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病史介绍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3480" y="2409840"/>
            <a:ext cx="8002440" cy="28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36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床</a:t>
            </a:r>
            <a:r>
              <a:rPr b="0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季月英 女 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41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岁 住院号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2013004494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患者于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2013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22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日系“腰痛伴畏寒、发热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天”入院，体温最高达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38.5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。门诊拟“急性肾盂肾炎” 收住我科。给予完善相关检查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,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抗感染、碱化尿液，维持水电解质平衡、改善肾灌注等对症支持治疗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6781680" y="4648320"/>
            <a:ext cx="3049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68000" y="1052280"/>
            <a:ext cx="8351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专科检查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患者神志清楚，呼吸平稳，右肾区扣击痛（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+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），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HR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：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86/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分，律齐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T:38.4℃  P:86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次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分  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R:20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次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分 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BP:107/70mmHg</a:t>
            </a:r>
            <a:r>
              <a:rPr b="1" lang="en-US" sz="3200" spc="-1" strike="noStrike">
                <a:solidFill>
                  <a:srgbClr val="ccec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实验室检查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血常规：白细胞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23.66×10</a:t>
            </a:r>
            <a:r>
              <a:rPr b="1" lang="en-US" sz="3200" spc="-1" strike="noStrike" baseline="30000">
                <a:solidFill>
                  <a:srgbClr val="0033cc"/>
                </a:solidFill>
                <a:latin typeface="黑体"/>
                <a:ea typeface="黑体"/>
              </a:rPr>
              <a:t>9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/L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中性细胞比率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87.3%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尿常规示：白细胞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+1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隐血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+1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生化分析示：肌酐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55umol/L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尿素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2.31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mmol/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9" name="" descr="Style 531 美式插画矢量图: 医疗运动人物篇19 - 专职人士向量图19"/>
          <p:cNvPicPr/>
          <p:nvPr/>
        </p:nvPicPr>
        <p:blipFill>
          <a:blip r:embed="rId2"/>
          <a:stretch/>
        </p:blipFill>
        <p:spPr>
          <a:xfrm>
            <a:off x="7169040" y="3716280"/>
            <a:ext cx="18003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5640" cy="150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黑体"/>
              </a:rPr>
              <a:t>急性肾盂肾炎</a:t>
            </a:r>
            <a:br>
              <a:rPr sz="4400"/>
            </a:br>
            <a:r>
              <a:rPr b="0" lang="en-US" sz="3600" spc="-1" strike="noStrike">
                <a:solidFill>
                  <a:srgbClr val="0000ff"/>
                </a:solidFill>
                <a:latin typeface="黑体"/>
              </a:rPr>
              <a:t>----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</a:rPr>
              <a:t>定义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8320" y="2058840"/>
            <a:ext cx="8064360" cy="30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是肾盂、肾盏、肾小管及输尿管的感染，通常称为肾盂肾炎。多见于女性，好发于已婚、育龄妇女、老年人及女婴，妊娠期患病率最高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755280" y="765000"/>
            <a:ext cx="7924680" cy="50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临床表现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黑体"/>
              </a:rPr>
              <a:t>全身表现：起病多数急骤，常有畏寒、发     热，全身不适，头痛，乏力、食欲减退，有时恶心、呕吐。轻症者全身表现可很少，甚至缺如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泌尿系统表现： 有尿频、尿急、尿痛等尿路刺激征及下腹部不适、膀胱区压痛，腰痛或肾区不适。可有尿液浑浊、肉眼血尿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729720"/>
            <a:ext cx="854064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急性肾盂肾炎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黑体"/>
              </a:rPr>
              <a:t>----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治疗原则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9040" y="2684520"/>
            <a:ext cx="7996320" cy="30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休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黑体"/>
              </a:rPr>
              <a:t>1-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周，多喝水，使尿量每日在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黑体"/>
              </a:rPr>
              <a:t>2500ml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以上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抗菌药物治疗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碱化尿液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【护理诊断】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2200" y="2076120"/>
            <a:ext cx="816156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1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体温过高  与急性肾盂肾炎发作有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2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疼痛  与肾脏炎症有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3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排尿障碍  与炎症、理化因素刺激有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4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焦虑  与担心预后有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5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知识缺乏 与缺乏相关疾病知识有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7524720" y="4149720"/>
            <a:ext cx="136836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3780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【护理目标】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6040" y="2297160"/>
            <a:ext cx="8013960" cy="25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1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病人在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日内体温降至正常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2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病人在一周内疼痛减轻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3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病人在一周内能保持正常的排尿形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4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病人在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日内焦虑程度减轻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5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病人在一周内掌握疾病相关知识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 flipH="1">
            <a:off x="7601040" y="4481640"/>
            <a:ext cx="1542960" cy="237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12:46:32Z</dcterms:created>
  <dc:creator>未知用户</dc:creator>
  <dc:description/>
  <dc:language>en-US</dc:language>
  <cp:lastModifiedBy>Windows 用户</cp:lastModifiedBy>
  <dcterms:modified xsi:type="dcterms:W3CDTF">2014-01-19T14:36:19Z</dcterms:modified>
  <cp:revision>36</cp:revision>
  <dc:subject/>
  <dc:title>糖尿病酮症酸中毒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