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14.png" ContentType="image/png"/>
  <Override PartName="/ppt/media/image13.jpeg" ContentType="image/jpeg"/>
  <Override PartName="/ppt/media/image1.jpeg" ContentType="image/jpeg"/>
  <Override PartName="/ppt/media/image8.jpeg" ContentType="image/jpeg"/>
  <Override PartName="/ppt/media/whoosh.wav" ContentType="audio/x-wav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E77-57DB-4174-B796-A00D6C67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369-2A7A-4D5A-A2EE-0310EAE8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FCF-09E6-43FA-BE1E-732B6CD3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CE3-FA4D-42E4-8744-DB184706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49B0-1AEA-451B-895C-4E0267D4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62AF-52DF-41BE-9CAD-C2B5E67F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B9B3-994F-4D67-8DD0-F8982685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6BBC-EACD-4415-997A-4C88D47C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76DE-2C2C-4A6E-A217-9E101B43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160D-8355-499A-88DE-42B65B39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CA03-A1AA-4BB2-8EA7-F0C04365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3E6-3576-47DA-8600-61AF8E86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B5E6-12EC-415C-A841-0C597C27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6BEE-71A5-4C4D-9CD5-E86D4372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2E27-D7D8-4F7F-932E-F6BDE428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91BC-56AB-45E8-96DB-382C987F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9946-E0DA-4958-9890-F1030380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8FA-D94A-473A-B457-73BE4618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46EE-F70F-4FB9-8DEC-5AD9D748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7EBD-9759-4DED-99D7-9829A47E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B10-7D91-4B32-B1BF-3AF14432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72D-7F43-4DDB-9D04-EFD0AEA8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716B-E6B2-4152-80DB-F9926885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7E5-9430-4E59-A8A9-46D09636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C440-0A45-45F5-BFB8-BCD750929B9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33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E0A1-48DA-4580-BB34-3C4A6BC8A2FA}" type="slidenum">
              <a:rPr b="0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CA87AVES"/>
          <p:cNvPicPr/>
          <p:nvPr/>
        </p:nvPicPr>
        <p:blipFill>
          <a:blip r:embed="rId1"/>
          <a:stretch/>
        </p:blipFill>
        <p:spPr>
          <a:xfrm>
            <a:off x="0" y="11160"/>
            <a:ext cx="9217080" cy="6805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1280" y="1341360"/>
            <a:ext cx="80629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zh-CN" sz="4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慢性肾衰竭病人的护理查房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502160" y="4005360"/>
            <a:ext cx="464184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肾内科</a:t>
            </a: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 </a:t>
            </a: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  </a:t>
            </a: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31640" y="1904760"/>
            <a:ext cx="8102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血液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隶书"/>
                <a:ea typeface="隶书"/>
              </a:rPr>
              <a:t>　　　　　　　　　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减少、铁摄入不足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80808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贫血（必有症状）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血、毒素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　　　　　　       成、叶酸蛋白质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：血小板减少和聚集能力下降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白细胞异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趋化、吞噬和杀菌能力减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140360" y="2744640"/>
            <a:ext cx="75960" cy="1447920"/>
          </a:xfrm>
          <a:custGeom>
            <a:avLst/>
            <a:gdLst>
              <a:gd name="textAreaLeft" fmla="*/ 48600 w 75960"/>
              <a:gd name="textAreaRight" fmla="*/ 76320 w 759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圆角矩形 9"/>
          <p:cNvSpPr/>
          <p:nvPr/>
        </p:nvSpPr>
        <p:spPr>
          <a:xfrm>
            <a:off x="1800360" y="584280"/>
            <a:ext cx="3995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 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临床表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心血管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黑体"/>
              </a:rPr>
              <a:t>　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高血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ffc92"/>
                </a:solidFill>
                <a:latin typeface="Arial"/>
                <a:ea typeface="隶书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钠水潴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容量依赖性）；肾素活性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加（肾素依赖性）；肾分泌降压物质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少；外周阻力增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可致左心扩大、心力衰竭、动脉硬化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加重肾损害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9"/>
          <p:cNvSpPr/>
          <p:nvPr/>
        </p:nvSpPr>
        <p:spPr>
          <a:xfrm>
            <a:off x="1800360" y="584280"/>
            <a:ext cx="3995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 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临床表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心血管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8080"/>
                </a:solidFill>
                <a:latin typeface="Arial"/>
                <a:ea typeface="黑体"/>
              </a:rPr>
              <a:t>　</a:t>
            </a:r>
            <a:r>
              <a:rPr b="1" lang="zh-CN" sz="3000" spc="-1" strike="noStrike">
                <a:solidFill>
                  <a:srgbClr val="009900"/>
                </a:solidFill>
                <a:latin typeface="Arial"/>
                <a:ea typeface="黑体"/>
              </a:rPr>
              <a:t>心力衰竭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　钠水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潴留和高血压致心脏负荷增加；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　血、酸中毒、缺氧致心肌损害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523880" y="4952880"/>
            <a:ext cx="6477120" cy="73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黑体"/>
              </a:rPr>
              <a:t>CRF</a:t>
            </a:r>
            <a:r>
              <a:rPr b="1" lang="zh-CN" sz="3000" spc="-1" strike="noStrike">
                <a:solidFill>
                  <a:srgbClr val="ffff00"/>
                </a:solidFill>
                <a:latin typeface="黑体"/>
                <a:ea typeface="黑体"/>
              </a:rPr>
              <a:t>常见死亡原因之一。</a:t>
            </a:r>
            <a:endParaRPr b="1" lang="en-US" sz="3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圆角矩形 9"/>
          <p:cNvSpPr/>
          <p:nvPr/>
        </p:nvSpPr>
        <p:spPr>
          <a:xfrm>
            <a:off x="1800360" y="584280"/>
            <a:ext cx="3995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 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临床表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心血管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Arial"/>
                <a:ea typeface="黑体"/>
              </a:rPr>
              <a:t>　尿毒症性心包炎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ffc92"/>
                </a:solidFill>
                <a:latin typeface="Arial"/>
              </a:rPr>
              <a:t>　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尿毒症毒素潴留、血小板功能减退、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　菌和病毒感染等因素所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　干性心包炎、心包积液、心包填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523880" y="5033880"/>
            <a:ext cx="6629400" cy="73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Times New Roman"/>
                <a:ea typeface="黑体"/>
              </a:rPr>
              <a:t>心包积液多为血性，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黑体"/>
              </a:rPr>
              <a:t>Cap</a:t>
            </a:r>
            <a:r>
              <a:rPr b="1" lang="zh-CN" sz="3000" spc="-1" strike="noStrike">
                <a:solidFill>
                  <a:srgbClr val="ffff00"/>
                </a:solidFill>
                <a:latin typeface="Times New Roman"/>
                <a:ea typeface="黑体"/>
              </a:rPr>
              <a:t>破裂所致。</a:t>
            </a:r>
            <a:endParaRPr b="1" lang="en-US" sz="3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圆角矩形 9"/>
          <p:cNvSpPr/>
          <p:nvPr/>
        </p:nvSpPr>
        <p:spPr>
          <a:xfrm>
            <a:off x="1800360" y="584280"/>
            <a:ext cx="3995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 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临床表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心血管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宋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  <a:ea typeface="黑体"/>
              </a:rPr>
              <a:t>动脉粥样硬化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ffc92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脂血症和高血压所致，尤多见于原发病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糖尿病和高血压的患者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523880" y="4952880"/>
            <a:ext cx="6477120" cy="73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CRF</a:t>
            </a:r>
            <a:r>
              <a:rPr b="1" lang="zh-CN" sz="3000" spc="-1" strike="noStrike">
                <a:solidFill>
                  <a:srgbClr val="ffff00"/>
                </a:solidFill>
                <a:latin typeface="Times New Roman"/>
                <a:ea typeface="黑体"/>
              </a:rPr>
              <a:t>主要</a:t>
            </a:r>
            <a:r>
              <a:rPr b="1" lang="zh-CN" sz="3000" spc="-1" strike="noStrike">
                <a:solidFill>
                  <a:srgbClr val="ffff00"/>
                </a:solidFill>
                <a:latin typeface="隶书"/>
                <a:ea typeface="黑体"/>
              </a:rPr>
              <a:t>死亡原因之一。</a:t>
            </a:r>
            <a:endParaRPr b="1" lang="en-US" sz="3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圆角矩形 9"/>
          <p:cNvSpPr/>
          <p:nvPr/>
        </p:nvSpPr>
        <p:spPr>
          <a:xfrm>
            <a:off x="1800360" y="584280"/>
            <a:ext cx="3995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 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临床表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神经肌肉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早、中、晚期表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447920" y="4572000"/>
            <a:ext cx="7162560" cy="16257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黑体"/>
              </a:rPr>
              <a:t>尿毒症不安腿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黑体"/>
              </a:rPr>
              <a:t>周围神经异常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黑体"/>
              </a:rPr>
              <a:t>）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下肢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灼热感、蚁走感、活动后减轻致不断活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动下肢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1447920" y="3276720"/>
            <a:ext cx="7162560" cy="1041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隶书"/>
                <a:ea typeface="黑体"/>
              </a:rPr>
              <a:t>尿毒症脑病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黑体"/>
              </a:rPr>
              <a:t>中枢神经系统异常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  <a:ea typeface="黑体"/>
              </a:rPr>
              <a:t>）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  <a:ea typeface="宋体"/>
              </a:rPr>
              <a:t>淡漠、注意力不集中、焦虑幻觉、癫痫发作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圆角矩形 9"/>
          <p:cNvSpPr/>
          <p:nvPr/>
        </p:nvSpPr>
        <p:spPr>
          <a:xfrm>
            <a:off x="1800360" y="584280"/>
            <a:ext cx="3995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 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临床表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  <a:ea typeface="黑体"/>
              </a:rPr>
              <a:t>呼吸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酸中毒大呼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尿毒症性支气管炎、肺炎、胸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3880" y="3809880"/>
            <a:ext cx="6705720" cy="2277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900"/>
                </a:solidFill>
                <a:latin typeface="Times New Roman"/>
                <a:ea typeface="黑体"/>
              </a:rPr>
              <a:t>尿毒症肺：</a:t>
            </a:r>
            <a:endParaRPr b="1" lang="en-US" sz="26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胸片见肺门两侧对称性蝴蝶状阴影。</a:t>
            </a:r>
            <a:endParaRPr b="1" lang="en-US" sz="26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肺水肿、低蛋白血症、间质性肺炎、心力</a:t>
            </a:r>
            <a:endParaRPr b="1" lang="en-US" sz="26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衰竭等有关。</a:t>
            </a:r>
            <a:endParaRPr b="1" lang="en-US" sz="2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圆角矩形 9"/>
          <p:cNvSpPr/>
          <p:nvPr/>
        </p:nvSpPr>
        <p:spPr>
          <a:xfrm>
            <a:off x="1800360" y="584280"/>
            <a:ext cx="3995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 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临床表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隶书"/>
                <a:ea typeface="黑体"/>
              </a:rPr>
              <a:t>皮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宋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  <a:ea typeface="黑体"/>
              </a:rPr>
              <a:t>顽固性皮肤瘙痒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与尿毒症毒素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盐沉积于皮肤及神经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梢炎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9900"/>
                </a:solidFill>
                <a:latin typeface="隶书"/>
                <a:ea typeface="黑体"/>
              </a:rPr>
              <a:t>尿素霜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尿素在皮肤表面沉积形成结晶所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圆角矩形 9"/>
          <p:cNvSpPr/>
          <p:nvPr/>
        </p:nvSpPr>
        <p:spPr>
          <a:xfrm>
            <a:off x="1800360" y="584280"/>
            <a:ext cx="3995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 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临床表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P7070063"/>
          <p:cNvPicPr/>
          <p:nvPr/>
        </p:nvPicPr>
        <p:blipFill>
          <a:blip r:embed="rId1"/>
          <a:stretch/>
        </p:blipFill>
        <p:spPr>
          <a:xfrm>
            <a:off x="152280" y="1143000"/>
            <a:ext cx="4572000" cy="5410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P7070061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724280" y="1143000"/>
            <a:ext cx="4419720" cy="54100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80920" y="152280"/>
            <a:ext cx="31244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肾病面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637080" y="1377720"/>
            <a:ext cx="547200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肾性骨营养不良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纤维性骨炎、尿毒症骨软化症、骨质疏松症和骨硬化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足、继发性甲状旁腺功能亢进所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2916360" y="4510080"/>
            <a:ext cx="6097320" cy="7124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少有症状，骨活检可作出早期诊断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2" name="Picture 39" descr="3272-0550x0350自发骨折"/>
          <p:cNvPicPr/>
          <p:nvPr/>
        </p:nvPicPr>
        <p:blipFill>
          <a:blip r:embed="rId1"/>
          <a:stretch/>
        </p:blipFill>
        <p:spPr>
          <a:xfrm>
            <a:off x="108000" y="1593720"/>
            <a:ext cx="3025800" cy="4510080"/>
          </a:xfrm>
          <a:prstGeom prst="rect">
            <a:avLst/>
          </a:prstGeom>
          <a:ln w="0">
            <a:noFill/>
          </a:ln>
        </p:spPr>
      </p:pic>
      <p:sp>
        <p:nvSpPr>
          <p:cNvPr id="153" name="圆角矩形 9"/>
          <p:cNvSpPr/>
          <p:nvPr/>
        </p:nvSpPr>
        <p:spPr>
          <a:xfrm>
            <a:off x="1800360" y="584280"/>
            <a:ext cx="3995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 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临床表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04360" y="1905120"/>
            <a:ext cx="84106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慢性肾衰竭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隶书"/>
              </a:rPr>
              <a:t>chronic renal failure CRF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隶书"/>
              </a:rPr>
              <a:t>简称肾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是在各种慢性肾脏病的基础上，缓慢地出现肾功能减退而至衰竭，导致以代谢产物潴留、水、电解质和酸碱平衡紊乱为特征的临床综合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447920" y="5181480"/>
            <a:ext cx="6781680" cy="6271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为各种原发和继发性肾脏疾病持续进展的共同转归，终末期称为尿毒症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圆角矩形 6"/>
          <p:cNvSpPr/>
          <p:nvPr/>
        </p:nvSpPr>
        <p:spPr>
          <a:xfrm>
            <a:off x="2232000" y="441360"/>
            <a:ext cx="4356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50000">
                <a:srgbClr val="ff9900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  <a:ea typeface="黑体"/>
              </a:rPr>
              <a:t>定    义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680" y="19047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5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水电解质和酸碱平衡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水与水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症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＋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＋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症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磷、高镁、高铝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058120" y="562608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低钙高磷血症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：为尿毒症的特征性电解质紊乱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圆角矩形 9"/>
          <p:cNvSpPr/>
          <p:nvPr/>
        </p:nvSpPr>
        <p:spPr>
          <a:xfrm>
            <a:off x="1800360" y="584280"/>
            <a:ext cx="3995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 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临床表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43000" y="1905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ffc92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肺部和尿路感染常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液免疫和细胞免疫功能紊乱、白细胞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能障碍所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600200" y="5029200"/>
            <a:ext cx="6477120" cy="733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CRF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的主要死亡原因之一。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圆角矩形 9"/>
          <p:cNvSpPr/>
          <p:nvPr/>
        </p:nvSpPr>
        <p:spPr>
          <a:xfrm>
            <a:off x="1800360" y="584280"/>
            <a:ext cx="3995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 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临床表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3000" y="1904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5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其他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体温过低：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升高呈负相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尿毒症性假糖尿病：外周组织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质应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受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高尿酸血症：肾脏清除率下降所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质代谢异常：尿毒症毒素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谢异常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9"/>
          <p:cNvSpPr/>
          <p:nvPr/>
        </p:nvSpPr>
        <p:spPr>
          <a:xfrm>
            <a:off x="1800360" y="584280"/>
            <a:ext cx="3995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 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临床表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黑体"/>
              </a:rPr>
              <a:t>实验室及其他检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219320" y="3962520"/>
            <a:ext cx="7315200" cy="207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尿液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少尿＜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1000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ml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d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或无尿（晚期）；尿比重低；不同程度蛋白尿；尿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RBC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WBC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阳性；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　颗粒和蜡样管型（有助于诊断）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219320" y="2057400"/>
            <a:ext cx="7315200" cy="1689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  <a:ea typeface="黑体"/>
              </a:rPr>
              <a:t>血液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  <a:ea typeface="宋体"/>
              </a:rPr>
              <a:t>＜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80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，红细胞减少；血小板功能　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　障碍；血沉加快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黑体"/>
              </a:rPr>
              <a:t>实验室及其他检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143000" y="2286000"/>
            <a:ext cx="7467480" cy="1945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肾功能</a:t>
            </a:r>
            <a:r>
              <a:rPr b="1" lang="zh-CN" sz="2800" spc="-1" strike="noStrike">
                <a:solidFill>
                  <a:srgbClr val="808080"/>
                </a:solidFill>
                <a:latin typeface="隶书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c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降低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升高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＋＋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mmo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血磷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o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7" name="Picture 4" descr="04_1"/>
          <p:cNvPicPr/>
          <p:nvPr/>
        </p:nvPicPr>
        <p:blipFill>
          <a:blip r:embed="rId1"/>
          <a:stretch/>
        </p:blipFill>
        <p:spPr>
          <a:xfrm>
            <a:off x="936720" y="4437000"/>
            <a:ext cx="2673360" cy="20052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5029200" y="4724280"/>
            <a:ext cx="3505320" cy="12542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黑体"/>
              </a:rPr>
              <a:t>超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双肾缩小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544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原则：根治病因、消除诱因、调整饮食、纠正水电酸碱失衡，解除或减轻尿毒症症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治疗原发病和纠正使肾衰竭恶化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、延缓慢性肾衰的发展：在慢性肾衰的早期进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椭圆 6" descr=""/>
          <p:cNvPicPr/>
          <p:nvPr/>
        </p:nvPicPr>
        <p:blipFill>
          <a:blip r:embed="rId1"/>
          <a:stretch/>
        </p:blipFill>
        <p:spPr>
          <a:xfrm>
            <a:off x="2556000" y="368280"/>
            <a:ext cx="4273560" cy="1211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饮食治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个体化原则，避免营养不良的发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限制蛋白饮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根据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适当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FR  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kg.d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4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&lt;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质量：以动物蛋白为主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须加用必需氨基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长期维持较好营养。（注意速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1727280" y="5408640"/>
            <a:ext cx="645804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隶书"/>
              </a:rPr>
              <a:t>　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隶书"/>
                <a:ea typeface="黑体"/>
              </a:rPr>
              <a:t>低蛋白饮食可减轻症状和延缓肾功能恶化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3" name="椭圆 6" descr=""/>
          <p:cNvPicPr/>
          <p:nvPr/>
        </p:nvPicPr>
        <p:blipFill>
          <a:blip r:embed="rId1"/>
          <a:stretch/>
        </p:blipFill>
        <p:spPr>
          <a:xfrm>
            <a:off x="2556000" y="368280"/>
            <a:ext cx="4273560" cy="1211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66600" y="1665360"/>
            <a:ext cx="9067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热量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kcal/kg.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消瘦或肥胖者宜酌情加减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饥饿可食甜薯、芋头、藕粉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补充维生素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和叶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其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钠：除有水肿、高血压和少尿者要低盐外，一般不宜严格限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钾：只要尿量＞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ml/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一般无需限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低磷饮食，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mg/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水：有尿少、水肿、心衰者应严格限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＞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L/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无水肿则不限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椭圆 6" descr=""/>
          <p:cNvPicPr/>
          <p:nvPr/>
        </p:nvPicPr>
        <p:blipFill>
          <a:blip r:embed="rId1"/>
          <a:stretch/>
        </p:blipFill>
        <p:spPr>
          <a:xfrm>
            <a:off x="2556000" y="368280"/>
            <a:ext cx="4273560" cy="1211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42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控制全身性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肾小球内高压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E-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其他：积极治疗高脂血症、高尿酸血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椭圆 6" descr=""/>
          <p:cNvPicPr/>
          <p:nvPr/>
        </p:nvPicPr>
        <p:blipFill>
          <a:blip r:embed="rId1"/>
          <a:stretch/>
        </p:blipFill>
        <p:spPr>
          <a:xfrm>
            <a:off x="2556000" y="368280"/>
            <a:ext cx="4273560" cy="1211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7640" y="1904760"/>
            <a:ext cx="8807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并发症治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  <a:ea typeface="黑体"/>
              </a:rPr>
              <a:t>　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水电解质和酸碱平衡失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80808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  <a:ea typeface="黑体"/>
              </a:rPr>
              <a:t>维持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钙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  <a:ea typeface="黑体"/>
              </a:rPr>
              <a:t>磷平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口服活性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钙或葡萄糖酸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维持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  <a:ea typeface="黑体"/>
              </a:rPr>
              <a:t>水钠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平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水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限盐、限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脱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补液（前一日尿量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椭圆 6" descr=""/>
          <p:cNvPicPr/>
          <p:nvPr/>
        </p:nvPicPr>
        <p:blipFill>
          <a:blip r:embed="rId1"/>
          <a:stretch/>
        </p:blipFill>
        <p:spPr>
          <a:xfrm>
            <a:off x="2556000" y="368280"/>
            <a:ext cx="4273560" cy="1211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143000" y="19047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慢性肾衰竭分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肾功能不全代偿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隶书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肾储备功能减退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c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80m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178umo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9mmo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无症状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600200" y="5257800"/>
            <a:ext cx="6256440" cy="6912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肾功能已下降但临床无肾衰竭的症状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椭圆 6"/>
          <p:cNvSpPr/>
          <p:nvPr/>
        </p:nvSpPr>
        <p:spPr>
          <a:xfrm>
            <a:off x="2592360" y="441360"/>
            <a:ext cx="3095640" cy="107964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50000">
                <a:srgbClr val="ff9900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分  期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9" name="Picture 4" descr="proxy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-30600" y="1904760"/>
            <a:ext cx="8945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对症治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  <a:ea typeface="黑体"/>
              </a:rPr>
              <a:t>　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水电解质和酸碱平衡失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隶书"/>
              </a:rPr>
              <a:t>　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隶书"/>
              </a:rPr>
              <a:t>3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维持钾平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低钾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盐或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高钾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限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盐摄入、葡萄糖酸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HC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m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静推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静点、透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纠正代谢性酸中毒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服或静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HC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椭圆 6" descr=""/>
          <p:cNvPicPr/>
          <p:nvPr/>
        </p:nvPicPr>
        <p:blipFill>
          <a:blip r:embed="rId1"/>
          <a:stretch/>
        </p:blipFill>
        <p:spPr>
          <a:xfrm>
            <a:off x="2556000" y="368280"/>
            <a:ext cx="4273560" cy="1211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3640" y="1904760"/>
            <a:ext cx="8210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　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黑体"/>
              </a:rPr>
              <a:t>心血管系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高脂血症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　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脂饮食，药物治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2.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高血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ffc92"/>
                </a:solidFill>
                <a:latin typeface="Times New Roman"/>
                <a:ea typeface="黑体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ffc92"/>
                </a:solidFill>
                <a:latin typeface="Times New Roman"/>
              </a:rPr>
              <a:t>　　　　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限盐限水、利尿剂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E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C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受体阻滞剂、透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2340000" y="3178080"/>
            <a:ext cx="976320" cy="181080"/>
          </a:xfrm>
          <a:prstGeom prst="rightArrow">
            <a:avLst>
              <a:gd name="adj1" fmla="val 50000"/>
              <a:gd name="adj2" fmla="val 134791"/>
            </a:avLst>
          </a:prstGeom>
          <a:solidFill>
            <a:srgbClr val="ff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4392720" y="396864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ff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85" name="椭圆 6" descr=""/>
          <p:cNvPicPr/>
          <p:nvPr/>
        </p:nvPicPr>
        <p:blipFill>
          <a:blip r:embed="rId1"/>
          <a:stretch/>
        </p:blipFill>
        <p:spPr>
          <a:xfrm>
            <a:off x="2556000" y="368280"/>
            <a:ext cx="4273560" cy="1211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43000" y="190476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　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黑体"/>
              </a:rPr>
              <a:t>心血管系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800600" y="4724280"/>
            <a:ext cx="2971800" cy="1752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透析　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包穿刺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切开引流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4267080" y="2666880"/>
            <a:ext cx="3733920" cy="16765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限盐限水　利尿剂、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扩张剂　洋地黄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透　　析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3200400" y="342900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4038480" y="5486400"/>
            <a:ext cx="762120" cy="228600"/>
          </a:xfrm>
          <a:prstGeom prst="rightArrow">
            <a:avLst>
              <a:gd name="adj1" fmla="val 38889"/>
              <a:gd name="adj2" fmla="val 83346"/>
            </a:avLst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1447920" y="5334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4.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尿毒症性心包炎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1600200" y="3276720"/>
            <a:ext cx="16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3.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心力衰竭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93" name="椭圆 6" descr=""/>
          <p:cNvPicPr/>
          <p:nvPr/>
        </p:nvPicPr>
        <p:blipFill>
          <a:blip r:embed="rId1"/>
          <a:stretch/>
        </p:blipFill>
        <p:spPr>
          <a:xfrm>
            <a:off x="2556000" y="368280"/>
            <a:ext cx="4273560" cy="1211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14300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黑体"/>
              </a:rPr>
              <a:t>　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血液系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贫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组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类促红细胞生成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隶书"/>
                <a:ea typeface="黑体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隶书"/>
                <a:ea typeface="黑体"/>
              </a:rPr>
              <a:t>　</a:t>
            </a:r>
            <a:r>
              <a:rPr b="1" lang="zh-CN" sz="2800" spc="-1" strike="noStrike">
                <a:solidFill>
                  <a:srgbClr val="009900"/>
                </a:solidFill>
                <a:latin typeface="隶书"/>
                <a:ea typeface="黑体"/>
              </a:rPr>
              <a:t>肾性骨病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次全切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808080"/>
                </a:solidFill>
                <a:latin typeface="Arial"/>
                <a:ea typeface="黑体"/>
              </a:rPr>
              <a:t>　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消化系统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吗丁啉、西沙比利、西咪替丁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椭圆 6" descr=""/>
          <p:cNvPicPr/>
          <p:nvPr/>
        </p:nvPicPr>
        <p:blipFill>
          <a:blip r:embed="rId1"/>
          <a:stretch/>
        </p:blipFill>
        <p:spPr>
          <a:xfrm>
            <a:off x="2556000" y="368280"/>
            <a:ext cx="4273560" cy="1211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066680" y="19047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应用敏感且肾毒性小的抗生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透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血液或腹膜透析（排出代谢产物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肾移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严格配型并于移植后长期服用免疫抑制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椭圆 6" descr=""/>
          <p:cNvPicPr/>
          <p:nvPr/>
        </p:nvPicPr>
        <p:blipFill>
          <a:blip r:embed="rId1"/>
          <a:stretch/>
        </p:blipFill>
        <p:spPr>
          <a:xfrm>
            <a:off x="2556000" y="368280"/>
            <a:ext cx="4273560" cy="1211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时间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地点：内五科学习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参加人员：内五科全体人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查房者：李应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主查人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6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床刘惠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椭圆 4" descr=""/>
          <p:cNvPicPr/>
          <p:nvPr/>
        </p:nvPicPr>
        <p:blipFill>
          <a:blip r:embed="rId1"/>
          <a:stretch/>
        </p:blipFill>
        <p:spPr>
          <a:xfrm>
            <a:off x="2182680" y="573120"/>
            <a:ext cx="4992840" cy="957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1-131214101645"/>
          <p:cNvPicPr/>
          <p:nvPr/>
        </p:nvPicPr>
        <p:blipFill>
          <a:blip r:embed="rId2"/>
          <a:stretch/>
        </p:blipFill>
        <p:spPr>
          <a:xfrm>
            <a:off x="5638680" y="4648320"/>
            <a:ext cx="333396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刘惠珍，女 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岁，因“患者反复头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余年，夜尿频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咳嗽气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天”入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横卷形 7"/>
          <p:cNvSpPr/>
          <p:nvPr/>
        </p:nvSpPr>
        <p:spPr>
          <a:xfrm>
            <a:off x="1979640" y="404640"/>
            <a:ext cx="6084720" cy="115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病  例 介 绍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03" name="Picture 4" descr="shenshuaijie4(2)"/>
          <p:cNvPicPr/>
          <p:nvPr/>
        </p:nvPicPr>
        <p:blipFill>
          <a:blip r:embed="rId1"/>
          <a:stretch/>
        </p:blipFill>
        <p:spPr>
          <a:xfrm>
            <a:off x="5029200" y="4419720"/>
            <a:ext cx="388620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368360" y="1665360"/>
            <a:ext cx="741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患者家属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余年来无明显诱因出现头晕、乏力，无明显畏寒、发热，无恶心、呕吐，无四肢麻木，无眩晕、视物模糊等不适症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曾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住入我科，诊断为“高血压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级（极高危组）、缺血性肾病、慢性肾功能不全、肾性贫血，脑动脉硬化，冠心病，”，予以扩血管、改善循环、控制血压肠道排毒等对症支持治疗，病情好转出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天前患者因受凉后出现乏力，饮食差，咳嗽，呈阵发性连声咳，以夜间咳嗽明显，痰少难咯，气促喘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活动时明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天前出现意识模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有右侧肢体乏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呕吐，无畏寒发热，无头晕乏力，门诊以高血压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级（极高危组）、缺血性肾病、慢性肾功能不全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KD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期）、肾性贫血”收入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U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天前转入我科，查：神志模糊状态，呼之能睁眼，懒言少动，间有咳嗽咳痰少，无发热，胃管内注入流质后无返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流程图: 可选过程 5"/>
          <p:cNvSpPr/>
          <p:nvPr/>
        </p:nvSpPr>
        <p:spPr>
          <a:xfrm>
            <a:off x="1908000" y="549360"/>
            <a:ext cx="3672000" cy="792000"/>
          </a:xfrm>
          <a:prstGeom prst="flowChartAlternateProcess">
            <a:avLst/>
          </a:prstGeom>
          <a:gradFill rotWithShape="0">
            <a:gsLst>
              <a:gs pos="0">
                <a:srgbClr val="ffcccc"/>
              </a:gs>
              <a:gs pos="50000">
                <a:srgbClr val="ff9900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现  病  史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既往有“慢性支气管炎、肺气肿”“脑动脉供血不足”，“高脂血症”，“双肾多发囊肿”“双眼白内障”“左膝关节骨性关节炎”等病史，否认“糖尿病”史，否认“肝炎”，“结核”病史，否认输血史、手术史及严重创伤史，有“红霉素”、“青霉素”、“链霉素”、“氯霉素”、“庆大霉素”过敏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流程图: 可选过程 3"/>
          <p:cNvSpPr/>
          <p:nvPr/>
        </p:nvSpPr>
        <p:spPr>
          <a:xfrm>
            <a:off x="1908000" y="549360"/>
            <a:ext cx="3203640" cy="792000"/>
          </a:xfrm>
          <a:prstGeom prst="flowChartAlternateProcess">
            <a:avLst/>
          </a:prstGeom>
          <a:gradFill rotWithShape="0">
            <a:gsLst>
              <a:gs pos="0">
                <a:srgbClr val="ffcccc"/>
              </a:gs>
              <a:gs pos="50000">
                <a:srgbClr val="ff9900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既 往 史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查体：体温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.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呼吸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脉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7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血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150/90mmh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右侧瞳孔对光反射灵敏，直径约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5m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左侧无法观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流程图: 可选过程 4"/>
          <p:cNvSpPr/>
          <p:nvPr/>
        </p:nvSpPr>
        <p:spPr>
          <a:xfrm>
            <a:off x="2052720" y="512640"/>
            <a:ext cx="3203640" cy="863640"/>
          </a:xfrm>
          <a:prstGeom prst="flowChartAlternateProcess">
            <a:avLst/>
          </a:prstGeom>
          <a:gradFill rotWithShape="0">
            <a:gsLst>
              <a:gs pos="0">
                <a:srgbClr val="ffcccc"/>
              </a:gs>
              <a:gs pos="50000">
                <a:srgbClr val="ff9900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体  查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3000" y="1904760"/>
            <a:ext cx="78487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慢性肾衰竭分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肾功能不全失代偿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又称氮质血症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c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-5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178umo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9mmo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出现临床症状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365000" y="5261040"/>
            <a:ext cx="883440" cy="6912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肾功能进一步下降，出现消化道症状和贫血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椭圆 7"/>
          <p:cNvSpPr/>
          <p:nvPr/>
        </p:nvSpPr>
        <p:spPr>
          <a:xfrm>
            <a:off x="2592360" y="441360"/>
            <a:ext cx="3095640" cy="107964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50000">
                <a:srgbClr val="ff9900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分  期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368360" y="1700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头胸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示双侧脑室旁见斑片状密度减低，边缘模糊。脑室系统对称性稍扩大，脑沟脑裂增宽；左侧额颞部少量硬膜下积液。中线结构居中。 双肺纹理纹理增多，见散在条索状致密影，余肺未见异常实变影。纵隔无偏移，心影增大，纵隔内未见肿块及肿大淋巴结。未见胸腔积液征象。影像学诊断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考虑脑萎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脑白质病变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考虑左侧额颞部硬膜下积液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考虑支气管疾患，双肺内少量纤维化病灶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心影增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流程图: 终止 3"/>
          <p:cNvSpPr/>
          <p:nvPr/>
        </p:nvSpPr>
        <p:spPr>
          <a:xfrm>
            <a:off x="1655640" y="476280"/>
            <a:ext cx="4319640" cy="1008000"/>
          </a:xfrm>
          <a:prstGeom prst="flowChartTerminator">
            <a:avLst/>
          </a:prstGeom>
          <a:gradFill rotWithShape="0">
            <a:gsLst>
              <a:gs pos="0">
                <a:srgbClr val="ffcccc"/>
              </a:gs>
              <a:gs pos="50000">
                <a:srgbClr val="ff9900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</a:rPr>
              <a:t>辅 助 检 查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523520" y="1905120"/>
            <a:ext cx="740412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体温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.2℃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脉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分、呼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分、血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2/92mmHg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。神志模糊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体查不合作，双下肢轻度水肿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血气分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2014-6-23 10:19:03]: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酸碱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7.11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二氧化碳分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10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氧分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155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碱剩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cf):-26.3mmol/L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碱剩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:-23.9mmol/L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氧饱和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99%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脑钠肽测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2014-6-23 11:45:46]:N-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末端脑钠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922.36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血气分析提示明显代酸，考虑未肾衰后改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血常规五分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2014-6-23 10:29:18]: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白细胞数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16.38×10^9/L↑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中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血红蛋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56g/L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肾功能常规检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2014-6-23 11:26:38]: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尿素氮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52.19mmol/L↑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肌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REA):707.6umol/L↑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钾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4.9mmol/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血常规五分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2014-7-02]: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白细胞数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8.68×10^9/L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血红蛋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75g/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血气分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2014-6-30 ]: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酸碱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7.50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二氧化碳分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29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氧分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131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标准碳酸氢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25.1mmol/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示呼吸性碱中毒，考虑过度换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肾功能、电解质常规检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2014-7-2 ]: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尿素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16.56mmol/L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肌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454.3umol/L,K4.2mmol/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流程图: 终止 3"/>
          <p:cNvSpPr/>
          <p:nvPr/>
        </p:nvSpPr>
        <p:spPr>
          <a:xfrm>
            <a:off x="1655640" y="476280"/>
            <a:ext cx="4319640" cy="1008000"/>
          </a:xfrm>
          <a:prstGeom prst="flowChartTerminator">
            <a:avLst/>
          </a:prstGeom>
          <a:gradFill rotWithShape="0">
            <a:gsLst>
              <a:gs pos="0">
                <a:srgbClr val="ffcccc"/>
              </a:gs>
              <a:gs pos="50000">
                <a:srgbClr val="ff9900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</a:rPr>
              <a:t>辅 助 检 查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流程图: 可选过程 4"/>
          <p:cNvSpPr/>
          <p:nvPr/>
        </p:nvSpPr>
        <p:spPr>
          <a:xfrm>
            <a:off x="2087640" y="476280"/>
            <a:ext cx="3924360" cy="865080"/>
          </a:xfrm>
          <a:prstGeom prst="flowChartAlternateProcess">
            <a:avLst/>
          </a:prstGeom>
          <a:gradFill rotWithShape="0">
            <a:gsLst>
              <a:gs pos="0">
                <a:srgbClr val="fae3b7"/>
              </a:gs>
              <a:gs pos="100000">
                <a:srgbClr val="fae3b7"/>
              </a:gs>
            </a:gsLst>
            <a:lin ang="5400000"/>
          </a:gra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入 院 诊 断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1511280" y="1665360"/>
            <a:ext cx="6085080" cy="9349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50000">
                <a:srgbClr val="ff9900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800080"/>
                </a:solidFill>
                <a:latin typeface="Arial"/>
              </a:rPr>
              <a:t>高血压病</a:t>
            </a: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800080"/>
                </a:solidFill>
                <a:latin typeface="Arial"/>
              </a:rPr>
              <a:t>级（极高危组）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1511280" y="2997360"/>
            <a:ext cx="6229440" cy="10443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50000">
                <a:srgbClr val="00ff99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800080"/>
                </a:solidFill>
                <a:latin typeface="Arial"/>
              </a:rPr>
              <a:t>慢性支气管炎并感染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1440000" y="4437000"/>
            <a:ext cx="6264000" cy="111600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50000">
                <a:srgbClr val="ffff00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800080"/>
                </a:solidFill>
                <a:latin typeface="Arial"/>
              </a:rPr>
              <a:t>神志不清查因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流程图: 可选过程 4"/>
          <p:cNvSpPr/>
          <p:nvPr/>
        </p:nvSpPr>
        <p:spPr>
          <a:xfrm>
            <a:off x="2087640" y="476280"/>
            <a:ext cx="3924360" cy="865080"/>
          </a:xfrm>
          <a:prstGeom prst="flowChartAlternateProcess">
            <a:avLst/>
          </a:prstGeom>
          <a:gradFill rotWithShape="0">
            <a:gsLst>
              <a:gs pos="0">
                <a:srgbClr val="fae3b7"/>
              </a:gs>
              <a:gs pos="100000">
                <a:srgbClr val="fae3b7"/>
              </a:gs>
            </a:gsLst>
            <a:lin ang="5400000"/>
          </a:gra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入 院 诊 断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9" name="Oval 5"/>
          <p:cNvSpPr/>
          <p:nvPr/>
        </p:nvSpPr>
        <p:spPr>
          <a:xfrm>
            <a:off x="1511280" y="1665360"/>
            <a:ext cx="6085080" cy="9349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50000">
                <a:srgbClr val="00ff99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4.</a:t>
            </a:r>
            <a:r>
              <a:rPr b="0" lang="zh-CN" sz="3600" spc="-1" strike="noStrike">
                <a:solidFill>
                  <a:srgbClr val="800080"/>
                </a:solidFill>
                <a:latin typeface="Arial"/>
              </a:rPr>
              <a:t>双肾多发囊肿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1511280" y="2997360"/>
            <a:ext cx="6229440" cy="104436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50000">
                <a:srgbClr val="0066ff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5.</a:t>
            </a:r>
            <a:r>
              <a:rPr b="0" lang="zh-CN" sz="3600" spc="-1" strike="noStrike">
                <a:solidFill>
                  <a:srgbClr val="800080"/>
                </a:solidFill>
                <a:latin typeface="Arial"/>
              </a:rPr>
              <a:t>脑动脉供血不足 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1440000" y="4437000"/>
            <a:ext cx="6264000" cy="1116000"/>
          </a:xfrm>
          <a:prstGeom prst="ellipse">
            <a:avLst/>
          </a:prstGeom>
          <a:gradFill rotWithShape="0">
            <a:gsLst>
              <a:gs pos="0">
                <a:srgbClr val="9900ff"/>
              </a:gs>
              <a:gs pos="50000">
                <a:srgbClr val="ff0000"/>
              </a:gs>
              <a:gs pos="100000">
                <a:srgbClr val="9900ff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6.</a:t>
            </a:r>
            <a:r>
              <a:rPr b="0" lang="zh-CN" sz="3600" spc="-1" strike="noStrike">
                <a:solidFill>
                  <a:srgbClr val="800080"/>
                </a:solidFill>
                <a:latin typeface="Arial"/>
              </a:rPr>
              <a:t>左膝关节骨性关节炎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476000" y="549000"/>
            <a:ext cx="701028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6699"/>
                </a:solidFill>
                <a:latin typeface="Arial"/>
              </a:rPr>
              <a:t>针对以上问题提出相应的护理问题、相关依据及护理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755640" y="1700280"/>
            <a:ext cx="813744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、潜在并发症：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心脏骤停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尿毒症脑病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护理措施：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严密监测病人的生命体征、意识状态；准确记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出入液量，每日定时测量体重；观察有无液体量过多的表现；有无各系统症状；有无电解质代谢紊乱和代谢性酸中毒表现；有无感染的征象。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嘱患者绝对卧床休息，避免过度劳累。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症状不明显、病情稳定者，可在护理人员或亲属陪伴下活动，以不出现疲乏、心慌、气喘及头晕为度。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症状明显，病情加重者，应绝对卧床休息，并提供安静的休息环境，协助病人做好各项生活护理。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③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对长期卧床者，应指导或帮助其进行适当的床上活动，定时为病人翻身和做被动肢体活动，防止压疮或肌肉萎缩。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766764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二、有受伤的危险：与抽搐有关</a:t>
            </a:r>
            <a:br>
              <a:rPr sz="3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187280" y="1700280"/>
            <a:ext cx="65534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护理措施：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上床栏，备抢救包于床旁，遵医嘱使用镇静药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留陪护，患者抽搐时勿搬动患者以防肢体损伤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必要时使用约束带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76000" y="36828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三、 感染 ：与机体免疫功能低下，白细胞功能异常，透析等有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护理措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监测感染征象：注意病人有无体温升高 寒战 疲乏无力 食欲下降 咳嗽 咳浓痰，尿路刺激征 白细胞计数增高等。准确留取各种标本如痰液，血液等送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预防感染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有条件时将病人安置在单人房间，病室定期通风并作空气消毒各种检查治疗严格无菌操作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避免不必要的检查，特别注意有无留置静脉导管和留置尿管等部位的感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加强生活护理 尤其是口腔及会阴部皮肤的卫生，卧床病人应定期翻身拍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用药护理  遵医嘱合理使用对肾无毒性或毒性低的抗菌药物，并观察药物的疗效和不良反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四、清理呼吸道无效：与咳嗽、咳痰有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护理措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促进患者有效的排痰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深呼吸和有效的咳嗽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吸入疗法：气道湿化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胸部叩击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体位引流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机械排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遵医嘱使用化痰药，按时翻身拍背，备吸痰器于床旁，必要时予以吸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Img381918196"/>
          <p:cNvPicPr/>
          <p:nvPr/>
        </p:nvPicPr>
        <p:blipFill>
          <a:blip r:embed="rId1"/>
          <a:stretch/>
        </p:blipFill>
        <p:spPr>
          <a:xfrm>
            <a:off x="5486400" y="502920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47640" y="44136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五、营养失调：低于机体需要量 与长期限制蛋白质摄入，消化功能紊乱等因素有关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68360" y="1916280"/>
            <a:ext cx="73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护理措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提供可口的、不油腻的、高营养的、易于咀嚼的食物，如鱼、蛋。注意少量多餐，当病人感恶心、呕吐时，暂停进食。预防性使用止吐药，观察药物疗效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、指导病人进易消化的优质蛋白，如动物瘦肉、鱼肉、蛋类、奶类，进食各种鲜蔬菜、水果，以补充维生素类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、加强口腔护理，保持口腔湿润、清洁，以增进食欲。病人进餐时，给病人充分的咀嚼、吞咽时间，喂饭速度不要快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、遵医嘱给予肠道外营养，如静滴复方氨基酸、脂肪乳剂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、定期监测病人营养状况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六、水电解质酸碱平衡失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护理措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维持患者输液管道的通畅，准确记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出入水量。合理使用利尿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密切观察病情，注意有无电解质平衡的表现，有导常时，及时报告医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定期复查血常规、电解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补充足够的水分的同时注意预防肺水肿的发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43000" y="190476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慢性肾衰竭分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　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肾功能衰竭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又称尿毒症期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c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2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445umo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20mmo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症状明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523880" y="4724280"/>
            <a:ext cx="6096240" cy="6912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肾功能极度下降，出现各系统症状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523880" y="5562720"/>
            <a:ext cx="6096240" cy="6912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Ccr &lt; 10ml / min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　　　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尿毒症终末期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4267080" y="5867280"/>
            <a:ext cx="990720" cy="152640"/>
          </a:xfrm>
          <a:prstGeom prst="rightArrow">
            <a:avLst>
              <a:gd name="adj1" fmla="val 50000"/>
              <a:gd name="adj2" fmla="val 16226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椭圆 7"/>
          <p:cNvSpPr/>
          <p:nvPr/>
        </p:nvSpPr>
        <p:spPr>
          <a:xfrm>
            <a:off x="2592360" y="441360"/>
            <a:ext cx="3095640" cy="107964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50000">
                <a:srgbClr val="ff9900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分  期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75963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七、体液过多：与胸腔积液有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护理措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 指导病人避免剧烈活动或突然改变体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指导病人控制水钠的摄入，准确记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时出入水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7010640" cy="9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八、活动无耐力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0560" y="1808280"/>
            <a:ext cx="729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护理措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评估活动无耐力的相关因素，并尽量消除和减少相关因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遵医嘱给予持续低流量吸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2L/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活动后卧床休息，必要时吸氧，缓慢增加活动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耐心向病人解释，消除紧张、不安、顾虑心理，使之配合治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保证病人充足的休息和睡眠，减少不必要的体力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做好基础护理和生活护理，满足病人基本需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九、舒适的改变：与长期卧床有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18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护理措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同情安慰病人，认真听取病人的不适，并给予及时的处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指导病人在床上翻身活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保持床单位的清洁干燥，增加舒适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胃管及导尿管妥善固定，避免脱出、弯曲、打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十、皮肤完整性受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29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护理措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按时涂药，比，避免局部再次受压，防止摩擦力和剪切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保持床铺的平整、松软、清洁、干燥、无皱褶、无碎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~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时辅助翻身一次，具体受压部位垫软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便后及时予温水擦洗，避免使用过硬的指擦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指导病人及家属正确使用便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十一、焦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护理措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详细向病人及家属解释疾病的病因、治疗方案、效果及预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提供安静舒适、无不良刺激的住院环境，如适当的温、湿度，清新的空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护理人员与病人及家属建立有效的沟通使其接受该病的发生与发展，使他们能正确的对待疾病，保持乐观的情绪，树立战胜疾病的信心，提高生活质量，积极配合治疗与护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十二、生活自理能力的缺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护理措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 及时提供便器，协助做好便后清洁卫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协助洗漱、更衣、床上擦浴、洗头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提供合适的就餐体位与床上餐桌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及时鼓励病人逐步完成病情允许下的部分或全部自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十三、知识缺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4000" y="1904760"/>
            <a:ext cx="8999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护理措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要循序渐进宣教有关保健知识及疾病相关知识，鼓励同病室病人进行有效的沟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使用通俗易懂的语言对患者及家属进行反复的健康宣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对于老年人及听力不好的患者可以使用形象性语言进行沟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Profile2"/>
          <p:cNvPicPr/>
          <p:nvPr/>
        </p:nvPicPr>
        <p:blipFill>
          <a:blip r:embed="rId1"/>
          <a:stretch/>
        </p:blipFill>
        <p:spPr>
          <a:xfrm>
            <a:off x="7702560" y="4960800"/>
            <a:ext cx="1441440" cy="1897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6360" y="1905120"/>
            <a:ext cx="907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遵医嘱用药，观察药物疗效及不良反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红细胞生成素时，注意有无头痛、高血压及癫痫发作等，定期查血常规。禁输库存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骨化三醇治疗肾性骨病时，要随时监测血钙、血磷的浓度，防止内脏、皮下、关节、血管钙化和肾功能恶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需氨基酸疗法。宜口服给药，若需静脉输入，应注意控制输液速度。输液过程中若有恶心、呕吐应给予止吐剂，同时减慢输液速度。切勿在氨基酸液内加人其他药物，以免引起不良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横卷形 7"/>
          <p:cNvSpPr/>
          <p:nvPr/>
        </p:nvSpPr>
        <p:spPr>
          <a:xfrm>
            <a:off x="1979640" y="404640"/>
            <a:ext cx="6084720" cy="115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70c0"/>
                </a:solidFill>
                <a:latin typeface="Arial"/>
              </a:rPr>
              <a:t>用 药 的 护 理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72720" y="1905120"/>
            <a:ext cx="90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护理人员应以热情、关切的态度去接近病人，使其感受到真诚和温暖。与病人及家属建立有效的沟通，鼓励家属理解并接受病人的改变，介绍本病的治疗进展，，使他们能正确对待疾病，保持乐观情绪，树立战胜疾病的信心，提高生活质量，积极配合治疗和护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横卷形 7"/>
          <p:cNvSpPr/>
          <p:nvPr/>
        </p:nvSpPr>
        <p:spPr>
          <a:xfrm>
            <a:off x="1979640" y="404640"/>
            <a:ext cx="6084720" cy="115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70c0"/>
                </a:solidFill>
                <a:latin typeface="Arial"/>
              </a:rPr>
              <a:t>心 理 护 理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103680" y="1905120"/>
            <a:ext cx="935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疾病知识指导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注意个人卫生，保持口腔、皮肤的清洁。皮肤搔痒时切勿用力搔抓，以免破损引起感染；注意会阴部的清洁，观察有无尿路刺激征的出现；注意保暖，避免受凉，以免引起上呼吸道感染；积极治疗原发病，去除加重肾衰竭的诱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生活指导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强调合理饮食对本病的重要性，严格遵从饮食治疗的原则，尤其是蛋白质的合理摄入和水钠限制；根据病情和活动耐力，进行适当的活动，增强机体的抵抗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横卷形 7"/>
          <p:cNvSpPr/>
          <p:nvPr/>
        </p:nvSpPr>
        <p:spPr>
          <a:xfrm>
            <a:off x="1979640" y="404640"/>
            <a:ext cx="6084720" cy="115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健 康 指 导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　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原发性肾脏疾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慢性肾炎和肾盂肾炎、多囊肾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　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隶书"/>
              </a:rPr>
              <a:t>继发性肾脏疾病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糖尿病肾病、高血压肾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L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性肾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　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隶书"/>
              </a:rPr>
              <a:t>梗阻性肾脏疾病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尿路结石、前列腺肥大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剪去对角的矩形 7"/>
          <p:cNvSpPr/>
          <p:nvPr/>
        </p:nvSpPr>
        <p:spPr>
          <a:xfrm>
            <a:off x="1655640" y="584280"/>
            <a:ext cx="5256360" cy="865080"/>
          </a:xfrm>
          <a:prstGeom prst="pie">
            <a:avLst/>
          </a:prstGeom>
          <a:gradFill rotWithShape="0">
            <a:gsLst>
              <a:gs pos="0">
                <a:srgbClr val="ffcccc"/>
              </a:gs>
              <a:gs pos="50000">
                <a:srgbClr val="ff9900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病因与发病机制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42920" y="2097000"/>
            <a:ext cx="896472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透析指导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保护和计划使用血管，以备用于血透治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心理指导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注意心理调节，保持良好心态，培养积极的应对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横卷形 7"/>
          <p:cNvSpPr/>
          <p:nvPr/>
        </p:nvSpPr>
        <p:spPr>
          <a:xfrm>
            <a:off x="1979640" y="404640"/>
            <a:ext cx="6084720" cy="115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健 康 指 导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857_200562016504029904"/>
          <p:cNvPicPr/>
          <p:nvPr/>
        </p:nvPicPr>
        <p:blipFill>
          <a:blip r:embed="rId1"/>
          <a:srcRect l="0" t="0" r="0" b="9052"/>
          <a:stretch/>
        </p:blipFill>
        <p:spPr>
          <a:xfrm>
            <a:off x="4680" y="-22320"/>
            <a:ext cx="9177480" cy="6880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3"/>
          <p:cNvSpPr/>
          <p:nvPr/>
        </p:nvSpPr>
        <p:spPr>
          <a:xfrm>
            <a:off x="1295280" y="281952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8593"/>
              <a:gd name="adj4" fmla="val 66667"/>
            </a:avLst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　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特别提示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Oval 4"/>
          <p:cNvSpPr/>
          <p:nvPr/>
        </p:nvSpPr>
        <p:spPr>
          <a:xfrm>
            <a:off x="1905120" y="3276720"/>
            <a:ext cx="22860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Oval 5"/>
          <p:cNvSpPr/>
          <p:nvPr/>
        </p:nvSpPr>
        <p:spPr>
          <a:xfrm>
            <a:off x="1905120" y="4191120"/>
            <a:ext cx="22860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766040" y="4038480"/>
            <a:ext cx="2100960" cy="2226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我国常见病因顺序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小球肾炎、糖尿病肾病、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高血压肾病、多囊肾、梗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阻性肾病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4766040" y="1905120"/>
            <a:ext cx="2100960" cy="169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国外常见病因顺序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尿病肾病、高血压肾病、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小球肾炎、多囊肾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剪去对角的矩形 10"/>
          <p:cNvSpPr/>
          <p:nvPr/>
        </p:nvSpPr>
        <p:spPr>
          <a:xfrm>
            <a:off x="1655640" y="549360"/>
            <a:ext cx="5256360" cy="863640"/>
          </a:xfrm>
          <a:prstGeom prst="pie">
            <a:avLst/>
          </a:prstGeom>
          <a:gradFill rotWithShape="0">
            <a:gsLst>
              <a:gs pos="0">
                <a:srgbClr val="ffcc99"/>
              </a:gs>
              <a:gs pos="50000">
                <a:srgbClr val="ff99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病因与发病机制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19320" y="19047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健存肾单位学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生肾小球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矫枉失衡学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肾小球高压和代偿性肥大学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肾小管高代谢学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血压增高和脂质代谢紊乱学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剪去对角的矩形 6"/>
          <p:cNvSpPr/>
          <p:nvPr/>
        </p:nvSpPr>
        <p:spPr>
          <a:xfrm>
            <a:off x="1655640" y="549360"/>
            <a:ext cx="5256360" cy="863640"/>
          </a:xfrm>
          <a:prstGeom prst="pie">
            <a:avLst/>
          </a:prstGeom>
          <a:gradFill rotWithShape="0">
            <a:gsLst>
              <a:gs pos="0">
                <a:srgbClr val="ffcccc"/>
              </a:gs>
              <a:gs pos="50000">
                <a:srgbClr val="ff9900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病因与发病机制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-247680" y="1486080"/>
            <a:ext cx="845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  <a:ea typeface="楷体_GB2312"/>
              </a:rPr>
              <a:t>消化系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　系尿素等代谢产物对胃肠道粘膜刺激引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首发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食欲不振、恶心、呕吐，后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口中有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氨臭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常有口腔粘膜溃疡、十二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肠炎、消化道出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du558"/>
          <p:cNvPicPr/>
          <p:nvPr/>
        </p:nvPicPr>
        <p:blipFill>
          <a:blip r:embed="rId1"/>
          <a:stretch/>
        </p:blipFill>
        <p:spPr>
          <a:xfrm>
            <a:off x="4645080" y="4041720"/>
            <a:ext cx="4140000" cy="2737080"/>
          </a:xfrm>
          <a:prstGeom prst="rect">
            <a:avLst/>
          </a:prstGeom>
          <a:ln w="0">
            <a:noFill/>
          </a:ln>
        </p:spPr>
      </p:pic>
      <p:sp>
        <p:nvSpPr>
          <p:cNvPr id="120" name="Oval 5"/>
          <p:cNvSpPr/>
          <p:nvPr/>
        </p:nvSpPr>
        <p:spPr>
          <a:xfrm>
            <a:off x="-103320" y="4762440"/>
            <a:ext cx="4496040" cy="106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黑体"/>
              </a:rPr>
              <a:t>最早出现和最突出的症状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7272360" y="3933720"/>
            <a:ext cx="2124000" cy="1042920"/>
          </a:xfrm>
          <a:prstGeom prst="wedgeEllipseCallout">
            <a:avLst>
              <a:gd name="adj1" fmla="val -42472"/>
              <a:gd name="adj2" fmla="val 54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腹胀、恶心呕吐、腹泻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2" name="Picture 8" descr="31760_0"/>
          <p:cNvPicPr/>
          <p:nvPr/>
        </p:nvPicPr>
        <p:blipFill>
          <a:blip r:embed="rId2"/>
          <a:stretch/>
        </p:blipFill>
        <p:spPr>
          <a:xfrm>
            <a:off x="6661080" y="82440"/>
            <a:ext cx="2266920" cy="2087640"/>
          </a:xfrm>
          <a:prstGeom prst="rect">
            <a:avLst/>
          </a:prstGeom>
          <a:ln w="0">
            <a:noFill/>
          </a:ln>
        </p:spPr>
      </p:pic>
      <p:sp>
        <p:nvSpPr>
          <p:cNvPr id="123" name="圆角矩形 9"/>
          <p:cNvSpPr/>
          <p:nvPr/>
        </p:nvSpPr>
        <p:spPr>
          <a:xfrm>
            <a:off x="1800360" y="584280"/>
            <a:ext cx="3995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 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临床表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12:51:40Z</dcterms:created>
  <dc:creator>user_common</dc:creator>
  <dc:description/>
  <cp:keywords/>
  <dc:language>en-US</dc:language>
  <cp:lastModifiedBy>Administrator</cp:lastModifiedBy>
  <dcterms:modified xsi:type="dcterms:W3CDTF">2014-07-29T11:28:04Z</dcterms:modified>
  <cp:revision>34</cp:revision>
  <dc:subject/>
  <dc:title>慢性肾衰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  <property fmtid="{D5CDD505-2E9C-101B-9397-08002B2CF9AE}" pid="3" name="Version">
    <vt:r8>5</vt:r8>
  </property>
</Properties>
</file>