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A92-8247-49AB-8282-DC8B72F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A43-04BC-4FE9-B92A-F55ACB3D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F3E-9DD0-4FF6-9F77-0E00D57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D6B-D639-4D7C-9DA1-4985DA7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95C-D1DC-4F28-A482-3B3E343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390-F6D8-4CB8-889A-BAD08F97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254-A04C-4E6E-8FDC-DC0C7A6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F42-19E8-443C-B2F2-E49187C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C98-7EFE-4F2F-9ABC-6E48A60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037-1F13-4322-A924-5904A30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5ED-9975-42B4-B2A9-41634058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987-1B1D-427D-AF64-94EFD030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0984-1181-4FD9-81F3-4E67BA6BCA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41040" y="2086560"/>
            <a:ext cx="776772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93e00"/>
                </a:solidFill>
                <a:latin typeface="Arial"/>
                <a:ea typeface="宋体"/>
              </a:rPr>
              <a:t>脑出血的护理查房</a:t>
            </a:r>
            <a:endParaRPr b="1" lang="en-US" sz="4800" spc="-1" strike="noStrike">
              <a:solidFill>
                <a:srgbClr val="dbe8b2"/>
              </a:solidFill>
              <a:latin typeface="Arial"/>
            </a:endParaRPr>
          </a:p>
        </p:txBody>
      </p:sp>
      <p:sp>
        <p:nvSpPr>
          <p:cNvPr id="118" name="文本框 5122"/>
          <p:cNvSpPr/>
          <p:nvPr/>
        </p:nvSpPr>
        <p:spPr>
          <a:xfrm>
            <a:off x="4429080" y="4135320"/>
            <a:ext cx="26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宋体"/>
                <a:ea typeface="宋体"/>
              </a:rPr>
              <a:t>淮北市人民医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宋体"/>
                <a:ea typeface="宋体"/>
              </a:rPr>
              <a:t>2016-11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四、管道滑脱的危险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相关因素：固定不牢、翻身、约束不当、外出检查等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措施：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妥善固定，班班交接，观察管道有无扭曲、脱出、打结。翻身时注意保护各管道，防止牵拉、脱出及逆行感染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如有躁动，适当约束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外出检查加强防护，其前告知家属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评价：未发生管道滑脱事件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五、皮肤完整性受损的危险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相关因素：躯体活动受限、排泄物或分泌物刺激、潮湿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措施：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应用气垫床、定时翻身、保持肢体功能位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保持皮肤清洁干燥，及时清理排泄物及分泌物，保持床单元清洁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定时检查约束处皮肤情况，防止受伤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遵医嘱予肠内肠外营养，加强营养支持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评价：患者皮肤完整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e8b2"/>
                </a:solidFill>
                <a:latin typeface="Arial"/>
                <a:ea typeface="宋体"/>
              </a:rPr>
              <a:t>护理要点—脑室引流的护理</a:t>
            </a:r>
            <a:endParaRPr b="1" lang="en-US" sz="3200" spc="-1" strike="noStrike">
              <a:solidFill>
                <a:srgbClr val="dbe8b2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52480" y="1406520"/>
            <a:ext cx="7843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脑室引流是指经颅骨钻孔或经椎孔穿刺侧脑室，放置引流管将颅内出血、脑脊液引出体外，以达到调节和控制颅内压的一种方法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穿刺位置：多选在半球额角或枕角穿刺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引流目的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引流破入脑室的积血，引流脑脊液，减少脑膜刺激并早期控制颅内压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经脑室引流管注药控制颅内感染或溶解血凝块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抢救因脑脊液循环受阻导致的颅内高压危机状态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对于颅脑肿瘤合并颅内高压的患者，可术前行脑室   引流降低颅内压，避免开颅术中颅压骤降引起脑疝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92400" y="1582200"/>
            <a:ext cx="784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脑室引流病人的观察要点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、生命体征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、引流液的观察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、引流装置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生命体征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每小时记录体温、呼吸、心率、血压、意识和瞳孔的变化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引流液的观察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准确记录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24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小时引流的量、颜色、性质。术后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-2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天可呈血性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量：脑脊液由脉络丛分泌，约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分钟分泌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ml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，因此每日应不超过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500ml.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颜色及性质：正常应为无色、透明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脑室出血：血性，红色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感染：浑浊、有絮状物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29800" y="1440000"/>
            <a:ext cx="784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引流装置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引流管的位置：最高点距脑室垂直距离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0-15cm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。 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妥善固定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保持通畅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严格无菌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拔管：夹管，复查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28674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谢谢观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图片 28678" descr="LOGO_24x24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8679" descr="32-腾讯微博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177840" y="6340320"/>
            <a:ext cx="2541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any Lo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213840"/>
            <a:ext cx="70516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dbe8b2"/>
                </a:solidFill>
                <a:latin typeface="Arial"/>
                <a:ea typeface="宋体"/>
              </a:rPr>
              <a:t>病史汇报</a:t>
            </a:r>
            <a:endParaRPr b="1" lang="en-US" sz="2500" spc="-1" strike="noStrike">
              <a:solidFill>
                <a:srgbClr val="dbe8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8360" y="1174320"/>
            <a:ext cx="746748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一、现病史：患者徐志灵，女，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63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岁，因“突发神志不清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小时”送至我院，头颅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CT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示：左侧丘脑出血破入脑室，量约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0ml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侧脑室扩大。拟以“左侧丘脑出血破入脑室”收住院。积极抢救生命，急诊全麻下行“侧脑室置管外引流术”，左右脑室各置引流管一根接引流瓶，见血性脑脊液，术后转入我科。入科时查体：麻醉未醒，瞳孔等大等圆，直径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.5mm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无光反射。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T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36.4℃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HR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72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次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分，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R:2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次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分，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BP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12/113mmHg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SpO²100%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二、既往史：高血压病史。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三、辅助检查：头颅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CT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（本院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016.11.21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）：左侧丘脑出血破入脑室，量约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0ml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侧脑室扩大。脑室引流后复查头颅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CT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1.27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）示：左侧脑室少量积血。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血常规（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2016.11.21.19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时）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WBC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1.5×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*9/L,RBC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5.2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×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*12/L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血常规（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1.21.22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时）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WBC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5.1×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*9/L,RBC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5.2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×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*12/L,    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中性粒细胞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81.7%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凝血五项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1.22.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时）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纤维蛋白原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.92g/L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血常规（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1.22.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时）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WBC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0.6×10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*9/L,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中性粒细胞：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81.8%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生化（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11.24.11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时）白蛋白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:36g/L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白球比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:1.17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，钙</a:t>
            </a: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:2.07mmol/L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Arial"/>
                <a:ea typeface="宋体"/>
              </a:rPr>
              <a:t>  </a:t>
            </a: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Arial"/>
            </a:endParaRPr>
          </a:p>
        </p:txBody>
      </p:sp>
      <p:pic>
        <p:nvPicPr>
          <p:cNvPr id="122" name="对象 6148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08200" y="1623960"/>
            <a:ext cx="7843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辅助检查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脑脊液生化（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5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）：脑脊液总蛋白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:1572mg/L,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脑脊液微量白蛋白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:670mg/L.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脑脊液常规（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5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）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WBC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508×10*6/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生化（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7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）：白蛋白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:36g/L,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白球比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:0.96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钙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:1.98mmol/L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血常规（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7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WBC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4.2×10*9/L,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中性粒细胞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86.5%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800" y="837720"/>
            <a:ext cx="7844040" cy="53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病情变化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1.20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时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BP:212/113mmHg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，予丙泊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50mg/h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静泵，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22:40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患者躁动明显，予力月西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.2mg/h,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舒芬太尼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6ug/h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静泵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2.4:50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抽搐明显，予安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0mg/h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静泵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3.1:40BP:192/86mmHg,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予尼莫地平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0.5-1mg/h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静泵（根据血压调整）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4.10:30T:39.4℃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，予地塞米松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0mg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静注，渐降至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38.7℃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4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予尿激酶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万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U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注入右脑室引流管，夹管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小时后开放引流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5.15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时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T:38.6℃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，予复方氨比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2ml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肌注，渐降至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38.1℃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。留取脑脊液送检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6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经皮气管旋切气管切开，过程顺利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7.8:40T:38.6℃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，予抽血培养送检，改抗生素为舒普深加强抗感染治疗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8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拔除双侧脑室引流管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.29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病情改善，转脑外科继续治疗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1160" y="-7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e8b2"/>
                </a:solidFill>
                <a:latin typeface="Arial"/>
                <a:ea typeface="宋体"/>
              </a:rPr>
              <a:t>诊疗计划</a:t>
            </a:r>
            <a:endParaRPr b="1" lang="en-US" sz="3200" spc="-1" strike="noStrike">
              <a:solidFill>
                <a:srgbClr val="dbe8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3280" y="1565280"/>
            <a:ext cx="7843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一、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ICU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护理常规，机械通气护理，按需吸痰，保持呼吸道通畅。生命体征监测，密切观察神志、瞳孔变化，警惕颅内再出血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二、脱水、降颅压、脑保护、促醒、调控血压保证脑灌注、抗感染、营养支持，防治并发症等治疗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三、保证引流通畅，观察引流液性状及量的变化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6640" y="-3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e8b2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dbe8b2"/>
                </a:solidFill>
                <a:latin typeface="Arial"/>
                <a:ea typeface="宋体"/>
              </a:rPr>
              <a:t>护理诊断</a:t>
            </a:r>
            <a:endParaRPr b="1" lang="en-US" sz="3200" spc="-1" strike="noStrike">
              <a:solidFill>
                <a:srgbClr val="dbe8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Arial"/>
                <a:ea typeface="宋体"/>
              </a:rPr>
              <a:t>一、病情变化的可能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Arial"/>
                <a:ea typeface="宋体"/>
              </a:rPr>
              <a:t>二、清理呼吸道无效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Arial"/>
                <a:ea typeface="宋体"/>
              </a:rPr>
              <a:t>三、有感染的危险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Arial"/>
                <a:ea typeface="宋体"/>
              </a:rPr>
              <a:t>四、管道滑脱的危险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Arial"/>
                <a:ea typeface="宋体"/>
              </a:rPr>
              <a:t>五、皮肤完整性受损的危险</a:t>
            </a: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一、病情变化的危险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相关因素：高血压、脑出血加剧、脑室引流不畅、颅内压升高、呼吸                       困难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护理措施：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密切观察生命体征，如有变化，及时告知医生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判断昏迷程度，观察神志、瞳孔变化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观察脑室引流是否通畅，引流液的性状、量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、及时抽查电解质、血常规、脑脊液等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护理评价（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11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月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28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高血压得到控制，脑室引流畅，未再发脑出血，未发生脑疝。生命体征较平稳，体温得到控制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83720" y="1359000"/>
            <a:ext cx="784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二、清理呼吸道无效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相关因素：人工气道较干燥、痰液粘稠、湿化不足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措施：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保持室内适宜温湿度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根据痰液粘稠情况，调节湿化温度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取合适体位，加强翻身叩背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明确吸痰指征，及时有效吸痰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评价：患者呼吸道通畅，呼吸平稳</a:t>
            </a:r>
            <a:r>
              <a:rPr b="1" lang="zh-CN" sz="2000" spc="-1" strike="noStrike">
                <a:solidFill>
                  <a:srgbClr val="5078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73280" y="149652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Arial"/>
                <a:ea typeface="宋体"/>
              </a:rPr>
              <a:t>三、有感染的危险</a:t>
            </a:r>
            <a:endParaRPr b="1" lang="en-US" sz="28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相关因素：脑室引流、气管切开、留置尿管等感染因素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措施：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严格无菌操作，加强手卫生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做好基础护理，口腔护理、会阴护理、气切护理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、做好管道护理，观察引流情况，定期更换引流袋等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护理评价（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11.28</a:t>
            </a:r>
            <a:r>
              <a:rPr b="1" lang="zh-CN" sz="2400" spc="-1" strike="noStrike">
                <a:solidFill>
                  <a:srgbClr val="507800"/>
                </a:solidFill>
                <a:latin typeface="Arial"/>
                <a:ea typeface="宋体"/>
              </a:rPr>
              <a:t>）：感染得到控制。</a:t>
            </a:r>
            <a:endParaRPr b="1" lang="en-US" sz="2400" spc="-1" strike="noStrike">
              <a:solidFill>
                <a:srgbClr val="507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07:57Z</dcterms:created>
  <dc:creator/>
  <dc:description/>
  <dc:language>en-US</dc:language>
  <cp:lastModifiedBy>Administrator</cp:lastModifiedBy>
  <dcterms:modified xsi:type="dcterms:W3CDTF">2016-12-23T17:08:0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