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9814-8DEE-4962-8776-90D7743C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720" y="268020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9B2-8E01-4E8F-BD91-49163EBB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285984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8BF-41B5-44B8-BF9C-375ABE37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04948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62124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772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04948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362124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C54A-C331-453C-8711-E737D4BD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FE54-081A-4DC5-BEE5-910296CD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7720" y="2480760"/>
            <a:ext cx="4648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7AD3-B28E-4423-BDAF-9957B13B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46483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B1C1-67D9-48E1-818B-7613F227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88EB-3882-4292-B36D-A9888361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E520-5381-4550-96D4-E4EA0E2D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15364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69A8-06FD-44D6-89D9-55868BB9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1526-026B-4810-94DB-F4611362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7720" y="2480760"/>
            <a:ext cx="4648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A9A1-7373-4ABA-AEA9-93D4D752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85984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BD3B-0F11-4DEE-BE21-DBFF4B78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8834-ECF8-40C5-8033-8F2A9D4D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720" y="268020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F26E-9665-4381-8699-06B70BC1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85984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2897-2772-465C-88D1-66711509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04948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21240" y="248076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772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04948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3621240" y="2680200"/>
            <a:ext cx="14965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032B-09CD-4044-BAE8-7FD29640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46483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50A9-1D0E-4578-A984-20A95CFA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1CDF-ECCA-4B18-BBAD-68FBF079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AD55-2440-4C82-AB2C-B6D1FA3D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15364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AB2-C55D-46BD-A7CD-A0E6012E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02A-11A3-4E59-994D-1CA65D41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859840" y="268020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198-A8AD-4970-B26F-A73A1B49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72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859840" y="2480760"/>
            <a:ext cx="22683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720" y="2680200"/>
            <a:ext cx="46483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B9B-254E-439C-BC92-5193C167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861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64eb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64eb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781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64eb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64eb6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755520" y="64749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64eb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DCAE-91AB-4076-8697-E96CDAB03CAD}" type="slidenum">
              <a:rPr b="0" lang="en-US" sz="1200" spc="-1" strike="noStrike">
                <a:solidFill>
                  <a:srgbClr val="364eb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58672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5CE7-5A86-4815-8B6C-FC8B034278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3049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520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4eb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4eb6"/>
                </a:solidFill>
                <a:latin typeface="Arial"/>
                <a:ea typeface="宋体"/>
              </a:rPr>
              <a:t>PowerPoint Template</a:t>
            </a:r>
            <a:endParaRPr b="1" lang="en-US" sz="4000" spc="-1" strike="noStrike">
              <a:solidFill>
                <a:srgbClr val="364eb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98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6a1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6a1b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6a1b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1d5662"/>
              </a:gs>
              <a:gs pos="50000">
                <a:srgbClr val="36a1b6"/>
              </a:gs>
              <a:gs pos="100000">
                <a:srgbClr val="1d56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6a1b6">
                  <a:alpha val="0"/>
                </a:srgbClr>
              </a:gs>
              <a:gs pos="100000">
                <a:srgbClr val="2265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cc76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cc76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46b38"/>
              </a:gs>
              <a:gs pos="50000">
                <a:srgbClr val="9cc769"/>
              </a:gs>
              <a:gs pos="100000">
                <a:srgbClr val="546b3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cc769">
                  <a:alpha val="0"/>
                </a:srgbClr>
              </a:gs>
              <a:gs pos="100000">
                <a:srgbClr val="627d4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39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181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987e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213e68"/>
              </a:gs>
              <a:gs pos="100000">
                <a:srgbClr val="4987e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7487a"/>
              </a:gs>
              <a:gs pos="50000">
                <a:srgbClr val="4987e3"/>
              </a:gs>
              <a:gs pos="100000">
                <a:srgbClr val="27487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987e3">
                  <a:alpha val="0"/>
                </a:srgbClr>
              </a:gs>
              <a:gs pos="100000">
                <a:srgbClr val="2e558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49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81600" y="2038680"/>
              <a:ext cx="126000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54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51920" y="2038680"/>
              <a:ext cx="12614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447920" y="1527120"/>
            <a:ext cx="5714640" cy="5330520"/>
            <a:chOff x="1447920" y="1527120"/>
            <a:chExt cx="5714640" cy="5330520"/>
          </a:xfrm>
        </p:grpSpPr>
        <p:sp>
          <p:nvSpPr>
            <p:cNvPr id="263" name=""/>
            <p:cNvSpPr/>
            <p:nvPr/>
          </p:nvSpPr>
          <p:spPr>
            <a:xfrm rot="13770000">
              <a:off x="4782960" y="4115160"/>
              <a:ext cx="1015920" cy="1962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ddddd"/>
                </a:gs>
                <a:gs pos="100000">
                  <a:srgbClr val="c0c0c0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20856000">
              <a:off x="2755800" y="3632400"/>
              <a:ext cx="1035720" cy="1825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fdfdf"/>
                </a:gs>
                <a:gs pos="100000">
                  <a:srgbClr val="c0c0c0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394200">
              <a:off x="4917960" y="247608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bebeb"/>
                </a:gs>
                <a:gs pos="100000">
                  <a:srgbClr val="c0c0c0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719880" y="2509200"/>
              <a:ext cx="1652400" cy="1684080"/>
              <a:chOff x="3719880" y="2509200"/>
              <a:chExt cx="1652400" cy="168408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3719880" y="2509200"/>
                <a:ext cx="1652400" cy="1684080"/>
                <a:chOff x="3719880" y="2509200"/>
                <a:chExt cx="1652400" cy="16840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719880" y="250920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c769"/>
                    </a:gs>
                    <a:gs pos="100000">
                      <a:srgbClr val="25301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908520" y="2536920"/>
                  <a:ext cx="127476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cc7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826440" y="32414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5165640" y="1527120"/>
              <a:ext cx="925200" cy="911880"/>
              <a:chOff x="5165640" y="1527120"/>
              <a:chExt cx="925200" cy="91188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5165640" y="1527120"/>
                <a:ext cx="894960" cy="911880"/>
                <a:chOff x="5165640" y="1527120"/>
                <a:chExt cx="894960" cy="911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165640" y="1527120"/>
                  <a:ext cx="894960" cy="91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987e3"/>
                    </a:gs>
                    <a:gs pos="100000">
                      <a:srgbClr val="1120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267880" y="1542240"/>
                  <a:ext cx="690480" cy="344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98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>
                <a:off x="5181480" y="187776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1447920" y="2860200"/>
              <a:ext cx="1790280" cy="1894680"/>
              <a:chOff x="1447920" y="2860200"/>
              <a:chExt cx="1790280" cy="189468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1447920" y="2860200"/>
                <a:ext cx="1790280" cy="1894680"/>
                <a:chOff x="1447920" y="2860200"/>
                <a:chExt cx="1790280" cy="18946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447920" y="2860200"/>
                  <a:ext cx="179028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9520f"/>
                    </a:gs>
                    <a:gs pos="100000">
                      <a:srgbClr val="89330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652400" y="2891520"/>
                  <a:ext cx="1380960" cy="714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952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1563840" y="37022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5097240" y="4263840"/>
              <a:ext cx="2065320" cy="2105280"/>
              <a:chOff x="5097240" y="4263840"/>
              <a:chExt cx="2065320" cy="210528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5097240" y="4263840"/>
                <a:ext cx="2065320" cy="2105280"/>
                <a:chOff x="5097240" y="4263840"/>
                <a:chExt cx="2065320" cy="21052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5097240" y="426384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6a1b6"/>
                    </a:gs>
                    <a:gs pos="100000">
                      <a:srgbClr val="1b52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333040" y="429876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6a1b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5412240" y="51760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1654200" y="482544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57760" y="419688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41400" y="6369480"/>
              <a:ext cx="1454040" cy="48816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03880" y="2509200"/>
              <a:ext cx="666720" cy="2437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7973000">
            <a:off x="488232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3465600">
            <a:off x="488160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4368800">
            <a:off x="3662640" y="27511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7534800">
            <a:off x="362484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60840" y="38037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0800000">
            <a:off x="30506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4987e3"/>
              </a:gs>
              <a:gs pos="100000">
                <a:srgbClr val="4077c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71640" y="2046240"/>
            <a:ext cx="3743640" cy="3745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533760" y="2093760"/>
            <a:ext cx="360360" cy="360360"/>
            <a:chOff x="3533760" y="2093760"/>
            <a:chExt cx="360360" cy="360360"/>
          </a:xfrm>
        </p:grpSpPr>
        <p:sp>
          <p:nvSpPr>
            <p:cNvPr id="299" name=""/>
            <p:cNvSpPr/>
            <p:nvPr/>
          </p:nvSpPr>
          <p:spPr>
            <a:xfrm>
              <a:off x="353376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4960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589120" y="3749760"/>
            <a:ext cx="360360" cy="360360"/>
            <a:chOff x="2589120" y="3749760"/>
            <a:chExt cx="360360" cy="360360"/>
          </a:xfrm>
        </p:grpSpPr>
        <p:sp>
          <p:nvSpPr>
            <p:cNvPr id="302" name=""/>
            <p:cNvSpPr/>
            <p:nvPr/>
          </p:nvSpPr>
          <p:spPr>
            <a:xfrm>
              <a:off x="258912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0496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452760" y="5292720"/>
            <a:ext cx="360360" cy="360360"/>
            <a:chOff x="3452760" y="5292720"/>
            <a:chExt cx="360360" cy="360360"/>
          </a:xfrm>
        </p:grpSpPr>
        <p:sp>
          <p:nvSpPr>
            <p:cNvPr id="305" name=""/>
            <p:cNvSpPr/>
            <p:nvPr/>
          </p:nvSpPr>
          <p:spPr>
            <a:xfrm>
              <a:off x="345276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6860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383080" y="2073240"/>
            <a:ext cx="360360" cy="360360"/>
            <a:chOff x="5383080" y="2073240"/>
            <a:chExt cx="360360" cy="360360"/>
          </a:xfrm>
        </p:grpSpPr>
        <p:sp>
          <p:nvSpPr>
            <p:cNvPr id="308" name=""/>
            <p:cNvSpPr/>
            <p:nvPr/>
          </p:nvSpPr>
          <p:spPr>
            <a:xfrm>
              <a:off x="53830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989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332400" y="3749760"/>
            <a:ext cx="360360" cy="360360"/>
            <a:chOff x="6332400" y="3749760"/>
            <a:chExt cx="360360" cy="360360"/>
          </a:xfrm>
        </p:grpSpPr>
        <p:sp>
          <p:nvSpPr>
            <p:cNvPr id="311" name=""/>
            <p:cNvSpPr/>
            <p:nvPr/>
          </p:nvSpPr>
          <p:spPr>
            <a:xfrm>
              <a:off x="63324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482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438880" y="5349960"/>
            <a:ext cx="360360" cy="360360"/>
            <a:chOff x="5438880" y="5349960"/>
            <a:chExt cx="360360" cy="360360"/>
          </a:xfrm>
        </p:grpSpPr>
        <p:sp>
          <p:nvSpPr>
            <p:cNvPr id="314" name=""/>
            <p:cNvSpPr/>
            <p:nvPr/>
          </p:nvSpPr>
          <p:spPr>
            <a:xfrm>
              <a:off x="543888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454720" y="537984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1c3ad"/>
                </a:gs>
                <a:gs pos="100000">
                  <a:srgbClr val="d9520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37288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6a1b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2276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184a53"/>
              </a:gs>
              <a:gs pos="100000">
                <a:srgbClr val="36a1b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5596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d5662"/>
              </a:gs>
              <a:gs pos="50000">
                <a:srgbClr val="36a1b6"/>
              </a:gs>
              <a:gs pos="100000">
                <a:srgbClr val="1d56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3868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6a1b6">
                  <a:alpha val="0"/>
                </a:srgbClr>
              </a:gs>
              <a:gs pos="100000">
                <a:srgbClr val="22657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4020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62520" y="321804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79800" y="322740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9564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07664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692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233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93392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737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2336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1952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85760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371600" y="1981080"/>
            <a:ext cx="6436440" cy="3729960"/>
            <a:chOff x="1371600" y="1981080"/>
            <a:chExt cx="6436440" cy="3729960"/>
          </a:xfrm>
        </p:grpSpPr>
        <p:grpSp>
          <p:nvGrpSpPr>
            <p:cNvPr id="334" name=""/>
            <p:cNvGrpSpPr/>
            <p:nvPr/>
          </p:nvGrpSpPr>
          <p:grpSpPr>
            <a:xfrm>
              <a:off x="1371600" y="1981080"/>
              <a:ext cx="2025720" cy="3729960"/>
              <a:chOff x="1371600" y="1981080"/>
              <a:chExt cx="2025720" cy="372996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1371600" y="2265120"/>
                <a:ext cx="2025720" cy="3445920"/>
                <a:chOff x="1371600" y="2265120"/>
                <a:chExt cx="2025720" cy="34459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1371600" y="2265120"/>
                  <a:ext cx="2019600" cy="2641320"/>
                </a:xfrm>
                <a:custGeom>
                  <a:avLst/>
                  <a:gdLst>
                    <a:gd name="textAreaLeft" fmla="*/ 103320 w 2019600"/>
                    <a:gd name="textAreaRight" fmla="*/ 1916280 w 2019600"/>
                    <a:gd name="textAreaTop" fmla="*/ 103320 h 2641320"/>
                    <a:gd name="textAreaBottom" fmla="*/ 2538000 h 2641320"/>
                  </a:gdLst>
                  <a:ahLst/>
                  <a:rect l="textAreaLeft" t="textAreaTop" r="textAreaRight" b="textAreaBottom"/>
                  <a:pathLst>
                    <a:path w="21600" h="28248">
                      <a:moveTo>
                        <a:pt x="3782" y="0"/>
                      </a:moveTo>
                      <a:arcTo wR="3782" hR="3782" stAng="16200000" swAng="-5400000"/>
                      <a:lnTo>
                        <a:pt x="0" y="24466"/>
                      </a:lnTo>
                      <a:arcTo wR="3782" hR="3782" stAng="10800000" swAng="-5400000"/>
                      <a:lnTo>
                        <a:pt x="17818" y="28248"/>
                      </a:lnTo>
                      <a:arcTo wR="3782" hR="3782" stAng="5400000" swAng="-5400000"/>
                      <a:lnTo>
                        <a:pt x="21600" y="3782"/>
                      </a:lnTo>
                      <a:arcTo wR="3782" hR="378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3477a4"/>
                    </a:gs>
                    <a:gs pos="100000">
                      <a:srgbClr val="4e91d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402560" y="2272320"/>
                  <a:ext cx="1959120" cy="2591280"/>
                </a:xfrm>
                <a:custGeom>
                  <a:avLst/>
                  <a:gdLst>
                    <a:gd name="textAreaLeft" fmla="*/ 95400 w 1959120"/>
                    <a:gd name="textAreaRight" fmla="*/ 1863720 w 1959120"/>
                    <a:gd name="textAreaTop" fmla="*/ 95400 h 2591280"/>
                    <a:gd name="textAreaBottom" fmla="*/ 2495880 h 2591280"/>
                  </a:gdLst>
                  <a:ahLst/>
                  <a:rect l="textAreaLeft" t="textAreaTop" r="textAreaRight" b="textAreaBottom"/>
                  <a:pathLst>
                    <a:path w="21600" h="28569">
                      <a:moveTo>
                        <a:pt x="3600" y="0"/>
                      </a:moveTo>
                      <a:arcTo wR="3600" hR="3600" stAng="16200000" swAng="-5400000"/>
                      <a:lnTo>
                        <a:pt x="0" y="24969"/>
                      </a:lnTo>
                      <a:arcTo wR="3600" hR="3600" stAng="10800000" swAng="-5400000"/>
                      <a:lnTo>
                        <a:pt x="18000" y="285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d4f2"/>
                    </a:gs>
                    <a:gs pos="100000">
                      <a:srgbClr val="3ca1e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418760" y="418068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d4f2">
                        <a:alpha val="0"/>
                      </a:srgbClr>
                    </a:gs>
                    <a:gs pos="100000">
                      <a:srgbClr val="8ed8f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418760" y="229284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3eff9"/>
                    </a:gs>
                    <a:gs pos="100000">
                      <a:srgbClr val="80d4f2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377720" y="4906440"/>
                  <a:ext cx="2019600" cy="80460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3477a4">
                        <a:alpha val="50196"/>
                      </a:srgbClr>
                    </a:gs>
                    <a:gs pos="100000">
                      <a:srgbClr val="17364b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418760" y="492840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3eff9">
                        <a:alpha val="50196"/>
                      </a:srgbClr>
                    </a:gs>
                    <a:gs pos="100000">
                      <a:srgbClr val="80d4f2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2066040" y="1981080"/>
                <a:ext cx="600480" cy="594720"/>
                <a:chOff x="2066040" y="1981080"/>
                <a:chExt cx="600480" cy="5947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2066040" y="1981080"/>
                  <a:ext cx="600480" cy="5947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072160" y="1985400"/>
                  <a:ext cx="58068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079360" y="1989000"/>
                  <a:ext cx="567360" cy="56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085480" y="1994400"/>
                  <a:ext cx="539280" cy="52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117160" y="2008440"/>
                  <a:ext cx="479160" cy="42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8" name=""/>
            <p:cNvSpPr/>
            <p:nvPr/>
          </p:nvSpPr>
          <p:spPr>
            <a:xfrm>
              <a:off x="2185560" y="206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42520" y="2685600"/>
              <a:ext cx="1920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3576960" y="1981080"/>
              <a:ext cx="2025720" cy="3729960"/>
              <a:chOff x="3576960" y="1981080"/>
              <a:chExt cx="2025720" cy="372996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3576960" y="2265120"/>
                <a:ext cx="2025720" cy="3445920"/>
                <a:chOff x="3576960" y="2265120"/>
                <a:chExt cx="2025720" cy="34459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3576960" y="2265120"/>
                  <a:ext cx="2019600" cy="2641320"/>
                </a:xfrm>
                <a:custGeom>
                  <a:avLst/>
                  <a:gdLst>
                    <a:gd name="textAreaLeft" fmla="*/ 103320 w 2019600"/>
                    <a:gd name="textAreaRight" fmla="*/ 1916280 w 2019600"/>
                    <a:gd name="textAreaTop" fmla="*/ 103320 h 2641320"/>
                    <a:gd name="textAreaBottom" fmla="*/ 2538000 h 2641320"/>
                  </a:gdLst>
                  <a:ahLst/>
                  <a:rect l="textAreaLeft" t="textAreaTop" r="textAreaRight" b="textAreaBottom"/>
                  <a:pathLst>
                    <a:path w="21600" h="28248">
                      <a:moveTo>
                        <a:pt x="3782" y="0"/>
                      </a:moveTo>
                      <a:arcTo wR="3782" hR="3782" stAng="16200000" swAng="-5400000"/>
                      <a:lnTo>
                        <a:pt x="0" y="24466"/>
                      </a:lnTo>
                      <a:arcTo wR="3782" hR="3782" stAng="10800000" swAng="-5400000"/>
                      <a:lnTo>
                        <a:pt x="17818" y="28248"/>
                      </a:lnTo>
                      <a:arcTo wR="3782" hR="3782" stAng="5400000" swAng="-5400000"/>
                      <a:lnTo>
                        <a:pt x="21600" y="3782"/>
                      </a:lnTo>
                      <a:arcTo wR="3782" hR="378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3f8b4a"/>
                    </a:gs>
                    <a:gs pos="100000">
                      <a:srgbClr val="34b034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607920" y="2272320"/>
                  <a:ext cx="1959120" cy="2591280"/>
                </a:xfrm>
                <a:custGeom>
                  <a:avLst/>
                  <a:gdLst>
                    <a:gd name="textAreaLeft" fmla="*/ 95400 w 1959120"/>
                    <a:gd name="textAreaRight" fmla="*/ 1863720 w 1959120"/>
                    <a:gd name="textAreaTop" fmla="*/ 95400 h 2591280"/>
                    <a:gd name="textAreaBottom" fmla="*/ 2495880 h 2591280"/>
                  </a:gdLst>
                  <a:ahLst/>
                  <a:rect l="textAreaLeft" t="textAreaTop" r="textAreaRight" b="textAreaBottom"/>
                  <a:pathLst>
                    <a:path w="21600" h="28569">
                      <a:moveTo>
                        <a:pt x="3600" y="0"/>
                      </a:moveTo>
                      <a:arcTo wR="3600" hR="3600" stAng="16200000" swAng="-5400000"/>
                      <a:lnTo>
                        <a:pt x="0" y="24969"/>
                      </a:lnTo>
                      <a:arcTo wR="3600" hR="3600" stAng="10800000" swAng="-5400000"/>
                      <a:lnTo>
                        <a:pt x="18000" y="285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8ea91"/>
                    </a:gs>
                    <a:gs pos="100000">
                      <a:srgbClr val="21d3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624120" y="418068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8ea91">
                        <a:alpha val="0"/>
                      </a:srgbClr>
                    </a:gs>
                    <a:gs pos="100000">
                      <a:srgbClr val="95eb9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624120" y="229284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d6f7d9"/>
                    </a:gs>
                    <a:gs pos="100000">
                      <a:srgbClr val="88ea91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583080" y="4906440"/>
                  <a:ext cx="2019600" cy="80460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3477a4">
                        <a:alpha val="50196"/>
                      </a:srgbClr>
                    </a:gs>
                    <a:gs pos="100000">
                      <a:srgbClr val="17364b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624120" y="492840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4efc0">
                        <a:alpha val="50196"/>
                      </a:srgbClr>
                    </a:gs>
                    <a:gs pos="100000">
                      <a:srgbClr val="21d347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4271400" y="1981080"/>
                <a:ext cx="600480" cy="594720"/>
                <a:chOff x="4271400" y="1981080"/>
                <a:chExt cx="600480" cy="5947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4271400" y="1981080"/>
                  <a:ext cx="600480" cy="5947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277520" y="1985400"/>
                  <a:ext cx="58068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284720" y="1989000"/>
                  <a:ext cx="567360" cy="56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290840" y="1994400"/>
                  <a:ext cx="539280" cy="52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322520" y="2008440"/>
                  <a:ext cx="479160" cy="42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>
              <a:off x="4391280" y="206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47880" y="2685600"/>
              <a:ext cx="1920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5782320" y="1981080"/>
              <a:ext cx="2025720" cy="3729960"/>
              <a:chOff x="5782320" y="1981080"/>
              <a:chExt cx="2025720" cy="372996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5782320" y="2265120"/>
                <a:ext cx="2025720" cy="3445920"/>
                <a:chOff x="5782320" y="2265120"/>
                <a:chExt cx="2025720" cy="34459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5782320" y="2265120"/>
                  <a:ext cx="2019600" cy="2641320"/>
                </a:xfrm>
                <a:custGeom>
                  <a:avLst/>
                  <a:gdLst>
                    <a:gd name="textAreaLeft" fmla="*/ 103320 w 2019600"/>
                    <a:gd name="textAreaRight" fmla="*/ 1916280 w 2019600"/>
                    <a:gd name="textAreaTop" fmla="*/ 103320 h 2641320"/>
                    <a:gd name="textAreaBottom" fmla="*/ 2538000 h 2641320"/>
                  </a:gdLst>
                  <a:ahLst/>
                  <a:rect l="textAreaLeft" t="textAreaTop" r="textAreaRight" b="textAreaBottom"/>
                  <a:pathLst>
                    <a:path w="21600" h="28248">
                      <a:moveTo>
                        <a:pt x="3782" y="0"/>
                      </a:moveTo>
                      <a:arcTo wR="3782" hR="3782" stAng="16200000" swAng="-5400000"/>
                      <a:lnTo>
                        <a:pt x="0" y="24466"/>
                      </a:lnTo>
                      <a:arcTo wR="3782" hR="3782" stAng="10800000" swAng="-5400000"/>
                      <a:lnTo>
                        <a:pt x="17818" y="28248"/>
                      </a:lnTo>
                      <a:arcTo wR="3782" hR="3782" stAng="5400000" swAng="-5400000"/>
                      <a:lnTo>
                        <a:pt x="21600" y="3782"/>
                      </a:lnTo>
                      <a:arcTo wR="3782" hR="3782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f8849"/>
                    </a:gs>
                    <a:gs pos="100000">
                      <a:srgbClr val="b59f4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813280" y="2272320"/>
                  <a:ext cx="1959120" cy="2591280"/>
                </a:xfrm>
                <a:custGeom>
                  <a:avLst/>
                  <a:gdLst>
                    <a:gd name="textAreaLeft" fmla="*/ 95400 w 1959120"/>
                    <a:gd name="textAreaRight" fmla="*/ 1863720 w 1959120"/>
                    <a:gd name="textAreaTop" fmla="*/ 95400 h 2591280"/>
                    <a:gd name="textAreaBottom" fmla="*/ 2495880 h 2591280"/>
                  </a:gdLst>
                  <a:ahLst/>
                  <a:rect l="textAreaLeft" t="textAreaTop" r="textAreaRight" b="textAreaBottom"/>
                  <a:pathLst>
                    <a:path w="21600" h="28569">
                      <a:moveTo>
                        <a:pt x="3600" y="0"/>
                      </a:moveTo>
                      <a:arcTo wR="3600" hR="3600" stAng="16200000" swAng="-5400000"/>
                      <a:lnTo>
                        <a:pt x="0" y="24969"/>
                      </a:lnTo>
                      <a:arcTo wR="3600" hR="3600" stAng="10800000" swAng="-5400000"/>
                      <a:lnTo>
                        <a:pt x="18000" y="285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eaec86"/>
                    </a:gs>
                    <a:gs pos="100000">
                      <a:srgbClr val="dcce4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829480" y="418068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eaec86">
                        <a:alpha val="0"/>
                      </a:srgbClr>
                    </a:gs>
                    <a:gs pos="100000">
                      <a:srgbClr val="ebed9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5829480" y="229284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7f7d5"/>
                    </a:gs>
                    <a:gs pos="100000">
                      <a:srgbClr val="eaec8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788440" y="4906440"/>
                  <a:ext cx="2019600" cy="804600"/>
                </a:xfrm>
                <a:prstGeom prst="roundRect">
                  <a:avLst>
                    <a:gd name="adj" fmla="val 40389"/>
                  </a:avLst>
                </a:prstGeom>
                <a:gradFill rotWithShape="0">
                  <a:gsLst>
                    <a:gs pos="0">
                      <a:srgbClr val="3477a4">
                        <a:alpha val="50196"/>
                      </a:srgbClr>
                    </a:gs>
                    <a:gs pos="100000">
                      <a:srgbClr val="17364b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829480" y="4928400"/>
                  <a:ext cx="1932120" cy="65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7f7d5">
                        <a:alpha val="50196"/>
                      </a:srgbClr>
                    </a:gs>
                    <a:gs pos="100000">
                      <a:srgbClr val="eaec86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6476760" y="1981080"/>
                <a:ext cx="600480" cy="594720"/>
                <a:chOff x="6476760" y="1981080"/>
                <a:chExt cx="600480" cy="5947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6476760" y="1981080"/>
                  <a:ext cx="600480" cy="5947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482880" y="1985400"/>
                  <a:ext cx="58068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490080" y="1989000"/>
                  <a:ext cx="567360" cy="56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496200" y="1994400"/>
                  <a:ext cx="539280" cy="52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527880" y="2008440"/>
                  <a:ext cx="479160" cy="42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0" name=""/>
            <p:cNvSpPr/>
            <p:nvPr/>
          </p:nvSpPr>
          <p:spPr>
            <a:xfrm>
              <a:off x="6598440" y="206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52160" y="2685600"/>
              <a:ext cx="19234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84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721400" y="3529080"/>
            <a:ext cx="1523880" cy="2422080"/>
            <a:chOff x="4721400" y="3529080"/>
            <a:chExt cx="1523880" cy="2422080"/>
          </a:xfrm>
        </p:grpSpPr>
        <p:grpSp>
          <p:nvGrpSpPr>
            <p:cNvPr id="387" name=""/>
            <p:cNvGrpSpPr/>
            <p:nvPr/>
          </p:nvGrpSpPr>
          <p:grpSpPr>
            <a:xfrm>
              <a:off x="4721400" y="3686760"/>
              <a:ext cx="1418760" cy="2264400"/>
              <a:chOff x="4721400" y="3686760"/>
              <a:chExt cx="1418760" cy="2264400"/>
            </a:xfrm>
          </p:grpSpPr>
          <p:sp>
            <p:nvSpPr>
              <p:cNvPr id="388" name=""/>
              <p:cNvSpPr/>
              <p:nvPr/>
            </p:nvSpPr>
            <p:spPr>
              <a:xfrm rot="3876600">
                <a:off x="429372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3876600">
                <a:off x="565956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5156640" y="3529080"/>
              <a:ext cx="1088640" cy="1737720"/>
              <a:chOff x="5156640" y="3529080"/>
              <a:chExt cx="1088640" cy="1737720"/>
            </a:xfrm>
          </p:grpSpPr>
          <p:sp>
            <p:nvSpPr>
              <p:cNvPr id="391" name=""/>
              <p:cNvSpPr/>
              <p:nvPr/>
            </p:nvSpPr>
            <p:spPr>
              <a:xfrm flipV="1" rot="3876600">
                <a:off x="482832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 rot="3876600">
                <a:off x="586152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94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96680" y="277092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6680" y="2773800"/>
              <a:ext cx="11023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51400" y="2828520"/>
              <a:ext cx="99288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4466880" y="2844360"/>
              <a:ext cx="961920" cy="992520"/>
              <a:chOff x="4466880" y="2844360"/>
              <a:chExt cx="961920" cy="992520"/>
            </a:xfrm>
          </p:grpSpPr>
          <p:sp>
            <p:nvSpPr>
              <p:cNvPr id="400" name=""/>
              <p:cNvSpPr/>
              <p:nvPr/>
            </p:nvSpPr>
            <p:spPr>
              <a:xfrm>
                <a:off x="4466880" y="2844360"/>
                <a:ext cx="96192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478760" y="2849760"/>
                <a:ext cx="93888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488840" y="2859120"/>
                <a:ext cx="89280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541400" y="2884680"/>
                <a:ext cx="79344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05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06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3876600">
                <a:off x="762696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09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 rot="3876600">
                <a:off x="7828920" y="49561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17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8992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2916360" y="3529080"/>
            <a:ext cx="1523880" cy="2422080"/>
            <a:chOff x="2916360" y="3529080"/>
            <a:chExt cx="1523880" cy="2422080"/>
          </a:xfrm>
        </p:grpSpPr>
        <p:grpSp>
          <p:nvGrpSpPr>
            <p:cNvPr id="422" name=""/>
            <p:cNvGrpSpPr/>
            <p:nvPr/>
          </p:nvGrpSpPr>
          <p:grpSpPr>
            <a:xfrm>
              <a:off x="2916360" y="3686760"/>
              <a:ext cx="1418760" cy="2264400"/>
              <a:chOff x="2916360" y="3686760"/>
              <a:chExt cx="1418760" cy="2264400"/>
            </a:xfrm>
          </p:grpSpPr>
          <p:sp>
            <p:nvSpPr>
              <p:cNvPr id="423" name=""/>
              <p:cNvSpPr/>
              <p:nvPr/>
            </p:nvSpPr>
            <p:spPr>
              <a:xfrm rot="3876600">
                <a:off x="248868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3876600">
                <a:off x="38545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3351600" y="3529080"/>
              <a:ext cx="1088640" cy="1737720"/>
              <a:chOff x="3351600" y="3529080"/>
              <a:chExt cx="1088640" cy="1737720"/>
            </a:xfrm>
          </p:grpSpPr>
          <p:sp>
            <p:nvSpPr>
              <p:cNvPr id="426" name=""/>
              <p:cNvSpPr/>
              <p:nvPr/>
            </p:nvSpPr>
            <p:spPr>
              <a:xfrm flipV="1" rot="3876600">
                <a:off x="302328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 rot="3876600">
                <a:off x="4056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29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934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34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481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2663640" y="2844360"/>
              <a:ext cx="960480" cy="992520"/>
              <a:chOff x="2663640" y="2844360"/>
              <a:chExt cx="960480" cy="992520"/>
            </a:xfrm>
          </p:grpSpPr>
          <p:sp>
            <p:nvSpPr>
              <p:cNvPr id="435" name=""/>
              <p:cNvSpPr/>
              <p:nvPr/>
            </p:nvSpPr>
            <p:spPr>
              <a:xfrm>
                <a:off x="26636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755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6856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7378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40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41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3876600">
                <a:off x="2108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44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 rot="3876600">
                <a:off x="2310840" y="488952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47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45640" y="277092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5640" y="2773800"/>
              <a:ext cx="110052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00360" y="2828520"/>
              <a:ext cx="991440" cy="1022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915840" y="2844360"/>
              <a:ext cx="960480" cy="992520"/>
              <a:chOff x="915840" y="2844360"/>
              <a:chExt cx="960480" cy="992520"/>
            </a:xfrm>
          </p:grpSpPr>
          <p:sp>
            <p:nvSpPr>
              <p:cNvPr id="453" name=""/>
              <p:cNvSpPr/>
              <p:nvPr/>
            </p:nvSpPr>
            <p:spPr>
              <a:xfrm>
                <a:off x="915840" y="2844360"/>
                <a:ext cx="960480" cy="9925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27720" y="2849760"/>
                <a:ext cx="937440" cy="9680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937800" y="2859120"/>
                <a:ext cx="891360" cy="90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990000" y="2884680"/>
                <a:ext cx="792360" cy="734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101600" y="2031840"/>
            <a:ext cx="6057000" cy="407880"/>
            <a:chOff x="1101600" y="2031840"/>
            <a:chExt cx="6057000" cy="407880"/>
          </a:xfrm>
        </p:grpSpPr>
        <p:sp>
          <p:nvSpPr>
            <p:cNvPr id="466" name=""/>
            <p:cNvSpPr/>
            <p:nvPr/>
          </p:nvSpPr>
          <p:spPr>
            <a:xfrm>
              <a:off x="110160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5588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0224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92520" y="20318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0" name=""/>
            <p:cNvCxnSpPr>
              <a:stCxn id="466" idx="3"/>
              <a:endCxn id="467" idx="1"/>
            </p:cNvCxnSpPr>
            <p:nvPr/>
          </p:nvCxnSpPr>
          <p:spPr>
            <a:xfrm>
              <a:off x="1838520" y="2255400"/>
              <a:ext cx="986400" cy="1080"/>
            </a:xfrm>
            <a:prstGeom prst="straightConnector1">
              <a:avLst/>
            </a:prstGeom>
            <a:ln w="9360">
              <a:solidFill>
                <a:srgbClr val="364eb6"/>
              </a:solidFill>
              <a:miter/>
              <a:tailEnd len="med" type="triangle" w="med"/>
            </a:ln>
          </p:spPr>
        </p:cxnSp>
        <p:cxnSp>
          <p:nvCxnSpPr>
            <p:cNvPr id="471" name=""/>
            <p:cNvCxnSpPr>
              <a:stCxn id="467" idx="3"/>
              <a:endCxn id="468" idx="1"/>
            </p:cNvCxnSpPr>
            <p:nvPr/>
          </p:nvCxnSpPr>
          <p:spPr>
            <a:xfrm>
              <a:off x="3592080" y="2255400"/>
              <a:ext cx="978840" cy="1080"/>
            </a:xfrm>
            <a:prstGeom prst="straightConnector1">
              <a:avLst/>
            </a:prstGeom>
            <a:ln w="9360">
              <a:solidFill>
                <a:srgbClr val="364eb6"/>
              </a:solidFill>
              <a:miter/>
              <a:tailEnd len="med" type="triangle" w="med"/>
            </a:ln>
          </p:spPr>
        </p:cxnSp>
        <p:cxnSp>
          <p:nvCxnSpPr>
            <p:cNvPr id="472" name=""/>
            <p:cNvCxnSpPr/>
            <p:nvPr/>
          </p:nvCxnSpPr>
          <p:spPr>
            <a:xfrm>
              <a:off x="5338800" y="2260080"/>
              <a:ext cx="978480" cy="1080"/>
            </a:xfrm>
            <a:prstGeom prst="straightConnector1">
              <a:avLst/>
            </a:prstGeom>
            <a:ln w="9360">
              <a:solidFill>
                <a:srgbClr val="364eb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676520" y="1793880"/>
            <a:ext cx="5867280" cy="1301760"/>
            <a:chOff x="1676520" y="1793880"/>
            <a:chExt cx="5867280" cy="1301760"/>
          </a:xfrm>
        </p:grpSpPr>
        <p:sp>
          <p:nvSpPr>
            <p:cNvPr id="475" name=""/>
            <p:cNvSpPr/>
            <p:nvPr/>
          </p:nvSpPr>
          <p:spPr>
            <a:xfrm>
              <a:off x="1676520" y="179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1804320" y="1913400"/>
              <a:ext cx="1131120" cy="1064520"/>
              <a:chOff x="1804320" y="1913400"/>
              <a:chExt cx="1131120" cy="1064520"/>
            </a:xfrm>
          </p:grpSpPr>
          <p:sp>
            <p:nvSpPr>
              <p:cNvPr id="477" name=""/>
              <p:cNvSpPr/>
              <p:nvPr/>
            </p:nvSpPr>
            <p:spPr>
              <a:xfrm>
                <a:off x="1804320" y="191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987e3"/>
                  </a:gs>
                  <a:gs pos="100000">
                    <a:srgbClr val="325d9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874880" y="198180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bcee"/>
                  </a:gs>
                  <a:gs pos="50000">
                    <a:srgbClr val="4987e3">
                      <a:alpha val="0"/>
                    </a:srgbClr>
                  </a:gs>
                  <a:gs pos="100000">
                    <a:srgbClr val="9bbce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931040" y="22032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3090240" y="199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1676520" y="3241800"/>
            <a:ext cx="5867280" cy="1301760"/>
            <a:chOff x="1676520" y="3241800"/>
            <a:chExt cx="5867280" cy="1301760"/>
          </a:xfrm>
        </p:grpSpPr>
        <p:sp>
          <p:nvSpPr>
            <p:cNvPr id="482" name=""/>
            <p:cNvSpPr/>
            <p:nvPr/>
          </p:nvSpPr>
          <p:spPr>
            <a:xfrm>
              <a:off x="1676520" y="32418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1804320" y="3361320"/>
              <a:ext cx="1131120" cy="1064520"/>
              <a:chOff x="1804320" y="3361320"/>
              <a:chExt cx="1131120" cy="1064520"/>
            </a:xfrm>
          </p:grpSpPr>
          <p:sp>
            <p:nvSpPr>
              <p:cNvPr id="484" name=""/>
              <p:cNvSpPr/>
              <p:nvPr/>
            </p:nvSpPr>
            <p:spPr>
              <a:xfrm>
                <a:off x="1804320" y="33613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cbac9"/>
                  </a:gs>
                  <a:gs pos="100000">
                    <a:srgbClr val="36a1b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874880" y="342972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6a1b6">
                      <a:alpha val="0"/>
                    </a:srgbClr>
                  </a:gs>
                  <a:gs pos="100000">
                    <a:srgbClr val="a9d6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931040" y="36522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3090240" y="34200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1676520" y="4718160"/>
            <a:ext cx="5867280" cy="1301760"/>
            <a:chOff x="1676520" y="4718160"/>
            <a:chExt cx="5867280" cy="1301760"/>
          </a:xfrm>
        </p:grpSpPr>
        <p:sp>
          <p:nvSpPr>
            <p:cNvPr id="489" name=""/>
            <p:cNvSpPr/>
            <p:nvPr/>
          </p:nvSpPr>
          <p:spPr>
            <a:xfrm>
              <a:off x="1676520" y="471816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1804320" y="4837680"/>
              <a:ext cx="1131120" cy="1064520"/>
              <a:chOff x="1804320" y="4837680"/>
              <a:chExt cx="1131120" cy="1064520"/>
            </a:xfrm>
          </p:grpSpPr>
          <p:sp>
            <p:nvSpPr>
              <p:cNvPr id="491" name=""/>
              <p:cNvSpPr/>
              <p:nvPr/>
            </p:nvSpPr>
            <p:spPr>
              <a:xfrm>
                <a:off x="1804320" y="483768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fda9f"/>
                  </a:gs>
                  <a:gs pos="100000">
                    <a:srgbClr val="9cc76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874880" y="4906080"/>
                <a:ext cx="563760" cy="5320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c769">
                      <a:alpha val="0"/>
                    </a:srgbClr>
                  </a:gs>
                  <a:gs pos="100000">
                    <a:srgbClr val="cee2b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931040" y="51285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3090240" y="489636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cc769"/>
              </a:gs>
              <a:gs pos="100000">
                <a:srgbClr val="475b3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4987e3"/>
              </a:gs>
              <a:gs pos="100000">
                <a:srgbClr val="213e6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d9520f"/>
              </a:gs>
              <a:gs pos="100000">
                <a:srgbClr val="64250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36a1b6"/>
              </a:gs>
              <a:gs pos="100000">
                <a:srgbClr val="184a5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049400" y="2438280"/>
          <a:ext cx="7121520" cy="2911320"/>
        </p:xfrm>
        <a:graphic>
          <a:graphicData uri="http://schemas.openxmlformats.org/drawingml/2006/table">
            <a:tbl>
              <a:tblPr/>
              <a:tblGrid>
                <a:gridCol w="1606320"/>
                <a:gridCol w="1121040"/>
                <a:gridCol w="1098360"/>
                <a:gridCol w="1095480"/>
                <a:gridCol w="1104840"/>
                <a:gridCol w="1095480"/>
              </a:tblGrid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987e3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64eb6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362320" y="60948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824040" y="732600"/>
            <a:ext cx="7380720" cy="5582160"/>
            <a:chOff x="824040" y="732600"/>
            <a:chExt cx="7380720" cy="5582160"/>
          </a:xfrm>
        </p:grpSpPr>
        <p:sp>
          <p:nvSpPr>
            <p:cNvPr id="516" name=""/>
            <p:cNvSpPr/>
            <p:nvPr/>
          </p:nvSpPr>
          <p:spPr>
            <a:xfrm>
              <a:off x="2362320" y="45194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121212">
                    <a:alpha val="0"/>
                  </a:srgbClr>
                </a:gs>
                <a:gs pos="100000">
                  <a:srgbClr val="292929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601600">
              <a:off x="1672920" y="24084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4b4b4b"/>
                </a:gs>
                <a:gs pos="50000">
                  <a:srgbClr val="c0c0c0"/>
                </a:gs>
                <a:gs pos="100000">
                  <a:srgbClr val="4b4b4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0601600">
              <a:off x="1692000" y="22446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20601600">
              <a:off x="1610280" y="2229840"/>
              <a:ext cx="5698440" cy="292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78bfcd"/>
                </a:gs>
                <a:gs pos="100000">
                  <a:srgbClr val="36a1b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 rot="20602200">
              <a:off x="1658520" y="22298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2c5189"/>
                </a:gs>
                <a:gs pos="100000">
                  <a:srgbClr val="4987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0601600">
              <a:off x="1616400" y="22424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1c285f"/>
                </a:gs>
                <a:gs pos="100000">
                  <a:srgbClr val="364eb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rot="20602200">
              <a:off x="1626480" y="22230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752c08"/>
                </a:gs>
                <a:gs pos="100000">
                  <a:srgbClr val="d9520f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50360" y="2419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824040" y="732600"/>
              <a:ext cx="7380720" cy="5582160"/>
              <a:chOff x="824040" y="732600"/>
              <a:chExt cx="7380720" cy="5582160"/>
            </a:xfrm>
          </p:grpSpPr>
          <p:sp>
            <p:nvSpPr>
              <p:cNvPr id="528" name=""/>
              <p:cNvSpPr/>
              <p:nvPr/>
            </p:nvSpPr>
            <p:spPr>
              <a:xfrm>
                <a:off x="5668920" y="36766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cc769"/>
                  </a:gs>
                  <a:gs pos="100000">
                    <a:srgbClr val="5e783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20539200">
                <a:off x="1242360" y="1636920"/>
                <a:ext cx="654372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475b30"/>
                  </a:gs>
                  <a:gs pos="100000">
                    <a:srgbClr val="9cc769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803840" y="41529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5b30"/>
                  </a:gs>
                  <a:gs pos="100000">
                    <a:srgbClr val="9cc76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574240" y="39434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6a1b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01600">
              <a:off x="3257640" y="32097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05120" y="25146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4987e3"/>
              </a:gs>
              <a:gs pos="100000">
                <a:srgbClr val="b6cff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362320" y="1828800"/>
            <a:ext cx="45720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4eb6"/>
              </a:gs>
              <a:gs pos="50000">
                <a:srgbClr val="7d8ccf"/>
              </a:gs>
              <a:gs pos="100000">
                <a:srgbClr val="364eb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656160" y="31240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914400" y="4387680"/>
            <a:ext cx="1485720" cy="1989000"/>
            <a:chOff x="914400" y="4387680"/>
            <a:chExt cx="1485720" cy="1989000"/>
          </a:xfrm>
        </p:grpSpPr>
        <p:grpSp>
          <p:nvGrpSpPr>
            <p:cNvPr id="540" name=""/>
            <p:cNvGrpSpPr/>
            <p:nvPr/>
          </p:nvGrpSpPr>
          <p:grpSpPr>
            <a:xfrm>
              <a:off x="914400" y="4387680"/>
              <a:ext cx="1485720" cy="1514520"/>
              <a:chOff x="914400" y="4387680"/>
              <a:chExt cx="1485720" cy="151452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914400" y="4387680"/>
                <a:ext cx="1485720" cy="1514520"/>
                <a:chOff x="914400" y="4387680"/>
                <a:chExt cx="1485720" cy="15145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914400" y="4387680"/>
                  <a:ext cx="148572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9520f"/>
                    </a:gs>
                    <a:gs pos="100000">
                      <a:srgbClr val="89330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083960" y="44125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952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>
                <a:off x="1072080" y="51588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1066680" y="5987880"/>
              <a:ext cx="1206360" cy="3888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781680" y="4343400"/>
            <a:ext cx="1524240" cy="2066760"/>
            <a:chOff x="6781680" y="4343400"/>
            <a:chExt cx="1524240" cy="2066760"/>
          </a:xfrm>
        </p:grpSpPr>
        <p:grpSp>
          <p:nvGrpSpPr>
            <p:cNvPr id="547" name=""/>
            <p:cNvGrpSpPr/>
            <p:nvPr/>
          </p:nvGrpSpPr>
          <p:grpSpPr>
            <a:xfrm>
              <a:off x="6781680" y="4343400"/>
              <a:ext cx="1524240" cy="1531800"/>
              <a:chOff x="6781680" y="4343400"/>
              <a:chExt cx="1524240" cy="1531800"/>
            </a:xfrm>
          </p:grpSpPr>
          <p:grpSp>
            <p:nvGrpSpPr>
              <p:cNvPr id="548" name=""/>
              <p:cNvGrpSpPr/>
              <p:nvPr/>
            </p:nvGrpSpPr>
            <p:grpSpPr>
              <a:xfrm>
                <a:off x="6781680" y="4343400"/>
                <a:ext cx="1524240" cy="1531800"/>
                <a:chOff x="6781680" y="4343400"/>
                <a:chExt cx="1524240" cy="153180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781680" y="4343400"/>
                  <a:ext cx="152424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c769"/>
                    </a:gs>
                    <a:gs pos="100000">
                      <a:srgbClr val="25301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955920" y="436860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cc7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6924960" y="50572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6824520" y="59227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819520" y="4387680"/>
            <a:ext cx="1523880" cy="2089080"/>
            <a:chOff x="2819520" y="4387680"/>
            <a:chExt cx="1523880" cy="2089080"/>
          </a:xfrm>
        </p:grpSpPr>
        <p:grpSp>
          <p:nvGrpSpPr>
            <p:cNvPr id="554" name=""/>
            <p:cNvGrpSpPr/>
            <p:nvPr/>
          </p:nvGrpSpPr>
          <p:grpSpPr>
            <a:xfrm>
              <a:off x="2819520" y="4387680"/>
              <a:ext cx="1523880" cy="1520640"/>
              <a:chOff x="2819520" y="4387680"/>
              <a:chExt cx="1523880" cy="1520640"/>
            </a:xfrm>
          </p:grpSpPr>
          <p:sp>
            <p:nvSpPr>
              <p:cNvPr id="555" name=""/>
              <p:cNvSpPr/>
              <p:nvPr/>
            </p:nvSpPr>
            <p:spPr>
              <a:xfrm>
                <a:off x="2819520" y="438768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b52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993760" y="44128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6a1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2895480" y="511776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19520" y="598788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876920" y="4343400"/>
            <a:ext cx="1523880" cy="2089080"/>
            <a:chOff x="4876920" y="4343400"/>
            <a:chExt cx="1523880" cy="2089080"/>
          </a:xfrm>
        </p:grpSpPr>
        <p:grpSp>
          <p:nvGrpSpPr>
            <p:cNvPr id="560" name=""/>
            <p:cNvGrpSpPr/>
            <p:nvPr/>
          </p:nvGrpSpPr>
          <p:grpSpPr>
            <a:xfrm>
              <a:off x="4876920" y="4343400"/>
              <a:ext cx="1523880" cy="1520640"/>
              <a:chOff x="4876920" y="4343400"/>
              <a:chExt cx="1523880" cy="1520640"/>
            </a:xfrm>
          </p:grpSpPr>
          <p:sp>
            <p:nvSpPr>
              <p:cNvPr id="561" name=""/>
              <p:cNvSpPr/>
              <p:nvPr/>
            </p:nvSpPr>
            <p:spPr>
              <a:xfrm>
                <a:off x="4876920" y="43434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4987e3"/>
                  </a:gs>
                  <a:gs pos="100000">
                    <a:srgbClr val="2545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051160" y="436860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4987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4952880" y="50734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76920" y="59436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b4b4b4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88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9520f"/>
                </a:gs>
                <a:gs pos="50000">
                  <a:srgbClr val="f5d9cb"/>
                </a:gs>
                <a:gs pos="100000">
                  <a:srgbClr val="d9520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d9520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93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d7e4f8"/>
                </a:gs>
                <a:gs pos="100000">
                  <a:srgbClr val="4987e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4987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98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64eb6"/>
                </a:gs>
                <a:gs pos="50000">
                  <a:srgbClr val="d3d8ee"/>
                </a:gs>
                <a:gs pos="100000">
                  <a:srgbClr val="364eb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364eb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03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e9f2de"/>
                </a:gs>
                <a:gs pos="100000">
                  <a:srgbClr val="9cc76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cc76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609480" y="1481040"/>
            <a:ext cx="4800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64eb6"/>
                    </a:gs>
                    <a:gs pos="100000">
                      <a:srgbClr val="4987e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64eb6"/>
                  </a:gs>
                  <a:gs pos="100000">
                    <a:srgbClr val="4987e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3080" y="1889280"/>
            <a:ext cx="734544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4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4eb6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4987e3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364eb6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364eb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Image information in product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itle Image – 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3367080"/>
            <a:ext cx="205740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ld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one of aligned company with Microsoft Ltd, and we develop and provide the design templates for Office 97, 2000, and X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59066"/>
              </a:gs>
              <a:gs pos="100000">
                <a:srgbClr val="d952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ee0e6"/>
              </a:gs>
              <a:gs pos="100000">
                <a:srgbClr val="36a1b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17" name=""/>
            <p:cNvGrpSpPr/>
            <p:nvPr/>
          </p:nvGrpSpPr>
          <p:grpSpPr>
            <a:xfrm>
              <a:off x="3048120" y="1590480"/>
              <a:ext cx="2998440" cy="1458360"/>
              <a:chOff x="3048120" y="1590480"/>
              <a:chExt cx="2998440" cy="1458360"/>
            </a:xfrm>
          </p:grpSpPr>
          <p:sp>
            <p:nvSpPr>
              <p:cNvPr id="118" name=""/>
              <p:cNvSpPr/>
              <p:nvPr/>
            </p:nvSpPr>
            <p:spPr>
              <a:xfrm>
                <a:off x="3080880" y="163692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1a4d58"/>
                  </a:gs>
                  <a:gs pos="100000">
                    <a:srgbClr val="36a1b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48120" y="159048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a5d4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18960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13e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24520" y="145548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bed4f4"/>
                </a:gs>
                <a:gs pos="100000">
                  <a:srgbClr val="4987e3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51520" y="146844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48235"/>
                  </a:srgbClr>
                </a:gs>
                <a:gs pos="100000">
                  <a:srgbClr val="396ab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83280" y="149544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62120" y="1722240"/>
            <a:ext cx="6956280" cy="4583520"/>
            <a:chOff x="762120" y="1722240"/>
            <a:chExt cx="6956280" cy="4583520"/>
          </a:xfrm>
        </p:grpSpPr>
        <p:sp>
          <p:nvSpPr>
            <p:cNvPr id="127" name="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237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62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544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7724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1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44" name="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64e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64e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84a53"/>
                </a:gs>
                <a:gs pos="50000">
                  <a:srgbClr val="36a1b6"/>
                </a:gs>
                <a:gs pos="100000">
                  <a:srgbClr val="184a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64" name=""/>
            <p:cNvGrpSpPr/>
            <p:nvPr/>
          </p:nvGrpSpPr>
          <p:grpSpPr>
            <a:xfrm>
              <a:off x="3008520" y="2209680"/>
              <a:ext cx="2900520" cy="2705400"/>
              <a:chOff x="3008520" y="2209680"/>
              <a:chExt cx="2900520" cy="2705400"/>
            </a:xfrm>
          </p:grpSpPr>
          <p:sp>
            <p:nvSpPr>
              <p:cNvPr id="165" name=""/>
              <p:cNvSpPr/>
              <p:nvPr/>
            </p:nvSpPr>
            <p:spPr>
              <a:xfrm flipH="1" rot="16200000">
                <a:off x="2926800" y="3259800"/>
                <a:ext cx="45900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b8e1"/>
                  </a:gs>
                  <a:gs pos="100000">
                    <a:srgbClr val="364e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400000">
                <a:off x="5531040" y="320904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b8e1"/>
                  </a:gs>
                  <a:gs pos="100000">
                    <a:srgbClr val="364eb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rot="10800000">
                <a:off x="423756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fb8e1"/>
                  </a:gs>
                  <a:gs pos="100000">
                    <a:srgbClr val="364eb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0552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43836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6a1b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55932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1d5662"/>
                  </a:gs>
                  <a:gs pos="50000">
                    <a:srgbClr val="36a1b6"/>
                  </a:gs>
                  <a:gs pos="100000">
                    <a:srgbClr val="1d566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7884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364e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03" name=""/>
            <p:cNvSpPr/>
            <p:nvPr/>
          </p:nvSpPr>
          <p:spPr>
            <a:xfrm>
              <a:off x="7834320" y="2286000"/>
              <a:ext cx="5756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42506"/>
                </a:gs>
                <a:gs pos="50000">
                  <a:srgbClr val="d9520f"/>
                </a:gs>
                <a:gs pos="100000">
                  <a:srgbClr val="6425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952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54720" y="3117960"/>
              <a:ext cx="57600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84a53"/>
                </a:gs>
                <a:gs pos="50000">
                  <a:srgbClr val="36a1b6"/>
                </a:gs>
                <a:gs pos="100000">
                  <a:srgbClr val="184a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73680" y="394992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75b30"/>
                </a:gs>
                <a:gs pos="50000">
                  <a:srgbClr val="9cc769"/>
                </a:gs>
                <a:gs pos="100000">
                  <a:srgbClr val="475b3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95880" y="4783320"/>
              <a:ext cx="5774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13e68"/>
                </a:gs>
                <a:gs pos="50000">
                  <a:srgbClr val="4987e3"/>
                </a:gs>
                <a:gs pos="100000">
                  <a:srgbClr val="213e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92360" y="4788000"/>
              <a:ext cx="40809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84560" y="2440080"/>
              <a:ext cx="183780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79960" y="2827440"/>
              <a:ext cx="2766600" cy="304920"/>
            </a:xfrm>
            <a:prstGeom prst="rect">
              <a:avLst/>
            </a:prstGeom>
            <a:gradFill rotWithShape="0">
              <a:gsLst>
                <a:gs pos="0">
                  <a:srgbClr val="9c3b0a"/>
                </a:gs>
                <a:gs pos="50000">
                  <a:srgbClr val="d9520f"/>
                </a:gs>
                <a:gs pos="100000">
                  <a:srgbClr val="9c3b0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44760" y="3657600"/>
              <a:ext cx="3016080" cy="298440"/>
            </a:xfrm>
            <a:prstGeom prst="rect">
              <a:avLst/>
            </a:prstGeom>
            <a:gradFill rotWithShape="0">
              <a:gsLst>
                <a:gs pos="0">
                  <a:srgbClr val="277483"/>
                </a:gs>
                <a:gs pos="50000">
                  <a:srgbClr val="36a1b6"/>
                </a:gs>
                <a:gs pos="100000">
                  <a:srgbClr val="2774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19280" y="3949920"/>
              <a:ext cx="38336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cc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708f4b"/>
                </a:gs>
                <a:gs pos="50000">
                  <a:srgbClr val="9cc769"/>
                </a:gs>
                <a:gs pos="100000">
                  <a:srgbClr val="708f4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90920" y="532944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461a4"/>
                </a:gs>
                <a:gs pos="50000">
                  <a:srgbClr val="4987e3"/>
                </a:gs>
                <a:gs pos="100000">
                  <a:srgbClr val="3461a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4987e3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e3855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6a1b6"/>
              </a:gs>
              <a:gs pos="100000">
                <a:srgbClr val="72bcc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08:08:48Z</dcterms:created>
  <dc:creator>Sung Ha, Park</dc:creator>
  <dc:description/>
  <dc:language>en-US</dc:language>
  <cp:lastModifiedBy>雨林木风</cp:lastModifiedBy>
  <dcterms:modified xsi:type="dcterms:W3CDTF">2009-11-30T09:33:07Z</dcterms:modified>
  <cp:revision>3</cp:revision>
  <dc:subject/>
  <dc:title>PowerPoint Template</dc:title>
</cp:coreProperties>
</file>