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87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240" y="1523520"/>
            <a:ext cx="7543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371240" y="4111200"/>
            <a:ext cx="7543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87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240" y="1523520"/>
            <a:ext cx="36813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36920" y="1523520"/>
            <a:ext cx="36813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71240" y="4111200"/>
            <a:ext cx="36813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236920" y="4111200"/>
            <a:ext cx="36813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87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240" y="1523520"/>
            <a:ext cx="24289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921840" y="1523520"/>
            <a:ext cx="24289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472800" y="1523520"/>
            <a:ext cx="24289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371240" y="4111200"/>
            <a:ext cx="24289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921840" y="4111200"/>
            <a:ext cx="24289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472800" y="4111200"/>
            <a:ext cx="24289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87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371240" y="1523520"/>
            <a:ext cx="754380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87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71240" y="1523520"/>
            <a:ext cx="7543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87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371240" y="1523520"/>
            <a:ext cx="36813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236920" y="1523520"/>
            <a:ext cx="36813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87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371240" y="304560"/>
            <a:ext cx="7543800" cy="405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87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240" y="1523520"/>
            <a:ext cx="36813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236920" y="1523520"/>
            <a:ext cx="36813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371240" y="4111200"/>
            <a:ext cx="36813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87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371240" y="1523520"/>
            <a:ext cx="754380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87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371240" y="1523520"/>
            <a:ext cx="36813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236920" y="1523520"/>
            <a:ext cx="36813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236920" y="4111200"/>
            <a:ext cx="36813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87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71240" y="1523520"/>
            <a:ext cx="36813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236920" y="1523520"/>
            <a:ext cx="36813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371240" y="4111200"/>
            <a:ext cx="7543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87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71240" y="1523520"/>
            <a:ext cx="7543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371240" y="4111200"/>
            <a:ext cx="7543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87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240" y="1523520"/>
            <a:ext cx="36813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236920" y="1523520"/>
            <a:ext cx="36813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371240" y="4111200"/>
            <a:ext cx="36813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5236920" y="4111200"/>
            <a:ext cx="36813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87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1240" y="1523520"/>
            <a:ext cx="24289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921840" y="1523520"/>
            <a:ext cx="24289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472800" y="1523520"/>
            <a:ext cx="24289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371240" y="4111200"/>
            <a:ext cx="24289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921840" y="4111200"/>
            <a:ext cx="24289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472800" y="4111200"/>
            <a:ext cx="24289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87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371240" y="1523520"/>
            <a:ext cx="7543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87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371240" y="1523520"/>
            <a:ext cx="36813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236920" y="1523520"/>
            <a:ext cx="36813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87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371240" y="304560"/>
            <a:ext cx="7543800" cy="405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87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71240" y="1523520"/>
            <a:ext cx="36813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236920" y="1523520"/>
            <a:ext cx="36813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371240" y="4111200"/>
            <a:ext cx="36813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87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240" y="1523520"/>
            <a:ext cx="36813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36920" y="1523520"/>
            <a:ext cx="36813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236920" y="4111200"/>
            <a:ext cx="36813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87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240" y="1523520"/>
            <a:ext cx="36813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36920" y="1523520"/>
            <a:ext cx="36813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371240" y="4111200"/>
            <a:ext cx="7543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87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71240" y="1523520"/>
            <a:ext cx="7543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6699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6699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99840" y="3429000"/>
            <a:ext cx="670572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6699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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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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6699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6699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599840" y="3429000"/>
            <a:ext cx="670572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6699"/>
                </a:solidFill>
                <a:latin typeface="Arial"/>
              </a:rPr>
              <a:t>Your Headline Here</a:t>
            </a:r>
            <a:r>
              <a:rPr b="0" lang="en-GB" sz="4000" spc="-1" strike="noStrike">
                <a:solidFill>
                  <a:srgbClr val="336699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599840" y="4266720"/>
            <a:ext cx="6705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6699"/>
                </a:solidFill>
                <a:latin typeface="Arial"/>
              </a:rPr>
              <a:t>Subtitle Here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87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71240" y="1523520"/>
            <a:ext cx="7543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1T04:34:32Z</dcterms:created>
  <dc:creator>Selma</dc:creator>
  <dc:description/>
  <dc:language>en-US</dc:language>
  <cp:lastModifiedBy>Billgates</cp:lastModifiedBy>
  <dcterms:modified xsi:type="dcterms:W3CDTF">2005-06-11T02:40:06Z</dcterms:modified>
  <cp:revision>3</cp:revision>
  <dc:subject/>
  <dc:title>Your Headline Here </dc:title>
</cp:coreProperties>
</file>