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5BD-874F-4691-8260-745563101E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155-DD7A-41F0-A0A8-6CF0C42217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438-E511-441F-8F9A-A8BCBE9C01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00A-FC2F-4D29-B805-C9B9A9BCCB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DAE-28E5-48F9-B418-75E1C238A6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8B9-C399-4FDD-8082-590A134A29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6D8-7941-4335-8F86-4636AE376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9F4-E7CA-4851-9454-B9D339DCAB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D6E-D038-4886-AA82-7BBDD3EF95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FCF-E096-4312-8900-E730FFD9B4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F64-C031-4640-8807-26D0F59147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D73-58FC-497C-AA17-9E75C21949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740560" cy="927000"/>
          </a:xfrm>
          <a:prstGeom prst="rect">
            <a:avLst/>
          </a:prstGeom>
          <a:solidFill>
            <a:srgbClr val="bc9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566040"/>
            <a:ext cx="9144000" cy="291960"/>
            <a:chOff x="0" y="6566040"/>
            <a:chExt cx="9144000" cy="291960"/>
          </a:xfrm>
        </p:grpSpPr>
        <p:sp>
          <p:nvSpPr>
            <p:cNvPr id="2" name="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5360" y="6566040"/>
              <a:ext cx="8204040" cy="291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34560" y="656604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6248160" y="65401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0" y="0"/>
            <a:ext cx="6858000" cy="927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bc9a0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040600" y="50760"/>
            <a:ext cx="1103400" cy="1087560"/>
            <a:chOff x="8040600" y="50760"/>
            <a:chExt cx="1103400" cy="1087560"/>
          </a:xfrm>
        </p:grpSpPr>
        <p:sp>
          <p:nvSpPr>
            <p:cNvPr id="8" name=""/>
            <p:cNvSpPr/>
            <p:nvPr/>
          </p:nvSpPr>
          <p:spPr>
            <a:xfrm>
              <a:off x="8040600" y="50760"/>
              <a:ext cx="688320" cy="464040"/>
            </a:xfrm>
            <a:custGeom>
              <a:avLst/>
              <a:gdLst/>
              <a:ahLst/>
              <a:rect l="l" t="t" r="r" b="b"/>
              <a:pathLst>
                <a:path w="1276" h="860">
                  <a:moveTo>
                    <a:pt x="504" y="860"/>
                  </a:moveTo>
                  <a:lnTo>
                    <a:pt x="1276" y="512"/>
                  </a:lnTo>
                  <a:lnTo>
                    <a:pt x="736" y="0"/>
                  </a:lnTo>
                  <a:lnTo>
                    <a:pt x="0" y="344"/>
                  </a:lnTo>
                  <a:lnTo>
                    <a:pt x="504" y="860"/>
                  </a:lnTo>
                  <a:close/>
                </a:path>
              </a:pathLst>
            </a:cu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08080" y="324360"/>
              <a:ext cx="835920" cy="389160"/>
            </a:xfrm>
            <a:custGeom>
              <a:avLst/>
              <a:gdLst/>
              <a:ahLst/>
              <a:rect l="l" t="t" r="r" b="b"/>
              <a:pathLst>
                <a:path w="1056" h="480">
                  <a:moveTo>
                    <a:pt x="532" y="0"/>
                  </a:moveTo>
                  <a:lnTo>
                    <a:pt x="1056" y="236"/>
                  </a:lnTo>
                  <a:lnTo>
                    <a:pt x="532" y="480"/>
                  </a:lnTo>
                  <a:lnTo>
                    <a:pt x="0" y="236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65400" y="568440"/>
              <a:ext cx="522360" cy="522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726040" y="513000"/>
              <a:ext cx="41652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310960" y="513000"/>
              <a:ext cx="41688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f7dd6d"/>
                </a:gs>
                <a:gs pos="100000">
                  <a:srgbClr val="7165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8434440" y="298440"/>
            <a:ext cx="264960" cy="264960"/>
            <a:chOff x="8434440" y="298440"/>
            <a:chExt cx="264960" cy="264960"/>
          </a:xfrm>
        </p:grpSpPr>
        <p:sp>
          <p:nvSpPr>
            <p:cNvPr id="14" name=""/>
            <p:cNvSpPr/>
            <p:nvPr/>
          </p:nvSpPr>
          <p:spPr>
            <a:xfrm>
              <a:off x="8434440" y="298440"/>
              <a:ext cx="264960" cy="2649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07520" y="383760"/>
              <a:ext cx="146520" cy="14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9033200">
              <a:off x="8456400" y="338760"/>
              <a:ext cx="111600" cy="6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8728200" y="12600"/>
            <a:ext cx="390240" cy="390600"/>
            <a:chOff x="8728200" y="12600"/>
            <a:chExt cx="390240" cy="390600"/>
          </a:xfrm>
        </p:grpSpPr>
        <p:sp>
          <p:nvSpPr>
            <p:cNvPr id="18" name=""/>
            <p:cNvSpPr/>
            <p:nvPr/>
          </p:nvSpPr>
          <p:spPr>
            <a:xfrm>
              <a:off x="8728200" y="12600"/>
              <a:ext cx="390240" cy="39060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35480" y="13896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033200">
              <a:off x="8760960" y="72720"/>
              <a:ext cx="16380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6f0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bc9a0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08240" y="469800"/>
            <a:ext cx="6032520" cy="6032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7dd6d"/>
                </a:solidFill>
                <a:latin typeface="Verdana"/>
                <a:ea typeface="굴림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Num" idx="3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CF83-4B22-4371-A2FB-5E2A3D67DCC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543480"/>
            <a:ext cx="9144000" cy="33145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79640" y="4373640"/>
            <a:ext cx="3432240" cy="2014560"/>
          </a:xfrm>
          <a:prstGeom prst="irregularSeal1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17600" y="2077920"/>
            <a:ext cx="2365560" cy="1595520"/>
          </a:xfrm>
          <a:custGeom>
            <a:avLst/>
            <a:gdLst/>
            <a:ahLst/>
            <a:rect l="l" t="t" r="r" b="b"/>
            <a:pathLst>
              <a:path w="1276" h="860">
                <a:moveTo>
                  <a:pt x="504" y="860"/>
                </a:moveTo>
                <a:lnTo>
                  <a:pt x="1276" y="512"/>
                </a:lnTo>
                <a:lnTo>
                  <a:pt x="736" y="0"/>
                </a:lnTo>
                <a:lnTo>
                  <a:pt x="0" y="344"/>
                </a:lnTo>
                <a:lnTo>
                  <a:pt x="504" y="860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7040" y="3019320"/>
            <a:ext cx="2873160" cy="133848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532" y="0"/>
                </a:moveTo>
                <a:lnTo>
                  <a:pt x="1056" y="236"/>
                </a:lnTo>
                <a:lnTo>
                  <a:pt x="532" y="480"/>
                </a:lnTo>
                <a:lnTo>
                  <a:pt x="0" y="236"/>
                </a:lnTo>
                <a:lnTo>
                  <a:pt x="53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51360" y="2408040"/>
            <a:ext cx="1741680" cy="1757160"/>
          </a:xfrm>
          <a:prstGeom prst="line">
            <a:avLst/>
          </a:prstGeom>
          <a:ln w="7632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448000">
            <a:off x="4230360" y="1950120"/>
            <a:ext cx="2469960" cy="451080"/>
          </a:xfrm>
          <a:prstGeom prst="rightArrow">
            <a:avLst>
              <a:gd name="adj1" fmla="val 29491"/>
              <a:gd name="adj2" fmla="val 136891"/>
            </a:avLst>
          </a:prstGeom>
          <a:gradFill rotWithShape="0">
            <a:gsLst>
              <a:gs pos="0">
                <a:srgbClr val="f7dd6d"/>
              </a:gs>
              <a:gs pos="100000">
                <a:srgbClr val="000099"/>
              </a:gs>
            </a:gsLst>
            <a:lin ang="149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4136400">
            <a:off x="1589040" y="2820600"/>
            <a:ext cx="4013280" cy="412560"/>
          </a:xfrm>
          <a:custGeom>
            <a:avLst/>
            <a:gdLst>
              <a:gd name="textAreaLeft" fmla="*/ 802440 w 4013280"/>
              <a:gd name="textAreaRight" fmla="*/ 4816080 w 4013280"/>
              <a:gd name="textAreaTop" fmla="*/ 170280 h 412560"/>
              <a:gd name="textAreaBottom" fmla="*/ 242280 h 41256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896f0f"/>
              </a:gs>
            </a:gsLst>
            <a:lin ang="66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916600">
            <a:off x="1654200" y="2974680"/>
            <a:ext cx="2941560" cy="519120"/>
          </a:xfrm>
          <a:custGeom>
            <a:avLst/>
            <a:gdLst>
              <a:gd name="textAreaLeft" fmla="*/ 588240 w 2941560"/>
              <a:gd name="textAreaRight" fmla="*/ 3530160 w 2941560"/>
              <a:gd name="textAreaTop" fmla="*/ 214200 h 519120"/>
              <a:gd name="textAreaBottom" fmla="*/ 304920 h 51912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7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8120" y="3857760"/>
            <a:ext cx="1795680" cy="17953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824280" y="2800440"/>
            <a:ext cx="844560" cy="844560"/>
            <a:chOff x="3824280" y="2800440"/>
            <a:chExt cx="844560" cy="844560"/>
          </a:xfrm>
        </p:grpSpPr>
        <p:sp>
          <p:nvSpPr>
            <p:cNvPr id="72" name=""/>
            <p:cNvSpPr/>
            <p:nvPr/>
          </p:nvSpPr>
          <p:spPr>
            <a:xfrm>
              <a:off x="3824280" y="2800440"/>
              <a:ext cx="844560" cy="8445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57200" y="3072240"/>
              <a:ext cx="467280" cy="467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9033200">
              <a:off x="3894480" y="2930400"/>
              <a:ext cx="355320" cy="19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V="1" rot="19657200">
            <a:off x="3371760" y="3762360"/>
            <a:ext cx="2024280" cy="759240"/>
          </a:xfrm>
          <a:custGeom>
            <a:avLst/>
            <a:gdLst>
              <a:gd name="textAreaLeft" fmla="*/ 354240 w 2024280"/>
              <a:gd name="textAreaRight" fmla="*/ 1534320 w 2024280"/>
              <a:gd name="textAreaTop" fmla="*/ 101520 h 759240"/>
              <a:gd name="textAreaBottom" fmla="*/ 657720 h 75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2589" y="0"/>
                </a:lnTo>
                <a:arcTo wR="7561" hR="21600" stAng="-5400000" swAng="2682865"/>
                <a:lnTo>
                  <a:pt x="21168" y="14400"/>
                </a:lnTo>
                <a:lnTo>
                  <a:pt x="17636" y="21600"/>
                </a:lnTo>
                <a:lnTo>
                  <a:pt x="13240" y="14400"/>
                </a:lnTo>
                <a:lnTo>
                  <a:pt x="14690" y="14400"/>
                </a:lnTo>
                <a:arcTo wR="7561" hR="21600" stAng="-2717135" swAng="-2260745"/>
                <a:lnTo>
                  <a:pt x="10075" y="1229"/>
                </a:lnTo>
                <a:arcTo wR="7561" hR="21600" stAng="-5822119" swAng="-4977881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422119"/>
                <a:lnTo>
                  <a:pt x="10075" y="1229"/>
                </a:lnTo>
                <a:arcTo wR="7561" hR="21600" stAng="-5822119" swAng="-4977881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34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081760" y="2114640"/>
            <a:ext cx="1187280" cy="1187280"/>
            <a:chOff x="5081760" y="2114640"/>
            <a:chExt cx="1187280" cy="1187280"/>
          </a:xfrm>
        </p:grpSpPr>
        <p:sp>
          <p:nvSpPr>
            <p:cNvPr id="77" name=""/>
            <p:cNvSpPr/>
            <p:nvPr/>
          </p:nvSpPr>
          <p:spPr>
            <a:xfrm>
              <a:off x="5081760" y="2114640"/>
              <a:ext cx="1187280" cy="118728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08640" y="2498760"/>
              <a:ext cx="657360" cy="6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9033200">
              <a:off x="5181120" y="2298240"/>
              <a:ext cx="498600" cy="27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470400" y="230040"/>
            <a:ext cx="1949400" cy="1949760"/>
            <a:chOff x="3470400" y="230040"/>
            <a:chExt cx="1949400" cy="1949760"/>
          </a:xfrm>
        </p:grpSpPr>
        <p:sp>
          <p:nvSpPr>
            <p:cNvPr id="81" name=""/>
            <p:cNvSpPr/>
            <p:nvPr/>
          </p:nvSpPr>
          <p:spPr>
            <a:xfrm>
              <a:off x="3470400" y="230040"/>
              <a:ext cx="1949400" cy="1949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5960" y="243000"/>
              <a:ext cx="1898640" cy="18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876840" y="10238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Lucida Sans Unicode"/>
                <a:ea typeface="굴림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3440" y="3666960"/>
            <a:ext cx="143208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896f0f"/>
              </a:gs>
              <a:gs pos="100000">
                <a:srgbClr val="3f33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47840" y="3666960"/>
            <a:ext cx="143352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71653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d6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0840" y="53082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PowerPoint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59000" y="594000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dd6d"/>
                </a:solidFill>
                <a:latin typeface="Verdana"/>
                <a:ea typeface="굴림"/>
              </a:rPr>
              <a:t>Add Your Company Slogan</a:t>
            </a:r>
            <a:endParaRPr b="0" lang="en-US" sz="2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9440" y="52956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59000" y="5877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7dd6d"/>
                </a:solidFill>
                <a:latin typeface="Verdana"/>
                <a:ea typeface="굴림"/>
              </a:rPr>
              <a:t>Add Your Company Slogan</a:t>
            </a:r>
            <a:br>
              <a:rPr sz="1000"/>
            </a:br>
            <a:r>
              <a:rPr b="0" lang="en-US" sz="1000" spc="-1" strike="noStrike">
                <a:solidFill>
                  <a:srgbClr val="f7dd6d"/>
                </a:solidFill>
                <a:latin typeface="Verdana"/>
                <a:ea typeface="굴림"/>
              </a:rPr>
              <a:t>Welcome to my homepage:www.378700000.com</a:t>
            </a:r>
            <a:endParaRPr b="0" lang="en-US" sz="1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굴림"/>
              </a:rPr>
              <a:t>Competitors 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c9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c9a0a"/>
                </a:solidFill>
                <a:latin typeface="Verdana"/>
                <a:ea typeface="굴림"/>
              </a:rPr>
              <a:t>Strengths 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굴림"/>
              </a:rPr>
              <a:t>Weaknesses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49440" y="2182680"/>
            <a:ext cx="4651200" cy="623880"/>
            <a:chOff x="1549440" y="2182680"/>
            <a:chExt cx="4651200" cy="623880"/>
          </a:xfrm>
        </p:grpSpPr>
        <p:sp>
          <p:nvSpPr>
            <p:cNvPr id="130" name=""/>
            <p:cNvSpPr/>
            <p:nvPr/>
          </p:nvSpPr>
          <p:spPr>
            <a:xfrm>
              <a:off x="1549440" y="22082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9440" y="21826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9033200">
              <a:off x="1574640" y="227772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562040" y="3021120"/>
            <a:ext cx="4651560" cy="623880"/>
            <a:chOff x="1562040" y="3021120"/>
            <a:chExt cx="4651560" cy="623880"/>
          </a:xfrm>
        </p:grpSpPr>
        <p:sp>
          <p:nvSpPr>
            <p:cNvPr id="134" name=""/>
            <p:cNvSpPr/>
            <p:nvPr/>
          </p:nvSpPr>
          <p:spPr>
            <a:xfrm>
              <a:off x="1562040" y="304632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2040" y="302112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033200">
              <a:off x="1587600" y="3115800"/>
              <a:ext cx="22680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49440" y="3884760"/>
            <a:ext cx="4651200" cy="623880"/>
            <a:chOff x="1549440" y="3884760"/>
            <a:chExt cx="4651200" cy="623880"/>
          </a:xfrm>
        </p:grpSpPr>
        <p:sp>
          <p:nvSpPr>
            <p:cNvPr id="138" name=""/>
            <p:cNvSpPr/>
            <p:nvPr/>
          </p:nvSpPr>
          <p:spPr>
            <a:xfrm>
              <a:off x="1549440" y="390996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9440" y="38847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033200">
              <a:off x="1574640" y="3979440"/>
              <a:ext cx="22716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562040" y="4722840"/>
            <a:ext cx="4651560" cy="623880"/>
            <a:chOff x="1562040" y="4722840"/>
            <a:chExt cx="4651560" cy="623880"/>
          </a:xfrm>
        </p:grpSpPr>
        <p:sp>
          <p:nvSpPr>
            <p:cNvPr id="142" name=""/>
            <p:cNvSpPr/>
            <p:nvPr/>
          </p:nvSpPr>
          <p:spPr>
            <a:xfrm>
              <a:off x="1562040" y="4748040"/>
              <a:ext cx="464832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62040" y="4722840"/>
              <a:ext cx="465156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9033200">
              <a:off x="1587600" y="48178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994040" y="22892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06640" y="311472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19240" y="3978360"/>
            <a:ext cx="388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31840" y="481644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96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152" name=""/>
            <p:cNvSpPr/>
            <p:nvPr/>
          </p:nvSpPr>
          <p:spPr>
            <a:xfrm>
              <a:off x="952560" y="148752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9033200">
              <a:off x="977760" y="1557000"/>
              <a:ext cx="22716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6f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13280" y="1457280"/>
            <a:ext cx="3137040" cy="623880"/>
            <a:chOff x="4913280" y="1457280"/>
            <a:chExt cx="3137040" cy="623880"/>
          </a:xfrm>
        </p:grpSpPr>
        <p:sp>
          <p:nvSpPr>
            <p:cNvPr id="158" name="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13280" y="145728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9033200">
              <a:off x="4938840" y="15523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1198200">
            <a:off x="1679040" y="2233440"/>
            <a:ext cx="5577120" cy="312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2300000"/>
          </a:gradFill>
          <a:ln w="19080">
            <a:solidFill>
              <a:srgbClr val="f7dd6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198200">
            <a:off x="1847880" y="2320560"/>
            <a:ext cx="4946760" cy="27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c9a0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3824280" y="13716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43120" y="43434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c9a0a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c9a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2200" y="224316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7dd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03800" y="38178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96f0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96f0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666960" y="2658960"/>
            <a:ext cx="4694400" cy="836640"/>
            <a:chOff x="3666960" y="2658960"/>
            <a:chExt cx="4694400" cy="836640"/>
          </a:xfrm>
        </p:grpSpPr>
        <p:sp>
          <p:nvSpPr>
            <p:cNvPr id="171" name=""/>
            <p:cNvSpPr/>
            <p:nvPr/>
          </p:nvSpPr>
          <p:spPr>
            <a:xfrm>
              <a:off x="7759800" y="2658960"/>
              <a:ext cx="60156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6960" y="2658960"/>
              <a:ext cx="410076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679920" y="3776760"/>
            <a:ext cx="4707000" cy="836640"/>
            <a:chOff x="3679920" y="3776760"/>
            <a:chExt cx="4707000" cy="836640"/>
          </a:xfrm>
        </p:grpSpPr>
        <p:sp>
          <p:nvSpPr>
            <p:cNvPr id="174" name=""/>
            <p:cNvSpPr/>
            <p:nvPr/>
          </p:nvSpPr>
          <p:spPr>
            <a:xfrm>
              <a:off x="7746840" y="3776760"/>
              <a:ext cx="64008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9920" y="37767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692520" y="4894200"/>
            <a:ext cx="4694400" cy="836640"/>
            <a:chOff x="3692520" y="4894200"/>
            <a:chExt cx="4694400" cy="836640"/>
          </a:xfrm>
        </p:grpSpPr>
        <p:sp>
          <p:nvSpPr>
            <p:cNvPr id="177" name=""/>
            <p:cNvSpPr/>
            <p:nvPr/>
          </p:nvSpPr>
          <p:spPr>
            <a:xfrm>
              <a:off x="7785000" y="489420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92520" y="489420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654360" y="1541520"/>
            <a:ext cx="4707000" cy="836640"/>
            <a:chOff x="3654360" y="1541520"/>
            <a:chExt cx="4707000" cy="836640"/>
          </a:xfrm>
        </p:grpSpPr>
        <p:sp>
          <p:nvSpPr>
            <p:cNvPr id="180" name=""/>
            <p:cNvSpPr/>
            <p:nvPr/>
          </p:nvSpPr>
          <p:spPr>
            <a:xfrm>
              <a:off x="7721640" y="154152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54360" y="154152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bc9a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굴림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  <a:ea typeface="굴림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392120" y="1376280"/>
          <a:ext cx="626760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1376280"/>
                    <a:ext cx="626760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031760" y="1447920"/>
          <a:ext cx="6775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447920"/>
                    <a:ext cx="6775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天青</dc:creator>
  <dc:description/>
  <dc:language>en-US</dc:language>
  <cp:lastModifiedBy>雨林木风</cp:lastModifiedBy>
  <dcterms:modified xsi:type="dcterms:W3CDTF">2009-11-30T09:38:59Z</dcterms:modified>
  <cp:revision>415</cp:revision>
  <dc:subject/>
  <dc:title>040TGp_time_mono</dc:title>
</cp:coreProperties>
</file>