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164-1E1A-4099-A1D4-CF8ABD74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09D-CB34-47AA-86D9-CD5AC6A5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397-0239-48FC-A6D2-1C580340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C26-29C0-40F5-BC4C-393A70BF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50A8-F2EF-4EF9-9C74-1D124393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C3A3-9682-41CB-B7C6-87BBC87F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DCA6-6A9F-4EEE-A459-4F5E02EE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CB43-728B-4039-BF05-A45072CC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BACC-1C02-47FA-AA14-014F3DD6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022F-2FFA-4724-A7BA-21A83F44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788E-5019-4235-9BD1-6E290184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DC9-947A-4E53-BD08-229E0B06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07D7-ABA5-479E-8192-8DBC0754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66FE-9376-429C-8F16-E1846CBA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F423-9122-4851-99B2-1D7CD697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75F8-F042-43AC-975F-6C5CB82B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FAB6-045F-4386-8D45-8DEFCDEF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F07-435C-4F50-81E1-DBE2E8ED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79F-AD93-4633-A4AE-EE746DE9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369-EC21-456E-8169-A4CA9DB6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C886-8B6F-44A4-905E-99E12F27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165-9E73-41BC-9C08-52D687C9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BC15-C091-47EB-B17F-3A78CE44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E91-25DF-4784-9F54-228C8FB2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0"/>
            <a:ext cx="9142560" cy="1095480"/>
          </a:xfrm>
          <a:custGeom>
            <a:avLst/>
            <a:gdLst/>
            <a:ahLst/>
            <a:rect l="l" t="t" r="r" b="b"/>
            <a:pathLst>
              <a:path w="5759" h="690">
                <a:moveTo>
                  <a:pt x="452" y="0"/>
                </a:moveTo>
                <a:lnTo>
                  <a:pt x="0" y="522"/>
                </a:lnTo>
                <a:lnTo>
                  <a:pt x="0" y="690"/>
                </a:lnTo>
                <a:lnTo>
                  <a:pt x="455" y="504"/>
                </a:lnTo>
                <a:lnTo>
                  <a:pt x="5759" y="504"/>
                </a:lnTo>
                <a:lnTo>
                  <a:pt x="5759" y="0"/>
                </a:lnTo>
                <a:lnTo>
                  <a:pt x="452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0"/>
            <a:ext cx="8427960" cy="793800"/>
          </a:xfrm>
          <a:custGeom>
            <a:avLst/>
            <a:gdLst/>
            <a:ahLst/>
            <a:rect l="l" t="t" r="r" b="b"/>
            <a:pathLst>
              <a:path w="3636" h="516">
                <a:moveTo>
                  <a:pt x="0" y="0"/>
                </a:moveTo>
                <a:lnTo>
                  <a:pt x="0" y="516"/>
                </a:lnTo>
                <a:lnTo>
                  <a:pt x="3636" y="516"/>
                </a:lnTo>
                <a:lnTo>
                  <a:pt x="3636" y="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47600"/>
            <a:ext cx="0" cy="512604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4680" y="6161040"/>
            <a:ext cx="866520" cy="701640"/>
          </a:xfrm>
          <a:custGeom>
            <a:avLst/>
            <a:gdLst/>
            <a:ahLst/>
            <a:rect l="l" t="t" r="r" b="b"/>
            <a:pathLst>
              <a:path w="546" h="442">
                <a:moveTo>
                  <a:pt x="1" y="22"/>
                </a:moveTo>
                <a:lnTo>
                  <a:pt x="546" y="442"/>
                </a:lnTo>
                <a:lnTo>
                  <a:pt x="546" y="382"/>
                </a:lnTo>
                <a:lnTo>
                  <a:pt x="0" y="0"/>
                </a:lnTo>
                <a:lnTo>
                  <a:pt x="1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57160" y="6767640"/>
            <a:ext cx="82868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800280"/>
            <a:ext cx="9144000" cy="5972040"/>
          </a:xfrm>
          <a:custGeom>
            <a:avLst/>
            <a:gdLst/>
            <a:ahLst/>
            <a:rect l="l" t="t" r="r" b="b"/>
            <a:pathLst>
              <a:path w="5760" h="3762">
                <a:moveTo>
                  <a:pt x="5760" y="0"/>
                </a:moveTo>
                <a:lnTo>
                  <a:pt x="438" y="0"/>
                </a:lnTo>
                <a:lnTo>
                  <a:pt x="0" y="180"/>
                </a:lnTo>
                <a:lnTo>
                  <a:pt x="6" y="3378"/>
                </a:lnTo>
                <a:lnTo>
                  <a:pt x="546" y="3762"/>
                </a:lnTo>
                <a:lnTo>
                  <a:pt x="5754" y="3750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f8c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111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5778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439400" y="641016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e6e6"/>
                </a:solidFill>
                <a:latin typeface="Arial"/>
                <a:ea typeface="굴림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-101880" y="6482880"/>
            <a:ext cx="5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b2b2b2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4E9E-1A80-47F8-8027-2E5F6538FC3B}" type="slidenum">
              <a:rPr b="1" lang="ko-KR" sz="1400" spc="-1" strike="noStrike">
                <a:solidFill>
                  <a:srgbClr val="b2b2b2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78120" y="-9360"/>
            <a:ext cx="7269120" cy="688644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gradFill rotWithShape="0">
            <a:gsLst>
              <a:gs pos="0">
                <a:srgbClr val="2b81a6"/>
              </a:gs>
              <a:gs pos="100000">
                <a:srgbClr val="37a3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6676-9667-4394-B5E7-DB329CACF0F3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51120" y="0"/>
            <a:ext cx="7296120" cy="6881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6e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6e6e6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6e6e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11160" y="1455840"/>
            <a:ext cx="0" cy="312876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1440" y="-4680"/>
            <a:ext cx="1552680" cy="1585800"/>
            <a:chOff x="271440" y="-4680"/>
            <a:chExt cx="1552680" cy="1585800"/>
          </a:xfrm>
        </p:grpSpPr>
        <p:sp>
          <p:nvSpPr>
            <p:cNvPr id="94" name=""/>
            <p:cNvSpPr/>
            <p:nvPr/>
          </p:nvSpPr>
          <p:spPr>
            <a:xfrm>
              <a:off x="1036800" y="-4680"/>
              <a:ext cx="787320" cy="1585800"/>
            </a:xfrm>
            <a:custGeom>
              <a:avLst/>
              <a:gdLst/>
              <a:ahLst/>
              <a:rect l="l" t="t" r="r" b="b"/>
              <a:pathLst>
                <a:path w="496" h="999">
                  <a:moveTo>
                    <a:pt x="84" y="0"/>
                  </a:moveTo>
                  <a:lnTo>
                    <a:pt x="496" y="854"/>
                  </a:lnTo>
                  <a:lnTo>
                    <a:pt x="496" y="999"/>
                  </a:lnTo>
                  <a:lnTo>
                    <a:pt x="0" y="18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1440" y="0"/>
              <a:ext cx="895320" cy="297000"/>
            </a:xfrm>
            <a:custGeom>
              <a:avLst/>
              <a:gdLst/>
              <a:ahLst/>
              <a:rect l="l" t="t" r="r" b="b"/>
              <a:pathLst>
                <a:path w="564" h="187">
                  <a:moveTo>
                    <a:pt x="564" y="0"/>
                  </a:moveTo>
                  <a:lnTo>
                    <a:pt x="482" y="187"/>
                  </a:lnTo>
                  <a:lnTo>
                    <a:pt x="0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5160" y="4179960"/>
            <a:ext cx="1762200" cy="52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71640" y="-9360"/>
            <a:ext cx="1895400" cy="1519200"/>
          </a:xfrm>
          <a:custGeom>
            <a:avLst/>
            <a:gdLst/>
            <a:ahLst/>
            <a:rect l="l" t="t" r="r" b="b"/>
            <a:pathLst>
              <a:path w="1194" h="957">
                <a:moveTo>
                  <a:pt x="843" y="0"/>
                </a:moveTo>
                <a:lnTo>
                  <a:pt x="0" y="885"/>
                </a:lnTo>
                <a:lnTo>
                  <a:pt x="0" y="957"/>
                </a:lnTo>
                <a:lnTo>
                  <a:pt x="1194" y="0"/>
                </a:lnTo>
                <a:lnTo>
                  <a:pt x="84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1640" y="-14400"/>
            <a:ext cx="2138400" cy="1581120"/>
          </a:xfrm>
          <a:custGeom>
            <a:avLst/>
            <a:gdLst/>
            <a:ahLst/>
            <a:rect l="l" t="t" r="r" b="b"/>
            <a:pathLst>
              <a:path w="1347" h="996">
                <a:moveTo>
                  <a:pt x="1347" y="0"/>
                </a:moveTo>
                <a:lnTo>
                  <a:pt x="0" y="996"/>
                </a:lnTo>
                <a:lnTo>
                  <a:pt x="0" y="957"/>
                </a:lnTo>
                <a:lnTo>
                  <a:pt x="1191" y="0"/>
                </a:lnTo>
                <a:lnTo>
                  <a:pt x="1347" y="0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-14400"/>
            <a:ext cx="2338560" cy="1627200"/>
          </a:xfrm>
          <a:custGeom>
            <a:avLst/>
            <a:gdLst/>
            <a:ahLst/>
            <a:rect l="l" t="t" r="r" b="b"/>
            <a:pathLst>
              <a:path w="1473" h="1025">
                <a:moveTo>
                  <a:pt x="1473" y="6"/>
                </a:moveTo>
                <a:lnTo>
                  <a:pt x="2" y="1025"/>
                </a:lnTo>
                <a:lnTo>
                  <a:pt x="0" y="995"/>
                </a:lnTo>
                <a:lnTo>
                  <a:pt x="1344" y="0"/>
                </a:lnTo>
                <a:lnTo>
                  <a:pt x="1473" y="6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74880" y="4437000"/>
            <a:ext cx="3525840" cy="2435400"/>
          </a:xfrm>
          <a:custGeom>
            <a:avLst/>
            <a:gdLst/>
            <a:ahLst/>
            <a:rect l="l" t="t" r="r" b="b"/>
            <a:pathLst>
              <a:path w="2221" h="1534">
                <a:moveTo>
                  <a:pt x="2221" y="1533"/>
                </a:moveTo>
                <a:lnTo>
                  <a:pt x="0" y="0"/>
                </a:lnTo>
                <a:lnTo>
                  <a:pt x="1" y="25"/>
                </a:lnTo>
                <a:lnTo>
                  <a:pt x="2059" y="1534"/>
                </a:lnTo>
                <a:lnTo>
                  <a:pt x="2221" y="1533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76320" y="4475160"/>
            <a:ext cx="3265560" cy="2392200"/>
          </a:xfrm>
          <a:custGeom>
            <a:avLst/>
            <a:gdLst/>
            <a:ahLst/>
            <a:rect l="l" t="t" r="r" b="b"/>
            <a:pathLst>
              <a:path w="2057" h="1507">
                <a:moveTo>
                  <a:pt x="2057" y="1507"/>
                </a:moveTo>
                <a:lnTo>
                  <a:pt x="0" y="0"/>
                </a:lnTo>
                <a:lnTo>
                  <a:pt x="0" y="30"/>
                </a:lnTo>
                <a:lnTo>
                  <a:pt x="1857" y="1507"/>
                </a:lnTo>
                <a:lnTo>
                  <a:pt x="2057" y="1507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1640" y="4518000"/>
            <a:ext cx="2946600" cy="2344680"/>
          </a:xfrm>
          <a:custGeom>
            <a:avLst/>
            <a:gdLst/>
            <a:ahLst/>
            <a:rect l="l" t="t" r="r" b="b"/>
            <a:pathLst>
              <a:path w="1856" h="1477">
                <a:moveTo>
                  <a:pt x="1344" y="1474"/>
                </a:moveTo>
                <a:lnTo>
                  <a:pt x="0" y="97"/>
                </a:lnTo>
                <a:lnTo>
                  <a:pt x="0" y="0"/>
                </a:lnTo>
                <a:lnTo>
                  <a:pt x="1856" y="1474"/>
                </a:lnTo>
                <a:lnTo>
                  <a:pt x="1848" y="1477"/>
                </a:lnTo>
                <a:lnTo>
                  <a:pt x="1344" y="1474"/>
                </a:lnTo>
                <a:close/>
              </a:path>
            </a:pathLst>
          </a:custGeom>
          <a:solidFill>
            <a:srgbClr val="89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360" y="4248000"/>
            <a:ext cx="131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25c"/>
                </a:solidFill>
                <a:latin typeface="Arial"/>
                <a:ea typeface="굴림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25c"/>
                </a:solidFill>
                <a:latin typeface="Arial"/>
                <a:ea typeface="굴림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76320" y="1552680"/>
            <a:ext cx="0" cy="2957400"/>
          </a:xfrm>
          <a:prstGeom prst="line">
            <a:avLst/>
          </a:prstGeom>
          <a:ln w="9360">
            <a:solidFill>
              <a:srgbClr val="37a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esign Template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050560" y="2636640"/>
            <a:ext cx="5473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subhead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808280" y="-9360"/>
            <a:ext cx="7332480" cy="694656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79600" y="1992240"/>
            <a:ext cx="7953120" cy="43084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780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168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140220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68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904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268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024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63760" y="198432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9464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557856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2148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7512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62680" y="1397160"/>
            <a:ext cx="2539800" cy="4432320"/>
          </a:xfrm>
          <a:custGeom>
            <a:avLst/>
            <a:gdLst>
              <a:gd name="textAreaLeft" fmla="*/ 86760 w 2539800"/>
              <a:gd name="textAreaRight" fmla="*/ 2453040 w 253980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93">
                <a:moveTo>
                  <a:pt x="2521" y="0"/>
                </a:moveTo>
                <a:arcTo wR="2521" hR="2521" stAng="16200000" swAng="-5400000"/>
                <a:lnTo>
                  <a:pt x="0" y="35172"/>
                </a:lnTo>
                <a:arcTo wR="2521" hR="2521" stAng="10800000" swAng="-5400000"/>
                <a:lnTo>
                  <a:pt x="19079" y="37693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5620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708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esul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79440" y="436896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1392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6756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04920" y="435600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26920" y="2101680"/>
          <a:ext cx="230508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1680"/>
                    <a:ext cx="23050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4149720" y="4371840"/>
            <a:ext cx="67644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89520" y="43624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365640" y="2184480"/>
          <a:ext cx="246852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184480"/>
                    <a:ext cx="24685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667560" y="43498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93040" y="434016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058080" y="2044800"/>
          <a:ext cx="2468520" cy="323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8080" y="2044800"/>
                    <a:ext cx="24685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307E-BC62-4374-B3BD-79E4F99039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3040" y="1353960"/>
            <a:ext cx="4353120" cy="507960"/>
            <a:chOff x="473040" y="1353960"/>
            <a:chExt cx="4353120" cy="507960"/>
          </a:xfrm>
        </p:grpSpPr>
        <p:sp>
          <p:nvSpPr>
            <p:cNvPr id="257" name=""/>
            <p:cNvSpPr/>
            <p:nvPr/>
          </p:nvSpPr>
          <p:spPr>
            <a:xfrm>
              <a:off x="709560" y="1369800"/>
              <a:ext cx="411660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61600" y="145692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0" name=""/>
          <p:cNvGraphicFramePr/>
          <p:nvPr/>
        </p:nvGraphicFramePr>
        <p:xfrm>
          <a:off x="330120" y="843120"/>
          <a:ext cx="79232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843120"/>
                    <a:ext cx="79232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BF3-EC1D-4429-B08E-976FFE73B9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ontents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57240" y="1735200"/>
            <a:ext cx="6029640" cy="709560"/>
            <a:chOff x="1857240" y="1735200"/>
            <a:chExt cx="6029640" cy="709560"/>
          </a:xfrm>
        </p:grpSpPr>
        <p:sp>
          <p:nvSpPr>
            <p:cNvPr id="110" name=""/>
            <p:cNvSpPr/>
            <p:nvPr/>
          </p:nvSpPr>
          <p:spPr>
            <a:xfrm>
              <a:off x="2185920" y="1763640"/>
              <a:ext cx="5700960" cy="6746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57240" y="1741320"/>
              <a:ext cx="1301760" cy="70344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34000" y="173520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68080" y="186048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857240" y="2712960"/>
            <a:ext cx="6029640" cy="709560"/>
            <a:chOff x="1857240" y="2712960"/>
            <a:chExt cx="6029640" cy="709560"/>
          </a:xfrm>
        </p:grpSpPr>
        <p:sp>
          <p:nvSpPr>
            <p:cNvPr id="115" name=""/>
            <p:cNvSpPr/>
            <p:nvPr/>
          </p:nvSpPr>
          <p:spPr>
            <a:xfrm>
              <a:off x="2185920" y="2741760"/>
              <a:ext cx="5700960" cy="6746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57240" y="271944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34000" y="271296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81760" y="283860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857240" y="3691080"/>
            <a:ext cx="6029640" cy="709560"/>
            <a:chOff x="1857240" y="3691080"/>
            <a:chExt cx="6029640" cy="709560"/>
          </a:xfrm>
        </p:grpSpPr>
        <p:sp>
          <p:nvSpPr>
            <p:cNvPr id="120" name=""/>
            <p:cNvSpPr/>
            <p:nvPr/>
          </p:nvSpPr>
          <p:spPr>
            <a:xfrm>
              <a:off x="2185920" y="3719520"/>
              <a:ext cx="5700960" cy="6746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57240" y="3697200"/>
              <a:ext cx="1301760" cy="70344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34000" y="3691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05880" y="381636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Challenges For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857240" y="4668840"/>
            <a:ext cx="6029640" cy="709560"/>
            <a:chOff x="1857240" y="4668840"/>
            <a:chExt cx="6029640" cy="709560"/>
          </a:xfrm>
        </p:grpSpPr>
        <p:sp>
          <p:nvSpPr>
            <p:cNvPr id="125" name=""/>
            <p:cNvSpPr/>
            <p:nvPr/>
          </p:nvSpPr>
          <p:spPr>
            <a:xfrm>
              <a:off x="2185920" y="4697280"/>
              <a:ext cx="570096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57240" y="467532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34000" y="466884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굴림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0160" y="479412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굴림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694-FCC3-42D4-8C56-CFFAD5FE8E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eti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weaknesse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337-EB69-417A-88FB-D02B10EA0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276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89cfe8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916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9cfe8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37a3d1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960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70320" y="210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7932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8680" y="208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8040" y="2068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848040"/>
            <a:ext cx="7562880" cy="18478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0800" y="3906720"/>
            <a:ext cx="7445160" cy="174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690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0272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9336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966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73040" y="1353960"/>
            <a:ext cx="4353120" cy="507960"/>
            <a:chOff x="473040" y="1353960"/>
            <a:chExt cx="4353120" cy="507960"/>
          </a:xfrm>
        </p:grpSpPr>
        <p:sp>
          <p:nvSpPr>
            <p:cNvPr id="149" name=""/>
            <p:cNvSpPr/>
            <p:nvPr/>
          </p:nvSpPr>
          <p:spPr>
            <a:xfrm>
              <a:off x="709560" y="1369800"/>
              <a:ext cx="411660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61600" y="145692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8F8-2E5F-4C37-ADB7-37921AFAD5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4040" y="1612800"/>
            <a:ext cx="38638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163600" y="4622040"/>
            <a:ext cx="64476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168880"/>
            <a:ext cx="4057560" cy="7174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3280" y="5216400"/>
            <a:ext cx="396540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nclu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2276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32200" y="1612800"/>
            <a:ext cx="38386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329520" y="4622040"/>
            <a:ext cx="64440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35360" y="5168880"/>
            <a:ext cx="4057920" cy="7174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68840" y="5216400"/>
            <a:ext cx="399096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nclu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96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96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96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8952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8952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952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C36-84C6-4FA6-B717-0CCAE49DA8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1000" y="2311560"/>
            <a:ext cx="6073560" cy="6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7a3d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57560" y="3378240"/>
            <a:ext cx="2835360" cy="251460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15160" y="3162240"/>
            <a:ext cx="283500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6200" y="3174840"/>
            <a:ext cx="283536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1523880"/>
            <a:ext cx="8137440" cy="717480"/>
            <a:chOff x="457200" y="1523880"/>
            <a:chExt cx="8137440" cy="717480"/>
          </a:xfrm>
        </p:grpSpPr>
        <p:sp>
          <p:nvSpPr>
            <p:cNvPr id="175" name=""/>
            <p:cNvSpPr/>
            <p:nvPr/>
          </p:nvSpPr>
          <p:spPr>
            <a:xfrm>
              <a:off x="457200" y="1523880"/>
              <a:ext cx="8137440" cy="71748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3280" y="1571400"/>
              <a:ext cx="7953480" cy="628920"/>
            </a:xfrm>
            <a:prstGeom prst="roundRect">
              <a:avLst>
                <a:gd name="adj" fmla="val 48991"/>
              </a:avLst>
            </a:prstGeom>
            <a:gradFill rotWithShape="0">
              <a:gsLst>
                <a:gs pos="0">
                  <a:srgbClr val="2286bd"/>
                </a:gs>
                <a:gs pos="100000">
                  <a:srgbClr val="1142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nclusion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3244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532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9820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6A24-CC4C-4A1E-BCD2-5AAA436D3D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3080" y="1079640"/>
            <a:ext cx="4057560" cy="2431800"/>
            <a:chOff x="343080" y="1079640"/>
            <a:chExt cx="4057560" cy="2431800"/>
          </a:xfrm>
        </p:grpSpPr>
        <p:sp>
          <p:nvSpPr>
            <p:cNvPr id="182" name=""/>
            <p:cNvSpPr/>
            <p:nvPr/>
          </p:nvSpPr>
          <p:spPr>
            <a:xfrm>
              <a:off x="34308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4360" y="1143000"/>
              <a:ext cx="391428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xample 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37240" y="1079640"/>
            <a:ext cx="4057560" cy="2431800"/>
            <a:chOff x="4737240" y="1079640"/>
            <a:chExt cx="4057560" cy="2431800"/>
          </a:xfrm>
        </p:grpSpPr>
        <p:sp>
          <p:nvSpPr>
            <p:cNvPr id="185" name=""/>
            <p:cNvSpPr/>
            <p:nvPr/>
          </p:nvSpPr>
          <p:spPr>
            <a:xfrm>
              <a:off x="473724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08520" y="1143000"/>
              <a:ext cx="391428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</a:t>
              </a: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xample 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4308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36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ample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3724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852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ample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8900000">
            <a:off x="2395440" y="1468080"/>
            <a:ext cx="4327560" cy="4327560"/>
          </a:xfrm>
          <a:custGeom>
            <a:avLst/>
            <a:gdLst>
              <a:gd name="textAreaLeft" fmla="*/ 0 w 4327560"/>
              <a:gd name="textAreaRight" fmla="*/ 4327920 w 4327560"/>
              <a:gd name="textAreaTop" fmla="*/ 0 h 4327560"/>
              <a:gd name="textAreaBottom" fmla="*/ 4327920 h 432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451240"/>
            <a:ext cx="2362320" cy="2361960"/>
          </a:xfrm>
          <a:prstGeom prst="ellipse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55B-ADA6-4272-872B-4979A72C42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4280" y="1379520"/>
            <a:ext cx="3238560" cy="4564080"/>
          </a:xfrm>
          <a:custGeom>
            <a:avLst/>
            <a:gdLst>
              <a:gd name="textAreaLeft" fmla="*/ 137520 w 3238560"/>
              <a:gd name="textAreaRight" fmla="*/ 3101040 w 3238560"/>
              <a:gd name="textAreaTop" fmla="*/ 137520 h 4564080"/>
              <a:gd name="textAreaBottom" fmla="*/ 4426560 h 4564080"/>
            </a:gdLst>
            <a:ahLst/>
            <a:rect l="textAreaLeft" t="textAreaTop" r="textAreaRight" b="textAreaBottom"/>
            <a:pathLst>
              <a:path w="21600" h="30440">
                <a:moveTo>
                  <a:pt x="3134" y="0"/>
                </a:moveTo>
                <a:arcTo wR="3134" hR="3134" stAng="16200000" swAng="-5400000"/>
                <a:lnTo>
                  <a:pt x="0" y="27306"/>
                </a:lnTo>
                <a:arcTo wR="3134" hR="3134" stAng="10800000" swAng="-5400000"/>
                <a:lnTo>
                  <a:pt x="18466" y="30440"/>
                </a:lnTo>
                <a:arcTo wR="3134" hR="3134" stAng="5400000" swAng="-5400000"/>
                <a:lnTo>
                  <a:pt x="21600" y="3134"/>
                </a:lnTo>
                <a:arcTo wR="3134" hR="3134" stAng="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1384200"/>
            <a:ext cx="4762800" cy="4025880"/>
          </a:xfrm>
          <a:prstGeom prst="roundRect">
            <a:avLst>
              <a:gd name="adj" fmla="val 1167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584280" y="1925640"/>
            <a:ext cx="3238560" cy="40273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4027320"/>
              <a:gd name="textAreaBottom" fmla="*/ 4027680 h 4027320"/>
            </a:gdLst>
            <a:ahLst/>
            <a:rect l="textAreaLeft" t="textAreaTop" r="textAreaRight" b="textAreaBottom"/>
            <a:pathLst>
              <a:path w="21600" h="26860">
                <a:moveTo>
                  <a:pt x="0" y="0"/>
                </a:moveTo>
                <a:arcTo wR="0" hR="0" stAng="16200000" swAng="-5400000"/>
                <a:lnTo>
                  <a:pt x="0" y="26860"/>
                </a:lnTo>
                <a:arcTo wR="0" hR="0" stAng="10800000" swAng="-5400000"/>
                <a:lnTo>
                  <a:pt x="21600" y="268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1930320"/>
            <a:ext cx="4762800" cy="40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1905120"/>
            <a:ext cx="477216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3048120"/>
            <a:ext cx="477360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21632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95360" y="1459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23080" y="145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3640" y="25891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3640" y="37450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3640" y="49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7000" y="258912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7000" y="37450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7000" y="49006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97280" y="538488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7520" y="1905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4280" y="191772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7520" y="3048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7520" y="421632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7520" y="538488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4280" y="596916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114-1C27-431A-9A69-0E78A20F4B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2546280" y="1663560"/>
            <a:ext cx="603108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0280" y="1336680"/>
            <a:ext cx="3557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you change pi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Drawing toolbar, click the arrow next to Fill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l E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then click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ta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the picture you w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0280" y="1663560"/>
            <a:ext cx="4313160" cy="428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440" y="1736640"/>
            <a:ext cx="4124160" cy="4129200"/>
          </a:xfrm>
          <a:custGeom>
            <a:avLst/>
            <a:gdLst>
              <a:gd name="textAreaLeft" fmla="*/ 201240 w 4124160"/>
              <a:gd name="textAreaRight" fmla="*/ 3922920 w 4124160"/>
              <a:gd name="textAreaTop" fmla="*/ 201240 h 4129200"/>
              <a:gd name="textAreaBottom" fmla="*/ 3927960 h 41292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7C0-9D8E-4688-945D-D05480C010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4:44:04Z</dcterms:created>
  <dc:creator>SungHa,Park</dc:creator>
  <dc:description/>
  <dc:language>en-US</dc:language>
  <cp:lastModifiedBy>SungHa,Park</cp:lastModifiedBy>
  <dcterms:modified xsi:type="dcterms:W3CDTF">2004-03-26T04:51:28Z</dcterms:modified>
  <cp:revision>1</cp:revision>
  <dc:subject/>
  <dc:title>PowerPoint Design Templat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8095602</vt:r8>
  </property>
  <property fmtid="{D5CDD505-2E9C-101B-9397-08002B2CF9AE}" pid="3" name="_AuthorEmail">
    <vt:lpwstr>shpark@guilddesign.com</vt:lpwstr>
  </property>
  <property fmtid="{D5CDD505-2E9C-101B-9397-08002B2CF9AE}" pid="4" name="_AuthorEmailDisplayName">
    <vt:lpwstr>Sung Ha, Park</vt:lpwstr>
  </property>
  <property fmtid="{D5CDD505-2E9C-101B-9397-08002B2CF9AE}" pid="5" name="_EmailSubject">
    <vt:lpwstr>영문 파워포인트 마스타 페이지 </vt:lpwstr>
  </property>
  <property fmtid="{D5CDD505-2E9C-101B-9397-08002B2CF9AE}" pid="6" name="_ReviewingToolsShownOnce">
    <vt:lpwstr/>
  </property>
</Properties>
</file>