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4.jpeg" ContentType="image/jpeg"/>
  <Override PartName="/ppt/media/image25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11.png" ContentType="image/png"/>
  <Override PartName="/ppt/media/image9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89F-D765-4D76-BB89-0039B6A1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2BE-5A7F-4428-8BDE-96C7FFBF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225-9CBC-4826-AF63-D89623DE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62900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64348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61452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162900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264348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34F-A6EE-462E-84CB-49B916DA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FCF8-D586-43FF-9802-829E62EF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3348-D647-4C7B-B2AC-7FB2B8AD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2741-4FAB-4DF2-920A-E4DD00CC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9C55-B966-4EE8-A0CE-D1EB2919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E9CE-A5C1-4982-B059-5EFAC022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99600" y="1157040"/>
            <a:ext cx="348156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5BC5-3E82-4536-A1E2-DDE30C5B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4979-69D2-4FE5-8092-4E2EFF02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F4A-4CFE-47A3-AC74-66E0E28C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8783-408C-4022-BE3D-9DAD706A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51BF-D3F9-43A5-8159-42BD79EF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9D03-3EF5-42C7-AA5F-0B2F49EC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39AC-CFE8-4E07-A42F-7CC37D1C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2900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643480" y="382428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1452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162900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2643480" y="4740120"/>
            <a:ext cx="965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507F-909A-4282-9A90-76E82211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3000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F5A-17D8-40B5-9752-5A29612C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A98-FB41-4C16-98D0-F1CB1628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81A-8596-4E31-BA81-8B9CDCE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399600" y="1157040"/>
            <a:ext cx="348156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B4A-85C2-4B2E-BE47-031E9497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9AB-D901-471A-A59C-301C931B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151720" y="474012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902-0D1A-4F75-8EAC-A09C5429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45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151720" y="3824280"/>
            <a:ext cx="14637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4520" y="4740120"/>
            <a:ext cx="3000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30D-0EED-4684-B348-F6A1ABD8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"/>
            <p:cNvGrpSpPr/>
            <p:nvPr/>
          </p:nvGrpSpPr>
          <p:grpSpPr>
            <a:xfrm>
              <a:off x="1050840" y="6202440"/>
              <a:ext cx="536040" cy="655560"/>
              <a:chOff x="1050840" y="6202440"/>
              <a:chExt cx="536040" cy="655560"/>
            </a:xfrm>
          </p:grpSpPr>
          <p:sp>
            <p:nvSpPr>
              <p:cNvPr id="2" name=""/>
              <p:cNvSpPr/>
              <p:nvPr/>
            </p:nvSpPr>
            <p:spPr>
              <a:xfrm rot="18580800">
                <a:off x="1137240" y="6237360"/>
                <a:ext cx="157680" cy="2995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2400000">
                <a:off x="1348200" y="6222960"/>
                <a:ext cx="16740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21560" y="6467040"/>
                <a:ext cx="31680" cy="390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E96E-66EC-4CD9-BA82-358CE55D89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95080" y="-15480"/>
            <a:ext cx="1239480" cy="573840"/>
            <a:chOff x="7795080" y="-15480"/>
            <a:chExt cx="1239480" cy="573840"/>
          </a:xfrm>
        </p:grpSpPr>
        <p:grpSp>
          <p:nvGrpSpPr>
            <p:cNvPr id="17" name=""/>
            <p:cNvGrpSpPr/>
            <p:nvPr/>
          </p:nvGrpSpPr>
          <p:grpSpPr>
            <a:xfrm>
              <a:off x="7795080" y="-15480"/>
              <a:ext cx="452160" cy="573840"/>
              <a:chOff x="7795080" y="-15480"/>
              <a:chExt cx="452160" cy="573840"/>
            </a:xfrm>
          </p:grpSpPr>
          <p:sp>
            <p:nvSpPr>
              <p:cNvPr id="18" name=""/>
              <p:cNvSpPr/>
              <p:nvPr/>
            </p:nvSpPr>
            <p:spPr>
              <a:xfrm rot="18580800">
                <a:off x="7865640" y="1908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2400000">
                <a:off x="804420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022240" y="21456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8188560" y="-15480"/>
              <a:ext cx="452160" cy="573840"/>
              <a:chOff x="8188560" y="-15480"/>
              <a:chExt cx="452160" cy="573840"/>
            </a:xfrm>
          </p:grpSpPr>
          <p:sp>
            <p:nvSpPr>
              <p:cNvPr id="22" name=""/>
              <p:cNvSpPr/>
              <p:nvPr/>
            </p:nvSpPr>
            <p:spPr>
              <a:xfrm rot="18580800">
                <a:off x="8259120" y="19080"/>
                <a:ext cx="138600" cy="24912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2400000">
                <a:off x="843768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415720" y="21456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8582400" y="-15480"/>
              <a:ext cx="452160" cy="573840"/>
              <a:chOff x="8582400" y="-15480"/>
              <a:chExt cx="452160" cy="573840"/>
            </a:xfrm>
          </p:grpSpPr>
          <p:sp>
            <p:nvSpPr>
              <p:cNvPr id="26" name=""/>
              <p:cNvSpPr/>
              <p:nvPr/>
            </p:nvSpPr>
            <p:spPr>
              <a:xfrm rot="18580800">
                <a:off x="8652960" y="1908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2400000">
                <a:off x="8831520" y="0"/>
                <a:ext cx="13896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09560" y="21456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53FA-2BE4-47E8-BEE7-AD517EAF5F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9600" y="1157040"/>
            <a:ext cx="348156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cc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owerpoint</a:t>
            </a:r>
            <a:br>
              <a:rPr sz="2800"/>
            </a:b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14520" y="3824280"/>
            <a:ext cx="300024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99"/>
                </a:solidFill>
                <a:latin typeface="Arial"/>
              </a:rPr>
              <a:t>作者：天青</a:t>
            </a:r>
            <a:br>
              <a:rPr sz="1600"/>
            </a:br>
            <a:r>
              <a:rPr b="0" lang="zh-CN" sz="1600" spc="-1" strike="noStrike">
                <a:solidFill>
                  <a:srgbClr val="ffff99"/>
                </a:solidFill>
                <a:latin typeface="Arial"/>
              </a:rPr>
              <a:t>QQ:37870000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99"/>
                </a:solidFill>
                <a:latin typeface="Arial"/>
              </a:rPr>
              <a:t>个人作品 转载请注明出处</a:t>
            </a:r>
            <a:br>
              <a:rPr sz="1600"/>
            </a:br>
            <a:r>
              <a:rPr b="0" lang="zh-CN" sz="1600" spc="-1" strike="noStrike">
                <a:solidFill>
                  <a:srgbClr val="ffff99"/>
                </a:solidFill>
                <a:latin typeface="Arial"/>
              </a:rPr>
              <a:t>www.378700000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65920" y="6643800"/>
            <a:ext cx="137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384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793400" y="143496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9384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4793400" y="37681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030560" y="2971800"/>
            <a:ext cx="1811520" cy="1359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69880" y="170496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64040" y="1717560"/>
            <a:ext cx="374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69880" y="47656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02200" y="475308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17600" y="1149480"/>
            <a:ext cx="1746000" cy="43052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158920" y="1181160"/>
            <a:ext cx="3264120" cy="0"/>
          </a:xfrm>
          <a:prstGeom prst="line">
            <a:avLst/>
          </a:prstGeom>
          <a:ln cap="rnd" w="2844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171880" y="5448240"/>
            <a:ext cx="6553080" cy="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54200" y="1630440"/>
            <a:ext cx="11300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404080" y="1565280"/>
            <a:ext cx="6300360" cy="733320"/>
            <a:chOff x="2404080" y="1565280"/>
            <a:chExt cx="6300360" cy="733320"/>
          </a:xfrm>
        </p:grpSpPr>
        <p:grpSp>
          <p:nvGrpSpPr>
            <p:cNvPr id="418" name=""/>
            <p:cNvGrpSpPr/>
            <p:nvPr/>
          </p:nvGrpSpPr>
          <p:grpSpPr>
            <a:xfrm>
              <a:off x="2404080" y="1676880"/>
              <a:ext cx="308520" cy="376200"/>
              <a:chOff x="2404080" y="1676880"/>
              <a:chExt cx="308520" cy="376200"/>
            </a:xfrm>
          </p:grpSpPr>
          <p:sp>
            <p:nvSpPr>
              <p:cNvPr id="419" name=""/>
              <p:cNvSpPr/>
              <p:nvPr/>
            </p:nvSpPr>
            <p:spPr>
              <a:xfrm rot="18580800">
                <a:off x="2454120" y="1695960"/>
                <a:ext cx="9036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400000">
                <a:off x="2575080" y="168876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59960" y="1828800"/>
                <a:ext cx="18360" cy="224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2855880" y="156528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404080" y="2428920"/>
            <a:ext cx="6300360" cy="733320"/>
            <a:chOff x="2404080" y="2428920"/>
            <a:chExt cx="6300360" cy="733320"/>
          </a:xfrm>
        </p:grpSpPr>
        <p:grpSp>
          <p:nvGrpSpPr>
            <p:cNvPr id="424" name=""/>
            <p:cNvGrpSpPr/>
            <p:nvPr/>
          </p:nvGrpSpPr>
          <p:grpSpPr>
            <a:xfrm>
              <a:off x="2404080" y="2540520"/>
              <a:ext cx="308520" cy="376200"/>
              <a:chOff x="2404080" y="2540520"/>
              <a:chExt cx="308520" cy="376200"/>
            </a:xfrm>
          </p:grpSpPr>
          <p:sp>
            <p:nvSpPr>
              <p:cNvPr id="425" name=""/>
              <p:cNvSpPr/>
              <p:nvPr/>
            </p:nvSpPr>
            <p:spPr>
              <a:xfrm rot="18580800">
                <a:off x="2454120" y="2559600"/>
                <a:ext cx="9036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2400000">
                <a:off x="2575080" y="255240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59960" y="2692440"/>
                <a:ext cx="18360" cy="224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2855880" y="24289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2404080" y="3317760"/>
            <a:ext cx="6300360" cy="733320"/>
            <a:chOff x="2404080" y="3317760"/>
            <a:chExt cx="6300360" cy="733320"/>
          </a:xfrm>
        </p:grpSpPr>
        <p:grpSp>
          <p:nvGrpSpPr>
            <p:cNvPr id="430" name=""/>
            <p:cNvGrpSpPr/>
            <p:nvPr/>
          </p:nvGrpSpPr>
          <p:grpSpPr>
            <a:xfrm>
              <a:off x="2404080" y="3429720"/>
              <a:ext cx="308520" cy="376920"/>
              <a:chOff x="2404080" y="3429720"/>
              <a:chExt cx="308520" cy="376920"/>
            </a:xfrm>
          </p:grpSpPr>
          <p:sp>
            <p:nvSpPr>
              <p:cNvPr id="431" name=""/>
              <p:cNvSpPr/>
              <p:nvPr/>
            </p:nvSpPr>
            <p:spPr>
              <a:xfrm rot="18580800">
                <a:off x="2454120" y="3449520"/>
                <a:ext cx="9072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2400000">
                <a:off x="2575080" y="344160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559960" y="3582000"/>
                <a:ext cx="18360" cy="2246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2855880" y="331776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404080" y="4257720"/>
            <a:ext cx="6300360" cy="733320"/>
            <a:chOff x="2404080" y="4257720"/>
            <a:chExt cx="6300360" cy="733320"/>
          </a:xfrm>
        </p:grpSpPr>
        <p:grpSp>
          <p:nvGrpSpPr>
            <p:cNvPr id="436" name=""/>
            <p:cNvGrpSpPr/>
            <p:nvPr/>
          </p:nvGrpSpPr>
          <p:grpSpPr>
            <a:xfrm>
              <a:off x="2404080" y="4369320"/>
              <a:ext cx="308520" cy="376200"/>
              <a:chOff x="2404080" y="4369320"/>
              <a:chExt cx="308520" cy="376200"/>
            </a:xfrm>
          </p:grpSpPr>
          <p:sp>
            <p:nvSpPr>
              <p:cNvPr id="437" name=""/>
              <p:cNvSpPr/>
              <p:nvPr/>
            </p:nvSpPr>
            <p:spPr>
              <a:xfrm rot="18580800">
                <a:off x="2454120" y="4388400"/>
                <a:ext cx="90360" cy="1728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2400000">
                <a:off x="2575080" y="4381200"/>
                <a:ext cx="96480" cy="1623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59960" y="4521240"/>
                <a:ext cx="18360" cy="2242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2855880" y="4257720"/>
              <a:ext cx="5848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340760" y="4660920"/>
            <a:ext cx="1498320" cy="14986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444600" y="863640"/>
            <a:ext cx="8432640" cy="5346720"/>
          </a:xfrm>
          <a:prstGeom prst="roundRect">
            <a:avLst>
              <a:gd name="adj" fmla="val 6412"/>
            </a:avLst>
          </a:prstGeom>
          <a:noFill/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77760" y="723960"/>
            <a:ext cx="309888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80640" y="682560"/>
            <a:ext cx="419760" cy="400320"/>
            <a:chOff x="980640" y="682560"/>
            <a:chExt cx="419760" cy="400320"/>
          </a:xfrm>
        </p:grpSpPr>
        <p:sp>
          <p:nvSpPr>
            <p:cNvPr id="447" name=""/>
            <p:cNvSpPr/>
            <p:nvPr/>
          </p:nvSpPr>
          <p:spPr>
            <a:xfrm>
              <a:off x="1117080" y="682560"/>
              <a:ext cx="146880" cy="196200"/>
            </a:xfrm>
            <a:custGeom>
              <a:avLst/>
              <a:gdLst>
                <a:gd name="textAreaLeft" fmla="*/ 34560 w 146880"/>
                <a:gd name="textAreaRight" fmla="*/ 112320 w 14688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4320000">
              <a:off x="1210680" y="752040"/>
              <a:ext cx="147240" cy="196200"/>
            </a:xfrm>
            <a:custGeom>
              <a:avLst/>
              <a:gdLst>
                <a:gd name="textAreaLeft" fmla="*/ 34560 w 147240"/>
                <a:gd name="textAreaRight" fmla="*/ 112680 w 14724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8640000">
              <a:off x="1173960" y="861840"/>
              <a:ext cx="146880" cy="196200"/>
            </a:xfrm>
            <a:custGeom>
              <a:avLst/>
              <a:gdLst>
                <a:gd name="textAreaLeft" fmla="*/ 34560 w 146880"/>
                <a:gd name="textAreaRight" fmla="*/ 112320 w 14688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7280000">
              <a:off x="1022760" y="751680"/>
              <a:ext cx="147240" cy="196200"/>
            </a:xfrm>
            <a:custGeom>
              <a:avLst/>
              <a:gdLst>
                <a:gd name="textAreaLeft" fmla="*/ 34560 w 147240"/>
                <a:gd name="textAreaRight" fmla="*/ 112680 w 14724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9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2960000">
              <a:off x="1059840" y="857880"/>
              <a:ext cx="146880" cy="196200"/>
            </a:xfrm>
            <a:custGeom>
              <a:avLst/>
              <a:gdLst>
                <a:gd name="textAreaLeft" fmla="*/ 34560 w 146880"/>
                <a:gd name="textAreaRight" fmla="*/ 112320 w 146880"/>
                <a:gd name="textAreaTop" fmla="*/ 23040 h 196200"/>
                <a:gd name="textAreaBottom" fmla="*/ 123120 h 196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ffffff"/>
                </a:gs>
              </a:gsLst>
              <a:lin ang="14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460520" y="6858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090440" y="1450800"/>
            <a:ext cx="752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52640" y="23400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52640" y="325440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39680" y="4295880"/>
            <a:ext cx="752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03040" y="660240"/>
            <a:ext cx="8877600" cy="5905800"/>
          </a:xfrm>
          <a:prstGeom prst="roundRect">
            <a:avLst>
              <a:gd name="adj" fmla="val 6130"/>
            </a:avLst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0800000">
            <a:off x="2615760" y="-3618360"/>
            <a:ext cx="13062240" cy="934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72" y="446"/>
                </a:moveTo>
                <a:arcTo wR="10800" hR="10800" stAng="-4408455" swAng="3892486"/>
                <a:lnTo>
                  <a:pt x="10800" y="10800"/>
                </a:lnTo>
                <a:close/>
              </a:path>
              <a:path fill="none" w="21600" h="21600">
                <a:moveTo>
                  <a:pt x="13872" y="446"/>
                </a:moveTo>
                <a:arcTo wR="10800" hR="10800" stAng="-4408455" swAng="3892486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753240" y="4691160"/>
            <a:ext cx="2136600" cy="17859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43080" y="774720"/>
            <a:ext cx="8610480" cy="5765760"/>
          </a:xfrm>
          <a:prstGeom prst="roundRect">
            <a:avLst>
              <a:gd name="adj" fmla="val 4764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498600" y="487440"/>
            <a:ext cx="563040" cy="583560"/>
            <a:chOff x="498600" y="487440"/>
            <a:chExt cx="563040" cy="583560"/>
          </a:xfrm>
        </p:grpSpPr>
        <p:sp>
          <p:nvSpPr>
            <p:cNvPr id="464" name=""/>
            <p:cNvSpPr/>
            <p:nvPr/>
          </p:nvSpPr>
          <p:spPr>
            <a:xfrm>
              <a:off x="49860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40" y="4874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5600" y="503640"/>
              <a:ext cx="266040" cy="567360"/>
            </a:xfrm>
            <a:prstGeom prst="diamond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ffffff">
                    <a:alpha val="50196"/>
                  </a:srgbClr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bbe0e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8007480" y="4413240"/>
            <a:ext cx="310680" cy="355680"/>
            <a:chOff x="8007480" y="4413240"/>
            <a:chExt cx="310680" cy="355680"/>
          </a:xfrm>
        </p:grpSpPr>
        <p:sp>
          <p:nvSpPr>
            <p:cNvPr id="468" name=""/>
            <p:cNvSpPr/>
            <p:nvPr/>
          </p:nvSpPr>
          <p:spPr>
            <a:xfrm>
              <a:off x="8102520" y="4413240"/>
              <a:ext cx="12240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07480" y="448812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07480" y="4581000"/>
              <a:ext cx="16092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00720" y="4590360"/>
              <a:ext cx="12240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157240" y="4581000"/>
              <a:ext cx="16092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157240" y="4485960"/>
              <a:ext cx="16092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109720" y="4544640"/>
              <a:ext cx="10764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bde8fe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991200" y="5784840"/>
            <a:ext cx="311400" cy="355680"/>
            <a:chOff x="6991200" y="5784840"/>
            <a:chExt cx="311400" cy="355680"/>
          </a:xfrm>
        </p:grpSpPr>
        <p:sp>
          <p:nvSpPr>
            <p:cNvPr id="476" name=""/>
            <p:cNvSpPr/>
            <p:nvPr/>
          </p:nvSpPr>
          <p:spPr>
            <a:xfrm>
              <a:off x="7086240" y="5784840"/>
              <a:ext cx="122760" cy="177120"/>
            </a:xfrm>
            <a:custGeom>
              <a:avLst/>
              <a:gdLst/>
              <a:ahLst/>
              <a:rect l="l" t="t" r="r" b="b"/>
              <a:pathLst>
                <a:path w="299" h="434">
                  <a:moveTo>
                    <a:pt x="174" y="121"/>
                  </a:moveTo>
                  <a:lnTo>
                    <a:pt x="174" y="23"/>
                  </a:lnTo>
                  <a:lnTo>
                    <a:pt x="170" y="9"/>
                  </a:lnTo>
                  <a:lnTo>
                    <a:pt x="165" y="5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4" y="5"/>
                  </a:lnTo>
                  <a:lnTo>
                    <a:pt x="125" y="9"/>
                  </a:lnTo>
                  <a:lnTo>
                    <a:pt x="125" y="23"/>
                  </a:lnTo>
                  <a:lnTo>
                    <a:pt x="125" y="126"/>
                  </a:lnTo>
                  <a:lnTo>
                    <a:pt x="76" y="99"/>
                  </a:lnTo>
                  <a:lnTo>
                    <a:pt x="67" y="94"/>
                  </a:lnTo>
                  <a:lnTo>
                    <a:pt x="58" y="94"/>
                  </a:lnTo>
                  <a:lnTo>
                    <a:pt x="49" y="99"/>
                  </a:lnTo>
                  <a:lnTo>
                    <a:pt x="45" y="103"/>
                  </a:lnTo>
                  <a:lnTo>
                    <a:pt x="40" y="112"/>
                  </a:lnTo>
                  <a:lnTo>
                    <a:pt x="45" y="117"/>
                  </a:lnTo>
                  <a:lnTo>
                    <a:pt x="45" y="126"/>
                  </a:lnTo>
                  <a:lnTo>
                    <a:pt x="54" y="134"/>
                  </a:lnTo>
                  <a:lnTo>
                    <a:pt x="121" y="170"/>
                  </a:lnTo>
                  <a:lnTo>
                    <a:pt x="121" y="242"/>
                  </a:lnTo>
                  <a:lnTo>
                    <a:pt x="36" y="188"/>
                  </a:lnTo>
                  <a:lnTo>
                    <a:pt x="27" y="184"/>
                  </a:lnTo>
                  <a:lnTo>
                    <a:pt x="18" y="184"/>
                  </a:lnTo>
                  <a:lnTo>
                    <a:pt x="9" y="188"/>
                  </a:lnTo>
                  <a:lnTo>
                    <a:pt x="5" y="193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5" y="219"/>
                  </a:lnTo>
                  <a:lnTo>
                    <a:pt x="14" y="224"/>
                  </a:lnTo>
                  <a:lnTo>
                    <a:pt x="121" y="291"/>
                  </a:lnTo>
                  <a:lnTo>
                    <a:pt x="121" y="434"/>
                  </a:lnTo>
                  <a:lnTo>
                    <a:pt x="174" y="434"/>
                  </a:lnTo>
                  <a:lnTo>
                    <a:pt x="174" y="291"/>
                  </a:lnTo>
                  <a:lnTo>
                    <a:pt x="290" y="224"/>
                  </a:lnTo>
                  <a:lnTo>
                    <a:pt x="295" y="219"/>
                  </a:lnTo>
                  <a:lnTo>
                    <a:pt x="299" y="210"/>
                  </a:lnTo>
                  <a:lnTo>
                    <a:pt x="299" y="202"/>
                  </a:lnTo>
                  <a:lnTo>
                    <a:pt x="299" y="197"/>
                  </a:lnTo>
                  <a:lnTo>
                    <a:pt x="295" y="188"/>
                  </a:lnTo>
                  <a:lnTo>
                    <a:pt x="286" y="184"/>
                  </a:lnTo>
                  <a:lnTo>
                    <a:pt x="277" y="184"/>
                  </a:lnTo>
                  <a:lnTo>
                    <a:pt x="268" y="188"/>
                  </a:lnTo>
                  <a:lnTo>
                    <a:pt x="174" y="237"/>
                  </a:lnTo>
                  <a:lnTo>
                    <a:pt x="174" y="170"/>
                  </a:lnTo>
                  <a:lnTo>
                    <a:pt x="246" y="134"/>
                  </a:lnTo>
                  <a:lnTo>
                    <a:pt x="250" y="130"/>
                  </a:lnTo>
                  <a:lnTo>
                    <a:pt x="255" y="121"/>
                  </a:lnTo>
                  <a:lnTo>
                    <a:pt x="255" y="112"/>
                  </a:lnTo>
                  <a:lnTo>
                    <a:pt x="250" y="108"/>
                  </a:lnTo>
                  <a:lnTo>
                    <a:pt x="246" y="103"/>
                  </a:lnTo>
                  <a:lnTo>
                    <a:pt x="237" y="99"/>
                  </a:lnTo>
                  <a:lnTo>
                    <a:pt x="232" y="99"/>
                  </a:lnTo>
                  <a:lnTo>
                    <a:pt x="223" y="99"/>
                  </a:lnTo>
                  <a:lnTo>
                    <a:pt x="174" y="12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91200" y="585972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121" y="71"/>
                  </a:moveTo>
                  <a:lnTo>
                    <a:pt x="36" y="22"/>
                  </a:lnTo>
                  <a:lnTo>
                    <a:pt x="27" y="18"/>
                  </a:lnTo>
                  <a:lnTo>
                    <a:pt x="18" y="18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5" y="58"/>
                  </a:lnTo>
                  <a:lnTo>
                    <a:pt x="9" y="62"/>
                  </a:lnTo>
                  <a:lnTo>
                    <a:pt x="98" y="116"/>
                  </a:lnTo>
                  <a:lnTo>
                    <a:pt x="54" y="143"/>
                  </a:lnTo>
                  <a:lnTo>
                    <a:pt x="45" y="147"/>
                  </a:lnTo>
                  <a:lnTo>
                    <a:pt x="40" y="156"/>
                  </a:lnTo>
                  <a:lnTo>
                    <a:pt x="40" y="165"/>
                  </a:lnTo>
                  <a:lnTo>
                    <a:pt x="40" y="174"/>
                  </a:lnTo>
                  <a:lnTo>
                    <a:pt x="49" y="178"/>
                  </a:lnTo>
                  <a:lnTo>
                    <a:pt x="54" y="183"/>
                  </a:lnTo>
                  <a:lnTo>
                    <a:pt x="63" y="183"/>
                  </a:lnTo>
                  <a:lnTo>
                    <a:pt x="72" y="183"/>
                  </a:lnTo>
                  <a:lnTo>
                    <a:pt x="139" y="143"/>
                  </a:lnTo>
                  <a:lnTo>
                    <a:pt x="197" y="178"/>
                  </a:lnTo>
                  <a:lnTo>
                    <a:pt x="112" y="223"/>
                  </a:lnTo>
                  <a:lnTo>
                    <a:pt x="103" y="232"/>
                  </a:lnTo>
                  <a:lnTo>
                    <a:pt x="98" y="241"/>
                  </a:lnTo>
                  <a:lnTo>
                    <a:pt x="98" y="246"/>
                  </a:lnTo>
                  <a:lnTo>
                    <a:pt x="98" y="254"/>
                  </a:lnTo>
                  <a:lnTo>
                    <a:pt x="103" y="263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3"/>
                  </a:lnTo>
                  <a:lnTo>
                    <a:pt x="241" y="201"/>
                  </a:lnTo>
                  <a:lnTo>
                    <a:pt x="366" y="272"/>
                  </a:lnTo>
                  <a:lnTo>
                    <a:pt x="393" y="228"/>
                  </a:lnTo>
                  <a:lnTo>
                    <a:pt x="268" y="156"/>
                  </a:lnTo>
                  <a:lnTo>
                    <a:pt x="268" y="22"/>
                  </a:lnTo>
                  <a:lnTo>
                    <a:pt x="268" y="13"/>
                  </a:lnTo>
                  <a:lnTo>
                    <a:pt x="264" y="9"/>
                  </a:lnTo>
                  <a:lnTo>
                    <a:pt x="255" y="4"/>
                  </a:lnTo>
                  <a:lnTo>
                    <a:pt x="250" y="0"/>
                  </a:lnTo>
                  <a:lnTo>
                    <a:pt x="241" y="0"/>
                  </a:lnTo>
                  <a:lnTo>
                    <a:pt x="232" y="4"/>
                  </a:lnTo>
                  <a:lnTo>
                    <a:pt x="228" y="13"/>
                  </a:lnTo>
                  <a:lnTo>
                    <a:pt x="228" y="22"/>
                  </a:lnTo>
                  <a:lnTo>
                    <a:pt x="223" y="129"/>
                  </a:lnTo>
                  <a:lnTo>
                    <a:pt x="165" y="94"/>
                  </a:lnTo>
                  <a:lnTo>
                    <a:pt x="170" y="18"/>
                  </a:lnTo>
                  <a:lnTo>
                    <a:pt x="165" y="9"/>
                  </a:lnTo>
                  <a:lnTo>
                    <a:pt x="161" y="4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34" y="4"/>
                  </a:lnTo>
                  <a:lnTo>
                    <a:pt x="130" y="9"/>
                  </a:lnTo>
                  <a:lnTo>
                    <a:pt x="125" y="18"/>
                  </a:lnTo>
                  <a:lnTo>
                    <a:pt x="121" y="7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91200" y="5952600"/>
              <a:ext cx="16128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98" y="156"/>
                  </a:moveTo>
                  <a:lnTo>
                    <a:pt x="9" y="205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9" y="246"/>
                  </a:lnTo>
                  <a:lnTo>
                    <a:pt x="14" y="250"/>
                  </a:lnTo>
                  <a:lnTo>
                    <a:pt x="23" y="250"/>
                  </a:lnTo>
                  <a:lnTo>
                    <a:pt x="36" y="250"/>
                  </a:lnTo>
                  <a:lnTo>
                    <a:pt x="125" y="196"/>
                  </a:lnTo>
                  <a:lnTo>
                    <a:pt x="125" y="250"/>
                  </a:lnTo>
                  <a:lnTo>
                    <a:pt x="125" y="263"/>
                  </a:lnTo>
                  <a:lnTo>
                    <a:pt x="130" y="268"/>
                  </a:lnTo>
                  <a:lnTo>
                    <a:pt x="139" y="272"/>
                  </a:lnTo>
                  <a:lnTo>
                    <a:pt x="143" y="277"/>
                  </a:lnTo>
                  <a:lnTo>
                    <a:pt x="152" y="277"/>
                  </a:lnTo>
                  <a:lnTo>
                    <a:pt x="161" y="272"/>
                  </a:lnTo>
                  <a:lnTo>
                    <a:pt x="165" y="263"/>
                  </a:lnTo>
                  <a:lnTo>
                    <a:pt x="165" y="254"/>
                  </a:lnTo>
                  <a:lnTo>
                    <a:pt x="165" y="178"/>
                  </a:lnTo>
                  <a:lnTo>
                    <a:pt x="223" y="143"/>
                  </a:lnTo>
                  <a:lnTo>
                    <a:pt x="223" y="241"/>
                  </a:lnTo>
                  <a:lnTo>
                    <a:pt x="223" y="250"/>
                  </a:lnTo>
                  <a:lnTo>
                    <a:pt x="228" y="259"/>
                  </a:lnTo>
                  <a:lnTo>
                    <a:pt x="237" y="263"/>
                  </a:lnTo>
                  <a:lnTo>
                    <a:pt x="246" y="268"/>
                  </a:lnTo>
                  <a:lnTo>
                    <a:pt x="255" y="268"/>
                  </a:lnTo>
                  <a:lnTo>
                    <a:pt x="259" y="263"/>
                  </a:lnTo>
                  <a:lnTo>
                    <a:pt x="264" y="254"/>
                  </a:lnTo>
                  <a:lnTo>
                    <a:pt x="268" y="246"/>
                  </a:lnTo>
                  <a:lnTo>
                    <a:pt x="268" y="116"/>
                  </a:lnTo>
                  <a:lnTo>
                    <a:pt x="393" y="44"/>
                  </a:lnTo>
                  <a:lnTo>
                    <a:pt x="366" y="0"/>
                  </a:lnTo>
                  <a:lnTo>
                    <a:pt x="241" y="71"/>
                  </a:lnTo>
                  <a:lnTo>
                    <a:pt x="125" y="4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3" y="4"/>
                  </a:lnTo>
                  <a:lnTo>
                    <a:pt x="98" y="9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8" y="35"/>
                  </a:lnTo>
                  <a:lnTo>
                    <a:pt x="107" y="40"/>
                  </a:lnTo>
                  <a:lnTo>
                    <a:pt x="197" y="98"/>
                  </a:lnTo>
                  <a:lnTo>
                    <a:pt x="139" y="129"/>
                  </a:lnTo>
                  <a:lnTo>
                    <a:pt x="72" y="89"/>
                  </a:lnTo>
                  <a:lnTo>
                    <a:pt x="63" y="85"/>
                  </a:lnTo>
                  <a:lnTo>
                    <a:pt x="58" y="85"/>
                  </a:lnTo>
                  <a:lnTo>
                    <a:pt x="49" y="89"/>
                  </a:lnTo>
                  <a:lnTo>
                    <a:pt x="45" y="98"/>
                  </a:lnTo>
                  <a:lnTo>
                    <a:pt x="45" y="102"/>
                  </a:lnTo>
                  <a:lnTo>
                    <a:pt x="45" y="111"/>
                  </a:lnTo>
                  <a:lnTo>
                    <a:pt x="45" y="120"/>
                  </a:lnTo>
                  <a:lnTo>
                    <a:pt x="54" y="125"/>
                  </a:lnTo>
                  <a:lnTo>
                    <a:pt x="98" y="156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84800" y="5961960"/>
              <a:ext cx="122400" cy="178560"/>
            </a:xfrm>
            <a:custGeom>
              <a:avLst/>
              <a:gdLst/>
              <a:ahLst/>
              <a:rect l="l" t="t" r="r" b="b"/>
              <a:pathLst>
                <a:path w="299" h="438">
                  <a:moveTo>
                    <a:pt x="125" y="313"/>
                  </a:moveTo>
                  <a:lnTo>
                    <a:pt x="125" y="411"/>
                  </a:lnTo>
                  <a:lnTo>
                    <a:pt x="129" y="425"/>
                  </a:lnTo>
                  <a:lnTo>
                    <a:pt x="134" y="429"/>
                  </a:lnTo>
                  <a:lnTo>
                    <a:pt x="143" y="434"/>
                  </a:lnTo>
                  <a:lnTo>
                    <a:pt x="147" y="438"/>
                  </a:lnTo>
                  <a:lnTo>
                    <a:pt x="156" y="434"/>
                  </a:lnTo>
                  <a:lnTo>
                    <a:pt x="165" y="429"/>
                  </a:lnTo>
                  <a:lnTo>
                    <a:pt x="174" y="425"/>
                  </a:lnTo>
                  <a:lnTo>
                    <a:pt x="174" y="411"/>
                  </a:lnTo>
                  <a:lnTo>
                    <a:pt x="174" y="308"/>
                  </a:lnTo>
                  <a:lnTo>
                    <a:pt x="223" y="335"/>
                  </a:lnTo>
                  <a:lnTo>
                    <a:pt x="232" y="340"/>
                  </a:lnTo>
                  <a:lnTo>
                    <a:pt x="241" y="340"/>
                  </a:lnTo>
                  <a:lnTo>
                    <a:pt x="250" y="335"/>
                  </a:lnTo>
                  <a:lnTo>
                    <a:pt x="254" y="331"/>
                  </a:lnTo>
                  <a:lnTo>
                    <a:pt x="254" y="322"/>
                  </a:lnTo>
                  <a:lnTo>
                    <a:pt x="254" y="317"/>
                  </a:lnTo>
                  <a:lnTo>
                    <a:pt x="254" y="308"/>
                  </a:lnTo>
                  <a:lnTo>
                    <a:pt x="245" y="300"/>
                  </a:lnTo>
                  <a:lnTo>
                    <a:pt x="178" y="264"/>
                  </a:lnTo>
                  <a:lnTo>
                    <a:pt x="178" y="192"/>
                  </a:lnTo>
                  <a:lnTo>
                    <a:pt x="263" y="246"/>
                  </a:lnTo>
                  <a:lnTo>
                    <a:pt x="272" y="250"/>
                  </a:lnTo>
                  <a:lnTo>
                    <a:pt x="281" y="250"/>
                  </a:lnTo>
                  <a:lnTo>
                    <a:pt x="290" y="246"/>
                  </a:lnTo>
                  <a:lnTo>
                    <a:pt x="294" y="241"/>
                  </a:lnTo>
                  <a:lnTo>
                    <a:pt x="299" y="232"/>
                  </a:lnTo>
                  <a:lnTo>
                    <a:pt x="299" y="224"/>
                  </a:lnTo>
                  <a:lnTo>
                    <a:pt x="294" y="215"/>
                  </a:lnTo>
                  <a:lnTo>
                    <a:pt x="285" y="210"/>
                  </a:lnTo>
                  <a:lnTo>
                    <a:pt x="178" y="143"/>
                  </a:lnTo>
                  <a:lnTo>
                    <a:pt x="178" y="0"/>
                  </a:lnTo>
                  <a:lnTo>
                    <a:pt x="125" y="0"/>
                  </a:lnTo>
                  <a:lnTo>
                    <a:pt x="125" y="143"/>
                  </a:lnTo>
                  <a:lnTo>
                    <a:pt x="9" y="210"/>
                  </a:lnTo>
                  <a:lnTo>
                    <a:pt x="4" y="215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6"/>
                  </a:lnTo>
                  <a:lnTo>
                    <a:pt x="13" y="250"/>
                  </a:lnTo>
                  <a:lnTo>
                    <a:pt x="22" y="250"/>
                  </a:lnTo>
                  <a:lnTo>
                    <a:pt x="31" y="246"/>
                  </a:lnTo>
                  <a:lnTo>
                    <a:pt x="125" y="197"/>
                  </a:lnTo>
                  <a:lnTo>
                    <a:pt x="125" y="264"/>
                  </a:lnTo>
                  <a:lnTo>
                    <a:pt x="53" y="300"/>
                  </a:lnTo>
                  <a:lnTo>
                    <a:pt x="49" y="304"/>
                  </a:lnTo>
                  <a:lnTo>
                    <a:pt x="44" y="313"/>
                  </a:lnTo>
                  <a:lnTo>
                    <a:pt x="44" y="322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2" y="335"/>
                  </a:lnTo>
                  <a:lnTo>
                    <a:pt x="67" y="335"/>
                  </a:lnTo>
                  <a:lnTo>
                    <a:pt x="76" y="335"/>
                  </a:lnTo>
                  <a:lnTo>
                    <a:pt x="125" y="313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41320" y="5952600"/>
              <a:ext cx="161280" cy="110880"/>
            </a:xfrm>
            <a:custGeom>
              <a:avLst/>
              <a:gdLst/>
              <a:ahLst/>
              <a:rect l="l" t="t" r="r" b="b"/>
              <a:pathLst>
                <a:path w="393" h="272">
                  <a:moveTo>
                    <a:pt x="272" y="201"/>
                  </a:moveTo>
                  <a:lnTo>
                    <a:pt x="357" y="250"/>
                  </a:lnTo>
                  <a:lnTo>
                    <a:pt x="366" y="254"/>
                  </a:lnTo>
                  <a:lnTo>
                    <a:pt x="375" y="254"/>
                  </a:lnTo>
                  <a:lnTo>
                    <a:pt x="384" y="250"/>
                  </a:lnTo>
                  <a:lnTo>
                    <a:pt x="388" y="241"/>
                  </a:lnTo>
                  <a:lnTo>
                    <a:pt x="393" y="232"/>
                  </a:lnTo>
                  <a:lnTo>
                    <a:pt x="393" y="223"/>
                  </a:lnTo>
                  <a:lnTo>
                    <a:pt x="388" y="214"/>
                  </a:lnTo>
                  <a:lnTo>
                    <a:pt x="384" y="210"/>
                  </a:lnTo>
                  <a:lnTo>
                    <a:pt x="295" y="156"/>
                  </a:lnTo>
                  <a:lnTo>
                    <a:pt x="339" y="129"/>
                  </a:lnTo>
                  <a:lnTo>
                    <a:pt x="348" y="125"/>
                  </a:lnTo>
                  <a:lnTo>
                    <a:pt x="353" y="116"/>
                  </a:lnTo>
                  <a:lnTo>
                    <a:pt x="353" y="107"/>
                  </a:lnTo>
                  <a:lnTo>
                    <a:pt x="353" y="98"/>
                  </a:lnTo>
                  <a:lnTo>
                    <a:pt x="344" y="94"/>
                  </a:lnTo>
                  <a:lnTo>
                    <a:pt x="339" y="89"/>
                  </a:lnTo>
                  <a:lnTo>
                    <a:pt x="330" y="89"/>
                  </a:lnTo>
                  <a:lnTo>
                    <a:pt x="321" y="89"/>
                  </a:lnTo>
                  <a:lnTo>
                    <a:pt x="254" y="129"/>
                  </a:lnTo>
                  <a:lnTo>
                    <a:pt x="196" y="94"/>
                  </a:lnTo>
                  <a:lnTo>
                    <a:pt x="281" y="49"/>
                  </a:lnTo>
                  <a:lnTo>
                    <a:pt x="290" y="40"/>
                  </a:lnTo>
                  <a:lnTo>
                    <a:pt x="295" y="31"/>
                  </a:lnTo>
                  <a:lnTo>
                    <a:pt x="295" y="26"/>
                  </a:lnTo>
                  <a:lnTo>
                    <a:pt x="295" y="18"/>
                  </a:lnTo>
                  <a:lnTo>
                    <a:pt x="290" y="9"/>
                  </a:lnTo>
                  <a:lnTo>
                    <a:pt x="281" y="4"/>
                  </a:lnTo>
                  <a:lnTo>
                    <a:pt x="272" y="4"/>
                  </a:lnTo>
                  <a:lnTo>
                    <a:pt x="263" y="9"/>
                  </a:lnTo>
                  <a:lnTo>
                    <a:pt x="152" y="71"/>
                  </a:lnTo>
                  <a:lnTo>
                    <a:pt x="27" y="0"/>
                  </a:lnTo>
                  <a:lnTo>
                    <a:pt x="0" y="44"/>
                  </a:lnTo>
                  <a:lnTo>
                    <a:pt x="125" y="116"/>
                  </a:lnTo>
                  <a:lnTo>
                    <a:pt x="125" y="250"/>
                  </a:lnTo>
                  <a:lnTo>
                    <a:pt x="125" y="259"/>
                  </a:lnTo>
                  <a:lnTo>
                    <a:pt x="129" y="263"/>
                  </a:lnTo>
                  <a:lnTo>
                    <a:pt x="138" y="268"/>
                  </a:lnTo>
                  <a:lnTo>
                    <a:pt x="143" y="272"/>
                  </a:lnTo>
                  <a:lnTo>
                    <a:pt x="152" y="272"/>
                  </a:lnTo>
                  <a:lnTo>
                    <a:pt x="161" y="268"/>
                  </a:lnTo>
                  <a:lnTo>
                    <a:pt x="165" y="259"/>
                  </a:lnTo>
                  <a:lnTo>
                    <a:pt x="165" y="250"/>
                  </a:lnTo>
                  <a:lnTo>
                    <a:pt x="170" y="143"/>
                  </a:lnTo>
                  <a:lnTo>
                    <a:pt x="228" y="178"/>
                  </a:lnTo>
                  <a:lnTo>
                    <a:pt x="223" y="254"/>
                  </a:lnTo>
                  <a:lnTo>
                    <a:pt x="228" y="263"/>
                  </a:lnTo>
                  <a:lnTo>
                    <a:pt x="232" y="268"/>
                  </a:lnTo>
                  <a:lnTo>
                    <a:pt x="237" y="272"/>
                  </a:lnTo>
                  <a:lnTo>
                    <a:pt x="245" y="272"/>
                  </a:lnTo>
                  <a:lnTo>
                    <a:pt x="254" y="272"/>
                  </a:lnTo>
                  <a:lnTo>
                    <a:pt x="259" y="268"/>
                  </a:lnTo>
                  <a:lnTo>
                    <a:pt x="263" y="263"/>
                  </a:lnTo>
                  <a:lnTo>
                    <a:pt x="268" y="254"/>
                  </a:lnTo>
                  <a:lnTo>
                    <a:pt x="272" y="20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41320" y="5857560"/>
              <a:ext cx="161280" cy="113040"/>
            </a:xfrm>
            <a:custGeom>
              <a:avLst/>
              <a:gdLst/>
              <a:ahLst/>
              <a:rect l="l" t="t" r="r" b="b"/>
              <a:pathLst>
                <a:path w="393" h="277">
                  <a:moveTo>
                    <a:pt x="295" y="121"/>
                  </a:moveTo>
                  <a:lnTo>
                    <a:pt x="384" y="72"/>
                  </a:lnTo>
                  <a:lnTo>
                    <a:pt x="393" y="63"/>
                  </a:lnTo>
                  <a:lnTo>
                    <a:pt x="393" y="54"/>
                  </a:lnTo>
                  <a:lnTo>
                    <a:pt x="393" y="49"/>
                  </a:lnTo>
                  <a:lnTo>
                    <a:pt x="393" y="40"/>
                  </a:lnTo>
                  <a:lnTo>
                    <a:pt x="384" y="31"/>
                  </a:lnTo>
                  <a:lnTo>
                    <a:pt x="379" y="27"/>
                  </a:lnTo>
                  <a:lnTo>
                    <a:pt x="370" y="27"/>
                  </a:lnTo>
                  <a:lnTo>
                    <a:pt x="357" y="27"/>
                  </a:lnTo>
                  <a:lnTo>
                    <a:pt x="268" y="81"/>
                  </a:lnTo>
                  <a:lnTo>
                    <a:pt x="268" y="27"/>
                  </a:lnTo>
                  <a:lnTo>
                    <a:pt x="268" y="14"/>
                  </a:lnTo>
                  <a:lnTo>
                    <a:pt x="263" y="9"/>
                  </a:lnTo>
                  <a:lnTo>
                    <a:pt x="254" y="5"/>
                  </a:lnTo>
                  <a:lnTo>
                    <a:pt x="250" y="0"/>
                  </a:lnTo>
                  <a:lnTo>
                    <a:pt x="241" y="5"/>
                  </a:lnTo>
                  <a:lnTo>
                    <a:pt x="232" y="5"/>
                  </a:lnTo>
                  <a:lnTo>
                    <a:pt x="228" y="14"/>
                  </a:lnTo>
                  <a:lnTo>
                    <a:pt x="228" y="23"/>
                  </a:lnTo>
                  <a:lnTo>
                    <a:pt x="228" y="99"/>
                  </a:lnTo>
                  <a:lnTo>
                    <a:pt x="170" y="134"/>
                  </a:lnTo>
                  <a:lnTo>
                    <a:pt x="170" y="36"/>
                  </a:lnTo>
                  <a:lnTo>
                    <a:pt x="170" y="27"/>
                  </a:lnTo>
                  <a:lnTo>
                    <a:pt x="165" y="18"/>
                  </a:lnTo>
                  <a:lnTo>
                    <a:pt x="156" y="14"/>
                  </a:lnTo>
                  <a:lnTo>
                    <a:pt x="147" y="9"/>
                  </a:lnTo>
                  <a:lnTo>
                    <a:pt x="138" y="9"/>
                  </a:lnTo>
                  <a:lnTo>
                    <a:pt x="134" y="14"/>
                  </a:lnTo>
                  <a:lnTo>
                    <a:pt x="129" y="23"/>
                  </a:lnTo>
                  <a:lnTo>
                    <a:pt x="125" y="31"/>
                  </a:lnTo>
                  <a:lnTo>
                    <a:pt x="125" y="161"/>
                  </a:lnTo>
                  <a:lnTo>
                    <a:pt x="0" y="233"/>
                  </a:lnTo>
                  <a:lnTo>
                    <a:pt x="27" y="277"/>
                  </a:lnTo>
                  <a:lnTo>
                    <a:pt x="152" y="206"/>
                  </a:lnTo>
                  <a:lnTo>
                    <a:pt x="268" y="273"/>
                  </a:lnTo>
                  <a:lnTo>
                    <a:pt x="272" y="277"/>
                  </a:lnTo>
                  <a:lnTo>
                    <a:pt x="281" y="277"/>
                  </a:lnTo>
                  <a:lnTo>
                    <a:pt x="290" y="273"/>
                  </a:lnTo>
                  <a:lnTo>
                    <a:pt x="295" y="268"/>
                  </a:lnTo>
                  <a:lnTo>
                    <a:pt x="299" y="259"/>
                  </a:lnTo>
                  <a:lnTo>
                    <a:pt x="299" y="251"/>
                  </a:lnTo>
                  <a:lnTo>
                    <a:pt x="295" y="242"/>
                  </a:lnTo>
                  <a:lnTo>
                    <a:pt x="286" y="237"/>
                  </a:lnTo>
                  <a:lnTo>
                    <a:pt x="196" y="179"/>
                  </a:lnTo>
                  <a:lnTo>
                    <a:pt x="254" y="148"/>
                  </a:lnTo>
                  <a:lnTo>
                    <a:pt x="321" y="188"/>
                  </a:lnTo>
                  <a:lnTo>
                    <a:pt x="330" y="192"/>
                  </a:lnTo>
                  <a:lnTo>
                    <a:pt x="335" y="192"/>
                  </a:lnTo>
                  <a:lnTo>
                    <a:pt x="344" y="188"/>
                  </a:lnTo>
                  <a:lnTo>
                    <a:pt x="348" y="179"/>
                  </a:lnTo>
                  <a:lnTo>
                    <a:pt x="348" y="175"/>
                  </a:lnTo>
                  <a:lnTo>
                    <a:pt x="348" y="166"/>
                  </a:lnTo>
                  <a:lnTo>
                    <a:pt x="348" y="157"/>
                  </a:lnTo>
                  <a:lnTo>
                    <a:pt x="339" y="152"/>
                  </a:lnTo>
                  <a:lnTo>
                    <a:pt x="295" y="121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93800" y="5916240"/>
              <a:ext cx="108000" cy="92880"/>
            </a:xfrm>
            <a:custGeom>
              <a:avLst/>
              <a:gdLst/>
              <a:ahLst/>
              <a:rect l="l" t="t" r="r" b="b"/>
              <a:pathLst>
                <a:path w="263" h="228">
                  <a:moveTo>
                    <a:pt x="0" y="116"/>
                  </a:moveTo>
                  <a:lnTo>
                    <a:pt x="49" y="67"/>
                  </a:lnTo>
                  <a:lnTo>
                    <a:pt x="67" y="0"/>
                  </a:lnTo>
                  <a:lnTo>
                    <a:pt x="134" y="23"/>
                  </a:lnTo>
                  <a:lnTo>
                    <a:pt x="201" y="0"/>
                  </a:lnTo>
                  <a:lnTo>
                    <a:pt x="214" y="67"/>
                  </a:lnTo>
                  <a:lnTo>
                    <a:pt x="263" y="116"/>
                  </a:lnTo>
                  <a:lnTo>
                    <a:pt x="214" y="161"/>
                  </a:lnTo>
                  <a:lnTo>
                    <a:pt x="201" y="228"/>
                  </a:lnTo>
                  <a:lnTo>
                    <a:pt x="134" y="210"/>
                  </a:lnTo>
                  <a:lnTo>
                    <a:pt x="67" y="228"/>
                  </a:lnTo>
                  <a:lnTo>
                    <a:pt x="49" y="161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c0e5fe"/>
                </a:gs>
                <a:gs pos="100000">
                  <a:srgbClr val="0099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 rot="9876600">
            <a:off x="1571760" y="-3269880"/>
            <a:ext cx="13061880" cy="934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72" y="446"/>
                </a:moveTo>
                <a:arcTo wR="10800" hR="10800" stAng="-4408455" swAng="4060051"/>
                <a:lnTo>
                  <a:pt x="10800" y="10800"/>
                </a:lnTo>
                <a:close/>
              </a:path>
              <a:path fill="none" w="21600" h="21600">
                <a:moveTo>
                  <a:pt x="13872" y="446"/>
                </a:moveTo>
                <a:arcTo wR="10800" hR="10800" stAng="-4408455" swAng="4060051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32200" y="150192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846600" y="258120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951440" y="3660840"/>
            <a:ext cx="374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9120" y="5133960"/>
            <a:ext cx="3181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31720" y="3736800"/>
            <a:ext cx="15685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44680" y="2340000"/>
            <a:ext cx="1568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270080" y="863640"/>
            <a:ext cx="3251160" cy="507960"/>
          </a:xfrm>
          <a:custGeom>
            <a:avLst/>
            <a:gdLst>
              <a:gd name="textAreaLeft" fmla="*/ 0 w 3251160"/>
              <a:gd name="textAreaRight" fmla="*/ 3251520 w 3251160"/>
              <a:gd name="textAreaTop" fmla="*/ 65880 h 507960"/>
              <a:gd name="textAreaBottom" fmla="*/ 442080 h 507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cc66">
                  <a:alpha val="50196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14300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39960" y="1587600"/>
            <a:ext cx="0" cy="4597200"/>
          </a:xfrm>
          <a:prstGeom prst="line">
            <a:avLst/>
          </a:prstGeom>
          <a:ln cap="rnd" w="38160">
            <a:solidFill>
              <a:srgbClr val="ffcc00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1680" y="4927680"/>
            <a:ext cx="8267400" cy="97776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1680" y="3886200"/>
            <a:ext cx="8267400" cy="97776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1680" y="2844720"/>
            <a:ext cx="8267400" cy="97812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1680" y="1803240"/>
            <a:ext cx="8267400" cy="978120"/>
          </a:xfrm>
          <a:prstGeom prst="rect">
            <a:avLst/>
          </a:prstGeom>
          <a:gradFill rotWithShape="0">
            <a:gsLst>
              <a:gs pos="0">
                <a:srgbClr val="99cc00">
                  <a:alpha val="20000"/>
                </a:srgbClr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0720" y="552600"/>
            <a:ext cx="1070280" cy="10872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608040" y="4960800"/>
            <a:ext cx="942840" cy="9241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608040" y="1824120"/>
            <a:ext cx="942840" cy="9237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620640" y="3919680"/>
            <a:ext cx="943200" cy="9237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608040" y="2878200"/>
            <a:ext cx="942840" cy="9237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700280" y="185724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00280" y="28861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00280" y="394020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87680" y="4968720"/>
            <a:ext cx="701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663560" y="9270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066680" y="1384200"/>
          <a:ext cx="7239240" cy="379908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굴림"/>
                        </a:rPr>
                        <a:t>Title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굴림"/>
                        </a:rPr>
                        <a:t>Title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굴림"/>
                        </a:rPr>
                        <a:t>Title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굴림"/>
                        </a:rPr>
                        <a:t>Title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ffff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512" name="" descr=""/>
          <p:cNvPicPr/>
          <p:nvPr/>
        </p:nvPicPr>
        <p:blipFill>
          <a:blip r:embed="rId7"/>
          <a:stretch/>
        </p:blipFill>
        <p:spPr>
          <a:xfrm>
            <a:off x="5460840" y="3060720"/>
            <a:ext cx="2832120" cy="2124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9280" y="2701800"/>
            <a:ext cx="1251000" cy="15876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 flipV="1">
            <a:off x="1193760" y="307296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971440" y="3072960"/>
            <a:ext cx="180324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356560" y="2537640"/>
            <a:ext cx="1104840" cy="1200960"/>
            <a:chOff x="2356560" y="2537640"/>
            <a:chExt cx="1104840" cy="1200960"/>
          </a:xfrm>
        </p:grpSpPr>
        <p:grpSp>
          <p:nvGrpSpPr>
            <p:cNvPr id="519" name=""/>
            <p:cNvGrpSpPr/>
            <p:nvPr/>
          </p:nvGrpSpPr>
          <p:grpSpPr>
            <a:xfrm>
              <a:off x="2356560" y="2537640"/>
              <a:ext cx="1104840" cy="1200960"/>
              <a:chOff x="2356560" y="2537640"/>
              <a:chExt cx="1104840" cy="1200960"/>
            </a:xfrm>
          </p:grpSpPr>
          <p:sp>
            <p:nvSpPr>
              <p:cNvPr id="520" name=""/>
              <p:cNvSpPr/>
              <p:nvPr/>
            </p:nvSpPr>
            <p:spPr>
              <a:xfrm rot="1848000">
                <a:off x="2505600" y="268704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848000">
                <a:off x="2557800" y="273924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848000">
                <a:off x="2573640" y="3399840"/>
                <a:ext cx="8352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2565360" y="29210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 flipV="1">
            <a:off x="4813200" y="3149280"/>
            <a:ext cx="1765440" cy="72396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6591240" y="3161880"/>
            <a:ext cx="1803600" cy="8002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197960" y="3299400"/>
            <a:ext cx="1104840" cy="1200960"/>
            <a:chOff x="4197960" y="3299400"/>
            <a:chExt cx="1104840" cy="1200960"/>
          </a:xfrm>
        </p:grpSpPr>
        <p:grpSp>
          <p:nvGrpSpPr>
            <p:cNvPr id="527" name=""/>
            <p:cNvGrpSpPr/>
            <p:nvPr/>
          </p:nvGrpSpPr>
          <p:grpSpPr>
            <a:xfrm>
              <a:off x="4197960" y="3299400"/>
              <a:ext cx="1104840" cy="1200960"/>
              <a:chOff x="4197960" y="3299400"/>
              <a:chExt cx="1104840" cy="1200960"/>
            </a:xfrm>
          </p:grpSpPr>
          <p:sp>
            <p:nvSpPr>
              <p:cNvPr id="528" name=""/>
              <p:cNvSpPr/>
              <p:nvPr/>
            </p:nvSpPr>
            <p:spPr>
              <a:xfrm rot="1848000">
                <a:off x="4347000" y="344880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848000">
                <a:off x="4399200" y="350100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848000">
                <a:off x="4415040" y="4161600"/>
                <a:ext cx="8352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4406760" y="368280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6014160" y="2575440"/>
            <a:ext cx="1104840" cy="1200960"/>
            <a:chOff x="6014160" y="2575440"/>
            <a:chExt cx="1104840" cy="1200960"/>
          </a:xfrm>
        </p:grpSpPr>
        <p:grpSp>
          <p:nvGrpSpPr>
            <p:cNvPr id="533" name=""/>
            <p:cNvGrpSpPr/>
            <p:nvPr/>
          </p:nvGrpSpPr>
          <p:grpSpPr>
            <a:xfrm>
              <a:off x="6014160" y="2575440"/>
              <a:ext cx="1104840" cy="1200960"/>
              <a:chOff x="6014160" y="2575440"/>
              <a:chExt cx="1104840" cy="1200960"/>
            </a:xfrm>
          </p:grpSpPr>
          <p:sp>
            <p:nvSpPr>
              <p:cNvPr id="534" name=""/>
              <p:cNvSpPr/>
              <p:nvPr/>
            </p:nvSpPr>
            <p:spPr>
              <a:xfrm rot="1848000">
                <a:off x="6163200" y="272484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848000">
                <a:off x="6215400" y="277704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848000">
                <a:off x="6231240" y="3437640"/>
                <a:ext cx="8352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6222960" y="295884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7868160" y="3413880"/>
            <a:ext cx="1104840" cy="1200960"/>
            <a:chOff x="7868160" y="3413880"/>
            <a:chExt cx="1104840" cy="1200960"/>
          </a:xfrm>
        </p:grpSpPr>
        <p:grpSp>
          <p:nvGrpSpPr>
            <p:cNvPr id="539" name=""/>
            <p:cNvGrpSpPr/>
            <p:nvPr/>
          </p:nvGrpSpPr>
          <p:grpSpPr>
            <a:xfrm>
              <a:off x="7868160" y="3413880"/>
              <a:ext cx="1104840" cy="1200960"/>
              <a:chOff x="7868160" y="3413880"/>
              <a:chExt cx="1104840" cy="1200960"/>
            </a:xfrm>
          </p:grpSpPr>
          <p:sp>
            <p:nvSpPr>
              <p:cNvPr id="540" name=""/>
              <p:cNvSpPr/>
              <p:nvPr/>
            </p:nvSpPr>
            <p:spPr>
              <a:xfrm rot="1848000">
                <a:off x="8017200" y="3563280"/>
                <a:ext cx="806400" cy="805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848000">
                <a:off x="8069400" y="3615480"/>
                <a:ext cx="701640" cy="70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80808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848000">
                <a:off x="8085240" y="4276080"/>
                <a:ext cx="83520" cy="341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0000"/>
                  </a:gs>
                  <a:gs pos="100000">
                    <a:srgbClr val="808080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8076960" y="3797280"/>
              <a:ext cx="78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2068560" y="391464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75200" y="892080"/>
            <a:ext cx="1466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840280" y="39783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67560" y="790560"/>
            <a:ext cx="1467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52280" y="1193760"/>
            <a:ext cx="1346040" cy="1334880"/>
            <a:chOff x="152280" y="1193760"/>
            <a:chExt cx="1346040" cy="1334880"/>
          </a:xfrm>
        </p:grpSpPr>
        <p:pic>
          <p:nvPicPr>
            <p:cNvPr id="551" name="" descr=""/>
            <p:cNvPicPr/>
            <p:nvPr/>
          </p:nvPicPr>
          <p:blipFill>
            <a:blip r:embed="rId1"/>
            <a:stretch/>
          </p:blipFill>
          <p:spPr>
            <a:xfrm>
              <a:off x="237960" y="1299600"/>
              <a:ext cx="111960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152280" y="119376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4400" y="1225440"/>
              <a:ext cx="130392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778040" y="1181160"/>
            <a:ext cx="7213680" cy="1422360"/>
            <a:chOff x="1778040" y="1181160"/>
            <a:chExt cx="7213680" cy="1422360"/>
          </a:xfrm>
        </p:grpSpPr>
        <p:sp>
          <p:nvSpPr>
            <p:cNvPr id="555" name=""/>
            <p:cNvSpPr/>
            <p:nvPr/>
          </p:nvSpPr>
          <p:spPr>
            <a:xfrm>
              <a:off x="1778040" y="118116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59040" y="1257480"/>
              <a:ext cx="705024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67040" y="133668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7653240" y="2944800"/>
            <a:ext cx="1270080" cy="1334880"/>
            <a:chOff x="7653240" y="2944800"/>
            <a:chExt cx="1270080" cy="1334880"/>
          </a:xfrm>
        </p:grpSpPr>
        <p:pic>
          <p:nvPicPr>
            <p:cNvPr id="559" name="" descr=""/>
            <p:cNvPicPr/>
            <p:nvPr/>
          </p:nvPicPr>
          <p:blipFill>
            <a:blip r:embed="rId3"/>
            <a:stretch/>
          </p:blipFill>
          <p:spPr>
            <a:xfrm flipH="1">
              <a:off x="7786080" y="3050640"/>
              <a:ext cx="1056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 flipH="1">
              <a:off x="7692840" y="294480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52880" y="2976480"/>
              <a:ext cx="1230120" cy="1303200"/>
            </a:xfrm>
            <a:custGeom>
              <a:avLst/>
              <a:gdLst>
                <a:gd name="textAreaLeft" fmla="*/ 37080 w 1230120"/>
                <a:gd name="textAreaRight" fmla="*/ 1193040 w 1230120"/>
                <a:gd name="textAreaTop" fmla="*/ 37080 h 1303200"/>
                <a:gd name="textAreaBottom" fmla="*/ 1266120 h 1303200"/>
              </a:gdLst>
              <a:ahLst/>
              <a:rect l="textAreaLeft" t="textAreaTop" r="textAreaRight" b="textAreaBottom"/>
              <a:pathLst>
                <a:path w="21600" h="22883">
                  <a:moveTo>
                    <a:pt x="2225" y="0"/>
                  </a:moveTo>
                  <a:arcTo wR="2225" hR="2225" stAng="16200000" swAng="-5400000"/>
                  <a:lnTo>
                    <a:pt x="0" y="20658"/>
                  </a:lnTo>
                  <a:arcTo wR="2225" hR="2225" stAng="10800000" swAng="-5400000"/>
                  <a:lnTo>
                    <a:pt x="19375" y="22883"/>
                  </a:lnTo>
                  <a:arcTo wR="2225" hR="2225" stAng="5400000" swAng="-5400000"/>
                  <a:lnTo>
                    <a:pt x="21600" y="2225"/>
                  </a:lnTo>
                  <a:arcTo wR="2225" hR="2225" stAng="0" swAng="-5400000"/>
                  <a:close/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1498680" y="18543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03040" y="2908440"/>
            <a:ext cx="7213680" cy="1422360"/>
            <a:chOff x="203040" y="2908440"/>
            <a:chExt cx="7213680" cy="1422360"/>
          </a:xfrm>
        </p:grpSpPr>
        <p:sp>
          <p:nvSpPr>
            <p:cNvPr id="564" name=""/>
            <p:cNvSpPr/>
            <p:nvPr/>
          </p:nvSpPr>
          <p:spPr>
            <a:xfrm>
              <a:off x="203040" y="290844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84040" y="2984760"/>
              <a:ext cx="705024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2040" y="306396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7454880" y="359424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77840" y="4660920"/>
            <a:ext cx="1345680" cy="1334880"/>
            <a:chOff x="177840" y="4660920"/>
            <a:chExt cx="1345680" cy="1334880"/>
          </a:xfrm>
        </p:grpSpPr>
        <p:pic>
          <p:nvPicPr>
            <p:cNvPr id="569" name="" descr=""/>
            <p:cNvPicPr/>
            <p:nvPr/>
          </p:nvPicPr>
          <p:blipFill>
            <a:blip r:embed="rId5"/>
            <a:stretch/>
          </p:blipFill>
          <p:spPr>
            <a:xfrm>
              <a:off x="263520" y="4766760"/>
              <a:ext cx="1119240" cy="10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177840" y="466092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9960" y="4692600"/>
              <a:ext cx="1303560" cy="1303200"/>
            </a:xfrm>
            <a:prstGeom prst="roundRect">
              <a:avLst>
                <a:gd name="adj" fmla="val 10301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803240" y="4648320"/>
            <a:ext cx="7213680" cy="1422360"/>
            <a:chOff x="1803240" y="4648320"/>
            <a:chExt cx="7213680" cy="1422360"/>
          </a:xfrm>
        </p:grpSpPr>
        <p:sp>
          <p:nvSpPr>
            <p:cNvPr id="573" name=""/>
            <p:cNvSpPr/>
            <p:nvPr/>
          </p:nvSpPr>
          <p:spPr>
            <a:xfrm>
              <a:off x="1803240" y="4648320"/>
              <a:ext cx="7213680" cy="1422360"/>
            </a:xfrm>
            <a:prstGeom prst="roundRect">
              <a:avLst>
                <a:gd name="adj" fmla="val 13019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84240" y="4724640"/>
              <a:ext cx="7050240" cy="1274760"/>
            </a:xfrm>
            <a:prstGeom prst="roundRect">
              <a:avLst>
                <a:gd name="adj" fmla="val 10745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92240" y="4803840"/>
              <a:ext cx="7016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5321160"/>
            <a:ext cx="228600" cy="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17680" y="870120"/>
            <a:ext cx="1504800" cy="19634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419040" y="851040"/>
            <a:ext cx="8305920" cy="53719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590920" y="127008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331640" y="2822400"/>
            <a:ext cx="7169400" cy="916920"/>
            <a:chOff x="1331640" y="2822400"/>
            <a:chExt cx="7169400" cy="916920"/>
          </a:xfrm>
        </p:grpSpPr>
        <p:grpSp>
          <p:nvGrpSpPr>
            <p:cNvPr id="586" name=""/>
            <p:cNvGrpSpPr/>
            <p:nvPr/>
          </p:nvGrpSpPr>
          <p:grpSpPr>
            <a:xfrm>
              <a:off x="1331640" y="2991600"/>
              <a:ext cx="532080" cy="417960"/>
              <a:chOff x="1331640" y="2991600"/>
              <a:chExt cx="532080" cy="417960"/>
            </a:xfrm>
          </p:grpSpPr>
          <p:sp>
            <p:nvSpPr>
              <p:cNvPr id="587" name=""/>
              <p:cNvSpPr/>
              <p:nvPr/>
            </p:nvSpPr>
            <p:spPr>
              <a:xfrm>
                <a:off x="1484640" y="3216240"/>
                <a:ext cx="222480" cy="1933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9159200">
                <a:off x="1365120" y="3137760"/>
                <a:ext cx="106560" cy="14256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20197200">
                <a:off x="1459800" y="301032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320000">
                <a:off x="1627200" y="300492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3740000">
                <a:off x="1721520" y="3131640"/>
                <a:ext cx="106560" cy="14256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1941480" y="282240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331640" y="3825720"/>
            <a:ext cx="7169400" cy="916920"/>
            <a:chOff x="1331640" y="3825720"/>
            <a:chExt cx="7169400" cy="916920"/>
          </a:xfrm>
        </p:grpSpPr>
        <p:grpSp>
          <p:nvGrpSpPr>
            <p:cNvPr id="594" name=""/>
            <p:cNvGrpSpPr/>
            <p:nvPr/>
          </p:nvGrpSpPr>
          <p:grpSpPr>
            <a:xfrm>
              <a:off x="1331640" y="3994920"/>
              <a:ext cx="532080" cy="417960"/>
              <a:chOff x="1331640" y="3994920"/>
              <a:chExt cx="532080" cy="417960"/>
            </a:xfrm>
          </p:grpSpPr>
          <p:sp>
            <p:nvSpPr>
              <p:cNvPr id="595" name=""/>
              <p:cNvSpPr/>
              <p:nvPr/>
            </p:nvSpPr>
            <p:spPr>
              <a:xfrm>
                <a:off x="1484640" y="4219560"/>
                <a:ext cx="222480" cy="1933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9159200">
                <a:off x="1365120" y="4141080"/>
                <a:ext cx="106560" cy="14256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20197200">
                <a:off x="1459800" y="401364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320000">
                <a:off x="1627200" y="400824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3740000">
                <a:off x="1721520" y="4134960"/>
                <a:ext cx="106560" cy="14256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941480" y="382572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331640" y="4816440"/>
            <a:ext cx="7169400" cy="916920"/>
            <a:chOff x="1331640" y="4816440"/>
            <a:chExt cx="7169400" cy="916920"/>
          </a:xfrm>
        </p:grpSpPr>
        <p:grpSp>
          <p:nvGrpSpPr>
            <p:cNvPr id="602" name=""/>
            <p:cNvGrpSpPr/>
            <p:nvPr/>
          </p:nvGrpSpPr>
          <p:grpSpPr>
            <a:xfrm>
              <a:off x="1331640" y="4985640"/>
              <a:ext cx="532080" cy="417960"/>
              <a:chOff x="1331640" y="4985640"/>
              <a:chExt cx="532080" cy="417960"/>
            </a:xfrm>
          </p:grpSpPr>
          <p:sp>
            <p:nvSpPr>
              <p:cNvPr id="603" name=""/>
              <p:cNvSpPr/>
              <p:nvPr/>
            </p:nvSpPr>
            <p:spPr>
              <a:xfrm>
                <a:off x="1484640" y="5210280"/>
                <a:ext cx="222480" cy="1933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9159200">
                <a:off x="1365120" y="5131800"/>
                <a:ext cx="106560" cy="14256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20197200">
                <a:off x="1459800" y="5004360"/>
                <a:ext cx="10512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320000">
                <a:off x="1627200" y="4998960"/>
                <a:ext cx="104400" cy="16272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13740000">
                <a:off x="1721520" y="5125680"/>
                <a:ext cx="106560" cy="14256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1941480" y="4816440"/>
              <a:ext cx="655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 rot="10800000">
            <a:off x="7893360" y="3809880"/>
            <a:ext cx="2476080" cy="247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877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87732"/>
              </a:path>
            </a:pathLst>
          </a:custGeom>
          <a:gradFill rotWithShape="0">
            <a:gsLst>
              <a:gs pos="0">
                <a:srgbClr val="ff66ff">
                  <a:alpha val="17254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-1275840" y="952560"/>
            <a:ext cx="2551680" cy="255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6877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687732"/>
              </a:path>
            </a:pathLst>
          </a:custGeom>
          <a:gradFill rotWithShape="0">
            <a:gsLst>
              <a:gs pos="0">
                <a:srgbClr val="99cc00">
                  <a:alpha val="17254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8259840" y="4579920"/>
            <a:ext cx="785880" cy="1023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12600" y="1419120"/>
            <a:ext cx="1060560" cy="134640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91960" y="2946240"/>
            <a:ext cx="0" cy="2895840"/>
          </a:xfrm>
          <a:prstGeom prst="line">
            <a:avLst/>
          </a:prstGeom>
          <a:ln cap="rnd" w="28440">
            <a:solidFill>
              <a:srgbClr val="99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30200" y="36860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04640" y="4702320"/>
            <a:ext cx="372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409760" y="205740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8915400" y="1562040"/>
            <a:ext cx="0" cy="2578320"/>
          </a:xfrm>
          <a:prstGeom prst="line">
            <a:avLst/>
          </a:prstGeom>
          <a:ln cap="rnd" w="28440">
            <a:solidFill>
              <a:srgbClr val="ff99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92560" y="5003640"/>
            <a:ext cx="26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951440" y="184464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925880" y="2860560"/>
            <a:ext cx="372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82680" y="1955880"/>
            <a:ext cx="7149960" cy="0"/>
          </a:xfrm>
          <a:prstGeom prst="line">
            <a:avLst/>
          </a:prstGeom>
          <a:ln w="9360">
            <a:solidFill>
              <a:srgbClr val="ffcc66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46040" y="1905120"/>
            <a:ext cx="7150320" cy="0"/>
          </a:xfrm>
          <a:prstGeom prst="line">
            <a:avLst/>
          </a:prstGeom>
          <a:ln w="9360">
            <a:solidFill>
              <a:srgbClr val="99cc00"/>
            </a:solidFill>
            <a:prstDash val="lgDashDot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7880" y="1079640"/>
            <a:ext cx="1487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400480" y="2921040"/>
            <a:ext cx="419040" cy="425880"/>
            <a:chOff x="2400480" y="2921040"/>
            <a:chExt cx="419040" cy="425880"/>
          </a:xfrm>
        </p:grpSpPr>
        <p:sp>
          <p:nvSpPr>
            <p:cNvPr id="115" name=""/>
            <p:cNvSpPr/>
            <p:nvPr/>
          </p:nvSpPr>
          <p:spPr>
            <a:xfrm>
              <a:off x="2400480" y="29210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50880" y="2948040"/>
              <a:ext cx="28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882880" y="33228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2882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400480" y="3492360"/>
            <a:ext cx="419040" cy="425880"/>
            <a:chOff x="2400480" y="3492360"/>
            <a:chExt cx="419040" cy="425880"/>
          </a:xfrm>
        </p:grpSpPr>
        <p:sp>
          <p:nvSpPr>
            <p:cNvPr id="120" name=""/>
            <p:cNvSpPr/>
            <p:nvPr/>
          </p:nvSpPr>
          <p:spPr>
            <a:xfrm>
              <a:off x="2400480" y="349236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50880" y="3519360"/>
              <a:ext cx="28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882880" y="38941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34545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387520" y="4076640"/>
            <a:ext cx="419040" cy="425880"/>
            <a:chOff x="2387520" y="4076640"/>
            <a:chExt cx="419040" cy="425880"/>
          </a:xfrm>
        </p:grpSpPr>
        <p:sp>
          <p:nvSpPr>
            <p:cNvPr id="125" name=""/>
            <p:cNvSpPr/>
            <p:nvPr/>
          </p:nvSpPr>
          <p:spPr>
            <a:xfrm>
              <a:off x="2387520" y="407664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7920" y="4103640"/>
              <a:ext cx="28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870280" y="447840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35160" y="40384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387520" y="4648320"/>
            <a:ext cx="419040" cy="425880"/>
            <a:chOff x="2387520" y="4648320"/>
            <a:chExt cx="419040" cy="425880"/>
          </a:xfrm>
        </p:grpSpPr>
        <p:sp>
          <p:nvSpPr>
            <p:cNvPr id="130" name=""/>
            <p:cNvSpPr/>
            <p:nvPr/>
          </p:nvSpPr>
          <p:spPr>
            <a:xfrm>
              <a:off x="2387520" y="4648320"/>
              <a:ext cx="419040" cy="41904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cap="rnd" w="19080">
              <a:solidFill>
                <a:srgbClr val="99cc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7920" y="4675320"/>
              <a:ext cx="28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870280" y="5049720"/>
            <a:ext cx="483876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35160" y="46101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393840" y="0"/>
            <a:ext cx="875016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423040" y="0"/>
            <a:ext cx="372096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44960" y="347760"/>
            <a:ext cx="46926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0099ff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0099ff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969240" y="6022800"/>
            <a:ext cx="192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尊重作者劳动成果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转载请注明出处：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378700000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5680" y="888840"/>
            <a:ext cx="2705040" cy="4991400"/>
            <a:chOff x="355680" y="888840"/>
            <a:chExt cx="2705040" cy="499140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663560" y="4056120"/>
              <a:ext cx="139392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55680" y="888840"/>
              <a:ext cx="2705040" cy="4991400"/>
            </a:xfrm>
            <a:custGeom>
              <a:avLst/>
              <a:gdLst>
                <a:gd name="textAreaLeft" fmla="*/ 39240 w 2705040"/>
                <a:gd name="textAreaRight" fmla="*/ 2665800 w 2705040"/>
                <a:gd name="textAreaTop" fmla="*/ 39240 h 4991400"/>
                <a:gd name="textAreaBottom" fmla="*/ 4952160 h 4991400"/>
              </a:gdLst>
              <a:ahLst/>
              <a:rect l="textAreaLeft" t="textAreaTop" r="textAreaRight" b="textAreaBottom"/>
              <a:pathLst>
                <a:path w="21600" h="39854">
                  <a:moveTo>
                    <a:pt x="1072" y="0"/>
                  </a:moveTo>
                  <a:arcTo wR="1072" hR="1072" stAng="16200000" swAng="-5400000"/>
                  <a:lnTo>
                    <a:pt x="0" y="38782"/>
                  </a:lnTo>
                  <a:arcTo wR="1072" hR="1072" stAng="10800000" swAng="-5400000"/>
                  <a:lnTo>
                    <a:pt x="20528" y="39854"/>
                  </a:lnTo>
                  <a:arcTo wR="1072" hR="1072" stAng="5400000" swAng="-5400000"/>
                  <a:lnTo>
                    <a:pt x="21600" y="1072"/>
                  </a:lnTo>
                  <a:arcTo wR="1072" hR="1072" stAng="0" swAng="-5400000"/>
                  <a:close/>
                </a:path>
              </a:pathLst>
            </a:cu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263760" y="888840"/>
            <a:ext cx="5600880" cy="5004000"/>
          </a:xfrm>
          <a:prstGeom prst="roundRect">
            <a:avLst>
              <a:gd name="adj" fmla="val 2727"/>
            </a:avLst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ubPieSlice"/>
          <p:cNvSpPr/>
          <p:nvPr/>
        </p:nvSpPr>
        <p:spPr>
          <a:xfrm>
            <a:off x="590400" y="170640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arcTo wR="10800" hR="10800" stAng="-6971893" swAng="-18665956"/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2880" y="17272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ubPieSlice"/>
          <p:cNvSpPr/>
          <p:nvPr/>
        </p:nvSpPr>
        <p:spPr>
          <a:xfrm>
            <a:off x="590400" y="217656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arcTo wR="10800" hR="10800" stAng="-6971893" swAng="-18665956"/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2880" y="219708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ubPieSlice"/>
          <p:cNvSpPr/>
          <p:nvPr/>
        </p:nvSpPr>
        <p:spPr>
          <a:xfrm>
            <a:off x="590400" y="2658960"/>
            <a:ext cx="282600" cy="32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32" y="1109"/>
                </a:moveTo>
                <a:arcTo wR="10800" hR="10800" stAng="-6971893" swAng="-18665956"/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2880" y="2679840"/>
            <a:ext cx="20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84760" y="142560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67160" y="1511280"/>
            <a:ext cx="266760" cy="266760"/>
            <a:chOff x="3467160" y="1511280"/>
            <a:chExt cx="266760" cy="266760"/>
          </a:xfrm>
        </p:grpSpPr>
        <p:sp>
          <p:nvSpPr>
            <p:cNvPr id="148" name=""/>
            <p:cNvSpPr/>
            <p:nvPr/>
          </p:nvSpPr>
          <p:spPr>
            <a:xfrm>
              <a:off x="3467160" y="15112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83360" y="158076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73640" y="160524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7960" y="165960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840" y="170856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884760" y="225108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67160" y="2336760"/>
            <a:ext cx="266760" cy="266760"/>
            <a:chOff x="3467160" y="2336760"/>
            <a:chExt cx="266760" cy="266760"/>
          </a:xfrm>
        </p:grpSpPr>
        <p:sp>
          <p:nvSpPr>
            <p:cNvPr id="155" name=""/>
            <p:cNvSpPr/>
            <p:nvPr/>
          </p:nvSpPr>
          <p:spPr>
            <a:xfrm>
              <a:off x="3467160" y="233676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83360" y="240624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73640" y="243072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67960" y="248508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97840" y="253404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884760" y="310212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67160" y="3187800"/>
            <a:ext cx="266760" cy="266760"/>
            <a:chOff x="3467160" y="3187800"/>
            <a:chExt cx="266760" cy="266760"/>
          </a:xfrm>
        </p:grpSpPr>
        <p:sp>
          <p:nvSpPr>
            <p:cNvPr id="162" name=""/>
            <p:cNvSpPr/>
            <p:nvPr/>
          </p:nvSpPr>
          <p:spPr>
            <a:xfrm>
              <a:off x="3467160" y="31878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83360" y="32572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73640" y="32817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7960" y="33361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97840" y="3385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884760" y="397836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467160" y="4064040"/>
            <a:ext cx="266760" cy="266760"/>
            <a:chOff x="3467160" y="4064040"/>
            <a:chExt cx="266760" cy="266760"/>
          </a:xfrm>
        </p:grpSpPr>
        <p:sp>
          <p:nvSpPr>
            <p:cNvPr id="169" name=""/>
            <p:cNvSpPr/>
            <p:nvPr/>
          </p:nvSpPr>
          <p:spPr>
            <a:xfrm>
              <a:off x="3467160" y="40640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83360" y="41335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73640" y="41580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67960" y="42123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97840" y="42613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884760" y="4829040"/>
            <a:ext cx="478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467160" y="4915080"/>
            <a:ext cx="266760" cy="266400"/>
            <a:chOff x="3467160" y="4915080"/>
            <a:chExt cx="266760" cy="266400"/>
          </a:xfrm>
        </p:grpSpPr>
        <p:sp>
          <p:nvSpPr>
            <p:cNvPr id="176" name=""/>
            <p:cNvSpPr/>
            <p:nvPr/>
          </p:nvSpPr>
          <p:spPr>
            <a:xfrm>
              <a:off x="3467160" y="4915080"/>
              <a:ext cx="266760" cy="2664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83360" y="498420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73640" y="500868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7960" y="5063400"/>
              <a:ext cx="62640" cy="6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7840" y="5112360"/>
              <a:ext cx="0" cy="6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979720" y="1766880"/>
            <a:ext cx="3367080" cy="3367080"/>
            <a:chOff x="2979720" y="1766880"/>
            <a:chExt cx="3367080" cy="3367080"/>
          </a:xfrm>
        </p:grpSpPr>
        <p:grpSp>
          <p:nvGrpSpPr>
            <p:cNvPr id="184" name=""/>
            <p:cNvGrpSpPr/>
            <p:nvPr/>
          </p:nvGrpSpPr>
          <p:grpSpPr>
            <a:xfrm>
              <a:off x="3227400" y="2334960"/>
              <a:ext cx="2951280" cy="2286000"/>
              <a:chOff x="3227400" y="2334960"/>
              <a:chExt cx="2951280" cy="2286000"/>
            </a:xfrm>
          </p:grpSpPr>
          <p:pic>
            <p:nvPicPr>
              <p:cNvPr id="1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27480" y="2471400"/>
                <a:ext cx="2801880" cy="210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3227400" y="2334960"/>
                <a:ext cx="2951280" cy="22860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2979720" y="1766880"/>
              <a:ext cx="3367080" cy="336708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19400" y="1919160"/>
              <a:ext cx="3075120" cy="3074760"/>
            </a:xfrm>
            <a:prstGeom prst="ellips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11480" y="3213000"/>
              <a:ext cx="31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 YOUR 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648320" y="965160"/>
            <a:ext cx="0" cy="8128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213960" y="234972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6112080" y="4318200"/>
            <a:ext cx="703800" cy="40608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635360" y="5143320"/>
            <a:ext cx="0" cy="81252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6680" y="2349720"/>
            <a:ext cx="70380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492640" y="4305600"/>
            <a:ext cx="704160" cy="406440"/>
          </a:xfrm>
          <a:prstGeom prst="line">
            <a:avLst/>
          </a:prstGeom>
          <a:ln cap="rnd" w="38160">
            <a:solidFill>
              <a:srgbClr val="00cc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3600000">
            <a:off x="2984040" y="9651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7200000">
            <a:off x="5702400" y="965160"/>
            <a:ext cx="520560" cy="92736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6972480" y="306036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5120" y="304812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4400000">
            <a:off x="5626080" y="519408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8000000">
            <a:off x="3085920" y="5169240"/>
            <a:ext cx="520560" cy="927000"/>
          </a:xfrm>
          <a:prstGeom prst="rightArrow">
            <a:avLst>
              <a:gd name="adj1" fmla="val 50000"/>
              <a:gd name="adj2" fmla="val 39634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308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9760" y="88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37360" y="331488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15920" y="330192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4160" y="5676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7920" y="56894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87640" y="690480"/>
            <a:ext cx="1619280" cy="1592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H="1">
            <a:off x="1383480" y="1628640"/>
            <a:ext cx="4212360" cy="147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17" y="102"/>
                </a:moveTo>
                <a:arcTo wR="10800" hR="10800" stAng="-5873698" swAng="5873698"/>
                <a:lnTo>
                  <a:pt x="10800" y="10800"/>
                </a:lnTo>
                <a:close/>
              </a:path>
              <a:path fill="none" w="21600" h="21600">
                <a:moveTo>
                  <a:pt x="9317" y="102"/>
                </a:moveTo>
                <a:arcTo wR="10800" hR="10800" stAng="-5873698" swAng="5873698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3920" y="1666800"/>
            <a:ext cx="4049640" cy="147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17" y="102"/>
                </a:moveTo>
                <a:arcTo wR="10800" hR="10800" stAng="-5873698" swAng="5873698"/>
                <a:lnTo>
                  <a:pt x="10800" y="10800"/>
                </a:lnTo>
                <a:close/>
              </a:path>
              <a:path fill="none" w="21600" h="21600">
                <a:moveTo>
                  <a:pt x="9317" y="102"/>
                </a:moveTo>
                <a:arcTo wR="10800" hR="10800" stAng="-5873698" swAng="5873698"/>
              </a:path>
            </a:pathLst>
          </a:cu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6120" y="2438280"/>
            <a:ext cx="217152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489000" y="2463840"/>
            <a:ext cx="2197080" cy="3594240"/>
          </a:xfrm>
          <a:prstGeom prst="verticalScroll">
            <a:avLst>
              <a:gd name="adj" fmla="val 7819"/>
            </a:avLst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7920" y="2451240"/>
            <a:ext cx="2286000" cy="359388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708360" y="2717640"/>
            <a:ext cx="266760" cy="266760"/>
            <a:chOff x="3708360" y="2717640"/>
            <a:chExt cx="266760" cy="266760"/>
          </a:xfrm>
        </p:grpSpPr>
        <p:sp>
          <p:nvSpPr>
            <p:cNvPr id="217" name=""/>
            <p:cNvSpPr/>
            <p:nvPr/>
          </p:nvSpPr>
          <p:spPr>
            <a:xfrm>
              <a:off x="3708360" y="271764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24560" y="278712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14840" y="281160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160" y="286596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39040" y="291492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876240" y="2743200"/>
            <a:ext cx="266760" cy="266760"/>
            <a:chOff x="876240" y="2743200"/>
            <a:chExt cx="266760" cy="266760"/>
          </a:xfrm>
        </p:grpSpPr>
        <p:sp>
          <p:nvSpPr>
            <p:cNvPr id="223" name=""/>
            <p:cNvSpPr/>
            <p:nvPr/>
          </p:nvSpPr>
          <p:spPr>
            <a:xfrm>
              <a:off x="876240" y="2743200"/>
              <a:ext cx="26676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2440" y="2812680"/>
              <a:ext cx="23292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82720" y="2837160"/>
              <a:ext cx="25344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77040" y="2891520"/>
              <a:ext cx="6264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06920" y="29404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794640" y="2755800"/>
            <a:ext cx="266400" cy="266760"/>
            <a:chOff x="6794640" y="2755800"/>
            <a:chExt cx="266400" cy="266760"/>
          </a:xfrm>
        </p:grpSpPr>
        <p:sp>
          <p:nvSpPr>
            <p:cNvPr id="229" name=""/>
            <p:cNvSpPr/>
            <p:nvPr/>
          </p:nvSpPr>
          <p:spPr>
            <a:xfrm>
              <a:off x="6794640" y="2755800"/>
              <a:ext cx="266400" cy="266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10840" y="2825280"/>
              <a:ext cx="23256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01120" y="2849760"/>
              <a:ext cx="253080" cy="25920"/>
            </a:xfrm>
            <a:custGeom>
              <a:avLst/>
              <a:gdLst/>
              <a:ahLst/>
              <a:rect l="l" t="t" r="r" b="b"/>
              <a:pathLst>
                <a:path w="1368" h="153">
                  <a:moveTo>
                    <a:pt x="0" y="0"/>
                  </a:moveTo>
                  <a:cubicBezTo>
                    <a:pt x="222" y="75"/>
                    <a:pt x="444" y="151"/>
                    <a:pt x="672" y="152"/>
                  </a:cubicBezTo>
                  <a:cubicBezTo>
                    <a:pt x="900" y="153"/>
                    <a:pt x="1134" y="80"/>
                    <a:pt x="1368" y="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95080" y="2904120"/>
              <a:ext cx="62280" cy="6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24960" y="2953080"/>
              <a:ext cx="0" cy="6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130400" y="274320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270504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35840" y="27432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74800" y="3317760"/>
            <a:ext cx="1504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43600" y="3355920"/>
            <a:ext cx="1505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45080" y="3724200"/>
            <a:ext cx="1898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70836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0800000">
            <a:off x="5968800" y="3720600"/>
            <a:ext cx="546120" cy="723960"/>
          </a:xfrm>
          <a:prstGeom prst="rightArrow">
            <a:avLst>
              <a:gd name="adj1" fmla="val 50000"/>
              <a:gd name="adj2" fmla="val 41278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7280" y="1674720"/>
            <a:ext cx="3301920" cy="3301920"/>
          </a:xfrm>
          <a:prstGeom prst="ellipse">
            <a:avLst/>
          </a:prstGeom>
          <a:noFill/>
          <a:ln w="1908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6680" y="2543040"/>
            <a:ext cx="1521000" cy="1741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193760" y="307332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 YOUR 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603520" y="1387440"/>
            <a:ext cx="5676840" cy="505440"/>
            <a:chOff x="2603520" y="1387440"/>
            <a:chExt cx="5676840" cy="505440"/>
          </a:xfrm>
        </p:grpSpPr>
        <p:sp>
          <p:nvSpPr>
            <p:cNvPr id="248" name=""/>
            <p:cNvSpPr/>
            <p:nvPr/>
          </p:nvSpPr>
          <p:spPr>
            <a:xfrm>
              <a:off x="2882880" y="1447920"/>
              <a:ext cx="5397480" cy="44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03520" y="1495440"/>
              <a:ext cx="622440" cy="361440"/>
              <a:chOff x="2603520" y="1495440"/>
              <a:chExt cx="622440" cy="361440"/>
            </a:xfrm>
          </p:grpSpPr>
          <p:sp>
            <p:nvSpPr>
              <p:cNvPr id="250" name=""/>
              <p:cNvSpPr/>
              <p:nvPr/>
            </p:nvSpPr>
            <p:spPr>
              <a:xfrm rot="5400000">
                <a:off x="2863440" y="1518480"/>
                <a:ext cx="358200" cy="312120"/>
              </a:xfrm>
              <a:custGeom>
                <a:avLst/>
                <a:gdLst>
                  <a:gd name="textAreaLeft" fmla="*/ 84240 w 358200"/>
                  <a:gd name="textAreaRight" fmla="*/ 273960 w 35820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6200000">
                <a:off x="2639880" y="1521720"/>
                <a:ext cx="358200" cy="312120"/>
              </a:xfrm>
              <a:custGeom>
                <a:avLst/>
                <a:gdLst>
                  <a:gd name="textAreaLeft" fmla="*/ 84240 w 358200"/>
                  <a:gd name="textAreaRight" fmla="*/ 273960 w 35820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59560" y="16412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14040" y="154800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48600" y="16970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59640" y="15069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39560" y="17139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43640" y="1573920"/>
                <a:ext cx="165960" cy="2188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03520" y="16794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39680" y="15987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389400" y="13874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263760" y="2454120"/>
            <a:ext cx="5676840" cy="505440"/>
            <a:chOff x="3263760" y="2454120"/>
            <a:chExt cx="5676840" cy="505440"/>
          </a:xfrm>
        </p:grpSpPr>
        <p:sp>
          <p:nvSpPr>
            <p:cNvPr id="262" name=""/>
            <p:cNvSpPr/>
            <p:nvPr/>
          </p:nvSpPr>
          <p:spPr>
            <a:xfrm>
              <a:off x="3543120" y="2514240"/>
              <a:ext cx="5397480" cy="44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263760" y="2562120"/>
              <a:ext cx="622440" cy="361440"/>
              <a:chOff x="3263760" y="2562120"/>
              <a:chExt cx="622440" cy="361440"/>
            </a:xfrm>
          </p:grpSpPr>
          <p:sp>
            <p:nvSpPr>
              <p:cNvPr id="264" name=""/>
              <p:cNvSpPr/>
              <p:nvPr/>
            </p:nvSpPr>
            <p:spPr>
              <a:xfrm rot="5400000">
                <a:off x="3523680" y="2585160"/>
                <a:ext cx="358200" cy="312120"/>
              </a:xfrm>
              <a:custGeom>
                <a:avLst/>
                <a:gdLst>
                  <a:gd name="textAreaLeft" fmla="*/ 84240 w 358200"/>
                  <a:gd name="textAreaRight" fmla="*/ 273960 w 35820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6200000">
                <a:off x="3300120" y="2588400"/>
                <a:ext cx="358200" cy="312120"/>
              </a:xfrm>
              <a:custGeom>
                <a:avLst/>
                <a:gdLst>
                  <a:gd name="textAreaLeft" fmla="*/ 84240 w 358200"/>
                  <a:gd name="textAreaRight" fmla="*/ 273960 w 35820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19800" y="27079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74280" y="261468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08840" y="2763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719880" y="25736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99800" y="27806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03880" y="2640600"/>
                <a:ext cx="165960" cy="2188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263760" y="2746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99920" y="2665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049640" y="245412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251160" y="3533760"/>
            <a:ext cx="5676840" cy="505440"/>
            <a:chOff x="3251160" y="3533760"/>
            <a:chExt cx="5676840" cy="505440"/>
          </a:xfrm>
        </p:grpSpPr>
        <p:sp>
          <p:nvSpPr>
            <p:cNvPr id="276" name=""/>
            <p:cNvSpPr/>
            <p:nvPr/>
          </p:nvSpPr>
          <p:spPr>
            <a:xfrm>
              <a:off x="3530520" y="3593880"/>
              <a:ext cx="5397480" cy="44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51160" y="3641760"/>
              <a:ext cx="622440" cy="361440"/>
              <a:chOff x="3251160" y="3641760"/>
              <a:chExt cx="622440" cy="361440"/>
            </a:xfrm>
          </p:grpSpPr>
          <p:sp>
            <p:nvSpPr>
              <p:cNvPr id="278" name=""/>
              <p:cNvSpPr/>
              <p:nvPr/>
            </p:nvSpPr>
            <p:spPr>
              <a:xfrm rot="5400000">
                <a:off x="3511080" y="3664800"/>
                <a:ext cx="358200" cy="312120"/>
              </a:xfrm>
              <a:custGeom>
                <a:avLst/>
                <a:gdLst>
                  <a:gd name="textAreaLeft" fmla="*/ 84240 w 358200"/>
                  <a:gd name="textAreaRight" fmla="*/ 273960 w 35820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200000">
                <a:off x="3287520" y="3668040"/>
                <a:ext cx="358200" cy="312120"/>
              </a:xfrm>
              <a:custGeom>
                <a:avLst/>
                <a:gdLst>
                  <a:gd name="textAreaLeft" fmla="*/ 84240 w 358200"/>
                  <a:gd name="textAreaRight" fmla="*/ 273960 w 35820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07200" y="37875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61680" y="369432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96240" y="3843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07280" y="3653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87200" y="38602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91280" y="3720240"/>
                <a:ext cx="165960" cy="2188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251160" y="382572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87320" y="374508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4037040" y="353376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768760" y="4587840"/>
            <a:ext cx="5676840" cy="505440"/>
            <a:chOff x="2768760" y="4587840"/>
            <a:chExt cx="5676840" cy="505440"/>
          </a:xfrm>
        </p:grpSpPr>
        <p:sp>
          <p:nvSpPr>
            <p:cNvPr id="290" name=""/>
            <p:cNvSpPr/>
            <p:nvPr/>
          </p:nvSpPr>
          <p:spPr>
            <a:xfrm>
              <a:off x="3048120" y="4647960"/>
              <a:ext cx="5397480" cy="44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ff99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768760" y="4695840"/>
              <a:ext cx="622440" cy="361440"/>
              <a:chOff x="2768760" y="4695840"/>
              <a:chExt cx="622440" cy="361440"/>
            </a:xfrm>
          </p:grpSpPr>
          <p:sp>
            <p:nvSpPr>
              <p:cNvPr id="292" name=""/>
              <p:cNvSpPr/>
              <p:nvPr/>
            </p:nvSpPr>
            <p:spPr>
              <a:xfrm rot="5400000">
                <a:off x="3028680" y="4718880"/>
                <a:ext cx="358200" cy="312120"/>
              </a:xfrm>
              <a:custGeom>
                <a:avLst/>
                <a:gdLst>
                  <a:gd name="textAreaLeft" fmla="*/ 84240 w 358200"/>
                  <a:gd name="textAreaRight" fmla="*/ 273960 w 35820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200000">
                <a:off x="2805120" y="4722120"/>
                <a:ext cx="358200" cy="312120"/>
              </a:xfrm>
              <a:custGeom>
                <a:avLst/>
                <a:gdLst>
                  <a:gd name="textAreaLeft" fmla="*/ 84240 w 358200"/>
                  <a:gd name="textAreaRight" fmla="*/ 273960 w 358200"/>
                  <a:gd name="textAreaTop" fmla="*/ 36720 h 312120"/>
                  <a:gd name="textAreaBottom" fmla="*/ 195840 h 3121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124800" y="48416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79280" y="4748400"/>
                <a:ext cx="8604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913840" y="489744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24880" y="4707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04800" y="49143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08880" y="4774320"/>
                <a:ext cx="165960" cy="218880"/>
              </a:xfrm>
              <a:prstGeom prst="ellipse">
                <a:avLst/>
              </a:prstGeom>
              <a:solidFill>
                <a:srgbClr val="ffccff"/>
              </a:solidFill>
              <a:ln w="936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68760" y="487980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004920" y="4799160"/>
                <a:ext cx="86400" cy="8640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554640" y="4587840"/>
              <a:ext cx="4781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219640" y="13460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1320840"/>
            <a:ext cx="3403800" cy="4788000"/>
          </a:xfrm>
          <a:custGeom>
            <a:avLst/>
            <a:gdLst>
              <a:gd name="textAreaLeft" fmla="*/ 87840 w 3403800"/>
              <a:gd name="textAreaRight" fmla="*/ 3315960 w 3403800"/>
              <a:gd name="textAreaTop" fmla="*/ 87840 h 4788000"/>
              <a:gd name="textAreaBottom" fmla="*/ 4700160 h 4788000"/>
            </a:gdLst>
            <a:ahLst/>
            <a:rect l="textAreaLeft" t="textAreaTop" r="textAreaRight" b="textAreaBottom"/>
            <a:pathLst>
              <a:path w="21600" h="30383">
                <a:moveTo>
                  <a:pt x="1904" y="0"/>
                </a:moveTo>
                <a:arcTo wR="1904" hR="1904" stAng="16200000" swAng="-5400000"/>
                <a:lnTo>
                  <a:pt x="0" y="28479"/>
                </a:lnTo>
                <a:arcTo wR="1904" hR="1904" stAng="10800000" swAng="-5400000"/>
                <a:lnTo>
                  <a:pt x="19696" y="30383"/>
                </a:lnTo>
                <a:arcTo wR="1904" hR="1904" stAng="5400000" swAng="-5400000"/>
                <a:lnTo>
                  <a:pt x="21600" y="1904"/>
                </a:lnTo>
                <a:arcTo wR="1904" hR="1904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830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9756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11680" y="2590920"/>
            <a:ext cx="0" cy="3390840"/>
          </a:xfrm>
          <a:prstGeom prst="line">
            <a:avLst/>
          </a:prstGeom>
          <a:ln cap="rnd" w="38160">
            <a:solidFill>
              <a:srgbClr val="ff99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968640" y="725400"/>
            <a:ext cx="1422360" cy="169236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1955880" y="1139760"/>
            <a:ext cx="622080" cy="362160"/>
            <a:chOff x="1955880" y="1139760"/>
            <a:chExt cx="622080" cy="362160"/>
          </a:xfrm>
        </p:grpSpPr>
        <p:sp>
          <p:nvSpPr>
            <p:cNvPr id="312" name=""/>
            <p:cNvSpPr/>
            <p:nvPr/>
          </p:nvSpPr>
          <p:spPr>
            <a:xfrm rot="5400000">
              <a:off x="2215440" y="1163160"/>
              <a:ext cx="358560" cy="311760"/>
            </a:xfrm>
            <a:custGeom>
              <a:avLst/>
              <a:gdLst>
                <a:gd name="textAreaLeft" fmla="*/ 84240 w 358560"/>
                <a:gd name="textAreaRight" fmla="*/ 273960 w 358560"/>
                <a:gd name="textAreaTop" fmla="*/ 36360 h 311760"/>
                <a:gd name="textAreaBottom" fmla="*/ 195480 h 311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91880" y="1166760"/>
              <a:ext cx="358560" cy="311760"/>
            </a:xfrm>
            <a:custGeom>
              <a:avLst/>
              <a:gdLst>
                <a:gd name="textAreaLeft" fmla="*/ 84240 w 358560"/>
                <a:gd name="textAreaRight" fmla="*/ 273960 w 358560"/>
                <a:gd name="textAreaTop" fmla="*/ 36360 h 311760"/>
                <a:gd name="textAreaBottom" fmla="*/ 195480 h 311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11920" y="12855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66400" y="119232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00600" y="13413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11640" y="11512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91560" y="13586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196000" y="1218240"/>
              <a:ext cx="165960" cy="2192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55880" y="13240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92040" y="12434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616800" y="1152360"/>
            <a:ext cx="622080" cy="362160"/>
            <a:chOff x="6616800" y="1152360"/>
            <a:chExt cx="622080" cy="362160"/>
          </a:xfrm>
        </p:grpSpPr>
        <p:sp>
          <p:nvSpPr>
            <p:cNvPr id="323" name=""/>
            <p:cNvSpPr/>
            <p:nvPr/>
          </p:nvSpPr>
          <p:spPr>
            <a:xfrm rot="5400000">
              <a:off x="6876360" y="1175760"/>
              <a:ext cx="358560" cy="311760"/>
            </a:xfrm>
            <a:custGeom>
              <a:avLst/>
              <a:gdLst>
                <a:gd name="textAreaLeft" fmla="*/ 84240 w 358560"/>
                <a:gd name="textAreaRight" fmla="*/ 273960 w 358560"/>
                <a:gd name="textAreaTop" fmla="*/ 36360 h 311760"/>
                <a:gd name="textAreaBottom" fmla="*/ 195480 h 311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6200000">
              <a:off x="6652800" y="1179360"/>
              <a:ext cx="358560" cy="311760"/>
            </a:xfrm>
            <a:custGeom>
              <a:avLst/>
              <a:gdLst>
                <a:gd name="textAreaLeft" fmla="*/ 84240 w 358560"/>
                <a:gd name="textAreaRight" fmla="*/ 273960 w 358560"/>
                <a:gd name="textAreaTop" fmla="*/ 36360 h 311760"/>
                <a:gd name="textAreaBottom" fmla="*/ 195480 h 3117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72840" y="12981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27320" y="1204920"/>
              <a:ext cx="8604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61520" y="135396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72560" y="11638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52480" y="13712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6920" y="1230840"/>
              <a:ext cx="165960" cy="2192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16800" y="133668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2960" y="1256040"/>
              <a:ext cx="86400" cy="864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47720" y="16668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7720" y="31273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60320" y="4613400"/>
            <a:ext cx="30546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040" y="170496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96040" y="316548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08640" y="465120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025880" y="3357720"/>
            <a:ext cx="3589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66ff"/>
                    </a:gs>
                  </a:gsLst>
                  <a:lin ang="13500000"/>
                </a:gradFill>
                <a:latin typeface="Arial"/>
              </a:rPr>
              <a:t>A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66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826160" y="3370320"/>
            <a:ext cx="32040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66ff"/>
                    </a:gs>
                  </a:gsLst>
                  <a:lin ang="13500000"/>
                </a:gradFill>
                <a:latin typeface="Arial"/>
              </a:rPr>
              <a:t>B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66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184480" y="863640"/>
            <a:ext cx="6705360" cy="5334120"/>
          </a:xfrm>
          <a:prstGeom prst="roundRect">
            <a:avLst>
              <a:gd name="adj" fmla="val 4046"/>
            </a:avLst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04920" y="4011480"/>
            <a:ext cx="1714320" cy="18907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434960" y="5562720"/>
            <a:ext cx="254160" cy="253800"/>
          </a:xfrm>
          <a:prstGeom prst="donut">
            <a:avLst>
              <a:gd name="adj" fmla="val 8870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89120" y="5359320"/>
            <a:ext cx="495360" cy="495360"/>
          </a:xfrm>
          <a:prstGeom prst="donut">
            <a:avLst>
              <a:gd name="adj" fmla="val 21796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4400000">
            <a:off x="8123760" y="1689120"/>
            <a:ext cx="12996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800000">
            <a:off x="8383680" y="4576320"/>
            <a:ext cx="145800" cy="44316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80486" dir="1110959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5400000">
            <a:off x="8493480" y="58791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gradFill rotWithShape="0">
            <a:gsLst>
              <a:gs pos="0">
                <a:srgbClr val="ffe5ff"/>
              </a:gs>
              <a:gs pos="50000">
                <a:srgbClr val="ec009d"/>
              </a:gs>
              <a:gs pos="100000">
                <a:srgbClr val="ffe5ff"/>
              </a:gs>
            </a:gsLst>
            <a:lin ang="13500000"/>
          </a:gradFill>
          <a:ln w="0">
            <a:noFill/>
          </a:ln>
          <a:effectLst>
            <a:outerShdw dist="80486" dir="1110959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7400000">
            <a:off x="8359560" y="3612600"/>
            <a:ext cx="181080" cy="5335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  <a:effectLst>
            <a:outerShdw dist="80486" dir="1110959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8391960" y="2502360"/>
            <a:ext cx="141120" cy="304920"/>
          </a:xfrm>
          <a:custGeom>
            <a:avLst/>
            <a:gdLst/>
            <a:ahLst/>
            <a:rect l="l" t="t" r="r" b="b"/>
            <a:pathLst>
              <a:path w="1195" h="2472">
                <a:moveTo>
                  <a:pt x="572" y="0"/>
                </a:moveTo>
                <a:cubicBezTo>
                  <a:pt x="532" y="60"/>
                  <a:pt x="501" y="125"/>
                  <a:pt x="464" y="186"/>
                </a:cubicBezTo>
                <a:cubicBezTo>
                  <a:pt x="444" y="220"/>
                  <a:pt x="424" y="254"/>
                  <a:pt x="404" y="288"/>
                </a:cubicBezTo>
                <a:cubicBezTo>
                  <a:pt x="397" y="300"/>
                  <a:pt x="385" y="311"/>
                  <a:pt x="380" y="324"/>
                </a:cubicBezTo>
                <a:cubicBezTo>
                  <a:pt x="364" y="364"/>
                  <a:pt x="341" y="401"/>
                  <a:pt x="320" y="438"/>
                </a:cubicBezTo>
                <a:cubicBezTo>
                  <a:pt x="294" y="483"/>
                  <a:pt x="277" y="532"/>
                  <a:pt x="248" y="576"/>
                </a:cubicBezTo>
                <a:cubicBezTo>
                  <a:pt x="234" y="645"/>
                  <a:pt x="198" y="710"/>
                  <a:pt x="170" y="774"/>
                </a:cubicBezTo>
                <a:cubicBezTo>
                  <a:pt x="154" y="810"/>
                  <a:pt x="150" y="849"/>
                  <a:pt x="128" y="882"/>
                </a:cubicBezTo>
                <a:cubicBezTo>
                  <a:pt x="114" y="951"/>
                  <a:pt x="89" y="1017"/>
                  <a:pt x="74" y="1086"/>
                </a:cubicBezTo>
                <a:cubicBezTo>
                  <a:pt x="60" y="1148"/>
                  <a:pt x="56" y="1241"/>
                  <a:pt x="38" y="1296"/>
                </a:cubicBezTo>
                <a:cubicBezTo>
                  <a:pt x="23" y="1432"/>
                  <a:pt x="0" y="1591"/>
                  <a:pt x="44" y="1722"/>
                </a:cubicBezTo>
                <a:cubicBezTo>
                  <a:pt x="52" y="1775"/>
                  <a:pt x="68" y="1839"/>
                  <a:pt x="98" y="1884"/>
                </a:cubicBezTo>
                <a:cubicBezTo>
                  <a:pt x="105" y="1912"/>
                  <a:pt x="113" y="1923"/>
                  <a:pt x="134" y="1944"/>
                </a:cubicBezTo>
                <a:cubicBezTo>
                  <a:pt x="151" y="2013"/>
                  <a:pt x="127" y="1928"/>
                  <a:pt x="152" y="1986"/>
                </a:cubicBezTo>
                <a:cubicBezTo>
                  <a:pt x="167" y="2021"/>
                  <a:pt x="170" y="2050"/>
                  <a:pt x="194" y="2082"/>
                </a:cubicBezTo>
                <a:cubicBezTo>
                  <a:pt x="203" y="2109"/>
                  <a:pt x="212" y="2118"/>
                  <a:pt x="236" y="2136"/>
                </a:cubicBezTo>
                <a:cubicBezTo>
                  <a:pt x="250" y="2178"/>
                  <a:pt x="315" y="2247"/>
                  <a:pt x="350" y="2274"/>
                </a:cubicBezTo>
                <a:cubicBezTo>
                  <a:pt x="365" y="2304"/>
                  <a:pt x="391" y="2315"/>
                  <a:pt x="416" y="2340"/>
                </a:cubicBezTo>
                <a:cubicBezTo>
                  <a:pt x="442" y="2366"/>
                  <a:pt x="465" y="2406"/>
                  <a:pt x="500" y="2418"/>
                </a:cubicBezTo>
                <a:cubicBezTo>
                  <a:pt x="528" y="2446"/>
                  <a:pt x="511" y="2431"/>
                  <a:pt x="554" y="2460"/>
                </a:cubicBezTo>
                <a:cubicBezTo>
                  <a:pt x="560" y="2464"/>
                  <a:pt x="572" y="2472"/>
                  <a:pt x="572" y="2472"/>
                </a:cubicBezTo>
                <a:cubicBezTo>
                  <a:pt x="618" y="2457"/>
                  <a:pt x="596" y="2462"/>
                  <a:pt x="638" y="2454"/>
                </a:cubicBezTo>
                <a:cubicBezTo>
                  <a:pt x="656" y="2442"/>
                  <a:pt x="674" y="2430"/>
                  <a:pt x="692" y="2418"/>
                </a:cubicBezTo>
                <a:cubicBezTo>
                  <a:pt x="698" y="2414"/>
                  <a:pt x="710" y="2406"/>
                  <a:pt x="710" y="2406"/>
                </a:cubicBezTo>
                <a:cubicBezTo>
                  <a:pt x="745" y="2353"/>
                  <a:pt x="809" y="2319"/>
                  <a:pt x="854" y="2274"/>
                </a:cubicBezTo>
                <a:cubicBezTo>
                  <a:pt x="890" y="2238"/>
                  <a:pt x="857" y="2263"/>
                  <a:pt x="884" y="2232"/>
                </a:cubicBezTo>
                <a:cubicBezTo>
                  <a:pt x="884" y="2232"/>
                  <a:pt x="929" y="2187"/>
                  <a:pt x="938" y="2178"/>
                </a:cubicBezTo>
                <a:cubicBezTo>
                  <a:pt x="974" y="2142"/>
                  <a:pt x="942" y="2206"/>
                  <a:pt x="992" y="2130"/>
                </a:cubicBezTo>
                <a:cubicBezTo>
                  <a:pt x="1017" y="2092"/>
                  <a:pt x="1048" y="2059"/>
                  <a:pt x="1076" y="2022"/>
                </a:cubicBezTo>
                <a:cubicBezTo>
                  <a:pt x="1082" y="2014"/>
                  <a:pt x="1088" y="2006"/>
                  <a:pt x="1094" y="1998"/>
                </a:cubicBezTo>
                <a:cubicBezTo>
                  <a:pt x="1100" y="1990"/>
                  <a:pt x="1112" y="1974"/>
                  <a:pt x="1112" y="1974"/>
                </a:cubicBezTo>
                <a:cubicBezTo>
                  <a:pt x="1120" y="1949"/>
                  <a:pt x="1134" y="1924"/>
                  <a:pt x="1148" y="1902"/>
                </a:cubicBezTo>
                <a:cubicBezTo>
                  <a:pt x="1160" y="1852"/>
                  <a:pt x="1168" y="1802"/>
                  <a:pt x="1178" y="1752"/>
                </a:cubicBezTo>
                <a:cubicBezTo>
                  <a:pt x="1190" y="1579"/>
                  <a:pt x="1195" y="1401"/>
                  <a:pt x="1166" y="1230"/>
                </a:cubicBezTo>
                <a:cubicBezTo>
                  <a:pt x="1158" y="1185"/>
                  <a:pt x="1156" y="1125"/>
                  <a:pt x="1130" y="1086"/>
                </a:cubicBezTo>
                <a:cubicBezTo>
                  <a:pt x="1110" y="988"/>
                  <a:pt x="1066" y="888"/>
                  <a:pt x="1010" y="804"/>
                </a:cubicBezTo>
                <a:cubicBezTo>
                  <a:pt x="1000" y="789"/>
                  <a:pt x="995" y="766"/>
                  <a:pt x="986" y="750"/>
                </a:cubicBezTo>
                <a:cubicBezTo>
                  <a:pt x="954" y="692"/>
                  <a:pt x="919" y="623"/>
                  <a:pt x="872" y="576"/>
                </a:cubicBezTo>
                <a:cubicBezTo>
                  <a:pt x="864" y="551"/>
                  <a:pt x="846" y="520"/>
                  <a:pt x="830" y="498"/>
                </a:cubicBezTo>
                <a:cubicBezTo>
                  <a:pt x="808" y="467"/>
                  <a:pt x="816" y="494"/>
                  <a:pt x="800" y="462"/>
                </a:cubicBezTo>
                <a:cubicBezTo>
                  <a:pt x="788" y="438"/>
                  <a:pt x="784" y="422"/>
                  <a:pt x="764" y="402"/>
                </a:cubicBezTo>
                <a:cubicBezTo>
                  <a:pt x="752" y="354"/>
                  <a:pt x="724" y="314"/>
                  <a:pt x="704" y="270"/>
                </a:cubicBezTo>
                <a:cubicBezTo>
                  <a:pt x="696" y="253"/>
                  <a:pt x="697" y="232"/>
                  <a:pt x="686" y="216"/>
                </a:cubicBezTo>
                <a:cubicBezTo>
                  <a:pt x="663" y="182"/>
                  <a:pt x="646" y="144"/>
                  <a:pt x="626" y="108"/>
                </a:cubicBezTo>
                <a:cubicBezTo>
                  <a:pt x="607" y="74"/>
                  <a:pt x="572" y="40"/>
                  <a:pt x="572" y="0"/>
                </a:cubicBez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5076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49440" y="115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36840" y="217476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6840" y="3228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75000" y="4371840"/>
            <a:ext cx="62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60240" y="3619440"/>
            <a:ext cx="1714680" cy="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73200" y="39369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3200" y="1892160"/>
            <a:ext cx="1358640" cy="1663920"/>
          </a:xfrm>
          <a:custGeom>
            <a:avLst/>
            <a:gdLst/>
            <a:ahLst/>
            <a:rect l="l" t="t" r="r" b="b"/>
            <a:pathLst>
              <a:path w="856" h="1048">
                <a:moveTo>
                  <a:pt x="0" y="1048"/>
                </a:moveTo>
                <a:lnTo>
                  <a:pt x="0" y="0"/>
                </a:lnTo>
                <a:lnTo>
                  <a:pt x="856" y="0"/>
                </a:lnTo>
              </a:path>
            </a:pathLst>
          </a:custGeom>
          <a:noFill/>
          <a:ln cap="rnd" w="3816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638360" y="929880"/>
            <a:ext cx="7099200" cy="1546560"/>
            <a:chOff x="1638360" y="929880"/>
            <a:chExt cx="7099200" cy="1546560"/>
          </a:xfrm>
        </p:grpSpPr>
        <p:sp>
          <p:nvSpPr>
            <p:cNvPr id="362" name=""/>
            <p:cNvSpPr/>
            <p:nvPr/>
          </p:nvSpPr>
          <p:spPr>
            <a:xfrm>
              <a:off x="1854360" y="115596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49440" y="12985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38360" y="96516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765440" y="929880"/>
              <a:ext cx="504720" cy="619200"/>
              <a:chOff x="1765440" y="929880"/>
              <a:chExt cx="504720" cy="619200"/>
            </a:xfrm>
          </p:grpSpPr>
          <p:sp>
            <p:nvSpPr>
              <p:cNvPr id="366" name=""/>
              <p:cNvSpPr/>
              <p:nvPr/>
            </p:nvSpPr>
            <p:spPr>
              <a:xfrm>
                <a:off x="1765440" y="13399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45360" y="116784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1887120" y="929880"/>
                <a:ext cx="259560" cy="317520"/>
                <a:chOff x="1887120" y="929880"/>
                <a:chExt cx="259560" cy="317520"/>
              </a:xfrm>
            </p:grpSpPr>
            <p:sp>
              <p:nvSpPr>
                <p:cNvPr id="369" name=""/>
                <p:cNvSpPr/>
                <p:nvPr/>
              </p:nvSpPr>
              <p:spPr>
                <a:xfrm rot="18580800">
                  <a:off x="1929240" y="94680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2400000">
                  <a:off x="2031120" y="9396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18160" y="1058040"/>
                  <a:ext cx="15120" cy="18936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2" name=""/>
          <p:cNvGrpSpPr/>
          <p:nvPr/>
        </p:nvGrpSpPr>
        <p:grpSpPr>
          <a:xfrm>
            <a:off x="1638360" y="2771280"/>
            <a:ext cx="7099200" cy="1546200"/>
            <a:chOff x="1638360" y="2771280"/>
            <a:chExt cx="7099200" cy="1546200"/>
          </a:xfrm>
        </p:grpSpPr>
        <p:sp>
          <p:nvSpPr>
            <p:cNvPr id="373" name=""/>
            <p:cNvSpPr/>
            <p:nvPr/>
          </p:nvSpPr>
          <p:spPr>
            <a:xfrm>
              <a:off x="1854360" y="299700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ffb9"/>
                </a:gs>
                <a:gs pos="50000">
                  <a:srgbClr val="ffffff"/>
                </a:gs>
                <a:gs pos="100000">
                  <a:srgbClr val="edffb9"/>
                </a:gs>
              </a:gsLst>
              <a:lin ang="135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49440" y="313992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38360" y="2806560"/>
              <a:ext cx="812880" cy="812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765440" y="2771280"/>
              <a:ext cx="504720" cy="619200"/>
              <a:chOff x="1765440" y="2771280"/>
              <a:chExt cx="504720" cy="619200"/>
            </a:xfrm>
          </p:grpSpPr>
          <p:sp>
            <p:nvSpPr>
              <p:cNvPr id="377" name=""/>
              <p:cNvSpPr/>
              <p:nvPr/>
            </p:nvSpPr>
            <p:spPr>
              <a:xfrm>
                <a:off x="1765440" y="318132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845360" y="300924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1887120" y="2771280"/>
                <a:ext cx="259560" cy="317520"/>
                <a:chOff x="1887120" y="2771280"/>
                <a:chExt cx="259560" cy="317520"/>
              </a:xfrm>
            </p:grpSpPr>
            <p:sp>
              <p:nvSpPr>
                <p:cNvPr id="380" name=""/>
                <p:cNvSpPr/>
                <p:nvPr/>
              </p:nvSpPr>
              <p:spPr>
                <a:xfrm rot="18580800">
                  <a:off x="1929240" y="278820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2400000">
                  <a:off x="2031120" y="278100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18160" y="2899440"/>
                  <a:ext cx="15120" cy="18936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3" name=""/>
          <p:cNvGrpSpPr/>
          <p:nvPr/>
        </p:nvGrpSpPr>
        <p:grpSpPr>
          <a:xfrm>
            <a:off x="1638360" y="4689000"/>
            <a:ext cx="7099200" cy="1546560"/>
            <a:chOff x="1638360" y="4689000"/>
            <a:chExt cx="7099200" cy="1546560"/>
          </a:xfrm>
        </p:grpSpPr>
        <p:sp>
          <p:nvSpPr>
            <p:cNvPr id="384" name=""/>
            <p:cNvSpPr/>
            <p:nvPr/>
          </p:nvSpPr>
          <p:spPr>
            <a:xfrm>
              <a:off x="1854360" y="4915080"/>
              <a:ext cx="6883200" cy="1320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cc"/>
                </a:gs>
                <a:gs pos="100000">
                  <a:srgbClr val="99cc00"/>
                </a:gs>
              </a:gsLst>
              <a:lin ang="135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49440" y="5057640"/>
              <a:ext cx="6000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38360" y="47242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1765440" y="4689000"/>
              <a:ext cx="504720" cy="619200"/>
              <a:chOff x="1765440" y="4689000"/>
              <a:chExt cx="504720" cy="619200"/>
            </a:xfrm>
          </p:grpSpPr>
          <p:sp>
            <p:nvSpPr>
              <p:cNvPr id="388" name=""/>
              <p:cNvSpPr/>
              <p:nvPr/>
            </p:nvSpPr>
            <p:spPr>
              <a:xfrm>
                <a:off x="1765440" y="5099040"/>
                <a:ext cx="504720" cy="20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845360" y="4926960"/>
                <a:ext cx="353880" cy="31680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1887120" y="4689000"/>
                <a:ext cx="259560" cy="317520"/>
                <a:chOff x="1887120" y="4689000"/>
                <a:chExt cx="259560" cy="317520"/>
              </a:xfrm>
            </p:grpSpPr>
            <p:sp>
              <p:nvSpPr>
                <p:cNvPr id="391" name=""/>
                <p:cNvSpPr/>
                <p:nvPr/>
              </p:nvSpPr>
              <p:spPr>
                <a:xfrm rot="18580800">
                  <a:off x="1929240" y="4705920"/>
                  <a:ext cx="76320" cy="14544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2400000">
                  <a:off x="2031120" y="4698720"/>
                  <a:ext cx="81000" cy="136800"/>
                </a:xfrm>
                <a:custGeom>
                  <a:avLst/>
                  <a:gdLst/>
                  <a:ahLst/>
                  <a:rect l="l" t="t" r="r" b="b"/>
                  <a:pathLst>
                    <a:path w="264" h="954">
                      <a:moveTo>
                        <a:pt x="136" y="953"/>
                      </a:moveTo>
                      <a:cubicBezTo>
                        <a:pt x="180" y="954"/>
                        <a:pt x="264" y="640"/>
                        <a:pt x="264" y="481"/>
                      </a:cubicBezTo>
                      <a:cubicBezTo>
                        <a:pt x="264" y="322"/>
                        <a:pt x="180" y="2"/>
                        <a:pt x="136" y="1"/>
                      </a:cubicBezTo>
                      <a:cubicBezTo>
                        <a:pt x="92" y="0"/>
                        <a:pt x="0" y="312"/>
                        <a:pt x="0" y="473"/>
                      </a:cubicBezTo>
                      <a:cubicBezTo>
                        <a:pt x="0" y="634"/>
                        <a:pt x="92" y="952"/>
                        <a:pt x="136" y="953"/>
                      </a:cubicBezTo>
                      <a:close/>
                    </a:path>
                  </a:pathLst>
                </a:cu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018160" y="4817160"/>
                  <a:ext cx="15120" cy="189360"/>
                </a:xfrm>
                <a:prstGeom prst="rect">
                  <a:avLst/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4" name=""/>
          <p:cNvGrpSpPr/>
          <p:nvPr/>
        </p:nvGrpSpPr>
        <p:grpSpPr>
          <a:xfrm>
            <a:off x="216000" y="3137040"/>
            <a:ext cx="939600" cy="939600"/>
            <a:chOff x="216000" y="3137040"/>
            <a:chExt cx="939600" cy="939600"/>
          </a:xfrm>
        </p:grpSpPr>
        <p:grpSp>
          <p:nvGrpSpPr>
            <p:cNvPr id="395" name=""/>
            <p:cNvGrpSpPr/>
            <p:nvPr/>
          </p:nvGrpSpPr>
          <p:grpSpPr>
            <a:xfrm>
              <a:off x="252360" y="3208320"/>
              <a:ext cx="825480" cy="807480"/>
              <a:chOff x="252360" y="3208320"/>
              <a:chExt cx="825480" cy="80748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360" y="3208320"/>
                <a:ext cx="825480" cy="80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606960" y="3666240"/>
                <a:ext cx="78480" cy="68760"/>
              </a:xfrm>
              <a:custGeom>
                <a:avLst/>
                <a:gdLst>
                  <a:gd name="textAreaLeft" fmla="*/ 18360 w 78480"/>
                  <a:gd name="textAreaRight" fmla="*/ 60120 w 78480"/>
                  <a:gd name="textAreaTop" fmla="*/ 792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80120" y="3666240"/>
                <a:ext cx="78480" cy="68760"/>
              </a:xfrm>
              <a:custGeom>
                <a:avLst/>
                <a:gdLst>
                  <a:gd name="textAreaLeft" fmla="*/ 18360 w 78480"/>
                  <a:gd name="textAreaRight" fmla="*/ 60120 w 78480"/>
                  <a:gd name="textAreaTop" fmla="*/ 7920 h 68760"/>
                  <a:gd name="textAreaBottom" fmla="*/ 43200 h 687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216000" y="3137040"/>
              <a:ext cx="939600" cy="939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0" y="0"/>
            <a:ext cx="15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,378700000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陈一天</dc:creator>
  <dc:description/>
  <dc:language>en-US</dc:language>
  <cp:lastModifiedBy>雨林木风</cp:lastModifiedBy>
  <dcterms:modified xsi:type="dcterms:W3CDTF">2009-11-30T09:41:23Z</dcterms:modified>
  <cp:revision>113</cp:revision>
  <dc:subject/>
  <dc:title>幻灯片 1</dc:title>
</cp:coreProperties>
</file>