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A598-6EEC-4C5F-98B7-8BD78BA1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2C3-9546-4A3B-9C81-C4695C9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34-97C7-46C2-B63C-6E5CD3C0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693-89FC-4121-8934-2174EF8B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B72F-1299-477B-8032-53820D7F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1FCF-C31D-4F6E-89E6-61F72B04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D44-FD86-462F-B92A-BFCF3E9C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DE14-9146-468B-B2E8-33CF1DC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A782-CBFD-4B78-847B-21F9A4A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CA6F-287B-484B-A165-5C59074B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D1FA-2529-4329-935C-AA1177B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5E4-5BB3-4FA9-9050-9E49E63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976B-25CA-45B9-88F8-B1B5FF8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AC67-5BE4-455B-A831-892BE44F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B3E-D59B-416D-B5B9-03596E9C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112-BE4F-4B28-B8B3-0799EF44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660E-78DA-4CBC-BD6E-3323348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1AD-1E36-4F0C-8B31-88102CA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D72-98AA-4F6D-95A8-AA84BF93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C59-7751-4895-A988-519954B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D9F-04DF-407E-8F49-74B96887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07E-1711-4D1E-B485-0801B882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2A9-63EE-4C55-B60B-D71E1271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26F9-49CF-4E59-9CF0-11883525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AA2E-40DC-4C14-9C24-EC8D10E61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5539-A091-4324-9418-6E941AD938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gi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37.wmf"/><Relationship Id="rId4" Type="http://schemas.openxmlformats.org/officeDocument/2006/relationships/image" Target="../media/image36.png"/><Relationship Id="rId5" Type="http://schemas.openxmlformats.org/officeDocument/2006/relationships/image" Target="../media/image15.png"/><Relationship Id="rId6" Type="http://schemas.openxmlformats.org/officeDocument/2006/relationships/image" Target="../media/image37.wmf"/><Relationship Id="rId7" Type="http://schemas.openxmlformats.org/officeDocument/2006/relationships/image" Target="../media/image36.png"/><Relationship Id="rId8" Type="http://schemas.openxmlformats.org/officeDocument/2006/relationships/image" Target="../media/image15.png"/><Relationship Id="rId9" Type="http://schemas.openxmlformats.org/officeDocument/2006/relationships/image" Target="../media/image37.wmf"/><Relationship Id="rId10" Type="http://schemas.openxmlformats.org/officeDocument/2006/relationships/image" Target="../media/image36.png"/><Relationship Id="rId11" Type="http://schemas.openxmlformats.org/officeDocument/2006/relationships/image" Target="../media/image15.png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6479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ThemeGallery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0492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55840" y="243828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8840" y="295272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736720" y="3733920"/>
            <a:ext cx="1524240" cy="759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575160" y="2590920"/>
            <a:ext cx="914400" cy="91440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70200" y="4114800"/>
            <a:ext cx="819360" cy="140976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870440" y="4038480"/>
            <a:ext cx="228600" cy="15264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870440" y="2743200"/>
            <a:ext cx="533520" cy="838080"/>
          </a:xfrm>
          <a:prstGeom prst="line">
            <a:avLst/>
          </a:prstGeom>
          <a:ln w="1260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37120" y="3343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660760" y="1600200"/>
            <a:ext cx="1172160" cy="1175040"/>
            <a:chOff x="2660760" y="1600200"/>
            <a:chExt cx="1172160" cy="1175040"/>
          </a:xfrm>
        </p:grpSpPr>
        <p:sp>
          <p:nvSpPr>
            <p:cNvPr id="557" name=""/>
            <p:cNvSpPr/>
            <p:nvPr/>
          </p:nvSpPr>
          <p:spPr>
            <a:xfrm>
              <a:off x="2660760" y="1600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2695680" y="1636560"/>
              <a:ext cx="1118160" cy="1138680"/>
              <a:chOff x="2695680" y="1636560"/>
              <a:chExt cx="1118160" cy="1138680"/>
            </a:xfrm>
          </p:grpSpPr>
          <p:pic>
            <p:nvPicPr>
              <p:cNvPr id="5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5680" y="1636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695680" y="1636560"/>
                <a:ext cx="1079280" cy="1086120"/>
              </a:xfrm>
              <a:prstGeom prst="ellipse">
                <a:avLst/>
              </a:prstGeom>
              <a:solidFill>
                <a:srgbClr val="a59a5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61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2705760" y="1681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2" name=""/>
              <p:cNvGrpSpPr/>
              <p:nvPr/>
            </p:nvGrpSpPr>
            <p:grpSpPr>
              <a:xfrm>
                <a:off x="3045240" y="2073960"/>
                <a:ext cx="768600" cy="701280"/>
                <a:chOff x="3045240" y="2073960"/>
                <a:chExt cx="768600" cy="70128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3222720" y="2073960"/>
                  <a:ext cx="591120" cy="694440"/>
                  <a:chOff x="3222720" y="2073960"/>
                  <a:chExt cx="591120" cy="69444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flipV="1" rot="1528800">
                    <a:off x="3551760" y="2075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 rot="2344200">
                    <a:off x="3506760" y="216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flipV="1" rot="2640000">
                    <a:off x="3470040" y="2201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flipV="1" rot="3172200">
                    <a:off x="3425040" y="2249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3045240" y="2265120"/>
                  <a:ext cx="743400" cy="510120"/>
                  <a:chOff x="3045240" y="2265120"/>
                  <a:chExt cx="743400" cy="5101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flipV="1" rot="2881800">
                    <a:off x="3456000" y="2221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 rot="3697200">
                    <a:off x="3382200" y="2283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flipV="1" rot="3993000">
                    <a:off x="3332160" y="2306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 rot="4525200">
                    <a:off x="3271320" y="2333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3" name=""/>
            <p:cNvGrpSpPr/>
            <p:nvPr/>
          </p:nvGrpSpPr>
          <p:grpSpPr>
            <a:xfrm>
              <a:off x="3155760" y="2107080"/>
              <a:ext cx="677160" cy="617760"/>
              <a:chOff x="3155760" y="2107080"/>
              <a:chExt cx="677160" cy="6177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3312000" y="2107080"/>
                <a:ext cx="520920" cy="611280"/>
                <a:chOff x="3312000" y="2107080"/>
                <a:chExt cx="520920" cy="611280"/>
              </a:xfrm>
            </p:grpSpPr>
            <p:sp>
              <p:nvSpPr>
                <p:cNvPr id="575" name=""/>
                <p:cNvSpPr/>
                <p:nvPr/>
              </p:nvSpPr>
              <p:spPr>
                <a:xfrm flipH="1" flipV="1" rot="1528800">
                  <a:off x="3601800" y="2108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 flipV="1" rot="2344200">
                  <a:off x="3562560" y="2183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 flipV="1" rot="2640000">
                  <a:off x="3529800" y="2219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 flipH="1" flipV="1" rot="3172200">
                  <a:off x="3489120" y="2261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155760" y="2274840"/>
                <a:ext cx="654840" cy="450000"/>
                <a:chOff x="3155760" y="2274840"/>
                <a:chExt cx="654840" cy="450000"/>
              </a:xfrm>
            </p:grpSpPr>
            <p:sp>
              <p:nvSpPr>
                <p:cNvPr id="580" name=""/>
                <p:cNvSpPr/>
                <p:nvPr/>
              </p:nvSpPr>
              <p:spPr>
                <a:xfrm flipH="1" flipV="1" rot="2881800">
                  <a:off x="3516840" y="2236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 flipV="1" rot="3697200">
                  <a:off x="3452040" y="2291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flipH="1" flipV="1" rot="3993000">
                  <a:off x="3408120" y="2312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 flipV="1" rot="4525200">
                  <a:off x="3354120" y="233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2945520" y="2019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1671480" y="2997360"/>
            <a:ext cx="1172160" cy="1175040"/>
            <a:chOff x="1671480" y="2997360"/>
            <a:chExt cx="1172160" cy="1175040"/>
          </a:xfrm>
        </p:grpSpPr>
        <p:sp>
          <p:nvSpPr>
            <p:cNvPr id="586" name=""/>
            <p:cNvSpPr/>
            <p:nvPr/>
          </p:nvSpPr>
          <p:spPr>
            <a:xfrm>
              <a:off x="1671480" y="299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706400" y="3033720"/>
              <a:ext cx="1118160" cy="1138680"/>
              <a:chOff x="1706400" y="3033720"/>
              <a:chExt cx="1118160" cy="1138680"/>
            </a:xfrm>
          </p:grpSpPr>
          <p:pic>
            <p:nvPicPr>
              <p:cNvPr id="5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06400" y="303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"/>
              <p:cNvSpPr/>
              <p:nvPr/>
            </p:nvSpPr>
            <p:spPr>
              <a:xfrm>
                <a:off x="1706400" y="3033720"/>
                <a:ext cx="1079280" cy="108612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716480" y="307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1" name=""/>
              <p:cNvGrpSpPr/>
              <p:nvPr/>
            </p:nvGrpSpPr>
            <p:grpSpPr>
              <a:xfrm>
                <a:off x="2055960" y="3471120"/>
                <a:ext cx="768600" cy="701280"/>
                <a:chOff x="2055960" y="3471120"/>
                <a:chExt cx="768600" cy="70128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2233440" y="3471120"/>
                  <a:ext cx="591120" cy="694440"/>
                  <a:chOff x="2233440" y="3471120"/>
                  <a:chExt cx="591120" cy="6944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flipH="1" flipV="1" rot="1528800">
                    <a:off x="2562480" y="347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 rot="2344200">
                    <a:off x="2517480" y="355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 rot="2640000">
                    <a:off x="2480760" y="359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 rot="3172200">
                    <a:off x="2435760" y="364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7" name=""/>
                <p:cNvGrpSpPr/>
                <p:nvPr/>
              </p:nvGrpSpPr>
              <p:grpSpPr>
                <a:xfrm>
                  <a:off x="2055960" y="3662280"/>
                  <a:ext cx="743400" cy="510120"/>
                  <a:chOff x="2055960" y="3662280"/>
                  <a:chExt cx="743400" cy="510120"/>
                </a:xfrm>
              </p:grpSpPr>
              <p:sp>
                <p:nvSpPr>
                  <p:cNvPr id="598" name=""/>
                  <p:cNvSpPr/>
                  <p:nvPr/>
                </p:nvSpPr>
                <p:spPr>
                  <a:xfrm flipH="1" flipV="1" rot="2881800">
                    <a:off x="2466720" y="361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 flipV="1" rot="3697200">
                    <a:off x="2392920" y="368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 flipV="1" rot="3993000">
                    <a:off x="2342880" y="370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 rot="4525200">
                    <a:off x="2282040" y="373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2" name=""/>
            <p:cNvGrpSpPr/>
            <p:nvPr/>
          </p:nvGrpSpPr>
          <p:grpSpPr>
            <a:xfrm>
              <a:off x="2166480" y="3504240"/>
              <a:ext cx="677160" cy="617760"/>
              <a:chOff x="2166480" y="3504240"/>
              <a:chExt cx="677160" cy="617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2322720" y="3504240"/>
                <a:ext cx="520920" cy="611280"/>
                <a:chOff x="2322720" y="3504240"/>
                <a:chExt cx="520920" cy="611280"/>
              </a:xfrm>
            </p:grpSpPr>
            <p:sp>
              <p:nvSpPr>
                <p:cNvPr id="604" name=""/>
                <p:cNvSpPr/>
                <p:nvPr/>
              </p:nvSpPr>
              <p:spPr>
                <a:xfrm flipH="1" flipV="1" rot="1528800">
                  <a:off x="2612520" y="350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 flipV="1" rot="2344200">
                  <a:off x="2573280" y="358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H="1" flipV="1" rot="2640000">
                  <a:off x="2540520" y="361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 flipV="1" rot="3172200">
                  <a:off x="2499840" y="365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2166480" y="3672000"/>
                <a:ext cx="654840" cy="450000"/>
                <a:chOff x="2166480" y="3672000"/>
                <a:chExt cx="654840" cy="450000"/>
              </a:xfrm>
            </p:grpSpPr>
            <p:sp>
              <p:nvSpPr>
                <p:cNvPr id="609" name=""/>
                <p:cNvSpPr/>
                <p:nvPr/>
              </p:nvSpPr>
              <p:spPr>
                <a:xfrm flipH="1" flipV="1" rot="2881800">
                  <a:off x="2527560" y="363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H="1" flipV="1" rot="3697200">
                  <a:off x="2462760" y="368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 flipV="1" rot="3993000">
                  <a:off x="2418840" y="370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H="1" flipV="1" rot="4525200">
                  <a:off x="2364840" y="373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3" name=""/>
            <p:cNvSpPr/>
            <p:nvPr/>
          </p:nvSpPr>
          <p:spPr>
            <a:xfrm>
              <a:off x="1956240" y="341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784600" y="5345280"/>
            <a:ext cx="1172160" cy="1175040"/>
            <a:chOff x="2784600" y="5345280"/>
            <a:chExt cx="1172160" cy="1175040"/>
          </a:xfrm>
        </p:grpSpPr>
        <p:sp>
          <p:nvSpPr>
            <p:cNvPr id="615" name=""/>
            <p:cNvSpPr/>
            <p:nvPr/>
          </p:nvSpPr>
          <p:spPr>
            <a:xfrm>
              <a:off x="2784600" y="5345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819520" y="5381640"/>
              <a:ext cx="1118160" cy="1138680"/>
              <a:chOff x="2819520" y="5381640"/>
              <a:chExt cx="1118160" cy="113868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5381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8" name=""/>
              <p:cNvSpPr/>
              <p:nvPr/>
            </p:nvSpPr>
            <p:spPr>
              <a:xfrm>
                <a:off x="2819520" y="5381640"/>
                <a:ext cx="1079280" cy="10861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19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2829600" y="5426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0" name=""/>
              <p:cNvGrpSpPr/>
              <p:nvPr/>
            </p:nvGrpSpPr>
            <p:grpSpPr>
              <a:xfrm>
                <a:off x="3169080" y="5819040"/>
                <a:ext cx="768600" cy="701280"/>
                <a:chOff x="3169080" y="5819040"/>
                <a:chExt cx="768600" cy="70128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3346560" y="5819040"/>
                  <a:ext cx="591120" cy="694440"/>
                  <a:chOff x="3346560" y="5819040"/>
                  <a:chExt cx="591120" cy="69444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 flipV="1" rot="1528800">
                    <a:off x="3675600" y="5820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 flipV="1" rot="2344200">
                    <a:off x="3630600" y="5905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 flipV="1" rot="2640000">
                    <a:off x="3593880" y="5946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 flipV="1" rot="3172200">
                    <a:off x="3548880" y="5994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3169080" y="6010200"/>
                  <a:ext cx="743400" cy="510120"/>
                  <a:chOff x="3169080" y="6010200"/>
                  <a:chExt cx="743400" cy="51012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 flipH="1" flipV="1" rot="2881800">
                    <a:off x="3579840" y="5967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 flipV="1" rot="3697200">
                    <a:off x="3506040" y="6028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 flipV="1" rot="3993000">
                    <a:off x="3456000" y="6051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flipV="1" rot="4525200">
                    <a:off x="3395160" y="6078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1" name=""/>
            <p:cNvGrpSpPr/>
            <p:nvPr/>
          </p:nvGrpSpPr>
          <p:grpSpPr>
            <a:xfrm>
              <a:off x="3279600" y="5852160"/>
              <a:ext cx="677160" cy="617760"/>
              <a:chOff x="3279600" y="5852160"/>
              <a:chExt cx="677160" cy="61776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3435840" y="5852160"/>
                <a:ext cx="520920" cy="611280"/>
                <a:chOff x="3435840" y="5852160"/>
                <a:chExt cx="520920" cy="611280"/>
              </a:xfrm>
            </p:grpSpPr>
            <p:sp>
              <p:nvSpPr>
                <p:cNvPr id="633" name=""/>
                <p:cNvSpPr/>
                <p:nvPr/>
              </p:nvSpPr>
              <p:spPr>
                <a:xfrm flipH="1" flipV="1" rot="1528800">
                  <a:off x="3725640" y="5853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H="1" flipV="1" rot="2344200">
                  <a:off x="3686400" y="5928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H="1" flipV="1" rot="2640000">
                  <a:off x="3653640" y="5964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H="1" flipV="1" rot="3172200">
                  <a:off x="3612960" y="6006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79600" y="6019920"/>
                <a:ext cx="654840" cy="450000"/>
                <a:chOff x="3279600" y="6019920"/>
                <a:chExt cx="654840" cy="450000"/>
              </a:xfrm>
            </p:grpSpPr>
            <p:sp>
              <p:nvSpPr>
                <p:cNvPr id="638" name=""/>
                <p:cNvSpPr/>
                <p:nvPr/>
              </p:nvSpPr>
              <p:spPr>
                <a:xfrm flipH="1" flipV="1" rot="2881800">
                  <a:off x="3640680" y="5981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flipH="1" flipV="1" rot="3697200">
                  <a:off x="3575880" y="60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 flipV="1" rot="3993000">
                  <a:off x="3531960" y="6057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 rot="4525200">
                  <a:off x="3477960" y="6080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3069360" y="5764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029200" y="3886200"/>
            <a:ext cx="1172160" cy="1175040"/>
            <a:chOff x="5029200" y="3886200"/>
            <a:chExt cx="1172160" cy="1175040"/>
          </a:xfrm>
        </p:grpSpPr>
        <p:sp>
          <p:nvSpPr>
            <p:cNvPr id="644" name=""/>
            <p:cNvSpPr/>
            <p:nvPr/>
          </p:nvSpPr>
          <p:spPr>
            <a:xfrm>
              <a:off x="5029200" y="3886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5064120" y="3922560"/>
              <a:ext cx="1118160" cy="1138680"/>
              <a:chOff x="5064120" y="3922560"/>
              <a:chExt cx="1118160" cy="1138680"/>
            </a:xfrm>
          </p:grpSpPr>
          <p:pic>
            <p:nvPicPr>
              <p:cNvPr id="6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064120" y="3922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>
                <a:off x="5064120" y="3922560"/>
                <a:ext cx="1079280" cy="1086120"/>
              </a:xfrm>
              <a:prstGeom prst="ellipse">
                <a:avLst/>
              </a:prstGeom>
              <a:solidFill>
                <a:srgbClr val="ddddd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48" name="" descr=""/>
              <p:cNvPicPr/>
              <p:nvPr/>
            </p:nvPicPr>
            <p:blipFill>
              <a:blip r:embed="rId8"/>
              <a:srcRect l="0" t="14289" r="0" b="0"/>
              <a:stretch/>
            </p:blipFill>
            <p:spPr>
              <a:xfrm>
                <a:off x="5074200" y="3967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9" name=""/>
              <p:cNvGrpSpPr/>
              <p:nvPr/>
            </p:nvGrpSpPr>
            <p:grpSpPr>
              <a:xfrm>
                <a:off x="5413680" y="4359960"/>
                <a:ext cx="768600" cy="701280"/>
                <a:chOff x="5413680" y="4359960"/>
                <a:chExt cx="768600" cy="70128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5591160" y="4359960"/>
                  <a:ext cx="591120" cy="694440"/>
                  <a:chOff x="5591160" y="4359960"/>
                  <a:chExt cx="591120" cy="69444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 flipH="1" flipV="1" rot="1528800">
                    <a:off x="5920200" y="4361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flipH="1" flipV="1" rot="2344200">
                    <a:off x="5875200" y="4446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flipH="1" flipV="1" rot="2640000">
                    <a:off x="5838480" y="4487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flipV="1" rot="3172200">
                    <a:off x="5793480" y="4535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5413680" y="4551120"/>
                  <a:ext cx="743400" cy="510120"/>
                  <a:chOff x="5413680" y="4551120"/>
                  <a:chExt cx="743400" cy="51012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flipV="1" rot="2881800">
                    <a:off x="5824440" y="4507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 rot="3697200">
                    <a:off x="5750640" y="4569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 flipH="1" flipV="1" rot="3993000">
                    <a:off x="5700600" y="4592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 flipV="1" rot="4525200">
                    <a:off x="5639760" y="4619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0" name=""/>
            <p:cNvGrpSpPr/>
            <p:nvPr/>
          </p:nvGrpSpPr>
          <p:grpSpPr>
            <a:xfrm>
              <a:off x="5524200" y="4393080"/>
              <a:ext cx="677160" cy="617760"/>
              <a:chOff x="5524200" y="4393080"/>
              <a:chExt cx="677160" cy="6177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5680440" y="4393080"/>
                <a:ext cx="520920" cy="611280"/>
                <a:chOff x="5680440" y="4393080"/>
                <a:chExt cx="520920" cy="611280"/>
              </a:xfrm>
            </p:grpSpPr>
            <p:sp>
              <p:nvSpPr>
                <p:cNvPr id="662" name=""/>
                <p:cNvSpPr/>
                <p:nvPr/>
              </p:nvSpPr>
              <p:spPr>
                <a:xfrm flipH="1" flipV="1" rot="1528800">
                  <a:off x="5970240" y="4394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 flipV="1" rot="2344200">
                  <a:off x="5931000" y="4469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 flipV="1" rot="2640000">
                  <a:off x="5898240" y="4505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flipV="1" rot="3172200">
                  <a:off x="5857560" y="4547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5524200" y="4560840"/>
                <a:ext cx="654840" cy="450000"/>
                <a:chOff x="5524200" y="4560840"/>
                <a:chExt cx="654840" cy="450000"/>
              </a:xfrm>
            </p:grpSpPr>
            <p:sp>
              <p:nvSpPr>
                <p:cNvPr id="667" name=""/>
                <p:cNvSpPr/>
                <p:nvPr/>
              </p:nvSpPr>
              <p:spPr>
                <a:xfrm flipH="1" flipV="1" rot="2881800">
                  <a:off x="5885280" y="452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 flipH="1" flipV="1" rot="3697200">
                  <a:off x="5820480" y="4577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H="1" flipV="1" rot="3993000">
                  <a:off x="5776560" y="459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 flipH="1" flipV="1" rot="4525200">
                  <a:off x="5722560" y="4620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"/>
            <p:cNvSpPr/>
            <p:nvPr/>
          </p:nvSpPr>
          <p:spPr>
            <a:xfrm>
              <a:off x="5313960" y="4305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022720" y="1724040"/>
            <a:ext cx="1172160" cy="1175040"/>
            <a:chOff x="5022720" y="1724040"/>
            <a:chExt cx="1172160" cy="1175040"/>
          </a:xfrm>
        </p:grpSpPr>
        <p:sp>
          <p:nvSpPr>
            <p:cNvPr id="673" name=""/>
            <p:cNvSpPr/>
            <p:nvPr/>
          </p:nvSpPr>
          <p:spPr>
            <a:xfrm>
              <a:off x="5022720" y="17240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5057640" y="1760400"/>
              <a:ext cx="1118160" cy="1138680"/>
              <a:chOff x="5057640" y="1760400"/>
              <a:chExt cx="1118160" cy="1138680"/>
            </a:xfrm>
          </p:grpSpPr>
          <p:pic>
            <p:nvPicPr>
              <p:cNvPr id="67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057640" y="17604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5057640" y="1760400"/>
                <a:ext cx="1079280" cy="1086120"/>
              </a:xfrm>
              <a:prstGeom prst="ellipse">
                <a:avLst/>
              </a:prstGeom>
              <a:solidFill>
                <a:srgbClr val="5bbe4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10"/>
              <a:srcRect l="0" t="14289" r="0" b="0"/>
              <a:stretch/>
            </p:blipFill>
            <p:spPr>
              <a:xfrm>
                <a:off x="5067720" y="1805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8" name=""/>
              <p:cNvGrpSpPr/>
              <p:nvPr/>
            </p:nvGrpSpPr>
            <p:grpSpPr>
              <a:xfrm>
                <a:off x="5407200" y="2197800"/>
                <a:ext cx="768600" cy="701280"/>
                <a:chOff x="5407200" y="2197800"/>
                <a:chExt cx="768600" cy="70128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5584680" y="2197800"/>
                  <a:ext cx="591120" cy="694440"/>
                  <a:chOff x="5584680" y="2197800"/>
                  <a:chExt cx="591120" cy="69444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 flipH="1" flipV="1" rot="1528800">
                    <a:off x="5913720" y="21996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 rot="2344200">
                    <a:off x="5868720" y="2284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H="1" flipV="1" rot="2640000">
                    <a:off x="5832000" y="23252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flipH="1" flipV="1" rot="3172200">
                    <a:off x="5787000" y="2373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" name=""/>
                <p:cNvGrpSpPr/>
                <p:nvPr/>
              </p:nvGrpSpPr>
              <p:grpSpPr>
                <a:xfrm>
                  <a:off x="5407200" y="2388960"/>
                  <a:ext cx="743400" cy="510120"/>
                  <a:chOff x="5407200" y="2388960"/>
                  <a:chExt cx="743400" cy="5101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H="1" flipV="1" rot="2881800">
                    <a:off x="5817960" y="2345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 flipV="1" rot="3697200">
                    <a:off x="5744160" y="2407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 flipH="1" flipV="1" rot="3993000">
                    <a:off x="5694120" y="2430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 flipH="1" flipV="1" rot="4525200">
                    <a:off x="5633280" y="24570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9" name=""/>
            <p:cNvGrpSpPr/>
            <p:nvPr/>
          </p:nvGrpSpPr>
          <p:grpSpPr>
            <a:xfrm>
              <a:off x="5517720" y="2230920"/>
              <a:ext cx="677160" cy="617760"/>
              <a:chOff x="5517720" y="2230920"/>
              <a:chExt cx="677160" cy="6177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673960" y="2230920"/>
                <a:ext cx="520920" cy="611280"/>
                <a:chOff x="5673960" y="2230920"/>
                <a:chExt cx="520920" cy="611280"/>
              </a:xfrm>
            </p:grpSpPr>
            <p:sp>
              <p:nvSpPr>
                <p:cNvPr id="691" name=""/>
                <p:cNvSpPr/>
                <p:nvPr/>
              </p:nvSpPr>
              <p:spPr>
                <a:xfrm flipH="1" flipV="1" rot="1528800">
                  <a:off x="5963760" y="22323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 rot="2344200">
                  <a:off x="5924520" y="2307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 rot="2640000">
                  <a:off x="5891760" y="2343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H="1" flipV="1" rot="3172200">
                  <a:off x="5851080" y="2385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5517720" y="2398680"/>
                <a:ext cx="654840" cy="450000"/>
                <a:chOff x="5517720" y="2398680"/>
                <a:chExt cx="654840" cy="450000"/>
              </a:xfrm>
            </p:grpSpPr>
            <p:sp>
              <p:nvSpPr>
                <p:cNvPr id="696" name=""/>
                <p:cNvSpPr/>
                <p:nvPr/>
              </p:nvSpPr>
              <p:spPr>
                <a:xfrm flipH="1" flipV="1" rot="2881800">
                  <a:off x="5878800" y="2360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 flipV="1" rot="3697200">
                  <a:off x="5814000" y="2414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 rot="3993000">
                  <a:off x="5770080" y="2436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H="1" flipV="1" rot="4525200">
                  <a:off x="5716080" y="245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0" name=""/>
            <p:cNvSpPr/>
            <p:nvPr/>
          </p:nvSpPr>
          <p:spPr>
            <a:xfrm>
              <a:off x="5307480" y="2143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246560" y="3419640"/>
            <a:ext cx="829440" cy="844920"/>
            <a:chOff x="4246560" y="3419640"/>
            <a:chExt cx="829440" cy="844920"/>
          </a:xfrm>
        </p:grpSpPr>
        <p:pic>
          <p:nvPicPr>
            <p:cNvPr id="702" name="" descr=""/>
            <p:cNvPicPr/>
            <p:nvPr/>
          </p:nvPicPr>
          <p:blipFill>
            <a:blip r:embed="rId11"/>
            <a:stretch/>
          </p:blipFill>
          <p:spPr>
            <a:xfrm rot="4976400">
              <a:off x="4370040" y="355248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 rot="4977000">
              <a:off x="4371840" y="355032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50196"/>
                  </a:srgbClr>
                </a:gs>
                <a:gs pos="100000">
                  <a:srgbClr val="6565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4352040" y="3612240"/>
              <a:ext cx="223920" cy="500760"/>
              <a:chOff x="4352040" y="3612240"/>
              <a:chExt cx="223920" cy="50076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4356360" y="3705840"/>
                <a:ext cx="219600" cy="407160"/>
                <a:chOff x="4356360" y="3705840"/>
                <a:chExt cx="219600" cy="407160"/>
              </a:xfrm>
            </p:grpSpPr>
            <p:sp>
              <p:nvSpPr>
                <p:cNvPr id="706" name=""/>
                <p:cNvSpPr/>
                <p:nvPr/>
              </p:nvSpPr>
              <p:spPr>
                <a:xfrm flipH="1" flipV="1" rot="8941800">
                  <a:off x="4428720" y="381312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H="1" flipV="1" rot="9757200">
                  <a:off x="4404240" y="37695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H="1" flipV="1" rot="10053000">
                  <a:off x="4397400" y="3740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H="1" flipV="1" rot="10585200">
                  <a:off x="4390200" y="37076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352040" y="3612240"/>
                <a:ext cx="169200" cy="423720"/>
                <a:chOff x="4352040" y="3612240"/>
                <a:chExt cx="169200" cy="42372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 rot="10294800">
                  <a:off x="4392360" y="37296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H="1" flipV="1" rot="11110200">
                  <a:off x="4386960" y="367884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 rot="11406000">
                  <a:off x="4390920" y="364968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 flipV="1" rot="11938200">
                  <a:off x="4398840" y="361584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5" name=""/>
            <p:cNvSpPr/>
            <p:nvPr/>
          </p:nvSpPr>
          <p:spPr>
            <a:xfrm flipH="1" rot="1129200">
              <a:off x="4337640" y="3506040"/>
              <a:ext cx="646920" cy="67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16" name="" descr=""/>
            <p:cNvPicPr/>
            <p:nvPr/>
          </p:nvPicPr>
          <p:blipFill>
            <a:blip r:embed="rId12"/>
            <a:srcRect l="0" t="23740" r="0" b="0"/>
            <a:stretch/>
          </p:blipFill>
          <p:spPr>
            <a:xfrm rot="2407200">
              <a:off x="4527000" y="358236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"/>
          <p:cNvSpPr/>
          <p:nvPr/>
        </p:nvSpPr>
        <p:spPr>
          <a:xfrm>
            <a:off x="7018200" y="1995480"/>
            <a:ext cx="1509840" cy="366840"/>
          </a:xfrm>
          <a:noFill/>
          <a:ln w="9360">
            <a:solidFill>
              <a:srgbClr val="5bbe4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713640" y="3951360"/>
            <a:ext cx="1509480" cy="392040"/>
          </a:xfrm>
          <a:noFill/>
          <a:ln w="9360">
            <a:solidFill>
              <a:srgbClr val="ddddd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5640" y="1596960"/>
            <a:ext cx="1593720" cy="434880"/>
          </a:xfrm>
          <a:noFill/>
          <a:ln w="9360">
            <a:solidFill>
              <a:srgbClr val="a59a5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320" y="4103640"/>
            <a:ext cx="1593720" cy="434880"/>
          </a:xfrm>
          <a:noFill/>
          <a:ln w="9360">
            <a:solidFill>
              <a:srgbClr val="8f038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410080"/>
            <a:ext cx="1509480" cy="392400"/>
          </a:xfrm>
          <a:noFill/>
          <a:ln w="9360">
            <a:solidFill>
              <a:srgbClr val="4ab1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Description of the busin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41920" y="54864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5702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00640" y="220968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48f3b"/>
              </a:gs>
              <a:gs pos="100000">
                <a:srgbClr val="5bbe4e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078000" y="2209680"/>
            <a:ext cx="2856240" cy="1163880"/>
          </a:xfrm>
          <a:custGeom>
            <a:avLst/>
            <a:gdLst>
              <a:gd name="textAreaLeft" fmla="*/ 0 w 2856240"/>
              <a:gd name="textAreaRight" fmla="*/ 2856600 w 2856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d7440"/>
              </a:gs>
              <a:gs pos="100000">
                <a:srgbClr val="a59a55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220968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41240" y="3978000"/>
            <a:ext cx="7613640" cy="2018160"/>
            <a:chOff x="741240" y="3978000"/>
            <a:chExt cx="7613640" cy="2018160"/>
          </a:xfrm>
        </p:grpSpPr>
        <p:grpSp>
          <p:nvGrpSpPr>
            <p:cNvPr id="729" name=""/>
            <p:cNvGrpSpPr/>
            <p:nvPr/>
          </p:nvGrpSpPr>
          <p:grpSpPr>
            <a:xfrm>
              <a:off x="741240" y="3978000"/>
              <a:ext cx="7613640" cy="2018160"/>
              <a:chOff x="741240" y="3978000"/>
              <a:chExt cx="7613640" cy="201816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852480" y="3977280"/>
                <a:ext cx="7386480" cy="344520"/>
              </a:xfrm>
              <a:custGeom>
                <a:avLst/>
                <a:gdLst>
                  <a:gd name="textAreaLeft" fmla="*/ 1008360 w 7386480"/>
                  <a:gd name="textAreaRight" fmla="*/ 6378120 w 7386480"/>
                  <a:gd name="textAreaTop" fmla="*/ 46800 h 344520"/>
                  <a:gd name="textAreaBottom" fmla="*/ 29772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442" y="21600"/>
                    </a:lnTo>
                    <a:lnTo>
                      <a:pt x="215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8d7e1"/>
                  </a:gs>
                  <a:gs pos="100000">
                    <a:srgbClr val="9db9c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41240" y="4329000"/>
                <a:ext cx="7613640" cy="166716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5"/>
                  </a:gs>
                  <a:gs pos="50000">
                    <a:srgbClr val="9db9cb"/>
                  </a:gs>
                  <a:gs pos="100000">
                    <a:srgbClr val="8097a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904680" y="4775040"/>
              <a:ext cx="7191720" cy="1033560"/>
            </a:xfrm>
            <a:prstGeom prst="roundRect">
              <a:avLst>
                <a:gd name="adj" fmla="val 9782"/>
              </a:avLst>
            </a:prstGeom>
            <a:solidFill>
              <a:srgbClr val="5bbe4e"/>
            </a:solidFill>
            <a:ln w="284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140328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19320" y="49579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37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96160" y="239400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15238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title about content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27120" y="4313160"/>
            <a:ext cx="457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[ Description of the contents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738360" y="3608280"/>
            <a:ext cx="3833640" cy="536760"/>
            <a:chOff x="738360" y="3608280"/>
            <a:chExt cx="3833640" cy="536760"/>
          </a:xfrm>
        </p:grpSpPr>
        <p:sp>
          <p:nvSpPr>
            <p:cNvPr id="740" name=""/>
            <p:cNvSpPr/>
            <p:nvPr/>
          </p:nvSpPr>
          <p:spPr>
            <a:xfrm>
              <a:off x="738360" y="3608280"/>
              <a:ext cx="383364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770040" y="3625920"/>
              <a:ext cx="377172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2" name=""/>
          <p:cNvGrpSpPr/>
          <p:nvPr/>
        </p:nvGrpSpPr>
        <p:grpSpPr>
          <a:xfrm>
            <a:off x="4724280" y="3611520"/>
            <a:ext cx="3556080" cy="536760"/>
            <a:chOff x="4724280" y="3611520"/>
            <a:chExt cx="3556080" cy="536760"/>
          </a:xfrm>
        </p:grpSpPr>
        <p:sp>
          <p:nvSpPr>
            <p:cNvPr id="743" name=""/>
            <p:cNvSpPr/>
            <p:nvPr/>
          </p:nvSpPr>
          <p:spPr>
            <a:xfrm>
              <a:off x="4724280" y="3611520"/>
              <a:ext cx="3556080" cy="536760"/>
            </a:xfrm>
            <a:prstGeom prst="roundRect">
              <a:avLst>
                <a:gd name="adj" fmla="val 16667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44" name="" descr=""/>
            <p:cNvPicPr/>
            <p:nvPr/>
          </p:nvPicPr>
          <p:blipFill>
            <a:blip r:embed="rId2"/>
            <a:stretch/>
          </p:blipFill>
          <p:spPr>
            <a:xfrm>
              <a:off x="4757760" y="3627360"/>
              <a:ext cx="3508200" cy="2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5" name=""/>
          <p:cNvSpPr/>
          <p:nvPr/>
        </p:nvSpPr>
        <p:spPr>
          <a:xfrm>
            <a:off x="5118120" y="36669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36669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2151000" y="223524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fff"/>
                      </a:solidFill>
                    </a:lnL>
                    <a:lnR w="5760">
                      <a:solidFill>
                        <a:srgbClr val="feffff"/>
                      </a:solidFill>
                    </a:lnR>
                    <a:lnT w="5760">
                      <a:solidFill>
                        <a:srgbClr val="feffff"/>
                      </a:solidFill>
                    </a:lnT>
                    <a:lnB w="576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>
            <a:off x="625320" y="2309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5320" y="2867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25320" y="33908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5320" y="3905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25320" y="44388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25320" y="4981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ntents06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171880" y="2349360"/>
            <a:ext cx="968040" cy="274680"/>
          </a:xfrm>
          <a:prstGeom prst="rect">
            <a:avLst/>
          </a:prstGeom>
          <a:gradFill rotWithShape="0">
            <a:gsLst>
              <a:gs pos="0">
                <a:srgbClr val="9bd794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171880" y="2909880"/>
            <a:ext cx="849240" cy="274680"/>
          </a:xfrm>
          <a:prstGeom prst="rect">
            <a:avLst/>
          </a:prstGeom>
          <a:gradFill rotWithShape="0">
            <a:gsLst>
              <a:gs pos="0">
                <a:srgbClr val="c8c198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171880" y="3452760"/>
            <a:ext cx="419040" cy="27468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171880" y="3956040"/>
            <a:ext cx="1315800" cy="274680"/>
          </a:xfrm>
          <a:prstGeom prst="rect">
            <a:avLst/>
          </a:prstGeom>
          <a:gradFill rotWithShape="0">
            <a:gsLst>
              <a:gs pos="0">
                <a:srgbClr val="f9ae76"/>
              </a:gs>
              <a:gs pos="100000">
                <a:srgbClr val="f77a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171880" y="4510080"/>
            <a:ext cx="3573360" cy="274680"/>
          </a:xfrm>
          <a:prstGeom prst="rect">
            <a:avLst/>
          </a:prstGeom>
          <a:gradFill rotWithShape="0">
            <a:gsLst>
              <a:gs pos="0">
                <a:srgbClr val="a2a2fe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171880" y="5043600"/>
            <a:ext cx="4725720" cy="274680"/>
          </a:xfrm>
          <a:prstGeom prst="rect">
            <a:avLst/>
          </a:prstGeom>
          <a:gradFill rotWithShape="0">
            <a:gsLst>
              <a:gs pos="0">
                <a:srgbClr val="cca3cb"/>
              </a:gs>
              <a:gs pos="100000">
                <a:srgbClr val="ad67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50920" y="548640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65560" y="2340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8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65560" y="2901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17.5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92440" y="3435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.7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98920" y="3949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2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837400" y="4495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63.6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78600" y="503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84.3%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6720" y="140976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4489560" y="2482920"/>
            <a:ext cx="2139840" cy="21304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2276640" y="2863800"/>
            <a:ext cx="1609560" cy="16002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3"/>
          <a:stretch/>
        </p:blipFill>
        <p:spPr>
          <a:xfrm>
            <a:off x="457200" y="3219480"/>
            <a:ext cx="1251000" cy="124452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918480" y="2424240"/>
            <a:ext cx="1868400" cy="2313000"/>
          </a:xfrm>
          <a:custGeom>
            <a:avLst/>
            <a:gdLst>
              <a:gd name="textAreaLeft" fmla="*/ 91080 w 1868400"/>
              <a:gd name="textAreaRight" fmla="*/ 1777320 w 1868400"/>
              <a:gd name="textAreaTop" fmla="*/ 91080 h 2313000"/>
              <a:gd name="textAreaBottom" fmla="*/ 2221920 h 2313000"/>
            </a:gdLst>
            <a:ahLst/>
            <a:rect l="textAreaLeft" t="textAreaTop" r="textAreaRight" b="textAreaBottom"/>
            <a:pathLst>
              <a:path w="21600" h="26739">
                <a:moveTo>
                  <a:pt x="3600" y="0"/>
                </a:moveTo>
                <a:arcTo wR="3600" hR="3600" stAng="16200000" swAng="-5400000"/>
                <a:lnTo>
                  <a:pt x="0" y="23139"/>
                </a:lnTo>
                <a:arcTo wR="3600" hR="3600" stAng="10800000" swAng="-5400000"/>
                <a:lnTo>
                  <a:pt x="18000" y="267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53960" y="2406600"/>
            <a:ext cx="0" cy="26337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53880" y="4964040"/>
            <a:ext cx="632484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683240" y="3236760"/>
            <a:ext cx="18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449440" y="3257640"/>
            <a:ext cx="131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41440" y="3551400"/>
            <a:ext cx="104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932520" y="3051000"/>
            <a:ext cx="177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 i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066760" y="4518000"/>
            <a:ext cx="0" cy="96840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94200" y="4518000"/>
            <a:ext cx="0" cy="95904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129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24172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451400" y="50403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34880" y="152388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1797120" y="3722760"/>
            <a:ext cx="412560" cy="46656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3975120" y="3722760"/>
            <a:ext cx="4125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744640" y="1893960"/>
            <a:ext cx="3956040" cy="38815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62440" y="2100240"/>
            <a:ext cx="3490920" cy="349092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178080" y="2427120"/>
            <a:ext cx="2973600" cy="2973600"/>
          </a:xfrm>
          <a:prstGeom prst="ellipse">
            <a:avLst/>
          </a:prstGeom>
          <a:noFill/>
          <a:ln w="1260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9043800">
            <a:off x="2420280" y="37256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3699000" y="153144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4ab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1788000">
            <a:off x="4966920" y="3738600"/>
            <a:ext cx="1871640" cy="1855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63" y="0"/>
                </a:lnTo>
                <a:lnTo>
                  <a:pt x="21600" y="10800"/>
                </a:lnTo>
                <a:lnTo>
                  <a:pt x="15463" y="21600"/>
                </a:lnTo>
                <a:lnTo>
                  <a:pt x="0" y="21600"/>
                </a:lnTo>
                <a:lnTo>
                  <a:pt x="6137" y="10800"/>
                </a:lnTo>
                <a:close/>
              </a:path>
            </a:pathLst>
          </a:cu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706920" y="3392640"/>
            <a:ext cx="1855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610080" y="2274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4320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10080" y="4459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Your text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</a:rPr>
              <a:t>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91320" y="194472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ab1e4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44480" y="3689280"/>
            <a:ext cx="22096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8f038f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781680" y="4002120"/>
            <a:ext cx="221004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77a1d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721800" y="3577680"/>
            <a:ext cx="7607520" cy="194436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36323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8120" y="152388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77a1d"/>
              </a:gs>
              <a:gs pos="100000">
                <a:srgbClr val="71380d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288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70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0044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42200" y="2803680"/>
            <a:ext cx="1643040" cy="16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49160" y="165276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5076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40440" y="504828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23720" y="234936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813" name=""/>
          <p:cNvCxnSpPr>
            <a:stCxn id="805" idx="0"/>
            <a:endCxn id="812" idx="1"/>
          </p:cNvCxnSpPr>
          <p:nvPr/>
        </p:nvCxnSpPr>
        <p:spPr>
          <a:xfrm flipH="1" flipV="1" rot="5400000">
            <a:off x="2292840" y="197532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stCxn id="808" idx="0"/>
            <a:endCxn id="812" idx="3"/>
          </p:cNvCxnSpPr>
          <p:nvPr/>
        </p:nvCxnSpPr>
        <p:spPr>
          <a:xfrm flipV="1" rot="16200000">
            <a:off x="6344640" y="188388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815" name=""/>
          <p:cNvCxnSpPr>
            <a:stCxn id="805" idx="2"/>
            <a:endCxn id="806" idx="2"/>
          </p:cNvCxnSpPr>
          <p:nvPr/>
        </p:nvCxnSpPr>
        <p:spPr>
          <a:xfrm flipH="1" rot="16200000">
            <a:off x="2670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6" name=""/>
          <p:cNvCxnSpPr>
            <a:stCxn id="807" idx="2"/>
            <a:endCxn id="808" idx="2"/>
          </p:cNvCxnSpPr>
          <p:nvPr/>
        </p:nvCxnSpPr>
        <p:spPr>
          <a:xfrm flipH="1" rot="16200000">
            <a:off x="6342120" y="352332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27766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60548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54800" y="335916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0184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1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630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2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69368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3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31840" y="29923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4. Tit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164304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rot="5400000">
            <a:off x="3460680" y="409248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5365080" y="409248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5400000">
            <a:off x="7170120" y="409248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30680" y="186372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98480" y="48988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066680" y="4780080"/>
            <a:ext cx="2295360" cy="1365120"/>
            <a:chOff x="1066680" y="4780080"/>
            <a:chExt cx="2295360" cy="1365120"/>
          </a:xfrm>
        </p:grpSpPr>
        <p:sp>
          <p:nvSpPr>
            <p:cNvPr id="832" name=""/>
            <p:cNvSpPr/>
            <p:nvPr/>
          </p:nvSpPr>
          <p:spPr>
            <a:xfrm>
              <a:off x="1066680" y="58143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070640" y="4780080"/>
              <a:ext cx="22914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1066680" y="3484440"/>
            <a:ext cx="2295360" cy="1365480"/>
            <a:chOff x="1066680" y="3484440"/>
            <a:chExt cx="2295360" cy="1365480"/>
          </a:xfrm>
        </p:grpSpPr>
        <p:sp>
          <p:nvSpPr>
            <p:cNvPr id="835" name=""/>
            <p:cNvSpPr/>
            <p:nvPr/>
          </p:nvSpPr>
          <p:spPr>
            <a:xfrm>
              <a:off x="1066680" y="45190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070640" y="34844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723"/>
                </a:gs>
                <a:gs pos="50000">
                  <a:srgbClr val="5bbe4e">
                    <a:alpha val="50196"/>
                  </a:srgbClr>
                </a:gs>
                <a:gs pos="100000">
                  <a:srgbClr val="2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066680" y="2112840"/>
            <a:ext cx="2295360" cy="1365480"/>
            <a:chOff x="1066680" y="2112840"/>
            <a:chExt cx="2295360" cy="1365480"/>
          </a:xfrm>
        </p:grpSpPr>
        <p:sp>
          <p:nvSpPr>
            <p:cNvPr id="838" name=""/>
            <p:cNvSpPr/>
            <p:nvPr/>
          </p:nvSpPr>
          <p:spPr>
            <a:xfrm>
              <a:off x="1066680" y="31474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070640" y="2112840"/>
              <a:ext cx="229140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0141"/>
                </a:gs>
                <a:gs pos="50000">
                  <a:srgbClr val="8f038f">
                    <a:alpha val="50196"/>
                  </a:srgbClr>
                </a:gs>
                <a:gs pos="100000">
                  <a:srgbClr val="410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354480" y="2362320"/>
            <a:ext cx="472284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149480" y="270684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933720" y="24876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49480" y="40831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49480" y="541332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51240" y="370692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941640" y="383364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51240" y="5005440"/>
            <a:ext cx="4649760" cy="9111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4ab1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32280" y="515160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54480" y="264636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2400" y="3935520"/>
            <a:ext cx="533160" cy="380880"/>
          </a:xfrm>
          <a:prstGeom prst="rightArrow">
            <a:avLst>
              <a:gd name="adj1" fmla="val 50000"/>
              <a:gd name="adj2" fmla="val 5832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352680" y="528156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7184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d7181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941400" y="1511280"/>
            <a:ext cx="1984320" cy="16686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944640" y="4468680"/>
            <a:ext cx="1981080" cy="144324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3"/>
          <a:stretch/>
        </p:blipFill>
        <p:spPr>
          <a:xfrm>
            <a:off x="3900600" y="1219320"/>
            <a:ext cx="1315800" cy="485604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4"/>
          <a:stretch/>
        </p:blipFill>
        <p:spPr>
          <a:xfrm>
            <a:off x="5486400" y="1370160"/>
            <a:ext cx="647640" cy="47052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5"/>
          <a:stretch/>
        </p:blipFill>
        <p:spPr>
          <a:xfrm>
            <a:off x="3749760" y="151128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6"/>
          <a:stretch/>
        </p:blipFill>
        <p:spPr>
          <a:xfrm>
            <a:off x="3749760" y="2973240"/>
            <a:ext cx="1401840" cy="144936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7"/>
          <a:stretch/>
        </p:blipFill>
        <p:spPr>
          <a:xfrm>
            <a:off x="3749760" y="4481640"/>
            <a:ext cx="1401840" cy="144936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3025800" y="228132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14880" y="273672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030480" y="2746440"/>
            <a:ext cx="29376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14880" y="3648240"/>
            <a:ext cx="29340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24240" y="39513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324240" y="3951360"/>
            <a:ext cx="0" cy="129060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324240" y="5241960"/>
            <a:ext cx="2271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057640" y="364824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057640" y="524196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29200" y="2205000"/>
            <a:ext cx="422280" cy="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8"/>
          <a:stretch/>
        </p:blipFill>
        <p:spPr>
          <a:xfrm>
            <a:off x="6532560" y="3648240"/>
            <a:ext cx="1657440" cy="86184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9"/>
          <a:stretch/>
        </p:blipFill>
        <p:spPr>
          <a:xfrm>
            <a:off x="6532560" y="4605480"/>
            <a:ext cx="1670040" cy="7585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0"/>
          <a:stretch/>
        </p:blipFill>
        <p:spPr>
          <a:xfrm>
            <a:off x="6532560" y="2631960"/>
            <a:ext cx="1670040" cy="9115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"/>
          <a:stretch/>
        </p:blipFill>
        <p:spPr>
          <a:xfrm>
            <a:off x="6532560" y="5468760"/>
            <a:ext cx="1670040" cy="68292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943600" y="1776240"/>
            <a:ext cx="45576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741528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7262640" y="2165400"/>
            <a:ext cx="0" cy="30312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526080" y="1557360"/>
            <a:ext cx="1676520" cy="531720"/>
          </a:xfrm>
          <a:prstGeom prst="rect">
            <a:avLst/>
          </a:prstGeom>
          <a:solidFill>
            <a:srgbClr val="a59a55">
              <a:alpha val="40000"/>
            </a:srgbClr>
          </a:solidFill>
          <a:ln w="284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238800" y="4178160"/>
            <a:ext cx="0" cy="911520"/>
          </a:xfrm>
          <a:prstGeom prst="line">
            <a:avLst/>
          </a:prstGeom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076800" y="4178160"/>
            <a:ext cx="152640" cy="0"/>
          </a:xfrm>
          <a:prstGeom prst="line">
            <a:avLst/>
          </a:prstGeom>
          <a:ln w="19080">
            <a:solidFill>
              <a:srgbClr val="08080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229440" y="5089680"/>
            <a:ext cx="150840" cy="0"/>
          </a:xfrm>
          <a:prstGeom prst="line">
            <a:avLst/>
          </a:prstGeom>
          <a:ln w="1908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57320" y="2149560"/>
            <a:ext cx="1752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599160" y="381780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104840" y="17384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104840" y="469584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2"/>
          <a:stretch/>
        </p:blipFill>
        <p:spPr>
          <a:xfrm>
            <a:off x="952560" y="3254400"/>
            <a:ext cx="1973160" cy="113832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>
            <a:off x="1104840" y="3481560"/>
            <a:ext cx="1676520" cy="303120"/>
          </a:xfrm>
          <a:prstGeom prst="rect">
            <a:avLst/>
          </a:prstGeom>
          <a:solidFill>
            <a:srgbClr val="fefefe">
              <a:alpha val="40000"/>
            </a:srgbClr>
          </a:solidFill>
          <a:ln w="1512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431720" y="1738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409400" y="348444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400" y="46990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itle in here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929040" y="192708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38400" y="341964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938400" y="5013360"/>
            <a:ext cx="9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Tex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rot="16200000">
            <a:off x="3517920" y="3569760"/>
            <a:ext cx="4402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efe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600960" y="48625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600960" y="569592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599160" y="2813040"/>
            <a:ext cx="1603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599160" y="1536840"/>
            <a:ext cx="1542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057320" y="38926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057320" y="5116680"/>
            <a:ext cx="1752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120600" indent="-120600">
              <a:spcBef>
                <a:spcPts val="7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03640" y="269892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63760" y="2424240"/>
            <a:ext cx="48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78280" y="318132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141800" y="39988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73680" y="480528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494160" y="5565600"/>
            <a:ext cx="48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902320" y="2373840"/>
            <a:ext cx="398880" cy="406440"/>
            <a:chOff x="2902320" y="2373840"/>
            <a:chExt cx="398880" cy="406440"/>
          </a:xfrm>
        </p:grpSpPr>
        <p:pic>
          <p:nvPicPr>
            <p:cNvPr id="909" name="" descr=""/>
            <p:cNvPicPr/>
            <p:nvPr/>
          </p:nvPicPr>
          <p:blipFill>
            <a:blip r:embed="rId1"/>
            <a:stretch/>
          </p:blipFill>
          <p:spPr>
            <a:xfrm rot="4978200">
              <a:off x="2961000" y="24372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 rot="4977000">
              <a:off x="2962080" y="24368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952360" y="2466360"/>
              <a:ext cx="108000" cy="241920"/>
              <a:chOff x="2952360" y="2466360"/>
              <a:chExt cx="108000" cy="24192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954520" y="2511000"/>
                <a:ext cx="105840" cy="197280"/>
                <a:chOff x="2954520" y="2511000"/>
                <a:chExt cx="105840" cy="197280"/>
              </a:xfrm>
            </p:grpSpPr>
            <p:sp>
              <p:nvSpPr>
                <p:cNvPr id="913" name=""/>
                <p:cNvSpPr/>
                <p:nvPr/>
              </p:nvSpPr>
              <p:spPr>
                <a:xfrm flipH="1" flipV="1" rot="8941800">
                  <a:off x="2989440" y="2562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 rot="9757200">
                  <a:off x="2977560" y="2541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flipV="1" rot="10053000">
                  <a:off x="2974680" y="25279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flipV="1" rot="10585200">
                  <a:off x="2971080" y="2511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2952360" y="2466360"/>
                <a:ext cx="81720" cy="203040"/>
                <a:chOff x="2952360" y="2466360"/>
                <a:chExt cx="81720" cy="203040"/>
              </a:xfrm>
            </p:grpSpPr>
            <p:sp>
              <p:nvSpPr>
                <p:cNvPr id="918" name=""/>
                <p:cNvSpPr/>
                <p:nvPr/>
              </p:nvSpPr>
              <p:spPr>
                <a:xfrm flipH="1" flipV="1" rot="10294800">
                  <a:off x="2972880" y="25221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flipV="1" rot="11110200">
                  <a:off x="2970000" y="24980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flipV="1" rot="11406000">
                  <a:off x="2971080" y="24850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 rot="11938200">
                  <a:off x="2974320" y="24678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2" name=""/>
            <p:cNvSpPr/>
            <p:nvPr/>
          </p:nvSpPr>
          <p:spPr>
            <a:xfrm flipH="1" rot="1129200">
              <a:off x="2945880" y="24152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3600">
              <a:off x="3037320" y="24519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4" name=""/>
          <p:cNvGrpSpPr/>
          <p:nvPr/>
        </p:nvGrpSpPr>
        <p:grpSpPr>
          <a:xfrm>
            <a:off x="228600" y="2508120"/>
            <a:ext cx="3438000" cy="3428640"/>
            <a:chOff x="228600" y="2508120"/>
            <a:chExt cx="3438000" cy="3428640"/>
          </a:xfrm>
        </p:grpSpPr>
        <p:sp>
          <p:nvSpPr>
            <p:cNvPr id="925" name=""/>
            <p:cNvSpPr/>
            <p:nvPr/>
          </p:nvSpPr>
          <p:spPr>
            <a:xfrm flipH="1">
              <a:off x="228600" y="2508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5400" y="2742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82200" y="3001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940680" y="3259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1167840" y="3507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1394640" y="3722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1599120" y="3938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1149480" y="3479760"/>
            <a:ext cx="1609560" cy="1612800"/>
          </a:xfrm>
          <a:prstGeom prst="rect">
            <a:avLst/>
          </a:prstGeom>
          <a:ln w="0">
            <a:noFill/>
          </a:ln>
        </p:spPr>
      </p:pic>
      <p:grpSp>
        <p:nvGrpSpPr>
          <p:cNvPr id="933" name=""/>
          <p:cNvGrpSpPr/>
          <p:nvPr/>
        </p:nvGrpSpPr>
        <p:grpSpPr>
          <a:xfrm>
            <a:off x="3534840" y="3124800"/>
            <a:ext cx="398520" cy="406440"/>
            <a:chOff x="3534840" y="3124800"/>
            <a:chExt cx="398520" cy="406440"/>
          </a:xfrm>
        </p:grpSpPr>
        <p:pic>
          <p:nvPicPr>
            <p:cNvPr id="934" name="" descr=""/>
            <p:cNvPicPr/>
            <p:nvPr/>
          </p:nvPicPr>
          <p:blipFill>
            <a:blip r:embed="rId4"/>
            <a:stretch/>
          </p:blipFill>
          <p:spPr>
            <a:xfrm rot="4978200">
              <a:off x="3593520" y="318816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"/>
            <p:cNvSpPr/>
            <p:nvPr/>
          </p:nvSpPr>
          <p:spPr>
            <a:xfrm rot="4977000">
              <a:off x="3594600" y="318780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36" name=""/>
            <p:cNvGrpSpPr/>
            <p:nvPr/>
          </p:nvGrpSpPr>
          <p:grpSpPr>
            <a:xfrm>
              <a:off x="3584520" y="3217320"/>
              <a:ext cx="108720" cy="241920"/>
              <a:chOff x="3584520" y="3217320"/>
              <a:chExt cx="108720" cy="241920"/>
            </a:xfrm>
          </p:grpSpPr>
          <p:grpSp>
            <p:nvGrpSpPr>
              <p:cNvPr id="937" name=""/>
              <p:cNvGrpSpPr/>
              <p:nvPr/>
            </p:nvGrpSpPr>
            <p:grpSpPr>
              <a:xfrm>
                <a:off x="3587400" y="3261960"/>
                <a:ext cx="105840" cy="197280"/>
                <a:chOff x="3587400" y="3261960"/>
                <a:chExt cx="105840" cy="197280"/>
              </a:xfrm>
            </p:grpSpPr>
            <p:sp>
              <p:nvSpPr>
                <p:cNvPr id="938" name=""/>
                <p:cNvSpPr/>
                <p:nvPr/>
              </p:nvSpPr>
              <p:spPr>
                <a:xfrm flipH="1" flipV="1" rot="8941800">
                  <a:off x="3622320" y="331308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flipV="1" rot="9757200">
                  <a:off x="3610800" y="32925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flipV="1" rot="10053000">
                  <a:off x="3607920" y="3278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flipV="1" rot="10585200">
                  <a:off x="3604320" y="3262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584520" y="3217320"/>
                <a:ext cx="82080" cy="202680"/>
                <a:chOff x="3584520" y="3217320"/>
                <a:chExt cx="82080" cy="202680"/>
              </a:xfrm>
            </p:grpSpPr>
            <p:sp>
              <p:nvSpPr>
                <p:cNvPr id="943" name=""/>
                <p:cNvSpPr/>
                <p:nvPr/>
              </p:nvSpPr>
              <p:spPr>
                <a:xfrm flipH="1" flipV="1" rot="10294800">
                  <a:off x="3605400" y="327312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flipV="1" rot="11110200">
                  <a:off x="3603240" y="32490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flipV="1" rot="11406000">
                  <a:off x="360360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flipV="1" rot="11938200">
                  <a:off x="3607200" y="321912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7" name=""/>
            <p:cNvSpPr/>
            <p:nvPr/>
          </p:nvSpPr>
          <p:spPr>
            <a:xfrm flipH="1" rot="1129200">
              <a:off x="3578040" y="316620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48" name="" descr=""/>
            <p:cNvPicPr/>
            <p:nvPr/>
          </p:nvPicPr>
          <p:blipFill>
            <a:blip r:embed="rId5"/>
            <a:srcRect l="0" t="23740" r="0" b="0"/>
            <a:stretch/>
          </p:blipFill>
          <p:spPr>
            <a:xfrm rot="2403600">
              <a:off x="3670200" y="320328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9" name=""/>
          <p:cNvGrpSpPr/>
          <p:nvPr/>
        </p:nvGrpSpPr>
        <p:grpSpPr>
          <a:xfrm>
            <a:off x="3787200" y="3942360"/>
            <a:ext cx="398520" cy="406440"/>
            <a:chOff x="3787200" y="3942360"/>
            <a:chExt cx="398520" cy="406440"/>
          </a:xfrm>
        </p:grpSpPr>
        <p:pic>
          <p:nvPicPr>
            <p:cNvPr id="950" name="" descr=""/>
            <p:cNvPicPr/>
            <p:nvPr/>
          </p:nvPicPr>
          <p:blipFill>
            <a:blip r:embed="rId6"/>
            <a:stretch/>
          </p:blipFill>
          <p:spPr>
            <a:xfrm rot="4978200">
              <a:off x="3845880" y="400572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4977000">
              <a:off x="3846960" y="400536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3836880" y="4034880"/>
              <a:ext cx="108720" cy="241920"/>
              <a:chOff x="3836880" y="4034880"/>
              <a:chExt cx="108720" cy="24192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3839760" y="4079520"/>
                <a:ext cx="105840" cy="197280"/>
                <a:chOff x="3839760" y="4079520"/>
                <a:chExt cx="105840" cy="197280"/>
              </a:xfrm>
            </p:grpSpPr>
            <p:sp>
              <p:nvSpPr>
                <p:cNvPr id="954" name=""/>
                <p:cNvSpPr/>
                <p:nvPr/>
              </p:nvSpPr>
              <p:spPr>
                <a:xfrm flipH="1" flipV="1" rot="8941800">
                  <a:off x="3874680" y="41306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flipV="1" rot="9757200">
                  <a:off x="3863160" y="41101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flipV="1" rot="10053000">
                  <a:off x="3860280" y="40960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flipV="1" rot="10585200">
                  <a:off x="3856680" y="40798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3836880" y="4034880"/>
                <a:ext cx="82080" cy="202680"/>
                <a:chOff x="3836880" y="4034880"/>
                <a:chExt cx="82080" cy="202680"/>
              </a:xfrm>
            </p:grpSpPr>
            <p:sp>
              <p:nvSpPr>
                <p:cNvPr id="959" name=""/>
                <p:cNvSpPr/>
                <p:nvPr/>
              </p:nvSpPr>
              <p:spPr>
                <a:xfrm flipH="1" flipV="1" rot="10294800">
                  <a:off x="3857760" y="409068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flipV="1" rot="11110200">
                  <a:off x="3855600" y="40665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flipV="1" rot="11406000">
                  <a:off x="3855960" y="405288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 rot="11938200">
                  <a:off x="3859560" y="40366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3" name=""/>
            <p:cNvSpPr/>
            <p:nvPr/>
          </p:nvSpPr>
          <p:spPr>
            <a:xfrm flipH="1" rot="1129200">
              <a:off x="3830400" y="398376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64" name="" descr=""/>
            <p:cNvPicPr/>
            <p:nvPr/>
          </p:nvPicPr>
          <p:blipFill>
            <a:blip r:embed="rId7"/>
            <a:srcRect l="0" t="23740" r="0" b="0"/>
            <a:stretch/>
          </p:blipFill>
          <p:spPr>
            <a:xfrm rot="2403600">
              <a:off x="3922560" y="402084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5" name=""/>
          <p:cNvGrpSpPr/>
          <p:nvPr/>
        </p:nvGrpSpPr>
        <p:grpSpPr>
          <a:xfrm>
            <a:off x="3610800" y="4749840"/>
            <a:ext cx="398520" cy="406440"/>
            <a:chOff x="3610800" y="4749840"/>
            <a:chExt cx="398520" cy="406440"/>
          </a:xfrm>
        </p:grpSpPr>
        <p:pic>
          <p:nvPicPr>
            <p:cNvPr id="966" name="" descr=""/>
            <p:cNvPicPr/>
            <p:nvPr/>
          </p:nvPicPr>
          <p:blipFill>
            <a:blip r:embed="rId8"/>
            <a:stretch/>
          </p:blipFill>
          <p:spPr>
            <a:xfrm rot="4978200">
              <a:off x="3669480" y="4813200"/>
              <a:ext cx="27648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 rot="4977000">
              <a:off x="3670560" y="4812840"/>
              <a:ext cx="274680" cy="27252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660480" y="4842360"/>
              <a:ext cx="108720" cy="241920"/>
              <a:chOff x="3660480" y="4842360"/>
              <a:chExt cx="108720" cy="2419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663360" y="4887000"/>
                <a:ext cx="105840" cy="197280"/>
                <a:chOff x="3663360" y="4887000"/>
                <a:chExt cx="105840" cy="197280"/>
              </a:xfrm>
            </p:grpSpPr>
            <p:sp>
              <p:nvSpPr>
                <p:cNvPr id="970" name=""/>
                <p:cNvSpPr/>
                <p:nvPr/>
              </p:nvSpPr>
              <p:spPr>
                <a:xfrm flipH="1" flipV="1" rot="8941800">
                  <a:off x="3698280" y="49381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 rot="9757200">
                  <a:off x="3686760" y="49176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 rot="10053000">
                  <a:off x="3683520" y="490356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flipV="1" rot="10585200">
                  <a:off x="3679920" y="48873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3660480" y="4842360"/>
                <a:ext cx="82080" cy="202680"/>
                <a:chOff x="3660480" y="4842360"/>
                <a:chExt cx="82080" cy="202680"/>
              </a:xfrm>
            </p:grpSpPr>
            <p:sp>
              <p:nvSpPr>
                <p:cNvPr id="975" name=""/>
                <p:cNvSpPr/>
                <p:nvPr/>
              </p:nvSpPr>
              <p:spPr>
                <a:xfrm flipH="1" flipV="1" rot="10294800">
                  <a:off x="3681360" y="4898160"/>
                  <a:ext cx="3600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flipV="1" rot="11110200">
                  <a:off x="3679200" y="48740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 rot="11406000">
                  <a:off x="3679560" y="486036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 rot="11938200">
                  <a:off x="3683160" y="484416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9" name=""/>
            <p:cNvSpPr/>
            <p:nvPr/>
          </p:nvSpPr>
          <p:spPr>
            <a:xfrm flipH="1" rot="1129200">
              <a:off x="3654000" y="479124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80" name="" descr=""/>
            <p:cNvPicPr/>
            <p:nvPr/>
          </p:nvPicPr>
          <p:blipFill>
            <a:blip r:embed="rId9"/>
            <a:srcRect l="0" t="23740" r="0" b="0"/>
            <a:stretch/>
          </p:blipFill>
          <p:spPr>
            <a:xfrm rot="2403600">
              <a:off x="3746160" y="4828320"/>
              <a:ext cx="204120" cy="13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1" name=""/>
          <p:cNvGrpSpPr/>
          <p:nvPr/>
        </p:nvGrpSpPr>
        <p:grpSpPr>
          <a:xfrm>
            <a:off x="3150000" y="5507640"/>
            <a:ext cx="398880" cy="406440"/>
            <a:chOff x="3150000" y="5507640"/>
            <a:chExt cx="398880" cy="406440"/>
          </a:xfrm>
        </p:grpSpPr>
        <p:pic>
          <p:nvPicPr>
            <p:cNvPr id="982" name="" descr=""/>
            <p:cNvPicPr/>
            <p:nvPr/>
          </p:nvPicPr>
          <p:blipFill>
            <a:blip r:embed="rId10"/>
            <a:stretch/>
          </p:blipFill>
          <p:spPr>
            <a:xfrm rot="4978200">
              <a:off x="3208680" y="5571000"/>
              <a:ext cx="27648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 rot="4977000">
              <a:off x="3209760" y="5570640"/>
              <a:ext cx="274680" cy="27288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3200040" y="5600160"/>
              <a:ext cx="108000" cy="241920"/>
              <a:chOff x="3200040" y="5600160"/>
              <a:chExt cx="108000" cy="2419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3202200" y="5644800"/>
                <a:ext cx="105840" cy="197280"/>
                <a:chOff x="3202200" y="5644800"/>
                <a:chExt cx="105840" cy="197280"/>
              </a:xfrm>
            </p:grpSpPr>
            <p:sp>
              <p:nvSpPr>
                <p:cNvPr id="986" name=""/>
                <p:cNvSpPr/>
                <p:nvPr/>
              </p:nvSpPr>
              <p:spPr>
                <a:xfrm flipH="1" flipV="1" rot="8941800">
                  <a:off x="3237120" y="569592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 rot="9757200">
                  <a:off x="3225240" y="567540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flipV="1" rot="10053000">
                  <a:off x="322236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flipV="1" rot="10585200">
                  <a:off x="3218760" y="564516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3200040" y="5600160"/>
                <a:ext cx="81720" cy="203040"/>
                <a:chOff x="3200040" y="5600160"/>
                <a:chExt cx="81720" cy="203040"/>
              </a:xfrm>
            </p:grpSpPr>
            <p:sp>
              <p:nvSpPr>
                <p:cNvPr id="991" name=""/>
                <p:cNvSpPr/>
                <p:nvPr/>
              </p:nvSpPr>
              <p:spPr>
                <a:xfrm flipH="1" flipV="1" rot="10294800">
                  <a:off x="3220560" y="565596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flipV="1" rot="11110200">
                  <a:off x="3217680" y="5631840"/>
                  <a:ext cx="3636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flipV="1" rot="11406000">
                  <a:off x="3218760" y="561888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flipV="1" rot="11938200">
                  <a:off x="3222000" y="5601600"/>
                  <a:ext cx="3672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5" name=""/>
            <p:cNvSpPr/>
            <p:nvPr/>
          </p:nvSpPr>
          <p:spPr>
            <a:xfrm flipH="1" rot="1129200">
              <a:off x="3193560" y="5549040"/>
              <a:ext cx="31104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96" name="" descr=""/>
            <p:cNvPicPr/>
            <p:nvPr/>
          </p:nvPicPr>
          <p:blipFill>
            <a:blip r:embed="rId11"/>
            <a:srcRect l="0" t="23740" r="0" b="0"/>
            <a:stretch/>
          </p:blipFill>
          <p:spPr>
            <a:xfrm rot="2403600">
              <a:off x="3285000" y="5585760"/>
              <a:ext cx="20412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7" name=""/>
          <p:cNvSpPr/>
          <p:nvPr/>
        </p:nvSpPr>
        <p:spPr>
          <a:xfrm>
            <a:off x="4065480" y="427212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11680" y="3460680"/>
            <a:ext cx="42559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887640" y="508644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33680" y="5848200"/>
            <a:ext cx="42562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57200" y="137160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36480" y="1757520"/>
            <a:ext cx="3652920" cy="150336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4101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525760" y="18972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72080" y="1752480"/>
            <a:ext cx="3786120" cy="150336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295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02360" y="1873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5040" y="3692520"/>
            <a:ext cx="3652920" cy="1503360"/>
          </a:xfrm>
          <a:prstGeom prst="rect">
            <a:avLst/>
          </a:prstGeom>
          <a:gradFill rotWithShape="0">
            <a:gsLst>
              <a:gs pos="0">
                <a:srgbClr val="225169"/>
              </a:gs>
              <a:gs pos="100000">
                <a:srgbClr val="4ab1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495520" y="4788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6760" y="3693960"/>
            <a:ext cx="3790800" cy="1494000"/>
          </a:xfrm>
          <a:prstGeom prst="rect">
            <a:avLst/>
          </a:prstGeom>
          <a:gradFill rotWithShape="0">
            <a:gsLst>
              <a:gs pos="0">
                <a:srgbClr val="71380d"/>
              </a:gs>
              <a:gs pos="100000">
                <a:srgbClr val="f77a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05240" y="4772160"/>
            <a:ext cx="12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84360" y="3871800"/>
            <a:ext cx="177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8400" y="187632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603840" y="1919160"/>
            <a:ext cx="177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669000" y="3914640"/>
            <a:ext cx="1701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8f8f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5392800" y="3854520"/>
            <a:ext cx="812520" cy="812520"/>
            <a:chOff x="5392800" y="3854520"/>
            <a:chExt cx="812520" cy="812520"/>
          </a:xfrm>
        </p:grpSpPr>
        <p:sp>
          <p:nvSpPr>
            <p:cNvPr id="1016" name=""/>
            <p:cNvSpPr/>
            <p:nvPr/>
          </p:nvSpPr>
          <p:spPr>
            <a:xfrm>
              <a:off x="5392800" y="3854520"/>
              <a:ext cx="812520" cy="812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98720" y="4110840"/>
              <a:ext cx="402480" cy="3758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2687760" y="2327400"/>
            <a:ext cx="834480" cy="818640"/>
            <a:chOff x="2687760" y="2327400"/>
            <a:chExt cx="834480" cy="818640"/>
          </a:xfrm>
        </p:grpSpPr>
        <p:sp>
          <p:nvSpPr>
            <p:cNvPr id="1019" name=""/>
            <p:cNvSpPr/>
            <p:nvPr/>
          </p:nvSpPr>
          <p:spPr>
            <a:xfrm>
              <a:off x="3113280" y="2351520"/>
              <a:ext cx="390240" cy="307080"/>
            </a:xfrm>
            <a:custGeom>
              <a:avLst/>
              <a:gdLst/>
              <a:ahLst/>
              <a:rect l="l" t="t" r="r" b="b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79920" y="2824200"/>
              <a:ext cx="224280" cy="26496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79920" y="2386080"/>
              <a:ext cx="224280" cy="26244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13280" y="2816280"/>
              <a:ext cx="390240" cy="305280"/>
            </a:xfrm>
            <a:custGeom>
              <a:avLst/>
              <a:gdLst/>
              <a:ahLst/>
              <a:rect l="l" t="t" r="r" b="b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87760" y="2327400"/>
              <a:ext cx="834480" cy="818640"/>
            </a:xfrm>
            <a:custGeom>
              <a:avLst/>
              <a:gdLst/>
              <a:ahLst/>
              <a:rect l="l" t="t" r="r" b="b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674800" y="3863880"/>
            <a:ext cx="812520" cy="809280"/>
            <a:chOff x="2674800" y="3863880"/>
            <a:chExt cx="812520" cy="809280"/>
          </a:xfrm>
        </p:grpSpPr>
        <p:sp>
          <p:nvSpPr>
            <p:cNvPr id="1025" name=""/>
            <p:cNvSpPr/>
            <p:nvPr/>
          </p:nvSpPr>
          <p:spPr>
            <a:xfrm>
              <a:off x="2674800" y="3863880"/>
              <a:ext cx="812520" cy="809280"/>
            </a:xfrm>
            <a:custGeom>
              <a:avLst/>
              <a:gdLst/>
              <a:ahLst/>
              <a:rect l="l" t="t" r="r" b="b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8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30840" y="4024080"/>
              <a:ext cx="278280" cy="45324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97200" y="4150800"/>
              <a:ext cx="201600" cy="223200"/>
            </a:xfrm>
            <a:custGeom>
              <a:avLst/>
              <a:gdLst/>
              <a:ahLst/>
              <a:rect l="l" t="t" r="r" b="b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5383080" y="2336760"/>
            <a:ext cx="809280" cy="809280"/>
            <a:chOff x="5383080" y="2336760"/>
            <a:chExt cx="809280" cy="809280"/>
          </a:xfrm>
        </p:grpSpPr>
        <p:sp>
          <p:nvSpPr>
            <p:cNvPr id="1029" name=""/>
            <p:cNvSpPr/>
            <p:nvPr/>
          </p:nvSpPr>
          <p:spPr>
            <a:xfrm>
              <a:off x="5383080" y="2336760"/>
              <a:ext cx="809280" cy="40428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482800" y="2470320"/>
              <a:ext cx="304560" cy="54108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83080" y="2741040"/>
              <a:ext cx="809280" cy="4050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725400" y="5384880"/>
            <a:ext cx="750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608280" y="2720880"/>
            <a:ext cx="1660320" cy="1694880"/>
            <a:chOff x="3608280" y="2720880"/>
            <a:chExt cx="1660320" cy="1694880"/>
          </a:xfrm>
        </p:grpSpPr>
        <p:pic>
          <p:nvPicPr>
            <p:cNvPr id="1034" name="" descr=""/>
            <p:cNvPicPr/>
            <p:nvPr/>
          </p:nvPicPr>
          <p:blipFill>
            <a:blip r:embed="rId1"/>
            <a:stretch/>
          </p:blipFill>
          <p:spPr>
            <a:xfrm>
              <a:off x="3608280" y="2720880"/>
              <a:ext cx="1660320" cy="160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"/>
            <p:cNvSpPr/>
            <p:nvPr/>
          </p:nvSpPr>
          <p:spPr>
            <a:xfrm>
              <a:off x="3608280" y="2720880"/>
              <a:ext cx="1649160" cy="161280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779640" y="2753640"/>
              <a:ext cx="1295640" cy="559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37" name=""/>
            <p:cNvGrpSpPr/>
            <p:nvPr/>
          </p:nvGrpSpPr>
          <p:grpSpPr>
            <a:xfrm>
              <a:off x="3726000" y="3834720"/>
              <a:ext cx="1456560" cy="581040"/>
              <a:chOff x="3726000" y="3834720"/>
              <a:chExt cx="1456560" cy="58104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3980520" y="3834720"/>
                <a:ext cx="1202040" cy="545400"/>
                <a:chOff x="3980520" y="3834720"/>
                <a:chExt cx="1202040" cy="545400"/>
              </a:xfrm>
            </p:grpSpPr>
            <p:sp>
              <p:nvSpPr>
                <p:cNvPr id="1039" name=""/>
                <p:cNvSpPr/>
                <p:nvPr/>
              </p:nvSpPr>
              <p:spPr>
                <a:xfrm flipH="1" flipV="1" rot="3964800">
                  <a:off x="4636080" y="3669840"/>
                  <a:ext cx="208440" cy="874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 rot="4780200">
                  <a:off x="4501440" y="372384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 flipV="1" rot="5076000">
                  <a:off x="4418280" y="373536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 rot="5608200">
                  <a:off x="4318560" y="3745080"/>
                  <a:ext cx="20844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"/>
              <p:cNvGrpSpPr/>
              <p:nvPr/>
            </p:nvGrpSpPr>
            <p:grpSpPr>
              <a:xfrm>
                <a:off x="3726000" y="3843720"/>
                <a:ext cx="1200600" cy="572040"/>
                <a:chOff x="3726000" y="3843720"/>
                <a:chExt cx="1200600" cy="572040"/>
              </a:xfrm>
            </p:grpSpPr>
            <p:sp>
              <p:nvSpPr>
                <p:cNvPr id="1044" name=""/>
                <p:cNvSpPr/>
                <p:nvPr/>
              </p:nvSpPr>
              <p:spPr>
                <a:xfrm flipH="1" flipV="1" rot="5317800">
                  <a:off x="4382280" y="37454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 flipV="1" rot="6133800">
                  <a:off x="4236480" y="3744360"/>
                  <a:ext cx="209880" cy="87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 flipV="1" rot="6429000">
                  <a:off x="4155840" y="372204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 flipV="1" rot="6961200">
                  <a:off x="4059360" y="369252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8" name=""/>
          <p:cNvSpPr/>
          <p:nvPr/>
        </p:nvSpPr>
        <p:spPr>
          <a:xfrm>
            <a:off x="3787920" y="3216240"/>
            <a:ext cx="12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lick to add Tex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2368440" y="2057400"/>
            <a:ext cx="381240" cy="3808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92480" y="4724280"/>
            <a:ext cx="457200" cy="30492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9680" y="20574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49680" y="50292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73360" y="426708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04920" y="2205000"/>
            <a:ext cx="2673360" cy="2671920"/>
            <a:chOff x="304920" y="2205000"/>
            <a:chExt cx="2673360" cy="2671920"/>
          </a:xfrm>
        </p:grpSpPr>
        <p:sp>
          <p:nvSpPr>
            <p:cNvPr id="224" name=""/>
            <p:cNvSpPr/>
            <p:nvPr/>
          </p:nvSpPr>
          <p:spPr>
            <a:xfrm>
              <a:off x="304920" y="2205000"/>
              <a:ext cx="2673360" cy="2671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5bbe4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320" y="2378160"/>
              <a:ext cx="2319120" cy="2322360"/>
            </a:xfrm>
            <a:prstGeom prst="ellipse">
              <a:avLst/>
            </a:prstGeom>
            <a:gradFill rotWithShape="0">
              <a:gsLst>
                <a:gs pos="0">
                  <a:srgbClr val="31662a"/>
                </a:gs>
                <a:gs pos="50000">
                  <a:srgbClr val="5bbe4e"/>
                </a:gs>
                <a:gs pos="100000">
                  <a:srgbClr val="31662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2480" y="2390760"/>
              <a:ext cx="2319120" cy="2320920"/>
            </a:xfrm>
            <a:prstGeom prst="ellipse">
              <a:avLst/>
            </a:prstGeom>
            <a:gradFill rotWithShape="0">
              <a:gsLst>
                <a:gs pos="0">
                  <a:srgbClr val="5bbe4e">
                    <a:alpha val="0"/>
                  </a:srgbClr>
                </a:gs>
                <a:gs pos="100000">
                  <a:srgbClr val="3978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440" y="2495520"/>
              <a:ext cx="2090880" cy="2089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920" y="25290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448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440" y="2559240"/>
              <a:ext cx="1879560" cy="18478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6240" y="26114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880" cy="15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3352680" y="18288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58840" y="19051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577960"/>
            <a:ext cx="5105520" cy="48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8840" y="2654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49800" y="3321000"/>
            <a:ext cx="510516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5600" y="339732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63760" y="1946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e01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405288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8840" y="412920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63760" y="4191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4842000"/>
            <a:ext cx="510552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58840" y="491796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97520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41240" y="201780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11320" y="167652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68600" y="4048200"/>
            <a:ext cx="777960" cy="77796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46120" y="4086360"/>
            <a:ext cx="777960" cy="777600"/>
          </a:xfrm>
          <a:prstGeom prst="ellipse">
            <a:avLst/>
          </a:prstGeom>
          <a:solidFill>
            <a:srgbClr val="5bbe4e"/>
          </a:solidFill>
          <a:ln w="38160">
            <a:solidFill>
              <a:srgbClr val="d2e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054" name=""/>
          <p:cNvCxnSpPr/>
          <p:nvPr/>
        </p:nvCxnSpPr>
        <p:spPr>
          <a:xfrm flipH="1" flipV="1">
            <a:off x="2439720" y="4306680"/>
            <a:ext cx="10080" cy="45288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5" name=""/>
          <p:cNvCxnSpPr/>
          <p:nvPr/>
        </p:nvCxnSpPr>
        <p:spPr>
          <a:xfrm flipH="1">
            <a:off x="2426400" y="3260880"/>
            <a:ext cx="964440" cy="24336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cxnSp>
        <p:nvCxnSpPr>
          <p:cNvPr id="1056" name=""/>
          <p:cNvCxnSpPr/>
          <p:nvPr/>
        </p:nvCxnSpPr>
        <p:spPr>
          <a:xfrm>
            <a:off x="1433520" y="3244320"/>
            <a:ext cx="496080" cy="110520"/>
          </a:xfrm>
          <a:prstGeom prst="straightConnector1">
            <a:avLst/>
          </a:prstGeom>
          <a:ln w="9360">
            <a:solidFill>
              <a:srgbClr val="080808"/>
            </a:solidFill>
            <a:miter/>
          </a:ln>
        </p:spPr>
      </p:cxnSp>
      <p:sp>
        <p:nvSpPr>
          <p:cNvPr id="1057" name=""/>
          <p:cNvSpPr/>
          <p:nvPr/>
        </p:nvSpPr>
        <p:spPr>
          <a:xfrm>
            <a:off x="2017800" y="190008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1444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2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441600" y="430056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tep 3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304920" y="2325600"/>
            <a:ext cx="1346400" cy="1351080"/>
            <a:chOff x="304920" y="2325600"/>
            <a:chExt cx="1346400" cy="1351080"/>
          </a:xfrm>
        </p:grpSpPr>
        <p:sp>
          <p:nvSpPr>
            <p:cNvPr id="1061" name=""/>
            <p:cNvSpPr/>
            <p:nvPr/>
          </p:nvSpPr>
          <p:spPr>
            <a:xfrm>
              <a:off x="506520" y="254484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04920" y="2325600"/>
              <a:ext cx="1317600" cy="1327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344520" y="2367000"/>
              <a:ext cx="1286280" cy="1309680"/>
              <a:chOff x="344520" y="2367000"/>
              <a:chExt cx="1286280" cy="1309680"/>
            </a:xfrm>
          </p:grpSpPr>
          <p:pic>
            <p:nvPicPr>
              <p:cNvPr id="10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4520" y="2367000"/>
                <a:ext cx="1233720" cy="124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"/>
              <p:cNvSpPr/>
              <p:nvPr/>
            </p:nvSpPr>
            <p:spPr>
              <a:xfrm>
                <a:off x="344520" y="2367000"/>
                <a:ext cx="1241640" cy="1248480"/>
              </a:xfrm>
              <a:prstGeom prst="ellipse">
                <a:avLst/>
              </a:prstGeom>
              <a:solidFill>
                <a:srgbClr val="f77a1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66" name="" descr=""/>
              <p:cNvPicPr/>
              <p:nvPr/>
            </p:nvPicPr>
            <p:blipFill>
              <a:blip r:embed="rId2"/>
              <a:srcRect l="0" t="14289" r="0" b="0"/>
              <a:stretch/>
            </p:blipFill>
            <p:spPr>
              <a:xfrm>
                <a:off x="356040" y="2418840"/>
                <a:ext cx="90972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67" name=""/>
              <p:cNvGrpSpPr/>
              <p:nvPr/>
            </p:nvGrpSpPr>
            <p:grpSpPr>
              <a:xfrm>
                <a:off x="747000" y="2869920"/>
                <a:ext cx="883800" cy="806760"/>
                <a:chOff x="747000" y="2869920"/>
                <a:chExt cx="883800" cy="806760"/>
              </a:xfrm>
            </p:grpSpPr>
            <p:grpSp>
              <p:nvGrpSpPr>
                <p:cNvPr id="1068" name=""/>
                <p:cNvGrpSpPr/>
                <p:nvPr/>
              </p:nvGrpSpPr>
              <p:grpSpPr>
                <a:xfrm>
                  <a:off x="951120" y="2869920"/>
                  <a:ext cx="679680" cy="798480"/>
                  <a:chOff x="951120" y="2869920"/>
                  <a:chExt cx="679680" cy="798480"/>
                </a:xfrm>
              </p:grpSpPr>
              <p:sp>
                <p:nvSpPr>
                  <p:cNvPr id="1069" name=""/>
                  <p:cNvSpPr/>
                  <p:nvPr/>
                </p:nvSpPr>
                <p:spPr>
                  <a:xfrm flipH="1" flipV="1" rot="1528800">
                    <a:off x="1330920" y="2871720"/>
                    <a:ext cx="1612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 flipH="1" flipV="1" rot="2344200">
                    <a:off x="1278360" y="296964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H="1" flipV="1" rot="2640000">
                    <a:off x="1236240" y="3016440"/>
                    <a:ext cx="161280" cy="66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 rot="3172200">
                    <a:off x="1183680" y="3071880"/>
                    <a:ext cx="161280" cy="66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47000" y="3089880"/>
                  <a:ext cx="854280" cy="586800"/>
                  <a:chOff x="747000" y="3089880"/>
                  <a:chExt cx="854280" cy="58680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H="1" flipV="1" rot="2881800">
                    <a:off x="1219320" y="30405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 rot="3697200">
                    <a:off x="1134360" y="31107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 rot="3993000">
                    <a:off x="1077480" y="3138480"/>
                    <a:ext cx="162360" cy="66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 rot="4525200">
                    <a:off x="1006920" y="3168360"/>
                    <a:ext cx="16236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78" name=""/>
            <p:cNvGrpSpPr/>
            <p:nvPr/>
          </p:nvGrpSpPr>
          <p:grpSpPr>
            <a:xfrm>
              <a:off x="875160" y="2908440"/>
              <a:ext cx="776160" cy="709200"/>
              <a:chOff x="875160" y="2908440"/>
              <a:chExt cx="776160" cy="709200"/>
            </a:xfrm>
          </p:grpSpPr>
          <p:grpSp>
            <p:nvGrpSpPr>
              <p:cNvPr id="1079" name=""/>
              <p:cNvGrpSpPr/>
              <p:nvPr/>
            </p:nvGrpSpPr>
            <p:grpSpPr>
              <a:xfrm>
                <a:off x="1053720" y="2908440"/>
                <a:ext cx="597600" cy="702720"/>
                <a:chOff x="1053720" y="2908440"/>
                <a:chExt cx="597600" cy="702720"/>
              </a:xfrm>
            </p:grpSpPr>
            <p:sp>
              <p:nvSpPr>
                <p:cNvPr id="1080" name=""/>
                <p:cNvSpPr/>
                <p:nvPr/>
              </p:nvSpPr>
              <p:spPr>
                <a:xfrm flipH="1" flipV="1" rot="1528800">
                  <a:off x="1386360" y="2910240"/>
                  <a:ext cx="14184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 rot="2344200">
                  <a:off x="1341720" y="299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flipV="1" rot="2640000">
                  <a:off x="1305000" y="303876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flipV="1" rot="3172200">
                  <a:off x="1257480" y="3086280"/>
                  <a:ext cx="141840" cy="58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4" name=""/>
              <p:cNvGrpSpPr/>
              <p:nvPr/>
            </p:nvGrpSpPr>
            <p:grpSpPr>
              <a:xfrm>
                <a:off x="875160" y="3101760"/>
                <a:ext cx="750960" cy="515880"/>
                <a:chOff x="875160" y="3101760"/>
                <a:chExt cx="750960" cy="515880"/>
              </a:xfrm>
            </p:grpSpPr>
            <p:sp>
              <p:nvSpPr>
                <p:cNvPr id="1085" name=""/>
                <p:cNvSpPr/>
                <p:nvPr/>
              </p:nvSpPr>
              <p:spPr>
                <a:xfrm flipH="1" flipV="1" rot="2881800">
                  <a:off x="1289880" y="3057840"/>
                  <a:ext cx="142560" cy="583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flipV="1" rot="3697200">
                  <a:off x="1215720" y="31208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flipV="1" rot="3993000">
                  <a:off x="1165320" y="314424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 rot="4525200">
                  <a:off x="1103400" y="3171600"/>
                  <a:ext cx="142560" cy="58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9" name=""/>
            <p:cNvSpPr/>
            <p:nvPr/>
          </p:nvSpPr>
          <p:spPr>
            <a:xfrm>
              <a:off x="509040" y="270684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789200" y="4641840"/>
            <a:ext cx="1298520" cy="130968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835280" y="4687920"/>
            <a:ext cx="1282320" cy="1291320"/>
            <a:chOff x="1835280" y="4687920"/>
            <a:chExt cx="1282320" cy="1291320"/>
          </a:xfrm>
        </p:grpSpPr>
        <p:sp>
          <p:nvSpPr>
            <p:cNvPr id="1092" name=""/>
            <p:cNvSpPr/>
            <p:nvPr/>
          </p:nvSpPr>
          <p:spPr>
            <a:xfrm>
              <a:off x="1946520" y="504936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93" name=""/>
            <p:cNvGrpSpPr/>
            <p:nvPr/>
          </p:nvGrpSpPr>
          <p:grpSpPr>
            <a:xfrm>
              <a:off x="1835280" y="4687920"/>
              <a:ext cx="1269000" cy="1291320"/>
              <a:chOff x="1835280" y="4687920"/>
              <a:chExt cx="1269000" cy="1291320"/>
            </a:xfrm>
          </p:grpSpPr>
          <p:pic>
            <p:nvPicPr>
              <p:cNvPr id="10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687920"/>
                <a:ext cx="121608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5" name=""/>
              <p:cNvSpPr/>
              <p:nvPr/>
            </p:nvSpPr>
            <p:spPr>
              <a:xfrm>
                <a:off x="1835280" y="4687920"/>
                <a:ext cx="1224000" cy="1231560"/>
              </a:xfrm>
              <a:prstGeom prst="ellipse">
                <a:avLst/>
              </a:prstGeom>
              <a:solidFill>
                <a:srgbClr val="8f038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096" name="" descr=""/>
              <p:cNvPicPr/>
              <p:nvPr/>
            </p:nvPicPr>
            <p:blipFill>
              <a:blip r:embed="rId4"/>
              <a:srcRect l="0" t="14289" r="0" b="0"/>
              <a:stretch/>
            </p:blipFill>
            <p:spPr>
              <a:xfrm>
                <a:off x="1846800" y="4739040"/>
                <a:ext cx="896760" cy="76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7" name=""/>
              <p:cNvGrpSpPr/>
              <p:nvPr/>
            </p:nvGrpSpPr>
            <p:grpSpPr>
              <a:xfrm>
                <a:off x="2232360" y="5183640"/>
                <a:ext cx="871920" cy="795600"/>
                <a:chOff x="2232360" y="5183640"/>
                <a:chExt cx="871920" cy="795600"/>
              </a:xfrm>
            </p:grpSpPr>
            <p:grpSp>
              <p:nvGrpSpPr>
                <p:cNvPr id="1098" name=""/>
                <p:cNvGrpSpPr/>
                <p:nvPr/>
              </p:nvGrpSpPr>
              <p:grpSpPr>
                <a:xfrm>
                  <a:off x="2432520" y="5183640"/>
                  <a:ext cx="671760" cy="788400"/>
                  <a:chOff x="2432520" y="5183640"/>
                  <a:chExt cx="671760" cy="78840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 flipV="1" rot="1528800">
                    <a:off x="2806200" y="51854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flipV="1" rot="2344200">
                    <a:off x="2756160" y="528264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 flipV="1" rot="2640000">
                    <a:off x="2713680" y="5329080"/>
                    <a:ext cx="15912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flipV="1" rot="3172200">
                    <a:off x="2661480" y="5383080"/>
                    <a:ext cx="159120" cy="65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" name=""/>
                <p:cNvGrpSpPr/>
                <p:nvPr/>
              </p:nvGrpSpPr>
              <p:grpSpPr>
                <a:xfrm>
                  <a:off x="2232360" y="5400360"/>
                  <a:ext cx="842040" cy="578880"/>
                  <a:chOff x="2232360" y="5400360"/>
                  <a:chExt cx="842040" cy="57888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 flipH="1" flipV="1" rot="2881800">
                    <a:off x="2696760" y="5351040"/>
                    <a:ext cx="160200" cy="6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 flipH="1" flipV="1" rot="3697200">
                    <a:off x="2614320" y="542160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 flipV="1" rot="3993000">
                    <a:off x="2557440" y="5448240"/>
                    <a:ext cx="160200" cy="65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 flipV="1" rot="4525200">
                    <a:off x="2488680" y="5478120"/>
                    <a:ext cx="160200" cy="65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8" name=""/>
            <p:cNvGrpSpPr/>
            <p:nvPr/>
          </p:nvGrpSpPr>
          <p:grpSpPr>
            <a:xfrm>
              <a:off x="2351520" y="5224320"/>
              <a:ext cx="766080" cy="699120"/>
              <a:chOff x="2351520" y="5224320"/>
              <a:chExt cx="766080" cy="69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2527920" y="5224320"/>
                <a:ext cx="589680" cy="692640"/>
                <a:chOff x="2527920" y="5224320"/>
                <a:chExt cx="589680" cy="692640"/>
              </a:xfrm>
            </p:grpSpPr>
            <p:sp>
              <p:nvSpPr>
                <p:cNvPr id="1110" name=""/>
                <p:cNvSpPr/>
                <p:nvPr/>
              </p:nvSpPr>
              <p:spPr>
                <a:xfrm flipH="1" flipV="1" rot="1528800">
                  <a:off x="2856240" y="5225400"/>
                  <a:ext cx="139680" cy="57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flipH="1" flipV="1" rot="2344200">
                  <a:off x="2811600" y="5311440"/>
                  <a:ext cx="13968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flipH="1" flipV="1" rot="2640000">
                  <a:off x="2774880" y="535248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flipH="1" flipV="1" rot="3172200">
                  <a:off x="2729520" y="5400000"/>
                  <a:ext cx="139680" cy="57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4" name=""/>
              <p:cNvGrpSpPr/>
              <p:nvPr/>
            </p:nvGrpSpPr>
            <p:grpSpPr>
              <a:xfrm>
                <a:off x="2351520" y="5415840"/>
                <a:ext cx="740520" cy="507600"/>
                <a:chOff x="2351520" y="5415840"/>
                <a:chExt cx="740520" cy="507600"/>
              </a:xfrm>
            </p:grpSpPr>
            <p:sp>
              <p:nvSpPr>
                <p:cNvPr id="1115" name=""/>
                <p:cNvSpPr/>
                <p:nvPr/>
              </p:nvSpPr>
              <p:spPr>
                <a:xfrm flipH="1" flipV="1" rot="2881800">
                  <a:off x="2760480" y="537228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 rot="3697200">
                  <a:off x="2687040" y="543276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H="1" flipV="1" rot="3993000">
                  <a:off x="2637360" y="5456520"/>
                  <a:ext cx="140760" cy="57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H="1" flipV="1" rot="4525200">
                  <a:off x="2576520" y="5483520"/>
                  <a:ext cx="140400" cy="574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"/>
            <p:cNvSpPr/>
            <p:nvPr/>
          </p:nvSpPr>
          <p:spPr>
            <a:xfrm>
              <a:off x="1996560" y="503676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276720" y="2249640"/>
            <a:ext cx="1330560" cy="1340640"/>
            <a:chOff x="3276720" y="2249640"/>
            <a:chExt cx="1330560" cy="1340640"/>
          </a:xfrm>
        </p:grpSpPr>
        <p:sp>
          <p:nvSpPr>
            <p:cNvPr id="1121" name=""/>
            <p:cNvSpPr/>
            <p:nvPr/>
          </p:nvSpPr>
          <p:spPr>
            <a:xfrm>
              <a:off x="3311640" y="2541600"/>
              <a:ext cx="96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76720" y="2249640"/>
              <a:ext cx="1301760" cy="1312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3322800" y="2293920"/>
              <a:ext cx="1271880" cy="1296360"/>
              <a:chOff x="3322800" y="2293920"/>
              <a:chExt cx="1271880" cy="1296360"/>
            </a:xfrm>
          </p:grpSpPr>
          <p:pic>
            <p:nvPicPr>
              <p:cNvPr id="112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22800" y="2293920"/>
                <a:ext cx="1219320" cy="12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"/>
              <p:cNvSpPr/>
              <p:nvPr/>
            </p:nvSpPr>
            <p:spPr>
              <a:xfrm>
                <a:off x="3322800" y="2293920"/>
                <a:ext cx="1227240" cy="1235520"/>
              </a:xfrm>
              <a:prstGeom prst="ellipse">
                <a:avLst/>
              </a:prstGeom>
              <a:solidFill>
                <a:srgbClr val="4ab1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126" name="" descr=""/>
              <p:cNvPicPr/>
              <p:nvPr/>
            </p:nvPicPr>
            <p:blipFill>
              <a:blip r:embed="rId6"/>
              <a:srcRect l="0" t="14289" r="0" b="0"/>
              <a:stretch/>
            </p:blipFill>
            <p:spPr>
              <a:xfrm>
                <a:off x="3334320" y="2345040"/>
                <a:ext cx="899280" cy="77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27" name=""/>
              <p:cNvGrpSpPr/>
              <p:nvPr/>
            </p:nvGrpSpPr>
            <p:grpSpPr>
              <a:xfrm>
                <a:off x="3719880" y="2791800"/>
                <a:ext cx="874800" cy="798480"/>
                <a:chOff x="3719880" y="2791800"/>
                <a:chExt cx="874800" cy="798480"/>
              </a:xfrm>
            </p:grpSpPr>
            <p:grpSp>
              <p:nvGrpSpPr>
                <p:cNvPr id="1128" name=""/>
                <p:cNvGrpSpPr/>
                <p:nvPr/>
              </p:nvGrpSpPr>
              <p:grpSpPr>
                <a:xfrm>
                  <a:off x="3921840" y="2791800"/>
                  <a:ext cx="672840" cy="790560"/>
                  <a:chOff x="3921840" y="2791800"/>
                  <a:chExt cx="672840" cy="79056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flipH="1" flipV="1" rot="1528800">
                    <a:off x="4297320" y="279360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 flipH="1" flipV="1" rot="2344200">
                    <a:off x="4245840" y="289044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 flipH="1" flipV="1" rot="2640000">
                    <a:off x="4203720" y="2936520"/>
                    <a:ext cx="15948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H="1" flipV="1" rot="3172200">
                    <a:off x="4151880" y="2991960"/>
                    <a:ext cx="15948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719880" y="3010320"/>
                  <a:ext cx="846360" cy="579960"/>
                  <a:chOff x="3719880" y="3010320"/>
                  <a:chExt cx="846360" cy="5799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 flipH="1" flipV="1" rot="2881800">
                    <a:off x="4187520" y="2961000"/>
                    <a:ext cx="160560" cy="65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 rot="3697200">
                    <a:off x="4102920" y="3029400"/>
                    <a:ext cx="16056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H="1" flipV="1" rot="3993000">
                    <a:off x="4046040" y="305748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 flipV="1" rot="4525200">
                    <a:off x="3977640" y="3087000"/>
                    <a:ext cx="160560" cy="65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8" name=""/>
            <p:cNvGrpSpPr/>
            <p:nvPr/>
          </p:nvGrpSpPr>
          <p:grpSpPr>
            <a:xfrm>
              <a:off x="3838680" y="2832840"/>
              <a:ext cx="768600" cy="701640"/>
              <a:chOff x="3838680" y="2832840"/>
              <a:chExt cx="768600" cy="70164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4016160" y="2832840"/>
                <a:ext cx="591120" cy="694080"/>
                <a:chOff x="4016160" y="2832840"/>
                <a:chExt cx="591120" cy="694080"/>
              </a:xfrm>
            </p:grpSpPr>
            <p:sp>
              <p:nvSpPr>
                <p:cNvPr id="1140" name=""/>
                <p:cNvSpPr/>
                <p:nvPr/>
              </p:nvSpPr>
              <p:spPr>
                <a:xfrm flipH="1" flipV="1" rot="1528800">
                  <a:off x="4345200" y="2834280"/>
                  <a:ext cx="13968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 flipV="1" rot="2344200">
                  <a:off x="4300920" y="2919240"/>
                  <a:ext cx="139680" cy="576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 flipV="1" rot="2640000">
                  <a:off x="4264560" y="296028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 flipV="1" rot="3172200">
                  <a:off x="4218480" y="3008160"/>
                  <a:ext cx="13968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3838680" y="3025440"/>
                <a:ext cx="743040" cy="509040"/>
                <a:chOff x="3838680" y="3025440"/>
                <a:chExt cx="743040" cy="509040"/>
              </a:xfrm>
            </p:grpSpPr>
            <p:sp>
              <p:nvSpPr>
                <p:cNvPr id="1145" name=""/>
                <p:cNvSpPr/>
                <p:nvPr/>
              </p:nvSpPr>
              <p:spPr>
                <a:xfrm flipH="1" flipV="1" rot="2881800">
                  <a:off x="4249440" y="29815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H="1" flipV="1" rot="3697200">
                  <a:off x="4175280" y="3041280"/>
                  <a:ext cx="140760" cy="577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flipH="1" flipV="1" rot="3993000">
                  <a:off x="4125600" y="3066120"/>
                  <a:ext cx="14076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flipH="1" flipV="1" rot="4525200">
                  <a:off x="4065480" y="3092760"/>
                  <a:ext cx="140400" cy="577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9" name=""/>
            <p:cNvSpPr/>
            <p:nvPr/>
          </p:nvSpPr>
          <p:spPr>
            <a:xfrm>
              <a:off x="3499920" y="2674800"/>
              <a:ext cx="91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 in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r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4716360" y="212724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92760" y="256536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Describe contents for a Step1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Describe contents for a Step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3.Describe contents for a Step3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- Description of the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857840" y="184932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c4627"/>
              </a:gs>
              <a:gs pos="100000">
                <a:srgbClr val="a59a5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445000" y="185904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7"/>
          <a:stretch/>
        </p:blipFill>
        <p:spPr>
          <a:xfrm>
            <a:off x="1828800" y="3048120"/>
            <a:ext cx="152388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rot="5400000">
            <a:off x="648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9064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rot="5400000">
            <a:off x="2456280" y="2801160"/>
            <a:ext cx="370368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340080" y="405756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rot="5400000">
            <a:off x="4934160" y="2800800"/>
            <a:ext cx="3703680" cy="197172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bfbfbf">
                  <a:alpha val="98039"/>
                </a:srgbClr>
              </a:gs>
              <a:gs pos="50000">
                <a:srgbClr val="f8f8f8"/>
              </a:gs>
              <a:gs pos="100000">
                <a:srgbClr val="bfbfbf">
                  <a:alpha val="98039"/>
                </a:srgbClr>
              </a:gs>
            </a:gsLst>
            <a:lin ang="0"/>
          </a:gradFill>
          <a:ln w="38160">
            <a:solidFill>
              <a:srgbClr val="808080"/>
            </a:solidFill>
            <a:miter/>
          </a:ln>
          <a:effectLst>
            <a:outerShdw dist="153753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816520" y="405756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meGallery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is a Design Digital Content &amp; Contents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mall develop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1"/>
          <a:stretch/>
        </p:blipFill>
        <p:spPr>
          <a:xfrm>
            <a:off x="6202440" y="214164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2"/>
          <a:stretch/>
        </p:blipFill>
        <p:spPr>
          <a:xfrm>
            <a:off x="1239840" y="214164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3687840" y="211608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370160" y="2421000"/>
            <a:ext cx="9126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8668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817800" y="242100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410040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5"/>
          <a:stretch/>
        </p:blipFill>
        <p:spPr>
          <a:xfrm>
            <a:off x="1609560" y="352908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6"/>
          <a:stretch/>
        </p:blipFill>
        <p:spPr>
          <a:xfrm>
            <a:off x="6564240" y="3529080"/>
            <a:ext cx="4129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03320" y="1932120"/>
            <a:ext cx="7389720" cy="327312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2300b"/>
              </a:gs>
              <a:gs pos="50000">
                <a:srgbClr val="f77a1d"/>
              </a:gs>
              <a:gs pos="100000">
                <a:srgbClr val="62300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076480" y="228132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982960" y="2611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967200" y="2927520"/>
            <a:ext cx="35856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335640" y="3584520"/>
            <a:ext cx="565200" cy="68256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124600" y="3309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8f038f"/>
              </a:gs>
              <a:gs pos="50000">
                <a:srgbClr val="d6a4d6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712880" y="160812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52840" y="162252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687840" y="162720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79800" y="1619280"/>
            <a:ext cx="9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134040" y="16178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Level 5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42960" y="2624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192320" y="311472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135160" y="3681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348000" y="4246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284720" y="49006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188" name=""/>
          <p:cNvCxnSpPr>
            <a:stCxn id="1173" idx="3"/>
            <a:endCxn id="1183" idx="0"/>
          </p:cNvCxnSpPr>
          <p:nvPr/>
        </p:nvCxnSpPr>
        <p:spPr>
          <a:xfrm rot="5400000">
            <a:off x="1891440" y="2325600"/>
            <a:ext cx="203760" cy="394200"/>
          </a:xfrm>
          <a:prstGeom prst="bentConnector3">
            <a:avLst>
              <a:gd name="adj1" fmla="val 4955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89" name=""/>
          <p:cNvCxnSpPr>
            <a:stCxn id="1174" idx="3"/>
            <a:endCxn id="1184" idx="0"/>
          </p:cNvCxnSpPr>
          <p:nvPr/>
        </p:nvCxnSpPr>
        <p:spPr>
          <a:xfrm rot="5400000">
            <a:off x="2609280" y="2609640"/>
            <a:ext cx="313560" cy="697680"/>
          </a:xfrm>
          <a:prstGeom prst="bentConnector3">
            <a:avLst>
              <a:gd name="adj1" fmla="val 4977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0" name=""/>
          <p:cNvCxnSpPr>
            <a:stCxn id="1175" idx="3"/>
            <a:endCxn id="1185" idx="0"/>
          </p:cNvCxnSpPr>
          <p:nvPr/>
        </p:nvCxnSpPr>
        <p:spPr>
          <a:xfrm rot="5400000">
            <a:off x="3529800" y="3065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1" name=""/>
          <p:cNvCxnSpPr>
            <a:stCxn id="1177" idx="3"/>
            <a:endCxn id="1186" idx="0"/>
          </p:cNvCxnSpPr>
          <p:nvPr/>
        </p:nvCxnSpPr>
        <p:spPr>
          <a:xfrm rot="5400000">
            <a:off x="4704480" y="3605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192" name=""/>
          <p:cNvCxnSpPr>
            <a:stCxn id="1176" idx="3"/>
            <a:endCxn id="1187" idx="0"/>
          </p:cNvCxnSpPr>
          <p:nvPr/>
        </p:nvCxnSpPr>
        <p:spPr>
          <a:xfrm rot="5400000">
            <a:off x="5747400" y="4030560"/>
            <a:ext cx="634320" cy="1107000"/>
          </a:xfrm>
          <a:prstGeom prst="bentConnector3">
            <a:avLst>
              <a:gd name="adj1" fmla="val 4985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193" name=""/>
          <p:cNvSpPr/>
          <p:nvPr/>
        </p:nvSpPr>
        <p:spPr>
          <a:xfrm>
            <a:off x="6335640" y="1976400"/>
            <a:ext cx="565200" cy="173052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124600" y="197496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967200" y="19717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982960" y="1978200"/>
            <a:ext cx="263520" cy="68868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076480" y="1979640"/>
            <a:ext cx="22716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a59a55"/>
              </a:gs>
              <a:gs pos="50000">
                <a:srgbClr val="dedac1"/>
              </a:gs>
              <a:gs pos="100000">
                <a:srgbClr val="a59a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371600" y="56386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3520" y="5518080"/>
            <a:ext cx="188568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 rot="16200000">
            <a:off x="1533240" y="527760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 rot="16200000">
            <a:off x="73620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02708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743040" y="1692360"/>
            <a:ext cx="7381440" cy="1533240"/>
            <a:chOff x="743040" y="1692360"/>
            <a:chExt cx="7381440" cy="1533240"/>
          </a:xfrm>
        </p:grpSpPr>
        <p:sp>
          <p:nvSpPr>
            <p:cNvPr id="1205" name=""/>
            <p:cNvSpPr/>
            <p:nvPr/>
          </p:nvSpPr>
          <p:spPr>
            <a:xfrm>
              <a:off x="760320" y="1692360"/>
              <a:ext cx="7350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43040" y="174492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1090440" y="1822320"/>
            <a:ext cx="1238400" cy="1265040"/>
            <a:chOff x="1090440" y="1822320"/>
            <a:chExt cx="1238400" cy="1265040"/>
          </a:xfrm>
        </p:grpSpPr>
        <p:sp>
          <p:nvSpPr>
            <p:cNvPr id="1208" name=""/>
            <p:cNvSpPr/>
            <p:nvPr/>
          </p:nvSpPr>
          <p:spPr>
            <a:xfrm>
              <a:off x="1090440" y="1864800"/>
              <a:ext cx="1238400" cy="1222560"/>
            </a:xfrm>
            <a:prstGeom prst="ellipse">
              <a:avLst/>
            </a:prstGeom>
            <a:solidFill>
              <a:srgbClr val="4ab1e4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09" name="" descr=""/>
            <p:cNvPicPr/>
            <p:nvPr/>
          </p:nvPicPr>
          <p:blipFill>
            <a:blip r:embed="rId1"/>
            <a:stretch/>
          </p:blipFill>
          <p:spPr>
            <a:xfrm>
              <a:off x="1195560" y="1822320"/>
              <a:ext cx="102132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0" name=""/>
          <p:cNvSpPr/>
          <p:nvPr/>
        </p:nvSpPr>
        <p:spPr>
          <a:xfrm>
            <a:off x="1359000" y="2311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590920" y="2295360"/>
            <a:ext cx="696960" cy="443160"/>
          </a:xfrm>
          <a:prstGeom prst="rightArrow">
            <a:avLst>
              <a:gd name="adj1" fmla="val 49380"/>
              <a:gd name="adj2" fmla="val 38852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3898800" y="1751040"/>
            <a:ext cx="1238400" cy="1264680"/>
            <a:chOff x="3898800" y="1751040"/>
            <a:chExt cx="1238400" cy="1264680"/>
          </a:xfrm>
        </p:grpSpPr>
        <p:sp>
          <p:nvSpPr>
            <p:cNvPr id="1213" name=""/>
            <p:cNvSpPr/>
            <p:nvPr/>
          </p:nvSpPr>
          <p:spPr>
            <a:xfrm>
              <a:off x="3898800" y="1793520"/>
              <a:ext cx="1238400" cy="1222200"/>
            </a:xfrm>
            <a:prstGeom prst="ellipse">
              <a:avLst/>
            </a:prstGeom>
            <a:solidFill>
              <a:srgbClr val="8f038f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4" name="" descr=""/>
            <p:cNvPicPr/>
            <p:nvPr/>
          </p:nvPicPr>
          <p:blipFill>
            <a:blip r:embed="rId2"/>
            <a:stretch/>
          </p:blipFill>
          <p:spPr>
            <a:xfrm>
              <a:off x="4003920" y="175104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5" name=""/>
          <p:cNvSpPr/>
          <p:nvPr/>
        </p:nvSpPr>
        <p:spPr>
          <a:xfrm>
            <a:off x="416592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51320" y="2135160"/>
            <a:ext cx="696960" cy="441360"/>
          </a:xfrm>
          <a:prstGeom prst="rightArrow">
            <a:avLst>
              <a:gd name="adj1" fmla="val 49380"/>
              <a:gd name="adj2" fmla="val 39010"/>
            </a:avLst>
          </a:prstGeom>
          <a:gradFill rotWithShape="0">
            <a:gsLst>
              <a:gs pos="0">
                <a:srgbClr val="c0c0c0"/>
              </a:gs>
              <a:gs pos="100000">
                <a:srgbClr val="585858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6330960" y="1751040"/>
            <a:ext cx="1236600" cy="1264680"/>
            <a:chOff x="6330960" y="1751040"/>
            <a:chExt cx="1236600" cy="1264680"/>
          </a:xfrm>
        </p:grpSpPr>
        <p:sp>
          <p:nvSpPr>
            <p:cNvPr id="1218" name=""/>
            <p:cNvSpPr/>
            <p:nvPr/>
          </p:nvSpPr>
          <p:spPr>
            <a:xfrm>
              <a:off x="6330960" y="1793520"/>
              <a:ext cx="1236600" cy="1222200"/>
            </a:xfrm>
            <a:prstGeom prst="ellipse">
              <a:avLst/>
            </a:prstGeom>
            <a:solidFill>
              <a:srgbClr val="f77a1d"/>
            </a:solidFill>
            <a:ln w="6336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219" name="" descr=""/>
            <p:cNvPicPr/>
            <p:nvPr/>
          </p:nvPicPr>
          <p:blipFill>
            <a:blip r:embed="rId3"/>
            <a:stretch/>
          </p:blipFill>
          <p:spPr>
            <a:xfrm>
              <a:off x="6436080" y="175104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0" name=""/>
          <p:cNvSpPr/>
          <p:nvPr/>
        </p:nvSpPr>
        <p:spPr>
          <a:xfrm>
            <a:off x="6596280" y="22417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433680" y="551808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 rot="16200000">
            <a:off x="4255560" y="509724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 rot="16200000">
            <a:off x="3376800" y="4848840"/>
            <a:ext cx="142704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045120" y="551808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 rot="16200000">
            <a:off x="6386040" y="4625640"/>
            <a:ext cx="1851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77a1d"/>
              </a:gs>
              <a:gs pos="100000">
                <a:srgbClr val="ba5b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 rot="16200000">
            <a:off x="5594040" y="4444200"/>
            <a:ext cx="2214360" cy="4431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ab1e4"/>
              </a:gs>
              <a:gs pos="100000">
                <a:srgbClr val="3785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94164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575400" y="5808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403280" y="4514760"/>
            <a:ext cx="166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043000" y="497196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356000" y="432756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38840" y="483552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39000" y="344808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540560" y="3892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65200" y="2654280"/>
            <a:ext cx="7740720" cy="61920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554040" y="2654280"/>
            <a:ext cx="2053800" cy="618840"/>
            <a:chOff x="554040" y="2654280"/>
            <a:chExt cx="2053800" cy="618840"/>
          </a:xfrm>
        </p:grpSpPr>
        <p:sp>
          <p:nvSpPr>
            <p:cNvPr id="1238" name=""/>
            <p:cNvSpPr/>
            <p:nvPr/>
          </p:nvSpPr>
          <p:spPr>
            <a:xfrm>
              <a:off x="554040" y="2654280"/>
              <a:ext cx="1912680" cy="618840"/>
            </a:xfrm>
            <a:prstGeom prst="rect">
              <a:avLst/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5400000">
              <a:off x="2368080" y="28735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77a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2468520" y="27860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6360" y="27608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40402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068880" y="282096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effff"/>
          </a:soli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407280" y="27860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851040" y="3403440"/>
            <a:ext cx="1114200" cy="1114560"/>
          </a:xfrm>
          <a:prstGeom prst="diamond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83212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822920" y="3403440"/>
            <a:ext cx="111420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765840" y="3403440"/>
            <a:ext cx="1114560" cy="1114560"/>
          </a:xfrm>
          <a:prstGeom prst="diamond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250" name=""/>
          <p:cNvCxnSpPr>
            <a:stCxn id="1246" idx="3"/>
            <a:endCxn id="1247" idx="1"/>
          </p:cNvCxnSpPr>
          <p:nvPr/>
        </p:nvCxnSpPr>
        <p:spPr>
          <a:xfrm>
            <a:off x="1965240" y="39603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1" name=""/>
          <p:cNvCxnSpPr>
            <a:stCxn id="1247" idx="3"/>
            <a:endCxn id="1248" idx="1"/>
          </p:cNvCxnSpPr>
          <p:nvPr/>
        </p:nvCxnSpPr>
        <p:spPr>
          <a:xfrm>
            <a:off x="3946680" y="39603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52" name=""/>
          <p:cNvCxnSpPr>
            <a:stCxn id="1248" idx="3"/>
            <a:endCxn id="1249" idx="1"/>
          </p:cNvCxnSpPr>
          <p:nvPr/>
        </p:nvCxnSpPr>
        <p:spPr>
          <a:xfrm>
            <a:off x="5937120" y="39603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53" name=""/>
          <p:cNvSpPr/>
          <p:nvPr/>
        </p:nvSpPr>
        <p:spPr>
          <a:xfrm>
            <a:off x="95400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943360" y="37288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95288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905520" y="37288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688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540160" y="46083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5436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02320" y="46083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04720" y="167652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0" y="-1752480"/>
            <a:ext cx="9144000" cy="6248160"/>
          </a:xfrm>
          <a:prstGeom prst="blockArc">
            <a:avLst>
              <a:gd name="adj1" fmla="val 13199484"/>
              <a:gd name="adj2" fmla="val 19200516"/>
              <a:gd name="adj3" fmla="val 16556"/>
            </a:avLst>
          </a:prstGeom>
          <a:gradFill rotWithShape="0">
            <a:gsLst>
              <a:gs pos="0">
                <a:srgbClr val="bdcbdb"/>
              </a:gs>
              <a:gs pos="100000">
                <a:srgbClr val="006699"/>
              </a:gs>
            </a:gsLst>
            <a:lin ang="108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92280" y="2933640"/>
            <a:ext cx="7767360" cy="304344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216160" y="490068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970600" y="491652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666360" y="455616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362720" y="455148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732040" y="431316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227320" y="291132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981760" y="2927520"/>
            <a:ext cx="874800" cy="71244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575240" y="311004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291636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216160" y="484200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5970600" y="4857840"/>
            <a:ext cx="87480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666360" y="4497480"/>
            <a:ext cx="11430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362720" y="4492800"/>
            <a:ext cx="1103400" cy="33156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575240" y="3051000"/>
            <a:ext cx="0" cy="82584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219320" y="1709640"/>
            <a:ext cx="1295280" cy="1371600"/>
            <a:chOff x="1219320" y="1709640"/>
            <a:chExt cx="1295280" cy="1371600"/>
          </a:xfrm>
        </p:grpSpPr>
        <p:grpSp>
          <p:nvGrpSpPr>
            <p:cNvPr id="1280" name=""/>
            <p:cNvGrpSpPr/>
            <p:nvPr/>
          </p:nvGrpSpPr>
          <p:grpSpPr>
            <a:xfrm>
              <a:off x="1219320" y="1709640"/>
              <a:ext cx="1295280" cy="1371600"/>
              <a:chOff x="1219320" y="1709640"/>
              <a:chExt cx="1295280" cy="1371600"/>
            </a:xfrm>
          </p:grpSpPr>
          <p:pic>
            <p:nvPicPr>
              <p:cNvPr id="12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4208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709640"/>
                <a:ext cx="129528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"/>
              <p:cNvSpPr/>
              <p:nvPr/>
            </p:nvSpPr>
            <p:spPr>
              <a:xfrm>
                <a:off x="1219320" y="1709640"/>
                <a:ext cx="128628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84" name="" descr=""/>
            <p:cNvPicPr/>
            <p:nvPr/>
          </p:nvPicPr>
          <p:blipFill>
            <a:blip r:embed="rId3"/>
            <a:stretch/>
          </p:blipFill>
          <p:spPr>
            <a:xfrm>
              <a:off x="1348200" y="172224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"/>
          <p:cNvGrpSpPr/>
          <p:nvPr/>
        </p:nvGrpSpPr>
        <p:grpSpPr>
          <a:xfrm>
            <a:off x="6545160" y="1709640"/>
            <a:ext cx="1295640" cy="1371600"/>
            <a:chOff x="6545160" y="1709640"/>
            <a:chExt cx="1295640" cy="1371600"/>
          </a:xfrm>
        </p:grpSpPr>
        <p:grpSp>
          <p:nvGrpSpPr>
            <p:cNvPr id="1286" name=""/>
            <p:cNvGrpSpPr/>
            <p:nvPr/>
          </p:nvGrpSpPr>
          <p:grpSpPr>
            <a:xfrm>
              <a:off x="6545160" y="1709640"/>
              <a:ext cx="1295640" cy="1371600"/>
              <a:chOff x="6545160" y="1709640"/>
              <a:chExt cx="1295640" cy="1371600"/>
            </a:xfrm>
          </p:grpSpPr>
          <p:pic>
            <p:nvPicPr>
              <p:cNvPr id="12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7920" y="2784960"/>
                <a:ext cx="1066680" cy="296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45160" y="1709640"/>
                <a:ext cx="1295640" cy="12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9" name=""/>
              <p:cNvSpPr/>
              <p:nvPr/>
            </p:nvSpPr>
            <p:spPr>
              <a:xfrm>
                <a:off x="6545160" y="1709640"/>
                <a:ext cx="1286640" cy="1268280"/>
              </a:xfrm>
              <a:prstGeom prst="ellipse">
                <a:avLst/>
              </a:prstGeom>
              <a:gradFill rotWithShape="0">
                <a:gsLst>
                  <a:gs pos="0">
                    <a:srgbClr val="744d30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d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0" name="" descr=""/>
            <p:cNvPicPr/>
            <p:nvPr/>
          </p:nvPicPr>
          <p:blipFill>
            <a:blip r:embed="rId6"/>
            <a:stretch/>
          </p:blipFill>
          <p:spPr>
            <a:xfrm>
              <a:off x="6674040" y="1722240"/>
              <a:ext cx="102312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1" name=""/>
          <p:cNvSpPr/>
          <p:nvPr/>
        </p:nvSpPr>
        <p:spPr>
          <a:xfrm>
            <a:off x="1214280" y="2122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62800" y="21304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2743200" y="1865160"/>
            <a:ext cx="1654200" cy="1749600"/>
            <a:chOff x="2743200" y="1865160"/>
            <a:chExt cx="1654200" cy="1749600"/>
          </a:xfrm>
        </p:grpSpPr>
        <p:grpSp>
          <p:nvGrpSpPr>
            <p:cNvPr id="1294" name=""/>
            <p:cNvGrpSpPr/>
            <p:nvPr/>
          </p:nvGrpSpPr>
          <p:grpSpPr>
            <a:xfrm>
              <a:off x="2743200" y="1865160"/>
              <a:ext cx="1654200" cy="1749600"/>
              <a:chOff x="2743200" y="1865160"/>
              <a:chExt cx="1654200" cy="1749600"/>
            </a:xfrm>
          </p:grpSpPr>
          <p:pic>
            <p:nvPicPr>
              <p:cNvPr id="12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001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7" name=""/>
              <p:cNvSpPr/>
              <p:nvPr/>
            </p:nvSpPr>
            <p:spPr>
              <a:xfrm>
                <a:off x="27432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298" name="" descr=""/>
            <p:cNvPicPr/>
            <p:nvPr/>
          </p:nvPicPr>
          <p:blipFill>
            <a:blip r:embed="rId9"/>
            <a:stretch/>
          </p:blipFill>
          <p:spPr>
            <a:xfrm>
              <a:off x="29080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9" name=""/>
          <p:cNvGrpSpPr/>
          <p:nvPr/>
        </p:nvGrpSpPr>
        <p:grpSpPr>
          <a:xfrm>
            <a:off x="4638600" y="1865160"/>
            <a:ext cx="1654200" cy="1749600"/>
            <a:chOff x="4638600" y="1865160"/>
            <a:chExt cx="1654200" cy="1749600"/>
          </a:xfrm>
        </p:grpSpPr>
        <p:grpSp>
          <p:nvGrpSpPr>
            <p:cNvPr id="1300" name=""/>
            <p:cNvGrpSpPr/>
            <p:nvPr/>
          </p:nvGrpSpPr>
          <p:grpSpPr>
            <a:xfrm>
              <a:off x="4638600" y="1865160"/>
              <a:ext cx="1654200" cy="1749600"/>
              <a:chOff x="4638600" y="1865160"/>
              <a:chExt cx="1654200" cy="1749600"/>
            </a:xfrm>
          </p:grpSpPr>
          <p:pic>
            <p:nvPicPr>
              <p:cNvPr id="130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795560" y="323676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186516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3" name=""/>
              <p:cNvSpPr/>
              <p:nvPr/>
            </p:nvSpPr>
            <p:spPr>
              <a:xfrm>
                <a:off x="4638600" y="186516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337135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13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304" name="" descr=""/>
            <p:cNvPicPr/>
            <p:nvPr/>
          </p:nvPicPr>
          <p:blipFill>
            <a:blip r:embed="rId12"/>
            <a:stretch/>
          </p:blipFill>
          <p:spPr>
            <a:xfrm>
              <a:off x="4803480" y="188136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5" name=""/>
          <p:cNvSpPr/>
          <p:nvPr/>
        </p:nvSpPr>
        <p:spPr>
          <a:xfrm>
            <a:off x="2930400" y="252108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27600" y="24703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82872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866160" y="4562640"/>
            <a:ext cx="2436840" cy="1670040"/>
          </a:xfrm>
          <a:prstGeom prst="rect">
            <a:avLst/>
          </a:prstGeom>
          <a:solidFill>
            <a:srgbClr val="f77a1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3312360" y="4562640"/>
            <a:ext cx="2436840" cy="1670040"/>
          </a:xfrm>
          <a:prstGeom prst="rect">
            <a:avLst/>
          </a:prstGeom>
          <a:solidFill>
            <a:srgbClr val="8f038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5750640" y="4560840"/>
            <a:ext cx="2436840" cy="1670040"/>
          </a:xfrm>
          <a:prstGeom prst="rect">
            <a:avLst/>
          </a:prstGeom>
          <a:solidFill>
            <a:srgbClr val="5bbe4e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866880" y="5170320"/>
            <a:ext cx="243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31308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770440" y="5170320"/>
            <a:ext cx="243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8380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27492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694480" y="4645080"/>
            <a:ext cx="2479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4883040" y="2666880"/>
            <a:ext cx="1365480" cy="155268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4572000" y="1562040"/>
            <a:ext cx="1092240" cy="285768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2"/>
          <a:stretch/>
        </p:blipFill>
        <p:spPr>
          <a:xfrm>
            <a:off x="6219720" y="3200400"/>
            <a:ext cx="1095480" cy="1295280"/>
          </a:xfrm>
          <a:prstGeom prst="rect">
            <a:avLst/>
          </a:prstGeom>
          <a:ln w="0">
            <a:noFill/>
          </a:ln>
        </p:spPr>
      </p:pic>
      <p:pic>
        <p:nvPicPr>
          <p:cNvPr id="1321" name="" descr=""/>
          <p:cNvPicPr/>
          <p:nvPr/>
        </p:nvPicPr>
        <p:blipFill>
          <a:blip r:embed="rId3"/>
          <a:stretch/>
        </p:blipFill>
        <p:spPr>
          <a:xfrm>
            <a:off x="3406680" y="2568600"/>
            <a:ext cx="1470240" cy="146988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4"/>
          <a:stretch/>
        </p:blipFill>
        <p:spPr>
          <a:xfrm>
            <a:off x="2209680" y="3011400"/>
            <a:ext cx="1608120" cy="140832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533520" y="1523880"/>
            <a:ext cx="333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8088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914400" y="2778120"/>
            <a:ext cx="6838920" cy="3365640"/>
            <a:chOff x="914400" y="2778120"/>
            <a:chExt cx="6838920" cy="3365640"/>
          </a:xfrm>
        </p:grpSpPr>
        <p:sp>
          <p:nvSpPr>
            <p:cNvPr id="1327" name=""/>
            <p:cNvSpPr/>
            <p:nvPr/>
          </p:nvSpPr>
          <p:spPr>
            <a:xfrm>
              <a:off x="1039680" y="292752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76320" y="322128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63760" y="341640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05040" y="350532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52640" y="411480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158920" y="421668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325600" y="425772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14520" y="426240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24000" y="291960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251080" y="285444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576520" y="296568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573280" y="283536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40080" y="294660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548080" y="295920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02000" y="290196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59160" y="285120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39880" y="285588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14400" y="324504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6080" y="40561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20760" y="409572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44760" y="430560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1680" y="353700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482920" y="32115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85880" y="292752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85960" y="3098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11520" y="277812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049560" y="307044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98840" y="317520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59040" y="291636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086360" y="286560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40080" y="291780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776760" y="334980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91080" y="342612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67320" y="524052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600960" y="482616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15000" y="482940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980400" y="605160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196040" y="590868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66040" y="582948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53520" y="576432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818240" y="499284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62800" y="449748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91280" y="460224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041880" y="451188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120000" y="468648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91280" y="490392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56520" y="475308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11880" y="408960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34200" y="427860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402240" y="452592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23200" y="474984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97640" y="488016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40480" y="486432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9920" y="497520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074000" y="490860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43640" y="500220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65880" y="503244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32400" y="498636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86400" y="500400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08640" y="447696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89640" y="446256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24560" y="443556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40400" y="445464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13440" y="456408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997600" y="45277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91120" y="449928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972040" y="443556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75280" y="447516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302600" y="546444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669080" y="538668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415280" y="534672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402680" y="531180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59680" y="500400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13680" y="507204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256520" y="517212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310520" y="515628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294680" y="509904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53280" y="505944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02520" y="503424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65880" y="511812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710240" y="293688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43440" y="310212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168880" y="285444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16400" y="287496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302440" y="288000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56480" y="292284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999040" y="292104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965920" y="296712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365880" y="332280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62720" y="351000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05480" y="363708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21400" y="283716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51480" y="285120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89640" y="284976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686480" y="283536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57680" y="286380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67400" y="288936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064120" y="519444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27480" y="51832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021280" y="493884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16680" y="482292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078520" y="482148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60880" y="485640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021280" y="49104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051520" y="488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887640" y="332100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90800" y="326736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413160" y="292284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7f7f7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35" name=""/>
          <p:cNvSpPr/>
          <p:nvPr/>
        </p:nvSpPr>
        <p:spPr>
          <a:xfrm>
            <a:off x="1752480" y="31719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065480" y="144792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80880" y="144792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</a:rPr>
              <a:t>A title about cont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48000" y="447372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237360" y="362592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70280" y="3251160"/>
            <a:ext cx="26064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359080" y="5435640"/>
            <a:ext cx="260280" cy="2602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116680" y="2362320"/>
            <a:ext cx="3146400" cy="433440"/>
          </a:xfrm>
          <a:noFill/>
          <a:ln w="9360">
            <a:solidFill>
              <a:srgbClr val="a59a5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9a55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108080" y="5791320"/>
            <a:ext cx="6540480" cy="45720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a59a55"/>
              </a:gs>
              <a:gs pos="100000">
                <a:srgbClr val="bcb583"/>
              </a:gs>
            </a:gsLst>
            <a:lin ang="5400000"/>
          </a:gradFill>
          <a:ln w="25560">
            <a:solidFill>
              <a:srgbClr val="a59a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247896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f77a1d"/>
              </a:gs>
              <a:gs pos="100000">
                <a:srgbClr val="fac1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386240" y="1219320"/>
            <a:ext cx="0" cy="458604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411800" y="155268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f038f"/>
              </a:gs>
              <a:gs pos="100000">
                <a:srgbClr val="c175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rot="5400000">
            <a:off x="441324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4ab1e4"/>
              </a:gs>
              <a:gs pos="100000">
                <a:srgbClr val="96d1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 rot="16200000">
            <a:off x="2481120" y="349380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5bbe4e"/>
              </a:gs>
              <a:gs pos="100000">
                <a:srgbClr val="9ad6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52560" y="3462480"/>
            <a:ext cx="5070600" cy="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30176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39040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559040" y="24890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5904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438280" y="39495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254240" y="586728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ease write down of contents explanation for Business Area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773600" y="146376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0176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773600" y="48880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write down of contents explanation for Business Area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844640" y="41194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62720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4464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6236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97980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905440" y="1447920"/>
            <a:ext cx="1630440" cy="533160"/>
          </a:xfrm>
          <a:prstGeom prst="ellipse">
            <a:avLst/>
          </a:prstGeom>
          <a:solidFill>
            <a:srgbClr val="993366"/>
          </a:soli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122880" y="15098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V="1">
            <a:off x="4303800" y="2274840"/>
            <a:ext cx="536400" cy="46368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1844640" y="288936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2114640" y="297180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produc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844640" y="3502080"/>
            <a:ext cx="5492880" cy="48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114640" y="358452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technology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114640" y="4187880"/>
            <a:ext cx="49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Description of the company’s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4379760" y="4809240"/>
            <a:ext cx="422280" cy="335160"/>
          </a:xfrm>
          <a:prstGeom prst="triangle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622520" y="5403960"/>
            <a:ext cx="57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c57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5704"/>
                </a:solidFill>
                <a:latin typeface="Arial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Hot Tip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0640" y="1447560"/>
            <a:ext cx="782496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and then click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f77a1d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4724280"/>
            <a:ext cx="75438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80808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Image :www.themegallery.com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457200" y="481968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609120" y="5581440"/>
            <a:ext cx="3132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dd your company slogan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253" name=""/>
            <p:cNvSpPr/>
            <p:nvPr/>
          </p:nvSpPr>
          <p:spPr>
            <a:xfrm flipV="1">
              <a:off x="1115280" y="3605040"/>
              <a:ext cx="160884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539720" y="2673000"/>
              <a:ext cx="47772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4ab1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08480" y="303048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295723">
                  <a:alpha val="0"/>
                </a:srgbClr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87960" y="3476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46640" y="4552920"/>
            <a:ext cx="542268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10141">
                  <a:alpha val="0"/>
                </a:srgbClr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0960" y="501804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08480" y="1535040"/>
            <a:ext cx="545760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1380d">
                  <a:alpha val="0"/>
                </a:srgbClr>
              </a:gs>
              <a:gs pos="100000">
                <a:srgbClr val="f77a1d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8880" y="198108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5640" y="1519200"/>
            <a:ext cx="162900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89360" y="15843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abd90"/>
              </a:gs>
              <a:gs pos="50000">
                <a:srgbClr val="f77a1d">
                  <a:alpha val="0"/>
                </a:srgbClr>
              </a:gs>
              <a:gs pos="100000">
                <a:srgbClr val="fabd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38600" y="302112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3086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edea8"/>
              </a:gs>
              <a:gs pos="50000">
                <a:srgbClr val="5bbe4e">
                  <a:alpha val="0"/>
                </a:srgbClr>
              </a:gs>
              <a:gs pos="100000">
                <a:srgbClr val="aedea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54356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873520" y="4599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783c7"/>
              </a:gs>
              <a:gs pos="50000">
                <a:srgbClr val="8f038f">
                  <a:alpha val="0"/>
                </a:srgbClr>
              </a:gs>
              <a:gs pos="100000">
                <a:srgbClr val="c783c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78200" y="174780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78200" y="324324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78200" y="4824360"/>
            <a:ext cx="393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7880" y="3348000"/>
            <a:ext cx="15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Click to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06560" y="16891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06560" y="324792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35280" y="480708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</a:rPr>
              <a:t>Content Tit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89160" y="21938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89160" y="2987640"/>
            <a:ext cx="3367080" cy="766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89160" y="3787920"/>
            <a:ext cx="336708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308400">
            <a:off x="6870600" y="2190600"/>
            <a:ext cx="1590840" cy="1702080"/>
          </a:xfrm>
          <a:custGeom>
            <a:avLst/>
            <a:gdLst>
              <a:gd name="textAreaLeft" fmla="*/ 0 w 1590840"/>
              <a:gd name="textAreaRight" fmla="*/ 1591200 w 1590840"/>
              <a:gd name="textAreaTop" fmla="*/ 0 h 1702080"/>
              <a:gd name="textAreaBottom" fmla="*/ 1702440 h 170208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84880" y="1689120"/>
            <a:ext cx="1319400" cy="1319040"/>
          </a:xfrm>
          <a:prstGeom prst="ellipse">
            <a:avLst/>
          </a:prstGeom>
          <a:gradFill rotWithShape="0">
            <a:gsLst>
              <a:gs pos="0">
                <a:srgbClr val="5e015e"/>
              </a:gs>
              <a:gs pos="50000">
                <a:srgbClr val="8f038f"/>
              </a:gs>
              <a:gs pos="100000">
                <a:srgbClr val="5e015e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42360" y="3502080"/>
            <a:ext cx="1320480" cy="1320840"/>
          </a:xfrm>
          <a:prstGeom prst="ellipse">
            <a:avLst/>
          </a:prstGeom>
          <a:gradFill rotWithShape="0">
            <a:gsLst>
              <a:gs pos="0">
                <a:srgbClr val="20441c"/>
              </a:gs>
              <a:gs pos="50000">
                <a:srgbClr val="5bbe4e"/>
              </a:gs>
              <a:gs pos="100000">
                <a:srgbClr val="20441c"/>
              </a:gs>
            </a:gsLst>
            <a:lin ang="135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7527600">
            <a:off x="6196320" y="3611880"/>
            <a:ext cx="1589040" cy="170172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5216000">
            <a:off x="5267160" y="2381040"/>
            <a:ext cx="1589040" cy="1703160"/>
          </a:xfrm>
          <a:custGeom>
            <a:avLst/>
            <a:gdLst>
              <a:gd name="textAreaLeft" fmla="*/ 0 w 1589040"/>
              <a:gd name="textAreaRight" fmla="*/ 1589400 w 1589040"/>
              <a:gd name="textAreaTop" fmla="*/ 0 h 1703160"/>
              <a:gd name="textAreaBottom" fmla="*/ 1703520 h 1703160"/>
            </a:gdLst>
            <a:ahLst/>
            <a:rect l="textAreaLeft" t="textAreaTop" r="textAreaRight" b="textAreaBottom"/>
            <a:pathLst>
              <a:path w="21600" h="21600">
                <a:moveTo>
                  <a:pt x="3002" y="10673"/>
                </a:moveTo>
                <a:arcTo wR="-7799" hR="-7799" stAng="-10744017" swAng="-5450143"/>
                <a:lnTo>
                  <a:pt x="10818" y="0"/>
                </a:lnTo>
                <a:arcTo wR="10800" hR="10800" stAng="-5394160" swAng="5450143"/>
                <a:lnTo>
                  <a:pt x="24298" y="11020"/>
                </a:lnTo>
                <a:lnTo>
                  <a:pt x="20030" y="15151"/>
                </a:lnTo>
                <a:lnTo>
                  <a:pt x="15898" y="10883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3280" y="350676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f77a1d"/>
              </a:gs>
              <a:gs pos="100000">
                <a:srgbClr val="c96317"/>
              </a:gs>
            </a:gsLst>
            <a:lin ang="5400000"/>
          </a:gra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06760" y="2345040"/>
            <a:ext cx="1116720" cy="724320"/>
            <a:chOff x="6206760" y="2345040"/>
            <a:chExt cx="1116720" cy="724320"/>
          </a:xfrm>
        </p:grpSpPr>
        <p:grpSp>
          <p:nvGrpSpPr>
            <p:cNvPr id="287" name=""/>
            <p:cNvGrpSpPr/>
            <p:nvPr/>
          </p:nvGrpSpPr>
          <p:grpSpPr>
            <a:xfrm>
              <a:off x="6206760" y="2345040"/>
              <a:ext cx="1116720" cy="724320"/>
              <a:chOff x="6206760" y="2345040"/>
              <a:chExt cx="1116720" cy="72432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6326280" y="2564280"/>
                <a:ext cx="997200" cy="495000"/>
                <a:chOff x="6326280" y="2564280"/>
                <a:chExt cx="997200" cy="495000"/>
              </a:xfrm>
            </p:grpSpPr>
            <p:sp>
              <p:nvSpPr>
                <p:cNvPr id="289" name=""/>
                <p:cNvSpPr/>
                <p:nvPr/>
              </p:nvSpPr>
              <p:spPr>
                <a:xfrm flipH="1" flipV="1" rot="5374200">
                  <a:off x="6865920" y="24991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 flipV="1" rot="6189600">
                  <a:off x="6745320" y="249480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 rot="6485400">
                  <a:off x="6678360" y="2475720"/>
                  <a:ext cx="18540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 rot="7017600">
                  <a:off x="6598800" y="2448000"/>
                  <a:ext cx="18576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206760" y="2345040"/>
                <a:ext cx="905400" cy="724320"/>
                <a:chOff x="6206760" y="2345040"/>
                <a:chExt cx="905400" cy="724320"/>
              </a:xfrm>
            </p:grpSpPr>
            <p:sp>
              <p:nvSpPr>
                <p:cNvPr id="294" name=""/>
                <p:cNvSpPr/>
                <p:nvPr/>
              </p:nvSpPr>
              <p:spPr>
                <a:xfrm flipH="1" flipV="1" rot="6727200">
                  <a:off x="6646680" y="24678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 rot="7542600">
                  <a:off x="6537240" y="24184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 rot="7838400">
                  <a:off x="6482520" y="23738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 rot="8370600">
                  <a:off x="6419880" y="23184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6294600" y="2418840"/>
              <a:ext cx="914400" cy="592560"/>
              <a:chOff x="6294600" y="2418840"/>
              <a:chExt cx="914400" cy="59256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392160" y="2597760"/>
                <a:ext cx="816840" cy="405000"/>
                <a:chOff x="6392160" y="2597760"/>
                <a:chExt cx="816840" cy="405000"/>
              </a:xfrm>
            </p:grpSpPr>
            <p:sp>
              <p:nvSpPr>
                <p:cNvPr id="300" name=""/>
                <p:cNvSpPr/>
                <p:nvPr/>
              </p:nvSpPr>
              <p:spPr>
                <a:xfrm flipH="1" flipV="1" rot="5374200">
                  <a:off x="6834600" y="25437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6189600">
                  <a:off x="6735240" y="254088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 flipV="1" rot="6485400">
                  <a:off x="6680880" y="25239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 flipV="1" rot="7017600">
                  <a:off x="6616080" y="25016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294600" y="2418840"/>
                <a:ext cx="742320" cy="592560"/>
                <a:chOff x="6294600" y="2418840"/>
                <a:chExt cx="742320" cy="5925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 flipV="1" rot="6727200">
                  <a:off x="6656040" y="251892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 rot="7542600">
                  <a:off x="6566040" y="2478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 rot="7838400">
                  <a:off x="6521760" y="24422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flipV="1" rot="8370600">
                  <a:off x="6468840" y="239688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9" name=""/>
          <p:cNvGrpSpPr/>
          <p:nvPr/>
        </p:nvGrpSpPr>
        <p:grpSpPr>
          <a:xfrm>
            <a:off x="5111640" y="4165200"/>
            <a:ext cx="1117440" cy="725040"/>
            <a:chOff x="5111640" y="4165200"/>
            <a:chExt cx="1117440" cy="725040"/>
          </a:xfrm>
        </p:grpSpPr>
        <p:grpSp>
          <p:nvGrpSpPr>
            <p:cNvPr id="310" name=""/>
            <p:cNvGrpSpPr/>
            <p:nvPr/>
          </p:nvGrpSpPr>
          <p:grpSpPr>
            <a:xfrm>
              <a:off x="5111640" y="4165200"/>
              <a:ext cx="1117440" cy="725040"/>
              <a:chOff x="5111640" y="4165200"/>
              <a:chExt cx="1117440" cy="7250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5230800" y="4385160"/>
                <a:ext cx="998280" cy="495720"/>
                <a:chOff x="5230800" y="4385160"/>
                <a:chExt cx="998280" cy="495720"/>
              </a:xfrm>
            </p:grpSpPr>
            <p:sp>
              <p:nvSpPr>
                <p:cNvPr id="312" name=""/>
                <p:cNvSpPr/>
                <p:nvPr/>
              </p:nvSpPr>
              <p:spPr>
                <a:xfrm flipH="1" flipV="1" rot="5374200">
                  <a:off x="5771520" y="432000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 rot="6189600">
                  <a:off x="5650560" y="43160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 rot="6485400">
                  <a:off x="5583240" y="4296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 rot="7017600">
                  <a:off x="5504040" y="42685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111640" y="4165200"/>
                <a:ext cx="906480" cy="725040"/>
                <a:chOff x="5111640" y="4165200"/>
                <a:chExt cx="906480" cy="725040"/>
              </a:xfrm>
            </p:grpSpPr>
            <p:sp>
              <p:nvSpPr>
                <p:cNvPr id="317" name=""/>
                <p:cNvSpPr/>
                <p:nvPr/>
              </p:nvSpPr>
              <p:spPr>
                <a:xfrm flipH="1" flipV="1" rot="6727200">
                  <a:off x="5552280" y="428796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 rot="7542600">
                  <a:off x="5442480" y="423828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 rot="7838400">
                  <a:off x="5388480" y="419328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 flipV="1" rot="8370600">
                  <a:off x="5325480" y="41385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5199840" y="4239360"/>
              <a:ext cx="914760" cy="593280"/>
              <a:chOff x="5199840" y="4239360"/>
              <a:chExt cx="914760" cy="59328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296680" y="4419000"/>
                <a:ext cx="817920" cy="405360"/>
                <a:chOff x="5296680" y="4419000"/>
                <a:chExt cx="817920" cy="405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 flipV="1" rot="5374200">
                  <a:off x="5739840" y="436428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 rot="6189600">
                  <a:off x="5641200" y="4361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 rot="6485400">
                  <a:off x="5586120" y="43452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 rot="7017600">
                  <a:off x="5520960" y="43232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199840" y="4239360"/>
                <a:ext cx="741960" cy="593280"/>
                <a:chOff x="5199840" y="4239360"/>
                <a:chExt cx="741960" cy="593280"/>
              </a:xfrm>
            </p:grpSpPr>
            <p:sp>
              <p:nvSpPr>
                <p:cNvPr id="328" name=""/>
                <p:cNvSpPr/>
                <p:nvPr/>
              </p:nvSpPr>
              <p:spPr>
                <a:xfrm flipH="1" flipV="1" rot="6727200">
                  <a:off x="5560200" y="43398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 rot="7542600">
                  <a:off x="5470560" y="42987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 flipV="1" rot="7838400">
                  <a:off x="5425560" y="426204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 rot="8370600">
                  <a:off x="5374800" y="4217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7485480" y="4164120"/>
            <a:ext cx="1117080" cy="724320"/>
            <a:chOff x="7485480" y="4164120"/>
            <a:chExt cx="1117080" cy="724320"/>
          </a:xfrm>
        </p:grpSpPr>
        <p:grpSp>
          <p:nvGrpSpPr>
            <p:cNvPr id="333" name=""/>
            <p:cNvGrpSpPr/>
            <p:nvPr/>
          </p:nvGrpSpPr>
          <p:grpSpPr>
            <a:xfrm>
              <a:off x="7485480" y="4164120"/>
              <a:ext cx="1117080" cy="724320"/>
              <a:chOff x="7485480" y="4164120"/>
              <a:chExt cx="1117080" cy="72432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7605720" y="4383360"/>
                <a:ext cx="996840" cy="495000"/>
                <a:chOff x="7605720" y="4383360"/>
                <a:chExt cx="996840" cy="495000"/>
              </a:xfrm>
            </p:grpSpPr>
            <p:sp>
              <p:nvSpPr>
                <p:cNvPr id="335" name=""/>
                <p:cNvSpPr/>
                <p:nvPr/>
              </p:nvSpPr>
              <p:spPr>
                <a:xfrm flipH="1" flipV="1" rot="5374200">
                  <a:off x="8145360" y="43185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 rot="6189600">
                  <a:off x="8024400" y="43142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 rot="6485400">
                  <a:off x="7957440" y="429444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 flipV="1" rot="7017600">
                  <a:off x="7878960" y="426672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7485480" y="4164120"/>
                <a:ext cx="906120" cy="724320"/>
                <a:chOff x="7485480" y="4164120"/>
                <a:chExt cx="906120" cy="724320"/>
              </a:xfrm>
            </p:grpSpPr>
            <p:sp>
              <p:nvSpPr>
                <p:cNvPr id="340" name=""/>
                <p:cNvSpPr/>
                <p:nvPr/>
              </p:nvSpPr>
              <p:spPr>
                <a:xfrm flipH="1" flipV="1" rot="6727200">
                  <a:off x="7926120" y="42868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 flipV="1" rot="7542600">
                  <a:off x="7816680" y="423756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 flipV="1" rot="7838400">
                  <a:off x="7761960" y="419292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 rot="8370600">
                  <a:off x="7698600" y="41374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" name=""/>
            <p:cNvGrpSpPr/>
            <p:nvPr/>
          </p:nvGrpSpPr>
          <p:grpSpPr>
            <a:xfrm>
              <a:off x="7574040" y="4237560"/>
              <a:ext cx="914760" cy="593280"/>
              <a:chOff x="7574040" y="4237560"/>
              <a:chExt cx="914760" cy="59328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7671600" y="4416840"/>
                <a:ext cx="817200" cy="405000"/>
                <a:chOff x="7671600" y="4416840"/>
                <a:chExt cx="817200" cy="405000"/>
              </a:xfrm>
            </p:grpSpPr>
            <p:sp>
              <p:nvSpPr>
                <p:cNvPr id="346" name=""/>
                <p:cNvSpPr/>
                <p:nvPr/>
              </p:nvSpPr>
              <p:spPr>
                <a:xfrm flipH="1" flipV="1" rot="5374200">
                  <a:off x="8114400" y="436284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 flipV="1" rot="6189600">
                  <a:off x="8014680" y="43599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 flipV="1" rot="6485400">
                  <a:off x="7959960" y="434304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 rot="7017600">
                  <a:off x="7895520" y="432072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7574040" y="4237560"/>
                <a:ext cx="742320" cy="593280"/>
                <a:chOff x="7574040" y="4237560"/>
                <a:chExt cx="742320" cy="593280"/>
              </a:xfrm>
            </p:grpSpPr>
            <p:sp>
              <p:nvSpPr>
                <p:cNvPr id="351" name=""/>
                <p:cNvSpPr/>
                <p:nvPr/>
              </p:nvSpPr>
              <p:spPr>
                <a:xfrm flipH="1" flipV="1" rot="6727200">
                  <a:off x="7935480" y="4337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 rot="7542600">
                  <a:off x="7845120" y="4296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 rot="7838400">
                  <a:off x="7800480" y="42602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flipV="1" rot="8370600">
                  <a:off x="7748280" y="421560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5" name=""/>
          <p:cNvGrpSpPr/>
          <p:nvPr/>
        </p:nvGrpSpPr>
        <p:grpSpPr>
          <a:xfrm>
            <a:off x="6685200" y="1638000"/>
            <a:ext cx="1028880" cy="843120"/>
            <a:chOff x="6685200" y="1638000"/>
            <a:chExt cx="1028880" cy="843120"/>
          </a:xfrm>
        </p:grpSpPr>
        <p:grpSp>
          <p:nvGrpSpPr>
            <p:cNvPr id="356" name=""/>
            <p:cNvGrpSpPr/>
            <p:nvPr/>
          </p:nvGrpSpPr>
          <p:grpSpPr>
            <a:xfrm>
              <a:off x="6685200" y="1638000"/>
              <a:ext cx="1028880" cy="843120"/>
              <a:chOff x="6685200" y="1638000"/>
              <a:chExt cx="1028880" cy="84312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685200" y="1638000"/>
                <a:ext cx="966240" cy="615600"/>
                <a:chOff x="6685200" y="1638000"/>
                <a:chExt cx="966240" cy="615600"/>
              </a:xfrm>
            </p:grpSpPr>
            <p:sp>
              <p:nvSpPr>
                <p:cNvPr id="358" name=""/>
                <p:cNvSpPr/>
                <p:nvPr/>
              </p:nvSpPr>
              <p:spPr>
                <a:xfrm flipH="1" flipV="1" rot="16891800">
                  <a:off x="6967080" y="148464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 rot="17707200">
                  <a:off x="7084080" y="1512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 rot="18003000">
                  <a:off x="7145640" y="154620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 rot="18535200">
                  <a:off x="7216920" y="158868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913440" y="1643400"/>
                <a:ext cx="800640" cy="837720"/>
                <a:chOff x="6913440" y="1643400"/>
                <a:chExt cx="800640" cy="837720"/>
              </a:xfrm>
            </p:grpSpPr>
            <p:sp>
              <p:nvSpPr>
                <p:cNvPr id="363" name=""/>
                <p:cNvSpPr/>
                <p:nvPr/>
              </p:nvSpPr>
              <p:spPr>
                <a:xfrm flipH="1" flipV="1" rot="18244800">
                  <a:off x="7173000" y="1560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 rot="19060800">
                  <a:off x="7270560" y="16318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flipV="1" rot="19356000">
                  <a:off x="7314480" y="168696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flipV="1" rot="19888200">
                  <a:off x="7364880" y="175356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6795360" y="1706760"/>
              <a:ext cx="842760" cy="689760"/>
              <a:chOff x="6795360" y="1706760"/>
              <a:chExt cx="842760" cy="68976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6795360" y="1706760"/>
                <a:ext cx="792000" cy="504000"/>
                <a:chOff x="6795360" y="1706760"/>
                <a:chExt cx="792000" cy="504000"/>
              </a:xfrm>
            </p:grpSpPr>
            <p:sp>
              <p:nvSpPr>
                <p:cNvPr id="369" name=""/>
                <p:cNvSpPr/>
                <p:nvPr/>
              </p:nvSpPr>
              <p:spPr>
                <a:xfrm flipH="1" flipV="1" rot="16891800">
                  <a:off x="7026480" y="15804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 rot="17707200">
                  <a:off x="7122600" y="160416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flipV="1" rot="18003000">
                  <a:off x="7173720" y="163116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 rot="18535200">
                  <a:off x="7231680" y="16668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6982920" y="1710360"/>
                <a:ext cx="655200" cy="686160"/>
                <a:chOff x="6982920" y="1710360"/>
                <a:chExt cx="655200" cy="686160"/>
              </a:xfrm>
            </p:grpSpPr>
            <p:sp>
              <p:nvSpPr>
                <p:cNvPr id="374" name=""/>
                <p:cNvSpPr/>
                <p:nvPr/>
              </p:nvSpPr>
              <p:spPr>
                <a:xfrm flipH="1" flipV="1" rot="18244800">
                  <a:off x="7195320" y="164196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 rot="19060800">
                  <a:off x="7275600" y="1701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 rot="19356000">
                  <a:off x="7310880" y="174564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 rot="19888200">
                  <a:off x="7353000" y="180036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7980120" y="3436920"/>
            <a:ext cx="972000" cy="905400"/>
            <a:chOff x="7980120" y="3436920"/>
            <a:chExt cx="972000" cy="905400"/>
          </a:xfrm>
        </p:grpSpPr>
        <p:grpSp>
          <p:nvGrpSpPr>
            <p:cNvPr id="379" name=""/>
            <p:cNvGrpSpPr/>
            <p:nvPr/>
          </p:nvGrpSpPr>
          <p:grpSpPr>
            <a:xfrm>
              <a:off x="7980120" y="3436920"/>
              <a:ext cx="972000" cy="905400"/>
              <a:chOff x="7980120" y="3436920"/>
              <a:chExt cx="972000" cy="90540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7980120" y="3436920"/>
                <a:ext cx="938520" cy="677160"/>
                <a:chOff x="7980120" y="3436920"/>
                <a:chExt cx="938520" cy="67716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17235600">
                  <a:off x="8262360" y="32983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18051600">
                  <a:off x="8376480" y="33390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18346800">
                  <a:off x="8433360" y="337824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18879000">
                  <a:off x="8501040" y="342792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8214840" y="3454200"/>
                <a:ext cx="737280" cy="888120"/>
                <a:chOff x="8214840" y="3454200"/>
                <a:chExt cx="737280" cy="888120"/>
              </a:xfrm>
            </p:grpSpPr>
            <p:sp>
              <p:nvSpPr>
                <p:cNvPr id="386" name=""/>
                <p:cNvSpPr/>
                <p:nvPr/>
              </p:nvSpPr>
              <p:spPr>
                <a:xfrm flipH="1" flipV="1" rot="18588600">
                  <a:off x="8460720" y="339480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 rot="19404600">
                  <a:off x="8550000" y="347544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19699800">
                  <a:off x="8587440" y="35352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20232000">
                  <a:off x="8631720" y="360684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8088120" y="3512160"/>
              <a:ext cx="795600" cy="740520"/>
              <a:chOff x="8088120" y="3512160"/>
              <a:chExt cx="795600" cy="74052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8088120" y="3512160"/>
                <a:ext cx="768600" cy="554400"/>
                <a:chOff x="8088120" y="3512160"/>
                <a:chExt cx="768600" cy="554400"/>
              </a:xfrm>
            </p:grpSpPr>
            <p:sp>
              <p:nvSpPr>
                <p:cNvPr id="392" name=""/>
                <p:cNvSpPr/>
                <p:nvPr/>
              </p:nvSpPr>
              <p:spPr>
                <a:xfrm flipH="1" flipV="1" rot="17235600">
                  <a:off x="8319240" y="3398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 flipV="1" rot="18051600">
                  <a:off x="8412480" y="34308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 rot="18346800">
                  <a:off x="8460360" y="34639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 flipV="1" rot="18879000">
                  <a:off x="8514720" y="350460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8280360" y="3526200"/>
                <a:ext cx="603360" cy="726480"/>
                <a:chOff x="8280360" y="3526200"/>
                <a:chExt cx="603360" cy="726480"/>
              </a:xfrm>
            </p:grpSpPr>
            <p:sp>
              <p:nvSpPr>
                <p:cNvPr id="397" name=""/>
                <p:cNvSpPr/>
                <p:nvPr/>
              </p:nvSpPr>
              <p:spPr>
                <a:xfrm flipH="1" flipV="1" rot="18588600">
                  <a:off x="8481240" y="347688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19404600">
                  <a:off x="8555040" y="35434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 rot="19699800">
                  <a:off x="8585640" y="359208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 rot="20232000">
                  <a:off x="8621280" y="36504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1" name=""/>
          <p:cNvGrpSpPr/>
          <p:nvPr/>
        </p:nvGrpSpPr>
        <p:grpSpPr>
          <a:xfrm>
            <a:off x="5569200" y="3417480"/>
            <a:ext cx="1022400" cy="919440"/>
            <a:chOff x="5569200" y="3417480"/>
            <a:chExt cx="1022400" cy="919440"/>
          </a:xfrm>
        </p:grpSpPr>
        <p:grpSp>
          <p:nvGrpSpPr>
            <p:cNvPr id="402" name=""/>
            <p:cNvGrpSpPr/>
            <p:nvPr/>
          </p:nvGrpSpPr>
          <p:grpSpPr>
            <a:xfrm>
              <a:off x="5569200" y="3417480"/>
              <a:ext cx="983160" cy="892080"/>
              <a:chOff x="5569200" y="3417480"/>
              <a:chExt cx="983160" cy="89208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5569200" y="3417480"/>
                <a:ext cx="983160" cy="892080"/>
                <a:chOff x="5569200" y="3417480"/>
                <a:chExt cx="983160" cy="89208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5569200" y="3417480"/>
                  <a:ext cx="943560" cy="664920"/>
                  <a:chOff x="5569200" y="3417480"/>
                  <a:chExt cx="943560" cy="664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flipV="1" rot="17172600">
                    <a:off x="5851800" y="327528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 rot="17988600">
                    <a:off x="5967000" y="331452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8283800">
                    <a:off x="6024960" y="33526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18816000">
                    <a:off x="6094080" y="3401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5803200" y="3431880"/>
                  <a:ext cx="749160" cy="877680"/>
                  <a:chOff x="5803200" y="3431880"/>
                  <a:chExt cx="749160" cy="8776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flipV="1" rot="18525600">
                    <a:off x="6051600" y="336744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 rot="19341600">
                    <a:off x="6143040" y="3447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 rot="19636800">
                    <a:off x="6182280" y="3505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 rot="20169000">
                    <a:off x="6227640" y="35762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5677920" y="3491640"/>
                <a:ext cx="804240" cy="731160"/>
                <a:chOff x="5677920" y="3491640"/>
                <a:chExt cx="804240" cy="73116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5677920" y="3491640"/>
                  <a:ext cx="772920" cy="544320"/>
                  <a:chOff x="5677920" y="3491640"/>
                  <a:chExt cx="772920" cy="54432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flipV="1" rot="17172600">
                    <a:off x="5909040" y="337536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 rot="17988600">
                    <a:off x="6003720" y="340704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 rot="18283800">
                    <a:off x="6051240" y="343836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 rot="18816000">
                    <a:off x="6107760" y="347832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5869440" y="3503520"/>
                  <a:ext cx="612720" cy="719280"/>
                  <a:chOff x="5869440" y="3503520"/>
                  <a:chExt cx="612720" cy="7192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flipV="1" rot="18525600">
                    <a:off x="6072840" y="345096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 rot="19341600">
                    <a:off x="6147720" y="351576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 rot="19636800">
                    <a:off x="6180120" y="356328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 rot="20169000">
                    <a:off x="6216480" y="3621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25" name=""/>
            <p:cNvGrpSpPr/>
            <p:nvPr/>
          </p:nvGrpSpPr>
          <p:grpSpPr>
            <a:xfrm>
              <a:off x="5608800" y="3444840"/>
              <a:ext cx="982800" cy="892080"/>
              <a:chOff x="5608800" y="3444840"/>
              <a:chExt cx="982800" cy="89208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5608800" y="3444840"/>
                <a:ext cx="982800" cy="892080"/>
                <a:chOff x="5608800" y="3444840"/>
                <a:chExt cx="982800" cy="89208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5608800" y="3444840"/>
                  <a:ext cx="943200" cy="664560"/>
                  <a:chOff x="5608800" y="3444840"/>
                  <a:chExt cx="943200" cy="664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flipH="1" flipV="1" rot="17172600">
                    <a:off x="5891400" y="3302640"/>
                    <a:ext cx="18432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 rot="17988600">
                    <a:off x="6006240" y="334188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 rot="18283800">
                    <a:off x="6064200" y="3380040"/>
                    <a:ext cx="18432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 rot="18816000">
                    <a:off x="6133320" y="3428280"/>
                    <a:ext cx="18432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5842800" y="3459240"/>
                  <a:ext cx="748800" cy="877680"/>
                  <a:chOff x="5842800" y="3459240"/>
                  <a:chExt cx="748800" cy="8776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H="1" flipV="1" rot="18525600">
                    <a:off x="6091200" y="339480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 rot="19341600">
                    <a:off x="6182280" y="34747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 rot="19636800">
                    <a:off x="6221880" y="353232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 rot="20169000">
                    <a:off x="6266880" y="360360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5717520" y="3519000"/>
                <a:ext cx="803880" cy="730800"/>
                <a:chOff x="5717520" y="3519000"/>
                <a:chExt cx="803880" cy="73080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5717520" y="3519000"/>
                  <a:ext cx="772560" cy="544320"/>
                  <a:chOff x="5717520" y="3519000"/>
                  <a:chExt cx="772560" cy="5443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H="1" flipV="1" rot="17172600">
                    <a:off x="5948640" y="340272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 rot="17988600">
                    <a:off x="6042960" y="3434400"/>
                    <a:ext cx="1501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 rot="18283800">
                    <a:off x="6090480" y="3465720"/>
                    <a:ext cx="1504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 rot="18816000">
                    <a:off x="6147000" y="3505680"/>
                    <a:ext cx="15048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908680" y="3530880"/>
                  <a:ext cx="612720" cy="718920"/>
                  <a:chOff x="5908680" y="3530880"/>
                  <a:chExt cx="612720" cy="7189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flipV="1" rot="18525600">
                    <a:off x="6112080" y="347832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 rot="19341600">
                    <a:off x="6186960" y="3543120"/>
                    <a:ext cx="15120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 rot="19636800">
                    <a:off x="6219360" y="359064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 rot="20169000">
                    <a:off x="6255720" y="3648600"/>
                    <a:ext cx="15156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48" name=""/>
          <p:cNvSpPr/>
          <p:nvPr/>
        </p:nvSpPr>
        <p:spPr>
          <a:xfrm>
            <a:off x="352440" y="2193840"/>
            <a:ext cx="1170000" cy="766800"/>
          </a:xfrm>
          <a:prstGeom prst="rect">
            <a:avLst/>
          </a:prstGeom>
          <a:solidFill>
            <a:srgbClr val="8f03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" y="2987640"/>
            <a:ext cx="1170000" cy="766800"/>
          </a:xfrm>
          <a:prstGeom prst="rect">
            <a:avLst/>
          </a:prstGeom>
          <a:solidFill>
            <a:srgbClr val="f77a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2440" y="3787920"/>
            <a:ext cx="1170000" cy="766440"/>
          </a:xfrm>
          <a:prstGeom prst="rect">
            <a:avLst/>
          </a:prstGeom>
          <a:solidFill>
            <a:srgbClr val="5bb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71960" y="23749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9200" y="320364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6520" y="3994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01640" y="23115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01640" y="310032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01640" y="3909960"/>
            <a:ext cx="305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74240" y="2151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30160" y="39798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06800" y="3960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ivit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8640" y="461160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000" y="1527120"/>
            <a:ext cx="36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 title about conten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228600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a59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724120" y="4627440"/>
            <a:ext cx="4075200" cy="9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263680" y="3187800"/>
            <a:ext cx="4075200" cy="9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08840" y="3197160"/>
            <a:ext cx="1423800" cy="1424160"/>
          </a:xfrm>
          <a:prstGeom prst="ellipse">
            <a:avLst/>
          </a:prstGeom>
          <a:gradFill rotWithShape="0">
            <a:gsLst>
              <a:gs pos="0">
                <a:srgbClr val="c783c7"/>
              </a:gs>
              <a:gs pos="100000">
                <a:srgbClr val="8f038f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12800" y="3197160"/>
            <a:ext cx="1424160" cy="1424160"/>
          </a:xfrm>
          <a:prstGeom prst="ellipse">
            <a:avLst/>
          </a:prstGeom>
          <a:gradFill rotWithShape="0">
            <a:gsLst>
              <a:gs pos="0">
                <a:srgbClr val="d9e7f4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69064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649760" y="2506680"/>
            <a:ext cx="1959120" cy="46836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764320" y="2506680"/>
            <a:ext cx="2458800" cy="2765520"/>
            <a:chOff x="5764320" y="2506680"/>
            <a:chExt cx="2458800" cy="2765520"/>
          </a:xfrm>
        </p:grpSpPr>
        <p:sp>
          <p:nvSpPr>
            <p:cNvPr id="471" name=""/>
            <p:cNvSpPr/>
            <p:nvPr/>
          </p:nvSpPr>
          <p:spPr>
            <a:xfrm rot="5400000">
              <a:off x="5610960" y="2659680"/>
              <a:ext cx="2765520" cy="2458800"/>
            </a:xfrm>
            <a:prstGeom prst="blockArc">
              <a:avLst>
                <a:gd name="adj1" fmla="val 10567623"/>
                <a:gd name="adj2" fmla="val 232377"/>
                <a:gd name="adj3" fmla="val 17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08520" y="25099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6638760" y="4798800"/>
              <a:ext cx="498240" cy="4683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2792520" y="480204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923040" y="2509920"/>
            <a:ext cx="2459160" cy="2766600"/>
            <a:chOff x="923040" y="2509920"/>
            <a:chExt cx="2459160" cy="276660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769680" y="2662920"/>
              <a:ext cx="2765160" cy="2459160"/>
            </a:xfrm>
            <a:prstGeom prst="blockArc">
              <a:avLst>
                <a:gd name="adj1" fmla="val 10380659"/>
                <a:gd name="adj2" fmla="val 419341"/>
                <a:gd name="adj3" fmla="val 168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8320" y="251280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0800000">
              <a:off x="2018880" y="4808520"/>
              <a:ext cx="792360" cy="468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013280" y="485784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36960" y="2552760"/>
            <a:ext cx="127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998960" y="2552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12800" y="372276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105600" y="372276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164040" y="358128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920" y="152388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9a55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113440" y="4587840"/>
            <a:ext cx="265896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6702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46708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257800" y="199692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59080" y="4740120"/>
            <a:ext cx="2638440" cy="155592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7a02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687760" y="5221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60440" y="3019320"/>
            <a:ext cx="1826640" cy="1523880"/>
            <a:chOff x="460440" y="3019320"/>
            <a:chExt cx="1826640" cy="1523880"/>
          </a:xfrm>
        </p:grpSpPr>
        <p:sp>
          <p:nvSpPr>
            <p:cNvPr id="493" name=""/>
            <p:cNvSpPr/>
            <p:nvPr/>
          </p:nvSpPr>
          <p:spPr>
            <a:xfrm>
              <a:off x="460440" y="301932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8440" y="303516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460440" y="4719600"/>
            <a:ext cx="1826640" cy="1523880"/>
            <a:chOff x="460440" y="4719600"/>
            <a:chExt cx="1826640" cy="1523880"/>
          </a:xfrm>
        </p:grpSpPr>
        <p:sp>
          <p:nvSpPr>
            <p:cNvPr id="496" name=""/>
            <p:cNvSpPr/>
            <p:nvPr/>
          </p:nvSpPr>
          <p:spPr>
            <a:xfrm>
              <a:off x="460440" y="4719600"/>
              <a:ext cx="1826640" cy="1523880"/>
            </a:xfrm>
            <a:custGeom>
              <a:avLst/>
              <a:gdLst>
                <a:gd name="textAreaLeft" fmla="*/ 0 w 1826640"/>
                <a:gd name="textAreaRight" fmla="*/ 1827000 w 182664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8440" y="4735440"/>
              <a:ext cx="1777680" cy="1482840"/>
            </a:xfrm>
            <a:custGeom>
              <a:avLst/>
              <a:gdLst>
                <a:gd name="textAreaLeft" fmla="*/ 0 w 1777680"/>
                <a:gd name="textAreaRight" fmla="*/ 1778040 w 177768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c9397"/>
                </a:gs>
                <a:gs pos="50000">
                  <a:srgbClr val="d5e0e5"/>
                </a:gs>
                <a:gs pos="100000">
                  <a:srgbClr val="8c9397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80880" y="35672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52610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48927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5420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48160" y="2065320"/>
            <a:ext cx="224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80880" y="1219320"/>
            <a:ext cx="638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13440" y="2766960"/>
            <a:ext cx="265896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57fa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359080" y="2911320"/>
            <a:ext cx="2638440" cy="15559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3f98c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87760" y="340056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57800" y="307188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Click to edit title style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59240" y="39020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800" spc="-1" strike="noStrike">
                <a:solidFill>
                  <a:srgbClr val="a59a5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59240" y="246384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9240" y="3673440"/>
            <a:ext cx="4419720" cy="0"/>
          </a:xfrm>
          <a:prstGeom prst="line">
            <a:avLst/>
          </a:prstGeom>
          <a:ln w="9360">
            <a:solidFill>
              <a:srgbClr val="a59a5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1640" y="5349960"/>
            <a:ext cx="3146400" cy="48564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efefe"/>
            </a:solidFill>
            <a:miter/>
          </a:ln>
          <a:effectLst>
            <a:outerShdw dist="53966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76480" y="539748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0800000">
            <a:off x="655560" y="1599840"/>
            <a:ext cx="2408400" cy="2251080"/>
          </a:xfrm>
          <a:custGeom>
            <a:avLst/>
            <a:gdLst/>
            <a:ahLst/>
            <a:rect l="l" t="t" r="r" b="b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solidFill>
            <a:srgbClr val="5bbe4e"/>
          </a:solidFill>
          <a:ln w="0">
            <a:noFill/>
          </a:ln>
          <a:effectLst>
            <a:outerShdw dist="107932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4575240"/>
            <a:ext cx="4267080" cy="65232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 rot="16200000">
            <a:off x="624240" y="4099320"/>
            <a:ext cx="95400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ecae8c"/>
              </a:gs>
              <a:gs pos="100000">
                <a:srgbClr val="b183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 rot="16200000">
            <a:off x="1172160" y="3832200"/>
            <a:ext cx="14871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f0cd74"/>
              </a:gs>
              <a:gs pos="100000">
                <a:srgbClr val="b49a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 rot="16200000">
            <a:off x="1715040" y="3603600"/>
            <a:ext cx="1944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bdace6"/>
              </a:gs>
              <a:gs pos="100000">
                <a:srgbClr val="8e81a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 rot="16200000">
            <a:off x="1972080" y="3032640"/>
            <a:ext cx="3087360" cy="46692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4abc6"/>
              </a:gs>
              <a:gs pos="100000">
                <a:srgbClr val="5780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384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444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2560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82760" y="48909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46720" y="3946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46640" y="344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8480" y="2975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74120" y="18320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</a:rPr>
              <a:t>Diagram</a:t>
            </a:r>
            <a:endParaRPr b="1" i="1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1890720"/>
            <a:ext cx="6653160" cy="11444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37b9e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22200" y="3481560"/>
            <a:ext cx="6653520" cy="1019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230480" y="499752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b5414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3920" y="2811240"/>
            <a:ext cx="6397560" cy="661680"/>
          </a:xfrm>
          <a:custGeom>
            <a:avLst/>
            <a:gdLst>
              <a:gd name="textAreaLeft" fmla="*/ 1145520 w 6397560"/>
              <a:gd name="textAreaRight" fmla="*/ 5252040 w 6397560"/>
              <a:gd name="textAreaTop" fmla="*/ 118440 h 661680"/>
              <a:gd name="textAreaBottom" fmla="*/ 543240 h 66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8f038f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7080" y="1218240"/>
            <a:ext cx="6502320" cy="664920"/>
          </a:xfrm>
          <a:custGeom>
            <a:avLst/>
            <a:gdLst>
              <a:gd name="textAreaLeft" fmla="*/ 1164240 w 6502320"/>
              <a:gd name="textAreaRight" fmla="*/ 5338080 w 650232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349280" y="4329720"/>
            <a:ext cx="6475680" cy="664920"/>
          </a:xfrm>
          <a:custGeom>
            <a:avLst/>
            <a:gdLst>
              <a:gd name="textAreaLeft" fmla="*/ 1159560 w 6475680"/>
              <a:gd name="textAreaRight" fmla="*/ 5316120 w 6475680"/>
              <a:gd name="textAreaTop" fmla="*/ 118800 h 664920"/>
              <a:gd name="textAreaBottom" fmla="*/ 54612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787" y="21600"/>
                </a:lnTo>
                <a:lnTo>
                  <a:pt x="3813" y="21600"/>
                </a:lnTo>
                <a:close/>
              </a:path>
            </a:pathLst>
          </a:custGeom>
          <a:gradFill rotWithShape="0">
            <a:gsLst>
              <a:gs pos="0">
                <a:srgbClr val="f77a1d">
                  <a:alpha val="40000"/>
                </a:srgbClr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276200" y="1933560"/>
            <a:ext cx="675000" cy="5745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1273320" y="352728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1278000" y="503856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06400" y="16635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4ab1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06400" y="327348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8f0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06400" y="47750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77a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30440" y="227340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30440" y="3809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630440" y="528804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087640" y="16635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ab1e4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087640" y="32828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038f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87640" y="47862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7a1d"/>
                </a:solidFill>
                <a:latin typeface="Arial"/>
              </a:rPr>
              <a:t>Description of the company’s sub content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07:59:33Z</dcterms:created>
  <dc:creator>www.themegallery.com</dc:creator>
  <dc:description/>
  <dc:language>en-US</dc:language>
  <cp:lastModifiedBy>Data_eng</cp:lastModifiedBy>
  <dcterms:modified xsi:type="dcterms:W3CDTF">2007-02-26T07:01:16Z</dcterms:modified>
  <cp:revision>15</cp:revision>
  <dc:subject/>
  <dc:title>ThemeGallery PowerTemplate</dc:title>
</cp:coreProperties>
</file>