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5FD3-AE12-4298-B7B8-B7C3AC623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8CCEE-3464-4A08-948A-EBD0E757A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72F5-DCE3-412D-964A-012A92A39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7202-36D0-4FD9-B256-00160A805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EBC4-0032-4A52-B963-3AAA29513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FCDF-A673-4862-A126-1D0E09BEE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CFBB-0C56-4E97-9B7D-1C7042ACF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9A94-15B5-4C5F-B7BF-3EA3DAA4B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369C-5502-41D3-9198-77E7F54A2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0D57-6616-40C8-8C6B-37DB6A44B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394B-18CA-4A2D-8E38-8DC08D37A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919B-B216-4C15-8B57-DAD54DE03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4098960" y="6509880"/>
            <a:ext cx="982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DD84-59AD-40AC-B9D2-256FD1C6FE39}" type="slidenum">
              <a:rPr b="0" lang="en-US" sz="8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-9360" y="0"/>
            <a:ext cx="9181800" cy="6891480"/>
          </a:xfrm>
          <a:custGeom>
            <a:avLst/>
            <a:gdLst/>
            <a:ahLst/>
            <a:rect l="l" t="t" r="r" b="b"/>
            <a:pathLst>
              <a:path w="5784" h="4341">
                <a:moveTo>
                  <a:pt x="6" y="0"/>
                </a:moveTo>
                <a:lnTo>
                  <a:pt x="0" y="2941"/>
                </a:lnTo>
                <a:cubicBezTo>
                  <a:pt x="1122" y="3547"/>
                  <a:pt x="4681" y="4341"/>
                  <a:pt x="5784" y="4171"/>
                </a:cubicBezTo>
                <a:lnTo>
                  <a:pt x="5761" y="2"/>
                </a:lnTo>
                <a:lnTo>
                  <a:pt x="6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5950080"/>
            <a:ext cx="3924360" cy="67608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611280" y="5516640"/>
            <a:ext cx="8550360" cy="89856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2843280" y="5950080"/>
            <a:ext cx="6327720" cy="62064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>
            <a:hlinkClick r:id="rId3"/>
          </p:cNvPr>
          <p:cNvSpPr/>
          <p:nvPr/>
        </p:nvSpPr>
        <p:spPr>
          <a:xfrm>
            <a:off x="42480" y="6523200"/>
            <a:ext cx="2129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969696"/>
                </a:solidFill>
                <a:latin typeface="굴림"/>
              </a:rPr>
              <a:t>Copyright © by ARTCOM PT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>
            <a:hlinkClick r:id="rId4"/>
          </p:cNvPr>
          <p:cNvSpPr/>
          <p:nvPr/>
        </p:nvSpPr>
        <p:spPr>
          <a:xfrm>
            <a:off x="7496280" y="6599160"/>
            <a:ext cx="16761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969696"/>
                </a:solidFill>
                <a:latin typeface="Times New Roman"/>
              </a:rPr>
              <a:t>www.art-com.co.k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-9360" y="6553080"/>
            <a:ext cx="91440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6134040" y="492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51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rt-com.co.kr/online/ppt_gallery_1.htm" TargetMode="External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360" y="1989000"/>
            <a:ext cx="9162720" cy="487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9360" y="0"/>
            <a:ext cx="9162720" cy="4033800"/>
          </a:xfrm>
          <a:custGeom>
            <a:avLst/>
            <a:gdLst/>
            <a:ahLst/>
            <a:rect l="l" t="t" r="r" b="b"/>
            <a:pathLst>
              <a:path w="5772" h="2541">
                <a:moveTo>
                  <a:pt x="0" y="0"/>
                </a:moveTo>
                <a:lnTo>
                  <a:pt x="6" y="1272"/>
                </a:lnTo>
                <a:cubicBezTo>
                  <a:pt x="517" y="1666"/>
                  <a:pt x="2103" y="2282"/>
                  <a:pt x="3064" y="2364"/>
                </a:cubicBezTo>
                <a:cubicBezTo>
                  <a:pt x="4702" y="2541"/>
                  <a:pt x="5251" y="2003"/>
                  <a:pt x="5772" y="1762"/>
                </a:cubicBezTo>
                <a:lnTo>
                  <a:pt x="5755" y="1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-36360" y="3429000"/>
            <a:ext cx="3460680" cy="666720"/>
          </a:xfrm>
          <a:custGeom>
            <a:avLst/>
            <a:gdLst/>
            <a:ahLst/>
            <a:rect l="l" t="t" r="r" b="b"/>
            <a:pathLst>
              <a:path w="2180" h="420">
                <a:moveTo>
                  <a:pt x="2178" y="240"/>
                </a:moveTo>
                <a:cubicBezTo>
                  <a:pt x="2180" y="264"/>
                  <a:pt x="1614" y="420"/>
                  <a:pt x="1314" y="420"/>
                </a:cubicBezTo>
                <a:cubicBezTo>
                  <a:pt x="1002" y="414"/>
                  <a:pt x="1004" y="408"/>
                  <a:pt x="714" y="378"/>
                </a:cubicBezTo>
                <a:cubicBezTo>
                  <a:pt x="424" y="349"/>
                  <a:pt x="15" y="305"/>
                  <a:pt x="6" y="313"/>
                </a:cubicBezTo>
                <a:lnTo>
                  <a:pt x="0" y="41"/>
                </a:lnTo>
                <a:cubicBezTo>
                  <a:pt x="86" y="0"/>
                  <a:pt x="378" y="42"/>
                  <a:pt x="522" y="66"/>
                </a:cubicBezTo>
                <a:cubicBezTo>
                  <a:pt x="803" y="111"/>
                  <a:pt x="1116" y="250"/>
                  <a:pt x="1374" y="276"/>
                </a:cubicBezTo>
                <a:cubicBezTo>
                  <a:pt x="1692" y="300"/>
                  <a:pt x="1968" y="294"/>
                  <a:pt x="2178" y="240"/>
                </a:cubicBezTo>
                <a:close/>
              </a:path>
            </a:pathLst>
          </a:custGeom>
          <a:solidFill>
            <a:srgbClr val="ff0066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08000" y="2790720"/>
            <a:ext cx="9053640" cy="1224000"/>
          </a:xfrm>
          <a:custGeom>
            <a:avLst/>
            <a:gdLst/>
            <a:ahLst/>
            <a:rect l="l" t="t" r="r" b="b"/>
            <a:pathLst>
              <a:path w="5703" h="874">
                <a:moveTo>
                  <a:pt x="10" y="462"/>
                </a:moveTo>
                <a:cubicBezTo>
                  <a:pt x="0" y="417"/>
                  <a:pt x="666" y="208"/>
                  <a:pt x="1336" y="193"/>
                </a:cubicBezTo>
                <a:cubicBezTo>
                  <a:pt x="2139" y="157"/>
                  <a:pt x="2901" y="380"/>
                  <a:pt x="3628" y="348"/>
                </a:cubicBezTo>
                <a:cubicBezTo>
                  <a:pt x="4355" y="316"/>
                  <a:pt x="5674" y="18"/>
                  <a:pt x="5698" y="0"/>
                </a:cubicBezTo>
                <a:lnTo>
                  <a:pt x="5703" y="644"/>
                </a:lnTo>
                <a:cubicBezTo>
                  <a:pt x="5306" y="784"/>
                  <a:pt x="4051" y="874"/>
                  <a:pt x="3315" y="839"/>
                </a:cubicBezTo>
                <a:cubicBezTo>
                  <a:pt x="2107" y="712"/>
                  <a:pt x="2132" y="520"/>
                  <a:pt x="1285" y="436"/>
                </a:cubicBezTo>
                <a:cubicBezTo>
                  <a:pt x="557" y="362"/>
                  <a:pt x="117" y="451"/>
                  <a:pt x="10" y="462"/>
                </a:cubicBezTo>
                <a:close/>
              </a:path>
            </a:pathLst>
          </a:custGeom>
          <a:solidFill>
            <a:srgbClr val="bd8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1974960" y="3392640"/>
            <a:ext cx="7196040" cy="1207800"/>
          </a:xfrm>
          <a:custGeom>
            <a:avLst/>
            <a:gdLst/>
            <a:ahLst/>
            <a:rect l="l" t="t" r="r" b="b"/>
            <a:pathLst>
              <a:path w="4533" h="761">
                <a:moveTo>
                  <a:pt x="5" y="247"/>
                </a:moveTo>
                <a:cubicBezTo>
                  <a:pt x="0" y="214"/>
                  <a:pt x="581" y="0"/>
                  <a:pt x="1089" y="38"/>
                </a:cubicBezTo>
                <a:cubicBezTo>
                  <a:pt x="1700" y="71"/>
                  <a:pt x="2138" y="141"/>
                  <a:pt x="2731" y="184"/>
                </a:cubicBezTo>
                <a:cubicBezTo>
                  <a:pt x="3324" y="226"/>
                  <a:pt x="4514" y="79"/>
                  <a:pt x="4533" y="68"/>
                </a:cubicBezTo>
                <a:lnTo>
                  <a:pt x="4516" y="669"/>
                </a:lnTo>
                <a:cubicBezTo>
                  <a:pt x="4172" y="761"/>
                  <a:pt x="3088" y="728"/>
                  <a:pt x="2469" y="623"/>
                </a:cubicBezTo>
                <a:cubicBezTo>
                  <a:pt x="1562" y="443"/>
                  <a:pt x="1597" y="387"/>
                  <a:pt x="1075" y="241"/>
                </a:cubicBezTo>
                <a:cubicBezTo>
                  <a:pt x="534" y="97"/>
                  <a:pt x="73" y="241"/>
                  <a:pt x="5" y="247"/>
                </a:cubicBezTo>
                <a:close/>
              </a:path>
            </a:pathLst>
          </a:custGeom>
          <a:solidFill>
            <a:srgbClr val="ff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781440" y="3300480"/>
            <a:ext cx="5389560" cy="776160"/>
          </a:xfrm>
          <a:custGeom>
            <a:avLst/>
            <a:gdLst/>
            <a:ahLst/>
            <a:rect l="l" t="t" r="r" b="b"/>
            <a:pathLst>
              <a:path w="3395" h="489">
                <a:moveTo>
                  <a:pt x="3" y="256"/>
                </a:moveTo>
                <a:cubicBezTo>
                  <a:pt x="0" y="287"/>
                  <a:pt x="882" y="489"/>
                  <a:pt x="1350" y="489"/>
                </a:cubicBezTo>
                <a:cubicBezTo>
                  <a:pt x="1837" y="481"/>
                  <a:pt x="1834" y="473"/>
                  <a:pt x="2286" y="435"/>
                </a:cubicBezTo>
                <a:cubicBezTo>
                  <a:pt x="2738" y="397"/>
                  <a:pt x="3376" y="340"/>
                  <a:pt x="3390" y="350"/>
                </a:cubicBezTo>
                <a:lnTo>
                  <a:pt x="3395" y="8"/>
                </a:lnTo>
                <a:cubicBezTo>
                  <a:pt x="3040" y="0"/>
                  <a:pt x="1822" y="261"/>
                  <a:pt x="1257" y="302"/>
                </a:cubicBezTo>
                <a:cubicBezTo>
                  <a:pt x="761" y="334"/>
                  <a:pt x="331" y="326"/>
                  <a:pt x="3" y="256"/>
                </a:cubicBezTo>
                <a:close/>
              </a:path>
            </a:pathLst>
          </a:cu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6310440"/>
            <a:ext cx="1851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80808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997440" y="4556160"/>
            <a:ext cx="11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200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9</a:t>
            </a:r>
            <a:r>
              <a:rPr b="0" lang="ko-KR" sz="2400" spc="-1" strike="noStrike">
                <a:solidFill>
                  <a:srgbClr val="c0c0c0"/>
                </a:solidFill>
                <a:latin typeface="Times New Roman"/>
              </a:rPr>
              <a:t>.0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>
            <a:hlinkClick r:id="rId2"/>
          </p:cNvPr>
          <p:cNvSpPr/>
          <p:nvPr/>
        </p:nvSpPr>
        <p:spPr>
          <a:xfrm>
            <a:off x="2921040" y="4235400"/>
            <a:ext cx="3301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Times New Roman"/>
              </a:rPr>
              <a:t>Homep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3511440" y="6543720"/>
            <a:ext cx="2152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굴림"/>
              </a:rPr>
              <a:t>Copyright ©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2349360"/>
            <a:ext cx="6310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werPoint Templat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7102-0AE6-4C87-AFC0-76D0CF24FD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78560" y="28728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HY헤드라인M"/>
                <a:ea typeface="HY헤드라인M"/>
              </a:rPr>
              <a:t>PowerPoint Template_Sub</a:t>
            </a:r>
            <a:r>
              <a:rPr b="1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-9360" y="797040"/>
            <a:ext cx="915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5617-61BF-42D6-8661-6CDC2DEC5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2:37:18Z</dcterms:created>
  <dc:creator>ARTCOM PT</dc:creator>
  <dc:description>본 디자인은 ARTCOM PT연구소에 저작권이 있습니다. </dc:description>
  <dc:language>en-US</dc:language>
  <cp:lastModifiedBy>雨林木风</cp:lastModifiedBy>
  <dcterms:modified xsi:type="dcterms:W3CDTF">2009-11-30T09:37:25Z</dcterms:modified>
  <cp:revision>13</cp:revision>
  <dc:subject/>
  <dc:title>슬라이드 1</dc:title>
</cp:coreProperties>
</file>