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E91-1DDD-481E-8651-03672138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BA3-EFA6-4EBE-8319-F7159CE8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E1B-9772-48CD-8137-3964C9B4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5FE-7F74-4E1A-88E4-2E6DEE83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755-8E60-4F2C-9821-86F91921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CEB-10A2-40C6-B618-C5B52887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E63-C129-4464-8A54-EF037516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3C7-12D9-4FC9-B949-3E82D28B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D5C-23B3-498F-8608-B13EAE4F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3B1-26E6-4DE4-8A9E-35201938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140-8760-4A34-9BF7-0AF2F5FC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B37-B62F-4A16-AACA-579CEE0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1E33-7300-4826-9ECD-67E899FF9EE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9720" y="528480"/>
            <a:ext cx="79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ke sure of your SD card capacity, this software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 SD 150X s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4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1:48:55Z</dcterms:created>
  <dc:creator>abassi.tseng</dc:creator>
  <dc:description/>
  <dc:language>en-US</dc:language>
  <cp:lastModifiedBy>tiger_chang</cp:lastModifiedBy>
  <dcterms:modified xsi:type="dcterms:W3CDTF">2005-09-29T09:17:04Z</dcterms:modified>
  <cp:revision>3</cp:revision>
  <dc:subject/>
  <dc:title>PowerPoint 簡報</dc:title>
</cp:coreProperties>
</file>