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B47-8680-4AD8-8450-C9C7C491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620-3687-4B89-94DD-7F751151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C66A9-0AD4-4458-B9ED-2506EEA3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FB64-585D-4F1C-A454-CB3C187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BDE47-FD23-482F-BD09-7CFDB63F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405A4-A942-4585-9E45-E4A0F64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15B65-4826-426C-BA1C-03D54396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048E3-8014-4642-928C-3EF4BF1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75BE-079D-4565-8964-25CDCA0D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B9ED4-28E4-4666-AE1E-D6E8D768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362BB-ACB1-4862-B267-67F6DE92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9CB37-8D29-4908-BDDE-426CB37D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5E7-4808-4C39-97EC-6EDE6BFE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C39D6-E02A-401A-8D31-B79B5471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C776A-41C5-4346-9CD8-B4FCEA2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C4E03-AA20-42B9-A0EC-10F70A98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8E2FA-552E-40C5-A81F-3651FDD9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85968-3303-4413-BAEA-D8929EFC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CBF17-D10D-4969-A999-A9A2E8CD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681AF-8790-41BE-8320-2E0DBCC3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48D18-9C30-40E1-BF97-41506EA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97A64-9B57-4C75-B772-816CD936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2F3D1-BB11-4E74-B624-E76CFC72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21B-20A3-419B-AD33-DB66AC12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9D1D6-F8D3-4F09-B09F-F8CC11C4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F2C4B6-1C08-4F3B-9BAE-3D4D04B9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189F93-2ADB-4A0A-BD3C-3D8956E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50F822-4D67-4164-B7B4-B8692380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C762D2-FB02-45B1-A203-DEB801AD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0DF0AA-2651-461B-B469-B3F5EA2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7B6AA9-376E-496A-8D9C-A494C8D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87B82A-C9A7-4080-B597-28691F3D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BF510B-1A95-4EC1-A31B-BF43E0F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9609E1-E1E2-49CC-A97F-2CC9155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A678-D9BA-469E-AA79-C8F4526A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76B027-1CBF-4F92-A652-EBF219D1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EA9C8B-56C9-4641-8CB4-F43909DA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CD1CAE-2A16-43E6-9A68-C276BC20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A790E-16ED-4820-BA0A-2F31793C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67E7C-76D0-4C9F-B0F3-C339697A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BD18A-011D-4EE6-8FD5-D74AD091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F6A1F-2D33-4651-B895-5C834771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60E7D-998C-44A4-91C8-2E1678BB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448D8-8AE5-4D59-BAB6-02990958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3E7C4-F447-4330-BBE2-181ADA6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6AF9-D4F1-4D9B-87B0-15BD0A37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246D0-E46D-4FB8-9087-1BCFF6C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53744-844D-4447-945C-5A113DD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B6803-E440-4D68-820A-FE7CDBC3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C9909-BC35-416A-8416-122641C4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A1F03-2BE6-40A7-92FA-7A2C0644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4A16E-E7BE-41A4-B718-69F2A61F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D0920-041D-4756-908B-38C916D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DCCC9-9236-4EF0-9E03-771CBB0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0DD61-8E99-47FF-B32D-B711ABEC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5331E-AEBB-48BF-946B-0D06A6C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29B1-5385-47B0-A8BE-7771E4DB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D92E5-56CF-4095-9A78-6EF2BBF3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A78FD-B8C7-4925-ADDA-AF9C8785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EBC7C-F715-4699-8A24-453B3272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2EF43-0ABE-44CB-9F84-C431794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E0A73-7A97-4ED7-81BB-436903A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CEE0F-FBA7-4513-9671-6D11AD34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B31D9-55BB-4A6B-8E7D-0630DAB5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06168-3E6F-4823-AAB9-DC4F5281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84CE9-8373-4175-B8AA-603AD2A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B1F16-8B3D-4A55-8FE5-B2681419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6F2F-30DB-4C19-9064-0E2DD42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15A52-1113-43B6-AA24-84241C2C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04D35-51FA-4815-BCA2-4C91485A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6A125-F00B-4FF9-8EFD-9A36A508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DE584-F793-4257-992A-FECF64F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2EE0B-B76A-41FD-8742-1FBBFFA2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4417A-4374-4878-937F-CE39AFCD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3CD2B-53D6-41DC-9568-1545C0CB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E1C47-47E7-4861-A9F5-F7BC7D22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3CC6B-D17D-499C-A98C-FD315660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135A4-0AE3-4D53-A8D8-76876E8F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1D61-0BF5-4AF2-9A36-A36A5D6C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5444E-7360-44D2-8781-D4890569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18C59-8410-4F00-991D-5D5A8B9C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9FF82-B108-47D1-8549-AAAC3436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19A7D-E6A8-4A4B-A8EA-5C837E0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88BA9-F5CF-457F-BC07-9F7D459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FC9E1-AA0A-4A4B-9965-4EA4412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6ED89-A8FC-4386-AE9E-0841DEB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3AF71-A36D-417D-BE14-4C15084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27AED-339B-4C7F-B3FD-B169574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91593-FE22-400A-828B-7E97DE5C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F7E-0E73-4CD4-93FD-8F71E62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13459-716A-4BF6-B0D9-E4598451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3C683-C87D-421C-AB62-869EDD6C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44C05-E425-47DB-964F-453D72C8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0811E-7519-49FB-BBA4-005A229C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2CB9F-E8E7-454E-B063-70B69FDC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DD220-50DA-42EC-B96D-7E3938FA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0D326-578F-40F6-A220-52241A3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98A2D-A1C8-42E6-ACB9-9893AED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A7EAA-5A22-4779-8EA1-9DC6FF5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DA841-699F-4124-9107-A2E0AB1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01DC-D5AD-43DC-B5B7-2759864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5AE9A-441D-44F3-BEFB-F7FCB910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B9D6A-63C0-4410-BCD1-4E2E1480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D3962-52C3-4FE5-A8CB-97D28604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627E7-FC85-4C65-8B80-80089E92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3650B-8970-4C4B-8DEF-A56211E7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DED1C-2B16-43BB-B8C9-C6B7D5E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AAA7D-99D0-4C9A-8542-69122AC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93949-1C63-45FF-B61C-FC3D5E6A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0731A-3FAB-4469-A123-9CF01028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2C3D4-680D-4D2F-B572-5E0EE19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8F8-786E-4290-9B80-0D60F5AB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8809-CCFB-461A-9BE6-66FD199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84F5D-E057-4A6A-A7E7-F77CE43C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D4928-0794-4DE5-929A-404B473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84732-4F4A-4929-BE27-86F5138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0FD41-4DBC-4899-946B-7CACB380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2988D-937F-4161-BC8E-D1F37CE0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C9DA1-8A84-4DEA-846D-24D0452E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9550B-BA4B-45C7-9337-82B723F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DBB19-97EF-4F33-98DF-36C601C2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B030E-E2FB-49A1-A4C9-7CDB6946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E3B06-FA1A-4160-A662-48C2C622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80DB-0CA7-479B-902A-303CEA1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99713-ACBF-4490-ACC3-D2545C24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82937-17F9-4DFD-99A3-1C0D94D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922A9-A659-40CA-B52C-4049D1A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63EAE-DC6A-48CE-AF73-A2C8D82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74E5B-FF2B-4C63-8624-CE29CCEF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15AB9-1E42-41F6-BF93-269C6F8B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226E9-786B-4183-988D-2CC4C925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2A3A5B-9F8C-4063-894B-D9AA4323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7265FE-1179-439C-A45C-C7D184A1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C60A29-4147-4116-86EF-8F64114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D528-6106-456A-9752-AE0BBCEF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424712-2EE1-40EF-9EFA-DD35CA16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5692F9-BEAD-47B4-BEAC-0E9CD6DB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B8E369-DB8C-443B-9423-D50BAFA6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19CDFB-53E0-4589-B26D-5BF6F8E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1901BE-2BB1-4BAE-8B1C-10ADF6C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27D224-DD79-4347-9DD6-386CB450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D104A6-076C-4525-AD2D-426D7D5D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943268-B3E3-4C1A-ABA7-829B7EAB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6FE9A2-0928-4F71-B945-1130A5E0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B4E98-86B4-4649-B695-7E3FE944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CEDC-1E0C-4E87-9A1A-C356ECB1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35A02-D350-4BC5-B7F0-6F1E01FF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CD13E-6323-4BEB-9641-228215AC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F0600-DB59-4947-AE0C-4B453236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72D43-ABA1-4525-AAC7-1485FE6C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692BD9-092D-4F6B-86D5-FF485CDD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53339-4A95-465B-8379-06CE510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8B794-3F4D-469E-AED6-1F27D0D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7CB57-7961-4666-B8BE-CD10F36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C6060-BD4D-4FE7-B664-9A70F71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BC077-1C95-48CB-9B46-6BD94586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B9CE-C44A-464E-AF4B-730E70BB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0FA77-9A7A-45EE-825C-032E0686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95B5DF-F0ED-4263-B4E8-F132C22A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B45376-F340-40C0-9CB8-1295546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40CEA-E654-4419-92D3-5EB21961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9600C-62D6-4974-880C-0910411C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62DB5-E8BA-42DB-ABF8-33538877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6E9FD-5362-469E-BD42-FDCD185E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E0506-9EF5-46B0-BAD4-9BD3901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603E06-C799-4B43-8EE5-E9FF0ED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96EE3-CD3C-4512-B6B3-C7720AB5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DAC0-8CFC-4B15-8B14-69741297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28FB5-21C9-4C07-9AF2-E955BB7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AA1D3-BE20-4506-9842-C551CFD3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320D2-89E3-4F4C-9335-C2A9133C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1396E-3784-4877-B163-72AE51CE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B75A0B-0351-403E-8A40-EBBDF42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7034E-2131-47FE-A065-3EA65565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E8088-F6FA-4A53-927B-39CEFE98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3705F-4CA7-41EA-916D-B56C51F4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269F4-E2AA-4144-AFC7-2635FAD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A2653-A24D-42C8-A87C-9AB0E86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8B94-8C24-40DB-880E-9067D328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0CFC6D-C08F-4B7B-A05D-1AA690B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6C03C-A258-4895-B63D-408E80C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B4C04B-3752-4F9E-891C-6534E73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A10114-E1C3-47B4-8759-FCA957A7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3DBEBD-23CA-4793-A3F8-C62D49F7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ECFA3D-7BF8-4626-8DF8-2646B7CD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5C3794-2D56-42DE-A9DD-E5F73B2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4A7E832-3726-4E6D-85F1-81981431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A0DDC8-52DF-4CFC-A4F7-8F3D857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3E1834-973B-4FA7-A601-5DD9F8A9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F27D-5159-4DA6-82E0-7696E6BB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32E760-4489-4439-96EF-5071CEC2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1B28B9-1E0E-467B-A557-C09E8B5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CDECEA-B727-40DB-9150-9FF93C8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E5CDB1-26D2-4328-A1FE-01943D70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47D4776-72E3-4186-B8B2-5CD4BE6A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B16FCD-6027-47B3-9DC5-C065989B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B7B132-95D3-46A3-BBA6-E6525BE4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546B7A-2F49-45E9-88B9-711203E5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069D77-4ED8-49E5-A0AF-8332A0B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8F3687-CCFA-4AFC-99F2-CFF68BF6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DD7F-6EA2-4A44-A43A-8D76AEA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7EE84C-12AB-455F-AA46-5AF6CF03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F1A38B-9025-4D43-8D4A-915177B4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48237E-3ABC-4D93-AE5A-F34DB37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BE0282-3A8F-496F-BBD5-074B97A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29519-8EB3-414A-A6A2-58FC647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7B77BA-BF97-4736-86FA-1BA45A5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CDB47C-0753-4EF8-A179-F6539570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9C3D0F-3625-4557-9627-5483949E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568889-E13A-48CF-AC7C-E9FAFAE1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8FE9-FF2B-44A2-8CA0-A94217F2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961-D843-45F5-B673-57D51141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1FF1-0A46-4442-B251-B7C4008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42A0-BBD7-4237-814F-2102C35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035D-2639-4491-B10B-50AFE40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0985-B44D-404F-9839-D0B0917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3A43-A08E-4321-81E9-1DFE3FF1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6D44-5AE9-4B74-99C2-7E49C849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4299-EF62-45DC-9D81-0BCB55FC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34C2-E9A1-4FE0-ADC0-91CFE37A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D6A0-76BC-4236-A4BE-11A09CF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DFEF-925A-494D-9A01-AB2843E2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F73-2D0A-4AD0-9671-9BE501BE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7237-7531-48A3-A974-76D30DFA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CC4B-8E48-4283-932F-E07B729E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DC40-4F45-4E8D-933A-289B2816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C51B-BE81-4914-9386-94A928D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2A58-60B2-4AF1-AD75-A1257F5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3E84-2344-46F1-815A-1AF30876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D384-393D-4734-9422-B1CB3CFE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B185-0265-4F0A-B858-C5A82F47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3D5C-6B39-48AB-A8F3-C6BED8F1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75F30-0BA0-4D8D-92DB-F5DBAB4D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18B-69D5-44C1-9370-3B0AA54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9F4F-8771-4E4C-942F-A40BE56B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0D3A8-E322-419B-B988-6C16464F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9BA64-926B-45FA-A72F-E6B81D29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6C0C-149B-47BC-8C25-223F6BEA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9100-7121-45B0-9256-099100AE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731D7-1F21-4D41-8287-00EFF94D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1C7F-E0DD-4388-A469-0191FF3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BEF9D-4E08-42B3-B0EF-ABD3DEE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B9C3-A207-435B-BFDE-5FF6D79E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8FD4-3C32-4FE9-8ECE-67FC452B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D73-8C4D-4D2F-BE5C-2F124CA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2B60-AEA8-4F99-B0AD-500D3E35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883C0-AD94-4A85-B4CC-D891350D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66DBC-65C7-4F7D-8C80-6516FD97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A6BDF-40C9-4312-BB67-E08F6A4E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333CA-D32F-460C-97DD-C6923F4C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E7FB4-F753-41C8-B571-D6E464B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C7A6F-B090-4567-BE29-93428333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A94EF8-C399-4971-A38F-D5BC9F3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90646-D39B-4255-9CF0-99E35D80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8AB44-33B9-4EFE-8857-55ECAAD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F7A-E1B7-420E-8E19-8922EAC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BE443-F5FA-427F-94DB-E930839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AA975-D2C3-4B27-B1F0-D6CF4F42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9CD58-F1E6-4012-823B-DD211ABD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1CC2-394C-4912-9435-7A44595B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45C19-EB02-4F2E-8E82-FEA78B68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8B877-6929-434A-8311-BBD5B24C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4018-3FFC-44A6-945B-8C40B3FD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AC072-71D8-4CCB-9C15-DA7E6344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AC593-57A7-48F6-A2AE-74A44FF8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FBEE5-9532-49F3-844A-AC22CDA7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D22-ABBA-4F2D-8885-C857552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577F-616F-4DB9-9E04-C547467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3EF83-05EC-4323-BBEF-50C0DAA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B9A8-8B4C-4EBF-AE05-9C98F8E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F3B81-7A2A-4B7F-AA98-5E437345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AC4D-C349-4943-8C95-70DD58BF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E357-D0BE-4011-9F69-CA2D7A84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5F634-D1D4-4A2E-95AE-CB2BC455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4090-6D06-45A0-90B3-24175DE7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43B9-84F5-43D2-831D-544501B3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18188-893B-4FCE-84B6-58EDC745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27C-1FF9-43B3-9A75-25A8C85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30C50-E880-4C8B-A2D9-7E5BE249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E26A6-E316-4F5F-BAC9-18BCE3E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E888F-DFCE-452F-93C3-8867FAC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3CA6F-452B-40D0-8781-2A85AC0D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70B80-55C5-41D6-ABBD-C8A4FFA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395BE-0504-48A3-87DF-C63DD272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D1B9-B058-4D0E-BBA3-E4FFD65C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CB63C-379A-4B0C-BE0E-C2C20C65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0D597-053C-4C7E-86C6-7B71DEA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45A55-8EC5-4351-A101-0C111829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29B6-6171-4F15-9447-C50A79C2842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63C6-3A59-4655-B043-A73BEABB88B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1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C787-826C-4D70-BE70-B0E821C035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7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5501-C7DA-48AF-A179-721804D74F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2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2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3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3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4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BCF3-0311-4559-8EAD-D188C6676077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20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20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20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3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3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4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5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25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25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25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6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7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7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9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9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0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30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30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1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2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DBD0-CCAE-443B-B646-B62B9B43EB43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4E7-ED4F-4B69-9C79-9528E85895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129B-BBD6-4262-96C1-407CEA639E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7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F75-A79C-4FBC-BEDA-71B4D568BA5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5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4" name="PlaceHolder 1"/>
          <p:cNvSpPr>
            <a:spLocks noGrp="1"/>
          </p:cNvSpPr>
          <p:nvPr>
            <p:ph type="dt" idx="5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ftr" idx="5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5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D74-1223-4952-9A72-DEE14E38B9ED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C32-D6FB-4502-B77A-C333BAF9763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2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2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8B68-4344-4151-AB3D-83103EC4D8F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7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7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0265-83B5-40E1-A6AF-34BDD4F172D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2F60-D531-4197-AA56-54FB4875C8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dt" idx="6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A6F9-A178-45E5-BC1D-BE967AA017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CD40-6C0F-42EA-B403-D7111DD7F13C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6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3AB-21D0-45D6-AC14-C0467C9E4546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2BF4-C416-434B-B22D-07A46CD464B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235-339B-4270-817D-283B2D6A73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3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BEBB-AB3D-47B6-B573-30621B35DFC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1124-6FA8-4882-8412-F39811AA2E4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2E50-0109-49CB-ABF9-7A5A8EE499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2D0-56B8-4D63-A65E-E22E3D3E3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7CB4-0CC8-4F9D-B50A-A5FB03181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diary.51.com/item/92627171/diary/10054572.html" TargetMode="External"/><Relationship Id="rId3" Type="http://schemas.openxmlformats.org/officeDocument/2006/relationships/hyperlink" Target="http://home.51.com/?_sid=homek" TargetMode="External"/><Relationship Id="rId4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"/>
          <p:cNvSpPr txBox="1"/>
          <p:nvPr/>
        </p:nvSpPr>
        <p:spPr>
          <a:xfrm>
            <a:off x="1447920" y="1219320"/>
            <a:ext cx="60195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石膏固定的护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6400800" y="54864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宋体"/>
              </a:rPr>
              <a:t>骨科课件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bbd71"/>
                </a:solidFill>
                <a:latin typeface="Arial"/>
              </a:rPr>
              <a:t>使用方法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根据不同部位，选用相应的规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打开包装，取出夹板，在常温水中浸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秒并挤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次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取出后挤去或用干毛巾除去多余水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把夹板覆盖在需要固定的部位，用绷带缠绕即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．根据需要进行塑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石膏固定护理常规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 、 石膏固定前护理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 、 石膏固定后护理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一 、 石膏固定前护理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 了解病人思想情况，做好心理护理，说明石膏固定的理由，以取得病人及家属的配合。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 清洁患肢或躯干，有伤口者先换药。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 过床或搬运病人时，先固定好肢体，搬动时动作要轻稳。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 做髋部人字形石膏者，术前一般服轻泻剂或灌肠一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5" name=""/>
          <p:cNvGrpSpPr/>
          <p:nvPr/>
        </p:nvGrpSpPr>
        <p:grpSpPr>
          <a:xfrm>
            <a:off x="304920" y="1601640"/>
            <a:ext cx="8533440" cy="4494600"/>
            <a:chOff x="304920" y="1601640"/>
            <a:chExt cx="8533440" cy="4494600"/>
          </a:xfrm>
        </p:grpSpPr>
        <p:cxnSp>
          <p:nvCxnSpPr>
            <p:cNvPr id="1966" name="_s96270"/>
            <p:cNvCxnSpPr>
              <a:stCxn id="1967" idx="0"/>
              <a:endCxn id="1968" idx="2"/>
            </p:cNvCxnSpPr>
            <p:nvPr/>
          </p:nvCxnSpPr>
          <p:spPr>
            <a:xfrm flipV="1" rot="16200000">
              <a:off x="5627160" y="2355480"/>
              <a:ext cx="875520" cy="298728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969" name="_s96269"/>
            <p:cNvCxnSpPr>
              <a:stCxn id="1970" idx="0"/>
              <a:endCxn id="1968" idx="2"/>
            </p:cNvCxnSpPr>
            <p:nvPr/>
          </p:nvCxnSpPr>
          <p:spPr>
            <a:xfrm flipV="1">
              <a:off x="4571280" y="3411720"/>
              <a:ext cx="3240" cy="875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971" name="_s96268"/>
            <p:cNvCxnSpPr>
              <a:stCxn id="1972" idx="0"/>
              <a:endCxn id="1968" idx="2"/>
            </p:cNvCxnSpPr>
            <p:nvPr/>
          </p:nvCxnSpPr>
          <p:spPr>
            <a:xfrm flipH="1" flipV="1" rot="5400000">
              <a:off x="2640240" y="2355840"/>
              <a:ext cx="875520" cy="2987280"/>
            </a:xfrm>
            <a:prstGeom prst="bentConnector3">
              <a:avLst>
                <a:gd name="adj1" fmla="val 13122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968" name="_s96264"/>
            <p:cNvSpPr/>
            <p:nvPr/>
          </p:nvSpPr>
          <p:spPr>
            <a:xfrm>
              <a:off x="3291480" y="1601640"/>
              <a:ext cx="2559960" cy="179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ff"/>
                  </a:solidFill>
                  <a:latin typeface="Arial"/>
                </a:rPr>
                <a:t>石膏包扎前护理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_s96265"/>
            <p:cNvSpPr/>
            <p:nvPr/>
          </p:nvSpPr>
          <p:spPr>
            <a:xfrm>
              <a:off x="304920" y="4298400"/>
              <a:ext cx="255996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00ffff"/>
                  </a:solidFill>
                  <a:latin typeface="Arial"/>
                </a:rPr>
                <a:t>、病人的体位</a:t>
              </a:r>
              <a:r>
                <a:rPr b="0" lang="zh-CN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_s96266"/>
            <p:cNvSpPr/>
            <p:nvPr/>
          </p:nvSpPr>
          <p:spPr>
            <a:xfrm>
              <a:off x="3291480" y="4298400"/>
              <a:ext cx="255996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18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00ffff"/>
                  </a:solidFill>
                  <a:latin typeface="Arial"/>
                </a:rPr>
                <a:t>、皮肤的护理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_s96267"/>
            <p:cNvSpPr/>
            <p:nvPr/>
          </p:nvSpPr>
          <p:spPr>
            <a:xfrm>
              <a:off x="6278400" y="4298400"/>
              <a:ext cx="2559960" cy="17978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ffff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ffff"/>
                  </a:solidFill>
                  <a:latin typeface="Arial"/>
                </a:rPr>
                <a:t>、骨突部加衬垫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273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cc3399"/>
                </a:solidFill>
                <a:latin typeface="Arial"/>
              </a:rPr>
              <a:t>二 、 石膏固定后护理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1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、 按骨科一般护理常规护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　　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2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、 上石膏病人睡硬板床，石膏未干固前不能搬运病人，石膏虽干固尚未坚硬时，搬运病人应用手掌平托石膏，防止手指将石膏掐成凹陷变形致压迫软组织形成溃疡或坏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　　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3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、 用胶枕、沙袋均匀垫好肢体，防止变形，清洁暴露肢端，以便观察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　　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4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、 保持室内空气流通以促使石膏干固。夏季可用电吹风吹干，冬季可用烤灯烤干，但应间歇烘烤，每次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20—30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分钟，防止烫伤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　　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5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、 抬高患肢，垫以沙袋、胶枕等支托物，以免肿胀。石膏坚硬后，可鼓励病人活动石膏固定以外的关节和肌肉，指导病人经常在石膏内做肌肉收缩运动及指（趾）关节足背伸屈运动，防止关强直，肌肉萎缩。</a:t>
            </a:r>
            <a:br>
              <a:rPr sz="1800"/>
            </a:br>
            <a:r>
              <a:rPr b="1" lang="zh-CN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　　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6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、 被石膏压迫的隆突部位或肢体的支重部位，应用软枕妥善垫好，保持功能位，防止关节部位的石膏折断。</a:t>
            </a:r>
            <a:br>
              <a:rPr sz="1800"/>
            </a:br>
            <a:r>
              <a:rPr b="1" lang="zh-CN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　　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7 </a:t>
            </a:r>
            <a:r>
              <a:rPr b="1" lang="zh-CN" sz="1800" spc="-1" strike="noStrike">
                <a:solidFill>
                  <a:srgbClr val="99ff66"/>
                </a:solidFill>
                <a:latin typeface="Arial"/>
                <a:ea typeface="新宋体"/>
              </a:rPr>
              <a:t>、 注意观察患肢远端血循环、温度、颜色、肿胀、剧痛、麻木等感觉情况，重视病人主诉，对原因不明的疼痛，应通报医生，按医嘱在石膏上“开窗”观察，检查有无局部受压，勿乱用止痛药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/>
          <p:nvPr/>
        </p:nvSpPr>
        <p:spPr>
          <a:xfrm>
            <a:off x="380880" y="457200"/>
            <a:ext cx="85345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8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 保持石膏清洁干燥、边缘整齐、光滑、不可浸湿，不可与硬物撞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9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 做髋人字石膏固定的病人，要指导大小便方法，放便盆时，用胶垫垫腰部，保持同一水平，患儿可用腰盆，女病人可用尿盆接尿，石膏污染后，要及时清洁；应定时翻身，取側卧或俯卧位，检查尾骶部有无红肿、水泡。防止异物落入石膏内。禁用锐器伸入石膏内搔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 下肢上石膏的病人，下地活动时，需在足部加后跟（木板或铁板），以免损坏石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11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 躯干部上石膏，应注意病人有无呼吸受阻，腹部胀气、恶心呕吐等情况。石膏不能过紧，进食少量多餐，不要过量，防止石膏综合症的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12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 如术后有渗血渗透石膏绷带，用蓝笔画记号，观察是否继续渗血。必要时通报医生剖开石膏处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13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 如遇开放性损伤，体温升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39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度以上，伤口有跳通，肢端肿胀明显，应立即通知医生处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7" name=""/>
          <p:cNvGrpSpPr/>
          <p:nvPr/>
        </p:nvGrpSpPr>
        <p:grpSpPr>
          <a:xfrm>
            <a:off x="532080" y="152280"/>
            <a:ext cx="8611560" cy="6321240"/>
            <a:chOff x="532080" y="152280"/>
            <a:chExt cx="8611560" cy="6321240"/>
          </a:xfrm>
        </p:grpSpPr>
        <p:cxnSp>
          <p:nvCxnSpPr>
            <p:cNvPr id="1978" name="_s98331"/>
            <p:cNvCxnSpPr/>
            <p:nvPr/>
          </p:nvCxnSpPr>
          <p:spPr>
            <a:xfrm flipH="1" flipV="1" rot="5400000">
              <a:off x="5941800" y="3355200"/>
              <a:ext cx="603720" cy="2122200"/>
            </a:xfrm>
            <a:prstGeom prst="bentConnector3">
              <a:avLst>
                <a:gd name="adj1" fmla="val 1915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79" name="_s98329"/>
            <p:cNvCxnSpPr/>
            <p:nvPr/>
          </p:nvCxnSpPr>
          <p:spPr>
            <a:xfrm flipV="1" rot="16200000">
              <a:off x="7119720" y="4307400"/>
              <a:ext cx="603720" cy="217440"/>
            </a:xfrm>
            <a:prstGeom prst="bentConnector3">
              <a:avLst>
                <a:gd name="adj1" fmla="val 1885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80" name="_s98327"/>
            <p:cNvCxnSpPr/>
            <p:nvPr/>
          </p:nvCxnSpPr>
          <p:spPr>
            <a:xfrm flipH="1" flipV="1" rot="5400000">
              <a:off x="4766040" y="2167560"/>
              <a:ext cx="603720" cy="4497480"/>
            </a:xfrm>
            <a:prstGeom prst="bentConnector3">
              <a:avLst>
                <a:gd name="adj1" fmla="val 1915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81" name="_s98325"/>
            <p:cNvCxnSpPr/>
            <p:nvPr/>
          </p:nvCxnSpPr>
          <p:spPr>
            <a:xfrm flipV="1" rot="16200000">
              <a:off x="5577120" y="-21960"/>
              <a:ext cx="1500480" cy="3362760"/>
            </a:xfrm>
            <a:prstGeom prst="bentConnector3">
              <a:avLst>
                <a:gd name="adj1" fmla="val 760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82" name="_s98318"/>
            <p:cNvCxnSpPr/>
            <p:nvPr/>
          </p:nvCxnSpPr>
          <p:spPr>
            <a:xfrm flipV="1" rot="16200000">
              <a:off x="4564440" y="990720"/>
              <a:ext cx="1500480" cy="1337040"/>
            </a:xfrm>
            <a:prstGeom prst="bentConnector3">
              <a:avLst>
                <a:gd name="adj1" fmla="val 760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83" name="_s98317"/>
            <p:cNvCxnSpPr/>
            <p:nvPr/>
          </p:nvCxnSpPr>
          <p:spPr>
            <a:xfrm flipH="1" flipV="1" rot="5400000">
              <a:off x="3495960" y="1222560"/>
              <a:ext cx="1500480" cy="873720"/>
            </a:xfrm>
            <a:prstGeom prst="bentConnector3">
              <a:avLst>
                <a:gd name="adj1" fmla="val 760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84" name="_s98316"/>
            <p:cNvCxnSpPr/>
            <p:nvPr/>
          </p:nvCxnSpPr>
          <p:spPr>
            <a:xfrm flipH="1" flipV="1" rot="5400000">
              <a:off x="2352240" y="79200"/>
              <a:ext cx="1500480" cy="3160800"/>
            </a:xfrm>
            <a:prstGeom prst="bentConnector3">
              <a:avLst>
                <a:gd name="adj1" fmla="val 7607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985" name="_s98312"/>
            <p:cNvSpPr/>
            <p:nvPr/>
          </p:nvSpPr>
          <p:spPr>
            <a:xfrm>
              <a:off x="3506040" y="152280"/>
              <a:ext cx="2290680" cy="1560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石膏包扎后护理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_s98313"/>
            <p:cNvSpPr/>
            <p:nvPr/>
          </p:nvSpPr>
          <p:spPr>
            <a:xfrm>
              <a:off x="532080" y="2435040"/>
              <a:ext cx="2133720" cy="1825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患者的搬动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_s98314"/>
            <p:cNvSpPr/>
            <p:nvPr/>
          </p:nvSpPr>
          <p:spPr>
            <a:xfrm>
              <a:off x="2665800" y="2513160"/>
              <a:ext cx="2209320" cy="1823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患肢抬高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适当衬垫给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突部减压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_s98315"/>
            <p:cNvSpPr/>
            <p:nvPr/>
          </p:nvSpPr>
          <p:spPr>
            <a:xfrm>
              <a:off x="4953960" y="2435040"/>
              <a:ext cx="2055600" cy="1825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促进石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干固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_s98324"/>
            <p:cNvSpPr/>
            <p:nvPr/>
          </p:nvSpPr>
          <p:spPr>
            <a:xfrm>
              <a:off x="7084800" y="2513160"/>
              <a:ext cx="1851120" cy="16696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患肢的观察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_s98326"/>
            <p:cNvSpPr/>
            <p:nvPr/>
          </p:nvSpPr>
          <p:spPr>
            <a:xfrm>
              <a:off x="2590920" y="4794120"/>
              <a:ext cx="1851120" cy="1671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观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肢体末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血循环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_s98328"/>
            <p:cNvSpPr/>
            <p:nvPr/>
          </p:nvSpPr>
          <p:spPr>
            <a:xfrm>
              <a:off x="7292520" y="4803840"/>
              <a:ext cx="1851120" cy="16696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有无感染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征象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_s98330"/>
            <p:cNvSpPr/>
            <p:nvPr/>
          </p:nvSpPr>
          <p:spPr>
            <a:xfrm>
              <a:off x="4953960" y="4794120"/>
              <a:ext cx="1851120" cy="1671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观察出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与血浆渗出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情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常用石膏类型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66"/>
                </a:solidFill>
                <a:latin typeface="Tahoma"/>
              </a:rPr>
              <a:t>①</a:t>
            </a:r>
            <a:r>
              <a:rPr b="0" lang="zh-CN" sz="2800" spc="-1" strike="noStrike">
                <a:solidFill>
                  <a:srgbClr val="99ff66"/>
                </a:solidFill>
                <a:latin typeface="Tahoma"/>
              </a:rPr>
              <a:t>、前臂石膏 适用于腕关节扭伤，桡骨远端骨折和尺、桡骨茎突骨折。固定范围从肘关节以下到掌指关节（背侧与指蹼平齐，掌侧到掌横纹上</a:t>
            </a:r>
            <a:r>
              <a:rPr b="0" lang="zh-CN" sz="2800" spc="-1" strike="noStrike">
                <a:solidFill>
                  <a:srgbClr val="99ff66"/>
                </a:solidFill>
                <a:latin typeface="Tahoma"/>
              </a:rPr>
              <a:t>0.5</a:t>
            </a:r>
            <a:r>
              <a:rPr b="0" lang="zh-CN" sz="2800" spc="-1" strike="noStrike">
                <a:solidFill>
                  <a:srgbClr val="99ff66"/>
                </a:solidFill>
                <a:latin typeface="Tahoma"/>
              </a:rPr>
              <a:t>厘米）。腕关节呈</a:t>
            </a:r>
            <a:r>
              <a:rPr b="0" lang="zh-CN" sz="2800" spc="-1" strike="noStrike">
                <a:solidFill>
                  <a:srgbClr val="99ff66"/>
                </a:solidFill>
                <a:latin typeface="Tahoma"/>
              </a:rPr>
              <a:t>30°</a:t>
            </a:r>
            <a:r>
              <a:rPr b="0" lang="zh-CN" sz="2800" spc="-1" strike="noStrike">
                <a:solidFill>
                  <a:srgbClr val="99ff66"/>
                </a:solidFill>
                <a:latin typeface="Tahoma"/>
              </a:rPr>
              <a:t>背屈位。前臂在旋前旋后中间位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19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常用石膏类型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②</a:t>
            </a: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、上肢石膏 适用于尺、桡骨骨折，肘关节脱位，肱骨下段骨折，尺、桡骨或肘关节的某些疾病。固定范围从肩关节以下到掌指关节（背侧与指蹼平齐，掌侧到掌横纹上</a:t>
            </a: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0.5</a:t>
            </a: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厘米处）。肘关节屈曲</a:t>
            </a: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90°</a:t>
            </a: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，腕关节背屈</a:t>
            </a: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30°</a:t>
            </a:r>
            <a:r>
              <a:rPr b="0" lang="zh-CN" sz="2800" spc="-1" strike="noStrike">
                <a:solidFill>
                  <a:srgbClr val="ff9999"/>
                </a:solidFill>
                <a:latin typeface="Arial Black"/>
              </a:rPr>
              <a:t>，前壁在旋前旋后中间位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8" name="" descr=""/>
          <p:cNvPicPr/>
          <p:nvPr/>
        </p:nvPicPr>
        <p:blipFill>
          <a:blip r:embed="rId1"/>
          <a:stretch/>
        </p:blipFill>
        <p:spPr>
          <a:xfrm>
            <a:off x="1378080" y="2120760"/>
            <a:ext cx="31240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常用石膏类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cc"/>
                </a:solidFill>
                <a:latin typeface="Garamond"/>
              </a:rPr>
              <a:t>③</a:t>
            </a:r>
            <a:r>
              <a:rPr b="0" lang="zh-CN" sz="2000" spc="-1" strike="noStrike">
                <a:solidFill>
                  <a:srgbClr val="ff66cc"/>
                </a:solidFill>
                <a:latin typeface="Garamond"/>
              </a:rPr>
              <a:t>上肢外展架 适用于肩关节伤、病或其手术后，肩胛骨和肱骨的伤、病等。例如肱骨骨折用上肢石膏固定或持续牵引，为了维持骨折复位的对位，将大小合适的外展架用石膏绷带固定在胸廓上。保持肩关节外展</a:t>
            </a:r>
            <a:r>
              <a:rPr b="0" lang="zh-CN" sz="2000" spc="-1" strike="noStrike">
                <a:solidFill>
                  <a:srgbClr val="ff66cc"/>
                </a:solidFill>
                <a:latin typeface="Garamond"/>
              </a:rPr>
              <a:t>80-90° </a:t>
            </a:r>
            <a:r>
              <a:rPr b="0" lang="zh-CN" sz="2000" spc="-1" strike="noStrike">
                <a:solidFill>
                  <a:srgbClr val="ff66cc"/>
                </a:solidFill>
                <a:latin typeface="Garamond"/>
              </a:rPr>
              <a:t>，前屈</a:t>
            </a:r>
            <a:r>
              <a:rPr b="0" lang="zh-CN" sz="2000" spc="-1" strike="noStrike">
                <a:solidFill>
                  <a:srgbClr val="ff66cc"/>
                </a:solidFill>
                <a:latin typeface="Garamond"/>
              </a:rPr>
              <a:t>30-45° </a:t>
            </a:r>
            <a:r>
              <a:rPr b="0" lang="zh-CN" sz="2000" spc="-1" strike="noStrike">
                <a:solidFill>
                  <a:srgbClr val="ff66cc"/>
                </a:solidFill>
                <a:latin typeface="Garamond"/>
              </a:rPr>
              <a:t>，肘关节屈曲如常。外展架贴在肢体、腋窝和胸廓的部分，都应 垫好棉垫。用石膏绷带将外展架固定在胸廓上，抵住腋窝，托住上臂和前臂，进行上肢固定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1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230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 Black"/>
              </a:rPr>
              <a:t>目录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46432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概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传统石膏与新型高分子夹板的区别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传统石膏需准备的材料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高分子夹板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石膏固定的护理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常用石膏固定类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常用石膏类型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Tahoma"/>
              </a:rPr>
              <a:t>④</a:t>
            </a:r>
            <a:r>
              <a:rPr b="0" lang="zh-CN" sz="2800" spc="-1" strike="noStrike">
                <a:solidFill>
                  <a:srgbClr val="ff99ff"/>
                </a:solidFill>
                <a:latin typeface="Tahoma"/>
              </a:rPr>
              <a:t>、小腿石膏 适用于跖骨与跗骨骨折、内踝或外踝骨折、躁部扭伤、腓骨下端无移位骨折或踝关节疾患。固定范围从胫骨结节到趾端，跖侧过趾尖，背侧到跖趾关节，不包括足趾背侧，使足趾能背屈活动，并便于术后观察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1"/>
          <a:stretch/>
        </p:blipFill>
        <p:spPr>
          <a:xfrm>
            <a:off x="5011560" y="1676520"/>
            <a:ext cx="35258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常用石膏类型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、下肢石膏 适用于胫腓骨骨折、膝部骨折或疾患。固定范围从大腿上端到趾尖（不包括趾骨背侧）。膝关节屈曲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10—15° 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，踝关节保持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90°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7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103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常用石膏类型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⑥</a:t>
            </a: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、髋人宇型石膏 适用于股骨颈或粗隆间骨折、股骨干骨折或股骨的矫形手术后、髋关节或股骨的某些疾患。固定范围从乳头平面以下（包括躯干和患侧髋关节）到趾端。髋关节屈曲</a:t>
            </a: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20°</a:t>
            </a: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左右，膝关节屈曲</a:t>
            </a: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10—5°</a:t>
            </a: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，踝关节保持</a:t>
            </a: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90°</a:t>
            </a:r>
            <a:r>
              <a:rPr b="0" lang="zh-CN" sz="2400" spc="-1" strike="noStrike">
                <a:solidFill>
                  <a:srgbClr val="dddddd"/>
                </a:solidFill>
                <a:latin typeface="Arial"/>
              </a:rPr>
              <a:t>。先穿纱套，将骨骼隆起部垫好棉垫。包扎石膏后，须将健侧髋部和患侧会阴部石膏修好，以便于肢体活动和排便。腹部开窗，以利于呼吸运动和不影响腹胀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常用石膏类型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4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99"/>
                </a:solidFill>
                <a:latin typeface="Tahoma"/>
              </a:rPr>
              <a:t>⑦</a:t>
            </a:r>
            <a:r>
              <a:rPr b="0" lang="zh-CN" sz="2400" spc="-1" strike="noStrike">
                <a:solidFill>
                  <a:srgbClr val="ff9999"/>
                </a:solidFill>
                <a:latin typeface="Tahoma"/>
              </a:rPr>
              <a:t>、石膏背心 适用于脊柱骨折、脊柱结核恢复期和脊柱融合术后等。伤员脊柱保持伸展位。前面从胸骨柄到耻骨联合，背部从肩胛冈下到骶部，使 胸骨柄、耻骨联合和腰部构成三个压力点。石膏背心包好后，腋部和腹股沟部的石 膏边缘应加修整，以便于上、下肢活动。上腹部开窗（以剑突到脐为直径，画圆开窗），以利呼吸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3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5053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常用石膏类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cc"/>
                </a:solidFill>
                <a:latin typeface="Garamond"/>
              </a:rPr>
              <a:t>⑧</a:t>
            </a:r>
            <a:r>
              <a:rPr b="0" lang="zh-CN" sz="2400" spc="-1" strike="noStrike">
                <a:solidFill>
                  <a:srgbClr val="ff66cc"/>
                </a:solidFill>
                <a:latin typeface="Garamond"/>
              </a:rPr>
              <a:t>、头胸石膏和石膏领适用于颈椎的骨折、脱位和颈椎疾患等。固定范围从头部到胸部肋缘下。穿纱套后，垫好棉垫，包扎石膏绷带。然后将面部、耳部和腋部的石膏进行修整，颈前正中开窗，以利饮食和呼。石膏领前面从下颌到胸骨柄和锁骨内</a:t>
            </a:r>
            <a:r>
              <a:rPr b="0" lang="zh-CN" sz="2400" spc="-1" strike="noStrike">
                <a:solidFill>
                  <a:srgbClr val="ff66cc"/>
                </a:solidFill>
                <a:latin typeface="Garamond"/>
              </a:rPr>
              <a:t>1/3</a:t>
            </a:r>
            <a:r>
              <a:rPr b="0" lang="zh-CN" sz="2400" spc="-1" strike="noStrike">
                <a:solidFill>
                  <a:srgbClr val="ff66cc"/>
                </a:solidFill>
                <a:latin typeface="Garamond"/>
              </a:rPr>
              <a:t>处，后面从枕部到肩胛冈上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1"/>
          <a:stretch/>
        </p:blipFill>
        <p:spPr>
          <a:xfrm>
            <a:off x="754200" y="1676520"/>
            <a:ext cx="32875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 txBox="1"/>
          <p:nvPr/>
        </p:nvSpPr>
        <p:spPr>
          <a:xfrm>
            <a:off x="2514600" y="380880"/>
            <a:ext cx="40384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结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5257800" y="51814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谢大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石膏固定的概</a:t>
            </a:r>
            <a:r>
              <a:rPr b="1" lang="zh-CN" sz="4400" spc="-1" strike="noStrike" u="sng">
                <a:solidFill>
                  <a:srgbClr val="66ffff"/>
                </a:solidFill>
                <a:uFillTx/>
                <a:latin typeface="Arial"/>
              </a:rPr>
              <a:t>述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380520" y="23587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ff3300"/>
                </a:solidFill>
                <a:latin typeface="Arial"/>
              </a:rPr>
              <a:t>(1)</a:t>
            </a:r>
            <a:r>
              <a:rPr b="1" i="1" lang="zh-CN" sz="2700" spc="-1" strike="noStrike">
                <a:solidFill>
                  <a:srgbClr val="ff3300"/>
                </a:solidFill>
                <a:latin typeface="Arial"/>
              </a:rPr>
              <a:t>患者要做好心理准备，积极配合治疗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医用石膏是一种白色粉末状熟石膏，化学成份是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aSO42H2O,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当使用石膏绷带包扎后，石膏和水起化学反应，逐步硬化并放出热量，这时患者的肢体会有灼热感，但灼热感过后病人又会因石膏未干而感到湿冷，这些都是正常现象，对肢体不会有任何影响，要解除疑虑。固定后不要随意乱动，以免影响固定的效果。</a:t>
            </a:r>
            <a:br>
              <a:rPr sz="1800"/>
            </a:br>
            <a:r>
              <a:rPr b="1" i="1" lang="zh-CN" sz="27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1" i="1" lang="zh-CN" sz="2700" spc="-1" strike="noStrike">
                <a:solidFill>
                  <a:srgbClr val="ff3300"/>
                </a:solidFill>
                <a:latin typeface="Arial"/>
              </a:rPr>
              <a:t>石膏前做好患部的皮肤准备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石膏固定一般都需要较长时间，而且固定后不能轻易打开。所以包扎前要用肥皂水认真清洗皮肤，清除皮肤表面的污垢，有条件的可用酒精消毒。有创面的地方还要换药，以防感染。</a:t>
            </a:r>
            <a:br>
              <a:rPr sz="1800"/>
            </a:br>
            <a:r>
              <a:rPr b="1" i="1" lang="zh-CN" sz="2700" spc="-1" strike="noStrike">
                <a:solidFill>
                  <a:srgbClr val="ff3300"/>
                </a:solidFill>
                <a:latin typeface="Arial"/>
              </a:rPr>
              <a:t>(3)</a:t>
            </a:r>
            <a:r>
              <a:rPr b="1" i="1" lang="zh-CN" sz="2700" spc="-1" strike="noStrike">
                <a:solidFill>
                  <a:srgbClr val="ff3300"/>
                </a:solidFill>
                <a:latin typeface="Arial"/>
              </a:rPr>
              <a:t>积极与医生配合，保证包扎效果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石膏硬化一般须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小时，硬化快慢主要与环境温度有关，在石膏未能固前，患肢要尽量少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活动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因为这时石膏尚未完全硬化，很容易被折断、变形，失去固定作用。如果需要移动病人时，要用手掌轻轻托起石膏，不能用手指抓捏没有完全硬化的石膏，防止在石膏上压出凹陷，形成压迫点，影响肢体血液循环。对患肢骨骼突出的部位如下肢石膏的脚跟处，髋人字石膏的尾骶处，应特别注意保护，防止形成压迫性溃疡和褥疮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85800" y="1371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石膏固定是骨折复位后常用的外固定方法之一，它使用简便易行，固定作用可      靠。但采用石膏固定后还要从以下几个方面给予护理。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Comic Sans MS"/>
              </a:rPr>
              <a:t>高分子夹板与普通石膏的区别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8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66cc"/>
                </a:solidFill>
                <a:latin typeface="Comic Sans MS"/>
              </a:rPr>
              <a:t>高分子夹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Comic Sans MS"/>
              </a:rPr>
              <a:t>传统石膏的替代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Comic Sans MS"/>
              </a:rPr>
              <a:t>固化时间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Comic Sans MS"/>
              </a:rPr>
              <a:t>强度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Comic Sans MS"/>
              </a:rPr>
              <a:t>透气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Comic Sans MS"/>
              </a:rPr>
              <a:t>易拆除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Comic Sans MS"/>
              </a:rPr>
              <a:t>X</a:t>
            </a:r>
            <a:r>
              <a:rPr b="0" lang="zh-CN" sz="2400" spc="-1" strike="noStrike">
                <a:solidFill>
                  <a:srgbClr val="4d4d4d"/>
                </a:solidFill>
                <a:latin typeface="Comic Sans MS"/>
              </a:rPr>
              <a:t>线透视效果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01880" y="1828800"/>
            <a:ext cx="3779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66cc"/>
                </a:solidFill>
                <a:latin typeface="Comic Sans MS"/>
              </a:rPr>
              <a:t>普通的石膏绷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Comic Sans MS"/>
              </a:rPr>
              <a:t>不透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Comic Sans MS"/>
              </a:rPr>
              <a:t>不透</a:t>
            </a:r>
            <a:r>
              <a:rPr b="0" lang="zh-CN" sz="2800" spc="-1" strike="noStrike">
                <a:solidFill>
                  <a:srgbClr val="4d4d4d"/>
                </a:solidFill>
                <a:latin typeface="Comic Sans MS"/>
              </a:rPr>
              <a:t>x</a:t>
            </a:r>
            <a:r>
              <a:rPr b="0" lang="zh-CN" sz="2800" spc="-1" strike="noStrike">
                <a:solidFill>
                  <a:srgbClr val="4d4d4d"/>
                </a:solidFill>
                <a:latin typeface="Comic Sans MS"/>
              </a:rPr>
              <a:t>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Comic Sans MS"/>
              </a:rPr>
              <a:t>怕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9" name=""/>
          <p:cNvGrpSpPr/>
          <p:nvPr/>
        </p:nvGrpSpPr>
        <p:grpSpPr>
          <a:xfrm>
            <a:off x="226080" y="618120"/>
            <a:ext cx="5947920" cy="6078960"/>
            <a:chOff x="226080" y="618120"/>
            <a:chExt cx="5947920" cy="6078960"/>
          </a:xfrm>
        </p:grpSpPr>
        <p:sp>
          <p:nvSpPr>
            <p:cNvPr id="1940" name="_s102414"/>
            <p:cNvSpPr/>
            <p:nvPr/>
          </p:nvSpPr>
          <p:spPr>
            <a:xfrm flipH="1">
              <a:off x="1711440" y="3657600"/>
              <a:ext cx="744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_s102413"/>
            <p:cNvSpPr/>
            <p:nvPr/>
          </p:nvSpPr>
          <p:spPr>
            <a:xfrm>
              <a:off x="226080" y="2898000"/>
              <a:ext cx="1485720" cy="1518480"/>
            </a:xfrm>
            <a:prstGeom prst="ellipse">
              <a:avLst/>
            </a:prstGeom>
            <a:solidFill>
              <a:srgbClr val="879cc8">
                <a:alpha val="50000"/>
              </a:srgbClr>
            </a:solidFill>
            <a:ln w="57240">
              <a:solidFill>
                <a:srgbClr val="879c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、宽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_s102412"/>
            <p:cNvSpPr/>
            <p:nvPr/>
          </p:nvSpPr>
          <p:spPr>
            <a:xfrm>
              <a:off x="3200040" y="4416480"/>
              <a:ext cx="0" cy="761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_s102411"/>
            <p:cNvSpPr/>
            <p:nvPr/>
          </p:nvSpPr>
          <p:spPr>
            <a:xfrm>
              <a:off x="2457000" y="5178240"/>
              <a:ext cx="1486080" cy="15188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、厚度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_s102416"/>
            <p:cNvSpPr/>
            <p:nvPr/>
          </p:nvSpPr>
          <p:spPr>
            <a:xfrm>
              <a:off x="3943440" y="3657600"/>
              <a:ext cx="744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_s102415"/>
            <p:cNvSpPr/>
            <p:nvPr/>
          </p:nvSpPr>
          <p:spPr>
            <a:xfrm>
              <a:off x="4688280" y="2898000"/>
              <a:ext cx="1485720" cy="15184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、石膏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_s102410"/>
            <p:cNvSpPr/>
            <p:nvPr/>
          </p:nvSpPr>
          <p:spPr>
            <a:xfrm flipV="1">
              <a:off x="3200040" y="2136240"/>
              <a:ext cx="0" cy="761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_s102409"/>
            <p:cNvSpPr/>
            <p:nvPr/>
          </p:nvSpPr>
          <p:spPr>
            <a:xfrm>
              <a:off x="2457000" y="618120"/>
              <a:ext cx="1486080" cy="1518480"/>
            </a:xfrm>
            <a:prstGeom prst="ellipse">
              <a:avLst/>
            </a:prstGeom>
            <a:solidFill>
              <a:srgbClr val="66ffff">
                <a:alpha val="50000"/>
              </a:srgbClr>
            </a:solidFill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、衬垫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99"/>
                  </a:solidFill>
                  <a:latin typeface="Arial"/>
                </a:rPr>
                <a:t>绷带</a:t>
              </a:r>
              <a:r>
                <a:rPr b="1" lang="zh-CN" sz="1600" spc="-1" strike="noStrike">
                  <a:solidFill>
                    <a:srgbClr val="ff99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_s102408"/>
            <p:cNvSpPr/>
            <p:nvPr/>
          </p:nvSpPr>
          <p:spPr>
            <a:xfrm>
              <a:off x="2457000" y="2898000"/>
              <a:ext cx="1486080" cy="1518480"/>
            </a:xfrm>
            <a:prstGeom prst="ellipse">
              <a:avLst/>
            </a:prstGeom>
            <a:solidFill>
              <a:srgbClr val="3366cc">
                <a:alpha val="50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需准备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材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624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高分子夹板介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ahoma"/>
              </a:rPr>
              <a:t>高分子夹板是由多层高分子绷带层叠覆以特殊的非织造布构成。具有固化速度快，固化后强度硬且质量轻等优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ahoma"/>
              </a:rPr>
              <a:t>聚氨酯在医学领域上应用是因为他具有较好的生物相容性，动物实验和急慢性毒性实验证实，医用聚氨酯无毒、无致畸变作用，对局部无刺激性反映和过敏反应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医用高分子绷带与石膏绷带相比有哪些优点？</a:t>
            </a: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一：舒适安全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二、良好的透气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三、硬化速度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四、硬度高、重量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五、极好的</a:t>
            </a: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线透射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六、良好的防水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七、操作方便、灵活，塑形性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八、适用范围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66"/>
                </a:solidFill>
                <a:latin typeface="Arial Black"/>
              </a:rPr>
              <a:t>高分子夹板特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硬度高、重量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良好的透气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硬化速度快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极好的</a:t>
            </a: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线透射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操作方便、灵活、可塑性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舒适安全性：夹板轻便舒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适用范围广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临床特点对比表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1957" name=""/>
          <p:cNvGraphicFramePr/>
          <p:nvPr/>
        </p:nvGraphicFramePr>
        <p:xfrm>
          <a:off x="301680" y="1600200"/>
          <a:ext cx="8540640" cy="4694400"/>
        </p:xfrm>
        <a:graphic>
          <a:graphicData uri="http://schemas.openxmlformats.org/drawingml/2006/table">
            <a:tbl>
              <a:tblPr/>
              <a:tblGrid>
                <a:gridCol w="3203640"/>
                <a:gridCol w="2819160"/>
                <a:gridCol w="251784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对患者的好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对医疗人员的好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其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可洗澡和接受药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操作方便、卫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完全透</a:t>
                      </a: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轻盈、舒适、美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容易塑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常温水即可激活硬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安全、透气、清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容易去出卫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分钟内承受重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没有过敏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伤口容易留孔处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无毒无化学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12-07T09:46:1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