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1CB-76D4-4898-946B-982AA1BE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8FD-C4F3-4FE2-ADE6-700C116C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FF9-805D-4B2A-B71D-C881524D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D62-54AD-43F3-BF10-467240A3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156-5339-4949-A2B3-20C87BBC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17F-0400-4861-8212-A404B49D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131-1988-474E-A185-AE97C004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6D7-28F2-4F75-B2D1-64BAFB42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BC5-364B-4FB7-9C19-F0216E96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CF1-039E-4AB8-8D46-60D48DCD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D09A-4056-4432-8ECA-57DEFE25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AAE-EB0C-4BC6-85A7-87FECA7C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59A0-7C83-4B84-90F9-2B980EFC48D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.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6.0.20100930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9-30T11:16:10Z</dcterms:modified>
  <cp:revision>102</cp:revision>
  <dc:subject/>
  <dc:title>投影片 1</dc:title>
</cp:coreProperties>
</file>