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0.gif" ContentType="image/gif"/>
  <Override PartName="/ppt/media/image12.jpeg" ContentType="image/jpeg"/>
  <Override PartName="/ppt/media/image15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3.gif" ContentType="image/gif"/>
  <Override PartName="/ppt/media/image5.jpeg" ContentType="image/jpeg"/>
  <Override PartName="/ppt/media/image9.wmf" ContentType="image/x-wmf"/>
  <Override PartName="/ppt/media/image11.gif" ContentType="image/gif"/>
  <Override PartName="/ppt/media/image14.wmf" ContentType="image/x-wmf"/>
  <Override PartName="/ppt/media/image6.png" ContentType="image/png"/>
  <Override PartName="/ppt/media/image1.jpeg" ContentType="image/jpeg"/>
  <Override PartName="/ppt/media/image7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156BF-CC19-4D23-9997-7D6EBBBF939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2360" cy="3294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538200" y="4389480"/>
            <a:ext cx="578160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。引起腹泻有四大病理生理学因素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肠粘膜吸收障碍、肠粘膜分泌过多液体或大量渗出，以及肠蠕 动过快。但对于某一腹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泻病例，其多数非单一因素所致，而是几个因素并存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。下面我们依次来看各类腹泻的发生机制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每日饮食摄入和胃肠道分泌的液体总共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饮食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）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大多数由小肠吸收，结肠可吸收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50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8F66-89D2-4136-9EBB-CE98409FD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2E0E-6209-4F80-9312-28E30A316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EA57-82A2-470E-9570-E9A9CE29C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D10F-3482-44E2-866A-5A3D4B248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0CCDD-6277-4C80-B170-CA7098C67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AC47C-5A23-4F33-A61F-A762774D4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52508-AD07-4DE9-A74D-D663FEE2C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441DA-8D30-4C10-BAB5-B34FFEEE8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9170F-ECA2-4C8F-B21D-DA2CF1E9E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B0023-6672-4482-B9C3-6F91D5A6C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4D87B-E9C1-4B9E-B0AA-E4239705E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39E3-1964-4320-88F1-3ED057884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459CE-857E-4CDF-A34D-B545A6DD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2EE65-A670-49CB-9893-31B063FBA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7B774-B87D-4555-BEC4-EB29EF556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7C4A0-A50F-45D8-B968-140886DB5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885A0-92FC-45D9-A32A-6814CDEE3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26F0C-E17F-4D36-B7DF-8055F9998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28212-B959-4635-8C87-87E3AAC28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D784A-8C12-4BA8-9A44-2D6DFC9F5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4B163-A6A8-429F-BF9A-A40D063DA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E3784-EC4E-4F4C-99F1-67B9357D3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C87B-FF36-4ED1-8D49-D693F5D22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F78F0-4F87-4411-B8E4-62EEBD22B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CF7AA-6E42-48D6-9642-7949D7FAA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3D112-2333-4BEB-BC85-5657DC2DE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B3A5C-0331-4094-A185-D93958AF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FDFC0-27BA-4E26-B6B6-72B2F6737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21E80-D7B9-444A-81F8-8B486F2BE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DEBC7-0EB7-483A-AD07-285D39ECD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CE7A-7605-4CD9-8E64-7CD3ED125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2940-7CEA-43F1-9530-3EC510C8E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F1A6-AA34-4A22-A528-8C768D030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7F8D-793F-4FDA-8C76-A4BAEAC71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3B15-2194-476A-9A1F-322D5ACE2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C495-81A9-4FAD-B64C-47DF7D30C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www.nordridesign.cn/index.php" TargetMode="External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64707-4EF8-4A00-9F52-66FA62C3AC2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556272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09480" y="1447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97538-D269-4797-B063-1D4104E67FDF}" type="slidenum">
              <a: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C65AB-9957-49E3-846A-8A19455DD0D2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3813120" y="2536920"/>
            <a:ext cx="3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402912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4255920" y="2536920"/>
            <a:ext cx="3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454356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475776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2"/>
          <p:cNvSpPr/>
          <p:nvPr/>
        </p:nvSpPr>
        <p:spPr>
          <a:xfrm>
            <a:off x="503712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3"/>
          <p:cNvSpPr/>
          <p:nvPr/>
        </p:nvSpPr>
        <p:spPr>
          <a:xfrm>
            <a:off x="526428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4"/>
          <p:cNvSpPr/>
          <p:nvPr/>
        </p:nvSpPr>
        <p:spPr>
          <a:xfrm>
            <a:off x="547848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4078080" y="3019320"/>
            <a:ext cx="146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中国专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设计交流论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6" descr="logo"/>
          <p:cNvPicPr/>
          <p:nvPr/>
        </p:nvPicPr>
        <p:blipFill>
          <a:blip r:embed="rId3"/>
          <a:stretch/>
        </p:blipFill>
        <p:spPr>
          <a:xfrm>
            <a:off x="3116160" y="2525760"/>
            <a:ext cx="782640" cy="738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7" descr="logo2"/>
          <p:cNvPicPr/>
          <p:nvPr/>
        </p:nvPicPr>
        <p:blipFill>
          <a:blip r:embed="rId4"/>
          <a:stretch/>
        </p:blipFill>
        <p:spPr>
          <a:xfrm>
            <a:off x="2563920" y="2347920"/>
            <a:ext cx="3828960" cy="132552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8">
            <a:hlinkClick r:id="rId5"/>
          </p:cNvPr>
          <p:cNvSpPr/>
          <p:nvPr/>
        </p:nvSpPr>
        <p:spPr>
          <a:xfrm>
            <a:off x="2484360" y="2060640"/>
            <a:ext cx="39877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" Target="slide1.xml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hyperlink" Target="http://www.sucai.net/vslt.asp?id=3722&amp;flname=&#21307;&#23398;" TargetMode="External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00000" y="1773360"/>
            <a:ext cx="7336080" cy="7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小儿腹泻病护理查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92360" y="3357720"/>
            <a:ext cx="533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急救中心 周晶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10920" y="189000"/>
            <a:ext cx="7993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三﹑相关知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5690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小儿腹泻病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定 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是指一组由多病因、多因素引起的以 排便次数增多（与平时排便次数相比）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或粪便的性状改变（不消化稀便、水样便、黏液便或脓血便等）为特点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临床综合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月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岁发病率高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826920" y="3645000"/>
            <a:ext cx="3384720" cy="25905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rcRect l="19391" t="31663" r="0" b="14587"/>
          <a:stretch/>
        </p:blipFill>
        <p:spPr>
          <a:xfrm>
            <a:off x="5364000" y="3645000"/>
            <a:ext cx="3095640" cy="28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二、腹泻发生机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977560" y="1557360"/>
            <a:ext cx="3852000" cy="584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t">
            <a:spAutoFit/>
          </a:bodyPr>
          <a:p>
            <a:pPr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腹泻的四大病理生理学因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2257200" y="2271600"/>
            <a:ext cx="1935000" cy="9669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>
            <a:hlinkClick r:id="rId2" action="ppaction://hlinksldjump"/>
          </p:cNvPr>
          <p:cNvSpPr/>
          <p:nvPr/>
        </p:nvSpPr>
        <p:spPr>
          <a:xfrm>
            <a:off x="3535200" y="3198960"/>
            <a:ext cx="885960" cy="329220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0000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粘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951360" y="2271600"/>
            <a:ext cx="806400" cy="9669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rId3" action="ppaction://hlinksldjump"/>
          </p:cNvPr>
          <p:cNvSpPr/>
          <p:nvPr/>
        </p:nvSpPr>
        <p:spPr>
          <a:xfrm>
            <a:off x="5435640" y="3151080"/>
            <a:ext cx="887400" cy="329400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0000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渗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60960" y="2271600"/>
            <a:ext cx="725400" cy="9669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rId4" action="ppaction://hlinksldjump"/>
          </p:cNvPr>
          <p:cNvSpPr/>
          <p:nvPr/>
        </p:nvSpPr>
        <p:spPr>
          <a:xfrm>
            <a:off x="1692360" y="2924280"/>
            <a:ext cx="1212840" cy="364464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0000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粘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24360" y="2271600"/>
            <a:ext cx="1855800" cy="9669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rId5" action="ppaction://hlinksldjump"/>
          </p:cNvPr>
          <p:cNvSpPr/>
          <p:nvPr/>
        </p:nvSpPr>
        <p:spPr>
          <a:xfrm>
            <a:off x="7236000" y="3213000"/>
            <a:ext cx="885600" cy="329256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0000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快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 rot="10800000">
            <a:off x="3634920" y="1700280"/>
            <a:ext cx="2016360" cy="574560"/>
          </a:xfrm>
          <a:custGeom>
            <a:avLst/>
            <a:gdLst>
              <a:gd name="textAreaLeft" fmla="*/ 443160 w 2016360"/>
              <a:gd name="textAreaRight" fmla="*/ 1573200 w 2016360"/>
              <a:gd name="textAreaTop" fmla="*/ 126360 h 574560"/>
              <a:gd name="textAreaBottom" fmla="*/ 448200 h 57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ffcccc"/>
              </a:gs>
              <a:gs pos="100000">
                <a:srgbClr val="755e5e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ff"/>
                </a:solidFill>
                <a:latin typeface="隶书"/>
                <a:ea typeface="隶书"/>
              </a:rPr>
              <a:t>非感染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2268360" y="2790720"/>
            <a:ext cx="4753080" cy="2943000"/>
            <a:chOff x="2268360" y="2790720"/>
            <a:chExt cx="4753080" cy="2943000"/>
          </a:xfrm>
        </p:grpSpPr>
        <p:sp>
          <p:nvSpPr>
            <p:cNvPr id="179" name=""/>
            <p:cNvSpPr/>
            <p:nvPr/>
          </p:nvSpPr>
          <p:spPr>
            <a:xfrm>
              <a:off x="2268360" y="3497040"/>
              <a:ext cx="1917720" cy="1431720"/>
            </a:xfrm>
            <a:prstGeom prst="hexagon">
              <a:avLst>
                <a:gd name="adj" fmla="val 33486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按病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708360" y="2790720"/>
              <a:ext cx="1917720" cy="1430280"/>
            </a:xfrm>
            <a:prstGeom prst="hexagon">
              <a:avLst>
                <a:gd name="adj" fmla="val 33520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按病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03720" y="3497040"/>
              <a:ext cx="1917720" cy="1431720"/>
            </a:xfrm>
            <a:prstGeom prst="hexagon">
              <a:avLst>
                <a:gd name="adj" fmla="val 33486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按病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10800000">
              <a:off x="3419280" y="4005000"/>
              <a:ext cx="2447640" cy="1728720"/>
            </a:xfrm>
            <a:custGeom>
              <a:avLst/>
              <a:gdLst>
                <a:gd name="textAreaLeft" fmla="*/ 542880 w 2447640"/>
                <a:gd name="textAreaRight" fmla="*/ 1904760 w 2447640"/>
                <a:gd name="textAreaTop" fmla="*/ 383400 h 1728720"/>
                <a:gd name="textAreaBottom" fmla="*/ 1345320 h 172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123" y="21600"/>
                  </a:lnTo>
                  <a:lnTo>
                    <a:pt x="5477" y="21600"/>
                  </a:lnTo>
                  <a:close/>
                </a:path>
              </a:pathLst>
            </a:custGeom>
            <a:solidFill>
              <a:srgbClr val="69e2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marL="343080" indent="-34308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腹泻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分类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4573440" y="2276640"/>
            <a:ext cx="360360" cy="4316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46172f"/>
              </a:gs>
              <a:gs pos="100000">
                <a:srgbClr val="9933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10800000">
            <a:off x="2124000" y="4076280"/>
            <a:ext cx="217440" cy="289080"/>
          </a:xfrm>
          <a:custGeom>
            <a:avLst/>
            <a:gdLst>
              <a:gd name="textAreaLeft" fmla="*/ 0 w 217440"/>
              <a:gd name="textAreaRight" fmla="*/ 217800 w 21744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17462f"/>
              </a:gs>
              <a:gs pos="100000">
                <a:srgbClr val="3399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021440" y="4005360"/>
            <a:ext cx="287280" cy="287280"/>
          </a:xfrm>
          <a:custGeom>
            <a:avLst/>
            <a:gdLst>
              <a:gd name="textAreaLeft" fmla="*/ 0 w 287280"/>
              <a:gd name="textAreaRight" fmla="*/ 287640 w 28728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5e4600"/>
              </a:gs>
              <a:gs pos="100000">
                <a:srgbClr val="cc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10800000">
            <a:off x="3634920" y="1196640"/>
            <a:ext cx="2016360" cy="574560"/>
          </a:xfrm>
          <a:custGeom>
            <a:avLst/>
            <a:gdLst>
              <a:gd name="textAreaLeft" fmla="*/ 443160 w 2016360"/>
              <a:gd name="textAreaRight" fmla="*/ 1573200 w 2016360"/>
              <a:gd name="textAreaTop" fmla="*/ 126360 h 574560"/>
              <a:gd name="textAreaBottom" fmla="*/ 448200 h 57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ffcccc"/>
              </a:gs>
              <a:gs pos="100000">
                <a:srgbClr val="755e5e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ff"/>
                </a:solidFill>
                <a:latin typeface="隶书"/>
                <a:ea typeface="隶书"/>
              </a:rPr>
              <a:t>感染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10800000">
            <a:off x="178920" y="4367160"/>
            <a:ext cx="2016360" cy="574560"/>
          </a:xfrm>
          <a:custGeom>
            <a:avLst/>
            <a:gdLst>
              <a:gd name="textAreaLeft" fmla="*/ 443160 w 2016360"/>
              <a:gd name="textAreaRight" fmla="*/ 1573200 w 2016360"/>
              <a:gd name="textAreaTop" fmla="*/ 126360 h 574560"/>
              <a:gd name="textAreaBottom" fmla="*/ 448200 h 57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ffcccc"/>
              </a:gs>
              <a:gs pos="100000">
                <a:srgbClr val="755e5e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ff"/>
                </a:solidFill>
                <a:latin typeface="隶书"/>
                <a:ea typeface="隶书"/>
              </a:rPr>
              <a:t>慢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10800000">
            <a:off x="178920" y="3862440"/>
            <a:ext cx="2016360" cy="574560"/>
          </a:xfrm>
          <a:custGeom>
            <a:avLst/>
            <a:gdLst>
              <a:gd name="textAreaLeft" fmla="*/ 443160 w 2016360"/>
              <a:gd name="textAreaRight" fmla="*/ 1573200 w 2016360"/>
              <a:gd name="textAreaTop" fmla="*/ 126360 h 574560"/>
              <a:gd name="textAreaBottom" fmla="*/ 448200 h 57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ffcccc"/>
              </a:gs>
              <a:gs pos="100000">
                <a:srgbClr val="755e5e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ff"/>
                </a:solidFill>
                <a:latin typeface="隶书"/>
                <a:ea typeface="隶书"/>
              </a:rPr>
              <a:t>迁延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10800000">
            <a:off x="178920" y="3359160"/>
            <a:ext cx="2016360" cy="574560"/>
          </a:xfrm>
          <a:custGeom>
            <a:avLst/>
            <a:gdLst>
              <a:gd name="textAreaLeft" fmla="*/ 443160 w 2016360"/>
              <a:gd name="textAreaRight" fmla="*/ 1573200 w 2016360"/>
              <a:gd name="textAreaTop" fmla="*/ 126360 h 574560"/>
              <a:gd name="textAreaBottom" fmla="*/ 448200 h 57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ffcccc"/>
              </a:gs>
              <a:gs pos="100000">
                <a:srgbClr val="755e5e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ff"/>
                </a:solidFill>
                <a:latin typeface="隶书"/>
                <a:ea typeface="隶书"/>
              </a:rPr>
              <a:t>急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rot="10800000">
            <a:off x="7164360" y="3932280"/>
            <a:ext cx="1728720" cy="574560"/>
          </a:xfrm>
          <a:custGeom>
            <a:avLst/>
            <a:gdLst>
              <a:gd name="textAreaLeft" fmla="*/ 380160 w 1728720"/>
              <a:gd name="textAreaRight" fmla="*/ 1348560 w 1728720"/>
              <a:gd name="textAreaTop" fmla="*/ 126360 h 574560"/>
              <a:gd name="textAreaBottom" fmla="*/ 448200 h 57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ffcccc"/>
              </a:gs>
              <a:gs pos="100000">
                <a:srgbClr val="755e5e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ff"/>
                </a:solidFill>
                <a:latin typeface="隶书"/>
                <a:ea typeface="隶书"/>
              </a:rPr>
              <a:t>重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10800000">
            <a:off x="7308360" y="3429000"/>
            <a:ext cx="1513080" cy="574560"/>
          </a:xfrm>
          <a:custGeom>
            <a:avLst/>
            <a:gdLst>
              <a:gd name="textAreaLeft" fmla="*/ 332640 w 1513080"/>
              <a:gd name="textAreaRight" fmla="*/ 1180440 w 1513080"/>
              <a:gd name="textAreaTop" fmla="*/ 126360 h 574560"/>
              <a:gd name="textAreaBottom" fmla="*/ 448200 h 57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ffcccc"/>
              </a:gs>
              <a:gs pos="100000">
                <a:srgbClr val="755e5e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ff"/>
                </a:solidFill>
                <a:latin typeface="隶书"/>
                <a:ea typeface="隶书"/>
              </a:rPr>
              <a:t>轻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771640" y="260280"/>
            <a:ext cx="3745080" cy="703440"/>
          </a:xfrm>
          <a:prstGeom prst="rect">
            <a:avLst/>
          </a:prstGeom>
          <a:gradFill rotWithShape="0">
            <a:gsLst>
              <a:gs pos="0">
                <a:srgbClr val="175e75"/>
              </a:gs>
              <a:gs pos="50000">
                <a:srgbClr val="33ccff"/>
              </a:gs>
              <a:gs pos="100000">
                <a:srgbClr val="17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00"/>
                </a:solidFill>
                <a:latin typeface="黑体"/>
                <a:ea typeface="黑体"/>
              </a:rPr>
              <a:t>腹泻分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50920" y="2421000"/>
            <a:ext cx="2359080" cy="4032360"/>
          </a:xfrm>
          <a:prstGeom prst="bevel">
            <a:avLst>
              <a:gd name="adj" fmla="val 1495"/>
            </a:avLst>
          </a:prstGeom>
          <a:gradFill rotWithShape="0">
            <a:gsLst>
              <a:gs pos="0">
                <a:srgbClr val="81d8f3"/>
              </a:gs>
              <a:gs pos="100000">
                <a:srgbClr val="c6ecf8"/>
              </a:gs>
            </a:gsLst>
            <a:lin ang="5400000"/>
          </a:gradFill>
          <a:ln w="19080">
            <a:solidFill>
              <a:srgbClr val="ffffff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39640" y="1700280"/>
            <a:ext cx="1940040" cy="72072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808080"/>
              </a:gs>
              <a:gs pos="100000">
                <a:srgbClr val="d3d3d3"/>
              </a:gs>
            </a:gsLst>
            <a:lin ang="5400000"/>
          </a:gradFill>
          <a:ln w="19080">
            <a:solidFill>
              <a:srgbClr val="ffffff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自身因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348000" y="2276640"/>
            <a:ext cx="2359080" cy="4151160"/>
          </a:xfrm>
          <a:prstGeom prst="bevel">
            <a:avLst>
              <a:gd name="adj" fmla="val 1495"/>
            </a:avLst>
          </a:prstGeom>
          <a:gradFill rotWithShape="0">
            <a:gsLst>
              <a:gs pos="0">
                <a:srgbClr val="c5f381"/>
              </a:gs>
              <a:gs pos="100000">
                <a:srgbClr val="e4f8c6"/>
              </a:gs>
            </a:gsLst>
            <a:lin ang="5400000"/>
          </a:gradFill>
          <a:ln w="19080">
            <a:solidFill>
              <a:srgbClr val="ffffff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300720" y="2133720"/>
            <a:ext cx="2359080" cy="4151160"/>
          </a:xfrm>
          <a:prstGeom prst="bevel">
            <a:avLst>
              <a:gd name="adj" fmla="val 1495"/>
            </a:avLst>
          </a:prstGeom>
          <a:gradFill rotWithShape="0">
            <a:gsLst>
              <a:gs pos="0">
                <a:srgbClr val="f3c581"/>
              </a:gs>
              <a:gs pos="100000">
                <a:srgbClr val="f8e4c6"/>
              </a:gs>
            </a:gsLst>
            <a:lin ang="5400000"/>
          </a:gradFill>
          <a:ln w="19080">
            <a:solidFill>
              <a:srgbClr val="ffffff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635280" y="1628640"/>
            <a:ext cx="1941480" cy="6480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808080"/>
              </a:gs>
              <a:gs pos="100000">
                <a:srgbClr val="d3d3d3"/>
              </a:gs>
            </a:gsLst>
            <a:lin ang="5400000"/>
          </a:gradFill>
          <a:ln w="19080">
            <a:solidFill>
              <a:srgbClr val="ffffff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感染因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588000" y="1628640"/>
            <a:ext cx="1941480" cy="63684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808080"/>
              </a:gs>
              <a:gs pos="100000">
                <a:srgbClr val="d3d3d3"/>
              </a:gs>
            </a:gsLst>
            <a:lin ang="5400000"/>
          </a:gradFill>
          <a:ln w="19080">
            <a:solidFill>
              <a:srgbClr val="ffffff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非感染因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2770920" y="4149720"/>
            <a:ext cx="217800" cy="41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2916360" y="4149720"/>
            <a:ext cx="217440" cy="41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5796000" y="4149720"/>
            <a:ext cx="216000" cy="41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940360" y="4149720"/>
            <a:ext cx="217440" cy="41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2421000"/>
            <a:ext cx="22334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婴幼儿消化系统发育尚未成熟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胃酸少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不能适应食物质和量的变化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婴幼儿水代谢旺盛，对水的耐受力差，易发生体液紊乱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婴儿时期神经、内分泌、循环、肝、肾功能发育不成熟，易发生消化道功能紊乱。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92360" y="2421000"/>
            <a:ext cx="216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肠道内感染，可有病毒、细菌、真菌、寄生虫引起，以前二者多见，尤其是病毒，最主要病原为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轮状病毒。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肠道外感染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抗生素相关性腹泻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43640" y="2781360"/>
            <a:ext cx="2158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饮食因素：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人工喂养；喂养不当。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过敏性腹泻；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原发性或继发性双糖酶缺乏或活性丧失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2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气候因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843280" y="0"/>
            <a:ext cx="3816360" cy="1368360"/>
          </a:xfrm>
          <a:prstGeom prst="ellipse">
            <a:avLst/>
          </a:prstGeom>
          <a:gradFill rotWithShape="0">
            <a:gsLst>
              <a:gs pos="0">
                <a:srgbClr val="75465e"/>
              </a:gs>
              <a:gs pos="50000">
                <a:srgbClr val="ff99cc"/>
              </a:gs>
              <a:gs pos="100000">
                <a:srgbClr val="7546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00005"/>
                </a:solidFill>
                <a:latin typeface="Garamond"/>
              </a:rPr>
              <a:t>病因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临床表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腹泻的症状，体征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胃肠道症状：轻型腹泻患儿有食欲不振，偶有呕吐，大便每日达数次或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余次，呈黄色或黄绿色，稀薄或带水，有酸臭味，可有奶瓣或混有少量黏液；中、重型腹泻患儿常有呕吐，严重者可吐出咖啡渣样液体，每天大便可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余次以上，每次量多，呈蛋花汤或水样，可有少量黏液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﹙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﹚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全身中毒症状：轻型腹泻患儿偶有低热，中、重型腹泻患儿有发热，精神萎靡或烦燥不安、意识朦胧甚至昏迷等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水，电解质和酸，碱平衡紊乱表现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脱水：主要为口渴、眼窝及前囟凹陷、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眼泪及尿量减少、黏膜及皮肤干燥、皮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肤弹性减弱、烦躁、嗜睡甚至昏迷休克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等。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根据脱水程度分为轻、中、重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533520" y="533160"/>
            <a:ext cx="8229600" cy="58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同脱水程度的临床表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轻度            中度            重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精神状态            无明显改变      烦躁或萎靡         昏睡或昏迷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皮肤弹性               稍差                    差                    极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口腔黏膜              稍干燥               干燥                   极干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眼窝及前囟凹陷     轻度                明显                    极明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眼泪                        有                      少                        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尿量                    略减少               明显减少            少尿或无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周围循环衰竭          无                   不明显                  明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酸中毒                     无                        有                     严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失水占体重百分比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%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以下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%-10%               10%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以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79280" y="609480"/>
            <a:ext cx="8583840" cy="582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脱水的性质：等渗性，低渗性，高渗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同性质脱水的临床表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血钠浓度    口渴       血压        神志      发生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mmol/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低渗性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﹤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30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不明显   明显下降  嗜睡或昏迷   较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等渗性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30-150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明显       下降          萎靡           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高渗性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﹥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50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极明显  正常或稍低 烦躁或惊厥   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55280" y="0"/>
            <a:ext cx="755964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临床表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8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代谢性酸中毒：由于腹泻丢失大量碱性物质，进食少和肠道吸收不良，摄入热量不足，尿量减少，酸性代谢产物在体内堆积而产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低钙和低镁血症</a:t>
            </a:r>
            <a:r>
              <a:rPr b="1" lang="zh-CN" sz="2400" spc="-1" strike="noStrike">
                <a:solidFill>
                  <a:srgbClr val="fb221d"/>
                </a:solidFill>
                <a:latin typeface="Arial"/>
              </a:rPr>
              <a:t>临床表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震颤、手足搐搦、惊厥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多在补液后出现。若补钙后抽搐仍 不见缓解，注意低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低钾血症</a:t>
            </a:r>
            <a:r>
              <a:rPr b="1" lang="zh-CN" sz="2400" spc="-1" strike="noStrike">
                <a:solidFill>
                  <a:srgbClr val="fb221d"/>
                </a:solidFill>
                <a:latin typeface="Arial"/>
              </a:rPr>
              <a:t>临床特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神经肌肉兴奋性降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心电图表现为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波低平，双向或倒置，出现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波，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P-R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Q-T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间期延长、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ST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段下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7942320" cy="582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四 辅助检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粪便检查 轻型腹泻患儿粪便镜检可见大量脂肪球；中重型腹泻患儿粪便镜检可见大量白细胞，有些可有不同数量的红细胞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生化检查 血清钠可有不同程度下降，血清钾，钙在脱水纠正后可下降，二氧化碳结合力降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五 诊断的必备条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大便性状有改变，呈稀便、水样便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黏液样便、或脓血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大便次数比平时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~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次以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7093080" y="4797360"/>
            <a:ext cx="1820880" cy="171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1" lang="zh-CN" sz="4400" spc="-1" strike="noStrike">
                <a:solidFill>
                  <a:srgbClr val="fb221d"/>
                </a:solidFill>
                <a:latin typeface="Arial"/>
              </a:rPr>
              <a:t>治疗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Treatm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调整饮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预防和纠正脱水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合理用药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加强护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预防并发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6948360" y="3860640"/>
            <a:ext cx="1563480" cy="2122560"/>
            <a:chOff x="6948360" y="3860640"/>
            <a:chExt cx="1563480" cy="2122560"/>
          </a:xfrm>
        </p:grpSpPr>
        <p:pic>
          <p:nvPicPr>
            <p:cNvPr id="218" name="" descr=""/>
            <p:cNvPicPr/>
            <p:nvPr/>
          </p:nvPicPr>
          <p:blipFill>
            <a:blip r:embed="rId2"/>
            <a:stretch/>
          </p:blipFill>
          <p:spPr>
            <a:xfrm>
              <a:off x="6948360" y="3860640"/>
              <a:ext cx="973080" cy="147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" descr=""/>
            <p:cNvPicPr/>
            <p:nvPr/>
          </p:nvPicPr>
          <p:blipFill>
            <a:blip r:embed="rId3"/>
            <a:stretch/>
          </p:blipFill>
          <p:spPr>
            <a:xfrm>
              <a:off x="7724520" y="5249880"/>
              <a:ext cx="787320" cy="733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0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219640" y="4724280"/>
            <a:ext cx="1336680" cy="144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课前思考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从病程来分，小儿腹泻可分为哪几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如何判断小儿腹泻的脱水性质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请列出小儿腹泻的常见护理诊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1" lang="zh-CN" sz="4400" spc="-1" strike="noStrike">
                <a:solidFill>
                  <a:srgbClr val="fb221d"/>
                </a:solidFill>
                <a:latin typeface="Arial"/>
              </a:rPr>
              <a:t>治疗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b221d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fb221d"/>
                </a:solidFill>
                <a:latin typeface="Arial"/>
              </a:rPr>
              <a:t>饮食疗法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 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继续饮食，母乳喂养者暂停辅食，人工喂养者喂等量米汤和稀释牛奶或代乳品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严重呕吐者禁食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4-6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小时（不禁水）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腹泻停止后逐渐恢复到营养丰富饮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b221d"/>
                </a:solidFill>
                <a:latin typeface="Arial"/>
              </a:rPr>
              <a:t>2.</a:t>
            </a:r>
            <a:r>
              <a:rPr b="0" lang="zh-CN" sz="2400" spc="-1" strike="noStrike">
                <a:solidFill>
                  <a:srgbClr val="fb221d"/>
                </a:solidFill>
                <a:latin typeface="Arial"/>
              </a:rPr>
              <a:t>液体疗法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口服补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适用于</a:t>
            </a:r>
            <a:r>
              <a:rPr b="0" lang="zh-CN" sz="2400" spc="-1" strike="noStrike">
                <a:solidFill>
                  <a:srgbClr val="e2286a"/>
                </a:solidFill>
                <a:latin typeface="Arial"/>
              </a:rPr>
              <a:t>轻、中度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脱水而无呕吐或呕吐不剧烈能口服的病儿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主要由</a:t>
            </a:r>
            <a:r>
              <a:rPr b="0" lang="zh-CN" sz="2400" spc="-1" strike="noStrike">
                <a:solidFill>
                  <a:srgbClr val="009999"/>
                </a:solidFill>
                <a:latin typeface="Arial"/>
              </a:rPr>
              <a:t>10%kc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.5g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400" spc="-1" strike="noStrike">
                <a:solidFill>
                  <a:srgbClr val="009999"/>
                </a:solidFill>
                <a:latin typeface="Arial"/>
              </a:rPr>
              <a:t>0.9%Nac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.5g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400" spc="-1" strike="noStrike">
                <a:solidFill>
                  <a:srgbClr val="009999"/>
                </a:solidFill>
                <a:latin typeface="Arial"/>
              </a:rPr>
              <a:t>5%s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.5g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400" spc="-1" strike="noStrike">
                <a:solidFill>
                  <a:srgbClr val="009999"/>
                </a:solidFill>
                <a:latin typeface="Arial"/>
              </a:rPr>
              <a:t>G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0g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加水至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000m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/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张溶液，总钾浓度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0.15%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静脉补液：</a:t>
            </a:r>
            <a:r>
              <a:rPr b="1" lang="zh-CN" sz="2400" spc="-1" strike="noStrike">
                <a:solidFill>
                  <a:srgbClr val="e2286a"/>
                </a:solidFill>
                <a:latin typeface="Arial"/>
              </a:rPr>
              <a:t>中度以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脱水，经口服补液不见好转或呕吐、腹胀严重者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三定：补液总量，补液种类，补液速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三先：先快后慢，先浓后淡，先盐后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三见：见尿补钾、见抽补钙、见酸补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2627280" y="2924280"/>
            <a:ext cx="6264360" cy="1081080"/>
          </a:xfrm>
          <a:prstGeom prst="rect">
            <a:avLst/>
          </a:prstGeom>
          <a:gradFill rotWithShape="0">
            <a:gsLst>
              <a:gs pos="0">
                <a:srgbClr val="33ccff">
                  <a:alpha val="60392"/>
                </a:srgbClr>
              </a:gs>
              <a:gs pos="100000">
                <a:srgbClr val="ffffff">
                  <a:alpha val="9019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与腹泻呕吐丢失过多和摄入量不足有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258920" y="4076640"/>
            <a:ext cx="7561080" cy="1008000"/>
          </a:xfrm>
          <a:prstGeom prst="rect">
            <a:avLst/>
          </a:prstGeom>
          <a:gradFill rotWithShape="0">
            <a:gsLst>
              <a:gs pos="0">
                <a:srgbClr val="33ccff">
                  <a:alpha val="60392"/>
                </a:srgbClr>
              </a:gs>
              <a:gs pos="100000">
                <a:srgbClr val="ffffff">
                  <a:alpha val="9019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9640" y="4005360"/>
            <a:ext cx="2397240" cy="1224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33ccff"/>
              </a:gs>
              <a:gs pos="100000">
                <a:srgbClr val="175d7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P3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有皮肤完整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受损的危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39640" y="2852640"/>
            <a:ext cx="2313000" cy="1152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33ccff"/>
              </a:gs>
              <a:gs pos="100000">
                <a:srgbClr val="175d7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P2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体液不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258920" y="1773360"/>
            <a:ext cx="7648560" cy="1008000"/>
          </a:xfrm>
          <a:prstGeom prst="rect">
            <a:avLst/>
          </a:prstGeom>
          <a:gradFill rotWithShape="0">
            <a:gsLst>
              <a:gs pos="0">
                <a:srgbClr val="33ccff">
                  <a:alpha val="60392"/>
                </a:srgbClr>
              </a:gs>
              <a:gs pos="100000">
                <a:srgbClr val="ffffff">
                  <a:alpha val="9019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1280" y="1700280"/>
            <a:ext cx="2319120" cy="10792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33ccff"/>
              </a:gs>
              <a:gs pos="100000">
                <a:srgbClr val="175d7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P1</a:t>
            </a:r>
            <a:r>
              <a:rPr b="0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腹 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203640" y="1844640"/>
            <a:ext cx="50832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喂养不当、感染致胃肠紊乱有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419640" y="4221000"/>
            <a:ext cx="4608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大便次数多刺激臀部皮肤有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987640" y="2997360"/>
            <a:ext cx="5327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692360" y="549360"/>
            <a:ext cx="6300720" cy="647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366ff"/>
              </a:gs>
              <a:gs pos="50000">
                <a:srgbClr val="172f75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隶书"/>
                <a:ea typeface="隶书"/>
              </a:rPr>
              <a:t>【</a:t>
            </a:r>
            <a:r>
              <a:rPr b="0" lang="zh-CN" sz="3600" spc="-1" strike="noStrike">
                <a:solidFill>
                  <a:srgbClr val="ffffcc"/>
                </a:solidFill>
                <a:latin typeface="隶书"/>
                <a:ea typeface="隶书"/>
              </a:rPr>
              <a:t>四护理诊断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措施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评价</a:t>
            </a:r>
            <a:r>
              <a:rPr b="0" lang="zh-CN" sz="3600" spc="-1" strike="noStrike">
                <a:solidFill>
                  <a:srgbClr val="ffffcc"/>
                </a:solidFill>
                <a:latin typeface="隶书"/>
                <a:ea typeface="隶书"/>
              </a:rPr>
              <a:t>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01080" y="6093000"/>
            <a:ext cx="523800" cy="4284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3059280" y="5157720"/>
            <a:ext cx="5689440" cy="1008000"/>
          </a:xfrm>
          <a:prstGeom prst="rect">
            <a:avLst/>
          </a:prstGeom>
          <a:gradFill rotWithShape="0">
            <a:gsLst>
              <a:gs pos="0">
                <a:srgbClr val="33ccff">
                  <a:alpha val="60392"/>
                </a:srgbClr>
              </a:gs>
              <a:gs pos="100000">
                <a:srgbClr val="ffffff">
                  <a:alpha val="9019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与腹泻、呕吐丢失营养物质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多有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39640" y="5229360"/>
            <a:ext cx="2449800" cy="1008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33ccff"/>
              </a:gs>
              <a:gs pos="100000">
                <a:srgbClr val="175d7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P4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营养失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952560" y="1826280"/>
            <a:ext cx="2197800" cy="75600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175d74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P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体温过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203640" y="1700280"/>
            <a:ext cx="5545080" cy="1008000"/>
          </a:xfrm>
          <a:prstGeom prst="rect">
            <a:avLst/>
          </a:prstGeom>
          <a:gradFill rotWithShape="0">
            <a:gsLst>
              <a:gs pos="0">
                <a:srgbClr val="33ccff">
                  <a:alpha val="60392"/>
                </a:srgbClr>
              </a:gs>
              <a:gs pos="100000">
                <a:srgbClr val="ffffff">
                  <a:alpha val="9019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与肠道感染有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203640" y="4581360"/>
            <a:ext cx="5543640" cy="1008360"/>
          </a:xfrm>
          <a:prstGeom prst="rect">
            <a:avLst/>
          </a:prstGeom>
          <a:gradFill rotWithShape="0">
            <a:gsLst>
              <a:gs pos="0">
                <a:srgbClr val="33ccff">
                  <a:alpha val="60392"/>
                </a:srgbClr>
              </a:gs>
              <a:gs pos="100000">
                <a:srgbClr val="ffffff">
                  <a:alpha val="9019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家长缺乏喂养、饮食卫生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泻患儿相关护理知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55640" y="4653000"/>
            <a:ext cx="2448000" cy="863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33ccff"/>
              </a:gs>
              <a:gs pos="100000">
                <a:srgbClr val="175d7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P8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知识缺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24600" y="441720"/>
            <a:ext cx="7894800" cy="8082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txBody>
          <a:bodyPr anchor="ctr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【护理诊断及合作性问题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826920" y="3645000"/>
            <a:ext cx="2376720" cy="10094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33ccff"/>
              </a:gs>
              <a:gs pos="100000">
                <a:srgbClr val="175d7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P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焦虑和恐惧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55640" y="2637000"/>
            <a:ext cx="2521080" cy="10094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33ccff"/>
              </a:gs>
              <a:gs pos="100000">
                <a:srgbClr val="175d7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P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潜在并发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203640" y="3645000"/>
            <a:ext cx="5472000" cy="1008000"/>
          </a:xfrm>
          <a:prstGeom prst="rect">
            <a:avLst/>
          </a:prstGeom>
          <a:gradFill rotWithShape="0">
            <a:gsLst>
              <a:gs pos="0">
                <a:srgbClr val="33ccff">
                  <a:alpha val="60392"/>
                </a:srgbClr>
              </a:gs>
              <a:gs pos="100000">
                <a:srgbClr val="ffffff">
                  <a:alpha val="9019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与陌生环境及家长担心患儿病情有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3640" y="2708280"/>
            <a:ext cx="5543640" cy="865080"/>
          </a:xfrm>
          <a:prstGeom prst="rect">
            <a:avLst/>
          </a:prstGeom>
          <a:gradFill rotWithShape="0">
            <a:gsLst>
              <a:gs pos="0">
                <a:srgbClr val="33ccff">
                  <a:alpha val="60392"/>
                </a:srgbClr>
              </a:gs>
              <a:gs pos="100000">
                <a:srgbClr val="ffffff">
                  <a:alpha val="9019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酸中毒、低钾血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99cc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692360" y="549360"/>
            <a:ext cx="6300720" cy="647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366ff"/>
              </a:gs>
              <a:gs pos="50000">
                <a:srgbClr val="172f75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隶书"/>
                <a:ea typeface="隶书"/>
              </a:rPr>
              <a:t>【</a:t>
            </a:r>
            <a:r>
              <a:rPr b="0" lang="zh-CN" sz="3600" spc="-1" strike="noStrike">
                <a:solidFill>
                  <a:srgbClr val="ffffcc"/>
                </a:solidFill>
                <a:latin typeface="隶书"/>
                <a:ea typeface="隶书"/>
              </a:rPr>
              <a:t>四护理诊断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措施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评价</a:t>
            </a:r>
            <a:r>
              <a:rPr b="0" lang="zh-CN" sz="3600" spc="-1" strike="noStrike">
                <a:solidFill>
                  <a:srgbClr val="ffffcc"/>
                </a:solidFill>
                <a:latin typeface="隶书"/>
                <a:ea typeface="隶书"/>
              </a:rPr>
              <a:t>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394920" y="1052640"/>
            <a:ext cx="8497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腹泻：</a:t>
            </a:r>
            <a:r>
              <a:rPr b="0" lang="zh-CN" sz="2400" spc="-1" strike="noStrike">
                <a:solidFill>
                  <a:srgbClr val="a50021"/>
                </a:solidFill>
                <a:latin typeface="Arial"/>
              </a:rPr>
              <a:t>与喂养不当、感染致胃肠紊乱有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评估可能引起腹泻的因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观察记录大便次数，性状及量，并收集送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做好消毒隔离，防止交叉感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加强臀部护理，预防臀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病儿排便次数减少至正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P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2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体液不足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与腹泻呕吐丢失过多和摄入量不足有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防止液体继续丢失，如呕吐重者可按医嘱应用止吐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口服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OR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液，累积损失量按轻度脱水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50ml/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㎏，中度脱水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80-100ml/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㎏，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-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小时喂完，继续丢失量根据排便次数而定。一般每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-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分钟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5m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稍大患儿可用杯子少量多次饮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187280" y="260280"/>
            <a:ext cx="6301080" cy="647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366ff"/>
              </a:gs>
              <a:gs pos="50000">
                <a:srgbClr val="172f75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隶书"/>
                <a:ea typeface="隶书"/>
              </a:rPr>
              <a:t>【</a:t>
            </a:r>
            <a:r>
              <a:rPr b="0" lang="zh-CN" sz="3600" spc="-1" strike="noStrike">
                <a:solidFill>
                  <a:srgbClr val="ffffcc"/>
                </a:solidFill>
                <a:latin typeface="隶书"/>
                <a:ea typeface="隶书"/>
              </a:rPr>
              <a:t>四护理诊断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措施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评价</a:t>
            </a:r>
            <a:r>
              <a:rPr b="0" lang="zh-CN" sz="3600" spc="-1" strike="noStrike">
                <a:solidFill>
                  <a:srgbClr val="ffffcc"/>
                </a:solidFill>
                <a:latin typeface="隶书"/>
                <a:ea typeface="隶书"/>
              </a:rPr>
              <a:t>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患儿眼睑水肿时应停止口服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R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液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新生儿或心肾功能不全休克及明显腹胀者不宜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服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R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液期间应让患儿照常饮水，防止高钠血症的发生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静脉补液：适用于中度以上脱水的患儿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注意三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①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定量：补液总量包括三部分，即累积损失量、继续损失量及每日生理需要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②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定性（输液种类）：根据脱水性质而定。低渗性脱水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/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张溶液；等渗性脱水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/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张溶液；高渗性脱水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/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/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张溶液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③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定速（输液速度）：要根据脱水的程度和性质确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一般累积损失量（约为补液总量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/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应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2h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补足，滴速约为每小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0m1/kg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继续损失量、生理需要量则在补充累积损失量以后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6h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内均匀滴入，滴速为每小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m1/kg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补液过程中还要随时根据患儿病情的变化调节输液速度。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O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病儿腹泻、呕吐症状在短期内好转，皮肤弹性恢复正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910800" y="273240"/>
            <a:ext cx="7248600" cy="4075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172f75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【四护理诊断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措施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评价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-360" y="1052640"/>
            <a:ext cx="8697960" cy="60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P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宋体"/>
              </a:rPr>
              <a:t>3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皮肤完整性受损的危险：</a:t>
            </a:r>
            <a:r>
              <a:rPr b="0" lang="zh-CN" sz="2400" spc="-1" strike="noStrike">
                <a:solidFill>
                  <a:srgbClr val="a50021"/>
                </a:solidFill>
                <a:latin typeface="Arial"/>
              </a:rPr>
              <a:t>与大便次数多刺激臀部皮肤有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宋体"/>
              </a:rPr>
              <a:t>3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观察患儿臀部皮肤情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选用清洁，柔软尿布，及时更换，避免使用塑料布包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每次便后用温水清洗臀部，蘸干，涂油，保持会阴部及肛周皮肤干燥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局部发红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渗出或溃疡者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可用烤灯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理疗促使创面干燥愈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4000" spc="-1" strike="noStrike" baseline="-25000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患儿住院期间臀部皮肤正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55640" y="333360"/>
            <a:ext cx="6300720" cy="647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366ff"/>
              </a:gs>
              <a:gs pos="50000">
                <a:srgbClr val="172f75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隶书"/>
                <a:ea typeface="隶书"/>
              </a:rPr>
              <a:t>【</a:t>
            </a:r>
            <a:r>
              <a:rPr b="0" lang="zh-CN" sz="3600" spc="-1" strike="noStrike">
                <a:solidFill>
                  <a:srgbClr val="ffffcc"/>
                </a:solidFill>
                <a:latin typeface="隶书"/>
                <a:ea typeface="隶书"/>
              </a:rPr>
              <a:t>四护理诊断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措施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评价</a:t>
            </a:r>
            <a:r>
              <a:rPr b="0" lang="zh-CN" sz="3600" spc="-1" strike="noStrike">
                <a:solidFill>
                  <a:srgbClr val="ffffcc"/>
                </a:solidFill>
                <a:latin typeface="隶书"/>
                <a:ea typeface="隶书"/>
              </a:rPr>
              <a:t>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395280" y="1267920"/>
            <a:ext cx="8569440" cy="47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P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600" spc="-1" strike="noStrike" baseline="-25000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营养失调：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与腹泻，呕吐丢失营养物质过多及摄入减少有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严重呕吐者可暂时禁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~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小时（不禁水），待好转后继续喂食，由少到多，有稀到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母乳喂养的婴儿继续哺乳，暂停辅食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人工喂养儿可喂以等量米汤或稀释的牛奶或其它代乳品，由米汤、粥、面条等逐渐过渡到正常饮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腹泻停止后继续给予营养丰富饮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每天加餐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次，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宋体"/>
              </a:rPr>
              <a:t>4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病儿能摄入足够的营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921600" y="427680"/>
            <a:ext cx="7084800" cy="458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172f75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【四护理诊断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措施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评价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P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宋体"/>
              </a:rPr>
              <a:t>5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体温升高：与肠道感染有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宋体"/>
              </a:rPr>
              <a:t>5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患儿入院体温正常，保持患儿衣物清洁干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.1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9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号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4:00T:38.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遵医嘱予解衣散热 ，温水擦浴，少量多次饮水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1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号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8:00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8 ℃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予冰力降温贴外敷，解衣散热，开窗通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4.1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号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6:00T:38.1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遵医嘱予物理降温，饮水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毫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密切监测患儿体温变化，警惕惊厥发生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及时更换清洁衣物，观察有无脱水征象，避免受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患儿经治疗护理后自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0.2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后无再次发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1055880" y="344160"/>
            <a:ext cx="7176960" cy="4078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172f75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四护理诊断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措施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评价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P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宋体"/>
              </a:rPr>
              <a:t>6 </a:t>
            </a:r>
            <a:r>
              <a:rPr b="1" lang="zh-CN" sz="3600" spc="-1" strike="noStrike" baseline="-25000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潜在并发症：酸中毒，低钾血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I6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密切观察酸中毒的症状和体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遵医嘱采集动脉血、补充碱性溶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补液后密切观察患儿的精神、肌张力及腱反射等变化，注意有无低钾血症或低钙血症的表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根据医嘱及时补充钾、钙、镁等电解质。输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液后有尿时即可开始静脉补钾，氯化钾的浓度不超过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0.3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％，滴速不宜过快，严禁静脉推注，以免引起心跳骤停。若补液中出现抽搐，可静脉缓慢注射钙剂，时间不得少于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10min.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镁剂需深部肌肉注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患儿不发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酸中毒、低血钾等并发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703440" y="281160"/>
            <a:ext cx="7663320" cy="4482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172f75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【四护理诊断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措施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评价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P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焦虑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恐惧—与陌生环境及家长担心患儿病情有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7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患儿入科后热情接待患儿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向患儿家长介绍病区环境、规章制度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巡视病房时多与患儿及家长沟通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了解患者所需。加强健康教育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让患儿家长了解患儿病情，告知各项检查结果，让家长了解此疾病及预后情况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O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儿家长焦虑和恐惧减轻，对治愈疾病有很大信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76880" y="366840"/>
            <a:ext cx="7518960" cy="4482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172f75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【四护理诊断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措施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评价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71280" y="404640"/>
            <a:ext cx="6985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主要内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78343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、患儿基本资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病史汇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、相关知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四、常见护理诊断及措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五、出院指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P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知识缺乏：家长缺乏喂养，饮食卫生及腹泻患儿相关护理知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8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向患儿家长介绍本病的相关知识、诱发因素、治疗用药、护理要点、防治措施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告知患儿家长所服用药物的名称、方法、剂量及给药时间，其作用及可能发生的副作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指导家长合理喂养，注意卫生，奶具消毒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我科门诊随访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O8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家长了解本病的相关知识，能够积极配合治疗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1221120" y="510120"/>
            <a:ext cx="6558120" cy="50976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172f75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【四护理诊断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措施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评价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55640" y="274320"/>
            <a:ext cx="7561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健康指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合理喂养，避免夏季或冬季断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生理性腹泻，避免不适当药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养成良好的卫生习惯，勤洗手、剪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甲，注意食物新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气候变化时避免过冷、过热，夏季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饮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感染性腹泻，做好消毒隔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避免随便给小儿服抗菌药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适当户外活动，增强体质，发现营养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良佝偻病及时治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根据家长文化程度及理解能力介绍腹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病因、转归、护理要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指导家长观察病情变化的方法，如尿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变化，眼窝及前囟凹陷等，以便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时与医护人员配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指导家长臀部护理方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7086600" y="4343400"/>
            <a:ext cx="117936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4858920" y="2708280"/>
            <a:ext cx="403236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i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谢 谢 大 家 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403280" y="1773360"/>
            <a:ext cx="3240000" cy="396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15640" y="333000"/>
            <a:ext cx="6659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一、患儿基本资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姓名：刘启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性别：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龄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床号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入院时间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011.10.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诊断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喘息性支气管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肝功能损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轮状病毒肠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61272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二、病史汇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88200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患儿、男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、因“咳喘一周伴发热”入院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体检：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:36°P:12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次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R:2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次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:10Kg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神志清楚，精神反应一般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咽充血，双肺呼吸音粗，可闻及痰鸣音及呼气相喘鸣音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呼气时间延长，腹膨软，腹部未及包块，无压痛及肌紧张，四肢活动度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 10.1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霍山县医院肝功能：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ALT157IU/L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16000" y="333360"/>
            <a:ext cx="6551640" cy="720720"/>
          </a:xfrm>
          <a:prstGeom prst="rect">
            <a:avLst/>
          </a:prstGeom>
          <a:gradFill rotWithShape="0">
            <a:gsLst>
              <a:gs pos="0">
                <a:srgbClr val="8fec80"/>
              </a:gs>
              <a:gs pos="100000">
                <a:srgbClr val="416c3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病 史 汇 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辅助检查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0.1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胸部正位片：两肺内带纹理增多﹑模糊，可见条片状致密影，心影卧位，两膈面光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提示：支气管肺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0.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查大便常规：轮状病毒﹙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+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诊断：轮状病毒肠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gradFill rotWithShape="0">
            <a:gsLst>
              <a:gs pos="0">
                <a:srgbClr val="8fec80"/>
              </a:gs>
              <a:gs pos="100000">
                <a:srgbClr val="416c3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病 史 汇 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79280" y="1268280"/>
            <a:ext cx="896472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0.19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血常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:   WBC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9.02  RB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.6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中性粒细胞比率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9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淋巴细胞比率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Tahoma"/>
              </a:rPr>
              <a:t> 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淋巴细胞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: 4.2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↑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反应蛋白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4.4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HB:1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↓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PLT:70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0.2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血常规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WBC:10.33↑ RBC:4.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性细胞比率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2.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淋巴细胞比率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67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HB:107↓ PL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519↑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反应蛋白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:2.36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1115640" y="259920"/>
            <a:ext cx="6985080" cy="647640"/>
          </a:xfrm>
          <a:prstGeom prst="rect">
            <a:avLst/>
          </a:prstGeom>
          <a:gradFill rotWithShape="0">
            <a:gsLst>
              <a:gs pos="0">
                <a:srgbClr val="8fec80"/>
              </a:gs>
              <a:gs pos="100000">
                <a:srgbClr val="416c3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病 史 汇 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号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生化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+CR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总蛋白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86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g /L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白蛋白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2.6 g /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球蛋白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3.4 g /L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白球比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0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葡萄糖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7.5mmol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L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总二氧化碳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6.2 mmol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L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K+:4.5 mmol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Na+:147 mmol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648000"/>
          </a:xfrm>
          <a:prstGeom prst="rect">
            <a:avLst/>
          </a:prstGeom>
          <a:gradFill rotWithShape="0">
            <a:gsLst>
              <a:gs pos="0">
                <a:srgbClr val="8fec80"/>
              </a:gs>
              <a:gs pos="100000">
                <a:srgbClr val="416c3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病 史 汇 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感染：   头孢甲兀、夫西地酸、单磷酸阿糖腺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营养心肌：磷酸肌酸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Arial"/>
              </a:rPr>
              <a:t>6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平喘：甲泼尼龙琥珀酸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血小板凝集及抗感染：  双密达莫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2.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㎎口服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id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阿奇霉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0.1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口服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q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雾化平喘化痰：布地，特步他林，爱全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0.2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患儿出院，查体：神志清楚，精神反应可，偶有咳嗽症状，为干性咳嗽，咽稍红，两肺呼吸音粗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无呕吐，腹泻，胃纳可，大小便正常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体温正常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684000" y="404640"/>
            <a:ext cx="8002440" cy="720720"/>
          </a:xfrm>
          <a:prstGeom prst="rect">
            <a:avLst/>
          </a:prstGeom>
          <a:gradFill rotWithShape="0">
            <a:gsLst>
              <a:gs pos="0">
                <a:srgbClr val="8fec80"/>
              </a:gs>
              <a:gs pos="100000">
                <a:srgbClr val="416c3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病史汇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4T07:12:37Z</dcterms:created>
  <dc:creator>SUNCHUNYING</dc:creator>
  <dc:description/>
  <dc:language>en-US</dc:language>
  <cp:lastModifiedBy>微软用户</cp:lastModifiedBy>
  <dcterms:modified xsi:type="dcterms:W3CDTF">2012-03-22T03:48:35Z</dcterms:modified>
  <cp:revision>110</cp:revision>
  <dc:subject/>
  <dc:title>小儿腹泻病与液体疗法 小儿腹泻病 </dc:title>
</cp:coreProperties>
</file>