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0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1FB4-7E40-4751-9225-0CA281C617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接下来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同学做床旁查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95F-8C07-42A7-B5E0-2A715A32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A1B-F8B8-4FA1-8260-651C1FD0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DE5-21B1-45B9-8D76-3985435A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239-221E-4B42-9249-A5C9A709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1F6-002F-4654-A550-40B6FC4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2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872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2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872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DE66-E5C1-4334-A87F-D70197FD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F3D2-204E-400D-AF89-5AD43845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162B-B755-4D03-8CE2-67C17611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4154-B995-42B0-B6A9-5578E29E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6F34-2C68-487B-8C07-3126601B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A28-9097-4D78-B617-C837DB04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F228-0B07-4E9D-A2FC-4D90C4E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DB99-D6CC-486A-B175-B1139189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7F88-7C8B-4C84-91F8-EE9276CA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904E-F274-4E07-979C-B9319013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926C-15D9-4E58-9BC0-C29CE1CE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AE20-1A06-495E-9CBF-DFF7F846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92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2872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92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2872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FFE-D948-4EE3-A6AD-3DBCE965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56AE-B2DD-447B-855A-A4557E5F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0495-4D8C-4231-AA02-16839514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E320-C040-4AD1-B409-1A34DB06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693-5F24-4FBA-9C19-B89FF5C4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4A42-08E5-419F-9CE9-BAEEA42A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17D6-C49E-4D5C-99B9-7E512256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B8EB-CE02-4531-BF18-A26D608B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AEF4-CDED-43A8-9EED-052ADA3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75C8-B9DB-49B3-9861-0A35606C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A2936-3AED-4DF5-82D7-0629176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3492-6107-416B-9DF9-7AF53CE1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71D1-2F41-47D8-A401-96DB1A04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92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02872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92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802872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7F66C-7B03-45A2-9307-14C5AE16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D35E-71F2-4F79-97EB-25730819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538-C577-41F4-96FA-98E45DF2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1EC5-0958-40AE-8232-01C1828A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344EA-87B9-42D1-8562-BBD18F07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291D-0493-45B5-8ACD-7DD4190D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13AB-7F44-4AE0-85F4-86F7A62A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98DF3-0975-4E21-94E2-6D8352A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88E6-2F71-4DF1-962D-ACBF83B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64C1-DFBE-49A7-BCC1-09CE9761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AF1E-91BC-409D-B6C2-4E343E5A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30C9-79E6-4B25-9DB4-236D40F8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19C71-EACC-4645-9AFF-A70E510A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B61-75A8-4F86-88ED-BC064C40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192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2872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192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2872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19A2-6FCE-4C2E-895A-B4DBC9E2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3864-AABF-48EC-B88F-17BE3CB0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80AA3-4F5D-4B41-97A1-55D57B2B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98914-6488-48A6-A263-8B004851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62DF-6494-461C-849F-864A1C42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68EEA-D565-4079-A56D-0CB840FD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D9FD-31B8-4605-B9DC-E6AE56FB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FE3BA-77BF-4C07-9554-967797AA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4ABD-8BF1-4024-8C2D-290CD13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1E75-ABC5-4909-88C2-448FC0AD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C44-81D7-4F39-9147-1BBA6084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A452-BA60-4335-8BC8-C474669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3E405-5346-4899-B725-03F5B8F4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2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872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2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872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A6F1A-3C38-44B7-9186-5DC98537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F1B-6613-4F2E-B5DA-66AA3D7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1E8-D865-4F8F-AEF7-263EF2AE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2653-2523-40A2-BBF8-13BE011693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12190320" cy="404640"/>
          </a:xfrm>
          <a:prstGeom prst="rect">
            <a:avLst/>
          </a:prstGeom>
          <a:gradFill rotWithShape="0">
            <a:gsLst>
              <a:gs pos="0">
                <a:srgbClr val="a3c2ff"/>
              </a:gs>
              <a:gs pos="100000">
                <a:srgbClr val="0d5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5480" y="944640"/>
            <a:ext cx="10971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71680" y="1954080"/>
            <a:ext cx="10972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1" marL="743040" indent="-285840"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2" marL="1143000" indent="-22860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3" marL="1600200" indent="-228600"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4" marL="2057400" indent="-228600"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5" marL="2057400" indent="-228600"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6" marL="2057400" indent="-228600"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44" name="AutoShape 6"/>
          <p:cNvSpPr/>
          <p:nvPr/>
        </p:nvSpPr>
        <p:spPr>
          <a:xfrm flipV="1">
            <a:off x="11182320" y="188640"/>
            <a:ext cx="770040" cy="372960"/>
          </a:xfrm>
          <a:prstGeom prst="flowChartOffpage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1679400" y="84240"/>
            <a:ext cx="0" cy="25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13" descr="图片2"/>
          <p:cNvPicPr/>
          <p:nvPr/>
        </p:nvPicPr>
        <p:blipFill>
          <a:blip r:embed="rId2"/>
          <a:stretch/>
        </p:blipFill>
        <p:spPr>
          <a:xfrm>
            <a:off x="239760" y="0"/>
            <a:ext cx="148752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5"/>
          <p:cNvSpPr/>
          <p:nvPr/>
        </p:nvSpPr>
        <p:spPr>
          <a:xfrm>
            <a:off x="10671840" y="150840"/>
            <a:ext cx="175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 algn="ctr">
              <a:lnSpc>
                <a:spcPct val="12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D4AE-FA04-4C0C-BDE3-4700CB7A9F32}" type="slidenum">
              <a:rPr b="0" lang="zh-CN" sz="1800" spc="-1" strike="noStrike">
                <a:solidFill>
                  <a:srgbClr val="00b0f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583-3E6A-45A9-96B2-E81DBFD3B7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FBF1-2F5D-4CD4-AA31-4BCDCB04A192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310B-D547-4D50-888D-AB6EB989027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D83-A1E4-4CEC-A16F-8CF267FB3194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2EE-3983-4651-B041-F35CFF3DF2A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0" y="0"/>
            <a:ext cx="12190320" cy="404640"/>
          </a:xfrm>
          <a:prstGeom prst="rect">
            <a:avLst/>
          </a:prstGeom>
          <a:gradFill rotWithShape="0">
            <a:gsLst>
              <a:gs pos="0">
                <a:srgbClr val="a3c2ff"/>
              </a:gs>
              <a:gs pos="100000">
                <a:srgbClr val="0d5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 flipV="1">
            <a:off x="11182320" y="188640"/>
            <a:ext cx="770040" cy="372960"/>
          </a:xfrm>
          <a:prstGeom prst="flowChartOffpage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679400" y="84240"/>
            <a:ext cx="0" cy="25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图片2"/>
          <p:cNvPicPr/>
          <p:nvPr/>
        </p:nvPicPr>
        <p:blipFill>
          <a:blip r:embed="rId2"/>
          <a:stretch/>
        </p:blipFill>
        <p:spPr>
          <a:xfrm>
            <a:off x="239760" y="0"/>
            <a:ext cx="1487520" cy="388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5"/>
          <p:cNvSpPr/>
          <p:nvPr/>
        </p:nvSpPr>
        <p:spPr>
          <a:xfrm>
            <a:off x="10671840" y="150840"/>
            <a:ext cx="175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 algn="ctr">
              <a:lnSpc>
                <a:spcPct val="12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1CC0-C977-431B-91DD-1542FFDD13BB}" type="slidenum">
              <a:rPr b="0" lang="zh-CN" sz="1800" spc="-1" strike="noStrike">
                <a:solidFill>
                  <a:srgbClr val="00b0f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55480" y="944640"/>
            <a:ext cx="10971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71680" y="1954080"/>
            <a:ext cx="10972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1" marL="743040" indent="-285840"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2" marL="1143000" indent="-22860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3" marL="1600200" indent="-228600"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4" marL="2057400" indent="-228600"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5" marL="2057400" indent="-228600"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  <a:p>
            <a:pPr lvl="6" marL="2057400" indent="-228600"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01760" y="601956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165560" y="601956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736120" y="601956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3D36-9496-4F89-AE63-56C39277EA68}" type="slidenum"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2"/>
          <p:cNvSpPr/>
          <p:nvPr/>
        </p:nvSpPr>
        <p:spPr>
          <a:xfrm>
            <a:off x="0" y="2362320"/>
            <a:ext cx="12190320" cy="2085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10991880" y="39384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Broadway"/>
                <a:ea typeface="宋体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-160200" y="-811080"/>
            <a:ext cx="5281560" cy="35906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0"/>
          <p:cNvSpPr/>
          <p:nvPr/>
        </p:nvSpPr>
        <p:spPr>
          <a:xfrm>
            <a:off x="3065400" y="3068640"/>
            <a:ext cx="65815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1f497d"/>
                </a:solidFill>
                <a:latin typeface="微软雅黑"/>
                <a:ea typeface="微软雅黑"/>
              </a:rPr>
              <a:t>腹腔镜胆囊切除术护理查房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</a:t>
            </a:r>
            <a:r>
              <a:rPr b="1" lang="zh-CN" sz="48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1400" y="685440"/>
            <a:ext cx="113871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胆囊的解剖</a:t>
            </a:r>
            <a:endParaRPr b="1" lang="en-US" sz="32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58080" y="1895040"/>
            <a:ext cx="558936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胆囊体部向前上弯曲变窄形成胆囊颈，颈上部呈囊性膨大，称为</a:t>
            </a:r>
            <a:r>
              <a:rPr b="1" lang="en-US" sz="2800" spc="-1" strike="noStrike">
                <a:solidFill>
                  <a:srgbClr val="0070c0"/>
                </a:solidFill>
                <a:latin typeface="宋体"/>
                <a:ea typeface="宋体"/>
              </a:rPr>
              <a:t>Hartmann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袋，常是胆囊结石滞留的部位。胆囊管由胆囊颈延伸形成，成锐角与肝总管汇合成胆总管。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tretch/>
        </p:blipFill>
        <p:spPr>
          <a:xfrm>
            <a:off x="252360" y="1639800"/>
            <a:ext cx="51847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685440"/>
            <a:ext cx="1138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胆囊的解剖</a:t>
            </a:r>
            <a:endParaRPr b="1" lang="en-US" sz="32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02440" y="2682720"/>
            <a:ext cx="558936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胆囊颈和胆囊管的黏膜向内呈螺旋状突出，形成螺旋襞，可节制胆汁的出入，胆结石也常嵌顿于此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05" name="Picture 4" descr="胆囊6"/>
          <p:cNvPicPr/>
          <p:nvPr/>
        </p:nvPicPr>
        <p:blipFill>
          <a:blip r:embed="rId1"/>
          <a:stretch/>
        </p:blipFill>
        <p:spPr>
          <a:xfrm>
            <a:off x="431640" y="1844640"/>
            <a:ext cx="60469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4320" y="727200"/>
            <a:ext cx="10971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胆囊结石形成的危险因素</a:t>
            </a:r>
            <a:endParaRPr b="1" lang="en-US" sz="32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06440" y="2133360"/>
            <a:ext cx="1138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隶书"/>
                <a:ea typeface="隶书"/>
              </a:rPr>
              <a:t>感染因素：胆道感染（胆囊收缩功能下降）；细菌、虫卵；胆道梗阻胆汁淤积</a:t>
            </a:r>
            <a:endParaRPr b="0" lang="en-US" sz="36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隶书"/>
                <a:ea typeface="隶书"/>
              </a:rPr>
              <a:t>代谢因素：胆汁内含有胆盐、胆固醇、卵磷脂，它们以一定比例混合保持着胆汁的胶状溶解状态，三者比例失调就会形成结石</a:t>
            </a:r>
            <a:endParaRPr b="0" lang="en-US" sz="3600" spc="-1" strike="noStrike">
              <a:solidFill>
                <a:srgbClr val="00b0f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1859040"/>
            <a:ext cx="113853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为什么胆囊结石患者常</a:t>
            </a:r>
            <a:br>
              <a:rPr sz="6000"/>
            </a:br>
            <a:r>
              <a:rPr b="1" lang="zh-CN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夜间发病</a:t>
            </a:r>
            <a:r>
              <a:rPr b="1" lang="en-US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?</a:t>
            </a:r>
            <a:endParaRPr b="1" lang="en-US" sz="60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09" name="Picture 5" descr="c:\documents and settings\administrator\application data\360se6\User Data\temp\008.jpg"/>
          <p:cNvPicPr/>
          <p:nvPr/>
        </p:nvPicPr>
        <p:blipFill>
          <a:blip r:embed="rId1"/>
          <a:stretch/>
        </p:blipFill>
        <p:spPr>
          <a:xfrm>
            <a:off x="0" y="3898800"/>
            <a:ext cx="2959200" cy="2959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75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06440" y="1457280"/>
            <a:ext cx="1138536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夜间平卧时胆囊壶腹部位置改变，结石松动，易随胆汁进入胆囊而发生嵌顿</a:t>
            </a:r>
            <a:endParaRPr b="0" lang="en-US" sz="4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夜间迷走神经兴奋占优势，尤其晚餐进油腻食物后均和增加胆囊收缩，促使胆石嵌入胆囊管</a:t>
            </a:r>
            <a:endParaRPr b="0" lang="en-US" sz="4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11" name="Picture 6" descr="u=166695342,3588836295&amp;fm=0&amp;gp=0[1]"/>
          <p:cNvPicPr/>
          <p:nvPr/>
        </p:nvPicPr>
        <p:blipFill>
          <a:blip r:embed="rId1"/>
          <a:stretch/>
        </p:blipFill>
        <p:spPr>
          <a:xfrm>
            <a:off x="9528120" y="5473800"/>
            <a:ext cx="2336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2895120"/>
            <a:ext cx="1138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胆囊结石病人为什么取</a:t>
            </a:r>
            <a:br>
              <a:rPr sz="6000"/>
            </a:br>
            <a:r>
              <a:rPr b="1" lang="zh-CN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右侧卧位</a:t>
            </a:r>
            <a:r>
              <a:rPr b="1" lang="en-US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?</a:t>
            </a:r>
            <a:endParaRPr b="1" lang="en-US" sz="60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13" name="Picture 9" descr="c:\documents and settings\administrator\application data\360se6\User Data\temp\t014c84bfdf4fd61e3a.jpg"/>
          <p:cNvPicPr/>
          <p:nvPr/>
        </p:nvPicPr>
        <p:blipFill>
          <a:blip r:embed="rId1"/>
          <a:stretch/>
        </p:blipFill>
        <p:spPr>
          <a:xfrm>
            <a:off x="0" y="4524480"/>
            <a:ext cx="2297160" cy="23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07960" y="2661840"/>
            <a:ext cx="110282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因为胆囊形状就象一只小酒瓶，左侧卧位时，“瓶口”便会朝下，“瓶底”朝上，胆石在重力作用下，易嵌入“瓶口”而导致胆绞痛</a:t>
            </a:r>
            <a:br>
              <a:rPr sz="4000"/>
            </a:br>
            <a:r>
              <a:rPr b="1" lang="zh-CN" sz="4000" spc="-1" strike="noStrike">
                <a:solidFill>
                  <a:srgbClr val="0070c0"/>
                </a:solidFill>
                <a:latin typeface="微软雅黑"/>
              </a:rPr>
              <a:t> </a:t>
            </a:r>
            <a:endParaRPr b="0" lang="en-US" sz="4000" spc="-1" strike="noStrike">
              <a:solidFill>
                <a:srgbClr val="00b0f0"/>
              </a:solidFill>
              <a:latin typeface="微软雅黑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71680" y="1712880"/>
            <a:ext cx="109728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手术治疗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－－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腹腔镜胆囊切除术</a:t>
            </a:r>
            <a:endParaRPr b="0" lang="en-US" sz="36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－－胆囊切除术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－－胆囊切除术＋胆总管探查术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非手术治疗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－－合并严重心血管疾病不能耐受手术的 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     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老年人，可采用溶石或排石疗法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55480" y="653760"/>
            <a:ext cx="1097136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治疗原则</a:t>
            </a:r>
            <a:endParaRPr b="1" lang="en-US" sz="3200" spc="-1" strike="noStrike">
              <a:solidFill>
                <a:srgbClr val="00b0f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baby"/>
          <p:cNvPicPr/>
          <p:nvPr/>
        </p:nvPicPr>
        <p:blipFill>
          <a:blip r:embed="rId1"/>
          <a:stretch/>
        </p:blipFill>
        <p:spPr>
          <a:xfrm>
            <a:off x="406440" y="836640"/>
            <a:ext cx="5635440" cy="57164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3"/>
          <p:cNvSpPr/>
          <p:nvPr/>
        </p:nvSpPr>
        <p:spPr>
          <a:xfrm>
            <a:off x="6384960" y="1486080"/>
            <a:ext cx="580536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宋体"/>
              </a:rPr>
              <a:t>接下来请看   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宋体"/>
              </a:rPr>
              <a:t>病例介绍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直接连接符 6"/>
          <p:cNvSpPr/>
          <p:nvPr/>
        </p:nvSpPr>
        <p:spPr>
          <a:xfrm>
            <a:off x="-4540320" y="965160"/>
            <a:ext cx="8605800" cy="0"/>
          </a:xfrm>
          <a:prstGeom prst="line">
            <a:avLst/>
          </a:prstGeom>
          <a:ln w="10080">
            <a:solidFill>
              <a:srgbClr val="92d05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10094760" y="755640"/>
            <a:ext cx="89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标题 1"/>
          <p:cNvSpPr/>
          <p:nvPr/>
        </p:nvSpPr>
        <p:spPr>
          <a:xfrm>
            <a:off x="8615520" y="820800"/>
            <a:ext cx="1449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直接连接符 13"/>
          <p:cNvSpPr/>
          <p:nvPr/>
        </p:nvSpPr>
        <p:spPr>
          <a:xfrm flipV="1">
            <a:off x="4029120" y="396360"/>
            <a:ext cx="0" cy="584280"/>
          </a:xfrm>
          <a:prstGeom prst="line">
            <a:avLst/>
          </a:prstGeom>
          <a:ln w="10080">
            <a:solidFill>
              <a:srgbClr val="92d05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1116000" y="457200"/>
            <a:ext cx="26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患者基本资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直接连接符 19"/>
          <p:cNvSpPr/>
          <p:nvPr/>
        </p:nvSpPr>
        <p:spPr>
          <a:xfrm>
            <a:off x="1127160" y="4797360"/>
            <a:ext cx="4895640" cy="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直接连接符 21"/>
          <p:cNvSpPr/>
          <p:nvPr/>
        </p:nvSpPr>
        <p:spPr>
          <a:xfrm>
            <a:off x="1127160" y="5950080"/>
            <a:ext cx="5400720" cy="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17"/>
          <p:cNvSpPr/>
          <p:nvPr/>
        </p:nvSpPr>
        <p:spPr>
          <a:xfrm>
            <a:off x="1127160" y="3573360"/>
            <a:ext cx="4895640" cy="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直接连接符 12"/>
          <p:cNvSpPr/>
          <p:nvPr/>
        </p:nvSpPr>
        <p:spPr>
          <a:xfrm>
            <a:off x="1127160" y="2276640"/>
            <a:ext cx="4895640" cy="144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椭圆 2"/>
          <p:cNvSpPr/>
          <p:nvPr/>
        </p:nvSpPr>
        <p:spPr>
          <a:xfrm>
            <a:off x="5032440" y="466560"/>
            <a:ext cx="6948360" cy="6121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主诉：反复右上腹疼痛</a:t>
            </a:r>
            <a:r>
              <a:rPr b="1" lang="en-US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病史：患者自诉</a:t>
            </a:r>
            <a:r>
              <a:rPr b="1" lang="en-US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年前无明显诱因出现右上腹部闷痛不适，疼痛呈阵发性，无明显阵发性加剧，无放射性及转移性疼痛，无恶心、呕吐。</a:t>
            </a:r>
            <a:r>
              <a:rPr b="1" lang="en-US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天前就诊我院，行腹部</a:t>
            </a:r>
            <a:r>
              <a:rPr b="1" lang="en-US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超示</a:t>
            </a:r>
            <a:r>
              <a:rPr b="1" lang="en-US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轻度脂肪肝</a:t>
            </a:r>
            <a:r>
              <a:rPr b="1" lang="en-US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胆囊多发结石（充满型），今日为进一步治疗求诊我科，拟诊以“胆囊结石”收住我科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矩形 3"/>
          <p:cNvSpPr/>
          <p:nvPr/>
        </p:nvSpPr>
        <p:spPr>
          <a:xfrm>
            <a:off x="5748480" y="939960"/>
            <a:ext cx="54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主诉和现病史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椭圆 13"/>
          <p:cNvSpPr/>
          <p:nvPr/>
        </p:nvSpPr>
        <p:spPr>
          <a:xfrm>
            <a:off x="695160" y="2060640"/>
            <a:ext cx="432000" cy="431640"/>
          </a:xfrm>
          <a:prstGeom prst="ellipse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椭圆 18"/>
          <p:cNvSpPr/>
          <p:nvPr/>
        </p:nvSpPr>
        <p:spPr>
          <a:xfrm>
            <a:off x="695160" y="3357720"/>
            <a:ext cx="432000" cy="431640"/>
          </a:xfrm>
          <a:prstGeom prst="ellipse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20"/>
          <p:cNvSpPr/>
          <p:nvPr/>
        </p:nvSpPr>
        <p:spPr>
          <a:xfrm>
            <a:off x="695160" y="4581360"/>
            <a:ext cx="432000" cy="432000"/>
          </a:xfrm>
          <a:prstGeom prst="ellipse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椭圆 22"/>
          <p:cNvSpPr/>
          <p:nvPr/>
        </p:nvSpPr>
        <p:spPr>
          <a:xfrm>
            <a:off x="695160" y="5734080"/>
            <a:ext cx="432000" cy="431640"/>
          </a:xfrm>
          <a:prstGeom prst="ellipse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矩形1"/>
          <p:cNvSpPr/>
          <p:nvPr/>
        </p:nvSpPr>
        <p:spPr>
          <a:xfrm>
            <a:off x="1216080" y="1109520"/>
            <a:ext cx="48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床号：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523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姓名：黄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**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性别：男          年龄：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5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住院号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005804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727200" y="2771640"/>
            <a:ext cx="45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宋体"/>
              </a:rPr>
              <a:t>诊断：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宋体"/>
              </a:rPr>
              <a:t>慢性胆囊炎 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宋体"/>
              </a:rPr>
              <a:t>胆囊结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宋体"/>
              </a:rPr>
              <a:t>右肾结石      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宋体"/>
              </a:rPr>
              <a:t>脂肪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Calibri"/>
                <a:ea typeface="宋体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矩形2"/>
          <p:cNvSpPr/>
          <p:nvPr/>
        </p:nvSpPr>
        <p:spPr>
          <a:xfrm>
            <a:off x="1092240" y="43419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入院时间：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19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矩形3"/>
          <p:cNvSpPr/>
          <p:nvPr/>
        </p:nvSpPr>
        <p:spPr>
          <a:xfrm>
            <a:off x="1216080" y="546588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入院方式：步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日期占位符 1"/>
          <p:cNvSpPr/>
          <p:nvPr/>
        </p:nvSpPr>
        <p:spPr>
          <a:xfrm>
            <a:off x="60948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14B3-757A-4E33-A557-CE726CAB122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3"/>
          <p:cNvSpPr/>
          <p:nvPr/>
        </p:nvSpPr>
        <p:spPr>
          <a:xfrm>
            <a:off x="60948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F615-6D76-4D1F-8B30-C8AD1DE7020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-127440"/>
            <a:ext cx="1097136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查房目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内容占位符 3" descr="Penguins.jpg"/>
          <p:cNvPicPr/>
          <p:nvPr/>
        </p:nvPicPr>
        <p:blipFill>
          <a:blip r:embed="rId1"/>
          <a:stretch/>
        </p:blipFill>
        <p:spPr>
          <a:xfrm>
            <a:off x="84240" y="981000"/>
            <a:ext cx="4859280" cy="5832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5437080" y="2114640"/>
            <a:ext cx="57978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了解胆囊的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掌握胆囊结石相关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掌握胆囊切除术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日期占位符 1"/>
          <p:cNvSpPr/>
          <p:nvPr/>
        </p:nvSpPr>
        <p:spPr>
          <a:xfrm>
            <a:off x="60948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C2A8-D33A-4529-8291-3793FEDCD7E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日期占位符 3"/>
          <p:cNvSpPr/>
          <p:nvPr/>
        </p:nvSpPr>
        <p:spPr>
          <a:xfrm>
            <a:off x="60948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FD5D-F7EC-4CD8-AFF3-558FA6C05BB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-127440"/>
            <a:ext cx="1097136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病史汇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椭圆 4"/>
          <p:cNvSpPr/>
          <p:nvPr/>
        </p:nvSpPr>
        <p:spPr>
          <a:xfrm>
            <a:off x="5197320" y="1089000"/>
            <a:ext cx="6623280" cy="572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病程中患者未诉发热，黄疸，无慢性咳嗽，咳痰，无咯血，胸闷，无呼吸困难，无呕血，黑便，无腹胀，腹泻，无心慌，冷汗，无尿频，尿急，尿痛；精神可，饮食，睡眠可，大小便未见明显异常，体重近期内未见明显增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内容占位符 3" descr="Penguins.jpg"/>
          <p:cNvPicPr/>
          <p:nvPr/>
        </p:nvPicPr>
        <p:blipFill>
          <a:blip r:embed="rId2"/>
          <a:stretch/>
        </p:blipFill>
        <p:spPr>
          <a:xfrm>
            <a:off x="84240" y="981000"/>
            <a:ext cx="4859280" cy="5832720"/>
          </a:xfrm>
          <a:prstGeom prst="rect">
            <a:avLst/>
          </a:prstGeom>
          <a:ln w="0">
            <a:noFill/>
          </a:ln>
        </p:spPr>
      </p:pic>
      <p:sp>
        <p:nvSpPr>
          <p:cNvPr id="343" name="日期占位符 1"/>
          <p:cNvSpPr/>
          <p:nvPr/>
        </p:nvSpPr>
        <p:spPr>
          <a:xfrm>
            <a:off x="60948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1C16-1315-4E55-B6C2-0959685871F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直接连接符 10"/>
          <p:cNvSpPr/>
          <p:nvPr/>
        </p:nvSpPr>
        <p:spPr>
          <a:xfrm>
            <a:off x="10094760" y="809640"/>
            <a:ext cx="1800" cy="260280"/>
          </a:xfrm>
          <a:prstGeom prst="line">
            <a:avLst/>
          </a:prstGeom>
          <a:ln w="10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椭圆 10"/>
          <p:cNvSpPr/>
          <p:nvPr/>
        </p:nvSpPr>
        <p:spPr>
          <a:xfrm>
            <a:off x="7175520" y="1434960"/>
            <a:ext cx="3419280" cy="3060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  <a:ea typeface="宋体"/>
              </a:rPr>
              <a:t>体格检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椭圆 4"/>
          <p:cNvSpPr/>
          <p:nvPr/>
        </p:nvSpPr>
        <p:spPr>
          <a:xfrm>
            <a:off x="552600" y="227160"/>
            <a:ext cx="6732360" cy="5541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Group 5"/>
          <p:cNvGrpSpPr/>
          <p:nvPr/>
        </p:nvGrpSpPr>
        <p:grpSpPr>
          <a:xfrm>
            <a:off x="9470880" y="460440"/>
            <a:ext cx="1764000" cy="1476360"/>
            <a:chOff x="9470880" y="460440"/>
            <a:chExt cx="1764000" cy="1476360"/>
          </a:xfrm>
        </p:grpSpPr>
        <p:sp>
          <p:nvSpPr>
            <p:cNvPr id="348" name="椭圆 6"/>
            <p:cNvSpPr/>
            <p:nvPr/>
          </p:nvSpPr>
          <p:spPr>
            <a:xfrm>
              <a:off x="9470880" y="460440"/>
              <a:ext cx="1764000" cy="1476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9" name="Picture 2" descr=""/>
            <p:cNvPicPr/>
            <p:nvPr/>
          </p:nvPicPr>
          <p:blipFill>
            <a:blip r:embed="rId2"/>
            <a:srcRect l="16931" t="25812" r="24005" b="3716"/>
            <a:stretch/>
          </p:blipFill>
          <p:spPr>
            <a:xfrm>
              <a:off x="9661320" y="619920"/>
              <a:ext cx="1383120" cy="11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矩形 8"/>
          <p:cNvSpPr/>
          <p:nvPr/>
        </p:nvSpPr>
        <p:spPr>
          <a:xfrm>
            <a:off x="1076400" y="1292400"/>
            <a:ext cx="569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T36.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℃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P68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R 2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BP 121/80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查体神清，精神可，皮肤巩膜无黄染，全腹平软，右上腹压痛，无反跳痛，未触及包块，肝肾区无叩击痛，移动性浊音阴性，肠鸣音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次／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44"/>
          <p:cNvSpPr/>
          <p:nvPr/>
        </p:nvSpPr>
        <p:spPr>
          <a:xfrm>
            <a:off x="6027840" y="315756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同心圆 16"/>
          <p:cNvSpPr/>
          <p:nvPr/>
        </p:nvSpPr>
        <p:spPr>
          <a:xfrm>
            <a:off x="10769760" y="1274760"/>
            <a:ext cx="323640" cy="2858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0000"/>
                </a:moveTo>
                <a:cubicBezTo>
                  <a:pt x="0" y="4476"/>
                  <a:pt x="4476" y="0"/>
                  <a:pt x="10000" y="0"/>
                </a:cubicBezTo>
                <a:cubicBezTo>
                  <a:pt x="15523" y="0"/>
                  <a:pt x="20000" y="4476"/>
                  <a:pt x="20000" y="10000"/>
                </a:cubicBezTo>
                <a:cubicBezTo>
                  <a:pt x="20000" y="15523"/>
                  <a:pt x="15523" y="20000"/>
                  <a:pt x="10000" y="20000"/>
                </a:cubicBezTo>
                <a:cubicBezTo>
                  <a:pt x="4476" y="20000"/>
                  <a:pt x="0" y="15523"/>
                  <a:pt x="0" y="10000"/>
                </a:cubicBezTo>
                <a:cubicBezTo>
                  <a:pt x="0" y="10000"/>
                  <a:pt x="272" y="10000"/>
                  <a:pt x="272" y="10000"/>
                </a:cubicBezTo>
                <a:cubicBezTo>
                  <a:pt x="272" y="15371"/>
                  <a:pt x="4628" y="19725"/>
                  <a:pt x="10000" y="19725"/>
                </a:cubicBezTo>
                <a:cubicBezTo>
                  <a:pt x="15371" y="19725"/>
                  <a:pt x="19725" y="15371"/>
                  <a:pt x="19725" y="10000"/>
                </a:cubicBezTo>
                <a:cubicBezTo>
                  <a:pt x="19725" y="4628"/>
                  <a:pt x="15371" y="272"/>
                  <a:pt x="10000" y="272"/>
                </a:cubicBezTo>
                <a:cubicBezTo>
                  <a:pt x="4628" y="272"/>
                  <a:pt x="272" y="4628"/>
                  <a:pt x="272" y="100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同心圆 17"/>
          <p:cNvSpPr/>
          <p:nvPr/>
        </p:nvSpPr>
        <p:spPr>
          <a:xfrm>
            <a:off x="11134800" y="1055520"/>
            <a:ext cx="144360" cy="144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0000"/>
                </a:moveTo>
                <a:cubicBezTo>
                  <a:pt x="0" y="4476"/>
                  <a:pt x="4476" y="0"/>
                  <a:pt x="10000" y="0"/>
                </a:cubicBezTo>
                <a:cubicBezTo>
                  <a:pt x="15523" y="0"/>
                  <a:pt x="20000" y="4476"/>
                  <a:pt x="20000" y="10000"/>
                </a:cubicBezTo>
                <a:cubicBezTo>
                  <a:pt x="20000" y="15523"/>
                  <a:pt x="15523" y="20000"/>
                  <a:pt x="10000" y="20000"/>
                </a:cubicBezTo>
                <a:cubicBezTo>
                  <a:pt x="4476" y="20000"/>
                  <a:pt x="0" y="15523"/>
                  <a:pt x="0" y="10000"/>
                </a:cubicBezTo>
                <a:cubicBezTo>
                  <a:pt x="0" y="10000"/>
                  <a:pt x="1491" y="10000"/>
                  <a:pt x="1491" y="10000"/>
                </a:cubicBezTo>
                <a:cubicBezTo>
                  <a:pt x="1491" y="14699"/>
                  <a:pt x="5299" y="18508"/>
                  <a:pt x="10000" y="18508"/>
                </a:cubicBezTo>
                <a:cubicBezTo>
                  <a:pt x="14699" y="18508"/>
                  <a:pt x="18508" y="14699"/>
                  <a:pt x="18508" y="10000"/>
                </a:cubicBezTo>
                <a:cubicBezTo>
                  <a:pt x="18508" y="5299"/>
                  <a:pt x="14699" y="1491"/>
                  <a:pt x="10000" y="1491"/>
                </a:cubicBezTo>
                <a:cubicBezTo>
                  <a:pt x="5299" y="1491"/>
                  <a:pt x="1491" y="5299"/>
                  <a:pt x="1491" y="100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日期占位符 1"/>
          <p:cNvSpPr/>
          <p:nvPr/>
        </p:nvSpPr>
        <p:spPr>
          <a:xfrm>
            <a:off x="60948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33FF-EFBC-4AFC-8BD3-525B9F26461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直接连接符 6"/>
          <p:cNvSpPr/>
          <p:nvPr/>
        </p:nvSpPr>
        <p:spPr>
          <a:xfrm flipV="1">
            <a:off x="406440" y="944280"/>
            <a:ext cx="4006800" cy="36360"/>
          </a:xfrm>
          <a:prstGeom prst="line">
            <a:avLst/>
          </a:prstGeom>
          <a:ln w="10080">
            <a:solidFill>
              <a:srgbClr val="92d05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直接连接符 10"/>
          <p:cNvSpPr/>
          <p:nvPr/>
        </p:nvSpPr>
        <p:spPr>
          <a:xfrm>
            <a:off x="10094760" y="809640"/>
            <a:ext cx="1800" cy="260280"/>
          </a:xfrm>
          <a:prstGeom prst="line">
            <a:avLst/>
          </a:prstGeom>
          <a:ln w="10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4"/>
          <p:cNvSpPr/>
          <p:nvPr/>
        </p:nvSpPr>
        <p:spPr>
          <a:xfrm>
            <a:off x="1163520" y="40464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  <a:ea typeface="微软雅黑"/>
              </a:rPr>
              <a:t>各种辅助检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矩形 3"/>
          <p:cNvSpPr/>
          <p:nvPr/>
        </p:nvSpPr>
        <p:spPr>
          <a:xfrm>
            <a:off x="120600" y="1558800"/>
            <a:ext cx="717480" cy="64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500" spc="-1" strike="noStrike">
                <a:solidFill>
                  <a:srgbClr val="92d050"/>
                </a:solidFill>
                <a:latin typeface="Stencil"/>
                <a:ea typeface="宋体"/>
              </a:rPr>
              <a:t>1</a:t>
            </a:r>
            <a:endParaRPr b="0" lang="en-US" sz="4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44"/>
          <p:cNvSpPr/>
          <p:nvPr/>
        </p:nvSpPr>
        <p:spPr>
          <a:xfrm>
            <a:off x="2367000" y="1069920"/>
            <a:ext cx="599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超声提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、轻度脂肪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、胆囊多发结石（充满型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、胰腺、脾未见异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心电图提示：正常心电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血常规：白细胞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4.3*10*9/L,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中性细胞百分比：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56.6%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，淋巴细胞比率：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36.1%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，红细胞：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5.11*10*12/L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，血红蛋白：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148g/L,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血小板：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222*10*9/L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，血型：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型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RH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）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椭圆 3"/>
          <p:cNvSpPr/>
          <p:nvPr/>
        </p:nvSpPr>
        <p:spPr>
          <a:xfrm>
            <a:off x="8359920" y="142920"/>
            <a:ext cx="3708360" cy="398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Object 61" descr=""/>
          <p:cNvPicPr/>
          <p:nvPr/>
        </p:nvPicPr>
        <p:blipFill>
          <a:blip r:embed="rId2"/>
          <a:stretch/>
        </p:blipFill>
        <p:spPr>
          <a:xfrm>
            <a:off x="12781080" y="576432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362" name="日期占位符 1"/>
          <p:cNvSpPr/>
          <p:nvPr/>
        </p:nvSpPr>
        <p:spPr>
          <a:xfrm>
            <a:off x="60948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9DC1-433E-4A01-8C7B-DD0DEF3E6B6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日期占位符 3"/>
          <p:cNvSpPr/>
          <p:nvPr/>
        </p:nvSpPr>
        <p:spPr>
          <a:xfrm>
            <a:off x="60948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292C-8E57-4E94-B95D-24BD33FEA7B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950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Calibri"/>
                <a:ea typeface="宋体"/>
              </a:rPr>
              <a:t>治   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456920"/>
            <a:ext cx="1097136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入院后予二级护理，半流质饮食，完善手术前各种检查及相关准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于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宋体"/>
              </a:rPr>
              <a:t>10.20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日在全麻醉下行腹腔镜下胆囊切除术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宋体"/>
              </a:rPr>
              <a:t>+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腹腔引流，术毕安返病房，术后予一级护理、禁食、氧气吸入、心电监护、保留导尿、腹腔引流管予妥善固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于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10.21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停止心电监护、吸氧，取半卧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于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10.22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改为二级护理、指导流质饮食，拔除尿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于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10.23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指导半流质饮食、拔除腹腔引流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于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10.26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  <a:ea typeface="宋体"/>
              </a:rPr>
              <a:t>办理出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日期占位符 1"/>
          <p:cNvSpPr/>
          <p:nvPr/>
        </p:nvSpPr>
        <p:spPr>
          <a:xfrm>
            <a:off x="60948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CFD7-BE41-4B3D-B9B4-5BDEE07EB6E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102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治疗用药</a:t>
            </a:r>
            <a:endParaRPr b="1" lang="en-US" sz="44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05200" y="2009880"/>
            <a:ext cx="513072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消炎药：头孢他啶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止痛药：氟比洛芬酯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补充电解质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氯化钾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31840" y="1865160"/>
            <a:ext cx="967104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b0f0"/>
                </a:solidFill>
                <a:latin typeface="隶书"/>
                <a:ea typeface="隶书"/>
              </a:rPr>
              <a:t>护理诊断</a:t>
            </a:r>
            <a:br>
              <a:rPr sz="6000"/>
            </a:br>
            <a:r>
              <a:rPr b="1" i="1" lang="zh-CN" sz="6000" spc="-1" strike="noStrike">
                <a:solidFill>
                  <a:srgbClr val="00b0f0"/>
                </a:solidFill>
                <a:latin typeface="隶书"/>
                <a:ea typeface="隶书"/>
              </a:rPr>
              <a:t>                         与护理措施</a:t>
            </a:r>
            <a:endParaRPr b="1" lang="en-US" sz="60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70" name="Picture 5" descr="c:\documents and settings\administrator\application data\360se6\User Data\temp\_id=101388.png.png"/>
          <p:cNvPicPr/>
          <p:nvPr/>
        </p:nvPicPr>
        <p:blipFill>
          <a:blip r:embed="rId1"/>
          <a:stretch/>
        </p:blipFill>
        <p:spPr>
          <a:xfrm>
            <a:off x="4597560" y="4419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1"/>
          <p:cNvSpPr/>
          <p:nvPr/>
        </p:nvSpPr>
        <p:spPr>
          <a:xfrm>
            <a:off x="812880" y="646200"/>
            <a:ext cx="44258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护理诊断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文本框2"/>
          <p:cNvSpPr/>
          <p:nvPr/>
        </p:nvSpPr>
        <p:spPr>
          <a:xfrm>
            <a:off x="1004760" y="1936800"/>
            <a:ext cx="997452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一、疼痛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---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结石嵌顿在胆囊颈部导致胆汁引流不畅有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二、焦虑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---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对腹腔镜手术缺乏了解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三、舒适的改变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---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手术所致的组织创伤和伤口有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四、活动无耐力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---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与手术、卧床时间长、禁食水有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Calibri"/>
                <a:ea typeface="宋体"/>
              </a:rPr>
              <a:t>五、营养失调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  <a:ea typeface="宋体"/>
              </a:rPr>
              <a:t>---</a:t>
            </a:r>
            <a:r>
              <a:rPr b="1" lang="zh-CN" sz="3000" spc="-1" strike="noStrike">
                <a:solidFill>
                  <a:srgbClr val="0000ff"/>
                </a:solidFill>
                <a:latin typeface="Calibri"/>
                <a:ea typeface="宋体"/>
              </a:rPr>
              <a:t>低于机体需要量与术前术后禁食水有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-46440" y="645840"/>
            <a:ext cx="1223820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f0"/>
                </a:solidFill>
                <a:latin typeface="隶书"/>
                <a:ea typeface="隶书"/>
              </a:rPr>
              <a:t>             </a:t>
            </a:r>
            <a:r>
              <a:rPr b="1" i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护理措施</a:t>
            </a:r>
            <a:r>
              <a:rPr b="1" i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(-)</a:t>
            </a:r>
            <a:endParaRPr b="0" lang="en-US" sz="6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1.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分析其疼痛产生的原因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   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介绍缓解疼痛的方法如协助病人取右侧卧位，胆绞痛时用手按摩疼痛区域可增加舒适感   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3.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避免诱发或加重疼痛的因素，疼痛发作时应禁饮禁食，以减少胆囊收缩，减轻疼痛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4.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解痉镇痛剂的应用，如阿托品、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654-2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、氟比洛芬，禁用吗啡，吗啡能引起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oddi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  <a:ea typeface="宋体"/>
              </a:rPr>
              <a:t>括约肌收缩使疼痛加剧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       </a:t>
            </a:r>
            <a:endParaRPr b="0" lang="en-US" sz="36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74" name="Picture 4" descr="u=3044284875,3878009347&amp;fm=0&amp;gp=0[1]"/>
          <p:cNvPicPr/>
          <p:nvPr/>
        </p:nvPicPr>
        <p:blipFill>
          <a:blip r:embed="rId1"/>
          <a:stretch/>
        </p:blipFill>
        <p:spPr>
          <a:xfrm>
            <a:off x="66600" y="593640"/>
            <a:ext cx="1727280" cy="912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-46440" y="645840"/>
            <a:ext cx="1223820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f0"/>
                </a:solidFill>
                <a:latin typeface="隶书"/>
                <a:ea typeface="隶书"/>
              </a:rPr>
              <a:t>            </a:t>
            </a:r>
            <a:r>
              <a:rPr b="1" i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护理措施</a:t>
            </a:r>
            <a:r>
              <a:rPr b="1" i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i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二</a:t>
            </a:r>
            <a:r>
              <a:rPr b="1" i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6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微软雅黑"/>
                <a:ea typeface="微软雅黑"/>
              </a:rPr>
              <a:t>1.</a:t>
            </a:r>
            <a:r>
              <a:rPr b="1" lang="zh-CN" sz="3000" spc="-1" strike="noStrike">
                <a:solidFill>
                  <a:srgbClr val="000099"/>
                </a:solidFill>
                <a:latin typeface="微软雅黑"/>
                <a:ea typeface="微软雅黑"/>
              </a:rPr>
              <a:t>评估病人焦虑的程度对病人进行心理疏导，鼓励病人说出心中的疑虑。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微软雅黑"/>
                <a:ea typeface="微软雅黑"/>
              </a:rPr>
              <a:t>2.</a:t>
            </a:r>
            <a:r>
              <a:rPr b="1" lang="zh-CN" sz="3000" spc="-1" strike="noStrike">
                <a:solidFill>
                  <a:srgbClr val="000099"/>
                </a:solidFill>
                <a:latin typeface="微软雅黑"/>
                <a:ea typeface="微软雅黑"/>
              </a:rPr>
              <a:t>用恰当的语言，使病人了解治疗的程序、腹腔镜手术方式，介绍主刀医生和主管护师的工作经验及技术水平，帮助病人全面正确的了解术前各种信息。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宋体"/>
              </a:rPr>
              <a:t>3.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宋体"/>
              </a:rPr>
              <a:t>增强社会支持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       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76" name="Picture 4" descr="u=3044284875,3878009347&amp;fm=0&amp;gp=0[1]"/>
          <p:cNvPicPr/>
          <p:nvPr/>
        </p:nvPicPr>
        <p:blipFill>
          <a:blip r:embed="rId1"/>
          <a:stretch/>
        </p:blipFill>
        <p:spPr>
          <a:xfrm>
            <a:off x="66600" y="593640"/>
            <a:ext cx="1727280" cy="912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-47520" y="574560"/>
            <a:ext cx="12237840" cy="621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f0"/>
                </a:solidFill>
                <a:latin typeface="隶书"/>
                <a:ea typeface="隶书"/>
              </a:rPr>
              <a:t>            </a:t>
            </a:r>
            <a:r>
              <a:rPr b="1" i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护理措施</a:t>
            </a:r>
            <a:r>
              <a:rPr b="1" i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i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三</a:t>
            </a:r>
            <a:r>
              <a:rPr b="1" i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6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       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78" name="Picture 4" descr="u=3044284875,3878009347&amp;fm=0&amp;gp=0[1]"/>
          <p:cNvPicPr/>
          <p:nvPr/>
        </p:nvPicPr>
        <p:blipFill>
          <a:blip r:embed="rId1"/>
          <a:stretch/>
        </p:blipFill>
        <p:spPr>
          <a:xfrm>
            <a:off x="66600" y="593640"/>
            <a:ext cx="1727280" cy="9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860400" y="2440080"/>
          <a:ext cx="10477440" cy="3195720"/>
        </p:xfrm>
        <a:graphic>
          <a:graphicData uri="http://schemas.openxmlformats.org/drawingml/2006/table">
            <a:tbl>
              <a:tblPr/>
              <a:tblGrid>
                <a:gridCol w="10477440"/>
              </a:tblGrid>
              <a:tr h="31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Calibri"/>
                          <a:ea typeface="宋体"/>
                        </a:rPr>
                        <a:t>协助患者取舒适卧位，解释疼痛原因及应对的方法，告知麻醉刺激咽部不适感原因，指导缓解方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3D小人"/>
          <p:cNvPicPr/>
          <p:nvPr/>
        </p:nvPicPr>
        <p:blipFill>
          <a:blip r:embed="rId1"/>
          <a:stretch/>
        </p:blipFill>
        <p:spPr>
          <a:xfrm>
            <a:off x="479520" y="262080"/>
            <a:ext cx="10588680" cy="6108480"/>
          </a:xfrm>
          <a:prstGeom prst="rect">
            <a:avLst/>
          </a:prstGeom>
          <a:ln w="0">
            <a:noFill/>
          </a:ln>
        </p:spPr>
      </p:pic>
      <p:sp>
        <p:nvSpPr>
          <p:cNvPr id="270" name="矩形 3"/>
          <p:cNvSpPr/>
          <p:nvPr/>
        </p:nvSpPr>
        <p:spPr>
          <a:xfrm>
            <a:off x="871560" y="2946240"/>
            <a:ext cx="75294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25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宋体"/>
              </a:rPr>
              <a:t>接下来学习胆囊的有关知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-46440" y="645840"/>
            <a:ext cx="1223820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f0"/>
                </a:solidFill>
                <a:latin typeface="隶书"/>
                <a:ea typeface="隶书"/>
              </a:rPr>
              <a:t>            </a:t>
            </a:r>
            <a:r>
              <a:rPr b="1" i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护理措施</a:t>
            </a:r>
            <a:r>
              <a:rPr b="1" i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i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四</a:t>
            </a:r>
            <a:r>
              <a:rPr b="1" i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6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  <a:ea typeface="宋体"/>
              </a:rPr>
              <a:t>1.</a:t>
            </a:r>
            <a:r>
              <a:rPr b="1" lang="zh-CN" sz="3000" spc="-1" strike="noStrike">
                <a:solidFill>
                  <a:srgbClr val="0000cc"/>
                </a:solidFill>
                <a:latin typeface="Calibri"/>
                <a:ea typeface="宋体"/>
              </a:rPr>
              <a:t>根据病人情况讲解并指导活动安排，循序渐进法，最大程度的恢复自理能力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  <a:ea typeface="宋体"/>
              </a:rPr>
              <a:t>2.</a:t>
            </a:r>
            <a:r>
              <a:rPr b="1" lang="zh-CN" sz="3000" spc="-1" strike="noStrike">
                <a:solidFill>
                  <a:srgbClr val="0000cc"/>
                </a:solidFill>
                <a:latin typeface="Calibri"/>
                <a:ea typeface="宋体"/>
              </a:rPr>
              <a:t>卧床期间物品放置可取位置，与家属配合生活照护，满足病人生理需求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  <a:ea typeface="宋体"/>
              </a:rPr>
              <a:t>3. </a:t>
            </a:r>
            <a:r>
              <a:rPr b="1" lang="zh-CN" sz="3000" spc="-1" strike="noStrike">
                <a:solidFill>
                  <a:srgbClr val="0000cc"/>
                </a:solidFill>
                <a:latin typeface="Calibri"/>
                <a:ea typeface="宋体"/>
              </a:rPr>
              <a:t>术后早期下床活动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       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81" name="Picture 4" descr="u=3044284875,3878009347&amp;fm=0&amp;gp=0[1]"/>
          <p:cNvPicPr/>
          <p:nvPr/>
        </p:nvPicPr>
        <p:blipFill>
          <a:blip r:embed="rId1"/>
          <a:stretch/>
        </p:blipFill>
        <p:spPr>
          <a:xfrm>
            <a:off x="66600" y="593640"/>
            <a:ext cx="1727280" cy="912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-46440" y="645840"/>
            <a:ext cx="1223820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f0"/>
                </a:solidFill>
                <a:latin typeface="隶书"/>
                <a:ea typeface="隶书"/>
              </a:rPr>
              <a:t>            </a:t>
            </a:r>
            <a:r>
              <a:rPr b="1" i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护理措施</a:t>
            </a:r>
            <a:r>
              <a:rPr b="1" i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i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五</a:t>
            </a:r>
            <a:r>
              <a:rPr b="1" i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6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Calibri"/>
                <a:ea typeface="宋体"/>
              </a:rPr>
              <a:t>术后禁食水期间遵医嘱补充液体和能力，以供机体所需，向患者解释补液的必要性。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Calibri"/>
                <a:ea typeface="宋体"/>
              </a:rPr>
              <a:t>进食流质饮食，以低脂高蛋白、高维生素饮食为主，少食多餐，渐增为普食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       </a:t>
            </a:r>
            <a:endParaRPr b="0" lang="en-US" sz="30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383" name="Picture 4" descr="u=3044284875,3878009347&amp;fm=0&amp;gp=0[1]"/>
          <p:cNvPicPr/>
          <p:nvPr/>
        </p:nvPicPr>
        <p:blipFill>
          <a:blip r:embed="rId1"/>
          <a:stretch/>
        </p:blipFill>
        <p:spPr>
          <a:xfrm>
            <a:off x="66600" y="593640"/>
            <a:ext cx="1727280" cy="912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788760" y="1358640"/>
            <a:ext cx="109710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术后饮食：术后饮食至出院时基本已恢复正常，近期应多食易消化，富含膳食纤维饮食，以利肠道蠕动及排便通畅。可吃鸡、鱼、瘦肉类，以增加营养，促进身体恢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近期不要吃太油腻的饮食，以免消化不良或出现腹泻，术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月可逐渐开始少量食用，如无异常可恢复正常。部分胆囊切除术后患者可能有轻度腹泻，为胆汁刺激肠道蠕动所致，一般无需处理，可逐渐恢复正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术后应注意有无反复或持续出现的右上腹痛及中上腹痛、右腰背部疼痛，进食后腹胀、发热、皮肤巩膜黄染等表，如出院后出现上述症状，请及时电话联系医生或门诊就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术后复查：可于术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月、半年至门诊复查腹部彩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3587760" y="287280"/>
            <a:ext cx="42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99"/>
                </a:solidFill>
                <a:latin typeface="Arial"/>
                <a:ea typeface="宋体"/>
              </a:rPr>
              <a:t>出院指导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8" descr="c:\documents and settings\administrator\application data\360se6\User Data\temp\52_141056_1.jpg"/>
          <p:cNvPicPr/>
          <p:nvPr/>
        </p:nvPicPr>
        <p:blipFill>
          <a:blip r:embed="rId1"/>
          <a:stretch/>
        </p:blipFill>
        <p:spPr>
          <a:xfrm>
            <a:off x="9015480" y="3936960"/>
            <a:ext cx="3174840" cy="2921040"/>
          </a:xfrm>
          <a:prstGeom prst="rect">
            <a:avLst/>
          </a:prstGeom>
          <a:ln w="0">
            <a:noFill/>
          </a:ln>
        </p:spPr>
      </p:pic>
      <p:sp>
        <p:nvSpPr>
          <p:cNvPr id="387" name="矩形 4"/>
          <p:cNvSpPr/>
          <p:nvPr/>
        </p:nvSpPr>
        <p:spPr>
          <a:xfrm>
            <a:off x="836640" y="1384200"/>
            <a:ext cx="7778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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饮食调理：选择营养丰富，富含蛋白质、维生素、纤维素且易消化的食物。如：鱼、家禽、瘦猪肉、蔬菜、水果、粗粮等；术后一月，尽可能少吃易产气的碳酸食物。如：牛奶、可乐等饮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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低脂饮食，忌油腻、煎炸食物。如：猪油、肥肉、坚果类，植物油不必过分限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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避免食用高胆固醇食物。如：动物内脏、家禽、皮蛋黄、鱼籽、虾籽等。戒烟、戒酒。不饮浓茶、咖啡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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避免辛辣、刺激性食物。如：辣椒、芥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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少量多餐，定时定量，忌暴饮暴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Wingdings"/>
                <a:ea typeface="Wingdings"/>
              </a:rPr>
              <a:t>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烹饪方式宜采用煮、软烧、蒸、烩、焖，忌用熘、炸、煎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3027240" y="289080"/>
            <a:ext cx="598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99"/>
                </a:solidFill>
                <a:latin typeface="Arial"/>
                <a:ea typeface="宋体"/>
              </a:rPr>
              <a:t>出院指导</a:t>
            </a:r>
            <a:r>
              <a:rPr b="1" lang="en-US" sz="4500" spc="-1" strike="noStrike">
                <a:solidFill>
                  <a:srgbClr val="000099"/>
                </a:solidFill>
                <a:latin typeface="Arial"/>
                <a:ea typeface="宋体"/>
              </a:rPr>
              <a:t>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爱心提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-1140120" y="1368360"/>
            <a:ext cx="1096956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8440" y="680760"/>
            <a:ext cx="77155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胆囊的功能</a:t>
            </a:r>
            <a:endParaRPr b="1" lang="en-US" sz="54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09520" y="2049120"/>
            <a:ext cx="934884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隶书"/>
                <a:ea typeface="隶书"/>
              </a:rPr>
              <a:t>(1)</a:t>
            </a:r>
            <a:r>
              <a:rPr b="0" lang="zh-CN" sz="4400" spc="-1" strike="noStrike">
                <a:solidFill>
                  <a:srgbClr val="0070c0"/>
                </a:solidFill>
                <a:latin typeface="隶书"/>
                <a:ea typeface="隶书"/>
              </a:rPr>
              <a:t>储存胆汁      </a:t>
            </a:r>
            <a:endParaRPr b="0" lang="en-US" sz="44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隶书"/>
                <a:ea typeface="隶书"/>
              </a:rPr>
              <a:t>(2)</a:t>
            </a:r>
            <a:r>
              <a:rPr b="0" lang="zh-CN" sz="4400" spc="-1" strike="noStrike">
                <a:solidFill>
                  <a:srgbClr val="0070c0"/>
                </a:solidFill>
                <a:latin typeface="隶书"/>
                <a:ea typeface="隶书"/>
              </a:rPr>
              <a:t>浓缩胆汁</a:t>
            </a:r>
            <a:endParaRPr b="0" lang="en-US" sz="44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隶书"/>
                <a:ea typeface="隶书"/>
              </a:rPr>
              <a:t>(3)</a:t>
            </a:r>
            <a:r>
              <a:rPr b="0" lang="zh-CN" sz="4400" spc="-1" strike="noStrike">
                <a:solidFill>
                  <a:srgbClr val="0070c0"/>
                </a:solidFill>
                <a:latin typeface="隶书"/>
                <a:ea typeface="隶书"/>
              </a:rPr>
              <a:t>分泌粘液      </a:t>
            </a:r>
            <a:endParaRPr b="0" lang="en-US" sz="4400" spc="-1" strike="noStrike">
              <a:solidFill>
                <a:srgbClr val="00b0f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隶书"/>
                <a:ea typeface="隶书"/>
              </a:rPr>
              <a:t>(4)</a:t>
            </a:r>
            <a:r>
              <a:rPr b="0" lang="zh-CN" sz="4400" spc="-1" strike="noStrike">
                <a:solidFill>
                  <a:srgbClr val="0070c0"/>
                </a:solidFill>
                <a:latin typeface="隶书"/>
                <a:ea typeface="隶书"/>
              </a:rPr>
              <a:t>排空</a:t>
            </a:r>
            <a:endParaRPr b="0" lang="en-US" sz="4400" spc="-1" strike="noStrike">
              <a:solidFill>
                <a:srgbClr val="00b0f0"/>
              </a:solidFill>
              <a:latin typeface="微软雅黑"/>
            </a:endParaRPr>
          </a:p>
        </p:txBody>
      </p: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99" fill="hold">
                                          <p:stCondLst>
                                            <p:cond delay="79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99" fill="hold">
                                          <p:stCondLst>
                                            <p:cond delay="79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998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063880" y="969840"/>
            <a:ext cx="8961480" cy="58881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406440" y="3733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胆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486400" y="38088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胆囊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09480" y="5562720"/>
            <a:ext cx="10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0666440" y="43434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9244080" y="533412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胆总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507960" y="2819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肝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09480" y="4648320"/>
            <a:ext cx="10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V="1">
            <a:off x="1828800" y="2971440"/>
            <a:ext cx="1219320" cy="152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1727280" y="3809520"/>
            <a:ext cx="284472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1523880" y="4952880"/>
            <a:ext cx="1828800" cy="152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 flipV="1">
            <a:off x="1422360" y="5029200"/>
            <a:ext cx="406404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4"/>
          <p:cNvSpPr/>
          <p:nvPr/>
        </p:nvSpPr>
        <p:spPr>
          <a:xfrm flipH="1" flipV="1">
            <a:off x="5689440" y="4495680"/>
            <a:ext cx="3554640" cy="1067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 flipH="1" flipV="1">
            <a:off x="9752040" y="4038480"/>
            <a:ext cx="101592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 flipH="1">
            <a:off x="5587560" y="838080"/>
            <a:ext cx="709560" cy="2362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1487520" y="40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胆囊的解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434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胆囊的解剖</a:t>
            </a:r>
            <a:endParaRPr b="1" lang="en-US" sz="40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290" name="Picture 3" descr="胆囊7"/>
          <p:cNvPicPr/>
          <p:nvPr/>
        </p:nvPicPr>
        <p:blipFill>
          <a:blip r:embed="rId1"/>
          <a:stretch/>
        </p:blipFill>
        <p:spPr>
          <a:xfrm>
            <a:off x="1932120" y="1676520"/>
            <a:ext cx="84801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1400" y="685440"/>
            <a:ext cx="1138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胆囊的解剖</a:t>
            </a:r>
            <a:endParaRPr b="1" lang="en-US" sz="32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24200" y="3209400"/>
            <a:ext cx="5149800" cy="27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胆囊位于肝右叶下面的胆囊窝内，上面借结缔组织与肝相连，下面由腹膜覆盖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。                               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293" name="Picture 5" descr="胆囊2"/>
          <p:cNvPicPr/>
          <p:nvPr/>
        </p:nvPicPr>
        <p:blipFill>
          <a:blip r:embed="rId1"/>
          <a:stretch/>
        </p:blipFill>
        <p:spPr>
          <a:xfrm>
            <a:off x="507960" y="1927080"/>
            <a:ext cx="569772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90320" y="-360"/>
            <a:ext cx="10388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胆囊的解剖</a:t>
            </a:r>
            <a:endParaRPr b="1" lang="en-US" sz="32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95600" y="1599840"/>
            <a:ext cx="599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胆囊为一外观呈梨形的囊性器官，长</a:t>
            </a:r>
            <a:r>
              <a:rPr b="1" lang="en-US" sz="2800" spc="-1" strike="noStrike">
                <a:solidFill>
                  <a:srgbClr val="0070c0"/>
                </a:solidFill>
                <a:latin typeface="宋体"/>
                <a:ea typeface="宋体"/>
              </a:rPr>
              <a:t>8.0~12.0cm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，宽</a:t>
            </a:r>
            <a:r>
              <a:rPr b="1" lang="en-US" sz="2800" spc="-1" strike="noStrike">
                <a:solidFill>
                  <a:srgbClr val="0070c0"/>
                </a:solidFill>
                <a:latin typeface="宋体"/>
                <a:ea typeface="宋体"/>
              </a:rPr>
              <a:t>3.0~5.0cm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，容积约</a:t>
            </a:r>
            <a:r>
              <a:rPr b="1" lang="en-US" sz="2800" spc="-1" strike="noStrike">
                <a:solidFill>
                  <a:srgbClr val="0070c0"/>
                </a:solidFill>
                <a:latin typeface="宋体"/>
                <a:ea typeface="宋体"/>
              </a:rPr>
              <a:t>40~60ml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。分底、体、颈、管四部分。胆囊底为突向前下方的盲端，常在肝下缘露出。其体表投影相当于右侧腹直肌外侧缘与右肋弓相交处，当胆囊发炎时，此处可有压痛。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296" name="Picture 4" descr="胆囊3"/>
          <p:cNvPicPr/>
          <p:nvPr/>
        </p:nvPicPr>
        <p:blipFill>
          <a:blip r:embed="rId1"/>
          <a:stretch/>
        </p:blipFill>
        <p:spPr>
          <a:xfrm>
            <a:off x="334800" y="1557360"/>
            <a:ext cx="6143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1400" y="685440"/>
            <a:ext cx="1138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胆囊的解剖</a:t>
            </a:r>
            <a:endParaRPr b="1" lang="en-US" sz="32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89480" y="2565360"/>
            <a:ext cx="538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胆总管、胆囊管和肝脏下缘之间的三角区域称为胆囊三角（</a:t>
            </a:r>
            <a:r>
              <a:rPr b="1" lang="en-US" sz="2800" spc="-1" strike="noStrike">
                <a:solidFill>
                  <a:srgbClr val="0070c0"/>
                </a:solidFill>
                <a:latin typeface="宋体"/>
                <a:ea typeface="宋体"/>
              </a:rPr>
              <a:t>Calot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三角）</a:t>
            </a:r>
            <a:endParaRPr b="0" lang="en-US" sz="2800" spc="-1" strike="noStrike">
              <a:solidFill>
                <a:srgbClr val="00b0f0"/>
              </a:solidFill>
              <a:latin typeface="微软雅黑"/>
            </a:endParaRPr>
          </a:p>
        </p:txBody>
      </p:sp>
      <p:pic>
        <p:nvPicPr>
          <p:cNvPr id="299" name="Picture 4" descr="胆囊1"/>
          <p:cNvPicPr/>
          <p:nvPr/>
        </p:nvPicPr>
        <p:blipFill>
          <a:blip r:embed="rId1"/>
          <a:stretch/>
        </p:blipFill>
        <p:spPr>
          <a:xfrm>
            <a:off x="1200240" y="2276640"/>
            <a:ext cx="4895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9T01:41:30Z</dcterms:created>
  <dc:creator/>
  <dc:description/>
  <cp:keywords/>
  <dc:language>en-US</dc:language>
  <cp:lastModifiedBy>雨林木风</cp:lastModifiedBy>
  <dcterms:modified xsi:type="dcterms:W3CDTF">2017-11-02T07:10:16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</Properties>
</file>